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4E3A-C3B3-4B52-9BB5-099431BF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828F-89FA-43F2-A376-E89688F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6FA8-A7D1-462A-8AF3-6BF0B662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629E-E788-4570-B487-5E37F341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F73B-0947-48A2-A5F7-D6A86074C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8AB80-C8E4-4699-B893-0056E6F36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F3901-56C7-4BD8-A3C8-60509553FE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C29F7-28C0-4660-BBBE-F4DD847ED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A80EA-BF30-4D1D-9E3C-AACBB874A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06739-BC0B-415E-AE05-12BDD1396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043BD-6AE0-419F-AD40-A52296EAF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47F4-7CFD-4900-BE8C-B127150A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2653-91C6-41E1-A0EB-CF85404D57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5C08-509A-4818-B233-43C524B6BC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E081D-891E-42EC-ABE8-6C6A6A210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BB074-A5C7-446F-80C4-40CAAE1C4D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24C1F-45B6-4DD8-9479-7D17FF5B7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7900-F7AF-4937-8F11-FECD3D2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E70D-E058-4B45-B4FF-6F540DA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717D-B602-4C98-992B-4E9F24A2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527D-4977-4245-8BD7-7D33061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C2F7-CFC8-495C-A559-04F9AE4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4982-EBD1-4582-A424-30BE41B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DEF7-DE9B-40E3-A70E-5AFAABA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35B-8EC9-4205-958B-CE1CC4D363B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14-16 Jul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15th Biennial TDI International Conference – Las Vegas, Nevad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2952D053-E2E1-4972-B36E-DE0B5131AD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63840" y="6178680"/>
            <a:ext cx="4211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Plenary Session on ITU-T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15th Biennial TDI International Conference – Las Vegas, Nevad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6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0280" y="28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f1ff"/>
                </a:solidFill>
                <a:latin typeface="Trebuchet MS"/>
              </a:rPr>
              <a:t>Total Conversation through ITU-T Standards:</a:t>
            </a:r>
            <a:br>
              <a:rPr sz="2800"/>
            </a:br>
            <a:r>
              <a:rPr b="1" lang="en-US" sz="2800" spc="-1" strike="noStrike">
                <a:solidFill>
                  <a:srgbClr val="c5f1ff"/>
                </a:solidFill>
                <a:latin typeface="Trebuchet MS"/>
              </a:rPr>
              <a:t>Sign, Type, and Speak – You Decide</a:t>
            </a:r>
            <a:endParaRPr b="1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aul E. Jone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isco Systems, Inc.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t Still Segregate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video conferencing systems in use today ar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rgely used between two parties who have the same equi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t “tied into” the larger public communications netw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urther integration is requir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3505-2392-40B1-949D-B60912E5C7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28A25D-789B-4116-8CFA-4DB923507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VoIP Revolu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nce the late 1990s, the communications industry has been heavily focused on “voice over IP” or “VoIP”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basic idea is to simply use the Internet Protocol (IP) to carry voice, video, and data communications (sounds simple enough, huh?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A54A-D971-4DE9-8890-3F2278AFC0E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E2C87A-5267-4C15-9911-7C3C16E02F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VoIP Revolution (cont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oIP is still in its infancy, as compared to the mature public switched telephone network (PSTN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ven so, a large number of telephone calls are carried over IP networks toda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fortunately, multimedia communication services (the video and textual components) have been slower to “take off”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60D6-2B44-4ECA-B48B-CCE2A84DCA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CFE070-67AD-4EC1-90BB-FA2889EF3E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ridging Two PSTN Networks over an IP Net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0" name="Cloud_BLK" descr=""/>
          <p:cNvPicPr/>
          <p:nvPr/>
        </p:nvPicPr>
        <p:blipFill>
          <a:blip r:embed="rId1"/>
          <a:stretch/>
        </p:blipFill>
        <p:spPr>
          <a:xfrm>
            <a:off x="2838600" y="2392200"/>
            <a:ext cx="4338360" cy="2081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22840" y="297828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der IP 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mmServer_Voice" descr=""/>
          <p:cNvPicPr/>
          <p:nvPr/>
        </p:nvPicPr>
        <p:blipFill>
          <a:blip r:embed="rId2"/>
          <a:stretch/>
        </p:blipFill>
        <p:spPr>
          <a:xfrm>
            <a:off x="7005600" y="246708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123" name="CommServer_Voice" descr=""/>
          <p:cNvPicPr/>
          <p:nvPr/>
        </p:nvPicPr>
        <p:blipFill>
          <a:blip r:embed="rId3"/>
          <a:stretch/>
        </p:blipFill>
        <p:spPr>
          <a:xfrm>
            <a:off x="7701120" y="2476440"/>
            <a:ext cx="533160" cy="484200"/>
          </a:xfrm>
          <a:prstGeom prst="rect">
            <a:avLst/>
          </a:prstGeom>
          <a:ln w="0">
            <a:noFill/>
          </a:ln>
        </p:spPr>
      </p:pic>
      <p:pic>
        <p:nvPicPr>
          <p:cNvPr id="124" name="CommServer_Voice" descr=""/>
          <p:cNvPicPr/>
          <p:nvPr/>
        </p:nvPicPr>
        <p:blipFill>
          <a:blip r:embed="rId4"/>
          <a:stretch/>
        </p:blipFill>
        <p:spPr>
          <a:xfrm>
            <a:off x="8415360" y="2486160"/>
            <a:ext cx="533520" cy="484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34320" y="298296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323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37200" y="2297160"/>
            <a:ext cx="502560" cy="425520"/>
            <a:chOff x="4237200" y="2297160"/>
            <a:chExt cx="502560" cy="425520"/>
          </a:xfrm>
        </p:grpSpPr>
        <p:grpSp>
          <p:nvGrpSpPr>
            <p:cNvPr id="127" name=""/>
            <p:cNvGrpSpPr/>
            <p:nvPr/>
          </p:nvGrpSpPr>
          <p:grpSpPr>
            <a:xfrm>
              <a:off x="4237200" y="2297160"/>
              <a:ext cx="502560" cy="425520"/>
              <a:chOff x="4237200" y="2297160"/>
              <a:chExt cx="502560" cy="425520"/>
            </a:xfrm>
          </p:grpSpPr>
          <p:sp>
            <p:nvSpPr>
              <p:cNvPr id="128" name=""/>
              <p:cNvSpPr/>
              <p:nvPr/>
            </p:nvSpPr>
            <p:spPr>
              <a:xfrm>
                <a:off x="4237200" y="233352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37200" y="233352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37200" y="229716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37200" y="229716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5588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5588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237200" y="237348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827600" y="2297160"/>
            <a:ext cx="502920" cy="425520"/>
            <a:chOff x="4827600" y="2297160"/>
            <a:chExt cx="502920" cy="425520"/>
          </a:xfrm>
        </p:grpSpPr>
        <p:grpSp>
          <p:nvGrpSpPr>
            <p:cNvPr id="136" name=""/>
            <p:cNvGrpSpPr/>
            <p:nvPr/>
          </p:nvGrpSpPr>
          <p:grpSpPr>
            <a:xfrm>
              <a:off x="4827600" y="2297160"/>
              <a:ext cx="502920" cy="425520"/>
              <a:chOff x="4827600" y="2297160"/>
              <a:chExt cx="502920" cy="425520"/>
            </a:xfrm>
          </p:grpSpPr>
          <p:sp>
            <p:nvSpPr>
              <p:cNvPr id="137" name=""/>
              <p:cNvSpPr/>
              <p:nvPr/>
            </p:nvSpPr>
            <p:spPr>
              <a:xfrm>
                <a:off x="4827600" y="2333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27600" y="2333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27600" y="2297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27600" y="2297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4664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4664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827600" y="237348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427720" y="2297160"/>
            <a:ext cx="502920" cy="425520"/>
            <a:chOff x="5427720" y="2297160"/>
            <a:chExt cx="502920" cy="425520"/>
          </a:xfrm>
        </p:grpSpPr>
        <p:grpSp>
          <p:nvGrpSpPr>
            <p:cNvPr id="145" name=""/>
            <p:cNvGrpSpPr/>
            <p:nvPr/>
          </p:nvGrpSpPr>
          <p:grpSpPr>
            <a:xfrm>
              <a:off x="5427720" y="2297160"/>
              <a:ext cx="502920" cy="425520"/>
              <a:chOff x="5427720" y="2297160"/>
              <a:chExt cx="502920" cy="425520"/>
            </a:xfrm>
          </p:grpSpPr>
          <p:sp>
            <p:nvSpPr>
              <p:cNvPr id="146" name=""/>
              <p:cNvSpPr/>
              <p:nvPr/>
            </p:nvSpPr>
            <p:spPr>
              <a:xfrm>
                <a:off x="5427720" y="2333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27720" y="23335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7720" y="2297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7720" y="22971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4676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46760" y="22971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5427720" y="237348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65040" y="1965240"/>
            <a:ext cx="22302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” Gatekeep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Cloud_BLK" descr=""/>
          <p:cNvPicPr/>
          <p:nvPr/>
        </p:nvPicPr>
        <p:blipFill>
          <a:blip r:embed="rId5"/>
          <a:stretch/>
        </p:blipFill>
        <p:spPr>
          <a:xfrm>
            <a:off x="7101000" y="1600200"/>
            <a:ext cx="1657080" cy="79524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7908840" y="1295280"/>
            <a:ext cx="502920" cy="425520"/>
            <a:chOff x="7908840" y="1295280"/>
            <a:chExt cx="502920" cy="425520"/>
          </a:xfrm>
        </p:grpSpPr>
        <p:grpSp>
          <p:nvGrpSpPr>
            <p:cNvPr id="156" name=""/>
            <p:cNvGrpSpPr/>
            <p:nvPr/>
          </p:nvGrpSpPr>
          <p:grpSpPr>
            <a:xfrm>
              <a:off x="7908840" y="1295280"/>
              <a:ext cx="502920" cy="425520"/>
              <a:chOff x="7908840" y="1295280"/>
              <a:chExt cx="502920" cy="425520"/>
            </a:xfrm>
          </p:grpSpPr>
          <p:sp>
            <p:nvSpPr>
              <p:cNvPr id="157" name=""/>
              <p:cNvSpPr/>
              <p:nvPr/>
            </p:nvSpPr>
            <p:spPr>
              <a:xfrm>
                <a:off x="7908840" y="13316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08840" y="13316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08840" y="12952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08840" y="12952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27880" y="12952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27880" y="12952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908840" y="13716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061480" y="1447920"/>
            <a:ext cx="502560" cy="425160"/>
            <a:chOff x="8061480" y="1447920"/>
            <a:chExt cx="502560" cy="425160"/>
          </a:xfrm>
        </p:grpSpPr>
        <p:grpSp>
          <p:nvGrpSpPr>
            <p:cNvPr id="165" name=""/>
            <p:cNvGrpSpPr/>
            <p:nvPr/>
          </p:nvGrpSpPr>
          <p:grpSpPr>
            <a:xfrm>
              <a:off x="8061480" y="1447920"/>
              <a:ext cx="502560" cy="425160"/>
              <a:chOff x="8061480" y="1447920"/>
              <a:chExt cx="502560" cy="425160"/>
            </a:xfrm>
          </p:grpSpPr>
          <p:sp>
            <p:nvSpPr>
              <p:cNvPr id="166" name=""/>
              <p:cNvSpPr/>
              <p:nvPr/>
            </p:nvSpPr>
            <p:spPr>
              <a:xfrm>
                <a:off x="8061480" y="148428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61480" y="148428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61480" y="144792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61480" y="144792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80160" y="144792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80160" y="144792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061480" y="152388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CommServer_Voice" descr=""/>
          <p:cNvPicPr/>
          <p:nvPr/>
        </p:nvPicPr>
        <p:blipFill>
          <a:blip r:embed="rId6"/>
          <a:stretch/>
        </p:blipFill>
        <p:spPr>
          <a:xfrm>
            <a:off x="1319040" y="412128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CommServer_Voice" descr=""/>
          <p:cNvPicPr/>
          <p:nvPr/>
        </p:nvPicPr>
        <p:blipFill>
          <a:blip r:embed="rId7"/>
          <a:stretch/>
        </p:blipFill>
        <p:spPr>
          <a:xfrm>
            <a:off x="2014560" y="413064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CommServer_Voice" descr=""/>
          <p:cNvPicPr/>
          <p:nvPr/>
        </p:nvPicPr>
        <p:blipFill>
          <a:blip r:embed="rId8"/>
          <a:stretch/>
        </p:blipFill>
        <p:spPr>
          <a:xfrm>
            <a:off x="2728800" y="4140360"/>
            <a:ext cx="533520" cy="48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05000" y="383688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loud_BLK" descr=""/>
          <p:cNvPicPr/>
          <p:nvPr/>
        </p:nvPicPr>
        <p:blipFill>
          <a:blip r:embed="rId9"/>
          <a:stretch/>
        </p:blipFill>
        <p:spPr>
          <a:xfrm>
            <a:off x="1428840" y="4987800"/>
            <a:ext cx="16574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1914480" y="4664160"/>
            <a:ext cx="731160" cy="425520"/>
            <a:chOff x="1914480" y="4664160"/>
            <a:chExt cx="731160" cy="425520"/>
          </a:xfrm>
        </p:grpSpPr>
        <p:grpSp>
          <p:nvGrpSpPr>
            <p:cNvPr id="179" name=""/>
            <p:cNvGrpSpPr/>
            <p:nvPr/>
          </p:nvGrpSpPr>
          <p:grpSpPr>
            <a:xfrm>
              <a:off x="1914480" y="4664160"/>
              <a:ext cx="731160" cy="425520"/>
              <a:chOff x="1914480" y="4664160"/>
              <a:chExt cx="731160" cy="425520"/>
            </a:xfrm>
          </p:grpSpPr>
          <p:sp>
            <p:nvSpPr>
              <p:cNvPr id="180" name=""/>
              <p:cNvSpPr/>
              <p:nvPr/>
            </p:nvSpPr>
            <p:spPr>
              <a:xfrm>
                <a:off x="1914480" y="470052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14480" y="470052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14480" y="466416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4480" y="466416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23240" y="466416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3240" y="466416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4480" y="474048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066760" y="4816440"/>
            <a:ext cx="731160" cy="425520"/>
            <a:chOff x="2066760" y="4816440"/>
            <a:chExt cx="731160" cy="425520"/>
          </a:xfrm>
        </p:grpSpPr>
        <p:grpSp>
          <p:nvGrpSpPr>
            <p:cNvPr id="188" name=""/>
            <p:cNvGrpSpPr/>
            <p:nvPr/>
          </p:nvGrpSpPr>
          <p:grpSpPr>
            <a:xfrm>
              <a:off x="2066760" y="4816440"/>
              <a:ext cx="731160" cy="425520"/>
              <a:chOff x="2066760" y="4816440"/>
              <a:chExt cx="731160" cy="425520"/>
            </a:xfrm>
          </p:grpSpPr>
          <p:sp>
            <p:nvSpPr>
              <p:cNvPr id="189" name=""/>
              <p:cNvSpPr/>
              <p:nvPr/>
            </p:nvSpPr>
            <p:spPr>
              <a:xfrm>
                <a:off x="2066760" y="485280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66760" y="485280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66760" y="481644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66760" y="481644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75520" y="481644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75520" y="481644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066760" y="489276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87560" y="5486400"/>
            <a:ext cx="502920" cy="425520"/>
            <a:chOff x="1987560" y="5486400"/>
            <a:chExt cx="502920" cy="425520"/>
          </a:xfrm>
        </p:grpSpPr>
        <p:grpSp>
          <p:nvGrpSpPr>
            <p:cNvPr id="197" name=""/>
            <p:cNvGrpSpPr/>
            <p:nvPr/>
          </p:nvGrpSpPr>
          <p:grpSpPr>
            <a:xfrm>
              <a:off x="1987560" y="5486400"/>
              <a:ext cx="502920" cy="425520"/>
              <a:chOff x="1987560" y="5486400"/>
              <a:chExt cx="502920" cy="425520"/>
            </a:xfrm>
          </p:grpSpPr>
          <p:sp>
            <p:nvSpPr>
              <p:cNvPr id="198" name=""/>
              <p:cNvSpPr/>
              <p:nvPr/>
            </p:nvSpPr>
            <p:spPr>
              <a:xfrm>
                <a:off x="1987560" y="552276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87560" y="552276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87560" y="548640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87560" y="548640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06600" y="548640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06600" y="548640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987560" y="556272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39840" y="5638680"/>
            <a:ext cx="502920" cy="425520"/>
            <a:chOff x="2139840" y="5638680"/>
            <a:chExt cx="502920" cy="425520"/>
          </a:xfrm>
        </p:grpSpPr>
        <p:grpSp>
          <p:nvGrpSpPr>
            <p:cNvPr id="206" name=""/>
            <p:cNvGrpSpPr/>
            <p:nvPr/>
          </p:nvGrpSpPr>
          <p:grpSpPr>
            <a:xfrm>
              <a:off x="2139840" y="5638680"/>
              <a:ext cx="502920" cy="425520"/>
              <a:chOff x="2139840" y="5638680"/>
              <a:chExt cx="502920" cy="42552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9840" y="56750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139840" y="567504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39840" y="56386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39840" y="563868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58880" y="56386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58880" y="563868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2139840" y="57150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918240" y="5180040"/>
            <a:ext cx="50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ver IP” – V.to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approval in Jan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TTYblah" descr="Picture of a basic TTY with acoustic cups"/>
          <p:cNvPicPr/>
          <p:nvPr/>
        </p:nvPicPr>
        <p:blipFill>
          <a:blip r:embed="rId10"/>
          <a:stretch/>
        </p:blipFill>
        <p:spPr>
          <a:xfrm>
            <a:off x="8238960" y="3495600"/>
            <a:ext cx="675000" cy="452520"/>
          </a:xfrm>
          <a:prstGeom prst="rect">
            <a:avLst/>
          </a:prstGeom>
          <a:ln w="0">
            <a:noFill/>
          </a:ln>
        </p:spPr>
      </p:pic>
      <p:pic>
        <p:nvPicPr>
          <p:cNvPr id="216" name="TTYblah" descr="Picture of a basic TTY with acoustic cups"/>
          <p:cNvPicPr/>
          <p:nvPr/>
        </p:nvPicPr>
        <p:blipFill>
          <a:blip r:embed="rId11"/>
          <a:stretch/>
        </p:blipFill>
        <p:spPr>
          <a:xfrm>
            <a:off x="1371600" y="2994120"/>
            <a:ext cx="674640" cy="45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63720" y="3427560"/>
            <a:ext cx="33660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610480" y="2960280"/>
            <a:ext cx="15264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74" idx="0"/>
            <a:endCxn id="124" idx="2"/>
          </p:cNvCxnSpPr>
          <p:nvPr/>
        </p:nvCxnSpPr>
        <p:spPr>
          <a:xfrm flipH="1" flipV="1" rot="5400000">
            <a:off x="4901400" y="349560"/>
            <a:ext cx="1161000" cy="6401520"/>
          </a:xfrm>
          <a:prstGeom prst="curvedConnector5">
            <a:avLst>
              <a:gd name="adj1" fmla="val 49906"/>
              <a:gd name="adj2" fmla="val 49997"/>
              <a:gd name="adj3" fmla="val 49906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E77E-BD47-4B0A-81A3-4AAA0A4E571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FD2F6C2-11C8-4B81-9185-72F2190657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oIP Objectiv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llow for character-by-character text communic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llow for simultaneous two-way conversation, along with voice and video (inherent limitations of the PSTN an obstacl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andardize on an international character set (Unicod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upport all standard TTY device types defined in ITU-T V.18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nable different device types to communicate through each other by using the gateways as “interworking” devices (see next slid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FACF-D63D-455F-A4A9-79C5CBEB4F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C6A76C3-D7A5-4B22-9BEE-1B5AC403C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rworking TTY Types through the use of T.140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CommServer_Voice" descr=""/>
          <p:cNvPicPr/>
          <p:nvPr/>
        </p:nvPicPr>
        <p:blipFill>
          <a:blip r:embed="rId1"/>
          <a:stretch/>
        </p:blipFill>
        <p:spPr>
          <a:xfrm>
            <a:off x="3511440" y="302256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224" name="CommServer_Voice" descr=""/>
          <p:cNvPicPr/>
          <p:nvPr/>
        </p:nvPicPr>
        <p:blipFill>
          <a:blip r:embed="rId2"/>
          <a:stretch/>
        </p:blipFill>
        <p:spPr>
          <a:xfrm>
            <a:off x="6253200" y="298764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225" name="Cloud_BLK" descr=""/>
          <p:cNvPicPr/>
          <p:nvPr/>
        </p:nvPicPr>
        <p:blipFill>
          <a:blip r:embed="rId3"/>
          <a:stretch/>
        </p:blipFill>
        <p:spPr>
          <a:xfrm>
            <a:off x="4324320" y="2841480"/>
            <a:ext cx="1657440" cy="795600"/>
          </a:xfrm>
          <a:prstGeom prst="rect">
            <a:avLst/>
          </a:prstGeom>
          <a:ln w="0">
            <a:noFill/>
          </a:ln>
        </p:spPr>
      </p:pic>
      <p:pic>
        <p:nvPicPr>
          <p:cNvPr id="226" name="TTYblah" descr="Picture of a basic TTY with acoustic cups"/>
          <p:cNvPicPr/>
          <p:nvPr/>
        </p:nvPicPr>
        <p:blipFill>
          <a:blip r:embed="rId4"/>
          <a:stretch/>
        </p:blipFill>
        <p:spPr>
          <a:xfrm>
            <a:off x="7074000" y="3440160"/>
            <a:ext cx="674640" cy="452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971400" y="390060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udot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40760" y="39290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21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TYblah" descr="Picture of a basic TTY with acoustic cups"/>
          <p:cNvPicPr/>
          <p:nvPr/>
        </p:nvPicPr>
        <p:blipFill>
          <a:blip r:embed="rId5"/>
          <a:stretch/>
        </p:blipFill>
        <p:spPr>
          <a:xfrm>
            <a:off x="2433600" y="3432240"/>
            <a:ext cx="674640" cy="452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73160" y="292752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124080" y="3330360"/>
            <a:ext cx="392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1400" y="3276720"/>
            <a:ext cx="38268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9640" y="3265560"/>
            <a:ext cx="223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192640" y="3265560"/>
            <a:ext cx="0" cy="9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94640" y="421812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140 bridges the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CB41-F019-4478-B3F4-F128F78FF8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FA969F-0311-4932-BBDB-4F9CD9C18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ilding Bridges to the Enterprise and Reside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Cloud_BLK" descr=""/>
          <p:cNvPicPr/>
          <p:nvPr/>
        </p:nvPicPr>
        <p:blipFill>
          <a:blip r:embed="rId1"/>
          <a:stretch/>
        </p:blipFill>
        <p:spPr>
          <a:xfrm>
            <a:off x="2914560" y="2611440"/>
            <a:ext cx="4338720" cy="2081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898800" y="3197160"/>
            <a:ext cx="25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der IP 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n_mtbz_char" descr=""/>
          <p:cNvPicPr/>
          <p:nvPr/>
        </p:nvPicPr>
        <p:blipFill>
          <a:blip r:embed="rId2"/>
          <a:stretch/>
        </p:blipFill>
        <p:spPr>
          <a:xfrm>
            <a:off x="6791400" y="5757840"/>
            <a:ext cx="533160" cy="430200"/>
          </a:xfrm>
          <a:prstGeom prst="rect">
            <a:avLst/>
          </a:prstGeom>
          <a:ln w="0">
            <a:noFill/>
          </a:ln>
        </p:spPr>
      </p:pic>
      <p:pic>
        <p:nvPicPr>
          <p:cNvPr id="240" name="Cloud_BLK" descr=""/>
          <p:cNvPicPr/>
          <p:nvPr/>
        </p:nvPicPr>
        <p:blipFill>
          <a:blip r:embed="rId3"/>
          <a:stretch/>
        </p:blipFill>
        <p:spPr>
          <a:xfrm>
            <a:off x="6762600" y="4786200"/>
            <a:ext cx="1657440" cy="795600"/>
          </a:xfrm>
          <a:prstGeom prst="rect">
            <a:avLst/>
          </a:prstGeom>
          <a:ln w="0">
            <a:noFill/>
          </a:ln>
        </p:spPr>
      </p:pic>
      <p:pic>
        <p:nvPicPr>
          <p:cNvPr id="241" name="man_mtbz_char" descr=""/>
          <p:cNvPicPr/>
          <p:nvPr/>
        </p:nvPicPr>
        <p:blipFill>
          <a:blip r:embed="rId4"/>
          <a:stretch/>
        </p:blipFill>
        <p:spPr>
          <a:xfrm>
            <a:off x="8153280" y="5757840"/>
            <a:ext cx="533520" cy="4302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7542360" y="4491000"/>
            <a:ext cx="502560" cy="425520"/>
            <a:chOff x="7542360" y="4491000"/>
            <a:chExt cx="502560" cy="425520"/>
          </a:xfrm>
        </p:grpSpPr>
        <p:grpSp>
          <p:nvGrpSpPr>
            <p:cNvPr id="243" name=""/>
            <p:cNvGrpSpPr/>
            <p:nvPr/>
          </p:nvGrpSpPr>
          <p:grpSpPr>
            <a:xfrm>
              <a:off x="7542360" y="4491000"/>
              <a:ext cx="502560" cy="425520"/>
              <a:chOff x="7542360" y="4491000"/>
              <a:chExt cx="502560" cy="425520"/>
            </a:xfrm>
          </p:grpSpPr>
          <p:sp>
            <p:nvSpPr>
              <p:cNvPr id="244" name=""/>
              <p:cNvSpPr/>
              <p:nvPr/>
            </p:nvSpPr>
            <p:spPr>
              <a:xfrm>
                <a:off x="7542360" y="452736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42360" y="452736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42360" y="449100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2360" y="449100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61040" y="449100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61040" y="449100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542360" y="456732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7934400" y="22874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252" name="Cloud_BLK" descr=""/>
          <p:cNvPicPr/>
          <p:nvPr/>
        </p:nvPicPr>
        <p:blipFill>
          <a:blip r:embed="rId6"/>
          <a:stretch/>
        </p:blipFill>
        <p:spPr>
          <a:xfrm>
            <a:off x="7219800" y="2697120"/>
            <a:ext cx="1657440" cy="795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372440" y="2890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3600" y="4979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618320" y="3363840"/>
            <a:ext cx="502920" cy="425520"/>
            <a:chOff x="7618320" y="3363840"/>
            <a:chExt cx="502920" cy="425520"/>
          </a:xfrm>
        </p:grpSpPr>
        <p:grpSp>
          <p:nvGrpSpPr>
            <p:cNvPr id="256" name=""/>
            <p:cNvGrpSpPr/>
            <p:nvPr/>
          </p:nvGrpSpPr>
          <p:grpSpPr>
            <a:xfrm>
              <a:off x="7618320" y="3363840"/>
              <a:ext cx="502920" cy="425520"/>
              <a:chOff x="7618320" y="3363840"/>
              <a:chExt cx="502920" cy="425520"/>
            </a:xfrm>
          </p:grpSpPr>
          <p:sp>
            <p:nvSpPr>
              <p:cNvPr id="257" name=""/>
              <p:cNvSpPr/>
              <p:nvPr/>
            </p:nvSpPr>
            <p:spPr>
              <a:xfrm>
                <a:off x="7618320" y="34002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18320" y="34002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18320" y="33638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18320" y="33638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37360" y="33638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37360" y="33638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618320" y="34401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7524720" y="579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265" name="CommServer_Voice" descr=""/>
          <p:cNvPicPr/>
          <p:nvPr/>
        </p:nvPicPr>
        <p:blipFill>
          <a:blip r:embed="rId8"/>
          <a:stretch/>
        </p:blipFill>
        <p:spPr>
          <a:xfrm>
            <a:off x="1781280" y="5686560"/>
            <a:ext cx="53316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CommServer_Voice" descr=""/>
          <p:cNvPicPr/>
          <p:nvPr/>
        </p:nvPicPr>
        <p:blipFill>
          <a:blip r:embed="rId9"/>
          <a:stretch/>
        </p:blipFill>
        <p:spPr>
          <a:xfrm>
            <a:off x="2476440" y="569592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267" name="CommServer_Voice" descr=""/>
          <p:cNvPicPr/>
          <p:nvPr/>
        </p:nvPicPr>
        <p:blipFill>
          <a:blip r:embed="rId10"/>
          <a:stretch/>
        </p:blipFill>
        <p:spPr>
          <a:xfrm>
            <a:off x="3191040" y="5705640"/>
            <a:ext cx="533160" cy="484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710000" y="620244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323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13160" y="2516040"/>
            <a:ext cx="502920" cy="425520"/>
            <a:chOff x="4313160" y="2516040"/>
            <a:chExt cx="502920" cy="425520"/>
          </a:xfrm>
        </p:grpSpPr>
        <p:grpSp>
          <p:nvGrpSpPr>
            <p:cNvPr id="270" name=""/>
            <p:cNvGrpSpPr/>
            <p:nvPr/>
          </p:nvGrpSpPr>
          <p:grpSpPr>
            <a:xfrm>
              <a:off x="4313160" y="2516040"/>
              <a:ext cx="502920" cy="425520"/>
              <a:chOff x="4313160" y="2516040"/>
              <a:chExt cx="502920" cy="425520"/>
            </a:xfrm>
          </p:grpSpPr>
          <p:sp>
            <p:nvSpPr>
              <p:cNvPr id="271" name=""/>
              <p:cNvSpPr/>
              <p:nvPr/>
            </p:nvSpPr>
            <p:spPr>
              <a:xfrm>
                <a:off x="4313160" y="25524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13160" y="25524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13160" y="25160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13160" y="25160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3220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3220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4313160" y="2592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903920" y="2516040"/>
            <a:ext cx="502920" cy="425520"/>
            <a:chOff x="4903920" y="2516040"/>
            <a:chExt cx="502920" cy="425520"/>
          </a:xfrm>
        </p:grpSpPr>
        <p:grpSp>
          <p:nvGrpSpPr>
            <p:cNvPr id="279" name=""/>
            <p:cNvGrpSpPr/>
            <p:nvPr/>
          </p:nvGrpSpPr>
          <p:grpSpPr>
            <a:xfrm>
              <a:off x="4903920" y="2516040"/>
              <a:ext cx="502920" cy="425520"/>
              <a:chOff x="4903920" y="2516040"/>
              <a:chExt cx="502920" cy="425520"/>
            </a:xfrm>
          </p:grpSpPr>
          <p:sp>
            <p:nvSpPr>
              <p:cNvPr id="280" name=""/>
              <p:cNvSpPr/>
              <p:nvPr/>
            </p:nvSpPr>
            <p:spPr>
              <a:xfrm>
                <a:off x="4903920" y="25524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03920" y="255240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03920" y="25160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03920" y="251604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2296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2296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903920" y="2592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04040" y="2516040"/>
            <a:ext cx="502560" cy="425520"/>
            <a:chOff x="5504040" y="2516040"/>
            <a:chExt cx="502560" cy="425520"/>
          </a:xfrm>
        </p:grpSpPr>
        <p:grpSp>
          <p:nvGrpSpPr>
            <p:cNvPr id="288" name=""/>
            <p:cNvGrpSpPr/>
            <p:nvPr/>
          </p:nvGrpSpPr>
          <p:grpSpPr>
            <a:xfrm>
              <a:off x="5504040" y="2516040"/>
              <a:ext cx="502560" cy="425520"/>
              <a:chOff x="5504040" y="2516040"/>
              <a:chExt cx="502560" cy="425520"/>
            </a:xfrm>
          </p:grpSpPr>
          <p:sp>
            <p:nvSpPr>
              <p:cNvPr id="289" name=""/>
              <p:cNvSpPr/>
              <p:nvPr/>
            </p:nvSpPr>
            <p:spPr>
              <a:xfrm>
                <a:off x="5504040" y="255240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04040" y="2552400"/>
                <a:ext cx="42084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4040" y="251604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04040" y="251604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2272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22720" y="251604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04040" y="259236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41360" y="2184480"/>
            <a:ext cx="22302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” Gatekeep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Cloud_BLK" descr=""/>
          <p:cNvPicPr/>
          <p:nvPr/>
        </p:nvPicPr>
        <p:blipFill>
          <a:blip r:embed="rId11"/>
          <a:stretch/>
        </p:blipFill>
        <p:spPr>
          <a:xfrm>
            <a:off x="1876320" y="4819680"/>
            <a:ext cx="1657440" cy="79524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2684520" y="4514760"/>
            <a:ext cx="502920" cy="425520"/>
            <a:chOff x="2684520" y="4514760"/>
            <a:chExt cx="502920" cy="425520"/>
          </a:xfrm>
        </p:grpSpPr>
        <p:grpSp>
          <p:nvGrpSpPr>
            <p:cNvPr id="299" name=""/>
            <p:cNvGrpSpPr/>
            <p:nvPr/>
          </p:nvGrpSpPr>
          <p:grpSpPr>
            <a:xfrm>
              <a:off x="2684520" y="4514760"/>
              <a:ext cx="502920" cy="425520"/>
              <a:chOff x="2684520" y="4514760"/>
              <a:chExt cx="502920" cy="425520"/>
            </a:xfrm>
          </p:grpSpPr>
          <p:sp>
            <p:nvSpPr>
              <p:cNvPr id="300" name=""/>
              <p:cNvSpPr/>
              <p:nvPr/>
            </p:nvSpPr>
            <p:spPr>
              <a:xfrm>
                <a:off x="2684520" y="45511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4520" y="45511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4520" y="45147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84520" y="45147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03560" y="45147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03560" y="45147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684520" y="459108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836800" y="4667400"/>
            <a:ext cx="502920" cy="425160"/>
            <a:chOff x="2836800" y="4667400"/>
            <a:chExt cx="502920" cy="425160"/>
          </a:xfrm>
        </p:grpSpPr>
        <p:grpSp>
          <p:nvGrpSpPr>
            <p:cNvPr id="308" name=""/>
            <p:cNvGrpSpPr/>
            <p:nvPr/>
          </p:nvGrpSpPr>
          <p:grpSpPr>
            <a:xfrm>
              <a:off x="2836800" y="4667400"/>
              <a:ext cx="502920" cy="425160"/>
              <a:chOff x="2836800" y="4667400"/>
              <a:chExt cx="502920" cy="425160"/>
            </a:xfrm>
          </p:grpSpPr>
          <p:sp>
            <p:nvSpPr>
              <p:cNvPr id="309" name=""/>
              <p:cNvSpPr/>
              <p:nvPr/>
            </p:nvSpPr>
            <p:spPr>
              <a:xfrm>
                <a:off x="2836800" y="4703760"/>
                <a:ext cx="4212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36800" y="4703760"/>
                <a:ext cx="42120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36800" y="466740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36800" y="466740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55840" y="466740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55840" y="466740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836800" y="4743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CommServer_Voice" descr=""/>
          <p:cNvPicPr/>
          <p:nvPr/>
        </p:nvPicPr>
        <p:blipFill>
          <a:blip r:embed="rId12"/>
          <a:stretch/>
        </p:blipFill>
        <p:spPr>
          <a:xfrm>
            <a:off x="1352520" y="1639800"/>
            <a:ext cx="533520" cy="484200"/>
          </a:xfrm>
          <a:prstGeom prst="rect">
            <a:avLst/>
          </a:prstGeom>
          <a:ln w="0">
            <a:noFill/>
          </a:ln>
        </p:spPr>
      </p:pic>
      <p:pic>
        <p:nvPicPr>
          <p:cNvPr id="317" name="CommServer_Voice" descr=""/>
          <p:cNvPicPr/>
          <p:nvPr/>
        </p:nvPicPr>
        <p:blipFill>
          <a:blip r:embed="rId13"/>
          <a:stretch/>
        </p:blipFill>
        <p:spPr>
          <a:xfrm>
            <a:off x="2048040" y="1649520"/>
            <a:ext cx="533160" cy="484200"/>
          </a:xfrm>
          <a:prstGeom prst="rect">
            <a:avLst/>
          </a:prstGeom>
          <a:ln w="0">
            <a:noFill/>
          </a:ln>
        </p:spPr>
      </p:pic>
      <p:pic>
        <p:nvPicPr>
          <p:cNvPr id="318" name="CommServer_Voice" descr=""/>
          <p:cNvPicPr/>
          <p:nvPr/>
        </p:nvPicPr>
        <p:blipFill>
          <a:blip r:embed="rId14"/>
          <a:stretch/>
        </p:blipFill>
        <p:spPr>
          <a:xfrm>
            <a:off x="2762280" y="1658880"/>
            <a:ext cx="533520" cy="484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38480" y="1355760"/>
            <a:ext cx="2028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PSTN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Cloud_BLK" descr=""/>
          <p:cNvPicPr/>
          <p:nvPr/>
        </p:nvPicPr>
        <p:blipFill>
          <a:blip r:embed="rId15"/>
          <a:stretch/>
        </p:blipFill>
        <p:spPr>
          <a:xfrm>
            <a:off x="1461960" y="2506680"/>
            <a:ext cx="1657440" cy="79524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1947960" y="2182680"/>
            <a:ext cx="731160" cy="425520"/>
            <a:chOff x="1947960" y="2182680"/>
            <a:chExt cx="731160" cy="425520"/>
          </a:xfrm>
        </p:grpSpPr>
        <p:grpSp>
          <p:nvGrpSpPr>
            <p:cNvPr id="322" name=""/>
            <p:cNvGrpSpPr/>
            <p:nvPr/>
          </p:nvGrpSpPr>
          <p:grpSpPr>
            <a:xfrm>
              <a:off x="1947960" y="2182680"/>
              <a:ext cx="731160" cy="425520"/>
              <a:chOff x="1947960" y="2182680"/>
              <a:chExt cx="731160" cy="425520"/>
            </a:xfrm>
          </p:grpSpPr>
          <p:sp>
            <p:nvSpPr>
              <p:cNvPr id="323" name=""/>
              <p:cNvSpPr/>
              <p:nvPr/>
            </p:nvSpPr>
            <p:spPr>
              <a:xfrm>
                <a:off x="1947960" y="221904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47960" y="221904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7960" y="218268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47960" y="218268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56720" y="218268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56720" y="218268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47960" y="225900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00240" y="2335320"/>
            <a:ext cx="731160" cy="425520"/>
            <a:chOff x="2100240" y="2335320"/>
            <a:chExt cx="731160" cy="425520"/>
          </a:xfrm>
        </p:grpSpPr>
        <p:grpSp>
          <p:nvGrpSpPr>
            <p:cNvPr id="331" name=""/>
            <p:cNvGrpSpPr/>
            <p:nvPr/>
          </p:nvGrpSpPr>
          <p:grpSpPr>
            <a:xfrm>
              <a:off x="2100240" y="2335320"/>
              <a:ext cx="731160" cy="425520"/>
              <a:chOff x="2100240" y="2335320"/>
              <a:chExt cx="731160" cy="425520"/>
            </a:xfrm>
          </p:grpSpPr>
          <p:sp>
            <p:nvSpPr>
              <p:cNvPr id="332" name=""/>
              <p:cNvSpPr/>
              <p:nvPr/>
            </p:nvSpPr>
            <p:spPr>
              <a:xfrm>
                <a:off x="2100240" y="237168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100240" y="2371680"/>
                <a:ext cx="6120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100240" y="233532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100240" y="2335320"/>
                <a:ext cx="7311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09000" y="233532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09000" y="2335320"/>
                <a:ext cx="12204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100240" y="2411640"/>
              <a:ext cx="664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813280" y="6207120"/>
            <a:ext cx="33307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o and Video Terminals and TT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021040" y="3005280"/>
            <a:ext cx="502560" cy="425160"/>
            <a:chOff x="2021040" y="3005280"/>
            <a:chExt cx="502560" cy="425160"/>
          </a:xfrm>
        </p:grpSpPr>
        <p:grpSp>
          <p:nvGrpSpPr>
            <p:cNvPr id="341" name=""/>
            <p:cNvGrpSpPr/>
            <p:nvPr/>
          </p:nvGrpSpPr>
          <p:grpSpPr>
            <a:xfrm>
              <a:off x="2021040" y="3005280"/>
              <a:ext cx="502560" cy="425160"/>
              <a:chOff x="2021040" y="3005280"/>
              <a:chExt cx="502560" cy="425160"/>
            </a:xfrm>
          </p:grpSpPr>
          <p:sp>
            <p:nvSpPr>
              <p:cNvPr id="342" name=""/>
              <p:cNvSpPr/>
              <p:nvPr/>
            </p:nvSpPr>
            <p:spPr>
              <a:xfrm>
                <a:off x="2021040" y="304164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21040" y="3041640"/>
                <a:ext cx="420840" cy="38880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21040" y="30052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21040" y="3005280"/>
                <a:ext cx="50256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39720" y="30052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39720" y="3005280"/>
                <a:ext cx="83880" cy="42264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2021040" y="3081240"/>
              <a:ext cx="45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73320" y="3157560"/>
            <a:ext cx="502920" cy="425520"/>
            <a:chOff x="2173320" y="3157560"/>
            <a:chExt cx="502920" cy="425520"/>
          </a:xfrm>
        </p:grpSpPr>
        <p:grpSp>
          <p:nvGrpSpPr>
            <p:cNvPr id="350" name=""/>
            <p:cNvGrpSpPr/>
            <p:nvPr/>
          </p:nvGrpSpPr>
          <p:grpSpPr>
            <a:xfrm>
              <a:off x="2173320" y="3157560"/>
              <a:ext cx="502920" cy="425520"/>
              <a:chOff x="2173320" y="3157560"/>
              <a:chExt cx="502920" cy="425520"/>
            </a:xfrm>
          </p:grpSpPr>
          <p:sp>
            <p:nvSpPr>
              <p:cNvPr id="351" name=""/>
              <p:cNvSpPr/>
              <p:nvPr/>
            </p:nvSpPr>
            <p:spPr>
              <a:xfrm>
                <a:off x="2173320" y="31939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73320" y="3193920"/>
                <a:ext cx="421200" cy="389160"/>
              </a:xfrm>
              <a:custGeom>
                <a:avLst/>
                <a:gdLst/>
                <a:ahLst/>
                <a:rect l="l" t="t" r="r" b="b"/>
                <a:pathLst>
                  <a:path w="220" h="439">
                    <a:moveTo>
                      <a:pt x="0" y="0"/>
                    </a:moveTo>
                    <a:lnTo>
                      <a:pt x="0" y="438"/>
                    </a:lnTo>
                    <a:lnTo>
                      <a:pt x="219" y="438"/>
                    </a:lnTo>
                    <a:lnTo>
                      <a:pt x="2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6d5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73320" y="31575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3320" y="3157560"/>
                <a:ext cx="502920" cy="37080"/>
              </a:xfrm>
              <a:custGeom>
                <a:avLst/>
                <a:gdLst/>
                <a:ahLst/>
                <a:rect l="l" t="t" r="r" b="b"/>
                <a:pathLst>
                  <a:path w="263" h="42">
                    <a:moveTo>
                      <a:pt x="0" y="41"/>
                    </a:moveTo>
                    <a:lnTo>
                      <a:pt x="44" y="0"/>
                    </a:lnTo>
                    <a:lnTo>
                      <a:pt x="262" y="0"/>
                    </a:lnTo>
                    <a:lnTo>
                      <a:pt x="21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2360" y="31575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92360" y="3157560"/>
                <a:ext cx="83880" cy="423000"/>
              </a:xfrm>
              <a:custGeom>
                <a:avLst/>
                <a:gdLst/>
                <a:ahLst/>
                <a:rect l="l" t="t" r="r" b="b"/>
                <a:pathLst>
                  <a:path w="44" h="477">
                    <a:moveTo>
                      <a:pt x="0" y="41"/>
                    </a:moveTo>
                    <a:lnTo>
                      <a:pt x="43" y="0"/>
                    </a:lnTo>
                    <a:lnTo>
                      <a:pt x="43" y="435"/>
                    </a:lnTo>
                    <a:lnTo>
                      <a:pt x="0" y="476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173320" y="323388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8" name="TTYblah" descr="Picture of a basic TTY with acoustic cups"/>
          <p:cNvPicPr/>
          <p:nvPr/>
        </p:nvPicPr>
        <p:blipFill>
          <a:blip r:embed="rId16"/>
          <a:stretch/>
        </p:blipFill>
        <p:spPr>
          <a:xfrm>
            <a:off x="6006960" y="5761080"/>
            <a:ext cx="675000" cy="452520"/>
          </a:xfrm>
          <a:prstGeom prst="rect">
            <a:avLst/>
          </a:prstGeom>
          <a:ln w="0">
            <a:noFill/>
          </a:ln>
        </p:spPr>
      </p:pic>
      <p:pic>
        <p:nvPicPr>
          <p:cNvPr id="359" name="TTYblah" descr="Picture of a basic TTY with acoustic cups"/>
          <p:cNvPicPr/>
          <p:nvPr/>
        </p:nvPicPr>
        <p:blipFill>
          <a:blip r:embed="rId17"/>
          <a:stretch/>
        </p:blipFill>
        <p:spPr>
          <a:xfrm>
            <a:off x="8163000" y="1787400"/>
            <a:ext cx="674640" cy="452520"/>
          </a:xfrm>
          <a:prstGeom prst="rect">
            <a:avLst/>
          </a:prstGeom>
          <a:ln w="0">
            <a:noFill/>
          </a:ln>
        </p:spPr>
      </p:pic>
      <p:pic>
        <p:nvPicPr>
          <p:cNvPr id="360" name="man_mtbz_char" descr=""/>
          <p:cNvPicPr/>
          <p:nvPr/>
        </p:nvPicPr>
        <p:blipFill>
          <a:blip r:embed="rId18"/>
          <a:stretch/>
        </p:blipFill>
        <p:spPr>
          <a:xfrm>
            <a:off x="7378560" y="1895400"/>
            <a:ext cx="53352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E83A-38B2-4388-BD73-A87BEC12345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A91FAE-A3D1-4A11-BC46-0EA29FCDC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Ultimate Goal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allow any device to support the transmission of video and/or text sign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allow a user on a PC connected to an IP network to chat with a user on a legacy PSTN TTY devi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improve communications with the widespread adoption of vide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allow a user with a wireless PDA to communicate with anybody in the worl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not requir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pecial tools for communic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2AA8-7D3C-43D8-9071-B68AF11FEA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AAE7AC-851C-4C70-849B-0EC57DD8B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Standards…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2138760" y="2619360"/>
            <a:ext cx="617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Enable Video, Text, and Voice Commun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So you can Sign, Type, or Spe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You Deci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53C4-26DE-4011-A573-D6BA54763A5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9C36E2-688B-4641-AB3B-934DEA9747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38280" y="36360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beginning, communication devices for the deaf opened a whole new world for the users of those devic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8800" y="5713560"/>
            <a:ext cx="78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imes chang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8280" y="2502000"/>
            <a:ext cx="77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s and family were able to carry on conversations over long distances, helping to maintain and even strengthen those relationship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9440" y="1400040"/>
            <a:ext cx="77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enabled people to communicate in ways that were never possible befo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640" y="3905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out question, the introduction of the telecommunication devices for the deaf enriched everyone's l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6F8F-7168-4541-AD7F-1CFDA2870F9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52BD9A-2DAC-485F-BDA6-F52E3FCAE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v-300" descr=""/>
          <p:cNvPicPr/>
          <p:nvPr/>
        </p:nvPicPr>
        <p:blipFill>
          <a:blip r:embed="rId1"/>
          <a:stretch/>
        </p:blipFill>
        <p:spPr>
          <a:xfrm>
            <a:off x="6232680" y="909720"/>
            <a:ext cx="2641320" cy="244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56240" y="3346560"/>
            <a:ext cx="808200" cy="268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59080" y="446040"/>
            <a:ext cx="57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Times New Roman"/>
              </a:rPr>
              <a:t>And so do the modes of commun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49360" y="1135080"/>
            <a:ext cx="286704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610000" y="2552760"/>
            <a:ext cx="2819160" cy="39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98A6-00B9-4897-8237-C51D16BB128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3C8128-8A9C-408B-A915-0915FC1BEA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’s All About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otal Convers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ITU-T is working on standards that bring about the convergence of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oice telephon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telephon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xt telephon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se standards aim to enable what it calls “Total Conversation”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CB21-8D0A-4DE6-A1E6-9191D24E11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1E5418E-DBB0-43B2-B408-0B39D317C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fining the Multimedia Servi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ITU-T defined a series of service specifications and included text and video as components of the multimedia services (F.700 and F.703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AE4C-D8C4-4C0D-B50F-151F49E147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ECC56F-CC7D-4BE6-B778-779C206187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opular Multimedia System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3 – Multimedia communication over packet-switched networks (Internet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P – Session Initiation Protocol (Internet) (IETF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0 - Multimedia communication over ISD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.324 – Multimedia communication over low bit-rate links (phone lines and mobile phone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02FF-8D5A-41CF-867E-62C8D5BFA1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34EDA2-82C0-4B8E-8412-60B6BE42D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blems with These Systems Identifie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ultimedia systems had largely focused only on voice and video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re was a lack of support for text (or at least acceptable text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deo support often did not take into consideration the needs of the deaf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7CE8-6E11-4F82-A090-FF35016A1D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14FD24-0DCB-41E8-836B-494E6517C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ore Standar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 Series Supplement 1 – Raised awareness about sign language and lip reading as it relates to video qual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.140 – Standard to allow Unicode for textual convers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ETF RFC 2793 defines the transport of T.140 over IP netw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d by both H.323 and SIP sys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C3DB-E827-4181-9515-4FCF4AA122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B21F58-C829-44DD-B306-9634038A3F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uring the 1997 – 2000 timeframe, the ITU-T worked to add support for real-time text communication to the popular multimedia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cceptable video support was more of an educational exercise… and the ITU-T has made an effort to educate!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D661-5063-4B15-8183-F5EBCC059E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EA7DD68-F326-43C1-BC2A-DB9278BCE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Paul E. Jones</dc:creator>
  <dc:description/>
  <dc:language>en-US</dc:language>
  <cp:lastModifiedBy>Paul E. Jones</cp:lastModifiedBy>
  <cp:lastPrinted>2001-03-15T13:10:50Z</cp:lastPrinted>
  <dcterms:modified xsi:type="dcterms:W3CDTF">2003-06-14T05:56:08Z</dcterms:modified>
  <cp:revision>157</cp:revision>
  <dc:subject/>
  <dc:title>Total Conversation</dc:title>
</cp:coreProperties>
</file>