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666413" cy="7621588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C48-520A-42AF-BF9A-CD5B4E3B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160" y="409176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2B3-47B8-4705-A3E8-09066038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220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B67-7750-46C9-B378-492F5450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892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2504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16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892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02504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E96-7EDA-4019-B9A5-06C5FCD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54E-1952-43D9-8BBB-40496229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2E6-1C6F-41E9-8692-B2AF1B37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633-93D4-4849-A867-0015E6C9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10B-D7E0-4ACE-A80A-0C33B742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303840"/>
            <a:ext cx="959976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54A-9D5D-4BA8-9EDA-A2B0060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9D3-57C4-4E6D-82DA-E735BB8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220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6C5-44DC-4D50-B2B6-53D7C898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076-5DB6-43B3-B4BF-28AE248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2160" y="6178680"/>
            <a:ext cx="9223560" cy="885600"/>
          </a:xfrm>
          <a:prstGeom prst="rect">
            <a:avLst/>
          </a:prstGeom>
          <a:solidFill>
            <a:srgbClr val="fff6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2120" y="6933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657240" y="693396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20120" y="6933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952A6D-FD5C-452A-99F6-4B57147CC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040" y="550800"/>
            <a:ext cx="9234360" cy="651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78960" y="6168960"/>
            <a:ext cx="3240" cy="8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320" y="6170760"/>
            <a:ext cx="922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917720" y="6183360"/>
            <a:ext cx="1440" cy="8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947880" y="6232680"/>
          <a:ext cx="81252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7880" y="6232680"/>
                    <a:ext cx="8125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8827920" y="6350040"/>
            <a:ext cx="962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1713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2000160" indent="-1713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sbdir@itu.int" TargetMode="External"/><Relationship Id="rId2" Type="http://schemas.openxmlformats.org/officeDocument/2006/relationships/hyperlink" Target="http://www.itu.in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3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2720" y="646200"/>
            <a:ext cx="941544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U Standardization and its new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rid, Sp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c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ulin Z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ecommunication Standardization Bureau (T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ational Telecommunication Union,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ce des Nations - CH-1211 Geneva 20 –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:  +41 22 730 585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x:  +41 22 730 58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tsbdir@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 Home page addres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F0D-2C06-4276-BE9A-B9DA5228FA5A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1560" y="14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54000" y="895320"/>
          <a:ext cx="873612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895320"/>
                    <a:ext cx="87361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41720" y="641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2800" y="623880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al of new and revised Recommendation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 of events (T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680-768F-4F3E-A8F2-0DE04C73C6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14080" y="555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34400" y="3895560"/>
            <a:ext cx="1068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63360" y="3940200"/>
            <a:ext cx="60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70680" y="3940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367560" y="4116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61200" y="429084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75360" y="429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1080" y="446724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34040" y="4467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7560" y="4646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09520" y="2421000"/>
            <a:ext cx="792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560" y="2867040"/>
            <a:ext cx="7635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0440" y="29131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788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4520" y="308916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0456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800" y="326880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42800" y="3268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2867040"/>
            <a:ext cx="9162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05760" y="29131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320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65880" y="3089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00360" y="3263760"/>
            <a:ext cx="41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7880" y="32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4480" y="3443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6080" y="2867040"/>
            <a:ext cx="12207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8840" y="291312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336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1880" y="308916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6032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36280" y="326376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320" y="32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0720" y="3438360"/>
            <a:ext cx="41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98600" y="3438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95200" y="3619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2316240"/>
            <a:ext cx="536400" cy="536400"/>
          </a:xfrm>
          <a:custGeom>
            <a:avLst/>
            <a:gdLst/>
            <a:ahLst/>
            <a:rect l="l" t="t" r="r" b="b"/>
            <a:pathLst>
              <a:path w="676" h="676">
                <a:moveTo>
                  <a:pt x="338" y="0"/>
                </a:moveTo>
                <a:lnTo>
                  <a:pt x="0" y="336"/>
                </a:lnTo>
                <a:lnTo>
                  <a:pt x="340" y="676"/>
                </a:lnTo>
                <a:lnTo>
                  <a:pt x="676" y="340"/>
                </a:lnTo>
                <a:lnTo>
                  <a:pt x="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360" y="2330280"/>
            <a:ext cx="687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05080" y="2379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2240" y="2867040"/>
            <a:ext cx="180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2240" y="39355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095720" y="3875040"/>
            <a:ext cx="5775480" cy="98280"/>
            <a:chOff x="4095720" y="3875040"/>
            <a:chExt cx="5775480" cy="98280"/>
          </a:xfrm>
        </p:grpSpPr>
        <p:sp>
          <p:nvSpPr>
            <p:cNvPr id="117" name=""/>
            <p:cNvSpPr/>
            <p:nvPr/>
          </p:nvSpPr>
          <p:spPr>
            <a:xfrm>
              <a:off x="4095720" y="3922560"/>
              <a:ext cx="5680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72920" y="3875040"/>
              <a:ext cx="9828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1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719680" y="3659040"/>
            <a:ext cx="540000" cy="53820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340" y="0"/>
                </a:moveTo>
                <a:lnTo>
                  <a:pt x="0" y="340"/>
                </a:lnTo>
                <a:lnTo>
                  <a:pt x="340" y="680"/>
                </a:lnTo>
                <a:lnTo>
                  <a:pt x="680" y="340"/>
                </a:lnTo>
                <a:lnTo>
                  <a:pt x="34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4320" y="3630600"/>
            <a:ext cx="540000" cy="538200"/>
          </a:xfrm>
          <a:custGeom>
            <a:avLst/>
            <a:gdLst/>
            <a:ahLst/>
            <a:rect l="l" t="t" r="r" b="b"/>
            <a:pathLst>
              <a:path w="679" h="680">
                <a:moveTo>
                  <a:pt x="339" y="0"/>
                </a:moveTo>
                <a:lnTo>
                  <a:pt x="0" y="340"/>
                </a:lnTo>
                <a:lnTo>
                  <a:pt x="339" y="680"/>
                </a:lnTo>
                <a:lnTo>
                  <a:pt x="679" y="340"/>
                </a:lnTo>
                <a:lnTo>
                  <a:pt x="3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1040" y="3859200"/>
            <a:ext cx="459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82840" y="3908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3880" y="3816360"/>
            <a:ext cx="534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35680" y="3908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83720" y="552600"/>
            <a:ext cx="306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73720" y="60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2360" y="1873080"/>
            <a:ext cx="382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5240" y="192240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0840" y="1922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90840" y="2257560"/>
            <a:ext cx="382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3000" y="23083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9040" y="2308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2240" y="2790720"/>
            <a:ext cx="3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55120" y="28414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0720" y="2841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9560" y="3975120"/>
            <a:ext cx="915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75440" y="402120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6280" y="402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6640" y="420228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6520" y="420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19560" y="3835440"/>
            <a:ext cx="1143000" cy="100080"/>
            <a:chOff x="4219560" y="3835440"/>
            <a:chExt cx="1143000" cy="100080"/>
          </a:xfrm>
        </p:grpSpPr>
        <p:sp>
          <p:nvSpPr>
            <p:cNvPr id="142" name=""/>
            <p:cNvSpPr/>
            <p:nvPr/>
          </p:nvSpPr>
          <p:spPr>
            <a:xfrm>
              <a:off x="4314600" y="3884760"/>
              <a:ext cx="95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19560" y="383544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0"/>
                  </a:moveTo>
                  <a:lnTo>
                    <a:pt x="0" y="62"/>
                  </a:lnTo>
                  <a:lnTo>
                    <a:pt x="127" y="12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3920" y="3835440"/>
              <a:ext cx="9864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00480" y="4200480"/>
            <a:ext cx="839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19520" y="4245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0440" y="442116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6040" y="4421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80560" y="45957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59200" y="4595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25760" y="4772160"/>
            <a:ext cx="59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14720" y="4772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19520" y="4951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62240" y="103824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094280" y="981000"/>
            <a:ext cx="5774760" cy="98280"/>
            <a:chOff x="4094280" y="981000"/>
            <a:chExt cx="5774760" cy="98280"/>
          </a:xfrm>
        </p:grpSpPr>
        <p:sp>
          <p:nvSpPr>
            <p:cNvPr id="156" name=""/>
            <p:cNvSpPr/>
            <p:nvPr/>
          </p:nvSpPr>
          <p:spPr>
            <a:xfrm>
              <a:off x="4094280" y="1028520"/>
              <a:ext cx="567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71120" y="981000"/>
              <a:ext cx="9792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50080" y="2505240"/>
            <a:ext cx="99720" cy="1142640"/>
            <a:chOff x="5950080" y="2505240"/>
            <a:chExt cx="99720" cy="1142640"/>
          </a:xfrm>
        </p:grpSpPr>
        <p:sp>
          <p:nvSpPr>
            <p:cNvPr id="159" name=""/>
            <p:cNvSpPr/>
            <p:nvPr/>
          </p:nvSpPr>
          <p:spPr>
            <a:xfrm flipV="1">
              <a:off x="5999040" y="2599920"/>
              <a:ext cx="1800" cy="10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50080" y="2505240"/>
              <a:ext cx="9972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125"/>
                  </a:moveTo>
                  <a:lnTo>
                    <a:pt x="63" y="0"/>
                  </a:lnTo>
                  <a:lnTo>
                    <a:pt x="0" y="125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576840" y="393552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4640" y="2473200"/>
            <a:ext cx="12207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97760" y="25192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1920" y="2519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0440" y="269388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68880" y="2693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4840" y="286848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60880" y="286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3760" y="30495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66240" y="2421000"/>
            <a:ext cx="763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347760" y="2467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43600" y="2467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95480" y="264636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99120" y="2646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91560" y="2421000"/>
            <a:ext cx="10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24720" y="2471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363060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33880" y="36799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935520"/>
            <a:ext cx="459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7640" y="39844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83240" y="3984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48440" y="2333520"/>
            <a:ext cx="45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40240" y="238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974080" y="2371680"/>
            <a:ext cx="823680" cy="100080"/>
            <a:chOff x="8974080" y="2371680"/>
            <a:chExt cx="823680" cy="100080"/>
          </a:xfrm>
        </p:grpSpPr>
        <p:sp>
          <p:nvSpPr>
            <p:cNvPr id="185" name=""/>
            <p:cNvSpPr/>
            <p:nvPr/>
          </p:nvSpPr>
          <p:spPr>
            <a:xfrm>
              <a:off x="8974080" y="2421000"/>
              <a:ext cx="72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97680" y="2371680"/>
              <a:ext cx="100080" cy="1000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0" y="125"/>
                  </a:moveTo>
                  <a:lnTo>
                    <a:pt x="124" y="61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802560" y="1644480"/>
            <a:ext cx="344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4000" y="1695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4040" y="1419120"/>
            <a:ext cx="12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25840" y="1469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83720" y="2751120"/>
            <a:ext cx="942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53160" y="2801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7360" y="3478320"/>
            <a:ext cx="5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60240" y="35272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25840" y="3527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9640" y="3706920"/>
            <a:ext cx="382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11800" y="37558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87840" y="3755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4880" y="4048200"/>
            <a:ext cx="1221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0" y="40924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2160" y="40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1040" y="426888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9480" y="4268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65440" y="444348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81480" y="4443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1960" y="461952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37120" y="4619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4360" y="479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34040" y="4697280"/>
            <a:ext cx="53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25840" y="4746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85000" y="3335400"/>
            <a:ext cx="53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77160" y="33861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53200" y="3386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26520" y="1741320"/>
            <a:ext cx="117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16520" y="1789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17240" y="196704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10440" y="1967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28880" y="256212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2065320"/>
            <a:ext cx="1190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81520" y="211140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ek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3320" y="2111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1160" y="2292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25320" y="22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9240" y="256212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21040" y="2438280"/>
            <a:ext cx="990720" cy="98640"/>
            <a:chOff x="2921040" y="2438280"/>
            <a:chExt cx="990720" cy="98640"/>
          </a:xfrm>
        </p:grpSpPr>
        <p:sp>
          <p:nvSpPr>
            <p:cNvPr id="226" name=""/>
            <p:cNvSpPr/>
            <p:nvPr/>
          </p:nvSpPr>
          <p:spPr>
            <a:xfrm>
              <a:off x="3016440" y="2486160"/>
              <a:ext cx="79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21040" y="2438280"/>
              <a:ext cx="98640" cy="9864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0"/>
                  </a:moveTo>
                  <a:lnTo>
                    <a:pt x="0" y="64"/>
                  </a:lnTo>
                  <a:lnTo>
                    <a:pt x="125" y="12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1680" y="2438280"/>
              <a:ext cx="100080" cy="9864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0" y="125"/>
                  </a:moveTo>
                  <a:lnTo>
                    <a:pt x="127" y="64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654960" y="3809880"/>
            <a:ext cx="914400" cy="98640"/>
            <a:chOff x="6654960" y="3809880"/>
            <a:chExt cx="914400" cy="98640"/>
          </a:xfrm>
        </p:grpSpPr>
        <p:sp>
          <p:nvSpPr>
            <p:cNvPr id="230" name=""/>
            <p:cNvSpPr/>
            <p:nvPr/>
          </p:nvSpPr>
          <p:spPr>
            <a:xfrm>
              <a:off x="6750360" y="3859200"/>
              <a:ext cx="72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4960" y="3809880"/>
              <a:ext cx="100080" cy="9864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63"/>
                  </a:lnTo>
                  <a:lnTo>
                    <a:pt x="125" y="124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9280" y="3809880"/>
              <a:ext cx="100080" cy="9864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124"/>
                  </a:moveTo>
                  <a:lnTo>
                    <a:pt x="126" y="63"/>
                  </a:ln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780240" y="3295800"/>
            <a:ext cx="995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0960" y="334152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64160" y="3341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9880" y="3521160"/>
            <a:ext cx="3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97480" y="3521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94720" y="2463840"/>
            <a:ext cx="98280" cy="1189080"/>
            <a:chOff x="7794720" y="2463840"/>
            <a:chExt cx="98280" cy="1189080"/>
          </a:xfrm>
        </p:grpSpPr>
        <p:sp>
          <p:nvSpPr>
            <p:cNvPr id="239" name=""/>
            <p:cNvSpPr/>
            <p:nvPr/>
          </p:nvSpPr>
          <p:spPr>
            <a:xfrm>
              <a:off x="7842240" y="2560680"/>
              <a:ext cx="108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94720" y="2463840"/>
              <a:ext cx="98280" cy="10152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125" y="127"/>
                  </a:moveTo>
                  <a:lnTo>
                    <a:pt x="62" y="0"/>
                  </a:lnTo>
                  <a:lnTo>
                    <a:pt x="0" y="127"/>
                  </a:lnTo>
                  <a:lnTo>
                    <a:pt x="12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42200" y="2381400"/>
            <a:ext cx="180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242200" y="2149560"/>
            <a:ext cx="1189080" cy="100080"/>
            <a:chOff x="8242200" y="2149560"/>
            <a:chExt cx="1189080" cy="100080"/>
          </a:xfrm>
        </p:grpSpPr>
        <p:sp>
          <p:nvSpPr>
            <p:cNvPr id="243" name=""/>
            <p:cNvSpPr/>
            <p:nvPr/>
          </p:nvSpPr>
          <p:spPr>
            <a:xfrm flipH="1">
              <a:off x="8338680" y="2198520"/>
              <a:ext cx="99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332640" y="2149560"/>
              <a:ext cx="9864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42200" y="2149560"/>
              <a:ext cx="101520" cy="10008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0"/>
                  </a:moveTo>
                  <a:lnTo>
                    <a:pt x="0" y="62"/>
                  </a:lnTo>
                  <a:lnTo>
                    <a:pt x="127" y="12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36640" y="4913280"/>
            <a:ext cx="2195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2040" y="496404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66400" y="4964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89960" y="49640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1120" y="4964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31320" y="514368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5480" y="5143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0680" y="514368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44480" y="5143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03440" y="6234120"/>
            <a:ext cx="4017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P Sequence of Event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tract from Rec. A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A45-B3F7-4A7F-A8EE-B91CF3871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11360" y="596880"/>
            <a:ext cx="931860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estions (projec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ibutions driven (normal contributions, delayed contribution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mporary docu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ace-to-face meet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debate, determination, approval of reports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oval of Questio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SG/WP meetings: decision making; Rapporteur meetings: develop tex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cision = consensus, unanimous agre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mmendations (Amendments, Corrigenda, supp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raft Recommendations, determined draft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oved Recommendations, pre-published Recommendation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shed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lementor’s Gui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eting 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ectronic submissions, web consultations, email, f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perless meeting – LAN/Wireless – LAN connections in meeting ro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91600" y="633744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2AA-2E63-4232-B460-2A6B8E3C3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51520" y="626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7360" y="635148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9480" y="557280"/>
            <a:ext cx="8952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tion of the work of the 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s of expression: definitions, symbols,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telecommunicati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tariff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all network operation, telephone service, service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telephone tele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systems and media, digital system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diovisual and multimedia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services digit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DDD-B022-4E3D-944C-C83534302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36720" y="674640"/>
            <a:ext cx="9010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J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mission of television, sound programme and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media sign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K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tection against interfer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struction, installation and protection of cables and othe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lements of outside pl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M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MN and network maintenance: international transmission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s, telephone circuits, telegraphy, facsimile and leased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tenance: international sound programme and television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mission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pecifications of measuring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phone transmission quality, telephone installations, local lin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26040" y="634032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574-70F3-438C-BAEC-587E22F3EE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41880" y="63864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55800" y="70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47520" y="719280"/>
            <a:ext cx="8559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witching and signall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transmis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services terminal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rminals for telematic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U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switch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V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ata communication over the telephone networ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X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ata networks and open system commun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lobal information infrastructure and internet protocol aspe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Z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anguages and general software aspects for telecommun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3F8-9604-4FBF-A09D-47734FFFF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43520" y="6364440"/>
            <a:ext cx="62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Sellers of ITU-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0480" y="627120"/>
            <a:ext cx="92980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2002 - Best selling tex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in the order of sales number as of 23/10/02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3 (Pre Pub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7/Y.132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8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65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95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X.509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9/Y.13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26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32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82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2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T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9/Y.1331 Amdt 1 (Pre Pub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23.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82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65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8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.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me well-known ITU-T Recommenda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16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1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212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5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5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9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0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0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1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0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3 Annex A+disk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3.1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9+Annex A+disk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80-series (SDH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826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5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8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90-series (xDS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25.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4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4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6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32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32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450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I.36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.43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.73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J.11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J.1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01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1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Q.93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Q.1700-series (IMT-20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V.3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4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V.5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36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50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680-series (ASN.1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6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840-se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.131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.154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80E-A9E5-417A-9026-1713EC0B7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98520" y="96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314360" y="704880"/>
          <a:ext cx="8248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704880"/>
                    <a:ext cx="8248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49360" y="6143760"/>
            <a:ext cx="60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val and publication time of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C66-6688-4623-B957-8180DD4576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86520" y="6353280"/>
            <a:ext cx="404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's main work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7200" y="760320"/>
            <a:ext cx="899928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ree major item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P-related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T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ccounting r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ther item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ulti-media, access networks (xDSL), optical transmissio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urity, numbering and addressing, inter-operabilities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PR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0EB-296F-44B6-98AB-254341EF3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48040" y="6372360"/>
            <a:ext cx="49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voic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33480" y="10666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kHz b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wideband (G.722-series)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kHz b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nalogu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4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CM, G.711, 1972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2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DPCM, G.721, 1984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728, 1992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729, 1996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4kbps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0F8-8041-439D-91BE-368914913C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7560" y="736560"/>
            <a:ext cx="88826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ion of the first electric tele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uel Morse sent his first public message over a telegraph I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ween Washington and Balti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6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ndation of the International Telegraph Union by twenty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 M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the adoption of the first Convention. First Telegraph Reg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7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exander Graham Bell patents his invention of the tele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is - Creation of CCIF (International Telephone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is - Creation of CCIT (International Telegraph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hington - Creation of the CCIR (Intl. Radio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drid - Plenipotentiary Conference. Telegraph Union changes nam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rnational Telecommunication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4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U becomes a Specialized Agency of the 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5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va - CCIF and CCIT merged into CCITT (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graph and Telephone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va - Plenipotentiary Conference. Creation of 3 Secto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U-T replaces CCITT, ITU-R replaces IFRB, CCIR, and ITU-D replaces T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5160" y="6338880"/>
            <a:ext cx="26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Land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983-ECCD-4828-B91E-1B6B739F9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22640" y="6418440"/>
            <a:ext cx="361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5280" y="6570720"/>
            <a:ext cx="36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7560" y="6723000"/>
            <a:ext cx="361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25760" y="6375240"/>
            <a:ext cx="58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still pictur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70120" y="1252440"/>
            <a:ext cx="90676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facsimi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G3, G4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4, T.6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/W still pictures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BI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2, T.83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. tone col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1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ssl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-L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6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-200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CF3-A9CA-4053-BA2B-53F0966892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986120" y="6369120"/>
            <a:ext cx="67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moving pictur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7720" y="895320"/>
            <a:ext cx="906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video coding at n x 64 kbit/s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generic video and audio coding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video coding for low bit rates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advanced video cod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 progres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= MPEG-4 Part 10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consent expected February 2003)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mproved multimedia video coding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674-9BBC-44DC-8535-DDAC8648C4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41480" y="922320"/>
            <a:ext cx="4759560" cy="4303800"/>
          </a:xfrm>
          <a:custGeom>
            <a:avLst/>
            <a:gdLst/>
            <a:ahLst/>
            <a:rect l="l" t="t" r="r" b="b"/>
            <a:pathLst>
              <a:path w="2095" h="2168">
                <a:moveTo>
                  <a:pt x="581" y="205"/>
                </a:moveTo>
                <a:lnTo>
                  <a:pt x="980" y="137"/>
                </a:lnTo>
                <a:lnTo>
                  <a:pt x="1245" y="105"/>
                </a:lnTo>
                <a:lnTo>
                  <a:pt x="1604" y="9"/>
                </a:lnTo>
                <a:lnTo>
                  <a:pt x="1848" y="0"/>
                </a:lnTo>
                <a:lnTo>
                  <a:pt x="1830" y="178"/>
                </a:lnTo>
                <a:lnTo>
                  <a:pt x="1899" y="555"/>
                </a:lnTo>
                <a:lnTo>
                  <a:pt x="2095" y="1020"/>
                </a:lnTo>
                <a:lnTo>
                  <a:pt x="1613" y="806"/>
                </a:lnTo>
                <a:lnTo>
                  <a:pt x="1449" y="1226"/>
                </a:lnTo>
                <a:lnTo>
                  <a:pt x="1366" y="1517"/>
                </a:lnTo>
                <a:lnTo>
                  <a:pt x="1308" y="1804"/>
                </a:lnTo>
                <a:lnTo>
                  <a:pt x="1258" y="2168"/>
                </a:lnTo>
                <a:lnTo>
                  <a:pt x="1154" y="1881"/>
                </a:lnTo>
                <a:lnTo>
                  <a:pt x="1154" y="1567"/>
                </a:lnTo>
                <a:lnTo>
                  <a:pt x="1218" y="1157"/>
                </a:lnTo>
                <a:lnTo>
                  <a:pt x="1381" y="679"/>
                </a:lnTo>
                <a:lnTo>
                  <a:pt x="1522" y="328"/>
                </a:lnTo>
                <a:lnTo>
                  <a:pt x="1176" y="684"/>
                </a:lnTo>
                <a:lnTo>
                  <a:pt x="813" y="1120"/>
                </a:lnTo>
                <a:lnTo>
                  <a:pt x="612" y="1307"/>
                </a:lnTo>
                <a:lnTo>
                  <a:pt x="364" y="1477"/>
                </a:lnTo>
                <a:lnTo>
                  <a:pt x="0" y="1614"/>
                </a:lnTo>
                <a:lnTo>
                  <a:pt x="294" y="1381"/>
                </a:lnTo>
                <a:lnTo>
                  <a:pt x="522" y="1134"/>
                </a:lnTo>
                <a:lnTo>
                  <a:pt x="699" y="893"/>
                </a:lnTo>
                <a:lnTo>
                  <a:pt x="990" y="428"/>
                </a:lnTo>
                <a:lnTo>
                  <a:pt x="581" y="205"/>
                </a:lnTo>
                <a:lnTo>
                  <a:pt x="581" y="205"/>
                </a:lnTo>
                <a:lnTo>
                  <a:pt x="581" y="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TN01317_" descr=""/>
          <p:cNvPicPr/>
          <p:nvPr/>
        </p:nvPicPr>
        <p:blipFill>
          <a:blip r:embed="rId1"/>
          <a:stretch/>
        </p:blipFill>
        <p:spPr>
          <a:xfrm>
            <a:off x="2286000" y="3679920"/>
            <a:ext cx="1028880" cy="1439640"/>
          </a:xfrm>
          <a:prstGeom prst="rect">
            <a:avLst/>
          </a:prstGeom>
          <a:ln w="0">
            <a:noFill/>
          </a:ln>
        </p:spPr>
      </p:pic>
      <p:pic>
        <p:nvPicPr>
          <p:cNvPr id="285" name="TN01291_" descr=""/>
          <p:cNvPicPr/>
          <p:nvPr/>
        </p:nvPicPr>
        <p:blipFill>
          <a:blip r:embed="rId2"/>
          <a:stretch/>
        </p:blipFill>
        <p:spPr>
          <a:xfrm>
            <a:off x="3693960" y="2774880"/>
            <a:ext cx="1231920" cy="1177920"/>
          </a:xfrm>
          <a:prstGeom prst="rect">
            <a:avLst/>
          </a:prstGeom>
          <a:ln w="0">
            <a:noFill/>
          </a:ln>
        </p:spPr>
      </p:pic>
      <p:pic>
        <p:nvPicPr>
          <p:cNvPr id="286" name="TN00552_" descr=""/>
          <p:cNvPicPr/>
          <p:nvPr/>
        </p:nvPicPr>
        <p:blipFill>
          <a:blip r:embed="rId3"/>
          <a:stretch/>
        </p:blipFill>
        <p:spPr>
          <a:xfrm>
            <a:off x="4716360" y="1806480"/>
            <a:ext cx="1517760" cy="69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164440" y="5253120"/>
            <a:ext cx="1067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52520" y="5335560"/>
            <a:ext cx="13957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.6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4560" y="51768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8.8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03800" y="48960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.6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06800" y="4091040"/>
            <a:ext cx="13957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8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42080" y="287496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9240" y="32958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00920" y="2170080"/>
            <a:ext cx="1067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50400" y="1643040"/>
            <a:ext cx="1314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05800" y="1079640"/>
            <a:ext cx="1393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6720" y="568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4820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942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212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54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8948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7984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6732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3264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2120" y="4430880"/>
            <a:ext cx="19699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000" y="4802040"/>
            <a:ext cx="15573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o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05040" y="3981600"/>
            <a:ext cx="1245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63720" y="2637000"/>
            <a:ext cx="12459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DSL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11240" y="1550880"/>
            <a:ext cx="1246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DS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040" y="708120"/>
            <a:ext cx="17319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08760" y="488880"/>
            <a:ext cx="2127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22 Mbit/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TN00189_" descr=""/>
          <p:cNvPicPr/>
          <p:nvPr/>
        </p:nvPicPr>
        <p:blipFill>
          <a:blip r:embed="rId4"/>
          <a:stretch/>
        </p:blipFill>
        <p:spPr>
          <a:xfrm>
            <a:off x="5873760" y="552600"/>
            <a:ext cx="1558800" cy="904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232160" y="64184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cess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71880" y="55224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71880" y="5734080"/>
            <a:ext cx="702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AE9-F1D7-4378-AB80-4C93F0F155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468520" y="6246720"/>
            <a:ext cx="59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Optical network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00280" y="762120"/>
            <a:ext cx="910584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optical network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bit rates (up to 40 Gbit/s)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multi-wavelength techniques DWDM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optical amplifier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ility and interconnection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arine optically amplified DWDM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networks for new high speed servic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7C8-260D-4F3F-A91F-B70E741BA4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022640" y="6418440"/>
            <a:ext cx="361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75280" y="6570720"/>
            <a:ext cx="36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6723000"/>
            <a:ext cx="361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7760" y="6375240"/>
            <a:ext cx="54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products for IP-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640" y="611280"/>
            <a:ext cx="9316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164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707 (SDH), G.709 (OTN), G.722 (7 kHz), G.728 (16 kbit/s), G.729 (8 kbit/s), G.99x (xDSL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248 (gateway), H.323 (multimedia system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365 (FR), I.432 (B-ISDN), I.732 (ATM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112 (Cable TV), J.16x + J.17x (IPCablecom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3120 (CORBA for TMN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.933 (DSS1), Q.1300 (TASC), Q.1930 (BICC), Q.27xx (B-ISDN), Q.29xx (DSS2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.37, T.38 (IPfax), T.12x (multimedia conference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29 (9.6 K modem), V.34 (34 kbit/s), V.90/V.92 (56 kbit/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.25, X.75, X.76 (FR), X.85 (IP over SDH), X.86 (Ethernet over LAPS), X.121, X.4xx (MHS), X.5xx (Director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ularly X.509, X.68x/X.69x (ASN.1), X.8xx (security), X.9xx (ODP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series: dedicated to IP and G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.100 (SDL), Z.14x (TTCN),  Z.3xx (MM language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F76-7E16-4567-82C5-A82B941753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5800" y="1422360"/>
            <a:ext cx="8793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fied IMT-2000 systems and its spectru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working functions to be used with exist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 evolving IMT-2000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vergence of fixed and existing IMT-2000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w Generation of mobil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17800" y="6380280"/>
            <a:ext cx="52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mobil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2C5-ECA1-48A4-9C74-4FD589C5D0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24160" y="1133640"/>
            <a:ext cx="730404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ality of Service (Q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umbering and rou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riffs and Accounting 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87760" y="6365880"/>
            <a:ext cx="55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uring global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4BC-FACA-4E5E-82A6-79C80A31E3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0804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89000" y="1127160"/>
          <a:ext cx="7981920" cy="3502080"/>
        </p:xfrm>
        <a:graphic>
          <a:graphicData uri="http://schemas.openxmlformats.org/drawingml/2006/table">
            <a:tbl>
              <a:tblPr/>
              <a:tblGrid>
                <a:gridCol w="1741680"/>
                <a:gridCol w="1073160"/>
                <a:gridCol w="1161720"/>
                <a:gridCol w="1422720"/>
                <a:gridCol w="1188720"/>
                <a:gridCol w="139392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1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/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/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minis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soci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4270320" y="154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4680" y="5105520"/>
            <a:ext cx="80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Others: such as ISO, IEC, ISOC/IETF, INTELSAT, INMARSAT, EUTELSA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SI, CEPT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4600" y="6372360"/>
            <a:ext cx="27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990-393A-4094-8659-36AC66749D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790560" y="770040"/>
          <a:ext cx="8985240" cy="5060880"/>
        </p:xfrm>
        <a:graphic>
          <a:graphicData uri="http://schemas.openxmlformats.org/drawingml/2006/table">
            <a:tbl>
              <a:tblPr/>
              <a:tblGrid>
                <a:gridCol w="2895480"/>
                <a:gridCol w="3046680"/>
                <a:gridCol w="3043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ministratio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96/22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7/17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O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7/18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.S.A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T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ucen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6+58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in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ricss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7+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803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erman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eme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6+1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90512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ance                        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rt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1+51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uss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lcat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5+23+40+18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.K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DD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SEL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na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com Ital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C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apa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wisscom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k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d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jitsu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ra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no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cord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al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yal KP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otorol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27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yr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K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e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00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kom Austr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RI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   1466 (6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     1188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7168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1126 (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525456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0240" y="634212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 Members participation (07/98-08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5760" y="5859360"/>
            <a:ext cx="80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te – Cisco: 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A96-3ED8-4B2E-AACE-69BE87E63B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777600" y="587520"/>
            <a:ext cx="912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work is shared by Governments and Industry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ervice providers and telecom equipment vend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Industry Memberships in ITU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out of 14 Study Group Chairmen (including TSAG) appoi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from Sector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telecom members (to attract new IT Me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’s Informal Consultation meeting (with Indust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n as “Martigny meetings”, twice: Feb. 2000 and Feb.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point of ITU Reform: Industry Members’ rights and du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rtn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91720" y="633240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Members’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4FC-CE67-4C5B-A054-E35CE0D61E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6840" y="6361200"/>
            <a:ext cx="331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of the 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84080" y="1773360"/>
          <a:ext cx="91504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773360"/>
                    <a:ext cx="91504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B5B-B3DF-49E3-9A55-ED09738B3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532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27000" y="584280"/>
          <a:ext cx="8798040" cy="5406840"/>
        </p:xfrm>
        <a:graphic>
          <a:graphicData uri="http://schemas.openxmlformats.org/drawingml/2006/table">
            <a:tbl>
              <a:tblPr/>
              <a:tblGrid>
                <a:gridCol w="1109880"/>
                <a:gridCol w="1108080"/>
                <a:gridCol w="2054160"/>
                <a:gridCol w="2886120"/>
                <a:gridCol w="163980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ud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mbership fe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nnual fe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US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5,000,000 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,000,000 SF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U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nimum mandator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ther op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½ unit (31,500 SF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,275,000  $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1,909,000 Eur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 according to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5 units (5,000 Euros/un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1,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pending on 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50 $/500 $  per meeting per person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meetings pe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50/1500 x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20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42,000 / $ 18, 000 / $ 10,00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8,300,000 $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9,305,000 SFr</a:t>
                      </a:r>
                      <a:br>
                        <a:rPr sz="12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rough national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national member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five big members pay 9% of the budge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individual company up to 50,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1,900,000 $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,000,000 SF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4,456,200 Euros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,00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6 S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verag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0,000/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84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GP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5 S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60,000/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,000 $ / 5,000 $, 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,87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 + meeting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14,000/5,000/3,500/1,500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250/275 per meet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meetings/year, 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,000+1,000/1,100 x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2830320" y="6156360"/>
            <a:ext cx="50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’s dues to SDO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TU-T Associates = US $ 6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9360" y="5943600"/>
            <a:ext cx="83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ome SDOs receive secretariat support from their members; such expenditures are not counted in the budge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1B0-DAA7-4374-B37B-24B2A4A097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569960" y="2552760"/>
            <a:ext cx="198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50880" y="1233360"/>
            <a:ext cx="16066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22720" y="1762200"/>
            <a:ext cx="198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623880"/>
            <a:ext cx="3348000" cy="130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ter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(ITU-T and ITU-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67800" y="3398760"/>
            <a:ext cx="19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1680" y="5261040"/>
            <a:ext cx="198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5000" y="5938920"/>
            <a:ext cx="198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0840" y="720720"/>
            <a:ext cx="2674800" cy="1077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32760" y="871560"/>
            <a:ext cx="269388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Times New Roman"/>
              </a:rPr>
              <a:t>NGOs</a:t>
            </a:r>
            <a:br>
              <a:rPr sz="22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SO, IEC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67400" y="5600880"/>
            <a:ext cx="198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8520" y="1501920"/>
            <a:ext cx="8145360" cy="4651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25960" y="1671480"/>
            <a:ext cx="33336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Forums / Consortia / S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98640" y="2022480"/>
            <a:ext cx="620244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1394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.I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P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PP2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I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M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MI-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O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OW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RIB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TM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BIN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Bluetooth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able Modem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BO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D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mmerceNet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mmerceNet J Committee T1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PR 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TF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H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IS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OP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SL 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HO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O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DIFIC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D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E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IDX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M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RTICO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TS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W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CI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CIA-J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IP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R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S-VDSL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S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GSM Assoc.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N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ome AP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omePN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RFW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DB Fo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EE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E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FI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FS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MT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MW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Pv6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rD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TS Americ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TS UK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AV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CT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CAL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DI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ICSA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IM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M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LONMARK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CP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DG.or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I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MC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obile W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OP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PLS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S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W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ASI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D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M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SG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C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ISI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M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HS MoU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ICM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K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O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alutation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CT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DL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DR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SIP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INA-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M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O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S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T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MT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SB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WC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3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A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eb 3D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fM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IN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L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XTP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87720" y="636444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pos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92640" y="5450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6640" y="12700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F87-978C-4534-8EDB-E3D2ED16B2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74640" y="622440"/>
            <a:ext cx="939960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, IEC, ISO/IEC JTC 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since the 1970s; common texts since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TSA-2000 Resolution 7, Recommendation A.2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esident Cooperation Group (JPCG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ld Standar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(WS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ET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Member since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PSO, July 1999; provide secretarial support to PSO, since 08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management team meetings in 11/99 and 08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S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Member since early 1990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cooperation in Jun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, IEC, UN/E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on e-business in March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SC (Global Standards Collaboration): Since March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A, TTC, ARIB, ETSI, T1, TIA, TSACC, ACIF, 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84680" y="6359400"/>
            <a:ext cx="49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coordination with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599-358B-4E29-9A0A-7E6160240A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17880" y="6148440"/>
            <a:ext cx="6518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solutions and ITU-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 conc.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23760" y="717480"/>
            <a:ext cx="85762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solution 101 (Minneapolis,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 (IP)-based network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solution 102 (Minneapolis,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of Internet domain names and address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 Recommendation A.5 (01/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procedures for including references to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ther organizations in ITU-T Recommenda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x A: Information specific to ISOC/IET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Council-99 endorsed two actions (C99/5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Participation by ITU-T in ICANN P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ITU Management of the .INT top level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F2F-EC01-454A-879B-4118F7EB3D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82320" y="633420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on with IETF/IA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7200" y="988920"/>
            <a:ext cx="923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ood cooperation between ITU-T and IETF started in 1997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ood results for T.37, T.38, H.248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-T becomes one of the founding members for P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  MoU signed in Oslo, 14 July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  take over the secretariat support for PSO since August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y presentation at the IETF-45 Plenary warmly welco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int meeting of ITU-T SG Chairs and IETF Area Directo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meeting: Washington, D.C., 7 November '99 (30 particip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meeting: London, 5 August 2001 (30 particip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int meeting with IAB, London, 5 August (20 particip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3DE-43EC-4C71-8B12-A40A8E8517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27200" y="882720"/>
            <a:ext cx="938196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F protocol defined in RFC 29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164 number can be used to look up a Uni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Identifier (U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addresses most commonly known U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using E.164 number in context of combined PSTN &amp; I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 (email, fax, SIP address, coordinates, oth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4 1206 762335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5.3.3.2.6.7.6.0.2.1.4.4.e164.T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2640" y="634212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EN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59F-4DB8-48A9-A538-D638C9FFFF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84080" y="1273320"/>
            <a:ext cx="8828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fine and implement administrative procedures tha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ordinate delegations of E.164 numbering resourc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o the agreed DNS name serv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ector of TSB, on behalf of Administrations,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rol the implementation of ENUM und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164.arpa on a trial basis, while the register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ne by RIPE NC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84520" y="6188040"/>
            <a:ext cx="53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sponsibilities regarding 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0C4-E8F2-410C-96E2-C725C4E205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57400" y="835200"/>
            <a:ext cx="8136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04920" y="1077840"/>
            <a:ext cx="79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6080" y="1054080"/>
            <a:ext cx="854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719280"/>
            <a:ext cx="80769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sident of ICANN call for reform in February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SB Director conducted informal consultation with IT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mbers in March/Apr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SB Director presents a paper to ICANN on its reform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fering to assist ICANN in certain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 Council-2002 unanimously supported TSB Director’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y contacts between ITU-T and the outside partn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P-02 Resolution 1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56080" y="6380280"/>
            <a:ext cx="38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ANN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C8B-AABD-4EB5-B44E-BBF14BBE5D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9160" y="722160"/>
            <a:ext cx="931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4: communication with forums and consort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5: referencing documents of other organiz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ITU-T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6: cooperation and exchange of in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S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to the Informal Forum Summit by the Director of TS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cember 3-4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9240" y="6153120"/>
            <a:ext cx="40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Coope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ums / consortia /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788-4B24-4641-A09A-F9E7BAC114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93600" y="184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811080" y="588960"/>
          <a:ext cx="9037800" cy="5543640"/>
        </p:xfrm>
        <a:graphic>
          <a:graphicData uri="http://schemas.openxmlformats.org/drawingml/2006/table">
            <a:tbl>
              <a:tblPr/>
              <a:tblGrid>
                <a:gridCol w="2924280"/>
                <a:gridCol w="3949560"/>
                <a:gridCol w="21639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4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5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c39f"/>
                        </a:gs>
                        <a:gs pos="100000">
                          <a:srgbClr val="ffefd1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c39f"/>
                        </a:gs>
                        <a:gs pos="100000">
                          <a:srgbClr val="ffefd1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N.1 Consort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RIB (Association of Radio Industries and Business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R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ittee 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SL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ittee 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W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IS (e-and telecommunication info.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WTS (China Wireless Telecommunication Standard Gro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F (Frame Relay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SL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MTC (Multimed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 Standardizing Information &amp; Communication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DR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 (European Telecommunications Standards Institu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CT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v6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PLS (Multi Protocol Label Switching)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 (Institute of Electrical and  Electronics Engine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SF (Multiservice Switching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SOC/IETF (Internet Society/Internet Engineering Task For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CTEA (Japan Cable Television Engineering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IF (Optical Internetworking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PLS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MG (Object Management Gro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IST (National Institute of Standards and Technolog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DL Forum Soc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M Forum (Tele Management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 (World Wide Web Consorti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TE (Society of Cable Telecommunications Engine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A (Telecommunications Industry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A (Telecommunications Technology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C (Telecommunication Technology Committe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3269520" y="6173640"/>
            <a:ext cx="421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for Rec. A.4, A.5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A.6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61D-4B5F-49B7-9D71-7EE7788E8F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6720" y="260280"/>
            <a:ext cx="936144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ly financed by Govern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ork dominated by indust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cedures very efficient, no longer slo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ek effective cooperation with SDOs to share the 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uld be open to emerging technolog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uld be open to researchers / stud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y to keep its pre-eminent stat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0" y="6351480"/>
            <a:ext cx="52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tion of ITU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DC9-FD66-4A46-A4D6-938397BD4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92280" y="944640"/>
            <a:ext cx="919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forums become A.4 members of ITU-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S-VDSL Forum has become a Focus Group of ITU-T SG 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other Forum is considering to become a Focus Group of ITU-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me page connections for ITU-T and Forums/Consort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-T SG 16 management member be included in the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w approach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COOPERATE and WORK TOGETH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17440" y="6184800"/>
            <a:ext cx="47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relationships betwe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ums/Consortia and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F09-7D18-4A23-91E9-2ECC6102EE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936720"/>
            <a:ext cx="906156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sensus: after WTSA-2000, the ITU-T procedures are now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treamlined and efficient so that any perception of slowness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n no longer be attributed to the ITU-T method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ully recognized that Sector Members have a significant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eadership role in the ITU-T technical standardization activitie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U-T is and should remain the unique worldwide venue for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dustry and governments to work together in developing,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viding and promoting global consensus-based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elecommunication requirements and standards for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formation Society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elcome you in ITU-T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*********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63760" y="615960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Views on ITU-T  Martigny, Februar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912-D2C1-422F-83FB-2A1195B19C1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0" y="6338880"/>
            <a:ext cx="304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ITT and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800" y="719280"/>
            <a:ext cx="932616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38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CIT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(International Telegraph and Telephone Consultative Committee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5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st Plenary Assembly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nd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d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rd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lu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hite Book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5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reen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ang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ellow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d Book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8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9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lu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ITU-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(International Telecommunication Union - Telecom. Standardization Sector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3  1st World Telecommunication Standardization Conference (WTSC-93),  Helsink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6  2nd World Telecommunication Standardization Conference (WTSC-96), Gene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00  3rd World Telecommunication Standardization Assembly (WTSA-2000), Montre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646-967A-482D-BEED-06CE6AE7F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59840" y="6361200"/>
            <a:ext cx="31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s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58760" y="849240"/>
            <a:ext cx="86461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The functions of the Telecommunication Standardization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all be, bearing in mind the particular concerns of the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untries, to fulfill the purposes of the Union relating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ecommunication standardization, as stated in Article 1 of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titution, by studying technical, operating and tariff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adopting Recommendations on them with a vie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izing telecommunications on a worldwide basi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14D-34D5-4632-A12D-90FB8560D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80200" y="6326280"/>
            <a:ext cx="548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zational Structure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97120" y="754200"/>
          <a:ext cx="569124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754200"/>
                    <a:ext cx="56912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53920" y="4138560"/>
            <a:ext cx="31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shop / fo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9D0-0339-4D0D-AC24-1BAFE0A97A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37880" y="6362640"/>
            <a:ext cx="520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tudy Groups and TSA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7040" y="693720"/>
            <a:ext cx="91414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al aspects of service provision, network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iff and accounting principles including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s economic and polic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4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 management, including T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ion against electromagnetic environme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6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side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9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broadband cable networks and television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nd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ling requirements an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240-CFA8-47C8-A32E-3A47EAE40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61640" y="6354720"/>
            <a:ext cx="51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tudy Groups and TS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189000"/>
            <a:ext cx="9063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-to-end transmission performance of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-protocol and IP-based networks and the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cal and other transport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6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media services, systems an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7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networks and telecommunication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S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A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 Standardization Advisor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5040" y="5627520"/>
            <a:ext cx="602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iorities: IP, Mobility, next generation, secur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468-9AAB-420D-994C-32F597A7C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9T07:59:50Z</dcterms:created>
  <dc:creator>Saba Imru-Caminiti</dc:creator>
  <dc:description/>
  <dc:language>en-US</dc:language>
  <cp:lastModifiedBy>choutko</cp:lastModifiedBy>
  <cp:lastPrinted>1999-10-20T14:57:16Z</cp:lastPrinted>
  <dcterms:modified xsi:type="dcterms:W3CDTF">2002-11-25T13:46:18Z</dcterms:modified>
  <cp:revision>205</cp:revision>
  <dc:subject/>
  <dc:title>New presentation template</dc:title>
</cp:coreProperties>
</file>