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10666413" cy="7621588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509-562A-4949-B73B-3929621C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9599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160" y="4091760"/>
            <a:ext cx="9599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42A-1153-41BA-9CBF-CD89C424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6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220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DF0-8FAB-4D83-AA47-FCC6278C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8920" y="178308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025040" y="178308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160" y="409176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8920" y="409176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025040" y="4091760"/>
            <a:ext cx="30909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CFA-0EF2-448A-84CD-E3195706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160" y="1783080"/>
            <a:ext cx="9599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161-F374-40A0-A841-6DF3B6D7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9599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664-0B15-42D9-B6B6-DD1B7441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2B2-9C40-4BF6-A91C-01519275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A12-3E6A-4638-9B7A-65D8BBF3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303840"/>
            <a:ext cx="959976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F11-A6F8-4E00-985E-80837549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D64-B428-42BE-B3FB-AC799D6D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2200" y="409176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75B-D5F1-4B26-9F08-76055F86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2200" y="1783080"/>
            <a:ext cx="46843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091760"/>
            <a:ext cx="959976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14C-A0E8-4B08-A37D-4374D008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2160" y="6178680"/>
            <a:ext cx="9223560" cy="885600"/>
          </a:xfrm>
          <a:prstGeom prst="rect">
            <a:avLst/>
          </a:prstGeom>
          <a:solidFill>
            <a:srgbClr val="fff6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2120" y="6933960"/>
            <a:ext cx="2286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657240" y="6933960"/>
            <a:ext cx="33526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620120" y="6933960"/>
            <a:ext cx="2286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199206-6DBF-4678-8AB4-83F818EB7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16040" y="550800"/>
            <a:ext cx="9234360" cy="651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78960" y="6168960"/>
            <a:ext cx="3240" cy="8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320" y="6170760"/>
            <a:ext cx="922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917720" y="6183360"/>
            <a:ext cx="1440" cy="85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947880" y="6232680"/>
          <a:ext cx="812520" cy="82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7880" y="6232680"/>
                    <a:ext cx="8125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8827920" y="6350040"/>
            <a:ext cx="962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533160" y="303840"/>
            <a:ext cx="959976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533160" y="1783080"/>
            <a:ext cx="9599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3" marL="1542960" indent="-171360">
              <a:lnSpc>
                <a:spcPct val="89000"/>
              </a:lnSpc>
              <a:spcBef>
                <a:spcPts val="524"/>
              </a:spcBef>
              <a:buClr>
                <a:srgbClr val="000000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4" marL="2000160" indent="-171360">
              <a:lnSpc>
                <a:spcPct val="89000"/>
              </a:lnSpc>
              <a:spcBef>
                <a:spcPts val="524"/>
              </a:spcBef>
              <a:buClr>
                <a:srgbClr val="000000"/>
              </a:buClr>
              <a:buFont typeface="Book Antiqu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sbdir@itu.int" TargetMode="External"/><Relationship Id="rId2" Type="http://schemas.openxmlformats.org/officeDocument/2006/relationships/hyperlink" Target="http://www.itu.in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3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2720" y="646200"/>
            <a:ext cx="941544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U Standardization and its new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drid, Sp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c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ulin ZH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lecommunication Standardization Bureau (T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national Telecommunication Union,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ace des Nations - CH-1211 Geneva 20 –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l:  +41 22 730 585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x:  +41 22 730 58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tsbdir@itu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 Home page address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itu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FB2-4111-4217-8667-48EF57584AF9}" type="slidenum">
              <a:t>1</a:t>
            </a:fld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41560" y="14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54000" y="895320"/>
          <a:ext cx="873612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895320"/>
                    <a:ext cx="873612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41720" y="641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52800" y="623880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val of new and revised Recommendation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 of events (T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EC0-9492-40E7-BE81-692B503649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14080" y="555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34400" y="3895560"/>
            <a:ext cx="10684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63360" y="3940200"/>
            <a:ext cx="60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70680" y="3940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367560" y="41162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61200" y="429084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75360" y="429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1080" y="4467240"/>
            <a:ext cx="73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34040" y="44672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67560" y="4646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109520" y="2421000"/>
            <a:ext cx="7926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9560" y="2867040"/>
            <a:ext cx="7635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0440" y="29131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G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07880" y="2913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74520" y="308916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04560" y="308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800" y="326880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42800" y="3268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2867040"/>
            <a:ext cx="9162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05760" y="29131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3200" y="2913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65880" y="30891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4520" y="308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00360" y="3263760"/>
            <a:ext cx="41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7880" y="32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4480" y="34434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6080" y="2867040"/>
            <a:ext cx="122076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88840" y="291312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3360" y="2913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31880" y="308916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60320" y="308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36280" y="3263760"/>
            <a:ext cx="71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320" y="32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90720" y="3438360"/>
            <a:ext cx="41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98600" y="3438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95200" y="3619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16360" y="2316240"/>
            <a:ext cx="536400" cy="536400"/>
          </a:xfrm>
          <a:custGeom>
            <a:avLst/>
            <a:gdLst/>
            <a:ahLst/>
            <a:rect l="l" t="t" r="r" b="b"/>
            <a:pathLst>
              <a:path w="676" h="676">
                <a:moveTo>
                  <a:pt x="338" y="0"/>
                </a:moveTo>
                <a:lnTo>
                  <a:pt x="0" y="336"/>
                </a:lnTo>
                <a:lnTo>
                  <a:pt x="340" y="676"/>
                </a:lnTo>
                <a:lnTo>
                  <a:pt x="676" y="340"/>
                </a:lnTo>
                <a:lnTo>
                  <a:pt x="33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360" y="2330280"/>
            <a:ext cx="6872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05080" y="2379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62240" y="2867040"/>
            <a:ext cx="180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62240" y="39355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095720" y="3875040"/>
            <a:ext cx="5775480" cy="98280"/>
            <a:chOff x="4095720" y="3875040"/>
            <a:chExt cx="5775480" cy="98280"/>
          </a:xfrm>
        </p:grpSpPr>
        <p:sp>
          <p:nvSpPr>
            <p:cNvPr id="117" name=""/>
            <p:cNvSpPr/>
            <p:nvPr/>
          </p:nvSpPr>
          <p:spPr>
            <a:xfrm>
              <a:off x="4095720" y="3922560"/>
              <a:ext cx="5680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72920" y="3875040"/>
              <a:ext cx="98280" cy="982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1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719680" y="3659040"/>
            <a:ext cx="540000" cy="53820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340" y="0"/>
                </a:moveTo>
                <a:lnTo>
                  <a:pt x="0" y="340"/>
                </a:lnTo>
                <a:lnTo>
                  <a:pt x="340" y="680"/>
                </a:lnTo>
                <a:lnTo>
                  <a:pt x="680" y="340"/>
                </a:lnTo>
                <a:lnTo>
                  <a:pt x="34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64320" y="3630600"/>
            <a:ext cx="540000" cy="538200"/>
          </a:xfrm>
          <a:custGeom>
            <a:avLst/>
            <a:gdLst/>
            <a:ahLst/>
            <a:rect l="l" t="t" r="r" b="b"/>
            <a:pathLst>
              <a:path w="679" h="680">
                <a:moveTo>
                  <a:pt x="339" y="0"/>
                </a:moveTo>
                <a:lnTo>
                  <a:pt x="0" y="340"/>
                </a:lnTo>
                <a:lnTo>
                  <a:pt x="339" y="680"/>
                </a:lnTo>
                <a:lnTo>
                  <a:pt x="679" y="340"/>
                </a:lnTo>
                <a:lnTo>
                  <a:pt x="33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91040" y="3859200"/>
            <a:ext cx="459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82840" y="3908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3880" y="3816360"/>
            <a:ext cx="534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35680" y="3908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883720" y="552600"/>
            <a:ext cx="306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73720" y="603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62360" y="1873080"/>
            <a:ext cx="382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5240" y="192240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20840" y="19224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90840" y="2257560"/>
            <a:ext cx="382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3000" y="23083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9040" y="2308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2240" y="2790720"/>
            <a:ext cx="382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55120" y="284148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20720" y="2841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9560" y="3975120"/>
            <a:ext cx="915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75440" y="4021200"/>
            <a:ext cx="6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76280" y="4021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6640" y="420228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06520" y="4202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219560" y="3835440"/>
            <a:ext cx="1143000" cy="100080"/>
            <a:chOff x="4219560" y="3835440"/>
            <a:chExt cx="1143000" cy="100080"/>
          </a:xfrm>
        </p:grpSpPr>
        <p:sp>
          <p:nvSpPr>
            <p:cNvPr id="142" name=""/>
            <p:cNvSpPr/>
            <p:nvPr/>
          </p:nvSpPr>
          <p:spPr>
            <a:xfrm>
              <a:off x="4314600" y="3884760"/>
              <a:ext cx="95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19560" y="3835440"/>
              <a:ext cx="99720" cy="10008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127" y="0"/>
                  </a:moveTo>
                  <a:lnTo>
                    <a:pt x="0" y="62"/>
                  </a:lnTo>
                  <a:lnTo>
                    <a:pt x="127" y="125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63920" y="3835440"/>
              <a:ext cx="98640" cy="1000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2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100480" y="4200480"/>
            <a:ext cx="8398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19520" y="4245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20440" y="4421160"/>
            <a:ext cx="4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6040" y="4421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80560" y="45957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59200" y="4595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25760" y="4772160"/>
            <a:ext cx="59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14720" y="4772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19520" y="4951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062240" y="1038240"/>
            <a:ext cx="1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094280" y="981000"/>
            <a:ext cx="5774760" cy="98280"/>
            <a:chOff x="4094280" y="981000"/>
            <a:chExt cx="5774760" cy="98280"/>
          </a:xfrm>
        </p:grpSpPr>
        <p:sp>
          <p:nvSpPr>
            <p:cNvPr id="156" name=""/>
            <p:cNvSpPr/>
            <p:nvPr/>
          </p:nvSpPr>
          <p:spPr>
            <a:xfrm>
              <a:off x="4094280" y="1028520"/>
              <a:ext cx="567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71120" y="981000"/>
              <a:ext cx="97920" cy="982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2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50080" y="2505240"/>
            <a:ext cx="99720" cy="1142640"/>
            <a:chOff x="5950080" y="2505240"/>
            <a:chExt cx="99720" cy="1142640"/>
          </a:xfrm>
        </p:grpSpPr>
        <p:sp>
          <p:nvSpPr>
            <p:cNvPr id="159" name=""/>
            <p:cNvSpPr/>
            <p:nvPr/>
          </p:nvSpPr>
          <p:spPr>
            <a:xfrm flipV="1">
              <a:off x="5999040" y="2599920"/>
              <a:ext cx="1800" cy="10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50080" y="2505240"/>
              <a:ext cx="99720" cy="1000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125"/>
                  </a:moveTo>
                  <a:lnTo>
                    <a:pt x="63" y="0"/>
                  </a:lnTo>
                  <a:lnTo>
                    <a:pt x="0" y="125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576840" y="393552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4640" y="2473200"/>
            <a:ext cx="12207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97760" y="251928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11920" y="2519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40440" y="269388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768880" y="2693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44840" y="2868480"/>
            <a:ext cx="71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60880" y="2868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3760" y="30495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66240" y="2421000"/>
            <a:ext cx="763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347760" y="2467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543600" y="2467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95480" y="264636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699120" y="2646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791560" y="2421000"/>
            <a:ext cx="1068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324720" y="2471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3630600"/>
            <a:ext cx="10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33880" y="36799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935520"/>
            <a:ext cx="459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17640" y="398448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83240" y="3984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48440" y="2333520"/>
            <a:ext cx="45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40240" y="238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974080" y="2371680"/>
            <a:ext cx="823680" cy="100080"/>
            <a:chOff x="8974080" y="2371680"/>
            <a:chExt cx="823680" cy="100080"/>
          </a:xfrm>
        </p:grpSpPr>
        <p:sp>
          <p:nvSpPr>
            <p:cNvPr id="185" name=""/>
            <p:cNvSpPr/>
            <p:nvPr/>
          </p:nvSpPr>
          <p:spPr>
            <a:xfrm>
              <a:off x="8974080" y="2421000"/>
              <a:ext cx="72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697680" y="2371680"/>
              <a:ext cx="100080" cy="10008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0" y="125"/>
                  </a:moveTo>
                  <a:lnTo>
                    <a:pt x="124" y="61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802560" y="1644480"/>
            <a:ext cx="344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4000" y="1695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34040" y="1419120"/>
            <a:ext cx="12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25840" y="1469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883720" y="2751120"/>
            <a:ext cx="942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353160" y="2801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7360" y="3478320"/>
            <a:ext cx="5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60240" y="3527280"/>
            <a:ext cx="1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25840" y="3527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19640" y="3706920"/>
            <a:ext cx="382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11800" y="37558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87840" y="3755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4880" y="4048200"/>
            <a:ext cx="12211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0" y="409248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2160" y="4092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61040" y="426888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9480" y="4268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65440" y="4443480"/>
            <a:ext cx="71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o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81480" y="4443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11960" y="461952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37120" y="4619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4360" y="479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34040" y="4697280"/>
            <a:ext cx="53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25840" y="4746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85000" y="3335400"/>
            <a:ext cx="534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77160" y="33861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53200" y="3386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426520" y="1741320"/>
            <a:ext cx="1177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516520" y="1789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517240" y="1967040"/>
            <a:ext cx="49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10440" y="19670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28880" y="256212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0800" y="2065320"/>
            <a:ext cx="11905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81520" y="211140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ek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3320" y="21114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1160" y="2292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25320" y="2292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19240" y="256212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921040" y="2438280"/>
            <a:ext cx="990720" cy="98640"/>
            <a:chOff x="2921040" y="2438280"/>
            <a:chExt cx="990720" cy="98640"/>
          </a:xfrm>
        </p:grpSpPr>
        <p:sp>
          <p:nvSpPr>
            <p:cNvPr id="226" name=""/>
            <p:cNvSpPr/>
            <p:nvPr/>
          </p:nvSpPr>
          <p:spPr>
            <a:xfrm>
              <a:off x="3016440" y="2486160"/>
              <a:ext cx="79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21040" y="2438280"/>
              <a:ext cx="98640" cy="9864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0"/>
                  </a:moveTo>
                  <a:lnTo>
                    <a:pt x="0" y="64"/>
                  </a:lnTo>
                  <a:lnTo>
                    <a:pt x="125" y="125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11680" y="2438280"/>
              <a:ext cx="100080" cy="9864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0" y="125"/>
                  </a:moveTo>
                  <a:lnTo>
                    <a:pt x="127" y="64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654960" y="3809880"/>
            <a:ext cx="914400" cy="98640"/>
            <a:chOff x="6654960" y="3809880"/>
            <a:chExt cx="914400" cy="98640"/>
          </a:xfrm>
        </p:grpSpPr>
        <p:sp>
          <p:nvSpPr>
            <p:cNvPr id="230" name=""/>
            <p:cNvSpPr/>
            <p:nvPr/>
          </p:nvSpPr>
          <p:spPr>
            <a:xfrm>
              <a:off x="6750360" y="3859200"/>
              <a:ext cx="72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54960" y="3809880"/>
              <a:ext cx="100080" cy="9864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125" y="0"/>
                  </a:moveTo>
                  <a:lnTo>
                    <a:pt x="0" y="63"/>
                  </a:lnTo>
                  <a:lnTo>
                    <a:pt x="125" y="124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69280" y="3809880"/>
              <a:ext cx="100080" cy="98640"/>
            </a:xfrm>
            <a:custGeom>
              <a:avLst/>
              <a:gdLst/>
              <a:ahLst/>
              <a:rect l="l" t="t" r="r" b="b"/>
              <a:pathLst>
                <a:path w="126" h="124">
                  <a:moveTo>
                    <a:pt x="0" y="124"/>
                  </a:moveTo>
                  <a:lnTo>
                    <a:pt x="126" y="63"/>
                  </a:lnTo>
                  <a:lnTo>
                    <a:pt x="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780240" y="3295800"/>
            <a:ext cx="995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70960" y="3341520"/>
            <a:ext cx="49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64160" y="3341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9880" y="3521160"/>
            <a:ext cx="32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97480" y="3521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94720" y="2463840"/>
            <a:ext cx="98280" cy="1189080"/>
            <a:chOff x="7794720" y="2463840"/>
            <a:chExt cx="98280" cy="1189080"/>
          </a:xfrm>
        </p:grpSpPr>
        <p:sp>
          <p:nvSpPr>
            <p:cNvPr id="239" name=""/>
            <p:cNvSpPr/>
            <p:nvPr/>
          </p:nvSpPr>
          <p:spPr>
            <a:xfrm>
              <a:off x="7842240" y="2560680"/>
              <a:ext cx="108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94720" y="2463840"/>
              <a:ext cx="98280" cy="10152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125" y="127"/>
                  </a:moveTo>
                  <a:lnTo>
                    <a:pt x="62" y="0"/>
                  </a:lnTo>
                  <a:lnTo>
                    <a:pt x="0" y="127"/>
                  </a:lnTo>
                  <a:lnTo>
                    <a:pt x="125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42200" y="2381400"/>
            <a:ext cx="180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242200" y="2149560"/>
            <a:ext cx="1189080" cy="100080"/>
            <a:chOff x="8242200" y="2149560"/>
            <a:chExt cx="1189080" cy="100080"/>
          </a:xfrm>
        </p:grpSpPr>
        <p:sp>
          <p:nvSpPr>
            <p:cNvPr id="243" name=""/>
            <p:cNvSpPr/>
            <p:nvPr/>
          </p:nvSpPr>
          <p:spPr>
            <a:xfrm flipH="1">
              <a:off x="8338680" y="2198520"/>
              <a:ext cx="996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332640" y="2149560"/>
              <a:ext cx="98640" cy="10008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125"/>
                  </a:moveTo>
                  <a:lnTo>
                    <a:pt x="125" y="62"/>
                  </a:lnTo>
                  <a:lnTo>
                    <a:pt x="0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42200" y="2149560"/>
              <a:ext cx="101520" cy="10008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127" y="0"/>
                  </a:moveTo>
                  <a:lnTo>
                    <a:pt x="0" y="62"/>
                  </a:lnTo>
                  <a:lnTo>
                    <a:pt x="127" y="125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836640" y="4913280"/>
            <a:ext cx="21956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32040" y="496404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66400" y="49640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89960" y="4964040"/>
            <a:ext cx="5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1120" y="49640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31320" y="5143680"/>
            <a:ext cx="25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5480" y="5143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0680" y="514368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44480" y="5143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03440" y="6234120"/>
            <a:ext cx="4017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P Sequence of Event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extract from Rec. A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1F4-BBAE-4E17-887A-AFADB91E11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11360" y="596880"/>
            <a:ext cx="931860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Questions (projec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tributions driven (normal contributions, delayed contributions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emporary docu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ace-to-face meet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 debate, determination, approval of reports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proval of Questio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 SG/WP meetings: decision making; Rapporteur meetings: develop tex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cision = consensus, unanimous agre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commendations (Amendments, Corrigenda, supple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raft Recommendations, determined draft Recommend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proved Recommendations, pre-published Recommendations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blished Recommend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lementor’s Gui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eting repo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lectronic submissions, web consultations, email, ft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14"/>
              </a:spcAft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aperless meeting – LAN/Wireless – LAN connections in meeting roo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91600" y="633744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BDD-A9B2-487C-A941-5D015AAFAD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51520" y="626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7360" y="635148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commendations Series    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9480" y="557280"/>
            <a:ext cx="8952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zation of the work of the ITU-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ns of expression: definitions, symbols, 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telecommunication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tariff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all network operation, telephone service, service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huma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telephone telecommunic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mission systems and media, digital system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diovisual and multimedia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s 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ed services digit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A8F-27B4-4C93-8FC9-C7B72AE70C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36720" y="674640"/>
            <a:ext cx="9010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J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ansmission of television, sound programme and other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ultimedia signa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K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tection against interfer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L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nstruction, installation and protection of cables and othe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lements of outside pla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M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MN and network maintenance: international transmission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s, telephone circuits, telegraphy, facsimile and leased circu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N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intenance: international sound programme and television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ransmission circu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O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pecifications of measuring equi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P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phone transmission quality, telephone installations, local line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26040" y="634032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commendations Series    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1DC-83A2-4AF2-8007-4D9DF8CCA5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41880" y="638640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commendations Series    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55800" y="703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47520" y="719280"/>
            <a:ext cx="8559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Q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witching and signall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R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graph transmiss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graph services terminal equi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rminals for telematic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U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elegraph switch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V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ata communication over the telephone networ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X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ata networks and open system commun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lobal information infrastructure and internet protocol aspec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ries Z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Languages and general software aspects for telecommun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F82-C9A1-41D0-9577-6C20668CAC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243520" y="6364440"/>
            <a:ext cx="628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st Sellers of ITU-T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0480" y="627120"/>
            <a:ext cx="929808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2002 - Best selling tex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in the order of sales number as of 23/10/02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03 (Pre Pub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G.707/Y.132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1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8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65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95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X.509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G.709/Y.133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.26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.32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82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2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T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0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G.709/Y.1331 Amdt 1 (Pre Pub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723.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82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.65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G.8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.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me well-known ITU-T Recommendation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.16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.19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.212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65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65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69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03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0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1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0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3 Annex A+disk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3.1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29+Annex A+disk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780-series (SDH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826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957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98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G.990-series (xDSL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25.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4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48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263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323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32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H.450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I.36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.43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I.73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J.11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J.11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.301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.310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.3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Q.931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Q.1700-series (IMT-20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.3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.37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.38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    V.3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.44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V.59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.9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V.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36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509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680-series (ASN.1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69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X.840-se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Y.1310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Y.154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5F8-23AD-4B90-9408-B508A71D61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298520" y="969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314360" y="704880"/>
          <a:ext cx="8248680" cy="520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4360" y="704880"/>
                    <a:ext cx="82486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2349360" y="6143760"/>
            <a:ext cx="60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roval and publication time of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22A-892C-4C5D-989E-CC8907FA18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386520" y="6353280"/>
            <a:ext cx="404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's main work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7200" y="760320"/>
            <a:ext cx="899928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ree major item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P-related iss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T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ccounting r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Other item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ulti-media, access networks (xDSL), optical transmission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urity, numbering and addressing, inter-operabilities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PR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A80-B9FE-4638-9C23-AAB09C0BA2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48040" y="6372360"/>
            <a:ext cx="49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voice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33480" y="10666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kHz b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wideband (G.722-series)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kHz b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analogue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4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PCM, G.711, 1972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2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ADPCM, G.721, 1984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G.728, 1992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G.729, 1996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kbit/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G.4kbps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EBE-DE4D-41D3-BED3-49D79037AF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27560" y="736560"/>
            <a:ext cx="88826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3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ntion of the first electric tele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4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uel Morse sent his first public message over a telegraph I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ween Washington and Balti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6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ndation of the International Telegraph Union by twenty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 M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the adoption of the first Convention. First Telegraph Reg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7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exander Graham Bell patents his invention of the tele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2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is - Creation of CCIF (International Telephone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2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is - Creation of CCIT (International Telegraph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2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shington - Creation of the CCIR (Intl. Radio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3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drid - Plenipotentiary Conference. Telegraph Union changes nam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rnational Telecommunication 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4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U becomes a Specialized Agency of the United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5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va - CCIF and CCIT merged into CCITT (Intern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egraph and Telephone Consultative Committ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va - Plenipotentiary Conference. Creation of 3 Secto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U-T replaces CCITT, ITU-R replaces IFRB, CCIR, and ITU-D replaces T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25160" y="6338880"/>
            <a:ext cx="268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 Land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E77-AA44-471E-9421-F432B9247C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022640" y="6418440"/>
            <a:ext cx="361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75280" y="6570720"/>
            <a:ext cx="361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27560" y="6723000"/>
            <a:ext cx="361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25760" y="6375240"/>
            <a:ext cx="58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still picture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70120" y="1252440"/>
            <a:ext cx="906768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c facsimi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G3, G4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4, T.6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/W still pictures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BI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2, T.83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. tone colou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PEG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1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ssl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PEG-L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6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PEG-2000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800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812-D4CB-4B88-ABB3-C9C600ED49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986120" y="6369120"/>
            <a:ext cx="67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moving picture 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7720" y="895320"/>
            <a:ext cx="906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7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video coding at n x 64 kbit/s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generic video and audio coding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video coding for low bit rates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.26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 advanced video cod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 progres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= MPEG-4 Part 10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consent expected February 2003)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mproved multimedia video coding</a:t>
            </a:r>
            <a:endParaRPr b="1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3C4-C9AE-4F44-905D-27160E2608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841480" y="922320"/>
            <a:ext cx="4759560" cy="4303800"/>
          </a:xfrm>
          <a:custGeom>
            <a:avLst/>
            <a:gdLst/>
            <a:ahLst/>
            <a:rect l="l" t="t" r="r" b="b"/>
            <a:pathLst>
              <a:path w="2095" h="2168">
                <a:moveTo>
                  <a:pt x="581" y="205"/>
                </a:moveTo>
                <a:lnTo>
                  <a:pt x="980" y="137"/>
                </a:lnTo>
                <a:lnTo>
                  <a:pt x="1245" y="105"/>
                </a:lnTo>
                <a:lnTo>
                  <a:pt x="1604" y="9"/>
                </a:lnTo>
                <a:lnTo>
                  <a:pt x="1848" y="0"/>
                </a:lnTo>
                <a:lnTo>
                  <a:pt x="1830" y="178"/>
                </a:lnTo>
                <a:lnTo>
                  <a:pt x="1899" y="555"/>
                </a:lnTo>
                <a:lnTo>
                  <a:pt x="2095" y="1020"/>
                </a:lnTo>
                <a:lnTo>
                  <a:pt x="1613" y="806"/>
                </a:lnTo>
                <a:lnTo>
                  <a:pt x="1449" y="1226"/>
                </a:lnTo>
                <a:lnTo>
                  <a:pt x="1366" y="1517"/>
                </a:lnTo>
                <a:lnTo>
                  <a:pt x="1308" y="1804"/>
                </a:lnTo>
                <a:lnTo>
                  <a:pt x="1258" y="2168"/>
                </a:lnTo>
                <a:lnTo>
                  <a:pt x="1154" y="1881"/>
                </a:lnTo>
                <a:lnTo>
                  <a:pt x="1154" y="1567"/>
                </a:lnTo>
                <a:lnTo>
                  <a:pt x="1218" y="1157"/>
                </a:lnTo>
                <a:lnTo>
                  <a:pt x="1381" y="679"/>
                </a:lnTo>
                <a:lnTo>
                  <a:pt x="1522" y="328"/>
                </a:lnTo>
                <a:lnTo>
                  <a:pt x="1176" y="684"/>
                </a:lnTo>
                <a:lnTo>
                  <a:pt x="813" y="1120"/>
                </a:lnTo>
                <a:lnTo>
                  <a:pt x="612" y="1307"/>
                </a:lnTo>
                <a:lnTo>
                  <a:pt x="364" y="1477"/>
                </a:lnTo>
                <a:lnTo>
                  <a:pt x="0" y="1614"/>
                </a:lnTo>
                <a:lnTo>
                  <a:pt x="294" y="1381"/>
                </a:lnTo>
                <a:lnTo>
                  <a:pt x="522" y="1134"/>
                </a:lnTo>
                <a:lnTo>
                  <a:pt x="699" y="893"/>
                </a:lnTo>
                <a:lnTo>
                  <a:pt x="990" y="428"/>
                </a:lnTo>
                <a:lnTo>
                  <a:pt x="581" y="205"/>
                </a:lnTo>
                <a:lnTo>
                  <a:pt x="581" y="205"/>
                </a:lnTo>
                <a:lnTo>
                  <a:pt x="581" y="2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TN01317_" descr=""/>
          <p:cNvPicPr/>
          <p:nvPr/>
        </p:nvPicPr>
        <p:blipFill>
          <a:blip r:embed="rId1"/>
          <a:stretch/>
        </p:blipFill>
        <p:spPr>
          <a:xfrm>
            <a:off x="2286000" y="3679920"/>
            <a:ext cx="1028880" cy="1439640"/>
          </a:xfrm>
          <a:prstGeom prst="rect">
            <a:avLst/>
          </a:prstGeom>
          <a:ln w="0">
            <a:noFill/>
          </a:ln>
        </p:spPr>
      </p:pic>
      <p:pic>
        <p:nvPicPr>
          <p:cNvPr id="285" name="TN01291_" descr=""/>
          <p:cNvPicPr/>
          <p:nvPr/>
        </p:nvPicPr>
        <p:blipFill>
          <a:blip r:embed="rId2"/>
          <a:stretch/>
        </p:blipFill>
        <p:spPr>
          <a:xfrm>
            <a:off x="3693960" y="2774880"/>
            <a:ext cx="1231920" cy="1177920"/>
          </a:xfrm>
          <a:prstGeom prst="rect">
            <a:avLst/>
          </a:prstGeom>
          <a:ln w="0">
            <a:noFill/>
          </a:ln>
        </p:spPr>
      </p:pic>
      <p:pic>
        <p:nvPicPr>
          <p:cNvPr id="286" name="TN00552_" descr=""/>
          <p:cNvPicPr/>
          <p:nvPr/>
        </p:nvPicPr>
        <p:blipFill>
          <a:blip r:embed="rId3"/>
          <a:stretch/>
        </p:blipFill>
        <p:spPr>
          <a:xfrm>
            <a:off x="4716360" y="1806480"/>
            <a:ext cx="1517760" cy="698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8164440" y="5253120"/>
            <a:ext cx="1067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52520" y="5335560"/>
            <a:ext cx="13957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.6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54560" y="517680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8.8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03800" y="489600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6.6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06800" y="4091040"/>
            <a:ext cx="13957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8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42080" y="287496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9240" y="3295800"/>
            <a:ext cx="1395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k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00920" y="2170080"/>
            <a:ext cx="10670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50400" y="1643040"/>
            <a:ext cx="131436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5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605800" y="1079640"/>
            <a:ext cx="1393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Mbit/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06720" y="568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4820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942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212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54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4844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894880" y="57038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79840" y="5892840"/>
            <a:ext cx="903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67320" y="5892840"/>
            <a:ext cx="903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32640" y="5892840"/>
            <a:ext cx="903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2120" y="4430880"/>
            <a:ext cx="19699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5000" y="4802040"/>
            <a:ext cx="15573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o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05040" y="3981600"/>
            <a:ext cx="1245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63720" y="2637000"/>
            <a:ext cx="12459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DSL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11240" y="1550880"/>
            <a:ext cx="1246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DS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040" y="708120"/>
            <a:ext cx="17319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08760" y="488880"/>
            <a:ext cx="2127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22 Mbit/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TN00189_" descr=""/>
          <p:cNvPicPr/>
          <p:nvPr/>
        </p:nvPicPr>
        <p:blipFill>
          <a:blip r:embed="rId4"/>
          <a:stretch/>
        </p:blipFill>
        <p:spPr>
          <a:xfrm>
            <a:off x="5873760" y="552600"/>
            <a:ext cx="1558800" cy="904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232160" y="6418440"/>
            <a:ext cx="27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ccess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171880" y="55224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71880" y="5734080"/>
            <a:ext cx="702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CA8-77FF-4162-9725-C8A22365AE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468520" y="6246720"/>
            <a:ext cx="59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work on Optical network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00280" y="762120"/>
            <a:ext cx="910584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y optical network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bit rates (up to 40 Gbit/s)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multi-wavelength techniques DWDM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optical amplifier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operability and interconnection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arine optically amplified DWDM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 networks for new high speed service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AC1-979A-4DAA-9DCC-FAE7B1AE8B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022640" y="6418440"/>
            <a:ext cx="361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75280" y="6570720"/>
            <a:ext cx="361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6723000"/>
            <a:ext cx="361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87760" y="6375240"/>
            <a:ext cx="54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products for IP-net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640" y="611280"/>
            <a:ext cx="9316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.164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707 (SDH), G.709 (OTN), G.722 (7 kHz), G.728 (16 kbit/s), G.729 (8 kbit/s), G.99x (xDSL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248 (gateway), H.323 (multimedia systems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.365 (FR), I.432 (B-ISDN), I.732 (ATM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112 (Cable TV), J.16x + J.17x (IPCablecom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3120 (CORBA for TMN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.933 (DSS1), Q.1300 (TASC), Q.1930 (BICC), Q.27xx (B-ISDN), Q.29xx (DSS2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.37, T.38 (IPfax), T.12x (multimedia conference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.29 (9.6 K modem), V.34 (34 kbit/s), V.90/V.92 (56 kbit/s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.25, X.75, X.76 (FR), X.85 (IP over SDH), X.86 (Ethernet over LAPS), X.121, X.4xx (MHS), X.5xx (Directory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ularly X.509, X.68x/X.69x (ASN.1), X.8xx (security), X.9xx (ODP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series: dedicated to IP and G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.100 (SDL), Z.14x (TTCN),  Z.3xx (MM languages)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EAB-F800-4B77-B0C1-39922E5997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55800" y="1422360"/>
            <a:ext cx="8793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fied IMT-2000 systems and its spectru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rworking functions to be used with exist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 evolving IMT-2000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vergence of fixed and existing IMT-2000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w Generation of mobile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17800" y="6380280"/>
            <a:ext cx="52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’s mobile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32B-10FC-4DAC-B734-151F375E4D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24160" y="1133640"/>
            <a:ext cx="730404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ality of Service (Qo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umbering and rou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riffs and Accounting r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87760" y="6365880"/>
            <a:ext cx="55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uring global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2C3-99B9-4A57-9342-BE350BF0CD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50804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089000" y="1127160"/>
          <a:ext cx="7981920" cy="3502080"/>
        </p:xfrm>
        <a:graphic>
          <a:graphicData uri="http://schemas.openxmlformats.org/drawingml/2006/table">
            <a:tbl>
              <a:tblPr/>
              <a:tblGrid>
                <a:gridCol w="1741680"/>
                <a:gridCol w="1073160"/>
                <a:gridCol w="1161720"/>
                <a:gridCol w="1422720"/>
                <a:gridCol w="1188720"/>
                <a:gridCol w="139392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1/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/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/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minist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+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+ 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ssoci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+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+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4270320" y="1541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4680" y="5105520"/>
            <a:ext cx="80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Others: such as ISO, IEC, ISOC/IETF, INTELSAT, INMARSAT, EUTELSAT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TSI, CEPT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44600" y="6372360"/>
            <a:ext cx="27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34B-A656-47AC-8977-6CFD6EAD4C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790560" y="770040"/>
          <a:ext cx="8985240" cy="5060880"/>
        </p:xfrm>
        <a:graphic>
          <a:graphicData uri="http://schemas.openxmlformats.org/drawingml/2006/table">
            <a:tbl>
              <a:tblPr/>
              <a:tblGrid>
                <a:gridCol w="2895480"/>
                <a:gridCol w="3046680"/>
                <a:gridCol w="3043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dministration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96/220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7/178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O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7/187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.S.A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T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ucen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6+58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hin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ricss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7+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803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erman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eme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36+17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905120"/>
                          <a:tab algn="l" pos="2438280"/>
                          <a:tab algn="l" pos="3251160"/>
                          <a:tab algn="l" pos="4064040"/>
                          <a:tab algn="l" pos="4876920"/>
                          <a:tab algn="l" pos="5689440"/>
                          <a:tab algn="l" pos="6502320"/>
                          <a:tab algn="l" pos="7315200"/>
                          <a:tab algn="l" pos="8128080"/>
                          <a:tab algn="l" pos="8940960"/>
                          <a:tab algn="l" pos="9753480"/>
                          <a:tab algn="l" pos="105663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ance                        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rte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91+51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uss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lcate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5+23+40+18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.K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DD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SEL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nad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com Ital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EC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apa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wisscom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ki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d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ujitsu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krai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no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cordi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tal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oyal KP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otorol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27+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yr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KI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ore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006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kom Austria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RI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:     1466 (6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:       1188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71680"/>
                          <a:tab algn="l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:  1126 (6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525456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00240" y="6342120"/>
            <a:ext cx="64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p Members participation (07/98-08/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85760" y="5859360"/>
            <a:ext cx="808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ote – Cisco: 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251-96B6-47F3-B13D-A6C19C9F50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777600" y="587520"/>
            <a:ext cx="9123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work is shared by Governments and Industry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ervice providers and telecom equipment vend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al Industry Memberships in ITU S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 out of 14 Study Group Chairmen (including TSAG) appoi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from Sector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c telecom members (to attract new IT Me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’s Informal Consultation meeting (with Indust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n as “Martigny meetings”, twice: Feb. 2000 and Feb.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point of ITU Reform: Industry Members’ rights and du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artnersh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91720" y="6332400"/>
            <a:ext cx="38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y Members’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A3D-9789-4D9A-894A-380B9CB1A7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6840" y="6361200"/>
            <a:ext cx="331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 of the I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84080" y="1773360"/>
          <a:ext cx="915048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773360"/>
                    <a:ext cx="91504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9AD-96DE-4A47-9BC4-45729BDC21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5320" y="9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27000" y="584280"/>
          <a:ext cx="8798040" cy="5406840"/>
        </p:xfrm>
        <a:graphic>
          <a:graphicData uri="http://schemas.openxmlformats.org/drawingml/2006/table">
            <a:tbl>
              <a:tblPr/>
              <a:tblGrid>
                <a:gridCol w="1109880"/>
                <a:gridCol w="1108080"/>
                <a:gridCol w="2054160"/>
                <a:gridCol w="2886120"/>
                <a:gridCol w="1639800"/>
              </a:tblGrid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ud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embership fe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nnual fe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US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25,000,000 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0,000,000 SF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TU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nimum mandatory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ther op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½ unit (31,500 SF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0,275,000  $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21,909,000 Eur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 according to 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5 units (5,000 Euros/un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11,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T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pending on 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50 $/500 $  per meeting per person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 meetings per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50/1500 x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,20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C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 42,000 / $ 18, 000 / $ 10,00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tandards 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18,300,000 $)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9,305,000 SFr</a:t>
                      </a:r>
                      <a:br>
                        <a:rPr sz="12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hrough national me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hared by national members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five big members pay 9% of the budge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individual company up to 50,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11,900,000 $)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,000,000 SF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4,456,200 Euros)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,00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hared by 6 S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verag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0,000/S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,84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GP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hared by 5 S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60,000/S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3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,000 $ / 5,000 $, standards 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,870,000 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datory + meeting f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 14,000/5,000/3,500/1,500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 250/275 per meeting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 meetings/year, standards 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9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,000+1,000/1,100 x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2830320" y="6156360"/>
            <a:ext cx="50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’s dues to SDO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TU-T Associates = US $ 6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89360" y="5943600"/>
            <a:ext cx="83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ome SDOs receive secretariat support from their members; such expenditures are not counted in the budge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EAE-0B45-4526-A68E-D1D450C1F4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569960" y="2552760"/>
            <a:ext cx="198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50880" y="1233360"/>
            <a:ext cx="160668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22720" y="1762200"/>
            <a:ext cx="198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0560" y="623880"/>
            <a:ext cx="3348000" cy="1306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nter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(ITU-T and ITU-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67800" y="3398760"/>
            <a:ext cx="198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71680" y="5261040"/>
            <a:ext cx="198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05000" y="5938920"/>
            <a:ext cx="1983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70840" y="720720"/>
            <a:ext cx="2674800" cy="1077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232760" y="871560"/>
            <a:ext cx="2693880" cy="8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Times New Roman"/>
              </a:rPr>
              <a:t>NGOs</a:t>
            </a:r>
            <a:br>
              <a:rPr sz="22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ISO, IEC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67400" y="5600880"/>
            <a:ext cx="1983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68520" y="1501920"/>
            <a:ext cx="8145360" cy="4651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25960" y="1671480"/>
            <a:ext cx="333360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Forums / Consortia / S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98640" y="2022480"/>
            <a:ext cx="6202440" cy="34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1394T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3G.I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3GP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3GPP2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I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M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MI-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OE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OW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RIB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ATM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BINTER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Bluetooth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able Modem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BO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D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ommerceNet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ommerceNet J Committee T1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O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PR 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CTFJ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H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IS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OP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DSL 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HO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O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CT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DIFIC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D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E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IDX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M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RTICO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TS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EW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CI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CIA-J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IP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R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S-VDSL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FS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GSM Assoc.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N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ome AP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omePN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HRFW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DB Fo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EE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ET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FI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FS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MT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MW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Pv6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rD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TS Americ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ITS UK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AV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CTE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ECAL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EDI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EM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ICSA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IM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JM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LONMARK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CP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DG.or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IT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MC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obile We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OP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PLS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S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MW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ASI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D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M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OSG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CC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CISI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CMC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HS MoU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ICM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KI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PO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alutation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C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CTE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DL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DR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SIP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ST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INA-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M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OG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S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TA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TT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UMTS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USB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UWC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3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AP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D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eb 3D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fMC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IN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WLIF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  <a:ea typeface="Times New Roman"/>
              </a:rPr>
              <a:t>XTP Forum</a:t>
            </a:r>
            <a:r>
              <a:rPr b="0" lang="en-US" sz="1100" spc="-1" strike="noStrike">
                <a:solidFill>
                  <a:srgbClr val="000099"/>
                </a:solidFill>
                <a:latin typeface="Ottaw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87720" y="6364440"/>
            <a:ext cx="30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 pos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92640" y="5450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6640" y="12700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CC5-1130-4C6A-A39A-37D92DF9F9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74640" y="622440"/>
            <a:ext cx="939960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O, IEC, ISO/IEC JTC 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peration since the 1970s; common texts since 19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TSA-2000 Resolution 7, Recommendation A.2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t President Cooperation Group (JPCG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orld Standar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operation (WS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ET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-T Member since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 PSO, July 1999; provide secretarial support to PSO, since 08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int management team meetings in 11/99 and 08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S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-T Member since early 1990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 cooperation in Jun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O, IEC, UN/E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 on e-business in March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SC (Global Standards Collaboration): Since March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TA, TTC, ARIB, ETSI, T1, TIA, TSACC, ACIF, I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84680" y="6359400"/>
            <a:ext cx="49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coordination with S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2EE-25E3-43D7-8A07-4601F11752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117880" y="6148440"/>
            <a:ext cx="6518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 Resolutions and ITU-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 conc.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23760" y="717480"/>
            <a:ext cx="857628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 Resolution 101 (Minneapolis, 199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Protocol (IP)-based network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 Resolution 102 (Minneapolis, 199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of Internet domain names and address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-T Recommendation A.5 (01/9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ic procedures for including references to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ther organizations in ITU-T Recommendation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ex A: Information specific to ISOC/IETF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 Council-99 endorsed two actions (C99/5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Participation by ITU-T in ICANN P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ITU Management of the .INT top level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3FC-25BB-44A5-8E7E-04B3CC8DBA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82320" y="6334200"/>
            <a:ext cx="45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peration with IETF/IA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7200" y="988920"/>
            <a:ext cx="9231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ood cooperation between ITU-T and IETF started in 1997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good results for T.37, T.38, H.248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U-T becomes one of the founding members for P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   MoU signed in Oslo, 14 July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   take over the secretariat support for PSO since August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y presentation at the IETF-45 Plenary warmly welcom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oint meeting of ITU-T SG Chairs and IETF Area Directo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meeting: Washington, D.C., 7 November '99 (30 particip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meeting: London, 5 August 2001 (30 particip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oint meeting with IAB, London, 5 August (20 particip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66B-8F9A-4DAC-A62C-B62641FED5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27200" y="882720"/>
            <a:ext cx="9381960" cy="48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TF protocol defined in RFC 29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164 number can be used to look up a Unifo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 Identifier (U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eb addresses most commonly known U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ws using E.164 number in context of combined PSTN &amp; I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 (email, fax, SIP address, coordinates, oth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44 1206 762335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5.3.3.2.6.7.6.0.2.1.4.4.e164.T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12640" y="6342120"/>
            <a:ext cx="27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EN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445-77F8-48FC-B10B-FF0373C0C4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784080" y="1273320"/>
            <a:ext cx="88282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fine and implement administrative procedures tha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ordinate delegations of E.164 numbering resourc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o the agreed DNS name serv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rector of TSB, on behalf of Administrations, t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rol the implementation of ENUM und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164.arpa on a trial basis, while the registering 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ne by RIPE NC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84520" y="6188040"/>
            <a:ext cx="53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Responsibilities regarding E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344-1D48-4FB7-8FF3-05DB1F028A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57400" y="835200"/>
            <a:ext cx="8136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04920" y="1077840"/>
            <a:ext cx="79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6080" y="1054080"/>
            <a:ext cx="854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32000" y="719280"/>
            <a:ext cx="80769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esident of ICANN call for reform in February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SB Director conducted informal consultation with ITU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mbers in March/Apr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SB Director presents a paper to ICANN on its reform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ffering to assist ICANN in certain 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U Council-2002 unanimously supported TSB Director’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ny contacts between ITU-T and the outside partn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P-02 Resolution 1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56080" y="6380280"/>
            <a:ext cx="38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ANN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289-ABC5-417F-A738-3789598044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749160" y="722160"/>
            <a:ext cx="9315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Rec. A. 4: communication with forums and consort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Rec. A. 5: referencing documents of other organiz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ITU-T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U-T Rec. A. 6: cooperation and exchange of inform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S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tation to the Informal Forum Summit by the Director of TS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ecember 3-4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69240" y="6153120"/>
            <a:ext cx="40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Coopera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ums / consortia / S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502-00FA-4E50-8D6E-C2C4D875E8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993600" y="184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811080" y="588960"/>
          <a:ext cx="9037800" cy="5543640"/>
        </p:xfrm>
        <a:graphic>
          <a:graphicData uri="http://schemas.openxmlformats.org/drawingml/2006/table">
            <a:tbl>
              <a:tblPr/>
              <a:tblGrid>
                <a:gridCol w="2924280"/>
                <a:gridCol w="3949560"/>
                <a:gridCol w="21639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.4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.5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1c39f"/>
                        </a:gs>
                        <a:gs pos="100000">
                          <a:srgbClr val="ffefd1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.6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1c39f"/>
                        </a:gs>
                        <a:gs pos="100000">
                          <a:srgbClr val="ffefd1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SN.1 Consort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RIB (Association of Radio Industries and Business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R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M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TM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mmittee T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SL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mmittee T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W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IS (e-and telecommunication info. servi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WTS (China Wireless Telecommunication Standard Grou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C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F (Frame Relay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SL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MTC (Multimed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CMA Standardizing Information &amp; Communication Sys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PDR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TSI (European Telecommunications Standards Institu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CT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Pv6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PLS (Multi Protocol Label Switching)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EEE (Institute of Electrical and  Electronics Engine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SF (Multiservice Switching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SOC/IETF (Internet Society/Internet Engineering Task For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CTEA (Japan Cable Television Engineering Associ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IF (Optical Internetworking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PLS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MG (Object Management Grou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IST (National Institute of Standards and Technolog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DL Forum Socie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M Forum (Tele Management For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3C (World Wide Web Consortiu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M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TE (Society of Cable Telecommunications Engine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A (Telecommunications Industry Associ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M For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A (Telecommunications Technology Associ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TC (Telecommunication Technology Committe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W3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3269520" y="6173640"/>
            <a:ext cx="421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s for Rec. A.4, A.5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A.6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5B2-1493-4C26-B8AA-04328F73EB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66720" y="260280"/>
            <a:ext cx="936144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ly financed by Govern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ork dominated by industr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ocedures very efficient, no longer slow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ek effective cooperation with SDOs to share the wor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hould be open to emerging technolog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hould be open to researchers / stud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y to keep its pre-eminent stat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9200" y="6351480"/>
            <a:ext cx="52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tion of ITU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725-EAB5-48C2-A7D1-059BFFC29E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92280" y="944640"/>
            <a:ext cx="9199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me forums become A.4 members of ITU-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S-VDSL Forum has become a Focus Group of ITU-T SG 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nother Forum is considering to become a Focus Group of ITU-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ome page connections for ITU-T and Forums/Consort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U-T SG 16 management member be included in the Fo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ew approache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 COOPERATE and WORK TOGETH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17440" y="6184800"/>
            <a:ext cx="47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relationships betwe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ums/Consortia and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2BD-1EF1-412D-AB34-96142F7CE53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936720"/>
            <a:ext cx="906156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73040"/>
                <a:tab algn="l" pos="66996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nsensus: after WTSA-2000, the ITU-T procedures are now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very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treamlined and efficient so that any perception of slowness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an no longer be attributed to the ITU-T methods…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73040"/>
                <a:tab algn="l" pos="66996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ully recognized that Sector Members have a significant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leadership role in the ITU-T technical standardization activities…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73040"/>
                <a:tab algn="l" pos="66996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U-T is and should remain the unique worldwide venue for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ndustry and governments to work together in developing,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viding and promoting global consensus-based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elecommunication requirements and standards for the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nformation Society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73040"/>
                <a:tab algn="l" pos="66996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Welcome you in ITU-T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473040"/>
                <a:tab algn="l" pos="669960"/>
                <a:tab algn="l" pos="9586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*********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63760" y="615960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y Views on ITU-T  Martigny, February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37E-2C48-4A50-9508-3D5ED5AF715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0" y="6338880"/>
            <a:ext cx="304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ITT and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800" y="719280"/>
            <a:ext cx="932616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38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CCIT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(International Telegraph and Telephone Consultative Committee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56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st Plenary Assembly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6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nd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d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3rd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lue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68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hite Book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5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reen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6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Orange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Yellow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84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8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d Books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88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9th Plenary Assembly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lue Book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ITU-T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(International Telecommunication Union - Telecom. Standardization Sector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93  1st World Telecommunication Standardization Conference (WTSC-93),  Helsink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996  2nd World Telecommunication Standardization Conference (WTSC-96), Gene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00  3rd World Telecommunication Standardization Assembly (WTSA-2000), Montre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7E4-3278-4949-AB25-C7F68D2A8E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59840" y="6361200"/>
            <a:ext cx="314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s of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58760" y="849240"/>
            <a:ext cx="86461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"The functions of the Telecommunication Standardization S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all be, bearing in mind the particular concerns of the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untries, to fulfill the purposes of the Union relating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lecommunication standardization, as stated in Article 1 of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stitution, by studying technical, operating and tariff Ques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adopting Recommendations on them with a view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ardizing telecommunications on a worldwide basi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D98-6217-4D27-8617-A6504FDE6B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80200" y="6326280"/>
            <a:ext cx="548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zational Structure of ITU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97120" y="754200"/>
          <a:ext cx="5691240" cy="52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754200"/>
                    <a:ext cx="569124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53920" y="4138560"/>
            <a:ext cx="31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shop / fo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i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2F4-4F43-4AA0-A270-FDF8AD0CD9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37880" y="6362640"/>
            <a:ext cx="520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Study Groups and TSA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7040" y="693720"/>
            <a:ext cx="914148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2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al aspects of service provision, network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riff and accounting principles including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communications economic and polic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4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communication management, including T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5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ion against electromagnetic environment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6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side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9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ed broadband cable networks and television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nd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1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lling requirements an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F1C-2510-4336-B34A-D23F3204A1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9f3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61640" y="6354720"/>
            <a:ext cx="510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Study Groups and TS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480" y="189000"/>
            <a:ext cx="90630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2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-to-end transmission performance of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-protocol and IP-based networks and the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5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tical and other transport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6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media services, systems and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7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networks and telecommunication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SG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T-2000 and Bey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SAG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communication Standardization Advisor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5040" y="5627520"/>
            <a:ext cx="6028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iorities: IP, Mobility, next generation, security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F1E-8E37-48A1-A984-2D8413D86E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9T07:59:50Z</dcterms:created>
  <dc:creator>Saba Imru-Caminiti</dc:creator>
  <dc:description/>
  <dc:language>en-US</dc:language>
  <cp:lastModifiedBy>choutko</cp:lastModifiedBy>
  <cp:lastPrinted>1999-10-20T14:57:16Z</cp:lastPrinted>
  <dcterms:modified xsi:type="dcterms:W3CDTF">2002-11-25T13:46:18Z</dcterms:modified>
  <cp:revision>205</cp:revision>
  <dc:subject/>
  <dc:title>New presentation template</dc:title>
</cp:coreProperties>
</file>