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28440" y="4406760"/>
            <a:ext cx="513540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8440" y="4406760"/>
            <a:ext cx="513540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 of slide:  Introduce the founding principals which lead to the creation of cdma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cdma2000 was to advance IS-95 based on the requirements defined under the IMT-2000 requirements of ITU.  The basic requirements were to provide high speed data services for Indoor, Indoor to Outdoor/Pedestrian, and Vehicular 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IS-95 is a FDD based technologies, technical proposals were also introduced which defined TDD modes of operation as well.  These were adopted by WG-IV of TR45.5 and included in the cdma2000 RTT proposal to ITU-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dma2000 RTT proposal, as defined, meets the IMT-2000 requirements while maintaining backward compatibility to what the industry terms “cdmaOne”, which is a complete family of stand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existing services such as - speech coders, packet data, circuit data, fax, SMS, OTA, were identified as capabilities already available with the IS-95 family of standards and were included in the requirements for cdma2000 to be evolved and inclusive in the 3rd generation of cdma2000 capabili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380880"/>
            <a:ext cx="6172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329040"/>
            <a:ext cx="61722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3160" y="6432480"/>
            <a:ext cx="295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U-T Workshop on Security, Seoul (Korea) 13-14 May,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297480"/>
            <a:ext cx="8766360" cy="27000"/>
          </a:xfrm>
          <a:prstGeom prst="rect">
            <a:avLst/>
          </a:prstGeom>
          <a:gradFill rotWithShape="0">
            <a:gsLst>
              <a:gs pos="0">
                <a:srgbClr val="5315ce"/>
              </a:gs>
              <a:gs pos="50000">
                <a:srgbClr val="a889e5"/>
              </a:gs>
              <a:gs pos="100000">
                <a:srgbClr val="5315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9400" y="1039680"/>
            <a:ext cx="8766000" cy="27000"/>
          </a:xfrm>
          <a:prstGeom prst="rect">
            <a:avLst/>
          </a:prstGeom>
          <a:gradFill rotWithShape="0">
            <a:gsLst>
              <a:gs pos="0">
                <a:srgbClr val="5315ce"/>
              </a:gs>
              <a:gs pos="50000">
                <a:srgbClr val="a889e5"/>
              </a:gs>
              <a:gs pos="100000">
                <a:srgbClr val="5315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3GPP2%20logo%20v2" descr=""/>
          <p:cNvPicPr/>
          <p:nvPr/>
        </p:nvPicPr>
        <p:blipFill>
          <a:blip r:embed="rId2"/>
          <a:stretch/>
        </p:blipFill>
        <p:spPr>
          <a:xfrm>
            <a:off x="0" y="169920"/>
            <a:ext cx="2230560" cy="695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99880" y="645804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4D11-D855-452A-AD5A-08507EA0161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3gpp2.org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1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8320" y="1852560"/>
            <a:ext cx="588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Security in cdma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1360" y="4027320"/>
            <a:ext cx="5386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nk Qui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COMM, Incorpo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, 3GPP2 TSG-S WG4 (Security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cdma2000 Overview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-2000/C.S0001-0005 through revision B (alias 1x, 3x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ed operation on 1 or 3 1.25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voice and data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-856/C.S0024 (alias HDR, HRPD, 1xEV-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2.4 Mb/s burst data rate on a 1.25 MHz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terne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u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2000-C and later: improved data and voice (EV-D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H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2000/C.S0001-0005 (1x-3x)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irect sequence sp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5 MHz bandwidth per physical channel, 1 or 3 chann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Forward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hogonal modulation using 64 or 128 Walsh codes (depending on rate set in u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verse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lot-aided coherent modulation, spreading sequence offset channel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eneral voice and data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307 kb/s (1x), 1.04 Mb/s (3x) per supplemental data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TN and Internet servic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-41 MAP for mobility management and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1x-3x Network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46400" y="56196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Hom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46640" y="561960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Visite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17960" y="3282840"/>
            <a:ext cx="1218960" cy="83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495680"/>
            <a:ext cx="1219320" cy="83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327672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TN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373392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2286000"/>
            <a:ext cx="228600" cy="5335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96080" y="20570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2133720"/>
            <a:ext cx="1218960" cy="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0480" y="4713120"/>
            <a:ext cx="1678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Security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Ke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37240" y="3352680"/>
            <a:ext cx="1792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Subscription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Authorization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Location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55680" y="3211560"/>
            <a:ext cx="18752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Local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Mobilit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205740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io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360" y="335268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1840" y="1004760"/>
            <a:ext cx="45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imes New Roman"/>
              </a:rPr>
              <a:t>(voice and other circuit-switch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00600" y="3733560"/>
            <a:ext cx="0" cy="1143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8954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Future All-IP Network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ot just a replacement for SS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nternet-based network signaling, likely inclu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P for location registration and data deli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 servers may replace HL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P for call/session establish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security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New security challe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is directly exposed to Internet atta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security in one operator’s system may jeopardize the entir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SG-S WG4 is establishing security requirements for the all-IP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856/C.S0024 (1xEV-DO)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-2000 Compatible RF parameters and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pla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-mode 1x/1xEV-DO terminals supp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igh-performance data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MA/TDMA hybrid with demand ass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2.4576 Mb/s FL burst rate, 153.6 kb/s 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etwork: direct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P for mobility with fixed IP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IP” for mobility with locally assigned IP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/Radius security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1xEV-DO Network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46400" y="56196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Hom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6640" y="561960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Visite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57200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304812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A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457200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DSN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eign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3200400"/>
            <a:ext cx="228600" cy="5335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29714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3124080"/>
            <a:ext cx="609480" cy="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6800" y="2895480"/>
            <a:ext cx="16786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Subscrip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Authoriz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Security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Ke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4080" y="464184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Location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55680" y="4506840"/>
            <a:ext cx="18752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PDSN access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Mobilit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304812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io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2057400"/>
            <a:ext cx="0" cy="2895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4960" y="167652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4290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95288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600200"/>
            <a:ext cx="1219320" cy="838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"/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-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8960" y="1600200"/>
            <a:ext cx="17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AN access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72400" y="3276720"/>
            <a:ext cx="53352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3352680"/>
            <a:ext cx="380880" cy="22860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696080" y="3657600"/>
            <a:ext cx="7632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05920" y="3657600"/>
            <a:ext cx="7596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373392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3581280"/>
            <a:ext cx="609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02560" y="374508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120" y="373392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DA, laptop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886200"/>
            <a:ext cx="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Security Elements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ccess Control (bilat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Ke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ata and identit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ovis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Access Control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otection of System Resources against Unauthorized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ermin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 fraudulent use of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of of subscription 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of of sender identity and message inte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Network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 false base station attacks on user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uth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is a pre-requisite for Author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Access Rights based on Subscription data are passed from home system (HLR or AAA) to serv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Key Management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-2000/C.S0001-000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symmetric keys for all secu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authentication key forms the base security assoc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keys are derived from the root key during authent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-856/C.S002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public-key agreement to establish airlink session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ymmetric keys for Radius authent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Authentication Methods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where each message includes identification and proof of ident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is required on random-access cha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 long-term security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nnectio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where identity is proven once, and all subsequent data includes proof that it comes from the same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where a connection is established, including a session-related security asso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0400" y="1719360"/>
            <a:ext cx="781380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???"/>
              </a:rPr>
              <a:t>The 3GPP2 organization (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???"/>
                <a:hlinkClick r:id="rId1"/>
              </a:rPr>
              <a:t>www.3gpp2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???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???"/>
              </a:rPr>
              <a:t>The cdma2000 family of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???"/>
              </a:rPr>
              <a:t>Wireles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???"/>
              </a:rPr>
              <a:t>Security Architectures in cdma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2000 Authentication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hallenge-Respons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 B and earli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cy authentication based on IS-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 C and la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A (same as UMTS authentication), pl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 UIM authentication procedure to prove presence of a valid UIM, preventing rogue shell atta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essage Integrity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SHA-1-based hash of message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sync based on time and other data to prevent replay atta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2000-C Authentication (AKA)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1752480"/>
            <a:ext cx="0" cy="2590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1828800"/>
            <a:ext cx="0" cy="2514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828800"/>
            <a:ext cx="0" cy="388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15520" y="138276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21760" y="138276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e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00000" y="138276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2057400"/>
            <a:ext cx="266724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2209680"/>
            <a:ext cx="2438280" cy="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419360" y="2666880"/>
            <a:ext cx="2438280" cy="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752120" y="2895480"/>
            <a:ext cx="2667240" cy="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67920" y="17636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4876920"/>
            <a:ext cx="2667240" cy="0"/>
          </a:xfrm>
          <a:prstGeom prst="line">
            <a:avLst/>
          </a:prstGeom>
          <a:ln w="3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352680"/>
            <a:ext cx="2667240" cy="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3505320"/>
            <a:ext cx="243828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1916280"/>
            <a:ext cx="23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Authentication vector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19440" y="237348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AV(challenge, response, B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99720" y="2590920"/>
            <a:ext cx="22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Challenge, BS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38360" y="30592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58480" y="321156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71920" y="266688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authentication, CK, IK, U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2880" y="2133720"/>
            <a:ext cx="208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 response, CK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K, UAK using root key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440" y="2819520"/>
            <a:ext cx="155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 respons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K, IK, UA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root key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49360" y="45831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Access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4320" y="48117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(MAC using IK or U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360" y="3886200"/>
            <a:ext cx="243828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752120" y="4038480"/>
            <a:ext cx="266724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79000" y="359244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egistration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29760" y="373392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egistration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648320"/>
            <a:ext cx="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648320"/>
            <a:ext cx="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43434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3434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856 Authentication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connection establishment is neither authenticated nor encryp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 establishment includes Diffie-Hellman key negot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RAN-domain messages can be authenticated and/or encrypted using the negotiated ke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P/LCP setup follows session establish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 user identity is optionally authenticated by CHA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a the RAN-AA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ntegrity protection (encryption, keyed MAC) prevents packet insertion or similar theft of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DS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PPP/LCP instance cr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 and/or MIP authentication of PDSN user identity via the home AAA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 security ensures integrity of the PPP conn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856 Authentication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1828800"/>
            <a:ext cx="0" cy="388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6840" y="13716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3320" y="1219320"/>
            <a:ext cx="1203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ed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AN/PD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78400" y="138276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 RAN (via PD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3800" y="2046240"/>
            <a:ext cx="266688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93800" y="2122560"/>
            <a:ext cx="2666880" cy="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96920" y="175248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RAN session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5440" y="212256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(Diffie-Hellman key agree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793440" y="2883960"/>
            <a:ext cx="4616280" cy="1116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93800" y="2984040"/>
            <a:ext cx="4616280" cy="180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3280" y="2579760"/>
            <a:ext cx="24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(optional) CHAP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93800" y="3720600"/>
            <a:ext cx="2658960" cy="180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93440" y="3798360"/>
            <a:ext cx="2647800" cy="1116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18440" y="3417840"/>
            <a:ext cx="22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PDSN session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93800" y="4329000"/>
            <a:ext cx="6826320" cy="324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3800" y="4408560"/>
            <a:ext cx="6826320" cy="11160"/>
          </a:xfrm>
          <a:prstGeom prst="line">
            <a:avLst/>
          </a:prstGeom>
          <a:ln w="3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61200" y="403848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CHAP or MIP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3800" y="1741320"/>
            <a:ext cx="0" cy="3124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60680" y="1817640"/>
            <a:ext cx="0" cy="304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3800" y="5170320"/>
            <a:ext cx="0" cy="457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60680" y="5170320"/>
            <a:ext cx="0" cy="457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3800" y="4865760"/>
            <a:ext cx="0" cy="30456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60680" y="4865760"/>
            <a:ext cx="0" cy="30456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3800" y="5398920"/>
            <a:ext cx="2666880" cy="0"/>
          </a:xfrm>
          <a:prstGeom prst="line">
            <a:avLst/>
          </a:prstGeom>
          <a:ln w="3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60520" y="50943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Access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88360" y="5322960"/>
            <a:ext cx="180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Times New Roman"/>
              </a:rPr>
              <a:t>(MAC using D-H ke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0120" y="1828800"/>
            <a:ext cx="0" cy="388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4960" y="138276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e ISP (via PD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2000 Privacy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dentity privac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ry mobile station identifier (TMSI) is assigned by the serv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ser data priva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2000-B and later use 128-bit Rijndael algorithm (A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cipher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yptosync based on time and other data to prevent replay atta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-2000 encryption ke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-bit keys from legacy authent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-bit keys from A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S-856 Privacy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dentity priva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encryption is available, user identities are sent only after encryption is inv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ser data priva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-the-air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s against packet insertion, session hijacking, and data eavesdropping within the wireless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address the greater Internet privacy risks once the data leaves the wireless net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security protocols (IPsec, SSL, etc.) are necessary for end-to-end secu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Provisioning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stallation of subscription data in the mobile and net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key security requires at least one key provis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rovisioning is a major operational conc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mpact on customer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solutions will vary depending on business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Provisioning Methods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anufacturer provis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 are installed by the manufacturer, and securely communicated to the operator’s AC or AA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anual provis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r service representative enters the key via a keypad or provisioning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Over-the-air Service Provisioning (OTA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rovisioned devices are hotlined to special service numbers/URLs; secure protocols are used to install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emovable U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GSM SIM; keys are in a removable “token” provided separately from the terminal and installed by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71240" y="1066680"/>
            <a:ext cx="476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99"/>
                </a:solidFill>
                <a:latin typeface="Times New Roman"/>
              </a:rPr>
              <a:t>(In approximate order of prevalence in cdma2000 deploy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In Conclusion: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ma2000 standards support a full set of security featur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priva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volution to all-IP networks poses new security challe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system security is only as good as the operators mak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2743200"/>
            <a:ext cx="6248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2743200"/>
            <a:ext cx="0" cy="773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743200"/>
            <a:ext cx="144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74320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japanf" descr=""/>
          <p:cNvPicPr/>
          <p:nvPr/>
        </p:nvPicPr>
        <p:blipFill>
          <a:blip r:embed="rId1"/>
          <a:stretch/>
        </p:blipFill>
        <p:spPr>
          <a:xfrm>
            <a:off x="1960560" y="4043520"/>
            <a:ext cx="1143000" cy="73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rcf" descr=""/>
          <p:cNvPicPr/>
          <p:nvPr/>
        </p:nvPicPr>
        <p:blipFill>
          <a:blip r:embed="rId2"/>
          <a:stretch/>
        </p:blipFill>
        <p:spPr>
          <a:xfrm>
            <a:off x="284040" y="4043520"/>
            <a:ext cx="1143000" cy="758520"/>
          </a:xfrm>
          <a:prstGeom prst="rect">
            <a:avLst/>
          </a:prstGeom>
          <a:ln w="0">
            <a:noFill/>
          </a:ln>
        </p:spPr>
      </p:pic>
      <p:pic>
        <p:nvPicPr>
          <p:cNvPr id="57" name="usaf" descr=""/>
          <p:cNvPicPr/>
          <p:nvPr/>
        </p:nvPicPr>
        <p:blipFill>
          <a:blip r:embed="rId3"/>
          <a:stretch/>
        </p:blipFill>
        <p:spPr>
          <a:xfrm>
            <a:off x="5181480" y="4038480"/>
            <a:ext cx="1143000" cy="708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600" y="1981080"/>
            <a:ext cx="0" cy="773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GPP2%20logo%20v2" descr=""/>
          <p:cNvPicPr/>
          <p:nvPr/>
        </p:nvPicPr>
        <p:blipFill>
          <a:blip r:embed="rId4"/>
          <a:stretch/>
        </p:blipFill>
        <p:spPr>
          <a:xfrm>
            <a:off x="3733920" y="1447920"/>
            <a:ext cx="2743200" cy="853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3GPP2 Membership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029200"/>
            <a:ext cx="8458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ociation of Radio Industries and Business (Jap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W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 Wireless Telecommunication Standard Group (Chi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s Industry Association (NAFTA countries: USA, Canada, Mex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s Technology Association (Ko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 Technology Committee (Jap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anadaf" descr=""/>
          <p:cNvPicPr/>
          <p:nvPr/>
        </p:nvPicPr>
        <p:blipFill>
          <a:blip r:embed="rId5"/>
          <a:stretch/>
        </p:blipFill>
        <p:spPr>
          <a:xfrm>
            <a:off x="6515280" y="4083120"/>
            <a:ext cx="121896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mexicof" descr=""/>
          <p:cNvPicPr/>
          <p:nvPr/>
        </p:nvPicPr>
        <p:blipFill>
          <a:blip r:embed="rId6"/>
          <a:stretch/>
        </p:blipFill>
        <p:spPr>
          <a:xfrm>
            <a:off x="7924680" y="4059360"/>
            <a:ext cx="990720" cy="66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5400000">
            <a:off x="6914520" y="2000160"/>
            <a:ext cx="190800" cy="3809880"/>
          </a:xfrm>
          <a:custGeom>
            <a:avLst/>
            <a:gdLst>
              <a:gd name="textAreaLeft" fmla="*/ 122040 w 190800"/>
              <a:gd name="textAreaRight" fmla="*/ 191160 w 1908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52720" y="3414600"/>
          <a:ext cx="771840" cy="59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2720" y="3414600"/>
                    <a:ext cx="7718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skoreaf" descr=""/>
          <p:cNvPicPr/>
          <p:nvPr/>
        </p:nvPicPr>
        <p:blipFill>
          <a:blip r:embed="rId9"/>
          <a:stretch/>
        </p:blipFill>
        <p:spPr>
          <a:xfrm>
            <a:off x="3637080" y="4043520"/>
            <a:ext cx="1144440" cy="72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68" name=""/>
          <p:cNvGraphicFramePr/>
          <p:nvPr/>
        </p:nvGraphicFramePr>
        <p:xfrm>
          <a:off x="6576840" y="3303720"/>
          <a:ext cx="990720" cy="50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76840" y="3303720"/>
                    <a:ext cx="990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28600" y="3276720"/>
          <a:ext cx="1219320" cy="6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3276720"/>
                    <a:ext cx="1219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"/>
          <p:cNvGrpSpPr/>
          <p:nvPr/>
        </p:nvGrpSpPr>
        <p:grpSpPr>
          <a:xfrm>
            <a:off x="1905120" y="3276720"/>
            <a:ext cx="1218960" cy="694800"/>
            <a:chOff x="1905120" y="3276720"/>
            <a:chExt cx="1218960" cy="694800"/>
          </a:xfrm>
        </p:grpSpPr>
        <p:graphicFrame>
          <p:nvGraphicFramePr>
            <p:cNvPr id="73" name=""/>
            <p:cNvGraphicFramePr/>
            <p:nvPr/>
          </p:nvGraphicFramePr>
          <p:xfrm>
            <a:off x="1905120" y="3630240"/>
            <a:ext cx="1218960" cy="3412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905120" y="3630240"/>
                      <a:ext cx="121896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2108160" y="3276720"/>
            <a:ext cx="830520" cy="3412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108160" y="3276720"/>
                      <a:ext cx="83052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Membership, cont’d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3880" y="1114560"/>
            <a:ext cx="7772400" cy="48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Market Representation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800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DMA Develop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800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W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800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Pv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Ob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S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C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01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T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335720" y="1141560"/>
          <a:ext cx="15620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5720" y="1141560"/>
                    <a:ext cx="15620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14880" y="5424480"/>
            <a:ext cx="2286000" cy="63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3513240" y="3666960"/>
          <a:ext cx="3429000" cy="81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13240" y="3666960"/>
                    <a:ext cx="3429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295960" y="1739880"/>
          <a:ext cx="1905120" cy="55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5960" y="1739880"/>
                    <a:ext cx="19051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Aciflogosmall" descr=""/>
          <p:cNvPicPr/>
          <p:nvPr/>
        </p:nvPicPr>
        <p:blipFill>
          <a:blip r:embed="rId8"/>
          <a:stretch/>
        </p:blipFill>
        <p:spPr>
          <a:xfrm>
            <a:off x="3575160" y="4630680"/>
            <a:ext cx="1600200" cy="1338480"/>
          </a:xfrm>
          <a:prstGeom prst="rect">
            <a:avLst/>
          </a:prstGeom>
          <a:ln w="0">
            <a:noFill/>
          </a:ln>
        </p:spPr>
      </p:pic>
      <p:pic>
        <p:nvPicPr>
          <p:cNvPr id="87" name="ipv6forum_logo3" descr=""/>
          <p:cNvPicPr/>
          <p:nvPr/>
        </p:nvPicPr>
        <p:blipFill>
          <a:blip r:embed="rId9"/>
          <a:stretch/>
        </p:blipFill>
        <p:spPr>
          <a:xfrm>
            <a:off x="6664320" y="2598840"/>
            <a:ext cx="100476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Purpose of 3GPP2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9240" y="1368360"/>
            <a:ext cx="8062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체"/>
              </a:rPr>
              <a:t>The purpose of 3GPP2 is to prepare, approve and maintain globally applicable Technical Specifications and Technical Reports for a 3rd Generation Mobile System based on the evolving ANSI-41 Core Network and the cdma2000 radio access techn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체"/>
              </a:rPr>
              <a:t>These specifications include support for 3G Networks based on both Internet Protocol and evolved ANSI-41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???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체"/>
              </a:rPr>
              <a:t>including interoperability between these networks and mobile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???"/>
              </a:rPr>
              <a:t>3GPP2 also takes into account the emerging ITU recommendations on interworking between IMT-2000 family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???"/>
              </a:rPr>
              <a:t>Serving the CDMA Community via Smooth Evolution of cdma2000 from 2G to 3G while Expanding 2.5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Process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054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GPP2 publishes technical specifications as a cooperative effort of all partne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Gs develop tech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Gs’ outputs reviewed and approved by Steering Committee per 3GPP2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artners apply national standardization processes to standardize results of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wnership and copyright of these output documents is shared between the Organizational Partn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Resulting in globally developed standards for use on a region by region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7229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3GPP2 Organizational Structure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79640" y="1158840"/>
          <a:ext cx="7129440" cy="539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58840"/>
                    <a:ext cx="712944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History</a:t>
            </a:r>
            <a:endParaRPr b="1" lang="en-US" sz="36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ior to 2001, 3GPP2 relied on the TIA’s Ad Hoc Authentication Group (AHAG) for security n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AG was formed in 1991 to handle encryption-related work in accordance with US and Canadian l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changes in export laws make international meetings on security much simp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SG-S WG4 (Security) was formed in August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4 will assume most of the work previously done by AH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AG continues as a TIA support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126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CDMA Air Interface Standards (TIA)</a:t>
            </a:r>
            <a:endParaRPr b="1" lang="en-US" sz="3200" spc="-1" strike="noStrike">
              <a:solidFill>
                <a:srgbClr val="cc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1035000"/>
            <a:ext cx="1200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endCxn id="98" idx="2"/>
          </p:cNvCxnSpPr>
          <p:nvPr/>
        </p:nvCxnSpPr>
        <p:spPr>
          <a:xfrm>
            <a:off x="1158480" y="1322280"/>
            <a:ext cx="702360" cy="457920"/>
          </a:xfrm>
          <a:prstGeom prst="bentConnector4">
            <a:avLst>
              <a:gd name="adj1" fmla="val 5538"/>
              <a:gd name="adj2" fmla="val 149960"/>
            </a:avLst>
          </a:prstGeom>
          <a:ln w="0">
            <a:noFill/>
          </a:ln>
        </p:spPr>
      </p:cxnSp>
      <p:grpSp>
        <p:nvGrpSpPr>
          <p:cNvPr id="100" name=""/>
          <p:cNvGrpSpPr/>
          <p:nvPr/>
        </p:nvGrpSpPr>
        <p:grpSpPr>
          <a:xfrm>
            <a:off x="1268280" y="1827360"/>
            <a:ext cx="1188720" cy="693720"/>
            <a:chOff x="1268280" y="1827360"/>
            <a:chExt cx="1188720" cy="693720"/>
          </a:xfrm>
        </p:grpSpPr>
        <p:sp>
          <p:nvSpPr>
            <p:cNvPr id="101" name=""/>
            <p:cNvSpPr/>
            <p:nvPr/>
          </p:nvSpPr>
          <p:spPr>
            <a:xfrm>
              <a:off x="2001600" y="1839960"/>
              <a:ext cx="455400" cy="674640"/>
            </a:xfrm>
            <a:custGeom>
              <a:avLst/>
              <a:gdLst/>
              <a:ahLst/>
              <a:rect l="l" t="t" r="r" b="b"/>
              <a:pathLst>
                <a:path w="270" h="413">
                  <a:moveTo>
                    <a:pt x="0" y="0"/>
                  </a:moveTo>
                  <a:lnTo>
                    <a:pt x="270" y="41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68280" y="1827360"/>
              <a:ext cx="501840" cy="693720"/>
            </a:xfrm>
            <a:custGeom>
              <a:avLst/>
              <a:gdLst/>
              <a:ahLst/>
              <a:rect l="l" t="t" r="r" b="b"/>
              <a:pathLst>
                <a:path w="312" h="444">
                  <a:moveTo>
                    <a:pt x="312" y="0"/>
                  </a:moveTo>
                  <a:lnTo>
                    <a:pt x="0" y="444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333440" y="1258920"/>
            <a:ext cx="1050840" cy="595440"/>
            <a:chOff x="1333440" y="1258920"/>
            <a:chExt cx="1050840" cy="595440"/>
          </a:xfrm>
        </p:grpSpPr>
        <p:sp>
          <p:nvSpPr>
            <p:cNvPr id="104" name=""/>
            <p:cNvSpPr/>
            <p:nvPr/>
          </p:nvSpPr>
          <p:spPr>
            <a:xfrm>
              <a:off x="1333440" y="1258920"/>
              <a:ext cx="1050840" cy="59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6520" y="1332000"/>
              <a:ext cx="97740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J-STD-0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SB7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452680" y="3500280"/>
            <a:ext cx="1687320" cy="934200"/>
            <a:chOff x="2452680" y="3500280"/>
            <a:chExt cx="1687320" cy="934200"/>
          </a:xfrm>
        </p:grpSpPr>
        <p:sp>
          <p:nvSpPr>
            <p:cNvPr id="107" name=""/>
            <p:cNvSpPr/>
            <p:nvPr/>
          </p:nvSpPr>
          <p:spPr>
            <a:xfrm>
              <a:off x="3616560" y="3821040"/>
              <a:ext cx="52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0760" y="3522600"/>
              <a:ext cx="1051200" cy="596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52680" y="3500280"/>
              <a:ext cx="110880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2000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CDMA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v 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1320" y="409716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July 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11600" y="3500280"/>
            <a:ext cx="2071440" cy="2801520"/>
            <a:chOff x="3711600" y="3500280"/>
            <a:chExt cx="2071440" cy="2801520"/>
          </a:xfrm>
        </p:grpSpPr>
        <p:sp>
          <p:nvSpPr>
            <p:cNvPr id="112" name=""/>
            <p:cNvSpPr/>
            <p:nvPr/>
          </p:nvSpPr>
          <p:spPr>
            <a:xfrm>
              <a:off x="5259600" y="3821040"/>
              <a:ext cx="52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29200" y="3522600"/>
              <a:ext cx="1050120" cy="596880"/>
            </a:xfrm>
            <a:prstGeom prst="rect">
              <a:avLst/>
            </a:prstGeom>
            <a:gradFill rotWithShape="0">
              <a:gsLst>
                <a:gs pos="0">
                  <a:srgbClr val="18313d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99320" y="3500280"/>
              <a:ext cx="110916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2000-A (CDMA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v 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27400" y="5124240"/>
              <a:ext cx="1053000" cy="596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4080" y="5194080"/>
              <a:ext cx="90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856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1xEV-D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8280" y="5721120"/>
              <a:ext cx="137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October 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11600" y="5422680"/>
              <a:ext cx="411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3825720"/>
              <a:ext cx="0" cy="1590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11840" y="40971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March 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80200" y="3502080"/>
            <a:ext cx="1734840" cy="1175760"/>
            <a:chOff x="7180200" y="3502080"/>
            <a:chExt cx="1734840" cy="1175760"/>
          </a:xfrm>
        </p:grpSpPr>
        <p:sp>
          <p:nvSpPr>
            <p:cNvPr id="122" name=""/>
            <p:cNvSpPr/>
            <p:nvPr/>
          </p:nvSpPr>
          <p:spPr>
            <a:xfrm>
              <a:off x="7924680" y="3821040"/>
              <a:ext cx="99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22480" y="3522600"/>
              <a:ext cx="1049400" cy="5965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8ea5b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94400" y="3502080"/>
              <a:ext cx="1107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IS-2000-C (CDMA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Rev 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80200" y="4097160"/>
              <a:ext cx="154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(Summer 200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566320" y="3500280"/>
            <a:ext cx="1857960" cy="934200"/>
            <a:chOff x="5566320" y="3500280"/>
            <a:chExt cx="1857960" cy="934200"/>
          </a:xfrm>
        </p:grpSpPr>
        <p:sp>
          <p:nvSpPr>
            <p:cNvPr id="127" name=""/>
            <p:cNvSpPr/>
            <p:nvPr/>
          </p:nvSpPr>
          <p:spPr>
            <a:xfrm>
              <a:off x="6901200" y="3821040"/>
              <a:ext cx="523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75480" y="3522600"/>
              <a:ext cx="1049400" cy="5968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8ea5b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31920" y="3500280"/>
              <a:ext cx="1107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IS-2000-B (CDMA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Rev 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6320" y="409716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(Spring 200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970000" y="2695680"/>
            <a:ext cx="14040" cy="785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8080" y="1751040"/>
            <a:ext cx="3569400" cy="1073160"/>
            <a:chOff x="208080" y="1751040"/>
            <a:chExt cx="3569400" cy="1073160"/>
          </a:xfrm>
        </p:grpSpPr>
        <p:sp>
          <p:nvSpPr>
            <p:cNvPr id="133" name=""/>
            <p:cNvSpPr/>
            <p:nvPr/>
          </p:nvSpPr>
          <p:spPr>
            <a:xfrm>
              <a:off x="1260360" y="2525760"/>
              <a:ext cx="12006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8080" y="2227320"/>
              <a:ext cx="1052280" cy="596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520" y="2376360"/>
              <a:ext cx="8996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95-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70680" y="2227320"/>
              <a:ext cx="1052280" cy="596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9320" y="2376360"/>
              <a:ext cx="103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-95-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7760" y="1751040"/>
              <a:ext cx="97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May 19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91920" y="175104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March 19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013360" y="1461960"/>
            <a:ext cx="452520" cy="247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74880" y="1351080"/>
            <a:ext cx="30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 in Commercial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2025720"/>
            <a:ext cx="471600" cy="269640"/>
          </a:xfrm>
          <a:prstGeom prst="rect">
            <a:avLst/>
          </a:prstGeom>
          <a:gradFill rotWithShape="0">
            <a:gsLst>
              <a:gs pos="0">
                <a:srgbClr val="18313d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3640" y="192420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Compl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97520" y="2620800"/>
            <a:ext cx="447480" cy="2462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8ea5b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71640" y="2401920"/>
            <a:ext cx="315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Development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xpected date of comple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5410080"/>
            <a:ext cx="38088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17:34:53Z</dcterms:created>
  <dc:creator>3GPP2 Adminstration</dc:creator>
  <dc:description/>
  <dc:language>en-US</dc:language>
  <cp:lastModifiedBy>UGALE, Arvin Carlos D.</cp:lastModifiedBy>
  <cp:lastPrinted>1999-10-31T22:17:46Z</cp:lastPrinted>
  <dcterms:modified xsi:type="dcterms:W3CDTF">2002-04-18T08:07:18Z</dcterms:modified>
  <cp:revision>298</cp:revision>
  <dc:subject>Presentation for ITU Sub-Regional Seminar on IMT-2000</dc:subject>
  <dc:title>3GPP2 Overview</dc:title>
</cp:coreProperties>
</file>