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39A5-5377-4EEE-8320-D8DFFEDE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D5C2-72BA-40B5-B21E-8317139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E0B4-166D-4175-A9B8-9A8567BB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0958-60BE-4985-BDBF-BC5C7A02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E9E3-7E3A-4611-AEC4-05043B0A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7B90-8DB5-411E-B736-64AF5E4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CC26-B84F-415E-BA45-0E992AF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71F6-54F8-4317-A1F2-9F82547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F3BB-F0E2-4ED9-A39F-D253C34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4C30-7B66-4DD9-BE45-F3D9AB3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85CE-B3C5-463F-9731-1E4EF28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1117-05A1-4490-B7CA-14936D4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2730E-9712-43D9-BCDF-EDAA2018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948B-F84E-442F-9F74-03C3E26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7567-1EFB-4900-B87C-C20C3A5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1CFB-CFF0-4D90-8135-48C53FAA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AC71E-FEE5-4C99-96CE-21BB03B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C959-8ECC-46F5-A473-742D3C5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D092-1B73-4359-980E-46E6AE71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1011-4CF4-4AEA-91E2-AEA46AB5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9C00-B646-401E-A829-3D49DF23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2B40-6D2A-4737-9997-2B4E400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59DC-1E73-4416-A38F-DAFB93C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2CE8-D4E0-48E2-92ED-64D4F97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E7D-E37E-4642-A98F-58A7DFBBD7B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01C-5256-4124-9136-2ACFA5884E26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968120" y="6565680"/>
            <a:ext cx="5359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ITU-T Workshop 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on Security 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Seoul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(Korea)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13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14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May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 200</a:t>
            </a:r>
            <a:r>
              <a:rPr b="1" lang="fr-CH" sz="9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379000" y="616104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404400" y="6297480"/>
            <a:ext cx="2010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Lucent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l Labs Innov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- </a:t>
            </a:r>
            <a:fld id="{0233DFD3-EE35-41F8-8C8F-18E10D500A6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746-2FF1-4D5F-A432-3AAF245064BB}" type="datetime">
              <a:rPr b="0" lang="fr-CH" sz="1000" spc="-1" strike="noStrike">
                <a:solidFill>
                  <a:srgbClr val="ffffff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Workshop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 on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ietf-mobileip-aaa-key-09.txt" TargetMode="External"/><Relationship Id="rId2" Type="http://schemas.openxmlformats.org/officeDocument/2006/relationships/hyperlink" Target="http://www.ietf.org/internet-drafts/draft-ietf-mobileip-aaa-key-09.txt" TargetMode="External"/><Relationship Id="rId3" Type="http://schemas.openxmlformats.org/officeDocument/2006/relationships/hyperlink" Target="http://www.ietf.org/internet-drafts/draft-ietf-mobileip-aaa-key-09.txt" TargetMode="External"/><Relationship Id="rId4" Type="http://schemas.openxmlformats.org/officeDocument/2006/relationships/hyperlink" Target="http://www.ietf.org/internet-drafts/draft-ietf-mobileip-aaa-key-09.txt" TargetMode="External"/><Relationship Id="rId5" Type="http://schemas.openxmlformats.org/officeDocument/2006/relationships/hyperlink" Target="http://www.ietf.org/internet-drafts/draft-ietf-mobileip-aaa-key-09.txt" TargetMode="External"/><Relationship Id="rId6" Type="http://schemas.openxmlformats.org/officeDocument/2006/relationships/hyperlink" Target="http://www.ietf.org/internet-drafts/draft-ietf-mobileip-aaa-key-09.txt" TargetMode="External"/><Relationship Id="rId7" Type="http://schemas.openxmlformats.org/officeDocument/2006/relationships/hyperlink" Target="http://www.ietf.org/internet-drafts/draft-ietf-mobileip-aaa-key-09.txt" TargetMode="External"/><Relationship Id="rId8" Type="http://schemas.openxmlformats.org/officeDocument/2006/relationships/hyperlink" Target="http://www.ietf.org/internet-drafts/draft-ietf-mobileip-aaa-key-09.txt" TargetMode="External"/><Relationship Id="rId9" Type="http://schemas.openxmlformats.org/officeDocument/2006/relationships/hyperlink" Target="http://www.ietf.org/internet-drafts/draft-ietf-mobileip-aaa-key-09.txt" TargetMode="External"/><Relationship Id="rId10" Type="http://schemas.openxmlformats.org/officeDocument/2006/relationships/hyperlink" Target="http://www.ietf.org/internet-drafts/draft-arkko-pppext-eap-aka-00.txt" TargetMode="External"/><Relationship Id="rId11" Type="http://schemas.openxmlformats.org/officeDocument/2006/relationships/hyperlink" Target="http://www.ietf.org/internet-drafts/draft-arkko-pppext-eap-aka-00.txt" TargetMode="External"/><Relationship Id="rId12" Type="http://schemas.openxmlformats.org/officeDocument/2006/relationships/hyperlink" Target="http://www.ietf.org/internet-drafts/draft-arkko-pppext-eap-aka-00.txt" TargetMode="External"/><Relationship Id="rId13" Type="http://schemas.openxmlformats.org/officeDocument/2006/relationships/hyperlink" Target="http://www.ietf.org/internet-drafts/draft-arkko-pppext-eap-aka-00.txt" TargetMode="External"/><Relationship Id="rId14" Type="http://schemas.openxmlformats.org/officeDocument/2006/relationships/hyperlink" Target="http://www.ietf.org/internet-drafts/draft-arkko-pppext-eap-aka-00.txt" TargetMode="External"/><Relationship Id="rId15" Type="http://schemas.openxmlformats.org/officeDocument/2006/relationships/hyperlink" Target="http://www.ietf.org/internet-drafts/draft-arkko-pppext-eap-aka-00.txt" TargetMode="External"/><Relationship Id="rId16" Type="http://schemas.openxmlformats.org/officeDocument/2006/relationships/hyperlink" Target="http://www.ietf.org/internet-drafts/draft-arkko-pppext-eap-aka-00.txt" TargetMode="External"/><Relationship Id="rId17" Type="http://schemas.openxmlformats.org/officeDocument/2006/relationships/hyperlink" Target="http://www.ietf.org/internet-drafts/draft-arkko-pppext-eap-aka-00.txt" TargetMode="External"/><Relationship Id="rId18" Type="http://schemas.openxmlformats.org/officeDocument/2006/relationships/hyperlink" Target="http://www.ietf.org/internet-drafts/draft-arkko-pppext-eap-aka-00.txt" TargetMode="External"/><Relationship Id="rId19" Type="http://schemas.openxmlformats.org/officeDocument/2006/relationships/hyperlink" Target="http://www.ietf.org/internet-drafts/draft-arkko-pppext-eap-aka-00.txt" TargetMode="External"/><Relationship Id="rId20" Type="http://schemas.openxmlformats.org/officeDocument/2006/relationships/hyperlink" Target="http://www.ietf.org/internet-drafts/draft-arkko-pppext-eap-aka-00.txt" TargetMode="External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3200" y="1690560"/>
            <a:ext cx="77724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Security Activities in IETF</a:t>
            </a:r>
            <a:br>
              <a:rPr sz="5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in support of Mobile IP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emyon (Simon) Mizikovsky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ucent Technologies, Inc.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6620040" y="6095880"/>
            <a:ext cx="23810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91600" y="614520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64320" y="6291360"/>
            <a:ext cx="1751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Lucent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l Labs Innov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AP SKE Comple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649600" y="1712880"/>
          <a:ext cx="5877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712880"/>
                    <a:ext cx="5877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3B0A-6D71-44EF-9EC3-A7DBE858660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4CBBA6-FEEB-4C6E-8114-843C8ED65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obile IP SKE Varia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87520" y="1697040"/>
          <a:ext cx="5877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697040"/>
                    <a:ext cx="5877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4966-6200-4CEF-BD29-FE70E9DCB2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C3D2F2-5174-4747-9DC1-8F631881CA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obile IP SKE Varia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387520" y="1697040"/>
          <a:ext cx="5877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697040"/>
                    <a:ext cx="5877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179C-A282-403E-AB78-ED1E98880F1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D56456-5B4F-4498-B4BC-3D673E17E0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KE Func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920" y="1141560"/>
            <a:ext cx="697068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hentication Respo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N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AAh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FA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Secure MACs of  pre-sh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pective Challenges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N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MN Identity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AC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N-AAAh_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AC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N-AAAh_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AC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A-HA_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AP Master Secret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Secure Pseudo-Random Function o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N-AAAh_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AAh Challenge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Auth response of the AAAh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RF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N-AAAh_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her k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generated from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N-FA_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RF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N-HA_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RF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A-HA_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RF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_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Key-Explosion functions can be 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AC-SHA1, PRF-SHA1, HMAC-MD5, etc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97F4-F2D1-411A-BB25-5D4E683263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308DB6-E740-4C0D-BB9D-E5A312EA8D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KE Proper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56960" y="1011240"/>
            <a:ext cx="697068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Secrecy and Authenti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me AAA and MN Authenticate each-oth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P Master Secret Key (K_EMS) guaranteed to be fresh, random, and unique (Derived from Nf, Nm, and Nh)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y Generation interlocked with Authentica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orward secrec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romise of K-EMS preserves security of past and future sessions and secrecy of the root key (MN-AAAh_Key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imum number of Air Interface messag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1 Round Trip Transaction with AAAh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Provably Sec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Stateless protoco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as opposed to EAP-AK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802B-4A38-4756-BCDB-E03E0F09D5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81044E-EC37-4607-A82B-93DCE71E0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7200" y="1141560"/>
            <a:ext cx="697068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n though Mobile IP Authentication is Mandatory, the Key Generation and Distribution is no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re are few Key Generation and Key Distribution schemes – neither is adopted by IETF yet. </a:t>
            </a: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All require change in AAA oper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DIUS specs are closed, DIAMETER specs are not mat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KE is an example of </a:t>
            </a: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efficient and secure Authentication &amp; Key Generation Protoco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ptimized for mobile environment, including 802.x, 3GPP UMTS, 3GPP2 Cdma2000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8154-7F30-4720-A214-DF21EE4C53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FF0B3D-284B-4B23-BE6A-746B70510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at is Mobile IP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9760" y="1022400"/>
            <a:ext cx="7170840" cy="4989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bile IP becomes front-end for AA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3119400" y="3230640"/>
            <a:ext cx="188136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622320" y="2370240"/>
            <a:ext cx="1111320" cy="22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06560" y="1969920"/>
            <a:ext cx="122724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993920" y="5738760"/>
            <a:ext cx="245880" cy="37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78200" y="2468160"/>
            <a:ext cx="61272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59280" y="4246200"/>
            <a:ext cx="493920" cy="12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10000" y="3427560"/>
            <a:ext cx="4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7120" y="5443560"/>
            <a:ext cx="52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98600" y="3003480"/>
            <a:ext cx="920880" cy="4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70400" y="5396040"/>
            <a:ext cx="920880" cy="48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62600" y="2392200"/>
            <a:ext cx="920880" cy="487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841400" y="4157640"/>
            <a:ext cx="792360" cy="55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0920" y="3589200"/>
            <a:ext cx="579600" cy="347760"/>
          </a:xfrm>
          <a:custGeom>
            <a:avLst/>
            <a:gdLst/>
            <a:ahLst/>
            <a:rect l="l" t="t" r="r" b="b"/>
            <a:pathLst>
              <a:path w="145" h="481">
                <a:moveTo>
                  <a:pt x="0" y="480"/>
                </a:moveTo>
                <a:lnTo>
                  <a:pt x="80" y="60"/>
                </a:lnTo>
                <a:lnTo>
                  <a:pt x="75" y="294"/>
                </a:lnTo>
                <a:lnTo>
                  <a:pt x="144" y="0"/>
                </a:lnTo>
                <a:lnTo>
                  <a:pt x="64" y="428"/>
                </a:lnTo>
                <a:lnTo>
                  <a:pt x="69" y="190"/>
                </a:lnTo>
                <a:lnTo>
                  <a:pt x="0" y="4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411360" y="2178000"/>
            <a:ext cx="343080" cy="426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08400" y="2052720"/>
            <a:ext cx="1312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133960" y="6041880"/>
            <a:ext cx="343080" cy="42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622920" y="1722600"/>
            <a:ext cx="343080" cy="426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24480" y="2298600"/>
            <a:ext cx="1312920" cy="617400"/>
            <a:chOff x="4524480" y="2298600"/>
            <a:chExt cx="1312920" cy="617400"/>
          </a:xfrm>
        </p:grpSpPr>
        <p:grpSp>
          <p:nvGrpSpPr>
            <p:cNvPr id="117" name=""/>
            <p:cNvGrpSpPr/>
            <p:nvPr/>
          </p:nvGrpSpPr>
          <p:grpSpPr>
            <a:xfrm>
              <a:off x="4650120" y="2298600"/>
              <a:ext cx="1006200" cy="617400"/>
              <a:chOff x="4650120" y="2298600"/>
              <a:chExt cx="1006200" cy="617400"/>
            </a:xfrm>
          </p:grpSpPr>
          <p:sp>
            <p:nvSpPr>
              <p:cNvPr id="118" name=""/>
              <p:cNvSpPr/>
              <p:nvPr/>
            </p:nvSpPr>
            <p:spPr>
              <a:xfrm>
                <a:off x="4728600" y="2298600"/>
                <a:ext cx="530640" cy="2523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37200" y="2306880"/>
                <a:ext cx="420480" cy="1864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74480" y="2700720"/>
                <a:ext cx="524160" cy="215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01600" y="2670480"/>
                <a:ext cx="454680" cy="2246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0120" y="2467800"/>
                <a:ext cx="335880" cy="253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13520" y="2464920"/>
                <a:ext cx="442800" cy="301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44080" y="2357640"/>
                <a:ext cx="812160" cy="5097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524480" y="2340000"/>
              <a:ext cx="1312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789440" y="3452760"/>
            <a:ext cx="1757160" cy="876240"/>
            <a:chOff x="4789440" y="3452760"/>
            <a:chExt cx="1757160" cy="876240"/>
          </a:xfrm>
        </p:grpSpPr>
        <p:sp>
          <p:nvSpPr>
            <p:cNvPr id="127" name=""/>
            <p:cNvSpPr/>
            <p:nvPr/>
          </p:nvSpPr>
          <p:spPr>
            <a:xfrm>
              <a:off x="4926600" y="3452760"/>
              <a:ext cx="926640" cy="35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9760" y="3464280"/>
              <a:ext cx="734400" cy="264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5720" y="4023360"/>
              <a:ext cx="915120" cy="305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9800" y="3980520"/>
              <a:ext cx="793800" cy="318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9440" y="3692520"/>
              <a:ext cx="586440" cy="359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73320" y="3688920"/>
              <a:ext cx="773280" cy="427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3600" y="3536280"/>
              <a:ext cx="1418400" cy="723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184720" y="3722760"/>
            <a:ext cx="92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3440" y="1654200"/>
            <a:ext cx="1312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94320" y="6058080"/>
            <a:ext cx="66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4440" y="285264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4280" y="2938320"/>
            <a:ext cx="1956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Visited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25520" y="5651640"/>
            <a:ext cx="195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Visited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2774880" y="5394240"/>
            <a:ext cx="792360" cy="55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678120" y="5389560"/>
            <a:ext cx="579600" cy="347760"/>
          </a:xfrm>
          <a:custGeom>
            <a:avLst/>
            <a:gdLst/>
            <a:ahLst/>
            <a:rect l="l" t="t" r="r" b="b"/>
            <a:pathLst>
              <a:path w="145" h="481">
                <a:moveTo>
                  <a:pt x="0" y="480"/>
                </a:moveTo>
                <a:lnTo>
                  <a:pt x="80" y="60"/>
                </a:lnTo>
                <a:lnTo>
                  <a:pt x="75" y="294"/>
                </a:lnTo>
                <a:lnTo>
                  <a:pt x="144" y="0"/>
                </a:lnTo>
                <a:lnTo>
                  <a:pt x="64" y="428"/>
                </a:lnTo>
                <a:lnTo>
                  <a:pt x="69" y="190"/>
                </a:lnTo>
                <a:lnTo>
                  <a:pt x="0" y="4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0200" y="4802040"/>
            <a:ext cx="532080" cy="549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16680" y="2792520"/>
            <a:ext cx="1869840" cy="2574720"/>
          </a:xfrm>
          <a:custGeom>
            <a:avLst/>
            <a:gdLst/>
            <a:ahLst/>
            <a:rect l="l" t="t" r="r" b="b"/>
            <a:pathLst>
              <a:path w="1178" h="1622">
                <a:moveTo>
                  <a:pt x="1178" y="0"/>
                </a:moveTo>
                <a:cubicBezTo>
                  <a:pt x="1036" y="155"/>
                  <a:pt x="523" y="661"/>
                  <a:pt x="327" y="931"/>
                </a:cubicBezTo>
                <a:cubicBezTo>
                  <a:pt x="131" y="1201"/>
                  <a:pt x="68" y="1478"/>
                  <a:pt x="0" y="162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360" y="4511520"/>
            <a:ext cx="7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65920" y="2104920"/>
            <a:ext cx="187200" cy="29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CC47-8B5D-468B-9CF0-69F82745B8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BB5951-6606-4BE1-8F74-EC6FBA51B1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bile IP and User Authenticati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9760" y="1022400"/>
            <a:ext cx="7170840" cy="4989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llenge/Response authenticated with AAA infrastructure (RFC 3012bi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7775640" y="2387520"/>
            <a:ext cx="349200" cy="45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633560" y="2309400"/>
            <a:ext cx="111132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518160" y="2295360"/>
            <a:ext cx="1074960" cy="1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89440" y="2408040"/>
            <a:ext cx="61272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40240" y="3238560"/>
            <a:ext cx="4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60600" y="2820960"/>
            <a:ext cx="920880" cy="48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796160" y="2838600"/>
            <a:ext cx="920880" cy="487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800360" y="2946240"/>
            <a:ext cx="792000" cy="551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97040" y="3006720"/>
            <a:ext cx="579600" cy="347760"/>
          </a:xfrm>
          <a:custGeom>
            <a:avLst/>
            <a:gdLst/>
            <a:ahLst/>
            <a:rect l="l" t="t" r="r" b="b"/>
            <a:pathLst>
              <a:path w="145" h="481">
                <a:moveTo>
                  <a:pt x="0" y="480"/>
                </a:moveTo>
                <a:lnTo>
                  <a:pt x="80" y="60"/>
                </a:lnTo>
                <a:lnTo>
                  <a:pt x="75" y="294"/>
                </a:lnTo>
                <a:lnTo>
                  <a:pt x="144" y="0"/>
                </a:lnTo>
                <a:lnTo>
                  <a:pt x="64" y="428"/>
                </a:lnTo>
                <a:lnTo>
                  <a:pt x="69" y="190"/>
                </a:lnTo>
                <a:lnTo>
                  <a:pt x="0" y="4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422600" y="2117880"/>
            <a:ext cx="343080" cy="426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30440" y="1839960"/>
            <a:ext cx="1312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ited 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574040" y="2057400"/>
            <a:ext cx="342720" cy="426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35720" y="2238480"/>
            <a:ext cx="1312920" cy="617400"/>
            <a:chOff x="5535720" y="2238480"/>
            <a:chExt cx="1312920" cy="617400"/>
          </a:xfrm>
        </p:grpSpPr>
        <p:grpSp>
          <p:nvGrpSpPr>
            <p:cNvPr id="161" name=""/>
            <p:cNvGrpSpPr/>
            <p:nvPr/>
          </p:nvGrpSpPr>
          <p:grpSpPr>
            <a:xfrm>
              <a:off x="5661360" y="2238480"/>
              <a:ext cx="1006200" cy="617400"/>
              <a:chOff x="5661360" y="2238480"/>
              <a:chExt cx="1006200" cy="617400"/>
            </a:xfrm>
          </p:grpSpPr>
          <p:sp>
            <p:nvSpPr>
              <p:cNvPr id="162" name=""/>
              <p:cNvSpPr/>
              <p:nvPr/>
            </p:nvSpPr>
            <p:spPr>
              <a:xfrm>
                <a:off x="5739840" y="2238480"/>
                <a:ext cx="530640" cy="2523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48440" y="2246760"/>
                <a:ext cx="420480" cy="1864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85720" y="2640600"/>
                <a:ext cx="524160" cy="215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2840" y="2610360"/>
                <a:ext cx="454680" cy="2246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61360" y="2407680"/>
                <a:ext cx="335880" cy="253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24760" y="2404800"/>
                <a:ext cx="442800" cy="301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55320" y="2297520"/>
                <a:ext cx="812160" cy="5097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535720" y="2279880"/>
              <a:ext cx="1312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629480" y="1787400"/>
            <a:ext cx="1312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53920" y="323856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130120" y="38908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0480" y="4338720"/>
            <a:ext cx="169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6600" y="489600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62440" y="4896000"/>
            <a:ext cx="12495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48240" y="4896000"/>
            <a:ext cx="12495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881520" y="5791320"/>
            <a:ext cx="439416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795480" y="5445000"/>
            <a:ext cx="3819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74160" y="355500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 Advertisement (Challe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1720" y="4053240"/>
            <a:ext cx="31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 Registration ReQuest (AUTH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040" y="4591440"/>
            <a:ext cx="38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AA Authentication/Authoriz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7040" y="5169240"/>
            <a:ext cx="34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AA Authorization Response (AUTH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66600" y="5537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68560" y="6095520"/>
            <a:ext cx="4394520" cy="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76320" y="58424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8160" y="2476440"/>
            <a:ext cx="45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20840" y="6081840"/>
            <a:ext cx="1596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3800" y="570456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P RRP (AUTH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EC27-6571-4AB2-8C85-267F0A1220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FD9AE6-3A09-4967-843C-5F8AD2EC47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bile IP Key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9760" y="1022400"/>
            <a:ext cx="7170840" cy="4989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593040" y="2417400"/>
            <a:ext cx="5619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526920" y="2339640"/>
            <a:ext cx="111132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411880" y="1940040"/>
            <a:ext cx="122688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67000" y="2437920"/>
            <a:ext cx="1285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780240" y="1927080"/>
            <a:ext cx="303120" cy="40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62280" y="3225600"/>
            <a:ext cx="1139760" cy="48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172280" y="1539720"/>
            <a:ext cx="1757160" cy="876240"/>
            <a:chOff x="7172280" y="1539720"/>
            <a:chExt cx="1757160" cy="876240"/>
          </a:xfrm>
        </p:grpSpPr>
        <p:sp>
          <p:nvSpPr>
            <p:cNvPr id="198" name=""/>
            <p:cNvSpPr/>
            <p:nvPr/>
          </p:nvSpPr>
          <p:spPr>
            <a:xfrm>
              <a:off x="7309440" y="1539720"/>
              <a:ext cx="926640" cy="358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22600" y="1551240"/>
              <a:ext cx="734400" cy="2649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38560" y="2110320"/>
              <a:ext cx="915120" cy="30564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2640" y="2067480"/>
              <a:ext cx="793800" cy="3189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72280" y="1779840"/>
              <a:ext cx="586440" cy="35964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56160" y="1775880"/>
              <a:ext cx="773280" cy="42804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36440" y="1623240"/>
              <a:ext cx="1418400" cy="723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057120" y="3430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35760" y="2755440"/>
            <a:ext cx="4176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39760" y="167940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80120" y="2282760"/>
            <a:ext cx="720720" cy="81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803680" y="2995560"/>
            <a:ext cx="920520" cy="487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996240" y="2254320"/>
            <a:ext cx="92052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197480" y="26463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866960" y="3613320"/>
            <a:ext cx="792000" cy="550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54200" y="3697200"/>
            <a:ext cx="579600" cy="347760"/>
          </a:xfrm>
          <a:custGeom>
            <a:avLst/>
            <a:gdLst/>
            <a:ahLst/>
            <a:rect l="l" t="t" r="r" b="b"/>
            <a:pathLst>
              <a:path w="145" h="481">
                <a:moveTo>
                  <a:pt x="0" y="480"/>
                </a:moveTo>
                <a:lnTo>
                  <a:pt x="80" y="60"/>
                </a:lnTo>
                <a:lnTo>
                  <a:pt x="75" y="294"/>
                </a:lnTo>
                <a:lnTo>
                  <a:pt x="144" y="0"/>
                </a:lnTo>
                <a:lnTo>
                  <a:pt x="64" y="428"/>
                </a:lnTo>
                <a:lnTo>
                  <a:pt x="69" y="190"/>
                </a:lnTo>
                <a:lnTo>
                  <a:pt x="0" y="4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16320" y="2147760"/>
            <a:ext cx="342720" cy="427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90800" y="1666800"/>
            <a:ext cx="1312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513480" y="1677960"/>
            <a:ext cx="343080" cy="42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4429080" y="2268360"/>
            <a:ext cx="1312920" cy="617400"/>
            <a:chOff x="4429080" y="2268360"/>
            <a:chExt cx="1312920" cy="617400"/>
          </a:xfrm>
        </p:grpSpPr>
        <p:grpSp>
          <p:nvGrpSpPr>
            <p:cNvPr id="218" name=""/>
            <p:cNvGrpSpPr/>
            <p:nvPr/>
          </p:nvGrpSpPr>
          <p:grpSpPr>
            <a:xfrm>
              <a:off x="4554720" y="2268360"/>
              <a:ext cx="1006200" cy="617400"/>
              <a:chOff x="4554720" y="2268360"/>
              <a:chExt cx="1006200" cy="617400"/>
            </a:xfrm>
          </p:grpSpPr>
          <p:sp>
            <p:nvSpPr>
              <p:cNvPr id="219" name=""/>
              <p:cNvSpPr/>
              <p:nvPr/>
            </p:nvSpPr>
            <p:spPr>
              <a:xfrm>
                <a:off x="4633200" y="2268360"/>
                <a:ext cx="530640" cy="2523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41800" y="2276640"/>
                <a:ext cx="420480" cy="1864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9080" y="2670480"/>
                <a:ext cx="524160" cy="215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06200" y="2640240"/>
                <a:ext cx="454680" cy="2246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54720" y="2437560"/>
                <a:ext cx="335880" cy="2534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8120" y="2434680"/>
                <a:ext cx="442800" cy="301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48680" y="2327400"/>
                <a:ext cx="812160" cy="50976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429080" y="2309760"/>
              <a:ext cx="1312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89640" y="3378240"/>
            <a:ext cx="1757160" cy="876240"/>
            <a:chOff x="4589640" y="3378240"/>
            <a:chExt cx="1757160" cy="876240"/>
          </a:xfrm>
        </p:grpSpPr>
        <p:sp>
          <p:nvSpPr>
            <p:cNvPr id="228" name=""/>
            <p:cNvSpPr/>
            <p:nvPr/>
          </p:nvSpPr>
          <p:spPr>
            <a:xfrm>
              <a:off x="4726800" y="3378240"/>
              <a:ext cx="926280" cy="35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39960" y="3389760"/>
              <a:ext cx="734040" cy="264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55560" y="3948840"/>
              <a:ext cx="915120" cy="305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80000" y="3906000"/>
              <a:ext cx="793800" cy="318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89640" y="3618000"/>
              <a:ext cx="586440" cy="359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3520" y="3614400"/>
              <a:ext cx="773280" cy="427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53800" y="3461760"/>
              <a:ext cx="1418040" cy="723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984560" y="3648240"/>
            <a:ext cx="92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7760" y="2705040"/>
            <a:ext cx="3510000" cy="1517760"/>
          </a:xfrm>
          <a:custGeom>
            <a:avLst/>
            <a:gdLst/>
            <a:ahLst/>
            <a:rect l="l" t="t" r="r" b="b"/>
            <a:pathLst>
              <a:path w="2211" h="956">
                <a:moveTo>
                  <a:pt x="2211" y="0"/>
                </a:moveTo>
                <a:cubicBezTo>
                  <a:pt x="2143" y="47"/>
                  <a:pt x="1953" y="137"/>
                  <a:pt x="1804" y="291"/>
                </a:cubicBezTo>
                <a:cubicBezTo>
                  <a:pt x="1655" y="445"/>
                  <a:pt x="1618" y="892"/>
                  <a:pt x="1317" y="924"/>
                </a:cubicBezTo>
                <a:cubicBezTo>
                  <a:pt x="1016" y="956"/>
                  <a:pt x="274" y="572"/>
                  <a:pt x="0" y="4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74080" y="3271680"/>
            <a:ext cx="1923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namic MIP 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ed by IPS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99720" y="32050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79520" y="5994360"/>
            <a:ext cx="113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1920" y="555948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N-FA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7400" y="5689440"/>
            <a:ext cx="3903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32520" y="1079640"/>
            <a:ext cx="1312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 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7000" y="5362560"/>
            <a:ext cx="136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-HA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3680" y="5138640"/>
            <a:ext cx="5140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7440" y="4799160"/>
            <a:ext cx="173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N-HA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9640" y="4630680"/>
            <a:ext cx="4616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1960" y="4314960"/>
            <a:ext cx="173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N-AAAh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479C-DAB2-4521-AB20-18B7EDE218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46083B-8C08-491D-AFB9-60D228686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obile IP Keys Descrip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28520" y="981000"/>
            <a:ext cx="69706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K1 = MN-AAAh_K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-provisioned Long Te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Root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65920" indent="-5659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K2 = MN-HA_k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s dynamic allocation of HA, even in visited network. Intermediate Term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d to authenticate subsequent registrations from different FAs during same ses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65920" indent="-5659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K3 = FA-HA_k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d to authenticate control messa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ld also protect bearer traff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ld be used as the key for IPSe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65920" indent="-5659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K4 = MN-FA_k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ld be used as input for link-layer (Air Interface) securit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1616-A6FA-4971-B36A-DEDC2CF348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710BC4-4FFB-4B25-B14D-40823A37F8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urrent IETF Mobile IP Draf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85680" y="995400"/>
            <a:ext cx="69706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bile IP Authenti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FC3012b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tual MN-AAAh Authent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bile IP Key Distrib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AA Key Distribution Extensions to RFC301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"/>
              </a:rPr>
              <a:t>http://www.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2"/>
              </a:rPr>
              <a:t>ietf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3"/>
              </a:rPr>
              <a:t>.org/internet-drafts/draft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4"/>
              </a:rPr>
              <a:t>ietf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5"/>
              </a:rPr>
              <a:t>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6"/>
              </a:rPr>
              <a:t>mobileip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8"/>
              </a:rPr>
              <a:t>aaa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9"/>
              </a:rPr>
              <a:t>-key-09.tx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interlocked with Authent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P-A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0"/>
              </a:rPr>
              <a:t>http://www.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1"/>
              </a:rPr>
              <a:t>ietf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2"/>
              </a:rPr>
              <a:t>.org/internet-drafts/draft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3"/>
              </a:rPr>
              <a:t>arkko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4"/>
              </a:rPr>
              <a:t>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5"/>
              </a:rPr>
              <a:t>pppext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6"/>
              </a:rPr>
              <a:t>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7"/>
              </a:rPr>
              <a:t>eap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8"/>
              </a:rPr>
              <a:t>-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19"/>
              </a:rPr>
              <a:t>aka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rebuchet MS"/>
                <a:hlinkClick r:id="rId20"/>
              </a:rPr>
              <a:t>-00.tx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tual MN-AAAh Authentication and Key Gen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quires maintaining states in FA, HA, and AAAh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4D99-7EF6-4275-B588-DF0BBDB8CF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505AE1B-C4E9-498E-936E-99F5040E54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1ff"/>
                </a:solidFill>
                <a:latin typeface="Times New Roman"/>
              </a:rPr>
              <a:t>EAP Shared Key Exchange (SKE)</a:t>
            </a:r>
            <a:br>
              <a:rPr sz="4000"/>
            </a:br>
            <a:r>
              <a:rPr b="1" i="1" lang="en-US" sz="3200" spc="-1" strike="noStrike">
                <a:solidFill>
                  <a:srgbClr val="c5f1ff"/>
                </a:solidFill>
                <a:latin typeface="Times New Roman"/>
              </a:rPr>
              <a:t>draft- salgarelli- pppext- eap- ske- 01. txt</a:t>
            </a:r>
            <a:endParaRPr b="1" lang="en-US" sz="32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25080" y="3827520"/>
            <a:ext cx="683604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KE – Abstract and Rational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72960" y="1073160"/>
            <a:ext cx="69706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bi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tual Authentication and Key Generation scheme based on EAP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802.11, Cdma2000, UMTS, and other mobile technologi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upport roaming client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Minimal number of messag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exchanged between Mobile Node (Client) and Authenticator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1 Round Trip Transaction to the AA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d to complete authentication and session key generatio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s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wards 1- pass authentication for Mobile- IP enabled clien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ryptographically str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N-AAAh Ke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Dictionary Attack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 i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ipher-suite -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AP Master Secret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_ EMS) is derived as the result of successful proces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ssion 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derived from it depending on specific cipher applicatio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3AB2-737C-4190-918E-D324831416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0003AB3-F352-43CF-A219-C8091F6927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AP SKE Initi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87520" y="1697040"/>
          <a:ext cx="5877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697040"/>
                    <a:ext cx="5877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2602-DED1-46D9-BA74-68290B9CEAB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574B8E-4C61-46D1-A717-89F1E6C8A8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Seymon mizikovsky</cp:lastModifiedBy>
  <cp:lastPrinted>2001-03-15T13:10:50Z</cp:lastPrinted>
  <dcterms:modified xsi:type="dcterms:W3CDTF">2002-05-01T18:33:14Z</dcterms:modified>
  <cp:revision>145</cp:revision>
  <dc:subject/>
  <dc:title>afaefafe</dc:title>
</cp:coreProperties>
</file>