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move the slide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8121-C863-4F8A-99F7-F55D8D37E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A817-2C17-4E1B-9C6E-058E4244A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B660-F09F-49F7-97E5-5D5A811BC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975A-06AF-400D-A909-730AB9C5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B370-DAE7-4097-83F7-27B7D8A7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A229-2CF7-4AAE-B414-1715FFC7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7800-993F-45AD-A0D7-8CFBCB86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EDBC0-BDFF-413B-8C8A-18B2997E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31445-8EE6-4202-B632-5D54FC93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66E67-8158-45FC-A3C5-38EB7543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022A6-00B3-443A-9021-959752ED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3B923-B488-49FF-99BA-5E617783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71711-46DF-4954-AC3D-3871013B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3938F-9942-43A0-BD60-F90F3B6D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7FE8-86A9-4336-805B-B2C445F2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F94F2-0492-4B2F-A7A0-2A39E6E8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2D3A5-9783-4BAF-8F50-CBB041CD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22E8D-E0F0-4EAA-87FA-6D171E1E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02D77-0E23-4BF1-B3F0-B1359F29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8183F-E77F-4711-AB5B-5FE81120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8A5D-770D-4217-B9D7-1BC48B70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E7B7-1135-4014-A063-62D48A47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42F3-6CF9-4741-B68C-EBDFA55E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7F30-B60B-46B9-920A-FB3BF8E2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111C-0711-4A87-B9FA-ACFB5FDF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168C-A82E-4B7E-9AF9-6947C333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8D5A-FA14-4B6A-9C6D-989F461C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5989-323A-4653-B2DA-61601AEEADE8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BB16-34B7-428E-B036-EC82752AF391}" type="datetime">
              <a:rPr b="0" lang="fr-CH" sz="1000" spc="-1" strike="noStrike">
                <a:solidFill>
                  <a:srgbClr val="000000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1765440" y="6565680"/>
            <a:ext cx="6705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TU-T Workshop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on Security 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-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Seoul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(Korea)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13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14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May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 200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- </a:t>
            </a:r>
            <a:fld id="{6F81C089-ABF6-4FA8-9813-2085C6DDA483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97D2-CDFF-45EB-8380-C8FCE6F685E4}" type="datetime">
              <a:rPr b="0" lang="fr-CH" sz="1000" spc="-1" strike="noStrike">
                <a:solidFill>
                  <a:srgbClr val="ffffff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Workshop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 on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Seoul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(Korea)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,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13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-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14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May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 200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44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SECURITY MECHANISM</a:t>
            </a:r>
            <a:br>
              <a:rPr sz="5400"/>
            </a:b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&amp; E-COMMERCE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00280" y="481788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Mr. In-Seop Lee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KT</a:t>
            </a:r>
            <a:r>
              <a:rPr b="1" lang="fr-CH" sz="2800" spc="-1" strike="noStrike">
                <a:solidFill>
                  <a:srgbClr val="ffffff"/>
                </a:solidFill>
                <a:latin typeface="Trebuchet MS"/>
              </a:rPr>
              <a:t>/ITU-SG 2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ecure E-Commerc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EXAMPL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723000" y="2027160"/>
            <a:ext cx="1631880" cy="1336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857240" y="2025720"/>
            <a:ext cx="1643040" cy="134280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3578400" y="1631880"/>
            <a:ext cx="3112200" cy="2206440"/>
            <a:chOff x="3578400" y="1631880"/>
            <a:chExt cx="3112200" cy="2206440"/>
          </a:xfrm>
        </p:grpSpPr>
        <p:sp>
          <p:nvSpPr>
            <p:cNvPr id="272" name=""/>
            <p:cNvSpPr/>
            <p:nvPr/>
          </p:nvSpPr>
          <p:spPr>
            <a:xfrm>
              <a:off x="4158720" y="1950120"/>
              <a:ext cx="2163960" cy="1586520"/>
            </a:xfrm>
            <a:custGeom>
              <a:avLst/>
              <a:gdLst/>
              <a:ahLst/>
              <a:rect l="l" t="t" r="r" b="b"/>
              <a:pathLst>
                <a:path w="1369" h="1367">
                  <a:moveTo>
                    <a:pt x="188" y="1152"/>
                  </a:moveTo>
                  <a:lnTo>
                    <a:pt x="194" y="1160"/>
                  </a:lnTo>
                  <a:lnTo>
                    <a:pt x="202" y="1165"/>
                  </a:lnTo>
                  <a:lnTo>
                    <a:pt x="208" y="1173"/>
                  </a:lnTo>
                  <a:lnTo>
                    <a:pt x="216" y="1179"/>
                  </a:lnTo>
                  <a:lnTo>
                    <a:pt x="241" y="1201"/>
                  </a:lnTo>
                  <a:lnTo>
                    <a:pt x="267" y="1223"/>
                  </a:lnTo>
                  <a:lnTo>
                    <a:pt x="293" y="1242"/>
                  </a:lnTo>
                  <a:lnTo>
                    <a:pt x="322" y="1262"/>
                  </a:lnTo>
                  <a:lnTo>
                    <a:pt x="350" y="1278"/>
                  </a:lnTo>
                  <a:lnTo>
                    <a:pt x="380" y="1294"/>
                  </a:lnTo>
                  <a:lnTo>
                    <a:pt x="409" y="1309"/>
                  </a:lnTo>
                  <a:lnTo>
                    <a:pt x="441" y="1321"/>
                  </a:lnTo>
                  <a:lnTo>
                    <a:pt x="449" y="1323"/>
                  </a:lnTo>
                  <a:lnTo>
                    <a:pt x="455" y="1325"/>
                  </a:lnTo>
                  <a:lnTo>
                    <a:pt x="461" y="1329"/>
                  </a:lnTo>
                  <a:lnTo>
                    <a:pt x="466" y="1331"/>
                  </a:lnTo>
                  <a:lnTo>
                    <a:pt x="492" y="1339"/>
                  </a:lnTo>
                  <a:lnTo>
                    <a:pt x="520" y="1345"/>
                  </a:lnTo>
                  <a:lnTo>
                    <a:pt x="545" y="1353"/>
                  </a:lnTo>
                  <a:lnTo>
                    <a:pt x="573" y="1357"/>
                  </a:lnTo>
                  <a:lnTo>
                    <a:pt x="601" y="1361"/>
                  </a:lnTo>
                  <a:lnTo>
                    <a:pt x="628" y="1365"/>
                  </a:lnTo>
                  <a:lnTo>
                    <a:pt x="656" y="1367"/>
                  </a:lnTo>
                  <a:lnTo>
                    <a:pt x="686" y="1367"/>
                  </a:lnTo>
                  <a:lnTo>
                    <a:pt x="723" y="1365"/>
                  </a:lnTo>
                  <a:lnTo>
                    <a:pt x="763" y="1363"/>
                  </a:lnTo>
                  <a:lnTo>
                    <a:pt x="800" y="1357"/>
                  </a:lnTo>
                  <a:lnTo>
                    <a:pt x="838" y="1349"/>
                  </a:lnTo>
                  <a:lnTo>
                    <a:pt x="873" y="1339"/>
                  </a:lnTo>
                  <a:lnTo>
                    <a:pt x="909" y="1329"/>
                  </a:lnTo>
                  <a:lnTo>
                    <a:pt x="944" y="1315"/>
                  </a:lnTo>
                  <a:lnTo>
                    <a:pt x="978" y="1300"/>
                  </a:lnTo>
                  <a:lnTo>
                    <a:pt x="1021" y="1278"/>
                  </a:lnTo>
                  <a:lnTo>
                    <a:pt x="1061" y="1252"/>
                  </a:lnTo>
                  <a:lnTo>
                    <a:pt x="1100" y="1227"/>
                  </a:lnTo>
                  <a:lnTo>
                    <a:pt x="1136" y="1195"/>
                  </a:lnTo>
                  <a:lnTo>
                    <a:pt x="1171" y="1163"/>
                  </a:lnTo>
                  <a:lnTo>
                    <a:pt x="1203" y="1128"/>
                  </a:lnTo>
                  <a:lnTo>
                    <a:pt x="1233" y="1092"/>
                  </a:lnTo>
                  <a:lnTo>
                    <a:pt x="1260" y="1053"/>
                  </a:lnTo>
                  <a:lnTo>
                    <a:pt x="1284" y="1012"/>
                  </a:lnTo>
                  <a:lnTo>
                    <a:pt x="1306" y="968"/>
                  </a:lnTo>
                  <a:lnTo>
                    <a:pt x="1325" y="925"/>
                  </a:lnTo>
                  <a:lnTo>
                    <a:pt x="1341" y="879"/>
                  </a:lnTo>
                  <a:lnTo>
                    <a:pt x="1353" y="832"/>
                  </a:lnTo>
                  <a:lnTo>
                    <a:pt x="1361" y="783"/>
                  </a:lnTo>
                  <a:lnTo>
                    <a:pt x="1367" y="734"/>
                  </a:lnTo>
                  <a:lnTo>
                    <a:pt x="1369" y="684"/>
                  </a:lnTo>
                  <a:lnTo>
                    <a:pt x="1367" y="645"/>
                  </a:lnTo>
                  <a:lnTo>
                    <a:pt x="1365" y="607"/>
                  </a:lnTo>
                  <a:lnTo>
                    <a:pt x="1359" y="568"/>
                  </a:lnTo>
                  <a:lnTo>
                    <a:pt x="1351" y="530"/>
                  </a:lnTo>
                  <a:lnTo>
                    <a:pt x="1341" y="495"/>
                  </a:lnTo>
                  <a:lnTo>
                    <a:pt x="1331" y="459"/>
                  </a:lnTo>
                  <a:lnTo>
                    <a:pt x="1317" y="424"/>
                  </a:lnTo>
                  <a:lnTo>
                    <a:pt x="1302" y="390"/>
                  </a:lnTo>
                  <a:lnTo>
                    <a:pt x="1280" y="349"/>
                  </a:lnTo>
                  <a:lnTo>
                    <a:pt x="1256" y="309"/>
                  </a:lnTo>
                  <a:lnTo>
                    <a:pt x="1231" y="272"/>
                  </a:lnTo>
                  <a:lnTo>
                    <a:pt x="1201" y="236"/>
                  </a:lnTo>
                  <a:lnTo>
                    <a:pt x="1169" y="203"/>
                  </a:lnTo>
                  <a:lnTo>
                    <a:pt x="1136" y="171"/>
                  </a:lnTo>
                  <a:lnTo>
                    <a:pt x="1100" y="142"/>
                  </a:lnTo>
                  <a:lnTo>
                    <a:pt x="1063" y="114"/>
                  </a:lnTo>
                  <a:lnTo>
                    <a:pt x="1031" y="94"/>
                  </a:lnTo>
                  <a:lnTo>
                    <a:pt x="998" y="77"/>
                  </a:lnTo>
                  <a:lnTo>
                    <a:pt x="964" y="59"/>
                  </a:lnTo>
                  <a:lnTo>
                    <a:pt x="928" y="45"/>
                  </a:lnTo>
                  <a:lnTo>
                    <a:pt x="893" y="33"/>
                  </a:lnTo>
                  <a:lnTo>
                    <a:pt x="855" y="21"/>
                  </a:lnTo>
                  <a:lnTo>
                    <a:pt x="818" y="14"/>
                  </a:lnTo>
                  <a:lnTo>
                    <a:pt x="780" y="8"/>
                  </a:lnTo>
                  <a:lnTo>
                    <a:pt x="769" y="6"/>
                  </a:lnTo>
                  <a:lnTo>
                    <a:pt x="757" y="4"/>
                  </a:lnTo>
                  <a:lnTo>
                    <a:pt x="745" y="2"/>
                  </a:lnTo>
                  <a:lnTo>
                    <a:pt x="733" y="2"/>
                  </a:lnTo>
                  <a:lnTo>
                    <a:pt x="721" y="0"/>
                  </a:lnTo>
                  <a:lnTo>
                    <a:pt x="709" y="0"/>
                  </a:lnTo>
                  <a:lnTo>
                    <a:pt x="697" y="0"/>
                  </a:lnTo>
                  <a:lnTo>
                    <a:pt x="686" y="0"/>
                  </a:lnTo>
                  <a:lnTo>
                    <a:pt x="615" y="4"/>
                  </a:lnTo>
                  <a:lnTo>
                    <a:pt x="547" y="14"/>
                  </a:lnTo>
                  <a:lnTo>
                    <a:pt x="482" y="31"/>
                  </a:lnTo>
                  <a:lnTo>
                    <a:pt x="419" y="53"/>
                  </a:lnTo>
                  <a:lnTo>
                    <a:pt x="358" y="83"/>
                  </a:lnTo>
                  <a:lnTo>
                    <a:pt x="303" y="116"/>
                  </a:lnTo>
                  <a:lnTo>
                    <a:pt x="249" y="156"/>
                  </a:lnTo>
                  <a:lnTo>
                    <a:pt x="202" y="199"/>
                  </a:lnTo>
                  <a:lnTo>
                    <a:pt x="156" y="248"/>
                  </a:lnTo>
                  <a:lnTo>
                    <a:pt x="117" y="302"/>
                  </a:lnTo>
                  <a:lnTo>
                    <a:pt x="83" y="357"/>
                  </a:lnTo>
                  <a:lnTo>
                    <a:pt x="54" y="418"/>
                  </a:lnTo>
                  <a:lnTo>
                    <a:pt x="32" y="481"/>
                  </a:lnTo>
                  <a:lnTo>
                    <a:pt x="14" y="546"/>
                  </a:lnTo>
                  <a:lnTo>
                    <a:pt x="4" y="613"/>
                  </a:lnTo>
                  <a:lnTo>
                    <a:pt x="0" y="684"/>
                  </a:lnTo>
                  <a:lnTo>
                    <a:pt x="4" y="751"/>
                  </a:lnTo>
                  <a:lnTo>
                    <a:pt x="14" y="816"/>
                  </a:lnTo>
                  <a:lnTo>
                    <a:pt x="30" y="879"/>
                  </a:lnTo>
                  <a:lnTo>
                    <a:pt x="50" y="939"/>
                  </a:lnTo>
                  <a:lnTo>
                    <a:pt x="77" y="998"/>
                  </a:lnTo>
                  <a:lnTo>
                    <a:pt x="109" y="1053"/>
                  </a:lnTo>
                  <a:lnTo>
                    <a:pt x="147" y="1104"/>
                  </a:lnTo>
                  <a:lnTo>
                    <a:pt x="18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0072cc"/>
                </a:gs>
                <a:gs pos="100000">
                  <a:srgbClr val="c0dbf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23600" y="2380680"/>
              <a:ext cx="1074240" cy="1078200"/>
            </a:xfrm>
            <a:custGeom>
              <a:avLst/>
              <a:gdLst/>
              <a:ahLst/>
              <a:rect l="l" t="t" r="r" b="b"/>
              <a:pathLst>
                <a:path w="679" h="929">
                  <a:moveTo>
                    <a:pt x="288" y="929"/>
                  </a:moveTo>
                  <a:lnTo>
                    <a:pt x="331" y="907"/>
                  </a:lnTo>
                  <a:lnTo>
                    <a:pt x="371" y="881"/>
                  </a:lnTo>
                  <a:lnTo>
                    <a:pt x="410" y="856"/>
                  </a:lnTo>
                  <a:lnTo>
                    <a:pt x="446" y="824"/>
                  </a:lnTo>
                  <a:lnTo>
                    <a:pt x="481" y="792"/>
                  </a:lnTo>
                  <a:lnTo>
                    <a:pt x="513" y="757"/>
                  </a:lnTo>
                  <a:lnTo>
                    <a:pt x="543" y="721"/>
                  </a:lnTo>
                  <a:lnTo>
                    <a:pt x="570" y="682"/>
                  </a:lnTo>
                  <a:lnTo>
                    <a:pt x="594" y="641"/>
                  </a:lnTo>
                  <a:lnTo>
                    <a:pt x="616" y="597"/>
                  </a:lnTo>
                  <a:lnTo>
                    <a:pt x="635" y="554"/>
                  </a:lnTo>
                  <a:lnTo>
                    <a:pt x="651" y="508"/>
                  </a:lnTo>
                  <a:lnTo>
                    <a:pt x="663" y="461"/>
                  </a:lnTo>
                  <a:lnTo>
                    <a:pt x="671" y="412"/>
                  </a:lnTo>
                  <a:lnTo>
                    <a:pt x="677" y="363"/>
                  </a:lnTo>
                  <a:lnTo>
                    <a:pt x="679" y="313"/>
                  </a:lnTo>
                  <a:lnTo>
                    <a:pt x="677" y="274"/>
                  </a:lnTo>
                  <a:lnTo>
                    <a:pt x="675" y="236"/>
                  </a:lnTo>
                  <a:lnTo>
                    <a:pt x="669" y="197"/>
                  </a:lnTo>
                  <a:lnTo>
                    <a:pt x="661" y="159"/>
                  </a:lnTo>
                  <a:lnTo>
                    <a:pt x="651" y="124"/>
                  </a:lnTo>
                  <a:lnTo>
                    <a:pt x="641" y="88"/>
                  </a:lnTo>
                  <a:lnTo>
                    <a:pt x="627" y="53"/>
                  </a:lnTo>
                  <a:lnTo>
                    <a:pt x="612" y="19"/>
                  </a:lnTo>
                  <a:lnTo>
                    <a:pt x="600" y="27"/>
                  </a:lnTo>
                  <a:lnTo>
                    <a:pt x="592" y="35"/>
                  </a:lnTo>
                  <a:lnTo>
                    <a:pt x="588" y="45"/>
                  </a:lnTo>
                  <a:lnTo>
                    <a:pt x="586" y="55"/>
                  </a:lnTo>
                  <a:lnTo>
                    <a:pt x="586" y="65"/>
                  </a:lnTo>
                  <a:lnTo>
                    <a:pt x="584" y="77"/>
                  </a:lnTo>
                  <a:lnTo>
                    <a:pt x="582" y="86"/>
                  </a:lnTo>
                  <a:lnTo>
                    <a:pt x="580" y="92"/>
                  </a:lnTo>
                  <a:lnTo>
                    <a:pt x="576" y="96"/>
                  </a:lnTo>
                  <a:lnTo>
                    <a:pt x="570" y="100"/>
                  </a:lnTo>
                  <a:lnTo>
                    <a:pt x="564" y="102"/>
                  </a:lnTo>
                  <a:lnTo>
                    <a:pt x="558" y="102"/>
                  </a:lnTo>
                  <a:lnTo>
                    <a:pt x="549" y="100"/>
                  </a:lnTo>
                  <a:lnTo>
                    <a:pt x="537" y="96"/>
                  </a:lnTo>
                  <a:lnTo>
                    <a:pt x="525" y="92"/>
                  </a:lnTo>
                  <a:lnTo>
                    <a:pt x="517" y="86"/>
                  </a:lnTo>
                  <a:lnTo>
                    <a:pt x="511" y="86"/>
                  </a:lnTo>
                  <a:lnTo>
                    <a:pt x="503" y="86"/>
                  </a:lnTo>
                  <a:lnTo>
                    <a:pt x="497" y="88"/>
                  </a:lnTo>
                  <a:lnTo>
                    <a:pt x="489" y="90"/>
                  </a:lnTo>
                  <a:lnTo>
                    <a:pt x="470" y="82"/>
                  </a:lnTo>
                  <a:lnTo>
                    <a:pt x="454" y="75"/>
                  </a:lnTo>
                  <a:lnTo>
                    <a:pt x="444" y="65"/>
                  </a:lnTo>
                  <a:lnTo>
                    <a:pt x="438" y="59"/>
                  </a:lnTo>
                  <a:lnTo>
                    <a:pt x="432" y="51"/>
                  </a:lnTo>
                  <a:lnTo>
                    <a:pt x="426" y="43"/>
                  </a:lnTo>
                  <a:lnTo>
                    <a:pt x="420" y="33"/>
                  </a:lnTo>
                  <a:lnTo>
                    <a:pt x="414" y="23"/>
                  </a:lnTo>
                  <a:lnTo>
                    <a:pt x="412" y="17"/>
                  </a:lnTo>
                  <a:lnTo>
                    <a:pt x="406" y="11"/>
                  </a:lnTo>
                  <a:lnTo>
                    <a:pt x="402" y="7"/>
                  </a:lnTo>
                  <a:lnTo>
                    <a:pt x="394" y="4"/>
                  </a:lnTo>
                  <a:lnTo>
                    <a:pt x="385" y="0"/>
                  </a:lnTo>
                  <a:lnTo>
                    <a:pt x="375" y="0"/>
                  </a:lnTo>
                  <a:lnTo>
                    <a:pt x="363" y="0"/>
                  </a:lnTo>
                  <a:lnTo>
                    <a:pt x="349" y="4"/>
                  </a:lnTo>
                  <a:lnTo>
                    <a:pt x="355" y="15"/>
                  </a:lnTo>
                  <a:lnTo>
                    <a:pt x="359" y="29"/>
                  </a:lnTo>
                  <a:lnTo>
                    <a:pt x="357" y="45"/>
                  </a:lnTo>
                  <a:lnTo>
                    <a:pt x="345" y="59"/>
                  </a:lnTo>
                  <a:lnTo>
                    <a:pt x="335" y="57"/>
                  </a:lnTo>
                  <a:lnTo>
                    <a:pt x="325" y="57"/>
                  </a:lnTo>
                  <a:lnTo>
                    <a:pt x="317" y="55"/>
                  </a:lnTo>
                  <a:lnTo>
                    <a:pt x="312" y="55"/>
                  </a:lnTo>
                  <a:lnTo>
                    <a:pt x="304" y="63"/>
                  </a:lnTo>
                  <a:lnTo>
                    <a:pt x="296" y="69"/>
                  </a:lnTo>
                  <a:lnTo>
                    <a:pt x="288" y="75"/>
                  </a:lnTo>
                  <a:lnTo>
                    <a:pt x="278" y="80"/>
                  </a:lnTo>
                  <a:lnTo>
                    <a:pt x="278" y="86"/>
                  </a:lnTo>
                  <a:lnTo>
                    <a:pt x="278" y="92"/>
                  </a:lnTo>
                  <a:lnTo>
                    <a:pt x="276" y="98"/>
                  </a:lnTo>
                  <a:lnTo>
                    <a:pt x="274" y="104"/>
                  </a:lnTo>
                  <a:lnTo>
                    <a:pt x="270" y="104"/>
                  </a:lnTo>
                  <a:lnTo>
                    <a:pt x="266" y="104"/>
                  </a:lnTo>
                  <a:lnTo>
                    <a:pt x="264" y="106"/>
                  </a:lnTo>
                  <a:lnTo>
                    <a:pt x="262" y="106"/>
                  </a:lnTo>
                  <a:lnTo>
                    <a:pt x="250" y="122"/>
                  </a:lnTo>
                  <a:lnTo>
                    <a:pt x="235" y="146"/>
                  </a:lnTo>
                  <a:lnTo>
                    <a:pt x="219" y="169"/>
                  </a:lnTo>
                  <a:lnTo>
                    <a:pt x="205" y="189"/>
                  </a:lnTo>
                  <a:lnTo>
                    <a:pt x="195" y="199"/>
                  </a:lnTo>
                  <a:lnTo>
                    <a:pt x="185" y="205"/>
                  </a:lnTo>
                  <a:lnTo>
                    <a:pt x="175" y="209"/>
                  </a:lnTo>
                  <a:lnTo>
                    <a:pt x="160" y="209"/>
                  </a:lnTo>
                  <a:lnTo>
                    <a:pt x="146" y="211"/>
                  </a:lnTo>
                  <a:lnTo>
                    <a:pt x="138" y="219"/>
                  </a:lnTo>
                  <a:lnTo>
                    <a:pt x="134" y="224"/>
                  </a:lnTo>
                  <a:lnTo>
                    <a:pt x="130" y="230"/>
                  </a:lnTo>
                  <a:lnTo>
                    <a:pt x="138" y="236"/>
                  </a:lnTo>
                  <a:lnTo>
                    <a:pt x="146" y="244"/>
                  </a:lnTo>
                  <a:lnTo>
                    <a:pt x="150" y="250"/>
                  </a:lnTo>
                  <a:lnTo>
                    <a:pt x="152" y="252"/>
                  </a:lnTo>
                  <a:lnTo>
                    <a:pt x="152" y="252"/>
                  </a:lnTo>
                  <a:lnTo>
                    <a:pt x="156" y="252"/>
                  </a:lnTo>
                  <a:lnTo>
                    <a:pt x="158" y="252"/>
                  </a:lnTo>
                  <a:lnTo>
                    <a:pt x="160" y="254"/>
                  </a:lnTo>
                  <a:lnTo>
                    <a:pt x="160" y="258"/>
                  </a:lnTo>
                  <a:lnTo>
                    <a:pt x="160" y="262"/>
                  </a:lnTo>
                  <a:lnTo>
                    <a:pt x="158" y="270"/>
                  </a:lnTo>
                  <a:lnTo>
                    <a:pt x="156" y="278"/>
                  </a:lnTo>
                  <a:lnTo>
                    <a:pt x="169" y="290"/>
                  </a:lnTo>
                  <a:lnTo>
                    <a:pt x="185" y="299"/>
                  </a:lnTo>
                  <a:lnTo>
                    <a:pt x="205" y="309"/>
                  </a:lnTo>
                  <a:lnTo>
                    <a:pt x="225" y="319"/>
                  </a:lnTo>
                  <a:lnTo>
                    <a:pt x="242" y="327"/>
                  </a:lnTo>
                  <a:lnTo>
                    <a:pt x="258" y="333"/>
                  </a:lnTo>
                  <a:lnTo>
                    <a:pt x="268" y="337"/>
                  </a:lnTo>
                  <a:lnTo>
                    <a:pt x="272" y="341"/>
                  </a:lnTo>
                  <a:lnTo>
                    <a:pt x="274" y="347"/>
                  </a:lnTo>
                  <a:lnTo>
                    <a:pt x="276" y="357"/>
                  </a:lnTo>
                  <a:lnTo>
                    <a:pt x="280" y="366"/>
                  </a:lnTo>
                  <a:lnTo>
                    <a:pt x="284" y="372"/>
                  </a:lnTo>
                  <a:lnTo>
                    <a:pt x="292" y="376"/>
                  </a:lnTo>
                  <a:lnTo>
                    <a:pt x="302" y="384"/>
                  </a:lnTo>
                  <a:lnTo>
                    <a:pt x="314" y="392"/>
                  </a:lnTo>
                  <a:lnTo>
                    <a:pt x="319" y="396"/>
                  </a:lnTo>
                  <a:lnTo>
                    <a:pt x="321" y="398"/>
                  </a:lnTo>
                  <a:lnTo>
                    <a:pt x="321" y="402"/>
                  </a:lnTo>
                  <a:lnTo>
                    <a:pt x="323" y="404"/>
                  </a:lnTo>
                  <a:lnTo>
                    <a:pt x="323" y="408"/>
                  </a:lnTo>
                  <a:lnTo>
                    <a:pt x="319" y="408"/>
                  </a:lnTo>
                  <a:lnTo>
                    <a:pt x="316" y="408"/>
                  </a:lnTo>
                  <a:lnTo>
                    <a:pt x="314" y="410"/>
                  </a:lnTo>
                  <a:lnTo>
                    <a:pt x="316" y="414"/>
                  </a:lnTo>
                  <a:lnTo>
                    <a:pt x="325" y="426"/>
                  </a:lnTo>
                  <a:lnTo>
                    <a:pt x="339" y="451"/>
                  </a:lnTo>
                  <a:lnTo>
                    <a:pt x="351" y="481"/>
                  </a:lnTo>
                  <a:lnTo>
                    <a:pt x="351" y="507"/>
                  </a:lnTo>
                  <a:lnTo>
                    <a:pt x="359" y="503"/>
                  </a:lnTo>
                  <a:lnTo>
                    <a:pt x="371" y="524"/>
                  </a:lnTo>
                  <a:lnTo>
                    <a:pt x="383" y="550"/>
                  </a:lnTo>
                  <a:lnTo>
                    <a:pt x="394" y="572"/>
                  </a:lnTo>
                  <a:lnTo>
                    <a:pt x="400" y="587"/>
                  </a:lnTo>
                  <a:lnTo>
                    <a:pt x="408" y="597"/>
                  </a:lnTo>
                  <a:lnTo>
                    <a:pt x="414" y="607"/>
                  </a:lnTo>
                  <a:lnTo>
                    <a:pt x="418" y="617"/>
                  </a:lnTo>
                  <a:lnTo>
                    <a:pt x="418" y="625"/>
                  </a:lnTo>
                  <a:lnTo>
                    <a:pt x="412" y="631"/>
                  </a:lnTo>
                  <a:lnTo>
                    <a:pt x="400" y="643"/>
                  </a:lnTo>
                  <a:lnTo>
                    <a:pt x="385" y="658"/>
                  </a:lnTo>
                  <a:lnTo>
                    <a:pt x="365" y="676"/>
                  </a:lnTo>
                  <a:lnTo>
                    <a:pt x="347" y="694"/>
                  </a:lnTo>
                  <a:lnTo>
                    <a:pt x="329" y="710"/>
                  </a:lnTo>
                  <a:lnTo>
                    <a:pt x="316" y="723"/>
                  </a:lnTo>
                  <a:lnTo>
                    <a:pt x="308" y="733"/>
                  </a:lnTo>
                  <a:lnTo>
                    <a:pt x="288" y="743"/>
                  </a:lnTo>
                  <a:lnTo>
                    <a:pt x="264" y="753"/>
                  </a:lnTo>
                  <a:lnTo>
                    <a:pt x="237" y="761"/>
                  </a:lnTo>
                  <a:lnTo>
                    <a:pt x="209" y="769"/>
                  </a:lnTo>
                  <a:lnTo>
                    <a:pt x="177" y="777"/>
                  </a:lnTo>
                  <a:lnTo>
                    <a:pt x="150" y="783"/>
                  </a:lnTo>
                  <a:lnTo>
                    <a:pt x="122" y="787"/>
                  </a:lnTo>
                  <a:lnTo>
                    <a:pt x="98" y="789"/>
                  </a:lnTo>
                  <a:lnTo>
                    <a:pt x="102" y="794"/>
                  </a:lnTo>
                  <a:lnTo>
                    <a:pt x="106" y="800"/>
                  </a:lnTo>
                  <a:lnTo>
                    <a:pt x="108" y="804"/>
                  </a:lnTo>
                  <a:lnTo>
                    <a:pt x="108" y="806"/>
                  </a:lnTo>
                  <a:lnTo>
                    <a:pt x="102" y="806"/>
                  </a:lnTo>
                  <a:lnTo>
                    <a:pt x="96" y="806"/>
                  </a:lnTo>
                  <a:lnTo>
                    <a:pt x="90" y="804"/>
                  </a:lnTo>
                  <a:lnTo>
                    <a:pt x="81" y="798"/>
                  </a:lnTo>
                  <a:lnTo>
                    <a:pt x="69" y="798"/>
                  </a:lnTo>
                  <a:lnTo>
                    <a:pt x="59" y="798"/>
                  </a:lnTo>
                  <a:lnTo>
                    <a:pt x="47" y="800"/>
                  </a:lnTo>
                  <a:lnTo>
                    <a:pt x="35" y="800"/>
                  </a:lnTo>
                  <a:lnTo>
                    <a:pt x="25" y="802"/>
                  </a:lnTo>
                  <a:lnTo>
                    <a:pt x="15" y="804"/>
                  </a:lnTo>
                  <a:lnTo>
                    <a:pt x="7" y="804"/>
                  </a:lnTo>
                  <a:lnTo>
                    <a:pt x="0" y="806"/>
                  </a:lnTo>
                  <a:lnTo>
                    <a:pt x="13" y="816"/>
                  </a:lnTo>
                  <a:lnTo>
                    <a:pt x="29" y="824"/>
                  </a:lnTo>
                  <a:lnTo>
                    <a:pt x="45" y="830"/>
                  </a:lnTo>
                  <a:lnTo>
                    <a:pt x="61" y="836"/>
                  </a:lnTo>
                  <a:lnTo>
                    <a:pt x="79" y="838"/>
                  </a:lnTo>
                  <a:lnTo>
                    <a:pt x="96" y="840"/>
                  </a:lnTo>
                  <a:lnTo>
                    <a:pt x="114" y="840"/>
                  </a:lnTo>
                  <a:lnTo>
                    <a:pt x="134" y="838"/>
                  </a:lnTo>
                  <a:lnTo>
                    <a:pt x="152" y="834"/>
                  </a:lnTo>
                  <a:lnTo>
                    <a:pt x="169" y="830"/>
                  </a:lnTo>
                  <a:lnTo>
                    <a:pt x="185" y="826"/>
                  </a:lnTo>
                  <a:lnTo>
                    <a:pt x="199" y="820"/>
                  </a:lnTo>
                  <a:lnTo>
                    <a:pt x="211" y="816"/>
                  </a:lnTo>
                  <a:lnTo>
                    <a:pt x="221" y="812"/>
                  </a:lnTo>
                  <a:lnTo>
                    <a:pt x="227" y="808"/>
                  </a:lnTo>
                  <a:lnTo>
                    <a:pt x="233" y="806"/>
                  </a:lnTo>
                  <a:lnTo>
                    <a:pt x="240" y="802"/>
                  </a:lnTo>
                  <a:lnTo>
                    <a:pt x="250" y="802"/>
                  </a:lnTo>
                  <a:lnTo>
                    <a:pt x="256" y="810"/>
                  </a:lnTo>
                  <a:lnTo>
                    <a:pt x="260" y="824"/>
                  </a:lnTo>
                  <a:lnTo>
                    <a:pt x="262" y="826"/>
                  </a:lnTo>
                  <a:lnTo>
                    <a:pt x="266" y="826"/>
                  </a:lnTo>
                  <a:lnTo>
                    <a:pt x="270" y="822"/>
                  </a:lnTo>
                  <a:lnTo>
                    <a:pt x="274" y="814"/>
                  </a:lnTo>
                  <a:lnTo>
                    <a:pt x="278" y="802"/>
                  </a:lnTo>
                  <a:lnTo>
                    <a:pt x="284" y="789"/>
                  </a:lnTo>
                  <a:lnTo>
                    <a:pt x="292" y="779"/>
                  </a:lnTo>
                  <a:lnTo>
                    <a:pt x="300" y="777"/>
                  </a:lnTo>
                  <a:lnTo>
                    <a:pt x="308" y="783"/>
                  </a:lnTo>
                  <a:lnTo>
                    <a:pt x="316" y="789"/>
                  </a:lnTo>
                  <a:lnTo>
                    <a:pt x="317" y="798"/>
                  </a:lnTo>
                  <a:lnTo>
                    <a:pt x="317" y="808"/>
                  </a:lnTo>
                  <a:lnTo>
                    <a:pt x="316" y="818"/>
                  </a:lnTo>
                  <a:lnTo>
                    <a:pt x="314" y="824"/>
                  </a:lnTo>
                  <a:lnTo>
                    <a:pt x="312" y="830"/>
                  </a:lnTo>
                  <a:lnTo>
                    <a:pt x="308" y="834"/>
                  </a:lnTo>
                  <a:lnTo>
                    <a:pt x="302" y="840"/>
                  </a:lnTo>
                  <a:lnTo>
                    <a:pt x="296" y="844"/>
                  </a:lnTo>
                  <a:lnTo>
                    <a:pt x="292" y="852"/>
                  </a:lnTo>
                  <a:lnTo>
                    <a:pt x="290" y="862"/>
                  </a:lnTo>
                  <a:lnTo>
                    <a:pt x="294" y="867"/>
                  </a:lnTo>
                  <a:lnTo>
                    <a:pt x="296" y="875"/>
                  </a:lnTo>
                  <a:lnTo>
                    <a:pt x="294" y="885"/>
                  </a:lnTo>
                  <a:lnTo>
                    <a:pt x="290" y="891"/>
                  </a:lnTo>
                  <a:lnTo>
                    <a:pt x="286" y="899"/>
                  </a:lnTo>
                  <a:lnTo>
                    <a:pt x="286" y="909"/>
                  </a:lnTo>
                  <a:lnTo>
                    <a:pt x="286" y="919"/>
                  </a:lnTo>
                  <a:lnTo>
                    <a:pt x="288" y="929"/>
                  </a:lnTo>
                  <a:close/>
                </a:path>
              </a:pathLst>
            </a:custGeom>
            <a:solidFill>
              <a:srgbClr val="3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76160" y="2359080"/>
              <a:ext cx="1022040" cy="928440"/>
            </a:xfrm>
            <a:custGeom>
              <a:avLst/>
              <a:gdLst/>
              <a:ahLst/>
              <a:rect l="l" t="t" r="r" b="b"/>
              <a:pathLst>
                <a:path w="646" h="799">
                  <a:moveTo>
                    <a:pt x="0" y="240"/>
                  </a:moveTo>
                  <a:lnTo>
                    <a:pt x="4" y="229"/>
                  </a:lnTo>
                  <a:lnTo>
                    <a:pt x="10" y="215"/>
                  </a:lnTo>
                  <a:lnTo>
                    <a:pt x="18" y="201"/>
                  </a:lnTo>
                  <a:lnTo>
                    <a:pt x="28" y="187"/>
                  </a:lnTo>
                  <a:lnTo>
                    <a:pt x="40" y="175"/>
                  </a:lnTo>
                  <a:lnTo>
                    <a:pt x="54" y="164"/>
                  </a:lnTo>
                  <a:lnTo>
                    <a:pt x="68" y="154"/>
                  </a:lnTo>
                  <a:lnTo>
                    <a:pt x="85" y="148"/>
                  </a:lnTo>
                  <a:lnTo>
                    <a:pt x="105" y="144"/>
                  </a:lnTo>
                  <a:lnTo>
                    <a:pt x="125" y="142"/>
                  </a:lnTo>
                  <a:lnTo>
                    <a:pt x="147" y="142"/>
                  </a:lnTo>
                  <a:lnTo>
                    <a:pt x="170" y="144"/>
                  </a:lnTo>
                  <a:lnTo>
                    <a:pt x="192" y="148"/>
                  </a:lnTo>
                  <a:lnTo>
                    <a:pt x="214" y="154"/>
                  </a:lnTo>
                  <a:lnTo>
                    <a:pt x="232" y="162"/>
                  </a:lnTo>
                  <a:lnTo>
                    <a:pt x="247" y="171"/>
                  </a:lnTo>
                  <a:lnTo>
                    <a:pt x="259" y="179"/>
                  </a:lnTo>
                  <a:lnTo>
                    <a:pt x="269" y="185"/>
                  </a:lnTo>
                  <a:lnTo>
                    <a:pt x="279" y="189"/>
                  </a:lnTo>
                  <a:lnTo>
                    <a:pt x="287" y="187"/>
                  </a:lnTo>
                  <a:lnTo>
                    <a:pt x="293" y="185"/>
                  </a:lnTo>
                  <a:lnTo>
                    <a:pt x="299" y="179"/>
                  </a:lnTo>
                  <a:lnTo>
                    <a:pt x="303" y="173"/>
                  </a:lnTo>
                  <a:lnTo>
                    <a:pt x="309" y="164"/>
                  </a:lnTo>
                  <a:lnTo>
                    <a:pt x="324" y="168"/>
                  </a:lnTo>
                  <a:lnTo>
                    <a:pt x="338" y="171"/>
                  </a:lnTo>
                  <a:lnTo>
                    <a:pt x="352" y="175"/>
                  </a:lnTo>
                  <a:lnTo>
                    <a:pt x="366" y="179"/>
                  </a:lnTo>
                  <a:lnTo>
                    <a:pt x="380" y="185"/>
                  </a:lnTo>
                  <a:lnTo>
                    <a:pt x="389" y="191"/>
                  </a:lnTo>
                  <a:lnTo>
                    <a:pt x="401" y="197"/>
                  </a:lnTo>
                  <a:lnTo>
                    <a:pt x="409" y="205"/>
                  </a:lnTo>
                  <a:lnTo>
                    <a:pt x="425" y="219"/>
                  </a:lnTo>
                  <a:lnTo>
                    <a:pt x="441" y="231"/>
                  </a:lnTo>
                  <a:lnTo>
                    <a:pt x="453" y="235"/>
                  </a:lnTo>
                  <a:lnTo>
                    <a:pt x="464" y="233"/>
                  </a:lnTo>
                  <a:lnTo>
                    <a:pt x="466" y="227"/>
                  </a:lnTo>
                  <a:lnTo>
                    <a:pt x="466" y="217"/>
                  </a:lnTo>
                  <a:lnTo>
                    <a:pt x="461" y="205"/>
                  </a:lnTo>
                  <a:lnTo>
                    <a:pt x="453" y="189"/>
                  </a:lnTo>
                  <a:lnTo>
                    <a:pt x="441" y="175"/>
                  </a:lnTo>
                  <a:lnTo>
                    <a:pt x="427" y="160"/>
                  </a:lnTo>
                  <a:lnTo>
                    <a:pt x="413" y="144"/>
                  </a:lnTo>
                  <a:lnTo>
                    <a:pt x="397" y="130"/>
                  </a:lnTo>
                  <a:lnTo>
                    <a:pt x="378" y="116"/>
                  </a:lnTo>
                  <a:lnTo>
                    <a:pt x="356" y="102"/>
                  </a:lnTo>
                  <a:lnTo>
                    <a:pt x="334" y="89"/>
                  </a:lnTo>
                  <a:lnTo>
                    <a:pt x="312" y="77"/>
                  </a:lnTo>
                  <a:lnTo>
                    <a:pt x="293" y="65"/>
                  </a:lnTo>
                  <a:lnTo>
                    <a:pt x="275" y="55"/>
                  </a:lnTo>
                  <a:lnTo>
                    <a:pt x="263" y="45"/>
                  </a:lnTo>
                  <a:lnTo>
                    <a:pt x="257" y="37"/>
                  </a:lnTo>
                  <a:lnTo>
                    <a:pt x="265" y="27"/>
                  </a:lnTo>
                  <a:lnTo>
                    <a:pt x="273" y="20"/>
                  </a:lnTo>
                  <a:lnTo>
                    <a:pt x="281" y="12"/>
                  </a:lnTo>
                  <a:lnTo>
                    <a:pt x="291" y="8"/>
                  </a:lnTo>
                  <a:lnTo>
                    <a:pt x="301" y="4"/>
                  </a:lnTo>
                  <a:lnTo>
                    <a:pt x="310" y="2"/>
                  </a:lnTo>
                  <a:lnTo>
                    <a:pt x="318" y="0"/>
                  </a:lnTo>
                  <a:lnTo>
                    <a:pt x="326" y="0"/>
                  </a:lnTo>
                  <a:lnTo>
                    <a:pt x="334" y="0"/>
                  </a:lnTo>
                  <a:lnTo>
                    <a:pt x="342" y="4"/>
                  </a:lnTo>
                  <a:lnTo>
                    <a:pt x="350" y="6"/>
                  </a:lnTo>
                  <a:lnTo>
                    <a:pt x="358" y="12"/>
                  </a:lnTo>
                  <a:lnTo>
                    <a:pt x="368" y="18"/>
                  </a:lnTo>
                  <a:lnTo>
                    <a:pt x="376" y="25"/>
                  </a:lnTo>
                  <a:lnTo>
                    <a:pt x="382" y="33"/>
                  </a:lnTo>
                  <a:lnTo>
                    <a:pt x="389" y="41"/>
                  </a:lnTo>
                  <a:lnTo>
                    <a:pt x="401" y="57"/>
                  </a:lnTo>
                  <a:lnTo>
                    <a:pt x="411" y="65"/>
                  </a:lnTo>
                  <a:lnTo>
                    <a:pt x="423" y="65"/>
                  </a:lnTo>
                  <a:lnTo>
                    <a:pt x="443" y="49"/>
                  </a:lnTo>
                  <a:lnTo>
                    <a:pt x="449" y="77"/>
                  </a:lnTo>
                  <a:lnTo>
                    <a:pt x="457" y="102"/>
                  </a:lnTo>
                  <a:lnTo>
                    <a:pt x="464" y="126"/>
                  </a:lnTo>
                  <a:lnTo>
                    <a:pt x="474" y="148"/>
                  </a:lnTo>
                  <a:lnTo>
                    <a:pt x="482" y="168"/>
                  </a:lnTo>
                  <a:lnTo>
                    <a:pt x="490" y="183"/>
                  </a:lnTo>
                  <a:lnTo>
                    <a:pt x="498" y="197"/>
                  </a:lnTo>
                  <a:lnTo>
                    <a:pt x="504" y="207"/>
                  </a:lnTo>
                  <a:lnTo>
                    <a:pt x="516" y="227"/>
                  </a:lnTo>
                  <a:lnTo>
                    <a:pt x="532" y="250"/>
                  </a:lnTo>
                  <a:lnTo>
                    <a:pt x="545" y="272"/>
                  </a:lnTo>
                  <a:lnTo>
                    <a:pt x="557" y="286"/>
                  </a:lnTo>
                  <a:lnTo>
                    <a:pt x="563" y="292"/>
                  </a:lnTo>
                  <a:lnTo>
                    <a:pt x="573" y="298"/>
                  </a:lnTo>
                  <a:lnTo>
                    <a:pt x="583" y="306"/>
                  </a:lnTo>
                  <a:lnTo>
                    <a:pt x="595" y="317"/>
                  </a:lnTo>
                  <a:lnTo>
                    <a:pt x="609" y="331"/>
                  </a:lnTo>
                  <a:lnTo>
                    <a:pt x="620" y="349"/>
                  </a:lnTo>
                  <a:lnTo>
                    <a:pt x="634" y="369"/>
                  </a:lnTo>
                  <a:lnTo>
                    <a:pt x="646" y="392"/>
                  </a:lnTo>
                  <a:lnTo>
                    <a:pt x="630" y="402"/>
                  </a:lnTo>
                  <a:lnTo>
                    <a:pt x="615" y="414"/>
                  </a:lnTo>
                  <a:lnTo>
                    <a:pt x="601" y="426"/>
                  </a:lnTo>
                  <a:lnTo>
                    <a:pt x="595" y="434"/>
                  </a:lnTo>
                  <a:lnTo>
                    <a:pt x="595" y="475"/>
                  </a:lnTo>
                  <a:lnTo>
                    <a:pt x="599" y="534"/>
                  </a:lnTo>
                  <a:lnTo>
                    <a:pt x="603" y="588"/>
                  </a:lnTo>
                  <a:lnTo>
                    <a:pt x="603" y="617"/>
                  </a:lnTo>
                  <a:lnTo>
                    <a:pt x="597" y="625"/>
                  </a:lnTo>
                  <a:lnTo>
                    <a:pt x="585" y="637"/>
                  </a:lnTo>
                  <a:lnTo>
                    <a:pt x="569" y="653"/>
                  </a:lnTo>
                  <a:lnTo>
                    <a:pt x="551" y="670"/>
                  </a:lnTo>
                  <a:lnTo>
                    <a:pt x="532" y="688"/>
                  </a:lnTo>
                  <a:lnTo>
                    <a:pt x="514" y="704"/>
                  </a:lnTo>
                  <a:lnTo>
                    <a:pt x="496" y="718"/>
                  </a:lnTo>
                  <a:lnTo>
                    <a:pt x="484" y="728"/>
                  </a:lnTo>
                  <a:lnTo>
                    <a:pt x="474" y="734"/>
                  </a:lnTo>
                  <a:lnTo>
                    <a:pt x="464" y="739"/>
                  </a:lnTo>
                  <a:lnTo>
                    <a:pt x="455" y="743"/>
                  </a:lnTo>
                  <a:lnTo>
                    <a:pt x="445" y="747"/>
                  </a:lnTo>
                  <a:lnTo>
                    <a:pt x="437" y="747"/>
                  </a:lnTo>
                  <a:lnTo>
                    <a:pt x="429" y="743"/>
                  </a:lnTo>
                  <a:lnTo>
                    <a:pt x="423" y="738"/>
                  </a:lnTo>
                  <a:lnTo>
                    <a:pt x="417" y="726"/>
                  </a:lnTo>
                  <a:lnTo>
                    <a:pt x="411" y="696"/>
                  </a:lnTo>
                  <a:lnTo>
                    <a:pt x="405" y="665"/>
                  </a:lnTo>
                  <a:lnTo>
                    <a:pt x="397" y="641"/>
                  </a:lnTo>
                  <a:lnTo>
                    <a:pt x="386" y="629"/>
                  </a:lnTo>
                  <a:lnTo>
                    <a:pt x="372" y="639"/>
                  </a:lnTo>
                  <a:lnTo>
                    <a:pt x="366" y="661"/>
                  </a:lnTo>
                  <a:lnTo>
                    <a:pt x="362" y="688"/>
                  </a:lnTo>
                  <a:lnTo>
                    <a:pt x="360" y="712"/>
                  </a:lnTo>
                  <a:lnTo>
                    <a:pt x="360" y="736"/>
                  </a:lnTo>
                  <a:lnTo>
                    <a:pt x="358" y="761"/>
                  </a:lnTo>
                  <a:lnTo>
                    <a:pt x="354" y="785"/>
                  </a:lnTo>
                  <a:lnTo>
                    <a:pt x="346" y="799"/>
                  </a:lnTo>
                  <a:lnTo>
                    <a:pt x="328" y="779"/>
                  </a:lnTo>
                  <a:lnTo>
                    <a:pt x="305" y="751"/>
                  </a:lnTo>
                  <a:lnTo>
                    <a:pt x="275" y="716"/>
                  </a:lnTo>
                  <a:lnTo>
                    <a:pt x="243" y="676"/>
                  </a:lnTo>
                  <a:lnTo>
                    <a:pt x="210" y="635"/>
                  </a:lnTo>
                  <a:lnTo>
                    <a:pt x="180" y="597"/>
                  </a:lnTo>
                  <a:lnTo>
                    <a:pt x="153" y="564"/>
                  </a:lnTo>
                  <a:lnTo>
                    <a:pt x="133" y="538"/>
                  </a:lnTo>
                  <a:lnTo>
                    <a:pt x="115" y="517"/>
                  </a:lnTo>
                  <a:lnTo>
                    <a:pt x="95" y="489"/>
                  </a:lnTo>
                  <a:lnTo>
                    <a:pt x="74" y="459"/>
                  </a:lnTo>
                  <a:lnTo>
                    <a:pt x="54" y="428"/>
                  </a:lnTo>
                  <a:lnTo>
                    <a:pt x="38" y="396"/>
                  </a:lnTo>
                  <a:lnTo>
                    <a:pt x="24" y="363"/>
                  </a:lnTo>
                  <a:lnTo>
                    <a:pt x="18" y="331"/>
                  </a:lnTo>
                  <a:lnTo>
                    <a:pt x="20" y="302"/>
                  </a:lnTo>
                  <a:lnTo>
                    <a:pt x="24" y="266"/>
                  </a:lnTo>
                  <a:lnTo>
                    <a:pt x="20" y="248"/>
                  </a:lnTo>
                  <a:lnTo>
                    <a:pt x="12" y="242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3f9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22160" y="1938960"/>
              <a:ext cx="944640" cy="1414440"/>
            </a:xfrm>
            <a:custGeom>
              <a:avLst/>
              <a:gdLst/>
              <a:ahLst/>
              <a:rect l="l" t="t" r="r" b="b"/>
              <a:pathLst>
                <a:path w="598" h="1219">
                  <a:moveTo>
                    <a:pt x="180" y="1169"/>
                  </a:moveTo>
                  <a:lnTo>
                    <a:pt x="187" y="1167"/>
                  </a:lnTo>
                  <a:lnTo>
                    <a:pt x="195" y="1167"/>
                  </a:lnTo>
                  <a:lnTo>
                    <a:pt x="205" y="1165"/>
                  </a:lnTo>
                  <a:lnTo>
                    <a:pt x="215" y="1163"/>
                  </a:lnTo>
                  <a:lnTo>
                    <a:pt x="227" y="1163"/>
                  </a:lnTo>
                  <a:lnTo>
                    <a:pt x="239" y="1161"/>
                  </a:lnTo>
                  <a:lnTo>
                    <a:pt x="249" y="1161"/>
                  </a:lnTo>
                  <a:lnTo>
                    <a:pt x="261" y="1161"/>
                  </a:lnTo>
                  <a:lnTo>
                    <a:pt x="270" y="1167"/>
                  </a:lnTo>
                  <a:lnTo>
                    <a:pt x="276" y="1169"/>
                  </a:lnTo>
                  <a:lnTo>
                    <a:pt x="282" y="1169"/>
                  </a:lnTo>
                  <a:lnTo>
                    <a:pt x="288" y="1169"/>
                  </a:lnTo>
                  <a:lnTo>
                    <a:pt x="288" y="1167"/>
                  </a:lnTo>
                  <a:lnTo>
                    <a:pt x="286" y="1163"/>
                  </a:lnTo>
                  <a:lnTo>
                    <a:pt x="282" y="1157"/>
                  </a:lnTo>
                  <a:lnTo>
                    <a:pt x="278" y="1152"/>
                  </a:lnTo>
                  <a:lnTo>
                    <a:pt x="302" y="1150"/>
                  </a:lnTo>
                  <a:lnTo>
                    <a:pt x="330" y="1146"/>
                  </a:lnTo>
                  <a:lnTo>
                    <a:pt x="357" y="1140"/>
                  </a:lnTo>
                  <a:lnTo>
                    <a:pt x="389" y="1132"/>
                  </a:lnTo>
                  <a:lnTo>
                    <a:pt x="417" y="1124"/>
                  </a:lnTo>
                  <a:lnTo>
                    <a:pt x="444" y="1116"/>
                  </a:lnTo>
                  <a:lnTo>
                    <a:pt x="468" y="1106"/>
                  </a:lnTo>
                  <a:lnTo>
                    <a:pt x="488" y="1096"/>
                  </a:lnTo>
                  <a:lnTo>
                    <a:pt x="496" y="1086"/>
                  </a:lnTo>
                  <a:lnTo>
                    <a:pt x="509" y="1073"/>
                  </a:lnTo>
                  <a:lnTo>
                    <a:pt x="527" y="1057"/>
                  </a:lnTo>
                  <a:lnTo>
                    <a:pt x="545" y="1039"/>
                  </a:lnTo>
                  <a:lnTo>
                    <a:pt x="565" y="1021"/>
                  </a:lnTo>
                  <a:lnTo>
                    <a:pt x="580" y="1006"/>
                  </a:lnTo>
                  <a:lnTo>
                    <a:pt x="592" y="994"/>
                  </a:lnTo>
                  <a:lnTo>
                    <a:pt x="598" y="988"/>
                  </a:lnTo>
                  <a:lnTo>
                    <a:pt x="598" y="980"/>
                  </a:lnTo>
                  <a:lnTo>
                    <a:pt x="594" y="970"/>
                  </a:lnTo>
                  <a:lnTo>
                    <a:pt x="588" y="960"/>
                  </a:lnTo>
                  <a:lnTo>
                    <a:pt x="580" y="950"/>
                  </a:lnTo>
                  <a:lnTo>
                    <a:pt x="574" y="935"/>
                  </a:lnTo>
                  <a:lnTo>
                    <a:pt x="563" y="913"/>
                  </a:lnTo>
                  <a:lnTo>
                    <a:pt x="551" y="887"/>
                  </a:lnTo>
                  <a:lnTo>
                    <a:pt x="539" y="866"/>
                  </a:lnTo>
                  <a:lnTo>
                    <a:pt x="531" y="870"/>
                  </a:lnTo>
                  <a:lnTo>
                    <a:pt x="531" y="844"/>
                  </a:lnTo>
                  <a:lnTo>
                    <a:pt x="519" y="814"/>
                  </a:lnTo>
                  <a:lnTo>
                    <a:pt x="505" y="789"/>
                  </a:lnTo>
                  <a:lnTo>
                    <a:pt x="496" y="777"/>
                  </a:lnTo>
                  <a:lnTo>
                    <a:pt x="494" y="773"/>
                  </a:lnTo>
                  <a:lnTo>
                    <a:pt x="496" y="771"/>
                  </a:lnTo>
                  <a:lnTo>
                    <a:pt x="499" y="771"/>
                  </a:lnTo>
                  <a:lnTo>
                    <a:pt x="503" y="771"/>
                  </a:lnTo>
                  <a:lnTo>
                    <a:pt x="503" y="767"/>
                  </a:lnTo>
                  <a:lnTo>
                    <a:pt x="501" y="765"/>
                  </a:lnTo>
                  <a:lnTo>
                    <a:pt x="501" y="761"/>
                  </a:lnTo>
                  <a:lnTo>
                    <a:pt x="499" y="759"/>
                  </a:lnTo>
                  <a:lnTo>
                    <a:pt x="494" y="755"/>
                  </a:lnTo>
                  <a:lnTo>
                    <a:pt x="482" y="747"/>
                  </a:lnTo>
                  <a:lnTo>
                    <a:pt x="472" y="739"/>
                  </a:lnTo>
                  <a:lnTo>
                    <a:pt x="464" y="735"/>
                  </a:lnTo>
                  <a:lnTo>
                    <a:pt x="460" y="729"/>
                  </a:lnTo>
                  <a:lnTo>
                    <a:pt x="456" y="720"/>
                  </a:lnTo>
                  <a:lnTo>
                    <a:pt x="454" y="710"/>
                  </a:lnTo>
                  <a:lnTo>
                    <a:pt x="452" y="704"/>
                  </a:lnTo>
                  <a:lnTo>
                    <a:pt x="448" y="700"/>
                  </a:lnTo>
                  <a:lnTo>
                    <a:pt x="438" y="696"/>
                  </a:lnTo>
                  <a:lnTo>
                    <a:pt x="422" y="690"/>
                  </a:lnTo>
                  <a:lnTo>
                    <a:pt x="405" y="682"/>
                  </a:lnTo>
                  <a:lnTo>
                    <a:pt x="385" y="672"/>
                  </a:lnTo>
                  <a:lnTo>
                    <a:pt x="365" y="662"/>
                  </a:lnTo>
                  <a:lnTo>
                    <a:pt x="349" y="653"/>
                  </a:lnTo>
                  <a:lnTo>
                    <a:pt x="336" y="641"/>
                  </a:lnTo>
                  <a:lnTo>
                    <a:pt x="338" y="633"/>
                  </a:lnTo>
                  <a:lnTo>
                    <a:pt x="340" y="625"/>
                  </a:lnTo>
                  <a:lnTo>
                    <a:pt x="340" y="621"/>
                  </a:lnTo>
                  <a:lnTo>
                    <a:pt x="340" y="617"/>
                  </a:lnTo>
                  <a:lnTo>
                    <a:pt x="338" y="615"/>
                  </a:lnTo>
                  <a:lnTo>
                    <a:pt x="336" y="615"/>
                  </a:lnTo>
                  <a:lnTo>
                    <a:pt x="332" y="615"/>
                  </a:lnTo>
                  <a:lnTo>
                    <a:pt x="332" y="615"/>
                  </a:lnTo>
                  <a:lnTo>
                    <a:pt x="330" y="613"/>
                  </a:lnTo>
                  <a:lnTo>
                    <a:pt x="326" y="607"/>
                  </a:lnTo>
                  <a:lnTo>
                    <a:pt x="318" y="599"/>
                  </a:lnTo>
                  <a:lnTo>
                    <a:pt x="310" y="593"/>
                  </a:lnTo>
                  <a:lnTo>
                    <a:pt x="314" y="587"/>
                  </a:lnTo>
                  <a:lnTo>
                    <a:pt x="318" y="582"/>
                  </a:lnTo>
                  <a:lnTo>
                    <a:pt x="326" y="574"/>
                  </a:lnTo>
                  <a:lnTo>
                    <a:pt x="340" y="572"/>
                  </a:lnTo>
                  <a:lnTo>
                    <a:pt x="355" y="572"/>
                  </a:lnTo>
                  <a:lnTo>
                    <a:pt x="365" y="568"/>
                  </a:lnTo>
                  <a:lnTo>
                    <a:pt x="375" y="562"/>
                  </a:lnTo>
                  <a:lnTo>
                    <a:pt x="385" y="552"/>
                  </a:lnTo>
                  <a:lnTo>
                    <a:pt x="399" y="532"/>
                  </a:lnTo>
                  <a:lnTo>
                    <a:pt x="415" y="509"/>
                  </a:lnTo>
                  <a:lnTo>
                    <a:pt x="430" y="485"/>
                  </a:lnTo>
                  <a:lnTo>
                    <a:pt x="442" y="469"/>
                  </a:lnTo>
                  <a:lnTo>
                    <a:pt x="444" y="469"/>
                  </a:lnTo>
                  <a:lnTo>
                    <a:pt x="446" y="467"/>
                  </a:lnTo>
                  <a:lnTo>
                    <a:pt x="450" y="467"/>
                  </a:lnTo>
                  <a:lnTo>
                    <a:pt x="454" y="467"/>
                  </a:lnTo>
                  <a:lnTo>
                    <a:pt x="456" y="461"/>
                  </a:lnTo>
                  <a:lnTo>
                    <a:pt x="458" y="455"/>
                  </a:lnTo>
                  <a:lnTo>
                    <a:pt x="458" y="449"/>
                  </a:lnTo>
                  <a:lnTo>
                    <a:pt x="458" y="443"/>
                  </a:lnTo>
                  <a:lnTo>
                    <a:pt x="468" y="438"/>
                  </a:lnTo>
                  <a:lnTo>
                    <a:pt x="476" y="432"/>
                  </a:lnTo>
                  <a:lnTo>
                    <a:pt x="484" y="426"/>
                  </a:lnTo>
                  <a:lnTo>
                    <a:pt x="492" y="418"/>
                  </a:lnTo>
                  <a:lnTo>
                    <a:pt x="497" y="418"/>
                  </a:lnTo>
                  <a:lnTo>
                    <a:pt x="505" y="420"/>
                  </a:lnTo>
                  <a:lnTo>
                    <a:pt x="515" y="420"/>
                  </a:lnTo>
                  <a:lnTo>
                    <a:pt x="525" y="422"/>
                  </a:lnTo>
                  <a:lnTo>
                    <a:pt x="537" y="408"/>
                  </a:lnTo>
                  <a:lnTo>
                    <a:pt x="539" y="392"/>
                  </a:lnTo>
                  <a:lnTo>
                    <a:pt x="535" y="378"/>
                  </a:lnTo>
                  <a:lnTo>
                    <a:pt x="529" y="367"/>
                  </a:lnTo>
                  <a:lnTo>
                    <a:pt x="517" y="349"/>
                  </a:lnTo>
                  <a:lnTo>
                    <a:pt x="507" y="331"/>
                  </a:lnTo>
                  <a:lnTo>
                    <a:pt x="497" y="313"/>
                  </a:lnTo>
                  <a:lnTo>
                    <a:pt x="494" y="301"/>
                  </a:lnTo>
                  <a:lnTo>
                    <a:pt x="505" y="301"/>
                  </a:lnTo>
                  <a:lnTo>
                    <a:pt x="521" y="298"/>
                  </a:lnTo>
                  <a:lnTo>
                    <a:pt x="537" y="296"/>
                  </a:lnTo>
                  <a:lnTo>
                    <a:pt x="547" y="290"/>
                  </a:lnTo>
                  <a:lnTo>
                    <a:pt x="543" y="246"/>
                  </a:lnTo>
                  <a:lnTo>
                    <a:pt x="551" y="207"/>
                  </a:lnTo>
                  <a:lnTo>
                    <a:pt x="565" y="177"/>
                  </a:lnTo>
                  <a:lnTo>
                    <a:pt x="573" y="163"/>
                  </a:lnTo>
                  <a:lnTo>
                    <a:pt x="574" y="159"/>
                  </a:lnTo>
                  <a:lnTo>
                    <a:pt x="574" y="154"/>
                  </a:lnTo>
                  <a:lnTo>
                    <a:pt x="571" y="148"/>
                  </a:lnTo>
                  <a:lnTo>
                    <a:pt x="565" y="140"/>
                  </a:lnTo>
                  <a:lnTo>
                    <a:pt x="559" y="132"/>
                  </a:lnTo>
                  <a:lnTo>
                    <a:pt x="555" y="122"/>
                  </a:lnTo>
                  <a:lnTo>
                    <a:pt x="553" y="114"/>
                  </a:lnTo>
                  <a:lnTo>
                    <a:pt x="553" y="106"/>
                  </a:lnTo>
                  <a:lnTo>
                    <a:pt x="521" y="86"/>
                  </a:lnTo>
                  <a:lnTo>
                    <a:pt x="488" y="69"/>
                  </a:lnTo>
                  <a:lnTo>
                    <a:pt x="454" y="51"/>
                  </a:lnTo>
                  <a:lnTo>
                    <a:pt x="418" y="37"/>
                  </a:lnTo>
                  <a:lnTo>
                    <a:pt x="383" y="25"/>
                  </a:lnTo>
                  <a:lnTo>
                    <a:pt x="345" y="13"/>
                  </a:lnTo>
                  <a:lnTo>
                    <a:pt x="308" y="6"/>
                  </a:lnTo>
                  <a:lnTo>
                    <a:pt x="270" y="0"/>
                  </a:lnTo>
                  <a:lnTo>
                    <a:pt x="278" y="10"/>
                  </a:lnTo>
                  <a:lnTo>
                    <a:pt x="290" y="19"/>
                  </a:lnTo>
                  <a:lnTo>
                    <a:pt x="302" y="29"/>
                  </a:lnTo>
                  <a:lnTo>
                    <a:pt x="316" y="37"/>
                  </a:lnTo>
                  <a:lnTo>
                    <a:pt x="332" y="47"/>
                  </a:lnTo>
                  <a:lnTo>
                    <a:pt x="347" y="53"/>
                  </a:lnTo>
                  <a:lnTo>
                    <a:pt x="365" y="59"/>
                  </a:lnTo>
                  <a:lnTo>
                    <a:pt x="383" y="65"/>
                  </a:lnTo>
                  <a:lnTo>
                    <a:pt x="377" y="86"/>
                  </a:lnTo>
                  <a:lnTo>
                    <a:pt x="363" y="104"/>
                  </a:lnTo>
                  <a:lnTo>
                    <a:pt x="347" y="122"/>
                  </a:lnTo>
                  <a:lnTo>
                    <a:pt x="336" y="132"/>
                  </a:lnTo>
                  <a:lnTo>
                    <a:pt x="322" y="136"/>
                  </a:lnTo>
                  <a:lnTo>
                    <a:pt x="308" y="134"/>
                  </a:lnTo>
                  <a:lnTo>
                    <a:pt x="294" y="130"/>
                  </a:lnTo>
                  <a:lnTo>
                    <a:pt x="280" y="120"/>
                  </a:lnTo>
                  <a:lnTo>
                    <a:pt x="266" y="110"/>
                  </a:lnTo>
                  <a:lnTo>
                    <a:pt x="253" y="100"/>
                  </a:lnTo>
                  <a:lnTo>
                    <a:pt x="243" y="90"/>
                  </a:lnTo>
                  <a:lnTo>
                    <a:pt x="233" y="85"/>
                  </a:lnTo>
                  <a:lnTo>
                    <a:pt x="225" y="81"/>
                  </a:lnTo>
                  <a:lnTo>
                    <a:pt x="215" y="75"/>
                  </a:lnTo>
                  <a:lnTo>
                    <a:pt x="205" y="71"/>
                  </a:lnTo>
                  <a:lnTo>
                    <a:pt x="193" y="67"/>
                  </a:lnTo>
                  <a:lnTo>
                    <a:pt x="184" y="63"/>
                  </a:lnTo>
                  <a:lnTo>
                    <a:pt x="176" y="59"/>
                  </a:lnTo>
                  <a:lnTo>
                    <a:pt x="170" y="57"/>
                  </a:lnTo>
                  <a:lnTo>
                    <a:pt x="166" y="55"/>
                  </a:lnTo>
                  <a:lnTo>
                    <a:pt x="162" y="51"/>
                  </a:lnTo>
                  <a:lnTo>
                    <a:pt x="158" y="43"/>
                  </a:lnTo>
                  <a:lnTo>
                    <a:pt x="154" y="37"/>
                  </a:lnTo>
                  <a:lnTo>
                    <a:pt x="152" y="31"/>
                  </a:lnTo>
                  <a:lnTo>
                    <a:pt x="146" y="29"/>
                  </a:lnTo>
                  <a:lnTo>
                    <a:pt x="138" y="31"/>
                  </a:lnTo>
                  <a:lnTo>
                    <a:pt x="126" y="33"/>
                  </a:lnTo>
                  <a:lnTo>
                    <a:pt x="116" y="37"/>
                  </a:lnTo>
                  <a:lnTo>
                    <a:pt x="116" y="49"/>
                  </a:lnTo>
                  <a:lnTo>
                    <a:pt x="114" y="59"/>
                  </a:lnTo>
                  <a:lnTo>
                    <a:pt x="110" y="67"/>
                  </a:lnTo>
                  <a:lnTo>
                    <a:pt x="103" y="69"/>
                  </a:lnTo>
                  <a:lnTo>
                    <a:pt x="95" y="67"/>
                  </a:lnTo>
                  <a:lnTo>
                    <a:pt x="91" y="61"/>
                  </a:lnTo>
                  <a:lnTo>
                    <a:pt x="87" y="53"/>
                  </a:lnTo>
                  <a:lnTo>
                    <a:pt x="83" y="49"/>
                  </a:lnTo>
                  <a:lnTo>
                    <a:pt x="79" y="47"/>
                  </a:lnTo>
                  <a:lnTo>
                    <a:pt x="73" y="47"/>
                  </a:lnTo>
                  <a:lnTo>
                    <a:pt x="65" y="45"/>
                  </a:lnTo>
                  <a:lnTo>
                    <a:pt x="53" y="41"/>
                  </a:lnTo>
                  <a:lnTo>
                    <a:pt x="41" y="39"/>
                  </a:lnTo>
                  <a:lnTo>
                    <a:pt x="28" y="37"/>
                  </a:lnTo>
                  <a:lnTo>
                    <a:pt x="14" y="33"/>
                  </a:lnTo>
                  <a:lnTo>
                    <a:pt x="0" y="31"/>
                  </a:lnTo>
                  <a:lnTo>
                    <a:pt x="14" y="37"/>
                  </a:lnTo>
                  <a:lnTo>
                    <a:pt x="26" y="45"/>
                  </a:lnTo>
                  <a:lnTo>
                    <a:pt x="37" y="55"/>
                  </a:lnTo>
                  <a:lnTo>
                    <a:pt x="45" y="63"/>
                  </a:lnTo>
                  <a:lnTo>
                    <a:pt x="51" y="75"/>
                  </a:lnTo>
                  <a:lnTo>
                    <a:pt x="51" y="86"/>
                  </a:lnTo>
                  <a:lnTo>
                    <a:pt x="49" y="100"/>
                  </a:lnTo>
                  <a:lnTo>
                    <a:pt x="45" y="112"/>
                  </a:lnTo>
                  <a:lnTo>
                    <a:pt x="39" y="122"/>
                  </a:lnTo>
                  <a:lnTo>
                    <a:pt x="33" y="132"/>
                  </a:lnTo>
                  <a:lnTo>
                    <a:pt x="28" y="142"/>
                  </a:lnTo>
                  <a:lnTo>
                    <a:pt x="26" y="152"/>
                  </a:lnTo>
                  <a:lnTo>
                    <a:pt x="37" y="154"/>
                  </a:lnTo>
                  <a:lnTo>
                    <a:pt x="49" y="156"/>
                  </a:lnTo>
                  <a:lnTo>
                    <a:pt x="63" y="157"/>
                  </a:lnTo>
                  <a:lnTo>
                    <a:pt x="77" y="161"/>
                  </a:lnTo>
                  <a:lnTo>
                    <a:pt x="89" y="165"/>
                  </a:lnTo>
                  <a:lnTo>
                    <a:pt x="99" y="169"/>
                  </a:lnTo>
                  <a:lnTo>
                    <a:pt x="108" y="173"/>
                  </a:lnTo>
                  <a:lnTo>
                    <a:pt x="114" y="177"/>
                  </a:lnTo>
                  <a:lnTo>
                    <a:pt x="124" y="185"/>
                  </a:lnTo>
                  <a:lnTo>
                    <a:pt x="128" y="195"/>
                  </a:lnTo>
                  <a:lnTo>
                    <a:pt x="130" y="207"/>
                  </a:lnTo>
                  <a:lnTo>
                    <a:pt x="132" y="221"/>
                  </a:lnTo>
                  <a:lnTo>
                    <a:pt x="130" y="234"/>
                  </a:lnTo>
                  <a:lnTo>
                    <a:pt x="128" y="248"/>
                  </a:lnTo>
                  <a:lnTo>
                    <a:pt x="122" y="262"/>
                  </a:lnTo>
                  <a:lnTo>
                    <a:pt x="116" y="276"/>
                  </a:lnTo>
                  <a:lnTo>
                    <a:pt x="110" y="298"/>
                  </a:lnTo>
                  <a:lnTo>
                    <a:pt x="103" y="327"/>
                  </a:lnTo>
                  <a:lnTo>
                    <a:pt x="95" y="361"/>
                  </a:lnTo>
                  <a:lnTo>
                    <a:pt x="87" y="394"/>
                  </a:lnTo>
                  <a:lnTo>
                    <a:pt x="93" y="422"/>
                  </a:lnTo>
                  <a:lnTo>
                    <a:pt x="101" y="447"/>
                  </a:lnTo>
                  <a:lnTo>
                    <a:pt x="108" y="471"/>
                  </a:lnTo>
                  <a:lnTo>
                    <a:pt x="118" y="493"/>
                  </a:lnTo>
                  <a:lnTo>
                    <a:pt x="126" y="513"/>
                  </a:lnTo>
                  <a:lnTo>
                    <a:pt x="134" y="528"/>
                  </a:lnTo>
                  <a:lnTo>
                    <a:pt x="142" y="542"/>
                  </a:lnTo>
                  <a:lnTo>
                    <a:pt x="148" y="552"/>
                  </a:lnTo>
                  <a:lnTo>
                    <a:pt x="160" y="572"/>
                  </a:lnTo>
                  <a:lnTo>
                    <a:pt x="176" y="595"/>
                  </a:lnTo>
                  <a:lnTo>
                    <a:pt x="189" y="617"/>
                  </a:lnTo>
                  <a:lnTo>
                    <a:pt x="201" y="631"/>
                  </a:lnTo>
                  <a:lnTo>
                    <a:pt x="207" y="637"/>
                  </a:lnTo>
                  <a:lnTo>
                    <a:pt x="217" y="643"/>
                  </a:lnTo>
                  <a:lnTo>
                    <a:pt x="227" y="651"/>
                  </a:lnTo>
                  <a:lnTo>
                    <a:pt x="239" y="662"/>
                  </a:lnTo>
                  <a:lnTo>
                    <a:pt x="253" y="676"/>
                  </a:lnTo>
                  <a:lnTo>
                    <a:pt x="264" y="694"/>
                  </a:lnTo>
                  <a:lnTo>
                    <a:pt x="278" y="714"/>
                  </a:lnTo>
                  <a:lnTo>
                    <a:pt x="290" y="737"/>
                  </a:lnTo>
                  <a:lnTo>
                    <a:pt x="274" y="747"/>
                  </a:lnTo>
                  <a:lnTo>
                    <a:pt x="259" y="759"/>
                  </a:lnTo>
                  <a:lnTo>
                    <a:pt x="245" y="771"/>
                  </a:lnTo>
                  <a:lnTo>
                    <a:pt x="239" y="779"/>
                  </a:lnTo>
                  <a:lnTo>
                    <a:pt x="239" y="820"/>
                  </a:lnTo>
                  <a:lnTo>
                    <a:pt x="243" y="879"/>
                  </a:lnTo>
                  <a:lnTo>
                    <a:pt x="247" y="933"/>
                  </a:lnTo>
                  <a:lnTo>
                    <a:pt x="247" y="962"/>
                  </a:lnTo>
                  <a:lnTo>
                    <a:pt x="241" y="970"/>
                  </a:lnTo>
                  <a:lnTo>
                    <a:pt x="229" y="982"/>
                  </a:lnTo>
                  <a:lnTo>
                    <a:pt x="213" y="998"/>
                  </a:lnTo>
                  <a:lnTo>
                    <a:pt x="195" y="1015"/>
                  </a:lnTo>
                  <a:lnTo>
                    <a:pt x="176" y="1033"/>
                  </a:lnTo>
                  <a:lnTo>
                    <a:pt x="158" y="1049"/>
                  </a:lnTo>
                  <a:lnTo>
                    <a:pt x="140" y="1063"/>
                  </a:lnTo>
                  <a:lnTo>
                    <a:pt x="128" y="1073"/>
                  </a:lnTo>
                  <a:lnTo>
                    <a:pt x="118" y="1081"/>
                  </a:lnTo>
                  <a:lnTo>
                    <a:pt x="107" y="1092"/>
                  </a:lnTo>
                  <a:lnTo>
                    <a:pt x="93" y="1108"/>
                  </a:lnTo>
                  <a:lnTo>
                    <a:pt x="79" y="1124"/>
                  </a:lnTo>
                  <a:lnTo>
                    <a:pt x="67" y="1142"/>
                  </a:lnTo>
                  <a:lnTo>
                    <a:pt x="59" y="1163"/>
                  </a:lnTo>
                  <a:lnTo>
                    <a:pt x="57" y="1183"/>
                  </a:lnTo>
                  <a:lnTo>
                    <a:pt x="63" y="1205"/>
                  </a:lnTo>
                  <a:lnTo>
                    <a:pt x="71" y="1211"/>
                  </a:lnTo>
                  <a:lnTo>
                    <a:pt x="79" y="1217"/>
                  </a:lnTo>
                  <a:lnTo>
                    <a:pt x="87" y="1219"/>
                  </a:lnTo>
                  <a:lnTo>
                    <a:pt x="93" y="1219"/>
                  </a:lnTo>
                  <a:lnTo>
                    <a:pt x="95" y="1217"/>
                  </a:lnTo>
                  <a:lnTo>
                    <a:pt x="99" y="1211"/>
                  </a:lnTo>
                  <a:lnTo>
                    <a:pt x="103" y="1205"/>
                  </a:lnTo>
                  <a:lnTo>
                    <a:pt x="110" y="1197"/>
                  </a:lnTo>
                  <a:lnTo>
                    <a:pt x="120" y="1189"/>
                  </a:lnTo>
                  <a:lnTo>
                    <a:pt x="136" y="1181"/>
                  </a:lnTo>
                  <a:lnTo>
                    <a:pt x="156" y="1173"/>
                  </a:lnTo>
                  <a:lnTo>
                    <a:pt x="180" y="1169"/>
                  </a:lnTo>
                  <a:close/>
                </a:path>
              </a:pathLst>
            </a:custGeom>
            <a:solidFill>
              <a:srgbClr val="a5d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2560" y="3382560"/>
              <a:ext cx="40680" cy="3672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" y="26"/>
                  </a:moveTo>
                  <a:lnTo>
                    <a:pt x="0" y="20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2" y="6"/>
                  </a:lnTo>
                  <a:lnTo>
                    <a:pt x="26" y="10"/>
                  </a:lnTo>
                  <a:lnTo>
                    <a:pt x="26" y="14"/>
                  </a:lnTo>
                  <a:lnTo>
                    <a:pt x="24" y="20"/>
                  </a:lnTo>
                  <a:lnTo>
                    <a:pt x="20" y="28"/>
                  </a:lnTo>
                  <a:lnTo>
                    <a:pt x="12" y="32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8cc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45320" y="2226240"/>
              <a:ext cx="26280" cy="45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9" y="0"/>
                  </a:moveTo>
                  <a:lnTo>
                    <a:pt x="15" y="6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7" y="40"/>
                  </a:lnTo>
                  <a:lnTo>
                    <a:pt x="3" y="36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5" y="10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c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33520" y="2175840"/>
              <a:ext cx="59040" cy="3996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14"/>
                  </a:moveTo>
                  <a:lnTo>
                    <a:pt x="8" y="8"/>
                  </a:lnTo>
                  <a:lnTo>
                    <a:pt x="20" y="4"/>
                  </a:lnTo>
                  <a:lnTo>
                    <a:pt x="32" y="4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36" y="20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0" y="30"/>
                  </a:lnTo>
                  <a:lnTo>
                    <a:pt x="26" y="32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16" y="28"/>
                  </a:lnTo>
                  <a:lnTo>
                    <a:pt x="12" y="22"/>
                  </a:lnTo>
                  <a:lnTo>
                    <a:pt x="8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c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91440" y="2643120"/>
              <a:ext cx="153360" cy="10260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18"/>
                  </a:moveTo>
                  <a:lnTo>
                    <a:pt x="4" y="16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8"/>
                  </a:lnTo>
                  <a:lnTo>
                    <a:pt x="46" y="16"/>
                  </a:lnTo>
                  <a:lnTo>
                    <a:pt x="50" y="24"/>
                  </a:lnTo>
                  <a:lnTo>
                    <a:pt x="54" y="30"/>
                  </a:lnTo>
                  <a:lnTo>
                    <a:pt x="64" y="34"/>
                  </a:lnTo>
                  <a:lnTo>
                    <a:pt x="77" y="36"/>
                  </a:lnTo>
                  <a:lnTo>
                    <a:pt x="91" y="40"/>
                  </a:lnTo>
                  <a:lnTo>
                    <a:pt x="97" y="42"/>
                  </a:lnTo>
                  <a:lnTo>
                    <a:pt x="97" y="50"/>
                  </a:lnTo>
                  <a:lnTo>
                    <a:pt x="97" y="64"/>
                  </a:lnTo>
                  <a:lnTo>
                    <a:pt x="97" y="79"/>
                  </a:lnTo>
                  <a:lnTo>
                    <a:pt x="97" y="89"/>
                  </a:lnTo>
                  <a:lnTo>
                    <a:pt x="91" y="79"/>
                  </a:lnTo>
                  <a:lnTo>
                    <a:pt x="87" y="71"/>
                  </a:lnTo>
                  <a:lnTo>
                    <a:pt x="83" y="66"/>
                  </a:lnTo>
                  <a:lnTo>
                    <a:pt x="79" y="62"/>
                  </a:lnTo>
                  <a:lnTo>
                    <a:pt x="73" y="56"/>
                  </a:lnTo>
                  <a:lnTo>
                    <a:pt x="66" y="50"/>
                  </a:lnTo>
                  <a:lnTo>
                    <a:pt x="60" y="44"/>
                  </a:lnTo>
                  <a:lnTo>
                    <a:pt x="56" y="38"/>
                  </a:lnTo>
                  <a:lnTo>
                    <a:pt x="46" y="36"/>
                  </a:lnTo>
                  <a:lnTo>
                    <a:pt x="36" y="36"/>
                  </a:lnTo>
                  <a:lnTo>
                    <a:pt x="28" y="34"/>
                  </a:lnTo>
                  <a:lnTo>
                    <a:pt x="22" y="32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cc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64480" y="2797200"/>
              <a:ext cx="794880" cy="539640"/>
            </a:xfrm>
            <a:custGeom>
              <a:avLst/>
              <a:gdLst/>
              <a:ahLst/>
              <a:rect l="l" t="t" r="r" b="b"/>
              <a:pathLst>
                <a:path w="503" h="465">
                  <a:moveTo>
                    <a:pt x="0" y="465"/>
                  </a:moveTo>
                  <a:lnTo>
                    <a:pt x="2" y="453"/>
                  </a:lnTo>
                  <a:lnTo>
                    <a:pt x="8" y="439"/>
                  </a:lnTo>
                  <a:lnTo>
                    <a:pt x="20" y="424"/>
                  </a:lnTo>
                  <a:lnTo>
                    <a:pt x="39" y="408"/>
                  </a:lnTo>
                  <a:lnTo>
                    <a:pt x="51" y="398"/>
                  </a:lnTo>
                  <a:lnTo>
                    <a:pt x="67" y="384"/>
                  </a:lnTo>
                  <a:lnTo>
                    <a:pt x="85" y="370"/>
                  </a:lnTo>
                  <a:lnTo>
                    <a:pt x="103" y="353"/>
                  </a:lnTo>
                  <a:lnTo>
                    <a:pt x="120" y="337"/>
                  </a:lnTo>
                  <a:lnTo>
                    <a:pt x="138" y="323"/>
                  </a:lnTo>
                  <a:lnTo>
                    <a:pt x="150" y="309"/>
                  </a:lnTo>
                  <a:lnTo>
                    <a:pt x="160" y="299"/>
                  </a:lnTo>
                  <a:lnTo>
                    <a:pt x="176" y="282"/>
                  </a:lnTo>
                  <a:lnTo>
                    <a:pt x="193" y="260"/>
                  </a:lnTo>
                  <a:lnTo>
                    <a:pt x="207" y="242"/>
                  </a:lnTo>
                  <a:lnTo>
                    <a:pt x="215" y="230"/>
                  </a:lnTo>
                  <a:lnTo>
                    <a:pt x="211" y="222"/>
                  </a:lnTo>
                  <a:lnTo>
                    <a:pt x="209" y="215"/>
                  </a:lnTo>
                  <a:lnTo>
                    <a:pt x="207" y="209"/>
                  </a:lnTo>
                  <a:lnTo>
                    <a:pt x="205" y="201"/>
                  </a:lnTo>
                  <a:lnTo>
                    <a:pt x="203" y="191"/>
                  </a:lnTo>
                  <a:lnTo>
                    <a:pt x="201" y="177"/>
                  </a:lnTo>
                  <a:lnTo>
                    <a:pt x="195" y="161"/>
                  </a:lnTo>
                  <a:lnTo>
                    <a:pt x="185" y="146"/>
                  </a:lnTo>
                  <a:lnTo>
                    <a:pt x="184" y="132"/>
                  </a:lnTo>
                  <a:lnTo>
                    <a:pt x="182" y="120"/>
                  </a:lnTo>
                  <a:lnTo>
                    <a:pt x="182" y="108"/>
                  </a:lnTo>
                  <a:lnTo>
                    <a:pt x="184" y="100"/>
                  </a:lnTo>
                  <a:lnTo>
                    <a:pt x="187" y="92"/>
                  </a:lnTo>
                  <a:lnTo>
                    <a:pt x="189" y="84"/>
                  </a:lnTo>
                  <a:lnTo>
                    <a:pt x="193" y="76"/>
                  </a:lnTo>
                  <a:lnTo>
                    <a:pt x="195" y="71"/>
                  </a:lnTo>
                  <a:lnTo>
                    <a:pt x="203" y="65"/>
                  </a:lnTo>
                  <a:lnTo>
                    <a:pt x="215" y="55"/>
                  </a:lnTo>
                  <a:lnTo>
                    <a:pt x="227" y="43"/>
                  </a:lnTo>
                  <a:lnTo>
                    <a:pt x="241" y="29"/>
                  </a:lnTo>
                  <a:lnTo>
                    <a:pt x="255" y="17"/>
                  </a:lnTo>
                  <a:lnTo>
                    <a:pt x="268" y="5"/>
                  </a:lnTo>
                  <a:lnTo>
                    <a:pt x="282" y="0"/>
                  </a:lnTo>
                  <a:lnTo>
                    <a:pt x="294" y="0"/>
                  </a:lnTo>
                  <a:lnTo>
                    <a:pt x="306" y="4"/>
                  </a:lnTo>
                  <a:lnTo>
                    <a:pt x="320" y="9"/>
                  </a:lnTo>
                  <a:lnTo>
                    <a:pt x="336" y="19"/>
                  </a:lnTo>
                  <a:lnTo>
                    <a:pt x="351" y="35"/>
                  </a:lnTo>
                  <a:lnTo>
                    <a:pt x="365" y="53"/>
                  </a:lnTo>
                  <a:lnTo>
                    <a:pt x="379" y="69"/>
                  </a:lnTo>
                  <a:lnTo>
                    <a:pt x="393" y="80"/>
                  </a:lnTo>
                  <a:lnTo>
                    <a:pt x="405" y="90"/>
                  </a:lnTo>
                  <a:lnTo>
                    <a:pt x="417" y="98"/>
                  </a:lnTo>
                  <a:lnTo>
                    <a:pt x="426" y="108"/>
                  </a:lnTo>
                  <a:lnTo>
                    <a:pt x="432" y="118"/>
                  </a:lnTo>
                  <a:lnTo>
                    <a:pt x="434" y="130"/>
                  </a:lnTo>
                  <a:lnTo>
                    <a:pt x="432" y="142"/>
                  </a:lnTo>
                  <a:lnTo>
                    <a:pt x="430" y="153"/>
                  </a:lnTo>
                  <a:lnTo>
                    <a:pt x="428" y="163"/>
                  </a:lnTo>
                  <a:lnTo>
                    <a:pt x="434" y="175"/>
                  </a:lnTo>
                  <a:lnTo>
                    <a:pt x="446" y="189"/>
                  </a:lnTo>
                  <a:lnTo>
                    <a:pt x="458" y="199"/>
                  </a:lnTo>
                  <a:lnTo>
                    <a:pt x="470" y="211"/>
                  </a:lnTo>
                  <a:lnTo>
                    <a:pt x="480" y="219"/>
                  </a:lnTo>
                  <a:lnTo>
                    <a:pt x="488" y="226"/>
                  </a:lnTo>
                  <a:lnTo>
                    <a:pt x="495" y="236"/>
                  </a:lnTo>
                  <a:lnTo>
                    <a:pt x="501" y="246"/>
                  </a:lnTo>
                  <a:lnTo>
                    <a:pt x="503" y="254"/>
                  </a:lnTo>
                  <a:lnTo>
                    <a:pt x="492" y="260"/>
                  </a:lnTo>
                  <a:lnTo>
                    <a:pt x="480" y="268"/>
                  </a:lnTo>
                  <a:lnTo>
                    <a:pt x="470" y="276"/>
                  </a:lnTo>
                  <a:lnTo>
                    <a:pt x="462" y="282"/>
                  </a:lnTo>
                  <a:lnTo>
                    <a:pt x="452" y="290"/>
                  </a:lnTo>
                  <a:lnTo>
                    <a:pt x="446" y="297"/>
                  </a:lnTo>
                  <a:lnTo>
                    <a:pt x="440" y="303"/>
                  </a:lnTo>
                  <a:lnTo>
                    <a:pt x="436" y="309"/>
                  </a:lnTo>
                  <a:lnTo>
                    <a:pt x="428" y="321"/>
                  </a:lnTo>
                  <a:lnTo>
                    <a:pt x="418" y="331"/>
                  </a:lnTo>
                  <a:lnTo>
                    <a:pt x="407" y="343"/>
                  </a:lnTo>
                  <a:lnTo>
                    <a:pt x="395" y="351"/>
                  </a:lnTo>
                  <a:lnTo>
                    <a:pt x="387" y="355"/>
                  </a:lnTo>
                  <a:lnTo>
                    <a:pt x="379" y="359"/>
                  </a:lnTo>
                  <a:lnTo>
                    <a:pt x="367" y="362"/>
                  </a:lnTo>
                  <a:lnTo>
                    <a:pt x="355" y="368"/>
                  </a:lnTo>
                  <a:lnTo>
                    <a:pt x="341" y="372"/>
                  </a:lnTo>
                  <a:lnTo>
                    <a:pt x="324" y="376"/>
                  </a:lnTo>
                  <a:lnTo>
                    <a:pt x="306" y="380"/>
                  </a:lnTo>
                  <a:lnTo>
                    <a:pt x="286" y="382"/>
                  </a:lnTo>
                  <a:lnTo>
                    <a:pt x="276" y="384"/>
                  </a:lnTo>
                  <a:lnTo>
                    <a:pt x="268" y="384"/>
                  </a:lnTo>
                  <a:lnTo>
                    <a:pt x="259" y="386"/>
                  </a:lnTo>
                  <a:lnTo>
                    <a:pt x="251" y="388"/>
                  </a:lnTo>
                  <a:lnTo>
                    <a:pt x="235" y="394"/>
                  </a:lnTo>
                  <a:lnTo>
                    <a:pt x="221" y="400"/>
                  </a:lnTo>
                  <a:lnTo>
                    <a:pt x="209" y="406"/>
                  </a:lnTo>
                  <a:lnTo>
                    <a:pt x="203" y="406"/>
                  </a:lnTo>
                  <a:lnTo>
                    <a:pt x="197" y="402"/>
                  </a:lnTo>
                  <a:lnTo>
                    <a:pt x="191" y="398"/>
                  </a:lnTo>
                  <a:lnTo>
                    <a:pt x="187" y="394"/>
                  </a:lnTo>
                  <a:lnTo>
                    <a:pt x="185" y="392"/>
                  </a:lnTo>
                  <a:lnTo>
                    <a:pt x="180" y="400"/>
                  </a:lnTo>
                  <a:lnTo>
                    <a:pt x="174" y="408"/>
                  </a:lnTo>
                  <a:lnTo>
                    <a:pt x="166" y="416"/>
                  </a:lnTo>
                  <a:lnTo>
                    <a:pt x="160" y="420"/>
                  </a:lnTo>
                  <a:lnTo>
                    <a:pt x="152" y="420"/>
                  </a:lnTo>
                  <a:lnTo>
                    <a:pt x="142" y="416"/>
                  </a:lnTo>
                  <a:lnTo>
                    <a:pt x="132" y="414"/>
                  </a:lnTo>
                  <a:lnTo>
                    <a:pt x="118" y="412"/>
                  </a:lnTo>
                  <a:lnTo>
                    <a:pt x="103" y="414"/>
                  </a:lnTo>
                  <a:lnTo>
                    <a:pt x="87" y="420"/>
                  </a:lnTo>
                  <a:lnTo>
                    <a:pt x="73" y="428"/>
                  </a:lnTo>
                  <a:lnTo>
                    <a:pt x="63" y="437"/>
                  </a:lnTo>
                  <a:lnTo>
                    <a:pt x="59" y="435"/>
                  </a:lnTo>
                  <a:lnTo>
                    <a:pt x="55" y="432"/>
                  </a:lnTo>
                  <a:lnTo>
                    <a:pt x="51" y="432"/>
                  </a:lnTo>
                  <a:lnTo>
                    <a:pt x="45" y="433"/>
                  </a:lnTo>
                  <a:lnTo>
                    <a:pt x="39" y="437"/>
                  </a:lnTo>
                  <a:lnTo>
                    <a:pt x="37" y="441"/>
                  </a:lnTo>
                  <a:lnTo>
                    <a:pt x="37" y="445"/>
                  </a:lnTo>
                  <a:lnTo>
                    <a:pt x="37" y="451"/>
                  </a:lnTo>
                  <a:lnTo>
                    <a:pt x="28" y="455"/>
                  </a:lnTo>
                  <a:lnTo>
                    <a:pt x="16" y="457"/>
                  </a:lnTo>
                  <a:lnTo>
                    <a:pt x="6" y="461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67000" y="2055240"/>
              <a:ext cx="675360" cy="732960"/>
            </a:xfrm>
            <a:custGeom>
              <a:avLst/>
              <a:gdLst/>
              <a:ahLst/>
              <a:rect l="l" t="t" r="r" b="b"/>
              <a:pathLst>
                <a:path w="427" h="631">
                  <a:moveTo>
                    <a:pt x="249" y="631"/>
                  </a:moveTo>
                  <a:lnTo>
                    <a:pt x="241" y="625"/>
                  </a:lnTo>
                  <a:lnTo>
                    <a:pt x="235" y="617"/>
                  </a:lnTo>
                  <a:lnTo>
                    <a:pt x="227" y="611"/>
                  </a:lnTo>
                  <a:lnTo>
                    <a:pt x="217" y="605"/>
                  </a:lnTo>
                  <a:lnTo>
                    <a:pt x="219" y="597"/>
                  </a:lnTo>
                  <a:lnTo>
                    <a:pt x="223" y="587"/>
                  </a:lnTo>
                  <a:lnTo>
                    <a:pt x="223" y="579"/>
                  </a:lnTo>
                  <a:lnTo>
                    <a:pt x="217" y="573"/>
                  </a:lnTo>
                  <a:lnTo>
                    <a:pt x="211" y="572"/>
                  </a:lnTo>
                  <a:lnTo>
                    <a:pt x="205" y="568"/>
                  </a:lnTo>
                  <a:lnTo>
                    <a:pt x="198" y="564"/>
                  </a:lnTo>
                  <a:lnTo>
                    <a:pt x="192" y="558"/>
                  </a:lnTo>
                  <a:lnTo>
                    <a:pt x="186" y="552"/>
                  </a:lnTo>
                  <a:lnTo>
                    <a:pt x="178" y="544"/>
                  </a:lnTo>
                  <a:lnTo>
                    <a:pt x="170" y="536"/>
                  </a:lnTo>
                  <a:lnTo>
                    <a:pt x="160" y="524"/>
                  </a:lnTo>
                  <a:lnTo>
                    <a:pt x="150" y="514"/>
                  </a:lnTo>
                  <a:lnTo>
                    <a:pt x="142" y="506"/>
                  </a:lnTo>
                  <a:lnTo>
                    <a:pt x="136" y="499"/>
                  </a:lnTo>
                  <a:lnTo>
                    <a:pt x="130" y="493"/>
                  </a:lnTo>
                  <a:lnTo>
                    <a:pt x="122" y="483"/>
                  </a:lnTo>
                  <a:lnTo>
                    <a:pt x="115" y="475"/>
                  </a:lnTo>
                  <a:lnTo>
                    <a:pt x="107" y="469"/>
                  </a:lnTo>
                  <a:lnTo>
                    <a:pt x="105" y="461"/>
                  </a:lnTo>
                  <a:lnTo>
                    <a:pt x="105" y="451"/>
                  </a:lnTo>
                  <a:lnTo>
                    <a:pt x="105" y="441"/>
                  </a:lnTo>
                  <a:lnTo>
                    <a:pt x="103" y="433"/>
                  </a:lnTo>
                  <a:lnTo>
                    <a:pt x="101" y="424"/>
                  </a:lnTo>
                  <a:lnTo>
                    <a:pt x="97" y="412"/>
                  </a:lnTo>
                  <a:lnTo>
                    <a:pt x="91" y="396"/>
                  </a:lnTo>
                  <a:lnTo>
                    <a:pt x="83" y="376"/>
                  </a:lnTo>
                  <a:lnTo>
                    <a:pt x="79" y="357"/>
                  </a:lnTo>
                  <a:lnTo>
                    <a:pt x="77" y="368"/>
                  </a:lnTo>
                  <a:lnTo>
                    <a:pt x="75" y="380"/>
                  </a:lnTo>
                  <a:lnTo>
                    <a:pt x="73" y="392"/>
                  </a:lnTo>
                  <a:lnTo>
                    <a:pt x="75" y="402"/>
                  </a:lnTo>
                  <a:lnTo>
                    <a:pt x="71" y="396"/>
                  </a:lnTo>
                  <a:lnTo>
                    <a:pt x="67" y="392"/>
                  </a:lnTo>
                  <a:lnTo>
                    <a:pt x="65" y="386"/>
                  </a:lnTo>
                  <a:lnTo>
                    <a:pt x="63" y="378"/>
                  </a:lnTo>
                  <a:lnTo>
                    <a:pt x="61" y="368"/>
                  </a:lnTo>
                  <a:lnTo>
                    <a:pt x="61" y="360"/>
                  </a:lnTo>
                  <a:lnTo>
                    <a:pt x="59" y="353"/>
                  </a:lnTo>
                  <a:lnTo>
                    <a:pt x="59" y="349"/>
                  </a:lnTo>
                  <a:lnTo>
                    <a:pt x="61" y="345"/>
                  </a:lnTo>
                  <a:lnTo>
                    <a:pt x="63" y="337"/>
                  </a:lnTo>
                  <a:lnTo>
                    <a:pt x="63" y="327"/>
                  </a:lnTo>
                  <a:lnTo>
                    <a:pt x="61" y="319"/>
                  </a:lnTo>
                  <a:lnTo>
                    <a:pt x="59" y="309"/>
                  </a:lnTo>
                  <a:lnTo>
                    <a:pt x="55" y="295"/>
                  </a:lnTo>
                  <a:lnTo>
                    <a:pt x="51" y="284"/>
                  </a:lnTo>
                  <a:lnTo>
                    <a:pt x="51" y="276"/>
                  </a:lnTo>
                  <a:lnTo>
                    <a:pt x="59" y="264"/>
                  </a:lnTo>
                  <a:lnTo>
                    <a:pt x="73" y="242"/>
                  </a:lnTo>
                  <a:lnTo>
                    <a:pt x="87" y="220"/>
                  </a:lnTo>
                  <a:lnTo>
                    <a:pt x="95" y="207"/>
                  </a:lnTo>
                  <a:lnTo>
                    <a:pt x="95" y="197"/>
                  </a:lnTo>
                  <a:lnTo>
                    <a:pt x="97" y="183"/>
                  </a:lnTo>
                  <a:lnTo>
                    <a:pt x="97" y="169"/>
                  </a:lnTo>
                  <a:lnTo>
                    <a:pt x="97" y="161"/>
                  </a:lnTo>
                  <a:lnTo>
                    <a:pt x="101" y="157"/>
                  </a:lnTo>
                  <a:lnTo>
                    <a:pt x="107" y="149"/>
                  </a:lnTo>
                  <a:lnTo>
                    <a:pt x="111" y="142"/>
                  </a:lnTo>
                  <a:lnTo>
                    <a:pt x="111" y="136"/>
                  </a:lnTo>
                  <a:lnTo>
                    <a:pt x="107" y="126"/>
                  </a:lnTo>
                  <a:lnTo>
                    <a:pt x="99" y="112"/>
                  </a:lnTo>
                  <a:lnTo>
                    <a:pt x="87" y="96"/>
                  </a:lnTo>
                  <a:lnTo>
                    <a:pt x="79" y="82"/>
                  </a:lnTo>
                  <a:lnTo>
                    <a:pt x="75" y="76"/>
                  </a:lnTo>
                  <a:lnTo>
                    <a:pt x="71" y="71"/>
                  </a:lnTo>
                  <a:lnTo>
                    <a:pt x="65" y="67"/>
                  </a:lnTo>
                  <a:lnTo>
                    <a:pt x="57" y="61"/>
                  </a:lnTo>
                  <a:lnTo>
                    <a:pt x="49" y="59"/>
                  </a:lnTo>
                  <a:lnTo>
                    <a:pt x="36" y="57"/>
                  </a:lnTo>
                  <a:lnTo>
                    <a:pt x="20" y="55"/>
                  </a:lnTo>
                  <a:lnTo>
                    <a:pt x="0" y="57"/>
                  </a:lnTo>
                  <a:lnTo>
                    <a:pt x="4" y="45"/>
                  </a:lnTo>
                  <a:lnTo>
                    <a:pt x="10" y="33"/>
                  </a:lnTo>
                  <a:lnTo>
                    <a:pt x="18" y="23"/>
                  </a:lnTo>
                  <a:lnTo>
                    <a:pt x="24" y="15"/>
                  </a:lnTo>
                  <a:lnTo>
                    <a:pt x="32" y="19"/>
                  </a:lnTo>
                  <a:lnTo>
                    <a:pt x="38" y="25"/>
                  </a:lnTo>
                  <a:lnTo>
                    <a:pt x="42" y="29"/>
                  </a:lnTo>
                  <a:lnTo>
                    <a:pt x="45" y="35"/>
                  </a:lnTo>
                  <a:lnTo>
                    <a:pt x="51" y="27"/>
                  </a:lnTo>
                  <a:lnTo>
                    <a:pt x="57" y="17"/>
                  </a:lnTo>
                  <a:lnTo>
                    <a:pt x="59" y="9"/>
                  </a:lnTo>
                  <a:lnTo>
                    <a:pt x="59" y="0"/>
                  </a:lnTo>
                  <a:lnTo>
                    <a:pt x="69" y="5"/>
                  </a:lnTo>
                  <a:lnTo>
                    <a:pt x="83" y="11"/>
                  </a:lnTo>
                  <a:lnTo>
                    <a:pt x="95" y="17"/>
                  </a:lnTo>
                  <a:lnTo>
                    <a:pt x="109" y="25"/>
                  </a:lnTo>
                  <a:lnTo>
                    <a:pt x="121" y="33"/>
                  </a:lnTo>
                  <a:lnTo>
                    <a:pt x="130" y="39"/>
                  </a:lnTo>
                  <a:lnTo>
                    <a:pt x="140" y="45"/>
                  </a:lnTo>
                  <a:lnTo>
                    <a:pt x="146" y="51"/>
                  </a:lnTo>
                  <a:lnTo>
                    <a:pt x="152" y="57"/>
                  </a:lnTo>
                  <a:lnTo>
                    <a:pt x="160" y="65"/>
                  </a:lnTo>
                  <a:lnTo>
                    <a:pt x="170" y="74"/>
                  </a:lnTo>
                  <a:lnTo>
                    <a:pt x="182" y="82"/>
                  </a:lnTo>
                  <a:lnTo>
                    <a:pt x="194" y="92"/>
                  </a:lnTo>
                  <a:lnTo>
                    <a:pt x="203" y="102"/>
                  </a:lnTo>
                  <a:lnTo>
                    <a:pt x="213" y="112"/>
                  </a:lnTo>
                  <a:lnTo>
                    <a:pt x="221" y="120"/>
                  </a:lnTo>
                  <a:lnTo>
                    <a:pt x="229" y="110"/>
                  </a:lnTo>
                  <a:lnTo>
                    <a:pt x="241" y="116"/>
                  </a:lnTo>
                  <a:lnTo>
                    <a:pt x="255" y="120"/>
                  </a:lnTo>
                  <a:lnTo>
                    <a:pt x="267" y="124"/>
                  </a:lnTo>
                  <a:lnTo>
                    <a:pt x="276" y="124"/>
                  </a:lnTo>
                  <a:lnTo>
                    <a:pt x="276" y="136"/>
                  </a:lnTo>
                  <a:lnTo>
                    <a:pt x="275" y="155"/>
                  </a:lnTo>
                  <a:lnTo>
                    <a:pt x="269" y="173"/>
                  </a:lnTo>
                  <a:lnTo>
                    <a:pt x="265" y="185"/>
                  </a:lnTo>
                  <a:lnTo>
                    <a:pt x="263" y="191"/>
                  </a:lnTo>
                  <a:lnTo>
                    <a:pt x="263" y="197"/>
                  </a:lnTo>
                  <a:lnTo>
                    <a:pt x="263" y="205"/>
                  </a:lnTo>
                  <a:lnTo>
                    <a:pt x="269" y="211"/>
                  </a:lnTo>
                  <a:lnTo>
                    <a:pt x="278" y="216"/>
                  </a:lnTo>
                  <a:lnTo>
                    <a:pt x="290" y="226"/>
                  </a:lnTo>
                  <a:lnTo>
                    <a:pt x="300" y="234"/>
                  </a:lnTo>
                  <a:lnTo>
                    <a:pt x="306" y="242"/>
                  </a:lnTo>
                  <a:lnTo>
                    <a:pt x="308" y="250"/>
                  </a:lnTo>
                  <a:lnTo>
                    <a:pt x="310" y="256"/>
                  </a:lnTo>
                  <a:lnTo>
                    <a:pt x="314" y="264"/>
                  </a:lnTo>
                  <a:lnTo>
                    <a:pt x="316" y="270"/>
                  </a:lnTo>
                  <a:lnTo>
                    <a:pt x="322" y="264"/>
                  </a:lnTo>
                  <a:lnTo>
                    <a:pt x="324" y="252"/>
                  </a:lnTo>
                  <a:lnTo>
                    <a:pt x="326" y="242"/>
                  </a:lnTo>
                  <a:lnTo>
                    <a:pt x="324" y="230"/>
                  </a:lnTo>
                  <a:lnTo>
                    <a:pt x="322" y="220"/>
                  </a:lnTo>
                  <a:lnTo>
                    <a:pt x="318" y="211"/>
                  </a:lnTo>
                  <a:lnTo>
                    <a:pt x="318" y="201"/>
                  </a:lnTo>
                  <a:lnTo>
                    <a:pt x="318" y="191"/>
                  </a:lnTo>
                  <a:lnTo>
                    <a:pt x="326" y="189"/>
                  </a:lnTo>
                  <a:lnTo>
                    <a:pt x="334" y="187"/>
                  </a:lnTo>
                  <a:lnTo>
                    <a:pt x="340" y="187"/>
                  </a:lnTo>
                  <a:lnTo>
                    <a:pt x="342" y="187"/>
                  </a:lnTo>
                  <a:lnTo>
                    <a:pt x="352" y="197"/>
                  </a:lnTo>
                  <a:lnTo>
                    <a:pt x="352" y="203"/>
                  </a:lnTo>
                  <a:lnTo>
                    <a:pt x="352" y="211"/>
                  </a:lnTo>
                  <a:lnTo>
                    <a:pt x="352" y="216"/>
                  </a:lnTo>
                  <a:lnTo>
                    <a:pt x="353" y="218"/>
                  </a:lnTo>
                  <a:lnTo>
                    <a:pt x="357" y="218"/>
                  </a:lnTo>
                  <a:lnTo>
                    <a:pt x="363" y="216"/>
                  </a:lnTo>
                  <a:lnTo>
                    <a:pt x="369" y="216"/>
                  </a:lnTo>
                  <a:lnTo>
                    <a:pt x="373" y="216"/>
                  </a:lnTo>
                  <a:lnTo>
                    <a:pt x="377" y="222"/>
                  </a:lnTo>
                  <a:lnTo>
                    <a:pt x="383" y="230"/>
                  </a:lnTo>
                  <a:lnTo>
                    <a:pt x="389" y="238"/>
                  </a:lnTo>
                  <a:lnTo>
                    <a:pt x="395" y="244"/>
                  </a:lnTo>
                  <a:lnTo>
                    <a:pt x="403" y="252"/>
                  </a:lnTo>
                  <a:lnTo>
                    <a:pt x="415" y="264"/>
                  </a:lnTo>
                  <a:lnTo>
                    <a:pt x="425" y="278"/>
                  </a:lnTo>
                  <a:lnTo>
                    <a:pt x="427" y="286"/>
                  </a:lnTo>
                  <a:lnTo>
                    <a:pt x="425" y="289"/>
                  </a:lnTo>
                  <a:lnTo>
                    <a:pt x="421" y="291"/>
                  </a:lnTo>
                  <a:lnTo>
                    <a:pt x="419" y="291"/>
                  </a:lnTo>
                  <a:lnTo>
                    <a:pt x="415" y="291"/>
                  </a:lnTo>
                  <a:lnTo>
                    <a:pt x="411" y="291"/>
                  </a:lnTo>
                  <a:lnTo>
                    <a:pt x="405" y="291"/>
                  </a:lnTo>
                  <a:lnTo>
                    <a:pt x="397" y="291"/>
                  </a:lnTo>
                  <a:lnTo>
                    <a:pt x="391" y="293"/>
                  </a:lnTo>
                  <a:lnTo>
                    <a:pt x="383" y="297"/>
                  </a:lnTo>
                  <a:lnTo>
                    <a:pt x="373" y="303"/>
                  </a:lnTo>
                  <a:lnTo>
                    <a:pt x="363" y="313"/>
                  </a:lnTo>
                  <a:lnTo>
                    <a:pt x="355" y="325"/>
                  </a:lnTo>
                  <a:lnTo>
                    <a:pt x="359" y="325"/>
                  </a:lnTo>
                  <a:lnTo>
                    <a:pt x="361" y="325"/>
                  </a:lnTo>
                  <a:lnTo>
                    <a:pt x="365" y="325"/>
                  </a:lnTo>
                  <a:lnTo>
                    <a:pt x="367" y="323"/>
                  </a:lnTo>
                  <a:lnTo>
                    <a:pt x="371" y="321"/>
                  </a:lnTo>
                  <a:lnTo>
                    <a:pt x="377" y="317"/>
                  </a:lnTo>
                  <a:lnTo>
                    <a:pt x="383" y="313"/>
                  </a:lnTo>
                  <a:lnTo>
                    <a:pt x="385" y="311"/>
                  </a:lnTo>
                  <a:lnTo>
                    <a:pt x="387" y="313"/>
                  </a:lnTo>
                  <a:lnTo>
                    <a:pt x="393" y="319"/>
                  </a:lnTo>
                  <a:lnTo>
                    <a:pt x="399" y="325"/>
                  </a:lnTo>
                  <a:lnTo>
                    <a:pt x="399" y="329"/>
                  </a:lnTo>
                  <a:lnTo>
                    <a:pt x="397" y="331"/>
                  </a:lnTo>
                  <a:lnTo>
                    <a:pt x="391" y="337"/>
                  </a:lnTo>
                  <a:lnTo>
                    <a:pt x="381" y="343"/>
                  </a:lnTo>
                  <a:lnTo>
                    <a:pt x="373" y="353"/>
                  </a:lnTo>
                  <a:lnTo>
                    <a:pt x="361" y="360"/>
                  </a:lnTo>
                  <a:lnTo>
                    <a:pt x="352" y="368"/>
                  </a:lnTo>
                  <a:lnTo>
                    <a:pt x="342" y="376"/>
                  </a:lnTo>
                  <a:lnTo>
                    <a:pt x="334" y="382"/>
                  </a:lnTo>
                  <a:lnTo>
                    <a:pt x="332" y="394"/>
                  </a:lnTo>
                  <a:lnTo>
                    <a:pt x="326" y="408"/>
                  </a:lnTo>
                  <a:lnTo>
                    <a:pt x="316" y="418"/>
                  </a:lnTo>
                  <a:lnTo>
                    <a:pt x="300" y="426"/>
                  </a:lnTo>
                  <a:lnTo>
                    <a:pt x="298" y="441"/>
                  </a:lnTo>
                  <a:lnTo>
                    <a:pt x="294" y="457"/>
                  </a:lnTo>
                  <a:lnTo>
                    <a:pt x="290" y="471"/>
                  </a:lnTo>
                  <a:lnTo>
                    <a:pt x="286" y="481"/>
                  </a:lnTo>
                  <a:lnTo>
                    <a:pt x="276" y="473"/>
                  </a:lnTo>
                  <a:lnTo>
                    <a:pt x="273" y="461"/>
                  </a:lnTo>
                  <a:lnTo>
                    <a:pt x="271" y="445"/>
                  </a:lnTo>
                  <a:lnTo>
                    <a:pt x="271" y="428"/>
                  </a:lnTo>
                  <a:lnTo>
                    <a:pt x="261" y="424"/>
                  </a:lnTo>
                  <a:lnTo>
                    <a:pt x="251" y="420"/>
                  </a:lnTo>
                  <a:lnTo>
                    <a:pt x="241" y="418"/>
                  </a:lnTo>
                  <a:lnTo>
                    <a:pt x="231" y="418"/>
                  </a:lnTo>
                  <a:lnTo>
                    <a:pt x="221" y="418"/>
                  </a:lnTo>
                  <a:lnTo>
                    <a:pt x="209" y="416"/>
                  </a:lnTo>
                  <a:lnTo>
                    <a:pt x="201" y="416"/>
                  </a:lnTo>
                  <a:lnTo>
                    <a:pt x="196" y="416"/>
                  </a:lnTo>
                  <a:lnTo>
                    <a:pt x="190" y="426"/>
                  </a:lnTo>
                  <a:lnTo>
                    <a:pt x="182" y="437"/>
                  </a:lnTo>
                  <a:lnTo>
                    <a:pt x="176" y="453"/>
                  </a:lnTo>
                  <a:lnTo>
                    <a:pt x="172" y="473"/>
                  </a:lnTo>
                  <a:lnTo>
                    <a:pt x="172" y="477"/>
                  </a:lnTo>
                  <a:lnTo>
                    <a:pt x="172" y="483"/>
                  </a:lnTo>
                  <a:lnTo>
                    <a:pt x="170" y="487"/>
                  </a:lnTo>
                  <a:lnTo>
                    <a:pt x="170" y="493"/>
                  </a:lnTo>
                  <a:lnTo>
                    <a:pt x="180" y="501"/>
                  </a:lnTo>
                  <a:lnTo>
                    <a:pt x="188" y="506"/>
                  </a:lnTo>
                  <a:lnTo>
                    <a:pt x="196" y="512"/>
                  </a:lnTo>
                  <a:lnTo>
                    <a:pt x="201" y="514"/>
                  </a:lnTo>
                  <a:lnTo>
                    <a:pt x="207" y="508"/>
                  </a:lnTo>
                  <a:lnTo>
                    <a:pt x="211" y="502"/>
                  </a:lnTo>
                  <a:lnTo>
                    <a:pt x="213" y="499"/>
                  </a:lnTo>
                  <a:lnTo>
                    <a:pt x="217" y="499"/>
                  </a:lnTo>
                  <a:lnTo>
                    <a:pt x="221" y="501"/>
                  </a:lnTo>
                  <a:lnTo>
                    <a:pt x="227" y="504"/>
                  </a:lnTo>
                  <a:lnTo>
                    <a:pt x="231" y="506"/>
                  </a:lnTo>
                  <a:lnTo>
                    <a:pt x="231" y="510"/>
                  </a:lnTo>
                  <a:lnTo>
                    <a:pt x="229" y="514"/>
                  </a:lnTo>
                  <a:lnTo>
                    <a:pt x="229" y="518"/>
                  </a:lnTo>
                  <a:lnTo>
                    <a:pt x="227" y="522"/>
                  </a:lnTo>
                  <a:lnTo>
                    <a:pt x="225" y="526"/>
                  </a:lnTo>
                  <a:lnTo>
                    <a:pt x="221" y="530"/>
                  </a:lnTo>
                  <a:lnTo>
                    <a:pt x="219" y="532"/>
                  </a:lnTo>
                  <a:lnTo>
                    <a:pt x="217" y="536"/>
                  </a:lnTo>
                  <a:lnTo>
                    <a:pt x="217" y="540"/>
                  </a:lnTo>
                  <a:lnTo>
                    <a:pt x="225" y="546"/>
                  </a:lnTo>
                  <a:lnTo>
                    <a:pt x="233" y="552"/>
                  </a:lnTo>
                  <a:lnTo>
                    <a:pt x="241" y="554"/>
                  </a:lnTo>
                  <a:lnTo>
                    <a:pt x="245" y="558"/>
                  </a:lnTo>
                  <a:lnTo>
                    <a:pt x="247" y="562"/>
                  </a:lnTo>
                  <a:lnTo>
                    <a:pt x="249" y="568"/>
                  </a:lnTo>
                  <a:lnTo>
                    <a:pt x="251" y="572"/>
                  </a:lnTo>
                  <a:lnTo>
                    <a:pt x="249" y="575"/>
                  </a:lnTo>
                  <a:lnTo>
                    <a:pt x="245" y="579"/>
                  </a:lnTo>
                  <a:lnTo>
                    <a:pt x="243" y="583"/>
                  </a:lnTo>
                  <a:lnTo>
                    <a:pt x="241" y="589"/>
                  </a:lnTo>
                  <a:lnTo>
                    <a:pt x="239" y="595"/>
                  </a:lnTo>
                  <a:lnTo>
                    <a:pt x="241" y="603"/>
                  </a:lnTo>
                  <a:lnTo>
                    <a:pt x="245" y="613"/>
                  </a:lnTo>
                  <a:lnTo>
                    <a:pt x="247" y="623"/>
                  </a:lnTo>
                  <a:lnTo>
                    <a:pt x="249" y="631"/>
                  </a:lnTo>
                  <a:close/>
                </a:path>
              </a:pathLst>
            </a:custGeom>
            <a:gradFill rotWithShape="0">
              <a:gsLst>
                <a:gs pos="0">
                  <a:srgbClr val="439743"/>
                </a:gs>
                <a:gs pos="100000">
                  <a:srgbClr val="007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9680" y="2402640"/>
              <a:ext cx="43560" cy="298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2"/>
                  </a:moveTo>
                  <a:lnTo>
                    <a:pt x="0" y="8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5" y="8"/>
                  </a:lnTo>
                  <a:lnTo>
                    <a:pt x="27" y="16"/>
                  </a:lnTo>
                  <a:lnTo>
                    <a:pt x="25" y="22"/>
                  </a:lnTo>
                  <a:lnTo>
                    <a:pt x="19" y="26"/>
                  </a:lnTo>
                  <a:lnTo>
                    <a:pt x="11" y="2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1800" y="2073240"/>
              <a:ext cx="387720" cy="554040"/>
            </a:xfrm>
            <a:custGeom>
              <a:avLst/>
              <a:gdLst/>
              <a:ahLst/>
              <a:rect l="l" t="t" r="r" b="b"/>
              <a:pathLst>
                <a:path w="245" h="478">
                  <a:moveTo>
                    <a:pt x="207" y="123"/>
                  </a:moveTo>
                  <a:lnTo>
                    <a:pt x="201" y="111"/>
                  </a:lnTo>
                  <a:lnTo>
                    <a:pt x="192" y="101"/>
                  </a:lnTo>
                  <a:lnTo>
                    <a:pt x="178" y="91"/>
                  </a:lnTo>
                  <a:lnTo>
                    <a:pt x="166" y="81"/>
                  </a:lnTo>
                  <a:lnTo>
                    <a:pt x="152" y="71"/>
                  </a:lnTo>
                  <a:lnTo>
                    <a:pt x="138" y="61"/>
                  </a:lnTo>
                  <a:lnTo>
                    <a:pt x="124" y="54"/>
                  </a:lnTo>
                  <a:lnTo>
                    <a:pt x="115" y="44"/>
                  </a:lnTo>
                  <a:lnTo>
                    <a:pt x="105" y="36"/>
                  </a:lnTo>
                  <a:lnTo>
                    <a:pt x="95" y="28"/>
                  </a:lnTo>
                  <a:lnTo>
                    <a:pt x="85" y="24"/>
                  </a:lnTo>
                  <a:lnTo>
                    <a:pt x="75" y="22"/>
                  </a:lnTo>
                  <a:lnTo>
                    <a:pt x="65" y="20"/>
                  </a:lnTo>
                  <a:lnTo>
                    <a:pt x="57" y="20"/>
                  </a:lnTo>
                  <a:lnTo>
                    <a:pt x="51" y="20"/>
                  </a:lnTo>
                  <a:lnTo>
                    <a:pt x="45" y="20"/>
                  </a:lnTo>
                  <a:lnTo>
                    <a:pt x="42" y="14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0" y="18"/>
                  </a:lnTo>
                  <a:lnTo>
                    <a:pt x="4" y="30"/>
                  </a:lnTo>
                  <a:lnTo>
                    <a:pt x="0" y="42"/>
                  </a:lnTo>
                  <a:lnTo>
                    <a:pt x="20" y="40"/>
                  </a:lnTo>
                  <a:lnTo>
                    <a:pt x="36" y="42"/>
                  </a:lnTo>
                  <a:lnTo>
                    <a:pt x="49" y="44"/>
                  </a:lnTo>
                  <a:lnTo>
                    <a:pt x="57" y="46"/>
                  </a:lnTo>
                  <a:lnTo>
                    <a:pt x="65" y="52"/>
                  </a:lnTo>
                  <a:lnTo>
                    <a:pt x="71" y="56"/>
                  </a:lnTo>
                  <a:lnTo>
                    <a:pt x="75" y="61"/>
                  </a:lnTo>
                  <a:lnTo>
                    <a:pt x="79" y="67"/>
                  </a:lnTo>
                  <a:lnTo>
                    <a:pt x="87" y="81"/>
                  </a:lnTo>
                  <a:lnTo>
                    <a:pt x="99" y="97"/>
                  </a:lnTo>
                  <a:lnTo>
                    <a:pt x="107" y="111"/>
                  </a:lnTo>
                  <a:lnTo>
                    <a:pt x="111" y="121"/>
                  </a:lnTo>
                  <a:lnTo>
                    <a:pt x="111" y="127"/>
                  </a:lnTo>
                  <a:lnTo>
                    <a:pt x="107" y="134"/>
                  </a:lnTo>
                  <a:lnTo>
                    <a:pt x="101" y="142"/>
                  </a:lnTo>
                  <a:lnTo>
                    <a:pt x="97" y="146"/>
                  </a:lnTo>
                  <a:lnTo>
                    <a:pt x="97" y="154"/>
                  </a:lnTo>
                  <a:lnTo>
                    <a:pt x="97" y="168"/>
                  </a:lnTo>
                  <a:lnTo>
                    <a:pt x="95" y="182"/>
                  </a:lnTo>
                  <a:lnTo>
                    <a:pt x="95" y="192"/>
                  </a:lnTo>
                  <a:lnTo>
                    <a:pt x="87" y="205"/>
                  </a:lnTo>
                  <a:lnTo>
                    <a:pt x="73" y="227"/>
                  </a:lnTo>
                  <a:lnTo>
                    <a:pt x="59" y="249"/>
                  </a:lnTo>
                  <a:lnTo>
                    <a:pt x="51" y="261"/>
                  </a:lnTo>
                  <a:lnTo>
                    <a:pt x="51" y="269"/>
                  </a:lnTo>
                  <a:lnTo>
                    <a:pt x="55" y="280"/>
                  </a:lnTo>
                  <a:lnTo>
                    <a:pt x="59" y="294"/>
                  </a:lnTo>
                  <a:lnTo>
                    <a:pt x="61" y="304"/>
                  </a:lnTo>
                  <a:lnTo>
                    <a:pt x="63" y="312"/>
                  </a:lnTo>
                  <a:lnTo>
                    <a:pt x="63" y="322"/>
                  </a:lnTo>
                  <a:lnTo>
                    <a:pt x="61" y="330"/>
                  </a:lnTo>
                  <a:lnTo>
                    <a:pt x="59" y="334"/>
                  </a:lnTo>
                  <a:lnTo>
                    <a:pt x="59" y="338"/>
                  </a:lnTo>
                  <a:lnTo>
                    <a:pt x="61" y="345"/>
                  </a:lnTo>
                  <a:lnTo>
                    <a:pt x="61" y="353"/>
                  </a:lnTo>
                  <a:lnTo>
                    <a:pt x="63" y="363"/>
                  </a:lnTo>
                  <a:lnTo>
                    <a:pt x="65" y="371"/>
                  </a:lnTo>
                  <a:lnTo>
                    <a:pt x="67" y="377"/>
                  </a:lnTo>
                  <a:lnTo>
                    <a:pt x="71" y="381"/>
                  </a:lnTo>
                  <a:lnTo>
                    <a:pt x="75" y="387"/>
                  </a:lnTo>
                  <a:lnTo>
                    <a:pt x="73" y="377"/>
                  </a:lnTo>
                  <a:lnTo>
                    <a:pt x="75" y="365"/>
                  </a:lnTo>
                  <a:lnTo>
                    <a:pt x="77" y="353"/>
                  </a:lnTo>
                  <a:lnTo>
                    <a:pt x="79" y="342"/>
                  </a:lnTo>
                  <a:lnTo>
                    <a:pt x="83" y="361"/>
                  </a:lnTo>
                  <a:lnTo>
                    <a:pt x="91" y="381"/>
                  </a:lnTo>
                  <a:lnTo>
                    <a:pt x="97" y="397"/>
                  </a:lnTo>
                  <a:lnTo>
                    <a:pt x="101" y="409"/>
                  </a:lnTo>
                  <a:lnTo>
                    <a:pt x="103" y="418"/>
                  </a:lnTo>
                  <a:lnTo>
                    <a:pt x="105" y="426"/>
                  </a:lnTo>
                  <a:lnTo>
                    <a:pt x="105" y="436"/>
                  </a:lnTo>
                  <a:lnTo>
                    <a:pt x="105" y="446"/>
                  </a:lnTo>
                  <a:lnTo>
                    <a:pt x="107" y="454"/>
                  </a:lnTo>
                  <a:lnTo>
                    <a:pt x="115" y="460"/>
                  </a:lnTo>
                  <a:lnTo>
                    <a:pt x="122" y="468"/>
                  </a:lnTo>
                  <a:lnTo>
                    <a:pt x="130" y="478"/>
                  </a:lnTo>
                  <a:lnTo>
                    <a:pt x="126" y="470"/>
                  </a:lnTo>
                  <a:lnTo>
                    <a:pt x="122" y="464"/>
                  </a:lnTo>
                  <a:lnTo>
                    <a:pt x="122" y="458"/>
                  </a:lnTo>
                  <a:lnTo>
                    <a:pt x="126" y="454"/>
                  </a:lnTo>
                  <a:lnTo>
                    <a:pt x="130" y="450"/>
                  </a:lnTo>
                  <a:lnTo>
                    <a:pt x="134" y="444"/>
                  </a:lnTo>
                  <a:lnTo>
                    <a:pt x="136" y="440"/>
                  </a:lnTo>
                  <a:lnTo>
                    <a:pt x="136" y="436"/>
                  </a:lnTo>
                  <a:lnTo>
                    <a:pt x="138" y="432"/>
                  </a:lnTo>
                  <a:lnTo>
                    <a:pt x="142" y="430"/>
                  </a:lnTo>
                  <a:lnTo>
                    <a:pt x="146" y="432"/>
                  </a:lnTo>
                  <a:lnTo>
                    <a:pt x="150" y="436"/>
                  </a:lnTo>
                  <a:lnTo>
                    <a:pt x="150" y="442"/>
                  </a:lnTo>
                  <a:lnTo>
                    <a:pt x="152" y="448"/>
                  </a:lnTo>
                  <a:lnTo>
                    <a:pt x="154" y="454"/>
                  </a:lnTo>
                  <a:lnTo>
                    <a:pt x="158" y="456"/>
                  </a:lnTo>
                  <a:lnTo>
                    <a:pt x="162" y="456"/>
                  </a:lnTo>
                  <a:lnTo>
                    <a:pt x="168" y="456"/>
                  </a:lnTo>
                  <a:lnTo>
                    <a:pt x="170" y="458"/>
                  </a:lnTo>
                  <a:lnTo>
                    <a:pt x="172" y="458"/>
                  </a:lnTo>
                  <a:lnTo>
                    <a:pt x="176" y="438"/>
                  </a:lnTo>
                  <a:lnTo>
                    <a:pt x="182" y="422"/>
                  </a:lnTo>
                  <a:lnTo>
                    <a:pt x="190" y="411"/>
                  </a:lnTo>
                  <a:lnTo>
                    <a:pt x="196" y="401"/>
                  </a:lnTo>
                  <a:lnTo>
                    <a:pt x="201" y="401"/>
                  </a:lnTo>
                  <a:lnTo>
                    <a:pt x="209" y="401"/>
                  </a:lnTo>
                  <a:lnTo>
                    <a:pt x="221" y="403"/>
                  </a:lnTo>
                  <a:lnTo>
                    <a:pt x="231" y="403"/>
                  </a:lnTo>
                  <a:lnTo>
                    <a:pt x="233" y="391"/>
                  </a:lnTo>
                  <a:lnTo>
                    <a:pt x="239" y="381"/>
                  </a:lnTo>
                  <a:lnTo>
                    <a:pt x="245" y="373"/>
                  </a:lnTo>
                  <a:lnTo>
                    <a:pt x="245" y="361"/>
                  </a:lnTo>
                  <a:lnTo>
                    <a:pt x="241" y="345"/>
                  </a:lnTo>
                  <a:lnTo>
                    <a:pt x="237" y="330"/>
                  </a:lnTo>
                  <a:lnTo>
                    <a:pt x="231" y="316"/>
                  </a:lnTo>
                  <a:lnTo>
                    <a:pt x="225" y="304"/>
                  </a:lnTo>
                  <a:lnTo>
                    <a:pt x="219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9" y="249"/>
                  </a:lnTo>
                  <a:lnTo>
                    <a:pt x="215" y="235"/>
                  </a:lnTo>
                  <a:lnTo>
                    <a:pt x="219" y="223"/>
                  </a:lnTo>
                  <a:lnTo>
                    <a:pt x="221" y="213"/>
                  </a:lnTo>
                  <a:lnTo>
                    <a:pt x="217" y="203"/>
                  </a:lnTo>
                  <a:lnTo>
                    <a:pt x="205" y="192"/>
                  </a:lnTo>
                  <a:lnTo>
                    <a:pt x="196" y="180"/>
                  </a:lnTo>
                  <a:lnTo>
                    <a:pt x="188" y="170"/>
                  </a:lnTo>
                  <a:lnTo>
                    <a:pt x="186" y="158"/>
                  </a:lnTo>
                  <a:lnTo>
                    <a:pt x="190" y="148"/>
                  </a:lnTo>
                  <a:lnTo>
                    <a:pt x="194" y="140"/>
                  </a:lnTo>
                  <a:lnTo>
                    <a:pt x="201" y="130"/>
                  </a:lnTo>
                  <a:lnTo>
                    <a:pt x="207" y="12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79280" y="2897640"/>
              <a:ext cx="794880" cy="519480"/>
            </a:xfrm>
            <a:custGeom>
              <a:avLst/>
              <a:gdLst/>
              <a:ahLst/>
              <a:rect l="l" t="t" r="r" b="b"/>
              <a:pathLst>
                <a:path w="503" h="430">
                  <a:moveTo>
                    <a:pt x="436" y="274"/>
                  </a:moveTo>
                  <a:lnTo>
                    <a:pt x="440" y="268"/>
                  </a:lnTo>
                  <a:lnTo>
                    <a:pt x="446" y="262"/>
                  </a:lnTo>
                  <a:lnTo>
                    <a:pt x="452" y="255"/>
                  </a:lnTo>
                  <a:lnTo>
                    <a:pt x="462" y="247"/>
                  </a:lnTo>
                  <a:lnTo>
                    <a:pt x="470" y="241"/>
                  </a:lnTo>
                  <a:lnTo>
                    <a:pt x="480" y="233"/>
                  </a:lnTo>
                  <a:lnTo>
                    <a:pt x="492" y="225"/>
                  </a:lnTo>
                  <a:lnTo>
                    <a:pt x="503" y="219"/>
                  </a:lnTo>
                  <a:lnTo>
                    <a:pt x="501" y="211"/>
                  </a:lnTo>
                  <a:lnTo>
                    <a:pt x="495" y="201"/>
                  </a:lnTo>
                  <a:lnTo>
                    <a:pt x="488" y="191"/>
                  </a:lnTo>
                  <a:lnTo>
                    <a:pt x="480" y="184"/>
                  </a:lnTo>
                  <a:lnTo>
                    <a:pt x="470" y="176"/>
                  </a:lnTo>
                  <a:lnTo>
                    <a:pt x="458" y="164"/>
                  </a:lnTo>
                  <a:lnTo>
                    <a:pt x="446" y="154"/>
                  </a:lnTo>
                  <a:lnTo>
                    <a:pt x="434" y="140"/>
                  </a:lnTo>
                  <a:lnTo>
                    <a:pt x="428" y="128"/>
                  </a:lnTo>
                  <a:lnTo>
                    <a:pt x="430" y="118"/>
                  </a:lnTo>
                  <a:lnTo>
                    <a:pt x="432" y="107"/>
                  </a:lnTo>
                  <a:lnTo>
                    <a:pt x="434" y="95"/>
                  </a:lnTo>
                  <a:lnTo>
                    <a:pt x="432" y="83"/>
                  </a:lnTo>
                  <a:lnTo>
                    <a:pt x="426" y="73"/>
                  </a:lnTo>
                  <a:lnTo>
                    <a:pt x="417" y="63"/>
                  </a:lnTo>
                  <a:lnTo>
                    <a:pt x="405" y="55"/>
                  </a:lnTo>
                  <a:lnTo>
                    <a:pt x="393" y="45"/>
                  </a:lnTo>
                  <a:lnTo>
                    <a:pt x="379" y="34"/>
                  </a:lnTo>
                  <a:lnTo>
                    <a:pt x="365" y="18"/>
                  </a:lnTo>
                  <a:lnTo>
                    <a:pt x="351" y="0"/>
                  </a:lnTo>
                  <a:lnTo>
                    <a:pt x="353" y="10"/>
                  </a:lnTo>
                  <a:lnTo>
                    <a:pt x="353" y="18"/>
                  </a:lnTo>
                  <a:lnTo>
                    <a:pt x="353" y="24"/>
                  </a:lnTo>
                  <a:lnTo>
                    <a:pt x="353" y="30"/>
                  </a:lnTo>
                  <a:lnTo>
                    <a:pt x="355" y="34"/>
                  </a:lnTo>
                  <a:lnTo>
                    <a:pt x="355" y="40"/>
                  </a:lnTo>
                  <a:lnTo>
                    <a:pt x="351" y="43"/>
                  </a:lnTo>
                  <a:lnTo>
                    <a:pt x="347" y="47"/>
                  </a:lnTo>
                  <a:lnTo>
                    <a:pt x="345" y="51"/>
                  </a:lnTo>
                  <a:lnTo>
                    <a:pt x="345" y="55"/>
                  </a:lnTo>
                  <a:lnTo>
                    <a:pt x="347" y="59"/>
                  </a:lnTo>
                  <a:lnTo>
                    <a:pt x="353" y="61"/>
                  </a:lnTo>
                  <a:lnTo>
                    <a:pt x="361" y="65"/>
                  </a:lnTo>
                  <a:lnTo>
                    <a:pt x="377" y="71"/>
                  </a:lnTo>
                  <a:lnTo>
                    <a:pt x="391" y="79"/>
                  </a:lnTo>
                  <a:lnTo>
                    <a:pt x="399" y="85"/>
                  </a:lnTo>
                  <a:lnTo>
                    <a:pt x="405" y="91"/>
                  </a:lnTo>
                  <a:lnTo>
                    <a:pt x="413" y="103"/>
                  </a:lnTo>
                  <a:lnTo>
                    <a:pt x="420" y="118"/>
                  </a:lnTo>
                  <a:lnTo>
                    <a:pt x="422" y="138"/>
                  </a:lnTo>
                  <a:lnTo>
                    <a:pt x="422" y="150"/>
                  </a:lnTo>
                  <a:lnTo>
                    <a:pt x="420" y="162"/>
                  </a:lnTo>
                  <a:lnTo>
                    <a:pt x="417" y="174"/>
                  </a:lnTo>
                  <a:lnTo>
                    <a:pt x="413" y="185"/>
                  </a:lnTo>
                  <a:lnTo>
                    <a:pt x="403" y="195"/>
                  </a:lnTo>
                  <a:lnTo>
                    <a:pt x="391" y="205"/>
                  </a:lnTo>
                  <a:lnTo>
                    <a:pt x="375" y="213"/>
                  </a:lnTo>
                  <a:lnTo>
                    <a:pt x="353" y="219"/>
                  </a:lnTo>
                  <a:lnTo>
                    <a:pt x="353" y="195"/>
                  </a:lnTo>
                  <a:lnTo>
                    <a:pt x="351" y="168"/>
                  </a:lnTo>
                  <a:lnTo>
                    <a:pt x="345" y="142"/>
                  </a:lnTo>
                  <a:lnTo>
                    <a:pt x="338" y="128"/>
                  </a:lnTo>
                  <a:lnTo>
                    <a:pt x="326" y="120"/>
                  </a:lnTo>
                  <a:lnTo>
                    <a:pt x="312" y="114"/>
                  </a:lnTo>
                  <a:lnTo>
                    <a:pt x="298" y="113"/>
                  </a:lnTo>
                  <a:lnTo>
                    <a:pt x="288" y="114"/>
                  </a:lnTo>
                  <a:lnTo>
                    <a:pt x="278" y="120"/>
                  </a:lnTo>
                  <a:lnTo>
                    <a:pt x="268" y="130"/>
                  </a:lnTo>
                  <a:lnTo>
                    <a:pt x="259" y="136"/>
                  </a:lnTo>
                  <a:lnTo>
                    <a:pt x="245" y="134"/>
                  </a:lnTo>
                  <a:lnTo>
                    <a:pt x="245" y="146"/>
                  </a:lnTo>
                  <a:lnTo>
                    <a:pt x="259" y="154"/>
                  </a:lnTo>
                  <a:lnTo>
                    <a:pt x="266" y="166"/>
                  </a:lnTo>
                  <a:lnTo>
                    <a:pt x="268" y="182"/>
                  </a:lnTo>
                  <a:lnTo>
                    <a:pt x="262" y="197"/>
                  </a:lnTo>
                  <a:lnTo>
                    <a:pt x="251" y="213"/>
                  </a:lnTo>
                  <a:lnTo>
                    <a:pt x="241" y="223"/>
                  </a:lnTo>
                  <a:lnTo>
                    <a:pt x="231" y="235"/>
                  </a:lnTo>
                  <a:lnTo>
                    <a:pt x="219" y="247"/>
                  </a:lnTo>
                  <a:lnTo>
                    <a:pt x="213" y="255"/>
                  </a:lnTo>
                  <a:lnTo>
                    <a:pt x="205" y="262"/>
                  </a:lnTo>
                  <a:lnTo>
                    <a:pt x="197" y="270"/>
                  </a:lnTo>
                  <a:lnTo>
                    <a:pt x="187" y="280"/>
                  </a:lnTo>
                  <a:lnTo>
                    <a:pt x="180" y="288"/>
                  </a:lnTo>
                  <a:lnTo>
                    <a:pt x="172" y="298"/>
                  </a:lnTo>
                  <a:lnTo>
                    <a:pt x="164" y="306"/>
                  </a:lnTo>
                  <a:lnTo>
                    <a:pt x="156" y="314"/>
                  </a:lnTo>
                  <a:lnTo>
                    <a:pt x="132" y="322"/>
                  </a:lnTo>
                  <a:lnTo>
                    <a:pt x="120" y="327"/>
                  </a:lnTo>
                  <a:lnTo>
                    <a:pt x="103" y="337"/>
                  </a:lnTo>
                  <a:lnTo>
                    <a:pt x="85" y="347"/>
                  </a:lnTo>
                  <a:lnTo>
                    <a:pt x="65" y="361"/>
                  </a:lnTo>
                  <a:lnTo>
                    <a:pt x="45" y="377"/>
                  </a:lnTo>
                  <a:lnTo>
                    <a:pt x="28" y="393"/>
                  </a:lnTo>
                  <a:lnTo>
                    <a:pt x="12" y="410"/>
                  </a:lnTo>
                  <a:lnTo>
                    <a:pt x="0" y="430"/>
                  </a:lnTo>
                  <a:lnTo>
                    <a:pt x="6" y="426"/>
                  </a:lnTo>
                  <a:lnTo>
                    <a:pt x="16" y="422"/>
                  </a:lnTo>
                  <a:lnTo>
                    <a:pt x="28" y="420"/>
                  </a:lnTo>
                  <a:lnTo>
                    <a:pt x="37" y="416"/>
                  </a:lnTo>
                  <a:lnTo>
                    <a:pt x="37" y="410"/>
                  </a:lnTo>
                  <a:lnTo>
                    <a:pt x="37" y="406"/>
                  </a:lnTo>
                  <a:lnTo>
                    <a:pt x="39" y="402"/>
                  </a:lnTo>
                  <a:lnTo>
                    <a:pt x="45" y="398"/>
                  </a:lnTo>
                  <a:lnTo>
                    <a:pt x="51" y="397"/>
                  </a:lnTo>
                  <a:lnTo>
                    <a:pt x="55" y="397"/>
                  </a:lnTo>
                  <a:lnTo>
                    <a:pt x="59" y="400"/>
                  </a:lnTo>
                  <a:lnTo>
                    <a:pt x="63" y="402"/>
                  </a:lnTo>
                  <a:lnTo>
                    <a:pt x="73" y="393"/>
                  </a:lnTo>
                  <a:lnTo>
                    <a:pt x="87" y="385"/>
                  </a:lnTo>
                  <a:lnTo>
                    <a:pt x="103" y="379"/>
                  </a:lnTo>
                  <a:lnTo>
                    <a:pt x="118" y="377"/>
                  </a:lnTo>
                  <a:lnTo>
                    <a:pt x="132" y="379"/>
                  </a:lnTo>
                  <a:lnTo>
                    <a:pt x="142" y="381"/>
                  </a:lnTo>
                  <a:lnTo>
                    <a:pt x="152" y="385"/>
                  </a:lnTo>
                  <a:lnTo>
                    <a:pt x="160" y="385"/>
                  </a:lnTo>
                  <a:lnTo>
                    <a:pt x="166" y="381"/>
                  </a:lnTo>
                  <a:lnTo>
                    <a:pt x="174" y="373"/>
                  </a:lnTo>
                  <a:lnTo>
                    <a:pt x="180" y="365"/>
                  </a:lnTo>
                  <a:lnTo>
                    <a:pt x="185" y="357"/>
                  </a:lnTo>
                  <a:lnTo>
                    <a:pt x="187" y="359"/>
                  </a:lnTo>
                  <a:lnTo>
                    <a:pt x="191" y="363"/>
                  </a:lnTo>
                  <a:lnTo>
                    <a:pt x="197" y="367"/>
                  </a:lnTo>
                  <a:lnTo>
                    <a:pt x="203" y="371"/>
                  </a:lnTo>
                  <a:lnTo>
                    <a:pt x="209" y="371"/>
                  </a:lnTo>
                  <a:lnTo>
                    <a:pt x="221" y="365"/>
                  </a:lnTo>
                  <a:lnTo>
                    <a:pt x="235" y="359"/>
                  </a:lnTo>
                  <a:lnTo>
                    <a:pt x="251" y="353"/>
                  </a:lnTo>
                  <a:lnTo>
                    <a:pt x="259" y="351"/>
                  </a:lnTo>
                  <a:lnTo>
                    <a:pt x="268" y="349"/>
                  </a:lnTo>
                  <a:lnTo>
                    <a:pt x="276" y="349"/>
                  </a:lnTo>
                  <a:lnTo>
                    <a:pt x="286" y="347"/>
                  </a:lnTo>
                  <a:lnTo>
                    <a:pt x="280" y="341"/>
                  </a:lnTo>
                  <a:lnTo>
                    <a:pt x="278" y="331"/>
                  </a:lnTo>
                  <a:lnTo>
                    <a:pt x="278" y="324"/>
                  </a:lnTo>
                  <a:lnTo>
                    <a:pt x="280" y="312"/>
                  </a:lnTo>
                  <a:lnTo>
                    <a:pt x="286" y="298"/>
                  </a:lnTo>
                  <a:lnTo>
                    <a:pt x="296" y="282"/>
                  </a:lnTo>
                  <a:lnTo>
                    <a:pt x="306" y="268"/>
                  </a:lnTo>
                  <a:lnTo>
                    <a:pt x="314" y="264"/>
                  </a:lnTo>
                  <a:lnTo>
                    <a:pt x="312" y="274"/>
                  </a:lnTo>
                  <a:lnTo>
                    <a:pt x="310" y="284"/>
                  </a:lnTo>
                  <a:lnTo>
                    <a:pt x="310" y="294"/>
                  </a:lnTo>
                  <a:lnTo>
                    <a:pt x="320" y="302"/>
                  </a:lnTo>
                  <a:lnTo>
                    <a:pt x="328" y="304"/>
                  </a:lnTo>
                  <a:lnTo>
                    <a:pt x="338" y="302"/>
                  </a:lnTo>
                  <a:lnTo>
                    <a:pt x="349" y="300"/>
                  </a:lnTo>
                  <a:lnTo>
                    <a:pt x="361" y="296"/>
                  </a:lnTo>
                  <a:lnTo>
                    <a:pt x="375" y="290"/>
                  </a:lnTo>
                  <a:lnTo>
                    <a:pt x="385" y="282"/>
                  </a:lnTo>
                  <a:lnTo>
                    <a:pt x="395" y="272"/>
                  </a:lnTo>
                  <a:lnTo>
                    <a:pt x="403" y="262"/>
                  </a:lnTo>
                  <a:lnTo>
                    <a:pt x="413" y="260"/>
                  </a:lnTo>
                  <a:lnTo>
                    <a:pt x="422" y="262"/>
                  </a:lnTo>
                  <a:lnTo>
                    <a:pt x="432" y="266"/>
                  </a:lnTo>
                  <a:lnTo>
                    <a:pt x="436" y="274"/>
                  </a:lnTo>
                  <a:close/>
                </a:path>
              </a:pathLst>
            </a:custGeom>
            <a:gradFill rotWithShape="0">
              <a:gsLst>
                <a:gs pos="0">
                  <a:srgbClr val="aa7b5f"/>
                </a:gs>
                <a:gs pos="100000">
                  <a:srgbClr val="8c4c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04040" y="2169000"/>
              <a:ext cx="118440" cy="9360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18"/>
                  </a:moveTo>
                  <a:lnTo>
                    <a:pt x="4" y="12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30" y="8"/>
                  </a:lnTo>
                  <a:lnTo>
                    <a:pt x="36" y="14"/>
                  </a:lnTo>
                  <a:lnTo>
                    <a:pt x="42" y="20"/>
                  </a:lnTo>
                  <a:lnTo>
                    <a:pt x="48" y="24"/>
                  </a:lnTo>
                  <a:lnTo>
                    <a:pt x="54" y="30"/>
                  </a:lnTo>
                  <a:lnTo>
                    <a:pt x="58" y="34"/>
                  </a:lnTo>
                  <a:lnTo>
                    <a:pt x="60" y="40"/>
                  </a:lnTo>
                  <a:lnTo>
                    <a:pt x="63" y="46"/>
                  </a:lnTo>
                  <a:lnTo>
                    <a:pt x="67" y="53"/>
                  </a:lnTo>
                  <a:lnTo>
                    <a:pt x="73" y="59"/>
                  </a:lnTo>
                  <a:lnTo>
                    <a:pt x="75" y="63"/>
                  </a:lnTo>
                  <a:lnTo>
                    <a:pt x="75" y="69"/>
                  </a:lnTo>
                  <a:lnTo>
                    <a:pt x="73" y="75"/>
                  </a:lnTo>
                  <a:lnTo>
                    <a:pt x="69" y="79"/>
                  </a:lnTo>
                  <a:lnTo>
                    <a:pt x="67" y="81"/>
                  </a:lnTo>
                  <a:lnTo>
                    <a:pt x="63" y="81"/>
                  </a:lnTo>
                  <a:lnTo>
                    <a:pt x="56" y="79"/>
                  </a:lnTo>
                  <a:lnTo>
                    <a:pt x="50" y="79"/>
                  </a:lnTo>
                  <a:lnTo>
                    <a:pt x="44" y="75"/>
                  </a:lnTo>
                  <a:lnTo>
                    <a:pt x="40" y="69"/>
                  </a:lnTo>
                  <a:lnTo>
                    <a:pt x="36" y="59"/>
                  </a:lnTo>
                  <a:lnTo>
                    <a:pt x="34" y="49"/>
                  </a:lnTo>
                  <a:lnTo>
                    <a:pt x="34" y="44"/>
                  </a:lnTo>
                  <a:lnTo>
                    <a:pt x="32" y="38"/>
                  </a:lnTo>
                  <a:lnTo>
                    <a:pt x="28" y="32"/>
                  </a:lnTo>
                  <a:lnTo>
                    <a:pt x="26" y="28"/>
                  </a:lnTo>
                  <a:lnTo>
                    <a:pt x="22" y="26"/>
                  </a:lnTo>
                  <a:lnTo>
                    <a:pt x="16" y="24"/>
                  </a:lnTo>
                  <a:lnTo>
                    <a:pt x="8" y="22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c4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13440" y="2055240"/>
              <a:ext cx="603000" cy="347400"/>
            </a:xfrm>
            <a:custGeom>
              <a:avLst/>
              <a:gdLst/>
              <a:ahLst/>
              <a:rect l="l" t="t" r="r" b="b"/>
              <a:pathLst>
                <a:path w="382" h="299">
                  <a:moveTo>
                    <a:pt x="346" y="293"/>
                  </a:moveTo>
                  <a:lnTo>
                    <a:pt x="352" y="291"/>
                  </a:lnTo>
                  <a:lnTo>
                    <a:pt x="360" y="291"/>
                  </a:lnTo>
                  <a:lnTo>
                    <a:pt x="366" y="291"/>
                  </a:lnTo>
                  <a:lnTo>
                    <a:pt x="370" y="291"/>
                  </a:lnTo>
                  <a:lnTo>
                    <a:pt x="374" y="291"/>
                  </a:lnTo>
                  <a:lnTo>
                    <a:pt x="376" y="291"/>
                  </a:lnTo>
                  <a:lnTo>
                    <a:pt x="380" y="289"/>
                  </a:lnTo>
                  <a:lnTo>
                    <a:pt x="382" y="286"/>
                  </a:lnTo>
                  <a:lnTo>
                    <a:pt x="380" y="278"/>
                  </a:lnTo>
                  <a:lnTo>
                    <a:pt x="370" y="264"/>
                  </a:lnTo>
                  <a:lnTo>
                    <a:pt x="358" y="252"/>
                  </a:lnTo>
                  <a:lnTo>
                    <a:pt x="350" y="244"/>
                  </a:lnTo>
                  <a:lnTo>
                    <a:pt x="344" y="238"/>
                  </a:lnTo>
                  <a:lnTo>
                    <a:pt x="338" y="230"/>
                  </a:lnTo>
                  <a:lnTo>
                    <a:pt x="332" y="222"/>
                  </a:lnTo>
                  <a:lnTo>
                    <a:pt x="328" y="216"/>
                  </a:lnTo>
                  <a:lnTo>
                    <a:pt x="324" y="216"/>
                  </a:lnTo>
                  <a:lnTo>
                    <a:pt x="318" y="216"/>
                  </a:lnTo>
                  <a:lnTo>
                    <a:pt x="312" y="218"/>
                  </a:lnTo>
                  <a:lnTo>
                    <a:pt x="308" y="218"/>
                  </a:lnTo>
                  <a:lnTo>
                    <a:pt x="307" y="216"/>
                  </a:lnTo>
                  <a:lnTo>
                    <a:pt x="307" y="211"/>
                  </a:lnTo>
                  <a:lnTo>
                    <a:pt x="307" y="203"/>
                  </a:lnTo>
                  <a:lnTo>
                    <a:pt x="307" y="197"/>
                  </a:lnTo>
                  <a:lnTo>
                    <a:pt x="297" y="187"/>
                  </a:lnTo>
                  <a:lnTo>
                    <a:pt x="295" y="187"/>
                  </a:lnTo>
                  <a:lnTo>
                    <a:pt x="289" y="187"/>
                  </a:lnTo>
                  <a:lnTo>
                    <a:pt x="281" y="189"/>
                  </a:lnTo>
                  <a:lnTo>
                    <a:pt x="273" y="191"/>
                  </a:lnTo>
                  <a:lnTo>
                    <a:pt x="273" y="201"/>
                  </a:lnTo>
                  <a:lnTo>
                    <a:pt x="273" y="211"/>
                  </a:lnTo>
                  <a:lnTo>
                    <a:pt x="277" y="220"/>
                  </a:lnTo>
                  <a:lnTo>
                    <a:pt x="279" y="230"/>
                  </a:lnTo>
                  <a:lnTo>
                    <a:pt x="281" y="242"/>
                  </a:lnTo>
                  <a:lnTo>
                    <a:pt x="279" y="252"/>
                  </a:lnTo>
                  <a:lnTo>
                    <a:pt x="277" y="264"/>
                  </a:lnTo>
                  <a:lnTo>
                    <a:pt x="271" y="270"/>
                  </a:lnTo>
                  <a:lnTo>
                    <a:pt x="269" y="264"/>
                  </a:lnTo>
                  <a:lnTo>
                    <a:pt x="265" y="256"/>
                  </a:lnTo>
                  <a:lnTo>
                    <a:pt x="263" y="250"/>
                  </a:lnTo>
                  <a:lnTo>
                    <a:pt x="261" y="242"/>
                  </a:lnTo>
                  <a:lnTo>
                    <a:pt x="255" y="234"/>
                  </a:lnTo>
                  <a:lnTo>
                    <a:pt x="245" y="226"/>
                  </a:lnTo>
                  <a:lnTo>
                    <a:pt x="233" y="216"/>
                  </a:lnTo>
                  <a:lnTo>
                    <a:pt x="224" y="211"/>
                  </a:lnTo>
                  <a:lnTo>
                    <a:pt x="218" y="205"/>
                  </a:lnTo>
                  <a:lnTo>
                    <a:pt x="218" y="197"/>
                  </a:lnTo>
                  <a:lnTo>
                    <a:pt x="218" y="191"/>
                  </a:lnTo>
                  <a:lnTo>
                    <a:pt x="220" y="185"/>
                  </a:lnTo>
                  <a:lnTo>
                    <a:pt x="224" y="173"/>
                  </a:lnTo>
                  <a:lnTo>
                    <a:pt x="230" y="155"/>
                  </a:lnTo>
                  <a:lnTo>
                    <a:pt x="231" y="136"/>
                  </a:lnTo>
                  <a:lnTo>
                    <a:pt x="231" y="124"/>
                  </a:lnTo>
                  <a:lnTo>
                    <a:pt x="222" y="124"/>
                  </a:lnTo>
                  <a:lnTo>
                    <a:pt x="210" y="120"/>
                  </a:lnTo>
                  <a:lnTo>
                    <a:pt x="196" y="116"/>
                  </a:lnTo>
                  <a:lnTo>
                    <a:pt x="184" y="110"/>
                  </a:lnTo>
                  <a:lnTo>
                    <a:pt x="176" y="120"/>
                  </a:lnTo>
                  <a:lnTo>
                    <a:pt x="168" y="112"/>
                  </a:lnTo>
                  <a:lnTo>
                    <a:pt x="158" y="102"/>
                  </a:lnTo>
                  <a:lnTo>
                    <a:pt x="149" y="92"/>
                  </a:lnTo>
                  <a:lnTo>
                    <a:pt x="137" y="82"/>
                  </a:lnTo>
                  <a:lnTo>
                    <a:pt x="125" y="74"/>
                  </a:lnTo>
                  <a:lnTo>
                    <a:pt x="115" y="65"/>
                  </a:lnTo>
                  <a:lnTo>
                    <a:pt x="107" y="57"/>
                  </a:lnTo>
                  <a:lnTo>
                    <a:pt x="101" y="51"/>
                  </a:lnTo>
                  <a:lnTo>
                    <a:pt x="95" y="45"/>
                  </a:lnTo>
                  <a:lnTo>
                    <a:pt x="85" y="39"/>
                  </a:lnTo>
                  <a:lnTo>
                    <a:pt x="76" y="33"/>
                  </a:lnTo>
                  <a:lnTo>
                    <a:pt x="64" y="25"/>
                  </a:lnTo>
                  <a:lnTo>
                    <a:pt x="50" y="17"/>
                  </a:lnTo>
                  <a:lnTo>
                    <a:pt x="38" y="11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2" y="17"/>
                  </a:lnTo>
                  <a:lnTo>
                    <a:pt x="6" y="27"/>
                  </a:lnTo>
                  <a:lnTo>
                    <a:pt x="0" y="35"/>
                  </a:lnTo>
                  <a:lnTo>
                    <a:pt x="6" y="35"/>
                  </a:lnTo>
                  <a:lnTo>
                    <a:pt x="12" y="35"/>
                  </a:lnTo>
                  <a:lnTo>
                    <a:pt x="20" y="35"/>
                  </a:lnTo>
                  <a:lnTo>
                    <a:pt x="30" y="37"/>
                  </a:lnTo>
                  <a:lnTo>
                    <a:pt x="40" y="39"/>
                  </a:lnTo>
                  <a:lnTo>
                    <a:pt x="50" y="43"/>
                  </a:lnTo>
                  <a:lnTo>
                    <a:pt x="60" y="51"/>
                  </a:lnTo>
                  <a:lnTo>
                    <a:pt x="70" y="59"/>
                  </a:lnTo>
                  <a:lnTo>
                    <a:pt x="79" y="69"/>
                  </a:lnTo>
                  <a:lnTo>
                    <a:pt x="93" y="76"/>
                  </a:lnTo>
                  <a:lnTo>
                    <a:pt x="107" y="86"/>
                  </a:lnTo>
                  <a:lnTo>
                    <a:pt x="121" y="96"/>
                  </a:lnTo>
                  <a:lnTo>
                    <a:pt x="133" y="106"/>
                  </a:lnTo>
                  <a:lnTo>
                    <a:pt x="147" y="116"/>
                  </a:lnTo>
                  <a:lnTo>
                    <a:pt x="156" y="126"/>
                  </a:lnTo>
                  <a:lnTo>
                    <a:pt x="162" y="138"/>
                  </a:lnTo>
                  <a:lnTo>
                    <a:pt x="172" y="157"/>
                  </a:lnTo>
                  <a:lnTo>
                    <a:pt x="180" y="175"/>
                  </a:lnTo>
                  <a:lnTo>
                    <a:pt x="184" y="185"/>
                  </a:lnTo>
                  <a:lnTo>
                    <a:pt x="186" y="189"/>
                  </a:lnTo>
                  <a:lnTo>
                    <a:pt x="194" y="191"/>
                  </a:lnTo>
                  <a:lnTo>
                    <a:pt x="204" y="197"/>
                  </a:lnTo>
                  <a:lnTo>
                    <a:pt x="210" y="211"/>
                  </a:lnTo>
                  <a:lnTo>
                    <a:pt x="216" y="234"/>
                  </a:lnTo>
                  <a:lnTo>
                    <a:pt x="226" y="240"/>
                  </a:lnTo>
                  <a:lnTo>
                    <a:pt x="235" y="248"/>
                  </a:lnTo>
                  <a:lnTo>
                    <a:pt x="241" y="258"/>
                  </a:lnTo>
                  <a:lnTo>
                    <a:pt x="247" y="268"/>
                  </a:lnTo>
                  <a:lnTo>
                    <a:pt x="251" y="278"/>
                  </a:lnTo>
                  <a:lnTo>
                    <a:pt x="255" y="287"/>
                  </a:lnTo>
                  <a:lnTo>
                    <a:pt x="261" y="293"/>
                  </a:lnTo>
                  <a:lnTo>
                    <a:pt x="265" y="297"/>
                  </a:lnTo>
                  <a:lnTo>
                    <a:pt x="271" y="299"/>
                  </a:lnTo>
                  <a:lnTo>
                    <a:pt x="281" y="299"/>
                  </a:lnTo>
                  <a:lnTo>
                    <a:pt x="289" y="297"/>
                  </a:lnTo>
                  <a:lnTo>
                    <a:pt x="293" y="293"/>
                  </a:lnTo>
                  <a:lnTo>
                    <a:pt x="293" y="287"/>
                  </a:lnTo>
                  <a:lnTo>
                    <a:pt x="293" y="278"/>
                  </a:lnTo>
                  <a:lnTo>
                    <a:pt x="293" y="270"/>
                  </a:lnTo>
                  <a:lnTo>
                    <a:pt x="297" y="264"/>
                  </a:lnTo>
                  <a:lnTo>
                    <a:pt x="301" y="260"/>
                  </a:lnTo>
                  <a:lnTo>
                    <a:pt x="307" y="256"/>
                  </a:lnTo>
                  <a:lnTo>
                    <a:pt x="312" y="254"/>
                  </a:lnTo>
                  <a:lnTo>
                    <a:pt x="320" y="254"/>
                  </a:lnTo>
                  <a:lnTo>
                    <a:pt x="328" y="256"/>
                  </a:lnTo>
                  <a:lnTo>
                    <a:pt x="336" y="264"/>
                  </a:lnTo>
                  <a:lnTo>
                    <a:pt x="342" y="276"/>
                  </a:lnTo>
                  <a:lnTo>
                    <a:pt x="346" y="293"/>
                  </a:lnTo>
                  <a:close/>
                </a:path>
              </a:pathLst>
            </a:custGeom>
            <a:solidFill>
              <a:srgbClr val="8c4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61680" y="2378160"/>
              <a:ext cx="120960" cy="228960"/>
            </a:xfrm>
            <a:custGeom>
              <a:avLst/>
              <a:gdLst/>
              <a:ahLst/>
              <a:rect l="l" t="t" r="r" b="b"/>
              <a:pathLst>
                <a:path w="77" h="197">
                  <a:moveTo>
                    <a:pt x="46" y="183"/>
                  </a:moveTo>
                  <a:lnTo>
                    <a:pt x="46" y="173"/>
                  </a:lnTo>
                  <a:lnTo>
                    <a:pt x="46" y="163"/>
                  </a:lnTo>
                  <a:lnTo>
                    <a:pt x="44" y="155"/>
                  </a:lnTo>
                  <a:lnTo>
                    <a:pt x="42" y="146"/>
                  </a:lnTo>
                  <a:lnTo>
                    <a:pt x="38" y="134"/>
                  </a:lnTo>
                  <a:lnTo>
                    <a:pt x="32" y="118"/>
                  </a:lnTo>
                  <a:lnTo>
                    <a:pt x="24" y="98"/>
                  </a:lnTo>
                  <a:lnTo>
                    <a:pt x="20" y="79"/>
                  </a:lnTo>
                  <a:lnTo>
                    <a:pt x="18" y="90"/>
                  </a:lnTo>
                  <a:lnTo>
                    <a:pt x="16" y="102"/>
                  </a:lnTo>
                  <a:lnTo>
                    <a:pt x="14" y="114"/>
                  </a:lnTo>
                  <a:lnTo>
                    <a:pt x="16" y="124"/>
                  </a:lnTo>
                  <a:lnTo>
                    <a:pt x="12" y="118"/>
                  </a:lnTo>
                  <a:lnTo>
                    <a:pt x="8" y="114"/>
                  </a:lnTo>
                  <a:lnTo>
                    <a:pt x="6" y="108"/>
                  </a:lnTo>
                  <a:lnTo>
                    <a:pt x="4" y="100"/>
                  </a:lnTo>
                  <a:lnTo>
                    <a:pt x="2" y="90"/>
                  </a:lnTo>
                  <a:lnTo>
                    <a:pt x="2" y="82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2" y="67"/>
                  </a:lnTo>
                  <a:lnTo>
                    <a:pt x="4" y="59"/>
                  </a:lnTo>
                  <a:lnTo>
                    <a:pt x="4" y="49"/>
                  </a:lnTo>
                  <a:lnTo>
                    <a:pt x="2" y="41"/>
                  </a:lnTo>
                  <a:lnTo>
                    <a:pt x="10" y="41"/>
                  </a:lnTo>
                  <a:lnTo>
                    <a:pt x="18" y="37"/>
                  </a:lnTo>
                  <a:lnTo>
                    <a:pt x="24" y="31"/>
                  </a:lnTo>
                  <a:lnTo>
                    <a:pt x="26" y="27"/>
                  </a:lnTo>
                  <a:lnTo>
                    <a:pt x="28" y="21"/>
                  </a:lnTo>
                  <a:lnTo>
                    <a:pt x="32" y="13"/>
                  </a:lnTo>
                  <a:lnTo>
                    <a:pt x="34" y="8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0" y="11"/>
                  </a:lnTo>
                  <a:lnTo>
                    <a:pt x="63" y="19"/>
                  </a:lnTo>
                  <a:lnTo>
                    <a:pt x="65" y="25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6" y="25"/>
                  </a:lnTo>
                  <a:lnTo>
                    <a:pt x="52" y="25"/>
                  </a:lnTo>
                  <a:lnTo>
                    <a:pt x="52" y="29"/>
                  </a:lnTo>
                  <a:lnTo>
                    <a:pt x="54" y="35"/>
                  </a:lnTo>
                  <a:lnTo>
                    <a:pt x="60" y="41"/>
                  </a:lnTo>
                  <a:lnTo>
                    <a:pt x="63" y="45"/>
                  </a:lnTo>
                  <a:lnTo>
                    <a:pt x="67" y="49"/>
                  </a:lnTo>
                  <a:lnTo>
                    <a:pt x="71" y="55"/>
                  </a:lnTo>
                  <a:lnTo>
                    <a:pt x="73" y="61"/>
                  </a:lnTo>
                  <a:lnTo>
                    <a:pt x="73" y="67"/>
                  </a:lnTo>
                  <a:lnTo>
                    <a:pt x="73" y="73"/>
                  </a:lnTo>
                  <a:lnTo>
                    <a:pt x="73" y="79"/>
                  </a:lnTo>
                  <a:lnTo>
                    <a:pt x="75" y="82"/>
                  </a:lnTo>
                  <a:lnTo>
                    <a:pt x="77" y="86"/>
                  </a:lnTo>
                  <a:lnTo>
                    <a:pt x="71" y="92"/>
                  </a:lnTo>
                  <a:lnTo>
                    <a:pt x="67" y="100"/>
                  </a:lnTo>
                  <a:lnTo>
                    <a:pt x="63" y="110"/>
                  </a:lnTo>
                  <a:lnTo>
                    <a:pt x="63" y="116"/>
                  </a:lnTo>
                  <a:lnTo>
                    <a:pt x="63" y="122"/>
                  </a:lnTo>
                  <a:lnTo>
                    <a:pt x="62" y="130"/>
                  </a:lnTo>
                  <a:lnTo>
                    <a:pt x="60" y="138"/>
                  </a:lnTo>
                  <a:lnTo>
                    <a:pt x="62" y="146"/>
                  </a:lnTo>
                  <a:lnTo>
                    <a:pt x="65" y="153"/>
                  </a:lnTo>
                  <a:lnTo>
                    <a:pt x="65" y="161"/>
                  </a:lnTo>
                  <a:lnTo>
                    <a:pt x="65" y="171"/>
                  </a:lnTo>
                  <a:lnTo>
                    <a:pt x="65" y="177"/>
                  </a:lnTo>
                  <a:lnTo>
                    <a:pt x="65" y="183"/>
                  </a:lnTo>
                  <a:lnTo>
                    <a:pt x="63" y="189"/>
                  </a:lnTo>
                  <a:lnTo>
                    <a:pt x="62" y="195"/>
                  </a:lnTo>
                  <a:lnTo>
                    <a:pt x="60" y="197"/>
                  </a:lnTo>
                  <a:lnTo>
                    <a:pt x="56" y="195"/>
                  </a:lnTo>
                  <a:lnTo>
                    <a:pt x="54" y="193"/>
                  </a:lnTo>
                  <a:lnTo>
                    <a:pt x="50" y="189"/>
                  </a:lnTo>
                  <a:lnTo>
                    <a:pt x="46" y="183"/>
                  </a:lnTo>
                  <a:close/>
                </a:path>
              </a:pathLst>
            </a:custGeom>
            <a:solidFill>
              <a:srgbClr val="8c4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29520" y="2378160"/>
              <a:ext cx="118080" cy="87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24" y="0"/>
                  </a:moveTo>
                  <a:lnTo>
                    <a:pt x="35" y="11"/>
                  </a:lnTo>
                  <a:lnTo>
                    <a:pt x="43" y="21"/>
                  </a:lnTo>
                  <a:lnTo>
                    <a:pt x="49" y="29"/>
                  </a:lnTo>
                  <a:lnTo>
                    <a:pt x="55" y="37"/>
                  </a:lnTo>
                  <a:lnTo>
                    <a:pt x="63" y="45"/>
                  </a:lnTo>
                  <a:lnTo>
                    <a:pt x="71" y="55"/>
                  </a:lnTo>
                  <a:lnTo>
                    <a:pt x="75" y="63"/>
                  </a:lnTo>
                  <a:lnTo>
                    <a:pt x="75" y="67"/>
                  </a:lnTo>
                  <a:lnTo>
                    <a:pt x="69" y="71"/>
                  </a:lnTo>
                  <a:lnTo>
                    <a:pt x="63" y="73"/>
                  </a:lnTo>
                  <a:lnTo>
                    <a:pt x="55" y="75"/>
                  </a:lnTo>
                  <a:lnTo>
                    <a:pt x="49" y="73"/>
                  </a:lnTo>
                  <a:lnTo>
                    <a:pt x="47" y="69"/>
                  </a:lnTo>
                  <a:lnTo>
                    <a:pt x="43" y="63"/>
                  </a:lnTo>
                  <a:lnTo>
                    <a:pt x="41" y="55"/>
                  </a:lnTo>
                  <a:lnTo>
                    <a:pt x="37" y="49"/>
                  </a:lnTo>
                  <a:lnTo>
                    <a:pt x="33" y="53"/>
                  </a:lnTo>
                  <a:lnTo>
                    <a:pt x="28" y="57"/>
                  </a:lnTo>
                  <a:lnTo>
                    <a:pt x="24" y="61"/>
                  </a:lnTo>
                  <a:lnTo>
                    <a:pt x="20" y="63"/>
                  </a:lnTo>
                  <a:lnTo>
                    <a:pt x="16" y="59"/>
                  </a:lnTo>
                  <a:lnTo>
                    <a:pt x="14" y="51"/>
                  </a:lnTo>
                  <a:lnTo>
                    <a:pt x="12" y="43"/>
                  </a:lnTo>
                  <a:lnTo>
                    <a:pt x="12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0" y="23"/>
                  </a:lnTo>
                  <a:lnTo>
                    <a:pt x="4" y="23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a5d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64400" y="3190680"/>
              <a:ext cx="711720" cy="437760"/>
            </a:xfrm>
            <a:custGeom>
              <a:avLst/>
              <a:gdLst/>
              <a:ahLst/>
              <a:rect l="l" t="t" r="r" b="b"/>
              <a:pathLst>
                <a:path w="450" h="377">
                  <a:moveTo>
                    <a:pt x="450" y="377"/>
                  </a:moveTo>
                  <a:lnTo>
                    <a:pt x="444" y="377"/>
                  </a:lnTo>
                  <a:lnTo>
                    <a:pt x="429" y="377"/>
                  </a:lnTo>
                  <a:lnTo>
                    <a:pt x="403" y="377"/>
                  </a:lnTo>
                  <a:lnTo>
                    <a:pt x="373" y="377"/>
                  </a:lnTo>
                  <a:lnTo>
                    <a:pt x="338" y="377"/>
                  </a:lnTo>
                  <a:lnTo>
                    <a:pt x="300" y="377"/>
                  </a:lnTo>
                  <a:lnTo>
                    <a:pt x="265" y="377"/>
                  </a:lnTo>
                  <a:lnTo>
                    <a:pt x="231" y="377"/>
                  </a:lnTo>
                  <a:lnTo>
                    <a:pt x="172" y="369"/>
                  </a:lnTo>
                  <a:lnTo>
                    <a:pt x="118" y="349"/>
                  </a:lnTo>
                  <a:lnTo>
                    <a:pt x="71" y="315"/>
                  </a:lnTo>
                  <a:lnTo>
                    <a:pt x="34" y="270"/>
                  </a:lnTo>
                  <a:lnTo>
                    <a:pt x="10" y="217"/>
                  </a:lnTo>
                  <a:lnTo>
                    <a:pt x="0" y="152"/>
                  </a:lnTo>
                  <a:lnTo>
                    <a:pt x="10" y="79"/>
                  </a:lnTo>
                  <a:lnTo>
                    <a:pt x="38" y="0"/>
                  </a:lnTo>
                  <a:lnTo>
                    <a:pt x="450" y="0"/>
                  </a:lnTo>
                  <a:lnTo>
                    <a:pt x="450" y="377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78400" y="2613960"/>
              <a:ext cx="925920" cy="847080"/>
            </a:xfrm>
            <a:custGeom>
              <a:avLst/>
              <a:gdLst/>
              <a:ahLst/>
              <a:rect l="l" t="t" r="r" b="b"/>
              <a:pathLst>
                <a:path w="586" h="730">
                  <a:moveTo>
                    <a:pt x="278" y="730"/>
                  </a:moveTo>
                  <a:lnTo>
                    <a:pt x="267" y="662"/>
                  </a:lnTo>
                  <a:lnTo>
                    <a:pt x="269" y="595"/>
                  </a:lnTo>
                  <a:lnTo>
                    <a:pt x="284" y="530"/>
                  </a:lnTo>
                  <a:lnTo>
                    <a:pt x="310" y="467"/>
                  </a:lnTo>
                  <a:lnTo>
                    <a:pt x="340" y="410"/>
                  </a:lnTo>
                  <a:lnTo>
                    <a:pt x="373" y="357"/>
                  </a:lnTo>
                  <a:lnTo>
                    <a:pt x="405" y="309"/>
                  </a:lnTo>
                  <a:lnTo>
                    <a:pt x="430" y="270"/>
                  </a:lnTo>
                  <a:lnTo>
                    <a:pt x="586" y="365"/>
                  </a:lnTo>
                  <a:lnTo>
                    <a:pt x="401" y="25"/>
                  </a:lnTo>
                  <a:lnTo>
                    <a:pt x="0" y="0"/>
                  </a:lnTo>
                  <a:lnTo>
                    <a:pt x="138" y="96"/>
                  </a:lnTo>
                  <a:lnTo>
                    <a:pt x="122" y="122"/>
                  </a:lnTo>
                  <a:lnTo>
                    <a:pt x="107" y="152"/>
                  </a:lnTo>
                  <a:lnTo>
                    <a:pt x="89" y="185"/>
                  </a:lnTo>
                  <a:lnTo>
                    <a:pt x="73" y="217"/>
                  </a:lnTo>
                  <a:lnTo>
                    <a:pt x="63" y="252"/>
                  </a:lnTo>
                  <a:lnTo>
                    <a:pt x="57" y="284"/>
                  </a:lnTo>
                  <a:lnTo>
                    <a:pt x="57" y="315"/>
                  </a:lnTo>
                  <a:lnTo>
                    <a:pt x="67" y="345"/>
                  </a:lnTo>
                  <a:lnTo>
                    <a:pt x="99" y="400"/>
                  </a:lnTo>
                  <a:lnTo>
                    <a:pt x="132" y="463"/>
                  </a:lnTo>
                  <a:lnTo>
                    <a:pt x="168" y="526"/>
                  </a:lnTo>
                  <a:lnTo>
                    <a:pt x="201" y="590"/>
                  </a:lnTo>
                  <a:lnTo>
                    <a:pt x="231" y="645"/>
                  </a:lnTo>
                  <a:lnTo>
                    <a:pt x="257" y="688"/>
                  </a:lnTo>
                  <a:lnTo>
                    <a:pt x="272" y="718"/>
                  </a:lnTo>
                  <a:lnTo>
                    <a:pt x="278" y="730"/>
                  </a:lnTo>
                  <a:close/>
                </a:path>
              </a:pathLst>
            </a:custGeom>
            <a:gradFill rotWithShape="0">
              <a:gsLst>
                <a:gs pos="0">
                  <a:srgbClr val="c8ddc8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376160" y="1631880"/>
              <a:ext cx="1828080" cy="617400"/>
              <a:chOff x="4376160" y="1631880"/>
              <a:chExt cx="1828080" cy="617400"/>
            </a:xfrm>
          </p:grpSpPr>
          <p:sp>
            <p:nvSpPr>
              <p:cNvPr id="292" name=""/>
              <p:cNvSpPr/>
              <p:nvPr/>
            </p:nvSpPr>
            <p:spPr>
              <a:xfrm>
                <a:off x="4376160" y="1671840"/>
                <a:ext cx="847080" cy="577440"/>
              </a:xfrm>
              <a:custGeom>
                <a:avLst/>
                <a:gdLst/>
                <a:ahLst/>
                <a:rect l="l" t="t" r="r" b="b"/>
                <a:pathLst>
                  <a:path w="536" h="497">
                    <a:moveTo>
                      <a:pt x="0" y="304"/>
                    </a:moveTo>
                    <a:lnTo>
                      <a:pt x="4" y="298"/>
                    </a:lnTo>
                    <a:lnTo>
                      <a:pt x="12" y="284"/>
                    </a:lnTo>
                    <a:lnTo>
                      <a:pt x="24" y="262"/>
                    </a:lnTo>
                    <a:lnTo>
                      <a:pt x="40" y="237"/>
                    </a:lnTo>
                    <a:lnTo>
                      <a:pt x="58" y="207"/>
                    </a:lnTo>
                    <a:lnTo>
                      <a:pt x="77" y="176"/>
                    </a:lnTo>
                    <a:lnTo>
                      <a:pt x="95" y="144"/>
                    </a:lnTo>
                    <a:lnTo>
                      <a:pt x="113" y="115"/>
                    </a:lnTo>
                    <a:lnTo>
                      <a:pt x="129" y="89"/>
                    </a:lnTo>
                    <a:lnTo>
                      <a:pt x="149" y="67"/>
                    </a:lnTo>
                    <a:lnTo>
                      <a:pt x="170" y="47"/>
                    </a:lnTo>
                    <a:lnTo>
                      <a:pt x="194" y="32"/>
                    </a:lnTo>
                    <a:lnTo>
                      <a:pt x="220" y="18"/>
                    </a:lnTo>
                    <a:lnTo>
                      <a:pt x="247" y="10"/>
                    </a:lnTo>
                    <a:lnTo>
                      <a:pt x="275" y="2"/>
                    </a:lnTo>
                    <a:lnTo>
                      <a:pt x="305" y="0"/>
                    </a:lnTo>
                    <a:lnTo>
                      <a:pt x="334" y="2"/>
                    </a:lnTo>
                    <a:lnTo>
                      <a:pt x="364" y="8"/>
                    </a:lnTo>
                    <a:lnTo>
                      <a:pt x="393" y="18"/>
                    </a:lnTo>
                    <a:lnTo>
                      <a:pt x="423" y="34"/>
                    </a:lnTo>
                    <a:lnTo>
                      <a:pt x="453" y="51"/>
                    </a:lnTo>
                    <a:lnTo>
                      <a:pt x="482" y="77"/>
                    </a:lnTo>
                    <a:lnTo>
                      <a:pt x="510" y="107"/>
                    </a:lnTo>
                    <a:lnTo>
                      <a:pt x="536" y="142"/>
                    </a:lnTo>
                    <a:lnTo>
                      <a:pt x="324" y="497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86360" y="1631880"/>
                <a:ext cx="1217880" cy="541800"/>
              </a:xfrm>
              <a:custGeom>
                <a:avLst/>
                <a:gdLst/>
                <a:ahLst/>
                <a:rect l="l" t="t" r="r" b="b"/>
                <a:pathLst>
                  <a:path w="770" h="467">
                    <a:moveTo>
                      <a:pt x="0" y="0"/>
                    </a:moveTo>
                    <a:lnTo>
                      <a:pt x="65" y="23"/>
                    </a:lnTo>
                    <a:lnTo>
                      <a:pt x="120" y="61"/>
                    </a:lnTo>
                    <a:lnTo>
                      <a:pt x="168" y="106"/>
                    </a:lnTo>
                    <a:lnTo>
                      <a:pt x="207" y="159"/>
                    </a:lnTo>
                    <a:lnTo>
                      <a:pt x="243" y="217"/>
                    </a:lnTo>
                    <a:lnTo>
                      <a:pt x="270" y="272"/>
                    </a:lnTo>
                    <a:lnTo>
                      <a:pt x="294" y="321"/>
                    </a:lnTo>
                    <a:lnTo>
                      <a:pt x="314" y="365"/>
                    </a:lnTo>
                    <a:lnTo>
                      <a:pt x="156" y="451"/>
                    </a:lnTo>
                    <a:lnTo>
                      <a:pt x="543" y="467"/>
                    </a:lnTo>
                    <a:lnTo>
                      <a:pt x="770" y="136"/>
                    </a:lnTo>
                    <a:lnTo>
                      <a:pt x="616" y="207"/>
                    </a:lnTo>
                    <a:lnTo>
                      <a:pt x="600" y="179"/>
                    </a:lnTo>
                    <a:lnTo>
                      <a:pt x="584" y="150"/>
                    </a:lnTo>
                    <a:lnTo>
                      <a:pt x="564" y="118"/>
                    </a:lnTo>
                    <a:lnTo>
                      <a:pt x="543" y="86"/>
                    </a:lnTo>
                    <a:lnTo>
                      <a:pt x="519" y="61"/>
                    </a:lnTo>
                    <a:lnTo>
                      <a:pt x="493" y="37"/>
                    </a:lnTo>
                    <a:lnTo>
                      <a:pt x="466" y="21"/>
                    </a:lnTo>
                    <a:lnTo>
                      <a:pt x="436" y="15"/>
                    </a:lnTo>
                    <a:lnTo>
                      <a:pt x="404" y="13"/>
                    </a:lnTo>
                    <a:lnTo>
                      <a:pt x="373" y="13"/>
                    </a:lnTo>
                    <a:lnTo>
                      <a:pt x="337" y="11"/>
                    </a:lnTo>
                    <a:lnTo>
                      <a:pt x="302" y="10"/>
                    </a:lnTo>
                    <a:lnTo>
                      <a:pt x="264" y="10"/>
                    </a:lnTo>
                    <a:lnTo>
                      <a:pt x="229" y="8"/>
                    </a:lnTo>
                    <a:lnTo>
                      <a:pt x="193" y="8"/>
                    </a:lnTo>
                    <a:lnTo>
                      <a:pt x="160" y="6"/>
                    </a:lnTo>
                    <a:lnTo>
                      <a:pt x="126" y="4"/>
                    </a:lnTo>
                    <a:lnTo>
                      <a:pt x="96" y="4"/>
                    </a:lnTo>
                    <a:lnTo>
                      <a:pt x="69" y="2"/>
                    </a:lnTo>
                    <a:lnTo>
                      <a:pt x="45" y="2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8ddc8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573160" y="2577240"/>
              <a:ext cx="1117440" cy="1261080"/>
              <a:chOff x="5573160" y="2577240"/>
              <a:chExt cx="1117440" cy="126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50800" y="2577240"/>
                <a:ext cx="739800" cy="630000"/>
              </a:xfrm>
              <a:custGeom>
                <a:avLst/>
                <a:gdLst/>
                <a:ahLst/>
                <a:rect l="l" t="t" r="r" b="b"/>
                <a:pathLst>
                  <a:path w="468" h="543">
                    <a:moveTo>
                      <a:pt x="329" y="0"/>
                    </a:moveTo>
                    <a:lnTo>
                      <a:pt x="331" y="6"/>
                    </a:lnTo>
                    <a:lnTo>
                      <a:pt x="339" y="20"/>
                    </a:lnTo>
                    <a:lnTo>
                      <a:pt x="353" y="42"/>
                    </a:lnTo>
                    <a:lnTo>
                      <a:pt x="367" y="69"/>
                    </a:lnTo>
                    <a:lnTo>
                      <a:pt x="385" y="99"/>
                    </a:lnTo>
                    <a:lnTo>
                      <a:pt x="402" y="130"/>
                    </a:lnTo>
                    <a:lnTo>
                      <a:pt x="420" y="162"/>
                    </a:lnTo>
                    <a:lnTo>
                      <a:pt x="436" y="192"/>
                    </a:lnTo>
                    <a:lnTo>
                      <a:pt x="458" y="245"/>
                    </a:lnTo>
                    <a:lnTo>
                      <a:pt x="468" y="302"/>
                    </a:lnTo>
                    <a:lnTo>
                      <a:pt x="462" y="359"/>
                    </a:lnTo>
                    <a:lnTo>
                      <a:pt x="440" y="412"/>
                    </a:lnTo>
                    <a:lnTo>
                      <a:pt x="404" y="460"/>
                    </a:lnTo>
                    <a:lnTo>
                      <a:pt x="353" y="499"/>
                    </a:lnTo>
                    <a:lnTo>
                      <a:pt x="284" y="529"/>
                    </a:lnTo>
                    <a:lnTo>
                      <a:pt x="201" y="543"/>
                    </a:lnTo>
                    <a:lnTo>
                      <a:pt x="0" y="184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73160" y="3037320"/>
                <a:ext cx="1069560" cy="801000"/>
              </a:xfrm>
              <a:custGeom>
                <a:avLst/>
                <a:gdLst/>
                <a:ahLst/>
                <a:rect l="l" t="t" r="r" b="b"/>
                <a:pathLst>
                  <a:path w="677" h="690">
                    <a:moveTo>
                      <a:pt x="677" y="90"/>
                    </a:moveTo>
                    <a:lnTo>
                      <a:pt x="651" y="114"/>
                    </a:lnTo>
                    <a:lnTo>
                      <a:pt x="624" y="134"/>
                    </a:lnTo>
                    <a:lnTo>
                      <a:pt x="596" y="152"/>
                    </a:lnTo>
                    <a:lnTo>
                      <a:pt x="564" y="163"/>
                    </a:lnTo>
                    <a:lnTo>
                      <a:pt x="533" y="173"/>
                    </a:lnTo>
                    <a:lnTo>
                      <a:pt x="499" y="181"/>
                    </a:lnTo>
                    <a:lnTo>
                      <a:pt x="466" y="187"/>
                    </a:lnTo>
                    <a:lnTo>
                      <a:pt x="434" y="191"/>
                    </a:lnTo>
                    <a:lnTo>
                      <a:pt x="401" y="193"/>
                    </a:lnTo>
                    <a:lnTo>
                      <a:pt x="367" y="193"/>
                    </a:lnTo>
                    <a:lnTo>
                      <a:pt x="335" y="191"/>
                    </a:lnTo>
                    <a:lnTo>
                      <a:pt x="306" y="189"/>
                    </a:lnTo>
                    <a:lnTo>
                      <a:pt x="276" y="187"/>
                    </a:lnTo>
                    <a:lnTo>
                      <a:pt x="249" y="185"/>
                    </a:lnTo>
                    <a:lnTo>
                      <a:pt x="223" y="183"/>
                    </a:lnTo>
                    <a:lnTo>
                      <a:pt x="201" y="181"/>
                    </a:lnTo>
                    <a:lnTo>
                      <a:pt x="209" y="0"/>
                    </a:lnTo>
                    <a:lnTo>
                      <a:pt x="0" y="327"/>
                    </a:lnTo>
                    <a:lnTo>
                      <a:pt x="173" y="690"/>
                    </a:lnTo>
                    <a:lnTo>
                      <a:pt x="187" y="520"/>
                    </a:lnTo>
                    <a:lnTo>
                      <a:pt x="219" y="520"/>
                    </a:lnTo>
                    <a:lnTo>
                      <a:pt x="254" y="522"/>
                    </a:lnTo>
                    <a:lnTo>
                      <a:pt x="290" y="520"/>
                    </a:lnTo>
                    <a:lnTo>
                      <a:pt x="328" y="518"/>
                    </a:lnTo>
                    <a:lnTo>
                      <a:pt x="363" y="512"/>
                    </a:lnTo>
                    <a:lnTo>
                      <a:pt x="395" y="501"/>
                    </a:lnTo>
                    <a:lnTo>
                      <a:pt x="422" y="485"/>
                    </a:lnTo>
                    <a:lnTo>
                      <a:pt x="444" y="461"/>
                    </a:lnTo>
                    <a:lnTo>
                      <a:pt x="478" y="406"/>
                    </a:lnTo>
                    <a:lnTo>
                      <a:pt x="515" y="347"/>
                    </a:lnTo>
                    <a:lnTo>
                      <a:pt x="555" y="286"/>
                    </a:lnTo>
                    <a:lnTo>
                      <a:pt x="592" y="225"/>
                    </a:lnTo>
                    <a:lnTo>
                      <a:pt x="626" y="173"/>
                    </a:lnTo>
                    <a:lnTo>
                      <a:pt x="651" y="130"/>
                    </a:lnTo>
                    <a:lnTo>
                      <a:pt x="671" y="100"/>
                    </a:lnTo>
                    <a:lnTo>
                      <a:pt x="677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8ddc8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2053800" y="4437000"/>
            <a:ext cx="4731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intrin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not possess an uniqu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world w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changing traditional </a:t>
            </a:r>
            <a:r>
              <a:rPr b="0" lang="en-US" sz="1800" spc="-1" strike="noStrike">
                <a:solidFill>
                  <a:srgbClr val="000000"/>
                </a:solidFill>
                <a:latin typeface="바탕"/>
                <a:ea typeface="바탕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paper-based</a:t>
            </a:r>
            <a:r>
              <a:rPr b="0" lang="en-US" sz="1800" spc="-1" strike="noStrike">
                <a:solidFill>
                  <a:srgbClr val="000000"/>
                </a:solidFill>
                <a:latin typeface="바탕"/>
                <a:ea typeface="바탕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transa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not offering an adequate protection,mechan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* Need to counter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187800" y="3479760"/>
            <a:ext cx="4248000" cy="924120"/>
            <a:chOff x="3187800" y="3479760"/>
            <a:chExt cx="4248000" cy="924120"/>
          </a:xfrm>
        </p:grpSpPr>
        <p:sp>
          <p:nvSpPr>
            <p:cNvPr id="299" name=""/>
            <p:cNvSpPr txBox="1"/>
            <p:nvPr/>
          </p:nvSpPr>
          <p:spPr>
            <a:xfrm>
              <a:off x="3187800" y="3618000"/>
              <a:ext cx="4248000" cy="78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Times New Roman"/>
                </a:rPr>
                <a:t>Security   &amp;  Trus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58960" y="352260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cre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73800" y="347976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l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6CF8-664E-4C67-A9AA-5EE9D030C25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827E9D4-299D-4EDA-9144-80CB3BF5F8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33360" y="128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ECURE E-COMMERCE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ecurity &amp; Trus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1687680" y="1168560"/>
            <a:ext cx="290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r Bu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&amp; Merch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76400" y="2205000"/>
            <a:ext cx="4377960" cy="4203000"/>
            <a:chOff x="176400" y="2205000"/>
            <a:chExt cx="4377960" cy="4203000"/>
          </a:xfrm>
        </p:grpSpPr>
        <p:sp>
          <p:nvSpPr>
            <p:cNvPr id="305" name=""/>
            <p:cNvSpPr/>
            <p:nvPr/>
          </p:nvSpPr>
          <p:spPr>
            <a:xfrm rot="16475400">
              <a:off x="420840" y="2266200"/>
              <a:ext cx="3889080" cy="4079880"/>
            </a:xfrm>
            <a:custGeom>
              <a:avLst/>
              <a:gdLst/>
              <a:ahLst/>
              <a:rect l="l" t="t" r="r" b="b"/>
              <a:pathLst>
                <a:path w="2279" h="2248">
                  <a:moveTo>
                    <a:pt x="305" y="1866"/>
                  </a:moveTo>
                  <a:lnTo>
                    <a:pt x="302" y="1862"/>
                  </a:lnTo>
                  <a:lnTo>
                    <a:pt x="293" y="1849"/>
                  </a:lnTo>
                  <a:lnTo>
                    <a:pt x="279" y="1827"/>
                  </a:lnTo>
                  <a:lnTo>
                    <a:pt x="259" y="1799"/>
                  </a:lnTo>
                  <a:lnTo>
                    <a:pt x="237" y="1765"/>
                  </a:lnTo>
                  <a:lnTo>
                    <a:pt x="212" y="1726"/>
                  </a:lnTo>
                  <a:lnTo>
                    <a:pt x="185" y="1682"/>
                  </a:lnTo>
                  <a:lnTo>
                    <a:pt x="158" y="1635"/>
                  </a:lnTo>
                  <a:lnTo>
                    <a:pt x="130" y="1584"/>
                  </a:lnTo>
                  <a:lnTo>
                    <a:pt x="104" y="1532"/>
                  </a:lnTo>
                  <a:lnTo>
                    <a:pt x="77" y="1479"/>
                  </a:lnTo>
                  <a:lnTo>
                    <a:pt x="54" y="1426"/>
                  </a:lnTo>
                  <a:lnTo>
                    <a:pt x="35" y="1373"/>
                  </a:lnTo>
                  <a:lnTo>
                    <a:pt x="18" y="1321"/>
                  </a:lnTo>
                  <a:lnTo>
                    <a:pt x="8" y="1273"/>
                  </a:lnTo>
                  <a:lnTo>
                    <a:pt x="2" y="1227"/>
                  </a:lnTo>
                  <a:lnTo>
                    <a:pt x="1" y="1192"/>
                  </a:lnTo>
                  <a:lnTo>
                    <a:pt x="0" y="1157"/>
                  </a:lnTo>
                  <a:lnTo>
                    <a:pt x="0" y="1121"/>
                  </a:lnTo>
                  <a:lnTo>
                    <a:pt x="1" y="1085"/>
                  </a:lnTo>
                  <a:lnTo>
                    <a:pt x="2" y="1047"/>
                  </a:lnTo>
                  <a:lnTo>
                    <a:pt x="6" y="1009"/>
                  </a:lnTo>
                  <a:lnTo>
                    <a:pt x="9" y="970"/>
                  </a:lnTo>
                  <a:lnTo>
                    <a:pt x="14" y="931"/>
                  </a:lnTo>
                  <a:lnTo>
                    <a:pt x="20" y="892"/>
                  </a:lnTo>
                  <a:lnTo>
                    <a:pt x="28" y="851"/>
                  </a:lnTo>
                  <a:lnTo>
                    <a:pt x="37" y="812"/>
                  </a:lnTo>
                  <a:lnTo>
                    <a:pt x="47" y="772"/>
                  </a:lnTo>
                  <a:lnTo>
                    <a:pt x="60" y="733"/>
                  </a:lnTo>
                  <a:lnTo>
                    <a:pt x="74" y="692"/>
                  </a:lnTo>
                  <a:lnTo>
                    <a:pt x="91" y="652"/>
                  </a:lnTo>
                  <a:lnTo>
                    <a:pt x="109" y="612"/>
                  </a:lnTo>
                  <a:lnTo>
                    <a:pt x="129" y="573"/>
                  </a:lnTo>
                  <a:lnTo>
                    <a:pt x="152" y="532"/>
                  </a:lnTo>
                  <a:lnTo>
                    <a:pt x="177" y="493"/>
                  </a:lnTo>
                  <a:lnTo>
                    <a:pt x="205" y="454"/>
                  </a:lnTo>
                  <a:lnTo>
                    <a:pt x="242" y="407"/>
                  </a:lnTo>
                  <a:lnTo>
                    <a:pt x="281" y="363"/>
                  </a:lnTo>
                  <a:lnTo>
                    <a:pt x="321" y="323"/>
                  </a:lnTo>
                  <a:lnTo>
                    <a:pt x="364" y="285"/>
                  </a:lnTo>
                  <a:lnTo>
                    <a:pt x="407" y="250"/>
                  </a:lnTo>
                  <a:lnTo>
                    <a:pt x="452" y="218"/>
                  </a:lnTo>
                  <a:lnTo>
                    <a:pt x="497" y="188"/>
                  </a:lnTo>
                  <a:lnTo>
                    <a:pt x="543" y="161"/>
                  </a:lnTo>
                  <a:lnTo>
                    <a:pt x="589" y="136"/>
                  </a:lnTo>
                  <a:lnTo>
                    <a:pt x="634" y="114"/>
                  </a:lnTo>
                  <a:lnTo>
                    <a:pt x="679" y="95"/>
                  </a:lnTo>
                  <a:lnTo>
                    <a:pt x="724" y="77"/>
                  </a:lnTo>
                  <a:lnTo>
                    <a:pt x="767" y="61"/>
                  </a:lnTo>
                  <a:lnTo>
                    <a:pt x="810" y="49"/>
                  </a:lnTo>
                  <a:lnTo>
                    <a:pt x="850" y="37"/>
                  </a:lnTo>
                  <a:lnTo>
                    <a:pt x="889" y="28"/>
                  </a:lnTo>
                  <a:lnTo>
                    <a:pt x="904" y="24"/>
                  </a:lnTo>
                  <a:lnTo>
                    <a:pt x="919" y="22"/>
                  </a:lnTo>
                  <a:lnTo>
                    <a:pt x="934" y="19"/>
                  </a:lnTo>
                  <a:lnTo>
                    <a:pt x="951" y="16"/>
                  </a:lnTo>
                  <a:lnTo>
                    <a:pt x="967" y="14"/>
                  </a:lnTo>
                  <a:lnTo>
                    <a:pt x="983" y="12"/>
                  </a:lnTo>
                  <a:lnTo>
                    <a:pt x="999" y="9"/>
                  </a:lnTo>
                  <a:lnTo>
                    <a:pt x="1016" y="7"/>
                  </a:lnTo>
                  <a:lnTo>
                    <a:pt x="1032" y="6"/>
                  </a:lnTo>
                  <a:lnTo>
                    <a:pt x="1050" y="4"/>
                  </a:lnTo>
                  <a:lnTo>
                    <a:pt x="1068" y="2"/>
                  </a:lnTo>
                  <a:lnTo>
                    <a:pt x="1085" y="1"/>
                  </a:lnTo>
                  <a:lnTo>
                    <a:pt x="1103" y="1"/>
                  </a:lnTo>
                  <a:lnTo>
                    <a:pt x="1121" y="0"/>
                  </a:lnTo>
                  <a:lnTo>
                    <a:pt x="1139" y="0"/>
                  </a:lnTo>
                  <a:lnTo>
                    <a:pt x="1158" y="0"/>
                  </a:lnTo>
                  <a:lnTo>
                    <a:pt x="1182" y="1"/>
                  </a:lnTo>
                  <a:lnTo>
                    <a:pt x="1207" y="1"/>
                  </a:lnTo>
                  <a:lnTo>
                    <a:pt x="1232" y="4"/>
                  </a:lnTo>
                  <a:lnTo>
                    <a:pt x="1257" y="6"/>
                  </a:lnTo>
                  <a:lnTo>
                    <a:pt x="1282" y="8"/>
                  </a:lnTo>
                  <a:lnTo>
                    <a:pt x="1309" y="12"/>
                  </a:lnTo>
                  <a:lnTo>
                    <a:pt x="1334" y="16"/>
                  </a:lnTo>
                  <a:lnTo>
                    <a:pt x="1361" y="21"/>
                  </a:lnTo>
                  <a:lnTo>
                    <a:pt x="1386" y="27"/>
                  </a:lnTo>
                  <a:lnTo>
                    <a:pt x="1413" y="32"/>
                  </a:lnTo>
                  <a:lnTo>
                    <a:pt x="1439" y="39"/>
                  </a:lnTo>
                  <a:lnTo>
                    <a:pt x="1466" y="47"/>
                  </a:lnTo>
                  <a:lnTo>
                    <a:pt x="1492" y="57"/>
                  </a:lnTo>
                  <a:lnTo>
                    <a:pt x="1519" y="66"/>
                  </a:lnTo>
                  <a:lnTo>
                    <a:pt x="1545" y="75"/>
                  </a:lnTo>
                  <a:lnTo>
                    <a:pt x="1572" y="87"/>
                  </a:lnTo>
                  <a:lnTo>
                    <a:pt x="1598" y="98"/>
                  </a:lnTo>
                  <a:lnTo>
                    <a:pt x="1626" y="111"/>
                  </a:lnTo>
                  <a:lnTo>
                    <a:pt x="1652" y="125"/>
                  </a:lnTo>
                  <a:lnTo>
                    <a:pt x="1679" y="140"/>
                  </a:lnTo>
                  <a:lnTo>
                    <a:pt x="1705" y="156"/>
                  </a:lnTo>
                  <a:lnTo>
                    <a:pt x="1732" y="172"/>
                  </a:lnTo>
                  <a:lnTo>
                    <a:pt x="1758" y="189"/>
                  </a:lnTo>
                  <a:lnTo>
                    <a:pt x="1784" y="209"/>
                  </a:lnTo>
                  <a:lnTo>
                    <a:pt x="1810" y="228"/>
                  </a:lnTo>
                  <a:lnTo>
                    <a:pt x="1837" y="249"/>
                  </a:lnTo>
                  <a:lnTo>
                    <a:pt x="1862" y="271"/>
                  </a:lnTo>
                  <a:lnTo>
                    <a:pt x="1887" y="294"/>
                  </a:lnTo>
                  <a:lnTo>
                    <a:pt x="1913" y="318"/>
                  </a:lnTo>
                  <a:lnTo>
                    <a:pt x="1938" y="343"/>
                  </a:lnTo>
                  <a:lnTo>
                    <a:pt x="1963" y="370"/>
                  </a:lnTo>
                  <a:lnTo>
                    <a:pt x="1987" y="398"/>
                  </a:lnTo>
                  <a:lnTo>
                    <a:pt x="2037" y="457"/>
                  </a:lnTo>
                  <a:lnTo>
                    <a:pt x="2081" y="515"/>
                  </a:lnTo>
                  <a:lnTo>
                    <a:pt x="2120" y="572"/>
                  </a:lnTo>
                  <a:lnTo>
                    <a:pt x="2155" y="626"/>
                  </a:lnTo>
                  <a:lnTo>
                    <a:pt x="2183" y="677"/>
                  </a:lnTo>
                  <a:lnTo>
                    <a:pt x="2209" y="729"/>
                  </a:lnTo>
                  <a:lnTo>
                    <a:pt x="2228" y="780"/>
                  </a:lnTo>
                  <a:lnTo>
                    <a:pt x="2246" y="830"/>
                  </a:lnTo>
                  <a:lnTo>
                    <a:pt x="2258" y="878"/>
                  </a:lnTo>
                  <a:lnTo>
                    <a:pt x="2267" y="927"/>
                  </a:lnTo>
                  <a:lnTo>
                    <a:pt x="2274" y="976"/>
                  </a:lnTo>
                  <a:lnTo>
                    <a:pt x="2278" y="1024"/>
                  </a:lnTo>
                  <a:lnTo>
                    <a:pt x="2279" y="1074"/>
                  </a:lnTo>
                  <a:lnTo>
                    <a:pt x="2277" y="1124"/>
                  </a:lnTo>
                  <a:lnTo>
                    <a:pt x="2273" y="1175"/>
                  </a:lnTo>
                  <a:lnTo>
                    <a:pt x="2267" y="1227"/>
                  </a:lnTo>
                  <a:lnTo>
                    <a:pt x="2261" y="1276"/>
                  </a:lnTo>
                  <a:lnTo>
                    <a:pt x="2252" y="1329"/>
                  </a:lnTo>
                  <a:lnTo>
                    <a:pt x="2241" y="1387"/>
                  </a:lnTo>
                  <a:lnTo>
                    <a:pt x="2227" y="1447"/>
                  </a:lnTo>
                  <a:lnTo>
                    <a:pt x="2210" y="1509"/>
                  </a:lnTo>
                  <a:lnTo>
                    <a:pt x="2188" y="1573"/>
                  </a:lnTo>
                  <a:lnTo>
                    <a:pt x="2163" y="1637"/>
                  </a:lnTo>
                  <a:lnTo>
                    <a:pt x="2134" y="1702"/>
                  </a:lnTo>
                  <a:lnTo>
                    <a:pt x="2098" y="1765"/>
                  </a:lnTo>
                  <a:lnTo>
                    <a:pt x="2059" y="1827"/>
                  </a:lnTo>
                  <a:lnTo>
                    <a:pt x="2013" y="1887"/>
                  </a:lnTo>
                  <a:lnTo>
                    <a:pt x="1961" y="1943"/>
                  </a:lnTo>
                  <a:lnTo>
                    <a:pt x="1902" y="1996"/>
                  </a:lnTo>
                  <a:lnTo>
                    <a:pt x="1838" y="2045"/>
                  </a:lnTo>
                  <a:lnTo>
                    <a:pt x="1765" y="2087"/>
                  </a:lnTo>
                  <a:lnTo>
                    <a:pt x="1684" y="2124"/>
                  </a:lnTo>
                  <a:lnTo>
                    <a:pt x="1645" y="2139"/>
                  </a:lnTo>
                  <a:lnTo>
                    <a:pt x="1606" y="2154"/>
                  </a:lnTo>
                  <a:lnTo>
                    <a:pt x="1569" y="2167"/>
                  </a:lnTo>
                  <a:lnTo>
                    <a:pt x="1532" y="2180"/>
                  </a:lnTo>
                  <a:lnTo>
                    <a:pt x="1497" y="2190"/>
                  </a:lnTo>
                  <a:lnTo>
                    <a:pt x="1461" y="2200"/>
                  </a:lnTo>
                  <a:lnTo>
                    <a:pt x="1426" y="2208"/>
                  </a:lnTo>
                  <a:lnTo>
                    <a:pt x="1393" y="2216"/>
                  </a:lnTo>
                  <a:lnTo>
                    <a:pt x="1361" y="2223"/>
                  </a:lnTo>
                  <a:lnTo>
                    <a:pt x="1328" y="2229"/>
                  </a:lnTo>
                  <a:lnTo>
                    <a:pt x="1297" y="2235"/>
                  </a:lnTo>
                  <a:lnTo>
                    <a:pt x="1266" y="2238"/>
                  </a:lnTo>
                  <a:lnTo>
                    <a:pt x="1237" y="2242"/>
                  </a:lnTo>
                  <a:lnTo>
                    <a:pt x="1207" y="2245"/>
                  </a:lnTo>
                  <a:lnTo>
                    <a:pt x="1180" y="2246"/>
                  </a:lnTo>
                  <a:lnTo>
                    <a:pt x="1152" y="2248"/>
                  </a:lnTo>
                  <a:lnTo>
                    <a:pt x="1111" y="2248"/>
                  </a:lnTo>
                  <a:lnTo>
                    <a:pt x="1072" y="2245"/>
                  </a:lnTo>
                  <a:lnTo>
                    <a:pt x="1033" y="2242"/>
                  </a:lnTo>
                  <a:lnTo>
                    <a:pt x="998" y="2237"/>
                  </a:lnTo>
                  <a:lnTo>
                    <a:pt x="963" y="2230"/>
                  </a:lnTo>
                  <a:lnTo>
                    <a:pt x="930" y="2222"/>
                  </a:lnTo>
                  <a:lnTo>
                    <a:pt x="899" y="2213"/>
                  </a:lnTo>
                  <a:lnTo>
                    <a:pt x="869" y="2204"/>
                  </a:lnTo>
                  <a:lnTo>
                    <a:pt x="840" y="2192"/>
                  </a:lnTo>
                  <a:lnTo>
                    <a:pt x="812" y="2180"/>
                  </a:lnTo>
                  <a:lnTo>
                    <a:pt x="787" y="2167"/>
                  </a:lnTo>
                  <a:lnTo>
                    <a:pt x="762" y="2153"/>
                  </a:lnTo>
                  <a:lnTo>
                    <a:pt x="739" y="2138"/>
                  </a:lnTo>
                  <a:lnTo>
                    <a:pt x="717" y="2123"/>
                  </a:lnTo>
                  <a:lnTo>
                    <a:pt x="696" y="2107"/>
                  </a:lnTo>
                  <a:lnTo>
                    <a:pt x="676" y="2091"/>
                  </a:lnTo>
                  <a:lnTo>
                    <a:pt x="646" y="2063"/>
                  </a:lnTo>
                  <a:lnTo>
                    <a:pt x="615" y="2032"/>
                  </a:lnTo>
                  <a:lnTo>
                    <a:pt x="585" y="1999"/>
                  </a:lnTo>
                  <a:lnTo>
                    <a:pt x="558" y="1965"/>
                  </a:lnTo>
                  <a:lnTo>
                    <a:pt x="532" y="1934"/>
                  </a:lnTo>
                  <a:lnTo>
                    <a:pt x="514" y="1905"/>
                  </a:lnTo>
                  <a:lnTo>
                    <a:pt x="501" y="1882"/>
                  </a:lnTo>
                  <a:lnTo>
                    <a:pt x="497" y="1866"/>
                  </a:lnTo>
                  <a:lnTo>
                    <a:pt x="499" y="1855"/>
                  </a:lnTo>
                  <a:lnTo>
                    <a:pt x="506" y="1847"/>
                  </a:lnTo>
                  <a:lnTo>
                    <a:pt x="515" y="1841"/>
                  </a:lnTo>
                  <a:lnTo>
                    <a:pt x="529" y="1840"/>
                  </a:lnTo>
                  <a:lnTo>
                    <a:pt x="544" y="1842"/>
                  </a:lnTo>
                  <a:lnTo>
                    <a:pt x="561" y="1849"/>
                  </a:lnTo>
                  <a:lnTo>
                    <a:pt x="578" y="1860"/>
                  </a:lnTo>
                  <a:lnTo>
                    <a:pt x="597" y="1878"/>
                  </a:lnTo>
                  <a:lnTo>
                    <a:pt x="627" y="1908"/>
                  </a:lnTo>
                  <a:lnTo>
                    <a:pt x="659" y="1935"/>
                  </a:lnTo>
                  <a:lnTo>
                    <a:pt x="692" y="1961"/>
                  </a:lnTo>
                  <a:lnTo>
                    <a:pt x="726" y="1984"/>
                  </a:lnTo>
                  <a:lnTo>
                    <a:pt x="759" y="2004"/>
                  </a:lnTo>
                  <a:lnTo>
                    <a:pt x="794" y="2023"/>
                  </a:lnTo>
                  <a:lnTo>
                    <a:pt x="828" y="2039"/>
                  </a:lnTo>
                  <a:lnTo>
                    <a:pt x="862" y="2053"/>
                  </a:lnTo>
                  <a:lnTo>
                    <a:pt x="894" y="2064"/>
                  </a:lnTo>
                  <a:lnTo>
                    <a:pt x="925" y="2075"/>
                  </a:lnTo>
                  <a:lnTo>
                    <a:pt x="955" y="2083"/>
                  </a:lnTo>
                  <a:lnTo>
                    <a:pt x="983" y="2090"/>
                  </a:lnTo>
                  <a:lnTo>
                    <a:pt x="1008" y="2095"/>
                  </a:lnTo>
                  <a:lnTo>
                    <a:pt x="1031" y="2099"/>
                  </a:lnTo>
                  <a:lnTo>
                    <a:pt x="1051" y="2100"/>
                  </a:lnTo>
                  <a:lnTo>
                    <a:pt x="1068" y="2101"/>
                  </a:lnTo>
                  <a:lnTo>
                    <a:pt x="1095" y="2100"/>
                  </a:lnTo>
                  <a:lnTo>
                    <a:pt x="1126" y="2099"/>
                  </a:lnTo>
                  <a:lnTo>
                    <a:pt x="1161" y="2095"/>
                  </a:lnTo>
                  <a:lnTo>
                    <a:pt x="1202" y="2091"/>
                  </a:lnTo>
                  <a:lnTo>
                    <a:pt x="1245" y="2084"/>
                  </a:lnTo>
                  <a:lnTo>
                    <a:pt x="1290" y="2077"/>
                  </a:lnTo>
                  <a:lnTo>
                    <a:pt x="1338" y="2068"/>
                  </a:lnTo>
                  <a:lnTo>
                    <a:pt x="1387" y="2057"/>
                  </a:lnTo>
                  <a:lnTo>
                    <a:pt x="1436" y="2046"/>
                  </a:lnTo>
                  <a:lnTo>
                    <a:pt x="1484" y="2032"/>
                  </a:lnTo>
                  <a:lnTo>
                    <a:pt x="1531" y="2017"/>
                  </a:lnTo>
                  <a:lnTo>
                    <a:pt x="1577" y="2002"/>
                  </a:lnTo>
                  <a:lnTo>
                    <a:pt x="1621" y="1984"/>
                  </a:lnTo>
                  <a:lnTo>
                    <a:pt x="1661" y="1965"/>
                  </a:lnTo>
                  <a:lnTo>
                    <a:pt x="1697" y="1945"/>
                  </a:lnTo>
                  <a:lnTo>
                    <a:pt x="1729" y="1923"/>
                  </a:lnTo>
                  <a:lnTo>
                    <a:pt x="1774" y="1885"/>
                  </a:lnTo>
                  <a:lnTo>
                    <a:pt x="1817" y="1844"/>
                  </a:lnTo>
                  <a:lnTo>
                    <a:pt x="1857" y="1801"/>
                  </a:lnTo>
                  <a:lnTo>
                    <a:pt x="1894" y="1753"/>
                  </a:lnTo>
                  <a:lnTo>
                    <a:pt x="1929" y="1704"/>
                  </a:lnTo>
                  <a:lnTo>
                    <a:pt x="1961" y="1652"/>
                  </a:lnTo>
                  <a:lnTo>
                    <a:pt x="1990" y="1598"/>
                  </a:lnTo>
                  <a:lnTo>
                    <a:pt x="2015" y="1541"/>
                  </a:lnTo>
                  <a:lnTo>
                    <a:pt x="2038" y="1483"/>
                  </a:lnTo>
                  <a:lnTo>
                    <a:pt x="2058" y="1422"/>
                  </a:lnTo>
                  <a:lnTo>
                    <a:pt x="2074" y="1358"/>
                  </a:lnTo>
                  <a:lnTo>
                    <a:pt x="2085" y="1295"/>
                  </a:lnTo>
                  <a:lnTo>
                    <a:pt x="2095" y="1229"/>
                  </a:lnTo>
                  <a:lnTo>
                    <a:pt x="2100" y="1162"/>
                  </a:lnTo>
                  <a:lnTo>
                    <a:pt x="2102" y="1094"/>
                  </a:lnTo>
                  <a:lnTo>
                    <a:pt x="2099" y="1025"/>
                  </a:lnTo>
                  <a:lnTo>
                    <a:pt x="2092" y="972"/>
                  </a:lnTo>
                  <a:lnTo>
                    <a:pt x="2080" y="914"/>
                  </a:lnTo>
                  <a:lnTo>
                    <a:pt x="2060" y="853"/>
                  </a:lnTo>
                  <a:lnTo>
                    <a:pt x="2034" y="788"/>
                  </a:lnTo>
                  <a:lnTo>
                    <a:pt x="2001" y="722"/>
                  </a:lnTo>
                  <a:lnTo>
                    <a:pt x="1964" y="657"/>
                  </a:lnTo>
                  <a:lnTo>
                    <a:pt x="1922" y="591"/>
                  </a:lnTo>
                  <a:lnTo>
                    <a:pt x="1875" y="528"/>
                  </a:lnTo>
                  <a:lnTo>
                    <a:pt x="1823" y="467"/>
                  </a:lnTo>
                  <a:lnTo>
                    <a:pt x="1766" y="410"/>
                  </a:lnTo>
                  <a:lnTo>
                    <a:pt x="1706" y="357"/>
                  </a:lnTo>
                  <a:lnTo>
                    <a:pt x="1643" y="311"/>
                  </a:lnTo>
                  <a:lnTo>
                    <a:pt x="1577" y="272"/>
                  </a:lnTo>
                  <a:lnTo>
                    <a:pt x="1507" y="241"/>
                  </a:lnTo>
                  <a:lnTo>
                    <a:pt x="1436" y="219"/>
                  </a:lnTo>
                  <a:lnTo>
                    <a:pt x="1361" y="207"/>
                  </a:lnTo>
                  <a:lnTo>
                    <a:pt x="1324" y="204"/>
                  </a:lnTo>
                  <a:lnTo>
                    <a:pt x="1287" y="202"/>
                  </a:lnTo>
                  <a:lnTo>
                    <a:pt x="1252" y="199"/>
                  </a:lnTo>
                  <a:lnTo>
                    <a:pt x="1218" y="197"/>
                  </a:lnTo>
                  <a:lnTo>
                    <a:pt x="1184" y="195"/>
                  </a:lnTo>
                  <a:lnTo>
                    <a:pt x="1153" y="194"/>
                  </a:lnTo>
                  <a:lnTo>
                    <a:pt x="1121" y="194"/>
                  </a:lnTo>
                  <a:lnTo>
                    <a:pt x="1091" y="193"/>
                  </a:lnTo>
                  <a:lnTo>
                    <a:pt x="1061" y="193"/>
                  </a:lnTo>
                  <a:lnTo>
                    <a:pt x="1032" y="194"/>
                  </a:lnTo>
                  <a:lnTo>
                    <a:pt x="1004" y="195"/>
                  </a:lnTo>
                  <a:lnTo>
                    <a:pt x="976" y="197"/>
                  </a:lnTo>
                  <a:lnTo>
                    <a:pt x="949" y="199"/>
                  </a:lnTo>
                  <a:lnTo>
                    <a:pt x="923" y="203"/>
                  </a:lnTo>
                  <a:lnTo>
                    <a:pt x="896" y="206"/>
                  </a:lnTo>
                  <a:lnTo>
                    <a:pt x="871" y="211"/>
                  </a:lnTo>
                  <a:lnTo>
                    <a:pt x="846" y="217"/>
                  </a:lnTo>
                  <a:lnTo>
                    <a:pt x="820" y="222"/>
                  </a:lnTo>
                  <a:lnTo>
                    <a:pt x="796" y="229"/>
                  </a:lnTo>
                  <a:lnTo>
                    <a:pt x="771" y="237"/>
                  </a:lnTo>
                  <a:lnTo>
                    <a:pt x="747" y="247"/>
                  </a:lnTo>
                  <a:lnTo>
                    <a:pt x="722" y="256"/>
                  </a:lnTo>
                  <a:lnTo>
                    <a:pt x="698" y="266"/>
                  </a:lnTo>
                  <a:lnTo>
                    <a:pt x="674" y="278"/>
                  </a:lnTo>
                  <a:lnTo>
                    <a:pt x="650" y="290"/>
                  </a:lnTo>
                  <a:lnTo>
                    <a:pt x="626" y="304"/>
                  </a:lnTo>
                  <a:lnTo>
                    <a:pt x="600" y="319"/>
                  </a:lnTo>
                  <a:lnTo>
                    <a:pt x="576" y="334"/>
                  </a:lnTo>
                  <a:lnTo>
                    <a:pt x="551" y="351"/>
                  </a:lnTo>
                  <a:lnTo>
                    <a:pt x="525" y="370"/>
                  </a:lnTo>
                  <a:lnTo>
                    <a:pt x="500" y="388"/>
                  </a:lnTo>
                  <a:lnTo>
                    <a:pt x="474" y="409"/>
                  </a:lnTo>
                  <a:lnTo>
                    <a:pt x="432" y="445"/>
                  </a:lnTo>
                  <a:lnTo>
                    <a:pt x="395" y="484"/>
                  </a:lnTo>
                  <a:lnTo>
                    <a:pt x="361" y="525"/>
                  </a:lnTo>
                  <a:lnTo>
                    <a:pt x="331" y="568"/>
                  </a:lnTo>
                  <a:lnTo>
                    <a:pt x="303" y="612"/>
                  </a:lnTo>
                  <a:lnTo>
                    <a:pt x="279" y="658"/>
                  </a:lnTo>
                  <a:lnTo>
                    <a:pt x="258" y="705"/>
                  </a:lnTo>
                  <a:lnTo>
                    <a:pt x="240" y="752"/>
                  </a:lnTo>
                  <a:lnTo>
                    <a:pt x="224" y="800"/>
                  </a:lnTo>
                  <a:lnTo>
                    <a:pt x="210" y="848"/>
                  </a:lnTo>
                  <a:lnTo>
                    <a:pt x="197" y="895"/>
                  </a:lnTo>
                  <a:lnTo>
                    <a:pt x="188" y="941"/>
                  </a:lnTo>
                  <a:lnTo>
                    <a:pt x="179" y="987"/>
                  </a:lnTo>
                  <a:lnTo>
                    <a:pt x="172" y="1031"/>
                  </a:lnTo>
                  <a:lnTo>
                    <a:pt x="165" y="1075"/>
                  </a:lnTo>
                  <a:lnTo>
                    <a:pt x="160" y="1115"/>
                  </a:lnTo>
                  <a:lnTo>
                    <a:pt x="157" y="1168"/>
                  </a:lnTo>
                  <a:lnTo>
                    <a:pt x="158" y="1222"/>
                  </a:lnTo>
                  <a:lnTo>
                    <a:pt x="162" y="1278"/>
                  </a:lnTo>
                  <a:lnTo>
                    <a:pt x="172" y="1332"/>
                  </a:lnTo>
                  <a:lnTo>
                    <a:pt x="184" y="1386"/>
                  </a:lnTo>
                  <a:lnTo>
                    <a:pt x="198" y="1439"/>
                  </a:lnTo>
                  <a:lnTo>
                    <a:pt x="215" y="1491"/>
                  </a:lnTo>
                  <a:lnTo>
                    <a:pt x="233" y="1539"/>
                  </a:lnTo>
                  <a:lnTo>
                    <a:pt x="251" y="1586"/>
                  </a:lnTo>
                  <a:lnTo>
                    <a:pt x="268" y="1629"/>
                  </a:lnTo>
                  <a:lnTo>
                    <a:pt x="286" y="1668"/>
                  </a:lnTo>
                  <a:lnTo>
                    <a:pt x="302" y="1703"/>
                  </a:lnTo>
                  <a:lnTo>
                    <a:pt x="316" y="1733"/>
                  </a:lnTo>
                  <a:lnTo>
                    <a:pt x="327" y="1758"/>
                  </a:lnTo>
                  <a:lnTo>
                    <a:pt x="334" y="1776"/>
                  </a:lnTo>
                  <a:lnTo>
                    <a:pt x="339" y="1788"/>
                  </a:lnTo>
                  <a:lnTo>
                    <a:pt x="346" y="1809"/>
                  </a:lnTo>
                  <a:lnTo>
                    <a:pt x="354" y="1833"/>
                  </a:lnTo>
                  <a:lnTo>
                    <a:pt x="363" y="1859"/>
                  </a:lnTo>
                  <a:lnTo>
                    <a:pt x="369" y="1882"/>
                  </a:lnTo>
                  <a:lnTo>
                    <a:pt x="369" y="1897"/>
                  </a:lnTo>
                  <a:lnTo>
                    <a:pt x="359" y="1903"/>
                  </a:lnTo>
                  <a:lnTo>
                    <a:pt x="340" y="1894"/>
                  </a:lnTo>
                  <a:lnTo>
                    <a:pt x="305" y="186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 rot="21509400">
              <a:off x="1163520" y="2514240"/>
              <a:ext cx="2286000" cy="99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curit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029040" y="4619520"/>
            <a:ext cx="1639800" cy="1400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897080" y="2286000"/>
            <a:ext cx="24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&amp;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28320" y="3597120"/>
            <a:ext cx="254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ct B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al trustwor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2685800">
            <a:off x="4114800" y="1437840"/>
            <a:ext cx="3889440" cy="4079880"/>
          </a:xfrm>
          <a:custGeom>
            <a:avLst/>
            <a:gdLst/>
            <a:ahLst/>
            <a:rect l="l" t="t" r="r" b="b"/>
            <a:pathLst>
              <a:path w="2279" h="2248">
                <a:moveTo>
                  <a:pt x="305" y="1866"/>
                </a:moveTo>
                <a:lnTo>
                  <a:pt x="302" y="1862"/>
                </a:lnTo>
                <a:lnTo>
                  <a:pt x="293" y="1849"/>
                </a:lnTo>
                <a:lnTo>
                  <a:pt x="279" y="1827"/>
                </a:lnTo>
                <a:lnTo>
                  <a:pt x="259" y="1799"/>
                </a:lnTo>
                <a:lnTo>
                  <a:pt x="237" y="1765"/>
                </a:lnTo>
                <a:lnTo>
                  <a:pt x="212" y="1726"/>
                </a:lnTo>
                <a:lnTo>
                  <a:pt x="185" y="1682"/>
                </a:lnTo>
                <a:lnTo>
                  <a:pt x="158" y="1635"/>
                </a:lnTo>
                <a:lnTo>
                  <a:pt x="130" y="1584"/>
                </a:lnTo>
                <a:lnTo>
                  <a:pt x="104" y="1532"/>
                </a:lnTo>
                <a:lnTo>
                  <a:pt x="77" y="1479"/>
                </a:lnTo>
                <a:lnTo>
                  <a:pt x="54" y="1426"/>
                </a:lnTo>
                <a:lnTo>
                  <a:pt x="35" y="1373"/>
                </a:lnTo>
                <a:lnTo>
                  <a:pt x="18" y="1321"/>
                </a:lnTo>
                <a:lnTo>
                  <a:pt x="8" y="1273"/>
                </a:lnTo>
                <a:lnTo>
                  <a:pt x="2" y="1227"/>
                </a:lnTo>
                <a:lnTo>
                  <a:pt x="1" y="1192"/>
                </a:lnTo>
                <a:lnTo>
                  <a:pt x="0" y="1157"/>
                </a:lnTo>
                <a:lnTo>
                  <a:pt x="0" y="1121"/>
                </a:lnTo>
                <a:lnTo>
                  <a:pt x="1" y="1085"/>
                </a:lnTo>
                <a:lnTo>
                  <a:pt x="2" y="1047"/>
                </a:lnTo>
                <a:lnTo>
                  <a:pt x="6" y="1009"/>
                </a:lnTo>
                <a:lnTo>
                  <a:pt x="9" y="970"/>
                </a:lnTo>
                <a:lnTo>
                  <a:pt x="14" y="931"/>
                </a:lnTo>
                <a:lnTo>
                  <a:pt x="20" y="892"/>
                </a:lnTo>
                <a:lnTo>
                  <a:pt x="28" y="851"/>
                </a:lnTo>
                <a:lnTo>
                  <a:pt x="37" y="812"/>
                </a:lnTo>
                <a:lnTo>
                  <a:pt x="47" y="772"/>
                </a:lnTo>
                <a:lnTo>
                  <a:pt x="60" y="733"/>
                </a:lnTo>
                <a:lnTo>
                  <a:pt x="74" y="692"/>
                </a:lnTo>
                <a:lnTo>
                  <a:pt x="91" y="652"/>
                </a:lnTo>
                <a:lnTo>
                  <a:pt x="109" y="612"/>
                </a:lnTo>
                <a:lnTo>
                  <a:pt x="129" y="573"/>
                </a:lnTo>
                <a:lnTo>
                  <a:pt x="152" y="532"/>
                </a:lnTo>
                <a:lnTo>
                  <a:pt x="177" y="493"/>
                </a:lnTo>
                <a:lnTo>
                  <a:pt x="205" y="454"/>
                </a:lnTo>
                <a:lnTo>
                  <a:pt x="242" y="407"/>
                </a:lnTo>
                <a:lnTo>
                  <a:pt x="281" y="363"/>
                </a:lnTo>
                <a:lnTo>
                  <a:pt x="321" y="323"/>
                </a:lnTo>
                <a:lnTo>
                  <a:pt x="364" y="285"/>
                </a:lnTo>
                <a:lnTo>
                  <a:pt x="407" y="250"/>
                </a:lnTo>
                <a:lnTo>
                  <a:pt x="452" y="218"/>
                </a:lnTo>
                <a:lnTo>
                  <a:pt x="497" y="188"/>
                </a:lnTo>
                <a:lnTo>
                  <a:pt x="543" y="161"/>
                </a:lnTo>
                <a:lnTo>
                  <a:pt x="589" y="136"/>
                </a:lnTo>
                <a:lnTo>
                  <a:pt x="634" y="114"/>
                </a:lnTo>
                <a:lnTo>
                  <a:pt x="679" y="95"/>
                </a:lnTo>
                <a:lnTo>
                  <a:pt x="724" y="77"/>
                </a:lnTo>
                <a:lnTo>
                  <a:pt x="767" y="61"/>
                </a:lnTo>
                <a:lnTo>
                  <a:pt x="810" y="49"/>
                </a:lnTo>
                <a:lnTo>
                  <a:pt x="850" y="37"/>
                </a:lnTo>
                <a:lnTo>
                  <a:pt x="889" y="28"/>
                </a:lnTo>
                <a:lnTo>
                  <a:pt x="904" y="24"/>
                </a:lnTo>
                <a:lnTo>
                  <a:pt x="919" y="22"/>
                </a:lnTo>
                <a:lnTo>
                  <a:pt x="934" y="19"/>
                </a:lnTo>
                <a:lnTo>
                  <a:pt x="951" y="16"/>
                </a:lnTo>
                <a:lnTo>
                  <a:pt x="967" y="14"/>
                </a:lnTo>
                <a:lnTo>
                  <a:pt x="983" y="12"/>
                </a:lnTo>
                <a:lnTo>
                  <a:pt x="999" y="9"/>
                </a:lnTo>
                <a:lnTo>
                  <a:pt x="1016" y="7"/>
                </a:lnTo>
                <a:lnTo>
                  <a:pt x="1032" y="6"/>
                </a:lnTo>
                <a:lnTo>
                  <a:pt x="1050" y="4"/>
                </a:lnTo>
                <a:lnTo>
                  <a:pt x="1068" y="2"/>
                </a:lnTo>
                <a:lnTo>
                  <a:pt x="1085" y="1"/>
                </a:lnTo>
                <a:lnTo>
                  <a:pt x="1103" y="1"/>
                </a:lnTo>
                <a:lnTo>
                  <a:pt x="1121" y="0"/>
                </a:lnTo>
                <a:lnTo>
                  <a:pt x="1139" y="0"/>
                </a:lnTo>
                <a:lnTo>
                  <a:pt x="1158" y="0"/>
                </a:lnTo>
                <a:lnTo>
                  <a:pt x="1182" y="1"/>
                </a:lnTo>
                <a:lnTo>
                  <a:pt x="1207" y="1"/>
                </a:lnTo>
                <a:lnTo>
                  <a:pt x="1232" y="4"/>
                </a:lnTo>
                <a:lnTo>
                  <a:pt x="1257" y="6"/>
                </a:lnTo>
                <a:lnTo>
                  <a:pt x="1282" y="8"/>
                </a:lnTo>
                <a:lnTo>
                  <a:pt x="1309" y="12"/>
                </a:lnTo>
                <a:lnTo>
                  <a:pt x="1334" y="16"/>
                </a:lnTo>
                <a:lnTo>
                  <a:pt x="1361" y="21"/>
                </a:lnTo>
                <a:lnTo>
                  <a:pt x="1386" y="27"/>
                </a:lnTo>
                <a:lnTo>
                  <a:pt x="1413" y="32"/>
                </a:lnTo>
                <a:lnTo>
                  <a:pt x="1439" y="39"/>
                </a:lnTo>
                <a:lnTo>
                  <a:pt x="1466" y="47"/>
                </a:lnTo>
                <a:lnTo>
                  <a:pt x="1492" y="57"/>
                </a:lnTo>
                <a:lnTo>
                  <a:pt x="1519" y="66"/>
                </a:lnTo>
                <a:lnTo>
                  <a:pt x="1545" y="75"/>
                </a:lnTo>
                <a:lnTo>
                  <a:pt x="1572" y="87"/>
                </a:lnTo>
                <a:lnTo>
                  <a:pt x="1598" y="98"/>
                </a:lnTo>
                <a:lnTo>
                  <a:pt x="1626" y="111"/>
                </a:lnTo>
                <a:lnTo>
                  <a:pt x="1652" y="125"/>
                </a:lnTo>
                <a:lnTo>
                  <a:pt x="1679" y="140"/>
                </a:lnTo>
                <a:lnTo>
                  <a:pt x="1705" y="156"/>
                </a:lnTo>
                <a:lnTo>
                  <a:pt x="1732" y="172"/>
                </a:lnTo>
                <a:lnTo>
                  <a:pt x="1758" y="189"/>
                </a:lnTo>
                <a:lnTo>
                  <a:pt x="1784" y="209"/>
                </a:lnTo>
                <a:lnTo>
                  <a:pt x="1810" y="228"/>
                </a:lnTo>
                <a:lnTo>
                  <a:pt x="1837" y="249"/>
                </a:lnTo>
                <a:lnTo>
                  <a:pt x="1862" y="271"/>
                </a:lnTo>
                <a:lnTo>
                  <a:pt x="1887" y="294"/>
                </a:lnTo>
                <a:lnTo>
                  <a:pt x="1913" y="318"/>
                </a:lnTo>
                <a:lnTo>
                  <a:pt x="1938" y="343"/>
                </a:lnTo>
                <a:lnTo>
                  <a:pt x="1963" y="370"/>
                </a:lnTo>
                <a:lnTo>
                  <a:pt x="1987" y="398"/>
                </a:lnTo>
                <a:lnTo>
                  <a:pt x="2037" y="457"/>
                </a:lnTo>
                <a:lnTo>
                  <a:pt x="2081" y="515"/>
                </a:lnTo>
                <a:lnTo>
                  <a:pt x="2120" y="572"/>
                </a:lnTo>
                <a:lnTo>
                  <a:pt x="2155" y="626"/>
                </a:lnTo>
                <a:lnTo>
                  <a:pt x="2183" y="677"/>
                </a:lnTo>
                <a:lnTo>
                  <a:pt x="2209" y="729"/>
                </a:lnTo>
                <a:lnTo>
                  <a:pt x="2228" y="780"/>
                </a:lnTo>
                <a:lnTo>
                  <a:pt x="2246" y="830"/>
                </a:lnTo>
                <a:lnTo>
                  <a:pt x="2258" y="878"/>
                </a:lnTo>
                <a:lnTo>
                  <a:pt x="2267" y="927"/>
                </a:lnTo>
                <a:lnTo>
                  <a:pt x="2274" y="976"/>
                </a:lnTo>
                <a:lnTo>
                  <a:pt x="2278" y="1024"/>
                </a:lnTo>
                <a:lnTo>
                  <a:pt x="2279" y="1074"/>
                </a:lnTo>
                <a:lnTo>
                  <a:pt x="2277" y="1124"/>
                </a:lnTo>
                <a:lnTo>
                  <a:pt x="2273" y="1175"/>
                </a:lnTo>
                <a:lnTo>
                  <a:pt x="2267" y="1227"/>
                </a:lnTo>
                <a:lnTo>
                  <a:pt x="2261" y="1276"/>
                </a:lnTo>
                <a:lnTo>
                  <a:pt x="2252" y="1329"/>
                </a:lnTo>
                <a:lnTo>
                  <a:pt x="2241" y="1387"/>
                </a:lnTo>
                <a:lnTo>
                  <a:pt x="2227" y="1447"/>
                </a:lnTo>
                <a:lnTo>
                  <a:pt x="2210" y="1509"/>
                </a:lnTo>
                <a:lnTo>
                  <a:pt x="2188" y="1573"/>
                </a:lnTo>
                <a:lnTo>
                  <a:pt x="2163" y="1637"/>
                </a:lnTo>
                <a:lnTo>
                  <a:pt x="2134" y="1702"/>
                </a:lnTo>
                <a:lnTo>
                  <a:pt x="2098" y="1765"/>
                </a:lnTo>
                <a:lnTo>
                  <a:pt x="2059" y="1827"/>
                </a:lnTo>
                <a:lnTo>
                  <a:pt x="2013" y="1887"/>
                </a:lnTo>
                <a:lnTo>
                  <a:pt x="1961" y="1943"/>
                </a:lnTo>
                <a:lnTo>
                  <a:pt x="1902" y="1996"/>
                </a:lnTo>
                <a:lnTo>
                  <a:pt x="1838" y="2045"/>
                </a:lnTo>
                <a:lnTo>
                  <a:pt x="1765" y="2087"/>
                </a:lnTo>
                <a:lnTo>
                  <a:pt x="1684" y="2124"/>
                </a:lnTo>
                <a:lnTo>
                  <a:pt x="1645" y="2139"/>
                </a:lnTo>
                <a:lnTo>
                  <a:pt x="1606" y="2154"/>
                </a:lnTo>
                <a:lnTo>
                  <a:pt x="1569" y="2167"/>
                </a:lnTo>
                <a:lnTo>
                  <a:pt x="1532" y="2180"/>
                </a:lnTo>
                <a:lnTo>
                  <a:pt x="1497" y="2190"/>
                </a:lnTo>
                <a:lnTo>
                  <a:pt x="1461" y="2200"/>
                </a:lnTo>
                <a:lnTo>
                  <a:pt x="1426" y="2208"/>
                </a:lnTo>
                <a:lnTo>
                  <a:pt x="1393" y="2216"/>
                </a:lnTo>
                <a:lnTo>
                  <a:pt x="1361" y="2223"/>
                </a:lnTo>
                <a:lnTo>
                  <a:pt x="1328" y="2229"/>
                </a:lnTo>
                <a:lnTo>
                  <a:pt x="1297" y="2235"/>
                </a:lnTo>
                <a:lnTo>
                  <a:pt x="1266" y="2238"/>
                </a:lnTo>
                <a:lnTo>
                  <a:pt x="1237" y="2242"/>
                </a:lnTo>
                <a:lnTo>
                  <a:pt x="1207" y="2245"/>
                </a:lnTo>
                <a:lnTo>
                  <a:pt x="1180" y="2246"/>
                </a:lnTo>
                <a:lnTo>
                  <a:pt x="1152" y="2248"/>
                </a:lnTo>
                <a:lnTo>
                  <a:pt x="1111" y="2248"/>
                </a:lnTo>
                <a:lnTo>
                  <a:pt x="1072" y="2245"/>
                </a:lnTo>
                <a:lnTo>
                  <a:pt x="1033" y="2242"/>
                </a:lnTo>
                <a:lnTo>
                  <a:pt x="998" y="2237"/>
                </a:lnTo>
                <a:lnTo>
                  <a:pt x="963" y="2230"/>
                </a:lnTo>
                <a:lnTo>
                  <a:pt x="930" y="2222"/>
                </a:lnTo>
                <a:lnTo>
                  <a:pt x="899" y="2213"/>
                </a:lnTo>
                <a:lnTo>
                  <a:pt x="869" y="2204"/>
                </a:lnTo>
                <a:lnTo>
                  <a:pt x="840" y="2192"/>
                </a:lnTo>
                <a:lnTo>
                  <a:pt x="812" y="2180"/>
                </a:lnTo>
                <a:lnTo>
                  <a:pt x="787" y="2167"/>
                </a:lnTo>
                <a:lnTo>
                  <a:pt x="762" y="2153"/>
                </a:lnTo>
                <a:lnTo>
                  <a:pt x="739" y="2138"/>
                </a:lnTo>
                <a:lnTo>
                  <a:pt x="717" y="2123"/>
                </a:lnTo>
                <a:lnTo>
                  <a:pt x="696" y="2107"/>
                </a:lnTo>
                <a:lnTo>
                  <a:pt x="676" y="2091"/>
                </a:lnTo>
                <a:lnTo>
                  <a:pt x="646" y="2063"/>
                </a:lnTo>
                <a:lnTo>
                  <a:pt x="615" y="2032"/>
                </a:lnTo>
                <a:lnTo>
                  <a:pt x="585" y="1999"/>
                </a:lnTo>
                <a:lnTo>
                  <a:pt x="558" y="1965"/>
                </a:lnTo>
                <a:lnTo>
                  <a:pt x="532" y="1934"/>
                </a:lnTo>
                <a:lnTo>
                  <a:pt x="514" y="1905"/>
                </a:lnTo>
                <a:lnTo>
                  <a:pt x="501" y="1882"/>
                </a:lnTo>
                <a:lnTo>
                  <a:pt x="497" y="1866"/>
                </a:lnTo>
                <a:lnTo>
                  <a:pt x="499" y="1855"/>
                </a:lnTo>
                <a:lnTo>
                  <a:pt x="506" y="1847"/>
                </a:lnTo>
                <a:lnTo>
                  <a:pt x="515" y="1841"/>
                </a:lnTo>
                <a:lnTo>
                  <a:pt x="529" y="1840"/>
                </a:lnTo>
                <a:lnTo>
                  <a:pt x="544" y="1842"/>
                </a:lnTo>
                <a:lnTo>
                  <a:pt x="561" y="1849"/>
                </a:lnTo>
                <a:lnTo>
                  <a:pt x="578" y="1860"/>
                </a:lnTo>
                <a:lnTo>
                  <a:pt x="597" y="1878"/>
                </a:lnTo>
                <a:lnTo>
                  <a:pt x="627" y="1908"/>
                </a:lnTo>
                <a:lnTo>
                  <a:pt x="659" y="1935"/>
                </a:lnTo>
                <a:lnTo>
                  <a:pt x="692" y="1961"/>
                </a:lnTo>
                <a:lnTo>
                  <a:pt x="726" y="1984"/>
                </a:lnTo>
                <a:lnTo>
                  <a:pt x="759" y="2004"/>
                </a:lnTo>
                <a:lnTo>
                  <a:pt x="794" y="2023"/>
                </a:lnTo>
                <a:lnTo>
                  <a:pt x="828" y="2039"/>
                </a:lnTo>
                <a:lnTo>
                  <a:pt x="862" y="2053"/>
                </a:lnTo>
                <a:lnTo>
                  <a:pt x="894" y="2064"/>
                </a:lnTo>
                <a:lnTo>
                  <a:pt x="925" y="2075"/>
                </a:lnTo>
                <a:lnTo>
                  <a:pt x="955" y="2083"/>
                </a:lnTo>
                <a:lnTo>
                  <a:pt x="983" y="2090"/>
                </a:lnTo>
                <a:lnTo>
                  <a:pt x="1008" y="2095"/>
                </a:lnTo>
                <a:lnTo>
                  <a:pt x="1031" y="2099"/>
                </a:lnTo>
                <a:lnTo>
                  <a:pt x="1051" y="2100"/>
                </a:lnTo>
                <a:lnTo>
                  <a:pt x="1068" y="2101"/>
                </a:lnTo>
                <a:lnTo>
                  <a:pt x="1095" y="2100"/>
                </a:lnTo>
                <a:lnTo>
                  <a:pt x="1126" y="2099"/>
                </a:lnTo>
                <a:lnTo>
                  <a:pt x="1161" y="2095"/>
                </a:lnTo>
                <a:lnTo>
                  <a:pt x="1202" y="2091"/>
                </a:lnTo>
                <a:lnTo>
                  <a:pt x="1245" y="2084"/>
                </a:lnTo>
                <a:lnTo>
                  <a:pt x="1290" y="2077"/>
                </a:lnTo>
                <a:lnTo>
                  <a:pt x="1338" y="2068"/>
                </a:lnTo>
                <a:lnTo>
                  <a:pt x="1387" y="2057"/>
                </a:lnTo>
                <a:lnTo>
                  <a:pt x="1436" y="2046"/>
                </a:lnTo>
                <a:lnTo>
                  <a:pt x="1484" y="2032"/>
                </a:lnTo>
                <a:lnTo>
                  <a:pt x="1531" y="2017"/>
                </a:lnTo>
                <a:lnTo>
                  <a:pt x="1577" y="2002"/>
                </a:lnTo>
                <a:lnTo>
                  <a:pt x="1621" y="1984"/>
                </a:lnTo>
                <a:lnTo>
                  <a:pt x="1661" y="1965"/>
                </a:lnTo>
                <a:lnTo>
                  <a:pt x="1697" y="1945"/>
                </a:lnTo>
                <a:lnTo>
                  <a:pt x="1729" y="1923"/>
                </a:lnTo>
                <a:lnTo>
                  <a:pt x="1774" y="1885"/>
                </a:lnTo>
                <a:lnTo>
                  <a:pt x="1817" y="1844"/>
                </a:lnTo>
                <a:lnTo>
                  <a:pt x="1857" y="1801"/>
                </a:lnTo>
                <a:lnTo>
                  <a:pt x="1894" y="1753"/>
                </a:lnTo>
                <a:lnTo>
                  <a:pt x="1929" y="1704"/>
                </a:lnTo>
                <a:lnTo>
                  <a:pt x="1961" y="1652"/>
                </a:lnTo>
                <a:lnTo>
                  <a:pt x="1990" y="1598"/>
                </a:lnTo>
                <a:lnTo>
                  <a:pt x="2015" y="1541"/>
                </a:lnTo>
                <a:lnTo>
                  <a:pt x="2038" y="1483"/>
                </a:lnTo>
                <a:lnTo>
                  <a:pt x="2058" y="1422"/>
                </a:lnTo>
                <a:lnTo>
                  <a:pt x="2074" y="1358"/>
                </a:lnTo>
                <a:lnTo>
                  <a:pt x="2085" y="1295"/>
                </a:lnTo>
                <a:lnTo>
                  <a:pt x="2095" y="1229"/>
                </a:lnTo>
                <a:lnTo>
                  <a:pt x="2100" y="1162"/>
                </a:lnTo>
                <a:lnTo>
                  <a:pt x="2102" y="1094"/>
                </a:lnTo>
                <a:lnTo>
                  <a:pt x="2099" y="1025"/>
                </a:lnTo>
                <a:lnTo>
                  <a:pt x="2092" y="972"/>
                </a:lnTo>
                <a:lnTo>
                  <a:pt x="2080" y="914"/>
                </a:lnTo>
                <a:lnTo>
                  <a:pt x="2060" y="853"/>
                </a:lnTo>
                <a:lnTo>
                  <a:pt x="2034" y="788"/>
                </a:lnTo>
                <a:lnTo>
                  <a:pt x="2001" y="722"/>
                </a:lnTo>
                <a:lnTo>
                  <a:pt x="1964" y="657"/>
                </a:lnTo>
                <a:lnTo>
                  <a:pt x="1922" y="591"/>
                </a:lnTo>
                <a:lnTo>
                  <a:pt x="1875" y="528"/>
                </a:lnTo>
                <a:lnTo>
                  <a:pt x="1823" y="467"/>
                </a:lnTo>
                <a:lnTo>
                  <a:pt x="1766" y="410"/>
                </a:lnTo>
                <a:lnTo>
                  <a:pt x="1706" y="357"/>
                </a:lnTo>
                <a:lnTo>
                  <a:pt x="1643" y="311"/>
                </a:lnTo>
                <a:lnTo>
                  <a:pt x="1577" y="272"/>
                </a:lnTo>
                <a:lnTo>
                  <a:pt x="1507" y="241"/>
                </a:lnTo>
                <a:lnTo>
                  <a:pt x="1436" y="219"/>
                </a:lnTo>
                <a:lnTo>
                  <a:pt x="1361" y="207"/>
                </a:lnTo>
                <a:lnTo>
                  <a:pt x="1324" y="204"/>
                </a:lnTo>
                <a:lnTo>
                  <a:pt x="1287" y="202"/>
                </a:lnTo>
                <a:lnTo>
                  <a:pt x="1252" y="199"/>
                </a:lnTo>
                <a:lnTo>
                  <a:pt x="1218" y="197"/>
                </a:lnTo>
                <a:lnTo>
                  <a:pt x="1184" y="195"/>
                </a:lnTo>
                <a:lnTo>
                  <a:pt x="1153" y="194"/>
                </a:lnTo>
                <a:lnTo>
                  <a:pt x="1121" y="194"/>
                </a:lnTo>
                <a:lnTo>
                  <a:pt x="1091" y="193"/>
                </a:lnTo>
                <a:lnTo>
                  <a:pt x="1061" y="193"/>
                </a:lnTo>
                <a:lnTo>
                  <a:pt x="1032" y="194"/>
                </a:lnTo>
                <a:lnTo>
                  <a:pt x="1004" y="195"/>
                </a:lnTo>
                <a:lnTo>
                  <a:pt x="976" y="197"/>
                </a:lnTo>
                <a:lnTo>
                  <a:pt x="949" y="199"/>
                </a:lnTo>
                <a:lnTo>
                  <a:pt x="923" y="203"/>
                </a:lnTo>
                <a:lnTo>
                  <a:pt x="896" y="206"/>
                </a:lnTo>
                <a:lnTo>
                  <a:pt x="871" y="211"/>
                </a:lnTo>
                <a:lnTo>
                  <a:pt x="846" y="217"/>
                </a:lnTo>
                <a:lnTo>
                  <a:pt x="820" y="222"/>
                </a:lnTo>
                <a:lnTo>
                  <a:pt x="796" y="229"/>
                </a:lnTo>
                <a:lnTo>
                  <a:pt x="771" y="237"/>
                </a:lnTo>
                <a:lnTo>
                  <a:pt x="747" y="247"/>
                </a:lnTo>
                <a:lnTo>
                  <a:pt x="722" y="256"/>
                </a:lnTo>
                <a:lnTo>
                  <a:pt x="698" y="266"/>
                </a:lnTo>
                <a:lnTo>
                  <a:pt x="674" y="278"/>
                </a:lnTo>
                <a:lnTo>
                  <a:pt x="650" y="290"/>
                </a:lnTo>
                <a:lnTo>
                  <a:pt x="626" y="304"/>
                </a:lnTo>
                <a:lnTo>
                  <a:pt x="600" y="319"/>
                </a:lnTo>
                <a:lnTo>
                  <a:pt x="576" y="334"/>
                </a:lnTo>
                <a:lnTo>
                  <a:pt x="551" y="351"/>
                </a:lnTo>
                <a:lnTo>
                  <a:pt x="525" y="370"/>
                </a:lnTo>
                <a:lnTo>
                  <a:pt x="500" y="388"/>
                </a:lnTo>
                <a:lnTo>
                  <a:pt x="474" y="409"/>
                </a:lnTo>
                <a:lnTo>
                  <a:pt x="432" y="445"/>
                </a:lnTo>
                <a:lnTo>
                  <a:pt x="395" y="484"/>
                </a:lnTo>
                <a:lnTo>
                  <a:pt x="361" y="525"/>
                </a:lnTo>
                <a:lnTo>
                  <a:pt x="331" y="568"/>
                </a:lnTo>
                <a:lnTo>
                  <a:pt x="303" y="612"/>
                </a:lnTo>
                <a:lnTo>
                  <a:pt x="279" y="658"/>
                </a:lnTo>
                <a:lnTo>
                  <a:pt x="258" y="705"/>
                </a:lnTo>
                <a:lnTo>
                  <a:pt x="240" y="752"/>
                </a:lnTo>
                <a:lnTo>
                  <a:pt x="224" y="800"/>
                </a:lnTo>
                <a:lnTo>
                  <a:pt x="210" y="848"/>
                </a:lnTo>
                <a:lnTo>
                  <a:pt x="197" y="895"/>
                </a:lnTo>
                <a:lnTo>
                  <a:pt x="188" y="941"/>
                </a:lnTo>
                <a:lnTo>
                  <a:pt x="179" y="987"/>
                </a:lnTo>
                <a:lnTo>
                  <a:pt x="172" y="1031"/>
                </a:lnTo>
                <a:lnTo>
                  <a:pt x="165" y="1075"/>
                </a:lnTo>
                <a:lnTo>
                  <a:pt x="160" y="1115"/>
                </a:lnTo>
                <a:lnTo>
                  <a:pt x="157" y="1168"/>
                </a:lnTo>
                <a:lnTo>
                  <a:pt x="158" y="1222"/>
                </a:lnTo>
                <a:lnTo>
                  <a:pt x="162" y="1278"/>
                </a:lnTo>
                <a:lnTo>
                  <a:pt x="172" y="1332"/>
                </a:lnTo>
                <a:lnTo>
                  <a:pt x="184" y="1386"/>
                </a:lnTo>
                <a:lnTo>
                  <a:pt x="198" y="1439"/>
                </a:lnTo>
                <a:lnTo>
                  <a:pt x="215" y="1491"/>
                </a:lnTo>
                <a:lnTo>
                  <a:pt x="233" y="1539"/>
                </a:lnTo>
                <a:lnTo>
                  <a:pt x="251" y="1586"/>
                </a:lnTo>
                <a:lnTo>
                  <a:pt x="268" y="1629"/>
                </a:lnTo>
                <a:lnTo>
                  <a:pt x="286" y="1668"/>
                </a:lnTo>
                <a:lnTo>
                  <a:pt x="302" y="1703"/>
                </a:lnTo>
                <a:lnTo>
                  <a:pt x="316" y="1733"/>
                </a:lnTo>
                <a:lnTo>
                  <a:pt x="327" y="1758"/>
                </a:lnTo>
                <a:lnTo>
                  <a:pt x="334" y="1776"/>
                </a:lnTo>
                <a:lnTo>
                  <a:pt x="339" y="1788"/>
                </a:lnTo>
                <a:lnTo>
                  <a:pt x="346" y="1809"/>
                </a:lnTo>
                <a:lnTo>
                  <a:pt x="354" y="1833"/>
                </a:lnTo>
                <a:lnTo>
                  <a:pt x="363" y="1859"/>
                </a:lnTo>
                <a:lnTo>
                  <a:pt x="369" y="1882"/>
                </a:lnTo>
                <a:lnTo>
                  <a:pt x="369" y="1897"/>
                </a:lnTo>
                <a:lnTo>
                  <a:pt x="359" y="1903"/>
                </a:lnTo>
                <a:lnTo>
                  <a:pt x="340" y="1894"/>
                </a:lnTo>
                <a:lnTo>
                  <a:pt x="305" y="186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 rot="21180000">
            <a:off x="5160960" y="1447920"/>
            <a:ext cx="1600200" cy="84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u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7496280" y="1712880"/>
            <a:ext cx="1198440" cy="1639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8229600" y="1981080"/>
            <a:ext cx="252360" cy="449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296720" y="32767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84520" y="4495680"/>
            <a:ext cx="30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Prot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EDFE-68BC-4A3A-BC6E-A66D39C73AA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74C4B67-A249-471E-9409-C1DD92B079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TRUCTURING SOLU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89000" y="2129040"/>
            <a:ext cx="4377960" cy="4203360"/>
            <a:chOff x="189000" y="2129040"/>
            <a:chExt cx="4377960" cy="4203360"/>
          </a:xfrm>
        </p:grpSpPr>
        <p:sp>
          <p:nvSpPr>
            <p:cNvPr id="318" name=""/>
            <p:cNvSpPr/>
            <p:nvPr/>
          </p:nvSpPr>
          <p:spPr>
            <a:xfrm rot="16475400">
              <a:off x="433080" y="2190600"/>
              <a:ext cx="3889440" cy="4079880"/>
            </a:xfrm>
            <a:custGeom>
              <a:avLst/>
              <a:gdLst/>
              <a:ahLst/>
              <a:rect l="l" t="t" r="r" b="b"/>
              <a:pathLst>
                <a:path w="2279" h="2248">
                  <a:moveTo>
                    <a:pt x="305" y="1866"/>
                  </a:moveTo>
                  <a:lnTo>
                    <a:pt x="302" y="1862"/>
                  </a:lnTo>
                  <a:lnTo>
                    <a:pt x="293" y="1849"/>
                  </a:lnTo>
                  <a:lnTo>
                    <a:pt x="279" y="1827"/>
                  </a:lnTo>
                  <a:lnTo>
                    <a:pt x="259" y="1799"/>
                  </a:lnTo>
                  <a:lnTo>
                    <a:pt x="237" y="1765"/>
                  </a:lnTo>
                  <a:lnTo>
                    <a:pt x="212" y="1726"/>
                  </a:lnTo>
                  <a:lnTo>
                    <a:pt x="185" y="1682"/>
                  </a:lnTo>
                  <a:lnTo>
                    <a:pt x="158" y="1635"/>
                  </a:lnTo>
                  <a:lnTo>
                    <a:pt x="130" y="1584"/>
                  </a:lnTo>
                  <a:lnTo>
                    <a:pt x="104" y="1532"/>
                  </a:lnTo>
                  <a:lnTo>
                    <a:pt x="77" y="1479"/>
                  </a:lnTo>
                  <a:lnTo>
                    <a:pt x="54" y="1426"/>
                  </a:lnTo>
                  <a:lnTo>
                    <a:pt x="35" y="1373"/>
                  </a:lnTo>
                  <a:lnTo>
                    <a:pt x="18" y="1321"/>
                  </a:lnTo>
                  <a:lnTo>
                    <a:pt x="8" y="1273"/>
                  </a:lnTo>
                  <a:lnTo>
                    <a:pt x="2" y="1227"/>
                  </a:lnTo>
                  <a:lnTo>
                    <a:pt x="1" y="1192"/>
                  </a:lnTo>
                  <a:lnTo>
                    <a:pt x="0" y="1157"/>
                  </a:lnTo>
                  <a:lnTo>
                    <a:pt x="0" y="1121"/>
                  </a:lnTo>
                  <a:lnTo>
                    <a:pt x="1" y="1085"/>
                  </a:lnTo>
                  <a:lnTo>
                    <a:pt x="2" y="1047"/>
                  </a:lnTo>
                  <a:lnTo>
                    <a:pt x="6" y="1009"/>
                  </a:lnTo>
                  <a:lnTo>
                    <a:pt x="9" y="970"/>
                  </a:lnTo>
                  <a:lnTo>
                    <a:pt x="14" y="931"/>
                  </a:lnTo>
                  <a:lnTo>
                    <a:pt x="20" y="892"/>
                  </a:lnTo>
                  <a:lnTo>
                    <a:pt x="28" y="851"/>
                  </a:lnTo>
                  <a:lnTo>
                    <a:pt x="37" y="812"/>
                  </a:lnTo>
                  <a:lnTo>
                    <a:pt x="47" y="772"/>
                  </a:lnTo>
                  <a:lnTo>
                    <a:pt x="60" y="733"/>
                  </a:lnTo>
                  <a:lnTo>
                    <a:pt x="74" y="692"/>
                  </a:lnTo>
                  <a:lnTo>
                    <a:pt x="91" y="652"/>
                  </a:lnTo>
                  <a:lnTo>
                    <a:pt x="109" y="612"/>
                  </a:lnTo>
                  <a:lnTo>
                    <a:pt x="129" y="573"/>
                  </a:lnTo>
                  <a:lnTo>
                    <a:pt x="152" y="532"/>
                  </a:lnTo>
                  <a:lnTo>
                    <a:pt x="177" y="493"/>
                  </a:lnTo>
                  <a:lnTo>
                    <a:pt x="205" y="454"/>
                  </a:lnTo>
                  <a:lnTo>
                    <a:pt x="242" y="407"/>
                  </a:lnTo>
                  <a:lnTo>
                    <a:pt x="281" y="363"/>
                  </a:lnTo>
                  <a:lnTo>
                    <a:pt x="321" y="323"/>
                  </a:lnTo>
                  <a:lnTo>
                    <a:pt x="364" y="285"/>
                  </a:lnTo>
                  <a:lnTo>
                    <a:pt x="407" y="250"/>
                  </a:lnTo>
                  <a:lnTo>
                    <a:pt x="452" y="218"/>
                  </a:lnTo>
                  <a:lnTo>
                    <a:pt x="497" y="188"/>
                  </a:lnTo>
                  <a:lnTo>
                    <a:pt x="543" y="161"/>
                  </a:lnTo>
                  <a:lnTo>
                    <a:pt x="589" y="136"/>
                  </a:lnTo>
                  <a:lnTo>
                    <a:pt x="634" y="114"/>
                  </a:lnTo>
                  <a:lnTo>
                    <a:pt x="679" y="95"/>
                  </a:lnTo>
                  <a:lnTo>
                    <a:pt x="724" y="77"/>
                  </a:lnTo>
                  <a:lnTo>
                    <a:pt x="767" y="61"/>
                  </a:lnTo>
                  <a:lnTo>
                    <a:pt x="810" y="49"/>
                  </a:lnTo>
                  <a:lnTo>
                    <a:pt x="850" y="37"/>
                  </a:lnTo>
                  <a:lnTo>
                    <a:pt x="889" y="28"/>
                  </a:lnTo>
                  <a:lnTo>
                    <a:pt x="904" y="24"/>
                  </a:lnTo>
                  <a:lnTo>
                    <a:pt x="919" y="22"/>
                  </a:lnTo>
                  <a:lnTo>
                    <a:pt x="934" y="19"/>
                  </a:lnTo>
                  <a:lnTo>
                    <a:pt x="951" y="16"/>
                  </a:lnTo>
                  <a:lnTo>
                    <a:pt x="967" y="14"/>
                  </a:lnTo>
                  <a:lnTo>
                    <a:pt x="983" y="12"/>
                  </a:lnTo>
                  <a:lnTo>
                    <a:pt x="999" y="9"/>
                  </a:lnTo>
                  <a:lnTo>
                    <a:pt x="1016" y="7"/>
                  </a:lnTo>
                  <a:lnTo>
                    <a:pt x="1032" y="6"/>
                  </a:lnTo>
                  <a:lnTo>
                    <a:pt x="1050" y="4"/>
                  </a:lnTo>
                  <a:lnTo>
                    <a:pt x="1068" y="2"/>
                  </a:lnTo>
                  <a:lnTo>
                    <a:pt x="1085" y="1"/>
                  </a:lnTo>
                  <a:lnTo>
                    <a:pt x="1103" y="1"/>
                  </a:lnTo>
                  <a:lnTo>
                    <a:pt x="1121" y="0"/>
                  </a:lnTo>
                  <a:lnTo>
                    <a:pt x="1139" y="0"/>
                  </a:lnTo>
                  <a:lnTo>
                    <a:pt x="1158" y="0"/>
                  </a:lnTo>
                  <a:lnTo>
                    <a:pt x="1182" y="1"/>
                  </a:lnTo>
                  <a:lnTo>
                    <a:pt x="1207" y="1"/>
                  </a:lnTo>
                  <a:lnTo>
                    <a:pt x="1232" y="4"/>
                  </a:lnTo>
                  <a:lnTo>
                    <a:pt x="1257" y="6"/>
                  </a:lnTo>
                  <a:lnTo>
                    <a:pt x="1282" y="8"/>
                  </a:lnTo>
                  <a:lnTo>
                    <a:pt x="1309" y="12"/>
                  </a:lnTo>
                  <a:lnTo>
                    <a:pt x="1334" y="16"/>
                  </a:lnTo>
                  <a:lnTo>
                    <a:pt x="1361" y="21"/>
                  </a:lnTo>
                  <a:lnTo>
                    <a:pt x="1386" y="27"/>
                  </a:lnTo>
                  <a:lnTo>
                    <a:pt x="1413" y="32"/>
                  </a:lnTo>
                  <a:lnTo>
                    <a:pt x="1439" y="39"/>
                  </a:lnTo>
                  <a:lnTo>
                    <a:pt x="1466" y="47"/>
                  </a:lnTo>
                  <a:lnTo>
                    <a:pt x="1492" y="57"/>
                  </a:lnTo>
                  <a:lnTo>
                    <a:pt x="1519" y="66"/>
                  </a:lnTo>
                  <a:lnTo>
                    <a:pt x="1545" y="75"/>
                  </a:lnTo>
                  <a:lnTo>
                    <a:pt x="1572" y="87"/>
                  </a:lnTo>
                  <a:lnTo>
                    <a:pt x="1598" y="98"/>
                  </a:lnTo>
                  <a:lnTo>
                    <a:pt x="1626" y="111"/>
                  </a:lnTo>
                  <a:lnTo>
                    <a:pt x="1652" y="125"/>
                  </a:lnTo>
                  <a:lnTo>
                    <a:pt x="1679" y="140"/>
                  </a:lnTo>
                  <a:lnTo>
                    <a:pt x="1705" y="156"/>
                  </a:lnTo>
                  <a:lnTo>
                    <a:pt x="1732" y="172"/>
                  </a:lnTo>
                  <a:lnTo>
                    <a:pt x="1758" y="189"/>
                  </a:lnTo>
                  <a:lnTo>
                    <a:pt x="1784" y="209"/>
                  </a:lnTo>
                  <a:lnTo>
                    <a:pt x="1810" y="228"/>
                  </a:lnTo>
                  <a:lnTo>
                    <a:pt x="1837" y="249"/>
                  </a:lnTo>
                  <a:lnTo>
                    <a:pt x="1862" y="271"/>
                  </a:lnTo>
                  <a:lnTo>
                    <a:pt x="1887" y="294"/>
                  </a:lnTo>
                  <a:lnTo>
                    <a:pt x="1913" y="318"/>
                  </a:lnTo>
                  <a:lnTo>
                    <a:pt x="1938" y="343"/>
                  </a:lnTo>
                  <a:lnTo>
                    <a:pt x="1963" y="370"/>
                  </a:lnTo>
                  <a:lnTo>
                    <a:pt x="1987" y="398"/>
                  </a:lnTo>
                  <a:lnTo>
                    <a:pt x="2037" y="457"/>
                  </a:lnTo>
                  <a:lnTo>
                    <a:pt x="2081" y="515"/>
                  </a:lnTo>
                  <a:lnTo>
                    <a:pt x="2120" y="572"/>
                  </a:lnTo>
                  <a:lnTo>
                    <a:pt x="2155" y="626"/>
                  </a:lnTo>
                  <a:lnTo>
                    <a:pt x="2183" y="677"/>
                  </a:lnTo>
                  <a:lnTo>
                    <a:pt x="2209" y="729"/>
                  </a:lnTo>
                  <a:lnTo>
                    <a:pt x="2228" y="780"/>
                  </a:lnTo>
                  <a:lnTo>
                    <a:pt x="2246" y="830"/>
                  </a:lnTo>
                  <a:lnTo>
                    <a:pt x="2258" y="878"/>
                  </a:lnTo>
                  <a:lnTo>
                    <a:pt x="2267" y="927"/>
                  </a:lnTo>
                  <a:lnTo>
                    <a:pt x="2274" y="976"/>
                  </a:lnTo>
                  <a:lnTo>
                    <a:pt x="2278" y="1024"/>
                  </a:lnTo>
                  <a:lnTo>
                    <a:pt x="2279" y="1074"/>
                  </a:lnTo>
                  <a:lnTo>
                    <a:pt x="2277" y="1124"/>
                  </a:lnTo>
                  <a:lnTo>
                    <a:pt x="2273" y="1175"/>
                  </a:lnTo>
                  <a:lnTo>
                    <a:pt x="2267" y="1227"/>
                  </a:lnTo>
                  <a:lnTo>
                    <a:pt x="2261" y="1276"/>
                  </a:lnTo>
                  <a:lnTo>
                    <a:pt x="2252" y="1329"/>
                  </a:lnTo>
                  <a:lnTo>
                    <a:pt x="2241" y="1387"/>
                  </a:lnTo>
                  <a:lnTo>
                    <a:pt x="2227" y="1447"/>
                  </a:lnTo>
                  <a:lnTo>
                    <a:pt x="2210" y="1509"/>
                  </a:lnTo>
                  <a:lnTo>
                    <a:pt x="2188" y="1573"/>
                  </a:lnTo>
                  <a:lnTo>
                    <a:pt x="2163" y="1637"/>
                  </a:lnTo>
                  <a:lnTo>
                    <a:pt x="2134" y="1702"/>
                  </a:lnTo>
                  <a:lnTo>
                    <a:pt x="2098" y="1765"/>
                  </a:lnTo>
                  <a:lnTo>
                    <a:pt x="2059" y="1827"/>
                  </a:lnTo>
                  <a:lnTo>
                    <a:pt x="2013" y="1887"/>
                  </a:lnTo>
                  <a:lnTo>
                    <a:pt x="1961" y="1943"/>
                  </a:lnTo>
                  <a:lnTo>
                    <a:pt x="1902" y="1996"/>
                  </a:lnTo>
                  <a:lnTo>
                    <a:pt x="1838" y="2045"/>
                  </a:lnTo>
                  <a:lnTo>
                    <a:pt x="1765" y="2087"/>
                  </a:lnTo>
                  <a:lnTo>
                    <a:pt x="1684" y="2124"/>
                  </a:lnTo>
                  <a:lnTo>
                    <a:pt x="1645" y="2139"/>
                  </a:lnTo>
                  <a:lnTo>
                    <a:pt x="1606" y="2154"/>
                  </a:lnTo>
                  <a:lnTo>
                    <a:pt x="1569" y="2167"/>
                  </a:lnTo>
                  <a:lnTo>
                    <a:pt x="1532" y="2180"/>
                  </a:lnTo>
                  <a:lnTo>
                    <a:pt x="1497" y="2190"/>
                  </a:lnTo>
                  <a:lnTo>
                    <a:pt x="1461" y="2200"/>
                  </a:lnTo>
                  <a:lnTo>
                    <a:pt x="1426" y="2208"/>
                  </a:lnTo>
                  <a:lnTo>
                    <a:pt x="1393" y="2216"/>
                  </a:lnTo>
                  <a:lnTo>
                    <a:pt x="1361" y="2223"/>
                  </a:lnTo>
                  <a:lnTo>
                    <a:pt x="1328" y="2229"/>
                  </a:lnTo>
                  <a:lnTo>
                    <a:pt x="1297" y="2235"/>
                  </a:lnTo>
                  <a:lnTo>
                    <a:pt x="1266" y="2238"/>
                  </a:lnTo>
                  <a:lnTo>
                    <a:pt x="1237" y="2242"/>
                  </a:lnTo>
                  <a:lnTo>
                    <a:pt x="1207" y="2245"/>
                  </a:lnTo>
                  <a:lnTo>
                    <a:pt x="1180" y="2246"/>
                  </a:lnTo>
                  <a:lnTo>
                    <a:pt x="1152" y="2248"/>
                  </a:lnTo>
                  <a:lnTo>
                    <a:pt x="1111" y="2248"/>
                  </a:lnTo>
                  <a:lnTo>
                    <a:pt x="1072" y="2245"/>
                  </a:lnTo>
                  <a:lnTo>
                    <a:pt x="1033" y="2242"/>
                  </a:lnTo>
                  <a:lnTo>
                    <a:pt x="998" y="2237"/>
                  </a:lnTo>
                  <a:lnTo>
                    <a:pt x="963" y="2230"/>
                  </a:lnTo>
                  <a:lnTo>
                    <a:pt x="930" y="2222"/>
                  </a:lnTo>
                  <a:lnTo>
                    <a:pt x="899" y="2213"/>
                  </a:lnTo>
                  <a:lnTo>
                    <a:pt x="869" y="2204"/>
                  </a:lnTo>
                  <a:lnTo>
                    <a:pt x="840" y="2192"/>
                  </a:lnTo>
                  <a:lnTo>
                    <a:pt x="812" y="2180"/>
                  </a:lnTo>
                  <a:lnTo>
                    <a:pt x="787" y="2167"/>
                  </a:lnTo>
                  <a:lnTo>
                    <a:pt x="762" y="2153"/>
                  </a:lnTo>
                  <a:lnTo>
                    <a:pt x="739" y="2138"/>
                  </a:lnTo>
                  <a:lnTo>
                    <a:pt x="717" y="2123"/>
                  </a:lnTo>
                  <a:lnTo>
                    <a:pt x="696" y="2107"/>
                  </a:lnTo>
                  <a:lnTo>
                    <a:pt x="676" y="2091"/>
                  </a:lnTo>
                  <a:lnTo>
                    <a:pt x="646" y="2063"/>
                  </a:lnTo>
                  <a:lnTo>
                    <a:pt x="615" y="2032"/>
                  </a:lnTo>
                  <a:lnTo>
                    <a:pt x="585" y="1999"/>
                  </a:lnTo>
                  <a:lnTo>
                    <a:pt x="558" y="1965"/>
                  </a:lnTo>
                  <a:lnTo>
                    <a:pt x="532" y="1934"/>
                  </a:lnTo>
                  <a:lnTo>
                    <a:pt x="514" y="1905"/>
                  </a:lnTo>
                  <a:lnTo>
                    <a:pt x="501" y="1882"/>
                  </a:lnTo>
                  <a:lnTo>
                    <a:pt x="497" y="1866"/>
                  </a:lnTo>
                  <a:lnTo>
                    <a:pt x="499" y="1855"/>
                  </a:lnTo>
                  <a:lnTo>
                    <a:pt x="506" y="1847"/>
                  </a:lnTo>
                  <a:lnTo>
                    <a:pt x="515" y="1841"/>
                  </a:lnTo>
                  <a:lnTo>
                    <a:pt x="529" y="1840"/>
                  </a:lnTo>
                  <a:lnTo>
                    <a:pt x="544" y="1842"/>
                  </a:lnTo>
                  <a:lnTo>
                    <a:pt x="561" y="1849"/>
                  </a:lnTo>
                  <a:lnTo>
                    <a:pt x="578" y="1860"/>
                  </a:lnTo>
                  <a:lnTo>
                    <a:pt x="597" y="1878"/>
                  </a:lnTo>
                  <a:lnTo>
                    <a:pt x="627" y="1908"/>
                  </a:lnTo>
                  <a:lnTo>
                    <a:pt x="659" y="1935"/>
                  </a:lnTo>
                  <a:lnTo>
                    <a:pt x="692" y="1961"/>
                  </a:lnTo>
                  <a:lnTo>
                    <a:pt x="726" y="1984"/>
                  </a:lnTo>
                  <a:lnTo>
                    <a:pt x="759" y="2004"/>
                  </a:lnTo>
                  <a:lnTo>
                    <a:pt x="794" y="2023"/>
                  </a:lnTo>
                  <a:lnTo>
                    <a:pt x="828" y="2039"/>
                  </a:lnTo>
                  <a:lnTo>
                    <a:pt x="862" y="2053"/>
                  </a:lnTo>
                  <a:lnTo>
                    <a:pt x="894" y="2064"/>
                  </a:lnTo>
                  <a:lnTo>
                    <a:pt x="925" y="2075"/>
                  </a:lnTo>
                  <a:lnTo>
                    <a:pt x="955" y="2083"/>
                  </a:lnTo>
                  <a:lnTo>
                    <a:pt x="983" y="2090"/>
                  </a:lnTo>
                  <a:lnTo>
                    <a:pt x="1008" y="2095"/>
                  </a:lnTo>
                  <a:lnTo>
                    <a:pt x="1031" y="2099"/>
                  </a:lnTo>
                  <a:lnTo>
                    <a:pt x="1051" y="2100"/>
                  </a:lnTo>
                  <a:lnTo>
                    <a:pt x="1068" y="2101"/>
                  </a:lnTo>
                  <a:lnTo>
                    <a:pt x="1095" y="2100"/>
                  </a:lnTo>
                  <a:lnTo>
                    <a:pt x="1126" y="2099"/>
                  </a:lnTo>
                  <a:lnTo>
                    <a:pt x="1161" y="2095"/>
                  </a:lnTo>
                  <a:lnTo>
                    <a:pt x="1202" y="2091"/>
                  </a:lnTo>
                  <a:lnTo>
                    <a:pt x="1245" y="2084"/>
                  </a:lnTo>
                  <a:lnTo>
                    <a:pt x="1290" y="2077"/>
                  </a:lnTo>
                  <a:lnTo>
                    <a:pt x="1338" y="2068"/>
                  </a:lnTo>
                  <a:lnTo>
                    <a:pt x="1387" y="2057"/>
                  </a:lnTo>
                  <a:lnTo>
                    <a:pt x="1436" y="2046"/>
                  </a:lnTo>
                  <a:lnTo>
                    <a:pt x="1484" y="2032"/>
                  </a:lnTo>
                  <a:lnTo>
                    <a:pt x="1531" y="2017"/>
                  </a:lnTo>
                  <a:lnTo>
                    <a:pt x="1577" y="2002"/>
                  </a:lnTo>
                  <a:lnTo>
                    <a:pt x="1621" y="1984"/>
                  </a:lnTo>
                  <a:lnTo>
                    <a:pt x="1661" y="1965"/>
                  </a:lnTo>
                  <a:lnTo>
                    <a:pt x="1697" y="1945"/>
                  </a:lnTo>
                  <a:lnTo>
                    <a:pt x="1729" y="1923"/>
                  </a:lnTo>
                  <a:lnTo>
                    <a:pt x="1774" y="1885"/>
                  </a:lnTo>
                  <a:lnTo>
                    <a:pt x="1817" y="1844"/>
                  </a:lnTo>
                  <a:lnTo>
                    <a:pt x="1857" y="1801"/>
                  </a:lnTo>
                  <a:lnTo>
                    <a:pt x="1894" y="1753"/>
                  </a:lnTo>
                  <a:lnTo>
                    <a:pt x="1929" y="1704"/>
                  </a:lnTo>
                  <a:lnTo>
                    <a:pt x="1961" y="1652"/>
                  </a:lnTo>
                  <a:lnTo>
                    <a:pt x="1990" y="1598"/>
                  </a:lnTo>
                  <a:lnTo>
                    <a:pt x="2015" y="1541"/>
                  </a:lnTo>
                  <a:lnTo>
                    <a:pt x="2038" y="1483"/>
                  </a:lnTo>
                  <a:lnTo>
                    <a:pt x="2058" y="1422"/>
                  </a:lnTo>
                  <a:lnTo>
                    <a:pt x="2074" y="1358"/>
                  </a:lnTo>
                  <a:lnTo>
                    <a:pt x="2085" y="1295"/>
                  </a:lnTo>
                  <a:lnTo>
                    <a:pt x="2095" y="1229"/>
                  </a:lnTo>
                  <a:lnTo>
                    <a:pt x="2100" y="1162"/>
                  </a:lnTo>
                  <a:lnTo>
                    <a:pt x="2102" y="1094"/>
                  </a:lnTo>
                  <a:lnTo>
                    <a:pt x="2099" y="1025"/>
                  </a:lnTo>
                  <a:lnTo>
                    <a:pt x="2092" y="972"/>
                  </a:lnTo>
                  <a:lnTo>
                    <a:pt x="2080" y="914"/>
                  </a:lnTo>
                  <a:lnTo>
                    <a:pt x="2060" y="853"/>
                  </a:lnTo>
                  <a:lnTo>
                    <a:pt x="2034" y="788"/>
                  </a:lnTo>
                  <a:lnTo>
                    <a:pt x="2001" y="722"/>
                  </a:lnTo>
                  <a:lnTo>
                    <a:pt x="1964" y="657"/>
                  </a:lnTo>
                  <a:lnTo>
                    <a:pt x="1922" y="591"/>
                  </a:lnTo>
                  <a:lnTo>
                    <a:pt x="1875" y="528"/>
                  </a:lnTo>
                  <a:lnTo>
                    <a:pt x="1823" y="467"/>
                  </a:lnTo>
                  <a:lnTo>
                    <a:pt x="1766" y="410"/>
                  </a:lnTo>
                  <a:lnTo>
                    <a:pt x="1706" y="357"/>
                  </a:lnTo>
                  <a:lnTo>
                    <a:pt x="1643" y="311"/>
                  </a:lnTo>
                  <a:lnTo>
                    <a:pt x="1577" y="272"/>
                  </a:lnTo>
                  <a:lnTo>
                    <a:pt x="1507" y="241"/>
                  </a:lnTo>
                  <a:lnTo>
                    <a:pt x="1436" y="219"/>
                  </a:lnTo>
                  <a:lnTo>
                    <a:pt x="1361" y="207"/>
                  </a:lnTo>
                  <a:lnTo>
                    <a:pt x="1324" y="204"/>
                  </a:lnTo>
                  <a:lnTo>
                    <a:pt x="1287" y="202"/>
                  </a:lnTo>
                  <a:lnTo>
                    <a:pt x="1252" y="199"/>
                  </a:lnTo>
                  <a:lnTo>
                    <a:pt x="1218" y="197"/>
                  </a:lnTo>
                  <a:lnTo>
                    <a:pt x="1184" y="195"/>
                  </a:lnTo>
                  <a:lnTo>
                    <a:pt x="1153" y="194"/>
                  </a:lnTo>
                  <a:lnTo>
                    <a:pt x="1121" y="194"/>
                  </a:lnTo>
                  <a:lnTo>
                    <a:pt x="1091" y="193"/>
                  </a:lnTo>
                  <a:lnTo>
                    <a:pt x="1061" y="193"/>
                  </a:lnTo>
                  <a:lnTo>
                    <a:pt x="1032" y="194"/>
                  </a:lnTo>
                  <a:lnTo>
                    <a:pt x="1004" y="195"/>
                  </a:lnTo>
                  <a:lnTo>
                    <a:pt x="976" y="197"/>
                  </a:lnTo>
                  <a:lnTo>
                    <a:pt x="949" y="199"/>
                  </a:lnTo>
                  <a:lnTo>
                    <a:pt x="923" y="203"/>
                  </a:lnTo>
                  <a:lnTo>
                    <a:pt x="896" y="206"/>
                  </a:lnTo>
                  <a:lnTo>
                    <a:pt x="871" y="211"/>
                  </a:lnTo>
                  <a:lnTo>
                    <a:pt x="846" y="217"/>
                  </a:lnTo>
                  <a:lnTo>
                    <a:pt x="820" y="222"/>
                  </a:lnTo>
                  <a:lnTo>
                    <a:pt x="796" y="229"/>
                  </a:lnTo>
                  <a:lnTo>
                    <a:pt x="771" y="237"/>
                  </a:lnTo>
                  <a:lnTo>
                    <a:pt x="747" y="247"/>
                  </a:lnTo>
                  <a:lnTo>
                    <a:pt x="722" y="256"/>
                  </a:lnTo>
                  <a:lnTo>
                    <a:pt x="698" y="266"/>
                  </a:lnTo>
                  <a:lnTo>
                    <a:pt x="674" y="278"/>
                  </a:lnTo>
                  <a:lnTo>
                    <a:pt x="650" y="290"/>
                  </a:lnTo>
                  <a:lnTo>
                    <a:pt x="626" y="304"/>
                  </a:lnTo>
                  <a:lnTo>
                    <a:pt x="600" y="319"/>
                  </a:lnTo>
                  <a:lnTo>
                    <a:pt x="576" y="334"/>
                  </a:lnTo>
                  <a:lnTo>
                    <a:pt x="551" y="351"/>
                  </a:lnTo>
                  <a:lnTo>
                    <a:pt x="525" y="370"/>
                  </a:lnTo>
                  <a:lnTo>
                    <a:pt x="500" y="388"/>
                  </a:lnTo>
                  <a:lnTo>
                    <a:pt x="474" y="409"/>
                  </a:lnTo>
                  <a:lnTo>
                    <a:pt x="432" y="445"/>
                  </a:lnTo>
                  <a:lnTo>
                    <a:pt x="395" y="484"/>
                  </a:lnTo>
                  <a:lnTo>
                    <a:pt x="361" y="525"/>
                  </a:lnTo>
                  <a:lnTo>
                    <a:pt x="331" y="568"/>
                  </a:lnTo>
                  <a:lnTo>
                    <a:pt x="303" y="612"/>
                  </a:lnTo>
                  <a:lnTo>
                    <a:pt x="279" y="658"/>
                  </a:lnTo>
                  <a:lnTo>
                    <a:pt x="258" y="705"/>
                  </a:lnTo>
                  <a:lnTo>
                    <a:pt x="240" y="752"/>
                  </a:lnTo>
                  <a:lnTo>
                    <a:pt x="224" y="800"/>
                  </a:lnTo>
                  <a:lnTo>
                    <a:pt x="210" y="848"/>
                  </a:lnTo>
                  <a:lnTo>
                    <a:pt x="197" y="895"/>
                  </a:lnTo>
                  <a:lnTo>
                    <a:pt x="188" y="941"/>
                  </a:lnTo>
                  <a:lnTo>
                    <a:pt x="179" y="987"/>
                  </a:lnTo>
                  <a:lnTo>
                    <a:pt x="172" y="1031"/>
                  </a:lnTo>
                  <a:lnTo>
                    <a:pt x="165" y="1075"/>
                  </a:lnTo>
                  <a:lnTo>
                    <a:pt x="160" y="1115"/>
                  </a:lnTo>
                  <a:lnTo>
                    <a:pt x="157" y="1168"/>
                  </a:lnTo>
                  <a:lnTo>
                    <a:pt x="158" y="1222"/>
                  </a:lnTo>
                  <a:lnTo>
                    <a:pt x="162" y="1278"/>
                  </a:lnTo>
                  <a:lnTo>
                    <a:pt x="172" y="1332"/>
                  </a:lnTo>
                  <a:lnTo>
                    <a:pt x="184" y="1386"/>
                  </a:lnTo>
                  <a:lnTo>
                    <a:pt x="198" y="1439"/>
                  </a:lnTo>
                  <a:lnTo>
                    <a:pt x="215" y="1491"/>
                  </a:lnTo>
                  <a:lnTo>
                    <a:pt x="233" y="1539"/>
                  </a:lnTo>
                  <a:lnTo>
                    <a:pt x="251" y="1586"/>
                  </a:lnTo>
                  <a:lnTo>
                    <a:pt x="268" y="1629"/>
                  </a:lnTo>
                  <a:lnTo>
                    <a:pt x="286" y="1668"/>
                  </a:lnTo>
                  <a:lnTo>
                    <a:pt x="302" y="1703"/>
                  </a:lnTo>
                  <a:lnTo>
                    <a:pt x="316" y="1733"/>
                  </a:lnTo>
                  <a:lnTo>
                    <a:pt x="327" y="1758"/>
                  </a:lnTo>
                  <a:lnTo>
                    <a:pt x="334" y="1776"/>
                  </a:lnTo>
                  <a:lnTo>
                    <a:pt x="339" y="1788"/>
                  </a:lnTo>
                  <a:lnTo>
                    <a:pt x="346" y="1809"/>
                  </a:lnTo>
                  <a:lnTo>
                    <a:pt x="354" y="1833"/>
                  </a:lnTo>
                  <a:lnTo>
                    <a:pt x="363" y="1859"/>
                  </a:lnTo>
                  <a:lnTo>
                    <a:pt x="369" y="1882"/>
                  </a:lnTo>
                  <a:lnTo>
                    <a:pt x="369" y="1897"/>
                  </a:lnTo>
                  <a:lnTo>
                    <a:pt x="359" y="1903"/>
                  </a:lnTo>
                  <a:lnTo>
                    <a:pt x="340" y="1894"/>
                  </a:lnTo>
                  <a:lnTo>
                    <a:pt x="305" y="186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 rot="21509400">
              <a:off x="1176120" y="2438280"/>
              <a:ext cx="2286000" cy="99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curit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170720" y="328284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7120" y="4435560"/>
            <a:ext cx="20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233880" y="4800600"/>
            <a:ext cx="1454040" cy="1496520"/>
            <a:chOff x="3233880" y="4800600"/>
            <a:chExt cx="1454040" cy="1496520"/>
          </a:xfrm>
        </p:grpSpPr>
        <p:sp>
          <p:nvSpPr>
            <p:cNvPr id="323" name=""/>
            <p:cNvSpPr/>
            <p:nvPr/>
          </p:nvSpPr>
          <p:spPr>
            <a:xfrm>
              <a:off x="3234960" y="6096960"/>
              <a:ext cx="1432080" cy="200160"/>
            </a:xfrm>
            <a:custGeom>
              <a:avLst/>
              <a:gdLst/>
              <a:ahLst/>
              <a:rect l="l" t="t" r="r" b="b"/>
              <a:pathLst>
                <a:path w="3131" h="456">
                  <a:moveTo>
                    <a:pt x="575" y="41"/>
                  </a:moveTo>
                  <a:lnTo>
                    <a:pt x="539" y="41"/>
                  </a:lnTo>
                  <a:lnTo>
                    <a:pt x="504" y="42"/>
                  </a:lnTo>
                  <a:lnTo>
                    <a:pt x="468" y="44"/>
                  </a:lnTo>
                  <a:lnTo>
                    <a:pt x="431" y="46"/>
                  </a:lnTo>
                  <a:lnTo>
                    <a:pt x="359" y="53"/>
                  </a:lnTo>
                  <a:lnTo>
                    <a:pt x="287" y="63"/>
                  </a:lnTo>
                  <a:lnTo>
                    <a:pt x="214" y="72"/>
                  </a:lnTo>
                  <a:lnTo>
                    <a:pt x="142" y="84"/>
                  </a:lnTo>
                  <a:lnTo>
                    <a:pt x="71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3" y="132"/>
                  </a:lnTo>
                  <a:lnTo>
                    <a:pt x="8" y="143"/>
                  </a:lnTo>
                  <a:lnTo>
                    <a:pt x="13" y="154"/>
                  </a:lnTo>
                  <a:lnTo>
                    <a:pt x="21" y="164"/>
                  </a:lnTo>
                  <a:lnTo>
                    <a:pt x="31" y="174"/>
                  </a:lnTo>
                  <a:lnTo>
                    <a:pt x="42" y="183"/>
                  </a:lnTo>
                  <a:lnTo>
                    <a:pt x="54" y="192"/>
                  </a:lnTo>
                  <a:lnTo>
                    <a:pt x="66" y="202"/>
                  </a:lnTo>
                  <a:lnTo>
                    <a:pt x="79" y="210"/>
                  </a:lnTo>
                  <a:lnTo>
                    <a:pt x="94" y="219"/>
                  </a:lnTo>
                  <a:lnTo>
                    <a:pt x="110" y="227"/>
                  </a:lnTo>
                  <a:lnTo>
                    <a:pt x="142" y="242"/>
                  </a:lnTo>
                  <a:lnTo>
                    <a:pt x="177" y="257"/>
                  </a:lnTo>
                  <a:lnTo>
                    <a:pt x="247" y="285"/>
                  </a:lnTo>
                  <a:lnTo>
                    <a:pt x="315" y="312"/>
                  </a:lnTo>
                  <a:lnTo>
                    <a:pt x="344" y="325"/>
                  </a:lnTo>
                  <a:lnTo>
                    <a:pt x="371" y="338"/>
                  </a:lnTo>
                  <a:lnTo>
                    <a:pt x="383" y="345"/>
                  </a:lnTo>
                  <a:lnTo>
                    <a:pt x="394" y="352"/>
                  </a:lnTo>
                  <a:lnTo>
                    <a:pt x="403" y="360"/>
                  </a:lnTo>
                  <a:lnTo>
                    <a:pt x="411" y="366"/>
                  </a:lnTo>
                  <a:lnTo>
                    <a:pt x="481" y="368"/>
                  </a:lnTo>
                  <a:lnTo>
                    <a:pt x="553" y="372"/>
                  </a:lnTo>
                  <a:lnTo>
                    <a:pt x="628" y="379"/>
                  </a:lnTo>
                  <a:lnTo>
                    <a:pt x="703" y="385"/>
                  </a:lnTo>
                  <a:lnTo>
                    <a:pt x="857" y="404"/>
                  </a:lnTo>
                  <a:lnTo>
                    <a:pt x="1013" y="424"/>
                  </a:lnTo>
                  <a:lnTo>
                    <a:pt x="1091" y="433"/>
                  </a:lnTo>
                  <a:lnTo>
                    <a:pt x="1167" y="441"/>
                  </a:lnTo>
                  <a:lnTo>
                    <a:pt x="1243" y="448"/>
                  </a:lnTo>
                  <a:lnTo>
                    <a:pt x="1317" y="453"/>
                  </a:lnTo>
                  <a:lnTo>
                    <a:pt x="1355" y="455"/>
                  </a:lnTo>
                  <a:lnTo>
                    <a:pt x="1391" y="456"/>
                  </a:lnTo>
                  <a:lnTo>
                    <a:pt x="1426" y="456"/>
                  </a:lnTo>
                  <a:lnTo>
                    <a:pt x="1460" y="455"/>
                  </a:lnTo>
                  <a:lnTo>
                    <a:pt x="1495" y="453"/>
                  </a:lnTo>
                  <a:lnTo>
                    <a:pt x="1530" y="451"/>
                  </a:lnTo>
                  <a:lnTo>
                    <a:pt x="1562" y="448"/>
                  </a:lnTo>
                  <a:lnTo>
                    <a:pt x="1596" y="444"/>
                  </a:lnTo>
                  <a:lnTo>
                    <a:pt x="1677" y="433"/>
                  </a:lnTo>
                  <a:lnTo>
                    <a:pt x="1763" y="424"/>
                  </a:lnTo>
                  <a:lnTo>
                    <a:pt x="1850" y="417"/>
                  </a:lnTo>
                  <a:lnTo>
                    <a:pt x="1941" y="411"/>
                  </a:lnTo>
                  <a:lnTo>
                    <a:pt x="2126" y="399"/>
                  </a:lnTo>
                  <a:lnTo>
                    <a:pt x="2314" y="385"/>
                  </a:lnTo>
                  <a:lnTo>
                    <a:pt x="2408" y="379"/>
                  </a:lnTo>
                  <a:lnTo>
                    <a:pt x="2501" y="369"/>
                  </a:lnTo>
                  <a:lnTo>
                    <a:pt x="2592" y="357"/>
                  </a:lnTo>
                  <a:lnTo>
                    <a:pt x="2684" y="345"/>
                  </a:lnTo>
                  <a:lnTo>
                    <a:pt x="2728" y="337"/>
                  </a:lnTo>
                  <a:lnTo>
                    <a:pt x="2772" y="329"/>
                  </a:lnTo>
                  <a:lnTo>
                    <a:pt x="2815" y="320"/>
                  </a:lnTo>
                  <a:lnTo>
                    <a:pt x="2858" y="310"/>
                  </a:lnTo>
                  <a:lnTo>
                    <a:pt x="2899" y="300"/>
                  </a:lnTo>
                  <a:lnTo>
                    <a:pt x="2941" y="289"/>
                  </a:lnTo>
                  <a:lnTo>
                    <a:pt x="2980" y="277"/>
                  </a:lnTo>
                  <a:lnTo>
                    <a:pt x="3020" y="263"/>
                  </a:lnTo>
                  <a:lnTo>
                    <a:pt x="3028" y="259"/>
                  </a:lnTo>
                  <a:lnTo>
                    <a:pt x="3036" y="254"/>
                  </a:lnTo>
                  <a:lnTo>
                    <a:pt x="3045" y="247"/>
                  </a:lnTo>
                  <a:lnTo>
                    <a:pt x="3055" y="239"/>
                  </a:lnTo>
                  <a:lnTo>
                    <a:pt x="3073" y="221"/>
                  </a:lnTo>
                  <a:lnTo>
                    <a:pt x="3091" y="199"/>
                  </a:lnTo>
                  <a:lnTo>
                    <a:pt x="3099" y="187"/>
                  </a:lnTo>
                  <a:lnTo>
                    <a:pt x="3107" y="176"/>
                  </a:lnTo>
                  <a:lnTo>
                    <a:pt x="3114" y="164"/>
                  </a:lnTo>
                  <a:lnTo>
                    <a:pt x="3119" y="152"/>
                  </a:lnTo>
                  <a:lnTo>
                    <a:pt x="3124" y="142"/>
                  </a:lnTo>
                  <a:lnTo>
                    <a:pt x="3128" y="129"/>
                  </a:lnTo>
                  <a:lnTo>
                    <a:pt x="3130" y="119"/>
                  </a:lnTo>
                  <a:lnTo>
                    <a:pt x="3131" y="109"/>
                  </a:lnTo>
                  <a:lnTo>
                    <a:pt x="3114" y="92"/>
                  </a:lnTo>
                  <a:lnTo>
                    <a:pt x="3100" y="92"/>
                  </a:lnTo>
                  <a:lnTo>
                    <a:pt x="3086" y="92"/>
                  </a:lnTo>
                  <a:lnTo>
                    <a:pt x="3069" y="92"/>
                  </a:lnTo>
                  <a:lnTo>
                    <a:pt x="3053" y="91"/>
                  </a:lnTo>
                  <a:lnTo>
                    <a:pt x="3037" y="89"/>
                  </a:lnTo>
                  <a:lnTo>
                    <a:pt x="3023" y="88"/>
                  </a:lnTo>
                  <a:lnTo>
                    <a:pt x="3008" y="87"/>
                  </a:lnTo>
                  <a:lnTo>
                    <a:pt x="2993" y="84"/>
                  </a:lnTo>
                  <a:lnTo>
                    <a:pt x="2989" y="83"/>
                  </a:lnTo>
                  <a:lnTo>
                    <a:pt x="2984" y="81"/>
                  </a:lnTo>
                  <a:lnTo>
                    <a:pt x="2978" y="80"/>
                  </a:lnTo>
                  <a:lnTo>
                    <a:pt x="2973" y="76"/>
                  </a:lnTo>
                  <a:lnTo>
                    <a:pt x="2962" y="69"/>
                  </a:lnTo>
                  <a:lnTo>
                    <a:pt x="2950" y="61"/>
                  </a:lnTo>
                  <a:lnTo>
                    <a:pt x="2939" y="52"/>
                  </a:lnTo>
                  <a:lnTo>
                    <a:pt x="2929" y="44"/>
                  </a:lnTo>
                  <a:lnTo>
                    <a:pt x="2918" y="37"/>
                  </a:lnTo>
                  <a:lnTo>
                    <a:pt x="2907" y="32"/>
                  </a:lnTo>
                  <a:lnTo>
                    <a:pt x="2890" y="25"/>
                  </a:lnTo>
                  <a:lnTo>
                    <a:pt x="2872" y="20"/>
                  </a:lnTo>
                  <a:lnTo>
                    <a:pt x="2854" y="14"/>
                  </a:lnTo>
                  <a:lnTo>
                    <a:pt x="2835" y="10"/>
                  </a:lnTo>
                  <a:lnTo>
                    <a:pt x="2815" y="6"/>
                  </a:lnTo>
                  <a:lnTo>
                    <a:pt x="2795" y="4"/>
                  </a:lnTo>
                  <a:lnTo>
                    <a:pt x="2773" y="2"/>
                  </a:lnTo>
                  <a:lnTo>
                    <a:pt x="2752" y="1"/>
                  </a:lnTo>
                  <a:lnTo>
                    <a:pt x="2709" y="0"/>
                  </a:lnTo>
                  <a:lnTo>
                    <a:pt x="2663" y="1"/>
                  </a:lnTo>
                  <a:lnTo>
                    <a:pt x="2618" y="4"/>
                  </a:lnTo>
                  <a:lnTo>
                    <a:pt x="2571" y="9"/>
                  </a:lnTo>
                  <a:lnTo>
                    <a:pt x="2477" y="20"/>
                  </a:lnTo>
                  <a:lnTo>
                    <a:pt x="2386" y="32"/>
                  </a:lnTo>
                  <a:lnTo>
                    <a:pt x="2343" y="37"/>
                  </a:lnTo>
                  <a:lnTo>
                    <a:pt x="2300" y="42"/>
                  </a:lnTo>
                  <a:lnTo>
                    <a:pt x="2260" y="46"/>
                  </a:lnTo>
                  <a:lnTo>
                    <a:pt x="2221" y="49"/>
                  </a:lnTo>
                  <a:lnTo>
                    <a:pt x="2038" y="63"/>
                  </a:lnTo>
                  <a:lnTo>
                    <a:pt x="1841" y="77"/>
                  </a:lnTo>
                  <a:lnTo>
                    <a:pt x="1739" y="83"/>
                  </a:lnTo>
                  <a:lnTo>
                    <a:pt x="1637" y="89"/>
                  </a:lnTo>
                  <a:lnTo>
                    <a:pt x="1533" y="93"/>
                  </a:lnTo>
                  <a:lnTo>
                    <a:pt x="1430" y="97"/>
                  </a:lnTo>
                  <a:lnTo>
                    <a:pt x="1325" y="99"/>
                  </a:lnTo>
                  <a:lnTo>
                    <a:pt x="1222" y="100"/>
                  </a:lnTo>
                  <a:lnTo>
                    <a:pt x="1119" y="97"/>
                  </a:lnTo>
                  <a:lnTo>
                    <a:pt x="1018" y="93"/>
                  </a:lnTo>
                  <a:lnTo>
                    <a:pt x="969" y="91"/>
                  </a:lnTo>
                  <a:lnTo>
                    <a:pt x="920" y="87"/>
                  </a:lnTo>
                  <a:lnTo>
                    <a:pt x="872" y="83"/>
                  </a:lnTo>
                  <a:lnTo>
                    <a:pt x="824" y="77"/>
                  </a:lnTo>
                  <a:lnTo>
                    <a:pt x="777" y="72"/>
                  </a:lnTo>
                  <a:lnTo>
                    <a:pt x="732" y="65"/>
                  </a:lnTo>
                  <a:lnTo>
                    <a:pt x="687" y="57"/>
                  </a:lnTo>
                  <a:lnTo>
                    <a:pt x="643" y="49"/>
                  </a:lnTo>
                  <a:lnTo>
                    <a:pt x="630" y="49"/>
                  </a:lnTo>
                  <a:lnTo>
                    <a:pt x="616" y="48"/>
                  </a:lnTo>
                  <a:lnTo>
                    <a:pt x="604" y="46"/>
                  </a:lnTo>
                  <a:lnTo>
                    <a:pt x="592" y="45"/>
                  </a:lnTo>
                  <a:lnTo>
                    <a:pt x="583" y="44"/>
                  </a:lnTo>
                  <a:lnTo>
                    <a:pt x="576" y="42"/>
                  </a:lnTo>
                  <a:lnTo>
                    <a:pt x="573" y="41"/>
                  </a:lnTo>
                  <a:lnTo>
                    <a:pt x="575" y="41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33880" y="4800600"/>
              <a:ext cx="1454040" cy="1388520"/>
            </a:xfrm>
            <a:custGeom>
              <a:avLst/>
              <a:gdLst/>
              <a:ahLst/>
              <a:rect l="l" t="t" r="r" b="b"/>
              <a:pathLst>
                <a:path w="3179" h="3161">
                  <a:moveTo>
                    <a:pt x="58" y="3092"/>
                  </a:moveTo>
                  <a:lnTo>
                    <a:pt x="111" y="3104"/>
                  </a:lnTo>
                  <a:lnTo>
                    <a:pt x="167" y="3116"/>
                  </a:lnTo>
                  <a:lnTo>
                    <a:pt x="228" y="3126"/>
                  </a:lnTo>
                  <a:lnTo>
                    <a:pt x="291" y="3134"/>
                  </a:lnTo>
                  <a:lnTo>
                    <a:pt x="356" y="3142"/>
                  </a:lnTo>
                  <a:lnTo>
                    <a:pt x="426" y="3148"/>
                  </a:lnTo>
                  <a:lnTo>
                    <a:pt x="497" y="3153"/>
                  </a:lnTo>
                  <a:lnTo>
                    <a:pt x="572" y="3157"/>
                  </a:lnTo>
                  <a:lnTo>
                    <a:pt x="650" y="3160"/>
                  </a:lnTo>
                  <a:lnTo>
                    <a:pt x="732" y="3161"/>
                  </a:lnTo>
                  <a:lnTo>
                    <a:pt x="815" y="3161"/>
                  </a:lnTo>
                  <a:lnTo>
                    <a:pt x="900" y="3161"/>
                  </a:lnTo>
                  <a:lnTo>
                    <a:pt x="989" y="3160"/>
                  </a:lnTo>
                  <a:lnTo>
                    <a:pt x="1080" y="3158"/>
                  </a:lnTo>
                  <a:lnTo>
                    <a:pt x="1174" y="3154"/>
                  </a:lnTo>
                  <a:lnTo>
                    <a:pt x="1270" y="3152"/>
                  </a:lnTo>
                  <a:lnTo>
                    <a:pt x="1471" y="3141"/>
                  </a:lnTo>
                  <a:lnTo>
                    <a:pt x="1680" y="3129"/>
                  </a:lnTo>
                  <a:lnTo>
                    <a:pt x="1898" y="3114"/>
                  </a:lnTo>
                  <a:lnTo>
                    <a:pt x="2128" y="3098"/>
                  </a:lnTo>
                  <a:lnTo>
                    <a:pt x="2607" y="3062"/>
                  </a:lnTo>
                  <a:lnTo>
                    <a:pt x="3119" y="3025"/>
                  </a:lnTo>
                  <a:lnTo>
                    <a:pt x="3120" y="2947"/>
                  </a:lnTo>
                  <a:lnTo>
                    <a:pt x="3124" y="2860"/>
                  </a:lnTo>
                  <a:lnTo>
                    <a:pt x="3131" y="2766"/>
                  </a:lnTo>
                  <a:lnTo>
                    <a:pt x="3139" y="2667"/>
                  </a:lnTo>
                  <a:lnTo>
                    <a:pt x="3156" y="2456"/>
                  </a:lnTo>
                  <a:lnTo>
                    <a:pt x="3171" y="2236"/>
                  </a:lnTo>
                  <a:lnTo>
                    <a:pt x="3177" y="2128"/>
                  </a:lnTo>
                  <a:lnTo>
                    <a:pt x="3179" y="2020"/>
                  </a:lnTo>
                  <a:lnTo>
                    <a:pt x="3179" y="1968"/>
                  </a:lnTo>
                  <a:lnTo>
                    <a:pt x="3179" y="1916"/>
                  </a:lnTo>
                  <a:lnTo>
                    <a:pt x="3178" y="1866"/>
                  </a:lnTo>
                  <a:lnTo>
                    <a:pt x="3175" y="1818"/>
                  </a:lnTo>
                  <a:lnTo>
                    <a:pt x="3171" y="1771"/>
                  </a:lnTo>
                  <a:lnTo>
                    <a:pt x="3167" y="1726"/>
                  </a:lnTo>
                  <a:lnTo>
                    <a:pt x="3162" y="1682"/>
                  </a:lnTo>
                  <a:lnTo>
                    <a:pt x="3154" y="1640"/>
                  </a:lnTo>
                  <a:lnTo>
                    <a:pt x="3146" y="1601"/>
                  </a:lnTo>
                  <a:lnTo>
                    <a:pt x="3135" y="1564"/>
                  </a:lnTo>
                  <a:lnTo>
                    <a:pt x="3124" y="1530"/>
                  </a:lnTo>
                  <a:lnTo>
                    <a:pt x="3111" y="1498"/>
                  </a:lnTo>
                  <a:lnTo>
                    <a:pt x="3102" y="1480"/>
                  </a:lnTo>
                  <a:lnTo>
                    <a:pt x="3094" y="1459"/>
                  </a:lnTo>
                  <a:lnTo>
                    <a:pt x="3087" y="1439"/>
                  </a:lnTo>
                  <a:lnTo>
                    <a:pt x="3080" y="1421"/>
                  </a:lnTo>
                  <a:lnTo>
                    <a:pt x="3068" y="1379"/>
                  </a:lnTo>
                  <a:lnTo>
                    <a:pt x="3059" y="1339"/>
                  </a:lnTo>
                  <a:lnTo>
                    <a:pt x="3052" y="1297"/>
                  </a:lnTo>
                  <a:lnTo>
                    <a:pt x="3047" y="1255"/>
                  </a:lnTo>
                  <a:lnTo>
                    <a:pt x="3043" y="1212"/>
                  </a:lnTo>
                  <a:lnTo>
                    <a:pt x="3041" y="1168"/>
                  </a:lnTo>
                  <a:lnTo>
                    <a:pt x="3041" y="1123"/>
                  </a:lnTo>
                  <a:lnTo>
                    <a:pt x="3043" y="1079"/>
                  </a:lnTo>
                  <a:lnTo>
                    <a:pt x="3044" y="1034"/>
                  </a:lnTo>
                  <a:lnTo>
                    <a:pt x="3048" y="990"/>
                  </a:lnTo>
                  <a:lnTo>
                    <a:pt x="3056" y="898"/>
                  </a:lnTo>
                  <a:lnTo>
                    <a:pt x="3068" y="806"/>
                  </a:lnTo>
                  <a:lnTo>
                    <a:pt x="3080" y="715"/>
                  </a:lnTo>
                  <a:lnTo>
                    <a:pt x="3092" y="623"/>
                  </a:lnTo>
                  <a:lnTo>
                    <a:pt x="3103" y="532"/>
                  </a:lnTo>
                  <a:lnTo>
                    <a:pt x="3111" y="442"/>
                  </a:lnTo>
                  <a:lnTo>
                    <a:pt x="3114" y="398"/>
                  </a:lnTo>
                  <a:lnTo>
                    <a:pt x="3116" y="354"/>
                  </a:lnTo>
                  <a:lnTo>
                    <a:pt x="3116" y="311"/>
                  </a:lnTo>
                  <a:lnTo>
                    <a:pt x="3115" y="268"/>
                  </a:lnTo>
                  <a:lnTo>
                    <a:pt x="3112" y="226"/>
                  </a:lnTo>
                  <a:lnTo>
                    <a:pt x="3108" y="185"/>
                  </a:lnTo>
                  <a:lnTo>
                    <a:pt x="3103" y="143"/>
                  </a:lnTo>
                  <a:lnTo>
                    <a:pt x="3095" y="103"/>
                  </a:lnTo>
                  <a:lnTo>
                    <a:pt x="2965" y="71"/>
                  </a:lnTo>
                  <a:lnTo>
                    <a:pt x="2931" y="78"/>
                  </a:lnTo>
                  <a:lnTo>
                    <a:pt x="2897" y="83"/>
                  </a:lnTo>
                  <a:lnTo>
                    <a:pt x="2862" y="86"/>
                  </a:lnTo>
                  <a:lnTo>
                    <a:pt x="2824" y="87"/>
                  </a:lnTo>
                  <a:lnTo>
                    <a:pt x="2785" y="87"/>
                  </a:lnTo>
                  <a:lnTo>
                    <a:pt x="2745" y="86"/>
                  </a:lnTo>
                  <a:lnTo>
                    <a:pt x="2704" y="83"/>
                  </a:lnTo>
                  <a:lnTo>
                    <a:pt x="2661" y="80"/>
                  </a:lnTo>
                  <a:lnTo>
                    <a:pt x="2574" y="71"/>
                  </a:lnTo>
                  <a:lnTo>
                    <a:pt x="2485" y="59"/>
                  </a:lnTo>
                  <a:lnTo>
                    <a:pt x="2393" y="46"/>
                  </a:lnTo>
                  <a:lnTo>
                    <a:pt x="2302" y="32"/>
                  </a:lnTo>
                  <a:lnTo>
                    <a:pt x="2209" y="20"/>
                  </a:lnTo>
                  <a:lnTo>
                    <a:pt x="2120" y="11"/>
                  </a:lnTo>
                  <a:lnTo>
                    <a:pt x="2074" y="7"/>
                  </a:lnTo>
                  <a:lnTo>
                    <a:pt x="2031" y="3"/>
                  </a:lnTo>
                  <a:lnTo>
                    <a:pt x="1987" y="1"/>
                  </a:lnTo>
                  <a:lnTo>
                    <a:pt x="1945" y="0"/>
                  </a:lnTo>
                  <a:lnTo>
                    <a:pt x="1904" y="1"/>
                  </a:lnTo>
                  <a:lnTo>
                    <a:pt x="1864" y="3"/>
                  </a:lnTo>
                  <a:lnTo>
                    <a:pt x="1823" y="7"/>
                  </a:lnTo>
                  <a:lnTo>
                    <a:pt x="1786" y="12"/>
                  </a:lnTo>
                  <a:lnTo>
                    <a:pt x="1750" y="20"/>
                  </a:lnTo>
                  <a:lnTo>
                    <a:pt x="1715" y="30"/>
                  </a:lnTo>
                  <a:lnTo>
                    <a:pt x="1699" y="35"/>
                  </a:lnTo>
                  <a:lnTo>
                    <a:pt x="1681" y="42"/>
                  </a:lnTo>
                  <a:lnTo>
                    <a:pt x="1667" y="48"/>
                  </a:lnTo>
                  <a:lnTo>
                    <a:pt x="1651" y="55"/>
                  </a:lnTo>
                  <a:lnTo>
                    <a:pt x="1616" y="56"/>
                  </a:lnTo>
                  <a:lnTo>
                    <a:pt x="1578" y="58"/>
                  </a:lnTo>
                  <a:lnTo>
                    <a:pt x="1538" y="60"/>
                  </a:lnTo>
                  <a:lnTo>
                    <a:pt x="1497" y="64"/>
                  </a:lnTo>
                  <a:lnTo>
                    <a:pt x="1409" y="71"/>
                  </a:lnTo>
                  <a:lnTo>
                    <a:pt x="1320" y="78"/>
                  </a:lnTo>
                  <a:lnTo>
                    <a:pt x="1275" y="79"/>
                  </a:lnTo>
                  <a:lnTo>
                    <a:pt x="1231" y="79"/>
                  </a:lnTo>
                  <a:lnTo>
                    <a:pt x="1188" y="79"/>
                  </a:lnTo>
                  <a:lnTo>
                    <a:pt x="1147" y="75"/>
                  </a:lnTo>
                  <a:lnTo>
                    <a:pt x="1127" y="74"/>
                  </a:lnTo>
                  <a:lnTo>
                    <a:pt x="1107" y="71"/>
                  </a:lnTo>
                  <a:lnTo>
                    <a:pt x="1088" y="67"/>
                  </a:lnTo>
                  <a:lnTo>
                    <a:pt x="1069" y="63"/>
                  </a:lnTo>
                  <a:lnTo>
                    <a:pt x="1052" y="58"/>
                  </a:lnTo>
                  <a:lnTo>
                    <a:pt x="1034" y="52"/>
                  </a:lnTo>
                  <a:lnTo>
                    <a:pt x="1017" y="46"/>
                  </a:lnTo>
                  <a:lnTo>
                    <a:pt x="1002" y="39"/>
                  </a:lnTo>
                  <a:lnTo>
                    <a:pt x="926" y="38"/>
                  </a:lnTo>
                  <a:lnTo>
                    <a:pt x="835" y="35"/>
                  </a:lnTo>
                  <a:lnTo>
                    <a:pt x="734" y="32"/>
                  </a:lnTo>
                  <a:lnTo>
                    <a:pt x="628" y="31"/>
                  </a:lnTo>
                  <a:lnTo>
                    <a:pt x="576" y="32"/>
                  </a:lnTo>
                  <a:lnTo>
                    <a:pt x="524" y="34"/>
                  </a:lnTo>
                  <a:lnTo>
                    <a:pt x="472" y="35"/>
                  </a:lnTo>
                  <a:lnTo>
                    <a:pt x="422" y="39"/>
                  </a:lnTo>
                  <a:lnTo>
                    <a:pt x="375" y="44"/>
                  </a:lnTo>
                  <a:lnTo>
                    <a:pt x="332" y="51"/>
                  </a:lnTo>
                  <a:lnTo>
                    <a:pt x="311" y="56"/>
                  </a:lnTo>
                  <a:lnTo>
                    <a:pt x="292" y="60"/>
                  </a:lnTo>
                  <a:lnTo>
                    <a:pt x="273" y="66"/>
                  </a:lnTo>
                  <a:lnTo>
                    <a:pt x="256" y="71"/>
                  </a:lnTo>
                  <a:lnTo>
                    <a:pt x="245" y="76"/>
                  </a:lnTo>
                  <a:lnTo>
                    <a:pt x="232" y="83"/>
                  </a:lnTo>
                  <a:lnTo>
                    <a:pt x="217" y="91"/>
                  </a:lnTo>
                  <a:lnTo>
                    <a:pt x="200" y="102"/>
                  </a:lnTo>
                  <a:lnTo>
                    <a:pt x="162" y="127"/>
                  </a:lnTo>
                  <a:lnTo>
                    <a:pt x="122" y="154"/>
                  </a:lnTo>
                  <a:lnTo>
                    <a:pt x="83" y="180"/>
                  </a:lnTo>
                  <a:lnTo>
                    <a:pt x="47" y="202"/>
                  </a:lnTo>
                  <a:lnTo>
                    <a:pt x="32" y="210"/>
                  </a:lnTo>
                  <a:lnTo>
                    <a:pt x="19" y="217"/>
                  </a:lnTo>
                  <a:lnTo>
                    <a:pt x="8" y="221"/>
                  </a:lnTo>
                  <a:lnTo>
                    <a:pt x="0" y="224"/>
                  </a:lnTo>
                  <a:lnTo>
                    <a:pt x="1" y="226"/>
                  </a:lnTo>
                  <a:lnTo>
                    <a:pt x="4" y="232"/>
                  </a:lnTo>
                  <a:lnTo>
                    <a:pt x="8" y="237"/>
                  </a:lnTo>
                  <a:lnTo>
                    <a:pt x="15" y="244"/>
                  </a:lnTo>
                  <a:lnTo>
                    <a:pt x="29" y="260"/>
                  </a:lnTo>
                  <a:lnTo>
                    <a:pt x="47" y="277"/>
                  </a:lnTo>
                  <a:lnTo>
                    <a:pt x="64" y="293"/>
                  </a:lnTo>
                  <a:lnTo>
                    <a:pt x="79" y="309"/>
                  </a:lnTo>
                  <a:lnTo>
                    <a:pt x="84" y="316"/>
                  </a:lnTo>
                  <a:lnTo>
                    <a:pt x="90" y="323"/>
                  </a:lnTo>
                  <a:lnTo>
                    <a:pt x="92" y="327"/>
                  </a:lnTo>
                  <a:lnTo>
                    <a:pt x="94" y="331"/>
                  </a:lnTo>
                  <a:lnTo>
                    <a:pt x="99" y="336"/>
                  </a:lnTo>
                  <a:lnTo>
                    <a:pt x="103" y="343"/>
                  </a:lnTo>
                  <a:lnTo>
                    <a:pt x="107" y="351"/>
                  </a:lnTo>
                  <a:lnTo>
                    <a:pt x="113" y="359"/>
                  </a:lnTo>
                  <a:lnTo>
                    <a:pt x="119" y="379"/>
                  </a:lnTo>
                  <a:lnTo>
                    <a:pt x="126" y="402"/>
                  </a:lnTo>
                  <a:lnTo>
                    <a:pt x="130" y="427"/>
                  </a:lnTo>
                  <a:lnTo>
                    <a:pt x="134" y="457"/>
                  </a:lnTo>
                  <a:lnTo>
                    <a:pt x="137" y="487"/>
                  </a:lnTo>
                  <a:lnTo>
                    <a:pt x="139" y="521"/>
                  </a:lnTo>
                  <a:lnTo>
                    <a:pt x="139" y="556"/>
                  </a:lnTo>
                  <a:lnTo>
                    <a:pt x="139" y="593"/>
                  </a:lnTo>
                  <a:lnTo>
                    <a:pt x="139" y="632"/>
                  </a:lnTo>
                  <a:lnTo>
                    <a:pt x="138" y="672"/>
                  </a:lnTo>
                  <a:lnTo>
                    <a:pt x="134" y="755"/>
                  </a:lnTo>
                  <a:lnTo>
                    <a:pt x="127" y="841"/>
                  </a:lnTo>
                  <a:lnTo>
                    <a:pt x="113" y="1014"/>
                  </a:lnTo>
                  <a:lnTo>
                    <a:pt x="95" y="1174"/>
                  </a:lnTo>
                  <a:lnTo>
                    <a:pt x="88" y="1245"/>
                  </a:lnTo>
                  <a:lnTo>
                    <a:pt x="83" y="1308"/>
                  </a:lnTo>
                  <a:lnTo>
                    <a:pt x="79" y="1360"/>
                  </a:lnTo>
                  <a:lnTo>
                    <a:pt x="78" y="1401"/>
                  </a:lnTo>
                  <a:lnTo>
                    <a:pt x="86" y="1411"/>
                  </a:lnTo>
                  <a:lnTo>
                    <a:pt x="95" y="1422"/>
                  </a:lnTo>
                  <a:lnTo>
                    <a:pt x="103" y="1434"/>
                  </a:lnTo>
                  <a:lnTo>
                    <a:pt x="111" y="1446"/>
                  </a:lnTo>
                  <a:lnTo>
                    <a:pt x="119" y="1461"/>
                  </a:lnTo>
                  <a:lnTo>
                    <a:pt x="126" y="1476"/>
                  </a:lnTo>
                  <a:lnTo>
                    <a:pt x="134" y="1492"/>
                  </a:lnTo>
                  <a:lnTo>
                    <a:pt x="141" y="1509"/>
                  </a:lnTo>
                  <a:lnTo>
                    <a:pt x="154" y="1545"/>
                  </a:lnTo>
                  <a:lnTo>
                    <a:pt x="165" y="1585"/>
                  </a:lnTo>
                  <a:lnTo>
                    <a:pt x="177" y="1628"/>
                  </a:lnTo>
                  <a:lnTo>
                    <a:pt x="186" y="1675"/>
                  </a:lnTo>
                  <a:lnTo>
                    <a:pt x="194" y="1723"/>
                  </a:lnTo>
                  <a:lnTo>
                    <a:pt x="202" y="1773"/>
                  </a:lnTo>
                  <a:lnTo>
                    <a:pt x="209" y="1826"/>
                  </a:lnTo>
                  <a:lnTo>
                    <a:pt x="214" y="1880"/>
                  </a:lnTo>
                  <a:lnTo>
                    <a:pt x="220" y="1935"/>
                  </a:lnTo>
                  <a:lnTo>
                    <a:pt x="224" y="1991"/>
                  </a:lnTo>
                  <a:lnTo>
                    <a:pt x="226" y="2049"/>
                  </a:lnTo>
                  <a:lnTo>
                    <a:pt x="229" y="2106"/>
                  </a:lnTo>
                  <a:lnTo>
                    <a:pt x="230" y="2164"/>
                  </a:lnTo>
                  <a:lnTo>
                    <a:pt x="232" y="2221"/>
                  </a:lnTo>
                  <a:lnTo>
                    <a:pt x="232" y="2279"/>
                  </a:lnTo>
                  <a:lnTo>
                    <a:pt x="230" y="2336"/>
                  </a:lnTo>
                  <a:lnTo>
                    <a:pt x="229" y="2391"/>
                  </a:lnTo>
                  <a:lnTo>
                    <a:pt x="228" y="2446"/>
                  </a:lnTo>
                  <a:lnTo>
                    <a:pt x="224" y="2498"/>
                  </a:lnTo>
                  <a:lnTo>
                    <a:pt x="221" y="2551"/>
                  </a:lnTo>
                  <a:lnTo>
                    <a:pt x="217" y="2599"/>
                  </a:lnTo>
                  <a:lnTo>
                    <a:pt x="212" y="2646"/>
                  </a:lnTo>
                  <a:lnTo>
                    <a:pt x="208" y="2690"/>
                  </a:lnTo>
                  <a:lnTo>
                    <a:pt x="201" y="2731"/>
                  </a:lnTo>
                  <a:lnTo>
                    <a:pt x="196" y="2769"/>
                  </a:lnTo>
                  <a:lnTo>
                    <a:pt x="189" y="2804"/>
                  </a:lnTo>
                  <a:lnTo>
                    <a:pt x="182" y="2833"/>
                  </a:lnTo>
                  <a:lnTo>
                    <a:pt x="174" y="2860"/>
                  </a:lnTo>
                  <a:lnTo>
                    <a:pt x="173" y="2868"/>
                  </a:lnTo>
                  <a:lnTo>
                    <a:pt x="166" y="2877"/>
                  </a:lnTo>
                  <a:lnTo>
                    <a:pt x="158" y="2888"/>
                  </a:lnTo>
                  <a:lnTo>
                    <a:pt x="149" y="2899"/>
                  </a:lnTo>
                  <a:lnTo>
                    <a:pt x="137" y="2909"/>
                  </a:lnTo>
                  <a:lnTo>
                    <a:pt x="127" y="2917"/>
                  </a:lnTo>
                  <a:lnTo>
                    <a:pt x="117" y="2923"/>
                  </a:lnTo>
                  <a:lnTo>
                    <a:pt x="110" y="2926"/>
                  </a:lnTo>
                  <a:lnTo>
                    <a:pt x="109" y="2935"/>
                  </a:lnTo>
                  <a:lnTo>
                    <a:pt x="107" y="2943"/>
                  </a:lnTo>
                  <a:lnTo>
                    <a:pt x="105" y="2952"/>
                  </a:lnTo>
                  <a:lnTo>
                    <a:pt x="102" y="2963"/>
                  </a:lnTo>
                  <a:lnTo>
                    <a:pt x="92" y="2982"/>
                  </a:lnTo>
                  <a:lnTo>
                    <a:pt x="83" y="3002"/>
                  </a:lnTo>
                  <a:lnTo>
                    <a:pt x="74" y="3023"/>
                  </a:lnTo>
                  <a:lnTo>
                    <a:pt x="66" y="3045"/>
                  </a:lnTo>
                  <a:lnTo>
                    <a:pt x="62" y="3055"/>
                  </a:lnTo>
                  <a:lnTo>
                    <a:pt x="59" y="3067"/>
                  </a:lnTo>
                  <a:lnTo>
                    <a:pt x="58" y="3079"/>
                  </a:lnTo>
                  <a:lnTo>
                    <a:pt x="58" y="3092"/>
                  </a:lnTo>
                  <a:close/>
                  <a:moveTo>
                    <a:pt x="1188" y="833"/>
                  </a:moveTo>
                  <a:lnTo>
                    <a:pt x="1613" y="822"/>
                  </a:lnTo>
                  <a:lnTo>
                    <a:pt x="1613" y="983"/>
                  </a:lnTo>
                  <a:lnTo>
                    <a:pt x="1190" y="972"/>
                  </a:lnTo>
                  <a:lnTo>
                    <a:pt x="1188" y="833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79240" y="4834440"/>
              <a:ext cx="1378440" cy="601200"/>
            </a:xfrm>
            <a:custGeom>
              <a:avLst/>
              <a:gdLst/>
              <a:ahLst/>
              <a:rect l="l" t="t" r="r" b="b"/>
              <a:pathLst>
                <a:path w="3014" h="1368">
                  <a:moveTo>
                    <a:pt x="2802" y="9"/>
                  </a:moveTo>
                  <a:lnTo>
                    <a:pt x="2799" y="23"/>
                  </a:lnTo>
                  <a:lnTo>
                    <a:pt x="2799" y="35"/>
                  </a:lnTo>
                  <a:lnTo>
                    <a:pt x="2799" y="47"/>
                  </a:lnTo>
                  <a:lnTo>
                    <a:pt x="2801" y="59"/>
                  </a:lnTo>
                  <a:lnTo>
                    <a:pt x="2801" y="72"/>
                  </a:lnTo>
                  <a:lnTo>
                    <a:pt x="2802" y="84"/>
                  </a:lnTo>
                  <a:lnTo>
                    <a:pt x="2802" y="96"/>
                  </a:lnTo>
                  <a:lnTo>
                    <a:pt x="2802" y="110"/>
                  </a:lnTo>
                  <a:lnTo>
                    <a:pt x="2809" y="115"/>
                  </a:lnTo>
                  <a:lnTo>
                    <a:pt x="2969" y="115"/>
                  </a:lnTo>
                  <a:lnTo>
                    <a:pt x="2972" y="118"/>
                  </a:lnTo>
                  <a:lnTo>
                    <a:pt x="2976" y="119"/>
                  </a:lnTo>
                  <a:lnTo>
                    <a:pt x="2980" y="120"/>
                  </a:lnTo>
                  <a:lnTo>
                    <a:pt x="2983" y="123"/>
                  </a:lnTo>
                  <a:lnTo>
                    <a:pt x="2987" y="124"/>
                  </a:lnTo>
                  <a:lnTo>
                    <a:pt x="2988" y="126"/>
                  </a:lnTo>
                  <a:lnTo>
                    <a:pt x="2991" y="128"/>
                  </a:lnTo>
                  <a:lnTo>
                    <a:pt x="2991" y="132"/>
                  </a:lnTo>
                  <a:lnTo>
                    <a:pt x="2981" y="138"/>
                  </a:lnTo>
                  <a:lnTo>
                    <a:pt x="2971" y="139"/>
                  </a:lnTo>
                  <a:lnTo>
                    <a:pt x="2960" y="140"/>
                  </a:lnTo>
                  <a:lnTo>
                    <a:pt x="2948" y="140"/>
                  </a:lnTo>
                  <a:lnTo>
                    <a:pt x="2937" y="140"/>
                  </a:lnTo>
                  <a:lnTo>
                    <a:pt x="2927" y="140"/>
                  </a:lnTo>
                  <a:lnTo>
                    <a:pt x="2916" y="143"/>
                  </a:lnTo>
                  <a:lnTo>
                    <a:pt x="2906" y="147"/>
                  </a:lnTo>
                  <a:lnTo>
                    <a:pt x="2906" y="159"/>
                  </a:lnTo>
                  <a:lnTo>
                    <a:pt x="2906" y="171"/>
                  </a:lnTo>
                  <a:lnTo>
                    <a:pt x="2906" y="183"/>
                  </a:lnTo>
                  <a:lnTo>
                    <a:pt x="2906" y="194"/>
                  </a:lnTo>
                  <a:lnTo>
                    <a:pt x="2908" y="206"/>
                  </a:lnTo>
                  <a:lnTo>
                    <a:pt x="2910" y="217"/>
                  </a:lnTo>
                  <a:lnTo>
                    <a:pt x="2914" y="227"/>
                  </a:lnTo>
                  <a:lnTo>
                    <a:pt x="2919" y="237"/>
                  </a:lnTo>
                  <a:lnTo>
                    <a:pt x="2919" y="247"/>
                  </a:lnTo>
                  <a:lnTo>
                    <a:pt x="2914" y="250"/>
                  </a:lnTo>
                  <a:lnTo>
                    <a:pt x="2909" y="250"/>
                  </a:lnTo>
                  <a:lnTo>
                    <a:pt x="2905" y="249"/>
                  </a:lnTo>
                  <a:lnTo>
                    <a:pt x="2901" y="247"/>
                  </a:lnTo>
                  <a:lnTo>
                    <a:pt x="2897" y="243"/>
                  </a:lnTo>
                  <a:lnTo>
                    <a:pt x="2894" y="241"/>
                  </a:lnTo>
                  <a:lnTo>
                    <a:pt x="2890" y="237"/>
                  </a:lnTo>
                  <a:lnTo>
                    <a:pt x="2888" y="234"/>
                  </a:lnTo>
                  <a:lnTo>
                    <a:pt x="2885" y="223"/>
                  </a:lnTo>
                  <a:lnTo>
                    <a:pt x="2884" y="211"/>
                  </a:lnTo>
                  <a:lnTo>
                    <a:pt x="2882" y="199"/>
                  </a:lnTo>
                  <a:lnTo>
                    <a:pt x="2884" y="187"/>
                  </a:lnTo>
                  <a:lnTo>
                    <a:pt x="2884" y="175"/>
                  </a:lnTo>
                  <a:lnTo>
                    <a:pt x="2882" y="163"/>
                  </a:lnTo>
                  <a:lnTo>
                    <a:pt x="2881" y="151"/>
                  </a:lnTo>
                  <a:lnTo>
                    <a:pt x="2878" y="140"/>
                  </a:lnTo>
                  <a:lnTo>
                    <a:pt x="2523" y="140"/>
                  </a:lnTo>
                  <a:lnTo>
                    <a:pt x="2510" y="158"/>
                  </a:lnTo>
                  <a:lnTo>
                    <a:pt x="2511" y="171"/>
                  </a:lnTo>
                  <a:lnTo>
                    <a:pt x="2511" y="186"/>
                  </a:lnTo>
                  <a:lnTo>
                    <a:pt x="2510" y="201"/>
                  </a:lnTo>
                  <a:lnTo>
                    <a:pt x="2510" y="215"/>
                  </a:lnTo>
                  <a:lnTo>
                    <a:pt x="2510" y="229"/>
                  </a:lnTo>
                  <a:lnTo>
                    <a:pt x="2511" y="243"/>
                  </a:lnTo>
                  <a:lnTo>
                    <a:pt x="2515" y="255"/>
                  </a:lnTo>
                  <a:lnTo>
                    <a:pt x="2521" y="268"/>
                  </a:lnTo>
                  <a:lnTo>
                    <a:pt x="2519" y="269"/>
                  </a:lnTo>
                  <a:lnTo>
                    <a:pt x="2519" y="272"/>
                  </a:lnTo>
                  <a:lnTo>
                    <a:pt x="2518" y="273"/>
                  </a:lnTo>
                  <a:lnTo>
                    <a:pt x="2517" y="276"/>
                  </a:lnTo>
                  <a:lnTo>
                    <a:pt x="2515" y="277"/>
                  </a:lnTo>
                  <a:lnTo>
                    <a:pt x="2514" y="278"/>
                  </a:lnTo>
                  <a:lnTo>
                    <a:pt x="2513" y="280"/>
                  </a:lnTo>
                  <a:lnTo>
                    <a:pt x="2510" y="281"/>
                  </a:lnTo>
                  <a:lnTo>
                    <a:pt x="2507" y="281"/>
                  </a:lnTo>
                  <a:lnTo>
                    <a:pt x="2505" y="281"/>
                  </a:lnTo>
                  <a:lnTo>
                    <a:pt x="2502" y="280"/>
                  </a:lnTo>
                  <a:lnTo>
                    <a:pt x="2499" y="278"/>
                  </a:lnTo>
                  <a:lnTo>
                    <a:pt x="2496" y="276"/>
                  </a:lnTo>
                  <a:lnTo>
                    <a:pt x="2494" y="274"/>
                  </a:lnTo>
                  <a:lnTo>
                    <a:pt x="2492" y="272"/>
                  </a:lnTo>
                  <a:lnTo>
                    <a:pt x="2490" y="270"/>
                  </a:lnTo>
                  <a:lnTo>
                    <a:pt x="2488" y="253"/>
                  </a:lnTo>
                  <a:lnTo>
                    <a:pt x="2488" y="237"/>
                  </a:lnTo>
                  <a:lnTo>
                    <a:pt x="2487" y="221"/>
                  </a:lnTo>
                  <a:lnTo>
                    <a:pt x="2487" y="205"/>
                  </a:lnTo>
                  <a:lnTo>
                    <a:pt x="2487" y="189"/>
                  </a:lnTo>
                  <a:lnTo>
                    <a:pt x="2487" y="172"/>
                  </a:lnTo>
                  <a:lnTo>
                    <a:pt x="2488" y="156"/>
                  </a:lnTo>
                  <a:lnTo>
                    <a:pt x="2490" y="140"/>
                  </a:lnTo>
                  <a:lnTo>
                    <a:pt x="2467" y="136"/>
                  </a:lnTo>
                  <a:lnTo>
                    <a:pt x="2443" y="135"/>
                  </a:lnTo>
                  <a:lnTo>
                    <a:pt x="2419" y="135"/>
                  </a:lnTo>
                  <a:lnTo>
                    <a:pt x="2395" y="135"/>
                  </a:lnTo>
                  <a:lnTo>
                    <a:pt x="2372" y="136"/>
                  </a:lnTo>
                  <a:lnTo>
                    <a:pt x="2348" y="136"/>
                  </a:lnTo>
                  <a:lnTo>
                    <a:pt x="2324" y="136"/>
                  </a:lnTo>
                  <a:lnTo>
                    <a:pt x="2301" y="135"/>
                  </a:lnTo>
                  <a:lnTo>
                    <a:pt x="2121" y="135"/>
                  </a:lnTo>
                  <a:lnTo>
                    <a:pt x="2117" y="140"/>
                  </a:lnTo>
                  <a:lnTo>
                    <a:pt x="2119" y="156"/>
                  </a:lnTo>
                  <a:lnTo>
                    <a:pt x="2119" y="174"/>
                  </a:lnTo>
                  <a:lnTo>
                    <a:pt x="2120" y="191"/>
                  </a:lnTo>
                  <a:lnTo>
                    <a:pt x="2120" y="210"/>
                  </a:lnTo>
                  <a:lnTo>
                    <a:pt x="2120" y="227"/>
                  </a:lnTo>
                  <a:lnTo>
                    <a:pt x="2120" y="246"/>
                  </a:lnTo>
                  <a:lnTo>
                    <a:pt x="2120" y="265"/>
                  </a:lnTo>
                  <a:lnTo>
                    <a:pt x="2120" y="282"/>
                  </a:lnTo>
                  <a:lnTo>
                    <a:pt x="2116" y="284"/>
                  </a:lnTo>
                  <a:lnTo>
                    <a:pt x="2112" y="284"/>
                  </a:lnTo>
                  <a:lnTo>
                    <a:pt x="2109" y="282"/>
                  </a:lnTo>
                  <a:lnTo>
                    <a:pt x="2105" y="282"/>
                  </a:lnTo>
                  <a:lnTo>
                    <a:pt x="2103" y="281"/>
                  </a:lnTo>
                  <a:lnTo>
                    <a:pt x="2100" y="280"/>
                  </a:lnTo>
                  <a:lnTo>
                    <a:pt x="2097" y="277"/>
                  </a:lnTo>
                  <a:lnTo>
                    <a:pt x="2095" y="276"/>
                  </a:lnTo>
                  <a:lnTo>
                    <a:pt x="2095" y="138"/>
                  </a:lnTo>
                  <a:lnTo>
                    <a:pt x="2057" y="138"/>
                  </a:lnTo>
                  <a:lnTo>
                    <a:pt x="2021" y="136"/>
                  </a:lnTo>
                  <a:lnTo>
                    <a:pt x="1985" y="136"/>
                  </a:lnTo>
                  <a:lnTo>
                    <a:pt x="1949" y="136"/>
                  </a:lnTo>
                  <a:lnTo>
                    <a:pt x="1914" y="135"/>
                  </a:lnTo>
                  <a:lnTo>
                    <a:pt x="1878" y="134"/>
                  </a:lnTo>
                  <a:lnTo>
                    <a:pt x="1840" y="132"/>
                  </a:lnTo>
                  <a:lnTo>
                    <a:pt x="1802" y="130"/>
                  </a:lnTo>
                  <a:lnTo>
                    <a:pt x="1785" y="131"/>
                  </a:lnTo>
                  <a:lnTo>
                    <a:pt x="1768" y="132"/>
                  </a:lnTo>
                  <a:lnTo>
                    <a:pt x="1750" y="132"/>
                  </a:lnTo>
                  <a:lnTo>
                    <a:pt x="1734" y="132"/>
                  </a:lnTo>
                  <a:lnTo>
                    <a:pt x="1717" y="132"/>
                  </a:lnTo>
                  <a:lnTo>
                    <a:pt x="1701" y="134"/>
                  </a:lnTo>
                  <a:lnTo>
                    <a:pt x="1683" y="134"/>
                  </a:lnTo>
                  <a:lnTo>
                    <a:pt x="1666" y="135"/>
                  </a:lnTo>
                  <a:lnTo>
                    <a:pt x="1663" y="143"/>
                  </a:lnTo>
                  <a:lnTo>
                    <a:pt x="1662" y="152"/>
                  </a:lnTo>
                  <a:lnTo>
                    <a:pt x="1663" y="162"/>
                  </a:lnTo>
                  <a:lnTo>
                    <a:pt x="1663" y="171"/>
                  </a:lnTo>
                  <a:lnTo>
                    <a:pt x="1664" y="181"/>
                  </a:lnTo>
                  <a:lnTo>
                    <a:pt x="1666" y="190"/>
                  </a:lnTo>
                  <a:lnTo>
                    <a:pt x="1667" y="199"/>
                  </a:lnTo>
                  <a:lnTo>
                    <a:pt x="1668" y="209"/>
                  </a:lnTo>
                  <a:lnTo>
                    <a:pt x="1668" y="213"/>
                  </a:lnTo>
                  <a:lnTo>
                    <a:pt x="1668" y="218"/>
                  </a:lnTo>
                  <a:lnTo>
                    <a:pt x="1670" y="222"/>
                  </a:lnTo>
                  <a:lnTo>
                    <a:pt x="1671" y="227"/>
                  </a:lnTo>
                  <a:lnTo>
                    <a:pt x="1674" y="231"/>
                  </a:lnTo>
                  <a:lnTo>
                    <a:pt x="1677" y="237"/>
                  </a:lnTo>
                  <a:lnTo>
                    <a:pt x="1681" y="239"/>
                  </a:lnTo>
                  <a:lnTo>
                    <a:pt x="1686" y="242"/>
                  </a:lnTo>
                  <a:lnTo>
                    <a:pt x="1686" y="245"/>
                  </a:lnTo>
                  <a:lnTo>
                    <a:pt x="1686" y="246"/>
                  </a:lnTo>
                  <a:lnTo>
                    <a:pt x="1686" y="249"/>
                  </a:lnTo>
                  <a:lnTo>
                    <a:pt x="1685" y="250"/>
                  </a:lnTo>
                  <a:lnTo>
                    <a:pt x="1683" y="251"/>
                  </a:lnTo>
                  <a:lnTo>
                    <a:pt x="1682" y="253"/>
                  </a:lnTo>
                  <a:lnTo>
                    <a:pt x="1679" y="254"/>
                  </a:lnTo>
                  <a:lnTo>
                    <a:pt x="1678" y="254"/>
                  </a:lnTo>
                  <a:lnTo>
                    <a:pt x="1674" y="255"/>
                  </a:lnTo>
                  <a:lnTo>
                    <a:pt x="1670" y="255"/>
                  </a:lnTo>
                  <a:lnTo>
                    <a:pt x="1667" y="254"/>
                  </a:lnTo>
                  <a:lnTo>
                    <a:pt x="1664" y="253"/>
                  </a:lnTo>
                  <a:lnTo>
                    <a:pt x="1660" y="250"/>
                  </a:lnTo>
                  <a:lnTo>
                    <a:pt x="1658" y="249"/>
                  </a:lnTo>
                  <a:lnTo>
                    <a:pt x="1655" y="246"/>
                  </a:lnTo>
                  <a:lnTo>
                    <a:pt x="1652" y="245"/>
                  </a:lnTo>
                  <a:lnTo>
                    <a:pt x="1650" y="238"/>
                  </a:lnTo>
                  <a:lnTo>
                    <a:pt x="1647" y="231"/>
                  </a:lnTo>
                  <a:lnTo>
                    <a:pt x="1646" y="225"/>
                  </a:lnTo>
                  <a:lnTo>
                    <a:pt x="1644" y="217"/>
                  </a:lnTo>
                  <a:lnTo>
                    <a:pt x="1643" y="202"/>
                  </a:lnTo>
                  <a:lnTo>
                    <a:pt x="1643" y="187"/>
                  </a:lnTo>
                  <a:lnTo>
                    <a:pt x="1643" y="171"/>
                  </a:lnTo>
                  <a:lnTo>
                    <a:pt x="1640" y="158"/>
                  </a:lnTo>
                  <a:lnTo>
                    <a:pt x="1638" y="151"/>
                  </a:lnTo>
                  <a:lnTo>
                    <a:pt x="1635" y="144"/>
                  </a:lnTo>
                  <a:lnTo>
                    <a:pt x="1631" y="138"/>
                  </a:lnTo>
                  <a:lnTo>
                    <a:pt x="1627" y="132"/>
                  </a:lnTo>
                  <a:lnTo>
                    <a:pt x="1575" y="132"/>
                  </a:lnTo>
                  <a:lnTo>
                    <a:pt x="1522" y="132"/>
                  </a:lnTo>
                  <a:lnTo>
                    <a:pt x="1472" y="132"/>
                  </a:lnTo>
                  <a:lnTo>
                    <a:pt x="1422" y="134"/>
                  </a:lnTo>
                  <a:lnTo>
                    <a:pt x="1371" y="136"/>
                  </a:lnTo>
                  <a:lnTo>
                    <a:pt x="1321" y="139"/>
                  </a:lnTo>
                  <a:lnTo>
                    <a:pt x="1271" y="143"/>
                  </a:lnTo>
                  <a:lnTo>
                    <a:pt x="1221" y="147"/>
                  </a:lnTo>
                  <a:lnTo>
                    <a:pt x="1216" y="155"/>
                  </a:lnTo>
                  <a:lnTo>
                    <a:pt x="1217" y="172"/>
                  </a:lnTo>
                  <a:lnTo>
                    <a:pt x="1217" y="191"/>
                  </a:lnTo>
                  <a:lnTo>
                    <a:pt x="1216" y="209"/>
                  </a:lnTo>
                  <a:lnTo>
                    <a:pt x="1214" y="227"/>
                  </a:lnTo>
                  <a:lnTo>
                    <a:pt x="1213" y="246"/>
                  </a:lnTo>
                  <a:lnTo>
                    <a:pt x="1213" y="264"/>
                  </a:lnTo>
                  <a:lnTo>
                    <a:pt x="1216" y="281"/>
                  </a:lnTo>
                  <a:lnTo>
                    <a:pt x="1221" y="298"/>
                  </a:lnTo>
                  <a:lnTo>
                    <a:pt x="1218" y="301"/>
                  </a:lnTo>
                  <a:lnTo>
                    <a:pt x="1224" y="305"/>
                  </a:lnTo>
                  <a:lnTo>
                    <a:pt x="1520" y="304"/>
                  </a:lnTo>
                  <a:lnTo>
                    <a:pt x="2132" y="304"/>
                  </a:lnTo>
                  <a:lnTo>
                    <a:pt x="2538" y="301"/>
                  </a:lnTo>
                  <a:lnTo>
                    <a:pt x="2590" y="300"/>
                  </a:lnTo>
                  <a:lnTo>
                    <a:pt x="2643" y="298"/>
                  </a:lnTo>
                  <a:lnTo>
                    <a:pt x="2697" y="298"/>
                  </a:lnTo>
                  <a:lnTo>
                    <a:pt x="2751" y="298"/>
                  </a:lnTo>
                  <a:lnTo>
                    <a:pt x="2806" y="298"/>
                  </a:lnTo>
                  <a:lnTo>
                    <a:pt x="2861" y="298"/>
                  </a:lnTo>
                  <a:lnTo>
                    <a:pt x="2916" y="298"/>
                  </a:lnTo>
                  <a:lnTo>
                    <a:pt x="2969" y="298"/>
                  </a:lnTo>
                  <a:lnTo>
                    <a:pt x="2972" y="298"/>
                  </a:lnTo>
                  <a:lnTo>
                    <a:pt x="2975" y="300"/>
                  </a:lnTo>
                  <a:lnTo>
                    <a:pt x="2977" y="301"/>
                  </a:lnTo>
                  <a:lnTo>
                    <a:pt x="2980" y="302"/>
                  </a:lnTo>
                  <a:lnTo>
                    <a:pt x="2983" y="304"/>
                  </a:lnTo>
                  <a:lnTo>
                    <a:pt x="2985" y="305"/>
                  </a:lnTo>
                  <a:lnTo>
                    <a:pt x="2988" y="306"/>
                  </a:lnTo>
                  <a:lnTo>
                    <a:pt x="2991" y="308"/>
                  </a:lnTo>
                  <a:lnTo>
                    <a:pt x="2991" y="310"/>
                  </a:lnTo>
                  <a:lnTo>
                    <a:pt x="2991" y="313"/>
                  </a:lnTo>
                  <a:lnTo>
                    <a:pt x="2990" y="316"/>
                  </a:lnTo>
                  <a:lnTo>
                    <a:pt x="2988" y="317"/>
                  </a:lnTo>
                  <a:lnTo>
                    <a:pt x="2985" y="318"/>
                  </a:lnTo>
                  <a:lnTo>
                    <a:pt x="2984" y="320"/>
                  </a:lnTo>
                  <a:lnTo>
                    <a:pt x="2983" y="321"/>
                  </a:lnTo>
                  <a:lnTo>
                    <a:pt x="2980" y="321"/>
                  </a:lnTo>
                  <a:lnTo>
                    <a:pt x="2814" y="326"/>
                  </a:lnTo>
                  <a:lnTo>
                    <a:pt x="2814" y="338"/>
                  </a:lnTo>
                  <a:lnTo>
                    <a:pt x="2814" y="351"/>
                  </a:lnTo>
                  <a:lnTo>
                    <a:pt x="2814" y="364"/>
                  </a:lnTo>
                  <a:lnTo>
                    <a:pt x="2815" y="377"/>
                  </a:lnTo>
                  <a:lnTo>
                    <a:pt x="2817" y="389"/>
                  </a:lnTo>
                  <a:lnTo>
                    <a:pt x="2818" y="403"/>
                  </a:lnTo>
                  <a:lnTo>
                    <a:pt x="2821" y="416"/>
                  </a:lnTo>
                  <a:lnTo>
                    <a:pt x="2825" y="428"/>
                  </a:lnTo>
                  <a:lnTo>
                    <a:pt x="2825" y="435"/>
                  </a:lnTo>
                  <a:lnTo>
                    <a:pt x="2825" y="440"/>
                  </a:lnTo>
                  <a:lnTo>
                    <a:pt x="2825" y="444"/>
                  </a:lnTo>
                  <a:lnTo>
                    <a:pt x="2825" y="448"/>
                  </a:lnTo>
                  <a:lnTo>
                    <a:pt x="2825" y="452"/>
                  </a:lnTo>
                  <a:lnTo>
                    <a:pt x="2825" y="456"/>
                  </a:lnTo>
                  <a:lnTo>
                    <a:pt x="2826" y="462"/>
                  </a:lnTo>
                  <a:lnTo>
                    <a:pt x="2827" y="470"/>
                  </a:lnTo>
                  <a:lnTo>
                    <a:pt x="2829" y="471"/>
                  </a:lnTo>
                  <a:lnTo>
                    <a:pt x="2831" y="474"/>
                  </a:lnTo>
                  <a:lnTo>
                    <a:pt x="2833" y="476"/>
                  </a:lnTo>
                  <a:lnTo>
                    <a:pt x="2834" y="479"/>
                  </a:lnTo>
                  <a:lnTo>
                    <a:pt x="2834" y="482"/>
                  </a:lnTo>
                  <a:lnTo>
                    <a:pt x="2835" y="484"/>
                  </a:lnTo>
                  <a:lnTo>
                    <a:pt x="2837" y="487"/>
                  </a:lnTo>
                  <a:lnTo>
                    <a:pt x="2838" y="490"/>
                  </a:lnTo>
                  <a:lnTo>
                    <a:pt x="2831" y="491"/>
                  </a:lnTo>
                  <a:lnTo>
                    <a:pt x="2825" y="492"/>
                  </a:lnTo>
                  <a:lnTo>
                    <a:pt x="2819" y="491"/>
                  </a:lnTo>
                  <a:lnTo>
                    <a:pt x="2814" y="490"/>
                  </a:lnTo>
                  <a:lnTo>
                    <a:pt x="2809" y="487"/>
                  </a:lnTo>
                  <a:lnTo>
                    <a:pt x="2805" y="483"/>
                  </a:lnTo>
                  <a:lnTo>
                    <a:pt x="2801" y="478"/>
                  </a:lnTo>
                  <a:lnTo>
                    <a:pt x="2799" y="472"/>
                  </a:lnTo>
                  <a:lnTo>
                    <a:pt x="2797" y="455"/>
                  </a:lnTo>
                  <a:lnTo>
                    <a:pt x="2795" y="438"/>
                  </a:lnTo>
                  <a:lnTo>
                    <a:pt x="2794" y="420"/>
                  </a:lnTo>
                  <a:lnTo>
                    <a:pt x="2793" y="403"/>
                  </a:lnTo>
                  <a:lnTo>
                    <a:pt x="2791" y="384"/>
                  </a:lnTo>
                  <a:lnTo>
                    <a:pt x="2791" y="365"/>
                  </a:lnTo>
                  <a:lnTo>
                    <a:pt x="2790" y="347"/>
                  </a:lnTo>
                  <a:lnTo>
                    <a:pt x="2789" y="329"/>
                  </a:lnTo>
                  <a:lnTo>
                    <a:pt x="2783" y="324"/>
                  </a:lnTo>
                  <a:lnTo>
                    <a:pt x="2707" y="322"/>
                  </a:lnTo>
                  <a:lnTo>
                    <a:pt x="2628" y="322"/>
                  </a:lnTo>
                  <a:lnTo>
                    <a:pt x="2549" y="324"/>
                  </a:lnTo>
                  <a:lnTo>
                    <a:pt x="2468" y="326"/>
                  </a:lnTo>
                  <a:lnTo>
                    <a:pt x="2388" y="328"/>
                  </a:lnTo>
                  <a:lnTo>
                    <a:pt x="2308" y="330"/>
                  </a:lnTo>
                  <a:lnTo>
                    <a:pt x="2229" y="332"/>
                  </a:lnTo>
                  <a:lnTo>
                    <a:pt x="2151" y="332"/>
                  </a:lnTo>
                  <a:lnTo>
                    <a:pt x="1520" y="332"/>
                  </a:lnTo>
                  <a:lnTo>
                    <a:pt x="1516" y="341"/>
                  </a:lnTo>
                  <a:lnTo>
                    <a:pt x="1514" y="351"/>
                  </a:lnTo>
                  <a:lnTo>
                    <a:pt x="1514" y="361"/>
                  </a:lnTo>
                  <a:lnTo>
                    <a:pt x="1514" y="371"/>
                  </a:lnTo>
                  <a:lnTo>
                    <a:pt x="1514" y="381"/>
                  </a:lnTo>
                  <a:lnTo>
                    <a:pt x="1514" y="392"/>
                  </a:lnTo>
                  <a:lnTo>
                    <a:pt x="1514" y="403"/>
                  </a:lnTo>
                  <a:lnTo>
                    <a:pt x="1514" y="416"/>
                  </a:lnTo>
                  <a:lnTo>
                    <a:pt x="1517" y="422"/>
                  </a:lnTo>
                  <a:lnTo>
                    <a:pt x="1520" y="427"/>
                  </a:lnTo>
                  <a:lnTo>
                    <a:pt x="1520" y="432"/>
                  </a:lnTo>
                  <a:lnTo>
                    <a:pt x="1520" y="438"/>
                  </a:lnTo>
                  <a:lnTo>
                    <a:pt x="1520" y="443"/>
                  </a:lnTo>
                  <a:lnTo>
                    <a:pt x="1520" y="448"/>
                  </a:lnTo>
                  <a:lnTo>
                    <a:pt x="1521" y="454"/>
                  </a:lnTo>
                  <a:lnTo>
                    <a:pt x="1525" y="459"/>
                  </a:lnTo>
                  <a:lnTo>
                    <a:pt x="1526" y="464"/>
                  </a:lnTo>
                  <a:lnTo>
                    <a:pt x="1529" y="470"/>
                  </a:lnTo>
                  <a:lnTo>
                    <a:pt x="1533" y="476"/>
                  </a:lnTo>
                  <a:lnTo>
                    <a:pt x="1537" y="482"/>
                  </a:lnTo>
                  <a:lnTo>
                    <a:pt x="1540" y="487"/>
                  </a:lnTo>
                  <a:lnTo>
                    <a:pt x="1540" y="492"/>
                  </a:lnTo>
                  <a:lnTo>
                    <a:pt x="1540" y="495"/>
                  </a:lnTo>
                  <a:lnTo>
                    <a:pt x="1539" y="498"/>
                  </a:lnTo>
                  <a:lnTo>
                    <a:pt x="1536" y="500"/>
                  </a:lnTo>
                  <a:lnTo>
                    <a:pt x="1532" y="503"/>
                  </a:lnTo>
                  <a:lnTo>
                    <a:pt x="1522" y="502"/>
                  </a:lnTo>
                  <a:lnTo>
                    <a:pt x="1516" y="499"/>
                  </a:lnTo>
                  <a:lnTo>
                    <a:pt x="1509" y="496"/>
                  </a:lnTo>
                  <a:lnTo>
                    <a:pt x="1505" y="492"/>
                  </a:lnTo>
                  <a:lnTo>
                    <a:pt x="1501" y="487"/>
                  </a:lnTo>
                  <a:lnTo>
                    <a:pt x="1498" y="482"/>
                  </a:lnTo>
                  <a:lnTo>
                    <a:pt x="1497" y="476"/>
                  </a:lnTo>
                  <a:lnTo>
                    <a:pt x="1497" y="470"/>
                  </a:lnTo>
                  <a:lnTo>
                    <a:pt x="1496" y="455"/>
                  </a:lnTo>
                  <a:lnTo>
                    <a:pt x="1496" y="439"/>
                  </a:lnTo>
                  <a:lnTo>
                    <a:pt x="1494" y="424"/>
                  </a:lnTo>
                  <a:lnTo>
                    <a:pt x="1492" y="411"/>
                  </a:lnTo>
                  <a:lnTo>
                    <a:pt x="1486" y="334"/>
                  </a:lnTo>
                  <a:lnTo>
                    <a:pt x="1421" y="330"/>
                  </a:lnTo>
                  <a:lnTo>
                    <a:pt x="1355" y="329"/>
                  </a:lnTo>
                  <a:lnTo>
                    <a:pt x="1289" y="329"/>
                  </a:lnTo>
                  <a:lnTo>
                    <a:pt x="1224" y="329"/>
                  </a:lnTo>
                  <a:lnTo>
                    <a:pt x="1158" y="330"/>
                  </a:lnTo>
                  <a:lnTo>
                    <a:pt x="1092" y="332"/>
                  </a:lnTo>
                  <a:lnTo>
                    <a:pt x="1027" y="333"/>
                  </a:lnTo>
                  <a:lnTo>
                    <a:pt x="960" y="334"/>
                  </a:lnTo>
                  <a:lnTo>
                    <a:pt x="953" y="332"/>
                  </a:lnTo>
                  <a:lnTo>
                    <a:pt x="944" y="332"/>
                  </a:lnTo>
                  <a:lnTo>
                    <a:pt x="936" y="332"/>
                  </a:lnTo>
                  <a:lnTo>
                    <a:pt x="926" y="333"/>
                  </a:lnTo>
                  <a:lnTo>
                    <a:pt x="917" y="333"/>
                  </a:lnTo>
                  <a:lnTo>
                    <a:pt x="908" y="334"/>
                  </a:lnTo>
                  <a:lnTo>
                    <a:pt x="898" y="334"/>
                  </a:lnTo>
                  <a:lnTo>
                    <a:pt x="889" y="334"/>
                  </a:lnTo>
                  <a:lnTo>
                    <a:pt x="465" y="332"/>
                  </a:lnTo>
                  <a:lnTo>
                    <a:pt x="432" y="330"/>
                  </a:lnTo>
                  <a:lnTo>
                    <a:pt x="398" y="329"/>
                  </a:lnTo>
                  <a:lnTo>
                    <a:pt x="365" y="329"/>
                  </a:lnTo>
                  <a:lnTo>
                    <a:pt x="331" y="329"/>
                  </a:lnTo>
                  <a:lnTo>
                    <a:pt x="298" y="329"/>
                  </a:lnTo>
                  <a:lnTo>
                    <a:pt x="264" y="329"/>
                  </a:lnTo>
                  <a:lnTo>
                    <a:pt x="232" y="329"/>
                  </a:lnTo>
                  <a:lnTo>
                    <a:pt x="200" y="329"/>
                  </a:lnTo>
                  <a:lnTo>
                    <a:pt x="195" y="333"/>
                  </a:lnTo>
                  <a:lnTo>
                    <a:pt x="192" y="338"/>
                  </a:lnTo>
                  <a:lnTo>
                    <a:pt x="192" y="344"/>
                  </a:lnTo>
                  <a:lnTo>
                    <a:pt x="192" y="349"/>
                  </a:lnTo>
                  <a:lnTo>
                    <a:pt x="192" y="356"/>
                  </a:lnTo>
                  <a:lnTo>
                    <a:pt x="191" y="361"/>
                  </a:lnTo>
                  <a:lnTo>
                    <a:pt x="188" y="365"/>
                  </a:lnTo>
                  <a:lnTo>
                    <a:pt x="184" y="369"/>
                  </a:lnTo>
                  <a:lnTo>
                    <a:pt x="184" y="385"/>
                  </a:lnTo>
                  <a:lnTo>
                    <a:pt x="185" y="403"/>
                  </a:lnTo>
                  <a:lnTo>
                    <a:pt x="187" y="419"/>
                  </a:lnTo>
                  <a:lnTo>
                    <a:pt x="189" y="436"/>
                  </a:lnTo>
                  <a:lnTo>
                    <a:pt x="191" y="452"/>
                  </a:lnTo>
                  <a:lnTo>
                    <a:pt x="192" y="470"/>
                  </a:lnTo>
                  <a:lnTo>
                    <a:pt x="193" y="486"/>
                  </a:lnTo>
                  <a:lnTo>
                    <a:pt x="192" y="503"/>
                  </a:lnTo>
                  <a:lnTo>
                    <a:pt x="195" y="506"/>
                  </a:lnTo>
                  <a:lnTo>
                    <a:pt x="196" y="509"/>
                  </a:lnTo>
                  <a:lnTo>
                    <a:pt x="199" y="511"/>
                  </a:lnTo>
                  <a:lnTo>
                    <a:pt x="199" y="514"/>
                  </a:lnTo>
                  <a:lnTo>
                    <a:pt x="200" y="518"/>
                  </a:lnTo>
                  <a:lnTo>
                    <a:pt x="199" y="521"/>
                  </a:lnTo>
                  <a:lnTo>
                    <a:pt x="199" y="525"/>
                  </a:lnTo>
                  <a:lnTo>
                    <a:pt x="197" y="527"/>
                  </a:lnTo>
                  <a:lnTo>
                    <a:pt x="246" y="530"/>
                  </a:lnTo>
                  <a:lnTo>
                    <a:pt x="295" y="530"/>
                  </a:lnTo>
                  <a:lnTo>
                    <a:pt x="343" y="530"/>
                  </a:lnTo>
                  <a:lnTo>
                    <a:pt x="393" y="530"/>
                  </a:lnTo>
                  <a:lnTo>
                    <a:pt x="441" y="529"/>
                  </a:lnTo>
                  <a:lnTo>
                    <a:pt x="491" y="527"/>
                  </a:lnTo>
                  <a:lnTo>
                    <a:pt x="539" y="525"/>
                  </a:lnTo>
                  <a:lnTo>
                    <a:pt x="587" y="523"/>
                  </a:lnTo>
                  <a:lnTo>
                    <a:pt x="589" y="502"/>
                  </a:lnTo>
                  <a:lnTo>
                    <a:pt x="590" y="479"/>
                  </a:lnTo>
                  <a:lnTo>
                    <a:pt x="591" y="458"/>
                  </a:lnTo>
                  <a:lnTo>
                    <a:pt x="591" y="435"/>
                  </a:lnTo>
                  <a:lnTo>
                    <a:pt x="593" y="412"/>
                  </a:lnTo>
                  <a:lnTo>
                    <a:pt x="593" y="389"/>
                  </a:lnTo>
                  <a:lnTo>
                    <a:pt x="593" y="368"/>
                  </a:lnTo>
                  <a:lnTo>
                    <a:pt x="590" y="347"/>
                  </a:lnTo>
                  <a:lnTo>
                    <a:pt x="593" y="345"/>
                  </a:lnTo>
                  <a:lnTo>
                    <a:pt x="594" y="344"/>
                  </a:lnTo>
                  <a:lnTo>
                    <a:pt x="597" y="343"/>
                  </a:lnTo>
                  <a:lnTo>
                    <a:pt x="599" y="343"/>
                  </a:lnTo>
                  <a:lnTo>
                    <a:pt x="602" y="341"/>
                  </a:lnTo>
                  <a:lnTo>
                    <a:pt x="605" y="341"/>
                  </a:lnTo>
                  <a:lnTo>
                    <a:pt x="607" y="341"/>
                  </a:lnTo>
                  <a:lnTo>
                    <a:pt x="610" y="341"/>
                  </a:lnTo>
                  <a:lnTo>
                    <a:pt x="615" y="347"/>
                  </a:lnTo>
                  <a:lnTo>
                    <a:pt x="614" y="368"/>
                  </a:lnTo>
                  <a:lnTo>
                    <a:pt x="614" y="388"/>
                  </a:lnTo>
                  <a:lnTo>
                    <a:pt x="614" y="408"/>
                  </a:lnTo>
                  <a:lnTo>
                    <a:pt x="617" y="428"/>
                  </a:lnTo>
                  <a:lnTo>
                    <a:pt x="618" y="448"/>
                  </a:lnTo>
                  <a:lnTo>
                    <a:pt x="619" y="468"/>
                  </a:lnTo>
                  <a:lnTo>
                    <a:pt x="619" y="490"/>
                  </a:lnTo>
                  <a:lnTo>
                    <a:pt x="618" y="513"/>
                  </a:lnTo>
                  <a:lnTo>
                    <a:pt x="629" y="523"/>
                  </a:lnTo>
                  <a:lnTo>
                    <a:pt x="1027" y="523"/>
                  </a:lnTo>
                  <a:lnTo>
                    <a:pt x="1032" y="515"/>
                  </a:lnTo>
                  <a:lnTo>
                    <a:pt x="1032" y="494"/>
                  </a:lnTo>
                  <a:lnTo>
                    <a:pt x="1032" y="474"/>
                  </a:lnTo>
                  <a:lnTo>
                    <a:pt x="1032" y="454"/>
                  </a:lnTo>
                  <a:lnTo>
                    <a:pt x="1031" y="432"/>
                  </a:lnTo>
                  <a:lnTo>
                    <a:pt x="1029" y="412"/>
                  </a:lnTo>
                  <a:lnTo>
                    <a:pt x="1028" y="392"/>
                  </a:lnTo>
                  <a:lnTo>
                    <a:pt x="1028" y="372"/>
                  </a:lnTo>
                  <a:lnTo>
                    <a:pt x="1027" y="352"/>
                  </a:lnTo>
                  <a:lnTo>
                    <a:pt x="1028" y="349"/>
                  </a:lnTo>
                  <a:lnTo>
                    <a:pt x="1031" y="348"/>
                  </a:lnTo>
                  <a:lnTo>
                    <a:pt x="1033" y="347"/>
                  </a:lnTo>
                  <a:lnTo>
                    <a:pt x="1036" y="345"/>
                  </a:lnTo>
                  <a:lnTo>
                    <a:pt x="1039" y="344"/>
                  </a:lnTo>
                  <a:lnTo>
                    <a:pt x="1041" y="344"/>
                  </a:lnTo>
                  <a:lnTo>
                    <a:pt x="1044" y="345"/>
                  </a:lnTo>
                  <a:lnTo>
                    <a:pt x="1047" y="347"/>
                  </a:lnTo>
                  <a:lnTo>
                    <a:pt x="1052" y="352"/>
                  </a:lnTo>
                  <a:lnTo>
                    <a:pt x="1054" y="373"/>
                  </a:lnTo>
                  <a:lnTo>
                    <a:pt x="1055" y="396"/>
                  </a:lnTo>
                  <a:lnTo>
                    <a:pt x="1055" y="417"/>
                  </a:lnTo>
                  <a:lnTo>
                    <a:pt x="1056" y="439"/>
                  </a:lnTo>
                  <a:lnTo>
                    <a:pt x="1058" y="459"/>
                  </a:lnTo>
                  <a:lnTo>
                    <a:pt x="1059" y="480"/>
                  </a:lnTo>
                  <a:lnTo>
                    <a:pt x="1062" y="500"/>
                  </a:lnTo>
                  <a:lnTo>
                    <a:pt x="1066" y="521"/>
                  </a:lnTo>
                  <a:lnTo>
                    <a:pt x="1103" y="526"/>
                  </a:lnTo>
                  <a:lnTo>
                    <a:pt x="1494" y="521"/>
                  </a:lnTo>
                  <a:lnTo>
                    <a:pt x="1543" y="521"/>
                  </a:lnTo>
                  <a:lnTo>
                    <a:pt x="1592" y="521"/>
                  </a:lnTo>
                  <a:lnTo>
                    <a:pt x="1642" y="521"/>
                  </a:lnTo>
                  <a:lnTo>
                    <a:pt x="1691" y="519"/>
                  </a:lnTo>
                  <a:lnTo>
                    <a:pt x="1741" y="518"/>
                  </a:lnTo>
                  <a:lnTo>
                    <a:pt x="1789" y="517"/>
                  </a:lnTo>
                  <a:lnTo>
                    <a:pt x="1839" y="515"/>
                  </a:lnTo>
                  <a:lnTo>
                    <a:pt x="1887" y="513"/>
                  </a:lnTo>
                  <a:lnTo>
                    <a:pt x="1887" y="494"/>
                  </a:lnTo>
                  <a:lnTo>
                    <a:pt x="1886" y="475"/>
                  </a:lnTo>
                  <a:lnTo>
                    <a:pt x="1884" y="456"/>
                  </a:lnTo>
                  <a:lnTo>
                    <a:pt x="1883" y="438"/>
                  </a:lnTo>
                  <a:lnTo>
                    <a:pt x="1882" y="417"/>
                  </a:lnTo>
                  <a:lnTo>
                    <a:pt x="1880" y="399"/>
                  </a:lnTo>
                  <a:lnTo>
                    <a:pt x="1879" y="380"/>
                  </a:lnTo>
                  <a:lnTo>
                    <a:pt x="1876" y="359"/>
                  </a:lnTo>
                  <a:lnTo>
                    <a:pt x="1879" y="357"/>
                  </a:lnTo>
                  <a:lnTo>
                    <a:pt x="1882" y="356"/>
                  </a:lnTo>
                  <a:lnTo>
                    <a:pt x="1884" y="356"/>
                  </a:lnTo>
                  <a:lnTo>
                    <a:pt x="1887" y="355"/>
                  </a:lnTo>
                  <a:lnTo>
                    <a:pt x="1890" y="355"/>
                  </a:lnTo>
                  <a:lnTo>
                    <a:pt x="1892" y="355"/>
                  </a:lnTo>
                  <a:lnTo>
                    <a:pt x="1895" y="356"/>
                  </a:lnTo>
                  <a:lnTo>
                    <a:pt x="1898" y="357"/>
                  </a:lnTo>
                  <a:lnTo>
                    <a:pt x="1900" y="376"/>
                  </a:lnTo>
                  <a:lnTo>
                    <a:pt x="1902" y="395"/>
                  </a:lnTo>
                  <a:lnTo>
                    <a:pt x="1903" y="415"/>
                  </a:lnTo>
                  <a:lnTo>
                    <a:pt x="1904" y="434"/>
                  </a:lnTo>
                  <a:lnTo>
                    <a:pt x="1907" y="454"/>
                  </a:lnTo>
                  <a:lnTo>
                    <a:pt x="1910" y="474"/>
                  </a:lnTo>
                  <a:lnTo>
                    <a:pt x="1914" y="492"/>
                  </a:lnTo>
                  <a:lnTo>
                    <a:pt x="1920" y="510"/>
                  </a:lnTo>
                  <a:lnTo>
                    <a:pt x="2326" y="510"/>
                  </a:lnTo>
                  <a:lnTo>
                    <a:pt x="2329" y="506"/>
                  </a:lnTo>
                  <a:lnTo>
                    <a:pt x="2330" y="500"/>
                  </a:lnTo>
                  <a:lnTo>
                    <a:pt x="2332" y="495"/>
                  </a:lnTo>
                  <a:lnTo>
                    <a:pt x="2333" y="490"/>
                  </a:lnTo>
                  <a:lnTo>
                    <a:pt x="2334" y="484"/>
                  </a:lnTo>
                  <a:lnTo>
                    <a:pt x="2334" y="479"/>
                  </a:lnTo>
                  <a:lnTo>
                    <a:pt x="2336" y="474"/>
                  </a:lnTo>
                  <a:lnTo>
                    <a:pt x="2337" y="470"/>
                  </a:lnTo>
                  <a:lnTo>
                    <a:pt x="2342" y="347"/>
                  </a:lnTo>
                  <a:lnTo>
                    <a:pt x="2344" y="345"/>
                  </a:lnTo>
                  <a:lnTo>
                    <a:pt x="2346" y="345"/>
                  </a:lnTo>
                  <a:lnTo>
                    <a:pt x="2348" y="344"/>
                  </a:lnTo>
                  <a:lnTo>
                    <a:pt x="2350" y="344"/>
                  </a:lnTo>
                  <a:lnTo>
                    <a:pt x="2353" y="344"/>
                  </a:lnTo>
                  <a:lnTo>
                    <a:pt x="2356" y="344"/>
                  </a:lnTo>
                  <a:lnTo>
                    <a:pt x="2357" y="344"/>
                  </a:lnTo>
                  <a:lnTo>
                    <a:pt x="2360" y="344"/>
                  </a:lnTo>
                  <a:lnTo>
                    <a:pt x="2365" y="349"/>
                  </a:lnTo>
                  <a:lnTo>
                    <a:pt x="2364" y="367"/>
                  </a:lnTo>
                  <a:lnTo>
                    <a:pt x="2362" y="384"/>
                  </a:lnTo>
                  <a:lnTo>
                    <a:pt x="2361" y="404"/>
                  </a:lnTo>
                  <a:lnTo>
                    <a:pt x="2361" y="423"/>
                  </a:lnTo>
                  <a:lnTo>
                    <a:pt x="2360" y="443"/>
                  </a:lnTo>
                  <a:lnTo>
                    <a:pt x="2360" y="462"/>
                  </a:lnTo>
                  <a:lnTo>
                    <a:pt x="2360" y="479"/>
                  </a:lnTo>
                  <a:lnTo>
                    <a:pt x="2362" y="495"/>
                  </a:lnTo>
                  <a:lnTo>
                    <a:pt x="2364" y="496"/>
                  </a:lnTo>
                  <a:lnTo>
                    <a:pt x="2365" y="499"/>
                  </a:lnTo>
                  <a:lnTo>
                    <a:pt x="2367" y="500"/>
                  </a:lnTo>
                  <a:lnTo>
                    <a:pt x="2368" y="502"/>
                  </a:lnTo>
                  <a:lnTo>
                    <a:pt x="2369" y="505"/>
                  </a:lnTo>
                  <a:lnTo>
                    <a:pt x="2371" y="506"/>
                  </a:lnTo>
                  <a:lnTo>
                    <a:pt x="2373" y="509"/>
                  </a:lnTo>
                  <a:lnTo>
                    <a:pt x="2375" y="510"/>
                  </a:lnTo>
                  <a:lnTo>
                    <a:pt x="2452" y="511"/>
                  </a:lnTo>
                  <a:lnTo>
                    <a:pt x="2529" y="511"/>
                  </a:lnTo>
                  <a:lnTo>
                    <a:pt x="2604" y="510"/>
                  </a:lnTo>
                  <a:lnTo>
                    <a:pt x="2679" y="510"/>
                  </a:lnTo>
                  <a:lnTo>
                    <a:pt x="2752" y="509"/>
                  </a:lnTo>
                  <a:lnTo>
                    <a:pt x="2827" y="506"/>
                  </a:lnTo>
                  <a:lnTo>
                    <a:pt x="2904" y="506"/>
                  </a:lnTo>
                  <a:lnTo>
                    <a:pt x="2980" y="505"/>
                  </a:lnTo>
                  <a:lnTo>
                    <a:pt x="3014" y="515"/>
                  </a:lnTo>
                  <a:lnTo>
                    <a:pt x="3011" y="523"/>
                  </a:lnTo>
                  <a:lnTo>
                    <a:pt x="2983" y="527"/>
                  </a:lnTo>
                  <a:lnTo>
                    <a:pt x="2956" y="530"/>
                  </a:lnTo>
                  <a:lnTo>
                    <a:pt x="2928" y="531"/>
                  </a:lnTo>
                  <a:lnTo>
                    <a:pt x="2900" y="531"/>
                  </a:lnTo>
                  <a:lnTo>
                    <a:pt x="2873" y="533"/>
                  </a:lnTo>
                  <a:lnTo>
                    <a:pt x="2845" y="533"/>
                  </a:lnTo>
                  <a:lnTo>
                    <a:pt x="2817" y="533"/>
                  </a:lnTo>
                  <a:lnTo>
                    <a:pt x="2789" y="533"/>
                  </a:lnTo>
                  <a:lnTo>
                    <a:pt x="2787" y="535"/>
                  </a:lnTo>
                  <a:lnTo>
                    <a:pt x="2786" y="537"/>
                  </a:lnTo>
                  <a:lnTo>
                    <a:pt x="2785" y="537"/>
                  </a:lnTo>
                  <a:lnTo>
                    <a:pt x="2783" y="537"/>
                  </a:lnTo>
                  <a:lnTo>
                    <a:pt x="2782" y="535"/>
                  </a:lnTo>
                  <a:lnTo>
                    <a:pt x="2781" y="535"/>
                  </a:lnTo>
                  <a:lnTo>
                    <a:pt x="2778" y="534"/>
                  </a:lnTo>
                  <a:lnTo>
                    <a:pt x="2776" y="533"/>
                  </a:lnTo>
                  <a:lnTo>
                    <a:pt x="2593" y="535"/>
                  </a:lnTo>
                  <a:lnTo>
                    <a:pt x="2590" y="545"/>
                  </a:lnTo>
                  <a:lnTo>
                    <a:pt x="2589" y="555"/>
                  </a:lnTo>
                  <a:lnTo>
                    <a:pt x="2586" y="566"/>
                  </a:lnTo>
                  <a:lnTo>
                    <a:pt x="2585" y="575"/>
                  </a:lnTo>
                  <a:lnTo>
                    <a:pt x="2584" y="586"/>
                  </a:lnTo>
                  <a:lnTo>
                    <a:pt x="2584" y="598"/>
                  </a:lnTo>
                  <a:lnTo>
                    <a:pt x="2584" y="609"/>
                  </a:lnTo>
                  <a:lnTo>
                    <a:pt x="2586" y="620"/>
                  </a:lnTo>
                  <a:lnTo>
                    <a:pt x="2586" y="628"/>
                  </a:lnTo>
                  <a:lnTo>
                    <a:pt x="2588" y="636"/>
                  </a:lnTo>
                  <a:lnTo>
                    <a:pt x="2590" y="644"/>
                  </a:lnTo>
                  <a:lnTo>
                    <a:pt x="2594" y="652"/>
                  </a:lnTo>
                  <a:lnTo>
                    <a:pt x="2597" y="658"/>
                  </a:lnTo>
                  <a:lnTo>
                    <a:pt x="2597" y="665"/>
                  </a:lnTo>
                  <a:lnTo>
                    <a:pt x="2597" y="669"/>
                  </a:lnTo>
                  <a:lnTo>
                    <a:pt x="2596" y="672"/>
                  </a:lnTo>
                  <a:lnTo>
                    <a:pt x="2593" y="676"/>
                  </a:lnTo>
                  <a:lnTo>
                    <a:pt x="2589" y="679"/>
                  </a:lnTo>
                  <a:lnTo>
                    <a:pt x="2585" y="680"/>
                  </a:lnTo>
                  <a:lnTo>
                    <a:pt x="2581" y="680"/>
                  </a:lnTo>
                  <a:lnTo>
                    <a:pt x="2576" y="679"/>
                  </a:lnTo>
                  <a:lnTo>
                    <a:pt x="2572" y="677"/>
                  </a:lnTo>
                  <a:lnTo>
                    <a:pt x="2567" y="673"/>
                  </a:lnTo>
                  <a:lnTo>
                    <a:pt x="2565" y="671"/>
                  </a:lnTo>
                  <a:lnTo>
                    <a:pt x="2561" y="667"/>
                  </a:lnTo>
                  <a:lnTo>
                    <a:pt x="2558" y="664"/>
                  </a:lnTo>
                  <a:lnTo>
                    <a:pt x="2559" y="657"/>
                  </a:lnTo>
                  <a:lnTo>
                    <a:pt x="2559" y="650"/>
                  </a:lnTo>
                  <a:lnTo>
                    <a:pt x="2559" y="644"/>
                  </a:lnTo>
                  <a:lnTo>
                    <a:pt x="2558" y="637"/>
                  </a:lnTo>
                  <a:lnTo>
                    <a:pt x="2557" y="629"/>
                  </a:lnTo>
                  <a:lnTo>
                    <a:pt x="2555" y="622"/>
                  </a:lnTo>
                  <a:lnTo>
                    <a:pt x="2553" y="616"/>
                  </a:lnTo>
                  <a:lnTo>
                    <a:pt x="2551" y="610"/>
                  </a:lnTo>
                  <a:lnTo>
                    <a:pt x="2553" y="600"/>
                  </a:lnTo>
                  <a:lnTo>
                    <a:pt x="2553" y="590"/>
                  </a:lnTo>
                  <a:lnTo>
                    <a:pt x="2554" y="581"/>
                  </a:lnTo>
                  <a:lnTo>
                    <a:pt x="2554" y="571"/>
                  </a:lnTo>
                  <a:lnTo>
                    <a:pt x="2554" y="562"/>
                  </a:lnTo>
                  <a:lnTo>
                    <a:pt x="2553" y="553"/>
                  </a:lnTo>
                  <a:lnTo>
                    <a:pt x="2551" y="543"/>
                  </a:lnTo>
                  <a:lnTo>
                    <a:pt x="2549" y="535"/>
                  </a:lnTo>
                  <a:lnTo>
                    <a:pt x="2502" y="535"/>
                  </a:lnTo>
                  <a:lnTo>
                    <a:pt x="2455" y="535"/>
                  </a:lnTo>
                  <a:lnTo>
                    <a:pt x="2407" y="535"/>
                  </a:lnTo>
                  <a:lnTo>
                    <a:pt x="2358" y="537"/>
                  </a:lnTo>
                  <a:lnTo>
                    <a:pt x="2310" y="538"/>
                  </a:lnTo>
                  <a:lnTo>
                    <a:pt x="2261" y="538"/>
                  </a:lnTo>
                  <a:lnTo>
                    <a:pt x="2212" y="539"/>
                  </a:lnTo>
                  <a:lnTo>
                    <a:pt x="2163" y="538"/>
                  </a:lnTo>
                  <a:lnTo>
                    <a:pt x="2164" y="554"/>
                  </a:lnTo>
                  <a:lnTo>
                    <a:pt x="2164" y="569"/>
                  </a:lnTo>
                  <a:lnTo>
                    <a:pt x="2166" y="585"/>
                  </a:lnTo>
                  <a:lnTo>
                    <a:pt x="2168" y="601"/>
                  </a:lnTo>
                  <a:lnTo>
                    <a:pt x="2170" y="617"/>
                  </a:lnTo>
                  <a:lnTo>
                    <a:pt x="2172" y="633"/>
                  </a:lnTo>
                  <a:lnTo>
                    <a:pt x="2176" y="649"/>
                  </a:lnTo>
                  <a:lnTo>
                    <a:pt x="2182" y="664"/>
                  </a:lnTo>
                  <a:lnTo>
                    <a:pt x="2178" y="665"/>
                  </a:lnTo>
                  <a:lnTo>
                    <a:pt x="2175" y="668"/>
                  </a:lnTo>
                  <a:lnTo>
                    <a:pt x="2172" y="669"/>
                  </a:lnTo>
                  <a:lnTo>
                    <a:pt x="2168" y="671"/>
                  </a:lnTo>
                  <a:lnTo>
                    <a:pt x="2166" y="672"/>
                  </a:lnTo>
                  <a:lnTo>
                    <a:pt x="2163" y="672"/>
                  </a:lnTo>
                  <a:lnTo>
                    <a:pt x="2159" y="671"/>
                  </a:lnTo>
                  <a:lnTo>
                    <a:pt x="2156" y="668"/>
                  </a:lnTo>
                  <a:lnTo>
                    <a:pt x="2151" y="661"/>
                  </a:lnTo>
                  <a:lnTo>
                    <a:pt x="2135" y="554"/>
                  </a:lnTo>
                  <a:lnTo>
                    <a:pt x="2120" y="538"/>
                  </a:lnTo>
                  <a:lnTo>
                    <a:pt x="1754" y="543"/>
                  </a:lnTo>
                  <a:lnTo>
                    <a:pt x="1752" y="550"/>
                  </a:lnTo>
                  <a:lnTo>
                    <a:pt x="1750" y="557"/>
                  </a:lnTo>
                  <a:lnTo>
                    <a:pt x="1749" y="565"/>
                  </a:lnTo>
                  <a:lnTo>
                    <a:pt x="1749" y="571"/>
                  </a:lnTo>
                  <a:lnTo>
                    <a:pt x="1750" y="586"/>
                  </a:lnTo>
                  <a:lnTo>
                    <a:pt x="1752" y="601"/>
                  </a:lnTo>
                  <a:lnTo>
                    <a:pt x="1754" y="617"/>
                  </a:lnTo>
                  <a:lnTo>
                    <a:pt x="1756" y="632"/>
                  </a:lnTo>
                  <a:lnTo>
                    <a:pt x="1754" y="646"/>
                  </a:lnTo>
                  <a:lnTo>
                    <a:pt x="1752" y="661"/>
                  </a:lnTo>
                  <a:lnTo>
                    <a:pt x="1753" y="665"/>
                  </a:lnTo>
                  <a:lnTo>
                    <a:pt x="1756" y="671"/>
                  </a:lnTo>
                  <a:lnTo>
                    <a:pt x="1758" y="675"/>
                  </a:lnTo>
                  <a:lnTo>
                    <a:pt x="1760" y="680"/>
                  </a:lnTo>
                  <a:lnTo>
                    <a:pt x="1762" y="684"/>
                  </a:lnTo>
                  <a:lnTo>
                    <a:pt x="1762" y="689"/>
                  </a:lnTo>
                  <a:lnTo>
                    <a:pt x="1762" y="693"/>
                  </a:lnTo>
                  <a:lnTo>
                    <a:pt x="1760" y="699"/>
                  </a:lnTo>
                  <a:lnTo>
                    <a:pt x="1758" y="701"/>
                  </a:lnTo>
                  <a:lnTo>
                    <a:pt x="1756" y="703"/>
                  </a:lnTo>
                  <a:lnTo>
                    <a:pt x="1753" y="704"/>
                  </a:lnTo>
                  <a:lnTo>
                    <a:pt x="1750" y="703"/>
                  </a:lnTo>
                  <a:lnTo>
                    <a:pt x="1748" y="703"/>
                  </a:lnTo>
                  <a:lnTo>
                    <a:pt x="1745" y="701"/>
                  </a:lnTo>
                  <a:lnTo>
                    <a:pt x="1742" y="700"/>
                  </a:lnTo>
                  <a:lnTo>
                    <a:pt x="1740" y="699"/>
                  </a:lnTo>
                  <a:lnTo>
                    <a:pt x="1734" y="693"/>
                  </a:lnTo>
                  <a:lnTo>
                    <a:pt x="1730" y="688"/>
                  </a:lnTo>
                  <a:lnTo>
                    <a:pt x="1729" y="680"/>
                  </a:lnTo>
                  <a:lnTo>
                    <a:pt x="1729" y="672"/>
                  </a:lnTo>
                  <a:lnTo>
                    <a:pt x="1729" y="664"/>
                  </a:lnTo>
                  <a:lnTo>
                    <a:pt x="1729" y="656"/>
                  </a:lnTo>
                  <a:lnTo>
                    <a:pt x="1730" y="649"/>
                  </a:lnTo>
                  <a:lnTo>
                    <a:pt x="1729" y="642"/>
                  </a:lnTo>
                  <a:lnTo>
                    <a:pt x="1729" y="630"/>
                  </a:lnTo>
                  <a:lnTo>
                    <a:pt x="1730" y="617"/>
                  </a:lnTo>
                  <a:lnTo>
                    <a:pt x="1731" y="602"/>
                  </a:lnTo>
                  <a:lnTo>
                    <a:pt x="1731" y="588"/>
                  </a:lnTo>
                  <a:lnTo>
                    <a:pt x="1731" y="581"/>
                  </a:lnTo>
                  <a:lnTo>
                    <a:pt x="1730" y="574"/>
                  </a:lnTo>
                  <a:lnTo>
                    <a:pt x="1729" y="567"/>
                  </a:lnTo>
                  <a:lnTo>
                    <a:pt x="1726" y="561"/>
                  </a:lnTo>
                  <a:lnTo>
                    <a:pt x="1722" y="555"/>
                  </a:lnTo>
                  <a:lnTo>
                    <a:pt x="1718" y="551"/>
                  </a:lnTo>
                  <a:lnTo>
                    <a:pt x="1713" y="547"/>
                  </a:lnTo>
                  <a:lnTo>
                    <a:pt x="1706" y="543"/>
                  </a:lnTo>
                  <a:lnTo>
                    <a:pt x="1308" y="549"/>
                  </a:lnTo>
                  <a:lnTo>
                    <a:pt x="1308" y="567"/>
                  </a:lnTo>
                  <a:lnTo>
                    <a:pt x="1308" y="588"/>
                  </a:lnTo>
                  <a:lnTo>
                    <a:pt x="1307" y="609"/>
                  </a:lnTo>
                  <a:lnTo>
                    <a:pt x="1307" y="632"/>
                  </a:lnTo>
                  <a:lnTo>
                    <a:pt x="1307" y="654"/>
                  </a:lnTo>
                  <a:lnTo>
                    <a:pt x="1309" y="677"/>
                  </a:lnTo>
                  <a:lnTo>
                    <a:pt x="1311" y="688"/>
                  </a:lnTo>
                  <a:lnTo>
                    <a:pt x="1313" y="699"/>
                  </a:lnTo>
                  <a:lnTo>
                    <a:pt x="1316" y="709"/>
                  </a:lnTo>
                  <a:lnTo>
                    <a:pt x="1320" y="719"/>
                  </a:lnTo>
                  <a:lnTo>
                    <a:pt x="1326" y="724"/>
                  </a:lnTo>
                  <a:lnTo>
                    <a:pt x="1378" y="725"/>
                  </a:lnTo>
                  <a:lnTo>
                    <a:pt x="1430" y="725"/>
                  </a:lnTo>
                  <a:lnTo>
                    <a:pt x="1482" y="724"/>
                  </a:lnTo>
                  <a:lnTo>
                    <a:pt x="1535" y="723"/>
                  </a:lnTo>
                  <a:lnTo>
                    <a:pt x="1587" y="720"/>
                  </a:lnTo>
                  <a:lnTo>
                    <a:pt x="1636" y="717"/>
                  </a:lnTo>
                  <a:lnTo>
                    <a:pt x="1687" y="716"/>
                  </a:lnTo>
                  <a:lnTo>
                    <a:pt x="1737" y="715"/>
                  </a:lnTo>
                  <a:lnTo>
                    <a:pt x="1750" y="716"/>
                  </a:lnTo>
                  <a:lnTo>
                    <a:pt x="1762" y="717"/>
                  </a:lnTo>
                  <a:lnTo>
                    <a:pt x="1776" y="716"/>
                  </a:lnTo>
                  <a:lnTo>
                    <a:pt x="1788" y="716"/>
                  </a:lnTo>
                  <a:lnTo>
                    <a:pt x="1801" y="715"/>
                  </a:lnTo>
                  <a:lnTo>
                    <a:pt x="1813" y="715"/>
                  </a:lnTo>
                  <a:lnTo>
                    <a:pt x="1827" y="715"/>
                  </a:lnTo>
                  <a:lnTo>
                    <a:pt x="1841" y="717"/>
                  </a:lnTo>
                  <a:lnTo>
                    <a:pt x="1843" y="720"/>
                  </a:lnTo>
                  <a:lnTo>
                    <a:pt x="1844" y="723"/>
                  </a:lnTo>
                  <a:lnTo>
                    <a:pt x="1844" y="725"/>
                  </a:lnTo>
                  <a:lnTo>
                    <a:pt x="1843" y="728"/>
                  </a:lnTo>
                  <a:lnTo>
                    <a:pt x="1841" y="729"/>
                  </a:lnTo>
                  <a:lnTo>
                    <a:pt x="1839" y="732"/>
                  </a:lnTo>
                  <a:lnTo>
                    <a:pt x="1837" y="735"/>
                  </a:lnTo>
                  <a:lnTo>
                    <a:pt x="1836" y="737"/>
                  </a:lnTo>
                  <a:lnTo>
                    <a:pt x="1817" y="736"/>
                  </a:lnTo>
                  <a:lnTo>
                    <a:pt x="1798" y="736"/>
                  </a:lnTo>
                  <a:lnTo>
                    <a:pt x="1780" y="737"/>
                  </a:lnTo>
                  <a:lnTo>
                    <a:pt x="1761" y="740"/>
                  </a:lnTo>
                  <a:lnTo>
                    <a:pt x="1742" y="741"/>
                  </a:lnTo>
                  <a:lnTo>
                    <a:pt x="1723" y="743"/>
                  </a:lnTo>
                  <a:lnTo>
                    <a:pt x="1705" y="743"/>
                  </a:lnTo>
                  <a:lnTo>
                    <a:pt x="1686" y="741"/>
                  </a:lnTo>
                  <a:lnTo>
                    <a:pt x="1681" y="747"/>
                  </a:lnTo>
                  <a:lnTo>
                    <a:pt x="1683" y="750"/>
                  </a:lnTo>
                  <a:lnTo>
                    <a:pt x="1675" y="760"/>
                  </a:lnTo>
                  <a:lnTo>
                    <a:pt x="1674" y="786"/>
                  </a:lnTo>
                  <a:lnTo>
                    <a:pt x="1673" y="812"/>
                  </a:lnTo>
                  <a:lnTo>
                    <a:pt x="1673" y="838"/>
                  </a:lnTo>
                  <a:lnTo>
                    <a:pt x="1674" y="865"/>
                  </a:lnTo>
                  <a:lnTo>
                    <a:pt x="1677" y="890"/>
                  </a:lnTo>
                  <a:lnTo>
                    <a:pt x="1681" y="916"/>
                  </a:lnTo>
                  <a:lnTo>
                    <a:pt x="1685" y="941"/>
                  </a:lnTo>
                  <a:lnTo>
                    <a:pt x="1691" y="968"/>
                  </a:lnTo>
                  <a:lnTo>
                    <a:pt x="1740" y="969"/>
                  </a:lnTo>
                  <a:lnTo>
                    <a:pt x="1741" y="973"/>
                  </a:lnTo>
                  <a:lnTo>
                    <a:pt x="1745" y="974"/>
                  </a:lnTo>
                  <a:lnTo>
                    <a:pt x="1749" y="974"/>
                  </a:lnTo>
                  <a:lnTo>
                    <a:pt x="1753" y="974"/>
                  </a:lnTo>
                  <a:lnTo>
                    <a:pt x="1758" y="974"/>
                  </a:lnTo>
                  <a:lnTo>
                    <a:pt x="1761" y="976"/>
                  </a:lnTo>
                  <a:lnTo>
                    <a:pt x="1764" y="977"/>
                  </a:lnTo>
                  <a:lnTo>
                    <a:pt x="1765" y="982"/>
                  </a:lnTo>
                  <a:lnTo>
                    <a:pt x="1753" y="982"/>
                  </a:lnTo>
                  <a:lnTo>
                    <a:pt x="1742" y="984"/>
                  </a:lnTo>
                  <a:lnTo>
                    <a:pt x="1733" y="985"/>
                  </a:lnTo>
                  <a:lnTo>
                    <a:pt x="1723" y="988"/>
                  </a:lnTo>
                  <a:lnTo>
                    <a:pt x="1714" y="989"/>
                  </a:lnTo>
                  <a:lnTo>
                    <a:pt x="1705" y="991"/>
                  </a:lnTo>
                  <a:lnTo>
                    <a:pt x="1694" y="991"/>
                  </a:lnTo>
                  <a:lnTo>
                    <a:pt x="1683" y="991"/>
                  </a:lnTo>
                  <a:lnTo>
                    <a:pt x="1681" y="993"/>
                  </a:lnTo>
                  <a:lnTo>
                    <a:pt x="1678" y="995"/>
                  </a:lnTo>
                  <a:lnTo>
                    <a:pt x="1675" y="995"/>
                  </a:lnTo>
                  <a:lnTo>
                    <a:pt x="1673" y="995"/>
                  </a:lnTo>
                  <a:lnTo>
                    <a:pt x="1670" y="993"/>
                  </a:lnTo>
                  <a:lnTo>
                    <a:pt x="1666" y="992"/>
                  </a:lnTo>
                  <a:lnTo>
                    <a:pt x="1663" y="991"/>
                  </a:lnTo>
                  <a:lnTo>
                    <a:pt x="1660" y="991"/>
                  </a:lnTo>
                  <a:lnTo>
                    <a:pt x="1560" y="991"/>
                  </a:lnTo>
                  <a:lnTo>
                    <a:pt x="1462" y="992"/>
                  </a:lnTo>
                  <a:lnTo>
                    <a:pt x="1364" y="993"/>
                  </a:lnTo>
                  <a:lnTo>
                    <a:pt x="1267" y="993"/>
                  </a:lnTo>
                  <a:lnTo>
                    <a:pt x="1167" y="995"/>
                  </a:lnTo>
                  <a:lnTo>
                    <a:pt x="1070" y="996"/>
                  </a:lnTo>
                  <a:lnTo>
                    <a:pt x="969" y="997"/>
                  </a:lnTo>
                  <a:lnTo>
                    <a:pt x="869" y="1000"/>
                  </a:lnTo>
                  <a:lnTo>
                    <a:pt x="863" y="1005"/>
                  </a:lnTo>
                  <a:lnTo>
                    <a:pt x="863" y="1017"/>
                  </a:lnTo>
                  <a:lnTo>
                    <a:pt x="863" y="1029"/>
                  </a:lnTo>
                  <a:lnTo>
                    <a:pt x="863" y="1041"/>
                  </a:lnTo>
                  <a:lnTo>
                    <a:pt x="862" y="1053"/>
                  </a:lnTo>
                  <a:lnTo>
                    <a:pt x="863" y="1065"/>
                  </a:lnTo>
                  <a:lnTo>
                    <a:pt x="865" y="1078"/>
                  </a:lnTo>
                  <a:lnTo>
                    <a:pt x="867" y="1088"/>
                  </a:lnTo>
                  <a:lnTo>
                    <a:pt x="874" y="1099"/>
                  </a:lnTo>
                  <a:lnTo>
                    <a:pt x="871" y="1103"/>
                  </a:lnTo>
                  <a:lnTo>
                    <a:pt x="870" y="1106"/>
                  </a:lnTo>
                  <a:lnTo>
                    <a:pt x="869" y="1108"/>
                  </a:lnTo>
                  <a:lnTo>
                    <a:pt x="869" y="1112"/>
                  </a:lnTo>
                  <a:lnTo>
                    <a:pt x="870" y="1118"/>
                  </a:lnTo>
                  <a:lnTo>
                    <a:pt x="873" y="1124"/>
                  </a:lnTo>
                  <a:lnTo>
                    <a:pt x="875" y="1131"/>
                  </a:lnTo>
                  <a:lnTo>
                    <a:pt x="877" y="1138"/>
                  </a:lnTo>
                  <a:lnTo>
                    <a:pt x="878" y="1144"/>
                  </a:lnTo>
                  <a:lnTo>
                    <a:pt x="875" y="1151"/>
                  </a:lnTo>
                  <a:lnTo>
                    <a:pt x="905" y="1155"/>
                  </a:lnTo>
                  <a:lnTo>
                    <a:pt x="930" y="1154"/>
                  </a:lnTo>
                  <a:lnTo>
                    <a:pt x="956" y="1153"/>
                  </a:lnTo>
                  <a:lnTo>
                    <a:pt x="981" y="1154"/>
                  </a:lnTo>
                  <a:lnTo>
                    <a:pt x="1008" y="1154"/>
                  </a:lnTo>
                  <a:lnTo>
                    <a:pt x="1033" y="1155"/>
                  </a:lnTo>
                  <a:lnTo>
                    <a:pt x="1059" y="1157"/>
                  </a:lnTo>
                  <a:lnTo>
                    <a:pt x="1086" y="1158"/>
                  </a:lnTo>
                  <a:lnTo>
                    <a:pt x="1111" y="1159"/>
                  </a:lnTo>
                  <a:lnTo>
                    <a:pt x="1112" y="1161"/>
                  </a:lnTo>
                  <a:lnTo>
                    <a:pt x="1115" y="1163"/>
                  </a:lnTo>
                  <a:lnTo>
                    <a:pt x="1118" y="1166"/>
                  </a:lnTo>
                  <a:lnTo>
                    <a:pt x="1122" y="1167"/>
                  </a:lnTo>
                  <a:lnTo>
                    <a:pt x="1125" y="1169"/>
                  </a:lnTo>
                  <a:lnTo>
                    <a:pt x="1129" y="1169"/>
                  </a:lnTo>
                  <a:lnTo>
                    <a:pt x="1133" y="1169"/>
                  </a:lnTo>
                  <a:lnTo>
                    <a:pt x="1137" y="1169"/>
                  </a:lnTo>
                  <a:lnTo>
                    <a:pt x="1137" y="1177"/>
                  </a:lnTo>
                  <a:lnTo>
                    <a:pt x="1129" y="1178"/>
                  </a:lnTo>
                  <a:lnTo>
                    <a:pt x="1119" y="1179"/>
                  </a:lnTo>
                  <a:lnTo>
                    <a:pt x="1111" y="1179"/>
                  </a:lnTo>
                  <a:lnTo>
                    <a:pt x="1104" y="1178"/>
                  </a:lnTo>
                  <a:lnTo>
                    <a:pt x="1096" y="1179"/>
                  </a:lnTo>
                  <a:lnTo>
                    <a:pt x="1088" y="1179"/>
                  </a:lnTo>
                  <a:lnTo>
                    <a:pt x="1080" y="1181"/>
                  </a:lnTo>
                  <a:lnTo>
                    <a:pt x="1072" y="1183"/>
                  </a:lnTo>
                  <a:lnTo>
                    <a:pt x="1074" y="1201"/>
                  </a:lnTo>
                  <a:lnTo>
                    <a:pt x="1074" y="1217"/>
                  </a:lnTo>
                  <a:lnTo>
                    <a:pt x="1072" y="1233"/>
                  </a:lnTo>
                  <a:lnTo>
                    <a:pt x="1072" y="1249"/>
                  </a:lnTo>
                  <a:lnTo>
                    <a:pt x="1072" y="1265"/>
                  </a:lnTo>
                  <a:lnTo>
                    <a:pt x="1074" y="1280"/>
                  </a:lnTo>
                  <a:lnTo>
                    <a:pt x="1078" y="1296"/>
                  </a:lnTo>
                  <a:lnTo>
                    <a:pt x="1083" y="1312"/>
                  </a:lnTo>
                  <a:lnTo>
                    <a:pt x="1080" y="1315"/>
                  </a:lnTo>
                  <a:lnTo>
                    <a:pt x="1079" y="1317"/>
                  </a:lnTo>
                  <a:lnTo>
                    <a:pt x="1079" y="1320"/>
                  </a:lnTo>
                  <a:lnTo>
                    <a:pt x="1079" y="1323"/>
                  </a:lnTo>
                  <a:lnTo>
                    <a:pt x="1080" y="1325"/>
                  </a:lnTo>
                  <a:lnTo>
                    <a:pt x="1080" y="1328"/>
                  </a:lnTo>
                  <a:lnTo>
                    <a:pt x="1082" y="1331"/>
                  </a:lnTo>
                  <a:lnTo>
                    <a:pt x="1080" y="1335"/>
                  </a:lnTo>
                  <a:lnTo>
                    <a:pt x="1076" y="1336"/>
                  </a:lnTo>
                  <a:lnTo>
                    <a:pt x="1072" y="1337"/>
                  </a:lnTo>
                  <a:lnTo>
                    <a:pt x="1068" y="1337"/>
                  </a:lnTo>
                  <a:lnTo>
                    <a:pt x="1064" y="1336"/>
                  </a:lnTo>
                  <a:lnTo>
                    <a:pt x="1060" y="1335"/>
                  </a:lnTo>
                  <a:lnTo>
                    <a:pt x="1056" y="1333"/>
                  </a:lnTo>
                  <a:lnTo>
                    <a:pt x="1052" y="1331"/>
                  </a:lnTo>
                  <a:lnTo>
                    <a:pt x="1050" y="1327"/>
                  </a:lnTo>
                  <a:lnTo>
                    <a:pt x="1050" y="1306"/>
                  </a:lnTo>
                  <a:lnTo>
                    <a:pt x="1050" y="1286"/>
                  </a:lnTo>
                  <a:lnTo>
                    <a:pt x="1050" y="1268"/>
                  </a:lnTo>
                  <a:lnTo>
                    <a:pt x="1051" y="1250"/>
                  </a:lnTo>
                  <a:lnTo>
                    <a:pt x="1050" y="1232"/>
                  </a:lnTo>
                  <a:lnTo>
                    <a:pt x="1050" y="1214"/>
                  </a:lnTo>
                  <a:lnTo>
                    <a:pt x="1047" y="1197"/>
                  </a:lnTo>
                  <a:lnTo>
                    <a:pt x="1041" y="1179"/>
                  </a:lnTo>
                  <a:lnTo>
                    <a:pt x="623" y="1183"/>
                  </a:lnTo>
                  <a:lnTo>
                    <a:pt x="621" y="1205"/>
                  </a:lnTo>
                  <a:lnTo>
                    <a:pt x="621" y="1225"/>
                  </a:lnTo>
                  <a:lnTo>
                    <a:pt x="621" y="1246"/>
                  </a:lnTo>
                  <a:lnTo>
                    <a:pt x="623" y="1266"/>
                  </a:lnTo>
                  <a:lnTo>
                    <a:pt x="627" y="1288"/>
                  </a:lnTo>
                  <a:lnTo>
                    <a:pt x="632" y="1308"/>
                  </a:lnTo>
                  <a:lnTo>
                    <a:pt x="637" y="1328"/>
                  </a:lnTo>
                  <a:lnTo>
                    <a:pt x="641" y="1347"/>
                  </a:lnTo>
                  <a:lnTo>
                    <a:pt x="638" y="1351"/>
                  </a:lnTo>
                  <a:lnTo>
                    <a:pt x="636" y="1352"/>
                  </a:lnTo>
                  <a:lnTo>
                    <a:pt x="633" y="1352"/>
                  </a:lnTo>
                  <a:lnTo>
                    <a:pt x="630" y="1351"/>
                  </a:lnTo>
                  <a:lnTo>
                    <a:pt x="627" y="1351"/>
                  </a:lnTo>
                  <a:lnTo>
                    <a:pt x="623" y="1349"/>
                  </a:lnTo>
                  <a:lnTo>
                    <a:pt x="621" y="1348"/>
                  </a:lnTo>
                  <a:lnTo>
                    <a:pt x="618" y="1347"/>
                  </a:lnTo>
                  <a:lnTo>
                    <a:pt x="611" y="1328"/>
                  </a:lnTo>
                  <a:lnTo>
                    <a:pt x="607" y="1308"/>
                  </a:lnTo>
                  <a:lnTo>
                    <a:pt x="605" y="1289"/>
                  </a:lnTo>
                  <a:lnTo>
                    <a:pt x="602" y="1269"/>
                  </a:lnTo>
                  <a:lnTo>
                    <a:pt x="601" y="1249"/>
                  </a:lnTo>
                  <a:lnTo>
                    <a:pt x="598" y="1229"/>
                  </a:lnTo>
                  <a:lnTo>
                    <a:pt x="597" y="1207"/>
                  </a:lnTo>
                  <a:lnTo>
                    <a:pt x="595" y="1186"/>
                  </a:lnTo>
                  <a:lnTo>
                    <a:pt x="570" y="1185"/>
                  </a:lnTo>
                  <a:lnTo>
                    <a:pt x="546" y="1183"/>
                  </a:lnTo>
                  <a:lnTo>
                    <a:pt x="520" y="1183"/>
                  </a:lnTo>
                  <a:lnTo>
                    <a:pt x="496" y="1185"/>
                  </a:lnTo>
                  <a:lnTo>
                    <a:pt x="448" y="1187"/>
                  </a:lnTo>
                  <a:lnTo>
                    <a:pt x="400" y="1191"/>
                  </a:lnTo>
                  <a:lnTo>
                    <a:pt x="350" y="1195"/>
                  </a:lnTo>
                  <a:lnTo>
                    <a:pt x="302" y="1198"/>
                  </a:lnTo>
                  <a:lnTo>
                    <a:pt x="278" y="1198"/>
                  </a:lnTo>
                  <a:lnTo>
                    <a:pt x="252" y="1198"/>
                  </a:lnTo>
                  <a:lnTo>
                    <a:pt x="227" y="1197"/>
                  </a:lnTo>
                  <a:lnTo>
                    <a:pt x="201" y="1194"/>
                  </a:lnTo>
                  <a:lnTo>
                    <a:pt x="197" y="1203"/>
                  </a:lnTo>
                  <a:lnTo>
                    <a:pt x="195" y="1214"/>
                  </a:lnTo>
                  <a:lnTo>
                    <a:pt x="195" y="1225"/>
                  </a:lnTo>
                  <a:lnTo>
                    <a:pt x="195" y="1236"/>
                  </a:lnTo>
                  <a:lnTo>
                    <a:pt x="196" y="1246"/>
                  </a:lnTo>
                  <a:lnTo>
                    <a:pt x="197" y="1257"/>
                  </a:lnTo>
                  <a:lnTo>
                    <a:pt x="199" y="1268"/>
                  </a:lnTo>
                  <a:lnTo>
                    <a:pt x="200" y="1278"/>
                  </a:lnTo>
                  <a:lnTo>
                    <a:pt x="204" y="1286"/>
                  </a:lnTo>
                  <a:lnTo>
                    <a:pt x="207" y="1296"/>
                  </a:lnTo>
                  <a:lnTo>
                    <a:pt x="211" y="1306"/>
                  </a:lnTo>
                  <a:lnTo>
                    <a:pt x="214" y="1317"/>
                  </a:lnTo>
                  <a:lnTo>
                    <a:pt x="216" y="1328"/>
                  </a:lnTo>
                  <a:lnTo>
                    <a:pt x="219" y="1339"/>
                  </a:lnTo>
                  <a:lnTo>
                    <a:pt x="219" y="1348"/>
                  </a:lnTo>
                  <a:lnTo>
                    <a:pt x="220" y="1357"/>
                  </a:lnTo>
                  <a:lnTo>
                    <a:pt x="219" y="1360"/>
                  </a:lnTo>
                  <a:lnTo>
                    <a:pt x="216" y="1363"/>
                  </a:lnTo>
                  <a:lnTo>
                    <a:pt x="215" y="1365"/>
                  </a:lnTo>
                  <a:lnTo>
                    <a:pt x="212" y="1367"/>
                  </a:lnTo>
                  <a:lnTo>
                    <a:pt x="208" y="1368"/>
                  </a:lnTo>
                  <a:lnTo>
                    <a:pt x="205" y="1368"/>
                  </a:lnTo>
                  <a:lnTo>
                    <a:pt x="203" y="1367"/>
                  </a:lnTo>
                  <a:lnTo>
                    <a:pt x="200" y="1365"/>
                  </a:lnTo>
                  <a:lnTo>
                    <a:pt x="195" y="1360"/>
                  </a:lnTo>
                  <a:lnTo>
                    <a:pt x="192" y="1355"/>
                  </a:lnTo>
                  <a:lnTo>
                    <a:pt x="192" y="1348"/>
                  </a:lnTo>
                  <a:lnTo>
                    <a:pt x="191" y="1341"/>
                  </a:lnTo>
                  <a:lnTo>
                    <a:pt x="192" y="1335"/>
                  </a:lnTo>
                  <a:lnTo>
                    <a:pt x="192" y="1329"/>
                  </a:lnTo>
                  <a:lnTo>
                    <a:pt x="191" y="1323"/>
                  </a:lnTo>
                  <a:lnTo>
                    <a:pt x="189" y="1317"/>
                  </a:lnTo>
                  <a:lnTo>
                    <a:pt x="184" y="1302"/>
                  </a:lnTo>
                  <a:lnTo>
                    <a:pt x="181" y="1288"/>
                  </a:lnTo>
                  <a:lnTo>
                    <a:pt x="179" y="1273"/>
                  </a:lnTo>
                  <a:lnTo>
                    <a:pt x="176" y="1257"/>
                  </a:lnTo>
                  <a:lnTo>
                    <a:pt x="175" y="1241"/>
                  </a:lnTo>
                  <a:lnTo>
                    <a:pt x="173" y="1226"/>
                  </a:lnTo>
                  <a:lnTo>
                    <a:pt x="172" y="1210"/>
                  </a:lnTo>
                  <a:lnTo>
                    <a:pt x="171" y="1194"/>
                  </a:lnTo>
                  <a:lnTo>
                    <a:pt x="153" y="1189"/>
                  </a:lnTo>
                  <a:lnTo>
                    <a:pt x="43" y="1186"/>
                  </a:lnTo>
                  <a:lnTo>
                    <a:pt x="45" y="1181"/>
                  </a:lnTo>
                  <a:lnTo>
                    <a:pt x="47" y="1177"/>
                  </a:lnTo>
                  <a:lnTo>
                    <a:pt x="50" y="1173"/>
                  </a:lnTo>
                  <a:lnTo>
                    <a:pt x="53" y="1170"/>
                  </a:lnTo>
                  <a:lnTo>
                    <a:pt x="58" y="1167"/>
                  </a:lnTo>
                  <a:lnTo>
                    <a:pt x="62" y="1165"/>
                  </a:lnTo>
                  <a:lnTo>
                    <a:pt x="66" y="1162"/>
                  </a:lnTo>
                  <a:lnTo>
                    <a:pt x="71" y="1161"/>
                  </a:lnTo>
                  <a:lnTo>
                    <a:pt x="353" y="1169"/>
                  </a:lnTo>
                  <a:lnTo>
                    <a:pt x="365" y="1163"/>
                  </a:lnTo>
                  <a:lnTo>
                    <a:pt x="361" y="1161"/>
                  </a:lnTo>
                  <a:lnTo>
                    <a:pt x="357" y="1155"/>
                  </a:lnTo>
                  <a:lnTo>
                    <a:pt x="353" y="1151"/>
                  </a:lnTo>
                  <a:lnTo>
                    <a:pt x="350" y="1146"/>
                  </a:lnTo>
                  <a:lnTo>
                    <a:pt x="346" y="1135"/>
                  </a:lnTo>
                  <a:lnTo>
                    <a:pt x="345" y="1124"/>
                  </a:lnTo>
                  <a:lnTo>
                    <a:pt x="343" y="1112"/>
                  </a:lnTo>
                  <a:lnTo>
                    <a:pt x="343" y="1100"/>
                  </a:lnTo>
                  <a:lnTo>
                    <a:pt x="342" y="1088"/>
                  </a:lnTo>
                  <a:lnTo>
                    <a:pt x="342" y="1076"/>
                  </a:lnTo>
                  <a:lnTo>
                    <a:pt x="342" y="1068"/>
                  </a:lnTo>
                  <a:lnTo>
                    <a:pt x="342" y="1059"/>
                  </a:lnTo>
                  <a:lnTo>
                    <a:pt x="342" y="1049"/>
                  </a:lnTo>
                  <a:lnTo>
                    <a:pt x="342" y="1040"/>
                  </a:lnTo>
                  <a:lnTo>
                    <a:pt x="342" y="1031"/>
                  </a:lnTo>
                  <a:lnTo>
                    <a:pt x="342" y="1023"/>
                  </a:lnTo>
                  <a:lnTo>
                    <a:pt x="341" y="1013"/>
                  </a:lnTo>
                  <a:lnTo>
                    <a:pt x="339" y="1005"/>
                  </a:lnTo>
                  <a:lnTo>
                    <a:pt x="335" y="1000"/>
                  </a:lnTo>
                  <a:lnTo>
                    <a:pt x="297" y="1000"/>
                  </a:lnTo>
                  <a:lnTo>
                    <a:pt x="258" y="1000"/>
                  </a:lnTo>
                  <a:lnTo>
                    <a:pt x="220" y="1000"/>
                  </a:lnTo>
                  <a:lnTo>
                    <a:pt x="183" y="1000"/>
                  </a:lnTo>
                  <a:lnTo>
                    <a:pt x="145" y="1000"/>
                  </a:lnTo>
                  <a:lnTo>
                    <a:pt x="108" y="1001"/>
                  </a:lnTo>
                  <a:lnTo>
                    <a:pt x="71" y="1001"/>
                  </a:lnTo>
                  <a:lnTo>
                    <a:pt x="37" y="1003"/>
                  </a:lnTo>
                  <a:lnTo>
                    <a:pt x="37" y="996"/>
                  </a:lnTo>
                  <a:lnTo>
                    <a:pt x="39" y="991"/>
                  </a:lnTo>
                  <a:lnTo>
                    <a:pt x="42" y="988"/>
                  </a:lnTo>
                  <a:lnTo>
                    <a:pt x="47" y="985"/>
                  </a:lnTo>
                  <a:lnTo>
                    <a:pt x="53" y="985"/>
                  </a:lnTo>
                  <a:lnTo>
                    <a:pt x="58" y="984"/>
                  </a:lnTo>
                  <a:lnTo>
                    <a:pt x="63" y="984"/>
                  </a:lnTo>
                  <a:lnTo>
                    <a:pt x="69" y="982"/>
                  </a:lnTo>
                  <a:lnTo>
                    <a:pt x="84" y="982"/>
                  </a:lnTo>
                  <a:lnTo>
                    <a:pt x="98" y="982"/>
                  </a:lnTo>
                  <a:lnTo>
                    <a:pt x="113" y="982"/>
                  </a:lnTo>
                  <a:lnTo>
                    <a:pt x="126" y="981"/>
                  </a:lnTo>
                  <a:lnTo>
                    <a:pt x="141" y="980"/>
                  </a:lnTo>
                  <a:lnTo>
                    <a:pt x="155" y="978"/>
                  </a:lnTo>
                  <a:lnTo>
                    <a:pt x="168" y="977"/>
                  </a:lnTo>
                  <a:lnTo>
                    <a:pt x="181" y="974"/>
                  </a:lnTo>
                  <a:lnTo>
                    <a:pt x="184" y="961"/>
                  </a:lnTo>
                  <a:lnTo>
                    <a:pt x="185" y="949"/>
                  </a:lnTo>
                  <a:lnTo>
                    <a:pt x="187" y="936"/>
                  </a:lnTo>
                  <a:lnTo>
                    <a:pt x="187" y="924"/>
                  </a:lnTo>
                  <a:lnTo>
                    <a:pt x="187" y="898"/>
                  </a:lnTo>
                  <a:lnTo>
                    <a:pt x="183" y="873"/>
                  </a:lnTo>
                  <a:lnTo>
                    <a:pt x="179" y="849"/>
                  </a:lnTo>
                  <a:lnTo>
                    <a:pt x="172" y="825"/>
                  </a:lnTo>
                  <a:lnTo>
                    <a:pt x="165" y="800"/>
                  </a:lnTo>
                  <a:lnTo>
                    <a:pt x="159" y="778"/>
                  </a:lnTo>
                  <a:lnTo>
                    <a:pt x="137" y="778"/>
                  </a:lnTo>
                  <a:lnTo>
                    <a:pt x="117" y="778"/>
                  </a:lnTo>
                  <a:lnTo>
                    <a:pt x="96" y="778"/>
                  </a:lnTo>
                  <a:lnTo>
                    <a:pt x="76" y="778"/>
                  </a:lnTo>
                  <a:lnTo>
                    <a:pt x="57" y="778"/>
                  </a:lnTo>
                  <a:lnTo>
                    <a:pt x="37" y="778"/>
                  </a:lnTo>
                  <a:lnTo>
                    <a:pt x="18" y="776"/>
                  </a:lnTo>
                  <a:lnTo>
                    <a:pt x="0" y="772"/>
                  </a:lnTo>
                  <a:lnTo>
                    <a:pt x="2" y="768"/>
                  </a:lnTo>
                  <a:lnTo>
                    <a:pt x="3" y="764"/>
                  </a:lnTo>
                  <a:lnTo>
                    <a:pt x="6" y="762"/>
                  </a:lnTo>
                  <a:lnTo>
                    <a:pt x="9" y="759"/>
                  </a:lnTo>
                  <a:lnTo>
                    <a:pt x="15" y="756"/>
                  </a:lnTo>
                  <a:lnTo>
                    <a:pt x="25" y="755"/>
                  </a:lnTo>
                  <a:lnTo>
                    <a:pt x="33" y="755"/>
                  </a:lnTo>
                  <a:lnTo>
                    <a:pt x="42" y="755"/>
                  </a:lnTo>
                  <a:lnTo>
                    <a:pt x="51" y="755"/>
                  </a:lnTo>
                  <a:lnTo>
                    <a:pt x="59" y="752"/>
                  </a:lnTo>
                  <a:lnTo>
                    <a:pt x="69" y="755"/>
                  </a:lnTo>
                  <a:lnTo>
                    <a:pt x="78" y="756"/>
                  </a:lnTo>
                  <a:lnTo>
                    <a:pt x="89" y="758"/>
                  </a:lnTo>
                  <a:lnTo>
                    <a:pt x="98" y="758"/>
                  </a:lnTo>
                  <a:lnTo>
                    <a:pt x="109" y="758"/>
                  </a:lnTo>
                  <a:lnTo>
                    <a:pt x="118" y="756"/>
                  </a:lnTo>
                  <a:lnTo>
                    <a:pt x="128" y="755"/>
                  </a:lnTo>
                  <a:lnTo>
                    <a:pt x="138" y="752"/>
                  </a:lnTo>
                  <a:lnTo>
                    <a:pt x="163" y="752"/>
                  </a:lnTo>
                  <a:lnTo>
                    <a:pt x="188" y="751"/>
                  </a:lnTo>
                  <a:lnTo>
                    <a:pt x="214" y="750"/>
                  </a:lnTo>
                  <a:lnTo>
                    <a:pt x="240" y="748"/>
                  </a:lnTo>
                  <a:lnTo>
                    <a:pt x="266" y="748"/>
                  </a:lnTo>
                  <a:lnTo>
                    <a:pt x="291" y="747"/>
                  </a:lnTo>
                  <a:lnTo>
                    <a:pt x="317" y="746"/>
                  </a:lnTo>
                  <a:lnTo>
                    <a:pt x="339" y="746"/>
                  </a:lnTo>
                  <a:lnTo>
                    <a:pt x="345" y="740"/>
                  </a:lnTo>
                  <a:lnTo>
                    <a:pt x="346" y="717"/>
                  </a:lnTo>
                  <a:lnTo>
                    <a:pt x="347" y="693"/>
                  </a:lnTo>
                  <a:lnTo>
                    <a:pt x="352" y="671"/>
                  </a:lnTo>
                  <a:lnTo>
                    <a:pt x="354" y="648"/>
                  </a:lnTo>
                  <a:lnTo>
                    <a:pt x="356" y="625"/>
                  </a:lnTo>
                  <a:lnTo>
                    <a:pt x="354" y="601"/>
                  </a:lnTo>
                  <a:lnTo>
                    <a:pt x="353" y="590"/>
                  </a:lnTo>
                  <a:lnTo>
                    <a:pt x="350" y="578"/>
                  </a:lnTo>
                  <a:lnTo>
                    <a:pt x="347" y="567"/>
                  </a:lnTo>
                  <a:lnTo>
                    <a:pt x="342" y="557"/>
                  </a:lnTo>
                  <a:lnTo>
                    <a:pt x="305" y="553"/>
                  </a:lnTo>
                  <a:lnTo>
                    <a:pt x="266" y="551"/>
                  </a:lnTo>
                  <a:lnTo>
                    <a:pt x="227" y="551"/>
                  </a:lnTo>
                  <a:lnTo>
                    <a:pt x="188" y="551"/>
                  </a:lnTo>
                  <a:lnTo>
                    <a:pt x="149" y="553"/>
                  </a:lnTo>
                  <a:lnTo>
                    <a:pt x="109" y="554"/>
                  </a:lnTo>
                  <a:lnTo>
                    <a:pt x="70" y="554"/>
                  </a:lnTo>
                  <a:lnTo>
                    <a:pt x="31" y="554"/>
                  </a:lnTo>
                  <a:lnTo>
                    <a:pt x="23" y="549"/>
                  </a:lnTo>
                  <a:lnTo>
                    <a:pt x="25" y="545"/>
                  </a:lnTo>
                  <a:lnTo>
                    <a:pt x="27" y="542"/>
                  </a:lnTo>
                  <a:lnTo>
                    <a:pt x="29" y="541"/>
                  </a:lnTo>
                  <a:lnTo>
                    <a:pt x="30" y="538"/>
                  </a:lnTo>
                  <a:lnTo>
                    <a:pt x="33" y="537"/>
                  </a:lnTo>
                  <a:lnTo>
                    <a:pt x="35" y="534"/>
                  </a:lnTo>
                  <a:lnTo>
                    <a:pt x="38" y="533"/>
                  </a:lnTo>
                  <a:lnTo>
                    <a:pt x="41" y="530"/>
                  </a:lnTo>
                  <a:lnTo>
                    <a:pt x="164" y="527"/>
                  </a:lnTo>
                  <a:lnTo>
                    <a:pt x="167" y="503"/>
                  </a:lnTo>
                  <a:lnTo>
                    <a:pt x="167" y="480"/>
                  </a:lnTo>
                  <a:lnTo>
                    <a:pt x="167" y="456"/>
                  </a:lnTo>
                  <a:lnTo>
                    <a:pt x="165" y="432"/>
                  </a:lnTo>
                  <a:lnTo>
                    <a:pt x="164" y="408"/>
                  </a:lnTo>
                  <a:lnTo>
                    <a:pt x="164" y="384"/>
                  </a:lnTo>
                  <a:lnTo>
                    <a:pt x="165" y="360"/>
                  </a:lnTo>
                  <a:lnTo>
                    <a:pt x="169" y="336"/>
                  </a:lnTo>
                  <a:lnTo>
                    <a:pt x="161" y="329"/>
                  </a:lnTo>
                  <a:lnTo>
                    <a:pt x="21" y="326"/>
                  </a:lnTo>
                  <a:lnTo>
                    <a:pt x="22" y="324"/>
                  </a:lnTo>
                  <a:lnTo>
                    <a:pt x="23" y="321"/>
                  </a:lnTo>
                  <a:lnTo>
                    <a:pt x="23" y="320"/>
                  </a:lnTo>
                  <a:lnTo>
                    <a:pt x="25" y="317"/>
                  </a:lnTo>
                  <a:lnTo>
                    <a:pt x="27" y="314"/>
                  </a:lnTo>
                  <a:lnTo>
                    <a:pt x="29" y="313"/>
                  </a:lnTo>
                  <a:lnTo>
                    <a:pt x="31" y="312"/>
                  </a:lnTo>
                  <a:lnTo>
                    <a:pt x="33" y="312"/>
                  </a:lnTo>
                  <a:lnTo>
                    <a:pt x="73" y="309"/>
                  </a:lnTo>
                  <a:lnTo>
                    <a:pt x="113" y="308"/>
                  </a:lnTo>
                  <a:lnTo>
                    <a:pt x="153" y="309"/>
                  </a:lnTo>
                  <a:lnTo>
                    <a:pt x="193" y="309"/>
                  </a:lnTo>
                  <a:lnTo>
                    <a:pt x="234" y="309"/>
                  </a:lnTo>
                  <a:lnTo>
                    <a:pt x="272" y="308"/>
                  </a:lnTo>
                  <a:lnTo>
                    <a:pt x="293" y="306"/>
                  </a:lnTo>
                  <a:lnTo>
                    <a:pt x="311" y="304"/>
                  </a:lnTo>
                  <a:lnTo>
                    <a:pt x="330" y="301"/>
                  </a:lnTo>
                  <a:lnTo>
                    <a:pt x="347" y="298"/>
                  </a:lnTo>
                  <a:lnTo>
                    <a:pt x="343" y="296"/>
                  </a:lnTo>
                  <a:lnTo>
                    <a:pt x="339" y="293"/>
                  </a:lnTo>
                  <a:lnTo>
                    <a:pt x="337" y="290"/>
                  </a:lnTo>
                  <a:lnTo>
                    <a:pt x="334" y="288"/>
                  </a:lnTo>
                  <a:lnTo>
                    <a:pt x="331" y="280"/>
                  </a:lnTo>
                  <a:lnTo>
                    <a:pt x="330" y="272"/>
                  </a:lnTo>
                  <a:lnTo>
                    <a:pt x="330" y="262"/>
                  </a:lnTo>
                  <a:lnTo>
                    <a:pt x="330" y="254"/>
                  </a:lnTo>
                  <a:lnTo>
                    <a:pt x="329" y="245"/>
                  </a:lnTo>
                  <a:lnTo>
                    <a:pt x="327" y="237"/>
                  </a:lnTo>
                  <a:lnTo>
                    <a:pt x="326" y="225"/>
                  </a:lnTo>
                  <a:lnTo>
                    <a:pt x="327" y="213"/>
                  </a:lnTo>
                  <a:lnTo>
                    <a:pt x="327" y="201"/>
                  </a:lnTo>
                  <a:lnTo>
                    <a:pt x="329" y="187"/>
                  </a:lnTo>
                  <a:lnTo>
                    <a:pt x="329" y="175"/>
                  </a:lnTo>
                  <a:lnTo>
                    <a:pt x="330" y="163"/>
                  </a:lnTo>
                  <a:lnTo>
                    <a:pt x="331" y="150"/>
                  </a:lnTo>
                  <a:lnTo>
                    <a:pt x="331" y="138"/>
                  </a:lnTo>
                  <a:lnTo>
                    <a:pt x="327" y="132"/>
                  </a:lnTo>
                  <a:lnTo>
                    <a:pt x="289" y="131"/>
                  </a:lnTo>
                  <a:lnTo>
                    <a:pt x="250" y="130"/>
                  </a:lnTo>
                  <a:lnTo>
                    <a:pt x="209" y="130"/>
                  </a:lnTo>
                  <a:lnTo>
                    <a:pt x="168" y="130"/>
                  </a:lnTo>
                  <a:lnTo>
                    <a:pt x="126" y="130"/>
                  </a:lnTo>
                  <a:lnTo>
                    <a:pt x="86" y="130"/>
                  </a:lnTo>
                  <a:lnTo>
                    <a:pt x="46" y="130"/>
                  </a:lnTo>
                  <a:lnTo>
                    <a:pt x="9" y="130"/>
                  </a:lnTo>
                  <a:lnTo>
                    <a:pt x="9" y="127"/>
                  </a:lnTo>
                  <a:lnTo>
                    <a:pt x="11" y="124"/>
                  </a:lnTo>
                  <a:lnTo>
                    <a:pt x="13" y="122"/>
                  </a:lnTo>
                  <a:lnTo>
                    <a:pt x="15" y="120"/>
                  </a:lnTo>
                  <a:lnTo>
                    <a:pt x="19" y="119"/>
                  </a:lnTo>
                  <a:lnTo>
                    <a:pt x="22" y="116"/>
                  </a:lnTo>
                  <a:lnTo>
                    <a:pt x="26" y="116"/>
                  </a:lnTo>
                  <a:lnTo>
                    <a:pt x="29" y="115"/>
                  </a:lnTo>
                  <a:lnTo>
                    <a:pt x="38" y="112"/>
                  </a:lnTo>
                  <a:lnTo>
                    <a:pt x="50" y="112"/>
                  </a:lnTo>
                  <a:lnTo>
                    <a:pt x="62" y="112"/>
                  </a:lnTo>
                  <a:lnTo>
                    <a:pt x="74" y="111"/>
                  </a:lnTo>
                  <a:lnTo>
                    <a:pt x="80" y="110"/>
                  </a:lnTo>
                  <a:lnTo>
                    <a:pt x="85" y="108"/>
                  </a:lnTo>
                  <a:lnTo>
                    <a:pt x="89" y="106"/>
                  </a:lnTo>
                  <a:lnTo>
                    <a:pt x="92" y="103"/>
                  </a:lnTo>
                  <a:lnTo>
                    <a:pt x="94" y="99"/>
                  </a:lnTo>
                  <a:lnTo>
                    <a:pt x="96" y="93"/>
                  </a:lnTo>
                  <a:lnTo>
                    <a:pt x="96" y="87"/>
                  </a:lnTo>
                  <a:lnTo>
                    <a:pt x="94" y="79"/>
                  </a:lnTo>
                  <a:lnTo>
                    <a:pt x="94" y="75"/>
                  </a:lnTo>
                  <a:lnTo>
                    <a:pt x="94" y="71"/>
                  </a:lnTo>
                  <a:lnTo>
                    <a:pt x="93" y="65"/>
                  </a:lnTo>
                  <a:lnTo>
                    <a:pt x="93" y="61"/>
                  </a:lnTo>
                  <a:lnTo>
                    <a:pt x="93" y="57"/>
                  </a:lnTo>
                  <a:lnTo>
                    <a:pt x="92" y="52"/>
                  </a:lnTo>
                  <a:lnTo>
                    <a:pt x="92" y="48"/>
                  </a:lnTo>
                  <a:lnTo>
                    <a:pt x="93" y="43"/>
                  </a:lnTo>
                  <a:lnTo>
                    <a:pt x="96" y="41"/>
                  </a:lnTo>
                  <a:lnTo>
                    <a:pt x="100" y="40"/>
                  </a:lnTo>
                  <a:lnTo>
                    <a:pt x="102" y="41"/>
                  </a:lnTo>
                  <a:lnTo>
                    <a:pt x="106" y="43"/>
                  </a:lnTo>
                  <a:lnTo>
                    <a:pt x="109" y="44"/>
                  </a:lnTo>
                  <a:lnTo>
                    <a:pt x="112" y="47"/>
                  </a:lnTo>
                  <a:lnTo>
                    <a:pt x="114" y="51"/>
                  </a:lnTo>
                  <a:lnTo>
                    <a:pt x="116" y="53"/>
                  </a:lnTo>
                  <a:lnTo>
                    <a:pt x="117" y="60"/>
                  </a:lnTo>
                  <a:lnTo>
                    <a:pt x="116" y="68"/>
                  </a:lnTo>
                  <a:lnTo>
                    <a:pt x="114" y="75"/>
                  </a:lnTo>
                  <a:lnTo>
                    <a:pt x="113" y="83"/>
                  </a:lnTo>
                  <a:lnTo>
                    <a:pt x="113" y="89"/>
                  </a:lnTo>
                  <a:lnTo>
                    <a:pt x="113" y="95"/>
                  </a:lnTo>
                  <a:lnTo>
                    <a:pt x="114" y="99"/>
                  </a:lnTo>
                  <a:lnTo>
                    <a:pt x="117" y="102"/>
                  </a:lnTo>
                  <a:lnTo>
                    <a:pt x="118" y="104"/>
                  </a:lnTo>
                  <a:lnTo>
                    <a:pt x="122" y="107"/>
                  </a:lnTo>
                  <a:lnTo>
                    <a:pt x="172" y="108"/>
                  </a:lnTo>
                  <a:lnTo>
                    <a:pt x="222" y="108"/>
                  </a:lnTo>
                  <a:lnTo>
                    <a:pt x="272" y="110"/>
                  </a:lnTo>
                  <a:lnTo>
                    <a:pt x="322" y="111"/>
                  </a:lnTo>
                  <a:lnTo>
                    <a:pt x="373" y="111"/>
                  </a:lnTo>
                  <a:lnTo>
                    <a:pt x="423" y="112"/>
                  </a:lnTo>
                  <a:lnTo>
                    <a:pt x="472" y="112"/>
                  </a:lnTo>
                  <a:lnTo>
                    <a:pt x="522" y="112"/>
                  </a:lnTo>
                  <a:lnTo>
                    <a:pt x="523" y="102"/>
                  </a:lnTo>
                  <a:lnTo>
                    <a:pt x="524" y="91"/>
                  </a:lnTo>
                  <a:lnTo>
                    <a:pt x="524" y="80"/>
                  </a:lnTo>
                  <a:lnTo>
                    <a:pt x="523" y="69"/>
                  </a:lnTo>
                  <a:lnTo>
                    <a:pt x="523" y="59"/>
                  </a:lnTo>
                  <a:lnTo>
                    <a:pt x="526" y="48"/>
                  </a:lnTo>
                  <a:lnTo>
                    <a:pt x="527" y="44"/>
                  </a:lnTo>
                  <a:lnTo>
                    <a:pt x="530" y="40"/>
                  </a:lnTo>
                  <a:lnTo>
                    <a:pt x="532" y="36"/>
                  </a:lnTo>
                  <a:lnTo>
                    <a:pt x="536" y="33"/>
                  </a:lnTo>
                  <a:lnTo>
                    <a:pt x="542" y="35"/>
                  </a:lnTo>
                  <a:lnTo>
                    <a:pt x="546" y="39"/>
                  </a:lnTo>
                  <a:lnTo>
                    <a:pt x="548" y="41"/>
                  </a:lnTo>
                  <a:lnTo>
                    <a:pt x="550" y="45"/>
                  </a:lnTo>
                  <a:lnTo>
                    <a:pt x="551" y="56"/>
                  </a:lnTo>
                  <a:lnTo>
                    <a:pt x="551" y="65"/>
                  </a:lnTo>
                  <a:lnTo>
                    <a:pt x="550" y="77"/>
                  </a:lnTo>
                  <a:lnTo>
                    <a:pt x="548" y="88"/>
                  </a:lnTo>
                  <a:lnTo>
                    <a:pt x="548" y="93"/>
                  </a:lnTo>
                  <a:lnTo>
                    <a:pt x="550" y="99"/>
                  </a:lnTo>
                  <a:lnTo>
                    <a:pt x="551" y="104"/>
                  </a:lnTo>
                  <a:lnTo>
                    <a:pt x="554" y="110"/>
                  </a:lnTo>
                  <a:lnTo>
                    <a:pt x="601" y="115"/>
                  </a:lnTo>
                  <a:lnTo>
                    <a:pt x="968" y="112"/>
                  </a:lnTo>
                  <a:lnTo>
                    <a:pt x="974" y="112"/>
                  </a:lnTo>
                  <a:lnTo>
                    <a:pt x="979" y="111"/>
                  </a:lnTo>
                  <a:lnTo>
                    <a:pt x="983" y="110"/>
                  </a:lnTo>
                  <a:lnTo>
                    <a:pt x="984" y="107"/>
                  </a:lnTo>
                  <a:lnTo>
                    <a:pt x="987" y="102"/>
                  </a:lnTo>
                  <a:lnTo>
                    <a:pt x="985" y="93"/>
                  </a:lnTo>
                  <a:lnTo>
                    <a:pt x="984" y="85"/>
                  </a:lnTo>
                  <a:lnTo>
                    <a:pt x="983" y="77"/>
                  </a:lnTo>
                  <a:lnTo>
                    <a:pt x="981" y="68"/>
                  </a:lnTo>
                  <a:lnTo>
                    <a:pt x="984" y="61"/>
                  </a:lnTo>
                  <a:lnTo>
                    <a:pt x="981" y="60"/>
                  </a:lnTo>
                  <a:lnTo>
                    <a:pt x="981" y="57"/>
                  </a:lnTo>
                  <a:lnTo>
                    <a:pt x="981" y="56"/>
                  </a:lnTo>
                  <a:lnTo>
                    <a:pt x="981" y="53"/>
                  </a:lnTo>
                  <a:lnTo>
                    <a:pt x="981" y="52"/>
                  </a:lnTo>
                  <a:lnTo>
                    <a:pt x="981" y="49"/>
                  </a:lnTo>
                  <a:lnTo>
                    <a:pt x="981" y="48"/>
                  </a:lnTo>
                  <a:lnTo>
                    <a:pt x="981" y="45"/>
                  </a:lnTo>
                  <a:lnTo>
                    <a:pt x="1004" y="45"/>
                  </a:lnTo>
                  <a:lnTo>
                    <a:pt x="1007" y="104"/>
                  </a:lnTo>
                  <a:lnTo>
                    <a:pt x="1054" y="110"/>
                  </a:lnTo>
                  <a:lnTo>
                    <a:pt x="1100" y="115"/>
                  </a:lnTo>
                  <a:lnTo>
                    <a:pt x="1147" y="118"/>
                  </a:lnTo>
                  <a:lnTo>
                    <a:pt x="1194" y="120"/>
                  </a:lnTo>
                  <a:lnTo>
                    <a:pt x="1241" y="120"/>
                  </a:lnTo>
                  <a:lnTo>
                    <a:pt x="1288" y="118"/>
                  </a:lnTo>
                  <a:lnTo>
                    <a:pt x="1335" y="114"/>
                  </a:lnTo>
                  <a:lnTo>
                    <a:pt x="1382" y="107"/>
                  </a:lnTo>
                  <a:lnTo>
                    <a:pt x="1390" y="108"/>
                  </a:lnTo>
                  <a:lnTo>
                    <a:pt x="1398" y="110"/>
                  </a:lnTo>
                  <a:lnTo>
                    <a:pt x="1406" y="110"/>
                  </a:lnTo>
                  <a:lnTo>
                    <a:pt x="1415" y="110"/>
                  </a:lnTo>
                  <a:lnTo>
                    <a:pt x="1423" y="110"/>
                  </a:lnTo>
                  <a:lnTo>
                    <a:pt x="1433" y="108"/>
                  </a:lnTo>
                  <a:lnTo>
                    <a:pt x="1441" y="107"/>
                  </a:lnTo>
                  <a:lnTo>
                    <a:pt x="1447" y="104"/>
                  </a:lnTo>
                  <a:lnTo>
                    <a:pt x="1447" y="31"/>
                  </a:lnTo>
                  <a:lnTo>
                    <a:pt x="1450" y="29"/>
                  </a:lnTo>
                  <a:lnTo>
                    <a:pt x="1451" y="28"/>
                  </a:lnTo>
                  <a:lnTo>
                    <a:pt x="1454" y="28"/>
                  </a:lnTo>
                  <a:lnTo>
                    <a:pt x="1457" y="28"/>
                  </a:lnTo>
                  <a:lnTo>
                    <a:pt x="1459" y="28"/>
                  </a:lnTo>
                  <a:lnTo>
                    <a:pt x="1461" y="28"/>
                  </a:lnTo>
                  <a:lnTo>
                    <a:pt x="1464" y="28"/>
                  </a:lnTo>
                  <a:lnTo>
                    <a:pt x="1466" y="28"/>
                  </a:lnTo>
                  <a:lnTo>
                    <a:pt x="1470" y="39"/>
                  </a:lnTo>
                  <a:lnTo>
                    <a:pt x="1472" y="49"/>
                  </a:lnTo>
                  <a:lnTo>
                    <a:pt x="1470" y="60"/>
                  </a:lnTo>
                  <a:lnTo>
                    <a:pt x="1470" y="71"/>
                  </a:lnTo>
                  <a:lnTo>
                    <a:pt x="1469" y="80"/>
                  </a:lnTo>
                  <a:lnTo>
                    <a:pt x="1469" y="91"/>
                  </a:lnTo>
                  <a:lnTo>
                    <a:pt x="1470" y="95"/>
                  </a:lnTo>
                  <a:lnTo>
                    <a:pt x="1472" y="100"/>
                  </a:lnTo>
                  <a:lnTo>
                    <a:pt x="1473" y="104"/>
                  </a:lnTo>
                  <a:lnTo>
                    <a:pt x="1477" y="110"/>
                  </a:lnTo>
                  <a:lnTo>
                    <a:pt x="1531" y="110"/>
                  </a:lnTo>
                  <a:lnTo>
                    <a:pt x="1584" y="110"/>
                  </a:lnTo>
                  <a:lnTo>
                    <a:pt x="1636" y="110"/>
                  </a:lnTo>
                  <a:lnTo>
                    <a:pt x="1689" y="108"/>
                  </a:lnTo>
                  <a:lnTo>
                    <a:pt x="1741" y="107"/>
                  </a:lnTo>
                  <a:lnTo>
                    <a:pt x="1793" y="106"/>
                  </a:lnTo>
                  <a:lnTo>
                    <a:pt x="1845" y="106"/>
                  </a:lnTo>
                  <a:lnTo>
                    <a:pt x="1898" y="104"/>
                  </a:lnTo>
                  <a:lnTo>
                    <a:pt x="1891" y="96"/>
                  </a:lnTo>
                  <a:lnTo>
                    <a:pt x="1887" y="87"/>
                  </a:lnTo>
                  <a:lnTo>
                    <a:pt x="1884" y="76"/>
                  </a:lnTo>
                  <a:lnTo>
                    <a:pt x="1883" y="65"/>
                  </a:lnTo>
                  <a:lnTo>
                    <a:pt x="1882" y="55"/>
                  </a:lnTo>
                  <a:lnTo>
                    <a:pt x="1882" y="44"/>
                  </a:lnTo>
                  <a:lnTo>
                    <a:pt x="1882" y="33"/>
                  </a:lnTo>
                  <a:lnTo>
                    <a:pt x="1880" y="23"/>
                  </a:lnTo>
                  <a:lnTo>
                    <a:pt x="1882" y="21"/>
                  </a:lnTo>
                  <a:lnTo>
                    <a:pt x="1884" y="20"/>
                  </a:lnTo>
                  <a:lnTo>
                    <a:pt x="1887" y="20"/>
                  </a:lnTo>
                  <a:lnTo>
                    <a:pt x="1890" y="20"/>
                  </a:lnTo>
                  <a:lnTo>
                    <a:pt x="1892" y="20"/>
                  </a:lnTo>
                  <a:lnTo>
                    <a:pt x="1895" y="20"/>
                  </a:lnTo>
                  <a:lnTo>
                    <a:pt x="1898" y="20"/>
                  </a:lnTo>
                  <a:lnTo>
                    <a:pt x="1900" y="20"/>
                  </a:lnTo>
                  <a:lnTo>
                    <a:pt x="1903" y="28"/>
                  </a:lnTo>
                  <a:lnTo>
                    <a:pt x="1904" y="36"/>
                  </a:lnTo>
                  <a:lnTo>
                    <a:pt x="1906" y="44"/>
                  </a:lnTo>
                  <a:lnTo>
                    <a:pt x="1906" y="53"/>
                  </a:lnTo>
                  <a:lnTo>
                    <a:pt x="1906" y="61"/>
                  </a:lnTo>
                  <a:lnTo>
                    <a:pt x="1906" y="71"/>
                  </a:lnTo>
                  <a:lnTo>
                    <a:pt x="1906" y="79"/>
                  </a:lnTo>
                  <a:lnTo>
                    <a:pt x="1907" y="87"/>
                  </a:lnTo>
                  <a:lnTo>
                    <a:pt x="1911" y="89"/>
                  </a:lnTo>
                  <a:lnTo>
                    <a:pt x="1914" y="92"/>
                  </a:lnTo>
                  <a:lnTo>
                    <a:pt x="1918" y="95"/>
                  </a:lnTo>
                  <a:lnTo>
                    <a:pt x="1920" y="96"/>
                  </a:lnTo>
                  <a:lnTo>
                    <a:pt x="1923" y="99"/>
                  </a:lnTo>
                  <a:lnTo>
                    <a:pt x="1924" y="102"/>
                  </a:lnTo>
                  <a:lnTo>
                    <a:pt x="1926" y="106"/>
                  </a:lnTo>
                  <a:lnTo>
                    <a:pt x="1926" y="110"/>
                  </a:lnTo>
                  <a:lnTo>
                    <a:pt x="2306" y="110"/>
                  </a:lnTo>
                  <a:lnTo>
                    <a:pt x="2317" y="110"/>
                  </a:lnTo>
                  <a:lnTo>
                    <a:pt x="2316" y="99"/>
                  </a:lnTo>
                  <a:lnTo>
                    <a:pt x="2314" y="88"/>
                  </a:lnTo>
                  <a:lnTo>
                    <a:pt x="2314" y="77"/>
                  </a:lnTo>
                  <a:lnTo>
                    <a:pt x="2313" y="65"/>
                  </a:lnTo>
                  <a:lnTo>
                    <a:pt x="2314" y="55"/>
                  </a:lnTo>
                  <a:lnTo>
                    <a:pt x="2314" y="43"/>
                  </a:lnTo>
                  <a:lnTo>
                    <a:pt x="2316" y="31"/>
                  </a:lnTo>
                  <a:lnTo>
                    <a:pt x="2317" y="20"/>
                  </a:lnTo>
                  <a:lnTo>
                    <a:pt x="2318" y="17"/>
                  </a:lnTo>
                  <a:lnTo>
                    <a:pt x="2321" y="14"/>
                  </a:lnTo>
                  <a:lnTo>
                    <a:pt x="2324" y="13"/>
                  </a:lnTo>
                  <a:lnTo>
                    <a:pt x="2326" y="12"/>
                  </a:lnTo>
                  <a:lnTo>
                    <a:pt x="2329" y="12"/>
                  </a:lnTo>
                  <a:lnTo>
                    <a:pt x="2333" y="12"/>
                  </a:lnTo>
                  <a:lnTo>
                    <a:pt x="2336" y="13"/>
                  </a:lnTo>
                  <a:lnTo>
                    <a:pt x="2340" y="14"/>
                  </a:lnTo>
                  <a:lnTo>
                    <a:pt x="2346" y="19"/>
                  </a:lnTo>
                  <a:lnTo>
                    <a:pt x="2349" y="23"/>
                  </a:lnTo>
                  <a:lnTo>
                    <a:pt x="2349" y="27"/>
                  </a:lnTo>
                  <a:lnTo>
                    <a:pt x="2346" y="29"/>
                  </a:lnTo>
                  <a:lnTo>
                    <a:pt x="2344" y="33"/>
                  </a:lnTo>
                  <a:lnTo>
                    <a:pt x="2341" y="37"/>
                  </a:lnTo>
                  <a:lnTo>
                    <a:pt x="2338" y="41"/>
                  </a:lnTo>
                  <a:lnTo>
                    <a:pt x="2337" y="45"/>
                  </a:lnTo>
                  <a:lnTo>
                    <a:pt x="2337" y="53"/>
                  </a:lnTo>
                  <a:lnTo>
                    <a:pt x="2337" y="61"/>
                  </a:lnTo>
                  <a:lnTo>
                    <a:pt x="2337" y="71"/>
                  </a:lnTo>
                  <a:lnTo>
                    <a:pt x="2337" y="79"/>
                  </a:lnTo>
                  <a:lnTo>
                    <a:pt x="2338" y="87"/>
                  </a:lnTo>
                  <a:lnTo>
                    <a:pt x="2341" y="95"/>
                  </a:lnTo>
                  <a:lnTo>
                    <a:pt x="2344" y="103"/>
                  </a:lnTo>
                  <a:lnTo>
                    <a:pt x="2349" y="110"/>
                  </a:lnTo>
                  <a:lnTo>
                    <a:pt x="2401" y="111"/>
                  </a:lnTo>
                  <a:lnTo>
                    <a:pt x="2455" y="111"/>
                  </a:lnTo>
                  <a:lnTo>
                    <a:pt x="2507" y="112"/>
                  </a:lnTo>
                  <a:lnTo>
                    <a:pt x="2559" y="112"/>
                  </a:lnTo>
                  <a:lnTo>
                    <a:pt x="2613" y="112"/>
                  </a:lnTo>
                  <a:lnTo>
                    <a:pt x="2667" y="112"/>
                  </a:lnTo>
                  <a:lnTo>
                    <a:pt x="2720" y="112"/>
                  </a:lnTo>
                  <a:lnTo>
                    <a:pt x="2776" y="112"/>
                  </a:lnTo>
                  <a:lnTo>
                    <a:pt x="2778" y="96"/>
                  </a:lnTo>
                  <a:lnTo>
                    <a:pt x="2778" y="81"/>
                  </a:lnTo>
                  <a:lnTo>
                    <a:pt x="2778" y="67"/>
                  </a:lnTo>
                  <a:lnTo>
                    <a:pt x="2778" y="53"/>
                  </a:lnTo>
                  <a:lnTo>
                    <a:pt x="2776" y="40"/>
                  </a:lnTo>
                  <a:lnTo>
                    <a:pt x="2776" y="27"/>
                  </a:lnTo>
                  <a:lnTo>
                    <a:pt x="2775" y="13"/>
                  </a:lnTo>
                  <a:lnTo>
                    <a:pt x="2776" y="0"/>
                  </a:lnTo>
                  <a:lnTo>
                    <a:pt x="2781" y="0"/>
                  </a:lnTo>
                  <a:lnTo>
                    <a:pt x="2783" y="0"/>
                  </a:lnTo>
                  <a:lnTo>
                    <a:pt x="2787" y="0"/>
                  </a:lnTo>
                  <a:lnTo>
                    <a:pt x="2791" y="1"/>
                  </a:lnTo>
                  <a:lnTo>
                    <a:pt x="2795" y="1"/>
                  </a:lnTo>
                  <a:lnTo>
                    <a:pt x="2798" y="4"/>
                  </a:lnTo>
                  <a:lnTo>
                    <a:pt x="2801" y="6"/>
                  </a:lnTo>
                  <a:lnTo>
                    <a:pt x="2802" y="9"/>
                  </a:lnTo>
                  <a:close/>
                  <a:moveTo>
                    <a:pt x="1500" y="747"/>
                  </a:moveTo>
                  <a:lnTo>
                    <a:pt x="1500" y="755"/>
                  </a:lnTo>
                  <a:lnTo>
                    <a:pt x="1501" y="764"/>
                  </a:lnTo>
                  <a:lnTo>
                    <a:pt x="1502" y="772"/>
                  </a:lnTo>
                  <a:lnTo>
                    <a:pt x="1504" y="782"/>
                  </a:lnTo>
                  <a:lnTo>
                    <a:pt x="1505" y="791"/>
                  </a:lnTo>
                  <a:lnTo>
                    <a:pt x="1506" y="800"/>
                  </a:lnTo>
                  <a:lnTo>
                    <a:pt x="1508" y="808"/>
                  </a:lnTo>
                  <a:lnTo>
                    <a:pt x="1509" y="816"/>
                  </a:lnTo>
                  <a:lnTo>
                    <a:pt x="1508" y="898"/>
                  </a:lnTo>
                  <a:lnTo>
                    <a:pt x="1457" y="895"/>
                  </a:lnTo>
                  <a:lnTo>
                    <a:pt x="1405" y="895"/>
                  </a:lnTo>
                  <a:lnTo>
                    <a:pt x="1354" y="895"/>
                  </a:lnTo>
                  <a:lnTo>
                    <a:pt x="1301" y="897"/>
                  </a:lnTo>
                  <a:lnTo>
                    <a:pt x="1250" y="898"/>
                  </a:lnTo>
                  <a:lnTo>
                    <a:pt x="1198" y="897"/>
                  </a:lnTo>
                  <a:lnTo>
                    <a:pt x="1173" y="897"/>
                  </a:lnTo>
                  <a:lnTo>
                    <a:pt x="1146" y="894"/>
                  </a:lnTo>
                  <a:lnTo>
                    <a:pt x="1121" y="891"/>
                  </a:lnTo>
                  <a:lnTo>
                    <a:pt x="1095" y="887"/>
                  </a:lnTo>
                  <a:lnTo>
                    <a:pt x="1091" y="783"/>
                  </a:lnTo>
                  <a:lnTo>
                    <a:pt x="1092" y="780"/>
                  </a:lnTo>
                  <a:lnTo>
                    <a:pt x="1094" y="778"/>
                  </a:lnTo>
                  <a:lnTo>
                    <a:pt x="1095" y="776"/>
                  </a:lnTo>
                  <a:lnTo>
                    <a:pt x="1096" y="774"/>
                  </a:lnTo>
                  <a:lnTo>
                    <a:pt x="1098" y="771"/>
                  </a:lnTo>
                  <a:lnTo>
                    <a:pt x="1098" y="768"/>
                  </a:lnTo>
                  <a:lnTo>
                    <a:pt x="1098" y="766"/>
                  </a:lnTo>
                  <a:lnTo>
                    <a:pt x="1095" y="763"/>
                  </a:lnTo>
                  <a:lnTo>
                    <a:pt x="1095" y="763"/>
                  </a:lnTo>
                  <a:lnTo>
                    <a:pt x="1094" y="762"/>
                  </a:lnTo>
                  <a:lnTo>
                    <a:pt x="1094" y="760"/>
                  </a:lnTo>
                  <a:lnTo>
                    <a:pt x="1094" y="759"/>
                  </a:lnTo>
                  <a:lnTo>
                    <a:pt x="1094" y="759"/>
                  </a:lnTo>
                  <a:lnTo>
                    <a:pt x="1094" y="758"/>
                  </a:lnTo>
                  <a:lnTo>
                    <a:pt x="1094" y="756"/>
                  </a:lnTo>
                  <a:lnTo>
                    <a:pt x="1094" y="755"/>
                  </a:lnTo>
                  <a:lnTo>
                    <a:pt x="1119" y="755"/>
                  </a:lnTo>
                  <a:lnTo>
                    <a:pt x="1145" y="754"/>
                  </a:lnTo>
                  <a:lnTo>
                    <a:pt x="1170" y="752"/>
                  </a:lnTo>
                  <a:lnTo>
                    <a:pt x="1196" y="751"/>
                  </a:lnTo>
                  <a:lnTo>
                    <a:pt x="1220" y="751"/>
                  </a:lnTo>
                  <a:lnTo>
                    <a:pt x="1244" y="751"/>
                  </a:lnTo>
                  <a:lnTo>
                    <a:pt x="1268" y="751"/>
                  </a:lnTo>
                  <a:lnTo>
                    <a:pt x="1292" y="752"/>
                  </a:lnTo>
                  <a:lnTo>
                    <a:pt x="1299" y="756"/>
                  </a:lnTo>
                  <a:lnTo>
                    <a:pt x="1304" y="758"/>
                  </a:lnTo>
                  <a:lnTo>
                    <a:pt x="1311" y="758"/>
                  </a:lnTo>
                  <a:lnTo>
                    <a:pt x="1317" y="758"/>
                  </a:lnTo>
                  <a:lnTo>
                    <a:pt x="1324" y="756"/>
                  </a:lnTo>
                  <a:lnTo>
                    <a:pt x="1331" y="754"/>
                  </a:lnTo>
                  <a:lnTo>
                    <a:pt x="1338" y="752"/>
                  </a:lnTo>
                  <a:lnTo>
                    <a:pt x="1343" y="750"/>
                  </a:lnTo>
                  <a:lnTo>
                    <a:pt x="1363" y="750"/>
                  </a:lnTo>
                  <a:lnTo>
                    <a:pt x="1382" y="750"/>
                  </a:lnTo>
                  <a:lnTo>
                    <a:pt x="1402" y="750"/>
                  </a:lnTo>
                  <a:lnTo>
                    <a:pt x="1422" y="750"/>
                  </a:lnTo>
                  <a:lnTo>
                    <a:pt x="1441" y="750"/>
                  </a:lnTo>
                  <a:lnTo>
                    <a:pt x="1461" y="750"/>
                  </a:lnTo>
                  <a:lnTo>
                    <a:pt x="1480" y="748"/>
                  </a:lnTo>
                  <a:lnTo>
                    <a:pt x="150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40880" y="4894200"/>
              <a:ext cx="388080" cy="73800"/>
            </a:xfrm>
            <a:custGeom>
              <a:avLst/>
              <a:gdLst/>
              <a:ahLst/>
              <a:rect l="l" t="t" r="r" b="b"/>
              <a:pathLst>
                <a:path w="848" h="169">
                  <a:moveTo>
                    <a:pt x="837" y="12"/>
                  </a:moveTo>
                  <a:lnTo>
                    <a:pt x="840" y="29"/>
                  </a:lnTo>
                  <a:lnTo>
                    <a:pt x="840" y="48"/>
                  </a:lnTo>
                  <a:lnTo>
                    <a:pt x="840" y="66"/>
                  </a:lnTo>
                  <a:lnTo>
                    <a:pt x="839" y="84"/>
                  </a:lnTo>
                  <a:lnTo>
                    <a:pt x="837" y="103"/>
                  </a:lnTo>
                  <a:lnTo>
                    <a:pt x="837" y="122"/>
                  </a:lnTo>
                  <a:lnTo>
                    <a:pt x="837" y="141"/>
                  </a:lnTo>
                  <a:lnTo>
                    <a:pt x="840" y="158"/>
                  </a:lnTo>
                  <a:lnTo>
                    <a:pt x="848" y="166"/>
                  </a:lnTo>
                  <a:lnTo>
                    <a:pt x="146" y="169"/>
                  </a:lnTo>
                  <a:lnTo>
                    <a:pt x="15" y="166"/>
                  </a:lnTo>
                  <a:lnTo>
                    <a:pt x="16" y="161"/>
                  </a:lnTo>
                  <a:lnTo>
                    <a:pt x="17" y="155"/>
                  </a:lnTo>
                  <a:lnTo>
                    <a:pt x="17" y="150"/>
                  </a:lnTo>
                  <a:lnTo>
                    <a:pt x="17" y="145"/>
                  </a:lnTo>
                  <a:lnTo>
                    <a:pt x="15" y="135"/>
                  </a:lnTo>
                  <a:lnTo>
                    <a:pt x="11" y="125"/>
                  </a:lnTo>
                  <a:lnTo>
                    <a:pt x="7" y="114"/>
                  </a:lnTo>
                  <a:lnTo>
                    <a:pt x="3" y="104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8" y="8"/>
                  </a:lnTo>
                  <a:lnTo>
                    <a:pt x="23" y="0"/>
                  </a:lnTo>
                  <a:lnTo>
                    <a:pt x="411" y="5"/>
                  </a:lnTo>
                  <a:lnTo>
                    <a:pt x="419" y="5"/>
                  </a:lnTo>
                  <a:lnTo>
                    <a:pt x="422" y="23"/>
                  </a:lnTo>
                  <a:lnTo>
                    <a:pt x="425" y="41"/>
                  </a:lnTo>
                  <a:lnTo>
                    <a:pt x="427" y="62"/>
                  </a:lnTo>
                  <a:lnTo>
                    <a:pt x="427" y="80"/>
                  </a:lnTo>
                  <a:lnTo>
                    <a:pt x="429" y="100"/>
                  </a:lnTo>
                  <a:lnTo>
                    <a:pt x="430" y="119"/>
                  </a:lnTo>
                  <a:lnTo>
                    <a:pt x="431" y="138"/>
                  </a:lnTo>
                  <a:lnTo>
                    <a:pt x="434" y="155"/>
                  </a:lnTo>
                  <a:lnTo>
                    <a:pt x="437" y="157"/>
                  </a:lnTo>
                  <a:lnTo>
                    <a:pt x="439" y="159"/>
                  </a:lnTo>
                  <a:lnTo>
                    <a:pt x="442" y="161"/>
                  </a:lnTo>
                  <a:lnTo>
                    <a:pt x="445" y="162"/>
                  </a:lnTo>
                  <a:lnTo>
                    <a:pt x="447" y="163"/>
                  </a:lnTo>
                  <a:lnTo>
                    <a:pt x="450" y="163"/>
                  </a:lnTo>
                  <a:lnTo>
                    <a:pt x="453" y="163"/>
                  </a:lnTo>
                  <a:lnTo>
                    <a:pt x="457" y="163"/>
                  </a:lnTo>
                  <a:lnTo>
                    <a:pt x="461" y="159"/>
                  </a:lnTo>
                  <a:lnTo>
                    <a:pt x="463" y="154"/>
                  </a:lnTo>
                  <a:lnTo>
                    <a:pt x="466" y="150"/>
                  </a:lnTo>
                  <a:lnTo>
                    <a:pt x="466" y="145"/>
                  </a:lnTo>
                  <a:lnTo>
                    <a:pt x="467" y="135"/>
                  </a:lnTo>
                  <a:lnTo>
                    <a:pt x="465" y="126"/>
                  </a:lnTo>
                  <a:lnTo>
                    <a:pt x="462" y="115"/>
                  </a:lnTo>
                  <a:lnTo>
                    <a:pt x="461" y="104"/>
                  </a:lnTo>
                  <a:lnTo>
                    <a:pt x="459" y="95"/>
                  </a:lnTo>
                  <a:lnTo>
                    <a:pt x="459" y="84"/>
                  </a:lnTo>
                  <a:lnTo>
                    <a:pt x="458" y="74"/>
                  </a:lnTo>
                  <a:lnTo>
                    <a:pt x="457" y="64"/>
                  </a:lnTo>
                  <a:lnTo>
                    <a:pt x="457" y="55"/>
                  </a:lnTo>
                  <a:lnTo>
                    <a:pt x="455" y="47"/>
                  </a:lnTo>
                  <a:lnTo>
                    <a:pt x="454" y="37"/>
                  </a:lnTo>
                  <a:lnTo>
                    <a:pt x="454" y="28"/>
                  </a:lnTo>
                  <a:lnTo>
                    <a:pt x="454" y="19"/>
                  </a:lnTo>
                  <a:lnTo>
                    <a:pt x="454" y="8"/>
                  </a:lnTo>
                  <a:lnTo>
                    <a:pt x="486" y="8"/>
                  </a:lnTo>
                  <a:lnTo>
                    <a:pt x="517" y="7"/>
                  </a:lnTo>
                  <a:lnTo>
                    <a:pt x="548" y="4"/>
                  </a:lnTo>
                  <a:lnTo>
                    <a:pt x="579" y="3"/>
                  </a:lnTo>
                  <a:lnTo>
                    <a:pt x="608" y="0"/>
                  </a:lnTo>
                  <a:lnTo>
                    <a:pt x="639" y="0"/>
                  </a:lnTo>
                  <a:lnTo>
                    <a:pt x="670" y="0"/>
                  </a:lnTo>
                  <a:lnTo>
                    <a:pt x="702" y="3"/>
                  </a:lnTo>
                  <a:lnTo>
                    <a:pt x="837" y="12"/>
                  </a:lnTo>
                  <a:close/>
                </a:path>
              </a:pathLst>
            </a:custGeom>
            <a:solidFill>
              <a:srgbClr val="996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46640" y="5076000"/>
              <a:ext cx="416520" cy="82800"/>
            </a:xfrm>
            <a:custGeom>
              <a:avLst/>
              <a:gdLst/>
              <a:ahLst/>
              <a:rect l="l" t="t" r="r" b="b"/>
              <a:pathLst>
                <a:path w="912" h="190">
                  <a:moveTo>
                    <a:pt x="910" y="0"/>
                  </a:moveTo>
                  <a:lnTo>
                    <a:pt x="908" y="21"/>
                  </a:lnTo>
                  <a:lnTo>
                    <a:pt x="908" y="44"/>
                  </a:lnTo>
                  <a:lnTo>
                    <a:pt x="910" y="67"/>
                  </a:lnTo>
                  <a:lnTo>
                    <a:pt x="911" y="90"/>
                  </a:lnTo>
                  <a:lnTo>
                    <a:pt x="912" y="114"/>
                  </a:lnTo>
                  <a:lnTo>
                    <a:pt x="912" y="135"/>
                  </a:lnTo>
                  <a:lnTo>
                    <a:pt x="911" y="155"/>
                  </a:lnTo>
                  <a:lnTo>
                    <a:pt x="907" y="174"/>
                  </a:lnTo>
                  <a:lnTo>
                    <a:pt x="881" y="174"/>
                  </a:lnTo>
                  <a:lnTo>
                    <a:pt x="853" y="174"/>
                  </a:lnTo>
                  <a:lnTo>
                    <a:pt x="825" y="174"/>
                  </a:lnTo>
                  <a:lnTo>
                    <a:pt x="797" y="174"/>
                  </a:lnTo>
                  <a:lnTo>
                    <a:pt x="769" y="174"/>
                  </a:lnTo>
                  <a:lnTo>
                    <a:pt x="741" y="175"/>
                  </a:lnTo>
                  <a:lnTo>
                    <a:pt x="714" y="177"/>
                  </a:lnTo>
                  <a:lnTo>
                    <a:pt x="687" y="179"/>
                  </a:lnTo>
                  <a:lnTo>
                    <a:pt x="659" y="174"/>
                  </a:lnTo>
                  <a:lnTo>
                    <a:pt x="442" y="179"/>
                  </a:lnTo>
                  <a:lnTo>
                    <a:pt x="3" y="190"/>
                  </a:lnTo>
                  <a:lnTo>
                    <a:pt x="1" y="169"/>
                  </a:lnTo>
                  <a:lnTo>
                    <a:pt x="0" y="147"/>
                  </a:lnTo>
                  <a:lnTo>
                    <a:pt x="0" y="126"/>
                  </a:lnTo>
                  <a:lnTo>
                    <a:pt x="1" y="104"/>
                  </a:lnTo>
                  <a:lnTo>
                    <a:pt x="3" y="83"/>
                  </a:lnTo>
                  <a:lnTo>
                    <a:pt x="4" y="62"/>
                  </a:lnTo>
                  <a:lnTo>
                    <a:pt x="5" y="42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8" y="11"/>
                  </a:lnTo>
                  <a:lnTo>
                    <a:pt x="24" y="7"/>
                  </a:lnTo>
                  <a:lnTo>
                    <a:pt x="75" y="7"/>
                  </a:lnTo>
                  <a:lnTo>
                    <a:pt x="127" y="7"/>
                  </a:lnTo>
                  <a:lnTo>
                    <a:pt x="177" y="5"/>
                  </a:lnTo>
                  <a:lnTo>
                    <a:pt x="228" y="4"/>
                  </a:lnTo>
                  <a:lnTo>
                    <a:pt x="277" y="4"/>
                  </a:lnTo>
                  <a:lnTo>
                    <a:pt x="328" y="3"/>
                  </a:lnTo>
                  <a:lnTo>
                    <a:pt x="379" y="3"/>
                  </a:lnTo>
                  <a:lnTo>
                    <a:pt x="430" y="4"/>
                  </a:lnTo>
                  <a:lnTo>
                    <a:pt x="433" y="12"/>
                  </a:lnTo>
                  <a:lnTo>
                    <a:pt x="437" y="21"/>
                  </a:lnTo>
                  <a:lnTo>
                    <a:pt x="438" y="31"/>
                  </a:lnTo>
                  <a:lnTo>
                    <a:pt x="439" y="40"/>
                  </a:lnTo>
                  <a:lnTo>
                    <a:pt x="442" y="59"/>
                  </a:lnTo>
                  <a:lnTo>
                    <a:pt x="442" y="79"/>
                  </a:lnTo>
                  <a:lnTo>
                    <a:pt x="442" y="98"/>
                  </a:lnTo>
                  <a:lnTo>
                    <a:pt x="441" y="118"/>
                  </a:lnTo>
                  <a:lnTo>
                    <a:pt x="442" y="137"/>
                  </a:lnTo>
                  <a:lnTo>
                    <a:pt x="445" y="157"/>
                  </a:lnTo>
                  <a:lnTo>
                    <a:pt x="447" y="158"/>
                  </a:lnTo>
                  <a:lnTo>
                    <a:pt x="451" y="161"/>
                  </a:lnTo>
                  <a:lnTo>
                    <a:pt x="454" y="162"/>
                  </a:lnTo>
                  <a:lnTo>
                    <a:pt x="457" y="165"/>
                  </a:lnTo>
                  <a:lnTo>
                    <a:pt x="461" y="166"/>
                  </a:lnTo>
                  <a:lnTo>
                    <a:pt x="463" y="167"/>
                  </a:lnTo>
                  <a:lnTo>
                    <a:pt x="466" y="169"/>
                  </a:lnTo>
                  <a:lnTo>
                    <a:pt x="470" y="169"/>
                  </a:lnTo>
                  <a:lnTo>
                    <a:pt x="474" y="166"/>
                  </a:lnTo>
                  <a:lnTo>
                    <a:pt x="476" y="162"/>
                  </a:lnTo>
                  <a:lnTo>
                    <a:pt x="474" y="159"/>
                  </a:lnTo>
                  <a:lnTo>
                    <a:pt x="471" y="155"/>
                  </a:lnTo>
                  <a:lnTo>
                    <a:pt x="469" y="153"/>
                  </a:lnTo>
                  <a:lnTo>
                    <a:pt x="466" y="150"/>
                  </a:lnTo>
                  <a:lnTo>
                    <a:pt x="465" y="146"/>
                  </a:lnTo>
                  <a:lnTo>
                    <a:pt x="465" y="142"/>
                  </a:lnTo>
                  <a:lnTo>
                    <a:pt x="462" y="126"/>
                  </a:lnTo>
                  <a:lnTo>
                    <a:pt x="461" y="111"/>
                  </a:lnTo>
                  <a:lnTo>
                    <a:pt x="459" y="95"/>
                  </a:lnTo>
                  <a:lnTo>
                    <a:pt x="459" y="80"/>
                  </a:lnTo>
                  <a:lnTo>
                    <a:pt x="461" y="66"/>
                  </a:lnTo>
                  <a:lnTo>
                    <a:pt x="463" y="51"/>
                  </a:lnTo>
                  <a:lnTo>
                    <a:pt x="467" y="38"/>
                  </a:lnTo>
                  <a:lnTo>
                    <a:pt x="473" y="24"/>
                  </a:lnTo>
                  <a:lnTo>
                    <a:pt x="465" y="7"/>
                  </a:lnTo>
                  <a:lnTo>
                    <a:pt x="508" y="4"/>
                  </a:lnTo>
                  <a:lnTo>
                    <a:pt x="551" y="4"/>
                  </a:lnTo>
                  <a:lnTo>
                    <a:pt x="593" y="4"/>
                  </a:lnTo>
                  <a:lnTo>
                    <a:pt x="636" y="4"/>
                  </a:lnTo>
                  <a:lnTo>
                    <a:pt x="681" y="4"/>
                  </a:lnTo>
                  <a:lnTo>
                    <a:pt x="723" y="3"/>
                  </a:lnTo>
                  <a:lnTo>
                    <a:pt x="768" y="3"/>
                  </a:lnTo>
                  <a:lnTo>
                    <a:pt x="813" y="0"/>
                  </a:lnTo>
                  <a:lnTo>
                    <a:pt x="825" y="0"/>
                  </a:lnTo>
                  <a:lnTo>
                    <a:pt x="837" y="0"/>
                  </a:lnTo>
                  <a:lnTo>
                    <a:pt x="849" y="0"/>
                  </a:lnTo>
                  <a:lnTo>
                    <a:pt x="861" y="0"/>
                  </a:lnTo>
                  <a:lnTo>
                    <a:pt x="872" y="0"/>
                  </a:lnTo>
                  <a:lnTo>
                    <a:pt x="884" y="0"/>
                  </a:lnTo>
                  <a:lnTo>
                    <a:pt x="896" y="0"/>
                  </a:lnTo>
                  <a:lnTo>
                    <a:pt x="910" y="0"/>
                  </a:lnTo>
                  <a:close/>
                </a:path>
              </a:pathLst>
            </a:custGeom>
            <a:solidFill>
              <a:srgbClr val="996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43680" y="5122080"/>
              <a:ext cx="1332000" cy="1103760"/>
            </a:xfrm>
            <a:custGeom>
              <a:avLst/>
              <a:gdLst/>
              <a:ahLst/>
              <a:rect l="l" t="t" r="r" b="b"/>
              <a:pathLst>
                <a:path w="2912" h="2509">
                  <a:moveTo>
                    <a:pt x="2107" y="96"/>
                  </a:moveTo>
                  <a:lnTo>
                    <a:pt x="2115" y="107"/>
                  </a:lnTo>
                  <a:lnTo>
                    <a:pt x="2121" y="119"/>
                  </a:lnTo>
                  <a:lnTo>
                    <a:pt x="2126" y="131"/>
                  </a:lnTo>
                  <a:lnTo>
                    <a:pt x="2131" y="143"/>
                  </a:lnTo>
                  <a:lnTo>
                    <a:pt x="2134" y="156"/>
                  </a:lnTo>
                  <a:lnTo>
                    <a:pt x="2137" y="169"/>
                  </a:lnTo>
                  <a:lnTo>
                    <a:pt x="2139" y="181"/>
                  </a:lnTo>
                  <a:lnTo>
                    <a:pt x="2141" y="194"/>
                  </a:lnTo>
                  <a:lnTo>
                    <a:pt x="2138" y="205"/>
                  </a:lnTo>
                  <a:lnTo>
                    <a:pt x="2137" y="217"/>
                  </a:lnTo>
                  <a:lnTo>
                    <a:pt x="2135" y="227"/>
                  </a:lnTo>
                  <a:lnTo>
                    <a:pt x="2134" y="239"/>
                  </a:lnTo>
                  <a:lnTo>
                    <a:pt x="2133" y="252"/>
                  </a:lnTo>
                  <a:lnTo>
                    <a:pt x="2133" y="262"/>
                  </a:lnTo>
                  <a:lnTo>
                    <a:pt x="2130" y="274"/>
                  </a:lnTo>
                  <a:lnTo>
                    <a:pt x="2127" y="285"/>
                  </a:lnTo>
                  <a:lnTo>
                    <a:pt x="2123" y="289"/>
                  </a:lnTo>
                  <a:lnTo>
                    <a:pt x="2121" y="293"/>
                  </a:lnTo>
                  <a:lnTo>
                    <a:pt x="2119" y="298"/>
                  </a:lnTo>
                  <a:lnTo>
                    <a:pt x="2119" y="305"/>
                  </a:lnTo>
                  <a:lnTo>
                    <a:pt x="2119" y="310"/>
                  </a:lnTo>
                  <a:lnTo>
                    <a:pt x="2121" y="317"/>
                  </a:lnTo>
                  <a:lnTo>
                    <a:pt x="2121" y="322"/>
                  </a:lnTo>
                  <a:lnTo>
                    <a:pt x="2119" y="329"/>
                  </a:lnTo>
                  <a:lnTo>
                    <a:pt x="2117" y="333"/>
                  </a:lnTo>
                  <a:lnTo>
                    <a:pt x="2114" y="339"/>
                  </a:lnTo>
                  <a:lnTo>
                    <a:pt x="2111" y="344"/>
                  </a:lnTo>
                  <a:lnTo>
                    <a:pt x="2110" y="348"/>
                  </a:lnTo>
                  <a:lnTo>
                    <a:pt x="2107" y="353"/>
                  </a:lnTo>
                  <a:lnTo>
                    <a:pt x="2105" y="359"/>
                  </a:lnTo>
                  <a:lnTo>
                    <a:pt x="2101" y="361"/>
                  </a:lnTo>
                  <a:lnTo>
                    <a:pt x="2095" y="365"/>
                  </a:lnTo>
                  <a:lnTo>
                    <a:pt x="2090" y="364"/>
                  </a:lnTo>
                  <a:lnTo>
                    <a:pt x="2085" y="363"/>
                  </a:lnTo>
                  <a:lnTo>
                    <a:pt x="2079" y="361"/>
                  </a:lnTo>
                  <a:lnTo>
                    <a:pt x="2074" y="360"/>
                  </a:lnTo>
                  <a:lnTo>
                    <a:pt x="2068" y="360"/>
                  </a:lnTo>
                  <a:lnTo>
                    <a:pt x="2063" y="359"/>
                  </a:lnTo>
                  <a:lnTo>
                    <a:pt x="2056" y="359"/>
                  </a:lnTo>
                  <a:lnTo>
                    <a:pt x="2051" y="359"/>
                  </a:lnTo>
                  <a:lnTo>
                    <a:pt x="2052" y="395"/>
                  </a:lnTo>
                  <a:lnTo>
                    <a:pt x="2054" y="431"/>
                  </a:lnTo>
                  <a:lnTo>
                    <a:pt x="2054" y="468"/>
                  </a:lnTo>
                  <a:lnTo>
                    <a:pt x="2052" y="506"/>
                  </a:lnTo>
                  <a:lnTo>
                    <a:pt x="2050" y="543"/>
                  </a:lnTo>
                  <a:lnTo>
                    <a:pt x="2046" y="581"/>
                  </a:lnTo>
                  <a:lnTo>
                    <a:pt x="2040" y="617"/>
                  </a:lnTo>
                  <a:lnTo>
                    <a:pt x="2034" y="653"/>
                  </a:lnTo>
                  <a:lnTo>
                    <a:pt x="2032" y="657"/>
                  </a:lnTo>
                  <a:lnTo>
                    <a:pt x="2034" y="661"/>
                  </a:lnTo>
                  <a:lnTo>
                    <a:pt x="2035" y="665"/>
                  </a:lnTo>
                  <a:lnTo>
                    <a:pt x="2036" y="668"/>
                  </a:lnTo>
                  <a:lnTo>
                    <a:pt x="2039" y="671"/>
                  </a:lnTo>
                  <a:lnTo>
                    <a:pt x="2042" y="675"/>
                  </a:lnTo>
                  <a:lnTo>
                    <a:pt x="2043" y="677"/>
                  </a:lnTo>
                  <a:lnTo>
                    <a:pt x="2043" y="681"/>
                  </a:lnTo>
                  <a:lnTo>
                    <a:pt x="2044" y="687"/>
                  </a:lnTo>
                  <a:lnTo>
                    <a:pt x="2046" y="693"/>
                  </a:lnTo>
                  <a:lnTo>
                    <a:pt x="2046" y="699"/>
                  </a:lnTo>
                  <a:lnTo>
                    <a:pt x="2046" y="705"/>
                  </a:lnTo>
                  <a:lnTo>
                    <a:pt x="2046" y="711"/>
                  </a:lnTo>
                  <a:lnTo>
                    <a:pt x="2046" y="717"/>
                  </a:lnTo>
                  <a:lnTo>
                    <a:pt x="2046" y="723"/>
                  </a:lnTo>
                  <a:lnTo>
                    <a:pt x="2046" y="729"/>
                  </a:lnTo>
                  <a:lnTo>
                    <a:pt x="2058" y="732"/>
                  </a:lnTo>
                  <a:lnTo>
                    <a:pt x="2071" y="734"/>
                  </a:lnTo>
                  <a:lnTo>
                    <a:pt x="2086" y="735"/>
                  </a:lnTo>
                  <a:lnTo>
                    <a:pt x="2099" y="735"/>
                  </a:lnTo>
                  <a:lnTo>
                    <a:pt x="2111" y="738"/>
                  </a:lnTo>
                  <a:lnTo>
                    <a:pt x="2123" y="742"/>
                  </a:lnTo>
                  <a:lnTo>
                    <a:pt x="2129" y="744"/>
                  </a:lnTo>
                  <a:lnTo>
                    <a:pt x="2133" y="748"/>
                  </a:lnTo>
                  <a:lnTo>
                    <a:pt x="2137" y="754"/>
                  </a:lnTo>
                  <a:lnTo>
                    <a:pt x="2141" y="760"/>
                  </a:lnTo>
                  <a:lnTo>
                    <a:pt x="2151" y="763"/>
                  </a:lnTo>
                  <a:lnTo>
                    <a:pt x="2162" y="766"/>
                  </a:lnTo>
                  <a:lnTo>
                    <a:pt x="2173" y="770"/>
                  </a:lnTo>
                  <a:lnTo>
                    <a:pt x="2182" y="775"/>
                  </a:lnTo>
                  <a:lnTo>
                    <a:pt x="2192" y="782"/>
                  </a:lnTo>
                  <a:lnTo>
                    <a:pt x="2201" y="790"/>
                  </a:lnTo>
                  <a:lnTo>
                    <a:pt x="2208" y="798"/>
                  </a:lnTo>
                  <a:lnTo>
                    <a:pt x="2214" y="808"/>
                  </a:lnTo>
                  <a:lnTo>
                    <a:pt x="2217" y="815"/>
                  </a:lnTo>
                  <a:lnTo>
                    <a:pt x="2220" y="821"/>
                  </a:lnTo>
                  <a:lnTo>
                    <a:pt x="2221" y="827"/>
                  </a:lnTo>
                  <a:lnTo>
                    <a:pt x="2224" y="834"/>
                  </a:lnTo>
                  <a:lnTo>
                    <a:pt x="2224" y="842"/>
                  </a:lnTo>
                  <a:lnTo>
                    <a:pt x="2225" y="849"/>
                  </a:lnTo>
                  <a:lnTo>
                    <a:pt x="2227" y="855"/>
                  </a:lnTo>
                  <a:lnTo>
                    <a:pt x="2228" y="862"/>
                  </a:lnTo>
                  <a:lnTo>
                    <a:pt x="2225" y="866"/>
                  </a:lnTo>
                  <a:lnTo>
                    <a:pt x="2225" y="870"/>
                  </a:lnTo>
                  <a:lnTo>
                    <a:pt x="2225" y="875"/>
                  </a:lnTo>
                  <a:lnTo>
                    <a:pt x="2227" y="881"/>
                  </a:lnTo>
                  <a:lnTo>
                    <a:pt x="2227" y="885"/>
                  </a:lnTo>
                  <a:lnTo>
                    <a:pt x="2228" y="890"/>
                  </a:lnTo>
                  <a:lnTo>
                    <a:pt x="2229" y="896"/>
                  </a:lnTo>
                  <a:lnTo>
                    <a:pt x="2231" y="901"/>
                  </a:lnTo>
                  <a:lnTo>
                    <a:pt x="2232" y="909"/>
                  </a:lnTo>
                  <a:lnTo>
                    <a:pt x="2235" y="918"/>
                  </a:lnTo>
                  <a:lnTo>
                    <a:pt x="2235" y="926"/>
                  </a:lnTo>
                  <a:lnTo>
                    <a:pt x="2236" y="934"/>
                  </a:lnTo>
                  <a:lnTo>
                    <a:pt x="2235" y="952"/>
                  </a:lnTo>
                  <a:lnTo>
                    <a:pt x="2232" y="969"/>
                  </a:lnTo>
                  <a:lnTo>
                    <a:pt x="2228" y="985"/>
                  </a:lnTo>
                  <a:lnTo>
                    <a:pt x="2225" y="1001"/>
                  </a:lnTo>
                  <a:lnTo>
                    <a:pt x="2221" y="1017"/>
                  </a:lnTo>
                  <a:lnTo>
                    <a:pt x="2220" y="1033"/>
                  </a:lnTo>
                  <a:lnTo>
                    <a:pt x="2222" y="1041"/>
                  </a:lnTo>
                  <a:lnTo>
                    <a:pt x="2225" y="1049"/>
                  </a:lnTo>
                  <a:lnTo>
                    <a:pt x="2229" y="1058"/>
                  </a:lnTo>
                  <a:lnTo>
                    <a:pt x="2232" y="1066"/>
                  </a:lnTo>
                  <a:lnTo>
                    <a:pt x="2235" y="1074"/>
                  </a:lnTo>
                  <a:lnTo>
                    <a:pt x="2236" y="1082"/>
                  </a:lnTo>
                  <a:lnTo>
                    <a:pt x="2235" y="1088"/>
                  </a:lnTo>
                  <a:lnTo>
                    <a:pt x="2232" y="1095"/>
                  </a:lnTo>
                  <a:lnTo>
                    <a:pt x="2240" y="1103"/>
                  </a:lnTo>
                  <a:lnTo>
                    <a:pt x="2245" y="1112"/>
                  </a:lnTo>
                  <a:lnTo>
                    <a:pt x="2249" y="1123"/>
                  </a:lnTo>
                  <a:lnTo>
                    <a:pt x="2252" y="1134"/>
                  </a:lnTo>
                  <a:lnTo>
                    <a:pt x="2255" y="1145"/>
                  </a:lnTo>
                  <a:lnTo>
                    <a:pt x="2257" y="1155"/>
                  </a:lnTo>
                  <a:lnTo>
                    <a:pt x="2260" y="1166"/>
                  </a:lnTo>
                  <a:lnTo>
                    <a:pt x="2263" y="1177"/>
                  </a:lnTo>
                  <a:lnTo>
                    <a:pt x="2271" y="1190"/>
                  </a:lnTo>
                  <a:lnTo>
                    <a:pt x="2277" y="1205"/>
                  </a:lnTo>
                  <a:lnTo>
                    <a:pt x="2283" y="1218"/>
                  </a:lnTo>
                  <a:lnTo>
                    <a:pt x="2288" y="1233"/>
                  </a:lnTo>
                  <a:lnTo>
                    <a:pt x="2296" y="1262"/>
                  </a:lnTo>
                  <a:lnTo>
                    <a:pt x="2302" y="1293"/>
                  </a:lnTo>
                  <a:lnTo>
                    <a:pt x="2306" y="1324"/>
                  </a:lnTo>
                  <a:lnTo>
                    <a:pt x="2310" y="1356"/>
                  </a:lnTo>
                  <a:lnTo>
                    <a:pt x="2314" y="1387"/>
                  </a:lnTo>
                  <a:lnTo>
                    <a:pt x="2319" y="1419"/>
                  </a:lnTo>
                  <a:lnTo>
                    <a:pt x="2323" y="1435"/>
                  </a:lnTo>
                  <a:lnTo>
                    <a:pt x="2326" y="1451"/>
                  </a:lnTo>
                  <a:lnTo>
                    <a:pt x="2327" y="1467"/>
                  </a:lnTo>
                  <a:lnTo>
                    <a:pt x="2328" y="1485"/>
                  </a:lnTo>
                  <a:lnTo>
                    <a:pt x="2327" y="1502"/>
                  </a:lnTo>
                  <a:lnTo>
                    <a:pt x="2326" y="1518"/>
                  </a:lnTo>
                  <a:lnTo>
                    <a:pt x="2324" y="1535"/>
                  </a:lnTo>
                  <a:lnTo>
                    <a:pt x="2322" y="1552"/>
                  </a:lnTo>
                  <a:lnTo>
                    <a:pt x="2327" y="1554"/>
                  </a:lnTo>
                  <a:lnTo>
                    <a:pt x="2324" y="1558"/>
                  </a:lnTo>
                  <a:lnTo>
                    <a:pt x="2320" y="1564"/>
                  </a:lnTo>
                  <a:lnTo>
                    <a:pt x="2318" y="1570"/>
                  </a:lnTo>
                  <a:lnTo>
                    <a:pt x="2315" y="1577"/>
                  </a:lnTo>
                  <a:lnTo>
                    <a:pt x="2312" y="1584"/>
                  </a:lnTo>
                  <a:lnTo>
                    <a:pt x="2311" y="1590"/>
                  </a:lnTo>
                  <a:lnTo>
                    <a:pt x="2311" y="1598"/>
                  </a:lnTo>
                  <a:lnTo>
                    <a:pt x="2311" y="1605"/>
                  </a:lnTo>
                  <a:lnTo>
                    <a:pt x="2312" y="1606"/>
                  </a:lnTo>
                  <a:lnTo>
                    <a:pt x="2314" y="1608"/>
                  </a:lnTo>
                  <a:lnTo>
                    <a:pt x="2316" y="1608"/>
                  </a:lnTo>
                  <a:lnTo>
                    <a:pt x="2318" y="1608"/>
                  </a:lnTo>
                  <a:lnTo>
                    <a:pt x="2319" y="1608"/>
                  </a:lnTo>
                  <a:lnTo>
                    <a:pt x="2320" y="1608"/>
                  </a:lnTo>
                  <a:lnTo>
                    <a:pt x="2323" y="1608"/>
                  </a:lnTo>
                  <a:lnTo>
                    <a:pt x="2324" y="1608"/>
                  </a:lnTo>
                  <a:lnTo>
                    <a:pt x="2316" y="1620"/>
                  </a:lnTo>
                  <a:lnTo>
                    <a:pt x="2310" y="1635"/>
                  </a:lnTo>
                  <a:lnTo>
                    <a:pt x="2306" y="1649"/>
                  </a:lnTo>
                  <a:lnTo>
                    <a:pt x="2302" y="1664"/>
                  </a:lnTo>
                  <a:lnTo>
                    <a:pt x="2298" y="1680"/>
                  </a:lnTo>
                  <a:lnTo>
                    <a:pt x="2294" y="1695"/>
                  </a:lnTo>
                  <a:lnTo>
                    <a:pt x="2289" y="1711"/>
                  </a:lnTo>
                  <a:lnTo>
                    <a:pt x="2284" y="1726"/>
                  </a:lnTo>
                  <a:lnTo>
                    <a:pt x="2276" y="1748"/>
                  </a:lnTo>
                  <a:lnTo>
                    <a:pt x="2268" y="1771"/>
                  </a:lnTo>
                  <a:lnTo>
                    <a:pt x="2260" y="1794"/>
                  </a:lnTo>
                  <a:lnTo>
                    <a:pt x="2252" y="1817"/>
                  </a:lnTo>
                  <a:lnTo>
                    <a:pt x="2245" y="1839"/>
                  </a:lnTo>
                  <a:lnTo>
                    <a:pt x="2239" y="1864"/>
                  </a:lnTo>
                  <a:lnTo>
                    <a:pt x="2237" y="1876"/>
                  </a:lnTo>
                  <a:lnTo>
                    <a:pt x="2236" y="1888"/>
                  </a:lnTo>
                  <a:lnTo>
                    <a:pt x="2235" y="1901"/>
                  </a:lnTo>
                  <a:lnTo>
                    <a:pt x="2235" y="1914"/>
                  </a:lnTo>
                  <a:lnTo>
                    <a:pt x="2229" y="1921"/>
                  </a:lnTo>
                  <a:lnTo>
                    <a:pt x="2225" y="1929"/>
                  </a:lnTo>
                  <a:lnTo>
                    <a:pt x="2224" y="1938"/>
                  </a:lnTo>
                  <a:lnTo>
                    <a:pt x="2221" y="1948"/>
                  </a:lnTo>
                  <a:lnTo>
                    <a:pt x="2220" y="1957"/>
                  </a:lnTo>
                  <a:lnTo>
                    <a:pt x="2218" y="1968"/>
                  </a:lnTo>
                  <a:lnTo>
                    <a:pt x="2216" y="1977"/>
                  </a:lnTo>
                  <a:lnTo>
                    <a:pt x="2212" y="1985"/>
                  </a:lnTo>
                  <a:lnTo>
                    <a:pt x="2210" y="2000"/>
                  </a:lnTo>
                  <a:lnTo>
                    <a:pt x="2209" y="2015"/>
                  </a:lnTo>
                  <a:lnTo>
                    <a:pt x="2205" y="2031"/>
                  </a:lnTo>
                  <a:lnTo>
                    <a:pt x="2202" y="2046"/>
                  </a:lnTo>
                  <a:lnTo>
                    <a:pt x="2194" y="2076"/>
                  </a:lnTo>
                  <a:lnTo>
                    <a:pt x="2188" y="2107"/>
                  </a:lnTo>
                  <a:lnTo>
                    <a:pt x="2185" y="2122"/>
                  </a:lnTo>
                  <a:lnTo>
                    <a:pt x="2184" y="2137"/>
                  </a:lnTo>
                  <a:lnTo>
                    <a:pt x="2184" y="2151"/>
                  </a:lnTo>
                  <a:lnTo>
                    <a:pt x="2186" y="2165"/>
                  </a:lnTo>
                  <a:lnTo>
                    <a:pt x="2190" y="2178"/>
                  </a:lnTo>
                  <a:lnTo>
                    <a:pt x="2197" y="2192"/>
                  </a:lnTo>
                  <a:lnTo>
                    <a:pt x="2205" y="2204"/>
                  </a:lnTo>
                  <a:lnTo>
                    <a:pt x="2217" y="2214"/>
                  </a:lnTo>
                  <a:lnTo>
                    <a:pt x="2235" y="2222"/>
                  </a:lnTo>
                  <a:lnTo>
                    <a:pt x="2253" y="2230"/>
                  </a:lnTo>
                  <a:lnTo>
                    <a:pt x="2269" y="2238"/>
                  </a:lnTo>
                  <a:lnTo>
                    <a:pt x="2284" y="2248"/>
                  </a:lnTo>
                  <a:lnTo>
                    <a:pt x="2292" y="2253"/>
                  </a:lnTo>
                  <a:lnTo>
                    <a:pt x="2299" y="2258"/>
                  </a:lnTo>
                  <a:lnTo>
                    <a:pt x="2306" y="2265"/>
                  </a:lnTo>
                  <a:lnTo>
                    <a:pt x="2311" y="2272"/>
                  </a:lnTo>
                  <a:lnTo>
                    <a:pt x="2316" y="2280"/>
                  </a:lnTo>
                  <a:lnTo>
                    <a:pt x="2322" y="2288"/>
                  </a:lnTo>
                  <a:lnTo>
                    <a:pt x="2326" y="2297"/>
                  </a:lnTo>
                  <a:lnTo>
                    <a:pt x="2330" y="2307"/>
                  </a:lnTo>
                  <a:lnTo>
                    <a:pt x="2332" y="2304"/>
                  </a:lnTo>
                  <a:lnTo>
                    <a:pt x="2330" y="2307"/>
                  </a:lnTo>
                  <a:lnTo>
                    <a:pt x="2335" y="2312"/>
                  </a:lnTo>
                  <a:lnTo>
                    <a:pt x="2437" y="2309"/>
                  </a:lnTo>
                  <a:lnTo>
                    <a:pt x="2437" y="2312"/>
                  </a:lnTo>
                  <a:lnTo>
                    <a:pt x="2440" y="2313"/>
                  </a:lnTo>
                  <a:lnTo>
                    <a:pt x="2444" y="2315"/>
                  </a:lnTo>
                  <a:lnTo>
                    <a:pt x="2448" y="2315"/>
                  </a:lnTo>
                  <a:lnTo>
                    <a:pt x="2450" y="2315"/>
                  </a:lnTo>
                  <a:lnTo>
                    <a:pt x="2454" y="2315"/>
                  </a:lnTo>
                  <a:lnTo>
                    <a:pt x="2458" y="2315"/>
                  </a:lnTo>
                  <a:lnTo>
                    <a:pt x="2461" y="2313"/>
                  </a:lnTo>
                  <a:lnTo>
                    <a:pt x="2465" y="2312"/>
                  </a:lnTo>
                  <a:lnTo>
                    <a:pt x="2462" y="2309"/>
                  </a:lnTo>
                  <a:lnTo>
                    <a:pt x="2469" y="2312"/>
                  </a:lnTo>
                  <a:lnTo>
                    <a:pt x="2477" y="2313"/>
                  </a:lnTo>
                  <a:lnTo>
                    <a:pt x="2485" y="2315"/>
                  </a:lnTo>
                  <a:lnTo>
                    <a:pt x="2493" y="2315"/>
                  </a:lnTo>
                  <a:lnTo>
                    <a:pt x="2512" y="2315"/>
                  </a:lnTo>
                  <a:lnTo>
                    <a:pt x="2531" y="2312"/>
                  </a:lnTo>
                  <a:lnTo>
                    <a:pt x="2551" y="2311"/>
                  </a:lnTo>
                  <a:lnTo>
                    <a:pt x="2569" y="2308"/>
                  </a:lnTo>
                  <a:lnTo>
                    <a:pt x="2590" y="2307"/>
                  </a:lnTo>
                  <a:lnTo>
                    <a:pt x="2607" y="2307"/>
                  </a:lnTo>
                  <a:lnTo>
                    <a:pt x="2641" y="2305"/>
                  </a:lnTo>
                  <a:lnTo>
                    <a:pt x="2674" y="2305"/>
                  </a:lnTo>
                  <a:lnTo>
                    <a:pt x="2707" y="2304"/>
                  </a:lnTo>
                  <a:lnTo>
                    <a:pt x="2742" y="2303"/>
                  </a:lnTo>
                  <a:lnTo>
                    <a:pt x="2776" y="2303"/>
                  </a:lnTo>
                  <a:lnTo>
                    <a:pt x="2811" y="2301"/>
                  </a:lnTo>
                  <a:lnTo>
                    <a:pt x="2845" y="2300"/>
                  </a:lnTo>
                  <a:lnTo>
                    <a:pt x="2882" y="2299"/>
                  </a:lnTo>
                  <a:lnTo>
                    <a:pt x="2884" y="2303"/>
                  </a:lnTo>
                  <a:lnTo>
                    <a:pt x="2887" y="2305"/>
                  </a:lnTo>
                  <a:lnTo>
                    <a:pt x="2891" y="2308"/>
                  </a:lnTo>
                  <a:lnTo>
                    <a:pt x="2895" y="2308"/>
                  </a:lnTo>
                  <a:lnTo>
                    <a:pt x="2899" y="2309"/>
                  </a:lnTo>
                  <a:lnTo>
                    <a:pt x="2903" y="2309"/>
                  </a:lnTo>
                  <a:lnTo>
                    <a:pt x="2908" y="2311"/>
                  </a:lnTo>
                  <a:lnTo>
                    <a:pt x="2912" y="2312"/>
                  </a:lnTo>
                  <a:lnTo>
                    <a:pt x="2912" y="2317"/>
                  </a:lnTo>
                  <a:lnTo>
                    <a:pt x="2847" y="2323"/>
                  </a:lnTo>
                  <a:lnTo>
                    <a:pt x="2784" y="2325"/>
                  </a:lnTo>
                  <a:lnTo>
                    <a:pt x="2721" y="2328"/>
                  </a:lnTo>
                  <a:lnTo>
                    <a:pt x="2661" y="2328"/>
                  </a:lnTo>
                  <a:lnTo>
                    <a:pt x="2598" y="2329"/>
                  </a:lnTo>
                  <a:lnTo>
                    <a:pt x="2536" y="2331"/>
                  </a:lnTo>
                  <a:lnTo>
                    <a:pt x="2472" y="2335"/>
                  </a:lnTo>
                  <a:lnTo>
                    <a:pt x="2406" y="2340"/>
                  </a:lnTo>
                  <a:lnTo>
                    <a:pt x="2398" y="2336"/>
                  </a:lnTo>
                  <a:lnTo>
                    <a:pt x="2390" y="2335"/>
                  </a:lnTo>
                  <a:lnTo>
                    <a:pt x="2381" y="2335"/>
                  </a:lnTo>
                  <a:lnTo>
                    <a:pt x="2373" y="2336"/>
                  </a:lnTo>
                  <a:lnTo>
                    <a:pt x="2363" y="2337"/>
                  </a:lnTo>
                  <a:lnTo>
                    <a:pt x="2355" y="2339"/>
                  </a:lnTo>
                  <a:lnTo>
                    <a:pt x="2346" y="2339"/>
                  </a:lnTo>
                  <a:lnTo>
                    <a:pt x="2338" y="2337"/>
                  </a:lnTo>
                  <a:lnTo>
                    <a:pt x="2334" y="2344"/>
                  </a:lnTo>
                  <a:lnTo>
                    <a:pt x="2332" y="2351"/>
                  </a:lnTo>
                  <a:lnTo>
                    <a:pt x="2332" y="2358"/>
                  </a:lnTo>
                  <a:lnTo>
                    <a:pt x="2332" y="2366"/>
                  </a:lnTo>
                  <a:lnTo>
                    <a:pt x="2334" y="2374"/>
                  </a:lnTo>
                  <a:lnTo>
                    <a:pt x="2335" y="2382"/>
                  </a:lnTo>
                  <a:lnTo>
                    <a:pt x="2335" y="2390"/>
                  </a:lnTo>
                  <a:lnTo>
                    <a:pt x="2335" y="2396"/>
                  </a:lnTo>
                  <a:lnTo>
                    <a:pt x="2334" y="2398"/>
                  </a:lnTo>
                  <a:lnTo>
                    <a:pt x="2332" y="2400"/>
                  </a:lnTo>
                  <a:lnTo>
                    <a:pt x="2332" y="2403"/>
                  </a:lnTo>
                  <a:lnTo>
                    <a:pt x="2332" y="2404"/>
                  </a:lnTo>
                  <a:lnTo>
                    <a:pt x="2332" y="2407"/>
                  </a:lnTo>
                  <a:lnTo>
                    <a:pt x="2332" y="2410"/>
                  </a:lnTo>
                  <a:lnTo>
                    <a:pt x="2332" y="2412"/>
                  </a:lnTo>
                  <a:lnTo>
                    <a:pt x="2332" y="2414"/>
                  </a:lnTo>
                  <a:lnTo>
                    <a:pt x="2332" y="2415"/>
                  </a:lnTo>
                  <a:lnTo>
                    <a:pt x="2334" y="2415"/>
                  </a:lnTo>
                  <a:lnTo>
                    <a:pt x="2334" y="2415"/>
                  </a:lnTo>
                  <a:lnTo>
                    <a:pt x="2334" y="2416"/>
                  </a:lnTo>
                  <a:lnTo>
                    <a:pt x="2335" y="2416"/>
                  </a:lnTo>
                  <a:lnTo>
                    <a:pt x="2335" y="2416"/>
                  </a:lnTo>
                  <a:lnTo>
                    <a:pt x="2336" y="2416"/>
                  </a:lnTo>
                  <a:lnTo>
                    <a:pt x="2338" y="2416"/>
                  </a:lnTo>
                  <a:lnTo>
                    <a:pt x="2336" y="2422"/>
                  </a:lnTo>
                  <a:lnTo>
                    <a:pt x="2335" y="2424"/>
                  </a:lnTo>
                  <a:lnTo>
                    <a:pt x="2332" y="2427"/>
                  </a:lnTo>
                  <a:lnTo>
                    <a:pt x="2330" y="2430"/>
                  </a:lnTo>
                  <a:lnTo>
                    <a:pt x="2323" y="2433"/>
                  </a:lnTo>
                  <a:lnTo>
                    <a:pt x="2315" y="2435"/>
                  </a:lnTo>
                  <a:lnTo>
                    <a:pt x="2307" y="2437"/>
                  </a:lnTo>
                  <a:lnTo>
                    <a:pt x="2299" y="2438"/>
                  </a:lnTo>
                  <a:lnTo>
                    <a:pt x="2292" y="2442"/>
                  </a:lnTo>
                  <a:lnTo>
                    <a:pt x="2285" y="2447"/>
                  </a:lnTo>
                  <a:lnTo>
                    <a:pt x="2272" y="2454"/>
                  </a:lnTo>
                  <a:lnTo>
                    <a:pt x="2257" y="2458"/>
                  </a:lnTo>
                  <a:lnTo>
                    <a:pt x="2243" y="2462"/>
                  </a:lnTo>
                  <a:lnTo>
                    <a:pt x="2227" y="2465"/>
                  </a:lnTo>
                  <a:lnTo>
                    <a:pt x="2212" y="2467"/>
                  </a:lnTo>
                  <a:lnTo>
                    <a:pt x="2196" y="2471"/>
                  </a:lnTo>
                  <a:lnTo>
                    <a:pt x="2189" y="2474"/>
                  </a:lnTo>
                  <a:lnTo>
                    <a:pt x="2182" y="2477"/>
                  </a:lnTo>
                  <a:lnTo>
                    <a:pt x="2176" y="2481"/>
                  </a:lnTo>
                  <a:lnTo>
                    <a:pt x="2169" y="2486"/>
                  </a:lnTo>
                  <a:lnTo>
                    <a:pt x="2150" y="2490"/>
                  </a:lnTo>
                  <a:lnTo>
                    <a:pt x="2130" y="2493"/>
                  </a:lnTo>
                  <a:lnTo>
                    <a:pt x="2110" y="2494"/>
                  </a:lnTo>
                  <a:lnTo>
                    <a:pt x="2091" y="2495"/>
                  </a:lnTo>
                  <a:lnTo>
                    <a:pt x="2071" y="2495"/>
                  </a:lnTo>
                  <a:lnTo>
                    <a:pt x="2051" y="2497"/>
                  </a:lnTo>
                  <a:lnTo>
                    <a:pt x="2031" y="2497"/>
                  </a:lnTo>
                  <a:lnTo>
                    <a:pt x="2011" y="2498"/>
                  </a:lnTo>
                  <a:lnTo>
                    <a:pt x="2005" y="2503"/>
                  </a:lnTo>
                  <a:lnTo>
                    <a:pt x="2001" y="2506"/>
                  </a:lnTo>
                  <a:lnTo>
                    <a:pt x="1996" y="2507"/>
                  </a:lnTo>
                  <a:lnTo>
                    <a:pt x="1991" y="2509"/>
                  </a:lnTo>
                  <a:lnTo>
                    <a:pt x="1980" y="2506"/>
                  </a:lnTo>
                  <a:lnTo>
                    <a:pt x="1969" y="2503"/>
                  </a:lnTo>
                  <a:lnTo>
                    <a:pt x="1959" y="2499"/>
                  </a:lnTo>
                  <a:lnTo>
                    <a:pt x="1948" y="2497"/>
                  </a:lnTo>
                  <a:lnTo>
                    <a:pt x="1942" y="2495"/>
                  </a:lnTo>
                  <a:lnTo>
                    <a:pt x="1937" y="2497"/>
                  </a:lnTo>
                  <a:lnTo>
                    <a:pt x="1932" y="2498"/>
                  </a:lnTo>
                  <a:lnTo>
                    <a:pt x="1926" y="2501"/>
                  </a:lnTo>
                  <a:lnTo>
                    <a:pt x="1875" y="2503"/>
                  </a:lnTo>
                  <a:lnTo>
                    <a:pt x="1827" y="2505"/>
                  </a:lnTo>
                  <a:lnTo>
                    <a:pt x="1780" y="2506"/>
                  </a:lnTo>
                  <a:lnTo>
                    <a:pt x="1733" y="2505"/>
                  </a:lnTo>
                  <a:lnTo>
                    <a:pt x="1688" y="2502"/>
                  </a:lnTo>
                  <a:lnTo>
                    <a:pt x="1642" y="2495"/>
                  </a:lnTo>
                  <a:lnTo>
                    <a:pt x="1620" y="2493"/>
                  </a:lnTo>
                  <a:lnTo>
                    <a:pt x="1597" y="2487"/>
                  </a:lnTo>
                  <a:lnTo>
                    <a:pt x="1574" y="2482"/>
                  </a:lnTo>
                  <a:lnTo>
                    <a:pt x="1551" y="2475"/>
                  </a:lnTo>
                  <a:lnTo>
                    <a:pt x="1538" y="2469"/>
                  </a:lnTo>
                  <a:lnTo>
                    <a:pt x="1524" y="2463"/>
                  </a:lnTo>
                  <a:lnTo>
                    <a:pt x="1510" y="2458"/>
                  </a:lnTo>
                  <a:lnTo>
                    <a:pt x="1496" y="2453"/>
                  </a:lnTo>
                  <a:lnTo>
                    <a:pt x="1483" y="2445"/>
                  </a:lnTo>
                  <a:lnTo>
                    <a:pt x="1471" y="2437"/>
                  </a:lnTo>
                  <a:lnTo>
                    <a:pt x="1466" y="2431"/>
                  </a:lnTo>
                  <a:lnTo>
                    <a:pt x="1462" y="2426"/>
                  </a:lnTo>
                  <a:lnTo>
                    <a:pt x="1457" y="2419"/>
                  </a:lnTo>
                  <a:lnTo>
                    <a:pt x="1453" y="2411"/>
                  </a:lnTo>
                  <a:lnTo>
                    <a:pt x="1432" y="2407"/>
                  </a:lnTo>
                  <a:lnTo>
                    <a:pt x="1409" y="2404"/>
                  </a:lnTo>
                  <a:lnTo>
                    <a:pt x="1386" y="2403"/>
                  </a:lnTo>
                  <a:lnTo>
                    <a:pt x="1364" y="2403"/>
                  </a:lnTo>
                  <a:lnTo>
                    <a:pt x="1340" y="2403"/>
                  </a:lnTo>
                  <a:lnTo>
                    <a:pt x="1317" y="2404"/>
                  </a:lnTo>
                  <a:lnTo>
                    <a:pt x="1294" y="2404"/>
                  </a:lnTo>
                  <a:lnTo>
                    <a:pt x="1273" y="2404"/>
                  </a:lnTo>
                  <a:lnTo>
                    <a:pt x="1273" y="2407"/>
                  </a:lnTo>
                  <a:lnTo>
                    <a:pt x="1273" y="2410"/>
                  </a:lnTo>
                  <a:lnTo>
                    <a:pt x="1271" y="2412"/>
                  </a:lnTo>
                  <a:lnTo>
                    <a:pt x="1270" y="2415"/>
                  </a:lnTo>
                  <a:lnTo>
                    <a:pt x="1267" y="2418"/>
                  </a:lnTo>
                  <a:lnTo>
                    <a:pt x="1263" y="2419"/>
                  </a:lnTo>
                  <a:lnTo>
                    <a:pt x="1261" y="2420"/>
                  </a:lnTo>
                  <a:lnTo>
                    <a:pt x="1257" y="2422"/>
                  </a:lnTo>
                  <a:lnTo>
                    <a:pt x="1246" y="2423"/>
                  </a:lnTo>
                  <a:lnTo>
                    <a:pt x="1235" y="2423"/>
                  </a:lnTo>
                  <a:lnTo>
                    <a:pt x="1224" y="2424"/>
                  </a:lnTo>
                  <a:lnTo>
                    <a:pt x="1214" y="2426"/>
                  </a:lnTo>
                  <a:lnTo>
                    <a:pt x="1203" y="2429"/>
                  </a:lnTo>
                  <a:lnTo>
                    <a:pt x="1192" y="2431"/>
                  </a:lnTo>
                  <a:lnTo>
                    <a:pt x="1180" y="2435"/>
                  </a:lnTo>
                  <a:lnTo>
                    <a:pt x="1169" y="2439"/>
                  </a:lnTo>
                  <a:lnTo>
                    <a:pt x="1147" y="2441"/>
                  </a:lnTo>
                  <a:lnTo>
                    <a:pt x="1124" y="2443"/>
                  </a:lnTo>
                  <a:lnTo>
                    <a:pt x="1101" y="2446"/>
                  </a:lnTo>
                  <a:lnTo>
                    <a:pt x="1078" y="2449"/>
                  </a:lnTo>
                  <a:lnTo>
                    <a:pt x="1056" y="2451"/>
                  </a:lnTo>
                  <a:lnTo>
                    <a:pt x="1033" y="2453"/>
                  </a:lnTo>
                  <a:lnTo>
                    <a:pt x="1021" y="2453"/>
                  </a:lnTo>
                  <a:lnTo>
                    <a:pt x="1010" y="2451"/>
                  </a:lnTo>
                  <a:lnTo>
                    <a:pt x="998" y="2450"/>
                  </a:lnTo>
                  <a:lnTo>
                    <a:pt x="986" y="2447"/>
                  </a:lnTo>
                  <a:lnTo>
                    <a:pt x="974" y="2447"/>
                  </a:lnTo>
                  <a:lnTo>
                    <a:pt x="962" y="2445"/>
                  </a:lnTo>
                  <a:lnTo>
                    <a:pt x="950" y="2442"/>
                  </a:lnTo>
                  <a:lnTo>
                    <a:pt x="938" y="2438"/>
                  </a:lnTo>
                  <a:lnTo>
                    <a:pt x="926" y="2437"/>
                  </a:lnTo>
                  <a:lnTo>
                    <a:pt x="915" y="2438"/>
                  </a:lnTo>
                  <a:lnTo>
                    <a:pt x="910" y="2439"/>
                  </a:lnTo>
                  <a:lnTo>
                    <a:pt x="906" y="2442"/>
                  </a:lnTo>
                  <a:lnTo>
                    <a:pt x="900" y="2447"/>
                  </a:lnTo>
                  <a:lnTo>
                    <a:pt x="897" y="2453"/>
                  </a:lnTo>
                  <a:lnTo>
                    <a:pt x="895" y="2455"/>
                  </a:lnTo>
                  <a:lnTo>
                    <a:pt x="891" y="2457"/>
                  </a:lnTo>
                  <a:lnTo>
                    <a:pt x="888" y="2458"/>
                  </a:lnTo>
                  <a:lnTo>
                    <a:pt x="884" y="2459"/>
                  </a:lnTo>
                  <a:lnTo>
                    <a:pt x="881" y="2461"/>
                  </a:lnTo>
                  <a:lnTo>
                    <a:pt x="877" y="2461"/>
                  </a:lnTo>
                  <a:lnTo>
                    <a:pt x="875" y="2459"/>
                  </a:lnTo>
                  <a:lnTo>
                    <a:pt x="872" y="2458"/>
                  </a:lnTo>
                  <a:lnTo>
                    <a:pt x="863" y="2451"/>
                  </a:lnTo>
                  <a:lnTo>
                    <a:pt x="855" y="2446"/>
                  </a:lnTo>
                  <a:lnTo>
                    <a:pt x="845" y="2445"/>
                  </a:lnTo>
                  <a:lnTo>
                    <a:pt x="834" y="2443"/>
                  </a:lnTo>
                  <a:lnTo>
                    <a:pt x="814" y="2446"/>
                  </a:lnTo>
                  <a:lnTo>
                    <a:pt x="794" y="2450"/>
                  </a:lnTo>
                  <a:lnTo>
                    <a:pt x="784" y="2451"/>
                  </a:lnTo>
                  <a:lnTo>
                    <a:pt x="774" y="2453"/>
                  </a:lnTo>
                  <a:lnTo>
                    <a:pt x="766" y="2453"/>
                  </a:lnTo>
                  <a:lnTo>
                    <a:pt x="758" y="2450"/>
                  </a:lnTo>
                  <a:lnTo>
                    <a:pt x="750" y="2446"/>
                  </a:lnTo>
                  <a:lnTo>
                    <a:pt x="743" y="2439"/>
                  </a:lnTo>
                  <a:lnTo>
                    <a:pt x="738" y="2430"/>
                  </a:lnTo>
                  <a:lnTo>
                    <a:pt x="734" y="2416"/>
                  </a:lnTo>
                  <a:lnTo>
                    <a:pt x="360" y="2422"/>
                  </a:lnTo>
                  <a:lnTo>
                    <a:pt x="4" y="2422"/>
                  </a:lnTo>
                  <a:lnTo>
                    <a:pt x="2" y="2420"/>
                  </a:lnTo>
                  <a:lnTo>
                    <a:pt x="1" y="2418"/>
                  </a:lnTo>
                  <a:lnTo>
                    <a:pt x="1" y="2415"/>
                  </a:lnTo>
                  <a:lnTo>
                    <a:pt x="1" y="2412"/>
                  </a:lnTo>
                  <a:lnTo>
                    <a:pt x="1" y="2410"/>
                  </a:lnTo>
                  <a:lnTo>
                    <a:pt x="1" y="2407"/>
                  </a:lnTo>
                  <a:lnTo>
                    <a:pt x="1" y="2404"/>
                  </a:lnTo>
                  <a:lnTo>
                    <a:pt x="0" y="2402"/>
                  </a:lnTo>
                  <a:lnTo>
                    <a:pt x="7" y="2399"/>
                  </a:lnTo>
                  <a:lnTo>
                    <a:pt x="13" y="2398"/>
                  </a:lnTo>
                  <a:lnTo>
                    <a:pt x="19" y="2396"/>
                  </a:lnTo>
                  <a:lnTo>
                    <a:pt x="25" y="2394"/>
                  </a:lnTo>
                  <a:lnTo>
                    <a:pt x="31" y="2392"/>
                  </a:lnTo>
                  <a:lnTo>
                    <a:pt x="37" y="2391"/>
                  </a:lnTo>
                  <a:lnTo>
                    <a:pt x="43" y="2388"/>
                  </a:lnTo>
                  <a:lnTo>
                    <a:pt x="49" y="2386"/>
                  </a:lnTo>
                  <a:lnTo>
                    <a:pt x="57" y="2394"/>
                  </a:lnTo>
                  <a:lnTo>
                    <a:pt x="580" y="2391"/>
                  </a:lnTo>
                  <a:lnTo>
                    <a:pt x="601" y="2391"/>
                  </a:lnTo>
                  <a:lnTo>
                    <a:pt x="623" y="2391"/>
                  </a:lnTo>
                  <a:lnTo>
                    <a:pt x="644" y="2391"/>
                  </a:lnTo>
                  <a:lnTo>
                    <a:pt x="666" y="2391"/>
                  </a:lnTo>
                  <a:lnTo>
                    <a:pt x="688" y="2391"/>
                  </a:lnTo>
                  <a:lnTo>
                    <a:pt x="710" y="2391"/>
                  </a:lnTo>
                  <a:lnTo>
                    <a:pt x="730" y="2392"/>
                  </a:lnTo>
                  <a:lnTo>
                    <a:pt x="751" y="2394"/>
                  </a:lnTo>
                  <a:lnTo>
                    <a:pt x="757" y="2391"/>
                  </a:lnTo>
                  <a:lnTo>
                    <a:pt x="761" y="2388"/>
                  </a:lnTo>
                  <a:lnTo>
                    <a:pt x="766" y="2386"/>
                  </a:lnTo>
                  <a:lnTo>
                    <a:pt x="772" y="2383"/>
                  </a:lnTo>
                  <a:lnTo>
                    <a:pt x="776" y="2379"/>
                  </a:lnTo>
                  <a:lnTo>
                    <a:pt x="781" y="2376"/>
                  </a:lnTo>
                  <a:lnTo>
                    <a:pt x="785" y="2372"/>
                  </a:lnTo>
                  <a:lnTo>
                    <a:pt x="789" y="2368"/>
                  </a:lnTo>
                  <a:lnTo>
                    <a:pt x="786" y="2362"/>
                  </a:lnTo>
                  <a:lnTo>
                    <a:pt x="785" y="2354"/>
                  </a:lnTo>
                  <a:lnTo>
                    <a:pt x="785" y="2344"/>
                  </a:lnTo>
                  <a:lnTo>
                    <a:pt x="785" y="2336"/>
                  </a:lnTo>
                  <a:lnTo>
                    <a:pt x="785" y="2327"/>
                  </a:lnTo>
                  <a:lnTo>
                    <a:pt x="784" y="2319"/>
                  </a:lnTo>
                  <a:lnTo>
                    <a:pt x="781" y="2311"/>
                  </a:lnTo>
                  <a:lnTo>
                    <a:pt x="777" y="2304"/>
                  </a:lnTo>
                  <a:lnTo>
                    <a:pt x="777" y="2300"/>
                  </a:lnTo>
                  <a:lnTo>
                    <a:pt x="777" y="2297"/>
                  </a:lnTo>
                  <a:lnTo>
                    <a:pt x="777" y="2293"/>
                  </a:lnTo>
                  <a:lnTo>
                    <a:pt x="776" y="2289"/>
                  </a:lnTo>
                  <a:lnTo>
                    <a:pt x="776" y="2285"/>
                  </a:lnTo>
                  <a:lnTo>
                    <a:pt x="773" y="2281"/>
                  </a:lnTo>
                  <a:lnTo>
                    <a:pt x="772" y="2277"/>
                  </a:lnTo>
                  <a:lnTo>
                    <a:pt x="769" y="2273"/>
                  </a:lnTo>
                  <a:lnTo>
                    <a:pt x="768" y="2258"/>
                  </a:lnTo>
                  <a:lnTo>
                    <a:pt x="766" y="2244"/>
                  </a:lnTo>
                  <a:lnTo>
                    <a:pt x="768" y="2229"/>
                  </a:lnTo>
                  <a:lnTo>
                    <a:pt x="768" y="2213"/>
                  </a:lnTo>
                  <a:lnTo>
                    <a:pt x="768" y="2198"/>
                  </a:lnTo>
                  <a:lnTo>
                    <a:pt x="765" y="2185"/>
                  </a:lnTo>
                  <a:lnTo>
                    <a:pt x="763" y="2178"/>
                  </a:lnTo>
                  <a:lnTo>
                    <a:pt x="761" y="2171"/>
                  </a:lnTo>
                  <a:lnTo>
                    <a:pt x="757" y="2165"/>
                  </a:lnTo>
                  <a:lnTo>
                    <a:pt x="751" y="2159"/>
                  </a:lnTo>
                  <a:lnTo>
                    <a:pt x="753" y="2153"/>
                  </a:lnTo>
                  <a:lnTo>
                    <a:pt x="753" y="2146"/>
                  </a:lnTo>
                  <a:lnTo>
                    <a:pt x="751" y="2141"/>
                  </a:lnTo>
                  <a:lnTo>
                    <a:pt x="750" y="2137"/>
                  </a:lnTo>
                  <a:lnTo>
                    <a:pt x="743" y="2127"/>
                  </a:lnTo>
                  <a:lnTo>
                    <a:pt x="735" y="2121"/>
                  </a:lnTo>
                  <a:lnTo>
                    <a:pt x="727" y="2114"/>
                  </a:lnTo>
                  <a:lnTo>
                    <a:pt x="719" y="2106"/>
                  </a:lnTo>
                  <a:lnTo>
                    <a:pt x="715" y="2102"/>
                  </a:lnTo>
                  <a:lnTo>
                    <a:pt x="713" y="2096"/>
                  </a:lnTo>
                  <a:lnTo>
                    <a:pt x="710" y="2091"/>
                  </a:lnTo>
                  <a:lnTo>
                    <a:pt x="709" y="2084"/>
                  </a:lnTo>
                  <a:lnTo>
                    <a:pt x="705" y="2078"/>
                  </a:lnTo>
                  <a:lnTo>
                    <a:pt x="702" y="2070"/>
                  </a:lnTo>
                  <a:lnTo>
                    <a:pt x="701" y="2062"/>
                  </a:lnTo>
                  <a:lnTo>
                    <a:pt x="699" y="2054"/>
                  </a:lnTo>
                  <a:lnTo>
                    <a:pt x="701" y="2046"/>
                  </a:lnTo>
                  <a:lnTo>
                    <a:pt x="701" y="2038"/>
                  </a:lnTo>
                  <a:lnTo>
                    <a:pt x="703" y="2030"/>
                  </a:lnTo>
                  <a:lnTo>
                    <a:pt x="706" y="2021"/>
                  </a:lnTo>
                  <a:lnTo>
                    <a:pt x="718" y="2012"/>
                  </a:lnTo>
                  <a:lnTo>
                    <a:pt x="729" y="2001"/>
                  </a:lnTo>
                  <a:lnTo>
                    <a:pt x="738" y="1991"/>
                  </a:lnTo>
                  <a:lnTo>
                    <a:pt x="746" y="1979"/>
                  </a:lnTo>
                  <a:lnTo>
                    <a:pt x="754" y="1967"/>
                  </a:lnTo>
                  <a:lnTo>
                    <a:pt x="762" y="1955"/>
                  </a:lnTo>
                  <a:lnTo>
                    <a:pt x="773" y="1944"/>
                  </a:lnTo>
                  <a:lnTo>
                    <a:pt x="785" y="1934"/>
                  </a:lnTo>
                  <a:lnTo>
                    <a:pt x="821" y="1922"/>
                  </a:lnTo>
                  <a:lnTo>
                    <a:pt x="859" y="1913"/>
                  </a:lnTo>
                  <a:lnTo>
                    <a:pt x="895" y="1905"/>
                  </a:lnTo>
                  <a:lnTo>
                    <a:pt x="932" y="1897"/>
                  </a:lnTo>
                  <a:lnTo>
                    <a:pt x="971" y="1889"/>
                  </a:lnTo>
                  <a:lnTo>
                    <a:pt x="1009" y="1881"/>
                  </a:lnTo>
                  <a:lnTo>
                    <a:pt x="1046" y="1874"/>
                  </a:lnTo>
                  <a:lnTo>
                    <a:pt x="1084" y="1865"/>
                  </a:lnTo>
                  <a:lnTo>
                    <a:pt x="1109" y="1870"/>
                  </a:lnTo>
                  <a:lnTo>
                    <a:pt x="1133" y="1876"/>
                  </a:lnTo>
                  <a:lnTo>
                    <a:pt x="1159" y="1881"/>
                  </a:lnTo>
                  <a:lnTo>
                    <a:pt x="1183" y="1889"/>
                  </a:lnTo>
                  <a:lnTo>
                    <a:pt x="1195" y="1894"/>
                  </a:lnTo>
                  <a:lnTo>
                    <a:pt x="1206" y="1900"/>
                  </a:lnTo>
                  <a:lnTo>
                    <a:pt x="1216" y="1905"/>
                  </a:lnTo>
                  <a:lnTo>
                    <a:pt x="1227" y="1912"/>
                  </a:lnTo>
                  <a:lnTo>
                    <a:pt x="1236" y="1920"/>
                  </a:lnTo>
                  <a:lnTo>
                    <a:pt x="1246" y="1929"/>
                  </a:lnTo>
                  <a:lnTo>
                    <a:pt x="1254" y="1938"/>
                  </a:lnTo>
                  <a:lnTo>
                    <a:pt x="1262" y="1949"/>
                  </a:lnTo>
                  <a:lnTo>
                    <a:pt x="1263" y="1955"/>
                  </a:lnTo>
                  <a:lnTo>
                    <a:pt x="1265" y="1959"/>
                  </a:lnTo>
                  <a:lnTo>
                    <a:pt x="1266" y="1961"/>
                  </a:lnTo>
                  <a:lnTo>
                    <a:pt x="1269" y="1965"/>
                  </a:lnTo>
                  <a:lnTo>
                    <a:pt x="1271" y="1969"/>
                  </a:lnTo>
                  <a:lnTo>
                    <a:pt x="1274" y="1972"/>
                  </a:lnTo>
                  <a:lnTo>
                    <a:pt x="1275" y="1976"/>
                  </a:lnTo>
                  <a:lnTo>
                    <a:pt x="1277" y="1980"/>
                  </a:lnTo>
                  <a:lnTo>
                    <a:pt x="1282" y="2003"/>
                  </a:lnTo>
                  <a:lnTo>
                    <a:pt x="1286" y="2026"/>
                  </a:lnTo>
                  <a:lnTo>
                    <a:pt x="1289" y="2050"/>
                  </a:lnTo>
                  <a:lnTo>
                    <a:pt x="1291" y="2072"/>
                  </a:lnTo>
                  <a:lnTo>
                    <a:pt x="1293" y="2096"/>
                  </a:lnTo>
                  <a:lnTo>
                    <a:pt x="1297" y="2119"/>
                  </a:lnTo>
                  <a:lnTo>
                    <a:pt x="1301" y="2141"/>
                  </a:lnTo>
                  <a:lnTo>
                    <a:pt x="1306" y="2161"/>
                  </a:lnTo>
                  <a:lnTo>
                    <a:pt x="1303" y="2169"/>
                  </a:lnTo>
                  <a:lnTo>
                    <a:pt x="1303" y="2174"/>
                  </a:lnTo>
                  <a:lnTo>
                    <a:pt x="1303" y="2181"/>
                  </a:lnTo>
                  <a:lnTo>
                    <a:pt x="1305" y="2186"/>
                  </a:lnTo>
                  <a:lnTo>
                    <a:pt x="1305" y="2190"/>
                  </a:lnTo>
                  <a:lnTo>
                    <a:pt x="1305" y="2196"/>
                  </a:lnTo>
                  <a:lnTo>
                    <a:pt x="1302" y="2202"/>
                  </a:lnTo>
                  <a:lnTo>
                    <a:pt x="1298" y="2208"/>
                  </a:lnTo>
                  <a:lnTo>
                    <a:pt x="1294" y="2209"/>
                  </a:lnTo>
                  <a:lnTo>
                    <a:pt x="1289" y="2209"/>
                  </a:lnTo>
                  <a:lnTo>
                    <a:pt x="1282" y="2206"/>
                  </a:lnTo>
                  <a:lnTo>
                    <a:pt x="1277" y="2205"/>
                  </a:lnTo>
                  <a:lnTo>
                    <a:pt x="1271" y="2205"/>
                  </a:lnTo>
                  <a:lnTo>
                    <a:pt x="1267" y="2206"/>
                  </a:lnTo>
                  <a:lnTo>
                    <a:pt x="1265" y="2208"/>
                  </a:lnTo>
                  <a:lnTo>
                    <a:pt x="1263" y="2210"/>
                  </a:lnTo>
                  <a:lnTo>
                    <a:pt x="1263" y="2213"/>
                  </a:lnTo>
                  <a:lnTo>
                    <a:pt x="1262" y="2217"/>
                  </a:lnTo>
                  <a:lnTo>
                    <a:pt x="1259" y="2297"/>
                  </a:lnTo>
                  <a:lnTo>
                    <a:pt x="1262" y="2307"/>
                  </a:lnTo>
                  <a:lnTo>
                    <a:pt x="1265" y="2317"/>
                  </a:lnTo>
                  <a:lnTo>
                    <a:pt x="1265" y="2329"/>
                  </a:lnTo>
                  <a:lnTo>
                    <a:pt x="1265" y="2341"/>
                  </a:lnTo>
                  <a:lnTo>
                    <a:pt x="1265" y="2355"/>
                  </a:lnTo>
                  <a:lnTo>
                    <a:pt x="1265" y="2367"/>
                  </a:lnTo>
                  <a:lnTo>
                    <a:pt x="1266" y="2379"/>
                  </a:lnTo>
                  <a:lnTo>
                    <a:pt x="1267" y="2391"/>
                  </a:lnTo>
                  <a:lnTo>
                    <a:pt x="1271" y="2392"/>
                  </a:lnTo>
                  <a:lnTo>
                    <a:pt x="1275" y="2392"/>
                  </a:lnTo>
                  <a:lnTo>
                    <a:pt x="1279" y="2391"/>
                  </a:lnTo>
                  <a:lnTo>
                    <a:pt x="1283" y="2388"/>
                  </a:lnTo>
                  <a:lnTo>
                    <a:pt x="1287" y="2386"/>
                  </a:lnTo>
                  <a:lnTo>
                    <a:pt x="1291" y="2383"/>
                  </a:lnTo>
                  <a:lnTo>
                    <a:pt x="1295" y="2382"/>
                  </a:lnTo>
                  <a:lnTo>
                    <a:pt x="1301" y="2382"/>
                  </a:lnTo>
                  <a:lnTo>
                    <a:pt x="1319" y="2382"/>
                  </a:lnTo>
                  <a:lnTo>
                    <a:pt x="1338" y="2382"/>
                  </a:lnTo>
                  <a:lnTo>
                    <a:pt x="1357" y="2380"/>
                  </a:lnTo>
                  <a:lnTo>
                    <a:pt x="1377" y="2379"/>
                  </a:lnTo>
                  <a:lnTo>
                    <a:pt x="1396" y="2379"/>
                  </a:lnTo>
                  <a:lnTo>
                    <a:pt x="1415" y="2379"/>
                  </a:lnTo>
                  <a:lnTo>
                    <a:pt x="1435" y="2379"/>
                  </a:lnTo>
                  <a:lnTo>
                    <a:pt x="1453" y="2382"/>
                  </a:lnTo>
                  <a:lnTo>
                    <a:pt x="1452" y="2366"/>
                  </a:lnTo>
                  <a:lnTo>
                    <a:pt x="1451" y="2351"/>
                  </a:lnTo>
                  <a:lnTo>
                    <a:pt x="1451" y="2335"/>
                  </a:lnTo>
                  <a:lnTo>
                    <a:pt x="1453" y="2320"/>
                  </a:lnTo>
                  <a:lnTo>
                    <a:pt x="1457" y="2304"/>
                  </a:lnTo>
                  <a:lnTo>
                    <a:pt x="1463" y="2291"/>
                  </a:lnTo>
                  <a:lnTo>
                    <a:pt x="1468" y="2276"/>
                  </a:lnTo>
                  <a:lnTo>
                    <a:pt x="1476" y="2264"/>
                  </a:lnTo>
                  <a:lnTo>
                    <a:pt x="1478" y="2262"/>
                  </a:lnTo>
                  <a:lnTo>
                    <a:pt x="1479" y="2261"/>
                  </a:lnTo>
                  <a:lnTo>
                    <a:pt x="1480" y="2260"/>
                  </a:lnTo>
                  <a:lnTo>
                    <a:pt x="1482" y="2258"/>
                  </a:lnTo>
                  <a:lnTo>
                    <a:pt x="1483" y="2257"/>
                  </a:lnTo>
                  <a:lnTo>
                    <a:pt x="1484" y="2254"/>
                  </a:lnTo>
                  <a:lnTo>
                    <a:pt x="1484" y="2253"/>
                  </a:lnTo>
                  <a:lnTo>
                    <a:pt x="1484" y="2250"/>
                  </a:lnTo>
                  <a:lnTo>
                    <a:pt x="1482" y="2248"/>
                  </a:lnTo>
                  <a:lnTo>
                    <a:pt x="1495" y="2242"/>
                  </a:lnTo>
                  <a:lnTo>
                    <a:pt x="1508" y="2237"/>
                  </a:lnTo>
                  <a:lnTo>
                    <a:pt x="1522" y="2233"/>
                  </a:lnTo>
                  <a:lnTo>
                    <a:pt x="1537" y="2232"/>
                  </a:lnTo>
                  <a:lnTo>
                    <a:pt x="1550" y="2230"/>
                  </a:lnTo>
                  <a:lnTo>
                    <a:pt x="1565" y="2230"/>
                  </a:lnTo>
                  <a:lnTo>
                    <a:pt x="1578" y="2232"/>
                  </a:lnTo>
                  <a:lnTo>
                    <a:pt x="1593" y="2234"/>
                  </a:lnTo>
                  <a:lnTo>
                    <a:pt x="1621" y="2240"/>
                  </a:lnTo>
                  <a:lnTo>
                    <a:pt x="1648" y="2249"/>
                  </a:lnTo>
                  <a:lnTo>
                    <a:pt x="1675" y="2260"/>
                  </a:lnTo>
                  <a:lnTo>
                    <a:pt x="1699" y="2272"/>
                  </a:lnTo>
                  <a:lnTo>
                    <a:pt x="1705" y="2261"/>
                  </a:lnTo>
                  <a:lnTo>
                    <a:pt x="1712" y="2252"/>
                  </a:lnTo>
                  <a:lnTo>
                    <a:pt x="1719" y="2242"/>
                  </a:lnTo>
                  <a:lnTo>
                    <a:pt x="1723" y="2232"/>
                  </a:lnTo>
                  <a:lnTo>
                    <a:pt x="1727" y="2220"/>
                  </a:lnTo>
                  <a:lnTo>
                    <a:pt x="1728" y="2209"/>
                  </a:lnTo>
                  <a:lnTo>
                    <a:pt x="1727" y="2197"/>
                  </a:lnTo>
                  <a:lnTo>
                    <a:pt x="1724" y="2183"/>
                  </a:lnTo>
                  <a:lnTo>
                    <a:pt x="1723" y="2181"/>
                  </a:lnTo>
                  <a:lnTo>
                    <a:pt x="1721" y="2178"/>
                  </a:lnTo>
                  <a:lnTo>
                    <a:pt x="1719" y="2174"/>
                  </a:lnTo>
                  <a:lnTo>
                    <a:pt x="1716" y="2171"/>
                  </a:lnTo>
                  <a:lnTo>
                    <a:pt x="1715" y="2167"/>
                  </a:lnTo>
                  <a:lnTo>
                    <a:pt x="1713" y="2165"/>
                  </a:lnTo>
                  <a:lnTo>
                    <a:pt x="1713" y="2161"/>
                  </a:lnTo>
                  <a:lnTo>
                    <a:pt x="1713" y="2157"/>
                  </a:lnTo>
                  <a:lnTo>
                    <a:pt x="1715" y="2157"/>
                  </a:lnTo>
                  <a:lnTo>
                    <a:pt x="1716" y="2157"/>
                  </a:lnTo>
                  <a:lnTo>
                    <a:pt x="1716" y="2157"/>
                  </a:lnTo>
                  <a:lnTo>
                    <a:pt x="1717" y="2157"/>
                  </a:lnTo>
                  <a:lnTo>
                    <a:pt x="1717" y="2157"/>
                  </a:lnTo>
                  <a:lnTo>
                    <a:pt x="1719" y="2158"/>
                  </a:lnTo>
                  <a:lnTo>
                    <a:pt x="1719" y="2158"/>
                  </a:lnTo>
                  <a:lnTo>
                    <a:pt x="1719" y="2159"/>
                  </a:lnTo>
                  <a:lnTo>
                    <a:pt x="1724" y="2155"/>
                  </a:lnTo>
                  <a:lnTo>
                    <a:pt x="1727" y="2151"/>
                  </a:lnTo>
                  <a:lnTo>
                    <a:pt x="1727" y="2147"/>
                  </a:lnTo>
                  <a:lnTo>
                    <a:pt x="1724" y="2143"/>
                  </a:lnTo>
                  <a:lnTo>
                    <a:pt x="1720" y="2141"/>
                  </a:lnTo>
                  <a:lnTo>
                    <a:pt x="1717" y="2137"/>
                  </a:lnTo>
                  <a:lnTo>
                    <a:pt x="1715" y="2133"/>
                  </a:lnTo>
                  <a:lnTo>
                    <a:pt x="1713" y="2129"/>
                  </a:lnTo>
                  <a:lnTo>
                    <a:pt x="1712" y="2107"/>
                  </a:lnTo>
                  <a:lnTo>
                    <a:pt x="1711" y="2087"/>
                  </a:lnTo>
                  <a:lnTo>
                    <a:pt x="1708" y="2066"/>
                  </a:lnTo>
                  <a:lnTo>
                    <a:pt x="1705" y="2044"/>
                  </a:lnTo>
                  <a:lnTo>
                    <a:pt x="1700" y="2024"/>
                  </a:lnTo>
                  <a:lnTo>
                    <a:pt x="1695" y="2004"/>
                  </a:lnTo>
                  <a:lnTo>
                    <a:pt x="1689" y="1995"/>
                  </a:lnTo>
                  <a:lnTo>
                    <a:pt x="1685" y="1985"/>
                  </a:lnTo>
                  <a:lnTo>
                    <a:pt x="1680" y="1976"/>
                  </a:lnTo>
                  <a:lnTo>
                    <a:pt x="1673" y="1968"/>
                  </a:lnTo>
                  <a:lnTo>
                    <a:pt x="1672" y="1964"/>
                  </a:lnTo>
                  <a:lnTo>
                    <a:pt x="1672" y="1959"/>
                  </a:lnTo>
                  <a:lnTo>
                    <a:pt x="1671" y="1955"/>
                  </a:lnTo>
                  <a:lnTo>
                    <a:pt x="1669" y="1951"/>
                  </a:lnTo>
                  <a:lnTo>
                    <a:pt x="1668" y="1948"/>
                  </a:lnTo>
                  <a:lnTo>
                    <a:pt x="1665" y="1944"/>
                  </a:lnTo>
                  <a:lnTo>
                    <a:pt x="1664" y="1940"/>
                  </a:lnTo>
                  <a:lnTo>
                    <a:pt x="1660" y="1937"/>
                  </a:lnTo>
                  <a:lnTo>
                    <a:pt x="1657" y="1938"/>
                  </a:lnTo>
                  <a:lnTo>
                    <a:pt x="1654" y="1937"/>
                  </a:lnTo>
                  <a:lnTo>
                    <a:pt x="1652" y="1936"/>
                  </a:lnTo>
                  <a:lnTo>
                    <a:pt x="1652" y="1933"/>
                  </a:lnTo>
                  <a:lnTo>
                    <a:pt x="1650" y="1930"/>
                  </a:lnTo>
                  <a:lnTo>
                    <a:pt x="1650" y="1928"/>
                  </a:lnTo>
                  <a:lnTo>
                    <a:pt x="1650" y="1925"/>
                  </a:lnTo>
                  <a:lnTo>
                    <a:pt x="1650" y="1924"/>
                  </a:lnTo>
                  <a:lnTo>
                    <a:pt x="1646" y="1904"/>
                  </a:lnTo>
                  <a:lnTo>
                    <a:pt x="1640" y="1885"/>
                  </a:lnTo>
                  <a:lnTo>
                    <a:pt x="1633" y="1866"/>
                  </a:lnTo>
                  <a:lnTo>
                    <a:pt x="1624" y="1847"/>
                  </a:lnTo>
                  <a:lnTo>
                    <a:pt x="1604" y="1811"/>
                  </a:lnTo>
                  <a:lnTo>
                    <a:pt x="1581" y="1776"/>
                  </a:lnTo>
                  <a:lnTo>
                    <a:pt x="1558" y="1743"/>
                  </a:lnTo>
                  <a:lnTo>
                    <a:pt x="1535" y="1708"/>
                  </a:lnTo>
                  <a:lnTo>
                    <a:pt x="1526" y="1691"/>
                  </a:lnTo>
                  <a:lnTo>
                    <a:pt x="1515" y="1672"/>
                  </a:lnTo>
                  <a:lnTo>
                    <a:pt x="1507" y="1655"/>
                  </a:lnTo>
                  <a:lnTo>
                    <a:pt x="1499" y="1636"/>
                  </a:lnTo>
                  <a:lnTo>
                    <a:pt x="1492" y="1623"/>
                  </a:lnTo>
                  <a:lnTo>
                    <a:pt x="1486" y="1608"/>
                  </a:lnTo>
                  <a:lnTo>
                    <a:pt x="1479" y="1594"/>
                  </a:lnTo>
                  <a:lnTo>
                    <a:pt x="1472" y="1581"/>
                  </a:lnTo>
                  <a:lnTo>
                    <a:pt x="1466" y="1568"/>
                  </a:lnTo>
                  <a:lnTo>
                    <a:pt x="1459" y="1553"/>
                  </a:lnTo>
                  <a:lnTo>
                    <a:pt x="1452" y="1539"/>
                  </a:lnTo>
                  <a:lnTo>
                    <a:pt x="1445" y="1526"/>
                  </a:lnTo>
                  <a:lnTo>
                    <a:pt x="1443" y="1526"/>
                  </a:lnTo>
                  <a:lnTo>
                    <a:pt x="1440" y="1526"/>
                  </a:lnTo>
                  <a:lnTo>
                    <a:pt x="1437" y="1526"/>
                  </a:lnTo>
                  <a:lnTo>
                    <a:pt x="1436" y="1527"/>
                  </a:lnTo>
                  <a:lnTo>
                    <a:pt x="1433" y="1529"/>
                  </a:lnTo>
                  <a:lnTo>
                    <a:pt x="1432" y="1530"/>
                  </a:lnTo>
                  <a:lnTo>
                    <a:pt x="1429" y="1531"/>
                  </a:lnTo>
                  <a:lnTo>
                    <a:pt x="1428" y="1534"/>
                  </a:lnTo>
                  <a:lnTo>
                    <a:pt x="1433" y="1537"/>
                  </a:lnTo>
                  <a:lnTo>
                    <a:pt x="1437" y="1541"/>
                  </a:lnTo>
                  <a:lnTo>
                    <a:pt x="1440" y="1545"/>
                  </a:lnTo>
                  <a:lnTo>
                    <a:pt x="1443" y="1549"/>
                  </a:lnTo>
                  <a:lnTo>
                    <a:pt x="1445" y="1554"/>
                  </a:lnTo>
                  <a:lnTo>
                    <a:pt x="1447" y="1560"/>
                  </a:lnTo>
                  <a:lnTo>
                    <a:pt x="1449" y="1564"/>
                  </a:lnTo>
                  <a:lnTo>
                    <a:pt x="1451" y="1569"/>
                  </a:lnTo>
                  <a:lnTo>
                    <a:pt x="1449" y="1578"/>
                  </a:lnTo>
                  <a:lnTo>
                    <a:pt x="1449" y="1588"/>
                  </a:lnTo>
                  <a:lnTo>
                    <a:pt x="1448" y="1598"/>
                  </a:lnTo>
                  <a:lnTo>
                    <a:pt x="1447" y="1609"/>
                  </a:lnTo>
                  <a:lnTo>
                    <a:pt x="1445" y="1621"/>
                  </a:lnTo>
                  <a:lnTo>
                    <a:pt x="1443" y="1632"/>
                  </a:lnTo>
                  <a:lnTo>
                    <a:pt x="1439" y="1641"/>
                  </a:lnTo>
                  <a:lnTo>
                    <a:pt x="1433" y="1651"/>
                  </a:lnTo>
                  <a:lnTo>
                    <a:pt x="1423" y="1648"/>
                  </a:lnTo>
                  <a:lnTo>
                    <a:pt x="1413" y="1644"/>
                  </a:lnTo>
                  <a:lnTo>
                    <a:pt x="1404" y="1639"/>
                  </a:lnTo>
                  <a:lnTo>
                    <a:pt x="1396" y="1633"/>
                  </a:lnTo>
                  <a:lnTo>
                    <a:pt x="1386" y="1627"/>
                  </a:lnTo>
                  <a:lnTo>
                    <a:pt x="1378" y="1621"/>
                  </a:lnTo>
                  <a:lnTo>
                    <a:pt x="1369" y="1616"/>
                  </a:lnTo>
                  <a:lnTo>
                    <a:pt x="1360" y="1612"/>
                  </a:lnTo>
                  <a:lnTo>
                    <a:pt x="1345" y="1620"/>
                  </a:lnTo>
                  <a:lnTo>
                    <a:pt x="1330" y="1627"/>
                  </a:lnTo>
                  <a:lnTo>
                    <a:pt x="1315" y="1631"/>
                  </a:lnTo>
                  <a:lnTo>
                    <a:pt x="1299" y="1632"/>
                  </a:lnTo>
                  <a:lnTo>
                    <a:pt x="1283" y="1632"/>
                  </a:lnTo>
                  <a:lnTo>
                    <a:pt x="1269" y="1629"/>
                  </a:lnTo>
                  <a:lnTo>
                    <a:pt x="1261" y="1627"/>
                  </a:lnTo>
                  <a:lnTo>
                    <a:pt x="1254" y="1624"/>
                  </a:lnTo>
                  <a:lnTo>
                    <a:pt x="1246" y="1620"/>
                  </a:lnTo>
                  <a:lnTo>
                    <a:pt x="1239" y="1616"/>
                  </a:lnTo>
                  <a:lnTo>
                    <a:pt x="1232" y="1612"/>
                  </a:lnTo>
                  <a:lnTo>
                    <a:pt x="1226" y="1609"/>
                  </a:lnTo>
                  <a:lnTo>
                    <a:pt x="1219" y="1606"/>
                  </a:lnTo>
                  <a:lnTo>
                    <a:pt x="1212" y="1602"/>
                  </a:lnTo>
                  <a:lnTo>
                    <a:pt x="1206" y="1598"/>
                  </a:lnTo>
                  <a:lnTo>
                    <a:pt x="1199" y="1594"/>
                  </a:lnTo>
                  <a:lnTo>
                    <a:pt x="1194" y="1589"/>
                  </a:lnTo>
                  <a:lnTo>
                    <a:pt x="1188" y="1582"/>
                  </a:lnTo>
                  <a:lnTo>
                    <a:pt x="1181" y="1584"/>
                  </a:lnTo>
                  <a:lnTo>
                    <a:pt x="1176" y="1584"/>
                  </a:lnTo>
                  <a:lnTo>
                    <a:pt x="1171" y="1581"/>
                  </a:lnTo>
                  <a:lnTo>
                    <a:pt x="1165" y="1577"/>
                  </a:lnTo>
                  <a:lnTo>
                    <a:pt x="1161" y="1573"/>
                  </a:lnTo>
                  <a:lnTo>
                    <a:pt x="1156" y="1569"/>
                  </a:lnTo>
                  <a:lnTo>
                    <a:pt x="1152" y="1565"/>
                  </a:lnTo>
                  <a:lnTo>
                    <a:pt x="1147" y="1562"/>
                  </a:lnTo>
                  <a:lnTo>
                    <a:pt x="1137" y="1549"/>
                  </a:lnTo>
                  <a:lnTo>
                    <a:pt x="1128" y="1560"/>
                  </a:lnTo>
                  <a:lnTo>
                    <a:pt x="1120" y="1570"/>
                  </a:lnTo>
                  <a:lnTo>
                    <a:pt x="1112" y="1582"/>
                  </a:lnTo>
                  <a:lnTo>
                    <a:pt x="1104" y="1594"/>
                  </a:lnTo>
                  <a:lnTo>
                    <a:pt x="1097" y="1605"/>
                  </a:lnTo>
                  <a:lnTo>
                    <a:pt x="1089" y="1616"/>
                  </a:lnTo>
                  <a:lnTo>
                    <a:pt x="1080" y="1627"/>
                  </a:lnTo>
                  <a:lnTo>
                    <a:pt x="1070" y="1636"/>
                  </a:lnTo>
                  <a:lnTo>
                    <a:pt x="1066" y="1640"/>
                  </a:lnTo>
                  <a:lnTo>
                    <a:pt x="1062" y="1645"/>
                  </a:lnTo>
                  <a:lnTo>
                    <a:pt x="1057" y="1649"/>
                  </a:lnTo>
                  <a:lnTo>
                    <a:pt x="1052" y="1653"/>
                  </a:lnTo>
                  <a:lnTo>
                    <a:pt x="1048" y="1659"/>
                  </a:lnTo>
                  <a:lnTo>
                    <a:pt x="1043" y="1663"/>
                  </a:lnTo>
                  <a:lnTo>
                    <a:pt x="1041" y="1668"/>
                  </a:lnTo>
                  <a:lnTo>
                    <a:pt x="1038" y="1673"/>
                  </a:lnTo>
                  <a:lnTo>
                    <a:pt x="1031" y="1676"/>
                  </a:lnTo>
                  <a:lnTo>
                    <a:pt x="1026" y="1677"/>
                  </a:lnTo>
                  <a:lnTo>
                    <a:pt x="1021" y="1679"/>
                  </a:lnTo>
                  <a:lnTo>
                    <a:pt x="1015" y="1677"/>
                  </a:lnTo>
                  <a:lnTo>
                    <a:pt x="1006" y="1675"/>
                  </a:lnTo>
                  <a:lnTo>
                    <a:pt x="997" y="1669"/>
                  </a:lnTo>
                  <a:lnTo>
                    <a:pt x="986" y="1663"/>
                  </a:lnTo>
                  <a:lnTo>
                    <a:pt x="977" y="1656"/>
                  </a:lnTo>
                  <a:lnTo>
                    <a:pt x="967" y="1649"/>
                  </a:lnTo>
                  <a:lnTo>
                    <a:pt x="958" y="1643"/>
                  </a:lnTo>
                  <a:lnTo>
                    <a:pt x="952" y="1636"/>
                  </a:lnTo>
                  <a:lnTo>
                    <a:pt x="946" y="1629"/>
                  </a:lnTo>
                  <a:lnTo>
                    <a:pt x="940" y="1623"/>
                  </a:lnTo>
                  <a:lnTo>
                    <a:pt x="934" y="1614"/>
                  </a:lnTo>
                  <a:lnTo>
                    <a:pt x="927" y="1606"/>
                  </a:lnTo>
                  <a:lnTo>
                    <a:pt x="920" y="1600"/>
                  </a:lnTo>
                  <a:lnTo>
                    <a:pt x="914" y="1592"/>
                  </a:lnTo>
                  <a:lnTo>
                    <a:pt x="907" y="1585"/>
                  </a:lnTo>
                  <a:lnTo>
                    <a:pt x="899" y="1588"/>
                  </a:lnTo>
                  <a:lnTo>
                    <a:pt x="889" y="1592"/>
                  </a:lnTo>
                  <a:lnTo>
                    <a:pt x="880" y="1597"/>
                  </a:lnTo>
                  <a:lnTo>
                    <a:pt x="872" y="1604"/>
                  </a:lnTo>
                  <a:lnTo>
                    <a:pt x="853" y="1617"/>
                  </a:lnTo>
                  <a:lnTo>
                    <a:pt x="834" y="1629"/>
                  </a:lnTo>
                  <a:lnTo>
                    <a:pt x="826" y="1635"/>
                  </a:lnTo>
                  <a:lnTo>
                    <a:pt x="817" y="1639"/>
                  </a:lnTo>
                  <a:lnTo>
                    <a:pt x="808" y="1640"/>
                  </a:lnTo>
                  <a:lnTo>
                    <a:pt x="800" y="1641"/>
                  </a:lnTo>
                  <a:lnTo>
                    <a:pt x="790" y="1639"/>
                  </a:lnTo>
                  <a:lnTo>
                    <a:pt x="782" y="1635"/>
                  </a:lnTo>
                  <a:lnTo>
                    <a:pt x="773" y="1628"/>
                  </a:lnTo>
                  <a:lnTo>
                    <a:pt x="765" y="1617"/>
                  </a:lnTo>
                  <a:lnTo>
                    <a:pt x="762" y="1600"/>
                  </a:lnTo>
                  <a:lnTo>
                    <a:pt x="761" y="1582"/>
                  </a:lnTo>
                  <a:lnTo>
                    <a:pt x="762" y="1565"/>
                  </a:lnTo>
                  <a:lnTo>
                    <a:pt x="762" y="1549"/>
                  </a:lnTo>
                  <a:lnTo>
                    <a:pt x="763" y="1531"/>
                  </a:lnTo>
                  <a:lnTo>
                    <a:pt x="765" y="1515"/>
                  </a:lnTo>
                  <a:lnTo>
                    <a:pt x="766" y="1498"/>
                  </a:lnTo>
                  <a:lnTo>
                    <a:pt x="766" y="1481"/>
                  </a:lnTo>
                  <a:lnTo>
                    <a:pt x="770" y="1456"/>
                  </a:lnTo>
                  <a:lnTo>
                    <a:pt x="772" y="1432"/>
                  </a:lnTo>
                  <a:lnTo>
                    <a:pt x="772" y="1408"/>
                  </a:lnTo>
                  <a:lnTo>
                    <a:pt x="772" y="1386"/>
                  </a:lnTo>
                  <a:lnTo>
                    <a:pt x="772" y="1363"/>
                  </a:lnTo>
                  <a:lnTo>
                    <a:pt x="773" y="1340"/>
                  </a:lnTo>
                  <a:lnTo>
                    <a:pt x="774" y="1317"/>
                  </a:lnTo>
                  <a:lnTo>
                    <a:pt x="777" y="1293"/>
                  </a:lnTo>
                  <a:lnTo>
                    <a:pt x="776" y="1288"/>
                  </a:lnTo>
                  <a:lnTo>
                    <a:pt x="774" y="1281"/>
                  </a:lnTo>
                  <a:lnTo>
                    <a:pt x="774" y="1276"/>
                  </a:lnTo>
                  <a:lnTo>
                    <a:pt x="776" y="1269"/>
                  </a:lnTo>
                  <a:lnTo>
                    <a:pt x="777" y="1264"/>
                  </a:lnTo>
                  <a:lnTo>
                    <a:pt x="778" y="1258"/>
                  </a:lnTo>
                  <a:lnTo>
                    <a:pt x="781" y="1253"/>
                  </a:lnTo>
                  <a:lnTo>
                    <a:pt x="785" y="1250"/>
                  </a:lnTo>
                  <a:lnTo>
                    <a:pt x="802" y="1253"/>
                  </a:lnTo>
                  <a:lnTo>
                    <a:pt x="818" y="1258"/>
                  </a:lnTo>
                  <a:lnTo>
                    <a:pt x="836" y="1265"/>
                  </a:lnTo>
                  <a:lnTo>
                    <a:pt x="852" y="1274"/>
                  </a:lnTo>
                  <a:lnTo>
                    <a:pt x="868" y="1284"/>
                  </a:lnTo>
                  <a:lnTo>
                    <a:pt x="883" y="1294"/>
                  </a:lnTo>
                  <a:lnTo>
                    <a:pt x="897" y="1307"/>
                  </a:lnTo>
                  <a:lnTo>
                    <a:pt x="912" y="1320"/>
                  </a:lnTo>
                  <a:lnTo>
                    <a:pt x="935" y="1312"/>
                  </a:lnTo>
                  <a:lnTo>
                    <a:pt x="979" y="1312"/>
                  </a:lnTo>
                  <a:lnTo>
                    <a:pt x="1022" y="1312"/>
                  </a:lnTo>
                  <a:lnTo>
                    <a:pt x="1065" y="1312"/>
                  </a:lnTo>
                  <a:lnTo>
                    <a:pt x="1108" y="1311"/>
                  </a:lnTo>
                  <a:lnTo>
                    <a:pt x="1149" y="1312"/>
                  </a:lnTo>
                  <a:lnTo>
                    <a:pt x="1191" y="1312"/>
                  </a:lnTo>
                  <a:lnTo>
                    <a:pt x="1231" y="1312"/>
                  </a:lnTo>
                  <a:lnTo>
                    <a:pt x="1270" y="1313"/>
                  </a:lnTo>
                  <a:lnTo>
                    <a:pt x="1267" y="1335"/>
                  </a:lnTo>
                  <a:lnTo>
                    <a:pt x="940" y="1340"/>
                  </a:lnTo>
                  <a:lnTo>
                    <a:pt x="947" y="1348"/>
                  </a:lnTo>
                  <a:lnTo>
                    <a:pt x="955" y="1355"/>
                  </a:lnTo>
                  <a:lnTo>
                    <a:pt x="963" y="1361"/>
                  </a:lnTo>
                  <a:lnTo>
                    <a:pt x="971" y="1367"/>
                  </a:lnTo>
                  <a:lnTo>
                    <a:pt x="989" y="1377"/>
                  </a:lnTo>
                  <a:lnTo>
                    <a:pt x="1006" y="1388"/>
                  </a:lnTo>
                  <a:lnTo>
                    <a:pt x="1023" y="1398"/>
                  </a:lnTo>
                  <a:lnTo>
                    <a:pt x="1041" y="1408"/>
                  </a:lnTo>
                  <a:lnTo>
                    <a:pt x="1049" y="1414"/>
                  </a:lnTo>
                  <a:lnTo>
                    <a:pt x="1057" y="1419"/>
                  </a:lnTo>
                  <a:lnTo>
                    <a:pt x="1064" y="1426"/>
                  </a:lnTo>
                  <a:lnTo>
                    <a:pt x="1070" y="1434"/>
                  </a:lnTo>
                  <a:lnTo>
                    <a:pt x="1070" y="1443"/>
                  </a:lnTo>
                  <a:lnTo>
                    <a:pt x="1070" y="1450"/>
                  </a:lnTo>
                  <a:lnTo>
                    <a:pt x="1069" y="1458"/>
                  </a:lnTo>
                  <a:lnTo>
                    <a:pt x="1068" y="1465"/>
                  </a:lnTo>
                  <a:lnTo>
                    <a:pt x="1066" y="1471"/>
                  </a:lnTo>
                  <a:lnTo>
                    <a:pt x="1062" y="1478"/>
                  </a:lnTo>
                  <a:lnTo>
                    <a:pt x="1058" y="1483"/>
                  </a:lnTo>
                  <a:lnTo>
                    <a:pt x="1053" y="1490"/>
                  </a:lnTo>
                  <a:lnTo>
                    <a:pt x="1049" y="1497"/>
                  </a:lnTo>
                  <a:lnTo>
                    <a:pt x="1043" y="1502"/>
                  </a:lnTo>
                  <a:lnTo>
                    <a:pt x="1038" y="1506"/>
                  </a:lnTo>
                  <a:lnTo>
                    <a:pt x="1031" y="1510"/>
                  </a:lnTo>
                  <a:lnTo>
                    <a:pt x="1017" y="1514"/>
                  </a:lnTo>
                  <a:lnTo>
                    <a:pt x="1002" y="1518"/>
                  </a:lnTo>
                  <a:lnTo>
                    <a:pt x="995" y="1519"/>
                  </a:lnTo>
                  <a:lnTo>
                    <a:pt x="990" y="1522"/>
                  </a:lnTo>
                  <a:lnTo>
                    <a:pt x="985" y="1525"/>
                  </a:lnTo>
                  <a:lnTo>
                    <a:pt x="979" y="1529"/>
                  </a:lnTo>
                  <a:lnTo>
                    <a:pt x="977" y="1533"/>
                  </a:lnTo>
                  <a:lnTo>
                    <a:pt x="975" y="1539"/>
                  </a:lnTo>
                  <a:lnTo>
                    <a:pt x="975" y="1548"/>
                  </a:lnTo>
                  <a:lnTo>
                    <a:pt x="977" y="1557"/>
                  </a:lnTo>
                  <a:lnTo>
                    <a:pt x="982" y="1562"/>
                  </a:lnTo>
                  <a:lnTo>
                    <a:pt x="987" y="1569"/>
                  </a:lnTo>
                  <a:lnTo>
                    <a:pt x="993" y="1576"/>
                  </a:lnTo>
                  <a:lnTo>
                    <a:pt x="997" y="1581"/>
                  </a:lnTo>
                  <a:lnTo>
                    <a:pt x="1002" y="1588"/>
                  </a:lnTo>
                  <a:lnTo>
                    <a:pt x="1007" y="1592"/>
                  </a:lnTo>
                  <a:lnTo>
                    <a:pt x="1014" y="1596"/>
                  </a:lnTo>
                  <a:lnTo>
                    <a:pt x="1022" y="1600"/>
                  </a:lnTo>
                  <a:lnTo>
                    <a:pt x="1030" y="1592"/>
                  </a:lnTo>
                  <a:lnTo>
                    <a:pt x="1037" y="1584"/>
                  </a:lnTo>
                  <a:lnTo>
                    <a:pt x="1043" y="1574"/>
                  </a:lnTo>
                  <a:lnTo>
                    <a:pt x="1049" y="1566"/>
                  </a:lnTo>
                  <a:lnTo>
                    <a:pt x="1054" y="1558"/>
                  </a:lnTo>
                  <a:lnTo>
                    <a:pt x="1060" y="1549"/>
                  </a:lnTo>
                  <a:lnTo>
                    <a:pt x="1065" y="1541"/>
                  </a:lnTo>
                  <a:lnTo>
                    <a:pt x="1070" y="1531"/>
                  </a:lnTo>
                  <a:lnTo>
                    <a:pt x="1074" y="1521"/>
                  </a:lnTo>
                  <a:lnTo>
                    <a:pt x="1078" y="1511"/>
                  </a:lnTo>
                  <a:lnTo>
                    <a:pt x="1084" y="1501"/>
                  </a:lnTo>
                  <a:lnTo>
                    <a:pt x="1090" y="1493"/>
                  </a:lnTo>
                  <a:lnTo>
                    <a:pt x="1097" y="1483"/>
                  </a:lnTo>
                  <a:lnTo>
                    <a:pt x="1105" y="1477"/>
                  </a:lnTo>
                  <a:lnTo>
                    <a:pt x="1115" y="1470"/>
                  </a:lnTo>
                  <a:lnTo>
                    <a:pt x="1124" y="1465"/>
                  </a:lnTo>
                  <a:lnTo>
                    <a:pt x="1123" y="1458"/>
                  </a:lnTo>
                  <a:lnTo>
                    <a:pt x="1123" y="1451"/>
                  </a:lnTo>
                  <a:lnTo>
                    <a:pt x="1123" y="1446"/>
                  </a:lnTo>
                  <a:lnTo>
                    <a:pt x="1124" y="1442"/>
                  </a:lnTo>
                  <a:lnTo>
                    <a:pt x="1129" y="1434"/>
                  </a:lnTo>
                  <a:lnTo>
                    <a:pt x="1136" y="1427"/>
                  </a:lnTo>
                  <a:lnTo>
                    <a:pt x="1144" y="1420"/>
                  </a:lnTo>
                  <a:lnTo>
                    <a:pt x="1152" y="1415"/>
                  </a:lnTo>
                  <a:lnTo>
                    <a:pt x="1160" y="1408"/>
                  </a:lnTo>
                  <a:lnTo>
                    <a:pt x="1168" y="1400"/>
                  </a:lnTo>
                  <a:lnTo>
                    <a:pt x="1180" y="1399"/>
                  </a:lnTo>
                  <a:lnTo>
                    <a:pt x="1194" y="1395"/>
                  </a:lnTo>
                  <a:lnTo>
                    <a:pt x="1206" y="1391"/>
                  </a:lnTo>
                  <a:lnTo>
                    <a:pt x="1218" y="1387"/>
                  </a:lnTo>
                  <a:lnTo>
                    <a:pt x="1230" y="1383"/>
                  </a:lnTo>
                  <a:lnTo>
                    <a:pt x="1242" y="1379"/>
                  </a:lnTo>
                  <a:lnTo>
                    <a:pt x="1254" y="1377"/>
                  </a:lnTo>
                  <a:lnTo>
                    <a:pt x="1267" y="1377"/>
                  </a:lnTo>
                  <a:lnTo>
                    <a:pt x="1273" y="1372"/>
                  </a:lnTo>
                  <a:lnTo>
                    <a:pt x="1277" y="1364"/>
                  </a:lnTo>
                  <a:lnTo>
                    <a:pt x="1279" y="1356"/>
                  </a:lnTo>
                  <a:lnTo>
                    <a:pt x="1281" y="1348"/>
                  </a:lnTo>
                  <a:lnTo>
                    <a:pt x="1282" y="1340"/>
                  </a:lnTo>
                  <a:lnTo>
                    <a:pt x="1283" y="1332"/>
                  </a:lnTo>
                  <a:lnTo>
                    <a:pt x="1287" y="1325"/>
                  </a:lnTo>
                  <a:lnTo>
                    <a:pt x="1293" y="1320"/>
                  </a:lnTo>
                  <a:lnTo>
                    <a:pt x="1295" y="1304"/>
                  </a:lnTo>
                  <a:lnTo>
                    <a:pt x="1298" y="1288"/>
                  </a:lnTo>
                  <a:lnTo>
                    <a:pt x="1302" y="1273"/>
                  </a:lnTo>
                  <a:lnTo>
                    <a:pt x="1306" y="1258"/>
                  </a:lnTo>
                  <a:lnTo>
                    <a:pt x="1313" y="1244"/>
                  </a:lnTo>
                  <a:lnTo>
                    <a:pt x="1318" y="1229"/>
                  </a:lnTo>
                  <a:lnTo>
                    <a:pt x="1326" y="1215"/>
                  </a:lnTo>
                  <a:lnTo>
                    <a:pt x="1334" y="1202"/>
                  </a:lnTo>
                  <a:lnTo>
                    <a:pt x="1332" y="1191"/>
                  </a:lnTo>
                  <a:lnTo>
                    <a:pt x="1329" y="1182"/>
                  </a:lnTo>
                  <a:lnTo>
                    <a:pt x="1325" y="1173"/>
                  </a:lnTo>
                  <a:lnTo>
                    <a:pt x="1321" y="1163"/>
                  </a:lnTo>
                  <a:lnTo>
                    <a:pt x="1317" y="1155"/>
                  </a:lnTo>
                  <a:lnTo>
                    <a:pt x="1314" y="1145"/>
                  </a:lnTo>
                  <a:lnTo>
                    <a:pt x="1314" y="1134"/>
                  </a:lnTo>
                  <a:lnTo>
                    <a:pt x="1315" y="1123"/>
                  </a:lnTo>
                  <a:lnTo>
                    <a:pt x="1324" y="1102"/>
                  </a:lnTo>
                  <a:lnTo>
                    <a:pt x="1334" y="1083"/>
                  </a:lnTo>
                  <a:lnTo>
                    <a:pt x="1346" y="1064"/>
                  </a:lnTo>
                  <a:lnTo>
                    <a:pt x="1360" y="1047"/>
                  </a:lnTo>
                  <a:lnTo>
                    <a:pt x="1373" y="1028"/>
                  </a:lnTo>
                  <a:lnTo>
                    <a:pt x="1385" y="1011"/>
                  </a:lnTo>
                  <a:lnTo>
                    <a:pt x="1397" y="992"/>
                  </a:lnTo>
                  <a:lnTo>
                    <a:pt x="1408" y="972"/>
                  </a:lnTo>
                  <a:lnTo>
                    <a:pt x="1413" y="954"/>
                  </a:lnTo>
                  <a:lnTo>
                    <a:pt x="1419" y="937"/>
                  </a:lnTo>
                  <a:lnTo>
                    <a:pt x="1425" y="921"/>
                  </a:lnTo>
                  <a:lnTo>
                    <a:pt x="1431" y="904"/>
                  </a:lnTo>
                  <a:lnTo>
                    <a:pt x="1436" y="886"/>
                  </a:lnTo>
                  <a:lnTo>
                    <a:pt x="1441" y="869"/>
                  </a:lnTo>
                  <a:lnTo>
                    <a:pt x="1444" y="850"/>
                  </a:lnTo>
                  <a:lnTo>
                    <a:pt x="1445" y="831"/>
                  </a:lnTo>
                  <a:lnTo>
                    <a:pt x="1449" y="826"/>
                  </a:lnTo>
                  <a:lnTo>
                    <a:pt x="1452" y="821"/>
                  </a:lnTo>
                  <a:lnTo>
                    <a:pt x="1456" y="815"/>
                  </a:lnTo>
                  <a:lnTo>
                    <a:pt x="1460" y="810"/>
                  </a:lnTo>
                  <a:lnTo>
                    <a:pt x="1463" y="804"/>
                  </a:lnTo>
                  <a:lnTo>
                    <a:pt x="1467" y="799"/>
                  </a:lnTo>
                  <a:lnTo>
                    <a:pt x="1470" y="794"/>
                  </a:lnTo>
                  <a:lnTo>
                    <a:pt x="1471" y="788"/>
                  </a:lnTo>
                  <a:lnTo>
                    <a:pt x="1467" y="787"/>
                  </a:lnTo>
                  <a:lnTo>
                    <a:pt x="1462" y="786"/>
                  </a:lnTo>
                  <a:lnTo>
                    <a:pt x="1456" y="786"/>
                  </a:lnTo>
                  <a:lnTo>
                    <a:pt x="1451" y="787"/>
                  </a:lnTo>
                  <a:lnTo>
                    <a:pt x="1445" y="788"/>
                  </a:lnTo>
                  <a:lnTo>
                    <a:pt x="1439" y="790"/>
                  </a:lnTo>
                  <a:lnTo>
                    <a:pt x="1433" y="790"/>
                  </a:lnTo>
                  <a:lnTo>
                    <a:pt x="1428" y="791"/>
                  </a:lnTo>
                  <a:lnTo>
                    <a:pt x="1411" y="792"/>
                  </a:lnTo>
                  <a:lnTo>
                    <a:pt x="1395" y="791"/>
                  </a:lnTo>
                  <a:lnTo>
                    <a:pt x="1377" y="790"/>
                  </a:lnTo>
                  <a:lnTo>
                    <a:pt x="1362" y="787"/>
                  </a:lnTo>
                  <a:lnTo>
                    <a:pt x="1348" y="782"/>
                  </a:lnTo>
                  <a:lnTo>
                    <a:pt x="1333" y="775"/>
                  </a:lnTo>
                  <a:lnTo>
                    <a:pt x="1321" y="766"/>
                  </a:lnTo>
                  <a:lnTo>
                    <a:pt x="1307" y="755"/>
                  </a:lnTo>
                  <a:lnTo>
                    <a:pt x="1305" y="756"/>
                  </a:lnTo>
                  <a:lnTo>
                    <a:pt x="1301" y="756"/>
                  </a:lnTo>
                  <a:lnTo>
                    <a:pt x="1297" y="758"/>
                  </a:lnTo>
                  <a:lnTo>
                    <a:pt x="1293" y="759"/>
                  </a:lnTo>
                  <a:lnTo>
                    <a:pt x="1290" y="762"/>
                  </a:lnTo>
                  <a:lnTo>
                    <a:pt x="1286" y="763"/>
                  </a:lnTo>
                  <a:lnTo>
                    <a:pt x="1283" y="766"/>
                  </a:lnTo>
                  <a:lnTo>
                    <a:pt x="1279" y="768"/>
                  </a:lnTo>
                  <a:lnTo>
                    <a:pt x="1271" y="770"/>
                  </a:lnTo>
                  <a:lnTo>
                    <a:pt x="1262" y="771"/>
                  </a:lnTo>
                  <a:lnTo>
                    <a:pt x="1255" y="770"/>
                  </a:lnTo>
                  <a:lnTo>
                    <a:pt x="1247" y="768"/>
                  </a:lnTo>
                  <a:lnTo>
                    <a:pt x="1240" y="766"/>
                  </a:lnTo>
                  <a:lnTo>
                    <a:pt x="1234" y="762"/>
                  </a:lnTo>
                  <a:lnTo>
                    <a:pt x="1227" y="758"/>
                  </a:lnTo>
                  <a:lnTo>
                    <a:pt x="1220" y="752"/>
                  </a:lnTo>
                  <a:lnTo>
                    <a:pt x="1208" y="742"/>
                  </a:lnTo>
                  <a:lnTo>
                    <a:pt x="1196" y="731"/>
                  </a:lnTo>
                  <a:lnTo>
                    <a:pt x="1190" y="727"/>
                  </a:lnTo>
                  <a:lnTo>
                    <a:pt x="1183" y="723"/>
                  </a:lnTo>
                  <a:lnTo>
                    <a:pt x="1175" y="719"/>
                  </a:lnTo>
                  <a:lnTo>
                    <a:pt x="1168" y="717"/>
                  </a:lnTo>
                  <a:lnTo>
                    <a:pt x="1159" y="708"/>
                  </a:lnTo>
                  <a:lnTo>
                    <a:pt x="1148" y="700"/>
                  </a:lnTo>
                  <a:lnTo>
                    <a:pt x="1137" y="692"/>
                  </a:lnTo>
                  <a:lnTo>
                    <a:pt x="1127" y="685"/>
                  </a:lnTo>
                  <a:lnTo>
                    <a:pt x="1105" y="672"/>
                  </a:lnTo>
                  <a:lnTo>
                    <a:pt x="1082" y="661"/>
                  </a:lnTo>
                  <a:lnTo>
                    <a:pt x="1060" y="649"/>
                  </a:lnTo>
                  <a:lnTo>
                    <a:pt x="1039" y="636"/>
                  </a:lnTo>
                  <a:lnTo>
                    <a:pt x="1029" y="629"/>
                  </a:lnTo>
                  <a:lnTo>
                    <a:pt x="1019" y="621"/>
                  </a:lnTo>
                  <a:lnTo>
                    <a:pt x="1010" y="612"/>
                  </a:lnTo>
                  <a:lnTo>
                    <a:pt x="1002" y="602"/>
                  </a:lnTo>
                  <a:lnTo>
                    <a:pt x="1007" y="588"/>
                  </a:lnTo>
                  <a:lnTo>
                    <a:pt x="1010" y="573"/>
                  </a:lnTo>
                  <a:lnTo>
                    <a:pt x="1013" y="557"/>
                  </a:lnTo>
                  <a:lnTo>
                    <a:pt x="1014" y="541"/>
                  </a:lnTo>
                  <a:lnTo>
                    <a:pt x="1014" y="525"/>
                  </a:lnTo>
                  <a:lnTo>
                    <a:pt x="1015" y="509"/>
                  </a:lnTo>
                  <a:lnTo>
                    <a:pt x="1015" y="493"/>
                  </a:lnTo>
                  <a:lnTo>
                    <a:pt x="1017" y="476"/>
                  </a:lnTo>
                  <a:lnTo>
                    <a:pt x="1015" y="476"/>
                  </a:lnTo>
                  <a:lnTo>
                    <a:pt x="1013" y="475"/>
                  </a:lnTo>
                  <a:lnTo>
                    <a:pt x="1011" y="474"/>
                  </a:lnTo>
                  <a:lnTo>
                    <a:pt x="1011" y="472"/>
                  </a:lnTo>
                  <a:lnTo>
                    <a:pt x="1010" y="470"/>
                  </a:lnTo>
                  <a:lnTo>
                    <a:pt x="1010" y="468"/>
                  </a:lnTo>
                  <a:lnTo>
                    <a:pt x="1009" y="466"/>
                  </a:lnTo>
                  <a:lnTo>
                    <a:pt x="1009" y="464"/>
                  </a:lnTo>
                  <a:lnTo>
                    <a:pt x="1014" y="456"/>
                  </a:lnTo>
                  <a:lnTo>
                    <a:pt x="1018" y="450"/>
                  </a:lnTo>
                  <a:lnTo>
                    <a:pt x="1023" y="444"/>
                  </a:lnTo>
                  <a:lnTo>
                    <a:pt x="1030" y="442"/>
                  </a:lnTo>
                  <a:lnTo>
                    <a:pt x="1035" y="439"/>
                  </a:lnTo>
                  <a:lnTo>
                    <a:pt x="1042" y="438"/>
                  </a:lnTo>
                  <a:lnTo>
                    <a:pt x="1050" y="438"/>
                  </a:lnTo>
                  <a:lnTo>
                    <a:pt x="1057" y="438"/>
                  </a:lnTo>
                  <a:lnTo>
                    <a:pt x="1072" y="438"/>
                  </a:lnTo>
                  <a:lnTo>
                    <a:pt x="1086" y="439"/>
                  </a:lnTo>
                  <a:lnTo>
                    <a:pt x="1094" y="439"/>
                  </a:lnTo>
                  <a:lnTo>
                    <a:pt x="1102" y="439"/>
                  </a:lnTo>
                  <a:lnTo>
                    <a:pt x="1109" y="438"/>
                  </a:lnTo>
                  <a:lnTo>
                    <a:pt x="1116" y="436"/>
                  </a:lnTo>
                  <a:lnTo>
                    <a:pt x="1135" y="431"/>
                  </a:lnTo>
                  <a:lnTo>
                    <a:pt x="1153" y="427"/>
                  </a:lnTo>
                  <a:lnTo>
                    <a:pt x="1171" y="422"/>
                  </a:lnTo>
                  <a:lnTo>
                    <a:pt x="1190" y="418"/>
                  </a:lnTo>
                  <a:lnTo>
                    <a:pt x="1208" y="414"/>
                  </a:lnTo>
                  <a:lnTo>
                    <a:pt x="1227" y="409"/>
                  </a:lnTo>
                  <a:lnTo>
                    <a:pt x="1246" y="404"/>
                  </a:lnTo>
                  <a:lnTo>
                    <a:pt x="1265" y="400"/>
                  </a:lnTo>
                  <a:lnTo>
                    <a:pt x="1293" y="395"/>
                  </a:lnTo>
                  <a:lnTo>
                    <a:pt x="1319" y="388"/>
                  </a:lnTo>
                  <a:lnTo>
                    <a:pt x="1348" y="383"/>
                  </a:lnTo>
                  <a:lnTo>
                    <a:pt x="1376" y="379"/>
                  </a:lnTo>
                  <a:lnTo>
                    <a:pt x="1405" y="375"/>
                  </a:lnTo>
                  <a:lnTo>
                    <a:pt x="1433" y="372"/>
                  </a:lnTo>
                  <a:lnTo>
                    <a:pt x="1462" y="371"/>
                  </a:lnTo>
                  <a:lnTo>
                    <a:pt x="1490" y="372"/>
                  </a:lnTo>
                  <a:lnTo>
                    <a:pt x="1495" y="375"/>
                  </a:lnTo>
                  <a:lnTo>
                    <a:pt x="1500" y="377"/>
                  </a:lnTo>
                  <a:lnTo>
                    <a:pt x="1506" y="381"/>
                  </a:lnTo>
                  <a:lnTo>
                    <a:pt x="1511" y="383"/>
                  </a:lnTo>
                  <a:lnTo>
                    <a:pt x="1516" y="385"/>
                  </a:lnTo>
                  <a:lnTo>
                    <a:pt x="1523" y="384"/>
                  </a:lnTo>
                  <a:lnTo>
                    <a:pt x="1528" y="383"/>
                  </a:lnTo>
                  <a:lnTo>
                    <a:pt x="1533" y="377"/>
                  </a:lnTo>
                  <a:lnTo>
                    <a:pt x="1539" y="372"/>
                  </a:lnTo>
                  <a:lnTo>
                    <a:pt x="1547" y="368"/>
                  </a:lnTo>
                  <a:lnTo>
                    <a:pt x="1557" y="367"/>
                  </a:lnTo>
                  <a:lnTo>
                    <a:pt x="1566" y="367"/>
                  </a:lnTo>
                  <a:lnTo>
                    <a:pt x="1575" y="367"/>
                  </a:lnTo>
                  <a:lnTo>
                    <a:pt x="1585" y="368"/>
                  </a:lnTo>
                  <a:lnTo>
                    <a:pt x="1594" y="369"/>
                  </a:lnTo>
                  <a:lnTo>
                    <a:pt x="1602" y="372"/>
                  </a:lnTo>
                  <a:lnTo>
                    <a:pt x="1605" y="375"/>
                  </a:lnTo>
                  <a:lnTo>
                    <a:pt x="1608" y="377"/>
                  </a:lnTo>
                  <a:lnTo>
                    <a:pt x="1612" y="379"/>
                  </a:lnTo>
                  <a:lnTo>
                    <a:pt x="1616" y="380"/>
                  </a:lnTo>
                  <a:lnTo>
                    <a:pt x="1618" y="383"/>
                  </a:lnTo>
                  <a:lnTo>
                    <a:pt x="1622" y="383"/>
                  </a:lnTo>
                  <a:lnTo>
                    <a:pt x="1626" y="384"/>
                  </a:lnTo>
                  <a:lnTo>
                    <a:pt x="1629" y="385"/>
                  </a:lnTo>
                  <a:lnTo>
                    <a:pt x="1630" y="372"/>
                  </a:lnTo>
                  <a:lnTo>
                    <a:pt x="1633" y="360"/>
                  </a:lnTo>
                  <a:lnTo>
                    <a:pt x="1636" y="348"/>
                  </a:lnTo>
                  <a:lnTo>
                    <a:pt x="1640" y="337"/>
                  </a:lnTo>
                  <a:lnTo>
                    <a:pt x="1645" y="326"/>
                  </a:lnTo>
                  <a:lnTo>
                    <a:pt x="1650" y="316"/>
                  </a:lnTo>
                  <a:lnTo>
                    <a:pt x="1657" y="305"/>
                  </a:lnTo>
                  <a:lnTo>
                    <a:pt x="1665" y="296"/>
                  </a:lnTo>
                  <a:lnTo>
                    <a:pt x="1660" y="294"/>
                  </a:lnTo>
                  <a:lnTo>
                    <a:pt x="1656" y="292"/>
                  </a:lnTo>
                  <a:lnTo>
                    <a:pt x="1654" y="288"/>
                  </a:lnTo>
                  <a:lnTo>
                    <a:pt x="1654" y="282"/>
                  </a:lnTo>
                  <a:lnTo>
                    <a:pt x="1654" y="277"/>
                  </a:lnTo>
                  <a:lnTo>
                    <a:pt x="1656" y="272"/>
                  </a:lnTo>
                  <a:lnTo>
                    <a:pt x="1657" y="266"/>
                  </a:lnTo>
                  <a:lnTo>
                    <a:pt x="1658" y="262"/>
                  </a:lnTo>
                  <a:lnTo>
                    <a:pt x="1644" y="253"/>
                  </a:lnTo>
                  <a:lnTo>
                    <a:pt x="1629" y="245"/>
                  </a:lnTo>
                  <a:lnTo>
                    <a:pt x="1614" y="235"/>
                  </a:lnTo>
                  <a:lnTo>
                    <a:pt x="1600" y="226"/>
                  </a:lnTo>
                  <a:lnTo>
                    <a:pt x="1593" y="221"/>
                  </a:lnTo>
                  <a:lnTo>
                    <a:pt x="1586" y="215"/>
                  </a:lnTo>
                  <a:lnTo>
                    <a:pt x="1582" y="209"/>
                  </a:lnTo>
                  <a:lnTo>
                    <a:pt x="1578" y="202"/>
                  </a:lnTo>
                  <a:lnTo>
                    <a:pt x="1574" y="195"/>
                  </a:lnTo>
                  <a:lnTo>
                    <a:pt x="1573" y="187"/>
                  </a:lnTo>
                  <a:lnTo>
                    <a:pt x="1573" y="178"/>
                  </a:lnTo>
                  <a:lnTo>
                    <a:pt x="1574" y="169"/>
                  </a:lnTo>
                  <a:lnTo>
                    <a:pt x="1579" y="164"/>
                  </a:lnTo>
                  <a:lnTo>
                    <a:pt x="1585" y="162"/>
                  </a:lnTo>
                  <a:lnTo>
                    <a:pt x="1589" y="160"/>
                  </a:lnTo>
                  <a:lnTo>
                    <a:pt x="1594" y="159"/>
                  </a:lnTo>
                  <a:lnTo>
                    <a:pt x="1606" y="158"/>
                  </a:lnTo>
                  <a:lnTo>
                    <a:pt x="1617" y="158"/>
                  </a:lnTo>
                  <a:lnTo>
                    <a:pt x="1628" y="159"/>
                  </a:lnTo>
                  <a:lnTo>
                    <a:pt x="1638" y="162"/>
                  </a:lnTo>
                  <a:lnTo>
                    <a:pt x="1649" y="163"/>
                  </a:lnTo>
                  <a:lnTo>
                    <a:pt x="1660" y="163"/>
                  </a:lnTo>
                  <a:lnTo>
                    <a:pt x="1673" y="174"/>
                  </a:lnTo>
                  <a:lnTo>
                    <a:pt x="1691" y="152"/>
                  </a:lnTo>
                  <a:lnTo>
                    <a:pt x="1691" y="143"/>
                  </a:lnTo>
                  <a:lnTo>
                    <a:pt x="1692" y="134"/>
                  </a:lnTo>
                  <a:lnTo>
                    <a:pt x="1695" y="124"/>
                  </a:lnTo>
                  <a:lnTo>
                    <a:pt x="1697" y="115"/>
                  </a:lnTo>
                  <a:lnTo>
                    <a:pt x="1703" y="106"/>
                  </a:lnTo>
                  <a:lnTo>
                    <a:pt x="1708" y="98"/>
                  </a:lnTo>
                  <a:lnTo>
                    <a:pt x="1715" y="91"/>
                  </a:lnTo>
                  <a:lnTo>
                    <a:pt x="1721" y="84"/>
                  </a:lnTo>
                  <a:lnTo>
                    <a:pt x="1721" y="79"/>
                  </a:lnTo>
                  <a:lnTo>
                    <a:pt x="1724" y="80"/>
                  </a:lnTo>
                  <a:lnTo>
                    <a:pt x="1725" y="81"/>
                  </a:lnTo>
                  <a:lnTo>
                    <a:pt x="1728" y="81"/>
                  </a:lnTo>
                  <a:lnTo>
                    <a:pt x="1729" y="80"/>
                  </a:lnTo>
                  <a:lnTo>
                    <a:pt x="1731" y="79"/>
                  </a:lnTo>
                  <a:lnTo>
                    <a:pt x="1733" y="77"/>
                  </a:lnTo>
                  <a:lnTo>
                    <a:pt x="1733" y="76"/>
                  </a:lnTo>
                  <a:lnTo>
                    <a:pt x="1735" y="73"/>
                  </a:lnTo>
                  <a:lnTo>
                    <a:pt x="1735" y="72"/>
                  </a:lnTo>
                  <a:lnTo>
                    <a:pt x="1735" y="72"/>
                  </a:lnTo>
                  <a:lnTo>
                    <a:pt x="1735" y="71"/>
                  </a:lnTo>
                  <a:lnTo>
                    <a:pt x="1733" y="71"/>
                  </a:lnTo>
                  <a:lnTo>
                    <a:pt x="1733" y="69"/>
                  </a:lnTo>
                  <a:lnTo>
                    <a:pt x="1733" y="69"/>
                  </a:lnTo>
                  <a:lnTo>
                    <a:pt x="1732" y="69"/>
                  </a:lnTo>
                  <a:lnTo>
                    <a:pt x="1732" y="68"/>
                  </a:lnTo>
                  <a:lnTo>
                    <a:pt x="1735" y="71"/>
                  </a:lnTo>
                  <a:lnTo>
                    <a:pt x="1744" y="61"/>
                  </a:lnTo>
                  <a:lnTo>
                    <a:pt x="1755" y="52"/>
                  </a:lnTo>
                  <a:lnTo>
                    <a:pt x="1766" y="43"/>
                  </a:lnTo>
                  <a:lnTo>
                    <a:pt x="1778" y="35"/>
                  </a:lnTo>
                  <a:lnTo>
                    <a:pt x="1788" y="28"/>
                  </a:lnTo>
                  <a:lnTo>
                    <a:pt x="1802" y="21"/>
                  </a:lnTo>
                  <a:lnTo>
                    <a:pt x="1814" y="16"/>
                  </a:lnTo>
                  <a:lnTo>
                    <a:pt x="1827" y="11"/>
                  </a:lnTo>
                  <a:lnTo>
                    <a:pt x="1841" y="6"/>
                  </a:lnTo>
                  <a:lnTo>
                    <a:pt x="1855" y="4"/>
                  </a:lnTo>
                  <a:lnTo>
                    <a:pt x="1869" y="1"/>
                  </a:lnTo>
                  <a:lnTo>
                    <a:pt x="1884" y="0"/>
                  </a:lnTo>
                  <a:lnTo>
                    <a:pt x="1898" y="0"/>
                  </a:lnTo>
                  <a:lnTo>
                    <a:pt x="1913" y="1"/>
                  </a:lnTo>
                  <a:lnTo>
                    <a:pt x="1929" y="2"/>
                  </a:lnTo>
                  <a:lnTo>
                    <a:pt x="1944" y="5"/>
                  </a:lnTo>
                  <a:lnTo>
                    <a:pt x="1967" y="11"/>
                  </a:lnTo>
                  <a:lnTo>
                    <a:pt x="1989" y="19"/>
                  </a:lnTo>
                  <a:lnTo>
                    <a:pt x="2011" y="28"/>
                  </a:lnTo>
                  <a:lnTo>
                    <a:pt x="2031" y="40"/>
                  </a:lnTo>
                  <a:lnTo>
                    <a:pt x="2051" y="52"/>
                  </a:lnTo>
                  <a:lnTo>
                    <a:pt x="2071" y="67"/>
                  </a:lnTo>
                  <a:lnTo>
                    <a:pt x="2089" y="81"/>
                  </a:lnTo>
                  <a:lnTo>
                    <a:pt x="210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76280" y="5132880"/>
              <a:ext cx="231480" cy="137160"/>
            </a:xfrm>
            <a:custGeom>
              <a:avLst/>
              <a:gdLst/>
              <a:ahLst/>
              <a:rect l="l" t="t" r="r" b="b"/>
              <a:pathLst>
                <a:path w="508" h="312">
                  <a:moveTo>
                    <a:pt x="483" y="93"/>
                  </a:moveTo>
                  <a:lnTo>
                    <a:pt x="488" y="103"/>
                  </a:lnTo>
                  <a:lnTo>
                    <a:pt x="492" y="111"/>
                  </a:lnTo>
                  <a:lnTo>
                    <a:pt x="496" y="120"/>
                  </a:lnTo>
                  <a:lnTo>
                    <a:pt x="500" y="129"/>
                  </a:lnTo>
                  <a:lnTo>
                    <a:pt x="503" y="139"/>
                  </a:lnTo>
                  <a:lnTo>
                    <a:pt x="504" y="148"/>
                  </a:lnTo>
                  <a:lnTo>
                    <a:pt x="507" y="159"/>
                  </a:lnTo>
                  <a:lnTo>
                    <a:pt x="508" y="168"/>
                  </a:lnTo>
                  <a:lnTo>
                    <a:pt x="505" y="175"/>
                  </a:lnTo>
                  <a:lnTo>
                    <a:pt x="504" y="182"/>
                  </a:lnTo>
                  <a:lnTo>
                    <a:pt x="504" y="190"/>
                  </a:lnTo>
                  <a:lnTo>
                    <a:pt x="504" y="198"/>
                  </a:lnTo>
                  <a:lnTo>
                    <a:pt x="505" y="206"/>
                  </a:lnTo>
                  <a:lnTo>
                    <a:pt x="505" y="214"/>
                  </a:lnTo>
                  <a:lnTo>
                    <a:pt x="505" y="222"/>
                  </a:lnTo>
                  <a:lnTo>
                    <a:pt x="503" y="229"/>
                  </a:lnTo>
                  <a:lnTo>
                    <a:pt x="501" y="239"/>
                  </a:lnTo>
                  <a:lnTo>
                    <a:pt x="499" y="250"/>
                  </a:lnTo>
                  <a:lnTo>
                    <a:pt x="497" y="261"/>
                  </a:lnTo>
                  <a:lnTo>
                    <a:pt x="495" y="271"/>
                  </a:lnTo>
                  <a:lnTo>
                    <a:pt x="491" y="282"/>
                  </a:lnTo>
                  <a:lnTo>
                    <a:pt x="488" y="291"/>
                  </a:lnTo>
                  <a:lnTo>
                    <a:pt x="484" y="301"/>
                  </a:lnTo>
                  <a:lnTo>
                    <a:pt x="480" y="312"/>
                  </a:lnTo>
                  <a:lnTo>
                    <a:pt x="420" y="306"/>
                  </a:lnTo>
                  <a:lnTo>
                    <a:pt x="359" y="299"/>
                  </a:lnTo>
                  <a:lnTo>
                    <a:pt x="328" y="295"/>
                  </a:lnTo>
                  <a:lnTo>
                    <a:pt x="299" y="290"/>
                  </a:lnTo>
                  <a:lnTo>
                    <a:pt x="269" y="283"/>
                  </a:lnTo>
                  <a:lnTo>
                    <a:pt x="240" y="277"/>
                  </a:lnTo>
                  <a:lnTo>
                    <a:pt x="212" y="270"/>
                  </a:lnTo>
                  <a:lnTo>
                    <a:pt x="182" y="261"/>
                  </a:lnTo>
                  <a:lnTo>
                    <a:pt x="154" y="251"/>
                  </a:lnTo>
                  <a:lnTo>
                    <a:pt x="127" y="242"/>
                  </a:lnTo>
                  <a:lnTo>
                    <a:pt x="99" y="230"/>
                  </a:lnTo>
                  <a:lnTo>
                    <a:pt x="73" y="218"/>
                  </a:lnTo>
                  <a:lnTo>
                    <a:pt x="46" y="206"/>
                  </a:lnTo>
                  <a:lnTo>
                    <a:pt x="20" y="191"/>
                  </a:lnTo>
                  <a:lnTo>
                    <a:pt x="18" y="187"/>
                  </a:lnTo>
                  <a:lnTo>
                    <a:pt x="14" y="184"/>
                  </a:lnTo>
                  <a:lnTo>
                    <a:pt x="11" y="182"/>
                  </a:lnTo>
                  <a:lnTo>
                    <a:pt x="7" y="178"/>
                  </a:lnTo>
                  <a:lnTo>
                    <a:pt x="4" y="175"/>
                  </a:lnTo>
                  <a:lnTo>
                    <a:pt x="2" y="171"/>
                  </a:lnTo>
                  <a:lnTo>
                    <a:pt x="0" y="167"/>
                  </a:lnTo>
                  <a:lnTo>
                    <a:pt x="0" y="163"/>
                  </a:lnTo>
                  <a:lnTo>
                    <a:pt x="4" y="159"/>
                  </a:lnTo>
                  <a:lnTo>
                    <a:pt x="11" y="158"/>
                  </a:lnTo>
                  <a:lnTo>
                    <a:pt x="16" y="156"/>
                  </a:lnTo>
                  <a:lnTo>
                    <a:pt x="22" y="156"/>
                  </a:lnTo>
                  <a:lnTo>
                    <a:pt x="27" y="158"/>
                  </a:lnTo>
                  <a:lnTo>
                    <a:pt x="34" y="159"/>
                  </a:lnTo>
                  <a:lnTo>
                    <a:pt x="39" y="160"/>
                  </a:lnTo>
                  <a:lnTo>
                    <a:pt x="46" y="160"/>
                  </a:lnTo>
                  <a:lnTo>
                    <a:pt x="51" y="162"/>
                  </a:lnTo>
                  <a:lnTo>
                    <a:pt x="55" y="163"/>
                  </a:lnTo>
                  <a:lnTo>
                    <a:pt x="58" y="164"/>
                  </a:lnTo>
                  <a:lnTo>
                    <a:pt x="62" y="167"/>
                  </a:lnTo>
                  <a:lnTo>
                    <a:pt x="66" y="174"/>
                  </a:lnTo>
                  <a:lnTo>
                    <a:pt x="69" y="182"/>
                  </a:lnTo>
                  <a:lnTo>
                    <a:pt x="73" y="188"/>
                  </a:lnTo>
                  <a:lnTo>
                    <a:pt x="77" y="195"/>
                  </a:lnTo>
                  <a:lnTo>
                    <a:pt x="79" y="198"/>
                  </a:lnTo>
                  <a:lnTo>
                    <a:pt x="83" y="200"/>
                  </a:lnTo>
                  <a:lnTo>
                    <a:pt x="87" y="203"/>
                  </a:lnTo>
                  <a:lnTo>
                    <a:pt x="91" y="204"/>
                  </a:lnTo>
                  <a:lnTo>
                    <a:pt x="102" y="207"/>
                  </a:lnTo>
                  <a:lnTo>
                    <a:pt x="111" y="211"/>
                  </a:lnTo>
                  <a:lnTo>
                    <a:pt x="122" y="215"/>
                  </a:lnTo>
                  <a:lnTo>
                    <a:pt x="131" y="219"/>
                  </a:lnTo>
                  <a:lnTo>
                    <a:pt x="142" y="222"/>
                  </a:lnTo>
                  <a:lnTo>
                    <a:pt x="153" y="222"/>
                  </a:lnTo>
                  <a:lnTo>
                    <a:pt x="158" y="220"/>
                  </a:lnTo>
                  <a:lnTo>
                    <a:pt x="164" y="219"/>
                  </a:lnTo>
                  <a:lnTo>
                    <a:pt x="168" y="218"/>
                  </a:lnTo>
                  <a:lnTo>
                    <a:pt x="173" y="214"/>
                  </a:lnTo>
                  <a:lnTo>
                    <a:pt x="174" y="206"/>
                  </a:lnTo>
                  <a:lnTo>
                    <a:pt x="174" y="195"/>
                  </a:lnTo>
                  <a:lnTo>
                    <a:pt x="176" y="186"/>
                  </a:lnTo>
                  <a:lnTo>
                    <a:pt x="176" y="175"/>
                  </a:lnTo>
                  <a:lnTo>
                    <a:pt x="174" y="166"/>
                  </a:lnTo>
                  <a:lnTo>
                    <a:pt x="170" y="156"/>
                  </a:lnTo>
                  <a:lnTo>
                    <a:pt x="169" y="152"/>
                  </a:lnTo>
                  <a:lnTo>
                    <a:pt x="166" y="148"/>
                  </a:lnTo>
                  <a:lnTo>
                    <a:pt x="162" y="146"/>
                  </a:lnTo>
                  <a:lnTo>
                    <a:pt x="158" y="143"/>
                  </a:lnTo>
                  <a:lnTo>
                    <a:pt x="153" y="139"/>
                  </a:lnTo>
                  <a:lnTo>
                    <a:pt x="149" y="135"/>
                  </a:lnTo>
                  <a:lnTo>
                    <a:pt x="144" y="131"/>
                  </a:lnTo>
                  <a:lnTo>
                    <a:pt x="138" y="127"/>
                  </a:lnTo>
                  <a:lnTo>
                    <a:pt x="133" y="124"/>
                  </a:lnTo>
                  <a:lnTo>
                    <a:pt x="127" y="123"/>
                  </a:lnTo>
                  <a:lnTo>
                    <a:pt x="122" y="121"/>
                  </a:lnTo>
                  <a:lnTo>
                    <a:pt x="114" y="121"/>
                  </a:lnTo>
                  <a:lnTo>
                    <a:pt x="115" y="113"/>
                  </a:lnTo>
                  <a:lnTo>
                    <a:pt x="118" y="105"/>
                  </a:lnTo>
                  <a:lnTo>
                    <a:pt x="121" y="97"/>
                  </a:lnTo>
                  <a:lnTo>
                    <a:pt x="125" y="88"/>
                  </a:lnTo>
                  <a:lnTo>
                    <a:pt x="129" y="80"/>
                  </a:lnTo>
                  <a:lnTo>
                    <a:pt x="134" y="73"/>
                  </a:lnTo>
                  <a:lnTo>
                    <a:pt x="141" y="68"/>
                  </a:lnTo>
                  <a:lnTo>
                    <a:pt x="148" y="62"/>
                  </a:lnTo>
                  <a:lnTo>
                    <a:pt x="165" y="48"/>
                  </a:lnTo>
                  <a:lnTo>
                    <a:pt x="184" y="33"/>
                  </a:lnTo>
                  <a:lnTo>
                    <a:pt x="204" y="21"/>
                  </a:lnTo>
                  <a:lnTo>
                    <a:pt x="225" y="12"/>
                  </a:lnTo>
                  <a:lnTo>
                    <a:pt x="237" y="8"/>
                  </a:lnTo>
                  <a:lnTo>
                    <a:pt x="248" y="4"/>
                  </a:lnTo>
                  <a:lnTo>
                    <a:pt x="260" y="1"/>
                  </a:lnTo>
                  <a:lnTo>
                    <a:pt x="272" y="0"/>
                  </a:lnTo>
                  <a:lnTo>
                    <a:pt x="284" y="0"/>
                  </a:lnTo>
                  <a:lnTo>
                    <a:pt x="296" y="0"/>
                  </a:lnTo>
                  <a:lnTo>
                    <a:pt x="308" y="2"/>
                  </a:lnTo>
                  <a:lnTo>
                    <a:pt x="322" y="5"/>
                  </a:lnTo>
                  <a:lnTo>
                    <a:pt x="332" y="6"/>
                  </a:lnTo>
                  <a:lnTo>
                    <a:pt x="345" y="9"/>
                  </a:lnTo>
                  <a:lnTo>
                    <a:pt x="355" y="13"/>
                  </a:lnTo>
                  <a:lnTo>
                    <a:pt x="366" y="17"/>
                  </a:lnTo>
                  <a:lnTo>
                    <a:pt x="387" y="26"/>
                  </a:lnTo>
                  <a:lnTo>
                    <a:pt x="409" y="38"/>
                  </a:lnTo>
                  <a:lnTo>
                    <a:pt x="428" y="50"/>
                  </a:lnTo>
                  <a:lnTo>
                    <a:pt x="446" y="65"/>
                  </a:lnTo>
                  <a:lnTo>
                    <a:pt x="465" y="80"/>
                  </a:lnTo>
                  <a:lnTo>
                    <a:pt x="483" y="93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99480" y="5133960"/>
              <a:ext cx="338760" cy="113400"/>
            </a:xfrm>
            <a:custGeom>
              <a:avLst/>
              <a:gdLst/>
              <a:ahLst/>
              <a:rect l="l" t="t" r="r" b="b"/>
              <a:pathLst>
                <a:path w="742" h="258">
                  <a:moveTo>
                    <a:pt x="738" y="4"/>
                  </a:moveTo>
                  <a:lnTo>
                    <a:pt x="738" y="5"/>
                  </a:lnTo>
                  <a:lnTo>
                    <a:pt x="739" y="8"/>
                  </a:lnTo>
                  <a:lnTo>
                    <a:pt x="741" y="10"/>
                  </a:lnTo>
                  <a:lnTo>
                    <a:pt x="741" y="13"/>
                  </a:lnTo>
                  <a:lnTo>
                    <a:pt x="742" y="14"/>
                  </a:lnTo>
                  <a:lnTo>
                    <a:pt x="742" y="17"/>
                  </a:lnTo>
                  <a:lnTo>
                    <a:pt x="741" y="20"/>
                  </a:lnTo>
                  <a:lnTo>
                    <a:pt x="739" y="21"/>
                  </a:lnTo>
                  <a:lnTo>
                    <a:pt x="733" y="29"/>
                  </a:lnTo>
                  <a:lnTo>
                    <a:pt x="609" y="29"/>
                  </a:lnTo>
                  <a:lnTo>
                    <a:pt x="601" y="38"/>
                  </a:lnTo>
                  <a:lnTo>
                    <a:pt x="604" y="64"/>
                  </a:lnTo>
                  <a:lnTo>
                    <a:pt x="604" y="87"/>
                  </a:lnTo>
                  <a:lnTo>
                    <a:pt x="604" y="111"/>
                  </a:lnTo>
                  <a:lnTo>
                    <a:pt x="604" y="133"/>
                  </a:lnTo>
                  <a:lnTo>
                    <a:pt x="604" y="156"/>
                  </a:lnTo>
                  <a:lnTo>
                    <a:pt x="605" y="179"/>
                  </a:lnTo>
                  <a:lnTo>
                    <a:pt x="607" y="200"/>
                  </a:lnTo>
                  <a:lnTo>
                    <a:pt x="609" y="223"/>
                  </a:lnTo>
                  <a:lnTo>
                    <a:pt x="605" y="225"/>
                  </a:lnTo>
                  <a:lnTo>
                    <a:pt x="600" y="225"/>
                  </a:lnTo>
                  <a:lnTo>
                    <a:pt x="596" y="223"/>
                  </a:lnTo>
                  <a:lnTo>
                    <a:pt x="593" y="220"/>
                  </a:lnTo>
                  <a:lnTo>
                    <a:pt x="591" y="216"/>
                  </a:lnTo>
                  <a:lnTo>
                    <a:pt x="587" y="212"/>
                  </a:lnTo>
                  <a:lnTo>
                    <a:pt x="584" y="208"/>
                  </a:lnTo>
                  <a:lnTo>
                    <a:pt x="581" y="204"/>
                  </a:lnTo>
                  <a:lnTo>
                    <a:pt x="579" y="34"/>
                  </a:lnTo>
                  <a:lnTo>
                    <a:pt x="533" y="33"/>
                  </a:lnTo>
                  <a:lnTo>
                    <a:pt x="486" y="33"/>
                  </a:lnTo>
                  <a:lnTo>
                    <a:pt x="438" y="33"/>
                  </a:lnTo>
                  <a:lnTo>
                    <a:pt x="390" y="34"/>
                  </a:lnTo>
                  <a:lnTo>
                    <a:pt x="342" y="36"/>
                  </a:lnTo>
                  <a:lnTo>
                    <a:pt x="292" y="37"/>
                  </a:lnTo>
                  <a:lnTo>
                    <a:pt x="244" y="40"/>
                  </a:lnTo>
                  <a:lnTo>
                    <a:pt x="195" y="41"/>
                  </a:lnTo>
                  <a:lnTo>
                    <a:pt x="191" y="49"/>
                  </a:lnTo>
                  <a:lnTo>
                    <a:pt x="194" y="71"/>
                  </a:lnTo>
                  <a:lnTo>
                    <a:pt x="195" y="92"/>
                  </a:lnTo>
                  <a:lnTo>
                    <a:pt x="197" y="113"/>
                  </a:lnTo>
                  <a:lnTo>
                    <a:pt x="197" y="135"/>
                  </a:lnTo>
                  <a:lnTo>
                    <a:pt x="198" y="155"/>
                  </a:lnTo>
                  <a:lnTo>
                    <a:pt x="201" y="176"/>
                  </a:lnTo>
                  <a:lnTo>
                    <a:pt x="202" y="186"/>
                  </a:lnTo>
                  <a:lnTo>
                    <a:pt x="205" y="195"/>
                  </a:lnTo>
                  <a:lnTo>
                    <a:pt x="209" y="206"/>
                  </a:lnTo>
                  <a:lnTo>
                    <a:pt x="214" y="215"/>
                  </a:lnTo>
                  <a:lnTo>
                    <a:pt x="213" y="218"/>
                  </a:lnTo>
                  <a:lnTo>
                    <a:pt x="213" y="222"/>
                  </a:lnTo>
                  <a:lnTo>
                    <a:pt x="214" y="225"/>
                  </a:lnTo>
                  <a:lnTo>
                    <a:pt x="216" y="227"/>
                  </a:lnTo>
                  <a:lnTo>
                    <a:pt x="220" y="234"/>
                  </a:lnTo>
                  <a:lnTo>
                    <a:pt x="224" y="239"/>
                  </a:lnTo>
                  <a:lnTo>
                    <a:pt x="226" y="245"/>
                  </a:lnTo>
                  <a:lnTo>
                    <a:pt x="226" y="249"/>
                  </a:lnTo>
                  <a:lnTo>
                    <a:pt x="226" y="251"/>
                  </a:lnTo>
                  <a:lnTo>
                    <a:pt x="224" y="254"/>
                  </a:lnTo>
                  <a:lnTo>
                    <a:pt x="221" y="257"/>
                  </a:lnTo>
                  <a:lnTo>
                    <a:pt x="217" y="258"/>
                  </a:lnTo>
                  <a:lnTo>
                    <a:pt x="212" y="258"/>
                  </a:lnTo>
                  <a:lnTo>
                    <a:pt x="205" y="258"/>
                  </a:lnTo>
                  <a:lnTo>
                    <a:pt x="199" y="255"/>
                  </a:lnTo>
                  <a:lnTo>
                    <a:pt x="194" y="254"/>
                  </a:lnTo>
                  <a:lnTo>
                    <a:pt x="190" y="250"/>
                  </a:lnTo>
                  <a:lnTo>
                    <a:pt x="187" y="246"/>
                  </a:lnTo>
                  <a:lnTo>
                    <a:pt x="185" y="242"/>
                  </a:lnTo>
                  <a:lnTo>
                    <a:pt x="183" y="235"/>
                  </a:lnTo>
                  <a:lnTo>
                    <a:pt x="178" y="214"/>
                  </a:lnTo>
                  <a:lnTo>
                    <a:pt x="175" y="190"/>
                  </a:lnTo>
                  <a:lnTo>
                    <a:pt x="173" y="167"/>
                  </a:lnTo>
                  <a:lnTo>
                    <a:pt x="171" y="143"/>
                  </a:lnTo>
                  <a:lnTo>
                    <a:pt x="171" y="119"/>
                  </a:lnTo>
                  <a:lnTo>
                    <a:pt x="170" y="95"/>
                  </a:lnTo>
                  <a:lnTo>
                    <a:pt x="169" y="72"/>
                  </a:lnTo>
                  <a:lnTo>
                    <a:pt x="166" y="49"/>
                  </a:lnTo>
                  <a:lnTo>
                    <a:pt x="158" y="41"/>
                  </a:lnTo>
                  <a:lnTo>
                    <a:pt x="138" y="42"/>
                  </a:lnTo>
                  <a:lnTo>
                    <a:pt x="118" y="44"/>
                  </a:lnTo>
                  <a:lnTo>
                    <a:pt x="99" y="44"/>
                  </a:lnTo>
                  <a:lnTo>
                    <a:pt x="80" y="45"/>
                  </a:lnTo>
                  <a:lnTo>
                    <a:pt x="61" y="46"/>
                  </a:lnTo>
                  <a:lnTo>
                    <a:pt x="43" y="46"/>
                  </a:lnTo>
                  <a:lnTo>
                    <a:pt x="25" y="45"/>
                  </a:lnTo>
                  <a:lnTo>
                    <a:pt x="7" y="44"/>
                  </a:lnTo>
                  <a:lnTo>
                    <a:pt x="7" y="41"/>
                  </a:lnTo>
                  <a:lnTo>
                    <a:pt x="5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78" y="22"/>
                  </a:lnTo>
                  <a:lnTo>
                    <a:pt x="155" y="18"/>
                  </a:lnTo>
                  <a:lnTo>
                    <a:pt x="233" y="14"/>
                  </a:lnTo>
                  <a:lnTo>
                    <a:pt x="311" y="12"/>
                  </a:lnTo>
                  <a:lnTo>
                    <a:pt x="388" y="9"/>
                  </a:lnTo>
                  <a:lnTo>
                    <a:pt x="466" y="6"/>
                  </a:lnTo>
                  <a:lnTo>
                    <a:pt x="545" y="4"/>
                  </a:lnTo>
                  <a:lnTo>
                    <a:pt x="626" y="1"/>
                  </a:lnTo>
                  <a:lnTo>
                    <a:pt x="640" y="0"/>
                  </a:lnTo>
                  <a:lnTo>
                    <a:pt x="654" y="0"/>
                  </a:lnTo>
                  <a:lnTo>
                    <a:pt x="668" y="1"/>
                  </a:lnTo>
                  <a:lnTo>
                    <a:pt x="682" y="2"/>
                  </a:lnTo>
                  <a:lnTo>
                    <a:pt x="695" y="4"/>
                  </a:lnTo>
                  <a:lnTo>
                    <a:pt x="710" y="5"/>
                  </a:lnTo>
                  <a:lnTo>
                    <a:pt x="723" y="5"/>
                  </a:lnTo>
                  <a:lnTo>
                    <a:pt x="73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40720" y="5145840"/>
              <a:ext cx="154800" cy="115920"/>
            </a:xfrm>
            <a:custGeom>
              <a:avLst/>
              <a:gdLst/>
              <a:ahLst/>
              <a:rect l="l" t="t" r="r" b="b"/>
              <a:pathLst>
                <a:path w="338" h="265">
                  <a:moveTo>
                    <a:pt x="276" y="46"/>
                  </a:moveTo>
                  <a:lnTo>
                    <a:pt x="288" y="59"/>
                  </a:lnTo>
                  <a:lnTo>
                    <a:pt x="299" y="73"/>
                  </a:lnTo>
                  <a:lnTo>
                    <a:pt x="308" y="87"/>
                  </a:lnTo>
                  <a:lnTo>
                    <a:pt x="318" y="102"/>
                  </a:lnTo>
                  <a:lnTo>
                    <a:pt x="326" y="117"/>
                  </a:lnTo>
                  <a:lnTo>
                    <a:pt x="331" y="133"/>
                  </a:lnTo>
                  <a:lnTo>
                    <a:pt x="336" y="149"/>
                  </a:lnTo>
                  <a:lnTo>
                    <a:pt x="338" y="166"/>
                  </a:lnTo>
                  <a:lnTo>
                    <a:pt x="332" y="178"/>
                  </a:lnTo>
                  <a:lnTo>
                    <a:pt x="330" y="192"/>
                  </a:lnTo>
                  <a:lnTo>
                    <a:pt x="327" y="204"/>
                  </a:lnTo>
                  <a:lnTo>
                    <a:pt x="326" y="217"/>
                  </a:lnTo>
                  <a:lnTo>
                    <a:pt x="323" y="229"/>
                  </a:lnTo>
                  <a:lnTo>
                    <a:pt x="320" y="243"/>
                  </a:lnTo>
                  <a:lnTo>
                    <a:pt x="315" y="253"/>
                  </a:lnTo>
                  <a:lnTo>
                    <a:pt x="307" y="265"/>
                  </a:lnTo>
                  <a:lnTo>
                    <a:pt x="296" y="263"/>
                  </a:lnTo>
                  <a:lnTo>
                    <a:pt x="286" y="260"/>
                  </a:lnTo>
                  <a:lnTo>
                    <a:pt x="275" y="257"/>
                  </a:lnTo>
                  <a:lnTo>
                    <a:pt x="264" y="253"/>
                  </a:lnTo>
                  <a:lnTo>
                    <a:pt x="253" y="251"/>
                  </a:lnTo>
                  <a:lnTo>
                    <a:pt x="243" y="249"/>
                  </a:lnTo>
                  <a:lnTo>
                    <a:pt x="232" y="248"/>
                  </a:lnTo>
                  <a:lnTo>
                    <a:pt x="220" y="248"/>
                  </a:lnTo>
                  <a:lnTo>
                    <a:pt x="215" y="240"/>
                  </a:lnTo>
                  <a:lnTo>
                    <a:pt x="224" y="237"/>
                  </a:lnTo>
                  <a:lnTo>
                    <a:pt x="232" y="235"/>
                  </a:lnTo>
                  <a:lnTo>
                    <a:pt x="240" y="235"/>
                  </a:lnTo>
                  <a:lnTo>
                    <a:pt x="248" y="236"/>
                  </a:lnTo>
                  <a:lnTo>
                    <a:pt x="257" y="237"/>
                  </a:lnTo>
                  <a:lnTo>
                    <a:pt x="267" y="239"/>
                  </a:lnTo>
                  <a:lnTo>
                    <a:pt x="275" y="240"/>
                  </a:lnTo>
                  <a:lnTo>
                    <a:pt x="284" y="243"/>
                  </a:lnTo>
                  <a:lnTo>
                    <a:pt x="288" y="239"/>
                  </a:lnTo>
                  <a:lnTo>
                    <a:pt x="292" y="236"/>
                  </a:lnTo>
                  <a:lnTo>
                    <a:pt x="295" y="231"/>
                  </a:lnTo>
                  <a:lnTo>
                    <a:pt x="296" y="227"/>
                  </a:lnTo>
                  <a:lnTo>
                    <a:pt x="299" y="217"/>
                  </a:lnTo>
                  <a:lnTo>
                    <a:pt x="300" y="207"/>
                  </a:lnTo>
                  <a:lnTo>
                    <a:pt x="302" y="194"/>
                  </a:lnTo>
                  <a:lnTo>
                    <a:pt x="303" y="184"/>
                  </a:lnTo>
                  <a:lnTo>
                    <a:pt x="304" y="173"/>
                  </a:lnTo>
                  <a:lnTo>
                    <a:pt x="307" y="164"/>
                  </a:lnTo>
                  <a:lnTo>
                    <a:pt x="307" y="153"/>
                  </a:lnTo>
                  <a:lnTo>
                    <a:pt x="304" y="142"/>
                  </a:lnTo>
                  <a:lnTo>
                    <a:pt x="302" y="133"/>
                  </a:lnTo>
                  <a:lnTo>
                    <a:pt x="299" y="122"/>
                  </a:lnTo>
                  <a:lnTo>
                    <a:pt x="294" y="113"/>
                  </a:lnTo>
                  <a:lnTo>
                    <a:pt x="288" y="103"/>
                  </a:lnTo>
                  <a:lnTo>
                    <a:pt x="282" y="95"/>
                  </a:lnTo>
                  <a:lnTo>
                    <a:pt x="275" y="86"/>
                  </a:lnTo>
                  <a:lnTo>
                    <a:pt x="260" y="70"/>
                  </a:lnTo>
                  <a:lnTo>
                    <a:pt x="244" y="57"/>
                  </a:lnTo>
                  <a:lnTo>
                    <a:pt x="227" y="43"/>
                  </a:lnTo>
                  <a:lnTo>
                    <a:pt x="211" y="32"/>
                  </a:lnTo>
                  <a:lnTo>
                    <a:pt x="188" y="30"/>
                  </a:lnTo>
                  <a:lnTo>
                    <a:pt x="165" y="27"/>
                  </a:lnTo>
                  <a:lnTo>
                    <a:pt x="142" y="24"/>
                  </a:lnTo>
                  <a:lnTo>
                    <a:pt x="119" y="26"/>
                  </a:lnTo>
                  <a:lnTo>
                    <a:pt x="107" y="27"/>
                  </a:lnTo>
                  <a:lnTo>
                    <a:pt x="97" y="28"/>
                  </a:lnTo>
                  <a:lnTo>
                    <a:pt x="86" y="31"/>
                  </a:lnTo>
                  <a:lnTo>
                    <a:pt x="77" y="35"/>
                  </a:lnTo>
                  <a:lnTo>
                    <a:pt x="67" y="41"/>
                  </a:lnTo>
                  <a:lnTo>
                    <a:pt x="58" y="47"/>
                  </a:lnTo>
                  <a:lnTo>
                    <a:pt x="50" y="55"/>
                  </a:lnTo>
                  <a:lnTo>
                    <a:pt x="42" y="63"/>
                  </a:lnTo>
                  <a:lnTo>
                    <a:pt x="36" y="66"/>
                  </a:lnTo>
                  <a:lnTo>
                    <a:pt x="31" y="69"/>
                  </a:lnTo>
                  <a:lnTo>
                    <a:pt x="27" y="74"/>
                  </a:lnTo>
                  <a:lnTo>
                    <a:pt x="23" y="78"/>
                  </a:lnTo>
                  <a:lnTo>
                    <a:pt x="19" y="82"/>
                  </a:lnTo>
                  <a:lnTo>
                    <a:pt x="14" y="85"/>
                  </a:lnTo>
                  <a:lnTo>
                    <a:pt x="8" y="8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2" y="71"/>
                  </a:lnTo>
                  <a:lnTo>
                    <a:pt x="4" y="63"/>
                  </a:lnTo>
                  <a:lnTo>
                    <a:pt x="8" y="58"/>
                  </a:lnTo>
                  <a:lnTo>
                    <a:pt x="12" y="51"/>
                  </a:lnTo>
                  <a:lnTo>
                    <a:pt x="18" y="47"/>
                  </a:lnTo>
                  <a:lnTo>
                    <a:pt x="24" y="42"/>
                  </a:lnTo>
                  <a:lnTo>
                    <a:pt x="31" y="38"/>
                  </a:lnTo>
                  <a:lnTo>
                    <a:pt x="46" y="30"/>
                  </a:lnTo>
                  <a:lnTo>
                    <a:pt x="60" y="22"/>
                  </a:lnTo>
                  <a:lnTo>
                    <a:pt x="75" y="14"/>
                  </a:lnTo>
                  <a:lnTo>
                    <a:pt x="87" y="6"/>
                  </a:lnTo>
                  <a:lnTo>
                    <a:pt x="111" y="2"/>
                  </a:lnTo>
                  <a:lnTo>
                    <a:pt x="137" y="0"/>
                  </a:lnTo>
                  <a:lnTo>
                    <a:pt x="162" y="0"/>
                  </a:lnTo>
                  <a:lnTo>
                    <a:pt x="188" y="3"/>
                  </a:lnTo>
                  <a:lnTo>
                    <a:pt x="200" y="4"/>
                  </a:lnTo>
                  <a:lnTo>
                    <a:pt x="213" y="8"/>
                  </a:lnTo>
                  <a:lnTo>
                    <a:pt x="224" y="12"/>
                  </a:lnTo>
                  <a:lnTo>
                    <a:pt x="236" y="16"/>
                  </a:lnTo>
                  <a:lnTo>
                    <a:pt x="247" y="22"/>
                  </a:lnTo>
                  <a:lnTo>
                    <a:pt x="257" y="28"/>
                  </a:lnTo>
                  <a:lnTo>
                    <a:pt x="267" y="37"/>
                  </a:lnTo>
                  <a:lnTo>
                    <a:pt x="27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77280" y="5161680"/>
              <a:ext cx="61560" cy="93600"/>
            </a:xfrm>
            <a:custGeom>
              <a:avLst/>
              <a:gdLst/>
              <a:ahLst/>
              <a:rect l="l" t="t" r="r" b="b"/>
              <a:pathLst>
                <a:path w="137" h="213">
                  <a:moveTo>
                    <a:pt x="127" y="2"/>
                  </a:moveTo>
                  <a:lnTo>
                    <a:pt x="126" y="28"/>
                  </a:lnTo>
                  <a:lnTo>
                    <a:pt x="126" y="55"/>
                  </a:lnTo>
                  <a:lnTo>
                    <a:pt x="127" y="82"/>
                  </a:lnTo>
                  <a:lnTo>
                    <a:pt x="130" y="107"/>
                  </a:lnTo>
                  <a:lnTo>
                    <a:pt x="131" y="134"/>
                  </a:lnTo>
                  <a:lnTo>
                    <a:pt x="134" y="159"/>
                  </a:lnTo>
                  <a:lnTo>
                    <a:pt x="135" y="186"/>
                  </a:lnTo>
                  <a:lnTo>
                    <a:pt x="137" y="213"/>
                  </a:lnTo>
                  <a:lnTo>
                    <a:pt x="123" y="210"/>
                  </a:lnTo>
                  <a:lnTo>
                    <a:pt x="109" y="206"/>
                  </a:lnTo>
                  <a:lnTo>
                    <a:pt x="95" y="201"/>
                  </a:lnTo>
                  <a:lnTo>
                    <a:pt x="81" y="196"/>
                  </a:lnTo>
                  <a:lnTo>
                    <a:pt x="66" y="189"/>
                  </a:lnTo>
                  <a:lnTo>
                    <a:pt x="52" y="184"/>
                  </a:lnTo>
                  <a:lnTo>
                    <a:pt x="38" y="178"/>
                  </a:lnTo>
                  <a:lnTo>
                    <a:pt x="23" y="174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2" y="164"/>
                  </a:lnTo>
                  <a:lnTo>
                    <a:pt x="19" y="159"/>
                  </a:lnTo>
                  <a:lnTo>
                    <a:pt x="16" y="157"/>
                  </a:lnTo>
                  <a:lnTo>
                    <a:pt x="12" y="154"/>
                  </a:lnTo>
                  <a:lnTo>
                    <a:pt x="10" y="150"/>
                  </a:lnTo>
                  <a:lnTo>
                    <a:pt x="7" y="146"/>
                  </a:lnTo>
                  <a:lnTo>
                    <a:pt x="6" y="127"/>
                  </a:lnTo>
                  <a:lnTo>
                    <a:pt x="6" y="109"/>
                  </a:lnTo>
                  <a:lnTo>
                    <a:pt x="6" y="91"/>
                  </a:lnTo>
                  <a:lnTo>
                    <a:pt x="6" y="74"/>
                  </a:lnTo>
                  <a:lnTo>
                    <a:pt x="6" y="58"/>
                  </a:lnTo>
                  <a:lnTo>
                    <a:pt x="4" y="40"/>
                  </a:lnTo>
                  <a:lnTo>
                    <a:pt x="3" y="22"/>
                  </a:lnTo>
                  <a:lnTo>
                    <a:pt x="0" y="3"/>
                  </a:lnTo>
                  <a:lnTo>
                    <a:pt x="15" y="2"/>
                  </a:lnTo>
                  <a:lnTo>
                    <a:pt x="31" y="2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97" y="2"/>
                  </a:lnTo>
                  <a:lnTo>
                    <a:pt x="113" y="2"/>
                  </a:lnTo>
                  <a:lnTo>
                    <a:pt x="127" y="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60400" y="5167080"/>
              <a:ext cx="209520" cy="93600"/>
            </a:xfrm>
            <a:custGeom>
              <a:avLst/>
              <a:gdLst/>
              <a:ahLst/>
              <a:rect l="l" t="t" r="r" b="b"/>
              <a:pathLst>
                <a:path w="457" h="211">
                  <a:moveTo>
                    <a:pt x="452" y="0"/>
                  </a:moveTo>
                  <a:lnTo>
                    <a:pt x="455" y="25"/>
                  </a:lnTo>
                  <a:lnTo>
                    <a:pt x="455" y="52"/>
                  </a:lnTo>
                  <a:lnTo>
                    <a:pt x="455" y="79"/>
                  </a:lnTo>
                  <a:lnTo>
                    <a:pt x="455" y="104"/>
                  </a:lnTo>
                  <a:lnTo>
                    <a:pt x="455" y="131"/>
                  </a:lnTo>
                  <a:lnTo>
                    <a:pt x="455" y="158"/>
                  </a:lnTo>
                  <a:lnTo>
                    <a:pt x="456" y="184"/>
                  </a:lnTo>
                  <a:lnTo>
                    <a:pt x="457" y="211"/>
                  </a:lnTo>
                  <a:lnTo>
                    <a:pt x="408" y="211"/>
                  </a:lnTo>
                  <a:lnTo>
                    <a:pt x="355" y="211"/>
                  </a:lnTo>
                  <a:lnTo>
                    <a:pt x="303" y="211"/>
                  </a:lnTo>
                  <a:lnTo>
                    <a:pt x="250" y="211"/>
                  </a:lnTo>
                  <a:lnTo>
                    <a:pt x="196" y="211"/>
                  </a:lnTo>
                  <a:lnTo>
                    <a:pt x="142" y="211"/>
                  </a:lnTo>
                  <a:lnTo>
                    <a:pt x="89" y="211"/>
                  </a:lnTo>
                  <a:lnTo>
                    <a:pt x="37" y="211"/>
                  </a:lnTo>
                  <a:lnTo>
                    <a:pt x="35" y="210"/>
                  </a:lnTo>
                  <a:lnTo>
                    <a:pt x="34" y="207"/>
                  </a:lnTo>
                  <a:lnTo>
                    <a:pt x="33" y="206"/>
                  </a:lnTo>
                  <a:lnTo>
                    <a:pt x="31" y="204"/>
                  </a:lnTo>
                  <a:lnTo>
                    <a:pt x="29" y="204"/>
                  </a:lnTo>
                  <a:lnTo>
                    <a:pt x="26" y="203"/>
                  </a:lnTo>
                  <a:lnTo>
                    <a:pt x="23" y="203"/>
                  </a:lnTo>
                  <a:lnTo>
                    <a:pt x="21" y="203"/>
                  </a:lnTo>
                  <a:lnTo>
                    <a:pt x="14" y="187"/>
                  </a:lnTo>
                  <a:lnTo>
                    <a:pt x="10" y="171"/>
                  </a:lnTo>
                  <a:lnTo>
                    <a:pt x="7" y="155"/>
                  </a:lnTo>
                  <a:lnTo>
                    <a:pt x="6" y="137"/>
                  </a:lnTo>
                  <a:lnTo>
                    <a:pt x="6" y="121"/>
                  </a:lnTo>
                  <a:lnTo>
                    <a:pt x="6" y="104"/>
                  </a:lnTo>
                  <a:lnTo>
                    <a:pt x="3" y="87"/>
                  </a:lnTo>
                  <a:lnTo>
                    <a:pt x="0" y="68"/>
                  </a:lnTo>
                  <a:lnTo>
                    <a:pt x="2" y="61"/>
                  </a:lnTo>
                  <a:lnTo>
                    <a:pt x="2" y="53"/>
                  </a:lnTo>
                  <a:lnTo>
                    <a:pt x="3" y="46"/>
                  </a:lnTo>
                  <a:lnTo>
                    <a:pt x="4" y="40"/>
                  </a:lnTo>
                  <a:lnTo>
                    <a:pt x="6" y="32"/>
                  </a:lnTo>
                  <a:lnTo>
                    <a:pt x="6" y="25"/>
                  </a:lnTo>
                  <a:lnTo>
                    <a:pt x="4" y="17"/>
                  </a:lnTo>
                  <a:lnTo>
                    <a:pt x="3" y="10"/>
                  </a:lnTo>
                  <a:lnTo>
                    <a:pt x="59" y="8"/>
                  </a:lnTo>
                  <a:lnTo>
                    <a:pt x="116" y="5"/>
                  </a:lnTo>
                  <a:lnTo>
                    <a:pt x="172" y="4"/>
                  </a:lnTo>
                  <a:lnTo>
                    <a:pt x="228" y="4"/>
                  </a:lnTo>
                  <a:lnTo>
                    <a:pt x="284" y="2"/>
                  </a:lnTo>
                  <a:lnTo>
                    <a:pt x="341" y="1"/>
                  </a:lnTo>
                  <a:lnTo>
                    <a:pt x="397" y="1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996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2760" y="5171040"/>
              <a:ext cx="191880" cy="90720"/>
            </a:xfrm>
            <a:custGeom>
              <a:avLst/>
              <a:gdLst/>
              <a:ahLst/>
              <a:rect l="l" t="t" r="r" b="b"/>
              <a:pathLst>
                <a:path w="422" h="208">
                  <a:moveTo>
                    <a:pt x="414" y="48"/>
                  </a:moveTo>
                  <a:lnTo>
                    <a:pt x="414" y="68"/>
                  </a:lnTo>
                  <a:lnTo>
                    <a:pt x="416" y="87"/>
                  </a:lnTo>
                  <a:lnTo>
                    <a:pt x="417" y="107"/>
                  </a:lnTo>
                  <a:lnTo>
                    <a:pt x="420" y="125"/>
                  </a:lnTo>
                  <a:lnTo>
                    <a:pt x="421" y="146"/>
                  </a:lnTo>
                  <a:lnTo>
                    <a:pt x="422" y="164"/>
                  </a:lnTo>
                  <a:lnTo>
                    <a:pt x="422" y="183"/>
                  </a:lnTo>
                  <a:lnTo>
                    <a:pt x="422" y="202"/>
                  </a:lnTo>
                  <a:lnTo>
                    <a:pt x="373" y="204"/>
                  </a:lnTo>
                  <a:lnTo>
                    <a:pt x="323" y="206"/>
                  </a:lnTo>
                  <a:lnTo>
                    <a:pt x="274" y="207"/>
                  </a:lnTo>
                  <a:lnTo>
                    <a:pt x="224" y="207"/>
                  </a:lnTo>
                  <a:lnTo>
                    <a:pt x="175" y="207"/>
                  </a:lnTo>
                  <a:lnTo>
                    <a:pt x="125" y="207"/>
                  </a:lnTo>
                  <a:lnTo>
                    <a:pt x="74" y="207"/>
                  </a:lnTo>
                  <a:lnTo>
                    <a:pt x="23" y="208"/>
                  </a:lnTo>
                  <a:lnTo>
                    <a:pt x="26" y="184"/>
                  </a:lnTo>
                  <a:lnTo>
                    <a:pt x="24" y="160"/>
                  </a:lnTo>
                  <a:lnTo>
                    <a:pt x="23" y="136"/>
                  </a:lnTo>
                  <a:lnTo>
                    <a:pt x="19" y="111"/>
                  </a:lnTo>
                  <a:lnTo>
                    <a:pt x="15" y="85"/>
                  </a:lnTo>
                  <a:lnTo>
                    <a:pt x="10" y="61"/>
                  </a:lnTo>
                  <a:lnTo>
                    <a:pt x="6" y="36"/>
                  </a:lnTo>
                  <a:lnTo>
                    <a:pt x="0" y="12"/>
                  </a:lnTo>
                  <a:lnTo>
                    <a:pt x="53" y="8"/>
                  </a:lnTo>
                  <a:lnTo>
                    <a:pt x="102" y="5"/>
                  </a:lnTo>
                  <a:lnTo>
                    <a:pt x="152" y="4"/>
                  </a:lnTo>
                  <a:lnTo>
                    <a:pt x="201" y="2"/>
                  </a:lnTo>
                  <a:lnTo>
                    <a:pt x="250" y="2"/>
                  </a:lnTo>
                  <a:lnTo>
                    <a:pt x="299" y="1"/>
                  </a:lnTo>
                  <a:lnTo>
                    <a:pt x="350" y="1"/>
                  </a:lnTo>
                  <a:lnTo>
                    <a:pt x="401" y="0"/>
                  </a:lnTo>
                  <a:lnTo>
                    <a:pt x="414" y="48"/>
                  </a:lnTo>
                  <a:close/>
                </a:path>
              </a:pathLst>
            </a:custGeom>
            <a:solidFill>
              <a:srgbClr val="996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35040" y="5180400"/>
              <a:ext cx="38520" cy="54000"/>
            </a:xfrm>
            <a:custGeom>
              <a:avLst/>
              <a:gdLst/>
              <a:ahLst/>
              <a:rect l="l" t="t" r="r" b="b"/>
              <a:pathLst>
                <a:path w="85" h="122">
                  <a:moveTo>
                    <a:pt x="46" y="29"/>
                  </a:moveTo>
                  <a:lnTo>
                    <a:pt x="50" y="38"/>
                  </a:lnTo>
                  <a:lnTo>
                    <a:pt x="54" y="46"/>
                  </a:lnTo>
                  <a:lnTo>
                    <a:pt x="58" y="52"/>
                  </a:lnTo>
                  <a:lnTo>
                    <a:pt x="62" y="60"/>
                  </a:lnTo>
                  <a:lnTo>
                    <a:pt x="66" y="68"/>
                  </a:lnTo>
                  <a:lnTo>
                    <a:pt x="69" y="76"/>
                  </a:lnTo>
                  <a:lnTo>
                    <a:pt x="71" y="84"/>
                  </a:lnTo>
                  <a:lnTo>
                    <a:pt x="71" y="92"/>
                  </a:lnTo>
                  <a:lnTo>
                    <a:pt x="75" y="94"/>
                  </a:lnTo>
                  <a:lnTo>
                    <a:pt x="78" y="96"/>
                  </a:lnTo>
                  <a:lnTo>
                    <a:pt x="79" y="99"/>
                  </a:lnTo>
                  <a:lnTo>
                    <a:pt x="81" y="102"/>
                  </a:lnTo>
                  <a:lnTo>
                    <a:pt x="82" y="104"/>
                  </a:lnTo>
                  <a:lnTo>
                    <a:pt x="82" y="107"/>
                  </a:lnTo>
                  <a:lnTo>
                    <a:pt x="83" y="111"/>
                  </a:lnTo>
                  <a:lnTo>
                    <a:pt x="85" y="114"/>
                  </a:lnTo>
                  <a:lnTo>
                    <a:pt x="82" y="116"/>
                  </a:lnTo>
                  <a:lnTo>
                    <a:pt x="78" y="119"/>
                  </a:lnTo>
                  <a:lnTo>
                    <a:pt x="74" y="121"/>
                  </a:lnTo>
                  <a:lnTo>
                    <a:pt x="70" y="122"/>
                  </a:lnTo>
                  <a:lnTo>
                    <a:pt x="66" y="122"/>
                  </a:lnTo>
                  <a:lnTo>
                    <a:pt x="62" y="121"/>
                  </a:lnTo>
                  <a:lnTo>
                    <a:pt x="58" y="121"/>
                  </a:lnTo>
                  <a:lnTo>
                    <a:pt x="54" y="119"/>
                  </a:lnTo>
                  <a:lnTo>
                    <a:pt x="48" y="112"/>
                  </a:lnTo>
                  <a:lnTo>
                    <a:pt x="43" y="110"/>
                  </a:lnTo>
                  <a:lnTo>
                    <a:pt x="38" y="108"/>
                  </a:lnTo>
                  <a:lnTo>
                    <a:pt x="31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2" y="102"/>
                  </a:lnTo>
                  <a:lnTo>
                    <a:pt x="8" y="96"/>
                  </a:lnTo>
                  <a:lnTo>
                    <a:pt x="12" y="88"/>
                  </a:lnTo>
                  <a:lnTo>
                    <a:pt x="15" y="82"/>
                  </a:lnTo>
                  <a:lnTo>
                    <a:pt x="18" y="74"/>
                  </a:lnTo>
                  <a:lnTo>
                    <a:pt x="19" y="66"/>
                  </a:lnTo>
                  <a:lnTo>
                    <a:pt x="20" y="56"/>
                  </a:lnTo>
                  <a:lnTo>
                    <a:pt x="20" y="48"/>
                  </a:lnTo>
                  <a:lnTo>
                    <a:pt x="19" y="40"/>
                  </a:lnTo>
                  <a:lnTo>
                    <a:pt x="18" y="32"/>
                  </a:lnTo>
                  <a:lnTo>
                    <a:pt x="15" y="29"/>
                  </a:lnTo>
                  <a:lnTo>
                    <a:pt x="12" y="25"/>
                  </a:lnTo>
                  <a:lnTo>
                    <a:pt x="10" y="23"/>
                  </a:lnTo>
                  <a:lnTo>
                    <a:pt x="7" y="20"/>
                  </a:lnTo>
                  <a:lnTo>
                    <a:pt x="6" y="16"/>
                  </a:lnTo>
                  <a:lnTo>
                    <a:pt x="3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27" y="5"/>
                  </a:lnTo>
                  <a:lnTo>
                    <a:pt x="32" y="11"/>
                  </a:lnTo>
                  <a:lnTo>
                    <a:pt x="38" y="17"/>
                  </a:lnTo>
                  <a:lnTo>
                    <a:pt x="42" y="23"/>
                  </a:lnTo>
                  <a:lnTo>
                    <a:pt x="46" y="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21280" y="5196240"/>
              <a:ext cx="21960" cy="208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7" y="25"/>
                  </a:moveTo>
                  <a:lnTo>
                    <a:pt x="48" y="29"/>
                  </a:lnTo>
                  <a:lnTo>
                    <a:pt x="48" y="32"/>
                  </a:lnTo>
                  <a:lnTo>
                    <a:pt x="48" y="35"/>
                  </a:lnTo>
                  <a:lnTo>
                    <a:pt x="48" y="37"/>
                  </a:lnTo>
                  <a:lnTo>
                    <a:pt x="47" y="40"/>
                  </a:lnTo>
                  <a:lnTo>
                    <a:pt x="46" y="43"/>
                  </a:lnTo>
                  <a:lnTo>
                    <a:pt x="43" y="45"/>
                  </a:lnTo>
                  <a:lnTo>
                    <a:pt x="40" y="48"/>
                  </a:lnTo>
                  <a:lnTo>
                    <a:pt x="33" y="44"/>
                  </a:lnTo>
                  <a:lnTo>
                    <a:pt x="27" y="41"/>
                  </a:lnTo>
                  <a:lnTo>
                    <a:pt x="20" y="40"/>
                  </a:lnTo>
                  <a:lnTo>
                    <a:pt x="13" y="37"/>
                  </a:lnTo>
                  <a:lnTo>
                    <a:pt x="7" y="35"/>
                  </a:lnTo>
                  <a:lnTo>
                    <a:pt x="3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2"/>
                  </a:lnTo>
                  <a:lnTo>
                    <a:pt x="7" y="9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1" y="3"/>
                  </a:lnTo>
                  <a:lnTo>
                    <a:pt x="33" y="7"/>
                  </a:lnTo>
                  <a:lnTo>
                    <a:pt x="36" y="9"/>
                  </a:lnTo>
                  <a:lnTo>
                    <a:pt x="39" y="13"/>
                  </a:lnTo>
                  <a:lnTo>
                    <a:pt x="42" y="17"/>
                  </a:lnTo>
                  <a:lnTo>
                    <a:pt x="44" y="21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1080" y="5235480"/>
              <a:ext cx="233280" cy="24840"/>
            </a:xfrm>
            <a:custGeom>
              <a:avLst/>
              <a:gdLst/>
              <a:ahLst/>
              <a:rect l="l" t="t" r="r" b="b"/>
              <a:pathLst>
                <a:path w="510" h="56">
                  <a:moveTo>
                    <a:pt x="396" y="11"/>
                  </a:moveTo>
                  <a:lnTo>
                    <a:pt x="410" y="17"/>
                  </a:lnTo>
                  <a:lnTo>
                    <a:pt x="424" y="23"/>
                  </a:lnTo>
                  <a:lnTo>
                    <a:pt x="439" y="28"/>
                  </a:lnTo>
                  <a:lnTo>
                    <a:pt x="454" y="32"/>
                  </a:lnTo>
                  <a:lnTo>
                    <a:pt x="469" y="37"/>
                  </a:lnTo>
                  <a:lnTo>
                    <a:pt x="482" y="43"/>
                  </a:lnTo>
                  <a:lnTo>
                    <a:pt x="497" y="48"/>
                  </a:lnTo>
                  <a:lnTo>
                    <a:pt x="510" y="55"/>
                  </a:lnTo>
                  <a:lnTo>
                    <a:pt x="451" y="56"/>
                  </a:lnTo>
                  <a:lnTo>
                    <a:pt x="388" y="56"/>
                  </a:lnTo>
                  <a:lnTo>
                    <a:pt x="325" y="56"/>
                  </a:lnTo>
                  <a:lnTo>
                    <a:pt x="260" y="56"/>
                  </a:lnTo>
                  <a:lnTo>
                    <a:pt x="195" y="55"/>
                  </a:lnTo>
                  <a:lnTo>
                    <a:pt x="131" y="53"/>
                  </a:lnTo>
                  <a:lnTo>
                    <a:pt x="68" y="53"/>
                  </a:lnTo>
                  <a:lnTo>
                    <a:pt x="8" y="55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8" y="51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10" y="47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0"/>
                  </a:lnTo>
                  <a:lnTo>
                    <a:pt x="28" y="4"/>
                  </a:lnTo>
                  <a:lnTo>
                    <a:pt x="52" y="5"/>
                  </a:lnTo>
                  <a:lnTo>
                    <a:pt x="76" y="7"/>
                  </a:lnTo>
                  <a:lnTo>
                    <a:pt x="102" y="8"/>
                  </a:lnTo>
                  <a:lnTo>
                    <a:pt x="150" y="8"/>
                  </a:lnTo>
                  <a:lnTo>
                    <a:pt x="199" y="7"/>
                  </a:lnTo>
                  <a:lnTo>
                    <a:pt x="248" y="5"/>
                  </a:lnTo>
                  <a:lnTo>
                    <a:pt x="297" y="5"/>
                  </a:lnTo>
                  <a:lnTo>
                    <a:pt x="347" y="7"/>
                  </a:lnTo>
                  <a:lnTo>
                    <a:pt x="396" y="11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39200" y="5245920"/>
              <a:ext cx="230040" cy="197640"/>
            </a:xfrm>
            <a:custGeom>
              <a:avLst/>
              <a:gdLst/>
              <a:ahLst/>
              <a:rect l="l" t="t" r="r" b="b"/>
              <a:pathLst>
                <a:path w="504" h="452">
                  <a:moveTo>
                    <a:pt x="263" y="32"/>
                  </a:moveTo>
                  <a:lnTo>
                    <a:pt x="272" y="37"/>
                  </a:lnTo>
                  <a:lnTo>
                    <a:pt x="282" y="41"/>
                  </a:lnTo>
                  <a:lnTo>
                    <a:pt x="293" y="44"/>
                  </a:lnTo>
                  <a:lnTo>
                    <a:pt x="303" y="46"/>
                  </a:lnTo>
                  <a:lnTo>
                    <a:pt x="314" y="48"/>
                  </a:lnTo>
                  <a:lnTo>
                    <a:pt x="325" y="51"/>
                  </a:lnTo>
                  <a:lnTo>
                    <a:pt x="335" y="53"/>
                  </a:lnTo>
                  <a:lnTo>
                    <a:pt x="345" y="59"/>
                  </a:lnTo>
                  <a:lnTo>
                    <a:pt x="362" y="61"/>
                  </a:lnTo>
                  <a:lnTo>
                    <a:pt x="381" y="64"/>
                  </a:lnTo>
                  <a:lnTo>
                    <a:pt x="401" y="65"/>
                  </a:lnTo>
                  <a:lnTo>
                    <a:pt x="420" y="68"/>
                  </a:lnTo>
                  <a:lnTo>
                    <a:pt x="440" y="71"/>
                  </a:lnTo>
                  <a:lnTo>
                    <a:pt x="459" y="72"/>
                  </a:lnTo>
                  <a:lnTo>
                    <a:pt x="477" y="75"/>
                  </a:lnTo>
                  <a:lnTo>
                    <a:pt x="496" y="77"/>
                  </a:lnTo>
                  <a:lnTo>
                    <a:pt x="499" y="89"/>
                  </a:lnTo>
                  <a:lnTo>
                    <a:pt x="502" y="101"/>
                  </a:lnTo>
                  <a:lnTo>
                    <a:pt x="503" y="113"/>
                  </a:lnTo>
                  <a:lnTo>
                    <a:pt x="504" y="125"/>
                  </a:lnTo>
                  <a:lnTo>
                    <a:pt x="504" y="151"/>
                  </a:lnTo>
                  <a:lnTo>
                    <a:pt x="504" y="176"/>
                  </a:lnTo>
                  <a:lnTo>
                    <a:pt x="503" y="202"/>
                  </a:lnTo>
                  <a:lnTo>
                    <a:pt x="503" y="227"/>
                  </a:lnTo>
                  <a:lnTo>
                    <a:pt x="502" y="253"/>
                  </a:lnTo>
                  <a:lnTo>
                    <a:pt x="503" y="277"/>
                  </a:lnTo>
                  <a:lnTo>
                    <a:pt x="502" y="293"/>
                  </a:lnTo>
                  <a:lnTo>
                    <a:pt x="498" y="309"/>
                  </a:lnTo>
                  <a:lnTo>
                    <a:pt x="493" y="325"/>
                  </a:lnTo>
                  <a:lnTo>
                    <a:pt x="491" y="341"/>
                  </a:lnTo>
                  <a:lnTo>
                    <a:pt x="488" y="357"/>
                  </a:lnTo>
                  <a:lnTo>
                    <a:pt x="487" y="373"/>
                  </a:lnTo>
                  <a:lnTo>
                    <a:pt x="488" y="388"/>
                  </a:lnTo>
                  <a:lnTo>
                    <a:pt x="491" y="404"/>
                  </a:lnTo>
                  <a:lnTo>
                    <a:pt x="476" y="411"/>
                  </a:lnTo>
                  <a:lnTo>
                    <a:pt x="460" y="416"/>
                  </a:lnTo>
                  <a:lnTo>
                    <a:pt x="445" y="421"/>
                  </a:lnTo>
                  <a:lnTo>
                    <a:pt x="429" y="425"/>
                  </a:lnTo>
                  <a:lnTo>
                    <a:pt x="396" y="431"/>
                  </a:lnTo>
                  <a:lnTo>
                    <a:pt x="362" y="435"/>
                  </a:lnTo>
                  <a:lnTo>
                    <a:pt x="329" y="437"/>
                  </a:lnTo>
                  <a:lnTo>
                    <a:pt x="295" y="440"/>
                  </a:lnTo>
                  <a:lnTo>
                    <a:pt x="262" y="445"/>
                  </a:lnTo>
                  <a:lnTo>
                    <a:pt x="230" y="452"/>
                  </a:lnTo>
                  <a:lnTo>
                    <a:pt x="216" y="452"/>
                  </a:lnTo>
                  <a:lnTo>
                    <a:pt x="203" y="449"/>
                  </a:lnTo>
                  <a:lnTo>
                    <a:pt x="191" y="445"/>
                  </a:lnTo>
                  <a:lnTo>
                    <a:pt x="177" y="441"/>
                  </a:lnTo>
                  <a:lnTo>
                    <a:pt x="165" y="436"/>
                  </a:lnTo>
                  <a:lnTo>
                    <a:pt x="152" y="431"/>
                  </a:lnTo>
                  <a:lnTo>
                    <a:pt x="138" y="427"/>
                  </a:lnTo>
                  <a:lnTo>
                    <a:pt x="125" y="424"/>
                  </a:lnTo>
                  <a:lnTo>
                    <a:pt x="122" y="417"/>
                  </a:lnTo>
                  <a:lnTo>
                    <a:pt x="122" y="409"/>
                  </a:lnTo>
                  <a:lnTo>
                    <a:pt x="122" y="401"/>
                  </a:lnTo>
                  <a:lnTo>
                    <a:pt x="122" y="395"/>
                  </a:lnTo>
                  <a:lnTo>
                    <a:pt x="122" y="387"/>
                  </a:lnTo>
                  <a:lnTo>
                    <a:pt x="122" y="379"/>
                  </a:lnTo>
                  <a:lnTo>
                    <a:pt x="118" y="372"/>
                  </a:lnTo>
                  <a:lnTo>
                    <a:pt x="113" y="365"/>
                  </a:lnTo>
                  <a:lnTo>
                    <a:pt x="113" y="360"/>
                  </a:lnTo>
                  <a:lnTo>
                    <a:pt x="113" y="354"/>
                  </a:lnTo>
                  <a:lnTo>
                    <a:pt x="113" y="350"/>
                  </a:lnTo>
                  <a:lnTo>
                    <a:pt x="113" y="346"/>
                  </a:lnTo>
                  <a:lnTo>
                    <a:pt x="112" y="341"/>
                  </a:lnTo>
                  <a:lnTo>
                    <a:pt x="112" y="337"/>
                  </a:lnTo>
                  <a:lnTo>
                    <a:pt x="112" y="333"/>
                  </a:lnTo>
                  <a:lnTo>
                    <a:pt x="113" y="328"/>
                  </a:lnTo>
                  <a:lnTo>
                    <a:pt x="125" y="330"/>
                  </a:lnTo>
                  <a:lnTo>
                    <a:pt x="137" y="333"/>
                  </a:lnTo>
                  <a:lnTo>
                    <a:pt x="151" y="336"/>
                  </a:lnTo>
                  <a:lnTo>
                    <a:pt x="164" y="338"/>
                  </a:lnTo>
                  <a:lnTo>
                    <a:pt x="177" y="340"/>
                  </a:lnTo>
                  <a:lnTo>
                    <a:pt x="191" y="341"/>
                  </a:lnTo>
                  <a:lnTo>
                    <a:pt x="204" y="341"/>
                  </a:lnTo>
                  <a:lnTo>
                    <a:pt x="216" y="340"/>
                  </a:lnTo>
                  <a:lnTo>
                    <a:pt x="219" y="337"/>
                  </a:lnTo>
                  <a:lnTo>
                    <a:pt x="222" y="336"/>
                  </a:lnTo>
                  <a:lnTo>
                    <a:pt x="223" y="334"/>
                  </a:lnTo>
                  <a:lnTo>
                    <a:pt x="226" y="333"/>
                  </a:lnTo>
                  <a:lnTo>
                    <a:pt x="228" y="332"/>
                  </a:lnTo>
                  <a:lnTo>
                    <a:pt x="230" y="330"/>
                  </a:lnTo>
                  <a:lnTo>
                    <a:pt x="232" y="330"/>
                  </a:lnTo>
                  <a:lnTo>
                    <a:pt x="235" y="330"/>
                  </a:lnTo>
                  <a:lnTo>
                    <a:pt x="235" y="337"/>
                  </a:lnTo>
                  <a:lnTo>
                    <a:pt x="235" y="344"/>
                  </a:lnTo>
                  <a:lnTo>
                    <a:pt x="235" y="350"/>
                  </a:lnTo>
                  <a:lnTo>
                    <a:pt x="235" y="357"/>
                  </a:lnTo>
                  <a:lnTo>
                    <a:pt x="236" y="364"/>
                  </a:lnTo>
                  <a:lnTo>
                    <a:pt x="239" y="369"/>
                  </a:lnTo>
                  <a:lnTo>
                    <a:pt x="244" y="373"/>
                  </a:lnTo>
                  <a:lnTo>
                    <a:pt x="251" y="377"/>
                  </a:lnTo>
                  <a:lnTo>
                    <a:pt x="255" y="376"/>
                  </a:lnTo>
                  <a:lnTo>
                    <a:pt x="259" y="375"/>
                  </a:lnTo>
                  <a:lnTo>
                    <a:pt x="263" y="372"/>
                  </a:lnTo>
                  <a:lnTo>
                    <a:pt x="264" y="368"/>
                  </a:lnTo>
                  <a:lnTo>
                    <a:pt x="266" y="360"/>
                  </a:lnTo>
                  <a:lnTo>
                    <a:pt x="266" y="350"/>
                  </a:lnTo>
                  <a:lnTo>
                    <a:pt x="263" y="340"/>
                  </a:lnTo>
                  <a:lnTo>
                    <a:pt x="262" y="329"/>
                  </a:lnTo>
                  <a:lnTo>
                    <a:pt x="262" y="318"/>
                  </a:lnTo>
                  <a:lnTo>
                    <a:pt x="263" y="309"/>
                  </a:lnTo>
                  <a:lnTo>
                    <a:pt x="260" y="297"/>
                  </a:lnTo>
                  <a:lnTo>
                    <a:pt x="259" y="283"/>
                  </a:lnTo>
                  <a:lnTo>
                    <a:pt x="258" y="270"/>
                  </a:lnTo>
                  <a:lnTo>
                    <a:pt x="255" y="257"/>
                  </a:lnTo>
                  <a:lnTo>
                    <a:pt x="254" y="250"/>
                  </a:lnTo>
                  <a:lnTo>
                    <a:pt x="252" y="245"/>
                  </a:lnTo>
                  <a:lnTo>
                    <a:pt x="250" y="239"/>
                  </a:lnTo>
                  <a:lnTo>
                    <a:pt x="246" y="235"/>
                  </a:lnTo>
                  <a:lnTo>
                    <a:pt x="242" y="231"/>
                  </a:lnTo>
                  <a:lnTo>
                    <a:pt x="236" y="227"/>
                  </a:lnTo>
                  <a:lnTo>
                    <a:pt x="230" y="226"/>
                  </a:lnTo>
                  <a:lnTo>
                    <a:pt x="223" y="225"/>
                  </a:lnTo>
                  <a:lnTo>
                    <a:pt x="220" y="230"/>
                  </a:lnTo>
                  <a:lnTo>
                    <a:pt x="220" y="235"/>
                  </a:lnTo>
                  <a:lnTo>
                    <a:pt x="222" y="241"/>
                  </a:lnTo>
                  <a:lnTo>
                    <a:pt x="226" y="246"/>
                  </a:lnTo>
                  <a:lnTo>
                    <a:pt x="228" y="251"/>
                  </a:lnTo>
                  <a:lnTo>
                    <a:pt x="232" y="257"/>
                  </a:lnTo>
                  <a:lnTo>
                    <a:pt x="234" y="262"/>
                  </a:lnTo>
                  <a:lnTo>
                    <a:pt x="235" y="269"/>
                  </a:lnTo>
                  <a:lnTo>
                    <a:pt x="238" y="278"/>
                  </a:lnTo>
                  <a:lnTo>
                    <a:pt x="236" y="286"/>
                  </a:lnTo>
                  <a:lnTo>
                    <a:pt x="234" y="293"/>
                  </a:lnTo>
                  <a:lnTo>
                    <a:pt x="230" y="300"/>
                  </a:lnTo>
                  <a:lnTo>
                    <a:pt x="224" y="305"/>
                  </a:lnTo>
                  <a:lnTo>
                    <a:pt x="218" y="310"/>
                  </a:lnTo>
                  <a:lnTo>
                    <a:pt x="211" y="314"/>
                  </a:lnTo>
                  <a:lnTo>
                    <a:pt x="204" y="320"/>
                  </a:lnTo>
                  <a:lnTo>
                    <a:pt x="193" y="318"/>
                  </a:lnTo>
                  <a:lnTo>
                    <a:pt x="181" y="317"/>
                  </a:lnTo>
                  <a:lnTo>
                    <a:pt x="169" y="317"/>
                  </a:lnTo>
                  <a:lnTo>
                    <a:pt x="157" y="316"/>
                  </a:lnTo>
                  <a:lnTo>
                    <a:pt x="146" y="313"/>
                  </a:lnTo>
                  <a:lnTo>
                    <a:pt x="134" y="310"/>
                  </a:lnTo>
                  <a:lnTo>
                    <a:pt x="125" y="305"/>
                  </a:lnTo>
                  <a:lnTo>
                    <a:pt x="116" y="300"/>
                  </a:lnTo>
                  <a:lnTo>
                    <a:pt x="117" y="294"/>
                  </a:lnTo>
                  <a:lnTo>
                    <a:pt x="117" y="290"/>
                  </a:lnTo>
                  <a:lnTo>
                    <a:pt x="118" y="285"/>
                  </a:lnTo>
                  <a:lnTo>
                    <a:pt x="118" y="279"/>
                  </a:lnTo>
                  <a:lnTo>
                    <a:pt x="120" y="275"/>
                  </a:lnTo>
                  <a:lnTo>
                    <a:pt x="121" y="270"/>
                  </a:lnTo>
                  <a:lnTo>
                    <a:pt x="124" y="267"/>
                  </a:lnTo>
                  <a:lnTo>
                    <a:pt x="128" y="263"/>
                  </a:lnTo>
                  <a:lnTo>
                    <a:pt x="125" y="259"/>
                  </a:lnTo>
                  <a:lnTo>
                    <a:pt x="122" y="255"/>
                  </a:lnTo>
                  <a:lnTo>
                    <a:pt x="118" y="253"/>
                  </a:lnTo>
                  <a:lnTo>
                    <a:pt x="114" y="250"/>
                  </a:lnTo>
                  <a:lnTo>
                    <a:pt x="105" y="247"/>
                  </a:lnTo>
                  <a:lnTo>
                    <a:pt x="96" y="246"/>
                  </a:lnTo>
                  <a:lnTo>
                    <a:pt x="85" y="246"/>
                  </a:lnTo>
                  <a:lnTo>
                    <a:pt x="74" y="245"/>
                  </a:lnTo>
                  <a:lnTo>
                    <a:pt x="63" y="245"/>
                  </a:lnTo>
                  <a:lnTo>
                    <a:pt x="54" y="243"/>
                  </a:lnTo>
                  <a:lnTo>
                    <a:pt x="47" y="242"/>
                  </a:lnTo>
                  <a:lnTo>
                    <a:pt x="41" y="239"/>
                  </a:lnTo>
                  <a:lnTo>
                    <a:pt x="37" y="237"/>
                  </a:lnTo>
                  <a:lnTo>
                    <a:pt x="31" y="233"/>
                  </a:lnTo>
                  <a:lnTo>
                    <a:pt x="23" y="225"/>
                  </a:lnTo>
                  <a:lnTo>
                    <a:pt x="17" y="214"/>
                  </a:lnTo>
                  <a:lnTo>
                    <a:pt x="11" y="203"/>
                  </a:lnTo>
                  <a:lnTo>
                    <a:pt x="7" y="191"/>
                  </a:lnTo>
                  <a:lnTo>
                    <a:pt x="3" y="180"/>
                  </a:lnTo>
                  <a:lnTo>
                    <a:pt x="0" y="170"/>
                  </a:lnTo>
                  <a:lnTo>
                    <a:pt x="0" y="160"/>
                  </a:lnTo>
                  <a:lnTo>
                    <a:pt x="3" y="151"/>
                  </a:lnTo>
                  <a:lnTo>
                    <a:pt x="7" y="143"/>
                  </a:lnTo>
                  <a:lnTo>
                    <a:pt x="11" y="136"/>
                  </a:lnTo>
                  <a:lnTo>
                    <a:pt x="15" y="128"/>
                  </a:lnTo>
                  <a:lnTo>
                    <a:pt x="21" y="121"/>
                  </a:lnTo>
                  <a:lnTo>
                    <a:pt x="26" y="115"/>
                  </a:lnTo>
                  <a:lnTo>
                    <a:pt x="31" y="108"/>
                  </a:lnTo>
                  <a:lnTo>
                    <a:pt x="41" y="105"/>
                  </a:lnTo>
                  <a:lnTo>
                    <a:pt x="50" y="105"/>
                  </a:lnTo>
                  <a:lnTo>
                    <a:pt x="59" y="105"/>
                  </a:lnTo>
                  <a:lnTo>
                    <a:pt x="69" y="108"/>
                  </a:lnTo>
                  <a:lnTo>
                    <a:pt x="85" y="115"/>
                  </a:lnTo>
                  <a:lnTo>
                    <a:pt x="102" y="124"/>
                  </a:lnTo>
                  <a:lnTo>
                    <a:pt x="118" y="134"/>
                  </a:lnTo>
                  <a:lnTo>
                    <a:pt x="136" y="142"/>
                  </a:lnTo>
                  <a:lnTo>
                    <a:pt x="145" y="144"/>
                  </a:lnTo>
                  <a:lnTo>
                    <a:pt x="155" y="147"/>
                  </a:lnTo>
                  <a:lnTo>
                    <a:pt x="165" y="147"/>
                  </a:lnTo>
                  <a:lnTo>
                    <a:pt x="176" y="146"/>
                  </a:lnTo>
                  <a:lnTo>
                    <a:pt x="183" y="142"/>
                  </a:lnTo>
                  <a:lnTo>
                    <a:pt x="188" y="138"/>
                  </a:lnTo>
                  <a:lnTo>
                    <a:pt x="192" y="134"/>
                  </a:lnTo>
                  <a:lnTo>
                    <a:pt x="196" y="128"/>
                  </a:lnTo>
                  <a:lnTo>
                    <a:pt x="197" y="123"/>
                  </a:lnTo>
                  <a:lnTo>
                    <a:pt x="199" y="117"/>
                  </a:lnTo>
                  <a:lnTo>
                    <a:pt x="199" y="112"/>
                  </a:lnTo>
                  <a:lnTo>
                    <a:pt x="199" y="105"/>
                  </a:lnTo>
                  <a:lnTo>
                    <a:pt x="197" y="93"/>
                  </a:lnTo>
                  <a:lnTo>
                    <a:pt x="197" y="80"/>
                  </a:lnTo>
                  <a:lnTo>
                    <a:pt x="197" y="68"/>
                  </a:lnTo>
                  <a:lnTo>
                    <a:pt x="199" y="56"/>
                  </a:lnTo>
                  <a:lnTo>
                    <a:pt x="195" y="51"/>
                  </a:lnTo>
                  <a:lnTo>
                    <a:pt x="192" y="44"/>
                  </a:lnTo>
                  <a:lnTo>
                    <a:pt x="188" y="36"/>
                  </a:lnTo>
                  <a:lnTo>
                    <a:pt x="184" y="29"/>
                  </a:lnTo>
                  <a:lnTo>
                    <a:pt x="179" y="24"/>
                  </a:lnTo>
                  <a:lnTo>
                    <a:pt x="173" y="18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59" y="9"/>
                  </a:lnTo>
                  <a:lnTo>
                    <a:pt x="160" y="6"/>
                  </a:lnTo>
                  <a:lnTo>
                    <a:pt x="161" y="4"/>
                  </a:lnTo>
                  <a:lnTo>
                    <a:pt x="163" y="2"/>
                  </a:lnTo>
                  <a:lnTo>
                    <a:pt x="168" y="0"/>
                  </a:lnTo>
                  <a:lnTo>
                    <a:pt x="173" y="1"/>
                  </a:lnTo>
                  <a:lnTo>
                    <a:pt x="179" y="2"/>
                  </a:lnTo>
                  <a:lnTo>
                    <a:pt x="184" y="4"/>
                  </a:lnTo>
                  <a:lnTo>
                    <a:pt x="189" y="6"/>
                  </a:lnTo>
                  <a:lnTo>
                    <a:pt x="193" y="8"/>
                  </a:lnTo>
                  <a:lnTo>
                    <a:pt x="201" y="13"/>
                  </a:lnTo>
                  <a:lnTo>
                    <a:pt x="209" y="18"/>
                  </a:lnTo>
                  <a:lnTo>
                    <a:pt x="218" y="22"/>
                  </a:lnTo>
                  <a:lnTo>
                    <a:pt x="227" y="25"/>
                  </a:lnTo>
                  <a:lnTo>
                    <a:pt x="235" y="28"/>
                  </a:lnTo>
                  <a:lnTo>
                    <a:pt x="244" y="29"/>
                  </a:lnTo>
                  <a:lnTo>
                    <a:pt x="254" y="30"/>
                  </a:lnTo>
                  <a:lnTo>
                    <a:pt x="263" y="32"/>
                  </a:lnTo>
                  <a:close/>
                </a:path>
              </a:pathLst>
            </a:custGeom>
            <a:solidFill>
              <a:srgbClr val="c99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82920" y="5248800"/>
              <a:ext cx="394920" cy="432360"/>
            </a:xfrm>
            <a:custGeom>
              <a:avLst/>
              <a:gdLst/>
              <a:ahLst/>
              <a:rect l="l" t="t" r="r" b="b"/>
              <a:pathLst>
                <a:path w="862" h="982">
                  <a:moveTo>
                    <a:pt x="784" y="5"/>
                  </a:moveTo>
                  <a:lnTo>
                    <a:pt x="787" y="8"/>
                  </a:lnTo>
                  <a:lnTo>
                    <a:pt x="788" y="12"/>
                  </a:lnTo>
                  <a:lnTo>
                    <a:pt x="789" y="14"/>
                  </a:lnTo>
                  <a:lnTo>
                    <a:pt x="791" y="18"/>
                  </a:lnTo>
                  <a:lnTo>
                    <a:pt x="789" y="21"/>
                  </a:lnTo>
                  <a:lnTo>
                    <a:pt x="788" y="24"/>
                  </a:lnTo>
                  <a:lnTo>
                    <a:pt x="785" y="26"/>
                  </a:lnTo>
                  <a:lnTo>
                    <a:pt x="781" y="28"/>
                  </a:lnTo>
                  <a:lnTo>
                    <a:pt x="735" y="30"/>
                  </a:lnTo>
                  <a:lnTo>
                    <a:pt x="690" y="33"/>
                  </a:lnTo>
                  <a:lnTo>
                    <a:pt x="646" y="33"/>
                  </a:lnTo>
                  <a:lnTo>
                    <a:pt x="603" y="33"/>
                  </a:lnTo>
                  <a:lnTo>
                    <a:pt x="560" y="33"/>
                  </a:lnTo>
                  <a:lnTo>
                    <a:pt x="518" y="33"/>
                  </a:lnTo>
                  <a:lnTo>
                    <a:pt x="473" y="33"/>
                  </a:lnTo>
                  <a:lnTo>
                    <a:pt x="426" y="36"/>
                  </a:lnTo>
                  <a:lnTo>
                    <a:pt x="422" y="34"/>
                  </a:lnTo>
                  <a:lnTo>
                    <a:pt x="418" y="34"/>
                  </a:lnTo>
                  <a:lnTo>
                    <a:pt x="416" y="36"/>
                  </a:lnTo>
                  <a:lnTo>
                    <a:pt x="414" y="37"/>
                  </a:lnTo>
                  <a:lnTo>
                    <a:pt x="412" y="40"/>
                  </a:lnTo>
                  <a:lnTo>
                    <a:pt x="412" y="45"/>
                  </a:lnTo>
                  <a:lnTo>
                    <a:pt x="413" y="51"/>
                  </a:lnTo>
                  <a:lnTo>
                    <a:pt x="414" y="57"/>
                  </a:lnTo>
                  <a:lnTo>
                    <a:pt x="416" y="61"/>
                  </a:lnTo>
                  <a:lnTo>
                    <a:pt x="414" y="67"/>
                  </a:lnTo>
                  <a:lnTo>
                    <a:pt x="420" y="80"/>
                  </a:lnTo>
                  <a:lnTo>
                    <a:pt x="424" y="93"/>
                  </a:lnTo>
                  <a:lnTo>
                    <a:pt x="426" y="108"/>
                  </a:lnTo>
                  <a:lnTo>
                    <a:pt x="429" y="123"/>
                  </a:lnTo>
                  <a:lnTo>
                    <a:pt x="432" y="138"/>
                  </a:lnTo>
                  <a:lnTo>
                    <a:pt x="436" y="151"/>
                  </a:lnTo>
                  <a:lnTo>
                    <a:pt x="442" y="166"/>
                  </a:lnTo>
                  <a:lnTo>
                    <a:pt x="451" y="179"/>
                  </a:lnTo>
                  <a:lnTo>
                    <a:pt x="495" y="179"/>
                  </a:lnTo>
                  <a:lnTo>
                    <a:pt x="539" y="179"/>
                  </a:lnTo>
                  <a:lnTo>
                    <a:pt x="583" y="179"/>
                  </a:lnTo>
                  <a:lnTo>
                    <a:pt x="627" y="179"/>
                  </a:lnTo>
                  <a:lnTo>
                    <a:pt x="672" y="179"/>
                  </a:lnTo>
                  <a:lnTo>
                    <a:pt x="716" y="180"/>
                  </a:lnTo>
                  <a:lnTo>
                    <a:pt x="759" y="183"/>
                  </a:lnTo>
                  <a:lnTo>
                    <a:pt x="803" y="186"/>
                  </a:lnTo>
                  <a:lnTo>
                    <a:pt x="802" y="190"/>
                  </a:lnTo>
                  <a:lnTo>
                    <a:pt x="800" y="192"/>
                  </a:lnTo>
                  <a:lnTo>
                    <a:pt x="798" y="195"/>
                  </a:lnTo>
                  <a:lnTo>
                    <a:pt x="795" y="196"/>
                  </a:lnTo>
                  <a:lnTo>
                    <a:pt x="791" y="198"/>
                  </a:lnTo>
                  <a:lnTo>
                    <a:pt x="788" y="199"/>
                  </a:lnTo>
                  <a:lnTo>
                    <a:pt x="784" y="200"/>
                  </a:lnTo>
                  <a:lnTo>
                    <a:pt x="781" y="202"/>
                  </a:lnTo>
                  <a:lnTo>
                    <a:pt x="763" y="206"/>
                  </a:lnTo>
                  <a:lnTo>
                    <a:pt x="744" y="209"/>
                  </a:lnTo>
                  <a:lnTo>
                    <a:pt x="725" y="210"/>
                  </a:lnTo>
                  <a:lnTo>
                    <a:pt x="706" y="210"/>
                  </a:lnTo>
                  <a:lnTo>
                    <a:pt x="688" y="210"/>
                  </a:lnTo>
                  <a:lnTo>
                    <a:pt x="669" y="209"/>
                  </a:lnTo>
                  <a:lnTo>
                    <a:pt x="649" y="209"/>
                  </a:lnTo>
                  <a:lnTo>
                    <a:pt x="629" y="209"/>
                  </a:lnTo>
                  <a:lnTo>
                    <a:pt x="631" y="218"/>
                  </a:lnTo>
                  <a:lnTo>
                    <a:pt x="633" y="229"/>
                  </a:lnTo>
                  <a:lnTo>
                    <a:pt x="634" y="239"/>
                  </a:lnTo>
                  <a:lnTo>
                    <a:pt x="635" y="250"/>
                  </a:lnTo>
                  <a:lnTo>
                    <a:pt x="635" y="261"/>
                  </a:lnTo>
                  <a:lnTo>
                    <a:pt x="637" y="271"/>
                  </a:lnTo>
                  <a:lnTo>
                    <a:pt x="638" y="282"/>
                  </a:lnTo>
                  <a:lnTo>
                    <a:pt x="638" y="293"/>
                  </a:lnTo>
                  <a:lnTo>
                    <a:pt x="641" y="298"/>
                  </a:lnTo>
                  <a:lnTo>
                    <a:pt x="643" y="302"/>
                  </a:lnTo>
                  <a:lnTo>
                    <a:pt x="646" y="306"/>
                  </a:lnTo>
                  <a:lnTo>
                    <a:pt x="649" y="310"/>
                  </a:lnTo>
                  <a:lnTo>
                    <a:pt x="651" y="316"/>
                  </a:lnTo>
                  <a:lnTo>
                    <a:pt x="651" y="320"/>
                  </a:lnTo>
                  <a:lnTo>
                    <a:pt x="650" y="324"/>
                  </a:lnTo>
                  <a:lnTo>
                    <a:pt x="646" y="329"/>
                  </a:lnTo>
                  <a:lnTo>
                    <a:pt x="642" y="329"/>
                  </a:lnTo>
                  <a:lnTo>
                    <a:pt x="638" y="329"/>
                  </a:lnTo>
                  <a:lnTo>
                    <a:pt x="634" y="328"/>
                  </a:lnTo>
                  <a:lnTo>
                    <a:pt x="630" y="325"/>
                  </a:lnTo>
                  <a:lnTo>
                    <a:pt x="626" y="322"/>
                  </a:lnTo>
                  <a:lnTo>
                    <a:pt x="623" y="320"/>
                  </a:lnTo>
                  <a:lnTo>
                    <a:pt x="619" y="318"/>
                  </a:lnTo>
                  <a:lnTo>
                    <a:pt x="615" y="316"/>
                  </a:lnTo>
                  <a:lnTo>
                    <a:pt x="615" y="302"/>
                  </a:lnTo>
                  <a:lnTo>
                    <a:pt x="614" y="289"/>
                  </a:lnTo>
                  <a:lnTo>
                    <a:pt x="613" y="274"/>
                  </a:lnTo>
                  <a:lnTo>
                    <a:pt x="611" y="261"/>
                  </a:lnTo>
                  <a:lnTo>
                    <a:pt x="609" y="247"/>
                  </a:lnTo>
                  <a:lnTo>
                    <a:pt x="606" y="234"/>
                  </a:lnTo>
                  <a:lnTo>
                    <a:pt x="602" y="222"/>
                  </a:lnTo>
                  <a:lnTo>
                    <a:pt x="598" y="209"/>
                  </a:lnTo>
                  <a:lnTo>
                    <a:pt x="195" y="211"/>
                  </a:lnTo>
                  <a:lnTo>
                    <a:pt x="195" y="230"/>
                  </a:lnTo>
                  <a:lnTo>
                    <a:pt x="196" y="250"/>
                  </a:lnTo>
                  <a:lnTo>
                    <a:pt x="197" y="270"/>
                  </a:lnTo>
                  <a:lnTo>
                    <a:pt x="199" y="289"/>
                  </a:lnTo>
                  <a:lnTo>
                    <a:pt x="201" y="309"/>
                  </a:lnTo>
                  <a:lnTo>
                    <a:pt x="207" y="328"/>
                  </a:lnTo>
                  <a:lnTo>
                    <a:pt x="212" y="345"/>
                  </a:lnTo>
                  <a:lnTo>
                    <a:pt x="220" y="362"/>
                  </a:lnTo>
                  <a:lnTo>
                    <a:pt x="207" y="376"/>
                  </a:lnTo>
                  <a:lnTo>
                    <a:pt x="251" y="373"/>
                  </a:lnTo>
                  <a:lnTo>
                    <a:pt x="296" y="373"/>
                  </a:lnTo>
                  <a:lnTo>
                    <a:pt x="342" y="373"/>
                  </a:lnTo>
                  <a:lnTo>
                    <a:pt x="388" y="373"/>
                  </a:lnTo>
                  <a:lnTo>
                    <a:pt x="433" y="373"/>
                  </a:lnTo>
                  <a:lnTo>
                    <a:pt x="479" y="372"/>
                  </a:lnTo>
                  <a:lnTo>
                    <a:pt x="522" y="369"/>
                  </a:lnTo>
                  <a:lnTo>
                    <a:pt x="564" y="365"/>
                  </a:lnTo>
                  <a:lnTo>
                    <a:pt x="820" y="362"/>
                  </a:lnTo>
                  <a:lnTo>
                    <a:pt x="824" y="365"/>
                  </a:lnTo>
                  <a:lnTo>
                    <a:pt x="827" y="368"/>
                  </a:lnTo>
                  <a:lnTo>
                    <a:pt x="831" y="371"/>
                  </a:lnTo>
                  <a:lnTo>
                    <a:pt x="832" y="375"/>
                  </a:lnTo>
                  <a:lnTo>
                    <a:pt x="835" y="377"/>
                  </a:lnTo>
                  <a:lnTo>
                    <a:pt x="835" y="381"/>
                  </a:lnTo>
                  <a:lnTo>
                    <a:pt x="835" y="387"/>
                  </a:lnTo>
                  <a:lnTo>
                    <a:pt x="832" y="391"/>
                  </a:lnTo>
                  <a:lnTo>
                    <a:pt x="823" y="396"/>
                  </a:lnTo>
                  <a:lnTo>
                    <a:pt x="773" y="395"/>
                  </a:lnTo>
                  <a:lnTo>
                    <a:pt x="724" y="396"/>
                  </a:lnTo>
                  <a:lnTo>
                    <a:pt x="674" y="396"/>
                  </a:lnTo>
                  <a:lnTo>
                    <a:pt x="623" y="397"/>
                  </a:lnTo>
                  <a:lnTo>
                    <a:pt x="572" y="397"/>
                  </a:lnTo>
                  <a:lnTo>
                    <a:pt x="523" y="399"/>
                  </a:lnTo>
                  <a:lnTo>
                    <a:pt x="472" y="400"/>
                  </a:lnTo>
                  <a:lnTo>
                    <a:pt x="421" y="400"/>
                  </a:lnTo>
                  <a:lnTo>
                    <a:pt x="418" y="409"/>
                  </a:lnTo>
                  <a:lnTo>
                    <a:pt x="417" y="417"/>
                  </a:lnTo>
                  <a:lnTo>
                    <a:pt x="417" y="427"/>
                  </a:lnTo>
                  <a:lnTo>
                    <a:pt x="417" y="435"/>
                  </a:lnTo>
                  <a:lnTo>
                    <a:pt x="418" y="444"/>
                  </a:lnTo>
                  <a:lnTo>
                    <a:pt x="420" y="452"/>
                  </a:lnTo>
                  <a:lnTo>
                    <a:pt x="420" y="462"/>
                  </a:lnTo>
                  <a:lnTo>
                    <a:pt x="420" y="470"/>
                  </a:lnTo>
                  <a:lnTo>
                    <a:pt x="421" y="48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24" y="508"/>
                  </a:lnTo>
                  <a:lnTo>
                    <a:pt x="424" y="518"/>
                  </a:lnTo>
                  <a:lnTo>
                    <a:pt x="425" y="527"/>
                  </a:lnTo>
                  <a:lnTo>
                    <a:pt x="428" y="537"/>
                  </a:lnTo>
                  <a:lnTo>
                    <a:pt x="432" y="546"/>
                  </a:lnTo>
                  <a:lnTo>
                    <a:pt x="432" y="549"/>
                  </a:lnTo>
                  <a:lnTo>
                    <a:pt x="432" y="553"/>
                  </a:lnTo>
                  <a:lnTo>
                    <a:pt x="432" y="555"/>
                  </a:lnTo>
                  <a:lnTo>
                    <a:pt x="433" y="559"/>
                  </a:lnTo>
                  <a:lnTo>
                    <a:pt x="433" y="562"/>
                  </a:lnTo>
                  <a:lnTo>
                    <a:pt x="433" y="565"/>
                  </a:lnTo>
                  <a:lnTo>
                    <a:pt x="432" y="569"/>
                  </a:lnTo>
                  <a:lnTo>
                    <a:pt x="429" y="571"/>
                  </a:lnTo>
                  <a:lnTo>
                    <a:pt x="473" y="571"/>
                  </a:lnTo>
                  <a:lnTo>
                    <a:pt x="519" y="570"/>
                  </a:lnTo>
                  <a:lnTo>
                    <a:pt x="564" y="569"/>
                  </a:lnTo>
                  <a:lnTo>
                    <a:pt x="611" y="567"/>
                  </a:lnTo>
                  <a:lnTo>
                    <a:pt x="657" y="567"/>
                  </a:lnTo>
                  <a:lnTo>
                    <a:pt x="702" y="566"/>
                  </a:lnTo>
                  <a:lnTo>
                    <a:pt x="748" y="566"/>
                  </a:lnTo>
                  <a:lnTo>
                    <a:pt x="792" y="566"/>
                  </a:lnTo>
                  <a:lnTo>
                    <a:pt x="794" y="569"/>
                  </a:lnTo>
                  <a:lnTo>
                    <a:pt x="798" y="571"/>
                  </a:lnTo>
                  <a:lnTo>
                    <a:pt x="802" y="571"/>
                  </a:lnTo>
                  <a:lnTo>
                    <a:pt x="806" y="573"/>
                  </a:lnTo>
                  <a:lnTo>
                    <a:pt x="808" y="574"/>
                  </a:lnTo>
                  <a:lnTo>
                    <a:pt x="811" y="575"/>
                  </a:lnTo>
                  <a:lnTo>
                    <a:pt x="812" y="578"/>
                  </a:lnTo>
                  <a:lnTo>
                    <a:pt x="812" y="582"/>
                  </a:lnTo>
                  <a:lnTo>
                    <a:pt x="796" y="590"/>
                  </a:lnTo>
                  <a:lnTo>
                    <a:pt x="680" y="594"/>
                  </a:lnTo>
                  <a:lnTo>
                    <a:pt x="674" y="599"/>
                  </a:lnTo>
                  <a:lnTo>
                    <a:pt x="673" y="621"/>
                  </a:lnTo>
                  <a:lnTo>
                    <a:pt x="674" y="641"/>
                  </a:lnTo>
                  <a:lnTo>
                    <a:pt x="674" y="660"/>
                  </a:lnTo>
                  <a:lnTo>
                    <a:pt x="677" y="678"/>
                  </a:lnTo>
                  <a:lnTo>
                    <a:pt x="678" y="697"/>
                  </a:lnTo>
                  <a:lnTo>
                    <a:pt x="681" y="716"/>
                  </a:lnTo>
                  <a:lnTo>
                    <a:pt x="682" y="736"/>
                  </a:lnTo>
                  <a:lnTo>
                    <a:pt x="685" y="756"/>
                  </a:lnTo>
                  <a:lnTo>
                    <a:pt x="856" y="756"/>
                  </a:lnTo>
                  <a:lnTo>
                    <a:pt x="856" y="757"/>
                  </a:lnTo>
                  <a:lnTo>
                    <a:pt x="858" y="759"/>
                  </a:lnTo>
                  <a:lnTo>
                    <a:pt x="859" y="760"/>
                  </a:lnTo>
                  <a:lnTo>
                    <a:pt x="859" y="761"/>
                  </a:lnTo>
                  <a:lnTo>
                    <a:pt x="860" y="763"/>
                  </a:lnTo>
                  <a:lnTo>
                    <a:pt x="860" y="764"/>
                  </a:lnTo>
                  <a:lnTo>
                    <a:pt x="862" y="767"/>
                  </a:lnTo>
                  <a:lnTo>
                    <a:pt x="860" y="768"/>
                  </a:lnTo>
                  <a:lnTo>
                    <a:pt x="852" y="776"/>
                  </a:lnTo>
                  <a:lnTo>
                    <a:pt x="442" y="787"/>
                  </a:lnTo>
                  <a:lnTo>
                    <a:pt x="441" y="810"/>
                  </a:lnTo>
                  <a:lnTo>
                    <a:pt x="442" y="834"/>
                  </a:lnTo>
                  <a:lnTo>
                    <a:pt x="445" y="858"/>
                  </a:lnTo>
                  <a:lnTo>
                    <a:pt x="449" y="883"/>
                  </a:lnTo>
                  <a:lnTo>
                    <a:pt x="452" y="907"/>
                  </a:lnTo>
                  <a:lnTo>
                    <a:pt x="456" y="932"/>
                  </a:lnTo>
                  <a:lnTo>
                    <a:pt x="457" y="954"/>
                  </a:lnTo>
                  <a:lnTo>
                    <a:pt x="457" y="978"/>
                  </a:lnTo>
                  <a:lnTo>
                    <a:pt x="455" y="981"/>
                  </a:lnTo>
                  <a:lnTo>
                    <a:pt x="451" y="982"/>
                  </a:lnTo>
                  <a:lnTo>
                    <a:pt x="448" y="982"/>
                  </a:lnTo>
                  <a:lnTo>
                    <a:pt x="444" y="981"/>
                  </a:lnTo>
                  <a:lnTo>
                    <a:pt x="441" y="978"/>
                  </a:lnTo>
                  <a:lnTo>
                    <a:pt x="438" y="976"/>
                  </a:lnTo>
                  <a:lnTo>
                    <a:pt x="436" y="973"/>
                  </a:lnTo>
                  <a:lnTo>
                    <a:pt x="434" y="970"/>
                  </a:lnTo>
                  <a:lnTo>
                    <a:pt x="424" y="960"/>
                  </a:lnTo>
                  <a:lnTo>
                    <a:pt x="424" y="938"/>
                  </a:lnTo>
                  <a:lnTo>
                    <a:pt x="422" y="917"/>
                  </a:lnTo>
                  <a:lnTo>
                    <a:pt x="421" y="895"/>
                  </a:lnTo>
                  <a:lnTo>
                    <a:pt x="420" y="874"/>
                  </a:lnTo>
                  <a:lnTo>
                    <a:pt x="417" y="851"/>
                  </a:lnTo>
                  <a:lnTo>
                    <a:pt x="414" y="830"/>
                  </a:lnTo>
                  <a:lnTo>
                    <a:pt x="410" y="808"/>
                  </a:lnTo>
                  <a:lnTo>
                    <a:pt x="406" y="788"/>
                  </a:lnTo>
                  <a:lnTo>
                    <a:pt x="385" y="787"/>
                  </a:lnTo>
                  <a:lnTo>
                    <a:pt x="363" y="786"/>
                  </a:lnTo>
                  <a:lnTo>
                    <a:pt x="342" y="786"/>
                  </a:lnTo>
                  <a:lnTo>
                    <a:pt x="322" y="787"/>
                  </a:lnTo>
                  <a:lnTo>
                    <a:pt x="300" y="787"/>
                  </a:lnTo>
                  <a:lnTo>
                    <a:pt x="280" y="786"/>
                  </a:lnTo>
                  <a:lnTo>
                    <a:pt x="259" y="784"/>
                  </a:lnTo>
                  <a:lnTo>
                    <a:pt x="238" y="782"/>
                  </a:lnTo>
                  <a:lnTo>
                    <a:pt x="232" y="771"/>
                  </a:lnTo>
                  <a:lnTo>
                    <a:pt x="286" y="770"/>
                  </a:lnTo>
                  <a:lnTo>
                    <a:pt x="339" y="767"/>
                  </a:lnTo>
                  <a:lnTo>
                    <a:pt x="393" y="765"/>
                  </a:lnTo>
                  <a:lnTo>
                    <a:pt x="445" y="763"/>
                  </a:lnTo>
                  <a:lnTo>
                    <a:pt x="499" y="761"/>
                  </a:lnTo>
                  <a:lnTo>
                    <a:pt x="552" y="760"/>
                  </a:lnTo>
                  <a:lnTo>
                    <a:pt x="607" y="759"/>
                  </a:lnTo>
                  <a:lnTo>
                    <a:pt x="662" y="757"/>
                  </a:lnTo>
                  <a:lnTo>
                    <a:pt x="662" y="756"/>
                  </a:lnTo>
                  <a:lnTo>
                    <a:pt x="662" y="755"/>
                  </a:lnTo>
                  <a:lnTo>
                    <a:pt x="662" y="752"/>
                  </a:lnTo>
                  <a:lnTo>
                    <a:pt x="661" y="751"/>
                  </a:lnTo>
                  <a:lnTo>
                    <a:pt x="660" y="748"/>
                  </a:lnTo>
                  <a:lnTo>
                    <a:pt x="657" y="747"/>
                  </a:lnTo>
                  <a:lnTo>
                    <a:pt x="656" y="744"/>
                  </a:lnTo>
                  <a:lnTo>
                    <a:pt x="654" y="743"/>
                  </a:lnTo>
                  <a:lnTo>
                    <a:pt x="650" y="725"/>
                  </a:lnTo>
                  <a:lnTo>
                    <a:pt x="649" y="708"/>
                  </a:lnTo>
                  <a:lnTo>
                    <a:pt x="649" y="689"/>
                  </a:lnTo>
                  <a:lnTo>
                    <a:pt x="649" y="670"/>
                  </a:lnTo>
                  <a:lnTo>
                    <a:pt x="649" y="652"/>
                  </a:lnTo>
                  <a:lnTo>
                    <a:pt x="649" y="632"/>
                  </a:lnTo>
                  <a:lnTo>
                    <a:pt x="646" y="614"/>
                  </a:lnTo>
                  <a:lnTo>
                    <a:pt x="642" y="597"/>
                  </a:lnTo>
                  <a:lnTo>
                    <a:pt x="634" y="601"/>
                  </a:lnTo>
                  <a:lnTo>
                    <a:pt x="627" y="602"/>
                  </a:lnTo>
                  <a:lnTo>
                    <a:pt x="621" y="602"/>
                  </a:lnTo>
                  <a:lnTo>
                    <a:pt x="613" y="601"/>
                  </a:lnTo>
                  <a:lnTo>
                    <a:pt x="606" y="598"/>
                  </a:lnTo>
                  <a:lnTo>
                    <a:pt x="598" y="597"/>
                  </a:lnTo>
                  <a:lnTo>
                    <a:pt x="590" y="595"/>
                  </a:lnTo>
                  <a:lnTo>
                    <a:pt x="582" y="597"/>
                  </a:lnTo>
                  <a:lnTo>
                    <a:pt x="243" y="605"/>
                  </a:lnTo>
                  <a:lnTo>
                    <a:pt x="242" y="601"/>
                  </a:lnTo>
                  <a:lnTo>
                    <a:pt x="240" y="598"/>
                  </a:lnTo>
                  <a:lnTo>
                    <a:pt x="239" y="595"/>
                  </a:lnTo>
                  <a:lnTo>
                    <a:pt x="236" y="593"/>
                  </a:lnTo>
                  <a:lnTo>
                    <a:pt x="235" y="590"/>
                  </a:lnTo>
                  <a:lnTo>
                    <a:pt x="232" y="587"/>
                  </a:lnTo>
                  <a:lnTo>
                    <a:pt x="231" y="585"/>
                  </a:lnTo>
                  <a:lnTo>
                    <a:pt x="229" y="582"/>
                  </a:lnTo>
                  <a:lnTo>
                    <a:pt x="251" y="581"/>
                  </a:lnTo>
                  <a:lnTo>
                    <a:pt x="274" y="579"/>
                  </a:lnTo>
                  <a:lnTo>
                    <a:pt x="296" y="579"/>
                  </a:lnTo>
                  <a:lnTo>
                    <a:pt x="321" y="578"/>
                  </a:lnTo>
                  <a:lnTo>
                    <a:pt x="343" y="577"/>
                  </a:lnTo>
                  <a:lnTo>
                    <a:pt x="367" y="575"/>
                  </a:lnTo>
                  <a:lnTo>
                    <a:pt x="392" y="574"/>
                  </a:lnTo>
                  <a:lnTo>
                    <a:pt x="414" y="571"/>
                  </a:lnTo>
                  <a:lnTo>
                    <a:pt x="408" y="563"/>
                  </a:lnTo>
                  <a:lnTo>
                    <a:pt x="404" y="553"/>
                  </a:lnTo>
                  <a:lnTo>
                    <a:pt x="401" y="542"/>
                  </a:lnTo>
                  <a:lnTo>
                    <a:pt x="400" y="530"/>
                  </a:lnTo>
                  <a:lnTo>
                    <a:pt x="398" y="518"/>
                  </a:lnTo>
                  <a:lnTo>
                    <a:pt x="398" y="506"/>
                  </a:lnTo>
                  <a:lnTo>
                    <a:pt x="398" y="495"/>
                  </a:lnTo>
                  <a:lnTo>
                    <a:pt x="397" y="484"/>
                  </a:lnTo>
                  <a:lnTo>
                    <a:pt x="386" y="405"/>
                  </a:lnTo>
                  <a:lnTo>
                    <a:pt x="361" y="407"/>
                  </a:lnTo>
                  <a:lnTo>
                    <a:pt x="335" y="408"/>
                  </a:lnTo>
                  <a:lnTo>
                    <a:pt x="309" y="408"/>
                  </a:lnTo>
                  <a:lnTo>
                    <a:pt x="282" y="408"/>
                  </a:lnTo>
                  <a:lnTo>
                    <a:pt x="254" y="408"/>
                  </a:lnTo>
                  <a:lnTo>
                    <a:pt x="227" y="408"/>
                  </a:lnTo>
                  <a:lnTo>
                    <a:pt x="200" y="409"/>
                  </a:lnTo>
                  <a:lnTo>
                    <a:pt x="175" y="411"/>
                  </a:lnTo>
                  <a:lnTo>
                    <a:pt x="154" y="413"/>
                  </a:lnTo>
                  <a:lnTo>
                    <a:pt x="133" y="415"/>
                  </a:lnTo>
                  <a:lnTo>
                    <a:pt x="113" y="416"/>
                  </a:lnTo>
                  <a:lnTo>
                    <a:pt x="91" y="416"/>
                  </a:lnTo>
                  <a:lnTo>
                    <a:pt x="70" y="416"/>
                  </a:lnTo>
                  <a:lnTo>
                    <a:pt x="49" y="416"/>
                  </a:lnTo>
                  <a:lnTo>
                    <a:pt x="29" y="415"/>
                  </a:lnTo>
                  <a:lnTo>
                    <a:pt x="8" y="413"/>
                  </a:lnTo>
                  <a:lnTo>
                    <a:pt x="4" y="409"/>
                  </a:lnTo>
                  <a:lnTo>
                    <a:pt x="2" y="405"/>
                  </a:lnTo>
                  <a:lnTo>
                    <a:pt x="0" y="400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3" y="388"/>
                  </a:lnTo>
                  <a:lnTo>
                    <a:pt x="7" y="385"/>
                  </a:lnTo>
                  <a:lnTo>
                    <a:pt x="14" y="383"/>
                  </a:lnTo>
                  <a:lnTo>
                    <a:pt x="37" y="381"/>
                  </a:lnTo>
                  <a:lnTo>
                    <a:pt x="61" y="380"/>
                  </a:lnTo>
                  <a:lnTo>
                    <a:pt x="83" y="380"/>
                  </a:lnTo>
                  <a:lnTo>
                    <a:pt x="106" y="380"/>
                  </a:lnTo>
                  <a:lnTo>
                    <a:pt x="130" y="380"/>
                  </a:lnTo>
                  <a:lnTo>
                    <a:pt x="153" y="380"/>
                  </a:lnTo>
                  <a:lnTo>
                    <a:pt x="176" y="379"/>
                  </a:lnTo>
                  <a:lnTo>
                    <a:pt x="200" y="376"/>
                  </a:lnTo>
                  <a:lnTo>
                    <a:pt x="184" y="365"/>
                  </a:lnTo>
                  <a:lnTo>
                    <a:pt x="181" y="346"/>
                  </a:lnTo>
                  <a:lnTo>
                    <a:pt x="179" y="328"/>
                  </a:lnTo>
                  <a:lnTo>
                    <a:pt x="176" y="309"/>
                  </a:lnTo>
                  <a:lnTo>
                    <a:pt x="175" y="289"/>
                  </a:lnTo>
                  <a:lnTo>
                    <a:pt x="172" y="270"/>
                  </a:lnTo>
                  <a:lnTo>
                    <a:pt x="171" y="251"/>
                  </a:lnTo>
                  <a:lnTo>
                    <a:pt x="168" y="233"/>
                  </a:lnTo>
                  <a:lnTo>
                    <a:pt x="164" y="215"/>
                  </a:lnTo>
                  <a:lnTo>
                    <a:pt x="8" y="209"/>
                  </a:lnTo>
                  <a:lnTo>
                    <a:pt x="7" y="205"/>
                  </a:lnTo>
                  <a:lnTo>
                    <a:pt x="8" y="199"/>
                  </a:lnTo>
                  <a:lnTo>
                    <a:pt x="10" y="196"/>
                  </a:lnTo>
                  <a:lnTo>
                    <a:pt x="12" y="192"/>
                  </a:lnTo>
                  <a:lnTo>
                    <a:pt x="16" y="190"/>
                  </a:lnTo>
                  <a:lnTo>
                    <a:pt x="20" y="188"/>
                  </a:lnTo>
                  <a:lnTo>
                    <a:pt x="24" y="187"/>
                  </a:lnTo>
                  <a:lnTo>
                    <a:pt x="29" y="186"/>
                  </a:lnTo>
                  <a:lnTo>
                    <a:pt x="75" y="183"/>
                  </a:lnTo>
                  <a:lnTo>
                    <a:pt x="124" y="182"/>
                  </a:lnTo>
                  <a:lnTo>
                    <a:pt x="172" y="180"/>
                  </a:lnTo>
                  <a:lnTo>
                    <a:pt x="221" y="180"/>
                  </a:lnTo>
                  <a:lnTo>
                    <a:pt x="270" y="182"/>
                  </a:lnTo>
                  <a:lnTo>
                    <a:pt x="318" y="182"/>
                  </a:lnTo>
                  <a:lnTo>
                    <a:pt x="366" y="180"/>
                  </a:lnTo>
                  <a:lnTo>
                    <a:pt x="412" y="179"/>
                  </a:lnTo>
                  <a:lnTo>
                    <a:pt x="405" y="163"/>
                  </a:lnTo>
                  <a:lnTo>
                    <a:pt x="401" y="146"/>
                  </a:lnTo>
                  <a:lnTo>
                    <a:pt x="398" y="128"/>
                  </a:lnTo>
                  <a:lnTo>
                    <a:pt x="396" y="111"/>
                  </a:lnTo>
                  <a:lnTo>
                    <a:pt x="394" y="93"/>
                  </a:lnTo>
                  <a:lnTo>
                    <a:pt x="392" y="76"/>
                  </a:lnTo>
                  <a:lnTo>
                    <a:pt x="389" y="59"/>
                  </a:lnTo>
                  <a:lnTo>
                    <a:pt x="386" y="41"/>
                  </a:lnTo>
                  <a:lnTo>
                    <a:pt x="378" y="36"/>
                  </a:lnTo>
                  <a:lnTo>
                    <a:pt x="343" y="37"/>
                  </a:lnTo>
                  <a:lnTo>
                    <a:pt x="306" y="38"/>
                  </a:lnTo>
                  <a:lnTo>
                    <a:pt x="270" y="38"/>
                  </a:lnTo>
                  <a:lnTo>
                    <a:pt x="232" y="40"/>
                  </a:lnTo>
                  <a:lnTo>
                    <a:pt x="196" y="40"/>
                  </a:lnTo>
                  <a:lnTo>
                    <a:pt x="158" y="43"/>
                  </a:lnTo>
                  <a:lnTo>
                    <a:pt x="122" y="45"/>
                  </a:lnTo>
                  <a:lnTo>
                    <a:pt x="87" y="48"/>
                  </a:lnTo>
                  <a:lnTo>
                    <a:pt x="86" y="45"/>
                  </a:lnTo>
                  <a:lnTo>
                    <a:pt x="85" y="41"/>
                  </a:lnTo>
                  <a:lnTo>
                    <a:pt x="85" y="36"/>
                  </a:lnTo>
                  <a:lnTo>
                    <a:pt x="85" y="32"/>
                  </a:lnTo>
                  <a:lnTo>
                    <a:pt x="85" y="28"/>
                  </a:lnTo>
                  <a:lnTo>
                    <a:pt x="85" y="24"/>
                  </a:lnTo>
                  <a:lnTo>
                    <a:pt x="85" y="20"/>
                  </a:lnTo>
                  <a:lnTo>
                    <a:pt x="85" y="16"/>
                  </a:lnTo>
                  <a:lnTo>
                    <a:pt x="156" y="13"/>
                  </a:lnTo>
                  <a:lnTo>
                    <a:pt x="228" y="12"/>
                  </a:lnTo>
                  <a:lnTo>
                    <a:pt x="302" y="9"/>
                  </a:lnTo>
                  <a:lnTo>
                    <a:pt x="376" y="8"/>
                  </a:lnTo>
                  <a:lnTo>
                    <a:pt x="449" y="6"/>
                  </a:lnTo>
                  <a:lnTo>
                    <a:pt x="522" y="4"/>
                  </a:lnTo>
                  <a:lnTo>
                    <a:pt x="593" y="2"/>
                  </a:lnTo>
                  <a:lnTo>
                    <a:pt x="662" y="0"/>
                  </a:lnTo>
                  <a:lnTo>
                    <a:pt x="669" y="0"/>
                  </a:lnTo>
                  <a:lnTo>
                    <a:pt x="676" y="0"/>
                  </a:lnTo>
                  <a:lnTo>
                    <a:pt x="684" y="0"/>
                  </a:lnTo>
                  <a:lnTo>
                    <a:pt x="692" y="1"/>
                  </a:lnTo>
                  <a:lnTo>
                    <a:pt x="700" y="2"/>
                  </a:lnTo>
                  <a:lnTo>
                    <a:pt x="708" y="4"/>
                  </a:lnTo>
                  <a:lnTo>
                    <a:pt x="716" y="4"/>
                  </a:lnTo>
                  <a:lnTo>
                    <a:pt x="723" y="5"/>
                  </a:lnTo>
                  <a:lnTo>
                    <a:pt x="729" y="5"/>
                  </a:lnTo>
                  <a:lnTo>
                    <a:pt x="737" y="4"/>
                  </a:lnTo>
                  <a:lnTo>
                    <a:pt x="745" y="2"/>
                  </a:lnTo>
                  <a:lnTo>
                    <a:pt x="753" y="1"/>
                  </a:lnTo>
                  <a:lnTo>
                    <a:pt x="761" y="0"/>
                  </a:lnTo>
                  <a:lnTo>
                    <a:pt x="769" y="0"/>
                  </a:lnTo>
                  <a:lnTo>
                    <a:pt x="777" y="2"/>
                  </a:lnTo>
                  <a:lnTo>
                    <a:pt x="7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01840" y="5260680"/>
              <a:ext cx="16200" cy="40320"/>
            </a:xfrm>
            <a:custGeom>
              <a:avLst/>
              <a:gdLst/>
              <a:ahLst/>
              <a:rect l="l" t="t" r="r" b="b"/>
              <a:pathLst>
                <a:path w="36" h="95">
                  <a:moveTo>
                    <a:pt x="36" y="48"/>
                  </a:moveTo>
                  <a:lnTo>
                    <a:pt x="35" y="55"/>
                  </a:lnTo>
                  <a:lnTo>
                    <a:pt x="33" y="62"/>
                  </a:lnTo>
                  <a:lnTo>
                    <a:pt x="33" y="67"/>
                  </a:lnTo>
                  <a:lnTo>
                    <a:pt x="33" y="74"/>
                  </a:lnTo>
                  <a:lnTo>
                    <a:pt x="32" y="79"/>
                  </a:lnTo>
                  <a:lnTo>
                    <a:pt x="29" y="86"/>
                  </a:lnTo>
                  <a:lnTo>
                    <a:pt x="27" y="90"/>
                  </a:lnTo>
                  <a:lnTo>
                    <a:pt x="21" y="95"/>
                  </a:lnTo>
                  <a:lnTo>
                    <a:pt x="17" y="94"/>
                  </a:lnTo>
                  <a:lnTo>
                    <a:pt x="15" y="94"/>
                  </a:lnTo>
                  <a:lnTo>
                    <a:pt x="12" y="92"/>
                  </a:lnTo>
                  <a:lnTo>
                    <a:pt x="9" y="90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2" y="83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2" y="75"/>
                  </a:lnTo>
                  <a:lnTo>
                    <a:pt x="2" y="74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4" y="68"/>
                  </a:lnTo>
                  <a:lnTo>
                    <a:pt x="2" y="67"/>
                  </a:lnTo>
                  <a:lnTo>
                    <a:pt x="9" y="67"/>
                  </a:lnTo>
                  <a:lnTo>
                    <a:pt x="13" y="66"/>
                  </a:lnTo>
                  <a:lnTo>
                    <a:pt x="16" y="63"/>
                  </a:lnTo>
                  <a:lnTo>
                    <a:pt x="19" y="59"/>
                  </a:lnTo>
                  <a:lnTo>
                    <a:pt x="20" y="55"/>
                  </a:lnTo>
                  <a:lnTo>
                    <a:pt x="21" y="50"/>
                  </a:lnTo>
                  <a:lnTo>
                    <a:pt x="24" y="46"/>
                  </a:lnTo>
                  <a:lnTo>
                    <a:pt x="27" y="42"/>
                  </a:lnTo>
                  <a:lnTo>
                    <a:pt x="25" y="39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6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1" y="7"/>
                  </a:lnTo>
                  <a:lnTo>
                    <a:pt x="12" y="4"/>
                  </a:lnTo>
                  <a:lnTo>
                    <a:pt x="13" y="0"/>
                  </a:lnTo>
                  <a:lnTo>
                    <a:pt x="20" y="4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29" y="22"/>
                  </a:lnTo>
                  <a:lnTo>
                    <a:pt x="31" y="28"/>
                  </a:lnTo>
                  <a:lnTo>
                    <a:pt x="32" y="36"/>
                  </a:lnTo>
                  <a:lnTo>
                    <a:pt x="33" y="43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32080" y="5271120"/>
              <a:ext cx="12240" cy="4356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23" y="95"/>
                  </a:moveTo>
                  <a:lnTo>
                    <a:pt x="20" y="96"/>
                  </a:lnTo>
                  <a:lnTo>
                    <a:pt x="18" y="97"/>
                  </a:lnTo>
                  <a:lnTo>
                    <a:pt x="15" y="97"/>
                  </a:lnTo>
                  <a:lnTo>
                    <a:pt x="11" y="96"/>
                  </a:lnTo>
                  <a:lnTo>
                    <a:pt x="8" y="95"/>
                  </a:lnTo>
                  <a:lnTo>
                    <a:pt x="5" y="93"/>
                  </a:lnTo>
                  <a:lnTo>
                    <a:pt x="3" y="92"/>
                  </a:lnTo>
                  <a:lnTo>
                    <a:pt x="0" y="89"/>
                  </a:lnTo>
                  <a:lnTo>
                    <a:pt x="1" y="77"/>
                  </a:lnTo>
                  <a:lnTo>
                    <a:pt x="3" y="66"/>
                  </a:lnTo>
                  <a:lnTo>
                    <a:pt x="5" y="56"/>
                  </a:lnTo>
                  <a:lnTo>
                    <a:pt x="7" y="46"/>
                  </a:lnTo>
                  <a:lnTo>
                    <a:pt x="8" y="36"/>
                  </a:lnTo>
                  <a:lnTo>
                    <a:pt x="8" y="25"/>
                  </a:lnTo>
                  <a:lnTo>
                    <a:pt x="7" y="14"/>
                  </a:lnTo>
                  <a:lnTo>
                    <a:pt x="3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6" y="13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7" y="58"/>
                  </a:lnTo>
                  <a:lnTo>
                    <a:pt x="26" y="70"/>
                  </a:lnTo>
                  <a:lnTo>
                    <a:pt x="24" y="83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6640" y="5274000"/>
              <a:ext cx="223200" cy="70920"/>
            </a:xfrm>
            <a:custGeom>
              <a:avLst/>
              <a:gdLst/>
              <a:ahLst/>
              <a:rect l="l" t="t" r="r" b="b"/>
              <a:pathLst>
                <a:path w="488" h="163">
                  <a:moveTo>
                    <a:pt x="467" y="3"/>
                  </a:moveTo>
                  <a:lnTo>
                    <a:pt x="466" y="5"/>
                  </a:lnTo>
                  <a:lnTo>
                    <a:pt x="465" y="7"/>
                  </a:lnTo>
                  <a:lnTo>
                    <a:pt x="465" y="9"/>
                  </a:lnTo>
                  <a:lnTo>
                    <a:pt x="466" y="11"/>
                  </a:lnTo>
                  <a:lnTo>
                    <a:pt x="467" y="13"/>
                  </a:lnTo>
                  <a:lnTo>
                    <a:pt x="470" y="15"/>
                  </a:lnTo>
                  <a:lnTo>
                    <a:pt x="471" y="16"/>
                  </a:lnTo>
                  <a:lnTo>
                    <a:pt x="473" y="17"/>
                  </a:lnTo>
                  <a:lnTo>
                    <a:pt x="474" y="36"/>
                  </a:lnTo>
                  <a:lnTo>
                    <a:pt x="474" y="53"/>
                  </a:lnTo>
                  <a:lnTo>
                    <a:pt x="473" y="70"/>
                  </a:lnTo>
                  <a:lnTo>
                    <a:pt x="473" y="87"/>
                  </a:lnTo>
                  <a:lnTo>
                    <a:pt x="473" y="103"/>
                  </a:lnTo>
                  <a:lnTo>
                    <a:pt x="476" y="119"/>
                  </a:lnTo>
                  <a:lnTo>
                    <a:pt x="478" y="127"/>
                  </a:lnTo>
                  <a:lnTo>
                    <a:pt x="481" y="135"/>
                  </a:lnTo>
                  <a:lnTo>
                    <a:pt x="484" y="143"/>
                  </a:lnTo>
                  <a:lnTo>
                    <a:pt x="488" y="151"/>
                  </a:lnTo>
                  <a:lnTo>
                    <a:pt x="74" y="161"/>
                  </a:lnTo>
                  <a:lnTo>
                    <a:pt x="19" y="163"/>
                  </a:lnTo>
                  <a:lnTo>
                    <a:pt x="20" y="157"/>
                  </a:lnTo>
                  <a:lnTo>
                    <a:pt x="19" y="149"/>
                  </a:lnTo>
                  <a:lnTo>
                    <a:pt x="16" y="142"/>
                  </a:lnTo>
                  <a:lnTo>
                    <a:pt x="13" y="136"/>
                  </a:lnTo>
                  <a:lnTo>
                    <a:pt x="9" y="130"/>
                  </a:lnTo>
                  <a:lnTo>
                    <a:pt x="8" y="123"/>
                  </a:lnTo>
                  <a:lnTo>
                    <a:pt x="7" y="115"/>
                  </a:lnTo>
                  <a:lnTo>
                    <a:pt x="8" y="107"/>
                  </a:lnTo>
                  <a:lnTo>
                    <a:pt x="3" y="102"/>
                  </a:lnTo>
                  <a:lnTo>
                    <a:pt x="1" y="91"/>
                  </a:lnTo>
                  <a:lnTo>
                    <a:pt x="1" y="78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1" y="28"/>
                  </a:lnTo>
                  <a:lnTo>
                    <a:pt x="1" y="16"/>
                  </a:lnTo>
                  <a:lnTo>
                    <a:pt x="3" y="5"/>
                  </a:lnTo>
                  <a:lnTo>
                    <a:pt x="19" y="0"/>
                  </a:lnTo>
                  <a:lnTo>
                    <a:pt x="467" y="3"/>
                  </a:lnTo>
                  <a:close/>
                </a:path>
              </a:pathLst>
            </a:custGeom>
            <a:solidFill>
              <a:srgbClr val="996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48400" y="5293440"/>
              <a:ext cx="178200" cy="82800"/>
            </a:xfrm>
            <a:custGeom>
              <a:avLst/>
              <a:gdLst/>
              <a:ahLst/>
              <a:rect l="l" t="t" r="r" b="b"/>
              <a:pathLst>
                <a:path w="390" h="189">
                  <a:moveTo>
                    <a:pt x="388" y="26"/>
                  </a:moveTo>
                  <a:lnTo>
                    <a:pt x="387" y="26"/>
                  </a:lnTo>
                  <a:lnTo>
                    <a:pt x="386" y="27"/>
                  </a:lnTo>
                  <a:lnTo>
                    <a:pt x="386" y="28"/>
                  </a:lnTo>
                  <a:lnTo>
                    <a:pt x="386" y="30"/>
                  </a:lnTo>
                  <a:lnTo>
                    <a:pt x="386" y="31"/>
                  </a:lnTo>
                  <a:lnTo>
                    <a:pt x="386" y="32"/>
                  </a:lnTo>
                  <a:lnTo>
                    <a:pt x="386" y="34"/>
                  </a:lnTo>
                  <a:lnTo>
                    <a:pt x="386" y="35"/>
                  </a:lnTo>
                  <a:lnTo>
                    <a:pt x="379" y="30"/>
                  </a:lnTo>
                  <a:lnTo>
                    <a:pt x="371" y="26"/>
                  </a:lnTo>
                  <a:lnTo>
                    <a:pt x="364" y="23"/>
                  </a:lnTo>
                  <a:lnTo>
                    <a:pt x="356" y="21"/>
                  </a:lnTo>
                  <a:lnTo>
                    <a:pt x="348" y="21"/>
                  </a:lnTo>
                  <a:lnTo>
                    <a:pt x="340" y="23"/>
                  </a:lnTo>
                  <a:lnTo>
                    <a:pt x="332" y="26"/>
                  </a:lnTo>
                  <a:lnTo>
                    <a:pt x="324" y="27"/>
                  </a:lnTo>
                  <a:lnTo>
                    <a:pt x="319" y="36"/>
                  </a:lnTo>
                  <a:lnTo>
                    <a:pt x="312" y="43"/>
                  </a:lnTo>
                  <a:lnTo>
                    <a:pt x="307" y="47"/>
                  </a:lnTo>
                  <a:lnTo>
                    <a:pt x="300" y="50"/>
                  </a:lnTo>
                  <a:lnTo>
                    <a:pt x="293" y="51"/>
                  </a:lnTo>
                  <a:lnTo>
                    <a:pt x="285" y="51"/>
                  </a:lnTo>
                  <a:lnTo>
                    <a:pt x="278" y="50"/>
                  </a:lnTo>
                  <a:lnTo>
                    <a:pt x="270" y="48"/>
                  </a:lnTo>
                  <a:lnTo>
                    <a:pt x="256" y="46"/>
                  </a:lnTo>
                  <a:lnTo>
                    <a:pt x="241" y="46"/>
                  </a:lnTo>
                  <a:lnTo>
                    <a:pt x="234" y="47"/>
                  </a:lnTo>
                  <a:lnTo>
                    <a:pt x="228" y="50"/>
                  </a:lnTo>
                  <a:lnTo>
                    <a:pt x="221" y="55"/>
                  </a:lnTo>
                  <a:lnTo>
                    <a:pt x="214" y="62"/>
                  </a:lnTo>
                  <a:lnTo>
                    <a:pt x="206" y="68"/>
                  </a:lnTo>
                  <a:lnTo>
                    <a:pt x="268" y="155"/>
                  </a:lnTo>
                  <a:lnTo>
                    <a:pt x="265" y="162"/>
                  </a:lnTo>
                  <a:lnTo>
                    <a:pt x="256" y="166"/>
                  </a:lnTo>
                  <a:lnTo>
                    <a:pt x="246" y="170"/>
                  </a:lnTo>
                  <a:lnTo>
                    <a:pt x="237" y="174"/>
                  </a:lnTo>
                  <a:lnTo>
                    <a:pt x="228" y="178"/>
                  </a:lnTo>
                  <a:lnTo>
                    <a:pt x="217" y="182"/>
                  </a:lnTo>
                  <a:lnTo>
                    <a:pt x="207" y="185"/>
                  </a:lnTo>
                  <a:lnTo>
                    <a:pt x="197" y="188"/>
                  </a:lnTo>
                  <a:lnTo>
                    <a:pt x="186" y="189"/>
                  </a:lnTo>
                  <a:lnTo>
                    <a:pt x="181" y="186"/>
                  </a:lnTo>
                  <a:lnTo>
                    <a:pt x="175" y="183"/>
                  </a:lnTo>
                  <a:lnTo>
                    <a:pt x="170" y="179"/>
                  </a:lnTo>
                  <a:lnTo>
                    <a:pt x="165" y="175"/>
                  </a:lnTo>
                  <a:lnTo>
                    <a:pt x="154" y="166"/>
                  </a:lnTo>
                  <a:lnTo>
                    <a:pt x="144" y="157"/>
                  </a:lnTo>
                  <a:lnTo>
                    <a:pt x="134" y="147"/>
                  </a:lnTo>
                  <a:lnTo>
                    <a:pt x="123" y="141"/>
                  </a:lnTo>
                  <a:lnTo>
                    <a:pt x="116" y="138"/>
                  </a:lnTo>
                  <a:lnTo>
                    <a:pt x="111" y="135"/>
                  </a:lnTo>
                  <a:lnTo>
                    <a:pt x="104" y="134"/>
                  </a:lnTo>
                  <a:lnTo>
                    <a:pt x="96" y="135"/>
                  </a:lnTo>
                  <a:lnTo>
                    <a:pt x="86" y="125"/>
                  </a:lnTo>
                  <a:lnTo>
                    <a:pt x="73" y="117"/>
                  </a:lnTo>
                  <a:lnTo>
                    <a:pt x="60" y="110"/>
                  </a:lnTo>
                  <a:lnTo>
                    <a:pt x="47" y="105"/>
                  </a:lnTo>
                  <a:lnTo>
                    <a:pt x="33" y="98"/>
                  </a:lnTo>
                  <a:lnTo>
                    <a:pt x="21" y="91"/>
                  </a:lnTo>
                  <a:lnTo>
                    <a:pt x="11" y="83"/>
                  </a:lnTo>
                  <a:lnTo>
                    <a:pt x="0" y="74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3" y="56"/>
                  </a:lnTo>
                  <a:lnTo>
                    <a:pt x="72" y="54"/>
                  </a:lnTo>
                  <a:lnTo>
                    <a:pt x="90" y="50"/>
                  </a:lnTo>
                  <a:lnTo>
                    <a:pt x="108" y="46"/>
                  </a:lnTo>
                  <a:lnTo>
                    <a:pt x="126" y="39"/>
                  </a:lnTo>
                  <a:lnTo>
                    <a:pt x="143" y="32"/>
                  </a:lnTo>
                  <a:lnTo>
                    <a:pt x="150" y="34"/>
                  </a:lnTo>
                  <a:lnTo>
                    <a:pt x="158" y="34"/>
                  </a:lnTo>
                  <a:lnTo>
                    <a:pt x="165" y="34"/>
                  </a:lnTo>
                  <a:lnTo>
                    <a:pt x="171" y="32"/>
                  </a:lnTo>
                  <a:lnTo>
                    <a:pt x="185" y="28"/>
                  </a:lnTo>
                  <a:lnTo>
                    <a:pt x="198" y="24"/>
                  </a:lnTo>
                  <a:lnTo>
                    <a:pt x="211" y="19"/>
                  </a:lnTo>
                  <a:lnTo>
                    <a:pt x="225" y="15"/>
                  </a:lnTo>
                  <a:lnTo>
                    <a:pt x="232" y="13"/>
                  </a:lnTo>
                  <a:lnTo>
                    <a:pt x="240" y="13"/>
                  </a:lnTo>
                  <a:lnTo>
                    <a:pt x="248" y="13"/>
                  </a:lnTo>
                  <a:lnTo>
                    <a:pt x="256" y="15"/>
                  </a:lnTo>
                  <a:lnTo>
                    <a:pt x="269" y="12"/>
                  </a:lnTo>
                  <a:lnTo>
                    <a:pt x="282" y="11"/>
                  </a:lnTo>
                  <a:lnTo>
                    <a:pt x="296" y="9"/>
                  </a:lnTo>
                  <a:lnTo>
                    <a:pt x="311" y="7"/>
                  </a:lnTo>
                  <a:lnTo>
                    <a:pt x="324" y="5"/>
                  </a:lnTo>
                  <a:lnTo>
                    <a:pt x="337" y="3"/>
                  </a:lnTo>
                  <a:lnTo>
                    <a:pt x="351" y="1"/>
                  </a:lnTo>
                  <a:lnTo>
                    <a:pt x="364" y="0"/>
                  </a:lnTo>
                  <a:lnTo>
                    <a:pt x="370" y="1"/>
                  </a:lnTo>
                  <a:lnTo>
                    <a:pt x="374" y="3"/>
                  </a:lnTo>
                  <a:lnTo>
                    <a:pt x="379" y="5"/>
                  </a:lnTo>
                  <a:lnTo>
                    <a:pt x="384" y="8"/>
                  </a:lnTo>
                  <a:lnTo>
                    <a:pt x="387" y="12"/>
                  </a:lnTo>
                  <a:lnTo>
                    <a:pt x="390" y="15"/>
                  </a:lnTo>
                  <a:lnTo>
                    <a:pt x="390" y="20"/>
                  </a:lnTo>
                  <a:lnTo>
                    <a:pt x="388" y="26"/>
                  </a:lnTo>
                  <a:close/>
                </a:path>
              </a:pathLst>
            </a:custGeom>
            <a:solidFill>
              <a:srgbClr val="996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95440" y="5304240"/>
              <a:ext cx="49320" cy="89640"/>
            </a:xfrm>
            <a:custGeom>
              <a:avLst/>
              <a:gdLst/>
              <a:ahLst/>
              <a:rect l="l" t="t" r="r" b="b"/>
              <a:pathLst>
                <a:path w="108" h="203">
                  <a:moveTo>
                    <a:pt x="96" y="32"/>
                  </a:moveTo>
                  <a:lnTo>
                    <a:pt x="101" y="53"/>
                  </a:lnTo>
                  <a:lnTo>
                    <a:pt x="105" y="76"/>
                  </a:lnTo>
                  <a:lnTo>
                    <a:pt x="108" y="101"/>
                  </a:lnTo>
                  <a:lnTo>
                    <a:pt x="108" y="125"/>
                  </a:lnTo>
                  <a:lnTo>
                    <a:pt x="108" y="137"/>
                  </a:lnTo>
                  <a:lnTo>
                    <a:pt x="105" y="148"/>
                  </a:lnTo>
                  <a:lnTo>
                    <a:pt x="102" y="159"/>
                  </a:lnTo>
                  <a:lnTo>
                    <a:pt x="100" y="170"/>
                  </a:lnTo>
                  <a:lnTo>
                    <a:pt x="94" y="179"/>
                  </a:lnTo>
                  <a:lnTo>
                    <a:pt x="88" y="188"/>
                  </a:lnTo>
                  <a:lnTo>
                    <a:pt x="79" y="196"/>
                  </a:lnTo>
                  <a:lnTo>
                    <a:pt x="70" y="203"/>
                  </a:lnTo>
                  <a:lnTo>
                    <a:pt x="63" y="203"/>
                  </a:lnTo>
                  <a:lnTo>
                    <a:pt x="57" y="202"/>
                  </a:lnTo>
                  <a:lnTo>
                    <a:pt x="50" y="200"/>
                  </a:lnTo>
                  <a:lnTo>
                    <a:pt x="45" y="198"/>
                  </a:lnTo>
                  <a:lnTo>
                    <a:pt x="38" y="195"/>
                  </a:lnTo>
                  <a:lnTo>
                    <a:pt x="33" y="192"/>
                  </a:lnTo>
                  <a:lnTo>
                    <a:pt x="26" y="190"/>
                  </a:lnTo>
                  <a:lnTo>
                    <a:pt x="19" y="188"/>
                  </a:lnTo>
                  <a:lnTo>
                    <a:pt x="19" y="186"/>
                  </a:lnTo>
                  <a:lnTo>
                    <a:pt x="19" y="184"/>
                  </a:lnTo>
                  <a:lnTo>
                    <a:pt x="21" y="182"/>
                  </a:lnTo>
                  <a:lnTo>
                    <a:pt x="22" y="182"/>
                  </a:lnTo>
                  <a:lnTo>
                    <a:pt x="25" y="180"/>
                  </a:lnTo>
                  <a:lnTo>
                    <a:pt x="26" y="179"/>
                  </a:lnTo>
                  <a:lnTo>
                    <a:pt x="29" y="179"/>
                  </a:lnTo>
                  <a:lnTo>
                    <a:pt x="30" y="178"/>
                  </a:lnTo>
                  <a:lnTo>
                    <a:pt x="34" y="179"/>
                  </a:lnTo>
                  <a:lnTo>
                    <a:pt x="38" y="180"/>
                  </a:lnTo>
                  <a:lnTo>
                    <a:pt x="42" y="184"/>
                  </a:lnTo>
                  <a:lnTo>
                    <a:pt x="47" y="187"/>
                  </a:lnTo>
                  <a:lnTo>
                    <a:pt x="51" y="190"/>
                  </a:lnTo>
                  <a:lnTo>
                    <a:pt x="55" y="191"/>
                  </a:lnTo>
                  <a:lnTo>
                    <a:pt x="61" y="190"/>
                  </a:lnTo>
                  <a:lnTo>
                    <a:pt x="65" y="186"/>
                  </a:lnTo>
                  <a:lnTo>
                    <a:pt x="74" y="171"/>
                  </a:lnTo>
                  <a:lnTo>
                    <a:pt x="79" y="156"/>
                  </a:lnTo>
                  <a:lnTo>
                    <a:pt x="84" y="140"/>
                  </a:lnTo>
                  <a:lnTo>
                    <a:pt x="86" y="123"/>
                  </a:lnTo>
                  <a:lnTo>
                    <a:pt x="86" y="107"/>
                  </a:lnTo>
                  <a:lnTo>
                    <a:pt x="85" y="91"/>
                  </a:lnTo>
                  <a:lnTo>
                    <a:pt x="84" y="73"/>
                  </a:lnTo>
                  <a:lnTo>
                    <a:pt x="81" y="58"/>
                  </a:lnTo>
                  <a:lnTo>
                    <a:pt x="79" y="52"/>
                  </a:lnTo>
                  <a:lnTo>
                    <a:pt x="77" y="46"/>
                  </a:lnTo>
                  <a:lnTo>
                    <a:pt x="75" y="41"/>
                  </a:lnTo>
                  <a:lnTo>
                    <a:pt x="73" y="34"/>
                  </a:lnTo>
                  <a:lnTo>
                    <a:pt x="70" y="29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8" y="17"/>
                  </a:lnTo>
                  <a:lnTo>
                    <a:pt x="51" y="20"/>
                  </a:lnTo>
                  <a:lnTo>
                    <a:pt x="45" y="24"/>
                  </a:lnTo>
                  <a:lnTo>
                    <a:pt x="41" y="29"/>
                  </a:lnTo>
                  <a:lnTo>
                    <a:pt x="38" y="36"/>
                  </a:lnTo>
                  <a:lnTo>
                    <a:pt x="34" y="41"/>
                  </a:lnTo>
                  <a:lnTo>
                    <a:pt x="31" y="48"/>
                  </a:lnTo>
                  <a:lnTo>
                    <a:pt x="29" y="54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6" y="62"/>
                  </a:lnTo>
                  <a:lnTo>
                    <a:pt x="26" y="65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27" y="69"/>
                  </a:lnTo>
                  <a:lnTo>
                    <a:pt x="27" y="70"/>
                  </a:lnTo>
                  <a:lnTo>
                    <a:pt x="27" y="73"/>
                  </a:lnTo>
                  <a:lnTo>
                    <a:pt x="25" y="74"/>
                  </a:lnTo>
                  <a:lnTo>
                    <a:pt x="23" y="76"/>
                  </a:lnTo>
                  <a:lnTo>
                    <a:pt x="21" y="77"/>
                  </a:lnTo>
                  <a:lnTo>
                    <a:pt x="18" y="77"/>
                  </a:lnTo>
                  <a:lnTo>
                    <a:pt x="15" y="77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7" y="79"/>
                  </a:lnTo>
                  <a:lnTo>
                    <a:pt x="4" y="73"/>
                  </a:lnTo>
                  <a:lnTo>
                    <a:pt x="2" y="69"/>
                  </a:lnTo>
                  <a:lnTo>
                    <a:pt x="2" y="65"/>
                  </a:lnTo>
                  <a:lnTo>
                    <a:pt x="0" y="60"/>
                  </a:lnTo>
                  <a:lnTo>
                    <a:pt x="2" y="52"/>
                  </a:lnTo>
                  <a:lnTo>
                    <a:pt x="6" y="42"/>
                  </a:lnTo>
                  <a:lnTo>
                    <a:pt x="10" y="33"/>
                  </a:lnTo>
                  <a:lnTo>
                    <a:pt x="15" y="25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4" y="8"/>
                  </a:lnTo>
                  <a:lnTo>
                    <a:pt x="84" y="14"/>
                  </a:lnTo>
                  <a:lnTo>
                    <a:pt x="90" y="22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55320" y="5310720"/>
              <a:ext cx="127440" cy="153000"/>
            </a:xfrm>
            <a:custGeom>
              <a:avLst/>
              <a:gdLst/>
              <a:ahLst/>
              <a:rect l="l" t="t" r="r" b="b"/>
              <a:pathLst>
                <a:path w="279" h="348">
                  <a:moveTo>
                    <a:pt x="158" y="67"/>
                  </a:moveTo>
                  <a:lnTo>
                    <a:pt x="162" y="74"/>
                  </a:lnTo>
                  <a:lnTo>
                    <a:pt x="166" y="81"/>
                  </a:lnTo>
                  <a:lnTo>
                    <a:pt x="171" y="87"/>
                  </a:lnTo>
                  <a:lnTo>
                    <a:pt x="178" y="93"/>
                  </a:lnTo>
                  <a:lnTo>
                    <a:pt x="190" y="102"/>
                  </a:lnTo>
                  <a:lnTo>
                    <a:pt x="204" y="110"/>
                  </a:lnTo>
                  <a:lnTo>
                    <a:pt x="218" y="117"/>
                  </a:lnTo>
                  <a:lnTo>
                    <a:pt x="234" y="121"/>
                  </a:lnTo>
                  <a:lnTo>
                    <a:pt x="250" y="122"/>
                  </a:lnTo>
                  <a:lnTo>
                    <a:pt x="268" y="122"/>
                  </a:lnTo>
                  <a:lnTo>
                    <a:pt x="267" y="137"/>
                  </a:lnTo>
                  <a:lnTo>
                    <a:pt x="264" y="153"/>
                  </a:lnTo>
                  <a:lnTo>
                    <a:pt x="263" y="168"/>
                  </a:lnTo>
                  <a:lnTo>
                    <a:pt x="261" y="184"/>
                  </a:lnTo>
                  <a:lnTo>
                    <a:pt x="261" y="200"/>
                  </a:lnTo>
                  <a:lnTo>
                    <a:pt x="264" y="216"/>
                  </a:lnTo>
                  <a:lnTo>
                    <a:pt x="265" y="224"/>
                  </a:lnTo>
                  <a:lnTo>
                    <a:pt x="268" y="232"/>
                  </a:lnTo>
                  <a:lnTo>
                    <a:pt x="271" y="239"/>
                  </a:lnTo>
                  <a:lnTo>
                    <a:pt x="275" y="245"/>
                  </a:lnTo>
                  <a:lnTo>
                    <a:pt x="277" y="252"/>
                  </a:lnTo>
                  <a:lnTo>
                    <a:pt x="279" y="257"/>
                  </a:lnTo>
                  <a:lnTo>
                    <a:pt x="279" y="261"/>
                  </a:lnTo>
                  <a:lnTo>
                    <a:pt x="277" y="265"/>
                  </a:lnTo>
                  <a:lnTo>
                    <a:pt x="276" y="268"/>
                  </a:lnTo>
                  <a:lnTo>
                    <a:pt x="273" y="269"/>
                  </a:lnTo>
                  <a:lnTo>
                    <a:pt x="269" y="271"/>
                  </a:lnTo>
                  <a:lnTo>
                    <a:pt x="265" y="272"/>
                  </a:lnTo>
                  <a:lnTo>
                    <a:pt x="256" y="272"/>
                  </a:lnTo>
                  <a:lnTo>
                    <a:pt x="246" y="272"/>
                  </a:lnTo>
                  <a:lnTo>
                    <a:pt x="238" y="273"/>
                  </a:lnTo>
                  <a:lnTo>
                    <a:pt x="232" y="276"/>
                  </a:lnTo>
                  <a:lnTo>
                    <a:pt x="221" y="285"/>
                  </a:lnTo>
                  <a:lnTo>
                    <a:pt x="209" y="293"/>
                  </a:lnTo>
                  <a:lnTo>
                    <a:pt x="198" y="301"/>
                  </a:lnTo>
                  <a:lnTo>
                    <a:pt x="186" y="308"/>
                  </a:lnTo>
                  <a:lnTo>
                    <a:pt x="175" y="316"/>
                  </a:lnTo>
                  <a:lnTo>
                    <a:pt x="166" y="326"/>
                  </a:lnTo>
                  <a:lnTo>
                    <a:pt x="157" y="336"/>
                  </a:lnTo>
                  <a:lnTo>
                    <a:pt x="147" y="347"/>
                  </a:lnTo>
                  <a:lnTo>
                    <a:pt x="143" y="344"/>
                  </a:lnTo>
                  <a:lnTo>
                    <a:pt x="139" y="342"/>
                  </a:lnTo>
                  <a:lnTo>
                    <a:pt x="135" y="340"/>
                  </a:lnTo>
                  <a:lnTo>
                    <a:pt x="131" y="340"/>
                  </a:lnTo>
                  <a:lnTo>
                    <a:pt x="123" y="340"/>
                  </a:lnTo>
                  <a:lnTo>
                    <a:pt x="114" y="343"/>
                  </a:lnTo>
                  <a:lnTo>
                    <a:pt x="106" y="346"/>
                  </a:lnTo>
                  <a:lnTo>
                    <a:pt x="96" y="347"/>
                  </a:lnTo>
                  <a:lnTo>
                    <a:pt x="88" y="348"/>
                  </a:lnTo>
                  <a:lnTo>
                    <a:pt x="78" y="347"/>
                  </a:lnTo>
                  <a:lnTo>
                    <a:pt x="67" y="347"/>
                  </a:lnTo>
                  <a:lnTo>
                    <a:pt x="56" y="346"/>
                  </a:lnTo>
                  <a:lnTo>
                    <a:pt x="45" y="344"/>
                  </a:lnTo>
                  <a:lnTo>
                    <a:pt x="35" y="343"/>
                  </a:lnTo>
                  <a:lnTo>
                    <a:pt x="24" y="340"/>
                  </a:lnTo>
                  <a:lnTo>
                    <a:pt x="15" y="335"/>
                  </a:lnTo>
                  <a:lnTo>
                    <a:pt x="7" y="330"/>
                  </a:lnTo>
                  <a:lnTo>
                    <a:pt x="0" y="322"/>
                  </a:lnTo>
                  <a:lnTo>
                    <a:pt x="4" y="314"/>
                  </a:lnTo>
                  <a:lnTo>
                    <a:pt x="9" y="307"/>
                  </a:lnTo>
                  <a:lnTo>
                    <a:pt x="13" y="300"/>
                  </a:lnTo>
                  <a:lnTo>
                    <a:pt x="19" y="295"/>
                  </a:lnTo>
                  <a:lnTo>
                    <a:pt x="24" y="289"/>
                  </a:lnTo>
                  <a:lnTo>
                    <a:pt x="29" y="285"/>
                  </a:lnTo>
                  <a:lnTo>
                    <a:pt x="36" y="280"/>
                  </a:lnTo>
                  <a:lnTo>
                    <a:pt x="45" y="276"/>
                  </a:lnTo>
                  <a:lnTo>
                    <a:pt x="47" y="272"/>
                  </a:lnTo>
                  <a:lnTo>
                    <a:pt x="49" y="269"/>
                  </a:lnTo>
                  <a:lnTo>
                    <a:pt x="55" y="268"/>
                  </a:lnTo>
                  <a:lnTo>
                    <a:pt x="59" y="267"/>
                  </a:lnTo>
                  <a:lnTo>
                    <a:pt x="64" y="265"/>
                  </a:lnTo>
                  <a:lnTo>
                    <a:pt x="68" y="264"/>
                  </a:lnTo>
                  <a:lnTo>
                    <a:pt x="72" y="261"/>
                  </a:lnTo>
                  <a:lnTo>
                    <a:pt x="76" y="256"/>
                  </a:lnTo>
                  <a:lnTo>
                    <a:pt x="75" y="253"/>
                  </a:lnTo>
                  <a:lnTo>
                    <a:pt x="75" y="251"/>
                  </a:lnTo>
                  <a:lnTo>
                    <a:pt x="76" y="249"/>
                  </a:lnTo>
                  <a:lnTo>
                    <a:pt x="78" y="247"/>
                  </a:lnTo>
                  <a:lnTo>
                    <a:pt x="79" y="245"/>
                  </a:lnTo>
                  <a:lnTo>
                    <a:pt x="80" y="244"/>
                  </a:lnTo>
                  <a:lnTo>
                    <a:pt x="82" y="243"/>
                  </a:lnTo>
                  <a:lnTo>
                    <a:pt x="84" y="240"/>
                  </a:lnTo>
                  <a:lnTo>
                    <a:pt x="83" y="228"/>
                  </a:lnTo>
                  <a:lnTo>
                    <a:pt x="82" y="216"/>
                  </a:lnTo>
                  <a:lnTo>
                    <a:pt x="82" y="204"/>
                  </a:lnTo>
                  <a:lnTo>
                    <a:pt x="80" y="190"/>
                  </a:lnTo>
                  <a:lnTo>
                    <a:pt x="79" y="178"/>
                  </a:lnTo>
                  <a:lnTo>
                    <a:pt x="78" y="166"/>
                  </a:lnTo>
                  <a:lnTo>
                    <a:pt x="76" y="154"/>
                  </a:lnTo>
                  <a:lnTo>
                    <a:pt x="74" y="143"/>
                  </a:lnTo>
                  <a:lnTo>
                    <a:pt x="76" y="139"/>
                  </a:lnTo>
                  <a:lnTo>
                    <a:pt x="78" y="135"/>
                  </a:lnTo>
                  <a:lnTo>
                    <a:pt x="79" y="133"/>
                  </a:lnTo>
                  <a:lnTo>
                    <a:pt x="79" y="130"/>
                  </a:lnTo>
                  <a:lnTo>
                    <a:pt x="75" y="125"/>
                  </a:lnTo>
                  <a:lnTo>
                    <a:pt x="70" y="119"/>
                  </a:lnTo>
                  <a:lnTo>
                    <a:pt x="63" y="114"/>
                  </a:lnTo>
                  <a:lnTo>
                    <a:pt x="56" y="109"/>
                  </a:lnTo>
                  <a:lnTo>
                    <a:pt x="52" y="105"/>
                  </a:lnTo>
                  <a:lnTo>
                    <a:pt x="51" y="102"/>
                  </a:lnTo>
                  <a:lnTo>
                    <a:pt x="48" y="98"/>
                  </a:lnTo>
                  <a:lnTo>
                    <a:pt x="48" y="95"/>
                  </a:lnTo>
                  <a:lnTo>
                    <a:pt x="44" y="86"/>
                  </a:lnTo>
                  <a:lnTo>
                    <a:pt x="39" y="78"/>
                  </a:lnTo>
                  <a:lnTo>
                    <a:pt x="33" y="69"/>
                  </a:lnTo>
                  <a:lnTo>
                    <a:pt x="27" y="60"/>
                  </a:lnTo>
                  <a:lnTo>
                    <a:pt x="20" y="52"/>
                  </a:lnTo>
                  <a:lnTo>
                    <a:pt x="13" y="44"/>
                  </a:lnTo>
                  <a:lnTo>
                    <a:pt x="8" y="36"/>
                  </a:lnTo>
                  <a:lnTo>
                    <a:pt x="1" y="28"/>
                  </a:lnTo>
                  <a:lnTo>
                    <a:pt x="8" y="27"/>
                  </a:lnTo>
                  <a:lnTo>
                    <a:pt x="15" y="26"/>
                  </a:lnTo>
                  <a:lnTo>
                    <a:pt x="20" y="27"/>
                  </a:lnTo>
                  <a:lnTo>
                    <a:pt x="25" y="28"/>
                  </a:lnTo>
                  <a:lnTo>
                    <a:pt x="35" y="32"/>
                  </a:lnTo>
                  <a:lnTo>
                    <a:pt x="44" y="40"/>
                  </a:lnTo>
                  <a:lnTo>
                    <a:pt x="52" y="48"/>
                  </a:lnTo>
                  <a:lnTo>
                    <a:pt x="60" y="58"/>
                  </a:lnTo>
                  <a:lnTo>
                    <a:pt x="68" y="69"/>
                  </a:lnTo>
                  <a:lnTo>
                    <a:pt x="76" y="77"/>
                  </a:lnTo>
                  <a:lnTo>
                    <a:pt x="82" y="87"/>
                  </a:lnTo>
                  <a:lnTo>
                    <a:pt x="87" y="97"/>
                  </a:lnTo>
                  <a:lnTo>
                    <a:pt x="92" y="107"/>
                  </a:lnTo>
                  <a:lnTo>
                    <a:pt x="98" y="118"/>
                  </a:lnTo>
                  <a:lnTo>
                    <a:pt x="106" y="126"/>
                  </a:lnTo>
                  <a:lnTo>
                    <a:pt x="114" y="134"/>
                  </a:lnTo>
                  <a:lnTo>
                    <a:pt x="118" y="137"/>
                  </a:lnTo>
                  <a:lnTo>
                    <a:pt x="123" y="138"/>
                  </a:lnTo>
                  <a:lnTo>
                    <a:pt x="129" y="139"/>
                  </a:lnTo>
                  <a:lnTo>
                    <a:pt x="134" y="141"/>
                  </a:lnTo>
                  <a:lnTo>
                    <a:pt x="137" y="137"/>
                  </a:lnTo>
                  <a:lnTo>
                    <a:pt x="138" y="134"/>
                  </a:lnTo>
                  <a:lnTo>
                    <a:pt x="137" y="130"/>
                  </a:lnTo>
                  <a:lnTo>
                    <a:pt x="135" y="127"/>
                  </a:lnTo>
                  <a:lnTo>
                    <a:pt x="134" y="125"/>
                  </a:lnTo>
                  <a:lnTo>
                    <a:pt x="131" y="122"/>
                  </a:lnTo>
                  <a:lnTo>
                    <a:pt x="130" y="118"/>
                  </a:lnTo>
                  <a:lnTo>
                    <a:pt x="130" y="115"/>
                  </a:lnTo>
                  <a:lnTo>
                    <a:pt x="123" y="105"/>
                  </a:lnTo>
                  <a:lnTo>
                    <a:pt x="116" y="93"/>
                  </a:lnTo>
                  <a:lnTo>
                    <a:pt x="110" y="82"/>
                  </a:lnTo>
                  <a:lnTo>
                    <a:pt x="103" y="70"/>
                  </a:lnTo>
                  <a:lnTo>
                    <a:pt x="95" y="59"/>
                  </a:lnTo>
                  <a:lnTo>
                    <a:pt x="87" y="48"/>
                  </a:lnTo>
                  <a:lnTo>
                    <a:pt x="78" y="38"/>
                  </a:lnTo>
                  <a:lnTo>
                    <a:pt x="68" y="28"/>
                  </a:lnTo>
                  <a:lnTo>
                    <a:pt x="71" y="23"/>
                  </a:lnTo>
                  <a:lnTo>
                    <a:pt x="74" y="19"/>
                  </a:lnTo>
                  <a:lnTo>
                    <a:pt x="76" y="15"/>
                  </a:lnTo>
                  <a:lnTo>
                    <a:pt x="80" y="11"/>
                  </a:lnTo>
                  <a:lnTo>
                    <a:pt x="84" y="8"/>
                  </a:lnTo>
                  <a:lnTo>
                    <a:pt x="90" y="6"/>
                  </a:lnTo>
                  <a:lnTo>
                    <a:pt x="94" y="3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10" y="3"/>
                  </a:lnTo>
                  <a:lnTo>
                    <a:pt x="115" y="4"/>
                  </a:lnTo>
                  <a:lnTo>
                    <a:pt x="120" y="7"/>
                  </a:lnTo>
                  <a:lnTo>
                    <a:pt x="129" y="15"/>
                  </a:lnTo>
                  <a:lnTo>
                    <a:pt x="137" y="24"/>
                  </a:lnTo>
                  <a:lnTo>
                    <a:pt x="142" y="35"/>
                  </a:lnTo>
                  <a:lnTo>
                    <a:pt x="149" y="46"/>
                  </a:lnTo>
                  <a:lnTo>
                    <a:pt x="153" y="56"/>
                  </a:lnTo>
                  <a:lnTo>
                    <a:pt x="158" y="67"/>
                  </a:lnTo>
                  <a:close/>
                </a:path>
              </a:pathLst>
            </a:custGeom>
            <a:solidFill>
              <a:srgbClr val="c99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13840" y="5326560"/>
              <a:ext cx="112320" cy="122400"/>
            </a:xfrm>
            <a:custGeom>
              <a:avLst/>
              <a:gdLst/>
              <a:ahLst/>
              <a:rect l="l" t="t" r="r" b="b"/>
              <a:pathLst>
                <a:path w="245" h="278">
                  <a:moveTo>
                    <a:pt x="146" y="77"/>
                  </a:moveTo>
                  <a:lnTo>
                    <a:pt x="154" y="77"/>
                  </a:lnTo>
                  <a:lnTo>
                    <a:pt x="161" y="77"/>
                  </a:lnTo>
                  <a:lnTo>
                    <a:pt x="168" y="79"/>
                  </a:lnTo>
                  <a:lnTo>
                    <a:pt x="174" y="82"/>
                  </a:lnTo>
                  <a:lnTo>
                    <a:pt x="186" y="90"/>
                  </a:lnTo>
                  <a:lnTo>
                    <a:pt x="197" y="99"/>
                  </a:lnTo>
                  <a:lnTo>
                    <a:pt x="208" y="109"/>
                  </a:lnTo>
                  <a:lnTo>
                    <a:pt x="220" y="118"/>
                  </a:lnTo>
                  <a:lnTo>
                    <a:pt x="225" y="124"/>
                  </a:lnTo>
                  <a:lnTo>
                    <a:pt x="232" y="128"/>
                  </a:lnTo>
                  <a:lnTo>
                    <a:pt x="239" y="130"/>
                  </a:lnTo>
                  <a:lnTo>
                    <a:pt x="245" y="133"/>
                  </a:lnTo>
                  <a:lnTo>
                    <a:pt x="243" y="150"/>
                  </a:lnTo>
                  <a:lnTo>
                    <a:pt x="241" y="169"/>
                  </a:lnTo>
                  <a:lnTo>
                    <a:pt x="239" y="186"/>
                  </a:lnTo>
                  <a:lnTo>
                    <a:pt x="237" y="204"/>
                  </a:lnTo>
                  <a:lnTo>
                    <a:pt x="235" y="221"/>
                  </a:lnTo>
                  <a:lnTo>
                    <a:pt x="233" y="240"/>
                  </a:lnTo>
                  <a:lnTo>
                    <a:pt x="233" y="259"/>
                  </a:lnTo>
                  <a:lnTo>
                    <a:pt x="232" y="278"/>
                  </a:lnTo>
                  <a:lnTo>
                    <a:pt x="224" y="278"/>
                  </a:lnTo>
                  <a:lnTo>
                    <a:pt x="216" y="275"/>
                  </a:lnTo>
                  <a:lnTo>
                    <a:pt x="208" y="272"/>
                  </a:lnTo>
                  <a:lnTo>
                    <a:pt x="202" y="268"/>
                  </a:lnTo>
                  <a:lnTo>
                    <a:pt x="190" y="256"/>
                  </a:lnTo>
                  <a:lnTo>
                    <a:pt x="180" y="244"/>
                  </a:lnTo>
                  <a:lnTo>
                    <a:pt x="169" y="231"/>
                  </a:lnTo>
                  <a:lnTo>
                    <a:pt x="158" y="220"/>
                  </a:lnTo>
                  <a:lnTo>
                    <a:pt x="151" y="216"/>
                  </a:lnTo>
                  <a:lnTo>
                    <a:pt x="145" y="212"/>
                  </a:lnTo>
                  <a:lnTo>
                    <a:pt x="137" y="211"/>
                  </a:lnTo>
                  <a:lnTo>
                    <a:pt x="127" y="209"/>
                  </a:lnTo>
                  <a:lnTo>
                    <a:pt x="113" y="199"/>
                  </a:lnTo>
                  <a:lnTo>
                    <a:pt x="97" y="188"/>
                  </a:lnTo>
                  <a:lnTo>
                    <a:pt x="80" y="178"/>
                  </a:lnTo>
                  <a:lnTo>
                    <a:pt x="63" y="169"/>
                  </a:lnTo>
                  <a:lnTo>
                    <a:pt x="47" y="160"/>
                  </a:lnTo>
                  <a:lnTo>
                    <a:pt x="31" y="150"/>
                  </a:lnTo>
                  <a:lnTo>
                    <a:pt x="15" y="140"/>
                  </a:lnTo>
                  <a:lnTo>
                    <a:pt x="0" y="128"/>
                  </a:lnTo>
                  <a:lnTo>
                    <a:pt x="4" y="114"/>
                  </a:lnTo>
                  <a:lnTo>
                    <a:pt x="7" y="101"/>
                  </a:lnTo>
                  <a:lnTo>
                    <a:pt x="9" y="86"/>
                  </a:lnTo>
                  <a:lnTo>
                    <a:pt x="12" y="71"/>
                  </a:lnTo>
                  <a:lnTo>
                    <a:pt x="12" y="55"/>
                  </a:lnTo>
                  <a:lnTo>
                    <a:pt x="12" y="41"/>
                  </a:lnTo>
                  <a:lnTo>
                    <a:pt x="9" y="27"/>
                  </a:lnTo>
                  <a:lnTo>
                    <a:pt x="4" y="12"/>
                  </a:lnTo>
                  <a:lnTo>
                    <a:pt x="4" y="0"/>
                  </a:lnTo>
                  <a:lnTo>
                    <a:pt x="23" y="7"/>
                  </a:lnTo>
                  <a:lnTo>
                    <a:pt x="40" y="15"/>
                  </a:lnTo>
                  <a:lnTo>
                    <a:pt x="59" y="23"/>
                  </a:lnTo>
                  <a:lnTo>
                    <a:pt x="76" y="33"/>
                  </a:lnTo>
                  <a:lnTo>
                    <a:pt x="95" y="43"/>
                  </a:lnTo>
                  <a:lnTo>
                    <a:pt x="113" y="53"/>
                  </a:lnTo>
                  <a:lnTo>
                    <a:pt x="129" y="65"/>
                  </a:lnTo>
                  <a:lnTo>
                    <a:pt x="146" y="7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11640" y="5334480"/>
              <a:ext cx="12240" cy="3276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26" y="1"/>
                  </a:moveTo>
                  <a:lnTo>
                    <a:pt x="27" y="11"/>
                  </a:lnTo>
                  <a:lnTo>
                    <a:pt x="26" y="19"/>
                  </a:lnTo>
                  <a:lnTo>
                    <a:pt x="23" y="28"/>
                  </a:lnTo>
                  <a:lnTo>
                    <a:pt x="20" y="38"/>
                  </a:lnTo>
                  <a:lnTo>
                    <a:pt x="19" y="47"/>
                  </a:lnTo>
                  <a:lnTo>
                    <a:pt x="18" y="55"/>
                  </a:lnTo>
                  <a:lnTo>
                    <a:pt x="19" y="60"/>
                  </a:lnTo>
                  <a:lnTo>
                    <a:pt x="20" y="64"/>
                  </a:lnTo>
                  <a:lnTo>
                    <a:pt x="22" y="68"/>
                  </a:lnTo>
                  <a:lnTo>
                    <a:pt x="26" y="74"/>
                  </a:lnTo>
                  <a:lnTo>
                    <a:pt x="20" y="72"/>
                  </a:lnTo>
                  <a:lnTo>
                    <a:pt x="15" y="71"/>
                  </a:lnTo>
                  <a:lnTo>
                    <a:pt x="11" y="70"/>
                  </a:lnTo>
                  <a:lnTo>
                    <a:pt x="7" y="67"/>
                  </a:lnTo>
                  <a:lnTo>
                    <a:pt x="3" y="64"/>
                  </a:lnTo>
                  <a:lnTo>
                    <a:pt x="2" y="60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2" y="47"/>
                  </a:lnTo>
                  <a:lnTo>
                    <a:pt x="3" y="43"/>
                  </a:lnTo>
                  <a:lnTo>
                    <a:pt x="4" y="39"/>
                  </a:lnTo>
                  <a:lnTo>
                    <a:pt x="4" y="35"/>
                  </a:lnTo>
                  <a:lnTo>
                    <a:pt x="4" y="2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6" y="8"/>
                  </a:lnTo>
                  <a:lnTo>
                    <a:pt x="7" y="4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33360" y="5371560"/>
              <a:ext cx="47880" cy="75240"/>
            </a:xfrm>
            <a:custGeom>
              <a:avLst/>
              <a:gdLst/>
              <a:ahLst/>
              <a:rect l="l" t="t" r="r" b="b"/>
              <a:pathLst>
                <a:path w="105" h="172">
                  <a:moveTo>
                    <a:pt x="101" y="36"/>
                  </a:moveTo>
                  <a:lnTo>
                    <a:pt x="100" y="48"/>
                  </a:lnTo>
                  <a:lnTo>
                    <a:pt x="101" y="60"/>
                  </a:lnTo>
                  <a:lnTo>
                    <a:pt x="102" y="72"/>
                  </a:lnTo>
                  <a:lnTo>
                    <a:pt x="105" y="84"/>
                  </a:lnTo>
                  <a:lnTo>
                    <a:pt x="105" y="91"/>
                  </a:lnTo>
                  <a:lnTo>
                    <a:pt x="105" y="97"/>
                  </a:lnTo>
                  <a:lnTo>
                    <a:pt x="104" y="102"/>
                  </a:lnTo>
                  <a:lnTo>
                    <a:pt x="102" y="107"/>
                  </a:lnTo>
                  <a:lnTo>
                    <a:pt x="98" y="111"/>
                  </a:lnTo>
                  <a:lnTo>
                    <a:pt x="94" y="115"/>
                  </a:lnTo>
                  <a:lnTo>
                    <a:pt x="89" y="119"/>
                  </a:lnTo>
                  <a:lnTo>
                    <a:pt x="81" y="122"/>
                  </a:lnTo>
                  <a:lnTo>
                    <a:pt x="71" y="129"/>
                  </a:lnTo>
                  <a:lnTo>
                    <a:pt x="62" y="135"/>
                  </a:lnTo>
                  <a:lnTo>
                    <a:pt x="53" y="143"/>
                  </a:lnTo>
                  <a:lnTo>
                    <a:pt x="43" y="150"/>
                  </a:lnTo>
                  <a:lnTo>
                    <a:pt x="34" y="157"/>
                  </a:lnTo>
                  <a:lnTo>
                    <a:pt x="23" y="162"/>
                  </a:lnTo>
                  <a:lnTo>
                    <a:pt x="12" y="168"/>
                  </a:lnTo>
                  <a:lnTo>
                    <a:pt x="2" y="172"/>
                  </a:lnTo>
                  <a:lnTo>
                    <a:pt x="0" y="154"/>
                  </a:lnTo>
                  <a:lnTo>
                    <a:pt x="2" y="135"/>
                  </a:lnTo>
                  <a:lnTo>
                    <a:pt x="3" y="118"/>
                  </a:lnTo>
                  <a:lnTo>
                    <a:pt x="4" y="99"/>
                  </a:lnTo>
                  <a:lnTo>
                    <a:pt x="8" y="80"/>
                  </a:lnTo>
                  <a:lnTo>
                    <a:pt x="12" y="63"/>
                  </a:lnTo>
                  <a:lnTo>
                    <a:pt x="16" y="47"/>
                  </a:lnTo>
                  <a:lnTo>
                    <a:pt x="22" y="31"/>
                  </a:lnTo>
                  <a:lnTo>
                    <a:pt x="31" y="27"/>
                  </a:lnTo>
                  <a:lnTo>
                    <a:pt x="45" y="19"/>
                  </a:lnTo>
                  <a:lnTo>
                    <a:pt x="59" y="10"/>
                  </a:lnTo>
                  <a:lnTo>
                    <a:pt x="73" y="3"/>
                  </a:lnTo>
                  <a:lnTo>
                    <a:pt x="79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3"/>
                  </a:lnTo>
                  <a:lnTo>
                    <a:pt x="100" y="7"/>
                  </a:lnTo>
                  <a:lnTo>
                    <a:pt x="102" y="14"/>
                  </a:lnTo>
                  <a:lnTo>
                    <a:pt x="102" y="23"/>
                  </a:lnTo>
                  <a:lnTo>
                    <a:pt x="101" y="36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07680" y="5429520"/>
              <a:ext cx="681840" cy="267480"/>
            </a:xfrm>
            <a:custGeom>
              <a:avLst/>
              <a:gdLst/>
              <a:ahLst/>
              <a:rect l="l" t="t" r="r" b="b"/>
              <a:pathLst>
                <a:path w="1490" h="608">
                  <a:moveTo>
                    <a:pt x="1163" y="0"/>
                  </a:moveTo>
                  <a:lnTo>
                    <a:pt x="1163" y="1"/>
                  </a:lnTo>
                  <a:lnTo>
                    <a:pt x="1165" y="2"/>
                  </a:lnTo>
                  <a:lnTo>
                    <a:pt x="1166" y="2"/>
                  </a:lnTo>
                  <a:lnTo>
                    <a:pt x="1166" y="4"/>
                  </a:lnTo>
                  <a:lnTo>
                    <a:pt x="1167" y="5"/>
                  </a:lnTo>
                  <a:lnTo>
                    <a:pt x="1167" y="5"/>
                  </a:lnTo>
                  <a:lnTo>
                    <a:pt x="1169" y="5"/>
                  </a:lnTo>
                  <a:lnTo>
                    <a:pt x="1170" y="5"/>
                  </a:lnTo>
                  <a:lnTo>
                    <a:pt x="1166" y="10"/>
                  </a:lnTo>
                  <a:lnTo>
                    <a:pt x="1162" y="13"/>
                  </a:lnTo>
                  <a:lnTo>
                    <a:pt x="1157" y="16"/>
                  </a:lnTo>
                  <a:lnTo>
                    <a:pt x="1151" y="17"/>
                  </a:lnTo>
                  <a:lnTo>
                    <a:pt x="1146" y="17"/>
                  </a:lnTo>
                  <a:lnTo>
                    <a:pt x="1139" y="17"/>
                  </a:lnTo>
                  <a:lnTo>
                    <a:pt x="1131" y="17"/>
                  </a:lnTo>
                  <a:lnTo>
                    <a:pt x="1125" y="18"/>
                  </a:lnTo>
                  <a:lnTo>
                    <a:pt x="1122" y="26"/>
                  </a:lnTo>
                  <a:lnTo>
                    <a:pt x="1119" y="35"/>
                  </a:lnTo>
                  <a:lnTo>
                    <a:pt x="1118" y="44"/>
                  </a:lnTo>
                  <a:lnTo>
                    <a:pt x="1118" y="53"/>
                  </a:lnTo>
                  <a:lnTo>
                    <a:pt x="1118" y="73"/>
                  </a:lnTo>
                  <a:lnTo>
                    <a:pt x="1119" y="93"/>
                  </a:lnTo>
                  <a:lnTo>
                    <a:pt x="1122" y="113"/>
                  </a:lnTo>
                  <a:lnTo>
                    <a:pt x="1123" y="134"/>
                  </a:lnTo>
                  <a:lnTo>
                    <a:pt x="1125" y="154"/>
                  </a:lnTo>
                  <a:lnTo>
                    <a:pt x="1125" y="174"/>
                  </a:lnTo>
                  <a:lnTo>
                    <a:pt x="1127" y="176"/>
                  </a:lnTo>
                  <a:lnTo>
                    <a:pt x="1129" y="179"/>
                  </a:lnTo>
                  <a:lnTo>
                    <a:pt x="1130" y="182"/>
                  </a:lnTo>
                  <a:lnTo>
                    <a:pt x="1130" y="186"/>
                  </a:lnTo>
                  <a:lnTo>
                    <a:pt x="1130" y="188"/>
                  </a:lnTo>
                  <a:lnTo>
                    <a:pt x="1131" y="191"/>
                  </a:lnTo>
                  <a:lnTo>
                    <a:pt x="1134" y="194"/>
                  </a:lnTo>
                  <a:lnTo>
                    <a:pt x="1138" y="197"/>
                  </a:lnTo>
                  <a:lnTo>
                    <a:pt x="1182" y="197"/>
                  </a:lnTo>
                  <a:lnTo>
                    <a:pt x="1226" y="195"/>
                  </a:lnTo>
                  <a:lnTo>
                    <a:pt x="1272" y="194"/>
                  </a:lnTo>
                  <a:lnTo>
                    <a:pt x="1316" y="192"/>
                  </a:lnTo>
                  <a:lnTo>
                    <a:pt x="1362" y="191"/>
                  </a:lnTo>
                  <a:lnTo>
                    <a:pt x="1405" y="191"/>
                  </a:lnTo>
                  <a:lnTo>
                    <a:pt x="1449" y="192"/>
                  </a:lnTo>
                  <a:lnTo>
                    <a:pt x="1490" y="194"/>
                  </a:lnTo>
                  <a:lnTo>
                    <a:pt x="1489" y="197"/>
                  </a:lnTo>
                  <a:lnTo>
                    <a:pt x="1488" y="199"/>
                  </a:lnTo>
                  <a:lnTo>
                    <a:pt x="1488" y="202"/>
                  </a:lnTo>
                  <a:lnTo>
                    <a:pt x="1488" y="205"/>
                  </a:lnTo>
                  <a:lnTo>
                    <a:pt x="1488" y="207"/>
                  </a:lnTo>
                  <a:lnTo>
                    <a:pt x="1488" y="211"/>
                  </a:lnTo>
                  <a:lnTo>
                    <a:pt x="1488" y="214"/>
                  </a:lnTo>
                  <a:lnTo>
                    <a:pt x="1488" y="217"/>
                  </a:lnTo>
                  <a:lnTo>
                    <a:pt x="1469" y="217"/>
                  </a:lnTo>
                  <a:lnTo>
                    <a:pt x="1451" y="217"/>
                  </a:lnTo>
                  <a:lnTo>
                    <a:pt x="1433" y="217"/>
                  </a:lnTo>
                  <a:lnTo>
                    <a:pt x="1415" y="218"/>
                  </a:lnTo>
                  <a:lnTo>
                    <a:pt x="1398" y="219"/>
                  </a:lnTo>
                  <a:lnTo>
                    <a:pt x="1380" y="221"/>
                  </a:lnTo>
                  <a:lnTo>
                    <a:pt x="1362" y="221"/>
                  </a:lnTo>
                  <a:lnTo>
                    <a:pt x="1344" y="222"/>
                  </a:lnTo>
                  <a:lnTo>
                    <a:pt x="1342" y="231"/>
                  </a:lnTo>
                  <a:lnTo>
                    <a:pt x="1339" y="239"/>
                  </a:lnTo>
                  <a:lnTo>
                    <a:pt x="1339" y="249"/>
                  </a:lnTo>
                  <a:lnTo>
                    <a:pt x="1340" y="257"/>
                  </a:lnTo>
                  <a:lnTo>
                    <a:pt x="1342" y="266"/>
                  </a:lnTo>
                  <a:lnTo>
                    <a:pt x="1343" y="274"/>
                  </a:lnTo>
                  <a:lnTo>
                    <a:pt x="1344" y="284"/>
                  </a:lnTo>
                  <a:lnTo>
                    <a:pt x="1344" y="293"/>
                  </a:lnTo>
                  <a:lnTo>
                    <a:pt x="1346" y="300"/>
                  </a:lnTo>
                  <a:lnTo>
                    <a:pt x="1347" y="306"/>
                  </a:lnTo>
                  <a:lnTo>
                    <a:pt x="1347" y="313"/>
                  </a:lnTo>
                  <a:lnTo>
                    <a:pt x="1347" y="320"/>
                  </a:lnTo>
                  <a:lnTo>
                    <a:pt x="1347" y="328"/>
                  </a:lnTo>
                  <a:lnTo>
                    <a:pt x="1347" y="334"/>
                  </a:lnTo>
                  <a:lnTo>
                    <a:pt x="1346" y="342"/>
                  </a:lnTo>
                  <a:lnTo>
                    <a:pt x="1344" y="349"/>
                  </a:lnTo>
                  <a:lnTo>
                    <a:pt x="1339" y="350"/>
                  </a:lnTo>
                  <a:lnTo>
                    <a:pt x="1335" y="350"/>
                  </a:lnTo>
                  <a:lnTo>
                    <a:pt x="1331" y="349"/>
                  </a:lnTo>
                  <a:lnTo>
                    <a:pt x="1328" y="348"/>
                  </a:lnTo>
                  <a:lnTo>
                    <a:pt x="1324" y="345"/>
                  </a:lnTo>
                  <a:lnTo>
                    <a:pt x="1321" y="342"/>
                  </a:lnTo>
                  <a:lnTo>
                    <a:pt x="1320" y="338"/>
                  </a:lnTo>
                  <a:lnTo>
                    <a:pt x="1319" y="334"/>
                  </a:lnTo>
                  <a:lnTo>
                    <a:pt x="1313" y="225"/>
                  </a:lnTo>
                  <a:lnTo>
                    <a:pt x="1265" y="223"/>
                  </a:lnTo>
                  <a:lnTo>
                    <a:pt x="1217" y="223"/>
                  </a:lnTo>
                  <a:lnTo>
                    <a:pt x="1167" y="225"/>
                  </a:lnTo>
                  <a:lnTo>
                    <a:pt x="1118" y="227"/>
                  </a:lnTo>
                  <a:lnTo>
                    <a:pt x="1068" y="229"/>
                  </a:lnTo>
                  <a:lnTo>
                    <a:pt x="1019" y="231"/>
                  </a:lnTo>
                  <a:lnTo>
                    <a:pt x="969" y="233"/>
                  </a:lnTo>
                  <a:lnTo>
                    <a:pt x="921" y="233"/>
                  </a:lnTo>
                  <a:lnTo>
                    <a:pt x="916" y="238"/>
                  </a:lnTo>
                  <a:lnTo>
                    <a:pt x="916" y="254"/>
                  </a:lnTo>
                  <a:lnTo>
                    <a:pt x="916" y="271"/>
                  </a:lnTo>
                  <a:lnTo>
                    <a:pt x="916" y="289"/>
                  </a:lnTo>
                  <a:lnTo>
                    <a:pt x="914" y="306"/>
                  </a:lnTo>
                  <a:lnTo>
                    <a:pt x="916" y="324"/>
                  </a:lnTo>
                  <a:lnTo>
                    <a:pt x="917" y="340"/>
                  </a:lnTo>
                  <a:lnTo>
                    <a:pt x="920" y="356"/>
                  </a:lnTo>
                  <a:lnTo>
                    <a:pt x="925" y="371"/>
                  </a:lnTo>
                  <a:lnTo>
                    <a:pt x="924" y="373"/>
                  </a:lnTo>
                  <a:lnTo>
                    <a:pt x="921" y="375"/>
                  </a:lnTo>
                  <a:lnTo>
                    <a:pt x="918" y="376"/>
                  </a:lnTo>
                  <a:lnTo>
                    <a:pt x="914" y="376"/>
                  </a:lnTo>
                  <a:lnTo>
                    <a:pt x="911" y="376"/>
                  </a:lnTo>
                  <a:lnTo>
                    <a:pt x="907" y="375"/>
                  </a:lnTo>
                  <a:lnTo>
                    <a:pt x="905" y="373"/>
                  </a:lnTo>
                  <a:lnTo>
                    <a:pt x="902" y="372"/>
                  </a:lnTo>
                  <a:lnTo>
                    <a:pt x="898" y="356"/>
                  </a:lnTo>
                  <a:lnTo>
                    <a:pt x="895" y="338"/>
                  </a:lnTo>
                  <a:lnTo>
                    <a:pt x="894" y="321"/>
                  </a:lnTo>
                  <a:lnTo>
                    <a:pt x="894" y="302"/>
                  </a:lnTo>
                  <a:lnTo>
                    <a:pt x="895" y="285"/>
                  </a:lnTo>
                  <a:lnTo>
                    <a:pt x="894" y="267"/>
                  </a:lnTo>
                  <a:lnTo>
                    <a:pt x="893" y="251"/>
                  </a:lnTo>
                  <a:lnTo>
                    <a:pt x="890" y="234"/>
                  </a:lnTo>
                  <a:lnTo>
                    <a:pt x="842" y="235"/>
                  </a:lnTo>
                  <a:lnTo>
                    <a:pt x="795" y="237"/>
                  </a:lnTo>
                  <a:lnTo>
                    <a:pt x="747" y="238"/>
                  </a:lnTo>
                  <a:lnTo>
                    <a:pt x="700" y="238"/>
                  </a:lnTo>
                  <a:lnTo>
                    <a:pt x="652" y="239"/>
                  </a:lnTo>
                  <a:lnTo>
                    <a:pt x="603" y="241"/>
                  </a:lnTo>
                  <a:lnTo>
                    <a:pt x="555" y="242"/>
                  </a:lnTo>
                  <a:lnTo>
                    <a:pt x="507" y="242"/>
                  </a:lnTo>
                  <a:lnTo>
                    <a:pt x="502" y="254"/>
                  </a:lnTo>
                  <a:lnTo>
                    <a:pt x="499" y="267"/>
                  </a:lnTo>
                  <a:lnTo>
                    <a:pt x="498" y="281"/>
                  </a:lnTo>
                  <a:lnTo>
                    <a:pt x="496" y="296"/>
                  </a:lnTo>
                  <a:lnTo>
                    <a:pt x="498" y="310"/>
                  </a:lnTo>
                  <a:lnTo>
                    <a:pt x="498" y="324"/>
                  </a:lnTo>
                  <a:lnTo>
                    <a:pt x="499" y="338"/>
                  </a:lnTo>
                  <a:lnTo>
                    <a:pt x="499" y="352"/>
                  </a:lnTo>
                  <a:lnTo>
                    <a:pt x="503" y="356"/>
                  </a:lnTo>
                  <a:lnTo>
                    <a:pt x="503" y="359"/>
                  </a:lnTo>
                  <a:lnTo>
                    <a:pt x="503" y="363"/>
                  </a:lnTo>
                  <a:lnTo>
                    <a:pt x="502" y="365"/>
                  </a:lnTo>
                  <a:lnTo>
                    <a:pt x="500" y="368"/>
                  </a:lnTo>
                  <a:lnTo>
                    <a:pt x="499" y="372"/>
                  </a:lnTo>
                  <a:lnTo>
                    <a:pt x="500" y="375"/>
                  </a:lnTo>
                  <a:lnTo>
                    <a:pt x="504" y="377"/>
                  </a:lnTo>
                  <a:lnTo>
                    <a:pt x="503" y="381"/>
                  </a:lnTo>
                  <a:lnTo>
                    <a:pt x="502" y="385"/>
                  </a:lnTo>
                  <a:lnTo>
                    <a:pt x="500" y="389"/>
                  </a:lnTo>
                  <a:lnTo>
                    <a:pt x="500" y="395"/>
                  </a:lnTo>
                  <a:lnTo>
                    <a:pt x="499" y="397"/>
                  </a:lnTo>
                  <a:lnTo>
                    <a:pt x="496" y="401"/>
                  </a:lnTo>
                  <a:lnTo>
                    <a:pt x="493" y="404"/>
                  </a:lnTo>
                  <a:lnTo>
                    <a:pt x="489" y="405"/>
                  </a:lnTo>
                  <a:lnTo>
                    <a:pt x="598" y="405"/>
                  </a:lnTo>
                  <a:lnTo>
                    <a:pt x="708" y="404"/>
                  </a:lnTo>
                  <a:lnTo>
                    <a:pt x="820" y="403"/>
                  </a:lnTo>
                  <a:lnTo>
                    <a:pt x="933" y="403"/>
                  </a:lnTo>
                  <a:lnTo>
                    <a:pt x="1045" y="401"/>
                  </a:lnTo>
                  <a:lnTo>
                    <a:pt x="1158" y="400"/>
                  </a:lnTo>
                  <a:lnTo>
                    <a:pt x="1269" y="397"/>
                  </a:lnTo>
                  <a:lnTo>
                    <a:pt x="1380" y="396"/>
                  </a:lnTo>
                  <a:lnTo>
                    <a:pt x="1379" y="397"/>
                  </a:lnTo>
                  <a:lnTo>
                    <a:pt x="1378" y="400"/>
                  </a:lnTo>
                  <a:lnTo>
                    <a:pt x="1378" y="403"/>
                  </a:lnTo>
                  <a:lnTo>
                    <a:pt x="1376" y="405"/>
                  </a:lnTo>
                  <a:lnTo>
                    <a:pt x="1375" y="408"/>
                  </a:lnTo>
                  <a:lnTo>
                    <a:pt x="1375" y="411"/>
                  </a:lnTo>
                  <a:lnTo>
                    <a:pt x="1375" y="413"/>
                  </a:lnTo>
                  <a:lnTo>
                    <a:pt x="1375" y="416"/>
                  </a:lnTo>
                  <a:lnTo>
                    <a:pt x="1127" y="424"/>
                  </a:lnTo>
                  <a:lnTo>
                    <a:pt x="1126" y="446"/>
                  </a:lnTo>
                  <a:lnTo>
                    <a:pt x="1125" y="467"/>
                  </a:lnTo>
                  <a:lnTo>
                    <a:pt x="1125" y="488"/>
                  </a:lnTo>
                  <a:lnTo>
                    <a:pt x="1125" y="510"/>
                  </a:lnTo>
                  <a:lnTo>
                    <a:pt x="1126" y="531"/>
                  </a:lnTo>
                  <a:lnTo>
                    <a:pt x="1129" y="551"/>
                  </a:lnTo>
                  <a:lnTo>
                    <a:pt x="1134" y="571"/>
                  </a:lnTo>
                  <a:lnTo>
                    <a:pt x="1139" y="591"/>
                  </a:lnTo>
                  <a:lnTo>
                    <a:pt x="1134" y="595"/>
                  </a:lnTo>
                  <a:lnTo>
                    <a:pt x="1130" y="597"/>
                  </a:lnTo>
                  <a:lnTo>
                    <a:pt x="1127" y="595"/>
                  </a:lnTo>
                  <a:lnTo>
                    <a:pt x="1125" y="591"/>
                  </a:lnTo>
                  <a:lnTo>
                    <a:pt x="1122" y="587"/>
                  </a:lnTo>
                  <a:lnTo>
                    <a:pt x="1119" y="583"/>
                  </a:lnTo>
                  <a:lnTo>
                    <a:pt x="1116" y="579"/>
                  </a:lnTo>
                  <a:lnTo>
                    <a:pt x="1111" y="577"/>
                  </a:lnTo>
                  <a:lnTo>
                    <a:pt x="1107" y="559"/>
                  </a:lnTo>
                  <a:lnTo>
                    <a:pt x="1103" y="542"/>
                  </a:lnTo>
                  <a:lnTo>
                    <a:pt x="1100" y="523"/>
                  </a:lnTo>
                  <a:lnTo>
                    <a:pt x="1099" y="504"/>
                  </a:lnTo>
                  <a:lnTo>
                    <a:pt x="1099" y="484"/>
                  </a:lnTo>
                  <a:lnTo>
                    <a:pt x="1099" y="466"/>
                  </a:lnTo>
                  <a:lnTo>
                    <a:pt x="1099" y="447"/>
                  </a:lnTo>
                  <a:lnTo>
                    <a:pt x="1099" y="429"/>
                  </a:lnTo>
                  <a:lnTo>
                    <a:pt x="1094" y="424"/>
                  </a:lnTo>
                  <a:lnTo>
                    <a:pt x="650" y="433"/>
                  </a:lnTo>
                  <a:lnTo>
                    <a:pt x="649" y="448"/>
                  </a:lnTo>
                  <a:lnTo>
                    <a:pt x="649" y="462"/>
                  </a:lnTo>
                  <a:lnTo>
                    <a:pt x="650" y="476"/>
                  </a:lnTo>
                  <a:lnTo>
                    <a:pt x="652" y="492"/>
                  </a:lnTo>
                  <a:lnTo>
                    <a:pt x="654" y="507"/>
                  </a:lnTo>
                  <a:lnTo>
                    <a:pt x="657" y="522"/>
                  </a:lnTo>
                  <a:lnTo>
                    <a:pt x="660" y="535"/>
                  </a:lnTo>
                  <a:lnTo>
                    <a:pt x="662" y="549"/>
                  </a:lnTo>
                  <a:lnTo>
                    <a:pt x="662" y="553"/>
                  </a:lnTo>
                  <a:lnTo>
                    <a:pt x="662" y="555"/>
                  </a:lnTo>
                  <a:lnTo>
                    <a:pt x="664" y="559"/>
                  </a:lnTo>
                  <a:lnTo>
                    <a:pt x="664" y="563"/>
                  </a:lnTo>
                  <a:lnTo>
                    <a:pt x="665" y="566"/>
                  </a:lnTo>
                  <a:lnTo>
                    <a:pt x="666" y="570"/>
                  </a:lnTo>
                  <a:lnTo>
                    <a:pt x="668" y="573"/>
                  </a:lnTo>
                  <a:lnTo>
                    <a:pt x="670" y="577"/>
                  </a:lnTo>
                  <a:lnTo>
                    <a:pt x="668" y="581"/>
                  </a:lnTo>
                  <a:lnTo>
                    <a:pt x="668" y="583"/>
                  </a:lnTo>
                  <a:lnTo>
                    <a:pt x="668" y="587"/>
                  </a:lnTo>
                  <a:lnTo>
                    <a:pt x="669" y="590"/>
                  </a:lnTo>
                  <a:lnTo>
                    <a:pt x="670" y="594"/>
                  </a:lnTo>
                  <a:lnTo>
                    <a:pt x="670" y="598"/>
                  </a:lnTo>
                  <a:lnTo>
                    <a:pt x="670" y="601"/>
                  </a:lnTo>
                  <a:lnTo>
                    <a:pt x="668" y="605"/>
                  </a:lnTo>
                  <a:lnTo>
                    <a:pt x="665" y="606"/>
                  </a:lnTo>
                  <a:lnTo>
                    <a:pt x="661" y="608"/>
                  </a:lnTo>
                  <a:lnTo>
                    <a:pt x="658" y="608"/>
                  </a:lnTo>
                  <a:lnTo>
                    <a:pt x="654" y="606"/>
                  </a:lnTo>
                  <a:lnTo>
                    <a:pt x="650" y="605"/>
                  </a:lnTo>
                  <a:lnTo>
                    <a:pt x="648" y="604"/>
                  </a:lnTo>
                  <a:lnTo>
                    <a:pt x="646" y="601"/>
                  </a:lnTo>
                  <a:lnTo>
                    <a:pt x="645" y="597"/>
                  </a:lnTo>
                  <a:lnTo>
                    <a:pt x="641" y="577"/>
                  </a:lnTo>
                  <a:lnTo>
                    <a:pt x="637" y="558"/>
                  </a:lnTo>
                  <a:lnTo>
                    <a:pt x="633" y="539"/>
                  </a:lnTo>
                  <a:lnTo>
                    <a:pt x="630" y="519"/>
                  </a:lnTo>
                  <a:lnTo>
                    <a:pt x="627" y="500"/>
                  </a:lnTo>
                  <a:lnTo>
                    <a:pt x="625" y="482"/>
                  </a:lnTo>
                  <a:lnTo>
                    <a:pt x="622" y="462"/>
                  </a:lnTo>
                  <a:lnTo>
                    <a:pt x="619" y="442"/>
                  </a:lnTo>
                  <a:lnTo>
                    <a:pt x="611" y="433"/>
                  </a:lnTo>
                  <a:lnTo>
                    <a:pt x="571" y="433"/>
                  </a:lnTo>
                  <a:lnTo>
                    <a:pt x="532" y="433"/>
                  </a:lnTo>
                  <a:lnTo>
                    <a:pt x="492" y="433"/>
                  </a:lnTo>
                  <a:lnTo>
                    <a:pt x="453" y="435"/>
                  </a:lnTo>
                  <a:lnTo>
                    <a:pt x="414" y="436"/>
                  </a:lnTo>
                  <a:lnTo>
                    <a:pt x="376" y="437"/>
                  </a:lnTo>
                  <a:lnTo>
                    <a:pt x="337" y="439"/>
                  </a:lnTo>
                  <a:lnTo>
                    <a:pt x="298" y="442"/>
                  </a:lnTo>
                  <a:lnTo>
                    <a:pt x="293" y="447"/>
                  </a:lnTo>
                  <a:lnTo>
                    <a:pt x="294" y="463"/>
                  </a:lnTo>
                  <a:lnTo>
                    <a:pt x="293" y="478"/>
                  </a:lnTo>
                  <a:lnTo>
                    <a:pt x="293" y="494"/>
                  </a:lnTo>
                  <a:lnTo>
                    <a:pt x="291" y="508"/>
                  </a:lnTo>
                  <a:lnTo>
                    <a:pt x="290" y="523"/>
                  </a:lnTo>
                  <a:lnTo>
                    <a:pt x="290" y="538"/>
                  </a:lnTo>
                  <a:lnTo>
                    <a:pt x="293" y="554"/>
                  </a:lnTo>
                  <a:lnTo>
                    <a:pt x="298" y="569"/>
                  </a:lnTo>
                  <a:lnTo>
                    <a:pt x="287" y="602"/>
                  </a:lnTo>
                  <a:lnTo>
                    <a:pt x="283" y="602"/>
                  </a:lnTo>
                  <a:lnTo>
                    <a:pt x="279" y="601"/>
                  </a:lnTo>
                  <a:lnTo>
                    <a:pt x="276" y="600"/>
                  </a:lnTo>
                  <a:lnTo>
                    <a:pt x="274" y="597"/>
                  </a:lnTo>
                  <a:lnTo>
                    <a:pt x="271" y="594"/>
                  </a:lnTo>
                  <a:lnTo>
                    <a:pt x="270" y="591"/>
                  </a:lnTo>
                  <a:lnTo>
                    <a:pt x="268" y="589"/>
                  </a:lnTo>
                  <a:lnTo>
                    <a:pt x="267" y="585"/>
                  </a:lnTo>
                  <a:lnTo>
                    <a:pt x="266" y="567"/>
                  </a:lnTo>
                  <a:lnTo>
                    <a:pt x="267" y="550"/>
                  </a:lnTo>
                  <a:lnTo>
                    <a:pt x="267" y="533"/>
                  </a:lnTo>
                  <a:lnTo>
                    <a:pt x="268" y="515"/>
                  </a:lnTo>
                  <a:lnTo>
                    <a:pt x="268" y="498"/>
                  </a:lnTo>
                  <a:lnTo>
                    <a:pt x="270" y="482"/>
                  </a:lnTo>
                  <a:lnTo>
                    <a:pt x="270" y="464"/>
                  </a:lnTo>
                  <a:lnTo>
                    <a:pt x="268" y="450"/>
                  </a:lnTo>
                  <a:lnTo>
                    <a:pt x="240" y="448"/>
                  </a:lnTo>
                  <a:lnTo>
                    <a:pt x="213" y="448"/>
                  </a:lnTo>
                  <a:lnTo>
                    <a:pt x="187" y="448"/>
                  </a:lnTo>
                  <a:lnTo>
                    <a:pt x="161" y="447"/>
                  </a:lnTo>
                  <a:lnTo>
                    <a:pt x="136" y="447"/>
                  </a:lnTo>
                  <a:lnTo>
                    <a:pt x="110" y="446"/>
                  </a:lnTo>
                  <a:lnTo>
                    <a:pt x="84" y="446"/>
                  </a:lnTo>
                  <a:lnTo>
                    <a:pt x="57" y="444"/>
                  </a:lnTo>
                  <a:lnTo>
                    <a:pt x="57" y="442"/>
                  </a:lnTo>
                  <a:lnTo>
                    <a:pt x="57" y="439"/>
                  </a:lnTo>
                  <a:lnTo>
                    <a:pt x="57" y="436"/>
                  </a:lnTo>
                  <a:lnTo>
                    <a:pt x="57" y="433"/>
                  </a:lnTo>
                  <a:lnTo>
                    <a:pt x="58" y="431"/>
                  </a:lnTo>
                  <a:lnTo>
                    <a:pt x="61" y="428"/>
                  </a:lnTo>
                  <a:lnTo>
                    <a:pt x="62" y="425"/>
                  </a:lnTo>
                  <a:lnTo>
                    <a:pt x="65" y="424"/>
                  </a:lnTo>
                  <a:lnTo>
                    <a:pt x="104" y="424"/>
                  </a:lnTo>
                  <a:lnTo>
                    <a:pt x="142" y="424"/>
                  </a:lnTo>
                  <a:lnTo>
                    <a:pt x="181" y="423"/>
                  </a:lnTo>
                  <a:lnTo>
                    <a:pt x="222" y="421"/>
                  </a:lnTo>
                  <a:lnTo>
                    <a:pt x="260" y="420"/>
                  </a:lnTo>
                  <a:lnTo>
                    <a:pt x="301" y="417"/>
                  </a:lnTo>
                  <a:lnTo>
                    <a:pt x="339" y="415"/>
                  </a:lnTo>
                  <a:lnTo>
                    <a:pt x="380" y="411"/>
                  </a:lnTo>
                  <a:lnTo>
                    <a:pt x="393" y="411"/>
                  </a:lnTo>
                  <a:lnTo>
                    <a:pt x="408" y="411"/>
                  </a:lnTo>
                  <a:lnTo>
                    <a:pt x="422" y="411"/>
                  </a:lnTo>
                  <a:lnTo>
                    <a:pt x="436" y="409"/>
                  </a:lnTo>
                  <a:lnTo>
                    <a:pt x="449" y="409"/>
                  </a:lnTo>
                  <a:lnTo>
                    <a:pt x="463" y="408"/>
                  </a:lnTo>
                  <a:lnTo>
                    <a:pt x="476" y="407"/>
                  </a:lnTo>
                  <a:lnTo>
                    <a:pt x="489" y="405"/>
                  </a:lnTo>
                  <a:lnTo>
                    <a:pt x="483" y="405"/>
                  </a:lnTo>
                  <a:lnTo>
                    <a:pt x="479" y="404"/>
                  </a:lnTo>
                  <a:lnTo>
                    <a:pt x="475" y="401"/>
                  </a:lnTo>
                  <a:lnTo>
                    <a:pt x="473" y="400"/>
                  </a:lnTo>
                  <a:lnTo>
                    <a:pt x="472" y="395"/>
                  </a:lnTo>
                  <a:lnTo>
                    <a:pt x="473" y="388"/>
                  </a:lnTo>
                  <a:lnTo>
                    <a:pt x="475" y="380"/>
                  </a:lnTo>
                  <a:lnTo>
                    <a:pt x="477" y="372"/>
                  </a:lnTo>
                  <a:lnTo>
                    <a:pt x="479" y="364"/>
                  </a:lnTo>
                  <a:lnTo>
                    <a:pt x="479" y="357"/>
                  </a:lnTo>
                  <a:lnTo>
                    <a:pt x="476" y="247"/>
                  </a:lnTo>
                  <a:lnTo>
                    <a:pt x="453" y="246"/>
                  </a:lnTo>
                  <a:lnTo>
                    <a:pt x="431" y="246"/>
                  </a:lnTo>
                  <a:lnTo>
                    <a:pt x="408" y="246"/>
                  </a:lnTo>
                  <a:lnTo>
                    <a:pt x="385" y="246"/>
                  </a:lnTo>
                  <a:lnTo>
                    <a:pt x="362" y="247"/>
                  </a:lnTo>
                  <a:lnTo>
                    <a:pt x="338" y="249"/>
                  </a:lnTo>
                  <a:lnTo>
                    <a:pt x="315" y="249"/>
                  </a:lnTo>
                  <a:lnTo>
                    <a:pt x="293" y="250"/>
                  </a:lnTo>
                  <a:lnTo>
                    <a:pt x="287" y="255"/>
                  </a:lnTo>
                  <a:lnTo>
                    <a:pt x="258" y="255"/>
                  </a:lnTo>
                  <a:lnTo>
                    <a:pt x="228" y="257"/>
                  </a:lnTo>
                  <a:lnTo>
                    <a:pt x="199" y="258"/>
                  </a:lnTo>
                  <a:lnTo>
                    <a:pt x="168" y="259"/>
                  </a:lnTo>
                  <a:lnTo>
                    <a:pt x="137" y="261"/>
                  </a:lnTo>
                  <a:lnTo>
                    <a:pt x="108" y="259"/>
                  </a:lnTo>
                  <a:lnTo>
                    <a:pt x="78" y="258"/>
                  </a:lnTo>
                  <a:lnTo>
                    <a:pt x="50" y="255"/>
                  </a:lnTo>
                  <a:lnTo>
                    <a:pt x="47" y="253"/>
                  </a:lnTo>
                  <a:lnTo>
                    <a:pt x="43" y="251"/>
                  </a:lnTo>
                  <a:lnTo>
                    <a:pt x="38" y="250"/>
                  </a:lnTo>
                  <a:lnTo>
                    <a:pt x="34" y="249"/>
                  </a:lnTo>
                  <a:lnTo>
                    <a:pt x="31" y="249"/>
                  </a:lnTo>
                  <a:lnTo>
                    <a:pt x="29" y="246"/>
                  </a:lnTo>
                  <a:lnTo>
                    <a:pt x="27" y="243"/>
                  </a:lnTo>
                  <a:lnTo>
                    <a:pt x="30" y="239"/>
                  </a:lnTo>
                  <a:lnTo>
                    <a:pt x="69" y="234"/>
                  </a:lnTo>
                  <a:lnTo>
                    <a:pt x="108" y="231"/>
                  </a:lnTo>
                  <a:lnTo>
                    <a:pt x="148" y="229"/>
                  </a:lnTo>
                  <a:lnTo>
                    <a:pt x="188" y="229"/>
                  </a:lnTo>
                  <a:lnTo>
                    <a:pt x="227" y="227"/>
                  </a:lnTo>
                  <a:lnTo>
                    <a:pt x="267" y="226"/>
                  </a:lnTo>
                  <a:lnTo>
                    <a:pt x="307" y="222"/>
                  </a:lnTo>
                  <a:lnTo>
                    <a:pt x="346" y="217"/>
                  </a:lnTo>
                  <a:lnTo>
                    <a:pt x="895" y="205"/>
                  </a:lnTo>
                  <a:lnTo>
                    <a:pt x="1096" y="197"/>
                  </a:lnTo>
                  <a:lnTo>
                    <a:pt x="1099" y="183"/>
                  </a:lnTo>
                  <a:lnTo>
                    <a:pt x="1099" y="170"/>
                  </a:lnTo>
                  <a:lnTo>
                    <a:pt x="1099" y="155"/>
                  </a:lnTo>
                  <a:lnTo>
                    <a:pt x="1098" y="140"/>
                  </a:lnTo>
                  <a:lnTo>
                    <a:pt x="1096" y="126"/>
                  </a:lnTo>
                  <a:lnTo>
                    <a:pt x="1096" y="111"/>
                  </a:lnTo>
                  <a:lnTo>
                    <a:pt x="1096" y="95"/>
                  </a:lnTo>
                  <a:lnTo>
                    <a:pt x="1096" y="79"/>
                  </a:lnTo>
                  <a:lnTo>
                    <a:pt x="1096" y="72"/>
                  </a:lnTo>
                  <a:lnTo>
                    <a:pt x="1096" y="64"/>
                  </a:lnTo>
                  <a:lnTo>
                    <a:pt x="1096" y="56"/>
                  </a:lnTo>
                  <a:lnTo>
                    <a:pt x="1095" y="48"/>
                  </a:lnTo>
                  <a:lnTo>
                    <a:pt x="1094" y="41"/>
                  </a:lnTo>
                  <a:lnTo>
                    <a:pt x="1092" y="33"/>
                  </a:lnTo>
                  <a:lnTo>
                    <a:pt x="1091" y="25"/>
                  </a:lnTo>
                  <a:lnTo>
                    <a:pt x="1088" y="18"/>
                  </a:lnTo>
                  <a:lnTo>
                    <a:pt x="741" y="30"/>
                  </a:lnTo>
                  <a:lnTo>
                    <a:pt x="736" y="48"/>
                  </a:lnTo>
                  <a:lnTo>
                    <a:pt x="732" y="67"/>
                  </a:lnTo>
                  <a:lnTo>
                    <a:pt x="731" y="84"/>
                  </a:lnTo>
                  <a:lnTo>
                    <a:pt x="732" y="101"/>
                  </a:lnTo>
                  <a:lnTo>
                    <a:pt x="733" y="119"/>
                  </a:lnTo>
                  <a:lnTo>
                    <a:pt x="736" y="136"/>
                  </a:lnTo>
                  <a:lnTo>
                    <a:pt x="739" y="154"/>
                  </a:lnTo>
                  <a:lnTo>
                    <a:pt x="741" y="171"/>
                  </a:lnTo>
                  <a:lnTo>
                    <a:pt x="743" y="172"/>
                  </a:lnTo>
                  <a:lnTo>
                    <a:pt x="744" y="174"/>
                  </a:lnTo>
                  <a:lnTo>
                    <a:pt x="744" y="176"/>
                  </a:lnTo>
                  <a:lnTo>
                    <a:pt x="744" y="178"/>
                  </a:lnTo>
                  <a:lnTo>
                    <a:pt x="744" y="180"/>
                  </a:lnTo>
                  <a:lnTo>
                    <a:pt x="744" y="182"/>
                  </a:lnTo>
                  <a:lnTo>
                    <a:pt x="744" y="184"/>
                  </a:lnTo>
                  <a:lnTo>
                    <a:pt x="744" y="186"/>
                  </a:lnTo>
                  <a:lnTo>
                    <a:pt x="743" y="187"/>
                  </a:lnTo>
                  <a:lnTo>
                    <a:pt x="741" y="188"/>
                  </a:lnTo>
                  <a:lnTo>
                    <a:pt x="740" y="188"/>
                  </a:lnTo>
                  <a:lnTo>
                    <a:pt x="739" y="188"/>
                  </a:lnTo>
                  <a:lnTo>
                    <a:pt x="737" y="188"/>
                  </a:lnTo>
                  <a:lnTo>
                    <a:pt x="735" y="188"/>
                  </a:lnTo>
                  <a:lnTo>
                    <a:pt x="733" y="188"/>
                  </a:lnTo>
                  <a:lnTo>
                    <a:pt x="732" y="188"/>
                  </a:lnTo>
                  <a:lnTo>
                    <a:pt x="713" y="171"/>
                  </a:lnTo>
                  <a:lnTo>
                    <a:pt x="711" y="36"/>
                  </a:lnTo>
                  <a:lnTo>
                    <a:pt x="704" y="30"/>
                  </a:lnTo>
                  <a:lnTo>
                    <a:pt x="654" y="30"/>
                  </a:lnTo>
                  <a:lnTo>
                    <a:pt x="605" y="32"/>
                  </a:lnTo>
                  <a:lnTo>
                    <a:pt x="555" y="33"/>
                  </a:lnTo>
                  <a:lnTo>
                    <a:pt x="507" y="36"/>
                  </a:lnTo>
                  <a:lnTo>
                    <a:pt x="457" y="37"/>
                  </a:lnTo>
                  <a:lnTo>
                    <a:pt x="409" y="40"/>
                  </a:lnTo>
                  <a:lnTo>
                    <a:pt x="360" y="43"/>
                  </a:lnTo>
                  <a:lnTo>
                    <a:pt x="310" y="47"/>
                  </a:lnTo>
                  <a:lnTo>
                    <a:pt x="307" y="49"/>
                  </a:lnTo>
                  <a:lnTo>
                    <a:pt x="305" y="53"/>
                  </a:lnTo>
                  <a:lnTo>
                    <a:pt x="302" y="57"/>
                  </a:lnTo>
                  <a:lnTo>
                    <a:pt x="301" y="63"/>
                  </a:lnTo>
                  <a:lnTo>
                    <a:pt x="301" y="72"/>
                  </a:lnTo>
                  <a:lnTo>
                    <a:pt x="301" y="81"/>
                  </a:lnTo>
                  <a:lnTo>
                    <a:pt x="302" y="92"/>
                  </a:lnTo>
                  <a:lnTo>
                    <a:pt x="303" y="103"/>
                  </a:lnTo>
                  <a:lnTo>
                    <a:pt x="302" y="112"/>
                  </a:lnTo>
                  <a:lnTo>
                    <a:pt x="299" y="123"/>
                  </a:lnTo>
                  <a:lnTo>
                    <a:pt x="298" y="127"/>
                  </a:lnTo>
                  <a:lnTo>
                    <a:pt x="297" y="131"/>
                  </a:lnTo>
                  <a:lnTo>
                    <a:pt x="297" y="136"/>
                  </a:lnTo>
                  <a:lnTo>
                    <a:pt x="298" y="140"/>
                  </a:lnTo>
                  <a:lnTo>
                    <a:pt x="302" y="150"/>
                  </a:lnTo>
                  <a:lnTo>
                    <a:pt x="307" y="158"/>
                  </a:lnTo>
                  <a:lnTo>
                    <a:pt x="311" y="166"/>
                  </a:lnTo>
                  <a:lnTo>
                    <a:pt x="313" y="172"/>
                  </a:lnTo>
                  <a:lnTo>
                    <a:pt x="311" y="175"/>
                  </a:lnTo>
                  <a:lnTo>
                    <a:pt x="310" y="178"/>
                  </a:lnTo>
                  <a:lnTo>
                    <a:pt x="306" y="179"/>
                  </a:lnTo>
                  <a:lnTo>
                    <a:pt x="299" y="180"/>
                  </a:lnTo>
                  <a:lnTo>
                    <a:pt x="298" y="184"/>
                  </a:lnTo>
                  <a:lnTo>
                    <a:pt x="298" y="187"/>
                  </a:lnTo>
                  <a:lnTo>
                    <a:pt x="297" y="191"/>
                  </a:lnTo>
                  <a:lnTo>
                    <a:pt x="297" y="194"/>
                  </a:lnTo>
                  <a:lnTo>
                    <a:pt x="298" y="198"/>
                  </a:lnTo>
                  <a:lnTo>
                    <a:pt x="298" y="202"/>
                  </a:lnTo>
                  <a:lnTo>
                    <a:pt x="298" y="206"/>
                  </a:lnTo>
                  <a:lnTo>
                    <a:pt x="298" y="209"/>
                  </a:lnTo>
                  <a:lnTo>
                    <a:pt x="295" y="211"/>
                  </a:lnTo>
                  <a:lnTo>
                    <a:pt x="293" y="211"/>
                  </a:lnTo>
                  <a:lnTo>
                    <a:pt x="290" y="211"/>
                  </a:lnTo>
                  <a:lnTo>
                    <a:pt x="287" y="211"/>
                  </a:lnTo>
                  <a:lnTo>
                    <a:pt x="284" y="211"/>
                  </a:lnTo>
                  <a:lnTo>
                    <a:pt x="282" y="210"/>
                  </a:lnTo>
                  <a:lnTo>
                    <a:pt x="279" y="209"/>
                  </a:lnTo>
                  <a:lnTo>
                    <a:pt x="276" y="207"/>
                  </a:lnTo>
                  <a:lnTo>
                    <a:pt x="275" y="203"/>
                  </a:lnTo>
                  <a:lnTo>
                    <a:pt x="275" y="198"/>
                  </a:lnTo>
                  <a:lnTo>
                    <a:pt x="274" y="192"/>
                  </a:lnTo>
                  <a:lnTo>
                    <a:pt x="274" y="186"/>
                  </a:lnTo>
                  <a:lnTo>
                    <a:pt x="272" y="180"/>
                  </a:lnTo>
                  <a:lnTo>
                    <a:pt x="270" y="175"/>
                  </a:lnTo>
                  <a:lnTo>
                    <a:pt x="267" y="171"/>
                  </a:lnTo>
                  <a:lnTo>
                    <a:pt x="262" y="168"/>
                  </a:lnTo>
                  <a:lnTo>
                    <a:pt x="264" y="167"/>
                  </a:lnTo>
                  <a:lnTo>
                    <a:pt x="268" y="164"/>
                  </a:lnTo>
                  <a:lnTo>
                    <a:pt x="272" y="162"/>
                  </a:lnTo>
                  <a:lnTo>
                    <a:pt x="275" y="159"/>
                  </a:lnTo>
                  <a:lnTo>
                    <a:pt x="278" y="155"/>
                  </a:lnTo>
                  <a:lnTo>
                    <a:pt x="279" y="151"/>
                  </a:lnTo>
                  <a:lnTo>
                    <a:pt x="279" y="147"/>
                  </a:lnTo>
                  <a:lnTo>
                    <a:pt x="276" y="143"/>
                  </a:lnTo>
                  <a:lnTo>
                    <a:pt x="275" y="53"/>
                  </a:lnTo>
                  <a:lnTo>
                    <a:pt x="242" y="53"/>
                  </a:lnTo>
                  <a:lnTo>
                    <a:pt x="207" y="52"/>
                  </a:lnTo>
                  <a:lnTo>
                    <a:pt x="173" y="51"/>
                  </a:lnTo>
                  <a:lnTo>
                    <a:pt x="138" y="49"/>
                  </a:lnTo>
                  <a:lnTo>
                    <a:pt x="104" y="49"/>
                  </a:lnTo>
                  <a:lnTo>
                    <a:pt x="69" y="48"/>
                  </a:lnTo>
                  <a:lnTo>
                    <a:pt x="35" y="45"/>
                  </a:lnTo>
                  <a:lnTo>
                    <a:pt x="0" y="43"/>
                  </a:lnTo>
                  <a:lnTo>
                    <a:pt x="4" y="36"/>
                  </a:lnTo>
                  <a:lnTo>
                    <a:pt x="7" y="30"/>
                  </a:lnTo>
                  <a:lnTo>
                    <a:pt x="13" y="26"/>
                  </a:lnTo>
                  <a:lnTo>
                    <a:pt x="18" y="22"/>
                  </a:lnTo>
                  <a:lnTo>
                    <a:pt x="23" y="21"/>
                  </a:lnTo>
                  <a:lnTo>
                    <a:pt x="30" y="20"/>
                  </a:lnTo>
                  <a:lnTo>
                    <a:pt x="37" y="18"/>
                  </a:lnTo>
                  <a:lnTo>
                    <a:pt x="43" y="18"/>
                  </a:lnTo>
                  <a:lnTo>
                    <a:pt x="58" y="20"/>
                  </a:lnTo>
                  <a:lnTo>
                    <a:pt x="74" y="21"/>
                  </a:lnTo>
                  <a:lnTo>
                    <a:pt x="89" y="21"/>
                  </a:lnTo>
                  <a:lnTo>
                    <a:pt x="104" y="20"/>
                  </a:lnTo>
                  <a:lnTo>
                    <a:pt x="137" y="20"/>
                  </a:lnTo>
                  <a:lnTo>
                    <a:pt x="171" y="20"/>
                  </a:lnTo>
                  <a:lnTo>
                    <a:pt x="204" y="21"/>
                  </a:lnTo>
                  <a:lnTo>
                    <a:pt x="238" y="21"/>
                  </a:lnTo>
                  <a:lnTo>
                    <a:pt x="271" y="21"/>
                  </a:lnTo>
                  <a:lnTo>
                    <a:pt x="305" y="20"/>
                  </a:lnTo>
                  <a:lnTo>
                    <a:pt x="338" y="17"/>
                  </a:lnTo>
                  <a:lnTo>
                    <a:pt x="372" y="12"/>
                  </a:lnTo>
                  <a:lnTo>
                    <a:pt x="924" y="0"/>
                  </a:lnTo>
                  <a:lnTo>
                    <a:pt x="952" y="0"/>
                  </a:lnTo>
                  <a:lnTo>
                    <a:pt x="981" y="0"/>
                  </a:lnTo>
                  <a:lnTo>
                    <a:pt x="1012" y="0"/>
                  </a:lnTo>
                  <a:lnTo>
                    <a:pt x="1043" y="0"/>
                  </a:lnTo>
                  <a:lnTo>
                    <a:pt x="1074" y="0"/>
                  </a:lnTo>
                  <a:lnTo>
                    <a:pt x="1104" y="0"/>
                  </a:lnTo>
                  <a:lnTo>
                    <a:pt x="1134" y="0"/>
                  </a:lnTo>
                  <a:lnTo>
                    <a:pt x="11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70600" y="5432040"/>
              <a:ext cx="106920" cy="105480"/>
            </a:xfrm>
            <a:custGeom>
              <a:avLst/>
              <a:gdLst/>
              <a:ahLst/>
              <a:rect l="l" t="t" r="r" b="b"/>
              <a:pathLst>
                <a:path w="234" h="240">
                  <a:moveTo>
                    <a:pt x="209" y="7"/>
                  </a:moveTo>
                  <a:lnTo>
                    <a:pt x="210" y="12"/>
                  </a:lnTo>
                  <a:lnTo>
                    <a:pt x="211" y="17"/>
                  </a:lnTo>
                  <a:lnTo>
                    <a:pt x="211" y="23"/>
                  </a:lnTo>
                  <a:lnTo>
                    <a:pt x="210" y="28"/>
                  </a:lnTo>
                  <a:lnTo>
                    <a:pt x="209" y="39"/>
                  </a:lnTo>
                  <a:lnTo>
                    <a:pt x="206" y="50"/>
                  </a:lnTo>
                  <a:lnTo>
                    <a:pt x="206" y="55"/>
                  </a:lnTo>
                  <a:lnTo>
                    <a:pt x="206" y="59"/>
                  </a:lnTo>
                  <a:lnTo>
                    <a:pt x="207" y="63"/>
                  </a:lnTo>
                  <a:lnTo>
                    <a:pt x="210" y="67"/>
                  </a:lnTo>
                  <a:lnTo>
                    <a:pt x="213" y="70"/>
                  </a:lnTo>
                  <a:lnTo>
                    <a:pt x="218" y="72"/>
                  </a:lnTo>
                  <a:lnTo>
                    <a:pt x="225" y="74"/>
                  </a:lnTo>
                  <a:lnTo>
                    <a:pt x="233" y="74"/>
                  </a:lnTo>
                  <a:lnTo>
                    <a:pt x="234" y="95"/>
                  </a:lnTo>
                  <a:lnTo>
                    <a:pt x="234" y="115"/>
                  </a:lnTo>
                  <a:lnTo>
                    <a:pt x="233" y="137"/>
                  </a:lnTo>
                  <a:lnTo>
                    <a:pt x="230" y="157"/>
                  </a:lnTo>
                  <a:lnTo>
                    <a:pt x="226" y="177"/>
                  </a:lnTo>
                  <a:lnTo>
                    <a:pt x="222" y="196"/>
                  </a:lnTo>
                  <a:lnTo>
                    <a:pt x="217" y="216"/>
                  </a:lnTo>
                  <a:lnTo>
                    <a:pt x="211" y="234"/>
                  </a:lnTo>
                  <a:lnTo>
                    <a:pt x="203" y="238"/>
                  </a:lnTo>
                  <a:lnTo>
                    <a:pt x="195" y="240"/>
                  </a:lnTo>
                  <a:lnTo>
                    <a:pt x="187" y="240"/>
                  </a:lnTo>
                  <a:lnTo>
                    <a:pt x="180" y="238"/>
                  </a:lnTo>
                  <a:lnTo>
                    <a:pt x="175" y="236"/>
                  </a:lnTo>
                  <a:lnTo>
                    <a:pt x="168" y="232"/>
                  </a:lnTo>
                  <a:lnTo>
                    <a:pt x="163" y="226"/>
                  </a:lnTo>
                  <a:lnTo>
                    <a:pt x="158" y="220"/>
                  </a:lnTo>
                  <a:lnTo>
                    <a:pt x="148" y="206"/>
                  </a:lnTo>
                  <a:lnTo>
                    <a:pt x="139" y="192"/>
                  </a:lnTo>
                  <a:lnTo>
                    <a:pt x="129" y="179"/>
                  </a:lnTo>
                  <a:lnTo>
                    <a:pt x="119" y="169"/>
                  </a:lnTo>
                  <a:lnTo>
                    <a:pt x="105" y="151"/>
                  </a:lnTo>
                  <a:lnTo>
                    <a:pt x="91" y="135"/>
                  </a:lnTo>
                  <a:lnTo>
                    <a:pt x="77" y="121"/>
                  </a:lnTo>
                  <a:lnTo>
                    <a:pt x="62" y="106"/>
                  </a:lnTo>
                  <a:lnTo>
                    <a:pt x="46" y="91"/>
                  </a:lnTo>
                  <a:lnTo>
                    <a:pt x="32" y="76"/>
                  </a:lnTo>
                  <a:lnTo>
                    <a:pt x="16" y="62"/>
                  </a:lnTo>
                  <a:lnTo>
                    <a:pt x="0" y="46"/>
                  </a:lnTo>
                  <a:lnTo>
                    <a:pt x="16" y="44"/>
                  </a:lnTo>
                  <a:lnTo>
                    <a:pt x="33" y="42"/>
                  </a:lnTo>
                  <a:lnTo>
                    <a:pt x="50" y="39"/>
                  </a:lnTo>
                  <a:lnTo>
                    <a:pt x="68" y="36"/>
                  </a:lnTo>
                  <a:lnTo>
                    <a:pt x="85" y="34"/>
                  </a:lnTo>
                  <a:lnTo>
                    <a:pt x="103" y="32"/>
                  </a:lnTo>
                  <a:lnTo>
                    <a:pt x="120" y="31"/>
                  </a:lnTo>
                  <a:lnTo>
                    <a:pt x="138" y="31"/>
                  </a:lnTo>
                  <a:lnTo>
                    <a:pt x="144" y="28"/>
                  </a:lnTo>
                  <a:lnTo>
                    <a:pt x="152" y="27"/>
                  </a:lnTo>
                  <a:lnTo>
                    <a:pt x="160" y="28"/>
                  </a:lnTo>
                  <a:lnTo>
                    <a:pt x="168" y="28"/>
                  </a:lnTo>
                  <a:lnTo>
                    <a:pt x="175" y="28"/>
                  </a:lnTo>
                  <a:lnTo>
                    <a:pt x="180" y="27"/>
                  </a:lnTo>
                  <a:lnTo>
                    <a:pt x="183" y="24"/>
                  </a:lnTo>
                  <a:lnTo>
                    <a:pt x="183" y="21"/>
                  </a:lnTo>
                  <a:lnTo>
                    <a:pt x="184" y="17"/>
                  </a:lnTo>
                  <a:lnTo>
                    <a:pt x="183" y="13"/>
                  </a:lnTo>
                  <a:lnTo>
                    <a:pt x="178" y="7"/>
                  </a:lnTo>
                  <a:lnTo>
                    <a:pt x="180" y="3"/>
                  </a:lnTo>
                  <a:lnTo>
                    <a:pt x="183" y="0"/>
                  </a:lnTo>
                  <a:lnTo>
                    <a:pt x="187" y="0"/>
                  </a:lnTo>
                  <a:lnTo>
                    <a:pt x="192" y="0"/>
                  </a:lnTo>
                  <a:lnTo>
                    <a:pt x="196" y="1"/>
                  </a:lnTo>
                  <a:lnTo>
                    <a:pt x="200" y="3"/>
                  </a:lnTo>
                  <a:lnTo>
                    <a:pt x="206" y="5"/>
                  </a:lnTo>
                  <a:lnTo>
                    <a:pt x="209" y="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77280" y="5442480"/>
              <a:ext cx="242640" cy="210960"/>
            </a:xfrm>
            <a:custGeom>
              <a:avLst/>
              <a:gdLst/>
              <a:ahLst/>
              <a:rect l="l" t="t" r="r" b="b"/>
              <a:pathLst>
                <a:path w="533" h="480">
                  <a:moveTo>
                    <a:pt x="255" y="5"/>
                  </a:moveTo>
                  <a:lnTo>
                    <a:pt x="252" y="7"/>
                  </a:lnTo>
                  <a:lnTo>
                    <a:pt x="251" y="9"/>
                  </a:lnTo>
                  <a:lnTo>
                    <a:pt x="249" y="12"/>
                  </a:lnTo>
                  <a:lnTo>
                    <a:pt x="249" y="15"/>
                  </a:lnTo>
                  <a:lnTo>
                    <a:pt x="249" y="17"/>
                  </a:lnTo>
                  <a:lnTo>
                    <a:pt x="251" y="21"/>
                  </a:lnTo>
                  <a:lnTo>
                    <a:pt x="251" y="24"/>
                  </a:lnTo>
                  <a:lnTo>
                    <a:pt x="252" y="25"/>
                  </a:lnTo>
                  <a:lnTo>
                    <a:pt x="287" y="59"/>
                  </a:lnTo>
                  <a:lnTo>
                    <a:pt x="320" y="94"/>
                  </a:lnTo>
                  <a:lnTo>
                    <a:pt x="354" y="127"/>
                  </a:lnTo>
                  <a:lnTo>
                    <a:pt x="387" y="163"/>
                  </a:lnTo>
                  <a:lnTo>
                    <a:pt x="421" y="198"/>
                  </a:lnTo>
                  <a:lnTo>
                    <a:pt x="453" y="234"/>
                  </a:lnTo>
                  <a:lnTo>
                    <a:pt x="485" y="269"/>
                  </a:lnTo>
                  <a:lnTo>
                    <a:pt x="516" y="304"/>
                  </a:lnTo>
                  <a:lnTo>
                    <a:pt x="533" y="309"/>
                  </a:lnTo>
                  <a:lnTo>
                    <a:pt x="532" y="313"/>
                  </a:lnTo>
                  <a:lnTo>
                    <a:pt x="531" y="317"/>
                  </a:lnTo>
                  <a:lnTo>
                    <a:pt x="528" y="320"/>
                  </a:lnTo>
                  <a:lnTo>
                    <a:pt x="525" y="322"/>
                  </a:lnTo>
                  <a:lnTo>
                    <a:pt x="523" y="325"/>
                  </a:lnTo>
                  <a:lnTo>
                    <a:pt x="520" y="329"/>
                  </a:lnTo>
                  <a:lnTo>
                    <a:pt x="516" y="332"/>
                  </a:lnTo>
                  <a:lnTo>
                    <a:pt x="513" y="335"/>
                  </a:lnTo>
                  <a:lnTo>
                    <a:pt x="512" y="349"/>
                  </a:lnTo>
                  <a:lnTo>
                    <a:pt x="511" y="365"/>
                  </a:lnTo>
                  <a:lnTo>
                    <a:pt x="509" y="381"/>
                  </a:lnTo>
                  <a:lnTo>
                    <a:pt x="507" y="397"/>
                  </a:lnTo>
                  <a:lnTo>
                    <a:pt x="501" y="412"/>
                  </a:lnTo>
                  <a:lnTo>
                    <a:pt x="496" y="427"/>
                  </a:lnTo>
                  <a:lnTo>
                    <a:pt x="489" y="439"/>
                  </a:lnTo>
                  <a:lnTo>
                    <a:pt x="480" y="451"/>
                  </a:lnTo>
                  <a:lnTo>
                    <a:pt x="457" y="462"/>
                  </a:lnTo>
                  <a:lnTo>
                    <a:pt x="433" y="468"/>
                  </a:lnTo>
                  <a:lnTo>
                    <a:pt x="407" y="474"/>
                  </a:lnTo>
                  <a:lnTo>
                    <a:pt x="382" y="478"/>
                  </a:lnTo>
                  <a:lnTo>
                    <a:pt x="357" y="479"/>
                  </a:lnTo>
                  <a:lnTo>
                    <a:pt x="330" y="480"/>
                  </a:lnTo>
                  <a:lnTo>
                    <a:pt x="304" y="480"/>
                  </a:lnTo>
                  <a:lnTo>
                    <a:pt x="277" y="479"/>
                  </a:lnTo>
                  <a:lnTo>
                    <a:pt x="272" y="479"/>
                  </a:lnTo>
                  <a:lnTo>
                    <a:pt x="267" y="479"/>
                  </a:lnTo>
                  <a:lnTo>
                    <a:pt x="264" y="478"/>
                  </a:lnTo>
                  <a:lnTo>
                    <a:pt x="261" y="475"/>
                  </a:lnTo>
                  <a:lnTo>
                    <a:pt x="259" y="470"/>
                  </a:lnTo>
                  <a:lnTo>
                    <a:pt x="259" y="463"/>
                  </a:lnTo>
                  <a:lnTo>
                    <a:pt x="260" y="456"/>
                  </a:lnTo>
                  <a:lnTo>
                    <a:pt x="260" y="448"/>
                  </a:lnTo>
                  <a:lnTo>
                    <a:pt x="260" y="444"/>
                  </a:lnTo>
                  <a:lnTo>
                    <a:pt x="259" y="440"/>
                  </a:lnTo>
                  <a:lnTo>
                    <a:pt x="257" y="438"/>
                  </a:lnTo>
                  <a:lnTo>
                    <a:pt x="255" y="434"/>
                  </a:lnTo>
                  <a:lnTo>
                    <a:pt x="255" y="428"/>
                  </a:lnTo>
                  <a:lnTo>
                    <a:pt x="256" y="430"/>
                  </a:lnTo>
                  <a:lnTo>
                    <a:pt x="257" y="428"/>
                  </a:lnTo>
                  <a:lnTo>
                    <a:pt x="259" y="428"/>
                  </a:lnTo>
                  <a:lnTo>
                    <a:pt x="260" y="427"/>
                  </a:lnTo>
                  <a:lnTo>
                    <a:pt x="260" y="427"/>
                  </a:lnTo>
                  <a:lnTo>
                    <a:pt x="261" y="426"/>
                  </a:lnTo>
                  <a:lnTo>
                    <a:pt x="261" y="424"/>
                  </a:lnTo>
                  <a:lnTo>
                    <a:pt x="263" y="424"/>
                  </a:lnTo>
                  <a:lnTo>
                    <a:pt x="263" y="422"/>
                  </a:lnTo>
                  <a:lnTo>
                    <a:pt x="263" y="419"/>
                  </a:lnTo>
                  <a:lnTo>
                    <a:pt x="263" y="416"/>
                  </a:lnTo>
                  <a:lnTo>
                    <a:pt x="261" y="415"/>
                  </a:lnTo>
                  <a:lnTo>
                    <a:pt x="260" y="414"/>
                  </a:lnTo>
                  <a:lnTo>
                    <a:pt x="259" y="411"/>
                  </a:lnTo>
                  <a:lnTo>
                    <a:pt x="257" y="409"/>
                  </a:lnTo>
                  <a:lnTo>
                    <a:pt x="255" y="408"/>
                  </a:lnTo>
                  <a:lnTo>
                    <a:pt x="256" y="392"/>
                  </a:lnTo>
                  <a:lnTo>
                    <a:pt x="259" y="376"/>
                  </a:lnTo>
                  <a:lnTo>
                    <a:pt x="261" y="361"/>
                  </a:lnTo>
                  <a:lnTo>
                    <a:pt x="265" y="347"/>
                  </a:lnTo>
                  <a:lnTo>
                    <a:pt x="269" y="332"/>
                  </a:lnTo>
                  <a:lnTo>
                    <a:pt x="273" y="317"/>
                  </a:lnTo>
                  <a:lnTo>
                    <a:pt x="276" y="301"/>
                  </a:lnTo>
                  <a:lnTo>
                    <a:pt x="277" y="286"/>
                  </a:lnTo>
                  <a:lnTo>
                    <a:pt x="283" y="269"/>
                  </a:lnTo>
                  <a:lnTo>
                    <a:pt x="287" y="252"/>
                  </a:lnTo>
                  <a:lnTo>
                    <a:pt x="290" y="233"/>
                  </a:lnTo>
                  <a:lnTo>
                    <a:pt x="292" y="214"/>
                  </a:lnTo>
                  <a:lnTo>
                    <a:pt x="295" y="195"/>
                  </a:lnTo>
                  <a:lnTo>
                    <a:pt x="298" y="177"/>
                  </a:lnTo>
                  <a:lnTo>
                    <a:pt x="302" y="158"/>
                  </a:lnTo>
                  <a:lnTo>
                    <a:pt x="306" y="140"/>
                  </a:lnTo>
                  <a:lnTo>
                    <a:pt x="304" y="136"/>
                  </a:lnTo>
                  <a:lnTo>
                    <a:pt x="303" y="134"/>
                  </a:lnTo>
                  <a:lnTo>
                    <a:pt x="300" y="132"/>
                  </a:lnTo>
                  <a:lnTo>
                    <a:pt x="296" y="131"/>
                  </a:lnTo>
                  <a:lnTo>
                    <a:pt x="294" y="130"/>
                  </a:lnTo>
                  <a:lnTo>
                    <a:pt x="290" y="130"/>
                  </a:lnTo>
                  <a:lnTo>
                    <a:pt x="287" y="131"/>
                  </a:lnTo>
                  <a:lnTo>
                    <a:pt x="283" y="132"/>
                  </a:lnTo>
                  <a:lnTo>
                    <a:pt x="277" y="143"/>
                  </a:lnTo>
                  <a:lnTo>
                    <a:pt x="275" y="155"/>
                  </a:lnTo>
                  <a:lnTo>
                    <a:pt x="272" y="167"/>
                  </a:lnTo>
                  <a:lnTo>
                    <a:pt x="272" y="179"/>
                  </a:lnTo>
                  <a:lnTo>
                    <a:pt x="271" y="193"/>
                  </a:lnTo>
                  <a:lnTo>
                    <a:pt x="269" y="205"/>
                  </a:lnTo>
                  <a:lnTo>
                    <a:pt x="267" y="217"/>
                  </a:lnTo>
                  <a:lnTo>
                    <a:pt x="263" y="227"/>
                  </a:lnTo>
                  <a:lnTo>
                    <a:pt x="260" y="222"/>
                  </a:lnTo>
                  <a:lnTo>
                    <a:pt x="257" y="215"/>
                  </a:lnTo>
                  <a:lnTo>
                    <a:pt x="257" y="209"/>
                  </a:lnTo>
                  <a:lnTo>
                    <a:pt x="257" y="202"/>
                  </a:lnTo>
                  <a:lnTo>
                    <a:pt x="257" y="189"/>
                  </a:lnTo>
                  <a:lnTo>
                    <a:pt x="259" y="175"/>
                  </a:lnTo>
                  <a:lnTo>
                    <a:pt x="259" y="169"/>
                  </a:lnTo>
                  <a:lnTo>
                    <a:pt x="257" y="163"/>
                  </a:lnTo>
                  <a:lnTo>
                    <a:pt x="256" y="158"/>
                  </a:lnTo>
                  <a:lnTo>
                    <a:pt x="253" y="154"/>
                  </a:lnTo>
                  <a:lnTo>
                    <a:pt x="249" y="150"/>
                  </a:lnTo>
                  <a:lnTo>
                    <a:pt x="243" y="148"/>
                  </a:lnTo>
                  <a:lnTo>
                    <a:pt x="236" y="147"/>
                  </a:lnTo>
                  <a:lnTo>
                    <a:pt x="227" y="148"/>
                  </a:lnTo>
                  <a:lnTo>
                    <a:pt x="224" y="151"/>
                  </a:lnTo>
                  <a:lnTo>
                    <a:pt x="223" y="155"/>
                  </a:lnTo>
                  <a:lnTo>
                    <a:pt x="223" y="158"/>
                  </a:lnTo>
                  <a:lnTo>
                    <a:pt x="221" y="162"/>
                  </a:lnTo>
                  <a:lnTo>
                    <a:pt x="223" y="169"/>
                  </a:lnTo>
                  <a:lnTo>
                    <a:pt x="225" y="175"/>
                  </a:lnTo>
                  <a:lnTo>
                    <a:pt x="228" y="183"/>
                  </a:lnTo>
                  <a:lnTo>
                    <a:pt x="232" y="191"/>
                  </a:lnTo>
                  <a:lnTo>
                    <a:pt x="233" y="199"/>
                  </a:lnTo>
                  <a:lnTo>
                    <a:pt x="235" y="206"/>
                  </a:lnTo>
                  <a:lnTo>
                    <a:pt x="235" y="214"/>
                  </a:lnTo>
                  <a:lnTo>
                    <a:pt x="236" y="222"/>
                  </a:lnTo>
                  <a:lnTo>
                    <a:pt x="237" y="230"/>
                  </a:lnTo>
                  <a:lnTo>
                    <a:pt x="240" y="237"/>
                  </a:lnTo>
                  <a:lnTo>
                    <a:pt x="241" y="245"/>
                  </a:lnTo>
                  <a:lnTo>
                    <a:pt x="244" y="252"/>
                  </a:lnTo>
                  <a:lnTo>
                    <a:pt x="247" y="258"/>
                  </a:lnTo>
                  <a:lnTo>
                    <a:pt x="251" y="265"/>
                  </a:lnTo>
                  <a:lnTo>
                    <a:pt x="249" y="284"/>
                  </a:lnTo>
                  <a:lnTo>
                    <a:pt x="247" y="301"/>
                  </a:lnTo>
                  <a:lnTo>
                    <a:pt x="244" y="317"/>
                  </a:lnTo>
                  <a:lnTo>
                    <a:pt x="240" y="335"/>
                  </a:lnTo>
                  <a:lnTo>
                    <a:pt x="236" y="351"/>
                  </a:lnTo>
                  <a:lnTo>
                    <a:pt x="232" y="368"/>
                  </a:lnTo>
                  <a:lnTo>
                    <a:pt x="228" y="384"/>
                  </a:lnTo>
                  <a:lnTo>
                    <a:pt x="224" y="401"/>
                  </a:lnTo>
                  <a:lnTo>
                    <a:pt x="209" y="404"/>
                  </a:lnTo>
                  <a:lnTo>
                    <a:pt x="194" y="405"/>
                  </a:lnTo>
                  <a:lnTo>
                    <a:pt x="180" y="405"/>
                  </a:lnTo>
                  <a:lnTo>
                    <a:pt x="165" y="404"/>
                  </a:lnTo>
                  <a:lnTo>
                    <a:pt x="152" y="401"/>
                  </a:lnTo>
                  <a:lnTo>
                    <a:pt x="137" y="399"/>
                  </a:lnTo>
                  <a:lnTo>
                    <a:pt x="123" y="393"/>
                  </a:lnTo>
                  <a:lnTo>
                    <a:pt x="110" y="389"/>
                  </a:lnTo>
                  <a:lnTo>
                    <a:pt x="82" y="377"/>
                  </a:lnTo>
                  <a:lnTo>
                    <a:pt x="55" y="364"/>
                  </a:lnTo>
                  <a:lnTo>
                    <a:pt x="28" y="351"/>
                  </a:lnTo>
                  <a:lnTo>
                    <a:pt x="3" y="340"/>
                  </a:lnTo>
                  <a:lnTo>
                    <a:pt x="0" y="333"/>
                  </a:lnTo>
                  <a:lnTo>
                    <a:pt x="1" y="328"/>
                  </a:lnTo>
                  <a:lnTo>
                    <a:pt x="3" y="322"/>
                  </a:lnTo>
                  <a:lnTo>
                    <a:pt x="7" y="317"/>
                  </a:lnTo>
                  <a:lnTo>
                    <a:pt x="11" y="312"/>
                  </a:lnTo>
                  <a:lnTo>
                    <a:pt x="16" y="308"/>
                  </a:lnTo>
                  <a:lnTo>
                    <a:pt x="20" y="304"/>
                  </a:lnTo>
                  <a:lnTo>
                    <a:pt x="23" y="298"/>
                  </a:lnTo>
                  <a:lnTo>
                    <a:pt x="30" y="285"/>
                  </a:lnTo>
                  <a:lnTo>
                    <a:pt x="38" y="270"/>
                  </a:lnTo>
                  <a:lnTo>
                    <a:pt x="46" y="256"/>
                  </a:lnTo>
                  <a:lnTo>
                    <a:pt x="52" y="242"/>
                  </a:lnTo>
                  <a:lnTo>
                    <a:pt x="59" y="227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8" y="181"/>
                  </a:lnTo>
                  <a:lnTo>
                    <a:pt x="74" y="169"/>
                  </a:lnTo>
                  <a:lnTo>
                    <a:pt x="78" y="154"/>
                  </a:lnTo>
                  <a:lnTo>
                    <a:pt x="79" y="139"/>
                  </a:lnTo>
                  <a:lnTo>
                    <a:pt x="82" y="126"/>
                  </a:lnTo>
                  <a:lnTo>
                    <a:pt x="83" y="111"/>
                  </a:lnTo>
                  <a:lnTo>
                    <a:pt x="87" y="98"/>
                  </a:lnTo>
                  <a:lnTo>
                    <a:pt x="91" y="91"/>
                  </a:lnTo>
                  <a:lnTo>
                    <a:pt x="94" y="84"/>
                  </a:lnTo>
                  <a:lnTo>
                    <a:pt x="99" y="79"/>
                  </a:lnTo>
                  <a:lnTo>
                    <a:pt x="105" y="73"/>
                  </a:lnTo>
                  <a:lnTo>
                    <a:pt x="117" y="64"/>
                  </a:lnTo>
                  <a:lnTo>
                    <a:pt x="129" y="53"/>
                  </a:lnTo>
                  <a:lnTo>
                    <a:pt x="138" y="41"/>
                  </a:lnTo>
                  <a:lnTo>
                    <a:pt x="149" y="29"/>
                  </a:lnTo>
                  <a:lnTo>
                    <a:pt x="160" y="19"/>
                  </a:lnTo>
                  <a:lnTo>
                    <a:pt x="172" y="9"/>
                  </a:lnTo>
                  <a:lnTo>
                    <a:pt x="178" y="5"/>
                  </a:lnTo>
                  <a:lnTo>
                    <a:pt x="185" y="2"/>
                  </a:lnTo>
                  <a:lnTo>
                    <a:pt x="193" y="1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1" y="1"/>
                  </a:lnTo>
                  <a:lnTo>
                    <a:pt x="248" y="2"/>
                  </a:lnTo>
                  <a:lnTo>
                    <a:pt x="255" y="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10640" y="5467680"/>
              <a:ext cx="58680" cy="185760"/>
            </a:xfrm>
            <a:custGeom>
              <a:avLst/>
              <a:gdLst/>
              <a:ahLst/>
              <a:rect l="l" t="t" r="r" b="b"/>
              <a:pathLst>
                <a:path w="130" h="423">
                  <a:moveTo>
                    <a:pt x="69" y="31"/>
                  </a:moveTo>
                  <a:lnTo>
                    <a:pt x="70" y="35"/>
                  </a:lnTo>
                  <a:lnTo>
                    <a:pt x="70" y="39"/>
                  </a:lnTo>
                  <a:lnTo>
                    <a:pt x="73" y="43"/>
                  </a:lnTo>
                  <a:lnTo>
                    <a:pt x="74" y="47"/>
                  </a:lnTo>
                  <a:lnTo>
                    <a:pt x="77" y="51"/>
                  </a:lnTo>
                  <a:lnTo>
                    <a:pt x="79" y="55"/>
                  </a:lnTo>
                  <a:lnTo>
                    <a:pt x="82" y="59"/>
                  </a:lnTo>
                  <a:lnTo>
                    <a:pt x="85" y="63"/>
                  </a:lnTo>
                  <a:lnTo>
                    <a:pt x="87" y="180"/>
                  </a:lnTo>
                  <a:lnTo>
                    <a:pt x="82" y="174"/>
                  </a:lnTo>
                  <a:lnTo>
                    <a:pt x="79" y="166"/>
                  </a:lnTo>
                  <a:lnTo>
                    <a:pt x="75" y="158"/>
                  </a:lnTo>
                  <a:lnTo>
                    <a:pt x="73" y="150"/>
                  </a:lnTo>
                  <a:lnTo>
                    <a:pt x="69" y="142"/>
                  </a:lnTo>
                  <a:lnTo>
                    <a:pt x="62" y="136"/>
                  </a:lnTo>
                  <a:lnTo>
                    <a:pt x="59" y="135"/>
                  </a:lnTo>
                  <a:lnTo>
                    <a:pt x="55" y="134"/>
                  </a:lnTo>
                  <a:lnTo>
                    <a:pt x="51" y="134"/>
                  </a:lnTo>
                  <a:lnTo>
                    <a:pt x="46" y="135"/>
                  </a:lnTo>
                  <a:lnTo>
                    <a:pt x="42" y="139"/>
                  </a:lnTo>
                  <a:lnTo>
                    <a:pt x="41" y="142"/>
                  </a:lnTo>
                  <a:lnTo>
                    <a:pt x="39" y="146"/>
                  </a:lnTo>
                  <a:lnTo>
                    <a:pt x="39" y="150"/>
                  </a:lnTo>
                  <a:lnTo>
                    <a:pt x="41" y="156"/>
                  </a:lnTo>
                  <a:lnTo>
                    <a:pt x="43" y="163"/>
                  </a:lnTo>
                  <a:lnTo>
                    <a:pt x="49" y="170"/>
                  </a:lnTo>
                  <a:lnTo>
                    <a:pt x="53" y="176"/>
                  </a:lnTo>
                  <a:lnTo>
                    <a:pt x="57" y="184"/>
                  </a:lnTo>
                  <a:lnTo>
                    <a:pt x="58" y="191"/>
                  </a:lnTo>
                  <a:lnTo>
                    <a:pt x="61" y="202"/>
                  </a:lnTo>
                  <a:lnTo>
                    <a:pt x="63" y="214"/>
                  </a:lnTo>
                  <a:lnTo>
                    <a:pt x="66" y="225"/>
                  </a:lnTo>
                  <a:lnTo>
                    <a:pt x="70" y="235"/>
                  </a:lnTo>
                  <a:lnTo>
                    <a:pt x="74" y="245"/>
                  </a:lnTo>
                  <a:lnTo>
                    <a:pt x="78" y="255"/>
                  </a:lnTo>
                  <a:lnTo>
                    <a:pt x="82" y="265"/>
                  </a:lnTo>
                  <a:lnTo>
                    <a:pt x="87" y="276"/>
                  </a:lnTo>
                  <a:lnTo>
                    <a:pt x="87" y="277"/>
                  </a:lnTo>
                  <a:lnTo>
                    <a:pt x="86" y="278"/>
                  </a:lnTo>
                  <a:lnTo>
                    <a:pt x="85" y="280"/>
                  </a:lnTo>
                  <a:lnTo>
                    <a:pt x="83" y="281"/>
                  </a:lnTo>
                  <a:lnTo>
                    <a:pt x="82" y="282"/>
                  </a:lnTo>
                  <a:lnTo>
                    <a:pt x="81" y="284"/>
                  </a:lnTo>
                  <a:lnTo>
                    <a:pt x="81" y="286"/>
                  </a:lnTo>
                  <a:lnTo>
                    <a:pt x="82" y="289"/>
                  </a:lnTo>
                  <a:lnTo>
                    <a:pt x="82" y="290"/>
                  </a:lnTo>
                  <a:lnTo>
                    <a:pt x="85" y="292"/>
                  </a:lnTo>
                  <a:lnTo>
                    <a:pt x="86" y="293"/>
                  </a:lnTo>
                  <a:lnTo>
                    <a:pt x="89" y="293"/>
                  </a:lnTo>
                  <a:lnTo>
                    <a:pt x="91" y="293"/>
                  </a:lnTo>
                  <a:lnTo>
                    <a:pt x="93" y="294"/>
                  </a:lnTo>
                  <a:lnTo>
                    <a:pt x="94" y="296"/>
                  </a:lnTo>
                  <a:lnTo>
                    <a:pt x="94" y="298"/>
                  </a:lnTo>
                  <a:lnTo>
                    <a:pt x="94" y="300"/>
                  </a:lnTo>
                  <a:lnTo>
                    <a:pt x="93" y="301"/>
                  </a:lnTo>
                  <a:lnTo>
                    <a:pt x="91" y="302"/>
                  </a:lnTo>
                  <a:lnTo>
                    <a:pt x="91" y="304"/>
                  </a:lnTo>
                  <a:lnTo>
                    <a:pt x="90" y="305"/>
                  </a:lnTo>
                  <a:lnTo>
                    <a:pt x="89" y="308"/>
                  </a:lnTo>
                  <a:lnTo>
                    <a:pt x="89" y="309"/>
                  </a:lnTo>
                  <a:lnTo>
                    <a:pt x="89" y="312"/>
                  </a:lnTo>
                  <a:lnTo>
                    <a:pt x="97" y="320"/>
                  </a:lnTo>
                  <a:lnTo>
                    <a:pt x="102" y="329"/>
                  </a:lnTo>
                  <a:lnTo>
                    <a:pt x="106" y="338"/>
                  </a:lnTo>
                  <a:lnTo>
                    <a:pt x="109" y="350"/>
                  </a:lnTo>
                  <a:lnTo>
                    <a:pt x="112" y="363"/>
                  </a:lnTo>
                  <a:lnTo>
                    <a:pt x="113" y="375"/>
                  </a:lnTo>
                  <a:lnTo>
                    <a:pt x="116" y="385"/>
                  </a:lnTo>
                  <a:lnTo>
                    <a:pt x="117" y="397"/>
                  </a:lnTo>
                  <a:lnTo>
                    <a:pt x="130" y="423"/>
                  </a:lnTo>
                  <a:lnTo>
                    <a:pt x="113" y="421"/>
                  </a:lnTo>
                  <a:lnTo>
                    <a:pt x="95" y="419"/>
                  </a:lnTo>
                  <a:lnTo>
                    <a:pt x="78" y="413"/>
                  </a:lnTo>
                  <a:lnTo>
                    <a:pt x="62" y="408"/>
                  </a:lnTo>
                  <a:lnTo>
                    <a:pt x="54" y="404"/>
                  </a:lnTo>
                  <a:lnTo>
                    <a:pt x="47" y="400"/>
                  </a:lnTo>
                  <a:lnTo>
                    <a:pt x="41" y="395"/>
                  </a:lnTo>
                  <a:lnTo>
                    <a:pt x="34" y="389"/>
                  </a:lnTo>
                  <a:lnTo>
                    <a:pt x="28" y="383"/>
                  </a:lnTo>
                  <a:lnTo>
                    <a:pt x="23" y="376"/>
                  </a:lnTo>
                  <a:lnTo>
                    <a:pt x="19" y="368"/>
                  </a:lnTo>
                  <a:lnTo>
                    <a:pt x="15" y="360"/>
                  </a:lnTo>
                  <a:lnTo>
                    <a:pt x="15" y="350"/>
                  </a:lnTo>
                  <a:lnTo>
                    <a:pt x="12" y="342"/>
                  </a:lnTo>
                  <a:lnTo>
                    <a:pt x="10" y="333"/>
                  </a:lnTo>
                  <a:lnTo>
                    <a:pt x="7" y="324"/>
                  </a:lnTo>
                  <a:lnTo>
                    <a:pt x="4" y="316"/>
                  </a:lnTo>
                  <a:lnTo>
                    <a:pt x="4" y="308"/>
                  </a:lnTo>
                  <a:lnTo>
                    <a:pt x="6" y="304"/>
                  </a:lnTo>
                  <a:lnTo>
                    <a:pt x="7" y="300"/>
                  </a:lnTo>
                  <a:lnTo>
                    <a:pt x="10" y="297"/>
                  </a:lnTo>
                  <a:lnTo>
                    <a:pt x="12" y="293"/>
                  </a:lnTo>
                  <a:lnTo>
                    <a:pt x="14" y="286"/>
                  </a:lnTo>
                  <a:lnTo>
                    <a:pt x="14" y="278"/>
                  </a:lnTo>
                  <a:lnTo>
                    <a:pt x="12" y="270"/>
                  </a:lnTo>
                  <a:lnTo>
                    <a:pt x="11" y="263"/>
                  </a:lnTo>
                  <a:lnTo>
                    <a:pt x="10" y="255"/>
                  </a:lnTo>
                  <a:lnTo>
                    <a:pt x="7" y="249"/>
                  </a:lnTo>
                  <a:lnTo>
                    <a:pt x="3" y="241"/>
                  </a:lnTo>
                  <a:lnTo>
                    <a:pt x="0" y="234"/>
                  </a:lnTo>
                  <a:lnTo>
                    <a:pt x="3" y="231"/>
                  </a:lnTo>
                  <a:lnTo>
                    <a:pt x="7" y="229"/>
                  </a:lnTo>
                  <a:lnTo>
                    <a:pt x="11" y="226"/>
                  </a:lnTo>
                  <a:lnTo>
                    <a:pt x="15" y="223"/>
                  </a:lnTo>
                  <a:lnTo>
                    <a:pt x="18" y="219"/>
                  </a:lnTo>
                  <a:lnTo>
                    <a:pt x="19" y="215"/>
                  </a:lnTo>
                  <a:lnTo>
                    <a:pt x="18" y="211"/>
                  </a:lnTo>
                  <a:lnTo>
                    <a:pt x="15" y="206"/>
                  </a:lnTo>
                  <a:lnTo>
                    <a:pt x="15" y="206"/>
                  </a:lnTo>
                  <a:lnTo>
                    <a:pt x="14" y="206"/>
                  </a:lnTo>
                  <a:lnTo>
                    <a:pt x="14" y="205"/>
                  </a:lnTo>
                  <a:lnTo>
                    <a:pt x="14" y="205"/>
                  </a:lnTo>
                  <a:lnTo>
                    <a:pt x="12" y="205"/>
                  </a:lnTo>
                  <a:lnTo>
                    <a:pt x="12" y="205"/>
                  </a:lnTo>
                  <a:lnTo>
                    <a:pt x="11" y="203"/>
                  </a:lnTo>
                  <a:lnTo>
                    <a:pt x="10" y="205"/>
                  </a:lnTo>
                  <a:lnTo>
                    <a:pt x="14" y="178"/>
                  </a:lnTo>
                  <a:lnTo>
                    <a:pt x="19" y="152"/>
                  </a:lnTo>
                  <a:lnTo>
                    <a:pt x="24" y="127"/>
                  </a:lnTo>
                  <a:lnTo>
                    <a:pt x="30" y="101"/>
                  </a:lnTo>
                  <a:lnTo>
                    <a:pt x="35" y="76"/>
                  </a:lnTo>
                  <a:lnTo>
                    <a:pt x="38" y="51"/>
                  </a:lnTo>
                  <a:lnTo>
                    <a:pt x="38" y="39"/>
                  </a:lnTo>
                  <a:lnTo>
                    <a:pt x="36" y="25"/>
                  </a:lnTo>
                  <a:lnTo>
                    <a:pt x="35" y="12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5" y="2"/>
                  </a:lnTo>
                  <a:lnTo>
                    <a:pt x="50" y="6"/>
                  </a:lnTo>
                  <a:lnTo>
                    <a:pt x="55" y="10"/>
                  </a:lnTo>
                  <a:lnTo>
                    <a:pt x="61" y="14"/>
                  </a:lnTo>
                  <a:lnTo>
                    <a:pt x="63" y="20"/>
                  </a:lnTo>
                  <a:lnTo>
                    <a:pt x="67" y="25"/>
                  </a:lnTo>
                  <a:lnTo>
                    <a:pt x="69" y="31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31080" y="5542920"/>
              <a:ext cx="69840" cy="511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146" y="76"/>
                  </a:moveTo>
                  <a:lnTo>
                    <a:pt x="146" y="80"/>
                  </a:lnTo>
                  <a:lnTo>
                    <a:pt x="148" y="84"/>
                  </a:lnTo>
                  <a:lnTo>
                    <a:pt x="149" y="87"/>
                  </a:lnTo>
                  <a:lnTo>
                    <a:pt x="152" y="91"/>
                  </a:lnTo>
                  <a:lnTo>
                    <a:pt x="153" y="94"/>
                  </a:lnTo>
                  <a:lnTo>
                    <a:pt x="154" y="98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34" y="109"/>
                  </a:lnTo>
                  <a:lnTo>
                    <a:pt x="114" y="110"/>
                  </a:lnTo>
                  <a:lnTo>
                    <a:pt x="95" y="113"/>
                  </a:lnTo>
                  <a:lnTo>
                    <a:pt x="77" y="114"/>
                  </a:lnTo>
                  <a:lnTo>
                    <a:pt x="56" y="115"/>
                  </a:lnTo>
                  <a:lnTo>
                    <a:pt x="38" y="114"/>
                  </a:lnTo>
                  <a:lnTo>
                    <a:pt x="19" y="110"/>
                  </a:lnTo>
                  <a:lnTo>
                    <a:pt x="0" y="105"/>
                  </a:lnTo>
                  <a:lnTo>
                    <a:pt x="4" y="94"/>
                  </a:lnTo>
                  <a:lnTo>
                    <a:pt x="8" y="82"/>
                  </a:lnTo>
                  <a:lnTo>
                    <a:pt x="15" y="71"/>
                  </a:lnTo>
                  <a:lnTo>
                    <a:pt x="22" y="59"/>
                  </a:lnTo>
                  <a:lnTo>
                    <a:pt x="28" y="47"/>
                  </a:lnTo>
                  <a:lnTo>
                    <a:pt x="36" y="36"/>
                  </a:lnTo>
                  <a:lnTo>
                    <a:pt x="43" y="24"/>
                  </a:lnTo>
                  <a:lnTo>
                    <a:pt x="48" y="12"/>
                  </a:lnTo>
                  <a:lnTo>
                    <a:pt x="58" y="5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9" y="3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07" y="17"/>
                  </a:lnTo>
                  <a:lnTo>
                    <a:pt x="118" y="32"/>
                  </a:lnTo>
                  <a:lnTo>
                    <a:pt x="129" y="48"/>
                  </a:lnTo>
                  <a:lnTo>
                    <a:pt x="138" y="63"/>
                  </a:lnTo>
                  <a:lnTo>
                    <a:pt x="146" y="76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57840" y="5599440"/>
              <a:ext cx="123480" cy="72360"/>
            </a:xfrm>
            <a:custGeom>
              <a:avLst/>
              <a:gdLst/>
              <a:ahLst/>
              <a:rect l="l" t="t" r="r" b="b"/>
              <a:pathLst>
                <a:path w="270" h="165">
                  <a:moveTo>
                    <a:pt x="262" y="77"/>
                  </a:moveTo>
                  <a:lnTo>
                    <a:pt x="265" y="82"/>
                  </a:lnTo>
                  <a:lnTo>
                    <a:pt x="268" y="87"/>
                  </a:lnTo>
                  <a:lnTo>
                    <a:pt x="269" y="93"/>
                  </a:lnTo>
                  <a:lnTo>
                    <a:pt x="270" y="98"/>
                  </a:lnTo>
                  <a:lnTo>
                    <a:pt x="269" y="110"/>
                  </a:lnTo>
                  <a:lnTo>
                    <a:pt x="268" y="121"/>
                  </a:lnTo>
                  <a:lnTo>
                    <a:pt x="264" y="131"/>
                  </a:lnTo>
                  <a:lnTo>
                    <a:pt x="260" y="144"/>
                  </a:lnTo>
                  <a:lnTo>
                    <a:pt x="257" y="154"/>
                  </a:lnTo>
                  <a:lnTo>
                    <a:pt x="253" y="164"/>
                  </a:lnTo>
                  <a:lnTo>
                    <a:pt x="237" y="165"/>
                  </a:lnTo>
                  <a:lnTo>
                    <a:pt x="221" y="165"/>
                  </a:lnTo>
                  <a:lnTo>
                    <a:pt x="205" y="164"/>
                  </a:lnTo>
                  <a:lnTo>
                    <a:pt x="190" y="162"/>
                  </a:lnTo>
                  <a:lnTo>
                    <a:pt x="174" y="160"/>
                  </a:lnTo>
                  <a:lnTo>
                    <a:pt x="159" y="157"/>
                  </a:lnTo>
                  <a:lnTo>
                    <a:pt x="144" y="153"/>
                  </a:lnTo>
                  <a:lnTo>
                    <a:pt x="130" y="148"/>
                  </a:lnTo>
                  <a:lnTo>
                    <a:pt x="100" y="136"/>
                  </a:lnTo>
                  <a:lnTo>
                    <a:pt x="72" y="122"/>
                  </a:lnTo>
                  <a:lnTo>
                    <a:pt x="44" y="107"/>
                  </a:lnTo>
                  <a:lnTo>
                    <a:pt x="17" y="90"/>
                  </a:lnTo>
                  <a:lnTo>
                    <a:pt x="10" y="82"/>
                  </a:lnTo>
                  <a:lnTo>
                    <a:pt x="5" y="74"/>
                  </a:lnTo>
                  <a:lnTo>
                    <a:pt x="1" y="66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17" y="0"/>
                  </a:lnTo>
                  <a:lnTo>
                    <a:pt x="47" y="14"/>
                  </a:lnTo>
                  <a:lnTo>
                    <a:pt x="76" y="27"/>
                  </a:lnTo>
                  <a:lnTo>
                    <a:pt x="105" y="40"/>
                  </a:lnTo>
                  <a:lnTo>
                    <a:pt x="135" y="52"/>
                  </a:lnTo>
                  <a:lnTo>
                    <a:pt x="151" y="58"/>
                  </a:lnTo>
                  <a:lnTo>
                    <a:pt x="166" y="63"/>
                  </a:lnTo>
                  <a:lnTo>
                    <a:pt x="182" y="69"/>
                  </a:lnTo>
                  <a:lnTo>
                    <a:pt x="197" y="71"/>
                  </a:lnTo>
                  <a:lnTo>
                    <a:pt x="213" y="74"/>
                  </a:lnTo>
                  <a:lnTo>
                    <a:pt x="229" y="77"/>
                  </a:lnTo>
                  <a:lnTo>
                    <a:pt x="246" y="77"/>
                  </a:lnTo>
                  <a:lnTo>
                    <a:pt x="262" y="7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019760" y="5449320"/>
              <a:ext cx="376920" cy="648720"/>
              <a:chOff x="4019760" y="5449320"/>
              <a:chExt cx="376920" cy="648720"/>
            </a:xfrm>
          </p:grpSpPr>
          <p:sp>
            <p:nvSpPr>
              <p:cNvPr id="356" name=""/>
              <p:cNvSpPr/>
              <p:nvPr/>
            </p:nvSpPr>
            <p:spPr>
              <a:xfrm>
                <a:off x="4108680" y="5449320"/>
                <a:ext cx="128880" cy="121320"/>
              </a:xfrm>
              <a:custGeom>
                <a:avLst/>
                <a:gdLst/>
                <a:ahLst/>
                <a:rect l="l" t="t" r="r" b="b"/>
                <a:pathLst>
                  <a:path w="282" h="278">
                    <a:moveTo>
                      <a:pt x="98" y="13"/>
                    </a:moveTo>
                    <a:lnTo>
                      <a:pt x="115" y="33"/>
                    </a:lnTo>
                    <a:lnTo>
                      <a:pt x="136" y="52"/>
                    </a:lnTo>
                    <a:lnTo>
                      <a:pt x="154" y="70"/>
                    </a:lnTo>
                    <a:lnTo>
                      <a:pt x="174" y="88"/>
                    </a:lnTo>
                    <a:lnTo>
                      <a:pt x="193" y="107"/>
                    </a:lnTo>
                    <a:lnTo>
                      <a:pt x="211" y="125"/>
                    </a:lnTo>
                    <a:lnTo>
                      <a:pt x="219" y="135"/>
                    </a:lnTo>
                    <a:lnTo>
                      <a:pt x="227" y="145"/>
                    </a:lnTo>
                    <a:lnTo>
                      <a:pt x="233" y="158"/>
                    </a:lnTo>
                    <a:lnTo>
                      <a:pt x="240" y="168"/>
                    </a:lnTo>
                    <a:lnTo>
                      <a:pt x="247" y="178"/>
                    </a:lnTo>
                    <a:lnTo>
                      <a:pt x="253" y="187"/>
                    </a:lnTo>
                    <a:lnTo>
                      <a:pt x="260" y="195"/>
                    </a:lnTo>
                    <a:lnTo>
                      <a:pt x="268" y="203"/>
                    </a:lnTo>
                    <a:lnTo>
                      <a:pt x="274" y="211"/>
                    </a:lnTo>
                    <a:lnTo>
                      <a:pt x="279" y="220"/>
                    </a:lnTo>
                    <a:lnTo>
                      <a:pt x="282" y="230"/>
                    </a:lnTo>
                    <a:lnTo>
                      <a:pt x="282" y="241"/>
                    </a:lnTo>
                    <a:lnTo>
                      <a:pt x="278" y="245"/>
                    </a:lnTo>
                    <a:lnTo>
                      <a:pt x="275" y="250"/>
                    </a:lnTo>
                    <a:lnTo>
                      <a:pt x="272" y="255"/>
                    </a:lnTo>
                    <a:lnTo>
                      <a:pt x="269" y="259"/>
                    </a:lnTo>
                    <a:lnTo>
                      <a:pt x="267" y="265"/>
                    </a:lnTo>
                    <a:lnTo>
                      <a:pt x="263" y="270"/>
                    </a:lnTo>
                    <a:lnTo>
                      <a:pt x="260" y="274"/>
                    </a:lnTo>
                    <a:lnTo>
                      <a:pt x="255" y="278"/>
                    </a:lnTo>
                    <a:lnTo>
                      <a:pt x="227" y="243"/>
                    </a:lnTo>
                    <a:lnTo>
                      <a:pt x="196" y="207"/>
                    </a:lnTo>
                    <a:lnTo>
                      <a:pt x="165" y="172"/>
                    </a:lnTo>
                    <a:lnTo>
                      <a:pt x="134" y="136"/>
                    </a:lnTo>
                    <a:lnTo>
                      <a:pt x="102" y="103"/>
                    </a:lnTo>
                    <a:lnTo>
                      <a:pt x="69" y="68"/>
                    </a:lnTo>
                    <a:lnTo>
                      <a:pt x="35" y="34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22" y="12"/>
                    </a:lnTo>
                    <a:lnTo>
                      <a:pt x="35" y="17"/>
                    </a:lnTo>
                    <a:lnTo>
                      <a:pt x="47" y="20"/>
                    </a:lnTo>
                    <a:lnTo>
                      <a:pt x="60" y="21"/>
                    </a:lnTo>
                    <a:lnTo>
                      <a:pt x="73" y="20"/>
                    </a:lnTo>
                    <a:lnTo>
                      <a:pt x="86" y="18"/>
                    </a:lnTo>
                    <a:lnTo>
                      <a:pt x="98" y="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acd7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82560" y="5454360"/>
                <a:ext cx="29880" cy="100080"/>
              </a:xfrm>
              <a:custGeom>
                <a:avLst/>
                <a:gdLst/>
                <a:ahLst/>
                <a:rect l="l" t="t" r="r" b="b"/>
                <a:pathLst>
                  <a:path w="67" h="229">
                    <a:moveTo>
                      <a:pt x="59" y="21"/>
                    </a:moveTo>
                    <a:lnTo>
                      <a:pt x="63" y="34"/>
                    </a:lnTo>
                    <a:lnTo>
                      <a:pt x="64" y="48"/>
                    </a:lnTo>
                    <a:lnTo>
                      <a:pt x="65" y="61"/>
                    </a:lnTo>
                    <a:lnTo>
                      <a:pt x="67" y="73"/>
                    </a:lnTo>
                    <a:lnTo>
                      <a:pt x="65" y="100"/>
                    </a:lnTo>
                    <a:lnTo>
                      <a:pt x="63" y="125"/>
                    </a:lnTo>
                    <a:lnTo>
                      <a:pt x="57" y="151"/>
                    </a:lnTo>
                    <a:lnTo>
                      <a:pt x="52" y="176"/>
                    </a:lnTo>
                    <a:lnTo>
                      <a:pt x="47" y="203"/>
                    </a:lnTo>
                    <a:lnTo>
                      <a:pt x="41" y="229"/>
                    </a:lnTo>
                    <a:lnTo>
                      <a:pt x="36" y="222"/>
                    </a:lnTo>
                    <a:lnTo>
                      <a:pt x="31" y="215"/>
                    </a:lnTo>
                    <a:lnTo>
                      <a:pt x="26" y="208"/>
                    </a:lnTo>
                    <a:lnTo>
                      <a:pt x="21" y="202"/>
                    </a:lnTo>
                    <a:lnTo>
                      <a:pt x="17" y="195"/>
                    </a:lnTo>
                    <a:lnTo>
                      <a:pt x="12" y="190"/>
                    </a:lnTo>
                    <a:lnTo>
                      <a:pt x="5" y="184"/>
                    </a:lnTo>
                    <a:lnTo>
                      <a:pt x="0" y="179"/>
                    </a:lnTo>
                    <a:lnTo>
                      <a:pt x="1" y="166"/>
                    </a:lnTo>
                    <a:lnTo>
                      <a:pt x="2" y="152"/>
                    </a:lnTo>
                    <a:lnTo>
                      <a:pt x="6" y="137"/>
                    </a:lnTo>
                    <a:lnTo>
                      <a:pt x="9" y="124"/>
                    </a:lnTo>
                    <a:lnTo>
                      <a:pt x="12" y="111"/>
                    </a:lnTo>
                    <a:lnTo>
                      <a:pt x="14" y="97"/>
                    </a:lnTo>
                    <a:lnTo>
                      <a:pt x="16" y="84"/>
                    </a:lnTo>
                    <a:lnTo>
                      <a:pt x="16" y="71"/>
                    </a:lnTo>
                    <a:lnTo>
                      <a:pt x="17" y="63"/>
                    </a:lnTo>
                    <a:lnTo>
                      <a:pt x="18" y="53"/>
                    </a:lnTo>
                    <a:lnTo>
                      <a:pt x="17" y="42"/>
                    </a:lnTo>
                    <a:lnTo>
                      <a:pt x="16" y="33"/>
                    </a:lnTo>
                    <a:lnTo>
                      <a:pt x="16" y="24"/>
                    </a:lnTo>
                    <a:lnTo>
                      <a:pt x="17" y="14"/>
                    </a:lnTo>
                    <a:lnTo>
                      <a:pt x="18" y="10"/>
                    </a:lnTo>
                    <a:lnTo>
                      <a:pt x="21" y="6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4" y="1"/>
                    </a:lnTo>
                    <a:lnTo>
                      <a:pt x="48" y="4"/>
                    </a:lnTo>
                    <a:lnTo>
                      <a:pt x="52" y="8"/>
                    </a:lnTo>
                    <a:lnTo>
                      <a:pt x="55" y="12"/>
                    </a:lnTo>
                    <a:lnTo>
                      <a:pt x="57" y="16"/>
                    </a:lnTo>
                    <a:lnTo>
                      <a:pt x="59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acd7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019760" y="5600880"/>
                <a:ext cx="376920" cy="497160"/>
              </a:xfrm>
              <a:custGeom>
                <a:avLst/>
                <a:gdLst/>
                <a:ahLst/>
                <a:rect l="l" t="t" r="r" b="b"/>
                <a:pathLst>
                  <a:path w="824" h="1131">
                    <a:moveTo>
                      <a:pt x="597" y="3"/>
                    </a:moveTo>
                    <a:lnTo>
                      <a:pt x="604" y="11"/>
                    </a:lnTo>
                    <a:lnTo>
                      <a:pt x="608" y="20"/>
                    </a:lnTo>
                    <a:lnTo>
                      <a:pt x="612" y="31"/>
                    </a:lnTo>
                    <a:lnTo>
                      <a:pt x="616" y="41"/>
                    </a:lnTo>
                    <a:lnTo>
                      <a:pt x="623" y="63"/>
                    </a:lnTo>
                    <a:lnTo>
                      <a:pt x="630" y="86"/>
                    </a:lnTo>
                    <a:lnTo>
                      <a:pt x="634" y="95"/>
                    </a:lnTo>
                    <a:lnTo>
                      <a:pt x="639" y="104"/>
                    </a:lnTo>
                    <a:lnTo>
                      <a:pt x="644" y="114"/>
                    </a:lnTo>
                    <a:lnTo>
                      <a:pt x="652" y="122"/>
                    </a:lnTo>
                    <a:lnTo>
                      <a:pt x="660" y="127"/>
                    </a:lnTo>
                    <a:lnTo>
                      <a:pt x="671" y="131"/>
                    </a:lnTo>
                    <a:lnTo>
                      <a:pt x="683" y="135"/>
                    </a:lnTo>
                    <a:lnTo>
                      <a:pt x="698" y="135"/>
                    </a:lnTo>
                    <a:lnTo>
                      <a:pt x="699" y="147"/>
                    </a:lnTo>
                    <a:lnTo>
                      <a:pt x="702" y="161"/>
                    </a:lnTo>
                    <a:lnTo>
                      <a:pt x="703" y="173"/>
                    </a:lnTo>
                    <a:lnTo>
                      <a:pt x="706" y="186"/>
                    </a:lnTo>
                    <a:lnTo>
                      <a:pt x="707" y="198"/>
                    </a:lnTo>
                    <a:lnTo>
                      <a:pt x="709" y="212"/>
                    </a:lnTo>
                    <a:lnTo>
                      <a:pt x="710" y="225"/>
                    </a:lnTo>
                    <a:lnTo>
                      <a:pt x="710" y="237"/>
                    </a:lnTo>
                    <a:lnTo>
                      <a:pt x="705" y="242"/>
                    </a:lnTo>
                    <a:lnTo>
                      <a:pt x="709" y="248"/>
                    </a:lnTo>
                    <a:lnTo>
                      <a:pt x="714" y="250"/>
                    </a:lnTo>
                    <a:lnTo>
                      <a:pt x="719" y="253"/>
                    </a:lnTo>
                    <a:lnTo>
                      <a:pt x="725" y="254"/>
                    </a:lnTo>
                    <a:lnTo>
                      <a:pt x="731" y="256"/>
                    </a:lnTo>
                    <a:lnTo>
                      <a:pt x="738" y="254"/>
                    </a:lnTo>
                    <a:lnTo>
                      <a:pt x="745" y="254"/>
                    </a:lnTo>
                    <a:lnTo>
                      <a:pt x="752" y="253"/>
                    </a:lnTo>
                    <a:lnTo>
                      <a:pt x="758" y="248"/>
                    </a:lnTo>
                    <a:lnTo>
                      <a:pt x="762" y="242"/>
                    </a:lnTo>
                    <a:lnTo>
                      <a:pt x="766" y="237"/>
                    </a:lnTo>
                    <a:lnTo>
                      <a:pt x="768" y="230"/>
                    </a:lnTo>
                    <a:lnTo>
                      <a:pt x="769" y="225"/>
                    </a:lnTo>
                    <a:lnTo>
                      <a:pt x="769" y="220"/>
                    </a:lnTo>
                    <a:lnTo>
                      <a:pt x="768" y="213"/>
                    </a:lnTo>
                    <a:lnTo>
                      <a:pt x="766" y="206"/>
                    </a:lnTo>
                    <a:lnTo>
                      <a:pt x="761" y="194"/>
                    </a:lnTo>
                    <a:lnTo>
                      <a:pt x="757" y="181"/>
                    </a:lnTo>
                    <a:lnTo>
                      <a:pt x="754" y="174"/>
                    </a:lnTo>
                    <a:lnTo>
                      <a:pt x="753" y="169"/>
                    </a:lnTo>
                    <a:lnTo>
                      <a:pt x="753" y="162"/>
                    </a:lnTo>
                    <a:lnTo>
                      <a:pt x="753" y="155"/>
                    </a:lnTo>
                    <a:lnTo>
                      <a:pt x="756" y="157"/>
                    </a:lnTo>
                    <a:lnTo>
                      <a:pt x="760" y="158"/>
                    </a:lnTo>
                    <a:lnTo>
                      <a:pt x="762" y="158"/>
                    </a:lnTo>
                    <a:lnTo>
                      <a:pt x="766" y="158"/>
                    </a:lnTo>
                    <a:lnTo>
                      <a:pt x="769" y="155"/>
                    </a:lnTo>
                    <a:lnTo>
                      <a:pt x="772" y="154"/>
                    </a:lnTo>
                    <a:lnTo>
                      <a:pt x="773" y="151"/>
                    </a:lnTo>
                    <a:lnTo>
                      <a:pt x="774" y="149"/>
                    </a:lnTo>
                    <a:lnTo>
                      <a:pt x="774" y="143"/>
                    </a:lnTo>
                    <a:lnTo>
                      <a:pt x="782" y="149"/>
                    </a:lnTo>
                    <a:lnTo>
                      <a:pt x="786" y="169"/>
                    </a:lnTo>
                    <a:lnTo>
                      <a:pt x="792" y="190"/>
                    </a:lnTo>
                    <a:lnTo>
                      <a:pt x="796" y="213"/>
                    </a:lnTo>
                    <a:lnTo>
                      <a:pt x="800" y="234"/>
                    </a:lnTo>
                    <a:lnTo>
                      <a:pt x="804" y="256"/>
                    </a:lnTo>
                    <a:lnTo>
                      <a:pt x="806" y="278"/>
                    </a:lnTo>
                    <a:lnTo>
                      <a:pt x="809" y="300"/>
                    </a:lnTo>
                    <a:lnTo>
                      <a:pt x="809" y="321"/>
                    </a:lnTo>
                    <a:lnTo>
                      <a:pt x="813" y="328"/>
                    </a:lnTo>
                    <a:lnTo>
                      <a:pt x="816" y="335"/>
                    </a:lnTo>
                    <a:lnTo>
                      <a:pt x="819" y="341"/>
                    </a:lnTo>
                    <a:lnTo>
                      <a:pt x="821" y="348"/>
                    </a:lnTo>
                    <a:lnTo>
                      <a:pt x="823" y="363"/>
                    </a:lnTo>
                    <a:lnTo>
                      <a:pt x="824" y="378"/>
                    </a:lnTo>
                    <a:lnTo>
                      <a:pt x="823" y="391"/>
                    </a:lnTo>
                    <a:lnTo>
                      <a:pt x="821" y="406"/>
                    </a:lnTo>
                    <a:lnTo>
                      <a:pt x="820" y="418"/>
                    </a:lnTo>
                    <a:lnTo>
                      <a:pt x="820" y="428"/>
                    </a:lnTo>
                    <a:lnTo>
                      <a:pt x="820" y="415"/>
                    </a:lnTo>
                    <a:lnTo>
                      <a:pt x="820" y="402"/>
                    </a:lnTo>
                    <a:lnTo>
                      <a:pt x="820" y="390"/>
                    </a:lnTo>
                    <a:lnTo>
                      <a:pt x="820" y="378"/>
                    </a:lnTo>
                    <a:lnTo>
                      <a:pt x="819" y="365"/>
                    </a:lnTo>
                    <a:lnTo>
                      <a:pt x="815" y="355"/>
                    </a:lnTo>
                    <a:lnTo>
                      <a:pt x="812" y="349"/>
                    </a:lnTo>
                    <a:lnTo>
                      <a:pt x="809" y="344"/>
                    </a:lnTo>
                    <a:lnTo>
                      <a:pt x="805" y="339"/>
                    </a:lnTo>
                    <a:lnTo>
                      <a:pt x="800" y="333"/>
                    </a:lnTo>
                    <a:lnTo>
                      <a:pt x="784" y="332"/>
                    </a:lnTo>
                    <a:lnTo>
                      <a:pt x="768" y="331"/>
                    </a:lnTo>
                    <a:lnTo>
                      <a:pt x="750" y="328"/>
                    </a:lnTo>
                    <a:lnTo>
                      <a:pt x="734" y="327"/>
                    </a:lnTo>
                    <a:lnTo>
                      <a:pt x="718" y="324"/>
                    </a:lnTo>
                    <a:lnTo>
                      <a:pt x="703" y="319"/>
                    </a:lnTo>
                    <a:lnTo>
                      <a:pt x="689" y="313"/>
                    </a:lnTo>
                    <a:lnTo>
                      <a:pt x="674" y="307"/>
                    </a:lnTo>
                    <a:lnTo>
                      <a:pt x="668" y="308"/>
                    </a:lnTo>
                    <a:lnTo>
                      <a:pt x="663" y="308"/>
                    </a:lnTo>
                    <a:lnTo>
                      <a:pt x="658" y="308"/>
                    </a:lnTo>
                    <a:lnTo>
                      <a:pt x="652" y="308"/>
                    </a:lnTo>
                    <a:lnTo>
                      <a:pt x="648" y="308"/>
                    </a:lnTo>
                    <a:lnTo>
                      <a:pt x="643" y="309"/>
                    </a:lnTo>
                    <a:lnTo>
                      <a:pt x="638" y="312"/>
                    </a:lnTo>
                    <a:lnTo>
                      <a:pt x="634" y="316"/>
                    </a:lnTo>
                    <a:lnTo>
                      <a:pt x="632" y="336"/>
                    </a:lnTo>
                    <a:lnTo>
                      <a:pt x="628" y="355"/>
                    </a:lnTo>
                    <a:lnTo>
                      <a:pt x="624" y="374"/>
                    </a:lnTo>
                    <a:lnTo>
                      <a:pt x="620" y="392"/>
                    </a:lnTo>
                    <a:lnTo>
                      <a:pt x="616" y="411"/>
                    </a:lnTo>
                    <a:lnTo>
                      <a:pt x="614" y="430"/>
                    </a:lnTo>
                    <a:lnTo>
                      <a:pt x="614" y="448"/>
                    </a:lnTo>
                    <a:lnTo>
                      <a:pt x="616" y="467"/>
                    </a:lnTo>
                    <a:lnTo>
                      <a:pt x="619" y="469"/>
                    </a:lnTo>
                    <a:lnTo>
                      <a:pt x="620" y="470"/>
                    </a:lnTo>
                    <a:lnTo>
                      <a:pt x="623" y="473"/>
                    </a:lnTo>
                    <a:lnTo>
                      <a:pt x="626" y="475"/>
                    </a:lnTo>
                    <a:lnTo>
                      <a:pt x="628" y="477"/>
                    </a:lnTo>
                    <a:lnTo>
                      <a:pt x="631" y="478"/>
                    </a:lnTo>
                    <a:lnTo>
                      <a:pt x="635" y="478"/>
                    </a:lnTo>
                    <a:lnTo>
                      <a:pt x="639" y="477"/>
                    </a:lnTo>
                    <a:lnTo>
                      <a:pt x="651" y="483"/>
                    </a:lnTo>
                    <a:lnTo>
                      <a:pt x="663" y="491"/>
                    </a:lnTo>
                    <a:lnTo>
                      <a:pt x="674" y="501"/>
                    </a:lnTo>
                    <a:lnTo>
                      <a:pt x="685" y="509"/>
                    </a:lnTo>
                    <a:lnTo>
                      <a:pt x="697" y="518"/>
                    </a:lnTo>
                    <a:lnTo>
                      <a:pt x="707" y="526"/>
                    </a:lnTo>
                    <a:lnTo>
                      <a:pt x="718" y="534"/>
                    </a:lnTo>
                    <a:lnTo>
                      <a:pt x="730" y="541"/>
                    </a:lnTo>
                    <a:lnTo>
                      <a:pt x="733" y="540"/>
                    </a:lnTo>
                    <a:lnTo>
                      <a:pt x="735" y="538"/>
                    </a:lnTo>
                    <a:lnTo>
                      <a:pt x="738" y="536"/>
                    </a:lnTo>
                    <a:lnTo>
                      <a:pt x="741" y="534"/>
                    </a:lnTo>
                    <a:lnTo>
                      <a:pt x="742" y="531"/>
                    </a:lnTo>
                    <a:lnTo>
                      <a:pt x="745" y="530"/>
                    </a:lnTo>
                    <a:lnTo>
                      <a:pt x="745" y="526"/>
                    </a:lnTo>
                    <a:lnTo>
                      <a:pt x="746" y="523"/>
                    </a:lnTo>
                    <a:lnTo>
                      <a:pt x="748" y="518"/>
                    </a:lnTo>
                    <a:lnTo>
                      <a:pt x="750" y="514"/>
                    </a:lnTo>
                    <a:lnTo>
                      <a:pt x="754" y="510"/>
                    </a:lnTo>
                    <a:lnTo>
                      <a:pt x="758" y="507"/>
                    </a:lnTo>
                    <a:lnTo>
                      <a:pt x="762" y="506"/>
                    </a:lnTo>
                    <a:lnTo>
                      <a:pt x="768" y="503"/>
                    </a:lnTo>
                    <a:lnTo>
                      <a:pt x="772" y="502"/>
                    </a:lnTo>
                    <a:lnTo>
                      <a:pt x="777" y="501"/>
                    </a:lnTo>
                    <a:lnTo>
                      <a:pt x="812" y="475"/>
                    </a:lnTo>
                    <a:lnTo>
                      <a:pt x="812" y="495"/>
                    </a:lnTo>
                    <a:lnTo>
                      <a:pt x="810" y="515"/>
                    </a:lnTo>
                    <a:lnTo>
                      <a:pt x="806" y="536"/>
                    </a:lnTo>
                    <a:lnTo>
                      <a:pt x="804" y="556"/>
                    </a:lnTo>
                    <a:lnTo>
                      <a:pt x="793" y="596"/>
                    </a:lnTo>
                    <a:lnTo>
                      <a:pt x="781" y="635"/>
                    </a:lnTo>
                    <a:lnTo>
                      <a:pt x="769" y="673"/>
                    </a:lnTo>
                    <a:lnTo>
                      <a:pt x="756" y="712"/>
                    </a:lnTo>
                    <a:lnTo>
                      <a:pt x="745" y="751"/>
                    </a:lnTo>
                    <a:lnTo>
                      <a:pt x="735" y="791"/>
                    </a:lnTo>
                    <a:lnTo>
                      <a:pt x="729" y="794"/>
                    </a:lnTo>
                    <a:lnTo>
                      <a:pt x="723" y="797"/>
                    </a:lnTo>
                    <a:lnTo>
                      <a:pt x="721" y="801"/>
                    </a:lnTo>
                    <a:lnTo>
                      <a:pt x="718" y="805"/>
                    </a:lnTo>
                    <a:lnTo>
                      <a:pt x="714" y="815"/>
                    </a:lnTo>
                    <a:lnTo>
                      <a:pt x="714" y="827"/>
                    </a:lnTo>
                    <a:lnTo>
                      <a:pt x="715" y="841"/>
                    </a:lnTo>
                    <a:lnTo>
                      <a:pt x="715" y="854"/>
                    </a:lnTo>
                    <a:lnTo>
                      <a:pt x="715" y="866"/>
                    </a:lnTo>
                    <a:lnTo>
                      <a:pt x="713" y="878"/>
                    </a:lnTo>
                    <a:lnTo>
                      <a:pt x="709" y="888"/>
                    </a:lnTo>
                    <a:lnTo>
                      <a:pt x="706" y="897"/>
                    </a:lnTo>
                    <a:lnTo>
                      <a:pt x="703" y="908"/>
                    </a:lnTo>
                    <a:lnTo>
                      <a:pt x="701" y="918"/>
                    </a:lnTo>
                    <a:lnTo>
                      <a:pt x="699" y="929"/>
                    </a:lnTo>
                    <a:lnTo>
                      <a:pt x="697" y="940"/>
                    </a:lnTo>
                    <a:lnTo>
                      <a:pt x="695" y="951"/>
                    </a:lnTo>
                    <a:lnTo>
                      <a:pt x="694" y="963"/>
                    </a:lnTo>
                    <a:lnTo>
                      <a:pt x="689" y="980"/>
                    </a:lnTo>
                    <a:lnTo>
                      <a:pt x="683" y="1000"/>
                    </a:lnTo>
                    <a:lnTo>
                      <a:pt x="678" y="1020"/>
                    </a:lnTo>
                    <a:lnTo>
                      <a:pt x="674" y="1040"/>
                    </a:lnTo>
                    <a:lnTo>
                      <a:pt x="672" y="1060"/>
                    </a:lnTo>
                    <a:lnTo>
                      <a:pt x="672" y="1080"/>
                    </a:lnTo>
                    <a:lnTo>
                      <a:pt x="674" y="1091"/>
                    </a:lnTo>
                    <a:lnTo>
                      <a:pt x="675" y="1101"/>
                    </a:lnTo>
                    <a:lnTo>
                      <a:pt x="678" y="1111"/>
                    </a:lnTo>
                    <a:lnTo>
                      <a:pt x="682" y="1121"/>
                    </a:lnTo>
                    <a:lnTo>
                      <a:pt x="663" y="1123"/>
                    </a:lnTo>
                    <a:lnTo>
                      <a:pt x="644" y="1125"/>
                    </a:lnTo>
                    <a:lnTo>
                      <a:pt x="626" y="1126"/>
                    </a:lnTo>
                    <a:lnTo>
                      <a:pt x="607" y="1127"/>
                    </a:lnTo>
                    <a:lnTo>
                      <a:pt x="588" y="1127"/>
                    </a:lnTo>
                    <a:lnTo>
                      <a:pt x="569" y="1127"/>
                    </a:lnTo>
                    <a:lnTo>
                      <a:pt x="551" y="1126"/>
                    </a:lnTo>
                    <a:lnTo>
                      <a:pt x="533" y="1123"/>
                    </a:lnTo>
                    <a:lnTo>
                      <a:pt x="530" y="1090"/>
                    </a:lnTo>
                    <a:lnTo>
                      <a:pt x="530" y="1055"/>
                    </a:lnTo>
                    <a:lnTo>
                      <a:pt x="532" y="1022"/>
                    </a:lnTo>
                    <a:lnTo>
                      <a:pt x="534" y="988"/>
                    </a:lnTo>
                    <a:lnTo>
                      <a:pt x="539" y="955"/>
                    </a:lnTo>
                    <a:lnTo>
                      <a:pt x="541" y="921"/>
                    </a:lnTo>
                    <a:lnTo>
                      <a:pt x="544" y="886"/>
                    </a:lnTo>
                    <a:lnTo>
                      <a:pt x="544" y="853"/>
                    </a:lnTo>
                    <a:lnTo>
                      <a:pt x="553" y="855"/>
                    </a:lnTo>
                    <a:lnTo>
                      <a:pt x="561" y="857"/>
                    </a:lnTo>
                    <a:lnTo>
                      <a:pt x="569" y="858"/>
                    </a:lnTo>
                    <a:lnTo>
                      <a:pt x="577" y="858"/>
                    </a:lnTo>
                    <a:lnTo>
                      <a:pt x="593" y="857"/>
                    </a:lnTo>
                    <a:lnTo>
                      <a:pt x="611" y="854"/>
                    </a:lnTo>
                    <a:lnTo>
                      <a:pt x="627" y="850"/>
                    </a:lnTo>
                    <a:lnTo>
                      <a:pt x="643" y="846"/>
                    </a:lnTo>
                    <a:lnTo>
                      <a:pt x="658" y="842"/>
                    </a:lnTo>
                    <a:lnTo>
                      <a:pt x="674" y="839"/>
                    </a:lnTo>
                    <a:lnTo>
                      <a:pt x="677" y="838"/>
                    </a:lnTo>
                    <a:lnTo>
                      <a:pt x="679" y="838"/>
                    </a:lnTo>
                    <a:lnTo>
                      <a:pt x="682" y="837"/>
                    </a:lnTo>
                    <a:lnTo>
                      <a:pt x="685" y="835"/>
                    </a:lnTo>
                    <a:lnTo>
                      <a:pt x="687" y="835"/>
                    </a:lnTo>
                    <a:lnTo>
                      <a:pt x="690" y="833"/>
                    </a:lnTo>
                    <a:lnTo>
                      <a:pt x="693" y="831"/>
                    </a:lnTo>
                    <a:lnTo>
                      <a:pt x="694" y="829"/>
                    </a:lnTo>
                    <a:lnTo>
                      <a:pt x="694" y="825"/>
                    </a:lnTo>
                    <a:lnTo>
                      <a:pt x="693" y="821"/>
                    </a:lnTo>
                    <a:lnTo>
                      <a:pt x="690" y="818"/>
                    </a:lnTo>
                    <a:lnTo>
                      <a:pt x="687" y="817"/>
                    </a:lnTo>
                    <a:lnTo>
                      <a:pt x="682" y="817"/>
                    </a:lnTo>
                    <a:lnTo>
                      <a:pt x="675" y="818"/>
                    </a:lnTo>
                    <a:lnTo>
                      <a:pt x="668" y="821"/>
                    </a:lnTo>
                    <a:lnTo>
                      <a:pt x="660" y="823"/>
                    </a:lnTo>
                    <a:lnTo>
                      <a:pt x="652" y="825"/>
                    </a:lnTo>
                    <a:lnTo>
                      <a:pt x="646" y="825"/>
                    </a:lnTo>
                    <a:lnTo>
                      <a:pt x="547" y="831"/>
                    </a:lnTo>
                    <a:lnTo>
                      <a:pt x="549" y="810"/>
                    </a:lnTo>
                    <a:lnTo>
                      <a:pt x="549" y="787"/>
                    </a:lnTo>
                    <a:lnTo>
                      <a:pt x="549" y="766"/>
                    </a:lnTo>
                    <a:lnTo>
                      <a:pt x="547" y="743"/>
                    </a:lnTo>
                    <a:lnTo>
                      <a:pt x="545" y="720"/>
                    </a:lnTo>
                    <a:lnTo>
                      <a:pt x="543" y="698"/>
                    </a:lnTo>
                    <a:lnTo>
                      <a:pt x="540" y="675"/>
                    </a:lnTo>
                    <a:lnTo>
                      <a:pt x="539" y="651"/>
                    </a:lnTo>
                    <a:lnTo>
                      <a:pt x="543" y="643"/>
                    </a:lnTo>
                    <a:lnTo>
                      <a:pt x="544" y="635"/>
                    </a:lnTo>
                    <a:lnTo>
                      <a:pt x="544" y="627"/>
                    </a:lnTo>
                    <a:lnTo>
                      <a:pt x="544" y="619"/>
                    </a:lnTo>
                    <a:lnTo>
                      <a:pt x="544" y="612"/>
                    </a:lnTo>
                    <a:lnTo>
                      <a:pt x="548" y="606"/>
                    </a:lnTo>
                    <a:lnTo>
                      <a:pt x="551" y="604"/>
                    </a:lnTo>
                    <a:lnTo>
                      <a:pt x="553" y="602"/>
                    </a:lnTo>
                    <a:lnTo>
                      <a:pt x="559" y="601"/>
                    </a:lnTo>
                    <a:lnTo>
                      <a:pt x="564" y="600"/>
                    </a:lnTo>
                    <a:lnTo>
                      <a:pt x="584" y="602"/>
                    </a:lnTo>
                    <a:lnTo>
                      <a:pt x="603" y="606"/>
                    </a:lnTo>
                    <a:lnTo>
                      <a:pt x="622" y="612"/>
                    </a:lnTo>
                    <a:lnTo>
                      <a:pt x="640" y="617"/>
                    </a:lnTo>
                    <a:lnTo>
                      <a:pt x="659" y="621"/>
                    </a:lnTo>
                    <a:lnTo>
                      <a:pt x="678" y="625"/>
                    </a:lnTo>
                    <a:lnTo>
                      <a:pt x="697" y="628"/>
                    </a:lnTo>
                    <a:lnTo>
                      <a:pt x="718" y="628"/>
                    </a:lnTo>
                    <a:lnTo>
                      <a:pt x="719" y="627"/>
                    </a:lnTo>
                    <a:lnTo>
                      <a:pt x="721" y="625"/>
                    </a:lnTo>
                    <a:lnTo>
                      <a:pt x="721" y="624"/>
                    </a:lnTo>
                    <a:lnTo>
                      <a:pt x="722" y="623"/>
                    </a:lnTo>
                    <a:lnTo>
                      <a:pt x="722" y="621"/>
                    </a:lnTo>
                    <a:lnTo>
                      <a:pt x="723" y="619"/>
                    </a:lnTo>
                    <a:lnTo>
                      <a:pt x="723" y="617"/>
                    </a:lnTo>
                    <a:lnTo>
                      <a:pt x="723" y="614"/>
                    </a:lnTo>
                    <a:lnTo>
                      <a:pt x="717" y="609"/>
                    </a:lnTo>
                    <a:lnTo>
                      <a:pt x="710" y="605"/>
                    </a:lnTo>
                    <a:lnTo>
                      <a:pt x="703" y="602"/>
                    </a:lnTo>
                    <a:lnTo>
                      <a:pt x="697" y="600"/>
                    </a:lnTo>
                    <a:lnTo>
                      <a:pt x="682" y="596"/>
                    </a:lnTo>
                    <a:lnTo>
                      <a:pt x="666" y="594"/>
                    </a:lnTo>
                    <a:lnTo>
                      <a:pt x="651" y="592"/>
                    </a:lnTo>
                    <a:lnTo>
                      <a:pt x="635" y="589"/>
                    </a:lnTo>
                    <a:lnTo>
                      <a:pt x="628" y="588"/>
                    </a:lnTo>
                    <a:lnTo>
                      <a:pt x="622" y="585"/>
                    </a:lnTo>
                    <a:lnTo>
                      <a:pt x="615" y="581"/>
                    </a:lnTo>
                    <a:lnTo>
                      <a:pt x="608" y="577"/>
                    </a:lnTo>
                    <a:lnTo>
                      <a:pt x="610" y="573"/>
                    </a:lnTo>
                    <a:lnTo>
                      <a:pt x="612" y="570"/>
                    </a:lnTo>
                    <a:lnTo>
                      <a:pt x="615" y="569"/>
                    </a:lnTo>
                    <a:lnTo>
                      <a:pt x="619" y="569"/>
                    </a:lnTo>
                    <a:lnTo>
                      <a:pt x="626" y="570"/>
                    </a:lnTo>
                    <a:lnTo>
                      <a:pt x="634" y="572"/>
                    </a:lnTo>
                    <a:lnTo>
                      <a:pt x="642" y="574"/>
                    </a:lnTo>
                    <a:lnTo>
                      <a:pt x="648" y="573"/>
                    </a:lnTo>
                    <a:lnTo>
                      <a:pt x="651" y="572"/>
                    </a:lnTo>
                    <a:lnTo>
                      <a:pt x="655" y="569"/>
                    </a:lnTo>
                    <a:lnTo>
                      <a:pt x="656" y="565"/>
                    </a:lnTo>
                    <a:lnTo>
                      <a:pt x="659" y="558"/>
                    </a:lnTo>
                    <a:lnTo>
                      <a:pt x="658" y="554"/>
                    </a:lnTo>
                    <a:lnTo>
                      <a:pt x="658" y="552"/>
                    </a:lnTo>
                    <a:lnTo>
                      <a:pt x="655" y="548"/>
                    </a:lnTo>
                    <a:lnTo>
                      <a:pt x="654" y="545"/>
                    </a:lnTo>
                    <a:lnTo>
                      <a:pt x="651" y="542"/>
                    </a:lnTo>
                    <a:lnTo>
                      <a:pt x="648" y="540"/>
                    </a:lnTo>
                    <a:lnTo>
                      <a:pt x="644" y="538"/>
                    </a:lnTo>
                    <a:lnTo>
                      <a:pt x="640" y="536"/>
                    </a:lnTo>
                    <a:lnTo>
                      <a:pt x="631" y="537"/>
                    </a:lnTo>
                    <a:lnTo>
                      <a:pt x="622" y="541"/>
                    </a:lnTo>
                    <a:lnTo>
                      <a:pt x="612" y="546"/>
                    </a:lnTo>
                    <a:lnTo>
                      <a:pt x="604" y="552"/>
                    </a:lnTo>
                    <a:lnTo>
                      <a:pt x="596" y="557"/>
                    </a:lnTo>
                    <a:lnTo>
                      <a:pt x="587" y="562"/>
                    </a:lnTo>
                    <a:lnTo>
                      <a:pt x="577" y="565"/>
                    </a:lnTo>
                    <a:lnTo>
                      <a:pt x="567" y="566"/>
                    </a:lnTo>
                    <a:lnTo>
                      <a:pt x="559" y="570"/>
                    </a:lnTo>
                    <a:lnTo>
                      <a:pt x="549" y="573"/>
                    </a:lnTo>
                    <a:lnTo>
                      <a:pt x="539" y="576"/>
                    </a:lnTo>
                    <a:lnTo>
                      <a:pt x="529" y="577"/>
                    </a:lnTo>
                    <a:lnTo>
                      <a:pt x="508" y="580"/>
                    </a:lnTo>
                    <a:lnTo>
                      <a:pt x="486" y="580"/>
                    </a:lnTo>
                    <a:lnTo>
                      <a:pt x="463" y="580"/>
                    </a:lnTo>
                    <a:lnTo>
                      <a:pt x="443" y="578"/>
                    </a:lnTo>
                    <a:lnTo>
                      <a:pt x="422" y="576"/>
                    </a:lnTo>
                    <a:lnTo>
                      <a:pt x="403" y="574"/>
                    </a:lnTo>
                    <a:lnTo>
                      <a:pt x="390" y="570"/>
                    </a:lnTo>
                    <a:lnTo>
                      <a:pt x="375" y="568"/>
                    </a:lnTo>
                    <a:lnTo>
                      <a:pt x="360" y="566"/>
                    </a:lnTo>
                    <a:lnTo>
                      <a:pt x="346" y="564"/>
                    </a:lnTo>
                    <a:lnTo>
                      <a:pt x="332" y="561"/>
                    </a:lnTo>
                    <a:lnTo>
                      <a:pt x="317" y="557"/>
                    </a:lnTo>
                    <a:lnTo>
                      <a:pt x="304" y="552"/>
                    </a:lnTo>
                    <a:lnTo>
                      <a:pt x="292" y="546"/>
                    </a:lnTo>
                    <a:lnTo>
                      <a:pt x="287" y="546"/>
                    </a:lnTo>
                    <a:lnTo>
                      <a:pt x="281" y="546"/>
                    </a:lnTo>
                    <a:lnTo>
                      <a:pt x="276" y="546"/>
                    </a:lnTo>
                    <a:lnTo>
                      <a:pt x="272" y="546"/>
                    </a:lnTo>
                    <a:lnTo>
                      <a:pt x="268" y="548"/>
                    </a:lnTo>
                    <a:lnTo>
                      <a:pt x="264" y="549"/>
                    </a:lnTo>
                    <a:lnTo>
                      <a:pt x="261" y="552"/>
                    </a:lnTo>
                    <a:lnTo>
                      <a:pt x="257" y="556"/>
                    </a:lnTo>
                    <a:lnTo>
                      <a:pt x="265" y="564"/>
                    </a:lnTo>
                    <a:lnTo>
                      <a:pt x="273" y="569"/>
                    </a:lnTo>
                    <a:lnTo>
                      <a:pt x="281" y="573"/>
                    </a:lnTo>
                    <a:lnTo>
                      <a:pt x="291" y="576"/>
                    </a:lnTo>
                    <a:lnTo>
                      <a:pt x="301" y="578"/>
                    </a:lnTo>
                    <a:lnTo>
                      <a:pt x="311" y="581"/>
                    </a:lnTo>
                    <a:lnTo>
                      <a:pt x="320" y="584"/>
                    </a:lnTo>
                    <a:lnTo>
                      <a:pt x="330" y="586"/>
                    </a:lnTo>
                    <a:lnTo>
                      <a:pt x="351" y="588"/>
                    </a:lnTo>
                    <a:lnTo>
                      <a:pt x="371" y="590"/>
                    </a:lnTo>
                    <a:lnTo>
                      <a:pt x="392" y="593"/>
                    </a:lnTo>
                    <a:lnTo>
                      <a:pt x="413" y="597"/>
                    </a:lnTo>
                    <a:lnTo>
                      <a:pt x="434" y="600"/>
                    </a:lnTo>
                    <a:lnTo>
                      <a:pt x="455" y="602"/>
                    </a:lnTo>
                    <a:lnTo>
                      <a:pt x="477" y="604"/>
                    </a:lnTo>
                    <a:lnTo>
                      <a:pt x="498" y="602"/>
                    </a:lnTo>
                    <a:lnTo>
                      <a:pt x="492" y="605"/>
                    </a:lnTo>
                    <a:lnTo>
                      <a:pt x="484" y="608"/>
                    </a:lnTo>
                    <a:lnTo>
                      <a:pt x="477" y="609"/>
                    </a:lnTo>
                    <a:lnTo>
                      <a:pt x="469" y="609"/>
                    </a:lnTo>
                    <a:lnTo>
                      <a:pt x="454" y="610"/>
                    </a:lnTo>
                    <a:lnTo>
                      <a:pt x="439" y="609"/>
                    </a:lnTo>
                    <a:lnTo>
                      <a:pt x="425" y="609"/>
                    </a:lnTo>
                    <a:lnTo>
                      <a:pt x="410" y="612"/>
                    </a:lnTo>
                    <a:lnTo>
                      <a:pt x="402" y="613"/>
                    </a:lnTo>
                    <a:lnTo>
                      <a:pt x="395" y="616"/>
                    </a:lnTo>
                    <a:lnTo>
                      <a:pt x="390" y="620"/>
                    </a:lnTo>
                    <a:lnTo>
                      <a:pt x="383" y="625"/>
                    </a:lnTo>
                    <a:lnTo>
                      <a:pt x="387" y="629"/>
                    </a:lnTo>
                    <a:lnTo>
                      <a:pt x="392" y="632"/>
                    </a:lnTo>
                    <a:lnTo>
                      <a:pt x="398" y="635"/>
                    </a:lnTo>
                    <a:lnTo>
                      <a:pt x="403" y="636"/>
                    </a:lnTo>
                    <a:lnTo>
                      <a:pt x="414" y="637"/>
                    </a:lnTo>
                    <a:lnTo>
                      <a:pt x="425" y="637"/>
                    </a:lnTo>
                    <a:lnTo>
                      <a:pt x="435" y="636"/>
                    </a:lnTo>
                    <a:lnTo>
                      <a:pt x="447" y="635"/>
                    </a:lnTo>
                    <a:lnTo>
                      <a:pt x="457" y="632"/>
                    </a:lnTo>
                    <a:lnTo>
                      <a:pt x="468" y="631"/>
                    </a:lnTo>
                    <a:lnTo>
                      <a:pt x="472" y="632"/>
                    </a:lnTo>
                    <a:lnTo>
                      <a:pt x="476" y="631"/>
                    </a:lnTo>
                    <a:lnTo>
                      <a:pt x="481" y="629"/>
                    </a:lnTo>
                    <a:lnTo>
                      <a:pt x="485" y="628"/>
                    </a:lnTo>
                    <a:lnTo>
                      <a:pt x="490" y="628"/>
                    </a:lnTo>
                    <a:lnTo>
                      <a:pt x="494" y="628"/>
                    </a:lnTo>
                    <a:lnTo>
                      <a:pt x="498" y="631"/>
                    </a:lnTo>
                    <a:lnTo>
                      <a:pt x="501" y="636"/>
                    </a:lnTo>
                    <a:lnTo>
                      <a:pt x="504" y="664"/>
                    </a:lnTo>
                    <a:lnTo>
                      <a:pt x="508" y="693"/>
                    </a:lnTo>
                    <a:lnTo>
                      <a:pt x="513" y="722"/>
                    </a:lnTo>
                    <a:lnTo>
                      <a:pt x="516" y="751"/>
                    </a:lnTo>
                    <a:lnTo>
                      <a:pt x="518" y="781"/>
                    </a:lnTo>
                    <a:lnTo>
                      <a:pt x="518" y="810"/>
                    </a:lnTo>
                    <a:lnTo>
                      <a:pt x="517" y="825"/>
                    </a:lnTo>
                    <a:lnTo>
                      <a:pt x="514" y="839"/>
                    </a:lnTo>
                    <a:lnTo>
                      <a:pt x="512" y="853"/>
                    </a:lnTo>
                    <a:lnTo>
                      <a:pt x="508" y="868"/>
                    </a:lnTo>
                    <a:lnTo>
                      <a:pt x="490" y="872"/>
                    </a:lnTo>
                    <a:lnTo>
                      <a:pt x="472" y="876"/>
                    </a:lnTo>
                    <a:lnTo>
                      <a:pt x="454" y="878"/>
                    </a:lnTo>
                    <a:lnTo>
                      <a:pt x="435" y="881"/>
                    </a:lnTo>
                    <a:lnTo>
                      <a:pt x="417" y="882"/>
                    </a:lnTo>
                    <a:lnTo>
                      <a:pt x="398" y="884"/>
                    </a:lnTo>
                    <a:lnTo>
                      <a:pt x="379" y="882"/>
                    </a:lnTo>
                    <a:lnTo>
                      <a:pt x="360" y="881"/>
                    </a:lnTo>
                    <a:lnTo>
                      <a:pt x="350" y="889"/>
                    </a:lnTo>
                    <a:lnTo>
                      <a:pt x="356" y="896"/>
                    </a:lnTo>
                    <a:lnTo>
                      <a:pt x="363" y="901"/>
                    </a:lnTo>
                    <a:lnTo>
                      <a:pt x="372" y="905"/>
                    </a:lnTo>
                    <a:lnTo>
                      <a:pt x="380" y="906"/>
                    </a:lnTo>
                    <a:lnTo>
                      <a:pt x="390" y="908"/>
                    </a:lnTo>
                    <a:lnTo>
                      <a:pt x="401" y="909"/>
                    </a:lnTo>
                    <a:lnTo>
                      <a:pt x="410" y="910"/>
                    </a:lnTo>
                    <a:lnTo>
                      <a:pt x="419" y="912"/>
                    </a:lnTo>
                    <a:lnTo>
                      <a:pt x="430" y="908"/>
                    </a:lnTo>
                    <a:lnTo>
                      <a:pt x="441" y="904"/>
                    </a:lnTo>
                    <a:lnTo>
                      <a:pt x="451" y="900"/>
                    </a:lnTo>
                    <a:lnTo>
                      <a:pt x="462" y="896"/>
                    </a:lnTo>
                    <a:lnTo>
                      <a:pt x="473" y="892"/>
                    </a:lnTo>
                    <a:lnTo>
                      <a:pt x="485" y="889"/>
                    </a:lnTo>
                    <a:lnTo>
                      <a:pt x="496" y="889"/>
                    </a:lnTo>
                    <a:lnTo>
                      <a:pt x="508" y="890"/>
                    </a:lnTo>
                    <a:lnTo>
                      <a:pt x="506" y="918"/>
                    </a:lnTo>
                    <a:lnTo>
                      <a:pt x="505" y="947"/>
                    </a:lnTo>
                    <a:lnTo>
                      <a:pt x="502" y="975"/>
                    </a:lnTo>
                    <a:lnTo>
                      <a:pt x="500" y="1003"/>
                    </a:lnTo>
                    <a:lnTo>
                      <a:pt x="498" y="1032"/>
                    </a:lnTo>
                    <a:lnTo>
                      <a:pt x="498" y="1060"/>
                    </a:lnTo>
                    <a:lnTo>
                      <a:pt x="500" y="1090"/>
                    </a:lnTo>
                    <a:lnTo>
                      <a:pt x="502" y="1118"/>
                    </a:lnTo>
                    <a:lnTo>
                      <a:pt x="498" y="1122"/>
                    </a:lnTo>
                    <a:lnTo>
                      <a:pt x="494" y="1126"/>
                    </a:lnTo>
                    <a:lnTo>
                      <a:pt x="490" y="1127"/>
                    </a:lnTo>
                    <a:lnTo>
                      <a:pt x="485" y="1130"/>
                    </a:lnTo>
                    <a:lnTo>
                      <a:pt x="474" y="1131"/>
                    </a:lnTo>
                    <a:lnTo>
                      <a:pt x="462" y="1130"/>
                    </a:lnTo>
                    <a:lnTo>
                      <a:pt x="450" y="1129"/>
                    </a:lnTo>
                    <a:lnTo>
                      <a:pt x="438" y="1127"/>
                    </a:lnTo>
                    <a:lnTo>
                      <a:pt x="426" y="1126"/>
                    </a:lnTo>
                    <a:lnTo>
                      <a:pt x="414" y="1127"/>
                    </a:lnTo>
                    <a:lnTo>
                      <a:pt x="396" y="1123"/>
                    </a:lnTo>
                    <a:lnTo>
                      <a:pt x="379" y="1118"/>
                    </a:lnTo>
                    <a:lnTo>
                      <a:pt x="363" y="1114"/>
                    </a:lnTo>
                    <a:lnTo>
                      <a:pt x="346" y="1109"/>
                    </a:lnTo>
                    <a:lnTo>
                      <a:pt x="328" y="1103"/>
                    </a:lnTo>
                    <a:lnTo>
                      <a:pt x="312" y="1096"/>
                    </a:lnTo>
                    <a:lnTo>
                      <a:pt x="297" y="1088"/>
                    </a:lnTo>
                    <a:lnTo>
                      <a:pt x="284" y="1079"/>
                    </a:lnTo>
                    <a:lnTo>
                      <a:pt x="281" y="1080"/>
                    </a:lnTo>
                    <a:lnTo>
                      <a:pt x="280" y="1080"/>
                    </a:lnTo>
                    <a:lnTo>
                      <a:pt x="279" y="1080"/>
                    </a:lnTo>
                    <a:lnTo>
                      <a:pt x="277" y="1079"/>
                    </a:lnTo>
                    <a:lnTo>
                      <a:pt x="276" y="1078"/>
                    </a:lnTo>
                    <a:lnTo>
                      <a:pt x="276" y="1076"/>
                    </a:lnTo>
                    <a:lnTo>
                      <a:pt x="275" y="1074"/>
                    </a:lnTo>
                    <a:lnTo>
                      <a:pt x="273" y="1072"/>
                    </a:lnTo>
                    <a:lnTo>
                      <a:pt x="276" y="1070"/>
                    </a:lnTo>
                    <a:lnTo>
                      <a:pt x="279" y="1068"/>
                    </a:lnTo>
                    <a:lnTo>
                      <a:pt x="283" y="1067"/>
                    </a:lnTo>
                    <a:lnTo>
                      <a:pt x="287" y="1064"/>
                    </a:lnTo>
                    <a:lnTo>
                      <a:pt x="289" y="1063"/>
                    </a:lnTo>
                    <a:lnTo>
                      <a:pt x="292" y="1060"/>
                    </a:lnTo>
                    <a:lnTo>
                      <a:pt x="293" y="1056"/>
                    </a:lnTo>
                    <a:lnTo>
                      <a:pt x="293" y="1051"/>
                    </a:lnTo>
                    <a:lnTo>
                      <a:pt x="265" y="1036"/>
                    </a:lnTo>
                    <a:lnTo>
                      <a:pt x="264" y="1016"/>
                    </a:lnTo>
                    <a:lnTo>
                      <a:pt x="263" y="997"/>
                    </a:lnTo>
                    <a:lnTo>
                      <a:pt x="261" y="977"/>
                    </a:lnTo>
                    <a:lnTo>
                      <a:pt x="259" y="957"/>
                    </a:lnTo>
                    <a:lnTo>
                      <a:pt x="254" y="939"/>
                    </a:lnTo>
                    <a:lnTo>
                      <a:pt x="249" y="920"/>
                    </a:lnTo>
                    <a:lnTo>
                      <a:pt x="244" y="901"/>
                    </a:lnTo>
                    <a:lnTo>
                      <a:pt x="234" y="882"/>
                    </a:lnTo>
                    <a:lnTo>
                      <a:pt x="237" y="882"/>
                    </a:lnTo>
                    <a:lnTo>
                      <a:pt x="240" y="881"/>
                    </a:lnTo>
                    <a:lnTo>
                      <a:pt x="242" y="880"/>
                    </a:lnTo>
                    <a:lnTo>
                      <a:pt x="245" y="880"/>
                    </a:lnTo>
                    <a:lnTo>
                      <a:pt x="246" y="878"/>
                    </a:lnTo>
                    <a:lnTo>
                      <a:pt x="249" y="877"/>
                    </a:lnTo>
                    <a:lnTo>
                      <a:pt x="250" y="876"/>
                    </a:lnTo>
                    <a:lnTo>
                      <a:pt x="253" y="873"/>
                    </a:lnTo>
                    <a:lnTo>
                      <a:pt x="250" y="869"/>
                    </a:lnTo>
                    <a:lnTo>
                      <a:pt x="248" y="865"/>
                    </a:lnTo>
                    <a:lnTo>
                      <a:pt x="244" y="862"/>
                    </a:lnTo>
                    <a:lnTo>
                      <a:pt x="240" y="860"/>
                    </a:lnTo>
                    <a:lnTo>
                      <a:pt x="234" y="858"/>
                    </a:lnTo>
                    <a:lnTo>
                      <a:pt x="230" y="857"/>
                    </a:lnTo>
                    <a:lnTo>
                      <a:pt x="225" y="855"/>
                    </a:lnTo>
                    <a:lnTo>
                      <a:pt x="220" y="854"/>
                    </a:lnTo>
                    <a:lnTo>
                      <a:pt x="208" y="837"/>
                    </a:lnTo>
                    <a:lnTo>
                      <a:pt x="198" y="818"/>
                    </a:lnTo>
                    <a:lnTo>
                      <a:pt x="190" y="799"/>
                    </a:lnTo>
                    <a:lnTo>
                      <a:pt x="183" y="779"/>
                    </a:lnTo>
                    <a:lnTo>
                      <a:pt x="175" y="759"/>
                    </a:lnTo>
                    <a:lnTo>
                      <a:pt x="169" y="740"/>
                    </a:lnTo>
                    <a:lnTo>
                      <a:pt x="161" y="720"/>
                    </a:lnTo>
                    <a:lnTo>
                      <a:pt x="150" y="702"/>
                    </a:lnTo>
                    <a:lnTo>
                      <a:pt x="137" y="684"/>
                    </a:lnTo>
                    <a:lnTo>
                      <a:pt x="123" y="665"/>
                    </a:lnTo>
                    <a:lnTo>
                      <a:pt x="111" y="647"/>
                    </a:lnTo>
                    <a:lnTo>
                      <a:pt x="99" y="628"/>
                    </a:lnTo>
                    <a:lnTo>
                      <a:pt x="88" y="609"/>
                    </a:lnTo>
                    <a:lnTo>
                      <a:pt x="78" y="590"/>
                    </a:lnTo>
                    <a:lnTo>
                      <a:pt x="67" y="570"/>
                    </a:lnTo>
                    <a:lnTo>
                      <a:pt x="56" y="552"/>
                    </a:lnTo>
                    <a:lnTo>
                      <a:pt x="55" y="545"/>
                    </a:lnTo>
                    <a:lnTo>
                      <a:pt x="54" y="540"/>
                    </a:lnTo>
                    <a:lnTo>
                      <a:pt x="51" y="534"/>
                    </a:lnTo>
                    <a:lnTo>
                      <a:pt x="48" y="530"/>
                    </a:lnTo>
                    <a:lnTo>
                      <a:pt x="44" y="525"/>
                    </a:lnTo>
                    <a:lnTo>
                      <a:pt x="41" y="519"/>
                    </a:lnTo>
                    <a:lnTo>
                      <a:pt x="37" y="515"/>
                    </a:lnTo>
                    <a:lnTo>
                      <a:pt x="33" y="510"/>
                    </a:lnTo>
                    <a:lnTo>
                      <a:pt x="29" y="501"/>
                    </a:lnTo>
                    <a:lnTo>
                      <a:pt x="25" y="491"/>
                    </a:lnTo>
                    <a:lnTo>
                      <a:pt x="23" y="482"/>
                    </a:lnTo>
                    <a:lnTo>
                      <a:pt x="19" y="473"/>
                    </a:lnTo>
                    <a:lnTo>
                      <a:pt x="15" y="463"/>
                    </a:lnTo>
                    <a:lnTo>
                      <a:pt x="11" y="454"/>
                    </a:lnTo>
                    <a:lnTo>
                      <a:pt x="7" y="444"/>
                    </a:lnTo>
                    <a:lnTo>
                      <a:pt x="0" y="436"/>
                    </a:lnTo>
                    <a:lnTo>
                      <a:pt x="1" y="428"/>
                    </a:lnTo>
                    <a:lnTo>
                      <a:pt x="3" y="422"/>
                    </a:lnTo>
                    <a:lnTo>
                      <a:pt x="5" y="415"/>
                    </a:lnTo>
                    <a:lnTo>
                      <a:pt x="9" y="408"/>
                    </a:lnTo>
                    <a:lnTo>
                      <a:pt x="17" y="395"/>
                    </a:lnTo>
                    <a:lnTo>
                      <a:pt x="25" y="383"/>
                    </a:lnTo>
                    <a:lnTo>
                      <a:pt x="36" y="371"/>
                    </a:lnTo>
                    <a:lnTo>
                      <a:pt x="44" y="359"/>
                    </a:lnTo>
                    <a:lnTo>
                      <a:pt x="51" y="347"/>
                    </a:lnTo>
                    <a:lnTo>
                      <a:pt x="56" y="333"/>
                    </a:lnTo>
                    <a:lnTo>
                      <a:pt x="64" y="325"/>
                    </a:lnTo>
                    <a:lnTo>
                      <a:pt x="71" y="316"/>
                    </a:lnTo>
                    <a:lnTo>
                      <a:pt x="76" y="305"/>
                    </a:lnTo>
                    <a:lnTo>
                      <a:pt x="80" y="293"/>
                    </a:lnTo>
                    <a:lnTo>
                      <a:pt x="86" y="282"/>
                    </a:lnTo>
                    <a:lnTo>
                      <a:pt x="90" y="270"/>
                    </a:lnTo>
                    <a:lnTo>
                      <a:pt x="95" y="260"/>
                    </a:lnTo>
                    <a:lnTo>
                      <a:pt x="103" y="250"/>
                    </a:lnTo>
                    <a:lnTo>
                      <a:pt x="103" y="246"/>
                    </a:lnTo>
                    <a:lnTo>
                      <a:pt x="104" y="244"/>
                    </a:lnTo>
                    <a:lnTo>
                      <a:pt x="106" y="240"/>
                    </a:lnTo>
                    <a:lnTo>
                      <a:pt x="107" y="237"/>
                    </a:lnTo>
                    <a:lnTo>
                      <a:pt x="108" y="234"/>
                    </a:lnTo>
                    <a:lnTo>
                      <a:pt x="111" y="230"/>
                    </a:lnTo>
                    <a:lnTo>
                      <a:pt x="112" y="228"/>
                    </a:lnTo>
                    <a:lnTo>
                      <a:pt x="115" y="225"/>
                    </a:lnTo>
                    <a:lnTo>
                      <a:pt x="119" y="225"/>
                    </a:lnTo>
                    <a:lnTo>
                      <a:pt x="122" y="226"/>
                    </a:lnTo>
                    <a:lnTo>
                      <a:pt x="126" y="228"/>
                    </a:lnTo>
                    <a:lnTo>
                      <a:pt x="130" y="229"/>
                    </a:lnTo>
                    <a:lnTo>
                      <a:pt x="134" y="229"/>
                    </a:lnTo>
                    <a:lnTo>
                      <a:pt x="137" y="229"/>
                    </a:lnTo>
                    <a:lnTo>
                      <a:pt x="141" y="228"/>
                    </a:lnTo>
                    <a:lnTo>
                      <a:pt x="143" y="225"/>
                    </a:lnTo>
                    <a:lnTo>
                      <a:pt x="143" y="221"/>
                    </a:lnTo>
                    <a:lnTo>
                      <a:pt x="143" y="218"/>
                    </a:lnTo>
                    <a:lnTo>
                      <a:pt x="142" y="214"/>
                    </a:lnTo>
                    <a:lnTo>
                      <a:pt x="139" y="212"/>
                    </a:lnTo>
                    <a:lnTo>
                      <a:pt x="137" y="209"/>
                    </a:lnTo>
                    <a:lnTo>
                      <a:pt x="134" y="207"/>
                    </a:lnTo>
                    <a:lnTo>
                      <a:pt x="130" y="205"/>
                    </a:lnTo>
                    <a:lnTo>
                      <a:pt x="127" y="203"/>
                    </a:lnTo>
                    <a:lnTo>
                      <a:pt x="123" y="203"/>
                    </a:lnTo>
                    <a:lnTo>
                      <a:pt x="123" y="189"/>
                    </a:lnTo>
                    <a:lnTo>
                      <a:pt x="129" y="190"/>
                    </a:lnTo>
                    <a:lnTo>
                      <a:pt x="134" y="190"/>
                    </a:lnTo>
                    <a:lnTo>
                      <a:pt x="138" y="187"/>
                    </a:lnTo>
                    <a:lnTo>
                      <a:pt x="141" y="185"/>
                    </a:lnTo>
                    <a:lnTo>
                      <a:pt x="145" y="181"/>
                    </a:lnTo>
                    <a:lnTo>
                      <a:pt x="147" y="177"/>
                    </a:lnTo>
                    <a:lnTo>
                      <a:pt x="151" y="173"/>
                    </a:lnTo>
                    <a:lnTo>
                      <a:pt x="157" y="171"/>
                    </a:lnTo>
                    <a:lnTo>
                      <a:pt x="154" y="167"/>
                    </a:lnTo>
                    <a:lnTo>
                      <a:pt x="153" y="165"/>
                    </a:lnTo>
                    <a:lnTo>
                      <a:pt x="150" y="161"/>
                    </a:lnTo>
                    <a:lnTo>
                      <a:pt x="149" y="157"/>
                    </a:lnTo>
                    <a:lnTo>
                      <a:pt x="149" y="153"/>
                    </a:lnTo>
                    <a:lnTo>
                      <a:pt x="149" y="150"/>
                    </a:lnTo>
                    <a:lnTo>
                      <a:pt x="150" y="146"/>
                    </a:lnTo>
                    <a:lnTo>
                      <a:pt x="154" y="143"/>
                    </a:lnTo>
                    <a:lnTo>
                      <a:pt x="161" y="142"/>
                    </a:lnTo>
                    <a:lnTo>
                      <a:pt x="167" y="141"/>
                    </a:lnTo>
                    <a:lnTo>
                      <a:pt x="174" y="142"/>
                    </a:lnTo>
                    <a:lnTo>
                      <a:pt x="181" y="142"/>
                    </a:lnTo>
                    <a:lnTo>
                      <a:pt x="189" y="143"/>
                    </a:lnTo>
                    <a:lnTo>
                      <a:pt x="196" y="146"/>
                    </a:lnTo>
                    <a:lnTo>
                      <a:pt x="202" y="147"/>
                    </a:lnTo>
                    <a:lnTo>
                      <a:pt x="210" y="149"/>
                    </a:lnTo>
                    <a:lnTo>
                      <a:pt x="209" y="165"/>
                    </a:lnTo>
                    <a:lnTo>
                      <a:pt x="208" y="181"/>
                    </a:lnTo>
                    <a:lnTo>
                      <a:pt x="206" y="197"/>
                    </a:lnTo>
                    <a:lnTo>
                      <a:pt x="205" y="213"/>
                    </a:lnTo>
                    <a:lnTo>
                      <a:pt x="205" y="229"/>
                    </a:lnTo>
                    <a:lnTo>
                      <a:pt x="205" y="245"/>
                    </a:lnTo>
                    <a:lnTo>
                      <a:pt x="208" y="260"/>
                    </a:lnTo>
                    <a:lnTo>
                      <a:pt x="212" y="276"/>
                    </a:lnTo>
                    <a:lnTo>
                      <a:pt x="214" y="276"/>
                    </a:lnTo>
                    <a:lnTo>
                      <a:pt x="218" y="277"/>
                    </a:lnTo>
                    <a:lnTo>
                      <a:pt x="221" y="278"/>
                    </a:lnTo>
                    <a:lnTo>
                      <a:pt x="224" y="280"/>
                    </a:lnTo>
                    <a:lnTo>
                      <a:pt x="226" y="280"/>
                    </a:lnTo>
                    <a:lnTo>
                      <a:pt x="229" y="281"/>
                    </a:lnTo>
                    <a:lnTo>
                      <a:pt x="232" y="281"/>
                    </a:lnTo>
                    <a:lnTo>
                      <a:pt x="234" y="280"/>
                    </a:lnTo>
                    <a:lnTo>
                      <a:pt x="240" y="276"/>
                    </a:lnTo>
                    <a:lnTo>
                      <a:pt x="244" y="274"/>
                    </a:lnTo>
                    <a:lnTo>
                      <a:pt x="249" y="273"/>
                    </a:lnTo>
                    <a:lnTo>
                      <a:pt x="253" y="274"/>
                    </a:lnTo>
                    <a:lnTo>
                      <a:pt x="259" y="276"/>
                    </a:lnTo>
                    <a:lnTo>
                      <a:pt x="264" y="276"/>
                    </a:lnTo>
                    <a:lnTo>
                      <a:pt x="269" y="274"/>
                    </a:lnTo>
                    <a:lnTo>
                      <a:pt x="273" y="270"/>
                    </a:lnTo>
                    <a:lnTo>
                      <a:pt x="271" y="254"/>
                    </a:lnTo>
                    <a:lnTo>
                      <a:pt x="268" y="238"/>
                    </a:lnTo>
                    <a:lnTo>
                      <a:pt x="268" y="222"/>
                    </a:lnTo>
                    <a:lnTo>
                      <a:pt x="269" y="206"/>
                    </a:lnTo>
                    <a:lnTo>
                      <a:pt x="271" y="190"/>
                    </a:lnTo>
                    <a:lnTo>
                      <a:pt x="272" y="174"/>
                    </a:lnTo>
                    <a:lnTo>
                      <a:pt x="273" y="158"/>
                    </a:lnTo>
                    <a:lnTo>
                      <a:pt x="273" y="143"/>
                    </a:lnTo>
                    <a:lnTo>
                      <a:pt x="287" y="145"/>
                    </a:lnTo>
                    <a:lnTo>
                      <a:pt x="299" y="143"/>
                    </a:lnTo>
                    <a:lnTo>
                      <a:pt x="311" y="142"/>
                    </a:lnTo>
                    <a:lnTo>
                      <a:pt x="323" y="139"/>
                    </a:lnTo>
                    <a:lnTo>
                      <a:pt x="334" y="137"/>
                    </a:lnTo>
                    <a:lnTo>
                      <a:pt x="346" y="133"/>
                    </a:lnTo>
                    <a:lnTo>
                      <a:pt x="358" y="130"/>
                    </a:lnTo>
                    <a:lnTo>
                      <a:pt x="371" y="127"/>
                    </a:lnTo>
                    <a:lnTo>
                      <a:pt x="374" y="124"/>
                    </a:lnTo>
                    <a:lnTo>
                      <a:pt x="376" y="123"/>
                    </a:lnTo>
                    <a:lnTo>
                      <a:pt x="380" y="122"/>
                    </a:lnTo>
                    <a:lnTo>
                      <a:pt x="383" y="122"/>
                    </a:lnTo>
                    <a:lnTo>
                      <a:pt x="391" y="122"/>
                    </a:lnTo>
                    <a:lnTo>
                      <a:pt x="398" y="123"/>
                    </a:lnTo>
                    <a:lnTo>
                      <a:pt x="406" y="124"/>
                    </a:lnTo>
                    <a:lnTo>
                      <a:pt x="413" y="124"/>
                    </a:lnTo>
                    <a:lnTo>
                      <a:pt x="417" y="124"/>
                    </a:lnTo>
                    <a:lnTo>
                      <a:pt x="421" y="123"/>
                    </a:lnTo>
                    <a:lnTo>
                      <a:pt x="423" y="120"/>
                    </a:lnTo>
                    <a:lnTo>
                      <a:pt x="426" y="118"/>
                    </a:lnTo>
                    <a:lnTo>
                      <a:pt x="427" y="116"/>
                    </a:lnTo>
                    <a:lnTo>
                      <a:pt x="427" y="114"/>
                    </a:lnTo>
                    <a:lnTo>
                      <a:pt x="429" y="112"/>
                    </a:lnTo>
                    <a:lnTo>
                      <a:pt x="429" y="111"/>
                    </a:lnTo>
                    <a:lnTo>
                      <a:pt x="429" y="110"/>
                    </a:lnTo>
                    <a:lnTo>
                      <a:pt x="429" y="108"/>
                    </a:lnTo>
                    <a:lnTo>
                      <a:pt x="430" y="106"/>
                    </a:lnTo>
                    <a:lnTo>
                      <a:pt x="429" y="104"/>
                    </a:lnTo>
                    <a:lnTo>
                      <a:pt x="423" y="103"/>
                    </a:lnTo>
                    <a:lnTo>
                      <a:pt x="419" y="100"/>
                    </a:lnTo>
                    <a:lnTo>
                      <a:pt x="418" y="98"/>
                    </a:lnTo>
                    <a:lnTo>
                      <a:pt x="417" y="95"/>
                    </a:lnTo>
                    <a:lnTo>
                      <a:pt x="417" y="87"/>
                    </a:lnTo>
                    <a:lnTo>
                      <a:pt x="421" y="79"/>
                    </a:lnTo>
                    <a:lnTo>
                      <a:pt x="425" y="71"/>
                    </a:lnTo>
                    <a:lnTo>
                      <a:pt x="430" y="62"/>
                    </a:lnTo>
                    <a:lnTo>
                      <a:pt x="431" y="58"/>
                    </a:lnTo>
                    <a:lnTo>
                      <a:pt x="433" y="52"/>
                    </a:lnTo>
                    <a:lnTo>
                      <a:pt x="433" y="48"/>
                    </a:lnTo>
                    <a:lnTo>
                      <a:pt x="431" y="43"/>
                    </a:lnTo>
                    <a:lnTo>
                      <a:pt x="435" y="39"/>
                    </a:lnTo>
                    <a:lnTo>
                      <a:pt x="438" y="33"/>
                    </a:lnTo>
                    <a:lnTo>
                      <a:pt x="439" y="28"/>
                    </a:lnTo>
                    <a:lnTo>
                      <a:pt x="441" y="23"/>
                    </a:lnTo>
                    <a:lnTo>
                      <a:pt x="442" y="16"/>
                    </a:lnTo>
                    <a:lnTo>
                      <a:pt x="443" y="11"/>
                    </a:lnTo>
                    <a:lnTo>
                      <a:pt x="445" y="5"/>
                    </a:lnTo>
                    <a:lnTo>
                      <a:pt x="447" y="0"/>
                    </a:lnTo>
                    <a:lnTo>
                      <a:pt x="465" y="4"/>
                    </a:lnTo>
                    <a:lnTo>
                      <a:pt x="482" y="5"/>
                    </a:lnTo>
                    <a:lnTo>
                      <a:pt x="501" y="7"/>
                    </a:lnTo>
                    <a:lnTo>
                      <a:pt x="520" y="5"/>
                    </a:lnTo>
                    <a:lnTo>
                      <a:pt x="539" y="5"/>
                    </a:lnTo>
                    <a:lnTo>
                      <a:pt x="559" y="4"/>
                    </a:lnTo>
                    <a:lnTo>
                      <a:pt x="579" y="3"/>
                    </a:lnTo>
                    <a:lnTo>
                      <a:pt x="597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acd7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3871800" y="5653800"/>
              <a:ext cx="187560" cy="176760"/>
            </a:xfrm>
            <a:custGeom>
              <a:avLst/>
              <a:gdLst/>
              <a:ahLst/>
              <a:rect l="l" t="t" r="r" b="b"/>
              <a:pathLst>
                <a:path w="411" h="401">
                  <a:moveTo>
                    <a:pt x="411" y="64"/>
                  </a:moveTo>
                  <a:lnTo>
                    <a:pt x="410" y="81"/>
                  </a:lnTo>
                  <a:lnTo>
                    <a:pt x="406" y="98"/>
                  </a:lnTo>
                  <a:lnTo>
                    <a:pt x="400" y="114"/>
                  </a:lnTo>
                  <a:lnTo>
                    <a:pt x="394" y="130"/>
                  </a:lnTo>
                  <a:lnTo>
                    <a:pt x="386" y="144"/>
                  </a:lnTo>
                  <a:lnTo>
                    <a:pt x="378" y="160"/>
                  </a:lnTo>
                  <a:lnTo>
                    <a:pt x="369" y="177"/>
                  </a:lnTo>
                  <a:lnTo>
                    <a:pt x="363" y="191"/>
                  </a:lnTo>
                  <a:lnTo>
                    <a:pt x="357" y="201"/>
                  </a:lnTo>
                  <a:lnTo>
                    <a:pt x="351" y="211"/>
                  </a:lnTo>
                  <a:lnTo>
                    <a:pt x="345" y="221"/>
                  </a:lnTo>
                  <a:lnTo>
                    <a:pt x="339" y="230"/>
                  </a:lnTo>
                  <a:lnTo>
                    <a:pt x="331" y="239"/>
                  </a:lnTo>
                  <a:lnTo>
                    <a:pt x="324" y="250"/>
                  </a:lnTo>
                  <a:lnTo>
                    <a:pt x="316" y="260"/>
                  </a:lnTo>
                  <a:lnTo>
                    <a:pt x="309" y="269"/>
                  </a:lnTo>
                  <a:lnTo>
                    <a:pt x="305" y="270"/>
                  </a:lnTo>
                  <a:lnTo>
                    <a:pt x="300" y="270"/>
                  </a:lnTo>
                  <a:lnTo>
                    <a:pt x="296" y="272"/>
                  </a:lnTo>
                  <a:lnTo>
                    <a:pt x="292" y="272"/>
                  </a:lnTo>
                  <a:lnTo>
                    <a:pt x="288" y="273"/>
                  </a:lnTo>
                  <a:lnTo>
                    <a:pt x="284" y="274"/>
                  </a:lnTo>
                  <a:lnTo>
                    <a:pt x="280" y="276"/>
                  </a:lnTo>
                  <a:lnTo>
                    <a:pt x="276" y="278"/>
                  </a:lnTo>
                  <a:lnTo>
                    <a:pt x="276" y="286"/>
                  </a:lnTo>
                  <a:lnTo>
                    <a:pt x="274" y="293"/>
                  </a:lnTo>
                  <a:lnTo>
                    <a:pt x="272" y="298"/>
                  </a:lnTo>
                  <a:lnTo>
                    <a:pt x="268" y="301"/>
                  </a:lnTo>
                  <a:lnTo>
                    <a:pt x="264" y="305"/>
                  </a:lnTo>
                  <a:lnTo>
                    <a:pt x="257" y="308"/>
                  </a:lnTo>
                  <a:lnTo>
                    <a:pt x="252" y="309"/>
                  </a:lnTo>
                  <a:lnTo>
                    <a:pt x="245" y="312"/>
                  </a:lnTo>
                  <a:lnTo>
                    <a:pt x="234" y="310"/>
                  </a:lnTo>
                  <a:lnTo>
                    <a:pt x="222" y="309"/>
                  </a:lnTo>
                  <a:lnTo>
                    <a:pt x="210" y="309"/>
                  </a:lnTo>
                  <a:lnTo>
                    <a:pt x="198" y="310"/>
                  </a:lnTo>
                  <a:lnTo>
                    <a:pt x="193" y="312"/>
                  </a:lnTo>
                  <a:lnTo>
                    <a:pt x="187" y="314"/>
                  </a:lnTo>
                  <a:lnTo>
                    <a:pt x="183" y="317"/>
                  </a:lnTo>
                  <a:lnTo>
                    <a:pt x="181" y="320"/>
                  </a:lnTo>
                  <a:lnTo>
                    <a:pt x="178" y="325"/>
                  </a:lnTo>
                  <a:lnTo>
                    <a:pt x="177" y="330"/>
                  </a:lnTo>
                  <a:lnTo>
                    <a:pt x="177" y="337"/>
                  </a:lnTo>
                  <a:lnTo>
                    <a:pt x="179" y="345"/>
                  </a:lnTo>
                  <a:lnTo>
                    <a:pt x="178" y="351"/>
                  </a:lnTo>
                  <a:lnTo>
                    <a:pt x="178" y="355"/>
                  </a:lnTo>
                  <a:lnTo>
                    <a:pt x="179" y="360"/>
                  </a:lnTo>
                  <a:lnTo>
                    <a:pt x="179" y="365"/>
                  </a:lnTo>
                  <a:lnTo>
                    <a:pt x="181" y="369"/>
                  </a:lnTo>
                  <a:lnTo>
                    <a:pt x="183" y="373"/>
                  </a:lnTo>
                  <a:lnTo>
                    <a:pt x="187" y="377"/>
                  </a:lnTo>
                  <a:lnTo>
                    <a:pt x="191" y="380"/>
                  </a:lnTo>
                  <a:lnTo>
                    <a:pt x="171" y="393"/>
                  </a:lnTo>
                  <a:lnTo>
                    <a:pt x="166" y="389"/>
                  </a:lnTo>
                  <a:lnTo>
                    <a:pt x="163" y="383"/>
                  </a:lnTo>
                  <a:lnTo>
                    <a:pt x="163" y="377"/>
                  </a:lnTo>
                  <a:lnTo>
                    <a:pt x="164" y="371"/>
                  </a:lnTo>
                  <a:lnTo>
                    <a:pt x="166" y="364"/>
                  </a:lnTo>
                  <a:lnTo>
                    <a:pt x="166" y="357"/>
                  </a:lnTo>
                  <a:lnTo>
                    <a:pt x="167" y="351"/>
                  </a:lnTo>
                  <a:lnTo>
                    <a:pt x="166" y="345"/>
                  </a:lnTo>
                  <a:lnTo>
                    <a:pt x="182" y="289"/>
                  </a:lnTo>
                  <a:lnTo>
                    <a:pt x="179" y="286"/>
                  </a:lnTo>
                  <a:lnTo>
                    <a:pt x="178" y="285"/>
                  </a:lnTo>
                  <a:lnTo>
                    <a:pt x="175" y="284"/>
                  </a:lnTo>
                  <a:lnTo>
                    <a:pt x="173" y="282"/>
                  </a:lnTo>
                  <a:lnTo>
                    <a:pt x="170" y="281"/>
                  </a:lnTo>
                  <a:lnTo>
                    <a:pt x="167" y="281"/>
                  </a:lnTo>
                  <a:lnTo>
                    <a:pt x="164" y="281"/>
                  </a:lnTo>
                  <a:lnTo>
                    <a:pt x="160" y="281"/>
                  </a:lnTo>
                  <a:lnTo>
                    <a:pt x="156" y="289"/>
                  </a:lnTo>
                  <a:lnTo>
                    <a:pt x="152" y="298"/>
                  </a:lnTo>
                  <a:lnTo>
                    <a:pt x="150" y="308"/>
                  </a:lnTo>
                  <a:lnTo>
                    <a:pt x="147" y="317"/>
                  </a:lnTo>
                  <a:lnTo>
                    <a:pt x="146" y="326"/>
                  </a:lnTo>
                  <a:lnTo>
                    <a:pt x="143" y="337"/>
                  </a:lnTo>
                  <a:lnTo>
                    <a:pt x="140" y="345"/>
                  </a:lnTo>
                  <a:lnTo>
                    <a:pt x="138" y="355"/>
                  </a:lnTo>
                  <a:lnTo>
                    <a:pt x="138" y="401"/>
                  </a:lnTo>
                  <a:lnTo>
                    <a:pt x="131" y="401"/>
                  </a:lnTo>
                  <a:lnTo>
                    <a:pt x="126" y="400"/>
                  </a:lnTo>
                  <a:lnTo>
                    <a:pt x="123" y="396"/>
                  </a:lnTo>
                  <a:lnTo>
                    <a:pt x="120" y="392"/>
                  </a:lnTo>
                  <a:lnTo>
                    <a:pt x="119" y="387"/>
                  </a:lnTo>
                  <a:lnTo>
                    <a:pt x="118" y="380"/>
                  </a:lnTo>
                  <a:lnTo>
                    <a:pt x="116" y="375"/>
                  </a:lnTo>
                  <a:lnTo>
                    <a:pt x="115" y="371"/>
                  </a:lnTo>
                  <a:lnTo>
                    <a:pt x="112" y="359"/>
                  </a:lnTo>
                  <a:lnTo>
                    <a:pt x="111" y="345"/>
                  </a:lnTo>
                  <a:lnTo>
                    <a:pt x="110" y="333"/>
                  </a:lnTo>
                  <a:lnTo>
                    <a:pt x="108" y="321"/>
                  </a:lnTo>
                  <a:lnTo>
                    <a:pt x="110" y="308"/>
                  </a:lnTo>
                  <a:lnTo>
                    <a:pt x="111" y="296"/>
                  </a:lnTo>
                  <a:lnTo>
                    <a:pt x="115" y="284"/>
                  </a:lnTo>
                  <a:lnTo>
                    <a:pt x="120" y="272"/>
                  </a:lnTo>
                  <a:lnTo>
                    <a:pt x="118" y="270"/>
                  </a:lnTo>
                  <a:lnTo>
                    <a:pt x="116" y="269"/>
                  </a:lnTo>
                  <a:lnTo>
                    <a:pt x="114" y="268"/>
                  </a:lnTo>
                  <a:lnTo>
                    <a:pt x="111" y="266"/>
                  </a:lnTo>
                  <a:lnTo>
                    <a:pt x="110" y="266"/>
                  </a:lnTo>
                  <a:lnTo>
                    <a:pt x="107" y="265"/>
                  </a:lnTo>
                  <a:lnTo>
                    <a:pt x="104" y="265"/>
                  </a:lnTo>
                  <a:lnTo>
                    <a:pt x="102" y="265"/>
                  </a:lnTo>
                  <a:lnTo>
                    <a:pt x="98" y="269"/>
                  </a:lnTo>
                  <a:lnTo>
                    <a:pt x="95" y="273"/>
                  </a:lnTo>
                  <a:lnTo>
                    <a:pt x="91" y="277"/>
                  </a:lnTo>
                  <a:lnTo>
                    <a:pt x="89" y="282"/>
                  </a:lnTo>
                  <a:lnTo>
                    <a:pt x="85" y="292"/>
                  </a:lnTo>
                  <a:lnTo>
                    <a:pt x="84" y="302"/>
                  </a:lnTo>
                  <a:lnTo>
                    <a:pt x="83" y="314"/>
                  </a:lnTo>
                  <a:lnTo>
                    <a:pt x="83" y="325"/>
                  </a:lnTo>
                  <a:lnTo>
                    <a:pt x="83" y="337"/>
                  </a:lnTo>
                  <a:lnTo>
                    <a:pt x="81" y="348"/>
                  </a:lnTo>
                  <a:lnTo>
                    <a:pt x="81" y="351"/>
                  </a:lnTo>
                  <a:lnTo>
                    <a:pt x="81" y="353"/>
                  </a:lnTo>
                  <a:lnTo>
                    <a:pt x="81" y="356"/>
                  </a:lnTo>
                  <a:lnTo>
                    <a:pt x="81" y="359"/>
                  </a:lnTo>
                  <a:lnTo>
                    <a:pt x="81" y="363"/>
                  </a:lnTo>
                  <a:lnTo>
                    <a:pt x="81" y="365"/>
                  </a:lnTo>
                  <a:lnTo>
                    <a:pt x="80" y="368"/>
                  </a:lnTo>
                  <a:lnTo>
                    <a:pt x="79" y="371"/>
                  </a:lnTo>
                  <a:lnTo>
                    <a:pt x="84" y="376"/>
                  </a:lnTo>
                  <a:lnTo>
                    <a:pt x="81" y="376"/>
                  </a:lnTo>
                  <a:lnTo>
                    <a:pt x="79" y="373"/>
                  </a:lnTo>
                  <a:lnTo>
                    <a:pt x="75" y="371"/>
                  </a:lnTo>
                  <a:lnTo>
                    <a:pt x="72" y="367"/>
                  </a:lnTo>
                  <a:lnTo>
                    <a:pt x="69" y="361"/>
                  </a:lnTo>
                  <a:lnTo>
                    <a:pt x="65" y="357"/>
                  </a:lnTo>
                  <a:lnTo>
                    <a:pt x="63" y="353"/>
                  </a:lnTo>
                  <a:lnTo>
                    <a:pt x="59" y="349"/>
                  </a:lnTo>
                  <a:lnTo>
                    <a:pt x="56" y="344"/>
                  </a:lnTo>
                  <a:lnTo>
                    <a:pt x="56" y="337"/>
                  </a:lnTo>
                  <a:lnTo>
                    <a:pt x="55" y="332"/>
                  </a:lnTo>
                  <a:lnTo>
                    <a:pt x="55" y="326"/>
                  </a:lnTo>
                  <a:lnTo>
                    <a:pt x="56" y="314"/>
                  </a:lnTo>
                  <a:lnTo>
                    <a:pt x="59" y="302"/>
                  </a:lnTo>
                  <a:lnTo>
                    <a:pt x="61" y="292"/>
                  </a:lnTo>
                  <a:lnTo>
                    <a:pt x="61" y="280"/>
                  </a:lnTo>
                  <a:lnTo>
                    <a:pt x="61" y="274"/>
                  </a:lnTo>
                  <a:lnTo>
                    <a:pt x="59" y="268"/>
                  </a:lnTo>
                  <a:lnTo>
                    <a:pt x="57" y="262"/>
                  </a:lnTo>
                  <a:lnTo>
                    <a:pt x="53" y="256"/>
                  </a:lnTo>
                  <a:lnTo>
                    <a:pt x="49" y="254"/>
                  </a:lnTo>
                  <a:lnTo>
                    <a:pt x="45" y="256"/>
                  </a:lnTo>
                  <a:lnTo>
                    <a:pt x="41" y="256"/>
                  </a:lnTo>
                  <a:lnTo>
                    <a:pt x="39" y="258"/>
                  </a:lnTo>
                  <a:lnTo>
                    <a:pt x="36" y="261"/>
                  </a:lnTo>
                  <a:lnTo>
                    <a:pt x="33" y="264"/>
                  </a:lnTo>
                  <a:lnTo>
                    <a:pt x="32" y="268"/>
                  </a:lnTo>
                  <a:lnTo>
                    <a:pt x="31" y="272"/>
                  </a:lnTo>
                  <a:lnTo>
                    <a:pt x="29" y="280"/>
                  </a:lnTo>
                  <a:lnTo>
                    <a:pt x="28" y="288"/>
                  </a:lnTo>
                  <a:lnTo>
                    <a:pt x="28" y="296"/>
                  </a:lnTo>
                  <a:lnTo>
                    <a:pt x="28" y="305"/>
                  </a:lnTo>
                  <a:lnTo>
                    <a:pt x="28" y="313"/>
                  </a:lnTo>
                  <a:lnTo>
                    <a:pt x="28" y="321"/>
                  </a:lnTo>
                  <a:lnTo>
                    <a:pt x="25" y="329"/>
                  </a:lnTo>
                  <a:lnTo>
                    <a:pt x="22" y="337"/>
                  </a:lnTo>
                  <a:lnTo>
                    <a:pt x="14" y="325"/>
                  </a:lnTo>
                  <a:lnTo>
                    <a:pt x="8" y="312"/>
                  </a:lnTo>
                  <a:lnTo>
                    <a:pt x="4" y="298"/>
                  </a:lnTo>
                  <a:lnTo>
                    <a:pt x="1" y="284"/>
                  </a:lnTo>
                  <a:lnTo>
                    <a:pt x="0" y="269"/>
                  </a:lnTo>
                  <a:lnTo>
                    <a:pt x="1" y="254"/>
                  </a:lnTo>
                  <a:lnTo>
                    <a:pt x="4" y="241"/>
                  </a:lnTo>
                  <a:lnTo>
                    <a:pt x="8" y="227"/>
                  </a:lnTo>
                  <a:lnTo>
                    <a:pt x="5" y="225"/>
                  </a:lnTo>
                  <a:lnTo>
                    <a:pt x="17" y="217"/>
                  </a:lnTo>
                  <a:lnTo>
                    <a:pt x="31" y="209"/>
                  </a:lnTo>
                  <a:lnTo>
                    <a:pt x="44" y="203"/>
                  </a:lnTo>
                  <a:lnTo>
                    <a:pt x="59" y="198"/>
                  </a:lnTo>
                  <a:lnTo>
                    <a:pt x="73" y="194"/>
                  </a:lnTo>
                  <a:lnTo>
                    <a:pt x="88" y="191"/>
                  </a:lnTo>
                  <a:lnTo>
                    <a:pt x="104" y="189"/>
                  </a:lnTo>
                  <a:lnTo>
                    <a:pt x="120" y="187"/>
                  </a:lnTo>
                  <a:lnTo>
                    <a:pt x="131" y="189"/>
                  </a:lnTo>
                  <a:lnTo>
                    <a:pt x="142" y="191"/>
                  </a:lnTo>
                  <a:lnTo>
                    <a:pt x="152" y="195"/>
                  </a:lnTo>
                  <a:lnTo>
                    <a:pt x="164" y="199"/>
                  </a:lnTo>
                  <a:lnTo>
                    <a:pt x="175" y="205"/>
                  </a:lnTo>
                  <a:lnTo>
                    <a:pt x="185" y="210"/>
                  </a:lnTo>
                  <a:lnTo>
                    <a:pt x="195" y="215"/>
                  </a:lnTo>
                  <a:lnTo>
                    <a:pt x="206" y="219"/>
                  </a:lnTo>
                  <a:lnTo>
                    <a:pt x="207" y="219"/>
                  </a:lnTo>
                  <a:lnTo>
                    <a:pt x="209" y="218"/>
                  </a:lnTo>
                  <a:lnTo>
                    <a:pt x="209" y="215"/>
                  </a:lnTo>
                  <a:lnTo>
                    <a:pt x="209" y="214"/>
                  </a:lnTo>
                  <a:lnTo>
                    <a:pt x="209" y="213"/>
                  </a:lnTo>
                  <a:lnTo>
                    <a:pt x="209" y="210"/>
                  </a:lnTo>
                  <a:lnTo>
                    <a:pt x="209" y="209"/>
                  </a:lnTo>
                  <a:lnTo>
                    <a:pt x="209" y="207"/>
                  </a:lnTo>
                  <a:lnTo>
                    <a:pt x="203" y="201"/>
                  </a:lnTo>
                  <a:lnTo>
                    <a:pt x="195" y="195"/>
                  </a:lnTo>
                  <a:lnTo>
                    <a:pt x="189" y="190"/>
                  </a:lnTo>
                  <a:lnTo>
                    <a:pt x="181" y="185"/>
                  </a:lnTo>
                  <a:lnTo>
                    <a:pt x="173" y="181"/>
                  </a:lnTo>
                  <a:lnTo>
                    <a:pt x="164" y="177"/>
                  </a:lnTo>
                  <a:lnTo>
                    <a:pt x="156" y="174"/>
                  </a:lnTo>
                  <a:lnTo>
                    <a:pt x="148" y="171"/>
                  </a:lnTo>
                  <a:lnTo>
                    <a:pt x="147" y="163"/>
                  </a:lnTo>
                  <a:lnTo>
                    <a:pt x="147" y="156"/>
                  </a:lnTo>
                  <a:lnTo>
                    <a:pt x="148" y="148"/>
                  </a:lnTo>
                  <a:lnTo>
                    <a:pt x="150" y="142"/>
                  </a:lnTo>
                  <a:lnTo>
                    <a:pt x="152" y="135"/>
                  </a:lnTo>
                  <a:lnTo>
                    <a:pt x="155" y="130"/>
                  </a:lnTo>
                  <a:lnTo>
                    <a:pt x="159" y="124"/>
                  </a:lnTo>
                  <a:lnTo>
                    <a:pt x="163" y="120"/>
                  </a:lnTo>
                  <a:lnTo>
                    <a:pt x="152" y="118"/>
                  </a:lnTo>
                  <a:lnTo>
                    <a:pt x="158" y="103"/>
                  </a:lnTo>
                  <a:lnTo>
                    <a:pt x="162" y="88"/>
                  </a:lnTo>
                  <a:lnTo>
                    <a:pt x="167" y="72"/>
                  </a:lnTo>
                  <a:lnTo>
                    <a:pt x="173" y="56"/>
                  </a:lnTo>
                  <a:lnTo>
                    <a:pt x="179" y="41"/>
                  </a:lnTo>
                  <a:lnTo>
                    <a:pt x="186" y="27"/>
                  </a:lnTo>
                  <a:lnTo>
                    <a:pt x="194" y="13"/>
                  </a:lnTo>
                  <a:lnTo>
                    <a:pt x="205" y="0"/>
                  </a:lnTo>
                  <a:lnTo>
                    <a:pt x="227" y="13"/>
                  </a:lnTo>
                  <a:lnTo>
                    <a:pt x="253" y="27"/>
                  </a:lnTo>
                  <a:lnTo>
                    <a:pt x="277" y="37"/>
                  </a:lnTo>
                  <a:lnTo>
                    <a:pt x="302" y="47"/>
                  </a:lnTo>
                  <a:lnTo>
                    <a:pt x="329" y="55"/>
                  </a:lnTo>
                  <a:lnTo>
                    <a:pt x="356" y="60"/>
                  </a:lnTo>
                  <a:lnTo>
                    <a:pt x="369" y="63"/>
                  </a:lnTo>
                  <a:lnTo>
                    <a:pt x="383" y="64"/>
                  </a:lnTo>
                  <a:lnTo>
                    <a:pt x="396" y="64"/>
                  </a:lnTo>
                  <a:lnTo>
                    <a:pt x="411" y="64"/>
                  </a:lnTo>
                  <a:close/>
                </a:path>
              </a:pathLst>
            </a:custGeom>
            <a:solidFill>
              <a:srgbClr val="c99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69240" y="5653800"/>
              <a:ext cx="31680" cy="63360"/>
            </a:xfrm>
            <a:custGeom>
              <a:avLst/>
              <a:gdLst/>
              <a:ahLst/>
              <a:rect l="l" t="t" r="r" b="b"/>
              <a:pathLst>
                <a:path w="69" h="142">
                  <a:moveTo>
                    <a:pt x="53" y="13"/>
                  </a:moveTo>
                  <a:lnTo>
                    <a:pt x="57" y="20"/>
                  </a:lnTo>
                  <a:lnTo>
                    <a:pt x="60" y="25"/>
                  </a:lnTo>
                  <a:lnTo>
                    <a:pt x="63" y="32"/>
                  </a:lnTo>
                  <a:lnTo>
                    <a:pt x="64" y="39"/>
                  </a:lnTo>
                  <a:lnTo>
                    <a:pt x="67" y="51"/>
                  </a:lnTo>
                  <a:lnTo>
                    <a:pt x="67" y="64"/>
                  </a:lnTo>
                  <a:lnTo>
                    <a:pt x="67" y="77"/>
                  </a:lnTo>
                  <a:lnTo>
                    <a:pt x="65" y="91"/>
                  </a:lnTo>
                  <a:lnTo>
                    <a:pt x="67" y="104"/>
                  </a:lnTo>
                  <a:lnTo>
                    <a:pt x="69" y="118"/>
                  </a:lnTo>
                  <a:lnTo>
                    <a:pt x="61" y="120"/>
                  </a:lnTo>
                  <a:lnTo>
                    <a:pt x="53" y="124"/>
                  </a:lnTo>
                  <a:lnTo>
                    <a:pt x="45" y="130"/>
                  </a:lnTo>
                  <a:lnTo>
                    <a:pt x="37" y="135"/>
                  </a:lnTo>
                  <a:lnTo>
                    <a:pt x="30" y="140"/>
                  </a:lnTo>
                  <a:lnTo>
                    <a:pt x="22" y="142"/>
                  </a:lnTo>
                  <a:lnTo>
                    <a:pt x="18" y="142"/>
                  </a:lnTo>
                  <a:lnTo>
                    <a:pt x="16" y="140"/>
                  </a:lnTo>
                  <a:lnTo>
                    <a:pt x="12" y="138"/>
                  </a:lnTo>
                  <a:lnTo>
                    <a:pt x="8" y="134"/>
                  </a:lnTo>
                  <a:lnTo>
                    <a:pt x="5" y="116"/>
                  </a:lnTo>
                  <a:lnTo>
                    <a:pt x="4" y="99"/>
                  </a:lnTo>
                  <a:lnTo>
                    <a:pt x="1" y="81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1" y="15"/>
                  </a:lnTo>
                  <a:lnTo>
                    <a:pt x="2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21" y="5"/>
                  </a:lnTo>
                  <a:lnTo>
                    <a:pt x="28" y="6"/>
                  </a:lnTo>
                  <a:lnTo>
                    <a:pt x="34" y="8"/>
                  </a:lnTo>
                  <a:lnTo>
                    <a:pt x="40" y="11"/>
                  </a:lnTo>
                  <a:lnTo>
                    <a:pt x="46" y="12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32160" y="5656320"/>
              <a:ext cx="34200" cy="59040"/>
            </a:xfrm>
            <a:custGeom>
              <a:avLst/>
              <a:gdLst/>
              <a:ahLst/>
              <a:rect l="l" t="t" r="r" b="b"/>
              <a:pathLst>
                <a:path w="74" h="135">
                  <a:moveTo>
                    <a:pt x="59" y="8"/>
                  </a:moveTo>
                  <a:lnTo>
                    <a:pt x="65" y="15"/>
                  </a:lnTo>
                  <a:lnTo>
                    <a:pt x="69" y="23"/>
                  </a:lnTo>
                  <a:lnTo>
                    <a:pt x="72" y="31"/>
                  </a:lnTo>
                  <a:lnTo>
                    <a:pt x="72" y="39"/>
                  </a:lnTo>
                  <a:lnTo>
                    <a:pt x="72" y="48"/>
                  </a:lnTo>
                  <a:lnTo>
                    <a:pt x="71" y="58"/>
                  </a:lnTo>
                  <a:lnTo>
                    <a:pt x="71" y="67"/>
                  </a:lnTo>
                  <a:lnTo>
                    <a:pt x="72" y="76"/>
                  </a:lnTo>
                  <a:lnTo>
                    <a:pt x="74" y="87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2" y="115"/>
                  </a:lnTo>
                  <a:lnTo>
                    <a:pt x="68" y="123"/>
                  </a:lnTo>
                  <a:lnTo>
                    <a:pt x="61" y="130"/>
                  </a:lnTo>
                  <a:lnTo>
                    <a:pt x="59" y="131"/>
                  </a:lnTo>
                  <a:lnTo>
                    <a:pt x="53" y="134"/>
                  </a:lnTo>
                  <a:lnTo>
                    <a:pt x="49" y="135"/>
                  </a:lnTo>
                  <a:lnTo>
                    <a:pt x="43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8" y="135"/>
                  </a:lnTo>
                  <a:lnTo>
                    <a:pt x="24" y="135"/>
                  </a:lnTo>
                  <a:lnTo>
                    <a:pt x="20" y="134"/>
                  </a:lnTo>
                  <a:lnTo>
                    <a:pt x="16" y="133"/>
                  </a:lnTo>
                  <a:lnTo>
                    <a:pt x="12" y="130"/>
                  </a:lnTo>
                  <a:lnTo>
                    <a:pt x="8" y="129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3" y="90"/>
                  </a:lnTo>
                  <a:lnTo>
                    <a:pt x="3" y="79"/>
                  </a:lnTo>
                  <a:lnTo>
                    <a:pt x="3" y="67"/>
                  </a:lnTo>
                  <a:lnTo>
                    <a:pt x="3" y="56"/>
                  </a:lnTo>
                  <a:lnTo>
                    <a:pt x="3" y="44"/>
                  </a:lnTo>
                  <a:lnTo>
                    <a:pt x="1" y="32"/>
                  </a:lnTo>
                  <a:lnTo>
                    <a:pt x="0" y="22"/>
                  </a:lnTo>
                  <a:lnTo>
                    <a:pt x="11" y="16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43" y="3"/>
                  </a:lnTo>
                  <a:lnTo>
                    <a:pt x="48" y="4"/>
                  </a:lnTo>
                  <a:lnTo>
                    <a:pt x="53" y="6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43680" y="5663160"/>
              <a:ext cx="11880" cy="42120"/>
            </a:xfrm>
            <a:custGeom>
              <a:avLst/>
              <a:gdLst/>
              <a:ahLst/>
              <a:rect l="l" t="t" r="r" b="b"/>
              <a:pathLst>
                <a:path w="28" h="94">
                  <a:moveTo>
                    <a:pt x="20" y="7"/>
                  </a:moveTo>
                  <a:lnTo>
                    <a:pt x="22" y="16"/>
                  </a:lnTo>
                  <a:lnTo>
                    <a:pt x="25" y="27"/>
                  </a:lnTo>
                  <a:lnTo>
                    <a:pt x="25" y="38"/>
                  </a:lnTo>
                  <a:lnTo>
                    <a:pt x="25" y="48"/>
                  </a:lnTo>
                  <a:lnTo>
                    <a:pt x="26" y="60"/>
                  </a:lnTo>
                  <a:lnTo>
                    <a:pt x="26" y="73"/>
                  </a:lnTo>
                  <a:lnTo>
                    <a:pt x="26" y="83"/>
                  </a:lnTo>
                  <a:lnTo>
                    <a:pt x="28" y="94"/>
                  </a:lnTo>
                  <a:lnTo>
                    <a:pt x="5" y="94"/>
                  </a:lnTo>
                  <a:lnTo>
                    <a:pt x="5" y="82"/>
                  </a:lnTo>
                  <a:lnTo>
                    <a:pt x="4" y="70"/>
                  </a:lnTo>
                  <a:lnTo>
                    <a:pt x="2" y="58"/>
                  </a:lnTo>
                  <a:lnTo>
                    <a:pt x="1" y="46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22720" y="5664240"/>
              <a:ext cx="10800" cy="475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16" y="0"/>
                  </a:moveTo>
                  <a:lnTo>
                    <a:pt x="18" y="12"/>
                  </a:lnTo>
                  <a:lnTo>
                    <a:pt x="18" y="25"/>
                  </a:lnTo>
                  <a:lnTo>
                    <a:pt x="19" y="39"/>
                  </a:lnTo>
                  <a:lnTo>
                    <a:pt x="20" y="53"/>
                  </a:lnTo>
                  <a:lnTo>
                    <a:pt x="22" y="67"/>
                  </a:lnTo>
                  <a:lnTo>
                    <a:pt x="22" y="80"/>
                  </a:lnTo>
                  <a:lnTo>
                    <a:pt x="22" y="94"/>
                  </a:lnTo>
                  <a:lnTo>
                    <a:pt x="19" y="107"/>
                  </a:lnTo>
                  <a:lnTo>
                    <a:pt x="14" y="107"/>
                  </a:lnTo>
                  <a:lnTo>
                    <a:pt x="10" y="106"/>
                  </a:lnTo>
                  <a:lnTo>
                    <a:pt x="6" y="103"/>
                  </a:lnTo>
                  <a:lnTo>
                    <a:pt x="3" y="100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3" y="47"/>
                  </a:lnTo>
                  <a:lnTo>
                    <a:pt x="4" y="37"/>
                  </a:lnTo>
                  <a:lnTo>
                    <a:pt x="6" y="33"/>
                  </a:lnTo>
                  <a:lnTo>
                    <a:pt x="7" y="28"/>
                  </a:lnTo>
                  <a:lnTo>
                    <a:pt x="8" y="21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10" y="5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78960" y="5665680"/>
              <a:ext cx="10800" cy="392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24" y="26"/>
                  </a:moveTo>
                  <a:lnTo>
                    <a:pt x="22" y="35"/>
                  </a:lnTo>
                  <a:lnTo>
                    <a:pt x="22" y="44"/>
                  </a:lnTo>
                  <a:lnTo>
                    <a:pt x="24" y="55"/>
                  </a:lnTo>
                  <a:lnTo>
                    <a:pt x="24" y="65"/>
                  </a:lnTo>
                  <a:lnTo>
                    <a:pt x="24" y="74"/>
                  </a:lnTo>
                  <a:lnTo>
                    <a:pt x="21" y="81"/>
                  </a:lnTo>
                  <a:lnTo>
                    <a:pt x="20" y="85"/>
                  </a:lnTo>
                  <a:lnTo>
                    <a:pt x="16" y="87"/>
                  </a:lnTo>
                  <a:lnTo>
                    <a:pt x="12" y="89"/>
                  </a:lnTo>
                  <a:lnTo>
                    <a:pt x="8" y="90"/>
                  </a:lnTo>
                  <a:lnTo>
                    <a:pt x="5" y="79"/>
                  </a:lnTo>
                  <a:lnTo>
                    <a:pt x="4" y="69"/>
                  </a:lnTo>
                  <a:lnTo>
                    <a:pt x="2" y="58"/>
                  </a:lnTo>
                  <a:lnTo>
                    <a:pt x="1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8"/>
                  </a:lnTo>
                  <a:lnTo>
                    <a:pt x="20" y="12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51680" y="5672160"/>
              <a:ext cx="6840" cy="27360"/>
            </a:xfrm>
            <a:custGeom>
              <a:avLst/>
              <a:gdLst/>
              <a:ahLst/>
              <a:rect l="l" t="t" r="r" b="b"/>
              <a:pathLst>
                <a:path w="14" h="63">
                  <a:moveTo>
                    <a:pt x="14" y="63"/>
                  </a:moveTo>
                  <a:lnTo>
                    <a:pt x="11" y="61"/>
                  </a:lnTo>
                  <a:lnTo>
                    <a:pt x="10" y="57"/>
                  </a:lnTo>
                  <a:lnTo>
                    <a:pt x="7" y="51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3" y="3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" y="7"/>
                  </a:lnTo>
                  <a:lnTo>
                    <a:pt x="7" y="15"/>
                  </a:lnTo>
                  <a:lnTo>
                    <a:pt x="10" y="23"/>
                  </a:lnTo>
                  <a:lnTo>
                    <a:pt x="11" y="31"/>
                  </a:lnTo>
                  <a:lnTo>
                    <a:pt x="12" y="39"/>
                  </a:lnTo>
                  <a:lnTo>
                    <a:pt x="14" y="49"/>
                  </a:lnTo>
                  <a:lnTo>
                    <a:pt x="14" y="57"/>
                  </a:lnTo>
                  <a:lnTo>
                    <a:pt x="14" y="63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04400" y="5684040"/>
              <a:ext cx="154800" cy="165960"/>
            </a:xfrm>
            <a:custGeom>
              <a:avLst/>
              <a:gdLst/>
              <a:ahLst/>
              <a:rect l="l" t="t" r="r" b="b"/>
              <a:pathLst>
                <a:path w="338" h="380">
                  <a:moveTo>
                    <a:pt x="222" y="143"/>
                  </a:moveTo>
                  <a:lnTo>
                    <a:pt x="228" y="144"/>
                  </a:lnTo>
                  <a:lnTo>
                    <a:pt x="232" y="147"/>
                  </a:lnTo>
                  <a:lnTo>
                    <a:pt x="236" y="150"/>
                  </a:lnTo>
                  <a:lnTo>
                    <a:pt x="238" y="154"/>
                  </a:lnTo>
                  <a:lnTo>
                    <a:pt x="242" y="156"/>
                  </a:lnTo>
                  <a:lnTo>
                    <a:pt x="245" y="160"/>
                  </a:lnTo>
                  <a:lnTo>
                    <a:pt x="249" y="163"/>
                  </a:lnTo>
                  <a:lnTo>
                    <a:pt x="253" y="166"/>
                  </a:lnTo>
                  <a:lnTo>
                    <a:pt x="253" y="175"/>
                  </a:lnTo>
                  <a:lnTo>
                    <a:pt x="250" y="183"/>
                  </a:lnTo>
                  <a:lnTo>
                    <a:pt x="248" y="193"/>
                  </a:lnTo>
                  <a:lnTo>
                    <a:pt x="242" y="199"/>
                  </a:lnTo>
                  <a:lnTo>
                    <a:pt x="237" y="207"/>
                  </a:lnTo>
                  <a:lnTo>
                    <a:pt x="230" y="213"/>
                  </a:lnTo>
                  <a:lnTo>
                    <a:pt x="222" y="219"/>
                  </a:lnTo>
                  <a:lnTo>
                    <a:pt x="216" y="225"/>
                  </a:lnTo>
                  <a:lnTo>
                    <a:pt x="205" y="226"/>
                  </a:lnTo>
                  <a:lnTo>
                    <a:pt x="197" y="229"/>
                  </a:lnTo>
                  <a:lnTo>
                    <a:pt x="188" y="231"/>
                  </a:lnTo>
                  <a:lnTo>
                    <a:pt x="179" y="235"/>
                  </a:lnTo>
                  <a:lnTo>
                    <a:pt x="171" y="239"/>
                  </a:lnTo>
                  <a:lnTo>
                    <a:pt x="162" y="242"/>
                  </a:lnTo>
                  <a:lnTo>
                    <a:pt x="154" y="245"/>
                  </a:lnTo>
                  <a:lnTo>
                    <a:pt x="143" y="245"/>
                  </a:lnTo>
                  <a:lnTo>
                    <a:pt x="145" y="254"/>
                  </a:lnTo>
                  <a:lnTo>
                    <a:pt x="147" y="262"/>
                  </a:lnTo>
                  <a:lnTo>
                    <a:pt x="150" y="270"/>
                  </a:lnTo>
                  <a:lnTo>
                    <a:pt x="154" y="278"/>
                  </a:lnTo>
                  <a:lnTo>
                    <a:pt x="159" y="286"/>
                  </a:lnTo>
                  <a:lnTo>
                    <a:pt x="163" y="294"/>
                  </a:lnTo>
                  <a:lnTo>
                    <a:pt x="169" y="304"/>
                  </a:lnTo>
                  <a:lnTo>
                    <a:pt x="174" y="312"/>
                  </a:lnTo>
                  <a:lnTo>
                    <a:pt x="181" y="318"/>
                  </a:lnTo>
                  <a:lnTo>
                    <a:pt x="188" y="326"/>
                  </a:lnTo>
                  <a:lnTo>
                    <a:pt x="196" y="334"/>
                  </a:lnTo>
                  <a:lnTo>
                    <a:pt x="204" y="341"/>
                  </a:lnTo>
                  <a:lnTo>
                    <a:pt x="212" y="348"/>
                  </a:lnTo>
                  <a:lnTo>
                    <a:pt x="221" y="352"/>
                  </a:lnTo>
                  <a:lnTo>
                    <a:pt x="230" y="356"/>
                  </a:lnTo>
                  <a:lnTo>
                    <a:pt x="241" y="357"/>
                  </a:lnTo>
                  <a:lnTo>
                    <a:pt x="249" y="352"/>
                  </a:lnTo>
                  <a:lnTo>
                    <a:pt x="257" y="345"/>
                  </a:lnTo>
                  <a:lnTo>
                    <a:pt x="261" y="337"/>
                  </a:lnTo>
                  <a:lnTo>
                    <a:pt x="267" y="329"/>
                  </a:lnTo>
                  <a:lnTo>
                    <a:pt x="271" y="321"/>
                  </a:lnTo>
                  <a:lnTo>
                    <a:pt x="275" y="313"/>
                  </a:lnTo>
                  <a:lnTo>
                    <a:pt x="281" y="306"/>
                  </a:lnTo>
                  <a:lnTo>
                    <a:pt x="289" y="301"/>
                  </a:lnTo>
                  <a:lnTo>
                    <a:pt x="295" y="290"/>
                  </a:lnTo>
                  <a:lnTo>
                    <a:pt x="300" y="281"/>
                  </a:lnTo>
                  <a:lnTo>
                    <a:pt x="303" y="269"/>
                  </a:lnTo>
                  <a:lnTo>
                    <a:pt x="307" y="258"/>
                  </a:lnTo>
                  <a:lnTo>
                    <a:pt x="311" y="247"/>
                  </a:lnTo>
                  <a:lnTo>
                    <a:pt x="316" y="237"/>
                  </a:lnTo>
                  <a:lnTo>
                    <a:pt x="323" y="227"/>
                  </a:lnTo>
                  <a:lnTo>
                    <a:pt x="334" y="219"/>
                  </a:lnTo>
                  <a:lnTo>
                    <a:pt x="336" y="227"/>
                  </a:lnTo>
                  <a:lnTo>
                    <a:pt x="338" y="235"/>
                  </a:lnTo>
                  <a:lnTo>
                    <a:pt x="336" y="242"/>
                  </a:lnTo>
                  <a:lnTo>
                    <a:pt x="335" y="249"/>
                  </a:lnTo>
                  <a:lnTo>
                    <a:pt x="334" y="255"/>
                  </a:lnTo>
                  <a:lnTo>
                    <a:pt x="330" y="262"/>
                  </a:lnTo>
                  <a:lnTo>
                    <a:pt x="326" y="269"/>
                  </a:lnTo>
                  <a:lnTo>
                    <a:pt x="321" y="274"/>
                  </a:lnTo>
                  <a:lnTo>
                    <a:pt x="312" y="286"/>
                  </a:lnTo>
                  <a:lnTo>
                    <a:pt x="301" y="297"/>
                  </a:lnTo>
                  <a:lnTo>
                    <a:pt x="292" y="309"/>
                  </a:lnTo>
                  <a:lnTo>
                    <a:pt x="284" y="321"/>
                  </a:lnTo>
                  <a:lnTo>
                    <a:pt x="279" y="329"/>
                  </a:lnTo>
                  <a:lnTo>
                    <a:pt x="272" y="336"/>
                  </a:lnTo>
                  <a:lnTo>
                    <a:pt x="265" y="342"/>
                  </a:lnTo>
                  <a:lnTo>
                    <a:pt x="257" y="349"/>
                  </a:lnTo>
                  <a:lnTo>
                    <a:pt x="250" y="357"/>
                  </a:lnTo>
                  <a:lnTo>
                    <a:pt x="244" y="364"/>
                  </a:lnTo>
                  <a:lnTo>
                    <a:pt x="237" y="372"/>
                  </a:lnTo>
                  <a:lnTo>
                    <a:pt x="230" y="380"/>
                  </a:lnTo>
                  <a:lnTo>
                    <a:pt x="222" y="377"/>
                  </a:lnTo>
                  <a:lnTo>
                    <a:pt x="214" y="373"/>
                  </a:lnTo>
                  <a:lnTo>
                    <a:pt x="208" y="369"/>
                  </a:lnTo>
                  <a:lnTo>
                    <a:pt x="200" y="365"/>
                  </a:lnTo>
                  <a:lnTo>
                    <a:pt x="186" y="355"/>
                  </a:lnTo>
                  <a:lnTo>
                    <a:pt x="174" y="342"/>
                  </a:lnTo>
                  <a:lnTo>
                    <a:pt x="162" y="329"/>
                  </a:lnTo>
                  <a:lnTo>
                    <a:pt x="153" y="314"/>
                  </a:lnTo>
                  <a:lnTo>
                    <a:pt x="142" y="300"/>
                  </a:lnTo>
                  <a:lnTo>
                    <a:pt x="134" y="286"/>
                  </a:lnTo>
                  <a:lnTo>
                    <a:pt x="125" y="288"/>
                  </a:lnTo>
                  <a:lnTo>
                    <a:pt x="117" y="290"/>
                  </a:lnTo>
                  <a:lnTo>
                    <a:pt x="107" y="293"/>
                  </a:lnTo>
                  <a:lnTo>
                    <a:pt x="99" y="297"/>
                  </a:lnTo>
                  <a:lnTo>
                    <a:pt x="83" y="306"/>
                  </a:lnTo>
                  <a:lnTo>
                    <a:pt x="67" y="317"/>
                  </a:lnTo>
                  <a:lnTo>
                    <a:pt x="51" y="325"/>
                  </a:lnTo>
                  <a:lnTo>
                    <a:pt x="35" y="332"/>
                  </a:lnTo>
                  <a:lnTo>
                    <a:pt x="27" y="333"/>
                  </a:lnTo>
                  <a:lnTo>
                    <a:pt x="17" y="334"/>
                  </a:lnTo>
                  <a:lnTo>
                    <a:pt x="9" y="333"/>
                  </a:lnTo>
                  <a:lnTo>
                    <a:pt x="0" y="332"/>
                  </a:lnTo>
                  <a:lnTo>
                    <a:pt x="0" y="293"/>
                  </a:lnTo>
                  <a:lnTo>
                    <a:pt x="0" y="254"/>
                  </a:lnTo>
                  <a:lnTo>
                    <a:pt x="1" y="215"/>
                  </a:lnTo>
                  <a:lnTo>
                    <a:pt x="3" y="175"/>
                  </a:lnTo>
                  <a:lnTo>
                    <a:pt x="5" y="136"/>
                  </a:lnTo>
                  <a:lnTo>
                    <a:pt x="7" y="96"/>
                  </a:lnTo>
                  <a:lnTo>
                    <a:pt x="8" y="57"/>
                  </a:lnTo>
                  <a:lnTo>
                    <a:pt x="8" y="20"/>
                  </a:lnTo>
                  <a:lnTo>
                    <a:pt x="11" y="0"/>
                  </a:lnTo>
                  <a:lnTo>
                    <a:pt x="25" y="6"/>
                  </a:lnTo>
                  <a:lnTo>
                    <a:pt x="40" y="13"/>
                  </a:lnTo>
                  <a:lnTo>
                    <a:pt x="54" y="21"/>
                  </a:lnTo>
                  <a:lnTo>
                    <a:pt x="67" y="29"/>
                  </a:lnTo>
                  <a:lnTo>
                    <a:pt x="92" y="49"/>
                  </a:lnTo>
                  <a:lnTo>
                    <a:pt x="118" y="69"/>
                  </a:lnTo>
                  <a:lnTo>
                    <a:pt x="143" y="89"/>
                  </a:lnTo>
                  <a:lnTo>
                    <a:pt x="169" y="110"/>
                  </a:lnTo>
                  <a:lnTo>
                    <a:pt x="181" y="119"/>
                  </a:lnTo>
                  <a:lnTo>
                    <a:pt x="194" y="127"/>
                  </a:lnTo>
                  <a:lnTo>
                    <a:pt x="209" y="135"/>
                  </a:lnTo>
                  <a:lnTo>
                    <a:pt x="222" y="14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26920" y="5684040"/>
              <a:ext cx="245520" cy="185760"/>
            </a:xfrm>
            <a:custGeom>
              <a:avLst/>
              <a:gdLst/>
              <a:ahLst/>
              <a:rect l="l" t="t" r="r" b="b"/>
              <a:pathLst>
                <a:path w="536" h="422">
                  <a:moveTo>
                    <a:pt x="516" y="3"/>
                  </a:moveTo>
                  <a:lnTo>
                    <a:pt x="520" y="3"/>
                  </a:lnTo>
                  <a:lnTo>
                    <a:pt x="522" y="4"/>
                  </a:lnTo>
                  <a:lnTo>
                    <a:pt x="525" y="6"/>
                  </a:lnTo>
                  <a:lnTo>
                    <a:pt x="528" y="7"/>
                  </a:lnTo>
                  <a:lnTo>
                    <a:pt x="529" y="8"/>
                  </a:lnTo>
                  <a:lnTo>
                    <a:pt x="532" y="11"/>
                  </a:lnTo>
                  <a:lnTo>
                    <a:pt x="534" y="12"/>
                  </a:lnTo>
                  <a:lnTo>
                    <a:pt x="536" y="15"/>
                  </a:lnTo>
                  <a:lnTo>
                    <a:pt x="533" y="19"/>
                  </a:lnTo>
                  <a:lnTo>
                    <a:pt x="529" y="22"/>
                  </a:lnTo>
                  <a:lnTo>
                    <a:pt x="525" y="23"/>
                  </a:lnTo>
                  <a:lnTo>
                    <a:pt x="520" y="25"/>
                  </a:lnTo>
                  <a:lnTo>
                    <a:pt x="510" y="26"/>
                  </a:lnTo>
                  <a:lnTo>
                    <a:pt x="500" y="26"/>
                  </a:lnTo>
                  <a:lnTo>
                    <a:pt x="489" y="26"/>
                  </a:lnTo>
                  <a:lnTo>
                    <a:pt x="478" y="26"/>
                  </a:lnTo>
                  <a:lnTo>
                    <a:pt x="467" y="26"/>
                  </a:lnTo>
                  <a:lnTo>
                    <a:pt x="458" y="29"/>
                  </a:lnTo>
                  <a:lnTo>
                    <a:pt x="439" y="29"/>
                  </a:lnTo>
                  <a:lnTo>
                    <a:pt x="419" y="29"/>
                  </a:lnTo>
                  <a:lnTo>
                    <a:pt x="399" y="29"/>
                  </a:lnTo>
                  <a:lnTo>
                    <a:pt x="378" y="27"/>
                  </a:lnTo>
                  <a:lnTo>
                    <a:pt x="356" y="29"/>
                  </a:lnTo>
                  <a:lnTo>
                    <a:pt x="337" y="29"/>
                  </a:lnTo>
                  <a:lnTo>
                    <a:pt x="319" y="31"/>
                  </a:lnTo>
                  <a:lnTo>
                    <a:pt x="301" y="35"/>
                  </a:lnTo>
                  <a:lnTo>
                    <a:pt x="303" y="54"/>
                  </a:lnTo>
                  <a:lnTo>
                    <a:pt x="305" y="73"/>
                  </a:lnTo>
                  <a:lnTo>
                    <a:pt x="308" y="91"/>
                  </a:lnTo>
                  <a:lnTo>
                    <a:pt x="311" y="109"/>
                  </a:lnTo>
                  <a:lnTo>
                    <a:pt x="313" y="126"/>
                  </a:lnTo>
                  <a:lnTo>
                    <a:pt x="316" y="145"/>
                  </a:lnTo>
                  <a:lnTo>
                    <a:pt x="316" y="162"/>
                  </a:lnTo>
                  <a:lnTo>
                    <a:pt x="315" y="181"/>
                  </a:lnTo>
                  <a:lnTo>
                    <a:pt x="320" y="203"/>
                  </a:lnTo>
                  <a:lnTo>
                    <a:pt x="344" y="201"/>
                  </a:lnTo>
                  <a:lnTo>
                    <a:pt x="370" y="201"/>
                  </a:lnTo>
                  <a:lnTo>
                    <a:pt x="395" y="203"/>
                  </a:lnTo>
                  <a:lnTo>
                    <a:pt x="422" y="203"/>
                  </a:lnTo>
                  <a:lnTo>
                    <a:pt x="449" y="201"/>
                  </a:lnTo>
                  <a:lnTo>
                    <a:pt x="477" y="201"/>
                  </a:lnTo>
                  <a:lnTo>
                    <a:pt x="502" y="201"/>
                  </a:lnTo>
                  <a:lnTo>
                    <a:pt x="529" y="200"/>
                  </a:lnTo>
                  <a:lnTo>
                    <a:pt x="530" y="201"/>
                  </a:lnTo>
                  <a:lnTo>
                    <a:pt x="530" y="203"/>
                  </a:lnTo>
                  <a:lnTo>
                    <a:pt x="532" y="205"/>
                  </a:lnTo>
                  <a:lnTo>
                    <a:pt x="533" y="207"/>
                  </a:lnTo>
                  <a:lnTo>
                    <a:pt x="533" y="208"/>
                  </a:lnTo>
                  <a:lnTo>
                    <a:pt x="534" y="211"/>
                  </a:lnTo>
                  <a:lnTo>
                    <a:pt x="534" y="212"/>
                  </a:lnTo>
                  <a:lnTo>
                    <a:pt x="534" y="215"/>
                  </a:lnTo>
                  <a:lnTo>
                    <a:pt x="521" y="223"/>
                  </a:lnTo>
                  <a:lnTo>
                    <a:pt x="95" y="235"/>
                  </a:lnTo>
                  <a:lnTo>
                    <a:pt x="95" y="252"/>
                  </a:lnTo>
                  <a:lnTo>
                    <a:pt x="96" y="268"/>
                  </a:lnTo>
                  <a:lnTo>
                    <a:pt x="98" y="286"/>
                  </a:lnTo>
                  <a:lnTo>
                    <a:pt x="99" y="303"/>
                  </a:lnTo>
                  <a:lnTo>
                    <a:pt x="102" y="320"/>
                  </a:lnTo>
                  <a:lnTo>
                    <a:pt x="104" y="338"/>
                  </a:lnTo>
                  <a:lnTo>
                    <a:pt x="108" y="353"/>
                  </a:lnTo>
                  <a:lnTo>
                    <a:pt x="112" y="367"/>
                  </a:lnTo>
                  <a:lnTo>
                    <a:pt x="108" y="374"/>
                  </a:lnTo>
                  <a:lnTo>
                    <a:pt x="107" y="382"/>
                  </a:lnTo>
                  <a:lnTo>
                    <a:pt x="107" y="390"/>
                  </a:lnTo>
                  <a:lnTo>
                    <a:pt x="108" y="398"/>
                  </a:lnTo>
                  <a:lnTo>
                    <a:pt x="107" y="406"/>
                  </a:lnTo>
                  <a:lnTo>
                    <a:pt x="106" y="413"/>
                  </a:lnTo>
                  <a:lnTo>
                    <a:pt x="104" y="415"/>
                  </a:lnTo>
                  <a:lnTo>
                    <a:pt x="102" y="418"/>
                  </a:lnTo>
                  <a:lnTo>
                    <a:pt x="99" y="421"/>
                  </a:lnTo>
                  <a:lnTo>
                    <a:pt x="95" y="422"/>
                  </a:lnTo>
                  <a:lnTo>
                    <a:pt x="79" y="417"/>
                  </a:lnTo>
                  <a:lnTo>
                    <a:pt x="79" y="394"/>
                  </a:lnTo>
                  <a:lnTo>
                    <a:pt x="78" y="370"/>
                  </a:lnTo>
                  <a:lnTo>
                    <a:pt x="76" y="347"/>
                  </a:lnTo>
                  <a:lnTo>
                    <a:pt x="75" y="324"/>
                  </a:lnTo>
                  <a:lnTo>
                    <a:pt x="72" y="303"/>
                  </a:lnTo>
                  <a:lnTo>
                    <a:pt x="71" y="280"/>
                  </a:lnTo>
                  <a:lnTo>
                    <a:pt x="68" y="259"/>
                  </a:lnTo>
                  <a:lnTo>
                    <a:pt x="67" y="237"/>
                  </a:lnTo>
                  <a:lnTo>
                    <a:pt x="64" y="235"/>
                  </a:lnTo>
                  <a:lnTo>
                    <a:pt x="60" y="233"/>
                  </a:lnTo>
                  <a:lnTo>
                    <a:pt x="57" y="232"/>
                  </a:lnTo>
                  <a:lnTo>
                    <a:pt x="53" y="232"/>
                  </a:lnTo>
                  <a:lnTo>
                    <a:pt x="49" y="232"/>
                  </a:lnTo>
                  <a:lnTo>
                    <a:pt x="45" y="233"/>
                  </a:lnTo>
                  <a:lnTo>
                    <a:pt x="41" y="233"/>
                  </a:lnTo>
                  <a:lnTo>
                    <a:pt x="39" y="235"/>
                  </a:lnTo>
                  <a:lnTo>
                    <a:pt x="39" y="212"/>
                  </a:lnTo>
                  <a:lnTo>
                    <a:pt x="281" y="204"/>
                  </a:lnTo>
                  <a:lnTo>
                    <a:pt x="287" y="192"/>
                  </a:lnTo>
                  <a:lnTo>
                    <a:pt x="285" y="169"/>
                  </a:lnTo>
                  <a:lnTo>
                    <a:pt x="285" y="149"/>
                  </a:lnTo>
                  <a:lnTo>
                    <a:pt x="283" y="129"/>
                  </a:lnTo>
                  <a:lnTo>
                    <a:pt x="280" y="109"/>
                  </a:lnTo>
                  <a:lnTo>
                    <a:pt x="277" y="90"/>
                  </a:lnTo>
                  <a:lnTo>
                    <a:pt x="273" y="71"/>
                  </a:lnTo>
                  <a:lnTo>
                    <a:pt x="271" y="51"/>
                  </a:lnTo>
                  <a:lnTo>
                    <a:pt x="266" y="31"/>
                  </a:lnTo>
                  <a:lnTo>
                    <a:pt x="8" y="35"/>
                  </a:lnTo>
                  <a:lnTo>
                    <a:pt x="7" y="33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67" y="6"/>
                  </a:lnTo>
                  <a:lnTo>
                    <a:pt x="131" y="4"/>
                  </a:lnTo>
                  <a:lnTo>
                    <a:pt x="195" y="2"/>
                  </a:lnTo>
                  <a:lnTo>
                    <a:pt x="258" y="2"/>
                  </a:lnTo>
                  <a:lnTo>
                    <a:pt x="321" y="0"/>
                  </a:lnTo>
                  <a:lnTo>
                    <a:pt x="386" y="0"/>
                  </a:lnTo>
                  <a:lnTo>
                    <a:pt x="450" y="2"/>
                  </a:lnTo>
                  <a:lnTo>
                    <a:pt x="5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25320" y="5701320"/>
              <a:ext cx="364680" cy="94680"/>
            </a:xfrm>
            <a:custGeom>
              <a:avLst/>
              <a:gdLst/>
              <a:ahLst/>
              <a:rect l="l" t="t" r="r" b="b"/>
              <a:pathLst>
                <a:path w="797" h="214">
                  <a:moveTo>
                    <a:pt x="797" y="23"/>
                  </a:moveTo>
                  <a:lnTo>
                    <a:pt x="426" y="27"/>
                  </a:lnTo>
                  <a:lnTo>
                    <a:pt x="429" y="51"/>
                  </a:lnTo>
                  <a:lnTo>
                    <a:pt x="430" y="74"/>
                  </a:lnTo>
                  <a:lnTo>
                    <a:pt x="433" y="97"/>
                  </a:lnTo>
                  <a:lnTo>
                    <a:pt x="436" y="119"/>
                  </a:lnTo>
                  <a:lnTo>
                    <a:pt x="438" y="142"/>
                  </a:lnTo>
                  <a:lnTo>
                    <a:pt x="442" y="165"/>
                  </a:lnTo>
                  <a:lnTo>
                    <a:pt x="446" y="188"/>
                  </a:lnTo>
                  <a:lnTo>
                    <a:pt x="452" y="212"/>
                  </a:lnTo>
                  <a:lnTo>
                    <a:pt x="450" y="212"/>
                  </a:lnTo>
                  <a:lnTo>
                    <a:pt x="449" y="213"/>
                  </a:lnTo>
                  <a:lnTo>
                    <a:pt x="448" y="213"/>
                  </a:lnTo>
                  <a:lnTo>
                    <a:pt x="445" y="213"/>
                  </a:lnTo>
                  <a:lnTo>
                    <a:pt x="444" y="214"/>
                  </a:lnTo>
                  <a:lnTo>
                    <a:pt x="441" y="214"/>
                  </a:lnTo>
                  <a:lnTo>
                    <a:pt x="440" y="214"/>
                  </a:lnTo>
                  <a:lnTo>
                    <a:pt x="437" y="214"/>
                  </a:lnTo>
                  <a:lnTo>
                    <a:pt x="432" y="210"/>
                  </a:lnTo>
                  <a:lnTo>
                    <a:pt x="428" y="206"/>
                  </a:lnTo>
                  <a:lnTo>
                    <a:pt x="424" y="201"/>
                  </a:lnTo>
                  <a:lnTo>
                    <a:pt x="421" y="197"/>
                  </a:lnTo>
                  <a:lnTo>
                    <a:pt x="416" y="186"/>
                  </a:lnTo>
                  <a:lnTo>
                    <a:pt x="413" y="174"/>
                  </a:lnTo>
                  <a:lnTo>
                    <a:pt x="412" y="162"/>
                  </a:lnTo>
                  <a:lnTo>
                    <a:pt x="410" y="149"/>
                  </a:lnTo>
                  <a:lnTo>
                    <a:pt x="410" y="137"/>
                  </a:lnTo>
                  <a:lnTo>
                    <a:pt x="409" y="125"/>
                  </a:lnTo>
                  <a:lnTo>
                    <a:pt x="408" y="113"/>
                  </a:lnTo>
                  <a:lnTo>
                    <a:pt x="408" y="102"/>
                  </a:lnTo>
                  <a:lnTo>
                    <a:pt x="406" y="90"/>
                  </a:lnTo>
                  <a:lnTo>
                    <a:pt x="404" y="78"/>
                  </a:lnTo>
                  <a:lnTo>
                    <a:pt x="402" y="66"/>
                  </a:lnTo>
                  <a:lnTo>
                    <a:pt x="400" y="54"/>
                  </a:lnTo>
                  <a:lnTo>
                    <a:pt x="397" y="42"/>
                  </a:lnTo>
                  <a:lnTo>
                    <a:pt x="394" y="30"/>
                  </a:lnTo>
                  <a:lnTo>
                    <a:pt x="343" y="32"/>
                  </a:lnTo>
                  <a:lnTo>
                    <a:pt x="294" y="34"/>
                  </a:lnTo>
                  <a:lnTo>
                    <a:pt x="244" y="36"/>
                  </a:lnTo>
                  <a:lnTo>
                    <a:pt x="195" y="38"/>
                  </a:lnTo>
                  <a:lnTo>
                    <a:pt x="145" y="38"/>
                  </a:lnTo>
                  <a:lnTo>
                    <a:pt x="97" y="38"/>
                  </a:lnTo>
                  <a:lnTo>
                    <a:pt x="49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20" y="10"/>
                  </a:lnTo>
                  <a:lnTo>
                    <a:pt x="118" y="11"/>
                  </a:lnTo>
                  <a:lnTo>
                    <a:pt x="216" y="11"/>
                  </a:lnTo>
                  <a:lnTo>
                    <a:pt x="312" y="8"/>
                  </a:lnTo>
                  <a:lnTo>
                    <a:pt x="410" y="6"/>
                  </a:lnTo>
                  <a:lnTo>
                    <a:pt x="507" y="3"/>
                  </a:lnTo>
                  <a:lnTo>
                    <a:pt x="605" y="2"/>
                  </a:lnTo>
                  <a:lnTo>
                    <a:pt x="701" y="0"/>
                  </a:lnTo>
                  <a:lnTo>
                    <a:pt x="797" y="3"/>
                  </a:lnTo>
                  <a:lnTo>
                    <a:pt x="79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11560" y="5740920"/>
              <a:ext cx="120600" cy="97200"/>
            </a:xfrm>
            <a:custGeom>
              <a:avLst/>
              <a:gdLst/>
              <a:ahLst/>
              <a:rect l="l" t="t" r="r" b="b"/>
              <a:pathLst>
                <a:path w="265" h="222">
                  <a:moveTo>
                    <a:pt x="229" y="5"/>
                  </a:moveTo>
                  <a:lnTo>
                    <a:pt x="237" y="21"/>
                  </a:lnTo>
                  <a:lnTo>
                    <a:pt x="242" y="38"/>
                  </a:lnTo>
                  <a:lnTo>
                    <a:pt x="246" y="56"/>
                  </a:lnTo>
                  <a:lnTo>
                    <a:pt x="249" y="75"/>
                  </a:lnTo>
                  <a:lnTo>
                    <a:pt x="253" y="92"/>
                  </a:lnTo>
                  <a:lnTo>
                    <a:pt x="255" y="111"/>
                  </a:lnTo>
                  <a:lnTo>
                    <a:pt x="259" y="128"/>
                  </a:lnTo>
                  <a:lnTo>
                    <a:pt x="265" y="146"/>
                  </a:lnTo>
                  <a:lnTo>
                    <a:pt x="255" y="155"/>
                  </a:lnTo>
                  <a:lnTo>
                    <a:pt x="245" y="163"/>
                  </a:lnTo>
                  <a:lnTo>
                    <a:pt x="233" y="171"/>
                  </a:lnTo>
                  <a:lnTo>
                    <a:pt x="221" y="176"/>
                  </a:lnTo>
                  <a:lnTo>
                    <a:pt x="209" y="183"/>
                  </a:lnTo>
                  <a:lnTo>
                    <a:pt x="196" y="190"/>
                  </a:lnTo>
                  <a:lnTo>
                    <a:pt x="186" y="198"/>
                  </a:lnTo>
                  <a:lnTo>
                    <a:pt x="175" y="206"/>
                  </a:lnTo>
                  <a:lnTo>
                    <a:pt x="176" y="208"/>
                  </a:lnTo>
                  <a:lnTo>
                    <a:pt x="176" y="211"/>
                  </a:lnTo>
                  <a:lnTo>
                    <a:pt x="175" y="214"/>
                  </a:lnTo>
                  <a:lnTo>
                    <a:pt x="175" y="217"/>
                  </a:lnTo>
                  <a:lnTo>
                    <a:pt x="174" y="219"/>
                  </a:lnTo>
                  <a:lnTo>
                    <a:pt x="172" y="221"/>
                  </a:lnTo>
                  <a:lnTo>
                    <a:pt x="171" y="222"/>
                  </a:lnTo>
                  <a:lnTo>
                    <a:pt x="168" y="222"/>
                  </a:lnTo>
                  <a:lnTo>
                    <a:pt x="158" y="221"/>
                  </a:lnTo>
                  <a:lnTo>
                    <a:pt x="147" y="217"/>
                  </a:lnTo>
                  <a:lnTo>
                    <a:pt x="138" y="211"/>
                  </a:lnTo>
                  <a:lnTo>
                    <a:pt x="130" y="206"/>
                  </a:lnTo>
                  <a:lnTo>
                    <a:pt x="120" y="199"/>
                  </a:lnTo>
                  <a:lnTo>
                    <a:pt x="112" y="194"/>
                  </a:lnTo>
                  <a:lnTo>
                    <a:pt x="103" y="188"/>
                  </a:lnTo>
                  <a:lnTo>
                    <a:pt x="93" y="183"/>
                  </a:lnTo>
                  <a:lnTo>
                    <a:pt x="83" y="182"/>
                  </a:lnTo>
                  <a:lnTo>
                    <a:pt x="73" y="178"/>
                  </a:lnTo>
                  <a:lnTo>
                    <a:pt x="64" y="174"/>
                  </a:lnTo>
                  <a:lnTo>
                    <a:pt x="54" y="168"/>
                  </a:lnTo>
                  <a:lnTo>
                    <a:pt x="45" y="164"/>
                  </a:lnTo>
                  <a:lnTo>
                    <a:pt x="36" y="160"/>
                  </a:lnTo>
                  <a:lnTo>
                    <a:pt x="26" y="159"/>
                  </a:lnTo>
                  <a:lnTo>
                    <a:pt x="14" y="158"/>
                  </a:lnTo>
                  <a:lnTo>
                    <a:pt x="12" y="150"/>
                  </a:lnTo>
                  <a:lnTo>
                    <a:pt x="8" y="142"/>
                  </a:lnTo>
                  <a:lnTo>
                    <a:pt x="6" y="133"/>
                  </a:lnTo>
                  <a:lnTo>
                    <a:pt x="4" y="124"/>
                  </a:lnTo>
                  <a:lnTo>
                    <a:pt x="2" y="107"/>
                  </a:lnTo>
                  <a:lnTo>
                    <a:pt x="1" y="89"/>
                  </a:lnTo>
                  <a:lnTo>
                    <a:pt x="1" y="71"/>
                  </a:lnTo>
                  <a:lnTo>
                    <a:pt x="1" y="53"/>
                  </a:lnTo>
                  <a:lnTo>
                    <a:pt x="1" y="34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5" y="4"/>
                  </a:lnTo>
                  <a:lnTo>
                    <a:pt x="40" y="2"/>
                  </a:lnTo>
                  <a:lnTo>
                    <a:pt x="54" y="2"/>
                  </a:lnTo>
                  <a:lnTo>
                    <a:pt x="69" y="2"/>
                  </a:lnTo>
                  <a:lnTo>
                    <a:pt x="85" y="2"/>
                  </a:lnTo>
                  <a:lnTo>
                    <a:pt x="100" y="2"/>
                  </a:lnTo>
                  <a:lnTo>
                    <a:pt x="115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8" y="1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201" y="4"/>
                  </a:lnTo>
                  <a:lnTo>
                    <a:pt x="215" y="4"/>
                  </a:lnTo>
                  <a:lnTo>
                    <a:pt x="2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12080" y="5747400"/>
              <a:ext cx="68400" cy="72360"/>
            </a:xfrm>
            <a:custGeom>
              <a:avLst/>
              <a:gdLst/>
              <a:ahLst/>
              <a:rect l="l" t="t" r="r" b="b"/>
              <a:pathLst>
                <a:path w="151" h="165">
                  <a:moveTo>
                    <a:pt x="139" y="24"/>
                  </a:moveTo>
                  <a:lnTo>
                    <a:pt x="142" y="39"/>
                  </a:lnTo>
                  <a:lnTo>
                    <a:pt x="146" y="57"/>
                  </a:lnTo>
                  <a:lnTo>
                    <a:pt x="149" y="73"/>
                  </a:lnTo>
                  <a:lnTo>
                    <a:pt x="151" y="89"/>
                  </a:lnTo>
                  <a:lnTo>
                    <a:pt x="151" y="97"/>
                  </a:lnTo>
                  <a:lnTo>
                    <a:pt x="151" y="105"/>
                  </a:lnTo>
                  <a:lnTo>
                    <a:pt x="150" y="113"/>
                  </a:lnTo>
                  <a:lnTo>
                    <a:pt x="147" y="119"/>
                  </a:lnTo>
                  <a:lnTo>
                    <a:pt x="143" y="126"/>
                  </a:lnTo>
                  <a:lnTo>
                    <a:pt x="138" y="132"/>
                  </a:lnTo>
                  <a:lnTo>
                    <a:pt x="131" y="137"/>
                  </a:lnTo>
                  <a:lnTo>
                    <a:pt x="122" y="142"/>
                  </a:lnTo>
                  <a:lnTo>
                    <a:pt x="115" y="142"/>
                  </a:lnTo>
                  <a:lnTo>
                    <a:pt x="110" y="145"/>
                  </a:lnTo>
                  <a:lnTo>
                    <a:pt x="106" y="148"/>
                  </a:lnTo>
                  <a:lnTo>
                    <a:pt x="100" y="152"/>
                  </a:lnTo>
                  <a:lnTo>
                    <a:pt x="96" y="156"/>
                  </a:lnTo>
                  <a:lnTo>
                    <a:pt x="92" y="160"/>
                  </a:lnTo>
                  <a:lnTo>
                    <a:pt x="87" y="162"/>
                  </a:lnTo>
                  <a:lnTo>
                    <a:pt x="82" y="165"/>
                  </a:lnTo>
                  <a:lnTo>
                    <a:pt x="72" y="158"/>
                  </a:lnTo>
                  <a:lnTo>
                    <a:pt x="64" y="152"/>
                  </a:lnTo>
                  <a:lnTo>
                    <a:pt x="56" y="145"/>
                  </a:lnTo>
                  <a:lnTo>
                    <a:pt x="47" y="138"/>
                  </a:lnTo>
                  <a:lnTo>
                    <a:pt x="38" y="132"/>
                  </a:lnTo>
                  <a:lnTo>
                    <a:pt x="28" y="126"/>
                  </a:lnTo>
                  <a:lnTo>
                    <a:pt x="17" y="122"/>
                  </a:lnTo>
                  <a:lnTo>
                    <a:pt x="7" y="118"/>
                  </a:lnTo>
                  <a:lnTo>
                    <a:pt x="1" y="111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5" y="70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7" y="54"/>
                  </a:lnTo>
                  <a:lnTo>
                    <a:pt x="8" y="50"/>
                  </a:lnTo>
                  <a:lnTo>
                    <a:pt x="11" y="47"/>
                  </a:lnTo>
                  <a:lnTo>
                    <a:pt x="12" y="43"/>
                  </a:lnTo>
                  <a:lnTo>
                    <a:pt x="13" y="39"/>
                  </a:lnTo>
                  <a:lnTo>
                    <a:pt x="13" y="35"/>
                  </a:lnTo>
                  <a:lnTo>
                    <a:pt x="12" y="31"/>
                  </a:lnTo>
                  <a:lnTo>
                    <a:pt x="17" y="28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1" y="4"/>
                  </a:lnTo>
                  <a:lnTo>
                    <a:pt x="25" y="0"/>
                  </a:lnTo>
                  <a:lnTo>
                    <a:pt x="40" y="3"/>
                  </a:lnTo>
                  <a:lnTo>
                    <a:pt x="55" y="7"/>
                  </a:lnTo>
                  <a:lnTo>
                    <a:pt x="68" y="11"/>
                  </a:lnTo>
                  <a:lnTo>
                    <a:pt x="82" y="14"/>
                  </a:lnTo>
                  <a:lnTo>
                    <a:pt x="95" y="18"/>
                  </a:lnTo>
                  <a:lnTo>
                    <a:pt x="110" y="20"/>
                  </a:lnTo>
                  <a:lnTo>
                    <a:pt x="125" y="23"/>
                  </a:lnTo>
                  <a:lnTo>
                    <a:pt x="139" y="24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22720" y="5748480"/>
              <a:ext cx="94320" cy="72360"/>
            </a:xfrm>
            <a:custGeom>
              <a:avLst/>
              <a:gdLst/>
              <a:ahLst/>
              <a:rect l="l" t="t" r="r" b="b"/>
              <a:pathLst>
                <a:path w="207" h="165">
                  <a:moveTo>
                    <a:pt x="182" y="15"/>
                  </a:moveTo>
                  <a:lnTo>
                    <a:pt x="189" y="27"/>
                  </a:lnTo>
                  <a:lnTo>
                    <a:pt x="193" y="39"/>
                  </a:lnTo>
                  <a:lnTo>
                    <a:pt x="197" y="53"/>
                  </a:lnTo>
                  <a:lnTo>
                    <a:pt x="198" y="66"/>
                  </a:lnTo>
                  <a:lnTo>
                    <a:pt x="199" y="79"/>
                  </a:lnTo>
                  <a:lnTo>
                    <a:pt x="202" y="93"/>
                  </a:lnTo>
                  <a:lnTo>
                    <a:pt x="205" y="106"/>
                  </a:lnTo>
                  <a:lnTo>
                    <a:pt x="207" y="120"/>
                  </a:lnTo>
                  <a:lnTo>
                    <a:pt x="201" y="126"/>
                  </a:lnTo>
                  <a:lnTo>
                    <a:pt x="193" y="132"/>
                  </a:lnTo>
                  <a:lnTo>
                    <a:pt x="185" y="137"/>
                  </a:lnTo>
                  <a:lnTo>
                    <a:pt x="177" y="141"/>
                  </a:lnTo>
                  <a:lnTo>
                    <a:pt x="168" y="145"/>
                  </a:lnTo>
                  <a:lnTo>
                    <a:pt x="160" y="149"/>
                  </a:lnTo>
                  <a:lnTo>
                    <a:pt x="152" y="153"/>
                  </a:lnTo>
                  <a:lnTo>
                    <a:pt x="144" y="156"/>
                  </a:lnTo>
                  <a:lnTo>
                    <a:pt x="142" y="160"/>
                  </a:lnTo>
                  <a:lnTo>
                    <a:pt x="140" y="162"/>
                  </a:lnTo>
                  <a:lnTo>
                    <a:pt x="138" y="164"/>
                  </a:lnTo>
                  <a:lnTo>
                    <a:pt x="135" y="165"/>
                  </a:lnTo>
                  <a:lnTo>
                    <a:pt x="130" y="165"/>
                  </a:lnTo>
                  <a:lnTo>
                    <a:pt x="124" y="164"/>
                  </a:lnTo>
                  <a:lnTo>
                    <a:pt x="118" y="161"/>
                  </a:lnTo>
                  <a:lnTo>
                    <a:pt x="111" y="158"/>
                  </a:lnTo>
                  <a:lnTo>
                    <a:pt x="106" y="154"/>
                  </a:lnTo>
                  <a:lnTo>
                    <a:pt x="100" y="153"/>
                  </a:lnTo>
                  <a:lnTo>
                    <a:pt x="89" y="146"/>
                  </a:lnTo>
                  <a:lnTo>
                    <a:pt x="79" y="141"/>
                  </a:lnTo>
                  <a:lnTo>
                    <a:pt x="68" y="136"/>
                  </a:lnTo>
                  <a:lnTo>
                    <a:pt x="56" y="130"/>
                  </a:lnTo>
                  <a:lnTo>
                    <a:pt x="45" y="126"/>
                  </a:lnTo>
                  <a:lnTo>
                    <a:pt x="33" y="121"/>
                  </a:lnTo>
                  <a:lnTo>
                    <a:pt x="22" y="117"/>
                  </a:lnTo>
                  <a:lnTo>
                    <a:pt x="10" y="111"/>
                  </a:lnTo>
                  <a:lnTo>
                    <a:pt x="5" y="101"/>
                  </a:lnTo>
                  <a:lnTo>
                    <a:pt x="2" y="87"/>
                  </a:lnTo>
                  <a:lnTo>
                    <a:pt x="1" y="74"/>
                  </a:lnTo>
                  <a:lnTo>
                    <a:pt x="0" y="59"/>
                  </a:lnTo>
                  <a:lnTo>
                    <a:pt x="1" y="46"/>
                  </a:lnTo>
                  <a:lnTo>
                    <a:pt x="1" y="31"/>
                  </a:lnTo>
                  <a:lnTo>
                    <a:pt x="1" y="18"/>
                  </a:lnTo>
                  <a:lnTo>
                    <a:pt x="1" y="4"/>
                  </a:lnTo>
                  <a:lnTo>
                    <a:pt x="21" y="4"/>
                  </a:lnTo>
                  <a:lnTo>
                    <a:pt x="41" y="3"/>
                  </a:lnTo>
                  <a:lnTo>
                    <a:pt x="63" y="2"/>
                  </a:lnTo>
                  <a:lnTo>
                    <a:pt x="83" y="0"/>
                  </a:lnTo>
                  <a:lnTo>
                    <a:pt x="104" y="0"/>
                  </a:lnTo>
                  <a:lnTo>
                    <a:pt x="124" y="0"/>
                  </a:lnTo>
                  <a:lnTo>
                    <a:pt x="144" y="2"/>
                  </a:lnTo>
                  <a:lnTo>
                    <a:pt x="164" y="4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66480" y="5797440"/>
              <a:ext cx="28440" cy="3384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42" y="11"/>
                  </a:moveTo>
                  <a:lnTo>
                    <a:pt x="50" y="15"/>
                  </a:lnTo>
                  <a:lnTo>
                    <a:pt x="55" y="21"/>
                  </a:lnTo>
                  <a:lnTo>
                    <a:pt x="59" y="27"/>
                  </a:lnTo>
                  <a:lnTo>
                    <a:pt x="63" y="34"/>
                  </a:lnTo>
                  <a:lnTo>
                    <a:pt x="64" y="42"/>
                  </a:lnTo>
                  <a:lnTo>
                    <a:pt x="64" y="49"/>
                  </a:lnTo>
                  <a:lnTo>
                    <a:pt x="64" y="57"/>
                  </a:lnTo>
                  <a:lnTo>
                    <a:pt x="62" y="65"/>
                  </a:lnTo>
                  <a:lnTo>
                    <a:pt x="56" y="77"/>
                  </a:lnTo>
                  <a:lnTo>
                    <a:pt x="50" y="74"/>
                  </a:lnTo>
                  <a:lnTo>
                    <a:pt x="43" y="71"/>
                  </a:lnTo>
                  <a:lnTo>
                    <a:pt x="35" y="69"/>
                  </a:lnTo>
                  <a:lnTo>
                    <a:pt x="28" y="66"/>
                  </a:lnTo>
                  <a:lnTo>
                    <a:pt x="21" y="62"/>
                  </a:lnTo>
                  <a:lnTo>
                    <a:pt x="16" y="58"/>
                  </a:lnTo>
                  <a:lnTo>
                    <a:pt x="11" y="51"/>
                  </a:lnTo>
                  <a:lnTo>
                    <a:pt x="8" y="45"/>
                  </a:lnTo>
                  <a:lnTo>
                    <a:pt x="4" y="41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6"/>
                  </a:lnTo>
                  <a:lnTo>
                    <a:pt x="3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4"/>
                  </a:lnTo>
                  <a:lnTo>
                    <a:pt x="23" y="7"/>
                  </a:lnTo>
                  <a:lnTo>
                    <a:pt x="27" y="10"/>
                  </a:lnTo>
                  <a:lnTo>
                    <a:pt x="32" y="13"/>
                  </a:lnTo>
                  <a:lnTo>
                    <a:pt x="36" y="13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36840" y="5801400"/>
              <a:ext cx="348120" cy="91800"/>
            </a:xfrm>
            <a:custGeom>
              <a:avLst/>
              <a:gdLst/>
              <a:ahLst/>
              <a:rect l="l" t="t" r="r" b="b"/>
              <a:pathLst>
                <a:path w="761" h="211">
                  <a:moveTo>
                    <a:pt x="761" y="20"/>
                  </a:moveTo>
                  <a:lnTo>
                    <a:pt x="749" y="24"/>
                  </a:lnTo>
                  <a:lnTo>
                    <a:pt x="736" y="25"/>
                  </a:lnTo>
                  <a:lnTo>
                    <a:pt x="722" y="25"/>
                  </a:lnTo>
                  <a:lnTo>
                    <a:pt x="709" y="25"/>
                  </a:lnTo>
                  <a:lnTo>
                    <a:pt x="694" y="25"/>
                  </a:lnTo>
                  <a:lnTo>
                    <a:pt x="681" y="25"/>
                  </a:lnTo>
                  <a:lnTo>
                    <a:pt x="669" y="26"/>
                  </a:lnTo>
                  <a:lnTo>
                    <a:pt x="657" y="28"/>
                  </a:lnTo>
                  <a:lnTo>
                    <a:pt x="653" y="40"/>
                  </a:lnTo>
                  <a:lnTo>
                    <a:pt x="650" y="53"/>
                  </a:lnTo>
                  <a:lnTo>
                    <a:pt x="649" y="65"/>
                  </a:lnTo>
                  <a:lnTo>
                    <a:pt x="649" y="79"/>
                  </a:lnTo>
                  <a:lnTo>
                    <a:pt x="649" y="92"/>
                  </a:lnTo>
                  <a:lnTo>
                    <a:pt x="650" y="105"/>
                  </a:lnTo>
                  <a:lnTo>
                    <a:pt x="650" y="119"/>
                  </a:lnTo>
                  <a:lnTo>
                    <a:pt x="649" y="132"/>
                  </a:lnTo>
                  <a:lnTo>
                    <a:pt x="650" y="139"/>
                  </a:lnTo>
                  <a:lnTo>
                    <a:pt x="653" y="145"/>
                  </a:lnTo>
                  <a:lnTo>
                    <a:pt x="654" y="152"/>
                  </a:lnTo>
                  <a:lnTo>
                    <a:pt x="655" y="159"/>
                  </a:lnTo>
                  <a:lnTo>
                    <a:pt x="657" y="166"/>
                  </a:lnTo>
                  <a:lnTo>
                    <a:pt x="657" y="172"/>
                  </a:lnTo>
                  <a:lnTo>
                    <a:pt x="655" y="179"/>
                  </a:lnTo>
                  <a:lnTo>
                    <a:pt x="654" y="186"/>
                  </a:lnTo>
                  <a:lnTo>
                    <a:pt x="650" y="187"/>
                  </a:lnTo>
                  <a:lnTo>
                    <a:pt x="646" y="186"/>
                  </a:lnTo>
                  <a:lnTo>
                    <a:pt x="642" y="184"/>
                  </a:lnTo>
                  <a:lnTo>
                    <a:pt x="639" y="183"/>
                  </a:lnTo>
                  <a:lnTo>
                    <a:pt x="635" y="180"/>
                  </a:lnTo>
                  <a:lnTo>
                    <a:pt x="632" y="178"/>
                  </a:lnTo>
                  <a:lnTo>
                    <a:pt x="631" y="174"/>
                  </a:lnTo>
                  <a:lnTo>
                    <a:pt x="628" y="171"/>
                  </a:lnTo>
                  <a:lnTo>
                    <a:pt x="630" y="168"/>
                  </a:lnTo>
                  <a:lnTo>
                    <a:pt x="630" y="167"/>
                  </a:lnTo>
                  <a:lnTo>
                    <a:pt x="630" y="164"/>
                  </a:lnTo>
                  <a:lnTo>
                    <a:pt x="630" y="162"/>
                  </a:lnTo>
                  <a:lnTo>
                    <a:pt x="628" y="159"/>
                  </a:lnTo>
                  <a:lnTo>
                    <a:pt x="627" y="156"/>
                  </a:lnTo>
                  <a:lnTo>
                    <a:pt x="626" y="155"/>
                  </a:lnTo>
                  <a:lnTo>
                    <a:pt x="623" y="152"/>
                  </a:lnTo>
                  <a:lnTo>
                    <a:pt x="624" y="137"/>
                  </a:lnTo>
                  <a:lnTo>
                    <a:pt x="626" y="121"/>
                  </a:lnTo>
                  <a:lnTo>
                    <a:pt x="627" y="105"/>
                  </a:lnTo>
                  <a:lnTo>
                    <a:pt x="627" y="89"/>
                  </a:lnTo>
                  <a:lnTo>
                    <a:pt x="628" y="73"/>
                  </a:lnTo>
                  <a:lnTo>
                    <a:pt x="628" y="58"/>
                  </a:lnTo>
                  <a:lnTo>
                    <a:pt x="628" y="44"/>
                  </a:lnTo>
                  <a:lnTo>
                    <a:pt x="626" y="30"/>
                  </a:lnTo>
                  <a:lnTo>
                    <a:pt x="574" y="29"/>
                  </a:lnTo>
                  <a:lnTo>
                    <a:pt x="523" y="28"/>
                  </a:lnTo>
                  <a:lnTo>
                    <a:pt x="472" y="29"/>
                  </a:lnTo>
                  <a:lnTo>
                    <a:pt x="421" y="30"/>
                  </a:lnTo>
                  <a:lnTo>
                    <a:pt x="370" y="32"/>
                  </a:lnTo>
                  <a:lnTo>
                    <a:pt x="320" y="34"/>
                  </a:lnTo>
                  <a:lnTo>
                    <a:pt x="269" y="38"/>
                  </a:lnTo>
                  <a:lnTo>
                    <a:pt x="217" y="41"/>
                  </a:lnTo>
                  <a:lnTo>
                    <a:pt x="213" y="45"/>
                  </a:lnTo>
                  <a:lnTo>
                    <a:pt x="214" y="66"/>
                  </a:lnTo>
                  <a:lnTo>
                    <a:pt x="218" y="87"/>
                  </a:lnTo>
                  <a:lnTo>
                    <a:pt x="221" y="107"/>
                  </a:lnTo>
                  <a:lnTo>
                    <a:pt x="225" y="127"/>
                  </a:lnTo>
                  <a:lnTo>
                    <a:pt x="229" y="147"/>
                  </a:lnTo>
                  <a:lnTo>
                    <a:pt x="233" y="167"/>
                  </a:lnTo>
                  <a:lnTo>
                    <a:pt x="237" y="187"/>
                  </a:lnTo>
                  <a:lnTo>
                    <a:pt x="243" y="206"/>
                  </a:lnTo>
                  <a:lnTo>
                    <a:pt x="240" y="210"/>
                  </a:lnTo>
                  <a:lnTo>
                    <a:pt x="236" y="211"/>
                  </a:lnTo>
                  <a:lnTo>
                    <a:pt x="233" y="211"/>
                  </a:lnTo>
                  <a:lnTo>
                    <a:pt x="229" y="211"/>
                  </a:lnTo>
                  <a:lnTo>
                    <a:pt x="225" y="208"/>
                  </a:lnTo>
                  <a:lnTo>
                    <a:pt x="222" y="207"/>
                  </a:lnTo>
                  <a:lnTo>
                    <a:pt x="218" y="206"/>
                  </a:lnTo>
                  <a:lnTo>
                    <a:pt x="214" y="204"/>
                  </a:lnTo>
                  <a:lnTo>
                    <a:pt x="210" y="195"/>
                  </a:lnTo>
                  <a:lnTo>
                    <a:pt x="208" y="186"/>
                  </a:lnTo>
                  <a:lnTo>
                    <a:pt x="205" y="175"/>
                  </a:lnTo>
                  <a:lnTo>
                    <a:pt x="204" y="164"/>
                  </a:lnTo>
                  <a:lnTo>
                    <a:pt x="201" y="144"/>
                  </a:lnTo>
                  <a:lnTo>
                    <a:pt x="200" y="123"/>
                  </a:lnTo>
                  <a:lnTo>
                    <a:pt x="198" y="101"/>
                  </a:lnTo>
                  <a:lnTo>
                    <a:pt x="194" y="81"/>
                  </a:lnTo>
                  <a:lnTo>
                    <a:pt x="192" y="70"/>
                  </a:lnTo>
                  <a:lnTo>
                    <a:pt x="189" y="61"/>
                  </a:lnTo>
                  <a:lnTo>
                    <a:pt x="185" y="52"/>
                  </a:lnTo>
                  <a:lnTo>
                    <a:pt x="180" y="44"/>
                  </a:lnTo>
                  <a:lnTo>
                    <a:pt x="155" y="46"/>
                  </a:lnTo>
                  <a:lnTo>
                    <a:pt x="133" y="48"/>
                  </a:lnTo>
                  <a:lnTo>
                    <a:pt x="111" y="49"/>
                  </a:lnTo>
                  <a:lnTo>
                    <a:pt x="89" y="49"/>
                  </a:lnTo>
                  <a:lnTo>
                    <a:pt x="67" y="48"/>
                  </a:lnTo>
                  <a:lnTo>
                    <a:pt x="44" y="48"/>
                  </a:lnTo>
                  <a:lnTo>
                    <a:pt x="23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3" y="32"/>
                  </a:lnTo>
                  <a:lnTo>
                    <a:pt x="8" y="28"/>
                  </a:lnTo>
                  <a:lnTo>
                    <a:pt x="15" y="25"/>
                  </a:lnTo>
                  <a:lnTo>
                    <a:pt x="23" y="24"/>
                  </a:lnTo>
                  <a:lnTo>
                    <a:pt x="31" y="22"/>
                  </a:lnTo>
                  <a:lnTo>
                    <a:pt x="39" y="21"/>
                  </a:lnTo>
                  <a:lnTo>
                    <a:pt x="46" y="20"/>
                  </a:lnTo>
                  <a:lnTo>
                    <a:pt x="68" y="21"/>
                  </a:lnTo>
                  <a:lnTo>
                    <a:pt x="91" y="22"/>
                  </a:lnTo>
                  <a:lnTo>
                    <a:pt x="114" y="22"/>
                  </a:lnTo>
                  <a:lnTo>
                    <a:pt x="137" y="22"/>
                  </a:lnTo>
                  <a:lnTo>
                    <a:pt x="181" y="20"/>
                  </a:lnTo>
                  <a:lnTo>
                    <a:pt x="224" y="16"/>
                  </a:lnTo>
                  <a:lnTo>
                    <a:pt x="268" y="12"/>
                  </a:lnTo>
                  <a:lnTo>
                    <a:pt x="312" y="9"/>
                  </a:lnTo>
                  <a:lnTo>
                    <a:pt x="335" y="9"/>
                  </a:lnTo>
                  <a:lnTo>
                    <a:pt x="358" y="8"/>
                  </a:lnTo>
                  <a:lnTo>
                    <a:pt x="381" y="9"/>
                  </a:lnTo>
                  <a:lnTo>
                    <a:pt x="403" y="10"/>
                  </a:lnTo>
                  <a:lnTo>
                    <a:pt x="448" y="9"/>
                  </a:lnTo>
                  <a:lnTo>
                    <a:pt x="492" y="8"/>
                  </a:lnTo>
                  <a:lnTo>
                    <a:pt x="536" y="6"/>
                  </a:lnTo>
                  <a:lnTo>
                    <a:pt x="580" y="6"/>
                  </a:lnTo>
                  <a:lnTo>
                    <a:pt x="626" y="5"/>
                  </a:lnTo>
                  <a:lnTo>
                    <a:pt x="670" y="4"/>
                  </a:lnTo>
                  <a:lnTo>
                    <a:pt x="716" y="2"/>
                  </a:lnTo>
                  <a:lnTo>
                    <a:pt x="761" y="0"/>
                  </a:lnTo>
                  <a:lnTo>
                    <a:pt x="76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20280" y="5843520"/>
              <a:ext cx="721440" cy="231840"/>
            </a:xfrm>
            <a:custGeom>
              <a:avLst/>
              <a:gdLst/>
              <a:ahLst/>
              <a:rect l="l" t="t" r="r" b="b"/>
              <a:pathLst>
                <a:path w="1576" h="530">
                  <a:moveTo>
                    <a:pt x="1193" y="20"/>
                  </a:moveTo>
                  <a:lnTo>
                    <a:pt x="1193" y="32"/>
                  </a:lnTo>
                  <a:lnTo>
                    <a:pt x="1194" y="44"/>
                  </a:lnTo>
                  <a:lnTo>
                    <a:pt x="1195" y="57"/>
                  </a:lnTo>
                  <a:lnTo>
                    <a:pt x="1195" y="69"/>
                  </a:lnTo>
                  <a:lnTo>
                    <a:pt x="1198" y="81"/>
                  </a:lnTo>
                  <a:lnTo>
                    <a:pt x="1201" y="93"/>
                  </a:lnTo>
                  <a:lnTo>
                    <a:pt x="1205" y="104"/>
                  </a:lnTo>
                  <a:lnTo>
                    <a:pt x="1210" y="115"/>
                  </a:lnTo>
                  <a:lnTo>
                    <a:pt x="1545" y="109"/>
                  </a:lnTo>
                  <a:lnTo>
                    <a:pt x="1549" y="111"/>
                  </a:lnTo>
                  <a:lnTo>
                    <a:pt x="1553" y="111"/>
                  </a:lnTo>
                  <a:lnTo>
                    <a:pt x="1558" y="112"/>
                  </a:lnTo>
                  <a:lnTo>
                    <a:pt x="1564" y="112"/>
                  </a:lnTo>
                  <a:lnTo>
                    <a:pt x="1569" y="113"/>
                  </a:lnTo>
                  <a:lnTo>
                    <a:pt x="1572" y="116"/>
                  </a:lnTo>
                  <a:lnTo>
                    <a:pt x="1574" y="119"/>
                  </a:lnTo>
                  <a:lnTo>
                    <a:pt x="1576" y="124"/>
                  </a:lnTo>
                  <a:lnTo>
                    <a:pt x="1554" y="127"/>
                  </a:lnTo>
                  <a:lnTo>
                    <a:pt x="1534" y="128"/>
                  </a:lnTo>
                  <a:lnTo>
                    <a:pt x="1513" y="129"/>
                  </a:lnTo>
                  <a:lnTo>
                    <a:pt x="1491" y="131"/>
                  </a:lnTo>
                  <a:lnTo>
                    <a:pt x="1470" y="132"/>
                  </a:lnTo>
                  <a:lnTo>
                    <a:pt x="1450" y="132"/>
                  </a:lnTo>
                  <a:lnTo>
                    <a:pt x="1430" y="133"/>
                  </a:lnTo>
                  <a:lnTo>
                    <a:pt x="1410" y="135"/>
                  </a:lnTo>
                  <a:lnTo>
                    <a:pt x="1408" y="148"/>
                  </a:lnTo>
                  <a:lnTo>
                    <a:pt x="1408" y="163"/>
                  </a:lnTo>
                  <a:lnTo>
                    <a:pt x="1410" y="178"/>
                  </a:lnTo>
                  <a:lnTo>
                    <a:pt x="1412" y="191"/>
                  </a:lnTo>
                  <a:lnTo>
                    <a:pt x="1414" y="206"/>
                  </a:lnTo>
                  <a:lnTo>
                    <a:pt x="1415" y="220"/>
                  </a:lnTo>
                  <a:lnTo>
                    <a:pt x="1416" y="237"/>
                  </a:lnTo>
                  <a:lnTo>
                    <a:pt x="1418" y="253"/>
                  </a:lnTo>
                  <a:lnTo>
                    <a:pt x="1419" y="255"/>
                  </a:lnTo>
                  <a:lnTo>
                    <a:pt x="1419" y="261"/>
                  </a:lnTo>
                  <a:lnTo>
                    <a:pt x="1419" y="265"/>
                  </a:lnTo>
                  <a:lnTo>
                    <a:pt x="1419" y="269"/>
                  </a:lnTo>
                  <a:lnTo>
                    <a:pt x="1418" y="273"/>
                  </a:lnTo>
                  <a:lnTo>
                    <a:pt x="1416" y="277"/>
                  </a:lnTo>
                  <a:lnTo>
                    <a:pt x="1414" y="279"/>
                  </a:lnTo>
                  <a:lnTo>
                    <a:pt x="1411" y="282"/>
                  </a:lnTo>
                  <a:lnTo>
                    <a:pt x="1406" y="282"/>
                  </a:lnTo>
                  <a:lnTo>
                    <a:pt x="1402" y="279"/>
                  </a:lnTo>
                  <a:lnTo>
                    <a:pt x="1399" y="277"/>
                  </a:lnTo>
                  <a:lnTo>
                    <a:pt x="1396" y="273"/>
                  </a:lnTo>
                  <a:lnTo>
                    <a:pt x="1392" y="265"/>
                  </a:lnTo>
                  <a:lnTo>
                    <a:pt x="1391" y="254"/>
                  </a:lnTo>
                  <a:lnTo>
                    <a:pt x="1391" y="243"/>
                  </a:lnTo>
                  <a:lnTo>
                    <a:pt x="1391" y="233"/>
                  </a:lnTo>
                  <a:lnTo>
                    <a:pt x="1391" y="222"/>
                  </a:lnTo>
                  <a:lnTo>
                    <a:pt x="1388" y="214"/>
                  </a:lnTo>
                  <a:lnTo>
                    <a:pt x="1387" y="204"/>
                  </a:lnTo>
                  <a:lnTo>
                    <a:pt x="1386" y="195"/>
                  </a:lnTo>
                  <a:lnTo>
                    <a:pt x="1384" y="186"/>
                  </a:lnTo>
                  <a:lnTo>
                    <a:pt x="1383" y="178"/>
                  </a:lnTo>
                  <a:lnTo>
                    <a:pt x="1382" y="168"/>
                  </a:lnTo>
                  <a:lnTo>
                    <a:pt x="1380" y="159"/>
                  </a:lnTo>
                  <a:lnTo>
                    <a:pt x="1379" y="150"/>
                  </a:lnTo>
                  <a:lnTo>
                    <a:pt x="1379" y="140"/>
                  </a:lnTo>
                  <a:lnTo>
                    <a:pt x="1371" y="135"/>
                  </a:lnTo>
                  <a:lnTo>
                    <a:pt x="929" y="141"/>
                  </a:lnTo>
                  <a:lnTo>
                    <a:pt x="930" y="151"/>
                  </a:lnTo>
                  <a:lnTo>
                    <a:pt x="931" y="160"/>
                  </a:lnTo>
                  <a:lnTo>
                    <a:pt x="933" y="170"/>
                  </a:lnTo>
                  <a:lnTo>
                    <a:pt x="934" y="179"/>
                  </a:lnTo>
                  <a:lnTo>
                    <a:pt x="935" y="188"/>
                  </a:lnTo>
                  <a:lnTo>
                    <a:pt x="939" y="198"/>
                  </a:lnTo>
                  <a:lnTo>
                    <a:pt x="943" y="206"/>
                  </a:lnTo>
                  <a:lnTo>
                    <a:pt x="950" y="214"/>
                  </a:lnTo>
                  <a:lnTo>
                    <a:pt x="947" y="218"/>
                  </a:lnTo>
                  <a:lnTo>
                    <a:pt x="943" y="219"/>
                  </a:lnTo>
                  <a:lnTo>
                    <a:pt x="941" y="218"/>
                  </a:lnTo>
                  <a:lnTo>
                    <a:pt x="937" y="216"/>
                  </a:lnTo>
                  <a:lnTo>
                    <a:pt x="933" y="215"/>
                  </a:lnTo>
                  <a:lnTo>
                    <a:pt x="929" y="212"/>
                  </a:lnTo>
                  <a:lnTo>
                    <a:pt x="926" y="211"/>
                  </a:lnTo>
                  <a:lnTo>
                    <a:pt x="922" y="211"/>
                  </a:lnTo>
                  <a:lnTo>
                    <a:pt x="918" y="203"/>
                  </a:lnTo>
                  <a:lnTo>
                    <a:pt x="915" y="194"/>
                  </a:lnTo>
                  <a:lnTo>
                    <a:pt x="914" y="184"/>
                  </a:lnTo>
                  <a:lnTo>
                    <a:pt x="911" y="175"/>
                  </a:lnTo>
                  <a:lnTo>
                    <a:pt x="910" y="166"/>
                  </a:lnTo>
                  <a:lnTo>
                    <a:pt x="906" y="156"/>
                  </a:lnTo>
                  <a:lnTo>
                    <a:pt x="902" y="148"/>
                  </a:lnTo>
                  <a:lnTo>
                    <a:pt x="897" y="141"/>
                  </a:lnTo>
                  <a:lnTo>
                    <a:pt x="472" y="147"/>
                  </a:lnTo>
                  <a:lnTo>
                    <a:pt x="464" y="158"/>
                  </a:lnTo>
                  <a:lnTo>
                    <a:pt x="462" y="178"/>
                  </a:lnTo>
                  <a:lnTo>
                    <a:pt x="462" y="196"/>
                  </a:lnTo>
                  <a:lnTo>
                    <a:pt x="461" y="214"/>
                  </a:lnTo>
                  <a:lnTo>
                    <a:pt x="462" y="231"/>
                  </a:lnTo>
                  <a:lnTo>
                    <a:pt x="464" y="249"/>
                  </a:lnTo>
                  <a:lnTo>
                    <a:pt x="466" y="266"/>
                  </a:lnTo>
                  <a:lnTo>
                    <a:pt x="471" y="283"/>
                  </a:lnTo>
                  <a:lnTo>
                    <a:pt x="477" y="301"/>
                  </a:lnTo>
                  <a:lnTo>
                    <a:pt x="476" y="305"/>
                  </a:lnTo>
                  <a:lnTo>
                    <a:pt x="476" y="310"/>
                  </a:lnTo>
                  <a:lnTo>
                    <a:pt x="477" y="313"/>
                  </a:lnTo>
                  <a:lnTo>
                    <a:pt x="480" y="317"/>
                  </a:lnTo>
                  <a:lnTo>
                    <a:pt x="481" y="321"/>
                  </a:lnTo>
                  <a:lnTo>
                    <a:pt x="483" y="324"/>
                  </a:lnTo>
                  <a:lnTo>
                    <a:pt x="481" y="328"/>
                  </a:lnTo>
                  <a:lnTo>
                    <a:pt x="477" y="330"/>
                  </a:lnTo>
                  <a:lnTo>
                    <a:pt x="483" y="337"/>
                  </a:lnTo>
                  <a:lnTo>
                    <a:pt x="515" y="334"/>
                  </a:lnTo>
                  <a:lnTo>
                    <a:pt x="547" y="333"/>
                  </a:lnTo>
                  <a:lnTo>
                    <a:pt x="580" y="332"/>
                  </a:lnTo>
                  <a:lnTo>
                    <a:pt x="614" y="330"/>
                  </a:lnTo>
                  <a:lnTo>
                    <a:pt x="646" y="330"/>
                  </a:lnTo>
                  <a:lnTo>
                    <a:pt x="678" y="333"/>
                  </a:lnTo>
                  <a:lnTo>
                    <a:pt x="694" y="334"/>
                  </a:lnTo>
                  <a:lnTo>
                    <a:pt x="710" y="337"/>
                  </a:lnTo>
                  <a:lnTo>
                    <a:pt x="725" y="340"/>
                  </a:lnTo>
                  <a:lnTo>
                    <a:pt x="740" y="344"/>
                  </a:lnTo>
                  <a:lnTo>
                    <a:pt x="733" y="346"/>
                  </a:lnTo>
                  <a:lnTo>
                    <a:pt x="726" y="349"/>
                  </a:lnTo>
                  <a:lnTo>
                    <a:pt x="718" y="349"/>
                  </a:lnTo>
                  <a:lnTo>
                    <a:pt x="712" y="349"/>
                  </a:lnTo>
                  <a:lnTo>
                    <a:pt x="704" y="349"/>
                  </a:lnTo>
                  <a:lnTo>
                    <a:pt x="696" y="349"/>
                  </a:lnTo>
                  <a:lnTo>
                    <a:pt x="689" y="350"/>
                  </a:lnTo>
                  <a:lnTo>
                    <a:pt x="682" y="352"/>
                  </a:lnTo>
                  <a:lnTo>
                    <a:pt x="682" y="364"/>
                  </a:lnTo>
                  <a:lnTo>
                    <a:pt x="682" y="378"/>
                  </a:lnTo>
                  <a:lnTo>
                    <a:pt x="681" y="393"/>
                  </a:lnTo>
                  <a:lnTo>
                    <a:pt x="681" y="408"/>
                  </a:lnTo>
                  <a:lnTo>
                    <a:pt x="681" y="421"/>
                  </a:lnTo>
                  <a:lnTo>
                    <a:pt x="684" y="435"/>
                  </a:lnTo>
                  <a:lnTo>
                    <a:pt x="685" y="441"/>
                  </a:lnTo>
                  <a:lnTo>
                    <a:pt x="688" y="448"/>
                  </a:lnTo>
                  <a:lnTo>
                    <a:pt x="692" y="453"/>
                  </a:lnTo>
                  <a:lnTo>
                    <a:pt x="697" y="459"/>
                  </a:lnTo>
                  <a:lnTo>
                    <a:pt x="692" y="457"/>
                  </a:lnTo>
                  <a:lnTo>
                    <a:pt x="685" y="456"/>
                  </a:lnTo>
                  <a:lnTo>
                    <a:pt x="678" y="455"/>
                  </a:lnTo>
                  <a:lnTo>
                    <a:pt x="673" y="453"/>
                  </a:lnTo>
                  <a:lnTo>
                    <a:pt x="667" y="451"/>
                  </a:lnTo>
                  <a:lnTo>
                    <a:pt x="662" y="448"/>
                  </a:lnTo>
                  <a:lnTo>
                    <a:pt x="659" y="443"/>
                  </a:lnTo>
                  <a:lnTo>
                    <a:pt x="658" y="436"/>
                  </a:lnTo>
                  <a:lnTo>
                    <a:pt x="661" y="425"/>
                  </a:lnTo>
                  <a:lnTo>
                    <a:pt x="661" y="416"/>
                  </a:lnTo>
                  <a:lnTo>
                    <a:pt x="661" y="405"/>
                  </a:lnTo>
                  <a:lnTo>
                    <a:pt x="661" y="396"/>
                  </a:lnTo>
                  <a:lnTo>
                    <a:pt x="659" y="385"/>
                  </a:lnTo>
                  <a:lnTo>
                    <a:pt x="657" y="374"/>
                  </a:lnTo>
                  <a:lnTo>
                    <a:pt x="655" y="365"/>
                  </a:lnTo>
                  <a:lnTo>
                    <a:pt x="653" y="354"/>
                  </a:lnTo>
                  <a:lnTo>
                    <a:pt x="646" y="349"/>
                  </a:lnTo>
                  <a:lnTo>
                    <a:pt x="600" y="352"/>
                  </a:lnTo>
                  <a:lnTo>
                    <a:pt x="555" y="353"/>
                  </a:lnTo>
                  <a:lnTo>
                    <a:pt x="508" y="354"/>
                  </a:lnTo>
                  <a:lnTo>
                    <a:pt x="461" y="354"/>
                  </a:lnTo>
                  <a:lnTo>
                    <a:pt x="414" y="356"/>
                  </a:lnTo>
                  <a:lnTo>
                    <a:pt x="367" y="358"/>
                  </a:lnTo>
                  <a:lnTo>
                    <a:pt x="345" y="360"/>
                  </a:lnTo>
                  <a:lnTo>
                    <a:pt x="322" y="362"/>
                  </a:lnTo>
                  <a:lnTo>
                    <a:pt x="300" y="365"/>
                  </a:lnTo>
                  <a:lnTo>
                    <a:pt x="278" y="369"/>
                  </a:lnTo>
                  <a:lnTo>
                    <a:pt x="280" y="388"/>
                  </a:lnTo>
                  <a:lnTo>
                    <a:pt x="282" y="408"/>
                  </a:lnTo>
                  <a:lnTo>
                    <a:pt x="282" y="429"/>
                  </a:lnTo>
                  <a:lnTo>
                    <a:pt x="283" y="449"/>
                  </a:lnTo>
                  <a:lnTo>
                    <a:pt x="286" y="471"/>
                  </a:lnTo>
                  <a:lnTo>
                    <a:pt x="287" y="492"/>
                  </a:lnTo>
                  <a:lnTo>
                    <a:pt x="291" y="512"/>
                  </a:lnTo>
                  <a:lnTo>
                    <a:pt x="295" y="530"/>
                  </a:lnTo>
                  <a:lnTo>
                    <a:pt x="287" y="528"/>
                  </a:lnTo>
                  <a:lnTo>
                    <a:pt x="280" y="527"/>
                  </a:lnTo>
                  <a:lnTo>
                    <a:pt x="275" y="523"/>
                  </a:lnTo>
                  <a:lnTo>
                    <a:pt x="271" y="519"/>
                  </a:lnTo>
                  <a:lnTo>
                    <a:pt x="268" y="514"/>
                  </a:lnTo>
                  <a:lnTo>
                    <a:pt x="267" y="508"/>
                  </a:lnTo>
                  <a:lnTo>
                    <a:pt x="266" y="502"/>
                  </a:lnTo>
                  <a:lnTo>
                    <a:pt x="264" y="494"/>
                  </a:lnTo>
                  <a:lnTo>
                    <a:pt x="264" y="479"/>
                  </a:lnTo>
                  <a:lnTo>
                    <a:pt x="266" y="463"/>
                  </a:lnTo>
                  <a:lnTo>
                    <a:pt x="266" y="448"/>
                  </a:lnTo>
                  <a:lnTo>
                    <a:pt x="263" y="436"/>
                  </a:lnTo>
                  <a:lnTo>
                    <a:pt x="262" y="427"/>
                  </a:lnTo>
                  <a:lnTo>
                    <a:pt x="259" y="419"/>
                  </a:lnTo>
                  <a:lnTo>
                    <a:pt x="256" y="409"/>
                  </a:lnTo>
                  <a:lnTo>
                    <a:pt x="255" y="401"/>
                  </a:lnTo>
                  <a:lnTo>
                    <a:pt x="253" y="392"/>
                  </a:lnTo>
                  <a:lnTo>
                    <a:pt x="251" y="384"/>
                  </a:lnTo>
                  <a:lnTo>
                    <a:pt x="251" y="374"/>
                  </a:lnTo>
                  <a:lnTo>
                    <a:pt x="249" y="366"/>
                  </a:lnTo>
                  <a:lnTo>
                    <a:pt x="232" y="366"/>
                  </a:lnTo>
                  <a:lnTo>
                    <a:pt x="215" y="366"/>
                  </a:lnTo>
                  <a:lnTo>
                    <a:pt x="197" y="366"/>
                  </a:lnTo>
                  <a:lnTo>
                    <a:pt x="180" y="366"/>
                  </a:lnTo>
                  <a:lnTo>
                    <a:pt x="164" y="366"/>
                  </a:lnTo>
                  <a:lnTo>
                    <a:pt x="146" y="366"/>
                  </a:lnTo>
                  <a:lnTo>
                    <a:pt x="129" y="368"/>
                  </a:lnTo>
                  <a:lnTo>
                    <a:pt x="111" y="369"/>
                  </a:lnTo>
                  <a:lnTo>
                    <a:pt x="107" y="365"/>
                  </a:lnTo>
                  <a:lnTo>
                    <a:pt x="102" y="362"/>
                  </a:lnTo>
                  <a:lnTo>
                    <a:pt x="95" y="361"/>
                  </a:lnTo>
                  <a:lnTo>
                    <a:pt x="89" y="361"/>
                  </a:lnTo>
                  <a:lnTo>
                    <a:pt x="82" y="361"/>
                  </a:lnTo>
                  <a:lnTo>
                    <a:pt x="75" y="362"/>
                  </a:lnTo>
                  <a:lnTo>
                    <a:pt x="67" y="362"/>
                  </a:lnTo>
                  <a:lnTo>
                    <a:pt x="61" y="361"/>
                  </a:lnTo>
                  <a:lnTo>
                    <a:pt x="61" y="358"/>
                  </a:lnTo>
                  <a:lnTo>
                    <a:pt x="61" y="356"/>
                  </a:lnTo>
                  <a:lnTo>
                    <a:pt x="62" y="353"/>
                  </a:lnTo>
                  <a:lnTo>
                    <a:pt x="62" y="350"/>
                  </a:lnTo>
                  <a:lnTo>
                    <a:pt x="65" y="348"/>
                  </a:lnTo>
                  <a:lnTo>
                    <a:pt x="66" y="346"/>
                  </a:lnTo>
                  <a:lnTo>
                    <a:pt x="69" y="345"/>
                  </a:lnTo>
                  <a:lnTo>
                    <a:pt x="71" y="344"/>
                  </a:lnTo>
                  <a:lnTo>
                    <a:pt x="119" y="345"/>
                  </a:lnTo>
                  <a:lnTo>
                    <a:pt x="168" y="346"/>
                  </a:lnTo>
                  <a:lnTo>
                    <a:pt x="217" y="346"/>
                  </a:lnTo>
                  <a:lnTo>
                    <a:pt x="267" y="345"/>
                  </a:lnTo>
                  <a:lnTo>
                    <a:pt x="316" y="344"/>
                  </a:lnTo>
                  <a:lnTo>
                    <a:pt x="365" y="342"/>
                  </a:lnTo>
                  <a:lnTo>
                    <a:pt x="414" y="340"/>
                  </a:lnTo>
                  <a:lnTo>
                    <a:pt x="464" y="337"/>
                  </a:lnTo>
                  <a:lnTo>
                    <a:pt x="469" y="330"/>
                  </a:lnTo>
                  <a:lnTo>
                    <a:pt x="462" y="325"/>
                  </a:lnTo>
                  <a:lnTo>
                    <a:pt x="458" y="320"/>
                  </a:lnTo>
                  <a:lnTo>
                    <a:pt x="454" y="313"/>
                  </a:lnTo>
                  <a:lnTo>
                    <a:pt x="450" y="306"/>
                  </a:lnTo>
                  <a:lnTo>
                    <a:pt x="446" y="291"/>
                  </a:lnTo>
                  <a:lnTo>
                    <a:pt x="445" y="277"/>
                  </a:lnTo>
                  <a:lnTo>
                    <a:pt x="444" y="261"/>
                  </a:lnTo>
                  <a:lnTo>
                    <a:pt x="444" y="245"/>
                  </a:lnTo>
                  <a:lnTo>
                    <a:pt x="444" y="227"/>
                  </a:lnTo>
                  <a:lnTo>
                    <a:pt x="441" y="211"/>
                  </a:lnTo>
                  <a:lnTo>
                    <a:pt x="442" y="204"/>
                  </a:lnTo>
                  <a:lnTo>
                    <a:pt x="444" y="198"/>
                  </a:lnTo>
                  <a:lnTo>
                    <a:pt x="444" y="190"/>
                  </a:lnTo>
                  <a:lnTo>
                    <a:pt x="445" y="183"/>
                  </a:lnTo>
                  <a:lnTo>
                    <a:pt x="444" y="175"/>
                  </a:lnTo>
                  <a:lnTo>
                    <a:pt x="442" y="167"/>
                  </a:lnTo>
                  <a:lnTo>
                    <a:pt x="441" y="160"/>
                  </a:lnTo>
                  <a:lnTo>
                    <a:pt x="438" y="152"/>
                  </a:lnTo>
                  <a:lnTo>
                    <a:pt x="386" y="152"/>
                  </a:lnTo>
                  <a:lnTo>
                    <a:pt x="333" y="152"/>
                  </a:lnTo>
                  <a:lnTo>
                    <a:pt x="276" y="152"/>
                  </a:lnTo>
                  <a:lnTo>
                    <a:pt x="220" y="151"/>
                  </a:lnTo>
                  <a:lnTo>
                    <a:pt x="164" y="150"/>
                  </a:lnTo>
                  <a:lnTo>
                    <a:pt x="107" y="150"/>
                  </a:lnTo>
                  <a:lnTo>
                    <a:pt x="52" y="150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2" y="143"/>
                  </a:lnTo>
                  <a:lnTo>
                    <a:pt x="3" y="140"/>
                  </a:lnTo>
                  <a:lnTo>
                    <a:pt x="6" y="137"/>
                  </a:lnTo>
                  <a:lnTo>
                    <a:pt x="8" y="135"/>
                  </a:lnTo>
                  <a:lnTo>
                    <a:pt x="11" y="133"/>
                  </a:lnTo>
                  <a:lnTo>
                    <a:pt x="14" y="132"/>
                  </a:lnTo>
                  <a:lnTo>
                    <a:pt x="18" y="132"/>
                  </a:lnTo>
                  <a:lnTo>
                    <a:pt x="58" y="131"/>
                  </a:lnTo>
                  <a:lnTo>
                    <a:pt x="101" y="129"/>
                  </a:lnTo>
                  <a:lnTo>
                    <a:pt x="145" y="129"/>
                  </a:lnTo>
                  <a:lnTo>
                    <a:pt x="190" y="129"/>
                  </a:lnTo>
                  <a:lnTo>
                    <a:pt x="236" y="129"/>
                  </a:lnTo>
                  <a:lnTo>
                    <a:pt x="280" y="129"/>
                  </a:lnTo>
                  <a:lnTo>
                    <a:pt x="322" y="132"/>
                  </a:lnTo>
                  <a:lnTo>
                    <a:pt x="362" y="135"/>
                  </a:lnTo>
                  <a:lnTo>
                    <a:pt x="374" y="132"/>
                  </a:lnTo>
                  <a:lnTo>
                    <a:pt x="386" y="132"/>
                  </a:lnTo>
                  <a:lnTo>
                    <a:pt x="397" y="132"/>
                  </a:lnTo>
                  <a:lnTo>
                    <a:pt x="408" y="132"/>
                  </a:lnTo>
                  <a:lnTo>
                    <a:pt x="417" y="132"/>
                  </a:lnTo>
                  <a:lnTo>
                    <a:pt x="428" y="132"/>
                  </a:lnTo>
                  <a:lnTo>
                    <a:pt x="440" y="131"/>
                  </a:lnTo>
                  <a:lnTo>
                    <a:pt x="452" y="129"/>
                  </a:lnTo>
                  <a:lnTo>
                    <a:pt x="546" y="124"/>
                  </a:lnTo>
                  <a:lnTo>
                    <a:pt x="639" y="120"/>
                  </a:lnTo>
                  <a:lnTo>
                    <a:pt x="732" y="119"/>
                  </a:lnTo>
                  <a:lnTo>
                    <a:pt x="824" y="117"/>
                  </a:lnTo>
                  <a:lnTo>
                    <a:pt x="917" y="117"/>
                  </a:lnTo>
                  <a:lnTo>
                    <a:pt x="1009" y="116"/>
                  </a:lnTo>
                  <a:lnTo>
                    <a:pt x="1102" y="113"/>
                  </a:lnTo>
                  <a:lnTo>
                    <a:pt x="1195" y="109"/>
                  </a:lnTo>
                  <a:lnTo>
                    <a:pt x="1189" y="105"/>
                  </a:lnTo>
                  <a:lnTo>
                    <a:pt x="1182" y="101"/>
                  </a:lnTo>
                  <a:lnTo>
                    <a:pt x="1178" y="96"/>
                  </a:lnTo>
                  <a:lnTo>
                    <a:pt x="1175" y="91"/>
                  </a:lnTo>
                  <a:lnTo>
                    <a:pt x="1171" y="80"/>
                  </a:lnTo>
                  <a:lnTo>
                    <a:pt x="1169" y="67"/>
                  </a:lnTo>
                  <a:lnTo>
                    <a:pt x="1169" y="53"/>
                  </a:lnTo>
                  <a:lnTo>
                    <a:pt x="1167" y="40"/>
                  </a:lnTo>
                  <a:lnTo>
                    <a:pt x="1166" y="26"/>
                  </a:lnTo>
                  <a:lnTo>
                    <a:pt x="1162" y="12"/>
                  </a:lnTo>
                  <a:lnTo>
                    <a:pt x="1162" y="8"/>
                  </a:lnTo>
                  <a:lnTo>
                    <a:pt x="1162" y="5"/>
                  </a:lnTo>
                  <a:lnTo>
                    <a:pt x="1163" y="2"/>
                  </a:lnTo>
                  <a:lnTo>
                    <a:pt x="1166" y="1"/>
                  </a:lnTo>
                  <a:lnTo>
                    <a:pt x="1171" y="0"/>
                  </a:lnTo>
                  <a:lnTo>
                    <a:pt x="1177" y="0"/>
                  </a:lnTo>
                  <a:lnTo>
                    <a:pt x="1182" y="4"/>
                  </a:lnTo>
                  <a:lnTo>
                    <a:pt x="1187" y="8"/>
                  </a:lnTo>
                  <a:lnTo>
                    <a:pt x="1191" y="13"/>
                  </a:lnTo>
                  <a:lnTo>
                    <a:pt x="119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90200" y="5875200"/>
              <a:ext cx="274320" cy="82800"/>
            </a:xfrm>
            <a:custGeom>
              <a:avLst/>
              <a:gdLst/>
              <a:ahLst/>
              <a:rect l="l" t="t" r="r" b="b"/>
              <a:pathLst>
                <a:path w="599" h="189">
                  <a:moveTo>
                    <a:pt x="593" y="1"/>
                  </a:moveTo>
                  <a:lnTo>
                    <a:pt x="594" y="3"/>
                  </a:lnTo>
                  <a:lnTo>
                    <a:pt x="595" y="4"/>
                  </a:lnTo>
                  <a:lnTo>
                    <a:pt x="597" y="7"/>
                  </a:lnTo>
                  <a:lnTo>
                    <a:pt x="598" y="8"/>
                  </a:lnTo>
                  <a:lnTo>
                    <a:pt x="598" y="11"/>
                  </a:lnTo>
                  <a:lnTo>
                    <a:pt x="599" y="12"/>
                  </a:lnTo>
                  <a:lnTo>
                    <a:pt x="599" y="15"/>
                  </a:lnTo>
                  <a:lnTo>
                    <a:pt x="599" y="16"/>
                  </a:lnTo>
                  <a:lnTo>
                    <a:pt x="593" y="21"/>
                  </a:lnTo>
                  <a:lnTo>
                    <a:pt x="374" y="27"/>
                  </a:lnTo>
                  <a:lnTo>
                    <a:pt x="370" y="36"/>
                  </a:lnTo>
                  <a:lnTo>
                    <a:pt x="368" y="47"/>
                  </a:lnTo>
                  <a:lnTo>
                    <a:pt x="368" y="59"/>
                  </a:lnTo>
                  <a:lnTo>
                    <a:pt x="368" y="69"/>
                  </a:lnTo>
                  <a:lnTo>
                    <a:pt x="369" y="82"/>
                  </a:lnTo>
                  <a:lnTo>
                    <a:pt x="370" y="92"/>
                  </a:lnTo>
                  <a:lnTo>
                    <a:pt x="370" y="103"/>
                  </a:lnTo>
                  <a:lnTo>
                    <a:pt x="370" y="114"/>
                  </a:lnTo>
                  <a:lnTo>
                    <a:pt x="373" y="122"/>
                  </a:lnTo>
                  <a:lnTo>
                    <a:pt x="376" y="131"/>
                  </a:lnTo>
                  <a:lnTo>
                    <a:pt x="378" y="140"/>
                  </a:lnTo>
                  <a:lnTo>
                    <a:pt x="380" y="150"/>
                  </a:lnTo>
                  <a:lnTo>
                    <a:pt x="380" y="159"/>
                  </a:lnTo>
                  <a:lnTo>
                    <a:pt x="380" y="169"/>
                  </a:lnTo>
                  <a:lnTo>
                    <a:pt x="378" y="178"/>
                  </a:lnTo>
                  <a:lnTo>
                    <a:pt x="374" y="187"/>
                  </a:lnTo>
                  <a:lnTo>
                    <a:pt x="370" y="189"/>
                  </a:lnTo>
                  <a:lnTo>
                    <a:pt x="368" y="189"/>
                  </a:lnTo>
                  <a:lnTo>
                    <a:pt x="365" y="187"/>
                  </a:lnTo>
                  <a:lnTo>
                    <a:pt x="362" y="185"/>
                  </a:lnTo>
                  <a:lnTo>
                    <a:pt x="360" y="182"/>
                  </a:lnTo>
                  <a:lnTo>
                    <a:pt x="357" y="179"/>
                  </a:lnTo>
                  <a:lnTo>
                    <a:pt x="354" y="177"/>
                  </a:lnTo>
                  <a:lnTo>
                    <a:pt x="352" y="175"/>
                  </a:lnTo>
                  <a:lnTo>
                    <a:pt x="353" y="162"/>
                  </a:lnTo>
                  <a:lnTo>
                    <a:pt x="352" y="148"/>
                  </a:lnTo>
                  <a:lnTo>
                    <a:pt x="349" y="135"/>
                  </a:lnTo>
                  <a:lnTo>
                    <a:pt x="346" y="122"/>
                  </a:lnTo>
                  <a:lnTo>
                    <a:pt x="343" y="107"/>
                  </a:lnTo>
                  <a:lnTo>
                    <a:pt x="343" y="92"/>
                  </a:lnTo>
                  <a:lnTo>
                    <a:pt x="343" y="79"/>
                  </a:lnTo>
                  <a:lnTo>
                    <a:pt x="347" y="65"/>
                  </a:lnTo>
                  <a:lnTo>
                    <a:pt x="346" y="60"/>
                  </a:lnTo>
                  <a:lnTo>
                    <a:pt x="346" y="55"/>
                  </a:lnTo>
                  <a:lnTo>
                    <a:pt x="347" y="49"/>
                  </a:lnTo>
                  <a:lnTo>
                    <a:pt x="347" y="44"/>
                  </a:lnTo>
                  <a:lnTo>
                    <a:pt x="347" y="40"/>
                  </a:lnTo>
                  <a:lnTo>
                    <a:pt x="346" y="35"/>
                  </a:lnTo>
                  <a:lnTo>
                    <a:pt x="345" y="31"/>
                  </a:lnTo>
                  <a:lnTo>
                    <a:pt x="342" y="27"/>
                  </a:lnTo>
                  <a:lnTo>
                    <a:pt x="299" y="28"/>
                  </a:lnTo>
                  <a:lnTo>
                    <a:pt x="258" y="29"/>
                  </a:lnTo>
                  <a:lnTo>
                    <a:pt x="215" y="29"/>
                  </a:lnTo>
                  <a:lnTo>
                    <a:pt x="172" y="29"/>
                  </a:lnTo>
                  <a:lnTo>
                    <a:pt x="129" y="29"/>
                  </a:lnTo>
                  <a:lnTo>
                    <a:pt x="86" y="29"/>
                  </a:lnTo>
                  <a:lnTo>
                    <a:pt x="43" y="32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3" y="21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1" y="13"/>
                  </a:lnTo>
                  <a:lnTo>
                    <a:pt x="15" y="12"/>
                  </a:lnTo>
                  <a:lnTo>
                    <a:pt x="86" y="9"/>
                  </a:lnTo>
                  <a:lnTo>
                    <a:pt x="159" y="8"/>
                  </a:lnTo>
                  <a:lnTo>
                    <a:pt x="231" y="5"/>
                  </a:lnTo>
                  <a:lnTo>
                    <a:pt x="303" y="4"/>
                  </a:lnTo>
                  <a:lnTo>
                    <a:pt x="376" y="1"/>
                  </a:lnTo>
                  <a:lnTo>
                    <a:pt x="449" y="1"/>
                  </a:lnTo>
                  <a:lnTo>
                    <a:pt x="520" y="0"/>
                  </a:lnTo>
                  <a:lnTo>
                    <a:pt x="59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98640" y="5952960"/>
              <a:ext cx="208080" cy="57960"/>
            </a:xfrm>
            <a:custGeom>
              <a:avLst/>
              <a:gdLst/>
              <a:ahLst/>
              <a:rect l="l" t="t" r="r" b="b"/>
              <a:pathLst>
                <a:path w="456" h="132">
                  <a:moveTo>
                    <a:pt x="445" y="46"/>
                  </a:moveTo>
                  <a:lnTo>
                    <a:pt x="449" y="52"/>
                  </a:lnTo>
                  <a:lnTo>
                    <a:pt x="452" y="59"/>
                  </a:lnTo>
                  <a:lnTo>
                    <a:pt x="454" y="64"/>
                  </a:lnTo>
                  <a:lnTo>
                    <a:pt x="456" y="71"/>
                  </a:lnTo>
                  <a:lnTo>
                    <a:pt x="456" y="77"/>
                  </a:lnTo>
                  <a:lnTo>
                    <a:pt x="456" y="83"/>
                  </a:lnTo>
                  <a:lnTo>
                    <a:pt x="453" y="89"/>
                  </a:lnTo>
                  <a:lnTo>
                    <a:pt x="448" y="95"/>
                  </a:lnTo>
                  <a:lnTo>
                    <a:pt x="421" y="115"/>
                  </a:lnTo>
                  <a:lnTo>
                    <a:pt x="287" y="115"/>
                  </a:lnTo>
                  <a:lnTo>
                    <a:pt x="283" y="120"/>
                  </a:lnTo>
                  <a:lnTo>
                    <a:pt x="248" y="123"/>
                  </a:lnTo>
                  <a:lnTo>
                    <a:pt x="213" y="125"/>
                  </a:lnTo>
                  <a:lnTo>
                    <a:pt x="180" y="129"/>
                  </a:lnTo>
                  <a:lnTo>
                    <a:pt x="145" y="131"/>
                  </a:lnTo>
                  <a:lnTo>
                    <a:pt x="110" y="132"/>
                  </a:lnTo>
                  <a:lnTo>
                    <a:pt x="75" y="132"/>
                  </a:lnTo>
                  <a:lnTo>
                    <a:pt x="58" y="132"/>
                  </a:lnTo>
                  <a:lnTo>
                    <a:pt x="40" y="131"/>
                  </a:lnTo>
                  <a:lnTo>
                    <a:pt x="23" y="128"/>
                  </a:lnTo>
                  <a:lnTo>
                    <a:pt x="7" y="125"/>
                  </a:lnTo>
                  <a:lnTo>
                    <a:pt x="3" y="121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2" y="103"/>
                  </a:lnTo>
                  <a:lnTo>
                    <a:pt x="3" y="99"/>
                  </a:lnTo>
                  <a:lnTo>
                    <a:pt x="4" y="93"/>
                  </a:lnTo>
                  <a:lnTo>
                    <a:pt x="7" y="89"/>
                  </a:lnTo>
                  <a:lnTo>
                    <a:pt x="12" y="80"/>
                  </a:lnTo>
                  <a:lnTo>
                    <a:pt x="19" y="73"/>
                  </a:lnTo>
                  <a:lnTo>
                    <a:pt x="28" y="68"/>
                  </a:lnTo>
                  <a:lnTo>
                    <a:pt x="38" y="64"/>
                  </a:lnTo>
                  <a:lnTo>
                    <a:pt x="47" y="60"/>
                  </a:lnTo>
                  <a:lnTo>
                    <a:pt x="58" y="57"/>
                  </a:lnTo>
                  <a:lnTo>
                    <a:pt x="69" y="54"/>
                  </a:lnTo>
                  <a:lnTo>
                    <a:pt x="78" y="52"/>
                  </a:lnTo>
                  <a:lnTo>
                    <a:pt x="99" y="45"/>
                  </a:lnTo>
                  <a:lnTo>
                    <a:pt x="119" y="40"/>
                  </a:lnTo>
                  <a:lnTo>
                    <a:pt x="141" y="34"/>
                  </a:lnTo>
                  <a:lnTo>
                    <a:pt x="162" y="29"/>
                  </a:lnTo>
                  <a:lnTo>
                    <a:pt x="182" y="25"/>
                  </a:lnTo>
                  <a:lnTo>
                    <a:pt x="204" y="20"/>
                  </a:lnTo>
                  <a:lnTo>
                    <a:pt x="225" y="16"/>
                  </a:lnTo>
                  <a:lnTo>
                    <a:pt x="247" y="10"/>
                  </a:lnTo>
                  <a:lnTo>
                    <a:pt x="253" y="6"/>
                  </a:lnTo>
                  <a:lnTo>
                    <a:pt x="261" y="4"/>
                  </a:lnTo>
                  <a:lnTo>
                    <a:pt x="270" y="2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4"/>
                  </a:lnTo>
                  <a:lnTo>
                    <a:pt x="306" y="5"/>
                  </a:lnTo>
                  <a:lnTo>
                    <a:pt x="314" y="5"/>
                  </a:lnTo>
                  <a:lnTo>
                    <a:pt x="318" y="2"/>
                  </a:lnTo>
                  <a:lnTo>
                    <a:pt x="323" y="1"/>
                  </a:lnTo>
                  <a:lnTo>
                    <a:pt x="327" y="1"/>
                  </a:lnTo>
                  <a:lnTo>
                    <a:pt x="332" y="0"/>
                  </a:lnTo>
                  <a:lnTo>
                    <a:pt x="342" y="1"/>
                  </a:lnTo>
                  <a:lnTo>
                    <a:pt x="351" y="4"/>
                  </a:lnTo>
                  <a:lnTo>
                    <a:pt x="361" y="6"/>
                  </a:lnTo>
                  <a:lnTo>
                    <a:pt x="369" y="9"/>
                  </a:lnTo>
                  <a:lnTo>
                    <a:pt x="378" y="12"/>
                  </a:lnTo>
                  <a:lnTo>
                    <a:pt x="387" y="13"/>
                  </a:lnTo>
                  <a:lnTo>
                    <a:pt x="394" y="17"/>
                  </a:lnTo>
                  <a:lnTo>
                    <a:pt x="402" y="21"/>
                  </a:lnTo>
                  <a:lnTo>
                    <a:pt x="409" y="26"/>
                  </a:lnTo>
                  <a:lnTo>
                    <a:pt x="417" y="30"/>
                  </a:lnTo>
                  <a:lnTo>
                    <a:pt x="424" y="34"/>
                  </a:lnTo>
                  <a:lnTo>
                    <a:pt x="430" y="38"/>
                  </a:lnTo>
                  <a:lnTo>
                    <a:pt x="438" y="42"/>
                  </a:lnTo>
                  <a:lnTo>
                    <a:pt x="445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73480" y="5962320"/>
              <a:ext cx="70920" cy="1692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5" y="31"/>
                  </a:moveTo>
                  <a:lnTo>
                    <a:pt x="158" y="38"/>
                  </a:lnTo>
                  <a:lnTo>
                    <a:pt x="154" y="40"/>
                  </a:lnTo>
                  <a:lnTo>
                    <a:pt x="149" y="40"/>
                  </a:lnTo>
                  <a:lnTo>
                    <a:pt x="145" y="40"/>
                  </a:lnTo>
                  <a:lnTo>
                    <a:pt x="139" y="39"/>
                  </a:lnTo>
                  <a:lnTo>
                    <a:pt x="134" y="36"/>
                  </a:lnTo>
                  <a:lnTo>
                    <a:pt x="130" y="35"/>
                  </a:lnTo>
                  <a:lnTo>
                    <a:pt x="124" y="33"/>
                  </a:lnTo>
                  <a:lnTo>
                    <a:pt x="119" y="32"/>
                  </a:lnTo>
                  <a:lnTo>
                    <a:pt x="103" y="32"/>
                  </a:lnTo>
                  <a:lnTo>
                    <a:pt x="88" y="33"/>
                  </a:lnTo>
                  <a:lnTo>
                    <a:pt x="72" y="33"/>
                  </a:lnTo>
                  <a:lnTo>
                    <a:pt x="57" y="32"/>
                  </a:lnTo>
                  <a:lnTo>
                    <a:pt x="41" y="31"/>
                  </a:lnTo>
                  <a:lnTo>
                    <a:pt x="27" y="27"/>
                  </a:lnTo>
                  <a:lnTo>
                    <a:pt x="20" y="24"/>
                  </a:lnTo>
                  <a:lnTo>
                    <a:pt x="13" y="21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1"/>
                  </a:lnTo>
                  <a:lnTo>
                    <a:pt x="11" y="0"/>
                  </a:lnTo>
                  <a:lnTo>
                    <a:pt x="28" y="3"/>
                  </a:lnTo>
                  <a:lnTo>
                    <a:pt x="47" y="5"/>
                  </a:lnTo>
                  <a:lnTo>
                    <a:pt x="66" y="8"/>
                  </a:lnTo>
                  <a:lnTo>
                    <a:pt x="84" y="12"/>
                  </a:lnTo>
                  <a:lnTo>
                    <a:pt x="102" y="15"/>
                  </a:lnTo>
                  <a:lnTo>
                    <a:pt x="120" y="20"/>
                  </a:lnTo>
                  <a:lnTo>
                    <a:pt x="138" y="24"/>
                  </a:lnTo>
                  <a:lnTo>
                    <a:pt x="15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75080" y="5966280"/>
              <a:ext cx="294840" cy="77760"/>
            </a:xfrm>
            <a:custGeom>
              <a:avLst/>
              <a:gdLst/>
              <a:ahLst/>
              <a:rect l="l" t="t" r="r" b="b"/>
              <a:pathLst>
                <a:path w="646" h="177">
                  <a:moveTo>
                    <a:pt x="646" y="3"/>
                  </a:moveTo>
                  <a:lnTo>
                    <a:pt x="642" y="11"/>
                  </a:lnTo>
                  <a:lnTo>
                    <a:pt x="636" y="16"/>
                  </a:lnTo>
                  <a:lnTo>
                    <a:pt x="631" y="20"/>
                  </a:lnTo>
                  <a:lnTo>
                    <a:pt x="623" y="22"/>
                  </a:lnTo>
                  <a:lnTo>
                    <a:pt x="616" y="23"/>
                  </a:lnTo>
                  <a:lnTo>
                    <a:pt x="608" y="24"/>
                  </a:lnTo>
                  <a:lnTo>
                    <a:pt x="599" y="26"/>
                  </a:lnTo>
                  <a:lnTo>
                    <a:pt x="592" y="27"/>
                  </a:lnTo>
                  <a:lnTo>
                    <a:pt x="537" y="26"/>
                  </a:lnTo>
                  <a:lnTo>
                    <a:pt x="481" y="26"/>
                  </a:lnTo>
                  <a:lnTo>
                    <a:pt x="425" y="27"/>
                  </a:lnTo>
                  <a:lnTo>
                    <a:pt x="367" y="27"/>
                  </a:lnTo>
                  <a:lnTo>
                    <a:pt x="311" y="29"/>
                  </a:lnTo>
                  <a:lnTo>
                    <a:pt x="253" y="30"/>
                  </a:lnTo>
                  <a:lnTo>
                    <a:pt x="197" y="31"/>
                  </a:lnTo>
                  <a:lnTo>
                    <a:pt x="142" y="34"/>
                  </a:lnTo>
                  <a:lnTo>
                    <a:pt x="141" y="45"/>
                  </a:lnTo>
                  <a:lnTo>
                    <a:pt x="139" y="55"/>
                  </a:lnTo>
                  <a:lnTo>
                    <a:pt x="141" y="67"/>
                  </a:lnTo>
                  <a:lnTo>
                    <a:pt x="142" y="78"/>
                  </a:lnTo>
                  <a:lnTo>
                    <a:pt x="145" y="90"/>
                  </a:lnTo>
                  <a:lnTo>
                    <a:pt x="146" y="101"/>
                  </a:lnTo>
                  <a:lnTo>
                    <a:pt x="149" y="112"/>
                  </a:lnTo>
                  <a:lnTo>
                    <a:pt x="150" y="124"/>
                  </a:lnTo>
                  <a:lnTo>
                    <a:pt x="151" y="129"/>
                  </a:lnTo>
                  <a:lnTo>
                    <a:pt x="153" y="136"/>
                  </a:lnTo>
                  <a:lnTo>
                    <a:pt x="154" y="141"/>
                  </a:lnTo>
                  <a:lnTo>
                    <a:pt x="155" y="148"/>
                  </a:lnTo>
                  <a:lnTo>
                    <a:pt x="157" y="153"/>
                  </a:lnTo>
                  <a:lnTo>
                    <a:pt x="158" y="160"/>
                  </a:lnTo>
                  <a:lnTo>
                    <a:pt x="159" y="165"/>
                  </a:lnTo>
                  <a:lnTo>
                    <a:pt x="161" y="172"/>
                  </a:lnTo>
                  <a:lnTo>
                    <a:pt x="158" y="174"/>
                  </a:lnTo>
                  <a:lnTo>
                    <a:pt x="157" y="176"/>
                  </a:lnTo>
                  <a:lnTo>
                    <a:pt x="153" y="177"/>
                  </a:lnTo>
                  <a:lnTo>
                    <a:pt x="150" y="177"/>
                  </a:lnTo>
                  <a:lnTo>
                    <a:pt x="147" y="176"/>
                  </a:lnTo>
                  <a:lnTo>
                    <a:pt x="145" y="174"/>
                  </a:lnTo>
                  <a:lnTo>
                    <a:pt x="142" y="173"/>
                  </a:lnTo>
                  <a:lnTo>
                    <a:pt x="139" y="172"/>
                  </a:lnTo>
                  <a:lnTo>
                    <a:pt x="137" y="169"/>
                  </a:lnTo>
                  <a:lnTo>
                    <a:pt x="134" y="166"/>
                  </a:lnTo>
                  <a:lnTo>
                    <a:pt x="133" y="164"/>
                  </a:lnTo>
                  <a:lnTo>
                    <a:pt x="131" y="161"/>
                  </a:lnTo>
                  <a:lnTo>
                    <a:pt x="130" y="158"/>
                  </a:lnTo>
                  <a:lnTo>
                    <a:pt x="129" y="156"/>
                  </a:lnTo>
                  <a:lnTo>
                    <a:pt x="129" y="152"/>
                  </a:lnTo>
                  <a:lnTo>
                    <a:pt x="127" y="149"/>
                  </a:lnTo>
                  <a:lnTo>
                    <a:pt x="126" y="136"/>
                  </a:lnTo>
                  <a:lnTo>
                    <a:pt x="123" y="121"/>
                  </a:lnTo>
                  <a:lnTo>
                    <a:pt x="121" y="108"/>
                  </a:lnTo>
                  <a:lnTo>
                    <a:pt x="119" y="93"/>
                  </a:lnTo>
                  <a:lnTo>
                    <a:pt x="118" y="78"/>
                  </a:lnTo>
                  <a:lnTo>
                    <a:pt x="117" y="63"/>
                  </a:lnTo>
                  <a:lnTo>
                    <a:pt x="117" y="49"/>
                  </a:lnTo>
                  <a:lnTo>
                    <a:pt x="117" y="34"/>
                  </a:lnTo>
                  <a:lnTo>
                    <a:pt x="103" y="33"/>
                  </a:lnTo>
                  <a:lnTo>
                    <a:pt x="90" y="31"/>
                  </a:lnTo>
                  <a:lnTo>
                    <a:pt x="75" y="31"/>
                  </a:lnTo>
                  <a:lnTo>
                    <a:pt x="62" y="33"/>
                  </a:lnTo>
                  <a:lnTo>
                    <a:pt x="48" y="34"/>
                  </a:lnTo>
                  <a:lnTo>
                    <a:pt x="33" y="35"/>
                  </a:lnTo>
                  <a:lnTo>
                    <a:pt x="20" y="37"/>
                  </a:lnTo>
                  <a:lnTo>
                    <a:pt x="5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1" y="16"/>
                  </a:lnTo>
                  <a:lnTo>
                    <a:pt x="11" y="12"/>
                  </a:lnTo>
                  <a:lnTo>
                    <a:pt x="20" y="10"/>
                  </a:lnTo>
                  <a:lnTo>
                    <a:pt x="31" y="8"/>
                  </a:lnTo>
                  <a:lnTo>
                    <a:pt x="42" y="7"/>
                  </a:lnTo>
                  <a:lnTo>
                    <a:pt x="52" y="7"/>
                  </a:lnTo>
                  <a:lnTo>
                    <a:pt x="63" y="6"/>
                  </a:lnTo>
                  <a:lnTo>
                    <a:pt x="72" y="4"/>
                  </a:lnTo>
                  <a:lnTo>
                    <a:pt x="82" y="3"/>
                  </a:lnTo>
                  <a:lnTo>
                    <a:pt x="595" y="0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19" y="2"/>
                  </a:lnTo>
                  <a:lnTo>
                    <a:pt x="626" y="2"/>
                  </a:lnTo>
                  <a:lnTo>
                    <a:pt x="632" y="2"/>
                  </a:lnTo>
                  <a:lnTo>
                    <a:pt x="639" y="3"/>
                  </a:lnTo>
                  <a:lnTo>
                    <a:pt x="64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33360" y="5976720"/>
              <a:ext cx="164520" cy="61560"/>
            </a:xfrm>
            <a:custGeom>
              <a:avLst/>
              <a:gdLst/>
              <a:ahLst/>
              <a:rect l="l" t="t" r="r" b="b"/>
              <a:pathLst>
                <a:path w="360" h="139">
                  <a:moveTo>
                    <a:pt x="355" y="1"/>
                  </a:moveTo>
                  <a:lnTo>
                    <a:pt x="355" y="4"/>
                  </a:lnTo>
                  <a:lnTo>
                    <a:pt x="355" y="7"/>
                  </a:lnTo>
                  <a:lnTo>
                    <a:pt x="355" y="9"/>
                  </a:lnTo>
                  <a:lnTo>
                    <a:pt x="355" y="13"/>
                  </a:lnTo>
                  <a:lnTo>
                    <a:pt x="355" y="16"/>
                  </a:lnTo>
                  <a:lnTo>
                    <a:pt x="355" y="19"/>
                  </a:lnTo>
                  <a:lnTo>
                    <a:pt x="358" y="21"/>
                  </a:lnTo>
                  <a:lnTo>
                    <a:pt x="360" y="24"/>
                  </a:lnTo>
                  <a:lnTo>
                    <a:pt x="347" y="24"/>
                  </a:lnTo>
                  <a:lnTo>
                    <a:pt x="334" y="24"/>
                  </a:lnTo>
                  <a:lnTo>
                    <a:pt x="320" y="23"/>
                  </a:lnTo>
                  <a:lnTo>
                    <a:pt x="307" y="23"/>
                  </a:lnTo>
                  <a:lnTo>
                    <a:pt x="295" y="23"/>
                  </a:lnTo>
                  <a:lnTo>
                    <a:pt x="281" y="24"/>
                  </a:lnTo>
                  <a:lnTo>
                    <a:pt x="269" y="27"/>
                  </a:lnTo>
                  <a:lnTo>
                    <a:pt x="259" y="32"/>
                  </a:lnTo>
                  <a:lnTo>
                    <a:pt x="259" y="47"/>
                  </a:lnTo>
                  <a:lnTo>
                    <a:pt x="260" y="60"/>
                  </a:lnTo>
                  <a:lnTo>
                    <a:pt x="261" y="73"/>
                  </a:lnTo>
                  <a:lnTo>
                    <a:pt x="263" y="87"/>
                  </a:lnTo>
                  <a:lnTo>
                    <a:pt x="264" y="100"/>
                  </a:lnTo>
                  <a:lnTo>
                    <a:pt x="267" y="114"/>
                  </a:lnTo>
                  <a:lnTo>
                    <a:pt x="268" y="126"/>
                  </a:lnTo>
                  <a:lnTo>
                    <a:pt x="268" y="139"/>
                  </a:lnTo>
                  <a:lnTo>
                    <a:pt x="264" y="138"/>
                  </a:lnTo>
                  <a:lnTo>
                    <a:pt x="260" y="136"/>
                  </a:lnTo>
                  <a:lnTo>
                    <a:pt x="259" y="132"/>
                  </a:lnTo>
                  <a:lnTo>
                    <a:pt x="256" y="130"/>
                  </a:lnTo>
                  <a:lnTo>
                    <a:pt x="253" y="127"/>
                  </a:lnTo>
                  <a:lnTo>
                    <a:pt x="251" y="124"/>
                  </a:lnTo>
                  <a:lnTo>
                    <a:pt x="248" y="123"/>
                  </a:lnTo>
                  <a:lnTo>
                    <a:pt x="243" y="123"/>
                  </a:lnTo>
                  <a:lnTo>
                    <a:pt x="232" y="28"/>
                  </a:lnTo>
                  <a:lnTo>
                    <a:pt x="202" y="27"/>
                  </a:lnTo>
                  <a:lnTo>
                    <a:pt x="173" y="27"/>
                  </a:lnTo>
                  <a:lnTo>
                    <a:pt x="145" y="27"/>
                  </a:lnTo>
                  <a:lnTo>
                    <a:pt x="117" y="27"/>
                  </a:lnTo>
                  <a:lnTo>
                    <a:pt x="87" y="27"/>
                  </a:lnTo>
                  <a:lnTo>
                    <a:pt x="59" y="28"/>
                  </a:lnTo>
                  <a:lnTo>
                    <a:pt x="29" y="29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4" y="19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9" y="11"/>
                  </a:lnTo>
                  <a:lnTo>
                    <a:pt x="23" y="8"/>
                  </a:lnTo>
                  <a:lnTo>
                    <a:pt x="64" y="5"/>
                  </a:lnTo>
                  <a:lnTo>
                    <a:pt x="107" y="4"/>
                  </a:lnTo>
                  <a:lnTo>
                    <a:pt x="149" y="3"/>
                  </a:lnTo>
                  <a:lnTo>
                    <a:pt x="192" y="1"/>
                  </a:lnTo>
                  <a:lnTo>
                    <a:pt x="233" y="1"/>
                  </a:lnTo>
                  <a:lnTo>
                    <a:pt x="276" y="0"/>
                  </a:lnTo>
                  <a:lnTo>
                    <a:pt x="316" y="0"/>
                  </a:lnTo>
                  <a:lnTo>
                    <a:pt x="35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71040" y="5979600"/>
              <a:ext cx="65520" cy="12960"/>
            </a:xfrm>
            <a:custGeom>
              <a:avLst/>
              <a:gdLst/>
              <a:ahLst/>
              <a:rect l="l" t="t" r="r" b="b"/>
              <a:pathLst>
                <a:path w="144" h="31">
                  <a:moveTo>
                    <a:pt x="144" y="20"/>
                  </a:moveTo>
                  <a:lnTo>
                    <a:pt x="125" y="31"/>
                  </a:lnTo>
                  <a:lnTo>
                    <a:pt x="110" y="28"/>
                  </a:lnTo>
                  <a:lnTo>
                    <a:pt x="93" y="28"/>
                  </a:lnTo>
                  <a:lnTo>
                    <a:pt x="77" y="28"/>
                  </a:lnTo>
                  <a:lnTo>
                    <a:pt x="59" y="30"/>
                  </a:lnTo>
                  <a:lnTo>
                    <a:pt x="43" y="30"/>
                  </a:lnTo>
                  <a:lnTo>
                    <a:pt x="27" y="27"/>
                  </a:lnTo>
                  <a:lnTo>
                    <a:pt x="20" y="24"/>
                  </a:lnTo>
                  <a:lnTo>
                    <a:pt x="12" y="20"/>
                  </a:lnTo>
                  <a:lnTo>
                    <a:pt x="7" y="16"/>
                  </a:lnTo>
                  <a:lnTo>
                    <a:pt x="0" y="11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4" y="3"/>
                  </a:lnTo>
                  <a:lnTo>
                    <a:pt x="42" y="4"/>
                  </a:lnTo>
                  <a:lnTo>
                    <a:pt x="50" y="7"/>
                  </a:lnTo>
                  <a:lnTo>
                    <a:pt x="57" y="8"/>
                  </a:lnTo>
                  <a:lnTo>
                    <a:pt x="67" y="12"/>
                  </a:lnTo>
                  <a:lnTo>
                    <a:pt x="78" y="14"/>
                  </a:lnTo>
                  <a:lnTo>
                    <a:pt x="90" y="15"/>
                  </a:lnTo>
                  <a:lnTo>
                    <a:pt x="101" y="15"/>
                  </a:lnTo>
                  <a:lnTo>
                    <a:pt x="111" y="15"/>
                  </a:lnTo>
                  <a:lnTo>
                    <a:pt x="122" y="16"/>
                  </a:lnTo>
                  <a:lnTo>
                    <a:pt x="133" y="18"/>
                  </a:lnTo>
                  <a:lnTo>
                    <a:pt x="1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74160" y="6000840"/>
              <a:ext cx="253440" cy="104040"/>
            </a:xfrm>
            <a:custGeom>
              <a:avLst/>
              <a:gdLst/>
              <a:ahLst/>
              <a:rect l="l" t="t" r="r" b="b"/>
              <a:pathLst>
                <a:path w="556" h="237">
                  <a:moveTo>
                    <a:pt x="556" y="181"/>
                  </a:moveTo>
                  <a:lnTo>
                    <a:pt x="544" y="187"/>
                  </a:lnTo>
                  <a:lnTo>
                    <a:pt x="542" y="175"/>
                  </a:lnTo>
                  <a:lnTo>
                    <a:pt x="540" y="162"/>
                  </a:lnTo>
                  <a:lnTo>
                    <a:pt x="539" y="147"/>
                  </a:lnTo>
                  <a:lnTo>
                    <a:pt x="536" y="134"/>
                  </a:lnTo>
                  <a:lnTo>
                    <a:pt x="534" y="121"/>
                  </a:lnTo>
                  <a:lnTo>
                    <a:pt x="528" y="107"/>
                  </a:lnTo>
                  <a:lnTo>
                    <a:pt x="524" y="102"/>
                  </a:lnTo>
                  <a:lnTo>
                    <a:pt x="520" y="98"/>
                  </a:lnTo>
                  <a:lnTo>
                    <a:pt x="515" y="92"/>
                  </a:lnTo>
                  <a:lnTo>
                    <a:pt x="508" y="88"/>
                  </a:lnTo>
                  <a:lnTo>
                    <a:pt x="497" y="87"/>
                  </a:lnTo>
                  <a:lnTo>
                    <a:pt x="488" y="87"/>
                  </a:lnTo>
                  <a:lnTo>
                    <a:pt x="480" y="90"/>
                  </a:lnTo>
                  <a:lnTo>
                    <a:pt x="476" y="94"/>
                  </a:lnTo>
                  <a:lnTo>
                    <a:pt x="472" y="99"/>
                  </a:lnTo>
                  <a:lnTo>
                    <a:pt x="469" y="104"/>
                  </a:lnTo>
                  <a:lnTo>
                    <a:pt x="469" y="113"/>
                  </a:lnTo>
                  <a:lnTo>
                    <a:pt x="469" y="121"/>
                  </a:lnTo>
                  <a:lnTo>
                    <a:pt x="469" y="137"/>
                  </a:lnTo>
                  <a:lnTo>
                    <a:pt x="471" y="154"/>
                  </a:lnTo>
                  <a:lnTo>
                    <a:pt x="471" y="162"/>
                  </a:lnTo>
                  <a:lnTo>
                    <a:pt x="471" y="170"/>
                  </a:lnTo>
                  <a:lnTo>
                    <a:pt x="468" y="177"/>
                  </a:lnTo>
                  <a:lnTo>
                    <a:pt x="465" y="183"/>
                  </a:lnTo>
                  <a:lnTo>
                    <a:pt x="453" y="192"/>
                  </a:lnTo>
                  <a:lnTo>
                    <a:pt x="448" y="185"/>
                  </a:lnTo>
                  <a:lnTo>
                    <a:pt x="444" y="178"/>
                  </a:lnTo>
                  <a:lnTo>
                    <a:pt x="441" y="170"/>
                  </a:lnTo>
                  <a:lnTo>
                    <a:pt x="438" y="162"/>
                  </a:lnTo>
                  <a:lnTo>
                    <a:pt x="436" y="145"/>
                  </a:lnTo>
                  <a:lnTo>
                    <a:pt x="434" y="127"/>
                  </a:lnTo>
                  <a:lnTo>
                    <a:pt x="432" y="119"/>
                  </a:lnTo>
                  <a:lnTo>
                    <a:pt x="430" y="113"/>
                  </a:lnTo>
                  <a:lnTo>
                    <a:pt x="426" y="106"/>
                  </a:lnTo>
                  <a:lnTo>
                    <a:pt x="422" y="100"/>
                  </a:lnTo>
                  <a:lnTo>
                    <a:pt x="417" y="96"/>
                  </a:lnTo>
                  <a:lnTo>
                    <a:pt x="410" y="95"/>
                  </a:lnTo>
                  <a:lnTo>
                    <a:pt x="402" y="95"/>
                  </a:lnTo>
                  <a:lnTo>
                    <a:pt x="392" y="96"/>
                  </a:lnTo>
                  <a:lnTo>
                    <a:pt x="386" y="96"/>
                  </a:lnTo>
                  <a:lnTo>
                    <a:pt x="382" y="98"/>
                  </a:lnTo>
                  <a:lnTo>
                    <a:pt x="378" y="99"/>
                  </a:lnTo>
                  <a:lnTo>
                    <a:pt x="374" y="102"/>
                  </a:lnTo>
                  <a:lnTo>
                    <a:pt x="369" y="107"/>
                  </a:lnTo>
                  <a:lnTo>
                    <a:pt x="363" y="114"/>
                  </a:lnTo>
                  <a:lnTo>
                    <a:pt x="359" y="122"/>
                  </a:lnTo>
                  <a:lnTo>
                    <a:pt x="357" y="130"/>
                  </a:lnTo>
                  <a:lnTo>
                    <a:pt x="354" y="138"/>
                  </a:lnTo>
                  <a:lnTo>
                    <a:pt x="350" y="145"/>
                  </a:lnTo>
                  <a:lnTo>
                    <a:pt x="347" y="150"/>
                  </a:lnTo>
                  <a:lnTo>
                    <a:pt x="346" y="154"/>
                  </a:lnTo>
                  <a:lnTo>
                    <a:pt x="346" y="158"/>
                  </a:lnTo>
                  <a:lnTo>
                    <a:pt x="346" y="163"/>
                  </a:lnTo>
                  <a:lnTo>
                    <a:pt x="346" y="171"/>
                  </a:lnTo>
                  <a:lnTo>
                    <a:pt x="349" y="181"/>
                  </a:lnTo>
                  <a:lnTo>
                    <a:pt x="350" y="189"/>
                  </a:lnTo>
                  <a:lnTo>
                    <a:pt x="350" y="197"/>
                  </a:lnTo>
                  <a:lnTo>
                    <a:pt x="349" y="201"/>
                  </a:lnTo>
                  <a:lnTo>
                    <a:pt x="347" y="205"/>
                  </a:lnTo>
                  <a:lnTo>
                    <a:pt x="343" y="210"/>
                  </a:lnTo>
                  <a:lnTo>
                    <a:pt x="339" y="214"/>
                  </a:lnTo>
                  <a:lnTo>
                    <a:pt x="322" y="237"/>
                  </a:lnTo>
                  <a:lnTo>
                    <a:pt x="316" y="224"/>
                  </a:lnTo>
                  <a:lnTo>
                    <a:pt x="312" y="212"/>
                  </a:lnTo>
                  <a:lnTo>
                    <a:pt x="310" y="198"/>
                  </a:lnTo>
                  <a:lnTo>
                    <a:pt x="307" y="183"/>
                  </a:lnTo>
                  <a:lnTo>
                    <a:pt x="304" y="170"/>
                  </a:lnTo>
                  <a:lnTo>
                    <a:pt x="303" y="155"/>
                  </a:lnTo>
                  <a:lnTo>
                    <a:pt x="302" y="142"/>
                  </a:lnTo>
                  <a:lnTo>
                    <a:pt x="302" y="127"/>
                  </a:lnTo>
                  <a:lnTo>
                    <a:pt x="300" y="122"/>
                  </a:lnTo>
                  <a:lnTo>
                    <a:pt x="298" y="117"/>
                  </a:lnTo>
                  <a:lnTo>
                    <a:pt x="295" y="111"/>
                  </a:lnTo>
                  <a:lnTo>
                    <a:pt x="292" y="106"/>
                  </a:lnTo>
                  <a:lnTo>
                    <a:pt x="288" y="102"/>
                  </a:lnTo>
                  <a:lnTo>
                    <a:pt x="284" y="98"/>
                  </a:lnTo>
                  <a:lnTo>
                    <a:pt x="279" y="95"/>
                  </a:lnTo>
                  <a:lnTo>
                    <a:pt x="274" y="94"/>
                  </a:lnTo>
                  <a:lnTo>
                    <a:pt x="268" y="94"/>
                  </a:lnTo>
                  <a:lnTo>
                    <a:pt x="262" y="94"/>
                  </a:lnTo>
                  <a:lnTo>
                    <a:pt x="256" y="94"/>
                  </a:lnTo>
                  <a:lnTo>
                    <a:pt x="251" y="96"/>
                  </a:lnTo>
                  <a:lnTo>
                    <a:pt x="245" y="98"/>
                  </a:lnTo>
                  <a:lnTo>
                    <a:pt x="241" y="100"/>
                  </a:lnTo>
                  <a:lnTo>
                    <a:pt x="236" y="104"/>
                  </a:lnTo>
                  <a:lnTo>
                    <a:pt x="232" y="110"/>
                  </a:lnTo>
                  <a:lnTo>
                    <a:pt x="231" y="119"/>
                  </a:lnTo>
                  <a:lnTo>
                    <a:pt x="229" y="129"/>
                  </a:lnTo>
                  <a:lnTo>
                    <a:pt x="227" y="138"/>
                  </a:lnTo>
                  <a:lnTo>
                    <a:pt x="224" y="147"/>
                  </a:lnTo>
                  <a:lnTo>
                    <a:pt x="220" y="157"/>
                  </a:lnTo>
                  <a:lnTo>
                    <a:pt x="215" y="165"/>
                  </a:lnTo>
                  <a:lnTo>
                    <a:pt x="208" y="171"/>
                  </a:lnTo>
                  <a:lnTo>
                    <a:pt x="200" y="178"/>
                  </a:lnTo>
                  <a:lnTo>
                    <a:pt x="199" y="166"/>
                  </a:lnTo>
                  <a:lnTo>
                    <a:pt x="196" y="155"/>
                  </a:lnTo>
                  <a:lnTo>
                    <a:pt x="193" y="145"/>
                  </a:lnTo>
                  <a:lnTo>
                    <a:pt x="189" y="134"/>
                  </a:lnTo>
                  <a:lnTo>
                    <a:pt x="185" y="123"/>
                  </a:lnTo>
                  <a:lnTo>
                    <a:pt x="181" y="113"/>
                  </a:lnTo>
                  <a:lnTo>
                    <a:pt x="177" y="102"/>
                  </a:lnTo>
                  <a:lnTo>
                    <a:pt x="174" y="91"/>
                  </a:lnTo>
                  <a:lnTo>
                    <a:pt x="168" y="87"/>
                  </a:lnTo>
                  <a:lnTo>
                    <a:pt x="162" y="83"/>
                  </a:lnTo>
                  <a:lnTo>
                    <a:pt x="156" y="80"/>
                  </a:lnTo>
                  <a:lnTo>
                    <a:pt x="149" y="79"/>
                  </a:lnTo>
                  <a:lnTo>
                    <a:pt x="141" y="78"/>
                  </a:lnTo>
                  <a:lnTo>
                    <a:pt x="134" y="79"/>
                  </a:lnTo>
                  <a:lnTo>
                    <a:pt x="128" y="79"/>
                  </a:lnTo>
                  <a:lnTo>
                    <a:pt x="121" y="80"/>
                  </a:lnTo>
                  <a:lnTo>
                    <a:pt x="117" y="83"/>
                  </a:lnTo>
                  <a:lnTo>
                    <a:pt x="113" y="86"/>
                  </a:lnTo>
                  <a:lnTo>
                    <a:pt x="109" y="87"/>
                  </a:lnTo>
                  <a:lnTo>
                    <a:pt x="105" y="87"/>
                  </a:lnTo>
                  <a:lnTo>
                    <a:pt x="99" y="88"/>
                  </a:lnTo>
                  <a:lnTo>
                    <a:pt x="95" y="90"/>
                  </a:lnTo>
                  <a:lnTo>
                    <a:pt x="91" y="90"/>
                  </a:lnTo>
                  <a:lnTo>
                    <a:pt x="87" y="91"/>
                  </a:lnTo>
                  <a:lnTo>
                    <a:pt x="81" y="95"/>
                  </a:lnTo>
                  <a:lnTo>
                    <a:pt x="75" y="99"/>
                  </a:lnTo>
                  <a:lnTo>
                    <a:pt x="69" y="103"/>
                  </a:lnTo>
                  <a:lnTo>
                    <a:pt x="62" y="107"/>
                  </a:lnTo>
                  <a:lnTo>
                    <a:pt x="54" y="111"/>
                  </a:lnTo>
                  <a:lnTo>
                    <a:pt x="47" y="114"/>
                  </a:lnTo>
                  <a:lnTo>
                    <a:pt x="40" y="115"/>
                  </a:lnTo>
                  <a:lnTo>
                    <a:pt x="34" y="117"/>
                  </a:lnTo>
                  <a:lnTo>
                    <a:pt x="27" y="110"/>
                  </a:lnTo>
                  <a:lnTo>
                    <a:pt x="19" y="102"/>
                  </a:lnTo>
                  <a:lnTo>
                    <a:pt x="14" y="94"/>
                  </a:lnTo>
                  <a:lnTo>
                    <a:pt x="8" y="84"/>
                  </a:lnTo>
                  <a:lnTo>
                    <a:pt x="4" y="75"/>
                  </a:lnTo>
                  <a:lnTo>
                    <a:pt x="2" y="66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8" y="35"/>
                  </a:lnTo>
                  <a:lnTo>
                    <a:pt x="11" y="32"/>
                  </a:lnTo>
                  <a:lnTo>
                    <a:pt x="15" y="28"/>
                  </a:lnTo>
                  <a:lnTo>
                    <a:pt x="18" y="25"/>
                  </a:lnTo>
                  <a:lnTo>
                    <a:pt x="20" y="23"/>
                  </a:lnTo>
                  <a:lnTo>
                    <a:pt x="23" y="20"/>
                  </a:lnTo>
                  <a:lnTo>
                    <a:pt x="28" y="21"/>
                  </a:lnTo>
                  <a:lnTo>
                    <a:pt x="34" y="23"/>
                  </a:lnTo>
                  <a:lnTo>
                    <a:pt x="38" y="25"/>
                  </a:lnTo>
                  <a:lnTo>
                    <a:pt x="40" y="30"/>
                  </a:lnTo>
                  <a:lnTo>
                    <a:pt x="45" y="34"/>
                  </a:lnTo>
                  <a:lnTo>
                    <a:pt x="49" y="36"/>
                  </a:lnTo>
                  <a:lnTo>
                    <a:pt x="53" y="40"/>
                  </a:lnTo>
                  <a:lnTo>
                    <a:pt x="57" y="43"/>
                  </a:lnTo>
                  <a:lnTo>
                    <a:pt x="69" y="46"/>
                  </a:lnTo>
                  <a:lnTo>
                    <a:pt x="82" y="48"/>
                  </a:lnTo>
                  <a:lnTo>
                    <a:pt x="94" y="50"/>
                  </a:lnTo>
                  <a:lnTo>
                    <a:pt x="106" y="51"/>
                  </a:lnTo>
                  <a:lnTo>
                    <a:pt x="132" y="50"/>
                  </a:lnTo>
                  <a:lnTo>
                    <a:pt x="156" y="48"/>
                  </a:lnTo>
                  <a:lnTo>
                    <a:pt x="180" y="46"/>
                  </a:lnTo>
                  <a:lnTo>
                    <a:pt x="205" y="44"/>
                  </a:lnTo>
                  <a:lnTo>
                    <a:pt x="231" y="44"/>
                  </a:lnTo>
                  <a:lnTo>
                    <a:pt x="256" y="46"/>
                  </a:lnTo>
                  <a:lnTo>
                    <a:pt x="267" y="43"/>
                  </a:lnTo>
                  <a:lnTo>
                    <a:pt x="278" y="40"/>
                  </a:lnTo>
                  <a:lnTo>
                    <a:pt x="288" y="40"/>
                  </a:lnTo>
                  <a:lnTo>
                    <a:pt x="299" y="40"/>
                  </a:lnTo>
                  <a:lnTo>
                    <a:pt x="311" y="40"/>
                  </a:lnTo>
                  <a:lnTo>
                    <a:pt x="322" y="40"/>
                  </a:lnTo>
                  <a:lnTo>
                    <a:pt x="333" y="40"/>
                  </a:lnTo>
                  <a:lnTo>
                    <a:pt x="342" y="38"/>
                  </a:lnTo>
                  <a:lnTo>
                    <a:pt x="350" y="36"/>
                  </a:lnTo>
                  <a:lnTo>
                    <a:pt x="358" y="34"/>
                  </a:lnTo>
                  <a:lnTo>
                    <a:pt x="366" y="32"/>
                  </a:lnTo>
                  <a:lnTo>
                    <a:pt x="374" y="31"/>
                  </a:lnTo>
                  <a:lnTo>
                    <a:pt x="382" y="30"/>
                  </a:lnTo>
                  <a:lnTo>
                    <a:pt x="389" y="30"/>
                  </a:lnTo>
                  <a:lnTo>
                    <a:pt x="397" y="31"/>
                  </a:lnTo>
                  <a:lnTo>
                    <a:pt x="404" y="34"/>
                  </a:lnTo>
                  <a:lnTo>
                    <a:pt x="408" y="31"/>
                  </a:lnTo>
                  <a:lnTo>
                    <a:pt x="410" y="30"/>
                  </a:lnTo>
                  <a:lnTo>
                    <a:pt x="414" y="28"/>
                  </a:lnTo>
                  <a:lnTo>
                    <a:pt x="417" y="28"/>
                  </a:lnTo>
                  <a:lnTo>
                    <a:pt x="421" y="28"/>
                  </a:lnTo>
                  <a:lnTo>
                    <a:pt x="425" y="28"/>
                  </a:lnTo>
                  <a:lnTo>
                    <a:pt x="428" y="30"/>
                  </a:lnTo>
                  <a:lnTo>
                    <a:pt x="432" y="30"/>
                  </a:lnTo>
                  <a:lnTo>
                    <a:pt x="433" y="32"/>
                  </a:lnTo>
                  <a:lnTo>
                    <a:pt x="434" y="34"/>
                  </a:lnTo>
                  <a:lnTo>
                    <a:pt x="434" y="36"/>
                  </a:lnTo>
                  <a:lnTo>
                    <a:pt x="436" y="39"/>
                  </a:lnTo>
                  <a:lnTo>
                    <a:pt x="437" y="40"/>
                  </a:lnTo>
                  <a:lnTo>
                    <a:pt x="438" y="42"/>
                  </a:lnTo>
                  <a:lnTo>
                    <a:pt x="440" y="44"/>
                  </a:lnTo>
                  <a:lnTo>
                    <a:pt x="442" y="46"/>
                  </a:lnTo>
                  <a:lnTo>
                    <a:pt x="454" y="43"/>
                  </a:lnTo>
                  <a:lnTo>
                    <a:pt x="467" y="39"/>
                  </a:lnTo>
                  <a:lnTo>
                    <a:pt x="479" y="35"/>
                  </a:lnTo>
                  <a:lnTo>
                    <a:pt x="491" y="30"/>
                  </a:lnTo>
                  <a:lnTo>
                    <a:pt x="501" y="23"/>
                  </a:lnTo>
                  <a:lnTo>
                    <a:pt x="512" y="16"/>
                  </a:lnTo>
                  <a:lnTo>
                    <a:pt x="521" y="8"/>
                  </a:lnTo>
                  <a:lnTo>
                    <a:pt x="531" y="0"/>
                  </a:lnTo>
                  <a:lnTo>
                    <a:pt x="538" y="23"/>
                  </a:lnTo>
                  <a:lnTo>
                    <a:pt x="542" y="44"/>
                  </a:lnTo>
                  <a:lnTo>
                    <a:pt x="544" y="67"/>
                  </a:lnTo>
                  <a:lnTo>
                    <a:pt x="546" y="90"/>
                  </a:lnTo>
                  <a:lnTo>
                    <a:pt x="547" y="113"/>
                  </a:lnTo>
                  <a:lnTo>
                    <a:pt x="548" y="135"/>
                  </a:lnTo>
                  <a:lnTo>
                    <a:pt x="551" y="158"/>
                  </a:lnTo>
                  <a:lnTo>
                    <a:pt x="556" y="18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97200" y="6057360"/>
              <a:ext cx="13680" cy="85680"/>
            </a:xfrm>
            <a:custGeom>
              <a:avLst/>
              <a:gdLst/>
              <a:ahLst/>
              <a:rect l="l" t="t" r="r" b="b"/>
              <a:pathLst>
                <a:path w="30" h="195">
                  <a:moveTo>
                    <a:pt x="26" y="0"/>
                  </a:moveTo>
                  <a:lnTo>
                    <a:pt x="30" y="195"/>
                  </a:lnTo>
                  <a:lnTo>
                    <a:pt x="26" y="171"/>
                  </a:lnTo>
                  <a:lnTo>
                    <a:pt x="22" y="149"/>
                  </a:lnTo>
                  <a:lnTo>
                    <a:pt x="19" y="126"/>
                  </a:lnTo>
                  <a:lnTo>
                    <a:pt x="16" y="103"/>
                  </a:lnTo>
                  <a:lnTo>
                    <a:pt x="14" y="80"/>
                  </a:lnTo>
                  <a:lnTo>
                    <a:pt x="10" y="57"/>
                  </a:lnTo>
                  <a:lnTo>
                    <a:pt x="6" y="35"/>
                  </a:lnTo>
                  <a:lnTo>
                    <a:pt x="0" y="12"/>
                  </a:lnTo>
                  <a:lnTo>
                    <a:pt x="3" y="11"/>
                  </a:lnTo>
                  <a:lnTo>
                    <a:pt x="7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2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09800" y="6051960"/>
              <a:ext cx="16200" cy="109440"/>
            </a:xfrm>
            <a:custGeom>
              <a:avLst/>
              <a:gdLst/>
              <a:ahLst/>
              <a:rect l="l" t="t" r="r" b="b"/>
              <a:pathLst>
                <a:path w="36" h="249">
                  <a:moveTo>
                    <a:pt x="4" y="208"/>
                  </a:moveTo>
                  <a:lnTo>
                    <a:pt x="0" y="13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6" y="249"/>
                  </a:lnTo>
                  <a:lnTo>
                    <a:pt x="33" y="247"/>
                  </a:lnTo>
                  <a:lnTo>
                    <a:pt x="30" y="247"/>
                  </a:lnTo>
                  <a:lnTo>
                    <a:pt x="28" y="246"/>
                  </a:lnTo>
                  <a:lnTo>
                    <a:pt x="24" y="246"/>
                  </a:lnTo>
                  <a:lnTo>
                    <a:pt x="21" y="246"/>
                  </a:lnTo>
                  <a:lnTo>
                    <a:pt x="18" y="246"/>
                  </a:lnTo>
                  <a:lnTo>
                    <a:pt x="16" y="245"/>
                  </a:lnTo>
                  <a:lnTo>
                    <a:pt x="13" y="245"/>
                  </a:lnTo>
                  <a:lnTo>
                    <a:pt x="12" y="241"/>
                  </a:lnTo>
                  <a:lnTo>
                    <a:pt x="10" y="235"/>
                  </a:lnTo>
                  <a:lnTo>
                    <a:pt x="9" y="231"/>
                  </a:lnTo>
                  <a:lnTo>
                    <a:pt x="8" y="226"/>
                  </a:lnTo>
                  <a:lnTo>
                    <a:pt x="6" y="222"/>
                  </a:lnTo>
                  <a:lnTo>
                    <a:pt x="5" y="216"/>
                  </a:lnTo>
                  <a:lnTo>
                    <a:pt x="5" y="212"/>
                  </a:lnTo>
                  <a:lnTo>
                    <a:pt x="4" y="208"/>
                  </a:lnTo>
                  <a:close/>
                </a:path>
              </a:pathLst>
            </a:custGeom>
            <a:solidFill>
              <a:srgbClr val="c7c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23480" y="6044040"/>
              <a:ext cx="16200" cy="121320"/>
            </a:xfrm>
            <a:custGeom>
              <a:avLst/>
              <a:gdLst/>
              <a:ahLst/>
              <a:rect l="l" t="t" r="r" b="b"/>
              <a:pathLst>
                <a:path w="38" h="276">
                  <a:moveTo>
                    <a:pt x="6" y="267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0" y="15"/>
                  </a:lnTo>
                  <a:lnTo>
                    <a:pt x="11" y="12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8" y="276"/>
                  </a:lnTo>
                  <a:lnTo>
                    <a:pt x="34" y="275"/>
                  </a:lnTo>
                  <a:lnTo>
                    <a:pt x="30" y="273"/>
                  </a:lnTo>
                  <a:lnTo>
                    <a:pt x="26" y="272"/>
                  </a:lnTo>
                  <a:lnTo>
                    <a:pt x="22" y="271"/>
                  </a:lnTo>
                  <a:lnTo>
                    <a:pt x="18" y="269"/>
                  </a:lnTo>
                  <a:lnTo>
                    <a:pt x="14" y="268"/>
                  </a:lnTo>
                  <a:lnTo>
                    <a:pt x="10" y="267"/>
                  </a:lnTo>
                  <a:lnTo>
                    <a:pt x="6" y="267"/>
                  </a:lnTo>
                  <a:close/>
                </a:path>
              </a:pathLst>
            </a:custGeom>
            <a:solidFill>
              <a:srgbClr val="c1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37160" y="6044040"/>
              <a:ext cx="18000" cy="128880"/>
            </a:xfrm>
            <a:custGeom>
              <a:avLst/>
              <a:gdLst/>
              <a:ahLst/>
              <a:rect l="l" t="t" r="r" b="b"/>
              <a:pathLst>
                <a:path w="39" h="296">
                  <a:moveTo>
                    <a:pt x="7" y="276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8" y="4"/>
                  </a:lnTo>
                  <a:lnTo>
                    <a:pt x="11" y="7"/>
                  </a:lnTo>
                  <a:lnTo>
                    <a:pt x="12" y="9"/>
                  </a:lnTo>
                  <a:lnTo>
                    <a:pt x="16" y="18"/>
                  </a:lnTo>
                  <a:lnTo>
                    <a:pt x="19" y="26"/>
                  </a:lnTo>
                  <a:lnTo>
                    <a:pt x="20" y="35"/>
                  </a:lnTo>
                  <a:lnTo>
                    <a:pt x="23" y="43"/>
                  </a:lnTo>
                  <a:lnTo>
                    <a:pt x="26" y="51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7"/>
                  </a:lnTo>
                  <a:lnTo>
                    <a:pt x="31" y="71"/>
                  </a:lnTo>
                  <a:lnTo>
                    <a:pt x="32" y="75"/>
                  </a:lnTo>
                  <a:lnTo>
                    <a:pt x="32" y="79"/>
                  </a:lnTo>
                  <a:lnTo>
                    <a:pt x="32" y="83"/>
                  </a:lnTo>
                  <a:lnTo>
                    <a:pt x="34" y="88"/>
                  </a:lnTo>
                  <a:lnTo>
                    <a:pt x="34" y="93"/>
                  </a:lnTo>
                  <a:lnTo>
                    <a:pt x="39" y="296"/>
                  </a:lnTo>
                  <a:lnTo>
                    <a:pt x="35" y="293"/>
                  </a:lnTo>
                  <a:lnTo>
                    <a:pt x="31" y="291"/>
                  </a:lnTo>
                  <a:lnTo>
                    <a:pt x="27" y="288"/>
                  </a:lnTo>
                  <a:lnTo>
                    <a:pt x="23" y="285"/>
                  </a:lnTo>
                  <a:lnTo>
                    <a:pt x="19" y="283"/>
                  </a:lnTo>
                  <a:lnTo>
                    <a:pt x="15" y="280"/>
                  </a:lnTo>
                  <a:lnTo>
                    <a:pt x="11" y="279"/>
                  </a:lnTo>
                  <a:lnTo>
                    <a:pt x="7" y="276"/>
                  </a:lnTo>
                  <a:close/>
                </a:path>
              </a:pathLst>
            </a:custGeom>
            <a:solidFill>
              <a:srgbClr val="bb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52280" y="6085080"/>
              <a:ext cx="17640" cy="98640"/>
            </a:xfrm>
            <a:custGeom>
              <a:avLst/>
              <a:gdLst/>
              <a:ahLst/>
              <a:rect l="l" t="t" r="r" b="b"/>
              <a:pathLst>
                <a:path w="37" h="227">
                  <a:moveTo>
                    <a:pt x="5" y="203"/>
                  </a:moveTo>
                  <a:lnTo>
                    <a:pt x="0" y="0"/>
                  </a:lnTo>
                  <a:lnTo>
                    <a:pt x="1" y="5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21"/>
                  </a:lnTo>
                  <a:lnTo>
                    <a:pt x="11" y="25"/>
                  </a:lnTo>
                  <a:lnTo>
                    <a:pt x="15" y="29"/>
                  </a:lnTo>
                  <a:lnTo>
                    <a:pt x="19" y="33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7" y="227"/>
                  </a:lnTo>
                  <a:lnTo>
                    <a:pt x="35" y="226"/>
                  </a:lnTo>
                  <a:lnTo>
                    <a:pt x="33" y="226"/>
                  </a:lnTo>
                  <a:lnTo>
                    <a:pt x="32" y="226"/>
                  </a:lnTo>
                  <a:lnTo>
                    <a:pt x="29" y="224"/>
                  </a:lnTo>
                  <a:lnTo>
                    <a:pt x="28" y="224"/>
                  </a:lnTo>
                  <a:lnTo>
                    <a:pt x="27" y="224"/>
                  </a:lnTo>
                  <a:lnTo>
                    <a:pt x="24" y="224"/>
                  </a:lnTo>
                  <a:lnTo>
                    <a:pt x="23" y="223"/>
                  </a:lnTo>
                  <a:lnTo>
                    <a:pt x="20" y="220"/>
                  </a:lnTo>
                  <a:lnTo>
                    <a:pt x="19" y="218"/>
                  </a:lnTo>
                  <a:lnTo>
                    <a:pt x="16" y="215"/>
                  </a:lnTo>
                  <a:lnTo>
                    <a:pt x="15" y="212"/>
                  </a:lnTo>
                  <a:lnTo>
                    <a:pt x="12" y="210"/>
                  </a:lnTo>
                  <a:lnTo>
                    <a:pt x="9" y="208"/>
                  </a:lnTo>
                  <a:lnTo>
                    <a:pt x="8" y="206"/>
                  </a:lnTo>
                  <a:lnTo>
                    <a:pt x="5" y="203"/>
                  </a:lnTo>
                  <a:close/>
                </a:path>
              </a:pathLst>
            </a:custGeom>
            <a:solidFill>
              <a:srgbClr val="b6b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7400" y="6078600"/>
              <a:ext cx="16200" cy="107640"/>
            </a:xfrm>
            <a:custGeom>
              <a:avLst/>
              <a:gdLst/>
              <a:ahLst/>
              <a:rect l="l" t="t" r="r" b="b"/>
              <a:pathLst>
                <a:path w="35" h="246">
                  <a:moveTo>
                    <a:pt x="4" y="241"/>
                  </a:moveTo>
                  <a:lnTo>
                    <a:pt x="0" y="46"/>
                  </a:lnTo>
                  <a:lnTo>
                    <a:pt x="6" y="42"/>
                  </a:lnTo>
                  <a:lnTo>
                    <a:pt x="11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2" y="20"/>
                  </a:lnTo>
                  <a:lnTo>
                    <a:pt x="24" y="14"/>
                  </a:lnTo>
                  <a:lnTo>
                    <a:pt x="27" y="7"/>
                  </a:lnTo>
                  <a:lnTo>
                    <a:pt x="30" y="0"/>
                  </a:lnTo>
                  <a:lnTo>
                    <a:pt x="35" y="246"/>
                  </a:lnTo>
                  <a:lnTo>
                    <a:pt x="32" y="246"/>
                  </a:lnTo>
                  <a:lnTo>
                    <a:pt x="28" y="245"/>
                  </a:lnTo>
                  <a:lnTo>
                    <a:pt x="24" y="245"/>
                  </a:lnTo>
                  <a:lnTo>
                    <a:pt x="20" y="244"/>
                  </a:lnTo>
                  <a:lnTo>
                    <a:pt x="16" y="244"/>
                  </a:lnTo>
                  <a:lnTo>
                    <a:pt x="12" y="242"/>
                  </a:lnTo>
                  <a:lnTo>
                    <a:pt x="8" y="241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b0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81080" y="6051960"/>
              <a:ext cx="18000" cy="136800"/>
            </a:xfrm>
            <a:custGeom>
              <a:avLst/>
              <a:gdLst/>
              <a:ahLst/>
              <a:rect l="l" t="t" r="r" b="b"/>
              <a:pathLst>
                <a:path w="37" h="313">
                  <a:moveTo>
                    <a:pt x="5" y="307"/>
                  </a:moveTo>
                  <a:lnTo>
                    <a:pt x="0" y="61"/>
                  </a:lnTo>
                  <a:lnTo>
                    <a:pt x="1" y="58"/>
                  </a:lnTo>
                  <a:lnTo>
                    <a:pt x="2" y="56"/>
                  </a:lnTo>
                  <a:lnTo>
                    <a:pt x="4" y="53"/>
                  </a:lnTo>
                  <a:lnTo>
                    <a:pt x="6" y="50"/>
                  </a:lnTo>
                  <a:lnTo>
                    <a:pt x="8" y="48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3" y="41"/>
                  </a:lnTo>
                  <a:lnTo>
                    <a:pt x="14" y="36"/>
                  </a:lnTo>
                  <a:lnTo>
                    <a:pt x="16" y="30"/>
                  </a:lnTo>
                  <a:lnTo>
                    <a:pt x="16" y="25"/>
                  </a:lnTo>
                  <a:lnTo>
                    <a:pt x="17" y="20"/>
                  </a:lnTo>
                  <a:lnTo>
                    <a:pt x="19" y="14"/>
                  </a:lnTo>
                  <a:lnTo>
                    <a:pt x="20" y="9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7" y="313"/>
                  </a:lnTo>
                  <a:lnTo>
                    <a:pt x="33" y="311"/>
                  </a:lnTo>
                  <a:lnTo>
                    <a:pt x="29" y="311"/>
                  </a:lnTo>
                  <a:lnTo>
                    <a:pt x="25" y="311"/>
                  </a:lnTo>
                  <a:lnTo>
                    <a:pt x="21" y="310"/>
                  </a:lnTo>
                  <a:lnTo>
                    <a:pt x="17" y="310"/>
                  </a:lnTo>
                  <a:lnTo>
                    <a:pt x="13" y="309"/>
                  </a:lnTo>
                  <a:lnTo>
                    <a:pt x="9" y="309"/>
                  </a:lnTo>
                  <a:lnTo>
                    <a:pt x="5" y="307"/>
                  </a:lnTo>
                  <a:close/>
                </a:path>
              </a:pathLst>
            </a:custGeom>
            <a:solidFill>
              <a:srgbClr val="aab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96200" y="6051960"/>
              <a:ext cx="16200" cy="138240"/>
            </a:xfrm>
            <a:custGeom>
              <a:avLst/>
              <a:gdLst/>
              <a:ahLst/>
              <a:rect l="l" t="t" r="r" b="b"/>
              <a:pathLst>
                <a:path w="38" h="316">
                  <a:moveTo>
                    <a:pt x="6" y="313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5"/>
                  </a:lnTo>
                  <a:lnTo>
                    <a:pt x="6" y="8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33"/>
                  </a:lnTo>
                  <a:lnTo>
                    <a:pt x="12" y="49"/>
                  </a:lnTo>
                  <a:lnTo>
                    <a:pt x="13" y="64"/>
                  </a:lnTo>
                  <a:lnTo>
                    <a:pt x="16" y="80"/>
                  </a:lnTo>
                  <a:lnTo>
                    <a:pt x="20" y="95"/>
                  </a:lnTo>
                  <a:lnTo>
                    <a:pt x="24" y="111"/>
                  </a:lnTo>
                  <a:lnTo>
                    <a:pt x="29" y="125"/>
                  </a:lnTo>
                  <a:lnTo>
                    <a:pt x="34" y="139"/>
                  </a:lnTo>
                  <a:lnTo>
                    <a:pt x="38" y="316"/>
                  </a:lnTo>
                  <a:lnTo>
                    <a:pt x="34" y="316"/>
                  </a:lnTo>
                  <a:lnTo>
                    <a:pt x="30" y="316"/>
                  </a:lnTo>
                  <a:lnTo>
                    <a:pt x="26" y="314"/>
                  </a:lnTo>
                  <a:lnTo>
                    <a:pt x="22" y="314"/>
                  </a:lnTo>
                  <a:lnTo>
                    <a:pt x="18" y="314"/>
                  </a:lnTo>
                  <a:lnTo>
                    <a:pt x="14" y="314"/>
                  </a:lnTo>
                  <a:lnTo>
                    <a:pt x="10" y="313"/>
                  </a:lnTo>
                  <a:lnTo>
                    <a:pt x="6" y="313"/>
                  </a:lnTo>
                  <a:close/>
                </a:path>
              </a:pathLst>
            </a:custGeom>
            <a:solidFill>
              <a:srgbClr val="a4b1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10960" y="6112440"/>
              <a:ext cx="16200" cy="77760"/>
            </a:xfrm>
            <a:custGeom>
              <a:avLst/>
              <a:gdLst/>
              <a:ahLst/>
              <a:rect l="l" t="t" r="r" b="b"/>
              <a:pathLst>
                <a:path w="35" h="178">
                  <a:moveTo>
                    <a:pt x="4" y="177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8" y="9"/>
                  </a:lnTo>
                  <a:lnTo>
                    <a:pt x="12" y="10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23" y="14"/>
                  </a:lnTo>
                  <a:lnTo>
                    <a:pt x="29" y="13"/>
                  </a:lnTo>
                  <a:lnTo>
                    <a:pt x="33" y="12"/>
                  </a:lnTo>
                  <a:lnTo>
                    <a:pt x="35" y="178"/>
                  </a:lnTo>
                  <a:lnTo>
                    <a:pt x="31" y="178"/>
                  </a:lnTo>
                  <a:lnTo>
                    <a:pt x="27" y="178"/>
                  </a:lnTo>
                  <a:lnTo>
                    <a:pt x="25" y="178"/>
                  </a:lnTo>
                  <a:lnTo>
                    <a:pt x="20" y="178"/>
                  </a:lnTo>
                  <a:lnTo>
                    <a:pt x="16" y="178"/>
                  </a:lnTo>
                  <a:lnTo>
                    <a:pt x="12" y="177"/>
                  </a:lnTo>
                  <a:lnTo>
                    <a:pt x="8" y="177"/>
                  </a:lnTo>
                  <a:lnTo>
                    <a:pt x="4" y="177"/>
                  </a:lnTo>
                  <a:close/>
                </a:path>
              </a:pathLst>
            </a:custGeom>
            <a:solidFill>
              <a:srgbClr val="9fa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26440" y="6096960"/>
              <a:ext cx="15120" cy="93600"/>
            </a:xfrm>
            <a:custGeom>
              <a:avLst/>
              <a:gdLst/>
              <a:ahLst/>
              <a:rect l="l" t="t" r="r" b="b"/>
              <a:pathLst>
                <a:path w="34" h="213">
                  <a:moveTo>
                    <a:pt x="2" y="213"/>
                  </a:move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4" y="40"/>
                  </a:lnTo>
                  <a:lnTo>
                    <a:pt x="8" y="35"/>
                  </a:lnTo>
                  <a:lnTo>
                    <a:pt x="12" y="29"/>
                  </a:lnTo>
                  <a:lnTo>
                    <a:pt x="16" y="24"/>
                  </a:lnTo>
                  <a:lnTo>
                    <a:pt x="18" y="17"/>
                  </a:lnTo>
                  <a:lnTo>
                    <a:pt x="22" y="12"/>
                  </a:lnTo>
                  <a:lnTo>
                    <a:pt x="26" y="5"/>
                  </a:lnTo>
                  <a:lnTo>
                    <a:pt x="29" y="0"/>
                  </a:lnTo>
                  <a:lnTo>
                    <a:pt x="34" y="213"/>
                  </a:lnTo>
                  <a:lnTo>
                    <a:pt x="30" y="213"/>
                  </a:lnTo>
                  <a:lnTo>
                    <a:pt x="26" y="213"/>
                  </a:lnTo>
                  <a:lnTo>
                    <a:pt x="22" y="213"/>
                  </a:lnTo>
                  <a:lnTo>
                    <a:pt x="18" y="213"/>
                  </a:lnTo>
                  <a:lnTo>
                    <a:pt x="14" y="213"/>
                  </a:lnTo>
                  <a:lnTo>
                    <a:pt x="10" y="213"/>
                  </a:lnTo>
                  <a:lnTo>
                    <a:pt x="6" y="213"/>
                  </a:lnTo>
                  <a:lnTo>
                    <a:pt x="2" y="213"/>
                  </a:lnTo>
                  <a:close/>
                </a:path>
              </a:pathLst>
            </a:custGeom>
            <a:solidFill>
              <a:srgbClr val="99a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40120" y="6051960"/>
              <a:ext cx="16200" cy="138240"/>
            </a:xfrm>
            <a:custGeom>
              <a:avLst/>
              <a:gdLst/>
              <a:ahLst/>
              <a:rect l="l" t="t" r="r" b="b"/>
              <a:pathLst>
                <a:path w="38" h="315">
                  <a:moveTo>
                    <a:pt x="5" y="315"/>
                  </a:moveTo>
                  <a:lnTo>
                    <a:pt x="0" y="102"/>
                  </a:lnTo>
                  <a:lnTo>
                    <a:pt x="5" y="93"/>
                  </a:lnTo>
                  <a:lnTo>
                    <a:pt x="9" y="83"/>
                  </a:lnTo>
                  <a:lnTo>
                    <a:pt x="12" y="74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4"/>
                  </a:lnTo>
                  <a:lnTo>
                    <a:pt x="13" y="34"/>
                  </a:lnTo>
                  <a:lnTo>
                    <a:pt x="11" y="23"/>
                  </a:lnTo>
                  <a:lnTo>
                    <a:pt x="13" y="20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3" y="8"/>
                  </a:lnTo>
                  <a:lnTo>
                    <a:pt x="24" y="6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8" y="312"/>
                  </a:lnTo>
                  <a:lnTo>
                    <a:pt x="34" y="312"/>
                  </a:lnTo>
                  <a:lnTo>
                    <a:pt x="30" y="314"/>
                  </a:lnTo>
                  <a:lnTo>
                    <a:pt x="25" y="314"/>
                  </a:lnTo>
                  <a:lnTo>
                    <a:pt x="21" y="314"/>
                  </a:lnTo>
                  <a:lnTo>
                    <a:pt x="17" y="314"/>
                  </a:lnTo>
                  <a:lnTo>
                    <a:pt x="13" y="315"/>
                  </a:lnTo>
                  <a:lnTo>
                    <a:pt x="9" y="315"/>
                  </a:lnTo>
                  <a:lnTo>
                    <a:pt x="5" y="315"/>
                  </a:lnTo>
                  <a:close/>
                </a:path>
              </a:pathLst>
            </a:custGeom>
            <a:solidFill>
              <a:srgbClr val="93a6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53800" y="6050520"/>
              <a:ext cx="16200" cy="138240"/>
            </a:xfrm>
            <a:custGeom>
              <a:avLst/>
              <a:gdLst/>
              <a:ahLst/>
              <a:rect l="l" t="t" r="r" b="b"/>
              <a:pathLst>
                <a:path w="38" h="317">
                  <a:moveTo>
                    <a:pt x="8" y="317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5"/>
                  </a:lnTo>
                  <a:lnTo>
                    <a:pt x="13" y="12"/>
                  </a:lnTo>
                  <a:lnTo>
                    <a:pt x="14" y="19"/>
                  </a:lnTo>
                  <a:lnTo>
                    <a:pt x="16" y="25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8" y="47"/>
                  </a:lnTo>
                  <a:lnTo>
                    <a:pt x="20" y="53"/>
                  </a:lnTo>
                  <a:lnTo>
                    <a:pt x="21" y="57"/>
                  </a:lnTo>
                  <a:lnTo>
                    <a:pt x="24" y="63"/>
                  </a:lnTo>
                  <a:lnTo>
                    <a:pt x="25" y="67"/>
                  </a:lnTo>
                  <a:lnTo>
                    <a:pt x="26" y="71"/>
                  </a:lnTo>
                  <a:lnTo>
                    <a:pt x="28" y="76"/>
                  </a:lnTo>
                  <a:lnTo>
                    <a:pt x="29" y="80"/>
                  </a:lnTo>
                  <a:lnTo>
                    <a:pt x="32" y="84"/>
                  </a:lnTo>
                  <a:lnTo>
                    <a:pt x="33" y="88"/>
                  </a:lnTo>
                  <a:lnTo>
                    <a:pt x="38" y="313"/>
                  </a:lnTo>
                  <a:lnTo>
                    <a:pt x="34" y="313"/>
                  </a:lnTo>
                  <a:lnTo>
                    <a:pt x="30" y="314"/>
                  </a:lnTo>
                  <a:lnTo>
                    <a:pt x="26" y="314"/>
                  </a:lnTo>
                  <a:lnTo>
                    <a:pt x="22" y="316"/>
                  </a:lnTo>
                  <a:lnTo>
                    <a:pt x="18" y="316"/>
                  </a:lnTo>
                  <a:lnTo>
                    <a:pt x="14" y="316"/>
                  </a:lnTo>
                  <a:lnTo>
                    <a:pt x="10" y="317"/>
                  </a:lnTo>
                  <a:lnTo>
                    <a:pt x="8" y="317"/>
                  </a:lnTo>
                  <a:close/>
                </a:path>
              </a:pathLst>
            </a:custGeom>
            <a:solidFill>
              <a:srgbClr val="8ea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68920" y="6089040"/>
              <a:ext cx="16200" cy="98640"/>
            </a:xfrm>
            <a:custGeom>
              <a:avLst/>
              <a:gdLst/>
              <a:ahLst/>
              <a:rect l="l" t="t" r="r" b="b"/>
              <a:pathLst>
                <a:path w="38" h="225">
                  <a:moveTo>
                    <a:pt x="5" y="225"/>
                  </a:moveTo>
                  <a:lnTo>
                    <a:pt x="0" y="0"/>
                  </a:lnTo>
                  <a:lnTo>
                    <a:pt x="3" y="4"/>
                  </a:lnTo>
                  <a:lnTo>
                    <a:pt x="4" y="7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2" y="15"/>
                  </a:lnTo>
                  <a:lnTo>
                    <a:pt x="15" y="16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8" y="218"/>
                  </a:lnTo>
                  <a:lnTo>
                    <a:pt x="36" y="218"/>
                  </a:lnTo>
                  <a:lnTo>
                    <a:pt x="36" y="218"/>
                  </a:lnTo>
                  <a:lnTo>
                    <a:pt x="36" y="218"/>
                  </a:lnTo>
                  <a:lnTo>
                    <a:pt x="36" y="218"/>
                  </a:lnTo>
                  <a:lnTo>
                    <a:pt x="36" y="218"/>
                  </a:lnTo>
                  <a:lnTo>
                    <a:pt x="35" y="218"/>
                  </a:lnTo>
                  <a:lnTo>
                    <a:pt x="35" y="218"/>
                  </a:lnTo>
                  <a:lnTo>
                    <a:pt x="35" y="218"/>
                  </a:lnTo>
                  <a:lnTo>
                    <a:pt x="31" y="220"/>
                  </a:lnTo>
                  <a:lnTo>
                    <a:pt x="28" y="221"/>
                  </a:lnTo>
                  <a:lnTo>
                    <a:pt x="24" y="221"/>
                  </a:lnTo>
                  <a:lnTo>
                    <a:pt x="20" y="222"/>
                  </a:lnTo>
                  <a:lnTo>
                    <a:pt x="16" y="222"/>
                  </a:lnTo>
                  <a:lnTo>
                    <a:pt x="13" y="224"/>
                  </a:lnTo>
                  <a:lnTo>
                    <a:pt x="9" y="224"/>
                  </a:lnTo>
                  <a:lnTo>
                    <a:pt x="5" y="225"/>
                  </a:lnTo>
                  <a:close/>
                </a:path>
              </a:pathLst>
            </a:custGeom>
            <a:solidFill>
              <a:srgbClr val="88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82600" y="6086160"/>
              <a:ext cx="16200" cy="98640"/>
            </a:xfrm>
            <a:custGeom>
              <a:avLst/>
              <a:gdLst/>
              <a:ahLst/>
              <a:rect l="l" t="t" r="r" b="b"/>
              <a:pathLst>
                <a:path w="36" h="224">
                  <a:moveTo>
                    <a:pt x="6" y="224"/>
                  </a:moveTo>
                  <a:lnTo>
                    <a:pt x="0" y="26"/>
                  </a:lnTo>
                  <a:lnTo>
                    <a:pt x="6" y="25"/>
                  </a:lnTo>
                  <a:lnTo>
                    <a:pt x="10" y="22"/>
                  </a:lnTo>
                  <a:lnTo>
                    <a:pt x="15" y="20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8"/>
                  </a:lnTo>
                  <a:lnTo>
                    <a:pt x="28" y="4"/>
                  </a:lnTo>
                  <a:lnTo>
                    <a:pt x="31" y="0"/>
                  </a:lnTo>
                  <a:lnTo>
                    <a:pt x="36" y="211"/>
                  </a:lnTo>
                  <a:lnTo>
                    <a:pt x="32" y="212"/>
                  </a:lnTo>
                  <a:lnTo>
                    <a:pt x="28" y="214"/>
                  </a:lnTo>
                  <a:lnTo>
                    <a:pt x="24" y="215"/>
                  </a:lnTo>
                  <a:lnTo>
                    <a:pt x="22" y="216"/>
                  </a:lnTo>
                  <a:lnTo>
                    <a:pt x="18" y="218"/>
                  </a:lnTo>
                  <a:lnTo>
                    <a:pt x="14" y="220"/>
                  </a:lnTo>
                  <a:lnTo>
                    <a:pt x="10" y="222"/>
                  </a:lnTo>
                  <a:lnTo>
                    <a:pt x="6" y="224"/>
                  </a:lnTo>
                  <a:close/>
                </a:path>
              </a:pathLst>
            </a:custGeom>
            <a:solidFill>
              <a:srgbClr val="82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97720" y="6048000"/>
              <a:ext cx="12240" cy="130680"/>
            </a:xfrm>
            <a:custGeom>
              <a:avLst/>
              <a:gdLst/>
              <a:ahLst/>
              <a:rect l="l" t="t" r="r" b="b"/>
              <a:pathLst>
                <a:path w="28" h="297">
                  <a:moveTo>
                    <a:pt x="5" y="297"/>
                  </a:moveTo>
                  <a:lnTo>
                    <a:pt x="0" y="86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4"/>
                  </a:lnTo>
                  <a:lnTo>
                    <a:pt x="3" y="84"/>
                  </a:lnTo>
                  <a:lnTo>
                    <a:pt x="3" y="84"/>
                  </a:lnTo>
                  <a:lnTo>
                    <a:pt x="3" y="84"/>
                  </a:lnTo>
                  <a:lnTo>
                    <a:pt x="1" y="73"/>
                  </a:lnTo>
                  <a:lnTo>
                    <a:pt x="1" y="63"/>
                  </a:lnTo>
                  <a:lnTo>
                    <a:pt x="3" y="53"/>
                  </a:lnTo>
                  <a:lnTo>
                    <a:pt x="5" y="44"/>
                  </a:lnTo>
                  <a:lnTo>
                    <a:pt x="7" y="35"/>
                  </a:lnTo>
                  <a:lnTo>
                    <a:pt x="8" y="25"/>
                  </a:lnTo>
                  <a:lnTo>
                    <a:pt x="9" y="15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21" y="39"/>
                  </a:lnTo>
                  <a:lnTo>
                    <a:pt x="23" y="45"/>
                  </a:lnTo>
                  <a:lnTo>
                    <a:pt x="28" y="53"/>
                  </a:lnTo>
                  <a:lnTo>
                    <a:pt x="25" y="82"/>
                  </a:lnTo>
                  <a:lnTo>
                    <a:pt x="24" y="112"/>
                  </a:lnTo>
                  <a:lnTo>
                    <a:pt x="23" y="142"/>
                  </a:lnTo>
                  <a:lnTo>
                    <a:pt x="23" y="173"/>
                  </a:lnTo>
                  <a:lnTo>
                    <a:pt x="23" y="203"/>
                  </a:lnTo>
                  <a:lnTo>
                    <a:pt x="24" y="234"/>
                  </a:lnTo>
                  <a:lnTo>
                    <a:pt x="25" y="264"/>
                  </a:lnTo>
                  <a:lnTo>
                    <a:pt x="28" y="293"/>
                  </a:lnTo>
                  <a:lnTo>
                    <a:pt x="25" y="293"/>
                  </a:lnTo>
                  <a:lnTo>
                    <a:pt x="21" y="294"/>
                  </a:lnTo>
                  <a:lnTo>
                    <a:pt x="19" y="294"/>
                  </a:lnTo>
                  <a:lnTo>
                    <a:pt x="16" y="294"/>
                  </a:lnTo>
                  <a:lnTo>
                    <a:pt x="13" y="296"/>
                  </a:lnTo>
                  <a:lnTo>
                    <a:pt x="11" y="296"/>
                  </a:lnTo>
                  <a:lnTo>
                    <a:pt x="8" y="297"/>
                  </a:lnTo>
                  <a:lnTo>
                    <a:pt x="5" y="297"/>
                  </a:lnTo>
                  <a:close/>
                </a:path>
              </a:pathLst>
            </a:custGeom>
            <a:solidFill>
              <a:srgbClr val="7c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61400" y="6045480"/>
              <a:ext cx="301680" cy="65520"/>
            </a:xfrm>
            <a:custGeom>
              <a:avLst/>
              <a:gdLst/>
              <a:ahLst/>
              <a:rect l="l" t="t" r="r" b="b"/>
              <a:pathLst>
                <a:path w="661" h="148">
                  <a:moveTo>
                    <a:pt x="661" y="18"/>
                  </a:moveTo>
                  <a:lnTo>
                    <a:pt x="641" y="23"/>
                  </a:lnTo>
                  <a:lnTo>
                    <a:pt x="618" y="27"/>
                  </a:lnTo>
                  <a:lnTo>
                    <a:pt x="595" y="29"/>
                  </a:lnTo>
                  <a:lnTo>
                    <a:pt x="572" y="30"/>
                  </a:lnTo>
                  <a:lnTo>
                    <a:pt x="549" y="30"/>
                  </a:lnTo>
                  <a:lnTo>
                    <a:pt x="527" y="31"/>
                  </a:lnTo>
                  <a:lnTo>
                    <a:pt x="504" y="31"/>
                  </a:lnTo>
                  <a:lnTo>
                    <a:pt x="482" y="34"/>
                  </a:lnTo>
                  <a:lnTo>
                    <a:pt x="482" y="43"/>
                  </a:lnTo>
                  <a:lnTo>
                    <a:pt x="482" y="55"/>
                  </a:lnTo>
                  <a:lnTo>
                    <a:pt x="482" y="66"/>
                  </a:lnTo>
                  <a:lnTo>
                    <a:pt x="484" y="77"/>
                  </a:lnTo>
                  <a:lnTo>
                    <a:pt x="487" y="88"/>
                  </a:lnTo>
                  <a:lnTo>
                    <a:pt x="491" y="98"/>
                  </a:lnTo>
                  <a:lnTo>
                    <a:pt x="495" y="109"/>
                  </a:lnTo>
                  <a:lnTo>
                    <a:pt x="500" y="117"/>
                  </a:lnTo>
                  <a:lnTo>
                    <a:pt x="500" y="121"/>
                  </a:lnTo>
                  <a:lnTo>
                    <a:pt x="500" y="125"/>
                  </a:lnTo>
                  <a:lnTo>
                    <a:pt x="500" y="130"/>
                  </a:lnTo>
                  <a:lnTo>
                    <a:pt x="501" y="134"/>
                  </a:lnTo>
                  <a:lnTo>
                    <a:pt x="500" y="138"/>
                  </a:lnTo>
                  <a:lnTo>
                    <a:pt x="500" y="142"/>
                  </a:lnTo>
                  <a:lnTo>
                    <a:pt x="499" y="145"/>
                  </a:lnTo>
                  <a:lnTo>
                    <a:pt x="496" y="148"/>
                  </a:lnTo>
                  <a:lnTo>
                    <a:pt x="488" y="144"/>
                  </a:lnTo>
                  <a:lnTo>
                    <a:pt x="481" y="140"/>
                  </a:lnTo>
                  <a:lnTo>
                    <a:pt x="476" y="133"/>
                  </a:lnTo>
                  <a:lnTo>
                    <a:pt x="472" y="128"/>
                  </a:lnTo>
                  <a:lnTo>
                    <a:pt x="468" y="121"/>
                  </a:lnTo>
                  <a:lnTo>
                    <a:pt x="465" y="113"/>
                  </a:lnTo>
                  <a:lnTo>
                    <a:pt x="464" y="106"/>
                  </a:lnTo>
                  <a:lnTo>
                    <a:pt x="462" y="98"/>
                  </a:lnTo>
                  <a:lnTo>
                    <a:pt x="460" y="82"/>
                  </a:lnTo>
                  <a:lnTo>
                    <a:pt x="458" y="66"/>
                  </a:lnTo>
                  <a:lnTo>
                    <a:pt x="456" y="51"/>
                  </a:lnTo>
                  <a:lnTo>
                    <a:pt x="452" y="37"/>
                  </a:lnTo>
                  <a:lnTo>
                    <a:pt x="409" y="35"/>
                  </a:lnTo>
                  <a:lnTo>
                    <a:pt x="365" y="34"/>
                  </a:lnTo>
                  <a:lnTo>
                    <a:pt x="320" y="33"/>
                  </a:lnTo>
                  <a:lnTo>
                    <a:pt x="276" y="33"/>
                  </a:lnTo>
                  <a:lnTo>
                    <a:pt x="233" y="33"/>
                  </a:lnTo>
                  <a:lnTo>
                    <a:pt x="189" y="34"/>
                  </a:lnTo>
                  <a:lnTo>
                    <a:pt x="145" y="37"/>
                  </a:lnTo>
                  <a:lnTo>
                    <a:pt x="102" y="41"/>
                  </a:lnTo>
                  <a:lnTo>
                    <a:pt x="105" y="49"/>
                  </a:lnTo>
                  <a:lnTo>
                    <a:pt x="106" y="55"/>
                  </a:lnTo>
                  <a:lnTo>
                    <a:pt x="106" y="62"/>
                  </a:lnTo>
                  <a:lnTo>
                    <a:pt x="106" y="70"/>
                  </a:lnTo>
                  <a:lnTo>
                    <a:pt x="107" y="78"/>
                  </a:lnTo>
                  <a:lnTo>
                    <a:pt x="107" y="85"/>
                  </a:lnTo>
                  <a:lnTo>
                    <a:pt x="109" y="93"/>
                  </a:lnTo>
                  <a:lnTo>
                    <a:pt x="113" y="100"/>
                  </a:lnTo>
                  <a:lnTo>
                    <a:pt x="110" y="102"/>
                  </a:lnTo>
                  <a:lnTo>
                    <a:pt x="109" y="104"/>
                  </a:lnTo>
                  <a:lnTo>
                    <a:pt x="106" y="105"/>
                  </a:lnTo>
                  <a:lnTo>
                    <a:pt x="103" y="105"/>
                  </a:lnTo>
                  <a:lnTo>
                    <a:pt x="101" y="105"/>
                  </a:lnTo>
                  <a:lnTo>
                    <a:pt x="98" y="104"/>
                  </a:lnTo>
                  <a:lnTo>
                    <a:pt x="97" y="104"/>
                  </a:lnTo>
                  <a:lnTo>
                    <a:pt x="94" y="102"/>
                  </a:lnTo>
                  <a:lnTo>
                    <a:pt x="89" y="96"/>
                  </a:lnTo>
                  <a:lnTo>
                    <a:pt x="86" y="88"/>
                  </a:lnTo>
                  <a:lnTo>
                    <a:pt x="83" y="79"/>
                  </a:lnTo>
                  <a:lnTo>
                    <a:pt x="83" y="71"/>
                  </a:lnTo>
                  <a:lnTo>
                    <a:pt x="82" y="62"/>
                  </a:lnTo>
                  <a:lnTo>
                    <a:pt x="81" y="54"/>
                  </a:lnTo>
                  <a:lnTo>
                    <a:pt x="78" y="46"/>
                  </a:lnTo>
                  <a:lnTo>
                    <a:pt x="74" y="38"/>
                  </a:lnTo>
                  <a:lnTo>
                    <a:pt x="64" y="39"/>
                  </a:lnTo>
                  <a:lnTo>
                    <a:pt x="55" y="39"/>
                  </a:lnTo>
                  <a:lnTo>
                    <a:pt x="47" y="39"/>
                  </a:lnTo>
                  <a:lnTo>
                    <a:pt x="38" y="41"/>
                  </a:lnTo>
                  <a:lnTo>
                    <a:pt x="28" y="41"/>
                  </a:lnTo>
                  <a:lnTo>
                    <a:pt x="19" y="41"/>
                  </a:lnTo>
                  <a:lnTo>
                    <a:pt x="11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5" y="21"/>
                  </a:lnTo>
                  <a:lnTo>
                    <a:pt x="91" y="15"/>
                  </a:lnTo>
                  <a:lnTo>
                    <a:pt x="168" y="13"/>
                  </a:lnTo>
                  <a:lnTo>
                    <a:pt x="243" y="10"/>
                  </a:lnTo>
                  <a:lnTo>
                    <a:pt x="319" y="7"/>
                  </a:lnTo>
                  <a:lnTo>
                    <a:pt x="395" y="6"/>
                  </a:lnTo>
                  <a:lnTo>
                    <a:pt x="472" y="4"/>
                  </a:lnTo>
                  <a:lnTo>
                    <a:pt x="548" y="3"/>
                  </a:lnTo>
                  <a:lnTo>
                    <a:pt x="626" y="0"/>
                  </a:lnTo>
                  <a:lnTo>
                    <a:pt x="631" y="2"/>
                  </a:lnTo>
                  <a:lnTo>
                    <a:pt x="637" y="2"/>
                  </a:lnTo>
                  <a:lnTo>
                    <a:pt x="642" y="3"/>
                  </a:lnTo>
                  <a:lnTo>
                    <a:pt x="647" y="4"/>
                  </a:lnTo>
                  <a:lnTo>
                    <a:pt x="651" y="7"/>
                  </a:lnTo>
                  <a:lnTo>
                    <a:pt x="655" y="10"/>
                  </a:lnTo>
                  <a:lnTo>
                    <a:pt x="659" y="14"/>
                  </a:lnTo>
                  <a:lnTo>
                    <a:pt x="66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51000" y="6058800"/>
              <a:ext cx="164520" cy="18000"/>
            </a:xfrm>
            <a:custGeom>
              <a:avLst/>
              <a:gdLst/>
              <a:ahLst/>
              <a:rect l="l" t="t" r="r" b="b"/>
              <a:pathLst>
                <a:path w="361" h="41">
                  <a:moveTo>
                    <a:pt x="361" y="0"/>
                  </a:moveTo>
                  <a:lnTo>
                    <a:pt x="359" y="4"/>
                  </a:lnTo>
                  <a:lnTo>
                    <a:pt x="356" y="7"/>
                  </a:lnTo>
                  <a:lnTo>
                    <a:pt x="355" y="9"/>
                  </a:lnTo>
                  <a:lnTo>
                    <a:pt x="353" y="13"/>
                  </a:lnTo>
                  <a:lnTo>
                    <a:pt x="353" y="16"/>
                  </a:lnTo>
                  <a:lnTo>
                    <a:pt x="353" y="20"/>
                  </a:lnTo>
                  <a:lnTo>
                    <a:pt x="353" y="23"/>
                  </a:lnTo>
                  <a:lnTo>
                    <a:pt x="355" y="27"/>
                  </a:lnTo>
                  <a:lnTo>
                    <a:pt x="310" y="28"/>
                  </a:lnTo>
                  <a:lnTo>
                    <a:pt x="266" y="28"/>
                  </a:lnTo>
                  <a:lnTo>
                    <a:pt x="222" y="29"/>
                  </a:lnTo>
                  <a:lnTo>
                    <a:pt x="178" y="29"/>
                  </a:lnTo>
                  <a:lnTo>
                    <a:pt x="135" y="31"/>
                  </a:lnTo>
                  <a:lnTo>
                    <a:pt x="91" y="32"/>
                  </a:lnTo>
                  <a:lnTo>
                    <a:pt x="46" y="35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5" y="21"/>
                  </a:lnTo>
                  <a:lnTo>
                    <a:pt x="8" y="19"/>
                  </a:lnTo>
                  <a:lnTo>
                    <a:pt x="12" y="16"/>
                  </a:lnTo>
                  <a:lnTo>
                    <a:pt x="16" y="13"/>
                  </a:lnTo>
                  <a:lnTo>
                    <a:pt x="60" y="11"/>
                  </a:lnTo>
                  <a:lnTo>
                    <a:pt x="103" y="8"/>
                  </a:lnTo>
                  <a:lnTo>
                    <a:pt x="146" y="5"/>
                  </a:lnTo>
                  <a:lnTo>
                    <a:pt x="187" y="3"/>
                  </a:lnTo>
                  <a:lnTo>
                    <a:pt x="230" y="1"/>
                  </a:lnTo>
                  <a:lnTo>
                    <a:pt x="273" y="0"/>
                  </a:lnTo>
                  <a:lnTo>
                    <a:pt x="316" y="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17320" y="6067800"/>
              <a:ext cx="3960" cy="2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2"/>
                  </a:move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61320" y="6073200"/>
              <a:ext cx="325080" cy="90720"/>
            </a:xfrm>
            <a:custGeom>
              <a:avLst/>
              <a:gdLst/>
              <a:ahLst/>
              <a:rect l="l" t="t" r="r" b="b"/>
              <a:pathLst>
                <a:path w="710" h="207">
                  <a:moveTo>
                    <a:pt x="702" y="0"/>
                  </a:moveTo>
                  <a:lnTo>
                    <a:pt x="710" y="22"/>
                  </a:lnTo>
                  <a:lnTo>
                    <a:pt x="365" y="33"/>
                  </a:lnTo>
                  <a:lnTo>
                    <a:pt x="367" y="52"/>
                  </a:lnTo>
                  <a:lnTo>
                    <a:pt x="369" y="71"/>
                  </a:lnTo>
                  <a:lnTo>
                    <a:pt x="371" y="89"/>
                  </a:lnTo>
                  <a:lnTo>
                    <a:pt x="373" y="108"/>
                  </a:lnTo>
                  <a:lnTo>
                    <a:pt x="376" y="128"/>
                  </a:lnTo>
                  <a:lnTo>
                    <a:pt x="379" y="147"/>
                  </a:lnTo>
                  <a:lnTo>
                    <a:pt x="382" y="166"/>
                  </a:lnTo>
                  <a:lnTo>
                    <a:pt x="386" y="184"/>
                  </a:lnTo>
                  <a:lnTo>
                    <a:pt x="388" y="186"/>
                  </a:lnTo>
                  <a:lnTo>
                    <a:pt x="391" y="187"/>
                  </a:lnTo>
                  <a:lnTo>
                    <a:pt x="392" y="189"/>
                  </a:lnTo>
                  <a:lnTo>
                    <a:pt x="394" y="191"/>
                  </a:lnTo>
                  <a:lnTo>
                    <a:pt x="394" y="194"/>
                  </a:lnTo>
                  <a:lnTo>
                    <a:pt x="395" y="197"/>
                  </a:lnTo>
                  <a:lnTo>
                    <a:pt x="395" y="199"/>
                  </a:lnTo>
                  <a:lnTo>
                    <a:pt x="396" y="202"/>
                  </a:lnTo>
                  <a:lnTo>
                    <a:pt x="394" y="205"/>
                  </a:lnTo>
                  <a:lnTo>
                    <a:pt x="390" y="207"/>
                  </a:lnTo>
                  <a:lnTo>
                    <a:pt x="386" y="207"/>
                  </a:lnTo>
                  <a:lnTo>
                    <a:pt x="382" y="207"/>
                  </a:lnTo>
                  <a:lnTo>
                    <a:pt x="377" y="207"/>
                  </a:lnTo>
                  <a:lnTo>
                    <a:pt x="375" y="206"/>
                  </a:lnTo>
                  <a:lnTo>
                    <a:pt x="371" y="205"/>
                  </a:lnTo>
                  <a:lnTo>
                    <a:pt x="368" y="202"/>
                  </a:lnTo>
                  <a:lnTo>
                    <a:pt x="360" y="194"/>
                  </a:lnTo>
                  <a:lnTo>
                    <a:pt x="349" y="84"/>
                  </a:lnTo>
                  <a:lnTo>
                    <a:pt x="347" y="79"/>
                  </a:lnTo>
                  <a:lnTo>
                    <a:pt x="344" y="73"/>
                  </a:lnTo>
                  <a:lnTo>
                    <a:pt x="341" y="67"/>
                  </a:lnTo>
                  <a:lnTo>
                    <a:pt x="340" y="61"/>
                  </a:lnTo>
                  <a:lnTo>
                    <a:pt x="339" y="55"/>
                  </a:lnTo>
                  <a:lnTo>
                    <a:pt x="336" y="48"/>
                  </a:lnTo>
                  <a:lnTo>
                    <a:pt x="335" y="43"/>
                  </a:lnTo>
                  <a:lnTo>
                    <a:pt x="332" y="36"/>
                  </a:lnTo>
                  <a:lnTo>
                    <a:pt x="290" y="35"/>
                  </a:lnTo>
                  <a:lnTo>
                    <a:pt x="249" y="36"/>
                  </a:lnTo>
                  <a:lnTo>
                    <a:pt x="207" y="39"/>
                  </a:lnTo>
                  <a:lnTo>
                    <a:pt x="166" y="41"/>
                  </a:lnTo>
                  <a:lnTo>
                    <a:pt x="124" y="45"/>
                  </a:lnTo>
                  <a:lnTo>
                    <a:pt x="83" y="48"/>
                  </a:lnTo>
                  <a:lnTo>
                    <a:pt x="41" y="51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2" y="40"/>
                  </a:lnTo>
                  <a:lnTo>
                    <a:pt x="4" y="37"/>
                  </a:lnTo>
                  <a:lnTo>
                    <a:pt x="6" y="35"/>
                  </a:lnTo>
                  <a:lnTo>
                    <a:pt x="9" y="32"/>
                  </a:lnTo>
                  <a:lnTo>
                    <a:pt x="12" y="31"/>
                  </a:lnTo>
                  <a:lnTo>
                    <a:pt x="14" y="29"/>
                  </a:lnTo>
                  <a:lnTo>
                    <a:pt x="64" y="24"/>
                  </a:lnTo>
                  <a:lnTo>
                    <a:pt x="114" y="21"/>
                  </a:lnTo>
                  <a:lnTo>
                    <a:pt x="162" y="17"/>
                  </a:lnTo>
                  <a:lnTo>
                    <a:pt x="210" y="14"/>
                  </a:lnTo>
                  <a:lnTo>
                    <a:pt x="258" y="12"/>
                  </a:lnTo>
                  <a:lnTo>
                    <a:pt x="306" y="9"/>
                  </a:lnTo>
                  <a:lnTo>
                    <a:pt x="356" y="6"/>
                  </a:lnTo>
                  <a:lnTo>
                    <a:pt x="406" y="2"/>
                  </a:lnTo>
                  <a:lnTo>
                    <a:pt x="444" y="4"/>
                  </a:lnTo>
                  <a:lnTo>
                    <a:pt x="481" y="4"/>
                  </a:lnTo>
                  <a:lnTo>
                    <a:pt x="518" y="2"/>
                  </a:lnTo>
                  <a:lnTo>
                    <a:pt x="554" y="2"/>
                  </a:lnTo>
                  <a:lnTo>
                    <a:pt x="591" y="1"/>
                  </a:lnTo>
                  <a:lnTo>
                    <a:pt x="627" y="0"/>
                  </a:lnTo>
                  <a:lnTo>
                    <a:pt x="664" y="0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29560" y="6095520"/>
              <a:ext cx="111960" cy="43560"/>
            </a:xfrm>
            <a:custGeom>
              <a:avLst/>
              <a:gdLst/>
              <a:ahLst/>
              <a:rect l="l" t="t" r="r" b="b"/>
              <a:pathLst>
                <a:path w="245" h="99">
                  <a:moveTo>
                    <a:pt x="238" y="31"/>
                  </a:moveTo>
                  <a:lnTo>
                    <a:pt x="240" y="35"/>
                  </a:lnTo>
                  <a:lnTo>
                    <a:pt x="242" y="40"/>
                  </a:lnTo>
                  <a:lnTo>
                    <a:pt x="244" y="45"/>
                  </a:lnTo>
                  <a:lnTo>
                    <a:pt x="245" y="52"/>
                  </a:lnTo>
                  <a:lnTo>
                    <a:pt x="245" y="58"/>
                  </a:lnTo>
                  <a:lnTo>
                    <a:pt x="245" y="63"/>
                  </a:lnTo>
                  <a:lnTo>
                    <a:pt x="245" y="68"/>
                  </a:lnTo>
                  <a:lnTo>
                    <a:pt x="245" y="74"/>
                  </a:lnTo>
                  <a:lnTo>
                    <a:pt x="241" y="72"/>
                  </a:lnTo>
                  <a:lnTo>
                    <a:pt x="237" y="74"/>
                  </a:lnTo>
                  <a:lnTo>
                    <a:pt x="233" y="75"/>
                  </a:lnTo>
                  <a:lnTo>
                    <a:pt x="230" y="78"/>
                  </a:lnTo>
                  <a:lnTo>
                    <a:pt x="229" y="82"/>
                  </a:lnTo>
                  <a:lnTo>
                    <a:pt x="228" y="86"/>
                  </a:lnTo>
                  <a:lnTo>
                    <a:pt x="226" y="88"/>
                  </a:lnTo>
                  <a:lnTo>
                    <a:pt x="225" y="91"/>
                  </a:lnTo>
                  <a:lnTo>
                    <a:pt x="213" y="92"/>
                  </a:lnTo>
                  <a:lnTo>
                    <a:pt x="201" y="95"/>
                  </a:lnTo>
                  <a:lnTo>
                    <a:pt x="189" y="96"/>
                  </a:lnTo>
                  <a:lnTo>
                    <a:pt x="175" y="98"/>
                  </a:lnTo>
                  <a:lnTo>
                    <a:pt x="163" y="99"/>
                  </a:lnTo>
                  <a:lnTo>
                    <a:pt x="150" y="99"/>
                  </a:lnTo>
                  <a:lnTo>
                    <a:pt x="138" y="98"/>
                  </a:lnTo>
                  <a:lnTo>
                    <a:pt x="126" y="96"/>
                  </a:lnTo>
                  <a:lnTo>
                    <a:pt x="110" y="94"/>
                  </a:lnTo>
                  <a:lnTo>
                    <a:pt x="94" y="90"/>
                  </a:lnTo>
                  <a:lnTo>
                    <a:pt x="77" y="88"/>
                  </a:lnTo>
                  <a:lnTo>
                    <a:pt x="63" y="86"/>
                  </a:lnTo>
                  <a:lnTo>
                    <a:pt x="47" y="82"/>
                  </a:lnTo>
                  <a:lnTo>
                    <a:pt x="31" y="79"/>
                  </a:lnTo>
                  <a:lnTo>
                    <a:pt x="16" y="75"/>
                  </a:lnTo>
                  <a:lnTo>
                    <a:pt x="0" y="71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4" y="43"/>
                  </a:lnTo>
                  <a:lnTo>
                    <a:pt x="20" y="33"/>
                  </a:lnTo>
                  <a:lnTo>
                    <a:pt x="27" y="24"/>
                  </a:lnTo>
                  <a:lnTo>
                    <a:pt x="33" y="16"/>
                  </a:lnTo>
                  <a:lnTo>
                    <a:pt x="41" y="8"/>
                  </a:lnTo>
                  <a:lnTo>
                    <a:pt x="48" y="0"/>
                  </a:lnTo>
                  <a:lnTo>
                    <a:pt x="72" y="4"/>
                  </a:lnTo>
                  <a:lnTo>
                    <a:pt x="95" y="9"/>
                  </a:lnTo>
                  <a:lnTo>
                    <a:pt x="119" y="15"/>
                  </a:lnTo>
                  <a:lnTo>
                    <a:pt x="142" y="21"/>
                  </a:lnTo>
                  <a:lnTo>
                    <a:pt x="165" y="27"/>
                  </a:lnTo>
                  <a:lnTo>
                    <a:pt x="189" y="29"/>
                  </a:lnTo>
                  <a:lnTo>
                    <a:pt x="201" y="31"/>
                  </a:lnTo>
                  <a:lnTo>
                    <a:pt x="213" y="32"/>
                  </a:lnTo>
                  <a:lnTo>
                    <a:pt x="225" y="31"/>
                  </a:lnTo>
                  <a:lnTo>
                    <a:pt x="238" y="31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55560" y="6104880"/>
              <a:ext cx="105480" cy="35280"/>
            </a:xfrm>
            <a:custGeom>
              <a:avLst/>
              <a:gdLst/>
              <a:ahLst/>
              <a:rect l="l" t="t" r="r" b="b"/>
              <a:pathLst>
                <a:path w="230" h="81">
                  <a:moveTo>
                    <a:pt x="230" y="24"/>
                  </a:moveTo>
                  <a:lnTo>
                    <a:pt x="230" y="39"/>
                  </a:lnTo>
                  <a:lnTo>
                    <a:pt x="225" y="41"/>
                  </a:lnTo>
                  <a:lnTo>
                    <a:pt x="221" y="42"/>
                  </a:lnTo>
                  <a:lnTo>
                    <a:pt x="217" y="45"/>
                  </a:lnTo>
                  <a:lnTo>
                    <a:pt x="213" y="47"/>
                  </a:lnTo>
                  <a:lnTo>
                    <a:pt x="210" y="49"/>
                  </a:lnTo>
                  <a:lnTo>
                    <a:pt x="206" y="51"/>
                  </a:lnTo>
                  <a:lnTo>
                    <a:pt x="201" y="53"/>
                  </a:lnTo>
                  <a:lnTo>
                    <a:pt x="197" y="53"/>
                  </a:lnTo>
                  <a:lnTo>
                    <a:pt x="189" y="63"/>
                  </a:lnTo>
                  <a:lnTo>
                    <a:pt x="167" y="67"/>
                  </a:lnTo>
                  <a:lnTo>
                    <a:pt x="144" y="70"/>
                  </a:lnTo>
                  <a:lnTo>
                    <a:pt x="123" y="74"/>
                  </a:lnTo>
                  <a:lnTo>
                    <a:pt x="102" y="77"/>
                  </a:lnTo>
                  <a:lnTo>
                    <a:pt x="80" y="79"/>
                  </a:lnTo>
                  <a:lnTo>
                    <a:pt x="57" y="81"/>
                  </a:lnTo>
                  <a:lnTo>
                    <a:pt x="36" y="79"/>
                  </a:lnTo>
                  <a:lnTo>
                    <a:pt x="13" y="78"/>
                  </a:lnTo>
                  <a:lnTo>
                    <a:pt x="9" y="74"/>
                  </a:lnTo>
                  <a:lnTo>
                    <a:pt x="6" y="71"/>
                  </a:lnTo>
                  <a:lnTo>
                    <a:pt x="5" y="67"/>
                  </a:lnTo>
                  <a:lnTo>
                    <a:pt x="4" y="63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2" y="37"/>
                  </a:lnTo>
                  <a:lnTo>
                    <a:pt x="2" y="27"/>
                  </a:lnTo>
                  <a:lnTo>
                    <a:pt x="2" y="18"/>
                  </a:lnTo>
                  <a:lnTo>
                    <a:pt x="0" y="10"/>
                  </a:lnTo>
                  <a:lnTo>
                    <a:pt x="27" y="11"/>
                  </a:lnTo>
                  <a:lnTo>
                    <a:pt x="53" y="11"/>
                  </a:lnTo>
                  <a:lnTo>
                    <a:pt x="80" y="8"/>
                  </a:lnTo>
                  <a:lnTo>
                    <a:pt x="107" y="4"/>
                  </a:lnTo>
                  <a:lnTo>
                    <a:pt x="134" y="2"/>
                  </a:lnTo>
                  <a:lnTo>
                    <a:pt x="161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201" y="2"/>
                  </a:lnTo>
                  <a:lnTo>
                    <a:pt x="214" y="3"/>
                  </a:lnTo>
                  <a:lnTo>
                    <a:pt x="230" y="24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9200" y="6111360"/>
              <a:ext cx="35280" cy="43560"/>
            </a:xfrm>
            <a:custGeom>
              <a:avLst/>
              <a:gdLst/>
              <a:ahLst/>
              <a:rect l="l" t="t" r="r" b="b"/>
              <a:pathLst>
                <a:path w="77" h="100">
                  <a:moveTo>
                    <a:pt x="65" y="10"/>
                  </a:moveTo>
                  <a:lnTo>
                    <a:pt x="70" y="16"/>
                  </a:lnTo>
                  <a:lnTo>
                    <a:pt x="73" y="23"/>
                  </a:lnTo>
                  <a:lnTo>
                    <a:pt x="75" y="29"/>
                  </a:lnTo>
                  <a:lnTo>
                    <a:pt x="77" y="36"/>
                  </a:lnTo>
                  <a:lnTo>
                    <a:pt x="77" y="44"/>
                  </a:lnTo>
                  <a:lnTo>
                    <a:pt x="77" y="51"/>
                  </a:lnTo>
                  <a:lnTo>
                    <a:pt x="77" y="59"/>
                  </a:lnTo>
                  <a:lnTo>
                    <a:pt x="77" y="67"/>
                  </a:lnTo>
                  <a:lnTo>
                    <a:pt x="74" y="68"/>
                  </a:lnTo>
                  <a:lnTo>
                    <a:pt x="71" y="69"/>
                  </a:lnTo>
                  <a:lnTo>
                    <a:pt x="70" y="71"/>
                  </a:lnTo>
                  <a:lnTo>
                    <a:pt x="69" y="72"/>
                  </a:lnTo>
                  <a:lnTo>
                    <a:pt x="67" y="77"/>
                  </a:lnTo>
                  <a:lnTo>
                    <a:pt x="67" y="83"/>
                  </a:lnTo>
                  <a:lnTo>
                    <a:pt x="67" y="88"/>
                  </a:lnTo>
                  <a:lnTo>
                    <a:pt x="66" y="93"/>
                  </a:lnTo>
                  <a:lnTo>
                    <a:pt x="65" y="96"/>
                  </a:lnTo>
                  <a:lnTo>
                    <a:pt x="63" y="97"/>
                  </a:lnTo>
                  <a:lnTo>
                    <a:pt x="61" y="99"/>
                  </a:lnTo>
                  <a:lnTo>
                    <a:pt x="57" y="100"/>
                  </a:lnTo>
                  <a:lnTo>
                    <a:pt x="50" y="96"/>
                  </a:lnTo>
                  <a:lnTo>
                    <a:pt x="43" y="95"/>
                  </a:lnTo>
                  <a:lnTo>
                    <a:pt x="35" y="93"/>
                  </a:lnTo>
                  <a:lnTo>
                    <a:pt x="27" y="92"/>
                  </a:lnTo>
                  <a:lnTo>
                    <a:pt x="20" y="91"/>
                  </a:lnTo>
                  <a:lnTo>
                    <a:pt x="14" y="88"/>
                  </a:lnTo>
                  <a:lnTo>
                    <a:pt x="7" y="83"/>
                  </a:lnTo>
                  <a:lnTo>
                    <a:pt x="3" y="77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1" y="2"/>
                  </a:lnTo>
                  <a:lnTo>
                    <a:pt x="59" y="5"/>
                  </a:lnTo>
                  <a:lnTo>
                    <a:pt x="6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16880" y="6112440"/>
              <a:ext cx="223560" cy="82800"/>
            </a:xfrm>
            <a:custGeom>
              <a:avLst/>
              <a:gdLst/>
              <a:ahLst/>
              <a:rect l="l" t="t" r="r" b="b"/>
              <a:pathLst>
                <a:path w="489" h="190">
                  <a:moveTo>
                    <a:pt x="202" y="43"/>
                  </a:moveTo>
                  <a:lnTo>
                    <a:pt x="199" y="47"/>
                  </a:lnTo>
                  <a:lnTo>
                    <a:pt x="194" y="52"/>
                  </a:lnTo>
                  <a:lnTo>
                    <a:pt x="190" y="57"/>
                  </a:lnTo>
                  <a:lnTo>
                    <a:pt x="184" y="64"/>
                  </a:lnTo>
                  <a:lnTo>
                    <a:pt x="180" y="71"/>
                  </a:lnTo>
                  <a:lnTo>
                    <a:pt x="178" y="77"/>
                  </a:lnTo>
                  <a:lnTo>
                    <a:pt x="178" y="85"/>
                  </a:lnTo>
                  <a:lnTo>
                    <a:pt x="179" y="93"/>
                  </a:lnTo>
                  <a:lnTo>
                    <a:pt x="180" y="96"/>
                  </a:lnTo>
                  <a:lnTo>
                    <a:pt x="183" y="100"/>
                  </a:lnTo>
                  <a:lnTo>
                    <a:pt x="184" y="102"/>
                  </a:lnTo>
                  <a:lnTo>
                    <a:pt x="187" y="104"/>
                  </a:lnTo>
                  <a:lnTo>
                    <a:pt x="191" y="106"/>
                  </a:lnTo>
                  <a:lnTo>
                    <a:pt x="194" y="107"/>
                  </a:lnTo>
                  <a:lnTo>
                    <a:pt x="198" y="108"/>
                  </a:lnTo>
                  <a:lnTo>
                    <a:pt x="202" y="108"/>
                  </a:lnTo>
                  <a:lnTo>
                    <a:pt x="206" y="107"/>
                  </a:lnTo>
                  <a:lnTo>
                    <a:pt x="207" y="104"/>
                  </a:lnTo>
                  <a:lnTo>
                    <a:pt x="207" y="102"/>
                  </a:lnTo>
                  <a:lnTo>
                    <a:pt x="206" y="99"/>
                  </a:lnTo>
                  <a:lnTo>
                    <a:pt x="205" y="96"/>
                  </a:lnTo>
                  <a:lnTo>
                    <a:pt x="205" y="92"/>
                  </a:lnTo>
                  <a:lnTo>
                    <a:pt x="206" y="91"/>
                  </a:lnTo>
                  <a:lnTo>
                    <a:pt x="209" y="88"/>
                  </a:lnTo>
                  <a:lnTo>
                    <a:pt x="209" y="83"/>
                  </a:lnTo>
                  <a:lnTo>
                    <a:pt x="209" y="79"/>
                  </a:lnTo>
                  <a:lnTo>
                    <a:pt x="210" y="76"/>
                  </a:lnTo>
                  <a:lnTo>
                    <a:pt x="213" y="75"/>
                  </a:lnTo>
                  <a:lnTo>
                    <a:pt x="217" y="73"/>
                  </a:lnTo>
                  <a:lnTo>
                    <a:pt x="219" y="72"/>
                  </a:lnTo>
                  <a:lnTo>
                    <a:pt x="223" y="71"/>
                  </a:lnTo>
                  <a:lnTo>
                    <a:pt x="227" y="69"/>
                  </a:lnTo>
                  <a:lnTo>
                    <a:pt x="257" y="75"/>
                  </a:lnTo>
                  <a:lnTo>
                    <a:pt x="289" y="80"/>
                  </a:lnTo>
                  <a:lnTo>
                    <a:pt x="320" y="84"/>
                  </a:lnTo>
                  <a:lnTo>
                    <a:pt x="352" y="88"/>
                  </a:lnTo>
                  <a:lnTo>
                    <a:pt x="383" y="91"/>
                  </a:lnTo>
                  <a:lnTo>
                    <a:pt x="415" y="89"/>
                  </a:lnTo>
                  <a:lnTo>
                    <a:pt x="430" y="89"/>
                  </a:lnTo>
                  <a:lnTo>
                    <a:pt x="446" y="87"/>
                  </a:lnTo>
                  <a:lnTo>
                    <a:pt x="460" y="84"/>
                  </a:lnTo>
                  <a:lnTo>
                    <a:pt x="475" y="80"/>
                  </a:lnTo>
                  <a:lnTo>
                    <a:pt x="478" y="92"/>
                  </a:lnTo>
                  <a:lnTo>
                    <a:pt x="481" y="106"/>
                  </a:lnTo>
                  <a:lnTo>
                    <a:pt x="483" y="118"/>
                  </a:lnTo>
                  <a:lnTo>
                    <a:pt x="486" y="130"/>
                  </a:lnTo>
                  <a:lnTo>
                    <a:pt x="487" y="143"/>
                  </a:lnTo>
                  <a:lnTo>
                    <a:pt x="489" y="155"/>
                  </a:lnTo>
                  <a:lnTo>
                    <a:pt x="489" y="167"/>
                  </a:lnTo>
                  <a:lnTo>
                    <a:pt x="487" y="181"/>
                  </a:lnTo>
                  <a:lnTo>
                    <a:pt x="478" y="185"/>
                  </a:lnTo>
                  <a:lnTo>
                    <a:pt x="454" y="187"/>
                  </a:lnTo>
                  <a:lnTo>
                    <a:pt x="430" y="189"/>
                  </a:lnTo>
                  <a:lnTo>
                    <a:pt x="407" y="190"/>
                  </a:lnTo>
                  <a:lnTo>
                    <a:pt x="383" y="190"/>
                  </a:lnTo>
                  <a:lnTo>
                    <a:pt x="360" y="189"/>
                  </a:lnTo>
                  <a:lnTo>
                    <a:pt x="336" y="186"/>
                  </a:lnTo>
                  <a:lnTo>
                    <a:pt x="313" y="183"/>
                  </a:lnTo>
                  <a:lnTo>
                    <a:pt x="290" y="181"/>
                  </a:lnTo>
                  <a:lnTo>
                    <a:pt x="268" y="175"/>
                  </a:lnTo>
                  <a:lnTo>
                    <a:pt x="245" y="171"/>
                  </a:lnTo>
                  <a:lnTo>
                    <a:pt x="222" y="164"/>
                  </a:lnTo>
                  <a:lnTo>
                    <a:pt x="199" y="158"/>
                  </a:lnTo>
                  <a:lnTo>
                    <a:pt x="178" y="151"/>
                  </a:lnTo>
                  <a:lnTo>
                    <a:pt x="156" y="143"/>
                  </a:lnTo>
                  <a:lnTo>
                    <a:pt x="135" y="135"/>
                  </a:lnTo>
                  <a:lnTo>
                    <a:pt x="115" y="127"/>
                  </a:lnTo>
                  <a:lnTo>
                    <a:pt x="101" y="123"/>
                  </a:lnTo>
                  <a:lnTo>
                    <a:pt x="88" y="119"/>
                  </a:lnTo>
                  <a:lnTo>
                    <a:pt x="75" y="115"/>
                  </a:lnTo>
                  <a:lnTo>
                    <a:pt x="60" y="111"/>
                  </a:lnTo>
                  <a:lnTo>
                    <a:pt x="46" y="108"/>
                  </a:lnTo>
                  <a:lnTo>
                    <a:pt x="33" y="106"/>
                  </a:lnTo>
                  <a:lnTo>
                    <a:pt x="20" y="104"/>
                  </a:lnTo>
                  <a:lnTo>
                    <a:pt x="5" y="103"/>
                  </a:lnTo>
                  <a:lnTo>
                    <a:pt x="1" y="93"/>
                  </a:lnTo>
                  <a:lnTo>
                    <a:pt x="0" y="83"/>
                  </a:lnTo>
                  <a:lnTo>
                    <a:pt x="1" y="72"/>
                  </a:lnTo>
                  <a:lnTo>
                    <a:pt x="2" y="61"/>
                  </a:lnTo>
                  <a:lnTo>
                    <a:pt x="5" y="52"/>
                  </a:lnTo>
                  <a:lnTo>
                    <a:pt x="9" y="43"/>
                  </a:lnTo>
                  <a:lnTo>
                    <a:pt x="13" y="33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21" y="23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3" y="12"/>
                  </a:lnTo>
                  <a:lnTo>
                    <a:pt x="24" y="4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95" y="2"/>
                  </a:lnTo>
                  <a:lnTo>
                    <a:pt x="117" y="8"/>
                  </a:lnTo>
                  <a:lnTo>
                    <a:pt x="139" y="14"/>
                  </a:lnTo>
                  <a:lnTo>
                    <a:pt x="160" y="23"/>
                  </a:lnTo>
                  <a:lnTo>
                    <a:pt x="182" y="32"/>
                  </a:lnTo>
                  <a:lnTo>
                    <a:pt x="202" y="43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70360" y="6117840"/>
              <a:ext cx="13680" cy="27720"/>
            </a:xfrm>
            <a:custGeom>
              <a:avLst/>
              <a:gdLst/>
              <a:ahLst/>
              <a:rect l="l" t="t" r="r" b="b"/>
              <a:pathLst>
                <a:path w="31" h="63">
                  <a:moveTo>
                    <a:pt x="28" y="19"/>
                  </a:moveTo>
                  <a:lnTo>
                    <a:pt x="31" y="24"/>
                  </a:lnTo>
                  <a:lnTo>
                    <a:pt x="31" y="31"/>
                  </a:lnTo>
                  <a:lnTo>
                    <a:pt x="31" y="36"/>
                  </a:lnTo>
                  <a:lnTo>
                    <a:pt x="29" y="42"/>
                  </a:lnTo>
                  <a:lnTo>
                    <a:pt x="27" y="47"/>
                  </a:lnTo>
                  <a:lnTo>
                    <a:pt x="24" y="52"/>
                  </a:lnTo>
                  <a:lnTo>
                    <a:pt x="23" y="58"/>
                  </a:lnTo>
                  <a:lnTo>
                    <a:pt x="20" y="63"/>
                  </a:lnTo>
                  <a:lnTo>
                    <a:pt x="17" y="60"/>
                  </a:lnTo>
                  <a:lnTo>
                    <a:pt x="15" y="58"/>
                  </a:lnTo>
                  <a:lnTo>
                    <a:pt x="12" y="56"/>
                  </a:lnTo>
                  <a:lnTo>
                    <a:pt x="8" y="54"/>
                  </a:lnTo>
                  <a:lnTo>
                    <a:pt x="7" y="51"/>
                  </a:lnTo>
                  <a:lnTo>
                    <a:pt x="4" y="48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6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7" y="16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53040" y="6119280"/>
              <a:ext cx="144000" cy="66960"/>
            </a:xfrm>
            <a:custGeom>
              <a:avLst/>
              <a:gdLst/>
              <a:ahLst/>
              <a:rect l="l" t="t" r="r" b="b"/>
              <a:pathLst>
                <a:path w="315" h="152">
                  <a:moveTo>
                    <a:pt x="305" y="36"/>
                  </a:moveTo>
                  <a:lnTo>
                    <a:pt x="307" y="83"/>
                  </a:lnTo>
                  <a:lnTo>
                    <a:pt x="313" y="83"/>
                  </a:lnTo>
                  <a:lnTo>
                    <a:pt x="314" y="87"/>
                  </a:lnTo>
                  <a:lnTo>
                    <a:pt x="315" y="92"/>
                  </a:lnTo>
                  <a:lnTo>
                    <a:pt x="315" y="98"/>
                  </a:lnTo>
                  <a:lnTo>
                    <a:pt x="315" y="103"/>
                  </a:lnTo>
                  <a:lnTo>
                    <a:pt x="315" y="108"/>
                  </a:lnTo>
                  <a:lnTo>
                    <a:pt x="315" y="114"/>
                  </a:lnTo>
                  <a:lnTo>
                    <a:pt x="314" y="119"/>
                  </a:lnTo>
                  <a:lnTo>
                    <a:pt x="313" y="123"/>
                  </a:lnTo>
                  <a:lnTo>
                    <a:pt x="307" y="118"/>
                  </a:lnTo>
                  <a:lnTo>
                    <a:pt x="303" y="115"/>
                  </a:lnTo>
                  <a:lnTo>
                    <a:pt x="298" y="112"/>
                  </a:lnTo>
                  <a:lnTo>
                    <a:pt x="294" y="111"/>
                  </a:lnTo>
                  <a:lnTo>
                    <a:pt x="288" y="111"/>
                  </a:lnTo>
                  <a:lnTo>
                    <a:pt x="283" y="111"/>
                  </a:lnTo>
                  <a:lnTo>
                    <a:pt x="278" y="112"/>
                  </a:lnTo>
                  <a:lnTo>
                    <a:pt x="274" y="114"/>
                  </a:lnTo>
                  <a:lnTo>
                    <a:pt x="263" y="118"/>
                  </a:lnTo>
                  <a:lnTo>
                    <a:pt x="254" y="123"/>
                  </a:lnTo>
                  <a:lnTo>
                    <a:pt x="243" y="128"/>
                  </a:lnTo>
                  <a:lnTo>
                    <a:pt x="233" y="131"/>
                  </a:lnTo>
                  <a:lnTo>
                    <a:pt x="219" y="131"/>
                  </a:lnTo>
                  <a:lnTo>
                    <a:pt x="204" y="132"/>
                  </a:lnTo>
                  <a:lnTo>
                    <a:pt x="191" y="134"/>
                  </a:lnTo>
                  <a:lnTo>
                    <a:pt x="176" y="135"/>
                  </a:lnTo>
                  <a:lnTo>
                    <a:pt x="149" y="140"/>
                  </a:lnTo>
                  <a:lnTo>
                    <a:pt x="121" y="146"/>
                  </a:lnTo>
                  <a:lnTo>
                    <a:pt x="94" y="150"/>
                  </a:lnTo>
                  <a:lnTo>
                    <a:pt x="66" y="152"/>
                  </a:lnTo>
                  <a:lnTo>
                    <a:pt x="53" y="152"/>
                  </a:lnTo>
                  <a:lnTo>
                    <a:pt x="39" y="151"/>
                  </a:lnTo>
                  <a:lnTo>
                    <a:pt x="24" y="150"/>
                  </a:lnTo>
                  <a:lnTo>
                    <a:pt x="11" y="146"/>
                  </a:lnTo>
                  <a:lnTo>
                    <a:pt x="7" y="139"/>
                  </a:lnTo>
                  <a:lnTo>
                    <a:pt x="4" y="131"/>
                  </a:lnTo>
                  <a:lnTo>
                    <a:pt x="3" y="124"/>
                  </a:lnTo>
                  <a:lnTo>
                    <a:pt x="3" y="116"/>
                  </a:lnTo>
                  <a:lnTo>
                    <a:pt x="3" y="108"/>
                  </a:lnTo>
                  <a:lnTo>
                    <a:pt x="3" y="100"/>
                  </a:lnTo>
                  <a:lnTo>
                    <a:pt x="3" y="92"/>
                  </a:lnTo>
                  <a:lnTo>
                    <a:pt x="0" y="84"/>
                  </a:lnTo>
                  <a:lnTo>
                    <a:pt x="7" y="82"/>
                  </a:lnTo>
                  <a:lnTo>
                    <a:pt x="14" y="80"/>
                  </a:lnTo>
                  <a:lnTo>
                    <a:pt x="20" y="79"/>
                  </a:lnTo>
                  <a:lnTo>
                    <a:pt x="27" y="77"/>
                  </a:lnTo>
                  <a:lnTo>
                    <a:pt x="41" y="77"/>
                  </a:lnTo>
                  <a:lnTo>
                    <a:pt x="54" y="77"/>
                  </a:lnTo>
                  <a:lnTo>
                    <a:pt x="69" y="77"/>
                  </a:lnTo>
                  <a:lnTo>
                    <a:pt x="81" y="76"/>
                  </a:lnTo>
                  <a:lnTo>
                    <a:pt x="87" y="75"/>
                  </a:lnTo>
                  <a:lnTo>
                    <a:pt x="94" y="72"/>
                  </a:lnTo>
                  <a:lnTo>
                    <a:pt x="100" y="69"/>
                  </a:lnTo>
                  <a:lnTo>
                    <a:pt x="106" y="64"/>
                  </a:lnTo>
                  <a:lnTo>
                    <a:pt x="118" y="63"/>
                  </a:lnTo>
                  <a:lnTo>
                    <a:pt x="132" y="61"/>
                  </a:lnTo>
                  <a:lnTo>
                    <a:pt x="144" y="59"/>
                  </a:lnTo>
                  <a:lnTo>
                    <a:pt x="156" y="56"/>
                  </a:lnTo>
                  <a:lnTo>
                    <a:pt x="169" y="52"/>
                  </a:lnTo>
                  <a:lnTo>
                    <a:pt x="181" y="49"/>
                  </a:lnTo>
                  <a:lnTo>
                    <a:pt x="195" y="48"/>
                  </a:lnTo>
                  <a:lnTo>
                    <a:pt x="208" y="47"/>
                  </a:lnTo>
                  <a:lnTo>
                    <a:pt x="211" y="53"/>
                  </a:lnTo>
                  <a:lnTo>
                    <a:pt x="213" y="60"/>
                  </a:lnTo>
                  <a:lnTo>
                    <a:pt x="216" y="67"/>
                  </a:lnTo>
                  <a:lnTo>
                    <a:pt x="220" y="73"/>
                  </a:lnTo>
                  <a:lnTo>
                    <a:pt x="224" y="79"/>
                  </a:lnTo>
                  <a:lnTo>
                    <a:pt x="229" y="84"/>
                  </a:lnTo>
                  <a:lnTo>
                    <a:pt x="236" y="88"/>
                  </a:lnTo>
                  <a:lnTo>
                    <a:pt x="243" y="90"/>
                  </a:lnTo>
                  <a:lnTo>
                    <a:pt x="246" y="90"/>
                  </a:lnTo>
                  <a:lnTo>
                    <a:pt x="248" y="90"/>
                  </a:lnTo>
                  <a:lnTo>
                    <a:pt x="251" y="88"/>
                  </a:lnTo>
                  <a:lnTo>
                    <a:pt x="252" y="88"/>
                  </a:lnTo>
                  <a:lnTo>
                    <a:pt x="255" y="87"/>
                  </a:lnTo>
                  <a:lnTo>
                    <a:pt x="256" y="84"/>
                  </a:lnTo>
                  <a:lnTo>
                    <a:pt x="256" y="83"/>
                  </a:lnTo>
                  <a:lnTo>
                    <a:pt x="256" y="80"/>
                  </a:lnTo>
                  <a:lnTo>
                    <a:pt x="254" y="73"/>
                  </a:lnTo>
                  <a:lnTo>
                    <a:pt x="250" y="65"/>
                  </a:lnTo>
                  <a:lnTo>
                    <a:pt x="246" y="59"/>
                  </a:lnTo>
                  <a:lnTo>
                    <a:pt x="243" y="52"/>
                  </a:lnTo>
                  <a:lnTo>
                    <a:pt x="240" y="44"/>
                  </a:lnTo>
                  <a:lnTo>
                    <a:pt x="239" y="37"/>
                  </a:lnTo>
                  <a:lnTo>
                    <a:pt x="239" y="35"/>
                  </a:lnTo>
                  <a:lnTo>
                    <a:pt x="239" y="32"/>
                  </a:lnTo>
                  <a:lnTo>
                    <a:pt x="242" y="29"/>
                  </a:lnTo>
                  <a:lnTo>
                    <a:pt x="243" y="27"/>
                  </a:lnTo>
                  <a:lnTo>
                    <a:pt x="247" y="24"/>
                  </a:lnTo>
                  <a:lnTo>
                    <a:pt x="251" y="23"/>
                  </a:lnTo>
                  <a:lnTo>
                    <a:pt x="255" y="24"/>
                  </a:lnTo>
                  <a:lnTo>
                    <a:pt x="259" y="25"/>
                  </a:lnTo>
                  <a:lnTo>
                    <a:pt x="263" y="27"/>
                  </a:lnTo>
                  <a:lnTo>
                    <a:pt x="266" y="25"/>
                  </a:lnTo>
                  <a:lnTo>
                    <a:pt x="268" y="24"/>
                  </a:lnTo>
                  <a:lnTo>
                    <a:pt x="272" y="19"/>
                  </a:lnTo>
                  <a:lnTo>
                    <a:pt x="274" y="0"/>
                  </a:lnTo>
                  <a:lnTo>
                    <a:pt x="280" y="3"/>
                  </a:lnTo>
                  <a:lnTo>
                    <a:pt x="286" y="5"/>
                  </a:lnTo>
                  <a:lnTo>
                    <a:pt x="290" y="9"/>
                  </a:lnTo>
                  <a:lnTo>
                    <a:pt x="294" y="15"/>
                  </a:lnTo>
                  <a:lnTo>
                    <a:pt x="296" y="20"/>
                  </a:lnTo>
                  <a:lnTo>
                    <a:pt x="299" y="25"/>
                  </a:lnTo>
                  <a:lnTo>
                    <a:pt x="302" y="32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60040" y="6137640"/>
              <a:ext cx="540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21200" y="6166800"/>
              <a:ext cx="220680" cy="48600"/>
            </a:xfrm>
            <a:custGeom>
              <a:avLst/>
              <a:gdLst/>
              <a:ahLst/>
              <a:rect l="l" t="t" r="r" b="b"/>
              <a:pathLst>
                <a:path w="482" h="113">
                  <a:moveTo>
                    <a:pt x="253" y="84"/>
                  </a:moveTo>
                  <a:lnTo>
                    <a:pt x="262" y="83"/>
                  </a:lnTo>
                  <a:lnTo>
                    <a:pt x="273" y="83"/>
                  </a:lnTo>
                  <a:lnTo>
                    <a:pt x="282" y="84"/>
                  </a:lnTo>
                  <a:lnTo>
                    <a:pt x="293" y="85"/>
                  </a:lnTo>
                  <a:lnTo>
                    <a:pt x="302" y="88"/>
                  </a:lnTo>
                  <a:lnTo>
                    <a:pt x="313" y="91"/>
                  </a:lnTo>
                  <a:lnTo>
                    <a:pt x="322" y="93"/>
                  </a:lnTo>
                  <a:lnTo>
                    <a:pt x="332" y="96"/>
                  </a:lnTo>
                  <a:lnTo>
                    <a:pt x="351" y="97"/>
                  </a:lnTo>
                  <a:lnTo>
                    <a:pt x="369" y="97"/>
                  </a:lnTo>
                  <a:lnTo>
                    <a:pt x="388" y="96"/>
                  </a:lnTo>
                  <a:lnTo>
                    <a:pt x="406" y="95"/>
                  </a:lnTo>
                  <a:lnTo>
                    <a:pt x="424" y="93"/>
                  </a:lnTo>
                  <a:lnTo>
                    <a:pt x="442" y="93"/>
                  </a:lnTo>
                  <a:lnTo>
                    <a:pt x="460" y="93"/>
                  </a:lnTo>
                  <a:lnTo>
                    <a:pt x="479" y="93"/>
                  </a:lnTo>
                  <a:lnTo>
                    <a:pt x="482" y="95"/>
                  </a:lnTo>
                  <a:lnTo>
                    <a:pt x="482" y="96"/>
                  </a:lnTo>
                  <a:lnTo>
                    <a:pt x="482" y="97"/>
                  </a:lnTo>
                  <a:lnTo>
                    <a:pt x="482" y="100"/>
                  </a:lnTo>
                  <a:lnTo>
                    <a:pt x="482" y="101"/>
                  </a:lnTo>
                  <a:lnTo>
                    <a:pt x="482" y="103"/>
                  </a:lnTo>
                  <a:lnTo>
                    <a:pt x="482" y="105"/>
                  </a:lnTo>
                  <a:lnTo>
                    <a:pt x="482" y="107"/>
                  </a:lnTo>
                  <a:lnTo>
                    <a:pt x="435" y="111"/>
                  </a:lnTo>
                  <a:lnTo>
                    <a:pt x="387" y="113"/>
                  </a:lnTo>
                  <a:lnTo>
                    <a:pt x="339" y="113"/>
                  </a:lnTo>
                  <a:lnTo>
                    <a:pt x="289" y="112"/>
                  </a:lnTo>
                  <a:lnTo>
                    <a:pt x="241" y="108"/>
                  </a:lnTo>
                  <a:lnTo>
                    <a:pt x="191" y="103"/>
                  </a:lnTo>
                  <a:lnTo>
                    <a:pt x="144" y="95"/>
                  </a:lnTo>
                  <a:lnTo>
                    <a:pt x="97" y="85"/>
                  </a:lnTo>
                  <a:lnTo>
                    <a:pt x="85" y="81"/>
                  </a:lnTo>
                  <a:lnTo>
                    <a:pt x="75" y="77"/>
                  </a:lnTo>
                  <a:lnTo>
                    <a:pt x="63" y="72"/>
                  </a:lnTo>
                  <a:lnTo>
                    <a:pt x="52" y="67"/>
                  </a:lnTo>
                  <a:lnTo>
                    <a:pt x="42" y="60"/>
                  </a:lnTo>
                  <a:lnTo>
                    <a:pt x="32" y="53"/>
                  </a:lnTo>
                  <a:lnTo>
                    <a:pt x="24" y="46"/>
                  </a:lnTo>
                  <a:lnTo>
                    <a:pt x="16" y="37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8" y="25"/>
                  </a:lnTo>
                  <a:lnTo>
                    <a:pt x="14" y="22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5" y="12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0"/>
                  </a:lnTo>
                  <a:lnTo>
                    <a:pt x="32" y="9"/>
                  </a:lnTo>
                  <a:lnTo>
                    <a:pt x="64" y="20"/>
                  </a:lnTo>
                  <a:lnTo>
                    <a:pt x="95" y="32"/>
                  </a:lnTo>
                  <a:lnTo>
                    <a:pt x="127" y="42"/>
                  </a:lnTo>
                  <a:lnTo>
                    <a:pt x="158" y="55"/>
                  </a:lnTo>
                  <a:lnTo>
                    <a:pt x="190" y="65"/>
                  </a:lnTo>
                  <a:lnTo>
                    <a:pt x="221" y="75"/>
                  </a:lnTo>
                  <a:lnTo>
                    <a:pt x="253" y="8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90360" y="6169320"/>
              <a:ext cx="59040" cy="24840"/>
            </a:xfrm>
            <a:custGeom>
              <a:avLst/>
              <a:gdLst/>
              <a:ahLst/>
              <a:rect l="l" t="t" r="r" b="b"/>
              <a:pathLst>
                <a:path w="128" h="57">
                  <a:moveTo>
                    <a:pt x="102" y="17"/>
                  </a:moveTo>
                  <a:lnTo>
                    <a:pt x="106" y="17"/>
                  </a:lnTo>
                  <a:lnTo>
                    <a:pt x="110" y="18"/>
                  </a:lnTo>
                  <a:lnTo>
                    <a:pt x="114" y="21"/>
                  </a:lnTo>
                  <a:lnTo>
                    <a:pt x="118" y="24"/>
                  </a:lnTo>
                  <a:lnTo>
                    <a:pt x="121" y="28"/>
                  </a:lnTo>
                  <a:lnTo>
                    <a:pt x="124" y="32"/>
                  </a:lnTo>
                  <a:lnTo>
                    <a:pt x="126" y="36"/>
                  </a:lnTo>
                  <a:lnTo>
                    <a:pt x="128" y="40"/>
                  </a:lnTo>
                  <a:lnTo>
                    <a:pt x="120" y="45"/>
                  </a:lnTo>
                  <a:lnTo>
                    <a:pt x="109" y="47"/>
                  </a:lnTo>
                  <a:lnTo>
                    <a:pt x="98" y="48"/>
                  </a:lnTo>
                  <a:lnTo>
                    <a:pt x="88" y="48"/>
                  </a:lnTo>
                  <a:lnTo>
                    <a:pt x="75" y="48"/>
                  </a:lnTo>
                  <a:lnTo>
                    <a:pt x="65" y="48"/>
                  </a:lnTo>
                  <a:lnTo>
                    <a:pt x="54" y="49"/>
                  </a:lnTo>
                  <a:lnTo>
                    <a:pt x="43" y="53"/>
                  </a:lnTo>
                  <a:lnTo>
                    <a:pt x="39" y="53"/>
                  </a:lnTo>
                  <a:lnTo>
                    <a:pt x="35" y="55"/>
                  </a:lnTo>
                  <a:lnTo>
                    <a:pt x="31" y="56"/>
                  </a:lnTo>
                  <a:lnTo>
                    <a:pt x="29" y="56"/>
                  </a:lnTo>
                  <a:lnTo>
                    <a:pt x="25" y="57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3" y="57"/>
                  </a:lnTo>
                  <a:lnTo>
                    <a:pt x="0" y="37"/>
                  </a:lnTo>
                  <a:lnTo>
                    <a:pt x="6" y="29"/>
                  </a:lnTo>
                  <a:lnTo>
                    <a:pt x="13" y="22"/>
                  </a:lnTo>
                  <a:lnTo>
                    <a:pt x="21" y="17"/>
                  </a:lnTo>
                  <a:lnTo>
                    <a:pt x="30" y="13"/>
                  </a:lnTo>
                  <a:lnTo>
                    <a:pt x="38" y="10"/>
                  </a:lnTo>
                  <a:lnTo>
                    <a:pt x="47" y="6"/>
                  </a:lnTo>
                  <a:lnTo>
                    <a:pt x="55" y="4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1" y="2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6" y="9"/>
                  </a:lnTo>
                  <a:lnTo>
                    <a:pt x="100" y="13"/>
                  </a:lnTo>
                  <a:lnTo>
                    <a:pt x="102" y="17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55560" y="6179760"/>
              <a:ext cx="139680" cy="30240"/>
            </a:xfrm>
            <a:custGeom>
              <a:avLst/>
              <a:gdLst/>
              <a:ahLst/>
              <a:rect l="l" t="t" r="r" b="b"/>
              <a:pathLst>
                <a:path w="307" h="69">
                  <a:moveTo>
                    <a:pt x="307" y="10"/>
                  </a:moveTo>
                  <a:lnTo>
                    <a:pt x="292" y="18"/>
                  </a:lnTo>
                  <a:lnTo>
                    <a:pt x="276" y="25"/>
                  </a:lnTo>
                  <a:lnTo>
                    <a:pt x="260" y="31"/>
                  </a:lnTo>
                  <a:lnTo>
                    <a:pt x="244" y="36"/>
                  </a:lnTo>
                  <a:lnTo>
                    <a:pt x="226" y="40"/>
                  </a:lnTo>
                  <a:lnTo>
                    <a:pt x="210" y="45"/>
                  </a:lnTo>
                  <a:lnTo>
                    <a:pt x="194" y="51"/>
                  </a:lnTo>
                  <a:lnTo>
                    <a:pt x="178" y="57"/>
                  </a:lnTo>
                  <a:lnTo>
                    <a:pt x="158" y="61"/>
                  </a:lnTo>
                  <a:lnTo>
                    <a:pt x="136" y="65"/>
                  </a:lnTo>
                  <a:lnTo>
                    <a:pt x="114" y="68"/>
                  </a:lnTo>
                  <a:lnTo>
                    <a:pt x="91" y="69"/>
                  </a:lnTo>
                  <a:lnTo>
                    <a:pt x="68" y="69"/>
                  </a:lnTo>
                  <a:lnTo>
                    <a:pt x="45" y="69"/>
                  </a:lnTo>
                  <a:lnTo>
                    <a:pt x="24" y="68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23" y="51"/>
                  </a:lnTo>
                  <a:lnTo>
                    <a:pt x="35" y="48"/>
                  </a:lnTo>
                  <a:lnTo>
                    <a:pt x="47" y="47"/>
                  </a:lnTo>
                  <a:lnTo>
                    <a:pt x="57" y="44"/>
                  </a:lnTo>
                  <a:lnTo>
                    <a:pt x="69" y="43"/>
                  </a:lnTo>
                  <a:lnTo>
                    <a:pt x="81" y="41"/>
                  </a:lnTo>
                  <a:lnTo>
                    <a:pt x="95" y="41"/>
                  </a:lnTo>
                  <a:lnTo>
                    <a:pt x="104" y="37"/>
                  </a:lnTo>
                  <a:lnTo>
                    <a:pt x="112" y="35"/>
                  </a:lnTo>
                  <a:lnTo>
                    <a:pt x="122" y="33"/>
                  </a:lnTo>
                  <a:lnTo>
                    <a:pt x="131" y="32"/>
                  </a:lnTo>
                  <a:lnTo>
                    <a:pt x="140" y="32"/>
                  </a:lnTo>
                  <a:lnTo>
                    <a:pt x="151" y="32"/>
                  </a:lnTo>
                  <a:lnTo>
                    <a:pt x="161" y="32"/>
                  </a:lnTo>
                  <a:lnTo>
                    <a:pt x="171" y="31"/>
                  </a:lnTo>
                  <a:lnTo>
                    <a:pt x="178" y="33"/>
                  </a:lnTo>
                  <a:lnTo>
                    <a:pt x="183" y="32"/>
                  </a:lnTo>
                  <a:lnTo>
                    <a:pt x="189" y="31"/>
                  </a:lnTo>
                  <a:lnTo>
                    <a:pt x="194" y="27"/>
                  </a:lnTo>
                  <a:lnTo>
                    <a:pt x="199" y="24"/>
                  </a:lnTo>
                  <a:lnTo>
                    <a:pt x="206" y="23"/>
                  </a:lnTo>
                  <a:lnTo>
                    <a:pt x="211" y="21"/>
                  </a:lnTo>
                  <a:lnTo>
                    <a:pt x="219" y="24"/>
                  </a:lnTo>
                  <a:lnTo>
                    <a:pt x="222" y="20"/>
                  </a:lnTo>
                  <a:lnTo>
                    <a:pt x="225" y="18"/>
                  </a:lnTo>
                  <a:lnTo>
                    <a:pt x="227" y="18"/>
                  </a:lnTo>
                  <a:lnTo>
                    <a:pt x="232" y="18"/>
                  </a:lnTo>
                  <a:lnTo>
                    <a:pt x="236" y="18"/>
                  </a:lnTo>
                  <a:lnTo>
                    <a:pt x="240" y="18"/>
                  </a:lnTo>
                  <a:lnTo>
                    <a:pt x="242" y="17"/>
                  </a:lnTo>
                  <a:lnTo>
                    <a:pt x="245" y="16"/>
                  </a:lnTo>
                  <a:lnTo>
                    <a:pt x="268" y="4"/>
                  </a:lnTo>
                  <a:lnTo>
                    <a:pt x="273" y="2"/>
                  </a:lnTo>
                  <a:lnTo>
                    <a:pt x="278" y="4"/>
                  </a:lnTo>
                  <a:lnTo>
                    <a:pt x="282" y="4"/>
                  </a:lnTo>
                  <a:lnTo>
                    <a:pt x="288" y="5"/>
                  </a:lnTo>
                  <a:lnTo>
                    <a:pt x="293" y="5"/>
                  </a:lnTo>
                  <a:lnTo>
                    <a:pt x="297" y="5"/>
                  </a:lnTo>
                  <a:lnTo>
                    <a:pt x="303" y="4"/>
                  </a:lnTo>
                  <a:lnTo>
                    <a:pt x="307" y="0"/>
                  </a:lnTo>
                  <a:lnTo>
                    <a:pt x="307" y="1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72800" y="5157720"/>
              <a:ext cx="423720" cy="328320"/>
            </a:xfrm>
            <a:custGeom>
              <a:avLst/>
              <a:gdLst/>
              <a:ahLst/>
              <a:rect l="l" t="t" r="r" b="b"/>
              <a:pathLst>
                <a:path w="925" h="747">
                  <a:moveTo>
                    <a:pt x="0" y="249"/>
                  </a:moveTo>
                  <a:lnTo>
                    <a:pt x="12" y="256"/>
                  </a:lnTo>
                  <a:lnTo>
                    <a:pt x="27" y="268"/>
                  </a:lnTo>
                  <a:lnTo>
                    <a:pt x="46" y="285"/>
                  </a:lnTo>
                  <a:lnTo>
                    <a:pt x="65" y="305"/>
                  </a:lnTo>
                  <a:lnTo>
                    <a:pt x="85" y="325"/>
                  </a:lnTo>
                  <a:lnTo>
                    <a:pt x="102" y="344"/>
                  </a:lnTo>
                  <a:lnTo>
                    <a:pt x="116" y="359"/>
                  </a:lnTo>
                  <a:lnTo>
                    <a:pt x="124" y="371"/>
                  </a:lnTo>
                  <a:lnTo>
                    <a:pt x="129" y="372"/>
                  </a:lnTo>
                  <a:lnTo>
                    <a:pt x="138" y="375"/>
                  </a:lnTo>
                  <a:lnTo>
                    <a:pt x="150" y="380"/>
                  </a:lnTo>
                  <a:lnTo>
                    <a:pt x="164" y="387"/>
                  </a:lnTo>
                  <a:lnTo>
                    <a:pt x="196" y="404"/>
                  </a:lnTo>
                  <a:lnTo>
                    <a:pt x="232" y="425"/>
                  </a:lnTo>
                  <a:lnTo>
                    <a:pt x="267" y="445"/>
                  </a:lnTo>
                  <a:lnTo>
                    <a:pt x="296" y="465"/>
                  </a:lnTo>
                  <a:lnTo>
                    <a:pt x="308" y="473"/>
                  </a:lnTo>
                  <a:lnTo>
                    <a:pt x="317" y="481"/>
                  </a:lnTo>
                  <a:lnTo>
                    <a:pt x="323" y="486"/>
                  </a:lnTo>
                  <a:lnTo>
                    <a:pt x="325" y="490"/>
                  </a:lnTo>
                  <a:lnTo>
                    <a:pt x="330" y="491"/>
                  </a:lnTo>
                  <a:lnTo>
                    <a:pt x="334" y="491"/>
                  </a:lnTo>
                  <a:lnTo>
                    <a:pt x="339" y="491"/>
                  </a:lnTo>
                  <a:lnTo>
                    <a:pt x="343" y="493"/>
                  </a:lnTo>
                  <a:lnTo>
                    <a:pt x="347" y="494"/>
                  </a:lnTo>
                  <a:lnTo>
                    <a:pt x="351" y="494"/>
                  </a:lnTo>
                  <a:lnTo>
                    <a:pt x="355" y="494"/>
                  </a:lnTo>
                  <a:lnTo>
                    <a:pt x="359" y="496"/>
                  </a:lnTo>
                  <a:lnTo>
                    <a:pt x="362" y="497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8"/>
                  </a:lnTo>
                  <a:lnTo>
                    <a:pt x="379" y="510"/>
                  </a:lnTo>
                  <a:lnTo>
                    <a:pt x="385" y="514"/>
                  </a:lnTo>
                  <a:lnTo>
                    <a:pt x="390" y="516"/>
                  </a:lnTo>
                  <a:lnTo>
                    <a:pt x="393" y="517"/>
                  </a:lnTo>
                  <a:lnTo>
                    <a:pt x="394" y="518"/>
                  </a:lnTo>
                  <a:lnTo>
                    <a:pt x="394" y="520"/>
                  </a:lnTo>
                  <a:lnTo>
                    <a:pt x="394" y="521"/>
                  </a:lnTo>
                  <a:lnTo>
                    <a:pt x="396" y="522"/>
                  </a:lnTo>
                  <a:lnTo>
                    <a:pt x="397" y="525"/>
                  </a:lnTo>
                  <a:lnTo>
                    <a:pt x="397" y="526"/>
                  </a:lnTo>
                  <a:lnTo>
                    <a:pt x="397" y="528"/>
                  </a:lnTo>
                  <a:lnTo>
                    <a:pt x="398" y="529"/>
                  </a:lnTo>
                  <a:lnTo>
                    <a:pt x="405" y="532"/>
                  </a:lnTo>
                  <a:lnTo>
                    <a:pt x="416" y="540"/>
                  </a:lnTo>
                  <a:lnTo>
                    <a:pt x="429" y="552"/>
                  </a:lnTo>
                  <a:lnTo>
                    <a:pt x="444" y="565"/>
                  </a:lnTo>
                  <a:lnTo>
                    <a:pt x="459" y="580"/>
                  </a:lnTo>
                  <a:lnTo>
                    <a:pt x="471" y="592"/>
                  </a:lnTo>
                  <a:lnTo>
                    <a:pt x="479" y="604"/>
                  </a:lnTo>
                  <a:lnTo>
                    <a:pt x="484" y="611"/>
                  </a:lnTo>
                  <a:lnTo>
                    <a:pt x="487" y="611"/>
                  </a:lnTo>
                  <a:lnTo>
                    <a:pt x="489" y="613"/>
                  </a:lnTo>
                  <a:lnTo>
                    <a:pt x="493" y="615"/>
                  </a:lnTo>
                  <a:lnTo>
                    <a:pt x="496" y="617"/>
                  </a:lnTo>
                  <a:lnTo>
                    <a:pt x="500" y="620"/>
                  </a:lnTo>
                  <a:lnTo>
                    <a:pt x="503" y="621"/>
                  </a:lnTo>
                  <a:lnTo>
                    <a:pt x="505" y="623"/>
                  </a:lnTo>
                  <a:lnTo>
                    <a:pt x="509" y="624"/>
                  </a:lnTo>
                  <a:lnTo>
                    <a:pt x="512" y="628"/>
                  </a:lnTo>
                  <a:lnTo>
                    <a:pt x="516" y="632"/>
                  </a:lnTo>
                  <a:lnTo>
                    <a:pt x="520" y="637"/>
                  </a:lnTo>
                  <a:lnTo>
                    <a:pt x="526" y="640"/>
                  </a:lnTo>
                  <a:lnTo>
                    <a:pt x="538" y="648"/>
                  </a:lnTo>
                  <a:lnTo>
                    <a:pt x="551" y="655"/>
                  </a:lnTo>
                  <a:lnTo>
                    <a:pt x="564" y="662"/>
                  </a:lnTo>
                  <a:lnTo>
                    <a:pt x="576" y="667"/>
                  </a:lnTo>
                  <a:lnTo>
                    <a:pt x="587" y="674"/>
                  </a:lnTo>
                  <a:lnTo>
                    <a:pt x="595" y="679"/>
                  </a:lnTo>
                  <a:lnTo>
                    <a:pt x="601" y="680"/>
                  </a:lnTo>
                  <a:lnTo>
                    <a:pt x="607" y="682"/>
                  </a:lnTo>
                  <a:lnTo>
                    <a:pt x="614" y="684"/>
                  </a:lnTo>
                  <a:lnTo>
                    <a:pt x="621" y="687"/>
                  </a:lnTo>
                  <a:lnTo>
                    <a:pt x="634" y="695"/>
                  </a:lnTo>
                  <a:lnTo>
                    <a:pt x="647" y="706"/>
                  </a:lnTo>
                  <a:lnTo>
                    <a:pt x="661" y="716"/>
                  </a:lnTo>
                  <a:lnTo>
                    <a:pt x="673" y="728"/>
                  </a:lnTo>
                  <a:lnTo>
                    <a:pt x="685" y="739"/>
                  </a:lnTo>
                  <a:lnTo>
                    <a:pt x="694" y="747"/>
                  </a:lnTo>
                  <a:lnTo>
                    <a:pt x="704" y="746"/>
                  </a:lnTo>
                  <a:lnTo>
                    <a:pt x="716" y="742"/>
                  </a:lnTo>
                  <a:lnTo>
                    <a:pt x="729" y="737"/>
                  </a:lnTo>
                  <a:lnTo>
                    <a:pt x="745" y="730"/>
                  </a:lnTo>
                  <a:lnTo>
                    <a:pt x="759" y="723"/>
                  </a:lnTo>
                  <a:lnTo>
                    <a:pt x="772" y="718"/>
                  </a:lnTo>
                  <a:lnTo>
                    <a:pt x="784" y="712"/>
                  </a:lnTo>
                  <a:lnTo>
                    <a:pt x="792" y="710"/>
                  </a:lnTo>
                  <a:lnTo>
                    <a:pt x="792" y="695"/>
                  </a:lnTo>
                  <a:lnTo>
                    <a:pt x="793" y="682"/>
                  </a:lnTo>
                  <a:lnTo>
                    <a:pt x="796" y="667"/>
                  </a:lnTo>
                  <a:lnTo>
                    <a:pt x="798" y="652"/>
                  </a:lnTo>
                  <a:lnTo>
                    <a:pt x="804" y="624"/>
                  </a:lnTo>
                  <a:lnTo>
                    <a:pt x="814" y="596"/>
                  </a:lnTo>
                  <a:lnTo>
                    <a:pt x="823" y="568"/>
                  </a:lnTo>
                  <a:lnTo>
                    <a:pt x="835" y="538"/>
                  </a:lnTo>
                  <a:lnTo>
                    <a:pt x="846" y="510"/>
                  </a:lnTo>
                  <a:lnTo>
                    <a:pt x="859" y="482"/>
                  </a:lnTo>
                  <a:lnTo>
                    <a:pt x="883" y="427"/>
                  </a:lnTo>
                  <a:lnTo>
                    <a:pt x="905" y="374"/>
                  </a:lnTo>
                  <a:lnTo>
                    <a:pt x="913" y="347"/>
                  </a:lnTo>
                  <a:lnTo>
                    <a:pt x="919" y="321"/>
                  </a:lnTo>
                  <a:lnTo>
                    <a:pt x="923" y="296"/>
                  </a:lnTo>
                  <a:lnTo>
                    <a:pt x="925" y="272"/>
                  </a:lnTo>
                  <a:lnTo>
                    <a:pt x="923" y="272"/>
                  </a:lnTo>
                  <a:lnTo>
                    <a:pt x="922" y="272"/>
                  </a:lnTo>
                  <a:lnTo>
                    <a:pt x="921" y="271"/>
                  </a:lnTo>
                  <a:lnTo>
                    <a:pt x="921" y="269"/>
                  </a:lnTo>
                  <a:lnTo>
                    <a:pt x="921" y="269"/>
                  </a:lnTo>
                  <a:lnTo>
                    <a:pt x="921" y="268"/>
                  </a:lnTo>
                  <a:lnTo>
                    <a:pt x="919" y="268"/>
                  </a:lnTo>
                  <a:lnTo>
                    <a:pt x="917" y="268"/>
                  </a:lnTo>
                  <a:lnTo>
                    <a:pt x="915" y="264"/>
                  </a:lnTo>
                  <a:lnTo>
                    <a:pt x="913" y="260"/>
                  </a:lnTo>
                  <a:lnTo>
                    <a:pt x="909" y="257"/>
                  </a:lnTo>
                  <a:lnTo>
                    <a:pt x="903" y="255"/>
                  </a:lnTo>
                  <a:lnTo>
                    <a:pt x="899" y="252"/>
                  </a:lnTo>
                  <a:lnTo>
                    <a:pt x="895" y="249"/>
                  </a:lnTo>
                  <a:lnTo>
                    <a:pt x="893" y="246"/>
                  </a:lnTo>
                  <a:lnTo>
                    <a:pt x="891" y="242"/>
                  </a:lnTo>
                  <a:lnTo>
                    <a:pt x="883" y="241"/>
                  </a:lnTo>
                  <a:lnTo>
                    <a:pt x="874" y="240"/>
                  </a:lnTo>
                  <a:lnTo>
                    <a:pt x="864" y="237"/>
                  </a:lnTo>
                  <a:lnTo>
                    <a:pt x="855" y="234"/>
                  </a:lnTo>
                  <a:lnTo>
                    <a:pt x="836" y="226"/>
                  </a:lnTo>
                  <a:lnTo>
                    <a:pt x="816" y="217"/>
                  </a:lnTo>
                  <a:lnTo>
                    <a:pt x="798" y="208"/>
                  </a:lnTo>
                  <a:lnTo>
                    <a:pt x="779" y="198"/>
                  </a:lnTo>
                  <a:lnTo>
                    <a:pt x="761" y="192"/>
                  </a:lnTo>
                  <a:lnTo>
                    <a:pt x="745" y="186"/>
                  </a:lnTo>
                  <a:lnTo>
                    <a:pt x="741" y="180"/>
                  </a:lnTo>
                  <a:lnTo>
                    <a:pt x="735" y="173"/>
                  </a:lnTo>
                  <a:lnTo>
                    <a:pt x="728" y="167"/>
                  </a:lnTo>
                  <a:lnTo>
                    <a:pt x="718" y="161"/>
                  </a:lnTo>
                  <a:lnTo>
                    <a:pt x="698" y="149"/>
                  </a:lnTo>
                  <a:lnTo>
                    <a:pt x="674" y="135"/>
                  </a:lnTo>
                  <a:lnTo>
                    <a:pt x="650" y="125"/>
                  </a:lnTo>
                  <a:lnTo>
                    <a:pt x="627" y="113"/>
                  </a:lnTo>
                  <a:lnTo>
                    <a:pt x="606" y="102"/>
                  </a:lnTo>
                  <a:lnTo>
                    <a:pt x="591" y="93"/>
                  </a:lnTo>
                  <a:lnTo>
                    <a:pt x="591" y="87"/>
                  </a:lnTo>
                  <a:lnTo>
                    <a:pt x="578" y="83"/>
                  </a:lnTo>
                  <a:lnTo>
                    <a:pt x="578" y="82"/>
                  </a:lnTo>
                  <a:lnTo>
                    <a:pt x="576" y="79"/>
                  </a:lnTo>
                  <a:lnTo>
                    <a:pt x="575" y="78"/>
                  </a:lnTo>
                  <a:lnTo>
                    <a:pt x="572" y="75"/>
                  </a:lnTo>
                  <a:lnTo>
                    <a:pt x="571" y="74"/>
                  </a:lnTo>
                  <a:lnTo>
                    <a:pt x="568" y="72"/>
                  </a:lnTo>
                  <a:lnTo>
                    <a:pt x="567" y="71"/>
                  </a:lnTo>
                  <a:lnTo>
                    <a:pt x="564" y="71"/>
                  </a:lnTo>
                  <a:lnTo>
                    <a:pt x="560" y="66"/>
                  </a:lnTo>
                  <a:lnTo>
                    <a:pt x="559" y="59"/>
                  </a:lnTo>
                  <a:lnTo>
                    <a:pt x="556" y="51"/>
                  </a:lnTo>
                  <a:lnTo>
                    <a:pt x="552" y="43"/>
                  </a:lnTo>
                  <a:lnTo>
                    <a:pt x="547" y="34"/>
                  </a:lnTo>
                  <a:lnTo>
                    <a:pt x="542" y="26"/>
                  </a:lnTo>
                  <a:lnTo>
                    <a:pt x="538" y="16"/>
                  </a:lnTo>
                  <a:lnTo>
                    <a:pt x="534" y="10"/>
                  </a:lnTo>
                  <a:lnTo>
                    <a:pt x="531" y="1"/>
                  </a:lnTo>
                  <a:lnTo>
                    <a:pt x="519" y="1"/>
                  </a:lnTo>
                  <a:lnTo>
                    <a:pt x="505" y="3"/>
                  </a:lnTo>
                  <a:lnTo>
                    <a:pt x="493" y="3"/>
                  </a:lnTo>
                  <a:lnTo>
                    <a:pt x="480" y="3"/>
                  </a:lnTo>
                  <a:lnTo>
                    <a:pt x="468" y="3"/>
                  </a:lnTo>
                  <a:lnTo>
                    <a:pt x="455" y="3"/>
                  </a:lnTo>
                  <a:lnTo>
                    <a:pt x="442" y="1"/>
                  </a:lnTo>
                  <a:lnTo>
                    <a:pt x="432" y="0"/>
                  </a:lnTo>
                  <a:lnTo>
                    <a:pt x="430" y="24"/>
                  </a:lnTo>
                  <a:lnTo>
                    <a:pt x="430" y="47"/>
                  </a:lnTo>
                  <a:lnTo>
                    <a:pt x="432" y="67"/>
                  </a:lnTo>
                  <a:lnTo>
                    <a:pt x="433" y="87"/>
                  </a:lnTo>
                  <a:lnTo>
                    <a:pt x="434" y="106"/>
                  </a:lnTo>
                  <a:lnTo>
                    <a:pt x="434" y="125"/>
                  </a:lnTo>
                  <a:lnTo>
                    <a:pt x="433" y="145"/>
                  </a:lnTo>
                  <a:lnTo>
                    <a:pt x="429" y="165"/>
                  </a:lnTo>
                  <a:lnTo>
                    <a:pt x="429" y="167"/>
                  </a:lnTo>
                  <a:lnTo>
                    <a:pt x="428" y="172"/>
                  </a:lnTo>
                  <a:lnTo>
                    <a:pt x="422" y="174"/>
                  </a:lnTo>
                  <a:lnTo>
                    <a:pt x="416" y="176"/>
                  </a:lnTo>
                  <a:lnTo>
                    <a:pt x="397" y="180"/>
                  </a:lnTo>
                  <a:lnTo>
                    <a:pt x="373" y="182"/>
                  </a:lnTo>
                  <a:lnTo>
                    <a:pt x="342" y="182"/>
                  </a:lnTo>
                  <a:lnTo>
                    <a:pt x="308" y="182"/>
                  </a:lnTo>
                  <a:lnTo>
                    <a:pt x="271" y="182"/>
                  </a:lnTo>
                  <a:lnTo>
                    <a:pt x="232" y="181"/>
                  </a:lnTo>
                  <a:lnTo>
                    <a:pt x="156" y="177"/>
                  </a:lnTo>
                  <a:lnTo>
                    <a:pt x="87" y="173"/>
                  </a:lnTo>
                  <a:lnTo>
                    <a:pt x="37" y="169"/>
                  </a:lnTo>
                  <a:lnTo>
                    <a:pt x="14" y="169"/>
                  </a:lnTo>
                  <a:lnTo>
                    <a:pt x="11" y="180"/>
                  </a:lnTo>
                  <a:lnTo>
                    <a:pt x="10" y="189"/>
                  </a:lnTo>
                  <a:lnTo>
                    <a:pt x="7" y="198"/>
                  </a:lnTo>
                  <a:lnTo>
                    <a:pt x="4" y="208"/>
                  </a:lnTo>
                  <a:lnTo>
                    <a:pt x="3" y="217"/>
                  </a:lnTo>
                  <a:lnTo>
                    <a:pt x="2" y="228"/>
                  </a:lnTo>
                  <a:lnTo>
                    <a:pt x="0" y="237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72800" y="5157720"/>
              <a:ext cx="423720" cy="328320"/>
            </a:xfrm>
            <a:custGeom>
              <a:avLst/>
              <a:gdLst/>
              <a:ahLst/>
              <a:rect l="l" t="t" r="r" b="b"/>
              <a:pathLst>
                <a:path w="925" h="747">
                  <a:moveTo>
                    <a:pt x="0" y="249"/>
                  </a:moveTo>
                  <a:lnTo>
                    <a:pt x="12" y="256"/>
                  </a:lnTo>
                  <a:lnTo>
                    <a:pt x="27" y="268"/>
                  </a:lnTo>
                  <a:lnTo>
                    <a:pt x="46" y="285"/>
                  </a:lnTo>
                  <a:lnTo>
                    <a:pt x="65" y="305"/>
                  </a:lnTo>
                  <a:lnTo>
                    <a:pt x="85" y="325"/>
                  </a:lnTo>
                  <a:lnTo>
                    <a:pt x="102" y="344"/>
                  </a:lnTo>
                  <a:lnTo>
                    <a:pt x="116" y="359"/>
                  </a:lnTo>
                  <a:lnTo>
                    <a:pt x="124" y="371"/>
                  </a:lnTo>
                  <a:lnTo>
                    <a:pt x="129" y="372"/>
                  </a:lnTo>
                  <a:lnTo>
                    <a:pt x="138" y="375"/>
                  </a:lnTo>
                  <a:lnTo>
                    <a:pt x="150" y="380"/>
                  </a:lnTo>
                  <a:lnTo>
                    <a:pt x="164" y="387"/>
                  </a:lnTo>
                  <a:lnTo>
                    <a:pt x="196" y="404"/>
                  </a:lnTo>
                  <a:lnTo>
                    <a:pt x="232" y="425"/>
                  </a:lnTo>
                  <a:lnTo>
                    <a:pt x="267" y="445"/>
                  </a:lnTo>
                  <a:lnTo>
                    <a:pt x="296" y="465"/>
                  </a:lnTo>
                  <a:lnTo>
                    <a:pt x="308" y="473"/>
                  </a:lnTo>
                  <a:lnTo>
                    <a:pt x="317" y="481"/>
                  </a:lnTo>
                  <a:lnTo>
                    <a:pt x="323" y="486"/>
                  </a:lnTo>
                  <a:lnTo>
                    <a:pt x="325" y="490"/>
                  </a:lnTo>
                  <a:lnTo>
                    <a:pt x="330" y="491"/>
                  </a:lnTo>
                  <a:lnTo>
                    <a:pt x="334" y="491"/>
                  </a:lnTo>
                  <a:lnTo>
                    <a:pt x="339" y="491"/>
                  </a:lnTo>
                  <a:lnTo>
                    <a:pt x="343" y="493"/>
                  </a:lnTo>
                  <a:lnTo>
                    <a:pt x="347" y="494"/>
                  </a:lnTo>
                  <a:lnTo>
                    <a:pt x="351" y="494"/>
                  </a:lnTo>
                  <a:lnTo>
                    <a:pt x="355" y="494"/>
                  </a:lnTo>
                  <a:lnTo>
                    <a:pt x="359" y="496"/>
                  </a:lnTo>
                  <a:lnTo>
                    <a:pt x="362" y="497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8"/>
                  </a:lnTo>
                  <a:lnTo>
                    <a:pt x="379" y="510"/>
                  </a:lnTo>
                  <a:lnTo>
                    <a:pt x="385" y="514"/>
                  </a:lnTo>
                  <a:lnTo>
                    <a:pt x="390" y="516"/>
                  </a:lnTo>
                  <a:lnTo>
                    <a:pt x="393" y="517"/>
                  </a:lnTo>
                  <a:lnTo>
                    <a:pt x="394" y="518"/>
                  </a:lnTo>
                  <a:lnTo>
                    <a:pt x="394" y="520"/>
                  </a:lnTo>
                  <a:lnTo>
                    <a:pt x="394" y="521"/>
                  </a:lnTo>
                  <a:lnTo>
                    <a:pt x="396" y="522"/>
                  </a:lnTo>
                  <a:lnTo>
                    <a:pt x="397" y="525"/>
                  </a:lnTo>
                  <a:lnTo>
                    <a:pt x="397" y="526"/>
                  </a:lnTo>
                  <a:lnTo>
                    <a:pt x="397" y="528"/>
                  </a:lnTo>
                  <a:lnTo>
                    <a:pt x="398" y="529"/>
                  </a:lnTo>
                  <a:lnTo>
                    <a:pt x="405" y="532"/>
                  </a:lnTo>
                  <a:lnTo>
                    <a:pt x="416" y="540"/>
                  </a:lnTo>
                  <a:lnTo>
                    <a:pt x="429" y="552"/>
                  </a:lnTo>
                  <a:lnTo>
                    <a:pt x="444" y="565"/>
                  </a:lnTo>
                  <a:lnTo>
                    <a:pt x="459" y="580"/>
                  </a:lnTo>
                  <a:lnTo>
                    <a:pt x="471" y="592"/>
                  </a:lnTo>
                  <a:lnTo>
                    <a:pt x="479" y="604"/>
                  </a:lnTo>
                  <a:lnTo>
                    <a:pt x="484" y="611"/>
                  </a:lnTo>
                  <a:lnTo>
                    <a:pt x="487" y="611"/>
                  </a:lnTo>
                  <a:lnTo>
                    <a:pt x="489" y="613"/>
                  </a:lnTo>
                  <a:lnTo>
                    <a:pt x="493" y="615"/>
                  </a:lnTo>
                  <a:lnTo>
                    <a:pt x="496" y="617"/>
                  </a:lnTo>
                  <a:lnTo>
                    <a:pt x="500" y="620"/>
                  </a:lnTo>
                  <a:lnTo>
                    <a:pt x="503" y="621"/>
                  </a:lnTo>
                  <a:lnTo>
                    <a:pt x="505" y="623"/>
                  </a:lnTo>
                  <a:lnTo>
                    <a:pt x="509" y="624"/>
                  </a:lnTo>
                  <a:lnTo>
                    <a:pt x="512" y="628"/>
                  </a:lnTo>
                  <a:lnTo>
                    <a:pt x="516" y="632"/>
                  </a:lnTo>
                  <a:lnTo>
                    <a:pt x="520" y="637"/>
                  </a:lnTo>
                  <a:lnTo>
                    <a:pt x="526" y="640"/>
                  </a:lnTo>
                  <a:lnTo>
                    <a:pt x="538" y="648"/>
                  </a:lnTo>
                  <a:lnTo>
                    <a:pt x="551" y="655"/>
                  </a:lnTo>
                  <a:lnTo>
                    <a:pt x="564" y="662"/>
                  </a:lnTo>
                  <a:lnTo>
                    <a:pt x="576" y="667"/>
                  </a:lnTo>
                  <a:lnTo>
                    <a:pt x="587" y="674"/>
                  </a:lnTo>
                  <a:lnTo>
                    <a:pt x="595" y="679"/>
                  </a:lnTo>
                  <a:lnTo>
                    <a:pt x="601" y="680"/>
                  </a:lnTo>
                  <a:lnTo>
                    <a:pt x="607" y="682"/>
                  </a:lnTo>
                  <a:lnTo>
                    <a:pt x="614" y="684"/>
                  </a:lnTo>
                  <a:lnTo>
                    <a:pt x="621" y="687"/>
                  </a:lnTo>
                  <a:lnTo>
                    <a:pt x="634" y="695"/>
                  </a:lnTo>
                  <a:lnTo>
                    <a:pt x="647" y="706"/>
                  </a:lnTo>
                  <a:lnTo>
                    <a:pt x="661" y="716"/>
                  </a:lnTo>
                  <a:lnTo>
                    <a:pt x="673" y="728"/>
                  </a:lnTo>
                  <a:lnTo>
                    <a:pt x="685" y="739"/>
                  </a:lnTo>
                  <a:lnTo>
                    <a:pt x="694" y="747"/>
                  </a:lnTo>
                  <a:lnTo>
                    <a:pt x="704" y="746"/>
                  </a:lnTo>
                  <a:lnTo>
                    <a:pt x="716" y="742"/>
                  </a:lnTo>
                  <a:lnTo>
                    <a:pt x="729" y="737"/>
                  </a:lnTo>
                  <a:lnTo>
                    <a:pt x="745" y="730"/>
                  </a:lnTo>
                  <a:lnTo>
                    <a:pt x="759" y="723"/>
                  </a:lnTo>
                  <a:lnTo>
                    <a:pt x="772" y="718"/>
                  </a:lnTo>
                  <a:lnTo>
                    <a:pt x="784" y="712"/>
                  </a:lnTo>
                  <a:lnTo>
                    <a:pt x="792" y="710"/>
                  </a:lnTo>
                  <a:lnTo>
                    <a:pt x="792" y="695"/>
                  </a:lnTo>
                  <a:lnTo>
                    <a:pt x="793" y="682"/>
                  </a:lnTo>
                  <a:lnTo>
                    <a:pt x="796" y="667"/>
                  </a:lnTo>
                  <a:lnTo>
                    <a:pt x="798" y="652"/>
                  </a:lnTo>
                  <a:lnTo>
                    <a:pt x="804" y="624"/>
                  </a:lnTo>
                  <a:lnTo>
                    <a:pt x="814" y="596"/>
                  </a:lnTo>
                  <a:lnTo>
                    <a:pt x="823" y="568"/>
                  </a:lnTo>
                  <a:lnTo>
                    <a:pt x="835" y="538"/>
                  </a:lnTo>
                  <a:lnTo>
                    <a:pt x="846" y="510"/>
                  </a:lnTo>
                  <a:lnTo>
                    <a:pt x="859" y="482"/>
                  </a:lnTo>
                  <a:lnTo>
                    <a:pt x="883" y="427"/>
                  </a:lnTo>
                  <a:lnTo>
                    <a:pt x="905" y="374"/>
                  </a:lnTo>
                  <a:lnTo>
                    <a:pt x="913" y="347"/>
                  </a:lnTo>
                  <a:lnTo>
                    <a:pt x="919" y="321"/>
                  </a:lnTo>
                  <a:lnTo>
                    <a:pt x="923" y="296"/>
                  </a:lnTo>
                  <a:lnTo>
                    <a:pt x="925" y="272"/>
                  </a:lnTo>
                  <a:lnTo>
                    <a:pt x="923" y="272"/>
                  </a:lnTo>
                  <a:lnTo>
                    <a:pt x="922" y="272"/>
                  </a:lnTo>
                  <a:lnTo>
                    <a:pt x="921" y="271"/>
                  </a:lnTo>
                  <a:lnTo>
                    <a:pt x="921" y="269"/>
                  </a:lnTo>
                  <a:lnTo>
                    <a:pt x="921" y="269"/>
                  </a:lnTo>
                  <a:lnTo>
                    <a:pt x="921" y="268"/>
                  </a:lnTo>
                  <a:lnTo>
                    <a:pt x="919" y="268"/>
                  </a:lnTo>
                  <a:lnTo>
                    <a:pt x="917" y="268"/>
                  </a:lnTo>
                  <a:lnTo>
                    <a:pt x="915" y="264"/>
                  </a:lnTo>
                  <a:lnTo>
                    <a:pt x="913" y="260"/>
                  </a:lnTo>
                  <a:lnTo>
                    <a:pt x="909" y="257"/>
                  </a:lnTo>
                  <a:lnTo>
                    <a:pt x="903" y="255"/>
                  </a:lnTo>
                  <a:lnTo>
                    <a:pt x="899" y="252"/>
                  </a:lnTo>
                  <a:lnTo>
                    <a:pt x="895" y="249"/>
                  </a:lnTo>
                  <a:lnTo>
                    <a:pt x="893" y="246"/>
                  </a:lnTo>
                  <a:lnTo>
                    <a:pt x="891" y="242"/>
                  </a:lnTo>
                  <a:lnTo>
                    <a:pt x="883" y="241"/>
                  </a:lnTo>
                  <a:lnTo>
                    <a:pt x="874" y="240"/>
                  </a:lnTo>
                  <a:lnTo>
                    <a:pt x="864" y="237"/>
                  </a:lnTo>
                  <a:lnTo>
                    <a:pt x="855" y="234"/>
                  </a:lnTo>
                  <a:lnTo>
                    <a:pt x="836" y="226"/>
                  </a:lnTo>
                  <a:lnTo>
                    <a:pt x="816" y="217"/>
                  </a:lnTo>
                  <a:lnTo>
                    <a:pt x="798" y="208"/>
                  </a:lnTo>
                  <a:lnTo>
                    <a:pt x="779" y="198"/>
                  </a:lnTo>
                  <a:lnTo>
                    <a:pt x="761" y="192"/>
                  </a:lnTo>
                  <a:lnTo>
                    <a:pt x="745" y="186"/>
                  </a:lnTo>
                  <a:lnTo>
                    <a:pt x="741" y="180"/>
                  </a:lnTo>
                  <a:lnTo>
                    <a:pt x="735" y="173"/>
                  </a:lnTo>
                  <a:lnTo>
                    <a:pt x="728" y="167"/>
                  </a:lnTo>
                  <a:lnTo>
                    <a:pt x="718" y="161"/>
                  </a:lnTo>
                  <a:lnTo>
                    <a:pt x="698" y="149"/>
                  </a:lnTo>
                  <a:lnTo>
                    <a:pt x="674" y="135"/>
                  </a:lnTo>
                  <a:lnTo>
                    <a:pt x="650" y="125"/>
                  </a:lnTo>
                  <a:lnTo>
                    <a:pt x="627" y="113"/>
                  </a:lnTo>
                  <a:lnTo>
                    <a:pt x="606" y="102"/>
                  </a:lnTo>
                  <a:lnTo>
                    <a:pt x="591" y="93"/>
                  </a:lnTo>
                  <a:lnTo>
                    <a:pt x="591" y="87"/>
                  </a:lnTo>
                  <a:lnTo>
                    <a:pt x="578" y="83"/>
                  </a:lnTo>
                  <a:lnTo>
                    <a:pt x="578" y="82"/>
                  </a:lnTo>
                  <a:lnTo>
                    <a:pt x="576" y="79"/>
                  </a:lnTo>
                  <a:lnTo>
                    <a:pt x="575" y="78"/>
                  </a:lnTo>
                  <a:lnTo>
                    <a:pt x="572" y="75"/>
                  </a:lnTo>
                  <a:lnTo>
                    <a:pt x="571" y="74"/>
                  </a:lnTo>
                  <a:lnTo>
                    <a:pt x="568" y="72"/>
                  </a:lnTo>
                  <a:lnTo>
                    <a:pt x="567" y="71"/>
                  </a:lnTo>
                  <a:lnTo>
                    <a:pt x="564" y="71"/>
                  </a:lnTo>
                  <a:lnTo>
                    <a:pt x="560" y="66"/>
                  </a:lnTo>
                  <a:lnTo>
                    <a:pt x="559" y="59"/>
                  </a:lnTo>
                  <a:lnTo>
                    <a:pt x="556" y="51"/>
                  </a:lnTo>
                  <a:lnTo>
                    <a:pt x="552" y="43"/>
                  </a:lnTo>
                  <a:lnTo>
                    <a:pt x="547" y="34"/>
                  </a:lnTo>
                  <a:lnTo>
                    <a:pt x="542" y="26"/>
                  </a:lnTo>
                  <a:lnTo>
                    <a:pt x="538" y="16"/>
                  </a:lnTo>
                  <a:lnTo>
                    <a:pt x="534" y="10"/>
                  </a:lnTo>
                  <a:lnTo>
                    <a:pt x="531" y="1"/>
                  </a:lnTo>
                  <a:lnTo>
                    <a:pt x="519" y="1"/>
                  </a:lnTo>
                  <a:lnTo>
                    <a:pt x="505" y="3"/>
                  </a:lnTo>
                  <a:lnTo>
                    <a:pt x="493" y="3"/>
                  </a:lnTo>
                  <a:lnTo>
                    <a:pt x="480" y="3"/>
                  </a:lnTo>
                  <a:lnTo>
                    <a:pt x="468" y="3"/>
                  </a:lnTo>
                  <a:lnTo>
                    <a:pt x="455" y="3"/>
                  </a:lnTo>
                  <a:lnTo>
                    <a:pt x="442" y="1"/>
                  </a:lnTo>
                  <a:lnTo>
                    <a:pt x="432" y="0"/>
                  </a:lnTo>
                  <a:lnTo>
                    <a:pt x="432" y="1"/>
                  </a:lnTo>
                  <a:lnTo>
                    <a:pt x="432" y="3"/>
                  </a:lnTo>
                  <a:lnTo>
                    <a:pt x="432" y="3"/>
                  </a:lnTo>
                  <a:lnTo>
                    <a:pt x="432" y="4"/>
                  </a:lnTo>
                  <a:lnTo>
                    <a:pt x="430" y="5"/>
                  </a:lnTo>
                  <a:lnTo>
                    <a:pt x="430" y="7"/>
                  </a:lnTo>
                  <a:lnTo>
                    <a:pt x="430" y="8"/>
                  </a:lnTo>
                  <a:lnTo>
                    <a:pt x="430" y="8"/>
                  </a:lnTo>
                  <a:lnTo>
                    <a:pt x="433" y="8"/>
                  </a:lnTo>
                  <a:lnTo>
                    <a:pt x="433" y="78"/>
                  </a:lnTo>
                  <a:lnTo>
                    <a:pt x="433" y="87"/>
                  </a:lnTo>
                  <a:lnTo>
                    <a:pt x="434" y="97"/>
                  </a:lnTo>
                  <a:lnTo>
                    <a:pt x="434" y="106"/>
                  </a:lnTo>
                  <a:lnTo>
                    <a:pt x="434" y="114"/>
                  </a:lnTo>
                  <a:lnTo>
                    <a:pt x="436" y="123"/>
                  </a:lnTo>
                  <a:lnTo>
                    <a:pt x="434" y="133"/>
                  </a:lnTo>
                  <a:lnTo>
                    <a:pt x="434" y="142"/>
                  </a:lnTo>
                  <a:lnTo>
                    <a:pt x="433" y="151"/>
                  </a:lnTo>
                  <a:lnTo>
                    <a:pt x="433" y="169"/>
                  </a:lnTo>
                  <a:lnTo>
                    <a:pt x="429" y="167"/>
                  </a:lnTo>
                  <a:lnTo>
                    <a:pt x="428" y="172"/>
                  </a:lnTo>
                  <a:lnTo>
                    <a:pt x="422" y="174"/>
                  </a:lnTo>
                  <a:lnTo>
                    <a:pt x="417" y="176"/>
                  </a:lnTo>
                  <a:lnTo>
                    <a:pt x="409" y="178"/>
                  </a:lnTo>
                  <a:lnTo>
                    <a:pt x="388" y="181"/>
                  </a:lnTo>
                  <a:lnTo>
                    <a:pt x="362" y="182"/>
                  </a:lnTo>
                  <a:lnTo>
                    <a:pt x="296" y="182"/>
                  </a:lnTo>
                  <a:lnTo>
                    <a:pt x="223" y="180"/>
                  </a:lnTo>
                  <a:lnTo>
                    <a:pt x="149" y="176"/>
                  </a:lnTo>
                  <a:lnTo>
                    <a:pt x="83" y="172"/>
                  </a:lnTo>
                  <a:lnTo>
                    <a:pt x="35" y="169"/>
                  </a:lnTo>
                  <a:lnTo>
                    <a:pt x="14" y="169"/>
                  </a:lnTo>
                  <a:lnTo>
                    <a:pt x="11" y="180"/>
                  </a:lnTo>
                  <a:lnTo>
                    <a:pt x="10" y="189"/>
                  </a:lnTo>
                  <a:lnTo>
                    <a:pt x="7" y="198"/>
                  </a:lnTo>
                  <a:lnTo>
                    <a:pt x="4" y="208"/>
                  </a:lnTo>
                  <a:lnTo>
                    <a:pt x="3" y="217"/>
                  </a:lnTo>
                  <a:lnTo>
                    <a:pt x="2" y="228"/>
                  </a:lnTo>
                  <a:lnTo>
                    <a:pt x="0" y="237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cb9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72800" y="5157720"/>
              <a:ext cx="313920" cy="114480"/>
            </a:xfrm>
            <a:custGeom>
              <a:avLst/>
              <a:gdLst/>
              <a:ahLst/>
              <a:rect l="l" t="t" r="r" b="b"/>
              <a:pathLst>
                <a:path w="685" h="260">
                  <a:moveTo>
                    <a:pt x="593" y="94"/>
                  </a:moveTo>
                  <a:lnTo>
                    <a:pt x="594" y="111"/>
                  </a:lnTo>
                  <a:lnTo>
                    <a:pt x="594" y="129"/>
                  </a:lnTo>
                  <a:lnTo>
                    <a:pt x="597" y="145"/>
                  </a:lnTo>
                  <a:lnTo>
                    <a:pt x="598" y="162"/>
                  </a:lnTo>
                  <a:lnTo>
                    <a:pt x="601" y="180"/>
                  </a:lnTo>
                  <a:lnTo>
                    <a:pt x="603" y="197"/>
                  </a:lnTo>
                  <a:lnTo>
                    <a:pt x="607" y="214"/>
                  </a:lnTo>
                  <a:lnTo>
                    <a:pt x="611" y="232"/>
                  </a:lnTo>
                  <a:lnTo>
                    <a:pt x="660" y="233"/>
                  </a:lnTo>
                  <a:lnTo>
                    <a:pt x="661" y="237"/>
                  </a:lnTo>
                  <a:lnTo>
                    <a:pt x="665" y="238"/>
                  </a:lnTo>
                  <a:lnTo>
                    <a:pt x="669" y="238"/>
                  </a:lnTo>
                  <a:lnTo>
                    <a:pt x="673" y="238"/>
                  </a:lnTo>
                  <a:lnTo>
                    <a:pt x="678" y="238"/>
                  </a:lnTo>
                  <a:lnTo>
                    <a:pt x="681" y="240"/>
                  </a:lnTo>
                  <a:lnTo>
                    <a:pt x="684" y="241"/>
                  </a:lnTo>
                  <a:lnTo>
                    <a:pt x="685" y="246"/>
                  </a:lnTo>
                  <a:lnTo>
                    <a:pt x="673" y="246"/>
                  </a:lnTo>
                  <a:lnTo>
                    <a:pt x="662" y="248"/>
                  </a:lnTo>
                  <a:lnTo>
                    <a:pt x="653" y="249"/>
                  </a:lnTo>
                  <a:lnTo>
                    <a:pt x="643" y="252"/>
                  </a:lnTo>
                  <a:lnTo>
                    <a:pt x="634" y="253"/>
                  </a:lnTo>
                  <a:lnTo>
                    <a:pt x="625" y="255"/>
                  </a:lnTo>
                  <a:lnTo>
                    <a:pt x="614" y="255"/>
                  </a:lnTo>
                  <a:lnTo>
                    <a:pt x="603" y="255"/>
                  </a:lnTo>
                  <a:lnTo>
                    <a:pt x="601" y="257"/>
                  </a:lnTo>
                  <a:lnTo>
                    <a:pt x="598" y="259"/>
                  </a:lnTo>
                  <a:lnTo>
                    <a:pt x="595" y="259"/>
                  </a:lnTo>
                  <a:lnTo>
                    <a:pt x="593" y="259"/>
                  </a:lnTo>
                  <a:lnTo>
                    <a:pt x="590" y="257"/>
                  </a:lnTo>
                  <a:lnTo>
                    <a:pt x="586" y="256"/>
                  </a:lnTo>
                  <a:lnTo>
                    <a:pt x="583" y="255"/>
                  </a:lnTo>
                  <a:lnTo>
                    <a:pt x="580" y="255"/>
                  </a:lnTo>
                  <a:lnTo>
                    <a:pt x="509" y="255"/>
                  </a:lnTo>
                  <a:lnTo>
                    <a:pt x="438" y="256"/>
                  </a:lnTo>
                  <a:lnTo>
                    <a:pt x="367" y="256"/>
                  </a:lnTo>
                  <a:lnTo>
                    <a:pt x="298" y="257"/>
                  </a:lnTo>
                  <a:lnTo>
                    <a:pt x="228" y="257"/>
                  </a:lnTo>
                  <a:lnTo>
                    <a:pt x="158" y="259"/>
                  </a:lnTo>
                  <a:lnTo>
                    <a:pt x="87" y="259"/>
                  </a:lnTo>
                  <a:lnTo>
                    <a:pt x="18" y="260"/>
                  </a:lnTo>
                  <a:lnTo>
                    <a:pt x="15" y="257"/>
                  </a:lnTo>
                  <a:lnTo>
                    <a:pt x="12" y="256"/>
                  </a:lnTo>
                  <a:lnTo>
                    <a:pt x="10" y="255"/>
                  </a:lnTo>
                  <a:lnTo>
                    <a:pt x="8" y="253"/>
                  </a:lnTo>
                  <a:lnTo>
                    <a:pt x="6" y="252"/>
                  </a:lnTo>
                  <a:lnTo>
                    <a:pt x="4" y="251"/>
                  </a:lnTo>
                  <a:lnTo>
                    <a:pt x="3" y="249"/>
                  </a:lnTo>
                  <a:lnTo>
                    <a:pt x="0" y="249"/>
                  </a:lnTo>
                  <a:lnTo>
                    <a:pt x="0" y="237"/>
                  </a:lnTo>
                  <a:lnTo>
                    <a:pt x="2" y="228"/>
                  </a:lnTo>
                  <a:lnTo>
                    <a:pt x="3" y="217"/>
                  </a:lnTo>
                  <a:lnTo>
                    <a:pt x="4" y="208"/>
                  </a:lnTo>
                  <a:lnTo>
                    <a:pt x="7" y="198"/>
                  </a:lnTo>
                  <a:lnTo>
                    <a:pt x="10" y="189"/>
                  </a:lnTo>
                  <a:lnTo>
                    <a:pt x="11" y="180"/>
                  </a:lnTo>
                  <a:lnTo>
                    <a:pt x="14" y="169"/>
                  </a:lnTo>
                  <a:lnTo>
                    <a:pt x="37" y="169"/>
                  </a:lnTo>
                  <a:lnTo>
                    <a:pt x="87" y="173"/>
                  </a:lnTo>
                  <a:lnTo>
                    <a:pt x="156" y="177"/>
                  </a:lnTo>
                  <a:lnTo>
                    <a:pt x="232" y="181"/>
                  </a:lnTo>
                  <a:lnTo>
                    <a:pt x="271" y="182"/>
                  </a:lnTo>
                  <a:lnTo>
                    <a:pt x="308" y="182"/>
                  </a:lnTo>
                  <a:lnTo>
                    <a:pt x="342" y="182"/>
                  </a:lnTo>
                  <a:lnTo>
                    <a:pt x="373" y="182"/>
                  </a:lnTo>
                  <a:lnTo>
                    <a:pt x="397" y="180"/>
                  </a:lnTo>
                  <a:lnTo>
                    <a:pt x="416" y="176"/>
                  </a:lnTo>
                  <a:lnTo>
                    <a:pt x="422" y="174"/>
                  </a:lnTo>
                  <a:lnTo>
                    <a:pt x="428" y="172"/>
                  </a:lnTo>
                  <a:lnTo>
                    <a:pt x="429" y="167"/>
                  </a:lnTo>
                  <a:lnTo>
                    <a:pt x="429" y="165"/>
                  </a:lnTo>
                  <a:lnTo>
                    <a:pt x="433" y="145"/>
                  </a:lnTo>
                  <a:lnTo>
                    <a:pt x="434" y="125"/>
                  </a:lnTo>
                  <a:lnTo>
                    <a:pt x="434" y="106"/>
                  </a:lnTo>
                  <a:lnTo>
                    <a:pt x="433" y="87"/>
                  </a:lnTo>
                  <a:lnTo>
                    <a:pt x="432" y="67"/>
                  </a:lnTo>
                  <a:lnTo>
                    <a:pt x="430" y="47"/>
                  </a:lnTo>
                  <a:lnTo>
                    <a:pt x="430" y="24"/>
                  </a:lnTo>
                  <a:lnTo>
                    <a:pt x="432" y="0"/>
                  </a:lnTo>
                  <a:lnTo>
                    <a:pt x="442" y="1"/>
                  </a:lnTo>
                  <a:lnTo>
                    <a:pt x="455" y="3"/>
                  </a:lnTo>
                  <a:lnTo>
                    <a:pt x="468" y="3"/>
                  </a:lnTo>
                  <a:lnTo>
                    <a:pt x="480" y="3"/>
                  </a:lnTo>
                  <a:lnTo>
                    <a:pt x="493" y="3"/>
                  </a:lnTo>
                  <a:lnTo>
                    <a:pt x="505" y="3"/>
                  </a:lnTo>
                  <a:lnTo>
                    <a:pt x="519" y="1"/>
                  </a:lnTo>
                  <a:lnTo>
                    <a:pt x="531" y="1"/>
                  </a:lnTo>
                  <a:lnTo>
                    <a:pt x="534" y="10"/>
                  </a:lnTo>
                  <a:lnTo>
                    <a:pt x="538" y="16"/>
                  </a:lnTo>
                  <a:lnTo>
                    <a:pt x="542" y="26"/>
                  </a:lnTo>
                  <a:lnTo>
                    <a:pt x="547" y="34"/>
                  </a:lnTo>
                  <a:lnTo>
                    <a:pt x="552" y="43"/>
                  </a:lnTo>
                  <a:lnTo>
                    <a:pt x="556" y="51"/>
                  </a:lnTo>
                  <a:lnTo>
                    <a:pt x="559" y="59"/>
                  </a:lnTo>
                  <a:lnTo>
                    <a:pt x="560" y="66"/>
                  </a:lnTo>
                  <a:lnTo>
                    <a:pt x="564" y="71"/>
                  </a:lnTo>
                  <a:lnTo>
                    <a:pt x="567" y="71"/>
                  </a:lnTo>
                  <a:lnTo>
                    <a:pt x="568" y="72"/>
                  </a:lnTo>
                  <a:lnTo>
                    <a:pt x="571" y="74"/>
                  </a:lnTo>
                  <a:lnTo>
                    <a:pt x="572" y="75"/>
                  </a:lnTo>
                  <a:lnTo>
                    <a:pt x="575" y="78"/>
                  </a:lnTo>
                  <a:lnTo>
                    <a:pt x="576" y="79"/>
                  </a:lnTo>
                  <a:lnTo>
                    <a:pt x="578" y="82"/>
                  </a:lnTo>
                  <a:lnTo>
                    <a:pt x="578" y="83"/>
                  </a:lnTo>
                  <a:lnTo>
                    <a:pt x="591" y="87"/>
                  </a:lnTo>
                  <a:lnTo>
                    <a:pt x="591" y="93"/>
                  </a:lnTo>
                  <a:lnTo>
                    <a:pt x="591" y="93"/>
                  </a:lnTo>
                  <a:lnTo>
                    <a:pt x="591" y="93"/>
                  </a:lnTo>
                  <a:lnTo>
                    <a:pt x="591" y="93"/>
                  </a:lnTo>
                  <a:lnTo>
                    <a:pt x="591" y="93"/>
                  </a:lnTo>
                  <a:lnTo>
                    <a:pt x="593" y="93"/>
                  </a:lnTo>
                  <a:lnTo>
                    <a:pt x="593" y="93"/>
                  </a:lnTo>
                  <a:lnTo>
                    <a:pt x="593" y="94"/>
                  </a:lnTo>
                  <a:lnTo>
                    <a:pt x="593" y="94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25000" y="5209200"/>
              <a:ext cx="371520" cy="276840"/>
            </a:xfrm>
            <a:custGeom>
              <a:avLst/>
              <a:gdLst/>
              <a:ahLst/>
              <a:rect l="l" t="t" r="r" b="b"/>
              <a:pathLst>
                <a:path w="812" h="630">
                  <a:moveTo>
                    <a:pt x="0" y="241"/>
                  </a:moveTo>
                  <a:lnTo>
                    <a:pt x="8" y="241"/>
                  </a:lnTo>
                  <a:lnTo>
                    <a:pt x="16" y="241"/>
                  </a:lnTo>
                  <a:lnTo>
                    <a:pt x="24" y="242"/>
                  </a:lnTo>
                  <a:lnTo>
                    <a:pt x="32" y="242"/>
                  </a:lnTo>
                  <a:lnTo>
                    <a:pt x="40" y="242"/>
                  </a:lnTo>
                  <a:lnTo>
                    <a:pt x="48" y="242"/>
                  </a:lnTo>
                  <a:lnTo>
                    <a:pt x="56" y="241"/>
                  </a:lnTo>
                  <a:lnTo>
                    <a:pt x="63" y="239"/>
                  </a:lnTo>
                  <a:lnTo>
                    <a:pt x="82" y="234"/>
                  </a:lnTo>
                  <a:lnTo>
                    <a:pt x="100" y="230"/>
                  </a:lnTo>
                  <a:lnTo>
                    <a:pt x="118" y="225"/>
                  </a:lnTo>
                  <a:lnTo>
                    <a:pt x="137" y="221"/>
                  </a:lnTo>
                  <a:lnTo>
                    <a:pt x="155" y="217"/>
                  </a:lnTo>
                  <a:lnTo>
                    <a:pt x="174" y="212"/>
                  </a:lnTo>
                  <a:lnTo>
                    <a:pt x="193" y="207"/>
                  </a:lnTo>
                  <a:lnTo>
                    <a:pt x="212" y="203"/>
                  </a:lnTo>
                  <a:lnTo>
                    <a:pt x="240" y="198"/>
                  </a:lnTo>
                  <a:lnTo>
                    <a:pt x="266" y="191"/>
                  </a:lnTo>
                  <a:lnTo>
                    <a:pt x="295" y="186"/>
                  </a:lnTo>
                  <a:lnTo>
                    <a:pt x="323" y="182"/>
                  </a:lnTo>
                  <a:lnTo>
                    <a:pt x="352" y="178"/>
                  </a:lnTo>
                  <a:lnTo>
                    <a:pt x="380" y="175"/>
                  </a:lnTo>
                  <a:lnTo>
                    <a:pt x="409" y="174"/>
                  </a:lnTo>
                  <a:lnTo>
                    <a:pt x="437" y="175"/>
                  </a:lnTo>
                  <a:lnTo>
                    <a:pt x="442" y="178"/>
                  </a:lnTo>
                  <a:lnTo>
                    <a:pt x="447" y="180"/>
                  </a:lnTo>
                  <a:lnTo>
                    <a:pt x="453" y="184"/>
                  </a:lnTo>
                  <a:lnTo>
                    <a:pt x="458" y="186"/>
                  </a:lnTo>
                  <a:lnTo>
                    <a:pt x="463" y="188"/>
                  </a:lnTo>
                  <a:lnTo>
                    <a:pt x="470" y="187"/>
                  </a:lnTo>
                  <a:lnTo>
                    <a:pt x="475" y="186"/>
                  </a:lnTo>
                  <a:lnTo>
                    <a:pt x="480" y="180"/>
                  </a:lnTo>
                  <a:lnTo>
                    <a:pt x="486" y="175"/>
                  </a:lnTo>
                  <a:lnTo>
                    <a:pt x="494" y="171"/>
                  </a:lnTo>
                  <a:lnTo>
                    <a:pt x="504" y="170"/>
                  </a:lnTo>
                  <a:lnTo>
                    <a:pt x="513" y="170"/>
                  </a:lnTo>
                  <a:lnTo>
                    <a:pt x="522" y="170"/>
                  </a:lnTo>
                  <a:lnTo>
                    <a:pt x="532" y="171"/>
                  </a:lnTo>
                  <a:lnTo>
                    <a:pt x="541" y="172"/>
                  </a:lnTo>
                  <a:lnTo>
                    <a:pt x="549" y="175"/>
                  </a:lnTo>
                  <a:lnTo>
                    <a:pt x="552" y="178"/>
                  </a:lnTo>
                  <a:lnTo>
                    <a:pt x="555" y="180"/>
                  </a:lnTo>
                  <a:lnTo>
                    <a:pt x="559" y="182"/>
                  </a:lnTo>
                  <a:lnTo>
                    <a:pt x="563" y="183"/>
                  </a:lnTo>
                  <a:lnTo>
                    <a:pt x="565" y="186"/>
                  </a:lnTo>
                  <a:lnTo>
                    <a:pt x="569" y="186"/>
                  </a:lnTo>
                  <a:lnTo>
                    <a:pt x="573" y="187"/>
                  </a:lnTo>
                  <a:lnTo>
                    <a:pt x="576" y="188"/>
                  </a:lnTo>
                  <a:lnTo>
                    <a:pt x="577" y="175"/>
                  </a:lnTo>
                  <a:lnTo>
                    <a:pt x="580" y="163"/>
                  </a:lnTo>
                  <a:lnTo>
                    <a:pt x="583" y="151"/>
                  </a:lnTo>
                  <a:lnTo>
                    <a:pt x="587" y="140"/>
                  </a:lnTo>
                  <a:lnTo>
                    <a:pt x="592" y="129"/>
                  </a:lnTo>
                  <a:lnTo>
                    <a:pt x="597" y="119"/>
                  </a:lnTo>
                  <a:lnTo>
                    <a:pt x="604" y="108"/>
                  </a:lnTo>
                  <a:lnTo>
                    <a:pt x="612" y="99"/>
                  </a:lnTo>
                  <a:lnTo>
                    <a:pt x="607" y="97"/>
                  </a:lnTo>
                  <a:lnTo>
                    <a:pt x="603" y="95"/>
                  </a:lnTo>
                  <a:lnTo>
                    <a:pt x="601" y="91"/>
                  </a:lnTo>
                  <a:lnTo>
                    <a:pt x="601" y="85"/>
                  </a:lnTo>
                  <a:lnTo>
                    <a:pt x="601" y="80"/>
                  </a:lnTo>
                  <a:lnTo>
                    <a:pt x="603" y="75"/>
                  </a:lnTo>
                  <a:lnTo>
                    <a:pt x="604" y="69"/>
                  </a:lnTo>
                  <a:lnTo>
                    <a:pt x="605" y="65"/>
                  </a:lnTo>
                  <a:lnTo>
                    <a:pt x="595" y="59"/>
                  </a:lnTo>
                  <a:lnTo>
                    <a:pt x="583" y="52"/>
                  </a:lnTo>
                  <a:lnTo>
                    <a:pt x="571" y="44"/>
                  </a:lnTo>
                  <a:lnTo>
                    <a:pt x="559" y="37"/>
                  </a:lnTo>
                  <a:lnTo>
                    <a:pt x="547" y="29"/>
                  </a:lnTo>
                  <a:lnTo>
                    <a:pt x="536" y="21"/>
                  </a:lnTo>
                  <a:lnTo>
                    <a:pt x="532" y="16"/>
                  </a:lnTo>
                  <a:lnTo>
                    <a:pt x="528" y="10"/>
                  </a:lnTo>
                  <a:lnTo>
                    <a:pt x="525" y="5"/>
                  </a:lnTo>
                  <a:lnTo>
                    <a:pt x="522" y="0"/>
                  </a:lnTo>
                  <a:lnTo>
                    <a:pt x="538" y="8"/>
                  </a:lnTo>
                  <a:lnTo>
                    <a:pt x="556" y="16"/>
                  </a:lnTo>
                  <a:lnTo>
                    <a:pt x="573" y="25"/>
                  </a:lnTo>
                  <a:lnTo>
                    <a:pt x="589" y="33"/>
                  </a:lnTo>
                  <a:lnTo>
                    <a:pt x="604" y="42"/>
                  </a:lnTo>
                  <a:lnTo>
                    <a:pt x="616" y="52"/>
                  </a:lnTo>
                  <a:lnTo>
                    <a:pt x="626" y="60"/>
                  </a:lnTo>
                  <a:lnTo>
                    <a:pt x="632" y="69"/>
                  </a:lnTo>
                  <a:lnTo>
                    <a:pt x="648" y="75"/>
                  </a:lnTo>
                  <a:lnTo>
                    <a:pt x="666" y="81"/>
                  </a:lnTo>
                  <a:lnTo>
                    <a:pt x="685" y="91"/>
                  </a:lnTo>
                  <a:lnTo>
                    <a:pt x="703" y="100"/>
                  </a:lnTo>
                  <a:lnTo>
                    <a:pt x="723" y="109"/>
                  </a:lnTo>
                  <a:lnTo>
                    <a:pt x="742" y="117"/>
                  </a:lnTo>
                  <a:lnTo>
                    <a:pt x="751" y="120"/>
                  </a:lnTo>
                  <a:lnTo>
                    <a:pt x="761" y="123"/>
                  </a:lnTo>
                  <a:lnTo>
                    <a:pt x="770" y="124"/>
                  </a:lnTo>
                  <a:lnTo>
                    <a:pt x="778" y="125"/>
                  </a:lnTo>
                  <a:lnTo>
                    <a:pt x="780" y="129"/>
                  </a:lnTo>
                  <a:lnTo>
                    <a:pt x="782" y="132"/>
                  </a:lnTo>
                  <a:lnTo>
                    <a:pt x="786" y="135"/>
                  </a:lnTo>
                  <a:lnTo>
                    <a:pt x="790" y="138"/>
                  </a:lnTo>
                  <a:lnTo>
                    <a:pt x="796" y="140"/>
                  </a:lnTo>
                  <a:lnTo>
                    <a:pt x="800" y="143"/>
                  </a:lnTo>
                  <a:lnTo>
                    <a:pt x="802" y="147"/>
                  </a:lnTo>
                  <a:lnTo>
                    <a:pt x="804" y="151"/>
                  </a:lnTo>
                  <a:lnTo>
                    <a:pt x="806" y="151"/>
                  </a:lnTo>
                  <a:lnTo>
                    <a:pt x="808" y="151"/>
                  </a:lnTo>
                  <a:lnTo>
                    <a:pt x="808" y="152"/>
                  </a:lnTo>
                  <a:lnTo>
                    <a:pt x="808" y="152"/>
                  </a:lnTo>
                  <a:lnTo>
                    <a:pt x="808" y="154"/>
                  </a:lnTo>
                  <a:lnTo>
                    <a:pt x="809" y="155"/>
                  </a:lnTo>
                  <a:lnTo>
                    <a:pt x="810" y="155"/>
                  </a:lnTo>
                  <a:lnTo>
                    <a:pt x="812" y="155"/>
                  </a:lnTo>
                  <a:lnTo>
                    <a:pt x="810" y="179"/>
                  </a:lnTo>
                  <a:lnTo>
                    <a:pt x="806" y="204"/>
                  </a:lnTo>
                  <a:lnTo>
                    <a:pt x="800" y="230"/>
                  </a:lnTo>
                  <a:lnTo>
                    <a:pt x="792" y="257"/>
                  </a:lnTo>
                  <a:lnTo>
                    <a:pt x="770" y="310"/>
                  </a:lnTo>
                  <a:lnTo>
                    <a:pt x="746" y="365"/>
                  </a:lnTo>
                  <a:lnTo>
                    <a:pt x="733" y="393"/>
                  </a:lnTo>
                  <a:lnTo>
                    <a:pt x="722" y="421"/>
                  </a:lnTo>
                  <a:lnTo>
                    <a:pt x="710" y="451"/>
                  </a:lnTo>
                  <a:lnTo>
                    <a:pt x="701" y="479"/>
                  </a:lnTo>
                  <a:lnTo>
                    <a:pt x="691" y="507"/>
                  </a:lnTo>
                  <a:lnTo>
                    <a:pt x="685" y="535"/>
                  </a:lnTo>
                  <a:lnTo>
                    <a:pt x="683" y="550"/>
                  </a:lnTo>
                  <a:lnTo>
                    <a:pt x="680" y="565"/>
                  </a:lnTo>
                  <a:lnTo>
                    <a:pt x="679" y="578"/>
                  </a:lnTo>
                  <a:lnTo>
                    <a:pt x="679" y="593"/>
                  </a:lnTo>
                  <a:lnTo>
                    <a:pt x="671" y="595"/>
                  </a:lnTo>
                  <a:lnTo>
                    <a:pt x="659" y="601"/>
                  </a:lnTo>
                  <a:lnTo>
                    <a:pt x="646" y="606"/>
                  </a:lnTo>
                  <a:lnTo>
                    <a:pt x="632" y="613"/>
                  </a:lnTo>
                  <a:lnTo>
                    <a:pt x="616" y="620"/>
                  </a:lnTo>
                  <a:lnTo>
                    <a:pt x="603" y="625"/>
                  </a:lnTo>
                  <a:lnTo>
                    <a:pt x="591" y="629"/>
                  </a:lnTo>
                  <a:lnTo>
                    <a:pt x="581" y="630"/>
                  </a:lnTo>
                  <a:lnTo>
                    <a:pt x="572" y="622"/>
                  </a:lnTo>
                  <a:lnTo>
                    <a:pt x="560" y="611"/>
                  </a:lnTo>
                  <a:lnTo>
                    <a:pt x="548" y="599"/>
                  </a:lnTo>
                  <a:lnTo>
                    <a:pt x="534" y="589"/>
                  </a:lnTo>
                  <a:lnTo>
                    <a:pt x="521" y="578"/>
                  </a:lnTo>
                  <a:lnTo>
                    <a:pt x="508" y="570"/>
                  </a:lnTo>
                  <a:lnTo>
                    <a:pt x="501" y="567"/>
                  </a:lnTo>
                  <a:lnTo>
                    <a:pt x="494" y="565"/>
                  </a:lnTo>
                  <a:lnTo>
                    <a:pt x="488" y="563"/>
                  </a:lnTo>
                  <a:lnTo>
                    <a:pt x="482" y="562"/>
                  </a:lnTo>
                  <a:lnTo>
                    <a:pt x="474" y="557"/>
                  </a:lnTo>
                  <a:lnTo>
                    <a:pt x="463" y="550"/>
                  </a:lnTo>
                  <a:lnTo>
                    <a:pt x="451" y="545"/>
                  </a:lnTo>
                  <a:lnTo>
                    <a:pt x="438" y="538"/>
                  </a:lnTo>
                  <a:lnTo>
                    <a:pt x="425" y="531"/>
                  </a:lnTo>
                  <a:lnTo>
                    <a:pt x="413" y="523"/>
                  </a:lnTo>
                  <a:lnTo>
                    <a:pt x="407" y="520"/>
                  </a:lnTo>
                  <a:lnTo>
                    <a:pt x="403" y="515"/>
                  </a:lnTo>
                  <a:lnTo>
                    <a:pt x="399" y="511"/>
                  </a:lnTo>
                  <a:lnTo>
                    <a:pt x="396" y="507"/>
                  </a:lnTo>
                  <a:lnTo>
                    <a:pt x="392" y="506"/>
                  </a:lnTo>
                  <a:lnTo>
                    <a:pt x="390" y="504"/>
                  </a:lnTo>
                  <a:lnTo>
                    <a:pt x="387" y="503"/>
                  </a:lnTo>
                  <a:lnTo>
                    <a:pt x="383" y="500"/>
                  </a:lnTo>
                  <a:lnTo>
                    <a:pt x="380" y="498"/>
                  </a:lnTo>
                  <a:lnTo>
                    <a:pt x="376" y="496"/>
                  </a:lnTo>
                  <a:lnTo>
                    <a:pt x="374" y="494"/>
                  </a:lnTo>
                  <a:lnTo>
                    <a:pt x="371" y="494"/>
                  </a:lnTo>
                  <a:lnTo>
                    <a:pt x="366" y="487"/>
                  </a:lnTo>
                  <a:lnTo>
                    <a:pt x="358" y="475"/>
                  </a:lnTo>
                  <a:lnTo>
                    <a:pt x="346" y="463"/>
                  </a:lnTo>
                  <a:lnTo>
                    <a:pt x="331" y="448"/>
                  </a:lnTo>
                  <a:lnTo>
                    <a:pt x="316" y="435"/>
                  </a:lnTo>
                  <a:lnTo>
                    <a:pt x="303" y="423"/>
                  </a:lnTo>
                  <a:lnTo>
                    <a:pt x="292" y="415"/>
                  </a:lnTo>
                  <a:lnTo>
                    <a:pt x="285" y="412"/>
                  </a:lnTo>
                  <a:lnTo>
                    <a:pt x="284" y="411"/>
                  </a:lnTo>
                  <a:lnTo>
                    <a:pt x="284" y="409"/>
                  </a:lnTo>
                  <a:lnTo>
                    <a:pt x="284" y="408"/>
                  </a:lnTo>
                  <a:lnTo>
                    <a:pt x="283" y="405"/>
                  </a:lnTo>
                  <a:lnTo>
                    <a:pt x="281" y="404"/>
                  </a:lnTo>
                  <a:lnTo>
                    <a:pt x="281" y="403"/>
                  </a:lnTo>
                  <a:lnTo>
                    <a:pt x="281" y="401"/>
                  </a:lnTo>
                  <a:lnTo>
                    <a:pt x="280" y="400"/>
                  </a:lnTo>
                  <a:lnTo>
                    <a:pt x="277" y="399"/>
                  </a:lnTo>
                  <a:lnTo>
                    <a:pt x="272" y="397"/>
                  </a:lnTo>
                  <a:lnTo>
                    <a:pt x="266" y="393"/>
                  </a:lnTo>
                  <a:lnTo>
                    <a:pt x="261" y="391"/>
                  </a:lnTo>
                  <a:lnTo>
                    <a:pt x="257" y="387"/>
                  </a:lnTo>
                  <a:lnTo>
                    <a:pt x="252" y="383"/>
                  </a:lnTo>
                  <a:lnTo>
                    <a:pt x="249" y="380"/>
                  </a:lnTo>
                  <a:lnTo>
                    <a:pt x="246" y="379"/>
                  </a:lnTo>
                  <a:lnTo>
                    <a:pt x="242" y="377"/>
                  </a:lnTo>
                  <a:lnTo>
                    <a:pt x="238" y="377"/>
                  </a:lnTo>
                  <a:lnTo>
                    <a:pt x="234" y="377"/>
                  </a:lnTo>
                  <a:lnTo>
                    <a:pt x="230" y="376"/>
                  </a:lnTo>
                  <a:lnTo>
                    <a:pt x="226" y="374"/>
                  </a:lnTo>
                  <a:lnTo>
                    <a:pt x="221" y="374"/>
                  </a:lnTo>
                  <a:lnTo>
                    <a:pt x="217" y="374"/>
                  </a:lnTo>
                  <a:lnTo>
                    <a:pt x="212" y="373"/>
                  </a:lnTo>
                  <a:lnTo>
                    <a:pt x="210" y="369"/>
                  </a:lnTo>
                  <a:lnTo>
                    <a:pt x="204" y="364"/>
                  </a:lnTo>
                  <a:lnTo>
                    <a:pt x="195" y="356"/>
                  </a:lnTo>
                  <a:lnTo>
                    <a:pt x="183" y="348"/>
                  </a:lnTo>
                  <a:lnTo>
                    <a:pt x="154" y="328"/>
                  </a:lnTo>
                  <a:lnTo>
                    <a:pt x="119" y="308"/>
                  </a:lnTo>
                  <a:lnTo>
                    <a:pt x="83" y="287"/>
                  </a:lnTo>
                  <a:lnTo>
                    <a:pt x="51" y="270"/>
                  </a:lnTo>
                  <a:lnTo>
                    <a:pt x="37" y="263"/>
                  </a:lnTo>
                  <a:lnTo>
                    <a:pt x="25" y="258"/>
                  </a:lnTo>
                  <a:lnTo>
                    <a:pt x="16" y="255"/>
                  </a:lnTo>
                  <a:lnTo>
                    <a:pt x="11" y="254"/>
                  </a:lnTo>
                  <a:lnTo>
                    <a:pt x="9" y="253"/>
                  </a:lnTo>
                  <a:lnTo>
                    <a:pt x="8" y="251"/>
                  </a:lnTo>
                  <a:lnTo>
                    <a:pt x="8" y="250"/>
                  </a:lnTo>
                  <a:lnTo>
                    <a:pt x="7" y="247"/>
                  </a:lnTo>
                  <a:lnTo>
                    <a:pt x="5" y="246"/>
                  </a:lnTo>
                  <a:lnTo>
                    <a:pt x="4" y="245"/>
                  </a:lnTo>
                  <a:lnTo>
                    <a:pt x="1" y="242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77280" y="5161680"/>
              <a:ext cx="61560" cy="93600"/>
            </a:xfrm>
            <a:custGeom>
              <a:avLst/>
              <a:gdLst/>
              <a:ahLst/>
              <a:rect l="l" t="t" r="r" b="b"/>
              <a:pathLst>
                <a:path w="137" h="213">
                  <a:moveTo>
                    <a:pt x="127" y="66"/>
                  </a:moveTo>
                  <a:lnTo>
                    <a:pt x="127" y="85"/>
                  </a:lnTo>
                  <a:lnTo>
                    <a:pt x="129" y="103"/>
                  </a:lnTo>
                  <a:lnTo>
                    <a:pt x="130" y="121"/>
                  </a:lnTo>
                  <a:lnTo>
                    <a:pt x="133" y="139"/>
                  </a:lnTo>
                  <a:lnTo>
                    <a:pt x="134" y="158"/>
                  </a:lnTo>
                  <a:lnTo>
                    <a:pt x="135" y="176"/>
                  </a:lnTo>
                  <a:lnTo>
                    <a:pt x="137" y="194"/>
                  </a:lnTo>
                  <a:lnTo>
                    <a:pt x="137" y="213"/>
                  </a:lnTo>
                  <a:lnTo>
                    <a:pt x="123" y="210"/>
                  </a:lnTo>
                  <a:lnTo>
                    <a:pt x="109" y="206"/>
                  </a:lnTo>
                  <a:lnTo>
                    <a:pt x="95" y="201"/>
                  </a:lnTo>
                  <a:lnTo>
                    <a:pt x="81" y="196"/>
                  </a:lnTo>
                  <a:lnTo>
                    <a:pt x="66" y="189"/>
                  </a:lnTo>
                  <a:lnTo>
                    <a:pt x="52" y="184"/>
                  </a:lnTo>
                  <a:lnTo>
                    <a:pt x="38" y="178"/>
                  </a:lnTo>
                  <a:lnTo>
                    <a:pt x="23" y="174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2" y="164"/>
                  </a:lnTo>
                  <a:lnTo>
                    <a:pt x="19" y="159"/>
                  </a:lnTo>
                  <a:lnTo>
                    <a:pt x="16" y="157"/>
                  </a:lnTo>
                  <a:lnTo>
                    <a:pt x="12" y="154"/>
                  </a:lnTo>
                  <a:lnTo>
                    <a:pt x="10" y="150"/>
                  </a:lnTo>
                  <a:lnTo>
                    <a:pt x="7" y="146"/>
                  </a:lnTo>
                  <a:lnTo>
                    <a:pt x="6" y="127"/>
                  </a:lnTo>
                  <a:lnTo>
                    <a:pt x="6" y="109"/>
                  </a:lnTo>
                  <a:lnTo>
                    <a:pt x="6" y="91"/>
                  </a:lnTo>
                  <a:lnTo>
                    <a:pt x="6" y="74"/>
                  </a:lnTo>
                  <a:lnTo>
                    <a:pt x="6" y="58"/>
                  </a:lnTo>
                  <a:lnTo>
                    <a:pt x="4" y="40"/>
                  </a:lnTo>
                  <a:lnTo>
                    <a:pt x="3" y="22"/>
                  </a:lnTo>
                  <a:lnTo>
                    <a:pt x="0" y="3"/>
                  </a:lnTo>
                  <a:lnTo>
                    <a:pt x="11" y="2"/>
                  </a:lnTo>
                  <a:lnTo>
                    <a:pt x="22" y="2"/>
                  </a:lnTo>
                  <a:lnTo>
                    <a:pt x="32" y="2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77" y="0"/>
                  </a:lnTo>
                  <a:lnTo>
                    <a:pt x="89" y="0"/>
                  </a:lnTo>
                  <a:lnTo>
                    <a:pt x="91" y="8"/>
                  </a:lnTo>
                  <a:lnTo>
                    <a:pt x="95" y="15"/>
                  </a:lnTo>
                  <a:lnTo>
                    <a:pt x="101" y="23"/>
                  </a:lnTo>
                  <a:lnTo>
                    <a:pt x="105" y="31"/>
                  </a:lnTo>
                  <a:lnTo>
                    <a:pt x="109" y="38"/>
                  </a:lnTo>
                  <a:lnTo>
                    <a:pt x="113" y="46"/>
                  </a:lnTo>
                  <a:lnTo>
                    <a:pt x="115" y="52"/>
                  </a:lnTo>
                  <a:lnTo>
                    <a:pt x="115" y="58"/>
                  </a:lnTo>
                  <a:lnTo>
                    <a:pt x="119" y="63"/>
                  </a:lnTo>
                  <a:lnTo>
                    <a:pt x="121" y="63"/>
                  </a:lnTo>
                  <a:lnTo>
                    <a:pt x="122" y="63"/>
                  </a:lnTo>
                  <a:lnTo>
                    <a:pt x="122" y="63"/>
                  </a:lnTo>
                  <a:lnTo>
                    <a:pt x="123" y="63"/>
                  </a:lnTo>
                  <a:lnTo>
                    <a:pt x="125" y="64"/>
                  </a:lnTo>
                  <a:lnTo>
                    <a:pt x="125" y="64"/>
                  </a:lnTo>
                  <a:lnTo>
                    <a:pt x="126" y="66"/>
                  </a:lnTo>
                  <a:lnTo>
                    <a:pt x="127" y="66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1080" y="5235480"/>
              <a:ext cx="233280" cy="24840"/>
            </a:xfrm>
            <a:custGeom>
              <a:avLst/>
              <a:gdLst/>
              <a:ahLst/>
              <a:rect l="l" t="t" r="r" b="b"/>
              <a:pathLst>
                <a:path w="510" h="56">
                  <a:moveTo>
                    <a:pt x="396" y="11"/>
                  </a:moveTo>
                  <a:lnTo>
                    <a:pt x="410" y="17"/>
                  </a:lnTo>
                  <a:lnTo>
                    <a:pt x="424" y="23"/>
                  </a:lnTo>
                  <a:lnTo>
                    <a:pt x="439" y="28"/>
                  </a:lnTo>
                  <a:lnTo>
                    <a:pt x="454" y="32"/>
                  </a:lnTo>
                  <a:lnTo>
                    <a:pt x="469" y="37"/>
                  </a:lnTo>
                  <a:lnTo>
                    <a:pt x="482" y="43"/>
                  </a:lnTo>
                  <a:lnTo>
                    <a:pt x="497" y="48"/>
                  </a:lnTo>
                  <a:lnTo>
                    <a:pt x="510" y="55"/>
                  </a:lnTo>
                  <a:lnTo>
                    <a:pt x="451" y="56"/>
                  </a:lnTo>
                  <a:lnTo>
                    <a:pt x="388" y="56"/>
                  </a:lnTo>
                  <a:lnTo>
                    <a:pt x="325" y="56"/>
                  </a:lnTo>
                  <a:lnTo>
                    <a:pt x="260" y="56"/>
                  </a:lnTo>
                  <a:lnTo>
                    <a:pt x="195" y="55"/>
                  </a:lnTo>
                  <a:lnTo>
                    <a:pt x="131" y="53"/>
                  </a:lnTo>
                  <a:lnTo>
                    <a:pt x="68" y="53"/>
                  </a:lnTo>
                  <a:lnTo>
                    <a:pt x="8" y="55"/>
                  </a:lnTo>
                  <a:lnTo>
                    <a:pt x="8" y="53"/>
                  </a:lnTo>
                  <a:lnTo>
                    <a:pt x="8" y="52"/>
                  </a:lnTo>
                  <a:lnTo>
                    <a:pt x="8" y="51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10" y="47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0"/>
                  </a:lnTo>
                  <a:lnTo>
                    <a:pt x="37" y="4"/>
                  </a:lnTo>
                  <a:lnTo>
                    <a:pt x="72" y="7"/>
                  </a:lnTo>
                  <a:lnTo>
                    <a:pt x="106" y="8"/>
                  </a:lnTo>
                  <a:lnTo>
                    <a:pt x="140" y="8"/>
                  </a:lnTo>
                  <a:lnTo>
                    <a:pt x="175" y="8"/>
                  </a:lnTo>
                  <a:lnTo>
                    <a:pt x="209" y="7"/>
                  </a:lnTo>
                  <a:lnTo>
                    <a:pt x="244" y="7"/>
                  </a:lnTo>
                  <a:lnTo>
                    <a:pt x="278" y="5"/>
                  </a:lnTo>
                  <a:lnTo>
                    <a:pt x="284" y="5"/>
                  </a:lnTo>
                  <a:lnTo>
                    <a:pt x="289" y="5"/>
                  </a:lnTo>
                  <a:lnTo>
                    <a:pt x="293" y="5"/>
                  </a:lnTo>
                  <a:lnTo>
                    <a:pt x="299" y="5"/>
                  </a:lnTo>
                  <a:lnTo>
                    <a:pt x="303" y="5"/>
                  </a:lnTo>
                  <a:lnTo>
                    <a:pt x="308" y="5"/>
                  </a:lnTo>
                  <a:lnTo>
                    <a:pt x="313" y="5"/>
                  </a:lnTo>
                  <a:lnTo>
                    <a:pt x="317" y="5"/>
                  </a:lnTo>
                  <a:lnTo>
                    <a:pt x="327" y="7"/>
                  </a:lnTo>
                  <a:lnTo>
                    <a:pt x="337" y="7"/>
                  </a:lnTo>
                  <a:lnTo>
                    <a:pt x="347" y="7"/>
                  </a:lnTo>
                  <a:lnTo>
                    <a:pt x="356" y="8"/>
                  </a:lnTo>
                  <a:lnTo>
                    <a:pt x="367" y="8"/>
                  </a:lnTo>
                  <a:lnTo>
                    <a:pt x="376" y="9"/>
                  </a:lnTo>
                  <a:lnTo>
                    <a:pt x="387" y="9"/>
                  </a:lnTo>
                  <a:lnTo>
                    <a:pt x="396" y="11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39200" y="5245920"/>
              <a:ext cx="157680" cy="197640"/>
            </a:xfrm>
            <a:custGeom>
              <a:avLst/>
              <a:gdLst/>
              <a:ahLst/>
              <a:rect l="l" t="t" r="r" b="b"/>
              <a:pathLst>
                <a:path w="345" h="452">
                  <a:moveTo>
                    <a:pt x="263" y="32"/>
                  </a:moveTo>
                  <a:lnTo>
                    <a:pt x="268" y="36"/>
                  </a:lnTo>
                  <a:lnTo>
                    <a:pt x="274" y="38"/>
                  </a:lnTo>
                  <a:lnTo>
                    <a:pt x="280" y="41"/>
                  </a:lnTo>
                  <a:lnTo>
                    <a:pt x="287" y="42"/>
                  </a:lnTo>
                  <a:lnTo>
                    <a:pt x="293" y="45"/>
                  </a:lnTo>
                  <a:lnTo>
                    <a:pt x="299" y="45"/>
                  </a:lnTo>
                  <a:lnTo>
                    <a:pt x="306" y="46"/>
                  </a:lnTo>
                  <a:lnTo>
                    <a:pt x="313" y="48"/>
                  </a:lnTo>
                  <a:lnTo>
                    <a:pt x="315" y="51"/>
                  </a:lnTo>
                  <a:lnTo>
                    <a:pt x="319" y="53"/>
                  </a:lnTo>
                  <a:lnTo>
                    <a:pt x="323" y="55"/>
                  </a:lnTo>
                  <a:lnTo>
                    <a:pt x="327" y="57"/>
                  </a:lnTo>
                  <a:lnTo>
                    <a:pt x="331" y="59"/>
                  </a:lnTo>
                  <a:lnTo>
                    <a:pt x="334" y="61"/>
                  </a:lnTo>
                  <a:lnTo>
                    <a:pt x="335" y="64"/>
                  </a:lnTo>
                  <a:lnTo>
                    <a:pt x="337" y="68"/>
                  </a:lnTo>
                  <a:lnTo>
                    <a:pt x="339" y="68"/>
                  </a:lnTo>
                  <a:lnTo>
                    <a:pt x="341" y="68"/>
                  </a:lnTo>
                  <a:lnTo>
                    <a:pt x="341" y="69"/>
                  </a:lnTo>
                  <a:lnTo>
                    <a:pt x="341" y="69"/>
                  </a:lnTo>
                  <a:lnTo>
                    <a:pt x="341" y="71"/>
                  </a:lnTo>
                  <a:lnTo>
                    <a:pt x="342" y="72"/>
                  </a:lnTo>
                  <a:lnTo>
                    <a:pt x="343" y="72"/>
                  </a:lnTo>
                  <a:lnTo>
                    <a:pt x="345" y="72"/>
                  </a:lnTo>
                  <a:lnTo>
                    <a:pt x="345" y="87"/>
                  </a:lnTo>
                  <a:lnTo>
                    <a:pt x="343" y="101"/>
                  </a:lnTo>
                  <a:lnTo>
                    <a:pt x="341" y="116"/>
                  </a:lnTo>
                  <a:lnTo>
                    <a:pt x="338" y="131"/>
                  </a:lnTo>
                  <a:lnTo>
                    <a:pt x="329" y="162"/>
                  </a:lnTo>
                  <a:lnTo>
                    <a:pt x="318" y="192"/>
                  </a:lnTo>
                  <a:lnTo>
                    <a:pt x="305" y="225"/>
                  </a:lnTo>
                  <a:lnTo>
                    <a:pt x="291" y="257"/>
                  </a:lnTo>
                  <a:lnTo>
                    <a:pt x="276" y="289"/>
                  </a:lnTo>
                  <a:lnTo>
                    <a:pt x="262" y="322"/>
                  </a:lnTo>
                  <a:lnTo>
                    <a:pt x="262" y="321"/>
                  </a:lnTo>
                  <a:lnTo>
                    <a:pt x="262" y="318"/>
                  </a:lnTo>
                  <a:lnTo>
                    <a:pt x="262" y="317"/>
                  </a:lnTo>
                  <a:lnTo>
                    <a:pt x="262" y="316"/>
                  </a:lnTo>
                  <a:lnTo>
                    <a:pt x="262" y="314"/>
                  </a:lnTo>
                  <a:lnTo>
                    <a:pt x="262" y="312"/>
                  </a:lnTo>
                  <a:lnTo>
                    <a:pt x="263" y="310"/>
                  </a:lnTo>
                  <a:lnTo>
                    <a:pt x="263" y="309"/>
                  </a:lnTo>
                  <a:lnTo>
                    <a:pt x="260" y="297"/>
                  </a:lnTo>
                  <a:lnTo>
                    <a:pt x="259" y="283"/>
                  </a:lnTo>
                  <a:lnTo>
                    <a:pt x="258" y="270"/>
                  </a:lnTo>
                  <a:lnTo>
                    <a:pt x="255" y="257"/>
                  </a:lnTo>
                  <a:lnTo>
                    <a:pt x="254" y="250"/>
                  </a:lnTo>
                  <a:lnTo>
                    <a:pt x="252" y="245"/>
                  </a:lnTo>
                  <a:lnTo>
                    <a:pt x="250" y="239"/>
                  </a:lnTo>
                  <a:lnTo>
                    <a:pt x="246" y="235"/>
                  </a:lnTo>
                  <a:lnTo>
                    <a:pt x="242" y="231"/>
                  </a:lnTo>
                  <a:lnTo>
                    <a:pt x="236" y="227"/>
                  </a:lnTo>
                  <a:lnTo>
                    <a:pt x="230" y="226"/>
                  </a:lnTo>
                  <a:lnTo>
                    <a:pt x="223" y="225"/>
                  </a:lnTo>
                  <a:lnTo>
                    <a:pt x="220" y="230"/>
                  </a:lnTo>
                  <a:lnTo>
                    <a:pt x="220" y="235"/>
                  </a:lnTo>
                  <a:lnTo>
                    <a:pt x="222" y="241"/>
                  </a:lnTo>
                  <a:lnTo>
                    <a:pt x="226" y="246"/>
                  </a:lnTo>
                  <a:lnTo>
                    <a:pt x="228" y="251"/>
                  </a:lnTo>
                  <a:lnTo>
                    <a:pt x="232" y="257"/>
                  </a:lnTo>
                  <a:lnTo>
                    <a:pt x="234" y="262"/>
                  </a:lnTo>
                  <a:lnTo>
                    <a:pt x="235" y="269"/>
                  </a:lnTo>
                  <a:lnTo>
                    <a:pt x="238" y="278"/>
                  </a:lnTo>
                  <a:lnTo>
                    <a:pt x="236" y="286"/>
                  </a:lnTo>
                  <a:lnTo>
                    <a:pt x="234" y="293"/>
                  </a:lnTo>
                  <a:lnTo>
                    <a:pt x="230" y="300"/>
                  </a:lnTo>
                  <a:lnTo>
                    <a:pt x="224" y="305"/>
                  </a:lnTo>
                  <a:lnTo>
                    <a:pt x="218" y="310"/>
                  </a:lnTo>
                  <a:lnTo>
                    <a:pt x="211" y="314"/>
                  </a:lnTo>
                  <a:lnTo>
                    <a:pt x="204" y="320"/>
                  </a:lnTo>
                  <a:lnTo>
                    <a:pt x="193" y="318"/>
                  </a:lnTo>
                  <a:lnTo>
                    <a:pt x="181" y="317"/>
                  </a:lnTo>
                  <a:lnTo>
                    <a:pt x="169" y="317"/>
                  </a:lnTo>
                  <a:lnTo>
                    <a:pt x="157" y="316"/>
                  </a:lnTo>
                  <a:lnTo>
                    <a:pt x="146" y="313"/>
                  </a:lnTo>
                  <a:lnTo>
                    <a:pt x="134" y="310"/>
                  </a:lnTo>
                  <a:lnTo>
                    <a:pt x="125" y="305"/>
                  </a:lnTo>
                  <a:lnTo>
                    <a:pt x="116" y="300"/>
                  </a:lnTo>
                  <a:lnTo>
                    <a:pt x="117" y="294"/>
                  </a:lnTo>
                  <a:lnTo>
                    <a:pt x="117" y="290"/>
                  </a:lnTo>
                  <a:lnTo>
                    <a:pt x="118" y="285"/>
                  </a:lnTo>
                  <a:lnTo>
                    <a:pt x="118" y="279"/>
                  </a:lnTo>
                  <a:lnTo>
                    <a:pt x="120" y="275"/>
                  </a:lnTo>
                  <a:lnTo>
                    <a:pt x="121" y="270"/>
                  </a:lnTo>
                  <a:lnTo>
                    <a:pt x="124" y="267"/>
                  </a:lnTo>
                  <a:lnTo>
                    <a:pt x="128" y="263"/>
                  </a:lnTo>
                  <a:lnTo>
                    <a:pt x="125" y="259"/>
                  </a:lnTo>
                  <a:lnTo>
                    <a:pt x="122" y="255"/>
                  </a:lnTo>
                  <a:lnTo>
                    <a:pt x="118" y="253"/>
                  </a:lnTo>
                  <a:lnTo>
                    <a:pt x="114" y="250"/>
                  </a:lnTo>
                  <a:lnTo>
                    <a:pt x="105" y="247"/>
                  </a:lnTo>
                  <a:lnTo>
                    <a:pt x="96" y="246"/>
                  </a:lnTo>
                  <a:lnTo>
                    <a:pt x="85" y="246"/>
                  </a:lnTo>
                  <a:lnTo>
                    <a:pt x="74" y="245"/>
                  </a:lnTo>
                  <a:lnTo>
                    <a:pt x="63" y="245"/>
                  </a:lnTo>
                  <a:lnTo>
                    <a:pt x="54" y="243"/>
                  </a:lnTo>
                  <a:lnTo>
                    <a:pt x="47" y="242"/>
                  </a:lnTo>
                  <a:lnTo>
                    <a:pt x="41" y="239"/>
                  </a:lnTo>
                  <a:lnTo>
                    <a:pt x="37" y="237"/>
                  </a:lnTo>
                  <a:lnTo>
                    <a:pt x="31" y="233"/>
                  </a:lnTo>
                  <a:lnTo>
                    <a:pt x="23" y="225"/>
                  </a:lnTo>
                  <a:lnTo>
                    <a:pt x="17" y="214"/>
                  </a:lnTo>
                  <a:lnTo>
                    <a:pt x="11" y="203"/>
                  </a:lnTo>
                  <a:lnTo>
                    <a:pt x="7" y="191"/>
                  </a:lnTo>
                  <a:lnTo>
                    <a:pt x="3" y="180"/>
                  </a:lnTo>
                  <a:lnTo>
                    <a:pt x="0" y="170"/>
                  </a:lnTo>
                  <a:lnTo>
                    <a:pt x="0" y="160"/>
                  </a:lnTo>
                  <a:lnTo>
                    <a:pt x="3" y="151"/>
                  </a:lnTo>
                  <a:lnTo>
                    <a:pt x="7" y="143"/>
                  </a:lnTo>
                  <a:lnTo>
                    <a:pt x="11" y="136"/>
                  </a:lnTo>
                  <a:lnTo>
                    <a:pt x="15" y="128"/>
                  </a:lnTo>
                  <a:lnTo>
                    <a:pt x="21" y="121"/>
                  </a:lnTo>
                  <a:lnTo>
                    <a:pt x="26" y="115"/>
                  </a:lnTo>
                  <a:lnTo>
                    <a:pt x="31" y="108"/>
                  </a:lnTo>
                  <a:lnTo>
                    <a:pt x="41" y="105"/>
                  </a:lnTo>
                  <a:lnTo>
                    <a:pt x="50" y="105"/>
                  </a:lnTo>
                  <a:lnTo>
                    <a:pt x="59" y="105"/>
                  </a:lnTo>
                  <a:lnTo>
                    <a:pt x="69" y="108"/>
                  </a:lnTo>
                  <a:lnTo>
                    <a:pt x="85" y="115"/>
                  </a:lnTo>
                  <a:lnTo>
                    <a:pt x="102" y="124"/>
                  </a:lnTo>
                  <a:lnTo>
                    <a:pt x="118" y="134"/>
                  </a:lnTo>
                  <a:lnTo>
                    <a:pt x="136" y="142"/>
                  </a:lnTo>
                  <a:lnTo>
                    <a:pt x="145" y="144"/>
                  </a:lnTo>
                  <a:lnTo>
                    <a:pt x="155" y="147"/>
                  </a:lnTo>
                  <a:lnTo>
                    <a:pt x="165" y="147"/>
                  </a:lnTo>
                  <a:lnTo>
                    <a:pt x="176" y="146"/>
                  </a:lnTo>
                  <a:lnTo>
                    <a:pt x="183" y="142"/>
                  </a:lnTo>
                  <a:lnTo>
                    <a:pt x="188" y="138"/>
                  </a:lnTo>
                  <a:lnTo>
                    <a:pt x="192" y="134"/>
                  </a:lnTo>
                  <a:lnTo>
                    <a:pt x="196" y="128"/>
                  </a:lnTo>
                  <a:lnTo>
                    <a:pt x="197" y="123"/>
                  </a:lnTo>
                  <a:lnTo>
                    <a:pt x="199" y="117"/>
                  </a:lnTo>
                  <a:lnTo>
                    <a:pt x="199" y="112"/>
                  </a:lnTo>
                  <a:lnTo>
                    <a:pt x="199" y="105"/>
                  </a:lnTo>
                  <a:lnTo>
                    <a:pt x="197" y="93"/>
                  </a:lnTo>
                  <a:lnTo>
                    <a:pt x="197" y="80"/>
                  </a:lnTo>
                  <a:lnTo>
                    <a:pt x="197" y="68"/>
                  </a:lnTo>
                  <a:lnTo>
                    <a:pt x="199" y="56"/>
                  </a:lnTo>
                  <a:lnTo>
                    <a:pt x="195" y="51"/>
                  </a:lnTo>
                  <a:lnTo>
                    <a:pt x="192" y="44"/>
                  </a:lnTo>
                  <a:lnTo>
                    <a:pt x="188" y="36"/>
                  </a:lnTo>
                  <a:lnTo>
                    <a:pt x="184" y="29"/>
                  </a:lnTo>
                  <a:lnTo>
                    <a:pt x="179" y="24"/>
                  </a:lnTo>
                  <a:lnTo>
                    <a:pt x="173" y="18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59" y="9"/>
                  </a:lnTo>
                  <a:lnTo>
                    <a:pt x="160" y="6"/>
                  </a:lnTo>
                  <a:lnTo>
                    <a:pt x="161" y="4"/>
                  </a:lnTo>
                  <a:lnTo>
                    <a:pt x="163" y="2"/>
                  </a:lnTo>
                  <a:lnTo>
                    <a:pt x="168" y="0"/>
                  </a:lnTo>
                  <a:lnTo>
                    <a:pt x="173" y="1"/>
                  </a:lnTo>
                  <a:lnTo>
                    <a:pt x="179" y="2"/>
                  </a:lnTo>
                  <a:lnTo>
                    <a:pt x="184" y="4"/>
                  </a:lnTo>
                  <a:lnTo>
                    <a:pt x="189" y="6"/>
                  </a:lnTo>
                  <a:lnTo>
                    <a:pt x="193" y="8"/>
                  </a:lnTo>
                  <a:lnTo>
                    <a:pt x="201" y="13"/>
                  </a:lnTo>
                  <a:lnTo>
                    <a:pt x="209" y="18"/>
                  </a:lnTo>
                  <a:lnTo>
                    <a:pt x="218" y="22"/>
                  </a:lnTo>
                  <a:lnTo>
                    <a:pt x="227" y="25"/>
                  </a:lnTo>
                  <a:lnTo>
                    <a:pt x="235" y="28"/>
                  </a:lnTo>
                  <a:lnTo>
                    <a:pt x="244" y="29"/>
                  </a:lnTo>
                  <a:lnTo>
                    <a:pt x="254" y="30"/>
                  </a:lnTo>
                  <a:lnTo>
                    <a:pt x="263" y="32"/>
                  </a:lnTo>
                  <a:close/>
                  <a:moveTo>
                    <a:pt x="218" y="452"/>
                  </a:moveTo>
                  <a:lnTo>
                    <a:pt x="207" y="451"/>
                  </a:lnTo>
                  <a:lnTo>
                    <a:pt x="195" y="447"/>
                  </a:lnTo>
                  <a:lnTo>
                    <a:pt x="184" y="443"/>
                  </a:lnTo>
                  <a:lnTo>
                    <a:pt x="172" y="439"/>
                  </a:lnTo>
                  <a:lnTo>
                    <a:pt x="161" y="433"/>
                  </a:lnTo>
                  <a:lnTo>
                    <a:pt x="149" y="429"/>
                  </a:lnTo>
                  <a:lnTo>
                    <a:pt x="137" y="427"/>
                  </a:lnTo>
                  <a:lnTo>
                    <a:pt x="125" y="424"/>
                  </a:lnTo>
                  <a:lnTo>
                    <a:pt x="122" y="417"/>
                  </a:lnTo>
                  <a:lnTo>
                    <a:pt x="122" y="409"/>
                  </a:lnTo>
                  <a:lnTo>
                    <a:pt x="122" y="401"/>
                  </a:lnTo>
                  <a:lnTo>
                    <a:pt x="122" y="395"/>
                  </a:lnTo>
                  <a:lnTo>
                    <a:pt x="122" y="387"/>
                  </a:lnTo>
                  <a:lnTo>
                    <a:pt x="122" y="379"/>
                  </a:lnTo>
                  <a:lnTo>
                    <a:pt x="118" y="372"/>
                  </a:lnTo>
                  <a:lnTo>
                    <a:pt x="113" y="365"/>
                  </a:lnTo>
                  <a:lnTo>
                    <a:pt x="113" y="360"/>
                  </a:lnTo>
                  <a:lnTo>
                    <a:pt x="113" y="354"/>
                  </a:lnTo>
                  <a:lnTo>
                    <a:pt x="113" y="350"/>
                  </a:lnTo>
                  <a:lnTo>
                    <a:pt x="113" y="346"/>
                  </a:lnTo>
                  <a:lnTo>
                    <a:pt x="112" y="341"/>
                  </a:lnTo>
                  <a:lnTo>
                    <a:pt x="112" y="337"/>
                  </a:lnTo>
                  <a:lnTo>
                    <a:pt x="112" y="333"/>
                  </a:lnTo>
                  <a:lnTo>
                    <a:pt x="113" y="328"/>
                  </a:lnTo>
                  <a:lnTo>
                    <a:pt x="125" y="330"/>
                  </a:lnTo>
                  <a:lnTo>
                    <a:pt x="137" y="333"/>
                  </a:lnTo>
                  <a:lnTo>
                    <a:pt x="151" y="336"/>
                  </a:lnTo>
                  <a:lnTo>
                    <a:pt x="164" y="338"/>
                  </a:lnTo>
                  <a:lnTo>
                    <a:pt x="177" y="340"/>
                  </a:lnTo>
                  <a:lnTo>
                    <a:pt x="191" y="341"/>
                  </a:lnTo>
                  <a:lnTo>
                    <a:pt x="204" y="341"/>
                  </a:lnTo>
                  <a:lnTo>
                    <a:pt x="216" y="340"/>
                  </a:lnTo>
                  <a:lnTo>
                    <a:pt x="219" y="337"/>
                  </a:lnTo>
                  <a:lnTo>
                    <a:pt x="222" y="336"/>
                  </a:lnTo>
                  <a:lnTo>
                    <a:pt x="223" y="334"/>
                  </a:lnTo>
                  <a:lnTo>
                    <a:pt x="226" y="333"/>
                  </a:lnTo>
                  <a:lnTo>
                    <a:pt x="228" y="332"/>
                  </a:lnTo>
                  <a:lnTo>
                    <a:pt x="230" y="330"/>
                  </a:lnTo>
                  <a:lnTo>
                    <a:pt x="232" y="330"/>
                  </a:lnTo>
                  <a:lnTo>
                    <a:pt x="235" y="330"/>
                  </a:lnTo>
                  <a:lnTo>
                    <a:pt x="235" y="336"/>
                  </a:lnTo>
                  <a:lnTo>
                    <a:pt x="235" y="341"/>
                  </a:lnTo>
                  <a:lnTo>
                    <a:pt x="235" y="346"/>
                  </a:lnTo>
                  <a:lnTo>
                    <a:pt x="235" y="352"/>
                  </a:lnTo>
                  <a:lnTo>
                    <a:pt x="235" y="357"/>
                  </a:lnTo>
                  <a:lnTo>
                    <a:pt x="236" y="362"/>
                  </a:lnTo>
                  <a:lnTo>
                    <a:pt x="239" y="368"/>
                  </a:lnTo>
                  <a:lnTo>
                    <a:pt x="242" y="372"/>
                  </a:lnTo>
                  <a:lnTo>
                    <a:pt x="238" y="381"/>
                  </a:lnTo>
                  <a:lnTo>
                    <a:pt x="235" y="392"/>
                  </a:lnTo>
                  <a:lnTo>
                    <a:pt x="231" y="401"/>
                  </a:lnTo>
                  <a:lnTo>
                    <a:pt x="228" y="412"/>
                  </a:lnTo>
                  <a:lnTo>
                    <a:pt x="226" y="421"/>
                  </a:lnTo>
                  <a:lnTo>
                    <a:pt x="223" y="432"/>
                  </a:lnTo>
                  <a:lnTo>
                    <a:pt x="220" y="441"/>
                  </a:lnTo>
                  <a:lnTo>
                    <a:pt x="218" y="452"/>
                  </a:lnTo>
                  <a:close/>
                </a:path>
              </a:pathLst>
            </a:custGeom>
            <a:solidFill>
              <a:srgbClr val="fb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01840" y="5260680"/>
              <a:ext cx="16200" cy="40320"/>
            </a:xfrm>
            <a:custGeom>
              <a:avLst/>
              <a:gdLst/>
              <a:ahLst/>
              <a:rect l="l" t="t" r="r" b="b"/>
              <a:pathLst>
                <a:path w="36" h="95">
                  <a:moveTo>
                    <a:pt x="36" y="48"/>
                  </a:moveTo>
                  <a:lnTo>
                    <a:pt x="35" y="55"/>
                  </a:lnTo>
                  <a:lnTo>
                    <a:pt x="33" y="62"/>
                  </a:lnTo>
                  <a:lnTo>
                    <a:pt x="33" y="67"/>
                  </a:lnTo>
                  <a:lnTo>
                    <a:pt x="33" y="74"/>
                  </a:lnTo>
                  <a:lnTo>
                    <a:pt x="32" y="79"/>
                  </a:lnTo>
                  <a:lnTo>
                    <a:pt x="29" y="86"/>
                  </a:lnTo>
                  <a:lnTo>
                    <a:pt x="27" y="90"/>
                  </a:lnTo>
                  <a:lnTo>
                    <a:pt x="21" y="95"/>
                  </a:lnTo>
                  <a:lnTo>
                    <a:pt x="17" y="94"/>
                  </a:lnTo>
                  <a:lnTo>
                    <a:pt x="15" y="94"/>
                  </a:lnTo>
                  <a:lnTo>
                    <a:pt x="12" y="92"/>
                  </a:lnTo>
                  <a:lnTo>
                    <a:pt x="9" y="90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2" y="83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2" y="75"/>
                  </a:lnTo>
                  <a:lnTo>
                    <a:pt x="2" y="74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4" y="68"/>
                  </a:lnTo>
                  <a:lnTo>
                    <a:pt x="2" y="67"/>
                  </a:lnTo>
                  <a:lnTo>
                    <a:pt x="9" y="67"/>
                  </a:lnTo>
                  <a:lnTo>
                    <a:pt x="13" y="66"/>
                  </a:lnTo>
                  <a:lnTo>
                    <a:pt x="16" y="63"/>
                  </a:lnTo>
                  <a:lnTo>
                    <a:pt x="19" y="59"/>
                  </a:lnTo>
                  <a:lnTo>
                    <a:pt x="20" y="55"/>
                  </a:lnTo>
                  <a:lnTo>
                    <a:pt x="21" y="50"/>
                  </a:lnTo>
                  <a:lnTo>
                    <a:pt x="24" y="46"/>
                  </a:lnTo>
                  <a:lnTo>
                    <a:pt x="27" y="42"/>
                  </a:lnTo>
                  <a:lnTo>
                    <a:pt x="25" y="39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6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1" y="7"/>
                  </a:lnTo>
                  <a:lnTo>
                    <a:pt x="12" y="4"/>
                  </a:lnTo>
                  <a:lnTo>
                    <a:pt x="13" y="0"/>
                  </a:lnTo>
                  <a:lnTo>
                    <a:pt x="20" y="4"/>
                  </a:lnTo>
                  <a:lnTo>
                    <a:pt x="24" y="9"/>
                  </a:lnTo>
                  <a:lnTo>
                    <a:pt x="27" y="15"/>
                  </a:lnTo>
                  <a:lnTo>
                    <a:pt x="29" y="22"/>
                  </a:lnTo>
                  <a:lnTo>
                    <a:pt x="31" y="28"/>
                  </a:lnTo>
                  <a:lnTo>
                    <a:pt x="32" y="36"/>
                  </a:lnTo>
                  <a:lnTo>
                    <a:pt x="33" y="43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32080" y="5271120"/>
              <a:ext cx="12240" cy="4356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23" y="95"/>
                  </a:moveTo>
                  <a:lnTo>
                    <a:pt x="20" y="96"/>
                  </a:lnTo>
                  <a:lnTo>
                    <a:pt x="18" y="97"/>
                  </a:lnTo>
                  <a:lnTo>
                    <a:pt x="15" y="97"/>
                  </a:lnTo>
                  <a:lnTo>
                    <a:pt x="11" y="96"/>
                  </a:lnTo>
                  <a:lnTo>
                    <a:pt x="8" y="95"/>
                  </a:lnTo>
                  <a:lnTo>
                    <a:pt x="5" y="93"/>
                  </a:lnTo>
                  <a:lnTo>
                    <a:pt x="3" y="92"/>
                  </a:lnTo>
                  <a:lnTo>
                    <a:pt x="0" y="89"/>
                  </a:lnTo>
                  <a:lnTo>
                    <a:pt x="1" y="77"/>
                  </a:lnTo>
                  <a:lnTo>
                    <a:pt x="3" y="66"/>
                  </a:lnTo>
                  <a:lnTo>
                    <a:pt x="5" y="56"/>
                  </a:lnTo>
                  <a:lnTo>
                    <a:pt x="7" y="46"/>
                  </a:lnTo>
                  <a:lnTo>
                    <a:pt x="8" y="36"/>
                  </a:lnTo>
                  <a:lnTo>
                    <a:pt x="8" y="25"/>
                  </a:lnTo>
                  <a:lnTo>
                    <a:pt x="7" y="14"/>
                  </a:lnTo>
                  <a:lnTo>
                    <a:pt x="3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6" y="13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7" y="58"/>
                  </a:lnTo>
                  <a:lnTo>
                    <a:pt x="26" y="70"/>
                  </a:lnTo>
                  <a:lnTo>
                    <a:pt x="24" y="83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48400" y="5293440"/>
              <a:ext cx="178200" cy="81360"/>
            </a:xfrm>
            <a:custGeom>
              <a:avLst/>
              <a:gdLst/>
              <a:ahLst/>
              <a:rect l="l" t="t" r="r" b="b"/>
              <a:pathLst>
                <a:path w="390" h="188">
                  <a:moveTo>
                    <a:pt x="388" y="26"/>
                  </a:moveTo>
                  <a:lnTo>
                    <a:pt x="387" y="26"/>
                  </a:lnTo>
                  <a:lnTo>
                    <a:pt x="386" y="27"/>
                  </a:lnTo>
                  <a:lnTo>
                    <a:pt x="386" y="28"/>
                  </a:lnTo>
                  <a:lnTo>
                    <a:pt x="386" y="30"/>
                  </a:lnTo>
                  <a:lnTo>
                    <a:pt x="386" y="31"/>
                  </a:lnTo>
                  <a:lnTo>
                    <a:pt x="386" y="32"/>
                  </a:lnTo>
                  <a:lnTo>
                    <a:pt x="386" y="34"/>
                  </a:lnTo>
                  <a:lnTo>
                    <a:pt x="386" y="35"/>
                  </a:lnTo>
                  <a:lnTo>
                    <a:pt x="379" y="30"/>
                  </a:lnTo>
                  <a:lnTo>
                    <a:pt x="371" y="26"/>
                  </a:lnTo>
                  <a:lnTo>
                    <a:pt x="364" y="23"/>
                  </a:lnTo>
                  <a:lnTo>
                    <a:pt x="356" y="21"/>
                  </a:lnTo>
                  <a:lnTo>
                    <a:pt x="348" y="21"/>
                  </a:lnTo>
                  <a:lnTo>
                    <a:pt x="340" y="23"/>
                  </a:lnTo>
                  <a:lnTo>
                    <a:pt x="332" y="26"/>
                  </a:lnTo>
                  <a:lnTo>
                    <a:pt x="324" y="27"/>
                  </a:lnTo>
                  <a:lnTo>
                    <a:pt x="319" y="36"/>
                  </a:lnTo>
                  <a:lnTo>
                    <a:pt x="312" y="43"/>
                  </a:lnTo>
                  <a:lnTo>
                    <a:pt x="307" y="47"/>
                  </a:lnTo>
                  <a:lnTo>
                    <a:pt x="300" y="50"/>
                  </a:lnTo>
                  <a:lnTo>
                    <a:pt x="293" y="51"/>
                  </a:lnTo>
                  <a:lnTo>
                    <a:pt x="285" y="51"/>
                  </a:lnTo>
                  <a:lnTo>
                    <a:pt x="278" y="50"/>
                  </a:lnTo>
                  <a:lnTo>
                    <a:pt x="270" y="48"/>
                  </a:lnTo>
                  <a:lnTo>
                    <a:pt x="256" y="46"/>
                  </a:lnTo>
                  <a:lnTo>
                    <a:pt x="241" y="46"/>
                  </a:lnTo>
                  <a:lnTo>
                    <a:pt x="234" y="47"/>
                  </a:lnTo>
                  <a:lnTo>
                    <a:pt x="228" y="50"/>
                  </a:lnTo>
                  <a:lnTo>
                    <a:pt x="221" y="55"/>
                  </a:lnTo>
                  <a:lnTo>
                    <a:pt x="214" y="62"/>
                  </a:lnTo>
                  <a:lnTo>
                    <a:pt x="206" y="68"/>
                  </a:lnTo>
                  <a:lnTo>
                    <a:pt x="268" y="155"/>
                  </a:lnTo>
                  <a:lnTo>
                    <a:pt x="265" y="162"/>
                  </a:lnTo>
                  <a:lnTo>
                    <a:pt x="257" y="166"/>
                  </a:lnTo>
                  <a:lnTo>
                    <a:pt x="248" y="169"/>
                  </a:lnTo>
                  <a:lnTo>
                    <a:pt x="240" y="173"/>
                  </a:lnTo>
                  <a:lnTo>
                    <a:pt x="232" y="177"/>
                  </a:lnTo>
                  <a:lnTo>
                    <a:pt x="222" y="179"/>
                  </a:lnTo>
                  <a:lnTo>
                    <a:pt x="214" y="183"/>
                  </a:lnTo>
                  <a:lnTo>
                    <a:pt x="205" y="186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5" y="188"/>
                  </a:lnTo>
                  <a:lnTo>
                    <a:pt x="193" y="188"/>
                  </a:lnTo>
                  <a:lnTo>
                    <a:pt x="191" y="186"/>
                  </a:lnTo>
                  <a:lnTo>
                    <a:pt x="189" y="186"/>
                  </a:lnTo>
                  <a:lnTo>
                    <a:pt x="186" y="186"/>
                  </a:lnTo>
                  <a:lnTo>
                    <a:pt x="183" y="186"/>
                  </a:lnTo>
                  <a:lnTo>
                    <a:pt x="182" y="185"/>
                  </a:lnTo>
                  <a:lnTo>
                    <a:pt x="179" y="185"/>
                  </a:lnTo>
                  <a:lnTo>
                    <a:pt x="177" y="185"/>
                  </a:lnTo>
                  <a:lnTo>
                    <a:pt x="167" y="178"/>
                  </a:lnTo>
                  <a:lnTo>
                    <a:pt x="158" y="170"/>
                  </a:lnTo>
                  <a:lnTo>
                    <a:pt x="150" y="162"/>
                  </a:lnTo>
                  <a:lnTo>
                    <a:pt x="140" y="153"/>
                  </a:lnTo>
                  <a:lnTo>
                    <a:pt x="131" y="146"/>
                  </a:lnTo>
                  <a:lnTo>
                    <a:pt x="122" y="139"/>
                  </a:lnTo>
                  <a:lnTo>
                    <a:pt x="116" y="137"/>
                  </a:lnTo>
                  <a:lnTo>
                    <a:pt x="111" y="135"/>
                  </a:lnTo>
                  <a:lnTo>
                    <a:pt x="104" y="135"/>
                  </a:lnTo>
                  <a:lnTo>
                    <a:pt x="99" y="134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96" y="133"/>
                  </a:lnTo>
                  <a:lnTo>
                    <a:pt x="95" y="133"/>
                  </a:lnTo>
                  <a:lnTo>
                    <a:pt x="95" y="133"/>
                  </a:lnTo>
                  <a:lnTo>
                    <a:pt x="94" y="131"/>
                  </a:lnTo>
                  <a:lnTo>
                    <a:pt x="94" y="131"/>
                  </a:lnTo>
                  <a:lnTo>
                    <a:pt x="92" y="131"/>
                  </a:lnTo>
                  <a:lnTo>
                    <a:pt x="87" y="126"/>
                  </a:lnTo>
                  <a:lnTo>
                    <a:pt x="82" y="122"/>
                  </a:lnTo>
                  <a:lnTo>
                    <a:pt x="76" y="119"/>
                  </a:lnTo>
                  <a:lnTo>
                    <a:pt x="71" y="115"/>
                  </a:lnTo>
                  <a:lnTo>
                    <a:pt x="64" y="113"/>
                  </a:lnTo>
                  <a:lnTo>
                    <a:pt x="59" y="110"/>
                  </a:lnTo>
                  <a:lnTo>
                    <a:pt x="52" y="107"/>
                  </a:lnTo>
                  <a:lnTo>
                    <a:pt x="47" y="103"/>
                  </a:lnTo>
                  <a:lnTo>
                    <a:pt x="43" y="102"/>
                  </a:lnTo>
                  <a:lnTo>
                    <a:pt x="39" y="99"/>
                  </a:lnTo>
                  <a:lnTo>
                    <a:pt x="35" y="98"/>
                  </a:lnTo>
                  <a:lnTo>
                    <a:pt x="31" y="95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19" y="88"/>
                  </a:lnTo>
                  <a:lnTo>
                    <a:pt x="16" y="87"/>
                  </a:lnTo>
                  <a:lnTo>
                    <a:pt x="13" y="86"/>
                  </a:lnTo>
                  <a:lnTo>
                    <a:pt x="12" y="84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1" y="75"/>
                  </a:lnTo>
                  <a:lnTo>
                    <a:pt x="0" y="74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3" y="56"/>
                  </a:lnTo>
                  <a:lnTo>
                    <a:pt x="72" y="54"/>
                  </a:lnTo>
                  <a:lnTo>
                    <a:pt x="90" y="50"/>
                  </a:lnTo>
                  <a:lnTo>
                    <a:pt x="108" y="46"/>
                  </a:lnTo>
                  <a:lnTo>
                    <a:pt x="126" y="39"/>
                  </a:lnTo>
                  <a:lnTo>
                    <a:pt x="143" y="32"/>
                  </a:lnTo>
                  <a:lnTo>
                    <a:pt x="150" y="34"/>
                  </a:lnTo>
                  <a:lnTo>
                    <a:pt x="158" y="34"/>
                  </a:lnTo>
                  <a:lnTo>
                    <a:pt x="165" y="34"/>
                  </a:lnTo>
                  <a:lnTo>
                    <a:pt x="171" y="32"/>
                  </a:lnTo>
                  <a:lnTo>
                    <a:pt x="185" y="28"/>
                  </a:lnTo>
                  <a:lnTo>
                    <a:pt x="198" y="24"/>
                  </a:lnTo>
                  <a:lnTo>
                    <a:pt x="211" y="19"/>
                  </a:lnTo>
                  <a:lnTo>
                    <a:pt x="225" y="15"/>
                  </a:lnTo>
                  <a:lnTo>
                    <a:pt x="232" y="13"/>
                  </a:lnTo>
                  <a:lnTo>
                    <a:pt x="240" y="13"/>
                  </a:lnTo>
                  <a:lnTo>
                    <a:pt x="248" y="13"/>
                  </a:lnTo>
                  <a:lnTo>
                    <a:pt x="256" y="15"/>
                  </a:lnTo>
                  <a:lnTo>
                    <a:pt x="269" y="12"/>
                  </a:lnTo>
                  <a:lnTo>
                    <a:pt x="282" y="11"/>
                  </a:lnTo>
                  <a:lnTo>
                    <a:pt x="296" y="9"/>
                  </a:lnTo>
                  <a:lnTo>
                    <a:pt x="311" y="7"/>
                  </a:lnTo>
                  <a:lnTo>
                    <a:pt x="324" y="5"/>
                  </a:lnTo>
                  <a:lnTo>
                    <a:pt x="337" y="3"/>
                  </a:lnTo>
                  <a:lnTo>
                    <a:pt x="351" y="1"/>
                  </a:lnTo>
                  <a:lnTo>
                    <a:pt x="364" y="0"/>
                  </a:lnTo>
                  <a:lnTo>
                    <a:pt x="370" y="1"/>
                  </a:lnTo>
                  <a:lnTo>
                    <a:pt x="374" y="3"/>
                  </a:lnTo>
                  <a:lnTo>
                    <a:pt x="379" y="5"/>
                  </a:lnTo>
                  <a:lnTo>
                    <a:pt x="384" y="8"/>
                  </a:lnTo>
                  <a:lnTo>
                    <a:pt x="387" y="12"/>
                  </a:lnTo>
                  <a:lnTo>
                    <a:pt x="390" y="15"/>
                  </a:lnTo>
                  <a:lnTo>
                    <a:pt x="390" y="20"/>
                  </a:lnTo>
                  <a:lnTo>
                    <a:pt x="388" y="26"/>
                  </a:lnTo>
                  <a:close/>
                </a:path>
              </a:pathLst>
            </a:custGeom>
            <a:solidFill>
              <a:srgbClr val="cb9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55320" y="5310720"/>
              <a:ext cx="127440" cy="139680"/>
            </a:xfrm>
            <a:custGeom>
              <a:avLst/>
              <a:gdLst/>
              <a:ahLst/>
              <a:rect l="l" t="t" r="r" b="b"/>
              <a:pathLst>
                <a:path w="278" h="318">
                  <a:moveTo>
                    <a:pt x="157" y="67"/>
                  </a:moveTo>
                  <a:lnTo>
                    <a:pt x="161" y="74"/>
                  </a:lnTo>
                  <a:lnTo>
                    <a:pt x="165" y="81"/>
                  </a:lnTo>
                  <a:lnTo>
                    <a:pt x="170" y="87"/>
                  </a:lnTo>
                  <a:lnTo>
                    <a:pt x="177" y="93"/>
                  </a:lnTo>
                  <a:lnTo>
                    <a:pt x="189" y="102"/>
                  </a:lnTo>
                  <a:lnTo>
                    <a:pt x="203" y="110"/>
                  </a:lnTo>
                  <a:lnTo>
                    <a:pt x="217" y="117"/>
                  </a:lnTo>
                  <a:lnTo>
                    <a:pt x="233" y="121"/>
                  </a:lnTo>
                  <a:lnTo>
                    <a:pt x="249" y="122"/>
                  </a:lnTo>
                  <a:lnTo>
                    <a:pt x="267" y="122"/>
                  </a:lnTo>
                  <a:lnTo>
                    <a:pt x="266" y="137"/>
                  </a:lnTo>
                  <a:lnTo>
                    <a:pt x="263" y="153"/>
                  </a:lnTo>
                  <a:lnTo>
                    <a:pt x="262" y="168"/>
                  </a:lnTo>
                  <a:lnTo>
                    <a:pt x="260" y="184"/>
                  </a:lnTo>
                  <a:lnTo>
                    <a:pt x="260" y="200"/>
                  </a:lnTo>
                  <a:lnTo>
                    <a:pt x="263" y="216"/>
                  </a:lnTo>
                  <a:lnTo>
                    <a:pt x="264" y="224"/>
                  </a:lnTo>
                  <a:lnTo>
                    <a:pt x="267" y="232"/>
                  </a:lnTo>
                  <a:lnTo>
                    <a:pt x="270" y="239"/>
                  </a:lnTo>
                  <a:lnTo>
                    <a:pt x="274" y="245"/>
                  </a:lnTo>
                  <a:lnTo>
                    <a:pt x="276" y="252"/>
                  </a:lnTo>
                  <a:lnTo>
                    <a:pt x="278" y="257"/>
                  </a:lnTo>
                  <a:lnTo>
                    <a:pt x="278" y="261"/>
                  </a:lnTo>
                  <a:lnTo>
                    <a:pt x="276" y="265"/>
                  </a:lnTo>
                  <a:lnTo>
                    <a:pt x="275" y="268"/>
                  </a:lnTo>
                  <a:lnTo>
                    <a:pt x="272" y="269"/>
                  </a:lnTo>
                  <a:lnTo>
                    <a:pt x="268" y="271"/>
                  </a:lnTo>
                  <a:lnTo>
                    <a:pt x="264" y="272"/>
                  </a:lnTo>
                  <a:lnTo>
                    <a:pt x="255" y="272"/>
                  </a:lnTo>
                  <a:lnTo>
                    <a:pt x="245" y="272"/>
                  </a:lnTo>
                  <a:lnTo>
                    <a:pt x="237" y="273"/>
                  </a:lnTo>
                  <a:lnTo>
                    <a:pt x="231" y="276"/>
                  </a:lnTo>
                  <a:lnTo>
                    <a:pt x="224" y="281"/>
                  </a:lnTo>
                  <a:lnTo>
                    <a:pt x="216" y="288"/>
                  </a:lnTo>
                  <a:lnTo>
                    <a:pt x="209" y="292"/>
                  </a:lnTo>
                  <a:lnTo>
                    <a:pt x="203" y="297"/>
                  </a:lnTo>
                  <a:lnTo>
                    <a:pt x="195" y="303"/>
                  </a:lnTo>
                  <a:lnTo>
                    <a:pt x="188" y="307"/>
                  </a:lnTo>
                  <a:lnTo>
                    <a:pt x="181" y="312"/>
                  </a:lnTo>
                  <a:lnTo>
                    <a:pt x="174" y="318"/>
                  </a:lnTo>
                  <a:lnTo>
                    <a:pt x="165" y="312"/>
                  </a:lnTo>
                  <a:lnTo>
                    <a:pt x="156" y="308"/>
                  </a:lnTo>
                  <a:lnTo>
                    <a:pt x="146" y="304"/>
                  </a:lnTo>
                  <a:lnTo>
                    <a:pt x="137" y="299"/>
                  </a:lnTo>
                  <a:lnTo>
                    <a:pt x="129" y="293"/>
                  </a:lnTo>
                  <a:lnTo>
                    <a:pt x="122" y="288"/>
                  </a:lnTo>
                  <a:lnTo>
                    <a:pt x="115" y="283"/>
                  </a:lnTo>
                  <a:lnTo>
                    <a:pt x="111" y="276"/>
                  </a:lnTo>
                  <a:lnTo>
                    <a:pt x="107" y="275"/>
                  </a:lnTo>
                  <a:lnTo>
                    <a:pt x="105" y="273"/>
                  </a:lnTo>
                  <a:lnTo>
                    <a:pt x="102" y="272"/>
                  </a:lnTo>
                  <a:lnTo>
                    <a:pt x="98" y="269"/>
                  </a:lnTo>
                  <a:lnTo>
                    <a:pt x="95" y="267"/>
                  </a:lnTo>
                  <a:lnTo>
                    <a:pt x="91" y="265"/>
                  </a:lnTo>
                  <a:lnTo>
                    <a:pt x="89" y="263"/>
                  </a:lnTo>
                  <a:lnTo>
                    <a:pt x="86" y="263"/>
                  </a:lnTo>
                  <a:lnTo>
                    <a:pt x="85" y="261"/>
                  </a:lnTo>
                  <a:lnTo>
                    <a:pt x="85" y="260"/>
                  </a:lnTo>
                  <a:lnTo>
                    <a:pt x="83" y="259"/>
                  </a:lnTo>
                  <a:lnTo>
                    <a:pt x="82" y="257"/>
                  </a:lnTo>
                  <a:lnTo>
                    <a:pt x="81" y="255"/>
                  </a:lnTo>
                  <a:lnTo>
                    <a:pt x="79" y="253"/>
                  </a:lnTo>
                  <a:lnTo>
                    <a:pt x="78" y="251"/>
                  </a:lnTo>
                  <a:lnTo>
                    <a:pt x="75" y="248"/>
                  </a:lnTo>
                  <a:lnTo>
                    <a:pt x="77" y="248"/>
                  </a:lnTo>
                  <a:lnTo>
                    <a:pt x="77" y="247"/>
                  </a:lnTo>
                  <a:lnTo>
                    <a:pt x="78" y="245"/>
                  </a:lnTo>
                  <a:lnTo>
                    <a:pt x="79" y="244"/>
                  </a:lnTo>
                  <a:lnTo>
                    <a:pt x="79" y="244"/>
                  </a:lnTo>
                  <a:lnTo>
                    <a:pt x="81" y="243"/>
                  </a:lnTo>
                  <a:lnTo>
                    <a:pt x="82" y="241"/>
                  </a:lnTo>
                  <a:lnTo>
                    <a:pt x="83" y="240"/>
                  </a:lnTo>
                  <a:lnTo>
                    <a:pt x="82" y="228"/>
                  </a:lnTo>
                  <a:lnTo>
                    <a:pt x="81" y="216"/>
                  </a:lnTo>
                  <a:lnTo>
                    <a:pt x="81" y="204"/>
                  </a:lnTo>
                  <a:lnTo>
                    <a:pt x="79" y="190"/>
                  </a:lnTo>
                  <a:lnTo>
                    <a:pt x="78" y="178"/>
                  </a:lnTo>
                  <a:lnTo>
                    <a:pt x="77" y="166"/>
                  </a:lnTo>
                  <a:lnTo>
                    <a:pt x="75" y="154"/>
                  </a:lnTo>
                  <a:lnTo>
                    <a:pt x="73" y="143"/>
                  </a:lnTo>
                  <a:lnTo>
                    <a:pt x="75" y="139"/>
                  </a:lnTo>
                  <a:lnTo>
                    <a:pt x="77" y="135"/>
                  </a:lnTo>
                  <a:lnTo>
                    <a:pt x="78" y="133"/>
                  </a:lnTo>
                  <a:lnTo>
                    <a:pt x="78" y="130"/>
                  </a:lnTo>
                  <a:lnTo>
                    <a:pt x="74" y="125"/>
                  </a:lnTo>
                  <a:lnTo>
                    <a:pt x="69" y="119"/>
                  </a:lnTo>
                  <a:lnTo>
                    <a:pt x="62" y="114"/>
                  </a:lnTo>
                  <a:lnTo>
                    <a:pt x="55" y="109"/>
                  </a:lnTo>
                  <a:lnTo>
                    <a:pt x="51" y="105"/>
                  </a:lnTo>
                  <a:lnTo>
                    <a:pt x="50" y="102"/>
                  </a:lnTo>
                  <a:lnTo>
                    <a:pt x="47" y="98"/>
                  </a:lnTo>
                  <a:lnTo>
                    <a:pt x="47" y="95"/>
                  </a:lnTo>
                  <a:lnTo>
                    <a:pt x="43" y="86"/>
                  </a:lnTo>
                  <a:lnTo>
                    <a:pt x="38" y="78"/>
                  </a:lnTo>
                  <a:lnTo>
                    <a:pt x="32" y="69"/>
                  </a:lnTo>
                  <a:lnTo>
                    <a:pt x="26" y="60"/>
                  </a:lnTo>
                  <a:lnTo>
                    <a:pt x="19" y="52"/>
                  </a:lnTo>
                  <a:lnTo>
                    <a:pt x="12" y="44"/>
                  </a:lnTo>
                  <a:lnTo>
                    <a:pt x="7" y="36"/>
                  </a:lnTo>
                  <a:lnTo>
                    <a:pt x="0" y="28"/>
                  </a:lnTo>
                  <a:lnTo>
                    <a:pt x="7" y="27"/>
                  </a:lnTo>
                  <a:lnTo>
                    <a:pt x="14" y="26"/>
                  </a:lnTo>
                  <a:lnTo>
                    <a:pt x="19" y="27"/>
                  </a:lnTo>
                  <a:lnTo>
                    <a:pt x="24" y="28"/>
                  </a:lnTo>
                  <a:lnTo>
                    <a:pt x="34" y="32"/>
                  </a:lnTo>
                  <a:lnTo>
                    <a:pt x="43" y="40"/>
                  </a:lnTo>
                  <a:lnTo>
                    <a:pt x="51" y="48"/>
                  </a:lnTo>
                  <a:lnTo>
                    <a:pt x="59" y="58"/>
                  </a:lnTo>
                  <a:lnTo>
                    <a:pt x="67" y="69"/>
                  </a:lnTo>
                  <a:lnTo>
                    <a:pt x="75" y="77"/>
                  </a:lnTo>
                  <a:lnTo>
                    <a:pt x="81" y="87"/>
                  </a:lnTo>
                  <a:lnTo>
                    <a:pt x="86" y="97"/>
                  </a:lnTo>
                  <a:lnTo>
                    <a:pt x="91" y="107"/>
                  </a:lnTo>
                  <a:lnTo>
                    <a:pt x="97" y="118"/>
                  </a:lnTo>
                  <a:lnTo>
                    <a:pt x="105" y="126"/>
                  </a:lnTo>
                  <a:lnTo>
                    <a:pt x="113" y="134"/>
                  </a:lnTo>
                  <a:lnTo>
                    <a:pt x="117" y="137"/>
                  </a:lnTo>
                  <a:lnTo>
                    <a:pt x="122" y="138"/>
                  </a:lnTo>
                  <a:lnTo>
                    <a:pt x="128" y="139"/>
                  </a:lnTo>
                  <a:lnTo>
                    <a:pt x="133" y="141"/>
                  </a:lnTo>
                  <a:lnTo>
                    <a:pt x="136" y="137"/>
                  </a:lnTo>
                  <a:lnTo>
                    <a:pt x="137" y="134"/>
                  </a:lnTo>
                  <a:lnTo>
                    <a:pt x="136" y="130"/>
                  </a:lnTo>
                  <a:lnTo>
                    <a:pt x="134" y="127"/>
                  </a:lnTo>
                  <a:lnTo>
                    <a:pt x="133" y="125"/>
                  </a:lnTo>
                  <a:lnTo>
                    <a:pt x="130" y="122"/>
                  </a:lnTo>
                  <a:lnTo>
                    <a:pt x="129" y="118"/>
                  </a:lnTo>
                  <a:lnTo>
                    <a:pt x="129" y="115"/>
                  </a:lnTo>
                  <a:lnTo>
                    <a:pt x="122" y="105"/>
                  </a:lnTo>
                  <a:lnTo>
                    <a:pt x="115" y="93"/>
                  </a:lnTo>
                  <a:lnTo>
                    <a:pt x="109" y="82"/>
                  </a:lnTo>
                  <a:lnTo>
                    <a:pt x="102" y="70"/>
                  </a:lnTo>
                  <a:lnTo>
                    <a:pt x="94" y="59"/>
                  </a:lnTo>
                  <a:lnTo>
                    <a:pt x="86" y="48"/>
                  </a:lnTo>
                  <a:lnTo>
                    <a:pt x="77" y="38"/>
                  </a:lnTo>
                  <a:lnTo>
                    <a:pt x="67" y="28"/>
                  </a:lnTo>
                  <a:lnTo>
                    <a:pt x="70" y="23"/>
                  </a:lnTo>
                  <a:lnTo>
                    <a:pt x="73" y="19"/>
                  </a:lnTo>
                  <a:lnTo>
                    <a:pt x="75" y="15"/>
                  </a:lnTo>
                  <a:lnTo>
                    <a:pt x="79" y="11"/>
                  </a:lnTo>
                  <a:lnTo>
                    <a:pt x="83" y="8"/>
                  </a:lnTo>
                  <a:lnTo>
                    <a:pt x="89" y="6"/>
                  </a:lnTo>
                  <a:lnTo>
                    <a:pt x="93" y="3"/>
                  </a:lnTo>
                  <a:lnTo>
                    <a:pt x="98" y="0"/>
                  </a:lnTo>
                  <a:lnTo>
                    <a:pt x="103" y="2"/>
                  </a:lnTo>
                  <a:lnTo>
                    <a:pt x="109" y="3"/>
                  </a:lnTo>
                  <a:lnTo>
                    <a:pt x="114" y="4"/>
                  </a:lnTo>
                  <a:lnTo>
                    <a:pt x="119" y="7"/>
                  </a:lnTo>
                  <a:lnTo>
                    <a:pt x="128" y="15"/>
                  </a:lnTo>
                  <a:lnTo>
                    <a:pt x="136" y="24"/>
                  </a:lnTo>
                  <a:lnTo>
                    <a:pt x="141" y="35"/>
                  </a:lnTo>
                  <a:lnTo>
                    <a:pt x="148" y="46"/>
                  </a:lnTo>
                  <a:lnTo>
                    <a:pt x="152" y="56"/>
                  </a:lnTo>
                  <a:lnTo>
                    <a:pt x="157" y="67"/>
                  </a:lnTo>
                  <a:close/>
                </a:path>
              </a:pathLst>
            </a:custGeom>
            <a:solidFill>
              <a:srgbClr val="fb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48480" y="5371560"/>
              <a:ext cx="32760" cy="39240"/>
            </a:xfrm>
            <a:custGeom>
              <a:avLst/>
              <a:gdLst/>
              <a:ahLst/>
              <a:rect l="l" t="t" r="r" b="b"/>
              <a:pathLst>
                <a:path w="74" h="91">
                  <a:moveTo>
                    <a:pt x="70" y="36"/>
                  </a:moveTo>
                  <a:lnTo>
                    <a:pt x="69" y="43"/>
                  </a:lnTo>
                  <a:lnTo>
                    <a:pt x="69" y="50"/>
                  </a:lnTo>
                  <a:lnTo>
                    <a:pt x="69" y="56"/>
                  </a:lnTo>
                  <a:lnTo>
                    <a:pt x="70" y="63"/>
                  </a:lnTo>
                  <a:lnTo>
                    <a:pt x="71" y="71"/>
                  </a:lnTo>
                  <a:lnTo>
                    <a:pt x="73" y="78"/>
                  </a:lnTo>
                  <a:lnTo>
                    <a:pt x="74" y="84"/>
                  </a:lnTo>
                  <a:lnTo>
                    <a:pt x="74" y="91"/>
                  </a:lnTo>
                  <a:lnTo>
                    <a:pt x="66" y="83"/>
                  </a:lnTo>
                  <a:lnTo>
                    <a:pt x="56" y="74"/>
                  </a:lnTo>
                  <a:lnTo>
                    <a:pt x="48" y="66"/>
                  </a:lnTo>
                  <a:lnTo>
                    <a:pt x="39" y="59"/>
                  </a:lnTo>
                  <a:lnTo>
                    <a:pt x="32" y="52"/>
                  </a:lnTo>
                  <a:lnTo>
                    <a:pt x="26" y="47"/>
                  </a:lnTo>
                  <a:lnTo>
                    <a:pt x="19" y="44"/>
                  </a:lnTo>
                  <a:lnTo>
                    <a:pt x="16" y="43"/>
                  </a:lnTo>
                  <a:lnTo>
                    <a:pt x="15" y="42"/>
                  </a:lnTo>
                  <a:lnTo>
                    <a:pt x="15" y="40"/>
                  </a:lnTo>
                  <a:lnTo>
                    <a:pt x="15" y="39"/>
                  </a:lnTo>
                  <a:lnTo>
                    <a:pt x="14" y="36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7" y="30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2" y="20"/>
                  </a:lnTo>
                  <a:lnTo>
                    <a:pt x="24" y="12"/>
                  </a:lnTo>
                  <a:lnTo>
                    <a:pt x="36" y="5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3" y="1"/>
                  </a:lnTo>
                  <a:lnTo>
                    <a:pt x="67" y="4"/>
                  </a:lnTo>
                  <a:lnTo>
                    <a:pt x="70" y="10"/>
                  </a:lnTo>
                  <a:lnTo>
                    <a:pt x="71" y="16"/>
                  </a:lnTo>
                  <a:lnTo>
                    <a:pt x="71" y="24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44600" y="5442480"/>
              <a:ext cx="72720" cy="43560"/>
            </a:xfrm>
            <a:custGeom>
              <a:avLst/>
              <a:gdLst/>
              <a:ahLst/>
              <a:rect l="l" t="t" r="r" b="b"/>
              <a:pathLst>
                <a:path w="159" h="100">
                  <a:moveTo>
                    <a:pt x="107" y="5"/>
                  </a:moveTo>
                  <a:lnTo>
                    <a:pt x="104" y="7"/>
                  </a:lnTo>
                  <a:lnTo>
                    <a:pt x="103" y="9"/>
                  </a:lnTo>
                  <a:lnTo>
                    <a:pt x="101" y="12"/>
                  </a:lnTo>
                  <a:lnTo>
                    <a:pt x="101" y="15"/>
                  </a:lnTo>
                  <a:lnTo>
                    <a:pt x="101" y="17"/>
                  </a:lnTo>
                  <a:lnTo>
                    <a:pt x="103" y="21"/>
                  </a:lnTo>
                  <a:lnTo>
                    <a:pt x="103" y="24"/>
                  </a:lnTo>
                  <a:lnTo>
                    <a:pt x="104" y="25"/>
                  </a:lnTo>
                  <a:lnTo>
                    <a:pt x="111" y="32"/>
                  </a:lnTo>
                  <a:lnTo>
                    <a:pt x="117" y="39"/>
                  </a:lnTo>
                  <a:lnTo>
                    <a:pt x="125" y="45"/>
                  </a:lnTo>
                  <a:lnTo>
                    <a:pt x="132" y="52"/>
                  </a:lnTo>
                  <a:lnTo>
                    <a:pt x="139" y="59"/>
                  </a:lnTo>
                  <a:lnTo>
                    <a:pt x="146" y="65"/>
                  </a:lnTo>
                  <a:lnTo>
                    <a:pt x="152" y="73"/>
                  </a:lnTo>
                  <a:lnTo>
                    <a:pt x="159" y="80"/>
                  </a:lnTo>
                  <a:lnTo>
                    <a:pt x="151" y="84"/>
                  </a:lnTo>
                  <a:lnTo>
                    <a:pt x="143" y="87"/>
                  </a:lnTo>
                  <a:lnTo>
                    <a:pt x="133" y="91"/>
                  </a:lnTo>
                  <a:lnTo>
                    <a:pt x="127" y="94"/>
                  </a:lnTo>
                  <a:lnTo>
                    <a:pt x="119" y="98"/>
                  </a:lnTo>
                  <a:lnTo>
                    <a:pt x="112" y="99"/>
                  </a:lnTo>
                  <a:lnTo>
                    <a:pt x="105" y="100"/>
                  </a:lnTo>
                  <a:lnTo>
                    <a:pt x="101" y="100"/>
                  </a:lnTo>
                  <a:lnTo>
                    <a:pt x="92" y="92"/>
                  </a:lnTo>
                  <a:lnTo>
                    <a:pt x="80" y="81"/>
                  </a:lnTo>
                  <a:lnTo>
                    <a:pt x="68" y="69"/>
                  </a:lnTo>
                  <a:lnTo>
                    <a:pt x="54" y="59"/>
                  </a:lnTo>
                  <a:lnTo>
                    <a:pt x="41" y="48"/>
                  </a:lnTo>
                  <a:lnTo>
                    <a:pt x="28" y="40"/>
                  </a:lnTo>
                  <a:lnTo>
                    <a:pt x="21" y="37"/>
                  </a:lnTo>
                  <a:lnTo>
                    <a:pt x="14" y="35"/>
                  </a:lnTo>
                  <a:lnTo>
                    <a:pt x="8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7" y="15"/>
                  </a:lnTo>
                  <a:lnTo>
                    <a:pt x="22" y="9"/>
                  </a:lnTo>
                  <a:lnTo>
                    <a:pt x="29" y="7"/>
                  </a:lnTo>
                  <a:lnTo>
                    <a:pt x="37" y="2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100" y="2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08680" y="5449320"/>
              <a:ext cx="27360" cy="2088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51" y="50"/>
                  </a:moveTo>
                  <a:lnTo>
                    <a:pt x="44" y="44"/>
                  </a:lnTo>
                  <a:lnTo>
                    <a:pt x="39" y="37"/>
                  </a:lnTo>
                  <a:lnTo>
                    <a:pt x="32" y="32"/>
                  </a:lnTo>
                  <a:lnTo>
                    <a:pt x="26" y="25"/>
                  </a:lnTo>
                  <a:lnTo>
                    <a:pt x="19" y="18"/>
                  </a:lnTo>
                  <a:lnTo>
                    <a:pt x="14" y="13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14" y="8"/>
                  </a:lnTo>
                  <a:lnTo>
                    <a:pt x="22" y="12"/>
                  </a:lnTo>
                  <a:lnTo>
                    <a:pt x="28" y="14"/>
                  </a:lnTo>
                  <a:lnTo>
                    <a:pt x="36" y="17"/>
                  </a:lnTo>
                  <a:lnTo>
                    <a:pt x="44" y="18"/>
                  </a:lnTo>
                  <a:lnTo>
                    <a:pt x="52" y="20"/>
                  </a:lnTo>
                  <a:lnTo>
                    <a:pt x="60" y="21"/>
                  </a:lnTo>
                  <a:lnTo>
                    <a:pt x="60" y="24"/>
                  </a:lnTo>
                  <a:lnTo>
                    <a:pt x="60" y="28"/>
                  </a:lnTo>
                  <a:lnTo>
                    <a:pt x="60" y="30"/>
                  </a:lnTo>
                  <a:lnTo>
                    <a:pt x="59" y="34"/>
                  </a:lnTo>
                  <a:lnTo>
                    <a:pt x="59" y="37"/>
                  </a:lnTo>
                  <a:lnTo>
                    <a:pt x="59" y="41"/>
                  </a:lnTo>
                  <a:lnTo>
                    <a:pt x="59" y="44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5" y="49"/>
                  </a:lnTo>
                  <a:lnTo>
                    <a:pt x="55" y="49"/>
                  </a:lnTo>
                  <a:lnTo>
                    <a:pt x="54" y="49"/>
                  </a:lnTo>
                  <a:lnTo>
                    <a:pt x="52" y="49"/>
                  </a:lnTo>
                  <a:lnTo>
                    <a:pt x="51" y="50"/>
                  </a:lnTo>
                  <a:close/>
                </a:path>
              </a:pathLst>
            </a:cu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rot="12685800">
            <a:off x="4114800" y="1294920"/>
            <a:ext cx="3889440" cy="4079880"/>
          </a:xfrm>
          <a:custGeom>
            <a:avLst/>
            <a:gdLst/>
            <a:ahLst/>
            <a:rect l="l" t="t" r="r" b="b"/>
            <a:pathLst>
              <a:path w="2279" h="2248">
                <a:moveTo>
                  <a:pt x="305" y="1866"/>
                </a:moveTo>
                <a:lnTo>
                  <a:pt x="302" y="1862"/>
                </a:lnTo>
                <a:lnTo>
                  <a:pt x="293" y="1849"/>
                </a:lnTo>
                <a:lnTo>
                  <a:pt x="279" y="1827"/>
                </a:lnTo>
                <a:lnTo>
                  <a:pt x="259" y="1799"/>
                </a:lnTo>
                <a:lnTo>
                  <a:pt x="237" y="1765"/>
                </a:lnTo>
                <a:lnTo>
                  <a:pt x="212" y="1726"/>
                </a:lnTo>
                <a:lnTo>
                  <a:pt x="185" y="1682"/>
                </a:lnTo>
                <a:lnTo>
                  <a:pt x="158" y="1635"/>
                </a:lnTo>
                <a:lnTo>
                  <a:pt x="130" y="1584"/>
                </a:lnTo>
                <a:lnTo>
                  <a:pt x="104" y="1532"/>
                </a:lnTo>
                <a:lnTo>
                  <a:pt x="77" y="1479"/>
                </a:lnTo>
                <a:lnTo>
                  <a:pt x="54" y="1426"/>
                </a:lnTo>
                <a:lnTo>
                  <a:pt x="35" y="1373"/>
                </a:lnTo>
                <a:lnTo>
                  <a:pt x="18" y="1321"/>
                </a:lnTo>
                <a:lnTo>
                  <a:pt x="8" y="1273"/>
                </a:lnTo>
                <a:lnTo>
                  <a:pt x="2" y="1227"/>
                </a:lnTo>
                <a:lnTo>
                  <a:pt x="1" y="1192"/>
                </a:lnTo>
                <a:lnTo>
                  <a:pt x="0" y="1157"/>
                </a:lnTo>
                <a:lnTo>
                  <a:pt x="0" y="1121"/>
                </a:lnTo>
                <a:lnTo>
                  <a:pt x="1" y="1085"/>
                </a:lnTo>
                <a:lnTo>
                  <a:pt x="2" y="1047"/>
                </a:lnTo>
                <a:lnTo>
                  <a:pt x="6" y="1009"/>
                </a:lnTo>
                <a:lnTo>
                  <a:pt x="9" y="970"/>
                </a:lnTo>
                <a:lnTo>
                  <a:pt x="14" y="931"/>
                </a:lnTo>
                <a:lnTo>
                  <a:pt x="20" y="892"/>
                </a:lnTo>
                <a:lnTo>
                  <a:pt x="28" y="851"/>
                </a:lnTo>
                <a:lnTo>
                  <a:pt x="37" y="812"/>
                </a:lnTo>
                <a:lnTo>
                  <a:pt x="47" y="772"/>
                </a:lnTo>
                <a:lnTo>
                  <a:pt x="60" y="733"/>
                </a:lnTo>
                <a:lnTo>
                  <a:pt x="74" y="692"/>
                </a:lnTo>
                <a:lnTo>
                  <a:pt x="91" y="652"/>
                </a:lnTo>
                <a:lnTo>
                  <a:pt x="109" y="612"/>
                </a:lnTo>
                <a:lnTo>
                  <a:pt x="129" y="573"/>
                </a:lnTo>
                <a:lnTo>
                  <a:pt x="152" y="532"/>
                </a:lnTo>
                <a:lnTo>
                  <a:pt x="177" y="493"/>
                </a:lnTo>
                <a:lnTo>
                  <a:pt x="205" y="454"/>
                </a:lnTo>
                <a:lnTo>
                  <a:pt x="242" y="407"/>
                </a:lnTo>
                <a:lnTo>
                  <a:pt x="281" y="363"/>
                </a:lnTo>
                <a:lnTo>
                  <a:pt x="321" y="323"/>
                </a:lnTo>
                <a:lnTo>
                  <a:pt x="364" y="285"/>
                </a:lnTo>
                <a:lnTo>
                  <a:pt x="407" y="250"/>
                </a:lnTo>
                <a:lnTo>
                  <a:pt x="452" y="218"/>
                </a:lnTo>
                <a:lnTo>
                  <a:pt x="497" y="188"/>
                </a:lnTo>
                <a:lnTo>
                  <a:pt x="543" y="161"/>
                </a:lnTo>
                <a:lnTo>
                  <a:pt x="589" y="136"/>
                </a:lnTo>
                <a:lnTo>
                  <a:pt x="634" y="114"/>
                </a:lnTo>
                <a:lnTo>
                  <a:pt x="679" y="95"/>
                </a:lnTo>
                <a:lnTo>
                  <a:pt x="724" y="77"/>
                </a:lnTo>
                <a:lnTo>
                  <a:pt x="767" y="61"/>
                </a:lnTo>
                <a:lnTo>
                  <a:pt x="810" y="49"/>
                </a:lnTo>
                <a:lnTo>
                  <a:pt x="850" y="37"/>
                </a:lnTo>
                <a:lnTo>
                  <a:pt x="889" y="28"/>
                </a:lnTo>
                <a:lnTo>
                  <a:pt x="904" y="24"/>
                </a:lnTo>
                <a:lnTo>
                  <a:pt x="919" y="22"/>
                </a:lnTo>
                <a:lnTo>
                  <a:pt x="934" y="19"/>
                </a:lnTo>
                <a:lnTo>
                  <a:pt x="951" y="16"/>
                </a:lnTo>
                <a:lnTo>
                  <a:pt x="967" y="14"/>
                </a:lnTo>
                <a:lnTo>
                  <a:pt x="983" y="12"/>
                </a:lnTo>
                <a:lnTo>
                  <a:pt x="999" y="9"/>
                </a:lnTo>
                <a:lnTo>
                  <a:pt x="1016" y="7"/>
                </a:lnTo>
                <a:lnTo>
                  <a:pt x="1032" y="6"/>
                </a:lnTo>
                <a:lnTo>
                  <a:pt x="1050" y="4"/>
                </a:lnTo>
                <a:lnTo>
                  <a:pt x="1068" y="2"/>
                </a:lnTo>
                <a:lnTo>
                  <a:pt x="1085" y="1"/>
                </a:lnTo>
                <a:lnTo>
                  <a:pt x="1103" y="1"/>
                </a:lnTo>
                <a:lnTo>
                  <a:pt x="1121" y="0"/>
                </a:lnTo>
                <a:lnTo>
                  <a:pt x="1139" y="0"/>
                </a:lnTo>
                <a:lnTo>
                  <a:pt x="1158" y="0"/>
                </a:lnTo>
                <a:lnTo>
                  <a:pt x="1182" y="1"/>
                </a:lnTo>
                <a:lnTo>
                  <a:pt x="1207" y="1"/>
                </a:lnTo>
                <a:lnTo>
                  <a:pt x="1232" y="4"/>
                </a:lnTo>
                <a:lnTo>
                  <a:pt x="1257" y="6"/>
                </a:lnTo>
                <a:lnTo>
                  <a:pt x="1282" y="8"/>
                </a:lnTo>
                <a:lnTo>
                  <a:pt x="1309" y="12"/>
                </a:lnTo>
                <a:lnTo>
                  <a:pt x="1334" y="16"/>
                </a:lnTo>
                <a:lnTo>
                  <a:pt x="1361" y="21"/>
                </a:lnTo>
                <a:lnTo>
                  <a:pt x="1386" y="27"/>
                </a:lnTo>
                <a:lnTo>
                  <a:pt x="1413" y="32"/>
                </a:lnTo>
                <a:lnTo>
                  <a:pt x="1439" y="39"/>
                </a:lnTo>
                <a:lnTo>
                  <a:pt x="1466" y="47"/>
                </a:lnTo>
                <a:lnTo>
                  <a:pt x="1492" y="57"/>
                </a:lnTo>
                <a:lnTo>
                  <a:pt x="1519" y="66"/>
                </a:lnTo>
                <a:lnTo>
                  <a:pt x="1545" y="75"/>
                </a:lnTo>
                <a:lnTo>
                  <a:pt x="1572" y="87"/>
                </a:lnTo>
                <a:lnTo>
                  <a:pt x="1598" y="98"/>
                </a:lnTo>
                <a:lnTo>
                  <a:pt x="1626" y="111"/>
                </a:lnTo>
                <a:lnTo>
                  <a:pt x="1652" y="125"/>
                </a:lnTo>
                <a:lnTo>
                  <a:pt x="1679" y="140"/>
                </a:lnTo>
                <a:lnTo>
                  <a:pt x="1705" y="156"/>
                </a:lnTo>
                <a:lnTo>
                  <a:pt x="1732" y="172"/>
                </a:lnTo>
                <a:lnTo>
                  <a:pt x="1758" y="189"/>
                </a:lnTo>
                <a:lnTo>
                  <a:pt x="1784" y="209"/>
                </a:lnTo>
                <a:lnTo>
                  <a:pt x="1810" y="228"/>
                </a:lnTo>
                <a:lnTo>
                  <a:pt x="1837" y="249"/>
                </a:lnTo>
                <a:lnTo>
                  <a:pt x="1862" y="271"/>
                </a:lnTo>
                <a:lnTo>
                  <a:pt x="1887" y="294"/>
                </a:lnTo>
                <a:lnTo>
                  <a:pt x="1913" y="318"/>
                </a:lnTo>
                <a:lnTo>
                  <a:pt x="1938" y="343"/>
                </a:lnTo>
                <a:lnTo>
                  <a:pt x="1963" y="370"/>
                </a:lnTo>
                <a:lnTo>
                  <a:pt x="1987" y="398"/>
                </a:lnTo>
                <a:lnTo>
                  <a:pt x="2037" y="457"/>
                </a:lnTo>
                <a:lnTo>
                  <a:pt x="2081" y="515"/>
                </a:lnTo>
                <a:lnTo>
                  <a:pt x="2120" y="572"/>
                </a:lnTo>
                <a:lnTo>
                  <a:pt x="2155" y="626"/>
                </a:lnTo>
                <a:lnTo>
                  <a:pt x="2183" y="677"/>
                </a:lnTo>
                <a:lnTo>
                  <a:pt x="2209" y="729"/>
                </a:lnTo>
                <a:lnTo>
                  <a:pt x="2228" y="780"/>
                </a:lnTo>
                <a:lnTo>
                  <a:pt x="2246" y="830"/>
                </a:lnTo>
                <a:lnTo>
                  <a:pt x="2258" y="878"/>
                </a:lnTo>
                <a:lnTo>
                  <a:pt x="2267" y="927"/>
                </a:lnTo>
                <a:lnTo>
                  <a:pt x="2274" y="976"/>
                </a:lnTo>
                <a:lnTo>
                  <a:pt x="2278" y="1024"/>
                </a:lnTo>
                <a:lnTo>
                  <a:pt x="2279" y="1074"/>
                </a:lnTo>
                <a:lnTo>
                  <a:pt x="2277" y="1124"/>
                </a:lnTo>
                <a:lnTo>
                  <a:pt x="2273" y="1175"/>
                </a:lnTo>
                <a:lnTo>
                  <a:pt x="2267" y="1227"/>
                </a:lnTo>
                <a:lnTo>
                  <a:pt x="2261" y="1276"/>
                </a:lnTo>
                <a:lnTo>
                  <a:pt x="2252" y="1329"/>
                </a:lnTo>
                <a:lnTo>
                  <a:pt x="2241" y="1387"/>
                </a:lnTo>
                <a:lnTo>
                  <a:pt x="2227" y="1447"/>
                </a:lnTo>
                <a:lnTo>
                  <a:pt x="2210" y="1509"/>
                </a:lnTo>
                <a:lnTo>
                  <a:pt x="2188" y="1573"/>
                </a:lnTo>
                <a:lnTo>
                  <a:pt x="2163" y="1637"/>
                </a:lnTo>
                <a:lnTo>
                  <a:pt x="2134" y="1702"/>
                </a:lnTo>
                <a:lnTo>
                  <a:pt x="2098" y="1765"/>
                </a:lnTo>
                <a:lnTo>
                  <a:pt x="2059" y="1827"/>
                </a:lnTo>
                <a:lnTo>
                  <a:pt x="2013" y="1887"/>
                </a:lnTo>
                <a:lnTo>
                  <a:pt x="1961" y="1943"/>
                </a:lnTo>
                <a:lnTo>
                  <a:pt x="1902" y="1996"/>
                </a:lnTo>
                <a:lnTo>
                  <a:pt x="1838" y="2045"/>
                </a:lnTo>
                <a:lnTo>
                  <a:pt x="1765" y="2087"/>
                </a:lnTo>
                <a:lnTo>
                  <a:pt x="1684" y="2124"/>
                </a:lnTo>
                <a:lnTo>
                  <a:pt x="1645" y="2139"/>
                </a:lnTo>
                <a:lnTo>
                  <a:pt x="1606" y="2154"/>
                </a:lnTo>
                <a:lnTo>
                  <a:pt x="1569" y="2167"/>
                </a:lnTo>
                <a:lnTo>
                  <a:pt x="1532" y="2180"/>
                </a:lnTo>
                <a:lnTo>
                  <a:pt x="1497" y="2190"/>
                </a:lnTo>
                <a:lnTo>
                  <a:pt x="1461" y="2200"/>
                </a:lnTo>
                <a:lnTo>
                  <a:pt x="1426" y="2208"/>
                </a:lnTo>
                <a:lnTo>
                  <a:pt x="1393" y="2216"/>
                </a:lnTo>
                <a:lnTo>
                  <a:pt x="1361" y="2223"/>
                </a:lnTo>
                <a:lnTo>
                  <a:pt x="1328" y="2229"/>
                </a:lnTo>
                <a:lnTo>
                  <a:pt x="1297" y="2235"/>
                </a:lnTo>
                <a:lnTo>
                  <a:pt x="1266" y="2238"/>
                </a:lnTo>
                <a:lnTo>
                  <a:pt x="1237" y="2242"/>
                </a:lnTo>
                <a:lnTo>
                  <a:pt x="1207" y="2245"/>
                </a:lnTo>
                <a:lnTo>
                  <a:pt x="1180" y="2246"/>
                </a:lnTo>
                <a:lnTo>
                  <a:pt x="1152" y="2248"/>
                </a:lnTo>
                <a:lnTo>
                  <a:pt x="1111" y="2248"/>
                </a:lnTo>
                <a:lnTo>
                  <a:pt x="1072" y="2245"/>
                </a:lnTo>
                <a:lnTo>
                  <a:pt x="1033" y="2242"/>
                </a:lnTo>
                <a:lnTo>
                  <a:pt x="998" y="2237"/>
                </a:lnTo>
                <a:lnTo>
                  <a:pt x="963" y="2230"/>
                </a:lnTo>
                <a:lnTo>
                  <a:pt x="930" y="2222"/>
                </a:lnTo>
                <a:lnTo>
                  <a:pt x="899" y="2213"/>
                </a:lnTo>
                <a:lnTo>
                  <a:pt x="869" y="2204"/>
                </a:lnTo>
                <a:lnTo>
                  <a:pt x="840" y="2192"/>
                </a:lnTo>
                <a:lnTo>
                  <a:pt x="812" y="2180"/>
                </a:lnTo>
                <a:lnTo>
                  <a:pt x="787" y="2167"/>
                </a:lnTo>
                <a:lnTo>
                  <a:pt x="762" y="2153"/>
                </a:lnTo>
                <a:lnTo>
                  <a:pt x="739" y="2138"/>
                </a:lnTo>
                <a:lnTo>
                  <a:pt x="717" y="2123"/>
                </a:lnTo>
                <a:lnTo>
                  <a:pt x="696" y="2107"/>
                </a:lnTo>
                <a:lnTo>
                  <a:pt x="676" y="2091"/>
                </a:lnTo>
                <a:lnTo>
                  <a:pt x="646" y="2063"/>
                </a:lnTo>
                <a:lnTo>
                  <a:pt x="615" y="2032"/>
                </a:lnTo>
                <a:lnTo>
                  <a:pt x="585" y="1999"/>
                </a:lnTo>
                <a:lnTo>
                  <a:pt x="558" y="1965"/>
                </a:lnTo>
                <a:lnTo>
                  <a:pt x="532" y="1934"/>
                </a:lnTo>
                <a:lnTo>
                  <a:pt x="514" y="1905"/>
                </a:lnTo>
                <a:lnTo>
                  <a:pt x="501" y="1882"/>
                </a:lnTo>
                <a:lnTo>
                  <a:pt x="497" y="1866"/>
                </a:lnTo>
                <a:lnTo>
                  <a:pt x="499" y="1855"/>
                </a:lnTo>
                <a:lnTo>
                  <a:pt x="506" y="1847"/>
                </a:lnTo>
                <a:lnTo>
                  <a:pt x="515" y="1841"/>
                </a:lnTo>
                <a:lnTo>
                  <a:pt x="529" y="1840"/>
                </a:lnTo>
                <a:lnTo>
                  <a:pt x="544" y="1842"/>
                </a:lnTo>
                <a:lnTo>
                  <a:pt x="561" y="1849"/>
                </a:lnTo>
                <a:lnTo>
                  <a:pt x="578" y="1860"/>
                </a:lnTo>
                <a:lnTo>
                  <a:pt x="597" y="1878"/>
                </a:lnTo>
                <a:lnTo>
                  <a:pt x="627" y="1908"/>
                </a:lnTo>
                <a:lnTo>
                  <a:pt x="659" y="1935"/>
                </a:lnTo>
                <a:lnTo>
                  <a:pt x="692" y="1961"/>
                </a:lnTo>
                <a:lnTo>
                  <a:pt x="726" y="1984"/>
                </a:lnTo>
                <a:lnTo>
                  <a:pt x="759" y="2004"/>
                </a:lnTo>
                <a:lnTo>
                  <a:pt x="794" y="2023"/>
                </a:lnTo>
                <a:lnTo>
                  <a:pt x="828" y="2039"/>
                </a:lnTo>
                <a:lnTo>
                  <a:pt x="862" y="2053"/>
                </a:lnTo>
                <a:lnTo>
                  <a:pt x="894" y="2064"/>
                </a:lnTo>
                <a:lnTo>
                  <a:pt x="925" y="2075"/>
                </a:lnTo>
                <a:lnTo>
                  <a:pt x="955" y="2083"/>
                </a:lnTo>
                <a:lnTo>
                  <a:pt x="983" y="2090"/>
                </a:lnTo>
                <a:lnTo>
                  <a:pt x="1008" y="2095"/>
                </a:lnTo>
                <a:lnTo>
                  <a:pt x="1031" y="2099"/>
                </a:lnTo>
                <a:lnTo>
                  <a:pt x="1051" y="2100"/>
                </a:lnTo>
                <a:lnTo>
                  <a:pt x="1068" y="2101"/>
                </a:lnTo>
                <a:lnTo>
                  <a:pt x="1095" y="2100"/>
                </a:lnTo>
                <a:lnTo>
                  <a:pt x="1126" y="2099"/>
                </a:lnTo>
                <a:lnTo>
                  <a:pt x="1161" y="2095"/>
                </a:lnTo>
                <a:lnTo>
                  <a:pt x="1202" y="2091"/>
                </a:lnTo>
                <a:lnTo>
                  <a:pt x="1245" y="2084"/>
                </a:lnTo>
                <a:lnTo>
                  <a:pt x="1290" y="2077"/>
                </a:lnTo>
                <a:lnTo>
                  <a:pt x="1338" y="2068"/>
                </a:lnTo>
                <a:lnTo>
                  <a:pt x="1387" y="2057"/>
                </a:lnTo>
                <a:lnTo>
                  <a:pt x="1436" y="2046"/>
                </a:lnTo>
                <a:lnTo>
                  <a:pt x="1484" y="2032"/>
                </a:lnTo>
                <a:lnTo>
                  <a:pt x="1531" y="2017"/>
                </a:lnTo>
                <a:lnTo>
                  <a:pt x="1577" y="2002"/>
                </a:lnTo>
                <a:lnTo>
                  <a:pt x="1621" y="1984"/>
                </a:lnTo>
                <a:lnTo>
                  <a:pt x="1661" y="1965"/>
                </a:lnTo>
                <a:lnTo>
                  <a:pt x="1697" y="1945"/>
                </a:lnTo>
                <a:lnTo>
                  <a:pt x="1729" y="1923"/>
                </a:lnTo>
                <a:lnTo>
                  <a:pt x="1774" y="1885"/>
                </a:lnTo>
                <a:lnTo>
                  <a:pt x="1817" y="1844"/>
                </a:lnTo>
                <a:lnTo>
                  <a:pt x="1857" y="1801"/>
                </a:lnTo>
                <a:lnTo>
                  <a:pt x="1894" y="1753"/>
                </a:lnTo>
                <a:lnTo>
                  <a:pt x="1929" y="1704"/>
                </a:lnTo>
                <a:lnTo>
                  <a:pt x="1961" y="1652"/>
                </a:lnTo>
                <a:lnTo>
                  <a:pt x="1990" y="1598"/>
                </a:lnTo>
                <a:lnTo>
                  <a:pt x="2015" y="1541"/>
                </a:lnTo>
                <a:lnTo>
                  <a:pt x="2038" y="1483"/>
                </a:lnTo>
                <a:lnTo>
                  <a:pt x="2058" y="1422"/>
                </a:lnTo>
                <a:lnTo>
                  <a:pt x="2074" y="1358"/>
                </a:lnTo>
                <a:lnTo>
                  <a:pt x="2085" y="1295"/>
                </a:lnTo>
                <a:lnTo>
                  <a:pt x="2095" y="1229"/>
                </a:lnTo>
                <a:lnTo>
                  <a:pt x="2100" y="1162"/>
                </a:lnTo>
                <a:lnTo>
                  <a:pt x="2102" y="1094"/>
                </a:lnTo>
                <a:lnTo>
                  <a:pt x="2099" y="1025"/>
                </a:lnTo>
                <a:lnTo>
                  <a:pt x="2092" y="972"/>
                </a:lnTo>
                <a:lnTo>
                  <a:pt x="2080" y="914"/>
                </a:lnTo>
                <a:lnTo>
                  <a:pt x="2060" y="853"/>
                </a:lnTo>
                <a:lnTo>
                  <a:pt x="2034" y="788"/>
                </a:lnTo>
                <a:lnTo>
                  <a:pt x="2001" y="722"/>
                </a:lnTo>
                <a:lnTo>
                  <a:pt x="1964" y="657"/>
                </a:lnTo>
                <a:lnTo>
                  <a:pt x="1922" y="591"/>
                </a:lnTo>
                <a:lnTo>
                  <a:pt x="1875" y="528"/>
                </a:lnTo>
                <a:lnTo>
                  <a:pt x="1823" y="467"/>
                </a:lnTo>
                <a:lnTo>
                  <a:pt x="1766" y="410"/>
                </a:lnTo>
                <a:lnTo>
                  <a:pt x="1706" y="357"/>
                </a:lnTo>
                <a:lnTo>
                  <a:pt x="1643" y="311"/>
                </a:lnTo>
                <a:lnTo>
                  <a:pt x="1577" y="272"/>
                </a:lnTo>
                <a:lnTo>
                  <a:pt x="1507" y="241"/>
                </a:lnTo>
                <a:lnTo>
                  <a:pt x="1436" y="219"/>
                </a:lnTo>
                <a:lnTo>
                  <a:pt x="1361" y="207"/>
                </a:lnTo>
                <a:lnTo>
                  <a:pt x="1324" y="204"/>
                </a:lnTo>
                <a:lnTo>
                  <a:pt x="1287" y="202"/>
                </a:lnTo>
                <a:lnTo>
                  <a:pt x="1252" y="199"/>
                </a:lnTo>
                <a:lnTo>
                  <a:pt x="1218" y="197"/>
                </a:lnTo>
                <a:lnTo>
                  <a:pt x="1184" y="195"/>
                </a:lnTo>
                <a:lnTo>
                  <a:pt x="1153" y="194"/>
                </a:lnTo>
                <a:lnTo>
                  <a:pt x="1121" y="194"/>
                </a:lnTo>
                <a:lnTo>
                  <a:pt x="1091" y="193"/>
                </a:lnTo>
                <a:lnTo>
                  <a:pt x="1061" y="193"/>
                </a:lnTo>
                <a:lnTo>
                  <a:pt x="1032" y="194"/>
                </a:lnTo>
                <a:lnTo>
                  <a:pt x="1004" y="195"/>
                </a:lnTo>
                <a:lnTo>
                  <a:pt x="976" y="197"/>
                </a:lnTo>
                <a:lnTo>
                  <a:pt x="949" y="199"/>
                </a:lnTo>
                <a:lnTo>
                  <a:pt x="923" y="203"/>
                </a:lnTo>
                <a:lnTo>
                  <a:pt x="896" y="206"/>
                </a:lnTo>
                <a:lnTo>
                  <a:pt x="871" y="211"/>
                </a:lnTo>
                <a:lnTo>
                  <a:pt x="846" y="217"/>
                </a:lnTo>
                <a:lnTo>
                  <a:pt x="820" y="222"/>
                </a:lnTo>
                <a:lnTo>
                  <a:pt x="796" y="229"/>
                </a:lnTo>
                <a:lnTo>
                  <a:pt x="771" y="237"/>
                </a:lnTo>
                <a:lnTo>
                  <a:pt x="747" y="247"/>
                </a:lnTo>
                <a:lnTo>
                  <a:pt x="722" y="256"/>
                </a:lnTo>
                <a:lnTo>
                  <a:pt x="698" y="266"/>
                </a:lnTo>
                <a:lnTo>
                  <a:pt x="674" y="278"/>
                </a:lnTo>
                <a:lnTo>
                  <a:pt x="650" y="290"/>
                </a:lnTo>
                <a:lnTo>
                  <a:pt x="626" y="304"/>
                </a:lnTo>
                <a:lnTo>
                  <a:pt x="600" y="319"/>
                </a:lnTo>
                <a:lnTo>
                  <a:pt x="576" y="334"/>
                </a:lnTo>
                <a:lnTo>
                  <a:pt x="551" y="351"/>
                </a:lnTo>
                <a:lnTo>
                  <a:pt x="525" y="370"/>
                </a:lnTo>
                <a:lnTo>
                  <a:pt x="500" y="388"/>
                </a:lnTo>
                <a:lnTo>
                  <a:pt x="474" y="409"/>
                </a:lnTo>
                <a:lnTo>
                  <a:pt x="432" y="445"/>
                </a:lnTo>
                <a:lnTo>
                  <a:pt x="395" y="484"/>
                </a:lnTo>
                <a:lnTo>
                  <a:pt x="361" y="525"/>
                </a:lnTo>
                <a:lnTo>
                  <a:pt x="331" y="568"/>
                </a:lnTo>
                <a:lnTo>
                  <a:pt x="303" y="612"/>
                </a:lnTo>
                <a:lnTo>
                  <a:pt x="279" y="658"/>
                </a:lnTo>
                <a:lnTo>
                  <a:pt x="258" y="705"/>
                </a:lnTo>
                <a:lnTo>
                  <a:pt x="240" y="752"/>
                </a:lnTo>
                <a:lnTo>
                  <a:pt x="224" y="800"/>
                </a:lnTo>
                <a:lnTo>
                  <a:pt x="210" y="848"/>
                </a:lnTo>
                <a:lnTo>
                  <a:pt x="197" y="895"/>
                </a:lnTo>
                <a:lnTo>
                  <a:pt x="188" y="941"/>
                </a:lnTo>
                <a:lnTo>
                  <a:pt x="179" y="987"/>
                </a:lnTo>
                <a:lnTo>
                  <a:pt x="172" y="1031"/>
                </a:lnTo>
                <a:lnTo>
                  <a:pt x="165" y="1075"/>
                </a:lnTo>
                <a:lnTo>
                  <a:pt x="160" y="1115"/>
                </a:lnTo>
                <a:lnTo>
                  <a:pt x="157" y="1168"/>
                </a:lnTo>
                <a:lnTo>
                  <a:pt x="158" y="1222"/>
                </a:lnTo>
                <a:lnTo>
                  <a:pt x="162" y="1278"/>
                </a:lnTo>
                <a:lnTo>
                  <a:pt x="172" y="1332"/>
                </a:lnTo>
                <a:lnTo>
                  <a:pt x="184" y="1386"/>
                </a:lnTo>
                <a:lnTo>
                  <a:pt x="198" y="1439"/>
                </a:lnTo>
                <a:lnTo>
                  <a:pt x="215" y="1491"/>
                </a:lnTo>
                <a:lnTo>
                  <a:pt x="233" y="1539"/>
                </a:lnTo>
                <a:lnTo>
                  <a:pt x="251" y="1586"/>
                </a:lnTo>
                <a:lnTo>
                  <a:pt x="268" y="1629"/>
                </a:lnTo>
                <a:lnTo>
                  <a:pt x="286" y="1668"/>
                </a:lnTo>
                <a:lnTo>
                  <a:pt x="302" y="1703"/>
                </a:lnTo>
                <a:lnTo>
                  <a:pt x="316" y="1733"/>
                </a:lnTo>
                <a:lnTo>
                  <a:pt x="327" y="1758"/>
                </a:lnTo>
                <a:lnTo>
                  <a:pt x="334" y="1776"/>
                </a:lnTo>
                <a:lnTo>
                  <a:pt x="339" y="1788"/>
                </a:lnTo>
                <a:lnTo>
                  <a:pt x="346" y="1809"/>
                </a:lnTo>
                <a:lnTo>
                  <a:pt x="354" y="1833"/>
                </a:lnTo>
                <a:lnTo>
                  <a:pt x="363" y="1859"/>
                </a:lnTo>
                <a:lnTo>
                  <a:pt x="369" y="1882"/>
                </a:lnTo>
                <a:lnTo>
                  <a:pt x="369" y="1897"/>
                </a:lnTo>
                <a:lnTo>
                  <a:pt x="359" y="1903"/>
                </a:lnTo>
                <a:lnTo>
                  <a:pt x="340" y="1894"/>
                </a:lnTo>
                <a:lnTo>
                  <a:pt x="305" y="186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31000" y="279576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ud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272360" y="2743200"/>
            <a:ext cx="1189080" cy="966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8034480" y="2057400"/>
            <a:ext cx="1033200" cy="1362240"/>
          </a:xfrm>
          <a:custGeom>
            <a:avLst/>
            <a:gdLst/>
            <a:ahLst/>
            <a:rect l="l" t="t" r="r" b="b"/>
            <a:pathLst>
              <a:path w="3256" h="4290">
                <a:moveTo>
                  <a:pt x="3247" y="792"/>
                </a:moveTo>
                <a:lnTo>
                  <a:pt x="3247" y="742"/>
                </a:lnTo>
                <a:lnTo>
                  <a:pt x="3243" y="737"/>
                </a:lnTo>
                <a:lnTo>
                  <a:pt x="3240" y="735"/>
                </a:lnTo>
                <a:lnTo>
                  <a:pt x="3234" y="734"/>
                </a:lnTo>
                <a:lnTo>
                  <a:pt x="3229" y="733"/>
                </a:lnTo>
                <a:lnTo>
                  <a:pt x="3227" y="728"/>
                </a:lnTo>
                <a:lnTo>
                  <a:pt x="3227" y="723"/>
                </a:lnTo>
                <a:lnTo>
                  <a:pt x="3228" y="717"/>
                </a:lnTo>
                <a:lnTo>
                  <a:pt x="3229" y="710"/>
                </a:lnTo>
                <a:lnTo>
                  <a:pt x="3222" y="706"/>
                </a:lnTo>
                <a:lnTo>
                  <a:pt x="3220" y="706"/>
                </a:lnTo>
                <a:lnTo>
                  <a:pt x="3216" y="701"/>
                </a:lnTo>
                <a:lnTo>
                  <a:pt x="3215" y="694"/>
                </a:lnTo>
                <a:lnTo>
                  <a:pt x="3215" y="685"/>
                </a:lnTo>
                <a:lnTo>
                  <a:pt x="3216" y="679"/>
                </a:lnTo>
                <a:lnTo>
                  <a:pt x="3210" y="676"/>
                </a:lnTo>
                <a:lnTo>
                  <a:pt x="3206" y="674"/>
                </a:lnTo>
                <a:lnTo>
                  <a:pt x="3203" y="669"/>
                </a:lnTo>
                <a:lnTo>
                  <a:pt x="3202" y="664"/>
                </a:lnTo>
                <a:lnTo>
                  <a:pt x="3202" y="658"/>
                </a:lnTo>
                <a:lnTo>
                  <a:pt x="3202" y="651"/>
                </a:lnTo>
                <a:lnTo>
                  <a:pt x="3199" y="649"/>
                </a:lnTo>
                <a:lnTo>
                  <a:pt x="3196" y="649"/>
                </a:lnTo>
                <a:lnTo>
                  <a:pt x="3192" y="648"/>
                </a:lnTo>
                <a:lnTo>
                  <a:pt x="3189" y="647"/>
                </a:lnTo>
                <a:lnTo>
                  <a:pt x="3185" y="645"/>
                </a:lnTo>
                <a:lnTo>
                  <a:pt x="3184" y="642"/>
                </a:lnTo>
                <a:lnTo>
                  <a:pt x="3184" y="636"/>
                </a:lnTo>
                <a:lnTo>
                  <a:pt x="3184" y="633"/>
                </a:lnTo>
                <a:lnTo>
                  <a:pt x="3179" y="632"/>
                </a:lnTo>
                <a:lnTo>
                  <a:pt x="3178" y="631"/>
                </a:lnTo>
                <a:lnTo>
                  <a:pt x="3174" y="628"/>
                </a:lnTo>
                <a:lnTo>
                  <a:pt x="3171" y="624"/>
                </a:lnTo>
                <a:lnTo>
                  <a:pt x="3170" y="619"/>
                </a:lnTo>
                <a:lnTo>
                  <a:pt x="3170" y="612"/>
                </a:lnTo>
                <a:lnTo>
                  <a:pt x="3170" y="605"/>
                </a:lnTo>
                <a:lnTo>
                  <a:pt x="3167" y="604"/>
                </a:lnTo>
                <a:lnTo>
                  <a:pt x="3161" y="601"/>
                </a:lnTo>
                <a:lnTo>
                  <a:pt x="3159" y="599"/>
                </a:lnTo>
                <a:lnTo>
                  <a:pt x="3159" y="596"/>
                </a:lnTo>
                <a:lnTo>
                  <a:pt x="3158" y="591"/>
                </a:lnTo>
                <a:lnTo>
                  <a:pt x="3157" y="588"/>
                </a:lnTo>
                <a:lnTo>
                  <a:pt x="3149" y="585"/>
                </a:lnTo>
                <a:lnTo>
                  <a:pt x="3143" y="583"/>
                </a:lnTo>
                <a:lnTo>
                  <a:pt x="3138" y="579"/>
                </a:lnTo>
                <a:lnTo>
                  <a:pt x="3138" y="574"/>
                </a:lnTo>
                <a:lnTo>
                  <a:pt x="3133" y="573"/>
                </a:lnTo>
                <a:lnTo>
                  <a:pt x="3130" y="571"/>
                </a:lnTo>
                <a:lnTo>
                  <a:pt x="3127" y="566"/>
                </a:lnTo>
                <a:lnTo>
                  <a:pt x="3125" y="561"/>
                </a:lnTo>
                <a:lnTo>
                  <a:pt x="3122" y="561"/>
                </a:lnTo>
                <a:lnTo>
                  <a:pt x="3120" y="561"/>
                </a:lnTo>
                <a:lnTo>
                  <a:pt x="3115" y="561"/>
                </a:lnTo>
                <a:lnTo>
                  <a:pt x="3113" y="556"/>
                </a:lnTo>
                <a:lnTo>
                  <a:pt x="3113" y="552"/>
                </a:lnTo>
                <a:lnTo>
                  <a:pt x="3112" y="548"/>
                </a:lnTo>
                <a:lnTo>
                  <a:pt x="3111" y="542"/>
                </a:lnTo>
                <a:lnTo>
                  <a:pt x="3104" y="542"/>
                </a:lnTo>
                <a:lnTo>
                  <a:pt x="3102" y="542"/>
                </a:lnTo>
                <a:lnTo>
                  <a:pt x="3097" y="537"/>
                </a:lnTo>
                <a:lnTo>
                  <a:pt x="3096" y="532"/>
                </a:lnTo>
                <a:lnTo>
                  <a:pt x="3093" y="526"/>
                </a:lnTo>
                <a:lnTo>
                  <a:pt x="3092" y="519"/>
                </a:lnTo>
                <a:lnTo>
                  <a:pt x="3091" y="516"/>
                </a:lnTo>
                <a:lnTo>
                  <a:pt x="3091" y="515"/>
                </a:lnTo>
                <a:lnTo>
                  <a:pt x="3088" y="515"/>
                </a:lnTo>
                <a:lnTo>
                  <a:pt x="3084" y="515"/>
                </a:lnTo>
                <a:lnTo>
                  <a:pt x="3079" y="506"/>
                </a:lnTo>
                <a:lnTo>
                  <a:pt x="3080" y="496"/>
                </a:lnTo>
                <a:lnTo>
                  <a:pt x="3081" y="486"/>
                </a:lnTo>
                <a:lnTo>
                  <a:pt x="3084" y="479"/>
                </a:lnTo>
                <a:lnTo>
                  <a:pt x="3077" y="472"/>
                </a:lnTo>
                <a:lnTo>
                  <a:pt x="3075" y="469"/>
                </a:lnTo>
                <a:lnTo>
                  <a:pt x="3069" y="467"/>
                </a:lnTo>
                <a:lnTo>
                  <a:pt x="3068" y="463"/>
                </a:lnTo>
                <a:lnTo>
                  <a:pt x="3066" y="459"/>
                </a:lnTo>
                <a:lnTo>
                  <a:pt x="3065" y="456"/>
                </a:lnTo>
                <a:lnTo>
                  <a:pt x="3062" y="454"/>
                </a:lnTo>
                <a:lnTo>
                  <a:pt x="3056" y="451"/>
                </a:lnTo>
                <a:lnTo>
                  <a:pt x="3052" y="448"/>
                </a:lnTo>
                <a:lnTo>
                  <a:pt x="3048" y="442"/>
                </a:lnTo>
                <a:lnTo>
                  <a:pt x="3043" y="441"/>
                </a:lnTo>
                <a:lnTo>
                  <a:pt x="3041" y="438"/>
                </a:lnTo>
                <a:lnTo>
                  <a:pt x="3038" y="434"/>
                </a:lnTo>
                <a:lnTo>
                  <a:pt x="3038" y="429"/>
                </a:lnTo>
                <a:lnTo>
                  <a:pt x="3002" y="429"/>
                </a:lnTo>
                <a:lnTo>
                  <a:pt x="2996" y="426"/>
                </a:lnTo>
                <a:lnTo>
                  <a:pt x="2995" y="422"/>
                </a:lnTo>
                <a:lnTo>
                  <a:pt x="2994" y="415"/>
                </a:lnTo>
                <a:lnTo>
                  <a:pt x="2993" y="410"/>
                </a:lnTo>
                <a:lnTo>
                  <a:pt x="2956" y="410"/>
                </a:lnTo>
                <a:lnTo>
                  <a:pt x="2953" y="409"/>
                </a:lnTo>
                <a:lnTo>
                  <a:pt x="2951" y="407"/>
                </a:lnTo>
                <a:lnTo>
                  <a:pt x="2949" y="402"/>
                </a:lnTo>
                <a:lnTo>
                  <a:pt x="2947" y="397"/>
                </a:lnTo>
                <a:lnTo>
                  <a:pt x="2915" y="397"/>
                </a:lnTo>
                <a:lnTo>
                  <a:pt x="2910" y="396"/>
                </a:lnTo>
                <a:lnTo>
                  <a:pt x="2909" y="394"/>
                </a:lnTo>
                <a:lnTo>
                  <a:pt x="2907" y="390"/>
                </a:lnTo>
                <a:lnTo>
                  <a:pt x="2902" y="387"/>
                </a:lnTo>
                <a:lnTo>
                  <a:pt x="2884" y="383"/>
                </a:lnTo>
                <a:lnTo>
                  <a:pt x="2878" y="380"/>
                </a:lnTo>
                <a:lnTo>
                  <a:pt x="2877" y="377"/>
                </a:lnTo>
                <a:lnTo>
                  <a:pt x="2876" y="373"/>
                </a:lnTo>
                <a:lnTo>
                  <a:pt x="2875" y="370"/>
                </a:lnTo>
                <a:lnTo>
                  <a:pt x="2838" y="365"/>
                </a:lnTo>
                <a:lnTo>
                  <a:pt x="2834" y="362"/>
                </a:lnTo>
                <a:lnTo>
                  <a:pt x="2829" y="355"/>
                </a:lnTo>
                <a:lnTo>
                  <a:pt x="2824" y="352"/>
                </a:lnTo>
                <a:lnTo>
                  <a:pt x="2820" y="350"/>
                </a:lnTo>
                <a:lnTo>
                  <a:pt x="2817" y="347"/>
                </a:lnTo>
                <a:lnTo>
                  <a:pt x="2815" y="342"/>
                </a:lnTo>
                <a:lnTo>
                  <a:pt x="2813" y="341"/>
                </a:lnTo>
                <a:lnTo>
                  <a:pt x="2811" y="338"/>
                </a:lnTo>
                <a:lnTo>
                  <a:pt x="2805" y="336"/>
                </a:lnTo>
                <a:lnTo>
                  <a:pt x="2804" y="332"/>
                </a:lnTo>
                <a:lnTo>
                  <a:pt x="2803" y="327"/>
                </a:lnTo>
                <a:lnTo>
                  <a:pt x="2802" y="324"/>
                </a:lnTo>
                <a:lnTo>
                  <a:pt x="2783" y="324"/>
                </a:lnTo>
                <a:lnTo>
                  <a:pt x="2778" y="321"/>
                </a:lnTo>
                <a:lnTo>
                  <a:pt x="2775" y="318"/>
                </a:lnTo>
                <a:lnTo>
                  <a:pt x="2772" y="314"/>
                </a:lnTo>
                <a:lnTo>
                  <a:pt x="2770" y="311"/>
                </a:lnTo>
                <a:lnTo>
                  <a:pt x="2766" y="308"/>
                </a:lnTo>
                <a:lnTo>
                  <a:pt x="2763" y="306"/>
                </a:lnTo>
                <a:lnTo>
                  <a:pt x="2759" y="302"/>
                </a:lnTo>
                <a:lnTo>
                  <a:pt x="2756" y="296"/>
                </a:lnTo>
                <a:lnTo>
                  <a:pt x="2753" y="294"/>
                </a:lnTo>
                <a:lnTo>
                  <a:pt x="2747" y="292"/>
                </a:lnTo>
                <a:lnTo>
                  <a:pt x="2743" y="291"/>
                </a:lnTo>
                <a:lnTo>
                  <a:pt x="2743" y="288"/>
                </a:lnTo>
                <a:lnTo>
                  <a:pt x="2742" y="283"/>
                </a:lnTo>
                <a:lnTo>
                  <a:pt x="2739" y="278"/>
                </a:lnTo>
                <a:lnTo>
                  <a:pt x="2724" y="278"/>
                </a:lnTo>
                <a:lnTo>
                  <a:pt x="2719" y="276"/>
                </a:lnTo>
                <a:lnTo>
                  <a:pt x="2718" y="272"/>
                </a:lnTo>
                <a:lnTo>
                  <a:pt x="2717" y="268"/>
                </a:lnTo>
                <a:lnTo>
                  <a:pt x="2716" y="265"/>
                </a:lnTo>
                <a:lnTo>
                  <a:pt x="2708" y="265"/>
                </a:lnTo>
                <a:lnTo>
                  <a:pt x="2701" y="265"/>
                </a:lnTo>
                <a:lnTo>
                  <a:pt x="2697" y="259"/>
                </a:lnTo>
                <a:lnTo>
                  <a:pt x="2697" y="253"/>
                </a:lnTo>
                <a:lnTo>
                  <a:pt x="2698" y="244"/>
                </a:lnTo>
                <a:lnTo>
                  <a:pt x="2697" y="237"/>
                </a:lnTo>
                <a:lnTo>
                  <a:pt x="2693" y="234"/>
                </a:lnTo>
                <a:lnTo>
                  <a:pt x="2688" y="232"/>
                </a:lnTo>
                <a:lnTo>
                  <a:pt x="2685" y="229"/>
                </a:lnTo>
                <a:lnTo>
                  <a:pt x="2684" y="224"/>
                </a:lnTo>
                <a:lnTo>
                  <a:pt x="2677" y="220"/>
                </a:lnTo>
                <a:lnTo>
                  <a:pt x="2674" y="217"/>
                </a:lnTo>
                <a:lnTo>
                  <a:pt x="2672" y="213"/>
                </a:lnTo>
                <a:lnTo>
                  <a:pt x="2670" y="210"/>
                </a:lnTo>
                <a:lnTo>
                  <a:pt x="2666" y="208"/>
                </a:lnTo>
                <a:lnTo>
                  <a:pt x="2664" y="208"/>
                </a:lnTo>
                <a:lnTo>
                  <a:pt x="2661" y="207"/>
                </a:lnTo>
                <a:lnTo>
                  <a:pt x="2657" y="206"/>
                </a:lnTo>
                <a:lnTo>
                  <a:pt x="2653" y="200"/>
                </a:lnTo>
                <a:lnTo>
                  <a:pt x="2654" y="194"/>
                </a:lnTo>
                <a:lnTo>
                  <a:pt x="2655" y="185"/>
                </a:lnTo>
                <a:lnTo>
                  <a:pt x="2657" y="178"/>
                </a:lnTo>
                <a:lnTo>
                  <a:pt x="2649" y="177"/>
                </a:lnTo>
                <a:lnTo>
                  <a:pt x="2647" y="174"/>
                </a:lnTo>
                <a:lnTo>
                  <a:pt x="2641" y="169"/>
                </a:lnTo>
                <a:lnTo>
                  <a:pt x="2640" y="164"/>
                </a:lnTo>
                <a:lnTo>
                  <a:pt x="2639" y="158"/>
                </a:lnTo>
                <a:lnTo>
                  <a:pt x="2638" y="151"/>
                </a:lnTo>
                <a:lnTo>
                  <a:pt x="2637" y="147"/>
                </a:lnTo>
                <a:lnTo>
                  <a:pt x="2634" y="142"/>
                </a:lnTo>
                <a:lnTo>
                  <a:pt x="2628" y="140"/>
                </a:lnTo>
                <a:lnTo>
                  <a:pt x="2627" y="136"/>
                </a:lnTo>
                <a:lnTo>
                  <a:pt x="2628" y="129"/>
                </a:lnTo>
                <a:lnTo>
                  <a:pt x="2629" y="124"/>
                </a:lnTo>
                <a:lnTo>
                  <a:pt x="2625" y="119"/>
                </a:lnTo>
                <a:lnTo>
                  <a:pt x="2622" y="119"/>
                </a:lnTo>
                <a:lnTo>
                  <a:pt x="2618" y="120"/>
                </a:lnTo>
                <a:lnTo>
                  <a:pt x="2615" y="119"/>
                </a:lnTo>
                <a:lnTo>
                  <a:pt x="2611" y="110"/>
                </a:lnTo>
                <a:lnTo>
                  <a:pt x="2610" y="100"/>
                </a:lnTo>
                <a:lnTo>
                  <a:pt x="2610" y="88"/>
                </a:lnTo>
                <a:lnTo>
                  <a:pt x="2611" y="78"/>
                </a:lnTo>
                <a:lnTo>
                  <a:pt x="2607" y="76"/>
                </a:lnTo>
                <a:lnTo>
                  <a:pt x="2602" y="74"/>
                </a:lnTo>
                <a:lnTo>
                  <a:pt x="2597" y="68"/>
                </a:lnTo>
                <a:lnTo>
                  <a:pt x="2595" y="61"/>
                </a:lnTo>
                <a:lnTo>
                  <a:pt x="2597" y="55"/>
                </a:lnTo>
                <a:lnTo>
                  <a:pt x="2598" y="51"/>
                </a:lnTo>
                <a:lnTo>
                  <a:pt x="2592" y="44"/>
                </a:lnTo>
                <a:lnTo>
                  <a:pt x="2588" y="42"/>
                </a:lnTo>
                <a:lnTo>
                  <a:pt x="2583" y="36"/>
                </a:lnTo>
                <a:lnTo>
                  <a:pt x="2582" y="30"/>
                </a:lnTo>
                <a:lnTo>
                  <a:pt x="2582" y="23"/>
                </a:lnTo>
                <a:lnTo>
                  <a:pt x="2583" y="19"/>
                </a:lnTo>
                <a:lnTo>
                  <a:pt x="2520" y="15"/>
                </a:lnTo>
                <a:lnTo>
                  <a:pt x="2513" y="12"/>
                </a:lnTo>
                <a:lnTo>
                  <a:pt x="2510" y="9"/>
                </a:lnTo>
                <a:lnTo>
                  <a:pt x="2508" y="4"/>
                </a:lnTo>
                <a:lnTo>
                  <a:pt x="2506" y="0"/>
                </a:lnTo>
                <a:lnTo>
                  <a:pt x="2474" y="0"/>
                </a:lnTo>
                <a:lnTo>
                  <a:pt x="2469" y="4"/>
                </a:lnTo>
                <a:lnTo>
                  <a:pt x="2464" y="9"/>
                </a:lnTo>
                <a:lnTo>
                  <a:pt x="2460" y="12"/>
                </a:lnTo>
                <a:lnTo>
                  <a:pt x="2456" y="15"/>
                </a:lnTo>
                <a:lnTo>
                  <a:pt x="2456" y="20"/>
                </a:lnTo>
                <a:lnTo>
                  <a:pt x="2456" y="23"/>
                </a:lnTo>
                <a:lnTo>
                  <a:pt x="2451" y="28"/>
                </a:lnTo>
                <a:lnTo>
                  <a:pt x="2448" y="30"/>
                </a:lnTo>
                <a:lnTo>
                  <a:pt x="2444" y="30"/>
                </a:lnTo>
                <a:lnTo>
                  <a:pt x="2438" y="33"/>
                </a:lnTo>
                <a:lnTo>
                  <a:pt x="2437" y="37"/>
                </a:lnTo>
                <a:lnTo>
                  <a:pt x="2434" y="41"/>
                </a:lnTo>
                <a:lnTo>
                  <a:pt x="2429" y="43"/>
                </a:lnTo>
                <a:lnTo>
                  <a:pt x="2424" y="46"/>
                </a:lnTo>
                <a:lnTo>
                  <a:pt x="2423" y="49"/>
                </a:lnTo>
                <a:lnTo>
                  <a:pt x="2421" y="53"/>
                </a:lnTo>
                <a:lnTo>
                  <a:pt x="2416" y="56"/>
                </a:lnTo>
                <a:lnTo>
                  <a:pt x="2411" y="60"/>
                </a:lnTo>
                <a:lnTo>
                  <a:pt x="2411" y="63"/>
                </a:lnTo>
                <a:lnTo>
                  <a:pt x="2411" y="69"/>
                </a:lnTo>
                <a:lnTo>
                  <a:pt x="2409" y="72"/>
                </a:lnTo>
                <a:lnTo>
                  <a:pt x="2405" y="74"/>
                </a:lnTo>
                <a:lnTo>
                  <a:pt x="2400" y="74"/>
                </a:lnTo>
                <a:lnTo>
                  <a:pt x="2397" y="78"/>
                </a:lnTo>
                <a:lnTo>
                  <a:pt x="2393" y="81"/>
                </a:lnTo>
                <a:lnTo>
                  <a:pt x="2391" y="84"/>
                </a:lnTo>
                <a:lnTo>
                  <a:pt x="2388" y="86"/>
                </a:lnTo>
                <a:lnTo>
                  <a:pt x="2384" y="88"/>
                </a:lnTo>
                <a:lnTo>
                  <a:pt x="2381" y="91"/>
                </a:lnTo>
                <a:lnTo>
                  <a:pt x="2381" y="92"/>
                </a:lnTo>
                <a:lnTo>
                  <a:pt x="2380" y="92"/>
                </a:lnTo>
                <a:lnTo>
                  <a:pt x="2379" y="96"/>
                </a:lnTo>
                <a:lnTo>
                  <a:pt x="2374" y="101"/>
                </a:lnTo>
                <a:lnTo>
                  <a:pt x="2368" y="102"/>
                </a:lnTo>
                <a:lnTo>
                  <a:pt x="2362" y="101"/>
                </a:lnTo>
                <a:lnTo>
                  <a:pt x="2356" y="101"/>
                </a:lnTo>
                <a:lnTo>
                  <a:pt x="2351" y="102"/>
                </a:lnTo>
                <a:lnTo>
                  <a:pt x="2350" y="105"/>
                </a:lnTo>
                <a:lnTo>
                  <a:pt x="2347" y="110"/>
                </a:lnTo>
                <a:lnTo>
                  <a:pt x="2346" y="115"/>
                </a:lnTo>
                <a:lnTo>
                  <a:pt x="2343" y="118"/>
                </a:lnTo>
                <a:lnTo>
                  <a:pt x="2338" y="119"/>
                </a:lnTo>
                <a:lnTo>
                  <a:pt x="2337" y="120"/>
                </a:lnTo>
                <a:lnTo>
                  <a:pt x="2337" y="122"/>
                </a:lnTo>
                <a:lnTo>
                  <a:pt x="2335" y="123"/>
                </a:lnTo>
                <a:lnTo>
                  <a:pt x="2333" y="128"/>
                </a:lnTo>
                <a:lnTo>
                  <a:pt x="2329" y="130"/>
                </a:lnTo>
                <a:lnTo>
                  <a:pt x="2323" y="131"/>
                </a:lnTo>
                <a:lnTo>
                  <a:pt x="2317" y="131"/>
                </a:lnTo>
                <a:lnTo>
                  <a:pt x="2310" y="132"/>
                </a:lnTo>
                <a:lnTo>
                  <a:pt x="2305" y="136"/>
                </a:lnTo>
                <a:lnTo>
                  <a:pt x="2302" y="141"/>
                </a:lnTo>
                <a:lnTo>
                  <a:pt x="2297" y="145"/>
                </a:lnTo>
                <a:lnTo>
                  <a:pt x="2293" y="147"/>
                </a:lnTo>
                <a:lnTo>
                  <a:pt x="2293" y="153"/>
                </a:lnTo>
                <a:lnTo>
                  <a:pt x="2293" y="160"/>
                </a:lnTo>
                <a:lnTo>
                  <a:pt x="2285" y="160"/>
                </a:lnTo>
                <a:lnTo>
                  <a:pt x="2279" y="164"/>
                </a:lnTo>
                <a:lnTo>
                  <a:pt x="2279" y="166"/>
                </a:lnTo>
                <a:lnTo>
                  <a:pt x="2279" y="170"/>
                </a:lnTo>
                <a:lnTo>
                  <a:pt x="2273" y="174"/>
                </a:lnTo>
                <a:lnTo>
                  <a:pt x="2267" y="175"/>
                </a:lnTo>
                <a:lnTo>
                  <a:pt x="2258" y="176"/>
                </a:lnTo>
                <a:lnTo>
                  <a:pt x="2251" y="178"/>
                </a:lnTo>
                <a:lnTo>
                  <a:pt x="2250" y="178"/>
                </a:lnTo>
                <a:lnTo>
                  <a:pt x="2249" y="179"/>
                </a:lnTo>
                <a:lnTo>
                  <a:pt x="2247" y="182"/>
                </a:lnTo>
                <a:lnTo>
                  <a:pt x="2247" y="187"/>
                </a:lnTo>
                <a:lnTo>
                  <a:pt x="2238" y="190"/>
                </a:lnTo>
                <a:lnTo>
                  <a:pt x="2228" y="190"/>
                </a:lnTo>
                <a:lnTo>
                  <a:pt x="2219" y="188"/>
                </a:lnTo>
                <a:lnTo>
                  <a:pt x="2211" y="187"/>
                </a:lnTo>
                <a:lnTo>
                  <a:pt x="2205" y="190"/>
                </a:lnTo>
                <a:lnTo>
                  <a:pt x="2203" y="194"/>
                </a:lnTo>
                <a:lnTo>
                  <a:pt x="2202" y="197"/>
                </a:lnTo>
                <a:lnTo>
                  <a:pt x="2201" y="201"/>
                </a:lnTo>
                <a:lnTo>
                  <a:pt x="2197" y="206"/>
                </a:lnTo>
                <a:lnTo>
                  <a:pt x="2191" y="207"/>
                </a:lnTo>
                <a:lnTo>
                  <a:pt x="2185" y="206"/>
                </a:lnTo>
                <a:lnTo>
                  <a:pt x="2178" y="206"/>
                </a:lnTo>
                <a:lnTo>
                  <a:pt x="2174" y="210"/>
                </a:lnTo>
                <a:lnTo>
                  <a:pt x="2174" y="214"/>
                </a:lnTo>
                <a:lnTo>
                  <a:pt x="2168" y="219"/>
                </a:lnTo>
                <a:lnTo>
                  <a:pt x="2162" y="220"/>
                </a:lnTo>
                <a:lnTo>
                  <a:pt x="2155" y="219"/>
                </a:lnTo>
                <a:lnTo>
                  <a:pt x="2151" y="219"/>
                </a:lnTo>
                <a:lnTo>
                  <a:pt x="2146" y="223"/>
                </a:lnTo>
                <a:lnTo>
                  <a:pt x="2146" y="229"/>
                </a:lnTo>
                <a:lnTo>
                  <a:pt x="2088" y="233"/>
                </a:lnTo>
                <a:lnTo>
                  <a:pt x="2085" y="234"/>
                </a:lnTo>
                <a:lnTo>
                  <a:pt x="2085" y="237"/>
                </a:lnTo>
                <a:lnTo>
                  <a:pt x="2084" y="242"/>
                </a:lnTo>
                <a:lnTo>
                  <a:pt x="2083" y="246"/>
                </a:lnTo>
                <a:lnTo>
                  <a:pt x="1974" y="250"/>
                </a:lnTo>
                <a:lnTo>
                  <a:pt x="1968" y="248"/>
                </a:lnTo>
                <a:lnTo>
                  <a:pt x="1967" y="245"/>
                </a:lnTo>
                <a:lnTo>
                  <a:pt x="1966" y="238"/>
                </a:lnTo>
                <a:lnTo>
                  <a:pt x="1965" y="233"/>
                </a:lnTo>
                <a:lnTo>
                  <a:pt x="1901" y="233"/>
                </a:lnTo>
                <a:lnTo>
                  <a:pt x="1895" y="232"/>
                </a:lnTo>
                <a:lnTo>
                  <a:pt x="1893" y="230"/>
                </a:lnTo>
                <a:lnTo>
                  <a:pt x="1892" y="226"/>
                </a:lnTo>
                <a:lnTo>
                  <a:pt x="1892" y="224"/>
                </a:lnTo>
                <a:lnTo>
                  <a:pt x="1856" y="219"/>
                </a:lnTo>
                <a:lnTo>
                  <a:pt x="1850" y="218"/>
                </a:lnTo>
                <a:lnTo>
                  <a:pt x="1849" y="216"/>
                </a:lnTo>
                <a:lnTo>
                  <a:pt x="1847" y="212"/>
                </a:lnTo>
                <a:lnTo>
                  <a:pt x="1846" y="210"/>
                </a:lnTo>
                <a:lnTo>
                  <a:pt x="1824" y="206"/>
                </a:lnTo>
                <a:lnTo>
                  <a:pt x="1820" y="209"/>
                </a:lnTo>
                <a:lnTo>
                  <a:pt x="1818" y="214"/>
                </a:lnTo>
                <a:lnTo>
                  <a:pt x="1814" y="219"/>
                </a:lnTo>
                <a:lnTo>
                  <a:pt x="1810" y="224"/>
                </a:lnTo>
                <a:lnTo>
                  <a:pt x="1807" y="226"/>
                </a:lnTo>
                <a:lnTo>
                  <a:pt x="1805" y="230"/>
                </a:lnTo>
                <a:lnTo>
                  <a:pt x="1801" y="232"/>
                </a:lnTo>
                <a:lnTo>
                  <a:pt x="1797" y="233"/>
                </a:lnTo>
                <a:lnTo>
                  <a:pt x="1792" y="256"/>
                </a:lnTo>
                <a:lnTo>
                  <a:pt x="1789" y="261"/>
                </a:lnTo>
                <a:lnTo>
                  <a:pt x="1786" y="264"/>
                </a:lnTo>
                <a:lnTo>
                  <a:pt x="1780" y="265"/>
                </a:lnTo>
                <a:lnTo>
                  <a:pt x="1774" y="269"/>
                </a:lnTo>
                <a:lnTo>
                  <a:pt x="1777" y="270"/>
                </a:lnTo>
                <a:lnTo>
                  <a:pt x="1781" y="271"/>
                </a:lnTo>
                <a:lnTo>
                  <a:pt x="1785" y="271"/>
                </a:lnTo>
                <a:lnTo>
                  <a:pt x="1792" y="273"/>
                </a:lnTo>
                <a:lnTo>
                  <a:pt x="1793" y="278"/>
                </a:lnTo>
                <a:lnTo>
                  <a:pt x="1793" y="285"/>
                </a:lnTo>
                <a:lnTo>
                  <a:pt x="1792" y="293"/>
                </a:lnTo>
                <a:lnTo>
                  <a:pt x="1792" y="301"/>
                </a:lnTo>
                <a:lnTo>
                  <a:pt x="1795" y="303"/>
                </a:lnTo>
                <a:lnTo>
                  <a:pt x="1800" y="305"/>
                </a:lnTo>
                <a:lnTo>
                  <a:pt x="1806" y="308"/>
                </a:lnTo>
                <a:lnTo>
                  <a:pt x="1810" y="315"/>
                </a:lnTo>
                <a:lnTo>
                  <a:pt x="1812" y="315"/>
                </a:lnTo>
                <a:lnTo>
                  <a:pt x="1814" y="319"/>
                </a:lnTo>
                <a:lnTo>
                  <a:pt x="1817" y="320"/>
                </a:lnTo>
                <a:lnTo>
                  <a:pt x="1818" y="324"/>
                </a:lnTo>
                <a:lnTo>
                  <a:pt x="1818" y="328"/>
                </a:lnTo>
                <a:lnTo>
                  <a:pt x="1819" y="332"/>
                </a:lnTo>
                <a:lnTo>
                  <a:pt x="1825" y="335"/>
                </a:lnTo>
                <a:lnTo>
                  <a:pt x="1833" y="338"/>
                </a:lnTo>
                <a:lnTo>
                  <a:pt x="1835" y="341"/>
                </a:lnTo>
                <a:lnTo>
                  <a:pt x="1836" y="347"/>
                </a:lnTo>
                <a:lnTo>
                  <a:pt x="1836" y="351"/>
                </a:lnTo>
                <a:lnTo>
                  <a:pt x="1837" y="355"/>
                </a:lnTo>
                <a:lnTo>
                  <a:pt x="1840" y="359"/>
                </a:lnTo>
                <a:lnTo>
                  <a:pt x="1846" y="360"/>
                </a:lnTo>
                <a:lnTo>
                  <a:pt x="1847" y="363"/>
                </a:lnTo>
                <a:lnTo>
                  <a:pt x="1848" y="367"/>
                </a:lnTo>
                <a:lnTo>
                  <a:pt x="1848" y="372"/>
                </a:lnTo>
                <a:lnTo>
                  <a:pt x="1852" y="378"/>
                </a:lnTo>
                <a:lnTo>
                  <a:pt x="1855" y="378"/>
                </a:lnTo>
                <a:lnTo>
                  <a:pt x="1856" y="378"/>
                </a:lnTo>
                <a:lnTo>
                  <a:pt x="1860" y="378"/>
                </a:lnTo>
                <a:lnTo>
                  <a:pt x="1863" y="382"/>
                </a:lnTo>
                <a:lnTo>
                  <a:pt x="1864" y="388"/>
                </a:lnTo>
                <a:lnTo>
                  <a:pt x="1864" y="394"/>
                </a:lnTo>
                <a:lnTo>
                  <a:pt x="1865" y="401"/>
                </a:lnTo>
                <a:lnTo>
                  <a:pt x="1866" y="404"/>
                </a:lnTo>
                <a:lnTo>
                  <a:pt x="1869" y="404"/>
                </a:lnTo>
                <a:lnTo>
                  <a:pt x="1873" y="403"/>
                </a:lnTo>
                <a:lnTo>
                  <a:pt x="1879" y="406"/>
                </a:lnTo>
                <a:lnTo>
                  <a:pt x="1880" y="409"/>
                </a:lnTo>
                <a:lnTo>
                  <a:pt x="1881" y="412"/>
                </a:lnTo>
                <a:lnTo>
                  <a:pt x="1881" y="417"/>
                </a:lnTo>
                <a:lnTo>
                  <a:pt x="1883" y="424"/>
                </a:lnTo>
                <a:lnTo>
                  <a:pt x="1887" y="424"/>
                </a:lnTo>
                <a:lnTo>
                  <a:pt x="1888" y="424"/>
                </a:lnTo>
                <a:lnTo>
                  <a:pt x="1892" y="424"/>
                </a:lnTo>
                <a:lnTo>
                  <a:pt x="1893" y="427"/>
                </a:lnTo>
                <a:lnTo>
                  <a:pt x="1894" y="433"/>
                </a:lnTo>
                <a:lnTo>
                  <a:pt x="1894" y="439"/>
                </a:lnTo>
                <a:lnTo>
                  <a:pt x="1896" y="447"/>
                </a:lnTo>
                <a:lnTo>
                  <a:pt x="1899" y="449"/>
                </a:lnTo>
                <a:lnTo>
                  <a:pt x="1906" y="451"/>
                </a:lnTo>
                <a:lnTo>
                  <a:pt x="1907" y="453"/>
                </a:lnTo>
                <a:lnTo>
                  <a:pt x="1908" y="456"/>
                </a:lnTo>
                <a:lnTo>
                  <a:pt x="1908" y="460"/>
                </a:lnTo>
                <a:lnTo>
                  <a:pt x="1911" y="465"/>
                </a:lnTo>
                <a:lnTo>
                  <a:pt x="1912" y="466"/>
                </a:lnTo>
                <a:lnTo>
                  <a:pt x="1915" y="467"/>
                </a:lnTo>
                <a:lnTo>
                  <a:pt x="1917" y="467"/>
                </a:lnTo>
                <a:lnTo>
                  <a:pt x="1919" y="469"/>
                </a:lnTo>
                <a:lnTo>
                  <a:pt x="1924" y="472"/>
                </a:lnTo>
                <a:lnTo>
                  <a:pt x="1928" y="479"/>
                </a:lnTo>
                <a:lnTo>
                  <a:pt x="1929" y="479"/>
                </a:lnTo>
                <a:lnTo>
                  <a:pt x="1931" y="479"/>
                </a:lnTo>
                <a:lnTo>
                  <a:pt x="1932" y="480"/>
                </a:lnTo>
                <a:lnTo>
                  <a:pt x="1938" y="483"/>
                </a:lnTo>
                <a:lnTo>
                  <a:pt x="1939" y="486"/>
                </a:lnTo>
                <a:lnTo>
                  <a:pt x="1939" y="492"/>
                </a:lnTo>
                <a:lnTo>
                  <a:pt x="1938" y="498"/>
                </a:lnTo>
                <a:lnTo>
                  <a:pt x="1938" y="506"/>
                </a:lnTo>
                <a:lnTo>
                  <a:pt x="1941" y="510"/>
                </a:lnTo>
                <a:lnTo>
                  <a:pt x="1947" y="515"/>
                </a:lnTo>
                <a:lnTo>
                  <a:pt x="1951" y="518"/>
                </a:lnTo>
                <a:lnTo>
                  <a:pt x="1955" y="524"/>
                </a:lnTo>
                <a:lnTo>
                  <a:pt x="1959" y="524"/>
                </a:lnTo>
                <a:lnTo>
                  <a:pt x="1965" y="524"/>
                </a:lnTo>
                <a:lnTo>
                  <a:pt x="1970" y="530"/>
                </a:lnTo>
                <a:lnTo>
                  <a:pt x="1974" y="538"/>
                </a:lnTo>
                <a:lnTo>
                  <a:pt x="1976" y="538"/>
                </a:lnTo>
                <a:lnTo>
                  <a:pt x="1978" y="538"/>
                </a:lnTo>
                <a:lnTo>
                  <a:pt x="1983" y="542"/>
                </a:lnTo>
                <a:lnTo>
                  <a:pt x="1984" y="549"/>
                </a:lnTo>
                <a:lnTo>
                  <a:pt x="1983" y="556"/>
                </a:lnTo>
                <a:lnTo>
                  <a:pt x="1983" y="565"/>
                </a:lnTo>
                <a:lnTo>
                  <a:pt x="1976" y="569"/>
                </a:lnTo>
                <a:lnTo>
                  <a:pt x="1968" y="573"/>
                </a:lnTo>
                <a:lnTo>
                  <a:pt x="1960" y="573"/>
                </a:lnTo>
                <a:lnTo>
                  <a:pt x="1951" y="574"/>
                </a:lnTo>
                <a:lnTo>
                  <a:pt x="1940" y="573"/>
                </a:lnTo>
                <a:lnTo>
                  <a:pt x="1930" y="573"/>
                </a:lnTo>
                <a:lnTo>
                  <a:pt x="1920" y="573"/>
                </a:lnTo>
                <a:lnTo>
                  <a:pt x="1911" y="574"/>
                </a:lnTo>
                <a:lnTo>
                  <a:pt x="1907" y="573"/>
                </a:lnTo>
                <a:lnTo>
                  <a:pt x="1905" y="571"/>
                </a:lnTo>
                <a:lnTo>
                  <a:pt x="1903" y="566"/>
                </a:lnTo>
                <a:lnTo>
                  <a:pt x="1901" y="561"/>
                </a:lnTo>
                <a:lnTo>
                  <a:pt x="1824" y="561"/>
                </a:lnTo>
                <a:lnTo>
                  <a:pt x="1819" y="559"/>
                </a:lnTo>
                <a:lnTo>
                  <a:pt x="1817" y="554"/>
                </a:lnTo>
                <a:lnTo>
                  <a:pt x="1816" y="548"/>
                </a:lnTo>
                <a:lnTo>
                  <a:pt x="1814" y="542"/>
                </a:lnTo>
                <a:lnTo>
                  <a:pt x="1738" y="542"/>
                </a:lnTo>
                <a:lnTo>
                  <a:pt x="1731" y="541"/>
                </a:lnTo>
                <a:lnTo>
                  <a:pt x="1729" y="539"/>
                </a:lnTo>
                <a:lnTo>
                  <a:pt x="1728" y="536"/>
                </a:lnTo>
                <a:lnTo>
                  <a:pt x="1728" y="533"/>
                </a:lnTo>
                <a:lnTo>
                  <a:pt x="1665" y="528"/>
                </a:lnTo>
                <a:lnTo>
                  <a:pt x="1662" y="527"/>
                </a:lnTo>
                <a:lnTo>
                  <a:pt x="1660" y="525"/>
                </a:lnTo>
                <a:lnTo>
                  <a:pt x="1658" y="520"/>
                </a:lnTo>
                <a:lnTo>
                  <a:pt x="1656" y="515"/>
                </a:lnTo>
                <a:lnTo>
                  <a:pt x="1560" y="515"/>
                </a:lnTo>
                <a:lnTo>
                  <a:pt x="1554" y="513"/>
                </a:lnTo>
                <a:lnTo>
                  <a:pt x="1553" y="509"/>
                </a:lnTo>
                <a:lnTo>
                  <a:pt x="1552" y="505"/>
                </a:lnTo>
                <a:lnTo>
                  <a:pt x="1551" y="502"/>
                </a:lnTo>
                <a:lnTo>
                  <a:pt x="1369" y="496"/>
                </a:lnTo>
                <a:lnTo>
                  <a:pt x="1367" y="503"/>
                </a:lnTo>
                <a:lnTo>
                  <a:pt x="1364" y="510"/>
                </a:lnTo>
                <a:lnTo>
                  <a:pt x="1361" y="514"/>
                </a:lnTo>
                <a:lnTo>
                  <a:pt x="1356" y="515"/>
                </a:lnTo>
                <a:lnTo>
                  <a:pt x="1355" y="518"/>
                </a:lnTo>
                <a:lnTo>
                  <a:pt x="1355" y="519"/>
                </a:lnTo>
                <a:lnTo>
                  <a:pt x="1354" y="519"/>
                </a:lnTo>
                <a:lnTo>
                  <a:pt x="1351" y="524"/>
                </a:lnTo>
                <a:lnTo>
                  <a:pt x="1349" y="527"/>
                </a:lnTo>
                <a:lnTo>
                  <a:pt x="1346" y="528"/>
                </a:lnTo>
                <a:lnTo>
                  <a:pt x="1340" y="528"/>
                </a:lnTo>
                <a:lnTo>
                  <a:pt x="1337" y="533"/>
                </a:lnTo>
                <a:lnTo>
                  <a:pt x="1337" y="551"/>
                </a:lnTo>
                <a:lnTo>
                  <a:pt x="1337" y="554"/>
                </a:lnTo>
                <a:lnTo>
                  <a:pt x="1339" y="554"/>
                </a:lnTo>
                <a:lnTo>
                  <a:pt x="1343" y="553"/>
                </a:lnTo>
                <a:lnTo>
                  <a:pt x="1346" y="555"/>
                </a:lnTo>
                <a:lnTo>
                  <a:pt x="1348" y="557"/>
                </a:lnTo>
                <a:lnTo>
                  <a:pt x="1350" y="561"/>
                </a:lnTo>
                <a:lnTo>
                  <a:pt x="1352" y="564"/>
                </a:lnTo>
                <a:lnTo>
                  <a:pt x="1356" y="569"/>
                </a:lnTo>
                <a:lnTo>
                  <a:pt x="1369" y="569"/>
                </a:lnTo>
                <a:lnTo>
                  <a:pt x="1373" y="569"/>
                </a:lnTo>
                <a:lnTo>
                  <a:pt x="1378" y="572"/>
                </a:lnTo>
                <a:lnTo>
                  <a:pt x="1380" y="575"/>
                </a:lnTo>
                <a:lnTo>
                  <a:pt x="1383" y="578"/>
                </a:lnTo>
                <a:lnTo>
                  <a:pt x="1400" y="583"/>
                </a:lnTo>
                <a:lnTo>
                  <a:pt x="1405" y="584"/>
                </a:lnTo>
                <a:lnTo>
                  <a:pt x="1407" y="588"/>
                </a:lnTo>
                <a:lnTo>
                  <a:pt x="1408" y="592"/>
                </a:lnTo>
                <a:lnTo>
                  <a:pt x="1410" y="597"/>
                </a:lnTo>
                <a:lnTo>
                  <a:pt x="1433" y="601"/>
                </a:lnTo>
                <a:lnTo>
                  <a:pt x="1438" y="603"/>
                </a:lnTo>
                <a:lnTo>
                  <a:pt x="1442" y="610"/>
                </a:lnTo>
                <a:lnTo>
                  <a:pt x="1474" y="615"/>
                </a:lnTo>
                <a:lnTo>
                  <a:pt x="1478" y="615"/>
                </a:lnTo>
                <a:lnTo>
                  <a:pt x="1481" y="617"/>
                </a:lnTo>
                <a:lnTo>
                  <a:pt x="1483" y="621"/>
                </a:lnTo>
                <a:lnTo>
                  <a:pt x="1487" y="624"/>
                </a:lnTo>
                <a:lnTo>
                  <a:pt x="1533" y="624"/>
                </a:lnTo>
                <a:lnTo>
                  <a:pt x="1538" y="625"/>
                </a:lnTo>
                <a:lnTo>
                  <a:pt x="1541" y="630"/>
                </a:lnTo>
                <a:lnTo>
                  <a:pt x="1541" y="635"/>
                </a:lnTo>
                <a:lnTo>
                  <a:pt x="1547" y="643"/>
                </a:lnTo>
                <a:lnTo>
                  <a:pt x="1579" y="643"/>
                </a:lnTo>
                <a:lnTo>
                  <a:pt x="1581" y="644"/>
                </a:lnTo>
                <a:lnTo>
                  <a:pt x="1583" y="647"/>
                </a:lnTo>
                <a:lnTo>
                  <a:pt x="1584" y="651"/>
                </a:lnTo>
                <a:lnTo>
                  <a:pt x="1587" y="656"/>
                </a:lnTo>
                <a:lnTo>
                  <a:pt x="1638" y="656"/>
                </a:lnTo>
                <a:lnTo>
                  <a:pt x="1640" y="656"/>
                </a:lnTo>
                <a:lnTo>
                  <a:pt x="1642" y="659"/>
                </a:lnTo>
                <a:lnTo>
                  <a:pt x="1643" y="662"/>
                </a:lnTo>
                <a:lnTo>
                  <a:pt x="1646" y="670"/>
                </a:lnTo>
                <a:lnTo>
                  <a:pt x="1678" y="670"/>
                </a:lnTo>
                <a:lnTo>
                  <a:pt x="1683" y="671"/>
                </a:lnTo>
                <a:lnTo>
                  <a:pt x="1687" y="676"/>
                </a:lnTo>
                <a:lnTo>
                  <a:pt x="1688" y="682"/>
                </a:lnTo>
                <a:lnTo>
                  <a:pt x="1692" y="687"/>
                </a:lnTo>
                <a:lnTo>
                  <a:pt x="1742" y="687"/>
                </a:lnTo>
                <a:lnTo>
                  <a:pt x="1745" y="687"/>
                </a:lnTo>
                <a:lnTo>
                  <a:pt x="1747" y="691"/>
                </a:lnTo>
                <a:lnTo>
                  <a:pt x="1748" y="694"/>
                </a:lnTo>
                <a:lnTo>
                  <a:pt x="1751" y="702"/>
                </a:lnTo>
                <a:lnTo>
                  <a:pt x="1783" y="702"/>
                </a:lnTo>
                <a:lnTo>
                  <a:pt x="1787" y="702"/>
                </a:lnTo>
                <a:lnTo>
                  <a:pt x="1790" y="705"/>
                </a:lnTo>
                <a:lnTo>
                  <a:pt x="1793" y="708"/>
                </a:lnTo>
                <a:lnTo>
                  <a:pt x="1797" y="715"/>
                </a:lnTo>
                <a:lnTo>
                  <a:pt x="1842" y="715"/>
                </a:lnTo>
                <a:lnTo>
                  <a:pt x="1846" y="716"/>
                </a:lnTo>
                <a:lnTo>
                  <a:pt x="1848" y="720"/>
                </a:lnTo>
                <a:lnTo>
                  <a:pt x="1848" y="725"/>
                </a:lnTo>
                <a:lnTo>
                  <a:pt x="1852" y="729"/>
                </a:lnTo>
                <a:lnTo>
                  <a:pt x="1888" y="733"/>
                </a:lnTo>
                <a:lnTo>
                  <a:pt x="1892" y="735"/>
                </a:lnTo>
                <a:lnTo>
                  <a:pt x="1896" y="742"/>
                </a:lnTo>
                <a:lnTo>
                  <a:pt x="1903" y="746"/>
                </a:lnTo>
                <a:lnTo>
                  <a:pt x="1911" y="752"/>
                </a:lnTo>
                <a:lnTo>
                  <a:pt x="1908" y="756"/>
                </a:lnTo>
                <a:lnTo>
                  <a:pt x="1905" y="759"/>
                </a:lnTo>
                <a:lnTo>
                  <a:pt x="1900" y="762"/>
                </a:lnTo>
                <a:lnTo>
                  <a:pt x="1896" y="765"/>
                </a:lnTo>
                <a:lnTo>
                  <a:pt x="1894" y="767"/>
                </a:lnTo>
                <a:lnTo>
                  <a:pt x="1894" y="769"/>
                </a:lnTo>
                <a:lnTo>
                  <a:pt x="1893" y="773"/>
                </a:lnTo>
                <a:lnTo>
                  <a:pt x="1892" y="779"/>
                </a:lnTo>
                <a:lnTo>
                  <a:pt x="1889" y="779"/>
                </a:lnTo>
                <a:lnTo>
                  <a:pt x="1883" y="784"/>
                </a:lnTo>
                <a:lnTo>
                  <a:pt x="1883" y="786"/>
                </a:lnTo>
                <a:lnTo>
                  <a:pt x="1883" y="788"/>
                </a:lnTo>
                <a:lnTo>
                  <a:pt x="1879" y="792"/>
                </a:lnTo>
                <a:lnTo>
                  <a:pt x="1876" y="793"/>
                </a:lnTo>
                <a:lnTo>
                  <a:pt x="1870" y="794"/>
                </a:lnTo>
                <a:lnTo>
                  <a:pt x="1865" y="797"/>
                </a:lnTo>
                <a:lnTo>
                  <a:pt x="1864" y="800"/>
                </a:lnTo>
                <a:lnTo>
                  <a:pt x="1861" y="803"/>
                </a:lnTo>
                <a:lnTo>
                  <a:pt x="1857" y="804"/>
                </a:lnTo>
                <a:lnTo>
                  <a:pt x="1852" y="806"/>
                </a:lnTo>
                <a:lnTo>
                  <a:pt x="1852" y="813"/>
                </a:lnTo>
                <a:lnTo>
                  <a:pt x="1852" y="820"/>
                </a:lnTo>
                <a:lnTo>
                  <a:pt x="1844" y="823"/>
                </a:lnTo>
                <a:lnTo>
                  <a:pt x="1837" y="824"/>
                </a:lnTo>
                <a:lnTo>
                  <a:pt x="1837" y="827"/>
                </a:lnTo>
                <a:lnTo>
                  <a:pt x="1837" y="828"/>
                </a:lnTo>
                <a:lnTo>
                  <a:pt x="1837" y="833"/>
                </a:lnTo>
                <a:lnTo>
                  <a:pt x="1835" y="834"/>
                </a:lnTo>
                <a:lnTo>
                  <a:pt x="1831" y="835"/>
                </a:lnTo>
                <a:lnTo>
                  <a:pt x="1824" y="835"/>
                </a:lnTo>
                <a:lnTo>
                  <a:pt x="1819" y="838"/>
                </a:lnTo>
                <a:lnTo>
                  <a:pt x="1818" y="844"/>
                </a:lnTo>
                <a:lnTo>
                  <a:pt x="1818" y="848"/>
                </a:lnTo>
                <a:lnTo>
                  <a:pt x="1814" y="850"/>
                </a:lnTo>
                <a:lnTo>
                  <a:pt x="1810" y="851"/>
                </a:lnTo>
                <a:lnTo>
                  <a:pt x="1808" y="858"/>
                </a:lnTo>
                <a:lnTo>
                  <a:pt x="1806" y="865"/>
                </a:lnTo>
                <a:lnTo>
                  <a:pt x="1802" y="869"/>
                </a:lnTo>
                <a:lnTo>
                  <a:pt x="1797" y="870"/>
                </a:lnTo>
                <a:lnTo>
                  <a:pt x="1794" y="871"/>
                </a:lnTo>
                <a:lnTo>
                  <a:pt x="1794" y="872"/>
                </a:lnTo>
                <a:lnTo>
                  <a:pt x="1793" y="873"/>
                </a:lnTo>
                <a:lnTo>
                  <a:pt x="1792" y="879"/>
                </a:lnTo>
                <a:lnTo>
                  <a:pt x="1789" y="880"/>
                </a:lnTo>
                <a:lnTo>
                  <a:pt x="1786" y="881"/>
                </a:lnTo>
                <a:lnTo>
                  <a:pt x="1782" y="881"/>
                </a:lnTo>
                <a:lnTo>
                  <a:pt x="1778" y="883"/>
                </a:lnTo>
                <a:lnTo>
                  <a:pt x="1774" y="906"/>
                </a:lnTo>
                <a:lnTo>
                  <a:pt x="1771" y="910"/>
                </a:lnTo>
                <a:lnTo>
                  <a:pt x="1764" y="915"/>
                </a:lnTo>
                <a:lnTo>
                  <a:pt x="1763" y="919"/>
                </a:lnTo>
                <a:lnTo>
                  <a:pt x="1761" y="923"/>
                </a:lnTo>
                <a:lnTo>
                  <a:pt x="1757" y="926"/>
                </a:lnTo>
                <a:lnTo>
                  <a:pt x="1751" y="929"/>
                </a:lnTo>
                <a:lnTo>
                  <a:pt x="1750" y="931"/>
                </a:lnTo>
                <a:lnTo>
                  <a:pt x="1747" y="933"/>
                </a:lnTo>
                <a:lnTo>
                  <a:pt x="1745" y="938"/>
                </a:lnTo>
                <a:lnTo>
                  <a:pt x="1741" y="939"/>
                </a:lnTo>
                <a:lnTo>
                  <a:pt x="1736" y="940"/>
                </a:lnTo>
                <a:lnTo>
                  <a:pt x="1733" y="942"/>
                </a:lnTo>
                <a:lnTo>
                  <a:pt x="1730" y="945"/>
                </a:lnTo>
                <a:lnTo>
                  <a:pt x="1728" y="952"/>
                </a:lnTo>
                <a:lnTo>
                  <a:pt x="1725" y="956"/>
                </a:lnTo>
                <a:lnTo>
                  <a:pt x="1719" y="960"/>
                </a:lnTo>
                <a:lnTo>
                  <a:pt x="1719" y="975"/>
                </a:lnTo>
                <a:lnTo>
                  <a:pt x="1718" y="979"/>
                </a:lnTo>
                <a:lnTo>
                  <a:pt x="1715" y="980"/>
                </a:lnTo>
                <a:lnTo>
                  <a:pt x="1711" y="981"/>
                </a:lnTo>
                <a:lnTo>
                  <a:pt x="1705" y="983"/>
                </a:lnTo>
                <a:lnTo>
                  <a:pt x="1705" y="990"/>
                </a:lnTo>
                <a:lnTo>
                  <a:pt x="1705" y="997"/>
                </a:lnTo>
                <a:lnTo>
                  <a:pt x="1699" y="999"/>
                </a:lnTo>
                <a:lnTo>
                  <a:pt x="1692" y="1002"/>
                </a:lnTo>
                <a:lnTo>
                  <a:pt x="1688" y="1019"/>
                </a:lnTo>
                <a:lnTo>
                  <a:pt x="1687" y="1022"/>
                </a:lnTo>
                <a:lnTo>
                  <a:pt x="1683" y="1024"/>
                </a:lnTo>
                <a:lnTo>
                  <a:pt x="1679" y="1025"/>
                </a:lnTo>
                <a:lnTo>
                  <a:pt x="1674" y="1029"/>
                </a:lnTo>
                <a:lnTo>
                  <a:pt x="1674" y="1036"/>
                </a:lnTo>
                <a:lnTo>
                  <a:pt x="1674" y="1042"/>
                </a:lnTo>
                <a:lnTo>
                  <a:pt x="1670" y="1042"/>
                </a:lnTo>
                <a:lnTo>
                  <a:pt x="1665" y="1047"/>
                </a:lnTo>
                <a:lnTo>
                  <a:pt x="1663" y="1049"/>
                </a:lnTo>
                <a:lnTo>
                  <a:pt x="1660" y="1051"/>
                </a:lnTo>
                <a:lnTo>
                  <a:pt x="1658" y="1056"/>
                </a:lnTo>
                <a:lnTo>
                  <a:pt x="1655" y="1058"/>
                </a:lnTo>
                <a:lnTo>
                  <a:pt x="1650" y="1059"/>
                </a:lnTo>
                <a:lnTo>
                  <a:pt x="1646" y="1061"/>
                </a:lnTo>
                <a:lnTo>
                  <a:pt x="1645" y="1065"/>
                </a:lnTo>
                <a:lnTo>
                  <a:pt x="1643" y="1069"/>
                </a:lnTo>
                <a:lnTo>
                  <a:pt x="1639" y="1071"/>
                </a:lnTo>
                <a:lnTo>
                  <a:pt x="1633" y="1074"/>
                </a:lnTo>
                <a:lnTo>
                  <a:pt x="1631" y="1076"/>
                </a:lnTo>
                <a:lnTo>
                  <a:pt x="1629" y="1084"/>
                </a:lnTo>
                <a:lnTo>
                  <a:pt x="1625" y="1087"/>
                </a:lnTo>
                <a:lnTo>
                  <a:pt x="1619" y="1088"/>
                </a:lnTo>
                <a:lnTo>
                  <a:pt x="1619" y="1106"/>
                </a:lnTo>
                <a:lnTo>
                  <a:pt x="1617" y="1110"/>
                </a:lnTo>
                <a:lnTo>
                  <a:pt x="1613" y="1113"/>
                </a:lnTo>
                <a:lnTo>
                  <a:pt x="1607" y="1115"/>
                </a:lnTo>
                <a:lnTo>
                  <a:pt x="1601" y="1116"/>
                </a:lnTo>
                <a:lnTo>
                  <a:pt x="1601" y="1122"/>
                </a:lnTo>
                <a:lnTo>
                  <a:pt x="1601" y="1129"/>
                </a:lnTo>
                <a:lnTo>
                  <a:pt x="1594" y="1132"/>
                </a:lnTo>
                <a:lnTo>
                  <a:pt x="1587" y="1133"/>
                </a:lnTo>
                <a:lnTo>
                  <a:pt x="1587" y="1152"/>
                </a:lnTo>
                <a:lnTo>
                  <a:pt x="1586" y="1156"/>
                </a:lnTo>
                <a:lnTo>
                  <a:pt x="1584" y="1157"/>
                </a:lnTo>
                <a:lnTo>
                  <a:pt x="1580" y="1158"/>
                </a:lnTo>
                <a:lnTo>
                  <a:pt x="1574" y="1160"/>
                </a:lnTo>
                <a:lnTo>
                  <a:pt x="1574" y="1183"/>
                </a:lnTo>
                <a:lnTo>
                  <a:pt x="1572" y="1188"/>
                </a:lnTo>
                <a:lnTo>
                  <a:pt x="1568" y="1189"/>
                </a:lnTo>
                <a:lnTo>
                  <a:pt x="1561" y="1190"/>
                </a:lnTo>
                <a:lnTo>
                  <a:pt x="1556" y="1192"/>
                </a:lnTo>
                <a:lnTo>
                  <a:pt x="1552" y="1199"/>
                </a:lnTo>
                <a:lnTo>
                  <a:pt x="1547" y="1206"/>
                </a:lnTo>
                <a:lnTo>
                  <a:pt x="1541" y="1225"/>
                </a:lnTo>
                <a:lnTo>
                  <a:pt x="1540" y="1229"/>
                </a:lnTo>
                <a:lnTo>
                  <a:pt x="1538" y="1232"/>
                </a:lnTo>
                <a:lnTo>
                  <a:pt x="1534" y="1232"/>
                </a:lnTo>
                <a:lnTo>
                  <a:pt x="1528" y="1234"/>
                </a:lnTo>
                <a:lnTo>
                  <a:pt x="1528" y="1270"/>
                </a:lnTo>
                <a:lnTo>
                  <a:pt x="1526" y="1274"/>
                </a:lnTo>
                <a:lnTo>
                  <a:pt x="1523" y="1276"/>
                </a:lnTo>
                <a:lnTo>
                  <a:pt x="1517" y="1276"/>
                </a:lnTo>
                <a:lnTo>
                  <a:pt x="1514" y="1279"/>
                </a:lnTo>
                <a:lnTo>
                  <a:pt x="1510" y="1315"/>
                </a:lnTo>
                <a:lnTo>
                  <a:pt x="1506" y="1320"/>
                </a:lnTo>
                <a:lnTo>
                  <a:pt x="1501" y="1324"/>
                </a:lnTo>
                <a:lnTo>
                  <a:pt x="1501" y="1343"/>
                </a:lnTo>
                <a:lnTo>
                  <a:pt x="1499" y="1347"/>
                </a:lnTo>
                <a:lnTo>
                  <a:pt x="1496" y="1350"/>
                </a:lnTo>
                <a:lnTo>
                  <a:pt x="1490" y="1353"/>
                </a:lnTo>
                <a:lnTo>
                  <a:pt x="1487" y="1356"/>
                </a:lnTo>
                <a:lnTo>
                  <a:pt x="1482" y="1370"/>
                </a:lnTo>
                <a:lnTo>
                  <a:pt x="1480" y="1374"/>
                </a:lnTo>
                <a:lnTo>
                  <a:pt x="1477" y="1378"/>
                </a:lnTo>
                <a:lnTo>
                  <a:pt x="1473" y="1378"/>
                </a:lnTo>
                <a:lnTo>
                  <a:pt x="1469" y="1379"/>
                </a:lnTo>
                <a:lnTo>
                  <a:pt x="1469" y="1433"/>
                </a:lnTo>
                <a:lnTo>
                  <a:pt x="1467" y="1438"/>
                </a:lnTo>
                <a:lnTo>
                  <a:pt x="1464" y="1439"/>
                </a:lnTo>
                <a:lnTo>
                  <a:pt x="1458" y="1440"/>
                </a:lnTo>
                <a:lnTo>
                  <a:pt x="1455" y="1442"/>
                </a:lnTo>
                <a:lnTo>
                  <a:pt x="1455" y="1479"/>
                </a:lnTo>
                <a:lnTo>
                  <a:pt x="1453" y="1482"/>
                </a:lnTo>
                <a:lnTo>
                  <a:pt x="1450" y="1484"/>
                </a:lnTo>
                <a:lnTo>
                  <a:pt x="1445" y="1485"/>
                </a:lnTo>
                <a:lnTo>
                  <a:pt x="1442" y="1488"/>
                </a:lnTo>
                <a:lnTo>
                  <a:pt x="1442" y="1520"/>
                </a:lnTo>
                <a:lnTo>
                  <a:pt x="1440" y="1525"/>
                </a:lnTo>
                <a:lnTo>
                  <a:pt x="1435" y="1528"/>
                </a:lnTo>
                <a:lnTo>
                  <a:pt x="1429" y="1528"/>
                </a:lnTo>
                <a:lnTo>
                  <a:pt x="1423" y="1534"/>
                </a:lnTo>
                <a:lnTo>
                  <a:pt x="1423" y="1579"/>
                </a:lnTo>
                <a:lnTo>
                  <a:pt x="1422" y="1583"/>
                </a:lnTo>
                <a:lnTo>
                  <a:pt x="1420" y="1585"/>
                </a:lnTo>
                <a:lnTo>
                  <a:pt x="1416" y="1586"/>
                </a:lnTo>
                <a:lnTo>
                  <a:pt x="1410" y="1589"/>
                </a:lnTo>
                <a:lnTo>
                  <a:pt x="1410" y="1633"/>
                </a:lnTo>
                <a:lnTo>
                  <a:pt x="1409" y="1638"/>
                </a:lnTo>
                <a:lnTo>
                  <a:pt x="1407" y="1642"/>
                </a:lnTo>
                <a:lnTo>
                  <a:pt x="1404" y="1644"/>
                </a:lnTo>
                <a:lnTo>
                  <a:pt x="1400" y="1648"/>
                </a:lnTo>
                <a:lnTo>
                  <a:pt x="1396" y="1788"/>
                </a:lnTo>
                <a:lnTo>
                  <a:pt x="1394" y="1793"/>
                </a:lnTo>
                <a:lnTo>
                  <a:pt x="1391" y="1794"/>
                </a:lnTo>
                <a:lnTo>
                  <a:pt x="1386" y="1795"/>
                </a:lnTo>
                <a:lnTo>
                  <a:pt x="1383" y="1797"/>
                </a:lnTo>
                <a:lnTo>
                  <a:pt x="1379" y="1811"/>
                </a:lnTo>
                <a:lnTo>
                  <a:pt x="1382" y="1816"/>
                </a:lnTo>
                <a:lnTo>
                  <a:pt x="1385" y="1817"/>
                </a:lnTo>
                <a:lnTo>
                  <a:pt x="1388" y="1816"/>
                </a:lnTo>
                <a:lnTo>
                  <a:pt x="1392" y="1816"/>
                </a:lnTo>
                <a:lnTo>
                  <a:pt x="1396" y="1944"/>
                </a:lnTo>
                <a:lnTo>
                  <a:pt x="1400" y="1948"/>
                </a:lnTo>
                <a:lnTo>
                  <a:pt x="1406" y="1952"/>
                </a:lnTo>
                <a:lnTo>
                  <a:pt x="1410" y="1956"/>
                </a:lnTo>
                <a:lnTo>
                  <a:pt x="1411" y="1961"/>
                </a:lnTo>
                <a:lnTo>
                  <a:pt x="1410" y="1968"/>
                </a:lnTo>
                <a:lnTo>
                  <a:pt x="1410" y="1975"/>
                </a:lnTo>
                <a:lnTo>
                  <a:pt x="1413" y="1979"/>
                </a:lnTo>
                <a:lnTo>
                  <a:pt x="1419" y="1980"/>
                </a:lnTo>
                <a:lnTo>
                  <a:pt x="1422" y="1987"/>
                </a:lnTo>
                <a:lnTo>
                  <a:pt x="1422" y="1998"/>
                </a:lnTo>
                <a:lnTo>
                  <a:pt x="1421" y="2003"/>
                </a:lnTo>
                <a:lnTo>
                  <a:pt x="1421" y="2009"/>
                </a:lnTo>
                <a:lnTo>
                  <a:pt x="1421" y="2015"/>
                </a:lnTo>
                <a:lnTo>
                  <a:pt x="1423" y="2020"/>
                </a:lnTo>
                <a:lnTo>
                  <a:pt x="1423" y="2021"/>
                </a:lnTo>
                <a:lnTo>
                  <a:pt x="1427" y="2022"/>
                </a:lnTo>
                <a:lnTo>
                  <a:pt x="1430" y="2022"/>
                </a:lnTo>
                <a:lnTo>
                  <a:pt x="1438" y="2024"/>
                </a:lnTo>
                <a:lnTo>
                  <a:pt x="1441" y="2029"/>
                </a:lnTo>
                <a:lnTo>
                  <a:pt x="1441" y="2036"/>
                </a:lnTo>
                <a:lnTo>
                  <a:pt x="1440" y="2044"/>
                </a:lnTo>
                <a:lnTo>
                  <a:pt x="1442" y="2052"/>
                </a:lnTo>
                <a:lnTo>
                  <a:pt x="1444" y="2054"/>
                </a:lnTo>
                <a:lnTo>
                  <a:pt x="1451" y="2057"/>
                </a:lnTo>
                <a:lnTo>
                  <a:pt x="1453" y="2060"/>
                </a:lnTo>
                <a:lnTo>
                  <a:pt x="1454" y="2066"/>
                </a:lnTo>
                <a:lnTo>
                  <a:pt x="1454" y="2072"/>
                </a:lnTo>
                <a:lnTo>
                  <a:pt x="1455" y="2079"/>
                </a:lnTo>
                <a:lnTo>
                  <a:pt x="1457" y="2079"/>
                </a:lnTo>
                <a:lnTo>
                  <a:pt x="1465" y="2084"/>
                </a:lnTo>
                <a:lnTo>
                  <a:pt x="1466" y="2088"/>
                </a:lnTo>
                <a:lnTo>
                  <a:pt x="1467" y="2093"/>
                </a:lnTo>
                <a:lnTo>
                  <a:pt x="1467" y="2100"/>
                </a:lnTo>
                <a:lnTo>
                  <a:pt x="1469" y="2106"/>
                </a:lnTo>
                <a:lnTo>
                  <a:pt x="1469" y="2110"/>
                </a:lnTo>
                <a:lnTo>
                  <a:pt x="1473" y="2111"/>
                </a:lnTo>
                <a:lnTo>
                  <a:pt x="1476" y="2111"/>
                </a:lnTo>
                <a:lnTo>
                  <a:pt x="1482" y="2116"/>
                </a:lnTo>
                <a:lnTo>
                  <a:pt x="1482" y="2118"/>
                </a:lnTo>
                <a:lnTo>
                  <a:pt x="1487" y="2125"/>
                </a:lnTo>
                <a:lnTo>
                  <a:pt x="1489" y="2125"/>
                </a:lnTo>
                <a:lnTo>
                  <a:pt x="1492" y="2125"/>
                </a:lnTo>
                <a:lnTo>
                  <a:pt x="1497" y="2128"/>
                </a:lnTo>
                <a:lnTo>
                  <a:pt x="1498" y="2131"/>
                </a:lnTo>
                <a:lnTo>
                  <a:pt x="1499" y="2136"/>
                </a:lnTo>
                <a:lnTo>
                  <a:pt x="1501" y="2143"/>
                </a:lnTo>
                <a:lnTo>
                  <a:pt x="1503" y="2143"/>
                </a:lnTo>
                <a:lnTo>
                  <a:pt x="1505" y="2143"/>
                </a:lnTo>
                <a:lnTo>
                  <a:pt x="1510" y="2147"/>
                </a:lnTo>
                <a:lnTo>
                  <a:pt x="1511" y="2152"/>
                </a:lnTo>
                <a:lnTo>
                  <a:pt x="1510" y="2159"/>
                </a:lnTo>
                <a:lnTo>
                  <a:pt x="1510" y="2166"/>
                </a:lnTo>
                <a:lnTo>
                  <a:pt x="1516" y="2169"/>
                </a:lnTo>
                <a:lnTo>
                  <a:pt x="1524" y="2171"/>
                </a:lnTo>
                <a:lnTo>
                  <a:pt x="1526" y="2172"/>
                </a:lnTo>
                <a:lnTo>
                  <a:pt x="1527" y="2175"/>
                </a:lnTo>
                <a:lnTo>
                  <a:pt x="1527" y="2180"/>
                </a:lnTo>
                <a:lnTo>
                  <a:pt x="1528" y="2184"/>
                </a:lnTo>
                <a:lnTo>
                  <a:pt x="1534" y="2186"/>
                </a:lnTo>
                <a:lnTo>
                  <a:pt x="1538" y="2188"/>
                </a:lnTo>
                <a:lnTo>
                  <a:pt x="1542" y="2192"/>
                </a:lnTo>
                <a:lnTo>
                  <a:pt x="1547" y="2198"/>
                </a:lnTo>
                <a:lnTo>
                  <a:pt x="1549" y="2200"/>
                </a:lnTo>
                <a:lnTo>
                  <a:pt x="1552" y="2202"/>
                </a:lnTo>
                <a:lnTo>
                  <a:pt x="1554" y="2206"/>
                </a:lnTo>
                <a:lnTo>
                  <a:pt x="1556" y="2211"/>
                </a:lnTo>
                <a:lnTo>
                  <a:pt x="1562" y="2213"/>
                </a:lnTo>
                <a:lnTo>
                  <a:pt x="1569" y="2216"/>
                </a:lnTo>
                <a:lnTo>
                  <a:pt x="1571" y="2217"/>
                </a:lnTo>
                <a:lnTo>
                  <a:pt x="1573" y="2221"/>
                </a:lnTo>
                <a:lnTo>
                  <a:pt x="1573" y="2226"/>
                </a:lnTo>
                <a:lnTo>
                  <a:pt x="1574" y="2234"/>
                </a:lnTo>
                <a:lnTo>
                  <a:pt x="1568" y="2235"/>
                </a:lnTo>
                <a:lnTo>
                  <a:pt x="1561" y="2235"/>
                </a:lnTo>
                <a:lnTo>
                  <a:pt x="1553" y="2234"/>
                </a:lnTo>
                <a:lnTo>
                  <a:pt x="1547" y="2234"/>
                </a:lnTo>
                <a:lnTo>
                  <a:pt x="1541" y="2232"/>
                </a:lnTo>
                <a:lnTo>
                  <a:pt x="1539" y="2229"/>
                </a:lnTo>
                <a:lnTo>
                  <a:pt x="1538" y="2224"/>
                </a:lnTo>
                <a:lnTo>
                  <a:pt x="1537" y="2221"/>
                </a:lnTo>
                <a:lnTo>
                  <a:pt x="1459" y="2216"/>
                </a:lnTo>
                <a:lnTo>
                  <a:pt x="1453" y="2216"/>
                </a:lnTo>
                <a:lnTo>
                  <a:pt x="1451" y="2212"/>
                </a:lnTo>
                <a:lnTo>
                  <a:pt x="1450" y="2208"/>
                </a:lnTo>
                <a:lnTo>
                  <a:pt x="1446" y="2207"/>
                </a:lnTo>
                <a:lnTo>
                  <a:pt x="1442" y="2209"/>
                </a:lnTo>
                <a:lnTo>
                  <a:pt x="1438" y="2216"/>
                </a:lnTo>
                <a:lnTo>
                  <a:pt x="1369" y="2216"/>
                </a:lnTo>
                <a:lnTo>
                  <a:pt x="1367" y="2219"/>
                </a:lnTo>
                <a:lnTo>
                  <a:pt x="1367" y="2223"/>
                </a:lnTo>
                <a:lnTo>
                  <a:pt x="1366" y="2228"/>
                </a:lnTo>
                <a:lnTo>
                  <a:pt x="1364" y="2234"/>
                </a:lnTo>
                <a:lnTo>
                  <a:pt x="1356" y="2235"/>
                </a:lnTo>
                <a:lnTo>
                  <a:pt x="1346" y="2235"/>
                </a:lnTo>
                <a:lnTo>
                  <a:pt x="1336" y="2234"/>
                </a:lnTo>
                <a:lnTo>
                  <a:pt x="1328" y="2234"/>
                </a:lnTo>
                <a:lnTo>
                  <a:pt x="1323" y="2239"/>
                </a:lnTo>
                <a:lnTo>
                  <a:pt x="1319" y="2243"/>
                </a:lnTo>
                <a:lnTo>
                  <a:pt x="1314" y="2247"/>
                </a:lnTo>
                <a:lnTo>
                  <a:pt x="1309" y="2248"/>
                </a:lnTo>
                <a:lnTo>
                  <a:pt x="1302" y="2248"/>
                </a:lnTo>
                <a:lnTo>
                  <a:pt x="1297" y="2248"/>
                </a:lnTo>
                <a:lnTo>
                  <a:pt x="1292" y="2252"/>
                </a:lnTo>
                <a:lnTo>
                  <a:pt x="1290" y="2256"/>
                </a:lnTo>
                <a:lnTo>
                  <a:pt x="1286" y="2259"/>
                </a:lnTo>
                <a:lnTo>
                  <a:pt x="1278" y="2261"/>
                </a:lnTo>
                <a:lnTo>
                  <a:pt x="1278" y="2268"/>
                </a:lnTo>
                <a:lnTo>
                  <a:pt x="1278" y="2275"/>
                </a:lnTo>
                <a:lnTo>
                  <a:pt x="1273" y="2279"/>
                </a:lnTo>
                <a:lnTo>
                  <a:pt x="1266" y="2280"/>
                </a:lnTo>
                <a:lnTo>
                  <a:pt x="1257" y="2280"/>
                </a:lnTo>
                <a:lnTo>
                  <a:pt x="1251" y="2280"/>
                </a:lnTo>
                <a:lnTo>
                  <a:pt x="1246" y="2282"/>
                </a:lnTo>
                <a:lnTo>
                  <a:pt x="1246" y="2289"/>
                </a:lnTo>
                <a:lnTo>
                  <a:pt x="1241" y="2291"/>
                </a:lnTo>
                <a:lnTo>
                  <a:pt x="1237" y="2292"/>
                </a:lnTo>
                <a:lnTo>
                  <a:pt x="1230" y="2292"/>
                </a:lnTo>
                <a:lnTo>
                  <a:pt x="1224" y="2293"/>
                </a:lnTo>
                <a:lnTo>
                  <a:pt x="1221" y="2295"/>
                </a:lnTo>
                <a:lnTo>
                  <a:pt x="1219" y="2302"/>
                </a:lnTo>
                <a:lnTo>
                  <a:pt x="1217" y="2303"/>
                </a:lnTo>
                <a:lnTo>
                  <a:pt x="1214" y="2304"/>
                </a:lnTo>
                <a:lnTo>
                  <a:pt x="1208" y="2304"/>
                </a:lnTo>
                <a:lnTo>
                  <a:pt x="1205" y="2307"/>
                </a:lnTo>
                <a:lnTo>
                  <a:pt x="1203" y="2314"/>
                </a:lnTo>
                <a:lnTo>
                  <a:pt x="1201" y="2320"/>
                </a:lnTo>
                <a:lnTo>
                  <a:pt x="1197" y="2324"/>
                </a:lnTo>
                <a:lnTo>
                  <a:pt x="1192" y="2325"/>
                </a:lnTo>
                <a:lnTo>
                  <a:pt x="1191" y="2326"/>
                </a:lnTo>
                <a:lnTo>
                  <a:pt x="1191" y="2327"/>
                </a:lnTo>
                <a:lnTo>
                  <a:pt x="1190" y="2329"/>
                </a:lnTo>
                <a:lnTo>
                  <a:pt x="1187" y="2335"/>
                </a:lnTo>
                <a:lnTo>
                  <a:pt x="1182" y="2336"/>
                </a:lnTo>
                <a:lnTo>
                  <a:pt x="1177" y="2337"/>
                </a:lnTo>
                <a:lnTo>
                  <a:pt x="1170" y="2337"/>
                </a:lnTo>
                <a:lnTo>
                  <a:pt x="1165" y="2339"/>
                </a:lnTo>
                <a:lnTo>
                  <a:pt x="1159" y="2342"/>
                </a:lnTo>
                <a:lnTo>
                  <a:pt x="1155" y="2347"/>
                </a:lnTo>
                <a:lnTo>
                  <a:pt x="1150" y="2350"/>
                </a:lnTo>
                <a:lnTo>
                  <a:pt x="1146" y="2352"/>
                </a:lnTo>
                <a:lnTo>
                  <a:pt x="1146" y="2353"/>
                </a:lnTo>
                <a:lnTo>
                  <a:pt x="1146" y="2356"/>
                </a:lnTo>
                <a:lnTo>
                  <a:pt x="1146" y="2360"/>
                </a:lnTo>
                <a:lnTo>
                  <a:pt x="1146" y="2362"/>
                </a:lnTo>
                <a:lnTo>
                  <a:pt x="1143" y="2366"/>
                </a:lnTo>
                <a:lnTo>
                  <a:pt x="1137" y="2371"/>
                </a:lnTo>
                <a:lnTo>
                  <a:pt x="1132" y="2368"/>
                </a:lnTo>
                <a:lnTo>
                  <a:pt x="1130" y="2364"/>
                </a:lnTo>
                <a:lnTo>
                  <a:pt x="1129" y="2358"/>
                </a:lnTo>
                <a:lnTo>
                  <a:pt x="1129" y="2352"/>
                </a:lnTo>
                <a:lnTo>
                  <a:pt x="1106" y="2352"/>
                </a:lnTo>
                <a:lnTo>
                  <a:pt x="1102" y="2350"/>
                </a:lnTo>
                <a:lnTo>
                  <a:pt x="1100" y="2347"/>
                </a:lnTo>
                <a:lnTo>
                  <a:pt x="1098" y="2342"/>
                </a:lnTo>
                <a:lnTo>
                  <a:pt x="1096" y="2339"/>
                </a:lnTo>
                <a:lnTo>
                  <a:pt x="1094" y="2338"/>
                </a:lnTo>
                <a:lnTo>
                  <a:pt x="1092" y="2338"/>
                </a:lnTo>
                <a:lnTo>
                  <a:pt x="1091" y="2337"/>
                </a:lnTo>
                <a:lnTo>
                  <a:pt x="1087" y="2335"/>
                </a:lnTo>
                <a:lnTo>
                  <a:pt x="1085" y="2329"/>
                </a:lnTo>
                <a:lnTo>
                  <a:pt x="1085" y="2324"/>
                </a:lnTo>
                <a:lnTo>
                  <a:pt x="1084" y="2317"/>
                </a:lnTo>
                <a:lnTo>
                  <a:pt x="1083" y="2312"/>
                </a:lnTo>
                <a:lnTo>
                  <a:pt x="1082" y="2306"/>
                </a:lnTo>
                <a:lnTo>
                  <a:pt x="1078" y="2305"/>
                </a:lnTo>
                <a:lnTo>
                  <a:pt x="1074" y="2306"/>
                </a:lnTo>
                <a:lnTo>
                  <a:pt x="1068" y="2307"/>
                </a:lnTo>
                <a:lnTo>
                  <a:pt x="1064" y="2225"/>
                </a:lnTo>
                <a:lnTo>
                  <a:pt x="1062" y="2220"/>
                </a:lnTo>
                <a:lnTo>
                  <a:pt x="1060" y="2218"/>
                </a:lnTo>
                <a:lnTo>
                  <a:pt x="1056" y="2213"/>
                </a:lnTo>
                <a:lnTo>
                  <a:pt x="1055" y="2207"/>
                </a:lnTo>
                <a:lnTo>
                  <a:pt x="1058" y="2202"/>
                </a:lnTo>
                <a:lnTo>
                  <a:pt x="1064" y="2198"/>
                </a:lnTo>
                <a:lnTo>
                  <a:pt x="1064" y="2166"/>
                </a:lnTo>
                <a:lnTo>
                  <a:pt x="1062" y="2162"/>
                </a:lnTo>
                <a:lnTo>
                  <a:pt x="1060" y="2160"/>
                </a:lnTo>
                <a:lnTo>
                  <a:pt x="1056" y="2157"/>
                </a:lnTo>
                <a:lnTo>
                  <a:pt x="1055" y="2152"/>
                </a:lnTo>
                <a:lnTo>
                  <a:pt x="1058" y="2146"/>
                </a:lnTo>
                <a:lnTo>
                  <a:pt x="1064" y="2143"/>
                </a:lnTo>
                <a:lnTo>
                  <a:pt x="1064" y="1988"/>
                </a:lnTo>
                <a:lnTo>
                  <a:pt x="1065" y="1983"/>
                </a:lnTo>
                <a:lnTo>
                  <a:pt x="1070" y="1982"/>
                </a:lnTo>
                <a:lnTo>
                  <a:pt x="1075" y="1981"/>
                </a:lnTo>
                <a:lnTo>
                  <a:pt x="1083" y="1980"/>
                </a:lnTo>
                <a:lnTo>
                  <a:pt x="1083" y="1916"/>
                </a:lnTo>
                <a:lnTo>
                  <a:pt x="1084" y="1910"/>
                </a:lnTo>
                <a:lnTo>
                  <a:pt x="1087" y="1906"/>
                </a:lnTo>
                <a:lnTo>
                  <a:pt x="1091" y="1904"/>
                </a:lnTo>
                <a:lnTo>
                  <a:pt x="1096" y="1902"/>
                </a:lnTo>
                <a:lnTo>
                  <a:pt x="1096" y="1825"/>
                </a:lnTo>
                <a:lnTo>
                  <a:pt x="1096" y="1819"/>
                </a:lnTo>
                <a:lnTo>
                  <a:pt x="1099" y="1818"/>
                </a:lnTo>
                <a:lnTo>
                  <a:pt x="1103" y="1817"/>
                </a:lnTo>
                <a:lnTo>
                  <a:pt x="1110" y="1816"/>
                </a:lnTo>
                <a:lnTo>
                  <a:pt x="1110" y="1770"/>
                </a:lnTo>
                <a:lnTo>
                  <a:pt x="1111" y="1762"/>
                </a:lnTo>
                <a:lnTo>
                  <a:pt x="1115" y="1760"/>
                </a:lnTo>
                <a:lnTo>
                  <a:pt x="1121" y="1758"/>
                </a:lnTo>
                <a:lnTo>
                  <a:pt x="1129" y="1757"/>
                </a:lnTo>
                <a:lnTo>
                  <a:pt x="1129" y="1711"/>
                </a:lnTo>
                <a:lnTo>
                  <a:pt x="1129" y="1705"/>
                </a:lnTo>
                <a:lnTo>
                  <a:pt x="1131" y="1704"/>
                </a:lnTo>
                <a:lnTo>
                  <a:pt x="1134" y="1703"/>
                </a:lnTo>
                <a:lnTo>
                  <a:pt x="1137" y="1702"/>
                </a:lnTo>
                <a:lnTo>
                  <a:pt x="1142" y="1666"/>
                </a:lnTo>
                <a:lnTo>
                  <a:pt x="1142" y="1662"/>
                </a:lnTo>
                <a:lnTo>
                  <a:pt x="1145" y="1661"/>
                </a:lnTo>
                <a:lnTo>
                  <a:pt x="1148" y="1658"/>
                </a:lnTo>
                <a:lnTo>
                  <a:pt x="1156" y="1656"/>
                </a:lnTo>
                <a:lnTo>
                  <a:pt x="1156" y="1547"/>
                </a:lnTo>
                <a:lnTo>
                  <a:pt x="1150" y="1544"/>
                </a:lnTo>
                <a:lnTo>
                  <a:pt x="1146" y="1542"/>
                </a:lnTo>
                <a:lnTo>
                  <a:pt x="1141" y="1538"/>
                </a:lnTo>
                <a:lnTo>
                  <a:pt x="1137" y="1534"/>
                </a:lnTo>
                <a:lnTo>
                  <a:pt x="1135" y="1532"/>
                </a:lnTo>
                <a:lnTo>
                  <a:pt x="1133" y="1530"/>
                </a:lnTo>
                <a:lnTo>
                  <a:pt x="1131" y="1522"/>
                </a:lnTo>
                <a:lnTo>
                  <a:pt x="1129" y="1515"/>
                </a:lnTo>
                <a:lnTo>
                  <a:pt x="1121" y="1513"/>
                </a:lnTo>
                <a:lnTo>
                  <a:pt x="1114" y="1511"/>
                </a:lnTo>
                <a:lnTo>
                  <a:pt x="1110" y="1508"/>
                </a:lnTo>
                <a:lnTo>
                  <a:pt x="1110" y="1502"/>
                </a:lnTo>
                <a:lnTo>
                  <a:pt x="1047" y="1497"/>
                </a:lnTo>
                <a:lnTo>
                  <a:pt x="1046" y="1503"/>
                </a:lnTo>
                <a:lnTo>
                  <a:pt x="1041" y="1507"/>
                </a:lnTo>
                <a:lnTo>
                  <a:pt x="1037" y="1511"/>
                </a:lnTo>
                <a:lnTo>
                  <a:pt x="1031" y="1512"/>
                </a:lnTo>
                <a:lnTo>
                  <a:pt x="1025" y="1511"/>
                </a:lnTo>
                <a:lnTo>
                  <a:pt x="1019" y="1511"/>
                </a:lnTo>
                <a:lnTo>
                  <a:pt x="1014" y="1514"/>
                </a:lnTo>
                <a:lnTo>
                  <a:pt x="1014" y="1518"/>
                </a:lnTo>
                <a:lnTo>
                  <a:pt x="1013" y="1521"/>
                </a:lnTo>
                <a:lnTo>
                  <a:pt x="1009" y="1524"/>
                </a:lnTo>
                <a:lnTo>
                  <a:pt x="1006" y="1528"/>
                </a:lnTo>
                <a:lnTo>
                  <a:pt x="1001" y="1534"/>
                </a:lnTo>
                <a:lnTo>
                  <a:pt x="1001" y="1536"/>
                </a:lnTo>
                <a:lnTo>
                  <a:pt x="1001" y="1538"/>
                </a:lnTo>
                <a:lnTo>
                  <a:pt x="996" y="1541"/>
                </a:lnTo>
                <a:lnTo>
                  <a:pt x="993" y="1542"/>
                </a:lnTo>
                <a:lnTo>
                  <a:pt x="988" y="1542"/>
                </a:lnTo>
                <a:lnTo>
                  <a:pt x="982" y="1543"/>
                </a:lnTo>
                <a:lnTo>
                  <a:pt x="981" y="1548"/>
                </a:lnTo>
                <a:lnTo>
                  <a:pt x="979" y="1553"/>
                </a:lnTo>
                <a:lnTo>
                  <a:pt x="975" y="1555"/>
                </a:lnTo>
                <a:lnTo>
                  <a:pt x="969" y="1557"/>
                </a:lnTo>
                <a:lnTo>
                  <a:pt x="969" y="1563"/>
                </a:lnTo>
                <a:lnTo>
                  <a:pt x="969" y="1570"/>
                </a:lnTo>
                <a:lnTo>
                  <a:pt x="966" y="1572"/>
                </a:lnTo>
                <a:lnTo>
                  <a:pt x="964" y="1573"/>
                </a:lnTo>
                <a:lnTo>
                  <a:pt x="959" y="1573"/>
                </a:lnTo>
                <a:lnTo>
                  <a:pt x="955" y="1574"/>
                </a:lnTo>
                <a:lnTo>
                  <a:pt x="955" y="1593"/>
                </a:lnTo>
                <a:lnTo>
                  <a:pt x="953" y="1597"/>
                </a:lnTo>
                <a:lnTo>
                  <a:pt x="949" y="1598"/>
                </a:lnTo>
                <a:lnTo>
                  <a:pt x="945" y="1599"/>
                </a:lnTo>
                <a:lnTo>
                  <a:pt x="942" y="1602"/>
                </a:lnTo>
                <a:lnTo>
                  <a:pt x="940" y="1608"/>
                </a:lnTo>
                <a:lnTo>
                  <a:pt x="937" y="1616"/>
                </a:lnTo>
                <a:lnTo>
                  <a:pt x="934" y="1616"/>
                </a:lnTo>
                <a:lnTo>
                  <a:pt x="928" y="1620"/>
                </a:lnTo>
                <a:lnTo>
                  <a:pt x="924" y="1624"/>
                </a:lnTo>
                <a:lnTo>
                  <a:pt x="922" y="1627"/>
                </a:lnTo>
                <a:lnTo>
                  <a:pt x="919" y="1630"/>
                </a:lnTo>
                <a:lnTo>
                  <a:pt x="914" y="1633"/>
                </a:lnTo>
                <a:lnTo>
                  <a:pt x="910" y="1652"/>
                </a:lnTo>
                <a:lnTo>
                  <a:pt x="908" y="1658"/>
                </a:lnTo>
                <a:lnTo>
                  <a:pt x="905" y="1662"/>
                </a:lnTo>
                <a:lnTo>
                  <a:pt x="899" y="1663"/>
                </a:lnTo>
                <a:lnTo>
                  <a:pt x="896" y="1666"/>
                </a:lnTo>
                <a:lnTo>
                  <a:pt x="893" y="1669"/>
                </a:lnTo>
                <a:lnTo>
                  <a:pt x="890" y="1673"/>
                </a:lnTo>
                <a:lnTo>
                  <a:pt x="887" y="1676"/>
                </a:lnTo>
                <a:lnTo>
                  <a:pt x="883" y="1679"/>
                </a:lnTo>
                <a:lnTo>
                  <a:pt x="883" y="1698"/>
                </a:lnTo>
                <a:lnTo>
                  <a:pt x="881" y="1702"/>
                </a:lnTo>
                <a:lnTo>
                  <a:pt x="877" y="1703"/>
                </a:lnTo>
                <a:lnTo>
                  <a:pt x="872" y="1704"/>
                </a:lnTo>
                <a:lnTo>
                  <a:pt x="869" y="1707"/>
                </a:lnTo>
                <a:lnTo>
                  <a:pt x="869" y="1725"/>
                </a:lnTo>
                <a:lnTo>
                  <a:pt x="866" y="1729"/>
                </a:lnTo>
                <a:lnTo>
                  <a:pt x="863" y="1731"/>
                </a:lnTo>
                <a:lnTo>
                  <a:pt x="857" y="1732"/>
                </a:lnTo>
                <a:lnTo>
                  <a:pt x="851" y="1734"/>
                </a:lnTo>
                <a:lnTo>
                  <a:pt x="848" y="1740"/>
                </a:lnTo>
                <a:lnTo>
                  <a:pt x="846" y="1747"/>
                </a:lnTo>
                <a:lnTo>
                  <a:pt x="842" y="1747"/>
                </a:lnTo>
                <a:lnTo>
                  <a:pt x="837" y="1752"/>
                </a:lnTo>
                <a:lnTo>
                  <a:pt x="837" y="1770"/>
                </a:lnTo>
                <a:lnTo>
                  <a:pt x="836" y="1772"/>
                </a:lnTo>
                <a:lnTo>
                  <a:pt x="834" y="1774"/>
                </a:lnTo>
                <a:lnTo>
                  <a:pt x="829" y="1775"/>
                </a:lnTo>
                <a:lnTo>
                  <a:pt x="824" y="1780"/>
                </a:lnTo>
                <a:lnTo>
                  <a:pt x="824" y="1797"/>
                </a:lnTo>
                <a:lnTo>
                  <a:pt x="822" y="1804"/>
                </a:lnTo>
                <a:lnTo>
                  <a:pt x="818" y="1807"/>
                </a:lnTo>
                <a:lnTo>
                  <a:pt x="813" y="1809"/>
                </a:lnTo>
                <a:lnTo>
                  <a:pt x="810" y="1811"/>
                </a:lnTo>
                <a:lnTo>
                  <a:pt x="805" y="1829"/>
                </a:lnTo>
                <a:lnTo>
                  <a:pt x="804" y="1833"/>
                </a:lnTo>
                <a:lnTo>
                  <a:pt x="802" y="1835"/>
                </a:lnTo>
                <a:lnTo>
                  <a:pt x="799" y="1838"/>
                </a:lnTo>
                <a:lnTo>
                  <a:pt x="796" y="1843"/>
                </a:lnTo>
                <a:lnTo>
                  <a:pt x="791" y="1875"/>
                </a:lnTo>
                <a:lnTo>
                  <a:pt x="788" y="1879"/>
                </a:lnTo>
                <a:lnTo>
                  <a:pt x="782" y="1884"/>
                </a:lnTo>
                <a:lnTo>
                  <a:pt x="778" y="1902"/>
                </a:lnTo>
                <a:lnTo>
                  <a:pt x="777" y="1906"/>
                </a:lnTo>
                <a:lnTo>
                  <a:pt x="774" y="1908"/>
                </a:lnTo>
                <a:lnTo>
                  <a:pt x="769" y="1909"/>
                </a:lnTo>
                <a:lnTo>
                  <a:pt x="764" y="1911"/>
                </a:lnTo>
                <a:lnTo>
                  <a:pt x="764" y="1944"/>
                </a:lnTo>
                <a:lnTo>
                  <a:pt x="762" y="1948"/>
                </a:lnTo>
                <a:lnTo>
                  <a:pt x="758" y="1951"/>
                </a:lnTo>
                <a:lnTo>
                  <a:pt x="754" y="1953"/>
                </a:lnTo>
                <a:lnTo>
                  <a:pt x="751" y="1957"/>
                </a:lnTo>
                <a:lnTo>
                  <a:pt x="746" y="2007"/>
                </a:lnTo>
                <a:lnTo>
                  <a:pt x="746" y="2011"/>
                </a:lnTo>
                <a:lnTo>
                  <a:pt x="743" y="2013"/>
                </a:lnTo>
                <a:lnTo>
                  <a:pt x="737" y="2015"/>
                </a:lnTo>
                <a:lnTo>
                  <a:pt x="736" y="2020"/>
                </a:lnTo>
                <a:lnTo>
                  <a:pt x="732" y="2024"/>
                </a:lnTo>
                <a:lnTo>
                  <a:pt x="729" y="2027"/>
                </a:lnTo>
                <a:lnTo>
                  <a:pt x="724" y="2027"/>
                </a:lnTo>
                <a:lnTo>
                  <a:pt x="719" y="2030"/>
                </a:lnTo>
                <a:lnTo>
                  <a:pt x="718" y="2034"/>
                </a:lnTo>
                <a:lnTo>
                  <a:pt x="715" y="2038"/>
                </a:lnTo>
                <a:lnTo>
                  <a:pt x="710" y="2040"/>
                </a:lnTo>
                <a:lnTo>
                  <a:pt x="705" y="2043"/>
                </a:lnTo>
                <a:lnTo>
                  <a:pt x="703" y="2050"/>
                </a:lnTo>
                <a:lnTo>
                  <a:pt x="700" y="2057"/>
                </a:lnTo>
                <a:lnTo>
                  <a:pt x="697" y="2058"/>
                </a:lnTo>
                <a:lnTo>
                  <a:pt x="692" y="2059"/>
                </a:lnTo>
                <a:lnTo>
                  <a:pt x="684" y="2059"/>
                </a:lnTo>
                <a:lnTo>
                  <a:pt x="677" y="2062"/>
                </a:lnTo>
                <a:lnTo>
                  <a:pt x="671" y="2056"/>
                </a:lnTo>
                <a:lnTo>
                  <a:pt x="670" y="2050"/>
                </a:lnTo>
                <a:lnTo>
                  <a:pt x="670" y="2041"/>
                </a:lnTo>
                <a:lnTo>
                  <a:pt x="669" y="2034"/>
                </a:lnTo>
                <a:lnTo>
                  <a:pt x="665" y="2029"/>
                </a:lnTo>
                <a:lnTo>
                  <a:pt x="660" y="2024"/>
                </a:lnTo>
                <a:lnTo>
                  <a:pt x="654" y="1770"/>
                </a:lnTo>
                <a:lnTo>
                  <a:pt x="651" y="1766"/>
                </a:lnTo>
                <a:lnTo>
                  <a:pt x="646" y="1761"/>
                </a:lnTo>
                <a:lnTo>
                  <a:pt x="641" y="1652"/>
                </a:lnTo>
                <a:lnTo>
                  <a:pt x="640" y="1646"/>
                </a:lnTo>
                <a:lnTo>
                  <a:pt x="637" y="1645"/>
                </a:lnTo>
                <a:lnTo>
                  <a:pt x="633" y="1644"/>
                </a:lnTo>
                <a:lnTo>
                  <a:pt x="627" y="1643"/>
                </a:lnTo>
                <a:lnTo>
                  <a:pt x="623" y="1634"/>
                </a:lnTo>
                <a:lnTo>
                  <a:pt x="624" y="1626"/>
                </a:lnTo>
                <a:lnTo>
                  <a:pt x="625" y="1616"/>
                </a:lnTo>
                <a:lnTo>
                  <a:pt x="627" y="1606"/>
                </a:lnTo>
                <a:lnTo>
                  <a:pt x="621" y="1602"/>
                </a:lnTo>
                <a:lnTo>
                  <a:pt x="618" y="1597"/>
                </a:lnTo>
                <a:lnTo>
                  <a:pt x="613" y="1589"/>
                </a:lnTo>
                <a:lnTo>
                  <a:pt x="612" y="1581"/>
                </a:lnTo>
                <a:lnTo>
                  <a:pt x="611" y="1571"/>
                </a:lnTo>
                <a:lnTo>
                  <a:pt x="610" y="1561"/>
                </a:lnTo>
                <a:lnTo>
                  <a:pt x="609" y="1558"/>
                </a:lnTo>
                <a:lnTo>
                  <a:pt x="608" y="1557"/>
                </a:lnTo>
                <a:lnTo>
                  <a:pt x="604" y="1557"/>
                </a:lnTo>
                <a:lnTo>
                  <a:pt x="600" y="1557"/>
                </a:lnTo>
                <a:lnTo>
                  <a:pt x="598" y="1551"/>
                </a:lnTo>
                <a:lnTo>
                  <a:pt x="598" y="1546"/>
                </a:lnTo>
                <a:lnTo>
                  <a:pt x="599" y="1539"/>
                </a:lnTo>
                <a:lnTo>
                  <a:pt x="600" y="1534"/>
                </a:lnTo>
                <a:lnTo>
                  <a:pt x="597" y="1528"/>
                </a:lnTo>
                <a:lnTo>
                  <a:pt x="593" y="1530"/>
                </a:lnTo>
                <a:lnTo>
                  <a:pt x="590" y="1530"/>
                </a:lnTo>
                <a:lnTo>
                  <a:pt x="587" y="1530"/>
                </a:lnTo>
                <a:lnTo>
                  <a:pt x="582" y="1523"/>
                </a:lnTo>
                <a:lnTo>
                  <a:pt x="581" y="1518"/>
                </a:lnTo>
                <a:lnTo>
                  <a:pt x="581" y="1511"/>
                </a:lnTo>
                <a:lnTo>
                  <a:pt x="582" y="1507"/>
                </a:lnTo>
                <a:lnTo>
                  <a:pt x="577" y="1500"/>
                </a:lnTo>
                <a:lnTo>
                  <a:pt x="573" y="1497"/>
                </a:lnTo>
                <a:lnTo>
                  <a:pt x="567" y="1492"/>
                </a:lnTo>
                <a:lnTo>
                  <a:pt x="564" y="1488"/>
                </a:lnTo>
                <a:lnTo>
                  <a:pt x="562" y="1487"/>
                </a:lnTo>
                <a:lnTo>
                  <a:pt x="559" y="1484"/>
                </a:lnTo>
                <a:lnTo>
                  <a:pt x="556" y="1482"/>
                </a:lnTo>
                <a:lnTo>
                  <a:pt x="555" y="1478"/>
                </a:lnTo>
                <a:lnTo>
                  <a:pt x="555" y="1473"/>
                </a:lnTo>
                <a:lnTo>
                  <a:pt x="555" y="1470"/>
                </a:lnTo>
                <a:lnTo>
                  <a:pt x="547" y="1467"/>
                </a:lnTo>
                <a:lnTo>
                  <a:pt x="541" y="1465"/>
                </a:lnTo>
                <a:lnTo>
                  <a:pt x="537" y="1462"/>
                </a:lnTo>
                <a:lnTo>
                  <a:pt x="537" y="1456"/>
                </a:lnTo>
                <a:lnTo>
                  <a:pt x="531" y="1455"/>
                </a:lnTo>
                <a:lnTo>
                  <a:pt x="528" y="1452"/>
                </a:lnTo>
                <a:lnTo>
                  <a:pt x="526" y="1448"/>
                </a:lnTo>
                <a:lnTo>
                  <a:pt x="523" y="1442"/>
                </a:lnTo>
                <a:lnTo>
                  <a:pt x="455" y="1442"/>
                </a:lnTo>
                <a:lnTo>
                  <a:pt x="454" y="1445"/>
                </a:lnTo>
                <a:lnTo>
                  <a:pt x="450" y="1452"/>
                </a:lnTo>
                <a:lnTo>
                  <a:pt x="448" y="1453"/>
                </a:lnTo>
                <a:lnTo>
                  <a:pt x="443" y="1454"/>
                </a:lnTo>
                <a:lnTo>
                  <a:pt x="436" y="1454"/>
                </a:lnTo>
                <a:lnTo>
                  <a:pt x="432" y="1456"/>
                </a:lnTo>
                <a:lnTo>
                  <a:pt x="427" y="1460"/>
                </a:lnTo>
                <a:lnTo>
                  <a:pt x="426" y="1465"/>
                </a:lnTo>
                <a:lnTo>
                  <a:pt x="426" y="1472"/>
                </a:lnTo>
                <a:lnTo>
                  <a:pt x="427" y="1479"/>
                </a:lnTo>
                <a:lnTo>
                  <a:pt x="425" y="1484"/>
                </a:lnTo>
                <a:lnTo>
                  <a:pt x="422" y="1485"/>
                </a:lnTo>
                <a:lnTo>
                  <a:pt x="415" y="1486"/>
                </a:lnTo>
                <a:lnTo>
                  <a:pt x="410" y="1488"/>
                </a:lnTo>
                <a:lnTo>
                  <a:pt x="408" y="1492"/>
                </a:lnTo>
                <a:lnTo>
                  <a:pt x="405" y="1496"/>
                </a:lnTo>
                <a:lnTo>
                  <a:pt x="401" y="1498"/>
                </a:lnTo>
                <a:lnTo>
                  <a:pt x="396" y="1502"/>
                </a:lnTo>
                <a:lnTo>
                  <a:pt x="396" y="1520"/>
                </a:lnTo>
                <a:lnTo>
                  <a:pt x="395" y="1524"/>
                </a:lnTo>
                <a:lnTo>
                  <a:pt x="392" y="1526"/>
                </a:lnTo>
                <a:lnTo>
                  <a:pt x="388" y="1528"/>
                </a:lnTo>
                <a:lnTo>
                  <a:pt x="383" y="1534"/>
                </a:lnTo>
                <a:lnTo>
                  <a:pt x="383" y="1547"/>
                </a:lnTo>
                <a:lnTo>
                  <a:pt x="380" y="1551"/>
                </a:lnTo>
                <a:lnTo>
                  <a:pt x="376" y="1554"/>
                </a:lnTo>
                <a:lnTo>
                  <a:pt x="369" y="1554"/>
                </a:lnTo>
                <a:lnTo>
                  <a:pt x="364" y="1557"/>
                </a:lnTo>
                <a:lnTo>
                  <a:pt x="364" y="1593"/>
                </a:lnTo>
                <a:lnTo>
                  <a:pt x="361" y="1597"/>
                </a:lnTo>
                <a:lnTo>
                  <a:pt x="355" y="1602"/>
                </a:lnTo>
                <a:lnTo>
                  <a:pt x="350" y="1633"/>
                </a:lnTo>
                <a:lnTo>
                  <a:pt x="349" y="1638"/>
                </a:lnTo>
                <a:lnTo>
                  <a:pt x="346" y="1642"/>
                </a:lnTo>
                <a:lnTo>
                  <a:pt x="343" y="1644"/>
                </a:lnTo>
                <a:lnTo>
                  <a:pt x="341" y="1648"/>
                </a:lnTo>
                <a:lnTo>
                  <a:pt x="337" y="1725"/>
                </a:lnTo>
                <a:lnTo>
                  <a:pt x="334" y="1729"/>
                </a:lnTo>
                <a:lnTo>
                  <a:pt x="331" y="1731"/>
                </a:lnTo>
                <a:lnTo>
                  <a:pt x="326" y="1732"/>
                </a:lnTo>
                <a:lnTo>
                  <a:pt x="322" y="1734"/>
                </a:lnTo>
                <a:lnTo>
                  <a:pt x="319" y="1739"/>
                </a:lnTo>
                <a:lnTo>
                  <a:pt x="322" y="1743"/>
                </a:lnTo>
                <a:lnTo>
                  <a:pt x="325" y="1744"/>
                </a:lnTo>
                <a:lnTo>
                  <a:pt x="328" y="1745"/>
                </a:lnTo>
                <a:lnTo>
                  <a:pt x="331" y="1745"/>
                </a:lnTo>
                <a:lnTo>
                  <a:pt x="337" y="1747"/>
                </a:lnTo>
                <a:lnTo>
                  <a:pt x="337" y="1750"/>
                </a:lnTo>
                <a:lnTo>
                  <a:pt x="337" y="1757"/>
                </a:lnTo>
                <a:lnTo>
                  <a:pt x="334" y="1761"/>
                </a:lnTo>
                <a:lnTo>
                  <a:pt x="331" y="1762"/>
                </a:lnTo>
                <a:lnTo>
                  <a:pt x="326" y="1763"/>
                </a:lnTo>
                <a:lnTo>
                  <a:pt x="322" y="1766"/>
                </a:lnTo>
                <a:lnTo>
                  <a:pt x="318" y="1856"/>
                </a:lnTo>
                <a:lnTo>
                  <a:pt x="321" y="1859"/>
                </a:lnTo>
                <a:lnTo>
                  <a:pt x="326" y="1861"/>
                </a:lnTo>
                <a:lnTo>
                  <a:pt x="330" y="1859"/>
                </a:lnTo>
                <a:lnTo>
                  <a:pt x="337" y="1862"/>
                </a:lnTo>
                <a:lnTo>
                  <a:pt x="337" y="1934"/>
                </a:lnTo>
                <a:lnTo>
                  <a:pt x="341" y="1934"/>
                </a:lnTo>
                <a:lnTo>
                  <a:pt x="345" y="1938"/>
                </a:lnTo>
                <a:lnTo>
                  <a:pt x="350" y="1988"/>
                </a:lnTo>
                <a:lnTo>
                  <a:pt x="354" y="1992"/>
                </a:lnTo>
                <a:lnTo>
                  <a:pt x="360" y="1993"/>
                </a:lnTo>
                <a:lnTo>
                  <a:pt x="364" y="2000"/>
                </a:lnTo>
                <a:lnTo>
                  <a:pt x="365" y="2011"/>
                </a:lnTo>
                <a:lnTo>
                  <a:pt x="364" y="2022"/>
                </a:lnTo>
                <a:lnTo>
                  <a:pt x="364" y="2034"/>
                </a:lnTo>
                <a:lnTo>
                  <a:pt x="365" y="2035"/>
                </a:lnTo>
                <a:lnTo>
                  <a:pt x="368" y="2036"/>
                </a:lnTo>
                <a:lnTo>
                  <a:pt x="373" y="2036"/>
                </a:lnTo>
                <a:lnTo>
                  <a:pt x="377" y="2039"/>
                </a:lnTo>
                <a:lnTo>
                  <a:pt x="381" y="2045"/>
                </a:lnTo>
                <a:lnTo>
                  <a:pt x="383" y="2055"/>
                </a:lnTo>
                <a:lnTo>
                  <a:pt x="383" y="2059"/>
                </a:lnTo>
                <a:lnTo>
                  <a:pt x="383" y="2066"/>
                </a:lnTo>
                <a:lnTo>
                  <a:pt x="383" y="2072"/>
                </a:lnTo>
                <a:lnTo>
                  <a:pt x="383" y="2079"/>
                </a:lnTo>
                <a:lnTo>
                  <a:pt x="385" y="2079"/>
                </a:lnTo>
                <a:lnTo>
                  <a:pt x="391" y="2084"/>
                </a:lnTo>
                <a:lnTo>
                  <a:pt x="395" y="2091"/>
                </a:lnTo>
                <a:lnTo>
                  <a:pt x="396" y="2098"/>
                </a:lnTo>
                <a:lnTo>
                  <a:pt x="389" y="2102"/>
                </a:lnTo>
                <a:lnTo>
                  <a:pt x="383" y="2106"/>
                </a:lnTo>
                <a:lnTo>
                  <a:pt x="383" y="2121"/>
                </a:lnTo>
                <a:lnTo>
                  <a:pt x="380" y="2126"/>
                </a:lnTo>
                <a:lnTo>
                  <a:pt x="376" y="2128"/>
                </a:lnTo>
                <a:lnTo>
                  <a:pt x="369" y="2129"/>
                </a:lnTo>
                <a:lnTo>
                  <a:pt x="364" y="2134"/>
                </a:lnTo>
                <a:lnTo>
                  <a:pt x="364" y="2137"/>
                </a:lnTo>
                <a:lnTo>
                  <a:pt x="364" y="2143"/>
                </a:lnTo>
                <a:lnTo>
                  <a:pt x="355" y="2147"/>
                </a:lnTo>
                <a:lnTo>
                  <a:pt x="345" y="2147"/>
                </a:lnTo>
                <a:lnTo>
                  <a:pt x="336" y="2146"/>
                </a:lnTo>
                <a:lnTo>
                  <a:pt x="328" y="2148"/>
                </a:lnTo>
                <a:lnTo>
                  <a:pt x="319" y="2146"/>
                </a:lnTo>
                <a:lnTo>
                  <a:pt x="317" y="2142"/>
                </a:lnTo>
                <a:lnTo>
                  <a:pt x="315" y="2137"/>
                </a:lnTo>
                <a:lnTo>
                  <a:pt x="314" y="2134"/>
                </a:lnTo>
                <a:lnTo>
                  <a:pt x="312" y="2131"/>
                </a:lnTo>
                <a:lnTo>
                  <a:pt x="309" y="2129"/>
                </a:lnTo>
                <a:lnTo>
                  <a:pt x="305" y="2125"/>
                </a:lnTo>
                <a:lnTo>
                  <a:pt x="304" y="2119"/>
                </a:lnTo>
                <a:lnTo>
                  <a:pt x="304" y="2113"/>
                </a:lnTo>
                <a:lnTo>
                  <a:pt x="305" y="2106"/>
                </a:lnTo>
                <a:lnTo>
                  <a:pt x="299" y="2104"/>
                </a:lnTo>
                <a:lnTo>
                  <a:pt x="295" y="2102"/>
                </a:lnTo>
                <a:lnTo>
                  <a:pt x="291" y="2098"/>
                </a:lnTo>
                <a:lnTo>
                  <a:pt x="290" y="2092"/>
                </a:lnTo>
                <a:lnTo>
                  <a:pt x="290" y="2086"/>
                </a:lnTo>
                <a:lnTo>
                  <a:pt x="291" y="2079"/>
                </a:lnTo>
                <a:lnTo>
                  <a:pt x="289" y="2074"/>
                </a:lnTo>
                <a:lnTo>
                  <a:pt x="285" y="2072"/>
                </a:lnTo>
                <a:lnTo>
                  <a:pt x="281" y="2071"/>
                </a:lnTo>
                <a:lnTo>
                  <a:pt x="278" y="2070"/>
                </a:lnTo>
                <a:lnTo>
                  <a:pt x="273" y="2066"/>
                </a:lnTo>
                <a:lnTo>
                  <a:pt x="272" y="2060"/>
                </a:lnTo>
                <a:lnTo>
                  <a:pt x="272" y="2054"/>
                </a:lnTo>
                <a:lnTo>
                  <a:pt x="273" y="2047"/>
                </a:lnTo>
                <a:lnTo>
                  <a:pt x="269" y="2042"/>
                </a:lnTo>
                <a:lnTo>
                  <a:pt x="265" y="2039"/>
                </a:lnTo>
                <a:lnTo>
                  <a:pt x="260" y="2034"/>
                </a:lnTo>
                <a:lnTo>
                  <a:pt x="259" y="2030"/>
                </a:lnTo>
                <a:lnTo>
                  <a:pt x="255" y="2029"/>
                </a:lnTo>
                <a:lnTo>
                  <a:pt x="254" y="2027"/>
                </a:lnTo>
                <a:lnTo>
                  <a:pt x="250" y="2024"/>
                </a:lnTo>
                <a:lnTo>
                  <a:pt x="246" y="2022"/>
                </a:lnTo>
                <a:lnTo>
                  <a:pt x="245" y="2017"/>
                </a:lnTo>
                <a:lnTo>
                  <a:pt x="245" y="2009"/>
                </a:lnTo>
                <a:lnTo>
                  <a:pt x="246" y="2003"/>
                </a:lnTo>
                <a:lnTo>
                  <a:pt x="244" y="1997"/>
                </a:lnTo>
                <a:lnTo>
                  <a:pt x="241" y="1998"/>
                </a:lnTo>
                <a:lnTo>
                  <a:pt x="235" y="1998"/>
                </a:lnTo>
                <a:lnTo>
                  <a:pt x="232" y="1997"/>
                </a:lnTo>
                <a:lnTo>
                  <a:pt x="227" y="1991"/>
                </a:lnTo>
                <a:lnTo>
                  <a:pt x="227" y="1988"/>
                </a:lnTo>
                <a:lnTo>
                  <a:pt x="209" y="1984"/>
                </a:lnTo>
                <a:lnTo>
                  <a:pt x="206" y="1983"/>
                </a:lnTo>
                <a:lnTo>
                  <a:pt x="204" y="1981"/>
                </a:lnTo>
                <a:lnTo>
                  <a:pt x="202" y="1976"/>
                </a:lnTo>
                <a:lnTo>
                  <a:pt x="200" y="1971"/>
                </a:lnTo>
                <a:lnTo>
                  <a:pt x="194" y="1971"/>
                </a:lnTo>
                <a:lnTo>
                  <a:pt x="191" y="1971"/>
                </a:lnTo>
                <a:lnTo>
                  <a:pt x="186" y="1969"/>
                </a:lnTo>
                <a:lnTo>
                  <a:pt x="185" y="1965"/>
                </a:lnTo>
                <a:lnTo>
                  <a:pt x="183" y="1960"/>
                </a:lnTo>
                <a:lnTo>
                  <a:pt x="182" y="1957"/>
                </a:lnTo>
                <a:lnTo>
                  <a:pt x="78" y="1952"/>
                </a:lnTo>
                <a:lnTo>
                  <a:pt x="74" y="1959"/>
                </a:lnTo>
                <a:lnTo>
                  <a:pt x="72" y="1965"/>
                </a:lnTo>
                <a:lnTo>
                  <a:pt x="70" y="1968"/>
                </a:lnTo>
                <a:lnTo>
                  <a:pt x="67" y="1970"/>
                </a:lnTo>
                <a:lnTo>
                  <a:pt x="62" y="1970"/>
                </a:lnTo>
                <a:lnTo>
                  <a:pt x="59" y="1971"/>
                </a:lnTo>
                <a:lnTo>
                  <a:pt x="57" y="1974"/>
                </a:lnTo>
                <a:lnTo>
                  <a:pt x="57" y="1975"/>
                </a:lnTo>
                <a:lnTo>
                  <a:pt x="56" y="1975"/>
                </a:lnTo>
                <a:lnTo>
                  <a:pt x="55" y="1980"/>
                </a:lnTo>
                <a:lnTo>
                  <a:pt x="49" y="1984"/>
                </a:lnTo>
                <a:lnTo>
                  <a:pt x="45" y="1985"/>
                </a:lnTo>
                <a:lnTo>
                  <a:pt x="40" y="1984"/>
                </a:lnTo>
                <a:lnTo>
                  <a:pt x="36" y="1984"/>
                </a:lnTo>
                <a:lnTo>
                  <a:pt x="31" y="1987"/>
                </a:lnTo>
                <a:lnTo>
                  <a:pt x="30" y="1993"/>
                </a:lnTo>
                <a:lnTo>
                  <a:pt x="29" y="1999"/>
                </a:lnTo>
                <a:lnTo>
                  <a:pt x="28" y="2007"/>
                </a:lnTo>
                <a:lnTo>
                  <a:pt x="25" y="2011"/>
                </a:lnTo>
                <a:lnTo>
                  <a:pt x="22" y="2012"/>
                </a:lnTo>
                <a:lnTo>
                  <a:pt x="17" y="2013"/>
                </a:lnTo>
                <a:lnTo>
                  <a:pt x="13" y="2016"/>
                </a:lnTo>
                <a:lnTo>
                  <a:pt x="13" y="2034"/>
                </a:lnTo>
                <a:lnTo>
                  <a:pt x="11" y="2036"/>
                </a:lnTo>
                <a:lnTo>
                  <a:pt x="8" y="2039"/>
                </a:lnTo>
                <a:lnTo>
                  <a:pt x="3" y="2040"/>
                </a:lnTo>
                <a:lnTo>
                  <a:pt x="0" y="2043"/>
                </a:lnTo>
                <a:lnTo>
                  <a:pt x="0" y="2198"/>
                </a:lnTo>
                <a:lnTo>
                  <a:pt x="2" y="2200"/>
                </a:lnTo>
                <a:lnTo>
                  <a:pt x="9" y="2202"/>
                </a:lnTo>
                <a:lnTo>
                  <a:pt x="10" y="2206"/>
                </a:lnTo>
                <a:lnTo>
                  <a:pt x="11" y="2211"/>
                </a:lnTo>
                <a:lnTo>
                  <a:pt x="11" y="2218"/>
                </a:lnTo>
                <a:lnTo>
                  <a:pt x="13" y="2225"/>
                </a:lnTo>
                <a:lnTo>
                  <a:pt x="13" y="2230"/>
                </a:lnTo>
                <a:lnTo>
                  <a:pt x="17" y="2231"/>
                </a:lnTo>
                <a:lnTo>
                  <a:pt x="20" y="2232"/>
                </a:lnTo>
                <a:lnTo>
                  <a:pt x="28" y="2234"/>
                </a:lnTo>
                <a:lnTo>
                  <a:pt x="29" y="2236"/>
                </a:lnTo>
                <a:lnTo>
                  <a:pt x="29" y="2242"/>
                </a:lnTo>
                <a:lnTo>
                  <a:pt x="28" y="2247"/>
                </a:lnTo>
                <a:lnTo>
                  <a:pt x="28" y="2253"/>
                </a:lnTo>
                <a:lnTo>
                  <a:pt x="33" y="2257"/>
                </a:lnTo>
                <a:lnTo>
                  <a:pt x="36" y="2261"/>
                </a:lnTo>
                <a:lnTo>
                  <a:pt x="41" y="2263"/>
                </a:lnTo>
                <a:lnTo>
                  <a:pt x="42" y="2266"/>
                </a:lnTo>
                <a:lnTo>
                  <a:pt x="43" y="2270"/>
                </a:lnTo>
                <a:lnTo>
                  <a:pt x="45" y="2275"/>
                </a:lnTo>
                <a:lnTo>
                  <a:pt x="48" y="2275"/>
                </a:lnTo>
                <a:lnTo>
                  <a:pt x="52" y="2278"/>
                </a:lnTo>
                <a:lnTo>
                  <a:pt x="55" y="2282"/>
                </a:lnTo>
                <a:lnTo>
                  <a:pt x="59" y="2289"/>
                </a:lnTo>
                <a:lnTo>
                  <a:pt x="61" y="2289"/>
                </a:lnTo>
                <a:lnTo>
                  <a:pt x="68" y="2289"/>
                </a:lnTo>
                <a:lnTo>
                  <a:pt x="71" y="2295"/>
                </a:lnTo>
                <a:lnTo>
                  <a:pt x="72" y="2302"/>
                </a:lnTo>
                <a:lnTo>
                  <a:pt x="76" y="2302"/>
                </a:lnTo>
                <a:lnTo>
                  <a:pt x="77" y="2302"/>
                </a:lnTo>
                <a:lnTo>
                  <a:pt x="82" y="2302"/>
                </a:lnTo>
                <a:lnTo>
                  <a:pt x="85" y="2305"/>
                </a:lnTo>
                <a:lnTo>
                  <a:pt x="87" y="2308"/>
                </a:lnTo>
                <a:lnTo>
                  <a:pt x="87" y="2312"/>
                </a:lnTo>
                <a:lnTo>
                  <a:pt x="91" y="2316"/>
                </a:lnTo>
                <a:lnTo>
                  <a:pt x="96" y="2323"/>
                </a:lnTo>
                <a:lnTo>
                  <a:pt x="100" y="2329"/>
                </a:lnTo>
                <a:lnTo>
                  <a:pt x="123" y="2335"/>
                </a:lnTo>
                <a:lnTo>
                  <a:pt x="127" y="2337"/>
                </a:lnTo>
                <a:lnTo>
                  <a:pt x="132" y="2343"/>
                </a:lnTo>
                <a:lnTo>
                  <a:pt x="133" y="2344"/>
                </a:lnTo>
                <a:lnTo>
                  <a:pt x="135" y="2346"/>
                </a:lnTo>
                <a:lnTo>
                  <a:pt x="136" y="2346"/>
                </a:lnTo>
                <a:lnTo>
                  <a:pt x="141" y="2348"/>
                </a:lnTo>
                <a:lnTo>
                  <a:pt x="142" y="2349"/>
                </a:lnTo>
                <a:lnTo>
                  <a:pt x="143" y="2352"/>
                </a:lnTo>
                <a:lnTo>
                  <a:pt x="143" y="2356"/>
                </a:lnTo>
                <a:lnTo>
                  <a:pt x="145" y="2362"/>
                </a:lnTo>
                <a:lnTo>
                  <a:pt x="152" y="2364"/>
                </a:lnTo>
                <a:lnTo>
                  <a:pt x="160" y="2366"/>
                </a:lnTo>
                <a:lnTo>
                  <a:pt x="160" y="2368"/>
                </a:lnTo>
                <a:lnTo>
                  <a:pt x="164" y="2375"/>
                </a:lnTo>
                <a:lnTo>
                  <a:pt x="168" y="2377"/>
                </a:lnTo>
                <a:lnTo>
                  <a:pt x="172" y="2379"/>
                </a:lnTo>
                <a:lnTo>
                  <a:pt x="174" y="2383"/>
                </a:lnTo>
                <a:lnTo>
                  <a:pt x="177" y="2389"/>
                </a:lnTo>
                <a:lnTo>
                  <a:pt x="179" y="2389"/>
                </a:lnTo>
                <a:lnTo>
                  <a:pt x="182" y="2394"/>
                </a:lnTo>
                <a:lnTo>
                  <a:pt x="186" y="2394"/>
                </a:lnTo>
                <a:lnTo>
                  <a:pt x="188" y="2397"/>
                </a:lnTo>
                <a:lnTo>
                  <a:pt x="189" y="2400"/>
                </a:lnTo>
                <a:lnTo>
                  <a:pt x="191" y="2407"/>
                </a:lnTo>
                <a:lnTo>
                  <a:pt x="194" y="2407"/>
                </a:lnTo>
                <a:lnTo>
                  <a:pt x="200" y="2407"/>
                </a:lnTo>
                <a:lnTo>
                  <a:pt x="204" y="2413"/>
                </a:lnTo>
                <a:lnTo>
                  <a:pt x="209" y="2421"/>
                </a:lnTo>
                <a:lnTo>
                  <a:pt x="211" y="2421"/>
                </a:lnTo>
                <a:lnTo>
                  <a:pt x="214" y="2425"/>
                </a:lnTo>
                <a:lnTo>
                  <a:pt x="219" y="2431"/>
                </a:lnTo>
                <a:lnTo>
                  <a:pt x="220" y="2439"/>
                </a:lnTo>
                <a:lnTo>
                  <a:pt x="219" y="2444"/>
                </a:lnTo>
                <a:lnTo>
                  <a:pt x="219" y="2450"/>
                </a:lnTo>
                <a:lnTo>
                  <a:pt x="219" y="2456"/>
                </a:lnTo>
                <a:lnTo>
                  <a:pt x="219" y="2461"/>
                </a:lnTo>
                <a:lnTo>
                  <a:pt x="221" y="2464"/>
                </a:lnTo>
                <a:lnTo>
                  <a:pt x="227" y="2466"/>
                </a:lnTo>
                <a:lnTo>
                  <a:pt x="232" y="2470"/>
                </a:lnTo>
                <a:lnTo>
                  <a:pt x="233" y="2478"/>
                </a:lnTo>
                <a:lnTo>
                  <a:pt x="232" y="2485"/>
                </a:lnTo>
                <a:lnTo>
                  <a:pt x="232" y="2493"/>
                </a:lnTo>
                <a:lnTo>
                  <a:pt x="238" y="2495"/>
                </a:lnTo>
                <a:lnTo>
                  <a:pt x="246" y="2498"/>
                </a:lnTo>
                <a:lnTo>
                  <a:pt x="250" y="2548"/>
                </a:lnTo>
                <a:lnTo>
                  <a:pt x="253" y="2552"/>
                </a:lnTo>
                <a:lnTo>
                  <a:pt x="259" y="2553"/>
                </a:lnTo>
                <a:lnTo>
                  <a:pt x="261" y="2560"/>
                </a:lnTo>
                <a:lnTo>
                  <a:pt x="262" y="2566"/>
                </a:lnTo>
                <a:lnTo>
                  <a:pt x="262" y="2573"/>
                </a:lnTo>
                <a:lnTo>
                  <a:pt x="263" y="2579"/>
                </a:lnTo>
                <a:lnTo>
                  <a:pt x="267" y="2584"/>
                </a:lnTo>
                <a:lnTo>
                  <a:pt x="273" y="2585"/>
                </a:lnTo>
                <a:lnTo>
                  <a:pt x="277" y="2592"/>
                </a:lnTo>
                <a:lnTo>
                  <a:pt x="277" y="2603"/>
                </a:lnTo>
                <a:lnTo>
                  <a:pt x="275" y="2608"/>
                </a:lnTo>
                <a:lnTo>
                  <a:pt x="275" y="2614"/>
                </a:lnTo>
                <a:lnTo>
                  <a:pt x="275" y="2620"/>
                </a:lnTo>
                <a:lnTo>
                  <a:pt x="278" y="2625"/>
                </a:lnTo>
                <a:lnTo>
                  <a:pt x="278" y="2626"/>
                </a:lnTo>
                <a:lnTo>
                  <a:pt x="281" y="2627"/>
                </a:lnTo>
                <a:lnTo>
                  <a:pt x="284" y="2627"/>
                </a:lnTo>
                <a:lnTo>
                  <a:pt x="291" y="2630"/>
                </a:lnTo>
                <a:lnTo>
                  <a:pt x="294" y="2636"/>
                </a:lnTo>
                <a:lnTo>
                  <a:pt x="294" y="2647"/>
                </a:lnTo>
                <a:lnTo>
                  <a:pt x="293" y="2651"/>
                </a:lnTo>
                <a:lnTo>
                  <a:pt x="293" y="2657"/>
                </a:lnTo>
                <a:lnTo>
                  <a:pt x="293" y="2663"/>
                </a:lnTo>
                <a:lnTo>
                  <a:pt x="295" y="2671"/>
                </a:lnTo>
                <a:lnTo>
                  <a:pt x="298" y="2671"/>
                </a:lnTo>
                <a:lnTo>
                  <a:pt x="305" y="2675"/>
                </a:lnTo>
                <a:lnTo>
                  <a:pt x="306" y="2677"/>
                </a:lnTo>
                <a:lnTo>
                  <a:pt x="307" y="2682"/>
                </a:lnTo>
                <a:lnTo>
                  <a:pt x="307" y="2687"/>
                </a:lnTo>
                <a:lnTo>
                  <a:pt x="309" y="2694"/>
                </a:lnTo>
                <a:lnTo>
                  <a:pt x="309" y="2696"/>
                </a:lnTo>
                <a:lnTo>
                  <a:pt x="310" y="2697"/>
                </a:lnTo>
                <a:lnTo>
                  <a:pt x="313" y="2697"/>
                </a:lnTo>
                <a:lnTo>
                  <a:pt x="318" y="2698"/>
                </a:lnTo>
                <a:lnTo>
                  <a:pt x="321" y="2706"/>
                </a:lnTo>
                <a:lnTo>
                  <a:pt x="321" y="2717"/>
                </a:lnTo>
                <a:lnTo>
                  <a:pt x="319" y="2721"/>
                </a:lnTo>
                <a:lnTo>
                  <a:pt x="319" y="2728"/>
                </a:lnTo>
                <a:lnTo>
                  <a:pt x="318" y="2733"/>
                </a:lnTo>
                <a:lnTo>
                  <a:pt x="318" y="2739"/>
                </a:lnTo>
                <a:lnTo>
                  <a:pt x="321" y="2740"/>
                </a:lnTo>
                <a:lnTo>
                  <a:pt x="326" y="2741"/>
                </a:lnTo>
                <a:lnTo>
                  <a:pt x="330" y="2741"/>
                </a:lnTo>
                <a:lnTo>
                  <a:pt x="337" y="2743"/>
                </a:lnTo>
                <a:lnTo>
                  <a:pt x="338" y="2748"/>
                </a:lnTo>
                <a:lnTo>
                  <a:pt x="338" y="2755"/>
                </a:lnTo>
                <a:lnTo>
                  <a:pt x="337" y="2763"/>
                </a:lnTo>
                <a:lnTo>
                  <a:pt x="337" y="2770"/>
                </a:lnTo>
                <a:lnTo>
                  <a:pt x="340" y="2773"/>
                </a:lnTo>
                <a:lnTo>
                  <a:pt x="345" y="2776"/>
                </a:lnTo>
                <a:lnTo>
                  <a:pt x="350" y="2779"/>
                </a:lnTo>
                <a:lnTo>
                  <a:pt x="355" y="2785"/>
                </a:lnTo>
                <a:lnTo>
                  <a:pt x="357" y="2787"/>
                </a:lnTo>
                <a:lnTo>
                  <a:pt x="360" y="2789"/>
                </a:lnTo>
                <a:lnTo>
                  <a:pt x="364" y="2793"/>
                </a:lnTo>
                <a:lnTo>
                  <a:pt x="365" y="2801"/>
                </a:lnTo>
                <a:lnTo>
                  <a:pt x="364" y="2809"/>
                </a:lnTo>
                <a:lnTo>
                  <a:pt x="364" y="2816"/>
                </a:lnTo>
                <a:lnTo>
                  <a:pt x="365" y="2817"/>
                </a:lnTo>
                <a:lnTo>
                  <a:pt x="368" y="2819"/>
                </a:lnTo>
                <a:lnTo>
                  <a:pt x="373" y="2819"/>
                </a:lnTo>
                <a:lnTo>
                  <a:pt x="377" y="2821"/>
                </a:lnTo>
                <a:lnTo>
                  <a:pt x="381" y="2823"/>
                </a:lnTo>
                <a:lnTo>
                  <a:pt x="383" y="2831"/>
                </a:lnTo>
                <a:lnTo>
                  <a:pt x="400" y="2831"/>
                </a:lnTo>
                <a:lnTo>
                  <a:pt x="404" y="2832"/>
                </a:lnTo>
                <a:lnTo>
                  <a:pt x="407" y="2836"/>
                </a:lnTo>
                <a:lnTo>
                  <a:pt x="407" y="2841"/>
                </a:lnTo>
                <a:lnTo>
                  <a:pt x="410" y="2848"/>
                </a:lnTo>
                <a:lnTo>
                  <a:pt x="432" y="2848"/>
                </a:lnTo>
                <a:lnTo>
                  <a:pt x="434" y="2848"/>
                </a:lnTo>
                <a:lnTo>
                  <a:pt x="436" y="2851"/>
                </a:lnTo>
                <a:lnTo>
                  <a:pt x="438" y="2855"/>
                </a:lnTo>
                <a:lnTo>
                  <a:pt x="441" y="2862"/>
                </a:lnTo>
                <a:lnTo>
                  <a:pt x="446" y="2862"/>
                </a:lnTo>
                <a:lnTo>
                  <a:pt x="449" y="2866"/>
                </a:lnTo>
                <a:lnTo>
                  <a:pt x="451" y="2869"/>
                </a:lnTo>
                <a:lnTo>
                  <a:pt x="455" y="2875"/>
                </a:lnTo>
                <a:lnTo>
                  <a:pt x="486" y="2875"/>
                </a:lnTo>
                <a:lnTo>
                  <a:pt x="493" y="2876"/>
                </a:lnTo>
                <a:lnTo>
                  <a:pt x="496" y="2880"/>
                </a:lnTo>
                <a:lnTo>
                  <a:pt x="498" y="2884"/>
                </a:lnTo>
                <a:lnTo>
                  <a:pt x="500" y="2890"/>
                </a:lnTo>
                <a:lnTo>
                  <a:pt x="578" y="2894"/>
                </a:lnTo>
                <a:lnTo>
                  <a:pt x="580" y="2886"/>
                </a:lnTo>
                <a:lnTo>
                  <a:pt x="582" y="2880"/>
                </a:lnTo>
                <a:lnTo>
                  <a:pt x="587" y="2875"/>
                </a:lnTo>
                <a:lnTo>
                  <a:pt x="593" y="2874"/>
                </a:lnTo>
                <a:lnTo>
                  <a:pt x="601" y="2874"/>
                </a:lnTo>
                <a:lnTo>
                  <a:pt x="610" y="2875"/>
                </a:lnTo>
                <a:lnTo>
                  <a:pt x="612" y="2871"/>
                </a:lnTo>
                <a:lnTo>
                  <a:pt x="614" y="2867"/>
                </a:lnTo>
                <a:lnTo>
                  <a:pt x="617" y="2863"/>
                </a:lnTo>
                <a:lnTo>
                  <a:pt x="623" y="2862"/>
                </a:lnTo>
                <a:lnTo>
                  <a:pt x="624" y="2857"/>
                </a:lnTo>
                <a:lnTo>
                  <a:pt x="625" y="2857"/>
                </a:lnTo>
                <a:lnTo>
                  <a:pt x="625" y="2856"/>
                </a:lnTo>
                <a:lnTo>
                  <a:pt x="627" y="2852"/>
                </a:lnTo>
                <a:lnTo>
                  <a:pt x="628" y="2850"/>
                </a:lnTo>
                <a:lnTo>
                  <a:pt x="633" y="2850"/>
                </a:lnTo>
                <a:lnTo>
                  <a:pt x="637" y="2849"/>
                </a:lnTo>
                <a:lnTo>
                  <a:pt x="641" y="2848"/>
                </a:lnTo>
                <a:lnTo>
                  <a:pt x="644" y="2841"/>
                </a:lnTo>
                <a:lnTo>
                  <a:pt x="646" y="2835"/>
                </a:lnTo>
                <a:lnTo>
                  <a:pt x="647" y="2833"/>
                </a:lnTo>
                <a:lnTo>
                  <a:pt x="651" y="2833"/>
                </a:lnTo>
                <a:lnTo>
                  <a:pt x="657" y="2832"/>
                </a:lnTo>
                <a:lnTo>
                  <a:pt x="664" y="2831"/>
                </a:lnTo>
                <a:lnTo>
                  <a:pt x="669" y="2827"/>
                </a:lnTo>
                <a:lnTo>
                  <a:pt x="673" y="2821"/>
                </a:lnTo>
                <a:lnTo>
                  <a:pt x="675" y="2819"/>
                </a:lnTo>
                <a:lnTo>
                  <a:pt x="681" y="2819"/>
                </a:lnTo>
                <a:lnTo>
                  <a:pt x="688" y="2817"/>
                </a:lnTo>
                <a:lnTo>
                  <a:pt x="696" y="2816"/>
                </a:lnTo>
                <a:lnTo>
                  <a:pt x="698" y="2817"/>
                </a:lnTo>
                <a:lnTo>
                  <a:pt x="700" y="2821"/>
                </a:lnTo>
                <a:lnTo>
                  <a:pt x="701" y="2825"/>
                </a:lnTo>
                <a:lnTo>
                  <a:pt x="705" y="2831"/>
                </a:lnTo>
                <a:lnTo>
                  <a:pt x="706" y="2831"/>
                </a:lnTo>
                <a:lnTo>
                  <a:pt x="707" y="2831"/>
                </a:lnTo>
                <a:lnTo>
                  <a:pt x="709" y="2832"/>
                </a:lnTo>
                <a:lnTo>
                  <a:pt x="715" y="2835"/>
                </a:lnTo>
                <a:lnTo>
                  <a:pt x="716" y="2836"/>
                </a:lnTo>
                <a:lnTo>
                  <a:pt x="717" y="2839"/>
                </a:lnTo>
                <a:lnTo>
                  <a:pt x="717" y="2844"/>
                </a:lnTo>
                <a:lnTo>
                  <a:pt x="719" y="2848"/>
                </a:lnTo>
                <a:lnTo>
                  <a:pt x="742" y="2848"/>
                </a:lnTo>
                <a:lnTo>
                  <a:pt x="744" y="2848"/>
                </a:lnTo>
                <a:lnTo>
                  <a:pt x="746" y="2851"/>
                </a:lnTo>
                <a:lnTo>
                  <a:pt x="747" y="2855"/>
                </a:lnTo>
                <a:lnTo>
                  <a:pt x="751" y="2862"/>
                </a:lnTo>
                <a:lnTo>
                  <a:pt x="774" y="2862"/>
                </a:lnTo>
                <a:lnTo>
                  <a:pt x="776" y="2862"/>
                </a:lnTo>
                <a:lnTo>
                  <a:pt x="778" y="2866"/>
                </a:lnTo>
                <a:lnTo>
                  <a:pt x="779" y="2869"/>
                </a:lnTo>
                <a:lnTo>
                  <a:pt x="782" y="2875"/>
                </a:lnTo>
                <a:lnTo>
                  <a:pt x="841" y="2875"/>
                </a:lnTo>
                <a:lnTo>
                  <a:pt x="845" y="2872"/>
                </a:lnTo>
                <a:lnTo>
                  <a:pt x="846" y="2867"/>
                </a:lnTo>
                <a:lnTo>
                  <a:pt x="900" y="2862"/>
                </a:lnTo>
                <a:lnTo>
                  <a:pt x="907" y="2859"/>
                </a:lnTo>
                <a:lnTo>
                  <a:pt x="910" y="2852"/>
                </a:lnTo>
                <a:lnTo>
                  <a:pt x="917" y="2848"/>
                </a:lnTo>
                <a:lnTo>
                  <a:pt x="925" y="2848"/>
                </a:lnTo>
                <a:lnTo>
                  <a:pt x="935" y="2849"/>
                </a:lnTo>
                <a:lnTo>
                  <a:pt x="946" y="2848"/>
                </a:lnTo>
                <a:lnTo>
                  <a:pt x="949" y="2847"/>
                </a:lnTo>
                <a:lnTo>
                  <a:pt x="950" y="2845"/>
                </a:lnTo>
                <a:lnTo>
                  <a:pt x="950" y="2840"/>
                </a:lnTo>
                <a:lnTo>
                  <a:pt x="955" y="2835"/>
                </a:lnTo>
                <a:lnTo>
                  <a:pt x="1019" y="2831"/>
                </a:lnTo>
                <a:lnTo>
                  <a:pt x="1024" y="2832"/>
                </a:lnTo>
                <a:lnTo>
                  <a:pt x="1025" y="2836"/>
                </a:lnTo>
                <a:lnTo>
                  <a:pt x="1026" y="2841"/>
                </a:lnTo>
                <a:lnTo>
                  <a:pt x="1028" y="2848"/>
                </a:lnTo>
                <a:lnTo>
                  <a:pt x="1047" y="2848"/>
                </a:lnTo>
                <a:lnTo>
                  <a:pt x="1051" y="2848"/>
                </a:lnTo>
                <a:lnTo>
                  <a:pt x="1054" y="2851"/>
                </a:lnTo>
                <a:lnTo>
                  <a:pt x="1056" y="2855"/>
                </a:lnTo>
                <a:lnTo>
                  <a:pt x="1060" y="2862"/>
                </a:lnTo>
                <a:lnTo>
                  <a:pt x="1063" y="2862"/>
                </a:lnTo>
                <a:lnTo>
                  <a:pt x="1066" y="2866"/>
                </a:lnTo>
                <a:lnTo>
                  <a:pt x="1070" y="2869"/>
                </a:lnTo>
                <a:lnTo>
                  <a:pt x="1074" y="2875"/>
                </a:lnTo>
                <a:lnTo>
                  <a:pt x="1091" y="2875"/>
                </a:lnTo>
                <a:lnTo>
                  <a:pt x="1096" y="2876"/>
                </a:lnTo>
                <a:lnTo>
                  <a:pt x="1099" y="2880"/>
                </a:lnTo>
                <a:lnTo>
                  <a:pt x="1100" y="2884"/>
                </a:lnTo>
                <a:lnTo>
                  <a:pt x="1101" y="2890"/>
                </a:lnTo>
                <a:lnTo>
                  <a:pt x="1107" y="2893"/>
                </a:lnTo>
                <a:lnTo>
                  <a:pt x="1111" y="2896"/>
                </a:lnTo>
                <a:lnTo>
                  <a:pt x="1113" y="2900"/>
                </a:lnTo>
                <a:lnTo>
                  <a:pt x="1114" y="2907"/>
                </a:lnTo>
                <a:lnTo>
                  <a:pt x="1137" y="2907"/>
                </a:lnTo>
                <a:lnTo>
                  <a:pt x="1142" y="2907"/>
                </a:lnTo>
                <a:lnTo>
                  <a:pt x="1143" y="2909"/>
                </a:lnTo>
                <a:lnTo>
                  <a:pt x="1144" y="2912"/>
                </a:lnTo>
                <a:lnTo>
                  <a:pt x="1146" y="2917"/>
                </a:lnTo>
                <a:lnTo>
                  <a:pt x="1169" y="2921"/>
                </a:lnTo>
                <a:lnTo>
                  <a:pt x="1173" y="2922"/>
                </a:lnTo>
                <a:lnTo>
                  <a:pt x="1174" y="2926"/>
                </a:lnTo>
                <a:lnTo>
                  <a:pt x="1175" y="2930"/>
                </a:lnTo>
                <a:lnTo>
                  <a:pt x="1178" y="2934"/>
                </a:lnTo>
                <a:lnTo>
                  <a:pt x="1224" y="2934"/>
                </a:lnTo>
                <a:lnTo>
                  <a:pt x="1228" y="2935"/>
                </a:lnTo>
                <a:lnTo>
                  <a:pt x="1231" y="2940"/>
                </a:lnTo>
                <a:lnTo>
                  <a:pt x="1233" y="2944"/>
                </a:lnTo>
                <a:lnTo>
                  <a:pt x="1237" y="2949"/>
                </a:lnTo>
                <a:lnTo>
                  <a:pt x="1255" y="2953"/>
                </a:lnTo>
                <a:lnTo>
                  <a:pt x="1260" y="2953"/>
                </a:lnTo>
                <a:lnTo>
                  <a:pt x="1261" y="2955"/>
                </a:lnTo>
                <a:lnTo>
                  <a:pt x="1262" y="2958"/>
                </a:lnTo>
                <a:lnTo>
                  <a:pt x="1264" y="2962"/>
                </a:lnTo>
                <a:lnTo>
                  <a:pt x="1314" y="2962"/>
                </a:lnTo>
                <a:lnTo>
                  <a:pt x="1319" y="2963"/>
                </a:lnTo>
                <a:lnTo>
                  <a:pt x="1321" y="2967"/>
                </a:lnTo>
                <a:lnTo>
                  <a:pt x="1321" y="2973"/>
                </a:lnTo>
                <a:lnTo>
                  <a:pt x="1324" y="2980"/>
                </a:lnTo>
                <a:lnTo>
                  <a:pt x="1373" y="2980"/>
                </a:lnTo>
                <a:lnTo>
                  <a:pt x="1400" y="2980"/>
                </a:lnTo>
                <a:lnTo>
                  <a:pt x="1407" y="2982"/>
                </a:lnTo>
                <a:lnTo>
                  <a:pt x="1410" y="2988"/>
                </a:lnTo>
                <a:lnTo>
                  <a:pt x="1410" y="2994"/>
                </a:lnTo>
                <a:lnTo>
                  <a:pt x="1410" y="3003"/>
                </a:lnTo>
                <a:lnTo>
                  <a:pt x="1409" y="3008"/>
                </a:lnTo>
                <a:lnTo>
                  <a:pt x="1407" y="3009"/>
                </a:lnTo>
                <a:lnTo>
                  <a:pt x="1404" y="3010"/>
                </a:lnTo>
                <a:lnTo>
                  <a:pt x="1400" y="3012"/>
                </a:lnTo>
                <a:lnTo>
                  <a:pt x="1396" y="3035"/>
                </a:lnTo>
                <a:lnTo>
                  <a:pt x="1394" y="3039"/>
                </a:lnTo>
                <a:lnTo>
                  <a:pt x="1391" y="3040"/>
                </a:lnTo>
                <a:lnTo>
                  <a:pt x="1386" y="3041"/>
                </a:lnTo>
                <a:lnTo>
                  <a:pt x="1383" y="3044"/>
                </a:lnTo>
                <a:lnTo>
                  <a:pt x="1380" y="3048"/>
                </a:lnTo>
                <a:lnTo>
                  <a:pt x="1378" y="3052"/>
                </a:lnTo>
                <a:lnTo>
                  <a:pt x="1373" y="3054"/>
                </a:lnTo>
                <a:lnTo>
                  <a:pt x="1369" y="3058"/>
                </a:lnTo>
                <a:lnTo>
                  <a:pt x="1364" y="3081"/>
                </a:lnTo>
                <a:lnTo>
                  <a:pt x="1361" y="3085"/>
                </a:lnTo>
                <a:lnTo>
                  <a:pt x="1356" y="3089"/>
                </a:lnTo>
                <a:lnTo>
                  <a:pt x="1355" y="3091"/>
                </a:lnTo>
                <a:lnTo>
                  <a:pt x="1355" y="3092"/>
                </a:lnTo>
                <a:lnTo>
                  <a:pt x="1354" y="3093"/>
                </a:lnTo>
                <a:lnTo>
                  <a:pt x="1351" y="3098"/>
                </a:lnTo>
                <a:lnTo>
                  <a:pt x="1349" y="3099"/>
                </a:lnTo>
                <a:lnTo>
                  <a:pt x="1346" y="3100"/>
                </a:lnTo>
                <a:lnTo>
                  <a:pt x="1340" y="3100"/>
                </a:lnTo>
                <a:lnTo>
                  <a:pt x="1337" y="3103"/>
                </a:lnTo>
                <a:lnTo>
                  <a:pt x="1337" y="3121"/>
                </a:lnTo>
                <a:lnTo>
                  <a:pt x="1335" y="3125"/>
                </a:lnTo>
                <a:lnTo>
                  <a:pt x="1332" y="3128"/>
                </a:lnTo>
                <a:lnTo>
                  <a:pt x="1327" y="3130"/>
                </a:lnTo>
                <a:lnTo>
                  <a:pt x="1324" y="3135"/>
                </a:lnTo>
                <a:lnTo>
                  <a:pt x="1324" y="3153"/>
                </a:lnTo>
                <a:lnTo>
                  <a:pt x="1322" y="3157"/>
                </a:lnTo>
                <a:lnTo>
                  <a:pt x="1319" y="3158"/>
                </a:lnTo>
                <a:lnTo>
                  <a:pt x="1313" y="3159"/>
                </a:lnTo>
                <a:lnTo>
                  <a:pt x="1310" y="3162"/>
                </a:lnTo>
                <a:lnTo>
                  <a:pt x="1310" y="3180"/>
                </a:lnTo>
                <a:lnTo>
                  <a:pt x="1308" y="3184"/>
                </a:lnTo>
                <a:lnTo>
                  <a:pt x="1303" y="3186"/>
                </a:lnTo>
                <a:lnTo>
                  <a:pt x="1297" y="3187"/>
                </a:lnTo>
                <a:lnTo>
                  <a:pt x="1291" y="3189"/>
                </a:lnTo>
                <a:lnTo>
                  <a:pt x="1291" y="3212"/>
                </a:lnTo>
                <a:lnTo>
                  <a:pt x="1289" y="3214"/>
                </a:lnTo>
                <a:lnTo>
                  <a:pt x="1286" y="3216"/>
                </a:lnTo>
                <a:lnTo>
                  <a:pt x="1281" y="3217"/>
                </a:lnTo>
                <a:lnTo>
                  <a:pt x="1278" y="3222"/>
                </a:lnTo>
                <a:lnTo>
                  <a:pt x="1278" y="3344"/>
                </a:lnTo>
                <a:lnTo>
                  <a:pt x="1280" y="3346"/>
                </a:lnTo>
                <a:lnTo>
                  <a:pt x="1287" y="3348"/>
                </a:lnTo>
                <a:lnTo>
                  <a:pt x="1290" y="3355"/>
                </a:lnTo>
                <a:lnTo>
                  <a:pt x="1290" y="3366"/>
                </a:lnTo>
                <a:lnTo>
                  <a:pt x="1289" y="3370"/>
                </a:lnTo>
                <a:lnTo>
                  <a:pt x="1289" y="3376"/>
                </a:lnTo>
                <a:lnTo>
                  <a:pt x="1289" y="3382"/>
                </a:lnTo>
                <a:lnTo>
                  <a:pt x="1291" y="3390"/>
                </a:lnTo>
                <a:lnTo>
                  <a:pt x="1292" y="3391"/>
                </a:lnTo>
                <a:lnTo>
                  <a:pt x="1297" y="3392"/>
                </a:lnTo>
                <a:lnTo>
                  <a:pt x="1301" y="3392"/>
                </a:lnTo>
                <a:lnTo>
                  <a:pt x="1305" y="3394"/>
                </a:lnTo>
                <a:lnTo>
                  <a:pt x="1309" y="3401"/>
                </a:lnTo>
                <a:lnTo>
                  <a:pt x="1309" y="3411"/>
                </a:lnTo>
                <a:lnTo>
                  <a:pt x="1308" y="3419"/>
                </a:lnTo>
                <a:lnTo>
                  <a:pt x="1310" y="3430"/>
                </a:lnTo>
                <a:lnTo>
                  <a:pt x="1312" y="3434"/>
                </a:lnTo>
                <a:lnTo>
                  <a:pt x="1319" y="3435"/>
                </a:lnTo>
                <a:lnTo>
                  <a:pt x="1320" y="3441"/>
                </a:lnTo>
                <a:lnTo>
                  <a:pt x="1321" y="3448"/>
                </a:lnTo>
                <a:lnTo>
                  <a:pt x="1321" y="3454"/>
                </a:lnTo>
                <a:lnTo>
                  <a:pt x="1324" y="3462"/>
                </a:lnTo>
                <a:lnTo>
                  <a:pt x="1326" y="3465"/>
                </a:lnTo>
                <a:lnTo>
                  <a:pt x="1328" y="3466"/>
                </a:lnTo>
                <a:lnTo>
                  <a:pt x="1333" y="3474"/>
                </a:lnTo>
                <a:lnTo>
                  <a:pt x="1334" y="3485"/>
                </a:lnTo>
                <a:lnTo>
                  <a:pt x="1335" y="3496"/>
                </a:lnTo>
                <a:lnTo>
                  <a:pt x="1337" y="3508"/>
                </a:lnTo>
                <a:lnTo>
                  <a:pt x="1339" y="3510"/>
                </a:lnTo>
                <a:lnTo>
                  <a:pt x="1346" y="3512"/>
                </a:lnTo>
                <a:lnTo>
                  <a:pt x="1350" y="3515"/>
                </a:lnTo>
                <a:lnTo>
                  <a:pt x="1352" y="3522"/>
                </a:lnTo>
                <a:lnTo>
                  <a:pt x="1354" y="3527"/>
                </a:lnTo>
                <a:lnTo>
                  <a:pt x="1356" y="3535"/>
                </a:lnTo>
                <a:lnTo>
                  <a:pt x="1360" y="3539"/>
                </a:lnTo>
                <a:lnTo>
                  <a:pt x="1364" y="3543"/>
                </a:lnTo>
                <a:lnTo>
                  <a:pt x="1366" y="3549"/>
                </a:lnTo>
                <a:lnTo>
                  <a:pt x="1364" y="3555"/>
                </a:lnTo>
                <a:lnTo>
                  <a:pt x="1364" y="3562"/>
                </a:lnTo>
                <a:lnTo>
                  <a:pt x="1369" y="3567"/>
                </a:lnTo>
                <a:lnTo>
                  <a:pt x="1373" y="3571"/>
                </a:lnTo>
                <a:lnTo>
                  <a:pt x="1378" y="3578"/>
                </a:lnTo>
                <a:lnTo>
                  <a:pt x="1379" y="3588"/>
                </a:lnTo>
                <a:lnTo>
                  <a:pt x="1379" y="3597"/>
                </a:lnTo>
                <a:lnTo>
                  <a:pt x="1379" y="3608"/>
                </a:lnTo>
                <a:lnTo>
                  <a:pt x="1382" y="3612"/>
                </a:lnTo>
                <a:lnTo>
                  <a:pt x="1385" y="3612"/>
                </a:lnTo>
                <a:lnTo>
                  <a:pt x="1388" y="3610"/>
                </a:lnTo>
                <a:lnTo>
                  <a:pt x="1392" y="3613"/>
                </a:lnTo>
                <a:lnTo>
                  <a:pt x="1396" y="3617"/>
                </a:lnTo>
                <a:lnTo>
                  <a:pt x="1397" y="3624"/>
                </a:lnTo>
                <a:lnTo>
                  <a:pt x="1396" y="3631"/>
                </a:lnTo>
                <a:lnTo>
                  <a:pt x="1396" y="3640"/>
                </a:lnTo>
                <a:lnTo>
                  <a:pt x="1400" y="3642"/>
                </a:lnTo>
                <a:lnTo>
                  <a:pt x="1406" y="3644"/>
                </a:lnTo>
                <a:lnTo>
                  <a:pt x="1410" y="3695"/>
                </a:lnTo>
                <a:lnTo>
                  <a:pt x="1413" y="3699"/>
                </a:lnTo>
                <a:lnTo>
                  <a:pt x="1419" y="3703"/>
                </a:lnTo>
                <a:lnTo>
                  <a:pt x="1422" y="3709"/>
                </a:lnTo>
                <a:lnTo>
                  <a:pt x="1422" y="3718"/>
                </a:lnTo>
                <a:lnTo>
                  <a:pt x="1421" y="3722"/>
                </a:lnTo>
                <a:lnTo>
                  <a:pt x="1421" y="3728"/>
                </a:lnTo>
                <a:lnTo>
                  <a:pt x="1421" y="3734"/>
                </a:lnTo>
                <a:lnTo>
                  <a:pt x="1423" y="3739"/>
                </a:lnTo>
                <a:lnTo>
                  <a:pt x="1423" y="3743"/>
                </a:lnTo>
                <a:lnTo>
                  <a:pt x="1427" y="3743"/>
                </a:lnTo>
                <a:lnTo>
                  <a:pt x="1430" y="3742"/>
                </a:lnTo>
                <a:lnTo>
                  <a:pt x="1438" y="3744"/>
                </a:lnTo>
                <a:lnTo>
                  <a:pt x="1441" y="3751"/>
                </a:lnTo>
                <a:lnTo>
                  <a:pt x="1441" y="3762"/>
                </a:lnTo>
                <a:lnTo>
                  <a:pt x="1440" y="3773"/>
                </a:lnTo>
                <a:lnTo>
                  <a:pt x="1442" y="3785"/>
                </a:lnTo>
                <a:lnTo>
                  <a:pt x="1444" y="3787"/>
                </a:lnTo>
                <a:lnTo>
                  <a:pt x="1451" y="3790"/>
                </a:lnTo>
                <a:lnTo>
                  <a:pt x="1454" y="3797"/>
                </a:lnTo>
                <a:lnTo>
                  <a:pt x="1454" y="3807"/>
                </a:lnTo>
                <a:lnTo>
                  <a:pt x="1453" y="3817"/>
                </a:lnTo>
                <a:lnTo>
                  <a:pt x="1455" y="3826"/>
                </a:lnTo>
                <a:lnTo>
                  <a:pt x="1457" y="3832"/>
                </a:lnTo>
                <a:lnTo>
                  <a:pt x="1465" y="3835"/>
                </a:lnTo>
                <a:lnTo>
                  <a:pt x="1466" y="3839"/>
                </a:lnTo>
                <a:lnTo>
                  <a:pt x="1467" y="3844"/>
                </a:lnTo>
                <a:lnTo>
                  <a:pt x="1467" y="3851"/>
                </a:lnTo>
                <a:lnTo>
                  <a:pt x="1469" y="3858"/>
                </a:lnTo>
                <a:lnTo>
                  <a:pt x="1466" y="3865"/>
                </a:lnTo>
                <a:lnTo>
                  <a:pt x="1461" y="3867"/>
                </a:lnTo>
                <a:lnTo>
                  <a:pt x="1453" y="3867"/>
                </a:lnTo>
                <a:lnTo>
                  <a:pt x="1446" y="3867"/>
                </a:lnTo>
                <a:lnTo>
                  <a:pt x="1441" y="3865"/>
                </a:lnTo>
                <a:lnTo>
                  <a:pt x="1439" y="3862"/>
                </a:lnTo>
                <a:lnTo>
                  <a:pt x="1438" y="3856"/>
                </a:lnTo>
                <a:lnTo>
                  <a:pt x="1438" y="3853"/>
                </a:lnTo>
                <a:lnTo>
                  <a:pt x="1415" y="3849"/>
                </a:lnTo>
                <a:lnTo>
                  <a:pt x="1409" y="3848"/>
                </a:lnTo>
                <a:lnTo>
                  <a:pt x="1408" y="3845"/>
                </a:lnTo>
                <a:lnTo>
                  <a:pt x="1407" y="3842"/>
                </a:lnTo>
                <a:lnTo>
                  <a:pt x="1406" y="3840"/>
                </a:lnTo>
                <a:lnTo>
                  <a:pt x="1383" y="3835"/>
                </a:lnTo>
                <a:lnTo>
                  <a:pt x="1378" y="3832"/>
                </a:lnTo>
                <a:lnTo>
                  <a:pt x="1373" y="3826"/>
                </a:lnTo>
                <a:lnTo>
                  <a:pt x="1328" y="3826"/>
                </a:lnTo>
                <a:lnTo>
                  <a:pt x="1320" y="3823"/>
                </a:lnTo>
                <a:lnTo>
                  <a:pt x="1317" y="3820"/>
                </a:lnTo>
                <a:lnTo>
                  <a:pt x="1315" y="3814"/>
                </a:lnTo>
                <a:lnTo>
                  <a:pt x="1314" y="3808"/>
                </a:lnTo>
                <a:lnTo>
                  <a:pt x="1297" y="3808"/>
                </a:lnTo>
                <a:lnTo>
                  <a:pt x="1291" y="3806"/>
                </a:lnTo>
                <a:lnTo>
                  <a:pt x="1289" y="3803"/>
                </a:lnTo>
                <a:lnTo>
                  <a:pt x="1287" y="3797"/>
                </a:lnTo>
                <a:lnTo>
                  <a:pt x="1283" y="3794"/>
                </a:lnTo>
                <a:lnTo>
                  <a:pt x="1224" y="3794"/>
                </a:lnTo>
                <a:lnTo>
                  <a:pt x="1220" y="3792"/>
                </a:lnTo>
                <a:lnTo>
                  <a:pt x="1219" y="3789"/>
                </a:lnTo>
                <a:lnTo>
                  <a:pt x="1217" y="3784"/>
                </a:lnTo>
                <a:lnTo>
                  <a:pt x="1215" y="3781"/>
                </a:lnTo>
                <a:lnTo>
                  <a:pt x="1091" y="3781"/>
                </a:lnTo>
                <a:lnTo>
                  <a:pt x="1089" y="3783"/>
                </a:lnTo>
                <a:lnTo>
                  <a:pt x="1087" y="3790"/>
                </a:lnTo>
                <a:lnTo>
                  <a:pt x="1032" y="3794"/>
                </a:lnTo>
                <a:lnTo>
                  <a:pt x="1028" y="3796"/>
                </a:lnTo>
                <a:lnTo>
                  <a:pt x="1024" y="3804"/>
                </a:lnTo>
                <a:lnTo>
                  <a:pt x="1017" y="3805"/>
                </a:lnTo>
                <a:lnTo>
                  <a:pt x="1008" y="3806"/>
                </a:lnTo>
                <a:lnTo>
                  <a:pt x="1003" y="3806"/>
                </a:lnTo>
                <a:lnTo>
                  <a:pt x="997" y="3806"/>
                </a:lnTo>
                <a:lnTo>
                  <a:pt x="991" y="3806"/>
                </a:lnTo>
                <a:lnTo>
                  <a:pt x="987" y="3808"/>
                </a:lnTo>
                <a:lnTo>
                  <a:pt x="982" y="3808"/>
                </a:lnTo>
                <a:lnTo>
                  <a:pt x="982" y="3810"/>
                </a:lnTo>
                <a:lnTo>
                  <a:pt x="983" y="3814"/>
                </a:lnTo>
                <a:lnTo>
                  <a:pt x="982" y="3817"/>
                </a:lnTo>
                <a:lnTo>
                  <a:pt x="973" y="3821"/>
                </a:lnTo>
                <a:lnTo>
                  <a:pt x="964" y="3822"/>
                </a:lnTo>
                <a:lnTo>
                  <a:pt x="952" y="3823"/>
                </a:lnTo>
                <a:lnTo>
                  <a:pt x="942" y="3826"/>
                </a:lnTo>
                <a:lnTo>
                  <a:pt x="941" y="3826"/>
                </a:lnTo>
                <a:lnTo>
                  <a:pt x="940" y="3827"/>
                </a:lnTo>
                <a:lnTo>
                  <a:pt x="937" y="3829"/>
                </a:lnTo>
                <a:lnTo>
                  <a:pt x="937" y="3835"/>
                </a:lnTo>
                <a:lnTo>
                  <a:pt x="928" y="3837"/>
                </a:lnTo>
                <a:lnTo>
                  <a:pt x="919" y="3837"/>
                </a:lnTo>
                <a:lnTo>
                  <a:pt x="908" y="3835"/>
                </a:lnTo>
                <a:lnTo>
                  <a:pt x="900" y="3835"/>
                </a:lnTo>
                <a:lnTo>
                  <a:pt x="894" y="3840"/>
                </a:lnTo>
                <a:lnTo>
                  <a:pt x="891" y="3844"/>
                </a:lnTo>
                <a:lnTo>
                  <a:pt x="888" y="3849"/>
                </a:lnTo>
                <a:lnTo>
                  <a:pt x="884" y="3850"/>
                </a:lnTo>
                <a:lnTo>
                  <a:pt x="877" y="3849"/>
                </a:lnTo>
                <a:lnTo>
                  <a:pt x="873" y="3849"/>
                </a:lnTo>
                <a:lnTo>
                  <a:pt x="869" y="3852"/>
                </a:lnTo>
                <a:lnTo>
                  <a:pt x="869" y="3855"/>
                </a:lnTo>
                <a:lnTo>
                  <a:pt x="867" y="3858"/>
                </a:lnTo>
                <a:lnTo>
                  <a:pt x="864" y="3863"/>
                </a:lnTo>
                <a:lnTo>
                  <a:pt x="855" y="3866"/>
                </a:lnTo>
                <a:lnTo>
                  <a:pt x="848" y="3866"/>
                </a:lnTo>
                <a:lnTo>
                  <a:pt x="838" y="3865"/>
                </a:lnTo>
                <a:lnTo>
                  <a:pt x="828" y="3867"/>
                </a:lnTo>
                <a:lnTo>
                  <a:pt x="824" y="3872"/>
                </a:lnTo>
                <a:lnTo>
                  <a:pt x="824" y="3876"/>
                </a:lnTo>
                <a:lnTo>
                  <a:pt x="817" y="3880"/>
                </a:lnTo>
                <a:lnTo>
                  <a:pt x="811" y="3881"/>
                </a:lnTo>
                <a:lnTo>
                  <a:pt x="803" y="3880"/>
                </a:lnTo>
                <a:lnTo>
                  <a:pt x="796" y="3880"/>
                </a:lnTo>
                <a:lnTo>
                  <a:pt x="793" y="3884"/>
                </a:lnTo>
                <a:lnTo>
                  <a:pt x="791" y="3890"/>
                </a:lnTo>
                <a:lnTo>
                  <a:pt x="786" y="3894"/>
                </a:lnTo>
                <a:lnTo>
                  <a:pt x="779" y="3896"/>
                </a:lnTo>
                <a:lnTo>
                  <a:pt x="770" y="3894"/>
                </a:lnTo>
                <a:lnTo>
                  <a:pt x="764" y="3894"/>
                </a:lnTo>
                <a:lnTo>
                  <a:pt x="762" y="3896"/>
                </a:lnTo>
                <a:lnTo>
                  <a:pt x="762" y="3899"/>
                </a:lnTo>
                <a:lnTo>
                  <a:pt x="760" y="3903"/>
                </a:lnTo>
                <a:lnTo>
                  <a:pt x="759" y="3908"/>
                </a:lnTo>
                <a:lnTo>
                  <a:pt x="756" y="3908"/>
                </a:lnTo>
                <a:lnTo>
                  <a:pt x="751" y="3913"/>
                </a:lnTo>
                <a:lnTo>
                  <a:pt x="748" y="3914"/>
                </a:lnTo>
                <a:lnTo>
                  <a:pt x="748" y="3915"/>
                </a:lnTo>
                <a:lnTo>
                  <a:pt x="747" y="3916"/>
                </a:lnTo>
                <a:lnTo>
                  <a:pt x="746" y="3922"/>
                </a:lnTo>
                <a:lnTo>
                  <a:pt x="741" y="3924"/>
                </a:lnTo>
                <a:lnTo>
                  <a:pt x="736" y="3925"/>
                </a:lnTo>
                <a:lnTo>
                  <a:pt x="730" y="3925"/>
                </a:lnTo>
                <a:lnTo>
                  <a:pt x="723" y="3926"/>
                </a:lnTo>
                <a:lnTo>
                  <a:pt x="719" y="3928"/>
                </a:lnTo>
                <a:lnTo>
                  <a:pt x="719" y="3935"/>
                </a:lnTo>
                <a:lnTo>
                  <a:pt x="713" y="3936"/>
                </a:lnTo>
                <a:lnTo>
                  <a:pt x="707" y="3937"/>
                </a:lnTo>
                <a:lnTo>
                  <a:pt x="700" y="3937"/>
                </a:lnTo>
                <a:lnTo>
                  <a:pt x="696" y="3940"/>
                </a:lnTo>
                <a:lnTo>
                  <a:pt x="692" y="3940"/>
                </a:lnTo>
                <a:lnTo>
                  <a:pt x="692" y="3944"/>
                </a:lnTo>
                <a:lnTo>
                  <a:pt x="693" y="3947"/>
                </a:lnTo>
                <a:lnTo>
                  <a:pt x="692" y="3953"/>
                </a:lnTo>
                <a:lnTo>
                  <a:pt x="686" y="3955"/>
                </a:lnTo>
                <a:lnTo>
                  <a:pt x="680" y="3955"/>
                </a:lnTo>
                <a:lnTo>
                  <a:pt x="671" y="3953"/>
                </a:lnTo>
                <a:lnTo>
                  <a:pt x="664" y="3953"/>
                </a:lnTo>
                <a:lnTo>
                  <a:pt x="661" y="3959"/>
                </a:lnTo>
                <a:lnTo>
                  <a:pt x="659" y="3965"/>
                </a:lnTo>
                <a:lnTo>
                  <a:pt x="654" y="3970"/>
                </a:lnTo>
                <a:lnTo>
                  <a:pt x="650" y="3972"/>
                </a:lnTo>
                <a:lnTo>
                  <a:pt x="648" y="3973"/>
                </a:lnTo>
                <a:lnTo>
                  <a:pt x="648" y="3974"/>
                </a:lnTo>
                <a:lnTo>
                  <a:pt x="647" y="3975"/>
                </a:lnTo>
                <a:lnTo>
                  <a:pt x="646" y="3981"/>
                </a:lnTo>
                <a:lnTo>
                  <a:pt x="640" y="3982"/>
                </a:lnTo>
                <a:lnTo>
                  <a:pt x="634" y="3982"/>
                </a:lnTo>
                <a:lnTo>
                  <a:pt x="625" y="3981"/>
                </a:lnTo>
                <a:lnTo>
                  <a:pt x="618" y="3981"/>
                </a:lnTo>
                <a:lnTo>
                  <a:pt x="616" y="3987"/>
                </a:lnTo>
                <a:lnTo>
                  <a:pt x="614" y="3995"/>
                </a:lnTo>
                <a:lnTo>
                  <a:pt x="609" y="3999"/>
                </a:lnTo>
                <a:lnTo>
                  <a:pt x="604" y="4000"/>
                </a:lnTo>
                <a:lnTo>
                  <a:pt x="598" y="3999"/>
                </a:lnTo>
                <a:lnTo>
                  <a:pt x="591" y="3999"/>
                </a:lnTo>
                <a:lnTo>
                  <a:pt x="586" y="4003"/>
                </a:lnTo>
                <a:lnTo>
                  <a:pt x="582" y="4008"/>
                </a:lnTo>
                <a:lnTo>
                  <a:pt x="578" y="4012"/>
                </a:lnTo>
                <a:lnTo>
                  <a:pt x="574" y="4017"/>
                </a:lnTo>
                <a:lnTo>
                  <a:pt x="571" y="4020"/>
                </a:lnTo>
                <a:lnTo>
                  <a:pt x="569" y="4023"/>
                </a:lnTo>
                <a:lnTo>
                  <a:pt x="565" y="4024"/>
                </a:lnTo>
                <a:lnTo>
                  <a:pt x="559" y="4027"/>
                </a:lnTo>
                <a:lnTo>
                  <a:pt x="557" y="4033"/>
                </a:lnTo>
                <a:lnTo>
                  <a:pt x="555" y="4040"/>
                </a:lnTo>
                <a:lnTo>
                  <a:pt x="554" y="4041"/>
                </a:lnTo>
                <a:lnTo>
                  <a:pt x="551" y="4042"/>
                </a:lnTo>
                <a:lnTo>
                  <a:pt x="546" y="4042"/>
                </a:lnTo>
                <a:lnTo>
                  <a:pt x="541" y="4044"/>
                </a:lnTo>
                <a:lnTo>
                  <a:pt x="541" y="4047"/>
                </a:lnTo>
                <a:lnTo>
                  <a:pt x="541" y="4049"/>
                </a:lnTo>
                <a:lnTo>
                  <a:pt x="541" y="4054"/>
                </a:lnTo>
                <a:lnTo>
                  <a:pt x="537" y="4055"/>
                </a:lnTo>
                <a:lnTo>
                  <a:pt x="531" y="4056"/>
                </a:lnTo>
                <a:lnTo>
                  <a:pt x="524" y="4056"/>
                </a:lnTo>
                <a:lnTo>
                  <a:pt x="519" y="4058"/>
                </a:lnTo>
                <a:lnTo>
                  <a:pt x="516" y="4061"/>
                </a:lnTo>
                <a:lnTo>
                  <a:pt x="514" y="4067"/>
                </a:lnTo>
                <a:lnTo>
                  <a:pt x="507" y="4069"/>
                </a:lnTo>
                <a:lnTo>
                  <a:pt x="500" y="4071"/>
                </a:lnTo>
                <a:lnTo>
                  <a:pt x="498" y="4078"/>
                </a:lnTo>
                <a:lnTo>
                  <a:pt x="496" y="4086"/>
                </a:lnTo>
                <a:lnTo>
                  <a:pt x="493" y="4086"/>
                </a:lnTo>
                <a:lnTo>
                  <a:pt x="486" y="4090"/>
                </a:lnTo>
                <a:lnTo>
                  <a:pt x="484" y="4091"/>
                </a:lnTo>
                <a:lnTo>
                  <a:pt x="484" y="4092"/>
                </a:lnTo>
                <a:lnTo>
                  <a:pt x="483" y="4093"/>
                </a:lnTo>
                <a:lnTo>
                  <a:pt x="482" y="4099"/>
                </a:lnTo>
                <a:lnTo>
                  <a:pt x="476" y="4100"/>
                </a:lnTo>
                <a:lnTo>
                  <a:pt x="470" y="4100"/>
                </a:lnTo>
                <a:lnTo>
                  <a:pt x="461" y="4099"/>
                </a:lnTo>
                <a:lnTo>
                  <a:pt x="455" y="4099"/>
                </a:lnTo>
                <a:lnTo>
                  <a:pt x="451" y="4104"/>
                </a:lnTo>
                <a:lnTo>
                  <a:pt x="449" y="4111"/>
                </a:lnTo>
                <a:lnTo>
                  <a:pt x="446" y="4115"/>
                </a:lnTo>
                <a:lnTo>
                  <a:pt x="441" y="4117"/>
                </a:lnTo>
                <a:lnTo>
                  <a:pt x="439" y="4118"/>
                </a:lnTo>
                <a:lnTo>
                  <a:pt x="439" y="4122"/>
                </a:lnTo>
                <a:lnTo>
                  <a:pt x="438" y="4124"/>
                </a:lnTo>
                <a:lnTo>
                  <a:pt x="437" y="4126"/>
                </a:lnTo>
                <a:lnTo>
                  <a:pt x="434" y="4130"/>
                </a:lnTo>
                <a:lnTo>
                  <a:pt x="427" y="4136"/>
                </a:lnTo>
                <a:lnTo>
                  <a:pt x="427" y="4138"/>
                </a:lnTo>
                <a:lnTo>
                  <a:pt x="427" y="4140"/>
                </a:lnTo>
                <a:lnTo>
                  <a:pt x="423" y="4142"/>
                </a:lnTo>
                <a:lnTo>
                  <a:pt x="420" y="4144"/>
                </a:lnTo>
                <a:lnTo>
                  <a:pt x="415" y="4144"/>
                </a:lnTo>
                <a:lnTo>
                  <a:pt x="410" y="4145"/>
                </a:lnTo>
                <a:lnTo>
                  <a:pt x="410" y="4168"/>
                </a:lnTo>
                <a:lnTo>
                  <a:pt x="408" y="4172"/>
                </a:lnTo>
                <a:lnTo>
                  <a:pt x="405" y="4173"/>
                </a:lnTo>
                <a:lnTo>
                  <a:pt x="401" y="4174"/>
                </a:lnTo>
                <a:lnTo>
                  <a:pt x="396" y="4176"/>
                </a:lnTo>
                <a:lnTo>
                  <a:pt x="396" y="4212"/>
                </a:lnTo>
                <a:lnTo>
                  <a:pt x="398" y="4217"/>
                </a:lnTo>
                <a:lnTo>
                  <a:pt x="404" y="4218"/>
                </a:lnTo>
                <a:lnTo>
                  <a:pt x="407" y="4221"/>
                </a:lnTo>
                <a:lnTo>
                  <a:pt x="409" y="4227"/>
                </a:lnTo>
                <a:lnTo>
                  <a:pt x="409" y="4233"/>
                </a:lnTo>
                <a:lnTo>
                  <a:pt x="410" y="4240"/>
                </a:lnTo>
                <a:lnTo>
                  <a:pt x="413" y="4241"/>
                </a:lnTo>
                <a:lnTo>
                  <a:pt x="419" y="4242"/>
                </a:lnTo>
                <a:lnTo>
                  <a:pt x="425" y="4242"/>
                </a:lnTo>
                <a:lnTo>
                  <a:pt x="432" y="4245"/>
                </a:lnTo>
                <a:lnTo>
                  <a:pt x="436" y="4246"/>
                </a:lnTo>
                <a:lnTo>
                  <a:pt x="438" y="4249"/>
                </a:lnTo>
                <a:lnTo>
                  <a:pt x="439" y="4254"/>
                </a:lnTo>
                <a:lnTo>
                  <a:pt x="441" y="4258"/>
                </a:lnTo>
                <a:lnTo>
                  <a:pt x="486" y="4263"/>
                </a:lnTo>
                <a:lnTo>
                  <a:pt x="491" y="4263"/>
                </a:lnTo>
                <a:lnTo>
                  <a:pt x="495" y="4265"/>
                </a:lnTo>
                <a:lnTo>
                  <a:pt x="497" y="4268"/>
                </a:lnTo>
                <a:lnTo>
                  <a:pt x="500" y="4272"/>
                </a:lnTo>
                <a:lnTo>
                  <a:pt x="532" y="4272"/>
                </a:lnTo>
                <a:lnTo>
                  <a:pt x="537" y="4274"/>
                </a:lnTo>
                <a:lnTo>
                  <a:pt x="538" y="4279"/>
                </a:lnTo>
                <a:lnTo>
                  <a:pt x="539" y="4284"/>
                </a:lnTo>
                <a:lnTo>
                  <a:pt x="541" y="4290"/>
                </a:lnTo>
                <a:lnTo>
                  <a:pt x="546" y="4290"/>
                </a:lnTo>
                <a:lnTo>
                  <a:pt x="549" y="4290"/>
                </a:lnTo>
                <a:lnTo>
                  <a:pt x="555" y="4290"/>
                </a:lnTo>
                <a:lnTo>
                  <a:pt x="555" y="4283"/>
                </a:lnTo>
                <a:lnTo>
                  <a:pt x="555" y="4277"/>
                </a:lnTo>
                <a:lnTo>
                  <a:pt x="682" y="4272"/>
                </a:lnTo>
                <a:lnTo>
                  <a:pt x="684" y="4271"/>
                </a:lnTo>
                <a:lnTo>
                  <a:pt x="686" y="4270"/>
                </a:lnTo>
                <a:lnTo>
                  <a:pt x="686" y="4267"/>
                </a:lnTo>
                <a:lnTo>
                  <a:pt x="687" y="4263"/>
                </a:lnTo>
                <a:lnTo>
                  <a:pt x="796" y="4263"/>
                </a:lnTo>
                <a:lnTo>
                  <a:pt x="801" y="4258"/>
                </a:lnTo>
                <a:lnTo>
                  <a:pt x="802" y="4255"/>
                </a:lnTo>
                <a:lnTo>
                  <a:pt x="801" y="4251"/>
                </a:lnTo>
                <a:lnTo>
                  <a:pt x="801" y="4245"/>
                </a:lnTo>
                <a:lnTo>
                  <a:pt x="860" y="4245"/>
                </a:lnTo>
                <a:lnTo>
                  <a:pt x="863" y="4240"/>
                </a:lnTo>
                <a:lnTo>
                  <a:pt x="864" y="4235"/>
                </a:lnTo>
                <a:lnTo>
                  <a:pt x="946" y="4231"/>
                </a:lnTo>
                <a:lnTo>
                  <a:pt x="950" y="4227"/>
                </a:lnTo>
                <a:lnTo>
                  <a:pt x="955" y="4222"/>
                </a:lnTo>
                <a:lnTo>
                  <a:pt x="1019" y="4218"/>
                </a:lnTo>
                <a:lnTo>
                  <a:pt x="1020" y="4216"/>
                </a:lnTo>
                <a:lnTo>
                  <a:pt x="1021" y="4212"/>
                </a:lnTo>
                <a:lnTo>
                  <a:pt x="1021" y="4207"/>
                </a:lnTo>
                <a:lnTo>
                  <a:pt x="1024" y="4204"/>
                </a:lnTo>
                <a:lnTo>
                  <a:pt x="1078" y="4199"/>
                </a:lnTo>
                <a:lnTo>
                  <a:pt x="1083" y="4196"/>
                </a:lnTo>
                <a:lnTo>
                  <a:pt x="1087" y="4191"/>
                </a:lnTo>
                <a:lnTo>
                  <a:pt x="1182" y="4185"/>
                </a:lnTo>
                <a:lnTo>
                  <a:pt x="1182" y="4182"/>
                </a:lnTo>
                <a:lnTo>
                  <a:pt x="1187" y="4176"/>
                </a:lnTo>
                <a:lnTo>
                  <a:pt x="1194" y="4172"/>
                </a:lnTo>
                <a:lnTo>
                  <a:pt x="1203" y="4172"/>
                </a:lnTo>
                <a:lnTo>
                  <a:pt x="1213" y="4173"/>
                </a:lnTo>
                <a:lnTo>
                  <a:pt x="1224" y="4172"/>
                </a:lnTo>
                <a:lnTo>
                  <a:pt x="1228" y="4170"/>
                </a:lnTo>
                <a:lnTo>
                  <a:pt x="1229" y="4166"/>
                </a:lnTo>
                <a:lnTo>
                  <a:pt x="1230" y="4161"/>
                </a:lnTo>
                <a:lnTo>
                  <a:pt x="1232" y="4158"/>
                </a:lnTo>
                <a:lnTo>
                  <a:pt x="1328" y="4153"/>
                </a:lnTo>
                <a:lnTo>
                  <a:pt x="1328" y="4150"/>
                </a:lnTo>
                <a:lnTo>
                  <a:pt x="1333" y="4145"/>
                </a:lnTo>
                <a:lnTo>
                  <a:pt x="1433" y="4140"/>
                </a:lnTo>
                <a:lnTo>
                  <a:pt x="1437" y="4137"/>
                </a:lnTo>
                <a:lnTo>
                  <a:pt x="1438" y="4130"/>
                </a:lnTo>
                <a:lnTo>
                  <a:pt x="1579" y="4126"/>
                </a:lnTo>
                <a:lnTo>
                  <a:pt x="1581" y="4123"/>
                </a:lnTo>
                <a:lnTo>
                  <a:pt x="1583" y="4117"/>
                </a:lnTo>
                <a:lnTo>
                  <a:pt x="1591" y="4112"/>
                </a:lnTo>
                <a:lnTo>
                  <a:pt x="1600" y="4111"/>
                </a:lnTo>
                <a:lnTo>
                  <a:pt x="1610" y="4110"/>
                </a:lnTo>
                <a:lnTo>
                  <a:pt x="1619" y="4109"/>
                </a:lnTo>
                <a:lnTo>
                  <a:pt x="1623" y="4106"/>
                </a:lnTo>
                <a:lnTo>
                  <a:pt x="1627" y="4103"/>
                </a:lnTo>
                <a:lnTo>
                  <a:pt x="1629" y="4100"/>
                </a:lnTo>
                <a:lnTo>
                  <a:pt x="1638" y="4099"/>
                </a:lnTo>
                <a:lnTo>
                  <a:pt x="1642" y="4101"/>
                </a:lnTo>
                <a:lnTo>
                  <a:pt x="1646" y="4109"/>
                </a:lnTo>
                <a:lnTo>
                  <a:pt x="1764" y="4109"/>
                </a:lnTo>
                <a:lnTo>
                  <a:pt x="1771" y="4110"/>
                </a:lnTo>
                <a:lnTo>
                  <a:pt x="1774" y="4114"/>
                </a:lnTo>
                <a:lnTo>
                  <a:pt x="1776" y="4120"/>
                </a:lnTo>
                <a:lnTo>
                  <a:pt x="1778" y="4126"/>
                </a:lnTo>
                <a:lnTo>
                  <a:pt x="1842" y="4126"/>
                </a:lnTo>
                <a:lnTo>
                  <a:pt x="1845" y="4125"/>
                </a:lnTo>
                <a:lnTo>
                  <a:pt x="1845" y="4123"/>
                </a:lnTo>
                <a:lnTo>
                  <a:pt x="1844" y="4120"/>
                </a:lnTo>
                <a:lnTo>
                  <a:pt x="1846" y="4117"/>
                </a:lnTo>
                <a:lnTo>
                  <a:pt x="1974" y="4109"/>
                </a:lnTo>
                <a:lnTo>
                  <a:pt x="1978" y="4110"/>
                </a:lnTo>
                <a:lnTo>
                  <a:pt x="1982" y="4114"/>
                </a:lnTo>
                <a:lnTo>
                  <a:pt x="1982" y="4120"/>
                </a:lnTo>
                <a:lnTo>
                  <a:pt x="1983" y="4126"/>
                </a:lnTo>
                <a:lnTo>
                  <a:pt x="2092" y="4126"/>
                </a:lnTo>
                <a:lnTo>
                  <a:pt x="2096" y="4127"/>
                </a:lnTo>
                <a:lnTo>
                  <a:pt x="2101" y="4132"/>
                </a:lnTo>
                <a:lnTo>
                  <a:pt x="2103" y="4136"/>
                </a:lnTo>
                <a:lnTo>
                  <a:pt x="2106" y="4140"/>
                </a:lnTo>
                <a:lnTo>
                  <a:pt x="2283" y="4140"/>
                </a:lnTo>
                <a:lnTo>
                  <a:pt x="2287" y="4140"/>
                </a:lnTo>
                <a:lnTo>
                  <a:pt x="2290" y="4144"/>
                </a:lnTo>
                <a:lnTo>
                  <a:pt x="2290" y="4147"/>
                </a:lnTo>
                <a:lnTo>
                  <a:pt x="2293" y="4153"/>
                </a:lnTo>
                <a:lnTo>
                  <a:pt x="2356" y="4153"/>
                </a:lnTo>
                <a:lnTo>
                  <a:pt x="2362" y="4150"/>
                </a:lnTo>
                <a:lnTo>
                  <a:pt x="2365" y="4145"/>
                </a:lnTo>
                <a:lnTo>
                  <a:pt x="2447" y="4140"/>
                </a:lnTo>
                <a:lnTo>
                  <a:pt x="2451" y="4141"/>
                </a:lnTo>
                <a:lnTo>
                  <a:pt x="2453" y="4147"/>
                </a:lnTo>
                <a:lnTo>
                  <a:pt x="2456" y="4151"/>
                </a:lnTo>
                <a:lnTo>
                  <a:pt x="2461" y="4153"/>
                </a:lnTo>
                <a:lnTo>
                  <a:pt x="2464" y="4150"/>
                </a:lnTo>
                <a:lnTo>
                  <a:pt x="2465" y="4145"/>
                </a:lnTo>
                <a:lnTo>
                  <a:pt x="2783" y="4140"/>
                </a:lnTo>
                <a:lnTo>
                  <a:pt x="2783" y="4137"/>
                </a:lnTo>
                <a:lnTo>
                  <a:pt x="2788" y="4130"/>
                </a:lnTo>
                <a:lnTo>
                  <a:pt x="2791" y="4128"/>
                </a:lnTo>
                <a:lnTo>
                  <a:pt x="2797" y="4128"/>
                </a:lnTo>
                <a:lnTo>
                  <a:pt x="2804" y="4127"/>
                </a:lnTo>
                <a:lnTo>
                  <a:pt x="2811" y="4126"/>
                </a:lnTo>
                <a:lnTo>
                  <a:pt x="2815" y="4125"/>
                </a:lnTo>
                <a:lnTo>
                  <a:pt x="2817" y="4123"/>
                </a:lnTo>
                <a:lnTo>
                  <a:pt x="2817" y="4120"/>
                </a:lnTo>
                <a:lnTo>
                  <a:pt x="2820" y="4117"/>
                </a:lnTo>
                <a:lnTo>
                  <a:pt x="2823" y="4113"/>
                </a:lnTo>
                <a:lnTo>
                  <a:pt x="2829" y="4109"/>
                </a:lnTo>
                <a:lnTo>
                  <a:pt x="2829" y="4105"/>
                </a:lnTo>
                <a:lnTo>
                  <a:pt x="2830" y="4103"/>
                </a:lnTo>
                <a:lnTo>
                  <a:pt x="2834" y="4099"/>
                </a:lnTo>
                <a:lnTo>
                  <a:pt x="2834" y="4097"/>
                </a:lnTo>
                <a:lnTo>
                  <a:pt x="2837" y="4097"/>
                </a:lnTo>
                <a:lnTo>
                  <a:pt x="2840" y="4095"/>
                </a:lnTo>
                <a:lnTo>
                  <a:pt x="2848" y="4094"/>
                </a:lnTo>
                <a:lnTo>
                  <a:pt x="2848" y="4091"/>
                </a:lnTo>
                <a:lnTo>
                  <a:pt x="2851" y="4088"/>
                </a:lnTo>
                <a:lnTo>
                  <a:pt x="2854" y="4085"/>
                </a:lnTo>
                <a:lnTo>
                  <a:pt x="2861" y="4081"/>
                </a:lnTo>
                <a:lnTo>
                  <a:pt x="2861" y="4078"/>
                </a:lnTo>
                <a:lnTo>
                  <a:pt x="2861" y="4071"/>
                </a:lnTo>
                <a:lnTo>
                  <a:pt x="2867" y="4067"/>
                </a:lnTo>
                <a:lnTo>
                  <a:pt x="2875" y="4063"/>
                </a:lnTo>
                <a:lnTo>
                  <a:pt x="2875" y="4049"/>
                </a:lnTo>
                <a:lnTo>
                  <a:pt x="2872" y="4044"/>
                </a:lnTo>
                <a:lnTo>
                  <a:pt x="2865" y="4044"/>
                </a:lnTo>
                <a:lnTo>
                  <a:pt x="2861" y="4039"/>
                </a:lnTo>
                <a:lnTo>
                  <a:pt x="2860" y="4032"/>
                </a:lnTo>
                <a:lnTo>
                  <a:pt x="2860" y="4023"/>
                </a:lnTo>
                <a:lnTo>
                  <a:pt x="2861" y="4017"/>
                </a:lnTo>
                <a:lnTo>
                  <a:pt x="2856" y="4014"/>
                </a:lnTo>
                <a:lnTo>
                  <a:pt x="2852" y="4011"/>
                </a:lnTo>
                <a:lnTo>
                  <a:pt x="2849" y="4007"/>
                </a:lnTo>
                <a:lnTo>
                  <a:pt x="2848" y="3999"/>
                </a:lnTo>
                <a:lnTo>
                  <a:pt x="2840" y="3999"/>
                </a:lnTo>
                <a:lnTo>
                  <a:pt x="2834" y="3999"/>
                </a:lnTo>
                <a:lnTo>
                  <a:pt x="2831" y="3997"/>
                </a:lnTo>
                <a:lnTo>
                  <a:pt x="2831" y="3994"/>
                </a:lnTo>
                <a:lnTo>
                  <a:pt x="2830" y="3988"/>
                </a:lnTo>
                <a:lnTo>
                  <a:pt x="2829" y="3985"/>
                </a:lnTo>
                <a:lnTo>
                  <a:pt x="2824" y="3982"/>
                </a:lnTo>
                <a:lnTo>
                  <a:pt x="2820" y="3980"/>
                </a:lnTo>
                <a:lnTo>
                  <a:pt x="2817" y="3976"/>
                </a:lnTo>
                <a:lnTo>
                  <a:pt x="2815" y="3972"/>
                </a:lnTo>
                <a:lnTo>
                  <a:pt x="2812" y="3971"/>
                </a:lnTo>
                <a:lnTo>
                  <a:pt x="2808" y="3968"/>
                </a:lnTo>
                <a:lnTo>
                  <a:pt x="2805" y="3963"/>
                </a:lnTo>
                <a:lnTo>
                  <a:pt x="2802" y="3958"/>
                </a:lnTo>
                <a:lnTo>
                  <a:pt x="2800" y="3956"/>
                </a:lnTo>
                <a:lnTo>
                  <a:pt x="2797" y="3956"/>
                </a:lnTo>
                <a:lnTo>
                  <a:pt x="2794" y="3955"/>
                </a:lnTo>
                <a:lnTo>
                  <a:pt x="2793" y="3953"/>
                </a:lnTo>
                <a:lnTo>
                  <a:pt x="2788" y="3951"/>
                </a:lnTo>
                <a:lnTo>
                  <a:pt x="2785" y="3948"/>
                </a:lnTo>
                <a:lnTo>
                  <a:pt x="2784" y="3944"/>
                </a:lnTo>
                <a:lnTo>
                  <a:pt x="2783" y="3940"/>
                </a:lnTo>
                <a:lnTo>
                  <a:pt x="2770" y="3940"/>
                </a:lnTo>
                <a:lnTo>
                  <a:pt x="2765" y="3938"/>
                </a:lnTo>
                <a:lnTo>
                  <a:pt x="2763" y="3935"/>
                </a:lnTo>
                <a:lnTo>
                  <a:pt x="2760" y="3929"/>
                </a:lnTo>
                <a:lnTo>
                  <a:pt x="2756" y="3926"/>
                </a:lnTo>
                <a:lnTo>
                  <a:pt x="2739" y="3926"/>
                </a:lnTo>
                <a:lnTo>
                  <a:pt x="2733" y="3924"/>
                </a:lnTo>
                <a:lnTo>
                  <a:pt x="2731" y="3921"/>
                </a:lnTo>
                <a:lnTo>
                  <a:pt x="2730" y="3916"/>
                </a:lnTo>
                <a:lnTo>
                  <a:pt x="2729" y="3913"/>
                </a:lnTo>
                <a:lnTo>
                  <a:pt x="2706" y="3913"/>
                </a:lnTo>
                <a:lnTo>
                  <a:pt x="2700" y="3911"/>
                </a:lnTo>
                <a:lnTo>
                  <a:pt x="2699" y="3906"/>
                </a:lnTo>
                <a:lnTo>
                  <a:pt x="2698" y="3900"/>
                </a:lnTo>
                <a:lnTo>
                  <a:pt x="2697" y="3894"/>
                </a:lnTo>
                <a:lnTo>
                  <a:pt x="2678" y="3894"/>
                </a:lnTo>
                <a:lnTo>
                  <a:pt x="2675" y="3893"/>
                </a:lnTo>
                <a:lnTo>
                  <a:pt x="2674" y="3890"/>
                </a:lnTo>
                <a:lnTo>
                  <a:pt x="2672" y="3886"/>
                </a:lnTo>
                <a:lnTo>
                  <a:pt x="2670" y="3880"/>
                </a:lnTo>
                <a:lnTo>
                  <a:pt x="2638" y="3880"/>
                </a:lnTo>
                <a:lnTo>
                  <a:pt x="2633" y="3879"/>
                </a:lnTo>
                <a:lnTo>
                  <a:pt x="2629" y="3877"/>
                </a:lnTo>
                <a:lnTo>
                  <a:pt x="2626" y="3874"/>
                </a:lnTo>
                <a:lnTo>
                  <a:pt x="2624" y="3872"/>
                </a:lnTo>
                <a:lnTo>
                  <a:pt x="2575" y="3867"/>
                </a:lnTo>
                <a:lnTo>
                  <a:pt x="2569" y="3865"/>
                </a:lnTo>
                <a:lnTo>
                  <a:pt x="2568" y="3862"/>
                </a:lnTo>
                <a:lnTo>
                  <a:pt x="2566" y="3856"/>
                </a:lnTo>
                <a:lnTo>
                  <a:pt x="2565" y="3853"/>
                </a:lnTo>
                <a:lnTo>
                  <a:pt x="2520" y="3849"/>
                </a:lnTo>
                <a:lnTo>
                  <a:pt x="2513" y="3848"/>
                </a:lnTo>
                <a:lnTo>
                  <a:pt x="2510" y="3845"/>
                </a:lnTo>
                <a:lnTo>
                  <a:pt x="2508" y="3842"/>
                </a:lnTo>
                <a:lnTo>
                  <a:pt x="2506" y="3840"/>
                </a:lnTo>
                <a:lnTo>
                  <a:pt x="2461" y="3835"/>
                </a:lnTo>
                <a:lnTo>
                  <a:pt x="2456" y="3834"/>
                </a:lnTo>
                <a:lnTo>
                  <a:pt x="2453" y="3832"/>
                </a:lnTo>
                <a:lnTo>
                  <a:pt x="2451" y="3829"/>
                </a:lnTo>
                <a:lnTo>
                  <a:pt x="2447" y="3826"/>
                </a:lnTo>
                <a:lnTo>
                  <a:pt x="2356" y="3826"/>
                </a:lnTo>
                <a:lnTo>
                  <a:pt x="2347" y="3823"/>
                </a:lnTo>
                <a:lnTo>
                  <a:pt x="2345" y="3820"/>
                </a:lnTo>
                <a:lnTo>
                  <a:pt x="2343" y="3814"/>
                </a:lnTo>
                <a:lnTo>
                  <a:pt x="2342" y="3808"/>
                </a:lnTo>
                <a:lnTo>
                  <a:pt x="2329" y="3808"/>
                </a:lnTo>
                <a:lnTo>
                  <a:pt x="2325" y="3808"/>
                </a:lnTo>
                <a:lnTo>
                  <a:pt x="2325" y="3810"/>
                </a:lnTo>
                <a:lnTo>
                  <a:pt x="2323" y="3814"/>
                </a:lnTo>
                <a:lnTo>
                  <a:pt x="2320" y="3817"/>
                </a:lnTo>
                <a:lnTo>
                  <a:pt x="2165" y="3826"/>
                </a:lnTo>
                <a:lnTo>
                  <a:pt x="2162" y="3826"/>
                </a:lnTo>
                <a:lnTo>
                  <a:pt x="2161" y="3827"/>
                </a:lnTo>
                <a:lnTo>
                  <a:pt x="2159" y="3829"/>
                </a:lnTo>
                <a:lnTo>
                  <a:pt x="2156" y="3835"/>
                </a:lnTo>
                <a:lnTo>
                  <a:pt x="2106" y="3835"/>
                </a:lnTo>
                <a:lnTo>
                  <a:pt x="2104" y="3840"/>
                </a:lnTo>
                <a:lnTo>
                  <a:pt x="2102" y="3844"/>
                </a:lnTo>
                <a:lnTo>
                  <a:pt x="2092" y="3849"/>
                </a:lnTo>
                <a:lnTo>
                  <a:pt x="2083" y="3850"/>
                </a:lnTo>
                <a:lnTo>
                  <a:pt x="2072" y="3849"/>
                </a:lnTo>
                <a:lnTo>
                  <a:pt x="2065" y="3849"/>
                </a:lnTo>
                <a:lnTo>
                  <a:pt x="2059" y="3852"/>
                </a:lnTo>
                <a:lnTo>
                  <a:pt x="2058" y="3855"/>
                </a:lnTo>
                <a:lnTo>
                  <a:pt x="2057" y="3858"/>
                </a:lnTo>
                <a:lnTo>
                  <a:pt x="2056" y="3863"/>
                </a:lnTo>
                <a:lnTo>
                  <a:pt x="2047" y="3866"/>
                </a:lnTo>
                <a:lnTo>
                  <a:pt x="2039" y="3866"/>
                </a:lnTo>
                <a:lnTo>
                  <a:pt x="2030" y="3865"/>
                </a:lnTo>
                <a:lnTo>
                  <a:pt x="2020" y="3867"/>
                </a:lnTo>
                <a:lnTo>
                  <a:pt x="2014" y="3872"/>
                </a:lnTo>
                <a:lnTo>
                  <a:pt x="2010" y="3876"/>
                </a:lnTo>
                <a:lnTo>
                  <a:pt x="1955" y="3880"/>
                </a:lnTo>
                <a:lnTo>
                  <a:pt x="1953" y="3884"/>
                </a:lnTo>
                <a:lnTo>
                  <a:pt x="1951" y="3890"/>
                </a:lnTo>
                <a:lnTo>
                  <a:pt x="1942" y="3893"/>
                </a:lnTo>
                <a:lnTo>
                  <a:pt x="1934" y="3893"/>
                </a:lnTo>
                <a:lnTo>
                  <a:pt x="1928" y="3892"/>
                </a:lnTo>
                <a:lnTo>
                  <a:pt x="1923" y="3892"/>
                </a:lnTo>
                <a:lnTo>
                  <a:pt x="1916" y="3892"/>
                </a:lnTo>
                <a:lnTo>
                  <a:pt x="1911" y="3894"/>
                </a:lnTo>
                <a:lnTo>
                  <a:pt x="1908" y="3896"/>
                </a:lnTo>
                <a:lnTo>
                  <a:pt x="1908" y="3899"/>
                </a:lnTo>
                <a:lnTo>
                  <a:pt x="1907" y="3903"/>
                </a:lnTo>
                <a:lnTo>
                  <a:pt x="1906" y="3908"/>
                </a:lnTo>
                <a:lnTo>
                  <a:pt x="1897" y="3911"/>
                </a:lnTo>
                <a:lnTo>
                  <a:pt x="1889" y="3912"/>
                </a:lnTo>
                <a:lnTo>
                  <a:pt x="1879" y="3911"/>
                </a:lnTo>
                <a:lnTo>
                  <a:pt x="1869" y="3913"/>
                </a:lnTo>
                <a:lnTo>
                  <a:pt x="1864" y="3911"/>
                </a:lnTo>
                <a:lnTo>
                  <a:pt x="1861" y="3906"/>
                </a:lnTo>
                <a:lnTo>
                  <a:pt x="1860" y="3900"/>
                </a:lnTo>
                <a:lnTo>
                  <a:pt x="1860" y="3894"/>
                </a:lnTo>
                <a:lnTo>
                  <a:pt x="1867" y="3892"/>
                </a:lnTo>
                <a:lnTo>
                  <a:pt x="1873" y="3890"/>
                </a:lnTo>
                <a:lnTo>
                  <a:pt x="1879" y="3853"/>
                </a:lnTo>
                <a:lnTo>
                  <a:pt x="1879" y="3850"/>
                </a:lnTo>
                <a:lnTo>
                  <a:pt x="1882" y="3849"/>
                </a:lnTo>
                <a:lnTo>
                  <a:pt x="1885" y="3846"/>
                </a:lnTo>
                <a:lnTo>
                  <a:pt x="1892" y="3844"/>
                </a:lnTo>
                <a:lnTo>
                  <a:pt x="1892" y="3826"/>
                </a:lnTo>
                <a:lnTo>
                  <a:pt x="1894" y="3821"/>
                </a:lnTo>
                <a:lnTo>
                  <a:pt x="1901" y="3817"/>
                </a:lnTo>
                <a:lnTo>
                  <a:pt x="1906" y="3798"/>
                </a:lnTo>
                <a:lnTo>
                  <a:pt x="1906" y="3791"/>
                </a:lnTo>
                <a:lnTo>
                  <a:pt x="1909" y="3789"/>
                </a:lnTo>
                <a:lnTo>
                  <a:pt x="1913" y="3786"/>
                </a:lnTo>
                <a:lnTo>
                  <a:pt x="1919" y="3785"/>
                </a:lnTo>
                <a:lnTo>
                  <a:pt x="1919" y="3767"/>
                </a:lnTo>
                <a:lnTo>
                  <a:pt x="1920" y="3761"/>
                </a:lnTo>
                <a:lnTo>
                  <a:pt x="1924" y="3760"/>
                </a:lnTo>
                <a:lnTo>
                  <a:pt x="1928" y="3759"/>
                </a:lnTo>
                <a:lnTo>
                  <a:pt x="1934" y="3758"/>
                </a:lnTo>
                <a:lnTo>
                  <a:pt x="1938" y="3739"/>
                </a:lnTo>
                <a:lnTo>
                  <a:pt x="1940" y="3735"/>
                </a:lnTo>
                <a:lnTo>
                  <a:pt x="1947" y="3731"/>
                </a:lnTo>
                <a:lnTo>
                  <a:pt x="1947" y="3708"/>
                </a:lnTo>
                <a:lnTo>
                  <a:pt x="1948" y="3702"/>
                </a:lnTo>
                <a:lnTo>
                  <a:pt x="1952" y="3701"/>
                </a:lnTo>
                <a:lnTo>
                  <a:pt x="1958" y="3700"/>
                </a:lnTo>
                <a:lnTo>
                  <a:pt x="1965" y="3699"/>
                </a:lnTo>
                <a:lnTo>
                  <a:pt x="1965" y="3680"/>
                </a:lnTo>
                <a:lnTo>
                  <a:pt x="1966" y="3675"/>
                </a:lnTo>
                <a:lnTo>
                  <a:pt x="1970" y="3672"/>
                </a:lnTo>
                <a:lnTo>
                  <a:pt x="1974" y="3669"/>
                </a:lnTo>
                <a:lnTo>
                  <a:pt x="1978" y="3667"/>
                </a:lnTo>
                <a:lnTo>
                  <a:pt x="1978" y="3636"/>
                </a:lnTo>
                <a:lnTo>
                  <a:pt x="1978" y="3629"/>
                </a:lnTo>
                <a:lnTo>
                  <a:pt x="1982" y="3627"/>
                </a:lnTo>
                <a:lnTo>
                  <a:pt x="1985" y="3626"/>
                </a:lnTo>
                <a:lnTo>
                  <a:pt x="1992" y="3626"/>
                </a:lnTo>
                <a:lnTo>
                  <a:pt x="1992" y="3590"/>
                </a:lnTo>
                <a:lnTo>
                  <a:pt x="1994" y="3584"/>
                </a:lnTo>
                <a:lnTo>
                  <a:pt x="1998" y="3583"/>
                </a:lnTo>
                <a:lnTo>
                  <a:pt x="2003" y="3582"/>
                </a:lnTo>
                <a:lnTo>
                  <a:pt x="2010" y="3581"/>
                </a:lnTo>
                <a:lnTo>
                  <a:pt x="2010" y="3577"/>
                </a:lnTo>
                <a:lnTo>
                  <a:pt x="2011" y="3573"/>
                </a:lnTo>
                <a:lnTo>
                  <a:pt x="2013" y="3570"/>
                </a:lnTo>
                <a:lnTo>
                  <a:pt x="2020" y="3567"/>
                </a:lnTo>
                <a:lnTo>
                  <a:pt x="2022" y="3569"/>
                </a:lnTo>
                <a:lnTo>
                  <a:pt x="2029" y="3571"/>
                </a:lnTo>
                <a:lnTo>
                  <a:pt x="2029" y="3594"/>
                </a:lnTo>
                <a:lnTo>
                  <a:pt x="2032" y="3596"/>
                </a:lnTo>
                <a:lnTo>
                  <a:pt x="2036" y="3600"/>
                </a:lnTo>
                <a:lnTo>
                  <a:pt x="2039" y="3604"/>
                </a:lnTo>
                <a:lnTo>
                  <a:pt x="2042" y="3613"/>
                </a:lnTo>
                <a:lnTo>
                  <a:pt x="2048" y="3613"/>
                </a:lnTo>
                <a:lnTo>
                  <a:pt x="2056" y="3613"/>
                </a:lnTo>
                <a:lnTo>
                  <a:pt x="2056" y="3615"/>
                </a:lnTo>
                <a:lnTo>
                  <a:pt x="2056" y="3617"/>
                </a:lnTo>
                <a:lnTo>
                  <a:pt x="2057" y="3620"/>
                </a:lnTo>
                <a:lnTo>
                  <a:pt x="2060" y="3626"/>
                </a:lnTo>
                <a:lnTo>
                  <a:pt x="2092" y="3626"/>
                </a:lnTo>
                <a:lnTo>
                  <a:pt x="2096" y="3622"/>
                </a:lnTo>
                <a:lnTo>
                  <a:pt x="2102" y="3617"/>
                </a:lnTo>
                <a:lnTo>
                  <a:pt x="2151" y="3613"/>
                </a:lnTo>
                <a:lnTo>
                  <a:pt x="2153" y="3608"/>
                </a:lnTo>
                <a:lnTo>
                  <a:pt x="2156" y="3604"/>
                </a:lnTo>
                <a:lnTo>
                  <a:pt x="2160" y="3600"/>
                </a:lnTo>
                <a:lnTo>
                  <a:pt x="2165" y="3598"/>
                </a:lnTo>
                <a:lnTo>
                  <a:pt x="2167" y="3592"/>
                </a:lnTo>
                <a:lnTo>
                  <a:pt x="2169" y="3585"/>
                </a:lnTo>
                <a:lnTo>
                  <a:pt x="2228" y="3581"/>
                </a:lnTo>
                <a:lnTo>
                  <a:pt x="2270" y="3581"/>
                </a:lnTo>
                <a:lnTo>
                  <a:pt x="2274" y="3582"/>
                </a:lnTo>
                <a:lnTo>
                  <a:pt x="2275" y="3586"/>
                </a:lnTo>
                <a:lnTo>
                  <a:pt x="2276" y="3592"/>
                </a:lnTo>
                <a:lnTo>
                  <a:pt x="2279" y="3598"/>
                </a:lnTo>
                <a:lnTo>
                  <a:pt x="2284" y="3598"/>
                </a:lnTo>
                <a:lnTo>
                  <a:pt x="2288" y="3602"/>
                </a:lnTo>
                <a:lnTo>
                  <a:pt x="2291" y="3605"/>
                </a:lnTo>
                <a:lnTo>
                  <a:pt x="2293" y="3613"/>
                </a:lnTo>
                <a:lnTo>
                  <a:pt x="2297" y="3613"/>
                </a:lnTo>
                <a:lnTo>
                  <a:pt x="2301" y="3616"/>
                </a:lnTo>
                <a:lnTo>
                  <a:pt x="2303" y="3619"/>
                </a:lnTo>
                <a:lnTo>
                  <a:pt x="2306" y="3626"/>
                </a:lnTo>
                <a:lnTo>
                  <a:pt x="2329" y="3626"/>
                </a:lnTo>
                <a:lnTo>
                  <a:pt x="2333" y="3627"/>
                </a:lnTo>
                <a:lnTo>
                  <a:pt x="2334" y="3631"/>
                </a:lnTo>
                <a:lnTo>
                  <a:pt x="2335" y="3636"/>
                </a:lnTo>
                <a:lnTo>
                  <a:pt x="2338" y="3640"/>
                </a:lnTo>
                <a:lnTo>
                  <a:pt x="2342" y="3642"/>
                </a:lnTo>
                <a:lnTo>
                  <a:pt x="2345" y="3644"/>
                </a:lnTo>
                <a:lnTo>
                  <a:pt x="2347" y="3648"/>
                </a:lnTo>
                <a:lnTo>
                  <a:pt x="2352" y="3653"/>
                </a:lnTo>
                <a:lnTo>
                  <a:pt x="2354" y="3654"/>
                </a:lnTo>
                <a:lnTo>
                  <a:pt x="2356" y="3655"/>
                </a:lnTo>
                <a:lnTo>
                  <a:pt x="2359" y="3655"/>
                </a:lnTo>
                <a:lnTo>
                  <a:pt x="2365" y="3657"/>
                </a:lnTo>
                <a:lnTo>
                  <a:pt x="2365" y="3661"/>
                </a:lnTo>
                <a:lnTo>
                  <a:pt x="2369" y="3667"/>
                </a:lnTo>
                <a:lnTo>
                  <a:pt x="2384" y="3672"/>
                </a:lnTo>
                <a:lnTo>
                  <a:pt x="2390" y="3673"/>
                </a:lnTo>
                <a:lnTo>
                  <a:pt x="2393" y="3676"/>
                </a:lnTo>
                <a:lnTo>
                  <a:pt x="2394" y="3680"/>
                </a:lnTo>
                <a:lnTo>
                  <a:pt x="2397" y="3685"/>
                </a:lnTo>
                <a:lnTo>
                  <a:pt x="2415" y="3690"/>
                </a:lnTo>
                <a:lnTo>
                  <a:pt x="2420" y="3690"/>
                </a:lnTo>
                <a:lnTo>
                  <a:pt x="2421" y="3692"/>
                </a:lnTo>
                <a:lnTo>
                  <a:pt x="2422" y="3696"/>
                </a:lnTo>
                <a:lnTo>
                  <a:pt x="2424" y="3699"/>
                </a:lnTo>
                <a:lnTo>
                  <a:pt x="2447" y="3699"/>
                </a:lnTo>
                <a:lnTo>
                  <a:pt x="2451" y="3700"/>
                </a:lnTo>
                <a:lnTo>
                  <a:pt x="2452" y="3703"/>
                </a:lnTo>
                <a:lnTo>
                  <a:pt x="2453" y="3708"/>
                </a:lnTo>
                <a:lnTo>
                  <a:pt x="2456" y="3712"/>
                </a:lnTo>
                <a:lnTo>
                  <a:pt x="2474" y="3712"/>
                </a:lnTo>
                <a:lnTo>
                  <a:pt x="2479" y="3713"/>
                </a:lnTo>
                <a:lnTo>
                  <a:pt x="2480" y="3718"/>
                </a:lnTo>
                <a:lnTo>
                  <a:pt x="2481" y="3723"/>
                </a:lnTo>
                <a:lnTo>
                  <a:pt x="2483" y="3731"/>
                </a:lnTo>
                <a:lnTo>
                  <a:pt x="2520" y="3731"/>
                </a:lnTo>
                <a:lnTo>
                  <a:pt x="2521" y="3730"/>
                </a:lnTo>
                <a:lnTo>
                  <a:pt x="2522" y="3727"/>
                </a:lnTo>
                <a:lnTo>
                  <a:pt x="2522" y="3723"/>
                </a:lnTo>
                <a:lnTo>
                  <a:pt x="2524" y="3718"/>
                </a:lnTo>
                <a:lnTo>
                  <a:pt x="2528" y="3712"/>
                </a:lnTo>
                <a:lnTo>
                  <a:pt x="2533" y="3713"/>
                </a:lnTo>
                <a:lnTo>
                  <a:pt x="2540" y="3713"/>
                </a:lnTo>
                <a:lnTo>
                  <a:pt x="2547" y="3712"/>
                </a:lnTo>
                <a:lnTo>
                  <a:pt x="2552" y="3708"/>
                </a:lnTo>
                <a:lnTo>
                  <a:pt x="2553" y="3704"/>
                </a:lnTo>
                <a:lnTo>
                  <a:pt x="2552" y="3700"/>
                </a:lnTo>
                <a:lnTo>
                  <a:pt x="2552" y="3695"/>
                </a:lnTo>
                <a:lnTo>
                  <a:pt x="2552" y="3691"/>
                </a:lnTo>
                <a:lnTo>
                  <a:pt x="2555" y="3689"/>
                </a:lnTo>
                <a:lnTo>
                  <a:pt x="2558" y="3687"/>
                </a:lnTo>
                <a:lnTo>
                  <a:pt x="2565" y="3685"/>
                </a:lnTo>
                <a:lnTo>
                  <a:pt x="2565" y="3653"/>
                </a:lnTo>
                <a:lnTo>
                  <a:pt x="2562" y="3649"/>
                </a:lnTo>
                <a:lnTo>
                  <a:pt x="2556" y="3644"/>
                </a:lnTo>
                <a:lnTo>
                  <a:pt x="2553" y="3642"/>
                </a:lnTo>
                <a:lnTo>
                  <a:pt x="2553" y="3639"/>
                </a:lnTo>
                <a:lnTo>
                  <a:pt x="2553" y="3633"/>
                </a:lnTo>
                <a:lnTo>
                  <a:pt x="2556" y="3630"/>
                </a:lnTo>
                <a:lnTo>
                  <a:pt x="2647" y="3626"/>
                </a:lnTo>
                <a:lnTo>
                  <a:pt x="2653" y="3622"/>
                </a:lnTo>
                <a:lnTo>
                  <a:pt x="2657" y="3617"/>
                </a:lnTo>
                <a:lnTo>
                  <a:pt x="2663" y="3613"/>
                </a:lnTo>
                <a:lnTo>
                  <a:pt x="2672" y="3613"/>
                </a:lnTo>
                <a:lnTo>
                  <a:pt x="2682" y="3614"/>
                </a:lnTo>
                <a:lnTo>
                  <a:pt x="2693" y="3613"/>
                </a:lnTo>
                <a:lnTo>
                  <a:pt x="2697" y="3609"/>
                </a:lnTo>
                <a:lnTo>
                  <a:pt x="2701" y="3603"/>
                </a:lnTo>
                <a:lnTo>
                  <a:pt x="2702" y="3601"/>
                </a:lnTo>
                <a:lnTo>
                  <a:pt x="2707" y="3601"/>
                </a:lnTo>
                <a:lnTo>
                  <a:pt x="2711" y="3600"/>
                </a:lnTo>
                <a:lnTo>
                  <a:pt x="2716" y="3598"/>
                </a:lnTo>
                <a:lnTo>
                  <a:pt x="2716" y="3544"/>
                </a:lnTo>
                <a:lnTo>
                  <a:pt x="2714" y="3542"/>
                </a:lnTo>
                <a:lnTo>
                  <a:pt x="2711" y="3542"/>
                </a:lnTo>
                <a:lnTo>
                  <a:pt x="2707" y="3541"/>
                </a:lnTo>
                <a:lnTo>
                  <a:pt x="2701" y="3539"/>
                </a:lnTo>
                <a:lnTo>
                  <a:pt x="2699" y="3535"/>
                </a:lnTo>
                <a:lnTo>
                  <a:pt x="2699" y="3530"/>
                </a:lnTo>
                <a:lnTo>
                  <a:pt x="2698" y="3523"/>
                </a:lnTo>
                <a:lnTo>
                  <a:pt x="2697" y="3517"/>
                </a:lnTo>
                <a:lnTo>
                  <a:pt x="2694" y="3515"/>
                </a:lnTo>
                <a:lnTo>
                  <a:pt x="2688" y="3512"/>
                </a:lnTo>
                <a:lnTo>
                  <a:pt x="2686" y="3508"/>
                </a:lnTo>
                <a:lnTo>
                  <a:pt x="2686" y="3502"/>
                </a:lnTo>
                <a:lnTo>
                  <a:pt x="2685" y="3496"/>
                </a:lnTo>
                <a:lnTo>
                  <a:pt x="2684" y="3489"/>
                </a:lnTo>
                <a:lnTo>
                  <a:pt x="2678" y="3484"/>
                </a:lnTo>
                <a:lnTo>
                  <a:pt x="2674" y="3480"/>
                </a:lnTo>
                <a:lnTo>
                  <a:pt x="2671" y="3476"/>
                </a:lnTo>
                <a:lnTo>
                  <a:pt x="2670" y="3472"/>
                </a:lnTo>
                <a:lnTo>
                  <a:pt x="2647" y="3472"/>
                </a:lnTo>
                <a:lnTo>
                  <a:pt x="2641" y="3470"/>
                </a:lnTo>
                <a:lnTo>
                  <a:pt x="2640" y="3465"/>
                </a:lnTo>
                <a:lnTo>
                  <a:pt x="2639" y="3459"/>
                </a:lnTo>
                <a:lnTo>
                  <a:pt x="2638" y="3453"/>
                </a:lnTo>
                <a:lnTo>
                  <a:pt x="2635" y="3452"/>
                </a:lnTo>
                <a:lnTo>
                  <a:pt x="2631" y="3452"/>
                </a:lnTo>
                <a:lnTo>
                  <a:pt x="2629" y="3449"/>
                </a:lnTo>
                <a:lnTo>
                  <a:pt x="2629" y="3444"/>
                </a:lnTo>
                <a:lnTo>
                  <a:pt x="2631" y="3437"/>
                </a:lnTo>
                <a:lnTo>
                  <a:pt x="2638" y="3435"/>
                </a:lnTo>
                <a:lnTo>
                  <a:pt x="2638" y="3430"/>
                </a:lnTo>
                <a:lnTo>
                  <a:pt x="2639" y="3429"/>
                </a:lnTo>
                <a:lnTo>
                  <a:pt x="2642" y="3426"/>
                </a:lnTo>
                <a:lnTo>
                  <a:pt x="2646" y="3422"/>
                </a:lnTo>
                <a:lnTo>
                  <a:pt x="2652" y="3422"/>
                </a:lnTo>
                <a:lnTo>
                  <a:pt x="2658" y="3423"/>
                </a:lnTo>
                <a:lnTo>
                  <a:pt x="2665" y="3422"/>
                </a:lnTo>
                <a:lnTo>
                  <a:pt x="2670" y="3420"/>
                </a:lnTo>
                <a:lnTo>
                  <a:pt x="2671" y="3417"/>
                </a:lnTo>
                <a:lnTo>
                  <a:pt x="2672" y="3413"/>
                </a:lnTo>
                <a:lnTo>
                  <a:pt x="2674" y="3407"/>
                </a:lnTo>
                <a:lnTo>
                  <a:pt x="2676" y="3405"/>
                </a:lnTo>
                <a:lnTo>
                  <a:pt x="2682" y="3405"/>
                </a:lnTo>
                <a:lnTo>
                  <a:pt x="2687" y="3404"/>
                </a:lnTo>
                <a:lnTo>
                  <a:pt x="2693" y="3403"/>
                </a:lnTo>
                <a:lnTo>
                  <a:pt x="2697" y="3401"/>
                </a:lnTo>
                <a:lnTo>
                  <a:pt x="2701" y="3399"/>
                </a:lnTo>
                <a:lnTo>
                  <a:pt x="2702" y="3393"/>
                </a:lnTo>
                <a:lnTo>
                  <a:pt x="2707" y="3392"/>
                </a:lnTo>
                <a:lnTo>
                  <a:pt x="2711" y="3391"/>
                </a:lnTo>
                <a:lnTo>
                  <a:pt x="2716" y="3390"/>
                </a:lnTo>
                <a:lnTo>
                  <a:pt x="2716" y="3388"/>
                </a:lnTo>
                <a:lnTo>
                  <a:pt x="2716" y="3387"/>
                </a:lnTo>
                <a:lnTo>
                  <a:pt x="2716" y="3384"/>
                </a:lnTo>
                <a:lnTo>
                  <a:pt x="2716" y="3380"/>
                </a:lnTo>
                <a:lnTo>
                  <a:pt x="2719" y="3378"/>
                </a:lnTo>
                <a:lnTo>
                  <a:pt x="2724" y="3378"/>
                </a:lnTo>
                <a:lnTo>
                  <a:pt x="2731" y="3379"/>
                </a:lnTo>
                <a:lnTo>
                  <a:pt x="2739" y="3380"/>
                </a:lnTo>
                <a:lnTo>
                  <a:pt x="2742" y="3377"/>
                </a:lnTo>
                <a:lnTo>
                  <a:pt x="2742" y="3373"/>
                </a:lnTo>
                <a:lnTo>
                  <a:pt x="2741" y="3370"/>
                </a:lnTo>
                <a:lnTo>
                  <a:pt x="2743" y="3367"/>
                </a:lnTo>
                <a:lnTo>
                  <a:pt x="2746" y="3361"/>
                </a:lnTo>
                <a:lnTo>
                  <a:pt x="2749" y="3360"/>
                </a:lnTo>
                <a:lnTo>
                  <a:pt x="2753" y="3359"/>
                </a:lnTo>
                <a:lnTo>
                  <a:pt x="2756" y="3358"/>
                </a:lnTo>
                <a:lnTo>
                  <a:pt x="2760" y="3325"/>
                </a:lnTo>
                <a:lnTo>
                  <a:pt x="2757" y="3321"/>
                </a:lnTo>
                <a:lnTo>
                  <a:pt x="2754" y="3321"/>
                </a:lnTo>
                <a:lnTo>
                  <a:pt x="2751" y="3322"/>
                </a:lnTo>
                <a:lnTo>
                  <a:pt x="2747" y="3321"/>
                </a:lnTo>
                <a:lnTo>
                  <a:pt x="2743" y="3317"/>
                </a:lnTo>
                <a:lnTo>
                  <a:pt x="2742" y="3311"/>
                </a:lnTo>
                <a:lnTo>
                  <a:pt x="2742" y="3305"/>
                </a:lnTo>
                <a:lnTo>
                  <a:pt x="2743" y="3298"/>
                </a:lnTo>
                <a:lnTo>
                  <a:pt x="2737" y="3296"/>
                </a:lnTo>
                <a:lnTo>
                  <a:pt x="2733" y="3294"/>
                </a:lnTo>
                <a:lnTo>
                  <a:pt x="2731" y="3287"/>
                </a:lnTo>
                <a:lnTo>
                  <a:pt x="2729" y="3281"/>
                </a:lnTo>
                <a:lnTo>
                  <a:pt x="2706" y="3276"/>
                </a:lnTo>
                <a:lnTo>
                  <a:pt x="2701" y="3273"/>
                </a:lnTo>
                <a:lnTo>
                  <a:pt x="2697" y="3266"/>
                </a:lnTo>
                <a:lnTo>
                  <a:pt x="2665" y="3262"/>
                </a:lnTo>
                <a:lnTo>
                  <a:pt x="2660" y="3261"/>
                </a:lnTo>
                <a:lnTo>
                  <a:pt x="2657" y="3259"/>
                </a:lnTo>
                <a:lnTo>
                  <a:pt x="2653" y="3255"/>
                </a:lnTo>
                <a:lnTo>
                  <a:pt x="2651" y="3253"/>
                </a:lnTo>
                <a:lnTo>
                  <a:pt x="2428" y="3253"/>
                </a:lnTo>
                <a:lnTo>
                  <a:pt x="2424" y="3253"/>
                </a:lnTo>
                <a:lnTo>
                  <a:pt x="2424" y="3258"/>
                </a:lnTo>
                <a:lnTo>
                  <a:pt x="2342" y="3262"/>
                </a:lnTo>
                <a:lnTo>
                  <a:pt x="2334" y="3259"/>
                </a:lnTo>
                <a:lnTo>
                  <a:pt x="2332" y="3253"/>
                </a:lnTo>
                <a:lnTo>
                  <a:pt x="2332" y="3243"/>
                </a:lnTo>
                <a:lnTo>
                  <a:pt x="2333" y="3235"/>
                </a:lnTo>
                <a:lnTo>
                  <a:pt x="2329" y="3234"/>
                </a:lnTo>
                <a:lnTo>
                  <a:pt x="2325" y="3230"/>
                </a:lnTo>
                <a:lnTo>
                  <a:pt x="2321" y="3225"/>
                </a:lnTo>
                <a:lnTo>
                  <a:pt x="2320" y="3221"/>
                </a:lnTo>
                <a:lnTo>
                  <a:pt x="2320" y="3215"/>
                </a:lnTo>
                <a:lnTo>
                  <a:pt x="2320" y="3212"/>
                </a:lnTo>
                <a:lnTo>
                  <a:pt x="2318" y="3206"/>
                </a:lnTo>
                <a:lnTo>
                  <a:pt x="2315" y="3205"/>
                </a:lnTo>
                <a:lnTo>
                  <a:pt x="2309" y="3204"/>
                </a:lnTo>
                <a:lnTo>
                  <a:pt x="2306" y="3203"/>
                </a:lnTo>
                <a:lnTo>
                  <a:pt x="2302" y="3148"/>
                </a:lnTo>
                <a:lnTo>
                  <a:pt x="2298" y="3144"/>
                </a:lnTo>
                <a:lnTo>
                  <a:pt x="2293" y="3144"/>
                </a:lnTo>
                <a:lnTo>
                  <a:pt x="2287" y="3135"/>
                </a:lnTo>
                <a:lnTo>
                  <a:pt x="2288" y="3125"/>
                </a:lnTo>
                <a:lnTo>
                  <a:pt x="2288" y="3116"/>
                </a:lnTo>
                <a:lnTo>
                  <a:pt x="2287" y="3108"/>
                </a:lnTo>
                <a:lnTo>
                  <a:pt x="2284" y="3100"/>
                </a:lnTo>
                <a:lnTo>
                  <a:pt x="2279" y="3098"/>
                </a:lnTo>
                <a:lnTo>
                  <a:pt x="2274" y="3089"/>
                </a:lnTo>
                <a:lnTo>
                  <a:pt x="2274" y="3082"/>
                </a:lnTo>
                <a:lnTo>
                  <a:pt x="2275" y="3072"/>
                </a:lnTo>
                <a:lnTo>
                  <a:pt x="2274" y="3062"/>
                </a:lnTo>
                <a:lnTo>
                  <a:pt x="2272" y="3057"/>
                </a:lnTo>
                <a:lnTo>
                  <a:pt x="2269" y="3056"/>
                </a:lnTo>
                <a:lnTo>
                  <a:pt x="2263" y="3054"/>
                </a:lnTo>
                <a:lnTo>
                  <a:pt x="2260" y="3053"/>
                </a:lnTo>
                <a:lnTo>
                  <a:pt x="2257" y="3051"/>
                </a:lnTo>
                <a:lnTo>
                  <a:pt x="2256" y="3047"/>
                </a:lnTo>
                <a:lnTo>
                  <a:pt x="2256" y="3040"/>
                </a:lnTo>
                <a:lnTo>
                  <a:pt x="2256" y="3035"/>
                </a:lnTo>
                <a:lnTo>
                  <a:pt x="2252" y="3030"/>
                </a:lnTo>
                <a:lnTo>
                  <a:pt x="2247" y="3030"/>
                </a:lnTo>
                <a:lnTo>
                  <a:pt x="2243" y="3021"/>
                </a:lnTo>
                <a:lnTo>
                  <a:pt x="2243" y="3011"/>
                </a:lnTo>
                <a:lnTo>
                  <a:pt x="2244" y="2999"/>
                </a:lnTo>
                <a:lnTo>
                  <a:pt x="2243" y="2989"/>
                </a:lnTo>
                <a:lnTo>
                  <a:pt x="2239" y="2987"/>
                </a:lnTo>
                <a:lnTo>
                  <a:pt x="2233" y="2985"/>
                </a:lnTo>
                <a:lnTo>
                  <a:pt x="2231" y="2976"/>
                </a:lnTo>
                <a:lnTo>
                  <a:pt x="2231" y="2967"/>
                </a:lnTo>
                <a:lnTo>
                  <a:pt x="2230" y="2962"/>
                </a:lnTo>
                <a:lnTo>
                  <a:pt x="2230" y="2956"/>
                </a:lnTo>
                <a:lnTo>
                  <a:pt x="2228" y="2950"/>
                </a:lnTo>
                <a:lnTo>
                  <a:pt x="2228" y="2944"/>
                </a:lnTo>
                <a:lnTo>
                  <a:pt x="2225" y="2941"/>
                </a:lnTo>
                <a:lnTo>
                  <a:pt x="2220" y="2939"/>
                </a:lnTo>
                <a:lnTo>
                  <a:pt x="2214" y="2934"/>
                </a:lnTo>
                <a:lnTo>
                  <a:pt x="2213" y="2929"/>
                </a:lnTo>
                <a:lnTo>
                  <a:pt x="2212" y="2922"/>
                </a:lnTo>
                <a:lnTo>
                  <a:pt x="2211" y="2917"/>
                </a:lnTo>
                <a:lnTo>
                  <a:pt x="2210" y="2912"/>
                </a:lnTo>
                <a:lnTo>
                  <a:pt x="2209" y="2911"/>
                </a:lnTo>
                <a:lnTo>
                  <a:pt x="2205" y="2909"/>
                </a:lnTo>
                <a:lnTo>
                  <a:pt x="2201" y="2907"/>
                </a:lnTo>
                <a:lnTo>
                  <a:pt x="2199" y="2898"/>
                </a:lnTo>
                <a:lnTo>
                  <a:pt x="2199" y="2891"/>
                </a:lnTo>
                <a:lnTo>
                  <a:pt x="2200" y="2881"/>
                </a:lnTo>
                <a:lnTo>
                  <a:pt x="2201" y="2871"/>
                </a:lnTo>
                <a:lnTo>
                  <a:pt x="2197" y="2867"/>
                </a:lnTo>
                <a:lnTo>
                  <a:pt x="2192" y="2867"/>
                </a:lnTo>
                <a:lnTo>
                  <a:pt x="2188" y="2861"/>
                </a:lnTo>
                <a:lnTo>
                  <a:pt x="2187" y="2855"/>
                </a:lnTo>
                <a:lnTo>
                  <a:pt x="2187" y="2846"/>
                </a:lnTo>
                <a:lnTo>
                  <a:pt x="2188" y="2839"/>
                </a:lnTo>
                <a:lnTo>
                  <a:pt x="2180" y="2837"/>
                </a:lnTo>
                <a:lnTo>
                  <a:pt x="2174" y="2835"/>
                </a:lnTo>
                <a:lnTo>
                  <a:pt x="2169" y="2825"/>
                </a:lnTo>
                <a:lnTo>
                  <a:pt x="2169" y="2816"/>
                </a:lnTo>
                <a:lnTo>
                  <a:pt x="2171" y="2805"/>
                </a:lnTo>
                <a:lnTo>
                  <a:pt x="2169" y="2798"/>
                </a:lnTo>
                <a:lnTo>
                  <a:pt x="2165" y="2792"/>
                </a:lnTo>
                <a:lnTo>
                  <a:pt x="2161" y="2789"/>
                </a:lnTo>
                <a:lnTo>
                  <a:pt x="2157" y="2785"/>
                </a:lnTo>
                <a:lnTo>
                  <a:pt x="2156" y="2780"/>
                </a:lnTo>
                <a:lnTo>
                  <a:pt x="2151" y="2779"/>
                </a:lnTo>
                <a:lnTo>
                  <a:pt x="2150" y="2778"/>
                </a:lnTo>
                <a:lnTo>
                  <a:pt x="2146" y="2776"/>
                </a:lnTo>
                <a:lnTo>
                  <a:pt x="2142" y="2767"/>
                </a:lnTo>
                <a:lnTo>
                  <a:pt x="2142" y="2758"/>
                </a:lnTo>
                <a:lnTo>
                  <a:pt x="2143" y="2749"/>
                </a:lnTo>
                <a:lnTo>
                  <a:pt x="2142" y="2739"/>
                </a:lnTo>
                <a:lnTo>
                  <a:pt x="2140" y="2734"/>
                </a:lnTo>
                <a:lnTo>
                  <a:pt x="2137" y="2734"/>
                </a:lnTo>
                <a:lnTo>
                  <a:pt x="2132" y="2736"/>
                </a:lnTo>
                <a:lnTo>
                  <a:pt x="2129" y="2734"/>
                </a:lnTo>
                <a:lnTo>
                  <a:pt x="2128" y="2728"/>
                </a:lnTo>
                <a:lnTo>
                  <a:pt x="2124" y="2721"/>
                </a:lnTo>
                <a:lnTo>
                  <a:pt x="2121" y="2721"/>
                </a:lnTo>
                <a:lnTo>
                  <a:pt x="2120" y="2721"/>
                </a:lnTo>
                <a:lnTo>
                  <a:pt x="2119" y="2721"/>
                </a:lnTo>
                <a:lnTo>
                  <a:pt x="2115" y="2721"/>
                </a:lnTo>
                <a:lnTo>
                  <a:pt x="2113" y="2714"/>
                </a:lnTo>
                <a:lnTo>
                  <a:pt x="2110" y="2707"/>
                </a:lnTo>
                <a:lnTo>
                  <a:pt x="2105" y="2703"/>
                </a:lnTo>
                <a:lnTo>
                  <a:pt x="2102" y="2699"/>
                </a:lnTo>
                <a:lnTo>
                  <a:pt x="2098" y="2694"/>
                </a:lnTo>
                <a:lnTo>
                  <a:pt x="2096" y="2689"/>
                </a:lnTo>
                <a:lnTo>
                  <a:pt x="2090" y="2689"/>
                </a:lnTo>
                <a:lnTo>
                  <a:pt x="2083" y="2689"/>
                </a:lnTo>
                <a:lnTo>
                  <a:pt x="2082" y="2685"/>
                </a:lnTo>
                <a:lnTo>
                  <a:pt x="2079" y="2680"/>
                </a:lnTo>
                <a:lnTo>
                  <a:pt x="2065" y="2675"/>
                </a:lnTo>
                <a:lnTo>
                  <a:pt x="2057" y="2674"/>
                </a:lnTo>
                <a:lnTo>
                  <a:pt x="2055" y="2671"/>
                </a:lnTo>
                <a:lnTo>
                  <a:pt x="2053" y="2667"/>
                </a:lnTo>
                <a:lnTo>
                  <a:pt x="2051" y="2661"/>
                </a:lnTo>
                <a:lnTo>
                  <a:pt x="2048" y="2659"/>
                </a:lnTo>
                <a:lnTo>
                  <a:pt x="2042" y="2657"/>
                </a:lnTo>
                <a:lnTo>
                  <a:pt x="2037" y="2654"/>
                </a:lnTo>
                <a:lnTo>
                  <a:pt x="2037" y="2648"/>
                </a:lnTo>
                <a:lnTo>
                  <a:pt x="2031" y="2645"/>
                </a:lnTo>
                <a:lnTo>
                  <a:pt x="2026" y="2643"/>
                </a:lnTo>
                <a:lnTo>
                  <a:pt x="2023" y="2638"/>
                </a:lnTo>
                <a:lnTo>
                  <a:pt x="2020" y="2634"/>
                </a:lnTo>
                <a:lnTo>
                  <a:pt x="2018" y="2633"/>
                </a:lnTo>
                <a:lnTo>
                  <a:pt x="2015" y="2630"/>
                </a:lnTo>
                <a:lnTo>
                  <a:pt x="2010" y="2562"/>
                </a:lnTo>
                <a:lnTo>
                  <a:pt x="2010" y="2556"/>
                </a:lnTo>
                <a:lnTo>
                  <a:pt x="2013" y="2555"/>
                </a:lnTo>
                <a:lnTo>
                  <a:pt x="2015" y="2554"/>
                </a:lnTo>
                <a:lnTo>
                  <a:pt x="2020" y="2553"/>
                </a:lnTo>
                <a:lnTo>
                  <a:pt x="2024" y="2530"/>
                </a:lnTo>
                <a:lnTo>
                  <a:pt x="2024" y="2527"/>
                </a:lnTo>
                <a:lnTo>
                  <a:pt x="2027" y="2525"/>
                </a:lnTo>
                <a:lnTo>
                  <a:pt x="2031" y="2523"/>
                </a:lnTo>
                <a:lnTo>
                  <a:pt x="2037" y="2520"/>
                </a:lnTo>
                <a:lnTo>
                  <a:pt x="2037" y="2489"/>
                </a:lnTo>
                <a:lnTo>
                  <a:pt x="2038" y="2481"/>
                </a:lnTo>
                <a:lnTo>
                  <a:pt x="2043" y="2479"/>
                </a:lnTo>
                <a:lnTo>
                  <a:pt x="2047" y="2477"/>
                </a:lnTo>
                <a:lnTo>
                  <a:pt x="2051" y="2476"/>
                </a:lnTo>
                <a:lnTo>
                  <a:pt x="2054" y="2473"/>
                </a:lnTo>
                <a:lnTo>
                  <a:pt x="2056" y="2471"/>
                </a:lnTo>
                <a:lnTo>
                  <a:pt x="2184" y="2466"/>
                </a:lnTo>
                <a:lnTo>
                  <a:pt x="2186" y="2461"/>
                </a:lnTo>
                <a:lnTo>
                  <a:pt x="2188" y="2457"/>
                </a:lnTo>
                <a:lnTo>
                  <a:pt x="2238" y="2453"/>
                </a:lnTo>
                <a:lnTo>
                  <a:pt x="2243" y="2450"/>
                </a:lnTo>
                <a:lnTo>
                  <a:pt x="2244" y="2447"/>
                </a:lnTo>
                <a:lnTo>
                  <a:pt x="2245" y="2442"/>
                </a:lnTo>
                <a:lnTo>
                  <a:pt x="2247" y="2438"/>
                </a:lnTo>
                <a:lnTo>
                  <a:pt x="2254" y="2434"/>
                </a:lnTo>
                <a:lnTo>
                  <a:pt x="2263" y="2434"/>
                </a:lnTo>
                <a:lnTo>
                  <a:pt x="2272" y="2435"/>
                </a:lnTo>
                <a:lnTo>
                  <a:pt x="2283" y="2434"/>
                </a:lnTo>
                <a:lnTo>
                  <a:pt x="2286" y="2431"/>
                </a:lnTo>
                <a:lnTo>
                  <a:pt x="2287" y="2425"/>
                </a:lnTo>
                <a:lnTo>
                  <a:pt x="2292" y="2421"/>
                </a:lnTo>
                <a:lnTo>
                  <a:pt x="2299" y="2421"/>
                </a:lnTo>
                <a:lnTo>
                  <a:pt x="2307" y="2422"/>
                </a:lnTo>
                <a:lnTo>
                  <a:pt x="2315" y="2421"/>
                </a:lnTo>
                <a:lnTo>
                  <a:pt x="2319" y="2418"/>
                </a:lnTo>
                <a:lnTo>
                  <a:pt x="2320" y="2411"/>
                </a:lnTo>
                <a:lnTo>
                  <a:pt x="2328" y="2407"/>
                </a:lnTo>
                <a:lnTo>
                  <a:pt x="2338" y="2407"/>
                </a:lnTo>
                <a:lnTo>
                  <a:pt x="2346" y="2408"/>
                </a:lnTo>
                <a:lnTo>
                  <a:pt x="2356" y="2407"/>
                </a:lnTo>
                <a:lnTo>
                  <a:pt x="2361" y="2405"/>
                </a:lnTo>
                <a:lnTo>
                  <a:pt x="2362" y="2401"/>
                </a:lnTo>
                <a:lnTo>
                  <a:pt x="2363" y="2397"/>
                </a:lnTo>
                <a:lnTo>
                  <a:pt x="2365" y="2394"/>
                </a:lnTo>
                <a:lnTo>
                  <a:pt x="2367" y="2391"/>
                </a:lnTo>
                <a:lnTo>
                  <a:pt x="2373" y="2391"/>
                </a:lnTo>
                <a:lnTo>
                  <a:pt x="2378" y="2390"/>
                </a:lnTo>
                <a:lnTo>
                  <a:pt x="2384" y="2389"/>
                </a:lnTo>
                <a:lnTo>
                  <a:pt x="2388" y="2386"/>
                </a:lnTo>
                <a:lnTo>
                  <a:pt x="2392" y="2379"/>
                </a:lnTo>
                <a:lnTo>
                  <a:pt x="2396" y="2377"/>
                </a:lnTo>
                <a:lnTo>
                  <a:pt x="2402" y="2377"/>
                </a:lnTo>
                <a:lnTo>
                  <a:pt x="2408" y="2378"/>
                </a:lnTo>
                <a:lnTo>
                  <a:pt x="2415" y="2379"/>
                </a:lnTo>
                <a:lnTo>
                  <a:pt x="2418" y="2373"/>
                </a:lnTo>
                <a:lnTo>
                  <a:pt x="2420" y="2371"/>
                </a:lnTo>
                <a:lnTo>
                  <a:pt x="2424" y="2365"/>
                </a:lnTo>
                <a:lnTo>
                  <a:pt x="2432" y="2364"/>
                </a:lnTo>
                <a:lnTo>
                  <a:pt x="2439" y="2363"/>
                </a:lnTo>
                <a:lnTo>
                  <a:pt x="2447" y="2362"/>
                </a:lnTo>
                <a:lnTo>
                  <a:pt x="2450" y="2360"/>
                </a:lnTo>
                <a:lnTo>
                  <a:pt x="2450" y="2359"/>
                </a:lnTo>
                <a:lnTo>
                  <a:pt x="2449" y="2355"/>
                </a:lnTo>
                <a:lnTo>
                  <a:pt x="2451" y="2352"/>
                </a:lnTo>
                <a:lnTo>
                  <a:pt x="2455" y="2348"/>
                </a:lnTo>
                <a:lnTo>
                  <a:pt x="2461" y="2347"/>
                </a:lnTo>
                <a:lnTo>
                  <a:pt x="2467" y="2347"/>
                </a:lnTo>
                <a:lnTo>
                  <a:pt x="2474" y="2348"/>
                </a:lnTo>
                <a:lnTo>
                  <a:pt x="2476" y="2343"/>
                </a:lnTo>
                <a:lnTo>
                  <a:pt x="2479" y="2339"/>
                </a:lnTo>
                <a:lnTo>
                  <a:pt x="2482" y="2334"/>
                </a:lnTo>
                <a:lnTo>
                  <a:pt x="2488" y="2332"/>
                </a:lnTo>
                <a:lnTo>
                  <a:pt x="2494" y="2334"/>
                </a:lnTo>
                <a:lnTo>
                  <a:pt x="2501" y="2335"/>
                </a:lnTo>
                <a:lnTo>
                  <a:pt x="2506" y="2329"/>
                </a:lnTo>
                <a:lnTo>
                  <a:pt x="2510" y="2325"/>
                </a:lnTo>
                <a:lnTo>
                  <a:pt x="2513" y="2319"/>
                </a:lnTo>
                <a:lnTo>
                  <a:pt x="2520" y="2316"/>
                </a:lnTo>
                <a:lnTo>
                  <a:pt x="2522" y="2313"/>
                </a:lnTo>
                <a:lnTo>
                  <a:pt x="2524" y="2307"/>
                </a:lnTo>
                <a:lnTo>
                  <a:pt x="2526" y="2304"/>
                </a:lnTo>
                <a:lnTo>
                  <a:pt x="2529" y="2304"/>
                </a:lnTo>
                <a:lnTo>
                  <a:pt x="2533" y="2303"/>
                </a:lnTo>
                <a:lnTo>
                  <a:pt x="2538" y="2302"/>
                </a:lnTo>
                <a:lnTo>
                  <a:pt x="2538" y="2295"/>
                </a:lnTo>
                <a:lnTo>
                  <a:pt x="2541" y="2292"/>
                </a:lnTo>
                <a:lnTo>
                  <a:pt x="2545" y="2289"/>
                </a:lnTo>
                <a:lnTo>
                  <a:pt x="2552" y="2289"/>
                </a:lnTo>
                <a:lnTo>
                  <a:pt x="2552" y="2284"/>
                </a:lnTo>
                <a:lnTo>
                  <a:pt x="2553" y="2283"/>
                </a:lnTo>
                <a:lnTo>
                  <a:pt x="2556" y="2280"/>
                </a:lnTo>
                <a:lnTo>
                  <a:pt x="2558" y="2275"/>
                </a:lnTo>
                <a:lnTo>
                  <a:pt x="2564" y="2276"/>
                </a:lnTo>
                <a:lnTo>
                  <a:pt x="2571" y="2276"/>
                </a:lnTo>
                <a:lnTo>
                  <a:pt x="2579" y="2275"/>
                </a:lnTo>
                <a:lnTo>
                  <a:pt x="2582" y="2273"/>
                </a:lnTo>
                <a:lnTo>
                  <a:pt x="2582" y="2271"/>
                </a:lnTo>
                <a:lnTo>
                  <a:pt x="2581" y="2267"/>
                </a:lnTo>
                <a:lnTo>
                  <a:pt x="2583" y="2261"/>
                </a:lnTo>
                <a:lnTo>
                  <a:pt x="2589" y="2260"/>
                </a:lnTo>
                <a:lnTo>
                  <a:pt x="2592" y="2257"/>
                </a:lnTo>
                <a:lnTo>
                  <a:pt x="2595" y="2252"/>
                </a:lnTo>
                <a:lnTo>
                  <a:pt x="2600" y="2248"/>
                </a:lnTo>
                <a:lnTo>
                  <a:pt x="2604" y="2245"/>
                </a:lnTo>
                <a:lnTo>
                  <a:pt x="2611" y="2243"/>
                </a:lnTo>
                <a:lnTo>
                  <a:pt x="2611" y="2241"/>
                </a:lnTo>
                <a:lnTo>
                  <a:pt x="2611" y="2240"/>
                </a:lnTo>
                <a:lnTo>
                  <a:pt x="2611" y="2239"/>
                </a:lnTo>
                <a:lnTo>
                  <a:pt x="2611" y="2234"/>
                </a:lnTo>
                <a:lnTo>
                  <a:pt x="2612" y="2232"/>
                </a:lnTo>
                <a:lnTo>
                  <a:pt x="2615" y="2232"/>
                </a:lnTo>
                <a:lnTo>
                  <a:pt x="2619" y="2231"/>
                </a:lnTo>
                <a:lnTo>
                  <a:pt x="2624" y="2230"/>
                </a:lnTo>
                <a:lnTo>
                  <a:pt x="2625" y="2226"/>
                </a:lnTo>
                <a:lnTo>
                  <a:pt x="2626" y="2224"/>
                </a:lnTo>
                <a:lnTo>
                  <a:pt x="2626" y="2220"/>
                </a:lnTo>
                <a:lnTo>
                  <a:pt x="2629" y="2216"/>
                </a:lnTo>
                <a:lnTo>
                  <a:pt x="2633" y="2213"/>
                </a:lnTo>
                <a:lnTo>
                  <a:pt x="2638" y="2213"/>
                </a:lnTo>
                <a:lnTo>
                  <a:pt x="2642" y="2214"/>
                </a:lnTo>
                <a:lnTo>
                  <a:pt x="2647" y="2216"/>
                </a:lnTo>
                <a:lnTo>
                  <a:pt x="2653" y="2209"/>
                </a:lnTo>
                <a:lnTo>
                  <a:pt x="2657" y="2207"/>
                </a:lnTo>
                <a:lnTo>
                  <a:pt x="2658" y="2201"/>
                </a:lnTo>
                <a:lnTo>
                  <a:pt x="2661" y="2200"/>
                </a:lnTo>
                <a:lnTo>
                  <a:pt x="2665" y="2199"/>
                </a:lnTo>
                <a:lnTo>
                  <a:pt x="2670" y="2198"/>
                </a:lnTo>
                <a:lnTo>
                  <a:pt x="2670" y="2194"/>
                </a:lnTo>
                <a:lnTo>
                  <a:pt x="2673" y="2190"/>
                </a:lnTo>
                <a:lnTo>
                  <a:pt x="2676" y="2187"/>
                </a:lnTo>
                <a:lnTo>
                  <a:pt x="2684" y="2184"/>
                </a:lnTo>
                <a:lnTo>
                  <a:pt x="2686" y="2181"/>
                </a:lnTo>
                <a:lnTo>
                  <a:pt x="2688" y="2175"/>
                </a:lnTo>
                <a:lnTo>
                  <a:pt x="2690" y="2171"/>
                </a:lnTo>
                <a:lnTo>
                  <a:pt x="2697" y="2171"/>
                </a:lnTo>
                <a:lnTo>
                  <a:pt x="2697" y="2165"/>
                </a:lnTo>
                <a:lnTo>
                  <a:pt x="2698" y="2164"/>
                </a:lnTo>
                <a:lnTo>
                  <a:pt x="2701" y="2161"/>
                </a:lnTo>
                <a:lnTo>
                  <a:pt x="2704" y="2157"/>
                </a:lnTo>
                <a:lnTo>
                  <a:pt x="2709" y="2155"/>
                </a:lnTo>
                <a:lnTo>
                  <a:pt x="2717" y="2155"/>
                </a:lnTo>
                <a:lnTo>
                  <a:pt x="2724" y="2157"/>
                </a:lnTo>
                <a:lnTo>
                  <a:pt x="2726" y="2152"/>
                </a:lnTo>
                <a:lnTo>
                  <a:pt x="2729" y="2148"/>
                </a:lnTo>
                <a:lnTo>
                  <a:pt x="2732" y="2145"/>
                </a:lnTo>
                <a:lnTo>
                  <a:pt x="2739" y="2143"/>
                </a:lnTo>
                <a:lnTo>
                  <a:pt x="2741" y="2136"/>
                </a:lnTo>
                <a:lnTo>
                  <a:pt x="2743" y="2129"/>
                </a:lnTo>
                <a:lnTo>
                  <a:pt x="2749" y="2127"/>
                </a:lnTo>
                <a:lnTo>
                  <a:pt x="2756" y="2125"/>
                </a:lnTo>
                <a:lnTo>
                  <a:pt x="2757" y="2121"/>
                </a:lnTo>
                <a:lnTo>
                  <a:pt x="2758" y="2121"/>
                </a:lnTo>
                <a:lnTo>
                  <a:pt x="2758" y="2119"/>
                </a:lnTo>
                <a:lnTo>
                  <a:pt x="2760" y="2116"/>
                </a:lnTo>
                <a:lnTo>
                  <a:pt x="2764" y="2114"/>
                </a:lnTo>
                <a:lnTo>
                  <a:pt x="2770" y="2114"/>
                </a:lnTo>
                <a:lnTo>
                  <a:pt x="2777" y="2113"/>
                </a:lnTo>
                <a:lnTo>
                  <a:pt x="2783" y="2112"/>
                </a:lnTo>
                <a:lnTo>
                  <a:pt x="2783" y="2109"/>
                </a:lnTo>
                <a:lnTo>
                  <a:pt x="2788" y="2102"/>
                </a:lnTo>
                <a:lnTo>
                  <a:pt x="2789" y="2100"/>
                </a:lnTo>
                <a:lnTo>
                  <a:pt x="2793" y="2100"/>
                </a:lnTo>
                <a:lnTo>
                  <a:pt x="2797" y="2099"/>
                </a:lnTo>
                <a:lnTo>
                  <a:pt x="2802" y="2098"/>
                </a:lnTo>
                <a:lnTo>
                  <a:pt x="2804" y="2091"/>
                </a:lnTo>
                <a:lnTo>
                  <a:pt x="2806" y="2089"/>
                </a:lnTo>
                <a:lnTo>
                  <a:pt x="2808" y="2083"/>
                </a:lnTo>
                <a:lnTo>
                  <a:pt x="2815" y="2079"/>
                </a:lnTo>
                <a:lnTo>
                  <a:pt x="2815" y="2074"/>
                </a:lnTo>
                <a:lnTo>
                  <a:pt x="2818" y="2070"/>
                </a:lnTo>
                <a:lnTo>
                  <a:pt x="2823" y="2068"/>
                </a:lnTo>
                <a:lnTo>
                  <a:pt x="2829" y="2066"/>
                </a:lnTo>
                <a:lnTo>
                  <a:pt x="2829" y="2064"/>
                </a:lnTo>
                <a:lnTo>
                  <a:pt x="2834" y="2062"/>
                </a:lnTo>
                <a:lnTo>
                  <a:pt x="2834" y="2056"/>
                </a:lnTo>
                <a:lnTo>
                  <a:pt x="2837" y="2055"/>
                </a:lnTo>
                <a:lnTo>
                  <a:pt x="2840" y="2053"/>
                </a:lnTo>
                <a:lnTo>
                  <a:pt x="2848" y="2052"/>
                </a:lnTo>
                <a:lnTo>
                  <a:pt x="2848" y="2048"/>
                </a:lnTo>
                <a:lnTo>
                  <a:pt x="2848" y="2043"/>
                </a:lnTo>
                <a:lnTo>
                  <a:pt x="2854" y="2039"/>
                </a:lnTo>
                <a:lnTo>
                  <a:pt x="2861" y="2034"/>
                </a:lnTo>
                <a:lnTo>
                  <a:pt x="2861" y="2020"/>
                </a:lnTo>
                <a:lnTo>
                  <a:pt x="2861" y="2015"/>
                </a:lnTo>
                <a:lnTo>
                  <a:pt x="2864" y="2013"/>
                </a:lnTo>
                <a:lnTo>
                  <a:pt x="2867" y="2012"/>
                </a:lnTo>
                <a:lnTo>
                  <a:pt x="2875" y="2011"/>
                </a:lnTo>
                <a:lnTo>
                  <a:pt x="2875" y="2004"/>
                </a:lnTo>
                <a:lnTo>
                  <a:pt x="2875" y="1997"/>
                </a:lnTo>
                <a:lnTo>
                  <a:pt x="2878" y="1995"/>
                </a:lnTo>
                <a:lnTo>
                  <a:pt x="2882" y="1995"/>
                </a:lnTo>
                <a:lnTo>
                  <a:pt x="2886" y="1994"/>
                </a:lnTo>
                <a:lnTo>
                  <a:pt x="2893" y="1993"/>
                </a:lnTo>
                <a:lnTo>
                  <a:pt x="2893" y="1975"/>
                </a:lnTo>
                <a:lnTo>
                  <a:pt x="2895" y="1970"/>
                </a:lnTo>
                <a:lnTo>
                  <a:pt x="2902" y="1965"/>
                </a:lnTo>
                <a:lnTo>
                  <a:pt x="2905" y="1959"/>
                </a:lnTo>
                <a:lnTo>
                  <a:pt x="2907" y="1952"/>
                </a:lnTo>
                <a:lnTo>
                  <a:pt x="2911" y="1951"/>
                </a:lnTo>
                <a:lnTo>
                  <a:pt x="2915" y="1948"/>
                </a:lnTo>
                <a:lnTo>
                  <a:pt x="2918" y="1946"/>
                </a:lnTo>
                <a:lnTo>
                  <a:pt x="2920" y="1944"/>
                </a:lnTo>
                <a:lnTo>
                  <a:pt x="2921" y="1938"/>
                </a:lnTo>
                <a:lnTo>
                  <a:pt x="2924" y="1936"/>
                </a:lnTo>
                <a:lnTo>
                  <a:pt x="2929" y="1935"/>
                </a:lnTo>
                <a:lnTo>
                  <a:pt x="2934" y="1934"/>
                </a:lnTo>
                <a:lnTo>
                  <a:pt x="2936" y="1928"/>
                </a:lnTo>
                <a:lnTo>
                  <a:pt x="2938" y="1925"/>
                </a:lnTo>
                <a:lnTo>
                  <a:pt x="2942" y="1923"/>
                </a:lnTo>
                <a:lnTo>
                  <a:pt x="2947" y="1921"/>
                </a:lnTo>
                <a:lnTo>
                  <a:pt x="2947" y="1902"/>
                </a:lnTo>
                <a:lnTo>
                  <a:pt x="2948" y="1897"/>
                </a:lnTo>
                <a:lnTo>
                  <a:pt x="2951" y="1893"/>
                </a:lnTo>
                <a:lnTo>
                  <a:pt x="2956" y="1891"/>
                </a:lnTo>
                <a:lnTo>
                  <a:pt x="2961" y="1889"/>
                </a:lnTo>
                <a:lnTo>
                  <a:pt x="2961" y="1870"/>
                </a:lnTo>
                <a:lnTo>
                  <a:pt x="2962" y="1865"/>
                </a:lnTo>
                <a:lnTo>
                  <a:pt x="2967" y="1864"/>
                </a:lnTo>
                <a:lnTo>
                  <a:pt x="2972" y="1863"/>
                </a:lnTo>
                <a:lnTo>
                  <a:pt x="2979" y="1862"/>
                </a:lnTo>
                <a:lnTo>
                  <a:pt x="2979" y="1843"/>
                </a:lnTo>
                <a:lnTo>
                  <a:pt x="2979" y="1838"/>
                </a:lnTo>
                <a:lnTo>
                  <a:pt x="2982" y="1837"/>
                </a:lnTo>
                <a:lnTo>
                  <a:pt x="2985" y="1835"/>
                </a:lnTo>
                <a:lnTo>
                  <a:pt x="2993" y="1834"/>
                </a:lnTo>
                <a:lnTo>
                  <a:pt x="2993" y="1811"/>
                </a:lnTo>
                <a:lnTo>
                  <a:pt x="2994" y="1808"/>
                </a:lnTo>
                <a:lnTo>
                  <a:pt x="2997" y="1806"/>
                </a:lnTo>
                <a:lnTo>
                  <a:pt x="3002" y="1804"/>
                </a:lnTo>
                <a:lnTo>
                  <a:pt x="3006" y="1802"/>
                </a:lnTo>
                <a:lnTo>
                  <a:pt x="3006" y="1780"/>
                </a:lnTo>
                <a:lnTo>
                  <a:pt x="3007" y="1774"/>
                </a:lnTo>
                <a:lnTo>
                  <a:pt x="3012" y="1772"/>
                </a:lnTo>
                <a:lnTo>
                  <a:pt x="3017" y="1771"/>
                </a:lnTo>
                <a:lnTo>
                  <a:pt x="3025" y="1770"/>
                </a:lnTo>
                <a:lnTo>
                  <a:pt x="3025" y="1767"/>
                </a:lnTo>
                <a:lnTo>
                  <a:pt x="3028" y="1763"/>
                </a:lnTo>
                <a:lnTo>
                  <a:pt x="3031" y="1760"/>
                </a:lnTo>
                <a:lnTo>
                  <a:pt x="3038" y="1757"/>
                </a:lnTo>
                <a:lnTo>
                  <a:pt x="3038" y="1725"/>
                </a:lnTo>
                <a:lnTo>
                  <a:pt x="3038" y="1720"/>
                </a:lnTo>
                <a:lnTo>
                  <a:pt x="3041" y="1717"/>
                </a:lnTo>
                <a:lnTo>
                  <a:pt x="3043" y="1716"/>
                </a:lnTo>
                <a:lnTo>
                  <a:pt x="3048" y="1715"/>
                </a:lnTo>
                <a:lnTo>
                  <a:pt x="3052" y="1692"/>
                </a:lnTo>
                <a:lnTo>
                  <a:pt x="3053" y="1687"/>
                </a:lnTo>
                <a:lnTo>
                  <a:pt x="3056" y="1686"/>
                </a:lnTo>
                <a:lnTo>
                  <a:pt x="3061" y="1685"/>
                </a:lnTo>
                <a:lnTo>
                  <a:pt x="3065" y="1684"/>
                </a:lnTo>
                <a:lnTo>
                  <a:pt x="3071" y="1633"/>
                </a:lnTo>
                <a:lnTo>
                  <a:pt x="3073" y="1629"/>
                </a:lnTo>
                <a:lnTo>
                  <a:pt x="3079" y="1625"/>
                </a:lnTo>
                <a:lnTo>
                  <a:pt x="3084" y="1579"/>
                </a:lnTo>
                <a:lnTo>
                  <a:pt x="3084" y="1573"/>
                </a:lnTo>
                <a:lnTo>
                  <a:pt x="3086" y="1572"/>
                </a:lnTo>
                <a:lnTo>
                  <a:pt x="3089" y="1571"/>
                </a:lnTo>
                <a:lnTo>
                  <a:pt x="3092" y="1570"/>
                </a:lnTo>
                <a:lnTo>
                  <a:pt x="3092" y="1475"/>
                </a:lnTo>
                <a:lnTo>
                  <a:pt x="3093" y="1466"/>
                </a:lnTo>
                <a:lnTo>
                  <a:pt x="3098" y="1464"/>
                </a:lnTo>
                <a:lnTo>
                  <a:pt x="3103" y="1462"/>
                </a:lnTo>
                <a:lnTo>
                  <a:pt x="3111" y="1461"/>
                </a:lnTo>
                <a:lnTo>
                  <a:pt x="3111" y="1329"/>
                </a:lnTo>
                <a:lnTo>
                  <a:pt x="3111" y="1297"/>
                </a:lnTo>
                <a:lnTo>
                  <a:pt x="3110" y="1293"/>
                </a:lnTo>
                <a:lnTo>
                  <a:pt x="3108" y="1293"/>
                </a:lnTo>
                <a:lnTo>
                  <a:pt x="3104" y="1291"/>
                </a:lnTo>
                <a:lnTo>
                  <a:pt x="3102" y="1288"/>
                </a:lnTo>
                <a:lnTo>
                  <a:pt x="3092" y="1183"/>
                </a:lnTo>
                <a:lnTo>
                  <a:pt x="3093" y="1176"/>
                </a:lnTo>
                <a:lnTo>
                  <a:pt x="3098" y="1173"/>
                </a:lnTo>
                <a:lnTo>
                  <a:pt x="3103" y="1171"/>
                </a:lnTo>
                <a:lnTo>
                  <a:pt x="3111" y="1170"/>
                </a:lnTo>
                <a:lnTo>
                  <a:pt x="3113" y="1167"/>
                </a:lnTo>
                <a:lnTo>
                  <a:pt x="3115" y="1160"/>
                </a:lnTo>
                <a:lnTo>
                  <a:pt x="3118" y="1156"/>
                </a:lnTo>
                <a:lnTo>
                  <a:pt x="3125" y="1152"/>
                </a:lnTo>
                <a:lnTo>
                  <a:pt x="3125" y="1149"/>
                </a:lnTo>
                <a:lnTo>
                  <a:pt x="3130" y="1147"/>
                </a:lnTo>
                <a:lnTo>
                  <a:pt x="3132" y="1142"/>
                </a:lnTo>
                <a:lnTo>
                  <a:pt x="3137" y="1141"/>
                </a:lnTo>
                <a:lnTo>
                  <a:pt x="3144" y="1142"/>
                </a:lnTo>
                <a:lnTo>
                  <a:pt x="3152" y="1143"/>
                </a:lnTo>
                <a:lnTo>
                  <a:pt x="3155" y="1137"/>
                </a:lnTo>
                <a:lnTo>
                  <a:pt x="3158" y="1133"/>
                </a:lnTo>
                <a:lnTo>
                  <a:pt x="3162" y="1130"/>
                </a:lnTo>
                <a:lnTo>
                  <a:pt x="3170" y="1129"/>
                </a:lnTo>
                <a:lnTo>
                  <a:pt x="3170" y="1122"/>
                </a:lnTo>
                <a:lnTo>
                  <a:pt x="3170" y="1116"/>
                </a:lnTo>
                <a:lnTo>
                  <a:pt x="3172" y="1115"/>
                </a:lnTo>
                <a:lnTo>
                  <a:pt x="3174" y="1115"/>
                </a:lnTo>
                <a:lnTo>
                  <a:pt x="3178" y="1112"/>
                </a:lnTo>
                <a:lnTo>
                  <a:pt x="3184" y="1110"/>
                </a:lnTo>
                <a:lnTo>
                  <a:pt x="3184" y="1093"/>
                </a:lnTo>
                <a:lnTo>
                  <a:pt x="3185" y="1087"/>
                </a:lnTo>
                <a:lnTo>
                  <a:pt x="3190" y="1086"/>
                </a:lnTo>
                <a:lnTo>
                  <a:pt x="3195" y="1085"/>
                </a:lnTo>
                <a:lnTo>
                  <a:pt x="3202" y="1084"/>
                </a:lnTo>
                <a:lnTo>
                  <a:pt x="3202" y="1076"/>
                </a:lnTo>
                <a:lnTo>
                  <a:pt x="3202" y="1070"/>
                </a:lnTo>
                <a:lnTo>
                  <a:pt x="3204" y="1069"/>
                </a:lnTo>
                <a:lnTo>
                  <a:pt x="3211" y="1065"/>
                </a:lnTo>
                <a:lnTo>
                  <a:pt x="3214" y="1061"/>
                </a:lnTo>
                <a:lnTo>
                  <a:pt x="3216" y="1058"/>
                </a:lnTo>
                <a:lnTo>
                  <a:pt x="3219" y="1054"/>
                </a:lnTo>
                <a:lnTo>
                  <a:pt x="3225" y="1051"/>
                </a:lnTo>
                <a:lnTo>
                  <a:pt x="3229" y="1019"/>
                </a:lnTo>
                <a:lnTo>
                  <a:pt x="3230" y="1013"/>
                </a:lnTo>
                <a:lnTo>
                  <a:pt x="3234" y="1011"/>
                </a:lnTo>
                <a:lnTo>
                  <a:pt x="3239" y="1010"/>
                </a:lnTo>
                <a:lnTo>
                  <a:pt x="3243" y="1006"/>
                </a:lnTo>
                <a:lnTo>
                  <a:pt x="3247" y="975"/>
                </a:lnTo>
                <a:lnTo>
                  <a:pt x="3250" y="969"/>
                </a:lnTo>
                <a:lnTo>
                  <a:pt x="3256" y="965"/>
                </a:lnTo>
                <a:lnTo>
                  <a:pt x="3256" y="797"/>
                </a:lnTo>
                <a:lnTo>
                  <a:pt x="3253" y="794"/>
                </a:lnTo>
                <a:lnTo>
                  <a:pt x="3247" y="792"/>
                </a:lnTo>
                <a:close/>
                <a:moveTo>
                  <a:pt x="1892" y="2539"/>
                </a:moveTo>
                <a:lnTo>
                  <a:pt x="1883" y="2540"/>
                </a:lnTo>
                <a:lnTo>
                  <a:pt x="1879" y="2543"/>
                </a:lnTo>
                <a:lnTo>
                  <a:pt x="1876" y="2548"/>
                </a:lnTo>
                <a:lnTo>
                  <a:pt x="1873" y="2553"/>
                </a:lnTo>
                <a:lnTo>
                  <a:pt x="1792" y="2557"/>
                </a:lnTo>
                <a:lnTo>
                  <a:pt x="1788" y="2563"/>
                </a:lnTo>
                <a:lnTo>
                  <a:pt x="1783" y="2566"/>
                </a:lnTo>
                <a:lnTo>
                  <a:pt x="1774" y="2567"/>
                </a:lnTo>
                <a:lnTo>
                  <a:pt x="1764" y="2566"/>
                </a:lnTo>
                <a:lnTo>
                  <a:pt x="1754" y="2566"/>
                </a:lnTo>
                <a:lnTo>
                  <a:pt x="1747" y="2571"/>
                </a:lnTo>
                <a:lnTo>
                  <a:pt x="1747" y="2577"/>
                </a:lnTo>
                <a:lnTo>
                  <a:pt x="1747" y="2585"/>
                </a:lnTo>
                <a:lnTo>
                  <a:pt x="1739" y="2586"/>
                </a:lnTo>
                <a:lnTo>
                  <a:pt x="1734" y="2587"/>
                </a:lnTo>
                <a:lnTo>
                  <a:pt x="1729" y="2587"/>
                </a:lnTo>
                <a:lnTo>
                  <a:pt x="1728" y="2589"/>
                </a:lnTo>
                <a:lnTo>
                  <a:pt x="1728" y="2592"/>
                </a:lnTo>
                <a:lnTo>
                  <a:pt x="1728" y="2594"/>
                </a:lnTo>
                <a:lnTo>
                  <a:pt x="1728" y="2598"/>
                </a:lnTo>
                <a:lnTo>
                  <a:pt x="1721" y="2599"/>
                </a:lnTo>
                <a:lnTo>
                  <a:pt x="1716" y="2602"/>
                </a:lnTo>
                <a:lnTo>
                  <a:pt x="1713" y="2607"/>
                </a:lnTo>
                <a:lnTo>
                  <a:pt x="1711" y="2612"/>
                </a:lnTo>
                <a:lnTo>
                  <a:pt x="1703" y="2611"/>
                </a:lnTo>
                <a:lnTo>
                  <a:pt x="1696" y="2610"/>
                </a:lnTo>
                <a:lnTo>
                  <a:pt x="1690" y="2611"/>
                </a:lnTo>
                <a:lnTo>
                  <a:pt x="1683" y="2616"/>
                </a:lnTo>
                <a:lnTo>
                  <a:pt x="1683" y="2622"/>
                </a:lnTo>
                <a:lnTo>
                  <a:pt x="1683" y="2625"/>
                </a:lnTo>
                <a:lnTo>
                  <a:pt x="1676" y="2628"/>
                </a:lnTo>
                <a:lnTo>
                  <a:pt x="1672" y="2632"/>
                </a:lnTo>
                <a:lnTo>
                  <a:pt x="1669" y="2635"/>
                </a:lnTo>
                <a:lnTo>
                  <a:pt x="1669" y="2639"/>
                </a:lnTo>
                <a:lnTo>
                  <a:pt x="1664" y="2643"/>
                </a:lnTo>
                <a:lnTo>
                  <a:pt x="1659" y="2647"/>
                </a:lnTo>
                <a:lnTo>
                  <a:pt x="1655" y="2650"/>
                </a:lnTo>
                <a:lnTo>
                  <a:pt x="1651" y="2653"/>
                </a:lnTo>
                <a:lnTo>
                  <a:pt x="1640" y="2654"/>
                </a:lnTo>
                <a:lnTo>
                  <a:pt x="1631" y="2655"/>
                </a:lnTo>
                <a:lnTo>
                  <a:pt x="1621" y="2656"/>
                </a:lnTo>
                <a:lnTo>
                  <a:pt x="1615" y="2661"/>
                </a:lnTo>
                <a:lnTo>
                  <a:pt x="1612" y="2668"/>
                </a:lnTo>
                <a:lnTo>
                  <a:pt x="1610" y="2671"/>
                </a:lnTo>
                <a:lnTo>
                  <a:pt x="1528" y="2675"/>
                </a:lnTo>
                <a:lnTo>
                  <a:pt x="1524" y="2681"/>
                </a:lnTo>
                <a:lnTo>
                  <a:pt x="1520" y="2684"/>
                </a:lnTo>
                <a:lnTo>
                  <a:pt x="1297" y="2684"/>
                </a:lnTo>
                <a:lnTo>
                  <a:pt x="1291" y="2683"/>
                </a:lnTo>
                <a:lnTo>
                  <a:pt x="1289" y="2679"/>
                </a:lnTo>
                <a:lnTo>
                  <a:pt x="1287" y="2673"/>
                </a:lnTo>
                <a:lnTo>
                  <a:pt x="1283" y="2671"/>
                </a:lnTo>
                <a:lnTo>
                  <a:pt x="1224" y="2671"/>
                </a:lnTo>
                <a:lnTo>
                  <a:pt x="1221" y="2667"/>
                </a:lnTo>
                <a:lnTo>
                  <a:pt x="1220" y="2662"/>
                </a:lnTo>
                <a:lnTo>
                  <a:pt x="1219" y="2658"/>
                </a:lnTo>
                <a:lnTo>
                  <a:pt x="1215" y="2657"/>
                </a:lnTo>
                <a:lnTo>
                  <a:pt x="1207" y="2655"/>
                </a:lnTo>
                <a:lnTo>
                  <a:pt x="1201" y="2653"/>
                </a:lnTo>
                <a:lnTo>
                  <a:pt x="1206" y="2646"/>
                </a:lnTo>
                <a:lnTo>
                  <a:pt x="1213" y="2646"/>
                </a:lnTo>
                <a:lnTo>
                  <a:pt x="1217" y="2645"/>
                </a:lnTo>
                <a:lnTo>
                  <a:pt x="1219" y="2639"/>
                </a:lnTo>
                <a:lnTo>
                  <a:pt x="1224" y="2616"/>
                </a:lnTo>
                <a:lnTo>
                  <a:pt x="1228" y="2614"/>
                </a:lnTo>
                <a:lnTo>
                  <a:pt x="1231" y="2611"/>
                </a:lnTo>
                <a:lnTo>
                  <a:pt x="1233" y="2606"/>
                </a:lnTo>
                <a:lnTo>
                  <a:pt x="1237" y="2602"/>
                </a:lnTo>
                <a:lnTo>
                  <a:pt x="1291" y="2598"/>
                </a:lnTo>
                <a:lnTo>
                  <a:pt x="1291" y="2591"/>
                </a:lnTo>
                <a:lnTo>
                  <a:pt x="1297" y="2589"/>
                </a:lnTo>
                <a:lnTo>
                  <a:pt x="1364" y="2585"/>
                </a:lnTo>
                <a:lnTo>
                  <a:pt x="1366" y="2579"/>
                </a:lnTo>
                <a:lnTo>
                  <a:pt x="1367" y="2575"/>
                </a:lnTo>
                <a:lnTo>
                  <a:pt x="1367" y="2572"/>
                </a:lnTo>
                <a:lnTo>
                  <a:pt x="1369" y="2571"/>
                </a:lnTo>
                <a:lnTo>
                  <a:pt x="1438" y="2566"/>
                </a:lnTo>
                <a:lnTo>
                  <a:pt x="1442" y="2562"/>
                </a:lnTo>
                <a:lnTo>
                  <a:pt x="1446" y="2557"/>
                </a:lnTo>
                <a:lnTo>
                  <a:pt x="1497" y="2553"/>
                </a:lnTo>
                <a:lnTo>
                  <a:pt x="1500" y="2545"/>
                </a:lnTo>
                <a:lnTo>
                  <a:pt x="1501" y="2543"/>
                </a:lnTo>
                <a:lnTo>
                  <a:pt x="1508" y="2543"/>
                </a:lnTo>
                <a:lnTo>
                  <a:pt x="1516" y="2544"/>
                </a:lnTo>
                <a:lnTo>
                  <a:pt x="1523" y="2543"/>
                </a:lnTo>
                <a:lnTo>
                  <a:pt x="1528" y="2539"/>
                </a:lnTo>
                <a:lnTo>
                  <a:pt x="1530" y="2532"/>
                </a:lnTo>
                <a:lnTo>
                  <a:pt x="1533" y="2526"/>
                </a:lnTo>
                <a:lnTo>
                  <a:pt x="1539" y="2526"/>
                </a:lnTo>
                <a:lnTo>
                  <a:pt x="1546" y="2527"/>
                </a:lnTo>
                <a:lnTo>
                  <a:pt x="1550" y="2527"/>
                </a:lnTo>
                <a:lnTo>
                  <a:pt x="1556" y="2526"/>
                </a:lnTo>
                <a:lnTo>
                  <a:pt x="1556" y="2519"/>
                </a:lnTo>
                <a:lnTo>
                  <a:pt x="1556" y="2517"/>
                </a:lnTo>
                <a:lnTo>
                  <a:pt x="1557" y="2516"/>
                </a:lnTo>
                <a:lnTo>
                  <a:pt x="1560" y="2516"/>
                </a:lnTo>
                <a:lnTo>
                  <a:pt x="1567" y="2514"/>
                </a:lnTo>
                <a:lnTo>
                  <a:pt x="1574" y="2513"/>
                </a:lnTo>
                <a:lnTo>
                  <a:pt x="1580" y="2512"/>
                </a:lnTo>
                <a:lnTo>
                  <a:pt x="1583" y="2507"/>
                </a:lnTo>
                <a:lnTo>
                  <a:pt x="1587" y="2504"/>
                </a:lnTo>
                <a:lnTo>
                  <a:pt x="1592" y="2498"/>
                </a:lnTo>
                <a:lnTo>
                  <a:pt x="1598" y="2498"/>
                </a:lnTo>
                <a:lnTo>
                  <a:pt x="1605" y="2500"/>
                </a:lnTo>
                <a:lnTo>
                  <a:pt x="1610" y="2500"/>
                </a:lnTo>
                <a:lnTo>
                  <a:pt x="1615" y="2498"/>
                </a:lnTo>
                <a:lnTo>
                  <a:pt x="1617" y="2491"/>
                </a:lnTo>
                <a:lnTo>
                  <a:pt x="1619" y="2484"/>
                </a:lnTo>
                <a:lnTo>
                  <a:pt x="1625" y="2480"/>
                </a:lnTo>
                <a:lnTo>
                  <a:pt x="1629" y="2476"/>
                </a:lnTo>
                <a:lnTo>
                  <a:pt x="1633" y="2457"/>
                </a:lnTo>
                <a:lnTo>
                  <a:pt x="1639" y="2453"/>
                </a:lnTo>
                <a:lnTo>
                  <a:pt x="1642" y="2453"/>
                </a:lnTo>
                <a:lnTo>
                  <a:pt x="1644" y="2445"/>
                </a:lnTo>
                <a:lnTo>
                  <a:pt x="1646" y="2438"/>
                </a:lnTo>
                <a:lnTo>
                  <a:pt x="1650" y="2436"/>
                </a:lnTo>
                <a:lnTo>
                  <a:pt x="1655" y="2435"/>
                </a:lnTo>
                <a:lnTo>
                  <a:pt x="1658" y="2434"/>
                </a:lnTo>
                <a:lnTo>
                  <a:pt x="1660" y="2430"/>
                </a:lnTo>
                <a:lnTo>
                  <a:pt x="1665" y="2417"/>
                </a:lnTo>
                <a:lnTo>
                  <a:pt x="1667" y="2411"/>
                </a:lnTo>
                <a:lnTo>
                  <a:pt x="1670" y="2409"/>
                </a:lnTo>
                <a:lnTo>
                  <a:pt x="1672" y="2407"/>
                </a:lnTo>
                <a:lnTo>
                  <a:pt x="1674" y="2402"/>
                </a:lnTo>
                <a:lnTo>
                  <a:pt x="1674" y="2395"/>
                </a:lnTo>
                <a:lnTo>
                  <a:pt x="1675" y="2389"/>
                </a:lnTo>
                <a:lnTo>
                  <a:pt x="1674" y="2383"/>
                </a:lnTo>
                <a:lnTo>
                  <a:pt x="1669" y="2379"/>
                </a:lnTo>
                <a:lnTo>
                  <a:pt x="1665" y="2376"/>
                </a:lnTo>
                <a:lnTo>
                  <a:pt x="1660" y="2371"/>
                </a:lnTo>
                <a:lnTo>
                  <a:pt x="1656" y="2320"/>
                </a:lnTo>
                <a:lnTo>
                  <a:pt x="1652" y="2318"/>
                </a:lnTo>
                <a:lnTo>
                  <a:pt x="1648" y="2319"/>
                </a:lnTo>
                <a:lnTo>
                  <a:pt x="1646" y="2319"/>
                </a:lnTo>
                <a:lnTo>
                  <a:pt x="1646" y="2316"/>
                </a:lnTo>
                <a:lnTo>
                  <a:pt x="1644" y="2308"/>
                </a:lnTo>
                <a:lnTo>
                  <a:pt x="1643" y="2301"/>
                </a:lnTo>
                <a:lnTo>
                  <a:pt x="1642" y="2293"/>
                </a:lnTo>
                <a:lnTo>
                  <a:pt x="1638" y="2289"/>
                </a:lnTo>
                <a:lnTo>
                  <a:pt x="1635" y="2289"/>
                </a:lnTo>
                <a:lnTo>
                  <a:pt x="1633" y="2289"/>
                </a:lnTo>
                <a:lnTo>
                  <a:pt x="1630" y="2282"/>
                </a:lnTo>
                <a:lnTo>
                  <a:pt x="1628" y="2278"/>
                </a:lnTo>
                <a:lnTo>
                  <a:pt x="1623" y="2275"/>
                </a:lnTo>
                <a:lnTo>
                  <a:pt x="1619" y="2275"/>
                </a:lnTo>
                <a:lnTo>
                  <a:pt x="1617" y="2270"/>
                </a:lnTo>
                <a:lnTo>
                  <a:pt x="1617" y="2266"/>
                </a:lnTo>
                <a:lnTo>
                  <a:pt x="1618" y="2263"/>
                </a:lnTo>
                <a:lnTo>
                  <a:pt x="1619" y="2261"/>
                </a:lnTo>
                <a:lnTo>
                  <a:pt x="1629" y="2280"/>
                </a:lnTo>
                <a:lnTo>
                  <a:pt x="1633" y="2280"/>
                </a:lnTo>
                <a:lnTo>
                  <a:pt x="1634" y="2280"/>
                </a:lnTo>
                <a:lnTo>
                  <a:pt x="1635" y="2280"/>
                </a:lnTo>
                <a:lnTo>
                  <a:pt x="1638" y="2280"/>
                </a:lnTo>
                <a:lnTo>
                  <a:pt x="1640" y="2285"/>
                </a:lnTo>
                <a:lnTo>
                  <a:pt x="1642" y="2290"/>
                </a:lnTo>
                <a:lnTo>
                  <a:pt x="1643" y="2292"/>
                </a:lnTo>
                <a:lnTo>
                  <a:pt x="1646" y="2293"/>
                </a:lnTo>
                <a:lnTo>
                  <a:pt x="1669" y="2293"/>
                </a:lnTo>
                <a:lnTo>
                  <a:pt x="1671" y="2299"/>
                </a:lnTo>
                <a:lnTo>
                  <a:pt x="1674" y="2303"/>
                </a:lnTo>
                <a:lnTo>
                  <a:pt x="1675" y="2305"/>
                </a:lnTo>
                <a:lnTo>
                  <a:pt x="1678" y="2307"/>
                </a:lnTo>
                <a:lnTo>
                  <a:pt x="1701" y="2307"/>
                </a:lnTo>
                <a:lnTo>
                  <a:pt x="1702" y="2313"/>
                </a:lnTo>
                <a:lnTo>
                  <a:pt x="1703" y="2317"/>
                </a:lnTo>
                <a:lnTo>
                  <a:pt x="1703" y="2320"/>
                </a:lnTo>
                <a:lnTo>
                  <a:pt x="1705" y="2325"/>
                </a:lnTo>
                <a:lnTo>
                  <a:pt x="1709" y="2325"/>
                </a:lnTo>
                <a:lnTo>
                  <a:pt x="1710" y="2325"/>
                </a:lnTo>
                <a:lnTo>
                  <a:pt x="1715" y="2325"/>
                </a:lnTo>
                <a:lnTo>
                  <a:pt x="1716" y="2328"/>
                </a:lnTo>
                <a:lnTo>
                  <a:pt x="1717" y="2334"/>
                </a:lnTo>
                <a:lnTo>
                  <a:pt x="1718" y="2337"/>
                </a:lnTo>
                <a:lnTo>
                  <a:pt x="1724" y="2339"/>
                </a:lnTo>
                <a:lnTo>
                  <a:pt x="1747" y="2339"/>
                </a:lnTo>
                <a:lnTo>
                  <a:pt x="1747" y="2342"/>
                </a:lnTo>
                <a:lnTo>
                  <a:pt x="1748" y="2347"/>
                </a:lnTo>
                <a:lnTo>
                  <a:pt x="1750" y="2350"/>
                </a:lnTo>
                <a:lnTo>
                  <a:pt x="1755" y="2352"/>
                </a:lnTo>
                <a:lnTo>
                  <a:pt x="1770" y="2352"/>
                </a:lnTo>
                <a:lnTo>
                  <a:pt x="1771" y="2355"/>
                </a:lnTo>
                <a:lnTo>
                  <a:pt x="1772" y="2361"/>
                </a:lnTo>
                <a:lnTo>
                  <a:pt x="1772" y="2364"/>
                </a:lnTo>
                <a:lnTo>
                  <a:pt x="1774" y="2366"/>
                </a:lnTo>
                <a:lnTo>
                  <a:pt x="1778" y="2367"/>
                </a:lnTo>
                <a:lnTo>
                  <a:pt x="1782" y="2368"/>
                </a:lnTo>
                <a:lnTo>
                  <a:pt x="1784" y="2368"/>
                </a:lnTo>
                <a:lnTo>
                  <a:pt x="1787" y="2371"/>
                </a:lnTo>
                <a:lnTo>
                  <a:pt x="1792" y="2376"/>
                </a:lnTo>
                <a:lnTo>
                  <a:pt x="1797" y="2379"/>
                </a:lnTo>
                <a:lnTo>
                  <a:pt x="1814" y="2384"/>
                </a:lnTo>
                <a:lnTo>
                  <a:pt x="1819" y="2390"/>
                </a:lnTo>
                <a:lnTo>
                  <a:pt x="1824" y="2394"/>
                </a:lnTo>
                <a:lnTo>
                  <a:pt x="1860" y="2398"/>
                </a:lnTo>
                <a:lnTo>
                  <a:pt x="1861" y="2401"/>
                </a:lnTo>
                <a:lnTo>
                  <a:pt x="1863" y="2406"/>
                </a:lnTo>
                <a:lnTo>
                  <a:pt x="1864" y="2409"/>
                </a:lnTo>
                <a:lnTo>
                  <a:pt x="1869" y="2411"/>
                </a:lnTo>
                <a:lnTo>
                  <a:pt x="1873" y="2412"/>
                </a:lnTo>
                <a:lnTo>
                  <a:pt x="1880" y="2412"/>
                </a:lnTo>
                <a:lnTo>
                  <a:pt x="1887" y="2411"/>
                </a:lnTo>
                <a:lnTo>
                  <a:pt x="1892" y="2417"/>
                </a:lnTo>
                <a:lnTo>
                  <a:pt x="1892" y="2539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920" y="40910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69320" y="1881360"/>
            <a:ext cx="175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 rot="21180000">
            <a:off x="5181480" y="1447920"/>
            <a:ext cx="1600200" cy="84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u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2" name=""/>
          <p:cNvSpPr/>
          <p:nvPr/>
        </p:nvSpPr>
        <p:spPr>
          <a:xfrm>
            <a:off x="4393080" y="34290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 Legi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39F8-1231-4A72-8FB6-5B745F5D97A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6A9B4BB-1CCA-4C34-A87F-D3865BA0B6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76320" y="1719360"/>
            <a:ext cx="4038480" cy="4071960"/>
            <a:chOff x="76320" y="1719360"/>
            <a:chExt cx="4038480" cy="4071960"/>
          </a:xfrm>
        </p:grpSpPr>
        <p:sp>
          <p:nvSpPr>
            <p:cNvPr id="434" name=""/>
            <p:cNvSpPr/>
            <p:nvPr/>
          </p:nvSpPr>
          <p:spPr>
            <a:xfrm>
              <a:off x="76320" y="1751040"/>
              <a:ext cx="4038480" cy="4040280"/>
            </a:xfrm>
            <a:custGeom>
              <a:avLst/>
              <a:gdLst/>
              <a:ahLst/>
              <a:rect l="l" t="t" r="r" b="b"/>
              <a:pathLst>
                <a:path w="2544" h="2545">
                  <a:moveTo>
                    <a:pt x="2544" y="128"/>
                  </a:moveTo>
                  <a:lnTo>
                    <a:pt x="2059" y="2545"/>
                  </a:lnTo>
                  <a:lnTo>
                    <a:pt x="443" y="2545"/>
                  </a:lnTo>
                  <a:lnTo>
                    <a:pt x="0" y="0"/>
                  </a:lnTo>
                  <a:lnTo>
                    <a:pt x="2544" y="128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0880" y="1782720"/>
              <a:ext cx="3973320" cy="3979800"/>
            </a:xfrm>
            <a:custGeom>
              <a:avLst/>
              <a:gdLst/>
              <a:ahLst/>
              <a:rect l="l" t="t" r="r" b="b"/>
              <a:pathLst>
                <a:path w="2503" h="2507">
                  <a:moveTo>
                    <a:pt x="435" y="2507"/>
                  </a:moveTo>
                  <a:lnTo>
                    <a:pt x="2024" y="2507"/>
                  </a:lnTo>
                  <a:lnTo>
                    <a:pt x="2503" y="125"/>
                  </a:lnTo>
                  <a:lnTo>
                    <a:pt x="0" y="0"/>
                  </a:lnTo>
                  <a:lnTo>
                    <a:pt x="435" y="25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8760" y="1839960"/>
              <a:ext cx="3872880" cy="3862440"/>
            </a:xfrm>
            <a:custGeom>
              <a:avLst/>
              <a:gdLst/>
              <a:ahLst/>
              <a:rect l="l" t="t" r="r" b="b"/>
              <a:pathLst>
                <a:path w="2440" h="2433">
                  <a:moveTo>
                    <a:pt x="2440" y="122"/>
                  </a:moveTo>
                  <a:lnTo>
                    <a:pt x="2436" y="137"/>
                  </a:lnTo>
                  <a:lnTo>
                    <a:pt x="1975" y="2433"/>
                  </a:lnTo>
                  <a:lnTo>
                    <a:pt x="419" y="2433"/>
                  </a:lnTo>
                  <a:lnTo>
                    <a:pt x="4" y="19"/>
                  </a:lnTo>
                  <a:lnTo>
                    <a:pt x="0" y="0"/>
                  </a:lnTo>
                  <a:lnTo>
                    <a:pt x="2440" y="122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9520" y="1887480"/>
              <a:ext cx="3773160" cy="3768840"/>
            </a:xfrm>
            <a:custGeom>
              <a:avLst/>
              <a:gdLst/>
              <a:ahLst/>
              <a:rect l="l" t="t" r="r" b="b"/>
              <a:pathLst>
                <a:path w="2377" h="2374">
                  <a:moveTo>
                    <a:pt x="407" y="2374"/>
                  </a:moveTo>
                  <a:lnTo>
                    <a:pt x="1923" y="2374"/>
                  </a:lnTo>
                  <a:lnTo>
                    <a:pt x="2377" y="117"/>
                  </a:lnTo>
                  <a:lnTo>
                    <a:pt x="0" y="0"/>
                  </a:lnTo>
                  <a:lnTo>
                    <a:pt x="407" y="23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0800" y="1974960"/>
              <a:ext cx="3628800" cy="3592440"/>
            </a:xfrm>
            <a:custGeom>
              <a:avLst/>
              <a:gdLst/>
              <a:ahLst/>
              <a:rect l="l" t="t" r="r" b="b"/>
              <a:pathLst>
                <a:path w="2286" h="2263">
                  <a:moveTo>
                    <a:pt x="2286" y="110"/>
                  </a:moveTo>
                  <a:lnTo>
                    <a:pt x="2280" y="135"/>
                  </a:lnTo>
                  <a:lnTo>
                    <a:pt x="1854" y="2245"/>
                  </a:lnTo>
                  <a:lnTo>
                    <a:pt x="1852" y="2263"/>
                  </a:lnTo>
                  <a:lnTo>
                    <a:pt x="384" y="2263"/>
                  </a:lnTo>
                  <a:lnTo>
                    <a:pt x="380" y="2245"/>
                  </a:lnTo>
                  <a:lnTo>
                    <a:pt x="7" y="28"/>
                  </a:lnTo>
                  <a:lnTo>
                    <a:pt x="0" y="0"/>
                  </a:lnTo>
                  <a:lnTo>
                    <a:pt x="2286" y="11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6960" y="2077920"/>
              <a:ext cx="2748960" cy="2775240"/>
            </a:xfrm>
            <a:custGeom>
              <a:avLst/>
              <a:gdLst/>
              <a:ahLst/>
              <a:rect l="l" t="t" r="r" b="b"/>
              <a:pathLst>
                <a:path w="1732" h="1748">
                  <a:moveTo>
                    <a:pt x="866" y="1748"/>
                  </a:moveTo>
                  <a:lnTo>
                    <a:pt x="910" y="1746"/>
                  </a:lnTo>
                  <a:lnTo>
                    <a:pt x="954" y="1744"/>
                  </a:lnTo>
                  <a:lnTo>
                    <a:pt x="998" y="1738"/>
                  </a:lnTo>
                  <a:lnTo>
                    <a:pt x="1041" y="1729"/>
                  </a:lnTo>
                  <a:lnTo>
                    <a:pt x="1082" y="1721"/>
                  </a:lnTo>
                  <a:lnTo>
                    <a:pt x="1124" y="1708"/>
                  </a:lnTo>
                  <a:lnTo>
                    <a:pt x="1164" y="1694"/>
                  </a:lnTo>
                  <a:lnTo>
                    <a:pt x="1204" y="1679"/>
                  </a:lnTo>
                  <a:lnTo>
                    <a:pt x="1242" y="1662"/>
                  </a:lnTo>
                  <a:lnTo>
                    <a:pt x="1279" y="1642"/>
                  </a:lnTo>
                  <a:lnTo>
                    <a:pt x="1315" y="1621"/>
                  </a:lnTo>
                  <a:lnTo>
                    <a:pt x="1350" y="1598"/>
                  </a:lnTo>
                  <a:lnTo>
                    <a:pt x="1384" y="1574"/>
                  </a:lnTo>
                  <a:lnTo>
                    <a:pt x="1418" y="1549"/>
                  </a:lnTo>
                  <a:lnTo>
                    <a:pt x="1449" y="1521"/>
                  </a:lnTo>
                  <a:lnTo>
                    <a:pt x="1478" y="1492"/>
                  </a:lnTo>
                  <a:lnTo>
                    <a:pt x="1507" y="1461"/>
                  </a:lnTo>
                  <a:lnTo>
                    <a:pt x="1534" y="1430"/>
                  </a:lnTo>
                  <a:lnTo>
                    <a:pt x="1560" y="1397"/>
                  </a:lnTo>
                  <a:lnTo>
                    <a:pt x="1585" y="1363"/>
                  </a:lnTo>
                  <a:lnTo>
                    <a:pt x="1607" y="1327"/>
                  </a:lnTo>
                  <a:lnTo>
                    <a:pt x="1627" y="1291"/>
                  </a:lnTo>
                  <a:lnTo>
                    <a:pt x="1647" y="1253"/>
                  </a:lnTo>
                  <a:lnTo>
                    <a:pt x="1665" y="1215"/>
                  </a:lnTo>
                  <a:lnTo>
                    <a:pt x="1679" y="1175"/>
                  </a:lnTo>
                  <a:lnTo>
                    <a:pt x="1693" y="1134"/>
                  </a:lnTo>
                  <a:lnTo>
                    <a:pt x="1705" y="1093"/>
                  </a:lnTo>
                  <a:lnTo>
                    <a:pt x="1714" y="1051"/>
                  </a:lnTo>
                  <a:lnTo>
                    <a:pt x="1722" y="1007"/>
                  </a:lnTo>
                  <a:lnTo>
                    <a:pt x="1728" y="963"/>
                  </a:lnTo>
                  <a:lnTo>
                    <a:pt x="1731" y="920"/>
                  </a:lnTo>
                  <a:lnTo>
                    <a:pt x="1732" y="874"/>
                  </a:lnTo>
                  <a:lnTo>
                    <a:pt x="1731" y="829"/>
                  </a:lnTo>
                  <a:lnTo>
                    <a:pt x="1728" y="786"/>
                  </a:lnTo>
                  <a:lnTo>
                    <a:pt x="1722" y="742"/>
                  </a:lnTo>
                  <a:lnTo>
                    <a:pt x="1714" y="698"/>
                  </a:lnTo>
                  <a:lnTo>
                    <a:pt x="1705" y="656"/>
                  </a:lnTo>
                  <a:lnTo>
                    <a:pt x="1693" y="615"/>
                  </a:lnTo>
                  <a:lnTo>
                    <a:pt x="1679" y="574"/>
                  </a:lnTo>
                  <a:lnTo>
                    <a:pt x="1665" y="534"/>
                  </a:lnTo>
                  <a:lnTo>
                    <a:pt x="1647" y="495"/>
                  </a:lnTo>
                  <a:lnTo>
                    <a:pt x="1627" y="458"/>
                  </a:lnTo>
                  <a:lnTo>
                    <a:pt x="1607" y="422"/>
                  </a:lnTo>
                  <a:lnTo>
                    <a:pt x="1585" y="386"/>
                  </a:lnTo>
                  <a:lnTo>
                    <a:pt x="1560" y="351"/>
                  </a:lnTo>
                  <a:lnTo>
                    <a:pt x="1534" y="319"/>
                  </a:lnTo>
                  <a:lnTo>
                    <a:pt x="1507" y="286"/>
                  </a:lnTo>
                  <a:lnTo>
                    <a:pt x="1478" y="257"/>
                  </a:lnTo>
                  <a:lnTo>
                    <a:pt x="1449" y="227"/>
                  </a:lnTo>
                  <a:lnTo>
                    <a:pt x="1418" y="200"/>
                  </a:lnTo>
                  <a:lnTo>
                    <a:pt x="1384" y="173"/>
                  </a:lnTo>
                  <a:lnTo>
                    <a:pt x="1350" y="149"/>
                  </a:lnTo>
                  <a:lnTo>
                    <a:pt x="1315" y="127"/>
                  </a:lnTo>
                  <a:lnTo>
                    <a:pt x="1279" y="106"/>
                  </a:lnTo>
                  <a:lnTo>
                    <a:pt x="1242" y="86"/>
                  </a:lnTo>
                  <a:lnTo>
                    <a:pt x="1204" y="69"/>
                  </a:lnTo>
                  <a:lnTo>
                    <a:pt x="1164" y="53"/>
                  </a:lnTo>
                  <a:lnTo>
                    <a:pt x="1124" y="39"/>
                  </a:lnTo>
                  <a:lnTo>
                    <a:pt x="1082" y="28"/>
                  </a:lnTo>
                  <a:lnTo>
                    <a:pt x="1041" y="18"/>
                  </a:lnTo>
                  <a:lnTo>
                    <a:pt x="998" y="10"/>
                  </a:lnTo>
                  <a:lnTo>
                    <a:pt x="954" y="4"/>
                  </a:lnTo>
                  <a:lnTo>
                    <a:pt x="910" y="1"/>
                  </a:lnTo>
                  <a:lnTo>
                    <a:pt x="866" y="0"/>
                  </a:lnTo>
                  <a:lnTo>
                    <a:pt x="822" y="1"/>
                  </a:lnTo>
                  <a:lnTo>
                    <a:pt x="778" y="4"/>
                  </a:lnTo>
                  <a:lnTo>
                    <a:pt x="734" y="10"/>
                  </a:lnTo>
                  <a:lnTo>
                    <a:pt x="691" y="18"/>
                  </a:lnTo>
                  <a:lnTo>
                    <a:pt x="650" y="28"/>
                  </a:lnTo>
                  <a:lnTo>
                    <a:pt x="608" y="39"/>
                  </a:lnTo>
                  <a:lnTo>
                    <a:pt x="568" y="53"/>
                  </a:lnTo>
                  <a:lnTo>
                    <a:pt x="530" y="69"/>
                  </a:lnTo>
                  <a:lnTo>
                    <a:pt x="491" y="86"/>
                  </a:lnTo>
                  <a:lnTo>
                    <a:pt x="453" y="106"/>
                  </a:lnTo>
                  <a:lnTo>
                    <a:pt x="417" y="127"/>
                  </a:lnTo>
                  <a:lnTo>
                    <a:pt x="382" y="149"/>
                  </a:lnTo>
                  <a:lnTo>
                    <a:pt x="348" y="173"/>
                  </a:lnTo>
                  <a:lnTo>
                    <a:pt x="316" y="200"/>
                  </a:lnTo>
                  <a:lnTo>
                    <a:pt x="284" y="227"/>
                  </a:lnTo>
                  <a:lnTo>
                    <a:pt x="254" y="257"/>
                  </a:lnTo>
                  <a:lnTo>
                    <a:pt x="225" y="286"/>
                  </a:lnTo>
                  <a:lnTo>
                    <a:pt x="198" y="319"/>
                  </a:lnTo>
                  <a:lnTo>
                    <a:pt x="172" y="351"/>
                  </a:lnTo>
                  <a:lnTo>
                    <a:pt x="148" y="386"/>
                  </a:lnTo>
                  <a:lnTo>
                    <a:pt x="126" y="422"/>
                  </a:lnTo>
                  <a:lnTo>
                    <a:pt x="105" y="458"/>
                  </a:lnTo>
                  <a:lnTo>
                    <a:pt x="85" y="495"/>
                  </a:lnTo>
                  <a:lnTo>
                    <a:pt x="69" y="534"/>
                  </a:lnTo>
                  <a:lnTo>
                    <a:pt x="53" y="574"/>
                  </a:lnTo>
                  <a:lnTo>
                    <a:pt x="39" y="615"/>
                  </a:lnTo>
                  <a:lnTo>
                    <a:pt x="27" y="656"/>
                  </a:lnTo>
                  <a:lnTo>
                    <a:pt x="18" y="698"/>
                  </a:lnTo>
                  <a:lnTo>
                    <a:pt x="10" y="742"/>
                  </a:lnTo>
                  <a:lnTo>
                    <a:pt x="4" y="786"/>
                  </a:lnTo>
                  <a:lnTo>
                    <a:pt x="1" y="829"/>
                  </a:lnTo>
                  <a:lnTo>
                    <a:pt x="0" y="874"/>
                  </a:lnTo>
                  <a:lnTo>
                    <a:pt x="1" y="920"/>
                  </a:lnTo>
                  <a:lnTo>
                    <a:pt x="4" y="963"/>
                  </a:lnTo>
                  <a:lnTo>
                    <a:pt x="10" y="1007"/>
                  </a:lnTo>
                  <a:lnTo>
                    <a:pt x="18" y="1051"/>
                  </a:lnTo>
                  <a:lnTo>
                    <a:pt x="27" y="1093"/>
                  </a:lnTo>
                  <a:lnTo>
                    <a:pt x="39" y="1134"/>
                  </a:lnTo>
                  <a:lnTo>
                    <a:pt x="53" y="1175"/>
                  </a:lnTo>
                  <a:lnTo>
                    <a:pt x="69" y="1215"/>
                  </a:lnTo>
                  <a:lnTo>
                    <a:pt x="85" y="1253"/>
                  </a:lnTo>
                  <a:lnTo>
                    <a:pt x="105" y="1291"/>
                  </a:lnTo>
                  <a:lnTo>
                    <a:pt x="126" y="1327"/>
                  </a:lnTo>
                  <a:lnTo>
                    <a:pt x="148" y="1363"/>
                  </a:lnTo>
                  <a:lnTo>
                    <a:pt x="172" y="1397"/>
                  </a:lnTo>
                  <a:lnTo>
                    <a:pt x="198" y="1430"/>
                  </a:lnTo>
                  <a:lnTo>
                    <a:pt x="225" y="1461"/>
                  </a:lnTo>
                  <a:lnTo>
                    <a:pt x="254" y="1492"/>
                  </a:lnTo>
                  <a:lnTo>
                    <a:pt x="284" y="1521"/>
                  </a:lnTo>
                  <a:lnTo>
                    <a:pt x="316" y="1549"/>
                  </a:lnTo>
                  <a:lnTo>
                    <a:pt x="348" y="1574"/>
                  </a:lnTo>
                  <a:lnTo>
                    <a:pt x="382" y="1598"/>
                  </a:lnTo>
                  <a:lnTo>
                    <a:pt x="417" y="1621"/>
                  </a:lnTo>
                  <a:lnTo>
                    <a:pt x="453" y="1642"/>
                  </a:lnTo>
                  <a:lnTo>
                    <a:pt x="491" y="1662"/>
                  </a:lnTo>
                  <a:lnTo>
                    <a:pt x="530" y="1679"/>
                  </a:lnTo>
                  <a:lnTo>
                    <a:pt x="568" y="1694"/>
                  </a:lnTo>
                  <a:lnTo>
                    <a:pt x="608" y="1708"/>
                  </a:lnTo>
                  <a:lnTo>
                    <a:pt x="650" y="1721"/>
                  </a:lnTo>
                  <a:lnTo>
                    <a:pt x="691" y="1729"/>
                  </a:lnTo>
                  <a:lnTo>
                    <a:pt x="734" y="1738"/>
                  </a:lnTo>
                  <a:lnTo>
                    <a:pt x="778" y="1744"/>
                  </a:lnTo>
                  <a:lnTo>
                    <a:pt x="822" y="1746"/>
                  </a:lnTo>
                  <a:lnTo>
                    <a:pt x="866" y="1748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2800" y="2093760"/>
              <a:ext cx="2717280" cy="2743200"/>
            </a:xfrm>
            <a:custGeom>
              <a:avLst/>
              <a:gdLst/>
              <a:ahLst/>
              <a:rect l="l" t="t" r="r" b="b"/>
              <a:pathLst>
                <a:path w="1712" h="1728">
                  <a:moveTo>
                    <a:pt x="856" y="1728"/>
                  </a:moveTo>
                  <a:lnTo>
                    <a:pt x="900" y="1727"/>
                  </a:lnTo>
                  <a:lnTo>
                    <a:pt x="944" y="1724"/>
                  </a:lnTo>
                  <a:lnTo>
                    <a:pt x="987" y="1718"/>
                  </a:lnTo>
                  <a:lnTo>
                    <a:pt x="1028" y="1711"/>
                  </a:lnTo>
                  <a:lnTo>
                    <a:pt x="1071" y="1701"/>
                  </a:lnTo>
                  <a:lnTo>
                    <a:pt x="1111" y="1688"/>
                  </a:lnTo>
                  <a:lnTo>
                    <a:pt x="1151" y="1676"/>
                  </a:lnTo>
                  <a:lnTo>
                    <a:pt x="1190" y="1660"/>
                  </a:lnTo>
                  <a:lnTo>
                    <a:pt x="1228" y="1643"/>
                  </a:lnTo>
                  <a:lnTo>
                    <a:pt x="1264" y="1624"/>
                  </a:lnTo>
                  <a:lnTo>
                    <a:pt x="1300" y="1602"/>
                  </a:lnTo>
                  <a:lnTo>
                    <a:pt x="1335" y="1580"/>
                  </a:lnTo>
                  <a:lnTo>
                    <a:pt x="1369" y="1556"/>
                  </a:lnTo>
                  <a:lnTo>
                    <a:pt x="1401" y="1530"/>
                  </a:lnTo>
                  <a:lnTo>
                    <a:pt x="1432" y="1504"/>
                  </a:lnTo>
                  <a:lnTo>
                    <a:pt x="1462" y="1475"/>
                  </a:lnTo>
                  <a:lnTo>
                    <a:pt x="1490" y="1444"/>
                  </a:lnTo>
                  <a:lnTo>
                    <a:pt x="1516" y="1413"/>
                  </a:lnTo>
                  <a:lnTo>
                    <a:pt x="1542" y="1381"/>
                  </a:lnTo>
                  <a:lnTo>
                    <a:pt x="1566" y="1347"/>
                  </a:lnTo>
                  <a:lnTo>
                    <a:pt x="1589" y="1312"/>
                  </a:lnTo>
                  <a:lnTo>
                    <a:pt x="1608" y="1276"/>
                  </a:lnTo>
                  <a:lnTo>
                    <a:pt x="1628" y="1238"/>
                  </a:lnTo>
                  <a:lnTo>
                    <a:pt x="1645" y="1200"/>
                  </a:lnTo>
                  <a:lnTo>
                    <a:pt x="1660" y="1161"/>
                  </a:lnTo>
                  <a:lnTo>
                    <a:pt x="1673" y="1121"/>
                  </a:lnTo>
                  <a:lnTo>
                    <a:pt x="1685" y="1080"/>
                  </a:lnTo>
                  <a:lnTo>
                    <a:pt x="1695" y="1038"/>
                  </a:lnTo>
                  <a:lnTo>
                    <a:pt x="1702" y="996"/>
                  </a:lnTo>
                  <a:lnTo>
                    <a:pt x="1708" y="953"/>
                  </a:lnTo>
                  <a:lnTo>
                    <a:pt x="1711" y="908"/>
                  </a:lnTo>
                  <a:lnTo>
                    <a:pt x="1712" y="864"/>
                  </a:lnTo>
                  <a:lnTo>
                    <a:pt x="1711" y="821"/>
                  </a:lnTo>
                  <a:lnTo>
                    <a:pt x="1708" y="776"/>
                  </a:lnTo>
                  <a:lnTo>
                    <a:pt x="1702" y="733"/>
                  </a:lnTo>
                  <a:lnTo>
                    <a:pt x="1695" y="691"/>
                  </a:lnTo>
                  <a:lnTo>
                    <a:pt x="1685" y="649"/>
                  </a:lnTo>
                  <a:lnTo>
                    <a:pt x="1673" y="608"/>
                  </a:lnTo>
                  <a:lnTo>
                    <a:pt x="1660" y="567"/>
                  </a:lnTo>
                  <a:lnTo>
                    <a:pt x="1645" y="529"/>
                  </a:lnTo>
                  <a:lnTo>
                    <a:pt x="1628" y="489"/>
                  </a:lnTo>
                  <a:lnTo>
                    <a:pt x="1608" y="453"/>
                  </a:lnTo>
                  <a:lnTo>
                    <a:pt x="1589" y="416"/>
                  </a:lnTo>
                  <a:lnTo>
                    <a:pt x="1566" y="382"/>
                  </a:lnTo>
                  <a:lnTo>
                    <a:pt x="1542" y="347"/>
                  </a:lnTo>
                  <a:lnTo>
                    <a:pt x="1516" y="314"/>
                  </a:lnTo>
                  <a:lnTo>
                    <a:pt x="1490" y="283"/>
                  </a:lnTo>
                  <a:lnTo>
                    <a:pt x="1462" y="254"/>
                  </a:lnTo>
                  <a:lnTo>
                    <a:pt x="1432" y="224"/>
                  </a:lnTo>
                  <a:lnTo>
                    <a:pt x="1401" y="197"/>
                  </a:lnTo>
                  <a:lnTo>
                    <a:pt x="1369" y="172"/>
                  </a:lnTo>
                  <a:lnTo>
                    <a:pt x="1335" y="148"/>
                  </a:lnTo>
                  <a:lnTo>
                    <a:pt x="1300" y="125"/>
                  </a:lnTo>
                  <a:lnTo>
                    <a:pt x="1264" y="104"/>
                  </a:lnTo>
                  <a:lnTo>
                    <a:pt x="1228" y="86"/>
                  </a:lnTo>
                  <a:lnTo>
                    <a:pt x="1190" y="67"/>
                  </a:lnTo>
                  <a:lnTo>
                    <a:pt x="1151" y="52"/>
                  </a:lnTo>
                  <a:lnTo>
                    <a:pt x="1111" y="39"/>
                  </a:lnTo>
                  <a:lnTo>
                    <a:pt x="1071" y="26"/>
                  </a:lnTo>
                  <a:lnTo>
                    <a:pt x="1028" y="17"/>
                  </a:lnTo>
                  <a:lnTo>
                    <a:pt x="987" y="9"/>
                  </a:lnTo>
                  <a:lnTo>
                    <a:pt x="944" y="4"/>
                  </a:lnTo>
                  <a:lnTo>
                    <a:pt x="900" y="1"/>
                  </a:lnTo>
                  <a:lnTo>
                    <a:pt x="856" y="0"/>
                  </a:lnTo>
                  <a:lnTo>
                    <a:pt x="812" y="1"/>
                  </a:lnTo>
                  <a:lnTo>
                    <a:pt x="768" y="4"/>
                  </a:lnTo>
                  <a:lnTo>
                    <a:pt x="725" y="9"/>
                  </a:lnTo>
                  <a:lnTo>
                    <a:pt x="684" y="17"/>
                  </a:lnTo>
                  <a:lnTo>
                    <a:pt x="642" y="26"/>
                  </a:lnTo>
                  <a:lnTo>
                    <a:pt x="601" y="39"/>
                  </a:lnTo>
                  <a:lnTo>
                    <a:pt x="562" y="52"/>
                  </a:lnTo>
                  <a:lnTo>
                    <a:pt x="523" y="67"/>
                  </a:lnTo>
                  <a:lnTo>
                    <a:pt x="485" y="86"/>
                  </a:lnTo>
                  <a:lnTo>
                    <a:pt x="448" y="104"/>
                  </a:lnTo>
                  <a:lnTo>
                    <a:pt x="412" y="125"/>
                  </a:lnTo>
                  <a:lnTo>
                    <a:pt x="377" y="148"/>
                  </a:lnTo>
                  <a:lnTo>
                    <a:pt x="345" y="172"/>
                  </a:lnTo>
                  <a:lnTo>
                    <a:pt x="312" y="197"/>
                  </a:lnTo>
                  <a:lnTo>
                    <a:pt x="281" y="224"/>
                  </a:lnTo>
                  <a:lnTo>
                    <a:pt x="252" y="254"/>
                  </a:lnTo>
                  <a:lnTo>
                    <a:pt x="223" y="283"/>
                  </a:lnTo>
                  <a:lnTo>
                    <a:pt x="196" y="314"/>
                  </a:lnTo>
                  <a:lnTo>
                    <a:pt x="170" y="347"/>
                  </a:lnTo>
                  <a:lnTo>
                    <a:pt x="147" y="382"/>
                  </a:lnTo>
                  <a:lnTo>
                    <a:pt x="125" y="416"/>
                  </a:lnTo>
                  <a:lnTo>
                    <a:pt x="104" y="453"/>
                  </a:lnTo>
                  <a:lnTo>
                    <a:pt x="84" y="489"/>
                  </a:lnTo>
                  <a:lnTo>
                    <a:pt x="68" y="529"/>
                  </a:lnTo>
                  <a:lnTo>
                    <a:pt x="52" y="567"/>
                  </a:lnTo>
                  <a:lnTo>
                    <a:pt x="39" y="608"/>
                  </a:lnTo>
                  <a:lnTo>
                    <a:pt x="28" y="649"/>
                  </a:lnTo>
                  <a:lnTo>
                    <a:pt x="17" y="691"/>
                  </a:lnTo>
                  <a:lnTo>
                    <a:pt x="11" y="733"/>
                  </a:lnTo>
                  <a:lnTo>
                    <a:pt x="4" y="776"/>
                  </a:lnTo>
                  <a:lnTo>
                    <a:pt x="2" y="821"/>
                  </a:lnTo>
                  <a:lnTo>
                    <a:pt x="0" y="864"/>
                  </a:lnTo>
                  <a:lnTo>
                    <a:pt x="2" y="908"/>
                  </a:lnTo>
                  <a:lnTo>
                    <a:pt x="4" y="953"/>
                  </a:lnTo>
                  <a:lnTo>
                    <a:pt x="11" y="996"/>
                  </a:lnTo>
                  <a:lnTo>
                    <a:pt x="17" y="1038"/>
                  </a:lnTo>
                  <a:lnTo>
                    <a:pt x="28" y="1080"/>
                  </a:lnTo>
                  <a:lnTo>
                    <a:pt x="39" y="1121"/>
                  </a:lnTo>
                  <a:lnTo>
                    <a:pt x="52" y="1161"/>
                  </a:lnTo>
                  <a:lnTo>
                    <a:pt x="68" y="1200"/>
                  </a:lnTo>
                  <a:lnTo>
                    <a:pt x="84" y="1238"/>
                  </a:lnTo>
                  <a:lnTo>
                    <a:pt x="104" y="1276"/>
                  </a:lnTo>
                  <a:lnTo>
                    <a:pt x="125" y="1312"/>
                  </a:lnTo>
                  <a:lnTo>
                    <a:pt x="147" y="1347"/>
                  </a:lnTo>
                  <a:lnTo>
                    <a:pt x="170" y="1381"/>
                  </a:lnTo>
                  <a:lnTo>
                    <a:pt x="196" y="1413"/>
                  </a:lnTo>
                  <a:lnTo>
                    <a:pt x="223" y="1444"/>
                  </a:lnTo>
                  <a:lnTo>
                    <a:pt x="252" y="1475"/>
                  </a:lnTo>
                  <a:lnTo>
                    <a:pt x="281" y="1504"/>
                  </a:lnTo>
                  <a:lnTo>
                    <a:pt x="312" y="1530"/>
                  </a:lnTo>
                  <a:lnTo>
                    <a:pt x="345" y="1556"/>
                  </a:lnTo>
                  <a:lnTo>
                    <a:pt x="377" y="1580"/>
                  </a:lnTo>
                  <a:lnTo>
                    <a:pt x="412" y="1602"/>
                  </a:lnTo>
                  <a:lnTo>
                    <a:pt x="448" y="1624"/>
                  </a:lnTo>
                  <a:lnTo>
                    <a:pt x="485" y="1643"/>
                  </a:lnTo>
                  <a:lnTo>
                    <a:pt x="523" y="1660"/>
                  </a:lnTo>
                  <a:lnTo>
                    <a:pt x="562" y="1676"/>
                  </a:lnTo>
                  <a:lnTo>
                    <a:pt x="601" y="1688"/>
                  </a:lnTo>
                  <a:lnTo>
                    <a:pt x="642" y="1701"/>
                  </a:lnTo>
                  <a:lnTo>
                    <a:pt x="684" y="1711"/>
                  </a:lnTo>
                  <a:lnTo>
                    <a:pt x="725" y="1718"/>
                  </a:lnTo>
                  <a:lnTo>
                    <a:pt x="768" y="1724"/>
                  </a:lnTo>
                  <a:lnTo>
                    <a:pt x="812" y="1727"/>
                  </a:lnTo>
                  <a:lnTo>
                    <a:pt x="856" y="1728"/>
                  </a:lnTo>
                  <a:close/>
                </a:path>
              </a:pathLst>
            </a:custGeom>
            <a:solidFill>
              <a:srgbClr val="b5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6840" y="2108160"/>
              <a:ext cx="2688840" cy="2712960"/>
            </a:xfrm>
            <a:custGeom>
              <a:avLst/>
              <a:gdLst/>
              <a:ahLst/>
              <a:rect l="l" t="t" r="r" b="b"/>
              <a:pathLst>
                <a:path w="1694" h="1709">
                  <a:moveTo>
                    <a:pt x="847" y="1709"/>
                  </a:moveTo>
                  <a:lnTo>
                    <a:pt x="891" y="1708"/>
                  </a:lnTo>
                  <a:lnTo>
                    <a:pt x="934" y="1705"/>
                  </a:lnTo>
                  <a:lnTo>
                    <a:pt x="977" y="1699"/>
                  </a:lnTo>
                  <a:lnTo>
                    <a:pt x="1018" y="1692"/>
                  </a:lnTo>
                  <a:lnTo>
                    <a:pt x="1059" y="1682"/>
                  </a:lnTo>
                  <a:lnTo>
                    <a:pt x="1100" y="1671"/>
                  </a:lnTo>
                  <a:lnTo>
                    <a:pt x="1138" y="1657"/>
                  </a:lnTo>
                  <a:lnTo>
                    <a:pt x="1177" y="1641"/>
                  </a:lnTo>
                  <a:lnTo>
                    <a:pt x="1215" y="1624"/>
                  </a:lnTo>
                  <a:lnTo>
                    <a:pt x="1251" y="1606"/>
                  </a:lnTo>
                  <a:lnTo>
                    <a:pt x="1286" y="1585"/>
                  </a:lnTo>
                  <a:lnTo>
                    <a:pt x="1321" y="1564"/>
                  </a:lnTo>
                  <a:lnTo>
                    <a:pt x="1355" y="1540"/>
                  </a:lnTo>
                  <a:lnTo>
                    <a:pt x="1386" y="1514"/>
                  </a:lnTo>
                  <a:lnTo>
                    <a:pt x="1417" y="1488"/>
                  </a:lnTo>
                  <a:lnTo>
                    <a:pt x="1447" y="1459"/>
                  </a:lnTo>
                  <a:lnTo>
                    <a:pt x="1474" y="1430"/>
                  </a:lnTo>
                  <a:lnTo>
                    <a:pt x="1501" y="1399"/>
                  </a:lnTo>
                  <a:lnTo>
                    <a:pt x="1526" y="1366"/>
                  </a:lnTo>
                  <a:lnTo>
                    <a:pt x="1550" y="1332"/>
                  </a:lnTo>
                  <a:lnTo>
                    <a:pt x="1572" y="1299"/>
                  </a:lnTo>
                  <a:lnTo>
                    <a:pt x="1592" y="1262"/>
                  </a:lnTo>
                  <a:lnTo>
                    <a:pt x="1611" y="1225"/>
                  </a:lnTo>
                  <a:lnTo>
                    <a:pt x="1628" y="1187"/>
                  </a:lnTo>
                  <a:lnTo>
                    <a:pt x="1642" y="1149"/>
                  </a:lnTo>
                  <a:lnTo>
                    <a:pt x="1656" y="1109"/>
                  </a:lnTo>
                  <a:lnTo>
                    <a:pt x="1667" y="1069"/>
                  </a:lnTo>
                  <a:lnTo>
                    <a:pt x="1677" y="1028"/>
                  </a:lnTo>
                  <a:lnTo>
                    <a:pt x="1683" y="985"/>
                  </a:lnTo>
                  <a:lnTo>
                    <a:pt x="1690" y="943"/>
                  </a:lnTo>
                  <a:lnTo>
                    <a:pt x="1693" y="899"/>
                  </a:lnTo>
                  <a:lnTo>
                    <a:pt x="1694" y="855"/>
                  </a:lnTo>
                  <a:lnTo>
                    <a:pt x="1693" y="812"/>
                  </a:lnTo>
                  <a:lnTo>
                    <a:pt x="1690" y="768"/>
                  </a:lnTo>
                  <a:lnTo>
                    <a:pt x="1683" y="726"/>
                  </a:lnTo>
                  <a:lnTo>
                    <a:pt x="1677" y="683"/>
                  </a:lnTo>
                  <a:lnTo>
                    <a:pt x="1667" y="641"/>
                  </a:lnTo>
                  <a:lnTo>
                    <a:pt x="1656" y="602"/>
                  </a:lnTo>
                  <a:lnTo>
                    <a:pt x="1642" y="562"/>
                  </a:lnTo>
                  <a:lnTo>
                    <a:pt x="1628" y="523"/>
                  </a:lnTo>
                  <a:lnTo>
                    <a:pt x="1611" y="484"/>
                  </a:lnTo>
                  <a:lnTo>
                    <a:pt x="1592" y="448"/>
                  </a:lnTo>
                  <a:lnTo>
                    <a:pt x="1572" y="412"/>
                  </a:lnTo>
                  <a:lnTo>
                    <a:pt x="1550" y="377"/>
                  </a:lnTo>
                  <a:lnTo>
                    <a:pt x="1526" y="343"/>
                  </a:lnTo>
                  <a:lnTo>
                    <a:pt x="1501" y="311"/>
                  </a:lnTo>
                  <a:lnTo>
                    <a:pt x="1474" y="280"/>
                  </a:lnTo>
                  <a:lnTo>
                    <a:pt x="1447" y="250"/>
                  </a:lnTo>
                  <a:lnTo>
                    <a:pt x="1417" y="222"/>
                  </a:lnTo>
                  <a:lnTo>
                    <a:pt x="1386" y="195"/>
                  </a:lnTo>
                  <a:lnTo>
                    <a:pt x="1355" y="170"/>
                  </a:lnTo>
                  <a:lnTo>
                    <a:pt x="1321" y="146"/>
                  </a:lnTo>
                  <a:lnTo>
                    <a:pt x="1286" y="125"/>
                  </a:lnTo>
                  <a:lnTo>
                    <a:pt x="1251" y="103"/>
                  </a:lnTo>
                  <a:lnTo>
                    <a:pt x="1215" y="85"/>
                  </a:lnTo>
                  <a:lnTo>
                    <a:pt x="1177" y="68"/>
                  </a:lnTo>
                  <a:lnTo>
                    <a:pt x="1138" y="53"/>
                  </a:lnTo>
                  <a:lnTo>
                    <a:pt x="1100" y="39"/>
                  </a:lnTo>
                  <a:lnTo>
                    <a:pt x="1059" y="27"/>
                  </a:lnTo>
                  <a:lnTo>
                    <a:pt x="1018" y="17"/>
                  </a:lnTo>
                  <a:lnTo>
                    <a:pt x="977" y="10"/>
                  </a:lnTo>
                  <a:lnTo>
                    <a:pt x="934" y="5"/>
                  </a:lnTo>
                  <a:lnTo>
                    <a:pt x="891" y="2"/>
                  </a:lnTo>
                  <a:lnTo>
                    <a:pt x="847" y="0"/>
                  </a:lnTo>
                  <a:lnTo>
                    <a:pt x="803" y="2"/>
                  </a:lnTo>
                  <a:lnTo>
                    <a:pt x="760" y="5"/>
                  </a:lnTo>
                  <a:lnTo>
                    <a:pt x="718" y="10"/>
                  </a:lnTo>
                  <a:lnTo>
                    <a:pt x="676" y="17"/>
                  </a:lnTo>
                  <a:lnTo>
                    <a:pt x="636" y="27"/>
                  </a:lnTo>
                  <a:lnTo>
                    <a:pt x="596" y="39"/>
                  </a:lnTo>
                  <a:lnTo>
                    <a:pt x="556" y="53"/>
                  </a:lnTo>
                  <a:lnTo>
                    <a:pt x="518" y="68"/>
                  </a:lnTo>
                  <a:lnTo>
                    <a:pt x="481" y="85"/>
                  </a:lnTo>
                  <a:lnTo>
                    <a:pt x="443" y="103"/>
                  </a:lnTo>
                  <a:lnTo>
                    <a:pt x="408" y="125"/>
                  </a:lnTo>
                  <a:lnTo>
                    <a:pt x="373" y="146"/>
                  </a:lnTo>
                  <a:lnTo>
                    <a:pt x="341" y="170"/>
                  </a:lnTo>
                  <a:lnTo>
                    <a:pt x="309" y="195"/>
                  </a:lnTo>
                  <a:lnTo>
                    <a:pt x="277" y="222"/>
                  </a:lnTo>
                  <a:lnTo>
                    <a:pt x="249" y="250"/>
                  </a:lnTo>
                  <a:lnTo>
                    <a:pt x="220" y="280"/>
                  </a:lnTo>
                  <a:lnTo>
                    <a:pt x="193" y="311"/>
                  </a:lnTo>
                  <a:lnTo>
                    <a:pt x="169" y="343"/>
                  </a:lnTo>
                  <a:lnTo>
                    <a:pt x="145" y="377"/>
                  </a:lnTo>
                  <a:lnTo>
                    <a:pt x="123" y="412"/>
                  </a:lnTo>
                  <a:lnTo>
                    <a:pt x="103" y="448"/>
                  </a:lnTo>
                  <a:lnTo>
                    <a:pt x="85" y="484"/>
                  </a:lnTo>
                  <a:lnTo>
                    <a:pt x="66" y="523"/>
                  </a:lnTo>
                  <a:lnTo>
                    <a:pt x="52" y="562"/>
                  </a:lnTo>
                  <a:lnTo>
                    <a:pt x="38" y="602"/>
                  </a:lnTo>
                  <a:lnTo>
                    <a:pt x="28" y="641"/>
                  </a:lnTo>
                  <a:lnTo>
                    <a:pt x="17" y="683"/>
                  </a:lnTo>
                  <a:lnTo>
                    <a:pt x="11" y="726"/>
                  </a:lnTo>
                  <a:lnTo>
                    <a:pt x="4" y="768"/>
                  </a:lnTo>
                  <a:lnTo>
                    <a:pt x="2" y="812"/>
                  </a:lnTo>
                  <a:lnTo>
                    <a:pt x="0" y="855"/>
                  </a:lnTo>
                  <a:lnTo>
                    <a:pt x="2" y="899"/>
                  </a:lnTo>
                  <a:lnTo>
                    <a:pt x="4" y="943"/>
                  </a:lnTo>
                  <a:lnTo>
                    <a:pt x="11" y="985"/>
                  </a:lnTo>
                  <a:lnTo>
                    <a:pt x="17" y="1028"/>
                  </a:lnTo>
                  <a:lnTo>
                    <a:pt x="28" y="1069"/>
                  </a:lnTo>
                  <a:lnTo>
                    <a:pt x="38" y="1109"/>
                  </a:lnTo>
                  <a:lnTo>
                    <a:pt x="52" y="1149"/>
                  </a:lnTo>
                  <a:lnTo>
                    <a:pt x="66" y="1187"/>
                  </a:lnTo>
                  <a:lnTo>
                    <a:pt x="85" y="1225"/>
                  </a:lnTo>
                  <a:lnTo>
                    <a:pt x="103" y="1262"/>
                  </a:lnTo>
                  <a:lnTo>
                    <a:pt x="123" y="1299"/>
                  </a:lnTo>
                  <a:lnTo>
                    <a:pt x="145" y="1332"/>
                  </a:lnTo>
                  <a:lnTo>
                    <a:pt x="169" y="1366"/>
                  </a:lnTo>
                  <a:lnTo>
                    <a:pt x="193" y="1399"/>
                  </a:lnTo>
                  <a:lnTo>
                    <a:pt x="220" y="1430"/>
                  </a:lnTo>
                  <a:lnTo>
                    <a:pt x="249" y="1459"/>
                  </a:lnTo>
                  <a:lnTo>
                    <a:pt x="277" y="1488"/>
                  </a:lnTo>
                  <a:lnTo>
                    <a:pt x="309" y="1514"/>
                  </a:lnTo>
                  <a:lnTo>
                    <a:pt x="341" y="1540"/>
                  </a:lnTo>
                  <a:lnTo>
                    <a:pt x="373" y="1564"/>
                  </a:lnTo>
                  <a:lnTo>
                    <a:pt x="408" y="1585"/>
                  </a:lnTo>
                  <a:lnTo>
                    <a:pt x="443" y="1606"/>
                  </a:lnTo>
                  <a:lnTo>
                    <a:pt x="481" y="1624"/>
                  </a:lnTo>
                  <a:lnTo>
                    <a:pt x="518" y="1641"/>
                  </a:lnTo>
                  <a:lnTo>
                    <a:pt x="556" y="1657"/>
                  </a:lnTo>
                  <a:lnTo>
                    <a:pt x="596" y="1671"/>
                  </a:lnTo>
                  <a:lnTo>
                    <a:pt x="636" y="1682"/>
                  </a:lnTo>
                  <a:lnTo>
                    <a:pt x="676" y="1692"/>
                  </a:lnTo>
                  <a:lnTo>
                    <a:pt x="718" y="1699"/>
                  </a:lnTo>
                  <a:lnTo>
                    <a:pt x="760" y="1705"/>
                  </a:lnTo>
                  <a:lnTo>
                    <a:pt x="803" y="1708"/>
                  </a:lnTo>
                  <a:lnTo>
                    <a:pt x="847" y="1709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80" y="2124000"/>
              <a:ext cx="2653920" cy="2681280"/>
            </a:xfrm>
            <a:custGeom>
              <a:avLst/>
              <a:gdLst/>
              <a:ahLst/>
              <a:rect l="l" t="t" r="r" b="b"/>
              <a:pathLst>
                <a:path w="1672" h="1689">
                  <a:moveTo>
                    <a:pt x="836" y="1689"/>
                  </a:moveTo>
                  <a:lnTo>
                    <a:pt x="922" y="1685"/>
                  </a:lnTo>
                  <a:lnTo>
                    <a:pt x="1004" y="1672"/>
                  </a:lnTo>
                  <a:lnTo>
                    <a:pt x="1085" y="1651"/>
                  </a:lnTo>
                  <a:lnTo>
                    <a:pt x="1162" y="1623"/>
                  </a:lnTo>
                  <a:lnTo>
                    <a:pt x="1235" y="1588"/>
                  </a:lnTo>
                  <a:lnTo>
                    <a:pt x="1303" y="1545"/>
                  </a:lnTo>
                  <a:lnTo>
                    <a:pt x="1368" y="1496"/>
                  </a:lnTo>
                  <a:lnTo>
                    <a:pt x="1428" y="1442"/>
                  </a:lnTo>
                  <a:lnTo>
                    <a:pt x="1482" y="1382"/>
                  </a:lnTo>
                  <a:lnTo>
                    <a:pt x="1530" y="1317"/>
                  </a:lnTo>
                  <a:lnTo>
                    <a:pt x="1571" y="1248"/>
                  </a:lnTo>
                  <a:lnTo>
                    <a:pt x="1606" y="1174"/>
                  </a:lnTo>
                  <a:lnTo>
                    <a:pt x="1635" y="1097"/>
                  </a:lnTo>
                  <a:lnTo>
                    <a:pt x="1656" y="1015"/>
                  </a:lnTo>
                  <a:lnTo>
                    <a:pt x="1669" y="932"/>
                  </a:lnTo>
                  <a:lnTo>
                    <a:pt x="1672" y="845"/>
                  </a:lnTo>
                  <a:lnTo>
                    <a:pt x="1669" y="759"/>
                  </a:lnTo>
                  <a:lnTo>
                    <a:pt x="1656" y="675"/>
                  </a:lnTo>
                  <a:lnTo>
                    <a:pt x="1635" y="594"/>
                  </a:lnTo>
                  <a:lnTo>
                    <a:pt x="1606" y="517"/>
                  </a:lnTo>
                  <a:lnTo>
                    <a:pt x="1571" y="442"/>
                  </a:lnTo>
                  <a:lnTo>
                    <a:pt x="1530" y="373"/>
                  </a:lnTo>
                  <a:lnTo>
                    <a:pt x="1482" y="308"/>
                  </a:lnTo>
                  <a:lnTo>
                    <a:pt x="1428" y="247"/>
                  </a:lnTo>
                  <a:lnTo>
                    <a:pt x="1368" y="194"/>
                  </a:lnTo>
                  <a:lnTo>
                    <a:pt x="1303" y="144"/>
                  </a:lnTo>
                  <a:lnTo>
                    <a:pt x="1235" y="102"/>
                  </a:lnTo>
                  <a:lnTo>
                    <a:pt x="1162" y="67"/>
                  </a:lnTo>
                  <a:lnTo>
                    <a:pt x="1085" y="38"/>
                  </a:lnTo>
                  <a:lnTo>
                    <a:pt x="1004" y="17"/>
                  </a:lnTo>
                  <a:lnTo>
                    <a:pt x="922" y="5"/>
                  </a:lnTo>
                  <a:lnTo>
                    <a:pt x="836" y="0"/>
                  </a:lnTo>
                  <a:lnTo>
                    <a:pt x="751" y="5"/>
                  </a:lnTo>
                  <a:lnTo>
                    <a:pt x="668" y="17"/>
                  </a:lnTo>
                  <a:lnTo>
                    <a:pt x="588" y="38"/>
                  </a:lnTo>
                  <a:lnTo>
                    <a:pt x="510" y="67"/>
                  </a:lnTo>
                  <a:lnTo>
                    <a:pt x="437" y="102"/>
                  </a:lnTo>
                  <a:lnTo>
                    <a:pt x="369" y="144"/>
                  </a:lnTo>
                  <a:lnTo>
                    <a:pt x="304" y="194"/>
                  </a:lnTo>
                  <a:lnTo>
                    <a:pt x="244" y="247"/>
                  </a:lnTo>
                  <a:lnTo>
                    <a:pt x="190" y="308"/>
                  </a:lnTo>
                  <a:lnTo>
                    <a:pt x="142" y="373"/>
                  </a:lnTo>
                  <a:lnTo>
                    <a:pt x="101" y="442"/>
                  </a:lnTo>
                  <a:lnTo>
                    <a:pt x="66" y="517"/>
                  </a:lnTo>
                  <a:lnTo>
                    <a:pt x="37" y="594"/>
                  </a:lnTo>
                  <a:lnTo>
                    <a:pt x="17" y="675"/>
                  </a:lnTo>
                  <a:lnTo>
                    <a:pt x="4" y="759"/>
                  </a:lnTo>
                  <a:lnTo>
                    <a:pt x="0" y="845"/>
                  </a:lnTo>
                  <a:lnTo>
                    <a:pt x="4" y="932"/>
                  </a:lnTo>
                  <a:lnTo>
                    <a:pt x="17" y="1015"/>
                  </a:lnTo>
                  <a:lnTo>
                    <a:pt x="37" y="1097"/>
                  </a:lnTo>
                  <a:lnTo>
                    <a:pt x="66" y="1174"/>
                  </a:lnTo>
                  <a:lnTo>
                    <a:pt x="101" y="1248"/>
                  </a:lnTo>
                  <a:lnTo>
                    <a:pt x="142" y="1317"/>
                  </a:lnTo>
                  <a:lnTo>
                    <a:pt x="190" y="1382"/>
                  </a:lnTo>
                  <a:lnTo>
                    <a:pt x="244" y="1442"/>
                  </a:lnTo>
                  <a:lnTo>
                    <a:pt x="304" y="1496"/>
                  </a:lnTo>
                  <a:lnTo>
                    <a:pt x="369" y="1545"/>
                  </a:lnTo>
                  <a:lnTo>
                    <a:pt x="437" y="1588"/>
                  </a:lnTo>
                  <a:lnTo>
                    <a:pt x="510" y="1623"/>
                  </a:lnTo>
                  <a:lnTo>
                    <a:pt x="588" y="1651"/>
                  </a:lnTo>
                  <a:lnTo>
                    <a:pt x="668" y="1672"/>
                  </a:lnTo>
                  <a:lnTo>
                    <a:pt x="751" y="1685"/>
                  </a:lnTo>
                  <a:lnTo>
                    <a:pt x="836" y="1689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8880" y="2139840"/>
              <a:ext cx="2623680" cy="2649600"/>
            </a:xfrm>
            <a:custGeom>
              <a:avLst/>
              <a:gdLst/>
              <a:ahLst/>
              <a:rect l="l" t="t" r="r" b="b"/>
              <a:pathLst>
                <a:path w="1653" h="1669">
                  <a:moveTo>
                    <a:pt x="827" y="1669"/>
                  </a:moveTo>
                  <a:lnTo>
                    <a:pt x="911" y="1665"/>
                  </a:lnTo>
                  <a:lnTo>
                    <a:pt x="994" y="1652"/>
                  </a:lnTo>
                  <a:lnTo>
                    <a:pt x="1073" y="1631"/>
                  </a:lnTo>
                  <a:lnTo>
                    <a:pt x="1149" y="1603"/>
                  </a:lnTo>
                  <a:lnTo>
                    <a:pt x="1221" y="1569"/>
                  </a:lnTo>
                  <a:lnTo>
                    <a:pt x="1289" y="1527"/>
                  </a:lnTo>
                  <a:lnTo>
                    <a:pt x="1353" y="1479"/>
                  </a:lnTo>
                  <a:lnTo>
                    <a:pt x="1411" y="1425"/>
                  </a:lnTo>
                  <a:lnTo>
                    <a:pt x="1465" y="1366"/>
                  </a:lnTo>
                  <a:lnTo>
                    <a:pt x="1512" y="1301"/>
                  </a:lnTo>
                  <a:lnTo>
                    <a:pt x="1553" y="1233"/>
                  </a:lnTo>
                  <a:lnTo>
                    <a:pt x="1588" y="1160"/>
                  </a:lnTo>
                  <a:lnTo>
                    <a:pt x="1616" y="1084"/>
                  </a:lnTo>
                  <a:lnTo>
                    <a:pt x="1636" y="1003"/>
                  </a:lnTo>
                  <a:lnTo>
                    <a:pt x="1649" y="920"/>
                  </a:lnTo>
                  <a:lnTo>
                    <a:pt x="1653" y="835"/>
                  </a:lnTo>
                  <a:lnTo>
                    <a:pt x="1649" y="749"/>
                  </a:lnTo>
                  <a:lnTo>
                    <a:pt x="1636" y="668"/>
                  </a:lnTo>
                  <a:lnTo>
                    <a:pt x="1616" y="587"/>
                  </a:lnTo>
                  <a:lnTo>
                    <a:pt x="1588" y="511"/>
                  </a:lnTo>
                  <a:lnTo>
                    <a:pt x="1553" y="438"/>
                  </a:lnTo>
                  <a:lnTo>
                    <a:pt x="1512" y="368"/>
                  </a:lnTo>
                  <a:lnTo>
                    <a:pt x="1465" y="304"/>
                  </a:lnTo>
                  <a:lnTo>
                    <a:pt x="1411" y="244"/>
                  </a:lnTo>
                  <a:lnTo>
                    <a:pt x="1353" y="191"/>
                  </a:lnTo>
                  <a:lnTo>
                    <a:pt x="1289" y="143"/>
                  </a:lnTo>
                  <a:lnTo>
                    <a:pt x="1221" y="100"/>
                  </a:lnTo>
                  <a:lnTo>
                    <a:pt x="1149" y="67"/>
                  </a:lnTo>
                  <a:lnTo>
                    <a:pt x="1073" y="38"/>
                  </a:lnTo>
                  <a:lnTo>
                    <a:pt x="994" y="17"/>
                  </a:lnTo>
                  <a:lnTo>
                    <a:pt x="911" y="4"/>
                  </a:lnTo>
                  <a:lnTo>
                    <a:pt x="827" y="0"/>
                  </a:lnTo>
                  <a:lnTo>
                    <a:pt x="743" y="4"/>
                  </a:lnTo>
                  <a:lnTo>
                    <a:pt x="660" y="17"/>
                  </a:lnTo>
                  <a:lnTo>
                    <a:pt x="581" y="38"/>
                  </a:lnTo>
                  <a:lnTo>
                    <a:pt x="505" y="67"/>
                  </a:lnTo>
                  <a:lnTo>
                    <a:pt x="432" y="100"/>
                  </a:lnTo>
                  <a:lnTo>
                    <a:pt x="365" y="143"/>
                  </a:lnTo>
                  <a:lnTo>
                    <a:pt x="300" y="191"/>
                  </a:lnTo>
                  <a:lnTo>
                    <a:pt x="242" y="244"/>
                  </a:lnTo>
                  <a:lnTo>
                    <a:pt x="189" y="304"/>
                  </a:lnTo>
                  <a:lnTo>
                    <a:pt x="141" y="368"/>
                  </a:lnTo>
                  <a:lnTo>
                    <a:pt x="100" y="438"/>
                  </a:lnTo>
                  <a:lnTo>
                    <a:pt x="65" y="511"/>
                  </a:lnTo>
                  <a:lnTo>
                    <a:pt x="37" y="587"/>
                  </a:lnTo>
                  <a:lnTo>
                    <a:pt x="17" y="668"/>
                  </a:lnTo>
                  <a:lnTo>
                    <a:pt x="4" y="749"/>
                  </a:lnTo>
                  <a:lnTo>
                    <a:pt x="0" y="835"/>
                  </a:lnTo>
                  <a:lnTo>
                    <a:pt x="4" y="920"/>
                  </a:lnTo>
                  <a:lnTo>
                    <a:pt x="17" y="1003"/>
                  </a:lnTo>
                  <a:lnTo>
                    <a:pt x="37" y="1084"/>
                  </a:lnTo>
                  <a:lnTo>
                    <a:pt x="65" y="1160"/>
                  </a:lnTo>
                  <a:lnTo>
                    <a:pt x="100" y="1233"/>
                  </a:lnTo>
                  <a:lnTo>
                    <a:pt x="141" y="1301"/>
                  </a:lnTo>
                  <a:lnTo>
                    <a:pt x="189" y="1366"/>
                  </a:lnTo>
                  <a:lnTo>
                    <a:pt x="242" y="1425"/>
                  </a:lnTo>
                  <a:lnTo>
                    <a:pt x="300" y="1479"/>
                  </a:lnTo>
                  <a:lnTo>
                    <a:pt x="365" y="1527"/>
                  </a:lnTo>
                  <a:lnTo>
                    <a:pt x="432" y="1569"/>
                  </a:lnTo>
                  <a:lnTo>
                    <a:pt x="505" y="1603"/>
                  </a:lnTo>
                  <a:lnTo>
                    <a:pt x="581" y="1631"/>
                  </a:lnTo>
                  <a:lnTo>
                    <a:pt x="660" y="1652"/>
                  </a:lnTo>
                  <a:lnTo>
                    <a:pt x="743" y="1665"/>
                  </a:lnTo>
                  <a:lnTo>
                    <a:pt x="827" y="1669"/>
                  </a:lnTo>
                  <a:close/>
                </a:path>
              </a:pathLst>
            </a:custGeom>
            <a:solidFill>
              <a:srgbClr val="bf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4720" y="2155680"/>
              <a:ext cx="2593440" cy="2617920"/>
            </a:xfrm>
            <a:custGeom>
              <a:avLst/>
              <a:gdLst/>
              <a:ahLst/>
              <a:rect l="l" t="t" r="r" b="b"/>
              <a:pathLst>
                <a:path w="1634" h="1649">
                  <a:moveTo>
                    <a:pt x="817" y="1649"/>
                  </a:moveTo>
                  <a:lnTo>
                    <a:pt x="901" y="1645"/>
                  </a:lnTo>
                  <a:lnTo>
                    <a:pt x="982" y="1633"/>
                  </a:lnTo>
                  <a:lnTo>
                    <a:pt x="1061" y="1613"/>
                  </a:lnTo>
                  <a:lnTo>
                    <a:pt x="1136" y="1585"/>
                  </a:lnTo>
                  <a:lnTo>
                    <a:pt x="1207" y="1549"/>
                  </a:lnTo>
                  <a:lnTo>
                    <a:pt x="1274" y="1508"/>
                  </a:lnTo>
                  <a:lnTo>
                    <a:pt x="1338" y="1460"/>
                  </a:lnTo>
                  <a:lnTo>
                    <a:pt x="1395" y="1408"/>
                  </a:lnTo>
                  <a:lnTo>
                    <a:pt x="1448" y="1349"/>
                  </a:lnTo>
                  <a:lnTo>
                    <a:pt x="1494" y="1285"/>
                  </a:lnTo>
                  <a:lnTo>
                    <a:pt x="1536" y="1218"/>
                  </a:lnTo>
                  <a:lnTo>
                    <a:pt x="1569" y="1146"/>
                  </a:lnTo>
                  <a:lnTo>
                    <a:pt x="1598" y="1070"/>
                  </a:lnTo>
                  <a:lnTo>
                    <a:pt x="1617" y="992"/>
                  </a:lnTo>
                  <a:lnTo>
                    <a:pt x="1630" y="910"/>
                  </a:lnTo>
                  <a:lnTo>
                    <a:pt x="1634" y="825"/>
                  </a:lnTo>
                  <a:lnTo>
                    <a:pt x="1630" y="741"/>
                  </a:lnTo>
                  <a:lnTo>
                    <a:pt x="1617" y="659"/>
                  </a:lnTo>
                  <a:lnTo>
                    <a:pt x="1598" y="580"/>
                  </a:lnTo>
                  <a:lnTo>
                    <a:pt x="1569" y="504"/>
                  </a:lnTo>
                  <a:lnTo>
                    <a:pt x="1536" y="432"/>
                  </a:lnTo>
                  <a:lnTo>
                    <a:pt x="1494" y="364"/>
                  </a:lnTo>
                  <a:lnTo>
                    <a:pt x="1448" y="301"/>
                  </a:lnTo>
                  <a:lnTo>
                    <a:pt x="1395" y="241"/>
                  </a:lnTo>
                  <a:lnTo>
                    <a:pt x="1338" y="189"/>
                  </a:lnTo>
                  <a:lnTo>
                    <a:pt x="1274" y="141"/>
                  </a:lnTo>
                  <a:lnTo>
                    <a:pt x="1207" y="100"/>
                  </a:lnTo>
                  <a:lnTo>
                    <a:pt x="1136" y="65"/>
                  </a:lnTo>
                  <a:lnTo>
                    <a:pt x="1061" y="37"/>
                  </a:lnTo>
                  <a:lnTo>
                    <a:pt x="982" y="17"/>
                  </a:lnTo>
                  <a:lnTo>
                    <a:pt x="901" y="4"/>
                  </a:lnTo>
                  <a:lnTo>
                    <a:pt x="817" y="0"/>
                  </a:lnTo>
                  <a:lnTo>
                    <a:pt x="734" y="4"/>
                  </a:lnTo>
                  <a:lnTo>
                    <a:pt x="653" y="17"/>
                  </a:lnTo>
                  <a:lnTo>
                    <a:pt x="575" y="37"/>
                  </a:lnTo>
                  <a:lnTo>
                    <a:pt x="500" y="65"/>
                  </a:lnTo>
                  <a:lnTo>
                    <a:pt x="427" y="100"/>
                  </a:lnTo>
                  <a:lnTo>
                    <a:pt x="360" y="141"/>
                  </a:lnTo>
                  <a:lnTo>
                    <a:pt x="298" y="189"/>
                  </a:lnTo>
                  <a:lnTo>
                    <a:pt x="240" y="241"/>
                  </a:lnTo>
                  <a:lnTo>
                    <a:pt x="187" y="301"/>
                  </a:lnTo>
                  <a:lnTo>
                    <a:pt x="140" y="364"/>
                  </a:lnTo>
                  <a:lnTo>
                    <a:pt x="99" y="432"/>
                  </a:lnTo>
                  <a:lnTo>
                    <a:pt x="65" y="504"/>
                  </a:lnTo>
                  <a:lnTo>
                    <a:pt x="36" y="580"/>
                  </a:lnTo>
                  <a:lnTo>
                    <a:pt x="17" y="659"/>
                  </a:lnTo>
                  <a:lnTo>
                    <a:pt x="4" y="741"/>
                  </a:lnTo>
                  <a:lnTo>
                    <a:pt x="0" y="825"/>
                  </a:lnTo>
                  <a:lnTo>
                    <a:pt x="4" y="910"/>
                  </a:lnTo>
                  <a:lnTo>
                    <a:pt x="17" y="992"/>
                  </a:lnTo>
                  <a:lnTo>
                    <a:pt x="36" y="1070"/>
                  </a:lnTo>
                  <a:lnTo>
                    <a:pt x="65" y="1146"/>
                  </a:lnTo>
                  <a:lnTo>
                    <a:pt x="99" y="1218"/>
                  </a:lnTo>
                  <a:lnTo>
                    <a:pt x="140" y="1285"/>
                  </a:lnTo>
                  <a:lnTo>
                    <a:pt x="187" y="1349"/>
                  </a:lnTo>
                  <a:lnTo>
                    <a:pt x="240" y="1408"/>
                  </a:lnTo>
                  <a:lnTo>
                    <a:pt x="298" y="1460"/>
                  </a:lnTo>
                  <a:lnTo>
                    <a:pt x="360" y="1508"/>
                  </a:lnTo>
                  <a:lnTo>
                    <a:pt x="427" y="1549"/>
                  </a:lnTo>
                  <a:lnTo>
                    <a:pt x="500" y="1585"/>
                  </a:lnTo>
                  <a:lnTo>
                    <a:pt x="575" y="1613"/>
                  </a:lnTo>
                  <a:lnTo>
                    <a:pt x="653" y="1633"/>
                  </a:lnTo>
                  <a:lnTo>
                    <a:pt x="734" y="1645"/>
                  </a:lnTo>
                  <a:lnTo>
                    <a:pt x="817" y="1649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8760" y="2171880"/>
              <a:ext cx="2563560" cy="2587320"/>
            </a:xfrm>
            <a:custGeom>
              <a:avLst/>
              <a:gdLst/>
              <a:ahLst/>
              <a:rect l="l" t="t" r="r" b="b"/>
              <a:pathLst>
                <a:path w="1615" h="1630">
                  <a:moveTo>
                    <a:pt x="808" y="1630"/>
                  </a:moveTo>
                  <a:lnTo>
                    <a:pt x="891" y="1625"/>
                  </a:lnTo>
                  <a:lnTo>
                    <a:pt x="971" y="1613"/>
                  </a:lnTo>
                  <a:lnTo>
                    <a:pt x="1049" y="1593"/>
                  </a:lnTo>
                  <a:lnTo>
                    <a:pt x="1123" y="1566"/>
                  </a:lnTo>
                  <a:lnTo>
                    <a:pt x="1193" y="1531"/>
                  </a:lnTo>
                  <a:lnTo>
                    <a:pt x="1260" y="1490"/>
                  </a:lnTo>
                  <a:lnTo>
                    <a:pt x="1322" y="1443"/>
                  </a:lnTo>
                  <a:lnTo>
                    <a:pt x="1379" y="1391"/>
                  </a:lnTo>
                  <a:lnTo>
                    <a:pt x="1431" y="1333"/>
                  </a:lnTo>
                  <a:lnTo>
                    <a:pt x="1477" y="1270"/>
                  </a:lnTo>
                  <a:lnTo>
                    <a:pt x="1518" y="1203"/>
                  </a:lnTo>
                  <a:lnTo>
                    <a:pt x="1551" y="1132"/>
                  </a:lnTo>
                  <a:lnTo>
                    <a:pt x="1578" y="1057"/>
                  </a:lnTo>
                  <a:lnTo>
                    <a:pt x="1598" y="979"/>
                  </a:lnTo>
                  <a:lnTo>
                    <a:pt x="1611" y="899"/>
                  </a:lnTo>
                  <a:lnTo>
                    <a:pt x="1615" y="815"/>
                  </a:lnTo>
                  <a:lnTo>
                    <a:pt x="1611" y="732"/>
                  </a:lnTo>
                  <a:lnTo>
                    <a:pt x="1598" y="652"/>
                  </a:lnTo>
                  <a:lnTo>
                    <a:pt x="1578" y="573"/>
                  </a:lnTo>
                  <a:lnTo>
                    <a:pt x="1551" y="498"/>
                  </a:lnTo>
                  <a:lnTo>
                    <a:pt x="1518" y="428"/>
                  </a:lnTo>
                  <a:lnTo>
                    <a:pt x="1477" y="360"/>
                  </a:lnTo>
                  <a:lnTo>
                    <a:pt x="1431" y="296"/>
                  </a:lnTo>
                  <a:lnTo>
                    <a:pt x="1379" y="238"/>
                  </a:lnTo>
                  <a:lnTo>
                    <a:pt x="1322" y="186"/>
                  </a:lnTo>
                  <a:lnTo>
                    <a:pt x="1260" y="140"/>
                  </a:lnTo>
                  <a:lnTo>
                    <a:pt x="1193" y="99"/>
                  </a:lnTo>
                  <a:lnTo>
                    <a:pt x="1123" y="63"/>
                  </a:lnTo>
                  <a:lnTo>
                    <a:pt x="1049" y="37"/>
                  </a:lnTo>
                  <a:lnTo>
                    <a:pt x="971" y="17"/>
                  </a:lnTo>
                  <a:lnTo>
                    <a:pt x="891" y="4"/>
                  </a:lnTo>
                  <a:lnTo>
                    <a:pt x="808" y="0"/>
                  </a:lnTo>
                  <a:lnTo>
                    <a:pt x="725" y="4"/>
                  </a:lnTo>
                  <a:lnTo>
                    <a:pt x="645" y="17"/>
                  </a:lnTo>
                  <a:lnTo>
                    <a:pt x="569" y="37"/>
                  </a:lnTo>
                  <a:lnTo>
                    <a:pt x="494" y="63"/>
                  </a:lnTo>
                  <a:lnTo>
                    <a:pt x="424" y="99"/>
                  </a:lnTo>
                  <a:lnTo>
                    <a:pt x="356" y="140"/>
                  </a:lnTo>
                  <a:lnTo>
                    <a:pt x="294" y="186"/>
                  </a:lnTo>
                  <a:lnTo>
                    <a:pt x="237" y="238"/>
                  </a:lnTo>
                  <a:lnTo>
                    <a:pt x="185" y="296"/>
                  </a:lnTo>
                  <a:lnTo>
                    <a:pt x="139" y="360"/>
                  </a:lnTo>
                  <a:lnTo>
                    <a:pt x="97" y="428"/>
                  </a:lnTo>
                  <a:lnTo>
                    <a:pt x="64" y="498"/>
                  </a:lnTo>
                  <a:lnTo>
                    <a:pt x="36" y="573"/>
                  </a:lnTo>
                  <a:lnTo>
                    <a:pt x="17" y="652"/>
                  </a:lnTo>
                  <a:lnTo>
                    <a:pt x="4" y="732"/>
                  </a:lnTo>
                  <a:lnTo>
                    <a:pt x="0" y="815"/>
                  </a:lnTo>
                  <a:lnTo>
                    <a:pt x="4" y="899"/>
                  </a:lnTo>
                  <a:lnTo>
                    <a:pt x="17" y="979"/>
                  </a:lnTo>
                  <a:lnTo>
                    <a:pt x="36" y="1057"/>
                  </a:lnTo>
                  <a:lnTo>
                    <a:pt x="64" y="1132"/>
                  </a:lnTo>
                  <a:lnTo>
                    <a:pt x="97" y="1203"/>
                  </a:lnTo>
                  <a:lnTo>
                    <a:pt x="139" y="1270"/>
                  </a:lnTo>
                  <a:lnTo>
                    <a:pt x="185" y="1333"/>
                  </a:lnTo>
                  <a:lnTo>
                    <a:pt x="237" y="1391"/>
                  </a:lnTo>
                  <a:lnTo>
                    <a:pt x="294" y="1443"/>
                  </a:lnTo>
                  <a:lnTo>
                    <a:pt x="356" y="1490"/>
                  </a:lnTo>
                  <a:lnTo>
                    <a:pt x="424" y="1531"/>
                  </a:lnTo>
                  <a:lnTo>
                    <a:pt x="494" y="1566"/>
                  </a:lnTo>
                  <a:lnTo>
                    <a:pt x="569" y="1593"/>
                  </a:lnTo>
                  <a:lnTo>
                    <a:pt x="645" y="1613"/>
                  </a:lnTo>
                  <a:lnTo>
                    <a:pt x="725" y="1625"/>
                  </a:lnTo>
                  <a:lnTo>
                    <a:pt x="808" y="1630"/>
                  </a:lnTo>
                  <a:close/>
                </a:path>
              </a:pathLst>
            </a:custGeom>
            <a:solidFill>
              <a:srgbClr val="c6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6400" y="2187720"/>
              <a:ext cx="2531520" cy="2555640"/>
            </a:xfrm>
            <a:custGeom>
              <a:avLst/>
              <a:gdLst/>
              <a:ahLst/>
              <a:rect l="l" t="t" r="r" b="b"/>
              <a:pathLst>
                <a:path w="1595" h="1610">
                  <a:moveTo>
                    <a:pt x="797" y="1610"/>
                  </a:moveTo>
                  <a:lnTo>
                    <a:pt x="879" y="1605"/>
                  </a:lnTo>
                  <a:lnTo>
                    <a:pt x="958" y="1593"/>
                  </a:lnTo>
                  <a:lnTo>
                    <a:pt x="1034" y="1573"/>
                  </a:lnTo>
                  <a:lnTo>
                    <a:pt x="1108" y="1546"/>
                  </a:lnTo>
                  <a:lnTo>
                    <a:pt x="1178" y="1512"/>
                  </a:lnTo>
                  <a:lnTo>
                    <a:pt x="1244" y="1471"/>
                  </a:lnTo>
                  <a:lnTo>
                    <a:pt x="1305" y="1426"/>
                  </a:lnTo>
                  <a:lnTo>
                    <a:pt x="1362" y="1374"/>
                  </a:lnTo>
                  <a:lnTo>
                    <a:pt x="1413" y="1316"/>
                  </a:lnTo>
                  <a:lnTo>
                    <a:pt x="1459" y="1254"/>
                  </a:lnTo>
                  <a:lnTo>
                    <a:pt x="1499" y="1188"/>
                  </a:lnTo>
                  <a:lnTo>
                    <a:pt x="1532" y="1119"/>
                  </a:lnTo>
                  <a:lnTo>
                    <a:pt x="1558" y="1044"/>
                  </a:lnTo>
                  <a:lnTo>
                    <a:pt x="1579" y="968"/>
                  </a:lnTo>
                  <a:lnTo>
                    <a:pt x="1591" y="887"/>
                  </a:lnTo>
                  <a:lnTo>
                    <a:pt x="1595" y="805"/>
                  </a:lnTo>
                  <a:lnTo>
                    <a:pt x="1591" y="724"/>
                  </a:lnTo>
                  <a:lnTo>
                    <a:pt x="1579" y="643"/>
                  </a:lnTo>
                  <a:lnTo>
                    <a:pt x="1558" y="566"/>
                  </a:lnTo>
                  <a:lnTo>
                    <a:pt x="1532" y="492"/>
                  </a:lnTo>
                  <a:lnTo>
                    <a:pt x="1499" y="422"/>
                  </a:lnTo>
                  <a:lnTo>
                    <a:pt x="1459" y="355"/>
                  </a:lnTo>
                  <a:lnTo>
                    <a:pt x="1413" y="293"/>
                  </a:lnTo>
                  <a:lnTo>
                    <a:pt x="1362" y="235"/>
                  </a:lnTo>
                  <a:lnTo>
                    <a:pt x="1305" y="185"/>
                  </a:lnTo>
                  <a:lnTo>
                    <a:pt x="1244" y="138"/>
                  </a:lnTo>
                  <a:lnTo>
                    <a:pt x="1178" y="97"/>
                  </a:lnTo>
                  <a:lnTo>
                    <a:pt x="1108" y="63"/>
                  </a:lnTo>
                  <a:lnTo>
                    <a:pt x="1034" y="37"/>
                  </a:lnTo>
                  <a:lnTo>
                    <a:pt x="958" y="17"/>
                  </a:lnTo>
                  <a:lnTo>
                    <a:pt x="879" y="4"/>
                  </a:lnTo>
                  <a:lnTo>
                    <a:pt x="797" y="0"/>
                  </a:lnTo>
                  <a:lnTo>
                    <a:pt x="716" y="4"/>
                  </a:lnTo>
                  <a:lnTo>
                    <a:pt x="637" y="17"/>
                  </a:lnTo>
                  <a:lnTo>
                    <a:pt x="560" y="37"/>
                  </a:lnTo>
                  <a:lnTo>
                    <a:pt x="486" y="63"/>
                  </a:lnTo>
                  <a:lnTo>
                    <a:pt x="416" y="97"/>
                  </a:lnTo>
                  <a:lnTo>
                    <a:pt x="352" y="138"/>
                  </a:lnTo>
                  <a:lnTo>
                    <a:pt x="290" y="185"/>
                  </a:lnTo>
                  <a:lnTo>
                    <a:pt x="234" y="235"/>
                  </a:lnTo>
                  <a:lnTo>
                    <a:pt x="182" y="293"/>
                  </a:lnTo>
                  <a:lnTo>
                    <a:pt x="136" y="355"/>
                  </a:lnTo>
                  <a:lnTo>
                    <a:pt x="95" y="422"/>
                  </a:lnTo>
                  <a:lnTo>
                    <a:pt x="62" y="492"/>
                  </a:lnTo>
                  <a:lnTo>
                    <a:pt x="36" y="566"/>
                  </a:lnTo>
                  <a:lnTo>
                    <a:pt x="16" y="643"/>
                  </a:lnTo>
                  <a:lnTo>
                    <a:pt x="3" y="724"/>
                  </a:lnTo>
                  <a:lnTo>
                    <a:pt x="0" y="805"/>
                  </a:lnTo>
                  <a:lnTo>
                    <a:pt x="3" y="887"/>
                  </a:lnTo>
                  <a:lnTo>
                    <a:pt x="16" y="968"/>
                  </a:lnTo>
                  <a:lnTo>
                    <a:pt x="36" y="1044"/>
                  </a:lnTo>
                  <a:lnTo>
                    <a:pt x="62" y="1119"/>
                  </a:lnTo>
                  <a:lnTo>
                    <a:pt x="95" y="1188"/>
                  </a:lnTo>
                  <a:lnTo>
                    <a:pt x="136" y="1254"/>
                  </a:lnTo>
                  <a:lnTo>
                    <a:pt x="182" y="1316"/>
                  </a:lnTo>
                  <a:lnTo>
                    <a:pt x="234" y="1374"/>
                  </a:lnTo>
                  <a:lnTo>
                    <a:pt x="290" y="1426"/>
                  </a:lnTo>
                  <a:lnTo>
                    <a:pt x="352" y="1471"/>
                  </a:lnTo>
                  <a:lnTo>
                    <a:pt x="416" y="1512"/>
                  </a:lnTo>
                  <a:lnTo>
                    <a:pt x="486" y="1546"/>
                  </a:lnTo>
                  <a:lnTo>
                    <a:pt x="560" y="1573"/>
                  </a:lnTo>
                  <a:lnTo>
                    <a:pt x="637" y="1593"/>
                  </a:lnTo>
                  <a:lnTo>
                    <a:pt x="716" y="1605"/>
                  </a:lnTo>
                  <a:lnTo>
                    <a:pt x="797" y="1610"/>
                  </a:lnTo>
                  <a:close/>
                </a:path>
              </a:pathLst>
            </a:custGeom>
            <a:solidFill>
              <a:srgbClr val="c9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0440" y="2203560"/>
              <a:ext cx="2500200" cy="2523960"/>
            </a:xfrm>
            <a:custGeom>
              <a:avLst/>
              <a:gdLst/>
              <a:ahLst/>
              <a:rect l="l" t="t" r="r" b="b"/>
              <a:pathLst>
                <a:path w="1575" h="1590">
                  <a:moveTo>
                    <a:pt x="788" y="1590"/>
                  </a:moveTo>
                  <a:lnTo>
                    <a:pt x="868" y="1586"/>
                  </a:lnTo>
                  <a:lnTo>
                    <a:pt x="947" y="1574"/>
                  </a:lnTo>
                  <a:lnTo>
                    <a:pt x="1022" y="1555"/>
                  </a:lnTo>
                  <a:lnTo>
                    <a:pt x="1095" y="1528"/>
                  </a:lnTo>
                  <a:lnTo>
                    <a:pt x="1164" y="1494"/>
                  </a:lnTo>
                  <a:lnTo>
                    <a:pt x="1228" y="1454"/>
                  </a:lnTo>
                  <a:lnTo>
                    <a:pt x="1289" y="1408"/>
                  </a:lnTo>
                  <a:lnTo>
                    <a:pt x="1345" y="1357"/>
                  </a:lnTo>
                  <a:lnTo>
                    <a:pt x="1397" y="1301"/>
                  </a:lnTo>
                  <a:lnTo>
                    <a:pt x="1441" y="1240"/>
                  </a:lnTo>
                  <a:lnTo>
                    <a:pt x="1481" y="1174"/>
                  </a:lnTo>
                  <a:lnTo>
                    <a:pt x="1513" y="1104"/>
                  </a:lnTo>
                  <a:lnTo>
                    <a:pt x="1540" y="1031"/>
                  </a:lnTo>
                  <a:lnTo>
                    <a:pt x="1560" y="955"/>
                  </a:lnTo>
                  <a:lnTo>
                    <a:pt x="1571" y="877"/>
                  </a:lnTo>
                  <a:lnTo>
                    <a:pt x="1575" y="795"/>
                  </a:lnTo>
                  <a:lnTo>
                    <a:pt x="1571" y="714"/>
                  </a:lnTo>
                  <a:lnTo>
                    <a:pt x="1560" y="635"/>
                  </a:lnTo>
                  <a:lnTo>
                    <a:pt x="1540" y="558"/>
                  </a:lnTo>
                  <a:lnTo>
                    <a:pt x="1513" y="487"/>
                  </a:lnTo>
                  <a:lnTo>
                    <a:pt x="1481" y="416"/>
                  </a:lnTo>
                  <a:lnTo>
                    <a:pt x="1441" y="351"/>
                  </a:lnTo>
                  <a:lnTo>
                    <a:pt x="1397" y="289"/>
                  </a:lnTo>
                  <a:lnTo>
                    <a:pt x="1345" y="233"/>
                  </a:lnTo>
                  <a:lnTo>
                    <a:pt x="1289" y="182"/>
                  </a:lnTo>
                  <a:lnTo>
                    <a:pt x="1228" y="135"/>
                  </a:lnTo>
                  <a:lnTo>
                    <a:pt x="1164" y="96"/>
                  </a:lnTo>
                  <a:lnTo>
                    <a:pt x="1095" y="62"/>
                  </a:lnTo>
                  <a:lnTo>
                    <a:pt x="1022" y="35"/>
                  </a:lnTo>
                  <a:lnTo>
                    <a:pt x="947" y="15"/>
                  </a:lnTo>
                  <a:lnTo>
                    <a:pt x="868" y="4"/>
                  </a:lnTo>
                  <a:lnTo>
                    <a:pt x="788" y="0"/>
                  </a:lnTo>
                  <a:lnTo>
                    <a:pt x="708" y="4"/>
                  </a:lnTo>
                  <a:lnTo>
                    <a:pt x="629" y="15"/>
                  </a:lnTo>
                  <a:lnTo>
                    <a:pt x="554" y="35"/>
                  </a:lnTo>
                  <a:lnTo>
                    <a:pt x="481" y="62"/>
                  </a:lnTo>
                  <a:lnTo>
                    <a:pt x="413" y="96"/>
                  </a:lnTo>
                  <a:lnTo>
                    <a:pt x="348" y="135"/>
                  </a:lnTo>
                  <a:lnTo>
                    <a:pt x="287" y="182"/>
                  </a:lnTo>
                  <a:lnTo>
                    <a:pt x="231" y="233"/>
                  </a:lnTo>
                  <a:lnTo>
                    <a:pt x="180" y="289"/>
                  </a:lnTo>
                  <a:lnTo>
                    <a:pt x="134" y="351"/>
                  </a:lnTo>
                  <a:lnTo>
                    <a:pt x="95" y="416"/>
                  </a:lnTo>
                  <a:lnTo>
                    <a:pt x="62" y="487"/>
                  </a:lnTo>
                  <a:lnTo>
                    <a:pt x="35" y="558"/>
                  </a:lnTo>
                  <a:lnTo>
                    <a:pt x="15" y="635"/>
                  </a:lnTo>
                  <a:lnTo>
                    <a:pt x="4" y="714"/>
                  </a:lnTo>
                  <a:lnTo>
                    <a:pt x="0" y="795"/>
                  </a:lnTo>
                  <a:lnTo>
                    <a:pt x="4" y="877"/>
                  </a:lnTo>
                  <a:lnTo>
                    <a:pt x="15" y="955"/>
                  </a:lnTo>
                  <a:lnTo>
                    <a:pt x="35" y="1031"/>
                  </a:lnTo>
                  <a:lnTo>
                    <a:pt x="62" y="1104"/>
                  </a:lnTo>
                  <a:lnTo>
                    <a:pt x="95" y="1174"/>
                  </a:lnTo>
                  <a:lnTo>
                    <a:pt x="134" y="1240"/>
                  </a:lnTo>
                  <a:lnTo>
                    <a:pt x="180" y="1301"/>
                  </a:lnTo>
                  <a:lnTo>
                    <a:pt x="231" y="1357"/>
                  </a:lnTo>
                  <a:lnTo>
                    <a:pt x="287" y="1408"/>
                  </a:lnTo>
                  <a:lnTo>
                    <a:pt x="348" y="1454"/>
                  </a:lnTo>
                  <a:lnTo>
                    <a:pt x="413" y="1494"/>
                  </a:lnTo>
                  <a:lnTo>
                    <a:pt x="481" y="1528"/>
                  </a:lnTo>
                  <a:lnTo>
                    <a:pt x="554" y="1555"/>
                  </a:lnTo>
                  <a:lnTo>
                    <a:pt x="629" y="1574"/>
                  </a:lnTo>
                  <a:lnTo>
                    <a:pt x="708" y="1586"/>
                  </a:lnTo>
                  <a:lnTo>
                    <a:pt x="788" y="1590"/>
                  </a:lnTo>
                  <a:close/>
                </a:path>
              </a:pathLst>
            </a:custGeom>
            <a:solidFill>
              <a:srgbClr val="ce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6640" y="2219400"/>
              <a:ext cx="2469600" cy="2492280"/>
            </a:xfrm>
            <a:custGeom>
              <a:avLst/>
              <a:gdLst/>
              <a:ahLst/>
              <a:rect l="l" t="t" r="r" b="b"/>
              <a:pathLst>
                <a:path w="1556" h="1570">
                  <a:moveTo>
                    <a:pt x="778" y="1570"/>
                  </a:moveTo>
                  <a:lnTo>
                    <a:pt x="857" y="1566"/>
                  </a:lnTo>
                  <a:lnTo>
                    <a:pt x="935" y="1554"/>
                  </a:lnTo>
                  <a:lnTo>
                    <a:pt x="1010" y="1535"/>
                  </a:lnTo>
                  <a:lnTo>
                    <a:pt x="1081" y="1508"/>
                  </a:lnTo>
                  <a:lnTo>
                    <a:pt x="1150" y="1475"/>
                  </a:lnTo>
                  <a:lnTo>
                    <a:pt x="1213" y="1436"/>
                  </a:lnTo>
                  <a:lnTo>
                    <a:pt x="1273" y="1391"/>
                  </a:lnTo>
                  <a:lnTo>
                    <a:pt x="1328" y="1340"/>
                  </a:lnTo>
                  <a:lnTo>
                    <a:pt x="1379" y="1285"/>
                  </a:lnTo>
                  <a:lnTo>
                    <a:pt x="1423" y="1224"/>
                  </a:lnTo>
                  <a:lnTo>
                    <a:pt x="1462" y="1159"/>
                  </a:lnTo>
                  <a:lnTo>
                    <a:pt x="1495" y="1090"/>
                  </a:lnTo>
                  <a:lnTo>
                    <a:pt x="1521" y="1018"/>
                  </a:lnTo>
                  <a:lnTo>
                    <a:pt x="1541" y="944"/>
                  </a:lnTo>
                  <a:lnTo>
                    <a:pt x="1552" y="866"/>
                  </a:lnTo>
                  <a:lnTo>
                    <a:pt x="1556" y="785"/>
                  </a:lnTo>
                  <a:lnTo>
                    <a:pt x="1552" y="705"/>
                  </a:lnTo>
                  <a:lnTo>
                    <a:pt x="1541" y="627"/>
                  </a:lnTo>
                  <a:lnTo>
                    <a:pt x="1521" y="553"/>
                  </a:lnTo>
                  <a:lnTo>
                    <a:pt x="1495" y="479"/>
                  </a:lnTo>
                  <a:lnTo>
                    <a:pt x="1462" y="412"/>
                  </a:lnTo>
                  <a:lnTo>
                    <a:pt x="1423" y="347"/>
                  </a:lnTo>
                  <a:lnTo>
                    <a:pt x="1379" y="286"/>
                  </a:lnTo>
                  <a:lnTo>
                    <a:pt x="1328" y="230"/>
                  </a:lnTo>
                  <a:lnTo>
                    <a:pt x="1273" y="179"/>
                  </a:lnTo>
                  <a:lnTo>
                    <a:pt x="1213" y="134"/>
                  </a:lnTo>
                  <a:lnTo>
                    <a:pt x="1150" y="94"/>
                  </a:lnTo>
                  <a:lnTo>
                    <a:pt x="1081" y="62"/>
                  </a:lnTo>
                  <a:lnTo>
                    <a:pt x="1010" y="35"/>
                  </a:lnTo>
                  <a:lnTo>
                    <a:pt x="935" y="15"/>
                  </a:lnTo>
                  <a:lnTo>
                    <a:pt x="857" y="4"/>
                  </a:lnTo>
                  <a:lnTo>
                    <a:pt x="778" y="0"/>
                  </a:lnTo>
                  <a:lnTo>
                    <a:pt x="699" y="4"/>
                  </a:lnTo>
                  <a:lnTo>
                    <a:pt x="621" y="15"/>
                  </a:lnTo>
                  <a:lnTo>
                    <a:pt x="546" y="35"/>
                  </a:lnTo>
                  <a:lnTo>
                    <a:pt x="475" y="62"/>
                  </a:lnTo>
                  <a:lnTo>
                    <a:pt x="407" y="94"/>
                  </a:lnTo>
                  <a:lnTo>
                    <a:pt x="343" y="134"/>
                  </a:lnTo>
                  <a:lnTo>
                    <a:pt x="284" y="179"/>
                  </a:lnTo>
                  <a:lnTo>
                    <a:pt x="228" y="230"/>
                  </a:lnTo>
                  <a:lnTo>
                    <a:pt x="177" y="286"/>
                  </a:lnTo>
                  <a:lnTo>
                    <a:pt x="133" y="347"/>
                  </a:lnTo>
                  <a:lnTo>
                    <a:pt x="95" y="412"/>
                  </a:lnTo>
                  <a:lnTo>
                    <a:pt x="61" y="479"/>
                  </a:lnTo>
                  <a:lnTo>
                    <a:pt x="35" y="553"/>
                  </a:lnTo>
                  <a:lnTo>
                    <a:pt x="16" y="627"/>
                  </a:lnTo>
                  <a:lnTo>
                    <a:pt x="4" y="705"/>
                  </a:lnTo>
                  <a:lnTo>
                    <a:pt x="0" y="785"/>
                  </a:lnTo>
                  <a:lnTo>
                    <a:pt x="4" y="866"/>
                  </a:lnTo>
                  <a:lnTo>
                    <a:pt x="16" y="944"/>
                  </a:lnTo>
                  <a:lnTo>
                    <a:pt x="35" y="1018"/>
                  </a:lnTo>
                  <a:lnTo>
                    <a:pt x="61" y="1090"/>
                  </a:lnTo>
                  <a:lnTo>
                    <a:pt x="95" y="1159"/>
                  </a:lnTo>
                  <a:lnTo>
                    <a:pt x="133" y="1224"/>
                  </a:lnTo>
                  <a:lnTo>
                    <a:pt x="177" y="1285"/>
                  </a:lnTo>
                  <a:lnTo>
                    <a:pt x="228" y="1340"/>
                  </a:lnTo>
                  <a:lnTo>
                    <a:pt x="284" y="1391"/>
                  </a:lnTo>
                  <a:lnTo>
                    <a:pt x="343" y="1436"/>
                  </a:lnTo>
                  <a:lnTo>
                    <a:pt x="407" y="1475"/>
                  </a:lnTo>
                  <a:lnTo>
                    <a:pt x="475" y="1508"/>
                  </a:lnTo>
                  <a:lnTo>
                    <a:pt x="546" y="1535"/>
                  </a:lnTo>
                  <a:lnTo>
                    <a:pt x="621" y="1554"/>
                  </a:lnTo>
                  <a:lnTo>
                    <a:pt x="699" y="1566"/>
                  </a:lnTo>
                  <a:lnTo>
                    <a:pt x="778" y="1570"/>
                  </a:lnTo>
                  <a:close/>
                </a:path>
              </a:pathLst>
            </a:custGeom>
            <a:solidFill>
              <a:srgbClr val="d1e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50680" y="2235240"/>
              <a:ext cx="2439720" cy="2460600"/>
            </a:xfrm>
            <a:custGeom>
              <a:avLst/>
              <a:gdLst/>
              <a:ahLst/>
              <a:rect l="l" t="t" r="r" b="b"/>
              <a:pathLst>
                <a:path w="1537" h="1550">
                  <a:moveTo>
                    <a:pt x="769" y="1550"/>
                  </a:moveTo>
                  <a:lnTo>
                    <a:pt x="848" y="1546"/>
                  </a:lnTo>
                  <a:lnTo>
                    <a:pt x="924" y="1535"/>
                  </a:lnTo>
                  <a:lnTo>
                    <a:pt x="998" y="1515"/>
                  </a:lnTo>
                  <a:lnTo>
                    <a:pt x="1068" y="1489"/>
                  </a:lnTo>
                  <a:lnTo>
                    <a:pt x="1135" y="1457"/>
                  </a:lnTo>
                  <a:lnTo>
                    <a:pt x="1199" y="1417"/>
                  </a:lnTo>
                  <a:lnTo>
                    <a:pt x="1257" y="1374"/>
                  </a:lnTo>
                  <a:lnTo>
                    <a:pt x="1313" y="1323"/>
                  </a:lnTo>
                  <a:lnTo>
                    <a:pt x="1362" y="1268"/>
                  </a:lnTo>
                  <a:lnTo>
                    <a:pt x="1406" y="1209"/>
                  </a:lnTo>
                  <a:lnTo>
                    <a:pt x="1445" y="1145"/>
                  </a:lnTo>
                  <a:lnTo>
                    <a:pt x="1476" y="1077"/>
                  </a:lnTo>
                  <a:lnTo>
                    <a:pt x="1502" y="1005"/>
                  </a:lnTo>
                  <a:lnTo>
                    <a:pt x="1521" y="932"/>
                  </a:lnTo>
                  <a:lnTo>
                    <a:pt x="1533" y="855"/>
                  </a:lnTo>
                  <a:lnTo>
                    <a:pt x="1537" y="775"/>
                  </a:lnTo>
                  <a:lnTo>
                    <a:pt x="1533" y="696"/>
                  </a:lnTo>
                  <a:lnTo>
                    <a:pt x="1521" y="619"/>
                  </a:lnTo>
                  <a:lnTo>
                    <a:pt x="1502" y="544"/>
                  </a:lnTo>
                  <a:lnTo>
                    <a:pt x="1476" y="474"/>
                  </a:lnTo>
                  <a:lnTo>
                    <a:pt x="1445" y="406"/>
                  </a:lnTo>
                  <a:lnTo>
                    <a:pt x="1406" y="341"/>
                  </a:lnTo>
                  <a:lnTo>
                    <a:pt x="1362" y="282"/>
                  </a:lnTo>
                  <a:lnTo>
                    <a:pt x="1313" y="227"/>
                  </a:lnTo>
                  <a:lnTo>
                    <a:pt x="1257" y="177"/>
                  </a:lnTo>
                  <a:lnTo>
                    <a:pt x="1199" y="132"/>
                  </a:lnTo>
                  <a:lnTo>
                    <a:pt x="1135" y="93"/>
                  </a:lnTo>
                  <a:lnTo>
                    <a:pt x="1068" y="60"/>
                  </a:lnTo>
                  <a:lnTo>
                    <a:pt x="998" y="35"/>
                  </a:lnTo>
                  <a:lnTo>
                    <a:pt x="924" y="15"/>
                  </a:lnTo>
                  <a:lnTo>
                    <a:pt x="848" y="4"/>
                  </a:lnTo>
                  <a:lnTo>
                    <a:pt x="769" y="0"/>
                  </a:lnTo>
                  <a:lnTo>
                    <a:pt x="690" y="4"/>
                  </a:lnTo>
                  <a:lnTo>
                    <a:pt x="614" y="15"/>
                  </a:lnTo>
                  <a:lnTo>
                    <a:pt x="540" y="35"/>
                  </a:lnTo>
                  <a:lnTo>
                    <a:pt x="470" y="60"/>
                  </a:lnTo>
                  <a:lnTo>
                    <a:pt x="403" y="93"/>
                  </a:lnTo>
                  <a:lnTo>
                    <a:pt x="339" y="132"/>
                  </a:lnTo>
                  <a:lnTo>
                    <a:pt x="280" y="177"/>
                  </a:lnTo>
                  <a:lnTo>
                    <a:pt x="225" y="227"/>
                  </a:lnTo>
                  <a:lnTo>
                    <a:pt x="176" y="282"/>
                  </a:lnTo>
                  <a:lnTo>
                    <a:pt x="131" y="341"/>
                  </a:lnTo>
                  <a:lnTo>
                    <a:pt x="93" y="406"/>
                  </a:lnTo>
                  <a:lnTo>
                    <a:pt x="61" y="474"/>
                  </a:lnTo>
                  <a:lnTo>
                    <a:pt x="35" y="544"/>
                  </a:lnTo>
                  <a:lnTo>
                    <a:pt x="16" y="619"/>
                  </a:lnTo>
                  <a:lnTo>
                    <a:pt x="4" y="696"/>
                  </a:lnTo>
                  <a:lnTo>
                    <a:pt x="0" y="775"/>
                  </a:lnTo>
                  <a:lnTo>
                    <a:pt x="4" y="855"/>
                  </a:lnTo>
                  <a:lnTo>
                    <a:pt x="16" y="932"/>
                  </a:lnTo>
                  <a:lnTo>
                    <a:pt x="35" y="1005"/>
                  </a:lnTo>
                  <a:lnTo>
                    <a:pt x="61" y="1077"/>
                  </a:lnTo>
                  <a:lnTo>
                    <a:pt x="93" y="1145"/>
                  </a:lnTo>
                  <a:lnTo>
                    <a:pt x="131" y="1209"/>
                  </a:lnTo>
                  <a:lnTo>
                    <a:pt x="176" y="1268"/>
                  </a:lnTo>
                  <a:lnTo>
                    <a:pt x="225" y="1323"/>
                  </a:lnTo>
                  <a:lnTo>
                    <a:pt x="280" y="1374"/>
                  </a:lnTo>
                  <a:lnTo>
                    <a:pt x="339" y="1417"/>
                  </a:lnTo>
                  <a:lnTo>
                    <a:pt x="403" y="1457"/>
                  </a:lnTo>
                  <a:lnTo>
                    <a:pt x="470" y="1489"/>
                  </a:lnTo>
                  <a:lnTo>
                    <a:pt x="540" y="1515"/>
                  </a:lnTo>
                  <a:lnTo>
                    <a:pt x="614" y="1535"/>
                  </a:lnTo>
                  <a:lnTo>
                    <a:pt x="690" y="1546"/>
                  </a:lnTo>
                  <a:lnTo>
                    <a:pt x="769" y="1550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6520" y="2249640"/>
              <a:ext cx="2409480" cy="2430360"/>
            </a:xfrm>
            <a:custGeom>
              <a:avLst/>
              <a:gdLst/>
              <a:ahLst/>
              <a:rect l="l" t="t" r="r" b="b"/>
              <a:pathLst>
                <a:path w="1518" h="1531">
                  <a:moveTo>
                    <a:pt x="759" y="1531"/>
                  </a:moveTo>
                  <a:lnTo>
                    <a:pt x="837" y="1527"/>
                  </a:lnTo>
                  <a:lnTo>
                    <a:pt x="912" y="1516"/>
                  </a:lnTo>
                  <a:lnTo>
                    <a:pt x="984" y="1497"/>
                  </a:lnTo>
                  <a:lnTo>
                    <a:pt x="1054" y="1471"/>
                  </a:lnTo>
                  <a:lnTo>
                    <a:pt x="1120" y="1439"/>
                  </a:lnTo>
                  <a:lnTo>
                    <a:pt x="1184" y="1400"/>
                  </a:lnTo>
                  <a:lnTo>
                    <a:pt x="1242" y="1356"/>
                  </a:lnTo>
                  <a:lnTo>
                    <a:pt x="1296" y="1307"/>
                  </a:lnTo>
                  <a:lnTo>
                    <a:pt x="1344" y="1253"/>
                  </a:lnTo>
                  <a:lnTo>
                    <a:pt x="1388" y="1194"/>
                  </a:lnTo>
                  <a:lnTo>
                    <a:pt x="1426" y="1131"/>
                  </a:lnTo>
                  <a:lnTo>
                    <a:pt x="1458" y="1064"/>
                  </a:lnTo>
                  <a:lnTo>
                    <a:pt x="1484" y="994"/>
                  </a:lnTo>
                  <a:lnTo>
                    <a:pt x="1502" y="920"/>
                  </a:lnTo>
                  <a:lnTo>
                    <a:pt x="1514" y="844"/>
                  </a:lnTo>
                  <a:lnTo>
                    <a:pt x="1518" y="766"/>
                  </a:lnTo>
                  <a:lnTo>
                    <a:pt x="1514" y="687"/>
                  </a:lnTo>
                  <a:lnTo>
                    <a:pt x="1502" y="613"/>
                  </a:lnTo>
                  <a:lnTo>
                    <a:pt x="1484" y="538"/>
                  </a:lnTo>
                  <a:lnTo>
                    <a:pt x="1458" y="469"/>
                  </a:lnTo>
                  <a:lnTo>
                    <a:pt x="1426" y="401"/>
                  </a:lnTo>
                  <a:lnTo>
                    <a:pt x="1388" y="338"/>
                  </a:lnTo>
                  <a:lnTo>
                    <a:pt x="1344" y="280"/>
                  </a:lnTo>
                  <a:lnTo>
                    <a:pt x="1296" y="225"/>
                  </a:lnTo>
                  <a:lnTo>
                    <a:pt x="1242" y="175"/>
                  </a:lnTo>
                  <a:lnTo>
                    <a:pt x="1184" y="132"/>
                  </a:lnTo>
                  <a:lnTo>
                    <a:pt x="1120" y="94"/>
                  </a:lnTo>
                  <a:lnTo>
                    <a:pt x="1054" y="61"/>
                  </a:lnTo>
                  <a:lnTo>
                    <a:pt x="984" y="34"/>
                  </a:lnTo>
                  <a:lnTo>
                    <a:pt x="912" y="16"/>
                  </a:lnTo>
                  <a:lnTo>
                    <a:pt x="837" y="5"/>
                  </a:lnTo>
                  <a:lnTo>
                    <a:pt x="759" y="0"/>
                  </a:lnTo>
                  <a:lnTo>
                    <a:pt x="681" y="5"/>
                  </a:lnTo>
                  <a:lnTo>
                    <a:pt x="606" y="16"/>
                  </a:lnTo>
                  <a:lnTo>
                    <a:pt x="534" y="34"/>
                  </a:lnTo>
                  <a:lnTo>
                    <a:pt x="464" y="61"/>
                  </a:lnTo>
                  <a:lnTo>
                    <a:pt x="398" y="94"/>
                  </a:lnTo>
                  <a:lnTo>
                    <a:pt x="336" y="132"/>
                  </a:lnTo>
                  <a:lnTo>
                    <a:pt x="277" y="175"/>
                  </a:lnTo>
                  <a:lnTo>
                    <a:pt x="223" y="225"/>
                  </a:lnTo>
                  <a:lnTo>
                    <a:pt x="174" y="280"/>
                  </a:lnTo>
                  <a:lnTo>
                    <a:pt x="130" y="338"/>
                  </a:lnTo>
                  <a:lnTo>
                    <a:pt x="92" y="401"/>
                  </a:lnTo>
                  <a:lnTo>
                    <a:pt x="60" y="469"/>
                  </a:lnTo>
                  <a:lnTo>
                    <a:pt x="34" y="538"/>
                  </a:lnTo>
                  <a:lnTo>
                    <a:pt x="16" y="613"/>
                  </a:lnTo>
                  <a:lnTo>
                    <a:pt x="4" y="687"/>
                  </a:lnTo>
                  <a:lnTo>
                    <a:pt x="0" y="766"/>
                  </a:lnTo>
                  <a:lnTo>
                    <a:pt x="4" y="844"/>
                  </a:lnTo>
                  <a:lnTo>
                    <a:pt x="16" y="920"/>
                  </a:lnTo>
                  <a:lnTo>
                    <a:pt x="34" y="994"/>
                  </a:lnTo>
                  <a:lnTo>
                    <a:pt x="60" y="1064"/>
                  </a:lnTo>
                  <a:lnTo>
                    <a:pt x="92" y="1131"/>
                  </a:lnTo>
                  <a:lnTo>
                    <a:pt x="130" y="1194"/>
                  </a:lnTo>
                  <a:lnTo>
                    <a:pt x="174" y="1253"/>
                  </a:lnTo>
                  <a:lnTo>
                    <a:pt x="223" y="1307"/>
                  </a:lnTo>
                  <a:lnTo>
                    <a:pt x="277" y="1356"/>
                  </a:lnTo>
                  <a:lnTo>
                    <a:pt x="336" y="1400"/>
                  </a:lnTo>
                  <a:lnTo>
                    <a:pt x="398" y="1439"/>
                  </a:lnTo>
                  <a:lnTo>
                    <a:pt x="464" y="1471"/>
                  </a:lnTo>
                  <a:lnTo>
                    <a:pt x="534" y="1497"/>
                  </a:lnTo>
                  <a:lnTo>
                    <a:pt x="606" y="1516"/>
                  </a:lnTo>
                  <a:lnTo>
                    <a:pt x="681" y="1527"/>
                  </a:lnTo>
                  <a:lnTo>
                    <a:pt x="759" y="1531"/>
                  </a:lnTo>
                  <a:close/>
                </a:path>
              </a:pathLst>
            </a:custGeom>
            <a:solidFill>
              <a:srgbClr val="d6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84160" y="2265480"/>
              <a:ext cx="2374560" cy="2398680"/>
            </a:xfrm>
            <a:custGeom>
              <a:avLst/>
              <a:gdLst/>
              <a:ahLst/>
              <a:rect l="l" t="t" r="r" b="b"/>
              <a:pathLst>
                <a:path w="1496" h="1511">
                  <a:moveTo>
                    <a:pt x="748" y="1511"/>
                  </a:moveTo>
                  <a:lnTo>
                    <a:pt x="824" y="1507"/>
                  </a:lnTo>
                  <a:lnTo>
                    <a:pt x="900" y="1496"/>
                  </a:lnTo>
                  <a:lnTo>
                    <a:pt x="971" y="1477"/>
                  </a:lnTo>
                  <a:lnTo>
                    <a:pt x="1039" y="1452"/>
                  </a:lnTo>
                  <a:lnTo>
                    <a:pt x="1105" y="1420"/>
                  </a:lnTo>
                  <a:lnTo>
                    <a:pt x="1168" y="1383"/>
                  </a:lnTo>
                  <a:lnTo>
                    <a:pt x="1225" y="1339"/>
                  </a:lnTo>
                  <a:lnTo>
                    <a:pt x="1278" y="1290"/>
                  </a:lnTo>
                  <a:lnTo>
                    <a:pt x="1326" y="1236"/>
                  </a:lnTo>
                  <a:lnTo>
                    <a:pt x="1368" y="1178"/>
                  </a:lnTo>
                  <a:lnTo>
                    <a:pt x="1406" y="1116"/>
                  </a:lnTo>
                  <a:lnTo>
                    <a:pt x="1438" y="1050"/>
                  </a:lnTo>
                  <a:lnTo>
                    <a:pt x="1463" y="981"/>
                  </a:lnTo>
                  <a:lnTo>
                    <a:pt x="1481" y="909"/>
                  </a:lnTo>
                  <a:lnTo>
                    <a:pt x="1493" y="834"/>
                  </a:lnTo>
                  <a:lnTo>
                    <a:pt x="1496" y="756"/>
                  </a:lnTo>
                  <a:lnTo>
                    <a:pt x="1493" y="679"/>
                  </a:lnTo>
                  <a:lnTo>
                    <a:pt x="1481" y="604"/>
                  </a:lnTo>
                  <a:lnTo>
                    <a:pt x="1463" y="532"/>
                  </a:lnTo>
                  <a:lnTo>
                    <a:pt x="1438" y="462"/>
                  </a:lnTo>
                  <a:lnTo>
                    <a:pt x="1406" y="397"/>
                  </a:lnTo>
                  <a:lnTo>
                    <a:pt x="1368" y="333"/>
                  </a:lnTo>
                  <a:lnTo>
                    <a:pt x="1326" y="275"/>
                  </a:lnTo>
                  <a:lnTo>
                    <a:pt x="1278" y="222"/>
                  </a:lnTo>
                  <a:lnTo>
                    <a:pt x="1225" y="172"/>
                  </a:lnTo>
                  <a:lnTo>
                    <a:pt x="1168" y="130"/>
                  </a:lnTo>
                  <a:lnTo>
                    <a:pt x="1105" y="92"/>
                  </a:lnTo>
                  <a:lnTo>
                    <a:pt x="1039" y="60"/>
                  </a:lnTo>
                  <a:lnTo>
                    <a:pt x="971" y="34"/>
                  </a:lnTo>
                  <a:lnTo>
                    <a:pt x="900" y="16"/>
                  </a:lnTo>
                  <a:lnTo>
                    <a:pt x="824" y="4"/>
                  </a:lnTo>
                  <a:lnTo>
                    <a:pt x="748" y="0"/>
                  </a:lnTo>
                  <a:lnTo>
                    <a:pt x="672" y="4"/>
                  </a:lnTo>
                  <a:lnTo>
                    <a:pt x="598" y="16"/>
                  </a:lnTo>
                  <a:lnTo>
                    <a:pt x="525" y="34"/>
                  </a:lnTo>
                  <a:lnTo>
                    <a:pt x="457" y="60"/>
                  </a:lnTo>
                  <a:lnTo>
                    <a:pt x="392" y="92"/>
                  </a:lnTo>
                  <a:lnTo>
                    <a:pt x="330" y="130"/>
                  </a:lnTo>
                  <a:lnTo>
                    <a:pt x="272" y="172"/>
                  </a:lnTo>
                  <a:lnTo>
                    <a:pt x="219" y="222"/>
                  </a:lnTo>
                  <a:lnTo>
                    <a:pt x="171" y="275"/>
                  </a:lnTo>
                  <a:lnTo>
                    <a:pt x="128" y="333"/>
                  </a:lnTo>
                  <a:lnTo>
                    <a:pt x="90" y="397"/>
                  </a:lnTo>
                  <a:lnTo>
                    <a:pt x="58" y="462"/>
                  </a:lnTo>
                  <a:lnTo>
                    <a:pt x="33" y="532"/>
                  </a:lnTo>
                  <a:lnTo>
                    <a:pt x="15" y="604"/>
                  </a:lnTo>
                  <a:lnTo>
                    <a:pt x="4" y="679"/>
                  </a:lnTo>
                  <a:lnTo>
                    <a:pt x="0" y="756"/>
                  </a:lnTo>
                  <a:lnTo>
                    <a:pt x="4" y="834"/>
                  </a:lnTo>
                  <a:lnTo>
                    <a:pt x="15" y="909"/>
                  </a:lnTo>
                  <a:lnTo>
                    <a:pt x="33" y="981"/>
                  </a:lnTo>
                  <a:lnTo>
                    <a:pt x="58" y="1050"/>
                  </a:lnTo>
                  <a:lnTo>
                    <a:pt x="90" y="1116"/>
                  </a:lnTo>
                  <a:lnTo>
                    <a:pt x="128" y="1178"/>
                  </a:lnTo>
                  <a:lnTo>
                    <a:pt x="171" y="1236"/>
                  </a:lnTo>
                  <a:lnTo>
                    <a:pt x="219" y="1290"/>
                  </a:lnTo>
                  <a:lnTo>
                    <a:pt x="272" y="1339"/>
                  </a:lnTo>
                  <a:lnTo>
                    <a:pt x="330" y="1383"/>
                  </a:lnTo>
                  <a:lnTo>
                    <a:pt x="392" y="1420"/>
                  </a:lnTo>
                  <a:lnTo>
                    <a:pt x="457" y="1452"/>
                  </a:lnTo>
                  <a:lnTo>
                    <a:pt x="525" y="1477"/>
                  </a:lnTo>
                  <a:lnTo>
                    <a:pt x="598" y="1496"/>
                  </a:lnTo>
                  <a:lnTo>
                    <a:pt x="672" y="1507"/>
                  </a:lnTo>
                  <a:lnTo>
                    <a:pt x="748" y="1511"/>
                  </a:lnTo>
                  <a:close/>
                </a:path>
              </a:pathLst>
            </a:custGeom>
            <a:solidFill>
              <a:srgbClr val="db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98560" y="2281320"/>
              <a:ext cx="2345760" cy="2367000"/>
            </a:xfrm>
            <a:custGeom>
              <a:avLst/>
              <a:gdLst/>
              <a:ahLst/>
              <a:rect l="l" t="t" r="r" b="b"/>
              <a:pathLst>
                <a:path w="1478" h="1491">
                  <a:moveTo>
                    <a:pt x="739" y="1491"/>
                  </a:moveTo>
                  <a:lnTo>
                    <a:pt x="814" y="1487"/>
                  </a:lnTo>
                  <a:lnTo>
                    <a:pt x="888" y="1476"/>
                  </a:lnTo>
                  <a:lnTo>
                    <a:pt x="959" y="1458"/>
                  </a:lnTo>
                  <a:lnTo>
                    <a:pt x="1028" y="1432"/>
                  </a:lnTo>
                  <a:lnTo>
                    <a:pt x="1091" y="1401"/>
                  </a:lnTo>
                  <a:lnTo>
                    <a:pt x="1153" y="1364"/>
                  </a:lnTo>
                  <a:lnTo>
                    <a:pt x="1209" y="1321"/>
                  </a:lnTo>
                  <a:lnTo>
                    <a:pt x="1262" y="1273"/>
                  </a:lnTo>
                  <a:lnTo>
                    <a:pt x="1310" y="1221"/>
                  </a:lnTo>
                  <a:lnTo>
                    <a:pt x="1353" y="1163"/>
                  </a:lnTo>
                  <a:lnTo>
                    <a:pt x="1389" y="1101"/>
                  </a:lnTo>
                  <a:lnTo>
                    <a:pt x="1420" y="1036"/>
                  </a:lnTo>
                  <a:lnTo>
                    <a:pt x="1445" y="968"/>
                  </a:lnTo>
                  <a:lnTo>
                    <a:pt x="1463" y="896"/>
                  </a:lnTo>
                  <a:lnTo>
                    <a:pt x="1474" y="823"/>
                  </a:lnTo>
                  <a:lnTo>
                    <a:pt x="1478" y="746"/>
                  </a:lnTo>
                  <a:lnTo>
                    <a:pt x="1474" y="670"/>
                  </a:lnTo>
                  <a:lnTo>
                    <a:pt x="1463" y="596"/>
                  </a:lnTo>
                  <a:lnTo>
                    <a:pt x="1445" y="525"/>
                  </a:lnTo>
                  <a:lnTo>
                    <a:pt x="1420" y="456"/>
                  </a:lnTo>
                  <a:lnTo>
                    <a:pt x="1389" y="391"/>
                  </a:lnTo>
                  <a:lnTo>
                    <a:pt x="1353" y="329"/>
                  </a:lnTo>
                  <a:lnTo>
                    <a:pt x="1310" y="272"/>
                  </a:lnTo>
                  <a:lnTo>
                    <a:pt x="1262" y="219"/>
                  </a:lnTo>
                  <a:lnTo>
                    <a:pt x="1209" y="171"/>
                  </a:lnTo>
                  <a:lnTo>
                    <a:pt x="1153" y="127"/>
                  </a:lnTo>
                  <a:lnTo>
                    <a:pt x="1091" y="90"/>
                  </a:lnTo>
                  <a:lnTo>
                    <a:pt x="1028" y="59"/>
                  </a:lnTo>
                  <a:lnTo>
                    <a:pt x="959" y="34"/>
                  </a:lnTo>
                  <a:lnTo>
                    <a:pt x="888" y="16"/>
                  </a:lnTo>
                  <a:lnTo>
                    <a:pt x="814" y="4"/>
                  </a:lnTo>
                  <a:lnTo>
                    <a:pt x="739" y="0"/>
                  </a:lnTo>
                  <a:lnTo>
                    <a:pt x="664" y="4"/>
                  </a:lnTo>
                  <a:lnTo>
                    <a:pt x="590" y="16"/>
                  </a:lnTo>
                  <a:lnTo>
                    <a:pt x="519" y="34"/>
                  </a:lnTo>
                  <a:lnTo>
                    <a:pt x="452" y="59"/>
                  </a:lnTo>
                  <a:lnTo>
                    <a:pt x="387" y="90"/>
                  </a:lnTo>
                  <a:lnTo>
                    <a:pt x="326" y="127"/>
                  </a:lnTo>
                  <a:lnTo>
                    <a:pt x="269" y="171"/>
                  </a:lnTo>
                  <a:lnTo>
                    <a:pt x="216" y="219"/>
                  </a:lnTo>
                  <a:lnTo>
                    <a:pt x="169" y="272"/>
                  </a:lnTo>
                  <a:lnTo>
                    <a:pt x="127" y="329"/>
                  </a:lnTo>
                  <a:lnTo>
                    <a:pt x="89" y="391"/>
                  </a:lnTo>
                  <a:lnTo>
                    <a:pt x="58" y="456"/>
                  </a:lnTo>
                  <a:lnTo>
                    <a:pt x="34" y="525"/>
                  </a:lnTo>
                  <a:lnTo>
                    <a:pt x="15" y="596"/>
                  </a:lnTo>
                  <a:lnTo>
                    <a:pt x="4" y="670"/>
                  </a:lnTo>
                  <a:lnTo>
                    <a:pt x="0" y="746"/>
                  </a:lnTo>
                  <a:lnTo>
                    <a:pt x="4" y="823"/>
                  </a:lnTo>
                  <a:lnTo>
                    <a:pt x="15" y="896"/>
                  </a:lnTo>
                  <a:lnTo>
                    <a:pt x="34" y="968"/>
                  </a:lnTo>
                  <a:lnTo>
                    <a:pt x="58" y="1036"/>
                  </a:lnTo>
                  <a:lnTo>
                    <a:pt x="89" y="1101"/>
                  </a:lnTo>
                  <a:lnTo>
                    <a:pt x="127" y="1163"/>
                  </a:lnTo>
                  <a:lnTo>
                    <a:pt x="169" y="1221"/>
                  </a:lnTo>
                  <a:lnTo>
                    <a:pt x="216" y="1273"/>
                  </a:lnTo>
                  <a:lnTo>
                    <a:pt x="269" y="1321"/>
                  </a:lnTo>
                  <a:lnTo>
                    <a:pt x="326" y="1364"/>
                  </a:lnTo>
                  <a:lnTo>
                    <a:pt x="387" y="1401"/>
                  </a:lnTo>
                  <a:lnTo>
                    <a:pt x="452" y="1432"/>
                  </a:lnTo>
                  <a:lnTo>
                    <a:pt x="519" y="1458"/>
                  </a:lnTo>
                  <a:lnTo>
                    <a:pt x="590" y="1476"/>
                  </a:lnTo>
                  <a:lnTo>
                    <a:pt x="664" y="1487"/>
                  </a:lnTo>
                  <a:lnTo>
                    <a:pt x="739" y="1491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14400" y="2297160"/>
              <a:ext cx="2314080" cy="2336760"/>
            </a:xfrm>
            <a:custGeom>
              <a:avLst/>
              <a:gdLst/>
              <a:ahLst/>
              <a:rect l="l" t="t" r="r" b="b"/>
              <a:pathLst>
                <a:path w="1458" h="1472">
                  <a:moveTo>
                    <a:pt x="729" y="1472"/>
                  </a:moveTo>
                  <a:lnTo>
                    <a:pt x="804" y="1467"/>
                  </a:lnTo>
                  <a:lnTo>
                    <a:pt x="877" y="1456"/>
                  </a:lnTo>
                  <a:lnTo>
                    <a:pt x="947" y="1439"/>
                  </a:lnTo>
                  <a:lnTo>
                    <a:pt x="1014" y="1414"/>
                  </a:lnTo>
                  <a:lnTo>
                    <a:pt x="1077" y="1383"/>
                  </a:lnTo>
                  <a:lnTo>
                    <a:pt x="1137" y="1346"/>
                  </a:lnTo>
                  <a:lnTo>
                    <a:pt x="1194" y="1304"/>
                  </a:lnTo>
                  <a:lnTo>
                    <a:pt x="1246" y="1256"/>
                  </a:lnTo>
                  <a:lnTo>
                    <a:pt x="1292" y="1204"/>
                  </a:lnTo>
                  <a:lnTo>
                    <a:pt x="1334" y="1147"/>
                  </a:lnTo>
                  <a:lnTo>
                    <a:pt x="1370" y="1086"/>
                  </a:lnTo>
                  <a:lnTo>
                    <a:pt x="1401" y="1021"/>
                  </a:lnTo>
                  <a:lnTo>
                    <a:pt x="1426" y="955"/>
                  </a:lnTo>
                  <a:lnTo>
                    <a:pt x="1444" y="885"/>
                  </a:lnTo>
                  <a:lnTo>
                    <a:pt x="1454" y="811"/>
                  </a:lnTo>
                  <a:lnTo>
                    <a:pt x="1458" y="736"/>
                  </a:lnTo>
                  <a:lnTo>
                    <a:pt x="1454" y="662"/>
                  </a:lnTo>
                  <a:lnTo>
                    <a:pt x="1444" y="588"/>
                  </a:lnTo>
                  <a:lnTo>
                    <a:pt x="1426" y="518"/>
                  </a:lnTo>
                  <a:lnTo>
                    <a:pt x="1401" y="450"/>
                  </a:lnTo>
                  <a:lnTo>
                    <a:pt x="1370" y="385"/>
                  </a:lnTo>
                  <a:lnTo>
                    <a:pt x="1334" y="325"/>
                  </a:lnTo>
                  <a:lnTo>
                    <a:pt x="1292" y="268"/>
                  </a:lnTo>
                  <a:lnTo>
                    <a:pt x="1246" y="216"/>
                  </a:lnTo>
                  <a:lnTo>
                    <a:pt x="1194" y="168"/>
                  </a:lnTo>
                  <a:lnTo>
                    <a:pt x="1137" y="126"/>
                  </a:lnTo>
                  <a:lnTo>
                    <a:pt x="1077" y="89"/>
                  </a:lnTo>
                  <a:lnTo>
                    <a:pt x="1014" y="58"/>
                  </a:lnTo>
                  <a:lnTo>
                    <a:pt x="947" y="32"/>
                  </a:lnTo>
                  <a:lnTo>
                    <a:pt x="877" y="16"/>
                  </a:lnTo>
                  <a:lnTo>
                    <a:pt x="804" y="4"/>
                  </a:lnTo>
                  <a:lnTo>
                    <a:pt x="729" y="0"/>
                  </a:lnTo>
                  <a:lnTo>
                    <a:pt x="654" y="4"/>
                  </a:lnTo>
                  <a:lnTo>
                    <a:pt x="583" y="16"/>
                  </a:lnTo>
                  <a:lnTo>
                    <a:pt x="513" y="32"/>
                  </a:lnTo>
                  <a:lnTo>
                    <a:pt x="446" y="58"/>
                  </a:lnTo>
                  <a:lnTo>
                    <a:pt x="382" y="89"/>
                  </a:lnTo>
                  <a:lnTo>
                    <a:pt x="321" y="126"/>
                  </a:lnTo>
                  <a:lnTo>
                    <a:pt x="266" y="168"/>
                  </a:lnTo>
                  <a:lnTo>
                    <a:pt x="214" y="216"/>
                  </a:lnTo>
                  <a:lnTo>
                    <a:pt x="167" y="268"/>
                  </a:lnTo>
                  <a:lnTo>
                    <a:pt x="125" y="325"/>
                  </a:lnTo>
                  <a:lnTo>
                    <a:pt x="88" y="385"/>
                  </a:lnTo>
                  <a:lnTo>
                    <a:pt x="57" y="450"/>
                  </a:lnTo>
                  <a:lnTo>
                    <a:pt x="33" y="518"/>
                  </a:lnTo>
                  <a:lnTo>
                    <a:pt x="14" y="588"/>
                  </a:lnTo>
                  <a:lnTo>
                    <a:pt x="4" y="662"/>
                  </a:lnTo>
                  <a:lnTo>
                    <a:pt x="0" y="736"/>
                  </a:lnTo>
                  <a:lnTo>
                    <a:pt x="4" y="811"/>
                  </a:lnTo>
                  <a:lnTo>
                    <a:pt x="14" y="885"/>
                  </a:lnTo>
                  <a:lnTo>
                    <a:pt x="33" y="955"/>
                  </a:lnTo>
                  <a:lnTo>
                    <a:pt x="57" y="1021"/>
                  </a:lnTo>
                  <a:lnTo>
                    <a:pt x="88" y="1086"/>
                  </a:lnTo>
                  <a:lnTo>
                    <a:pt x="125" y="1147"/>
                  </a:lnTo>
                  <a:lnTo>
                    <a:pt x="167" y="1204"/>
                  </a:lnTo>
                  <a:lnTo>
                    <a:pt x="214" y="1256"/>
                  </a:lnTo>
                  <a:lnTo>
                    <a:pt x="266" y="1304"/>
                  </a:lnTo>
                  <a:lnTo>
                    <a:pt x="321" y="1346"/>
                  </a:lnTo>
                  <a:lnTo>
                    <a:pt x="382" y="1383"/>
                  </a:lnTo>
                  <a:lnTo>
                    <a:pt x="446" y="1414"/>
                  </a:lnTo>
                  <a:lnTo>
                    <a:pt x="513" y="1439"/>
                  </a:lnTo>
                  <a:lnTo>
                    <a:pt x="583" y="1456"/>
                  </a:lnTo>
                  <a:lnTo>
                    <a:pt x="654" y="1467"/>
                  </a:lnTo>
                  <a:lnTo>
                    <a:pt x="729" y="1472"/>
                  </a:lnTo>
                  <a:close/>
                </a:path>
              </a:pathLst>
            </a:custGeom>
            <a:solidFill>
              <a:srgbClr val="e0e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28440" y="2313000"/>
              <a:ext cx="2284200" cy="2305080"/>
            </a:xfrm>
            <a:custGeom>
              <a:avLst/>
              <a:gdLst/>
              <a:ahLst/>
              <a:rect l="l" t="t" r="r" b="b"/>
              <a:pathLst>
                <a:path w="1439" h="1452">
                  <a:moveTo>
                    <a:pt x="720" y="1452"/>
                  </a:moveTo>
                  <a:lnTo>
                    <a:pt x="794" y="1447"/>
                  </a:lnTo>
                  <a:lnTo>
                    <a:pt x="865" y="1438"/>
                  </a:lnTo>
                  <a:lnTo>
                    <a:pt x="934" y="1419"/>
                  </a:lnTo>
                  <a:lnTo>
                    <a:pt x="1000" y="1395"/>
                  </a:lnTo>
                  <a:lnTo>
                    <a:pt x="1063" y="1364"/>
                  </a:lnTo>
                  <a:lnTo>
                    <a:pt x="1123" y="1328"/>
                  </a:lnTo>
                  <a:lnTo>
                    <a:pt x="1177" y="1287"/>
                  </a:lnTo>
                  <a:lnTo>
                    <a:pt x="1229" y="1239"/>
                  </a:lnTo>
                  <a:lnTo>
                    <a:pt x="1274" y="1188"/>
                  </a:lnTo>
                  <a:lnTo>
                    <a:pt x="1316" y="1131"/>
                  </a:lnTo>
                  <a:lnTo>
                    <a:pt x="1352" y="1072"/>
                  </a:lnTo>
                  <a:lnTo>
                    <a:pt x="1382" y="1009"/>
                  </a:lnTo>
                  <a:lnTo>
                    <a:pt x="1406" y="942"/>
                  </a:lnTo>
                  <a:lnTo>
                    <a:pt x="1424" y="873"/>
                  </a:lnTo>
                  <a:lnTo>
                    <a:pt x="1435" y="801"/>
                  </a:lnTo>
                  <a:lnTo>
                    <a:pt x="1439" y="726"/>
                  </a:lnTo>
                  <a:lnTo>
                    <a:pt x="1435" y="652"/>
                  </a:lnTo>
                  <a:lnTo>
                    <a:pt x="1424" y="580"/>
                  </a:lnTo>
                  <a:lnTo>
                    <a:pt x="1406" y="511"/>
                  </a:lnTo>
                  <a:lnTo>
                    <a:pt x="1382" y="444"/>
                  </a:lnTo>
                  <a:lnTo>
                    <a:pt x="1352" y="381"/>
                  </a:lnTo>
                  <a:lnTo>
                    <a:pt x="1316" y="320"/>
                  </a:lnTo>
                  <a:lnTo>
                    <a:pt x="1274" y="265"/>
                  </a:lnTo>
                  <a:lnTo>
                    <a:pt x="1229" y="213"/>
                  </a:lnTo>
                  <a:lnTo>
                    <a:pt x="1177" y="166"/>
                  </a:lnTo>
                  <a:lnTo>
                    <a:pt x="1123" y="124"/>
                  </a:lnTo>
                  <a:lnTo>
                    <a:pt x="1063" y="87"/>
                  </a:lnTo>
                  <a:lnTo>
                    <a:pt x="1000" y="58"/>
                  </a:lnTo>
                  <a:lnTo>
                    <a:pt x="934" y="32"/>
                  </a:lnTo>
                  <a:lnTo>
                    <a:pt x="865" y="14"/>
                  </a:lnTo>
                  <a:lnTo>
                    <a:pt x="794" y="4"/>
                  </a:lnTo>
                  <a:lnTo>
                    <a:pt x="720" y="0"/>
                  </a:lnTo>
                  <a:lnTo>
                    <a:pt x="646" y="4"/>
                  </a:lnTo>
                  <a:lnTo>
                    <a:pt x="575" y="14"/>
                  </a:lnTo>
                  <a:lnTo>
                    <a:pt x="506" y="32"/>
                  </a:lnTo>
                  <a:lnTo>
                    <a:pt x="440" y="58"/>
                  </a:lnTo>
                  <a:lnTo>
                    <a:pt x="377" y="87"/>
                  </a:lnTo>
                  <a:lnTo>
                    <a:pt x="317" y="124"/>
                  </a:lnTo>
                  <a:lnTo>
                    <a:pt x="262" y="166"/>
                  </a:lnTo>
                  <a:lnTo>
                    <a:pt x="211" y="213"/>
                  </a:lnTo>
                  <a:lnTo>
                    <a:pt x="165" y="265"/>
                  </a:lnTo>
                  <a:lnTo>
                    <a:pt x="123" y="320"/>
                  </a:lnTo>
                  <a:lnTo>
                    <a:pt x="87" y="381"/>
                  </a:lnTo>
                  <a:lnTo>
                    <a:pt x="57" y="444"/>
                  </a:lnTo>
                  <a:lnTo>
                    <a:pt x="33" y="511"/>
                  </a:lnTo>
                  <a:lnTo>
                    <a:pt x="15" y="580"/>
                  </a:lnTo>
                  <a:lnTo>
                    <a:pt x="4" y="652"/>
                  </a:lnTo>
                  <a:lnTo>
                    <a:pt x="0" y="726"/>
                  </a:lnTo>
                  <a:lnTo>
                    <a:pt x="4" y="801"/>
                  </a:lnTo>
                  <a:lnTo>
                    <a:pt x="15" y="873"/>
                  </a:lnTo>
                  <a:lnTo>
                    <a:pt x="33" y="942"/>
                  </a:lnTo>
                  <a:lnTo>
                    <a:pt x="57" y="1009"/>
                  </a:lnTo>
                  <a:lnTo>
                    <a:pt x="87" y="1072"/>
                  </a:lnTo>
                  <a:lnTo>
                    <a:pt x="123" y="1131"/>
                  </a:lnTo>
                  <a:lnTo>
                    <a:pt x="165" y="1188"/>
                  </a:lnTo>
                  <a:lnTo>
                    <a:pt x="211" y="1239"/>
                  </a:lnTo>
                  <a:lnTo>
                    <a:pt x="262" y="1287"/>
                  </a:lnTo>
                  <a:lnTo>
                    <a:pt x="317" y="1328"/>
                  </a:lnTo>
                  <a:lnTo>
                    <a:pt x="377" y="1364"/>
                  </a:lnTo>
                  <a:lnTo>
                    <a:pt x="440" y="1395"/>
                  </a:lnTo>
                  <a:lnTo>
                    <a:pt x="506" y="1419"/>
                  </a:lnTo>
                  <a:lnTo>
                    <a:pt x="575" y="1438"/>
                  </a:lnTo>
                  <a:lnTo>
                    <a:pt x="646" y="1447"/>
                  </a:lnTo>
                  <a:lnTo>
                    <a:pt x="720" y="145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46080" y="2328840"/>
              <a:ext cx="2252160" cy="2273400"/>
            </a:xfrm>
            <a:custGeom>
              <a:avLst/>
              <a:gdLst/>
              <a:ahLst/>
              <a:rect l="l" t="t" r="r" b="b"/>
              <a:pathLst>
                <a:path w="1419" h="1432">
                  <a:moveTo>
                    <a:pt x="709" y="1432"/>
                  </a:moveTo>
                  <a:lnTo>
                    <a:pt x="782" y="1428"/>
                  </a:lnTo>
                  <a:lnTo>
                    <a:pt x="853" y="1418"/>
                  </a:lnTo>
                  <a:lnTo>
                    <a:pt x="920" y="1399"/>
                  </a:lnTo>
                  <a:lnTo>
                    <a:pt x="985" y="1375"/>
                  </a:lnTo>
                  <a:lnTo>
                    <a:pt x="1047" y="1346"/>
                  </a:lnTo>
                  <a:lnTo>
                    <a:pt x="1107" y="1309"/>
                  </a:lnTo>
                  <a:lnTo>
                    <a:pt x="1161" y="1268"/>
                  </a:lnTo>
                  <a:lnTo>
                    <a:pt x="1211" y="1222"/>
                  </a:lnTo>
                  <a:lnTo>
                    <a:pt x="1257" y="1171"/>
                  </a:lnTo>
                  <a:lnTo>
                    <a:pt x="1298" y="1116"/>
                  </a:lnTo>
                  <a:lnTo>
                    <a:pt x="1333" y="1058"/>
                  </a:lnTo>
                  <a:lnTo>
                    <a:pt x="1363" y="994"/>
                  </a:lnTo>
                  <a:lnTo>
                    <a:pt x="1386" y="930"/>
                  </a:lnTo>
                  <a:lnTo>
                    <a:pt x="1404" y="860"/>
                  </a:lnTo>
                  <a:lnTo>
                    <a:pt x="1415" y="790"/>
                  </a:lnTo>
                  <a:lnTo>
                    <a:pt x="1419" y="716"/>
                  </a:lnTo>
                  <a:lnTo>
                    <a:pt x="1415" y="643"/>
                  </a:lnTo>
                  <a:lnTo>
                    <a:pt x="1404" y="573"/>
                  </a:lnTo>
                  <a:lnTo>
                    <a:pt x="1386" y="503"/>
                  </a:lnTo>
                  <a:lnTo>
                    <a:pt x="1363" y="437"/>
                  </a:lnTo>
                  <a:lnTo>
                    <a:pt x="1333" y="375"/>
                  </a:lnTo>
                  <a:lnTo>
                    <a:pt x="1298" y="316"/>
                  </a:lnTo>
                  <a:lnTo>
                    <a:pt x="1257" y="261"/>
                  </a:lnTo>
                  <a:lnTo>
                    <a:pt x="1211" y="210"/>
                  </a:lnTo>
                  <a:lnTo>
                    <a:pt x="1161" y="163"/>
                  </a:lnTo>
                  <a:lnTo>
                    <a:pt x="1107" y="123"/>
                  </a:lnTo>
                  <a:lnTo>
                    <a:pt x="1047" y="86"/>
                  </a:lnTo>
                  <a:lnTo>
                    <a:pt x="985" y="56"/>
                  </a:lnTo>
                  <a:lnTo>
                    <a:pt x="920" y="32"/>
                  </a:lnTo>
                  <a:lnTo>
                    <a:pt x="853" y="14"/>
                  </a:lnTo>
                  <a:lnTo>
                    <a:pt x="782" y="4"/>
                  </a:lnTo>
                  <a:lnTo>
                    <a:pt x="709" y="0"/>
                  </a:lnTo>
                  <a:lnTo>
                    <a:pt x="637" y="4"/>
                  </a:lnTo>
                  <a:lnTo>
                    <a:pt x="565" y="14"/>
                  </a:lnTo>
                  <a:lnTo>
                    <a:pt x="498" y="32"/>
                  </a:lnTo>
                  <a:lnTo>
                    <a:pt x="433" y="56"/>
                  </a:lnTo>
                  <a:lnTo>
                    <a:pt x="371" y="86"/>
                  </a:lnTo>
                  <a:lnTo>
                    <a:pt x="312" y="123"/>
                  </a:lnTo>
                  <a:lnTo>
                    <a:pt x="257" y="163"/>
                  </a:lnTo>
                  <a:lnTo>
                    <a:pt x="207" y="210"/>
                  </a:lnTo>
                  <a:lnTo>
                    <a:pt x="161" y="261"/>
                  </a:lnTo>
                  <a:lnTo>
                    <a:pt x="120" y="316"/>
                  </a:lnTo>
                  <a:lnTo>
                    <a:pt x="85" y="375"/>
                  </a:lnTo>
                  <a:lnTo>
                    <a:pt x="55" y="437"/>
                  </a:lnTo>
                  <a:lnTo>
                    <a:pt x="32" y="503"/>
                  </a:lnTo>
                  <a:lnTo>
                    <a:pt x="14" y="573"/>
                  </a:lnTo>
                  <a:lnTo>
                    <a:pt x="4" y="643"/>
                  </a:lnTo>
                  <a:lnTo>
                    <a:pt x="0" y="716"/>
                  </a:lnTo>
                  <a:lnTo>
                    <a:pt x="4" y="790"/>
                  </a:lnTo>
                  <a:lnTo>
                    <a:pt x="14" y="860"/>
                  </a:lnTo>
                  <a:lnTo>
                    <a:pt x="32" y="930"/>
                  </a:lnTo>
                  <a:lnTo>
                    <a:pt x="55" y="994"/>
                  </a:lnTo>
                  <a:lnTo>
                    <a:pt x="85" y="1058"/>
                  </a:lnTo>
                  <a:lnTo>
                    <a:pt x="120" y="1116"/>
                  </a:lnTo>
                  <a:lnTo>
                    <a:pt x="161" y="1171"/>
                  </a:lnTo>
                  <a:lnTo>
                    <a:pt x="207" y="1222"/>
                  </a:lnTo>
                  <a:lnTo>
                    <a:pt x="257" y="1268"/>
                  </a:lnTo>
                  <a:lnTo>
                    <a:pt x="312" y="1309"/>
                  </a:lnTo>
                  <a:lnTo>
                    <a:pt x="371" y="1346"/>
                  </a:lnTo>
                  <a:lnTo>
                    <a:pt x="433" y="1375"/>
                  </a:lnTo>
                  <a:lnTo>
                    <a:pt x="498" y="1399"/>
                  </a:lnTo>
                  <a:lnTo>
                    <a:pt x="565" y="1418"/>
                  </a:lnTo>
                  <a:lnTo>
                    <a:pt x="637" y="1428"/>
                  </a:lnTo>
                  <a:lnTo>
                    <a:pt x="709" y="1432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60480" y="2344680"/>
              <a:ext cx="2220480" cy="2241720"/>
            </a:xfrm>
            <a:custGeom>
              <a:avLst/>
              <a:gdLst/>
              <a:ahLst/>
              <a:rect l="l" t="t" r="r" b="b"/>
              <a:pathLst>
                <a:path w="1399" h="1412">
                  <a:moveTo>
                    <a:pt x="700" y="1412"/>
                  </a:moveTo>
                  <a:lnTo>
                    <a:pt x="771" y="1408"/>
                  </a:lnTo>
                  <a:lnTo>
                    <a:pt x="841" y="1398"/>
                  </a:lnTo>
                  <a:lnTo>
                    <a:pt x="909" y="1381"/>
                  </a:lnTo>
                  <a:lnTo>
                    <a:pt x="973" y="1357"/>
                  </a:lnTo>
                  <a:lnTo>
                    <a:pt x="1034" y="1327"/>
                  </a:lnTo>
                  <a:lnTo>
                    <a:pt x="1091" y="1292"/>
                  </a:lnTo>
                  <a:lnTo>
                    <a:pt x="1145" y="1251"/>
                  </a:lnTo>
                  <a:lnTo>
                    <a:pt x="1195" y="1205"/>
                  </a:lnTo>
                  <a:lnTo>
                    <a:pt x="1240" y="1155"/>
                  </a:lnTo>
                  <a:lnTo>
                    <a:pt x="1280" y="1100"/>
                  </a:lnTo>
                  <a:lnTo>
                    <a:pt x="1315" y="1042"/>
                  </a:lnTo>
                  <a:lnTo>
                    <a:pt x="1345" y="982"/>
                  </a:lnTo>
                  <a:lnTo>
                    <a:pt x="1368" y="917"/>
                  </a:lnTo>
                  <a:lnTo>
                    <a:pt x="1385" y="849"/>
                  </a:lnTo>
                  <a:lnTo>
                    <a:pt x="1395" y="778"/>
                  </a:lnTo>
                  <a:lnTo>
                    <a:pt x="1399" y="706"/>
                  </a:lnTo>
                  <a:lnTo>
                    <a:pt x="1395" y="635"/>
                  </a:lnTo>
                  <a:lnTo>
                    <a:pt x="1385" y="564"/>
                  </a:lnTo>
                  <a:lnTo>
                    <a:pt x="1368" y="496"/>
                  </a:lnTo>
                  <a:lnTo>
                    <a:pt x="1345" y="431"/>
                  </a:lnTo>
                  <a:lnTo>
                    <a:pt x="1315" y="369"/>
                  </a:lnTo>
                  <a:lnTo>
                    <a:pt x="1280" y="311"/>
                  </a:lnTo>
                  <a:lnTo>
                    <a:pt x="1240" y="256"/>
                  </a:lnTo>
                  <a:lnTo>
                    <a:pt x="1195" y="207"/>
                  </a:lnTo>
                  <a:lnTo>
                    <a:pt x="1145" y="160"/>
                  </a:lnTo>
                  <a:lnTo>
                    <a:pt x="1091" y="120"/>
                  </a:lnTo>
                  <a:lnTo>
                    <a:pt x="1034" y="84"/>
                  </a:lnTo>
                  <a:lnTo>
                    <a:pt x="973" y="55"/>
                  </a:lnTo>
                  <a:lnTo>
                    <a:pt x="909" y="31"/>
                  </a:lnTo>
                  <a:lnTo>
                    <a:pt x="841" y="14"/>
                  </a:lnTo>
                  <a:lnTo>
                    <a:pt x="771" y="4"/>
                  </a:lnTo>
                  <a:lnTo>
                    <a:pt x="700" y="0"/>
                  </a:lnTo>
                  <a:lnTo>
                    <a:pt x="629" y="4"/>
                  </a:lnTo>
                  <a:lnTo>
                    <a:pt x="559" y="14"/>
                  </a:lnTo>
                  <a:lnTo>
                    <a:pt x="492" y="31"/>
                  </a:lnTo>
                  <a:lnTo>
                    <a:pt x="428" y="55"/>
                  </a:lnTo>
                  <a:lnTo>
                    <a:pt x="366" y="84"/>
                  </a:lnTo>
                  <a:lnTo>
                    <a:pt x="309" y="120"/>
                  </a:lnTo>
                  <a:lnTo>
                    <a:pt x="255" y="160"/>
                  </a:lnTo>
                  <a:lnTo>
                    <a:pt x="206" y="207"/>
                  </a:lnTo>
                  <a:lnTo>
                    <a:pt x="160" y="256"/>
                  </a:lnTo>
                  <a:lnTo>
                    <a:pt x="120" y="311"/>
                  </a:lnTo>
                  <a:lnTo>
                    <a:pt x="84" y="369"/>
                  </a:lnTo>
                  <a:lnTo>
                    <a:pt x="55" y="431"/>
                  </a:lnTo>
                  <a:lnTo>
                    <a:pt x="31" y="496"/>
                  </a:lnTo>
                  <a:lnTo>
                    <a:pt x="14" y="564"/>
                  </a:lnTo>
                  <a:lnTo>
                    <a:pt x="4" y="635"/>
                  </a:lnTo>
                  <a:lnTo>
                    <a:pt x="0" y="706"/>
                  </a:lnTo>
                  <a:lnTo>
                    <a:pt x="4" y="778"/>
                  </a:lnTo>
                  <a:lnTo>
                    <a:pt x="14" y="849"/>
                  </a:lnTo>
                  <a:lnTo>
                    <a:pt x="31" y="917"/>
                  </a:lnTo>
                  <a:lnTo>
                    <a:pt x="55" y="982"/>
                  </a:lnTo>
                  <a:lnTo>
                    <a:pt x="84" y="1042"/>
                  </a:lnTo>
                  <a:lnTo>
                    <a:pt x="120" y="1100"/>
                  </a:lnTo>
                  <a:lnTo>
                    <a:pt x="160" y="1155"/>
                  </a:lnTo>
                  <a:lnTo>
                    <a:pt x="206" y="1205"/>
                  </a:lnTo>
                  <a:lnTo>
                    <a:pt x="255" y="1251"/>
                  </a:lnTo>
                  <a:lnTo>
                    <a:pt x="309" y="1292"/>
                  </a:lnTo>
                  <a:lnTo>
                    <a:pt x="366" y="1327"/>
                  </a:lnTo>
                  <a:lnTo>
                    <a:pt x="428" y="1357"/>
                  </a:lnTo>
                  <a:lnTo>
                    <a:pt x="492" y="1381"/>
                  </a:lnTo>
                  <a:lnTo>
                    <a:pt x="559" y="1398"/>
                  </a:lnTo>
                  <a:lnTo>
                    <a:pt x="629" y="1408"/>
                  </a:lnTo>
                  <a:lnTo>
                    <a:pt x="700" y="1412"/>
                  </a:lnTo>
                  <a:close/>
                </a:path>
              </a:pathLst>
            </a:custGeom>
            <a:solidFill>
              <a:srgbClr val="ea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76320" y="2360520"/>
              <a:ext cx="2190240" cy="2210040"/>
            </a:xfrm>
            <a:custGeom>
              <a:avLst/>
              <a:gdLst/>
              <a:ahLst/>
              <a:rect l="l" t="t" r="r" b="b"/>
              <a:pathLst>
                <a:path w="1380" h="1392">
                  <a:moveTo>
                    <a:pt x="690" y="1392"/>
                  </a:moveTo>
                  <a:lnTo>
                    <a:pt x="761" y="1388"/>
                  </a:lnTo>
                  <a:lnTo>
                    <a:pt x="830" y="1378"/>
                  </a:lnTo>
                  <a:lnTo>
                    <a:pt x="896" y="1361"/>
                  </a:lnTo>
                  <a:lnTo>
                    <a:pt x="959" y="1337"/>
                  </a:lnTo>
                  <a:lnTo>
                    <a:pt x="1019" y="1307"/>
                  </a:lnTo>
                  <a:lnTo>
                    <a:pt x="1076" y="1274"/>
                  </a:lnTo>
                  <a:lnTo>
                    <a:pt x="1129" y="1233"/>
                  </a:lnTo>
                  <a:lnTo>
                    <a:pt x="1178" y="1187"/>
                  </a:lnTo>
                  <a:lnTo>
                    <a:pt x="1222" y="1138"/>
                  </a:lnTo>
                  <a:lnTo>
                    <a:pt x="1262" y="1086"/>
                  </a:lnTo>
                  <a:lnTo>
                    <a:pt x="1297" y="1028"/>
                  </a:lnTo>
                  <a:lnTo>
                    <a:pt x="1326" y="967"/>
                  </a:lnTo>
                  <a:lnTo>
                    <a:pt x="1349" y="904"/>
                  </a:lnTo>
                  <a:lnTo>
                    <a:pt x="1366" y="836"/>
                  </a:lnTo>
                  <a:lnTo>
                    <a:pt x="1376" y="767"/>
                  </a:lnTo>
                  <a:lnTo>
                    <a:pt x="1380" y="696"/>
                  </a:lnTo>
                  <a:lnTo>
                    <a:pt x="1376" y="625"/>
                  </a:lnTo>
                  <a:lnTo>
                    <a:pt x="1366" y="555"/>
                  </a:lnTo>
                  <a:lnTo>
                    <a:pt x="1349" y="489"/>
                  </a:lnTo>
                  <a:lnTo>
                    <a:pt x="1326" y="426"/>
                  </a:lnTo>
                  <a:lnTo>
                    <a:pt x="1297" y="364"/>
                  </a:lnTo>
                  <a:lnTo>
                    <a:pt x="1262" y="307"/>
                  </a:lnTo>
                  <a:lnTo>
                    <a:pt x="1222" y="253"/>
                  </a:lnTo>
                  <a:lnTo>
                    <a:pt x="1178" y="204"/>
                  </a:lnTo>
                  <a:lnTo>
                    <a:pt x="1129" y="159"/>
                  </a:lnTo>
                  <a:lnTo>
                    <a:pt x="1076" y="118"/>
                  </a:lnTo>
                  <a:lnTo>
                    <a:pt x="1019" y="84"/>
                  </a:lnTo>
                  <a:lnTo>
                    <a:pt x="959" y="55"/>
                  </a:lnTo>
                  <a:lnTo>
                    <a:pt x="896" y="31"/>
                  </a:lnTo>
                  <a:lnTo>
                    <a:pt x="830" y="14"/>
                  </a:lnTo>
                  <a:lnTo>
                    <a:pt x="761" y="4"/>
                  </a:lnTo>
                  <a:lnTo>
                    <a:pt x="690" y="0"/>
                  </a:lnTo>
                  <a:lnTo>
                    <a:pt x="620" y="4"/>
                  </a:lnTo>
                  <a:lnTo>
                    <a:pt x="552" y="14"/>
                  </a:lnTo>
                  <a:lnTo>
                    <a:pt x="486" y="31"/>
                  </a:lnTo>
                  <a:lnTo>
                    <a:pt x="422" y="55"/>
                  </a:lnTo>
                  <a:lnTo>
                    <a:pt x="361" y="84"/>
                  </a:lnTo>
                  <a:lnTo>
                    <a:pt x="304" y="118"/>
                  </a:lnTo>
                  <a:lnTo>
                    <a:pt x="251" y="159"/>
                  </a:lnTo>
                  <a:lnTo>
                    <a:pt x="202" y="204"/>
                  </a:lnTo>
                  <a:lnTo>
                    <a:pt x="158" y="253"/>
                  </a:lnTo>
                  <a:lnTo>
                    <a:pt x="118" y="307"/>
                  </a:lnTo>
                  <a:lnTo>
                    <a:pt x="83" y="364"/>
                  </a:lnTo>
                  <a:lnTo>
                    <a:pt x="54" y="426"/>
                  </a:lnTo>
                  <a:lnTo>
                    <a:pt x="31" y="489"/>
                  </a:lnTo>
                  <a:lnTo>
                    <a:pt x="14" y="555"/>
                  </a:lnTo>
                  <a:lnTo>
                    <a:pt x="4" y="625"/>
                  </a:lnTo>
                  <a:lnTo>
                    <a:pt x="0" y="696"/>
                  </a:lnTo>
                  <a:lnTo>
                    <a:pt x="4" y="767"/>
                  </a:lnTo>
                  <a:lnTo>
                    <a:pt x="14" y="836"/>
                  </a:lnTo>
                  <a:lnTo>
                    <a:pt x="31" y="904"/>
                  </a:lnTo>
                  <a:lnTo>
                    <a:pt x="54" y="967"/>
                  </a:lnTo>
                  <a:lnTo>
                    <a:pt x="83" y="1028"/>
                  </a:lnTo>
                  <a:lnTo>
                    <a:pt x="118" y="1086"/>
                  </a:lnTo>
                  <a:lnTo>
                    <a:pt x="158" y="1138"/>
                  </a:lnTo>
                  <a:lnTo>
                    <a:pt x="202" y="1187"/>
                  </a:lnTo>
                  <a:lnTo>
                    <a:pt x="251" y="1233"/>
                  </a:lnTo>
                  <a:lnTo>
                    <a:pt x="304" y="1274"/>
                  </a:lnTo>
                  <a:lnTo>
                    <a:pt x="361" y="1307"/>
                  </a:lnTo>
                  <a:lnTo>
                    <a:pt x="422" y="1337"/>
                  </a:lnTo>
                  <a:lnTo>
                    <a:pt x="486" y="1361"/>
                  </a:lnTo>
                  <a:lnTo>
                    <a:pt x="552" y="1378"/>
                  </a:lnTo>
                  <a:lnTo>
                    <a:pt x="620" y="1388"/>
                  </a:lnTo>
                  <a:lnTo>
                    <a:pt x="690" y="1392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90360" y="2374920"/>
              <a:ext cx="2161800" cy="2179440"/>
            </a:xfrm>
            <a:custGeom>
              <a:avLst/>
              <a:gdLst/>
              <a:ahLst/>
              <a:rect l="l" t="t" r="r" b="b"/>
              <a:pathLst>
                <a:path w="1362" h="1373">
                  <a:moveTo>
                    <a:pt x="681" y="1373"/>
                  </a:moveTo>
                  <a:lnTo>
                    <a:pt x="751" y="1369"/>
                  </a:lnTo>
                  <a:lnTo>
                    <a:pt x="818" y="1359"/>
                  </a:lnTo>
                  <a:lnTo>
                    <a:pt x="884" y="1342"/>
                  </a:lnTo>
                  <a:lnTo>
                    <a:pt x="947" y="1320"/>
                  </a:lnTo>
                  <a:lnTo>
                    <a:pt x="1006" y="1290"/>
                  </a:lnTo>
                  <a:lnTo>
                    <a:pt x="1062" y="1256"/>
                  </a:lnTo>
                  <a:lnTo>
                    <a:pt x="1115" y="1217"/>
                  </a:lnTo>
                  <a:lnTo>
                    <a:pt x="1163" y="1171"/>
                  </a:lnTo>
                  <a:lnTo>
                    <a:pt x="1207" y="1123"/>
                  </a:lnTo>
                  <a:lnTo>
                    <a:pt x="1246" y="1071"/>
                  </a:lnTo>
                  <a:lnTo>
                    <a:pt x="1281" y="1013"/>
                  </a:lnTo>
                  <a:lnTo>
                    <a:pt x="1309" y="954"/>
                  </a:lnTo>
                  <a:lnTo>
                    <a:pt x="1331" y="891"/>
                  </a:lnTo>
                  <a:lnTo>
                    <a:pt x="1348" y="826"/>
                  </a:lnTo>
                  <a:lnTo>
                    <a:pt x="1358" y="758"/>
                  </a:lnTo>
                  <a:lnTo>
                    <a:pt x="1362" y="687"/>
                  </a:lnTo>
                  <a:lnTo>
                    <a:pt x="1358" y="617"/>
                  </a:lnTo>
                  <a:lnTo>
                    <a:pt x="1348" y="549"/>
                  </a:lnTo>
                  <a:lnTo>
                    <a:pt x="1331" y="483"/>
                  </a:lnTo>
                  <a:lnTo>
                    <a:pt x="1309" y="419"/>
                  </a:lnTo>
                  <a:lnTo>
                    <a:pt x="1281" y="360"/>
                  </a:lnTo>
                  <a:lnTo>
                    <a:pt x="1246" y="304"/>
                  </a:lnTo>
                  <a:lnTo>
                    <a:pt x="1207" y="250"/>
                  </a:lnTo>
                  <a:lnTo>
                    <a:pt x="1163" y="202"/>
                  </a:lnTo>
                  <a:lnTo>
                    <a:pt x="1115" y="157"/>
                  </a:lnTo>
                  <a:lnTo>
                    <a:pt x="1062" y="117"/>
                  </a:lnTo>
                  <a:lnTo>
                    <a:pt x="1006" y="84"/>
                  </a:lnTo>
                  <a:lnTo>
                    <a:pt x="947" y="54"/>
                  </a:lnTo>
                  <a:lnTo>
                    <a:pt x="884" y="31"/>
                  </a:lnTo>
                  <a:lnTo>
                    <a:pt x="818" y="15"/>
                  </a:lnTo>
                  <a:lnTo>
                    <a:pt x="751" y="5"/>
                  </a:lnTo>
                  <a:lnTo>
                    <a:pt x="681" y="0"/>
                  </a:lnTo>
                  <a:lnTo>
                    <a:pt x="611" y="5"/>
                  </a:lnTo>
                  <a:lnTo>
                    <a:pt x="544" y="15"/>
                  </a:lnTo>
                  <a:lnTo>
                    <a:pt x="479" y="31"/>
                  </a:lnTo>
                  <a:lnTo>
                    <a:pt x="416" y="54"/>
                  </a:lnTo>
                  <a:lnTo>
                    <a:pt x="356" y="84"/>
                  </a:lnTo>
                  <a:lnTo>
                    <a:pt x="300" y="117"/>
                  </a:lnTo>
                  <a:lnTo>
                    <a:pt x="249" y="157"/>
                  </a:lnTo>
                  <a:lnTo>
                    <a:pt x="199" y="202"/>
                  </a:lnTo>
                  <a:lnTo>
                    <a:pt x="155" y="250"/>
                  </a:lnTo>
                  <a:lnTo>
                    <a:pt x="117" y="304"/>
                  </a:lnTo>
                  <a:lnTo>
                    <a:pt x="83" y="360"/>
                  </a:lnTo>
                  <a:lnTo>
                    <a:pt x="53" y="419"/>
                  </a:lnTo>
                  <a:lnTo>
                    <a:pt x="31" y="483"/>
                  </a:lnTo>
                  <a:lnTo>
                    <a:pt x="14" y="549"/>
                  </a:lnTo>
                  <a:lnTo>
                    <a:pt x="4" y="617"/>
                  </a:lnTo>
                  <a:lnTo>
                    <a:pt x="0" y="687"/>
                  </a:lnTo>
                  <a:lnTo>
                    <a:pt x="4" y="758"/>
                  </a:lnTo>
                  <a:lnTo>
                    <a:pt x="14" y="826"/>
                  </a:lnTo>
                  <a:lnTo>
                    <a:pt x="31" y="891"/>
                  </a:lnTo>
                  <a:lnTo>
                    <a:pt x="53" y="954"/>
                  </a:lnTo>
                  <a:lnTo>
                    <a:pt x="83" y="1013"/>
                  </a:lnTo>
                  <a:lnTo>
                    <a:pt x="117" y="1071"/>
                  </a:lnTo>
                  <a:lnTo>
                    <a:pt x="155" y="1123"/>
                  </a:lnTo>
                  <a:lnTo>
                    <a:pt x="199" y="1171"/>
                  </a:lnTo>
                  <a:lnTo>
                    <a:pt x="249" y="1217"/>
                  </a:lnTo>
                  <a:lnTo>
                    <a:pt x="300" y="1256"/>
                  </a:lnTo>
                  <a:lnTo>
                    <a:pt x="356" y="1290"/>
                  </a:lnTo>
                  <a:lnTo>
                    <a:pt x="416" y="1320"/>
                  </a:lnTo>
                  <a:lnTo>
                    <a:pt x="479" y="1342"/>
                  </a:lnTo>
                  <a:lnTo>
                    <a:pt x="544" y="1359"/>
                  </a:lnTo>
                  <a:lnTo>
                    <a:pt x="611" y="1369"/>
                  </a:lnTo>
                  <a:lnTo>
                    <a:pt x="681" y="137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06200" y="2390760"/>
              <a:ext cx="2131920" cy="2147760"/>
            </a:xfrm>
            <a:custGeom>
              <a:avLst/>
              <a:gdLst/>
              <a:ahLst/>
              <a:rect l="l" t="t" r="r" b="b"/>
              <a:pathLst>
                <a:path w="1343" h="1353">
                  <a:moveTo>
                    <a:pt x="671" y="1353"/>
                  </a:moveTo>
                  <a:lnTo>
                    <a:pt x="740" y="1350"/>
                  </a:lnTo>
                  <a:lnTo>
                    <a:pt x="807" y="1339"/>
                  </a:lnTo>
                  <a:lnTo>
                    <a:pt x="870" y="1322"/>
                  </a:lnTo>
                  <a:lnTo>
                    <a:pt x="933" y="1300"/>
                  </a:lnTo>
                  <a:lnTo>
                    <a:pt x="992" y="1271"/>
                  </a:lnTo>
                  <a:lnTo>
                    <a:pt x="1047" y="1238"/>
                  </a:lnTo>
                  <a:lnTo>
                    <a:pt x="1098" y="1198"/>
                  </a:lnTo>
                  <a:lnTo>
                    <a:pt x="1146" y="1154"/>
                  </a:lnTo>
                  <a:lnTo>
                    <a:pt x="1190" y="1106"/>
                  </a:lnTo>
                  <a:lnTo>
                    <a:pt x="1228" y="1056"/>
                  </a:lnTo>
                  <a:lnTo>
                    <a:pt x="1261" y="999"/>
                  </a:lnTo>
                  <a:lnTo>
                    <a:pt x="1290" y="940"/>
                  </a:lnTo>
                  <a:lnTo>
                    <a:pt x="1313" y="878"/>
                  </a:lnTo>
                  <a:lnTo>
                    <a:pt x="1329" y="813"/>
                  </a:lnTo>
                  <a:lnTo>
                    <a:pt x="1339" y="747"/>
                  </a:lnTo>
                  <a:lnTo>
                    <a:pt x="1343" y="677"/>
                  </a:lnTo>
                  <a:lnTo>
                    <a:pt x="1339" y="608"/>
                  </a:lnTo>
                  <a:lnTo>
                    <a:pt x="1329" y="541"/>
                  </a:lnTo>
                  <a:lnTo>
                    <a:pt x="1313" y="476"/>
                  </a:lnTo>
                  <a:lnTo>
                    <a:pt x="1290" y="414"/>
                  </a:lnTo>
                  <a:lnTo>
                    <a:pt x="1261" y="354"/>
                  </a:lnTo>
                  <a:lnTo>
                    <a:pt x="1228" y="299"/>
                  </a:lnTo>
                  <a:lnTo>
                    <a:pt x="1190" y="247"/>
                  </a:lnTo>
                  <a:lnTo>
                    <a:pt x="1146" y="199"/>
                  </a:lnTo>
                  <a:lnTo>
                    <a:pt x="1098" y="155"/>
                  </a:lnTo>
                  <a:lnTo>
                    <a:pt x="1047" y="116"/>
                  </a:lnTo>
                  <a:lnTo>
                    <a:pt x="992" y="82"/>
                  </a:lnTo>
                  <a:lnTo>
                    <a:pt x="933" y="54"/>
                  </a:lnTo>
                  <a:lnTo>
                    <a:pt x="870" y="31"/>
                  </a:lnTo>
                  <a:lnTo>
                    <a:pt x="807" y="14"/>
                  </a:lnTo>
                  <a:lnTo>
                    <a:pt x="740" y="3"/>
                  </a:lnTo>
                  <a:lnTo>
                    <a:pt x="671" y="0"/>
                  </a:lnTo>
                  <a:lnTo>
                    <a:pt x="602" y="3"/>
                  </a:lnTo>
                  <a:lnTo>
                    <a:pt x="536" y="14"/>
                  </a:lnTo>
                  <a:lnTo>
                    <a:pt x="472" y="31"/>
                  </a:lnTo>
                  <a:lnTo>
                    <a:pt x="410" y="54"/>
                  </a:lnTo>
                  <a:lnTo>
                    <a:pt x="351" y="82"/>
                  </a:lnTo>
                  <a:lnTo>
                    <a:pt x="296" y="116"/>
                  </a:lnTo>
                  <a:lnTo>
                    <a:pt x="245" y="155"/>
                  </a:lnTo>
                  <a:lnTo>
                    <a:pt x="197" y="199"/>
                  </a:lnTo>
                  <a:lnTo>
                    <a:pt x="153" y="247"/>
                  </a:lnTo>
                  <a:lnTo>
                    <a:pt x="114" y="299"/>
                  </a:lnTo>
                  <a:lnTo>
                    <a:pt x="82" y="354"/>
                  </a:lnTo>
                  <a:lnTo>
                    <a:pt x="54" y="414"/>
                  </a:lnTo>
                  <a:lnTo>
                    <a:pt x="30" y="476"/>
                  </a:lnTo>
                  <a:lnTo>
                    <a:pt x="15" y="541"/>
                  </a:lnTo>
                  <a:lnTo>
                    <a:pt x="4" y="608"/>
                  </a:lnTo>
                  <a:lnTo>
                    <a:pt x="0" y="677"/>
                  </a:lnTo>
                  <a:lnTo>
                    <a:pt x="4" y="747"/>
                  </a:lnTo>
                  <a:lnTo>
                    <a:pt x="15" y="813"/>
                  </a:lnTo>
                  <a:lnTo>
                    <a:pt x="30" y="878"/>
                  </a:lnTo>
                  <a:lnTo>
                    <a:pt x="54" y="940"/>
                  </a:lnTo>
                  <a:lnTo>
                    <a:pt x="82" y="999"/>
                  </a:lnTo>
                  <a:lnTo>
                    <a:pt x="114" y="1056"/>
                  </a:lnTo>
                  <a:lnTo>
                    <a:pt x="153" y="1106"/>
                  </a:lnTo>
                  <a:lnTo>
                    <a:pt x="197" y="1154"/>
                  </a:lnTo>
                  <a:lnTo>
                    <a:pt x="245" y="1198"/>
                  </a:lnTo>
                  <a:lnTo>
                    <a:pt x="296" y="1238"/>
                  </a:lnTo>
                  <a:lnTo>
                    <a:pt x="351" y="1271"/>
                  </a:lnTo>
                  <a:lnTo>
                    <a:pt x="410" y="1300"/>
                  </a:lnTo>
                  <a:lnTo>
                    <a:pt x="472" y="1322"/>
                  </a:lnTo>
                  <a:lnTo>
                    <a:pt x="536" y="1339"/>
                  </a:lnTo>
                  <a:lnTo>
                    <a:pt x="602" y="1350"/>
                  </a:lnTo>
                  <a:lnTo>
                    <a:pt x="671" y="1353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22400" y="2406600"/>
              <a:ext cx="2099880" cy="2116080"/>
            </a:xfrm>
            <a:custGeom>
              <a:avLst/>
              <a:gdLst/>
              <a:ahLst/>
              <a:rect l="l" t="t" r="r" b="b"/>
              <a:pathLst>
                <a:path w="1323" h="1333">
                  <a:moveTo>
                    <a:pt x="661" y="1333"/>
                  </a:moveTo>
                  <a:lnTo>
                    <a:pt x="728" y="1331"/>
                  </a:lnTo>
                  <a:lnTo>
                    <a:pt x="794" y="1319"/>
                  </a:lnTo>
                  <a:lnTo>
                    <a:pt x="858" y="1304"/>
                  </a:lnTo>
                  <a:lnTo>
                    <a:pt x="919" y="1281"/>
                  </a:lnTo>
                  <a:lnTo>
                    <a:pt x="976" y="1253"/>
                  </a:lnTo>
                  <a:lnTo>
                    <a:pt x="1031" y="1219"/>
                  </a:lnTo>
                  <a:lnTo>
                    <a:pt x="1082" y="1181"/>
                  </a:lnTo>
                  <a:lnTo>
                    <a:pt x="1128" y="1137"/>
                  </a:lnTo>
                  <a:lnTo>
                    <a:pt x="1171" y="1091"/>
                  </a:lnTo>
                  <a:lnTo>
                    <a:pt x="1210" y="1040"/>
                  </a:lnTo>
                  <a:lnTo>
                    <a:pt x="1242" y="985"/>
                  </a:lnTo>
                  <a:lnTo>
                    <a:pt x="1271" y="926"/>
                  </a:lnTo>
                  <a:lnTo>
                    <a:pt x="1293" y="865"/>
                  </a:lnTo>
                  <a:lnTo>
                    <a:pt x="1310" y="802"/>
                  </a:lnTo>
                  <a:lnTo>
                    <a:pt x="1319" y="735"/>
                  </a:lnTo>
                  <a:lnTo>
                    <a:pt x="1323" y="667"/>
                  </a:lnTo>
                  <a:lnTo>
                    <a:pt x="1319" y="600"/>
                  </a:lnTo>
                  <a:lnTo>
                    <a:pt x="1310" y="533"/>
                  </a:lnTo>
                  <a:lnTo>
                    <a:pt x="1293" y="469"/>
                  </a:lnTo>
                  <a:lnTo>
                    <a:pt x="1271" y="408"/>
                  </a:lnTo>
                  <a:lnTo>
                    <a:pt x="1242" y="350"/>
                  </a:lnTo>
                  <a:lnTo>
                    <a:pt x="1210" y="295"/>
                  </a:lnTo>
                  <a:lnTo>
                    <a:pt x="1171" y="243"/>
                  </a:lnTo>
                  <a:lnTo>
                    <a:pt x="1128" y="196"/>
                  </a:lnTo>
                  <a:lnTo>
                    <a:pt x="1082" y="153"/>
                  </a:lnTo>
                  <a:lnTo>
                    <a:pt x="1031" y="114"/>
                  </a:lnTo>
                  <a:lnTo>
                    <a:pt x="976" y="81"/>
                  </a:lnTo>
                  <a:lnTo>
                    <a:pt x="919" y="52"/>
                  </a:lnTo>
                  <a:lnTo>
                    <a:pt x="858" y="30"/>
                  </a:lnTo>
                  <a:lnTo>
                    <a:pt x="794" y="14"/>
                  </a:lnTo>
                  <a:lnTo>
                    <a:pt x="728" y="3"/>
                  </a:lnTo>
                  <a:lnTo>
                    <a:pt x="661" y="0"/>
                  </a:lnTo>
                  <a:lnTo>
                    <a:pt x="594" y="3"/>
                  </a:lnTo>
                  <a:lnTo>
                    <a:pt x="528" y="14"/>
                  </a:lnTo>
                  <a:lnTo>
                    <a:pt x="464" y="30"/>
                  </a:lnTo>
                  <a:lnTo>
                    <a:pt x="403" y="52"/>
                  </a:lnTo>
                  <a:lnTo>
                    <a:pt x="347" y="81"/>
                  </a:lnTo>
                  <a:lnTo>
                    <a:pt x="291" y="114"/>
                  </a:lnTo>
                  <a:lnTo>
                    <a:pt x="240" y="153"/>
                  </a:lnTo>
                  <a:lnTo>
                    <a:pt x="194" y="196"/>
                  </a:lnTo>
                  <a:lnTo>
                    <a:pt x="151" y="243"/>
                  </a:lnTo>
                  <a:lnTo>
                    <a:pt x="112" y="295"/>
                  </a:lnTo>
                  <a:lnTo>
                    <a:pt x="80" y="350"/>
                  </a:lnTo>
                  <a:lnTo>
                    <a:pt x="51" y="408"/>
                  </a:lnTo>
                  <a:lnTo>
                    <a:pt x="29" y="469"/>
                  </a:lnTo>
                  <a:lnTo>
                    <a:pt x="12" y="533"/>
                  </a:lnTo>
                  <a:lnTo>
                    <a:pt x="3" y="600"/>
                  </a:lnTo>
                  <a:lnTo>
                    <a:pt x="0" y="667"/>
                  </a:lnTo>
                  <a:lnTo>
                    <a:pt x="3" y="735"/>
                  </a:lnTo>
                  <a:lnTo>
                    <a:pt x="12" y="802"/>
                  </a:lnTo>
                  <a:lnTo>
                    <a:pt x="29" y="865"/>
                  </a:lnTo>
                  <a:lnTo>
                    <a:pt x="51" y="926"/>
                  </a:lnTo>
                  <a:lnTo>
                    <a:pt x="80" y="985"/>
                  </a:lnTo>
                  <a:lnTo>
                    <a:pt x="112" y="1040"/>
                  </a:lnTo>
                  <a:lnTo>
                    <a:pt x="151" y="1091"/>
                  </a:lnTo>
                  <a:lnTo>
                    <a:pt x="194" y="1137"/>
                  </a:lnTo>
                  <a:lnTo>
                    <a:pt x="240" y="1181"/>
                  </a:lnTo>
                  <a:lnTo>
                    <a:pt x="291" y="1219"/>
                  </a:lnTo>
                  <a:lnTo>
                    <a:pt x="347" y="1253"/>
                  </a:lnTo>
                  <a:lnTo>
                    <a:pt x="403" y="1281"/>
                  </a:lnTo>
                  <a:lnTo>
                    <a:pt x="464" y="1304"/>
                  </a:lnTo>
                  <a:lnTo>
                    <a:pt x="528" y="1319"/>
                  </a:lnTo>
                  <a:lnTo>
                    <a:pt x="594" y="1331"/>
                  </a:lnTo>
                  <a:lnTo>
                    <a:pt x="661" y="1333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38240" y="2422440"/>
              <a:ext cx="2069640" cy="2086200"/>
            </a:xfrm>
            <a:custGeom>
              <a:avLst/>
              <a:gdLst/>
              <a:ahLst/>
              <a:rect l="l" t="t" r="r" b="b"/>
              <a:pathLst>
                <a:path w="1304" h="1314">
                  <a:moveTo>
                    <a:pt x="651" y="1314"/>
                  </a:moveTo>
                  <a:lnTo>
                    <a:pt x="717" y="1311"/>
                  </a:lnTo>
                  <a:lnTo>
                    <a:pt x="782" y="1301"/>
                  </a:lnTo>
                  <a:lnTo>
                    <a:pt x="845" y="1284"/>
                  </a:lnTo>
                  <a:lnTo>
                    <a:pt x="905" y="1261"/>
                  </a:lnTo>
                  <a:lnTo>
                    <a:pt x="962" y="1235"/>
                  </a:lnTo>
                  <a:lnTo>
                    <a:pt x="1016" y="1202"/>
                  </a:lnTo>
                  <a:lnTo>
                    <a:pt x="1065" y="1164"/>
                  </a:lnTo>
                  <a:lnTo>
                    <a:pt x="1112" y="1122"/>
                  </a:lnTo>
                  <a:lnTo>
                    <a:pt x="1155" y="1075"/>
                  </a:lnTo>
                  <a:lnTo>
                    <a:pt x="1192" y="1024"/>
                  </a:lnTo>
                  <a:lnTo>
                    <a:pt x="1225" y="971"/>
                  </a:lnTo>
                  <a:lnTo>
                    <a:pt x="1252" y="913"/>
                  </a:lnTo>
                  <a:lnTo>
                    <a:pt x="1274" y="852"/>
                  </a:lnTo>
                  <a:lnTo>
                    <a:pt x="1291" y="790"/>
                  </a:lnTo>
                  <a:lnTo>
                    <a:pt x="1300" y="725"/>
                  </a:lnTo>
                  <a:lnTo>
                    <a:pt x="1304" y="657"/>
                  </a:lnTo>
                  <a:lnTo>
                    <a:pt x="1300" y="590"/>
                  </a:lnTo>
                  <a:lnTo>
                    <a:pt x="1291" y="525"/>
                  </a:lnTo>
                  <a:lnTo>
                    <a:pt x="1274" y="463"/>
                  </a:lnTo>
                  <a:lnTo>
                    <a:pt x="1252" y="402"/>
                  </a:lnTo>
                  <a:lnTo>
                    <a:pt x="1225" y="344"/>
                  </a:lnTo>
                  <a:lnTo>
                    <a:pt x="1192" y="291"/>
                  </a:lnTo>
                  <a:lnTo>
                    <a:pt x="1155" y="240"/>
                  </a:lnTo>
                  <a:lnTo>
                    <a:pt x="1112" y="193"/>
                  </a:lnTo>
                  <a:lnTo>
                    <a:pt x="1065" y="151"/>
                  </a:lnTo>
                  <a:lnTo>
                    <a:pt x="1016" y="113"/>
                  </a:lnTo>
                  <a:lnTo>
                    <a:pt x="962" y="79"/>
                  </a:lnTo>
                  <a:lnTo>
                    <a:pt x="905" y="52"/>
                  </a:lnTo>
                  <a:lnTo>
                    <a:pt x="845" y="30"/>
                  </a:lnTo>
                  <a:lnTo>
                    <a:pt x="782" y="13"/>
                  </a:lnTo>
                  <a:lnTo>
                    <a:pt x="717" y="3"/>
                  </a:lnTo>
                  <a:lnTo>
                    <a:pt x="651" y="0"/>
                  </a:lnTo>
                  <a:lnTo>
                    <a:pt x="585" y="3"/>
                  </a:lnTo>
                  <a:lnTo>
                    <a:pt x="520" y="13"/>
                  </a:lnTo>
                  <a:lnTo>
                    <a:pt x="457" y="30"/>
                  </a:lnTo>
                  <a:lnTo>
                    <a:pt x="397" y="52"/>
                  </a:lnTo>
                  <a:lnTo>
                    <a:pt x="340" y="79"/>
                  </a:lnTo>
                  <a:lnTo>
                    <a:pt x="287" y="113"/>
                  </a:lnTo>
                  <a:lnTo>
                    <a:pt x="237" y="151"/>
                  </a:lnTo>
                  <a:lnTo>
                    <a:pt x="190" y="193"/>
                  </a:lnTo>
                  <a:lnTo>
                    <a:pt x="149" y="240"/>
                  </a:lnTo>
                  <a:lnTo>
                    <a:pt x="111" y="291"/>
                  </a:lnTo>
                  <a:lnTo>
                    <a:pt x="79" y="344"/>
                  </a:lnTo>
                  <a:lnTo>
                    <a:pt x="52" y="402"/>
                  </a:lnTo>
                  <a:lnTo>
                    <a:pt x="30" y="463"/>
                  </a:lnTo>
                  <a:lnTo>
                    <a:pt x="13" y="525"/>
                  </a:lnTo>
                  <a:lnTo>
                    <a:pt x="4" y="590"/>
                  </a:lnTo>
                  <a:lnTo>
                    <a:pt x="0" y="657"/>
                  </a:lnTo>
                  <a:lnTo>
                    <a:pt x="4" y="725"/>
                  </a:lnTo>
                  <a:lnTo>
                    <a:pt x="13" y="790"/>
                  </a:lnTo>
                  <a:lnTo>
                    <a:pt x="30" y="852"/>
                  </a:lnTo>
                  <a:lnTo>
                    <a:pt x="52" y="913"/>
                  </a:lnTo>
                  <a:lnTo>
                    <a:pt x="79" y="971"/>
                  </a:lnTo>
                  <a:lnTo>
                    <a:pt x="111" y="1024"/>
                  </a:lnTo>
                  <a:lnTo>
                    <a:pt x="149" y="1075"/>
                  </a:lnTo>
                  <a:lnTo>
                    <a:pt x="190" y="1122"/>
                  </a:lnTo>
                  <a:lnTo>
                    <a:pt x="237" y="1164"/>
                  </a:lnTo>
                  <a:lnTo>
                    <a:pt x="287" y="1202"/>
                  </a:lnTo>
                  <a:lnTo>
                    <a:pt x="340" y="1235"/>
                  </a:lnTo>
                  <a:lnTo>
                    <a:pt x="397" y="1261"/>
                  </a:lnTo>
                  <a:lnTo>
                    <a:pt x="457" y="1284"/>
                  </a:lnTo>
                  <a:lnTo>
                    <a:pt x="520" y="1301"/>
                  </a:lnTo>
                  <a:lnTo>
                    <a:pt x="585" y="1311"/>
                  </a:lnTo>
                  <a:lnTo>
                    <a:pt x="651" y="1314"/>
                  </a:lnTo>
                  <a:close/>
                </a:path>
              </a:pathLst>
            </a:custGeom>
            <a:solidFill>
              <a:srgbClr val="fc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054080" y="2438280"/>
              <a:ext cx="2036160" cy="2054520"/>
            </a:xfrm>
            <a:custGeom>
              <a:avLst/>
              <a:gdLst/>
              <a:ahLst/>
              <a:rect l="l" t="t" r="r" b="b"/>
              <a:pathLst>
                <a:path w="1283" h="1294">
                  <a:moveTo>
                    <a:pt x="641" y="1294"/>
                  </a:moveTo>
                  <a:lnTo>
                    <a:pt x="707" y="1291"/>
                  </a:lnTo>
                  <a:lnTo>
                    <a:pt x="771" y="1281"/>
                  </a:lnTo>
                  <a:lnTo>
                    <a:pt x="833" y="1264"/>
                  </a:lnTo>
                  <a:lnTo>
                    <a:pt x="891" y="1243"/>
                  </a:lnTo>
                  <a:lnTo>
                    <a:pt x="947" y="1216"/>
                  </a:lnTo>
                  <a:lnTo>
                    <a:pt x="1000" y="1184"/>
                  </a:lnTo>
                  <a:lnTo>
                    <a:pt x="1050" y="1146"/>
                  </a:lnTo>
                  <a:lnTo>
                    <a:pt x="1096" y="1105"/>
                  </a:lnTo>
                  <a:lnTo>
                    <a:pt x="1137" y="1058"/>
                  </a:lnTo>
                  <a:lnTo>
                    <a:pt x="1173" y="1009"/>
                  </a:lnTo>
                  <a:lnTo>
                    <a:pt x="1206" y="955"/>
                  </a:lnTo>
                  <a:lnTo>
                    <a:pt x="1233" y="899"/>
                  </a:lnTo>
                  <a:lnTo>
                    <a:pt x="1255" y="839"/>
                  </a:lnTo>
                  <a:lnTo>
                    <a:pt x="1270" y="777"/>
                  </a:lnTo>
                  <a:lnTo>
                    <a:pt x="1279" y="714"/>
                  </a:lnTo>
                  <a:lnTo>
                    <a:pt x="1283" y="647"/>
                  </a:lnTo>
                  <a:lnTo>
                    <a:pt x="1279" y="581"/>
                  </a:lnTo>
                  <a:lnTo>
                    <a:pt x="1270" y="518"/>
                  </a:lnTo>
                  <a:lnTo>
                    <a:pt x="1255" y="456"/>
                  </a:lnTo>
                  <a:lnTo>
                    <a:pt x="1233" y="396"/>
                  </a:lnTo>
                  <a:lnTo>
                    <a:pt x="1206" y="339"/>
                  </a:lnTo>
                  <a:lnTo>
                    <a:pt x="1173" y="286"/>
                  </a:lnTo>
                  <a:lnTo>
                    <a:pt x="1137" y="236"/>
                  </a:lnTo>
                  <a:lnTo>
                    <a:pt x="1096" y="190"/>
                  </a:lnTo>
                  <a:lnTo>
                    <a:pt x="1050" y="148"/>
                  </a:lnTo>
                  <a:lnTo>
                    <a:pt x="1000" y="111"/>
                  </a:lnTo>
                  <a:lnTo>
                    <a:pt x="947" y="77"/>
                  </a:lnTo>
                  <a:lnTo>
                    <a:pt x="891" y="51"/>
                  </a:lnTo>
                  <a:lnTo>
                    <a:pt x="833" y="30"/>
                  </a:lnTo>
                  <a:lnTo>
                    <a:pt x="771" y="13"/>
                  </a:lnTo>
                  <a:lnTo>
                    <a:pt x="707" y="3"/>
                  </a:lnTo>
                  <a:lnTo>
                    <a:pt x="641" y="0"/>
                  </a:lnTo>
                  <a:lnTo>
                    <a:pt x="575" y="3"/>
                  </a:lnTo>
                  <a:lnTo>
                    <a:pt x="512" y="13"/>
                  </a:lnTo>
                  <a:lnTo>
                    <a:pt x="451" y="30"/>
                  </a:lnTo>
                  <a:lnTo>
                    <a:pt x="391" y="51"/>
                  </a:lnTo>
                  <a:lnTo>
                    <a:pt x="336" y="77"/>
                  </a:lnTo>
                  <a:lnTo>
                    <a:pt x="282" y="111"/>
                  </a:lnTo>
                  <a:lnTo>
                    <a:pt x="233" y="148"/>
                  </a:lnTo>
                  <a:lnTo>
                    <a:pt x="188" y="190"/>
                  </a:lnTo>
                  <a:lnTo>
                    <a:pt x="147" y="236"/>
                  </a:lnTo>
                  <a:lnTo>
                    <a:pt x="110" y="286"/>
                  </a:lnTo>
                  <a:lnTo>
                    <a:pt x="78" y="339"/>
                  </a:lnTo>
                  <a:lnTo>
                    <a:pt x="51" y="396"/>
                  </a:lnTo>
                  <a:lnTo>
                    <a:pt x="29" y="456"/>
                  </a:lnTo>
                  <a:lnTo>
                    <a:pt x="13" y="518"/>
                  </a:lnTo>
                  <a:lnTo>
                    <a:pt x="4" y="581"/>
                  </a:lnTo>
                  <a:lnTo>
                    <a:pt x="0" y="647"/>
                  </a:lnTo>
                  <a:lnTo>
                    <a:pt x="4" y="714"/>
                  </a:lnTo>
                  <a:lnTo>
                    <a:pt x="13" y="777"/>
                  </a:lnTo>
                  <a:lnTo>
                    <a:pt x="29" y="839"/>
                  </a:lnTo>
                  <a:lnTo>
                    <a:pt x="51" y="899"/>
                  </a:lnTo>
                  <a:lnTo>
                    <a:pt x="78" y="955"/>
                  </a:lnTo>
                  <a:lnTo>
                    <a:pt x="110" y="1009"/>
                  </a:lnTo>
                  <a:lnTo>
                    <a:pt x="147" y="1058"/>
                  </a:lnTo>
                  <a:lnTo>
                    <a:pt x="188" y="1105"/>
                  </a:lnTo>
                  <a:lnTo>
                    <a:pt x="233" y="1146"/>
                  </a:lnTo>
                  <a:lnTo>
                    <a:pt x="282" y="1184"/>
                  </a:lnTo>
                  <a:lnTo>
                    <a:pt x="336" y="1216"/>
                  </a:lnTo>
                  <a:lnTo>
                    <a:pt x="391" y="1243"/>
                  </a:lnTo>
                  <a:lnTo>
                    <a:pt x="451" y="1264"/>
                  </a:lnTo>
                  <a:lnTo>
                    <a:pt x="512" y="1281"/>
                  </a:lnTo>
                  <a:lnTo>
                    <a:pt x="575" y="1291"/>
                  </a:lnTo>
                  <a:lnTo>
                    <a:pt x="641" y="1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20760" y="2917800"/>
              <a:ext cx="131400" cy="14760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29" y="93"/>
                  </a:moveTo>
                  <a:lnTo>
                    <a:pt x="83" y="14"/>
                  </a:lnTo>
                  <a:lnTo>
                    <a:pt x="0" y="0"/>
                  </a:lnTo>
                  <a:lnTo>
                    <a:pt x="8" y="22"/>
                  </a:lnTo>
                  <a:lnTo>
                    <a:pt x="16" y="46"/>
                  </a:lnTo>
                  <a:lnTo>
                    <a:pt x="22" y="69"/>
                  </a:lnTo>
                  <a:lnTo>
                    <a:pt x="29" y="93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93840" y="3328920"/>
              <a:ext cx="118800" cy="1526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0" y="96"/>
                  </a:moveTo>
                  <a:lnTo>
                    <a:pt x="75" y="60"/>
                  </a:lnTo>
                  <a:lnTo>
                    <a:pt x="6" y="0"/>
                  </a:lnTo>
                  <a:lnTo>
                    <a:pt x="6" y="24"/>
                  </a:lnTo>
                  <a:lnTo>
                    <a:pt x="5" y="48"/>
                  </a:lnTo>
                  <a:lnTo>
                    <a:pt x="2" y="7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35080" y="2733840"/>
              <a:ext cx="110880" cy="12996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39" y="82"/>
                  </a:moveTo>
                  <a:lnTo>
                    <a:pt x="70" y="0"/>
                  </a:lnTo>
                  <a:lnTo>
                    <a:pt x="0" y="7"/>
                  </a:lnTo>
                  <a:lnTo>
                    <a:pt x="5" y="16"/>
                  </a:lnTo>
                  <a:lnTo>
                    <a:pt x="10" y="24"/>
                  </a:lnTo>
                  <a:lnTo>
                    <a:pt x="15" y="34"/>
                  </a:lnTo>
                  <a:lnTo>
                    <a:pt x="21" y="42"/>
                  </a:lnTo>
                  <a:lnTo>
                    <a:pt x="24" y="52"/>
                  </a:lnTo>
                  <a:lnTo>
                    <a:pt x="30" y="62"/>
                  </a:lnTo>
                  <a:lnTo>
                    <a:pt x="35" y="72"/>
                  </a:lnTo>
                  <a:lnTo>
                    <a:pt x="39" y="82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74760" y="3116160"/>
              <a:ext cx="126720" cy="160560"/>
            </a:xfrm>
            <a:custGeom>
              <a:avLst/>
              <a:gdLst/>
              <a:ahLst/>
              <a:rect l="l" t="t" r="r" b="b"/>
              <a:pathLst>
                <a:path w="80" h="101">
                  <a:moveTo>
                    <a:pt x="12" y="101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4" y="26"/>
                  </a:lnTo>
                  <a:lnTo>
                    <a:pt x="8" y="51"/>
                  </a:lnTo>
                  <a:lnTo>
                    <a:pt x="10" y="77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46320" y="3541680"/>
              <a:ext cx="117000" cy="135000"/>
            </a:xfrm>
            <a:custGeom>
              <a:avLst/>
              <a:gdLst/>
              <a:ahLst/>
              <a:rect l="l" t="t" r="r" b="b"/>
              <a:pathLst>
                <a:path w="74" h="85">
                  <a:moveTo>
                    <a:pt x="0" y="85"/>
                  </a:moveTo>
                  <a:lnTo>
                    <a:pt x="74" y="71"/>
                  </a:lnTo>
                  <a:lnTo>
                    <a:pt x="24" y="0"/>
                  </a:lnTo>
                  <a:lnTo>
                    <a:pt x="19" y="23"/>
                  </a:lnTo>
                  <a:lnTo>
                    <a:pt x="14" y="44"/>
                  </a:lnTo>
                  <a:lnTo>
                    <a:pt x="8" y="6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06280" y="2440080"/>
              <a:ext cx="2471400" cy="3073320"/>
            </a:xfrm>
            <a:custGeom>
              <a:avLst/>
              <a:gdLst/>
              <a:ahLst/>
              <a:rect l="l" t="t" r="r" b="b"/>
              <a:pathLst>
                <a:path w="1557" h="1936">
                  <a:moveTo>
                    <a:pt x="1007" y="82"/>
                  </a:moveTo>
                  <a:lnTo>
                    <a:pt x="1113" y="975"/>
                  </a:lnTo>
                  <a:lnTo>
                    <a:pt x="901" y="1040"/>
                  </a:lnTo>
                  <a:lnTo>
                    <a:pt x="936" y="1212"/>
                  </a:lnTo>
                  <a:lnTo>
                    <a:pt x="1460" y="1420"/>
                  </a:lnTo>
                  <a:lnTo>
                    <a:pt x="1557" y="1658"/>
                  </a:lnTo>
                  <a:lnTo>
                    <a:pt x="591" y="1936"/>
                  </a:lnTo>
                  <a:lnTo>
                    <a:pt x="0" y="1658"/>
                  </a:lnTo>
                  <a:lnTo>
                    <a:pt x="216" y="0"/>
                  </a:lnTo>
                  <a:lnTo>
                    <a:pt x="1007" y="82"/>
                  </a:lnTo>
                  <a:close/>
                </a:path>
              </a:pathLst>
            </a:custGeom>
            <a:gradFill rotWithShape="0">
              <a:gsLst>
                <a:gs pos="0">
                  <a:srgbClr val="354284"/>
                </a:gs>
                <a:gs pos="100000">
                  <a:srgbClr val="999f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3840" y="2440080"/>
              <a:ext cx="2823840" cy="3306600"/>
            </a:xfrm>
            <a:custGeom>
              <a:avLst/>
              <a:gdLst/>
              <a:ahLst/>
              <a:rect l="l" t="t" r="r" b="b"/>
              <a:pathLst>
                <a:path w="1779" h="2083">
                  <a:moveTo>
                    <a:pt x="1682" y="1420"/>
                  </a:moveTo>
                  <a:lnTo>
                    <a:pt x="900" y="1716"/>
                  </a:lnTo>
                  <a:lnTo>
                    <a:pt x="440" y="1446"/>
                  </a:lnTo>
                  <a:lnTo>
                    <a:pt x="1169" y="1212"/>
                  </a:lnTo>
                  <a:lnTo>
                    <a:pt x="1123" y="1040"/>
                  </a:lnTo>
                  <a:lnTo>
                    <a:pt x="416" y="1218"/>
                  </a:lnTo>
                  <a:lnTo>
                    <a:pt x="413" y="1216"/>
                  </a:lnTo>
                  <a:lnTo>
                    <a:pt x="438" y="0"/>
                  </a:lnTo>
                  <a:lnTo>
                    <a:pt x="218" y="100"/>
                  </a:lnTo>
                  <a:lnTo>
                    <a:pt x="194" y="387"/>
                  </a:lnTo>
                  <a:lnTo>
                    <a:pt x="38" y="510"/>
                  </a:lnTo>
                  <a:lnTo>
                    <a:pt x="0" y="1135"/>
                  </a:lnTo>
                  <a:lnTo>
                    <a:pt x="260" y="1255"/>
                  </a:lnTo>
                  <a:lnTo>
                    <a:pt x="260" y="1334"/>
                  </a:lnTo>
                  <a:lnTo>
                    <a:pt x="162" y="1372"/>
                  </a:lnTo>
                  <a:lnTo>
                    <a:pt x="91" y="1575"/>
                  </a:lnTo>
                  <a:lnTo>
                    <a:pt x="864" y="2083"/>
                  </a:lnTo>
                  <a:lnTo>
                    <a:pt x="1779" y="1655"/>
                  </a:lnTo>
                  <a:lnTo>
                    <a:pt x="1682" y="142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43000" y="2900520"/>
              <a:ext cx="570960" cy="981000"/>
            </a:xfrm>
            <a:custGeom>
              <a:avLst/>
              <a:gdLst/>
              <a:ahLst/>
              <a:rect l="l" t="t" r="r" b="b"/>
              <a:pathLst>
                <a:path w="360" h="618">
                  <a:moveTo>
                    <a:pt x="9" y="444"/>
                  </a:moveTo>
                  <a:lnTo>
                    <a:pt x="4" y="458"/>
                  </a:lnTo>
                  <a:lnTo>
                    <a:pt x="0" y="474"/>
                  </a:lnTo>
                  <a:lnTo>
                    <a:pt x="0" y="492"/>
                  </a:lnTo>
                  <a:lnTo>
                    <a:pt x="1" y="509"/>
                  </a:lnTo>
                  <a:lnTo>
                    <a:pt x="4" y="527"/>
                  </a:lnTo>
                  <a:lnTo>
                    <a:pt x="10" y="546"/>
                  </a:lnTo>
                  <a:lnTo>
                    <a:pt x="18" y="562"/>
                  </a:lnTo>
                  <a:lnTo>
                    <a:pt x="30" y="578"/>
                  </a:lnTo>
                  <a:lnTo>
                    <a:pt x="43" y="592"/>
                  </a:lnTo>
                  <a:lnTo>
                    <a:pt x="58" y="603"/>
                  </a:lnTo>
                  <a:lnTo>
                    <a:pt x="76" y="612"/>
                  </a:lnTo>
                  <a:lnTo>
                    <a:pt x="97" y="616"/>
                  </a:lnTo>
                  <a:lnTo>
                    <a:pt x="120" y="618"/>
                  </a:lnTo>
                  <a:lnTo>
                    <a:pt x="148" y="613"/>
                  </a:lnTo>
                  <a:lnTo>
                    <a:pt x="176" y="605"/>
                  </a:lnTo>
                  <a:lnTo>
                    <a:pt x="207" y="589"/>
                  </a:lnTo>
                  <a:lnTo>
                    <a:pt x="207" y="589"/>
                  </a:lnTo>
                  <a:lnTo>
                    <a:pt x="207" y="591"/>
                  </a:lnTo>
                  <a:lnTo>
                    <a:pt x="207" y="594"/>
                  </a:lnTo>
                  <a:lnTo>
                    <a:pt x="207" y="595"/>
                  </a:lnTo>
                  <a:lnTo>
                    <a:pt x="239" y="561"/>
                  </a:lnTo>
                  <a:lnTo>
                    <a:pt x="269" y="523"/>
                  </a:lnTo>
                  <a:lnTo>
                    <a:pt x="294" y="478"/>
                  </a:lnTo>
                  <a:lnTo>
                    <a:pt x="316" y="430"/>
                  </a:lnTo>
                  <a:lnTo>
                    <a:pt x="334" y="376"/>
                  </a:lnTo>
                  <a:lnTo>
                    <a:pt x="347" y="320"/>
                  </a:lnTo>
                  <a:lnTo>
                    <a:pt x="355" y="259"/>
                  </a:lnTo>
                  <a:lnTo>
                    <a:pt x="357" y="197"/>
                  </a:lnTo>
                  <a:lnTo>
                    <a:pt x="359" y="167"/>
                  </a:lnTo>
                  <a:lnTo>
                    <a:pt x="360" y="129"/>
                  </a:lnTo>
                  <a:lnTo>
                    <a:pt x="360" y="77"/>
                  </a:lnTo>
                  <a:lnTo>
                    <a:pt x="357" y="0"/>
                  </a:lnTo>
                  <a:lnTo>
                    <a:pt x="247" y="0"/>
                  </a:lnTo>
                  <a:lnTo>
                    <a:pt x="32" y="0"/>
                  </a:lnTo>
                  <a:lnTo>
                    <a:pt x="47" y="26"/>
                  </a:lnTo>
                  <a:lnTo>
                    <a:pt x="60" y="63"/>
                  </a:lnTo>
                  <a:lnTo>
                    <a:pt x="71" y="107"/>
                  </a:lnTo>
                  <a:lnTo>
                    <a:pt x="78" y="159"/>
                  </a:lnTo>
                  <a:lnTo>
                    <a:pt x="76" y="218"/>
                  </a:lnTo>
                  <a:lnTo>
                    <a:pt x="67" y="286"/>
                  </a:lnTo>
                  <a:lnTo>
                    <a:pt x="45" y="361"/>
                  </a:lnTo>
                  <a:lnTo>
                    <a:pt x="9" y="4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98400" y="2900520"/>
              <a:ext cx="772920" cy="1054080"/>
            </a:xfrm>
            <a:custGeom>
              <a:avLst/>
              <a:gdLst/>
              <a:ahLst/>
              <a:rect l="l" t="t" r="r" b="b"/>
              <a:pathLst>
                <a:path w="487" h="664">
                  <a:moveTo>
                    <a:pt x="3" y="197"/>
                  </a:moveTo>
                  <a:lnTo>
                    <a:pt x="4" y="245"/>
                  </a:lnTo>
                  <a:lnTo>
                    <a:pt x="9" y="292"/>
                  </a:lnTo>
                  <a:lnTo>
                    <a:pt x="17" y="337"/>
                  </a:lnTo>
                  <a:lnTo>
                    <a:pt x="28" y="379"/>
                  </a:lnTo>
                  <a:lnTo>
                    <a:pt x="40" y="420"/>
                  </a:lnTo>
                  <a:lnTo>
                    <a:pt x="56" y="458"/>
                  </a:lnTo>
                  <a:lnTo>
                    <a:pt x="74" y="495"/>
                  </a:lnTo>
                  <a:lnTo>
                    <a:pt x="95" y="527"/>
                  </a:lnTo>
                  <a:lnTo>
                    <a:pt x="117" y="557"/>
                  </a:lnTo>
                  <a:lnTo>
                    <a:pt x="141" y="585"/>
                  </a:lnTo>
                  <a:lnTo>
                    <a:pt x="167" y="608"/>
                  </a:lnTo>
                  <a:lnTo>
                    <a:pt x="196" y="627"/>
                  </a:lnTo>
                  <a:lnTo>
                    <a:pt x="226" y="643"/>
                  </a:lnTo>
                  <a:lnTo>
                    <a:pt x="255" y="654"/>
                  </a:lnTo>
                  <a:lnTo>
                    <a:pt x="288" y="661"/>
                  </a:lnTo>
                  <a:lnTo>
                    <a:pt x="320" y="664"/>
                  </a:lnTo>
                  <a:lnTo>
                    <a:pt x="333" y="664"/>
                  </a:lnTo>
                  <a:lnTo>
                    <a:pt x="347" y="663"/>
                  </a:lnTo>
                  <a:lnTo>
                    <a:pt x="360" y="661"/>
                  </a:lnTo>
                  <a:lnTo>
                    <a:pt x="373" y="658"/>
                  </a:lnTo>
                  <a:lnTo>
                    <a:pt x="386" y="654"/>
                  </a:lnTo>
                  <a:lnTo>
                    <a:pt x="398" y="650"/>
                  </a:lnTo>
                  <a:lnTo>
                    <a:pt x="411" y="646"/>
                  </a:lnTo>
                  <a:lnTo>
                    <a:pt x="422" y="640"/>
                  </a:lnTo>
                  <a:lnTo>
                    <a:pt x="431" y="636"/>
                  </a:lnTo>
                  <a:lnTo>
                    <a:pt x="439" y="630"/>
                  </a:lnTo>
                  <a:lnTo>
                    <a:pt x="448" y="626"/>
                  </a:lnTo>
                  <a:lnTo>
                    <a:pt x="456" y="620"/>
                  </a:lnTo>
                  <a:lnTo>
                    <a:pt x="464" y="615"/>
                  </a:lnTo>
                  <a:lnTo>
                    <a:pt x="472" y="608"/>
                  </a:lnTo>
                  <a:lnTo>
                    <a:pt x="479" y="602"/>
                  </a:lnTo>
                  <a:lnTo>
                    <a:pt x="487" y="595"/>
                  </a:lnTo>
                  <a:lnTo>
                    <a:pt x="487" y="594"/>
                  </a:lnTo>
                  <a:lnTo>
                    <a:pt x="487" y="591"/>
                  </a:lnTo>
                  <a:lnTo>
                    <a:pt x="487" y="589"/>
                  </a:lnTo>
                  <a:lnTo>
                    <a:pt x="487" y="589"/>
                  </a:lnTo>
                  <a:lnTo>
                    <a:pt x="456" y="605"/>
                  </a:lnTo>
                  <a:lnTo>
                    <a:pt x="428" y="613"/>
                  </a:lnTo>
                  <a:lnTo>
                    <a:pt x="400" y="618"/>
                  </a:lnTo>
                  <a:lnTo>
                    <a:pt x="377" y="616"/>
                  </a:lnTo>
                  <a:lnTo>
                    <a:pt x="356" y="612"/>
                  </a:lnTo>
                  <a:lnTo>
                    <a:pt x="338" y="603"/>
                  </a:lnTo>
                  <a:lnTo>
                    <a:pt x="323" y="592"/>
                  </a:lnTo>
                  <a:lnTo>
                    <a:pt x="310" y="578"/>
                  </a:lnTo>
                  <a:lnTo>
                    <a:pt x="298" y="562"/>
                  </a:lnTo>
                  <a:lnTo>
                    <a:pt x="290" y="546"/>
                  </a:lnTo>
                  <a:lnTo>
                    <a:pt x="284" y="527"/>
                  </a:lnTo>
                  <a:lnTo>
                    <a:pt x="281" y="509"/>
                  </a:lnTo>
                  <a:lnTo>
                    <a:pt x="280" y="492"/>
                  </a:lnTo>
                  <a:lnTo>
                    <a:pt x="280" y="474"/>
                  </a:lnTo>
                  <a:lnTo>
                    <a:pt x="284" y="458"/>
                  </a:lnTo>
                  <a:lnTo>
                    <a:pt x="289" y="444"/>
                  </a:lnTo>
                  <a:lnTo>
                    <a:pt x="325" y="361"/>
                  </a:lnTo>
                  <a:lnTo>
                    <a:pt x="347" y="286"/>
                  </a:lnTo>
                  <a:lnTo>
                    <a:pt x="356" y="218"/>
                  </a:lnTo>
                  <a:lnTo>
                    <a:pt x="358" y="159"/>
                  </a:lnTo>
                  <a:lnTo>
                    <a:pt x="351" y="107"/>
                  </a:lnTo>
                  <a:lnTo>
                    <a:pt x="340" y="63"/>
                  </a:lnTo>
                  <a:lnTo>
                    <a:pt x="327" y="26"/>
                  </a:lnTo>
                  <a:lnTo>
                    <a:pt x="312" y="0"/>
                  </a:lnTo>
                  <a:lnTo>
                    <a:pt x="3" y="0"/>
                  </a:lnTo>
                  <a:lnTo>
                    <a:pt x="0" y="77"/>
                  </a:lnTo>
                  <a:lnTo>
                    <a:pt x="2" y="129"/>
                  </a:lnTo>
                  <a:lnTo>
                    <a:pt x="2" y="167"/>
                  </a:lnTo>
                  <a:lnTo>
                    <a:pt x="3" y="197"/>
                  </a:lnTo>
                  <a:close/>
                </a:path>
              </a:pathLst>
            </a:custGeom>
            <a:solidFill>
              <a:srgbClr val="8c8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16000" y="3139920"/>
              <a:ext cx="194760" cy="422280"/>
            </a:xfrm>
            <a:custGeom>
              <a:avLst/>
              <a:gdLst/>
              <a:ahLst/>
              <a:rect l="l" t="t" r="r" b="b"/>
              <a:pathLst>
                <a:path w="123" h="266">
                  <a:moveTo>
                    <a:pt x="123" y="67"/>
                  </a:moveTo>
                  <a:lnTo>
                    <a:pt x="122" y="53"/>
                  </a:lnTo>
                  <a:lnTo>
                    <a:pt x="118" y="42"/>
                  </a:lnTo>
                  <a:lnTo>
                    <a:pt x="113" y="29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2" y="0"/>
                  </a:lnTo>
                  <a:lnTo>
                    <a:pt x="49" y="1"/>
                  </a:lnTo>
                  <a:lnTo>
                    <a:pt x="39" y="5"/>
                  </a:lnTo>
                  <a:lnTo>
                    <a:pt x="27" y="11"/>
                  </a:lnTo>
                  <a:lnTo>
                    <a:pt x="18" y="19"/>
                  </a:lnTo>
                  <a:lnTo>
                    <a:pt x="11" y="29"/>
                  </a:lnTo>
                  <a:lnTo>
                    <a:pt x="5" y="42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3" y="86"/>
                  </a:lnTo>
                  <a:lnTo>
                    <a:pt x="9" y="103"/>
                  </a:lnTo>
                  <a:lnTo>
                    <a:pt x="20" y="117"/>
                  </a:lnTo>
                  <a:lnTo>
                    <a:pt x="33" y="126"/>
                  </a:lnTo>
                  <a:lnTo>
                    <a:pt x="5" y="266"/>
                  </a:lnTo>
                  <a:lnTo>
                    <a:pt x="118" y="266"/>
                  </a:lnTo>
                  <a:lnTo>
                    <a:pt x="92" y="126"/>
                  </a:lnTo>
                  <a:lnTo>
                    <a:pt x="105" y="117"/>
                  </a:lnTo>
                  <a:lnTo>
                    <a:pt x="115" y="103"/>
                  </a:lnTo>
                  <a:lnTo>
                    <a:pt x="121" y="86"/>
                  </a:lnTo>
                  <a:lnTo>
                    <a:pt x="123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103480" y="2987640"/>
              <a:ext cx="426600" cy="874800"/>
            </a:xfrm>
            <a:custGeom>
              <a:avLst/>
              <a:gdLst/>
              <a:ahLst/>
              <a:rect l="l" t="t" r="r" b="b"/>
              <a:pathLst>
                <a:path w="269" h="551">
                  <a:moveTo>
                    <a:pt x="192" y="21"/>
                  </a:moveTo>
                  <a:lnTo>
                    <a:pt x="247" y="21"/>
                  </a:lnTo>
                  <a:lnTo>
                    <a:pt x="248" y="79"/>
                  </a:lnTo>
                  <a:lnTo>
                    <a:pt x="248" y="118"/>
                  </a:lnTo>
                  <a:lnTo>
                    <a:pt x="247" y="146"/>
                  </a:lnTo>
                  <a:lnTo>
                    <a:pt x="247" y="169"/>
                  </a:lnTo>
                  <a:lnTo>
                    <a:pt x="244" y="222"/>
                  </a:lnTo>
                  <a:lnTo>
                    <a:pt x="236" y="275"/>
                  </a:lnTo>
                  <a:lnTo>
                    <a:pt x="225" y="323"/>
                  </a:lnTo>
                  <a:lnTo>
                    <a:pt x="208" y="368"/>
                  </a:lnTo>
                  <a:lnTo>
                    <a:pt x="187" y="409"/>
                  </a:lnTo>
                  <a:lnTo>
                    <a:pt x="163" y="445"/>
                  </a:lnTo>
                  <a:lnTo>
                    <a:pt x="134" y="476"/>
                  </a:lnTo>
                  <a:lnTo>
                    <a:pt x="103" y="500"/>
                  </a:lnTo>
                  <a:lnTo>
                    <a:pt x="98" y="503"/>
                  </a:lnTo>
                  <a:lnTo>
                    <a:pt x="91" y="507"/>
                  </a:lnTo>
                  <a:lnTo>
                    <a:pt x="86" y="510"/>
                  </a:lnTo>
                  <a:lnTo>
                    <a:pt x="80" y="513"/>
                  </a:lnTo>
                  <a:lnTo>
                    <a:pt x="71" y="517"/>
                  </a:lnTo>
                  <a:lnTo>
                    <a:pt x="62" y="522"/>
                  </a:lnTo>
                  <a:lnTo>
                    <a:pt x="51" y="524"/>
                  </a:lnTo>
                  <a:lnTo>
                    <a:pt x="42" y="527"/>
                  </a:lnTo>
                  <a:lnTo>
                    <a:pt x="32" y="529"/>
                  </a:lnTo>
                  <a:lnTo>
                    <a:pt x="23" y="530"/>
                  </a:lnTo>
                  <a:lnTo>
                    <a:pt x="12" y="531"/>
                  </a:lnTo>
                  <a:lnTo>
                    <a:pt x="2" y="531"/>
                  </a:lnTo>
                  <a:lnTo>
                    <a:pt x="2" y="531"/>
                  </a:lnTo>
                  <a:lnTo>
                    <a:pt x="1" y="531"/>
                  </a:lnTo>
                  <a:lnTo>
                    <a:pt x="1" y="531"/>
                  </a:lnTo>
                  <a:lnTo>
                    <a:pt x="0" y="531"/>
                  </a:lnTo>
                  <a:lnTo>
                    <a:pt x="6" y="537"/>
                  </a:lnTo>
                  <a:lnTo>
                    <a:pt x="12" y="543"/>
                  </a:lnTo>
                  <a:lnTo>
                    <a:pt x="19" y="547"/>
                  </a:lnTo>
                  <a:lnTo>
                    <a:pt x="27" y="551"/>
                  </a:lnTo>
                  <a:lnTo>
                    <a:pt x="34" y="550"/>
                  </a:lnTo>
                  <a:lnTo>
                    <a:pt x="42" y="548"/>
                  </a:lnTo>
                  <a:lnTo>
                    <a:pt x="50" y="547"/>
                  </a:lnTo>
                  <a:lnTo>
                    <a:pt x="58" y="544"/>
                  </a:lnTo>
                  <a:lnTo>
                    <a:pt x="66" y="543"/>
                  </a:lnTo>
                  <a:lnTo>
                    <a:pt x="73" y="540"/>
                  </a:lnTo>
                  <a:lnTo>
                    <a:pt x="81" y="536"/>
                  </a:lnTo>
                  <a:lnTo>
                    <a:pt x="89" y="533"/>
                  </a:lnTo>
                  <a:lnTo>
                    <a:pt x="93" y="530"/>
                  </a:lnTo>
                  <a:lnTo>
                    <a:pt x="97" y="529"/>
                  </a:lnTo>
                  <a:lnTo>
                    <a:pt x="99" y="526"/>
                  </a:lnTo>
                  <a:lnTo>
                    <a:pt x="103" y="524"/>
                  </a:lnTo>
                  <a:lnTo>
                    <a:pt x="138" y="499"/>
                  </a:lnTo>
                  <a:lnTo>
                    <a:pt x="170" y="467"/>
                  </a:lnTo>
                  <a:lnTo>
                    <a:pt x="198" y="428"/>
                  </a:lnTo>
                  <a:lnTo>
                    <a:pt x="222" y="385"/>
                  </a:lnTo>
                  <a:lnTo>
                    <a:pt x="240" y="335"/>
                  </a:lnTo>
                  <a:lnTo>
                    <a:pt x="255" y="283"/>
                  </a:lnTo>
                  <a:lnTo>
                    <a:pt x="264" y="227"/>
                  </a:lnTo>
                  <a:lnTo>
                    <a:pt x="266" y="169"/>
                  </a:lnTo>
                  <a:lnTo>
                    <a:pt x="266" y="163"/>
                  </a:lnTo>
                  <a:lnTo>
                    <a:pt x="266" y="156"/>
                  </a:lnTo>
                  <a:lnTo>
                    <a:pt x="266" y="151"/>
                  </a:lnTo>
                  <a:lnTo>
                    <a:pt x="266" y="143"/>
                  </a:lnTo>
                  <a:lnTo>
                    <a:pt x="268" y="122"/>
                  </a:lnTo>
                  <a:lnTo>
                    <a:pt x="269" y="94"/>
                  </a:lnTo>
                  <a:lnTo>
                    <a:pt x="268" y="59"/>
                  </a:lnTo>
                  <a:lnTo>
                    <a:pt x="266" y="11"/>
                  </a:lnTo>
                  <a:lnTo>
                    <a:pt x="266" y="0"/>
                  </a:lnTo>
                  <a:lnTo>
                    <a:pt x="199" y="0"/>
                  </a:lnTo>
                  <a:lnTo>
                    <a:pt x="19" y="0"/>
                  </a:lnTo>
                  <a:lnTo>
                    <a:pt x="22" y="5"/>
                  </a:lnTo>
                  <a:lnTo>
                    <a:pt x="23" y="9"/>
                  </a:lnTo>
                  <a:lnTo>
                    <a:pt x="25" y="15"/>
                  </a:lnTo>
                  <a:lnTo>
                    <a:pt x="27" y="21"/>
                  </a:lnTo>
                  <a:lnTo>
                    <a:pt x="192" y="21"/>
                  </a:lnTo>
                  <a:close/>
                </a:path>
              </a:pathLst>
            </a:custGeom>
            <a:solidFill>
              <a:srgbClr val="8c8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85880" y="2987640"/>
              <a:ext cx="460080" cy="879480"/>
            </a:xfrm>
            <a:custGeom>
              <a:avLst/>
              <a:gdLst/>
              <a:ahLst/>
              <a:rect l="l" t="t" r="r" b="b"/>
              <a:pathLst>
                <a:path w="290" h="554">
                  <a:moveTo>
                    <a:pt x="2" y="0"/>
                  </a:moveTo>
                  <a:lnTo>
                    <a:pt x="2" y="11"/>
                  </a:lnTo>
                  <a:lnTo>
                    <a:pt x="0" y="59"/>
                  </a:lnTo>
                  <a:lnTo>
                    <a:pt x="0" y="94"/>
                  </a:lnTo>
                  <a:lnTo>
                    <a:pt x="0" y="122"/>
                  </a:lnTo>
                  <a:lnTo>
                    <a:pt x="1" y="143"/>
                  </a:lnTo>
                  <a:lnTo>
                    <a:pt x="2" y="151"/>
                  </a:lnTo>
                  <a:lnTo>
                    <a:pt x="2" y="156"/>
                  </a:lnTo>
                  <a:lnTo>
                    <a:pt x="2" y="163"/>
                  </a:lnTo>
                  <a:lnTo>
                    <a:pt x="2" y="169"/>
                  </a:lnTo>
                  <a:lnTo>
                    <a:pt x="4" y="215"/>
                  </a:lnTo>
                  <a:lnTo>
                    <a:pt x="9" y="259"/>
                  </a:lnTo>
                  <a:lnTo>
                    <a:pt x="18" y="303"/>
                  </a:lnTo>
                  <a:lnTo>
                    <a:pt x="29" y="342"/>
                  </a:lnTo>
                  <a:lnTo>
                    <a:pt x="45" y="382"/>
                  </a:lnTo>
                  <a:lnTo>
                    <a:pt x="63" y="417"/>
                  </a:lnTo>
                  <a:lnTo>
                    <a:pt x="84" y="450"/>
                  </a:lnTo>
                  <a:lnTo>
                    <a:pt x="107" y="479"/>
                  </a:lnTo>
                  <a:lnTo>
                    <a:pt x="125" y="496"/>
                  </a:lnTo>
                  <a:lnTo>
                    <a:pt x="143" y="512"/>
                  </a:lnTo>
                  <a:lnTo>
                    <a:pt x="163" y="524"/>
                  </a:lnTo>
                  <a:lnTo>
                    <a:pt x="182" y="534"/>
                  </a:lnTo>
                  <a:lnTo>
                    <a:pt x="203" y="543"/>
                  </a:lnTo>
                  <a:lnTo>
                    <a:pt x="222" y="548"/>
                  </a:lnTo>
                  <a:lnTo>
                    <a:pt x="244" y="553"/>
                  </a:lnTo>
                  <a:lnTo>
                    <a:pt x="265" y="554"/>
                  </a:lnTo>
                  <a:lnTo>
                    <a:pt x="272" y="554"/>
                  </a:lnTo>
                  <a:lnTo>
                    <a:pt x="278" y="553"/>
                  </a:lnTo>
                  <a:lnTo>
                    <a:pt x="283" y="553"/>
                  </a:lnTo>
                  <a:lnTo>
                    <a:pt x="290" y="551"/>
                  </a:lnTo>
                  <a:lnTo>
                    <a:pt x="282" y="547"/>
                  </a:lnTo>
                  <a:lnTo>
                    <a:pt x="275" y="543"/>
                  </a:lnTo>
                  <a:lnTo>
                    <a:pt x="269" y="537"/>
                  </a:lnTo>
                  <a:lnTo>
                    <a:pt x="263" y="531"/>
                  </a:lnTo>
                  <a:lnTo>
                    <a:pt x="243" y="530"/>
                  </a:lnTo>
                  <a:lnTo>
                    <a:pt x="225" y="527"/>
                  </a:lnTo>
                  <a:lnTo>
                    <a:pt x="206" y="522"/>
                  </a:lnTo>
                  <a:lnTo>
                    <a:pt x="189" y="515"/>
                  </a:lnTo>
                  <a:lnTo>
                    <a:pt x="171" y="505"/>
                  </a:lnTo>
                  <a:lnTo>
                    <a:pt x="154" y="493"/>
                  </a:lnTo>
                  <a:lnTo>
                    <a:pt x="137" y="479"/>
                  </a:lnTo>
                  <a:lnTo>
                    <a:pt x="121" y="464"/>
                  </a:lnTo>
                  <a:lnTo>
                    <a:pt x="99" y="437"/>
                  </a:lnTo>
                  <a:lnTo>
                    <a:pt x="80" y="406"/>
                  </a:lnTo>
                  <a:lnTo>
                    <a:pt x="63" y="372"/>
                  </a:lnTo>
                  <a:lnTo>
                    <a:pt x="49" y="335"/>
                  </a:lnTo>
                  <a:lnTo>
                    <a:pt x="37" y="296"/>
                  </a:lnTo>
                  <a:lnTo>
                    <a:pt x="28" y="255"/>
                  </a:lnTo>
                  <a:lnTo>
                    <a:pt x="23" y="213"/>
                  </a:lnTo>
                  <a:lnTo>
                    <a:pt x="22" y="169"/>
                  </a:lnTo>
                  <a:lnTo>
                    <a:pt x="22" y="146"/>
                  </a:lnTo>
                  <a:lnTo>
                    <a:pt x="20" y="118"/>
                  </a:lnTo>
                  <a:lnTo>
                    <a:pt x="20" y="79"/>
                  </a:lnTo>
                  <a:lnTo>
                    <a:pt x="22" y="21"/>
                  </a:lnTo>
                  <a:lnTo>
                    <a:pt x="260" y="21"/>
                  </a:lnTo>
                  <a:lnTo>
                    <a:pt x="290" y="21"/>
                  </a:lnTo>
                  <a:lnTo>
                    <a:pt x="288" y="15"/>
                  </a:lnTo>
                  <a:lnTo>
                    <a:pt x="286" y="9"/>
                  </a:lnTo>
                  <a:lnTo>
                    <a:pt x="285" y="5"/>
                  </a:lnTo>
                  <a:lnTo>
                    <a:pt x="282" y="0"/>
                  </a:lnTo>
                  <a:lnTo>
                    <a:pt x="26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30160" y="1719360"/>
              <a:ext cx="798120" cy="758880"/>
            </a:xfrm>
            <a:custGeom>
              <a:avLst/>
              <a:gdLst/>
              <a:ahLst/>
              <a:rect l="l" t="t" r="r" b="b"/>
              <a:pathLst>
                <a:path w="503" h="478">
                  <a:moveTo>
                    <a:pt x="64" y="339"/>
                  </a:moveTo>
                  <a:lnTo>
                    <a:pt x="64" y="288"/>
                  </a:lnTo>
                  <a:lnTo>
                    <a:pt x="64" y="274"/>
                  </a:lnTo>
                  <a:lnTo>
                    <a:pt x="65" y="253"/>
                  </a:lnTo>
                  <a:lnTo>
                    <a:pt x="68" y="233"/>
                  </a:lnTo>
                  <a:lnTo>
                    <a:pt x="71" y="213"/>
                  </a:lnTo>
                  <a:lnTo>
                    <a:pt x="78" y="195"/>
                  </a:lnTo>
                  <a:lnTo>
                    <a:pt x="86" y="176"/>
                  </a:lnTo>
                  <a:lnTo>
                    <a:pt x="95" y="159"/>
                  </a:lnTo>
                  <a:lnTo>
                    <a:pt x="105" y="144"/>
                  </a:lnTo>
                  <a:lnTo>
                    <a:pt x="118" y="128"/>
                  </a:lnTo>
                  <a:lnTo>
                    <a:pt x="132" y="114"/>
                  </a:lnTo>
                  <a:lnTo>
                    <a:pt x="146" y="103"/>
                  </a:lnTo>
                  <a:lnTo>
                    <a:pt x="163" y="93"/>
                  </a:lnTo>
                  <a:lnTo>
                    <a:pt x="179" y="83"/>
                  </a:lnTo>
                  <a:lnTo>
                    <a:pt x="197" y="76"/>
                  </a:lnTo>
                  <a:lnTo>
                    <a:pt x="214" y="72"/>
                  </a:lnTo>
                  <a:lnTo>
                    <a:pt x="233" y="69"/>
                  </a:lnTo>
                  <a:lnTo>
                    <a:pt x="251" y="68"/>
                  </a:lnTo>
                  <a:lnTo>
                    <a:pt x="269" y="69"/>
                  </a:lnTo>
                  <a:lnTo>
                    <a:pt x="289" y="72"/>
                  </a:lnTo>
                  <a:lnTo>
                    <a:pt x="306" y="76"/>
                  </a:lnTo>
                  <a:lnTo>
                    <a:pt x="324" y="83"/>
                  </a:lnTo>
                  <a:lnTo>
                    <a:pt x="339" y="93"/>
                  </a:lnTo>
                  <a:lnTo>
                    <a:pt x="356" y="103"/>
                  </a:lnTo>
                  <a:lnTo>
                    <a:pt x="370" y="114"/>
                  </a:lnTo>
                  <a:lnTo>
                    <a:pt x="385" y="128"/>
                  </a:lnTo>
                  <a:lnTo>
                    <a:pt x="398" y="144"/>
                  </a:lnTo>
                  <a:lnTo>
                    <a:pt x="408" y="159"/>
                  </a:lnTo>
                  <a:lnTo>
                    <a:pt x="417" y="176"/>
                  </a:lnTo>
                  <a:lnTo>
                    <a:pt x="425" y="195"/>
                  </a:lnTo>
                  <a:lnTo>
                    <a:pt x="431" y="213"/>
                  </a:lnTo>
                  <a:lnTo>
                    <a:pt x="435" y="233"/>
                  </a:lnTo>
                  <a:lnTo>
                    <a:pt x="438" y="253"/>
                  </a:lnTo>
                  <a:lnTo>
                    <a:pt x="439" y="274"/>
                  </a:lnTo>
                  <a:lnTo>
                    <a:pt x="439" y="429"/>
                  </a:lnTo>
                  <a:lnTo>
                    <a:pt x="503" y="429"/>
                  </a:lnTo>
                  <a:lnTo>
                    <a:pt x="503" y="363"/>
                  </a:lnTo>
                  <a:lnTo>
                    <a:pt x="468" y="343"/>
                  </a:lnTo>
                  <a:lnTo>
                    <a:pt x="503" y="313"/>
                  </a:lnTo>
                  <a:lnTo>
                    <a:pt x="503" y="274"/>
                  </a:lnTo>
                  <a:lnTo>
                    <a:pt x="501" y="247"/>
                  </a:lnTo>
                  <a:lnTo>
                    <a:pt x="497" y="220"/>
                  </a:lnTo>
                  <a:lnTo>
                    <a:pt x="492" y="193"/>
                  </a:lnTo>
                  <a:lnTo>
                    <a:pt x="483" y="168"/>
                  </a:lnTo>
                  <a:lnTo>
                    <a:pt x="473" y="144"/>
                  </a:lnTo>
                  <a:lnTo>
                    <a:pt x="461" y="121"/>
                  </a:lnTo>
                  <a:lnTo>
                    <a:pt x="446" y="100"/>
                  </a:lnTo>
                  <a:lnTo>
                    <a:pt x="429" y="80"/>
                  </a:lnTo>
                  <a:lnTo>
                    <a:pt x="411" y="62"/>
                  </a:lnTo>
                  <a:lnTo>
                    <a:pt x="390" y="45"/>
                  </a:lnTo>
                  <a:lnTo>
                    <a:pt x="369" y="32"/>
                  </a:lnTo>
                  <a:lnTo>
                    <a:pt x="347" y="21"/>
                  </a:lnTo>
                  <a:lnTo>
                    <a:pt x="324" y="11"/>
                  </a:lnTo>
                  <a:lnTo>
                    <a:pt x="301" y="6"/>
                  </a:lnTo>
                  <a:lnTo>
                    <a:pt x="276" y="1"/>
                  </a:lnTo>
                  <a:lnTo>
                    <a:pt x="251" y="0"/>
                  </a:lnTo>
                  <a:lnTo>
                    <a:pt x="225" y="1"/>
                  </a:lnTo>
                  <a:lnTo>
                    <a:pt x="201" y="6"/>
                  </a:lnTo>
                  <a:lnTo>
                    <a:pt x="176" y="13"/>
                  </a:lnTo>
                  <a:lnTo>
                    <a:pt x="154" y="21"/>
                  </a:lnTo>
                  <a:lnTo>
                    <a:pt x="132" y="32"/>
                  </a:lnTo>
                  <a:lnTo>
                    <a:pt x="112" y="47"/>
                  </a:lnTo>
                  <a:lnTo>
                    <a:pt x="92" y="62"/>
                  </a:lnTo>
                  <a:lnTo>
                    <a:pt x="74" y="80"/>
                  </a:lnTo>
                  <a:lnTo>
                    <a:pt x="57" y="100"/>
                  </a:lnTo>
                  <a:lnTo>
                    <a:pt x="43" y="121"/>
                  </a:lnTo>
                  <a:lnTo>
                    <a:pt x="30" y="144"/>
                  </a:lnTo>
                  <a:lnTo>
                    <a:pt x="20" y="168"/>
                  </a:lnTo>
                  <a:lnTo>
                    <a:pt x="12" y="192"/>
                  </a:lnTo>
                  <a:lnTo>
                    <a:pt x="5" y="219"/>
                  </a:lnTo>
                  <a:lnTo>
                    <a:pt x="1" y="245"/>
                  </a:lnTo>
                  <a:lnTo>
                    <a:pt x="0" y="274"/>
                  </a:lnTo>
                  <a:lnTo>
                    <a:pt x="0" y="286"/>
                  </a:lnTo>
                  <a:lnTo>
                    <a:pt x="0" y="315"/>
                  </a:lnTo>
                  <a:lnTo>
                    <a:pt x="0" y="471"/>
                  </a:lnTo>
                  <a:lnTo>
                    <a:pt x="64" y="478"/>
                  </a:lnTo>
                  <a:lnTo>
                    <a:pt x="64" y="339"/>
                  </a:lnTo>
                  <a:close/>
                </a:path>
              </a:pathLst>
            </a:custGeom>
            <a:gradFill rotWithShape="0">
              <a:gsLst>
                <a:gs pos="0">
                  <a:srgbClr val="00007f"/>
                </a:gs>
                <a:gs pos="100000">
                  <a:srgbClr val="3838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30160" y="2467080"/>
              <a:ext cx="101160" cy="428400"/>
            </a:xfrm>
            <a:custGeom>
              <a:avLst/>
              <a:gdLst/>
              <a:ahLst/>
              <a:rect l="l" t="t" r="r" b="b"/>
              <a:pathLst>
                <a:path w="64" h="270">
                  <a:moveTo>
                    <a:pt x="64" y="270"/>
                  </a:moveTo>
                  <a:lnTo>
                    <a:pt x="64" y="7"/>
                  </a:lnTo>
                  <a:lnTo>
                    <a:pt x="0" y="0"/>
                  </a:lnTo>
                  <a:lnTo>
                    <a:pt x="0" y="270"/>
                  </a:lnTo>
                  <a:lnTo>
                    <a:pt x="64" y="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47800" y="4721400"/>
              <a:ext cx="134640" cy="7920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42" y="50"/>
                  </a:moveTo>
                  <a:lnTo>
                    <a:pt x="51" y="50"/>
                  </a:lnTo>
                  <a:lnTo>
                    <a:pt x="59" y="49"/>
                  </a:lnTo>
                  <a:lnTo>
                    <a:pt x="66" y="46"/>
                  </a:lnTo>
                  <a:lnTo>
                    <a:pt x="72" y="43"/>
                  </a:lnTo>
                  <a:lnTo>
                    <a:pt x="77" y="39"/>
                  </a:lnTo>
                  <a:lnTo>
                    <a:pt x="81" y="35"/>
                  </a:lnTo>
                  <a:lnTo>
                    <a:pt x="84" y="31"/>
                  </a:lnTo>
                  <a:lnTo>
                    <a:pt x="85" y="25"/>
                  </a:lnTo>
                  <a:lnTo>
                    <a:pt x="84" y="21"/>
                  </a:lnTo>
                  <a:lnTo>
                    <a:pt x="81" y="15"/>
                  </a:lnTo>
                  <a:lnTo>
                    <a:pt x="77" y="11"/>
                  </a:lnTo>
                  <a:lnTo>
                    <a:pt x="72" y="8"/>
                  </a:lnTo>
                  <a:lnTo>
                    <a:pt x="66" y="4"/>
                  </a:lnTo>
                  <a:lnTo>
                    <a:pt x="59" y="2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9" y="4"/>
                  </a:lnTo>
                  <a:lnTo>
                    <a:pt x="13" y="8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7" y="39"/>
                  </a:lnTo>
                  <a:lnTo>
                    <a:pt x="13" y="43"/>
                  </a:lnTo>
                  <a:lnTo>
                    <a:pt x="19" y="46"/>
                  </a:lnTo>
                  <a:lnTo>
                    <a:pt x="25" y="49"/>
                  </a:lnTo>
                  <a:lnTo>
                    <a:pt x="33" y="50"/>
                  </a:lnTo>
                  <a:lnTo>
                    <a:pt x="42" y="5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54080" y="4656240"/>
              <a:ext cx="136080" cy="792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43" y="50"/>
                  </a:moveTo>
                  <a:lnTo>
                    <a:pt x="52" y="50"/>
                  </a:lnTo>
                  <a:lnTo>
                    <a:pt x="60" y="49"/>
                  </a:lnTo>
                  <a:lnTo>
                    <a:pt x="66" y="46"/>
                  </a:lnTo>
                  <a:lnTo>
                    <a:pt x="73" y="43"/>
                  </a:lnTo>
                  <a:lnTo>
                    <a:pt x="78" y="39"/>
                  </a:lnTo>
                  <a:lnTo>
                    <a:pt x="82" y="35"/>
                  </a:lnTo>
                  <a:lnTo>
                    <a:pt x="84" y="31"/>
                  </a:lnTo>
                  <a:lnTo>
                    <a:pt x="86" y="25"/>
                  </a:lnTo>
                  <a:lnTo>
                    <a:pt x="84" y="19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3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4" y="35"/>
                  </a:lnTo>
                  <a:lnTo>
                    <a:pt x="8" y="39"/>
                  </a:lnTo>
                  <a:lnTo>
                    <a:pt x="13" y="43"/>
                  </a:lnTo>
                  <a:lnTo>
                    <a:pt x="20" y="46"/>
                  </a:lnTo>
                  <a:lnTo>
                    <a:pt x="26" y="49"/>
                  </a:lnTo>
                  <a:lnTo>
                    <a:pt x="34" y="50"/>
                  </a:lnTo>
                  <a:lnTo>
                    <a:pt x="43" y="5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62160" y="4587840"/>
              <a:ext cx="13608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43" y="51"/>
                  </a:moveTo>
                  <a:lnTo>
                    <a:pt x="52" y="51"/>
                  </a:lnTo>
                  <a:lnTo>
                    <a:pt x="60" y="50"/>
                  </a:lnTo>
                  <a:lnTo>
                    <a:pt x="66" y="47"/>
                  </a:lnTo>
                  <a:lnTo>
                    <a:pt x="73" y="44"/>
                  </a:lnTo>
                  <a:lnTo>
                    <a:pt x="78" y="40"/>
                  </a:lnTo>
                  <a:lnTo>
                    <a:pt x="82" y="36"/>
                  </a:lnTo>
                  <a:lnTo>
                    <a:pt x="84" y="31"/>
                  </a:lnTo>
                  <a:lnTo>
                    <a:pt x="86" y="26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8" y="12"/>
                  </a:lnTo>
                  <a:lnTo>
                    <a:pt x="73" y="7"/>
                  </a:lnTo>
                  <a:lnTo>
                    <a:pt x="66" y="5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19" y="5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3" y="44"/>
                  </a:lnTo>
                  <a:lnTo>
                    <a:pt x="19" y="47"/>
                  </a:lnTo>
                  <a:lnTo>
                    <a:pt x="26" y="50"/>
                  </a:lnTo>
                  <a:lnTo>
                    <a:pt x="34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69880" y="4522680"/>
              <a:ext cx="133200" cy="810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43" y="51"/>
                  </a:moveTo>
                  <a:lnTo>
                    <a:pt x="52" y="51"/>
                  </a:lnTo>
                  <a:lnTo>
                    <a:pt x="59" y="50"/>
                  </a:lnTo>
                  <a:lnTo>
                    <a:pt x="66" y="47"/>
                  </a:lnTo>
                  <a:lnTo>
                    <a:pt x="72" y="44"/>
                  </a:lnTo>
                  <a:lnTo>
                    <a:pt x="78" y="40"/>
                  </a:lnTo>
                  <a:lnTo>
                    <a:pt x="81" y="36"/>
                  </a:lnTo>
                  <a:lnTo>
                    <a:pt x="83" y="31"/>
                  </a:lnTo>
                  <a:lnTo>
                    <a:pt x="84" y="26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8" y="12"/>
                  </a:lnTo>
                  <a:lnTo>
                    <a:pt x="72" y="7"/>
                  </a:lnTo>
                  <a:lnTo>
                    <a:pt x="66" y="5"/>
                  </a:lnTo>
                  <a:lnTo>
                    <a:pt x="59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9" y="5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3" y="44"/>
                  </a:lnTo>
                  <a:lnTo>
                    <a:pt x="19" y="47"/>
                  </a:lnTo>
                  <a:lnTo>
                    <a:pt x="26" y="50"/>
                  </a:lnTo>
                  <a:lnTo>
                    <a:pt x="33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77960" y="4456080"/>
              <a:ext cx="132840" cy="810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42" y="51"/>
                  </a:moveTo>
                  <a:lnTo>
                    <a:pt x="51" y="51"/>
                  </a:lnTo>
                  <a:lnTo>
                    <a:pt x="59" y="49"/>
                  </a:lnTo>
                  <a:lnTo>
                    <a:pt x="66" y="47"/>
                  </a:lnTo>
                  <a:lnTo>
                    <a:pt x="72" y="44"/>
                  </a:lnTo>
                  <a:lnTo>
                    <a:pt x="77" y="40"/>
                  </a:lnTo>
                  <a:lnTo>
                    <a:pt x="81" y="35"/>
                  </a:lnTo>
                  <a:lnTo>
                    <a:pt x="82" y="31"/>
                  </a:lnTo>
                  <a:lnTo>
                    <a:pt x="84" y="26"/>
                  </a:lnTo>
                  <a:lnTo>
                    <a:pt x="82" y="20"/>
                  </a:lnTo>
                  <a:lnTo>
                    <a:pt x="81" y="16"/>
                  </a:lnTo>
                  <a:lnTo>
                    <a:pt x="77" y="11"/>
                  </a:lnTo>
                  <a:lnTo>
                    <a:pt x="72" y="7"/>
                  </a:lnTo>
                  <a:lnTo>
                    <a:pt x="66" y="4"/>
                  </a:lnTo>
                  <a:lnTo>
                    <a:pt x="59" y="2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7" y="40"/>
                  </a:lnTo>
                  <a:lnTo>
                    <a:pt x="13" y="44"/>
                  </a:lnTo>
                  <a:lnTo>
                    <a:pt x="19" y="47"/>
                  </a:lnTo>
                  <a:lnTo>
                    <a:pt x="25" y="49"/>
                  </a:lnTo>
                  <a:lnTo>
                    <a:pt x="33" y="51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25640" y="4821120"/>
              <a:ext cx="13608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43" y="51"/>
                  </a:moveTo>
                  <a:lnTo>
                    <a:pt x="52" y="51"/>
                  </a:lnTo>
                  <a:lnTo>
                    <a:pt x="60" y="49"/>
                  </a:lnTo>
                  <a:lnTo>
                    <a:pt x="66" y="47"/>
                  </a:lnTo>
                  <a:lnTo>
                    <a:pt x="73" y="44"/>
                  </a:lnTo>
                  <a:lnTo>
                    <a:pt x="78" y="40"/>
                  </a:lnTo>
                  <a:lnTo>
                    <a:pt x="82" y="35"/>
                  </a:lnTo>
                  <a:lnTo>
                    <a:pt x="84" y="31"/>
                  </a:lnTo>
                  <a:lnTo>
                    <a:pt x="86" y="25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8" y="11"/>
                  </a:lnTo>
                  <a:lnTo>
                    <a:pt x="73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3" y="44"/>
                  </a:lnTo>
                  <a:lnTo>
                    <a:pt x="20" y="47"/>
                  </a:lnTo>
                  <a:lnTo>
                    <a:pt x="26" y="49"/>
                  </a:lnTo>
                  <a:lnTo>
                    <a:pt x="34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33360" y="4754520"/>
              <a:ext cx="134640" cy="81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43" y="51"/>
                  </a:moveTo>
                  <a:lnTo>
                    <a:pt x="52" y="51"/>
                  </a:lnTo>
                  <a:lnTo>
                    <a:pt x="60" y="49"/>
                  </a:lnTo>
                  <a:lnTo>
                    <a:pt x="66" y="46"/>
                  </a:lnTo>
                  <a:lnTo>
                    <a:pt x="72" y="43"/>
                  </a:lnTo>
                  <a:lnTo>
                    <a:pt x="78" y="39"/>
                  </a:lnTo>
                  <a:lnTo>
                    <a:pt x="82" y="35"/>
                  </a:lnTo>
                  <a:lnTo>
                    <a:pt x="84" y="31"/>
                  </a:lnTo>
                  <a:lnTo>
                    <a:pt x="85" y="25"/>
                  </a:lnTo>
                  <a:lnTo>
                    <a:pt x="84" y="20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2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4" y="35"/>
                  </a:lnTo>
                  <a:lnTo>
                    <a:pt x="8" y="39"/>
                  </a:lnTo>
                  <a:lnTo>
                    <a:pt x="13" y="43"/>
                  </a:lnTo>
                  <a:lnTo>
                    <a:pt x="19" y="46"/>
                  </a:lnTo>
                  <a:lnTo>
                    <a:pt x="26" y="49"/>
                  </a:lnTo>
                  <a:lnTo>
                    <a:pt x="34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41440" y="4689360"/>
              <a:ext cx="132840" cy="810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42" y="51"/>
                  </a:moveTo>
                  <a:lnTo>
                    <a:pt x="51" y="51"/>
                  </a:lnTo>
                  <a:lnTo>
                    <a:pt x="59" y="49"/>
                  </a:lnTo>
                  <a:lnTo>
                    <a:pt x="66" y="46"/>
                  </a:lnTo>
                  <a:lnTo>
                    <a:pt x="72" y="44"/>
                  </a:lnTo>
                  <a:lnTo>
                    <a:pt x="77" y="39"/>
                  </a:lnTo>
                  <a:lnTo>
                    <a:pt x="81" y="35"/>
                  </a:lnTo>
                  <a:lnTo>
                    <a:pt x="83" y="31"/>
                  </a:lnTo>
                  <a:lnTo>
                    <a:pt x="84" y="25"/>
                  </a:lnTo>
                  <a:lnTo>
                    <a:pt x="83" y="20"/>
                  </a:lnTo>
                  <a:lnTo>
                    <a:pt x="81" y="15"/>
                  </a:lnTo>
                  <a:lnTo>
                    <a:pt x="77" y="11"/>
                  </a:lnTo>
                  <a:lnTo>
                    <a:pt x="72" y="7"/>
                  </a:lnTo>
                  <a:lnTo>
                    <a:pt x="66" y="4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4" y="35"/>
                  </a:lnTo>
                  <a:lnTo>
                    <a:pt x="7" y="39"/>
                  </a:lnTo>
                  <a:lnTo>
                    <a:pt x="13" y="44"/>
                  </a:lnTo>
                  <a:lnTo>
                    <a:pt x="19" y="46"/>
                  </a:lnTo>
                  <a:lnTo>
                    <a:pt x="26" y="49"/>
                  </a:lnTo>
                  <a:lnTo>
                    <a:pt x="33" y="51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47720" y="4622760"/>
              <a:ext cx="134640" cy="7956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43" y="50"/>
                  </a:moveTo>
                  <a:lnTo>
                    <a:pt x="52" y="50"/>
                  </a:lnTo>
                  <a:lnTo>
                    <a:pt x="60" y="49"/>
                  </a:lnTo>
                  <a:lnTo>
                    <a:pt x="66" y="46"/>
                  </a:lnTo>
                  <a:lnTo>
                    <a:pt x="73" y="43"/>
                  </a:lnTo>
                  <a:lnTo>
                    <a:pt x="78" y="39"/>
                  </a:lnTo>
                  <a:lnTo>
                    <a:pt x="82" y="35"/>
                  </a:lnTo>
                  <a:lnTo>
                    <a:pt x="83" y="31"/>
                  </a:lnTo>
                  <a:lnTo>
                    <a:pt x="85" y="25"/>
                  </a:lnTo>
                  <a:lnTo>
                    <a:pt x="83" y="19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3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2" y="7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3" y="35"/>
                  </a:lnTo>
                  <a:lnTo>
                    <a:pt x="7" y="39"/>
                  </a:lnTo>
                  <a:lnTo>
                    <a:pt x="12" y="43"/>
                  </a:lnTo>
                  <a:lnTo>
                    <a:pt x="19" y="46"/>
                  </a:lnTo>
                  <a:lnTo>
                    <a:pt x="26" y="49"/>
                  </a:lnTo>
                  <a:lnTo>
                    <a:pt x="34" y="50"/>
                  </a:lnTo>
                  <a:lnTo>
                    <a:pt x="43" y="5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55800" y="4554360"/>
              <a:ext cx="132840" cy="810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42" y="51"/>
                  </a:moveTo>
                  <a:lnTo>
                    <a:pt x="51" y="51"/>
                  </a:lnTo>
                  <a:lnTo>
                    <a:pt x="58" y="50"/>
                  </a:lnTo>
                  <a:lnTo>
                    <a:pt x="65" y="47"/>
                  </a:lnTo>
                  <a:lnTo>
                    <a:pt x="71" y="44"/>
                  </a:lnTo>
                  <a:lnTo>
                    <a:pt x="77" y="40"/>
                  </a:lnTo>
                  <a:lnTo>
                    <a:pt x="81" y="35"/>
                  </a:lnTo>
                  <a:lnTo>
                    <a:pt x="83" y="31"/>
                  </a:lnTo>
                  <a:lnTo>
                    <a:pt x="84" y="26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7" y="11"/>
                  </a:lnTo>
                  <a:lnTo>
                    <a:pt x="71" y="7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7" y="11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3" y="35"/>
                  </a:lnTo>
                  <a:lnTo>
                    <a:pt x="7" y="40"/>
                  </a:lnTo>
                  <a:lnTo>
                    <a:pt x="12" y="44"/>
                  </a:lnTo>
                  <a:lnTo>
                    <a:pt x="18" y="47"/>
                  </a:lnTo>
                  <a:lnTo>
                    <a:pt x="25" y="50"/>
                  </a:lnTo>
                  <a:lnTo>
                    <a:pt x="33" y="51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87280" y="4929120"/>
              <a:ext cx="134640" cy="81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43" y="51"/>
                  </a:moveTo>
                  <a:lnTo>
                    <a:pt x="52" y="51"/>
                  </a:lnTo>
                  <a:lnTo>
                    <a:pt x="60" y="49"/>
                  </a:lnTo>
                  <a:lnTo>
                    <a:pt x="66" y="46"/>
                  </a:lnTo>
                  <a:lnTo>
                    <a:pt x="73" y="44"/>
                  </a:lnTo>
                  <a:lnTo>
                    <a:pt x="78" y="39"/>
                  </a:lnTo>
                  <a:lnTo>
                    <a:pt x="82" y="35"/>
                  </a:lnTo>
                  <a:lnTo>
                    <a:pt x="83" y="31"/>
                  </a:lnTo>
                  <a:lnTo>
                    <a:pt x="85" y="25"/>
                  </a:lnTo>
                  <a:lnTo>
                    <a:pt x="83" y="20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3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4" y="35"/>
                  </a:lnTo>
                  <a:lnTo>
                    <a:pt x="8" y="39"/>
                  </a:lnTo>
                  <a:lnTo>
                    <a:pt x="13" y="44"/>
                  </a:lnTo>
                  <a:lnTo>
                    <a:pt x="20" y="46"/>
                  </a:lnTo>
                  <a:lnTo>
                    <a:pt x="26" y="49"/>
                  </a:lnTo>
                  <a:lnTo>
                    <a:pt x="34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95360" y="4863960"/>
              <a:ext cx="133200" cy="810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43" y="51"/>
                  </a:moveTo>
                  <a:lnTo>
                    <a:pt x="52" y="51"/>
                  </a:lnTo>
                  <a:lnTo>
                    <a:pt x="60" y="49"/>
                  </a:lnTo>
                  <a:lnTo>
                    <a:pt x="66" y="46"/>
                  </a:lnTo>
                  <a:lnTo>
                    <a:pt x="73" y="44"/>
                  </a:lnTo>
                  <a:lnTo>
                    <a:pt x="78" y="39"/>
                  </a:lnTo>
                  <a:lnTo>
                    <a:pt x="82" y="35"/>
                  </a:lnTo>
                  <a:lnTo>
                    <a:pt x="83" y="31"/>
                  </a:lnTo>
                  <a:lnTo>
                    <a:pt x="84" y="25"/>
                  </a:lnTo>
                  <a:lnTo>
                    <a:pt x="83" y="20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3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4" y="35"/>
                  </a:lnTo>
                  <a:lnTo>
                    <a:pt x="8" y="39"/>
                  </a:lnTo>
                  <a:lnTo>
                    <a:pt x="13" y="44"/>
                  </a:lnTo>
                  <a:lnTo>
                    <a:pt x="20" y="46"/>
                  </a:lnTo>
                  <a:lnTo>
                    <a:pt x="26" y="49"/>
                  </a:lnTo>
                  <a:lnTo>
                    <a:pt x="34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03440" y="4797360"/>
              <a:ext cx="132840" cy="79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41" y="50"/>
                  </a:moveTo>
                  <a:lnTo>
                    <a:pt x="50" y="50"/>
                  </a:lnTo>
                  <a:lnTo>
                    <a:pt x="58" y="49"/>
                  </a:lnTo>
                  <a:lnTo>
                    <a:pt x="66" y="46"/>
                  </a:lnTo>
                  <a:lnTo>
                    <a:pt x="72" y="43"/>
                  </a:lnTo>
                  <a:lnTo>
                    <a:pt x="78" y="39"/>
                  </a:lnTo>
                  <a:lnTo>
                    <a:pt x="82" y="35"/>
                  </a:lnTo>
                  <a:lnTo>
                    <a:pt x="83" y="31"/>
                  </a:lnTo>
                  <a:lnTo>
                    <a:pt x="84" y="25"/>
                  </a:lnTo>
                  <a:lnTo>
                    <a:pt x="83" y="19"/>
                  </a:lnTo>
                  <a:lnTo>
                    <a:pt x="82" y="15"/>
                  </a:lnTo>
                  <a:lnTo>
                    <a:pt x="78" y="11"/>
                  </a:lnTo>
                  <a:lnTo>
                    <a:pt x="72" y="7"/>
                  </a:lnTo>
                  <a:lnTo>
                    <a:pt x="66" y="4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6" y="39"/>
                  </a:lnTo>
                  <a:lnTo>
                    <a:pt x="12" y="43"/>
                  </a:lnTo>
                  <a:lnTo>
                    <a:pt x="18" y="46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41" y="5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11160" y="4732200"/>
              <a:ext cx="133200" cy="79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41" y="50"/>
                  </a:moveTo>
                  <a:lnTo>
                    <a:pt x="50" y="50"/>
                  </a:lnTo>
                  <a:lnTo>
                    <a:pt x="58" y="49"/>
                  </a:lnTo>
                  <a:lnTo>
                    <a:pt x="64" y="46"/>
                  </a:lnTo>
                  <a:lnTo>
                    <a:pt x="71" y="43"/>
                  </a:lnTo>
                  <a:lnTo>
                    <a:pt x="76" y="39"/>
                  </a:lnTo>
                  <a:lnTo>
                    <a:pt x="80" y="35"/>
                  </a:lnTo>
                  <a:lnTo>
                    <a:pt x="83" y="31"/>
                  </a:lnTo>
                  <a:lnTo>
                    <a:pt x="84" y="25"/>
                  </a:lnTo>
                  <a:lnTo>
                    <a:pt x="83" y="19"/>
                  </a:lnTo>
                  <a:lnTo>
                    <a:pt x="80" y="15"/>
                  </a:lnTo>
                  <a:lnTo>
                    <a:pt x="76" y="11"/>
                  </a:lnTo>
                  <a:lnTo>
                    <a:pt x="71" y="7"/>
                  </a:lnTo>
                  <a:lnTo>
                    <a:pt x="64" y="4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4" y="1"/>
                  </a:lnTo>
                  <a:lnTo>
                    <a:pt x="18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2" y="35"/>
                  </a:lnTo>
                  <a:lnTo>
                    <a:pt x="6" y="39"/>
                  </a:lnTo>
                  <a:lnTo>
                    <a:pt x="11" y="43"/>
                  </a:lnTo>
                  <a:lnTo>
                    <a:pt x="18" y="46"/>
                  </a:lnTo>
                  <a:lnTo>
                    <a:pt x="24" y="49"/>
                  </a:lnTo>
                  <a:lnTo>
                    <a:pt x="32" y="50"/>
                  </a:lnTo>
                  <a:lnTo>
                    <a:pt x="41" y="5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16000" y="466416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43" y="51"/>
                  </a:moveTo>
                  <a:lnTo>
                    <a:pt x="52" y="51"/>
                  </a:lnTo>
                  <a:lnTo>
                    <a:pt x="60" y="50"/>
                  </a:lnTo>
                  <a:lnTo>
                    <a:pt x="66" y="47"/>
                  </a:lnTo>
                  <a:lnTo>
                    <a:pt x="73" y="44"/>
                  </a:lnTo>
                  <a:lnTo>
                    <a:pt x="78" y="40"/>
                  </a:lnTo>
                  <a:lnTo>
                    <a:pt x="82" y="36"/>
                  </a:lnTo>
                  <a:lnTo>
                    <a:pt x="84" y="31"/>
                  </a:lnTo>
                  <a:lnTo>
                    <a:pt x="86" y="26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8" y="12"/>
                  </a:lnTo>
                  <a:lnTo>
                    <a:pt x="73" y="7"/>
                  </a:lnTo>
                  <a:lnTo>
                    <a:pt x="66" y="5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0" y="5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13" y="44"/>
                  </a:lnTo>
                  <a:lnTo>
                    <a:pt x="20" y="47"/>
                  </a:lnTo>
                  <a:lnTo>
                    <a:pt x="26" y="50"/>
                  </a:lnTo>
                  <a:lnTo>
                    <a:pt x="34" y="51"/>
                  </a:lnTo>
                  <a:lnTo>
                    <a:pt x="43" y="5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ECHNICAL SOLUTIONS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90760" y="1386000"/>
            <a:ext cx="442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Verify the Actors’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uthorize Access to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Protect Priv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Keep Confident Sensitiv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82760" y="3578400"/>
            <a:ext cx="50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irewall, SSL,VPN, ID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uthentication, Secur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eb, DBMS, etc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DR and Click Stream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FF34-E987-4059-930F-6F5204A54A2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4B2A466-D12C-47D5-9007-BF3339BDE8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OPEN PROBLEMS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E-COMMERCE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credibility,efficiency,solvency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1954080" y="2244600"/>
            <a:ext cx="37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’s Quality &amp;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-sale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cy Safegu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90520" y="5278320"/>
            <a:ext cx="21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Relat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79320" y="236232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yer’s Solv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90160" y="5259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Risk In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317680" y="3548160"/>
          <a:ext cx="1836720" cy="15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7680" y="3548160"/>
                    <a:ext cx="183672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6361200" y="3533760"/>
            <a:ext cx="1792080" cy="146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95EA-63B7-4920-A3F9-399AEB66972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AE9EBE3-5321-4A97-9AD8-02AFF41B06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RUST SOLU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090880" y="3711600"/>
            <a:ext cx="4384440" cy="2400120"/>
          </a:xfrm>
          <a:custGeom>
            <a:avLst/>
            <a:gdLst/>
            <a:ahLst/>
            <a:rect l="l" t="t" r="r" b="b"/>
            <a:pathLst>
              <a:path w="2762" h="1512">
                <a:moveTo>
                  <a:pt x="75" y="0"/>
                </a:moveTo>
                <a:lnTo>
                  <a:pt x="102" y="27"/>
                </a:lnTo>
                <a:lnTo>
                  <a:pt x="134" y="70"/>
                </a:lnTo>
                <a:lnTo>
                  <a:pt x="171" y="113"/>
                </a:lnTo>
                <a:lnTo>
                  <a:pt x="209" y="161"/>
                </a:lnTo>
                <a:lnTo>
                  <a:pt x="241" y="209"/>
                </a:lnTo>
                <a:lnTo>
                  <a:pt x="278" y="258"/>
                </a:lnTo>
                <a:lnTo>
                  <a:pt x="310" y="300"/>
                </a:lnTo>
                <a:lnTo>
                  <a:pt x="337" y="338"/>
                </a:lnTo>
                <a:lnTo>
                  <a:pt x="358" y="370"/>
                </a:lnTo>
                <a:lnTo>
                  <a:pt x="385" y="392"/>
                </a:lnTo>
                <a:lnTo>
                  <a:pt x="406" y="413"/>
                </a:lnTo>
                <a:lnTo>
                  <a:pt x="433" y="429"/>
                </a:lnTo>
                <a:lnTo>
                  <a:pt x="454" y="445"/>
                </a:lnTo>
                <a:lnTo>
                  <a:pt x="476" y="456"/>
                </a:lnTo>
                <a:lnTo>
                  <a:pt x="492" y="467"/>
                </a:lnTo>
                <a:lnTo>
                  <a:pt x="513" y="477"/>
                </a:lnTo>
                <a:lnTo>
                  <a:pt x="545" y="494"/>
                </a:lnTo>
                <a:lnTo>
                  <a:pt x="577" y="499"/>
                </a:lnTo>
                <a:lnTo>
                  <a:pt x="609" y="515"/>
                </a:lnTo>
                <a:lnTo>
                  <a:pt x="641" y="547"/>
                </a:lnTo>
                <a:lnTo>
                  <a:pt x="663" y="585"/>
                </a:lnTo>
                <a:lnTo>
                  <a:pt x="668" y="595"/>
                </a:lnTo>
                <a:lnTo>
                  <a:pt x="684" y="606"/>
                </a:lnTo>
                <a:lnTo>
                  <a:pt x="722" y="617"/>
                </a:lnTo>
                <a:lnTo>
                  <a:pt x="754" y="628"/>
                </a:lnTo>
                <a:lnTo>
                  <a:pt x="786" y="638"/>
                </a:lnTo>
                <a:lnTo>
                  <a:pt x="823" y="654"/>
                </a:lnTo>
                <a:lnTo>
                  <a:pt x="855" y="676"/>
                </a:lnTo>
                <a:lnTo>
                  <a:pt x="887" y="697"/>
                </a:lnTo>
                <a:lnTo>
                  <a:pt x="909" y="719"/>
                </a:lnTo>
                <a:lnTo>
                  <a:pt x="925" y="740"/>
                </a:lnTo>
                <a:lnTo>
                  <a:pt x="930" y="762"/>
                </a:lnTo>
                <a:lnTo>
                  <a:pt x="914" y="788"/>
                </a:lnTo>
                <a:lnTo>
                  <a:pt x="882" y="794"/>
                </a:lnTo>
                <a:lnTo>
                  <a:pt x="845" y="794"/>
                </a:lnTo>
                <a:lnTo>
                  <a:pt x="802" y="794"/>
                </a:lnTo>
                <a:lnTo>
                  <a:pt x="775" y="799"/>
                </a:lnTo>
                <a:lnTo>
                  <a:pt x="743" y="810"/>
                </a:lnTo>
                <a:lnTo>
                  <a:pt x="706" y="815"/>
                </a:lnTo>
                <a:lnTo>
                  <a:pt x="663" y="821"/>
                </a:lnTo>
                <a:lnTo>
                  <a:pt x="615" y="826"/>
                </a:lnTo>
                <a:lnTo>
                  <a:pt x="567" y="826"/>
                </a:lnTo>
                <a:lnTo>
                  <a:pt x="519" y="826"/>
                </a:lnTo>
                <a:lnTo>
                  <a:pt x="476" y="815"/>
                </a:lnTo>
                <a:lnTo>
                  <a:pt x="513" y="853"/>
                </a:lnTo>
                <a:lnTo>
                  <a:pt x="572" y="896"/>
                </a:lnTo>
                <a:lnTo>
                  <a:pt x="647" y="939"/>
                </a:lnTo>
                <a:lnTo>
                  <a:pt x="732" y="981"/>
                </a:lnTo>
                <a:lnTo>
                  <a:pt x="818" y="1024"/>
                </a:lnTo>
                <a:lnTo>
                  <a:pt x="914" y="1062"/>
                </a:lnTo>
                <a:lnTo>
                  <a:pt x="999" y="1089"/>
                </a:lnTo>
                <a:lnTo>
                  <a:pt x="1080" y="1105"/>
                </a:lnTo>
                <a:lnTo>
                  <a:pt x="1117" y="1099"/>
                </a:lnTo>
                <a:lnTo>
                  <a:pt x="1170" y="1099"/>
                </a:lnTo>
                <a:lnTo>
                  <a:pt x="1224" y="1110"/>
                </a:lnTo>
                <a:lnTo>
                  <a:pt x="1288" y="1126"/>
                </a:lnTo>
                <a:lnTo>
                  <a:pt x="1352" y="1142"/>
                </a:lnTo>
                <a:lnTo>
                  <a:pt x="1405" y="1158"/>
                </a:lnTo>
                <a:lnTo>
                  <a:pt x="1454" y="1174"/>
                </a:lnTo>
                <a:lnTo>
                  <a:pt x="1486" y="1185"/>
                </a:lnTo>
                <a:lnTo>
                  <a:pt x="1512" y="1185"/>
                </a:lnTo>
                <a:lnTo>
                  <a:pt x="1539" y="1191"/>
                </a:lnTo>
                <a:lnTo>
                  <a:pt x="1571" y="1185"/>
                </a:lnTo>
                <a:lnTo>
                  <a:pt x="1603" y="1185"/>
                </a:lnTo>
                <a:lnTo>
                  <a:pt x="1635" y="1180"/>
                </a:lnTo>
                <a:lnTo>
                  <a:pt x="1662" y="1180"/>
                </a:lnTo>
                <a:lnTo>
                  <a:pt x="1689" y="1180"/>
                </a:lnTo>
                <a:lnTo>
                  <a:pt x="1715" y="1180"/>
                </a:lnTo>
                <a:lnTo>
                  <a:pt x="1737" y="1180"/>
                </a:lnTo>
                <a:lnTo>
                  <a:pt x="1763" y="1174"/>
                </a:lnTo>
                <a:lnTo>
                  <a:pt x="1785" y="1174"/>
                </a:lnTo>
                <a:lnTo>
                  <a:pt x="1817" y="1169"/>
                </a:lnTo>
                <a:lnTo>
                  <a:pt x="1844" y="1164"/>
                </a:lnTo>
                <a:lnTo>
                  <a:pt x="1870" y="1158"/>
                </a:lnTo>
                <a:lnTo>
                  <a:pt x="1902" y="1158"/>
                </a:lnTo>
                <a:lnTo>
                  <a:pt x="1929" y="1153"/>
                </a:lnTo>
                <a:lnTo>
                  <a:pt x="1950" y="1153"/>
                </a:lnTo>
                <a:lnTo>
                  <a:pt x="1972" y="1153"/>
                </a:lnTo>
                <a:lnTo>
                  <a:pt x="1993" y="1153"/>
                </a:lnTo>
                <a:lnTo>
                  <a:pt x="2009" y="1153"/>
                </a:lnTo>
                <a:lnTo>
                  <a:pt x="2031" y="1148"/>
                </a:lnTo>
                <a:lnTo>
                  <a:pt x="2057" y="1142"/>
                </a:lnTo>
                <a:lnTo>
                  <a:pt x="2089" y="1126"/>
                </a:lnTo>
                <a:lnTo>
                  <a:pt x="2127" y="1105"/>
                </a:lnTo>
                <a:lnTo>
                  <a:pt x="2175" y="1078"/>
                </a:lnTo>
                <a:lnTo>
                  <a:pt x="2218" y="1057"/>
                </a:lnTo>
                <a:lnTo>
                  <a:pt x="2266" y="1040"/>
                </a:lnTo>
                <a:lnTo>
                  <a:pt x="2314" y="1030"/>
                </a:lnTo>
                <a:lnTo>
                  <a:pt x="2351" y="1014"/>
                </a:lnTo>
                <a:lnTo>
                  <a:pt x="2389" y="992"/>
                </a:lnTo>
                <a:lnTo>
                  <a:pt x="2415" y="971"/>
                </a:lnTo>
                <a:lnTo>
                  <a:pt x="2437" y="939"/>
                </a:lnTo>
                <a:lnTo>
                  <a:pt x="2453" y="906"/>
                </a:lnTo>
                <a:lnTo>
                  <a:pt x="2474" y="869"/>
                </a:lnTo>
                <a:lnTo>
                  <a:pt x="2501" y="837"/>
                </a:lnTo>
                <a:lnTo>
                  <a:pt x="2527" y="804"/>
                </a:lnTo>
                <a:lnTo>
                  <a:pt x="2554" y="778"/>
                </a:lnTo>
                <a:lnTo>
                  <a:pt x="2581" y="756"/>
                </a:lnTo>
                <a:lnTo>
                  <a:pt x="2608" y="735"/>
                </a:lnTo>
                <a:lnTo>
                  <a:pt x="2634" y="724"/>
                </a:lnTo>
                <a:lnTo>
                  <a:pt x="2666" y="670"/>
                </a:lnTo>
                <a:lnTo>
                  <a:pt x="2704" y="606"/>
                </a:lnTo>
                <a:lnTo>
                  <a:pt x="2730" y="542"/>
                </a:lnTo>
                <a:lnTo>
                  <a:pt x="2752" y="494"/>
                </a:lnTo>
                <a:lnTo>
                  <a:pt x="2762" y="520"/>
                </a:lnTo>
                <a:lnTo>
                  <a:pt x="2762" y="579"/>
                </a:lnTo>
                <a:lnTo>
                  <a:pt x="2736" y="660"/>
                </a:lnTo>
                <a:lnTo>
                  <a:pt x="2677" y="735"/>
                </a:lnTo>
                <a:lnTo>
                  <a:pt x="2666" y="756"/>
                </a:lnTo>
                <a:lnTo>
                  <a:pt x="2656" y="788"/>
                </a:lnTo>
                <a:lnTo>
                  <a:pt x="2640" y="826"/>
                </a:lnTo>
                <a:lnTo>
                  <a:pt x="2624" y="863"/>
                </a:lnTo>
                <a:lnTo>
                  <a:pt x="2597" y="901"/>
                </a:lnTo>
                <a:lnTo>
                  <a:pt x="2570" y="939"/>
                </a:lnTo>
                <a:lnTo>
                  <a:pt x="2538" y="965"/>
                </a:lnTo>
                <a:lnTo>
                  <a:pt x="2501" y="987"/>
                </a:lnTo>
                <a:lnTo>
                  <a:pt x="2479" y="1014"/>
                </a:lnTo>
                <a:lnTo>
                  <a:pt x="2458" y="1040"/>
                </a:lnTo>
                <a:lnTo>
                  <a:pt x="2431" y="1067"/>
                </a:lnTo>
                <a:lnTo>
                  <a:pt x="2405" y="1094"/>
                </a:lnTo>
                <a:lnTo>
                  <a:pt x="2378" y="1121"/>
                </a:lnTo>
                <a:lnTo>
                  <a:pt x="2356" y="1148"/>
                </a:lnTo>
                <a:lnTo>
                  <a:pt x="2330" y="1169"/>
                </a:lnTo>
                <a:lnTo>
                  <a:pt x="2308" y="1185"/>
                </a:lnTo>
                <a:lnTo>
                  <a:pt x="2287" y="1201"/>
                </a:lnTo>
                <a:lnTo>
                  <a:pt x="2266" y="1228"/>
                </a:lnTo>
                <a:lnTo>
                  <a:pt x="2239" y="1255"/>
                </a:lnTo>
                <a:lnTo>
                  <a:pt x="2212" y="1282"/>
                </a:lnTo>
                <a:lnTo>
                  <a:pt x="2175" y="1314"/>
                </a:lnTo>
                <a:lnTo>
                  <a:pt x="2127" y="1346"/>
                </a:lnTo>
                <a:lnTo>
                  <a:pt x="2068" y="1373"/>
                </a:lnTo>
                <a:lnTo>
                  <a:pt x="1993" y="1400"/>
                </a:lnTo>
                <a:lnTo>
                  <a:pt x="2036" y="1410"/>
                </a:lnTo>
                <a:lnTo>
                  <a:pt x="2004" y="1421"/>
                </a:lnTo>
                <a:lnTo>
                  <a:pt x="1972" y="1432"/>
                </a:lnTo>
                <a:lnTo>
                  <a:pt x="1940" y="1443"/>
                </a:lnTo>
                <a:lnTo>
                  <a:pt x="1908" y="1448"/>
                </a:lnTo>
                <a:lnTo>
                  <a:pt x="1870" y="1459"/>
                </a:lnTo>
                <a:lnTo>
                  <a:pt x="1828" y="1464"/>
                </a:lnTo>
                <a:lnTo>
                  <a:pt x="1785" y="1469"/>
                </a:lnTo>
                <a:lnTo>
                  <a:pt x="1737" y="1480"/>
                </a:lnTo>
                <a:lnTo>
                  <a:pt x="1683" y="1485"/>
                </a:lnTo>
                <a:lnTo>
                  <a:pt x="1641" y="1491"/>
                </a:lnTo>
                <a:lnTo>
                  <a:pt x="1598" y="1491"/>
                </a:lnTo>
                <a:lnTo>
                  <a:pt x="1566" y="1491"/>
                </a:lnTo>
                <a:lnTo>
                  <a:pt x="1528" y="1491"/>
                </a:lnTo>
                <a:lnTo>
                  <a:pt x="1496" y="1491"/>
                </a:lnTo>
                <a:lnTo>
                  <a:pt x="1470" y="1496"/>
                </a:lnTo>
                <a:lnTo>
                  <a:pt x="1438" y="1502"/>
                </a:lnTo>
                <a:lnTo>
                  <a:pt x="1405" y="1507"/>
                </a:lnTo>
                <a:lnTo>
                  <a:pt x="1368" y="1512"/>
                </a:lnTo>
                <a:lnTo>
                  <a:pt x="1331" y="1512"/>
                </a:lnTo>
                <a:lnTo>
                  <a:pt x="1293" y="1512"/>
                </a:lnTo>
                <a:lnTo>
                  <a:pt x="1256" y="1507"/>
                </a:lnTo>
                <a:lnTo>
                  <a:pt x="1218" y="1502"/>
                </a:lnTo>
                <a:lnTo>
                  <a:pt x="1176" y="1496"/>
                </a:lnTo>
                <a:lnTo>
                  <a:pt x="1133" y="1485"/>
                </a:lnTo>
                <a:lnTo>
                  <a:pt x="1085" y="1475"/>
                </a:lnTo>
                <a:lnTo>
                  <a:pt x="1031" y="1464"/>
                </a:lnTo>
                <a:lnTo>
                  <a:pt x="973" y="1448"/>
                </a:lnTo>
                <a:lnTo>
                  <a:pt x="914" y="1426"/>
                </a:lnTo>
                <a:lnTo>
                  <a:pt x="850" y="1400"/>
                </a:lnTo>
                <a:lnTo>
                  <a:pt x="786" y="1362"/>
                </a:lnTo>
                <a:lnTo>
                  <a:pt x="727" y="1325"/>
                </a:lnTo>
                <a:lnTo>
                  <a:pt x="674" y="1271"/>
                </a:lnTo>
                <a:lnTo>
                  <a:pt x="620" y="1271"/>
                </a:lnTo>
                <a:lnTo>
                  <a:pt x="577" y="1233"/>
                </a:lnTo>
                <a:lnTo>
                  <a:pt x="529" y="1185"/>
                </a:lnTo>
                <a:lnTo>
                  <a:pt x="481" y="1132"/>
                </a:lnTo>
                <a:lnTo>
                  <a:pt x="428" y="1067"/>
                </a:lnTo>
                <a:lnTo>
                  <a:pt x="380" y="1003"/>
                </a:lnTo>
                <a:lnTo>
                  <a:pt x="337" y="933"/>
                </a:lnTo>
                <a:lnTo>
                  <a:pt x="300" y="869"/>
                </a:lnTo>
                <a:lnTo>
                  <a:pt x="273" y="804"/>
                </a:lnTo>
                <a:lnTo>
                  <a:pt x="246" y="772"/>
                </a:lnTo>
                <a:lnTo>
                  <a:pt x="209" y="767"/>
                </a:lnTo>
                <a:lnTo>
                  <a:pt x="171" y="788"/>
                </a:lnTo>
                <a:lnTo>
                  <a:pt x="155" y="847"/>
                </a:lnTo>
                <a:lnTo>
                  <a:pt x="150" y="917"/>
                </a:lnTo>
                <a:lnTo>
                  <a:pt x="134" y="992"/>
                </a:lnTo>
                <a:lnTo>
                  <a:pt x="107" y="1062"/>
                </a:lnTo>
                <a:lnTo>
                  <a:pt x="64" y="1110"/>
                </a:lnTo>
                <a:lnTo>
                  <a:pt x="38" y="1121"/>
                </a:lnTo>
                <a:lnTo>
                  <a:pt x="43" y="1094"/>
                </a:lnTo>
                <a:lnTo>
                  <a:pt x="59" y="1051"/>
                </a:lnTo>
                <a:lnTo>
                  <a:pt x="81" y="1003"/>
                </a:lnTo>
                <a:lnTo>
                  <a:pt x="81" y="965"/>
                </a:lnTo>
                <a:lnTo>
                  <a:pt x="70" y="933"/>
                </a:lnTo>
                <a:lnTo>
                  <a:pt x="59" y="901"/>
                </a:lnTo>
                <a:lnTo>
                  <a:pt x="64" y="863"/>
                </a:lnTo>
                <a:lnTo>
                  <a:pt x="75" y="815"/>
                </a:lnTo>
                <a:lnTo>
                  <a:pt x="70" y="762"/>
                </a:lnTo>
                <a:lnTo>
                  <a:pt x="59" y="708"/>
                </a:lnTo>
                <a:lnTo>
                  <a:pt x="48" y="665"/>
                </a:lnTo>
                <a:lnTo>
                  <a:pt x="32" y="628"/>
                </a:lnTo>
                <a:lnTo>
                  <a:pt x="11" y="585"/>
                </a:lnTo>
                <a:lnTo>
                  <a:pt x="0" y="536"/>
                </a:lnTo>
                <a:lnTo>
                  <a:pt x="6" y="488"/>
                </a:lnTo>
                <a:lnTo>
                  <a:pt x="22" y="413"/>
                </a:lnTo>
                <a:lnTo>
                  <a:pt x="27" y="290"/>
                </a:lnTo>
                <a:lnTo>
                  <a:pt x="43" y="145"/>
                </a:lnTo>
                <a:lnTo>
                  <a:pt x="75" y="0"/>
                </a:lnTo>
                <a:close/>
              </a:path>
            </a:pathLst>
          </a:custGeom>
          <a:gradFill rotWithShape="0">
            <a:gsLst>
              <a:gs pos="0">
                <a:srgbClr val="2818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19400" y="1523880"/>
            <a:ext cx="4681440" cy="2570400"/>
          </a:xfrm>
          <a:custGeom>
            <a:avLst/>
            <a:gdLst/>
            <a:ahLst/>
            <a:rect l="l" t="t" r="r" b="b"/>
            <a:pathLst>
              <a:path w="2949" h="1619">
                <a:moveTo>
                  <a:pt x="0" y="1276"/>
                </a:moveTo>
                <a:lnTo>
                  <a:pt x="32" y="1228"/>
                </a:lnTo>
                <a:lnTo>
                  <a:pt x="64" y="1180"/>
                </a:lnTo>
                <a:lnTo>
                  <a:pt x="85" y="1115"/>
                </a:lnTo>
                <a:lnTo>
                  <a:pt x="96" y="1035"/>
                </a:lnTo>
                <a:lnTo>
                  <a:pt x="122" y="997"/>
                </a:lnTo>
                <a:lnTo>
                  <a:pt x="154" y="955"/>
                </a:lnTo>
                <a:lnTo>
                  <a:pt x="181" y="912"/>
                </a:lnTo>
                <a:lnTo>
                  <a:pt x="208" y="863"/>
                </a:lnTo>
                <a:lnTo>
                  <a:pt x="235" y="815"/>
                </a:lnTo>
                <a:lnTo>
                  <a:pt x="261" y="767"/>
                </a:lnTo>
                <a:lnTo>
                  <a:pt x="288" y="729"/>
                </a:lnTo>
                <a:lnTo>
                  <a:pt x="309" y="692"/>
                </a:lnTo>
                <a:lnTo>
                  <a:pt x="336" y="660"/>
                </a:lnTo>
                <a:lnTo>
                  <a:pt x="363" y="633"/>
                </a:lnTo>
                <a:lnTo>
                  <a:pt x="395" y="611"/>
                </a:lnTo>
                <a:lnTo>
                  <a:pt x="432" y="585"/>
                </a:lnTo>
                <a:lnTo>
                  <a:pt x="464" y="569"/>
                </a:lnTo>
                <a:lnTo>
                  <a:pt x="496" y="552"/>
                </a:lnTo>
                <a:lnTo>
                  <a:pt x="528" y="542"/>
                </a:lnTo>
                <a:lnTo>
                  <a:pt x="555" y="531"/>
                </a:lnTo>
                <a:lnTo>
                  <a:pt x="603" y="504"/>
                </a:lnTo>
                <a:lnTo>
                  <a:pt x="651" y="467"/>
                </a:lnTo>
                <a:lnTo>
                  <a:pt x="683" y="440"/>
                </a:lnTo>
                <a:lnTo>
                  <a:pt x="699" y="424"/>
                </a:lnTo>
                <a:lnTo>
                  <a:pt x="769" y="402"/>
                </a:lnTo>
                <a:lnTo>
                  <a:pt x="854" y="386"/>
                </a:lnTo>
                <a:lnTo>
                  <a:pt x="950" y="365"/>
                </a:lnTo>
                <a:lnTo>
                  <a:pt x="1052" y="349"/>
                </a:lnTo>
                <a:lnTo>
                  <a:pt x="1159" y="338"/>
                </a:lnTo>
                <a:lnTo>
                  <a:pt x="1260" y="327"/>
                </a:lnTo>
                <a:lnTo>
                  <a:pt x="1351" y="327"/>
                </a:lnTo>
                <a:lnTo>
                  <a:pt x="1431" y="327"/>
                </a:lnTo>
                <a:lnTo>
                  <a:pt x="1469" y="349"/>
                </a:lnTo>
                <a:lnTo>
                  <a:pt x="1506" y="365"/>
                </a:lnTo>
                <a:lnTo>
                  <a:pt x="1554" y="386"/>
                </a:lnTo>
                <a:lnTo>
                  <a:pt x="1608" y="408"/>
                </a:lnTo>
                <a:lnTo>
                  <a:pt x="1672" y="424"/>
                </a:lnTo>
                <a:lnTo>
                  <a:pt x="1736" y="440"/>
                </a:lnTo>
                <a:lnTo>
                  <a:pt x="1811" y="445"/>
                </a:lnTo>
                <a:lnTo>
                  <a:pt x="1891" y="451"/>
                </a:lnTo>
                <a:lnTo>
                  <a:pt x="1950" y="477"/>
                </a:lnTo>
                <a:lnTo>
                  <a:pt x="2035" y="526"/>
                </a:lnTo>
                <a:lnTo>
                  <a:pt x="2142" y="590"/>
                </a:lnTo>
                <a:lnTo>
                  <a:pt x="2254" y="670"/>
                </a:lnTo>
                <a:lnTo>
                  <a:pt x="2366" y="767"/>
                </a:lnTo>
                <a:lnTo>
                  <a:pt x="2473" y="874"/>
                </a:lnTo>
                <a:lnTo>
                  <a:pt x="2569" y="992"/>
                </a:lnTo>
                <a:lnTo>
                  <a:pt x="2644" y="1115"/>
                </a:lnTo>
                <a:lnTo>
                  <a:pt x="2623" y="1110"/>
                </a:lnTo>
                <a:lnTo>
                  <a:pt x="2601" y="1105"/>
                </a:lnTo>
                <a:lnTo>
                  <a:pt x="2585" y="1099"/>
                </a:lnTo>
                <a:lnTo>
                  <a:pt x="2564" y="1094"/>
                </a:lnTo>
                <a:lnTo>
                  <a:pt x="2543" y="1094"/>
                </a:lnTo>
                <a:lnTo>
                  <a:pt x="2521" y="1094"/>
                </a:lnTo>
                <a:lnTo>
                  <a:pt x="2495" y="1094"/>
                </a:lnTo>
                <a:lnTo>
                  <a:pt x="2462" y="1094"/>
                </a:lnTo>
                <a:lnTo>
                  <a:pt x="2430" y="1089"/>
                </a:lnTo>
                <a:lnTo>
                  <a:pt x="2393" y="1083"/>
                </a:lnTo>
                <a:lnTo>
                  <a:pt x="2356" y="1078"/>
                </a:lnTo>
                <a:lnTo>
                  <a:pt x="2318" y="1073"/>
                </a:lnTo>
                <a:lnTo>
                  <a:pt x="2281" y="1067"/>
                </a:lnTo>
                <a:lnTo>
                  <a:pt x="2243" y="1062"/>
                </a:lnTo>
                <a:lnTo>
                  <a:pt x="2211" y="1062"/>
                </a:lnTo>
                <a:lnTo>
                  <a:pt x="2179" y="1062"/>
                </a:lnTo>
                <a:lnTo>
                  <a:pt x="2147" y="1062"/>
                </a:lnTo>
                <a:lnTo>
                  <a:pt x="2115" y="1062"/>
                </a:lnTo>
                <a:lnTo>
                  <a:pt x="2083" y="1056"/>
                </a:lnTo>
                <a:lnTo>
                  <a:pt x="2051" y="1051"/>
                </a:lnTo>
                <a:lnTo>
                  <a:pt x="2019" y="1051"/>
                </a:lnTo>
                <a:lnTo>
                  <a:pt x="1998" y="1046"/>
                </a:lnTo>
                <a:lnTo>
                  <a:pt x="1982" y="1046"/>
                </a:lnTo>
                <a:lnTo>
                  <a:pt x="1976" y="1046"/>
                </a:lnTo>
                <a:lnTo>
                  <a:pt x="2003" y="1078"/>
                </a:lnTo>
                <a:lnTo>
                  <a:pt x="2040" y="1115"/>
                </a:lnTo>
                <a:lnTo>
                  <a:pt x="2078" y="1153"/>
                </a:lnTo>
                <a:lnTo>
                  <a:pt x="2110" y="1201"/>
                </a:lnTo>
                <a:lnTo>
                  <a:pt x="2131" y="1228"/>
                </a:lnTo>
                <a:lnTo>
                  <a:pt x="2158" y="1250"/>
                </a:lnTo>
                <a:lnTo>
                  <a:pt x="2190" y="1271"/>
                </a:lnTo>
                <a:lnTo>
                  <a:pt x="2227" y="1292"/>
                </a:lnTo>
                <a:lnTo>
                  <a:pt x="2265" y="1314"/>
                </a:lnTo>
                <a:lnTo>
                  <a:pt x="2302" y="1330"/>
                </a:lnTo>
                <a:lnTo>
                  <a:pt x="2334" y="1341"/>
                </a:lnTo>
                <a:lnTo>
                  <a:pt x="2361" y="1346"/>
                </a:lnTo>
                <a:lnTo>
                  <a:pt x="2404" y="1357"/>
                </a:lnTo>
                <a:lnTo>
                  <a:pt x="2446" y="1373"/>
                </a:lnTo>
                <a:lnTo>
                  <a:pt x="2484" y="1394"/>
                </a:lnTo>
                <a:lnTo>
                  <a:pt x="2516" y="1426"/>
                </a:lnTo>
                <a:lnTo>
                  <a:pt x="2537" y="1448"/>
                </a:lnTo>
                <a:lnTo>
                  <a:pt x="2559" y="1464"/>
                </a:lnTo>
                <a:lnTo>
                  <a:pt x="2591" y="1480"/>
                </a:lnTo>
                <a:lnTo>
                  <a:pt x="2617" y="1496"/>
                </a:lnTo>
                <a:lnTo>
                  <a:pt x="2649" y="1512"/>
                </a:lnTo>
                <a:lnTo>
                  <a:pt x="2681" y="1528"/>
                </a:lnTo>
                <a:lnTo>
                  <a:pt x="2708" y="1544"/>
                </a:lnTo>
                <a:lnTo>
                  <a:pt x="2730" y="1555"/>
                </a:lnTo>
                <a:lnTo>
                  <a:pt x="2751" y="1566"/>
                </a:lnTo>
                <a:lnTo>
                  <a:pt x="2772" y="1577"/>
                </a:lnTo>
                <a:lnTo>
                  <a:pt x="2799" y="1587"/>
                </a:lnTo>
                <a:lnTo>
                  <a:pt x="2826" y="1598"/>
                </a:lnTo>
                <a:lnTo>
                  <a:pt x="2852" y="1609"/>
                </a:lnTo>
                <a:lnTo>
                  <a:pt x="2874" y="1614"/>
                </a:lnTo>
                <a:lnTo>
                  <a:pt x="2885" y="1619"/>
                </a:lnTo>
                <a:lnTo>
                  <a:pt x="2890" y="1619"/>
                </a:lnTo>
                <a:lnTo>
                  <a:pt x="2922" y="1534"/>
                </a:lnTo>
                <a:lnTo>
                  <a:pt x="2943" y="1432"/>
                </a:lnTo>
                <a:lnTo>
                  <a:pt x="2949" y="1341"/>
                </a:lnTo>
                <a:lnTo>
                  <a:pt x="2938" y="1287"/>
                </a:lnTo>
                <a:lnTo>
                  <a:pt x="2933" y="1233"/>
                </a:lnTo>
                <a:lnTo>
                  <a:pt x="2933" y="1185"/>
                </a:lnTo>
                <a:lnTo>
                  <a:pt x="2927" y="1142"/>
                </a:lnTo>
                <a:lnTo>
                  <a:pt x="2922" y="1099"/>
                </a:lnTo>
                <a:lnTo>
                  <a:pt x="2911" y="1062"/>
                </a:lnTo>
                <a:lnTo>
                  <a:pt x="2911" y="1040"/>
                </a:lnTo>
                <a:lnTo>
                  <a:pt x="2922" y="1019"/>
                </a:lnTo>
                <a:lnTo>
                  <a:pt x="2933" y="997"/>
                </a:lnTo>
                <a:lnTo>
                  <a:pt x="2938" y="971"/>
                </a:lnTo>
                <a:lnTo>
                  <a:pt x="2938" y="933"/>
                </a:lnTo>
                <a:lnTo>
                  <a:pt x="2927" y="890"/>
                </a:lnTo>
                <a:lnTo>
                  <a:pt x="2927" y="831"/>
                </a:lnTo>
                <a:lnTo>
                  <a:pt x="2927" y="788"/>
                </a:lnTo>
                <a:lnTo>
                  <a:pt x="2922" y="778"/>
                </a:lnTo>
                <a:lnTo>
                  <a:pt x="2911" y="794"/>
                </a:lnTo>
                <a:lnTo>
                  <a:pt x="2901" y="831"/>
                </a:lnTo>
                <a:lnTo>
                  <a:pt x="2885" y="874"/>
                </a:lnTo>
                <a:lnTo>
                  <a:pt x="2868" y="917"/>
                </a:lnTo>
                <a:lnTo>
                  <a:pt x="2852" y="960"/>
                </a:lnTo>
                <a:lnTo>
                  <a:pt x="2842" y="1003"/>
                </a:lnTo>
                <a:lnTo>
                  <a:pt x="2826" y="1035"/>
                </a:lnTo>
                <a:lnTo>
                  <a:pt x="2799" y="1056"/>
                </a:lnTo>
                <a:lnTo>
                  <a:pt x="2772" y="1105"/>
                </a:lnTo>
                <a:lnTo>
                  <a:pt x="2746" y="1196"/>
                </a:lnTo>
                <a:lnTo>
                  <a:pt x="2730" y="1078"/>
                </a:lnTo>
                <a:lnTo>
                  <a:pt x="2703" y="981"/>
                </a:lnTo>
                <a:lnTo>
                  <a:pt x="2671" y="896"/>
                </a:lnTo>
                <a:lnTo>
                  <a:pt x="2644" y="815"/>
                </a:lnTo>
                <a:lnTo>
                  <a:pt x="2628" y="772"/>
                </a:lnTo>
                <a:lnTo>
                  <a:pt x="2612" y="719"/>
                </a:lnTo>
                <a:lnTo>
                  <a:pt x="2591" y="665"/>
                </a:lnTo>
                <a:lnTo>
                  <a:pt x="2564" y="606"/>
                </a:lnTo>
                <a:lnTo>
                  <a:pt x="2537" y="552"/>
                </a:lnTo>
                <a:lnTo>
                  <a:pt x="2500" y="493"/>
                </a:lnTo>
                <a:lnTo>
                  <a:pt x="2457" y="445"/>
                </a:lnTo>
                <a:lnTo>
                  <a:pt x="2414" y="397"/>
                </a:lnTo>
                <a:lnTo>
                  <a:pt x="2372" y="359"/>
                </a:lnTo>
                <a:lnTo>
                  <a:pt x="2334" y="333"/>
                </a:lnTo>
                <a:lnTo>
                  <a:pt x="2297" y="306"/>
                </a:lnTo>
                <a:lnTo>
                  <a:pt x="2265" y="290"/>
                </a:lnTo>
                <a:lnTo>
                  <a:pt x="2233" y="268"/>
                </a:lnTo>
                <a:lnTo>
                  <a:pt x="2201" y="252"/>
                </a:lnTo>
                <a:lnTo>
                  <a:pt x="2163" y="225"/>
                </a:lnTo>
                <a:lnTo>
                  <a:pt x="2126" y="199"/>
                </a:lnTo>
                <a:lnTo>
                  <a:pt x="2083" y="166"/>
                </a:lnTo>
                <a:lnTo>
                  <a:pt x="2030" y="140"/>
                </a:lnTo>
                <a:lnTo>
                  <a:pt x="1982" y="118"/>
                </a:lnTo>
                <a:lnTo>
                  <a:pt x="1928" y="97"/>
                </a:lnTo>
                <a:lnTo>
                  <a:pt x="1875" y="81"/>
                </a:lnTo>
                <a:lnTo>
                  <a:pt x="1827" y="65"/>
                </a:lnTo>
                <a:lnTo>
                  <a:pt x="1779" y="54"/>
                </a:lnTo>
                <a:lnTo>
                  <a:pt x="1741" y="48"/>
                </a:lnTo>
                <a:lnTo>
                  <a:pt x="1709" y="43"/>
                </a:lnTo>
                <a:lnTo>
                  <a:pt x="1682" y="32"/>
                </a:lnTo>
                <a:lnTo>
                  <a:pt x="1650" y="22"/>
                </a:lnTo>
                <a:lnTo>
                  <a:pt x="1618" y="11"/>
                </a:lnTo>
                <a:lnTo>
                  <a:pt x="1586" y="6"/>
                </a:lnTo>
                <a:lnTo>
                  <a:pt x="1544" y="0"/>
                </a:lnTo>
                <a:lnTo>
                  <a:pt x="1495" y="6"/>
                </a:lnTo>
                <a:lnTo>
                  <a:pt x="1431" y="22"/>
                </a:lnTo>
                <a:lnTo>
                  <a:pt x="1389" y="16"/>
                </a:lnTo>
                <a:lnTo>
                  <a:pt x="1351" y="16"/>
                </a:lnTo>
                <a:lnTo>
                  <a:pt x="1319" y="11"/>
                </a:lnTo>
                <a:lnTo>
                  <a:pt x="1292" y="11"/>
                </a:lnTo>
                <a:lnTo>
                  <a:pt x="1266" y="11"/>
                </a:lnTo>
                <a:lnTo>
                  <a:pt x="1239" y="11"/>
                </a:lnTo>
                <a:lnTo>
                  <a:pt x="1207" y="16"/>
                </a:lnTo>
                <a:lnTo>
                  <a:pt x="1175" y="27"/>
                </a:lnTo>
                <a:lnTo>
                  <a:pt x="1137" y="32"/>
                </a:lnTo>
                <a:lnTo>
                  <a:pt x="1089" y="32"/>
                </a:lnTo>
                <a:lnTo>
                  <a:pt x="1036" y="38"/>
                </a:lnTo>
                <a:lnTo>
                  <a:pt x="977" y="38"/>
                </a:lnTo>
                <a:lnTo>
                  <a:pt x="918" y="43"/>
                </a:lnTo>
                <a:lnTo>
                  <a:pt x="865" y="59"/>
                </a:lnTo>
                <a:lnTo>
                  <a:pt x="812" y="81"/>
                </a:lnTo>
                <a:lnTo>
                  <a:pt x="769" y="113"/>
                </a:lnTo>
                <a:lnTo>
                  <a:pt x="801" y="140"/>
                </a:lnTo>
                <a:lnTo>
                  <a:pt x="774" y="150"/>
                </a:lnTo>
                <a:lnTo>
                  <a:pt x="742" y="166"/>
                </a:lnTo>
                <a:lnTo>
                  <a:pt x="715" y="177"/>
                </a:lnTo>
                <a:lnTo>
                  <a:pt x="683" y="193"/>
                </a:lnTo>
                <a:lnTo>
                  <a:pt x="657" y="209"/>
                </a:lnTo>
                <a:lnTo>
                  <a:pt x="625" y="231"/>
                </a:lnTo>
                <a:lnTo>
                  <a:pt x="593" y="263"/>
                </a:lnTo>
                <a:lnTo>
                  <a:pt x="560" y="295"/>
                </a:lnTo>
                <a:lnTo>
                  <a:pt x="528" y="333"/>
                </a:lnTo>
                <a:lnTo>
                  <a:pt x="496" y="365"/>
                </a:lnTo>
                <a:lnTo>
                  <a:pt x="464" y="392"/>
                </a:lnTo>
                <a:lnTo>
                  <a:pt x="432" y="418"/>
                </a:lnTo>
                <a:lnTo>
                  <a:pt x="395" y="440"/>
                </a:lnTo>
                <a:lnTo>
                  <a:pt x="363" y="461"/>
                </a:lnTo>
                <a:lnTo>
                  <a:pt x="331" y="483"/>
                </a:lnTo>
                <a:lnTo>
                  <a:pt x="299" y="510"/>
                </a:lnTo>
                <a:lnTo>
                  <a:pt x="261" y="558"/>
                </a:lnTo>
                <a:lnTo>
                  <a:pt x="256" y="590"/>
                </a:lnTo>
                <a:lnTo>
                  <a:pt x="256" y="622"/>
                </a:lnTo>
                <a:lnTo>
                  <a:pt x="245" y="660"/>
                </a:lnTo>
                <a:lnTo>
                  <a:pt x="203" y="713"/>
                </a:lnTo>
                <a:lnTo>
                  <a:pt x="160" y="778"/>
                </a:lnTo>
                <a:lnTo>
                  <a:pt x="117" y="842"/>
                </a:lnTo>
                <a:lnTo>
                  <a:pt x="101" y="901"/>
                </a:lnTo>
                <a:lnTo>
                  <a:pt x="80" y="965"/>
                </a:lnTo>
                <a:lnTo>
                  <a:pt x="42" y="1056"/>
                </a:lnTo>
                <a:lnTo>
                  <a:pt x="5" y="1164"/>
                </a:lnTo>
                <a:lnTo>
                  <a:pt x="0" y="1276"/>
                </a:lnTo>
                <a:close/>
              </a:path>
            </a:pathLst>
          </a:custGeom>
          <a:gradFill rotWithShape="0">
            <a:gsLst>
              <a:gs pos="0">
                <a:srgbClr val="2818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767040" y="1195560"/>
            <a:ext cx="1567080" cy="139536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5226120" y="4910040"/>
            <a:ext cx="1174680" cy="1104840"/>
            <a:chOff x="5226120" y="4910040"/>
            <a:chExt cx="1174680" cy="1104840"/>
          </a:xfrm>
        </p:grpSpPr>
        <p:sp>
          <p:nvSpPr>
            <p:cNvPr id="508" name=""/>
            <p:cNvSpPr/>
            <p:nvPr/>
          </p:nvSpPr>
          <p:spPr>
            <a:xfrm>
              <a:off x="5226120" y="4910040"/>
              <a:ext cx="1174680" cy="1090800"/>
            </a:xfrm>
            <a:custGeom>
              <a:avLst/>
              <a:gdLst/>
              <a:ahLst/>
              <a:rect l="l" t="t" r="r" b="b"/>
              <a:pathLst>
                <a:path w="1296" h="1286">
                  <a:moveTo>
                    <a:pt x="1149" y="1286"/>
                  </a:moveTo>
                  <a:lnTo>
                    <a:pt x="1179" y="1283"/>
                  </a:lnTo>
                  <a:lnTo>
                    <a:pt x="1207" y="1274"/>
                  </a:lnTo>
                  <a:lnTo>
                    <a:pt x="1231" y="1260"/>
                  </a:lnTo>
                  <a:lnTo>
                    <a:pt x="1253" y="1243"/>
                  </a:lnTo>
                  <a:lnTo>
                    <a:pt x="1271" y="1221"/>
                  </a:lnTo>
                  <a:lnTo>
                    <a:pt x="1284" y="1197"/>
                  </a:lnTo>
                  <a:lnTo>
                    <a:pt x="1293" y="1168"/>
                  </a:lnTo>
                  <a:lnTo>
                    <a:pt x="1296" y="1139"/>
                  </a:lnTo>
                  <a:lnTo>
                    <a:pt x="1296" y="147"/>
                  </a:lnTo>
                  <a:lnTo>
                    <a:pt x="1293" y="118"/>
                  </a:lnTo>
                  <a:lnTo>
                    <a:pt x="1284" y="89"/>
                  </a:lnTo>
                  <a:lnTo>
                    <a:pt x="1271" y="65"/>
                  </a:lnTo>
                  <a:lnTo>
                    <a:pt x="1253" y="43"/>
                  </a:lnTo>
                  <a:lnTo>
                    <a:pt x="1231" y="26"/>
                  </a:lnTo>
                  <a:lnTo>
                    <a:pt x="1207" y="12"/>
                  </a:lnTo>
                  <a:lnTo>
                    <a:pt x="1179" y="3"/>
                  </a:lnTo>
                  <a:lnTo>
                    <a:pt x="1149" y="0"/>
                  </a:lnTo>
                  <a:lnTo>
                    <a:pt x="147" y="0"/>
                  </a:lnTo>
                  <a:lnTo>
                    <a:pt x="117" y="3"/>
                  </a:lnTo>
                  <a:lnTo>
                    <a:pt x="90" y="12"/>
                  </a:lnTo>
                  <a:lnTo>
                    <a:pt x="65" y="26"/>
                  </a:lnTo>
                  <a:lnTo>
                    <a:pt x="44" y="43"/>
                  </a:lnTo>
                  <a:lnTo>
                    <a:pt x="25" y="65"/>
                  </a:lnTo>
                  <a:lnTo>
                    <a:pt x="12" y="89"/>
                  </a:lnTo>
                  <a:lnTo>
                    <a:pt x="3" y="118"/>
                  </a:lnTo>
                  <a:lnTo>
                    <a:pt x="0" y="147"/>
                  </a:lnTo>
                  <a:lnTo>
                    <a:pt x="0" y="1139"/>
                  </a:lnTo>
                  <a:lnTo>
                    <a:pt x="3" y="1168"/>
                  </a:lnTo>
                  <a:lnTo>
                    <a:pt x="12" y="1197"/>
                  </a:lnTo>
                  <a:lnTo>
                    <a:pt x="25" y="1221"/>
                  </a:lnTo>
                  <a:lnTo>
                    <a:pt x="44" y="1243"/>
                  </a:lnTo>
                  <a:lnTo>
                    <a:pt x="65" y="1260"/>
                  </a:lnTo>
                  <a:lnTo>
                    <a:pt x="90" y="1274"/>
                  </a:lnTo>
                  <a:lnTo>
                    <a:pt x="117" y="1283"/>
                  </a:lnTo>
                  <a:lnTo>
                    <a:pt x="147" y="1286"/>
                  </a:lnTo>
                  <a:lnTo>
                    <a:pt x="1149" y="128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59240" y="4992840"/>
              <a:ext cx="1105200" cy="417240"/>
            </a:xfrm>
            <a:custGeom>
              <a:avLst/>
              <a:gdLst/>
              <a:ahLst/>
              <a:rect l="l" t="t" r="r" b="b"/>
              <a:pathLst>
                <a:path w="1217" h="493">
                  <a:moveTo>
                    <a:pt x="135" y="389"/>
                  </a:moveTo>
                  <a:lnTo>
                    <a:pt x="149" y="390"/>
                  </a:lnTo>
                  <a:lnTo>
                    <a:pt x="162" y="392"/>
                  </a:lnTo>
                  <a:lnTo>
                    <a:pt x="175" y="396"/>
                  </a:lnTo>
                  <a:lnTo>
                    <a:pt x="188" y="400"/>
                  </a:lnTo>
                  <a:lnTo>
                    <a:pt x="200" y="408"/>
                  </a:lnTo>
                  <a:lnTo>
                    <a:pt x="211" y="415"/>
                  </a:lnTo>
                  <a:lnTo>
                    <a:pt x="221" y="423"/>
                  </a:lnTo>
                  <a:lnTo>
                    <a:pt x="232" y="432"/>
                  </a:lnTo>
                  <a:lnTo>
                    <a:pt x="242" y="423"/>
                  </a:lnTo>
                  <a:lnTo>
                    <a:pt x="253" y="415"/>
                  </a:lnTo>
                  <a:lnTo>
                    <a:pt x="265" y="408"/>
                  </a:lnTo>
                  <a:lnTo>
                    <a:pt x="276" y="400"/>
                  </a:lnTo>
                  <a:lnTo>
                    <a:pt x="289" y="396"/>
                  </a:lnTo>
                  <a:lnTo>
                    <a:pt x="302" y="392"/>
                  </a:lnTo>
                  <a:lnTo>
                    <a:pt x="315" y="390"/>
                  </a:lnTo>
                  <a:lnTo>
                    <a:pt x="328" y="389"/>
                  </a:lnTo>
                  <a:lnTo>
                    <a:pt x="341" y="390"/>
                  </a:lnTo>
                  <a:lnTo>
                    <a:pt x="354" y="392"/>
                  </a:lnTo>
                  <a:lnTo>
                    <a:pt x="367" y="396"/>
                  </a:lnTo>
                  <a:lnTo>
                    <a:pt x="380" y="400"/>
                  </a:lnTo>
                  <a:lnTo>
                    <a:pt x="391" y="408"/>
                  </a:lnTo>
                  <a:lnTo>
                    <a:pt x="403" y="415"/>
                  </a:lnTo>
                  <a:lnTo>
                    <a:pt x="415" y="423"/>
                  </a:lnTo>
                  <a:lnTo>
                    <a:pt x="425" y="432"/>
                  </a:lnTo>
                  <a:lnTo>
                    <a:pt x="435" y="423"/>
                  </a:lnTo>
                  <a:lnTo>
                    <a:pt x="445" y="415"/>
                  </a:lnTo>
                  <a:lnTo>
                    <a:pt x="456" y="408"/>
                  </a:lnTo>
                  <a:lnTo>
                    <a:pt x="468" y="400"/>
                  </a:lnTo>
                  <a:lnTo>
                    <a:pt x="481" y="396"/>
                  </a:lnTo>
                  <a:lnTo>
                    <a:pt x="494" y="392"/>
                  </a:lnTo>
                  <a:lnTo>
                    <a:pt x="507" y="390"/>
                  </a:lnTo>
                  <a:lnTo>
                    <a:pt x="520" y="389"/>
                  </a:lnTo>
                  <a:lnTo>
                    <a:pt x="533" y="390"/>
                  </a:lnTo>
                  <a:lnTo>
                    <a:pt x="546" y="392"/>
                  </a:lnTo>
                  <a:lnTo>
                    <a:pt x="559" y="396"/>
                  </a:lnTo>
                  <a:lnTo>
                    <a:pt x="572" y="400"/>
                  </a:lnTo>
                  <a:lnTo>
                    <a:pt x="583" y="408"/>
                  </a:lnTo>
                  <a:lnTo>
                    <a:pt x="595" y="415"/>
                  </a:lnTo>
                  <a:lnTo>
                    <a:pt x="606" y="423"/>
                  </a:lnTo>
                  <a:lnTo>
                    <a:pt x="616" y="432"/>
                  </a:lnTo>
                  <a:lnTo>
                    <a:pt x="626" y="423"/>
                  </a:lnTo>
                  <a:lnTo>
                    <a:pt x="638" y="415"/>
                  </a:lnTo>
                  <a:lnTo>
                    <a:pt x="649" y="408"/>
                  </a:lnTo>
                  <a:lnTo>
                    <a:pt x="661" y="400"/>
                  </a:lnTo>
                  <a:lnTo>
                    <a:pt x="674" y="396"/>
                  </a:lnTo>
                  <a:lnTo>
                    <a:pt x="687" y="392"/>
                  </a:lnTo>
                  <a:lnTo>
                    <a:pt x="700" y="390"/>
                  </a:lnTo>
                  <a:lnTo>
                    <a:pt x="713" y="389"/>
                  </a:lnTo>
                  <a:lnTo>
                    <a:pt x="726" y="390"/>
                  </a:lnTo>
                  <a:lnTo>
                    <a:pt x="739" y="392"/>
                  </a:lnTo>
                  <a:lnTo>
                    <a:pt x="752" y="396"/>
                  </a:lnTo>
                  <a:lnTo>
                    <a:pt x="765" y="400"/>
                  </a:lnTo>
                  <a:lnTo>
                    <a:pt x="776" y="408"/>
                  </a:lnTo>
                  <a:lnTo>
                    <a:pt x="788" y="415"/>
                  </a:lnTo>
                  <a:lnTo>
                    <a:pt x="798" y="423"/>
                  </a:lnTo>
                  <a:lnTo>
                    <a:pt x="808" y="432"/>
                  </a:lnTo>
                  <a:lnTo>
                    <a:pt x="818" y="423"/>
                  </a:lnTo>
                  <a:lnTo>
                    <a:pt x="830" y="415"/>
                  </a:lnTo>
                  <a:lnTo>
                    <a:pt x="841" y="408"/>
                  </a:lnTo>
                  <a:lnTo>
                    <a:pt x="853" y="400"/>
                  </a:lnTo>
                  <a:lnTo>
                    <a:pt x="866" y="396"/>
                  </a:lnTo>
                  <a:lnTo>
                    <a:pt x="879" y="392"/>
                  </a:lnTo>
                  <a:lnTo>
                    <a:pt x="891" y="390"/>
                  </a:lnTo>
                  <a:lnTo>
                    <a:pt x="904" y="389"/>
                  </a:lnTo>
                  <a:lnTo>
                    <a:pt x="917" y="390"/>
                  </a:lnTo>
                  <a:lnTo>
                    <a:pt x="930" y="392"/>
                  </a:lnTo>
                  <a:lnTo>
                    <a:pt x="943" y="396"/>
                  </a:lnTo>
                  <a:lnTo>
                    <a:pt x="956" y="400"/>
                  </a:lnTo>
                  <a:lnTo>
                    <a:pt x="968" y="408"/>
                  </a:lnTo>
                  <a:lnTo>
                    <a:pt x="979" y="415"/>
                  </a:lnTo>
                  <a:lnTo>
                    <a:pt x="991" y="423"/>
                  </a:lnTo>
                  <a:lnTo>
                    <a:pt x="1001" y="432"/>
                  </a:lnTo>
                  <a:lnTo>
                    <a:pt x="1011" y="423"/>
                  </a:lnTo>
                  <a:lnTo>
                    <a:pt x="1021" y="415"/>
                  </a:lnTo>
                  <a:lnTo>
                    <a:pt x="1033" y="408"/>
                  </a:lnTo>
                  <a:lnTo>
                    <a:pt x="1046" y="400"/>
                  </a:lnTo>
                  <a:lnTo>
                    <a:pt x="1057" y="396"/>
                  </a:lnTo>
                  <a:lnTo>
                    <a:pt x="1070" y="392"/>
                  </a:lnTo>
                  <a:lnTo>
                    <a:pt x="1083" y="390"/>
                  </a:lnTo>
                  <a:lnTo>
                    <a:pt x="1098" y="389"/>
                  </a:lnTo>
                  <a:lnTo>
                    <a:pt x="1115" y="390"/>
                  </a:lnTo>
                  <a:lnTo>
                    <a:pt x="1132" y="395"/>
                  </a:lnTo>
                  <a:lnTo>
                    <a:pt x="1148" y="400"/>
                  </a:lnTo>
                  <a:lnTo>
                    <a:pt x="1164" y="409"/>
                  </a:lnTo>
                  <a:lnTo>
                    <a:pt x="1180" y="419"/>
                  </a:lnTo>
                  <a:lnTo>
                    <a:pt x="1193" y="432"/>
                  </a:lnTo>
                  <a:lnTo>
                    <a:pt x="1206" y="448"/>
                  </a:lnTo>
                  <a:lnTo>
                    <a:pt x="1217" y="464"/>
                  </a:lnTo>
                  <a:lnTo>
                    <a:pt x="1207" y="415"/>
                  </a:lnTo>
                  <a:lnTo>
                    <a:pt x="1193" y="369"/>
                  </a:lnTo>
                  <a:lnTo>
                    <a:pt x="1174" y="324"/>
                  </a:lnTo>
                  <a:lnTo>
                    <a:pt x="1149" y="281"/>
                  </a:lnTo>
                  <a:lnTo>
                    <a:pt x="1122" y="240"/>
                  </a:lnTo>
                  <a:lnTo>
                    <a:pt x="1090" y="201"/>
                  </a:lnTo>
                  <a:lnTo>
                    <a:pt x="1054" y="165"/>
                  </a:lnTo>
                  <a:lnTo>
                    <a:pt x="1015" y="134"/>
                  </a:lnTo>
                  <a:lnTo>
                    <a:pt x="974" y="103"/>
                  </a:lnTo>
                  <a:lnTo>
                    <a:pt x="929" y="78"/>
                  </a:lnTo>
                  <a:lnTo>
                    <a:pt x="881" y="54"/>
                  </a:lnTo>
                  <a:lnTo>
                    <a:pt x="831" y="36"/>
                  </a:lnTo>
                  <a:lnTo>
                    <a:pt x="779" y="20"/>
                  </a:lnTo>
                  <a:lnTo>
                    <a:pt x="724" y="8"/>
                  </a:lnTo>
                  <a:lnTo>
                    <a:pt x="668" y="3"/>
                  </a:lnTo>
                  <a:lnTo>
                    <a:pt x="610" y="0"/>
                  </a:lnTo>
                  <a:lnTo>
                    <a:pt x="551" y="3"/>
                  </a:lnTo>
                  <a:lnTo>
                    <a:pt x="492" y="10"/>
                  </a:lnTo>
                  <a:lnTo>
                    <a:pt x="436" y="21"/>
                  </a:lnTo>
                  <a:lnTo>
                    <a:pt x="383" y="37"/>
                  </a:lnTo>
                  <a:lnTo>
                    <a:pt x="331" y="59"/>
                  </a:lnTo>
                  <a:lnTo>
                    <a:pt x="282" y="83"/>
                  </a:lnTo>
                  <a:lnTo>
                    <a:pt x="236" y="111"/>
                  </a:lnTo>
                  <a:lnTo>
                    <a:pt x="193" y="142"/>
                  </a:lnTo>
                  <a:lnTo>
                    <a:pt x="154" y="177"/>
                  </a:lnTo>
                  <a:lnTo>
                    <a:pt x="119" y="214"/>
                  </a:lnTo>
                  <a:lnTo>
                    <a:pt x="87" y="256"/>
                  </a:lnTo>
                  <a:lnTo>
                    <a:pt x="60" y="299"/>
                  </a:lnTo>
                  <a:lnTo>
                    <a:pt x="37" y="344"/>
                  </a:lnTo>
                  <a:lnTo>
                    <a:pt x="20" y="392"/>
                  </a:lnTo>
                  <a:lnTo>
                    <a:pt x="7" y="442"/>
                  </a:lnTo>
                  <a:lnTo>
                    <a:pt x="0" y="493"/>
                  </a:lnTo>
                  <a:lnTo>
                    <a:pt x="11" y="471"/>
                  </a:lnTo>
                  <a:lnTo>
                    <a:pt x="24" y="451"/>
                  </a:lnTo>
                  <a:lnTo>
                    <a:pt x="40" y="432"/>
                  </a:lnTo>
                  <a:lnTo>
                    <a:pt x="56" y="418"/>
                  </a:lnTo>
                  <a:lnTo>
                    <a:pt x="74" y="405"/>
                  </a:lnTo>
                  <a:lnTo>
                    <a:pt x="93" y="396"/>
                  </a:lnTo>
                  <a:lnTo>
                    <a:pt x="113" y="390"/>
                  </a:lnTo>
                  <a:lnTo>
                    <a:pt x="135" y="389"/>
                  </a:lnTo>
                  <a:close/>
                </a:path>
              </a:pathLst>
            </a:custGeom>
            <a:gradFill rotWithShape="0">
              <a:gsLst>
                <a:gs pos="0">
                  <a:srgbClr val="451700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07120" y="4929120"/>
              <a:ext cx="270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02160" y="4929120"/>
              <a:ext cx="270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00800" y="4929120"/>
              <a:ext cx="252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95840" y="4929120"/>
              <a:ext cx="288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94480" y="4929120"/>
              <a:ext cx="270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92760" y="4929120"/>
              <a:ext cx="2556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88160" y="4929120"/>
              <a:ext cx="2844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85000" y="4929120"/>
              <a:ext cx="270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83280" y="4929120"/>
              <a:ext cx="270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80120" y="4929120"/>
              <a:ext cx="2844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76960" y="4929120"/>
              <a:ext cx="27000" cy="3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11960" y="5413320"/>
              <a:ext cx="598320" cy="411120"/>
            </a:xfrm>
            <a:prstGeom prst="rect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05560" y="5479920"/>
              <a:ext cx="404640" cy="260640"/>
            </a:xfrm>
            <a:custGeom>
              <a:avLst/>
              <a:gdLst/>
              <a:ahLst/>
              <a:rect l="l" t="t" r="r" b="b"/>
              <a:pathLst>
                <a:path w="447" h="308">
                  <a:moveTo>
                    <a:pt x="424" y="308"/>
                  </a:moveTo>
                  <a:lnTo>
                    <a:pt x="433" y="307"/>
                  </a:lnTo>
                  <a:lnTo>
                    <a:pt x="440" y="301"/>
                  </a:lnTo>
                  <a:lnTo>
                    <a:pt x="446" y="294"/>
                  </a:lnTo>
                  <a:lnTo>
                    <a:pt x="447" y="285"/>
                  </a:lnTo>
                  <a:lnTo>
                    <a:pt x="447" y="23"/>
                  </a:lnTo>
                  <a:lnTo>
                    <a:pt x="446" y="14"/>
                  </a:lnTo>
                  <a:lnTo>
                    <a:pt x="440" y="7"/>
                  </a:lnTo>
                  <a:lnTo>
                    <a:pt x="433" y="1"/>
                  </a:lnTo>
                  <a:lnTo>
                    <a:pt x="424" y="0"/>
                  </a:lnTo>
                  <a:lnTo>
                    <a:pt x="25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285"/>
                  </a:lnTo>
                  <a:lnTo>
                    <a:pt x="2" y="294"/>
                  </a:lnTo>
                  <a:lnTo>
                    <a:pt x="8" y="301"/>
                  </a:lnTo>
                  <a:lnTo>
                    <a:pt x="16" y="307"/>
                  </a:lnTo>
                  <a:lnTo>
                    <a:pt x="25" y="308"/>
                  </a:lnTo>
                  <a:lnTo>
                    <a:pt x="424" y="30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05640" y="5803920"/>
              <a:ext cx="220320" cy="95400"/>
            </a:xfrm>
            <a:prstGeom prst="rect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10080" y="5869080"/>
              <a:ext cx="777960" cy="145800"/>
            </a:xfrm>
            <a:custGeom>
              <a:avLst/>
              <a:gdLst/>
              <a:ahLst/>
              <a:rect l="l" t="t" r="r" b="b"/>
              <a:pathLst>
                <a:path w="857" h="173">
                  <a:moveTo>
                    <a:pt x="857" y="170"/>
                  </a:moveTo>
                  <a:lnTo>
                    <a:pt x="831" y="0"/>
                  </a:lnTo>
                  <a:lnTo>
                    <a:pt x="26" y="3"/>
                  </a:lnTo>
                  <a:lnTo>
                    <a:pt x="0" y="173"/>
                  </a:lnTo>
                  <a:lnTo>
                    <a:pt x="857" y="170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00800" y="5907240"/>
              <a:ext cx="34920" cy="316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38"/>
                  </a:moveTo>
                  <a:lnTo>
                    <a:pt x="26" y="36"/>
                  </a:lnTo>
                  <a:lnTo>
                    <a:pt x="33" y="32"/>
                  </a:lnTo>
                  <a:lnTo>
                    <a:pt x="36" y="26"/>
                  </a:lnTo>
                  <a:lnTo>
                    <a:pt x="38" y="19"/>
                  </a:lnTo>
                  <a:lnTo>
                    <a:pt x="36" y="12"/>
                  </a:lnTo>
                  <a:lnTo>
                    <a:pt x="33" y="6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19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3880" y="5907240"/>
              <a:ext cx="331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38"/>
                  </a:moveTo>
                  <a:lnTo>
                    <a:pt x="28" y="36"/>
                  </a:lnTo>
                  <a:lnTo>
                    <a:pt x="33" y="32"/>
                  </a:lnTo>
                  <a:lnTo>
                    <a:pt x="38" y="26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3" y="6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19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43720" y="5907240"/>
              <a:ext cx="3636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8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18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16440" y="5907240"/>
              <a:ext cx="349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89520" y="5907240"/>
              <a:ext cx="3348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8" y="26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0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59360" y="5907240"/>
              <a:ext cx="367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1" y="38"/>
                  </a:moveTo>
                  <a:lnTo>
                    <a:pt x="28" y="36"/>
                  </a:lnTo>
                  <a:lnTo>
                    <a:pt x="34" y="32"/>
                  </a:lnTo>
                  <a:lnTo>
                    <a:pt x="38" y="26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1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32440" y="5907240"/>
              <a:ext cx="349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20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2280" y="5907240"/>
              <a:ext cx="367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20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76800" y="5907240"/>
              <a:ext cx="34920" cy="31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38"/>
                  </a:moveTo>
                  <a:lnTo>
                    <a:pt x="25" y="36"/>
                  </a:lnTo>
                  <a:lnTo>
                    <a:pt x="31" y="32"/>
                  </a:lnTo>
                  <a:lnTo>
                    <a:pt x="36" y="26"/>
                  </a:lnTo>
                  <a:lnTo>
                    <a:pt x="37" y="19"/>
                  </a:lnTo>
                  <a:lnTo>
                    <a:pt x="36" y="12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18" y="38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00800" y="5958000"/>
              <a:ext cx="34920" cy="331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39"/>
                  </a:moveTo>
                  <a:lnTo>
                    <a:pt x="26" y="37"/>
                  </a:lnTo>
                  <a:lnTo>
                    <a:pt x="33" y="33"/>
                  </a:lnTo>
                  <a:lnTo>
                    <a:pt x="36" y="27"/>
                  </a:lnTo>
                  <a:lnTo>
                    <a:pt x="38" y="19"/>
                  </a:lnTo>
                  <a:lnTo>
                    <a:pt x="36" y="11"/>
                  </a:lnTo>
                  <a:lnTo>
                    <a:pt x="33" y="6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19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73880" y="5958000"/>
              <a:ext cx="3312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39"/>
                  </a:moveTo>
                  <a:lnTo>
                    <a:pt x="28" y="37"/>
                  </a:lnTo>
                  <a:lnTo>
                    <a:pt x="33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19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43720" y="5958000"/>
              <a:ext cx="3636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8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1" y="37"/>
                  </a:lnTo>
                  <a:lnTo>
                    <a:pt x="18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16440" y="5958000"/>
              <a:ext cx="3492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1" y="37"/>
                  </a:lnTo>
                  <a:lnTo>
                    <a:pt x="19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89520" y="5958000"/>
              <a:ext cx="3348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20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59360" y="5958000"/>
              <a:ext cx="3672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1" y="39"/>
                  </a:moveTo>
                  <a:lnTo>
                    <a:pt x="28" y="37"/>
                  </a:lnTo>
                  <a:lnTo>
                    <a:pt x="34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1"/>
                  </a:lnTo>
                  <a:lnTo>
                    <a:pt x="34" y="6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21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32440" y="5958000"/>
              <a:ext cx="3492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1" y="37"/>
                  </a:lnTo>
                  <a:lnTo>
                    <a:pt x="20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02280" y="5958000"/>
              <a:ext cx="36720" cy="331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6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1" y="37"/>
                  </a:lnTo>
                  <a:lnTo>
                    <a:pt x="20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76800" y="5958000"/>
              <a:ext cx="34920" cy="331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39"/>
                  </a:moveTo>
                  <a:lnTo>
                    <a:pt x="25" y="37"/>
                  </a:lnTo>
                  <a:lnTo>
                    <a:pt x="31" y="33"/>
                  </a:lnTo>
                  <a:lnTo>
                    <a:pt x="36" y="27"/>
                  </a:lnTo>
                  <a:lnTo>
                    <a:pt x="37" y="19"/>
                  </a:lnTo>
                  <a:lnTo>
                    <a:pt x="36" y="11"/>
                  </a:lnTo>
                  <a:lnTo>
                    <a:pt x="31" y="6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1" y="37"/>
                  </a:lnTo>
                  <a:lnTo>
                    <a:pt x="18" y="39"/>
                  </a:lnTo>
                  <a:close/>
                </a:path>
              </a:pathLst>
            </a:cu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5867280" y="3124080"/>
            <a:ext cx="1738440" cy="128916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1447920" y="3164040"/>
            <a:ext cx="1599840" cy="1103040"/>
            <a:chOff x="1447920" y="3164040"/>
            <a:chExt cx="1599840" cy="1103040"/>
          </a:xfrm>
        </p:grpSpPr>
        <p:sp>
          <p:nvSpPr>
            <p:cNvPr id="545" name=""/>
            <p:cNvSpPr/>
            <p:nvPr/>
          </p:nvSpPr>
          <p:spPr>
            <a:xfrm>
              <a:off x="1447920" y="3164040"/>
              <a:ext cx="703440" cy="1103040"/>
            </a:xfrm>
            <a:custGeom>
              <a:avLst/>
              <a:gdLst/>
              <a:ahLst/>
              <a:rect l="l" t="t" r="r" b="b"/>
              <a:pathLst>
                <a:path w="1035" h="1732">
                  <a:moveTo>
                    <a:pt x="0" y="1732"/>
                  </a:moveTo>
                  <a:lnTo>
                    <a:pt x="0" y="0"/>
                  </a:lnTo>
                  <a:lnTo>
                    <a:pt x="790" y="0"/>
                  </a:lnTo>
                  <a:lnTo>
                    <a:pt x="814" y="8"/>
                  </a:lnTo>
                  <a:lnTo>
                    <a:pt x="959" y="66"/>
                  </a:lnTo>
                  <a:lnTo>
                    <a:pt x="942" y="101"/>
                  </a:lnTo>
                  <a:lnTo>
                    <a:pt x="901" y="141"/>
                  </a:lnTo>
                  <a:lnTo>
                    <a:pt x="874" y="176"/>
                  </a:lnTo>
                  <a:lnTo>
                    <a:pt x="868" y="198"/>
                  </a:lnTo>
                  <a:lnTo>
                    <a:pt x="883" y="252"/>
                  </a:lnTo>
                  <a:lnTo>
                    <a:pt x="891" y="306"/>
                  </a:lnTo>
                  <a:lnTo>
                    <a:pt x="891" y="401"/>
                  </a:lnTo>
                  <a:lnTo>
                    <a:pt x="891" y="467"/>
                  </a:lnTo>
                  <a:lnTo>
                    <a:pt x="847" y="556"/>
                  </a:lnTo>
                  <a:lnTo>
                    <a:pt x="841" y="587"/>
                  </a:lnTo>
                  <a:lnTo>
                    <a:pt x="839" y="624"/>
                  </a:lnTo>
                  <a:lnTo>
                    <a:pt x="1027" y="905"/>
                  </a:lnTo>
                  <a:lnTo>
                    <a:pt x="1035" y="928"/>
                  </a:lnTo>
                  <a:lnTo>
                    <a:pt x="1027" y="947"/>
                  </a:lnTo>
                  <a:lnTo>
                    <a:pt x="1006" y="965"/>
                  </a:lnTo>
                  <a:lnTo>
                    <a:pt x="918" y="990"/>
                  </a:lnTo>
                  <a:lnTo>
                    <a:pt x="918" y="1089"/>
                  </a:lnTo>
                  <a:lnTo>
                    <a:pt x="874" y="1141"/>
                  </a:lnTo>
                  <a:lnTo>
                    <a:pt x="874" y="1155"/>
                  </a:lnTo>
                  <a:lnTo>
                    <a:pt x="891" y="1164"/>
                  </a:lnTo>
                  <a:lnTo>
                    <a:pt x="901" y="1186"/>
                  </a:lnTo>
                  <a:lnTo>
                    <a:pt x="901" y="1207"/>
                  </a:lnTo>
                  <a:lnTo>
                    <a:pt x="878" y="1230"/>
                  </a:lnTo>
                  <a:lnTo>
                    <a:pt x="858" y="1252"/>
                  </a:lnTo>
                  <a:lnTo>
                    <a:pt x="851" y="1261"/>
                  </a:lnTo>
                  <a:lnTo>
                    <a:pt x="851" y="1271"/>
                  </a:lnTo>
                  <a:lnTo>
                    <a:pt x="858" y="1329"/>
                  </a:lnTo>
                  <a:lnTo>
                    <a:pt x="851" y="1360"/>
                  </a:lnTo>
                  <a:lnTo>
                    <a:pt x="841" y="1393"/>
                  </a:lnTo>
                  <a:lnTo>
                    <a:pt x="816" y="1414"/>
                  </a:lnTo>
                  <a:lnTo>
                    <a:pt x="775" y="1428"/>
                  </a:lnTo>
                  <a:lnTo>
                    <a:pt x="688" y="1445"/>
                  </a:lnTo>
                  <a:lnTo>
                    <a:pt x="513" y="1469"/>
                  </a:lnTo>
                  <a:lnTo>
                    <a:pt x="488" y="1544"/>
                  </a:lnTo>
                  <a:lnTo>
                    <a:pt x="471" y="1620"/>
                  </a:lnTo>
                  <a:lnTo>
                    <a:pt x="451" y="1688"/>
                  </a:lnTo>
                  <a:lnTo>
                    <a:pt x="438" y="1732"/>
                  </a:lnTo>
                  <a:lnTo>
                    <a:pt x="15" y="1732"/>
                  </a:lnTo>
                  <a:lnTo>
                    <a:pt x="0" y="1732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47200" y="3164040"/>
              <a:ext cx="700560" cy="1103040"/>
            </a:xfrm>
            <a:custGeom>
              <a:avLst/>
              <a:gdLst/>
              <a:ahLst/>
              <a:rect l="l" t="t" r="r" b="b"/>
              <a:pathLst>
                <a:path w="1031" h="1732">
                  <a:moveTo>
                    <a:pt x="151" y="0"/>
                  </a:moveTo>
                  <a:lnTo>
                    <a:pt x="1031" y="0"/>
                  </a:lnTo>
                  <a:lnTo>
                    <a:pt x="1031" y="1732"/>
                  </a:lnTo>
                  <a:lnTo>
                    <a:pt x="549" y="1732"/>
                  </a:lnTo>
                  <a:lnTo>
                    <a:pt x="525" y="1655"/>
                  </a:lnTo>
                  <a:lnTo>
                    <a:pt x="510" y="1610"/>
                  </a:lnTo>
                  <a:lnTo>
                    <a:pt x="481" y="1521"/>
                  </a:lnTo>
                  <a:lnTo>
                    <a:pt x="475" y="1511"/>
                  </a:lnTo>
                  <a:lnTo>
                    <a:pt x="419" y="1519"/>
                  </a:lnTo>
                  <a:lnTo>
                    <a:pt x="347" y="1515"/>
                  </a:lnTo>
                  <a:lnTo>
                    <a:pt x="287" y="1502"/>
                  </a:lnTo>
                  <a:lnTo>
                    <a:pt x="244" y="1480"/>
                  </a:lnTo>
                  <a:lnTo>
                    <a:pt x="213" y="1445"/>
                  </a:lnTo>
                  <a:lnTo>
                    <a:pt x="194" y="1424"/>
                  </a:lnTo>
                  <a:lnTo>
                    <a:pt x="186" y="1393"/>
                  </a:lnTo>
                  <a:lnTo>
                    <a:pt x="188" y="1370"/>
                  </a:lnTo>
                  <a:lnTo>
                    <a:pt x="190" y="1348"/>
                  </a:lnTo>
                  <a:lnTo>
                    <a:pt x="188" y="1292"/>
                  </a:lnTo>
                  <a:lnTo>
                    <a:pt x="169" y="1242"/>
                  </a:lnTo>
                  <a:lnTo>
                    <a:pt x="146" y="1207"/>
                  </a:lnTo>
                  <a:lnTo>
                    <a:pt x="132" y="1195"/>
                  </a:lnTo>
                  <a:lnTo>
                    <a:pt x="118" y="1176"/>
                  </a:lnTo>
                  <a:lnTo>
                    <a:pt x="126" y="1155"/>
                  </a:lnTo>
                  <a:lnTo>
                    <a:pt x="151" y="1131"/>
                  </a:lnTo>
                  <a:lnTo>
                    <a:pt x="169" y="1118"/>
                  </a:lnTo>
                  <a:lnTo>
                    <a:pt x="151" y="1110"/>
                  </a:lnTo>
                  <a:lnTo>
                    <a:pt x="128" y="1091"/>
                  </a:lnTo>
                  <a:lnTo>
                    <a:pt x="118" y="1066"/>
                  </a:lnTo>
                  <a:lnTo>
                    <a:pt x="132" y="1033"/>
                  </a:lnTo>
                  <a:lnTo>
                    <a:pt x="140" y="1002"/>
                  </a:lnTo>
                  <a:lnTo>
                    <a:pt x="146" y="978"/>
                  </a:lnTo>
                  <a:lnTo>
                    <a:pt x="101" y="967"/>
                  </a:lnTo>
                  <a:lnTo>
                    <a:pt x="68" y="957"/>
                  </a:lnTo>
                  <a:lnTo>
                    <a:pt x="37" y="947"/>
                  </a:lnTo>
                  <a:lnTo>
                    <a:pt x="18" y="938"/>
                  </a:lnTo>
                  <a:lnTo>
                    <a:pt x="6" y="928"/>
                  </a:lnTo>
                  <a:lnTo>
                    <a:pt x="0" y="913"/>
                  </a:lnTo>
                  <a:lnTo>
                    <a:pt x="0" y="903"/>
                  </a:lnTo>
                  <a:lnTo>
                    <a:pt x="101" y="771"/>
                  </a:lnTo>
                  <a:lnTo>
                    <a:pt x="151" y="686"/>
                  </a:lnTo>
                  <a:lnTo>
                    <a:pt x="169" y="639"/>
                  </a:lnTo>
                  <a:lnTo>
                    <a:pt x="169" y="608"/>
                  </a:lnTo>
                  <a:lnTo>
                    <a:pt x="169" y="575"/>
                  </a:lnTo>
                  <a:lnTo>
                    <a:pt x="161" y="544"/>
                  </a:lnTo>
                  <a:lnTo>
                    <a:pt x="136" y="510"/>
                  </a:lnTo>
                  <a:lnTo>
                    <a:pt x="118" y="488"/>
                  </a:lnTo>
                  <a:lnTo>
                    <a:pt x="111" y="467"/>
                  </a:lnTo>
                  <a:lnTo>
                    <a:pt x="118" y="446"/>
                  </a:lnTo>
                  <a:lnTo>
                    <a:pt x="136" y="349"/>
                  </a:lnTo>
                  <a:lnTo>
                    <a:pt x="151" y="295"/>
                  </a:lnTo>
                  <a:lnTo>
                    <a:pt x="161" y="248"/>
                  </a:lnTo>
                  <a:lnTo>
                    <a:pt x="179" y="184"/>
                  </a:lnTo>
                  <a:lnTo>
                    <a:pt x="186" y="161"/>
                  </a:lnTo>
                  <a:lnTo>
                    <a:pt x="186" y="141"/>
                  </a:lnTo>
                  <a:lnTo>
                    <a:pt x="179" y="120"/>
                  </a:lnTo>
                  <a:lnTo>
                    <a:pt x="161" y="83"/>
                  </a:lnTo>
                  <a:lnTo>
                    <a:pt x="161" y="54"/>
                  </a:lnTo>
                  <a:lnTo>
                    <a:pt x="151" y="21"/>
                  </a:lnTo>
                  <a:lnTo>
                    <a:pt x="1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path path="rect">
                <a:fillToRect l="50000" t="50000" r="50000" b="50000"/>
              </a:path>
            </a:gra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2057400" y="4724280"/>
            <a:ext cx="1625760" cy="12891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3099600" y="3394080"/>
            <a:ext cx="5656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r Merch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eserve the merchant public reputation and cred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guarantee the pay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reduce the merchants’ economical losses due to fraudulent ord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47600" y="2119320"/>
            <a:ext cx="152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11200" y="112392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50040" y="527832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57040" y="4721400"/>
            <a:ext cx="14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008840" y="257976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yment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24FB-13FB-4953-82EA-661D52D5F3C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375C19D-8F44-402C-9D11-B541E62781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RUST SOLU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2090880" y="3711600"/>
            <a:ext cx="4384440" cy="2400120"/>
          </a:xfrm>
          <a:custGeom>
            <a:avLst/>
            <a:gdLst/>
            <a:ahLst/>
            <a:rect l="l" t="t" r="r" b="b"/>
            <a:pathLst>
              <a:path w="2762" h="1512">
                <a:moveTo>
                  <a:pt x="75" y="0"/>
                </a:moveTo>
                <a:lnTo>
                  <a:pt x="102" y="27"/>
                </a:lnTo>
                <a:lnTo>
                  <a:pt x="134" y="70"/>
                </a:lnTo>
                <a:lnTo>
                  <a:pt x="171" y="113"/>
                </a:lnTo>
                <a:lnTo>
                  <a:pt x="209" y="161"/>
                </a:lnTo>
                <a:lnTo>
                  <a:pt x="241" y="209"/>
                </a:lnTo>
                <a:lnTo>
                  <a:pt x="278" y="258"/>
                </a:lnTo>
                <a:lnTo>
                  <a:pt x="310" y="300"/>
                </a:lnTo>
                <a:lnTo>
                  <a:pt x="337" y="338"/>
                </a:lnTo>
                <a:lnTo>
                  <a:pt x="358" y="370"/>
                </a:lnTo>
                <a:lnTo>
                  <a:pt x="385" y="392"/>
                </a:lnTo>
                <a:lnTo>
                  <a:pt x="406" y="413"/>
                </a:lnTo>
                <a:lnTo>
                  <a:pt x="433" y="429"/>
                </a:lnTo>
                <a:lnTo>
                  <a:pt x="454" y="445"/>
                </a:lnTo>
                <a:lnTo>
                  <a:pt x="476" y="456"/>
                </a:lnTo>
                <a:lnTo>
                  <a:pt x="492" y="467"/>
                </a:lnTo>
                <a:lnTo>
                  <a:pt x="513" y="477"/>
                </a:lnTo>
                <a:lnTo>
                  <a:pt x="545" y="494"/>
                </a:lnTo>
                <a:lnTo>
                  <a:pt x="577" y="499"/>
                </a:lnTo>
                <a:lnTo>
                  <a:pt x="609" y="515"/>
                </a:lnTo>
                <a:lnTo>
                  <a:pt x="641" y="547"/>
                </a:lnTo>
                <a:lnTo>
                  <a:pt x="663" y="585"/>
                </a:lnTo>
                <a:lnTo>
                  <a:pt x="668" y="595"/>
                </a:lnTo>
                <a:lnTo>
                  <a:pt x="684" y="606"/>
                </a:lnTo>
                <a:lnTo>
                  <a:pt x="722" y="617"/>
                </a:lnTo>
                <a:lnTo>
                  <a:pt x="754" y="628"/>
                </a:lnTo>
                <a:lnTo>
                  <a:pt x="786" y="638"/>
                </a:lnTo>
                <a:lnTo>
                  <a:pt x="823" y="654"/>
                </a:lnTo>
                <a:lnTo>
                  <a:pt x="855" y="676"/>
                </a:lnTo>
                <a:lnTo>
                  <a:pt x="887" y="697"/>
                </a:lnTo>
                <a:lnTo>
                  <a:pt x="909" y="719"/>
                </a:lnTo>
                <a:lnTo>
                  <a:pt x="925" y="740"/>
                </a:lnTo>
                <a:lnTo>
                  <a:pt x="930" y="762"/>
                </a:lnTo>
                <a:lnTo>
                  <a:pt x="914" y="788"/>
                </a:lnTo>
                <a:lnTo>
                  <a:pt x="882" y="794"/>
                </a:lnTo>
                <a:lnTo>
                  <a:pt x="845" y="794"/>
                </a:lnTo>
                <a:lnTo>
                  <a:pt x="802" y="794"/>
                </a:lnTo>
                <a:lnTo>
                  <a:pt x="775" y="799"/>
                </a:lnTo>
                <a:lnTo>
                  <a:pt x="743" y="810"/>
                </a:lnTo>
                <a:lnTo>
                  <a:pt x="706" y="815"/>
                </a:lnTo>
                <a:lnTo>
                  <a:pt x="663" y="821"/>
                </a:lnTo>
                <a:lnTo>
                  <a:pt x="615" y="826"/>
                </a:lnTo>
                <a:lnTo>
                  <a:pt x="567" y="826"/>
                </a:lnTo>
                <a:lnTo>
                  <a:pt x="519" y="826"/>
                </a:lnTo>
                <a:lnTo>
                  <a:pt x="476" y="815"/>
                </a:lnTo>
                <a:lnTo>
                  <a:pt x="513" y="853"/>
                </a:lnTo>
                <a:lnTo>
                  <a:pt x="572" y="896"/>
                </a:lnTo>
                <a:lnTo>
                  <a:pt x="647" y="939"/>
                </a:lnTo>
                <a:lnTo>
                  <a:pt x="732" y="981"/>
                </a:lnTo>
                <a:lnTo>
                  <a:pt x="818" y="1024"/>
                </a:lnTo>
                <a:lnTo>
                  <a:pt x="914" y="1062"/>
                </a:lnTo>
                <a:lnTo>
                  <a:pt x="999" y="1089"/>
                </a:lnTo>
                <a:lnTo>
                  <a:pt x="1080" y="1105"/>
                </a:lnTo>
                <a:lnTo>
                  <a:pt x="1117" y="1099"/>
                </a:lnTo>
                <a:lnTo>
                  <a:pt x="1170" y="1099"/>
                </a:lnTo>
                <a:lnTo>
                  <a:pt x="1224" y="1110"/>
                </a:lnTo>
                <a:lnTo>
                  <a:pt x="1288" y="1126"/>
                </a:lnTo>
                <a:lnTo>
                  <a:pt x="1352" y="1142"/>
                </a:lnTo>
                <a:lnTo>
                  <a:pt x="1405" y="1158"/>
                </a:lnTo>
                <a:lnTo>
                  <a:pt x="1454" y="1174"/>
                </a:lnTo>
                <a:lnTo>
                  <a:pt x="1486" y="1185"/>
                </a:lnTo>
                <a:lnTo>
                  <a:pt x="1512" y="1185"/>
                </a:lnTo>
                <a:lnTo>
                  <a:pt x="1539" y="1191"/>
                </a:lnTo>
                <a:lnTo>
                  <a:pt x="1571" y="1185"/>
                </a:lnTo>
                <a:lnTo>
                  <a:pt x="1603" y="1185"/>
                </a:lnTo>
                <a:lnTo>
                  <a:pt x="1635" y="1180"/>
                </a:lnTo>
                <a:lnTo>
                  <a:pt x="1662" y="1180"/>
                </a:lnTo>
                <a:lnTo>
                  <a:pt x="1689" y="1180"/>
                </a:lnTo>
                <a:lnTo>
                  <a:pt x="1715" y="1180"/>
                </a:lnTo>
                <a:lnTo>
                  <a:pt x="1737" y="1180"/>
                </a:lnTo>
                <a:lnTo>
                  <a:pt x="1763" y="1174"/>
                </a:lnTo>
                <a:lnTo>
                  <a:pt x="1785" y="1174"/>
                </a:lnTo>
                <a:lnTo>
                  <a:pt x="1817" y="1169"/>
                </a:lnTo>
                <a:lnTo>
                  <a:pt x="1844" y="1164"/>
                </a:lnTo>
                <a:lnTo>
                  <a:pt x="1870" y="1158"/>
                </a:lnTo>
                <a:lnTo>
                  <a:pt x="1902" y="1158"/>
                </a:lnTo>
                <a:lnTo>
                  <a:pt x="1929" y="1153"/>
                </a:lnTo>
                <a:lnTo>
                  <a:pt x="1950" y="1153"/>
                </a:lnTo>
                <a:lnTo>
                  <a:pt x="1972" y="1153"/>
                </a:lnTo>
                <a:lnTo>
                  <a:pt x="1993" y="1153"/>
                </a:lnTo>
                <a:lnTo>
                  <a:pt x="2009" y="1153"/>
                </a:lnTo>
                <a:lnTo>
                  <a:pt x="2031" y="1148"/>
                </a:lnTo>
                <a:lnTo>
                  <a:pt x="2057" y="1142"/>
                </a:lnTo>
                <a:lnTo>
                  <a:pt x="2089" y="1126"/>
                </a:lnTo>
                <a:lnTo>
                  <a:pt x="2127" y="1105"/>
                </a:lnTo>
                <a:lnTo>
                  <a:pt x="2175" y="1078"/>
                </a:lnTo>
                <a:lnTo>
                  <a:pt x="2218" y="1057"/>
                </a:lnTo>
                <a:lnTo>
                  <a:pt x="2266" y="1040"/>
                </a:lnTo>
                <a:lnTo>
                  <a:pt x="2314" y="1030"/>
                </a:lnTo>
                <a:lnTo>
                  <a:pt x="2351" y="1014"/>
                </a:lnTo>
                <a:lnTo>
                  <a:pt x="2389" y="992"/>
                </a:lnTo>
                <a:lnTo>
                  <a:pt x="2415" y="971"/>
                </a:lnTo>
                <a:lnTo>
                  <a:pt x="2437" y="939"/>
                </a:lnTo>
                <a:lnTo>
                  <a:pt x="2453" y="906"/>
                </a:lnTo>
                <a:lnTo>
                  <a:pt x="2474" y="869"/>
                </a:lnTo>
                <a:lnTo>
                  <a:pt x="2501" y="837"/>
                </a:lnTo>
                <a:lnTo>
                  <a:pt x="2527" y="804"/>
                </a:lnTo>
                <a:lnTo>
                  <a:pt x="2554" y="778"/>
                </a:lnTo>
                <a:lnTo>
                  <a:pt x="2581" y="756"/>
                </a:lnTo>
                <a:lnTo>
                  <a:pt x="2608" y="735"/>
                </a:lnTo>
                <a:lnTo>
                  <a:pt x="2634" y="724"/>
                </a:lnTo>
                <a:lnTo>
                  <a:pt x="2666" y="670"/>
                </a:lnTo>
                <a:lnTo>
                  <a:pt x="2704" y="606"/>
                </a:lnTo>
                <a:lnTo>
                  <a:pt x="2730" y="542"/>
                </a:lnTo>
                <a:lnTo>
                  <a:pt x="2752" y="494"/>
                </a:lnTo>
                <a:lnTo>
                  <a:pt x="2762" y="520"/>
                </a:lnTo>
                <a:lnTo>
                  <a:pt x="2762" y="579"/>
                </a:lnTo>
                <a:lnTo>
                  <a:pt x="2736" y="660"/>
                </a:lnTo>
                <a:lnTo>
                  <a:pt x="2677" y="735"/>
                </a:lnTo>
                <a:lnTo>
                  <a:pt x="2666" y="756"/>
                </a:lnTo>
                <a:lnTo>
                  <a:pt x="2656" y="788"/>
                </a:lnTo>
                <a:lnTo>
                  <a:pt x="2640" y="826"/>
                </a:lnTo>
                <a:lnTo>
                  <a:pt x="2624" y="863"/>
                </a:lnTo>
                <a:lnTo>
                  <a:pt x="2597" y="901"/>
                </a:lnTo>
                <a:lnTo>
                  <a:pt x="2570" y="939"/>
                </a:lnTo>
                <a:lnTo>
                  <a:pt x="2538" y="965"/>
                </a:lnTo>
                <a:lnTo>
                  <a:pt x="2501" y="987"/>
                </a:lnTo>
                <a:lnTo>
                  <a:pt x="2479" y="1014"/>
                </a:lnTo>
                <a:lnTo>
                  <a:pt x="2458" y="1040"/>
                </a:lnTo>
                <a:lnTo>
                  <a:pt x="2431" y="1067"/>
                </a:lnTo>
                <a:lnTo>
                  <a:pt x="2405" y="1094"/>
                </a:lnTo>
                <a:lnTo>
                  <a:pt x="2378" y="1121"/>
                </a:lnTo>
                <a:lnTo>
                  <a:pt x="2356" y="1148"/>
                </a:lnTo>
                <a:lnTo>
                  <a:pt x="2330" y="1169"/>
                </a:lnTo>
                <a:lnTo>
                  <a:pt x="2308" y="1185"/>
                </a:lnTo>
                <a:lnTo>
                  <a:pt x="2287" y="1201"/>
                </a:lnTo>
                <a:lnTo>
                  <a:pt x="2266" y="1228"/>
                </a:lnTo>
                <a:lnTo>
                  <a:pt x="2239" y="1255"/>
                </a:lnTo>
                <a:lnTo>
                  <a:pt x="2212" y="1282"/>
                </a:lnTo>
                <a:lnTo>
                  <a:pt x="2175" y="1314"/>
                </a:lnTo>
                <a:lnTo>
                  <a:pt x="2127" y="1346"/>
                </a:lnTo>
                <a:lnTo>
                  <a:pt x="2068" y="1373"/>
                </a:lnTo>
                <a:lnTo>
                  <a:pt x="1993" y="1400"/>
                </a:lnTo>
                <a:lnTo>
                  <a:pt x="2036" y="1410"/>
                </a:lnTo>
                <a:lnTo>
                  <a:pt x="2004" y="1421"/>
                </a:lnTo>
                <a:lnTo>
                  <a:pt x="1972" y="1432"/>
                </a:lnTo>
                <a:lnTo>
                  <a:pt x="1940" y="1443"/>
                </a:lnTo>
                <a:lnTo>
                  <a:pt x="1908" y="1448"/>
                </a:lnTo>
                <a:lnTo>
                  <a:pt x="1870" y="1459"/>
                </a:lnTo>
                <a:lnTo>
                  <a:pt x="1828" y="1464"/>
                </a:lnTo>
                <a:lnTo>
                  <a:pt x="1785" y="1469"/>
                </a:lnTo>
                <a:lnTo>
                  <a:pt x="1737" y="1480"/>
                </a:lnTo>
                <a:lnTo>
                  <a:pt x="1683" y="1485"/>
                </a:lnTo>
                <a:lnTo>
                  <a:pt x="1641" y="1491"/>
                </a:lnTo>
                <a:lnTo>
                  <a:pt x="1598" y="1491"/>
                </a:lnTo>
                <a:lnTo>
                  <a:pt x="1566" y="1491"/>
                </a:lnTo>
                <a:lnTo>
                  <a:pt x="1528" y="1491"/>
                </a:lnTo>
                <a:lnTo>
                  <a:pt x="1496" y="1491"/>
                </a:lnTo>
                <a:lnTo>
                  <a:pt x="1470" y="1496"/>
                </a:lnTo>
                <a:lnTo>
                  <a:pt x="1438" y="1502"/>
                </a:lnTo>
                <a:lnTo>
                  <a:pt x="1405" y="1507"/>
                </a:lnTo>
                <a:lnTo>
                  <a:pt x="1368" y="1512"/>
                </a:lnTo>
                <a:lnTo>
                  <a:pt x="1331" y="1512"/>
                </a:lnTo>
                <a:lnTo>
                  <a:pt x="1293" y="1512"/>
                </a:lnTo>
                <a:lnTo>
                  <a:pt x="1256" y="1507"/>
                </a:lnTo>
                <a:lnTo>
                  <a:pt x="1218" y="1502"/>
                </a:lnTo>
                <a:lnTo>
                  <a:pt x="1176" y="1496"/>
                </a:lnTo>
                <a:lnTo>
                  <a:pt x="1133" y="1485"/>
                </a:lnTo>
                <a:lnTo>
                  <a:pt x="1085" y="1475"/>
                </a:lnTo>
                <a:lnTo>
                  <a:pt x="1031" y="1464"/>
                </a:lnTo>
                <a:lnTo>
                  <a:pt x="973" y="1448"/>
                </a:lnTo>
                <a:lnTo>
                  <a:pt x="914" y="1426"/>
                </a:lnTo>
                <a:lnTo>
                  <a:pt x="850" y="1400"/>
                </a:lnTo>
                <a:lnTo>
                  <a:pt x="786" y="1362"/>
                </a:lnTo>
                <a:lnTo>
                  <a:pt x="727" y="1325"/>
                </a:lnTo>
                <a:lnTo>
                  <a:pt x="674" y="1271"/>
                </a:lnTo>
                <a:lnTo>
                  <a:pt x="620" y="1271"/>
                </a:lnTo>
                <a:lnTo>
                  <a:pt x="577" y="1233"/>
                </a:lnTo>
                <a:lnTo>
                  <a:pt x="529" y="1185"/>
                </a:lnTo>
                <a:lnTo>
                  <a:pt x="481" y="1132"/>
                </a:lnTo>
                <a:lnTo>
                  <a:pt x="428" y="1067"/>
                </a:lnTo>
                <a:lnTo>
                  <a:pt x="380" y="1003"/>
                </a:lnTo>
                <a:lnTo>
                  <a:pt x="337" y="933"/>
                </a:lnTo>
                <a:lnTo>
                  <a:pt x="300" y="869"/>
                </a:lnTo>
                <a:lnTo>
                  <a:pt x="273" y="804"/>
                </a:lnTo>
                <a:lnTo>
                  <a:pt x="246" y="772"/>
                </a:lnTo>
                <a:lnTo>
                  <a:pt x="209" y="767"/>
                </a:lnTo>
                <a:lnTo>
                  <a:pt x="171" y="788"/>
                </a:lnTo>
                <a:lnTo>
                  <a:pt x="155" y="847"/>
                </a:lnTo>
                <a:lnTo>
                  <a:pt x="150" y="917"/>
                </a:lnTo>
                <a:lnTo>
                  <a:pt x="134" y="992"/>
                </a:lnTo>
                <a:lnTo>
                  <a:pt x="107" y="1062"/>
                </a:lnTo>
                <a:lnTo>
                  <a:pt x="64" y="1110"/>
                </a:lnTo>
                <a:lnTo>
                  <a:pt x="38" y="1121"/>
                </a:lnTo>
                <a:lnTo>
                  <a:pt x="43" y="1094"/>
                </a:lnTo>
                <a:lnTo>
                  <a:pt x="59" y="1051"/>
                </a:lnTo>
                <a:lnTo>
                  <a:pt x="81" y="1003"/>
                </a:lnTo>
                <a:lnTo>
                  <a:pt x="81" y="965"/>
                </a:lnTo>
                <a:lnTo>
                  <a:pt x="70" y="933"/>
                </a:lnTo>
                <a:lnTo>
                  <a:pt x="59" y="901"/>
                </a:lnTo>
                <a:lnTo>
                  <a:pt x="64" y="863"/>
                </a:lnTo>
                <a:lnTo>
                  <a:pt x="75" y="815"/>
                </a:lnTo>
                <a:lnTo>
                  <a:pt x="70" y="762"/>
                </a:lnTo>
                <a:lnTo>
                  <a:pt x="59" y="708"/>
                </a:lnTo>
                <a:lnTo>
                  <a:pt x="48" y="665"/>
                </a:lnTo>
                <a:lnTo>
                  <a:pt x="32" y="628"/>
                </a:lnTo>
                <a:lnTo>
                  <a:pt x="11" y="585"/>
                </a:lnTo>
                <a:lnTo>
                  <a:pt x="0" y="536"/>
                </a:lnTo>
                <a:lnTo>
                  <a:pt x="6" y="488"/>
                </a:lnTo>
                <a:lnTo>
                  <a:pt x="22" y="413"/>
                </a:lnTo>
                <a:lnTo>
                  <a:pt x="27" y="290"/>
                </a:lnTo>
                <a:lnTo>
                  <a:pt x="43" y="145"/>
                </a:lnTo>
                <a:lnTo>
                  <a:pt x="75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19400" y="1523880"/>
            <a:ext cx="4681440" cy="2570400"/>
          </a:xfrm>
          <a:custGeom>
            <a:avLst/>
            <a:gdLst/>
            <a:ahLst/>
            <a:rect l="l" t="t" r="r" b="b"/>
            <a:pathLst>
              <a:path w="2949" h="1619">
                <a:moveTo>
                  <a:pt x="0" y="1276"/>
                </a:moveTo>
                <a:lnTo>
                  <a:pt x="32" y="1228"/>
                </a:lnTo>
                <a:lnTo>
                  <a:pt x="64" y="1180"/>
                </a:lnTo>
                <a:lnTo>
                  <a:pt x="85" y="1115"/>
                </a:lnTo>
                <a:lnTo>
                  <a:pt x="96" y="1035"/>
                </a:lnTo>
                <a:lnTo>
                  <a:pt x="122" y="997"/>
                </a:lnTo>
                <a:lnTo>
                  <a:pt x="154" y="955"/>
                </a:lnTo>
                <a:lnTo>
                  <a:pt x="181" y="912"/>
                </a:lnTo>
                <a:lnTo>
                  <a:pt x="208" y="863"/>
                </a:lnTo>
                <a:lnTo>
                  <a:pt x="235" y="815"/>
                </a:lnTo>
                <a:lnTo>
                  <a:pt x="261" y="767"/>
                </a:lnTo>
                <a:lnTo>
                  <a:pt x="288" y="729"/>
                </a:lnTo>
                <a:lnTo>
                  <a:pt x="309" y="692"/>
                </a:lnTo>
                <a:lnTo>
                  <a:pt x="336" y="660"/>
                </a:lnTo>
                <a:lnTo>
                  <a:pt x="363" y="633"/>
                </a:lnTo>
                <a:lnTo>
                  <a:pt x="395" y="611"/>
                </a:lnTo>
                <a:lnTo>
                  <a:pt x="432" y="585"/>
                </a:lnTo>
                <a:lnTo>
                  <a:pt x="464" y="569"/>
                </a:lnTo>
                <a:lnTo>
                  <a:pt x="496" y="552"/>
                </a:lnTo>
                <a:lnTo>
                  <a:pt x="528" y="542"/>
                </a:lnTo>
                <a:lnTo>
                  <a:pt x="555" y="531"/>
                </a:lnTo>
                <a:lnTo>
                  <a:pt x="603" y="504"/>
                </a:lnTo>
                <a:lnTo>
                  <a:pt x="651" y="467"/>
                </a:lnTo>
                <a:lnTo>
                  <a:pt x="683" y="440"/>
                </a:lnTo>
                <a:lnTo>
                  <a:pt x="699" y="424"/>
                </a:lnTo>
                <a:lnTo>
                  <a:pt x="769" y="402"/>
                </a:lnTo>
                <a:lnTo>
                  <a:pt x="854" y="386"/>
                </a:lnTo>
                <a:lnTo>
                  <a:pt x="950" y="365"/>
                </a:lnTo>
                <a:lnTo>
                  <a:pt x="1052" y="349"/>
                </a:lnTo>
                <a:lnTo>
                  <a:pt x="1159" y="338"/>
                </a:lnTo>
                <a:lnTo>
                  <a:pt x="1260" y="327"/>
                </a:lnTo>
                <a:lnTo>
                  <a:pt x="1351" y="327"/>
                </a:lnTo>
                <a:lnTo>
                  <a:pt x="1431" y="327"/>
                </a:lnTo>
                <a:lnTo>
                  <a:pt x="1469" y="349"/>
                </a:lnTo>
                <a:lnTo>
                  <a:pt x="1506" y="365"/>
                </a:lnTo>
                <a:lnTo>
                  <a:pt x="1554" y="386"/>
                </a:lnTo>
                <a:lnTo>
                  <a:pt x="1608" y="408"/>
                </a:lnTo>
                <a:lnTo>
                  <a:pt x="1672" y="424"/>
                </a:lnTo>
                <a:lnTo>
                  <a:pt x="1736" y="440"/>
                </a:lnTo>
                <a:lnTo>
                  <a:pt x="1811" y="445"/>
                </a:lnTo>
                <a:lnTo>
                  <a:pt x="1891" y="451"/>
                </a:lnTo>
                <a:lnTo>
                  <a:pt x="1950" y="477"/>
                </a:lnTo>
                <a:lnTo>
                  <a:pt x="2035" y="526"/>
                </a:lnTo>
                <a:lnTo>
                  <a:pt x="2142" y="590"/>
                </a:lnTo>
                <a:lnTo>
                  <a:pt x="2254" y="670"/>
                </a:lnTo>
                <a:lnTo>
                  <a:pt x="2366" y="767"/>
                </a:lnTo>
                <a:lnTo>
                  <a:pt x="2473" y="874"/>
                </a:lnTo>
                <a:lnTo>
                  <a:pt x="2569" y="992"/>
                </a:lnTo>
                <a:lnTo>
                  <a:pt x="2644" y="1115"/>
                </a:lnTo>
                <a:lnTo>
                  <a:pt x="2623" y="1110"/>
                </a:lnTo>
                <a:lnTo>
                  <a:pt x="2601" y="1105"/>
                </a:lnTo>
                <a:lnTo>
                  <a:pt x="2585" y="1099"/>
                </a:lnTo>
                <a:lnTo>
                  <a:pt x="2564" y="1094"/>
                </a:lnTo>
                <a:lnTo>
                  <a:pt x="2543" y="1094"/>
                </a:lnTo>
                <a:lnTo>
                  <a:pt x="2521" y="1094"/>
                </a:lnTo>
                <a:lnTo>
                  <a:pt x="2495" y="1094"/>
                </a:lnTo>
                <a:lnTo>
                  <a:pt x="2462" y="1094"/>
                </a:lnTo>
                <a:lnTo>
                  <a:pt x="2430" y="1089"/>
                </a:lnTo>
                <a:lnTo>
                  <a:pt x="2393" y="1083"/>
                </a:lnTo>
                <a:lnTo>
                  <a:pt x="2356" y="1078"/>
                </a:lnTo>
                <a:lnTo>
                  <a:pt x="2318" y="1073"/>
                </a:lnTo>
                <a:lnTo>
                  <a:pt x="2281" y="1067"/>
                </a:lnTo>
                <a:lnTo>
                  <a:pt x="2243" y="1062"/>
                </a:lnTo>
                <a:lnTo>
                  <a:pt x="2211" y="1062"/>
                </a:lnTo>
                <a:lnTo>
                  <a:pt x="2179" y="1062"/>
                </a:lnTo>
                <a:lnTo>
                  <a:pt x="2147" y="1062"/>
                </a:lnTo>
                <a:lnTo>
                  <a:pt x="2115" y="1062"/>
                </a:lnTo>
                <a:lnTo>
                  <a:pt x="2083" y="1056"/>
                </a:lnTo>
                <a:lnTo>
                  <a:pt x="2051" y="1051"/>
                </a:lnTo>
                <a:lnTo>
                  <a:pt x="2019" y="1051"/>
                </a:lnTo>
                <a:lnTo>
                  <a:pt x="1998" y="1046"/>
                </a:lnTo>
                <a:lnTo>
                  <a:pt x="1982" y="1046"/>
                </a:lnTo>
                <a:lnTo>
                  <a:pt x="1976" y="1046"/>
                </a:lnTo>
                <a:lnTo>
                  <a:pt x="2003" y="1078"/>
                </a:lnTo>
                <a:lnTo>
                  <a:pt x="2040" y="1115"/>
                </a:lnTo>
                <a:lnTo>
                  <a:pt x="2078" y="1153"/>
                </a:lnTo>
                <a:lnTo>
                  <a:pt x="2110" y="1201"/>
                </a:lnTo>
                <a:lnTo>
                  <a:pt x="2131" y="1228"/>
                </a:lnTo>
                <a:lnTo>
                  <a:pt x="2158" y="1250"/>
                </a:lnTo>
                <a:lnTo>
                  <a:pt x="2190" y="1271"/>
                </a:lnTo>
                <a:lnTo>
                  <a:pt x="2227" y="1292"/>
                </a:lnTo>
                <a:lnTo>
                  <a:pt x="2265" y="1314"/>
                </a:lnTo>
                <a:lnTo>
                  <a:pt x="2302" y="1330"/>
                </a:lnTo>
                <a:lnTo>
                  <a:pt x="2334" y="1341"/>
                </a:lnTo>
                <a:lnTo>
                  <a:pt x="2361" y="1346"/>
                </a:lnTo>
                <a:lnTo>
                  <a:pt x="2404" y="1357"/>
                </a:lnTo>
                <a:lnTo>
                  <a:pt x="2446" y="1373"/>
                </a:lnTo>
                <a:lnTo>
                  <a:pt x="2484" y="1394"/>
                </a:lnTo>
                <a:lnTo>
                  <a:pt x="2516" y="1426"/>
                </a:lnTo>
                <a:lnTo>
                  <a:pt x="2537" y="1448"/>
                </a:lnTo>
                <a:lnTo>
                  <a:pt x="2559" y="1464"/>
                </a:lnTo>
                <a:lnTo>
                  <a:pt x="2591" y="1480"/>
                </a:lnTo>
                <a:lnTo>
                  <a:pt x="2617" y="1496"/>
                </a:lnTo>
                <a:lnTo>
                  <a:pt x="2649" y="1512"/>
                </a:lnTo>
                <a:lnTo>
                  <a:pt x="2681" y="1528"/>
                </a:lnTo>
                <a:lnTo>
                  <a:pt x="2708" y="1544"/>
                </a:lnTo>
                <a:lnTo>
                  <a:pt x="2730" y="1555"/>
                </a:lnTo>
                <a:lnTo>
                  <a:pt x="2751" y="1566"/>
                </a:lnTo>
                <a:lnTo>
                  <a:pt x="2772" y="1577"/>
                </a:lnTo>
                <a:lnTo>
                  <a:pt x="2799" y="1587"/>
                </a:lnTo>
                <a:lnTo>
                  <a:pt x="2826" y="1598"/>
                </a:lnTo>
                <a:lnTo>
                  <a:pt x="2852" y="1609"/>
                </a:lnTo>
                <a:lnTo>
                  <a:pt x="2874" y="1614"/>
                </a:lnTo>
                <a:lnTo>
                  <a:pt x="2885" y="1619"/>
                </a:lnTo>
                <a:lnTo>
                  <a:pt x="2890" y="1619"/>
                </a:lnTo>
                <a:lnTo>
                  <a:pt x="2922" y="1534"/>
                </a:lnTo>
                <a:lnTo>
                  <a:pt x="2943" y="1432"/>
                </a:lnTo>
                <a:lnTo>
                  <a:pt x="2949" y="1341"/>
                </a:lnTo>
                <a:lnTo>
                  <a:pt x="2938" y="1287"/>
                </a:lnTo>
                <a:lnTo>
                  <a:pt x="2933" y="1233"/>
                </a:lnTo>
                <a:lnTo>
                  <a:pt x="2933" y="1185"/>
                </a:lnTo>
                <a:lnTo>
                  <a:pt x="2927" y="1142"/>
                </a:lnTo>
                <a:lnTo>
                  <a:pt x="2922" y="1099"/>
                </a:lnTo>
                <a:lnTo>
                  <a:pt x="2911" y="1062"/>
                </a:lnTo>
                <a:lnTo>
                  <a:pt x="2911" y="1040"/>
                </a:lnTo>
                <a:lnTo>
                  <a:pt x="2922" y="1019"/>
                </a:lnTo>
                <a:lnTo>
                  <a:pt x="2933" y="997"/>
                </a:lnTo>
                <a:lnTo>
                  <a:pt x="2938" y="971"/>
                </a:lnTo>
                <a:lnTo>
                  <a:pt x="2938" y="933"/>
                </a:lnTo>
                <a:lnTo>
                  <a:pt x="2927" y="890"/>
                </a:lnTo>
                <a:lnTo>
                  <a:pt x="2927" y="831"/>
                </a:lnTo>
                <a:lnTo>
                  <a:pt x="2927" y="788"/>
                </a:lnTo>
                <a:lnTo>
                  <a:pt x="2922" y="778"/>
                </a:lnTo>
                <a:lnTo>
                  <a:pt x="2911" y="794"/>
                </a:lnTo>
                <a:lnTo>
                  <a:pt x="2901" y="831"/>
                </a:lnTo>
                <a:lnTo>
                  <a:pt x="2885" y="874"/>
                </a:lnTo>
                <a:lnTo>
                  <a:pt x="2868" y="917"/>
                </a:lnTo>
                <a:lnTo>
                  <a:pt x="2852" y="960"/>
                </a:lnTo>
                <a:lnTo>
                  <a:pt x="2842" y="1003"/>
                </a:lnTo>
                <a:lnTo>
                  <a:pt x="2826" y="1035"/>
                </a:lnTo>
                <a:lnTo>
                  <a:pt x="2799" y="1056"/>
                </a:lnTo>
                <a:lnTo>
                  <a:pt x="2772" y="1105"/>
                </a:lnTo>
                <a:lnTo>
                  <a:pt x="2746" y="1196"/>
                </a:lnTo>
                <a:lnTo>
                  <a:pt x="2730" y="1078"/>
                </a:lnTo>
                <a:lnTo>
                  <a:pt x="2703" y="981"/>
                </a:lnTo>
                <a:lnTo>
                  <a:pt x="2671" y="896"/>
                </a:lnTo>
                <a:lnTo>
                  <a:pt x="2644" y="815"/>
                </a:lnTo>
                <a:lnTo>
                  <a:pt x="2628" y="772"/>
                </a:lnTo>
                <a:lnTo>
                  <a:pt x="2612" y="719"/>
                </a:lnTo>
                <a:lnTo>
                  <a:pt x="2591" y="665"/>
                </a:lnTo>
                <a:lnTo>
                  <a:pt x="2564" y="606"/>
                </a:lnTo>
                <a:lnTo>
                  <a:pt x="2537" y="552"/>
                </a:lnTo>
                <a:lnTo>
                  <a:pt x="2500" y="493"/>
                </a:lnTo>
                <a:lnTo>
                  <a:pt x="2457" y="445"/>
                </a:lnTo>
                <a:lnTo>
                  <a:pt x="2414" y="397"/>
                </a:lnTo>
                <a:lnTo>
                  <a:pt x="2372" y="359"/>
                </a:lnTo>
                <a:lnTo>
                  <a:pt x="2334" y="333"/>
                </a:lnTo>
                <a:lnTo>
                  <a:pt x="2297" y="306"/>
                </a:lnTo>
                <a:lnTo>
                  <a:pt x="2265" y="290"/>
                </a:lnTo>
                <a:lnTo>
                  <a:pt x="2233" y="268"/>
                </a:lnTo>
                <a:lnTo>
                  <a:pt x="2201" y="252"/>
                </a:lnTo>
                <a:lnTo>
                  <a:pt x="2163" y="225"/>
                </a:lnTo>
                <a:lnTo>
                  <a:pt x="2126" y="199"/>
                </a:lnTo>
                <a:lnTo>
                  <a:pt x="2083" y="166"/>
                </a:lnTo>
                <a:lnTo>
                  <a:pt x="2030" y="140"/>
                </a:lnTo>
                <a:lnTo>
                  <a:pt x="1982" y="118"/>
                </a:lnTo>
                <a:lnTo>
                  <a:pt x="1928" y="97"/>
                </a:lnTo>
                <a:lnTo>
                  <a:pt x="1875" y="81"/>
                </a:lnTo>
                <a:lnTo>
                  <a:pt x="1827" y="65"/>
                </a:lnTo>
                <a:lnTo>
                  <a:pt x="1779" y="54"/>
                </a:lnTo>
                <a:lnTo>
                  <a:pt x="1741" y="48"/>
                </a:lnTo>
                <a:lnTo>
                  <a:pt x="1709" y="43"/>
                </a:lnTo>
                <a:lnTo>
                  <a:pt x="1682" y="32"/>
                </a:lnTo>
                <a:lnTo>
                  <a:pt x="1650" y="22"/>
                </a:lnTo>
                <a:lnTo>
                  <a:pt x="1618" y="11"/>
                </a:lnTo>
                <a:lnTo>
                  <a:pt x="1586" y="6"/>
                </a:lnTo>
                <a:lnTo>
                  <a:pt x="1544" y="0"/>
                </a:lnTo>
                <a:lnTo>
                  <a:pt x="1495" y="6"/>
                </a:lnTo>
                <a:lnTo>
                  <a:pt x="1431" y="22"/>
                </a:lnTo>
                <a:lnTo>
                  <a:pt x="1389" y="16"/>
                </a:lnTo>
                <a:lnTo>
                  <a:pt x="1351" y="16"/>
                </a:lnTo>
                <a:lnTo>
                  <a:pt x="1319" y="11"/>
                </a:lnTo>
                <a:lnTo>
                  <a:pt x="1292" y="11"/>
                </a:lnTo>
                <a:lnTo>
                  <a:pt x="1266" y="11"/>
                </a:lnTo>
                <a:lnTo>
                  <a:pt x="1239" y="11"/>
                </a:lnTo>
                <a:lnTo>
                  <a:pt x="1207" y="16"/>
                </a:lnTo>
                <a:lnTo>
                  <a:pt x="1175" y="27"/>
                </a:lnTo>
                <a:lnTo>
                  <a:pt x="1137" y="32"/>
                </a:lnTo>
                <a:lnTo>
                  <a:pt x="1089" y="32"/>
                </a:lnTo>
                <a:lnTo>
                  <a:pt x="1036" y="38"/>
                </a:lnTo>
                <a:lnTo>
                  <a:pt x="977" y="38"/>
                </a:lnTo>
                <a:lnTo>
                  <a:pt x="918" y="43"/>
                </a:lnTo>
                <a:lnTo>
                  <a:pt x="865" y="59"/>
                </a:lnTo>
                <a:lnTo>
                  <a:pt x="812" y="81"/>
                </a:lnTo>
                <a:lnTo>
                  <a:pt x="769" y="113"/>
                </a:lnTo>
                <a:lnTo>
                  <a:pt x="801" y="140"/>
                </a:lnTo>
                <a:lnTo>
                  <a:pt x="774" y="150"/>
                </a:lnTo>
                <a:lnTo>
                  <a:pt x="742" y="166"/>
                </a:lnTo>
                <a:lnTo>
                  <a:pt x="715" y="177"/>
                </a:lnTo>
                <a:lnTo>
                  <a:pt x="683" y="193"/>
                </a:lnTo>
                <a:lnTo>
                  <a:pt x="657" y="209"/>
                </a:lnTo>
                <a:lnTo>
                  <a:pt x="625" y="231"/>
                </a:lnTo>
                <a:lnTo>
                  <a:pt x="593" y="263"/>
                </a:lnTo>
                <a:lnTo>
                  <a:pt x="560" y="295"/>
                </a:lnTo>
                <a:lnTo>
                  <a:pt x="528" y="333"/>
                </a:lnTo>
                <a:lnTo>
                  <a:pt x="496" y="365"/>
                </a:lnTo>
                <a:lnTo>
                  <a:pt x="464" y="392"/>
                </a:lnTo>
                <a:lnTo>
                  <a:pt x="432" y="418"/>
                </a:lnTo>
                <a:lnTo>
                  <a:pt x="395" y="440"/>
                </a:lnTo>
                <a:lnTo>
                  <a:pt x="363" y="461"/>
                </a:lnTo>
                <a:lnTo>
                  <a:pt x="331" y="483"/>
                </a:lnTo>
                <a:lnTo>
                  <a:pt x="299" y="510"/>
                </a:lnTo>
                <a:lnTo>
                  <a:pt x="261" y="558"/>
                </a:lnTo>
                <a:lnTo>
                  <a:pt x="256" y="590"/>
                </a:lnTo>
                <a:lnTo>
                  <a:pt x="256" y="622"/>
                </a:lnTo>
                <a:lnTo>
                  <a:pt x="245" y="660"/>
                </a:lnTo>
                <a:lnTo>
                  <a:pt x="203" y="713"/>
                </a:lnTo>
                <a:lnTo>
                  <a:pt x="160" y="778"/>
                </a:lnTo>
                <a:lnTo>
                  <a:pt x="117" y="842"/>
                </a:lnTo>
                <a:lnTo>
                  <a:pt x="101" y="901"/>
                </a:lnTo>
                <a:lnTo>
                  <a:pt x="80" y="965"/>
                </a:lnTo>
                <a:lnTo>
                  <a:pt x="42" y="1056"/>
                </a:lnTo>
                <a:lnTo>
                  <a:pt x="5" y="1164"/>
                </a:lnTo>
                <a:lnTo>
                  <a:pt x="0" y="127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3767040" y="1195560"/>
            <a:ext cx="1567080" cy="1395360"/>
          </a:xfrm>
          <a:prstGeom prst="rect">
            <a:avLst/>
          </a:prstGeom>
          <a:ln w="0">
            <a:noFill/>
          </a:ln>
        </p:spPr>
      </p:pic>
      <p:grpSp>
        <p:nvGrpSpPr>
          <p:cNvPr id="558" name=""/>
          <p:cNvGrpSpPr/>
          <p:nvPr/>
        </p:nvGrpSpPr>
        <p:grpSpPr>
          <a:xfrm>
            <a:off x="5226120" y="4838760"/>
            <a:ext cx="1174680" cy="1104840"/>
            <a:chOff x="5226120" y="4838760"/>
            <a:chExt cx="1174680" cy="1104840"/>
          </a:xfrm>
        </p:grpSpPr>
        <p:sp>
          <p:nvSpPr>
            <p:cNvPr id="559" name=""/>
            <p:cNvSpPr/>
            <p:nvPr/>
          </p:nvSpPr>
          <p:spPr>
            <a:xfrm>
              <a:off x="5226120" y="4838760"/>
              <a:ext cx="1174680" cy="1090440"/>
            </a:xfrm>
            <a:custGeom>
              <a:avLst/>
              <a:gdLst/>
              <a:ahLst/>
              <a:rect l="l" t="t" r="r" b="b"/>
              <a:pathLst>
                <a:path w="1296" h="1286">
                  <a:moveTo>
                    <a:pt x="1149" y="1286"/>
                  </a:moveTo>
                  <a:lnTo>
                    <a:pt x="1179" y="1283"/>
                  </a:lnTo>
                  <a:lnTo>
                    <a:pt x="1207" y="1274"/>
                  </a:lnTo>
                  <a:lnTo>
                    <a:pt x="1231" y="1260"/>
                  </a:lnTo>
                  <a:lnTo>
                    <a:pt x="1253" y="1243"/>
                  </a:lnTo>
                  <a:lnTo>
                    <a:pt x="1271" y="1221"/>
                  </a:lnTo>
                  <a:lnTo>
                    <a:pt x="1284" y="1197"/>
                  </a:lnTo>
                  <a:lnTo>
                    <a:pt x="1293" y="1168"/>
                  </a:lnTo>
                  <a:lnTo>
                    <a:pt x="1296" y="1139"/>
                  </a:lnTo>
                  <a:lnTo>
                    <a:pt x="1296" y="147"/>
                  </a:lnTo>
                  <a:lnTo>
                    <a:pt x="1293" y="118"/>
                  </a:lnTo>
                  <a:lnTo>
                    <a:pt x="1284" y="89"/>
                  </a:lnTo>
                  <a:lnTo>
                    <a:pt x="1271" y="65"/>
                  </a:lnTo>
                  <a:lnTo>
                    <a:pt x="1253" y="43"/>
                  </a:lnTo>
                  <a:lnTo>
                    <a:pt x="1231" y="26"/>
                  </a:lnTo>
                  <a:lnTo>
                    <a:pt x="1207" y="12"/>
                  </a:lnTo>
                  <a:lnTo>
                    <a:pt x="1179" y="3"/>
                  </a:lnTo>
                  <a:lnTo>
                    <a:pt x="1149" y="0"/>
                  </a:lnTo>
                  <a:lnTo>
                    <a:pt x="147" y="0"/>
                  </a:lnTo>
                  <a:lnTo>
                    <a:pt x="117" y="3"/>
                  </a:lnTo>
                  <a:lnTo>
                    <a:pt x="90" y="12"/>
                  </a:lnTo>
                  <a:lnTo>
                    <a:pt x="65" y="26"/>
                  </a:lnTo>
                  <a:lnTo>
                    <a:pt x="44" y="43"/>
                  </a:lnTo>
                  <a:lnTo>
                    <a:pt x="25" y="65"/>
                  </a:lnTo>
                  <a:lnTo>
                    <a:pt x="12" y="89"/>
                  </a:lnTo>
                  <a:lnTo>
                    <a:pt x="3" y="118"/>
                  </a:lnTo>
                  <a:lnTo>
                    <a:pt x="0" y="147"/>
                  </a:lnTo>
                  <a:lnTo>
                    <a:pt x="0" y="1139"/>
                  </a:lnTo>
                  <a:lnTo>
                    <a:pt x="3" y="1168"/>
                  </a:lnTo>
                  <a:lnTo>
                    <a:pt x="12" y="1197"/>
                  </a:lnTo>
                  <a:lnTo>
                    <a:pt x="25" y="1221"/>
                  </a:lnTo>
                  <a:lnTo>
                    <a:pt x="44" y="1243"/>
                  </a:lnTo>
                  <a:lnTo>
                    <a:pt x="65" y="1260"/>
                  </a:lnTo>
                  <a:lnTo>
                    <a:pt x="90" y="1274"/>
                  </a:lnTo>
                  <a:lnTo>
                    <a:pt x="117" y="1283"/>
                  </a:lnTo>
                  <a:lnTo>
                    <a:pt x="147" y="1286"/>
                  </a:lnTo>
                  <a:lnTo>
                    <a:pt x="1149" y="128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59240" y="4921200"/>
              <a:ext cx="1105200" cy="417600"/>
            </a:xfrm>
            <a:custGeom>
              <a:avLst/>
              <a:gdLst/>
              <a:ahLst/>
              <a:rect l="l" t="t" r="r" b="b"/>
              <a:pathLst>
                <a:path w="1217" h="493">
                  <a:moveTo>
                    <a:pt x="135" y="389"/>
                  </a:moveTo>
                  <a:lnTo>
                    <a:pt x="149" y="390"/>
                  </a:lnTo>
                  <a:lnTo>
                    <a:pt x="162" y="392"/>
                  </a:lnTo>
                  <a:lnTo>
                    <a:pt x="175" y="396"/>
                  </a:lnTo>
                  <a:lnTo>
                    <a:pt x="188" y="400"/>
                  </a:lnTo>
                  <a:lnTo>
                    <a:pt x="200" y="408"/>
                  </a:lnTo>
                  <a:lnTo>
                    <a:pt x="211" y="415"/>
                  </a:lnTo>
                  <a:lnTo>
                    <a:pt x="221" y="423"/>
                  </a:lnTo>
                  <a:lnTo>
                    <a:pt x="232" y="432"/>
                  </a:lnTo>
                  <a:lnTo>
                    <a:pt x="242" y="423"/>
                  </a:lnTo>
                  <a:lnTo>
                    <a:pt x="253" y="415"/>
                  </a:lnTo>
                  <a:lnTo>
                    <a:pt x="265" y="408"/>
                  </a:lnTo>
                  <a:lnTo>
                    <a:pt x="276" y="400"/>
                  </a:lnTo>
                  <a:lnTo>
                    <a:pt x="289" y="396"/>
                  </a:lnTo>
                  <a:lnTo>
                    <a:pt x="302" y="392"/>
                  </a:lnTo>
                  <a:lnTo>
                    <a:pt x="315" y="390"/>
                  </a:lnTo>
                  <a:lnTo>
                    <a:pt x="328" y="389"/>
                  </a:lnTo>
                  <a:lnTo>
                    <a:pt x="341" y="390"/>
                  </a:lnTo>
                  <a:lnTo>
                    <a:pt x="354" y="392"/>
                  </a:lnTo>
                  <a:lnTo>
                    <a:pt x="367" y="396"/>
                  </a:lnTo>
                  <a:lnTo>
                    <a:pt x="380" y="400"/>
                  </a:lnTo>
                  <a:lnTo>
                    <a:pt x="391" y="408"/>
                  </a:lnTo>
                  <a:lnTo>
                    <a:pt x="403" y="415"/>
                  </a:lnTo>
                  <a:lnTo>
                    <a:pt x="415" y="423"/>
                  </a:lnTo>
                  <a:lnTo>
                    <a:pt x="425" y="432"/>
                  </a:lnTo>
                  <a:lnTo>
                    <a:pt x="435" y="423"/>
                  </a:lnTo>
                  <a:lnTo>
                    <a:pt x="445" y="415"/>
                  </a:lnTo>
                  <a:lnTo>
                    <a:pt x="456" y="408"/>
                  </a:lnTo>
                  <a:lnTo>
                    <a:pt x="468" y="400"/>
                  </a:lnTo>
                  <a:lnTo>
                    <a:pt x="481" y="396"/>
                  </a:lnTo>
                  <a:lnTo>
                    <a:pt x="494" y="392"/>
                  </a:lnTo>
                  <a:lnTo>
                    <a:pt x="507" y="390"/>
                  </a:lnTo>
                  <a:lnTo>
                    <a:pt x="520" y="389"/>
                  </a:lnTo>
                  <a:lnTo>
                    <a:pt x="533" y="390"/>
                  </a:lnTo>
                  <a:lnTo>
                    <a:pt x="546" y="392"/>
                  </a:lnTo>
                  <a:lnTo>
                    <a:pt x="559" y="396"/>
                  </a:lnTo>
                  <a:lnTo>
                    <a:pt x="572" y="400"/>
                  </a:lnTo>
                  <a:lnTo>
                    <a:pt x="583" y="408"/>
                  </a:lnTo>
                  <a:lnTo>
                    <a:pt x="595" y="415"/>
                  </a:lnTo>
                  <a:lnTo>
                    <a:pt x="606" y="423"/>
                  </a:lnTo>
                  <a:lnTo>
                    <a:pt x="616" y="432"/>
                  </a:lnTo>
                  <a:lnTo>
                    <a:pt x="626" y="423"/>
                  </a:lnTo>
                  <a:lnTo>
                    <a:pt x="638" y="415"/>
                  </a:lnTo>
                  <a:lnTo>
                    <a:pt x="649" y="408"/>
                  </a:lnTo>
                  <a:lnTo>
                    <a:pt x="661" y="400"/>
                  </a:lnTo>
                  <a:lnTo>
                    <a:pt x="674" y="396"/>
                  </a:lnTo>
                  <a:lnTo>
                    <a:pt x="687" y="392"/>
                  </a:lnTo>
                  <a:lnTo>
                    <a:pt x="700" y="390"/>
                  </a:lnTo>
                  <a:lnTo>
                    <a:pt x="713" y="389"/>
                  </a:lnTo>
                  <a:lnTo>
                    <a:pt x="726" y="390"/>
                  </a:lnTo>
                  <a:lnTo>
                    <a:pt x="739" y="392"/>
                  </a:lnTo>
                  <a:lnTo>
                    <a:pt x="752" y="396"/>
                  </a:lnTo>
                  <a:lnTo>
                    <a:pt x="765" y="400"/>
                  </a:lnTo>
                  <a:lnTo>
                    <a:pt x="776" y="408"/>
                  </a:lnTo>
                  <a:lnTo>
                    <a:pt x="788" y="415"/>
                  </a:lnTo>
                  <a:lnTo>
                    <a:pt x="798" y="423"/>
                  </a:lnTo>
                  <a:lnTo>
                    <a:pt x="808" y="432"/>
                  </a:lnTo>
                  <a:lnTo>
                    <a:pt x="818" y="423"/>
                  </a:lnTo>
                  <a:lnTo>
                    <a:pt x="830" y="415"/>
                  </a:lnTo>
                  <a:lnTo>
                    <a:pt x="841" y="408"/>
                  </a:lnTo>
                  <a:lnTo>
                    <a:pt x="853" y="400"/>
                  </a:lnTo>
                  <a:lnTo>
                    <a:pt x="866" y="396"/>
                  </a:lnTo>
                  <a:lnTo>
                    <a:pt x="879" y="392"/>
                  </a:lnTo>
                  <a:lnTo>
                    <a:pt x="891" y="390"/>
                  </a:lnTo>
                  <a:lnTo>
                    <a:pt x="904" y="389"/>
                  </a:lnTo>
                  <a:lnTo>
                    <a:pt x="917" y="390"/>
                  </a:lnTo>
                  <a:lnTo>
                    <a:pt x="930" y="392"/>
                  </a:lnTo>
                  <a:lnTo>
                    <a:pt x="943" y="396"/>
                  </a:lnTo>
                  <a:lnTo>
                    <a:pt x="956" y="400"/>
                  </a:lnTo>
                  <a:lnTo>
                    <a:pt x="968" y="408"/>
                  </a:lnTo>
                  <a:lnTo>
                    <a:pt x="979" y="415"/>
                  </a:lnTo>
                  <a:lnTo>
                    <a:pt x="991" y="423"/>
                  </a:lnTo>
                  <a:lnTo>
                    <a:pt x="1001" y="432"/>
                  </a:lnTo>
                  <a:lnTo>
                    <a:pt x="1011" y="423"/>
                  </a:lnTo>
                  <a:lnTo>
                    <a:pt x="1021" y="415"/>
                  </a:lnTo>
                  <a:lnTo>
                    <a:pt x="1033" y="408"/>
                  </a:lnTo>
                  <a:lnTo>
                    <a:pt x="1046" y="400"/>
                  </a:lnTo>
                  <a:lnTo>
                    <a:pt x="1057" y="396"/>
                  </a:lnTo>
                  <a:lnTo>
                    <a:pt x="1070" y="392"/>
                  </a:lnTo>
                  <a:lnTo>
                    <a:pt x="1083" y="390"/>
                  </a:lnTo>
                  <a:lnTo>
                    <a:pt x="1098" y="389"/>
                  </a:lnTo>
                  <a:lnTo>
                    <a:pt x="1115" y="390"/>
                  </a:lnTo>
                  <a:lnTo>
                    <a:pt x="1132" y="395"/>
                  </a:lnTo>
                  <a:lnTo>
                    <a:pt x="1148" y="400"/>
                  </a:lnTo>
                  <a:lnTo>
                    <a:pt x="1164" y="409"/>
                  </a:lnTo>
                  <a:lnTo>
                    <a:pt x="1180" y="419"/>
                  </a:lnTo>
                  <a:lnTo>
                    <a:pt x="1193" y="432"/>
                  </a:lnTo>
                  <a:lnTo>
                    <a:pt x="1206" y="448"/>
                  </a:lnTo>
                  <a:lnTo>
                    <a:pt x="1217" y="464"/>
                  </a:lnTo>
                  <a:lnTo>
                    <a:pt x="1207" y="415"/>
                  </a:lnTo>
                  <a:lnTo>
                    <a:pt x="1193" y="369"/>
                  </a:lnTo>
                  <a:lnTo>
                    <a:pt x="1174" y="324"/>
                  </a:lnTo>
                  <a:lnTo>
                    <a:pt x="1149" y="281"/>
                  </a:lnTo>
                  <a:lnTo>
                    <a:pt x="1122" y="240"/>
                  </a:lnTo>
                  <a:lnTo>
                    <a:pt x="1090" y="201"/>
                  </a:lnTo>
                  <a:lnTo>
                    <a:pt x="1054" y="165"/>
                  </a:lnTo>
                  <a:lnTo>
                    <a:pt x="1015" y="134"/>
                  </a:lnTo>
                  <a:lnTo>
                    <a:pt x="974" y="103"/>
                  </a:lnTo>
                  <a:lnTo>
                    <a:pt x="929" y="78"/>
                  </a:lnTo>
                  <a:lnTo>
                    <a:pt x="881" y="54"/>
                  </a:lnTo>
                  <a:lnTo>
                    <a:pt x="831" y="36"/>
                  </a:lnTo>
                  <a:lnTo>
                    <a:pt x="779" y="20"/>
                  </a:lnTo>
                  <a:lnTo>
                    <a:pt x="724" y="8"/>
                  </a:lnTo>
                  <a:lnTo>
                    <a:pt x="668" y="3"/>
                  </a:lnTo>
                  <a:lnTo>
                    <a:pt x="610" y="0"/>
                  </a:lnTo>
                  <a:lnTo>
                    <a:pt x="551" y="3"/>
                  </a:lnTo>
                  <a:lnTo>
                    <a:pt x="492" y="10"/>
                  </a:lnTo>
                  <a:lnTo>
                    <a:pt x="436" y="21"/>
                  </a:lnTo>
                  <a:lnTo>
                    <a:pt x="383" y="37"/>
                  </a:lnTo>
                  <a:lnTo>
                    <a:pt x="331" y="59"/>
                  </a:lnTo>
                  <a:lnTo>
                    <a:pt x="282" y="83"/>
                  </a:lnTo>
                  <a:lnTo>
                    <a:pt x="236" y="111"/>
                  </a:lnTo>
                  <a:lnTo>
                    <a:pt x="193" y="142"/>
                  </a:lnTo>
                  <a:lnTo>
                    <a:pt x="154" y="177"/>
                  </a:lnTo>
                  <a:lnTo>
                    <a:pt x="119" y="214"/>
                  </a:lnTo>
                  <a:lnTo>
                    <a:pt x="87" y="256"/>
                  </a:lnTo>
                  <a:lnTo>
                    <a:pt x="60" y="299"/>
                  </a:lnTo>
                  <a:lnTo>
                    <a:pt x="37" y="344"/>
                  </a:lnTo>
                  <a:lnTo>
                    <a:pt x="20" y="392"/>
                  </a:lnTo>
                  <a:lnTo>
                    <a:pt x="7" y="442"/>
                  </a:lnTo>
                  <a:lnTo>
                    <a:pt x="0" y="493"/>
                  </a:lnTo>
                  <a:lnTo>
                    <a:pt x="11" y="471"/>
                  </a:lnTo>
                  <a:lnTo>
                    <a:pt x="24" y="451"/>
                  </a:lnTo>
                  <a:lnTo>
                    <a:pt x="40" y="432"/>
                  </a:lnTo>
                  <a:lnTo>
                    <a:pt x="56" y="418"/>
                  </a:lnTo>
                  <a:lnTo>
                    <a:pt x="74" y="405"/>
                  </a:lnTo>
                  <a:lnTo>
                    <a:pt x="93" y="396"/>
                  </a:lnTo>
                  <a:lnTo>
                    <a:pt x="113" y="390"/>
                  </a:lnTo>
                  <a:lnTo>
                    <a:pt x="135" y="389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07120" y="4857840"/>
              <a:ext cx="270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02160" y="4857840"/>
              <a:ext cx="270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00800" y="4857840"/>
              <a:ext cx="252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95840" y="4857840"/>
              <a:ext cx="288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94480" y="4857840"/>
              <a:ext cx="270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92760" y="4857840"/>
              <a:ext cx="2556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88160" y="4857840"/>
              <a:ext cx="2844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85000" y="4857840"/>
              <a:ext cx="270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83280" y="4857840"/>
              <a:ext cx="270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80120" y="4857840"/>
              <a:ext cx="2844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76960" y="4857840"/>
              <a:ext cx="27000" cy="342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11960" y="5342040"/>
              <a:ext cx="598320" cy="41112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05560" y="5408640"/>
              <a:ext cx="404640" cy="260280"/>
            </a:xfrm>
            <a:custGeom>
              <a:avLst/>
              <a:gdLst/>
              <a:ahLst/>
              <a:rect l="l" t="t" r="r" b="b"/>
              <a:pathLst>
                <a:path w="447" h="308">
                  <a:moveTo>
                    <a:pt x="424" y="308"/>
                  </a:moveTo>
                  <a:lnTo>
                    <a:pt x="433" y="307"/>
                  </a:lnTo>
                  <a:lnTo>
                    <a:pt x="440" y="301"/>
                  </a:lnTo>
                  <a:lnTo>
                    <a:pt x="446" y="294"/>
                  </a:lnTo>
                  <a:lnTo>
                    <a:pt x="447" y="285"/>
                  </a:lnTo>
                  <a:lnTo>
                    <a:pt x="447" y="23"/>
                  </a:lnTo>
                  <a:lnTo>
                    <a:pt x="446" y="14"/>
                  </a:lnTo>
                  <a:lnTo>
                    <a:pt x="440" y="7"/>
                  </a:lnTo>
                  <a:lnTo>
                    <a:pt x="433" y="1"/>
                  </a:lnTo>
                  <a:lnTo>
                    <a:pt x="424" y="0"/>
                  </a:lnTo>
                  <a:lnTo>
                    <a:pt x="25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0" y="285"/>
                  </a:lnTo>
                  <a:lnTo>
                    <a:pt x="2" y="294"/>
                  </a:lnTo>
                  <a:lnTo>
                    <a:pt x="8" y="301"/>
                  </a:lnTo>
                  <a:lnTo>
                    <a:pt x="16" y="307"/>
                  </a:lnTo>
                  <a:lnTo>
                    <a:pt x="25" y="308"/>
                  </a:lnTo>
                  <a:lnTo>
                    <a:pt x="424" y="30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705640" y="5732640"/>
              <a:ext cx="220320" cy="9504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10080" y="5797440"/>
              <a:ext cx="777960" cy="146160"/>
            </a:xfrm>
            <a:custGeom>
              <a:avLst/>
              <a:gdLst/>
              <a:ahLst/>
              <a:rect l="l" t="t" r="r" b="b"/>
              <a:pathLst>
                <a:path w="857" h="173">
                  <a:moveTo>
                    <a:pt x="857" y="170"/>
                  </a:moveTo>
                  <a:lnTo>
                    <a:pt x="831" y="0"/>
                  </a:lnTo>
                  <a:lnTo>
                    <a:pt x="26" y="3"/>
                  </a:lnTo>
                  <a:lnTo>
                    <a:pt x="0" y="173"/>
                  </a:lnTo>
                  <a:lnTo>
                    <a:pt x="857" y="170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0080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38"/>
                  </a:moveTo>
                  <a:lnTo>
                    <a:pt x="26" y="36"/>
                  </a:lnTo>
                  <a:lnTo>
                    <a:pt x="33" y="32"/>
                  </a:lnTo>
                  <a:lnTo>
                    <a:pt x="36" y="26"/>
                  </a:lnTo>
                  <a:lnTo>
                    <a:pt x="38" y="19"/>
                  </a:lnTo>
                  <a:lnTo>
                    <a:pt x="36" y="12"/>
                  </a:lnTo>
                  <a:lnTo>
                    <a:pt x="33" y="6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19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73880" y="5835600"/>
              <a:ext cx="331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38"/>
                  </a:moveTo>
                  <a:lnTo>
                    <a:pt x="28" y="36"/>
                  </a:lnTo>
                  <a:lnTo>
                    <a:pt x="33" y="32"/>
                  </a:lnTo>
                  <a:lnTo>
                    <a:pt x="38" y="26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3" y="6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19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43720" y="5835600"/>
              <a:ext cx="3636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8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18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71644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789520" y="5835600"/>
              <a:ext cx="3348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8" y="26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0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59360" y="5835600"/>
              <a:ext cx="367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1" y="38"/>
                  </a:moveTo>
                  <a:lnTo>
                    <a:pt x="28" y="36"/>
                  </a:lnTo>
                  <a:lnTo>
                    <a:pt x="34" y="32"/>
                  </a:lnTo>
                  <a:lnTo>
                    <a:pt x="38" y="26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1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3244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20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02280" y="5835600"/>
              <a:ext cx="36720" cy="316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0" y="38"/>
                  </a:moveTo>
                  <a:lnTo>
                    <a:pt x="27" y="36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9" y="19"/>
                  </a:lnTo>
                  <a:lnTo>
                    <a:pt x="37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20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7680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38"/>
                  </a:moveTo>
                  <a:lnTo>
                    <a:pt x="25" y="36"/>
                  </a:lnTo>
                  <a:lnTo>
                    <a:pt x="31" y="32"/>
                  </a:lnTo>
                  <a:lnTo>
                    <a:pt x="36" y="26"/>
                  </a:lnTo>
                  <a:lnTo>
                    <a:pt x="37" y="19"/>
                  </a:lnTo>
                  <a:lnTo>
                    <a:pt x="36" y="12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18" y="38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500800" y="5886360"/>
              <a:ext cx="34920" cy="334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39"/>
                  </a:moveTo>
                  <a:lnTo>
                    <a:pt x="26" y="37"/>
                  </a:lnTo>
                  <a:lnTo>
                    <a:pt x="33" y="33"/>
                  </a:lnTo>
                  <a:lnTo>
                    <a:pt x="36" y="27"/>
                  </a:lnTo>
                  <a:lnTo>
                    <a:pt x="38" y="19"/>
                  </a:lnTo>
                  <a:lnTo>
                    <a:pt x="36" y="11"/>
                  </a:lnTo>
                  <a:lnTo>
                    <a:pt x="33" y="6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19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73880" y="5886360"/>
              <a:ext cx="3312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39"/>
                  </a:moveTo>
                  <a:lnTo>
                    <a:pt x="28" y="37"/>
                  </a:lnTo>
                  <a:lnTo>
                    <a:pt x="33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19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43720" y="5886360"/>
              <a:ext cx="3636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8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1" y="37"/>
                  </a:lnTo>
                  <a:lnTo>
                    <a:pt x="18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16440" y="5886360"/>
              <a:ext cx="3492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1" y="37"/>
                  </a:lnTo>
                  <a:lnTo>
                    <a:pt x="19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89520" y="5886360"/>
              <a:ext cx="3348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20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59360" y="5886360"/>
              <a:ext cx="3672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1" y="39"/>
                  </a:moveTo>
                  <a:lnTo>
                    <a:pt x="28" y="37"/>
                  </a:lnTo>
                  <a:lnTo>
                    <a:pt x="34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1"/>
                  </a:lnTo>
                  <a:lnTo>
                    <a:pt x="34" y="6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21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32440" y="5886360"/>
              <a:ext cx="3492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1" y="37"/>
                  </a:lnTo>
                  <a:lnTo>
                    <a:pt x="20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02280" y="5886360"/>
              <a:ext cx="36720" cy="334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39"/>
                  </a:move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6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1" y="37"/>
                  </a:lnTo>
                  <a:lnTo>
                    <a:pt x="20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76800" y="5886360"/>
              <a:ext cx="34920" cy="3348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39"/>
                  </a:moveTo>
                  <a:lnTo>
                    <a:pt x="25" y="37"/>
                  </a:lnTo>
                  <a:lnTo>
                    <a:pt x="31" y="33"/>
                  </a:lnTo>
                  <a:lnTo>
                    <a:pt x="36" y="27"/>
                  </a:lnTo>
                  <a:lnTo>
                    <a:pt x="37" y="19"/>
                  </a:lnTo>
                  <a:lnTo>
                    <a:pt x="36" y="11"/>
                  </a:lnTo>
                  <a:lnTo>
                    <a:pt x="31" y="6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5" y="33"/>
                  </a:lnTo>
                  <a:lnTo>
                    <a:pt x="11" y="37"/>
                  </a:lnTo>
                  <a:lnTo>
                    <a:pt x="18" y="39"/>
                  </a:lnTo>
                  <a:close/>
                </a:path>
              </a:pathLst>
            </a:cu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2057400" y="4724280"/>
            <a:ext cx="1625760" cy="1289160"/>
          </a:xfrm>
          <a:prstGeom prst="rect">
            <a:avLst/>
          </a:prstGeom>
          <a:ln w="0">
            <a:noFill/>
          </a:ln>
        </p:spPr>
      </p:pic>
      <p:grpSp>
        <p:nvGrpSpPr>
          <p:cNvPr id="595" name=""/>
          <p:cNvGrpSpPr/>
          <p:nvPr/>
        </p:nvGrpSpPr>
        <p:grpSpPr>
          <a:xfrm>
            <a:off x="1676520" y="2819520"/>
            <a:ext cx="1112400" cy="1169640"/>
            <a:chOff x="1676520" y="2819520"/>
            <a:chExt cx="1112400" cy="1169640"/>
          </a:xfrm>
        </p:grpSpPr>
        <p:sp>
          <p:nvSpPr>
            <p:cNvPr id="596" name=""/>
            <p:cNvSpPr/>
            <p:nvPr/>
          </p:nvSpPr>
          <p:spPr>
            <a:xfrm>
              <a:off x="1686960" y="2827080"/>
              <a:ext cx="1092600" cy="1143360"/>
            </a:xfrm>
            <a:custGeom>
              <a:avLst/>
              <a:gdLst/>
              <a:ahLst/>
              <a:rect l="l" t="t" r="r" b="b"/>
              <a:pathLst>
                <a:path w="2465" h="2583">
                  <a:moveTo>
                    <a:pt x="0" y="83"/>
                  </a:moveTo>
                  <a:lnTo>
                    <a:pt x="50" y="26"/>
                  </a:lnTo>
                  <a:lnTo>
                    <a:pt x="166" y="0"/>
                  </a:lnTo>
                  <a:lnTo>
                    <a:pt x="297" y="0"/>
                  </a:lnTo>
                  <a:lnTo>
                    <a:pt x="406" y="46"/>
                  </a:lnTo>
                  <a:lnTo>
                    <a:pt x="485" y="117"/>
                  </a:lnTo>
                  <a:lnTo>
                    <a:pt x="558" y="90"/>
                  </a:lnTo>
                  <a:lnTo>
                    <a:pt x="677" y="23"/>
                  </a:lnTo>
                  <a:lnTo>
                    <a:pt x="756" y="19"/>
                  </a:lnTo>
                  <a:lnTo>
                    <a:pt x="840" y="49"/>
                  </a:lnTo>
                  <a:lnTo>
                    <a:pt x="1101" y="186"/>
                  </a:lnTo>
                  <a:lnTo>
                    <a:pt x="1174" y="220"/>
                  </a:lnTo>
                  <a:lnTo>
                    <a:pt x="1274" y="99"/>
                  </a:lnTo>
                  <a:lnTo>
                    <a:pt x="1340" y="99"/>
                  </a:lnTo>
                  <a:lnTo>
                    <a:pt x="1453" y="113"/>
                  </a:lnTo>
                  <a:lnTo>
                    <a:pt x="1539" y="147"/>
                  </a:lnTo>
                  <a:lnTo>
                    <a:pt x="1652" y="147"/>
                  </a:lnTo>
                  <a:lnTo>
                    <a:pt x="1807" y="143"/>
                  </a:lnTo>
                  <a:lnTo>
                    <a:pt x="1877" y="204"/>
                  </a:lnTo>
                  <a:lnTo>
                    <a:pt x="1914" y="250"/>
                  </a:lnTo>
                  <a:lnTo>
                    <a:pt x="1973" y="250"/>
                  </a:lnTo>
                  <a:lnTo>
                    <a:pt x="2129" y="284"/>
                  </a:lnTo>
                  <a:lnTo>
                    <a:pt x="2206" y="341"/>
                  </a:lnTo>
                  <a:lnTo>
                    <a:pt x="2288" y="478"/>
                  </a:lnTo>
                  <a:lnTo>
                    <a:pt x="2259" y="577"/>
                  </a:lnTo>
                  <a:lnTo>
                    <a:pt x="2275" y="611"/>
                  </a:lnTo>
                  <a:lnTo>
                    <a:pt x="2372" y="678"/>
                  </a:lnTo>
                  <a:lnTo>
                    <a:pt x="2465" y="765"/>
                  </a:lnTo>
                  <a:lnTo>
                    <a:pt x="2465" y="849"/>
                  </a:lnTo>
                  <a:lnTo>
                    <a:pt x="2444" y="925"/>
                  </a:lnTo>
                  <a:lnTo>
                    <a:pt x="2334" y="938"/>
                  </a:lnTo>
                  <a:lnTo>
                    <a:pt x="2332" y="1179"/>
                  </a:lnTo>
                  <a:lnTo>
                    <a:pt x="2222" y="1407"/>
                  </a:lnTo>
                  <a:lnTo>
                    <a:pt x="2020" y="1554"/>
                  </a:lnTo>
                  <a:lnTo>
                    <a:pt x="2083" y="1670"/>
                  </a:lnTo>
                  <a:lnTo>
                    <a:pt x="2113" y="1805"/>
                  </a:lnTo>
                  <a:lnTo>
                    <a:pt x="2023" y="1808"/>
                  </a:lnTo>
                  <a:lnTo>
                    <a:pt x="2013" y="1904"/>
                  </a:lnTo>
                  <a:lnTo>
                    <a:pt x="2166" y="2343"/>
                  </a:lnTo>
                  <a:lnTo>
                    <a:pt x="2236" y="2506"/>
                  </a:lnTo>
                  <a:lnTo>
                    <a:pt x="2245" y="2560"/>
                  </a:lnTo>
                  <a:lnTo>
                    <a:pt x="2182" y="2583"/>
                  </a:lnTo>
                  <a:lnTo>
                    <a:pt x="1900" y="2426"/>
                  </a:lnTo>
                  <a:lnTo>
                    <a:pt x="1709" y="2549"/>
                  </a:lnTo>
                  <a:lnTo>
                    <a:pt x="1652" y="2455"/>
                  </a:lnTo>
                  <a:lnTo>
                    <a:pt x="1582" y="2091"/>
                  </a:lnTo>
                  <a:lnTo>
                    <a:pt x="1516" y="1998"/>
                  </a:lnTo>
                  <a:lnTo>
                    <a:pt x="1457" y="2229"/>
                  </a:lnTo>
                  <a:lnTo>
                    <a:pt x="1453" y="2496"/>
                  </a:lnTo>
                  <a:lnTo>
                    <a:pt x="1401" y="2537"/>
                  </a:lnTo>
                  <a:lnTo>
                    <a:pt x="1221" y="2349"/>
                  </a:lnTo>
                  <a:lnTo>
                    <a:pt x="919" y="2540"/>
                  </a:lnTo>
                  <a:lnTo>
                    <a:pt x="890" y="2537"/>
                  </a:lnTo>
                  <a:lnTo>
                    <a:pt x="853" y="2512"/>
                  </a:lnTo>
                  <a:lnTo>
                    <a:pt x="919" y="2372"/>
                  </a:lnTo>
                  <a:lnTo>
                    <a:pt x="1039" y="1979"/>
                  </a:lnTo>
                  <a:lnTo>
                    <a:pt x="737" y="2219"/>
                  </a:lnTo>
                  <a:lnTo>
                    <a:pt x="640" y="1888"/>
                  </a:lnTo>
                  <a:lnTo>
                    <a:pt x="515" y="1848"/>
                  </a:lnTo>
                  <a:lnTo>
                    <a:pt x="422" y="1855"/>
                  </a:lnTo>
                  <a:lnTo>
                    <a:pt x="458" y="1794"/>
                  </a:lnTo>
                  <a:lnTo>
                    <a:pt x="581" y="1657"/>
                  </a:lnTo>
                  <a:lnTo>
                    <a:pt x="604" y="1556"/>
                  </a:lnTo>
                  <a:lnTo>
                    <a:pt x="654" y="1530"/>
                  </a:lnTo>
                  <a:lnTo>
                    <a:pt x="604" y="1444"/>
                  </a:lnTo>
                  <a:lnTo>
                    <a:pt x="465" y="1467"/>
                  </a:lnTo>
                  <a:lnTo>
                    <a:pt x="409" y="1444"/>
                  </a:lnTo>
                  <a:lnTo>
                    <a:pt x="375" y="1377"/>
                  </a:lnTo>
                  <a:lnTo>
                    <a:pt x="290" y="1192"/>
                  </a:lnTo>
                  <a:lnTo>
                    <a:pt x="209" y="1053"/>
                  </a:lnTo>
                  <a:lnTo>
                    <a:pt x="190" y="982"/>
                  </a:lnTo>
                  <a:lnTo>
                    <a:pt x="206" y="885"/>
                  </a:lnTo>
                  <a:lnTo>
                    <a:pt x="159" y="795"/>
                  </a:lnTo>
                  <a:lnTo>
                    <a:pt x="150" y="728"/>
                  </a:lnTo>
                  <a:lnTo>
                    <a:pt x="173" y="598"/>
                  </a:lnTo>
                  <a:lnTo>
                    <a:pt x="123" y="574"/>
                  </a:lnTo>
                  <a:lnTo>
                    <a:pt x="84" y="497"/>
                  </a:lnTo>
                  <a:lnTo>
                    <a:pt x="87" y="444"/>
                  </a:lnTo>
                  <a:lnTo>
                    <a:pt x="127" y="394"/>
                  </a:lnTo>
                  <a:lnTo>
                    <a:pt x="41" y="210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67120" y="3268080"/>
              <a:ext cx="119520" cy="169920"/>
            </a:xfrm>
            <a:custGeom>
              <a:avLst/>
              <a:gdLst/>
              <a:ahLst/>
              <a:rect l="l" t="t" r="r" b="b"/>
              <a:pathLst>
                <a:path w="270" h="382">
                  <a:moveTo>
                    <a:pt x="0" y="0"/>
                  </a:moveTo>
                  <a:lnTo>
                    <a:pt x="11" y="168"/>
                  </a:lnTo>
                  <a:lnTo>
                    <a:pt x="69" y="304"/>
                  </a:lnTo>
                  <a:lnTo>
                    <a:pt x="207" y="382"/>
                  </a:lnTo>
                  <a:lnTo>
                    <a:pt x="270" y="335"/>
                  </a:lnTo>
                  <a:lnTo>
                    <a:pt x="216" y="254"/>
                  </a:lnTo>
                  <a:lnTo>
                    <a:pt x="123" y="241"/>
                  </a:lnTo>
                  <a:lnTo>
                    <a:pt x="61" y="1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25240" y="3447360"/>
              <a:ext cx="313200" cy="103320"/>
            </a:xfrm>
            <a:custGeom>
              <a:avLst/>
              <a:gdLst/>
              <a:ahLst/>
              <a:rect l="l" t="t" r="r" b="b"/>
              <a:pathLst>
                <a:path w="707" h="234">
                  <a:moveTo>
                    <a:pt x="0" y="187"/>
                  </a:moveTo>
                  <a:lnTo>
                    <a:pt x="85" y="163"/>
                  </a:lnTo>
                  <a:lnTo>
                    <a:pt x="186" y="74"/>
                  </a:lnTo>
                  <a:lnTo>
                    <a:pt x="301" y="167"/>
                  </a:lnTo>
                  <a:lnTo>
                    <a:pt x="271" y="71"/>
                  </a:lnTo>
                  <a:lnTo>
                    <a:pt x="371" y="140"/>
                  </a:lnTo>
                  <a:lnTo>
                    <a:pt x="449" y="101"/>
                  </a:lnTo>
                  <a:lnTo>
                    <a:pt x="514" y="43"/>
                  </a:lnTo>
                  <a:lnTo>
                    <a:pt x="522" y="12"/>
                  </a:lnTo>
                  <a:lnTo>
                    <a:pt x="599" y="0"/>
                  </a:lnTo>
                  <a:lnTo>
                    <a:pt x="707" y="16"/>
                  </a:lnTo>
                  <a:lnTo>
                    <a:pt x="522" y="125"/>
                  </a:lnTo>
                  <a:lnTo>
                    <a:pt x="305" y="221"/>
                  </a:lnTo>
                  <a:lnTo>
                    <a:pt x="59" y="234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04560" y="3025080"/>
              <a:ext cx="469080" cy="480600"/>
            </a:xfrm>
            <a:custGeom>
              <a:avLst/>
              <a:gdLst/>
              <a:ahLst/>
              <a:rect l="l" t="t" r="r" b="b"/>
              <a:pathLst>
                <a:path w="1058" h="1086">
                  <a:moveTo>
                    <a:pt x="341" y="0"/>
                  </a:moveTo>
                  <a:lnTo>
                    <a:pt x="143" y="192"/>
                  </a:lnTo>
                  <a:lnTo>
                    <a:pt x="27" y="296"/>
                  </a:lnTo>
                  <a:lnTo>
                    <a:pt x="62" y="452"/>
                  </a:lnTo>
                  <a:lnTo>
                    <a:pt x="0" y="534"/>
                  </a:lnTo>
                  <a:lnTo>
                    <a:pt x="58" y="666"/>
                  </a:lnTo>
                  <a:lnTo>
                    <a:pt x="85" y="732"/>
                  </a:lnTo>
                  <a:lnTo>
                    <a:pt x="178" y="783"/>
                  </a:lnTo>
                  <a:lnTo>
                    <a:pt x="364" y="506"/>
                  </a:lnTo>
                  <a:lnTo>
                    <a:pt x="615" y="398"/>
                  </a:lnTo>
                  <a:lnTo>
                    <a:pt x="367" y="643"/>
                  </a:lnTo>
                  <a:lnTo>
                    <a:pt x="224" y="822"/>
                  </a:lnTo>
                  <a:lnTo>
                    <a:pt x="201" y="939"/>
                  </a:lnTo>
                  <a:lnTo>
                    <a:pt x="371" y="908"/>
                  </a:lnTo>
                  <a:lnTo>
                    <a:pt x="421" y="911"/>
                  </a:lnTo>
                  <a:lnTo>
                    <a:pt x="460" y="954"/>
                  </a:lnTo>
                  <a:lnTo>
                    <a:pt x="726" y="790"/>
                  </a:lnTo>
                  <a:lnTo>
                    <a:pt x="510" y="1025"/>
                  </a:lnTo>
                  <a:lnTo>
                    <a:pt x="518" y="1086"/>
                  </a:lnTo>
                  <a:lnTo>
                    <a:pt x="649" y="977"/>
                  </a:lnTo>
                  <a:lnTo>
                    <a:pt x="796" y="916"/>
                  </a:lnTo>
                  <a:lnTo>
                    <a:pt x="1043" y="655"/>
                  </a:lnTo>
                  <a:lnTo>
                    <a:pt x="1058" y="425"/>
                  </a:lnTo>
                  <a:lnTo>
                    <a:pt x="718" y="184"/>
                  </a:lnTo>
                  <a:lnTo>
                    <a:pt x="397" y="203"/>
                  </a:lnTo>
                  <a:lnTo>
                    <a:pt x="341" y="0"/>
                  </a:lnTo>
                  <a:lnTo>
                    <a:pt x="341" y="0"/>
                  </a:lnTo>
                  <a:close/>
                </a:path>
              </a:pathLst>
            </a:custGeom>
            <a:gradFill rotWithShape="0">
              <a:gsLst>
                <a:gs pos="0">
                  <a:srgbClr val="f47a00"/>
                </a:gs>
                <a:gs pos="100000">
                  <a:srgbClr val="703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81880" y="3370320"/>
              <a:ext cx="284040" cy="180360"/>
            </a:xfrm>
            <a:custGeom>
              <a:avLst/>
              <a:gdLst/>
              <a:ahLst/>
              <a:rect l="l" t="t" r="r" b="b"/>
              <a:pathLst>
                <a:path w="643" h="410">
                  <a:moveTo>
                    <a:pt x="0" y="0"/>
                  </a:moveTo>
                  <a:lnTo>
                    <a:pt x="73" y="48"/>
                  </a:lnTo>
                  <a:lnTo>
                    <a:pt x="156" y="105"/>
                  </a:lnTo>
                  <a:lnTo>
                    <a:pt x="229" y="88"/>
                  </a:lnTo>
                  <a:lnTo>
                    <a:pt x="267" y="26"/>
                  </a:lnTo>
                  <a:lnTo>
                    <a:pt x="237" y="179"/>
                  </a:lnTo>
                  <a:lnTo>
                    <a:pt x="311" y="214"/>
                  </a:lnTo>
                  <a:lnTo>
                    <a:pt x="406" y="232"/>
                  </a:lnTo>
                  <a:lnTo>
                    <a:pt x="458" y="214"/>
                  </a:lnTo>
                  <a:lnTo>
                    <a:pt x="484" y="292"/>
                  </a:lnTo>
                  <a:lnTo>
                    <a:pt x="643" y="410"/>
                  </a:lnTo>
                  <a:lnTo>
                    <a:pt x="458" y="371"/>
                  </a:lnTo>
                  <a:lnTo>
                    <a:pt x="159" y="205"/>
                  </a:lnTo>
                  <a:lnTo>
                    <a:pt x="64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75040" y="3524400"/>
              <a:ext cx="539640" cy="435600"/>
            </a:xfrm>
            <a:custGeom>
              <a:avLst/>
              <a:gdLst/>
              <a:ahLst/>
              <a:rect l="l" t="t" r="r" b="b"/>
              <a:pathLst>
                <a:path w="1216" h="986">
                  <a:moveTo>
                    <a:pt x="247" y="0"/>
                  </a:moveTo>
                  <a:lnTo>
                    <a:pt x="230" y="92"/>
                  </a:lnTo>
                  <a:lnTo>
                    <a:pt x="148" y="167"/>
                  </a:lnTo>
                  <a:lnTo>
                    <a:pt x="251" y="132"/>
                  </a:lnTo>
                  <a:lnTo>
                    <a:pt x="208" y="288"/>
                  </a:lnTo>
                  <a:lnTo>
                    <a:pt x="213" y="380"/>
                  </a:lnTo>
                  <a:lnTo>
                    <a:pt x="203" y="594"/>
                  </a:lnTo>
                  <a:lnTo>
                    <a:pt x="143" y="750"/>
                  </a:lnTo>
                  <a:lnTo>
                    <a:pt x="454" y="511"/>
                  </a:lnTo>
                  <a:lnTo>
                    <a:pt x="343" y="668"/>
                  </a:lnTo>
                  <a:lnTo>
                    <a:pt x="95" y="838"/>
                  </a:lnTo>
                  <a:lnTo>
                    <a:pt x="0" y="933"/>
                  </a:lnTo>
                  <a:lnTo>
                    <a:pt x="100" y="946"/>
                  </a:lnTo>
                  <a:lnTo>
                    <a:pt x="311" y="782"/>
                  </a:lnTo>
                  <a:lnTo>
                    <a:pt x="381" y="782"/>
                  </a:lnTo>
                  <a:lnTo>
                    <a:pt x="437" y="903"/>
                  </a:lnTo>
                  <a:lnTo>
                    <a:pt x="519" y="986"/>
                  </a:lnTo>
                  <a:lnTo>
                    <a:pt x="545" y="790"/>
                  </a:lnTo>
                  <a:lnTo>
                    <a:pt x="476" y="725"/>
                  </a:lnTo>
                  <a:lnTo>
                    <a:pt x="524" y="546"/>
                  </a:lnTo>
                  <a:lnTo>
                    <a:pt x="602" y="371"/>
                  </a:lnTo>
                  <a:lnTo>
                    <a:pt x="705" y="454"/>
                  </a:lnTo>
                  <a:lnTo>
                    <a:pt x="818" y="641"/>
                  </a:lnTo>
                  <a:lnTo>
                    <a:pt x="870" y="911"/>
                  </a:lnTo>
                  <a:lnTo>
                    <a:pt x="983" y="698"/>
                  </a:lnTo>
                  <a:lnTo>
                    <a:pt x="1194" y="859"/>
                  </a:lnTo>
                  <a:lnTo>
                    <a:pt x="1086" y="638"/>
                  </a:lnTo>
                  <a:lnTo>
                    <a:pt x="1211" y="777"/>
                  </a:lnTo>
                  <a:lnTo>
                    <a:pt x="1116" y="363"/>
                  </a:lnTo>
                  <a:lnTo>
                    <a:pt x="1111" y="232"/>
                  </a:lnTo>
                  <a:lnTo>
                    <a:pt x="1216" y="224"/>
                  </a:lnTo>
                  <a:lnTo>
                    <a:pt x="1207" y="140"/>
                  </a:lnTo>
                  <a:lnTo>
                    <a:pt x="1146" y="167"/>
                  </a:lnTo>
                  <a:lnTo>
                    <a:pt x="986" y="97"/>
                  </a:lnTo>
                  <a:lnTo>
                    <a:pt x="930" y="132"/>
                  </a:lnTo>
                  <a:lnTo>
                    <a:pt x="472" y="83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91240" y="2988000"/>
              <a:ext cx="624600" cy="583920"/>
            </a:xfrm>
            <a:custGeom>
              <a:avLst/>
              <a:gdLst/>
              <a:ahLst/>
              <a:rect l="l" t="t" r="r" b="b"/>
              <a:pathLst>
                <a:path w="1410" h="1320">
                  <a:moveTo>
                    <a:pt x="182" y="526"/>
                  </a:moveTo>
                  <a:lnTo>
                    <a:pt x="416" y="382"/>
                  </a:lnTo>
                  <a:lnTo>
                    <a:pt x="787" y="348"/>
                  </a:lnTo>
                  <a:lnTo>
                    <a:pt x="822" y="444"/>
                  </a:lnTo>
                  <a:lnTo>
                    <a:pt x="449" y="771"/>
                  </a:lnTo>
                  <a:lnTo>
                    <a:pt x="363" y="906"/>
                  </a:lnTo>
                  <a:lnTo>
                    <a:pt x="1043" y="631"/>
                  </a:lnTo>
                  <a:lnTo>
                    <a:pt x="649" y="1076"/>
                  </a:lnTo>
                  <a:lnTo>
                    <a:pt x="727" y="1037"/>
                  </a:lnTo>
                  <a:lnTo>
                    <a:pt x="791" y="1089"/>
                  </a:lnTo>
                  <a:lnTo>
                    <a:pt x="913" y="1181"/>
                  </a:lnTo>
                  <a:lnTo>
                    <a:pt x="1038" y="993"/>
                  </a:lnTo>
                  <a:lnTo>
                    <a:pt x="1206" y="967"/>
                  </a:lnTo>
                  <a:lnTo>
                    <a:pt x="1176" y="827"/>
                  </a:lnTo>
                  <a:lnTo>
                    <a:pt x="1326" y="713"/>
                  </a:lnTo>
                  <a:lnTo>
                    <a:pt x="1244" y="554"/>
                  </a:lnTo>
                  <a:lnTo>
                    <a:pt x="1327" y="449"/>
                  </a:lnTo>
                  <a:lnTo>
                    <a:pt x="1357" y="566"/>
                  </a:lnTo>
                  <a:lnTo>
                    <a:pt x="1357" y="749"/>
                  </a:lnTo>
                  <a:lnTo>
                    <a:pt x="1254" y="853"/>
                  </a:lnTo>
                  <a:lnTo>
                    <a:pt x="1259" y="940"/>
                  </a:lnTo>
                  <a:lnTo>
                    <a:pt x="1206" y="1054"/>
                  </a:lnTo>
                  <a:lnTo>
                    <a:pt x="1086" y="1067"/>
                  </a:lnTo>
                  <a:lnTo>
                    <a:pt x="995" y="1154"/>
                  </a:lnTo>
                  <a:lnTo>
                    <a:pt x="930" y="1220"/>
                  </a:lnTo>
                  <a:lnTo>
                    <a:pt x="817" y="1250"/>
                  </a:lnTo>
                  <a:lnTo>
                    <a:pt x="718" y="1128"/>
                  </a:lnTo>
                  <a:lnTo>
                    <a:pt x="614" y="1241"/>
                  </a:lnTo>
                  <a:lnTo>
                    <a:pt x="463" y="1250"/>
                  </a:lnTo>
                  <a:lnTo>
                    <a:pt x="667" y="1320"/>
                  </a:lnTo>
                  <a:lnTo>
                    <a:pt x="995" y="1276"/>
                  </a:lnTo>
                  <a:lnTo>
                    <a:pt x="1111" y="1258"/>
                  </a:lnTo>
                  <a:lnTo>
                    <a:pt x="1129" y="1185"/>
                  </a:lnTo>
                  <a:lnTo>
                    <a:pt x="1297" y="1094"/>
                  </a:lnTo>
                  <a:lnTo>
                    <a:pt x="1402" y="866"/>
                  </a:lnTo>
                  <a:lnTo>
                    <a:pt x="1410" y="592"/>
                  </a:lnTo>
                  <a:lnTo>
                    <a:pt x="1332" y="243"/>
                  </a:lnTo>
                  <a:lnTo>
                    <a:pt x="1164" y="256"/>
                  </a:lnTo>
                  <a:lnTo>
                    <a:pt x="813" y="130"/>
                  </a:lnTo>
                  <a:lnTo>
                    <a:pt x="449" y="65"/>
                  </a:lnTo>
                  <a:lnTo>
                    <a:pt x="333" y="0"/>
                  </a:lnTo>
                  <a:lnTo>
                    <a:pt x="208" y="90"/>
                  </a:lnTo>
                  <a:lnTo>
                    <a:pt x="121" y="178"/>
                  </a:lnTo>
                  <a:lnTo>
                    <a:pt x="135" y="273"/>
                  </a:lnTo>
                  <a:lnTo>
                    <a:pt x="78" y="287"/>
                  </a:lnTo>
                  <a:lnTo>
                    <a:pt x="26" y="360"/>
                  </a:lnTo>
                  <a:lnTo>
                    <a:pt x="26" y="469"/>
                  </a:lnTo>
                  <a:lnTo>
                    <a:pt x="60" y="548"/>
                  </a:lnTo>
                  <a:lnTo>
                    <a:pt x="5" y="583"/>
                  </a:lnTo>
                  <a:lnTo>
                    <a:pt x="0" y="675"/>
                  </a:lnTo>
                  <a:lnTo>
                    <a:pt x="60" y="744"/>
                  </a:lnTo>
                  <a:lnTo>
                    <a:pt x="147" y="684"/>
                  </a:lnTo>
                  <a:lnTo>
                    <a:pt x="138" y="570"/>
                  </a:lnTo>
                  <a:lnTo>
                    <a:pt x="182" y="526"/>
                  </a:lnTo>
                  <a:lnTo>
                    <a:pt x="182" y="52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99160" y="2977200"/>
              <a:ext cx="582480" cy="359640"/>
            </a:xfrm>
            <a:custGeom>
              <a:avLst/>
              <a:gdLst/>
              <a:ahLst/>
              <a:rect l="l" t="t" r="r" b="b"/>
              <a:pathLst>
                <a:path w="1315" h="815">
                  <a:moveTo>
                    <a:pt x="83" y="815"/>
                  </a:moveTo>
                  <a:lnTo>
                    <a:pt x="151" y="701"/>
                  </a:lnTo>
                  <a:lnTo>
                    <a:pt x="121" y="596"/>
                  </a:lnTo>
                  <a:lnTo>
                    <a:pt x="151" y="475"/>
                  </a:lnTo>
                  <a:lnTo>
                    <a:pt x="238" y="413"/>
                  </a:lnTo>
                  <a:lnTo>
                    <a:pt x="234" y="344"/>
                  </a:lnTo>
                  <a:lnTo>
                    <a:pt x="286" y="222"/>
                  </a:lnTo>
                  <a:lnTo>
                    <a:pt x="411" y="170"/>
                  </a:lnTo>
                  <a:lnTo>
                    <a:pt x="524" y="269"/>
                  </a:lnTo>
                  <a:lnTo>
                    <a:pt x="667" y="187"/>
                  </a:lnTo>
                  <a:lnTo>
                    <a:pt x="770" y="257"/>
                  </a:lnTo>
                  <a:lnTo>
                    <a:pt x="839" y="334"/>
                  </a:lnTo>
                  <a:lnTo>
                    <a:pt x="904" y="326"/>
                  </a:lnTo>
                  <a:lnTo>
                    <a:pt x="1004" y="274"/>
                  </a:lnTo>
                  <a:lnTo>
                    <a:pt x="1051" y="296"/>
                  </a:lnTo>
                  <a:lnTo>
                    <a:pt x="1021" y="421"/>
                  </a:lnTo>
                  <a:lnTo>
                    <a:pt x="1094" y="487"/>
                  </a:lnTo>
                  <a:lnTo>
                    <a:pt x="1194" y="530"/>
                  </a:lnTo>
                  <a:lnTo>
                    <a:pt x="1285" y="470"/>
                  </a:lnTo>
                  <a:lnTo>
                    <a:pt x="1155" y="408"/>
                  </a:lnTo>
                  <a:lnTo>
                    <a:pt x="1259" y="348"/>
                  </a:lnTo>
                  <a:lnTo>
                    <a:pt x="1315" y="269"/>
                  </a:lnTo>
                  <a:lnTo>
                    <a:pt x="1129" y="243"/>
                  </a:lnTo>
                  <a:lnTo>
                    <a:pt x="1012" y="130"/>
                  </a:lnTo>
                  <a:lnTo>
                    <a:pt x="908" y="160"/>
                  </a:lnTo>
                  <a:lnTo>
                    <a:pt x="758" y="125"/>
                  </a:lnTo>
                  <a:lnTo>
                    <a:pt x="723" y="54"/>
                  </a:lnTo>
                  <a:lnTo>
                    <a:pt x="619" y="95"/>
                  </a:lnTo>
                  <a:lnTo>
                    <a:pt x="432" y="91"/>
                  </a:lnTo>
                  <a:lnTo>
                    <a:pt x="335" y="0"/>
                  </a:lnTo>
                  <a:lnTo>
                    <a:pt x="269" y="26"/>
                  </a:lnTo>
                  <a:lnTo>
                    <a:pt x="307" y="81"/>
                  </a:lnTo>
                  <a:lnTo>
                    <a:pt x="226" y="143"/>
                  </a:lnTo>
                  <a:lnTo>
                    <a:pt x="173" y="225"/>
                  </a:lnTo>
                  <a:lnTo>
                    <a:pt x="199" y="361"/>
                  </a:lnTo>
                  <a:lnTo>
                    <a:pt x="91" y="396"/>
                  </a:lnTo>
                  <a:lnTo>
                    <a:pt x="43" y="421"/>
                  </a:lnTo>
                  <a:lnTo>
                    <a:pt x="35" y="483"/>
                  </a:lnTo>
                  <a:lnTo>
                    <a:pt x="78" y="548"/>
                  </a:lnTo>
                  <a:lnTo>
                    <a:pt x="74" y="609"/>
                  </a:lnTo>
                  <a:lnTo>
                    <a:pt x="5" y="679"/>
                  </a:lnTo>
                  <a:lnTo>
                    <a:pt x="0" y="745"/>
                  </a:lnTo>
                  <a:lnTo>
                    <a:pt x="83" y="815"/>
                  </a:lnTo>
                  <a:lnTo>
                    <a:pt x="83" y="815"/>
                  </a:lnTo>
                  <a:close/>
                </a:path>
              </a:pathLst>
            </a:custGeom>
            <a:solidFill>
              <a:srgbClr val="c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93760" y="3338640"/>
              <a:ext cx="622080" cy="258840"/>
            </a:xfrm>
            <a:custGeom>
              <a:avLst/>
              <a:gdLst/>
              <a:ahLst/>
              <a:rect l="l" t="t" r="r" b="b"/>
              <a:pathLst>
                <a:path w="1405" h="585">
                  <a:moveTo>
                    <a:pt x="211" y="354"/>
                  </a:moveTo>
                  <a:lnTo>
                    <a:pt x="190" y="441"/>
                  </a:lnTo>
                  <a:lnTo>
                    <a:pt x="376" y="541"/>
                  </a:lnTo>
                  <a:lnTo>
                    <a:pt x="639" y="585"/>
                  </a:lnTo>
                  <a:lnTo>
                    <a:pt x="860" y="585"/>
                  </a:lnTo>
                  <a:lnTo>
                    <a:pt x="1071" y="510"/>
                  </a:lnTo>
                  <a:lnTo>
                    <a:pt x="1162" y="536"/>
                  </a:lnTo>
                  <a:lnTo>
                    <a:pt x="1128" y="414"/>
                  </a:lnTo>
                  <a:lnTo>
                    <a:pt x="1305" y="267"/>
                  </a:lnTo>
                  <a:lnTo>
                    <a:pt x="1405" y="0"/>
                  </a:lnTo>
                  <a:lnTo>
                    <a:pt x="1297" y="188"/>
                  </a:lnTo>
                  <a:lnTo>
                    <a:pt x="1124" y="327"/>
                  </a:lnTo>
                  <a:lnTo>
                    <a:pt x="925" y="428"/>
                  </a:lnTo>
                  <a:lnTo>
                    <a:pt x="752" y="488"/>
                  </a:lnTo>
                  <a:lnTo>
                    <a:pt x="587" y="466"/>
                  </a:lnTo>
                  <a:lnTo>
                    <a:pt x="358" y="376"/>
                  </a:lnTo>
                  <a:lnTo>
                    <a:pt x="173" y="267"/>
                  </a:lnTo>
                  <a:lnTo>
                    <a:pt x="0" y="106"/>
                  </a:lnTo>
                  <a:lnTo>
                    <a:pt x="102" y="282"/>
                  </a:lnTo>
                  <a:lnTo>
                    <a:pt x="211" y="354"/>
                  </a:lnTo>
                  <a:lnTo>
                    <a:pt x="211" y="35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58920" y="3572280"/>
              <a:ext cx="524880" cy="416880"/>
            </a:xfrm>
            <a:custGeom>
              <a:avLst/>
              <a:gdLst/>
              <a:ahLst/>
              <a:rect l="l" t="t" r="r" b="b"/>
              <a:pathLst>
                <a:path w="1185" h="942">
                  <a:moveTo>
                    <a:pt x="26" y="47"/>
                  </a:moveTo>
                  <a:lnTo>
                    <a:pt x="0" y="166"/>
                  </a:lnTo>
                  <a:lnTo>
                    <a:pt x="64" y="148"/>
                  </a:lnTo>
                  <a:lnTo>
                    <a:pt x="116" y="283"/>
                  </a:lnTo>
                  <a:lnTo>
                    <a:pt x="151" y="349"/>
                  </a:lnTo>
                  <a:lnTo>
                    <a:pt x="202" y="332"/>
                  </a:lnTo>
                  <a:lnTo>
                    <a:pt x="250" y="257"/>
                  </a:lnTo>
                  <a:lnTo>
                    <a:pt x="315" y="240"/>
                  </a:lnTo>
                  <a:lnTo>
                    <a:pt x="341" y="357"/>
                  </a:lnTo>
                  <a:lnTo>
                    <a:pt x="380" y="384"/>
                  </a:lnTo>
                  <a:lnTo>
                    <a:pt x="337" y="571"/>
                  </a:lnTo>
                  <a:lnTo>
                    <a:pt x="341" y="759"/>
                  </a:lnTo>
                  <a:lnTo>
                    <a:pt x="337" y="854"/>
                  </a:lnTo>
                  <a:lnTo>
                    <a:pt x="354" y="893"/>
                  </a:lnTo>
                  <a:lnTo>
                    <a:pt x="380" y="858"/>
                  </a:lnTo>
                  <a:lnTo>
                    <a:pt x="437" y="392"/>
                  </a:lnTo>
                  <a:lnTo>
                    <a:pt x="484" y="340"/>
                  </a:lnTo>
                  <a:lnTo>
                    <a:pt x="535" y="479"/>
                  </a:lnTo>
                  <a:lnTo>
                    <a:pt x="605" y="920"/>
                  </a:lnTo>
                  <a:lnTo>
                    <a:pt x="639" y="942"/>
                  </a:lnTo>
                  <a:lnTo>
                    <a:pt x="696" y="893"/>
                  </a:lnTo>
                  <a:lnTo>
                    <a:pt x="816" y="763"/>
                  </a:lnTo>
                  <a:lnTo>
                    <a:pt x="1072" y="902"/>
                  </a:lnTo>
                  <a:lnTo>
                    <a:pt x="1185" y="888"/>
                  </a:lnTo>
                  <a:lnTo>
                    <a:pt x="1128" y="823"/>
                  </a:lnTo>
                  <a:lnTo>
                    <a:pt x="934" y="719"/>
                  </a:lnTo>
                  <a:lnTo>
                    <a:pt x="813" y="658"/>
                  </a:lnTo>
                  <a:lnTo>
                    <a:pt x="743" y="680"/>
                  </a:lnTo>
                  <a:lnTo>
                    <a:pt x="665" y="781"/>
                  </a:lnTo>
                  <a:lnTo>
                    <a:pt x="592" y="597"/>
                  </a:lnTo>
                  <a:lnTo>
                    <a:pt x="535" y="357"/>
                  </a:lnTo>
                  <a:lnTo>
                    <a:pt x="600" y="366"/>
                  </a:lnTo>
                  <a:lnTo>
                    <a:pt x="653" y="327"/>
                  </a:lnTo>
                  <a:lnTo>
                    <a:pt x="696" y="261"/>
                  </a:lnTo>
                  <a:lnTo>
                    <a:pt x="799" y="335"/>
                  </a:lnTo>
                  <a:lnTo>
                    <a:pt x="891" y="375"/>
                  </a:lnTo>
                  <a:lnTo>
                    <a:pt x="924" y="332"/>
                  </a:lnTo>
                  <a:lnTo>
                    <a:pt x="964" y="223"/>
                  </a:lnTo>
                  <a:lnTo>
                    <a:pt x="951" y="139"/>
                  </a:lnTo>
                  <a:lnTo>
                    <a:pt x="816" y="82"/>
                  </a:lnTo>
                  <a:lnTo>
                    <a:pt x="843" y="243"/>
                  </a:lnTo>
                  <a:lnTo>
                    <a:pt x="623" y="136"/>
                  </a:lnTo>
                  <a:lnTo>
                    <a:pt x="535" y="240"/>
                  </a:lnTo>
                  <a:lnTo>
                    <a:pt x="445" y="100"/>
                  </a:lnTo>
                  <a:lnTo>
                    <a:pt x="345" y="205"/>
                  </a:lnTo>
                  <a:lnTo>
                    <a:pt x="264" y="47"/>
                  </a:lnTo>
                  <a:lnTo>
                    <a:pt x="121" y="191"/>
                  </a:lnTo>
                  <a:lnTo>
                    <a:pt x="134" y="8"/>
                  </a:lnTo>
                  <a:lnTo>
                    <a:pt x="99" y="0"/>
                  </a:lnTo>
                  <a:lnTo>
                    <a:pt x="26" y="47"/>
                  </a:lnTo>
                  <a:lnTo>
                    <a:pt x="26" y="4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69640" y="3831120"/>
              <a:ext cx="211320" cy="128880"/>
            </a:xfrm>
            <a:custGeom>
              <a:avLst/>
              <a:gdLst/>
              <a:ahLst/>
              <a:rect l="l" t="t" r="r" b="b"/>
              <a:pathLst>
                <a:path w="476" h="292">
                  <a:moveTo>
                    <a:pt x="0" y="266"/>
                  </a:moveTo>
                  <a:lnTo>
                    <a:pt x="87" y="200"/>
                  </a:lnTo>
                  <a:lnTo>
                    <a:pt x="211" y="99"/>
                  </a:lnTo>
                  <a:lnTo>
                    <a:pt x="342" y="0"/>
                  </a:lnTo>
                  <a:lnTo>
                    <a:pt x="411" y="21"/>
                  </a:lnTo>
                  <a:lnTo>
                    <a:pt x="442" y="152"/>
                  </a:lnTo>
                  <a:lnTo>
                    <a:pt x="476" y="222"/>
                  </a:lnTo>
                  <a:lnTo>
                    <a:pt x="407" y="170"/>
                  </a:lnTo>
                  <a:lnTo>
                    <a:pt x="338" y="65"/>
                  </a:lnTo>
                  <a:lnTo>
                    <a:pt x="260" y="179"/>
                  </a:lnTo>
                  <a:lnTo>
                    <a:pt x="108" y="270"/>
                  </a:lnTo>
                  <a:lnTo>
                    <a:pt x="48" y="292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98000" y="3642840"/>
              <a:ext cx="70200" cy="200520"/>
            </a:xfrm>
            <a:custGeom>
              <a:avLst/>
              <a:gdLst/>
              <a:ahLst/>
              <a:rect l="l" t="t" r="r" b="b"/>
              <a:pathLst>
                <a:path w="159" h="454">
                  <a:moveTo>
                    <a:pt x="0" y="0"/>
                  </a:moveTo>
                  <a:lnTo>
                    <a:pt x="59" y="81"/>
                  </a:lnTo>
                  <a:lnTo>
                    <a:pt x="142" y="87"/>
                  </a:lnTo>
                  <a:lnTo>
                    <a:pt x="102" y="161"/>
                  </a:lnTo>
                  <a:lnTo>
                    <a:pt x="159" y="174"/>
                  </a:lnTo>
                  <a:lnTo>
                    <a:pt x="9" y="454"/>
                  </a:lnTo>
                  <a:lnTo>
                    <a:pt x="3" y="18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74520" y="3515040"/>
              <a:ext cx="296280" cy="372960"/>
            </a:xfrm>
            <a:custGeom>
              <a:avLst/>
              <a:gdLst/>
              <a:ahLst/>
              <a:rect l="l" t="t" r="r" b="b"/>
              <a:pathLst>
                <a:path w="670" h="842">
                  <a:moveTo>
                    <a:pt x="248" y="0"/>
                  </a:moveTo>
                  <a:lnTo>
                    <a:pt x="218" y="70"/>
                  </a:lnTo>
                  <a:lnTo>
                    <a:pt x="222" y="137"/>
                  </a:lnTo>
                  <a:lnTo>
                    <a:pt x="189" y="207"/>
                  </a:lnTo>
                  <a:lnTo>
                    <a:pt x="212" y="256"/>
                  </a:lnTo>
                  <a:lnTo>
                    <a:pt x="166" y="263"/>
                  </a:lnTo>
                  <a:lnTo>
                    <a:pt x="82" y="260"/>
                  </a:lnTo>
                  <a:lnTo>
                    <a:pt x="0" y="301"/>
                  </a:lnTo>
                  <a:lnTo>
                    <a:pt x="63" y="294"/>
                  </a:lnTo>
                  <a:lnTo>
                    <a:pt x="186" y="311"/>
                  </a:lnTo>
                  <a:lnTo>
                    <a:pt x="198" y="421"/>
                  </a:lnTo>
                  <a:lnTo>
                    <a:pt x="222" y="618"/>
                  </a:lnTo>
                  <a:lnTo>
                    <a:pt x="248" y="842"/>
                  </a:lnTo>
                  <a:lnTo>
                    <a:pt x="298" y="761"/>
                  </a:lnTo>
                  <a:lnTo>
                    <a:pt x="414" y="718"/>
                  </a:lnTo>
                  <a:lnTo>
                    <a:pt x="497" y="597"/>
                  </a:lnTo>
                  <a:lnTo>
                    <a:pt x="584" y="531"/>
                  </a:lnTo>
                  <a:lnTo>
                    <a:pt x="620" y="501"/>
                  </a:lnTo>
                  <a:lnTo>
                    <a:pt x="670" y="220"/>
                  </a:lnTo>
                  <a:lnTo>
                    <a:pt x="570" y="214"/>
                  </a:lnTo>
                  <a:lnTo>
                    <a:pt x="484" y="411"/>
                  </a:lnTo>
                  <a:lnTo>
                    <a:pt x="345" y="638"/>
                  </a:lnTo>
                  <a:lnTo>
                    <a:pt x="311" y="681"/>
                  </a:lnTo>
                  <a:lnTo>
                    <a:pt x="298" y="611"/>
                  </a:lnTo>
                  <a:lnTo>
                    <a:pt x="286" y="320"/>
                  </a:lnTo>
                  <a:lnTo>
                    <a:pt x="275" y="240"/>
                  </a:lnTo>
                  <a:lnTo>
                    <a:pt x="298" y="130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0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46440" y="2873520"/>
              <a:ext cx="346680" cy="195120"/>
            </a:xfrm>
            <a:custGeom>
              <a:avLst/>
              <a:gdLst/>
              <a:ahLst/>
              <a:rect l="l" t="t" r="r" b="b"/>
              <a:pathLst>
                <a:path w="783" h="442">
                  <a:moveTo>
                    <a:pt x="0" y="10"/>
                  </a:moveTo>
                  <a:lnTo>
                    <a:pt x="40" y="0"/>
                  </a:lnTo>
                  <a:lnTo>
                    <a:pt x="232" y="197"/>
                  </a:lnTo>
                  <a:lnTo>
                    <a:pt x="431" y="337"/>
                  </a:lnTo>
                  <a:lnTo>
                    <a:pt x="272" y="137"/>
                  </a:lnTo>
                  <a:lnTo>
                    <a:pt x="404" y="257"/>
                  </a:lnTo>
                  <a:lnTo>
                    <a:pt x="428" y="131"/>
                  </a:lnTo>
                  <a:lnTo>
                    <a:pt x="315" y="74"/>
                  </a:lnTo>
                  <a:lnTo>
                    <a:pt x="315" y="30"/>
                  </a:lnTo>
                  <a:lnTo>
                    <a:pt x="487" y="71"/>
                  </a:lnTo>
                  <a:lnTo>
                    <a:pt x="574" y="71"/>
                  </a:lnTo>
                  <a:lnTo>
                    <a:pt x="660" y="97"/>
                  </a:lnTo>
                  <a:lnTo>
                    <a:pt x="783" y="147"/>
                  </a:lnTo>
                  <a:lnTo>
                    <a:pt x="746" y="241"/>
                  </a:lnTo>
                  <a:lnTo>
                    <a:pt x="723" y="307"/>
                  </a:lnTo>
                  <a:lnTo>
                    <a:pt x="613" y="337"/>
                  </a:lnTo>
                  <a:lnTo>
                    <a:pt x="606" y="417"/>
                  </a:lnTo>
                  <a:lnTo>
                    <a:pt x="477" y="442"/>
                  </a:lnTo>
                  <a:lnTo>
                    <a:pt x="361" y="424"/>
                  </a:lnTo>
                  <a:lnTo>
                    <a:pt x="183" y="275"/>
                  </a:lnTo>
                  <a:lnTo>
                    <a:pt x="10" y="6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e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22600" y="2860200"/>
              <a:ext cx="443880" cy="211320"/>
            </a:xfrm>
            <a:custGeom>
              <a:avLst/>
              <a:gdLst/>
              <a:ahLst/>
              <a:rect l="l" t="t" r="r" b="b"/>
              <a:pathLst>
                <a:path w="1001" h="478">
                  <a:moveTo>
                    <a:pt x="89" y="305"/>
                  </a:moveTo>
                  <a:lnTo>
                    <a:pt x="53" y="124"/>
                  </a:lnTo>
                  <a:lnTo>
                    <a:pt x="0" y="26"/>
                  </a:lnTo>
                  <a:lnTo>
                    <a:pt x="26" y="7"/>
                  </a:lnTo>
                  <a:lnTo>
                    <a:pt x="148" y="0"/>
                  </a:lnTo>
                  <a:lnTo>
                    <a:pt x="278" y="40"/>
                  </a:lnTo>
                  <a:lnTo>
                    <a:pt x="437" y="227"/>
                  </a:lnTo>
                  <a:lnTo>
                    <a:pt x="627" y="378"/>
                  </a:lnTo>
                  <a:lnTo>
                    <a:pt x="722" y="431"/>
                  </a:lnTo>
                  <a:lnTo>
                    <a:pt x="742" y="358"/>
                  </a:lnTo>
                  <a:lnTo>
                    <a:pt x="636" y="257"/>
                  </a:lnTo>
                  <a:lnTo>
                    <a:pt x="679" y="227"/>
                  </a:lnTo>
                  <a:lnTo>
                    <a:pt x="670" y="191"/>
                  </a:lnTo>
                  <a:lnTo>
                    <a:pt x="606" y="117"/>
                  </a:lnTo>
                  <a:lnTo>
                    <a:pt x="716" y="131"/>
                  </a:lnTo>
                  <a:lnTo>
                    <a:pt x="848" y="181"/>
                  </a:lnTo>
                  <a:lnTo>
                    <a:pt x="934" y="298"/>
                  </a:lnTo>
                  <a:lnTo>
                    <a:pt x="1001" y="324"/>
                  </a:lnTo>
                  <a:lnTo>
                    <a:pt x="884" y="447"/>
                  </a:lnTo>
                  <a:lnTo>
                    <a:pt x="852" y="428"/>
                  </a:lnTo>
                  <a:lnTo>
                    <a:pt x="736" y="478"/>
                  </a:lnTo>
                  <a:lnTo>
                    <a:pt x="639" y="435"/>
                  </a:lnTo>
                  <a:lnTo>
                    <a:pt x="427" y="318"/>
                  </a:lnTo>
                  <a:lnTo>
                    <a:pt x="318" y="181"/>
                  </a:lnTo>
                  <a:lnTo>
                    <a:pt x="218" y="230"/>
                  </a:lnTo>
                  <a:lnTo>
                    <a:pt x="146" y="280"/>
                  </a:lnTo>
                  <a:lnTo>
                    <a:pt x="89" y="305"/>
                  </a:lnTo>
                  <a:lnTo>
                    <a:pt x="89" y="305"/>
                  </a:lnTo>
                  <a:close/>
                </a:path>
              </a:pathLst>
            </a:custGeom>
            <a:solidFill>
              <a:srgbClr val="8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26560" y="2950560"/>
              <a:ext cx="164880" cy="141840"/>
            </a:xfrm>
            <a:custGeom>
              <a:avLst/>
              <a:gdLst/>
              <a:ahLst/>
              <a:rect l="l" t="t" r="r" b="b"/>
              <a:pathLst>
                <a:path w="370" h="321">
                  <a:moveTo>
                    <a:pt x="56" y="314"/>
                  </a:moveTo>
                  <a:lnTo>
                    <a:pt x="0" y="257"/>
                  </a:lnTo>
                  <a:lnTo>
                    <a:pt x="36" y="167"/>
                  </a:lnTo>
                  <a:lnTo>
                    <a:pt x="115" y="151"/>
                  </a:lnTo>
                  <a:lnTo>
                    <a:pt x="192" y="156"/>
                  </a:lnTo>
                  <a:lnTo>
                    <a:pt x="159" y="124"/>
                  </a:lnTo>
                  <a:lnTo>
                    <a:pt x="231" y="71"/>
                  </a:lnTo>
                  <a:lnTo>
                    <a:pt x="165" y="60"/>
                  </a:lnTo>
                  <a:lnTo>
                    <a:pt x="242" y="0"/>
                  </a:lnTo>
                  <a:lnTo>
                    <a:pt x="322" y="3"/>
                  </a:lnTo>
                  <a:lnTo>
                    <a:pt x="370" y="154"/>
                  </a:lnTo>
                  <a:lnTo>
                    <a:pt x="351" y="291"/>
                  </a:lnTo>
                  <a:lnTo>
                    <a:pt x="106" y="190"/>
                  </a:lnTo>
                  <a:lnTo>
                    <a:pt x="82" y="321"/>
                  </a:lnTo>
                  <a:lnTo>
                    <a:pt x="56" y="314"/>
                  </a:lnTo>
                  <a:lnTo>
                    <a:pt x="56" y="314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46720" y="2940120"/>
              <a:ext cx="285480" cy="167400"/>
            </a:xfrm>
            <a:custGeom>
              <a:avLst/>
              <a:gdLst/>
              <a:ahLst/>
              <a:rect l="l" t="t" r="r" b="b"/>
              <a:pathLst>
                <a:path w="646" h="377">
                  <a:moveTo>
                    <a:pt x="29" y="297"/>
                  </a:moveTo>
                  <a:lnTo>
                    <a:pt x="0" y="230"/>
                  </a:lnTo>
                  <a:lnTo>
                    <a:pt x="49" y="193"/>
                  </a:lnTo>
                  <a:lnTo>
                    <a:pt x="139" y="204"/>
                  </a:lnTo>
                  <a:lnTo>
                    <a:pt x="261" y="284"/>
                  </a:lnTo>
                  <a:lnTo>
                    <a:pt x="222" y="204"/>
                  </a:lnTo>
                  <a:lnTo>
                    <a:pt x="145" y="137"/>
                  </a:lnTo>
                  <a:lnTo>
                    <a:pt x="195" y="117"/>
                  </a:lnTo>
                  <a:lnTo>
                    <a:pt x="281" y="133"/>
                  </a:lnTo>
                  <a:lnTo>
                    <a:pt x="248" y="60"/>
                  </a:lnTo>
                  <a:lnTo>
                    <a:pt x="165" y="33"/>
                  </a:lnTo>
                  <a:lnTo>
                    <a:pt x="279" y="0"/>
                  </a:lnTo>
                  <a:lnTo>
                    <a:pt x="368" y="90"/>
                  </a:lnTo>
                  <a:lnTo>
                    <a:pt x="504" y="224"/>
                  </a:lnTo>
                  <a:lnTo>
                    <a:pt x="646" y="293"/>
                  </a:lnTo>
                  <a:lnTo>
                    <a:pt x="547" y="317"/>
                  </a:lnTo>
                  <a:lnTo>
                    <a:pt x="513" y="367"/>
                  </a:lnTo>
                  <a:lnTo>
                    <a:pt x="388" y="377"/>
                  </a:lnTo>
                  <a:lnTo>
                    <a:pt x="218" y="320"/>
                  </a:lnTo>
                  <a:lnTo>
                    <a:pt x="86" y="250"/>
                  </a:lnTo>
                  <a:lnTo>
                    <a:pt x="56" y="243"/>
                  </a:lnTo>
                  <a:lnTo>
                    <a:pt x="46" y="311"/>
                  </a:lnTo>
                  <a:lnTo>
                    <a:pt x="29" y="297"/>
                  </a:lnTo>
                  <a:lnTo>
                    <a:pt x="29" y="297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64000" y="3047760"/>
              <a:ext cx="424080" cy="541800"/>
            </a:xfrm>
            <a:custGeom>
              <a:avLst/>
              <a:gdLst/>
              <a:ahLst/>
              <a:rect l="l" t="t" r="r" b="b"/>
              <a:pathLst>
                <a:path w="958" h="1224">
                  <a:moveTo>
                    <a:pt x="17" y="0"/>
                  </a:moveTo>
                  <a:lnTo>
                    <a:pt x="0" y="101"/>
                  </a:lnTo>
                  <a:lnTo>
                    <a:pt x="43" y="137"/>
                  </a:lnTo>
                  <a:lnTo>
                    <a:pt x="24" y="204"/>
                  </a:lnTo>
                  <a:lnTo>
                    <a:pt x="86" y="221"/>
                  </a:lnTo>
                  <a:lnTo>
                    <a:pt x="110" y="281"/>
                  </a:lnTo>
                  <a:lnTo>
                    <a:pt x="40" y="302"/>
                  </a:lnTo>
                  <a:lnTo>
                    <a:pt x="100" y="384"/>
                  </a:lnTo>
                  <a:lnTo>
                    <a:pt x="86" y="478"/>
                  </a:lnTo>
                  <a:lnTo>
                    <a:pt x="117" y="572"/>
                  </a:lnTo>
                  <a:lnTo>
                    <a:pt x="216" y="686"/>
                  </a:lnTo>
                  <a:lnTo>
                    <a:pt x="226" y="725"/>
                  </a:lnTo>
                  <a:lnTo>
                    <a:pt x="285" y="743"/>
                  </a:lnTo>
                  <a:lnTo>
                    <a:pt x="259" y="823"/>
                  </a:lnTo>
                  <a:lnTo>
                    <a:pt x="262" y="890"/>
                  </a:lnTo>
                  <a:lnTo>
                    <a:pt x="345" y="956"/>
                  </a:lnTo>
                  <a:lnTo>
                    <a:pt x="411" y="956"/>
                  </a:lnTo>
                  <a:lnTo>
                    <a:pt x="454" y="1009"/>
                  </a:lnTo>
                  <a:lnTo>
                    <a:pt x="583" y="1087"/>
                  </a:lnTo>
                  <a:lnTo>
                    <a:pt x="723" y="1116"/>
                  </a:lnTo>
                  <a:lnTo>
                    <a:pt x="783" y="1177"/>
                  </a:lnTo>
                  <a:lnTo>
                    <a:pt x="839" y="1224"/>
                  </a:lnTo>
                  <a:lnTo>
                    <a:pt x="958" y="1043"/>
                  </a:lnTo>
                  <a:lnTo>
                    <a:pt x="773" y="849"/>
                  </a:lnTo>
                  <a:lnTo>
                    <a:pt x="713" y="702"/>
                  </a:lnTo>
                  <a:lnTo>
                    <a:pt x="676" y="371"/>
                  </a:lnTo>
                  <a:lnTo>
                    <a:pt x="540" y="348"/>
                  </a:lnTo>
                  <a:lnTo>
                    <a:pt x="451" y="242"/>
                  </a:lnTo>
                  <a:lnTo>
                    <a:pt x="474" y="124"/>
                  </a:lnTo>
                  <a:lnTo>
                    <a:pt x="326" y="130"/>
                  </a:lnTo>
                  <a:lnTo>
                    <a:pt x="179" y="94"/>
                  </a:lnTo>
                  <a:lnTo>
                    <a:pt x="63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75320" y="3072960"/>
              <a:ext cx="131400" cy="139320"/>
            </a:xfrm>
            <a:custGeom>
              <a:avLst/>
              <a:gdLst/>
              <a:ahLst/>
              <a:rect l="l" t="t" r="r" b="b"/>
              <a:pathLst>
                <a:path w="298" h="314">
                  <a:moveTo>
                    <a:pt x="198" y="314"/>
                  </a:moveTo>
                  <a:lnTo>
                    <a:pt x="96" y="311"/>
                  </a:lnTo>
                  <a:lnTo>
                    <a:pt x="12" y="234"/>
                  </a:lnTo>
                  <a:lnTo>
                    <a:pt x="0" y="140"/>
                  </a:lnTo>
                  <a:lnTo>
                    <a:pt x="80" y="73"/>
                  </a:lnTo>
                  <a:lnTo>
                    <a:pt x="105" y="71"/>
                  </a:lnTo>
                  <a:lnTo>
                    <a:pt x="152" y="87"/>
                  </a:lnTo>
                  <a:lnTo>
                    <a:pt x="216" y="67"/>
                  </a:lnTo>
                  <a:lnTo>
                    <a:pt x="228" y="37"/>
                  </a:lnTo>
                  <a:lnTo>
                    <a:pt x="298" y="0"/>
                  </a:lnTo>
                  <a:lnTo>
                    <a:pt x="221" y="220"/>
                  </a:lnTo>
                  <a:lnTo>
                    <a:pt x="198" y="314"/>
                  </a:lnTo>
                  <a:lnTo>
                    <a:pt x="198" y="314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86640" y="2902680"/>
              <a:ext cx="213840" cy="114120"/>
            </a:xfrm>
            <a:custGeom>
              <a:avLst/>
              <a:gdLst/>
              <a:ahLst/>
              <a:rect l="l" t="t" r="r" b="b"/>
              <a:pathLst>
                <a:path w="484" h="258">
                  <a:moveTo>
                    <a:pt x="0" y="201"/>
                  </a:moveTo>
                  <a:lnTo>
                    <a:pt x="34" y="123"/>
                  </a:lnTo>
                  <a:lnTo>
                    <a:pt x="93" y="57"/>
                  </a:lnTo>
                  <a:lnTo>
                    <a:pt x="109" y="96"/>
                  </a:lnTo>
                  <a:lnTo>
                    <a:pt x="146" y="27"/>
                  </a:lnTo>
                  <a:lnTo>
                    <a:pt x="169" y="0"/>
                  </a:lnTo>
                  <a:lnTo>
                    <a:pt x="229" y="16"/>
                  </a:lnTo>
                  <a:lnTo>
                    <a:pt x="262" y="64"/>
                  </a:lnTo>
                  <a:lnTo>
                    <a:pt x="291" y="103"/>
                  </a:lnTo>
                  <a:lnTo>
                    <a:pt x="361" y="96"/>
                  </a:lnTo>
                  <a:lnTo>
                    <a:pt x="431" y="80"/>
                  </a:lnTo>
                  <a:lnTo>
                    <a:pt x="468" y="120"/>
                  </a:lnTo>
                  <a:lnTo>
                    <a:pt x="484" y="214"/>
                  </a:lnTo>
                  <a:lnTo>
                    <a:pt x="379" y="258"/>
                  </a:lnTo>
                  <a:lnTo>
                    <a:pt x="229" y="234"/>
                  </a:lnTo>
                  <a:lnTo>
                    <a:pt x="136" y="167"/>
                  </a:lnTo>
                  <a:lnTo>
                    <a:pt x="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91480" y="2908080"/>
              <a:ext cx="148680" cy="135360"/>
            </a:xfrm>
            <a:custGeom>
              <a:avLst/>
              <a:gdLst/>
              <a:ahLst/>
              <a:rect l="l" t="t" r="r" b="b"/>
              <a:pathLst>
                <a:path w="338" h="306">
                  <a:moveTo>
                    <a:pt x="0" y="0"/>
                  </a:moveTo>
                  <a:lnTo>
                    <a:pt x="63" y="12"/>
                  </a:lnTo>
                  <a:lnTo>
                    <a:pt x="96" y="35"/>
                  </a:lnTo>
                  <a:lnTo>
                    <a:pt x="113" y="80"/>
                  </a:lnTo>
                  <a:lnTo>
                    <a:pt x="146" y="156"/>
                  </a:lnTo>
                  <a:lnTo>
                    <a:pt x="232" y="176"/>
                  </a:lnTo>
                  <a:lnTo>
                    <a:pt x="311" y="160"/>
                  </a:lnTo>
                  <a:lnTo>
                    <a:pt x="338" y="213"/>
                  </a:lnTo>
                  <a:lnTo>
                    <a:pt x="295" y="306"/>
                  </a:lnTo>
                  <a:lnTo>
                    <a:pt x="139" y="273"/>
                  </a:lnTo>
                  <a:lnTo>
                    <a:pt x="86" y="263"/>
                  </a:lnTo>
                  <a:lnTo>
                    <a:pt x="63" y="210"/>
                  </a:lnTo>
                  <a:lnTo>
                    <a:pt x="56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50960" y="2952000"/>
              <a:ext cx="123480" cy="133920"/>
            </a:xfrm>
            <a:custGeom>
              <a:avLst/>
              <a:gdLst/>
              <a:ahLst/>
              <a:rect l="l" t="t" r="r" b="b"/>
              <a:pathLst>
                <a:path w="279" h="304">
                  <a:moveTo>
                    <a:pt x="0" y="0"/>
                  </a:moveTo>
                  <a:lnTo>
                    <a:pt x="50" y="20"/>
                  </a:lnTo>
                  <a:lnTo>
                    <a:pt x="73" y="104"/>
                  </a:lnTo>
                  <a:lnTo>
                    <a:pt x="103" y="148"/>
                  </a:lnTo>
                  <a:lnTo>
                    <a:pt x="196" y="167"/>
                  </a:lnTo>
                  <a:lnTo>
                    <a:pt x="256" y="157"/>
                  </a:lnTo>
                  <a:lnTo>
                    <a:pt x="275" y="201"/>
                  </a:lnTo>
                  <a:lnTo>
                    <a:pt x="279" y="251"/>
                  </a:lnTo>
                  <a:lnTo>
                    <a:pt x="225" y="304"/>
                  </a:lnTo>
                  <a:lnTo>
                    <a:pt x="86" y="274"/>
                  </a:lnTo>
                  <a:lnTo>
                    <a:pt x="0" y="217"/>
                  </a:lnTo>
                  <a:lnTo>
                    <a:pt x="40" y="9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05400" y="3121920"/>
              <a:ext cx="57240" cy="122040"/>
            </a:xfrm>
            <a:custGeom>
              <a:avLst/>
              <a:gdLst/>
              <a:ahLst/>
              <a:rect l="l" t="t" r="r" b="b"/>
              <a:pathLst>
                <a:path w="129" h="278">
                  <a:moveTo>
                    <a:pt x="0" y="0"/>
                  </a:moveTo>
                  <a:lnTo>
                    <a:pt x="90" y="87"/>
                  </a:lnTo>
                  <a:lnTo>
                    <a:pt x="129" y="137"/>
                  </a:lnTo>
                  <a:lnTo>
                    <a:pt x="120" y="245"/>
                  </a:lnTo>
                  <a:lnTo>
                    <a:pt x="70" y="278"/>
                  </a:lnTo>
                  <a:lnTo>
                    <a:pt x="13" y="1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87760" y="3057120"/>
              <a:ext cx="186120" cy="83520"/>
            </a:xfrm>
            <a:custGeom>
              <a:avLst/>
              <a:gdLst/>
              <a:ahLst/>
              <a:rect l="l" t="t" r="r" b="b"/>
              <a:pathLst>
                <a:path w="418" h="190">
                  <a:moveTo>
                    <a:pt x="0" y="0"/>
                  </a:moveTo>
                  <a:lnTo>
                    <a:pt x="54" y="100"/>
                  </a:lnTo>
                  <a:lnTo>
                    <a:pt x="93" y="169"/>
                  </a:lnTo>
                  <a:lnTo>
                    <a:pt x="200" y="190"/>
                  </a:lnTo>
                  <a:lnTo>
                    <a:pt x="325" y="176"/>
                  </a:lnTo>
                  <a:lnTo>
                    <a:pt x="386" y="176"/>
                  </a:lnTo>
                  <a:lnTo>
                    <a:pt x="418" y="103"/>
                  </a:lnTo>
                  <a:lnTo>
                    <a:pt x="216" y="107"/>
                  </a:lnTo>
                  <a:lnTo>
                    <a:pt x="8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a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46160" y="3395520"/>
              <a:ext cx="241920" cy="193680"/>
            </a:xfrm>
            <a:custGeom>
              <a:avLst/>
              <a:gdLst/>
              <a:ahLst/>
              <a:rect l="l" t="t" r="r" b="b"/>
              <a:pathLst>
                <a:path w="547" h="438">
                  <a:moveTo>
                    <a:pt x="0" y="170"/>
                  </a:moveTo>
                  <a:lnTo>
                    <a:pt x="179" y="127"/>
                  </a:lnTo>
                  <a:lnTo>
                    <a:pt x="269" y="67"/>
                  </a:lnTo>
                  <a:lnTo>
                    <a:pt x="338" y="0"/>
                  </a:lnTo>
                  <a:lnTo>
                    <a:pt x="435" y="154"/>
                  </a:lnTo>
                  <a:lnTo>
                    <a:pt x="547" y="257"/>
                  </a:lnTo>
                  <a:lnTo>
                    <a:pt x="428" y="438"/>
                  </a:lnTo>
                  <a:lnTo>
                    <a:pt x="471" y="298"/>
                  </a:lnTo>
                  <a:lnTo>
                    <a:pt x="372" y="188"/>
                  </a:lnTo>
                  <a:lnTo>
                    <a:pt x="276" y="207"/>
                  </a:lnTo>
                  <a:lnTo>
                    <a:pt x="126" y="214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eda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2360" y="3252240"/>
              <a:ext cx="91440" cy="78120"/>
            </a:xfrm>
            <a:custGeom>
              <a:avLst/>
              <a:gdLst/>
              <a:ahLst/>
              <a:rect l="l" t="t" r="r" b="b"/>
              <a:pathLst>
                <a:path w="208" h="178">
                  <a:moveTo>
                    <a:pt x="34" y="0"/>
                  </a:moveTo>
                  <a:lnTo>
                    <a:pt x="177" y="60"/>
                  </a:lnTo>
                  <a:lnTo>
                    <a:pt x="208" y="97"/>
                  </a:lnTo>
                  <a:lnTo>
                    <a:pt x="200" y="122"/>
                  </a:lnTo>
                  <a:lnTo>
                    <a:pt x="125" y="178"/>
                  </a:lnTo>
                  <a:lnTo>
                    <a:pt x="137" y="126"/>
                  </a:lnTo>
                  <a:lnTo>
                    <a:pt x="24" y="94"/>
                  </a:lnTo>
                  <a:lnTo>
                    <a:pt x="0" y="45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77320" y="2863080"/>
              <a:ext cx="282960" cy="213480"/>
            </a:xfrm>
            <a:custGeom>
              <a:avLst/>
              <a:gdLst/>
              <a:ahLst/>
              <a:rect l="l" t="t" r="r" b="b"/>
              <a:pathLst>
                <a:path w="637" h="482">
                  <a:moveTo>
                    <a:pt x="10" y="0"/>
                  </a:moveTo>
                  <a:lnTo>
                    <a:pt x="72" y="13"/>
                  </a:lnTo>
                  <a:lnTo>
                    <a:pt x="123" y="39"/>
                  </a:lnTo>
                  <a:lnTo>
                    <a:pt x="145" y="57"/>
                  </a:lnTo>
                  <a:lnTo>
                    <a:pt x="168" y="77"/>
                  </a:lnTo>
                  <a:lnTo>
                    <a:pt x="212" y="124"/>
                  </a:lnTo>
                  <a:lnTo>
                    <a:pt x="238" y="152"/>
                  </a:lnTo>
                  <a:lnTo>
                    <a:pt x="260" y="176"/>
                  </a:lnTo>
                  <a:lnTo>
                    <a:pt x="302" y="222"/>
                  </a:lnTo>
                  <a:lnTo>
                    <a:pt x="343" y="269"/>
                  </a:lnTo>
                  <a:lnTo>
                    <a:pt x="364" y="296"/>
                  </a:lnTo>
                  <a:lnTo>
                    <a:pt x="388" y="325"/>
                  </a:lnTo>
                  <a:lnTo>
                    <a:pt x="419" y="350"/>
                  </a:lnTo>
                  <a:lnTo>
                    <a:pt x="448" y="372"/>
                  </a:lnTo>
                  <a:lnTo>
                    <a:pt x="475" y="392"/>
                  </a:lnTo>
                  <a:lnTo>
                    <a:pt x="503" y="409"/>
                  </a:lnTo>
                  <a:lnTo>
                    <a:pt x="530" y="424"/>
                  </a:lnTo>
                  <a:lnTo>
                    <a:pt x="559" y="438"/>
                  </a:lnTo>
                  <a:lnTo>
                    <a:pt x="593" y="451"/>
                  </a:lnTo>
                  <a:lnTo>
                    <a:pt x="630" y="464"/>
                  </a:lnTo>
                  <a:lnTo>
                    <a:pt x="637" y="475"/>
                  </a:lnTo>
                  <a:lnTo>
                    <a:pt x="626" y="482"/>
                  </a:lnTo>
                  <a:lnTo>
                    <a:pt x="547" y="461"/>
                  </a:lnTo>
                  <a:lnTo>
                    <a:pt x="476" y="442"/>
                  </a:lnTo>
                  <a:lnTo>
                    <a:pt x="411" y="414"/>
                  </a:lnTo>
                  <a:lnTo>
                    <a:pt x="377" y="394"/>
                  </a:lnTo>
                  <a:lnTo>
                    <a:pt x="343" y="370"/>
                  </a:lnTo>
                  <a:lnTo>
                    <a:pt x="320" y="340"/>
                  </a:lnTo>
                  <a:lnTo>
                    <a:pt x="299" y="313"/>
                  </a:lnTo>
                  <a:lnTo>
                    <a:pt x="280" y="287"/>
                  </a:lnTo>
                  <a:lnTo>
                    <a:pt x="260" y="262"/>
                  </a:lnTo>
                  <a:lnTo>
                    <a:pt x="240" y="238"/>
                  </a:lnTo>
                  <a:lnTo>
                    <a:pt x="220" y="213"/>
                  </a:lnTo>
                  <a:lnTo>
                    <a:pt x="198" y="188"/>
                  </a:lnTo>
                  <a:lnTo>
                    <a:pt x="174" y="160"/>
                  </a:lnTo>
                  <a:lnTo>
                    <a:pt x="136" y="113"/>
                  </a:lnTo>
                  <a:lnTo>
                    <a:pt x="119" y="90"/>
                  </a:lnTo>
                  <a:lnTo>
                    <a:pt x="102" y="69"/>
                  </a:lnTo>
                  <a:lnTo>
                    <a:pt x="82" y="51"/>
                  </a:lnTo>
                  <a:lnTo>
                    <a:pt x="61" y="36"/>
                  </a:lnTo>
                  <a:lnTo>
                    <a:pt x="37" y="25"/>
                  </a:lnTo>
                  <a:lnTo>
                    <a:pt x="9" y="19"/>
                  </a:lnTo>
                  <a:lnTo>
                    <a:pt x="0" y="9"/>
                  </a:lnTo>
                  <a:lnTo>
                    <a:pt x="2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69040" y="2936160"/>
              <a:ext cx="107640" cy="59400"/>
            </a:xfrm>
            <a:custGeom>
              <a:avLst/>
              <a:gdLst/>
              <a:ahLst/>
              <a:rect l="l" t="t" r="r" b="b"/>
              <a:pathLst>
                <a:path w="243" h="137">
                  <a:moveTo>
                    <a:pt x="232" y="20"/>
                  </a:moveTo>
                  <a:lnTo>
                    <a:pt x="163" y="39"/>
                  </a:lnTo>
                  <a:lnTo>
                    <a:pt x="134" y="61"/>
                  </a:lnTo>
                  <a:lnTo>
                    <a:pt x="108" y="89"/>
                  </a:lnTo>
                  <a:lnTo>
                    <a:pt x="85" y="105"/>
                  </a:lnTo>
                  <a:lnTo>
                    <a:pt x="63" y="116"/>
                  </a:lnTo>
                  <a:lnTo>
                    <a:pt x="13" y="137"/>
                  </a:lnTo>
                  <a:lnTo>
                    <a:pt x="0" y="131"/>
                  </a:lnTo>
                  <a:lnTo>
                    <a:pt x="6" y="119"/>
                  </a:lnTo>
                  <a:lnTo>
                    <a:pt x="45" y="93"/>
                  </a:lnTo>
                  <a:lnTo>
                    <a:pt x="62" y="77"/>
                  </a:lnTo>
                  <a:lnTo>
                    <a:pt x="81" y="61"/>
                  </a:lnTo>
                  <a:lnTo>
                    <a:pt x="97" y="43"/>
                  </a:lnTo>
                  <a:lnTo>
                    <a:pt x="113" y="30"/>
                  </a:lnTo>
                  <a:lnTo>
                    <a:pt x="148" y="12"/>
                  </a:lnTo>
                  <a:lnTo>
                    <a:pt x="232" y="0"/>
                  </a:lnTo>
                  <a:lnTo>
                    <a:pt x="243" y="10"/>
                  </a:lnTo>
                  <a:lnTo>
                    <a:pt x="239" y="17"/>
                  </a:lnTo>
                  <a:lnTo>
                    <a:pt x="232" y="20"/>
                  </a:lnTo>
                  <a:lnTo>
                    <a:pt x="2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17200" y="3002400"/>
              <a:ext cx="47880" cy="95760"/>
            </a:xfrm>
            <a:custGeom>
              <a:avLst/>
              <a:gdLst/>
              <a:ahLst/>
              <a:rect l="l" t="t" r="r" b="b"/>
              <a:pathLst>
                <a:path w="108" h="217">
                  <a:moveTo>
                    <a:pt x="67" y="21"/>
                  </a:moveTo>
                  <a:lnTo>
                    <a:pt x="35" y="46"/>
                  </a:lnTo>
                  <a:lnTo>
                    <a:pt x="25" y="70"/>
                  </a:lnTo>
                  <a:lnTo>
                    <a:pt x="29" y="93"/>
                  </a:lnTo>
                  <a:lnTo>
                    <a:pt x="52" y="143"/>
                  </a:lnTo>
                  <a:lnTo>
                    <a:pt x="73" y="175"/>
                  </a:lnTo>
                  <a:lnTo>
                    <a:pt x="85" y="188"/>
                  </a:lnTo>
                  <a:lnTo>
                    <a:pt x="102" y="198"/>
                  </a:lnTo>
                  <a:lnTo>
                    <a:pt x="108" y="211"/>
                  </a:lnTo>
                  <a:lnTo>
                    <a:pt x="95" y="217"/>
                  </a:lnTo>
                  <a:lnTo>
                    <a:pt x="52" y="196"/>
                  </a:lnTo>
                  <a:lnTo>
                    <a:pt x="18" y="162"/>
                  </a:lnTo>
                  <a:lnTo>
                    <a:pt x="0" y="96"/>
                  </a:lnTo>
                  <a:lnTo>
                    <a:pt x="3" y="65"/>
                  </a:lnTo>
                  <a:lnTo>
                    <a:pt x="18" y="34"/>
                  </a:lnTo>
                  <a:lnTo>
                    <a:pt x="36" y="15"/>
                  </a:lnTo>
                  <a:lnTo>
                    <a:pt x="56" y="0"/>
                  </a:lnTo>
                  <a:lnTo>
                    <a:pt x="71" y="5"/>
                  </a:lnTo>
                  <a:lnTo>
                    <a:pt x="67" y="21"/>
                  </a:lnTo>
                  <a:lnTo>
                    <a:pt x="6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53560" y="3039840"/>
              <a:ext cx="212400" cy="74160"/>
            </a:xfrm>
            <a:custGeom>
              <a:avLst/>
              <a:gdLst/>
              <a:ahLst/>
              <a:rect l="l" t="t" r="r" b="b"/>
              <a:pathLst>
                <a:path w="480" h="167">
                  <a:moveTo>
                    <a:pt x="11" y="0"/>
                  </a:moveTo>
                  <a:lnTo>
                    <a:pt x="119" y="21"/>
                  </a:lnTo>
                  <a:lnTo>
                    <a:pt x="166" y="44"/>
                  </a:lnTo>
                  <a:lnTo>
                    <a:pt x="192" y="59"/>
                  </a:lnTo>
                  <a:lnTo>
                    <a:pt x="220" y="74"/>
                  </a:lnTo>
                  <a:lnTo>
                    <a:pt x="253" y="89"/>
                  </a:lnTo>
                  <a:lnTo>
                    <a:pt x="285" y="102"/>
                  </a:lnTo>
                  <a:lnTo>
                    <a:pt x="342" y="125"/>
                  </a:lnTo>
                  <a:lnTo>
                    <a:pt x="401" y="140"/>
                  </a:lnTo>
                  <a:lnTo>
                    <a:pt x="469" y="146"/>
                  </a:lnTo>
                  <a:lnTo>
                    <a:pt x="480" y="155"/>
                  </a:lnTo>
                  <a:lnTo>
                    <a:pt x="477" y="162"/>
                  </a:lnTo>
                  <a:lnTo>
                    <a:pt x="469" y="166"/>
                  </a:lnTo>
                  <a:lnTo>
                    <a:pt x="326" y="167"/>
                  </a:lnTo>
                  <a:lnTo>
                    <a:pt x="191" y="136"/>
                  </a:lnTo>
                  <a:lnTo>
                    <a:pt x="143" y="100"/>
                  </a:lnTo>
                  <a:lnTo>
                    <a:pt x="123" y="81"/>
                  </a:lnTo>
                  <a:lnTo>
                    <a:pt x="104" y="62"/>
                  </a:lnTo>
                  <a:lnTo>
                    <a:pt x="84" y="46"/>
                  </a:lnTo>
                  <a:lnTo>
                    <a:pt x="63" y="32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76520" y="2819520"/>
              <a:ext cx="438480" cy="243000"/>
            </a:xfrm>
            <a:custGeom>
              <a:avLst/>
              <a:gdLst/>
              <a:ahLst/>
              <a:rect l="l" t="t" r="r" b="b"/>
              <a:pathLst>
                <a:path w="991" h="549">
                  <a:moveTo>
                    <a:pt x="156" y="427"/>
                  </a:moveTo>
                  <a:lnTo>
                    <a:pt x="131" y="386"/>
                  </a:lnTo>
                  <a:lnTo>
                    <a:pt x="109" y="349"/>
                  </a:lnTo>
                  <a:lnTo>
                    <a:pt x="88" y="314"/>
                  </a:lnTo>
                  <a:lnTo>
                    <a:pt x="70" y="280"/>
                  </a:lnTo>
                  <a:lnTo>
                    <a:pt x="52" y="244"/>
                  </a:lnTo>
                  <a:lnTo>
                    <a:pt x="35" y="206"/>
                  </a:lnTo>
                  <a:lnTo>
                    <a:pt x="17" y="167"/>
                  </a:lnTo>
                  <a:lnTo>
                    <a:pt x="0" y="123"/>
                  </a:lnTo>
                  <a:lnTo>
                    <a:pt x="6" y="96"/>
                  </a:lnTo>
                  <a:lnTo>
                    <a:pt x="17" y="73"/>
                  </a:lnTo>
                  <a:lnTo>
                    <a:pt x="33" y="53"/>
                  </a:lnTo>
                  <a:lnTo>
                    <a:pt x="52" y="36"/>
                  </a:lnTo>
                  <a:lnTo>
                    <a:pt x="75" y="23"/>
                  </a:lnTo>
                  <a:lnTo>
                    <a:pt x="100" y="14"/>
                  </a:lnTo>
                  <a:lnTo>
                    <a:pt x="156" y="2"/>
                  </a:lnTo>
                  <a:lnTo>
                    <a:pt x="235" y="0"/>
                  </a:lnTo>
                  <a:lnTo>
                    <a:pt x="301" y="2"/>
                  </a:lnTo>
                  <a:lnTo>
                    <a:pt x="419" y="38"/>
                  </a:lnTo>
                  <a:lnTo>
                    <a:pt x="468" y="71"/>
                  </a:lnTo>
                  <a:lnTo>
                    <a:pt x="491" y="90"/>
                  </a:lnTo>
                  <a:lnTo>
                    <a:pt x="514" y="115"/>
                  </a:lnTo>
                  <a:lnTo>
                    <a:pt x="539" y="139"/>
                  </a:lnTo>
                  <a:lnTo>
                    <a:pt x="562" y="162"/>
                  </a:lnTo>
                  <a:lnTo>
                    <a:pt x="585" y="183"/>
                  </a:lnTo>
                  <a:lnTo>
                    <a:pt x="607" y="203"/>
                  </a:lnTo>
                  <a:lnTo>
                    <a:pt x="628" y="223"/>
                  </a:lnTo>
                  <a:lnTo>
                    <a:pt x="650" y="240"/>
                  </a:lnTo>
                  <a:lnTo>
                    <a:pt x="671" y="259"/>
                  </a:lnTo>
                  <a:lnTo>
                    <a:pt x="691" y="276"/>
                  </a:lnTo>
                  <a:lnTo>
                    <a:pt x="712" y="293"/>
                  </a:lnTo>
                  <a:lnTo>
                    <a:pt x="733" y="311"/>
                  </a:lnTo>
                  <a:lnTo>
                    <a:pt x="754" y="329"/>
                  </a:lnTo>
                  <a:lnTo>
                    <a:pt x="775" y="348"/>
                  </a:lnTo>
                  <a:lnTo>
                    <a:pt x="795" y="368"/>
                  </a:lnTo>
                  <a:lnTo>
                    <a:pt x="818" y="389"/>
                  </a:lnTo>
                  <a:lnTo>
                    <a:pt x="841" y="412"/>
                  </a:lnTo>
                  <a:lnTo>
                    <a:pt x="864" y="436"/>
                  </a:lnTo>
                  <a:lnTo>
                    <a:pt x="892" y="456"/>
                  </a:lnTo>
                  <a:lnTo>
                    <a:pt x="919" y="472"/>
                  </a:lnTo>
                  <a:lnTo>
                    <a:pt x="945" y="487"/>
                  </a:lnTo>
                  <a:lnTo>
                    <a:pt x="977" y="503"/>
                  </a:lnTo>
                  <a:lnTo>
                    <a:pt x="991" y="517"/>
                  </a:lnTo>
                  <a:lnTo>
                    <a:pt x="988" y="536"/>
                  </a:lnTo>
                  <a:lnTo>
                    <a:pt x="975" y="549"/>
                  </a:lnTo>
                  <a:lnTo>
                    <a:pt x="956" y="548"/>
                  </a:lnTo>
                  <a:lnTo>
                    <a:pt x="921" y="531"/>
                  </a:lnTo>
                  <a:lnTo>
                    <a:pt x="891" y="515"/>
                  </a:lnTo>
                  <a:lnTo>
                    <a:pt x="860" y="498"/>
                  </a:lnTo>
                  <a:lnTo>
                    <a:pt x="829" y="476"/>
                  </a:lnTo>
                  <a:lnTo>
                    <a:pt x="806" y="451"/>
                  </a:lnTo>
                  <a:lnTo>
                    <a:pt x="784" y="428"/>
                  </a:lnTo>
                  <a:lnTo>
                    <a:pt x="762" y="407"/>
                  </a:lnTo>
                  <a:lnTo>
                    <a:pt x="741" y="386"/>
                  </a:lnTo>
                  <a:lnTo>
                    <a:pt x="720" y="367"/>
                  </a:lnTo>
                  <a:lnTo>
                    <a:pt x="699" y="348"/>
                  </a:lnTo>
                  <a:lnTo>
                    <a:pt x="679" y="328"/>
                  </a:lnTo>
                  <a:lnTo>
                    <a:pt x="658" y="310"/>
                  </a:lnTo>
                  <a:lnTo>
                    <a:pt x="639" y="291"/>
                  </a:lnTo>
                  <a:lnTo>
                    <a:pt x="618" y="273"/>
                  </a:lnTo>
                  <a:lnTo>
                    <a:pt x="597" y="254"/>
                  </a:lnTo>
                  <a:lnTo>
                    <a:pt x="575" y="234"/>
                  </a:lnTo>
                  <a:lnTo>
                    <a:pt x="554" y="213"/>
                  </a:lnTo>
                  <a:lnTo>
                    <a:pt x="531" y="191"/>
                  </a:lnTo>
                  <a:lnTo>
                    <a:pt x="507" y="169"/>
                  </a:lnTo>
                  <a:lnTo>
                    <a:pt x="483" y="145"/>
                  </a:lnTo>
                  <a:lnTo>
                    <a:pt x="463" y="124"/>
                  </a:lnTo>
                  <a:lnTo>
                    <a:pt x="442" y="106"/>
                  </a:lnTo>
                  <a:lnTo>
                    <a:pt x="422" y="92"/>
                  </a:lnTo>
                  <a:lnTo>
                    <a:pt x="399" y="80"/>
                  </a:lnTo>
                  <a:lnTo>
                    <a:pt x="352" y="64"/>
                  </a:lnTo>
                  <a:lnTo>
                    <a:pt x="295" y="52"/>
                  </a:lnTo>
                  <a:lnTo>
                    <a:pt x="235" y="45"/>
                  </a:lnTo>
                  <a:lnTo>
                    <a:pt x="160" y="52"/>
                  </a:lnTo>
                  <a:lnTo>
                    <a:pt x="86" y="66"/>
                  </a:lnTo>
                  <a:lnTo>
                    <a:pt x="59" y="86"/>
                  </a:lnTo>
                  <a:lnTo>
                    <a:pt x="46" y="117"/>
                  </a:lnTo>
                  <a:lnTo>
                    <a:pt x="63" y="160"/>
                  </a:lnTo>
                  <a:lnTo>
                    <a:pt x="77" y="200"/>
                  </a:lnTo>
                  <a:lnTo>
                    <a:pt x="102" y="270"/>
                  </a:lnTo>
                  <a:lnTo>
                    <a:pt x="115" y="305"/>
                  </a:lnTo>
                  <a:lnTo>
                    <a:pt x="131" y="340"/>
                  </a:lnTo>
                  <a:lnTo>
                    <a:pt x="150" y="377"/>
                  </a:lnTo>
                  <a:lnTo>
                    <a:pt x="172" y="415"/>
                  </a:lnTo>
                  <a:lnTo>
                    <a:pt x="170" y="429"/>
                  </a:lnTo>
                  <a:lnTo>
                    <a:pt x="156" y="427"/>
                  </a:lnTo>
                  <a:lnTo>
                    <a:pt x="156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06560" y="2837880"/>
              <a:ext cx="86040" cy="46440"/>
            </a:xfrm>
            <a:custGeom>
              <a:avLst/>
              <a:gdLst/>
              <a:ahLst/>
              <a:rect l="l" t="t" r="r" b="b"/>
              <a:pathLst>
                <a:path w="195" h="104">
                  <a:moveTo>
                    <a:pt x="8" y="84"/>
                  </a:moveTo>
                  <a:lnTo>
                    <a:pt x="23" y="74"/>
                  </a:lnTo>
                  <a:lnTo>
                    <a:pt x="37" y="60"/>
                  </a:lnTo>
                  <a:lnTo>
                    <a:pt x="84" y="35"/>
                  </a:lnTo>
                  <a:lnTo>
                    <a:pt x="129" y="9"/>
                  </a:lnTo>
                  <a:lnTo>
                    <a:pt x="183" y="0"/>
                  </a:lnTo>
                  <a:lnTo>
                    <a:pt x="195" y="3"/>
                  </a:lnTo>
                  <a:lnTo>
                    <a:pt x="192" y="17"/>
                  </a:lnTo>
                  <a:lnTo>
                    <a:pt x="152" y="53"/>
                  </a:lnTo>
                  <a:lnTo>
                    <a:pt x="106" y="79"/>
                  </a:lnTo>
                  <a:lnTo>
                    <a:pt x="58" y="104"/>
                  </a:lnTo>
                  <a:lnTo>
                    <a:pt x="11" y="104"/>
                  </a:lnTo>
                  <a:lnTo>
                    <a:pt x="0" y="95"/>
                  </a:lnTo>
                  <a:lnTo>
                    <a:pt x="8" y="84"/>
                  </a:lnTo>
                  <a:lnTo>
                    <a:pt x="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20680" y="2831040"/>
              <a:ext cx="177840" cy="93960"/>
            </a:xfrm>
            <a:custGeom>
              <a:avLst/>
              <a:gdLst/>
              <a:ahLst/>
              <a:rect l="l" t="t" r="r" b="b"/>
              <a:pathLst>
                <a:path w="403" h="211">
                  <a:moveTo>
                    <a:pt x="11" y="0"/>
                  </a:moveTo>
                  <a:lnTo>
                    <a:pt x="220" y="69"/>
                  </a:lnTo>
                  <a:lnTo>
                    <a:pt x="253" y="87"/>
                  </a:lnTo>
                  <a:lnTo>
                    <a:pt x="282" y="103"/>
                  </a:lnTo>
                  <a:lnTo>
                    <a:pt x="310" y="120"/>
                  </a:lnTo>
                  <a:lnTo>
                    <a:pt x="345" y="138"/>
                  </a:lnTo>
                  <a:lnTo>
                    <a:pt x="400" y="196"/>
                  </a:lnTo>
                  <a:lnTo>
                    <a:pt x="403" y="210"/>
                  </a:lnTo>
                  <a:lnTo>
                    <a:pt x="389" y="211"/>
                  </a:lnTo>
                  <a:lnTo>
                    <a:pt x="323" y="183"/>
                  </a:lnTo>
                  <a:lnTo>
                    <a:pt x="288" y="165"/>
                  </a:lnTo>
                  <a:lnTo>
                    <a:pt x="259" y="148"/>
                  </a:lnTo>
                  <a:lnTo>
                    <a:pt x="231" y="131"/>
                  </a:lnTo>
                  <a:lnTo>
                    <a:pt x="198" y="114"/>
                  </a:lnTo>
                  <a:lnTo>
                    <a:pt x="148" y="86"/>
                  </a:lnTo>
                  <a:lnTo>
                    <a:pt x="105" y="60"/>
                  </a:lnTo>
                  <a:lnTo>
                    <a:pt x="61" y="38"/>
                  </a:lnTo>
                  <a:lnTo>
                    <a:pt x="7" y="2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77280" y="2861640"/>
              <a:ext cx="251280" cy="173520"/>
            </a:xfrm>
            <a:custGeom>
              <a:avLst/>
              <a:gdLst/>
              <a:ahLst/>
              <a:rect l="l" t="t" r="r" b="b"/>
              <a:pathLst>
                <a:path w="567" h="393">
                  <a:moveTo>
                    <a:pt x="0" y="241"/>
                  </a:moveTo>
                  <a:lnTo>
                    <a:pt x="18" y="202"/>
                  </a:lnTo>
                  <a:lnTo>
                    <a:pt x="34" y="167"/>
                  </a:lnTo>
                  <a:lnTo>
                    <a:pt x="51" y="135"/>
                  </a:lnTo>
                  <a:lnTo>
                    <a:pt x="71" y="105"/>
                  </a:lnTo>
                  <a:lnTo>
                    <a:pt x="92" y="77"/>
                  </a:lnTo>
                  <a:lnTo>
                    <a:pt x="116" y="50"/>
                  </a:lnTo>
                  <a:lnTo>
                    <a:pt x="144" y="26"/>
                  </a:lnTo>
                  <a:lnTo>
                    <a:pt x="178" y="3"/>
                  </a:lnTo>
                  <a:lnTo>
                    <a:pt x="223" y="0"/>
                  </a:lnTo>
                  <a:lnTo>
                    <a:pt x="358" y="24"/>
                  </a:lnTo>
                  <a:lnTo>
                    <a:pt x="422" y="53"/>
                  </a:lnTo>
                  <a:lnTo>
                    <a:pt x="451" y="70"/>
                  </a:lnTo>
                  <a:lnTo>
                    <a:pt x="479" y="90"/>
                  </a:lnTo>
                  <a:lnTo>
                    <a:pt x="503" y="112"/>
                  </a:lnTo>
                  <a:lnTo>
                    <a:pt x="524" y="135"/>
                  </a:lnTo>
                  <a:lnTo>
                    <a:pt x="555" y="188"/>
                  </a:lnTo>
                  <a:lnTo>
                    <a:pt x="567" y="245"/>
                  </a:lnTo>
                  <a:lnTo>
                    <a:pt x="558" y="308"/>
                  </a:lnTo>
                  <a:lnTo>
                    <a:pt x="540" y="328"/>
                  </a:lnTo>
                  <a:lnTo>
                    <a:pt x="522" y="345"/>
                  </a:lnTo>
                  <a:lnTo>
                    <a:pt x="501" y="359"/>
                  </a:lnTo>
                  <a:lnTo>
                    <a:pt x="480" y="371"/>
                  </a:lnTo>
                  <a:lnTo>
                    <a:pt x="433" y="387"/>
                  </a:lnTo>
                  <a:lnTo>
                    <a:pt x="383" y="393"/>
                  </a:lnTo>
                  <a:lnTo>
                    <a:pt x="280" y="380"/>
                  </a:lnTo>
                  <a:lnTo>
                    <a:pt x="229" y="361"/>
                  </a:lnTo>
                  <a:lnTo>
                    <a:pt x="181" y="337"/>
                  </a:lnTo>
                  <a:lnTo>
                    <a:pt x="156" y="295"/>
                  </a:lnTo>
                  <a:lnTo>
                    <a:pt x="136" y="249"/>
                  </a:lnTo>
                  <a:lnTo>
                    <a:pt x="138" y="235"/>
                  </a:lnTo>
                  <a:lnTo>
                    <a:pt x="152" y="237"/>
                  </a:lnTo>
                  <a:lnTo>
                    <a:pt x="166" y="253"/>
                  </a:lnTo>
                  <a:lnTo>
                    <a:pt x="184" y="264"/>
                  </a:lnTo>
                  <a:lnTo>
                    <a:pt x="219" y="285"/>
                  </a:lnTo>
                  <a:lnTo>
                    <a:pt x="256" y="304"/>
                  </a:lnTo>
                  <a:lnTo>
                    <a:pt x="294" y="321"/>
                  </a:lnTo>
                  <a:lnTo>
                    <a:pt x="332" y="331"/>
                  </a:lnTo>
                  <a:lnTo>
                    <a:pt x="371" y="336"/>
                  </a:lnTo>
                  <a:lnTo>
                    <a:pt x="443" y="324"/>
                  </a:lnTo>
                  <a:lnTo>
                    <a:pt x="502" y="278"/>
                  </a:lnTo>
                  <a:lnTo>
                    <a:pt x="510" y="227"/>
                  </a:lnTo>
                  <a:lnTo>
                    <a:pt x="500" y="179"/>
                  </a:lnTo>
                  <a:lnTo>
                    <a:pt x="488" y="158"/>
                  </a:lnTo>
                  <a:lnTo>
                    <a:pt x="474" y="137"/>
                  </a:lnTo>
                  <a:lnTo>
                    <a:pt x="455" y="119"/>
                  </a:lnTo>
                  <a:lnTo>
                    <a:pt x="436" y="101"/>
                  </a:lnTo>
                  <a:lnTo>
                    <a:pt x="412" y="85"/>
                  </a:lnTo>
                  <a:lnTo>
                    <a:pt x="388" y="71"/>
                  </a:lnTo>
                  <a:lnTo>
                    <a:pt x="363" y="58"/>
                  </a:lnTo>
                  <a:lnTo>
                    <a:pt x="335" y="49"/>
                  </a:lnTo>
                  <a:lnTo>
                    <a:pt x="279" y="34"/>
                  </a:lnTo>
                  <a:lnTo>
                    <a:pt x="223" y="29"/>
                  </a:lnTo>
                  <a:lnTo>
                    <a:pt x="186" y="33"/>
                  </a:lnTo>
                  <a:lnTo>
                    <a:pt x="156" y="55"/>
                  </a:lnTo>
                  <a:lnTo>
                    <a:pt x="129" y="77"/>
                  </a:lnTo>
                  <a:lnTo>
                    <a:pt x="85" y="125"/>
                  </a:lnTo>
                  <a:lnTo>
                    <a:pt x="50" y="180"/>
                  </a:lnTo>
                  <a:lnTo>
                    <a:pt x="19" y="249"/>
                  </a:lnTo>
                  <a:lnTo>
                    <a:pt x="6" y="253"/>
                  </a:lnTo>
                  <a:lnTo>
                    <a:pt x="0" y="241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58360" y="2882880"/>
              <a:ext cx="213840" cy="181800"/>
            </a:xfrm>
            <a:custGeom>
              <a:avLst/>
              <a:gdLst/>
              <a:ahLst/>
              <a:rect l="l" t="t" r="r" b="b"/>
              <a:pathLst>
                <a:path w="483" h="411">
                  <a:moveTo>
                    <a:pt x="9" y="10"/>
                  </a:moveTo>
                  <a:lnTo>
                    <a:pt x="209" y="0"/>
                  </a:lnTo>
                  <a:lnTo>
                    <a:pt x="296" y="11"/>
                  </a:lnTo>
                  <a:lnTo>
                    <a:pt x="377" y="60"/>
                  </a:lnTo>
                  <a:lnTo>
                    <a:pt x="411" y="95"/>
                  </a:lnTo>
                  <a:lnTo>
                    <a:pt x="439" y="133"/>
                  </a:lnTo>
                  <a:lnTo>
                    <a:pt x="476" y="216"/>
                  </a:lnTo>
                  <a:lnTo>
                    <a:pt x="483" y="301"/>
                  </a:lnTo>
                  <a:lnTo>
                    <a:pt x="474" y="344"/>
                  </a:lnTo>
                  <a:lnTo>
                    <a:pt x="455" y="387"/>
                  </a:lnTo>
                  <a:lnTo>
                    <a:pt x="429" y="400"/>
                  </a:lnTo>
                  <a:lnTo>
                    <a:pt x="404" y="407"/>
                  </a:lnTo>
                  <a:lnTo>
                    <a:pt x="353" y="411"/>
                  </a:lnTo>
                  <a:lnTo>
                    <a:pt x="244" y="392"/>
                  </a:lnTo>
                  <a:lnTo>
                    <a:pt x="167" y="358"/>
                  </a:lnTo>
                  <a:lnTo>
                    <a:pt x="143" y="328"/>
                  </a:lnTo>
                  <a:lnTo>
                    <a:pt x="131" y="289"/>
                  </a:lnTo>
                  <a:lnTo>
                    <a:pt x="139" y="278"/>
                  </a:lnTo>
                  <a:lnTo>
                    <a:pt x="151" y="288"/>
                  </a:lnTo>
                  <a:lnTo>
                    <a:pt x="154" y="301"/>
                  </a:lnTo>
                  <a:lnTo>
                    <a:pt x="162" y="311"/>
                  </a:lnTo>
                  <a:lnTo>
                    <a:pt x="189" y="318"/>
                  </a:lnTo>
                  <a:lnTo>
                    <a:pt x="258" y="322"/>
                  </a:lnTo>
                  <a:lnTo>
                    <a:pt x="335" y="347"/>
                  </a:lnTo>
                  <a:lnTo>
                    <a:pt x="369" y="350"/>
                  </a:lnTo>
                  <a:lnTo>
                    <a:pt x="407" y="339"/>
                  </a:lnTo>
                  <a:lnTo>
                    <a:pt x="426" y="276"/>
                  </a:lnTo>
                  <a:lnTo>
                    <a:pt x="417" y="216"/>
                  </a:lnTo>
                  <a:lnTo>
                    <a:pt x="403" y="187"/>
                  </a:lnTo>
                  <a:lnTo>
                    <a:pt x="384" y="158"/>
                  </a:lnTo>
                  <a:lnTo>
                    <a:pt x="362" y="131"/>
                  </a:lnTo>
                  <a:lnTo>
                    <a:pt x="349" y="118"/>
                  </a:lnTo>
                  <a:lnTo>
                    <a:pt x="337" y="105"/>
                  </a:lnTo>
                  <a:lnTo>
                    <a:pt x="319" y="90"/>
                  </a:lnTo>
                  <a:lnTo>
                    <a:pt x="301" y="78"/>
                  </a:lnTo>
                  <a:lnTo>
                    <a:pt x="263" y="57"/>
                  </a:lnTo>
                  <a:lnTo>
                    <a:pt x="226" y="44"/>
                  </a:lnTo>
                  <a:lnTo>
                    <a:pt x="187" y="36"/>
                  </a:lnTo>
                  <a:lnTo>
                    <a:pt x="9" y="3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47000" y="2933640"/>
              <a:ext cx="163440" cy="174960"/>
            </a:xfrm>
            <a:custGeom>
              <a:avLst/>
              <a:gdLst/>
              <a:ahLst/>
              <a:rect l="l" t="t" r="r" b="b"/>
              <a:pathLst>
                <a:path w="369" h="397">
                  <a:moveTo>
                    <a:pt x="9" y="0"/>
                  </a:moveTo>
                  <a:lnTo>
                    <a:pt x="107" y="3"/>
                  </a:lnTo>
                  <a:lnTo>
                    <a:pt x="194" y="23"/>
                  </a:lnTo>
                  <a:lnTo>
                    <a:pt x="268" y="64"/>
                  </a:lnTo>
                  <a:lnTo>
                    <a:pt x="326" y="138"/>
                  </a:lnTo>
                  <a:lnTo>
                    <a:pt x="355" y="208"/>
                  </a:lnTo>
                  <a:lnTo>
                    <a:pt x="369" y="281"/>
                  </a:lnTo>
                  <a:lnTo>
                    <a:pt x="367" y="316"/>
                  </a:lnTo>
                  <a:lnTo>
                    <a:pt x="356" y="346"/>
                  </a:lnTo>
                  <a:lnTo>
                    <a:pt x="338" y="371"/>
                  </a:lnTo>
                  <a:lnTo>
                    <a:pt x="309" y="388"/>
                  </a:lnTo>
                  <a:lnTo>
                    <a:pt x="224" y="397"/>
                  </a:lnTo>
                  <a:lnTo>
                    <a:pt x="136" y="388"/>
                  </a:lnTo>
                  <a:lnTo>
                    <a:pt x="98" y="366"/>
                  </a:lnTo>
                  <a:lnTo>
                    <a:pt x="67" y="338"/>
                  </a:lnTo>
                  <a:lnTo>
                    <a:pt x="39" y="308"/>
                  </a:lnTo>
                  <a:lnTo>
                    <a:pt x="12" y="273"/>
                  </a:lnTo>
                  <a:lnTo>
                    <a:pt x="14" y="259"/>
                  </a:lnTo>
                  <a:lnTo>
                    <a:pt x="28" y="261"/>
                  </a:lnTo>
                  <a:lnTo>
                    <a:pt x="41" y="274"/>
                  </a:lnTo>
                  <a:lnTo>
                    <a:pt x="55" y="285"/>
                  </a:lnTo>
                  <a:lnTo>
                    <a:pt x="85" y="300"/>
                  </a:lnTo>
                  <a:lnTo>
                    <a:pt x="153" y="324"/>
                  </a:lnTo>
                  <a:lnTo>
                    <a:pt x="222" y="332"/>
                  </a:lnTo>
                  <a:lnTo>
                    <a:pt x="288" y="324"/>
                  </a:lnTo>
                  <a:lnTo>
                    <a:pt x="315" y="298"/>
                  </a:lnTo>
                  <a:lnTo>
                    <a:pt x="316" y="256"/>
                  </a:lnTo>
                  <a:lnTo>
                    <a:pt x="300" y="210"/>
                  </a:lnTo>
                  <a:lnTo>
                    <a:pt x="278" y="164"/>
                  </a:lnTo>
                  <a:lnTo>
                    <a:pt x="254" y="127"/>
                  </a:lnTo>
                  <a:lnTo>
                    <a:pt x="228" y="96"/>
                  </a:lnTo>
                  <a:lnTo>
                    <a:pt x="214" y="83"/>
                  </a:lnTo>
                  <a:lnTo>
                    <a:pt x="199" y="71"/>
                  </a:lnTo>
                  <a:lnTo>
                    <a:pt x="166" y="51"/>
                  </a:lnTo>
                  <a:lnTo>
                    <a:pt x="131" y="35"/>
                  </a:lnTo>
                  <a:lnTo>
                    <a:pt x="94" y="26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58400" y="3036960"/>
              <a:ext cx="172440" cy="184320"/>
            </a:xfrm>
            <a:custGeom>
              <a:avLst/>
              <a:gdLst/>
              <a:ahLst/>
              <a:rect l="l" t="t" r="r" b="b"/>
              <a:pathLst>
                <a:path w="389" h="417">
                  <a:moveTo>
                    <a:pt x="389" y="14"/>
                  </a:moveTo>
                  <a:lnTo>
                    <a:pt x="374" y="34"/>
                  </a:lnTo>
                  <a:lnTo>
                    <a:pt x="357" y="46"/>
                  </a:lnTo>
                  <a:lnTo>
                    <a:pt x="312" y="63"/>
                  </a:lnTo>
                  <a:lnTo>
                    <a:pt x="242" y="94"/>
                  </a:lnTo>
                  <a:lnTo>
                    <a:pt x="209" y="108"/>
                  </a:lnTo>
                  <a:lnTo>
                    <a:pt x="170" y="118"/>
                  </a:lnTo>
                  <a:lnTo>
                    <a:pt x="99" y="121"/>
                  </a:lnTo>
                  <a:lnTo>
                    <a:pt x="67" y="156"/>
                  </a:lnTo>
                  <a:lnTo>
                    <a:pt x="50" y="202"/>
                  </a:lnTo>
                  <a:lnTo>
                    <a:pt x="48" y="248"/>
                  </a:lnTo>
                  <a:lnTo>
                    <a:pt x="54" y="269"/>
                  </a:lnTo>
                  <a:lnTo>
                    <a:pt x="63" y="291"/>
                  </a:lnTo>
                  <a:lnTo>
                    <a:pt x="106" y="354"/>
                  </a:lnTo>
                  <a:lnTo>
                    <a:pt x="135" y="372"/>
                  </a:lnTo>
                  <a:lnTo>
                    <a:pt x="161" y="386"/>
                  </a:lnTo>
                  <a:lnTo>
                    <a:pt x="221" y="397"/>
                  </a:lnTo>
                  <a:lnTo>
                    <a:pt x="231" y="407"/>
                  </a:lnTo>
                  <a:lnTo>
                    <a:pt x="229" y="414"/>
                  </a:lnTo>
                  <a:lnTo>
                    <a:pt x="221" y="417"/>
                  </a:lnTo>
                  <a:lnTo>
                    <a:pt x="141" y="417"/>
                  </a:lnTo>
                  <a:lnTo>
                    <a:pt x="68" y="394"/>
                  </a:lnTo>
                  <a:lnTo>
                    <a:pt x="41" y="357"/>
                  </a:lnTo>
                  <a:lnTo>
                    <a:pt x="15" y="319"/>
                  </a:lnTo>
                  <a:lnTo>
                    <a:pt x="0" y="257"/>
                  </a:lnTo>
                  <a:lnTo>
                    <a:pt x="12" y="192"/>
                  </a:lnTo>
                  <a:lnTo>
                    <a:pt x="24" y="160"/>
                  </a:lnTo>
                  <a:lnTo>
                    <a:pt x="38" y="132"/>
                  </a:lnTo>
                  <a:lnTo>
                    <a:pt x="56" y="108"/>
                  </a:lnTo>
                  <a:lnTo>
                    <a:pt x="82" y="86"/>
                  </a:lnTo>
                  <a:lnTo>
                    <a:pt x="168" y="72"/>
                  </a:lnTo>
                  <a:lnTo>
                    <a:pt x="306" y="40"/>
                  </a:lnTo>
                  <a:lnTo>
                    <a:pt x="372" y="3"/>
                  </a:lnTo>
                  <a:lnTo>
                    <a:pt x="386" y="0"/>
                  </a:lnTo>
                  <a:lnTo>
                    <a:pt x="389" y="14"/>
                  </a:lnTo>
                  <a:lnTo>
                    <a:pt x="38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17880" y="3501720"/>
              <a:ext cx="526320" cy="201960"/>
            </a:xfrm>
            <a:custGeom>
              <a:avLst/>
              <a:gdLst/>
              <a:ahLst/>
              <a:rect l="l" t="t" r="r" b="b"/>
              <a:pathLst>
                <a:path w="1188" h="457">
                  <a:moveTo>
                    <a:pt x="176" y="22"/>
                  </a:moveTo>
                  <a:lnTo>
                    <a:pt x="162" y="48"/>
                  </a:lnTo>
                  <a:lnTo>
                    <a:pt x="149" y="73"/>
                  </a:lnTo>
                  <a:lnTo>
                    <a:pt x="135" y="96"/>
                  </a:lnTo>
                  <a:lnTo>
                    <a:pt x="121" y="118"/>
                  </a:lnTo>
                  <a:lnTo>
                    <a:pt x="93" y="161"/>
                  </a:lnTo>
                  <a:lnTo>
                    <a:pt x="63" y="205"/>
                  </a:lnTo>
                  <a:lnTo>
                    <a:pt x="111" y="189"/>
                  </a:lnTo>
                  <a:lnTo>
                    <a:pt x="164" y="160"/>
                  </a:lnTo>
                  <a:lnTo>
                    <a:pt x="188" y="147"/>
                  </a:lnTo>
                  <a:lnTo>
                    <a:pt x="220" y="145"/>
                  </a:lnTo>
                  <a:lnTo>
                    <a:pt x="234" y="165"/>
                  </a:lnTo>
                  <a:lnTo>
                    <a:pt x="249" y="175"/>
                  </a:lnTo>
                  <a:lnTo>
                    <a:pt x="250" y="192"/>
                  </a:lnTo>
                  <a:lnTo>
                    <a:pt x="241" y="330"/>
                  </a:lnTo>
                  <a:lnTo>
                    <a:pt x="264" y="302"/>
                  </a:lnTo>
                  <a:lnTo>
                    <a:pt x="287" y="275"/>
                  </a:lnTo>
                  <a:lnTo>
                    <a:pt x="310" y="243"/>
                  </a:lnTo>
                  <a:lnTo>
                    <a:pt x="338" y="208"/>
                  </a:lnTo>
                  <a:lnTo>
                    <a:pt x="357" y="197"/>
                  </a:lnTo>
                  <a:lnTo>
                    <a:pt x="376" y="208"/>
                  </a:lnTo>
                  <a:lnTo>
                    <a:pt x="393" y="254"/>
                  </a:lnTo>
                  <a:lnTo>
                    <a:pt x="409" y="315"/>
                  </a:lnTo>
                  <a:lnTo>
                    <a:pt x="425" y="368"/>
                  </a:lnTo>
                  <a:lnTo>
                    <a:pt x="441" y="336"/>
                  </a:lnTo>
                  <a:lnTo>
                    <a:pt x="458" y="304"/>
                  </a:lnTo>
                  <a:lnTo>
                    <a:pt x="475" y="270"/>
                  </a:lnTo>
                  <a:lnTo>
                    <a:pt x="494" y="232"/>
                  </a:lnTo>
                  <a:lnTo>
                    <a:pt x="502" y="221"/>
                  </a:lnTo>
                  <a:lnTo>
                    <a:pt x="511" y="217"/>
                  </a:lnTo>
                  <a:lnTo>
                    <a:pt x="531" y="226"/>
                  </a:lnTo>
                  <a:lnTo>
                    <a:pt x="553" y="256"/>
                  </a:lnTo>
                  <a:lnTo>
                    <a:pt x="565" y="287"/>
                  </a:lnTo>
                  <a:lnTo>
                    <a:pt x="576" y="321"/>
                  </a:lnTo>
                  <a:lnTo>
                    <a:pt x="594" y="355"/>
                  </a:lnTo>
                  <a:lnTo>
                    <a:pt x="632" y="399"/>
                  </a:lnTo>
                  <a:lnTo>
                    <a:pt x="656" y="335"/>
                  </a:lnTo>
                  <a:lnTo>
                    <a:pt x="670" y="304"/>
                  </a:lnTo>
                  <a:lnTo>
                    <a:pt x="690" y="271"/>
                  </a:lnTo>
                  <a:lnTo>
                    <a:pt x="705" y="259"/>
                  </a:lnTo>
                  <a:lnTo>
                    <a:pt x="722" y="264"/>
                  </a:lnTo>
                  <a:lnTo>
                    <a:pt x="752" y="283"/>
                  </a:lnTo>
                  <a:lnTo>
                    <a:pt x="777" y="300"/>
                  </a:lnTo>
                  <a:lnTo>
                    <a:pt x="801" y="316"/>
                  </a:lnTo>
                  <a:lnTo>
                    <a:pt x="824" y="333"/>
                  </a:lnTo>
                  <a:lnTo>
                    <a:pt x="847" y="346"/>
                  </a:lnTo>
                  <a:lnTo>
                    <a:pt x="870" y="362"/>
                  </a:lnTo>
                  <a:lnTo>
                    <a:pt x="896" y="375"/>
                  </a:lnTo>
                  <a:lnTo>
                    <a:pt x="923" y="389"/>
                  </a:lnTo>
                  <a:lnTo>
                    <a:pt x="915" y="329"/>
                  </a:lnTo>
                  <a:lnTo>
                    <a:pt x="893" y="269"/>
                  </a:lnTo>
                  <a:lnTo>
                    <a:pt x="891" y="249"/>
                  </a:lnTo>
                  <a:lnTo>
                    <a:pt x="902" y="234"/>
                  </a:lnTo>
                  <a:lnTo>
                    <a:pt x="956" y="227"/>
                  </a:lnTo>
                  <a:lnTo>
                    <a:pt x="995" y="246"/>
                  </a:lnTo>
                  <a:lnTo>
                    <a:pt x="1037" y="261"/>
                  </a:lnTo>
                  <a:lnTo>
                    <a:pt x="1079" y="271"/>
                  </a:lnTo>
                  <a:lnTo>
                    <a:pt x="1121" y="271"/>
                  </a:lnTo>
                  <a:lnTo>
                    <a:pt x="1103" y="197"/>
                  </a:lnTo>
                  <a:lnTo>
                    <a:pt x="1094" y="161"/>
                  </a:lnTo>
                  <a:lnTo>
                    <a:pt x="1081" y="120"/>
                  </a:lnTo>
                  <a:lnTo>
                    <a:pt x="1087" y="107"/>
                  </a:lnTo>
                  <a:lnTo>
                    <a:pt x="1100" y="113"/>
                  </a:lnTo>
                  <a:lnTo>
                    <a:pt x="1122" y="160"/>
                  </a:lnTo>
                  <a:lnTo>
                    <a:pt x="1145" y="200"/>
                  </a:lnTo>
                  <a:lnTo>
                    <a:pt x="1188" y="287"/>
                  </a:lnTo>
                  <a:lnTo>
                    <a:pt x="1187" y="315"/>
                  </a:lnTo>
                  <a:lnTo>
                    <a:pt x="1164" y="327"/>
                  </a:lnTo>
                  <a:lnTo>
                    <a:pt x="1091" y="324"/>
                  </a:lnTo>
                  <a:lnTo>
                    <a:pt x="1023" y="300"/>
                  </a:lnTo>
                  <a:lnTo>
                    <a:pt x="972" y="288"/>
                  </a:lnTo>
                  <a:lnTo>
                    <a:pt x="981" y="355"/>
                  </a:lnTo>
                  <a:lnTo>
                    <a:pt x="971" y="429"/>
                  </a:lnTo>
                  <a:lnTo>
                    <a:pt x="961" y="450"/>
                  </a:lnTo>
                  <a:lnTo>
                    <a:pt x="937" y="449"/>
                  </a:lnTo>
                  <a:lnTo>
                    <a:pt x="742" y="356"/>
                  </a:lnTo>
                  <a:lnTo>
                    <a:pt x="721" y="380"/>
                  </a:lnTo>
                  <a:lnTo>
                    <a:pt x="698" y="397"/>
                  </a:lnTo>
                  <a:lnTo>
                    <a:pt x="653" y="444"/>
                  </a:lnTo>
                  <a:lnTo>
                    <a:pt x="638" y="457"/>
                  </a:lnTo>
                  <a:lnTo>
                    <a:pt x="620" y="446"/>
                  </a:lnTo>
                  <a:lnTo>
                    <a:pt x="594" y="411"/>
                  </a:lnTo>
                  <a:lnTo>
                    <a:pt x="567" y="374"/>
                  </a:lnTo>
                  <a:lnTo>
                    <a:pt x="531" y="317"/>
                  </a:lnTo>
                  <a:lnTo>
                    <a:pt x="508" y="349"/>
                  </a:lnTo>
                  <a:lnTo>
                    <a:pt x="482" y="372"/>
                  </a:lnTo>
                  <a:lnTo>
                    <a:pt x="434" y="433"/>
                  </a:lnTo>
                  <a:lnTo>
                    <a:pt x="425" y="445"/>
                  </a:lnTo>
                  <a:lnTo>
                    <a:pt x="415" y="446"/>
                  </a:lnTo>
                  <a:lnTo>
                    <a:pt x="400" y="428"/>
                  </a:lnTo>
                  <a:lnTo>
                    <a:pt x="389" y="388"/>
                  </a:lnTo>
                  <a:lnTo>
                    <a:pt x="374" y="362"/>
                  </a:lnTo>
                  <a:lnTo>
                    <a:pt x="344" y="294"/>
                  </a:lnTo>
                  <a:lnTo>
                    <a:pt x="315" y="328"/>
                  </a:lnTo>
                  <a:lnTo>
                    <a:pt x="290" y="351"/>
                  </a:lnTo>
                  <a:lnTo>
                    <a:pt x="265" y="374"/>
                  </a:lnTo>
                  <a:lnTo>
                    <a:pt x="250" y="389"/>
                  </a:lnTo>
                  <a:lnTo>
                    <a:pt x="231" y="409"/>
                  </a:lnTo>
                  <a:lnTo>
                    <a:pt x="217" y="418"/>
                  </a:lnTo>
                  <a:lnTo>
                    <a:pt x="203" y="417"/>
                  </a:lnTo>
                  <a:lnTo>
                    <a:pt x="192" y="391"/>
                  </a:lnTo>
                  <a:lnTo>
                    <a:pt x="203" y="191"/>
                  </a:lnTo>
                  <a:lnTo>
                    <a:pt x="165" y="210"/>
                  </a:lnTo>
                  <a:lnTo>
                    <a:pt x="147" y="222"/>
                  </a:lnTo>
                  <a:lnTo>
                    <a:pt x="124" y="233"/>
                  </a:lnTo>
                  <a:lnTo>
                    <a:pt x="72" y="248"/>
                  </a:lnTo>
                  <a:lnTo>
                    <a:pt x="19" y="250"/>
                  </a:lnTo>
                  <a:lnTo>
                    <a:pt x="0" y="246"/>
                  </a:lnTo>
                  <a:lnTo>
                    <a:pt x="7" y="229"/>
                  </a:lnTo>
                  <a:lnTo>
                    <a:pt x="27" y="199"/>
                  </a:lnTo>
                  <a:lnTo>
                    <a:pt x="44" y="171"/>
                  </a:lnTo>
                  <a:lnTo>
                    <a:pt x="62" y="143"/>
                  </a:lnTo>
                  <a:lnTo>
                    <a:pt x="78" y="117"/>
                  </a:lnTo>
                  <a:lnTo>
                    <a:pt x="93" y="89"/>
                  </a:lnTo>
                  <a:lnTo>
                    <a:pt x="109" y="61"/>
                  </a:lnTo>
                  <a:lnTo>
                    <a:pt x="141" y="0"/>
                  </a:lnTo>
                  <a:lnTo>
                    <a:pt x="163" y="2"/>
                  </a:lnTo>
                  <a:lnTo>
                    <a:pt x="176" y="22"/>
                  </a:lnTo>
                  <a:lnTo>
                    <a:pt x="176" y="22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62080" y="3580200"/>
              <a:ext cx="127440" cy="361080"/>
            </a:xfrm>
            <a:custGeom>
              <a:avLst/>
              <a:gdLst/>
              <a:ahLst/>
              <a:rect l="l" t="t" r="r" b="b"/>
              <a:pathLst>
                <a:path w="289" h="815">
                  <a:moveTo>
                    <a:pt x="289" y="33"/>
                  </a:moveTo>
                  <a:lnTo>
                    <a:pt x="281" y="63"/>
                  </a:lnTo>
                  <a:lnTo>
                    <a:pt x="267" y="121"/>
                  </a:lnTo>
                  <a:lnTo>
                    <a:pt x="253" y="184"/>
                  </a:lnTo>
                  <a:lnTo>
                    <a:pt x="245" y="224"/>
                  </a:lnTo>
                  <a:lnTo>
                    <a:pt x="225" y="294"/>
                  </a:lnTo>
                  <a:lnTo>
                    <a:pt x="209" y="353"/>
                  </a:lnTo>
                  <a:lnTo>
                    <a:pt x="183" y="452"/>
                  </a:lnTo>
                  <a:lnTo>
                    <a:pt x="169" y="499"/>
                  </a:lnTo>
                  <a:lnTo>
                    <a:pt x="154" y="549"/>
                  </a:lnTo>
                  <a:lnTo>
                    <a:pt x="133" y="606"/>
                  </a:lnTo>
                  <a:lnTo>
                    <a:pt x="121" y="637"/>
                  </a:lnTo>
                  <a:lnTo>
                    <a:pt x="107" y="673"/>
                  </a:lnTo>
                  <a:lnTo>
                    <a:pt x="87" y="712"/>
                  </a:lnTo>
                  <a:lnTo>
                    <a:pt x="65" y="743"/>
                  </a:lnTo>
                  <a:lnTo>
                    <a:pt x="42" y="774"/>
                  </a:lnTo>
                  <a:lnTo>
                    <a:pt x="17" y="811"/>
                  </a:lnTo>
                  <a:lnTo>
                    <a:pt x="3" y="815"/>
                  </a:lnTo>
                  <a:lnTo>
                    <a:pt x="0" y="801"/>
                  </a:lnTo>
                  <a:lnTo>
                    <a:pt x="65" y="652"/>
                  </a:lnTo>
                  <a:lnTo>
                    <a:pt x="92" y="583"/>
                  </a:lnTo>
                  <a:lnTo>
                    <a:pt x="112" y="518"/>
                  </a:lnTo>
                  <a:lnTo>
                    <a:pt x="141" y="396"/>
                  </a:lnTo>
                  <a:lnTo>
                    <a:pt x="154" y="336"/>
                  </a:lnTo>
                  <a:lnTo>
                    <a:pt x="168" y="273"/>
                  </a:lnTo>
                  <a:lnTo>
                    <a:pt x="183" y="207"/>
                  </a:lnTo>
                  <a:lnTo>
                    <a:pt x="204" y="135"/>
                  </a:lnTo>
                  <a:lnTo>
                    <a:pt x="223" y="50"/>
                  </a:lnTo>
                  <a:lnTo>
                    <a:pt x="231" y="33"/>
                  </a:lnTo>
                  <a:lnTo>
                    <a:pt x="242" y="15"/>
                  </a:lnTo>
                  <a:lnTo>
                    <a:pt x="256" y="0"/>
                  </a:lnTo>
                  <a:lnTo>
                    <a:pt x="275" y="0"/>
                  </a:lnTo>
                  <a:lnTo>
                    <a:pt x="289" y="13"/>
                  </a:lnTo>
                  <a:lnTo>
                    <a:pt x="289" y="33"/>
                  </a:lnTo>
                  <a:lnTo>
                    <a:pt x="289" y="3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85840" y="3851280"/>
              <a:ext cx="154080" cy="111240"/>
            </a:xfrm>
            <a:custGeom>
              <a:avLst/>
              <a:gdLst/>
              <a:ahLst/>
              <a:rect l="l" t="t" r="r" b="b"/>
              <a:pathLst>
                <a:path w="349" h="250">
                  <a:moveTo>
                    <a:pt x="10" y="229"/>
                  </a:moveTo>
                  <a:lnTo>
                    <a:pt x="41" y="222"/>
                  </a:lnTo>
                  <a:lnTo>
                    <a:pt x="64" y="204"/>
                  </a:lnTo>
                  <a:lnTo>
                    <a:pt x="85" y="181"/>
                  </a:lnTo>
                  <a:lnTo>
                    <a:pt x="98" y="169"/>
                  </a:lnTo>
                  <a:lnTo>
                    <a:pt x="111" y="158"/>
                  </a:lnTo>
                  <a:lnTo>
                    <a:pt x="147" y="130"/>
                  </a:lnTo>
                  <a:lnTo>
                    <a:pt x="184" y="103"/>
                  </a:lnTo>
                  <a:lnTo>
                    <a:pt x="201" y="88"/>
                  </a:lnTo>
                  <a:lnTo>
                    <a:pt x="219" y="76"/>
                  </a:lnTo>
                  <a:lnTo>
                    <a:pt x="250" y="54"/>
                  </a:lnTo>
                  <a:lnTo>
                    <a:pt x="280" y="31"/>
                  </a:lnTo>
                  <a:lnTo>
                    <a:pt x="313" y="0"/>
                  </a:lnTo>
                  <a:lnTo>
                    <a:pt x="323" y="4"/>
                  </a:lnTo>
                  <a:lnTo>
                    <a:pt x="336" y="24"/>
                  </a:lnTo>
                  <a:lnTo>
                    <a:pt x="349" y="62"/>
                  </a:lnTo>
                  <a:lnTo>
                    <a:pt x="335" y="83"/>
                  </a:lnTo>
                  <a:lnTo>
                    <a:pt x="322" y="98"/>
                  </a:lnTo>
                  <a:lnTo>
                    <a:pt x="294" y="117"/>
                  </a:lnTo>
                  <a:lnTo>
                    <a:pt x="227" y="159"/>
                  </a:lnTo>
                  <a:lnTo>
                    <a:pt x="188" y="188"/>
                  </a:lnTo>
                  <a:lnTo>
                    <a:pt x="152" y="216"/>
                  </a:lnTo>
                  <a:lnTo>
                    <a:pt x="118" y="234"/>
                  </a:lnTo>
                  <a:lnTo>
                    <a:pt x="84" y="245"/>
                  </a:lnTo>
                  <a:lnTo>
                    <a:pt x="10" y="250"/>
                  </a:lnTo>
                  <a:lnTo>
                    <a:pt x="0" y="240"/>
                  </a:lnTo>
                  <a:lnTo>
                    <a:pt x="3" y="233"/>
                  </a:lnTo>
                  <a:lnTo>
                    <a:pt x="10" y="229"/>
                  </a:lnTo>
                  <a:lnTo>
                    <a:pt x="10" y="22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219760" y="3851280"/>
              <a:ext cx="92880" cy="114120"/>
            </a:xfrm>
            <a:custGeom>
              <a:avLst/>
              <a:gdLst/>
              <a:ahLst/>
              <a:rect l="l" t="t" r="r" b="b"/>
              <a:pathLst>
                <a:path w="211" h="256">
                  <a:moveTo>
                    <a:pt x="40" y="8"/>
                  </a:moveTo>
                  <a:lnTo>
                    <a:pt x="74" y="54"/>
                  </a:lnTo>
                  <a:lnTo>
                    <a:pt x="115" y="117"/>
                  </a:lnTo>
                  <a:lnTo>
                    <a:pt x="141" y="149"/>
                  </a:lnTo>
                  <a:lnTo>
                    <a:pt x="161" y="182"/>
                  </a:lnTo>
                  <a:lnTo>
                    <a:pt x="182" y="212"/>
                  </a:lnTo>
                  <a:lnTo>
                    <a:pt x="194" y="226"/>
                  </a:lnTo>
                  <a:lnTo>
                    <a:pt x="209" y="241"/>
                  </a:lnTo>
                  <a:lnTo>
                    <a:pt x="211" y="255"/>
                  </a:lnTo>
                  <a:lnTo>
                    <a:pt x="197" y="256"/>
                  </a:lnTo>
                  <a:lnTo>
                    <a:pt x="179" y="242"/>
                  </a:lnTo>
                  <a:lnTo>
                    <a:pt x="163" y="231"/>
                  </a:lnTo>
                  <a:lnTo>
                    <a:pt x="130" y="207"/>
                  </a:lnTo>
                  <a:lnTo>
                    <a:pt x="98" y="184"/>
                  </a:lnTo>
                  <a:lnTo>
                    <a:pt x="68" y="154"/>
                  </a:lnTo>
                  <a:lnTo>
                    <a:pt x="19" y="79"/>
                  </a:lnTo>
                  <a:lnTo>
                    <a:pt x="3" y="30"/>
                  </a:lnTo>
                  <a:lnTo>
                    <a:pt x="0" y="13"/>
                  </a:lnTo>
                  <a:lnTo>
                    <a:pt x="10" y="0"/>
                  </a:lnTo>
                  <a:lnTo>
                    <a:pt x="40" y="8"/>
                  </a:lnTo>
                  <a:lnTo>
                    <a:pt x="40" y="8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22360" y="3639960"/>
              <a:ext cx="58320" cy="320040"/>
            </a:xfrm>
            <a:custGeom>
              <a:avLst/>
              <a:gdLst/>
              <a:ahLst/>
              <a:rect l="l" t="t" r="r" b="b"/>
              <a:pathLst>
                <a:path w="130" h="722">
                  <a:moveTo>
                    <a:pt x="130" y="83"/>
                  </a:moveTo>
                  <a:lnTo>
                    <a:pt x="113" y="180"/>
                  </a:lnTo>
                  <a:lnTo>
                    <a:pt x="95" y="264"/>
                  </a:lnTo>
                  <a:lnTo>
                    <a:pt x="60" y="445"/>
                  </a:lnTo>
                  <a:lnTo>
                    <a:pt x="22" y="698"/>
                  </a:lnTo>
                  <a:lnTo>
                    <a:pt x="17" y="715"/>
                  </a:lnTo>
                  <a:lnTo>
                    <a:pt x="9" y="722"/>
                  </a:lnTo>
                  <a:lnTo>
                    <a:pt x="0" y="705"/>
                  </a:lnTo>
                  <a:lnTo>
                    <a:pt x="8" y="436"/>
                  </a:lnTo>
                  <a:lnTo>
                    <a:pt x="24" y="331"/>
                  </a:lnTo>
                  <a:lnTo>
                    <a:pt x="45" y="224"/>
                  </a:lnTo>
                  <a:lnTo>
                    <a:pt x="66" y="117"/>
                  </a:lnTo>
                  <a:lnTo>
                    <a:pt x="83" y="12"/>
                  </a:lnTo>
                  <a:lnTo>
                    <a:pt x="92" y="0"/>
                  </a:lnTo>
                  <a:lnTo>
                    <a:pt x="110" y="16"/>
                  </a:lnTo>
                  <a:lnTo>
                    <a:pt x="130" y="83"/>
                  </a:lnTo>
                  <a:lnTo>
                    <a:pt x="130" y="8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55480" y="3687840"/>
              <a:ext cx="73080" cy="291960"/>
            </a:xfrm>
            <a:custGeom>
              <a:avLst/>
              <a:gdLst/>
              <a:ahLst/>
              <a:rect l="l" t="t" r="r" b="b"/>
              <a:pathLst>
                <a:path w="165" h="661">
                  <a:moveTo>
                    <a:pt x="39" y="19"/>
                  </a:moveTo>
                  <a:lnTo>
                    <a:pt x="53" y="59"/>
                  </a:lnTo>
                  <a:lnTo>
                    <a:pt x="128" y="278"/>
                  </a:lnTo>
                  <a:lnTo>
                    <a:pt x="151" y="463"/>
                  </a:lnTo>
                  <a:lnTo>
                    <a:pt x="165" y="650"/>
                  </a:lnTo>
                  <a:lnTo>
                    <a:pt x="156" y="661"/>
                  </a:lnTo>
                  <a:lnTo>
                    <a:pt x="145" y="652"/>
                  </a:lnTo>
                  <a:lnTo>
                    <a:pt x="134" y="553"/>
                  </a:lnTo>
                  <a:lnTo>
                    <a:pt x="116" y="468"/>
                  </a:lnTo>
                  <a:lnTo>
                    <a:pt x="98" y="383"/>
                  </a:lnTo>
                  <a:lnTo>
                    <a:pt x="80" y="286"/>
                  </a:lnTo>
                  <a:lnTo>
                    <a:pt x="67" y="228"/>
                  </a:lnTo>
                  <a:lnTo>
                    <a:pt x="51" y="179"/>
                  </a:lnTo>
                  <a:lnTo>
                    <a:pt x="31" y="131"/>
                  </a:lnTo>
                  <a:lnTo>
                    <a:pt x="7" y="7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20" y="0"/>
                  </a:lnTo>
                  <a:lnTo>
                    <a:pt x="34" y="4"/>
                  </a:lnTo>
                  <a:lnTo>
                    <a:pt x="39" y="19"/>
                  </a:lnTo>
                  <a:lnTo>
                    <a:pt x="39" y="1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55560" y="3882960"/>
              <a:ext cx="217800" cy="99360"/>
            </a:xfrm>
            <a:custGeom>
              <a:avLst/>
              <a:gdLst/>
              <a:ahLst/>
              <a:rect l="l" t="t" r="r" b="b"/>
              <a:pathLst>
                <a:path w="491" h="226">
                  <a:moveTo>
                    <a:pt x="0" y="212"/>
                  </a:moveTo>
                  <a:lnTo>
                    <a:pt x="13" y="191"/>
                  </a:lnTo>
                  <a:lnTo>
                    <a:pt x="29" y="168"/>
                  </a:lnTo>
                  <a:lnTo>
                    <a:pt x="49" y="143"/>
                  </a:lnTo>
                  <a:lnTo>
                    <a:pt x="69" y="118"/>
                  </a:lnTo>
                  <a:lnTo>
                    <a:pt x="90" y="91"/>
                  </a:lnTo>
                  <a:lnTo>
                    <a:pt x="109" y="67"/>
                  </a:lnTo>
                  <a:lnTo>
                    <a:pt x="138" y="23"/>
                  </a:lnTo>
                  <a:lnTo>
                    <a:pt x="152" y="5"/>
                  </a:lnTo>
                  <a:lnTo>
                    <a:pt x="169" y="0"/>
                  </a:lnTo>
                  <a:lnTo>
                    <a:pt x="184" y="6"/>
                  </a:lnTo>
                  <a:lnTo>
                    <a:pt x="197" y="25"/>
                  </a:lnTo>
                  <a:lnTo>
                    <a:pt x="209" y="46"/>
                  </a:lnTo>
                  <a:lnTo>
                    <a:pt x="227" y="60"/>
                  </a:lnTo>
                  <a:lnTo>
                    <a:pt x="270" y="87"/>
                  </a:lnTo>
                  <a:lnTo>
                    <a:pt x="296" y="103"/>
                  </a:lnTo>
                  <a:lnTo>
                    <a:pt x="322" y="116"/>
                  </a:lnTo>
                  <a:lnTo>
                    <a:pt x="378" y="136"/>
                  </a:lnTo>
                  <a:lnTo>
                    <a:pt x="429" y="163"/>
                  </a:lnTo>
                  <a:lnTo>
                    <a:pt x="453" y="175"/>
                  </a:lnTo>
                  <a:lnTo>
                    <a:pt x="482" y="179"/>
                  </a:lnTo>
                  <a:lnTo>
                    <a:pt x="491" y="190"/>
                  </a:lnTo>
                  <a:lnTo>
                    <a:pt x="489" y="197"/>
                  </a:lnTo>
                  <a:lnTo>
                    <a:pt x="482" y="199"/>
                  </a:lnTo>
                  <a:lnTo>
                    <a:pt x="417" y="209"/>
                  </a:lnTo>
                  <a:lnTo>
                    <a:pt x="353" y="207"/>
                  </a:lnTo>
                  <a:lnTo>
                    <a:pt x="228" y="148"/>
                  </a:lnTo>
                  <a:lnTo>
                    <a:pt x="193" y="122"/>
                  </a:lnTo>
                  <a:lnTo>
                    <a:pt x="165" y="96"/>
                  </a:lnTo>
                  <a:lnTo>
                    <a:pt x="152" y="106"/>
                  </a:lnTo>
                  <a:lnTo>
                    <a:pt x="135" y="121"/>
                  </a:lnTo>
                  <a:lnTo>
                    <a:pt x="112" y="138"/>
                  </a:lnTo>
                  <a:lnTo>
                    <a:pt x="89" y="155"/>
                  </a:lnTo>
                  <a:lnTo>
                    <a:pt x="64" y="174"/>
                  </a:lnTo>
                  <a:lnTo>
                    <a:pt x="43" y="191"/>
                  </a:lnTo>
                  <a:lnTo>
                    <a:pt x="15" y="222"/>
                  </a:lnTo>
                  <a:lnTo>
                    <a:pt x="3" y="226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72560" y="3626640"/>
              <a:ext cx="110160" cy="317160"/>
            </a:xfrm>
            <a:custGeom>
              <a:avLst/>
              <a:gdLst/>
              <a:ahLst/>
              <a:rect l="l" t="t" r="r" b="b"/>
              <a:pathLst>
                <a:path w="250" h="716">
                  <a:moveTo>
                    <a:pt x="17" y="4"/>
                  </a:moveTo>
                  <a:lnTo>
                    <a:pt x="48" y="68"/>
                  </a:lnTo>
                  <a:lnTo>
                    <a:pt x="72" y="134"/>
                  </a:lnTo>
                  <a:lnTo>
                    <a:pt x="86" y="181"/>
                  </a:lnTo>
                  <a:lnTo>
                    <a:pt x="101" y="223"/>
                  </a:lnTo>
                  <a:lnTo>
                    <a:pt x="127" y="298"/>
                  </a:lnTo>
                  <a:lnTo>
                    <a:pt x="153" y="373"/>
                  </a:lnTo>
                  <a:lnTo>
                    <a:pt x="175" y="463"/>
                  </a:lnTo>
                  <a:lnTo>
                    <a:pt x="207" y="553"/>
                  </a:lnTo>
                  <a:lnTo>
                    <a:pt x="226" y="629"/>
                  </a:lnTo>
                  <a:lnTo>
                    <a:pt x="233" y="665"/>
                  </a:lnTo>
                  <a:lnTo>
                    <a:pt x="250" y="702"/>
                  </a:lnTo>
                  <a:lnTo>
                    <a:pt x="247" y="716"/>
                  </a:lnTo>
                  <a:lnTo>
                    <a:pt x="233" y="712"/>
                  </a:lnTo>
                  <a:lnTo>
                    <a:pt x="210" y="677"/>
                  </a:lnTo>
                  <a:lnTo>
                    <a:pt x="187" y="646"/>
                  </a:lnTo>
                  <a:lnTo>
                    <a:pt x="164" y="616"/>
                  </a:lnTo>
                  <a:lnTo>
                    <a:pt x="145" y="579"/>
                  </a:lnTo>
                  <a:lnTo>
                    <a:pt x="111" y="481"/>
                  </a:lnTo>
                  <a:lnTo>
                    <a:pt x="90" y="392"/>
                  </a:lnTo>
                  <a:lnTo>
                    <a:pt x="69" y="314"/>
                  </a:lnTo>
                  <a:lnTo>
                    <a:pt x="47" y="236"/>
                  </a:lnTo>
                  <a:lnTo>
                    <a:pt x="34" y="195"/>
                  </a:lnTo>
                  <a:lnTo>
                    <a:pt x="22" y="148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7" y="4"/>
                  </a:lnTo>
                  <a:lnTo>
                    <a:pt x="17" y="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58080" y="3088800"/>
              <a:ext cx="280080" cy="475200"/>
            </a:xfrm>
            <a:custGeom>
              <a:avLst/>
              <a:gdLst/>
              <a:ahLst/>
              <a:rect l="l" t="t" r="r" b="b"/>
              <a:pathLst>
                <a:path w="635" h="1073">
                  <a:moveTo>
                    <a:pt x="526" y="1"/>
                  </a:moveTo>
                  <a:lnTo>
                    <a:pt x="554" y="62"/>
                  </a:lnTo>
                  <a:lnTo>
                    <a:pt x="577" y="119"/>
                  </a:lnTo>
                  <a:lnTo>
                    <a:pt x="611" y="226"/>
                  </a:lnTo>
                  <a:lnTo>
                    <a:pt x="629" y="339"/>
                  </a:lnTo>
                  <a:lnTo>
                    <a:pt x="635" y="468"/>
                  </a:lnTo>
                  <a:lnTo>
                    <a:pt x="627" y="570"/>
                  </a:lnTo>
                  <a:lnTo>
                    <a:pt x="616" y="617"/>
                  </a:lnTo>
                  <a:lnTo>
                    <a:pt x="600" y="670"/>
                  </a:lnTo>
                  <a:lnTo>
                    <a:pt x="579" y="730"/>
                  </a:lnTo>
                  <a:lnTo>
                    <a:pt x="554" y="781"/>
                  </a:lnTo>
                  <a:lnTo>
                    <a:pt x="539" y="804"/>
                  </a:lnTo>
                  <a:lnTo>
                    <a:pt x="522" y="825"/>
                  </a:lnTo>
                  <a:lnTo>
                    <a:pt x="487" y="863"/>
                  </a:lnTo>
                  <a:lnTo>
                    <a:pt x="468" y="881"/>
                  </a:lnTo>
                  <a:lnTo>
                    <a:pt x="447" y="898"/>
                  </a:lnTo>
                  <a:lnTo>
                    <a:pt x="425" y="913"/>
                  </a:lnTo>
                  <a:lnTo>
                    <a:pt x="402" y="928"/>
                  </a:lnTo>
                  <a:lnTo>
                    <a:pt x="377" y="942"/>
                  </a:lnTo>
                  <a:lnTo>
                    <a:pt x="350" y="957"/>
                  </a:lnTo>
                  <a:lnTo>
                    <a:pt x="324" y="971"/>
                  </a:lnTo>
                  <a:lnTo>
                    <a:pt x="296" y="984"/>
                  </a:lnTo>
                  <a:lnTo>
                    <a:pt x="258" y="1001"/>
                  </a:lnTo>
                  <a:lnTo>
                    <a:pt x="223" y="1014"/>
                  </a:lnTo>
                  <a:lnTo>
                    <a:pt x="155" y="1034"/>
                  </a:lnTo>
                  <a:lnTo>
                    <a:pt x="13" y="1073"/>
                  </a:lnTo>
                  <a:lnTo>
                    <a:pt x="0" y="1067"/>
                  </a:lnTo>
                  <a:lnTo>
                    <a:pt x="6" y="1055"/>
                  </a:lnTo>
                  <a:lnTo>
                    <a:pt x="78" y="1026"/>
                  </a:lnTo>
                  <a:lnTo>
                    <a:pt x="109" y="1012"/>
                  </a:lnTo>
                  <a:lnTo>
                    <a:pt x="139" y="997"/>
                  </a:lnTo>
                  <a:lnTo>
                    <a:pt x="169" y="980"/>
                  </a:lnTo>
                  <a:lnTo>
                    <a:pt x="200" y="964"/>
                  </a:lnTo>
                  <a:lnTo>
                    <a:pt x="233" y="947"/>
                  </a:lnTo>
                  <a:lnTo>
                    <a:pt x="269" y="929"/>
                  </a:lnTo>
                  <a:lnTo>
                    <a:pt x="318" y="905"/>
                  </a:lnTo>
                  <a:lnTo>
                    <a:pt x="362" y="880"/>
                  </a:lnTo>
                  <a:lnTo>
                    <a:pt x="402" y="852"/>
                  </a:lnTo>
                  <a:lnTo>
                    <a:pt x="438" y="822"/>
                  </a:lnTo>
                  <a:lnTo>
                    <a:pt x="469" y="787"/>
                  </a:lnTo>
                  <a:lnTo>
                    <a:pt x="496" y="747"/>
                  </a:lnTo>
                  <a:lnTo>
                    <a:pt x="536" y="649"/>
                  </a:lnTo>
                  <a:lnTo>
                    <a:pt x="561" y="559"/>
                  </a:lnTo>
                  <a:lnTo>
                    <a:pt x="568" y="468"/>
                  </a:lnTo>
                  <a:lnTo>
                    <a:pt x="564" y="344"/>
                  </a:lnTo>
                  <a:lnTo>
                    <a:pt x="551" y="235"/>
                  </a:lnTo>
                  <a:lnTo>
                    <a:pt x="539" y="182"/>
                  </a:lnTo>
                  <a:lnTo>
                    <a:pt x="523" y="130"/>
                  </a:lnTo>
                  <a:lnTo>
                    <a:pt x="503" y="74"/>
                  </a:lnTo>
                  <a:lnTo>
                    <a:pt x="476" y="16"/>
                  </a:lnTo>
                  <a:lnTo>
                    <a:pt x="481" y="8"/>
                  </a:lnTo>
                  <a:lnTo>
                    <a:pt x="497" y="0"/>
                  </a:lnTo>
                  <a:lnTo>
                    <a:pt x="526" y="1"/>
                  </a:lnTo>
                  <a:lnTo>
                    <a:pt x="526" y="1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84400" y="3371760"/>
              <a:ext cx="298800" cy="192600"/>
            </a:xfrm>
            <a:custGeom>
              <a:avLst/>
              <a:gdLst/>
              <a:ahLst/>
              <a:rect l="l" t="t" r="r" b="b"/>
              <a:pathLst>
                <a:path w="674" h="435">
                  <a:moveTo>
                    <a:pt x="17" y="5"/>
                  </a:moveTo>
                  <a:lnTo>
                    <a:pt x="33" y="38"/>
                  </a:lnTo>
                  <a:lnTo>
                    <a:pt x="48" y="68"/>
                  </a:lnTo>
                  <a:lnTo>
                    <a:pt x="65" y="96"/>
                  </a:lnTo>
                  <a:lnTo>
                    <a:pt x="82" y="121"/>
                  </a:lnTo>
                  <a:lnTo>
                    <a:pt x="101" y="144"/>
                  </a:lnTo>
                  <a:lnTo>
                    <a:pt x="121" y="166"/>
                  </a:lnTo>
                  <a:lnTo>
                    <a:pt x="142" y="186"/>
                  </a:lnTo>
                  <a:lnTo>
                    <a:pt x="164" y="206"/>
                  </a:lnTo>
                  <a:lnTo>
                    <a:pt x="187" y="223"/>
                  </a:lnTo>
                  <a:lnTo>
                    <a:pt x="211" y="239"/>
                  </a:lnTo>
                  <a:lnTo>
                    <a:pt x="237" y="254"/>
                  </a:lnTo>
                  <a:lnTo>
                    <a:pt x="264" y="268"/>
                  </a:lnTo>
                  <a:lnTo>
                    <a:pt x="292" y="282"/>
                  </a:lnTo>
                  <a:lnTo>
                    <a:pt x="322" y="296"/>
                  </a:lnTo>
                  <a:lnTo>
                    <a:pt x="352" y="309"/>
                  </a:lnTo>
                  <a:lnTo>
                    <a:pt x="384" y="322"/>
                  </a:lnTo>
                  <a:lnTo>
                    <a:pt x="438" y="346"/>
                  </a:lnTo>
                  <a:lnTo>
                    <a:pt x="495" y="362"/>
                  </a:lnTo>
                  <a:lnTo>
                    <a:pt x="539" y="377"/>
                  </a:lnTo>
                  <a:lnTo>
                    <a:pt x="577" y="394"/>
                  </a:lnTo>
                  <a:lnTo>
                    <a:pt x="617" y="406"/>
                  </a:lnTo>
                  <a:lnTo>
                    <a:pt x="663" y="411"/>
                  </a:lnTo>
                  <a:lnTo>
                    <a:pt x="674" y="422"/>
                  </a:lnTo>
                  <a:lnTo>
                    <a:pt x="670" y="428"/>
                  </a:lnTo>
                  <a:lnTo>
                    <a:pt x="663" y="431"/>
                  </a:lnTo>
                  <a:lnTo>
                    <a:pt x="569" y="435"/>
                  </a:lnTo>
                  <a:lnTo>
                    <a:pt x="477" y="424"/>
                  </a:lnTo>
                  <a:lnTo>
                    <a:pt x="358" y="381"/>
                  </a:lnTo>
                  <a:lnTo>
                    <a:pt x="293" y="352"/>
                  </a:lnTo>
                  <a:lnTo>
                    <a:pt x="262" y="337"/>
                  </a:lnTo>
                  <a:lnTo>
                    <a:pt x="235" y="319"/>
                  </a:lnTo>
                  <a:lnTo>
                    <a:pt x="209" y="302"/>
                  </a:lnTo>
                  <a:lnTo>
                    <a:pt x="185" y="283"/>
                  </a:lnTo>
                  <a:lnTo>
                    <a:pt x="161" y="263"/>
                  </a:lnTo>
                  <a:lnTo>
                    <a:pt x="139" y="242"/>
                  </a:lnTo>
                  <a:lnTo>
                    <a:pt x="100" y="194"/>
                  </a:lnTo>
                  <a:lnTo>
                    <a:pt x="81" y="169"/>
                  </a:lnTo>
                  <a:lnTo>
                    <a:pt x="64" y="141"/>
                  </a:lnTo>
                  <a:lnTo>
                    <a:pt x="46" y="112"/>
                  </a:lnTo>
                  <a:lnTo>
                    <a:pt x="30" y="80"/>
                  </a:lnTo>
                  <a:lnTo>
                    <a:pt x="0" y="13"/>
                  </a:lnTo>
                  <a:lnTo>
                    <a:pt x="5" y="0"/>
                  </a:lnTo>
                  <a:lnTo>
                    <a:pt x="17" y="5"/>
                  </a:lnTo>
                  <a:lnTo>
                    <a:pt x="17" y="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03120" y="3038400"/>
              <a:ext cx="175320" cy="419760"/>
            </a:xfrm>
            <a:custGeom>
              <a:avLst/>
              <a:gdLst/>
              <a:ahLst/>
              <a:rect l="l" t="t" r="r" b="b"/>
              <a:pathLst>
                <a:path w="396" h="948">
                  <a:moveTo>
                    <a:pt x="339" y="18"/>
                  </a:moveTo>
                  <a:lnTo>
                    <a:pt x="296" y="38"/>
                  </a:lnTo>
                  <a:lnTo>
                    <a:pt x="259" y="57"/>
                  </a:lnTo>
                  <a:lnTo>
                    <a:pt x="223" y="77"/>
                  </a:lnTo>
                  <a:lnTo>
                    <a:pt x="185" y="102"/>
                  </a:lnTo>
                  <a:lnTo>
                    <a:pt x="211" y="223"/>
                  </a:lnTo>
                  <a:lnTo>
                    <a:pt x="183" y="258"/>
                  </a:lnTo>
                  <a:lnTo>
                    <a:pt x="168" y="273"/>
                  </a:lnTo>
                  <a:lnTo>
                    <a:pt x="154" y="287"/>
                  </a:lnTo>
                  <a:lnTo>
                    <a:pt x="124" y="312"/>
                  </a:lnTo>
                  <a:lnTo>
                    <a:pt x="90" y="339"/>
                  </a:lnTo>
                  <a:lnTo>
                    <a:pt x="112" y="384"/>
                  </a:lnTo>
                  <a:lnTo>
                    <a:pt x="130" y="427"/>
                  </a:lnTo>
                  <a:lnTo>
                    <a:pt x="137" y="520"/>
                  </a:lnTo>
                  <a:lnTo>
                    <a:pt x="117" y="548"/>
                  </a:lnTo>
                  <a:lnTo>
                    <a:pt x="97" y="573"/>
                  </a:lnTo>
                  <a:lnTo>
                    <a:pt x="79" y="599"/>
                  </a:lnTo>
                  <a:lnTo>
                    <a:pt x="58" y="624"/>
                  </a:lnTo>
                  <a:lnTo>
                    <a:pt x="68" y="648"/>
                  </a:lnTo>
                  <a:lnTo>
                    <a:pt x="81" y="667"/>
                  </a:lnTo>
                  <a:lnTo>
                    <a:pt x="97" y="686"/>
                  </a:lnTo>
                  <a:lnTo>
                    <a:pt x="117" y="703"/>
                  </a:lnTo>
                  <a:lnTo>
                    <a:pt x="163" y="726"/>
                  </a:lnTo>
                  <a:lnTo>
                    <a:pt x="206" y="752"/>
                  </a:lnTo>
                  <a:lnTo>
                    <a:pt x="231" y="779"/>
                  </a:lnTo>
                  <a:lnTo>
                    <a:pt x="235" y="813"/>
                  </a:lnTo>
                  <a:lnTo>
                    <a:pt x="230" y="853"/>
                  </a:lnTo>
                  <a:lnTo>
                    <a:pt x="220" y="896"/>
                  </a:lnTo>
                  <a:lnTo>
                    <a:pt x="287" y="883"/>
                  </a:lnTo>
                  <a:lnTo>
                    <a:pt x="358" y="873"/>
                  </a:lnTo>
                  <a:lnTo>
                    <a:pt x="372" y="871"/>
                  </a:lnTo>
                  <a:lnTo>
                    <a:pt x="390" y="877"/>
                  </a:lnTo>
                  <a:lnTo>
                    <a:pt x="396" y="895"/>
                  </a:lnTo>
                  <a:lnTo>
                    <a:pt x="390" y="911"/>
                  </a:lnTo>
                  <a:lnTo>
                    <a:pt x="372" y="917"/>
                  </a:lnTo>
                  <a:lnTo>
                    <a:pt x="361" y="915"/>
                  </a:lnTo>
                  <a:lnTo>
                    <a:pt x="198" y="948"/>
                  </a:lnTo>
                  <a:lnTo>
                    <a:pt x="176" y="944"/>
                  </a:lnTo>
                  <a:lnTo>
                    <a:pt x="170" y="924"/>
                  </a:lnTo>
                  <a:lnTo>
                    <a:pt x="182" y="882"/>
                  </a:lnTo>
                  <a:lnTo>
                    <a:pt x="199" y="841"/>
                  </a:lnTo>
                  <a:lnTo>
                    <a:pt x="208" y="806"/>
                  </a:lnTo>
                  <a:lnTo>
                    <a:pt x="203" y="793"/>
                  </a:lnTo>
                  <a:lnTo>
                    <a:pt x="190" y="781"/>
                  </a:lnTo>
                  <a:lnTo>
                    <a:pt x="147" y="754"/>
                  </a:lnTo>
                  <a:lnTo>
                    <a:pt x="126" y="741"/>
                  </a:lnTo>
                  <a:lnTo>
                    <a:pt x="102" y="728"/>
                  </a:lnTo>
                  <a:lnTo>
                    <a:pt x="69" y="706"/>
                  </a:lnTo>
                  <a:lnTo>
                    <a:pt x="40" y="686"/>
                  </a:lnTo>
                  <a:lnTo>
                    <a:pt x="0" y="625"/>
                  </a:lnTo>
                  <a:lnTo>
                    <a:pt x="4" y="600"/>
                  </a:lnTo>
                  <a:lnTo>
                    <a:pt x="29" y="573"/>
                  </a:lnTo>
                  <a:lnTo>
                    <a:pt x="50" y="551"/>
                  </a:lnTo>
                  <a:lnTo>
                    <a:pt x="93" y="501"/>
                  </a:lnTo>
                  <a:lnTo>
                    <a:pt x="91" y="457"/>
                  </a:lnTo>
                  <a:lnTo>
                    <a:pt x="74" y="421"/>
                  </a:lnTo>
                  <a:lnTo>
                    <a:pt x="50" y="385"/>
                  </a:lnTo>
                  <a:lnTo>
                    <a:pt x="26" y="344"/>
                  </a:lnTo>
                  <a:lnTo>
                    <a:pt x="24" y="326"/>
                  </a:lnTo>
                  <a:lnTo>
                    <a:pt x="33" y="310"/>
                  </a:lnTo>
                  <a:lnTo>
                    <a:pt x="54" y="294"/>
                  </a:lnTo>
                  <a:lnTo>
                    <a:pt x="75" y="283"/>
                  </a:lnTo>
                  <a:lnTo>
                    <a:pt x="117" y="268"/>
                  </a:lnTo>
                  <a:lnTo>
                    <a:pt x="158" y="251"/>
                  </a:lnTo>
                  <a:lnTo>
                    <a:pt x="192" y="218"/>
                  </a:lnTo>
                  <a:lnTo>
                    <a:pt x="184" y="186"/>
                  </a:lnTo>
                  <a:lnTo>
                    <a:pt x="170" y="159"/>
                  </a:lnTo>
                  <a:lnTo>
                    <a:pt x="140" y="102"/>
                  </a:lnTo>
                  <a:lnTo>
                    <a:pt x="147" y="79"/>
                  </a:lnTo>
                  <a:lnTo>
                    <a:pt x="169" y="63"/>
                  </a:lnTo>
                  <a:lnTo>
                    <a:pt x="191" y="50"/>
                  </a:lnTo>
                  <a:lnTo>
                    <a:pt x="235" y="34"/>
                  </a:lnTo>
                  <a:lnTo>
                    <a:pt x="331" y="0"/>
                  </a:lnTo>
                  <a:lnTo>
                    <a:pt x="343" y="5"/>
                  </a:lnTo>
                  <a:lnTo>
                    <a:pt x="339" y="18"/>
                  </a:lnTo>
                  <a:lnTo>
                    <a:pt x="339" y="18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99680" y="3444840"/>
              <a:ext cx="106200" cy="78120"/>
            </a:xfrm>
            <a:custGeom>
              <a:avLst/>
              <a:gdLst/>
              <a:ahLst/>
              <a:rect l="l" t="t" r="r" b="b"/>
              <a:pathLst>
                <a:path w="242" h="175">
                  <a:moveTo>
                    <a:pt x="43" y="14"/>
                  </a:moveTo>
                  <a:lnTo>
                    <a:pt x="65" y="66"/>
                  </a:lnTo>
                  <a:lnTo>
                    <a:pt x="87" y="113"/>
                  </a:lnTo>
                  <a:lnTo>
                    <a:pt x="116" y="91"/>
                  </a:lnTo>
                  <a:lnTo>
                    <a:pt x="143" y="67"/>
                  </a:lnTo>
                  <a:lnTo>
                    <a:pt x="171" y="44"/>
                  </a:lnTo>
                  <a:lnTo>
                    <a:pt x="201" y="18"/>
                  </a:lnTo>
                  <a:lnTo>
                    <a:pt x="220" y="12"/>
                  </a:lnTo>
                  <a:lnTo>
                    <a:pt x="236" y="21"/>
                  </a:lnTo>
                  <a:lnTo>
                    <a:pt x="242" y="38"/>
                  </a:lnTo>
                  <a:lnTo>
                    <a:pt x="233" y="56"/>
                  </a:lnTo>
                  <a:lnTo>
                    <a:pt x="214" y="72"/>
                  </a:lnTo>
                  <a:lnTo>
                    <a:pt x="197" y="87"/>
                  </a:lnTo>
                  <a:lnTo>
                    <a:pt x="179" y="102"/>
                  </a:lnTo>
                  <a:lnTo>
                    <a:pt x="164" y="115"/>
                  </a:lnTo>
                  <a:lnTo>
                    <a:pt x="147" y="129"/>
                  </a:lnTo>
                  <a:lnTo>
                    <a:pt x="130" y="142"/>
                  </a:lnTo>
                  <a:lnTo>
                    <a:pt x="112" y="156"/>
                  </a:lnTo>
                  <a:lnTo>
                    <a:pt x="91" y="169"/>
                  </a:lnTo>
                  <a:lnTo>
                    <a:pt x="70" y="175"/>
                  </a:lnTo>
                  <a:lnTo>
                    <a:pt x="55" y="160"/>
                  </a:lnTo>
                  <a:lnTo>
                    <a:pt x="27" y="95"/>
                  </a:lnTo>
                  <a:lnTo>
                    <a:pt x="0" y="30"/>
                  </a:lnTo>
                  <a:lnTo>
                    <a:pt x="1" y="12"/>
                  </a:lnTo>
                  <a:lnTo>
                    <a:pt x="14" y="0"/>
                  </a:lnTo>
                  <a:lnTo>
                    <a:pt x="43" y="14"/>
                  </a:lnTo>
                  <a:lnTo>
                    <a:pt x="43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30000" y="3105000"/>
              <a:ext cx="255240" cy="415440"/>
            </a:xfrm>
            <a:custGeom>
              <a:avLst/>
              <a:gdLst/>
              <a:ahLst/>
              <a:rect l="l" t="t" r="r" b="b"/>
              <a:pathLst>
                <a:path w="576" h="939">
                  <a:moveTo>
                    <a:pt x="41" y="805"/>
                  </a:moveTo>
                  <a:lnTo>
                    <a:pt x="75" y="847"/>
                  </a:lnTo>
                  <a:lnTo>
                    <a:pt x="90" y="867"/>
                  </a:lnTo>
                  <a:lnTo>
                    <a:pt x="113" y="882"/>
                  </a:lnTo>
                  <a:lnTo>
                    <a:pt x="141" y="893"/>
                  </a:lnTo>
                  <a:lnTo>
                    <a:pt x="166" y="850"/>
                  </a:lnTo>
                  <a:lnTo>
                    <a:pt x="193" y="805"/>
                  </a:lnTo>
                  <a:lnTo>
                    <a:pt x="210" y="774"/>
                  </a:lnTo>
                  <a:lnTo>
                    <a:pt x="229" y="746"/>
                  </a:lnTo>
                  <a:lnTo>
                    <a:pt x="241" y="736"/>
                  </a:lnTo>
                  <a:lnTo>
                    <a:pt x="252" y="725"/>
                  </a:lnTo>
                  <a:lnTo>
                    <a:pt x="285" y="715"/>
                  </a:lnTo>
                  <a:lnTo>
                    <a:pt x="352" y="705"/>
                  </a:lnTo>
                  <a:lnTo>
                    <a:pt x="412" y="700"/>
                  </a:lnTo>
                  <a:lnTo>
                    <a:pt x="393" y="656"/>
                  </a:lnTo>
                  <a:lnTo>
                    <a:pt x="372" y="609"/>
                  </a:lnTo>
                  <a:lnTo>
                    <a:pt x="378" y="578"/>
                  </a:lnTo>
                  <a:lnTo>
                    <a:pt x="393" y="555"/>
                  </a:lnTo>
                  <a:lnTo>
                    <a:pt x="414" y="535"/>
                  </a:lnTo>
                  <a:lnTo>
                    <a:pt x="440" y="520"/>
                  </a:lnTo>
                  <a:lnTo>
                    <a:pt x="469" y="505"/>
                  </a:lnTo>
                  <a:lnTo>
                    <a:pt x="498" y="490"/>
                  </a:lnTo>
                  <a:lnTo>
                    <a:pt x="551" y="448"/>
                  </a:lnTo>
                  <a:lnTo>
                    <a:pt x="552" y="455"/>
                  </a:lnTo>
                  <a:lnTo>
                    <a:pt x="560" y="447"/>
                  </a:lnTo>
                  <a:lnTo>
                    <a:pt x="536" y="431"/>
                  </a:lnTo>
                  <a:lnTo>
                    <a:pt x="508" y="420"/>
                  </a:lnTo>
                  <a:lnTo>
                    <a:pt x="452" y="407"/>
                  </a:lnTo>
                  <a:lnTo>
                    <a:pt x="401" y="390"/>
                  </a:lnTo>
                  <a:lnTo>
                    <a:pt x="364" y="349"/>
                  </a:lnTo>
                  <a:lnTo>
                    <a:pt x="366" y="331"/>
                  </a:lnTo>
                  <a:lnTo>
                    <a:pt x="382" y="313"/>
                  </a:lnTo>
                  <a:lnTo>
                    <a:pt x="399" y="298"/>
                  </a:lnTo>
                  <a:lnTo>
                    <a:pt x="415" y="284"/>
                  </a:lnTo>
                  <a:lnTo>
                    <a:pt x="432" y="267"/>
                  </a:lnTo>
                  <a:lnTo>
                    <a:pt x="451" y="238"/>
                  </a:lnTo>
                  <a:lnTo>
                    <a:pt x="473" y="214"/>
                  </a:lnTo>
                  <a:lnTo>
                    <a:pt x="493" y="189"/>
                  </a:lnTo>
                  <a:lnTo>
                    <a:pt x="308" y="134"/>
                  </a:lnTo>
                  <a:lnTo>
                    <a:pt x="291" y="108"/>
                  </a:lnTo>
                  <a:lnTo>
                    <a:pt x="300" y="78"/>
                  </a:lnTo>
                  <a:lnTo>
                    <a:pt x="318" y="56"/>
                  </a:lnTo>
                  <a:lnTo>
                    <a:pt x="356" y="6"/>
                  </a:lnTo>
                  <a:lnTo>
                    <a:pt x="368" y="0"/>
                  </a:lnTo>
                  <a:lnTo>
                    <a:pt x="374" y="13"/>
                  </a:lnTo>
                  <a:lnTo>
                    <a:pt x="345" y="92"/>
                  </a:lnTo>
                  <a:lnTo>
                    <a:pt x="393" y="109"/>
                  </a:lnTo>
                  <a:lnTo>
                    <a:pt x="437" y="125"/>
                  </a:lnTo>
                  <a:lnTo>
                    <a:pt x="481" y="143"/>
                  </a:lnTo>
                  <a:lnTo>
                    <a:pt x="532" y="159"/>
                  </a:lnTo>
                  <a:lnTo>
                    <a:pt x="547" y="172"/>
                  </a:lnTo>
                  <a:lnTo>
                    <a:pt x="541" y="190"/>
                  </a:lnTo>
                  <a:lnTo>
                    <a:pt x="519" y="214"/>
                  </a:lnTo>
                  <a:lnTo>
                    <a:pt x="496" y="236"/>
                  </a:lnTo>
                  <a:lnTo>
                    <a:pt x="455" y="284"/>
                  </a:lnTo>
                  <a:lnTo>
                    <a:pt x="440" y="301"/>
                  </a:lnTo>
                  <a:lnTo>
                    <a:pt x="426" y="315"/>
                  </a:lnTo>
                  <a:lnTo>
                    <a:pt x="399" y="345"/>
                  </a:lnTo>
                  <a:lnTo>
                    <a:pt x="414" y="363"/>
                  </a:lnTo>
                  <a:lnTo>
                    <a:pt x="433" y="376"/>
                  </a:lnTo>
                  <a:lnTo>
                    <a:pt x="480" y="390"/>
                  </a:lnTo>
                  <a:lnTo>
                    <a:pt x="576" y="426"/>
                  </a:lnTo>
                  <a:lnTo>
                    <a:pt x="573" y="436"/>
                  </a:lnTo>
                  <a:lnTo>
                    <a:pt x="567" y="450"/>
                  </a:lnTo>
                  <a:lnTo>
                    <a:pt x="566" y="461"/>
                  </a:lnTo>
                  <a:lnTo>
                    <a:pt x="546" y="480"/>
                  </a:lnTo>
                  <a:lnTo>
                    <a:pt x="525" y="496"/>
                  </a:lnTo>
                  <a:lnTo>
                    <a:pt x="481" y="522"/>
                  </a:lnTo>
                  <a:lnTo>
                    <a:pt x="445" y="552"/>
                  </a:lnTo>
                  <a:lnTo>
                    <a:pt x="430" y="598"/>
                  </a:lnTo>
                  <a:lnTo>
                    <a:pt x="479" y="729"/>
                  </a:lnTo>
                  <a:lnTo>
                    <a:pt x="474" y="758"/>
                  </a:lnTo>
                  <a:lnTo>
                    <a:pt x="445" y="761"/>
                  </a:lnTo>
                  <a:lnTo>
                    <a:pt x="367" y="745"/>
                  </a:lnTo>
                  <a:lnTo>
                    <a:pt x="288" y="744"/>
                  </a:lnTo>
                  <a:lnTo>
                    <a:pt x="264" y="754"/>
                  </a:lnTo>
                  <a:lnTo>
                    <a:pt x="246" y="773"/>
                  </a:lnTo>
                  <a:lnTo>
                    <a:pt x="222" y="821"/>
                  </a:lnTo>
                  <a:lnTo>
                    <a:pt x="206" y="849"/>
                  </a:lnTo>
                  <a:lnTo>
                    <a:pt x="192" y="875"/>
                  </a:lnTo>
                  <a:lnTo>
                    <a:pt x="178" y="899"/>
                  </a:lnTo>
                  <a:lnTo>
                    <a:pt x="163" y="928"/>
                  </a:lnTo>
                  <a:lnTo>
                    <a:pt x="150" y="939"/>
                  </a:lnTo>
                  <a:lnTo>
                    <a:pt x="135" y="933"/>
                  </a:lnTo>
                  <a:lnTo>
                    <a:pt x="105" y="900"/>
                  </a:lnTo>
                  <a:lnTo>
                    <a:pt x="11" y="845"/>
                  </a:lnTo>
                  <a:lnTo>
                    <a:pt x="0" y="827"/>
                  </a:lnTo>
                  <a:lnTo>
                    <a:pt x="6" y="810"/>
                  </a:lnTo>
                  <a:lnTo>
                    <a:pt x="21" y="801"/>
                  </a:lnTo>
                  <a:lnTo>
                    <a:pt x="41" y="805"/>
                  </a:lnTo>
                  <a:lnTo>
                    <a:pt x="41" y="8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84920" y="3011760"/>
              <a:ext cx="103680" cy="78120"/>
            </a:xfrm>
            <a:custGeom>
              <a:avLst/>
              <a:gdLst/>
              <a:ahLst/>
              <a:rect l="l" t="t" r="r" b="b"/>
              <a:pathLst>
                <a:path w="234" h="178">
                  <a:moveTo>
                    <a:pt x="17" y="46"/>
                  </a:moveTo>
                  <a:lnTo>
                    <a:pt x="125" y="101"/>
                  </a:lnTo>
                  <a:lnTo>
                    <a:pt x="152" y="60"/>
                  </a:lnTo>
                  <a:lnTo>
                    <a:pt x="168" y="43"/>
                  </a:lnTo>
                  <a:lnTo>
                    <a:pt x="185" y="30"/>
                  </a:lnTo>
                  <a:lnTo>
                    <a:pt x="219" y="1"/>
                  </a:lnTo>
                  <a:lnTo>
                    <a:pt x="233" y="0"/>
                  </a:lnTo>
                  <a:lnTo>
                    <a:pt x="234" y="14"/>
                  </a:lnTo>
                  <a:lnTo>
                    <a:pt x="198" y="92"/>
                  </a:lnTo>
                  <a:lnTo>
                    <a:pt x="153" y="161"/>
                  </a:lnTo>
                  <a:lnTo>
                    <a:pt x="142" y="173"/>
                  </a:lnTo>
                  <a:lnTo>
                    <a:pt x="131" y="178"/>
                  </a:lnTo>
                  <a:lnTo>
                    <a:pt x="108" y="162"/>
                  </a:lnTo>
                  <a:lnTo>
                    <a:pt x="83" y="133"/>
                  </a:lnTo>
                  <a:lnTo>
                    <a:pt x="60" y="109"/>
                  </a:lnTo>
                  <a:lnTo>
                    <a:pt x="36" y="89"/>
                  </a:lnTo>
                  <a:lnTo>
                    <a:pt x="4" y="70"/>
                  </a:lnTo>
                  <a:lnTo>
                    <a:pt x="0" y="52"/>
                  </a:lnTo>
                  <a:lnTo>
                    <a:pt x="17" y="46"/>
                  </a:lnTo>
                  <a:lnTo>
                    <a:pt x="17" y="4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47280" y="3040920"/>
              <a:ext cx="101160" cy="67680"/>
            </a:xfrm>
            <a:custGeom>
              <a:avLst/>
              <a:gdLst/>
              <a:ahLst/>
              <a:rect l="l" t="t" r="r" b="b"/>
              <a:pathLst>
                <a:path w="228" h="154">
                  <a:moveTo>
                    <a:pt x="18" y="6"/>
                  </a:moveTo>
                  <a:lnTo>
                    <a:pt x="40" y="52"/>
                  </a:lnTo>
                  <a:lnTo>
                    <a:pt x="53" y="73"/>
                  </a:lnTo>
                  <a:lnTo>
                    <a:pt x="68" y="93"/>
                  </a:lnTo>
                  <a:lnTo>
                    <a:pt x="104" y="76"/>
                  </a:lnTo>
                  <a:lnTo>
                    <a:pt x="139" y="62"/>
                  </a:lnTo>
                  <a:lnTo>
                    <a:pt x="216" y="35"/>
                  </a:lnTo>
                  <a:lnTo>
                    <a:pt x="228" y="41"/>
                  </a:lnTo>
                  <a:lnTo>
                    <a:pt x="223" y="54"/>
                  </a:lnTo>
                  <a:lnTo>
                    <a:pt x="182" y="73"/>
                  </a:lnTo>
                  <a:lnTo>
                    <a:pt x="148" y="96"/>
                  </a:lnTo>
                  <a:lnTo>
                    <a:pt x="117" y="121"/>
                  </a:lnTo>
                  <a:lnTo>
                    <a:pt x="99" y="135"/>
                  </a:lnTo>
                  <a:lnTo>
                    <a:pt x="81" y="149"/>
                  </a:lnTo>
                  <a:lnTo>
                    <a:pt x="63" y="154"/>
                  </a:lnTo>
                  <a:lnTo>
                    <a:pt x="47" y="146"/>
                  </a:lnTo>
                  <a:lnTo>
                    <a:pt x="26" y="116"/>
                  </a:lnTo>
                  <a:lnTo>
                    <a:pt x="17" y="84"/>
                  </a:lnTo>
                  <a:lnTo>
                    <a:pt x="0" y="14"/>
                  </a:lnTo>
                  <a:lnTo>
                    <a:pt x="5" y="0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820880" y="3123360"/>
              <a:ext cx="36000" cy="154080"/>
            </a:xfrm>
            <a:custGeom>
              <a:avLst/>
              <a:gdLst/>
              <a:ahLst/>
              <a:rect l="l" t="t" r="r" b="b"/>
              <a:pathLst>
                <a:path w="82" h="349">
                  <a:moveTo>
                    <a:pt x="63" y="14"/>
                  </a:moveTo>
                  <a:lnTo>
                    <a:pt x="82" y="131"/>
                  </a:lnTo>
                  <a:lnTo>
                    <a:pt x="77" y="177"/>
                  </a:lnTo>
                  <a:lnTo>
                    <a:pt x="68" y="222"/>
                  </a:lnTo>
                  <a:lnTo>
                    <a:pt x="54" y="262"/>
                  </a:lnTo>
                  <a:lnTo>
                    <a:pt x="36" y="300"/>
                  </a:lnTo>
                  <a:lnTo>
                    <a:pt x="18" y="343"/>
                  </a:lnTo>
                  <a:lnTo>
                    <a:pt x="6" y="349"/>
                  </a:lnTo>
                  <a:lnTo>
                    <a:pt x="0" y="335"/>
                  </a:lnTo>
                  <a:lnTo>
                    <a:pt x="14" y="256"/>
                  </a:lnTo>
                  <a:lnTo>
                    <a:pt x="17" y="174"/>
                  </a:lnTo>
                  <a:lnTo>
                    <a:pt x="21" y="127"/>
                  </a:lnTo>
                  <a:lnTo>
                    <a:pt x="34" y="17"/>
                  </a:lnTo>
                  <a:lnTo>
                    <a:pt x="38" y="5"/>
                  </a:lnTo>
                  <a:lnTo>
                    <a:pt x="47" y="0"/>
                  </a:lnTo>
                  <a:lnTo>
                    <a:pt x="63" y="14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33120" y="3292200"/>
              <a:ext cx="83520" cy="26280"/>
            </a:xfrm>
            <a:custGeom>
              <a:avLst/>
              <a:gdLst/>
              <a:ahLst/>
              <a:rect l="l" t="t" r="r" b="b"/>
              <a:pathLst>
                <a:path w="188" h="62">
                  <a:moveTo>
                    <a:pt x="13" y="0"/>
                  </a:moveTo>
                  <a:lnTo>
                    <a:pt x="49" y="12"/>
                  </a:lnTo>
                  <a:lnTo>
                    <a:pt x="83" y="19"/>
                  </a:lnTo>
                  <a:lnTo>
                    <a:pt x="149" y="4"/>
                  </a:lnTo>
                  <a:lnTo>
                    <a:pt x="170" y="0"/>
                  </a:lnTo>
                  <a:lnTo>
                    <a:pt x="185" y="12"/>
                  </a:lnTo>
                  <a:lnTo>
                    <a:pt x="188" y="32"/>
                  </a:lnTo>
                  <a:lnTo>
                    <a:pt x="177" y="49"/>
                  </a:lnTo>
                  <a:lnTo>
                    <a:pt x="135" y="62"/>
                  </a:lnTo>
                  <a:lnTo>
                    <a:pt x="93" y="55"/>
                  </a:lnTo>
                  <a:lnTo>
                    <a:pt x="51" y="37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67680" y="3143520"/>
              <a:ext cx="75600" cy="4752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11" y="1"/>
                  </a:moveTo>
                  <a:lnTo>
                    <a:pt x="90" y="0"/>
                  </a:lnTo>
                  <a:lnTo>
                    <a:pt x="123" y="8"/>
                  </a:lnTo>
                  <a:lnTo>
                    <a:pt x="153" y="30"/>
                  </a:lnTo>
                  <a:lnTo>
                    <a:pt x="169" y="69"/>
                  </a:lnTo>
                  <a:lnTo>
                    <a:pt x="167" y="89"/>
                  </a:lnTo>
                  <a:lnTo>
                    <a:pt x="156" y="103"/>
                  </a:lnTo>
                  <a:lnTo>
                    <a:pt x="131" y="109"/>
                  </a:lnTo>
                  <a:lnTo>
                    <a:pt x="103" y="105"/>
                  </a:lnTo>
                  <a:lnTo>
                    <a:pt x="85" y="97"/>
                  </a:lnTo>
                  <a:lnTo>
                    <a:pt x="79" y="78"/>
                  </a:lnTo>
                  <a:lnTo>
                    <a:pt x="80" y="61"/>
                  </a:lnTo>
                  <a:lnTo>
                    <a:pt x="80" y="58"/>
                  </a:lnTo>
                  <a:lnTo>
                    <a:pt x="92" y="35"/>
                  </a:lnTo>
                  <a:lnTo>
                    <a:pt x="55" y="23"/>
                  </a:lnTo>
                  <a:lnTo>
                    <a:pt x="11" y="21"/>
                  </a:lnTo>
                  <a:lnTo>
                    <a:pt x="0" y="11"/>
                  </a:lnTo>
                  <a:lnTo>
                    <a:pt x="2" y="4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80200" y="3135240"/>
              <a:ext cx="43560" cy="439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12" y="0"/>
                  </a:moveTo>
                  <a:lnTo>
                    <a:pt x="67" y="5"/>
                  </a:lnTo>
                  <a:lnTo>
                    <a:pt x="98" y="50"/>
                  </a:lnTo>
                  <a:lnTo>
                    <a:pt x="99" y="77"/>
                  </a:lnTo>
                  <a:lnTo>
                    <a:pt x="88" y="99"/>
                  </a:lnTo>
                  <a:lnTo>
                    <a:pt x="53" y="94"/>
                  </a:lnTo>
                  <a:lnTo>
                    <a:pt x="42" y="90"/>
                  </a:lnTo>
                  <a:lnTo>
                    <a:pt x="32" y="80"/>
                  </a:lnTo>
                  <a:lnTo>
                    <a:pt x="34" y="68"/>
                  </a:lnTo>
                  <a:lnTo>
                    <a:pt x="45" y="54"/>
                  </a:lnTo>
                  <a:lnTo>
                    <a:pt x="58" y="43"/>
                  </a:lnTo>
                  <a:lnTo>
                    <a:pt x="52" y="34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67680" y="3335760"/>
              <a:ext cx="123480" cy="45000"/>
            </a:xfrm>
            <a:custGeom>
              <a:avLst/>
              <a:gdLst/>
              <a:ahLst/>
              <a:rect l="l" t="t" r="r" b="b"/>
              <a:pathLst>
                <a:path w="279" h="102">
                  <a:moveTo>
                    <a:pt x="8" y="78"/>
                  </a:moveTo>
                  <a:lnTo>
                    <a:pt x="141" y="51"/>
                  </a:lnTo>
                  <a:lnTo>
                    <a:pt x="191" y="34"/>
                  </a:lnTo>
                  <a:lnTo>
                    <a:pt x="240" y="4"/>
                  </a:lnTo>
                  <a:lnTo>
                    <a:pt x="260" y="0"/>
                  </a:lnTo>
                  <a:lnTo>
                    <a:pt x="274" y="12"/>
                  </a:lnTo>
                  <a:lnTo>
                    <a:pt x="279" y="29"/>
                  </a:lnTo>
                  <a:lnTo>
                    <a:pt x="267" y="45"/>
                  </a:lnTo>
                  <a:lnTo>
                    <a:pt x="233" y="65"/>
                  </a:lnTo>
                  <a:lnTo>
                    <a:pt x="200" y="80"/>
                  </a:lnTo>
                  <a:lnTo>
                    <a:pt x="166" y="93"/>
                  </a:lnTo>
                  <a:lnTo>
                    <a:pt x="130" y="102"/>
                  </a:lnTo>
                  <a:lnTo>
                    <a:pt x="71" y="102"/>
                  </a:lnTo>
                  <a:lnTo>
                    <a:pt x="10" y="97"/>
                  </a:lnTo>
                  <a:lnTo>
                    <a:pt x="0" y="88"/>
                  </a:lnTo>
                  <a:lnTo>
                    <a:pt x="8" y="78"/>
                  </a:lnTo>
                  <a:lnTo>
                    <a:pt x="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68840" y="3315960"/>
              <a:ext cx="34560" cy="51480"/>
            </a:xfrm>
            <a:custGeom>
              <a:avLst/>
              <a:gdLst/>
              <a:ahLst/>
              <a:rect l="l" t="t" r="r" b="b"/>
              <a:pathLst>
                <a:path w="77" h="119">
                  <a:moveTo>
                    <a:pt x="14" y="0"/>
                  </a:moveTo>
                  <a:lnTo>
                    <a:pt x="47" y="21"/>
                  </a:lnTo>
                  <a:lnTo>
                    <a:pt x="70" y="52"/>
                  </a:lnTo>
                  <a:lnTo>
                    <a:pt x="77" y="92"/>
                  </a:lnTo>
                  <a:lnTo>
                    <a:pt x="74" y="110"/>
                  </a:lnTo>
                  <a:lnTo>
                    <a:pt x="62" y="119"/>
                  </a:lnTo>
                  <a:lnTo>
                    <a:pt x="37" y="104"/>
                  </a:lnTo>
                  <a:lnTo>
                    <a:pt x="24" y="68"/>
                  </a:lnTo>
                  <a:lnTo>
                    <a:pt x="5" y="18"/>
                  </a:lnTo>
                  <a:lnTo>
                    <a:pt x="0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745280" y="3086280"/>
              <a:ext cx="118440" cy="363600"/>
            </a:xfrm>
            <a:custGeom>
              <a:avLst/>
              <a:gdLst/>
              <a:ahLst/>
              <a:rect l="l" t="t" r="r" b="b"/>
              <a:pathLst>
                <a:path w="267" h="823">
                  <a:moveTo>
                    <a:pt x="53" y="11"/>
                  </a:moveTo>
                  <a:lnTo>
                    <a:pt x="48" y="59"/>
                  </a:lnTo>
                  <a:lnTo>
                    <a:pt x="38" y="104"/>
                  </a:lnTo>
                  <a:lnTo>
                    <a:pt x="33" y="196"/>
                  </a:lnTo>
                  <a:lnTo>
                    <a:pt x="47" y="226"/>
                  </a:lnTo>
                  <a:lnTo>
                    <a:pt x="67" y="255"/>
                  </a:lnTo>
                  <a:lnTo>
                    <a:pt x="90" y="303"/>
                  </a:lnTo>
                  <a:lnTo>
                    <a:pt x="88" y="347"/>
                  </a:lnTo>
                  <a:lnTo>
                    <a:pt x="81" y="391"/>
                  </a:lnTo>
                  <a:lnTo>
                    <a:pt x="91" y="443"/>
                  </a:lnTo>
                  <a:lnTo>
                    <a:pt x="103" y="465"/>
                  </a:lnTo>
                  <a:lnTo>
                    <a:pt x="117" y="486"/>
                  </a:lnTo>
                  <a:lnTo>
                    <a:pt x="148" y="528"/>
                  </a:lnTo>
                  <a:lnTo>
                    <a:pt x="178" y="580"/>
                  </a:lnTo>
                  <a:lnTo>
                    <a:pt x="220" y="666"/>
                  </a:lnTo>
                  <a:lnTo>
                    <a:pt x="240" y="741"/>
                  </a:lnTo>
                  <a:lnTo>
                    <a:pt x="250" y="774"/>
                  </a:lnTo>
                  <a:lnTo>
                    <a:pt x="267" y="809"/>
                  </a:lnTo>
                  <a:lnTo>
                    <a:pt x="263" y="823"/>
                  </a:lnTo>
                  <a:lnTo>
                    <a:pt x="250" y="819"/>
                  </a:lnTo>
                  <a:lnTo>
                    <a:pt x="227" y="785"/>
                  </a:lnTo>
                  <a:lnTo>
                    <a:pt x="207" y="755"/>
                  </a:lnTo>
                  <a:lnTo>
                    <a:pt x="171" y="685"/>
                  </a:lnTo>
                  <a:lnTo>
                    <a:pt x="153" y="644"/>
                  </a:lnTo>
                  <a:lnTo>
                    <a:pt x="132" y="604"/>
                  </a:lnTo>
                  <a:lnTo>
                    <a:pt x="59" y="390"/>
                  </a:lnTo>
                  <a:lnTo>
                    <a:pt x="57" y="312"/>
                  </a:lnTo>
                  <a:lnTo>
                    <a:pt x="34" y="272"/>
                  </a:lnTo>
                  <a:lnTo>
                    <a:pt x="15" y="224"/>
                  </a:lnTo>
                  <a:lnTo>
                    <a:pt x="1" y="178"/>
                  </a:lnTo>
                  <a:lnTo>
                    <a:pt x="0" y="132"/>
                  </a:lnTo>
                  <a:lnTo>
                    <a:pt x="11" y="95"/>
                  </a:lnTo>
                  <a:lnTo>
                    <a:pt x="33" y="11"/>
                  </a:lnTo>
                  <a:lnTo>
                    <a:pt x="37" y="2"/>
                  </a:lnTo>
                  <a:lnTo>
                    <a:pt x="44" y="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95400" y="3418200"/>
              <a:ext cx="177840" cy="62640"/>
            </a:xfrm>
            <a:custGeom>
              <a:avLst/>
              <a:gdLst/>
              <a:ahLst/>
              <a:rect l="l" t="t" r="r" b="b"/>
              <a:pathLst>
                <a:path w="401" h="139">
                  <a:moveTo>
                    <a:pt x="9" y="119"/>
                  </a:moveTo>
                  <a:lnTo>
                    <a:pt x="93" y="102"/>
                  </a:lnTo>
                  <a:lnTo>
                    <a:pt x="131" y="88"/>
                  </a:lnTo>
                  <a:lnTo>
                    <a:pt x="176" y="72"/>
                  </a:lnTo>
                  <a:lnTo>
                    <a:pt x="264" y="50"/>
                  </a:lnTo>
                  <a:lnTo>
                    <a:pt x="389" y="0"/>
                  </a:lnTo>
                  <a:lnTo>
                    <a:pt x="401" y="2"/>
                  </a:lnTo>
                  <a:lnTo>
                    <a:pt x="399" y="16"/>
                  </a:lnTo>
                  <a:lnTo>
                    <a:pt x="370" y="39"/>
                  </a:lnTo>
                  <a:lnTo>
                    <a:pt x="343" y="61"/>
                  </a:lnTo>
                  <a:lnTo>
                    <a:pt x="316" y="83"/>
                  </a:lnTo>
                  <a:lnTo>
                    <a:pt x="283" y="102"/>
                  </a:lnTo>
                  <a:lnTo>
                    <a:pt x="191" y="126"/>
                  </a:lnTo>
                  <a:lnTo>
                    <a:pt x="101" y="139"/>
                  </a:lnTo>
                  <a:lnTo>
                    <a:pt x="11" y="139"/>
                  </a:lnTo>
                  <a:lnTo>
                    <a:pt x="0" y="130"/>
                  </a:lnTo>
                  <a:lnTo>
                    <a:pt x="9" y="119"/>
                  </a:lnTo>
                  <a:lnTo>
                    <a:pt x="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51560" y="3484800"/>
              <a:ext cx="74160" cy="122040"/>
            </a:xfrm>
            <a:custGeom>
              <a:avLst/>
              <a:gdLst/>
              <a:ahLst/>
              <a:rect l="l" t="t" r="r" b="b"/>
              <a:pathLst>
                <a:path w="168" h="276">
                  <a:moveTo>
                    <a:pt x="14" y="0"/>
                  </a:moveTo>
                  <a:lnTo>
                    <a:pt x="48" y="25"/>
                  </a:lnTo>
                  <a:lnTo>
                    <a:pt x="76" y="47"/>
                  </a:lnTo>
                  <a:lnTo>
                    <a:pt x="122" y="105"/>
                  </a:lnTo>
                  <a:lnTo>
                    <a:pt x="151" y="170"/>
                  </a:lnTo>
                  <a:lnTo>
                    <a:pt x="168" y="264"/>
                  </a:lnTo>
                  <a:lnTo>
                    <a:pt x="162" y="276"/>
                  </a:lnTo>
                  <a:lnTo>
                    <a:pt x="149" y="271"/>
                  </a:lnTo>
                  <a:lnTo>
                    <a:pt x="139" y="246"/>
                  </a:lnTo>
                  <a:lnTo>
                    <a:pt x="126" y="229"/>
                  </a:lnTo>
                  <a:lnTo>
                    <a:pt x="103" y="189"/>
                  </a:lnTo>
                  <a:lnTo>
                    <a:pt x="76" y="128"/>
                  </a:lnTo>
                  <a:lnTo>
                    <a:pt x="47" y="68"/>
                  </a:lnTo>
                  <a:lnTo>
                    <a:pt x="29" y="41"/>
                  </a:lnTo>
                  <a:lnTo>
                    <a:pt x="18" y="29"/>
                  </a:lnTo>
                  <a:lnTo>
                    <a:pt x="4" y="18"/>
                  </a:lnTo>
                  <a:lnTo>
                    <a:pt x="0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83240" y="3621240"/>
              <a:ext cx="135360" cy="46080"/>
            </a:xfrm>
            <a:custGeom>
              <a:avLst/>
              <a:gdLst/>
              <a:ahLst/>
              <a:rect l="l" t="t" r="r" b="b"/>
              <a:pathLst>
                <a:path w="308" h="103">
                  <a:moveTo>
                    <a:pt x="13" y="0"/>
                  </a:moveTo>
                  <a:lnTo>
                    <a:pt x="109" y="34"/>
                  </a:lnTo>
                  <a:lnTo>
                    <a:pt x="206" y="43"/>
                  </a:lnTo>
                  <a:lnTo>
                    <a:pt x="295" y="14"/>
                  </a:lnTo>
                  <a:lnTo>
                    <a:pt x="308" y="18"/>
                  </a:lnTo>
                  <a:lnTo>
                    <a:pt x="304" y="32"/>
                  </a:lnTo>
                  <a:lnTo>
                    <a:pt x="279" y="48"/>
                  </a:lnTo>
                  <a:lnTo>
                    <a:pt x="253" y="63"/>
                  </a:lnTo>
                  <a:lnTo>
                    <a:pt x="228" y="77"/>
                  </a:lnTo>
                  <a:lnTo>
                    <a:pt x="202" y="88"/>
                  </a:lnTo>
                  <a:lnTo>
                    <a:pt x="150" y="103"/>
                  </a:lnTo>
                  <a:lnTo>
                    <a:pt x="91" y="101"/>
                  </a:lnTo>
                  <a:lnTo>
                    <a:pt x="66" y="84"/>
                  </a:lnTo>
                  <a:lnTo>
                    <a:pt x="49" y="59"/>
                  </a:lnTo>
                  <a:lnTo>
                    <a:pt x="30" y="35"/>
                  </a:lnTo>
                  <a:lnTo>
                    <a:pt x="6" y="19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86400" y="3500640"/>
              <a:ext cx="90000" cy="128880"/>
            </a:xfrm>
            <a:custGeom>
              <a:avLst/>
              <a:gdLst/>
              <a:ahLst/>
              <a:rect l="l" t="t" r="r" b="b"/>
              <a:pathLst>
                <a:path w="203" h="293">
                  <a:moveTo>
                    <a:pt x="199" y="18"/>
                  </a:moveTo>
                  <a:lnTo>
                    <a:pt x="172" y="45"/>
                  </a:lnTo>
                  <a:lnTo>
                    <a:pt x="163" y="84"/>
                  </a:lnTo>
                  <a:lnTo>
                    <a:pt x="158" y="126"/>
                  </a:lnTo>
                  <a:lnTo>
                    <a:pt x="143" y="168"/>
                  </a:lnTo>
                  <a:lnTo>
                    <a:pt x="114" y="204"/>
                  </a:lnTo>
                  <a:lnTo>
                    <a:pt x="97" y="220"/>
                  </a:lnTo>
                  <a:lnTo>
                    <a:pt x="82" y="233"/>
                  </a:lnTo>
                  <a:lnTo>
                    <a:pt x="66" y="247"/>
                  </a:lnTo>
                  <a:lnTo>
                    <a:pt x="50" y="261"/>
                  </a:lnTo>
                  <a:lnTo>
                    <a:pt x="32" y="276"/>
                  </a:lnTo>
                  <a:lnTo>
                    <a:pt x="14" y="293"/>
                  </a:lnTo>
                  <a:lnTo>
                    <a:pt x="0" y="293"/>
                  </a:lnTo>
                  <a:lnTo>
                    <a:pt x="0" y="279"/>
                  </a:lnTo>
                  <a:lnTo>
                    <a:pt x="30" y="245"/>
                  </a:lnTo>
                  <a:lnTo>
                    <a:pt x="55" y="213"/>
                  </a:lnTo>
                  <a:lnTo>
                    <a:pt x="77" y="179"/>
                  </a:lnTo>
                  <a:lnTo>
                    <a:pt x="101" y="142"/>
                  </a:lnTo>
                  <a:lnTo>
                    <a:pt x="137" y="61"/>
                  </a:lnTo>
                  <a:lnTo>
                    <a:pt x="157" y="27"/>
                  </a:lnTo>
                  <a:lnTo>
                    <a:pt x="171" y="13"/>
                  </a:lnTo>
                  <a:lnTo>
                    <a:pt x="189" y="0"/>
                  </a:lnTo>
                  <a:lnTo>
                    <a:pt x="203" y="5"/>
                  </a:lnTo>
                  <a:lnTo>
                    <a:pt x="199" y="18"/>
                  </a:lnTo>
                  <a:lnTo>
                    <a:pt x="19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83880" y="3641400"/>
              <a:ext cx="104760" cy="215280"/>
            </a:xfrm>
            <a:custGeom>
              <a:avLst/>
              <a:gdLst/>
              <a:ahLst/>
              <a:rect l="l" t="t" r="r" b="b"/>
              <a:pathLst>
                <a:path w="236" h="484">
                  <a:moveTo>
                    <a:pt x="8" y="5"/>
                  </a:moveTo>
                  <a:lnTo>
                    <a:pt x="113" y="0"/>
                  </a:lnTo>
                  <a:lnTo>
                    <a:pt x="158" y="13"/>
                  </a:lnTo>
                  <a:lnTo>
                    <a:pt x="196" y="45"/>
                  </a:lnTo>
                  <a:lnTo>
                    <a:pt x="208" y="149"/>
                  </a:lnTo>
                  <a:lnTo>
                    <a:pt x="208" y="253"/>
                  </a:lnTo>
                  <a:lnTo>
                    <a:pt x="236" y="474"/>
                  </a:lnTo>
                  <a:lnTo>
                    <a:pt x="228" y="484"/>
                  </a:lnTo>
                  <a:lnTo>
                    <a:pt x="216" y="476"/>
                  </a:lnTo>
                  <a:lnTo>
                    <a:pt x="206" y="418"/>
                  </a:lnTo>
                  <a:lnTo>
                    <a:pt x="191" y="367"/>
                  </a:lnTo>
                  <a:lnTo>
                    <a:pt x="163" y="259"/>
                  </a:lnTo>
                  <a:lnTo>
                    <a:pt x="157" y="64"/>
                  </a:lnTo>
                  <a:lnTo>
                    <a:pt x="142" y="49"/>
                  </a:lnTo>
                  <a:lnTo>
                    <a:pt x="127" y="38"/>
                  </a:lnTo>
                  <a:lnTo>
                    <a:pt x="92" y="25"/>
                  </a:lnTo>
                  <a:lnTo>
                    <a:pt x="11" y="25"/>
                  </a:lnTo>
                  <a:lnTo>
                    <a:pt x="0" y="16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80720" y="3565800"/>
              <a:ext cx="30240" cy="229680"/>
            </a:xfrm>
            <a:custGeom>
              <a:avLst/>
              <a:gdLst/>
              <a:ahLst/>
              <a:rect l="l" t="t" r="r" b="b"/>
              <a:pathLst>
                <a:path w="69" h="518">
                  <a:moveTo>
                    <a:pt x="60" y="14"/>
                  </a:moveTo>
                  <a:lnTo>
                    <a:pt x="53" y="79"/>
                  </a:lnTo>
                  <a:lnTo>
                    <a:pt x="48" y="100"/>
                  </a:lnTo>
                  <a:lnTo>
                    <a:pt x="47" y="173"/>
                  </a:lnTo>
                  <a:lnTo>
                    <a:pt x="59" y="243"/>
                  </a:lnTo>
                  <a:lnTo>
                    <a:pt x="69" y="376"/>
                  </a:lnTo>
                  <a:lnTo>
                    <a:pt x="65" y="509"/>
                  </a:lnTo>
                  <a:lnTo>
                    <a:pt x="62" y="516"/>
                  </a:lnTo>
                  <a:lnTo>
                    <a:pt x="55" y="518"/>
                  </a:lnTo>
                  <a:lnTo>
                    <a:pt x="46" y="509"/>
                  </a:lnTo>
                  <a:lnTo>
                    <a:pt x="45" y="378"/>
                  </a:lnTo>
                  <a:lnTo>
                    <a:pt x="29" y="248"/>
                  </a:lnTo>
                  <a:lnTo>
                    <a:pt x="20" y="207"/>
                  </a:lnTo>
                  <a:lnTo>
                    <a:pt x="7" y="170"/>
                  </a:lnTo>
                  <a:lnTo>
                    <a:pt x="0" y="90"/>
                  </a:lnTo>
                  <a:lnTo>
                    <a:pt x="5" y="66"/>
                  </a:lnTo>
                  <a:lnTo>
                    <a:pt x="23" y="38"/>
                  </a:lnTo>
                  <a:lnTo>
                    <a:pt x="38" y="9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60" y="14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96920" y="3610800"/>
              <a:ext cx="133920" cy="248040"/>
            </a:xfrm>
            <a:custGeom>
              <a:avLst/>
              <a:gdLst/>
              <a:ahLst/>
              <a:rect l="l" t="t" r="r" b="b"/>
              <a:pathLst>
                <a:path w="303" h="560">
                  <a:moveTo>
                    <a:pt x="303" y="14"/>
                  </a:moveTo>
                  <a:lnTo>
                    <a:pt x="270" y="86"/>
                  </a:lnTo>
                  <a:lnTo>
                    <a:pt x="244" y="153"/>
                  </a:lnTo>
                  <a:lnTo>
                    <a:pt x="231" y="184"/>
                  </a:lnTo>
                  <a:lnTo>
                    <a:pt x="217" y="218"/>
                  </a:lnTo>
                  <a:lnTo>
                    <a:pt x="201" y="253"/>
                  </a:lnTo>
                  <a:lnTo>
                    <a:pt x="181" y="289"/>
                  </a:lnTo>
                  <a:lnTo>
                    <a:pt x="141" y="365"/>
                  </a:lnTo>
                  <a:lnTo>
                    <a:pt x="127" y="393"/>
                  </a:lnTo>
                  <a:lnTo>
                    <a:pt x="112" y="417"/>
                  </a:lnTo>
                  <a:lnTo>
                    <a:pt x="96" y="439"/>
                  </a:lnTo>
                  <a:lnTo>
                    <a:pt x="80" y="462"/>
                  </a:lnTo>
                  <a:lnTo>
                    <a:pt x="49" y="504"/>
                  </a:lnTo>
                  <a:lnTo>
                    <a:pt x="18" y="556"/>
                  </a:lnTo>
                  <a:lnTo>
                    <a:pt x="5" y="560"/>
                  </a:lnTo>
                  <a:lnTo>
                    <a:pt x="0" y="547"/>
                  </a:lnTo>
                  <a:lnTo>
                    <a:pt x="26" y="493"/>
                  </a:lnTo>
                  <a:lnTo>
                    <a:pt x="44" y="443"/>
                  </a:lnTo>
                  <a:lnTo>
                    <a:pt x="63" y="392"/>
                  </a:lnTo>
                  <a:lnTo>
                    <a:pt x="87" y="337"/>
                  </a:lnTo>
                  <a:lnTo>
                    <a:pt x="129" y="259"/>
                  </a:lnTo>
                  <a:lnTo>
                    <a:pt x="150" y="224"/>
                  </a:lnTo>
                  <a:lnTo>
                    <a:pt x="171" y="191"/>
                  </a:lnTo>
                  <a:lnTo>
                    <a:pt x="190" y="161"/>
                  </a:lnTo>
                  <a:lnTo>
                    <a:pt x="209" y="133"/>
                  </a:lnTo>
                  <a:lnTo>
                    <a:pt x="228" y="103"/>
                  </a:lnTo>
                  <a:lnTo>
                    <a:pt x="246" y="73"/>
                  </a:lnTo>
                  <a:lnTo>
                    <a:pt x="266" y="40"/>
                  </a:lnTo>
                  <a:lnTo>
                    <a:pt x="286" y="4"/>
                  </a:lnTo>
                  <a:lnTo>
                    <a:pt x="299" y="0"/>
                  </a:lnTo>
                  <a:lnTo>
                    <a:pt x="303" y="14"/>
                  </a:lnTo>
                  <a:lnTo>
                    <a:pt x="303" y="14"/>
                  </a:lnTo>
                  <a:close/>
                </a:path>
              </a:pathLst>
            </a:cu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060280" y="2978640"/>
              <a:ext cx="187200" cy="299880"/>
            </a:xfrm>
            <a:custGeom>
              <a:avLst/>
              <a:gdLst/>
              <a:ahLst/>
              <a:rect l="l" t="t" r="r" b="b"/>
              <a:pathLst>
                <a:path w="425" h="678">
                  <a:moveTo>
                    <a:pt x="415" y="19"/>
                  </a:moveTo>
                  <a:lnTo>
                    <a:pt x="368" y="27"/>
                  </a:lnTo>
                  <a:lnTo>
                    <a:pt x="330" y="48"/>
                  </a:lnTo>
                  <a:lnTo>
                    <a:pt x="294" y="77"/>
                  </a:lnTo>
                  <a:lnTo>
                    <a:pt x="276" y="92"/>
                  </a:lnTo>
                  <a:lnTo>
                    <a:pt x="255" y="108"/>
                  </a:lnTo>
                  <a:lnTo>
                    <a:pt x="213" y="138"/>
                  </a:lnTo>
                  <a:lnTo>
                    <a:pt x="195" y="154"/>
                  </a:lnTo>
                  <a:lnTo>
                    <a:pt x="179" y="171"/>
                  </a:lnTo>
                  <a:lnTo>
                    <a:pt x="151" y="207"/>
                  </a:lnTo>
                  <a:lnTo>
                    <a:pt x="128" y="246"/>
                  </a:lnTo>
                  <a:lnTo>
                    <a:pt x="109" y="287"/>
                  </a:lnTo>
                  <a:lnTo>
                    <a:pt x="92" y="331"/>
                  </a:lnTo>
                  <a:lnTo>
                    <a:pt x="76" y="380"/>
                  </a:lnTo>
                  <a:lnTo>
                    <a:pt x="60" y="430"/>
                  </a:lnTo>
                  <a:lnTo>
                    <a:pt x="28" y="668"/>
                  </a:lnTo>
                  <a:lnTo>
                    <a:pt x="19" y="678"/>
                  </a:lnTo>
                  <a:lnTo>
                    <a:pt x="8" y="670"/>
                  </a:lnTo>
                  <a:lnTo>
                    <a:pt x="0" y="415"/>
                  </a:lnTo>
                  <a:lnTo>
                    <a:pt x="19" y="358"/>
                  </a:lnTo>
                  <a:lnTo>
                    <a:pt x="37" y="306"/>
                  </a:lnTo>
                  <a:lnTo>
                    <a:pt x="57" y="256"/>
                  </a:lnTo>
                  <a:lnTo>
                    <a:pt x="79" y="210"/>
                  </a:lnTo>
                  <a:lnTo>
                    <a:pt x="92" y="189"/>
                  </a:lnTo>
                  <a:lnTo>
                    <a:pt x="105" y="167"/>
                  </a:lnTo>
                  <a:lnTo>
                    <a:pt x="120" y="147"/>
                  </a:lnTo>
                  <a:lnTo>
                    <a:pt x="136" y="127"/>
                  </a:lnTo>
                  <a:lnTo>
                    <a:pt x="155" y="109"/>
                  </a:lnTo>
                  <a:lnTo>
                    <a:pt x="174" y="90"/>
                  </a:lnTo>
                  <a:lnTo>
                    <a:pt x="197" y="73"/>
                  </a:lnTo>
                  <a:lnTo>
                    <a:pt x="221" y="56"/>
                  </a:lnTo>
                  <a:lnTo>
                    <a:pt x="245" y="41"/>
                  </a:lnTo>
                  <a:lnTo>
                    <a:pt x="267" y="29"/>
                  </a:lnTo>
                  <a:lnTo>
                    <a:pt x="313" y="11"/>
                  </a:lnTo>
                  <a:lnTo>
                    <a:pt x="415" y="0"/>
                  </a:lnTo>
                  <a:lnTo>
                    <a:pt x="425" y="9"/>
                  </a:lnTo>
                  <a:lnTo>
                    <a:pt x="423" y="16"/>
                  </a:lnTo>
                  <a:lnTo>
                    <a:pt x="415" y="19"/>
                  </a:lnTo>
                  <a:lnTo>
                    <a:pt x="41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96920" y="2912040"/>
              <a:ext cx="151200" cy="115560"/>
            </a:xfrm>
            <a:custGeom>
              <a:avLst/>
              <a:gdLst/>
              <a:ahLst/>
              <a:rect l="l" t="t" r="r" b="b"/>
              <a:pathLst>
                <a:path w="341" h="262">
                  <a:moveTo>
                    <a:pt x="12" y="0"/>
                  </a:moveTo>
                  <a:lnTo>
                    <a:pt x="95" y="27"/>
                  </a:lnTo>
                  <a:lnTo>
                    <a:pt x="128" y="45"/>
                  </a:lnTo>
                  <a:lnTo>
                    <a:pt x="160" y="67"/>
                  </a:lnTo>
                  <a:lnTo>
                    <a:pt x="187" y="92"/>
                  </a:lnTo>
                  <a:lnTo>
                    <a:pt x="216" y="118"/>
                  </a:lnTo>
                  <a:lnTo>
                    <a:pt x="232" y="133"/>
                  </a:lnTo>
                  <a:lnTo>
                    <a:pt x="247" y="148"/>
                  </a:lnTo>
                  <a:lnTo>
                    <a:pt x="262" y="165"/>
                  </a:lnTo>
                  <a:lnTo>
                    <a:pt x="278" y="181"/>
                  </a:lnTo>
                  <a:lnTo>
                    <a:pt x="307" y="213"/>
                  </a:lnTo>
                  <a:lnTo>
                    <a:pt x="319" y="230"/>
                  </a:lnTo>
                  <a:lnTo>
                    <a:pt x="336" y="244"/>
                  </a:lnTo>
                  <a:lnTo>
                    <a:pt x="341" y="258"/>
                  </a:lnTo>
                  <a:lnTo>
                    <a:pt x="327" y="262"/>
                  </a:lnTo>
                  <a:lnTo>
                    <a:pt x="237" y="235"/>
                  </a:lnTo>
                  <a:lnTo>
                    <a:pt x="208" y="202"/>
                  </a:lnTo>
                  <a:lnTo>
                    <a:pt x="183" y="169"/>
                  </a:lnTo>
                  <a:lnTo>
                    <a:pt x="160" y="136"/>
                  </a:lnTo>
                  <a:lnTo>
                    <a:pt x="136" y="104"/>
                  </a:lnTo>
                  <a:lnTo>
                    <a:pt x="111" y="77"/>
                  </a:lnTo>
                  <a:lnTo>
                    <a:pt x="98" y="64"/>
                  </a:lnTo>
                  <a:lnTo>
                    <a:pt x="83" y="52"/>
                  </a:lnTo>
                  <a:lnTo>
                    <a:pt x="49" y="32"/>
                  </a:lnTo>
                  <a:lnTo>
                    <a:pt x="9" y="2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32040" y="2999880"/>
              <a:ext cx="83520" cy="64800"/>
            </a:xfrm>
            <a:custGeom>
              <a:avLst/>
              <a:gdLst/>
              <a:ahLst/>
              <a:rect l="l" t="t" r="r" b="b"/>
              <a:pathLst>
                <a:path w="190" h="148">
                  <a:moveTo>
                    <a:pt x="10" y="0"/>
                  </a:moveTo>
                  <a:lnTo>
                    <a:pt x="101" y="33"/>
                  </a:lnTo>
                  <a:lnTo>
                    <a:pt x="131" y="76"/>
                  </a:lnTo>
                  <a:lnTo>
                    <a:pt x="158" y="105"/>
                  </a:lnTo>
                  <a:lnTo>
                    <a:pt x="168" y="119"/>
                  </a:lnTo>
                  <a:lnTo>
                    <a:pt x="185" y="130"/>
                  </a:lnTo>
                  <a:lnTo>
                    <a:pt x="190" y="143"/>
                  </a:lnTo>
                  <a:lnTo>
                    <a:pt x="177" y="148"/>
                  </a:lnTo>
                  <a:lnTo>
                    <a:pt x="90" y="120"/>
                  </a:lnTo>
                  <a:lnTo>
                    <a:pt x="55" y="73"/>
                  </a:lnTo>
                  <a:lnTo>
                    <a:pt x="35" y="41"/>
                  </a:lnTo>
                  <a:lnTo>
                    <a:pt x="24" y="27"/>
                  </a:lnTo>
                  <a:lnTo>
                    <a:pt x="8" y="2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30600" y="3123360"/>
              <a:ext cx="58320" cy="126000"/>
            </a:xfrm>
            <a:custGeom>
              <a:avLst/>
              <a:gdLst/>
              <a:ahLst/>
              <a:rect l="l" t="t" r="r" b="b"/>
              <a:pathLst>
                <a:path w="134" h="287">
                  <a:moveTo>
                    <a:pt x="27" y="2"/>
                  </a:moveTo>
                  <a:lnTo>
                    <a:pt x="59" y="29"/>
                  </a:lnTo>
                  <a:lnTo>
                    <a:pt x="101" y="70"/>
                  </a:lnTo>
                  <a:lnTo>
                    <a:pt x="126" y="121"/>
                  </a:lnTo>
                  <a:lnTo>
                    <a:pt x="134" y="179"/>
                  </a:lnTo>
                  <a:lnTo>
                    <a:pt x="128" y="241"/>
                  </a:lnTo>
                  <a:lnTo>
                    <a:pt x="102" y="262"/>
                  </a:lnTo>
                  <a:lnTo>
                    <a:pt x="75" y="273"/>
                  </a:lnTo>
                  <a:lnTo>
                    <a:pt x="12" y="287"/>
                  </a:lnTo>
                  <a:lnTo>
                    <a:pt x="0" y="279"/>
                  </a:lnTo>
                  <a:lnTo>
                    <a:pt x="8" y="268"/>
                  </a:lnTo>
                  <a:lnTo>
                    <a:pt x="52" y="251"/>
                  </a:lnTo>
                  <a:lnTo>
                    <a:pt x="88" y="220"/>
                  </a:lnTo>
                  <a:lnTo>
                    <a:pt x="95" y="121"/>
                  </a:lnTo>
                  <a:lnTo>
                    <a:pt x="82" y="80"/>
                  </a:lnTo>
                  <a:lnTo>
                    <a:pt x="68" y="62"/>
                  </a:lnTo>
                  <a:lnTo>
                    <a:pt x="49" y="46"/>
                  </a:lnTo>
                  <a:lnTo>
                    <a:pt x="12" y="27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5943600" y="2971800"/>
            <a:ext cx="1522440" cy="17226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3027960" y="3519360"/>
            <a:ext cx="26344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r Bu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verification of process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process based on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209560" y="116676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98360" y="4721400"/>
            <a:ext cx="14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81560" y="535320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32160" y="1949400"/>
            <a:ext cx="10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323120" y="3376440"/>
            <a:ext cx="109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6446-6829-45CF-B28D-E3E3DE44D99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04B7289-47C5-4037-A873-591D80E0A4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RISK MANAGEMEN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2944440" y="4092480"/>
            <a:ext cx="468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aging 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can environments &amp; identify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risks &amp; priorit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154240" y="1725480"/>
            <a:ext cx="6539400" cy="1739880"/>
            <a:chOff x="2154240" y="1725480"/>
            <a:chExt cx="6539400" cy="1739880"/>
          </a:xfrm>
        </p:grpSpPr>
        <p:sp>
          <p:nvSpPr>
            <p:cNvPr id="676" name=""/>
            <p:cNvSpPr/>
            <p:nvPr/>
          </p:nvSpPr>
          <p:spPr>
            <a:xfrm>
              <a:off x="6344280" y="2509560"/>
              <a:ext cx="2349360" cy="3988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ure E-comme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54600" y="1726920"/>
              <a:ext cx="190116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urity fa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54240" y="3019320"/>
              <a:ext cx="1889280" cy="398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ust factor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2160" y="1725480"/>
              <a:ext cx="1687680" cy="173988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739880"/>
                <a:gd name="textAreaBottom" fmla="*/ 1740240 h 17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56" y="0"/>
                  </a:lnTo>
                  <a:lnTo>
                    <a:pt x="21600" y="10800"/>
                  </a:lnTo>
                  <a:lnTo>
                    <a:pt x="15656" y="21600"/>
                  </a:lnTo>
                  <a:lnTo>
                    <a:pt x="0" y="21600"/>
                  </a:lnTo>
                  <a:lnTo>
                    <a:pt x="5944" y="1080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1480" y="2276280"/>
              <a:ext cx="527040" cy="619200"/>
            </a:xfrm>
            <a:prstGeom prst="flowChartOr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83400" y="2201760"/>
              <a:ext cx="137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EB8B-6393-4251-907C-ED0AD2474FD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4119AF6-B287-4B08-B8BD-51FFA36958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171600" y="756720"/>
            <a:ext cx="38559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3" name=""/>
          <p:cNvSpPr/>
          <p:nvPr/>
        </p:nvSpPr>
        <p:spPr>
          <a:xfrm>
            <a:off x="3479760" y="5527800"/>
            <a:ext cx="37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k you very much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816280" y="1776240"/>
            <a:ext cx="4890600" cy="3264120"/>
            <a:chOff x="2816280" y="1776240"/>
            <a:chExt cx="4890600" cy="3264120"/>
          </a:xfrm>
        </p:grpSpPr>
        <p:pic>
          <p:nvPicPr>
            <p:cNvPr id="685" name="" descr=""/>
            <p:cNvPicPr/>
            <p:nvPr/>
          </p:nvPicPr>
          <p:blipFill>
            <a:blip r:embed="rId1"/>
            <a:stretch/>
          </p:blipFill>
          <p:spPr>
            <a:xfrm>
              <a:off x="3091680" y="1776240"/>
              <a:ext cx="4201920" cy="32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 txBox="1"/>
            <p:nvPr/>
          </p:nvSpPr>
          <p:spPr>
            <a:xfrm>
              <a:off x="5502600" y="3416760"/>
              <a:ext cx="2204280" cy="41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b2b2b2"/>
                    </a:solidFill>
                    <a:miter/>
                  </a:ln>
                  <a:solidFill>
                    <a:srgbClr val="b2b2b2"/>
                  </a:solidFill>
                  <a:latin typeface="Times New Roman"/>
                </a:rPr>
                <a:t>Security Solutions</a:t>
              </a:r>
              <a:endParaRPr b="0" lang="en-US" sz="28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b2b2b2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2936520" y="3167640"/>
              <a:ext cx="1670400" cy="30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Times New Roman"/>
                </a:rPr>
                <a:t>Business loss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3298320" y="3636360"/>
              <a:ext cx="946800" cy="30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Times New Roman"/>
                </a:rPr>
                <a:t>Threats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2816280" y="2596680"/>
              <a:ext cx="192888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Times New Roman"/>
                </a:rPr>
                <a:t>Investment costs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5502600" y="2889360"/>
              <a:ext cx="2204280" cy="35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b2b2b2"/>
                    </a:solidFill>
                    <a:miter/>
                  </a:ln>
                  <a:solidFill>
                    <a:srgbClr val="b2b2b2"/>
                  </a:solidFill>
                  <a:latin typeface="Times New Roman"/>
                </a:rPr>
                <a:t>Trust Solutions</a:t>
              </a:r>
              <a:endParaRPr b="0" lang="en-US" sz="28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b2b2b2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37DD-2764-4721-8E4F-4886D8B50B7D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CD3DA0B-64E6-4A73-8AC7-B6EC48EAA7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43040" y="415800"/>
            <a:ext cx="5699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Importance of Network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45080" y="1329120"/>
            <a:ext cx="47253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osive growth of computers and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o protect data and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o guarantee the authenticity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o protec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720" y="944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cc"/>
                </a:solidFill>
                <a:uFillTx/>
                <a:latin typeface="Arial Black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63280" y="2806560"/>
            <a:ext cx="7307280" cy="3740760"/>
            <a:chOff x="1763280" y="2806560"/>
            <a:chExt cx="7307280" cy="3740760"/>
          </a:xfrm>
        </p:grpSpPr>
        <p:grpSp>
          <p:nvGrpSpPr>
            <p:cNvPr id="103" name=""/>
            <p:cNvGrpSpPr/>
            <p:nvPr/>
          </p:nvGrpSpPr>
          <p:grpSpPr>
            <a:xfrm>
              <a:off x="1763280" y="2994120"/>
              <a:ext cx="7307280" cy="3553200"/>
              <a:chOff x="1763280" y="2994120"/>
              <a:chExt cx="7307280" cy="355320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1763280" y="2994120"/>
                <a:ext cx="7307280" cy="3241800"/>
                <a:chOff x="1763280" y="2994120"/>
                <a:chExt cx="7307280" cy="3241800"/>
              </a:xfrm>
            </p:grpSpPr>
            <p:graphicFrame>
              <p:nvGraphicFramePr>
                <p:cNvPr id="105" name=""/>
                <p:cNvGraphicFramePr/>
                <p:nvPr/>
              </p:nvGraphicFramePr>
              <p:xfrm>
                <a:off x="4367520" y="2994120"/>
                <a:ext cx="4438080" cy="32418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06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367520" y="2994120"/>
                          <a:ext cx="4438080" cy="3241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107" name=""/>
                <p:cNvGrpSpPr/>
                <p:nvPr/>
              </p:nvGrpSpPr>
              <p:grpSpPr>
                <a:xfrm>
                  <a:off x="1763280" y="3237840"/>
                  <a:ext cx="7307280" cy="2950560"/>
                  <a:chOff x="1763280" y="3237840"/>
                  <a:chExt cx="7307280" cy="29505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3564000" y="3237840"/>
                    <a:ext cx="1082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liabilit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956600" y="3529440"/>
                    <a:ext cx="26892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plexity of the Transitio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838600" y="3817440"/>
                    <a:ext cx="1809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nproven Service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311920" y="4109040"/>
                    <a:ext cx="23342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creased Telecom Cost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154240" y="4399560"/>
                    <a:ext cx="24912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creased Operating Cost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875960" y="4685400"/>
                    <a:ext cx="2769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uality of Management Tool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746160" y="4975560"/>
                    <a:ext cx="901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ecurit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866320" y="5265000"/>
                    <a:ext cx="1782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ack of Standard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763280" y="5555520"/>
                    <a:ext cx="28872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ack of Applications to Exploi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3952800" y="5851080"/>
                    <a:ext cx="6973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th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8483040" y="3237840"/>
                    <a:ext cx="5875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5%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8443440" y="3529440"/>
                    <a:ext cx="5875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3%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954560" y="4109040"/>
                    <a:ext cx="5875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4%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8247240" y="3817440"/>
                    <a:ext cx="5875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9%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954560" y="4399560"/>
                    <a:ext cx="5875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4%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848360" y="4685400"/>
                    <a:ext cx="5875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2%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814880" y="4975560"/>
                    <a:ext cx="5875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1%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735320" y="5265000"/>
                    <a:ext cx="5875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0%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180200" y="5555520"/>
                    <a:ext cx="5875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8%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792680" y="5851080"/>
                    <a:ext cx="485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%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8" name=""/>
              <p:cNvSpPr/>
              <p:nvPr/>
            </p:nvSpPr>
            <p:spPr>
              <a:xfrm>
                <a:off x="6605280" y="6270840"/>
                <a:ext cx="1960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ource: Information Week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751200" y="4964040"/>
              <a:ext cx="914400" cy="3938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41160" y="2806560"/>
              <a:ext cx="29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3333cc"/>
                  </a:solidFill>
                  <a:uFillTx/>
                  <a:latin typeface="Arial Black"/>
                </a:rPr>
                <a:t>Concerns of IT executi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1D6B-E4BD-43BD-ABA7-76E7F0F7765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4B34733-C6AA-47B8-9448-CCC8DAE2A1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690560" y="3260880"/>
            <a:ext cx="7731360" cy="2544480"/>
            <a:chOff x="1690560" y="3260880"/>
            <a:chExt cx="7731360" cy="2544480"/>
          </a:xfrm>
        </p:grpSpPr>
        <p:sp>
          <p:nvSpPr>
            <p:cNvPr id="132" name=""/>
            <p:cNvSpPr/>
            <p:nvPr/>
          </p:nvSpPr>
          <p:spPr>
            <a:xfrm>
              <a:off x="1690560" y="3260880"/>
              <a:ext cx="77313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Verdana"/>
                </a:rPr>
                <a:t>Relationship between security objecti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962000" y="4005360"/>
              <a:ext cx="6896880" cy="1800000"/>
              <a:chOff x="1962000" y="4005360"/>
              <a:chExt cx="6896880" cy="1800000"/>
            </a:xfrm>
          </p:grpSpPr>
          <p:sp>
            <p:nvSpPr>
              <p:cNvPr id="134" name=""/>
              <p:cNvSpPr/>
              <p:nvPr/>
            </p:nvSpPr>
            <p:spPr>
              <a:xfrm>
                <a:off x="1962000" y="4010400"/>
                <a:ext cx="942840" cy="58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ea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46840" y="4005360"/>
                <a:ext cx="1308600" cy="58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cur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quirem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54320" y="4021560"/>
                <a:ext cx="857520" cy="58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cur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rvi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212880" y="4035600"/>
                <a:ext cx="1183680" cy="58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cur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echanism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809480" y="4019760"/>
                <a:ext cx="1049400" cy="58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cur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lgorithm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414240" y="5224680"/>
                <a:ext cx="1005120" cy="58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cur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31840" y="4287960"/>
                <a:ext cx="21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01880" y="4303800"/>
                <a:ext cx="21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78440" y="428976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31120" y="4303800"/>
                <a:ext cx="21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3933720" y="479592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1833480" y="879480"/>
            <a:ext cx="7223040" cy="1441080"/>
            <a:chOff x="1833480" y="879480"/>
            <a:chExt cx="7223040" cy="1441080"/>
          </a:xfrm>
        </p:grpSpPr>
        <p:sp>
          <p:nvSpPr>
            <p:cNvPr id="146" name=""/>
            <p:cNvSpPr/>
            <p:nvPr/>
          </p:nvSpPr>
          <p:spPr>
            <a:xfrm>
              <a:off x="2061720" y="879480"/>
              <a:ext cx="24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Arial Black"/>
                </a:rPr>
                <a:t>Security asp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33480" y="1311840"/>
              <a:ext cx="722304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curity Attacks : An action that compromise the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curity Mechanism : Design to protect,prevent,recover from atta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curity Service : Enhance the security of data,systems, trans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9EC8-7E51-403A-8782-15D9A141D2E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CD93CCF-0A3A-4093-8303-6F428B3318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09720" y="703440"/>
            <a:ext cx="82342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FORMATION FLOW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604960" y="3117960"/>
            <a:ext cx="4924440" cy="1509480"/>
            <a:chOff x="2604960" y="3117960"/>
            <a:chExt cx="4924440" cy="1509480"/>
          </a:xfrm>
        </p:grpSpPr>
        <p:sp>
          <p:nvSpPr>
            <p:cNvPr id="150" name=""/>
            <p:cNvSpPr/>
            <p:nvPr/>
          </p:nvSpPr>
          <p:spPr>
            <a:xfrm>
              <a:off x="2604960" y="3117960"/>
              <a:ext cx="4924440" cy="15094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46560" y="3419640"/>
              <a:ext cx="484200" cy="604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34200" y="3419640"/>
              <a:ext cx="484200" cy="604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16360" y="3722760"/>
              <a:ext cx="250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5800" y="4095000"/>
              <a:ext cx="945720" cy="459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03440" y="4095000"/>
              <a:ext cx="945720" cy="459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50800" y="4036680"/>
              <a:ext cx="1721520" cy="3373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NORMAL 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95520" y="3483000"/>
              <a:ext cx="365760" cy="363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81360" y="3481560"/>
              <a:ext cx="365760" cy="363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4585-EF02-4D44-81B2-DCBE9A84647D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691B918-5461-49E1-9007-EE98549EF3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801800" y="1522440"/>
            <a:ext cx="3273480" cy="1620720"/>
            <a:chOff x="1801800" y="1522440"/>
            <a:chExt cx="3273480" cy="1620720"/>
          </a:xfrm>
        </p:grpSpPr>
        <p:sp>
          <p:nvSpPr>
            <p:cNvPr id="160" name=""/>
            <p:cNvSpPr/>
            <p:nvPr/>
          </p:nvSpPr>
          <p:spPr>
            <a:xfrm>
              <a:off x="1801800" y="1522440"/>
              <a:ext cx="3273480" cy="16207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14560" y="1733400"/>
              <a:ext cx="426960" cy="42408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35560" y="1733400"/>
              <a:ext cx="426960" cy="42408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41520" y="1944720"/>
              <a:ext cx="99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38360" y="1805040"/>
              <a:ext cx="0" cy="280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10440" y="2779200"/>
              <a:ext cx="1700280" cy="3373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INTERRU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64960" y="1778040"/>
              <a:ext cx="36576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85960" y="1778040"/>
              <a:ext cx="36576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786280" y="3583080"/>
            <a:ext cx="3272040" cy="1620720"/>
            <a:chOff x="5786280" y="3583080"/>
            <a:chExt cx="3272040" cy="1620720"/>
          </a:xfrm>
        </p:grpSpPr>
        <p:sp>
          <p:nvSpPr>
            <p:cNvPr id="169" name=""/>
            <p:cNvSpPr/>
            <p:nvPr/>
          </p:nvSpPr>
          <p:spPr>
            <a:xfrm>
              <a:off x="5786280" y="3583080"/>
              <a:ext cx="3272040" cy="16207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99400" y="3724200"/>
              <a:ext cx="426600" cy="42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17880" y="3724200"/>
              <a:ext cx="426600" cy="42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09000" y="4358160"/>
              <a:ext cx="426600" cy="42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" name=""/>
            <p:cNvCxnSpPr>
              <a:stCxn id="172" idx="0"/>
              <a:endCxn id="171" idx="2"/>
            </p:cNvCxnSpPr>
            <p:nvPr/>
          </p:nvCxnSpPr>
          <p:spPr>
            <a:xfrm flipH="1" flipV="1" rot="5400000">
              <a:off x="7708680" y="3648600"/>
              <a:ext cx="410040" cy="982800"/>
            </a:xfrm>
            <a:prstGeom prst="curved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74" name=""/>
            <p:cNvSpPr/>
            <p:nvPr/>
          </p:nvSpPr>
          <p:spPr>
            <a:xfrm>
              <a:off x="6582600" y="4838040"/>
              <a:ext cx="1575360" cy="3373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FABR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9800" y="3769200"/>
              <a:ext cx="36576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68640" y="3766680"/>
              <a:ext cx="36576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63720" y="4400640"/>
              <a:ext cx="35064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801800" y="3583080"/>
            <a:ext cx="3273480" cy="1620720"/>
            <a:chOff x="1801800" y="3583080"/>
            <a:chExt cx="3273480" cy="1620720"/>
          </a:xfrm>
        </p:grpSpPr>
        <p:sp>
          <p:nvSpPr>
            <p:cNvPr id="179" name=""/>
            <p:cNvSpPr/>
            <p:nvPr/>
          </p:nvSpPr>
          <p:spPr>
            <a:xfrm>
              <a:off x="1801800" y="3583080"/>
              <a:ext cx="3273480" cy="16207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34480" y="3794400"/>
              <a:ext cx="426960" cy="42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24880" y="4358160"/>
              <a:ext cx="426960" cy="42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15280" y="3794400"/>
              <a:ext cx="426960" cy="4226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/>
            <p:nvPr/>
          </p:nvCxnSpPr>
          <p:spPr>
            <a:xfrm flipH="1" flipV="1" rot="5400000">
              <a:off x="3724920" y="3648240"/>
              <a:ext cx="410040" cy="983520"/>
            </a:xfrm>
            <a:prstGeom prst="curved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/>
            <p:nvPr/>
          </p:nvCxnSpPr>
          <p:spPr>
            <a:xfrm>
              <a:off x="2441880" y="3935160"/>
              <a:ext cx="983160" cy="410040"/>
            </a:xfrm>
            <a:prstGeom prst="curved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2604960" y="4838040"/>
              <a:ext cx="1665000" cy="3373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MOD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64960" y="3866040"/>
              <a:ext cx="36576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85240" y="3866040"/>
              <a:ext cx="36576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79960" y="4402080"/>
              <a:ext cx="350640" cy="3632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786280" y="1522440"/>
            <a:ext cx="3272040" cy="1620720"/>
            <a:chOff x="5786280" y="1522440"/>
            <a:chExt cx="3272040" cy="1620720"/>
          </a:xfrm>
        </p:grpSpPr>
        <p:sp>
          <p:nvSpPr>
            <p:cNvPr id="190" name=""/>
            <p:cNvSpPr/>
            <p:nvPr/>
          </p:nvSpPr>
          <p:spPr>
            <a:xfrm>
              <a:off x="5786280" y="1522440"/>
              <a:ext cx="3272040" cy="16207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47040" y="2778840"/>
              <a:ext cx="1689480" cy="3373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INTER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22120" y="2085840"/>
              <a:ext cx="0" cy="28188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999400" y="1663200"/>
              <a:ext cx="2844720" cy="422640"/>
              <a:chOff x="5999400" y="1663200"/>
              <a:chExt cx="2844720" cy="422640"/>
            </a:xfrm>
          </p:grpSpPr>
          <p:sp>
            <p:nvSpPr>
              <p:cNvPr id="194" name=""/>
              <p:cNvSpPr/>
              <p:nvPr/>
            </p:nvSpPr>
            <p:spPr>
              <a:xfrm>
                <a:off x="5999400" y="1663200"/>
                <a:ext cx="426600" cy="422640"/>
              </a:xfrm>
              <a:prstGeom prst="ellipse">
                <a:avLst/>
              </a:prstGeom>
              <a:solidFill>
                <a:srgbClr val="b2b2b2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17520" y="1663200"/>
                <a:ext cx="426600" cy="422640"/>
              </a:xfrm>
              <a:prstGeom prst="ellipse">
                <a:avLst/>
              </a:prstGeom>
              <a:solidFill>
                <a:srgbClr val="b2b2b2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426000" y="1874520"/>
                <a:ext cx="1991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50480" y="1698120"/>
                <a:ext cx="142200" cy="352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466840" y="1703880"/>
                <a:ext cx="365760" cy="3632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48000" y="1703880"/>
                <a:ext cx="365760" cy="3632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208640" y="2438280"/>
              <a:ext cx="426600" cy="422640"/>
              <a:chOff x="7208640" y="2438280"/>
              <a:chExt cx="426600" cy="422640"/>
            </a:xfrm>
          </p:grpSpPr>
          <p:sp>
            <p:nvSpPr>
              <p:cNvPr id="201" name=""/>
              <p:cNvSpPr/>
              <p:nvPr/>
            </p:nvSpPr>
            <p:spPr>
              <a:xfrm>
                <a:off x="7208640" y="2438280"/>
                <a:ext cx="426600" cy="422640"/>
              </a:xfrm>
              <a:prstGeom prst="ellipse">
                <a:avLst/>
              </a:prstGeom>
              <a:solidFill>
                <a:srgbClr val="b2b2b2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65520" y="2480760"/>
                <a:ext cx="350640" cy="3632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3360600" y="51912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ECURITY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444400">
            <a:off x="1990800" y="2058120"/>
            <a:ext cx="26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444400">
            <a:off x="5765040" y="199944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444400">
            <a:off x="2281680" y="389016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444400">
            <a:off x="5995080" y="396324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UTHENT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E149-E2D7-4438-8D42-8E750358F62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1A4F407-41AA-46D0-B098-0272AC57C8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95600" y="3996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SECURITY REQUIREMENT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171880" y="1371600"/>
            <a:ext cx="6676920" cy="4513320"/>
            <a:chOff x="2171880" y="1371600"/>
            <a:chExt cx="6676920" cy="4513320"/>
          </a:xfrm>
        </p:grpSpPr>
        <p:grpSp>
          <p:nvGrpSpPr>
            <p:cNvPr id="210" name=""/>
            <p:cNvGrpSpPr/>
            <p:nvPr/>
          </p:nvGrpSpPr>
          <p:grpSpPr>
            <a:xfrm>
              <a:off x="5448240" y="1371600"/>
              <a:ext cx="3400560" cy="2749680"/>
              <a:chOff x="5448240" y="1371600"/>
              <a:chExt cx="3400560" cy="274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5448240" y="1371600"/>
                <a:ext cx="3353040" cy="2749680"/>
              </a:xfrm>
              <a:custGeom>
                <a:avLst/>
                <a:gdLst/>
                <a:ahLst/>
                <a:rect l="l" t="t" r="r" b="b"/>
                <a:pathLst>
                  <a:path w="1153" h="1122">
                    <a:moveTo>
                      <a:pt x="0" y="234"/>
                    </a:moveTo>
                    <a:lnTo>
                      <a:pt x="0" y="0"/>
                    </a:lnTo>
                    <a:lnTo>
                      <a:pt x="1152" y="0"/>
                    </a:lnTo>
                    <a:lnTo>
                      <a:pt x="1153" y="896"/>
                    </a:lnTo>
                    <a:lnTo>
                      <a:pt x="1053" y="896"/>
                    </a:lnTo>
                    <a:lnTo>
                      <a:pt x="1049" y="904"/>
                    </a:lnTo>
                    <a:lnTo>
                      <a:pt x="1046" y="915"/>
                    </a:lnTo>
                    <a:lnTo>
                      <a:pt x="1046" y="924"/>
                    </a:lnTo>
                    <a:lnTo>
                      <a:pt x="1047" y="935"/>
                    </a:lnTo>
                    <a:lnTo>
                      <a:pt x="1051" y="949"/>
                    </a:lnTo>
                    <a:lnTo>
                      <a:pt x="1055" y="967"/>
                    </a:lnTo>
                    <a:lnTo>
                      <a:pt x="1059" y="979"/>
                    </a:lnTo>
                    <a:lnTo>
                      <a:pt x="1062" y="994"/>
                    </a:lnTo>
                    <a:lnTo>
                      <a:pt x="1064" y="1008"/>
                    </a:lnTo>
                    <a:lnTo>
                      <a:pt x="1064" y="1022"/>
                    </a:lnTo>
                    <a:lnTo>
                      <a:pt x="1062" y="1035"/>
                    </a:lnTo>
                    <a:lnTo>
                      <a:pt x="1059" y="1049"/>
                    </a:lnTo>
                    <a:lnTo>
                      <a:pt x="1054" y="1062"/>
                    </a:lnTo>
                    <a:lnTo>
                      <a:pt x="1046" y="1072"/>
                    </a:lnTo>
                    <a:lnTo>
                      <a:pt x="1035" y="1084"/>
                    </a:lnTo>
                    <a:lnTo>
                      <a:pt x="1024" y="1093"/>
                    </a:lnTo>
                    <a:lnTo>
                      <a:pt x="1014" y="1102"/>
                    </a:lnTo>
                    <a:lnTo>
                      <a:pt x="1002" y="1109"/>
                    </a:lnTo>
                    <a:lnTo>
                      <a:pt x="988" y="1114"/>
                    </a:lnTo>
                    <a:lnTo>
                      <a:pt x="971" y="1119"/>
                    </a:lnTo>
                    <a:lnTo>
                      <a:pt x="955" y="1121"/>
                    </a:lnTo>
                    <a:lnTo>
                      <a:pt x="941" y="1122"/>
                    </a:lnTo>
                    <a:lnTo>
                      <a:pt x="926" y="1122"/>
                    </a:lnTo>
                    <a:lnTo>
                      <a:pt x="912" y="1121"/>
                    </a:lnTo>
                    <a:lnTo>
                      <a:pt x="901" y="1119"/>
                    </a:lnTo>
                    <a:lnTo>
                      <a:pt x="888" y="1115"/>
                    </a:lnTo>
                    <a:lnTo>
                      <a:pt x="875" y="1111"/>
                    </a:lnTo>
                    <a:lnTo>
                      <a:pt x="865" y="1105"/>
                    </a:lnTo>
                    <a:lnTo>
                      <a:pt x="854" y="1097"/>
                    </a:lnTo>
                    <a:lnTo>
                      <a:pt x="844" y="1087"/>
                    </a:lnTo>
                    <a:lnTo>
                      <a:pt x="834" y="1076"/>
                    </a:lnTo>
                    <a:lnTo>
                      <a:pt x="825" y="1065"/>
                    </a:lnTo>
                    <a:lnTo>
                      <a:pt x="818" y="1053"/>
                    </a:lnTo>
                    <a:lnTo>
                      <a:pt x="813" y="1038"/>
                    </a:lnTo>
                    <a:lnTo>
                      <a:pt x="809" y="1021"/>
                    </a:lnTo>
                    <a:lnTo>
                      <a:pt x="809" y="1005"/>
                    </a:lnTo>
                    <a:lnTo>
                      <a:pt x="813" y="989"/>
                    </a:lnTo>
                    <a:lnTo>
                      <a:pt x="817" y="973"/>
                    </a:lnTo>
                    <a:lnTo>
                      <a:pt x="821" y="957"/>
                    </a:lnTo>
                    <a:lnTo>
                      <a:pt x="826" y="939"/>
                    </a:lnTo>
                    <a:lnTo>
                      <a:pt x="828" y="925"/>
                    </a:lnTo>
                    <a:lnTo>
                      <a:pt x="828" y="917"/>
                    </a:lnTo>
                    <a:lnTo>
                      <a:pt x="827" y="910"/>
                    </a:lnTo>
                    <a:lnTo>
                      <a:pt x="824" y="902"/>
                    </a:lnTo>
                    <a:lnTo>
                      <a:pt x="632" y="902"/>
                    </a:lnTo>
                    <a:lnTo>
                      <a:pt x="635" y="868"/>
                    </a:lnTo>
                    <a:lnTo>
                      <a:pt x="634" y="849"/>
                    </a:lnTo>
                    <a:lnTo>
                      <a:pt x="632" y="831"/>
                    </a:lnTo>
                    <a:lnTo>
                      <a:pt x="630" y="814"/>
                    </a:lnTo>
                    <a:lnTo>
                      <a:pt x="627" y="803"/>
                    </a:lnTo>
                    <a:lnTo>
                      <a:pt x="622" y="793"/>
                    </a:lnTo>
                    <a:lnTo>
                      <a:pt x="616" y="784"/>
                    </a:lnTo>
                    <a:lnTo>
                      <a:pt x="606" y="776"/>
                    </a:lnTo>
                    <a:lnTo>
                      <a:pt x="595" y="769"/>
                    </a:lnTo>
                    <a:lnTo>
                      <a:pt x="584" y="765"/>
                    </a:lnTo>
                    <a:lnTo>
                      <a:pt x="574" y="763"/>
                    </a:lnTo>
                    <a:lnTo>
                      <a:pt x="557" y="762"/>
                    </a:lnTo>
                    <a:lnTo>
                      <a:pt x="537" y="762"/>
                    </a:lnTo>
                    <a:lnTo>
                      <a:pt x="518" y="764"/>
                    </a:lnTo>
                    <a:lnTo>
                      <a:pt x="497" y="765"/>
                    </a:lnTo>
                    <a:lnTo>
                      <a:pt x="481" y="767"/>
                    </a:lnTo>
                    <a:lnTo>
                      <a:pt x="460" y="768"/>
                    </a:lnTo>
                    <a:lnTo>
                      <a:pt x="443" y="767"/>
                    </a:lnTo>
                    <a:lnTo>
                      <a:pt x="428" y="765"/>
                    </a:lnTo>
                    <a:lnTo>
                      <a:pt x="405" y="760"/>
                    </a:lnTo>
                    <a:lnTo>
                      <a:pt x="390" y="753"/>
                    </a:lnTo>
                    <a:lnTo>
                      <a:pt x="376" y="743"/>
                    </a:lnTo>
                    <a:lnTo>
                      <a:pt x="367" y="732"/>
                    </a:lnTo>
                    <a:lnTo>
                      <a:pt x="359" y="720"/>
                    </a:lnTo>
                    <a:lnTo>
                      <a:pt x="353" y="705"/>
                    </a:lnTo>
                    <a:lnTo>
                      <a:pt x="352" y="689"/>
                    </a:lnTo>
                    <a:lnTo>
                      <a:pt x="352" y="669"/>
                    </a:lnTo>
                    <a:lnTo>
                      <a:pt x="353" y="654"/>
                    </a:lnTo>
                    <a:lnTo>
                      <a:pt x="352" y="639"/>
                    </a:lnTo>
                    <a:lnTo>
                      <a:pt x="348" y="622"/>
                    </a:lnTo>
                    <a:lnTo>
                      <a:pt x="345" y="612"/>
                    </a:lnTo>
                    <a:lnTo>
                      <a:pt x="340" y="602"/>
                    </a:lnTo>
                    <a:lnTo>
                      <a:pt x="334" y="595"/>
                    </a:lnTo>
                    <a:lnTo>
                      <a:pt x="328" y="589"/>
                    </a:lnTo>
                    <a:lnTo>
                      <a:pt x="315" y="583"/>
                    </a:lnTo>
                    <a:lnTo>
                      <a:pt x="300" y="576"/>
                    </a:lnTo>
                    <a:lnTo>
                      <a:pt x="283" y="571"/>
                    </a:lnTo>
                    <a:lnTo>
                      <a:pt x="263" y="566"/>
                    </a:lnTo>
                    <a:lnTo>
                      <a:pt x="243" y="562"/>
                    </a:lnTo>
                    <a:lnTo>
                      <a:pt x="222" y="559"/>
                    </a:lnTo>
                    <a:lnTo>
                      <a:pt x="207" y="554"/>
                    </a:lnTo>
                    <a:lnTo>
                      <a:pt x="191" y="549"/>
                    </a:lnTo>
                    <a:lnTo>
                      <a:pt x="175" y="543"/>
                    </a:lnTo>
                    <a:lnTo>
                      <a:pt x="164" y="534"/>
                    </a:lnTo>
                    <a:lnTo>
                      <a:pt x="151" y="523"/>
                    </a:lnTo>
                    <a:lnTo>
                      <a:pt x="142" y="513"/>
                    </a:lnTo>
                    <a:lnTo>
                      <a:pt x="134" y="501"/>
                    </a:lnTo>
                    <a:lnTo>
                      <a:pt x="128" y="487"/>
                    </a:lnTo>
                    <a:lnTo>
                      <a:pt x="126" y="472"/>
                    </a:lnTo>
                    <a:lnTo>
                      <a:pt x="126" y="458"/>
                    </a:lnTo>
                    <a:lnTo>
                      <a:pt x="129" y="445"/>
                    </a:lnTo>
                    <a:lnTo>
                      <a:pt x="134" y="426"/>
                    </a:lnTo>
                    <a:lnTo>
                      <a:pt x="139" y="407"/>
                    </a:lnTo>
                    <a:lnTo>
                      <a:pt x="141" y="390"/>
                    </a:lnTo>
                    <a:lnTo>
                      <a:pt x="145" y="373"/>
                    </a:lnTo>
                    <a:lnTo>
                      <a:pt x="147" y="356"/>
                    </a:lnTo>
                    <a:lnTo>
                      <a:pt x="145" y="338"/>
                    </a:lnTo>
                    <a:lnTo>
                      <a:pt x="141" y="322"/>
                    </a:lnTo>
                    <a:lnTo>
                      <a:pt x="135" y="306"/>
                    </a:lnTo>
                    <a:lnTo>
                      <a:pt x="127" y="291"/>
                    </a:lnTo>
                    <a:lnTo>
                      <a:pt x="118" y="279"/>
                    </a:lnTo>
                    <a:lnTo>
                      <a:pt x="113" y="272"/>
                    </a:lnTo>
                    <a:lnTo>
                      <a:pt x="104" y="263"/>
                    </a:lnTo>
                    <a:lnTo>
                      <a:pt x="95" y="255"/>
                    </a:lnTo>
                    <a:lnTo>
                      <a:pt x="86" y="249"/>
                    </a:lnTo>
                    <a:lnTo>
                      <a:pt x="74" y="243"/>
                    </a:lnTo>
                    <a:lnTo>
                      <a:pt x="62" y="239"/>
                    </a:lnTo>
                    <a:lnTo>
                      <a:pt x="47" y="235"/>
                    </a:lnTo>
                    <a:lnTo>
                      <a:pt x="30" y="234"/>
                    </a:lnTo>
                    <a:lnTo>
                      <a:pt x="15" y="23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ff00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88160" y="1828800"/>
                <a:ext cx="296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BTBold"/>
                  </a:rPr>
                  <a:t>CONFIDENTIAL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5448240" y="3581280"/>
              <a:ext cx="3322800" cy="2303640"/>
            </a:xfrm>
            <a:custGeom>
              <a:avLst/>
              <a:gdLst/>
              <a:ahLst/>
              <a:rect l="l" t="t" r="r" b="b"/>
              <a:pathLst>
                <a:path w="1158" h="940">
                  <a:moveTo>
                    <a:pt x="0" y="743"/>
                  </a:moveTo>
                  <a:lnTo>
                    <a:pt x="0" y="940"/>
                  </a:lnTo>
                  <a:lnTo>
                    <a:pt x="1158" y="940"/>
                  </a:lnTo>
                  <a:lnTo>
                    <a:pt x="1157" y="0"/>
                  </a:lnTo>
                  <a:lnTo>
                    <a:pt x="1054" y="0"/>
                  </a:lnTo>
                  <a:lnTo>
                    <a:pt x="1049" y="18"/>
                  </a:lnTo>
                  <a:lnTo>
                    <a:pt x="1049" y="31"/>
                  </a:lnTo>
                  <a:lnTo>
                    <a:pt x="1052" y="49"/>
                  </a:lnTo>
                  <a:lnTo>
                    <a:pt x="1058" y="68"/>
                  </a:lnTo>
                  <a:lnTo>
                    <a:pt x="1064" y="91"/>
                  </a:lnTo>
                  <a:lnTo>
                    <a:pt x="1067" y="109"/>
                  </a:lnTo>
                  <a:lnTo>
                    <a:pt x="1067" y="125"/>
                  </a:lnTo>
                  <a:lnTo>
                    <a:pt x="1065" y="143"/>
                  </a:lnTo>
                  <a:lnTo>
                    <a:pt x="1060" y="160"/>
                  </a:lnTo>
                  <a:lnTo>
                    <a:pt x="1049" y="176"/>
                  </a:lnTo>
                  <a:lnTo>
                    <a:pt x="1036" y="190"/>
                  </a:lnTo>
                  <a:lnTo>
                    <a:pt x="1022" y="203"/>
                  </a:lnTo>
                  <a:lnTo>
                    <a:pt x="1006" y="212"/>
                  </a:lnTo>
                  <a:lnTo>
                    <a:pt x="987" y="219"/>
                  </a:lnTo>
                  <a:lnTo>
                    <a:pt x="970" y="223"/>
                  </a:lnTo>
                  <a:lnTo>
                    <a:pt x="946" y="224"/>
                  </a:lnTo>
                  <a:lnTo>
                    <a:pt x="918" y="222"/>
                  </a:lnTo>
                  <a:lnTo>
                    <a:pt x="900" y="219"/>
                  </a:lnTo>
                  <a:lnTo>
                    <a:pt x="884" y="215"/>
                  </a:lnTo>
                  <a:lnTo>
                    <a:pt x="869" y="206"/>
                  </a:lnTo>
                  <a:lnTo>
                    <a:pt x="850" y="191"/>
                  </a:lnTo>
                  <a:lnTo>
                    <a:pt x="838" y="177"/>
                  </a:lnTo>
                  <a:lnTo>
                    <a:pt x="827" y="162"/>
                  </a:lnTo>
                  <a:lnTo>
                    <a:pt x="821" y="146"/>
                  </a:lnTo>
                  <a:lnTo>
                    <a:pt x="817" y="131"/>
                  </a:lnTo>
                  <a:lnTo>
                    <a:pt x="817" y="114"/>
                  </a:lnTo>
                  <a:lnTo>
                    <a:pt x="819" y="97"/>
                  </a:lnTo>
                  <a:lnTo>
                    <a:pt x="823" y="81"/>
                  </a:lnTo>
                  <a:lnTo>
                    <a:pt x="827" y="66"/>
                  </a:lnTo>
                  <a:lnTo>
                    <a:pt x="832" y="50"/>
                  </a:lnTo>
                  <a:lnTo>
                    <a:pt x="835" y="34"/>
                  </a:lnTo>
                  <a:lnTo>
                    <a:pt x="835" y="20"/>
                  </a:lnTo>
                  <a:lnTo>
                    <a:pt x="831" y="4"/>
                  </a:lnTo>
                  <a:lnTo>
                    <a:pt x="637" y="4"/>
                  </a:lnTo>
                  <a:lnTo>
                    <a:pt x="639" y="37"/>
                  </a:lnTo>
                  <a:lnTo>
                    <a:pt x="637" y="60"/>
                  </a:lnTo>
                  <a:lnTo>
                    <a:pt x="636" y="79"/>
                  </a:lnTo>
                  <a:lnTo>
                    <a:pt x="636" y="96"/>
                  </a:lnTo>
                  <a:lnTo>
                    <a:pt x="634" y="114"/>
                  </a:lnTo>
                  <a:lnTo>
                    <a:pt x="630" y="132"/>
                  </a:lnTo>
                  <a:lnTo>
                    <a:pt x="625" y="144"/>
                  </a:lnTo>
                  <a:lnTo>
                    <a:pt x="618" y="155"/>
                  </a:lnTo>
                  <a:lnTo>
                    <a:pt x="608" y="164"/>
                  </a:lnTo>
                  <a:lnTo>
                    <a:pt x="597" y="171"/>
                  </a:lnTo>
                  <a:lnTo>
                    <a:pt x="584" y="175"/>
                  </a:lnTo>
                  <a:lnTo>
                    <a:pt x="570" y="177"/>
                  </a:lnTo>
                  <a:lnTo>
                    <a:pt x="557" y="178"/>
                  </a:lnTo>
                  <a:lnTo>
                    <a:pt x="540" y="178"/>
                  </a:lnTo>
                  <a:lnTo>
                    <a:pt x="524" y="176"/>
                  </a:lnTo>
                  <a:lnTo>
                    <a:pt x="511" y="175"/>
                  </a:lnTo>
                  <a:lnTo>
                    <a:pt x="494" y="174"/>
                  </a:lnTo>
                  <a:lnTo>
                    <a:pt x="476" y="172"/>
                  </a:lnTo>
                  <a:lnTo>
                    <a:pt x="456" y="172"/>
                  </a:lnTo>
                  <a:lnTo>
                    <a:pt x="439" y="174"/>
                  </a:lnTo>
                  <a:lnTo>
                    <a:pt x="422" y="176"/>
                  </a:lnTo>
                  <a:lnTo>
                    <a:pt x="404" y="181"/>
                  </a:lnTo>
                  <a:lnTo>
                    <a:pt x="391" y="188"/>
                  </a:lnTo>
                  <a:lnTo>
                    <a:pt x="377" y="197"/>
                  </a:lnTo>
                  <a:lnTo>
                    <a:pt x="368" y="209"/>
                  </a:lnTo>
                  <a:lnTo>
                    <a:pt x="359" y="222"/>
                  </a:lnTo>
                  <a:lnTo>
                    <a:pt x="355" y="235"/>
                  </a:lnTo>
                  <a:lnTo>
                    <a:pt x="353" y="250"/>
                  </a:lnTo>
                  <a:lnTo>
                    <a:pt x="355" y="265"/>
                  </a:lnTo>
                  <a:lnTo>
                    <a:pt x="356" y="281"/>
                  </a:lnTo>
                  <a:lnTo>
                    <a:pt x="355" y="298"/>
                  </a:lnTo>
                  <a:lnTo>
                    <a:pt x="352" y="311"/>
                  </a:lnTo>
                  <a:lnTo>
                    <a:pt x="348" y="325"/>
                  </a:lnTo>
                  <a:lnTo>
                    <a:pt x="342" y="338"/>
                  </a:lnTo>
                  <a:lnTo>
                    <a:pt x="334" y="347"/>
                  </a:lnTo>
                  <a:lnTo>
                    <a:pt x="321" y="356"/>
                  </a:lnTo>
                  <a:lnTo>
                    <a:pt x="305" y="362"/>
                  </a:lnTo>
                  <a:lnTo>
                    <a:pt x="289" y="367"/>
                  </a:lnTo>
                  <a:lnTo>
                    <a:pt x="274" y="371"/>
                  </a:lnTo>
                  <a:lnTo>
                    <a:pt x="258" y="375"/>
                  </a:lnTo>
                  <a:lnTo>
                    <a:pt x="237" y="379"/>
                  </a:lnTo>
                  <a:lnTo>
                    <a:pt x="221" y="382"/>
                  </a:lnTo>
                  <a:lnTo>
                    <a:pt x="204" y="387"/>
                  </a:lnTo>
                  <a:lnTo>
                    <a:pt x="190" y="392"/>
                  </a:lnTo>
                  <a:lnTo>
                    <a:pt x="176" y="398"/>
                  </a:lnTo>
                  <a:lnTo>
                    <a:pt x="165" y="406"/>
                  </a:lnTo>
                  <a:lnTo>
                    <a:pt x="155" y="414"/>
                  </a:lnTo>
                  <a:lnTo>
                    <a:pt x="144" y="427"/>
                  </a:lnTo>
                  <a:lnTo>
                    <a:pt x="137" y="439"/>
                  </a:lnTo>
                  <a:lnTo>
                    <a:pt x="131" y="453"/>
                  </a:lnTo>
                  <a:lnTo>
                    <a:pt x="128" y="470"/>
                  </a:lnTo>
                  <a:lnTo>
                    <a:pt x="130" y="486"/>
                  </a:lnTo>
                  <a:lnTo>
                    <a:pt x="132" y="502"/>
                  </a:lnTo>
                  <a:lnTo>
                    <a:pt x="137" y="521"/>
                  </a:lnTo>
                  <a:lnTo>
                    <a:pt x="142" y="542"/>
                  </a:lnTo>
                  <a:lnTo>
                    <a:pt x="146" y="561"/>
                  </a:lnTo>
                  <a:lnTo>
                    <a:pt x="148" y="576"/>
                  </a:lnTo>
                  <a:lnTo>
                    <a:pt x="148" y="590"/>
                  </a:lnTo>
                  <a:lnTo>
                    <a:pt x="146" y="609"/>
                  </a:lnTo>
                  <a:lnTo>
                    <a:pt x="141" y="625"/>
                  </a:lnTo>
                  <a:lnTo>
                    <a:pt x="137" y="639"/>
                  </a:lnTo>
                  <a:lnTo>
                    <a:pt x="131" y="652"/>
                  </a:lnTo>
                  <a:lnTo>
                    <a:pt x="123" y="669"/>
                  </a:lnTo>
                  <a:lnTo>
                    <a:pt x="112" y="688"/>
                  </a:lnTo>
                  <a:lnTo>
                    <a:pt x="100" y="702"/>
                  </a:lnTo>
                  <a:lnTo>
                    <a:pt x="88" y="713"/>
                  </a:lnTo>
                  <a:lnTo>
                    <a:pt x="77" y="723"/>
                  </a:lnTo>
                  <a:lnTo>
                    <a:pt x="65" y="731"/>
                  </a:lnTo>
                  <a:lnTo>
                    <a:pt x="53" y="736"/>
                  </a:lnTo>
                  <a:lnTo>
                    <a:pt x="36" y="740"/>
                  </a:lnTo>
                  <a:lnTo>
                    <a:pt x="17" y="743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84560" y="4724280"/>
              <a:ext cx="293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BTBold"/>
                </a:rPr>
                <a:t>AUTHENT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171880" y="3117960"/>
              <a:ext cx="3306600" cy="2749320"/>
              <a:chOff x="2171880" y="3117960"/>
              <a:chExt cx="3306600" cy="2749320"/>
            </a:xfrm>
          </p:grpSpPr>
          <p:sp>
            <p:nvSpPr>
              <p:cNvPr id="216" name=""/>
              <p:cNvSpPr/>
              <p:nvPr/>
            </p:nvSpPr>
            <p:spPr>
              <a:xfrm>
                <a:off x="2171880" y="3117960"/>
                <a:ext cx="3306600" cy="2749320"/>
              </a:xfrm>
              <a:custGeom>
                <a:avLst/>
                <a:gdLst/>
                <a:ahLst/>
                <a:rect l="l" t="t" r="r" b="b"/>
                <a:pathLst>
                  <a:path w="1153" h="1122">
                    <a:moveTo>
                      <a:pt x="1153" y="924"/>
                    </a:moveTo>
                    <a:lnTo>
                      <a:pt x="1153" y="1122"/>
                    </a:lnTo>
                    <a:lnTo>
                      <a:pt x="1" y="1122"/>
                    </a:lnTo>
                    <a:lnTo>
                      <a:pt x="0" y="226"/>
                    </a:lnTo>
                    <a:lnTo>
                      <a:pt x="100" y="226"/>
                    </a:lnTo>
                    <a:lnTo>
                      <a:pt x="104" y="218"/>
                    </a:lnTo>
                    <a:lnTo>
                      <a:pt x="107" y="207"/>
                    </a:lnTo>
                    <a:lnTo>
                      <a:pt x="107" y="198"/>
                    </a:lnTo>
                    <a:lnTo>
                      <a:pt x="106" y="187"/>
                    </a:lnTo>
                    <a:lnTo>
                      <a:pt x="102" y="173"/>
                    </a:lnTo>
                    <a:lnTo>
                      <a:pt x="98" y="155"/>
                    </a:lnTo>
                    <a:lnTo>
                      <a:pt x="94" y="143"/>
                    </a:lnTo>
                    <a:lnTo>
                      <a:pt x="90" y="128"/>
                    </a:lnTo>
                    <a:lnTo>
                      <a:pt x="89" y="114"/>
                    </a:lnTo>
                    <a:lnTo>
                      <a:pt x="89" y="100"/>
                    </a:lnTo>
                    <a:lnTo>
                      <a:pt x="90" y="87"/>
                    </a:lnTo>
                    <a:lnTo>
                      <a:pt x="94" y="73"/>
                    </a:lnTo>
                    <a:lnTo>
                      <a:pt x="99" y="60"/>
                    </a:lnTo>
                    <a:lnTo>
                      <a:pt x="107" y="50"/>
                    </a:lnTo>
                    <a:lnTo>
                      <a:pt x="118" y="38"/>
                    </a:lnTo>
                    <a:lnTo>
                      <a:pt x="128" y="29"/>
                    </a:lnTo>
                    <a:lnTo>
                      <a:pt x="139" y="20"/>
                    </a:lnTo>
                    <a:lnTo>
                      <a:pt x="151" y="13"/>
                    </a:lnTo>
                    <a:lnTo>
                      <a:pt x="165" y="7"/>
                    </a:lnTo>
                    <a:lnTo>
                      <a:pt x="181" y="3"/>
                    </a:lnTo>
                    <a:lnTo>
                      <a:pt x="198" y="1"/>
                    </a:lnTo>
                    <a:lnTo>
                      <a:pt x="212" y="0"/>
                    </a:lnTo>
                    <a:lnTo>
                      <a:pt x="227" y="0"/>
                    </a:lnTo>
                    <a:lnTo>
                      <a:pt x="241" y="1"/>
                    </a:lnTo>
                    <a:lnTo>
                      <a:pt x="252" y="3"/>
                    </a:lnTo>
                    <a:lnTo>
                      <a:pt x="265" y="7"/>
                    </a:lnTo>
                    <a:lnTo>
                      <a:pt x="278" y="11"/>
                    </a:lnTo>
                    <a:lnTo>
                      <a:pt x="288" y="17"/>
                    </a:lnTo>
                    <a:lnTo>
                      <a:pt x="299" y="25"/>
                    </a:lnTo>
                    <a:lnTo>
                      <a:pt x="309" y="35"/>
                    </a:lnTo>
                    <a:lnTo>
                      <a:pt x="319" y="46"/>
                    </a:lnTo>
                    <a:lnTo>
                      <a:pt x="328" y="57"/>
                    </a:lnTo>
                    <a:lnTo>
                      <a:pt x="335" y="69"/>
                    </a:lnTo>
                    <a:lnTo>
                      <a:pt x="340" y="84"/>
                    </a:lnTo>
                    <a:lnTo>
                      <a:pt x="344" y="101"/>
                    </a:lnTo>
                    <a:lnTo>
                      <a:pt x="344" y="117"/>
                    </a:lnTo>
                    <a:lnTo>
                      <a:pt x="340" y="133"/>
                    </a:lnTo>
                    <a:lnTo>
                      <a:pt x="336" y="149"/>
                    </a:lnTo>
                    <a:lnTo>
                      <a:pt x="332" y="165"/>
                    </a:lnTo>
                    <a:lnTo>
                      <a:pt x="327" y="183"/>
                    </a:lnTo>
                    <a:lnTo>
                      <a:pt x="324" y="197"/>
                    </a:lnTo>
                    <a:lnTo>
                      <a:pt x="324" y="205"/>
                    </a:lnTo>
                    <a:lnTo>
                      <a:pt x="326" y="212"/>
                    </a:lnTo>
                    <a:lnTo>
                      <a:pt x="329" y="220"/>
                    </a:lnTo>
                    <a:lnTo>
                      <a:pt x="520" y="220"/>
                    </a:lnTo>
                    <a:lnTo>
                      <a:pt x="516" y="257"/>
                    </a:lnTo>
                    <a:lnTo>
                      <a:pt x="515" y="279"/>
                    </a:lnTo>
                    <a:lnTo>
                      <a:pt x="516" y="297"/>
                    </a:lnTo>
                    <a:lnTo>
                      <a:pt x="517" y="314"/>
                    </a:lnTo>
                    <a:lnTo>
                      <a:pt x="519" y="332"/>
                    </a:lnTo>
                    <a:lnTo>
                      <a:pt x="522" y="350"/>
                    </a:lnTo>
                    <a:lnTo>
                      <a:pt x="528" y="362"/>
                    </a:lnTo>
                    <a:lnTo>
                      <a:pt x="535" y="372"/>
                    </a:lnTo>
                    <a:lnTo>
                      <a:pt x="544" y="381"/>
                    </a:lnTo>
                    <a:lnTo>
                      <a:pt x="556" y="388"/>
                    </a:lnTo>
                    <a:lnTo>
                      <a:pt x="569" y="393"/>
                    </a:lnTo>
                    <a:lnTo>
                      <a:pt x="582" y="395"/>
                    </a:lnTo>
                    <a:lnTo>
                      <a:pt x="596" y="396"/>
                    </a:lnTo>
                    <a:lnTo>
                      <a:pt x="612" y="396"/>
                    </a:lnTo>
                    <a:lnTo>
                      <a:pt x="629" y="394"/>
                    </a:lnTo>
                    <a:lnTo>
                      <a:pt x="641" y="393"/>
                    </a:lnTo>
                    <a:lnTo>
                      <a:pt x="659" y="391"/>
                    </a:lnTo>
                    <a:lnTo>
                      <a:pt x="677" y="389"/>
                    </a:lnTo>
                    <a:lnTo>
                      <a:pt x="697" y="389"/>
                    </a:lnTo>
                    <a:lnTo>
                      <a:pt x="714" y="391"/>
                    </a:lnTo>
                    <a:lnTo>
                      <a:pt x="731" y="394"/>
                    </a:lnTo>
                    <a:lnTo>
                      <a:pt x="748" y="400"/>
                    </a:lnTo>
                    <a:lnTo>
                      <a:pt x="762" y="406"/>
                    </a:lnTo>
                    <a:lnTo>
                      <a:pt x="776" y="416"/>
                    </a:lnTo>
                    <a:lnTo>
                      <a:pt x="785" y="427"/>
                    </a:lnTo>
                    <a:lnTo>
                      <a:pt x="793" y="440"/>
                    </a:lnTo>
                    <a:lnTo>
                      <a:pt x="798" y="454"/>
                    </a:lnTo>
                    <a:lnTo>
                      <a:pt x="800" y="468"/>
                    </a:lnTo>
                    <a:lnTo>
                      <a:pt x="798" y="484"/>
                    </a:lnTo>
                    <a:lnTo>
                      <a:pt x="797" y="500"/>
                    </a:lnTo>
                    <a:lnTo>
                      <a:pt x="798" y="516"/>
                    </a:lnTo>
                    <a:lnTo>
                      <a:pt x="800" y="530"/>
                    </a:lnTo>
                    <a:lnTo>
                      <a:pt x="805" y="543"/>
                    </a:lnTo>
                    <a:lnTo>
                      <a:pt x="811" y="556"/>
                    </a:lnTo>
                    <a:lnTo>
                      <a:pt x="819" y="565"/>
                    </a:lnTo>
                    <a:lnTo>
                      <a:pt x="831" y="574"/>
                    </a:lnTo>
                    <a:lnTo>
                      <a:pt x="847" y="580"/>
                    </a:lnTo>
                    <a:lnTo>
                      <a:pt x="864" y="585"/>
                    </a:lnTo>
                    <a:lnTo>
                      <a:pt x="878" y="589"/>
                    </a:lnTo>
                    <a:lnTo>
                      <a:pt x="895" y="593"/>
                    </a:lnTo>
                    <a:lnTo>
                      <a:pt x="915" y="597"/>
                    </a:lnTo>
                    <a:lnTo>
                      <a:pt x="932" y="600"/>
                    </a:lnTo>
                    <a:lnTo>
                      <a:pt x="949" y="605"/>
                    </a:lnTo>
                    <a:lnTo>
                      <a:pt x="963" y="610"/>
                    </a:lnTo>
                    <a:lnTo>
                      <a:pt x="977" y="616"/>
                    </a:lnTo>
                    <a:lnTo>
                      <a:pt x="988" y="624"/>
                    </a:lnTo>
                    <a:lnTo>
                      <a:pt x="997" y="632"/>
                    </a:lnTo>
                    <a:lnTo>
                      <a:pt x="1009" y="645"/>
                    </a:lnTo>
                    <a:lnTo>
                      <a:pt x="1016" y="657"/>
                    </a:lnTo>
                    <a:lnTo>
                      <a:pt x="1022" y="670"/>
                    </a:lnTo>
                    <a:lnTo>
                      <a:pt x="1025" y="688"/>
                    </a:lnTo>
                    <a:lnTo>
                      <a:pt x="1023" y="705"/>
                    </a:lnTo>
                    <a:lnTo>
                      <a:pt x="1020" y="720"/>
                    </a:lnTo>
                    <a:lnTo>
                      <a:pt x="1016" y="739"/>
                    </a:lnTo>
                    <a:lnTo>
                      <a:pt x="1011" y="760"/>
                    </a:lnTo>
                    <a:lnTo>
                      <a:pt x="1006" y="779"/>
                    </a:lnTo>
                    <a:lnTo>
                      <a:pt x="1004" y="795"/>
                    </a:lnTo>
                    <a:lnTo>
                      <a:pt x="1004" y="808"/>
                    </a:lnTo>
                    <a:lnTo>
                      <a:pt x="1007" y="827"/>
                    </a:lnTo>
                    <a:lnTo>
                      <a:pt x="1011" y="843"/>
                    </a:lnTo>
                    <a:lnTo>
                      <a:pt x="1017" y="855"/>
                    </a:lnTo>
                    <a:lnTo>
                      <a:pt x="1024" y="867"/>
                    </a:lnTo>
                    <a:lnTo>
                      <a:pt x="1034" y="880"/>
                    </a:lnTo>
                    <a:lnTo>
                      <a:pt x="1045" y="893"/>
                    </a:lnTo>
                    <a:lnTo>
                      <a:pt x="1058" y="904"/>
                    </a:lnTo>
                    <a:lnTo>
                      <a:pt x="1073" y="913"/>
                    </a:lnTo>
                    <a:lnTo>
                      <a:pt x="1087" y="918"/>
                    </a:lnTo>
                    <a:lnTo>
                      <a:pt x="1102" y="922"/>
                    </a:lnTo>
                    <a:lnTo>
                      <a:pt x="1117" y="924"/>
                    </a:lnTo>
                    <a:lnTo>
                      <a:pt x="1135" y="925"/>
                    </a:lnTo>
                    <a:lnTo>
                      <a:pt x="1153" y="924"/>
                    </a:lnTo>
                    <a:close/>
                  </a:path>
                </a:pathLst>
              </a:custGeom>
              <a:solidFill>
                <a:srgbClr val="00ff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591280" y="4529160"/>
                <a:ext cx="180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BTBold"/>
                  </a:rPr>
                  <a:t>INTEG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71880" y="1390680"/>
              <a:ext cx="3322440" cy="2303280"/>
              <a:chOff x="2171880" y="1390680"/>
              <a:chExt cx="3322440" cy="2303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71880" y="1390680"/>
                <a:ext cx="3322440" cy="2303280"/>
              </a:xfrm>
              <a:custGeom>
                <a:avLst/>
                <a:gdLst/>
                <a:ahLst/>
                <a:rect l="l" t="t" r="r" b="b"/>
                <a:pathLst>
                  <a:path w="1158" h="940">
                    <a:moveTo>
                      <a:pt x="1158" y="234"/>
                    </a:moveTo>
                    <a:lnTo>
                      <a:pt x="1158" y="0"/>
                    </a:lnTo>
                    <a:lnTo>
                      <a:pt x="0" y="0"/>
                    </a:lnTo>
                    <a:lnTo>
                      <a:pt x="1" y="940"/>
                    </a:lnTo>
                    <a:lnTo>
                      <a:pt x="104" y="940"/>
                    </a:lnTo>
                    <a:lnTo>
                      <a:pt x="109" y="922"/>
                    </a:lnTo>
                    <a:lnTo>
                      <a:pt x="109" y="909"/>
                    </a:lnTo>
                    <a:lnTo>
                      <a:pt x="106" y="891"/>
                    </a:lnTo>
                    <a:lnTo>
                      <a:pt x="100" y="872"/>
                    </a:lnTo>
                    <a:lnTo>
                      <a:pt x="94" y="849"/>
                    </a:lnTo>
                    <a:lnTo>
                      <a:pt x="91" y="831"/>
                    </a:lnTo>
                    <a:lnTo>
                      <a:pt x="90" y="815"/>
                    </a:lnTo>
                    <a:lnTo>
                      <a:pt x="93" y="797"/>
                    </a:lnTo>
                    <a:lnTo>
                      <a:pt x="98" y="780"/>
                    </a:lnTo>
                    <a:lnTo>
                      <a:pt x="109" y="763"/>
                    </a:lnTo>
                    <a:lnTo>
                      <a:pt x="122" y="750"/>
                    </a:lnTo>
                    <a:lnTo>
                      <a:pt x="136" y="737"/>
                    </a:lnTo>
                    <a:lnTo>
                      <a:pt x="152" y="728"/>
                    </a:lnTo>
                    <a:lnTo>
                      <a:pt x="171" y="720"/>
                    </a:lnTo>
                    <a:lnTo>
                      <a:pt x="188" y="717"/>
                    </a:lnTo>
                    <a:lnTo>
                      <a:pt x="212" y="716"/>
                    </a:lnTo>
                    <a:lnTo>
                      <a:pt x="240" y="718"/>
                    </a:lnTo>
                    <a:lnTo>
                      <a:pt x="258" y="720"/>
                    </a:lnTo>
                    <a:lnTo>
                      <a:pt x="274" y="725"/>
                    </a:lnTo>
                    <a:lnTo>
                      <a:pt x="289" y="734"/>
                    </a:lnTo>
                    <a:lnTo>
                      <a:pt x="308" y="749"/>
                    </a:lnTo>
                    <a:lnTo>
                      <a:pt x="320" y="763"/>
                    </a:lnTo>
                    <a:lnTo>
                      <a:pt x="331" y="778"/>
                    </a:lnTo>
                    <a:lnTo>
                      <a:pt x="337" y="794"/>
                    </a:lnTo>
                    <a:lnTo>
                      <a:pt x="341" y="809"/>
                    </a:lnTo>
                    <a:lnTo>
                      <a:pt x="341" y="826"/>
                    </a:lnTo>
                    <a:lnTo>
                      <a:pt x="339" y="843"/>
                    </a:lnTo>
                    <a:lnTo>
                      <a:pt x="335" y="859"/>
                    </a:lnTo>
                    <a:lnTo>
                      <a:pt x="331" y="874"/>
                    </a:lnTo>
                    <a:lnTo>
                      <a:pt x="326" y="890"/>
                    </a:lnTo>
                    <a:lnTo>
                      <a:pt x="323" y="906"/>
                    </a:lnTo>
                    <a:lnTo>
                      <a:pt x="323" y="920"/>
                    </a:lnTo>
                    <a:lnTo>
                      <a:pt x="327" y="936"/>
                    </a:lnTo>
                    <a:lnTo>
                      <a:pt x="521" y="936"/>
                    </a:lnTo>
                    <a:lnTo>
                      <a:pt x="519" y="903"/>
                    </a:lnTo>
                    <a:lnTo>
                      <a:pt x="521" y="879"/>
                    </a:lnTo>
                    <a:lnTo>
                      <a:pt x="521" y="861"/>
                    </a:lnTo>
                    <a:lnTo>
                      <a:pt x="522" y="844"/>
                    </a:lnTo>
                    <a:lnTo>
                      <a:pt x="524" y="826"/>
                    </a:lnTo>
                    <a:lnTo>
                      <a:pt x="528" y="808"/>
                    </a:lnTo>
                    <a:lnTo>
                      <a:pt x="533" y="796"/>
                    </a:lnTo>
                    <a:lnTo>
                      <a:pt x="540" y="785"/>
                    </a:lnTo>
                    <a:lnTo>
                      <a:pt x="550" y="776"/>
                    </a:lnTo>
                    <a:lnTo>
                      <a:pt x="561" y="769"/>
                    </a:lnTo>
                    <a:lnTo>
                      <a:pt x="574" y="765"/>
                    </a:lnTo>
                    <a:lnTo>
                      <a:pt x="588" y="763"/>
                    </a:lnTo>
                    <a:lnTo>
                      <a:pt x="601" y="762"/>
                    </a:lnTo>
                    <a:lnTo>
                      <a:pt x="618" y="762"/>
                    </a:lnTo>
                    <a:lnTo>
                      <a:pt x="634" y="763"/>
                    </a:lnTo>
                    <a:lnTo>
                      <a:pt x="647" y="765"/>
                    </a:lnTo>
                    <a:lnTo>
                      <a:pt x="664" y="766"/>
                    </a:lnTo>
                    <a:lnTo>
                      <a:pt x="682" y="768"/>
                    </a:lnTo>
                    <a:lnTo>
                      <a:pt x="702" y="768"/>
                    </a:lnTo>
                    <a:lnTo>
                      <a:pt x="719" y="766"/>
                    </a:lnTo>
                    <a:lnTo>
                      <a:pt x="736" y="763"/>
                    </a:lnTo>
                    <a:lnTo>
                      <a:pt x="754" y="759"/>
                    </a:lnTo>
                    <a:lnTo>
                      <a:pt x="767" y="752"/>
                    </a:lnTo>
                    <a:lnTo>
                      <a:pt x="781" y="743"/>
                    </a:lnTo>
                    <a:lnTo>
                      <a:pt x="790" y="731"/>
                    </a:lnTo>
                    <a:lnTo>
                      <a:pt x="799" y="718"/>
                    </a:lnTo>
                    <a:lnTo>
                      <a:pt x="803" y="705"/>
                    </a:lnTo>
                    <a:lnTo>
                      <a:pt x="805" y="690"/>
                    </a:lnTo>
                    <a:lnTo>
                      <a:pt x="803" y="675"/>
                    </a:lnTo>
                    <a:lnTo>
                      <a:pt x="802" y="659"/>
                    </a:lnTo>
                    <a:lnTo>
                      <a:pt x="803" y="642"/>
                    </a:lnTo>
                    <a:lnTo>
                      <a:pt x="806" y="629"/>
                    </a:lnTo>
                    <a:lnTo>
                      <a:pt x="810" y="615"/>
                    </a:lnTo>
                    <a:lnTo>
                      <a:pt x="816" y="602"/>
                    </a:lnTo>
                    <a:lnTo>
                      <a:pt x="824" y="593"/>
                    </a:lnTo>
                    <a:lnTo>
                      <a:pt x="837" y="584"/>
                    </a:lnTo>
                    <a:lnTo>
                      <a:pt x="853" y="578"/>
                    </a:lnTo>
                    <a:lnTo>
                      <a:pt x="869" y="573"/>
                    </a:lnTo>
                    <a:lnTo>
                      <a:pt x="884" y="569"/>
                    </a:lnTo>
                    <a:lnTo>
                      <a:pt x="900" y="565"/>
                    </a:lnTo>
                    <a:lnTo>
                      <a:pt x="921" y="561"/>
                    </a:lnTo>
                    <a:lnTo>
                      <a:pt x="937" y="558"/>
                    </a:lnTo>
                    <a:lnTo>
                      <a:pt x="954" y="553"/>
                    </a:lnTo>
                    <a:lnTo>
                      <a:pt x="968" y="548"/>
                    </a:lnTo>
                    <a:lnTo>
                      <a:pt x="982" y="542"/>
                    </a:lnTo>
                    <a:lnTo>
                      <a:pt x="993" y="534"/>
                    </a:lnTo>
                    <a:lnTo>
                      <a:pt x="1003" y="526"/>
                    </a:lnTo>
                    <a:lnTo>
                      <a:pt x="1014" y="513"/>
                    </a:lnTo>
                    <a:lnTo>
                      <a:pt x="1021" y="501"/>
                    </a:lnTo>
                    <a:lnTo>
                      <a:pt x="1027" y="487"/>
                    </a:lnTo>
                    <a:lnTo>
                      <a:pt x="1030" y="469"/>
                    </a:lnTo>
                    <a:lnTo>
                      <a:pt x="1028" y="454"/>
                    </a:lnTo>
                    <a:lnTo>
                      <a:pt x="1026" y="438"/>
                    </a:lnTo>
                    <a:lnTo>
                      <a:pt x="1021" y="419"/>
                    </a:lnTo>
                    <a:lnTo>
                      <a:pt x="1016" y="398"/>
                    </a:lnTo>
                    <a:lnTo>
                      <a:pt x="1011" y="379"/>
                    </a:lnTo>
                    <a:lnTo>
                      <a:pt x="1010" y="364"/>
                    </a:lnTo>
                    <a:lnTo>
                      <a:pt x="1010" y="350"/>
                    </a:lnTo>
                    <a:lnTo>
                      <a:pt x="1012" y="331"/>
                    </a:lnTo>
                    <a:lnTo>
                      <a:pt x="1017" y="315"/>
                    </a:lnTo>
                    <a:lnTo>
                      <a:pt x="1022" y="303"/>
                    </a:lnTo>
                    <a:lnTo>
                      <a:pt x="1029" y="291"/>
                    </a:lnTo>
                    <a:lnTo>
                      <a:pt x="1039" y="278"/>
                    </a:lnTo>
                    <a:lnTo>
                      <a:pt x="1050" y="265"/>
                    </a:lnTo>
                    <a:lnTo>
                      <a:pt x="1064" y="254"/>
                    </a:lnTo>
                    <a:lnTo>
                      <a:pt x="1079" y="245"/>
                    </a:lnTo>
                    <a:lnTo>
                      <a:pt x="1093" y="240"/>
                    </a:lnTo>
                    <a:lnTo>
                      <a:pt x="1107" y="236"/>
                    </a:lnTo>
                    <a:lnTo>
                      <a:pt x="1122" y="234"/>
                    </a:lnTo>
                    <a:lnTo>
                      <a:pt x="1140" y="234"/>
                    </a:lnTo>
                    <a:lnTo>
                      <a:pt x="1158" y="234"/>
                    </a:lnTo>
                    <a:close/>
                  </a:path>
                </a:pathLst>
              </a:custGeom>
              <a:solidFill>
                <a:srgbClr val="00808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63640" y="1956960"/>
                <a:ext cx="22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BTBold"/>
                  </a:rPr>
                  <a:t>AVAILABIL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3333600" y="1809720"/>
            <a:ext cx="4190760" cy="3809520"/>
            <a:chOff x="3333600" y="1809720"/>
            <a:chExt cx="4190760" cy="3809520"/>
          </a:xfrm>
        </p:grpSpPr>
        <p:grpSp>
          <p:nvGrpSpPr>
            <p:cNvPr id="222" name=""/>
            <p:cNvGrpSpPr/>
            <p:nvPr/>
          </p:nvGrpSpPr>
          <p:grpSpPr>
            <a:xfrm>
              <a:off x="3562200" y="1962000"/>
              <a:ext cx="3657600" cy="3504600"/>
              <a:chOff x="3562200" y="1962000"/>
              <a:chExt cx="3657600" cy="3504600"/>
            </a:xfrm>
          </p:grpSpPr>
          <p:sp>
            <p:nvSpPr>
              <p:cNvPr id="223" name=""/>
              <p:cNvSpPr/>
              <p:nvPr/>
            </p:nvSpPr>
            <p:spPr>
              <a:xfrm>
                <a:off x="3562200" y="1962000"/>
                <a:ext cx="3657600" cy="3504600"/>
              </a:xfrm>
              <a:custGeom>
                <a:avLst/>
                <a:gdLst/>
                <a:ahLst/>
                <a:rect l="l" t="t" r="r" b="b"/>
                <a:pathLst>
                  <a:path w="1284" h="1407">
                    <a:moveTo>
                      <a:pt x="489" y="294"/>
                    </a:moveTo>
                    <a:lnTo>
                      <a:pt x="502" y="278"/>
                    </a:lnTo>
                    <a:lnTo>
                      <a:pt x="511" y="263"/>
                    </a:lnTo>
                    <a:lnTo>
                      <a:pt x="516" y="246"/>
                    </a:lnTo>
                    <a:lnTo>
                      <a:pt x="516" y="224"/>
                    </a:lnTo>
                    <a:lnTo>
                      <a:pt x="510" y="199"/>
                    </a:lnTo>
                    <a:lnTo>
                      <a:pt x="505" y="178"/>
                    </a:lnTo>
                    <a:lnTo>
                      <a:pt x="498" y="152"/>
                    </a:lnTo>
                    <a:lnTo>
                      <a:pt x="495" y="124"/>
                    </a:lnTo>
                    <a:lnTo>
                      <a:pt x="498" y="107"/>
                    </a:lnTo>
                    <a:lnTo>
                      <a:pt x="503" y="86"/>
                    </a:lnTo>
                    <a:lnTo>
                      <a:pt x="513" y="64"/>
                    </a:lnTo>
                    <a:lnTo>
                      <a:pt x="527" y="43"/>
                    </a:lnTo>
                    <a:lnTo>
                      <a:pt x="545" y="26"/>
                    </a:lnTo>
                    <a:lnTo>
                      <a:pt x="561" y="13"/>
                    </a:lnTo>
                    <a:lnTo>
                      <a:pt x="583" y="5"/>
                    </a:lnTo>
                    <a:lnTo>
                      <a:pt x="609" y="1"/>
                    </a:lnTo>
                    <a:lnTo>
                      <a:pt x="637" y="0"/>
                    </a:lnTo>
                    <a:lnTo>
                      <a:pt x="675" y="0"/>
                    </a:lnTo>
                    <a:lnTo>
                      <a:pt x="705" y="3"/>
                    </a:lnTo>
                    <a:lnTo>
                      <a:pt x="722" y="9"/>
                    </a:lnTo>
                    <a:lnTo>
                      <a:pt x="735" y="17"/>
                    </a:lnTo>
                    <a:lnTo>
                      <a:pt x="749" y="26"/>
                    </a:lnTo>
                    <a:lnTo>
                      <a:pt x="763" y="40"/>
                    </a:lnTo>
                    <a:lnTo>
                      <a:pt x="776" y="58"/>
                    </a:lnTo>
                    <a:lnTo>
                      <a:pt x="786" y="74"/>
                    </a:lnTo>
                    <a:lnTo>
                      <a:pt x="791" y="88"/>
                    </a:lnTo>
                    <a:lnTo>
                      <a:pt x="795" y="112"/>
                    </a:lnTo>
                    <a:lnTo>
                      <a:pt x="795" y="133"/>
                    </a:lnTo>
                    <a:lnTo>
                      <a:pt x="792" y="154"/>
                    </a:lnTo>
                    <a:lnTo>
                      <a:pt x="788" y="170"/>
                    </a:lnTo>
                    <a:lnTo>
                      <a:pt x="783" y="196"/>
                    </a:lnTo>
                    <a:lnTo>
                      <a:pt x="776" y="223"/>
                    </a:lnTo>
                    <a:lnTo>
                      <a:pt x="773" y="240"/>
                    </a:lnTo>
                    <a:lnTo>
                      <a:pt x="778" y="257"/>
                    </a:lnTo>
                    <a:lnTo>
                      <a:pt x="784" y="269"/>
                    </a:lnTo>
                    <a:lnTo>
                      <a:pt x="795" y="285"/>
                    </a:lnTo>
                    <a:lnTo>
                      <a:pt x="811" y="298"/>
                    </a:lnTo>
                    <a:lnTo>
                      <a:pt x="826" y="309"/>
                    </a:lnTo>
                    <a:lnTo>
                      <a:pt x="848" y="318"/>
                    </a:lnTo>
                    <a:lnTo>
                      <a:pt x="870" y="324"/>
                    </a:lnTo>
                    <a:lnTo>
                      <a:pt x="891" y="329"/>
                    </a:lnTo>
                    <a:lnTo>
                      <a:pt x="913" y="332"/>
                    </a:lnTo>
                    <a:lnTo>
                      <a:pt x="936" y="338"/>
                    </a:lnTo>
                    <a:lnTo>
                      <a:pt x="954" y="344"/>
                    </a:lnTo>
                    <a:lnTo>
                      <a:pt x="968" y="351"/>
                    </a:lnTo>
                    <a:lnTo>
                      <a:pt x="979" y="359"/>
                    </a:lnTo>
                    <a:lnTo>
                      <a:pt x="987" y="368"/>
                    </a:lnTo>
                    <a:lnTo>
                      <a:pt x="993" y="379"/>
                    </a:lnTo>
                    <a:lnTo>
                      <a:pt x="998" y="392"/>
                    </a:lnTo>
                    <a:lnTo>
                      <a:pt x="1000" y="404"/>
                    </a:lnTo>
                    <a:lnTo>
                      <a:pt x="1002" y="415"/>
                    </a:lnTo>
                    <a:lnTo>
                      <a:pt x="1002" y="430"/>
                    </a:lnTo>
                    <a:lnTo>
                      <a:pt x="1000" y="447"/>
                    </a:lnTo>
                    <a:lnTo>
                      <a:pt x="1000" y="460"/>
                    </a:lnTo>
                    <a:lnTo>
                      <a:pt x="1003" y="476"/>
                    </a:lnTo>
                    <a:lnTo>
                      <a:pt x="1010" y="490"/>
                    </a:lnTo>
                    <a:lnTo>
                      <a:pt x="1018" y="502"/>
                    </a:lnTo>
                    <a:lnTo>
                      <a:pt x="1028" y="511"/>
                    </a:lnTo>
                    <a:lnTo>
                      <a:pt x="1041" y="521"/>
                    </a:lnTo>
                    <a:lnTo>
                      <a:pt x="1054" y="527"/>
                    </a:lnTo>
                    <a:lnTo>
                      <a:pt x="1074" y="531"/>
                    </a:lnTo>
                    <a:lnTo>
                      <a:pt x="1091" y="533"/>
                    </a:lnTo>
                    <a:lnTo>
                      <a:pt x="1107" y="534"/>
                    </a:lnTo>
                    <a:lnTo>
                      <a:pt x="1125" y="533"/>
                    </a:lnTo>
                    <a:lnTo>
                      <a:pt x="1147" y="531"/>
                    </a:lnTo>
                    <a:lnTo>
                      <a:pt x="1164" y="530"/>
                    </a:lnTo>
                    <a:lnTo>
                      <a:pt x="1181" y="528"/>
                    </a:lnTo>
                    <a:lnTo>
                      <a:pt x="1197" y="527"/>
                    </a:lnTo>
                    <a:lnTo>
                      <a:pt x="1216" y="528"/>
                    </a:lnTo>
                    <a:lnTo>
                      <a:pt x="1226" y="530"/>
                    </a:lnTo>
                    <a:lnTo>
                      <a:pt x="1238" y="533"/>
                    </a:lnTo>
                    <a:lnTo>
                      <a:pt x="1249" y="539"/>
                    </a:lnTo>
                    <a:lnTo>
                      <a:pt x="1261" y="548"/>
                    </a:lnTo>
                    <a:lnTo>
                      <a:pt x="1270" y="558"/>
                    </a:lnTo>
                    <a:lnTo>
                      <a:pt x="1277" y="573"/>
                    </a:lnTo>
                    <a:lnTo>
                      <a:pt x="1280" y="586"/>
                    </a:lnTo>
                    <a:lnTo>
                      <a:pt x="1282" y="602"/>
                    </a:lnTo>
                    <a:lnTo>
                      <a:pt x="1284" y="631"/>
                    </a:lnTo>
                    <a:lnTo>
                      <a:pt x="1283" y="665"/>
                    </a:lnTo>
                    <a:lnTo>
                      <a:pt x="1284" y="701"/>
                    </a:lnTo>
                    <a:lnTo>
                      <a:pt x="1281" y="743"/>
                    </a:lnTo>
                    <a:lnTo>
                      <a:pt x="1278" y="772"/>
                    </a:lnTo>
                    <a:lnTo>
                      <a:pt x="1275" y="795"/>
                    </a:lnTo>
                    <a:lnTo>
                      <a:pt x="1270" y="808"/>
                    </a:lnTo>
                    <a:lnTo>
                      <a:pt x="1262" y="820"/>
                    </a:lnTo>
                    <a:lnTo>
                      <a:pt x="1253" y="828"/>
                    </a:lnTo>
                    <a:lnTo>
                      <a:pt x="1241" y="835"/>
                    </a:lnTo>
                    <a:lnTo>
                      <a:pt x="1227" y="839"/>
                    </a:lnTo>
                    <a:lnTo>
                      <a:pt x="1215" y="842"/>
                    </a:lnTo>
                    <a:lnTo>
                      <a:pt x="1190" y="843"/>
                    </a:lnTo>
                    <a:lnTo>
                      <a:pt x="1168" y="842"/>
                    </a:lnTo>
                    <a:lnTo>
                      <a:pt x="1150" y="839"/>
                    </a:lnTo>
                    <a:lnTo>
                      <a:pt x="1134" y="838"/>
                    </a:lnTo>
                    <a:lnTo>
                      <a:pt x="1116" y="837"/>
                    </a:lnTo>
                    <a:lnTo>
                      <a:pt x="1100" y="837"/>
                    </a:lnTo>
                    <a:lnTo>
                      <a:pt x="1086" y="838"/>
                    </a:lnTo>
                    <a:lnTo>
                      <a:pt x="1071" y="839"/>
                    </a:lnTo>
                    <a:lnTo>
                      <a:pt x="1053" y="844"/>
                    </a:lnTo>
                    <a:lnTo>
                      <a:pt x="1043" y="848"/>
                    </a:lnTo>
                    <a:lnTo>
                      <a:pt x="1034" y="852"/>
                    </a:lnTo>
                    <a:lnTo>
                      <a:pt x="1022" y="860"/>
                    </a:lnTo>
                    <a:lnTo>
                      <a:pt x="1014" y="870"/>
                    </a:lnTo>
                    <a:lnTo>
                      <a:pt x="1008" y="879"/>
                    </a:lnTo>
                    <a:lnTo>
                      <a:pt x="1002" y="890"/>
                    </a:lnTo>
                    <a:lnTo>
                      <a:pt x="999" y="901"/>
                    </a:lnTo>
                    <a:lnTo>
                      <a:pt x="998" y="913"/>
                    </a:lnTo>
                    <a:lnTo>
                      <a:pt x="999" y="926"/>
                    </a:lnTo>
                    <a:lnTo>
                      <a:pt x="999" y="948"/>
                    </a:lnTo>
                    <a:lnTo>
                      <a:pt x="998" y="971"/>
                    </a:lnTo>
                    <a:lnTo>
                      <a:pt x="992" y="988"/>
                    </a:lnTo>
                    <a:lnTo>
                      <a:pt x="986" y="1002"/>
                    </a:lnTo>
                    <a:lnTo>
                      <a:pt x="977" y="1012"/>
                    </a:lnTo>
                    <a:lnTo>
                      <a:pt x="964" y="1020"/>
                    </a:lnTo>
                    <a:lnTo>
                      <a:pt x="951" y="1027"/>
                    </a:lnTo>
                    <a:lnTo>
                      <a:pt x="936" y="1031"/>
                    </a:lnTo>
                    <a:lnTo>
                      <a:pt x="917" y="1035"/>
                    </a:lnTo>
                    <a:lnTo>
                      <a:pt x="901" y="1040"/>
                    </a:lnTo>
                    <a:lnTo>
                      <a:pt x="882" y="1043"/>
                    </a:lnTo>
                    <a:lnTo>
                      <a:pt x="866" y="1046"/>
                    </a:lnTo>
                    <a:lnTo>
                      <a:pt x="848" y="1050"/>
                    </a:lnTo>
                    <a:lnTo>
                      <a:pt x="834" y="1057"/>
                    </a:lnTo>
                    <a:lnTo>
                      <a:pt x="818" y="1064"/>
                    </a:lnTo>
                    <a:lnTo>
                      <a:pt x="803" y="1073"/>
                    </a:lnTo>
                    <a:lnTo>
                      <a:pt x="792" y="1085"/>
                    </a:lnTo>
                    <a:lnTo>
                      <a:pt x="782" y="1099"/>
                    </a:lnTo>
                    <a:lnTo>
                      <a:pt x="774" y="1116"/>
                    </a:lnTo>
                    <a:lnTo>
                      <a:pt x="772" y="1131"/>
                    </a:lnTo>
                    <a:lnTo>
                      <a:pt x="773" y="1148"/>
                    </a:lnTo>
                    <a:lnTo>
                      <a:pt x="776" y="1164"/>
                    </a:lnTo>
                    <a:lnTo>
                      <a:pt x="781" y="1181"/>
                    </a:lnTo>
                    <a:lnTo>
                      <a:pt x="785" y="1200"/>
                    </a:lnTo>
                    <a:lnTo>
                      <a:pt x="788" y="1217"/>
                    </a:lnTo>
                    <a:lnTo>
                      <a:pt x="792" y="1239"/>
                    </a:lnTo>
                    <a:lnTo>
                      <a:pt x="792" y="1261"/>
                    </a:lnTo>
                    <a:lnTo>
                      <a:pt x="787" y="1283"/>
                    </a:lnTo>
                    <a:lnTo>
                      <a:pt x="782" y="1300"/>
                    </a:lnTo>
                    <a:lnTo>
                      <a:pt x="776" y="1317"/>
                    </a:lnTo>
                    <a:lnTo>
                      <a:pt x="768" y="1333"/>
                    </a:lnTo>
                    <a:lnTo>
                      <a:pt x="757" y="1353"/>
                    </a:lnTo>
                    <a:lnTo>
                      <a:pt x="745" y="1366"/>
                    </a:lnTo>
                    <a:lnTo>
                      <a:pt x="735" y="1375"/>
                    </a:lnTo>
                    <a:lnTo>
                      <a:pt x="722" y="1386"/>
                    </a:lnTo>
                    <a:lnTo>
                      <a:pt x="708" y="1396"/>
                    </a:lnTo>
                    <a:lnTo>
                      <a:pt x="695" y="1401"/>
                    </a:lnTo>
                    <a:lnTo>
                      <a:pt x="683" y="1404"/>
                    </a:lnTo>
                    <a:lnTo>
                      <a:pt x="663" y="1406"/>
                    </a:lnTo>
                    <a:lnTo>
                      <a:pt x="640" y="1407"/>
                    </a:lnTo>
                    <a:lnTo>
                      <a:pt x="612" y="1406"/>
                    </a:lnTo>
                    <a:lnTo>
                      <a:pt x="599" y="1406"/>
                    </a:lnTo>
                    <a:lnTo>
                      <a:pt x="582" y="1403"/>
                    </a:lnTo>
                    <a:lnTo>
                      <a:pt x="564" y="1398"/>
                    </a:lnTo>
                    <a:lnTo>
                      <a:pt x="548" y="1389"/>
                    </a:lnTo>
                    <a:lnTo>
                      <a:pt x="538" y="1381"/>
                    </a:lnTo>
                    <a:lnTo>
                      <a:pt x="527" y="1370"/>
                    </a:lnTo>
                    <a:lnTo>
                      <a:pt x="518" y="1360"/>
                    </a:lnTo>
                    <a:lnTo>
                      <a:pt x="509" y="1347"/>
                    </a:lnTo>
                    <a:lnTo>
                      <a:pt x="502" y="1334"/>
                    </a:lnTo>
                    <a:lnTo>
                      <a:pt x="496" y="1318"/>
                    </a:lnTo>
                    <a:lnTo>
                      <a:pt x="493" y="1301"/>
                    </a:lnTo>
                    <a:lnTo>
                      <a:pt x="492" y="1288"/>
                    </a:lnTo>
                    <a:lnTo>
                      <a:pt x="492" y="1270"/>
                    </a:lnTo>
                    <a:lnTo>
                      <a:pt x="493" y="1255"/>
                    </a:lnTo>
                    <a:lnTo>
                      <a:pt x="498" y="1239"/>
                    </a:lnTo>
                    <a:lnTo>
                      <a:pt x="502" y="1220"/>
                    </a:lnTo>
                    <a:lnTo>
                      <a:pt x="507" y="1202"/>
                    </a:lnTo>
                    <a:lnTo>
                      <a:pt x="510" y="1186"/>
                    </a:lnTo>
                    <a:lnTo>
                      <a:pt x="511" y="1171"/>
                    </a:lnTo>
                    <a:lnTo>
                      <a:pt x="510" y="1159"/>
                    </a:lnTo>
                    <a:lnTo>
                      <a:pt x="507" y="1147"/>
                    </a:lnTo>
                    <a:lnTo>
                      <a:pt x="499" y="1132"/>
                    </a:lnTo>
                    <a:lnTo>
                      <a:pt x="491" y="1122"/>
                    </a:lnTo>
                    <a:lnTo>
                      <a:pt x="481" y="1111"/>
                    </a:lnTo>
                    <a:lnTo>
                      <a:pt x="470" y="1103"/>
                    </a:lnTo>
                    <a:lnTo>
                      <a:pt x="459" y="1095"/>
                    </a:lnTo>
                    <a:lnTo>
                      <a:pt x="443" y="1089"/>
                    </a:lnTo>
                    <a:lnTo>
                      <a:pt x="429" y="1085"/>
                    </a:lnTo>
                    <a:lnTo>
                      <a:pt x="411" y="1081"/>
                    </a:lnTo>
                    <a:lnTo>
                      <a:pt x="395" y="1079"/>
                    </a:lnTo>
                    <a:lnTo>
                      <a:pt x="380" y="1075"/>
                    </a:lnTo>
                    <a:lnTo>
                      <a:pt x="362" y="1071"/>
                    </a:lnTo>
                    <a:lnTo>
                      <a:pt x="347" y="1065"/>
                    </a:lnTo>
                    <a:lnTo>
                      <a:pt x="329" y="1060"/>
                    </a:lnTo>
                    <a:lnTo>
                      <a:pt x="315" y="1054"/>
                    </a:lnTo>
                    <a:lnTo>
                      <a:pt x="304" y="1045"/>
                    </a:lnTo>
                    <a:lnTo>
                      <a:pt x="295" y="1033"/>
                    </a:lnTo>
                    <a:lnTo>
                      <a:pt x="289" y="1018"/>
                    </a:lnTo>
                    <a:lnTo>
                      <a:pt x="284" y="998"/>
                    </a:lnTo>
                    <a:lnTo>
                      <a:pt x="283" y="982"/>
                    </a:lnTo>
                    <a:lnTo>
                      <a:pt x="284" y="964"/>
                    </a:lnTo>
                    <a:lnTo>
                      <a:pt x="286" y="950"/>
                    </a:lnTo>
                    <a:lnTo>
                      <a:pt x="284" y="933"/>
                    </a:lnTo>
                    <a:lnTo>
                      <a:pt x="279" y="920"/>
                    </a:lnTo>
                    <a:lnTo>
                      <a:pt x="270" y="906"/>
                    </a:lnTo>
                    <a:lnTo>
                      <a:pt x="261" y="897"/>
                    </a:lnTo>
                    <a:lnTo>
                      <a:pt x="250" y="888"/>
                    </a:lnTo>
                    <a:lnTo>
                      <a:pt x="235" y="882"/>
                    </a:lnTo>
                    <a:lnTo>
                      <a:pt x="218" y="876"/>
                    </a:lnTo>
                    <a:lnTo>
                      <a:pt x="200" y="874"/>
                    </a:lnTo>
                    <a:lnTo>
                      <a:pt x="185" y="872"/>
                    </a:lnTo>
                    <a:lnTo>
                      <a:pt x="168" y="872"/>
                    </a:lnTo>
                    <a:lnTo>
                      <a:pt x="153" y="874"/>
                    </a:lnTo>
                    <a:lnTo>
                      <a:pt x="138" y="875"/>
                    </a:lnTo>
                    <a:lnTo>
                      <a:pt x="123" y="877"/>
                    </a:lnTo>
                    <a:lnTo>
                      <a:pt x="108" y="879"/>
                    </a:lnTo>
                    <a:lnTo>
                      <a:pt x="83" y="879"/>
                    </a:lnTo>
                    <a:lnTo>
                      <a:pt x="67" y="878"/>
                    </a:lnTo>
                    <a:lnTo>
                      <a:pt x="50" y="874"/>
                    </a:lnTo>
                    <a:lnTo>
                      <a:pt x="38" y="868"/>
                    </a:lnTo>
                    <a:lnTo>
                      <a:pt x="25" y="858"/>
                    </a:lnTo>
                    <a:lnTo>
                      <a:pt x="16" y="847"/>
                    </a:lnTo>
                    <a:lnTo>
                      <a:pt x="10" y="835"/>
                    </a:lnTo>
                    <a:lnTo>
                      <a:pt x="3" y="812"/>
                    </a:lnTo>
                    <a:lnTo>
                      <a:pt x="2" y="788"/>
                    </a:lnTo>
                    <a:lnTo>
                      <a:pt x="1" y="764"/>
                    </a:lnTo>
                    <a:lnTo>
                      <a:pt x="0" y="734"/>
                    </a:lnTo>
                    <a:lnTo>
                      <a:pt x="2" y="708"/>
                    </a:lnTo>
                    <a:lnTo>
                      <a:pt x="3" y="680"/>
                    </a:lnTo>
                    <a:lnTo>
                      <a:pt x="4" y="655"/>
                    </a:lnTo>
                    <a:lnTo>
                      <a:pt x="6" y="629"/>
                    </a:lnTo>
                    <a:lnTo>
                      <a:pt x="9" y="609"/>
                    </a:lnTo>
                    <a:lnTo>
                      <a:pt x="12" y="587"/>
                    </a:lnTo>
                    <a:lnTo>
                      <a:pt x="16" y="570"/>
                    </a:lnTo>
                    <a:lnTo>
                      <a:pt x="22" y="559"/>
                    </a:lnTo>
                    <a:lnTo>
                      <a:pt x="31" y="548"/>
                    </a:lnTo>
                    <a:lnTo>
                      <a:pt x="40" y="541"/>
                    </a:lnTo>
                    <a:lnTo>
                      <a:pt x="52" y="533"/>
                    </a:lnTo>
                    <a:lnTo>
                      <a:pt x="63" y="531"/>
                    </a:lnTo>
                    <a:lnTo>
                      <a:pt x="77" y="528"/>
                    </a:lnTo>
                    <a:lnTo>
                      <a:pt x="95" y="527"/>
                    </a:lnTo>
                    <a:lnTo>
                      <a:pt x="111" y="528"/>
                    </a:lnTo>
                    <a:lnTo>
                      <a:pt x="133" y="531"/>
                    </a:lnTo>
                    <a:lnTo>
                      <a:pt x="152" y="532"/>
                    </a:lnTo>
                    <a:lnTo>
                      <a:pt x="168" y="533"/>
                    </a:lnTo>
                    <a:lnTo>
                      <a:pt x="190" y="534"/>
                    </a:lnTo>
                    <a:lnTo>
                      <a:pt x="213" y="531"/>
                    </a:lnTo>
                    <a:lnTo>
                      <a:pt x="232" y="527"/>
                    </a:lnTo>
                    <a:lnTo>
                      <a:pt x="250" y="520"/>
                    </a:lnTo>
                    <a:lnTo>
                      <a:pt x="262" y="513"/>
                    </a:lnTo>
                    <a:lnTo>
                      <a:pt x="274" y="502"/>
                    </a:lnTo>
                    <a:lnTo>
                      <a:pt x="283" y="488"/>
                    </a:lnTo>
                    <a:lnTo>
                      <a:pt x="289" y="474"/>
                    </a:lnTo>
                    <a:lnTo>
                      <a:pt x="291" y="459"/>
                    </a:lnTo>
                    <a:lnTo>
                      <a:pt x="290" y="448"/>
                    </a:lnTo>
                    <a:lnTo>
                      <a:pt x="289" y="427"/>
                    </a:lnTo>
                    <a:lnTo>
                      <a:pt x="290" y="406"/>
                    </a:lnTo>
                    <a:lnTo>
                      <a:pt x="294" y="390"/>
                    </a:lnTo>
                    <a:lnTo>
                      <a:pt x="299" y="375"/>
                    </a:lnTo>
                    <a:lnTo>
                      <a:pt x="306" y="364"/>
                    </a:lnTo>
                    <a:lnTo>
                      <a:pt x="320" y="353"/>
                    </a:lnTo>
                    <a:lnTo>
                      <a:pt x="335" y="345"/>
                    </a:lnTo>
                    <a:lnTo>
                      <a:pt x="354" y="339"/>
                    </a:lnTo>
                    <a:lnTo>
                      <a:pt x="373" y="334"/>
                    </a:lnTo>
                    <a:lnTo>
                      <a:pt x="389" y="330"/>
                    </a:lnTo>
                    <a:lnTo>
                      <a:pt x="409" y="327"/>
                    </a:lnTo>
                    <a:lnTo>
                      <a:pt x="428" y="323"/>
                    </a:lnTo>
                    <a:lnTo>
                      <a:pt x="450" y="317"/>
                    </a:lnTo>
                    <a:lnTo>
                      <a:pt x="471" y="308"/>
                    </a:lnTo>
                    <a:lnTo>
                      <a:pt x="489" y="294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09040" y="3201480"/>
                <a:ext cx="2402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BTBold"/>
                  </a:rPr>
                  <a:t>Communication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BTBold"/>
                  </a:rPr>
                  <a:t>&amp;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BTBold"/>
                  </a:rPr>
                  <a:t>I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333600" y="1809720"/>
              <a:ext cx="4190760" cy="3809520"/>
              <a:chOff x="3333600" y="1809720"/>
              <a:chExt cx="4190760" cy="3809520"/>
            </a:xfrm>
          </p:grpSpPr>
          <p:sp>
            <p:nvSpPr>
              <p:cNvPr id="226" name=""/>
              <p:cNvSpPr/>
              <p:nvPr/>
            </p:nvSpPr>
            <p:spPr>
              <a:xfrm>
                <a:off x="3333600" y="1809720"/>
                <a:ext cx="4190760" cy="3809520"/>
              </a:xfrm>
              <a:custGeom>
                <a:avLst/>
                <a:gdLst/>
                <a:ahLst/>
                <a:rect l="l" t="t" r="r" b="b"/>
                <a:pathLst>
                  <a:path w="1284" h="1407">
                    <a:moveTo>
                      <a:pt x="489" y="294"/>
                    </a:moveTo>
                    <a:lnTo>
                      <a:pt x="502" y="278"/>
                    </a:lnTo>
                    <a:lnTo>
                      <a:pt x="511" y="263"/>
                    </a:lnTo>
                    <a:lnTo>
                      <a:pt x="516" y="246"/>
                    </a:lnTo>
                    <a:lnTo>
                      <a:pt x="516" y="224"/>
                    </a:lnTo>
                    <a:lnTo>
                      <a:pt x="510" y="199"/>
                    </a:lnTo>
                    <a:lnTo>
                      <a:pt x="505" y="178"/>
                    </a:lnTo>
                    <a:lnTo>
                      <a:pt x="498" y="152"/>
                    </a:lnTo>
                    <a:lnTo>
                      <a:pt x="495" y="124"/>
                    </a:lnTo>
                    <a:lnTo>
                      <a:pt x="498" y="107"/>
                    </a:lnTo>
                    <a:lnTo>
                      <a:pt x="503" y="86"/>
                    </a:lnTo>
                    <a:lnTo>
                      <a:pt x="513" y="64"/>
                    </a:lnTo>
                    <a:lnTo>
                      <a:pt x="527" y="43"/>
                    </a:lnTo>
                    <a:lnTo>
                      <a:pt x="545" y="26"/>
                    </a:lnTo>
                    <a:lnTo>
                      <a:pt x="561" y="13"/>
                    </a:lnTo>
                    <a:lnTo>
                      <a:pt x="583" y="5"/>
                    </a:lnTo>
                    <a:lnTo>
                      <a:pt x="609" y="1"/>
                    </a:lnTo>
                    <a:lnTo>
                      <a:pt x="637" y="0"/>
                    </a:lnTo>
                    <a:lnTo>
                      <a:pt x="675" y="0"/>
                    </a:lnTo>
                    <a:lnTo>
                      <a:pt x="705" y="3"/>
                    </a:lnTo>
                    <a:lnTo>
                      <a:pt x="722" y="9"/>
                    </a:lnTo>
                    <a:lnTo>
                      <a:pt x="735" y="17"/>
                    </a:lnTo>
                    <a:lnTo>
                      <a:pt x="749" y="26"/>
                    </a:lnTo>
                    <a:lnTo>
                      <a:pt x="763" y="40"/>
                    </a:lnTo>
                    <a:lnTo>
                      <a:pt x="776" y="58"/>
                    </a:lnTo>
                    <a:lnTo>
                      <a:pt x="786" y="74"/>
                    </a:lnTo>
                    <a:lnTo>
                      <a:pt x="791" y="88"/>
                    </a:lnTo>
                    <a:lnTo>
                      <a:pt x="795" y="112"/>
                    </a:lnTo>
                    <a:lnTo>
                      <a:pt x="795" y="133"/>
                    </a:lnTo>
                    <a:lnTo>
                      <a:pt x="792" y="154"/>
                    </a:lnTo>
                    <a:lnTo>
                      <a:pt x="788" y="170"/>
                    </a:lnTo>
                    <a:lnTo>
                      <a:pt x="783" y="196"/>
                    </a:lnTo>
                    <a:lnTo>
                      <a:pt x="776" y="223"/>
                    </a:lnTo>
                    <a:lnTo>
                      <a:pt x="773" y="240"/>
                    </a:lnTo>
                    <a:lnTo>
                      <a:pt x="778" y="257"/>
                    </a:lnTo>
                    <a:lnTo>
                      <a:pt x="784" y="269"/>
                    </a:lnTo>
                    <a:lnTo>
                      <a:pt x="795" y="285"/>
                    </a:lnTo>
                    <a:lnTo>
                      <a:pt x="811" y="298"/>
                    </a:lnTo>
                    <a:lnTo>
                      <a:pt x="826" y="309"/>
                    </a:lnTo>
                    <a:lnTo>
                      <a:pt x="848" y="318"/>
                    </a:lnTo>
                    <a:lnTo>
                      <a:pt x="870" y="324"/>
                    </a:lnTo>
                    <a:lnTo>
                      <a:pt x="891" y="329"/>
                    </a:lnTo>
                    <a:lnTo>
                      <a:pt x="913" y="332"/>
                    </a:lnTo>
                    <a:lnTo>
                      <a:pt x="936" y="338"/>
                    </a:lnTo>
                    <a:lnTo>
                      <a:pt x="954" y="344"/>
                    </a:lnTo>
                    <a:lnTo>
                      <a:pt x="968" y="351"/>
                    </a:lnTo>
                    <a:lnTo>
                      <a:pt x="979" y="359"/>
                    </a:lnTo>
                    <a:lnTo>
                      <a:pt x="987" y="368"/>
                    </a:lnTo>
                    <a:lnTo>
                      <a:pt x="993" y="379"/>
                    </a:lnTo>
                    <a:lnTo>
                      <a:pt x="998" y="392"/>
                    </a:lnTo>
                    <a:lnTo>
                      <a:pt x="1000" y="404"/>
                    </a:lnTo>
                    <a:lnTo>
                      <a:pt x="1002" y="415"/>
                    </a:lnTo>
                    <a:lnTo>
                      <a:pt x="1002" y="430"/>
                    </a:lnTo>
                    <a:lnTo>
                      <a:pt x="1000" y="447"/>
                    </a:lnTo>
                    <a:lnTo>
                      <a:pt x="1000" y="460"/>
                    </a:lnTo>
                    <a:lnTo>
                      <a:pt x="1003" y="476"/>
                    </a:lnTo>
                    <a:lnTo>
                      <a:pt x="1010" y="490"/>
                    </a:lnTo>
                    <a:lnTo>
                      <a:pt x="1018" y="502"/>
                    </a:lnTo>
                    <a:lnTo>
                      <a:pt x="1028" y="511"/>
                    </a:lnTo>
                    <a:lnTo>
                      <a:pt x="1041" y="521"/>
                    </a:lnTo>
                    <a:lnTo>
                      <a:pt x="1054" y="527"/>
                    </a:lnTo>
                    <a:lnTo>
                      <a:pt x="1074" y="531"/>
                    </a:lnTo>
                    <a:lnTo>
                      <a:pt x="1091" y="533"/>
                    </a:lnTo>
                    <a:lnTo>
                      <a:pt x="1107" y="534"/>
                    </a:lnTo>
                    <a:lnTo>
                      <a:pt x="1125" y="533"/>
                    </a:lnTo>
                    <a:lnTo>
                      <a:pt x="1147" y="531"/>
                    </a:lnTo>
                    <a:lnTo>
                      <a:pt x="1164" y="530"/>
                    </a:lnTo>
                    <a:lnTo>
                      <a:pt x="1181" y="528"/>
                    </a:lnTo>
                    <a:lnTo>
                      <a:pt x="1197" y="527"/>
                    </a:lnTo>
                    <a:lnTo>
                      <a:pt x="1216" y="528"/>
                    </a:lnTo>
                    <a:lnTo>
                      <a:pt x="1226" y="530"/>
                    </a:lnTo>
                    <a:lnTo>
                      <a:pt x="1238" y="533"/>
                    </a:lnTo>
                    <a:lnTo>
                      <a:pt x="1249" y="539"/>
                    </a:lnTo>
                    <a:lnTo>
                      <a:pt x="1261" y="548"/>
                    </a:lnTo>
                    <a:lnTo>
                      <a:pt x="1270" y="558"/>
                    </a:lnTo>
                    <a:lnTo>
                      <a:pt x="1277" y="573"/>
                    </a:lnTo>
                    <a:lnTo>
                      <a:pt x="1280" y="586"/>
                    </a:lnTo>
                    <a:lnTo>
                      <a:pt x="1282" y="602"/>
                    </a:lnTo>
                    <a:lnTo>
                      <a:pt x="1284" y="631"/>
                    </a:lnTo>
                    <a:lnTo>
                      <a:pt x="1283" y="665"/>
                    </a:lnTo>
                    <a:lnTo>
                      <a:pt x="1284" y="701"/>
                    </a:lnTo>
                    <a:lnTo>
                      <a:pt x="1281" y="743"/>
                    </a:lnTo>
                    <a:lnTo>
                      <a:pt x="1278" y="772"/>
                    </a:lnTo>
                    <a:lnTo>
                      <a:pt x="1275" y="795"/>
                    </a:lnTo>
                    <a:lnTo>
                      <a:pt x="1270" y="808"/>
                    </a:lnTo>
                    <a:lnTo>
                      <a:pt x="1262" y="820"/>
                    </a:lnTo>
                    <a:lnTo>
                      <a:pt x="1253" y="828"/>
                    </a:lnTo>
                    <a:lnTo>
                      <a:pt x="1241" y="835"/>
                    </a:lnTo>
                    <a:lnTo>
                      <a:pt x="1227" y="839"/>
                    </a:lnTo>
                    <a:lnTo>
                      <a:pt x="1215" y="842"/>
                    </a:lnTo>
                    <a:lnTo>
                      <a:pt x="1190" y="843"/>
                    </a:lnTo>
                    <a:lnTo>
                      <a:pt x="1168" y="842"/>
                    </a:lnTo>
                    <a:lnTo>
                      <a:pt x="1150" y="839"/>
                    </a:lnTo>
                    <a:lnTo>
                      <a:pt x="1134" y="838"/>
                    </a:lnTo>
                    <a:lnTo>
                      <a:pt x="1116" y="837"/>
                    </a:lnTo>
                    <a:lnTo>
                      <a:pt x="1100" y="837"/>
                    </a:lnTo>
                    <a:lnTo>
                      <a:pt x="1086" y="838"/>
                    </a:lnTo>
                    <a:lnTo>
                      <a:pt x="1071" y="839"/>
                    </a:lnTo>
                    <a:lnTo>
                      <a:pt x="1053" y="844"/>
                    </a:lnTo>
                    <a:lnTo>
                      <a:pt x="1043" y="848"/>
                    </a:lnTo>
                    <a:lnTo>
                      <a:pt x="1034" y="852"/>
                    </a:lnTo>
                    <a:lnTo>
                      <a:pt x="1022" y="860"/>
                    </a:lnTo>
                    <a:lnTo>
                      <a:pt x="1014" y="870"/>
                    </a:lnTo>
                    <a:lnTo>
                      <a:pt x="1008" y="879"/>
                    </a:lnTo>
                    <a:lnTo>
                      <a:pt x="1002" y="890"/>
                    </a:lnTo>
                    <a:lnTo>
                      <a:pt x="999" y="901"/>
                    </a:lnTo>
                    <a:lnTo>
                      <a:pt x="998" y="913"/>
                    </a:lnTo>
                    <a:lnTo>
                      <a:pt x="999" y="926"/>
                    </a:lnTo>
                    <a:lnTo>
                      <a:pt x="999" y="948"/>
                    </a:lnTo>
                    <a:lnTo>
                      <a:pt x="998" y="971"/>
                    </a:lnTo>
                    <a:lnTo>
                      <a:pt x="992" y="988"/>
                    </a:lnTo>
                    <a:lnTo>
                      <a:pt x="986" y="1002"/>
                    </a:lnTo>
                    <a:lnTo>
                      <a:pt x="977" y="1012"/>
                    </a:lnTo>
                    <a:lnTo>
                      <a:pt x="964" y="1020"/>
                    </a:lnTo>
                    <a:lnTo>
                      <a:pt x="951" y="1027"/>
                    </a:lnTo>
                    <a:lnTo>
                      <a:pt x="936" y="1031"/>
                    </a:lnTo>
                    <a:lnTo>
                      <a:pt x="917" y="1035"/>
                    </a:lnTo>
                    <a:lnTo>
                      <a:pt x="901" y="1040"/>
                    </a:lnTo>
                    <a:lnTo>
                      <a:pt x="882" y="1043"/>
                    </a:lnTo>
                    <a:lnTo>
                      <a:pt x="866" y="1046"/>
                    </a:lnTo>
                    <a:lnTo>
                      <a:pt x="848" y="1050"/>
                    </a:lnTo>
                    <a:lnTo>
                      <a:pt x="834" y="1057"/>
                    </a:lnTo>
                    <a:lnTo>
                      <a:pt x="818" y="1064"/>
                    </a:lnTo>
                    <a:lnTo>
                      <a:pt x="803" y="1073"/>
                    </a:lnTo>
                    <a:lnTo>
                      <a:pt x="792" y="1085"/>
                    </a:lnTo>
                    <a:lnTo>
                      <a:pt x="782" y="1099"/>
                    </a:lnTo>
                    <a:lnTo>
                      <a:pt x="774" y="1116"/>
                    </a:lnTo>
                    <a:lnTo>
                      <a:pt x="772" y="1131"/>
                    </a:lnTo>
                    <a:lnTo>
                      <a:pt x="773" y="1148"/>
                    </a:lnTo>
                    <a:lnTo>
                      <a:pt x="776" y="1164"/>
                    </a:lnTo>
                    <a:lnTo>
                      <a:pt x="781" y="1181"/>
                    </a:lnTo>
                    <a:lnTo>
                      <a:pt x="785" y="1200"/>
                    </a:lnTo>
                    <a:lnTo>
                      <a:pt x="788" y="1217"/>
                    </a:lnTo>
                    <a:lnTo>
                      <a:pt x="792" y="1239"/>
                    </a:lnTo>
                    <a:lnTo>
                      <a:pt x="792" y="1261"/>
                    </a:lnTo>
                    <a:lnTo>
                      <a:pt x="787" y="1283"/>
                    </a:lnTo>
                    <a:lnTo>
                      <a:pt x="782" y="1300"/>
                    </a:lnTo>
                    <a:lnTo>
                      <a:pt x="776" y="1317"/>
                    </a:lnTo>
                    <a:lnTo>
                      <a:pt x="768" y="1333"/>
                    </a:lnTo>
                    <a:lnTo>
                      <a:pt x="757" y="1353"/>
                    </a:lnTo>
                    <a:lnTo>
                      <a:pt x="745" y="1366"/>
                    </a:lnTo>
                    <a:lnTo>
                      <a:pt x="735" y="1375"/>
                    </a:lnTo>
                    <a:lnTo>
                      <a:pt x="722" y="1386"/>
                    </a:lnTo>
                    <a:lnTo>
                      <a:pt x="708" y="1396"/>
                    </a:lnTo>
                    <a:lnTo>
                      <a:pt x="695" y="1401"/>
                    </a:lnTo>
                    <a:lnTo>
                      <a:pt x="683" y="1404"/>
                    </a:lnTo>
                    <a:lnTo>
                      <a:pt x="663" y="1406"/>
                    </a:lnTo>
                    <a:lnTo>
                      <a:pt x="640" y="1407"/>
                    </a:lnTo>
                    <a:lnTo>
                      <a:pt x="612" y="1406"/>
                    </a:lnTo>
                    <a:lnTo>
                      <a:pt x="599" y="1406"/>
                    </a:lnTo>
                    <a:lnTo>
                      <a:pt x="582" y="1403"/>
                    </a:lnTo>
                    <a:lnTo>
                      <a:pt x="564" y="1398"/>
                    </a:lnTo>
                    <a:lnTo>
                      <a:pt x="548" y="1389"/>
                    </a:lnTo>
                    <a:lnTo>
                      <a:pt x="538" y="1381"/>
                    </a:lnTo>
                    <a:lnTo>
                      <a:pt x="527" y="1370"/>
                    </a:lnTo>
                    <a:lnTo>
                      <a:pt x="518" y="1360"/>
                    </a:lnTo>
                    <a:lnTo>
                      <a:pt x="509" y="1347"/>
                    </a:lnTo>
                    <a:lnTo>
                      <a:pt x="502" y="1334"/>
                    </a:lnTo>
                    <a:lnTo>
                      <a:pt x="496" y="1318"/>
                    </a:lnTo>
                    <a:lnTo>
                      <a:pt x="493" y="1301"/>
                    </a:lnTo>
                    <a:lnTo>
                      <a:pt x="492" y="1288"/>
                    </a:lnTo>
                    <a:lnTo>
                      <a:pt x="492" y="1270"/>
                    </a:lnTo>
                    <a:lnTo>
                      <a:pt x="493" y="1255"/>
                    </a:lnTo>
                    <a:lnTo>
                      <a:pt x="498" y="1239"/>
                    </a:lnTo>
                    <a:lnTo>
                      <a:pt x="502" y="1220"/>
                    </a:lnTo>
                    <a:lnTo>
                      <a:pt x="507" y="1202"/>
                    </a:lnTo>
                    <a:lnTo>
                      <a:pt x="510" y="1186"/>
                    </a:lnTo>
                    <a:lnTo>
                      <a:pt x="511" y="1171"/>
                    </a:lnTo>
                    <a:lnTo>
                      <a:pt x="510" y="1159"/>
                    </a:lnTo>
                    <a:lnTo>
                      <a:pt x="507" y="1147"/>
                    </a:lnTo>
                    <a:lnTo>
                      <a:pt x="499" y="1132"/>
                    </a:lnTo>
                    <a:lnTo>
                      <a:pt x="491" y="1122"/>
                    </a:lnTo>
                    <a:lnTo>
                      <a:pt x="481" y="1111"/>
                    </a:lnTo>
                    <a:lnTo>
                      <a:pt x="470" y="1103"/>
                    </a:lnTo>
                    <a:lnTo>
                      <a:pt x="459" y="1095"/>
                    </a:lnTo>
                    <a:lnTo>
                      <a:pt x="443" y="1089"/>
                    </a:lnTo>
                    <a:lnTo>
                      <a:pt x="429" y="1085"/>
                    </a:lnTo>
                    <a:lnTo>
                      <a:pt x="411" y="1081"/>
                    </a:lnTo>
                    <a:lnTo>
                      <a:pt x="395" y="1079"/>
                    </a:lnTo>
                    <a:lnTo>
                      <a:pt x="380" y="1075"/>
                    </a:lnTo>
                    <a:lnTo>
                      <a:pt x="362" y="1071"/>
                    </a:lnTo>
                    <a:lnTo>
                      <a:pt x="347" y="1065"/>
                    </a:lnTo>
                    <a:lnTo>
                      <a:pt x="329" y="1060"/>
                    </a:lnTo>
                    <a:lnTo>
                      <a:pt x="315" y="1054"/>
                    </a:lnTo>
                    <a:lnTo>
                      <a:pt x="304" y="1045"/>
                    </a:lnTo>
                    <a:lnTo>
                      <a:pt x="295" y="1033"/>
                    </a:lnTo>
                    <a:lnTo>
                      <a:pt x="289" y="1018"/>
                    </a:lnTo>
                    <a:lnTo>
                      <a:pt x="284" y="998"/>
                    </a:lnTo>
                    <a:lnTo>
                      <a:pt x="283" y="982"/>
                    </a:lnTo>
                    <a:lnTo>
                      <a:pt x="284" y="964"/>
                    </a:lnTo>
                    <a:lnTo>
                      <a:pt x="286" y="950"/>
                    </a:lnTo>
                    <a:lnTo>
                      <a:pt x="284" y="933"/>
                    </a:lnTo>
                    <a:lnTo>
                      <a:pt x="279" y="920"/>
                    </a:lnTo>
                    <a:lnTo>
                      <a:pt x="270" y="906"/>
                    </a:lnTo>
                    <a:lnTo>
                      <a:pt x="261" y="897"/>
                    </a:lnTo>
                    <a:lnTo>
                      <a:pt x="250" y="888"/>
                    </a:lnTo>
                    <a:lnTo>
                      <a:pt x="235" y="882"/>
                    </a:lnTo>
                    <a:lnTo>
                      <a:pt x="218" y="876"/>
                    </a:lnTo>
                    <a:lnTo>
                      <a:pt x="200" y="874"/>
                    </a:lnTo>
                    <a:lnTo>
                      <a:pt x="185" y="872"/>
                    </a:lnTo>
                    <a:lnTo>
                      <a:pt x="168" y="872"/>
                    </a:lnTo>
                    <a:lnTo>
                      <a:pt x="153" y="874"/>
                    </a:lnTo>
                    <a:lnTo>
                      <a:pt x="138" y="875"/>
                    </a:lnTo>
                    <a:lnTo>
                      <a:pt x="123" y="877"/>
                    </a:lnTo>
                    <a:lnTo>
                      <a:pt x="108" y="879"/>
                    </a:lnTo>
                    <a:lnTo>
                      <a:pt x="83" y="879"/>
                    </a:lnTo>
                    <a:lnTo>
                      <a:pt x="67" y="878"/>
                    </a:lnTo>
                    <a:lnTo>
                      <a:pt x="50" y="874"/>
                    </a:lnTo>
                    <a:lnTo>
                      <a:pt x="38" y="868"/>
                    </a:lnTo>
                    <a:lnTo>
                      <a:pt x="25" y="858"/>
                    </a:lnTo>
                    <a:lnTo>
                      <a:pt x="16" y="847"/>
                    </a:lnTo>
                    <a:lnTo>
                      <a:pt x="10" y="835"/>
                    </a:lnTo>
                    <a:lnTo>
                      <a:pt x="3" y="812"/>
                    </a:lnTo>
                    <a:lnTo>
                      <a:pt x="2" y="788"/>
                    </a:lnTo>
                    <a:lnTo>
                      <a:pt x="1" y="764"/>
                    </a:lnTo>
                    <a:lnTo>
                      <a:pt x="0" y="734"/>
                    </a:lnTo>
                    <a:lnTo>
                      <a:pt x="2" y="708"/>
                    </a:lnTo>
                    <a:lnTo>
                      <a:pt x="3" y="680"/>
                    </a:lnTo>
                    <a:lnTo>
                      <a:pt x="4" y="655"/>
                    </a:lnTo>
                    <a:lnTo>
                      <a:pt x="6" y="629"/>
                    </a:lnTo>
                    <a:lnTo>
                      <a:pt x="9" y="609"/>
                    </a:lnTo>
                    <a:lnTo>
                      <a:pt x="12" y="587"/>
                    </a:lnTo>
                    <a:lnTo>
                      <a:pt x="16" y="570"/>
                    </a:lnTo>
                    <a:lnTo>
                      <a:pt x="22" y="559"/>
                    </a:lnTo>
                    <a:lnTo>
                      <a:pt x="31" y="548"/>
                    </a:lnTo>
                    <a:lnTo>
                      <a:pt x="40" y="541"/>
                    </a:lnTo>
                    <a:lnTo>
                      <a:pt x="52" y="533"/>
                    </a:lnTo>
                    <a:lnTo>
                      <a:pt x="63" y="531"/>
                    </a:lnTo>
                    <a:lnTo>
                      <a:pt x="77" y="528"/>
                    </a:lnTo>
                    <a:lnTo>
                      <a:pt x="95" y="527"/>
                    </a:lnTo>
                    <a:lnTo>
                      <a:pt x="111" y="528"/>
                    </a:lnTo>
                    <a:lnTo>
                      <a:pt x="133" y="531"/>
                    </a:lnTo>
                    <a:lnTo>
                      <a:pt x="152" y="532"/>
                    </a:lnTo>
                    <a:lnTo>
                      <a:pt x="168" y="533"/>
                    </a:lnTo>
                    <a:lnTo>
                      <a:pt x="190" y="534"/>
                    </a:lnTo>
                    <a:lnTo>
                      <a:pt x="213" y="531"/>
                    </a:lnTo>
                    <a:lnTo>
                      <a:pt x="232" y="527"/>
                    </a:lnTo>
                    <a:lnTo>
                      <a:pt x="250" y="520"/>
                    </a:lnTo>
                    <a:lnTo>
                      <a:pt x="262" y="513"/>
                    </a:lnTo>
                    <a:lnTo>
                      <a:pt x="274" y="502"/>
                    </a:lnTo>
                    <a:lnTo>
                      <a:pt x="283" y="488"/>
                    </a:lnTo>
                    <a:lnTo>
                      <a:pt x="289" y="474"/>
                    </a:lnTo>
                    <a:lnTo>
                      <a:pt x="291" y="459"/>
                    </a:lnTo>
                    <a:lnTo>
                      <a:pt x="290" y="448"/>
                    </a:lnTo>
                    <a:lnTo>
                      <a:pt x="289" y="427"/>
                    </a:lnTo>
                    <a:lnTo>
                      <a:pt x="290" y="406"/>
                    </a:lnTo>
                    <a:lnTo>
                      <a:pt x="294" y="390"/>
                    </a:lnTo>
                    <a:lnTo>
                      <a:pt x="299" y="375"/>
                    </a:lnTo>
                    <a:lnTo>
                      <a:pt x="306" y="364"/>
                    </a:lnTo>
                    <a:lnTo>
                      <a:pt x="320" y="353"/>
                    </a:lnTo>
                    <a:lnTo>
                      <a:pt x="335" y="345"/>
                    </a:lnTo>
                    <a:lnTo>
                      <a:pt x="354" y="339"/>
                    </a:lnTo>
                    <a:lnTo>
                      <a:pt x="373" y="334"/>
                    </a:lnTo>
                    <a:lnTo>
                      <a:pt x="389" y="330"/>
                    </a:lnTo>
                    <a:lnTo>
                      <a:pt x="409" y="327"/>
                    </a:lnTo>
                    <a:lnTo>
                      <a:pt x="428" y="323"/>
                    </a:lnTo>
                    <a:lnTo>
                      <a:pt x="450" y="317"/>
                    </a:lnTo>
                    <a:lnTo>
                      <a:pt x="471" y="308"/>
                    </a:lnTo>
                    <a:lnTo>
                      <a:pt x="489" y="294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262120" y="3121560"/>
                <a:ext cx="183960" cy="39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911760" y="3409560"/>
              <a:ext cx="31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BTBold"/>
                </a:rPr>
                <a:t>NON</a:t>
              </a:r>
              <a:r>
                <a:rPr b="1" lang="en-GB" sz="2400" spc="-1" strike="noStrike">
                  <a:solidFill>
                    <a:srgbClr val="000000"/>
                  </a:solidFill>
                  <a:latin typeface="BTBold"/>
                </a:rPr>
                <a:t>-</a:t>
              </a:r>
              <a:r>
                <a:rPr b="1" lang="en-GB" sz="2400" spc="-1" strike="noStrike">
                  <a:solidFill>
                    <a:srgbClr val="ff0000"/>
                  </a:solidFill>
                  <a:latin typeface="BTBold"/>
                </a:rPr>
                <a:t>REPUD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4517-82A4-4D51-84AB-358F5F5E953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FD920BE-E0CE-44B4-9FAA-8C96AE3765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79960" y="47628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ECURIT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92840" y="1027800"/>
            <a:ext cx="203076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02200" y="13762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ion of transmit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74840" y="1940400"/>
            <a:ext cx="199584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61160" y="2289240"/>
            <a:ext cx="52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ring that communication is 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77360" y="2815200"/>
            <a:ext cx="199584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ity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19040" y="3162240"/>
            <a:ext cx="47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ring that message has origi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78800" y="3717000"/>
            <a:ext cx="219852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57920" y="40640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denying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97160" y="4601160"/>
            <a:ext cx="205380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9400" y="49626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 &amp; control th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93560" y="5494680"/>
            <a:ext cx="164088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64760" y="585792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or physical counter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0426-BDA7-4404-8A50-BABF1EFF3FA0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4BB7AF2-1BA2-4078-9AD5-AC9AF8904F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774800" y="1244520"/>
            <a:ext cx="6954840" cy="4353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221920" y="561960"/>
            <a:ext cx="62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ODEL FOR NETWORK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35160" y="3679920"/>
            <a:ext cx="6408720" cy="490320"/>
            <a:chOff x="2135160" y="3679920"/>
            <a:chExt cx="6408720" cy="490320"/>
          </a:xfrm>
        </p:grpSpPr>
        <p:sp>
          <p:nvSpPr>
            <p:cNvPr id="245" name=""/>
            <p:cNvSpPr/>
            <p:nvPr/>
          </p:nvSpPr>
          <p:spPr>
            <a:xfrm>
              <a:off x="2135160" y="3679920"/>
              <a:ext cx="1689120" cy="461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54760" y="3708360"/>
              <a:ext cx="1689120" cy="461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622680" y="4054320"/>
            <a:ext cx="3449520" cy="462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29080" y="5122800"/>
            <a:ext cx="1835280" cy="620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955E-5A73-4B7A-BC3C-F4B4A0D96B1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8A63768-807E-4A57-8ED1-7903022EEF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18920" y="285480"/>
            <a:ext cx="321948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Verdana"/>
              </a:rPr>
              <a:t>SIX LAYERS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Verdana"/>
              </a:rPr>
              <a:t>OF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Verdana"/>
              </a:rPr>
              <a:t> NETWORK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Verdana"/>
              </a:rPr>
              <a:t>SECURIT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876920" y="704880"/>
            <a:ext cx="3581280" cy="1114560"/>
            <a:chOff x="4876920" y="704880"/>
            <a:chExt cx="3581280" cy="1114560"/>
          </a:xfrm>
        </p:grpSpPr>
        <p:sp>
          <p:nvSpPr>
            <p:cNvPr id="251" name=""/>
            <p:cNvSpPr/>
            <p:nvPr/>
          </p:nvSpPr>
          <p:spPr>
            <a:xfrm>
              <a:off x="4876920" y="933480"/>
              <a:ext cx="3581280" cy="885960"/>
            </a:xfrm>
            <a:prstGeom prst="rect">
              <a:avLst/>
            </a:prstGeom>
            <a:solidFill>
              <a:srgbClr val="ff505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17320" y="704880"/>
              <a:ext cx="338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ECURITY AUDI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876920" y="1676520"/>
            <a:ext cx="3581280" cy="1028520"/>
            <a:chOff x="4876920" y="1676520"/>
            <a:chExt cx="3581280" cy="1028520"/>
          </a:xfrm>
        </p:grpSpPr>
        <p:sp>
          <p:nvSpPr>
            <p:cNvPr id="254" name=""/>
            <p:cNvSpPr/>
            <p:nvPr/>
          </p:nvSpPr>
          <p:spPr>
            <a:xfrm>
              <a:off x="4876920" y="1819440"/>
              <a:ext cx="3581280" cy="885600"/>
            </a:xfrm>
            <a:prstGeom prst="rect">
              <a:avLst/>
            </a:prstGeom>
            <a:solidFill>
              <a:srgbClr val="cccc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48360" y="1676520"/>
              <a:ext cx="287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ECURITY 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876920" y="2705040"/>
            <a:ext cx="3581280" cy="885960"/>
            <a:chOff x="4876920" y="2705040"/>
            <a:chExt cx="3581280" cy="885960"/>
          </a:xfrm>
        </p:grpSpPr>
        <p:sp>
          <p:nvSpPr>
            <p:cNvPr id="257" name=""/>
            <p:cNvSpPr/>
            <p:nvPr/>
          </p:nvSpPr>
          <p:spPr>
            <a:xfrm>
              <a:off x="4876920" y="2705040"/>
              <a:ext cx="3581280" cy="885960"/>
            </a:xfrm>
            <a:prstGeom prst="rect">
              <a:avLst/>
            </a:prstGeom>
            <a:solidFill>
              <a:srgbClr val="ffcc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51120" y="2914560"/>
              <a:ext cx="192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876920" y="3591000"/>
            <a:ext cx="3581280" cy="885600"/>
            <a:chOff x="4876920" y="3591000"/>
            <a:chExt cx="3581280" cy="885600"/>
          </a:xfrm>
        </p:grpSpPr>
        <p:sp>
          <p:nvSpPr>
            <p:cNvPr id="260" name=""/>
            <p:cNvSpPr/>
            <p:nvPr/>
          </p:nvSpPr>
          <p:spPr>
            <a:xfrm>
              <a:off x="4876920" y="3591000"/>
              <a:ext cx="3581280" cy="885600"/>
            </a:xfrm>
            <a:prstGeom prst="rect">
              <a:avLst/>
            </a:prstGeom>
            <a:solidFill>
              <a:srgbClr val="99ff3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560" y="373392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ONITO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876920" y="4476600"/>
            <a:ext cx="3581280" cy="885960"/>
            <a:chOff x="4876920" y="4476600"/>
            <a:chExt cx="3581280" cy="885960"/>
          </a:xfrm>
        </p:grpSpPr>
        <p:sp>
          <p:nvSpPr>
            <p:cNvPr id="263" name=""/>
            <p:cNvSpPr/>
            <p:nvPr/>
          </p:nvSpPr>
          <p:spPr>
            <a:xfrm>
              <a:off x="4876920" y="4476600"/>
              <a:ext cx="3581280" cy="885960"/>
            </a:xfrm>
            <a:prstGeom prst="rect">
              <a:avLst/>
            </a:prstGeom>
            <a:solidFill>
              <a:srgbClr val="ffff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02840" y="4686480"/>
              <a:ext cx="34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HYSICAL 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876920" y="5362560"/>
            <a:ext cx="3581280" cy="885960"/>
            <a:chOff x="4876920" y="5362560"/>
            <a:chExt cx="3581280" cy="885960"/>
          </a:xfrm>
        </p:grpSpPr>
        <p:sp>
          <p:nvSpPr>
            <p:cNvPr id="266" name=""/>
            <p:cNvSpPr/>
            <p:nvPr/>
          </p:nvSpPr>
          <p:spPr>
            <a:xfrm>
              <a:off x="4876920" y="5362560"/>
              <a:ext cx="3581280" cy="885960"/>
            </a:xfrm>
            <a:prstGeom prst="rect">
              <a:avLst/>
            </a:prstGeom>
            <a:solidFill>
              <a:srgbClr val="66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34600" y="5410080"/>
              <a:ext cx="283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NETWOR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DMINIST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3F0D-0F73-4900-8882-1EBC74F40C8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0E05014-DBAD-425E-B960-38E16611B3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Francine Lambert</dc:creator>
  <dc:description/>
  <dc:language>en-US</dc:language>
  <cp:lastModifiedBy>진병문</cp:lastModifiedBy>
  <cp:lastPrinted>2002-05-10T02:10:50Z</cp:lastPrinted>
  <dcterms:modified xsi:type="dcterms:W3CDTF">2002-05-12T08:28:03Z</dcterms:modified>
  <cp:revision>313</cp:revision>
  <dc:subject/>
  <dc:title>afaefafe</dc:title>
</cp:coreProperties>
</file>