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AF7975-CD87-4BA8-A554-6A0AF5BF6AF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76212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12F74F-635A-4EDA-84EC-63EF899F7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744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76212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744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37D03-733A-40F3-944B-69E25C87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9012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17760" y="137160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76212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9012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17760" y="3480840"/>
            <a:ext cx="250236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D6C411-4C51-4FF9-B0AA-138BE507E16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76212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957F2-0A83-4CC0-A6DC-780E2A99E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9198F-B563-4439-A22D-6D2894779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44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CBB259-288D-4D09-B3D1-97489A1C5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B99B7-CCD2-414D-8753-B6928BC5E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D15C5-3BEE-435A-8AB3-A5677A989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6D18E1-C7D4-41B9-8B61-A89EA37AE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92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44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744800" y="348084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5A95-F5D1-4F9C-AE4E-1BAD019D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44800" y="1371600"/>
            <a:ext cx="37926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2120" y="3480840"/>
            <a:ext cx="7772400" cy="192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276E1-3927-4A92-82E3-433B4BA40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cc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33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095880"/>
            <a:ext cx="6781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609480" y="5562720"/>
            <a:ext cx="6951960" cy="8395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2270160" y="5451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 txBox="1"/>
          <p:nvPr/>
        </p:nvSpPr>
        <p:spPr>
          <a:xfrm>
            <a:off x="1676520" y="5715000"/>
            <a:ext cx="510516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50000">
                      <a:srgbClr val="33cccc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atellites in IP and Multimedia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50000">
                    <a:srgbClr val="33cccc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0" name="" descr=""/>
          <p:cNvPicPr/>
          <p:nvPr/>
        </p:nvPicPr>
        <p:blipFill>
          <a:blip r:embed="rId3"/>
          <a:stretch/>
        </p:blipFill>
        <p:spPr>
          <a:xfrm>
            <a:off x="7696080" y="5562720"/>
            <a:ext cx="801720" cy="879480"/>
          </a:xfrm>
          <a:prstGeom prst="rect">
            <a:avLst/>
          </a:prstGeom>
          <a:ln w="0">
            <a:noFill/>
          </a:ln>
        </p:spPr>
      </p:pic>
      <p:sp>
        <p:nvSpPr>
          <p:cNvPr id="11" name=""/>
          <p:cNvSpPr/>
          <p:nvPr/>
        </p:nvSpPr>
        <p:spPr>
          <a:xfrm>
            <a:off x="609480" y="609480"/>
            <a:ext cx="7925040" cy="4800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2209680" y="6477120"/>
            <a:ext cx="4191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Workshop on Satellites in IP and Multimedia, Geneva, 9-11 December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3808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601D2-76AC-4FD7-954C-BF879D94D02C}" type="datetime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2"/>
          </p:nvPr>
        </p:nvSpPr>
        <p:spPr>
          <a:xfrm>
            <a:off x="69339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Times New Roman"/>
              </a:rPr>
              <a:t>SESSION 5 – New Generation Network Satellite Services</a:t>
            </a:r>
            <a:endParaRPr b="1" lang="en-US" sz="28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0033"/>
                </a:solidFill>
                <a:uFillTx/>
                <a:latin typeface="Times New Roman"/>
              </a:rPr>
              <a:t>Issues for Further Study</a:t>
            </a:r>
            <a:endParaRPr b="0" lang="en-US" sz="24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Can IP Sec be adapted to IP over Satellite? If so, how can this adaptation be done?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What are the parameters and their respective values for QoS for Multicast?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Are there specific issues for IPv^6 for Satellite usage?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Can “tuning” of protocols be standardized for IP over Satellite?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What are the characteristics of frequency bands that are suitable for ubiquitous terminals for IP over Satellite?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buClr>
                <a:srgbClr val="00ff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33"/>
                </a:solidFill>
                <a:latin typeface="Times New Roman"/>
              </a:rPr>
              <a:t>What aspects of terminals for IP over Satellite can/should be standardized?</a:t>
            </a: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900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2645E0-F1F1-4562-AB07-09937E290A28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A7B4C-D0F1-4437-993A-3AC63F7A1B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7T17:05:20Z</dcterms:created>
  <dc:creator>WERY</dc:creator>
  <dc:description/>
  <dc:language>en-US</dc:language>
  <cp:lastModifiedBy>UGALE, Arvin Carlos D.</cp:lastModifiedBy>
  <dcterms:modified xsi:type="dcterms:W3CDTF">2002-12-11T17:02:50Z</dcterms:modified>
  <cp:revision>49</cp:revision>
  <dc:subject/>
  <dc:title>PowerPoint Presentation</dc:title>
</cp:coreProperties>
</file>