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14880"/>
            <a:ext cx="794232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270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1488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27000" y="421488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2440" y="160020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7680" y="160020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1488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2440" y="421488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7680" y="4214880"/>
            <a:ext cx="255708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576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27000" y="1600200"/>
            <a:ext cx="387576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4320" y="228600"/>
            <a:ext cx="7761240" cy="29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27000" y="1600200"/>
            <a:ext cx="387576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1488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576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270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27000" y="421488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7000" y="1600200"/>
            <a:ext cx="387576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14880"/>
            <a:ext cx="794232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669960" indent="-257040">
              <a:spcBef>
                <a:spcPts val="2999"/>
              </a:spcBef>
              <a:buClr>
                <a:srgbClr val="cc0000"/>
              </a:buClr>
              <a:buSzPct val="103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2999"/>
              </a:spcBef>
              <a:buClr>
                <a:srgbClr val="cc0000"/>
              </a:buClr>
              <a:buSzPct val="93000"/>
              <a:buFont typeface="Arial"/>
              <a:buChar char="–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441440" indent="-204840">
              <a:spcBef>
                <a:spcPts val="2999"/>
              </a:spcBef>
              <a:buClr>
                <a:srgbClr val="cc0000"/>
              </a:buClr>
              <a:buSzPct val="103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1854360" indent="-206640">
              <a:spcBef>
                <a:spcPts val="2999"/>
              </a:spcBef>
              <a:buClr>
                <a:srgbClr val="cc0000"/>
              </a:buClr>
              <a:buSzPct val="103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1854360" indent="-206640">
              <a:spcBef>
                <a:spcPts val="2999"/>
              </a:spcBef>
              <a:buClr>
                <a:srgbClr val="000000"/>
              </a:buClr>
              <a:buSzPct val="103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1854360" indent="-206640">
              <a:spcBef>
                <a:spcPts val="2999"/>
              </a:spcBef>
              <a:buClr>
                <a:srgbClr val="000000"/>
              </a:buClr>
              <a:buSzPct val="103000"/>
              <a:buFont typeface="Arial"/>
              <a:buChar char="•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71360"/>
          </a:xfrm>
          <a:prstGeom prst="rect">
            <a:avLst/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4160" y="6629400"/>
            <a:ext cx="2469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0000"/>
              <a:buFont typeface="Symbol" charset="2"/>
              <a:buChar char="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Schoolbook"/>
              </a:rPr>
              <a:t>2000 SASKEN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" descr=""/>
          <p:cNvPicPr/>
          <p:nvPr/>
        </p:nvPicPr>
        <p:blipFill>
          <a:blip r:embed="rId2"/>
          <a:stretch/>
        </p:blipFill>
        <p:spPr>
          <a:xfrm>
            <a:off x="7010280" y="5562720"/>
            <a:ext cx="190512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862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Mathematical Strategies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P.S.Subramania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CSRD group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21 Jan 2001, IIT/ Mumbai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epwise Refin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 particular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3501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f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the tail of the sequence has problems only from the set P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then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we can solve Q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epwise Refin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aussian Eliminatio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- What is P and Q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alois Theor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- What is P and Q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t P be a set of Software specifications for which we have already written progra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d Q is new specification for which we want to develop a program.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epwise Refin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omponent based Software (and Hardware)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gineer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 an important and evolving area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ample reference-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e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http://www.kestrel.edu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701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o-ordinatisation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0">
              <a:spcBef>
                <a:spcPts val="4501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artesia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ositiona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ixed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artesia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ynthetic Projective Geomet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derlying `Mathematics’  i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edderburn’s Representation Theorem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of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mi-simple rings in terms of Matrix rings over division algebra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artesia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idea of coordinatising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pace of Function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nables us to transpor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y ideas from the usual coordinate geomet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o these space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ositiona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Decimal Number System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avele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derlying Mathematics is that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reath Produc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Krasner-Kaloujnine Theorem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of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mbedding a group in the wreath product of the factors of it’s composition serie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xed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Krohn- Rhodes Theorem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in Automata The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d it’s generalisa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nderlying Mathematics is the theory of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emigroup Decomposition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us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we have already solved a problem in som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omain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if can establish a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uitable conn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tween domain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the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we can `reuse’ the solutions of problems of th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mer domain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us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historically accurate!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alois Theory (again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riginal Domain - Groups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blem- Stepwise Refin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w Domain - Field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uitable Connection -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alois Conne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athematical Strategies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trategy vs Tactics - in Ches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actics i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situation specifi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concret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trategy i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generic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abstrac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ros and Cons of Strategy and Tactics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4000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us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pecwar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software from the Kestrel Institut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vides mechanisms for reuse of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as in the domain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Algorithm Desig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ut, contrary to Galois theory which is fully automatic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ne has to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rovide the connection manually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inearis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ewton-Raphs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emporarily pretend that the situation is linear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Generalisation -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Kantorovich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to Fn Spac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tructural Linearisatio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- Algebraic Topolog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inea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Mod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Abelia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ategori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thematical Strategi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ocalisatio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 Sheaf The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resentation Theorem of Ring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nkowski-Hasse on Quadratic Form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ny Computer Science uses of Sheaf The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thematical Strategi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rowdin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- Contraction Maps, Ramsey The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ixed point Theorems and their use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Dualit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- Fourier Transforms, Spectral Methods, Chu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paces, Ramsey = Discontinuous Duality,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thematical Strategi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4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One gets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more insight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o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 Mathematics and it’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pplications by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eflecting on the strategies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ome Mathematical Topics relevant to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aske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eparating the strand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in Signal Processing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eneralising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Shannon’s  Information Theor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ew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ding Technique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thematics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Image process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thematical aspects of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omponentis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thematical Strategies -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Why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study the Strategies of Mathematics?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elps us to `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see the forest for the trees’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kes the learning of `</a:t>
            </a: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new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’ topics easier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3501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kes the study of `History of Mathematics’ more meaningful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ome Common Strategi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capsulatio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for representation independenc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tep-wise refinement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oordinatisation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Cartesian, Positional and Mixed)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Reus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inearis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Localis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rowd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030320" indent="-206280">
              <a:spcBef>
                <a:spcPts val="601"/>
              </a:spcBef>
              <a:buClr>
                <a:srgbClr val="a2c1fe"/>
              </a:buClr>
              <a:buSzPct val="93000"/>
              <a:buFont typeface="Wingdings" charset="2"/>
              <a:buChar char=""/>
              <a:tabLst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Dualisa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eed to study propertie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independent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of the `representation’.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4000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 Computer Science th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essence of OOP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4000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Representation = Implementation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ncapsulation - Examp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ivit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of func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: A —› B, where A, B are Se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-encapsulated  definition i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,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, f(a) = f(b) =&gt; a = b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we give a definition without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ncapsulation - examp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capsulated Definition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another set and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 , h : C —›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 two map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ff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° g= f ° h =&gt; g=h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 algn="ctr">
              <a:lnSpc>
                <a:spcPct val="100000"/>
              </a:lnSpc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lements have vanish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s line of thinking leads to `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ategory Theory’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or a gentle introduction see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`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onceptual Mathematics’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by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0">
              <a:spcBef>
                <a:spcPts val="2999"/>
              </a:spcBef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lliam Lawvere - Prentice Hall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trongly Recommended for CS Students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4320" y="228600"/>
            <a:ext cx="776124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349"/>
              </a:spcAft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ep-wise Refin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423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iven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a collection of problems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 which we know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how to solv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, and a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new problem Q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a sequence of subproblems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ith th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that we have a method of transforming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 solution of problems occurring later in the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09600" indent="-309600">
              <a:spcBef>
                <a:spcPts val="2999"/>
              </a:spcBef>
              <a:buClr>
                <a:srgbClr val="a2c1fe"/>
              </a:buClr>
              <a:buSzPct val="110000"/>
              <a:buFont typeface="Wingdings" charset="2"/>
              <a:buChar char=""/>
              <a:tabLst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equence to those of the earlier. 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01:01:19Z</dcterms:created>
  <dc:creator>ANTU VARGHESE</dc:creator>
  <dc:description/>
  <dc:language>en-US</dc:language>
  <cp:lastModifiedBy>bercher</cp:lastModifiedBy>
  <dcterms:modified xsi:type="dcterms:W3CDTF">2001-09-19T09:07:47Z</dcterms:modified>
  <cp:revision>14</cp:revision>
  <dc:subject/>
  <dc:title>Mathematical Strategies</dc:title>
</cp:coreProperties>
</file>