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19320"/>
            <a:ext cx="264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932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9320"/>
            <a:ext cx="8229600" cy="26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90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6629400"/>
            <a:ext cx="419112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308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Verdana"/>
              </a:rPr>
              <a:t>September 2001</a:t>
            </a:r>
            <a:r>
              <a:rPr b="1" lang="en-US" sz="1200" spc="-1" strike="noStrike">
                <a:solidFill>
                  <a:srgbClr val="0099cc"/>
                </a:solidFill>
                <a:latin typeface="Verdana"/>
              </a:rPr>
              <a:t>	</a:t>
            </a:r>
            <a:fld id="{69F91564-D0B7-4F20-A0C8-CB5BA80125A3}" type="slidenum">
              <a:rPr b="1" lang="en-US" sz="12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3581280"/>
            <a:ext cx="6885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mlabs_vert_white" descr=""/>
          <p:cNvPicPr/>
          <p:nvPr/>
        </p:nvPicPr>
        <p:blipFill>
          <a:blip r:embed="rId2"/>
          <a:stretch/>
        </p:blipFill>
        <p:spPr>
          <a:xfrm>
            <a:off x="7238880" y="54000"/>
            <a:ext cx="1447920" cy="814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838080"/>
            <a:ext cx="662796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57200" y="6629400"/>
            <a:ext cx="822960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95360" y="838080"/>
            <a:ext cx="65912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57200" y="6553080"/>
            <a:ext cx="822960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6553080"/>
            <a:ext cx="3805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6556320"/>
            <a:ext cx="2743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cc"/>
                </a:solidFill>
                <a:latin typeface="Verdana"/>
              </a:rPr>
              <a:t>Motorola Labs UK     </a:t>
            </a:r>
            <a:fld id="{16C0AB5E-6215-4012-88AC-8BED653DFBDD}" type="slidenum">
              <a:rPr b="1" lang="en-US" sz="1400" spc="-1" strike="noStrike">
                <a:solidFill>
                  <a:srgbClr val="0099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labs_white" descr=""/>
          <p:cNvPicPr/>
          <p:nvPr/>
        </p:nvPicPr>
        <p:blipFill>
          <a:blip r:embed="rId2"/>
          <a:stretch/>
        </p:blipFill>
        <p:spPr>
          <a:xfrm>
            <a:off x="900000" y="42840"/>
            <a:ext cx="7342200" cy="1100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89160" y="2409840"/>
            <a:ext cx="503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Meaning of a Specification’s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se Example: M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ve J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s MSC a Design Languag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5120" y="1182600"/>
            <a:ext cx="8050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we partition instances into components, then the partition forms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particular, if we take each instance as a separate component, it represents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consider an MSC as a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ract a trace specification for each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urrent composition of the components represents the desig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23080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MSC is a design language if we defin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MSC language is not very helpful in defining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verspec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960" y="1521000"/>
            <a:ext cx="805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can define overspecification of a component in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 component specification can be relaxed without altering the set of possible constructions, then it is over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verspecification represents functional redund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verspecified In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06880" y="952560"/>
            <a:ext cx="4514760" cy="269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96440" y="952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ver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64440" y="137160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64440" y="322596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29480" y="137160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29480" y="322596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2"/>
            <a:endCxn id="154" idx="0"/>
          </p:cNvCxnSpPr>
          <p:nvPr/>
        </p:nvCxnSpPr>
        <p:spPr>
          <a:xfrm>
            <a:off x="7835400" y="169020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532560" y="1908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6" idx="0"/>
            <a:endCxn id="155" idx="2"/>
          </p:cNvCxnSpPr>
          <p:nvPr/>
        </p:nvCxnSpPr>
        <p:spPr>
          <a:xfrm flipV="1">
            <a:off x="6400440" y="168984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4410000" y="136836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0000" y="322272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2"/>
            <a:endCxn id="161" idx="0"/>
          </p:cNvCxnSpPr>
          <p:nvPr/>
        </p:nvCxnSpPr>
        <p:spPr>
          <a:xfrm>
            <a:off x="4981320" y="1687680"/>
            <a:ext cx="1080" cy="152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6044040" y="237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978080" y="2703240"/>
            <a:ext cx="14288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00800" y="2246040"/>
            <a:ext cx="14288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25960" y="3795840"/>
            <a:ext cx="4514760" cy="269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7958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ust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83520" y="42148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83520" y="60688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48200" y="42148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2" idx="0"/>
            <a:endCxn id="173" idx="0"/>
          </p:cNvCxnSpPr>
          <p:nvPr/>
        </p:nvCxnSpPr>
        <p:spPr>
          <a:xfrm flipH="1">
            <a:off x="6419160" y="5894280"/>
            <a:ext cx="5400" cy="16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848200" y="60688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68" idx="2"/>
            <a:endCxn id="169" idx="0"/>
          </p:cNvCxnSpPr>
          <p:nvPr/>
        </p:nvCxnSpPr>
        <p:spPr>
          <a:xfrm>
            <a:off x="7854480" y="453348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6551640" y="475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424200" y="4863960"/>
            <a:ext cx="3240" cy="1017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0"/>
            <a:endCxn id="170" idx="2"/>
          </p:cNvCxnSpPr>
          <p:nvPr/>
        </p:nvCxnSpPr>
        <p:spPr>
          <a:xfrm flipH="1" flipV="1">
            <a:off x="6419520" y="4533480"/>
            <a:ext cx="864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 flipH="1">
            <a:off x="6265440" y="587520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265440" y="4859280"/>
            <a:ext cx="2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9080" y="421164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080" y="6066000"/>
            <a:ext cx="1143000" cy="3045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0" idx="2"/>
            <a:endCxn id="181" idx="0"/>
          </p:cNvCxnSpPr>
          <p:nvPr/>
        </p:nvCxnSpPr>
        <p:spPr>
          <a:xfrm>
            <a:off x="5000400" y="453024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6312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997160" y="5560920"/>
            <a:ext cx="142884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19880" y="5103720"/>
            <a:ext cx="142884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7480" y="1608120"/>
            <a:ext cx="30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specifies that m is sent before n, but upper and lower don’t know or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9120" y="42609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er is free to choose order of sending m and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4560" y="1554120"/>
            <a:ext cx="83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refinement is a design that satisfies a given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inement can reduce the choices open to an implem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MSCs be used in refin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t’s another stor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the meaning of MSC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0200" y="1031760"/>
            <a:ext cx="836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a specificatio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a des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it an implementatio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Its whatever you want it to be, but the semantics fit none of the abo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No-one agrees on what an MSC means, even though everyone can agree its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we add a definition of implementation, we find that there are MSCs with well defined semantics, but which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onsistent (have no possible implementation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ll To A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4080" y="1935000"/>
            <a:ext cx="755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t us agree on meaning of semantic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su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ommendations use the terms con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emantics reflect th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We are worse off than UML, because we pretend to have semantics, even formal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a Specific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29400" y="1227240"/>
            <a:ext cx="645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readily use term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ific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ig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invent formal languages to express th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may even ascribe them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rm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 sub-categorie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ver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ine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what do they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ir relatio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ec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6840" y="1044720"/>
            <a:ext cx="846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impl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A specification represents a set of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pecification that represents more than one implementation we call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nderspecific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an implementer is free to choose which one to bu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pecification that represents just one implementation is complete and the implementer has no freedom of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ice,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specifications is different to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implementations: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ype Spec = set of(set of I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is independent of definition of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rrect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044720"/>
            <a:ext cx="846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of correct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An implementation satisfies its specification if it is amongst its repres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I satisfies S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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I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 specification is inconsistent, then it represents the empty set, and so no implementation can satisfy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s MSC a Specification Languag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6840" y="955800"/>
            <a:ext cx="84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ording to the language, an MSC defines a set of tr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es each trace define an intended implem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08320" y="1873080"/>
            <a:ext cx="4514760" cy="269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8600" y="18730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m_I_a_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5880" y="22924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65880" y="41464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0560" y="22924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>
            <a:off x="6036840" y="261108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734000" y="282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0"/>
            <a:endCxn id="100" idx="2"/>
          </p:cNvCxnSpPr>
          <p:nvPr/>
        </p:nvCxnSpPr>
        <p:spPr>
          <a:xfrm flipV="1">
            <a:off x="4601880" y="261072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2611440" y="228924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414324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5" idx="2"/>
            <a:endCxn id="106" idx="0"/>
          </p:cNvCxnSpPr>
          <p:nvPr/>
        </p:nvCxnSpPr>
        <p:spPr>
          <a:xfrm>
            <a:off x="3182400" y="2607840"/>
            <a:ext cx="1080" cy="152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24512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79880" y="3638520"/>
            <a:ext cx="142848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02240" y="3181320"/>
            <a:ext cx="142884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02400" y="4645080"/>
            <a:ext cx="29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&lt; !m, ?m, !n, ?n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&lt; !m, !n, ?m, ?n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&lt; !m, !n, ?n, ?m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0560" y="4146480"/>
            <a:ext cx="1143000" cy="3049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2760" y="4660920"/>
            <a:ext cx="48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9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SC defines 3 tr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1890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trace fixes the exact order of events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?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?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SC semantics does not seem to fit our definition of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SC is a Specification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6840" y="905040"/>
            <a:ext cx="84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ossible to define functions that transforms a set of traces into sets of tr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50880" y="3330720"/>
            <a:ext cx="4523040" cy="2693880"/>
            <a:chOff x="2450880" y="3330720"/>
            <a:chExt cx="4523040" cy="2693880"/>
          </a:xfrm>
        </p:grpSpPr>
        <p:sp>
          <p:nvSpPr>
            <p:cNvPr id="117" name=""/>
            <p:cNvSpPr/>
            <p:nvPr/>
          </p:nvSpPr>
          <p:spPr>
            <a:xfrm>
              <a:off x="2459160" y="3330720"/>
              <a:ext cx="4514760" cy="26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50880" y="3330720"/>
              <a:ext cx="356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one_implementation_or_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6720" y="3749760"/>
              <a:ext cx="11430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16720" y="5603760"/>
              <a:ext cx="1143000" cy="304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81400" y="3749760"/>
              <a:ext cx="11430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"/>
            <p:cNvCxnSpPr>
              <a:stCxn id="123" idx="0"/>
              <a:endCxn id="124" idx="0"/>
            </p:cNvCxnSpPr>
            <p:nvPr/>
          </p:nvCxnSpPr>
          <p:spPr>
            <a:xfrm flipH="1">
              <a:off x="4752360" y="5429160"/>
              <a:ext cx="5400" cy="161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>
              <a:off x="4181400" y="5603760"/>
              <a:ext cx="1143000" cy="304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19" idx="2"/>
              <a:endCxn id="120" idx="0"/>
            </p:cNvCxnSpPr>
            <p:nvPr/>
          </p:nvCxnSpPr>
          <p:spPr>
            <a:xfrm>
              <a:off x="6187680" y="4068360"/>
              <a:ext cx="1080" cy="1521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4884840" y="4286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57400" y="4398840"/>
              <a:ext cx="3240" cy="1017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>
              <a:stCxn id="127" idx="0"/>
              <a:endCxn id="121" idx="2"/>
            </p:cNvCxnSpPr>
            <p:nvPr/>
          </p:nvCxnSpPr>
          <p:spPr>
            <a:xfrm flipH="1" flipV="1">
              <a:off x="4752720" y="4068360"/>
              <a:ext cx="8640" cy="316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"/>
            <p:cNvSpPr/>
            <p:nvPr/>
          </p:nvSpPr>
          <p:spPr>
            <a:xfrm flipH="1">
              <a:off x="4598640" y="541008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598640" y="439416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62280" y="3746520"/>
              <a:ext cx="11430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62280" y="5600880"/>
              <a:ext cx="1143000" cy="3045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1" idx="2"/>
              <a:endCxn id="132" idx="0"/>
            </p:cNvCxnSpPr>
            <p:nvPr/>
          </p:nvCxnSpPr>
          <p:spPr>
            <a:xfrm>
              <a:off x="3333600" y="4065120"/>
              <a:ext cx="1080" cy="1521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4396320" y="4757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30360" y="5095800"/>
              <a:ext cx="14288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3080" y="4638600"/>
              <a:ext cx="142884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6099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SC Semantics not very helpful but permits many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280" y="1717560"/>
            <a:ext cx="846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there are differen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permits only deterministic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permits non-determinis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318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hen is a Specification not a Specificatio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720" y="1339920"/>
            <a:ext cx="8140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’s a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pecifications commonly tell not just what we can build, but how to buil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s a design not a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’s a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Often designs are vehicles for expressing spec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hat is, an implementer does not have to follow the design, just the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MSC a des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7760" y="1044720"/>
            <a:ext cx="82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impl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A prescription for building a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00"/>
                </a:solidFill>
                <a:latin typeface="Arial"/>
              </a:rPr>
              <a:t>from a set of give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‘given’ we mean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pecifi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‘prescription’ we mean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ice,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design is different  to the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specification and ‘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ype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183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is independent of implementation, but not of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2"/>
            </a:gs>
            <a:gs pos="100000">
              <a:srgbClr val="000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629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rrect 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5120" y="1271520"/>
            <a:ext cx="80503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design is correct with respect to a specific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ever we take a set of components that meet their specifica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construct an implementation following the design prescrip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 it satisfies the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sat S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sat S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D(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, …, c</a:t>
            </a:r>
            <a:r>
              <a:rPr b="0" lang="en-GB" sz="24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) sat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, design correctness is measured against a given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14:07:27Z</dcterms:created>
  <dc:creator>Clive Jervis</dc:creator>
  <dc:description/>
  <dc:language>en-US</dc:language>
  <cp:lastModifiedBy>Clive Jervis</cp:lastModifiedBy>
  <cp:lastPrinted>1999-09-21T14:01:23Z</cp:lastPrinted>
  <dcterms:modified xsi:type="dcterms:W3CDTF">2002-04-09T22:31:23Z</dcterms:modified>
  <cp:revision>2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partment">
    <vt:lpwstr>Motorola Labs</vt:lpwstr>
  </property>
  <property fmtid="{D5CDD505-2E9C-101B-9397-08002B2CF9AE}" pid="3" name="Document number">
    <vt:lpwstr>1</vt:lpwstr>
  </property>
</Properties>
</file>