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2"/>
          </p:nvPr>
        </p:nvSpPr>
        <p:spPr>
          <a:xfrm>
            <a:off x="395892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04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ftr" idx="3"/>
          </p:nvPr>
        </p:nvSpPr>
        <p:spPr>
          <a:xfrm>
            <a:off x="-36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 type="sldNum" idx="4"/>
          </p:nvPr>
        </p:nvSpPr>
        <p:spPr>
          <a:xfrm>
            <a:off x="3958920" y="882000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2004AC8-73C6-4B48-8DD4-873B67702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0400" cy="3479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4408560"/>
            <a:ext cx="5124600" cy="4178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co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of Optical Network, covering the areas of applications, functions, requirements, management interfaces and model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jecti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 identify issues encountered for managing optical network and exchange views for resolving the issues. To suggest issues to be covered on ITU-T standards activit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5190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409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5190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5190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409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409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5190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5190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5190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40976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0976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0976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190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09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5190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09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09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5190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0976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1AC0-FDB6-4C1C-8989-C0C8DEB2AE3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09480" y="609480"/>
            <a:ext cx="7925040" cy="4800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0958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666880" y="64771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shop IP/Optical; Chitose, Japan; 9-11 July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 txBox="1"/>
          <p:nvPr/>
        </p:nvSpPr>
        <p:spPr>
          <a:xfrm>
            <a:off x="1676520" y="5715000"/>
            <a:ext cx="5105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orkshop IP/Optical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609480" y="609480"/>
            <a:ext cx="7925040" cy="4800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2666880" y="6477120"/>
            <a:ext cx="37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shop IP/Optical; Chitose, Japan; 9-11 July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TU-T Workshop on IP/Optical</a:t>
            </a:r>
            <a:br>
              <a:rPr sz="2800"/>
            </a:b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Chitose, 9-11 July 2002</a:t>
            </a:r>
            <a:br>
              <a:rPr sz="2400"/>
            </a:b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ession 9 – Optical Network Management</a:t>
            </a:r>
            <a:br>
              <a:rPr sz="2800"/>
            </a:b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Kam Lam (Lucent)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–</a:t>
            </a: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 SG15 Q14 Rapporteur </a:t>
            </a:r>
            <a:br>
              <a:rPr sz="2000"/>
            </a:b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&amp; Nobuo Fuji  (NTT) </a:t>
            </a: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–</a:t>
            </a:r>
            <a:r>
              <a:rPr b="1" i="1" lang="en-US" sz="2000" spc="-1" strike="noStrike">
                <a:solidFill>
                  <a:srgbClr val="a50021"/>
                </a:solidFill>
                <a:latin typeface="Times New Roman"/>
              </a:rPr>
              <a:t> SG4 Vice Chair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47608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Introduction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Fault Management and Service Recovery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-- Tobey Trygar (Telcordia)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Practical Issues in Managing Optical Networks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-- Wesam Alanqar (Sprint) &amp; Tammy Ferris (Merkita)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Network Management Issues of Ethernet over WDM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-- Tatsuhiko Yoshida (NTT)</a:t>
            </a: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Times New Roman"/>
              </a:rPr>
              <a:t>Open Discussion and Summary</a:t>
            </a:r>
            <a:endParaRPr b="0" lang="en-US" sz="20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4B3A7-09E8-4A49-BB7A-8082E493D1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697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ession 9 – </a:t>
            </a: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Optical Network Management</a:t>
            </a: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Introduction 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Scope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Objective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33"/>
                </a:solidFill>
                <a:latin typeface="Times New Roman"/>
              </a:rPr>
              <a:t>Current Status of ONM Standards Work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501DE-C8A7-482F-AB53-7EFE94356B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ession 9 – </a:t>
            </a: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Optical Network Management</a:t>
            </a: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Current Statu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OTN Network Element Managemen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OTN NE Management Requirements: G.874 (Q14/15)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OTN NE Information Model: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Protocol Neutral: G.874.1 (Q14/15)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MIP: G.875 (Q14/15)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SNMP: G.snmp (Q14/15), Optical Interface MIB (IETF Atommib WG)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DH/SONET Network Element Managemen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DH/SONET NE Management Requirements: G.784 (Q14/15)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SDH/SONET NE Information Model: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MIP: G.774, G.774.1, …, G.774.10 (Q14/15)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SNMP: SONET MIB (IETF RFC2558), APS MIB (Atommib WG)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7829B-C1A1-4506-82CD-D51730D093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352680" y="1447920"/>
            <a:ext cx="2210040" cy="6094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twork Archite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87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13372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uctures and Mappin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70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19920" y="213372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ysical Layer(WP4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692, G.959.1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.ds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97180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ipment Functional Spec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798,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G.80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274320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ipment Management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874, </a:t>
            </a:r>
            <a:r>
              <a:rPr b="0" lang="en-US" sz="1600" spc="-1" strike="noStrike">
                <a:solidFill>
                  <a:srgbClr val="cc0000"/>
                </a:solidFill>
                <a:latin typeface="Times New Roman"/>
              </a:rPr>
              <a:t>G.771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95680" y="3809880"/>
            <a:ext cx="2210040" cy="609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formation Model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874.1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.875, G.snm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3809880"/>
            <a:ext cx="2209680" cy="609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tection Switching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ff3300"/>
                </a:solidFill>
                <a:latin typeface="Times New Roman"/>
              </a:rPr>
              <a:t>G.gp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G.otnpro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297180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ser Safety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G.66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(WP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4724280"/>
            <a:ext cx="220968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nd Signal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s Networ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G.771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4724280"/>
            <a:ext cx="2209680" cy="6098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itter and Wander Perf.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825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724280"/>
            <a:ext cx="2209680" cy="6098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ror Performance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G.optperf(Q.8.13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971800" y="1905120"/>
            <a:ext cx="38088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57760" bIns="-609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200400" y="2057400"/>
            <a:ext cx="380880" cy="1752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27432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81800" bIns="-685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62920" y="27432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81800" bIns="-685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18288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34080" bIns="-533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31240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9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81480" y="33526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0" bIns="-45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971440" y="350532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9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990720" y="358092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358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81800" bIns="-685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98108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81800" bIns="-685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343400" y="33526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2971440" y="3200040"/>
            <a:ext cx="121932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ession 9 – </a:t>
            </a: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Optical Network Management</a:t>
            </a: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Current Status - OTN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74457-8BDA-41D9-B257-7A09488650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ession 9 – </a:t>
            </a: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Optical Network Management</a:t>
            </a: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Current Status - SDH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352680" y="1447920"/>
            <a:ext cx="2210040" cy="6094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twork Archite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803(Q.10/13), G.80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13372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uctures and Mappin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70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213372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957, G.691) (WP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97180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ipment Functional Spec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783,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G.80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274320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ipment Management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784,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G.771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809880"/>
            <a:ext cx="2210040" cy="609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formation Model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774 Ser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3809880"/>
            <a:ext cx="2209680" cy="6098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tection Switching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ff3300"/>
                </a:solidFill>
                <a:latin typeface="Times New Roman"/>
              </a:rPr>
              <a:t>G.gp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G.841, G.84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19920" y="2971800"/>
            <a:ext cx="220968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ser Safety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G.66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(WP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4724280"/>
            <a:ext cx="220968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and Signal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s Network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Times New Roman"/>
              </a:rPr>
              <a:t>G.771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4724280"/>
            <a:ext cx="2209680" cy="6098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itter and Wander Perf.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82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4724280"/>
            <a:ext cx="2209680" cy="6098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rror Performance</a:t>
            </a:r>
            <a:br>
              <a:rPr sz="14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.826-829(Q.8/13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971800" y="1905120"/>
            <a:ext cx="38088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57760" bIns="-609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200400" y="2057400"/>
            <a:ext cx="380880" cy="1752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27432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81800" bIns="-685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162920" y="27432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81800" bIns="-685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18288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334080" bIns="-533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1240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9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33526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0" bIns="-45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971440" y="3505320"/>
            <a:ext cx="3048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914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990720" y="358092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358128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81800" bIns="-685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98108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181800" bIns="-685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343400" y="33526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971440" y="3200040"/>
            <a:ext cx="121932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E16569-FCBE-40F6-B0DA-9C2B2A72EC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ession 9 – </a:t>
            </a: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Optical Network Management</a:t>
            </a: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Current Statu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42960"/>
            <a:ext cx="77724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Generic Transport NE Managemen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Common Equipment Management Requirements: G.7710 (Q14/15)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Generic NE Information Model: 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MIP: M.3100 Series (Q12/4)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CORBA: M.3120 (Q12/4)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SNMP: Interface Group MIB (IETF RFC 2863), Entity MIB (IETF RFC 2737)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DCN Architecture and Requirements: G.7712 (Q14/15)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99E4E-1483-4E87-9CFE-EEA57C4FDA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ession 9 – </a:t>
            </a: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Optical Network Management</a:t>
            </a: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Current Statu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Network Level Managemen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Generic Network Level Management (Q13/4)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G.850 Series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M.3100 Amendment 1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Broadband Network Level Management (Q14/4)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Network Management Related Parameters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Fault &amp; Performance Management (Q3/4)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Error performance objectives and procedures for BIS and maintenance of OTN (M.24otn) 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1BA8B0-2E6E-4E52-8B6D-6D12D35B0C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ession 9 – </a:t>
            </a: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Optical Network Management</a:t>
            </a: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Current Statu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SON Component detailed requirements (Q14/15)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Distributed Call &amp; Connection management 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G.7713, G.7713.1, G.7713.2, G.7713.3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Generalized Automatic Discovery technique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G.7714, G.7714.1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ASON Routing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G.7715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ASTN Link Management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G.7716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ASTN Connection Admission Control</a:t>
            </a:r>
            <a:endParaRPr b="0" lang="en-US" sz="2000" spc="-1" strike="noStrike">
              <a:solidFill>
                <a:srgbClr val="cc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G.7717</a:t>
            </a:r>
            <a:endParaRPr b="0" lang="en-US" sz="18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1C336-47DC-4896-9A8A-D9552F97EB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ession 9 – </a:t>
            </a: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Optical Network Management</a:t>
            </a:r>
            <a:r>
              <a:rPr b="1" lang="en-GB" sz="32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Current Statu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43480" y="12952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ocol Neutr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2063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c Protocol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120" y="1422360"/>
            <a:ext cx="7619760" cy="4013280"/>
            <a:chOff x="762120" y="1422360"/>
            <a:chExt cx="7619760" cy="4013280"/>
          </a:xfrm>
        </p:grpSpPr>
        <p:sp>
          <p:nvSpPr>
            <p:cNvPr id="124" name=""/>
            <p:cNvSpPr/>
            <p:nvPr/>
          </p:nvSpPr>
          <p:spPr>
            <a:xfrm>
              <a:off x="838080" y="1422360"/>
              <a:ext cx="2210040" cy="6094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G.807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8080" y="2336760"/>
              <a:ext cx="2210040" cy="60948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chitectur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G.8080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05320" y="1803240"/>
              <a:ext cx="2209680" cy="609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nection Managemen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G.771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120" y="4089240"/>
              <a:ext cx="2209680" cy="609840"/>
            </a:xfrm>
            <a:prstGeom prst="roundRect">
              <a:avLst>
                <a:gd name="adj" fmla="val 16667"/>
              </a:avLst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 and Signaling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munications Network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400" spc="-1" strike="noStrike">
                  <a:solidFill>
                    <a:srgbClr val="ff3300"/>
                  </a:solidFill>
                  <a:latin typeface="Times New Roman"/>
                </a:rPr>
                <a:t>G.7712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1803240"/>
              <a:ext cx="2209680" cy="6098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NNI Implementation</a:t>
              </a:r>
              <a:br>
                <a:rPr sz="14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G.7713.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05120" y="203184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8120" bIns="-609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48120" y="26416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9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05320" y="2565360"/>
              <a:ext cx="220968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neralized Automatic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scovery Techniques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G.771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327480"/>
              <a:ext cx="220968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STN Rout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G.7715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5320" y="4076640"/>
              <a:ext cx="2209680" cy="6094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STN Link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G.7716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05320" y="4825800"/>
              <a:ext cx="2209680" cy="60984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STN Connection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dmission Control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G.7717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76720" y="2108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9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76720" y="28702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9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76720" y="363204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9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76720" y="43941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9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76720" y="51562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9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76720" y="2108160"/>
              <a:ext cx="0" cy="304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172200" y="3403440"/>
              <a:ext cx="2209680" cy="60984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R-LDP Imple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G.7713.3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72200" y="2565360"/>
              <a:ext cx="2209680" cy="609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SVP-TE Imple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(G.7713.2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000" y="210816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9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43600" y="287028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9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3600" y="210816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3600" y="3708360"/>
              <a:ext cx="22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9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15000" y="2870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91320" y="287028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91320" y="447048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9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72200" y="4241880"/>
              <a:ext cx="2209680" cy="609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tocol for Automatic Discovery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in SDH &amp; OTN 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G.7714.1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9919C-A949-47FC-B119-980B83E11E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7:05:20Z</dcterms:created>
  <dc:creator>WERY</dc:creator>
  <dc:description/>
  <dc:language>en-US</dc:language>
  <cp:lastModifiedBy>UGALE, Arvin Carlos D.</cp:lastModifiedBy>
  <dcterms:modified xsi:type="dcterms:W3CDTF">2002-07-19T14:10:54Z</dcterms:modified>
  <cp:revision>60</cp:revision>
  <dc:subject/>
  <dc:title>PowerPoint Presentation</dc:title>
</cp:coreProperties>
</file>