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EC32-5F49-4F96-9BCF-98017300B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C178-83E2-4989-AF6D-F227714FE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E7B5-879B-4756-9C3E-1986AC665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F0C2-76AF-414C-BA4A-6A4DA7BFD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A56A-115E-4AE7-A02F-0D65BDA74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6F12-CA28-4C94-AFC6-E9AFAC81F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07AB-21F8-4448-A929-ACBC94EBB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7346-8A91-493C-A0CF-9453C9A89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C042-1E6D-424F-9489-9651D999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303-53EA-43B5-A9B7-4BF59957C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7885-9B88-4E0D-9DB3-480F2215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AC2-CA16-4B61-8058-5A206A887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327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63B-3A8A-4ABE-8A1A-B865D656D1E0}" type="slidenum">
              <a:rPr b="0" lang="en-US" sz="1000" spc="-1" strike="noStrike">
                <a:solidFill>
                  <a:srgbClr val="00004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18320" y="6248520"/>
            <a:ext cx="2120760" cy="358560"/>
            <a:chOff x="6718320" y="6248520"/>
            <a:chExt cx="2120760" cy="358560"/>
          </a:xfrm>
        </p:grpSpPr>
        <p:graphicFrame>
          <p:nvGraphicFramePr>
            <p:cNvPr id="5" name=""/>
            <p:cNvGraphicFramePr/>
            <p:nvPr/>
          </p:nvGraphicFramePr>
          <p:xfrm>
            <a:off x="7315200" y="6248520"/>
            <a:ext cx="1523880" cy="35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6248520"/>
                      <a:ext cx="152388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" name=""/>
            <p:cNvSpPr/>
            <p:nvPr/>
          </p:nvSpPr>
          <p:spPr>
            <a:xfrm>
              <a:off x="6718320" y="6254640"/>
              <a:ext cx="609480" cy="341280"/>
            </a:xfrm>
            <a:prstGeom prst="rect">
              <a:avLst/>
            </a:prstGeom>
            <a:solidFill>
              <a:srgbClr val="3844d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C8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35160" y="2979720"/>
          <a:ext cx="2838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2979720"/>
                    <a:ext cx="2838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IEC Technical Committee 86</a:t>
            </a:r>
            <a:br>
              <a:rPr sz="3600"/>
            </a:br>
            <a:r>
              <a:rPr b="1" i="1" lang="en-US" sz="4800" spc="-1" strike="noStrike">
                <a:solidFill>
                  <a:srgbClr val="ffcc33"/>
                </a:solidFill>
                <a:latin typeface="Arial"/>
              </a:rPr>
              <a:t>Fibre Optics</a:t>
            </a:r>
            <a:endParaRPr b="0" lang="en-US" sz="48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3700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es E. Matthews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ing Incor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C86C - Fibre Optic Systems and Active Device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2000"/>
          </a:bodyPr>
          <a:p>
            <a:pPr marL="315360" indent="-31536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1: Fibre Optic Communication Systems and Sub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3: Optical Amplifi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4: Active Components and De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Methods, Specifications and Guidance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388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EC 61282-5 Guidance for Accommodation and Compensation of Disper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388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EC 61280 Series Test Methods for System Paramet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388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EC 61291-1 Generic Specification (Terminology) for Optical Amplifi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388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EC 61290 Series Test Methods for Optical Amplifie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Aft>
                <a:spcPts val="388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ptoelectronic Devices: Essential Ratings, Measuring Methods, Package &amp; Interface Specif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Aft>
                <a:spcPts val="3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ED4B-3BBE-4DBB-B34F-50F4BDE2F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EC SC86C Current Systems Projec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ar-field Data for Multimode Laser Transmitt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ye Pattern, Waveform &amp; Extinction Rat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termining Low BER Using Q-factor Measu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ptical Signal-to-noise Ratio Measu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ltimode Cable Plant Attenu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larization Mode Dispersion  Measu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sign Guides for Gigabit Ethernet Models for Multimode and Single-mode Syste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uidelines for Nonlinear Effects in Single-mode Syste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kew Design in Parallel Syste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62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tatistical Calculation of Chromatic Dispers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3DE3-5DD4-4822-B9F8-3DD835E14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EC SC86C Current Projects: Optical Amplifi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Methods for Gain, Noise, Reflec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hannel and Multichannel Parame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ization Mode Disper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er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man Amp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Optical Power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5D92-AB95-42EB-B145-5B6723F80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IEC SC86C Current Projects - </a:t>
            </a:r>
            <a:br>
              <a:rPr sz="3200"/>
            </a:b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Active Components and Device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ceiver Package and Interface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mp Laser Package and Interface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-channel Pluggable Parallel Optical TxRx Modules With MPO Conn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Standards for Modulator Integrated Laser Transmit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00nm GB Ethernet Transce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0nm 250 Mb/s Plastic FO Transmitte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D070-6DE3-4ED0-9652-CCF5F8809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TC86 Level Activitie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G4: Working Group on Metrology / Cab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ibration of Power Meters, Spectrum Analysers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G8: Working Group on Dynamic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ng Group on Polarization Mode Disp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ng Group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llenge of Limited Samples, Rapidly Changing Product Desig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 to Harmonize Approach Across TC8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ng Group on Environmental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d to Global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 Fibre Optics As a “Green” Techno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87F0-8D99-4869-AFD8-9C623E67EE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TC86 Interfaces to the World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9000"/>
          </a:bodyPr>
          <a:p>
            <a:pPr marL="305280" indent="-3052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Standards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Study Group 15 on Optic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 15 - Optical Fibre and 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 16 - Optical Systems for Terrestrial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 17 - Optical Components &amp; 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U-T Study Group 6 on Outside Pl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O / IEC JTC1 - SC25 (Building and Premises Wi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EC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76 on Laser Safety        TC46 on Cables, Wires…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100 on Multimedi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ACET Coordinat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or Board 4 on Telecommunications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NELEC Mirror Committees of TC8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EEE 802 Groups - Ethernet, 10G Ether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ACB1-EA37-49AD-9F5A-936CB47F4E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all for Action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Help and Involvement I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 in the Work by Correspo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n Expert on a Project or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 Through Your National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mberto Rossi, Chair TC86 (u.rossi@sirti.i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d Kelly, Secretary, TC86 (edward.kelly6@gte.ne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r IEC National Committee  (www.iec.ch =&gt; memb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 Rotti, IEC Central Office Engineer for TC86 (tro@iec.c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iec.ch/tc8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1B53-3C3F-4E5D-911D-E91F564CF2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Topics 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the IEC TC86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tion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86A - Fibres and C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86B - Fibre Optic Interconnecting Devices and Passiv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86C - Fibre Optic Systems and Active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TC86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86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 to Get Involved / Acces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BF1E-3F89-466E-934F-6A8F4193D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Overview of the Parent committee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1000"/>
          </a:bodyPr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e Optics A to Z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structure for Global trade and 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Test Methods, Specifications, Guideli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Market Growth, Enable Fibre Opt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ison / Reference to Many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t of TC8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pare standards for fibre optic systems, modules, device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nge of use spans all communication app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iverables: terminology, characteristics, test and measurement methods, functional interfaces, calibration, optical, environmental and mechanical requirements, quality assessment, and reli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33"/>
                </a:solidFill>
                <a:latin typeface="Arial"/>
              </a:rPr>
              <a:t>How May We Serve Your Need or Applicatio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6C87-F637-432D-9CCB-70CB93531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Organization of the Work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743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 Committee - TC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w and Emerging Areas - Dynamic Modu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on Areas: Terminology, Calibration, Reliability,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verall Coordination and Management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ommittee 86A: Fibres and C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ommittee 86B: Passive Interconnecting Devices and Passiv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ommittee 86C: Fibre Optic Systems and Active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901F-4BD5-407C-A6CE-669626DB7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National Committees of TC86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8960" y="1955880"/>
            <a:ext cx="32292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STRIA (AT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ADA (CA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NA (CN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NMARK (DK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LAND (FI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CE (FR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MANY (DE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NGARY (HU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ALY (IT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PAN (JP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OREA (REPUBLIC OF) (K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XICO (MX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HERLANDS (NL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87880" y="1366920"/>
            <a:ext cx="286704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63000"/>
          </a:bodyPr>
          <a:p>
            <a:pPr marL="216000" indent="0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STRALIA (AU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LGIUM (BE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LGARIA (BG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ZECH REPUBLIC (CZ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ECE (GR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IA (IN)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ONESIA (ID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RELAND (IE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ZEALAND (NZ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WAY (NO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APORE (SG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VENIA (SI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TH AFRICA (ZA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ILAND (TH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KRAINE (UA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UGOSLAVIA (YU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2800" y="2033640"/>
            <a:ext cx="29401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AND (PL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TUGAL (PT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ANIA (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SSIAN FEDERATION (RU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VAKIA (SK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IN (ES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WEDEN (SE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WITZERLAND (CH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RKEY (TR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ED KINGDOM (GB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ED STATES OF AMERICA (US)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5840" y="162252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ting / Voting At The TC86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B1DB-877D-4037-A4B6-15607AFB7B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C86A - Optical Fibre and Cable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Group 1: Fibres and Associated Measurement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Group 3: Cables and Associated Measurement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Working Group 4: Optical Cables Along Power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mode, Multimode and Other Fibr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oor Cable, Outdoor Cable, and Ribbon C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ed Cables (Overhead Power, Lake and River Crossing….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ation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96BC-EE07-4D3A-9E60-314122EC00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998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urrent Projects - SC86A Optical Fibre &amp; Cable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s for Fibres and C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mode Bandwid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arization Mode Disper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ial Mode Del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mma Irrad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ive Area for Single-mode Fib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pretation of OTDR Backscattering Tra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man Gain Efficiency of Single-mode Fib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arization Crosstalk Measurement of Optical Fib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5E8A-4A69-4A8A-8027-ADDD57C14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C86B - Passive Optical Compon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marL="332640" indent="-3326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4: Test and Measurement Methods for Interconnecting De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5: Reliability of Interconnecting Devices and Passive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6: Standards and Specifications for Fibre Optic Interconnecting Devices and Related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G7: Standards and Specifications for Optical Passive 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the Most Prolific Group in I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9 Active Pro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6 Published Docu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BC7C-C2F1-4CDF-9460-2BFFC0EB31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urrent Projects - SC86B Passive Optical Component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C 61300 Series Environmental Test Series (Linked to IEC 60068 Se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or Interface Specif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Specifications for Optical Interconnecting Devices an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nd Guidance Document for Qualification and Testing : Define Service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D053-0F25-4702-B1FB-6E2B43FF94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7:27:02Z</dcterms:created>
  <dc:creator>MatthewsJE</dc:creator>
  <dc:description/>
  <dc:language>en-US</dc:language>
  <cp:lastModifiedBy>COF</cp:lastModifiedBy>
  <cp:lastPrinted>2001-02-04T19:58:53Z</cp:lastPrinted>
  <dcterms:modified xsi:type="dcterms:W3CDTF">2002-06-20T20:49:21Z</dcterms:modified>
  <cp:revision>9</cp:revision>
  <dc:subject/>
  <dc:title>No Slide Title</dc:title>
</cp:coreProperties>
</file>