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3400" cy="10072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B32-ACDB-41F3-8837-AF7174EF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FFF-568C-402E-8891-B7DB01D2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441-4590-42E7-948C-B2F01FD4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946E-F75F-486B-89A1-E200D4DF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66C16-76A8-4DE0-83BA-12DFC9DD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22413-6F11-48DD-9D8F-60801EB3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7B3BE-77AC-42D7-83B1-05FBE56E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1C350-734E-4953-BD41-507A8CF8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AB1AA-35CB-42AD-83EA-794C9F73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85CCF-ECDA-4BFD-A409-47D4B96D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91ED1-071B-49CE-853C-4DF21646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6CA-8C46-4D58-BBC6-BEDD6C22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40097-CCA4-4840-82C6-7CD9CEE8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B1139-878F-42D6-A096-A2AD59AD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AD6E7-815E-46AE-9365-DBB5537B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E0608-0AC2-4D77-A248-0B6BD29F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FC3FA-3015-4047-83FE-66AD12CF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D12-868B-4EAE-9CF8-5F14C0D1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9A2-1B2E-4EEB-9916-B2857CB1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5C1-6E5B-489F-96C6-75E4FB3C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400-3DE6-4A42-AA9D-07223487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7B2D-67E0-4549-992C-0A72B6E7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325-92F9-4E30-8B37-3FCADF27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978-AEC0-4F3D-9DC3-B6EFF564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AFDF-976F-4886-8DF7-C218B6D2F910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4BF9-68BD-49F9-A916-193A2A706E85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1773360"/>
            <a:ext cx="80629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TU-T Workshop on IP/Optical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ptical amplifiers and their standardization in ITU-T &amp; IE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15640" y="4244760"/>
            <a:ext cx="701676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kira Hir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TT Network Innovation Labs, NTT Corpo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4838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ptical amplifier typ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are earth-Doped Fiber Amplif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rbium-Doped Fiber Amplifiers (EDF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C, L-B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ulium-Doped Fiber Amplifiers (TDF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S-B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aseodymium-Doped Fiber Amplifiers (PDF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O-B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ber Raman Amplif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crete Raman Amplifi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tributed Raman Amplifiers (D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miconductor Optical Amplifi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SO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ventional SO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C-SOA (Gain-Clamped SO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A (Linear Optical Amplifie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are earth (Er, Tm, Pr) -Doped Fiber Amplifier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701720"/>
            <a:ext cx="7634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ain ba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C, L-Band),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-Band),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O-Ban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76 nm (1532-1608 nm) record gain bandwidth in single band configurat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[M. Yamada et al.,OFC’98PD]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Flat gain: 21 dB, Noise figure: 7 dB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- Gain equalizer: two MZ filters with FSR of 32 and 120 n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00000" y="3997440"/>
            <a:ext cx="73152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miconductor Optical Amplifi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11440"/>
            <a:ext cx="800244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ain ban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3~1.7 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tunable by InGaAsP composi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ximum gain bandwidth: ~100 n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nventional SO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ffering from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gain rippl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nd XGM-induced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ross talk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originated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gain dynamics (relaxation oscillation etc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&gt;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t applicable to high-speed or wide-band signa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C-SO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Gain-clamped SOA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in stabilization by an additional lasing oscillation which locks th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rrier densit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&gt;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Excellent linearity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(low XGM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gt;&gt;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igh-speed or wide-band applica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ber Raman Amplifi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21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ain ba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3~1.7 u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tunable by pump wavelengt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32 nm record gain bandwid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 double band configurat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has been achieved [H. Masuda et al., ECOC’99]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Combination of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Distributed Raman amplifiers (DRA) and discrete Rama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Two-gain-band Raman amplifi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00000" y="2857680"/>
            <a:ext cx="732816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ain profile of hybrid D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020960" y="1333440"/>
            <a:ext cx="722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32 nm Record Gain Bandwid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ouble-Band Configuration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476360" y="2006640"/>
            <a:ext cx="6183360" cy="4366440"/>
            <a:chOff x="1476360" y="2006640"/>
            <a:chExt cx="6183360" cy="4366440"/>
          </a:xfrm>
        </p:grpSpPr>
        <p:sp>
          <p:nvSpPr>
            <p:cNvPr id="118" name=""/>
            <p:cNvSpPr/>
            <p:nvPr/>
          </p:nvSpPr>
          <p:spPr>
            <a:xfrm>
              <a:off x="2057400" y="2017800"/>
              <a:ext cx="11160" cy="376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47120" y="2017800"/>
              <a:ext cx="12600" cy="376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7400" y="2282760"/>
              <a:ext cx="1000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3680" y="219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7400" y="2771640"/>
              <a:ext cx="1000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13680" y="2684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3260880"/>
              <a:ext cx="1000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13680" y="3173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7400" y="3747960"/>
              <a:ext cx="1000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13680" y="36608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4235400"/>
              <a:ext cx="1000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12320" y="4148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7400" y="4724280"/>
              <a:ext cx="1000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12320" y="4637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57400" y="5211720"/>
              <a:ext cx="1000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51840" y="512460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57400" y="5700600"/>
              <a:ext cx="1000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53200" y="561348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1200960" y="3793680"/>
              <a:ext cx="7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in (dB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57400" y="5783400"/>
              <a:ext cx="560232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57400" y="2006640"/>
              <a:ext cx="5602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23240" y="5694480"/>
              <a:ext cx="11160" cy="9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27760" y="5857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65680" y="5694480"/>
              <a:ext cx="11160" cy="9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70560" y="5857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08480" y="5694480"/>
              <a:ext cx="12600" cy="9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14800" y="5857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52720" y="5694480"/>
              <a:ext cx="12960" cy="9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59040" y="5857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73840" y="6159600"/>
              <a:ext cx="1358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velength (n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281320" y="3587400"/>
              <a:ext cx="1584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365560" y="3490560"/>
              <a:ext cx="1728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451240" y="3393720"/>
              <a:ext cx="1908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41600" y="3297240"/>
              <a:ext cx="15840" cy="1908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16"/>
                  </a:moveTo>
                  <a:lnTo>
                    <a:pt x="9" y="6"/>
                  </a:lnTo>
                  <a:lnTo>
                    <a:pt x="13" y="0"/>
                  </a:lnTo>
                </a:path>
              </a:pathLst>
            </a:custGeom>
            <a:noFill/>
            <a:ln w="30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608200" y="3200040"/>
              <a:ext cx="129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2671920" y="3103200"/>
              <a:ext cx="1260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733840" y="3006360"/>
              <a:ext cx="111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790720" y="2909520"/>
              <a:ext cx="129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2857680" y="2812680"/>
              <a:ext cx="1584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932200" y="2715840"/>
              <a:ext cx="1440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013200" y="2619000"/>
              <a:ext cx="1728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97440" y="2525760"/>
              <a:ext cx="18720" cy="158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194280" y="2449440"/>
              <a:ext cx="18720" cy="14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91120" y="2487600"/>
              <a:ext cx="18720" cy="158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7960" y="2556000"/>
              <a:ext cx="18720" cy="28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84440" y="2570040"/>
              <a:ext cx="17640" cy="504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0"/>
                  </a:moveTo>
                  <a:lnTo>
                    <a:pt x="14" y="2"/>
                  </a:lnTo>
                  <a:lnTo>
                    <a:pt x="15" y="4"/>
                  </a:lnTo>
                </a:path>
              </a:pathLst>
            </a:custGeom>
            <a:noFill/>
            <a:ln w="30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22600" y="2652840"/>
              <a:ext cx="504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49600" y="2749680"/>
              <a:ext cx="5040" cy="205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75160" y="2847960"/>
              <a:ext cx="468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00360" y="2944800"/>
              <a:ext cx="648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27360" y="3041640"/>
              <a:ext cx="504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49680" y="3138480"/>
              <a:ext cx="324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68760" y="3235320"/>
              <a:ext cx="468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89280" y="3332160"/>
              <a:ext cx="324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08360" y="3429000"/>
              <a:ext cx="468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9240" y="3525840"/>
              <a:ext cx="288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48320" y="3622680"/>
              <a:ext cx="468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68840" y="3719520"/>
              <a:ext cx="324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46600" y="3798720"/>
              <a:ext cx="19080" cy="14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43440" y="3871800"/>
              <a:ext cx="19080" cy="14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40280" y="3946680"/>
              <a:ext cx="19080" cy="140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37120" y="4019400"/>
              <a:ext cx="19080" cy="14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33960" y="4092480"/>
              <a:ext cx="19080" cy="14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30800" y="4165560"/>
              <a:ext cx="19080" cy="14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27640" y="4238640"/>
              <a:ext cx="19080" cy="14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24480" y="4311720"/>
              <a:ext cx="19080" cy="140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21320" y="4365720"/>
              <a:ext cx="19080" cy="4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18160" y="4387680"/>
              <a:ext cx="19080" cy="32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0"/>
                  </a:moveTo>
                  <a:lnTo>
                    <a:pt x="3" y="1"/>
                  </a:lnTo>
                  <a:lnTo>
                    <a:pt x="16" y="3"/>
                  </a:lnTo>
                </a:path>
              </a:pathLst>
            </a:custGeom>
            <a:noFill/>
            <a:ln w="30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15000" y="4402080"/>
              <a:ext cx="1908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11840" y="4422600"/>
              <a:ext cx="19080" cy="50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08680" y="4448160"/>
              <a:ext cx="20520" cy="4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06960" y="4473720"/>
              <a:ext cx="19080" cy="28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0"/>
                  </a:moveTo>
                  <a:lnTo>
                    <a:pt x="6" y="2"/>
                  </a:lnTo>
                  <a:lnTo>
                    <a:pt x="16" y="3"/>
                  </a:lnTo>
                </a:path>
              </a:pathLst>
            </a:custGeom>
            <a:noFill/>
            <a:ln w="30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03800" y="4483080"/>
              <a:ext cx="1908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300640" y="4466880"/>
              <a:ext cx="19080" cy="4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7480" y="4437000"/>
              <a:ext cx="19080" cy="111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lnTo>
                    <a:pt x="3" y="9"/>
                  </a:lnTo>
                  <a:lnTo>
                    <a:pt x="16" y="0"/>
                  </a:lnTo>
                </a:path>
              </a:pathLst>
            </a:custGeom>
            <a:noFill/>
            <a:ln w="30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494320" y="4367160"/>
              <a:ext cx="19080" cy="14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91160" y="4363920"/>
              <a:ext cx="1908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88000" y="4386240"/>
              <a:ext cx="19080" cy="79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84840" y="4432320"/>
              <a:ext cx="19080" cy="79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1680" y="4503600"/>
              <a:ext cx="19080" cy="176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78520" y="4578480"/>
              <a:ext cx="19080" cy="111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75360" y="4632480"/>
              <a:ext cx="1908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72200" y="4640400"/>
              <a:ext cx="1908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69040" y="4646520"/>
              <a:ext cx="1908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65880" y="4656240"/>
              <a:ext cx="19080" cy="4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62720" y="4670280"/>
              <a:ext cx="2052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61360" y="4670280"/>
              <a:ext cx="1872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658200" y="4665240"/>
              <a:ext cx="1872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5040" y="4660920"/>
              <a:ext cx="1872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1880" y="4660920"/>
              <a:ext cx="1872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948720" y="4650840"/>
              <a:ext cx="1872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7045560" y="4636800"/>
              <a:ext cx="18720" cy="3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42040" y="4622760"/>
              <a:ext cx="19080" cy="324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2"/>
                  </a:moveTo>
                  <a:lnTo>
                    <a:pt x="11" y="0"/>
                  </a:lnTo>
                  <a:lnTo>
                    <a:pt x="16" y="0"/>
                  </a:lnTo>
                </a:path>
              </a:pathLst>
            </a:custGeom>
            <a:noFill/>
            <a:ln w="30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38880" y="4622760"/>
              <a:ext cx="1908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335720" y="4613400"/>
              <a:ext cx="19080" cy="28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32560" y="4603680"/>
              <a:ext cx="1908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29400" y="4603680"/>
              <a:ext cx="1908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22640" y="3543480"/>
              <a:ext cx="114120" cy="1155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55840" y="3390840"/>
              <a:ext cx="114480" cy="114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90840" y="3246480"/>
              <a:ext cx="114480" cy="1159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24040" y="3036960"/>
              <a:ext cx="114480" cy="1141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66960" y="2816280"/>
              <a:ext cx="106560" cy="1141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01960" y="2643120"/>
              <a:ext cx="114480" cy="1065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35520" y="2481120"/>
              <a:ext cx="115560" cy="114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70160" y="2376360"/>
              <a:ext cx="114480" cy="114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03720" y="2490840"/>
              <a:ext cx="115920" cy="1141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38720" y="2509920"/>
              <a:ext cx="114120" cy="1141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81280" y="3017880"/>
              <a:ext cx="105120" cy="1141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16280" y="3687840"/>
              <a:ext cx="114480" cy="1047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29160" y="4300560"/>
              <a:ext cx="115920" cy="1141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64160" y="4329000"/>
              <a:ext cx="114120" cy="114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97360" y="4348080"/>
              <a:ext cx="114480" cy="114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11840" y="4376880"/>
              <a:ext cx="115920" cy="1141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56200" y="4414680"/>
              <a:ext cx="114480" cy="1159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80040" y="4424400"/>
              <a:ext cx="115920" cy="1159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43480" y="4386240"/>
              <a:ext cx="114480" cy="114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67320" y="4300560"/>
              <a:ext cx="115920" cy="1141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92960" y="4309920"/>
              <a:ext cx="114120" cy="114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54600" y="4386240"/>
              <a:ext cx="115920" cy="114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80240" y="4491000"/>
              <a:ext cx="114120" cy="1159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13440" y="4578480"/>
              <a:ext cx="114480" cy="1047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47000" y="4587840"/>
              <a:ext cx="106200" cy="1047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72280" y="4597560"/>
              <a:ext cx="114120" cy="1047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96120" y="4616280"/>
              <a:ext cx="115920" cy="1051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40480" y="4616280"/>
              <a:ext cx="114480" cy="1051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74040" y="4606920"/>
              <a:ext cx="115920" cy="1047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27760" y="4606920"/>
              <a:ext cx="114480" cy="1047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61320" y="4587840"/>
              <a:ext cx="114120" cy="1047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96320" y="4568760"/>
              <a:ext cx="114120" cy="1047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20160" y="4568760"/>
              <a:ext cx="114120" cy="1047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72440" y="4540320"/>
              <a:ext cx="115920" cy="1141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07440" y="4540320"/>
              <a:ext cx="114120" cy="1141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281320" y="5511960"/>
              <a:ext cx="6480" cy="18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16240" y="5415120"/>
              <a:ext cx="7920" cy="18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352600" y="5318280"/>
              <a:ext cx="6480" cy="18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387520" y="5221440"/>
              <a:ext cx="6480" cy="18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427480" y="5122800"/>
              <a:ext cx="9360" cy="208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479680" y="5025600"/>
              <a:ext cx="1116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533680" y="4928760"/>
              <a:ext cx="972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611440" y="4831920"/>
              <a:ext cx="1764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702160" y="4747680"/>
              <a:ext cx="18720" cy="11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798640" y="4686480"/>
              <a:ext cx="19080" cy="10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95480" y="4691160"/>
              <a:ext cx="19080" cy="4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78280" y="4734000"/>
              <a:ext cx="9360" cy="20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30480" y="4832280"/>
              <a:ext cx="1116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84480" y="4929120"/>
              <a:ext cx="11160" cy="1908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0"/>
                  </a:moveTo>
                  <a:lnTo>
                    <a:pt x="8" y="14"/>
                  </a:lnTo>
                  <a:lnTo>
                    <a:pt x="9" y="16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37040" y="5025960"/>
              <a:ext cx="1116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91040" y="5122800"/>
              <a:ext cx="936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238560" y="5159160"/>
              <a:ext cx="792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278160" y="5062320"/>
              <a:ext cx="648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316320" y="4965480"/>
              <a:ext cx="648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354480" y="4868640"/>
              <a:ext cx="648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432240" y="4801680"/>
              <a:ext cx="19080" cy="11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529080" y="4729320"/>
              <a:ext cx="19080" cy="158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25920" y="4651200"/>
              <a:ext cx="14400" cy="11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9"/>
                  </a:moveTo>
                  <a:lnTo>
                    <a:pt x="10" y="0"/>
                  </a:lnTo>
                  <a:lnTo>
                    <a:pt x="12" y="6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62280" y="4737240"/>
              <a:ext cx="504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9280" y="4834080"/>
              <a:ext cx="504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16280" y="4930920"/>
              <a:ext cx="504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45080" y="5027760"/>
              <a:ext cx="468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72080" y="5118120"/>
              <a:ext cx="14040" cy="126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5"/>
                  </a:moveTo>
                  <a:lnTo>
                    <a:pt x="1" y="10"/>
                  </a:lnTo>
                  <a:lnTo>
                    <a:pt x="12" y="0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863880" y="5035680"/>
              <a:ext cx="19080" cy="158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60720" y="4951440"/>
              <a:ext cx="19080" cy="158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4057560" y="4866840"/>
              <a:ext cx="19080" cy="176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154400" y="4782600"/>
              <a:ext cx="19080" cy="176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251240" y="4700520"/>
              <a:ext cx="19080" cy="158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4348080" y="4615920"/>
              <a:ext cx="19080" cy="162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444920" y="4532400"/>
              <a:ext cx="19080" cy="172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4541760" y="4447800"/>
              <a:ext cx="20880" cy="176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611600" y="4354200"/>
              <a:ext cx="9720" cy="20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659480" y="4257360"/>
              <a:ext cx="936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4705560" y="4160520"/>
              <a:ext cx="792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4757760" y="4063680"/>
              <a:ext cx="1116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815000" y="3966840"/>
              <a:ext cx="936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4876920" y="3870000"/>
              <a:ext cx="1728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64040" y="3778200"/>
              <a:ext cx="17640" cy="144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lnTo>
                    <a:pt x="7" y="4"/>
                  </a:lnTo>
                  <a:lnTo>
                    <a:pt x="15" y="0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059440" y="3723840"/>
              <a:ext cx="19080" cy="11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56280" y="3713040"/>
              <a:ext cx="19080" cy="1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5253120" y="3722760"/>
              <a:ext cx="1908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49960" y="3718080"/>
              <a:ext cx="1908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446800" y="3689280"/>
              <a:ext cx="19080" cy="7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43640" y="3630240"/>
              <a:ext cx="20520" cy="176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41920" y="3543480"/>
              <a:ext cx="19080" cy="1584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13"/>
                  </a:moveTo>
                  <a:lnTo>
                    <a:pt x="10" y="4"/>
                  </a:lnTo>
                  <a:lnTo>
                    <a:pt x="16" y="0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738760" y="3481200"/>
              <a:ext cx="19080" cy="12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835600" y="3430440"/>
              <a:ext cx="19080" cy="50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32440" y="3402000"/>
              <a:ext cx="19080" cy="324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2"/>
                  </a:moveTo>
                  <a:lnTo>
                    <a:pt x="7" y="0"/>
                  </a:lnTo>
                  <a:lnTo>
                    <a:pt x="16" y="0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29280" y="3402000"/>
              <a:ext cx="1908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26120" y="3422520"/>
              <a:ext cx="19080" cy="7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22960" y="3456000"/>
              <a:ext cx="19080" cy="4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19800" y="3478320"/>
              <a:ext cx="19080" cy="144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lnTo>
                    <a:pt x="11" y="2"/>
                  </a:lnTo>
                  <a:lnTo>
                    <a:pt x="16" y="0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416640" y="3438000"/>
              <a:ext cx="19080" cy="82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13480" y="3430440"/>
              <a:ext cx="19080" cy="1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610320" y="3425400"/>
              <a:ext cx="19080" cy="4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707160" y="3412800"/>
              <a:ext cx="19080" cy="3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804000" y="3358800"/>
              <a:ext cx="19080" cy="12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900840" y="3317400"/>
              <a:ext cx="19080" cy="3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997680" y="3295440"/>
              <a:ext cx="20880" cy="4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096320" y="3274560"/>
              <a:ext cx="19080" cy="4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93160" y="3289320"/>
              <a:ext cx="19080" cy="12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83520" y="3355920"/>
              <a:ext cx="792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29600" y="3452760"/>
              <a:ext cx="936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375680" y="3549600"/>
            <a:ext cx="9360" cy="19080"/>
          </a:xfrm>
          <a:prstGeom prst="line">
            <a:avLst/>
          </a:prstGeom>
          <a:ln w="30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21400" y="3646440"/>
            <a:ext cx="9720" cy="19080"/>
          </a:xfrm>
          <a:custGeom>
            <a:avLst/>
            <a:gdLst/>
            <a:ahLst/>
            <a:rect l="l" t="t" r="r" b="b"/>
            <a:pathLst>
              <a:path w="8" h="16">
                <a:moveTo>
                  <a:pt x="0" y="0"/>
                </a:moveTo>
                <a:lnTo>
                  <a:pt x="8" y="16"/>
                </a:lnTo>
                <a:lnTo>
                  <a:pt x="8" y="16"/>
                </a:lnTo>
              </a:path>
            </a:pathLst>
          </a:custGeom>
          <a:noFill/>
          <a:ln w="30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61360" y="3743280"/>
            <a:ext cx="7920" cy="19080"/>
          </a:xfrm>
          <a:prstGeom prst="line">
            <a:avLst/>
          </a:prstGeom>
          <a:ln w="30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99520" y="3840120"/>
            <a:ext cx="7920" cy="19080"/>
          </a:xfrm>
          <a:prstGeom prst="line">
            <a:avLst/>
          </a:prstGeom>
          <a:ln w="30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37320" y="3936960"/>
            <a:ext cx="6480" cy="19080"/>
          </a:xfrm>
          <a:prstGeom prst="line">
            <a:avLst/>
          </a:prstGeom>
          <a:ln w="30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5470560"/>
            <a:ext cx="1206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357280" y="5099040"/>
            <a:ext cx="120960" cy="122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92280" y="4856040"/>
            <a:ext cx="1206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27280" y="4710240"/>
            <a:ext cx="1206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63720" y="4622760"/>
            <a:ext cx="1206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98720" y="4641840"/>
            <a:ext cx="1206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35160" y="4884840"/>
            <a:ext cx="120960" cy="122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5138640"/>
            <a:ext cx="1224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06600" y="4797360"/>
            <a:ext cx="12096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41600" y="4710240"/>
            <a:ext cx="1206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78400" y="4592520"/>
            <a:ext cx="1206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13040" y="5070600"/>
            <a:ext cx="1206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27720" y="4367160"/>
            <a:ext cx="1206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62360" y="4084560"/>
            <a:ext cx="1206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99160" y="3849840"/>
            <a:ext cx="1206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11840" y="3722760"/>
            <a:ext cx="122040" cy="122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52960" y="3645000"/>
            <a:ext cx="122400" cy="122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78600" y="3664080"/>
            <a:ext cx="120600" cy="122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40240" y="3654360"/>
            <a:ext cx="120600" cy="122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65880" y="3606840"/>
            <a:ext cx="1206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92600" y="3489480"/>
            <a:ext cx="1224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57840" y="3382920"/>
            <a:ext cx="1224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80240" y="3343320"/>
            <a:ext cx="1206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10200" y="3343320"/>
            <a:ext cx="1224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43760" y="3392640"/>
            <a:ext cx="1206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73720" y="3421080"/>
            <a:ext cx="1206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94320" y="3371760"/>
            <a:ext cx="1224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40480" y="3371760"/>
            <a:ext cx="1206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672240" y="3352680"/>
            <a:ext cx="1224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24520" y="3265560"/>
            <a:ext cx="12096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64200" y="3235320"/>
            <a:ext cx="1224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95960" y="3206880"/>
            <a:ext cx="12096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216920" y="3284640"/>
            <a:ext cx="12204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372440" y="3606840"/>
            <a:ext cx="12060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04200" y="3948120"/>
            <a:ext cx="12204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281320" y="4389120"/>
            <a:ext cx="468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305080" y="4292280"/>
            <a:ext cx="468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330280" y="4194000"/>
            <a:ext cx="5040" cy="208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355840" y="4096800"/>
            <a:ext cx="468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381400" y="4000680"/>
            <a:ext cx="4680" cy="1872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406600" y="3903840"/>
            <a:ext cx="4680" cy="1872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436840" y="3807000"/>
            <a:ext cx="4680" cy="1872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470320" y="3710160"/>
            <a:ext cx="4680" cy="1872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03440" y="3613320"/>
            <a:ext cx="6480" cy="1872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536920" y="3516480"/>
            <a:ext cx="6120" cy="1872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573280" y="3419640"/>
            <a:ext cx="6480" cy="1872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610000" y="3322800"/>
            <a:ext cx="6120" cy="1872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646360" y="3225960"/>
            <a:ext cx="7920" cy="1872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84520" y="3129120"/>
            <a:ext cx="7920" cy="18720"/>
          </a:xfrm>
          <a:custGeom>
            <a:avLst/>
            <a:gdLst/>
            <a:ahLst/>
            <a:rect l="l" t="t" r="r" b="b"/>
            <a:pathLst>
              <a:path w="7" h="16">
                <a:moveTo>
                  <a:pt x="0" y="16"/>
                </a:moveTo>
                <a:lnTo>
                  <a:pt x="3" y="9"/>
                </a:lnTo>
                <a:lnTo>
                  <a:pt x="7" y="0"/>
                </a:lnTo>
              </a:path>
            </a:pathLst>
          </a:custGeom>
          <a:noFill/>
          <a:ln w="302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725560" y="3032280"/>
            <a:ext cx="8280" cy="1872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768760" y="2935440"/>
            <a:ext cx="7920" cy="1872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811600" y="2838240"/>
            <a:ext cx="792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881440" y="2739960"/>
            <a:ext cx="17280" cy="208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67120" y="2674800"/>
            <a:ext cx="19080" cy="1296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63960" y="2738520"/>
            <a:ext cx="19080" cy="1116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56120" y="2824200"/>
            <a:ext cx="1728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240000" y="2868120"/>
            <a:ext cx="1296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298680" y="2771280"/>
            <a:ext cx="1296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357720" y="2676600"/>
            <a:ext cx="12600" cy="17280"/>
          </a:xfrm>
          <a:custGeom>
            <a:avLst/>
            <a:gdLst/>
            <a:ahLst/>
            <a:rect l="l" t="t" r="r" b="b"/>
            <a:pathLst>
              <a:path w="11" h="14">
                <a:moveTo>
                  <a:pt x="0" y="14"/>
                </a:moveTo>
                <a:lnTo>
                  <a:pt x="7" y="2"/>
                </a:lnTo>
                <a:lnTo>
                  <a:pt x="11" y="0"/>
                </a:lnTo>
              </a:path>
            </a:pathLst>
          </a:custGeom>
          <a:noFill/>
          <a:ln w="302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448080" y="2629080"/>
            <a:ext cx="19080" cy="936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516480" y="2655720"/>
            <a:ext cx="612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549600" y="2752560"/>
            <a:ext cx="792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584520" y="2849400"/>
            <a:ext cx="648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18000" y="2946240"/>
            <a:ext cx="612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643200" y="3043080"/>
            <a:ext cx="180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654360" y="3139920"/>
            <a:ext cx="324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665520" y="3236760"/>
            <a:ext cx="144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676680" y="3333600"/>
            <a:ext cx="324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687840" y="3430440"/>
            <a:ext cx="3240" cy="208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00440" y="3529080"/>
            <a:ext cx="144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11600" y="3625920"/>
            <a:ext cx="144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722760" y="3722760"/>
            <a:ext cx="324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735360" y="3819600"/>
            <a:ext cx="144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45080" y="3916440"/>
            <a:ext cx="288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57680" y="4013280"/>
            <a:ext cx="144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768840" y="4110120"/>
            <a:ext cx="144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835440" y="4134960"/>
            <a:ext cx="19080" cy="180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932280" y="4125960"/>
            <a:ext cx="19080" cy="144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029120" y="4114800"/>
            <a:ext cx="19080" cy="144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125960" y="4105440"/>
            <a:ext cx="19080" cy="144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222800" y="4094280"/>
            <a:ext cx="19080" cy="28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319640" y="4082760"/>
            <a:ext cx="19080" cy="324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416480" y="4073040"/>
            <a:ext cx="19080" cy="180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513320" y="4064040"/>
            <a:ext cx="19080" cy="144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600440" y="4014360"/>
            <a:ext cx="972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651200" y="3917520"/>
            <a:ext cx="972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702320" y="3819240"/>
            <a:ext cx="10800" cy="2052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761000" y="3722400"/>
            <a:ext cx="1116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821120" y="3625560"/>
            <a:ext cx="1296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897440" y="3538440"/>
            <a:ext cx="19080" cy="1584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994280" y="3479400"/>
            <a:ext cx="19080" cy="46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091120" y="3452400"/>
            <a:ext cx="20520" cy="46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189400" y="3470400"/>
            <a:ext cx="19080" cy="28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86240" y="3460320"/>
            <a:ext cx="19080" cy="46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83080" y="3430440"/>
            <a:ext cx="19080" cy="648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6"/>
                </a:moveTo>
                <a:lnTo>
                  <a:pt x="15" y="1"/>
                </a:lnTo>
                <a:lnTo>
                  <a:pt x="16" y="0"/>
                </a:lnTo>
              </a:path>
            </a:pathLst>
          </a:custGeom>
          <a:noFill/>
          <a:ln w="302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472000" y="3333240"/>
            <a:ext cx="1908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564160" y="3246480"/>
            <a:ext cx="19080" cy="1584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661000" y="3182760"/>
            <a:ext cx="19080" cy="504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757840" y="3165120"/>
            <a:ext cx="19080" cy="324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854680" y="3178080"/>
            <a:ext cx="20520" cy="1116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952960" y="3233880"/>
            <a:ext cx="19080" cy="1260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49800" y="3290760"/>
            <a:ext cx="19080" cy="1296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46640" y="3338640"/>
            <a:ext cx="19080" cy="792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43480" y="3375000"/>
            <a:ext cx="19080" cy="64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340320" y="3396960"/>
            <a:ext cx="19080" cy="46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37160" y="3373560"/>
            <a:ext cx="19080" cy="4680"/>
          </a:xfrm>
          <a:custGeom>
            <a:avLst/>
            <a:gdLst/>
            <a:ahLst/>
            <a:rect l="l" t="t" r="r" b="b"/>
            <a:pathLst>
              <a:path w="16" h="4">
                <a:moveTo>
                  <a:pt x="0" y="4"/>
                </a:moveTo>
                <a:lnTo>
                  <a:pt x="15" y="0"/>
                </a:lnTo>
                <a:lnTo>
                  <a:pt x="16" y="0"/>
                </a:lnTo>
              </a:path>
            </a:pathLst>
          </a:custGeom>
          <a:noFill/>
          <a:ln w="302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534000" y="3373560"/>
            <a:ext cx="19080" cy="144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630840" y="3362040"/>
            <a:ext cx="19080" cy="46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727680" y="3335400"/>
            <a:ext cx="19080" cy="936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8"/>
                </a:moveTo>
                <a:lnTo>
                  <a:pt x="4" y="7"/>
                </a:lnTo>
                <a:lnTo>
                  <a:pt x="16" y="0"/>
                </a:lnTo>
              </a:path>
            </a:pathLst>
          </a:custGeom>
          <a:noFill/>
          <a:ln w="302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824520" y="3279240"/>
            <a:ext cx="19080" cy="1116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921360" y="3236760"/>
            <a:ext cx="19080" cy="64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18200" y="3201840"/>
            <a:ext cx="19080" cy="792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6"/>
                </a:moveTo>
                <a:lnTo>
                  <a:pt x="5" y="4"/>
                </a:lnTo>
                <a:lnTo>
                  <a:pt x="16" y="0"/>
                </a:lnTo>
              </a:path>
            </a:pathLst>
          </a:custGeom>
          <a:noFill/>
          <a:ln w="302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115040" y="3165480"/>
            <a:ext cx="19080" cy="792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211880" y="3195720"/>
            <a:ext cx="19080" cy="1116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294680" y="3268800"/>
            <a:ext cx="936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343640" y="3365640"/>
            <a:ext cx="972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92960" y="3462480"/>
            <a:ext cx="972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440480" y="3559320"/>
            <a:ext cx="648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477200" y="3656160"/>
            <a:ext cx="792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513560" y="3753000"/>
            <a:ext cx="9720" cy="1908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553160" y="3849840"/>
            <a:ext cx="6480" cy="1872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222640" y="4348080"/>
            <a:ext cx="114120" cy="1144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355840" y="3821040"/>
            <a:ext cx="114480" cy="11592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490840" y="3429000"/>
            <a:ext cx="114120" cy="1144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624040" y="3084480"/>
            <a:ext cx="114480" cy="1047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66960" y="2768760"/>
            <a:ext cx="106560" cy="11412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01960" y="2614680"/>
            <a:ext cx="114120" cy="1062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35160" y="2701800"/>
            <a:ext cx="115920" cy="1144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170160" y="2844720"/>
            <a:ext cx="114480" cy="1144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303720" y="2624040"/>
            <a:ext cx="115920" cy="106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38360" y="2548080"/>
            <a:ext cx="114480" cy="11412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581280" y="2940120"/>
            <a:ext cx="104760" cy="11592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16280" y="4089240"/>
            <a:ext cx="114480" cy="1047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529160" y="3994200"/>
            <a:ext cx="115920" cy="11412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664160" y="3745080"/>
            <a:ext cx="114120" cy="11412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797360" y="3524400"/>
            <a:ext cx="114480" cy="115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11840" y="3429000"/>
            <a:ext cx="115920" cy="1144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56200" y="3390840"/>
            <a:ext cx="114120" cy="1144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180040" y="3419640"/>
            <a:ext cx="115920" cy="11412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343480" y="3371760"/>
            <a:ext cx="114480" cy="1144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67320" y="3236760"/>
            <a:ext cx="115920" cy="11592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92600" y="3132000"/>
            <a:ext cx="114480" cy="1047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754600" y="3103560"/>
            <a:ext cx="115920" cy="1047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80240" y="3170160"/>
            <a:ext cx="114120" cy="1047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013440" y="3246480"/>
            <a:ext cx="114480" cy="11592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146640" y="3305160"/>
            <a:ext cx="106560" cy="1144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272280" y="3343320"/>
            <a:ext cx="114120" cy="11412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396120" y="3314880"/>
            <a:ext cx="115920" cy="11412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40480" y="3314880"/>
            <a:ext cx="114480" cy="11412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73680" y="3284640"/>
            <a:ext cx="115920" cy="11592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827760" y="3198960"/>
            <a:ext cx="114480" cy="11592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961320" y="3151080"/>
            <a:ext cx="114120" cy="1047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095960" y="3103560"/>
            <a:ext cx="114480" cy="1047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19800" y="3179880"/>
            <a:ext cx="114480" cy="1047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72440" y="3476520"/>
            <a:ext cx="115920" cy="1144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507440" y="3821040"/>
            <a:ext cx="114120" cy="11592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144880" y="3314880"/>
            <a:ext cx="5290920" cy="261720"/>
          </a:xfrm>
          <a:custGeom>
            <a:avLst/>
            <a:gdLst/>
            <a:ahLst/>
            <a:rect l="l" t="t" r="r" b="b"/>
            <a:pathLst>
              <a:path w="4420" h="218">
                <a:moveTo>
                  <a:pt x="0" y="14"/>
                </a:moveTo>
                <a:lnTo>
                  <a:pt x="23" y="16"/>
                </a:lnTo>
                <a:lnTo>
                  <a:pt x="45" y="19"/>
                </a:lnTo>
                <a:lnTo>
                  <a:pt x="68" y="21"/>
                </a:lnTo>
                <a:lnTo>
                  <a:pt x="91" y="23"/>
                </a:lnTo>
                <a:lnTo>
                  <a:pt x="113" y="26"/>
                </a:lnTo>
                <a:lnTo>
                  <a:pt x="136" y="28"/>
                </a:lnTo>
                <a:lnTo>
                  <a:pt x="159" y="30"/>
                </a:lnTo>
                <a:lnTo>
                  <a:pt x="181" y="32"/>
                </a:lnTo>
                <a:lnTo>
                  <a:pt x="204" y="35"/>
                </a:lnTo>
                <a:lnTo>
                  <a:pt x="227" y="38"/>
                </a:lnTo>
                <a:lnTo>
                  <a:pt x="249" y="40"/>
                </a:lnTo>
                <a:lnTo>
                  <a:pt x="272" y="43"/>
                </a:lnTo>
                <a:lnTo>
                  <a:pt x="295" y="45"/>
                </a:lnTo>
                <a:lnTo>
                  <a:pt x="317" y="47"/>
                </a:lnTo>
                <a:lnTo>
                  <a:pt x="340" y="50"/>
                </a:lnTo>
                <a:lnTo>
                  <a:pt x="363" y="52"/>
                </a:lnTo>
                <a:lnTo>
                  <a:pt x="385" y="54"/>
                </a:lnTo>
                <a:lnTo>
                  <a:pt x="408" y="57"/>
                </a:lnTo>
                <a:lnTo>
                  <a:pt x="431" y="60"/>
                </a:lnTo>
                <a:lnTo>
                  <a:pt x="453" y="62"/>
                </a:lnTo>
                <a:lnTo>
                  <a:pt x="476" y="64"/>
                </a:lnTo>
                <a:lnTo>
                  <a:pt x="499" y="67"/>
                </a:lnTo>
                <a:lnTo>
                  <a:pt x="521" y="70"/>
                </a:lnTo>
                <a:lnTo>
                  <a:pt x="544" y="73"/>
                </a:lnTo>
                <a:lnTo>
                  <a:pt x="567" y="76"/>
                </a:lnTo>
                <a:lnTo>
                  <a:pt x="589" y="79"/>
                </a:lnTo>
                <a:lnTo>
                  <a:pt x="612" y="82"/>
                </a:lnTo>
                <a:lnTo>
                  <a:pt x="635" y="85"/>
                </a:lnTo>
                <a:lnTo>
                  <a:pt x="657" y="88"/>
                </a:lnTo>
                <a:lnTo>
                  <a:pt x="680" y="91"/>
                </a:lnTo>
                <a:lnTo>
                  <a:pt x="703" y="93"/>
                </a:lnTo>
                <a:lnTo>
                  <a:pt x="725" y="96"/>
                </a:lnTo>
                <a:lnTo>
                  <a:pt x="748" y="99"/>
                </a:lnTo>
                <a:lnTo>
                  <a:pt x="771" y="101"/>
                </a:lnTo>
                <a:lnTo>
                  <a:pt x="793" y="104"/>
                </a:lnTo>
                <a:lnTo>
                  <a:pt x="816" y="107"/>
                </a:lnTo>
                <a:lnTo>
                  <a:pt x="839" y="109"/>
                </a:lnTo>
                <a:lnTo>
                  <a:pt x="861" y="112"/>
                </a:lnTo>
                <a:lnTo>
                  <a:pt x="884" y="114"/>
                </a:lnTo>
                <a:lnTo>
                  <a:pt x="907" y="117"/>
                </a:lnTo>
                <a:lnTo>
                  <a:pt x="929" y="120"/>
                </a:lnTo>
                <a:lnTo>
                  <a:pt x="952" y="122"/>
                </a:lnTo>
                <a:lnTo>
                  <a:pt x="975" y="125"/>
                </a:lnTo>
                <a:lnTo>
                  <a:pt x="997" y="127"/>
                </a:lnTo>
                <a:lnTo>
                  <a:pt x="1020" y="130"/>
                </a:lnTo>
                <a:lnTo>
                  <a:pt x="1043" y="132"/>
                </a:lnTo>
                <a:lnTo>
                  <a:pt x="1065" y="134"/>
                </a:lnTo>
                <a:lnTo>
                  <a:pt x="1088" y="136"/>
                </a:lnTo>
                <a:lnTo>
                  <a:pt x="1111" y="138"/>
                </a:lnTo>
                <a:lnTo>
                  <a:pt x="1133" y="140"/>
                </a:lnTo>
                <a:lnTo>
                  <a:pt x="1156" y="141"/>
                </a:lnTo>
                <a:lnTo>
                  <a:pt x="1179" y="143"/>
                </a:lnTo>
                <a:lnTo>
                  <a:pt x="1201" y="145"/>
                </a:lnTo>
                <a:lnTo>
                  <a:pt x="1224" y="147"/>
                </a:lnTo>
                <a:lnTo>
                  <a:pt x="1247" y="149"/>
                </a:lnTo>
                <a:lnTo>
                  <a:pt x="1269" y="150"/>
                </a:lnTo>
                <a:lnTo>
                  <a:pt x="1292" y="152"/>
                </a:lnTo>
                <a:lnTo>
                  <a:pt x="1315" y="154"/>
                </a:lnTo>
                <a:lnTo>
                  <a:pt x="1337" y="156"/>
                </a:lnTo>
                <a:lnTo>
                  <a:pt x="1360" y="157"/>
                </a:lnTo>
                <a:lnTo>
                  <a:pt x="1383" y="159"/>
                </a:lnTo>
                <a:lnTo>
                  <a:pt x="1405" y="160"/>
                </a:lnTo>
                <a:lnTo>
                  <a:pt x="1428" y="162"/>
                </a:lnTo>
                <a:lnTo>
                  <a:pt x="1451" y="163"/>
                </a:lnTo>
                <a:lnTo>
                  <a:pt x="1473" y="164"/>
                </a:lnTo>
                <a:lnTo>
                  <a:pt x="1496" y="166"/>
                </a:lnTo>
                <a:lnTo>
                  <a:pt x="1519" y="167"/>
                </a:lnTo>
                <a:lnTo>
                  <a:pt x="1541" y="169"/>
                </a:lnTo>
                <a:lnTo>
                  <a:pt x="1564" y="170"/>
                </a:lnTo>
                <a:lnTo>
                  <a:pt x="1587" y="171"/>
                </a:lnTo>
                <a:lnTo>
                  <a:pt x="1609" y="173"/>
                </a:lnTo>
                <a:lnTo>
                  <a:pt x="1632" y="174"/>
                </a:lnTo>
                <a:lnTo>
                  <a:pt x="1655" y="176"/>
                </a:lnTo>
                <a:lnTo>
                  <a:pt x="1677" y="177"/>
                </a:lnTo>
                <a:lnTo>
                  <a:pt x="1700" y="179"/>
                </a:lnTo>
                <a:lnTo>
                  <a:pt x="1723" y="180"/>
                </a:lnTo>
                <a:lnTo>
                  <a:pt x="1745" y="181"/>
                </a:lnTo>
                <a:lnTo>
                  <a:pt x="1768" y="183"/>
                </a:lnTo>
                <a:lnTo>
                  <a:pt x="1791" y="184"/>
                </a:lnTo>
                <a:lnTo>
                  <a:pt x="1813" y="185"/>
                </a:lnTo>
                <a:lnTo>
                  <a:pt x="1836" y="186"/>
                </a:lnTo>
                <a:lnTo>
                  <a:pt x="1859" y="188"/>
                </a:lnTo>
                <a:lnTo>
                  <a:pt x="1881" y="189"/>
                </a:lnTo>
                <a:lnTo>
                  <a:pt x="1904" y="190"/>
                </a:lnTo>
                <a:lnTo>
                  <a:pt x="1927" y="191"/>
                </a:lnTo>
                <a:lnTo>
                  <a:pt x="1949" y="193"/>
                </a:lnTo>
                <a:lnTo>
                  <a:pt x="1972" y="194"/>
                </a:lnTo>
                <a:lnTo>
                  <a:pt x="1995" y="195"/>
                </a:lnTo>
                <a:lnTo>
                  <a:pt x="2017" y="196"/>
                </a:lnTo>
                <a:lnTo>
                  <a:pt x="2040" y="198"/>
                </a:lnTo>
                <a:lnTo>
                  <a:pt x="2063" y="199"/>
                </a:lnTo>
                <a:lnTo>
                  <a:pt x="2085" y="200"/>
                </a:lnTo>
                <a:lnTo>
                  <a:pt x="2108" y="202"/>
                </a:lnTo>
                <a:lnTo>
                  <a:pt x="2131" y="203"/>
                </a:lnTo>
                <a:lnTo>
                  <a:pt x="2153" y="204"/>
                </a:lnTo>
                <a:lnTo>
                  <a:pt x="2176" y="205"/>
                </a:lnTo>
                <a:lnTo>
                  <a:pt x="2199" y="206"/>
                </a:lnTo>
                <a:lnTo>
                  <a:pt x="2221" y="207"/>
                </a:lnTo>
                <a:lnTo>
                  <a:pt x="2244" y="208"/>
                </a:lnTo>
                <a:lnTo>
                  <a:pt x="2267" y="209"/>
                </a:lnTo>
                <a:lnTo>
                  <a:pt x="2289" y="210"/>
                </a:lnTo>
                <a:lnTo>
                  <a:pt x="2312" y="211"/>
                </a:lnTo>
                <a:lnTo>
                  <a:pt x="2334" y="212"/>
                </a:lnTo>
                <a:lnTo>
                  <a:pt x="2357" y="212"/>
                </a:lnTo>
                <a:lnTo>
                  <a:pt x="2380" y="213"/>
                </a:lnTo>
                <a:lnTo>
                  <a:pt x="2402" y="214"/>
                </a:lnTo>
                <a:lnTo>
                  <a:pt x="2425" y="214"/>
                </a:lnTo>
                <a:lnTo>
                  <a:pt x="2448" y="215"/>
                </a:lnTo>
                <a:lnTo>
                  <a:pt x="2470" y="216"/>
                </a:lnTo>
                <a:lnTo>
                  <a:pt x="2493" y="216"/>
                </a:lnTo>
                <a:lnTo>
                  <a:pt x="2516" y="217"/>
                </a:lnTo>
                <a:lnTo>
                  <a:pt x="2538" y="217"/>
                </a:lnTo>
                <a:lnTo>
                  <a:pt x="2561" y="217"/>
                </a:lnTo>
                <a:lnTo>
                  <a:pt x="2584" y="218"/>
                </a:lnTo>
                <a:lnTo>
                  <a:pt x="2606" y="218"/>
                </a:lnTo>
                <a:lnTo>
                  <a:pt x="2629" y="218"/>
                </a:lnTo>
                <a:lnTo>
                  <a:pt x="2652" y="218"/>
                </a:lnTo>
                <a:lnTo>
                  <a:pt x="2674" y="218"/>
                </a:lnTo>
                <a:lnTo>
                  <a:pt x="2697" y="218"/>
                </a:lnTo>
                <a:lnTo>
                  <a:pt x="2720" y="218"/>
                </a:lnTo>
                <a:lnTo>
                  <a:pt x="2742" y="218"/>
                </a:lnTo>
                <a:lnTo>
                  <a:pt x="2765" y="218"/>
                </a:lnTo>
                <a:lnTo>
                  <a:pt x="2788" y="217"/>
                </a:lnTo>
                <a:lnTo>
                  <a:pt x="2810" y="217"/>
                </a:lnTo>
                <a:lnTo>
                  <a:pt x="2833" y="217"/>
                </a:lnTo>
                <a:lnTo>
                  <a:pt x="2856" y="216"/>
                </a:lnTo>
                <a:lnTo>
                  <a:pt x="2878" y="216"/>
                </a:lnTo>
                <a:lnTo>
                  <a:pt x="2901" y="216"/>
                </a:lnTo>
                <a:lnTo>
                  <a:pt x="2924" y="215"/>
                </a:lnTo>
                <a:lnTo>
                  <a:pt x="2946" y="215"/>
                </a:lnTo>
                <a:lnTo>
                  <a:pt x="2969" y="214"/>
                </a:lnTo>
                <a:lnTo>
                  <a:pt x="2992" y="214"/>
                </a:lnTo>
                <a:lnTo>
                  <a:pt x="3014" y="213"/>
                </a:lnTo>
                <a:lnTo>
                  <a:pt x="3037" y="212"/>
                </a:lnTo>
                <a:lnTo>
                  <a:pt x="3060" y="211"/>
                </a:lnTo>
                <a:lnTo>
                  <a:pt x="3082" y="210"/>
                </a:lnTo>
                <a:lnTo>
                  <a:pt x="3105" y="209"/>
                </a:lnTo>
                <a:lnTo>
                  <a:pt x="3128" y="208"/>
                </a:lnTo>
                <a:lnTo>
                  <a:pt x="3150" y="206"/>
                </a:lnTo>
                <a:lnTo>
                  <a:pt x="3173" y="205"/>
                </a:lnTo>
                <a:lnTo>
                  <a:pt x="3196" y="203"/>
                </a:lnTo>
                <a:lnTo>
                  <a:pt x="3218" y="201"/>
                </a:lnTo>
                <a:lnTo>
                  <a:pt x="3241" y="200"/>
                </a:lnTo>
                <a:lnTo>
                  <a:pt x="3264" y="199"/>
                </a:lnTo>
                <a:lnTo>
                  <a:pt x="3286" y="197"/>
                </a:lnTo>
                <a:lnTo>
                  <a:pt x="3309" y="196"/>
                </a:lnTo>
                <a:lnTo>
                  <a:pt x="3332" y="194"/>
                </a:lnTo>
                <a:lnTo>
                  <a:pt x="3354" y="192"/>
                </a:lnTo>
                <a:lnTo>
                  <a:pt x="3377" y="190"/>
                </a:lnTo>
                <a:lnTo>
                  <a:pt x="3400" y="188"/>
                </a:lnTo>
                <a:lnTo>
                  <a:pt x="3422" y="186"/>
                </a:lnTo>
                <a:lnTo>
                  <a:pt x="3445" y="184"/>
                </a:lnTo>
                <a:lnTo>
                  <a:pt x="3468" y="181"/>
                </a:lnTo>
                <a:lnTo>
                  <a:pt x="3490" y="178"/>
                </a:lnTo>
                <a:lnTo>
                  <a:pt x="3513" y="176"/>
                </a:lnTo>
                <a:lnTo>
                  <a:pt x="3536" y="173"/>
                </a:lnTo>
                <a:lnTo>
                  <a:pt x="3558" y="170"/>
                </a:lnTo>
                <a:lnTo>
                  <a:pt x="3581" y="168"/>
                </a:lnTo>
                <a:lnTo>
                  <a:pt x="3604" y="165"/>
                </a:lnTo>
                <a:lnTo>
                  <a:pt x="3626" y="163"/>
                </a:lnTo>
                <a:lnTo>
                  <a:pt x="3649" y="160"/>
                </a:lnTo>
                <a:lnTo>
                  <a:pt x="3672" y="157"/>
                </a:lnTo>
                <a:lnTo>
                  <a:pt x="3694" y="154"/>
                </a:lnTo>
                <a:lnTo>
                  <a:pt x="3717" y="151"/>
                </a:lnTo>
                <a:lnTo>
                  <a:pt x="3740" y="150"/>
                </a:lnTo>
                <a:lnTo>
                  <a:pt x="3762" y="145"/>
                </a:lnTo>
                <a:lnTo>
                  <a:pt x="3785" y="143"/>
                </a:lnTo>
                <a:lnTo>
                  <a:pt x="3808" y="138"/>
                </a:lnTo>
                <a:lnTo>
                  <a:pt x="3830" y="135"/>
                </a:lnTo>
                <a:lnTo>
                  <a:pt x="3853" y="132"/>
                </a:lnTo>
                <a:lnTo>
                  <a:pt x="3876" y="128"/>
                </a:lnTo>
                <a:lnTo>
                  <a:pt x="3898" y="124"/>
                </a:lnTo>
                <a:lnTo>
                  <a:pt x="3921" y="120"/>
                </a:lnTo>
                <a:lnTo>
                  <a:pt x="3944" y="116"/>
                </a:lnTo>
                <a:lnTo>
                  <a:pt x="3966" y="112"/>
                </a:lnTo>
                <a:lnTo>
                  <a:pt x="3989" y="109"/>
                </a:lnTo>
                <a:lnTo>
                  <a:pt x="4012" y="103"/>
                </a:lnTo>
                <a:lnTo>
                  <a:pt x="4034" y="99"/>
                </a:lnTo>
                <a:lnTo>
                  <a:pt x="4057" y="95"/>
                </a:lnTo>
                <a:lnTo>
                  <a:pt x="4080" y="93"/>
                </a:lnTo>
                <a:lnTo>
                  <a:pt x="4102" y="88"/>
                </a:lnTo>
                <a:lnTo>
                  <a:pt x="4125" y="82"/>
                </a:lnTo>
                <a:lnTo>
                  <a:pt x="4148" y="75"/>
                </a:lnTo>
                <a:lnTo>
                  <a:pt x="4170" y="72"/>
                </a:lnTo>
                <a:lnTo>
                  <a:pt x="4193" y="67"/>
                </a:lnTo>
                <a:lnTo>
                  <a:pt x="4216" y="59"/>
                </a:lnTo>
                <a:lnTo>
                  <a:pt x="4238" y="54"/>
                </a:lnTo>
                <a:lnTo>
                  <a:pt x="4261" y="46"/>
                </a:lnTo>
                <a:lnTo>
                  <a:pt x="4284" y="42"/>
                </a:lnTo>
                <a:lnTo>
                  <a:pt x="4306" y="35"/>
                </a:lnTo>
                <a:lnTo>
                  <a:pt x="4329" y="32"/>
                </a:lnTo>
                <a:lnTo>
                  <a:pt x="4352" y="24"/>
                </a:lnTo>
                <a:lnTo>
                  <a:pt x="4374" y="17"/>
                </a:lnTo>
                <a:lnTo>
                  <a:pt x="4397" y="9"/>
                </a:lnTo>
                <a:lnTo>
                  <a:pt x="4420" y="0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435800" y="3265560"/>
            <a:ext cx="135000" cy="49320"/>
          </a:xfrm>
          <a:custGeom>
            <a:avLst/>
            <a:gdLst/>
            <a:ahLst/>
            <a:rect l="l" t="t" r="r" b="b"/>
            <a:pathLst>
              <a:path w="113" h="41">
                <a:moveTo>
                  <a:pt x="0" y="41"/>
                </a:moveTo>
                <a:lnTo>
                  <a:pt x="22" y="34"/>
                </a:lnTo>
                <a:lnTo>
                  <a:pt x="45" y="26"/>
                </a:lnTo>
                <a:lnTo>
                  <a:pt x="68" y="24"/>
                </a:lnTo>
                <a:lnTo>
                  <a:pt x="90" y="16"/>
                </a:lnTo>
                <a:lnTo>
                  <a:pt x="113" y="0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211880" y="2867040"/>
            <a:ext cx="127080" cy="63360"/>
          </a:xfrm>
          <a:custGeom>
            <a:avLst/>
            <a:gdLst/>
            <a:ahLst/>
            <a:rect l="l" t="t" r="r" b="b"/>
            <a:pathLst>
              <a:path w="160" h="82">
                <a:moveTo>
                  <a:pt x="160" y="41"/>
                </a:moveTo>
                <a:lnTo>
                  <a:pt x="0" y="82"/>
                </a:lnTo>
                <a:lnTo>
                  <a:pt x="0" y="0"/>
                </a:lnTo>
                <a:lnTo>
                  <a:pt x="160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211880" y="2867040"/>
            <a:ext cx="127080" cy="63360"/>
          </a:xfrm>
          <a:custGeom>
            <a:avLst/>
            <a:gdLst/>
            <a:ahLst/>
            <a:rect l="l" t="t" r="r" b="b"/>
            <a:pathLst>
              <a:path w="160" h="82">
                <a:moveTo>
                  <a:pt x="160" y="41"/>
                </a:moveTo>
                <a:lnTo>
                  <a:pt x="0" y="82"/>
                </a:lnTo>
                <a:lnTo>
                  <a:pt x="0" y="0"/>
                </a:lnTo>
                <a:lnTo>
                  <a:pt x="160" y="41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48120" y="2867040"/>
            <a:ext cx="127080" cy="63360"/>
          </a:xfrm>
          <a:custGeom>
            <a:avLst/>
            <a:gdLst/>
            <a:ahLst/>
            <a:rect l="l" t="t" r="r" b="b"/>
            <a:pathLst>
              <a:path w="160" h="82">
                <a:moveTo>
                  <a:pt x="0" y="41"/>
                </a:moveTo>
                <a:lnTo>
                  <a:pt x="160" y="0"/>
                </a:lnTo>
                <a:lnTo>
                  <a:pt x="160" y="82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848120" y="2867040"/>
            <a:ext cx="127080" cy="63360"/>
          </a:xfrm>
          <a:custGeom>
            <a:avLst/>
            <a:gdLst/>
            <a:ahLst/>
            <a:rect l="l" t="t" r="r" b="b"/>
            <a:pathLst>
              <a:path w="160" h="82">
                <a:moveTo>
                  <a:pt x="0" y="41"/>
                </a:moveTo>
                <a:lnTo>
                  <a:pt x="160" y="0"/>
                </a:lnTo>
                <a:lnTo>
                  <a:pt x="160" y="82"/>
                </a:lnTo>
                <a:lnTo>
                  <a:pt x="0" y="41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75200" y="2898720"/>
            <a:ext cx="2236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89200" y="2263680"/>
            <a:ext cx="127080" cy="63720"/>
          </a:xfrm>
          <a:custGeom>
            <a:avLst/>
            <a:gdLst/>
            <a:ahLst/>
            <a:rect l="l" t="t" r="r" b="b"/>
            <a:pathLst>
              <a:path w="160" h="82">
                <a:moveTo>
                  <a:pt x="160" y="41"/>
                </a:moveTo>
                <a:lnTo>
                  <a:pt x="0" y="82"/>
                </a:lnTo>
                <a:lnTo>
                  <a:pt x="0" y="0"/>
                </a:lnTo>
                <a:lnTo>
                  <a:pt x="160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589200" y="2263680"/>
            <a:ext cx="127080" cy="63720"/>
          </a:xfrm>
          <a:custGeom>
            <a:avLst/>
            <a:gdLst/>
            <a:ahLst/>
            <a:rect l="l" t="t" r="r" b="b"/>
            <a:pathLst>
              <a:path w="160" h="82">
                <a:moveTo>
                  <a:pt x="160" y="41"/>
                </a:moveTo>
                <a:lnTo>
                  <a:pt x="0" y="82"/>
                </a:lnTo>
                <a:lnTo>
                  <a:pt x="0" y="0"/>
                </a:lnTo>
                <a:lnTo>
                  <a:pt x="160" y="41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604960" y="2263680"/>
            <a:ext cx="127080" cy="63720"/>
          </a:xfrm>
          <a:custGeom>
            <a:avLst/>
            <a:gdLst/>
            <a:ahLst/>
            <a:rect l="l" t="t" r="r" b="b"/>
            <a:pathLst>
              <a:path w="160" h="82">
                <a:moveTo>
                  <a:pt x="0" y="41"/>
                </a:moveTo>
                <a:lnTo>
                  <a:pt x="160" y="0"/>
                </a:lnTo>
                <a:lnTo>
                  <a:pt x="160" y="82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04960" y="2263680"/>
            <a:ext cx="127080" cy="63720"/>
          </a:xfrm>
          <a:custGeom>
            <a:avLst/>
            <a:gdLst/>
            <a:ahLst/>
            <a:rect l="l" t="t" r="r" b="b"/>
            <a:pathLst>
              <a:path w="160" h="82">
                <a:moveTo>
                  <a:pt x="0" y="41"/>
                </a:moveTo>
                <a:lnTo>
                  <a:pt x="160" y="0"/>
                </a:lnTo>
                <a:lnTo>
                  <a:pt x="160" y="82"/>
                </a:lnTo>
                <a:lnTo>
                  <a:pt x="0" y="41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732040" y="2295360"/>
            <a:ext cx="857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77640" y="2649600"/>
            <a:ext cx="69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 Unicode MS"/>
              </a:rPr>
              <a:t>91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651640" y="4724280"/>
            <a:ext cx="1944720" cy="96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30840" y="4867200"/>
            <a:ext cx="17640" cy="1800"/>
          </a:xfrm>
          <a:prstGeom prst="line">
            <a:avLst/>
          </a:prstGeom>
          <a:ln w="30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26240" y="4867200"/>
            <a:ext cx="19080" cy="1800"/>
          </a:xfrm>
          <a:prstGeom prst="line">
            <a:avLst/>
          </a:prstGeom>
          <a:ln w="30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923080" y="4867200"/>
            <a:ext cx="20520" cy="1800"/>
          </a:xfrm>
          <a:prstGeom prst="line">
            <a:avLst/>
          </a:prstGeom>
          <a:ln w="30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021360" y="4867200"/>
            <a:ext cx="19080" cy="1800"/>
          </a:xfrm>
          <a:prstGeom prst="line">
            <a:avLst/>
          </a:prstGeom>
          <a:ln w="30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861160" y="4816440"/>
            <a:ext cx="114120" cy="125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233760" y="477036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istributed g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730840" y="5103720"/>
            <a:ext cx="17640" cy="1800"/>
          </a:xfrm>
          <a:prstGeom prst="line">
            <a:avLst/>
          </a:prstGeom>
          <a:ln w="30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826240" y="5103720"/>
            <a:ext cx="19080" cy="1800"/>
          </a:xfrm>
          <a:prstGeom prst="line">
            <a:avLst/>
          </a:prstGeom>
          <a:ln w="30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23080" y="5103720"/>
            <a:ext cx="20520" cy="1800"/>
          </a:xfrm>
          <a:prstGeom prst="line">
            <a:avLst/>
          </a:prstGeom>
          <a:ln w="30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021360" y="5103720"/>
            <a:ext cx="19080" cy="1800"/>
          </a:xfrm>
          <a:prstGeom prst="line">
            <a:avLst/>
          </a:prstGeom>
          <a:ln w="30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857920" y="5052960"/>
            <a:ext cx="128520" cy="12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233040" y="5006880"/>
            <a:ext cx="96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iscrete g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30840" y="5338800"/>
            <a:ext cx="17640" cy="144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826240" y="5338800"/>
            <a:ext cx="19080" cy="144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23080" y="5338800"/>
            <a:ext cx="20520" cy="144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021360" y="5338800"/>
            <a:ext cx="19080" cy="1440"/>
          </a:xfrm>
          <a:prstGeom prst="line">
            <a:avLst/>
          </a:prstGeom>
          <a:ln w="30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861160" y="5286240"/>
            <a:ext cx="114120" cy="123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204960" y="52419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otal g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730840" y="5575320"/>
            <a:ext cx="3524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206760" y="5478480"/>
            <a:ext cx="69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iber lo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12320" y="2001960"/>
            <a:ext cx="69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 Unicode MS"/>
              </a:rPr>
              <a:t>41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ain bandwidth of optical amplifi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75214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ptical amplifier classifications (G. 662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Functional blocks 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GB" sz="2400" spc="-1" strike="noStrike">
                <a:solidFill>
                  <a:srgbClr val="ffff66"/>
                </a:solidFill>
                <a:latin typeface="Tahoma"/>
              </a:rPr>
              <a:t>Booster power Amplifier (BA)</a:t>
            </a:r>
            <a:r>
              <a:rPr b="0" lang="en-GB" sz="24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 high saturation-power OA device to be used directly after the optical transmitter to increase its signal power leve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GB" sz="2400" spc="-1" strike="noStrike">
                <a:solidFill>
                  <a:srgbClr val="ffff66"/>
                </a:solidFill>
                <a:latin typeface="Tahoma"/>
              </a:rPr>
              <a:t>Pre-Amplifier (PA)</a:t>
            </a:r>
            <a:r>
              <a:rPr b="0" lang="en-GB" sz="24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 very low noise OA device to be used directly before an optical receiver to improve its sensitiv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GB" sz="2400" spc="-1" strike="noStrike">
                <a:solidFill>
                  <a:srgbClr val="ffff66"/>
                </a:solidFill>
                <a:latin typeface="Tahoma"/>
              </a:rPr>
              <a:t>Line Amplifier (LA)</a:t>
            </a:r>
            <a:r>
              <a:rPr b="0" lang="en-GB" sz="24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 low noise OA device to be used between passive fibre sections to increase the regeneration lengths or in correspondence of a point-multipoint connection to compensate for branching losses in the optical access network.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pplications in each functional blocks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Implementation example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5723640" y="216864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66"/>
                </a:solidFill>
                <a:latin typeface="Arial"/>
              </a:rPr>
              <a:t>Pre-Amplif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99480" y="2035080"/>
            <a:ext cx="196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66"/>
                </a:solidFill>
                <a:latin typeface="Arial"/>
              </a:rPr>
              <a:t>Booster p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66"/>
                </a:solidFill>
                <a:latin typeface="Arial"/>
              </a:rPr>
              <a:t>Amplif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3640" y="216864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66"/>
                </a:solidFill>
                <a:latin typeface="Arial"/>
              </a:rPr>
              <a:t>Line Amplif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52520" y="3086280"/>
            <a:ext cx="8103960" cy="3028680"/>
            <a:chOff x="452520" y="3086280"/>
            <a:chExt cx="8103960" cy="3028680"/>
          </a:xfrm>
        </p:grpSpPr>
        <p:grpSp>
          <p:nvGrpSpPr>
            <p:cNvPr id="523" name=""/>
            <p:cNvGrpSpPr/>
            <p:nvPr/>
          </p:nvGrpSpPr>
          <p:grpSpPr>
            <a:xfrm>
              <a:off x="452520" y="3086280"/>
              <a:ext cx="8103960" cy="3028680"/>
              <a:chOff x="452520" y="3086280"/>
              <a:chExt cx="8103960" cy="3028680"/>
            </a:xfrm>
          </p:grpSpPr>
          <p:sp>
            <p:nvSpPr>
              <p:cNvPr id="524" name=""/>
              <p:cNvSpPr/>
              <p:nvPr/>
            </p:nvSpPr>
            <p:spPr>
              <a:xfrm>
                <a:off x="7475400" y="3086280"/>
                <a:ext cx="747720" cy="409320"/>
              </a:xfrm>
              <a:custGeom>
                <a:avLst/>
                <a:gdLst/>
                <a:ahLst/>
                <a:rect l="l" t="t" r="r" b="b"/>
                <a:pathLst>
                  <a:path w="471" h="258">
                    <a:moveTo>
                      <a:pt x="235" y="0"/>
                    </a:moveTo>
                    <a:lnTo>
                      <a:pt x="376" y="0"/>
                    </a:lnTo>
                    <a:lnTo>
                      <a:pt x="376" y="0"/>
                    </a:lnTo>
                    <a:lnTo>
                      <a:pt x="385" y="2"/>
                    </a:lnTo>
                    <a:lnTo>
                      <a:pt x="394" y="2"/>
                    </a:lnTo>
                    <a:lnTo>
                      <a:pt x="403" y="5"/>
                    </a:lnTo>
                    <a:lnTo>
                      <a:pt x="413" y="7"/>
                    </a:lnTo>
                    <a:lnTo>
                      <a:pt x="420" y="13"/>
                    </a:lnTo>
                    <a:lnTo>
                      <a:pt x="429" y="16"/>
                    </a:lnTo>
                    <a:lnTo>
                      <a:pt x="436" y="22"/>
                    </a:lnTo>
                    <a:lnTo>
                      <a:pt x="442" y="29"/>
                    </a:lnTo>
                    <a:lnTo>
                      <a:pt x="449" y="35"/>
                    </a:lnTo>
                    <a:lnTo>
                      <a:pt x="455" y="42"/>
                    </a:lnTo>
                    <a:lnTo>
                      <a:pt x="458" y="51"/>
                    </a:lnTo>
                    <a:lnTo>
                      <a:pt x="464" y="58"/>
                    </a:lnTo>
                    <a:lnTo>
                      <a:pt x="465" y="68"/>
                    </a:lnTo>
                    <a:lnTo>
                      <a:pt x="469" y="77"/>
                    </a:lnTo>
                    <a:lnTo>
                      <a:pt x="469" y="86"/>
                    </a:lnTo>
                    <a:lnTo>
                      <a:pt x="471" y="95"/>
                    </a:lnTo>
                    <a:lnTo>
                      <a:pt x="471" y="95"/>
                    </a:lnTo>
                    <a:lnTo>
                      <a:pt x="471" y="163"/>
                    </a:lnTo>
                    <a:lnTo>
                      <a:pt x="471" y="163"/>
                    </a:lnTo>
                    <a:lnTo>
                      <a:pt x="469" y="174"/>
                    </a:lnTo>
                    <a:lnTo>
                      <a:pt x="469" y="183"/>
                    </a:lnTo>
                    <a:lnTo>
                      <a:pt x="465" y="192"/>
                    </a:lnTo>
                    <a:lnTo>
                      <a:pt x="464" y="199"/>
                    </a:lnTo>
                    <a:lnTo>
                      <a:pt x="458" y="208"/>
                    </a:lnTo>
                    <a:lnTo>
                      <a:pt x="455" y="216"/>
                    </a:lnTo>
                    <a:lnTo>
                      <a:pt x="449" y="223"/>
                    </a:lnTo>
                    <a:lnTo>
                      <a:pt x="442" y="230"/>
                    </a:lnTo>
                    <a:lnTo>
                      <a:pt x="436" y="236"/>
                    </a:lnTo>
                    <a:lnTo>
                      <a:pt x="429" y="241"/>
                    </a:lnTo>
                    <a:lnTo>
                      <a:pt x="420" y="247"/>
                    </a:lnTo>
                    <a:lnTo>
                      <a:pt x="413" y="250"/>
                    </a:lnTo>
                    <a:lnTo>
                      <a:pt x="403" y="254"/>
                    </a:lnTo>
                    <a:lnTo>
                      <a:pt x="394" y="256"/>
                    </a:lnTo>
                    <a:lnTo>
                      <a:pt x="385" y="258"/>
                    </a:lnTo>
                    <a:lnTo>
                      <a:pt x="376" y="258"/>
                    </a:lnTo>
                    <a:lnTo>
                      <a:pt x="376" y="258"/>
                    </a:lnTo>
                    <a:lnTo>
                      <a:pt x="95" y="258"/>
                    </a:lnTo>
                    <a:lnTo>
                      <a:pt x="95" y="258"/>
                    </a:lnTo>
                    <a:lnTo>
                      <a:pt x="85" y="258"/>
                    </a:lnTo>
                    <a:lnTo>
                      <a:pt x="76" y="256"/>
                    </a:lnTo>
                    <a:lnTo>
                      <a:pt x="67" y="254"/>
                    </a:lnTo>
                    <a:lnTo>
                      <a:pt x="58" y="250"/>
                    </a:lnTo>
                    <a:lnTo>
                      <a:pt x="51" y="247"/>
                    </a:lnTo>
                    <a:lnTo>
                      <a:pt x="42" y="241"/>
                    </a:lnTo>
                    <a:lnTo>
                      <a:pt x="34" y="236"/>
                    </a:lnTo>
                    <a:lnTo>
                      <a:pt x="29" y="230"/>
                    </a:lnTo>
                    <a:lnTo>
                      <a:pt x="21" y="223"/>
                    </a:lnTo>
                    <a:lnTo>
                      <a:pt x="16" y="216"/>
                    </a:lnTo>
                    <a:lnTo>
                      <a:pt x="12" y="208"/>
                    </a:lnTo>
                    <a:lnTo>
                      <a:pt x="7" y="199"/>
                    </a:lnTo>
                    <a:lnTo>
                      <a:pt x="5" y="192"/>
                    </a:lnTo>
                    <a:lnTo>
                      <a:pt x="1" y="183"/>
                    </a:lnTo>
                    <a:lnTo>
                      <a:pt x="1" y="174"/>
                    </a:lnTo>
                    <a:lnTo>
                      <a:pt x="0" y="163"/>
                    </a:lnTo>
                    <a:lnTo>
                      <a:pt x="0" y="163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1" y="86"/>
                    </a:lnTo>
                    <a:lnTo>
                      <a:pt x="1" y="77"/>
                    </a:lnTo>
                    <a:lnTo>
                      <a:pt x="5" y="68"/>
                    </a:lnTo>
                    <a:lnTo>
                      <a:pt x="7" y="58"/>
                    </a:lnTo>
                    <a:lnTo>
                      <a:pt x="12" y="51"/>
                    </a:lnTo>
                    <a:lnTo>
                      <a:pt x="16" y="42"/>
                    </a:lnTo>
                    <a:lnTo>
                      <a:pt x="21" y="35"/>
                    </a:lnTo>
                    <a:lnTo>
                      <a:pt x="29" y="29"/>
                    </a:lnTo>
                    <a:lnTo>
                      <a:pt x="34" y="22"/>
                    </a:lnTo>
                    <a:lnTo>
                      <a:pt x="42" y="16"/>
                    </a:lnTo>
                    <a:lnTo>
                      <a:pt x="51" y="13"/>
                    </a:lnTo>
                    <a:lnTo>
                      <a:pt x="58" y="7"/>
                    </a:lnTo>
                    <a:lnTo>
                      <a:pt x="67" y="5"/>
                    </a:lnTo>
                    <a:lnTo>
                      <a:pt x="76" y="2"/>
                    </a:lnTo>
                    <a:lnTo>
                      <a:pt x="85" y="2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475400" y="3086280"/>
                <a:ext cx="747720" cy="409320"/>
              </a:xfrm>
              <a:custGeom>
                <a:avLst/>
                <a:gdLst/>
                <a:ahLst/>
                <a:rect l="l" t="t" r="r" b="b"/>
                <a:pathLst>
                  <a:path w="471" h="258">
                    <a:moveTo>
                      <a:pt x="235" y="0"/>
                    </a:moveTo>
                    <a:lnTo>
                      <a:pt x="376" y="0"/>
                    </a:lnTo>
                    <a:lnTo>
                      <a:pt x="376" y="0"/>
                    </a:lnTo>
                    <a:lnTo>
                      <a:pt x="385" y="2"/>
                    </a:lnTo>
                    <a:lnTo>
                      <a:pt x="394" y="2"/>
                    </a:lnTo>
                    <a:lnTo>
                      <a:pt x="403" y="5"/>
                    </a:lnTo>
                    <a:lnTo>
                      <a:pt x="413" y="7"/>
                    </a:lnTo>
                    <a:lnTo>
                      <a:pt x="420" y="13"/>
                    </a:lnTo>
                    <a:lnTo>
                      <a:pt x="429" y="16"/>
                    </a:lnTo>
                    <a:lnTo>
                      <a:pt x="436" y="22"/>
                    </a:lnTo>
                    <a:lnTo>
                      <a:pt x="442" y="29"/>
                    </a:lnTo>
                    <a:lnTo>
                      <a:pt x="449" y="35"/>
                    </a:lnTo>
                    <a:lnTo>
                      <a:pt x="455" y="42"/>
                    </a:lnTo>
                    <a:lnTo>
                      <a:pt x="458" y="51"/>
                    </a:lnTo>
                    <a:lnTo>
                      <a:pt x="464" y="58"/>
                    </a:lnTo>
                    <a:lnTo>
                      <a:pt x="465" y="68"/>
                    </a:lnTo>
                    <a:lnTo>
                      <a:pt x="469" y="77"/>
                    </a:lnTo>
                    <a:lnTo>
                      <a:pt x="469" y="86"/>
                    </a:lnTo>
                    <a:lnTo>
                      <a:pt x="471" y="95"/>
                    </a:lnTo>
                    <a:lnTo>
                      <a:pt x="471" y="95"/>
                    </a:lnTo>
                    <a:lnTo>
                      <a:pt x="471" y="163"/>
                    </a:lnTo>
                    <a:lnTo>
                      <a:pt x="471" y="163"/>
                    </a:lnTo>
                    <a:lnTo>
                      <a:pt x="469" y="174"/>
                    </a:lnTo>
                    <a:lnTo>
                      <a:pt x="469" y="183"/>
                    </a:lnTo>
                    <a:lnTo>
                      <a:pt x="465" y="192"/>
                    </a:lnTo>
                    <a:lnTo>
                      <a:pt x="464" y="199"/>
                    </a:lnTo>
                    <a:lnTo>
                      <a:pt x="458" y="208"/>
                    </a:lnTo>
                    <a:lnTo>
                      <a:pt x="455" y="216"/>
                    </a:lnTo>
                    <a:lnTo>
                      <a:pt x="449" y="223"/>
                    </a:lnTo>
                    <a:lnTo>
                      <a:pt x="442" y="230"/>
                    </a:lnTo>
                    <a:lnTo>
                      <a:pt x="436" y="236"/>
                    </a:lnTo>
                    <a:lnTo>
                      <a:pt x="429" y="241"/>
                    </a:lnTo>
                    <a:lnTo>
                      <a:pt x="420" y="247"/>
                    </a:lnTo>
                    <a:lnTo>
                      <a:pt x="413" y="250"/>
                    </a:lnTo>
                    <a:lnTo>
                      <a:pt x="403" y="254"/>
                    </a:lnTo>
                    <a:lnTo>
                      <a:pt x="394" y="256"/>
                    </a:lnTo>
                    <a:lnTo>
                      <a:pt x="385" y="258"/>
                    </a:lnTo>
                    <a:lnTo>
                      <a:pt x="376" y="258"/>
                    </a:lnTo>
                    <a:lnTo>
                      <a:pt x="376" y="258"/>
                    </a:lnTo>
                    <a:lnTo>
                      <a:pt x="95" y="258"/>
                    </a:lnTo>
                    <a:lnTo>
                      <a:pt x="95" y="258"/>
                    </a:lnTo>
                    <a:lnTo>
                      <a:pt x="85" y="258"/>
                    </a:lnTo>
                    <a:lnTo>
                      <a:pt x="76" y="256"/>
                    </a:lnTo>
                    <a:lnTo>
                      <a:pt x="67" y="254"/>
                    </a:lnTo>
                    <a:lnTo>
                      <a:pt x="58" y="250"/>
                    </a:lnTo>
                    <a:lnTo>
                      <a:pt x="51" y="247"/>
                    </a:lnTo>
                    <a:lnTo>
                      <a:pt x="42" y="241"/>
                    </a:lnTo>
                    <a:lnTo>
                      <a:pt x="34" y="236"/>
                    </a:lnTo>
                    <a:lnTo>
                      <a:pt x="29" y="230"/>
                    </a:lnTo>
                    <a:lnTo>
                      <a:pt x="21" y="223"/>
                    </a:lnTo>
                    <a:lnTo>
                      <a:pt x="16" y="216"/>
                    </a:lnTo>
                    <a:lnTo>
                      <a:pt x="12" y="208"/>
                    </a:lnTo>
                    <a:lnTo>
                      <a:pt x="7" y="199"/>
                    </a:lnTo>
                    <a:lnTo>
                      <a:pt x="5" y="192"/>
                    </a:lnTo>
                    <a:lnTo>
                      <a:pt x="1" y="183"/>
                    </a:lnTo>
                    <a:lnTo>
                      <a:pt x="1" y="174"/>
                    </a:lnTo>
                    <a:lnTo>
                      <a:pt x="0" y="163"/>
                    </a:lnTo>
                    <a:lnTo>
                      <a:pt x="0" y="163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1" y="86"/>
                    </a:lnTo>
                    <a:lnTo>
                      <a:pt x="1" y="77"/>
                    </a:lnTo>
                    <a:lnTo>
                      <a:pt x="5" y="68"/>
                    </a:lnTo>
                    <a:lnTo>
                      <a:pt x="7" y="58"/>
                    </a:lnTo>
                    <a:lnTo>
                      <a:pt x="12" y="51"/>
                    </a:lnTo>
                    <a:lnTo>
                      <a:pt x="16" y="42"/>
                    </a:lnTo>
                    <a:lnTo>
                      <a:pt x="21" y="35"/>
                    </a:lnTo>
                    <a:lnTo>
                      <a:pt x="29" y="29"/>
                    </a:lnTo>
                    <a:lnTo>
                      <a:pt x="34" y="22"/>
                    </a:lnTo>
                    <a:lnTo>
                      <a:pt x="42" y="16"/>
                    </a:lnTo>
                    <a:lnTo>
                      <a:pt x="51" y="13"/>
                    </a:lnTo>
                    <a:lnTo>
                      <a:pt x="58" y="7"/>
                    </a:lnTo>
                    <a:lnTo>
                      <a:pt x="67" y="5"/>
                    </a:lnTo>
                    <a:lnTo>
                      <a:pt x="76" y="2"/>
                    </a:lnTo>
                    <a:lnTo>
                      <a:pt x="85" y="2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235" y="0"/>
                    </a:lnTo>
                  </a:path>
                </a:pathLst>
              </a:custGeom>
              <a:noFill/>
              <a:ln w="34920">
                <a:solidFill>
                  <a:srgbClr val="60b85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630920" y="3166920"/>
                <a:ext cx="1454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764480" y="3166920"/>
                <a:ext cx="1684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988760" y="316692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702320" y="3086280"/>
                <a:ext cx="1412640" cy="680760"/>
              </a:xfrm>
              <a:custGeom>
                <a:avLst/>
                <a:gdLst/>
                <a:ahLst/>
                <a:rect l="l" t="t" r="r" b="b"/>
                <a:pathLst>
                  <a:path w="890" h="429">
                    <a:moveTo>
                      <a:pt x="445" y="0"/>
                    </a:moveTo>
                    <a:lnTo>
                      <a:pt x="795" y="0"/>
                    </a:lnTo>
                    <a:lnTo>
                      <a:pt x="795" y="0"/>
                    </a:lnTo>
                    <a:lnTo>
                      <a:pt x="804" y="2"/>
                    </a:lnTo>
                    <a:lnTo>
                      <a:pt x="815" y="2"/>
                    </a:lnTo>
                    <a:lnTo>
                      <a:pt x="824" y="5"/>
                    </a:lnTo>
                    <a:lnTo>
                      <a:pt x="831" y="7"/>
                    </a:lnTo>
                    <a:lnTo>
                      <a:pt x="840" y="13"/>
                    </a:lnTo>
                    <a:lnTo>
                      <a:pt x="848" y="16"/>
                    </a:lnTo>
                    <a:lnTo>
                      <a:pt x="855" y="22"/>
                    </a:lnTo>
                    <a:lnTo>
                      <a:pt x="862" y="29"/>
                    </a:lnTo>
                    <a:lnTo>
                      <a:pt x="868" y="35"/>
                    </a:lnTo>
                    <a:lnTo>
                      <a:pt x="873" y="42"/>
                    </a:lnTo>
                    <a:lnTo>
                      <a:pt x="879" y="51"/>
                    </a:lnTo>
                    <a:lnTo>
                      <a:pt x="882" y="58"/>
                    </a:lnTo>
                    <a:lnTo>
                      <a:pt x="886" y="68"/>
                    </a:lnTo>
                    <a:lnTo>
                      <a:pt x="888" y="77"/>
                    </a:lnTo>
                    <a:lnTo>
                      <a:pt x="890" y="86"/>
                    </a:lnTo>
                    <a:lnTo>
                      <a:pt x="890" y="95"/>
                    </a:lnTo>
                    <a:lnTo>
                      <a:pt x="890" y="95"/>
                    </a:lnTo>
                    <a:lnTo>
                      <a:pt x="890" y="334"/>
                    </a:lnTo>
                    <a:lnTo>
                      <a:pt x="890" y="334"/>
                    </a:lnTo>
                    <a:lnTo>
                      <a:pt x="890" y="345"/>
                    </a:lnTo>
                    <a:lnTo>
                      <a:pt x="888" y="354"/>
                    </a:lnTo>
                    <a:lnTo>
                      <a:pt x="886" y="364"/>
                    </a:lnTo>
                    <a:lnTo>
                      <a:pt x="882" y="373"/>
                    </a:lnTo>
                    <a:lnTo>
                      <a:pt x="879" y="380"/>
                    </a:lnTo>
                    <a:lnTo>
                      <a:pt x="873" y="387"/>
                    </a:lnTo>
                    <a:lnTo>
                      <a:pt x="868" y="395"/>
                    </a:lnTo>
                    <a:lnTo>
                      <a:pt x="862" y="402"/>
                    </a:lnTo>
                    <a:lnTo>
                      <a:pt x="855" y="409"/>
                    </a:lnTo>
                    <a:lnTo>
                      <a:pt x="848" y="415"/>
                    </a:lnTo>
                    <a:lnTo>
                      <a:pt x="840" y="418"/>
                    </a:lnTo>
                    <a:lnTo>
                      <a:pt x="831" y="422"/>
                    </a:lnTo>
                    <a:lnTo>
                      <a:pt x="824" y="426"/>
                    </a:lnTo>
                    <a:lnTo>
                      <a:pt x="815" y="428"/>
                    </a:lnTo>
                    <a:lnTo>
                      <a:pt x="804" y="429"/>
                    </a:lnTo>
                    <a:lnTo>
                      <a:pt x="795" y="429"/>
                    </a:lnTo>
                    <a:lnTo>
                      <a:pt x="795" y="429"/>
                    </a:lnTo>
                    <a:lnTo>
                      <a:pt x="95" y="429"/>
                    </a:lnTo>
                    <a:lnTo>
                      <a:pt x="95" y="429"/>
                    </a:lnTo>
                    <a:lnTo>
                      <a:pt x="86" y="429"/>
                    </a:lnTo>
                    <a:lnTo>
                      <a:pt x="76" y="428"/>
                    </a:lnTo>
                    <a:lnTo>
                      <a:pt x="67" y="426"/>
                    </a:lnTo>
                    <a:lnTo>
                      <a:pt x="58" y="422"/>
                    </a:lnTo>
                    <a:lnTo>
                      <a:pt x="51" y="418"/>
                    </a:lnTo>
                    <a:lnTo>
                      <a:pt x="42" y="415"/>
                    </a:lnTo>
                    <a:lnTo>
                      <a:pt x="34" y="409"/>
                    </a:lnTo>
                    <a:lnTo>
                      <a:pt x="29" y="402"/>
                    </a:lnTo>
                    <a:lnTo>
                      <a:pt x="22" y="395"/>
                    </a:lnTo>
                    <a:lnTo>
                      <a:pt x="16" y="387"/>
                    </a:lnTo>
                    <a:lnTo>
                      <a:pt x="12" y="380"/>
                    </a:lnTo>
                    <a:lnTo>
                      <a:pt x="7" y="373"/>
                    </a:lnTo>
                    <a:lnTo>
                      <a:pt x="5" y="364"/>
                    </a:lnTo>
                    <a:lnTo>
                      <a:pt x="1" y="354"/>
                    </a:lnTo>
                    <a:lnTo>
                      <a:pt x="0" y="345"/>
                    </a:lnTo>
                    <a:lnTo>
                      <a:pt x="0" y="334"/>
                    </a:lnTo>
                    <a:lnTo>
                      <a:pt x="0" y="334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86"/>
                    </a:lnTo>
                    <a:lnTo>
                      <a:pt x="1" y="77"/>
                    </a:lnTo>
                    <a:lnTo>
                      <a:pt x="5" y="68"/>
                    </a:lnTo>
                    <a:lnTo>
                      <a:pt x="7" y="58"/>
                    </a:lnTo>
                    <a:lnTo>
                      <a:pt x="12" y="51"/>
                    </a:lnTo>
                    <a:lnTo>
                      <a:pt x="16" y="42"/>
                    </a:lnTo>
                    <a:lnTo>
                      <a:pt x="22" y="35"/>
                    </a:lnTo>
                    <a:lnTo>
                      <a:pt x="29" y="29"/>
                    </a:lnTo>
                    <a:lnTo>
                      <a:pt x="34" y="22"/>
                    </a:lnTo>
                    <a:lnTo>
                      <a:pt x="42" y="16"/>
                    </a:lnTo>
                    <a:lnTo>
                      <a:pt x="51" y="13"/>
                    </a:lnTo>
                    <a:lnTo>
                      <a:pt x="58" y="7"/>
                    </a:lnTo>
                    <a:lnTo>
                      <a:pt x="67" y="5"/>
                    </a:lnTo>
                    <a:lnTo>
                      <a:pt x="76" y="2"/>
                    </a:lnTo>
                    <a:lnTo>
                      <a:pt x="86" y="2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4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02320" y="3086280"/>
                <a:ext cx="1412640" cy="680760"/>
              </a:xfrm>
              <a:custGeom>
                <a:avLst/>
                <a:gdLst/>
                <a:ahLst/>
                <a:rect l="l" t="t" r="r" b="b"/>
                <a:pathLst>
                  <a:path w="890" h="429">
                    <a:moveTo>
                      <a:pt x="445" y="0"/>
                    </a:moveTo>
                    <a:lnTo>
                      <a:pt x="795" y="0"/>
                    </a:lnTo>
                    <a:lnTo>
                      <a:pt x="795" y="0"/>
                    </a:lnTo>
                    <a:lnTo>
                      <a:pt x="804" y="2"/>
                    </a:lnTo>
                    <a:lnTo>
                      <a:pt x="815" y="2"/>
                    </a:lnTo>
                    <a:lnTo>
                      <a:pt x="824" y="5"/>
                    </a:lnTo>
                    <a:lnTo>
                      <a:pt x="831" y="7"/>
                    </a:lnTo>
                    <a:lnTo>
                      <a:pt x="840" y="13"/>
                    </a:lnTo>
                    <a:lnTo>
                      <a:pt x="848" y="16"/>
                    </a:lnTo>
                    <a:lnTo>
                      <a:pt x="855" y="22"/>
                    </a:lnTo>
                    <a:lnTo>
                      <a:pt x="862" y="29"/>
                    </a:lnTo>
                    <a:lnTo>
                      <a:pt x="868" y="35"/>
                    </a:lnTo>
                    <a:lnTo>
                      <a:pt x="873" y="42"/>
                    </a:lnTo>
                    <a:lnTo>
                      <a:pt x="879" y="51"/>
                    </a:lnTo>
                    <a:lnTo>
                      <a:pt x="882" y="58"/>
                    </a:lnTo>
                    <a:lnTo>
                      <a:pt x="886" y="68"/>
                    </a:lnTo>
                    <a:lnTo>
                      <a:pt x="888" y="77"/>
                    </a:lnTo>
                    <a:lnTo>
                      <a:pt x="890" y="86"/>
                    </a:lnTo>
                    <a:lnTo>
                      <a:pt x="890" y="95"/>
                    </a:lnTo>
                    <a:lnTo>
                      <a:pt x="890" y="95"/>
                    </a:lnTo>
                    <a:lnTo>
                      <a:pt x="890" y="334"/>
                    </a:lnTo>
                    <a:lnTo>
                      <a:pt x="890" y="334"/>
                    </a:lnTo>
                    <a:lnTo>
                      <a:pt x="890" y="345"/>
                    </a:lnTo>
                    <a:lnTo>
                      <a:pt x="888" y="354"/>
                    </a:lnTo>
                    <a:lnTo>
                      <a:pt x="886" y="364"/>
                    </a:lnTo>
                    <a:lnTo>
                      <a:pt x="882" y="373"/>
                    </a:lnTo>
                    <a:lnTo>
                      <a:pt x="879" y="380"/>
                    </a:lnTo>
                    <a:lnTo>
                      <a:pt x="873" y="387"/>
                    </a:lnTo>
                    <a:lnTo>
                      <a:pt x="868" y="395"/>
                    </a:lnTo>
                    <a:lnTo>
                      <a:pt x="862" y="402"/>
                    </a:lnTo>
                    <a:lnTo>
                      <a:pt x="855" y="409"/>
                    </a:lnTo>
                    <a:lnTo>
                      <a:pt x="848" y="415"/>
                    </a:lnTo>
                    <a:lnTo>
                      <a:pt x="840" y="418"/>
                    </a:lnTo>
                    <a:lnTo>
                      <a:pt x="831" y="422"/>
                    </a:lnTo>
                    <a:lnTo>
                      <a:pt x="824" y="426"/>
                    </a:lnTo>
                    <a:lnTo>
                      <a:pt x="815" y="428"/>
                    </a:lnTo>
                    <a:lnTo>
                      <a:pt x="804" y="429"/>
                    </a:lnTo>
                    <a:lnTo>
                      <a:pt x="795" y="429"/>
                    </a:lnTo>
                    <a:lnTo>
                      <a:pt x="795" y="429"/>
                    </a:lnTo>
                    <a:lnTo>
                      <a:pt x="95" y="429"/>
                    </a:lnTo>
                    <a:lnTo>
                      <a:pt x="95" y="429"/>
                    </a:lnTo>
                    <a:lnTo>
                      <a:pt x="86" y="429"/>
                    </a:lnTo>
                    <a:lnTo>
                      <a:pt x="76" y="428"/>
                    </a:lnTo>
                    <a:lnTo>
                      <a:pt x="67" y="426"/>
                    </a:lnTo>
                    <a:lnTo>
                      <a:pt x="58" y="422"/>
                    </a:lnTo>
                    <a:lnTo>
                      <a:pt x="51" y="418"/>
                    </a:lnTo>
                    <a:lnTo>
                      <a:pt x="42" y="415"/>
                    </a:lnTo>
                    <a:lnTo>
                      <a:pt x="34" y="409"/>
                    </a:lnTo>
                    <a:lnTo>
                      <a:pt x="29" y="402"/>
                    </a:lnTo>
                    <a:lnTo>
                      <a:pt x="22" y="395"/>
                    </a:lnTo>
                    <a:lnTo>
                      <a:pt x="16" y="387"/>
                    </a:lnTo>
                    <a:lnTo>
                      <a:pt x="12" y="380"/>
                    </a:lnTo>
                    <a:lnTo>
                      <a:pt x="7" y="373"/>
                    </a:lnTo>
                    <a:lnTo>
                      <a:pt x="5" y="364"/>
                    </a:lnTo>
                    <a:lnTo>
                      <a:pt x="1" y="354"/>
                    </a:lnTo>
                    <a:lnTo>
                      <a:pt x="0" y="345"/>
                    </a:lnTo>
                    <a:lnTo>
                      <a:pt x="0" y="334"/>
                    </a:lnTo>
                    <a:lnTo>
                      <a:pt x="0" y="334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86"/>
                    </a:lnTo>
                    <a:lnTo>
                      <a:pt x="1" y="77"/>
                    </a:lnTo>
                    <a:lnTo>
                      <a:pt x="5" y="68"/>
                    </a:lnTo>
                    <a:lnTo>
                      <a:pt x="7" y="58"/>
                    </a:lnTo>
                    <a:lnTo>
                      <a:pt x="12" y="51"/>
                    </a:lnTo>
                    <a:lnTo>
                      <a:pt x="16" y="42"/>
                    </a:lnTo>
                    <a:lnTo>
                      <a:pt x="22" y="35"/>
                    </a:lnTo>
                    <a:lnTo>
                      <a:pt x="29" y="29"/>
                    </a:lnTo>
                    <a:lnTo>
                      <a:pt x="34" y="22"/>
                    </a:lnTo>
                    <a:lnTo>
                      <a:pt x="42" y="16"/>
                    </a:lnTo>
                    <a:lnTo>
                      <a:pt x="51" y="13"/>
                    </a:lnTo>
                    <a:lnTo>
                      <a:pt x="58" y="7"/>
                    </a:lnTo>
                    <a:lnTo>
                      <a:pt x="67" y="5"/>
                    </a:lnTo>
                    <a:lnTo>
                      <a:pt x="76" y="2"/>
                    </a:lnTo>
                    <a:lnTo>
                      <a:pt x="86" y="2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445" y="0"/>
                    </a:lnTo>
                  </a:path>
                </a:pathLst>
              </a:custGeom>
              <a:noFill/>
              <a:ln w="34920">
                <a:solidFill>
                  <a:srgbClr val="e8893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80520" y="315900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033880" y="31590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097240" y="315900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216040" y="3159000"/>
                <a:ext cx="72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289840" y="3159000"/>
                <a:ext cx="84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373720" y="31590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34920" y="315900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568120" y="315900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701680" y="3159000"/>
                <a:ext cx="72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775120" y="315900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896800" y="315900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880520" y="340848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035320" y="340848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159160" y="3408480"/>
                <a:ext cx="192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351040" y="340848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73080" y="340848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663560" y="3086280"/>
                <a:ext cx="1886040" cy="884160"/>
              </a:xfrm>
              <a:custGeom>
                <a:avLst/>
                <a:gdLst/>
                <a:ahLst/>
                <a:rect l="l" t="t" r="r" b="b"/>
                <a:pathLst>
                  <a:path w="1188" h="557">
                    <a:moveTo>
                      <a:pt x="594" y="0"/>
                    </a:moveTo>
                    <a:lnTo>
                      <a:pt x="1093" y="0"/>
                    </a:lnTo>
                    <a:lnTo>
                      <a:pt x="1093" y="0"/>
                    </a:lnTo>
                    <a:lnTo>
                      <a:pt x="1102" y="2"/>
                    </a:lnTo>
                    <a:lnTo>
                      <a:pt x="1111" y="2"/>
                    </a:lnTo>
                    <a:lnTo>
                      <a:pt x="1121" y="5"/>
                    </a:lnTo>
                    <a:lnTo>
                      <a:pt x="1130" y="7"/>
                    </a:lnTo>
                    <a:lnTo>
                      <a:pt x="1139" y="13"/>
                    </a:lnTo>
                    <a:lnTo>
                      <a:pt x="1146" y="16"/>
                    </a:lnTo>
                    <a:lnTo>
                      <a:pt x="1153" y="22"/>
                    </a:lnTo>
                    <a:lnTo>
                      <a:pt x="1161" y="29"/>
                    </a:lnTo>
                    <a:lnTo>
                      <a:pt x="1166" y="35"/>
                    </a:lnTo>
                    <a:lnTo>
                      <a:pt x="1172" y="42"/>
                    </a:lnTo>
                    <a:lnTo>
                      <a:pt x="1177" y="51"/>
                    </a:lnTo>
                    <a:lnTo>
                      <a:pt x="1181" y="58"/>
                    </a:lnTo>
                    <a:lnTo>
                      <a:pt x="1185" y="68"/>
                    </a:lnTo>
                    <a:lnTo>
                      <a:pt x="1186" y="77"/>
                    </a:lnTo>
                    <a:lnTo>
                      <a:pt x="1188" y="86"/>
                    </a:lnTo>
                    <a:lnTo>
                      <a:pt x="1188" y="95"/>
                    </a:lnTo>
                    <a:lnTo>
                      <a:pt x="1188" y="95"/>
                    </a:lnTo>
                    <a:lnTo>
                      <a:pt x="1188" y="462"/>
                    </a:lnTo>
                    <a:lnTo>
                      <a:pt x="1188" y="462"/>
                    </a:lnTo>
                    <a:lnTo>
                      <a:pt x="1188" y="471"/>
                    </a:lnTo>
                    <a:lnTo>
                      <a:pt x="1186" y="481"/>
                    </a:lnTo>
                    <a:lnTo>
                      <a:pt x="1185" y="490"/>
                    </a:lnTo>
                    <a:lnTo>
                      <a:pt x="1181" y="499"/>
                    </a:lnTo>
                    <a:lnTo>
                      <a:pt x="1177" y="506"/>
                    </a:lnTo>
                    <a:lnTo>
                      <a:pt x="1172" y="515"/>
                    </a:lnTo>
                    <a:lnTo>
                      <a:pt x="1166" y="523"/>
                    </a:lnTo>
                    <a:lnTo>
                      <a:pt x="1161" y="528"/>
                    </a:lnTo>
                    <a:lnTo>
                      <a:pt x="1153" y="535"/>
                    </a:lnTo>
                    <a:lnTo>
                      <a:pt x="1146" y="541"/>
                    </a:lnTo>
                    <a:lnTo>
                      <a:pt x="1139" y="544"/>
                    </a:lnTo>
                    <a:lnTo>
                      <a:pt x="1130" y="550"/>
                    </a:lnTo>
                    <a:lnTo>
                      <a:pt x="1121" y="552"/>
                    </a:lnTo>
                    <a:lnTo>
                      <a:pt x="1111" y="555"/>
                    </a:lnTo>
                    <a:lnTo>
                      <a:pt x="1102" y="555"/>
                    </a:lnTo>
                    <a:lnTo>
                      <a:pt x="1093" y="557"/>
                    </a:lnTo>
                    <a:lnTo>
                      <a:pt x="1093" y="557"/>
                    </a:lnTo>
                    <a:lnTo>
                      <a:pt x="95" y="557"/>
                    </a:lnTo>
                    <a:lnTo>
                      <a:pt x="95" y="557"/>
                    </a:lnTo>
                    <a:lnTo>
                      <a:pt x="85" y="555"/>
                    </a:lnTo>
                    <a:lnTo>
                      <a:pt x="75" y="555"/>
                    </a:lnTo>
                    <a:lnTo>
                      <a:pt x="66" y="552"/>
                    </a:lnTo>
                    <a:lnTo>
                      <a:pt x="59" y="550"/>
                    </a:lnTo>
                    <a:lnTo>
                      <a:pt x="50" y="544"/>
                    </a:lnTo>
                    <a:lnTo>
                      <a:pt x="42" y="541"/>
                    </a:lnTo>
                    <a:lnTo>
                      <a:pt x="35" y="535"/>
                    </a:lnTo>
                    <a:lnTo>
                      <a:pt x="28" y="528"/>
                    </a:lnTo>
                    <a:lnTo>
                      <a:pt x="22" y="523"/>
                    </a:lnTo>
                    <a:lnTo>
                      <a:pt x="17" y="515"/>
                    </a:lnTo>
                    <a:lnTo>
                      <a:pt x="11" y="506"/>
                    </a:lnTo>
                    <a:lnTo>
                      <a:pt x="8" y="499"/>
                    </a:lnTo>
                    <a:lnTo>
                      <a:pt x="4" y="490"/>
                    </a:lnTo>
                    <a:lnTo>
                      <a:pt x="2" y="481"/>
                    </a:lnTo>
                    <a:lnTo>
                      <a:pt x="0" y="471"/>
                    </a:lnTo>
                    <a:lnTo>
                      <a:pt x="0" y="462"/>
                    </a:lnTo>
                    <a:lnTo>
                      <a:pt x="0" y="462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86"/>
                    </a:lnTo>
                    <a:lnTo>
                      <a:pt x="2" y="77"/>
                    </a:lnTo>
                    <a:lnTo>
                      <a:pt x="4" y="68"/>
                    </a:lnTo>
                    <a:lnTo>
                      <a:pt x="8" y="58"/>
                    </a:lnTo>
                    <a:lnTo>
                      <a:pt x="11" y="51"/>
                    </a:lnTo>
                    <a:lnTo>
                      <a:pt x="17" y="42"/>
                    </a:lnTo>
                    <a:lnTo>
                      <a:pt x="22" y="35"/>
                    </a:lnTo>
                    <a:lnTo>
                      <a:pt x="28" y="29"/>
                    </a:lnTo>
                    <a:lnTo>
                      <a:pt x="35" y="22"/>
                    </a:lnTo>
                    <a:lnTo>
                      <a:pt x="42" y="16"/>
                    </a:lnTo>
                    <a:lnTo>
                      <a:pt x="50" y="13"/>
                    </a:lnTo>
                    <a:lnTo>
                      <a:pt x="59" y="7"/>
                    </a:lnTo>
                    <a:lnTo>
                      <a:pt x="66" y="5"/>
                    </a:lnTo>
                    <a:lnTo>
                      <a:pt x="75" y="2"/>
                    </a:lnTo>
                    <a:lnTo>
                      <a:pt x="85" y="2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59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663560" y="3086280"/>
                <a:ext cx="1886040" cy="884160"/>
              </a:xfrm>
              <a:custGeom>
                <a:avLst/>
                <a:gdLst/>
                <a:ahLst/>
                <a:rect l="l" t="t" r="r" b="b"/>
                <a:pathLst>
                  <a:path w="1188" h="557">
                    <a:moveTo>
                      <a:pt x="594" y="0"/>
                    </a:moveTo>
                    <a:lnTo>
                      <a:pt x="1093" y="0"/>
                    </a:lnTo>
                    <a:lnTo>
                      <a:pt x="1093" y="0"/>
                    </a:lnTo>
                    <a:lnTo>
                      <a:pt x="1102" y="2"/>
                    </a:lnTo>
                    <a:lnTo>
                      <a:pt x="1111" y="2"/>
                    </a:lnTo>
                    <a:lnTo>
                      <a:pt x="1121" y="5"/>
                    </a:lnTo>
                    <a:lnTo>
                      <a:pt x="1130" y="7"/>
                    </a:lnTo>
                    <a:lnTo>
                      <a:pt x="1139" y="13"/>
                    </a:lnTo>
                    <a:lnTo>
                      <a:pt x="1146" y="16"/>
                    </a:lnTo>
                    <a:lnTo>
                      <a:pt x="1153" y="22"/>
                    </a:lnTo>
                    <a:lnTo>
                      <a:pt x="1161" y="29"/>
                    </a:lnTo>
                    <a:lnTo>
                      <a:pt x="1166" y="35"/>
                    </a:lnTo>
                    <a:lnTo>
                      <a:pt x="1172" y="42"/>
                    </a:lnTo>
                    <a:lnTo>
                      <a:pt x="1177" y="51"/>
                    </a:lnTo>
                    <a:lnTo>
                      <a:pt x="1181" y="58"/>
                    </a:lnTo>
                    <a:lnTo>
                      <a:pt x="1185" y="68"/>
                    </a:lnTo>
                    <a:lnTo>
                      <a:pt x="1186" y="77"/>
                    </a:lnTo>
                    <a:lnTo>
                      <a:pt x="1188" y="86"/>
                    </a:lnTo>
                    <a:lnTo>
                      <a:pt x="1188" y="95"/>
                    </a:lnTo>
                    <a:lnTo>
                      <a:pt x="1188" y="95"/>
                    </a:lnTo>
                    <a:lnTo>
                      <a:pt x="1188" y="462"/>
                    </a:lnTo>
                    <a:lnTo>
                      <a:pt x="1188" y="462"/>
                    </a:lnTo>
                    <a:lnTo>
                      <a:pt x="1188" y="471"/>
                    </a:lnTo>
                    <a:lnTo>
                      <a:pt x="1186" y="481"/>
                    </a:lnTo>
                    <a:lnTo>
                      <a:pt x="1185" y="490"/>
                    </a:lnTo>
                    <a:lnTo>
                      <a:pt x="1181" y="499"/>
                    </a:lnTo>
                    <a:lnTo>
                      <a:pt x="1177" y="506"/>
                    </a:lnTo>
                    <a:lnTo>
                      <a:pt x="1172" y="515"/>
                    </a:lnTo>
                    <a:lnTo>
                      <a:pt x="1166" y="523"/>
                    </a:lnTo>
                    <a:lnTo>
                      <a:pt x="1161" y="528"/>
                    </a:lnTo>
                    <a:lnTo>
                      <a:pt x="1153" y="535"/>
                    </a:lnTo>
                    <a:lnTo>
                      <a:pt x="1146" y="541"/>
                    </a:lnTo>
                    <a:lnTo>
                      <a:pt x="1139" y="544"/>
                    </a:lnTo>
                    <a:lnTo>
                      <a:pt x="1130" y="550"/>
                    </a:lnTo>
                    <a:lnTo>
                      <a:pt x="1121" y="552"/>
                    </a:lnTo>
                    <a:lnTo>
                      <a:pt x="1111" y="555"/>
                    </a:lnTo>
                    <a:lnTo>
                      <a:pt x="1102" y="555"/>
                    </a:lnTo>
                    <a:lnTo>
                      <a:pt x="1093" y="557"/>
                    </a:lnTo>
                    <a:lnTo>
                      <a:pt x="1093" y="557"/>
                    </a:lnTo>
                    <a:lnTo>
                      <a:pt x="95" y="557"/>
                    </a:lnTo>
                    <a:lnTo>
                      <a:pt x="95" y="557"/>
                    </a:lnTo>
                    <a:lnTo>
                      <a:pt x="85" y="555"/>
                    </a:lnTo>
                    <a:lnTo>
                      <a:pt x="75" y="555"/>
                    </a:lnTo>
                    <a:lnTo>
                      <a:pt x="66" y="552"/>
                    </a:lnTo>
                    <a:lnTo>
                      <a:pt x="59" y="550"/>
                    </a:lnTo>
                    <a:lnTo>
                      <a:pt x="50" y="544"/>
                    </a:lnTo>
                    <a:lnTo>
                      <a:pt x="42" y="541"/>
                    </a:lnTo>
                    <a:lnTo>
                      <a:pt x="35" y="535"/>
                    </a:lnTo>
                    <a:lnTo>
                      <a:pt x="28" y="528"/>
                    </a:lnTo>
                    <a:lnTo>
                      <a:pt x="22" y="523"/>
                    </a:lnTo>
                    <a:lnTo>
                      <a:pt x="17" y="515"/>
                    </a:lnTo>
                    <a:lnTo>
                      <a:pt x="11" y="506"/>
                    </a:lnTo>
                    <a:lnTo>
                      <a:pt x="8" y="499"/>
                    </a:lnTo>
                    <a:lnTo>
                      <a:pt x="4" y="490"/>
                    </a:lnTo>
                    <a:lnTo>
                      <a:pt x="2" y="481"/>
                    </a:lnTo>
                    <a:lnTo>
                      <a:pt x="0" y="471"/>
                    </a:lnTo>
                    <a:lnTo>
                      <a:pt x="0" y="462"/>
                    </a:lnTo>
                    <a:lnTo>
                      <a:pt x="0" y="462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86"/>
                    </a:lnTo>
                    <a:lnTo>
                      <a:pt x="2" y="77"/>
                    </a:lnTo>
                    <a:lnTo>
                      <a:pt x="4" y="68"/>
                    </a:lnTo>
                    <a:lnTo>
                      <a:pt x="8" y="58"/>
                    </a:lnTo>
                    <a:lnTo>
                      <a:pt x="11" y="51"/>
                    </a:lnTo>
                    <a:lnTo>
                      <a:pt x="17" y="42"/>
                    </a:lnTo>
                    <a:lnTo>
                      <a:pt x="22" y="35"/>
                    </a:lnTo>
                    <a:lnTo>
                      <a:pt x="28" y="29"/>
                    </a:lnTo>
                    <a:lnTo>
                      <a:pt x="35" y="22"/>
                    </a:lnTo>
                    <a:lnTo>
                      <a:pt x="42" y="16"/>
                    </a:lnTo>
                    <a:lnTo>
                      <a:pt x="50" y="13"/>
                    </a:lnTo>
                    <a:lnTo>
                      <a:pt x="59" y="7"/>
                    </a:lnTo>
                    <a:lnTo>
                      <a:pt x="66" y="5"/>
                    </a:lnTo>
                    <a:lnTo>
                      <a:pt x="75" y="2"/>
                    </a:lnTo>
                    <a:lnTo>
                      <a:pt x="85" y="2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594" y="0"/>
                    </a:lnTo>
                  </a:path>
                </a:pathLst>
              </a:custGeom>
              <a:noFill/>
              <a:ln w="34920">
                <a:solidFill>
                  <a:srgbClr val="3a8c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40320" y="3159000"/>
                <a:ext cx="1454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984680" y="315900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140920" y="315900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257920" y="315900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39240" y="340848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973520" y="340848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27960" y="340848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245320" y="340848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840320" y="366084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994040" y="366084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057040" y="36608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177640" y="36608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299320" y="3660840"/>
                <a:ext cx="84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384280" y="36608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504520" y="3660840"/>
                <a:ext cx="72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79400" y="36608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762640" y="366084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917440" y="36608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041280" y="3660840"/>
                <a:ext cx="192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233520" y="36608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55200" y="366084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937200" y="3952800"/>
                <a:ext cx="144468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37200" y="4289400"/>
                <a:ext cx="144468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937200" y="4643280"/>
                <a:ext cx="144468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937200" y="5951520"/>
                <a:ext cx="144468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76200" y="4896000"/>
                <a:ext cx="5702400" cy="1440"/>
              </a:xfrm>
              <a:prstGeom prst="line">
                <a:avLst/>
              </a:prstGeom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0240" y="3952800"/>
                <a:ext cx="46692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0240" y="4289400"/>
                <a:ext cx="4669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60240" y="4643280"/>
                <a:ext cx="46692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60240" y="5951520"/>
                <a:ext cx="4669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122560" y="4471920"/>
                <a:ext cx="136440" cy="409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127240" y="4476600"/>
                <a:ext cx="127080" cy="40032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165400" y="4476600"/>
                <a:ext cx="123840" cy="40032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97160" y="4626000"/>
                <a:ext cx="603000" cy="563400"/>
              </a:xfrm>
              <a:custGeom>
                <a:avLst/>
                <a:gdLst/>
                <a:ahLst/>
                <a:rect l="l" t="t" r="r" b="b"/>
                <a:pathLst>
                  <a:path w="380" h="355">
                    <a:moveTo>
                      <a:pt x="0" y="0"/>
                    </a:moveTo>
                    <a:lnTo>
                      <a:pt x="0" y="355"/>
                    </a:lnTo>
                    <a:lnTo>
                      <a:pt x="380" y="1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97160" y="4626000"/>
                <a:ext cx="603000" cy="563400"/>
              </a:xfrm>
              <a:custGeom>
                <a:avLst/>
                <a:gdLst/>
                <a:ahLst/>
                <a:rect l="l" t="t" r="r" b="b"/>
                <a:pathLst>
                  <a:path w="380" h="355">
                    <a:moveTo>
                      <a:pt x="0" y="0"/>
                    </a:moveTo>
                    <a:lnTo>
                      <a:pt x="0" y="355"/>
                    </a:lnTo>
                    <a:lnTo>
                      <a:pt x="380" y="17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505160" y="4808520"/>
                <a:ext cx="1486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35840" y="480852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52520" y="5846760"/>
                <a:ext cx="396720" cy="21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7200" y="5851440"/>
                <a:ext cx="387360" cy="2034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8720" y="587232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41160" y="5872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13880" y="5872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52520" y="4538520"/>
                <a:ext cx="396720" cy="21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57200" y="4543560"/>
                <a:ext cx="387360" cy="203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58720" y="45640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41160" y="456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15680" y="456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52520" y="4194000"/>
                <a:ext cx="396720" cy="21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57200" y="4199040"/>
                <a:ext cx="387360" cy="2016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8720" y="421956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41160" y="4219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15680" y="4219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52520" y="3849840"/>
                <a:ext cx="396720" cy="21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57200" y="3854520"/>
                <a:ext cx="387360" cy="2016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58720" y="38750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1160" y="3875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15680" y="3875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42960" y="4861080"/>
                <a:ext cx="1440" cy="34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42960" y="4957920"/>
                <a:ext cx="1440" cy="363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42960" y="5056200"/>
                <a:ext cx="1440" cy="34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42960" y="5151600"/>
                <a:ext cx="1440" cy="34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42960" y="5246640"/>
                <a:ext cx="1440" cy="381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42960" y="5345280"/>
                <a:ext cx="1440" cy="34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42960" y="5442120"/>
                <a:ext cx="1440" cy="34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42960" y="5537160"/>
                <a:ext cx="1440" cy="381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42960" y="5635800"/>
                <a:ext cx="1440" cy="34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42960" y="573084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038240" y="3840120"/>
                <a:ext cx="263520" cy="2208240"/>
              </a:xfrm>
              <a:custGeom>
                <a:avLst/>
                <a:gdLst/>
                <a:ahLst/>
                <a:rect l="l" t="t" r="r" b="b"/>
                <a:pathLst>
                  <a:path w="166" h="1391">
                    <a:moveTo>
                      <a:pt x="0" y="0"/>
                    </a:moveTo>
                    <a:lnTo>
                      <a:pt x="0" y="1391"/>
                    </a:lnTo>
                    <a:lnTo>
                      <a:pt x="166" y="1323"/>
                    </a:lnTo>
                    <a:lnTo>
                      <a:pt x="166" y="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038240" y="3840120"/>
                <a:ext cx="263520" cy="2208240"/>
              </a:xfrm>
              <a:custGeom>
                <a:avLst/>
                <a:gdLst/>
                <a:ahLst/>
                <a:rect l="l" t="t" r="r" b="b"/>
                <a:pathLst>
                  <a:path w="166" h="1391">
                    <a:moveTo>
                      <a:pt x="0" y="0"/>
                    </a:moveTo>
                    <a:lnTo>
                      <a:pt x="0" y="1391"/>
                    </a:lnTo>
                    <a:lnTo>
                      <a:pt x="166" y="1323"/>
                    </a:lnTo>
                    <a:lnTo>
                      <a:pt x="166" y="7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145520" y="441792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119240" y="4805280"/>
                <a:ext cx="1807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136880" y="5194440"/>
                <a:ext cx="1486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692520" y="4471920"/>
                <a:ext cx="133200" cy="409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697200" y="4476600"/>
                <a:ext cx="123840" cy="40032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732120" y="4476600"/>
                <a:ext cx="127080" cy="40032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967120" y="4626000"/>
                <a:ext cx="606240" cy="563400"/>
              </a:xfrm>
              <a:custGeom>
                <a:avLst/>
                <a:gdLst/>
                <a:ahLst/>
                <a:rect l="l" t="t" r="r" b="b"/>
                <a:pathLst>
                  <a:path w="382" h="355">
                    <a:moveTo>
                      <a:pt x="0" y="0"/>
                    </a:moveTo>
                    <a:lnTo>
                      <a:pt x="0" y="355"/>
                    </a:lnTo>
                    <a:lnTo>
                      <a:pt x="382" y="1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967120" y="4626000"/>
                <a:ext cx="606240" cy="563400"/>
              </a:xfrm>
              <a:custGeom>
                <a:avLst/>
                <a:gdLst/>
                <a:ahLst/>
                <a:rect l="l" t="t" r="r" b="b"/>
                <a:pathLst>
                  <a:path w="382" h="355">
                    <a:moveTo>
                      <a:pt x="0" y="0"/>
                    </a:moveTo>
                    <a:lnTo>
                      <a:pt x="0" y="355"/>
                    </a:lnTo>
                    <a:lnTo>
                      <a:pt x="382" y="17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076920" y="4808520"/>
                <a:ext cx="1486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7600" y="480852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257800" y="4471920"/>
                <a:ext cx="136440" cy="409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262480" y="4476600"/>
                <a:ext cx="127080" cy="40032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289480" y="4476600"/>
                <a:ext cx="135000" cy="40032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30600" y="4626000"/>
                <a:ext cx="606600" cy="563400"/>
              </a:xfrm>
              <a:custGeom>
                <a:avLst/>
                <a:gdLst/>
                <a:ahLst/>
                <a:rect l="l" t="t" r="r" b="b"/>
                <a:pathLst>
                  <a:path w="382" h="355">
                    <a:moveTo>
                      <a:pt x="0" y="0"/>
                    </a:moveTo>
                    <a:lnTo>
                      <a:pt x="0" y="355"/>
                    </a:lnTo>
                    <a:lnTo>
                      <a:pt x="382" y="1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530600" y="4626000"/>
                <a:ext cx="606600" cy="563400"/>
              </a:xfrm>
              <a:custGeom>
                <a:avLst/>
                <a:gdLst/>
                <a:ahLst/>
                <a:rect l="l" t="t" r="r" b="b"/>
                <a:pathLst>
                  <a:path w="382" h="355">
                    <a:moveTo>
                      <a:pt x="0" y="0"/>
                    </a:moveTo>
                    <a:lnTo>
                      <a:pt x="0" y="355"/>
                    </a:lnTo>
                    <a:lnTo>
                      <a:pt x="382" y="17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640400" y="4808520"/>
                <a:ext cx="1486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771440" y="480852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77080" y="3840120"/>
                <a:ext cx="266760" cy="2208240"/>
              </a:xfrm>
              <a:custGeom>
                <a:avLst/>
                <a:gdLst/>
                <a:ahLst/>
                <a:rect l="l" t="t" r="r" b="b"/>
                <a:pathLst>
                  <a:path w="168" h="1391">
                    <a:moveTo>
                      <a:pt x="168" y="0"/>
                    </a:moveTo>
                    <a:lnTo>
                      <a:pt x="168" y="1391"/>
                    </a:lnTo>
                    <a:lnTo>
                      <a:pt x="0" y="1323"/>
                    </a:lnTo>
                    <a:lnTo>
                      <a:pt x="0" y="73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877080" y="3840120"/>
                <a:ext cx="266760" cy="2208240"/>
              </a:xfrm>
              <a:custGeom>
                <a:avLst/>
                <a:gdLst/>
                <a:ahLst/>
                <a:rect l="l" t="t" r="r" b="b"/>
                <a:pathLst>
                  <a:path w="168" h="1391">
                    <a:moveTo>
                      <a:pt x="168" y="0"/>
                    </a:moveTo>
                    <a:lnTo>
                      <a:pt x="168" y="1391"/>
                    </a:lnTo>
                    <a:lnTo>
                      <a:pt x="0" y="1323"/>
                    </a:lnTo>
                    <a:lnTo>
                      <a:pt x="0" y="73"/>
                    </a:lnTo>
                    <a:lnTo>
                      <a:pt x="1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984360" y="441468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962760" y="4803840"/>
                <a:ext cx="1807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978960" y="5191200"/>
                <a:ext cx="1486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5713560" y="4933440"/>
                <a:ext cx="1440" cy="459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586480" y="4772160"/>
                <a:ext cx="243000" cy="245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591160" y="4776840"/>
                <a:ext cx="233280" cy="23652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632560" y="4821120"/>
                <a:ext cx="163440" cy="162000"/>
              </a:xfrm>
              <a:custGeom>
                <a:avLst/>
                <a:gdLst/>
                <a:ahLst/>
                <a:rect l="l" t="t" r="r" b="b"/>
                <a:pathLst>
                  <a:path w="103" h="102">
                    <a:moveTo>
                      <a:pt x="0" y="51"/>
                    </a:moveTo>
                    <a:lnTo>
                      <a:pt x="4" y="31"/>
                    </a:lnTo>
                    <a:lnTo>
                      <a:pt x="15" y="14"/>
                    </a:lnTo>
                    <a:lnTo>
                      <a:pt x="31" y="3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71" y="5"/>
                    </a:lnTo>
                    <a:lnTo>
                      <a:pt x="88" y="16"/>
                    </a:lnTo>
                    <a:lnTo>
                      <a:pt x="99" y="33"/>
                    </a:lnTo>
                    <a:lnTo>
                      <a:pt x="103" y="53"/>
                    </a:lnTo>
                    <a:lnTo>
                      <a:pt x="103" y="53"/>
                    </a:lnTo>
                    <a:lnTo>
                      <a:pt x="97" y="71"/>
                    </a:lnTo>
                    <a:lnTo>
                      <a:pt x="86" y="87"/>
                    </a:lnTo>
                    <a:lnTo>
                      <a:pt x="70" y="98"/>
                    </a:lnTo>
                    <a:lnTo>
                      <a:pt x="50" y="102"/>
                    </a:lnTo>
                    <a:lnTo>
                      <a:pt x="50" y="102"/>
                    </a:lnTo>
                    <a:lnTo>
                      <a:pt x="42" y="102"/>
                    </a:lnTo>
                    <a:lnTo>
                      <a:pt x="37" y="100"/>
                    </a:lnTo>
                    <a:lnTo>
                      <a:pt x="37" y="100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632560" y="4821120"/>
                <a:ext cx="163440" cy="162000"/>
              </a:xfrm>
              <a:custGeom>
                <a:avLst/>
                <a:gdLst/>
                <a:ahLst/>
                <a:rect l="l" t="t" r="r" b="b"/>
                <a:pathLst>
                  <a:path w="103" h="102">
                    <a:moveTo>
                      <a:pt x="0" y="51"/>
                    </a:moveTo>
                    <a:lnTo>
                      <a:pt x="4" y="31"/>
                    </a:lnTo>
                    <a:lnTo>
                      <a:pt x="15" y="14"/>
                    </a:lnTo>
                    <a:lnTo>
                      <a:pt x="31" y="3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71" y="5"/>
                    </a:lnTo>
                    <a:lnTo>
                      <a:pt x="88" y="16"/>
                    </a:lnTo>
                    <a:lnTo>
                      <a:pt x="99" y="33"/>
                    </a:lnTo>
                    <a:lnTo>
                      <a:pt x="103" y="53"/>
                    </a:lnTo>
                    <a:lnTo>
                      <a:pt x="103" y="53"/>
                    </a:lnTo>
                    <a:lnTo>
                      <a:pt x="97" y="71"/>
                    </a:lnTo>
                    <a:lnTo>
                      <a:pt x="86" y="87"/>
                    </a:lnTo>
                    <a:lnTo>
                      <a:pt x="70" y="98"/>
                    </a:lnTo>
                    <a:lnTo>
                      <a:pt x="50" y="102"/>
                    </a:lnTo>
                    <a:lnTo>
                      <a:pt x="50" y="102"/>
                    </a:lnTo>
                    <a:lnTo>
                      <a:pt x="42" y="102"/>
                    </a:lnTo>
                    <a:lnTo>
                      <a:pt x="37" y="10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691240" y="4979880"/>
                <a:ext cx="34920" cy="23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345280" y="5229360"/>
                <a:ext cx="739440" cy="39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349960" y="5234040"/>
                <a:ext cx="730080" cy="3826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450760" y="5254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552640" y="5254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623920" y="5254560"/>
                <a:ext cx="136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746320" y="5254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821200" y="525456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451480" y="54118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533920" y="54118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615640" y="5411880"/>
                <a:ext cx="136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736960" y="54118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857920" y="54118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938200" y="54118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159760" y="5842080"/>
                <a:ext cx="396720" cy="21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164440" y="5846760"/>
                <a:ext cx="387360" cy="2016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262360" y="5870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362800" y="5870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436960" y="5870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159760" y="4533840"/>
                <a:ext cx="396720" cy="21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164440" y="4538520"/>
                <a:ext cx="387360" cy="2016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262360" y="4562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362800" y="4562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438760" y="4562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159760" y="4187880"/>
                <a:ext cx="396720" cy="21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164440" y="4192560"/>
                <a:ext cx="387360" cy="2034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262360" y="4216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362800" y="4216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438760" y="4216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159760" y="3843360"/>
                <a:ext cx="396720" cy="21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164440" y="3848040"/>
                <a:ext cx="387360" cy="2016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262360" y="38718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362800" y="3871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438760" y="3871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118360" y="4856040"/>
                <a:ext cx="1800" cy="36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118360" y="4954680"/>
                <a:ext cx="1800" cy="34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118360" y="5049720"/>
                <a:ext cx="1800" cy="381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118360" y="5145120"/>
                <a:ext cx="1800" cy="381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118360" y="5243400"/>
                <a:ext cx="1800" cy="34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118360" y="5340240"/>
                <a:ext cx="1800" cy="36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118360" y="5435640"/>
                <a:ext cx="1800" cy="381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118360" y="5533920"/>
                <a:ext cx="1800" cy="34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118360" y="5629320"/>
                <a:ext cx="1800" cy="381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118360" y="572616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24880" y="3805200"/>
                <a:ext cx="306360" cy="308160"/>
              </a:xfrm>
              <a:custGeom>
                <a:avLst/>
                <a:gdLst/>
                <a:ahLst/>
                <a:rect l="l" t="t" r="r" b="b"/>
                <a:pathLst>
                  <a:path w="193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93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724880" y="3805200"/>
                <a:ext cx="306360" cy="308160"/>
              </a:xfrm>
              <a:custGeom>
                <a:avLst/>
                <a:gdLst/>
                <a:ahLst/>
                <a:rect l="l" t="t" r="r" b="b"/>
                <a:pathLst>
                  <a:path w="193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93" y="9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742160" y="390384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29"/>
                    </a:moveTo>
                    <a:lnTo>
                      <a:pt x="1" y="22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5" y="11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43" y="2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8" y="17"/>
                    </a:lnTo>
                    <a:lnTo>
                      <a:pt x="60" y="29"/>
                    </a:lnTo>
                    <a:lnTo>
                      <a:pt x="60" y="29"/>
                    </a:lnTo>
                    <a:lnTo>
                      <a:pt x="58" y="42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43" y="57"/>
                    </a:lnTo>
                    <a:lnTo>
                      <a:pt x="31" y="61"/>
                    </a:lnTo>
                    <a:lnTo>
                      <a:pt x="31" y="61"/>
                    </a:lnTo>
                    <a:lnTo>
                      <a:pt x="18" y="57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3" y="4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  <a:moveTo>
                      <a:pt x="12" y="29"/>
                    </a:moveTo>
                    <a:lnTo>
                      <a:pt x="14" y="39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23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8" y="50"/>
                    </a:lnTo>
                    <a:lnTo>
                      <a:pt x="43" y="46"/>
                    </a:lnTo>
                    <a:lnTo>
                      <a:pt x="43" y="46"/>
                    </a:lnTo>
                    <a:lnTo>
                      <a:pt x="47" y="3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7" y="20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38" y="11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3" y="11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4" y="20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843680" y="3906720"/>
                <a:ext cx="95400" cy="90720"/>
              </a:xfrm>
              <a:custGeom>
                <a:avLst/>
                <a:gdLst/>
                <a:ahLst/>
                <a:rect l="l" t="t" r="r" b="b"/>
                <a:pathLst>
                  <a:path w="60" h="57">
                    <a:moveTo>
                      <a:pt x="60" y="57"/>
                    </a:moveTo>
                    <a:lnTo>
                      <a:pt x="47" y="57"/>
                    </a:lnTo>
                    <a:lnTo>
                      <a:pt x="47" y="57"/>
                    </a:lnTo>
                    <a:lnTo>
                      <a:pt x="43" y="44"/>
                    </a:lnTo>
                    <a:lnTo>
                      <a:pt x="43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60" y="57"/>
                    </a:lnTo>
                    <a:close/>
                    <a:moveTo>
                      <a:pt x="40" y="35"/>
                    </a:moveTo>
                    <a:lnTo>
                      <a:pt x="31" y="9"/>
                    </a:lnTo>
                    <a:lnTo>
                      <a:pt x="31" y="9"/>
                    </a:lnTo>
                    <a:lnTo>
                      <a:pt x="22" y="35"/>
                    </a:lnTo>
                    <a:lnTo>
                      <a:pt x="22" y="35"/>
                    </a:lnTo>
                    <a:lnTo>
                      <a:pt x="4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724880" y="4148280"/>
                <a:ext cx="306360" cy="30636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0" y="0"/>
                    </a:moveTo>
                    <a:lnTo>
                      <a:pt x="0" y="193"/>
                    </a:lnTo>
                    <a:lnTo>
                      <a:pt x="193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724880" y="4148280"/>
                <a:ext cx="306360" cy="30636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0" y="0"/>
                    </a:moveTo>
                    <a:lnTo>
                      <a:pt x="0" y="193"/>
                    </a:lnTo>
                    <a:lnTo>
                      <a:pt x="193" y="9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742160" y="424656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29"/>
                    </a:moveTo>
                    <a:lnTo>
                      <a:pt x="1" y="2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5" y="11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43" y="2"/>
                    </a:lnTo>
                    <a:lnTo>
                      <a:pt x="53" y="7"/>
                    </a:lnTo>
                    <a:lnTo>
                      <a:pt x="53" y="7"/>
                    </a:lnTo>
                    <a:lnTo>
                      <a:pt x="58" y="16"/>
                    </a:lnTo>
                    <a:lnTo>
                      <a:pt x="60" y="29"/>
                    </a:lnTo>
                    <a:lnTo>
                      <a:pt x="60" y="29"/>
                    </a:lnTo>
                    <a:lnTo>
                      <a:pt x="58" y="42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43" y="56"/>
                    </a:lnTo>
                    <a:lnTo>
                      <a:pt x="31" y="60"/>
                    </a:lnTo>
                    <a:lnTo>
                      <a:pt x="31" y="60"/>
                    </a:lnTo>
                    <a:lnTo>
                      <a:pt x="18" y="56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3" y="4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  <a:moveTo>
                      <a:pt x="12" y="29"/>
                    </a:moveTo>
                    <a:lnTo>
                      <a:pt x="14" y="38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23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8" y="49"/>
                    </a:lnTo>
                    <a:lnTo>
                      <a:pt x="43" y="46"/>
                    </a:lnTo>
                    <a:lnTo>
                      <a:pt x="43" y="46"/>
                    </a:lnTo>
                    <a:lnTo>
                      <a:pt x="47" y="38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7" y="20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38" y="11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3" y="11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4" y="20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843680" y="4249800"/>
                <a:ext cx="95400" cy="88920"/>
              </a:xfrm>
              <a:custGeom>
                <a:avLst/>
                <a:gdLst/>
                <a:ahLst/>
                <a:rect l="l" t="t" r="r" b="b"/>
                <a:pathLst>
                  <a:path w="60" h="56">
                    <a:moveTo>
                      <a:pt x="60" y="56"/>
                    </a:moveTo>
                    <a:lnTo>
                      <a:pt x="47" y="56"/>
                    </a:lnTo>
                    <a:lnTo>
                      <a:pt x="47" y="56"/>
                    </a:lnTo>
                    <a:lnTo>
                      <a:pt x="43" y="44"/>
                    </a:lnTo>
                    <a:lnTo>
                      <a:pt x="43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60" y="56"/>
                    </a:lnTo>
                    <a:close/>
                    <a:moveTo>
                      <a:pt x="40" y="34"/>
                    </a:moveTo>
                    <a:lnTo>
                      <a:pt x="31" y="9"/>
                    </a:lnTo>
                    <a:lnTo>
                      <a:pt x="31" y="9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4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724880" y="4498920"/>
                <a:ext cx="306360" cy="308160"/>
              </a:xfrm>
              <a:custGeom>
                <a:avLst/>
                <a:gdLst/>
                <a:ahLst/>
                <a:rect l="l" t="t" r="r" b="b"/>
                <a:pathLst>
                  <a:path w="193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93" y="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724880" y="4498920"/>
                <a:ext cx="306360" cy="308160"/>
              </a:xfrm>
              <a:custGeom>
                <a:avLst/>
                <a:gdLst/>
                <a:ahLst/>
                <a:rect l="l" t="t" r="r" b="b"/>
                <a:pathLst>
                  <a:path w="193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93" y="9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42160" y="4597560"/>
                <a:ext cx="95400" cy="9180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0" y="29"/>
                    </a:moveTo>
                    <a:lnTo>
                      <a:pt x="1" y="22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5" y="11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43" y="2"/>
                    </a:lnTo>
                    <a:lnTo>
                      <a:pt x="53" y="7"/>
                    </a:lnTo>
                    <a:lnTo>
                      <a:pt x="53" y="7"/>
                    </a:lnTo>
                    <a:lnTo>
                      <a:pt x="58" y="16"/>
                    </a:lnTo>
                    <a:lnTo>
                      <a:pt x="60" y="29"/>
                    </a:lnTo>
                    <a:lnTo>
                      <a:pt x="60" y="29"/>
                    </a:lnTo>
                    <a:lnTo>
                      <a:pt x="58" y="42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43" y="57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18" y="57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3" y="4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  <a:moveTo>
                      <a:pt x="12" y="29"/>
                    </a:moveTo>
                    <a:lnTo>
                      <a:pt x="14" y="38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23" y="47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8" y="47"/>
                    </a:lnTo>
                    <a:lnTo>
                      <a:pt x="43" y="44"/>
                    </a:lnTo>
                    <a:lnTo>
                      <a:pt x="43" y="44"/>
                    </a:lnTo>
                    <a:lnTo>
                      <a:pt x="47" y="38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7" y="20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38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3" y="11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4" y="20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843680" y="4600440"/>
                <a:ext cx="95400" cy="87480"/>
              </a:xfrm>
              <a:custGeom>
                <a:avLst/>
                <a:gdLst/>
                <a:ahLst/>
                <a:rect l="l" t="t" r="r" b="b"/>
                <a:pathLst>
                  <a:path w="60" h="55">
                    <a:moveTo>
                      <a:pt x="60" y="55"/>
                    </a:moveTo>
                    <a:lnTo>
                      <a:pt x="47" y="55"/>
                    </a:lnTo>
                    <a:lnTo>
                      <a:pt x="47" y="55"/>
                    </a:lnTo>
                    <a:lnTo>
                      <a:pt x="43" y="44"/>
                    </a:lnTo>
                    <a:lnTo>
                      <a:pt x="43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60" y="55"/>
                    </a:lnTo>
                    <a:close/>
                    <a:moveTo>
                      <a:pt x="40" y="33"/>
                    </a:moveTo>
                    <a:lnTo>
                      <a:pt x="31" y="9"/>
                    </a:lnTo>
                    <a:lnTo>
                      <a:pt x="31" y="9"/>
                    </a:lnTo>
                    <a:lnTo>
                      <a:pt x="22" y="33"/>
                    </a:lnTo>
                    <a:lnTo>
                      <a:pt x="22" y="33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724880" y="5807160"/>
                <a:ext cx="306360" cy="307800"/>
              </a:xfrm>
              <a:custGeom>
                <a:avLst/>
                <a:gdLst/>
                <a:ahLst/>
                <a:rect l="l" t="t" r="r" b="b"/>
                <a:pathLst>
                  <a:path w="193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93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724880" y="5807160"/>
                <a:ext cx="306360" cy="307800"/>
              </a:xfrm>
              <a:custGeom>
                <a:avLst/>
                <a:gdLst/>
                <a:ahLst/>
                <a:rect l="l" t="t" r="r" b="b"/>
                <a:pathLst>
                  <a:path w="193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93" y="9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742160" y="5905440"/>
                <a:ext cx="9540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0" y="29"/>
                    </a:moveTo>
                    <a:lnTo>
                      <a:pt x="1" y="22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5" y="11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43" y="2"/>
                    </a:lnTo>
                    <a:lnTo>
                      <a:pt x="53" y="7"/>
                    </a:lnTo>
                    <a:lnTo>
                      <a:pt x="53" y="7"/>
                    </a:lnTo>
                    <a:lnTo>
                      <a:pt x="58" y="16"/>
                    </a:lnTo>
                    <a:lnTo>
                      <a:pt x="60" y="29"/>
                    </a:lnTo>
                    <a:lnTo>
                      <a:pt x="60" y="29"/>
                    </a:lnTo>
                    <a:lnTo>
                      <a:pt x="58" y="42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43" y="57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18" y="57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3" y="4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  <a:moveTo>
                      <a:pt x="12" y="29"/>
                    </a:moveTo>
                    <a:lnTo>
                      <a:pt x="14" y="38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23" y="48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8" y="48"/>
                    </a:lnTo>
                    <a:lnTo>
                      <a:pt x="43" y="44"/>
                    </a:lnTo>
                    <a:lnTo>
                      <a:pt x="43" y="44"/>
                    </a:lnTo>
                    <a:lnTo>
                      <a:pt x="47" y="38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7" y="20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38" y="11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3" y="11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4" y="20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843680" y="5908680"/>
                <a:ext cx="95400" cy="87480"/>
              </a:xfrm>
              <a:custGeom>
                <a:avLst/>
                <a:gdLst/>
                <a:ahLst/>
                <a:rect l="l" t="t" r="r" b="b"/>
                <a:pathLst>
                  <a:path w="60" h="55">
                    <a:moveTo>
                      <a:pt x="60" y="55"/>
                    </a:moveTo>
                    <a:lnTo>
                      <a:pt x="47" y="55"/>
                    </a:lnTo>
                    <a:lnTo>
                      <a:pt x="47" y="55"/>
                    </a:lnTo>
                    <a:lnTo>
                      <a:pt x="43" y="44"/>
                    </a:lnTo>
                    <a:lnTo>
                      <a:pt x="43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60" y="55"/>
                    </a:lnTo>
                    <a:close/>
                    <a:moveTo>
                      <a:pt x="40" y="33"/>
                    </a:moveTo>
                    <a:lnTo>
                      <a:pt x="31" y="9"/>
                    </a:lnTo>
                    <a:lnTo>
                      <a:pt x="31" y="9"/>
                    </a:lnTo>
                    <a:lnTo>
                      <a:pt x="22" y="33"/>
                    </a:lnTo>
                    <a:lnTo>
                      <a:pt x="22" y="33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4127400" y="4933440"/>
                <a:ext cx="1800" cy="459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998880" y="4772160"/>
                <a:ext cx="244440" cy="245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003560" y="4776840"/>
                <a:ext cx="235080" cy="23652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046400" y="4821120"/>
                <a:ext cx="162000" cy="16200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0" y="51"/>
                    </a:moveTo>
                    <a:lnTo>
                      <a:pt x="5" y="31"/>
                    </a:lnTo>
                    <a:lnTo>
                      <a:pt x="16" y="14"/>
                    </a:lnTo>
                    <a:lnTo>
                      <a:pt x="33" y="3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71" y="5"/>
                    </a:lnTo>
                    <a:lnTo>
                      <a:pt x="87" y="16"/>
                    </a:lnTo>
                    <a:lnTo>
                      <a:pt x="98" y="33"/>
                    </a:lnTo>
                    <a:lnTo>
                      <a:pt x="102" y="53"/>
                    </a:lnTo>
                    <a:lnTo>
                      <a:pt x="102" y="53"/>
                    </a:lnTo>
                    <a:lnTo>
                      <a:pt x="98" y="71"/>
                    </a:lnTo>
                    <a:lnTo>
                      <a:pt x="86" y="87"/>
                    </a:lnTo>
                    <a:lnTo>
                      <a:pt x="69" y="98"/>
                    </a:lnTo>
                    <a:lnTo>
                      <a:pt x="51" y="102"/>
                    </a:lnTo>
                    <a:lnTo>
                      <a:pt x="51" y="102"/>
                    </a:lnTo>
                    <a:lnTo>
                      <a:pt x="44" y="102"/>
                    </a:lnTo>
                    <a:lnTo>
                      <a:pt x="36" y="100"/>
                    </a:lnTo>
                    <a:lnTo>
                      <a:pt x="36" y="100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046400" y="4821120"/>
                <a:ext cx="162000" cy="16200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0" y="51"/>
                    </a:moveTo>
                    <a:lnTo>
                      <a:pt x="5" y="31"/>
                    </a:lnTo>
                    <a:lnTo>
                      <a:pt x="16" y="14"/>
                    </a:lnTo>
                    <a:lnTo>
                      <a:pt x="33" y="3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71" y="5"/>
                    </a:lnTo>
                    <a:lnTo>
                      <a:pt x="87" y="16"/>
                    </a:lnTo>
                    <a:lnTo>
                      <a:pt x="98" y="33"/>
                    </a:lnTo>
                    <a:lnTo>
                      <a:pt x="102" y="53"/>
                    </a:lnTo>
                    <a:lnTo>
                      <a:pt x="102" y="53"/>
                    </a:lnTo>
                    <a:lnTo>
                      <a:pt x="98" y="71"/>
                    </a:lnTo>
                    <a:lnTo>
                      <a:pt x="86" y="87"/>
                    </a:lnTo>
                    <a:lnTo>
                      <a:pt x="69" y="98"/>
                    </a:lnTo>
                    <a:lnTo>
                      <a:pt x="51" y="102"/>
                    </a:lnTo>
                    <a:lnTo>
                      <a:pt x="51" y="102"/>
                    </a:lnTo>
                    <a:lnTo>
                      <a:pt x="44" y="102"/>
                    </a:lnTo>
                    <a:lnTo>
                      <a:pt x="36" y="10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103640" y="4979880"/>
                <a:ext cx="34920" cy="23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762360" y="5229360"/>
                <a:ext cx="739800" cy="39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767040" y="5234040"/>
                <a:ext cx="730440" cy="3826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864960" y="5254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965400" y="5254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037760" y="5254560"/>
                <a:ext cx="136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161960" y="5254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236840" y="525456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865320" y="54118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949560" y="54118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028400" y="5411880"/>
                <a:ext cx="136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152960" y="54118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271760" y="54118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355640" y="54118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 flipV="1">
              <a:off x="2540160" y="4933440"/>
              <a:ext cx="1440" cy="459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21000" y="4772160"/>
              <a:ext cx="234720" cy="245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25680" y="4776840"/>
              <a:ext cx="225360" cy="23652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62040" y="4821120"/>
              <a:ext cx="158760" cy="16200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0" y="51"/>
                  </a:moveTo>
                  <a:lnTo>
                    <a:pt x="4" y="31"/>
                  </a:lnTo>
                  <a:lnTo>
                    <a:pt x="15" y="14"/>
                  </a:lnTo>
                  <a:lnTo>
                    <a:pt x="31" y="3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71" y="5"/>
                  </a:lnTo>
                  <a:lnTo>
                    <a:pt x="88" y="16"/>
                  </a:lnTo>
                  <a:lnTo>
                    <a:pt x="97" y="33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97" y="71"/>
                  </a:lnTo>
                  <a:lnTo>
                    <a:pt x="86" y="87"/>
                  </a:lnTo>
                  <a:lnTo>
                    <a:pt x="69" y="98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2" y="102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49" y="51"/>
                  </a:lnTo>
                  <a:lnTo>
                    <a:pt x="4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462040" y="4821120"/>
              <a:ext cx="158760" cy="16200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0" y="51"/>
                  </a:moveTo>
                  <a:lnTo>
                    <a:pt x="4" y="31"/>
                  </a:lnTo>
                  <a:lnTo>
                    <a:pt x="15" y="14"/>
                  </a:lnTo>
                  <a:lnTo>
                    <a:pt x="31" y="3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71" y="5"/>
                  </a:lnTo>
                  <a:lnTo>
                    <a:pt x="88" y="16"/>
                  </a:lnTo>
                  <a:lnTo>
                    <a:pt x="97" y="33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97" y="71"/>
                  </a:lnTo>
                  <a:lnTo>
                    <a:pt x="86" y="87"/>
                  </a:lnTo>
                  <a:lnTo>
                    <a:pt x="69" y="98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2" y="102"/>
                  </a:lnTo>
                  <a:lnTo>
                    <a:pt x="37" y="10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517840" y="4979880"/>
              <a:ext cx="34920" cy="23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74760" y="5229360"/>
              <a:ext cx="7398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79800" y="5234040"/>
              <a:ext cx="730080" cy="382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80600" y="5254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9240" y="5254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53400" y="52545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76160" y="5254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49600" y="52545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81320" y="541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61960" y="541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44040" y="54118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65360" y="541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687400" y="541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68040" y="5411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29360" y="4632480"/>
              <a:ext cx="603360" cy="561960"/>
            </a:xfrm>
            <a:custGeom>
              <a:avLst/>
              <a:gdLst/>
              <a:ahLst/>
              <a:rect l="l" t="t" r="r" b="b"/>
              <a:pathLst>
                <a:path w="380" h="354">
                  <a:moveTo>
                    <a:pt x="0" y="0"/>
                  </a:moveTo>
                  <a:lnTo>
                    <a:pt x="0" y="354"/>
                  </a:lnTo>
                  <a:lnTo>
                    <a:pt x="38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29360" y="4632480"/>
              <a:ext cx="603360" cy="561960"/>
            </a:xfrm>
            <a:custGeom>
              <a:avLst/>
              <a:gdLst/>
              <a:ahLst/>
              <a:rect l="l" t="t" r="r" b="b"/>
              <a:pathLst>
                <a:path w="380" h="354">
                  <a:moveTo>
                    <a:pt x="0" y="0"/>
                  </a:moveTo>
                  <a:lnTo>
                    <a:pt x="0" y="354"/>
                  </a:lnTo>
                  <a:lnTo>
                    <a:pt x="380" y="17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35920" y="4815000"/>
              <a:ext cx="14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69840" y="4815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70640" y="3699000"/>
              <a:ext cx="87480" cy="245880"/>
            </a:xfrm>
            <a:custGeom>
              <a:avLst/>
              <a:gdLst/>
              <a:ahLst/>
              <a:rect l="l" t="t" r="r" b="b"/>
              <a:pathLst>
                <a:path w="55" h="155">
                  <a:moveTo>
                    <a:pt x="55" y="78"/>
                  </a:moveTo>
                  <a:lnTo>
                    <a:pt x="53" y="107"/>
                  </a:lnTo>
                  <a:lnTo>
                    <a:pt x="45" y="133"/>
                  </a:lnTo>
                  <a:lnTo>
                    <a:pt x="42" y="142"/>
                  </a:lnTo>
                  <a:lnTo>
                    <a:pt x="38" y="149"/>
                  </a:lnTo>
                  <a:lnTo>
                    <a:pt x="33" y="155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2" y="155"/>
                  </a:lnTo>
                  <a:lnTo>
                    <a:pt x="16" y="149"/>
                  </a:lnTo>
                  <a:lnTo>
                    <a:pt x="11" y="142"/>
                  </a:lnTo>
                  <a:lnTo>
                    <a:pt x="7" y="133"/>
                  </a:lnTo>
                  <a:lnTo>
                    <a:pt x="2" y="107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2" y="47"/>
                  </a:lnTo>
                  <a:lnTo>
                    <a:pt x="7" y="21"/>
                  </a:lnTo>
                  <a:lnTo>
                    <a:pt x="11" y="12"/>
                  </a:lnTo>
                  <a:lnTo>
                    <a:pt x="16" y="5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5"/>
                  </a:lnTo>
                  <a:lnTo>
                    <a:pt x="42" y="12"/>
                  </a:lnTo>
                  <a:lnTo>
                    <a:pt x="45" y="21"/>
                  </a:lnTo>
                  <a:lnTo>
                    <a:pt x="53" y="47"/>
                  </a:lnTo>
                  <a:lnTo>
                    <a:pt x="55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70640" y="3699000"/>
              <a:ext cx="87480" cy="245880"/>
            </a:xfrm>
            <a:custGeom>
              <a:avLst/>
              <a:gdLst/>
              <a:ahLst/>
              <a:rect l="l" t="t" r="r" b="b"/>
              <a:pathLst>
                <a:path w="55" h="155">
                  <a:moveTo>
                    <a:pt x="55" y="78"/>
                  </a:moveTo>
                  <a:lnTo>
                    <a:pt x="53" y="107"/>
                  </a:lnTo>
                  <a:lnTo>
                    <a:pt x="45" y="133"/>
                  </a:lnTo>
                  <a:lnTo>
                    <a:pt x="42" y="142"/>
                  </a:lnTo>
                  <a:lnTo>
                    <a:pt x="38" y="149"/>
                  </a:lnTo>
                  <a:lnTo>
                    <a:pt x="33" y="155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2" y="155"/>
                  </a:lnTo>
                  <a:lnTo>
                    <a:pt x="16" y="149"/>
                  </a:lnTo>
                  <a:lnTo>
                    <a:pt x="11" y="142"/>
                  </a:lnTo>
                  <a:lnTo>
                    <a:pt x="7" y="133"/>
                  </a:lnTo>
                  <a:lnTo>
                    <a:pt x="2" y="107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2" y="47"/>
                  </a:lnTo>
                  <a:lnTo>
                    <a:pt x="7" y="21"/>
                  </a:lnTo>
                  <a:lnTo>
                    <a:pt x="11" y="12"/>
                  </a:lnTo>
                  <a:lnTo>
                    <a:pt x="16" y="5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5"/>
                  </a:lnTo>
                  <a:lnTo>
                    <a:pt x="42" y="12"/>
                  </a:lnTo>
                  <a:lnTo>
                    <a:pt x="45" y="21"/>
                  </a:lnTo>
                  <a:lnTo>
                    <a:pt x="53" y="47"/>
                  </a:lnTo>
                  <a:lnTo>
                    <a:pt x="55" y="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99440" y="3695760"/>
              <a:ext cx="87120" cy="249120"/>
            </a:xfrm>
            <a:custGeom>
              <a:avLst/>
              <a:gdLst/>
              <a:ahLst/>
              <a:rect l="l" t="t" r="r" b="b"/>
              <a:pathLst>
                <a:path w="55" h="157">
                  <a:moveTo>
                    <a:pt x="55" y="78"/>
                  </a:moveTo>
                  <a:lnTo>
                    <a:pt x="53" y="109"/>
                  </a:lnTo>
                  <a:lnTo>
                    <a:pt x="46" y="133"/>
                  </a:lnTo>
                  <a:lnTo>
                    <a:pt x="42" y="144"/>
                  </a:lnTo>
                  <a:lnTo>
                    <a:pt x="38" y="151"/>
                  </a:lnTo>
                  <a:lnTo>
                    <a:pt x="33" y="155"/>
                  </a:lnTo>
                  <a:lnTo>
                    <a:pt x="27" y="157"/>
                  </a:lnTo>
                  <a:lnTo>
                    <a:pt x="27" y="157"/>
                  </a:lnTo>
                  <a:lnTo>
                    <a:pt x="22" y="155"/>
                  </a:lnTo>
                  <a:lnTo>
                    <a:pt x="16" y="151"/>
                  </a:lnTo>
                  <a:lnTo>
                    <a:pt x="11" y="144"/>
                  </a:lnTo>
                  <a:lnTo>
                    <a:pt x="7" y="133"/>
                  </a:lnTo>
                  <a:lnTo>
                    <a:pt x="2" y="109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2" y="49"/>
                  </a:lnTo>
                  <a:lnTo>
                    <a:pt x="7" y="23"/>
                  </a:lnTo>
                  <a:lnTo>
                    <a:pt x="11" y="14"/>
                  </a:lnTo>
                  <a:lnTo>
                    <a:pt x="16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8" y="7"/>
                  </a:lnTo>
                  <a:lnTo>
                    <a:pt x="42" y="14"/>
                  </a:lnTo>
                  <a:lnTo>
                    <a:pt x="46" y="23"/>
                  </a:lnTo>
                  <a:lnTo>
                    <a:pt x="53" y="49"/>
                  </a:lnTo>
                  <a:lnTo>
                    <a:pt x="55" y="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70640" y="4040280"/>
              <a:ext cx="87480" cy="245880"/>
            </a:xfrm>
            <a:custGeom>
              <a:avLst/>
              <a:gdLst/>
              <a:ahLst/>
              <a:rect l="l" t="t" r="r" b="b"/>
              <a:pathLst>
                <a:path w="55" h="155">
                  <a:moveTo>
                    <a:pt x="55" y="77"/>
                  </a:moveTo>
                  <a:lnTo>
                    <a:pt x="53" y="108"/>
                  </a:lnTo>
                  <a:lnTo>
                    <a:pt x="45" y="132"/>
                  </a:lnTo>
                  <a:lnTo>
                    <a:pt x="42" y="143"/>
                  </a:lnTo>
                  <a:lnTo>
                    <a:pt x="38" y="150"/>
                  </a:lnTo>
                  <a:lnTo>
                    <a:pt x="33" y="154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2" y="154"/>
                  </a:lnTo>
                  <a:lnTo>
                    <a:pt x="16" y="150"/>
                  </a:lnTo>
                  <a:lnTo>
                    <a:pt x="11" y="143"/>
                  </a:lnTo>
                  <a:lnTo>
                    <a:pt x="7" y="132"/>
                  </a:lnTo>
                  <a:lnTo>
                    <a:pt x="2" y="10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2" y="48"/>
                  </a:lnTo>
                  <a:lnTo>
                    <a:pt x="7" y="22"/>
                  </a:lnTo>
                  <a:lnTo>
                    <a:pt x="11" y="13"/>
                  </a:lnTo>
                  <a:lnTo>
                    <a:pt x="16" y="6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6"/>
                  </a:lnTo>
                  <a:lnTo>
                    <a:pt x="42" y="13"/>
                  </a:lnTo>
                  <a:lnTo>
                    <a:pt x="45" y="22"/>
                  </a:lnTo>
                  <a:lnTo>
                    <a:pt x="53" y="48"/>
                  </a:lnTo>
                  <a:lnTo>
                    <a:pt x="5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370640" y="4040280"/>
              <a:ext cx="87480" cy="245880"/>
            </a:xfrm>
            <a:custGeom>
              <a:avLst/>
              <a:gdLst/>
              <a:ahLst/>
              <a:rect l="l" t="t" r="r" b="b"/>
              <a:pathLst>
                <a:path w="55" h="155">
                  <a:moveTo>
                    <a:pt x="55" y="77"/>
                  </a:moveTo>
                  <a:lnTo>
                    <a:pt x="53" y="108"/>
                  </a:lnTo>
                  <a:lnTo>
                    <a:pt x="45" y="132"/>
                  </a:lnTo>
                  <a:lnTo>
                    <a:pt x="42" y="143"/>
                  </a:lnTo>
                  <a:lnTo>
                    <a:pt x="38" y="150"/>
                  </a:lnTo>
                  <a:lnTo>
                    <a:pt x="33" y="154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2" y="154"/>
                  </a:lnTo>
                  <a:lnTo>
                    <a:pt x="16" y="150"/>
                  </a:lnTo>
                  <a:lnTo>
                    <a:pt x="11" y="143"/>
                  </a:lnTo>
                  <a:lnTo>
                    <a:pt x="7" y="132"/>
                  </a:lnTo>
                  <a:lnTo>
                    <a:pt x="2" y="10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2" y="48"/>
                  </a:lnTo>
                  <a:lnTo>
                    <a:pt x="7" y="22"/>
                  </a:lnTo>
                  <a:lnTo>
                    <a:pt x="11" y="13"/>
                  </a:lnTo>
                  <a:lnTo>
                    <a:pt x="16" y="6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6"/>
                  </a:lnTo>
                  <a:lnTo>
                    <a:pt x="42" y="13"/>
                  </a:lnTo>
                  <a:lnTo>
                    <a:pt x="45" y="22"/>
                  </a:lnTo>
                  <a:lnTo>
                    <a:pt x="53" y="48"/>
                  </a:lnTo>
                  <a:lnTo>
                    <a:pt x="55" y="7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399440" y="4037040"/>
              <a:ext cx="87120" cy="249120"/>
            </a:xfrm>
            <a:custGeom>
              <a:avLst/>
              <a:gdLst/>
              <a:ahLst/>
              <a:rect l="l" t="t" r="r" b="b"/>
              <a:pathLst>
                <a:path w="55" h="157">
                  <a:moveTo>
                    <a:pt x="55" y="79"/>
                  </a:moveTo>
                  <a:lnTo>
                    <a:pt x="53" y="108"/>
                  </a:lnTo>
                  <a:lnTo>
                    <a:pt x="46" y="134"/>
                  </a:lnTo>
                  <a:lnTo>
                    <a:pt x="42" y="143"/>
                  </a:lnTo>
                  <a:lnTo>
                    <a:pt x="38" y="150"/>
                  </a:lnTo>
                  <a:lnTo>
                    <a:pt x="33" y="156"/>
                  </a:lnTo>
                  <a:lnTo>
                    <a:pt x="27" y="157"/>
                  </a:lnTo>
                  <a:lnTo>
                    <a:pt x="27" y="157"/>
                  </a:lnTo>
                  <a:lnTo>
                    <a:pt x="22" y="156"/>
                  </a:lnTo>
                  <a:lnTo>
                    <a:pt x="16" y="150"/>
                  </a:lnTo>
                  <a:lnTo>
                    <a:pt x="11" y="143"/>
                  </a:lnTo>
                  <a:lnTo>
                    <a:pt x="7" y="134"/>
                  </a:lnTo>
                  <a:lnTo>
                    <a:pt x="2" y="108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2" y="48"/>
                  </a:lnTo>
                  <a:lnTo>
                    <a:pt x="7" y="24"/>
                  </a:lnTo>
                  <a:lnTo>
                    <a:pt x="11" y="13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8" y="6"/>
                  </a:lnTo>
                  <a:lnTo>
                    <a:pt x="42" y="13"/>
                  </a:lnTo>
                  <a:lnTo>
                    <a:pt x="46" y="24"/>
                  </a:lnTo>
                  <a:lnTo>
                    <a:pt x="53" y="48"/>
                  </a:lnTo>
                  <a:lnTo>
                    <a:pt x="55" y="7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70640" y="4390920"/>
              <a:ext cx="87480" cy="249480"/>
            </a:xfrm>
            <a:custGeom>
              <a:avLst/>
              <a:gdLst/>
              <a:ahLst/>
              <a:rect l="l" t="t" r="r" b="b"/>
              <a:pathLst>
                <a:path w="55" h="157">
                  <a:moveTo>
                    <a:pt x="55" y="79"/>
                  </a:moveTo>
                  <a:lnTo>
                    <a:pt x="53" y="110"/>
                  </a:lnTo>
                  <a:lnTo>
                    <a:pt x="45" y="134"/>
                  </a:lnTo>
                  <a:lnTo>
                    <a:pt x="42" y="143"/>
                  </a:lnTo>
                  <a:lnTo>
                    <a:pt x="38" y="150"/>
                  </a:lnTo>
                  <a:lnTo>
                    <a:pt x="33" y="156"/>
                  </a:lnTo>
                  <a:lnTo>
                    <a:pt x="27" y="157"/>
                  </a:lnTo>
                  <a:lnTo>
                    <a:pt x="27" y="157"/>
                  </a:lnTo>
                  <a:lnTo>
                    <a:pt x="22" y="156"/>
                  </a:lnTo>
                  <a:lnTo>
                    <a:pt x="16" y="150"/>
                  </a:lnTo>
                  <a:lnTo>
                    <a:pt x="11" y="143"/>
                  </a:lnTo>
                  <a:lnTo>
                    <a:pt x="7" y="134"/>
                  </a:lnTo>
                  <a:lnTo>
                    <a:pt x="2" y="110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2" y="48"/>
                  </a:lnTo>
                  <a:lnTo>
                    <a:pt x="7" y="24"/>
                  </a:lnTo>
                  <a:lnTo>
                    <a:pt x="11" y="15"/>
                  </a:lnTo>
                  <a:lnTo>
                    <a:pt x="16" y="8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8" y="8"/>
                  </a:lnTo>
                  <a:lnTo>
                    <a:pt x="42" y="15"/>
                  </a:lnTo>
                  <a:lnTo>
                    <a:pt x="45" y="24"/>
                  </a:lnTo>
                  <a:lnTo>
                    <a:pt x="53" y="48"/>
                  </a:lnTo>
                  <a:lnTo>
                    <a:pt x="55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370640" y="4390920"/>
              <a:ext cx="87480" cy="249480"/>
            </a:xfrm>
            <a:custGeom>
              <a:avLst/>
              <a:gdLst/>
              <a:ahLst/>
              <a:rect l="l" t="t" r="r" b="b"/>
              <a:pathLst>
                <a:path w="55" h="157">
                  <a:moveTo>
                    <a:pt x="55" y="79"/>
                  </a:moveTo>
                  <a:lnTo>
                    <a:pt x="53" y="110"/>
                  </a:lnTo>
                  <a:lnTo>
                    <a:pt x="45" y="134"/>
                  </a:lnTo>
                  <a:lnTo>
                    <a:pt x="42" y="143"/>
                  </a:lnTo>
                  <a:lnTo>
                    <a:pt x="38" y="150"/>
                  </a:lnTo>
                  <a:lnTo>
                    <a:pt x="33" y="156"/>
                  </a:lnTo>
                  <a:lnTo>
                    <a:pt x="27" y="157"/>
                  </a:lnTo>
                  <a:lnTo>
                    <a:pt x="27" y="157"/>
                  </a:lnTo>
                  <a:lnTo>
                    <a:pt x="22" y="156"/>
                  </a:lnTo>
                  <a:lnTo>
                    <a:pt x="16" y="150"/>
                  </a:lnTo>
                  <a:lnTo>
                    <a:pt x="11" y="143"/>
                  </a:lnTo>
                  <a:lnTo>
                    <a:pt x="7" y="134"/>
                  </a:lnTo>
                  <a:lnTo>
                    <a:pt x="2" y="110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2" y="48"/>
                  </a:lnTo>
                  <a:lnTo>
                    <a:pt x="7" y="24"/>
                  </a:lnTo>
                  <a:lnTo>
                    <a:pt x="11" y="15"/>
                  </a:lnTo>
                  <a:lnTo>
                    <a:pt x="16" y="8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8" y="8"/>
                  </a:lnTo>
                  <a:lnTo>
                    <a:pt x="42" y="15"/>
                  </a:lnTo>
                  <a:lnTo>
                    <a:pt x="45" y="24"/>
                  </a:lnTo>
                  <a:lnTo>
                    <a:pt x="53" y="48"/>
                  </a:lnTo>
                  <a:lnTo>
                    <a:pt x="55" y="7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99440" y="4390920"/>
              <a:ext cx="87120" cy="247680"/>
            </a:xfrm>
            <a:custGeom>
              <a:avLst/>
              <a:gdLst/>
              <a:ahLst/>
              <a:rect l="l" t="t" r="r" b="b"/>
              <a:pathLst>
                <a:path w="55" h="156">
                  <a:moveTo>
                    <a:pt x="55" y="79"/>
                  </a:moveTo>
                  <a:lnTo>
                    <a:pt x="53" y="108"/>
                  </a:lnTo>
                  <a:lnTo>
                    <a:pt x="46" y="134"/>
                  </a:lnTo>
                  <a:lnTo>
                    <a:pt x="42" y="143"/>
                  </a:lnTo>
                  <a:lnTo>
                    <a:pt x="38" y="150"/>
                  </a:lnTo>
                  <a:lnTo>
                    <a:pt x="33" y="156"/>
                  </a:lnTo>
                  <a:lnTo>
                    <a:pt x="27" y="156"/>
                  </a:lnTo>
                  <a:lnTo>
                    <a:pt x="27" y="156"/>
                  </a:lnTo>
                  <a:lnTo>
                    <a:pt x="22" y="156"/>
                  </a:lnTo>
                  <a:lnTo>
                    <a:pt x="16" y="150"/>
                  </a:lnTo>
                  <a:lnTo>
                    <a:pt x="11" y="143"/>
                  </a:lnTo>
                  <a:lnTo>
                    <a:pt x="7" y="134"/>
                  </a:lnTo>
                  <a:lnTo>
                    <a:pt x="2" y="108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2" y="48"/>
                  </a:lnTo>
                  <a:lnTo>
                    <a:pt x="7" y="22"/>
                  </a:lnTo>
                  <a:lnTo>
                    <a:pt x="11" y="13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8" y="6"/>
                  </a:lnTo>
                  <a:lnTo>
                    <a:pt x="42" y="13"/>
                  </a:lnTo>
                  <a:lnTo>
                    <a:pt x="46" y="22"/>
                  </a:lnTo>
                  <a:lnTo>
                    <a:pt x="53" y="48"/>
                  </a:lnTo>
                  <a:lnTo>
                    <a:pt x="55" y="7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70640" y="5699160"/>
              <a:ext cx="87480" cy="249120"/>
            </a:xfrm>
            <a:custGeom>
              <a:avLst/>
              <a:gdLst/>
              <a:ahLst/>
              <a:rect l="l" t="t" r="r" b="b"/>
              <a:pathLst>
                <a:path w="55" h="157">
                  <a:moveTo>
                    <a:pt x="55" y="79"/>
                  </a:moveTo>
                  <a:lnTo>
                    <a:pt x="53" y="110"/>
                  </a:lnTo>
                  <a:lnTo>
                    <a:pt x="45" y="134"/>
                  </a:lnTo>
                  <a:lnTo>
                    <a:pt x="42" y="145"/>
                  </a:lnTo>
                  <a:lnTo>
                    <a:pt x="38" y="152"/>
                  </a:lnTo>
                  <a:lnTo>
                    <a:pt x="33" y="156"/>
                  </a:lnTo>
                  <a:lnTo>
                    <a:pt x="27" y="157"/>
                  </a:lnTo>
                  <a:lnTo>
                    <a:pt x="27" y="157"/>
                  </a:lnTo>
                  <a:lnTo>
                    <a:pt x="22" y="156"/>
                  </a:lnTo>
                  <a:lnTo>
                    <a:pt x="16" y="152"/>
                  </a:lnTo>
                  <a:lnTo>
                    <a:pt x="11" y="145"/>
                  </a:lnTo>
                  <a:lnTo>
                    <a:pt x="7" y="134"/>
                  </a:lnTo>
                  <a:lnTo>
                    <a:pt x="2" y="110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2" y="50"/>
                  </a:lnTo>
                  <a:lnTo>
                    <a:pt x="7" y="24"/>
                  </a:lnTo>
                  <a:lnTo>
                    <a:pt x="11" y="15"/>
                  </a:lnTo>
                  <a:lnTo>
                    <a:pt x="16" y="8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8" y="8"/>
                  </a:lnTo>
                  <a:lnTo>
                    <a:pt x="42" y="15"/>
                  </a:lnTo>
                  <a:lnTo>
                    <a:pt x="45" y="24"/>
                  </a:lnTo>
                  <a:lnTo>
                    <a:pt x="53" y="50"/>
                  </a:lnTo>
                  <a:lnTo>
                    <a:pt x="55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370640" y="5699160"/>
              <a:ext cx="87480" cy="249120"/>
            </a:xfrm>
            <a:custGeom>
              <a:avLst/>
              <a:gdLst/>
              <a:ahLst/>
              <a:rect l="l" t="t" r="r" b="b"/>
              <a:pathLst>
                <a:path w="55" h="157">
                  <a:moveTo>
                    <a:pt x="55" y="79"/>
                  </a:moveTo>
                  <a:lnTo>
                    <a:pt x="53" y="110"/>
                  </a:lnTo>
                  <a:lnTo>
                    <a:pt x="45" y="134"/>
                  </a:lnTo>
                  <a:lnTo>
                    <a:pt x="42" y="145"/>
                  </a:lnTo>
                  <a:lnTo>
                    <a:pt x="38" y="152"/>
                  </a:lnTo>
                  <a:lnTo>
                    <a:pt x="33" y="156"/>
                  </a:lnTo>
                  <a:lnTo>
                    <a:pt x="27" y="157"/>
                  </a:lnTo>
                  <a:lnTo>
                    <a:pt x="27" y="157"/>
                  </a:lnTo>
                  <a:lnTo>
                    <a:pt x="22" y="156"/>
                  </a:lnTo>
                  <a:lnTo>
                    <a:pt x="16" y="152"/>
                  </a:lnTo>
                  <a:lnTo>
                    <a:pt x="11" y="145"/>
                  </a:lnTo>
                  <a:lnTo>
                    <a:pt x="7" y="134"/>
                  </a:lnTo>
                  <a:lnTo>
                    <a:pt x="2" y="110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2" y="50"/>
                  </a:lnTo>
                  <a:lnTo>
                    <a:pt x="7" y="24"/>
                  </a:lnTo>
                  <a:lnTo>
                    <a:pt x="11" y="15"/>
                  </a:lnTo>
                  <a:lnTo>
                    <a:pt x="16" y="8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8" y="8"/>
                  </a:lnTo>
                  <a:lnTo>
                    <a:pt x="42" y="15"/>
                  </a:lnTo>
                  <a:lnTo>
                    <a:pt x="45" y="24"/>
                  </a:lnTo>
                  <a:lnTo>
                    <a:pt x="53" y="50"/>
                  </a:lnTo>
                  <a:lnTo>
                    <a:pt x="55" y="7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99440" y="5699160"/>
              <a:ext cx="87120" cy="249120"/>
            </a:xfrm>
            <a:custGeom>
              <a:avLst/>
              <a:gdLst/>
              <a:ahLst/>
              <a:rect l="l" t="t" r="r" b="b"/>
              <a:pathLst>
                <a:path w="55" h="157">
                  <a:moveTo>
                    <a:pt x="55" y="79"/>
                  </a:moveTo>
                  <a:lnTo>
                    <a:pt x="53" y="108"/>
                  </a:lnTo>
                  <a:lnTo>
                    <a:pt x="46" y="134"/>
                  </a:lnTo>
                  <a:lnTo>
                    <a:pt x="42" y="143"/>
                  </a:lnTo>
                  <a:lnTo>
                    <a:pt x="38" y="150"/>
                  </a:lnTo>
                  <a:lnTo>
                    <a:pt x="33" y="156"/>
                  </a:lnTo>
                  <a:lnTo>
                    <a:pt x="27" y="157"/>
                  </a:lnTo>
                  <a:lnTo>
                    <a:pt x="27" y="157"/>
                  </a:lnTo>
                  <a:lnTo>
                    <a:pt x="22" y="156"/>
                  </a:lnTo>
                  <a:lnTo>
                    <a:pt x="16" y="150"/>
                  </a:lnTo>
                  <a:lnTo>
                    <a:pt x="11" y="143"/>
                  </a:lnTo>
                  <a:lnTo>
                    <a:pt x="7" y="134"/>
                  </a:lnTo>
                  <a:lnTo>
                    <a:pt x="2" y="108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2" y="48"/>
                  </a:lnTo>
                  <a:lnTo>
                    <a:pt x="7" y="24"/>
                  </a:lnTo>
                  <a:lnTo>
                    <a:pt x="11" y="13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8" y="6"/>
                  </a:lnTo>
                  <a:lnTo>
                    <a:pt x="42" y="13"/>
                  </a:lnTo>
                  <a:lnTo>
                    <a:pt x="46" y="24"/>
                  </a:lnTo>
                  <a:lnTo>
                    <a:pt x="53" y="48"/>
                  </a:lnTo>
                  <a:lnTo>
                    <a:pt x="55" y="7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1806120" y="4025880"/>
              <a:ext cx="739800" cy="495360"/>
            </a:xfrm>
            <a:prstGeom prst="line">
              <a:avLst/>
            </a:prstGeom>
            <a:ln w="34920">
              <a:solidFill>
                <a:srgbClr val="3a8c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49520" y="4454640"/>
              <a:ext cx="206280" cy="174600"/>
            </a:xfrm>
            <a:custGeom>
              <a:avLst/>
              <a:gdLst/>
              <a:ahLst/>
              <a:rect l="l" t="t" r="r" b="b"/>
              <a:pathLst>
                <a:path w="130" h="110">
                  <a:moveTo>
                    <a:pt x="130" y="75"/>
                  </a:moveTo>
                  <a:lnTo>
                    <a:pt x="130" y="74"/>
                  </a:lnTo>
                  <a:lnTo>
                    <a:pt x="130" y="72"/>
                  </a:lnTo>
                  <a:lnTo>
                    <a:pt x="130" y="70"/>
                  </a:lnTo>
                  <a:lnTo>
                    <a:pt x="128" y="66"/>
                  </a:lnTo>
                  <a:lnTo>
                    <a:pt x="128" y="63"/>
                  </a:lnTo>
                  <a:lnTo>
                    <a:pt x="126" y="57"/>
                  </a:lnTo>
                  <a:lnTo>
                    <a:pt x="125" y="53"/>
                  </a:lnTo>
                  <a:lnTo>
                    <a:pt x="121" y="48"/>
                  </a:lnTo>
                  <a:lnTo>
                    <a:pt x="115" y="35"/>
                  </a:lnTo>
                  <a:lnTo>
                    <a:pt x="106" y="22"/>
                  </a:lnTo>
                  <a:lnTo>
                    <a:pt x="101" y="17"/>
                  </a:lnTo>
                  <a:lnTo>
                    <a:pt x="95" y="11"/>
                  </a:lnTo>
                  <a:lnTo>
                    <a:pt x="88" y="6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77" y="6"/>
                  </a:lnTo>
                  <a:lnTo>
                    <a:pt x="72" y="11"/>
                  </a:lnTo>
                  <a:lnTo>
                    <a:pt x="66" y="19"/>
                  </a:lnTo>
                  <a:lnTo>
                    <a:pt x="61" y="26"/>
                  </a:lnTo>
                  <a:lnTo>
                    <a:pt x="48" y="44"/>
                  </a:lnTo>
                  <a:lnTo>
                    <a:pt x="33" y="63"/>
                  </a:lnTo>
                  <a:lnTo>
                    <a:pt x="28" y="72"/>
                  </a:lnTo>
                  <a:lnTo>
                    <a:pt x="20" y="81"/>
                  </a:lnTo>
                  <a:lnTo>
                    <a:pt x="15" y="88"/>
                  </a:lnTo>
                  <a:lnTo>
                    <a:pt x="11" y="95"/>
                  </a:lnTo>
                  <a:lnTo>
                    <a:pt x="6" y="101"/>
                  </a:lnTo>
                  <a:lnTo>
                    <a:pt x="2" y="105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30" y="75"/>
                  </a:lnTo>
                  <a:close/>
                </a:path>
              </a:pathLst>
            </a:custGeom>
            <a:solidFill>
              <a:srgbClr val="3a8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732040" y="4049640"/>
              <a:ext cx="301680" cy="393840"/>
            </a:xfrm>
            <a:prstGeom prst="line">
              <a:avLst/>
            </a:prstGeom>
            <a:ln w="34920">
              <a:solidFill>
                <a:srgbClr val="3a8c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970360" y="4387680"/>
              <a:ext cx="179280" cy="20340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71" y="0"/>
                  </a:moveTo>
                  <a:lnTo>
                    <a:pt x="69" y="0"/>
                  </a:lnTo>
                  <a:lnTo>
                    <a:pt x="67" y="2"/>
                  </a:lnTo>
                  <a:lnTo>
                    <a:pt x="66" y="2"/>
                  </a:lnTo>
                  <a:lnTo>
                    <a:pt x="62" y="4"/>
                  </a:lnTo>
                  <a:lnTo>
                    <a:pt x="58" y="4"/>
                  </a:lnTo>
                  <a:lnTo>
                    <a:pt x="55" y="6"/>
                  </a:lnTo>
                  <a:lnTo>
                    <a:pt x="49" y="10"/>
                  </a:lnTo>
                  <a:lnTo>
                    <a:pt x="44" y="11"/>
                  </a:lnTo>
                  <a:lnTo>
                    <a:pt x="33" y="19"/>
                  </a:lnTo>
                  <a:lnTo>
                    <a:pt x="20" y="28"/>
                  </a:lnTo>
                  <a:lnTo>
                    <a:pt x="14" y="35"/>
                  </a:lnTo>
                  <a:lnTo>
                    <a:pt x="9" y="41"/>
                  </a:lnTo>
                  <a:lnTo>
                    <a:pt x="3" y="4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5" y="59"/>
                  </a:lnTo>
                  <a:lnTo>
                    <a:pt x="11" y="63"/>
                  </a:lnTo>
                  <a:lnTo>
                    <a:pt x="18" y="68"/>
                  </a:lnTo>
                  <a:lnTo>
                    <a:pt x="27" y="73"/>
                  </a:lnTo>
                  <a:lnTo>
                    <a:pt x="45" y="86"/>
                  </a:lnTo>
                  <a:lnTo>
                    <a:pt x="66" y="99"/>
                  </a:lnTo>
                  <a:lnTo>
                    <a:pt x="75" y="105"/>
                  </a:lnTo>
                  <a:lnTo>
                    <a:pt x="84" y="110"/>
                  </a:lnTo>
                  <a:lnTo>
                    <a:pt x="91" y="116"/>
                  </a:lnTo>
                  <a:lnTo>
                    <a:pt x="98" y="119"/>
                  </a:lnTo>
                  <a:lnTo>
                    <a:pt x="104" y="123"/>
                  </a:lnTo>
                  <a:lnTo>
                    <a:pt x="109" y="126"/>
                  </a:lnTo>
                  <a:lnTo>
                    <a:pt x="113" y="128"/>
                  </a:lnTo>
                  <a:lnTo>
                    <a:pt x="113" y="128"/>
                  </a:lnTo>
                  <a:lnTo>
                    <a:pt x="113" y="12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3a8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914560" y="4049640"/>
              <a:ext cx="1403280" cy="492120"/>
            </a:xfrm>
            <a:prstGeom prst="line">
              <a:avLst/>
            </a:prstGeom>
            <a:ln w="34920">
              <a:solidFill>
                <a:srgbClr val="3a8c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284720" y="4470480"/>
              <a:ext cx="214200" cy="135000"/>
            </a:xfrm>
            <a:custGeom>
              <a:avLst/>
              <a:gdLst/>
              <a:ahLst/>
              <a:rect l="l" t="t" r="r" b="b"/>
              <a:pathLst>
                <a:path w="135" h="85">
                  <a:moveTo>
                    <a:pt x="29" y="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3" y="7"/>
                  </a:lnTo>
                  <a:lnTo>
                    <a:pt x="21" y="11"/>
                  </a:lnTo>
                  <a:lnTo>
                    <a:pt x="18" y="14"/>
                  </a:lnTo>
                  <a:lnTo>
                    <a:pt x="16" y="20"/>
                  </a:lnTo>
                  <a:lnTo>
                    <a:pt x="12" y="23"/>
                  </a:lnTo>
                  <a:lnTo>
                    <a:pt x="7" y="36"/>
                  </a:lnTo>
                  <a:lnTo>
                    <a:pt x="3" y="51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0" y="7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7" y="85"/>
                  </a:lnTo>
                  <a:lnTo>
                    <a:pt x="14" y="85"/>
                  </a:lnTo>
                  <a:lnTo>
                    <a:pt x="23" y="85"/>
                  </a:lnTo>
                  <a:lnTo>
                    <a:pt x="32" y="85"/>
                  </a:lnTo>
                  <a:lnTo>
                    <a:pt x="54" y="85"/>
                  </a:lnTo>
                  <a:lnTo>
                    <a:pt x="78" y="85"/>
                  </a:lnTo>
                  <a:lnTo>
                    <a:pt x="89" y="85"/>
                  </a:lnTo>
                  <a:lnTo>
                    <a:pt x="100" y="84"/>
                  </a:lnTo>
                  <a:lnTo>
                    <a:pt x="109" y="84"/>
                  </a:lnTo>
                  <a:lnTo>
                    <a:pt x="118" y="84"/>
                  </a:lnTo>
                  <a:lnTo>
                    <a:pt x="126" y="84"/>
                  </a:lnTo>
                  <a:lnTo>
                    <a:pt x="131" y="84"/>
                  </a:lnTo>
                  <a:lnTo>
                    <a:pt x="135" y="84"/>
                  </a:lnTo>
                  <a:lnTo>
                    <a:pt x="135" y="84"/>
                  </a:lnTo>
                  <a:lnTo>
                    <a:pt x="135" y="8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a8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05080" y="4043520"/>
              <a:ext cx="2697120" cy="522000"/>
            </a:xfrm>
            <a:prstGeom prst="line">
              <a:avLst/>
            </a:prstGeom>
            <a:ln w="34920">
              <a:solidFill>
                <a:srgbClr val="3a8c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873760" y="4492800"/>
              <a:ext cx="214200" cy="139680"/>
            </a:xfrm>
            <a:custGeom>
              <a:avLst/>
              <a:gdLst/>
              <a:ahLst/>
              <a:rect l="l" t="t" r="r" b="b"/>
              <a:pathLst>
                <a:path w="135" h="88">
                  <a:moveTo>
                    <a:pt x="18" y="0"/>
                  </a:moveTo>
                  <a:lnTo>
                    <a:pt x="18" y="0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4" y="7"/>
                  </a:lnTo>
                  <a:lnTo>
                    <a:pt x="13" y="11"/>
                  </a:lnTo>
                  <a:lnTo>
                    <a:pt x="11" y="15"/>
                  </a:lnTo>
                  <a:lnTo>
                    <a:pt x="9" y="20"/>
                  </a:lnTo>
                  <a:lnTo>
                    <a:pt x="5" y="26"/>
                  </a:lnTo>
                  <a:lnTo>
                    <a:pt x="2" y="39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2" y="88"/>
                  </a:lnTo>
                  <a:lnTo>
                    <a:pt x="2" y="88"/>
                  </a:lnTo>
                  <a:lnTo>
                    <a:pt x="9" y="88"/>
                  </a:lnTo>
                  <a:lnTo>
                    <a:pt x="16" y="86"/>
                  </a:lnTo>
                  <a:lnTo>
                    <a:pt x="25" y="84"/>
                  </a:lnTo>
                  <a:lnTo>
                    <a:pt x="35" y="84"/>
                  </a:lnTo>
                  <a:lnTo>
                    <a:pt x="57" y="81"/>
                  </a:lnTo>
                  <a:lnTo>
                    <a:pt x="80" y="77"/>
                  </a:lnTo>
                  <a:lnTo>
                    <a:pt x="91" y="75"/>
                  </a:lnTo>
                  <a:lnTo>
                    <a:pt x="100" y="73"/>
                  </a:lnTo>
                  <a:lnTo>
                    <a:pt x="110" y="71"/>
                  </a:lnTo>
                  <a:lnTo>
                    <a:pt x="119" y="70"/>
                  </a:lnTo>
                  <a:lnTo>
                    <a:pt x="126" y="70"/>
                  </a:lnTo>
                  <a:lnTo>
                    <a:pt x="131" y="68"/>
                  </a:lnTo>
                  <a:lnTo>
                    <a:pt x="135" y="68"/>
                  </a:lnTo>
                  <a:lnTo>
                    <a:pt x="135" y="68"/>
                  </a:lnTo>
                  <a:lnTo>
                    <a:pt x="135" y="6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3a8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2532240" y="3825720"/>
              <a:ext cx="2125440" cy="662040"/>
            </a:xfrm>
            <a:prstGeom prst="line">
              <a:avLst/>
            </a:prstGeom>
            <a:ln w="34920">
              <a:solidFill>
                <a:srgbClr val="e889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52600" y="4417920"/>
              <a:ext cx="214560" cy="133560"/>
            </a:xfrm>
            <a:custGeom>
              <a:avLst/>
              <a:gdLst/>
              <a:ahLst/>
              <a:rect l="l" t="t" r="r" b="b"/>
              <a:pathLst>
                <a:path w="135" h="84">
                  <a:moveTo>
                    <a:pt x="135" y="84"/>
                  </a:moveTo>
                  <a:lnTo>
                    <a:pt x="135" y="84"/>
                  </a:lnTo>
                  <a:lnTo>
                    <a:pt x="135" y="82"/>
                  </a:lnTo>
                  <a:lnTo>
                    <a:pt x="135" y="80"/>
                  </a:lnTo>
                  <a:lnTo>
                    <a:pt x="135" y="76"/>
                  </a:lnTo>
                  <a:lnTo>
                    <a:pt x="135" y="71"/>
                  </a:lnTo>
                  <a:lnTo>
                    <a:pt x="135" y="67"/>
                  </a:lnTo>
                  <a:lnTo>
                    <a:pt x="135" y="62"/>
                  </a:lnTo>
                  <a:lnTo>
                    <a:pt x="135" y="54"/>
                  </a:lnTo>
                  <a:lnTo>
                    <a:pt x="131" y="42"/>
                  </a:lnTo>
                  <a:lnTo>
                    <a:pt x="126" y="27"/>
                  </a:lnTo>
                  <a:lnTo>
                    <a:pt x="124" y="20"/>
                  </a:lnTo>
                  <a:lnTo>
                    <a:pt x="118" y="12"/>
                  </a:lnTo>
                  <a:lnTo>
                    <a:pt x="115" y="5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4" y="3"/>
                  </a:lnTo>
                  <a:lnTo>
                    <a:pt x="96" y="7"/>
                  </a:lnTo>
                  <a:lnTo>
                    <a:pt x="89" y="12"/>
                  </a:lnTo>
                  <a:lnTo>
                    <a:pt x="82" y="18"/>
                  </a:lnTo>
                  <a:lnTo>
                    <a:pt x="63" y="31"/>
                  </a:lnTo>
                  <a:lnTo>
                    <a:pt x="45" y="45"/>
                  </a:lnTo>
                  <a:lnTo>
                    <a:pt x="36" y="53"/>
                  </a:lnTo>
                  <a:lnTo>
                    <a:pt x="29" y="58"/>
                  </a:lnTo>
                  <a:lnTo>
                    <a:pt x="21" y="65"/>
                  </a:lnTo>
                  <a:lnTo>
                    <a:pt x="14" y="69"/>
                  </a:lnTo>
                  <a:lnTo>
                    <a:pt x="9" y="75"/>
                  </a:lnTo>
                  <a:lnTo>
                    <a:pt x="3" y="78"/>
                  </a:lnTo>
                  <a:lnTo>
                    <a:pt x="1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35" y="84"/>
                  </a:lnTo>
                  <a:close/>
                </a:path>
              </a:pathLst>
            </a:custGeom>
            <a:solidFill>
              <a:srgbClr val="e88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4048200" y="3840120"/>
              <a:ext cx="900000" cy="550800"/>
            </a:xfrm>
            <a:prstGeom prst="line">
              <a:avLst/>
            </a:prstGeom>
            <a:ln w="34920">
              <a:solidFill>
                <a:srgbClr val="e889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89440" y="4324320"/>
              <a:ext cx="209520" cy="165240"/>
            </a:xfrm>
            <a:custGeom>
              <a:avLst/>
              <a:gdLst/>
              <a:ahLst/>
              <a:rect l="l" t="t" r="r" b="b"/>
              <a:pathLst>
                <a:path w="132" h="104">
                  <a:moveTo>
                    <a:pt x="132" y="75"/>
                  </a:moveTo>
                  <a:lnTo>
                    <a:pt x="132" y="75"/>
                  </a:lnTo>
                  <a:lnTo>
                    <a:pt x="132" y="73"/>
                  </a:lnTo>
                  <a:lnTo>
                    <a:pt x="132" y="71"/>
                  </a:lnTo>
                  <a:lnTo>
                    <a:pt x="130" y="68"/>
                  </a:lnTo>
                  <a:lnTo>
                    <a:pt x="130" y="64"/>
                  </a:lnTo>
                  <a:lnTo>
                    <a:pt x="128" y="59"/>
                  </a:lnTo>
                  <a:lnTo>
                    <a:pt x="126" y="53"/>
                  </a:lnTo>
                  <a:lnTo>
                    <a:pt x="124" y="48"/>
                  </a:lnTo>
                  <a:lnTo>
                    <a:pt x="117" y="35"/>
                  </a:lnTo>
                  <a:lnTo>
                    <a:pt x="110" y="22"/>
                  </a:lnTo>
                  <a:lnTo>
                    <a:pt x="104" y="17"/>
                  </a:lnTo>
                  <a:lnTo>
                    <a:pt x="99" y="11"/>
                  </a:lnTo>
                  <a:lnTo>
                    <a:pt x="91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4"/>
                  </a:lnTo>
                  <a:lnTo>
                    <a:pt x="75" y="9"/>
                  </a:lnTo>
                  <a:lnTo>
                    <a:pt x="69" y="17"/>
                  </a:lnTo>
                  <a:lnTo>
                    <a:pt x="64" y="24"/>
                  </a:lnTo>
                  <a:lnTo>
                    <a:pt x="49" y="42"/>
                  </a:lnTo>
                  <a:lnTo>
                    <a:pt x="35" y="60"/>
                  </a:lnTo>
                  <a:lnTo>
                    <a:pt x="29" y="68"/>
                  </a:lnTo>
                  <a:lnTo>
                    <a:pt x="22" y="77"/>
                  </a:lnTo>
                  <a:lnTo>
                    <a:pt x="16" y="84"/>
                  </a:lnTo>
                  <a:lnTo>
                    <a:pt x="11" y="92"/>
                  </a:lnTo>
                  <a:lnTo>
                    <a:pt x="5" y="97"/>
                  </a:lnTo>
                  <a:lnTo>
                    <a:pt x="4" y="10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32" y="75"/>
                  </a:lnTo>
                  <a:close/>
                </a:path>
              </a:pathLst>
            </a:custGeom>
            <a:solidFill>
              <a:srgbClr val="e88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61040" y="3849840"/>
              <a:ext cx="1440" cy="376200"/>
            </a:xfrm>
            <a:prstGeom prst="line">
              <a:avLst/>
            </a:prstGeom>
            <a:ln w="34920">
              <a:solidFill>
                <a:srgbClr val="e889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89400" y="4197240"/>
              <a:ext cx="141480" cy="217440"/>
            </a:xfrm>
            <a:custGeom>
              <a:avLst/>
              <a:gdLst/>
              <a:ahLst/>
              <a:rect l="l" t="t" r="r" b="b"/>
              <a:pathLst>
                <a:path w="89" h="137">
                  <a:moveTo>
                    <a:pt x="89" y="9"/>
                  </a:moveTo>
                  <a:lnTo>
                    <a:pt x="89" y="9"/>
                  </a:lnTo>
                  <a:lnTo>
                    <a:pt x="87" y="7"/>
                  </a:lnTo>
                  <a:lnTo>
                    <a:pt x="86" y="7"/>
                  </a:lnTo>
                  <a:lnTo>
                    <a:pt x="82" y="5"/>
                  </a:lnTo>
                  <a:lnTo>
                    <a:pt x="78" y="5"/>
                  </a:lnTo>
                  <a:lnTo>
                    <a:pt x="73" y="3"/>
                  </a:lnTo>
                  <a:lnTo>
                    <a:pt x="67" y="2"/>
                  </a:lnTo>
                  <a:lnTo>
                    <a:pt x="62" y="2"/>
                  </a:lnTo>
                  <a:lnTo>
                    <a:pt x="47" y="0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6" y="3"/>
                  </a:lnTo>
                  <a:lnTo>
                    <a:pt x="9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14"/>
                  </a:lnTo>
                  <a:lnTo>
                    <a:pt x="3" y="22"/>
                  </a:lnTo>
                  <a:lnTo>
                    <a:pt x="7" y="31"/>
                  </a:lnTo>
                  <a:lnTo>
                    <a:pt x="11" y="40"/>
                  </a:lnTo>
                  <a:lnTo>
                    <a:pt x="18" y="62"/>
                  </a:lnTo>
                  <a:lnTo>
                    <a:pt x="25" y="82"/>
                  </a:lnTo>
                  <a:lnTo>
                    <a:pt x="29" y="93"/>
                  </a:lnTo>
                  <a:lnTo>
                    <a:pt x="33" y="104"/>
                  </a:lnTo>
                  <a:lnTo>
                    <a:pt x="36" y="113"/>
                  </a:lnTo>
                  <a:lnTo>
                    <a:pt x="40" y="120"/>
                  </a:lnTo>
                  <a:lnTo>
                    <a:pt x="42" y="128"/>
                  </a:lnTo>
                  <a:lnTo>
                    <a:pt x="43" y="131"/>
                  </a:lnTo>
                  <a:lnTo>
                    <a:pt x="45" y="135"/>
                  </a:lnTo>
                  <a:lnTo>
                    <a:pt x="45" y="137"/>
                  </a:lnTo>
                  <a:lnTo>
                    <a:pt x="45" y="137"/>
                  </a:lnTo>
                  <a:lnTo>
                    <a:pt x="89" y="9"/>
                  </a:lnTo>
                  <a:close/>
                </a:path>
              </a:pathLst>
            </a:custGeom>
            <a:solidFill>
              <a:srgbClr val="e88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851600" y="3527280"/>
              <a:ext cx="1800" cy="81000"/>
            </a:xfrm>
            <a:prstGeom prst="line">
              <a:avLst/>
            </a:prstGeom>
            <a:ln w="34920">
              <a:solidFill>
                <a:srgbClr val="60b8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781760" y="3579840"/>
              <a:ext cx="142920" cy="217440"/>
            </a:xfrm>
            <a:custGeom>
              <a:avLst/>
              <a:gdLst/>
              <a:ahLst/>
              <a:rect l="l" t="t" r="r" b="b"/>
              <a:pathLst>
                <a:path w="90" h="137">
                  <a:moveTo>
                    <a:pt x="90" y="9"/>
                  </a:moveTo>
                  <a:lnTo>
                    <a:pt x="90" y="9"/>
                  </a:lnTo>
                  <a:lnTo>
                    <a:pt x="88" y="7"/>
                  </a:lnTo>
                  <a:lnTo>
                    <a:pt x="84" y="7"/>
                  </a:lnTo>
                  <a:lnTo>
                    <a:pt x="82" y="5"/>
                  </a:lnTo>
                  <a:lnTo>
                    <a:pt x="77" y="5"/>
                  </a:lnTo>
                  <a:lnTo>
                    <a:pt x="73" y="3"/>
                  </a:lnTo>
                  <a:lnTo>
                    <a:pt x="68" y="1"/>
                  </a:lnTo>
                  <a:lnTo>
                    <a:pt x="62" y="1"/>
                  </a:lnTo>
                  <a:lnTo>
                    <a:pt x="48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17" y="3"/>
                  </a:lnTo>
                  <a:lnTo>
                    <a:pt x="9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4"/>
                  </a:lnTo>
                  <a:lnTo>
                    <a:pt x="4" y="22"/>
                  </a:lnTo>
                  <a:lnTo>
                    <a:pt x="8" y="31"/>
                  </a:lnTo>
                  <a:lnTo>
                    <a:pt x="11" y="40"/>
                  </a:lnTo>
                  <a:lnTo>
                    <a:pt x="18" y="60"/>
                  </a:lnTo>
                  <a:lnTo>
                    <a:pt x="26" y="82"/>
                  </a:lnTo>
                  <a:lnTo>
                    <a:pt x="29" y="93"/>
                  </a:lnTo>
                  <a:lnTo>
                    <a:pt x="33" y="104"/>
                  </a:lnTo>
                  <a:lnTo>
                    <a:pt x="37" y="111"/>
                  </a:lnTo>
                  <a:lnTo>
                    <a:pt x="40" y="120"/>
                  </a:lnTo>
                  <a:lnTo>
                    <a:pt x="42" y="127"/>
                  </a:lnTo>
                  <a:lnTo>
                    <a:pt x="44" y="131"/>
                  </a:lnTo>
                  <a:lnTo>
                    <a:pt x="46" y="135"/>
                  </a:lnTo>
                  <a:lnTo>
                    <a:pt x="46" y="137"/>
                  </a:lnTo>
                  <a:lnTo>
                    <a:pt x="46" y="137"/>
                  </a:lnTo>
                  <a:lnTo>
                    <a:pt x="90" y="9"/>
                  </a:lnTo>
                  <a:close/>
                </a:path>
              </a:pathLst>
            </a:custGeom>
            <a:solidFill>
              <a:srgbClr val="60b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urrent standardization topics for optical amplifi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62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aman amplifi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afety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. 66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R proced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.ds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fety in op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.Ram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discu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finition of relevant parame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osals are invi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IEC TC86 SC86C WG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crease of available optical bandwid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EDFA (RDFA), Raman, SO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pectrally efficient transmission forma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uobinary, CS-RZ, DCS-RZ, CRZ, NRZ, RZ, DPSK-RZ,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andardiz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specific parame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st effective u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available bandwidth b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phisticated combination O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different vendors and manufactur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dardization activities in optical amplif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nds in optical amplif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ent standardization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ahoma"/>
              </a:rPr>
              <a:t>Standardization activities in optical amplif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nds in optical amplif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ent standardization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ptical amplifiers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ransparency of physical layer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Specific parameter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ja-JP" sz="3200" spc="-1" strike="noStrike">
                <a:solidFill>
                  <a:srgbClr val="ffffff"/>
                </a:solidFill>
                <a:latin typeface="Tahoma"/>
              </a:rPr>
              <a:t>Output power, Gain, Noise figure,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- Independent on signal formats, bit rate, etc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ffffff"/>
                </a:solidFill>
                <a:latin typeface="Tahoma"/>
              </a:rPr>
              <a:t>NRZ, RZ, duobinary,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ffffff"/>
                </a:solidFill>
                <a:latin typeface="Tahoma"/>
              </a:rPr>
              <a:t>OTU1, OTU2,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90560" y="4527720"/>
            <a:ext cx="58341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operation with IE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EC ro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le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specific parame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fini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he parame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est metho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the parame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tical power, gain, noise figure, etc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TU-T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ro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quirement from the viewpoint of optical system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sed on IEC definition and test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operation with IEC-SC86C-WG3 in Rec. G. 66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917360" y="1916640"/>
            <a:ext cx="531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Table 1/G.661 – Recommended test methods for parameters defined in clause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47640" y="2230560"/>
          <a:ext cx="6121440" cy="4338360"/>
        </p:xfrm>
        <a:graphic>
          <a:graphicData uri="http://schemas.openxmlformats.org/drawingml/2006/table">
            <a:tbl>
              <a:tblPr/>
              <a:tblGrid>
                <a:gridCol w="1854360"/>
                <a:gridCol w="1447920"/>
                <a:gridCol w="281916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Group of test parameter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Parameters of</a:t>
                      </a:r>
                      <a:br>
                        <a:rPr sz="1100"/>
                      </a:b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clause 4 involve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Test Method (TM) – IEC Basic</a:t>
                      </a:r>
                      <a:br>
                        <a:rPr sz="1100"/>
                      </a:b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Specification numb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Gain parameter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4.1 to 4.8, 4.10, 4.32, 4.39, 4.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61290-1-1: Optical spectrum analyser TM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61290-1-2: Electrical spectrum analyser TM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61290-1-3: Optical power meter T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Optical power parameter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4.9, 4.11, 4.12, 4.25, 4.28, 4.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61290-2-1: Optical spectrum analyser TM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61290-2-2: Electrical spectrum analyser TM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61290-2-3: Optical power meter T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Noise parameter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4.13 to 4.15, 4.33 to 4.3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61290-3-1: Optical spectrum analyser TM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61290-3-2: Electrical spectrum analyser TM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61290-3-3: Pulse optical TM (under study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Reflectance parameter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4.16 to 4.19, 4.3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61290-5-1: Optical spectrum analyser TM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61290-5-2: Electrical spectrum analyser TM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61290-5-3: Electrical spectrum analyser TM (for reflectance tolerance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Pump leakage parameter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4.20, 4.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61290-6-1: Optical demultiplexer T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Insertion loss parameter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4.22, 4.23, 4.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539640"/>
                          <a:tab algn="l" pos="900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ahoma"/>
                          <a:ea typeface="ＭＳ 明朝"/>
                        </a:rPr>
                        <a:t>61290-7-1: Filtered optical power meter T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edb0d">
                        <a:alpha val="54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commendations and publications for optical amplifi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TU-T SG15 Recommend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. 66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Definition and test methods for the relevant generic parameters of Optical Amplifi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. 66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Generic characteristics of Optical Amplifier devices and sub-sys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. 66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Application-related aspects of Optical Amplifier devices and sub-systems and comprehensive Appendix on transmission-related aspe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EC TC86 SC86C Publi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eneric specifi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st meth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erformance specification templ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dardization activities in optical amplif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ahoma"/>
              </a:rPr>
              <a:t>Trends in optical amplif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ent standardization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ends in optical amplifi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FA vs. Raman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DF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ture techn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w materials (Fluoride, Tellurit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w dopant (Pr, Tm) ~PDFA, TDF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to exhibit broader and flatter g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an amplifi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dvantage in long-haul (LH) 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N improvement by distributed Ram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at gain by multiple pump waveleng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&gt;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Efficiency merit of EDFA is offset by required gain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flattening.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&gt;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aman systems are challenging EDFA stronghold in LH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pplicat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06:32:12Z</dcterms:created>
  <dc:creator>Unknown User</dc:creator>
  <dc:description/>
  <dc:language>en-US</dc:language>
  <cp:lastModifiedBy>UGALE, Arvin Carlos D.</cp:lastModifiedBy>
  <dcterms:modified xsi:type="dcterms:W3CDTF">2002-07-19T14:09:08Z</dcterms:modified>
  <cp:revision>107</cp:revision>
  <dc:subject/>
  <dc:title>Gain bandwidth of optical amplifers</dc:title>
</cp:coreProperties>
</file>