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9A0A-B4E5-4197-BA65-280F0F1CA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8E30-99F7-445D-9778-036F6D329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AD4A-3A3C-43AC-8C8F-221536A58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22DB-26D7-44B1-9580-3D377E3E1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C14F-5730-4E7A-971C-F422A4A0A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CE7B-34FB-423C-AE9A-A030F736F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34F1-EF64-4F5B-B490-2BC467177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99B3-EC9B-4A75-84C8-27FD457A5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4798-C9B3-432A-B559-4E03EAFE6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7A52-B08D-4467-8AA7-BE10ED6E4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8B16-5944-4451-BBF3-F212D3CF1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583C-393F-4C8E-B454-07F850EBE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wordmark%20on%20blue" descr=""/>
          <p:cNvPicPr/>
          <p:nvPr/>
        </p:nvPicPr>
        <p:blipFill>
          <a:blip r:embed="rId3"/>
          <a:stretch/>
        </p:blipFill>
        <p:spPr>
          <a:xfrm>
            <a:off x="7848720" y="6461280"/>
            <a:ext cx="1050840" cy="16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327320"/>
            <a:ext cx="8458200" cy="75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91000" y="6461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B01-F8C6-478D-8E3A-4A9EE8CC1214}" type="slidenum">
              <a:rPr b="0" lang="en-US" sz="1000" spc="-1" strike="noStrike">
                <a:solidFill>
                  <a:srgbClr val="00004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52720" y="6461280"/>
            <a:ext cx="14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ndards Enginee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werpoint%20corner%20on%20blue" descr=""/>
          <p:cNvPicPr/>
          <p:nvPr/>
        </p:nvPicPr>
        <p:blipFill>
          <a:blip r:embed="rId3"/>
          <a:stretch/>
        </p:blipFill>
        <p:spPr>
          <a:xfrm>
            <a:off x="114480" y="4952880"/>
            <a:ext cx="2323800" cy="180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6312-09F0-4F7B-81AB-CF76C4445D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Adding Little Cost or Signal Degradation to Pass Through Traffic: OADM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5440" y="1488960"/>
            <a:ext cx="8493120" cy="4835520"/>
            <a:chOff x="325440" y="1488960"/>
            <a:chExt cx="8493120" cy="4835520"/>
          </a:xfrm>
        </p:grpSpPr>
        <p:pic>
          <p:nvPicPr>
            <p:cNvPr id="207" name="Tomorrow_150dpi" descr=""/>
            <p:cNvPicPr/>
            <p:nvPr/>
          </p:nvPicPr>
          <p:blipFill>
            <a:blip r:embed="rId2"/>
            <a:stretch/>
          </p:blipFill>
          <p:spPr>
            <a:xfrm>
              <a:off x="325440" y="1488960"/>
              <a:ext cx="8493120" cy="483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"/>
            <p:cNvGrpSpPr/>
            <p:nvPr/>
          </p:nvGrpSpPr>
          <p:grpSpPr>
            <a:xfrm>
              <a:off x="1821960" y="4226040"/>
              <a:ext cx="1149840" cy="1608120"/>
              <a:chOff x="1821960" y="4226040"/>
              <a:chExt cx="1149840" cy="1608120"/>
            </a:xfrm>
          </p:grpSpPr>
          <p:sp>
            <p:nvSpPr>
              <p:cNvPr id="209" name=""/>
              <p:cNvSpPr/>
              <p:nvPr/>
            </p:nvSpPr>
            <p:spPr>
              <a:xfrm>
                <a:off x="1821960" y="5351400"/>
                <a:ext cx="1102680" cy="482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0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d/Dro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1080" y="4226040"/>
                <a:ext cx="990720" cy="70488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273400" y="500292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56" y="240"/>
                    </a:moveTo>
                    <a:cubicBezTo>
                      <a:pt x="28" y="208"/>
                      <a:pt x="0" y="176"/>
                      <a:pt x="8" y="144"/>
                    </a:cubicBezTo>
                    <a:cubicBezTo>
                      <a:pt x="16" y="112"/>
                      <a:pt x="104" y="72"/>
                      <a:pt x="104" y="48"/>
                    </a:cubicBezTo>
                    <a:cubicBezTo>
                      <a:pt x="104" y="24"/>
                      <a:pt x="56" y="12"/>
                      <a:pt x="8" y="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683F-6D85-4142-B63C-0F92E7CEDE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Smart’ Products - Dynamically Reconfigurable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97160" y="1692360"/>
            <a:ext cx="6505560" cy="4886280"/>
            <a:chOff x="1397160" y="1692360"/>
            <a:chExt cx="6505560" cy="4886280"/>
          </a:xfrm>
        </p:grpSpPr>
        <p:grpSp>
          <p:nvGrpSpPr>
            <p:cNvPr id="214" name=""/>
            <p:cNvGrpSpPr/>
            <p:nvPr/>
          </p:nvGrpSpPr>
          <p:grpSpPr>
            <a:xfrm>
              <a:off x="1397160" y="1692360"/>
              <a:ext cx="6505560" cy="4886280"/>
              <a:chOff x="1397160" y="1692360"/>
              <a:chExt cx="6505560" cy="4886280"/>
            </a:xfrm>
          </p:grpSpPr>
          <p:pic>
            <p:nvPicPr>
              <p:cNvPr id="2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97160" y="1692360"/>
                <a:ext cx="6505560" cy="488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4185000" y="2755800"/>
                <a:ext cx="1054080" cy="711360"/>
              </a:xfrm>
              <a:prstGeom prst="rect">
                <a:avLst/>
              </a:prstGeom>
              <a:solidFill>
                <a:srgbClr val="3ea4d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20000" y="2884320"/>
                <a:ext cx="8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C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76560" y="1725480"/>
                <a:ext cx="5067360" cy="520920"/>
              </a:xfrm>
              <a:prstGeom prst="rect">
                <a:avLst/>
              </a:prstGeom>
              <a:solidFill>
                <a:srgbClr val="3ea4d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dded wavelengths are coupled with equalize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hannels to form uniform spectrum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15520" y="3618000"/>
                <a:ext cx="299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ynamic Channel Equaliz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1614240" y="5541840"/>
              <a:ext cx="607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upports ‘Broadcast and Select’ technolog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FE59-2A59-4D91-803B-88BD893D0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Modularity - Platform Amplifier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9800" y="1539360"/>
            <a:ext cx="42670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mechanical platforms enable a reduction in design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increased speed to market and reduced development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forms still meet all important customer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Raman_Blue_L_Band_cropped" descr=""/>
          <p:cNvPicPr/>
          <p:nvPr/>
        </p:nvPicPr>
        <p:blipFill>
          <a:blip r:embed="rId2"/>
          <a:stretch/>
        </p:blipFill>
        <p:spPr>
          <a:xfrm>
            <a:off x="4619520" y="2301840"/>
            <a:ext cx="4267440" cy="2895480"/>
          </a:xfrm>
          <a:prstGeom prst="rect">
            <a:avLst/>
          </a:prstGeom>
          <a:ln w="38160">
            <a:solidFill>
              <a:srgbClr val="0000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2520-6A68-40BA-A50B-B84A2108B9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Higher Levels of Integration - Variable Gain Amplifier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448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39480" indent="-3394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FAs for Metro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ble gain amplifiers optimized for use in dynam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dded control electronics to deal with trans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loyed in both metro core and regional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able dynamic wavelength provisio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output power and low 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622760" y="2317680"/>
            <a:ext cx="4268520" cy="2896920"/>
            <a:chOff x="4622760" y="2317680"/>
            <a:chExt cx="4268520" cy="2896920"/>
          </a:xfrm>
        </p:grpSpPr>
        <p:pic>
          <p:nvPicPr>
            <p:cNvPr id="227" name="SmallNetwork_72dpi" descr=""/>
            <p:cNvPicPr/>
            <p:nvPr/>
          </p:nvPicPr>
          <p:blipFill>
            <a:blip r:embed="rId2"/>
            <a:srcRect l="28250" t="38404" r="3998" b="1596"/>
            <a:stretch/>
          </p:blipFill>
          <p:spPr>
            <a:xfrm>
              <a:off x="4622760" y="2317680"/>
              <a:ext cx="4268520" cy="2896920"/>
            </a:xfrm>
            <a:prstGeom prst="rect">
              <a:avLst/>
            </a:prstGeom>
            <a:ln w="9360">
              <a:solidFill>
                <a:srgbClr val="99ff99"/>
              </a:solidFill>
              <a:miter/>
            </a:ln>
          </p:spPr>
        </p:pic>
        <p:sp>
          <p:nvSpPr>
            <p:cNvPr id="228" name=""/>
            <p:cNvSpPr/>
            <p:nvPr/>
          </p:nvSpPr>
          <p:spPr>
            <a:xfrm>
              <a:off x="4802400" y="3459240"/>
              <a:ext cx="83772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4040" y="3800160"/>
              <a:ext cx="165744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ter-Office 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76200" y="4604400"/>
              <a:ext cx="59832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532B-2630-4050-B0E4-B99873F5AD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Higher Levels of Integration - Variable Gain Amplifier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3718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 fontScale="95000"/>
          </a:bodyPr>
          <a:p>
            <a:pPr marL="325800" indent="-3258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fiers  for Long-Haul / Ultra Long-Hau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dded electronics and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phisticated control capability with rapid transient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d bit error rate in dynam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power, wide bandwidth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 noise, low rip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EDFA and distributed Raman amplifier desig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uregain_5500%20color%20lo%20res" descr=""/>
          <p:cNvPicPr/>
          <p:nvPr/>
        </p:nvPicPr>
        <p:blipFill>
          <a:blip r:embed="rId2"/>
          <a:stretch/>
        </p:blipFill>
        <p:spPr>
          <a:xfrm>
            <a:off x="4619520" y="2300400"/>
            <a:ext cx="4267440" cy="28969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8F32-AE11-40C1-9C1D-B649350784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Lower Costs Through Innovation - SOA’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conductor Optical Amplifier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dvanced semiconductor processing techniqu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d for space - critical, cost sensitiv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plifies single/multiple channels in add-drop or metro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ments EDFAs in the metro 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63640" y="3645000"/>
            <a:ext cx="7899480" cy="2743200"/>
            <a:chOff x="863640" y="3645000"/>
            <a:chExt cx="7899480" cy="2743200"/>
          </a:xfrm>
        </p:grpSpPr>
        <p:pic>
          <p:nvPicPr>
            <p:cNvPr id="237" name="SmallNetwork_72dpi" descr=""/>
            <p:cNvPicPr/>
            <p:nvPr/>
          </p:nvPicPr>
          <p:blipFill>
            <a:blip r:embed="rId2"/>
            <a:srcRect l="5556" t="13333" r="1855" b="6667"/>
            <a:stretch/>
          </p:blipFill>
          <p:spPr>
            <a:xfrm>
              <a:off x="4952880" y="3645000"/>
              <a:ext cx="3810240" cy="2743200"/>
            </a:xfrm>
            <a:prstGeom prst="rect">
              <a:avLst/>
            </a:prstGeom>
            <a:ln w="9360">
              <a:solidFill>
                <a:srgbClr val="99ff99"/>
              </a:solidFill>
              <a:miter/>
            </a:ln>
          </p:spPr>
        </p:pic>
        <p:sp>
          <p:nvSpPr>
            <p:cNvPr id="238" name=""/>
            <p:cNvSpPr/>
            <p:nvPr/>
          </p:nvSpPr>
          <p:spPr>
            <a:xfrm>
              <a:off x="5106960" y="4338720"/>
              <a:ext cx="93672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mp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5029200"/>
              <a:ext cx="83772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68200" y="5257800"/>
              <a:ext cx="165744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ter-Office 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1" name="SOA" descr=""/>
            <p:cNvPicPr/>
            <p:nvPr/>
          </p:nvPicPr>
          <p:blipFill>
            <a:blip r:embed="rId3"/>
            <a:stretch/>
          </p:blipFill>
          <p:spPr>
            <a:xfrm>
              <a:off x="863640" y="3645000"/>
              <a:ext cx="3811680" cy="27414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2FE2-8718-4CA2-80D2-A10E172C07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Lower Costs Through Innovation - Mux/Demux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aging technology for Mux/Dem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duced space and cost for metro, access and long-hau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bines the functionality of two 3-port devices with the same spectral properties into one pack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0% component reduction and reduced footpri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93840" y="3444840"/>
            <a:ext cx="7428600" cy="3263760"/>
            <a:chOff x="393840" y="3444840"/>
            <a:chExt cx="7428600" cy="3263760"/>
          </a:xfrm>
        </p:grpSpPr>
        <p:sp>
          <p:nvSpPr>
            <p:cNvPr id="245" name=""/>
            <p:cNvSpPr/>
            <p:nvPr/>
          </p:nvSpPr>
          <p:spPr>
            <a:xfrm>
              <a:off x="393840" y="3444840"/>
              <a:ext cx="7391160" cy="2935080"/>
            </a:xfrm>
            <a:prstGeom prst="rect">
              <a:avLst/>
            </a:prstGeom>
            <a:solidFill>
              <a:srgbClr val="3ea4d5"/>
            </a:soli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demux%201" descr=""/>
            <p:cNvPicPr/>
            <p:nvPr/>
          </p:nvPicPr>
          <p:blipFill>
            <a:blip r:embed="rId2"/>
            <a:srcRect l="5139" t="0" r="0" b="0"/>
            <a:stretch/>
          </p:blipFill>
          <p:spPr>
            <a:xfrm>
              <a:off x="5003640" y="3562200"/>
              <a:ext cx="2771640" cy="15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demux%201" descr=""/>
            <p:cNvPicPr/>
            <p:nvPr/>
          </p:nvPicPr>
          <p:blipFill>
            <a:blip r:embed="rId3"/>
            <a:srcRect l="5139" t="0" r="0" b="0"/>
            <a:stretch/>
          </p:blipFill>
          <p:spPr>
            <a:xfrm>
              <a:off x="431640" y="3562200"/>
              <a:ext cx="277164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488240" y="3484440"/>
              <a:ext cx="138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ex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30800" y="347184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multiplex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93920" y="362556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479680" y="4176360"/>
              <a:ext cx="3742560" cy="2532240"/>
              <a:chOff x="2479680" y="4176360"/>
              <a:chExt cx="3742560" cy="2532240"/>
            </a:xfrm>
          </p:grpSpPr>
          <p:pic>
            <p:nvPicPr>
              <p:cNvPr id="252" name="muxdemux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7920" y="4176360"/>
                <a:ext cx="3514320" cy="253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2479680" y="5936400"/>
                <a:ext cx="3504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ultiplexer &amp; Demultiplex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79320" y="4584240"/>
                <a:ext cx="175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O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241880" y="4079880"/>
              <a:ext cx="0" cy="547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A809-6ABC-4991-9F4B-7CE2A41164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00160" y="1539360"/>
            <a:ext cx="8686800" cy="5042160"/>
            <a:chOff x="200160" y="1539360"/>
            <a:chExt cx="8686800" cy="5042160"/>
          </a:xfrm>
        </p:grpSpPr>
        <p:sp>
          <p:nvSpPr>
            <p:cNvPr id="258" name="PlaceHolder 2"/>
            <p:cNvSpPr>
              <a:spLocks noGrp="1"/>
            </p:cNvSpPr>
            <p:nvPr>
              <p:ph/>
            </p:nvPr>
          </p:nvSpPr>
          <p:spPr>
            <a:xfrm>
              <a:off x="200160" y="1539360"/>
              <a:ext cx="868680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rmAutofit/>
            </a:bodyPr>
            <a:p>
              <a:pPr marL="343080" indent="-343080">
                <a:spcAft>
                  <a:spcPts val="1500"/>
                </a:spcAft>
                <a:buClr>
                  <a:srgbClr val="ff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works are moving to optical transparency to provide cost effective solut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Aft>
                  <a:spcPts val="1500"/>
                </a:spcAft>
                <a:buClr>
                  <a:srgbClr val="ff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hotonic components will continue to drive optical transparenc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0040" y="36241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14840" y="362736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Transmitt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3640" y="362736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Opt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Amplifi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03160" y="3454560"/>
              <a:ext cx="1415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Disper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Compens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9040" y="3451320"/>
              <a:ext cx="102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Opt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Switch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41720" y="36529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Receiv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11440" y="584352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52560" y="5843520"/>
              <a:ext cx="67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Pum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La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48960" y="5654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Cabl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Opt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Fib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59960" y="5848200"/>
              <a:ext cx="1614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Opti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Add/Drop Swit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Modu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01040" y="5878440"/>
              <a:ext cx="136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Demultiplex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753240" y="3444840"/>
              <a:ext cx="0" cy="11095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12640" y="2938320"/>
              <a:ext cx="1756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Connectors,</a:t>
              </a:r>
              <a:br>
                <a:rPr sz="1400"/>
              </a:b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Cable Assemblies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33"/>
                  </a:solidFill>
                  <a:latin typeface="Arial"/>
                </a:rPr>
                <a:t>Optical Hardw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OL" descr=""/>
            <p:cNvPicPr/>
            <p:nvPr/>
          </p:nvPicPr>
          <p:blipFill>
            <a:blip r:embed="rId2"/>
            <a:stretch/>
          </p:blipFill>
          <p:spPr>
            <a:xfrm>
              <a:off x="1235160" y="3881520"/>
              <a:ext cx="6205320" cy="20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E443-B75F-4169-BF56-7649C5215A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B1B6-6EB5-4216-8E18-15CA333E21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Photonic Components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3700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 John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Engineering Manag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th Jul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Market Driver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System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gile transparent networ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art’ produ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ing Lower Component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ula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er levels of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14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8794-25C2-4549-8CDC-4596C2CB00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Today’s Long-Haul Network</a:t>
            </a:r>
            <a:br>
              <a:rPr sz="3200"/>
            </a:br>
            <a:r>
              <a:rPr b="0" i="1" lang="en-US" sz="2800" spc="-1" strike="noStrike">
                <a:solidFill>
                  <a:srgbClr val="ffcc33"/>
                </a:solidFill>
                <a:latin typeface="Arial"/>
              </a:rPr>
              <a:t>Opaque and Static</a:t>
            </a:r>
            <a:endParaRPr b="0" lang="en-US" sz="2800" spc="-1" strike="noStrike">
              <a:solidFill>
                <a:srgbClr val="ffcc33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8680" y="1488960"/>
            <a:ext cx="8497800" cy="4838760"/>
            <a:chOff x="328680" y="1488960"/>
            <a:chExt cx="8497800" cy="4838760"/>
          </a:xfrm>
        </p:grpSpPr>
        <p:pic>
          <p:nvPicPr>
            <p:cNvPr id="88" name="Today_72dpi_Revised" descr=""/>
            <p:cNvPicPr/>
            <p:nvPr/>
          </p:nvPicPr>
          <p:blipFill>
            <a:blip r:embed="rId2"/>
            <a:stretch/>
          </p:blipFill>
          <p:spPr>
            <a:xfrm>
              <a:off x="328680" y="1488960"/>
              <a:ext cx="8497800" cy="48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085760" y="4186080"/>
              <a:ext cx="93672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mp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32000" y="4692600"/>
              <a:ext cx="71100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86640" y="5216400"/>
              <a:ext cx="165744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ter-Office 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91160" y="5710320"/>
              <a:ext cx="71100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24320" y="4737240"/>
              <a:ext cx="59832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3600" y="4303800"/>
              <a:ext cx="148968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lectric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ross-conn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6200" y="3957480"/>
              <a:ext cx="64260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C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15280" y="3535200"/>
              <a:ext cx="71100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5040" y="2789280"/>
              <a:ext cx="60912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15040" y="4541760"/>
              <a:ext cx="138924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ong-Hau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int to 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05640" y="2967120"/>
              <a:ext cx="109656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mall Ci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43360" y="5029200"/>
              <a:ext cx="117720" cy="547560"/>
            </a:xfrm>
            <a:custGeom>
              <a:avLst/>
              <a:gdLst/>
              <a:ahLst/>
              <a:rect l="l" t="t" r="r" b="b"/>
              <a:pathLst>
                <a:path w="74" h="345">
                  <a:moveTo>
                    <a:pt x="18" y="0"/>
                  </a:moveTo>
                  <a:cubicBezTo>
                    <a:pt x="25" y="13"/>
                    <a:pt x="51" y="49"/>
                    <a:pt x="60" y="78"/>
                  </a:cubicBezTo>
                  <a:cubicBezTo>
                    <a:pt x="69" y="107"/>
                    <a:pt x="74" y="144"/>
                    <a:pt x="72" y="174"/>
                  </a:cubicBezTo>
                  <a:cubicBezTo>
                    <a:pt x="70" y="204"/>
                    <a:pt x="60" y="230"/>
                    <a:pt x="48" y="258"/>
                  </a:cubicBezTo>
                  <a:cubicBezTo>
                    <a:pt x="36" y="286"/>
                    <a:pt x="8" y="331"/>
                    <a:pt x="0" y="345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463840" y="4520880"/>
              <a:ext cx="52056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815840" y="4133520"/>
              <a:ext cx="36828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889160" y="4127400"/>
              <a:ext cx="1136520" cy="666720"/>
              <a:chOff x="4889160" y="4127400"/>
              <a:chExt cx="1136520" cy="66672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4889160" y="4641840"/>
                <a:ext cx="235080" cy="152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314680" y="4375080"/>
                <a:ext cx="291960" cy="171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810040" y="4127400"/>
                <a:ext cx="215640" cy="120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451560" y="3403440"/>
              <a:ext cx="806040" cy="482760"/>
              <a:chOff x="6451560" y="3403440"/>
              <a:chExt cx="806040" cy="48276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6451560" y="3765600"/>
                <a:ext cx="216000" cy="120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6921000" y="3403440"/>
                <a:ext cx="336600" cy="20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635880" y="2914560"/>
              <a:ext cx="368280" cy="20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49480" y="4962600"/>
              <a:ext cx="1546200" cy="895320"/>
            </a:xfrm>
            <a:custGeom>
              <a:avLst/>
              <a:gdLst/>
              <a:ahLst/>
              <a:rect l="l" t="t" r="r" b="b"/>
              <a:pathLst>
                <a:path w="974" h="564">
                  <a:moveTo>
                    <a:pt x="974" y="474"/>
                  </a:moveTo>
                  <a:cubicBezTo>
                    <a:pt x="943" y="486"/>
                    <a:pt x="865" y="534"/>
                    <a:pt x="788" y="549"/>
                  </a:cubicBezTo>
                  <a:cubicBezTo>
                    <a:pt x="711" y="564"/>
                    <a:pt x="588" y="564"/>
                    <a:pt x="512" y="561"/>
                  </a:cubicBezTo>
                  <a:cubicBezTo>
                    <a:pt x="436" y="558"/>
                    <a:pt x="388" y="547"/>
                    <a:pt x="329" y="528"/>
                  </a:cubicBezTo>
                  <a:cubicBezTo>
                    <a:pt x="270" y="509"/>
                    <a:pt x="206" y="478"/>
                    <a:pt x="158" y="444"/>
                  </a:cubicBezTo>
                  <a:cubicBezTo>
                    <a:pt x="110" y="410"/>
                    <a:pt x="64" y="356"/>
                    <a:pt x="41" y="327"/>
                  </a:cubicBezTo>
                  <a:cubicBezTo>
                    <a:pt x="18" y="298"/>
                    <a:pt x="22" y="303"/>
                    <a:pt x="17" y="270"/>
                  </a:cubicBezTo>
                  <a:cubicBezTo>
                    <a:pt x="12" y="237"/>
                    <a:pt x="0" y="174"/>
                    <a:pt x="14" y="129"/>
                  </a:cubicBezTo>
                  <a:cubicBezTo>
                    <a:pt x="28" y="84"/>
                    <a:pt x="66" y="42"/>
                    <a:pt x="104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BAC1-E6D6-4F1E-8354-12EB303108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Tomorrow’s Long-Haul Network</a:t>
            </a:r>
            <a:br>
              <a:rPr sz="3200"/>
            </a:br>
            <a:r>
              <a:rPr b="0" i="1" lang="en-US" sz="2800" spc="-1" strike="noStrike">
                <a:solidFill>
                  <a:srgbClr val="ffcc33"/>
                </a:solidFill>
                <a:latin typeface="Arial"/>
              </a:rPr>
              <a:t>Agile and Transparent</a:t>
            </a:r>
            <a:endParaRPr b="0" lang="en-US" sz="2800" spc="-1" strike="noStrike">
              <a:solidFill>
                <a:srgbClr val="ffcc33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5440" y="1488960"/>
            <a:ext cx="8493120" cy="4835520"/>
            <a:chOff x="325440" y="1488960"/>
            <a:chExt cx="8493120" cy="4835520"/>
          </a:xfrm>
        </p:grpSpPr>
        <p:pic>
          <p:nvPicPr>
            <p:cNvPr id="114" name="Tomorrow_150dpi" descr=""/>
            <p:cNvPicPr/>
            <p:nvPr/>
          </p:nvPicPr>
          <p:blipFill>
            <a:blip r:embed="rId2"/>
            <a:stretch/>
          </p:blipFill>
          <p:spPr>
            <a:xfrm>
              <a:off x="325440" y="1488960"/>
              <a:ext cx="8493120" cy="48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73000" y="4186080"/>
              <a:ext cx="93672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mp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5302080"/>
              <a:ext cx="24987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ter-Office 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25040" y="2789280"/>
              <a:ext cx="60912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38720" y="4491000"/>
              <a:ext cx="138924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ong-Hau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int to 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49720" y="2967120"/>
              <a:ext cx="109656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mall Ci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38240" y="2662200"/>
              <a:ext cx="91368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un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t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09280" y="3448080"/>
              <a:ext cx="103716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/Dro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48400" y="3957480"/>
              <a:ext cx="64260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C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0080" y="4262400"/>
              <a:ext cx="61956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X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24320" y="4737240"/>
              <a:ext cx="598320" cy="28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54800" y="4718160"/>
              <a:ext cx="103716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/Dro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800" y="4719600"/>
              <a:ext cx="84528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op 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04480" y="5194440"/>
              <a:ext cx="1003680" cy="482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fr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34000" y="5010120"/>
              <a:ext cx="127080" cy="566640"/>
            </a:xfrm>
            <a:custGeom>
              <a:avLst/>
              <a:gdLst/>
              <a:ahLst/>
              <a:rect l="l" t="t" r="r" b="b"/>
              <a:pathLst>
                <a:path w="80" h="357">
                  <a:moveTo>
                    <a:pt x="0" y="0"/>
                  </a:moveTo>
                  <a:cubicBezTo>
                    <a:pt x="11" y="15"/>
                    <a:pt x="53" y="59"/>
                    <a:pt x="66" y="90"/>
                  </a:cubicBezTo>
                  <a:cubicBezTo>
                    <a:pt x="79" y="121"/>
                    <a:pt x="80" y="156"/>
                    <a:pt x="78" y="186"/>
                  </a:cubicBezTo>
                  <a:cubicBezTo>
                    <a:pt x="76" y="216"/>
                    <a:pt x="66" y="242"/>
                    <a:pt x="54" y="270"/>
                  </a:cubicBezTo>
                  <a:cubicBezTo>
                    <a:pt x="42" y="298"/>
                    <a:pt x="14" y="343"/>
                    <a:pt x="6" y="357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52840" y="4638600"/>
              <a:ext cx="331560" cy="187560"/>
            </a:xfrm>
            <a:custGeom>
              <a:avLst/>
              <a:gdLst/>
              <a:ahLst/>
              <a:rect l="l" t="t" r="r" b="b"/>
              <a:pathLst>
                <a:path w="209" h="118">
                  <a:moveTo>
                    <a:pt x="209" y="118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889160" y="4103640"/>
              <a:ext cx="1160280" cy="690480"/>
              <a:chOff x="4889160" y="4103640"/>
              <a:chExt cx="1160280" cy="69048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4889160" y="4641840"/>
                <a:ext cx="235080" cy="152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5314680" y="4375080"/>
                <a:ext cx="291960" cy="171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810040" y="4103640"/>
                <a:ext cx="239400" cy="144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6413040" y="3809880"/>
              <a:ext cx="141480" cy="8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757560" y="3556080"/>
              <a:ext cx="258840" cy="14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010200" y="2814480"/>
              <a:ext cx="930240" cy="563760"/>
              <a:chOff x="6010200" y="2814480"/>
              <a:chExt cx="930240" cy="563760"/>
            </a:xfrm>
          </p:grpSpPr>
          <p:sp>
            <p:nvSpPr>
              <p:cNvPr id="137" name=""/>
              <p:cNvSpPr/>
              <p:nvPr/>
            </p:nvSpPr>
            <p:spPr>
              <a:xfrm>
                <a:off x="6010200" y="2814480"/>
                <a:ext cx="123840" cy="144720"/>
              </a:xfrm>
              <a:prstGeom prst="irregularSeal1">
                <a:avLst/>
              </a:prstGeom>
              <a:gradFill rotWithShape="0">
                <a:gsLst>
                  <a:gs pos="0">
                    <a:srgbClr val="465e46"/>
                  </a:gs>
                  <a:gs pos="100000">
                    <a:srgbClr val="99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02360" y="2901960"/>
                <a:ext cx="838080" cy="476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949480" y="4962600"/>
              <a:ext cx="1546200" cy="898560"/>
            </a:xfrm>
            <a:custGeom>
              <a:avLst/>
              <a:gdLst/>
              <a:ahLst/>
              <a:rect l="l" t="t" r="r" b="b"/>
              <a:pathLst>
                <a:path w="974" h="566">
                  <a:moveTo>
                    <a:pt x="974" y="474"/>
                  </a:moveTo>
                  <a:cubicBezTo>
                    <a:pt x="921" y="506"/>
                    <a:pt x="868" y="538"/>
                    <a:pt x="791" y="552"/>
                  </a:cubicBezTo>
                  <a:cubicBezTo>
                    <a:pt x="714" y="566"/>
                    <a:pt x="589" y="565"/>
                    <a:pt x="512" y="561"/>
                  </a:cubicBezTo>
                  <a:cubicBezTo>
                    <a:pt x="435" y="557"/>
                    <a:pt x="388" y="547"/>
                    <a:pt x="329" y="528"/>
                  </a:cubicBezTo>
                  <a:cubicBezTo>
                    <a:pt x="270" y="509"/>
                    <a:pt x="206" y="478"/>
                    <a:pt x="158" y="444"/>
                  </a:cubicBezTo>
                  <a:cubicBezTo>
                    <a:pt x="110" y="410"/>
                    <a:pt x="64" y="356"/>
                    <a:pt x="41" y="327"/>
                  </a:cubicBezTo>
                  <a:cubicBezTo>
                    <a:pt x="18" y="298"/>
                    <a:pt x="22" y="303"/>
                    <a:pt x="17" y="270"/>
                  </a:cubicBezTo>
                  <a:cubicBezTo>
                    <a:pt x="12" y="237"/>
                    <a:pt x="0" y="174"/>
                    <a:pt x="14" y="129"/>
                  </a:cubicBezTo>
                  <a:cubicBezTo>
                    <a:pt x="28" y="84"/>
                    <a:pt x="66" y="42"/>
                    <a:pt x="104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600200" y="4000680"/>
              <a:ext cx="642960" cy="395280"/>
              <a:chOff x="1600200" y="4000680"/>
              <a:chExt cx="642960" cy="39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600200" y="4000680"/>
                <a:ext cx="138240" cy="172800"/>
              </a:xfrm>
              <a:prstGeom prst="irregularSeal1">
                <a:avLst/>
              </a:prstGeom>
              <a:gradFill rotWithShape="0">
                <a:gsLst>
                  <a:gs pos="0">
                    <a:srgbClr val="465e46"/>
                  </a:gs>
                  <a:gs pos="100000">
                    <a:srgbClr val="99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00280" y="4076640"/>
                <a:ext cx="142920" cy="84240"/>
              </a:xfrm>
              <a:custGeom>
                <a:avLst/>
                <a:gdLst/>
                <a:ahLst/>
                <a:rect l="l" t="t" r="r" b="b"/>
                <a:pathLst>
                  <a:path w="315" h="180">
                    <a:moveTo>
                      <a:pt x="315" y="180"/>
                    </a:move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0800" y="4248000"/>
                <a:ext cx="252360" cy="147960"/>
              </a:xfrm>
              <a:custGeom>
                <a:avLst/>
                <a:gdLst/>
                <a:ahLst/>
                <a:rect l="l" t="t" r="r" b="b"/>
                <a:pathLst>
                  <a:path w="315" h="180">
                    <a:moveTo>
                      <a:pt x="315" y="180"/>
                    </a:moveTo>
                    <a:lnTo>
                      <a:pt x="0" y="0"/>
                    </a:lnTo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E340-992A-4F46-9424-12FF9F25A6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Products Needed to Enable Agile Transparency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cal transport technology that extends the distance between optical to electronic conver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cal switching technology that adds little cost or signal degradation to pass through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9D73-D786-4B65-9D27-D3D087340E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Extending the Distance Between Nodes: </a:t>
            </a:r>
            <a:br>
              <a:rPr sz="3200"/>
            </a:b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Raman Amplifier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0" t="14266" r="0" b="0"/>
          <a:stretch/>
        </p:blipFill>
        <p:spPr>
          <a:xfrm>
            <a:off x="6019920" y="3090960"/>
            <a:ext cx="2361960" cy="2547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22440" y="3251160"/>
            <a:ext cx="3949560" cy="23875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922680" y="5715000"/>
            <a:ext cx="33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Raman Ampl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33840" y="255744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m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47920" y="1905120"/>
            <a:ext cx="5715000" cy="457200"/>
            <a:chOff x="1447920" y="1905120"/>
            <a:chExt cx="5715000" cy="457200"/>
          </a:xfrm>
        </p:grpSpPr>
        <p:sp>
          <p:nvSpPr>
            <p:cNvPr id="152" name=""/>
            <p:cNvSpPr/>
            <p:nvPr/>
          </p:nvSpPr>
          <p:spPr>
            <a:xfrm>
              <a:off x="1447920" y="2133720"/>
              <a:ext cx="5715000" cy="0"/>
            </a:xfrm>
            <a:prstGeom prst="line">
              <a:avLst/>
            </a:prstGeom>
            <a:ln w="76320">
              <a:solidFill>
                <a:srgbClr val="3ea4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5790960" y="1981080"/>
              <a:ext cx="457200" cy="304920"/>
            </a:xfrm>
            <a:prstGeom prst="triangle">
              <a:avLst>
                <a:gd name="adj" fmla="val 50000"/>
              </a:avLst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4038480" y="1981080"/>
              <a:ext cx="457200" cy="304920"/>
            </a:xfrm>
            <a:prstGeom prst="triangle">
              <a:avLst>
                <a:gd name="adj" fmla="val 50000"/>
              </a:avLst>
            </a:prstGeom>
            <a:solidFill>
              <a:srgbClr val="ffcc33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2133360" y="1981080"/>
              <a:ext cx="457200" cy="304920"/>
            </a:xfrm>
            <a:prstGeom prst="triangle">
              <a:avLst>
                <a:gd name="adj" fmla="val 50000"/>
              </a:avLst>
            </a:prstGeom>
            <a:solidFill>
              <a:srgbClr val="ff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D311-E628-46A5-A294-6091A2B135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Extending the Distance Between Nodes: </a:t>
            </a:r>
            <a:br>
              <a:rPr sz="3200"/>
            </a:b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Dispersion Compensators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pic>
        <p:nvPicPr>
          <p:cNvPr id="157" name="PureForm_DCM_R_Package" descr=""/>
          <p:cNvPicPr/>
          <p:nvPr/>
        </p:nvPicPr>
        <p:blipFill>
          <a:blip r:embed="rId2"/>
          <a:srcRect l="17421" t="10203" r="16382" b="10203"/>
          <a:stretch/>
        </p:blipFill>
        <p:spPr>
          <a:xfrm>
            <a:off x="498600" y="2641680"/>
            <a:ext cx="3504960" cy="28033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200160" y="1539720"/>
            <a:ext cx="8691480" cy="16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dispersion slope compensation modules for G.652, G.655 and other singlemode fi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27680" y="3273480"/>
            <a:ext cx="3254400" cy="685800"/>
            <a:chOff x="4927680" y="3273480"/>
            <a:chExt cx="3254400" cy="685800"/>
          </a:xfrm>
        </p:grpSpPr>
        <p:grpSp>
          <p:nvGrpSpPr>
            <p:cNvPr id="160" name=""/>
            <p:cNvGrpSpPr/>
            <p:nvPr/>
          </p:nvGrpSpPr>
          <p:grpSpPr>
            <a:xfrm>
              <a:off x="4927680" y="3273480"/>
              <a:ext cx="685800" cy="685800"/>
              <a:chOff x="4927680" y="3273480"/>
              <a:chExt cx="685800" cy="685800"/>
            </a:xfrm>
          </p:grpSpPr>
          <p:sp>
            <p:nvSpPr>
              <p:cNvPr id="161" name=""/>
              <p:cNvSpPr/>
              <p:nvPr/>
            </p:nvSpPr>
            <p:spPr>
              <a:xfrm>
                <a:off x="4927680" y="327348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ff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5092920" y="3324600"/>
                <a:ext cx="355320" cy="547200"/>
                <a:chOff x="5092920" y="3324600"/>
                <a:chExt cx="355320" cy="5472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92920" y="3871800"/>
                  <a:ext cx="88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181840" y="3324600"/>
                  <a:ext cx="0" cy="54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5359320" y="3324600"/>
                  <a:ext cx="0" cy="54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59320" y="3871800"/>
                  <a:ext cx="889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181840" y="3328200"/>
                  <a:ext cx="177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5677200" y="3465720"/>
              <a:ext cx="438120" cy="301320"/>
            </a:xfrm>
            <a:prstGeom prst="rightArrow">
              <a:avLst>
                <a:gd name="adj1" fmla="val 50000"/>
                <a:gd name="adj2" fmla="val 36350"/>
              </a:avLst>
            </a:prstGeom>
            <a:solidFill>
              <a:srgbClr val="3ea4d5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1000" y="3273480"/>
              <a:ext cx="685800" cy="685800"/>
            </a:xfrm>
            <a:prstGeom prst="rect">
              <a:avLst/>
            </a:prstGeom>
            <a:noFill/>
            <a:ln w="28440">
              <a:solidFill>
                <a:srgbClr val="ff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6280" y="3273480"/>
              <a:ext cx="685800" cy="685800"/>
            </a:xfrm>
            <a:prstGeom prst="rect">
              <a:avLst/>
            </a:prstGeom>
            <a:noFill/>
            <a:ln w="28440">
              <a:solidFill>
                <a:srgbClr val="ff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661520" y="3390480"/>
              <a:ext cx="355320" cy="480960"/>
              <a:chOff x="7661520" y="3390480"/>
              <a:chExt cx="355320" cy="480960"/>
            </a:xfrm>
          </p:grpSpPr>
          <p:sp>
            <p:nvSpPr>
              <p:cNvPr id="172" name=""/>
              <p:cNvSpPr/>
              <p:nvPr/>
            </p:nvSpPr>
            <p:spPr>
              <a:xfrm>
                <a:off x="7661520" y="3871440"/>
                <a:ext cx="8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750440" y="3390480"/>
                <a:ext cx="0" cy="480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7927920" y="3390480"/>
                <a:ext cx="0" cy="480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27920" y="3871440"/>
                <a:ext cx="8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50440" y="3394080"/>
                <a:ext cx="177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953400" y="3465720"/>
              <a:ext cx="438120" cy="301320"/>
            </a:xfrm>
            <a:prstGeom prst="rightArrow">
              <a:avLst>
                <a:gd name="adj1" fmla="val 50000"/>
                <a:gd name="adj2" fmla="val 36350"/>
              </a:avLst>
            </a:prstGeom>
            <a:solidFill>
              <a:srgbClr val="3ea4d5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235920" y="3349800"/>
              <a:ext cx="615960" cy="496440"/>
              <a:chOff x="6235920" y="3349800"/>
              <a:chExt cx="615960" cy="496440"/>
            </a:xfrm>
          </p:grpSpPr>
          <p:sp>
            <p:nvSpPr>
              <p:cNvPr id="179" name=""/>
              <p:cNvSpPr/>
              <p:nvPr/>
            </p:nvSpPr>
            <p:spPr>
              <a:xfrm>
                <a:off x="6235920" y="3349800"/>
                <a:ext cx="317520" cy="496440"/>
              </a:xfrm>
              <a:custGeom>
                <a:avLst/>
                <a:gdLst/>
                <a:ahLst/>
                <a:rect l="l" t="t" r="r" b="b"/>
                <a:pathLst>
                  <a:path w="200" h="283">
                    <a:moveTo>
                      <a:pt x="0" y="283"/>
                    </a:moveTo>
                    <a:cubicBezTo>
                      <a:pt x="24" y="280"/>
                      <a:pt x="49" y="278"/>
                      <a:pt x="70" y="239"/>
                    </a:cubicBezTo>
                    <a:cubicBezTo>
                      <a:pt x="91" y="200"/>
                      <a:pt x="106" y="90"/>
                      <a:pt x="124" y="51"/>
                    </a:cubicBezTo>
                    <a:cubicBezTo>
                      <a:pt x="142" y="12"/>
                      <a:pt x="163" y="14"/>
                      <a:pt x="176" y="7"/>
                    </a:cubicBezTo>
                    <a:cubicBezTo>
                      <a:pt x="189" y="0"/>
                      <a:pt x="194" y="3"/>
                      <a:pt x="200" y="7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534360" y="3349800"/>
                <a:ext cx="317520" cy="496440"/>
              </a:xfrm>
              <a:custGeom>
                <a:avLst/>
                <a:gdLst/>
                <a:ahLst/>
                <a:rect l="l" t="t" r="r" b="b"/>
                <a:pathLst>
                  <a:path w="200" h="283">
                    <a:moveTo>
                      <a:pt x="0" y="283"/>
                    </a:moveTo>
                    <a:cubicBezTo>
                      <a:pt x="24" y="280"/>
                      <a:pt x="49" y="278"/>
                      <a:pt x="70" y="239"/>
                    </a:cubicBezTo>
                    <a:cubicBezTo>
                      <a:pt x="91" y="200"/>
                      <a:pt x="106" y="90"/>
                      <a:pt x="124" y="51"/>
                    </a:cubicBezTo>
                    <a:cubicBezTo>
                      <a:pt x="142" y="12"/>
                      <a:pt x="163" y="14"/>
                      <a:pt x="176" y="7"/>
                    </a:cubicBezTo>
                    <a:cubicBezTo>
                      <a:pt x="189" y="0"/>
                      <a:pt x="194" y="3"/>
                      <a:pt x="200" y="7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4242960" y="265104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st order compensation - pulse resha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35680" y="418788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nd order compensation - slope comp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948200" y="4667400"/>
            <a:ext cx="3389400" cy="1685520"/>
            <a:chOff x="4948200" y="4667400"/>
            <a:chExt cx="3389400" cy="1685520"/>
          </a:xfrm>
        </p:grpSpPr>
        <p:grpSp>
          <p:nvGrpSpPr>
            <p:cNvPr id="184" name=""/>
            <p:cNvGrpSpPr/>
            <p:nvPr/>
          </p:nvGrpSpPr>
          <p:grpSpPr>
            <a:xfrm>
              <a:off x="5762520" y="5202000"/>
              <a:ext cx="615960" cy="496800"/>
              <a:chOff x="5762520" y="5202000"/>
              <a:chExt cx="615960" cy="496800"/>
            </a:xfrm>
          </p:grpSpPr>
          <p:sp>
            <p:nvSpPr>
              <p:cNvPr id="185" name=""/>
              <p:cNvSpPr/>
              <p:nvPr/>
            </p:nvSpPr>
            <p:spPr>
              <a:xfrm>
                <a:off x="5762520" y="5202000"/>
                <a:ext cx="317520" cy="496800"/>
              </a:xfrm>
              <a:custGeom>
                <a:avLst/>
                <a:gdLst/>
                <a:ahLst/>
                <a:rect l="l" t="t" r="r" b="b"/>
                <a:pathLst>
                  <a:path w="200" h="283">
                    <a:moveTo>
                      <a:pt x="0" y="283"/>
                    </a:moveTo>
                    <a:cubicBezTo>
                      <a:pt x="24" y="280"/>
                      <a:pt x="49" y="278"/>
                      <a:pt x="70" y="239"/>
                    </a:cubicBezTo>
                    <a:cubicBezTo>
                      <a:pt x="91" y="200"/>
                      <a:pt x="106" y="90"/>
                      <a:pt x="124" y="51"/>
                    </a:cubicBezTo>
                    <a:cubicBezTo>
                      <a:pt x="142" y="12"/>
                      <a:pt x="163" y="14"/>
                      <a:pt x="176" y="7"/>
                    </a:cubicBezTo>
                    <a:cubicBezTo>
                      <a:pt x="189" y="0"/>
                      <a:pt x="194" y="3"/>
                      <a:pt x="200" y="7"/>
                    </a:cubicBezTo>
                  </a:path>
                </a:pathLst>
              </a:custGeom>
              <a:noFill/>
              <a:ln w="381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6060960" y="5202000"/>
                <a:ext cx="317520" cy="496800"/>
              </a:xfrm>
              <a:custGeom>
                <a:avLst/>
                <a:gdLst/>
                <a:ahLst/>
                <a:rect l="l" t="t" r="r" b="b"/>
                <a:pathLst>
                  <a:path w="200" h="283">
                    <a:moveTo>
                      <a:pt x="0" y="283"/>
                    </a:moveTo>
                    <a:cubicBezTo>
                      <a:pt x="24" y="280"/>
                      <a:pt x="49" y="278"/>
                      <a:pt x="70" y="239"/>
                    </a:cubicBezTo>
                    <a:cubicBezTo>
                      <a:pt x="91" y="200"/>
                      <a:pt x="106" y="90"/>
                      <a:pt x="124" y="51"/>
                    </a:cubicBezTo>
                    <a:cubicBezTo>
                      <a:pt x="142" y="12"/>
                      <a:pt x="163" y="14"/>
                      <a:pt x="176" y="7"/>
                    </a:cubicBezTo>
                    <a:cubicBezTo>
                      <a:pt x="189" y="0"/>
                      <a:pt x="194" y="3"/>
                      <a:pt x="200" y="7"/>
                    </a:cubicBezTo>
                  </a:path>
                </a:pathLst>
              </a:custGeom>
              <a:noFill/>
              <a:ln w="381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62600" y="5021280"/>
              <a:ext cx="615960" cy="496440"/>
              <a:chOff x="6762600" y="5021280"/>
              <a:chExt cx="615960" cy="496440"/>
            </a:xfrm>
          </p:grpSpPr>
          <p:sp>
            <p:nvSpPr>
              <p:cNvPr id="188" name=""/>
              <p:cNvSpPr/>
              <p:nvPr/>
            </p:nvSpPr>
            <p:spPr>
              <a:xfrm>
                <a:off x="6762600" y="5021280"/>
                <a:ext cx="317520" cy="496440"/>
              </a:xfrm>
              <a:custGeom>
                <a:avLst/>
                <a:gdLst/>
                <a:ahLst/>
                <a:rect l="l" t="t" r="r" b="b"/>
                <a:pathLst>
                  <a:path w="200" h="283">
                    <a:moveTo>
                      <a:pt x="0" y="283"/>
                    </a:moveTo>
                    <a:cubicBezTo>
                      <a:pt x="24" y="280"/>
                      <a:pt x="49" y="278"/>
                      <a:pt x="70" y="239"/>
                    </a:cubicBezTo>
                    <a:cubicBezTo>
                      <a:pt x="91" y="200"/>
                      <a:pt x="106" y="90"/>
                      <a:pt x="124" y="51"/>
                    </a:cubicBezTo>
                    <a:cubicBezTo>
                      <a:pt x="142" y="12"/>
                      <a:pt x="163" y="14"/>
                      <a:pt x="176" y="7"/>
                    </a:cubicBezTo>
                    <a:cubicBezTo>
                      <a:pt x="189" y="0"/>
                      <a:pt x="194" y="3"/>
                      <a:pt x="200" y="7"/>
                    </a:cubicBezTo>
                  </a:path>
                </a:pathLst>
              </a:custGeom>
              <a:noFill/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061040" y="5021280"/>
                <a:ext cx="317520" cy="496440"/>
              </a:xfrm>
              <a:custGeom>
                <a:avLst/>
                <a:gdLst/>
                <a:ahLst/>
                <a:rect l="l" t="t" r="r" b="b"/>
                <a:pathLst>
                  <a:path w="200" h="283">
                    <a:moveTo>
                      <a:pt x="0" y="283"/>
                    </a:moveTo>
                    <a:cubicBezTo>
                      <a:pt x="24" y="280"/>
                      <a:pt x="49" y="278"/>
                      <a:pt x="70" y="239"/>
                    </a:cubicBezTo>
                    <a:cubicBezTo>
                      <a:pt x="91" y="200"/>
                      <a:pt x="106" y="90"/>
                      <a:pt x="124" y="51"/>
                    </a:cubicBezTo>
                    <a:cubicBezTo>
                      <a:pt x="142" y="12"/>
                      <a:pt x="163" y="14"/>
                      <a:pt x="176" y="7"/>
                    </a:cubicBezTo>
                    <a:cubicBezTo>
                      <a:pt x="189" y="0"/>
                      <a:pt x="194" y="3"/>
                      <a:pt x="200" y="7"/>
                    </a:cubicBezTo>
                  </a:path>
                </a:pathLst>
              </a:custGeom>
              <a:noFill/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715160" y="4878360"/>
              <a:ext cx="615960" cy="496440"/>
              <a:chOff x="7715160" y="4878360"/>
              <a:chExt cx="615960" cy="496440"/>
            </a:xfrm>
          </p:grpSpPr>
          <p:sp>
            <p:nvSpPr>
              <p:cNvPr id="191" name=""/>
              <p:cNvSpPr/>
              <p:nvPr/>
            </p:nvSpPr>
            <p:spPr>
              <a:xfrm>
                <a:off x="7715160" y="4878360"/>
                <a:ext cx="317520" cy="496440"/>
              </a:xfrm>
              <a:custGeom>
                <a:avLst/>
                <a:gdLst/>
                <a:ahLst/>
                <a:rect l="l" t="t" r="r" b="b"/>
                <a:pathLst>
                  <a:path w="200" h="283">
                    <a:moveTo>
                      <a:pt x="0" y="283"/>
                    </a:moveTo>
                    <a:cubicBezTo>
                      <a:pt x="24" y="280"/>
                      <a:pt x="49" y="278"/>
                      <a:pt x="70" y="239"/>
                    </a:cubicBezTo>
                    <a:cubicBezTo>
                      <a:pt x="91" y="200"/>
                      <a:pt x="106" y="90"/>
                      <a:pt x="124" y="51"/>
                    </a:cubicBezTo>
                    <a:cubicBezTo>
                      <a:pt x="142" y="12"/>
                      <a:pt x="163" y="14"/>
                      <a:pt x="176" y="7"/>
                    </a:cubicBezTo>
                    <a:cubicBezTo>
                      <a:pt x="189" y="0"/>
                      <a:pt x="194" y="3"/>
                      <a:pt x="200" y="7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8013600" y="4878360"/>
                <a:ext cx="317520" cy="496440"/>
              </a:xfrm>
              <a:custGeom>
                <a:avLst/>
                <a:gdLst/>
                <a:ahLst/>
                <a:rect l="l" t="t" r="r" b="b"/>
                <a:pathLst>
                  <a:path w="200" h="283">
                    <a:moveTo>
                      <a:pt x="0" y="283"/>
                    </a:moveTo>
                    <a:cubicBezTo>
                      <a:pt x="24" y="280"/>
                      <a:pt x="49" y="278"/>
                      <a:pt x="70" y="239"/>
                    </a:cubicBezTo>
                    <a:cubicBezTo>
                      <a:pt x="91" y="200"/>
                      <a:pt x="106" y="90"/>
                      <a:pt x="124" y="51"/>
                    </a:cubicBezTo>
                    <a:cubicBezTo>
                      <a:pt x="142" y="12"/>
                      <a:pt x="163" y="14"/>
                      <a:pt x="176" y="7"/>
                    </a:cubicBezTo>
                    <a:cubicBezTo>
                      <a:pt x="189" y="0"/>
                      <a:pt x="194" y="3"/>
                      <a:pt x="200" y="7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flipV="1">
              <a:off x="5860800" y="5139720"/>
              <a:ext cx="2428920" cy="419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99160" y="53593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99160" y="4859280"/>
              <a:ext cx="0" cy="10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61920" y="571032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n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607640" y="500796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ers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ps/nm.k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BF4E-2C5B-4799-AE68-123683C10A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Adding Little Cost or Signal Degradation to Pass Through Traffic: OXC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5440" y="1488960"/>
            <a:ext cx="8493120" cy="4835520"/>
            <a:chOff x="325440" y="1488960"/>
            <a:chExt cx="8493120" cy="4835520"/>
          </a:xfrm>
        </p:grpSpPr>
        <p:pic>
          <p:nvPicPr>
            <p:cNvPr id="200" name="Tomorrow_150dpi" descr=""/>
            <p:cNvPicPr/>
            <p:nvPr/>
          </p:nvPicPr>
          <p:blipFill>
            <a:blip r:embed="rId2"/>
            <a:stretch/>
          </p:blipFill>
          <p:spPr>
            <a:xfrm>
              <a:off x="325440" y="1488960"/>
              <a:ext cx="8493120" cy="483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5638680" y="3701880"/>
              <a:ext cx="1067040" cy="1449000"/>
              <a:chOff x="5638680" y="3701880"/>
              <a:chExt cx="1067040" cy="1449000"/>
            </a:xfrm>
          </p:grpSpPr>
          <p:sp>
            <p:nvSpPr>
              <p:cNvPr id="202" name=""/>
              <p:cNvSpPr/>
              <p:nvPr/>
            </p:nvSpPr>
            <p:spPr>
              <a:xfrm>
                <a:off x="5850360" y="4862520"/>
                <a:ext cx="619560" cy="288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XC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38680" y="3701880"/>
                <a:ext cx="1067040" cy="72396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6083280" y="4494960"/>
                <a:ext cx="16524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56" y="240"/>
                    </a:moveTo>
                    <a:cubicBezTo>
                      <a:pt x="28" y="208"/>
                      <a:pt x="0" y="176"/>
                      <a:pt x="8" y="144"/>
                    </a:cubicBezTo>
                    <a:cubicBezTo>
                      <a:pt x="16" y="112"/>
                      <a:pt x="104" y="72"/>
                      <a:pt x="104" y="48"/>
                    </a:cubicBezTo>
                    <a:cubicBezTo>
                      <a:pt x="104" y="24"/>
                      <a:pt x="56" y="12"/>
                      <a:pt x="8" y="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11D5-DC7C-40F6-81FB-EC03568D2C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2:40:23Z</dcterms:created>
  <dc:creator>JohnsonR</dc:creator>
  <dc:description/>
  <dc:language>en-US</dc:language>
  <cp:lastModifiedBy>UGALE, Arvin Carlos D.</cp:lastModifiedBy>
  <cp:lastPrinted>2002-07-05T14:37:44Z</cp:lastPrinted>
  <dcterms:modified xsi:type="dcterms:W3CDTF">2002-07-19T14:08:26Z</dcterms:modified>
  <cp:revision>16</cp:revision>
  <dc:subject/>
  <dc:title>No Slide Title</dc:title>
</cp:coreProperties>
</file>