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853-1296-4F33-B33D-897D44A7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106-F723-4980-B479-A86E9D8A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9AE-3BC7-4D8E-A5E0-FE47873F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6CA-E451-4606-93D2-37DF5DEA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7AAC-67A4-4815-BDAD-ACD2725A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C15A-AF73-4C9E-A2D0-FCEF01E7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6EC9-BC78-4F30-9E93-B1B0F394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AC10-EB6E-48FF-90BA-7DD27A1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AE70-573B-4B1C-9644-3648AD6A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52320" y="-4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62EE-84C2-4BDA-B013-CC1B858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F7C7-7884-4C1D-B548-E54FCD58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3D6-2699-4640-B752-5BCDD073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398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2C63-2748-4C4E-BBDF-451EB00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344D-6A4F-4253-B70A-D9710552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562F-DC81-422C-989F-127FA95C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398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AB39-338A-4985-A47F-51DEF379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2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12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2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12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CDC4-D27C-4D84-8488-A7D73361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2A2-00D3-4077-8E0E-8633C458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739-D194-4057-B4E5-432FAA57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2F6-DC96-4A11-97E1-8937058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2320" y="-4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95A-8540-479C-8482-FA261D7D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6E4-8539-481C-922B-E25786A5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7D8-8751-4653-A90E-F04DF24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A1D-23DA-475C-90FA-35B469B8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LL_white_inside" descr=""/>
          <p:cNvPicPr/>
          <p:nvPr/>
        </p:nvPicPr>
        <p:blipFill>
          <a:blip r:embed="rId2"/>
          <a:srcRect l="0" t="0" r="0" b="76556"/>
          <a:stretch/>
        </p:blipFill>
        <p:spPr>
          <a:xfrm>
            <a:off x="0" y="0"/>
            <a:ext cx="9144000" cy="16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Click to edit the title text format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3240" indent="-3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3240" indent="-3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3" marL="3240" indent="-3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4" marL="3240" indent="-3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5" marL="3240" indent="-32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6" marL="3240" indent="-32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90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40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29760" y="6248520"/>
            <a:ext cx="1003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A498-6596-4157-BAA8-3964E6732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TLL_white_inside" descr=""/>
          <p:cNvPicPr/>
          <p:nvPr/>
        </p:nvPicPr>
        <p:blipFill>
          <a:blip r:embed="rId9"/>
          <a:srcRect l="81583" t="84840" r="0" b="0"/>
          <a:stretch/>
        </p:blipFill>
        <p:spPr>
          <a:xfrm>
            <a:off x="7459560" y="5816520"/>
            <a:ext cx="1684440" cy="104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8147" r="11579" b="0"/>
          <a:stretch/>
        </p:blipFill>
        <p:spPr>
          <a:xfrm>
            <a:off x="0" y="558720"/>
            <a:ext cx="8086680" cy="630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25360" y="2895480"/>
            <a:ext cx="7467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Optima DemiBold"/>
              </a:rPr>
              <a:t>Click to edit the title text format</a:t>
            </a:r>
            <a:endParaRPr b="0" lang="en-US" sz="2800" spc="-1" strike="noStrike">
              <a:solidFill>
                <a:srgbClr val="cccc99"/>
              </a:solidFill>
              <a:latin typeface="Optima Demi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417816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5"/>
          </p:nvPr>
        </p:nvSpPr>
        <p:spPr>
          <a:xfrm>
            <a:off x="1790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29760" y="6248520"/>
            <a:ext cx="1003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78CA-3AFE-4D76-82AF-1B80E500F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99"/>
                </a:solidFill>
                <a:latin typeface="Optima"/>
              </a:rPr>
              <a:t>Click to edit the outline text format</a:t>
            </a:r>
            <a:endParaRPr b="0" lang="en-US" sz="2000" spc="-1" strike="noStrike">
              <a:solidFill>
                <a:srgbClr val="cccc99"/>
              </a:solidFill>
              <a:latin typeface="Optima"/>
            </a:endParaRPr>
          </a:p>
          <a:p>
            <a:pPr lvl="1" marL="1173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519120" algn="ctr">
              <a:spcBef>
                <a:spcPts val="300"/>
              </a:spcBef>
              <a:buClr>
                <a:srgbClr val="000000"/>
              </a:buClr>
              <a:buSzPct val="75000"/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922320" algn="ctr">
              <a:spcBef>
                <a:spcPts val="125"/>
              </a:spcBef>
              <a:buClr>
                <a:srgbClr val="000000"/>
              </a:buClr>
              <a:buSzPct val="60000"/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201680" algn="ctr">
              <a:buClr>
                <a:srgbClr val="000000"/>
              </a:buClr>
              <a:buSzPct val="60000"/>
              <a:buFont typeface="Opti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5" marL="1201680">
              <a:spcBef>
                <a:spcPts val="451"/>
              </a:spcBef>
              <a:buClr>
                <a:srgbClr val="000000"/>
              </a:buClr>
              <a:buSzPct val="60000"/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6" marL="1201680">
              <a:spcBef>
                <a:spcPts val="451"/>
              </a:spcBef>
              <a:buClr>
                <a:srgbClr val="000000"/>
              </a:buClr>
              <a:buSzPct val="60000"/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10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3.png"/><Relationship Id="rId39" Type="http://schemas.openxmlformats.org/officeDocument/2006/relationships/image" Target="../media/image14.png"/><Relationship Id="rId40" Type="http://schemas.openxmlformats.org/officeDocument/2006/relationships/image" Target="../media/image15.png"/><Relationship Id="rId41" Type="http://schemas.openxmlformats.org/officeDocument/2006/relationships/image" Target="../media/image16.png"/><Relationship Id="rId42" Type="http://schemas.openxmlformats.org/officeDocument/2006/relationships/image" Target="../media/image17.png"/><Relationship Id="rId43" Type="http://schemas.openxmlformats.org/officeDocument/2006/relationships/image" Target="../media/image18.png"/><Relationship Id="rId44" Type="http://schemas.openxmlformats.org/officeDocument/2006/relationships/image" Target="../media/image19.png"/><Relationship Id="rId45" Type="http://schemas.openxmlformats.org/officeDocument/2006/relationships/image" Target="../media/image20.png"/><Relationship Id="rId46" Type="http://schemas.openxmlformats.org/officeDocument/2006/relationships/image" Target="../media/image21.png"/><Relationship Id="rId47" Type="http://schemas.openxmlformats.org/officeDocument/2006/relationships/image" Target="../media/image22.png"/><Relationship Id="rId48" Type="http://schemas.openxmlformats.org/officeDocument/2006/relationships/image" Target="../media/image23.png"/><Relationship Id="rId4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25360" y="2895480"/>
            <a:ext cx="71042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Optima DemiBold"/>
              </a:rPr>
              <a:t>G.7713.2: DCM Signaling Mechanism Using GMPLS RSVP-TE</a:t>
            </a:r>
            <a:endParaRPr b="0" lang="en-US" sz="2800" spc="-1" strike="noStrike">
              <a:solidFill>
                <a:srgbClr val="cccc99"/>
              </a:solidFill>
              <a:latin typeface="Optima Demi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25000" y="411444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99"/>
                </a:solidFill>
                <a:latin typeface="Optima"/>
              </a:rPr>
              <a:t>ITU-T Workshop on IP-Optical, Chitose, Japan</a:t>
            </a:r>
            <a:endParaRPr b="0" lang="en-US" sz="2000" spc="-1" strike="noStrike">
              <a:solidFill>
                <a:srgbClr val="cccc99"/>
              </a:solidFill>
              <a:latin typeface="Optima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99"/>
                </a:solidFill>
                <a:latin typeface="Optima"/>
              </a:rPr>
              <a:t>7/11/2002</a:t>
            </a:r>
            <a:endParaRPr b="0" lang="en-US" sz="2000" spc="-1" strike="noStrike">
              <a:solidFill>
                <a:srgbClr val="cccc99"/>
              </a:solidFill>
              <a:latin typeface="Optima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99"/>
                </a:solidFill>
                <a:latin typeface="Optima"/>
              </a:rPr>
              <a:t>Dimitrios Pendarakis, Tellium, Inc.</a:t>
            </a:r>
            <a:endParaRPr b="0" lang="en-US" sz="2000" spc="-1" strike="noStrike">
              <a:solidFill>
                <a:srgbClr val="cccc99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Call &amp; Connection Separation (2)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roposed resolution: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Focus on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logical separation,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for now (significantly simpler)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Re-use existing message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dds two new object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_i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_op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(call capability)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ssues currently under consider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Modification in RSVP-TE procedure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Backwards compatibility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Soft Permanent Connection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-2880">
              <a:spcBef>
                <a:spcPts val="4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PC connection assumes that the UNI-C to UNI-N signaling does not exist or is not exercised; instead it is provisioned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marL="2880" indent="-2880">
              <a:spcBef>
                <a:spcPts val="4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gnaling occurs only within the network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1" name=""/>
          <p:cNvSpPr/>
          <p:nvPr/>
        </p:nvSpPr>
        <p:spPr>
          <a:xfrm>
            <a:off x="7419960" y="3162240"/>
            <a:ext cx="809640" cy="267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2" name=""/>
          <p:cNvSpPr/>
          <p:nvPr/>
        </p:nvSpPr>
        <p:spPr>
          <a:xfrm>
            <a:off x="942840" y="3162240"/>
            <a:ext cx="809640" cy="267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3" name=""/>
          <p:cNvSpPr/>
          <p:nvPr/>
        </p:nvSpPr>
        <p:spPr>
          <a:xfrm>
            <a:off x="5800680" y="3162240"/>
            <a:ext cx="809640" cy="267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4" name=""/>
          <p:cNvSpPr/>
          <p:nvPr/>
        </p:nvSpPr>
        <p:spPr>
          <a:xfrm>
            <a:off x="2562120" y="3162240"/>
            <a:ext cx="2428920" cy="267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5" name=""/>
          <p:cNvSpPr/>
          <p:nvPr/>
        </p:nvSpPr>
        <p:spPr>
          <a:xfrm>
            <a:off x="2514600" y="317196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6" name=""/>
          <p:cNvSpPr/>
          <p:nvPr/>
        </p:nvSpPr>
        <p:spPr>
          <a:xfrm>
            <a:off x="2155680" y="3095640"/>
            <a:ext cx="0" cy="281952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7" name=""/>
          <p:cNvSpPr/>
          <p:nvPr/>
        </p:nvSpPr>
        <p:spPr>
          <a:xfrm>
            <a:off x="2971800" y="2867040"/>
            <a:ext cx="0" cy="300024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8" name=""/>
          <p:cNvSpPr/>
          <p:nvPr/>
        </p:nvSpPr>
        <p:spPr>
          <a:xfrm>
            <a:off x="5410080" y="2867040"/>
            <a:ext cx="0" cy="297180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9" name=""/>
          <p:cNvSpPr/>
          <p:nvPr/>
        </p:nvSpPr>
        <p:spPr>
          <a:xfrm>
            <a:off x="1676520" y="2638440"/>
            <a:ext cx="99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 from EMS/NMS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0" name=""/>
          <p:cNvSpPr/>
          <p:nvPr/>
        </p:nvSpPr>
        <p:spPr>
          <a:xfrm>
            <a:off x="5191200" y="2638440"/>
            <a:ext cx="5238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1" name=""/>
          <p:cNvSpPr/>
          <p:nvPr/>
        </p:nvSpPr>
        <p:spPr>
          <a:xfrm>
            <a:off x="1546200" y="5904000"/>
            <a:ext cx="4190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2" name=""/>
          <p:cNvSpPr/>
          <p:nvPr/>
        </p:nvSpPr>
        <p:spPr>
          <a:xfrm>
            <a:off x="2562120" y="338472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3" name=""/>
          <p:cNvSpPr/>
          <p:nvPr/>
        </p:nvSpPr>
        <p:spPr>
          <a:xfrm>
            <a:off x="3371760" y="347328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4" name=""/>
          <p:cNvSpPr/>
          <p:nvPr/>
        </p:nvSpPr>
        <p:spPr>
          <a:xfrm>
            <a:off x="4181400" y="356220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5" name=""/>
          <p:cNvSpPr/>
          <p:nvPr/>
        </p:nvSpPr>
        <p:spPr>
          <a:xfrm>
            <a:off x="4991040" y="365112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6" name=""/>
          <p:cNvSpPr/>
          <p:nvPr/>
        </p:nvSpPr>
        <p:spPr>
          <a:xfrm>
            <a:off x="5800680" y="374004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2561760" y="353700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371400" y="362592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181040" y="371484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990680" y="380376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800320" y="424800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4990680" y="433692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181040" y="442584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371400" y="451476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561760" y="4603680"/>
            <a:ext cx="80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6" name=""/>
          <p:cNvSpPr/>
          <p:nvPr/>
        </p:nvSpPr>
        <p:spPr>
          <a:xfrm>
            <a:off x="5800680" y="440064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7" name=""/>
          <p:cNvSpPr/>
          <p:nvPr/>
        </p:nvSpPr>
        <p:spPr>
          <a:xfrm>
            <a:off x="4991040" y="448956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8" name=""/>
          <p:cNvSpPr/>
          <p:nvPr/>
        </p:nvSpPr>
        <p:spPr>
          <a:xfrm>
            <a:off x="4181400" y="457848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9" name=""/>
          <p:cNvSpPr/>
          <p:nvPr/>
        </p:nvSpPr>
        <p:spPr>
          <a:xfrm>
            <a:off x="3371760" y="466740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0" name=""/>
          <p:cNvSpPr/>
          <p:nvPr/>
        </p:nvSpPr>
        <p:spPr>
          <a:xfrm>
            <a:off x="2562120" y="5032440"/>
            <a:ext cx="80964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1" name=""/>
          <p:cNvSpPr/>
          <p:nvPr/>
        </p:nvSpPr>
        <p:spPr>
          <a:xfrm>
            <a:off x="3371760" y="5121360"/>
            <a:ext cx="80964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2" name=""/>
          <p:cNvSpPr/>
          <p:nvPr/>
        </p:nvSpPr>
        <p:spPr>
          <a:xfrm>
            <a:off x="4181400" y="5210280"/>
            <a:ext cx="80964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3" name=""/>
          <p:cNvSpPr/>
          <p:nvPr/>
        </p:nvSpPr>
        <p:spPr>
          <a:xfrm>
            <a:off x="4991040" y="5299200"/>
            <a:ext cx="80964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4" name=""/>
          <p:cNvSpPr/>
          <p:nvPr/>
        </p:nvSpPr>
        <p:spPr>
          <a:xfrm>
            <a:off x="5800680" y="5388120"/>
            <a:ext cx="80964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2561760" y="5184720"/>
            <a:ext cx="80964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371400" y="5273640"/>
            <a:ext cx="80964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181040" y="5362560"/>
            <a:ext cx="80964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990680" y="5451480"/>
            <a:ext cx="80964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800320" y="5540400"/>
            <a:ext cx="80964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0" name=""/>
          <p:cNvSpPr/>
          <p:nvPr/>
        </p:nvSpPr>
        <p:spPr>
          <a:xfrm>
            <a:off x="2276640" y="3000240"/>
            <a:ext cx="16164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2561760" y="3228480"/>
            <a:ext cx="561960" cy="279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095880" y="3228480"/>
            <a:ext cx="514440" cy="279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3" name=""/>
          <p:cNvSpPr/>
          <p:nvPr/>
        </p:nvSpPr>
        <p:spPr>
          <a:xfrm>
            <a:off x="2446200" y="6130800"/>
            <a:ext cx="1704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terface/ Label identified by EMS/NMS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263844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5" name=""/>
          <p:cNvSpPr/>
          <p:nvPr/>
        </p:nvSpPr>
        <p:spPr>
          <a:xfrm>
            <a:off x="3352680" y="317196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6" name=""/>
          <p:cNvSpPr/>
          <p:nvPr/>
        </p:nvSpPr>
        <p:spPr>
          <a:xfrm>
            <a:off x="4191120" y="317196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7" name=""/>
          <p:cNvSpPr/>
          <p:nvPr/>
        </p:nvSpPr>
        <p:spPr>
          <a:xfrm>
            <a:off x="4975200" y="317196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317196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9" name=""/>
          <p:cNvSpPr/>
          <p:nvPr/>
        </p:nvSpPr>
        <p:spPr>
          <a:xfrm>
            <a:off x="6629400" y="317196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0" name=""/>
          <p:cNvSpPr/>
          <p:nvPr/>
        </p:nvSpPr>
        <p:spPr>
          <a:xfrm>
            <a:off x="1752480" y="317196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1" name=""/>
          <p:cNvSpPr/>
          <p:nvPr/>
        </p:nvSpPr>
        <p:spPr>
          <a:xfrm>
            <a:off x="7391520" y="317196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2" name=""/>
          <p:cNvSpPr/>
          <p:nvPr/>
        </p:nvSpPr>
        <p:spPr>
          <a:xfrm>
            <a:off x="5237280" y="6094440"/>
            <a:ext cx="1704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terface/ Label identified by EMS/NMS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3" name=""/>
          <p:cNvSpPr/>
          <p:nvPr/>
        </p:nvSpPr>
        <p:spPr>
          <a:xfrm>
            <a:off x="7201080" y="5937120"/>
            <a:ext cx="419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Soft Permanent Connection (2)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Information needed is the ingress interface/label into the network, and egress interface/label exiting the network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Ingress already provided by the external initiator (NMS/EMS) -- non-standard interface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Egress info needs to be handled and carried acros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396360" indent="-281520">
              <a:spcBef>
                <a:spcPts val="499"/>
              </a:spcBef>
              <a:buSzPct val="100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New sub-object of GENERALIZED_UNI defined: SPC_LAB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2" marL="792000" indent="-282960">
              <a:spcBef>
                <a:spcPts val="224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G_UNI defined in OIF UNI 1.0 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2" marL="792000" indent="-282960">
              <a:spcBef>
                <a:spcPts val="224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ssumes G_UNI is </a:t>
            </a:r>
            <a:r>
              <a:rPr b="0" i="1" lang="en-US" sz="1800" spc="-1" strike="noStrike">
                <a:solidFill>
                  <a:srgbClr val="000000"/>
                </a:solidFill>
                <a:latin typeface="Opti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 used -- may require TNA configuration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1" marL="396360" indent="-281520"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PC_LABEL also serves to indicate the request is a SPC request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396360" indent="-281520">
              <a:spcBef>
                <a:spcPts val="499"/>
              </a:spcBef>
              <a:buSzPct val="1007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Alternative proposal relies on ERO processing to identify egress port/lab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Soft Permanent Connection (3)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PC_LABEL provides the method for carrying the inform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7713.2 specification does not provide discuss how the information is obtained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An SPC may span multiple control or administrative domain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It is assumed that the entity initiating the SPC (EMS/NMS) knows this information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UNI-NNI Inter-working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89" name=""/>
          <p:cNvSpPr/>
          <p:nvPr/>
        </p:nvSpPr>
        <p:spPr>
          <a:xfrm>
            <a:off x="863640" y="167652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0" name=""/>
          <p:cNvSpPr/>
          <p:nvPr/>
        </p:nvSpPr>
        <p:spPr>
          <a:xfrm>
            <a:off x="1521000" y="1676520"/>
            <a:ext cx="40932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1" name=""/>
          <p:cNvSpPr/>
          <p:nvPr/>
        </p:nvSpPr>
        <p:spPr>
          <a:xfrm>
            <a:off x="1520280" y="167652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863640" y="1790640"/>
            <a:ext cx="1619280" cy="104760"/>
            <a:chOff x="863640" y="1790640"/>
            <a:chExt cx="1619280" cy="104760"/>
          </a:xfrm>
        </p:grpSpPr>
        <p:sp>
          <p:nvSpPr>
            <p:cNvPr id="693" name=""/>
            <p:cNvSpPr/>
            <p:nvPr/>
          </p:nvSpPr>
          <p:spPr>
            <a:xfrm>
              <a:off x="863640" y="1838160"/>
              <a:ext cx="1542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87520" y="179064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6703200" y="213372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6056280" y="2286000"/>
            <a:ext cx="1676520" cy="104760"/>
            <a:chOff x="6056280" y="2286000"/>
            <a:chExt cx="1676520" cy="104760"/>
          </a:xfrm>
        </p:grpSpPr>
        <p:sp>
          <p:nvSpPr>
            <p:cNvPr id="697" name=""/>
            <p:cNvSpPr/>
            <p:nvPr/>
          </p:nvSpPr>
          <p:spPr>
            <a:xfrm>
              <a:off x="6056280" y="2333880"/>
              <a:ext cx="160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37400" y="228600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521000" y="3209760"/>
            <a:ext cx="37116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0" name=""/>
          <p:cNvSpPr/>
          <p:nvPr/>
        </p:nvSpPr>
        <p:spPr>
          <a:xfrm>
            <a:off x="1518840" y="320976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v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882720" y="3333600"/>
            <a:ext cx="1618920" cy="104760"/>
            <a:chOff x="882720" y="3333600"/>
            <a:chExt cx="1618920" cy="104760"/>
          </a:xfrm>
        </p:grpSpPr>
        <p:sp>
          <p:nvSpPr>
            <p:cNvPr id="702" name=""/>
            <p:cNvSpPr/>
            <p:nvPr/>
          </p:nvSpPr>
          <p:spPr>
            <a:xfrm flipH="1">
              <a:off x="958680" y="3390480"/>
              <a:ext cx="1542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82720" y="333360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911160" y="1886040"/>
            <a:ext cx="152424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5" name=""/>
          <p:cNvSpPr/>
          <p:nvPr/>
        </p:nvSpPr>
        <p:spPr>
          <a:xfrm>
            <a:off x="7008120" y="144792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v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6" name=""/>
          <p:cNvSpPr/>
          <p:nvPr/>
        </p:nvSpPr>
        <p:spPr>
          <a:xfrm>
            <a:off x="6172200" y="25146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MESSAGE_ID_ACK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6075360" y="2610000"/>
            <a:ext cx="1666440" cy="104760"/>
            <a:chOff x="6075360" y="2610000"/>
            <a:chExt cx="1666440" cy="104760"/>
          </a:xfrm>
        </p:grpSpPr>
        <p:sp>
          <p:nvSpPr>
            <p:cNvPr id="708" name=""/>
            <p:cNvSpPr/>
            <p:nvPr/>
          </p:nvSpPr>
          <p:spPr>
            <a:xfrm flipH="1">
              <a:off x="6150960" y="2667240"/>
              <a:ext cx="1590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75360" y="261000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6170760" y="2695680"/>
            <a:ext cx="147636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1" name=""/>
          <p:cNvSpPr/>
          <p:nvPr/>
        </p:nvSpPr>
        <p:spPr>
          <a:xfrm>
            <a:off x="6789240" y="267660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84720" y="2771640"/>
            <a:ext cx="1666800" cy="104760"/>
            <a:chOff x="6084720" y="2771640"/>
            <a:chExt cx="1666800" cy="104760"/>
          </a:xfrm>
        </p:grpSpPr>
        <p:sp>
          <p:nvSpPr>
            <p:cNvPr id="713" name=""/>
            <p:cNvSpPr/>
            <p:nvPr/>
          </p:nvSpPr>
          <p:spPr>
            <a:xfrm>
              <a:off x="6084720" y="2819160"/>
              <a:ext cx="1590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56480" y="277164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511440" y="2085840"/>
            <a:ext cx="1573200" cy="104760"/>
            <a:chOff x="3511440" y="2085840"/>
            <a:chExt cx="1573200" cy="104760"/>
          </a:xfrm>
        </p:grpSpPr>
        <p:sp>
          <p:nvSpPr>
            <p:cNvPr id="716" name=""/>
            <p:cNvSpPr/>
            <p:nvPr/>
          </p:nvSpPr>
          <p:spPr>
            <a:xfrm>
              <a:off x="3511440" y="213336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6868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3528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01880" y="213336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68480" y="213336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3544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90204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96864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35240" y="213336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01840" y="213336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6880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3540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0200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68600" y="2133360"/>
              <a:ext cx="49320" cy="936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43700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0360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70200" y="213336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3716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0376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77036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36960" y="2133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03560" y="213336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70520" y="2133360"/>
              <a:ext cx="3780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89600" y="208584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863640" y="1981080"/>
            <a:ext cx="1619280" cy="104760"/>
            <a:chOff x="863640" y="1981080"/>
            <a:chExt cx="1619280" cy="104760"/>
          </a:xfrm>
        </p:grpSpPr>
        <p:sp>
          <p:nvSpPr>
            <p:cNvPr id="741" name=""/>
            <p:cNvSpPr/>
            <p:nvPr/>
          </p:nvSpPr>
          <p:spPr>
            <a:xfrm>
              <a:off x="939600" y="2037960"/>
              <a:ext cx="1543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63640" y="19810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732800" y="1676520"/>
            <a:ext cx="1440" cy="36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4" name=""/>
          <p:cNvSpPr/>
          <p:nvPr/>
        </p:nvSpPr>
        <p:spPr>
          <a:xfrm>
            <a:off x="5170320" y="3265560"/>
            <a:ext cx="22003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5" name=""/>
          <p:cNvSpPr/>
          <p:nvPr/>
        </p:nvSpPr>
        <p:spPr>
          <a:xfrm>
            <a:off x="5395320" y="3152880"/>
            <a:ext cx="279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NI Transport Connection Established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NNI may start transmitting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6" name=""/>
          <p:cNvSpPr/>
          <p:nvPr/>
        </p:nvSpPr>
        <p:spPr>
          <a:xfrm>
            <a:off x="2482920" y="1685880"/>
            <a:ext cx="1440" cy="364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7" name=""/>
          <p:cNvSpPr/>
          <p:nvPr/>
        </p:nvSpPr>
        <p:spPr>
          <a:xfrm>
            <a:off x="5084640" y="1685880"/>
            <a:ext cx="1800" cy="364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87320" y="3571920"/>
            <a:ext cx="6973920" cy="9360"/>
            <a:chOff x="787320" y="3571920"/>
            <a:chExt cx="6973920" cy="9360"/>
          </a:xfrm>
        </p:grpSpPr>
        <p:sp>
          <p:nvSpPr>
            <p:cNvPr id="749" name=""/>
            <p:cNvSpPr/>
            <p:nvPr/>
          </p:nvSpPr>
          <p:spPr>
            <a:xfrm>
              <a:off x="7873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39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205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8748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540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206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872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538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2084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874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540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206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872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542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208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874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540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2096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75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0541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207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873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5432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209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875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4541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5207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8768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6542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8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874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540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2104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876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542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208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874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544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210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876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542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2116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877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543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209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875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5452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9211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9877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543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209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8788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544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10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8948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560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26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892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6558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7228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7894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560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226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8960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562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28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894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560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2296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895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561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227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893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65632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229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895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561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227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98968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562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228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894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2560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3230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896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4562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2284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58980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564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230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896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85620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2316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897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563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229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8956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5652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231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897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4563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2292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89880" y="35719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564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23080" y="35719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6084720" y="5029200"/>
            <a:ext cx="164808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5" name=""/>
          <p:cNvSpPr/>
          <p:nvPr/>
        </p:nvSpPr>
        <p:spPr>
          <a:xfrm>
            <a:off x="6798960" y="502920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6" name=""/>
          <p:cNvSpPr/>
          <p:nvPr/>
        </p:nvSpPr>
        <p:spPr>
          <a:xfrm>
            <a:off x="606600" y="5410080"/>
            <a:ext cx="714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7" name=""/>
          <p:cNvSpPr/>
          <p:nvPr/>
        </p:nvSpPr>
        <p:spPr>
          <a:xfrm>
            <a:off x="605160" y="5410080"/>
            <a:ext cx="98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UNI-C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8" name=""/>
          <p:cNvSpPr/>
          <p:nvPr/>
        </p:nvSpPr>
        <p:spPr>
          <a:xfrm>
            <a:off x="7294680" y="5400720"/>
            <a:ext cx="86652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9" name=""/>
          <p:cNvSpPr/>
          <p:nvPr/>
        </p:nvSpPr>
        <p:spPr>
          <a:xfrm>
            <a:off x="7238880" y="5445000"/>
            <a:ext cx="12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tination UNI-C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0" name=""/>
          <p:cNvSpPr/>
          <p:nvPr/>
        </p:nvSpPr>
        <p:spPr>
          <a:xfrm>
            <a:off x="1868400" y="543888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-N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084720" y="5153040"/>
            <a:ext cx="1676160" cy="104760"/>
            <a:chOff x="6084720" y="5153040"/>
            <a:chExt cx="1676160" cy="104760"/>
          </a:xfrm>
        </p:grpSpPr>
        <p:sp>
          <p:nvSpPr>
            <p:cNvPr id="862" name=""/>
            <p:cNvSpPr/>
            <p:nvPr/>
          </p:nvSpPr>
          <p:spPr>
            <a:xfrm flipH="1">
              <a:off x="6160680" y="5210280"/>
              <a:ext cx="160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84720" y="515304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787320" y="4943520"/>
            <a:ext cx="6973920" cy="9360"/>
            <a:chOff x="787320" y="4943520"/>
            <a:chExt cx="6973920" cy="9360"/>
          </a:xfrm>
        </p:grpSpPr>
        <p:sp>
          <p:nvSpPr>
            <p:cNvPr id="865" name=""/>
            <p:cNvSpPr/>
            <p:nvPr/>
          </p:nvSpPr>
          <p:spPr>
            <a:xfrm>
              <a:off x="7873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539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205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98748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540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206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1872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538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32084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3874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540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5206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872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6542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208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7874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540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096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9875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541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1207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873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5432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209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875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541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5207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8768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542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7208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874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540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2104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9876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542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08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874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544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3210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876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542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2116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877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543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209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875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5452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9211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877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543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209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8788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544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210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8948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560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226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892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558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7228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894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560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226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98960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562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1228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1894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560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2296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895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561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227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893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5632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229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895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561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227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8968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562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228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894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560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3230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896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4562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2284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8980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564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230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7896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5620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2316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897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0563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229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18956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5652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231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897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563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52292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89880" y="4943520"/>
              <a:ext cx="3780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564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723080" y="4943520"/>
              <a:ext cx="3816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6180120" y="4476600"/>
            <a:ext cx="14191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1" name=""/>
          <p:cNvSpPr/>
          <p:nvPr/>
        </p:nvSpPr>
        <p:spPr>
          <a:xfrm>
            <a:off x="6645600" y="4476600"/>
            <a:ext cx="71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vConf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084720" y="4619520"/>
            <a:ext cx="1676520" cy="104760"/>
            <a:chOff x="6084720" y="4619520"/>
            <a:chExt cx="1676520" cy="104760"/>
          </a:xfrm>
        </p:grpSpPr>
        <p:sp>
          <p:nvSpPr>
            <p:cNvPr id="973" name=""/>
            <p:cNvSpPr/>
            <p:nvPr/>
          </p:nvSpPr>
          <p:spPr>
            <a:xfrm>
              <a:off x="6084720" y="4667040"/>
              <a:ext cx="160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65840" y="46195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1035000" y="3666960"/>
            <a:ext cx="115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6" name=""/>
          <p:cNvSpPr/>
          <p:nvPr/>
        </p:nvSpPr>
        <p:spPr>
          <a:xfrm>
            <a:off x="1366920" y="3648240"/>
            <a:ext cx="71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vConf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7" name=""/>
          <p:cNvSpPr/>
          <p:nvPr/>
        </p:nvSpPr>
        <p:spPr>
          <a:xfrm>
            <a:off x="1099440" y="3782880"/>
            <a:ext cx="15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MESSAGE_ID_ACK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8" name=""/>
          <p:cNvSpPr/>
          <p:nvPr/>
        </p:nvSpPr>
        <p:spPr>
          <a:xfrm>
            <a:off x="1558800" y="4048200"/>
            <a:ext cx="257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9" name=""/>
          <p:cNvSpPr/>
          <p:nvPr/>
        </p:nvSpPr>
        <p:spPr>
          <a:xfrm>
            <a:off x="1558440" y="403704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882720" y="4124160"/>
            <a:ext cx="1618920" cy="104760"/>
            <a:chOff x="882720" y="4124160"/>
            <a:chExt cx="1618920" cy="104760"/>
          </a:xfrm>
        </p:grpSpPr>
        <p:sp>
          <p:nvSpPr>
            <p:cNvPr id="981" name=""/>
            <p:cNvSpPr/>
            <p:nvPr/>
          </p:nvSpPr>
          <p:spPr>
            <a:xfrm flipH="1">
              <a:off x="958680" y="4181400"/>
              <a:ext cx="15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82720" y="412416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882720" y="3905280"/>
            <a:ext cx="1618920" cy="104760"/>
            <a:chOff x="882720" y="3905280"/>
            <a:chExt cx="1618920" cy="104760"/>
          </a:xfrm>
        </p:grpSpPr>
        <p:sp>
          <p:nvSpPr>
            <p:cNvPr id="984" name=""/>
            <p:cNvSpPr/>
            <p:nvPr/>
          </p:nvSpPr>
          <p:spPr>
            <a:xfrm>
              <a:off x="882720" y="3953160"/>
              <a:ext cx="15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06600" y="39052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265720" y="4753080"/>
            <a:ext cx="21906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7" name=""/>
          <p:cNvSpPr/>
          <p:nvPr/>
        </p:nvSpPr>
        <p:spPr>
          <a:xfrm>
            <a:off x="5424840" y="4734000"/>
            <a:ext cx="27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tination NNI may start transmitting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3521160" y="2257560"/>
            <a:ext cx="1573200" cy="104760"/>
            <a:chOff x="3521160" y="2257560"/>
            <a:chExt cx="1573200" cy="104760"/>
          </a:xfrm>
        </p:grpSpPr>
        <p:sp>
          <p:nvSpPr>
            <p:cNvPr id="989" name=""/>
            <p:cNvSpPr/>
            <p:nvPr/>
          </p:nvSpPr>
          <p:spPr>
            <a:xfrm>
              <a:off x="3597120" y="231480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5436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2096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87560" y="231480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5452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2112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98772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432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20920" y="231480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8788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5448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32108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8948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5608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2268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89280" y="231480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655880" y="231480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2284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78944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5604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922640" y="231480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89600" y="23148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56200" y="231480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21160" y="225756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4178160" y="1952640"/>
            <a:ext cx="41148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4" name=""/>
          <p:cNvSpPr/>
          <p:nvPr/>
        </p:nvSpPr>
        <p:spPr>
          <a:xfrm>
            <a:off x="4177800" y="195264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5" name=""/>
          <p:cNvSpPr/>
          <p:nvPr/>
        </p:nvSpPr>
        <p:spPr>
          <a:xfrm>
            <a:off x="3540240" y="2181240"/>
            <a:ext cx="1535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6" name=""/>
          <p:cNvSpPr/>
          <p:nvPr/>
        </p:nvSpPr>
        <p:spPr>
          <a:xfrm>
            <a:off x="4187520" y="218124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7" name=""/>
          <p:cNvSpPr/>
          <p:nvPr/>
        </p:nvSpPr>
        <p:spPr>
          <a:xfrm>
            <a:off x="4190400" y="291780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8" name=""/>
          <p:cNvSpPr/>
          <p:nvPr/>
        </p:nvSpPr>
        <p:spPr>
          <a:xfrm>
            <a:off x="4188960" y="266688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v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9" name=""/>
          <p:cNvSpPr/>
          <p:nvPr/>
        </p:nvSpPr>
        <p:spPr>
          <a:xfrm>
            <a:off x="3559320" y="4362480"/>
            <a:ext cx="156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0" name=""/>
          <p:cNvSpPr/>
          <p:nvPr/>
        </p:nvSpPr>
        <p:spPr>
          <a:xfrm>
            <a:off x="4225320" y="436248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1" name=""/>
          <p:cNvSpPr/>
          <p:nvPr/>
        </p:nvSpPr>
        <p:spPr>
          <a:xfrm>
            <a:off x="3559320" y="4105440"/>
            <a:ext cx="14587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2" name=""/>
          <p:cNvSpPr/>
          <p:nvPr/>
        </p:nvSpPr>
        <p:spPr>
          <a:xfrm>
            <a:off x="4043520" y="4105440"/>
            <a:ext cx="71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vConf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3" name=""/>
          <p:cNvSpPr/>
          <p:nvPr/>
        </p:nvSpPr>
        <p:spPr>
          <a:xfrm>
            <a:off x="3540240" y="1685880"/>
            <a:ext cx="1440" cy="364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4" name=""/>
          <p:cNvSpPr/>
          <p:nvPr/>
        </p:nvSpPr>
        <p:spPr>
          <a:xfrm>
            <a:off x="6075360" y="1685880"/>
            <a:ext cx="1440" cy="364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482920" y="1905120"/>
            <a:ext cx="1047600" cy="104760"/>
            <a:chOff x="2482920" y="1905120"/>
            <a:chExt cx="1047600" cy="104760"/>
          </a:xfrm>
        </p:grpSpPr>
        <p:sp>
          <p:nvSpPr>
            <p:cNvPr id="1026" name=""/>
            <p:cNvSpPr/>
            <p:nvPr/>
          </p:nvSpPr>
          <p:spPr>
            <a:xfrm>
              <a:off x="2482920" y="1952640"/>
              <a:ext cx="9712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35120" y="19051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5084640" y="2133720"/>
            <a:ext cx="990720" cy="104760"/>
            <a:chOff x="5084640" y="2133720"/>
            <a:chExt cx="990720" cy="104760"/>
          </a:xfrm>
        </p:grpSpPr>
        <p:sp>
          <p:nvSpPr>
            <p:cNvPr id="1029" name=""/>
            <p:cNvSpPr/>
            <p:nvPr/>
          </p:nvSpPr>
          <p:spPr>
            <a:xfrm>
              <a:off x="5084640" y="2181240"/>
              <a:ext cx="9144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79960" y="21337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5103720" y="2790720"/>
            <a:ext cx="990720" cy="104760"/>
            <a:chOff x="5103720" y="2790720"/>
            <a:chExt cx="990720" cy="104760"/>
          </a:xfrm>
        </p:grpSpPr>
        <p:sp>
          <p:nvSpPr>
            <p:cNvPr id="1032" name=""/>
            <p:cNvSpPr/>
            <p:nvPr/>
          </p:nvSpPr>
          <p:spPr>
            <a:xfrm flipH="1">
              <a:off x="5180040" y="2847600"/>
              <a:ext cx="9144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03720" y="279072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2492280" y="3238560"/>
            <a:ext cx="1047600" cy="104760"/>
            <a:chOff x="2492280" y="3238560"/>
            <a:chExt cx="1047600" cy="104760"/>
          </a:xfrm>
        </p:grpSpPr>
        <p:sp>
          <p:nvSpPr>
            <p:cNvPr id="1035" name=""/>
            <p:cNvSpPr/>
            <p:nvPr/>
          </p:nvSpPr>
          <p:spPr>
            <a:xfrm flipH="1">
              <a:off x="2568600" y="3295800"/>
              <a:ext cx="9712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92280" y="323856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502000" y="4057560"/>
            <a:ext cx="1047240" cy="104760"/>
            <a:chOff x="2502000" y="4057560"/>
            <a:chExt cx="1047240" cy="104760"/>
          </a:xfrm>
        </p:grpSpPr>
        <p:sp>
          <p:nvSpPr>
            <p:cNvPr id="1038" name=""/>
            <p:cNvSpPr/>
            <p:nvPr/>
          </p:nvSpPr>
          <p:spPr>
            <a:xfrm>
              <a:off x="2502000" y="4105080"/>
              <a:ext cx="9712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454200" y="405756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5103720" y="4371840"/>
            <a:ext cx="990720" cy="104760"/>
            <a:chOff x="5103720" y="4371840"/>
            <a:chExt cx="990720" cy="104760"/>
          </a:xfrm>
        </p:grpSpPr>
        <p:sp>
          <p:nvSpPr>
            <p:cNvPr id="1041" name=""/>
            <p:cNvSpPr/>
            <p:nvPr/>
          </p:nvSpPr>
          <p:spPr>
            <a:xfrm>
              <a:off x="5103720" y="4419360"/>
              <a:ext cx="9144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999040" y="437184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0" y="66"/>
                  </a:moveTo>
                  <a:lnTo>
                    <a:pt x="60" y="3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087720" y="543888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-NNI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4" name=""/>
          <p:cNvSpPr/>
          <p:nvPr/>
        </p:nvSpPr>
        <p:spPr>
          <a:xfrm>
            <a:off x="4383000" y="543888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NNI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5" name=""/>
          <p:cNvSpPr/>
          <p:nvPr/>
        </p:nvSpPr>
        <p:spPr>
          <a:xfrm>
            <a:off x="5678640" y="543888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-NNI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NI-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6" name=""/>
          <p:cNvSpPr/>
          <p:nvPr/>
        </p:nvSpPr>
        <p:spPr>
          <a:xfrm>
            <a:off x="3559320" y="4278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7" name=""/>
          <p:cNvSpPr/>
          <p:nvPr/>
        </p:nvSpPr>
        <p:spPr>
          <a:xfrm>
            <a:off x="3557520" y="456084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8" name=""/>
          <p:cNvSpPr/>
          <p:nvPr/>
        </p:nvSpPr>
        <p:spPr>
          <a:xfrm>
            <a:off x="355608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9" name=""/>
          <p:cNvSpPr/>
          <p:nvPr/>
        </p:nvSpPr>
        <p:spPr>
          <a:xfrm>
            <a:off x="3559320" y="31035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Open Issues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Reducing dependency on routing protocol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ultiple protocols – need for translation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Alignment with OIF E-NNI and UNI 1.0 work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nteraction with restoration signaling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anagement &amp; OAM&amp;P interfac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Configuration of control plane parameters (timers, features), monitoring, state information retrieva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Network element to EMS interfaces 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2" marL="1119960" indent="-22392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NMP MIBs, TL1, CORBA?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EMS to NMS extensions for integration with a multi-domain, multi-technology network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Alignment Issues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-28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Alignment with IETF &amp; OIF desirabl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880" indent="-28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Key contributors same across all bodi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880" indent="-28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ETF more focused on “peer” mod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396360" indent="-281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Hence, less inclined to introduce changes to GMPL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396360" indent="-281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lso, does not formally recognize OIF, yet!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2880" indent="-28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OIF focused on overlay model also, so coordination with E-NNI effort expected to be easier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880" indent="-28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First alignment draft submitted to IETF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396360" indent="-281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draft-lin-ccamp-gmpls-ason-rsvpte-00.txt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Presentation Overview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cope of G.7713.2 specific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ain architectural assumption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valuation of GMPLS RSVP-TE against requirements specified in G.7713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roposed resolution for requirements that are not  satisfied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Example Control Plane Partition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90" name=""/>
          <p:cNvSpPr/>
          <p:nvPr/>
        </p:nvSpPr>
        <p:spPr>
          <a:xfrm>
            <a:off x="1233360" y="2151000"/>
            <a:ext cx="497160" cy="5572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195680" y="2498760"/>
            <a:ext cx="497160" cy="2095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196040" y="1663560"/>
            <a:ext cx="1490760" cy="904680"/>
            <a:chOff x="7196040" y="1663560"/>
            <a:chExt cx="1490760" cy="904680"/>
          </a:xfrm>
        </p:grpSpPr>
        <p:grpSp>
          <p:nvGrpSpPr>
            <p:cNvPr id="93" name=""/>
            <p:cNvGrpSpPr/>
            <p:nvPr/>
          </p:nvGrpSpPr>
          <p:grpSpPr>
            <a:xfrm>
              <a:off x="7196040" y="1663560"/>
              <a:ext cx="1490760" cy="904680"/>
              <a:chOff x="7196040" y="1663560"/>
              <a:chExt cx="1490760" cy="904680"/>
            </a:xfrm>
          </p:grpSpPr>
          <p:sp>
            <p:nvSpPr>
              <p:cNvPr id="94" name=""/>
              <p:cNvSpPr/>
              <p:nvPr/>
            </p:nvSpPr>
            <p:spPr>
              <a:xfrm>
                <a:off x="7293240" y="1785600"/>
                <a:ext cx="518760" cy="2934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96040" y="1956960"/>
                <a:ext cx="518760" cy="2934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136000" y="1883520"/>
                <a:ext cx="518400" cy="2934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552440" y="1663560"/>
                <a:ext cx="518760" cy="29376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74000" y="1663560"/>
                <a:ext cx="518400" cy="29376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68400" y="2103840"/>
                <a:ext cx="518400" cy="2934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28080" y="2176920"/>
                <a:ext cx="518760" cy="29376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17600" y="2274480"/>
                <a:ext cx="518760" cy="29376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974000" y="2250720"/>
                <a:ext cx="518400" cy="29304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293240" y="1737000"/>
              <a:ext cx="1263960" cy="73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0880" y="1523880"/>
            <a:ext cx="1490760" cy="906480"/>
            <a:chOff x="380880" y="1523880"/>
            <a:chExt cx="1490760" cy="906480"/>
          </a:xfrm>
        </p:grpSpPr>
        <p:grpSp>
          <p:nvGrpSpPr>
            <p:cNvPr id="105" name=""/>
            <p:cNvGrpSpPr/>
            <p:nvPr/>
          </p:nvGrpSpPr>
          <p:grpSpPr>
            <a:xfrm>
              <a:off x="380880" y="1523880"/>
              <a:ext cx="1490760" cy="906480"/>
              <a:chOff x="380880" y="1523880"/>
              <a:chExt cx="1490760" cy="906480"/>
            </a:xfrm>
          </p:grpSpPr>
          <p:sp>
            <p:nvSpPr>
              <p:cNvPr id="106" name=""/>
              <p:cNvSpPr/>
              <p:nvPr/>
            </p:nvSpPr>
            <p:spPr>
              <a:xfrm>
                <a:off x="478080" y="1646280"/>
                <a:ext cx="518760" cy="29412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0880" y="1818000"/>
                <a:ext cx="518760" cy="29412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20840" y="1744200"/>
                <a:ext cx="518400" cy="29412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7280" y="1523880"/>
                <a:ext cx="518760" cy="29412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8840" y="1523880"/>
                <a:ext cx="518400" cy="29412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53240" y="1964880"/>
                <a:ext cx="518400" cy="29412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2920" y="2037960"/>
                <a:ext cx="518760" cy="29448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2440" y="2135880"/>
                <a:ext cx="518760" cy="29448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58840" y="2112120"/>
                <a:ext cx="518400" cy="29376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78080" y="1597320"/>
              <a:ext cx="1263960" cy="73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90920" y="1371600"/>
            <a:ext cx="857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Admi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03200" y="1733400"/>
            <a:ext cx="6389640" cy="3412800"/>
            <a:chOff x="1303200" y="1733400"/>
            <a:chExt cx="6389640" cy="3412800"/>
          </a:xfrm>
        </p:grpSpPr>
        <p:sp>
          <p:nvSpPr>
            <p:cNvPr id="118" name=""/>
            <p:cNvSpPr/>
            <p:nvPr/>
          </p:nvSpPr>
          <p:spPr>
            <a:xfrm>
              <a:off x="1720440" y="2194560"/>
              <a:ext cx="2223720" cy="110700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03200" y="2840400"/>
              <a:ext cx="2223720" cy="110700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1960" y="2563200"/>
              <a:ext cx="2222280" cy="110700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31040" y="1733400"/>
              <a:ext cx="2223720" cy="110808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37520" y="1733400"/>
              <a:ext cx="2222640" cy="110808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0560" y="3393360"/>
              <a:ext cx="2222280" cy="110700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1800" y="3669120"/>
              <a:ext cx="2223720" cy="110844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09680" y="4037760"/>
              <a:ext cx="2223720" cy="110844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37520" y="3947400"/>
              <a:ext cx="2222640" cy="1105560"/>
            </a:xfrm>
            <a:prstGeom prst="ellipse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752480" y="1981080"/>
            <a:ext cx="5418360" cy="276876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730520" y="2638440"/>
            <a:ext cx="1774440" cy="1044360"/>
            <a:chOff x="1730520" y="2638440"/>
            <a:chExt cx="1774440" cy="1044360"/>
          </a:xfrm>
        </p:grpSpPr>
        <p:grpSp>
          <p:nvGrpSpPr>
            <p:cNvPr id="129" name=""/>
            <p:cNvGrpSpPr/>
            <p:nvPr/>
          </p:nvGrpSpPr>
          <p:grpSpPr>
            <a:xfrm>
              <a:off x="1730520" y="2638440"/>
              <a:ext cx="1774440" cy="1044360"/>
              <a:chOff x="1730520" y="2638440"/>
              <a:chExt cx="1774440" cy="1044360"/>
            </a:xfrm>
          </p:grpSpPr>
          <p:sp>
            <p:nvSpPr>
              <p:cNvPr id="130" name=""/>
              <p:cNvSpPr/>
              <p:nvPr/>
            </p:nvSpPr>
            <p:spPr>
              <a:xfrm>
                <a:off x="1846440" y="2779560"/>
                <a:ext cx="617760" cy="33876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30520" y="2977200"/>
                <a:ext cx="617760" cy="33876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849400" y="2892240"/>
                <a:ext cx="617040" cy="33876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54960" y="2638440"/>
                <a:ext cx="617400" cy="339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56440" y="2638440"/>
                <a:ext cx="617400" cy="339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87920" y="3146400"/>
                <a:ext cx="617040" cy="33876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68680" y="3231000"/>
                <a:ext cx="617760" cy="339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32360" y="3343680"/>
                <a:ext cx="617760" cy="339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56440" y="3316320"/>
                <a:ext cx="617400" cy="33840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846440" y="2723040"/>
              <a:ext cx="1504800" cy="8470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924440" y="2081160"/>
            <a:ext cx="1774440" cy="1044360"/>
            <a:chOff x="4924440" y="2081160"/>
            <a:chExt cx="1774440" cy="1044360"/>
          </a:xfrm>
        </p:grpSpPr>
        <p:grpSp>
          <p:nvGrpSpPr>
            <p:cNvPr id="141" name=""/>
            <p:cNvGrpSpPr/>
            <p:nvPr/>
          </p:nvGrpSpPr>
          <p:grpSpPr>
            <a:xfrm>
              <a:off x="4924440" y="2081160"/>
              <a:ext cx="1774440" cy="1044360"/>
              <a:chOff x="4924440" y="2081160"/>
              <a:chExt cx="1774440" cy="1044360"/>
            </a:xfrm>
          </p:grpSpPr>
          <p:sp>
            <p:nvSpPr>
              <p:cNvPr id="142" name=""/>
              <p:cNvSpPr/>
              <p:nvPr/>
            </p:nvSpPr>
            <p:spPr>
              <a:xfrm>
                <a:off x="5040360" y="2222280"/>
                <a:ext cx="617760" cy="33876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24440" y="2419920"/>
                <a:ext cx="617760" cy="33876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43320" y="2334960"/>
                <a:ext cx="617040" cy="33876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48880" y="2081160"/>
                <a:ext cx="617400" cy="339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50360" y="2081160"/>
                <a:ext cx="617400" cy="339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81840" y="2589120"/>
                <a:ext cx="617040" cy="33876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62600" y="2673720"/>
                <a:ext cx="617760" cy="339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26280" y="2786400"/>
                <a:ext cx="617760" cy="339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50360" y="2759040"/>
                <a:ext cx="617400" cy="33840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5040360" y="2165760"/>
              <a:ext cx="1504800" cy="8470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973520" y="2895480"/>
            <a:ext cx="125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r A 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 Domai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392200"/>
            <a:ext cx="107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r C 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 Domai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4" name=""/>
          <p:cNvSpPr/>
          <p:nvPr/>
        </p:nvSpPr>
        <p:spPr>
          <a:xfrm>
            <a:off x="3290760" y="3475080"/>
            <a:ext cx="497160" cy="698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80120" y="3125880"/>
            <a:ext cx="496800" cy="279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6" name=""/>
          <p:cNvSpPr/>
          <p:nvPr/>
        </p:nvSpPr>
        <p:spPr>
          <a:xfrm>
            <a:off x="7509960" y="26668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7" name=""/>
          <p:cNvSpPr/>
          <p:nvPr/>
        </p:nvSpPr>
        <p:spPr>
          <a:xfrm>
            <a:off x="5638320" y="332280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787920" y="3125880"/>
            <a:ext cx="1774440" cy="906480"/>
            <a:chOff x="3787920" y="3125880"/>
            <a:chExt cx="1774440" cy="906480"/>
          </a:xfrm>
        </p:grpSpPr>
        <p:grpSp>
          <p:nvGrpSpPr>
            <p:cNvPr id="159" name=""/>
            <p:cNvGrpSpPr/>
            <p:nvPr/>
          </p:nvGrpSpPr>
          <p:grpSpPr>
            <a:xfrm>
              <a:off x="3787920" y="3125880"/>
              <a:ext cx="1774440" cy="906480"/>
              <a:chOff x="3787920" y="3125880"/>
              <a:chExt cx="1774440" cy="906480"/>
            </a:xfrm>
          </p:grpSpPr>
          <p:sp>
            <p:nvSpPr>
              <p:cNvPr id="160" name=""/>
              <p:cNvSpPr/>
              <p:nvPr/>
            </p:nvSpPr>
            <p:spPr>
              <a:xfrm>
                <a:off x="3903840" y="3248280"/>
                <a:ext cx="617760" cy="294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87920" y="3420000"/>
                <a:ext cx="617760" cy="294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06800" y="3346200"/>
                <a:ext cx="617040" cy="294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12360" y="3125880"/>
                <a:ext cx="617400" cy="294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3840" y="3125880"/>
                <a:ext cx="617400" cy="294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45320" y="3566880"/>
                <a:ext cx="617040" cy="29412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26080" y="3639960"/>
                <a:ext cx="617760" cy="29448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89760" y="3737880"/>
                <a:ext cx="617760" cy="29448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13840" y="3714120"/>
                <a:ext cx="617400" cy="293760"/>
              </a:xfrm>
              <a:prstGeom prst="ellipse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903840" y="3199320"/>
              <a:ext cx="1504800" cy="7351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190760" y="3276720"/>
            <a:ext cx="107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r B 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 Domai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62080" y="3544920"/>
            <a:ext cx="852480" cy="1881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2" name=""/>
          <p:cNvSpPr/>
          <p:nvPr/>
        </p:nvSpPr>
        <p:spPr>
          <a:xfrm>
            <a:off x="3078000" y="3614760"/>
            <a:ext cx="427320" cy="1879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19160" y="4937040"/>
            <a:ext cx="2555640" cy="1463040"/>
            <a:chOff x="1019160" y="4937040"/>
            <a:chExt cx="2555640" cy="1463040"/>
          </a:xfrm>
        </p:grpSpPr>
        <p:grpSp>
          <p:nvGrpSpPr>
            <p:cNvPr id="174" name=""/>
            <p:cNvGrpSpPr/>
            <p:nvPr/>
          </p:nvGrpSpPr>
          <p:grpSpPr>
            <a:xfrm>
              <a:off x="1019160" y="4937040"/>
              <a:ext cx="2555640" cy="1463040"/>
              <a:chOff x="1019160" y="4937040"/>
              <a:chExt cx="2555640" cy="1463040"/>
            </a:xfrm>
          </p:grpSpPr>
          <p:sp>
            <p:nvSpPr>
              <p:cNvPr id="175" name=""/>
              <p:cNvSpPr/>
              <p:nvPr/>
            </p:nvSpPr>
            <p:spPr>
              <a:xfrm>
                <a:off x="1185840" y="5134680"/>
                <a:ext cx="889560" cy="47448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19160" y="5411520"/>
                <a:ext cx="889560" cy="47448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30520" y="5292720"/>
                <a:ext cx="888840" cy="47448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30080" y="4937040"/>
                <a:ext cx="889200" cy="4752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52600" y="4937040"/>
                <a:ext cx="888840" cy="4752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85960" y="5648760"/>
                <a:ext cx="888840" cy="47448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074600" y="5766840"/>
                <a:ext cx="889560" cy="4752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41680" y="5924880"/>
                <a:ext cx="889560" cy="4752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52600" y="5886360"/>
                <a:ext cx="888840" cy="47412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185120" y="5054400"/>
              <a:ext cx="2168280" cy="11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27320" y="5564160"/>
            <a:ext cx="2840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33360" y="5356080"/>
            <a:ext cx="1063440" cy="557280"/>
            <a:chOff x="1233360" y="5356080"/>
            <a:chExt cx="1063440" cy="557280"/>
          </a:xfrm>
        </p:grpSpPr>
        <p:grpSp>
          <p:nvGrpSpPr>
            <p:cNvPr id="187" name=""/>
            <p:cNvGrpSpPr/>
            <p:nvPr/>
          </p:nvGrpSpPr>
          <p:grpSpPr>
            <a:xfrm>
              <a:off x="1233360" y="5356080"/>
              <a:ext cx="1063440" cy="557280"/>
              <a:chOff x="1233360" y="5356080"/>
              <a:chExt cx="1063440" cy="557280"/>
            </a:xfrm>
          </p:grpSpPr>
          <p:sp>
            <p:nvSpPr>
              <p:cNvPr id="188" name=""/>
              <p:cNvSpPr/>
              <p:nvPr/>
            </p:nvSpPr>
            <p:spPr>
              <a:xfrm>
                <a:off x="1302840" y="5431320"/>
                <a:ext cx="37008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233360" y="5536800"/>
                <a:ext cx="37008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04040" y="5491440"/>
                <a:ext cx="36972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87520" y="5356080"/>
                <a:ext cx="37008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88480" y="5356080"/>
                <a:ext cx="37008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27080" y="5627160"/>
                <a:ext cx="36972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56400" y="5672160"/>
                <a:ext cx="370080" cy="18108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533960" y="5732280"/>
                <a:ext cx="370080" cy="18108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88480" y="5717520"/>
                <a:ext cx="370080" cy="18036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302840" y="5401080"/>
              <a:ext cx="902160" cy="4518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368440" y="5356080"/>
            <a:ext cx="1065240" cy="557280"/>
            <a:chOff x="2368440" y="5356080"/>
            <a:chExt cx="1065240" cy="557280"/>
          </a:xfrm>
        </p:grpSpPr>
        <p:grpSp>
          <p:nvGrpSpPr>
            <p:cNvPr id="199" name=""/>
            <p:cNvGrpSpPr/>
            <p:nvPr/>
          </p:nvGrpSpPr>
          <p:grpSpPr>
            <a:xfrm>
              <a:off x="2368440" y="5356080"/>
              <a:ext cx="1065240" cy="557280"/>
              <a:chOff x="2368440" y="5356080"/>
              <a:chExt cx="1065240" cy="557280"/>
            </a:xfrm>
          </p:grpSpPr>
          <p:sp>
            <p:nvSpPr>
              <p:cNvPr id="200" name=""/>
              <p:cNvSpPr/>
              <p:nvPr/>
            </p:nvSpPr>
            <p:spPr>
              <a:xfrm>
                <a:off x="2437920" y="5431320"/>
                <a:ext cx="37080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8440" y="5536800"/>
                <a:ext cx="37080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40200" y="5491440"/>
                <a:ext cx="37044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22960" y="5356080"/>
                <a:ext cx="37080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24280" y="5356080"/>
                <a:ext cx="37044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63240" y="5627160"/>
                <a:ext cx="370440" cy="18072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391480" y="5672160"/>
                <a:ext cx="370800" cy="18108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69400" y="5732280"/>
                <a:ext cx="370800" cy="18108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24280" y="5717520"/>
                <a:ext cx="370440" cy="180360"/>
              </a:xfrm>
              <a:prstGeom prst="ellipse">
                <a:avLst/>
              </a:prstGeom>
              <a:solidFill>
                <a:srgbClr val="cc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37920" y="5401080"/>
              <a:ext cx="903240" cy="4518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467480" y="1873080"/>
            <a:ext cx="873000" cy="489240"/>
            <a:chOff x="7467480" y="1873080"/>
            <a:chExt cx="873000" cy="489240"/>
          </a:xfrm>
        </p:grpSpPr>
        <p:sp>
          <p:nvSpPr>
            <p:cNvPr id="211" name=""/>
            <p:cNvSpPr/>
            <p:nvPr/>
          </p:nvSpPr>
          <p:spPr>
            <a:xfrm>
              <a:off x="7467480" y="2008440"/>
              <a:ext cx="16200" cy="1044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67480" y="2028960"/>
              <a:ext cx="16200" cy="1080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67480" y="2050560"/>
              <a:ext cx="16200" cy="972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612200" y="2008080"/>
              <a:ext cx="358560" cy="468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8195760" y="1967040"/>
              <a:ext cx="144720" cy="56880"/>
              <a:chOff x="8195760" y="1967040"/>
              <a:chExt cx="144720" cy="568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8195760" y="1967040"/>
                <a:ext cx="144720" cy="56880"/>
                <a:chOff x="8195760" y="1967040"/>
                <a:chExt cx="144720" cy="56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8195760" y="1967040"/>
                  <a:ext cx="144720" cy="56880"/>
                </a:xfrm>
                <a:custGeom>
                  <a:avLst/>
                  <a:gdLst/>
                  <a:ahLst/>
                  <a:rect l="l" t="t" r="r" b="b"/>
                  <a:pathLst>
                    <a:path w="90" h="55">
                      <a:moveTo>
                        <a:pt x="45" y="0"/>
                      </a:moveTo>
                      <a:cubicBezTo>
                        <a:pt x="20" y="0"/>
                        <a:pt x="0" y="6"/>
                        <a:pt x="0" y="14"/>
                      </a:cubicBezTo>
                      <a:lnTo>
                        <a:pt x="0" y="41"/>
                      </a:lnTo>
                      <a:cubicBezTo>
                        <a:pt x="0" y="49"/>
                        <a:pt x="20" y="55"/>
                        <a:pt x="45" y="55"/>
                      </a:cubicBezTo>
                      <a:cubicBezTo>
                        <a:pt x="70" y="55"/>
                        <a:pt x="90" y="49"/>
                        <a:pt x="90" y="41"/>
                      </a:cubicBezTo>
                      <a:lnTo>
                        <a:pt x="90" y="14"/>
                      </a:lnTo>
                      <a:cubicBezTo>
                        <a:pt x="90" y="6"/>
                        <a:pt x="70" y="0"/>
                        <a:pt x="45" y="0"/>
                      </a:cubicBezTo>
                      <a:close/>
                    </a:path>
                  </a:pathLst>
                </a:custGeom>
                <a:solidFill>
                  <a:srgbClr val="00b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95760" y="1967040"/>
                  <a:ext cx="144720" cy="28440"/>
                </a:xfrm>
                <a:prstGeom prst="ellipse">
                  <a:avLst/>
                </a:prstGeom>
                <a:solidFill>
                  <a:srgbClr val="32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195760" y="1967040"/>
                  <a:ext cx="144720" cy="56880"/>
                </a:xfrm>
                <a:custGeom>
                  <a:avLst/>
                  <a:gdLst/>
                  <a:ahLst/>
                  <a:rect l="l" t="t" r="r" b="b"/>
                  <a:pathLst>
                    <a:path w="90" h="55">
                      <a:moveTo>
                        <a:pt x="45" y="0"/>
                      </a:moveTo>
                      <a:cubicBezTo>
                        <a:pt x="20" y="0"/>
                        <a:pt x="0" y="6"/>
                        <a:pt x="0" y="14"/>
                      </a:cubicBezTo>
                      <a:lnTo>
                        <a:pt x="0" y="41"/>
                      </a:lnTo>
                      <a:cubicBezTo>
                        <a:pt x="0" y="49"/>
                        <a:pt x="20" y="55"/>
                        <a:pt x="45" y="55"/>
                      </a:cubicBezTo>
                      <a:cubicBezTo>
                        <a:pt x="70" y="55"/>
                        <a:pt x="90" y="49"/>
                        <a:pt x="90" y="41"/>
                      </a:cubicBezTo>
                      <a:lnTo>
                        <a:pt x="90" y="14"/>
                      </a:lnTo>
                      <a:cubicBezTo>
                        <a:pt x="90" y="6"/>
                        <a:pt x="70" y="0"/>
                        <a:pt x="45" y="0"/>
                      </a:cubicBezTo>
                      <a:close/>
                    </a:path>
                  </a:pathLst>
                </a:custGeom>
                <a:noFill/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95760" y="1981440"/>
                  <a:ext cx="144720" cy="13680"/>
                </a:xfrm>
                <a:custGeom>
                  <a:avLst/>
                  <a:gdLst/>
                  <a:ahLst/>
                  <a:rect l="l" t="t" r="r" b="b"/>
                  <a:pathLst>
                    <a:path w="90" h="14">
                      <a:moveTo>
                        <a:pt x="0" y="0"/>
                      </a:moveTo>
                      <a:cubicBezTo>
                        <a:pt x="0" y="8"/>
                        <a:pt x="20" y="14"/>
                        <a:pt x="45" y="14"/>
                      </a:cubicBezTo>
                      <a:cubicBezTo>
                        <a:pt x="70" y="14"/>
                        <a:pt x="90" y="8"/>
                        <a:pt x="90" y="0"/>
                      </a:cubicBezTo>
                    </a:path>
                  </a:pathLst>
                </a:custGeom>
                <a:noFill/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8212320" y="1971720"/>
                <a:ext cx="106920" cy="19440"/>
                <a:chOff x="8212320" y="1971720"/>
                <a:chExt cx="106920" cy="194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268480" y="197172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0" y="6"/>
                      </a:moveTo>
                      <a:lnTo>
                        <a:pt x="8" y="8"/>
                      </a:lnTo>
                      <a:lnTo>
                        <a:pt x="29" y="3"/>
                      </a:lnTo>
                      <a:lnTo>
                        <a:pt x="37" y="5"/>
                      </a:lnTo>
                      <a:lnTo>
                        <a:pt x="33" y="0"/>
                      </a:lnTo>
                      <a:lnTo>
                        <a:pt x="9" y="0"/>
                      </a:lnTo>
                      <a:lnTo>
                        <a:pt x="19" y="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268480" y="197172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0" y="6"/>
                      </a:moveTo>
                      <a:lnTo>
                        <a:pt x="8" y="8"/>
                      </a:lnTo>
                      <a:lnTo>
                        <a:pt x="29" y="3"/>
                      </a:lnTo>
                      <a:lnTo>
                        <a:pt x="37" y="5"/>
                      </a:lnTo>
                      <a:lnTo>
                        <a:pt x="33" y="0"/>
                      </a:lnTo>
                      <a:lnTo>
                        <a:pt x="9" y="0"/>
                      </a:lnTo>
                      <a:lnTo>
                        <a:pt x="19" y="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212320" y="1982520"/>
                  <a:ext cx="50760" cy="756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1"/>
                      </a:moveTo>
                      <a:lnTo>
                        <a:pt x="29" y="0"/>
                      </a:lnTo>
                      <a:lnTo>
                        <a:pt x="9" y="5"/>
                      </a:lnTo>
                      <a:lnTo>
                        <a:pt x="0" y="3"/>
                      </a:lnTo>
                      <a:lnTo>
                        <a:pt x="5" y="8"/>
                      </a:lnTo>
                      <a:lnTo>
                        <a:pt x="29" y="8"/>
                      </a:lnTo>
                      <a:lnTo>
                        <a:pt x="19" y="6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212320" y="1982520"/>
                  <a:ext cx="50760" cy="756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1"/>
                      </a:moveTo>
                      <a:lnTo>
                        <a:pt x="29" y="0"/>
                      </a:lnTo>
                      <a:lnTo>
                        <a:pt x="9" y="5"/>
                      </a:lnTo>
                      <a:lnTo>
                        <a:pt x="0" y="3"/>
                      </a:lnTo>
                      <a:lnTo>
                        <a:pt x="5" y="8"/>
                      </a:lnTo>
                      <a:lnTo>
                        <a:pt x="29" y="8"/>
                      </a:lnTo>
                      <a:lnTo>
                        <a:pt x="19" y="6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14840" y="1971720"/>
                  <a:ext cx="51840" cy="792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8" y="5"/>
                      </a:lnTo>
                      <a:lnTo>
                        <a:pt x="38" y="3"/>
                      </a:lnTo>
                      <a:lnTo>
                        <a:pt x="33" y="8"/>
                      </a:lnTo>
                      <a:lnTo>
                        <a:pt x="9" y="8"/>
                      </a:lnTo>
                      <a:lnTo>
                        <a:pt x="19" y="6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214840" y="1971720"/>
                  <a:ext cx="51840" cy="792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8" y="5"/>
                      </a:lnTo>
                      <a:lnTo>
                        <a:pt x="38" y="3"/>
                      </a:lnTo>
                      <a:lnTo>
                        <a:pt x="33" y="8"/>
                      </a:lnTo>
                      <a:lnTo>
                        <a:pt x="9" y="8"/>
                      </a:lnTo>
                      <a:lnTo>
                        <a:pt x="19" y="6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267040" y="1982520"/>
                  <a:ext cx="50760" cy="8640"/>
                </a:xfrm>
                <a:custGeom>
                  <a:avLst/>
                  <a:gdLst/>
                  <a:ahLst/>
                  <a:rect l="l" t="t" r="r" b="b"/>
                  <a:pathLst>
                    <a:path w="37" h="9">
                      <a:moveTo>
                        <a:pt x="37" y="7"/>
                      </a:moveTo>
                      <a:lnTo>
                        <a:pt x="29" y="9"/>
                      </a:lnTo>
                      <a:lnTo>
                        <a:pt x="9" y="3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29" y="0"/>
                      </a:lnTo>
                      <a:lnTo>
                        <a:pt x="18" y="2"/>
                      </a:lnTo>
                      <a:lnTo>
                        <a:pt x="37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67040" y="1982520"/>
                  <a:ext cx="50760" cy="8640"/>
                </a:xfrm>
                <a:custGeom>
                  <a:avLst/>
                  <a:gdLst/>
                  <a:ahLst/>
                  <a:rect l="l" t="t" r="r" b="b"/>
                  <a:pathLst>
                    <a:path w="37" h="9">
                      <a:moveTo>
                        <a:pt x="37" y="7"/>
                      </a:moveTo>
                      <a:lnTo>
                        <a:pt x="29" y="9"/>
                      </a:lnTo>
                      <a:lnTo>
                        <a:pt x="9" y="3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29" y="0"/>
                      </a:lnTo>
                      <a:lnTo>
                        <a:pt x="18" y="2"/>
                      </a:lnTo>
                      <a:lnTo>
                        <a:pt x="37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8195760" y="2232000"/>
              <a:ext cx="144720" cy="57600"/>
              <a:chOff x="8195760" y="2232000"/>
              <a:chExt cx="144720" cy="576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8195760" y="2232000"/>
                <a:ext cx="144720" cy="57600"/>
                <a:chOff x="8195760" y="2232000"/>
                <a:chExt cx="144720" cy="576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8195760" y="2232000"/>
                  <a:ext cx="144720" cy="57600"/>
                </a:xfrm>
                <a:custGeom>
                  <a:avLst/>
                  <a:gdLst/>
                  <a:ahLst/>
                  <a:rect l="l" t="t" r="r" b="b"/>
                  <a:pathLst>
                    <a:path w="90" h="55">
                      <a:moveTo>
                        <a:pt x="45" y="0"/>
                      </a:moveTo>
                      <a:cubicBezTo>
                        <a:pt x="20" y="0"/>
                        <a:pt x="0" y="6"/>
                        <a:pt x="0" y="14"/>
                      </a:cubicBezTo>
                      <a:lnTo>
                        <a:pt x="0" y="41"/>
                      </a:lnTo>
                      <a:cubicBezTo>
                        <a:pt x="0" y="49"/>
                        <a:pt x="20" y="55"/>
                        <a:pt x="45" y="55"/>
                      </a:cubicBezTo>
                      <a:cubicBezTo>
                        <a:pt x="70" y="55"/>
                        <a:pt x="90" y="49"/>
                        <a:pt x="90" y="41"/>
                      </a:cubicBezTo>
                      <a:lnTo>
                        <a:pt x="90" y="14"/>
                      </a:lnTo>
                      <a:cubicBezTo>
                        <a:pt x="90" y="6"/>
                        <a:pt x="70" y="0"/>
                        <a:pt x="45" y="0"/>
                      </a:cubicBezTo>
                      <a:close/>
                    </a:path>
                  </a:pathLst>
                </a:custGeom>
                <a:solidFill>
                  <a:srgbClr val="00b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195760" y="2232000"/>
                  <a:ext cx="144720" cy="29160"/>
                </a:xfrm>
                <a:prstGeom prst="ellipse">
                  <a:avLst/>
                </a:prstGeom>
                <a:solidFill>
                  <a:srgbClr val="32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95760" y="2232000"/>
                  <a:ext cx="144720" cy="57600"/>
                </a:xfrm>
                <a:custGeom>
                  <a:avLst/>
                  <a:gdLst/>
                  <a:ahLst/>
                  <a:rect l="l" t="t" r="r" b="b"/>
                  <a:pathLst>
                    <a:path w="90" h="55">
                      <a:moveTo>
                        <a:pt x="45" y="0"/>
                      </a:moveTo>
                      <a:cubicBezTo>
                        <a:pt x="20" y="0"/>
                        <a:pt x="0" y="6"/>
                        <a:pt x="0" y="14"/>
                      </a:cubicBezTo>
                      <a:lnTo>
                        <a:pt x="0" y="41"/>
                      </a:lnTo>
                      <a:cubicBezTo>
                        <a:pt x="0" y="49"/>
                        <a:pt x="20" y="55"/>
                        <a:pt x="45" y="55"/>
                      </a:cubicBezTo>
                      <a:cubicBezTo>
                        <a:pt x="70" y="55"/>
                        <a:pt x="90" y="49"/>
                        <a:pt x="90" y="41"/>
                      </a:cubicBezTo>
                      <a:lnTo>
                        <a:pt x="90" y="14"/>
                      </a:lnTo>
                      <a:cubicBezTo>
                        <a:pt x="90" y="6"/>
                        <a:pt x="70" y="0"/>
                        <a:pt x="45" y="0"/>
                      </a:cubicBezTo>
                      <a:close/>
                    </a:path>
                  </a:pathLst>
                </a:custGeom>
                <a:noFill/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195760" y="2246400"/>
                  <a:ext cx="144720" cy="14400"/>
                </a:xfrm>
                <a:custGeom>
                  <a:avLst/>
                  <a:gdLst/>
                  <a:ahLst/>
                  <a:rect l="l" t="t" r="r" b="b"/>
                  <a:pathLst>
                    <a:path w="90" h="14">
                      <a:moveTo>
                        <a:pt x="0" y="0"/>
                      </a:moveTo>
                      <a:cubicBezTo>
                        <a:pt x="0" y="8"/>
                        <a:pt x="20" y="14"/>
                        <a:pt x="45" y="14"/>
                      </a:cubicBezTo>
                      <a:cubicBezTo>
                        <a:pt x="70" y="14"/>
                        <a:pt x="90" y="8"/>
                        <a:pt x="90" y="0"/>
                      </a:cubicBezTo>
                    </a:path>
                  </a:pathLst>
                </a:custGeom>
                <a:noFill/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8212320" y="2237760"/>
                <a:ext cx="106920" cy="19080"/>
                <a:chOff x="8212320" y="2237760"/>
                <a:chExt cx="106920" cy="190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8268480" y="223776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0" y="6"/>
                      </a:moveTo>
                      <a:lnTo>
                        <a:pt x="8" y="8"/>
                      </a:lnTo>
                      <a:lnTo>
                        <a:pt x="29" y="3"/>
                      </a:lnTo>
                      <a:lnTo>
                        <a:pt x="37" y="5"/>
                      </a:lnTo>
                      <a:lnTo>
                        <a:pt x="33" y="0"/>
                      </a:lnTo>
                      <a:lnTo>
                        <a:pt x="9" y="0"/>
                      </a:lnTo>
                      <a:lnTo>
                        <a:pt x="19" y="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268480" y="223776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0" y="6"/>
                      </a:moveTo>
                      <a:lnTo>
                        <a:pt x="8" y="8"/>
                      </a:lnTo>
                      <a:lnTo>
                        <a:pt x="29" y="3"/>
                      </a:lnTo>
                      <a:lnTo>
                        <a:pt x="37" y="5"/>
                      </a:lnTo>
                      <a:lnTo>
                        <a:pt x="33" y="0"/>
                      </a:lnTo>
                      <a:lnTo>
                        <a:pt x="9" y="0"/>
                      </a:lnTo>
                      <a:lnTo>
                        <a:pt x="19" y="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212320" y="2247480"/>
                  <a:ext cx="50760" cy="8280"/>
                </a:xfrm>
                <a:custGeom>
                  <a:avLst/>
                  <a:gdLst/>
                  <a:ahLst/>
                  <a:rect l="l" t="t" r="r" b="b"/>
                  <a:pathLst>
                    <a:path w="37" h="9">
                      <a:moveTo>
                        <a:pt x="37" y="1"/>
                      </a:moveTo>
                      <a:lnTo>
                        <a:pt x="29" y="0"/>
                      </a:lnTo>
                      <a:lnTo>
                        <a:pt x="9" y="5"/>
                      </a:lnTo>
                      <a:lnTo>
                        <a:pt x="0" y="3"/>
                      </a:lnTo>
                      <a:lnTo>
                        <a:pt x="5" y="9"/>
                      </a:lnTo>
                      <a:lnTo>
                        <a:pt x="29" y="9"/>
                      </a:lnTo>
                      <a:lnTo>
                        <a:pt x="19" y="6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212320" y="2247480"/>
                  <a:ext cx="50760" cy="8280"/>
                </a:xfrm>
                <a:custGeom>
                  <a:avLst/>
                  <a:gdLst/>
                  <a:ahLst/>
                  <a:rect l="l" t="t" r="r" b="b"/>
                  <a:pathLst>
                    <a:path w="37" h="9">
                      <a:moveTo>
                        <a:pt x="37" y="1"/>
                      </a:moveTo>
                      <a:lnTo>
                        <a:pt x="29" y="0"/>
                      </a:lnTo>
                      <a:lnTo>
                        <a:pt x="9" y="5"/>
                      </a:lnTo>
                      <a:lnTo>
                        <a:pt x="0" y="3"/>
                      </a:lnTo>
                      <a:lnTo>
                        <a:pt x="5" y="9"/>
                      </a:lnTo>
                      <a:lnTo>
                        <a:pt x="29" y="9"/>
                      </a:lnTo>
                      <a:lnTo>
                        <a:pt x="19" y="6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214840" y="2237760"/>
                  <a:ext cx="51840" cy="792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8" y="5"/>
                      </a:lnTo>
                      <a:lnTo>
                        <a:pt x="38" y="3"/>
                      </a:lnTo>
                      <a:lnTo>
                        <a:pt x="33" y="8"/>
                      </a:lnTo>
                      <a:lnTo>
                        <a:pt x="9" y="8"/>
                      </a:lnTo>
                      <a:lnTo>
                        <a:pt x="19" y="6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214840" y="2237760"/>
                  <a:ext cx="51840" cy="792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8" y="5"/>
                      </a:lnTo>
                      <a:lnTo>
                        <a:pt x="38" y="3"/>
                      </a:lnTo>
                      <a:lnTo>
                        <a:pt x="33" y="8"/>
                      </a:lnTo>
                      <a:lnTo>
                        <a:pt x="9" y="8"/>
                      </a:lnTo>
                      <a:lnTo>
                        <a:pt x="19" y="6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267040" y="224748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37" y="8"/>
                      </a:moveTo>
                      <a:lnTo>
                        <a:pt x="29" y="10"/>
                      </a:lnTo>
                      <a:lnTo>
                        <a:pt x="9" y="3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29" y="0"/>
                      </a:lnTo>
                      <a:lnTo>
                        <a:pt x="18" y="2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267040" y="224748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37" y="8"/>
                      </a:moveTo>
                      <a:lnTo>
                        <a:pt x="29" y="10"/>
                      </a:lnTo>
                      <a:lnTo>
                        <a:pt x="9" y="3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29" y="0"/>
                      </a:lnTo>
                      <a:lnTo>
                        <a:pt x="18" y="2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</p:grpSp>
        <p:sp>
          <p:nvSpPr>
            <p:cNvPr id="245" name=""/>
            <p:cNvSpPr/>
            <p:nvPr/>
          </p:nvSpPr>
          <p:spPr>
            <a:xfrm>
              <a:off x="8035560" y="2247840"/>
              <a:ext cx="158400" cy="1332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035560" y="1995120"/>
              <a:ext cx="158400" cy="1260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035560" y="1995480"/>
              <a:ext cx="158400" cy="25200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35560" y="2008440"/>
              <a:ext cx="158400" cy="25272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969320" y="1945440"/>
              <a:ext cx="89280" cy="132840"/>
              <a:chOff x="7969320" y="1945440"/>
              <a:chExt cx="89280" cy="132840"/>
            </a:xfrm>
          </p:grpSpPr>
          <p:sp>
            <p:nvSpPr>
              <p:cNvPr id="250" name=""/>
              <p:cNvSpPr/>
              <p:nvPr/>
            </p:nvSpPr>
            <p:spPr>
              <a:xfrm>
                <a:off x="7970760" y="1945440"/>
                <a:ext cx="64440" cy="125640"/>
              </a:xfrm>
              <a:custGeom>
                <a:avLst/>
                <a:gdLst/>
                <a:ahLst/>
                <a:rect l="l" t="t" r="r" b="b"/>
                <a:pathLst>
                  <a:path w="40" h="120">
                    <a:moveTo>
                      <a:pt x="6" y="0"/>
                    </a:moveTo>
                    <a:cubicBezTo>
                      <a:pt x="3" y="0"/>
                      <a:pt x="0" y="3"/>
                      <a:pt x="0" y="6"/>
                    </a:cubicBezTo>
                    <a:lnTo>
                      <a:pt x="0" y="113"/>
                    </a:lnTo>
                    <a:cubicBezTo>
                      <a:pt x="0" y="117"/>
                      <a:pt x="3" y="120"/>
                      <a:pt x="6" y="120"/>
                    </a:cubicBezTo>
                    <a:lnTo>
                      <a:pt x="33" y="120"/>
                    </a:lnTo>
                    <a:cubicBezTo>
                      <a:pt x="37" y="120"/>
                      <a:pt x="40" y="117"/>
                      <a:pt x="40" y="113"/>
                    </a:cubicBezTo>
                    <a:lnTo>
                      <a:pt x="40" y="6"/>
                    </a:lnTo>
                    <a:cubicBezTo>
                      <a:pt x="40" y="3"/>
                      <a:pt x="37" y="0"/>
                      <a:pt x="33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69320" y="2047320"/>
                <a:ext cx="89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80"/>
                    </a:solidFill>
                    <a:latin typeface="Tahoma"/>
                  </a:rPr>
                  <a:t>firewall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7986960" y="1956240"/>
                <a:ext cx="30960" cy="83160"/>
                <a:chOff x="7986960" y="1956240"/>
                <a:chExt cx="30960" cy="83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986960" y="1956240"/>
                  <a:ext cx="14760" cy="31320"/>
                </a:xfrm>
                <a:prstGeom prst="rect">
                  <a:avLst/>
                </a:prstGeom>
                <a:solidFill>
                  <a:srgbClr val="f7c7b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001720" y="1976400"/>
                  <a:ext cx="16200" cy="31320"/>
                </a:xfrm>
                <a:prstGeom prst="rect">
                  <a:avLst/>
                </a:prstGeom>
                <a:solidFill>
                  <a:srgbClr val="e1bbb7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86960" y="1987560"/>
                  <a:ext cx="14760" cy="31320"/>
                </a:xfrm>
                <a:prstGeom prst="rect">
                  <a:avLst/>
                </a:prstGeom>
                <a:solidFill>
                  <a:srgbClr val="f19d8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1720" y="2008080"/>
                  <a:ext cx="16200" cy="31320"/>
                </a:xfrm>
                <a:prstGeom prst="rect">
                  <a:avLst/>
                </a:prstGeom>
                <a:solidFill>
                  <a:srgbClr val="f7c7b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86960" y="2018880"/>
                  <a:ext cx="14760" cy="20520"/>
                </a:xfrm>
                <a:prstGeom prst="rect">
                  <a:avLst/>
                </a:prstGeom>
                <a:solidFill>
                  <a:srgbClr val="e1bbb7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01720" y="1956240"/>
                  <a:ext cx="16200" cy="20160"/>
                </a:xfrm>
                <a:prstGeom prst="rect">
                  <a:avLst/>
                </a:prstGeom>
                <a:solidFill>
                  <a:srgbClr val="f19d8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7969320" y="2184840"/>
              <a:ext cx="89280" cy="130680"/>
              <a:chOff x="7969320" y="2184840"/>
              <a:chExt cx="89280" cy="130680"/>
            </a:xfrm>
          </p:grpSpPr>
          <p:sp>
            <p:nvSpPr>
              <p:cNvPr id="260" name=""/>
              <p:cNvSpPr/>
              <p:nvPr/>
            </p:nvSpPr>
            <p:spPr>
              <a:xfrm>
                <a:off x="7970760" y="2184840"/>
                <a:ext cx="64440" cy="125280"/>
              </a:xfrm>
              <a:custGeom>
                <a:avLst/>
                <a:gdLst/>
                <a:ahLst/>
                <a:rect l="l" t="t" r="r" b="b"/>
                <a:pathLst>
                  <a:path w="40" h="120">
                    <a:moveTo>
                      <a:pt x="6" y="0"/>
                    </a:moveTo>
                    <a:cubicBezTo>
                      <a:pt x="3" y="0"/>
                      <a:pt x="0" y="3"/>
                      <a:pt x="0" y="6"/>
                    </a:cubicBezTo>
                    <a:lnTo>
                      <a:pt x="0" y="113"/>
                    </a:lnTo>
                    <a:cubicBezTo>
                      <a:pt x="0" y="117"/>
                      <a:pt x="3" y="120"/>
                      <a:pt x="6" y="120"/>
                    </a:cubicBezTo>
                    <a:lnTo>
                      <a:pt x="33" y="120"/>
                    </a:lnTo>
                    <a:cubicBezTo>
                      <a:pt x="37" y="120"/>
                      <a:pt x="40" y="117"/>
                      <a:pt x="40" y="113"/>
                    </a:cubicBezTo>
                    <a:lnTo>
                      <a:pt x="40" y="6"/>
                    </a:lnTo>
                    <a:cubicBezTo>
                      <a:pt x="40" y="3"/>
                      <a:pt x="37" y="0"/>
                      <a:pt x="33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69320" y="2284560"/>
                <a:ext cx="89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80"/>
                    </a:solidFill>
                    <a:latin typeface="Tahoma"/>
                  </a:rPr>
                  <a:t>firewall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7986960" y="2195640"/>
                <a:ext cx="30960" cy="83160"/>
                <a:chOff x="7986960" y="2195640"/>
                <a:chExt cx="30960" cy="831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986960" y="2195640"/>
                  <a:ext cx="14760" cy="31320"/>
                </a:xfrm>
                <a:prstGeom prst="rect">
                  <a:avLst/>
                </a:prstGeom>
                <a:solidFill>
                  <a:srgbClr val="f7c7b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01720" y="2215800"/>
                  <a:ext cx="16200" cy="31320"/>
                </a:xfrm>
                <a:prstGeom prst="rect">
                  <a:avLst/>
                </a:prstGeom>
                <a:solidFill>
                  <a:srgbClr val="e1bbb7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986960" y="2226960"/>
                  <a:ext cx="14760" cy="31320"/>
                </a:xfrm>
                <a:prstGeom prst="rect">
                  <a:avLst/>
                </a:prstGeom>
                <a:solidFill>
                  <a:srgbClr val="f19d8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01720" y="2247480"/>
                  <a:ext cx="16200" cy="31320"/>
                </a:xfrm>
                <a:prstGeom prst="rect">
                  <a:avLst/>
                </a:prstGeom>
                <a:solidFill>
                  <a:srgbClr val="f7c7b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986960" y="2258280"/>
                  <a:ext cx="14760" cy="20520"/>
                </a:xfrm>
                <a:prstGeom prst="rect">
                  <a:avLst/>
                </a:prstGeom>
                <a:solidFill>
                  <a:srgbClr val="e1bbb7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01720" y="2195640"/>
                  <a:ext cx="16200" cy="20160"/>
                </a:xfrm>
                <a:prstGeom prst="rect">
                  <a:avLst/>
                </a:prstGeom>
                <a:solidFill>
                  <a:srgbClr val="f19d8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7595640" y="2008440"/>
              <a:ext cx="16560" cy="1044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95640" y="2028960"/>
              <a:ext cx="16560" cy="1080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95640" y="2050560"/>
              <a:ext cx="16560" cy="972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12200" y="2055240"/>
              <a:ext cx="358560" cy="19224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95640" y="2195640"/>
              <a:ext cx="16560" cy="1044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95640" y="2216160"/>
              <a:ext cx="16560" cy="1080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95640" y="2237760"/>
              <a:ext cx="16560" cy="972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7480" y="2195640"/>
              <a:ext cx="16200" cy="1044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7480" y="2216160"/>
              <a:ext cx="16200" cy="1080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67480" y="2237760"/>
              <a:ext cx="16200" cy="972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2200" y="2242440"/>
              <a:ext cx="358560" cy="504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612200" y="2008080"/>
              <a:ext cx="358560" cy="19188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7467480" y="1987560"/>
              <a:ext cx="144720" cy="92880"/>
              <a:chOff x="7467480" y="1987560"/>
              <a:chExt cx="144720" cy="92880"/>
            </a:xfrm>
          </p:grpSpPr>
          <p:sp>
            <p:nvSpPr>
              <p:cNvPr id="282" name=""/>
              <p:cNvSpPr/>
              <p:nvPr/>
            </p:nvSpPr>
            <p:spPr>
              <a:xfrm>
                <a:off x="7467480" y="1987560"/>
                <a:ext cx="144720" cy="9288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15" y="0"/>
                    </a:moveTo>
                    <a:cubicBezTo>
                      <a:pt x="7" y="0"/>
                      <a:pt x="0" y="6"/>
                      <a:pt x="0" y="15"/>
                    </a:cubicBezTo>
                    <a:lnTo>
                      <a:pt x="0" y="75"/>
                    </a:lnTo>
                    <a:cubicBezTo>
                      <a:pt x="0" y="83"/>
                      <a:pt x="7" y="90"/>
                      <a:pt x="15" y="90"/>
                    </a:cubicBezTo>
                    <a:lnTo>
                      <a:pt x="75" y="90"/>
                    </a:lnTo>
                    <a:cubicBezTo>
                      <a:pt x="83" y="90"/>
                      <a:pt x="90" y="83"/>
                      <a:pt x="90" y="75"/>
                    </a:cubicBezTo>
                    <a:lnTo>
                      <a:pt x="90" y="15"/>
                    </a:lnTo>
                    <a:cubicBezTo>
                      <a:pt x="90" y="6"/>
                      <a:pt x="83" y="0"/>
                      <a:pt x="75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508520" y="2013840"/>
                <a:ext cx="61560" cy="3996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10320" y="202572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ffff"/>
                    </a:solidFill>
                    <a:latin typeface="Tahoma"/>
                  </a:rPr>
                  <a:t>L2/L3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29040" y="199332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4"/>
                    </a:moveTo>
                    <a:lnTo>
                      <a:pt x="4" y="4"/>
                    </a:lnTo>
                    <a:lnTo>
                      <a:pt x="4" y="14"/>
                    </a:lnTo>
                    <a:lnTo>
                      <a:pt x="11" y="1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80160" y="202644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1" y="0"/>
                    </a:moveTo>
                    <a:lnTo>
                      <a:pt x="11" y="4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29040" y="205992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7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478280" y="202644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4" y="0"/>
                    </a:moveTo>
                    <a:lnTo>
                      <a:pt x="4" y="4"/>
                    </a:lnTo>
                    <a:lnTo>
                      <a:pt x="15" y="4"/>
                    </a:lnTo>
                    <a:lnTo>
                      <a:pt x="1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0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7467480" y="2175120"/>
              <a:ext cx="144720" cy="92880"/>
              <a:chOff x="7467480" y="2175120"/>
              <a:chExt cx="144720" cy="92880"/>
            </a:xfrm>
          </p:grpSpPr>
          <p:sp>
            <p:nvSpPr>
              <p:cNvPr id="290" name=""/>
              <p:cNvSpPr/>
              <p:nvPr/>
            </p:nvSpPr>
            <p:spPr>
              <a:xfrm>
                <a:off x="7467480" y="2175120"/>
                <a:ext cx="144720" cy="9288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15" y="0"/>
                    </a:moveTo>
                    <a:cubicBezTo>
                      <a:pt x="7" y="0"/>
                      <a:pt x="0" y="6"/>
                      <a:pt x="0" y="15"/>
                    </a:cubicBezTo>
                    <a:lnTo>
                      <a:pt x="0" y="75"/>
                    </a:lnTo>
                    <a:cubicBezTo>
                      <a:pt x="0" y="83"/>
                      <a:pt x="7" y="90"/>
                      <a:pt x="15" y="90"/>
                    </a:cubicBezTo>
                    <a:lnTo>
                      <a:pt x="75" y="90"/>
                    </a:lnTo>
                    <a:cubicBezTo>
                      <a:pt x="83" y="90"/>
                      <a:pt x="90" y="83"/>
                      <a:pt x="90" y="75"/>
                    </a:cubicBezTo>
                    <a:lnTo>
                      <a:pt x="90" y="15"/>
                    </a:lnTo>
                    <a:cubicBezTo>
                      <a:pt x="90" y="6"/>
                      <a:pt x="83" y="0"/>
                      <a:pt x="75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508520" y="2201400"/>
                <a:ext cx="61560" cy="3996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510320" y="221436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ffff"/>
                    </a:solidFill>
                    <a:latin typeface="Tahoma"/>
                  </a:rPr>
                  <a:t>L2/L3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529040" y="218088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4"/>
                    </a:moveTo>
                    <a:lnTo>
                      <a:pt x="4" y="4"/>
                    </a:lnTo>
                    <a:lnTo>
                      <a:pt x="4" y="14"/>
                    </a:lnTo>
                    <a:lnTo>
                      <a:pt x="11" y="1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80160" y="2214360"/>
                <a:ext cx="20520" cy="13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1" y="0"/>
                    </a:moveTo>
                    <a:lnTo>
                      <a:pt x="11" y="4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29040" y="224748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7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78280" y="2214360"/>
                <a:ext cx="20520" cy="13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4" y="0"/>
                    </a:moveTo>
                    <a:lnTo>
                      <a:pt x="4" y="4"/>
                    </a:lnTo>
                    <a:lnTo>
                      <a:pt x="15" y="4"/>
                    </a:lnTo>
                    <a:lnTo>
                      <a:pt x="1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0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7708680" y="2268360"/>
              <a:ext cx="144720" cy="93960"/>
              <a:chOff x="7708680" y="2268360"/>
              <a:chExt cx="144720" cy="93960"/>
            </a:xfrm>
          </p:grpSpPr>
          <p:sp>
            <p:nvSpPr>
              <p:cNvPr id="298" name=""/>
              <p:cNvSpPr/>
              <p:nvPr/>
            </p:nvSpPr>
            <p:spPr>
              <a:xfrm>
                <a:off x="7708680" y="2268360"/>
                <a:ext cx="144720" cy="9396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15" y="0"/>
                    </a:moveTo>
                    <a:cubicBezTo>
                      <a:pt x="7" y="0"/>
                      <a:pt x="0" y="6"/>
                      <a:pt x="0" y="15"/>
                    </a:cubicBezTo>
                    <a:lnTo>
                      <a:pt x="0" y="75"/>
                    </a:lnTo>
                    <a:cubicBezTo>
                      <a:pt x="0" y="83"/>
                      <a:pt x="7" y="90"/>
                      <a:pt x="15" y="90"/>
                    </a:cubicBezTo>
                    <a:lnTo>
                      <a:pt x="75" y="90"/>
                    </a:lnTo>
                    <a:cubicBezTo>
                      <a:pt x="83" y="90"/>
                      <a:pt x="90" y="83"/>
                      <a:pt x="90" y="75"/>
                    </a:cubicBezTo>
                    <a:lnTo>
                      <a:pt x="90" y="15"/>
                    </a:lnTo>
                    <a:cubicBezTo>
                      <a:pt x="90" y="6"/>
                      <a:pt x="83" y="0"/>
                      <a:pt x="75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750080" y="2295720"/>
                <a:ext cx="61560" cy="388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755120" y="230256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ffff"/>
                    </a:solidFill>
                    <a:latin typeface="Tahoma"/>
                  </a:rPr>
                  <a:t>Load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53320" y="231840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ffff"/>
                    </a:solidFill>
                    <a:latin typeface="Tahoma"/>
                  </a:rPr>
                  <a:t>Balancer</a:t>
                </a:r>
                <a:endParaRPr b="0" lang="en-US" sz="1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785720" y="2279160"/>
                <a:ext cx="20520" cy="13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" y="1"/>
                    </a:moveTo>
                    <a:lnTo>
                      <a:pt x="5" y="2"/>
                    </a:lnTo>
                    <a:lnTo>
                      <a:pt x="0" y="12"/>
                    </a:lnTo>
                    <a:lnTo>
                      <a:pt x="7" y="14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9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21720" y="230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1" y="0"/>
                    </a:moveTo>
                    <a:lnTo>
                      <a:pt x="11" y="4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11" y="10"/>
                    </a:lnTo>
                    <a:lnTo>
                      <a:pt x="11" y="13"/>
                    </a:lnTo>
                    <a:lnTo>
                      <a:pt x="15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19840" y="230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1" y="0"/>
                    </a:moveTo>
                    <a:lnTo>
                      <a:pt x="11" y="4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11" y="10"/>
                    </a:lnTo>
                    <a:lnTo>
                      <a:pt x="11" y="13"/>
                    </a:lnTo>
                    <a:lnTo>
                      <a:pt x="15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789680" y="233676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2" y="14"/>
                    </a:moveTo>
                    <a:lnTo>
                      <a:pt x="5" y="12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1" y="10"/>
                    </a:lnTo>
                    <a:lnTo>
                      <a:pt x="14" y="9"/>
                    </a:lnTo>
                    <a:lnTo>
                      <a:pt x="10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539120" y="2268360"/>
              <a:ext cx="177840" cy="4284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708680" y="1873080"/>
              <a:ext cx="144720" cy="93960"/>
              <a:chOff x="7708680" y="1873080"/>
              <a:chExt cx="144720" cy="93960"/>
            </a:xfrm>
          </p:grpSpPr>
          <p:sp>
            <p:nvSpPr>
              <p:cNvPr id="308" name=""/>
              <p:cNvSpPr/>
              <p:nvPr/>
            </p:nvSpPr>
            <p:spPr>
              <a:xfrm>
                <a:off x="7708680" y="1873080"/>
                <a:ext cx="144720" cy="9396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15" y="0"/>
                    </a:moveTo>
                    <a:cubicBezTo>
                      <a:pt x="7" y="0"/>
                      <a:pt x="0" y="6"/>
                      <a:pt x="0" y="15"/>
                    </a:cubicBezTo>
                    <a:lnTo>
                      <a:pt x="0" y="75"/>
                    </a:lnTo>
                    <a:cubicBezTo>
                      <a:pt x="0" y="83"/>
                      <a:pt x="7" y="90"/>
                      <a:pt x="15" y="90"/>
                    </a:cubicBezTo>
                    <a:lnTo>
                      <a:pt x="75" y="90"/>
                    </a:lnTo>
                    <a:cubicBezTo>
                      <a:pt x="83" y="90"/>
                      <a:pt x="90" y="83"/>
                      <a:pt x="90" y="75"/>
                    </a:cubicBezTo>
                    <a:lnTo>
                      <a:pt x="90" y="15"/>
                    </a:lnTo>
                    <a:cubicBezTo>
                      <a:pt x="90" y="6"/>
                      <a:pt x="83" y="0"/>
                      <a:pt x="75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750080" y="1900440"/>
                <a:ext cx="61560" cy="392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755120" y="191124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ffff"/>
                    </a:solidFill>
                    <a:latin typeface="Tahoma"/>
                  </a:rPr>
                  <a:t>Load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755480" y="192384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ffff"/>
                    </a:solidFill>
                    <a:latin typeface="Tahoma"/>
                  </a:rPr>
                  <a:t>Balancer</a:t>
                </a:r>
                <a:endParaRPr b="0" lang="en-US" sz="1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85720" y="1883880"/>
                <a:ext cx="20520" cy="13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" y="1"/>
                    </a:moveTo>
                    <a:lnTo>
                      <a:pt x="5" y="2"/>
                    </a:lnTo>
                    <a:lnTo>
                      <a:pt x="0" y="11"/>
                    </a:lnTo>
                    <a:lnTo>
                      <a:pt x="7" y="14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9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21720" y="191196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1" y="0"/>
                    </a:moveTo>
                    <a:lnTo>
                      <a:pt x="11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19840" y="191196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1" y="0"/>
                    </a:moveTo>
                    <a:lnTo>
                      <a:pt x="11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89680" y="194148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2" y="14"/>
                    </a:moveTo>
                    <a:lnTo>
                      <a:pt x="5" y="12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1" y="10"/>
                    </a:lnTo>
                    <a:lnTo>
                      <a:pt x="14" y="9"/>
                    </a:lnTo>
                    <a:lnTo>
                      <a:pt x="10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V="1">
              <a:off x="7539120" y="1922760"/>
              <a:ext cx="177840" cy="6444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09480" y="1720800"/>
            <a:ext cx="873000" cy="488880"/>
            <a:chOff x="609480" y="1720800"/>
            <a:chExt cx="873000" cy="488880"/>
          </a:xfrm>
        </p:grpSpPr>
        <p:sp>
          <p:nvSpPr>
            <p:cNvPr id="318" name=""/>
            <p:cNvSpPr/>
            <p:nvPr/>
          </p:nvSpPr>
          <p:spPr>
            <a:xfrm>
              <a:off x="609480" y="1856160"/>
              <a:ext cx="16200" cy="1044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480" y="1876320"/>
              <a:ext cx="16200" cy="1080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1897920"/>
              <a:ext cx="16200" cy="972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54200" y="1855800"/>
              <a:ext cx="358560" cy="468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337760" y="1814760"/>
              <a:ext cx="144720" cy="56880"/>
              <a:chOff x="1337760" y="1814760"/>
              <a:chExt cx="144720" cy="568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1337760" y="1814760"/>
                <a:ext cx="144720" cy="56880"/>
                <a:chOff x="1337760" y="1814760"/>
                <a:chExt cx="144720" cy="568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337760" y="1814760"/>
                  <a:ext cx="144720" cy="56880"/>
                </a:xfrm>
                <a:custGeom>
                  <a:avLst/>
                  <a:gdLst/>
                  <a:ahLst/>
                  <a:rect l="l" t="t" r="r" b="b"/>
                  <a:pathLst>
                    <a:path w="90" h="55">
                      <a:moveTo>
                        <a:pt x="45" y="0"/>
                      </a:moveTo>
                      <a:cubicBezTo>
                        <a:pt x="20" y="0"/>
                        <a:pt x="0" y="6"/>
                        <a:pt x="0" y="14"/>
                      </a:cubicBezTo>
                      <a:lnTo>
                        <a:pt x="0" y="41"/>
                      </a:lnTo>
                      <a:cubicBezTo>
                        <a:pt x="0" y="49"/>
                        <a:pt x="20" y="55"/>
                        <a:pt x="45" y="55"/>
                      </a:cubicBezTo>
                      <a:cubicBezTo>
                        <a:pt x="70" y="55"/>
                        <a:pt x="90" y="49"/>
                        <a:pt x="90" y="41"/>
                      </a:cubicBezTo>
                      <a:lnTo>
                        <a:pt x="90" y="14"/>
                      </a:lnTo>
                      <a:cubicBezTo>
                        <a:pt x="90" y="6"/>
                        <a:pt x="70" y="0"/>
                        <a:pt x="45" y="0"/>
                      </a:cubicBezTo>
                      <a:close/>
                    </a:path>
                  </a:pathLst>
                </a:custGeom>
                <a:solidFill>
                  <a:srgbClr val="00b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337760" y="1814760"/>
                  <a:ext cx="144720" cy="28440"/>
                </a:xfrm>
                <a:prstGeom prst="ellipse">
                  <a:avLst/>
                </a:prstGeom>
                <a:solidFill>
                  <a:srgbClr val="32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337760" y="1814760"/>
                  <a:ext cx="144720" cy="56880"/>
                </a:xfrm>
                <a:custGeom>
                  <a:avLst/>
                  <a:gdLst/>
                  <a:ahLst/>
                  <a:rect l="l" t="t" r="r" b="b"/>
                  <a:pathLst>
                    <a:path w="90" h="55">
                      <a:moveTo>
                        <a:pt x="45" y="0"/>
                      </a:moveTo>
                      <a:cubicBezTo>
                        <a:pt x="20" y="0"/>
                        <a:pt x="0" y="6"/>
                        <a:pt x="0" y="14"/>
                      </a:cubicBezTo>
                      <a:lnTo>
                        <a:pt x="0" y="41"/>
                      </a:lnTo>
                      <a:cubicBezTo>
                        <a:pt x="0" y="49"/>
                        <a:pt x="20" y="55"/>
                        <a:pt x="45" y="55"/>
                      </a:cubicBezTo>
                      <a:cubicBezTo>
                        <a:pt x="70" y="55"/>
                        <a:pt x="90" y="49"/>
                        <a:pt x="90" y="41"/>
                      </a:cubicBezTo>
                      <a:lnTo>
                        <a:pt x="90" y="14"/>
                      </a:lnTo>
                      <a:cubicBezTo>
                        <a:pt x="90" y="6"/>
                        <a:pt x="70" y="0"/>
                        <a:pt x="45" y="0"/>
                      </a:cubicBezTo>
                      <a:close/>
                    </a:path>
                  </a:pathLst>
                </a:custGeom>
                <a:noFill/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337760" y="1829160"/>
                  <a:ext cx="144720" cy="13680"/>
                </a:xfrm>
                <a:custGeom>
                  <a:avLst/>
                  <a:gdLst/>
                  <a:ahLst/>
                  <a:rect l="l" t="t" r="r" b="b"/>
                  <a:pathLst>
                    <a:path w="90" h="14">
                      <a:moveTo>
                        <a:pt x="0" y="0"/>
                      </a:moveTo>
                      <a:cubicBezTo>
                        <a:pt x="0" y="8"/>
                        <a:pt x="20" y="14"/>
                        <a:pt x="45" y="14"/>
                      </a:cubicBezTo>
                      <a:cubicBezTo>
                        <a:pt x="70" y="14"/>
                        <a:pt x="90" y="8"/>
                        <a:pt x="90" y="0"/>
                      </a:cubicBezTo>
                    </a:path>
                  </a:pathLst>
                </a:custGeom>
                <a:noFill/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354320" y="1819440"/>
                <a:ext cx="106920" cy="19440"/>
                <a:chOff x="1354320" y="1819440"/>
                <a:chExt cx="106920" cy="194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410480" y="181944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0" y="6"/>
                      </a:moveTo>
                      <a:lnTo>
                        <a:pt x="8" y="8"/>
                      </a:lnTo>
                      <a:lnTo>
                        <a:pt x="29" y="3"/>
                      </a:lnTo>
                      <a:lnTo>
                        <a:pt x="37" y="5"/>
                      </a:lnTo>
                      <a:lnTo>
                        <a:pt x="33" y="0"/>
                      </a:lnTo>
                      <a:lnTo>
                        <a:pt x="9" y="0"/>
                      </a:lnTo>
                      <a:lnTo>
                        <a:pt x="19" y="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10480" y="181944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0" y="6"/>
                      </a:moveTo>
                      <a:lnTo>
                        <a:pt x="8" y="8"/>
                      </a:lnTo>
                      <a:lnTo>
                        <a:pt x="29" y="3"/>
                      </a:lnTo>
                      <a:lnTo>
                        <a:pt x="37" y="5"/>
                      </a:lnTo>
                      <a:lnTo>
                        <a:pt x="33" y="0"/>
                      </a:lnTo>
                      <a:lnTo>
                        <a:pt x="9" y="0"/>
                      </a:lnTo>
                      <a:lnTo>
                        <a:pt x="19" y="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354320" y="1830240"/>
                  <a:ext cx="50760" cy="756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1"/>
                      </a:moveTo>
                      <a:lnTo>
                        <a:pt x="29" y="0"/>
                      </a:lnTo>
                      <a:lnTo>
                        <a:pt x="9" y="5"/>
                      </a:lnTo>
                      <a:lnTo>
                        <a:pt x="0" y="3"/>
                      </a:lnTo>
                      <a:lnTo>
                        <a:pt x="5" y="8"/>
                      </a:lnTo>
                      <a:lnTo>
                        <a:pt x="29" y="8"/>
                      </a:lnTo>
                      <a:lnTo>
                        <a:pt x="19" y="6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354320" y="1830240"/>
                  <a:ext cx="50760" cy="756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1"/>
                      </a:moveTo>
                      <a:lnTo>
                        <a:pt x="29" y="0"/>
                      </a:lnTo>
                      <a:lnTo>
                        <a:pt x="9" y="5"/>
                      </a:lnTo>
                      <a:lnTo>
                        <a:pt x="0" y="3"/>
                      </a:lnTo>
                      <a:lnTo>
                        <a:pt x="5" y="8"/>
                      </a:lnTo>
                      <a:lnTo>
                        <a:pt x="29" y="8"/>
                      </a:lnTo>
                      <a:lnTo>
                        <a:pt x="19" y="6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356840" y="1819440"/>
                  <a:ext cx="51840" cy="792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8" y="5"/>
                      </a:lnTo>
                      <a:lnTo>
                        <a:pt x="38" y="3"/>
                      </a:lnTo>
                      <a:lnTo>
                        <a:pt x="33" y="8"/>
                      </a:lnTo>
                      <a:lnTo>
                        <a:pt x="9" y="8"/>
                      </a:lnTo>
                      <a:lnTo>
                        <a:pt x="19" y="6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56840" y="1819440"/>
                  <a:ext cx="51840" cy="792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8" y="5"/>
                      </a:lnTo>
                      <a:lnTo>
                        <a:pt x="38" y="3"/>
                      </a:lnTo>
                      <a:lnTo>
                        <a:pt x="33" y="8"/>
                      </a:lnTo>
                      <a:lnTo>
                        <a:pt x="9" y="8"/>
                      </a:lnTo>
                      <a:lnTo>
                        <a:pt x="19" y="6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409040" y="1830240"/>
                  <a:ext cx="50760" cy="8640"/>
                </a:xfrm>
                <a:custGeom>
                  <a:avLst/>
                  <a:gdLst/>
                  <a:ahLst/>
                  <a:rect l="l" t="t" r="r" b="b"/>
                  <a:pathLst>
                    <a:path w="37" h="9">
                      <a:moveTo>
                        <a:pt x="37" y="7"/>
                      </a:moveTo>
                      <a:lnTo>
                        <a:pt x="29" y="9"/>
                      </a:lnTo>
                      <a:lnTo>
                        <a:pt x="9" y="3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29" y="0"/>
                      </a:lnTo>
                      <a:lnTo>
                        <a:pt x="18" y="2"/>
                      </a:lnTo>
                      <a:lnTo>
                        <a:pt x="37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409040" y="1830240"/>
                  <a:ext cx="50760" cy="8640"/>
                </a:xfrm>
                <a:custGeom>
                  <a:avLst/>
                  <a:gdLst/>
                  <a:ahLst/>
                  <a:rect l="l" t="t" r="r" b="b"/>
                  <a:pathLst>
                    <a:path w="37" h="9">
                      <a:moveTo>
                        <a:pt x="37" y="7"/>
                      </a:moveTo>
                      <a:lnTo>
                        <a:pt x="29" y="9"/>
                      </a:lnTo>
                      <a:lnTo>
                        <a:pt x="9" y="3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29" y="0"/>
                      </a:lnTo>
                      <a:lnTo>
                        <a:pt x="18" y="2"/>
                      </a:lnTo>
                      <a:lnTo>
                        <a:pt x="37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</p:grpSp>
        <p:grpSp>
          <p:nvGrpSpPr>
            <p:cNvPr id="337" name=""/>
            <p:cNvGrpSpPr/>
            <p:nvPr/>
          </p:nvGrpSpPr>
          <p:grpSpPr>
            <a:xfrm>
              <a:off x="1337760" y="2079360"/>
              <a:ext cx="144720" cy="57600"/>
              <a:chOff x="1337760" y="2079360"/>
              <a:chExt cx="144720" cy="576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1337760" y="2079360"/>
                <a:ext cx="144720" cy="57600"/>
                <a:chOff x="1337760" y="2079360"/>
                <a:chExt cx="144720" cy="576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337760" y="2079360"/>
                  <a:ext cx="144720" cy="57600"/>
                </a:xfrm>
                <a:custGeom>
                  <a:avLst/>
                  <a:gdLst/>
                  <a:ahLst/>
                  <a:rect l="l" t="t" r="r" b="b"/>
                  <a:pathLst>
                    <a:path w="90" h="55">
                      <a:moveTo>
                        <a:pt x="45" y="0"/>
                      </a:moveTo>
                      <a:cubicBezTo>
                        <a:pt x="20" y="0"/>
                        <a:pt x="0" y="6"/>
                        <a:pt x="0" y="14"/>
                      </a:cubicBezTo>
                      <a:lnTo>
                        <a:pt x="0" y="41"/>
                      </a:lnTo>
                      <a:cubicBezTo>
                        <a:pt x="0" y="49"/>
                        <a:pt x="20" y="55"/>
                        <a:pt x="45" y="55"/>
                      </a:cubicBezTo>
                      <a:cubicBezTo>
                        <a:pt x="70" y="55"/>
                        <a:pt x="90" y="49"/>
                        <a:pt x="90" y="41"/>
                      </a:cubicBezTo>
                      <a:lnTo>
                        <a:pt x="90" y="14"/>
                      </a:lnTo>
                      <a:cubicBezTo>
                        <a:pt x="90" y="6"/>
                        <a:pt x="70" y="0"/>
                        <a:pt x="45" y="0"/>
                      </a:cubicBezTo>
                      <a:close/>
                    </a:path>
                  </a:pathLst>
                </a:custGeom>
                <a:solidFill>
                  <a:srgbClr val="00b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37760" y="2079360"/>
                  <a:ext cx="144720" cy="29160"/>
                </a:xfrm>
                <a:prstGeom prst="ellipse">
                  <a:avLst/>
                </a:prstGeom>
                <a:solidFill>
                  <a:srgbClr val="32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337760" y="2079360"/>
                  <a:ext cx="144720" cy="57600"/>
                </a:xfrm>
                <a:custGeom>
                  <a:avLst/>
                  <a:gdLst/>
                  <a:ahLst/>
                  <a:rect l="l" t="t" r="r" b="b"/>
                  <a:pathLst>
                    <a:path w="90" h="55">
                      <a:moveTo>
                        <a:pt x="45" y="0"/>
                      </a:moveTo>
                      <a:cubicBezTo>
                        <a:pt x="20" y="0"/>
                        <a:pt x="0" y="6"/>
                        <a:pt x="0" y="14"/>
                      </a:cubicBezTo>
                      <a:lnTo>
                        <a:pt x="0" y="41"/>
                      </a:lnTo>
                      <a:cubicBezTo>
                        <a:pt x="0" y="49"/>
                        <a:pt x="20" y="55"/>
                        <a:pt x="45" y="55"/>
                      </a:cubicBezTo>
                      <a:cubicBezTo>
                        <a:pt x="70" y="55"/>
                        <a:pt x="90" y="49"/>
                        <a:pt x="90" y="41"/>
                      </a:cubicBezTo>
                      <a:lnTo>
                        <a:pt x="90" y="14"/>
                      </a:lnTo>
                      <a:cubicBezTo>
                        <a:pt x="90" y="6"/>
                        <a:pt x="70" y="0"/>
                        <a:pt x="45" y="0"/>
                      </a:cubicBezTo>
                      <a:close/>
                    </a:path>
                  </a:pathLst>
                </a:custGeom>
                <a:noFill/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337760" y="2093760"/>
                  <a:ext cx="144720" cy="14400"/>
                </a:xfrm>
                <a:custGeom>
                  <a:avLst/>
                  <a:gdLst/>
                  <a:ahLst/>
                  <a:rect l="l" t="t" r="r" b="b"/>
                  <a:pathLst>
                    <a:path w="90" h="14">
                      <a:moveTo>
                        <a:pt x="0" y="0"/>
                      </a:moveTo>
                      <a:cubicBezTo>
                        <a:pt x="0" y="8"/>
                        <a:pt x="20" y="14"/>
                        <a:pt x="45" y="14"/>
                      </a:cubicBezTo>
                      <a:cubicBezTo>
                        <a:pt x="70" y="14"/>
                        <a:pt x="90" y="8"/>
                        <a:pt x="90" y="0"/>
                      </a:cubicBezTo>
                    </a:path>
                  </a:pathLst>
                </a:custGeom>
                <a:noFill/>
                <a:ln w="3240">
                  <a:solidFill>
                    <a:srgbClr val="aae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354320" y="2085120"/>
                <a:ext cx="106920" cy="19080"/>
                <a:chOff x="1354320" y="2085120"/>
                <a:chExt cx="106920" cy="190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410480" y="208512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0" y="6"/>
                      </a:moveTo>
                      <a:lnTo>
                        <a:pt x="8" y="8"/>
                      </a:lnTo>
                      <a:lnTo>
                        <a:pt x="29" y="3"/>
                      </a:lnTo>
                      <a:lnTo>
                        <a:pt x="37" y="5"/>
                      </a:lnTo>
                      <a:lnTo>
                        <a:pt x="33" y="0"/>
                      </a:lnTo>
                      <a:lnTo>
                        <a:pt x="9" y="0"/>
                      </a:lnTo>
                      <a:lnTo>
                        <a:pt x="19" y="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410480" y="2085120"/>
                  <a:ext cx="50760" cy="792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0" y="6"/>
                      </a:moveTo>
                      <a:lnTo>
                        <a:pt x="8" y="8"/>
                      </a:lnTo>
                      <a:lnTo>
                        <a:pt x="29" y="3"/>
                      </a:lnTo>
                      <a:lnTo>
                        <a:pt x="37" y="5"/>
                      </a:lnTo>
                      <a:lnTo>
                        <a:pt x="33" y="0"/>
                      </a:lnTo>
                      <a:lnTo>
                        <a:pt x="9" y="0"/>
                      </a:lnTo>
                      <a:lnTo>
                        <a:pt x="19" y="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354320" y="2094840"/>
                  <a:ext cx="50760" cy="8280"/>
                </a:xfrm>
                <a:custGeom>
                  <a:avLst/>
                  <a:gdLst/>
                  <a:ahLst/>
                  <a:rect l="l" t="t" r="r" b="b"/>
                  <a:pathLst>
                    <a:path w="37" h="9">
                      <a:moveTo>
                        <a:pt x="37" y="1"/>
                      </a:moveTo>
                      <a:lnTo>
                        <a:pt x="29" y="0"/>
                      </a:lnTo>
                      <a:lnTo>
                        <a:pt x="9" y="5"/>
                      </a:lnTo>
                      <a:lnTo>
                        <a:pt x="0" y="3"/>
                      </a:lnTo>
                      <a:lnTo>
                        <a:pt x="5" y="9"/>
                      </a:lnTo>
                      <a:lnTo>
                        <a:pt x="29" y="9"/>
                      </a:lnTo>
                      <a:lnTo>
                        <a:pt x="19" y="6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354320" y="2094840"/>
                  <a:ext cx="50760" cy="8280"/>
                </a:xfrm>
                <a:custGeom>
                  <a:avLst/>
                  <a:gdLst/>
                  <a:ahLst/>
                  <a:rect l="l" t="t" r="r" b="b"/>
                  <a:pathLst>
                    <a:path w="37" h="9">
                      <a:moveTo>
                        <a:pt x="37" y="1"/>
                      </a:moveTo>
                      <a:lnTo>
                        <a:pt x="29" y="0"/>
                      </a:lnTo>
                      <a:lnTo>
                        <a:pt x="9" y="5"/>
                      </a:lnTo>
                      <a:lnTo>
                        <a:pt x="0" y="3"/>
                      </a:lnTo>
                      <a:lnTo>
                        <a:pt x="5" y="9"/>
                      </a:lnTo>
                      <a:lnTo>
                        <a:pt x="29" y="9"/>
                      </a:lnTo>
                      <a:lnTo>
                        <a:pt x="19" y="6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356840" y="2085120"/>
                  <a:ext cx="51840" cy="792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8" y="5"/>
                      </a:lnTo>
                      <a:lnTo>
                        <a:pt x="38" y="3"/>
                      </a:lnTo>
                      <a:lnTo>
                        <a:pt x="33" y="8"/>
                      </a:lnTo>
                      <a:lnTo>
                        <a:pt x="9" y="8"/>
                      </a:lnTo>
                      <a:lnTo>
                        <a:pt x="19" y="6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56840" y="2085120"/>
                  <a:ext cx="51840" cy="792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8" y="5"/>
                      </a:lnTo>
                      <a:lnTo>
                        <a:pt x="38" y="3"/>
                      </a:lnTo>
                      <a:lnTo>
                        <a:pt x="33" y="8"/>
                      </a:lnTo>
                      <a:lnTo>
                        <a:pt x="9" y="8"/>
                      </a:lnTo>
                      <a:lnTo>
                        <a:pt x="19" y="6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09040" y="209484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37" y="8"/>
                      </a:moveTo>
                      <a:lnTo>
                        <a:pt x="29" y="10"/>
                      </a:lnTo>
                      <a:lnTo>
                        <a:pt x="9" y="3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29" y="0"/>
                      </a:lnTo>
                      <a:lnTo>
                        <a:pt x="18" y="2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09040" y="209484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37" y="8"/>
                      </a:moveTo>
                      <a:lnTo>
                        <a:pt x="29" y="10"/>
                      </a:lnTo>
                      <a:lnTo>
                        <a:pt x="9" y="3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29" y="0"/>
                      </a:lnTo>
                      <a:lnTo>
                        <a:pt x="18" y="2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1177560" y="2095200"/>
              <a:ext cx="158400" cy="1332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177560" y="1842840"/>
              <a:ext cx="158400" cy="1260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177560" y="1843200"/>
              <a:ext cx="158400" cy="25200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77560" y="1856160"/>
              <a:ext cx="158400" cy="25272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111320" y="1793160"/>
              <a:ext cx="89280" cy="128520"/>
              <a:chOff x="1111320" y="1793160"/>
              <a:chExt cx="89280" cy="128520"/>
            </a:xfrm>
          </p:grpSpPr>
          <p:sp>
            <p:nvSpPr>
              <p:cNvPr id="357" name=""/>
              <p:cNvSpPr/>
              <p:nvPr/>
            </p:nvSpPr>
            <p:spPr>
              <a:xfrm>
                <a:off x="1112760" y="1793160"/>
                <a:ext cx="64440" cy="125280"/>
              </a:xfrm>
              <a:custGeom>
                <a:avLst/>
                <a:gdLst/>
                <a:ahLst/>
                <a:rect l="l" t="t" r="r" b="b"/>
                <a:pathLst>
                  <a:path w="40" h="120">
                    <a:moveTo>
                      <a:pt x="6" y="0"/>
                    </a:moveTo>
                    <a:cubicBezTo>
                      <a:pt x="3" y="0"/>
                      <a:pt x="0" y="3"/>
                      <a:pt x="0" y="6"/>
                    </a:cubicBezTo>
                    <a:lnTo>
                      <a:pt x="0" y="113"/>
                    </a:lnTo>
                    <a:cubicBezTo>
                      <a:pt x="0" y="117"/>
                      <a:pt x="3" y="120"/>
                      <a:pt x="6" y="120"/>
                    </a:cubicBezTo>
                    <a:lnTo>
                      <a:pt x="33" y="120"/>
                    </a:lnTo>
                    <a:cubicBezTo>
                      <a:pt x="37" y="120"/>
                      <a:pt x="40" y="117"/>
                      <a:pt x="40" y="113"/>
                    </a:cubicBezTo>
                    <a:lnTo>
                      <a:pt x="40" y="6"/>
                    </a:lnTo>
                    <a:cubicBezTo>
                      <a:pt x="40" y="3"/>
                      <a:pt x="37" y="0"/>
                      <a:pt x="33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111320" y="1890720"/>
                <a:ext cx="89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80"/>
                    </a:solidFill>
                    <a:latin typeface="Tahoma"/>
                  </a:rPr>
                  <a:t>firewall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1128960" y="1803960"/>
                <a:ext cx="30960" cy="83160"/>
                <a:chOff x="1128960" y="1803960"/>
                <a:chExt cx="30960" cy="831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1128960" y="1803960"/>
                  <a:ext cx="14760" cy="31320"/>
                </a:xfrm>
                <a:prstGeom prst="rect">
                  <a:avLst/>
                </a:prstGeom>
                <a:solidFill>
                  <a:srgbClr val="f7c7b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143720" y="1824120"/>
                  <a:ext cx="16200" cy="31320"/>
                </a:xfrm>
                <a:prstGeom prst="rect">
                  <a:avLst/>
                </a:prstGeom>
                <a:solidFill>
                  <a:srgbClr val="e1bbb7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128960" y="1835280"/>
                  <a:ext cx="14760" cy="31320"/>
                </a:xfrm>
                <a:prstGeom prst="rect">
                  <a:avLst/>
                </a:prstGeom>
                <a:solidFill>
                  <a:srgbClr val="f19d8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143720" y="1855800"/>
                  <a:ext cx="16200" cy="31320"/>
                </a:xfrm>
                <a:prstGeom prst="rect">
                  <a:avLst/>
                </a:prstGeom>
                <a:solidFill>
                  <a:srgbClr val="f7c7b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128960" y="1866600"/>
                  <a:ext cx="14760" cy="20520"/>
                </a:xfrm>
                <a:prstGeom prst="rect">
                  <a:avLst/>
                </a:prstGeom>
                <a:solidFill>
                  <a:srgbClr val="e1bbb7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143720" y="1803960"/>
                  <a:ext cx="16200" cy="20160"/>
                </a:xfrm>
                <a:prstGeom prst="rect">
                  <a:avLst/>
                </a:prstGeom>
                <a:solidFill>
                  <a:srgbClr val="f19d8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</p:grpSp>
        <p:grpSp>
          <p:nvGrpSpPr>
            <p:cNvPr id="366" name=""/>
            <p:cNvGrpSpPr/>
            <p:nvPr/>
          </p:nvGrpSpPr>
          <p:grpSpPr>
            <a:xfrm>
              <a:off x="1111320" y="2032200"/>
              <a:ext cx="89280" cy="130680"/>
              <a:chOff x="1111320" y="2032200"/>
              <a:chExt cx="89280" cy="130680"/>
            </a:xfrm>
          </p:grpSpPr>
          <p:sp>
            <p:nvSpPr>
              <p:cNvPr id="367" name=""/>
              <p:cNvSpPr/>
              <p:nvPr/>
            </p:nvSpPr>
            <p:spPr>
              <a:xfrm>
                <a:off x="1112760" y="2032200"/>
                <a:ext cx="64440" cy="125280"/>
              </a:xfrm>
              <a:custGeom>
                <a:avLst/>
                <a:gdLst/>
                <a:ahLst/>
                <a:rect l="l" t="t" r="r" b="b"/>
                <a:pathLst>
                  <a:path w="40" h="120">
                    <a:moveTo>
                      <a:pt x="6" y="0"/>
                    </a:moveTo>
                    <a:cubicBezTo>
                      <a:pt x="3" y="0"/>
                      <a:pt x="0" y="3"/>
                      <a:pt x="0" y="6"/>
                    </a:cubicBezTo>
                    <a:lnTo>
                      <a:pt x="0" y="113"/>
                    </a:lnTo>
                    <a:cubicBezTo>
                      <a:pt x="0" y="117"/>
                      <a:pt x="3" y="120"/>
                      <a:pt x="6" y="120"/>
                    </a:cubicBezTo>
                    <a:lnTo>
                      <a:pt x="33" y="120"/>
                    </a:lnTo>
                    <a:cubicBezTo>
                      <a:pt x="37" y="120"/>
                      <a:pt x="40" y="117"/>
                      <a:pt x="40" y="113"/>
                    </a:cubicBezTo>
                    <a:lnTo>
                      <a:pt x="40" y="6"/>
                    </a:lnTo>
                    <a:cubicBezTo>
                      <a:pt x="40" y="3"/>
                      <a:pt x="37" y="0"/>
                      <a:pt x="33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11320" y="2131920"/>
                <a:ext cx="89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80"/>
                    </a:solidFill>
                    <a:latin typeface="Tahoma"/>
                  </a:rPr>
                  <a:t>firewall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1128960" y="2043000"/>
                <a:ext cx="30960" cy="83160"/>
                <a:chOff x="1128960" y="2043000"/>
                <a:chExt cx="30960" cy="831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28960" y="2043000"/>
                  <a:ext cx="14760" cy="31320"/>
                </a:xfrm>
                <a:prstGeom prst="rect">
                  <a:avLst/>
                </a:prstGeom>
                <a:solidFill>
                  <a:srgbClr val="f7c7b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143720" y="2063160"/>
                  <a:ext cx="16200" cy="31320"/>
                </a:xfrm>
                <a:prstGeom prst="rect">
                  <a:avLst/>
                </a:prstGeom>
                <a:solidFill>
                  <a:srgbClr val="e1bbb7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128960" y="2074320"/>
                  <a:ext cx="14760" cy="31320"/>
                </a:xfrm>
                <a:prstGeom prst="rect">
                  <a:avLst/>
                </a:prstGeom>
                <a:solidFill>
                  <a:srgbClr val="f19d8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143720" y="2094840"/>
                  <a:ext cx="16200" cy="31320"/>
                </a:xfrm>
                <a:prstGeom prst="rect">
                  <a:avLst/>
                </a:prstGeom>
                <a:solidFill>
                  <a:srgbClr val="f7c7b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128960" y="2105640"/>
                  <a:ext cx="14760" cy="20520"/>
                </a:xfrm>
                <a:prstGeom prst="rect">
                  <a:avLst/>
                </a:prstGeom>
                <a:solidFill>
                  <a:srgbClr val="e1bbb7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143720" y="2043000"/>
                  <a:ext cx="16200" cy="20160"/>
                </a:xfrm>
                <a:prstGeom prst="rect">
                  <a:avLst/>
                </a:prstGeom>
                <a:solidFill>
                  <a:srgbClr val="f19d8f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Optima"/>
                  </a:endParaRPr>
                </a:p>
              </p:txBody>
            </p:sp>
          </p:grpSp>
        </p:grpSp>
        <p:sp>
          <p:nvSpPr>
            <p:cNvPr id="376" name=""/>
            <p:cNvSpPr/>
            <p:nvPr/>
          </p:nvSpPr>
          <p:spPr>
            <a:xfrm>
              <a:off x="737640" y="1856160"/>
              <a:ext cx="16560" cy="1044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7640" y="1876320"/>
              <a:ext cx="16560" cy="1080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7640" y="1897920"/>
              <a:ext cx="16560" cy="972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4200" y="1902960"/>
              <a:ext cx="358560" cy="19224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7640" y="2043000"/>
              <a:ext cx="16560" cy="1044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7640" y="2063520"/>
              <a:ext cx="16560" cy="1080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7640" y="2085120"/>
              <a:ext cx="16560" cy="972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2043000"/>
              <a:ext cx="16200" cy="1044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480" y="2063520"/>
              <a:ext cx="16200" cy="1080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9480" y="2085120"/>
              <a:ext cx="16200" cy="9720"/>
            </a:xfrm>
            <a:prstGeom prst="rect">
              <a:avLst/>
            </a:prstGeom>
            <a:noFill/>
            <a:ln w="1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4200" y="2090160"/>
              <a:ext cx="358560" cy="504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54200" y="1855800"/>
              <a:ext cx="358560" cy="19188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09480" y="1835280"/>
              <a:ext cx="144720" cy="92880"/>
              <a:chOff x="609480" y="1835280"/>
              <a:chExt cx="144720" cy="92880"/>
            </a:xfrm>
          </p:grpSpPr>
          <p:sp>
            <p:nvSpPr>
              <p:cNvPr id="389" name=""/>
              <p:cNvSpPr/>
              <p:nvPr/>
            </p:nvSpPr>
            <p:spPr>
              <a:xfrm>
                <a:off x="609480" y="1835280"/>
                <a:ext cx="144720" cy="9288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15" y="0"/>
                    </a:moveTo>
                    <a:cubicBezTo>
                      <a:pt x="7" y="0"/>
                      <a:pt x="0" y="6"/>
                      <a:pt x="0" y="15"/>
                    </a:cubicBezTo>
                    <a:lnTo>
                      <a:pt x="0" y="75"/>
                    </a:lnTo>
                    <a:cubicBezTo>
                      <a:pt x="0" y="83"/>
                      <a:pt x="7" y="90"/>
                      <a:pt x="15" y="90"/>
                    </a:cubicBezTo>
                    <a:lnTo>
                      <a:pt x="75" y="90"/>
                    </a:lnTo>
                    <a:cubicBezTo>
                      <a:pt x="83" y="90"/>
                      <a:pt x="90" y="83"/>
                      <a:pt x="90" y="75"/>
                    </a:cubicBezTo>
                    <a:lnTo>
                      <a:pt x="90" y="15"/>
                    </a:lnTo>
                    <a:cubicBezTo>
                      <a:pt x="90" y="6"/>
                      <a:pt x="83" y="0"/>
                      <a:pt x="75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0520" y="1861560"/>
                <a:ext cx="61560" cy="3996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53760" y="187344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ffff"/>
                    </a:solidFill>
                    <a:latin typeface="Tahoma"/>
                  </a:rPr>
                  <a:t>L2/L3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1040" y="18410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4"/>
                    </a:moveTo>
                    <a:lnTo>
                      <a:pt x="4" y="4"/>
                    </a:lnTo>
                    <a:lnTo>
                      <a:pt x="4" y="14"/>
                    </a:lnTo>
                    <a:lnTo>
                      <a:pt x="11" y="1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2160" y="187416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1" y="0"/>
                    </a:moveTo>
                    <a:lnTo>
                      <a:pt x="11" y="4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1040" y="19076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7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0280" y="187416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4" y="0"/>
                    </a:moveTo>
                    <a:lnTo>
                      <a:pt x="4" y="4"/>
                    </a:lnTo>
                    <a:lnTo>
                      <a:pt x="15" y="4"/>
                    </a:lnTo>
                    <a:lnTo>
                      <a:pt x="1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0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480" y="2022480"/>
              <a:ext cx="144720" cy="92880"/>
              <a:chOff x="609480" y="2022480"/>
              <a:chExt cx="144720" cy="9288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480" y="2022480"/>
                <a:ext cx="144720" cy="9288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15" y="0"/>
                    </a:moveTo>
                    <a:cubicBezTo>
                      <a:pt x="7" y="0"/>
                      <a:pt x="0" y="6"/>
                      <a:pt x="0" y="15"/>
                    </a:cubicBezTo>
                    <a:lnTo>
                      <a:pt x="0" y="75"/>
                    </a:lnTo>
                    <a:cubicBezTo>
                      <a:pt x="0" y="83"/>
                      <a:pt x="7" y="90"/>
                      <a:pt x="15" y="90"/>
                    </a:cubicBezTo>
                    <a:lnTo>
                      <a:pt x="75" y="90"/>
                    </a:lnTo>
                    <a:cubicBezTo>
                      <a:pt x="83" y="90"/>
                      <a:pt x="90" y="83"/>
                      <a:pt x="90" y="75"/>
                    </a:cubicBezTo>
                    <a:lnTo>
                      <a:pt x="90" y="15"/>
                    </a:lnTo>
                    <a:cubicBezTo>
                      <a:pt x="90" y="6"/>
                      <a:pt x="83" y="0"/>
                      <a:pt x="75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50520" y="2048760"/>
                <a:ext cx="61560" cy="3996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53760" y="206244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ffff"/>
                    </a:solidFill>
                    <a:latin typeface="Tahoma"/>
                  </a:rPr>
                  <a:t>L2/L3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71040" y="202824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4"/>
                    </a:moveTo>
                    <a:lnTo>
                      <a:pt x="4" y="4"/>
                    </a:lnTo>
                    <a:lnTo>
                      <a:pt x="4" y="14"/>
                    </a:lnTo>
                    <a:lnTo>
                      <a:pt x="11" y="1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2160" y="2061720"/>
                <a:ext cx="20520" cy="13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1" y="0"/>
                    </a:moveTo>
                    <a:lnTo>
                      <a:pt x="11" y="4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1040" y="209484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7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0280" y="2061720"/>
                <a:ext cx="20520" cy="13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4" y="0"/>
                    </a:moveTo>
                    <a:lnTo>
                      <a:pt x="4" y="4"/>
                    </a:lnTo>
                    <a:lnTo>
                      <a:pt x="15" y="4"/>
                    </a:lnTo>
                    <a:lnTo>
                      <a:pt x="1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0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0680" y="2115720"/>
              <a:ext cx="144720" cy="93960"/>
              <a:chOff x="850680" y="2115720"/>
              <a:chExt cx="144720" cy="93960"/>
            </a:xfrm>
          </p:grpSpPr>
          <p:sp>
            <p:nvSpPr>
              <p:cNvPr id="405" name=""/>
              <p:cNvSpPr/>
              <p:nvPr/>
            </p:nvSpPr>
            <p:spPr>
              <a:xfrm>
                <a:off x="850680" y="2115720"/>
                <a:ext cx="144720" cy="9396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15" y="0"/>
                    </a:moveTo>
                    <a:cubicBezTo>
                      <a:pt x="7" y="0"/>
                      <a:pt x="0" y="6"/>
                      <a:pt x="0" y="15"/>
                    </a:cubicBezTo>
                    <a:lnTo>
                      <a:pt x="0" y="75"/>
                    </a:lnTo>
                    <a:cubicBezTo>
                      <a:pt x="0" y="83"/>
                      <a:pt x="7" y="90"/>
                      <a:pt x="15" y="90"/>
                    </a:cubicBezTo>
                    <a:lnTo>
                      <a:pt x="75" y="90"/>
                    </a:lnTo>
                    <a:cubicBezTo>
                      <a:pt x="83" y="90"/>
                      <a:pt x="90" y="83"/>
                      <a:pt x="90" y="75"/>
                    </a:cubicBezTo>
                    <a:lnTo>
                      <a:pt x="90" y="15"/>
                    </a:lnTo>
                    <a:cubicBezTo>
                      <a:pt x="90" y="6"/>
                      <a:pt x="83" y="0"/>
                      <a:pt x="75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92080" y="2143080"/>
                <a:ext cx="61560" cy="388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97120" y="215172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ffff"/>
                    </a:solidFill>
                    <a:latin typeface="Tahoma"/>
                  </a:rPr>
                  <a:t>Load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7480" y="216468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ffff"/>
                    </a:solidFill>
                    <a:latin typeface="Tahoma"/>
                  </a:rPr>
                  <a:t>Balancer</a:t>
                </a:r>
                <a:endParaRPr b="0" lang="en-US" sz="1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27720" y="2126520"/>
                <a:ext cx="20520" cy="13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" y="1"/>
                    </a:moveTo>
                    <a:lnTo>
                      <a:pt x="5" y="2"/>
                    </a:lnTo>
                    <a:lnTo>
                      <a:pt x="0" y="12"/>
                    </a:lnTo>
                    <a:lnTo>
                      <a:pt x="7" y="14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9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63720" y="215568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1" y="0"/>
                    </a:moveTo>
                    <a:lnTo>
                      <a:pt x="11" y="4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11" y="10"/>
                    </a:lnTo>
                    <a:lnTo>
                      <a:pt x="11" y="13"/>
                    </a:lnTo>
                    <a:lnTo>
                      <a:pt x="15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61840" y="215568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1" y="0"/>
                    </a:moveTo>
                    <a:lnTo>
                      <a:pt x="11" y="4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11" y="10"/>
                    </a:lnTo>
                    <a:lnTo>
                      <a:pt x="11" y="13"/>
                    </a:lnTo>
                    <a:lnTo>
                      <a:pt x="15" y="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31680" y="218412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2" y="14"/>
                    </a:moveTo>
                    <a:lnTo>
                      <a:pt x="5" y="12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1" y="10"/>
                    </a:lnTo>
                    <a:lnTo>
                      <a:pt x="14" y="9"/>
                    </a:lnTo>
                    <a:lnTo>
                      <a:pt x="10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81120" y="2115720"/>
              <a:ext cx="177840" cy="4284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850680" y="1720800"/>
              <a:ext cx="144720" cy="93960"/>
              <a:chOff x="850680" y="1720800"/>
              <a:chExt cx="144720" cy="93960"/>
            </a:xfrm>
          </p:grpSpPr>
          <p:sp>
            <p:nvSpPr>
              <p:cNvPr id="415" name=""/>
              <p:cNvSpPr/>
              <p:nvPr/>
            </p:nvSpPr>
            <p:spPr>
              <a:xfrm>
                <a:off x="850680" y="1720800"/>
                <a:ext cx="144720" cy="9396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15" y="0"/>
                    </a:moveTo>
                    <a:cubicBezTo>
                      <a:pt x="7" y="0"/>
                      <a:pt x="0" y="6"/>
                      <a:pt x="0" y="15"/>
                    </a:cubicBezTo>
                    <a:lnTo>
                      <a:pt x="0" y="75"/>
                    </a:lnTo>
                    <a:cubicBezTo>
                      <a:pt x="0" y="83"/>
                      <a:pt x="7" y="90"/>
                      <a:pt x="15" y="90"/>
                    </a:cubicBezTo>
                    <a:lnTo>
                      <a:pt x="75" y="90"/>
                    </a:lnTo>
                    <a:cubicBezTo>
                      <a:pt x="83" y="90"/>
                      <a:pt x="90" y="83"/>
                      <a:pt x="90" y="75"/>
                    </a:cubicBezTo>
                    <a:lnTo>
                      <a:pt x="90" y="15"/>
                    </a:lnTo>
                    <a:cubicBezTo>
                      <a:pt x="90" y="6"/>
                      <a:pt x="83" y="0"/>
                      <a:pt x="75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b4ff"/>
              </a:solidFill>
              <a:ln w="144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2080" y="1748160"/>
                <a:ext cx="61560" cy="392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7120" y="175608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ffff"/>
                    </a:solidFill>
                    <a:latin typeface="Tahoma"/>
                  </a:rPr>
                  <a:t>Load</a:t>
                </a:r>
                <a:endParaRPr b="0" lang="en-US" sz="2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95320" y="177156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ffff"/>
                    </a:solidFill>
                    <a:latin typeface="Tahoma"/>
                  </a:rPr>
                  <a:t>Balancer</a:t>
                </a:r>
                <a:endParaRPr b="0" lang="en-US" sz="1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927720" y="1731600"/>
                <a:ext cx="20520" cy="13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" y="1"/>
                    </a:moveTo>
                    <a:lnTo>
                      <a:pt x="5" y="2"/>
                    </a:lnTo>
                    <a:lnTo>
                      <a:pt x="0" y="11"/>
                    </a:lnTo>
                    <a:lnTo>
                      <a:pt x="7" y="14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9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63720" y="175968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1" y="0"/>
                    </a:moveTo>
                    <a:lnTo>
                      <a:pt x="11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61840" y="175968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1" y="0"/>
                    </a:moveTo>
                    <a:lnTo>
                      <a:pt x="11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931680" y="178920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2" y="14"/>
                    </a:moveTo>
                    <a:lnTo>
                      <a:pt x="5" y="12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1" y="10"/>
                    </a:lnTo>
                    <a:lnTo>
                      <a:pt x="14" y="9"/>
                    </a:lnTo>
                    <a:lnTo>
                      <a:pt x="10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Optima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 flipV="1">
              <a:off x="681120" y="1770120"/>
              <a:ext cx="177840" cy="64440"/>
            </a:xfrm>
            <a:prstGeom prst="line">
              <a:avLst/>
            </a:prstGeom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305360" y="5425920"/>
            <a:ext cx="84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main A1</a:t>
            </a:r>
            <a:endParaRPr b="0" lang="en-US" sz="1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5" name=""/>
          <p:cNvSpPr/>
          <p:nvPr/>
        </p:nvSpPr>
        <p:spPr>
          <a:xfrm>
            <a:off x="2441880" y="5425920"/>
            <a:ext cx="84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main A2</a:t>
            </a:r>
            <a:endParaRPr b="0" lang="en-US" sz="1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6" name=""/>
          <p:cNvSpPr/>
          <p:nvPr/>
        </p:nvSpPr>
        <p:spPr>
          <a:xfrm>
            <a:off x="4495680" y="370836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7" name=""/>
          <p:cNvSpPr/>
          <p:nvPr/>
        </p:nvSpPr>
        <p:spPr>
          <a:xfrm>
            <a:off x="2655000" y="563400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-NNI</a:t>
            </a:r>
            <a:endParaRPr b="0" lang="en-US" sz="1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8" name=""/>
          <p:cNvSpPr/>
          <p:nvPr/>
        </p:nvSpPr>
        <p:spPr>
          <a:xfrm>
            <a:off x="1448280" y="563400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-NNI</a:t>
            </a:r>
            <a:endParaRPr b="0" lang="en-US" sz="1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9" name=""/>
          <p:cNvSpPr/>
          <p:nvPr/>
        </p:nvSpPr>
        <p:spPr>
          <a:xfrm>
            <a:off x="3733920" y="5105520"/>
            <a:ext cx="2361960" cy="1063440"/>
          </a:xfrm>
          <a:prstGeom prst="wedgeRectCallout">
            <a:avLst>
              <a:gd name="adj1" fmla="val -84879"/>
              <a:gd name="adj2" fmla="val -44925"/>
            </a:avLst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r A has divided its 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into multiple control 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mains (e.g., based on 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ndor, geographic, 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, business unit, etc.)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203800" y="3961800"/>
            <a:ext cx="1433520" cy="763560"/>
          </a:xfrm>
          <a:prstGeom prst="wedgeRectCallout">
            <a:avLst>
              <a:gd name="adj1" fmla="val -65689"/>
              <a:gd name="adj2" fmla="val 82888"/>
            </a:avLst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068720"/>
            <a:ext cx="1371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r B’s network is a single control domai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2" name=""/>
          <p:cNvSpPr/>
          <p:nvPr/>
        </p:nvSpPr>
        <p:spPr>
          <a:xfrm>
            <a:off x="7983720" y="2590920"/>
            <a:ext cx="857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Admi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3" name=""/>
          <p:cNvSpPr/>
          <p:nvPr/>
        </p:nvSpPr>
        <p:spPr>
          <a:xfrm>
            <a:off x="1294920" y="259092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4" name=""/>
          <p:cNvSpPr/>
          <p:nvPr/>
        </p:nvSpPr>
        <p:spPr>
          <a:xfrm>
            <a:off x="3276360" y="358128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5" name=""/>
          <p:cNvSpPr/>
          <p:nvPr/>
        </p:nvSpPr>
        <p:spPr>
          <a:xfrm>
            <a:off x="2133360" y="518148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Scope of G.7713.2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istributed call and connection management for automatic switched optical network (ASON) based on GMPLS RSVP-T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Applicable on interfaces between </a:t>
            </a:r>
            <a:r>
              <a:rPr b="0" i="1" lang="en-US" sz="2800" spc="-1" strike="noStrike">
                <a:solidFill>
                  <a:srgbClr val="000000"/>
                </a:solidFill>
                <a:latin typeface="Optima"/>
              </a:rPr>
              <a:t>control domain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Focus on UNI and E-NNI (Exterior Network-Node Interface)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But could be applicable to I-NNI as wel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rimary focus on E-NNI interfaces within a </a:t>
            </a:r>
            <a:r>
              <a:rPr b="0" i="1" lang="en-US" sz="2800" spc="-1" strike="noStrike">
                <a:solidFill>
                  <a:srgbClr val="000000"/>
                </a:solidFill>
                <a:latin typeface="Optima"/>
              </a:rPr>
              <a:t>single carrier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Required Signaling Functionality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eed to support two types of connection servic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601"/>
              </a:spcBef>
              <a:buClr>
                <a:srgbClr val="ff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Optima"/>
              </a:rPr>
              <a:t>Switch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: initiated by clients over a UNI interface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Requires translation of UNI requests &amp; parameters into NNI end-to-end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601"/>
              </a:spcBef>
              <a:buClr>
                <a:srgbClr val="ff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Optima"/>
              </a:rPr>
              <a:t>Soft permanent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: initiated by the management plane (EMS or NMS), without involving client signaling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Requires appropriate EMS/NE I/F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hould allow EMS/NMS to specify complete path, including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all ports and timeslot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Soft Permanent Connections: Example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274760" y="2400120"/>
            <a:ext cx="2021040" cy="1506600"/>
            <a:chOff x="1274760" y="2400120"/>
            <a:chExt cx="2021040" cy="1506600"/>
          </a:xfrm>
        </p:grpSpPr>
        <p:sp>
          <p:nvSpPr>
            <p:cNvPr id="442" name=""/>
            <p:cNvSpPr/>
            <p:nvPr/>
          </p:nvSpPr>
          <p:spPr>
            <a:xfrm rot="219000">
              <a:off x="1961640" y="3254040"/>
              <a:ext cx="620280" cy="63360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19000">
              <a:off x="1929240" y="2435040"/>
              <a:ext cx="488880" cy="49752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19000">
              <a:off x="2333160" y="2412360"/>
              <a:ext cx="400320" cy="40968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219000">
              <a:off x="2652840" y="2845800"/>
              <a:ext cx="623160" cy="63612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19000">
              <a:off x="1485000" y="3045960"/>
              <a:ext cx="709200" cy="72360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219000">
              <a:off x="2457360" y="3193560"/>
              <a:ext cx="531360" cy="54036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19000">
              <a:off x="1307520" y="3160080"/>
              <a:ext cx="400320" cy="40716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19000">
              <a:off x="1287000" y="2842200"/>
              <a:ext cx="397440" cy="40608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19000">
              <a:off x="1478160" y="2502360"/>
              <a:ext cx="621720" cy="63144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19000">
              <a:off x="2759040" y="2623680"/>
              <a:ext cx="489240" cy="49860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19000">
              <a:off x="2639880" y="2433240"/>
              <a:ext cx="445320" cy="45216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219000">
              <a:off x="1445040" y="2519640"/>
              <a:ext cx="1720800" cy="1173960"/>
            </a:xfrm>
            <a:custGeom>
              <a:avLst/>
              <a:gdLst/>
              <a:ahLst/>
              <a:rect l="l" t="t" r="r" b="b"/>
              <a:pathLst>
                <a:path w="1812" h="1265">
                  <a:moveTo>
                    <a:pt x="559" y="128"/>
                  </a:moveTo>
                  <a:lnTo>
                    <a:pt x="635" y="37"/>
                  </a:lnTo>
                  <a:lnTo>
                    <a:pt x="973" y="43"/>
                  </a:lnTo>
                  <a:lnTo>
                    <a:pt x="1212" y="0"/>
                  </a:lnTo>
                  <a:lnTo>
                    <a:pt x="1515" y="152"/>
                  </a:lnTo>
                  <a:lnTo>
                    <a:pt x="1666" y="109"/>
                  </a:lnTo>
                  <a:lnTo>
                    <a:pt x="1748" y="128"/>
                  </a:lnTo>
                  <a:lnTo>
                    <a:pt x="1765" y="503"/>
                  </a:lnTo>
                  <a:lnTo>
                    <a:pt x="1812" y="563"/>
                  </a:lnTo>
                  <a:lnTo>
                    <a:pt x="1673" y="854"/>
                  </a:lnTo>
                  <a:lnTo>
                    <a:pt x="1521" y="654"/>
                  </a:lnTo>
                  <a:lnTo>
                    <a:pt x="1480" y="757"/>
                  </a:lnTo>
                  <a:lnTo>
                    <a:pt x="1265" y="1156"/>
                  </a:lnTo>
                  <a:lnTo>
                    <a:pt x="548" y="1265"/>
                  </a:lnTo>
                  <a:lnTo>
                    <a:pt x="176" y="1187"/>
                  </a:lnTo>
                  <a:lnTo>
                    <a:pt x="58" y="939"/>
                  </a:lnTo>
                  <a:lnTo>
                    <a:pt x="58" y="685"/>
                  </a:lnTo>
                  <a:lnTo>
                    <a:pt x="0" y="473"/>
                  </a:lnTo>
                  <a:lnTo>
                    <a:pt x="559" y="128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935680" y="2400120"/>
            <a:ext cx="2021040" cy="1506600"/>
            <a:chOff x="5935680" y="2400120"/>
            <a:chExt cx="2021040" cy="1506600"/>
          </a:xfrm>
        </p:grpSpPr>
        <p:sp>
          <p:nvSpPr>
            <p:cNvPr id="455" name=""/>
            <p:cNvSpPr/>
            <p:nvPr/>
          </p:nvSpPr>
          <p:spPr>
            <a:xfrm rot="219000">
              <a:off x="6622560" y="3254040"/>
              <a:ext cx="620280" cy="63360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219000">
              <a:off x="6590160" y="2435040"/>
              <a:ext cx="488880" cy="49752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219000">
              <a:off x="6994080" y="2412360"/>
              <a:ext cx="400320" cy="40968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219000">
              <a:off x="7313760" y="2845800"/>
              <a:ext cx="623160" cy="63612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219000">
              <a:off x="6145920" y="3045960"/>
              <a:ext cx="709200" cy="72360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219000">
              <a:off x="7118280" y="3193560"/>
              <a:ext cx="531360" cy="54036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219000">
              <a:off x="5968440" y="3160080"/>
              <a:ext cx="400320" cy="40716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19000">
              <a:off x="5947920" y="2842200"/>
              <a:ext cx="397440" cy="40608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19000">
              <a:off x="6139080" y="2502360"/>
              <a:ext cx="621720" cy="63144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19000">
              <a:off x="7419960" y="2623680"/>
              <a:ext cx="489240" cy="49860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219000">
              <a:off x="7300800" y="2433240"/>
              <a:ext cx="445320" cy="452160"/>
            </a:xfrm>
            <a:prstGeom prst="ellipse">
              <a:avLst/>
            </a:prstGeom>
            <a:solidFill>
              <a:srgbClr val="ff99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219000">
              <a:off x="6105960" y="2519640"/>
              <a:ext cx="1720800" cy="1173960"/>
            </a:xfrm>
            <a:custGeom>
              <a:avLst/>
              <a:gdLst/>
              <a:ahLst/>
              <a:rect l="l" t="t" r="r" b="b"/>
              <a:pathLst>
                <a:path w="1812" h="1265">
                  <a:moveTo>
                    <a:pt x="559" y="128"/>
                  </a:moveTo>
                  <a:lnTo>
                    <a:pt x="635" y="37"/>
                  </a:lnTo>
                  <a:lnTo>
                    <a:pt x="973" y="43"/>
                  </a:lnTo>
                  <a:lnTo>
                    <a:pt x="1212" y="0"/>
                  </a:lnTo>
                  <a:lnTo>
                    <a:pt x="1515" y="152"/>
                  </a:lnTo>
                  <a:lnTo>
                    <a:pt x="1666" y="109"/>
                  </a:lnTo>
                  <a:lnTo>
                    <a:pt x="1748" y="128"/>
                  </a:lnTo>
                  <a:lnTo>
                    <a:pt x="1765" y="503"/>
                  </a:lnTo>
                  <a:lnTo>
                    <a:pt x="1812" y="563"/>
                  </a:lnTo>
                  <a:lnTo>
                    <a:pt x="1673" y="854"/>
                  </a:lnTo>
                  <a:lnTo>
                    <a:pt x="1521" y="654"/>
                  </a:lnTo>
                  <a:lnTo>
                    <a:pt x="1480" y="757"/>
                  </a:lnTo>
                  <a:lnTo>
                    <a:pt x="1265" y="1156"/>
                  </a:lnTo>
                  <a:lnTo>
                    <a:pt x="548" y="1265"/>
                  </a:lnTo>
                  <a:lnTo>
                    <a:pt x="176" y="1187"/>
                  </a:lnTo>
                  <a:lnTo>
                    <a:pt x="58" y="939"/>
                  </a:lnTo>
                  <a:lnTo>
                    <a:pt x="58" y="685"/>
                  </a:lnTo>
                  <a:lnTo>
                    <a:pt x="0" y="473"/>
                  </a:lnTo>
                  <a:lnTo>
                    <a:pt x="559" y="128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649680" y="2400120"/>
            <a:ext cx="2021040" cy="1506600"/>
            <a:chOff x="3649680" y="2400120"/>
            <a:chExt cx="2021040" cy="1506600"/>
          </a:xfrm>
        </p:grpSpPr>
        <p:sp>
          <p:nvSpPr>
            <p:cNvPr id="468" name=""/>
            <p:cNvSpPr/>
            <p:nvPr/>
          </p:nvSpPr>
          <p:spPr>
            <a:xfrm rot="219000">
              <a:off x="4336560" y="3254040"/>
              <a:ext cx="620280" cy="63360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19000">
              <a:off x="4304160" y="2435040"/>
              <a:ext cx="488880" cy="49752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219000">
              <a:off x="4708080" y="2412360"/>
              <a:ext cx="400320" cy="40968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219000">
              <a:off x="5027760" y="2845800"/>
              <a:ext cx="623160" cy="63612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19000">
              <a:off x="3859920" y="3045960"/>
              <a:ext cx="709200" cy="72360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19000">
              <a:off x="4832280" y="3193560"/>
              <a:ext cx="531360" cy="54036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219000">
              <a:off x="3682440" y="3160080"/>
              <a:ext cx="400320" cy="40716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19000">
              <a:off x="3661920" y="2842200"/>
              <a:ext cx="397440" cy="40608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219000">
              <a:off x="3853080" y="2502360"/>
              <a:ext cx="621720" cy="63144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19000">
              <a:off x="5133960" y="2623680"/>
              <a:ext cx="489240" cy="49860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19000">
              <a:off x="5014800" y="2433240"/>
              <a:ext cx="445320" cy="452160"/>
            </a:xfrm>
            <a:prstGeom prst="ellipse">
              <a:avLst/>
            </a:prstGeom>
            <a:solidFill>
              <a:srgbClr val="66f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19000">
              <a:off x="3819960" y="2519640"/>
              <a:ext cx="1720800" cy="1173960"/>
            </a:xfrm>
            <a:custGeom>
              <a:avLst/>
              <a:gdLst/>
              <a:ahLst/>
              <a:rect l="l" t="t" r="r" b="b"/>
              <a:pathLst>
                <a:path w="1812" h="1265">
                  <a:moveTo>
                    <a:pt x="559" y="128"/>
                  </a:moveTo>
                  <a:lnTo>
                    <a:pt x="635" y="37"/>
                  </a:lnTo>
                  <a:lnTo>
                    <a:pt x="973" y="43"/>
                  </a:lnTo>
                  <a:lnTo>
                    <a:pt x="1212" y="0"/>
                  </a:lnTo>
                  <a:lnTo>
                    <a:pt x="1515" y="152"/>
                  </a:lnTo>
                  <a:lnTo>
                    <a:pt x="1666" y="109"/>
                  </a:lnTo>
                  <a:lnTo>
                    <a:pt x="1748" y="128"/>
                  </a:lnTo>
                  <a:lnTo>
                    <a:pt x="1765" y="503"/>
                  </a:lnTo>
                  <a:lnTo>
                    <a:pt x="1812" y="563"/>
                  </a:lnTo>
                  <a:lnTo>
                    <a:pt x="1673" y="854"/>
                  </a:lnTo>
                  <a:lnTo>
                    <a:pt x="1521" y="654"/>
                  </a:lnTo>
                  <a:lnTo>
                    <a:pt x="1480" y="757"/>
                  </a:lnTo>
                  <a:lnTo>
                    <a:pt x="1265" y="1156"/>
                  </a:lnTo>
                  <a:lnTo>
                    <a:pt x="548" y="1265"/>
                  </a:lnTo>
                  <a:lnTo>
                    <a:pt x="176" y="1187"/>
                  </a:lnTo>
                  <a:lnTo>
                    <a:pt x="58" y="939"/>
                  </a:lnTo>
                  <a:lnTo>
                    <a:pt x="58" y="685"/>
                  </a:lnTo>
                  <a:lnTo>
                    <a:pt x="0" y="473"/>
                  </a:lnTo>
                  <a:lnTo>
                    <a:pt x="559" y="128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114800" y="3311640"/>
            <a:ext cx="457200" cy="309600"/>
            <a:chOff x="4114800" y="3311640"/>
            <a:chExt cx="457200" cy="309600"/>
          </a:xfrm>
        </p:grpSpPr>
        <p:sp>
          <p:nvSpPr>
            <p:cNvPr id="481" name=""/>
            <p:cNvSpPr/>
            <p:nvPr/>
          </p:nvSpPr>
          <p:spPr>
            <a:xfrm>
              <a:off x="4131000" y="3327120"/>
              <a:ext cx="424440" cy="27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14800" y="3311640"/>
              <a:ext cx="424440" cy="278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1000" y="3327120"/>
              <a:ext cx="392040" cy="24768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96"/>
                  </a:moveTo>
                  <a:lnTo>
                    <a:pt x="192" y="0"/>
                  </a:lnTo>
                  <a:lnTo>
                    <a:pt x="192" y="48"/>
                  </a:lnTo>
                  <a:lnTo>
                    <a:pt x="336" y="48"/>
                  </a:lnTo>
                  <a:lnTo>
                    <a:pt x="576" y="288"/>
                  </a:lnTo>
                  <a:lnTo>
                    <a:pt x="816" y="48"/>
                  </a:lnTo>
                  <a:lnTo>
                    <a:pt x="960" y="48"/>
                  </a:lnTo>
                  <a:lnTo>
                    <a:pt x="960" y="0"/>
                  </a:lnTo>
                  <a:lnTo>
                    <a:pt x="1152" y="96"/>
                  </a:lnTo>
                  <a:lnTo>
                    <a:pt x="960" y="192"/>
                  </a:lnTo>
                  <a:lnTo>
                    <a:pt x="960" y="144"/>
                  </a:lnTo>
                  <a:lnTo>
                    <a:pt x="864" y="144"/>
                  </a:lnTo>
                  <a:lnTo>
                    <a:pt x="624" y="384"/>
                  </a:lnTo>
                  <a:lnTo>
                    <a:pt x="864" y="624"/>
                  </a:lnTo>
                  <a:lnTo>
                    <a:pt x="960" y="624"/>
                  </a:lnTo>
                  <a:lnTo>
                    <a:pt x="960" y="576"/>
                  </a:lnTo>
                  <a:lnTo>
                    <a:pt x="1152" y="672"/>
                  </a:lnTo>
                  <a:lnTo>
                    <a:pt x="960" y="768"/>
                  </a:lnTo>
                  <a:lnTo>
                    <a:pt x="960" y="720"/>
                  </a:lnTo>
                  <a:lnTo>
                    <a:pt x="816" y="720"/>
                  </a:lnTo>
                  <a:lnTo>
                    <a:pt x="576" y="480"/>
                  </a:lnTo>
                  <a:lnTo>
                    <a:pt x="336" y="720"/>
                  </a:lnTo>
                  <a:lnTo>
                    <a:pt x="192" y="720"/>
                  </a:lnTo>
                  <a:lnTo>
                    <a:pt x="192" y="768"/>
                  </a:lnTo>
                  <a:lnTo>
                    <a:pt x="0" y="672"/>
                  </a:lnTo>
                  <a:lnTo>
                    <a:pt x="192" y="576"/>
                  </a:lnTo>
                  <a:lnTo>
                    <a:pt x="192" y="624"/>
                  </a:lnTo>
                  <a:lnTo>
                    <a:pt x="288" y="624"/>
                  </a:lnTo>
                  <a:lnTo>
                    <a:pt x="528" y="384"/>
                  </a:lnTo>
                  <a:lnTo>
                    <a:pt x="288" y="144"/>
                  </a:lnTo>
                  <a:lnTo>
                    <a:pt x="192" y="144"/>
                  </a:lnTo>
                  <a:lnTo>
                    <a:pt x="192" y="19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1000" y="3327120"/>
              <a:ext cx="441000" cy="29412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0" y="864"/>
                  </a:moveTo>
                  <a:lnTo>
                    <a:pt x="96" y="912"/>
                  </a:lnTo>
                  <a:lnTo>
                    <a:pt x="1296" y="912"/>
                  </a:lnTo>
                  <a:lnTo>
                    <a:pt x="1296" y="96"/>
                  </a:lnTo>
                  <a:lnTo>
                    <a:pt x="1248" y="0"/>
                  </a:lnTo>
                  <a:lnTo>
                    <a:pt x="1248" y="864"/>
                  </a:lnTo>
                  <a:lnTo>
                    <a:pt x="48" y="864"/>
                  </a:lnTo>
                  <a:lnTo>
                    <a:pt x="0" y="86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55800" y="3605760"/>
              <a:ext cx="162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038480" y="2625840"/>
            <a:ext cx="457200" cy="309600"/>
            <a:chOff x="4038480" y="2625840"/>
            <a:chExt cx="457200" cy="309600"/>
          </a:xfrm>
        </p:grpSpPr>
        <p:sp>
          <p:nvSpPr>
            <p:cNvPr id="487" name=""/>
            <p:cNvSpPr/>
            <p:nvPr/>
          </p:nvSpPr>
          <p:spPr>
            <a:xfrm>
              <a:off x="4054680" y="2641320"/>
              <a:ext cx="424440" cy="27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38480" y="2625840"/>
              <a:ext cx="424440" cy="278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54680" y="2641320"/>
              <a:ext cx="392040" cy="24768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96"/>
                  </a:moveTo>
                  <a:lnTo>
                    <a:pt x="192" y="0"/>
                  </a:lnTo>
                  <a:lnTo>
                    <a:pt x="192" y="48"/>
                  </a:lnTo>
                  <a:lnTo>
                    <a:pt x="336" y="48"/>
                  </a:lnTo>
                  <a:lnTo>
                    <a:pt x="576" y="288"/>
                  </a:lnTo>
                  <a:lnTo>
                    <a:pt x="816" y="48"/>
                  </a:lnTo>
                  <a:lnTo>
                    <a:pt x="960" y="48"/>
                  </a:lnTo>
                  <a:lnTo>
                    <a:pt x="960" y="0"/>
                  </a:lnTo>
                  <a:lnTo>
                    <a:pt x="1152" y="96"/>
                  </a:lnTo>
                  <a:lnTo>
                    <a:pt x="960" y="192"/>
                  </a:lnTo>
                  <a:lnTo>
                    <a:pt x="960" y="144"/>
                  </a:lnTo>
                  <a:lnTo>
                    <a:pt x="864" y="144"/>
                  </a:lnTo>
                  <a:lnTo>
                    <a:pt x="624" y="384"/>
                  </a:lnTo>
                  <a:lnTo>
                    <a:pt x="864" y="624"/>
                  </a:lnTo>
                  <a:lnTo>
                    <a:pt x="960" y="624"/>
                  </a:lnTo>
                  <a:lnTo>
                    <a:pt x="960" y="576"/>
                  </a:lnTo>
                  <a:lnTo>
                    <a:pt x="1152" y="672"/>
                  </a:lnTo>
                  <a:lnTo>
                    <a:pt x="960" y="768"/>
                  </a:lnTo>
                  <a:lnTo>
                    <a:pt x="960" y="720"/>
                  </a:lnTo>
                  <a:lnTo>
                    <a:pt x="816" y="720"/>
                  </a:lnTo>
                  <a:lnTo>
                    <a:pt x="576" y="480"/>
                  </a:lnTo>
                  <a:lnTo>
                    <a:pt x="336" y="720"/>
                  </a:lnTo>
                  <a:lnTo>
                    <a:pt x="192" y="720"/>
                  </a:lnTo>
                  <a:lnTo>
                    <a:pt x="192" y="768"/>
                  </a:lnTo>
                  <a:lnTo>
                    <a:pt x="0" y="672"/>
                  </a:lnTo>
                  <a:lnTo>
                    <a:pt x="192" y="576"/>
                  </a:lnTo>
                  <a:lnTo>
                    <a:pt x="192" y="624"/>
                  </a:lnTo>
                  <a:lnTo>
                    <a:pt x="288" y="624"/>
                  </a:lnTo>
                  <a:lnTo>
                    <a:pt x="528" y="384"/>
                  </a:lnTo>
                  <a:lnTo>
                    <a:pt x="288" y="144"/>
                  </a:lnTo>
                  <a:lnTo>
                    <a:pt x="192" y="144"/>
                  </a:lnTo>
                  <a:lnTo>
                    <a:pt x="192" y="19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54680" y="2641320"/>
              <a:ext cx="441000" cy="29412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0" y="864"/>
                  </a:moveTo>
                  <a:lnTo>
                    <a:pt x="96" y="912"/>
                  </a:lnTo>
                  <a:lnTo>
                    <a:pt x="1296" y="912"/>
                  </a:lnTo>
                  <a:lnTo>
                    <a:pt x="1296" y="96"/>
                  </a:lnTo>
                  <a:lnTo>
                    <a:pt x="1248" y="0"/>
                  </a:lnTo>
                  <a:lnTo>
                    <a:pt x="1248" y="864"/>
                  </a:lnTo>
                  <a:lnTo>
                    <a:pt x="48" y="864"/>
                  </a:lnTo>
                  <a:lnTo>
                    <a:pt x="0" y="86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79480" y="2919960"/>
              <a:ext cx="162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82680" y="2232000"/>
            <a:ext cx="531720" cy="417240"/>
            <a:chOff x="382680" y="2232000"/>
            <a:chExt cx="531720" cy="41724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382680" y="223200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382680" y="225864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3"/>
            <a:stretch/>
          </p:blipFill>
          <p:spPr>
            <a:xfrm>
              <a:off x="382680" y="228420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4"/>
            <a:stretch/>
          </p:blipFill>
          <p:spPr>
            <a:xfrm>
              <a:off x="382680" y="231120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5"/>
            <a:stretch/>
          </p:blipFill>
          <p:spPr>
            <a:xfrm>
              <a:off x="382680" y="233820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6"/>
            <a:stretch/>
          </p:blipFill>
          <p:spPr>
            <a:xfrm>
              <a:off x="382680" y="236484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7"/>
            <a:stretch/>
          </p:blipFill>
          <p:spPr>
            <a:xfrm>
              <a:off x="382680" y="239040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8"/>
            <a:stretch/>
          </p:blipFill>
          <p:spPr>
            <a:xfrm>
              <a:off x="382680" y="241740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9"/>
            <a:stretch/>
          </p:blipFill>
          <p:spPr>
            <a:xfrm>
              <a:off x="382680" y="244440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10"/>
            <a:stretch/>
          </p:blipFill>
          <p:spPr>
            <a:xfrm>
              <a:off x="382680" y="246960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11"/>
            <a:stretch/>
          </p:blipFill>
          <p:spPr>
            <a:xfrm>
              <a:off x="382680" y="249660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12"/>
            <a:stretch/>
          </p:blipFill>
          <p:spPr>
            <a:xfrm>
              <a:off x="382680" y="252360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13"/>
            <a:stretch/>
          </p:blipFill>
          <p:spPr>
            <a:xfrm>
              <a:off x="382680" y="255060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14"/>
            <a:stretch/>
          </p:blipFill>
          <p:spPr>
            <a:xfrm>
              <a:off x="382680" y="257580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15"/>
            <a:stretch/>
          </p:blipFill>
          <p:spPr>
            <a:xfrm>
              <a:off x="382680" y="260280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16"/>
            <a:stretch/>
          </p:blipFill>
          <p:spPr>
            <a:xfrm>
              <a:off x="382680" y="2629800"/>
              <a:ext cx="53172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"/>
          <p:cNvGrpSpPr/>
          <p:nvPr/>
        </p:nvGrpSpPr>
        <p:grpSpPr>
          <a:xfrm>
            <a:off x="8305920" y="2009880"/>
            <a:ext cx="531720" cy="416880"/>
            <a:chOff x="8305920" y="2009880"/>
            <a:chExt cx="531720" cy="416880"/>
          </a:xfrm>
        </p:grpSpPr>
        <p:pic>
          <p:nvPicPr>
            <p:cNvPr id="510" name="" descr=""/>
            <p:cNvPicPr/>
            <p:nvPr/>
          </p:nvPicPr>
          <p:blipFill>
            <a:blip r:embed="rId17"/>
            <a:stretch/>
          </p:blipFill>
          <p:spPr>
            <a:xfrm>
              <a:off x="8305920" y="200988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18"/>
            <a:stretch/>
          </p:blipFill>
          <p:spPr>
            <a:xfrm>
              <a:off x="8305920" y="203652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19"/>
            <a:stretch/>
          </p:blipFill>
          <p:spPr>
            <a:xfrm>
              <a:off x="8305920" y="206208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20"/>
            <a:stretch/>
          </p:blipFill>
          <p:spPr>
            <a:xfrm>
              <a:off x="8305920" y="208908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21"/>
            <a:stretch/>
          </p:blipFill>
          <p:spPr>
            <a:xfrm>
              <a:off x="8305920" y="211572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22"/>
            <a:stretch/>
          </p:blipFill>
          <p:spPr>
            <a:xfrm>
              <a:off x="8305920" y="214236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3"/>
            <a:stretch/>
          </p:blipFill>
          <p:spPr>
            <a:xfrm>
              <a:off x="8305920" y="216792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24"/>
            <a:stretch/>
          </p:blipFill>
          <p:spPr>
            <a:xfrm>
              <a:off x="8305920" y="219528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25"/>
            <a:stretch/>
          </p:blipFill>
          <p:spPr>
            <a:xfrm>
              <a:off x="8305920" y="222192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26"/>
            <a:stretch/>
          </p:blipFill>
          <p:spPr>
            <a:xfrm>
              <a:off x="8305920" y="224748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27"/>
            <a:stretch/>
          </p:blipFill>
          <p:spPr>
            <a:xfrm>
              <a:off x="8305920" y="227412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28"/>
            <a:stretch/>
          </p:blipFill>
          <p:spPr>
            <a:xfrm>
              <a:off x="8305920" y="230148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29"/>
            <a:stretch/>
          </p:blipFill>
          <p:spPr>
            <a:xfrm>
              <a:off x="8305920" y="232812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30"/>
            <a:stretch/>
          </p:blipFill>
          <p:spPr>
            <a:xfrm>
              <a:off x="8305920" y="2353680"/>
              <a:ext cx="53172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31"/>
            <a:stretch/>
          </p:blipFill>
          <p:spPr>
            <a:xfrm>
              <a:off x="8305920" y="2380320"/>
              <a:ext cx="53172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32"/>
            <a:stretch/>
          </p:blipFill>
          <p:spPr>
            <a:xfrm>
              <a:off x="8305920" y="2407320"/>
              <a:ext cx="53172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"/>
          <p:cNvGrpSpPr/>
          <p:nvPr/>
        </p:nvGrpSpPr>
        <p:grpSpPr>
          <a:xfrm>
            <a:off x="8153280" y="4441680"/>
            <a:ext cx="532080" cy="417240"/>
            <a:chOff x="8153280" y="4441680"/>
            <a:chExt cx="532080" cy="417240"/>
          </a:xfrm>
        </p:grpSpPr>
        <p:pic>
          <p:nvPicPr>
            <p:cNvPr id="527" name="" descr=""/>
            <p:cNvPicPr/>
            <p:nvPr/>
          </p:nvPicPr>
          <p:blipFill>
            <a:blip r:embed="rId33"/>
            <a:stretch/>
          </p:blipFill>
          <p:spPr>
            <a:xfrm>
              <a:off x="8153280" y="4441680"/>
              <a:ext cx="53208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34"/>
            <a:stretch/>
          </p:blipFill>
          <p:spPr>
            <a:xfrm>
              <a:off x="8153280" y="4468320"/>
              <a:ext cx="53208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35"/>
            <a:stretch/>
          </p:blipFill>
          <p:spPr>
            <a:xfrm>
              <a:off x="8153280" y="4493880"/>
              <a:ext cx="53208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6"/>
            <a:stretch/>
          </p:blipFill>
          <p:spPr>
            <a:xfrm>
              <a:off x="8153280" y="4520880"/>
              <a:ext cx="53208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37"/>
            <a:stretch/>
          </p:blipFill>
          <p:spPr>
            <a:xfrm>
              <a:off x="8153280" y="4547880"/>
              <a:ext cx="53208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38"/>
            <a:stretch/>
          </p:blipFill>
          <p:spPr>
            <a:xfrm>
              <a:off x="8153280" y="4574520"/>
              <a:ext cx="53208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39"/>
            <a:stretch/>
          </p:blipFill>
          <p:spPr>
            <a:xfrm>
              <a:off x="8153280" y="4600080"/>
              <a:ext cx="53208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40"/>
            <a:stretch/>
          </p:blipFill>
          <p:spPr>
            <a:xfrm>
              <a:off x="8153280" y="4627080"/>
              <a:ext cx="53208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41"/>
            <a:stretch/>
          </p:blipFill>
          <p:spPr>
            <a:xfrm>
              <a:off x="8153280" y="4654080"/>
              <a:ext cx="53208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42"/>
            <a:stretch/>
          </p:blipFill>
          <p:spPr>
            <a:xfrm>
              <a:off x="8153280" y="4679280"/>
              <a:ext cx="53208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43"/>
            <a:stretch/>
          </p:blipFill>
          <p:spPr>
            <a:xfrm>
              <a:off x="8153280" y="4706280"/>
              <a:ext cx="53208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44"/>
            <a:stretch/>
          </p:blipFill>
          <p:spPr>
            <a:xfrm>
              <a:off x="8153280" y="4733280"/>
              <a:ext cx="53208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45"/>
            <a:stretch/>
          </p:blipFill>
          <p:spPr>
            <a:xfrm>
              <a:off x="8153280" y="4760280"/>
              <a:ext cx="53208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46"/>
            <a:stretch/>
          </p:blipFill>
          <p:spPr>
            <a:xfrm>
              <a:off x="8153280" y="4785480"/>
              <a:ext cx="532080" cy="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47"/>
            <a:stretch/>
          </p:blipFill>
          <p:spPr>
            <a:xfrm>
              <a:off x="8153280" y="4812480"/>
              <a:ext cx="532080" cy="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48"/>
            <a:stretch/>
          </p:blipFill>
          <p:spPr>
            <a:xfrm>
              <a:off x="8153280" y="4839480"/>
              <a:ext cx="532080" cy="1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"/>
          <p:cNvSpPr/>
          <p:nvPr/>
        </p:nvSpPr>
        <p:spPr>
          <a:xfrm>
            <a:off x="2590920" y="2778120"/>
            <a:ext cx="1447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3463920"/>
            <a:ext cx="1600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2778120"/>
            <a:ext cx="12193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0" y="3387600"/>
            <a:ext cx="2133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7" name=""/>
          <p:cNvSpPr/>
          <p:nvPr/>
        </p:nvSpPr>
        <p:spPr>
          <a:xfrm>
            <a:off x="4454640" y="3975120"/>
            <a:ext cx="57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8" name=""/>
          <p:cNvSpPr/>
          <p:nvPr/>
        </p:nvSpPr>
        <p:spPr>
          <a:xfrm>
            <a:off x="6477120" y="3898800"/>
            <a:ext cx="83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RO 2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9" name=""/>
          <p:cNvSpPr/>
          <p:nvPr/>
        </p:nvSpPr>
        <p:spPr>
          <a:xfrm>
            <a:off x="1752480" y="390852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RO 1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876920" y="2625840"/>
            <a:ext cx="457200" cy="309600"/>
            <a:chOff x="4876920" y="2625840"/>
            <a:chExt cx="457200" cy="309600"/>
          </a:xfrm>
        </p:grpSpPr>
        <p:sp>
          <p:nvSpPr>
            <p:cNvPr id="551" name=""/>
            <p:cNvSpPr/>
            <p:nvPr/>
          </p:nvSpPr>
          <p:spPr>
            <a:xfrm>
              <a:off x="4893120" y="2641320"/>
              <a:ext cx="424440" cy="27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6920" y="2625840"/>
              <a:ext cx="424440" cy="278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93120" y="2641320"/>
              <a:ext cx="392040" cy="24768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96"/>
                  </a:moveTo>
                  <a:lnTo>
                    <a:pt x="192" y="0"/>
                  </a:lnTo>
                  <a:lnTo>
                    <a:pt x="192" y="48"/>
                  </a:lnTo>
                  <a:lnTo>
                    <a:pt x="336" y="48"/>
                  </a:lnTo>
                  <a:lnTo>
                    <a:pt x="576" y="288"/>
                  </a:lnTo>
                  <a:lnTo>
                    <a:pt x="816" y="48"/>
                  </a:lnTo>
                  <a:lnTo>
                    <a:pt x="960" y="48"/>
                  </a:lnTo>
                  <a:lnTo>
                    <a:pt x="960" y="0"/>
                  </a:lnTo>
                  <a:lnTo>
                    <a:pt x="1152" y="96"/>
                  </a:lnTo>
                  <a:lnTo>
                    <a:pt x="960" y="192"/>
                  </a:lnTo>
                  <a:lnTo>
                    <a:pt x="960" y="144"/>
                  </a:lnTo>
                  <a:lnTo>
                    <a:pt x="864" y="144"/>
                  </a:lnTo>
                  <a:lnTo>
                    <a:pt x="624" y="384"/>
                  </a:lnTo>
                  <a:lnTo>
                    <a:pt x="864" y="624"/>
                  </a:lnTo>
                  <a:lnTo>
                    <a:pt x="960" y="624"/>
                  </a:lnTo>
                  <a:lnTo>
                    <a:pt x="960" y="576"/>
                  </a:lnTo>
                  <a:lnTo>
                    <a:pt x="1152" y="672"/>
                  </a:lnTo>
                  <a:lnTo>
                    <a:pt x="960" y="768"/>
                  </a:lnTo>
                  <a:lnTo>
                    <a:pt x="960" y="720"/>
                  </a:lnTo>
                  <a:lnTo>
                    <a:pt x="816" y="720"/>
                  </a:lnTo>
                  <a:lnTo>
                    <a:pt x="576" y="480"/>
                  </a:lnTo>
                  <a:lnTo>
                    <a:pt x="336" y="720"/>
                  </a:lnTo>
                  <a:lnTo>
                    <a:pt x="192" y="720"/>
                  </a:lnTo>
                  <a:lnTo>
                    <a:pt x="192" y="768"/>
                  </a:lnTo>
                  <a:lnTo>
                    <a:pt x="0" y="672"/>
                  </a:lnTo>
                  <a:lnTo>
                    <a:pt x="192" y="576"/>
                  </a:lnTo>
                  <a:lnTo>
                    <a:pt x="192" y="624"/>
                  </a:lnTo>
                  <a:lnTo>
                    <a:pt x="288" y="624"/>
                  </a:lnTo>
                  <a:lnTo>
                    <a:pt x="528" y="384"/>
                  </a:lnTo>
                  <a:lnTo>
                    <a:pt x="288" y="144"/>
                  </a:lnTo>
                  <a:lnTo>
                    <a:pt x="192" y="144"/>
                  </a:lnTo>
                  <a:lnTo>
                    <a:pt x="192" y="19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93120" y="2641320"/>
              <a:ext cx="441000" cy="29412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0" y="864"/>
                  </a:moveTo>
                  <a:lnTo>
                    <a:pt x="96" y="912"/>
                  </a:lnTo>
                  <a:lnTo>
                    <a:pt x="1296" y="912"/>
                  </a:lnTo>
                  <a:lnTo>
                    <a:pt x="1296" y="96"/>
                  </a:lnTo>
                  <a:lnTo>
                    <a:pt x="1248" y="0"/>
                  </a:lnTo>
                  <a:lnTo>
                    <a:pt x="1248" y="864"/>
                  </a:lnTo>
                  <a:lnTo>
                    <a:pt x="48" y="864"/>
                  </a:lnTo>
                  <a:lnTo>
                    <a:pt x="0" y="86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17920" y="2919960"/>
              <a:ext cx="162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4267080" y="2930400"/>
            <a:ext cx="7632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57" name=""/>
          <p:cNvSpPr/>
          <p:nvPr/>
        </p:nvSpPr>
        <p:spPr>
          <a:xfrm>
            <a:off x="4495680" y="2768760"/>
            <a:ext cx="3812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4495680" y="2854440"/>
            <a:ext cx="38124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057400" y="3311640"/>
            <a:ext cx="457200" cy="309600"/>
            <a:chOff x="2057400" y="3311640"/>
            <a:chExt cx="457200" cy="309600"/>
          </a:xfrm>
        </p:grpSpPr>
        <p:sp>
          <p:nvSpPr>
            <p:cNvPr id="560" name=""/>
            <p:cNvSpPr/>
            <p:nvPr/>
          </p:nvSpPr>
          <p:spPr>
            <a:xfrm>
              <a:off x="2073600" y="3327120"/>
              <a:ext cx="424440" cy="27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57400" y="3311640"/>
              <a:ext cx="424440" cy="278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73600" y="3327120"/>
              <a:ext cx="392040" cy="24768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96"/>
                  </a:moveTo>
                  <a:lnTo>
                    <a:pt x="192" y="0"/>
                  </a:lnTo>
                  <a:lnTo>
                    <a:pt x="192" y="48"/>
                  </a:lnTo>
                  <a:lnTo>
                    <a:pt x="336" y="48"/>
                  </a:lnTo>
                  <a:lnTo>
                    <a:pt x="576" y="288"/>
                  </a:lnTo>
                  <a:lnTo>
                    <a:pt x="816" y="48"/>
                  </a:lnTo>
                  <a:lnTo>
                    <a:pt x="960" y="48"/>
                  </a:lnTo>
                  <a:lnTo>
                    <a:pt x="960" y="0"/>
                  </a:lnTo>
                  <a:lnTo>
                    <a:pt x="1152" y="96"/>
                  </a:lnTo>
                  <a:lnTo>
                    <a:pt x="960" y="192"/>
                  </a:lnTo>
                  <a:lnTo>
                    <a:pt x="960" y="144"/>
                  </a:lnTo>
                  <a:lnTo>
                    <a:pt x="864" y="144"/>
                  </a:lnTo>
                  <a:lnTo>
                    <a:pt x="624" y="384"/>
                  </a:lnTo>
                  <a:lnTo>
                    <a:pt x="864" y="624"/>
                  </a:lnTo>
                  <a:lnTo>
                    <a:pt x="960" y="624"/>
                  </a:lnTo>
                  <a:lnTo>
                    <a:pt x="960" y="576"/>
                  </a:lnTo>
                  <a:lnTo>
                    <a:pt x="1152" y="672"/>
                  </a:lnTo>
                  <a:lnTo>
                    <a:pt x="960" y="768"/>
                  </a:lnTo>
                  <a:lnTo>
                    <a:pt x="960" y="720"/>
                  </a:lnTo>
                  <a:lnTo>
                    <a:pt x="816" y="720"/>
                  </a:lnTo>
                  <a:lnTo>
                    <a:pt x="576" y="480"/>
                  </a:lnTo>
                  <a:lnTo>
                    <a:pt x="336" y="720"/>
                  </a:lnTo>
                  <a:lnTo>
                    <a:pt x="192" y="720"/>
                  </a:lnTo>
                  <a:lnTo>
                    <a:pt x="192" y="768"/>
                  </a:lnTo>
                  <a:lnTo>
                    <a:pt x="0" y="672"/>
                  </a:lnTo>
                  <a:lnTo>
                    <a:pt x="192" y="576"/>
                  </a:lnTo>
                  <a:lnTo>
                    <a:pt x="192" y="624"/>
                  </a:lnTo>
                  <a:lnTo>
                    <a:pt x="288" y="624"/>
                  </a:lnTo>
                  <a:lnTo>
                    <a:pt x="528" y="384"/>
                  </a:lnTo>
                  <a:lnTo>
                    <a:pt x="288" y="144"/>
                  </a:lnTo>
                  <a:lnTo>
                    <a:pt x="192" y="144"/>
                  </a:lnTo>
                  <a:lnTo>
                    <a:pt x="192" y="19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73600" y="3327120"/>
              <a:ext cx="441000" cy="29412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0" y="864"/>
                  </a:moveTo>
                  <a:lnTo>
                    <a:pt x="96" y="912"/>
                  </a:lnTo>
                  <a:lnTo>
                    <a:pt x="1296" y="912"/>
                  </a:lnTo>
                  <a:lnTo>
                    <a:pt x="1296" y="96"/>
                  </a:lnTo>
                  <a:lnTo>
                    <a:pt x="1248" y="0"/>
                  </a:lnTo>
                  <a:lnTo>
                    <a:pt x="1248" y="864"/>
                  </a:lnTo>
                  <a:lnTo>
                    <a:pt x="48" y="864"/>
                  </a:lnTo>
                  <a:lnTo>
                    <a:pt x="0" y="86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98400" y="3605760"/>
              <a:ext cx="162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133720" y="2625840"/>
            <a:ext cx="457200" cy="309600"/>
            <a:chOff x="2133720" y="2625840"/>
            <a:chExt cx="457200" cy="309600"/>
          </a:xfrm>
        </p:grpSpPr>
        <p:sp>
          <p:nvSpPr>
            <p:cNvPr id="566" name=""/>
            <p:cNvSpPr/>
            <p:nvPr/>
          </p:nvSpPr>
          <p:spPr>
            <a:xfrm>
              <a:off x="2149920" y="2641320"/>
              <a:ext cx="424440" cy="27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33720" y="2625840"/>
              <a:ext cx="424440" cy="278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49920" y="2641320"/>
              <a:ext cx="392040" cy="24768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96"/>
                  </a:moveTo>
                  <a:lnTo>
                    <a:pt x="192" y="0"/>
                  </a:lnTo>
                  <a:lnTo>
                    <a:pt x="192" y="48"/>
                  </a:lnTo>
                  <a:lnTo>
                    <a:pt x="336" y="48"/>
                  </a:lnTo>
                  <a:lnTo>
                    <a:pt x="576" y="288"/>
                  </a:lnTo>
                  <a:lnTo>
                    <a:pt x="816" y="48"/>
                  </a:lnTo>
                  <a:lnTo>
                    <a:pt x="960" y="48"/>
                  </a:lnTo>
                  <a:lnTo>
                    <a:pt x="960" y="0"/>
                  </a:lnTo>
                  <a:lnTo>
                    <a:pt x="1152" y="96"/>
                  </a:lnTo>
                  <a:lnTo>
                    <a:pt x="960" y="192"/>
                  </a:lnTo>
                  <a:lnTo>
                    <a:pt x="960" y="144"/>
                  </a:lnTo>
                  <a:lnTo>
                    <a:pt x="864" y="144"/>
                  </a:lnTo>
                  <a:lnTo>
                    <a:pt x="624" y="384"/>
                  </a:lnTo>
                  <a:lnTo>
                    <a:pt x="864" y="624"/>
                  </a:lnTo>
                  <a:lnTo>
                    <a:pt x="960" y="624"/>
                  </a:lnTo>
                  <a:lnTo>
                    <a:pt x="960" y="576"/>
                  </a:lnTo>
                  <a:lnTo>
                    <a:pt x="1152" y="672"/>
                  </a:lnTo>
                  <a:lnTo>
                    <a:pt x="960" y="768"/>
                  </a:lnTo>
                  <a:lnTo>
                    <a:pt x="960" y="720"/>
                  </a:lnTo>
                  <a:lnTo>
                    <a:pt x="816" y="720"/>
                  </a:lnTo>
                  <a:lnTo>
                    <a:pt x="576" y="480"/>
                  </a:lnTo>
                  <a:lnTo>
                    <a:pt x="336" y="720"/>
                  </a:lnTo>
                  <a:lnTo>
                    <a:pt x="192" y="720"/>
                  </a:lnTo>
                  <a:lnTo>
                    <a:pt x="192" y="768"/>
                  </a:lnTo>
                  <a:lnTo>
                    <a:pt x="0" y="672"/>
                  </a:lnTo>
                  <a:lnTo>
                    <a:pt x="192" y="576"/>
                  </a:lnTo>
                  <a:lnTo>
                    <a:pt x="192" y="624"/>
                  </a:lnTo>
                  <a:lnTo>
                    <a:pt x="288" y="624"/>
                  </a:lnTo>
                  <a:lnTo>
                    <a:pt x="528" y="384"/>
                  </a:lnTo>
                  <a:lnTo>
                    <a:pt x="288" y="144"/>
                  </a:lnTo>
                  <a:lnTo>
                    <a:pt x="192" y="144"/>
                  </a:lnTo>
                  <a:lnTo>
                    <a:pt x="192" y="19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49920" y="2641320"/>
              <a:ext cx="441000" cy="29412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0" y="864"/>
                  </a:moveTo>
                  <a:lnTo>
                    <a:pt x="96" y="912"/>
                  </a:lnTo>
                  <a:lnTo>
                    <a:pt x="1296" y="912"/>
                  </a:lnTo>
                  <a:lnTo>
                    <a:pt x="1296" y="96"/>
                  </a:lnTo>
                  <a:lnTo>
                    <a:pt x="1248" y="0"/>
                  </a:lnTo>
                  <a:lnTo>
                    <a:pt x="1248" y="864"/>
                  </a:lnTo>
                  <a:lnTo>
                    <a:pt x="48" y="864"/>
                  </a:lnTo>
                  <a:lnTo>
                    <a:pt x="0" y="86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74720" y="2919960"/>
              <a:ext cx="162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705720" y="3235320"/>
            <a:ext cx="457200" cy="309600"/>
            <a:chOff x="6705720" y="3235320"/>
            <a:chExt cx="457200" cy="309600"/>
          </a:xfrm>
        </p:grpSpPr>
        <p:sp>
          <p:nvSpPr>
            <p:cNvPr id="572" name=""/>
            <p:cNvSpPr/>
            <p:nvPr/>
          </p:nvSpPr>
          <p:spPr>
            <a:xfrm>
              <a:off x="6721920" y="3250800"/>
              <a:ext cx="424440" cy="27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05720" y="3235320"/>
              <a:ext cx="424440" cy="278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21920" y="3250800"/>
              <a:ext cx="392040" cy="24768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96"/>
                  </a:moveTo>
                  <a:lnTo>
                    <a:pt x="192" y="0"/>
                  </a:lnTo>
                  <a:lnTo>
                    <a:pt x="192" y="48"/>
                  </a:lnTo>
                  <a:lnTo>
                    <a:pt x="336" y="48"/>
                  </a:lnTo>
                  <a:lnTo>
                    <a:pt x="576" y="288"/>
                  </a:lnTo>
                  <a:lnTo>
                    <a:pt x="816" y="48"/>
                  </a:lnTo>
                  <a:lnTo>
                    <a:pt x="960" y="48"/>
                  </a:lnTo>
                  <a:lnTo>
                    <a:pt x="960" y="0"/>
                  </a:lnTo>
                  <a:lnTo>
                    <a:pt x="1152" y="96"/>
                  </a:lnTo>
                  <a:lnTo>
                    <a:pt x="960" y="192"/>
                  </a:lnTo>
                  <a:lnTo>
                    <a:pt x="960" y="144"/>
                  </a:lnTo>
                  <a:lnTo>
                    <a:pt x="864" y="144"/>
                  </a:lnTo>
                  <a:lnTo>
                    <a:pt x="624" y="384"/>
                  </a:lnTo>
                  <a:lnTo>
                    <a:pt x="864" y="624"/>
                  </a:lnTo>
                  <a:lnTo>
                    <a:pt x="960" y="624"/>
                  </a:lnTo>
                  <a:lnTo>
                    <a:pt x="960" y="576"/>
                  </a:lnTo>
                  <a:lnTo>
                    <a:pt x="1152" y="672"/>
                  </a:lnTo>
                  <a:lnTo>
                    <a:pt x="960" y="768"/>
                  </a:lnTo>
                  <a:lnTo>
                    <a:pt x="960" y="720"/>
                  </a:lnTo>
                  <a:lnTo>
                    <a:pt x="816" y="720"/>
                  </a:lnTo>
                  <a:lnTo>
                    <a:pt x="576" y="480"/>
                  </a:lnTo>
                  <a:lnTo>
                    <a:pt x="336" y="720"/>
                  </a:lnTo>
                  <a:lnTo>
                    <a:pt x="192" y="720"/>
                  </a:lnTo>
                  <a:lnTo>
                    <a:pt x="192" y="768"/>
                  </a:lnTo>
                  <a:lnTo>
                    <a:pt x="0" y="672"/>
                  </a:lnTo>
                  <a:lnTo>
                    <a:pt x="192" y="576"/>
                  </a:lnTo>
                  <a:lnTo>
                    <a:pt x="192" y="624"/>
                  </a:lnTo>
                  <a:lnTo>
                    <a:pt x="288" y="624"/>
                  </a:lnTo>
                  <a:lnTo>
                    <a:pt x="528" y="384"/>
                  </a:lnTo>
                  <a:lnTo>
                    <a:pt x="288" y="144"/>
                  </a:lnTo>
                  <a:lnTo>
                    <a:pt x="192" y="144"/>
                  </a:lnTo>
                  <a:lnTo>
                    <a:pt x="192" y="19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21920" y="3250800"/>
              <a:ext cx="441000" cy="29412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0" y="864"/>
                  </a:moveTo>
                  <a:lnTo>
                    <a:pt x="96" y="912"/>
                  </a:lnTo>
                  <a:lnTo>
                    <a:pt x="1296" y="912"/>
                  </a:lnTo>
                  <a:lnTo>
                    <a:pt x="1296" y="96"/>
                  </a:lnTo>
                  <a:lnTo>
                    <a:pt x="1248" y="0"/>
                  </a:lnTo>
                  <a:lnTo>
                    <a:pt x="1248" y="864"/>
                  </a:lnTo>
                  <a:lnTo>
                    <a:pt x="48" y="864"/>
                  </a:lnTo>
                  <a:lnTo>
                    <a:pt x="0" y="86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46720" y="3529440"/>
              <a:ext cx="162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010280" y="2592360"/>
            <a:ext cx="457200" cy="309600"/>
            <a:chOff x="7010280" y="2592360"/>
            <a:chExt cx="457200" cy="309600"/>
          </a:xfrm>
        </p:grpSpPr>
        <p:sp>
          <p:nvSpPr>
            <p:cNvPr id="578" name=""/>
            <p:cNvSpPr/>
            <p:nvPr/>
          </p:nvSpPr>
          <p:spPr>
            <a:xfrm>
              <a:off x="7026480" y="2607840"/>
              <a:ext cx="424440" cy="27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10280" y="2592360"/>
              <a:ext cx="424440" cy="278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26480" y="2607840"/>
              <a:ext cx="392040" cy="24768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96"/>
                  </a:moveTo>
                  <a:lnTo>
                    <a:pt x="192" y="0"/>
                  </a:lnTo>
                  <a:lnTo>
                    <a:pt x="192" y="48"/>
                  </a:lnTo>
                  <a:lnTo>
                    <a:pt x="336" y="48"/>
                  </a:lnTo>
                  <a:lnTo>
                    <a:pt x="576" y="288"/>
                  </a:lnTo>
                  <a:lnTo>
                    <a:pt x="816" y="48"/>
                  </a:lnTo>
                  <a:lnTo>
                    <a:pt x="960" y="48"/>
                  </a:lnTo>
                  <a:lnTo>
                    <a:pt x="960" y="0"/>
                  </a:lnTo>
                  <a:lnTo>
                    <a:pt x="1152" y="96"/>
                  </a:lnTo>
                  <a:lnTo>
                    <a:pt x="960" y="192"/>
                  </a:lnTo>
                  <a:lnTo>
                    <a:pt x="960" y="144"/>
                  </a:lnTo>
                  <a:lnTo>
                    <a:pt x="864" y="144"/>
                  </a:lnTo>
                  <a:lnTo>
                    <a:pt x="624" y="384"/>
                  </a:lnTo>
                  <a:lnTo>
                    <a:pt x="864" y="624"/>
                  </a:lnTo>
                  <a:lnTo>
                    <a:pt x="960" y="624"/>
                  </a:lnTo>
                  <a:lnTo>
                    <a:pt x="960" y="576"/>
                  </a:lnTo>
                  <a:lnTo>
                    <a:pt x="1152" y="672"/>
                  </a:lnTo>
                  <a:lnTo>
                    <a:pt x="960" y="768"/>
                  </a:lnTo>
                  <a:lnTo>
                    <a:pt x="960" y="720"/>
                  </a:lnTo>
                  <a:lnTo>
                    <a:pt x="816" y="720"/>
                  </a:lnTo>
                  <a:lnTo>
                    <a:pt x="576" y="480"/>
                  </a:lnTo>
                  <a:lnTo>
                    <a:pt x="336" y="720"/>
                  </a:lnTo>
                  <a:lnTo>
                    <a:pt x="192" y="720"/>
                  </a:lnTo>
                  <a:lnTo>
                    <a:pt x="192" y="768"/>
                  </a:lnTo>
                  <a:lnTo>
                    <a:pt x="0" y="672"/>
                  </a:lnTo>
                  <a:lnTo>
                    <a:pt x="192" y="576"/>
                  </a:lnTo>
                  <a:lnTo>
                    <a:pt x="192" y="624"/>
                  </a:lnTo>
                  <a:lnTo>
                    <a:pt x="288" y="624"/>
                  </a:lnTo>
                  <a:lnTo>
                    <a:pt x="528" y="384"/>
                  </a:lnTo>
                  <a:lnTo>
                    <a:pt x="288" y="144"/>
                  </a:lnTo>
                  <a:lnTo>
                    <a:pt x="192" y="144"/>
                  </a:lnTo>
                  <a:lnTo>
                    <a:pt x="192" y="19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26480" y="2607840"/>
              <a:ext cx="441000" cy="29412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0" y="864"/>
                  </a:moveTo>
                  <a:lnTo>
                    <a:pt x="96" y="912"/>
                  </a:lnTo>
                  <a:lnTo>
                    <a:pt x="1296" y="912"/>
                  </a:lnTo>
                  <a:lnTo>
                    <a:pt x="1296" y="96"/>
                  </a:lnTo>
                  <a:lnTo>
                    <a:pt x="1248" y="0"/>
                  </a:lnTo>
                  <a:lnTo>
                    <a:pt x="1248" y="864"/>
                  </a:lnTo>
                  <a:lnTo>
                    <a:pt x="48" y="864"/>
                  </a:lnTo>
                  <a:lnTo>
                    <a:pt x="0" y="86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51280" y="2886480"/>
              <a:ext cx="162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7467480" y="2231640"/>
            <a:ext cx="838440" cy="469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4" name=""/>
          <p:cNvSpPr/>
          <p:nvPr/>
        </p:nvSpPr>
        <p:spPr>
          <a:xfrm>
            <a:off x="7162920" y="3463920"/>
            <a:ext cx="1143000" cy="977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62920" y="2307960"/>
            <a:ext cx="1143000" cy="1003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6" name=""/>
          <p:cNvSpPr/>
          <p:nvPr/>
        </p:nvSpPr>
        <p:spPr>
          <a:xfrm>
            <a:off x="8153280" y="177480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2460600"/>
            <a:ext cx="1219320" cy="317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2536920"/>
            <a:ext cx="1143000" cy="927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1927080"/>
            <a:ext cx="76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514600" y="2854080"/>
            <a:ext cx="1523880" cy="609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1" name=""/>
          <p:cNvSpPr/>
          <p:nvPr/>
        </p:nvSpPr>
        <p:spPr>
          <a:xfrm>
            <a:off x="8077320" y="4898880"/>
            <a:ext cx="76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2" name=""/>
          <p:cNvSpPr/>
          <p:nvPr/>
        </p:nvSpPr>
        <p:spPr>
          <a:xfrm>
            <a:off x="5334120" y="2854440"/>
            <a:ext cx="137160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248520" y="2625840"/>
            <a:ext cx="457200" cy="309600"/>
            <a:chOff x="6248520" y="2625840"/>
            <a:chExt cx="457200" cy="309600"/>
          </a:xfrm>
        </p:grpSpPr>
        <p:sp>
          <p:nvSpPr>
            <p:cNvPr id="594" name=""/>
            <p:cNvSpPr/>
            <p:nvPr/>
          </p:nvSpPr>
          <p:spPr>
            <a:xfrm>
              <a:off x="6264720" y="2641320"/>
              <a:ext cx="424440" cy="27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48520" y="2625840"/>
              <a:ext cx="424440" cy="278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64720" y="2641320"/>
              <a:ext cx="392040" cy="24768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96"/>
                  </a:moveTo>
                  <a:lnTo>
                    <a:pt x="192" y="0"/>
                  </a:lnTo>
                  <a:lnTo>
                    <a:pt x="192" y="48"/>
                  </a:lnTo>
                  <a:lnTo>
                    <a:pt x="336" y="48"/>
                  </a:lnTo>
                  <a:lnTo>
                    <a:pt x="576" y="288"/>
                  </a:lnTo>
                  <a:lnTo>
                    <a:pt x="816" y="48"/>
                  </a:lnTo>
                  <a:lnTo>
                    <a:pt x="960" y="48"/>
                  </a:lnTo>
                  <a:lnTo>
                    <a:pt x="960" y="0"/>
                  </a:lnTo>
                  <a:lnTo>
                    <a:pt x="1152" y="96"/>
                  </a:lnTo>
                  <a:lnTo>
                    <a:pt x="960" y="192"/>
                  </a:lnTo>
                  <a:lnTo>
                    <a:pt x="960" y="144"/>
                  </a:lnTo>
                  <a:lnTo>
                    <a:pt x="864" y="144"/>
                  </a:lnTo>
                  <a:lnTo>
                    <a:pt x="624" y="384"/>
                  </a:lnTo>
                  <a:lnTo>
                    <a:pt x="864" y="624"/>
                  </a:lnTo>
                  <a:lnTo>
                    <a:pt x="960" y="624"/>
                  </a:lnTo>
                  <a:lnTo>
                    <a:pt x="960" y="576"/>
                  </a:lnTo>
                  <a:lnTo>
                    <a:pt x="1152" y="672"/>
                  </a:lnTo>
                  <a:lnTo>
                    <a:pt x="960" y="768"/>
                  </a:lnTo>
                  <a:lnTo>
                    <a:pt x="960" y="720"/>
                  </a:lnTo>
                  <a:lnTo>
                    <a:pt x="816" y="720"/>
                  </a:lnTo>
                  <a:lnTo>
                    <a:pt x="576" y="480"/>
                  </a:lnTo>
                  <a:lnTo>
                    <a:pt x="336" y="720"/>
                  </a:lnTo>
                  <a:lnTo>
                    <a:pt x="192" y="720"/>
                  </a:lnTo>
                  <a:lnTo>
                    <a:pt x="192" y="768"/>
                  </a:lnTo>
                  <a:lnTo>
                    <a:pt x="0" y="672"/>
                  </a:lnTo>
                  <a:lnTo>
                    <a:pt x="192" y="576"/>
                  </a:lnTo>
                  <a:lnTo>
                    <a:pt x="192" y="624"/>
                  </a:lnTo>
                  <a:lnTo>
                    <a:pt x="288" y="624"/>
                  </a:lnTo>
                  <a:lnTo>
                    <a:pt x="528" y="384"/>
                  </a:lnTo>
                  <a:lnTo>
                    <a:pt x="288" y="144"/>
                  </a:lnTo>
                  <a:lnTo>
                    <a:pt x="192" y="144"/>
                  </a:lnTo>
                  <a:lnTo>
                    <a:pt x="192" y="19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64720" y="2641320"/>
              <a:ext cx="441000" cy="294120"/>
            </a:xfrm>
            <a:custGeom>
              <a:avLst/>
              <a:gdLst/>
              <a:ahLst/>
              <a:rect l="l" t="t" r="r" b="b"/>
              <a:pathLst>
                <a:path w="1296" h="912">
                  <a:moveTo>
                    <a:pt x="0" y="864"/>
                  </a:moveTo>
                  <a:lnTo>
                    <a:pt x="96" y="912"/>
                  </a:lnTo>
                  <a:lnTo>
                    <a:pt x="1296" y="912"/>
                  </a:lnTo>
                  <a:lnTo>
                    <a:pt x="1296" y="96"/>
                  </a:lnTo>
                  <a:lnTo>
                    <a:pt x="1248" y="0"/>
                  </a:lnTo>
                  <a:lnTo>
                    <a:pt x="1248" y="864"/>
                  </a:lnTo>
                  <a:lnTo>
                    <a:pt x="48" y="864"/>
                  </a:lnTo>
                  <a:lnTo>
                    <a:pt x="0" y="864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89520" y="2919960"/>
              <a:ext cx="162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Optima"/>
              </a:endParaRPr>
            </a:p>
          </p:txBody>
        </p:sp>
      </p:grpSp>
      <p:sp>
        <p:nvSpPr>
          <p:cNvPr id="599" name=""/>
          <p:cNvSpPr/>
          <p:nvPr/>
        </p:nvSpPr>
        <p:spPr>
          <a:xfrm flipV="1">
            <a:off x="6705720" y="2701800"/>
            <a:ext cx="304560" cy="76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0" name=""/>
          <p:cNvSpPr/>
          <p:nvPr/>
        </p:nvSpPr>
        <p:spPr>
          <a:xfrm>
            <a:off x="6553080" y="2930400"/>
            <a:ext cx="38124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1" name=""/>
          <p:cNvSpPr/>
          <p:nvPr/>
        </p:nvSpPr>
        <p:spPr>
          <a:xfrm>
            <a:off x="1916280" y="1371600"/>
            <a:ext cx="76176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2" name=""/>
          <p:cNvSpPr/>
          <p:nvPr/>
        </p:nvSpPr>
        <p:spPr>
          <a:xfrm>
            <a:off x="2077920" y="1473120"/>
            <a:ext cx="47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398760" y="3354120"/>
            <a:ext cx="0" cy="228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761080" y="3288960"/>
            <a:ext cx="0" cy="228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837400" y="2668320"/>
            <a:ext cx="0" cy="228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432240" y="2668320"/>
            <a:ext cx="0" cy="228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7" name=""/>
          <p:cNvSpPr/>
          <p:nvPr/>
        </p:nvSpPr>
        <p:spPr>
          <a:xfrm>
            <a:off x="3233880" y="2451240"/>
            <a:ext cx="4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N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505320" y="2950920"/>
            <a:ext cx="0" cy="228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867280" y="2928600"/>
            <a:ext cx="0" cy="2286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0" name=""/>
          <p:cNvSpPr/>
          <p:nvPr/>
        </p:nvSpPr>
        <p:spPr>
          <a:xfrm>
            <a:off x="2448000" y="1774800"/>
            <a:ext cx="0" cy="838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1" name=""/>
          <p:cNvSpPr/>
          <p:nvPr/>
        </p:nvSpPr>
        <p:spPr>
          <a:xfrm>
            <a:off x="2513520" y="1881360"/>
            <a:ext cx="1372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 Set-Up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 (SPC)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2" name=""/>
          <p:cNvSpPr/>
          <p:nvPr/>
        </p:nvSpPr>
        <p:spPr>
          <a:xfrm>
            <a:off x="7391520" y="3984480"/>
            <a:ext cx="3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3" name=""/>
          <p:cNvSpPr/>
          <p:nvPr/>
        </p:nvSpPr>
        <p:spPr>
          <a:xfrm>
            <a:off x="2057400" y="4822920"/>
            <a:ext cx="5410080" cy="0"/>
          </a:xfrm>
          <a:prstGeom prst="line">
            <a:avLst/>
          </a:prstGeom>
          <a:ln w="19080">
            <a:solidFill>
              <a:srgbClr val="3366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4" name=""/>
          <p:cNvSpPr/>
          <p:nvPr/>
        </p:nvSpPr>
        <p:spPr>
          <a:xfrm>
            <a:off x="4264920" y="4594320"/>
            <a:ext cx="21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pe of Signaling Messages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17748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cxnSp>
        <p:nvCxnSpPr>
          <p:cNvPr id="616" name=""/>
          <p:cNvCxnSpPr>
            <a:endCxn id="508" idx="2"/>
          </p:cNvCxnSpPr>
          <p:nvPr/>
        </p:nvCxnSpPr>
        <p:spPr>
          <a:xfrm flipV="1" rot="16200000">
            <a:off x="266040" y="3031560"/>
            <a:ext cx="1716840" cy="951480"/>
          </a:xfrm>
          <a:prstGeom prst="curvedConnector5">
            <a:avLst>
              <a:gd name="adj1" fmla="val -167"/>
              <a:gd name="adj2" fmla="val 50000"/>
              <a:gd name="adj3" fmla="val -167"/>
            </a:avLst>
          </a:prstGeom>
          <a:ln w="1908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17" name=""/>
          <p:cNvCxnSpPr/>
          <p:nvPr/>
        </p:nvCxnSpPr>
        <p:spPr>
          <a:xfrm>
            <a:off x="1600200" y="4365360"/>
            <a:ext cx="6020640" cy="1080"/>
          </a:xfrm>
          <a:prstGeom prst="straightConnector1">
            <a:avLst/>
          </a:prstGeom>
          <a:ln w="19080">
            <a:solidFill>
              <a:srgbClr val="003399"/>
            </a:solidFill>
            <a:miter/>
          </a:ln>
        </p:spPr>
      </p:cxnSp>
      <p:cxnSp>
        <p:nvCxnSpPr>
          <p:cNvPr id="618" name=""/>
          <p:cNvCxnSpPr>
            <a:endCxn id="525" idx="2"/>
          </p:cNvCxnSpPr>
          <p:nvPr/>
        </p:nvCxnSpPr>
        <p:spPr>
          <a:xfrm flipH="1" flipV="1" rot="5400000">
            <a:off x="7126920" y="2919600"/>
            <a:ext cx="1939320" cy="953280"/>
          </a:xfrm>
          <a:prstGeom prst="curvedConnector5">
            <a:avLst>
              <a:gd name="adj1" fmla="val -74"/>
              <a:gd name="adj2" fmla="val 49981"/>
              <a:gd name="adj3" fmla="val -74"/>
            </a:avLst>
          </a:prstGeom>
          <a:ln w="1908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619" name=""/>
          <p:cNvSpPr/>
          <p:nvPr/>
        </p:nvSpPr>
        <p:spPr>
          <a:xfrm>
            <a:off x="173160" y="4441680"/>
            <a:ext cx="166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-to-end connection</a:t>
            </a:r>
            <a:endParaRPr b="0" lang="en-US" sz="1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0" name=""/>
          <p:cNvSpPr/>
          <p:nvPr/>
        </p:nvSpPr>
        <p:spPr>
          <a:xfrm>
            <a:off x="533520" y="5241960"/>
            <a:ext cx="815328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source and destination user-to-network connection segments are provisioned (e.g. via EMS/NMS)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twork connection segment is set up via the control plane. 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NNI Signaling: Support of Explicit Routes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80" indent="-28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ath typically known at the sourc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384120" indent="-272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Computed at or provided to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ingress node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2880" indent="-28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Required for diversity and protec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880" indent="-28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xplicit routes may be either strict or loos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384120" indent="-272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trict if node computing path has complete topology of all (abstract) nodes and links in the connection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384120" indent="-272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Loose if some,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not all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, topology information is available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2" marL="767520" indent="-274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More consistent with overlay mod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marL="2880" indent="-28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ependency on routing mechanism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Optima"/>
              </a:rPr>
              <a:t>Additional Requirements for GMPLS RSVP-TE</a:t>
            </a:r>
            <a:endParaRPr b="0" lang="en-US" sz="28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erived from “protocol neutral” G.7713 specific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240" indent="-324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dentified in Q14/15 meeting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Call/connection separation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upport for soft permanent connection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upport for crankback 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dditional error code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404640" indent="-2872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(Potentially) additional control plane resilience &amp; recovery mechanism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2" marL="808200" indent="-28908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Based on RSVP “restart” mechanism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2320" y="-4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Optima"/>
              </a:rPr>
              <a:t>Call &amp; Connection Separation</a:t>
            </a:r>
            <a:endParaRPr b="0" lang="en-US" sz="3200" spc="-1" strike="noStrike">
              <a:solidFill>
                <a:srgbClr val="cccc99"/>
              </a:solidFill>
              <a:latin typeface="Opti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omes in two “flavors”: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392400" indent="-2786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Logical separatio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– call and connection signaled within the same message 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2" marL="783720" indent="-280080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upports </a:t>
            </a:r>
            <a:r>
              <a:rPr b="0" i="1" lang="en-US" sz="2000" spc="-1" strike="noStrike">
                <a:solidFill>
                  <a:srgbClr val="ff0000"/>
                </a:solidFill>
                <a:latin typeface="Optima"/>
              </a:rPr>
              <a:t>one or more connections per cal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2" marL="783720" indent="-28008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gnals a call as part of a connection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2" marL="783720" indent="-28008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This model implies UNI has a call controller – all changes to a call are considered modifications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392400" indent="-2786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Complete separatio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– call signaled separately  from connection 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2" marL="783720" indent="-28008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upports </a:t>
            </a:r>
            <a:r>
              <a:rPr b="0" i="1" lang="en-US" sz="2000" spc="-1" strike="noStrike">
                <a:solidFill>
                  <a:srgbClr val="ff0000"/>
                </a:solidFill>
                <a:latin typeface="Optima"/>
              </a:rPr>
              <a:t>zero or more connections per cal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2" marL="783720" indent="-28008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gnals a call separate from a connection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2" marL="783720" indent="-28008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This model implies UNI has both separate call and connection controllers 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4:19:38Z</dcterms:created>
  <dc:creator>Dimitrios Pendarakis</dc:creator>
  <dc:description/>
  <dc:language>en-US</dc:language>
  <cp:lastModifiedBy>UGALE, Arvin Carlos D.</cp:lastModifiedBy>
  <cp:lastPrinted>2001-04-19T15:36:10Z</cp:lastPrinted>
  <dcterms:modified xsi:type="dcterms:W3CDTF">2002-07-19T14:07:32Z</dcterms:modified>
  <cp:revision>30</cp:revision>
  <dc:subject/>
  <dc:title>G.7713.2: DCM Signaling Mechanism Using GMPLS RSVP-TE</dc:title>
</cp:coreProperties>
</file>