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35763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5B22-8FE2-4314-86BF-FDAAD2508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808B-4237-4239-A23B-5609F04E1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F0C1-0E1A-4C67-A8E8-5316FF3E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6A00-FAFC-44DD-BED2-DBD6CC65A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BB23-DD7B-4D2F-91A4-E8CCAE3D3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8BC3-F07A-4EBF-BBDA-1F1EC613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27A5-9EB0-4794-8B7E-3A1A1EEAA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2BC5-63C9-441F-A824-2B8C853F7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152280"/>
            <a:ext cx="8420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50F9-40C1-4D08-8D8A-35DC9E0D3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067B-51D3-4232-A11D-06219AC31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1248-0833-4ECA-8051-7955B85EA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15120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5F15-733E-4F47-ADB1-01452A2F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4400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6C53-02EB-4D07-B3F8-CF2EF6E096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62120"/>
            <a:ext cx="9296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14800" y="5791320"/>
            <a:ext cx="2209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53080"/>
            <a:ext cx="92962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62920" y="6603840"/>
            <a:ext cx="2057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) NT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685800" cy="2649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2120" y="6603840"/>
            <a:ext cx="2057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TU-T Workshop on IP/Opt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Overview on Optical Service and Network Architectural Requirements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ahiro GOSHIMA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T Network Service Systems Labs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"/>
          <p:cNvSpPr/>
          <p:nvPr/>
        </p:nvSpPr>
        <p:spPr>
          <a:xfrm>
            <a:off x="758520" y="144792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U-T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Workshop on IP/O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35AC-F4BA-4913-B730-33BBABA75A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verview of IP/Optic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is IP/Optical Net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gnaling and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arrier’s expectations of IP/Optic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ll Signaling and Routing technologies change the carrier’s net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IP/Optical Serv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ptical VPN (L1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 of New IP/Optical Servic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tical VPN service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d network service function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tical VPN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F04C-FE2A-416A-A036-567C900EC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4:48:42Z</dcterms:created>
  <dc:creator>ゴシマ　マサヒロ</dc:creator>
  <dc:description/>
  <dc:language>en-US</dc:language>
  <cp:lastModifiedBy>ゴシマ　マサヒロ</cp:lastModifiedBy>
  <cp:lastPrinted>1999-11-04T01:30:34Z</cp:lastPrinted>
  <dcterms:modified xsi:type="dcterms:W3CDTF">2002-06-21T11:30:18Z</dcterms:modified>
  <cp:revision>30</cp:revision>
  <dc:subject/>
  <dc:title>PowerPoint プレゼンテーション</dc:title>
</cp:coreProperties>
</file>