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1FD7-C8FA-4A6D-96D4-3940DEF1F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3CF0-5292-46EE-A47B-E67618AD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1C18-1536-46B9-892F-8AEAB1E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11A1-9387-4EC0-BA3B-984C0CFA4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B848-D49D-4C40-8E24-376A0517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DDFE-BE52-4523-A23C-87C99F33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1ADB-13C8-41EE-BC0A-EF4250BE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9F26-C2DE-44BE-885C-FDF4ACAA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E9D8-47E0-4C58-85D0-7D786703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0D5E-0B38-41B2-9D9F-644322AA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631C-81A9-4F15-9CEF-ED45AB9D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6244-5A37-4AF2-9C09-AAF68BE0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59A4-F9B0-4ADE-978A-BD40A06EB7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P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orkshop IP/Optic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ignalling and Routing</a:t>
            </a:r>
            <a:br>
              <a:rPr sz="40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- Summary of Session 7 -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ssion coordinator: N. Morit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ssociate SC: A. Le Roux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peake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verview on Optical Service and Network Architectural Requirements: Mr. M. Goshima, NTT Network Service Systems Lab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all &amp; Connection control Signalling : the ITU-T SG11 status and perspectives for "New Network control Architectures and Protocols": Mr. A. Le Roux, France Telecom R&amp;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R-LDP for ASON Signalling: Mr. S. D. Shew, Nortel Network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MPLS RSVP-TE based protocol: Mr. D. Pendarakis, Tellium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arget use of signalling in an optical network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990033"/>
                </a:solidFill>
                <a:latin typeface="Times New Roman"/>
              </a:rPr>
              <a:t>1. quick provisioning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990033"/>
                </a:solidFill>
                <a:latin typeface="Times New Roman"/>
              </a:rPr>
              <a:t>2. on-demand service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990033"/>
                </a:solidFill>
                <a:latin typeface="Times New Roman"/>
              </a:rPr>
              <a:t>3. extension to L1 VPN service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pecific characteristics for automatic switched transport/optical network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High reliability in terms of traffic volume and provided service natur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separated signalling net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interaction with U-plane and C-plane is another issue.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rief comparison of each protocol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Routing capability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oft state vs. Hard state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nteraction with management functions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Future direction (TBC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G15 – G.7713 series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G11 – BICC and its enhancement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SG13 - L1 VPN service definition and requirements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pecific Protocol Recommendations for Distributed Call and Connection Managemen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.7713/Y.1704 (12/01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stributed call and connection management (DCM)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.7713.1 PNNI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.7713.2 GMPLS RSVP-T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.7713.3 GMPLS CR-LDP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0:20:32Z</dcterms:created>
  <dc:creator>森田直孝</dc:creator>
  <dc:description/>
  <dc:language>en-US</dc:language>
  <cp:lastModifiedBy>UGALE, Arvin Carlos D.</cp:lastModifiedBy>
  <dcterms:modified xsi:type="dcterms:W3CDTF">2002-07-19T14:06:56Z</dcterms:modified>
  <cp:revision>21</cp:revision>
  <dc:subject/>
  <dc:title>Signalling and Routing - Summary of Session 7 -</dc:title>
</cp:coreProperties>
</file>