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3740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4280" y="153936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016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3740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4280" y="3848040"/>
            <a:ext cx="27968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19980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1560" y="384804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01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1539360"/>
            <a:ext cx="42390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0160" y="3848040"/>
            <a:ext cx="8686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ordmark%20on%20blue" descr=""/>
          <p:cNvPicPr/>
          <p:nvPr/>
        </p:nvPicPr>
        <p:blipFill>
          <a:blip r:embed="rId3"/>
          <a:stretch/>
        </p:blipFill>
        <p:spPr>
          <a:xfrm>
            <a:off x="7848720" y="6461280"/>
            <a:ext cx="1050840" cy="16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998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0160" y="1539360"/>
            <a:ext cx="86868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owerpoint%20corner%20on%20blue" descr=""/>
          <p:cNvPicPr/>
          <p:nvPr/>
        </p:nvPicPr>
        <p:blipFill>
          <a:blip r:embed="rId3"/>
          <a:stretch/>
        </p:blipFill>
        <p:spPr>
          <a:xfrm>
            <a:off x="114480" y="4952880"/>
            <a:ext cx="2323800" cy="1803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10016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Aft>
                <a:spcPts val="374"/>
              </a:spcAft>
              <a:buClr>
                <a:srgbClr val="ffcc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Aft>
                <a:spcPts val="374"/>
              </a:spcAft>
              <a:buClr>
                <a:srgbClr val="ffcc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54160" y="4829040"/>
            <a:ext cx="66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Haruo Okamu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Corning International, Jap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40" y="1287360"/>
            <a:ext cx="794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Standardization of Optical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at  ITU-T and  IEC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40 Gb/s, WDM and Raman Ampl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526080" y="9010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cribers 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 Web s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79720" y="17316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U-T Work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54920" y="4486320"/>
            <a:ext cx="12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33"/>
                </a:solidFill>
                <a:latin typeface="ＭＳ Ｐゴシック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33"/>
                </a:solidFill>
                <a:latin typeface="ＭＳ Ｐゴシック"/>
              </a:rPr>
              <a:t>Op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8732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790920" y="1585800"/>
            <a:ext cx="8835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2  (Operational aspects of service ...)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3  (Tariff and accounting...)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4  (Telecommunication management,,)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5  (Protection against electromagnetic ,,)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56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6  (Outside plant)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7  (Data networks and ,,)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65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8  (Characteristics of telematic systems)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6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9  (Integrated cable networks and television...)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2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10 (Languages and software...)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4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11 (Signaling and protocols)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G12 (transmission performance of networks...)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5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SG13 (Multi-protocol and IP-based networks) 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9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SG15 (Optical and other transport networks)   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　 　　  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14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SG16 (Multimedia services, ,,)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8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SG17 (Data networks and telecom software)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4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572240" y="4801680"/>
            <a:ext cx="405000" cy="225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85200" y="5460840"/>
            <a:ext cx="484200" cy="5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82720" y="193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G15, Responsibility and Man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3040" y="344340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/ Metro / Long Haul Networks / Equip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 Study Group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Network Transport (A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ff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cal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87640" y="8334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46240" y="1171440"/>
            <a:ext cx="27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36600" y="1463760"/>
            <a:ext cx="41148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 1 - Network 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 2 - Network signal proces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 3 - Multiplexing and switc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 4 - 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 5 -  Projects and Prom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27040" y="1447920"/>
            <a:ext cx="3872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55720" y="2009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64080" y="269568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0760" y="1248840"/>
            <a:ext cx="329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Q.15 Fibres, 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Q.16 Long-haul terrestrial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Q.17 Active/passive compon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Q.18 Submarin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84320" y="1476360"/>
            <a:ext cx="152280" cy="1371240"/>
            <a:chOff x="1084320" y="1476360"/>
            <a:chExt cx="152280" cy="1371240"/>
          </a:xfrm>
        </p:grpSpPr>
        <p:sp>
          <p:nvSpPr>
            <p:cNvPr id="337" name=""/>
            <p:cNvSpPr/>
            <p:nvPr/>
          </p:nvSpPr>
          <p:spPr>
            <a:xfrm>
              <a:off x="1084320" y="1476360"/>
              <a:ext cx="0" cy="137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4320" y="284760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84320" y="147636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636160" y="2390760"/>
            <a:ext cx="31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. 1 Access Transport Networ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.19 Optical Transport Networ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559320" y="2433240"/>
            <a:ext cx="1809720" cy="12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380200" y="17586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80200" y="1770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0760" y="140004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0760" y="25430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0" y="17733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G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38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1760400" y="2857680"/>
          <a:ext cx="6624720" cy="318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0" y="2857680"/>
                    <a:ext cx="6624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441360" y="1258920"/>
            <a:ext cx="8217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Europe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Nokia, Ericsson Telecom, Ericsson Comp., Telia, Sonera, Teledanmark, Lucent Nederlands, BT, Marconi, Nortel Networks(Euro), Siemens, Swisscom, France Telecom,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ＩＳＣＴＩ，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Italtel, Telecom Italia, Alcatel SEL, Alcatel Italy, Pirelli, Telecom Italia, CSELT, Ukraine, Marc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North America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AT&amp;T, Corning, Ciena, EXFO, Elisa, Fujitsu Networks(US), JDS, Lucent(US), Hitachi Telecom(US), Motorola, NEC(US), Nortel, Networks(US, Canada), MCI Worldcom, Sprint, Telcordia, Tycom, Ciena, Cis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Asia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China Telecom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China Unicom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, CLPAJ, Corning Int. DDI, ETRI, Fujitsu, Hitachi, </a:t>
            </a:r>
            <a:r>
              <a:rPr b="1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Huawei Technol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., Japan Telecom, Korea Telecom, KDDI, Mitsubishi, NEC, NTT, Oki, </a:t>
            </a:r>
            <a:r>
              <a:rPr b="1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Shanghai Bell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, Sumitomo, Sumsung, Toshi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4960" y="146160"/>
            <a:ext cx="815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G15 WP4 Optical Transport Network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05408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06920" y="1514520"/>
            <a:ext cx="87685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M Forum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ffic &amp; networ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SL Forum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ess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M Forum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TIS T1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ess, SONET/SDH, O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SI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cess network, S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O/IEC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tical fibers,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SOC/IETF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tical transport net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twork signal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A, OIF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tical networks &amp;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EEE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h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6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odies recognized by ITU-T(SG15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26160" y="730080"/>
            <a:ext cx="63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hanging information and /or Reference doc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262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41600" y="8388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y of “ITU Grid” for WDM (SG15)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080" y="1901880"/>
            <a:ext cx="45194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Absolute Channel allo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not agreed </a:t>
            </a:r>
            <a:r>
              <a:rPr b="1" lang="ja-JP" sz="1800" spc="-1" strike="noStrike">
                <a:solidFill>
                  <a:srgbClr val="ffcc33"/>
                </a:solidFill>
                <a:latin typeface="Arial"/>
              </a:rPr>
              <a:t>(96.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Giving up “Transversely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compatible” standards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07120" y="1887480"/>
            <a:ext cx="35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U-Grid” with 100GH-spa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eed with ancho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. 692    </a:t>
            </a:r>
            <a:r>
              <a:rPr b="1" lang="en-US" sz="1800" spc="-1" strike="noStrike">
                <a:solidFill>
                  <a:srgbClr val="ffcc33"/>
                </a:solidFill>
                <a:latin typeface="Arial"/>
              </a:rPr>
              <a:t>(98.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2000" y="1512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33"/>
                </a:solidFill>
                <a:latin typeface="Arial"/>
              </a:rPr>
              <a:t>Comprom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92840" y="3841920"/>
            <a:ext cx="3946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200 GHz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absolute allo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for &lt; 40km, 16 ch,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G. 959.1 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(99.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10200" y="4605480"/>
            <a:ext cx="4273560" cy="1168200"/>
          </a:xfrm>
          <a:custGeom>
            <a:avLst/>
            <a:gdLst/>
            <a:ahLst/>
            <a:rect l="l" t="t" r="r" b="b"/>
            <a:pathLst>
              <a:path w="5320" h="992">
                <a:moveTo>
                  <a:pt x="40" y="976"/>
                </a:moveTo>
                <a:cubicBezTo>
                  <a:pt x="20" y="984"/>
                  <a:pt x="0" y="992"/>
                  <a:pt x="88" y="976"/>
                </a:cubicBezTo>
                <a:cubicBezTo>
                  <a:pt x="176" y="960"/>
                  <a:pt x="448" y="912"/>
                  <a:pt x="568" y="880"/>
                </a:cubicBezTo>
                <a:cubicBezTo>
                  <a:pt x="688" y="848"/>
                  <a:pt x="736" y="824"/>
                  <a:pt x="808" y="784"/>
                </a:cubicBezTo>
                <a:cubicBezTo>
                  <a:pt x="880" y="744"/>
                  <a:pt x="928" y="696"/>
                  <a:pt x="1000" y="640"/>
                </a:cubicBezTo>
                <a:cubicBezTo>
                  <a:pt x="1072" y="584"/>
                  <a:pt x="1176" y="504"/>
                  <a:pt x="1240" y="448"/>
                </a:cubicBezTo>
                <a:cubicBezTo>
                  <a:pt x="1304" y="392"/>
                  <a:pt x="1328" y="360"/>
                  <a:pt x="1384" y="304"/>
                </a:cubicBezTo>
                <a:cubicBezTo>
                  <a:pt x="1440" y="248"/>
                  <a:pt x="1520" y="160"/>
                  <a:pt x="1576" y="112"/>
                </a:cubicBezTo>
                <a:cubicBezTo>
                  <a:pt x="1632" y="64"/>
                  <a:pt x="1672" y="32"/>
                  <a:pt x="1720" y="16"/>
                </a:cubicBezTo>
                <a:cubicBezTo>
                  <a:pt x="1768" y="0"/>
                  <a:pt x="1808" y="8"/>
                  <a:pt x="1864" y="16"/>
                </a:cubicBezTo>
                <a:cubicBezTo>
                  <a:pt x="1920" y="24"/>
                  <a:pt x="2008" y="40"/>
                  <a:pt x="2056" y="64"/>
                </a:cubicBezTo>
                <a:cubicBezTo>
                  <a:pt x="2104" y="88"/>
                  <a:pt x="2120" y="120"/>
                  <a:pt x="2152" y="160"/>
                </a:cubicBezTo>
                <a:cubicBezTo>
                  <a:pt x="2184" y="200"/>
                  <a:pt x="2208" y="256"/>
                  <a:pt x="2248" y="304"/>
                </a:cubicBezTo>
                <a:cubicBezTo>
                  <a:pt x="2288" y="352"/>
                  <a:pt x="2344" y="416"/>
                  <a:pt x="2392" y="448"/>
                </a:cubicBezTo>
                <a:cubicBezTo>
                  <a:pt x="2440" y="480"/>
                  <a:pt x="2472" y="488"/>
                  <a:pt x="2536" y="496"/>
                </a:cubicBezTo>
                <a:cubicBezTo>
                  <a:pt x="2600" y="504"/>
                  <a:pt x="2704" y="520"/>
                  <a:pt x="2776" y="496"/>
                </a:cubicBezTo>
                <a:cubicBezTo>
                  <a:pt x="2848" y="472"/>
                  <a:pt x="2896" y="400"/>
                  <a:pt x="2968" y="352"/>
                </a:cubicBezTo>
                <a:cubicBezTo>
                  <a:pt x="3040" y="304"/>
                  <a:pt x="3136" y="240"/>
                  <a:pt x="3208" y="208"/>
                </a:cubicBezTo>
                <a:cubicBezTo>
                  <a:pt x="3280" y="176"/>
                  <a:pt x="3320" y="168"/>
                  <a:pt x="3400" y="160"/>
                </a:cubicBezTo>
                <a:cubicBezTo>
                  <a:pt x="3480" y="152"/>
                  <a:pt x="3592" y="144"/>
                  <a:pt x="3688" y="160"/>
                </a:cubicBezTo>
                <a:cubicBezTo>
                  <a:pt x="3784" y="176"/>
                  <a:pt x="3888" y="216"/>
                  <a:pt x="3976" y="256"/>
                </a:cubicBezTo>
                <a:cubicBezTo>
                  <a:pt x="4064" y="296"/>
                  <a:pt x="4136" y="352"/>
                  <a:pt x="4216" y="400"/>
                </a:cubicBezTo>
                <a:cubicBezTo>
                  <a:pt x="4296" y="448"/>
                  <a:pt x="4384" y="504"/>
                  <a:pt x="4456" y="544"/>
                </a:cubicBezTo>
                <a:cubicBezTo>
                  <a:pt x="4528" y="584"/>
                  <a:pt x="4576" y="608"/>
                  <a:pt x="4648" y="640"/>
                </a:cubicBezTo>
                <a:cubicBezTo>
                  <a:pt x="4720" y="672"/>
                  <a:pt x="4808" y="712"/>
                  <a:pt x="4888" y="736"/>
                </a:cubicBezTo>
                <a:cubicBezTo>
                  <a:pt x="4968" y="760"/>
                  <a:pt x="5056" y="776"/>
                  <a:pt x="5128" y="784"/>
                </a:cubicBezTo>
                <a:cubicBezTo>
                  <a:pt x="5200" y="792"/>
                  <a:pt x="5260" y="788"/>
                  <a:pt x="5320" y="78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16600" y="5927760"/>
            <a:ext cx="339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8016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724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3720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9748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2636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812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664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1660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4692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1208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7724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0576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37520" y="573732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4208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7204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0380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3268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6120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9116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2148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5180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37360" y="5418000"/>
            <a:ext cx="0" cy="516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0088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6604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00800" y="5754600"/>
            <a:ext cx="0" cy="196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39160" y="574056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7080" y="573876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35880" y="573732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64600" y="573732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08960" y="573732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53320" y="5737320"/>
            <a:ext cx="0" cy="198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19840" y="5743440"/>
            <a:ext cx="0" cy="198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92920" y="574056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372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7676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06920" y="573732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10320" y="572940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7520" y="5734080"/>
            <a:ext cx="0" cy="1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89640" y="572616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289640" y="5815080"/>
            <a:ext cx="0" cy="55440"/>
          </a:xfrm>
          <a:prstGeom prst="line">
            <a:avLst/>
          </a:prstGeom>
          <a:ln w="936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61480" y="61196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33"/>
                </a:solidFill>
                <a:latin typeface="Arial"/>
              </a:rPr>
              <a:t>195.1 TH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15280" y="4888080"/>
            <a:ext cx="12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ch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3.10 TH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77000" y="573408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16680" y="5721480"/>
            <a:ext cx="0" cy="198360"/>
          </a:xfrm>
          <a:prstGeom prst="line">
            <a:avLst/>
          </a:prstGeom>
          <a:ln w="57240">
            <a:solidFill>
              <a:srgbClr val="ff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66680" y="61387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cc33"/>
                </a:solidFill>
                <a:latin typeface="Arial"/>
              </a:rPr>
              <a:t>192.1 TH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3960" y="3903840"/>
            <a:ext cx="353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CWDM Gr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100, 50, 25, 12.5 GHz spa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DWDM Gr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20 nm spe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G. 694 </a:t>
            </a:r>
            <a:r>
              <a:rPr b="1" lang="ja-JP" sz="1800" spc="-1" strike="noStrike">
                <a:solidFill>
                  <a:srgbClr val="ffcc33"/>
                </a:solidFill>
                <a:latin typeface="Arial"/>
              </a:rPr>
              <a:t>(02,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1120" y="2948040"/>
            <a:ext cx="473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32560" y="5415120"/>
            <a:ext cx="20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DM≦1000GH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WDM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＜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n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DM≧  50n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. 671 </a:t>
            </a:r>
            <a:r>
              <a:rPr b="1" lang="en-US" sz="1800" spc="-1" strike="noStrike">
                <a:solidFill>
                  <a:srgbClr val="ffcc33"/>
                </a:solidFill>
                <a:latin typeface="Arial"/>
              </a:rPr>
              <a:t>(02, 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38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6147720" y="3213000"/>
            <a:ext cx="976320" cy="3826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70360" y="2149560"/>
            <a:ext cx="976320" cy="3826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814920" y="4784760"/>
            <a:ext cx="976320" cy="3826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7160" y="1447920"/>
            <a:ext cx="75596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ery short rea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etropolit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ng/Ultra-long Ha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ib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MD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0.1-0.5</a:t>
            </a: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ps/</a:t>
            </a:r>
            <a:r>
              <a:rPr b="1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m)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MD compens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Dispersion Sl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of Installed/New Fi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ystems/Com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orst‐case approach           Statistical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ptical amps. including Ram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e coding (NRZ, RZ, CSRZ,,), RZ Duty rati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ource linewidt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7440" y="139680"/>
            <a:ext cx="89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scussions of Optical Technologies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(SG15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0 Gbit/s/ch, W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43720" y="1622520"/>
            <a:ext cx="34988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G.693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G.vs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ptical interfaces for intra-office syste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Single 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NRZ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/40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bit/s, 0.6 and 2 k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Single-mode fi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78640" y="1593720"/>
            <a:ext cx="3290760" cy="1627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9306800">
            <a:off x="7557840" y="1372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33"/>
                </a:solidFill>
                <a:latin typeface="Arial"/>
              </a:rPr>
              <a:t>Ag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5400" y="3801960"/>
            <a:ext cx="3290760" cy="1046880"/>
            <a:chOff x="5675400" y="3801960"/>
            <a:chExt cx="3290760" cy="1046880"/>
          </a:xfrm>
        </p:grpSpPr>
        <p:sp>
          <p:nvSpPr>
            <p:cNvPr id="422" name=""/>
            <p:cNvSpPr/>
            <p:nvPr/>
          </p:nvSpPr>
          <p:spPr>
            <a:xfrm>
              <a:off x="5761080" y="3931920"/>
              <a:ext cx="216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. SC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de band NZDS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75400" y="3801960"/>
              <a:ext cx="3290760" cy="1009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19296600">
            <a:off x="7605360" y="418104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Discu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114624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95640" y="5083200"/>
            <a:ext cx="52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rot="10800000">
            <a:off x="4043520" y="1931760"/>
            <a:ext cx="1241280" cy="268200"/>
          </a:xfrm>
          <a:custGeom>
            <a:avLst/>
            <a:gdLst>
              <a:gd name="textAreaLeft" fmla="*/ 194040 w 1241280"/>
              <a:gd name="textAreaRight" fmla="*/ 1086480 w 1241280"/>
              <a:gd name="textAreaTop" fmla="*/ 66960 h 268200"/>
              <a:gd name="textAreaBottom" fmla="*/ 201240 h 268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0800000">
            <a:off x="4091400" y="3827160"/>
            <a:ext cx="1241640" cy="268200"/>
          </a:xfrm>
          <a:custGeom>
            <a:avLst/>
            <a:gdLst>
              <a:gd name="textAreaLeft" fmla="*/ 194040 w 1241640"/>
              <a:gd name="textAreaRight" fmla="*/ 1086480 w 1241640"/>
              <a:gd name="textAreaTop" fmla="*/ 66960 h 268200"/>
              <a:gd name="textAreaBottom" fmla="*/ 201240 h 268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033800" y="223524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E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2200" y="1370160"/>
            <a:ext cx="8566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C 01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C 31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Electrical Apparatus For Explosive Atmosphe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C 47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Semiconductor Devic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C 76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Optical Radiation Safety And Laser Equip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TC 86 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	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Fibre Optics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C 100 Audio, Video And Multimedia Systems And Equip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C 109 Insulation Co-ordination For Low-voltage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6960" y="236520"/>
            <a:ext cx="8219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International Electrotechnical Commission(IE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95 Technical Committ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08900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882800" y="299880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3108240"/>
            <a:ext cx="73058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WG 1: Fibre Optic Systems &amp; Sub-Syst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WG 3: Optical Amplif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WG 4: Fibre Optic Active Devices/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040" y="1627200"/>
            <a:ext cx="68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SC 86A Fibres &amp; C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SC 86B Passive Components incl. Conn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SC 86C Fibre Optic Systems &amp; Active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2800" y="46576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ation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62120" y="2828880"/>
            <a:ext cx="152280" cy="855720"/>
            <a:chOff x="762120" y="2828880"/>
            <a:chExt cx="152280" cy="855720"/>
          </a:xfrm>
        </p:grpSpPr>
        <p:sp>
          <p:nvSpPr>
            <p:cNvPr id="438" name=""/>
            <p:cNvSpPr/>
            <p:nvPr/>
          </p:nvSpPr>
          <p:spPr>
            <a:xfrm>
              <a:off x="762120" y="368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120" y="2828880"/>
              <a:ext cx="0" cy="83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259240" y="47530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r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ITU-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19600" y="200880"/>
            <a:ext cx="50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IEC, TC 86 (Fibre Optics)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4962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20150400">
            <a:off x="5581800" y="503712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Keeping Close Liais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with ITU-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9388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04920" y="2151000"/>
            <a:ext cx="883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Requirements and standard method for the OF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reliability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Guidance on testing, use of failure crite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during the testing, reliability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Assistance for purchasers in selecting OF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Means to determine the failur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(equipment failure rates) for specified end-of-life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3360" y="287280"/>
            <a:ext cx="68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A reliability standard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C61291-5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7160" y="13413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938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20449200">
            <a:off x="5677200" y="901440"/>
            <a:ext cx="36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33"/>
                </a:solidFill>
                <a:latin typeface="Arial"/>
                <a:ea typeface="ＭＳ Ｐ明朝"/>
              </a:rPr>
              <a:t>IEC developed this standar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33"/>
                </a:solidFill>
                <a:latin typeface="Arial"/>
                <a:ea typeface="ＭＳ Ｐ明朝"/>
              </a:rPr>
              <a:t>wi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33"/>
                </a:solidFill>
                <a:latin typeface="Arial"/>
                <a:ea typeface="ＭＳ Ｐ明朝"/>
              </a:rPr>
              <a:t>CENELEC(Europ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0360" y="1911240"/>
            <a:ext cx="51292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International standards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History, where, what, why, who,,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ITU-T SG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Overview, WDM, 40Gb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IECTC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Overview, OFA reliability, Ra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- Sum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628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66760" y="65088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38040" y="1371600"/>
            <a:ext cx="77709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33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 Gain (for a Distributed Amplifie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 Noise Figure(for a Distributed Amplifie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uble Raleigh Scattering Figure of Merit” 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stributed Ampl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screte Fibre Raman Amp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33"/>
                </a:solidFill>
                <a:latin typeface="Arial"/>
              </a:rPr>
              <a:t>Test Method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Effective Gain/No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aman Amp. Sour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gree of Polari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mp Spectral Power Distrib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ference” Test Fi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aman Amplifier (Descret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licability of Existing Test Methods for EDF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26440" y="123840"/>
            <a:ext cx="6727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Raman Amplification Discu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IECSC86CWG3 (Optical Amplifi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0875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9516800">
            <a:off x="5148360" y="316476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33"/>
                </a:solidFill>
                <a:latin typeface="ＭＳ Ｐゴシック"/>
              </a:rPr>
              <a:t>Under discu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61160" y="1892160"/>
            <a:ext cx="679176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identifies the direction of technologies / marke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focuses in / grows /stabilizes the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hrough discuss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ed for IP transport in </a:t>
            </a:r>
            <a:r>
              <a:rPr b="1" lang="en-GB" sz="1800" spc="-1" strike="noStrike">
                <a:solidFill>
                  <a:srgbClr val="ffcc33"/>
                </a:solidFill>
                <a:latin typeface="Arial"/>
              </a:rPr>
              <a:t>access,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cc33"/>
                </a:solidFill>
                <a:latin typeface="Arial"/>
              </a:rPr>
              <a:t>metropolitan and backb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N toward an “</a:t>
            </a:r>
            <a:r>
              <a:rPr b="1" lang="en-GB" sz="1800" spc="-1" strike="noStrike">
                <a:solidFill>
                  <a:srgbClr val="ffcc33"/>
                </a:solidFill>
                <a:latin typeface="Arial"/>
              </a:rPr>
              <a:t>all optical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” networking cap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 intra-office, inter-office and long distance WDM network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including OTN up to or above </a:t>
            </a:r>
            <a:r>
              <a:rPr b="1" lang="ja-JP" sz="1800" spc="-1" strike="noStrike">
                <a:solidFill>
                  <a:srgbClr val="ffcc33"/>
                </a:solidFill>
                <a:latin typeface="Arial"/>
              </a:rPr>
              <a:t>40 Gbit/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 for e.g. </a:t>
            </a:r>
            <a:r>
              <a:rPr b="1" lang="ja-JP" sz="1800" spc="-1" strike="noStrike">
                <a:solidFill>
                  <a:srgbClr val="ffcc33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- what is necessary to be compatible with </a:t>
            </a:r>
            <a:r>
              <a:rPr b="1" lang="ja-JP" sz="1800" spc="-1" strike="noStrike">
                <a:solidFill>
                  <a:srgbClr val="ffcc33"/>
                </a:solidFill>
                <a:latin typeface="Arial"/>
              </a:rPr>
              <a:t>Ethernet?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at   ITU‐T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IEC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IETF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OIF,,,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27840" y="18432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1880" y="99216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Standards discussions are impor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ularly to recover from the recession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07880" y="349560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tical Technolog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7012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629640" y="3639960"/>
            <a:ext cx="976320" cy="3826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27360" y="217440"/>
            <a:ext cx="7565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y of International standard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1413000"/>
            <a:ext cx="4587480" cy="3809520"/>
            <a:chOff x="3048120" y="1413000"/>
            <a:chExt cx="4587480" cy="3809520"/>
          </a:xfrm>
        </p:grpSpPr>
        <p:sp>
          <p:nvSpPr>
            <p:cNvPr id="85" name=""/>
            <p:cNvSpPr/>
            <p:nvPr/>
          </p:nvSpPr>
          <p:spPr>
            <a:xfrm>
              <a:off x="6784200" y="1636560"/>
              <a:ext cx="69840" cy="10224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32" y="13"/>
                  </a:moveTo>
                  <a:lnTo>
                    <a:pt x="6" y="13"/>
                  </a:lnTo>
                  <a:lnTo>
                    <a:pt x="0" y="26"/>
                  </a:lnTo>
                  <a:lnTo>
                    <a:pt x="19" y="65"/>
                  </a:lnTo>
                  <a:lnTo>
                    <a:pt x="52" y="26"/>
                  </a:lnTo>
                  <a:lnTo>
                    <a:pt x="52" y="0"/>
                  </a:lnTo>
                  <a:lnTo>
                    <a:pt x="45" y="7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13080" y="2536560"/>
              <a:ext cx="42840" cy="70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12" y="13"/>
                  </a:moveTo>
                  <a:lnTo>
                    <a:pt x="32" y="0"/>
                  </a:lnTo>
                  <a:lnTo>
                    <a:pt x="19" y="3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2" y="32"/>
                  </a:lnTo>
                  <a:lnTo>
                    <a:pt x="12" y="19"/>
                  </a:lnTo>
                  <a:lnTo>
                    <a:pt x="12" y="1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8160" y="2536560"/>
              <a:ext cx="2520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0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9" y="13"/>
                  </a:lnTo>
                  <a:lnTo>
                    <a:pt x="19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080" y="2454840"/>
              <a:ext cx="77760" cy="6120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2" y="0"/>
                  </a:moveTo>
                  <a:lnTo>
                    <a:pt x="19" y="0"/>
                  </a:lnTo>
                  <a:lnTo>
                    <a:pt x="0" y="19"/>
                  </a:lnTo>
                  <a:lnTo>
                    <a:pt x="12" y="39"/>
                  </a:lnTo>
                  <a:lnTo>
                    <a:pt x="45" y="19"/>
                  </a:lnTo>
                  <a:lnTo>
                    <a:pt x="58" y="13"/>
                  </a:lnTo>
                  <a:lnTo>
                    <a:pt x="3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3640" y="2475360"/>
              <a:ext cx="3492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3" y="26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91240" y="4476960"/>
              <a:ext cx="4284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9" y="13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19" y="26"/>
                  </a:lnTo>
                  <a:lnTo>
                    <a:pt x="32" y="19"/>
                  </a:lnTo>
                  <a:lnTo>
                    <a:pt x="26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29480" y="4436280"/>
              <a:ext cx="69840" cy="7056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26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33" y="45"/>
                  </a:lnTo>
                  <a:lnTo>
                    <a:pt x="52" y="20"/>
                  </a:lnTo>
                  <a:lnTo>
                    <a:pt x="39" y="1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46360" y="4467600"/>
              <a:ext cx="173880" cy="264600"/>
            </a:xfrm>
            <a:custGeom>
              <a:avLst/>
              <a:gdLst/>
              <a:ahLst/>
              <a:rect l="l" t="t" r="r" b="b"/>
              <a:pathLst>
                <a:path w="130" h="168">
                  <a:moveTo>
                    <a:pt x="46" y="6"/>
                  </a:moveTo>
                  <a:lnTo>
                    <a:pt x="39" y="19"/>
                  </a:lnTo>
                  <a:lnTo>
                    <a:pt x="46" y="71"/>
                  </a:lnTo>
                  <a:lnTo>
                    <a:pt x="0" y="123"/>
                  </a:lnTo>
                  <a:lnTo>
                    <a:pt x="13" y="149"/>
                  </a:lnTo>
                  <a:lnTo>
                    <a:pt x="39" y="168"/>
                  </a:lnTo>
                  <a:lnTo>
                    <a:pt x="52" y="142"/>
                  </a:lnTo>
                  <a:lnTo>
                    <a:pt x="78" y="149"/>
                  </a:lnTo>
                  <a:lnTo>
                    <a:pt x="98" y="110"/>
                  </a:lnTo>
                  <a:lnTo>
                    <a:pt x="98" y="84"/>
                  </a:lnTo>
                  <a:lnTo>
                    <a:pt x="130" y="51"/>
                  </a:lnTo>
                  <a:lnTo>
                    <a:pt x="124" y="0"/>
                  </a:lnTo>
                  <a:lnTo>
                    <a:pt x="72" y="25"/>
                  </a:lnTo>
                  <a:lnTo>
                    <a:pt x="59" y="19"/>
                  </a:lnTo>
                  <a:lnTo>
                    <a:pt x="46" y="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51120" y="4283280"/>
              <a:ext cx="121680" cy="173160"/>
            </a:xfrm>
            <a:custGeom>
              <a:avLst/>
              <a:gdLst/>
              <a:ahLst/>
              <a:rect l="l" t="t" r="r" b="b"/>
              <a:pathLst>
                <a:path w="91" h="110">
                  <a:moveTo>
                    <a:pt x="39" y="39"/>
                  </a:moveTo>
                  <a:lnTo>
                    <a:pt x="13" y="39"/>
                  </a:lnTo>
                  <a:lnTo>
                    <a:pt x="0" y="78"/>
                  </a:lnTo>
                  <a:lnTo>
                    <a:pt x="20" y="110"/>
                  </a:lnTo>
                  <a:lnTo>
                    <a:pt x="46" y="110"/>
                  </a:lnTo>
                  <a:lnTo>
                    <a:pt x="72" y="45"/>
                  </a:lnTo>
                  <a:lnTo>
                    <a:pt x="91" y="26"/>
                  </a:lnTo>
                  <a:lnTo>
                    <a:pt x="91" y="0"/>
                  </a:lnTo>
                  <a:lnTo>
                    <a:pt x="65" y="19"/>
                  </a:lnTo>
                  <a:lnTo>
                    <a:pt x="39" y="13"/>
                  </a:lnTo>
                  <a:lnTo>
                    <a:pt x="39" y="26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50560" y="4834800"/>
              <a:ext cx="261360" cy="223560"/>
            </a:xfrm>
            <a:custGeom>
              <a:avLst/>
              <a:gdLst/>
              <a:ahLst/>
              <a:rect l="l" t="t" r="r" b="b"/>
              <a:pathLst>
                <a:path w="195" h="142">
                  <a:moveTo>
                    <a:pt x="26" y="13"/>
                  </a:moveTo>
                  <a:lnTo>
                    <a:pt x="20" y="0"/>
                  </a:lnTo>
                  <a:lnTo>
                    <a:pt x="0" y="32"/>
                  </a:lnTo>
                  <a:lnTo>
                    <a:pt x="0" y="58"/>
                  </a:lnTo>
                  <a:lnTo>
                    <a:pt x="78" y="84"/>
                  </a:lnTo>
                  <a:lnTo>
                    <a:pt x="91" y="123"/>
                  </a:lnTo>
                  <a:lnTo>
                    <a:pt x="123" y="142"/>
                  </a:lnTo>
                  <a:lnTo>
                    <a:pt x="149" y="116"/>
                  </a:lnTo>
                  <a:lnTo>
                    <a:pt x="143" y="91"/>
                  </a:lnTo>
                  <a:lnTo>
                    <a:pt x="169" y="84"/>
                  </a:lnTo>
                  <a:lnTo>
                    <a:pt x="195" y="39"/>
                  </a:lnTo>
                  <a:lnTo>
                    <a:pt x="169" y="32"/>
                  </a:lnTo>
                  <a:lnTo>
                    <a:pt x="130" y="58"/>
                  </a:lnTo>
                  <a:lnTo>
                    <a:pt x="91" y="39"/>
                  </a:lnTo>
                  <a:lnTo>
                    <a:pt x="65" y="0"/>
                  </a:lnTo>
                  <a:lnTo>
                    <a:pt x="46" y="6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4160" y="4896360"/>
              <a:ext cx="209160" cy="182880"/>
            </a:xfrm>
            <a:custGeom>
              <a:avLst/>
              <a:gdLst/>
              <a:ahLst/>
              <a:rect l="l" t="t" r="r" b="b"/>
              <a:pathLst>
                <a:path w="156" h="116">
                  <a:moveTo>
                    <a:pt x="13" y="0"/>
                  </a:moveTo>
                  <a:lnTo>
                    <a:pt x="0" y="6"/>
                  </a:lnTo>
                  <a:lnTo>
                    <a:pt x="52" y="45"/>
                  </a:lnTo>
                  <a:lnTo>
                    <a:pt x="52" y="58"/>
                  </a:lnTo>
                  <a:lnTo>
                    <a:pt x="156" y="116"/>
                  </a:lnTo>
                  <a:lnTo>
                    <a:pt x="136" y="97"/>
                  </a:lnTo>
                  <a:lnTo>
                    <a:pt x="78" y="58"/>
                  </a:lnTo>
                  <a:lnTo>
                    <a:pt x="65" y="32"/>
                  </a:lnTo>
                  <a:lnTo>
                    <a:pt x="39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72800" y="3138840"/>
              <a:ext cx="60120" cy="709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6" y="45"/>
                  </a:moveTo>
                  <a:lnTo>
                    <a:pt x="0" y="32"/>
                  </a:lnTo>
                  <a:lnTo>
                    <a:pt x="19" y="13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19" y="26"/>
                  </a:lnTo>
                  <a:lnTo>
                    <a:pt x="13" y="32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81760" y="2995200"/>
              <a:ext cx="4284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5" y="0"/>
                  </a:moveTo>
                  <a:lnTo>
                    <a:pt x="19" y="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32" y="26"/>
                  </a:lnTo>
                  <a:lnTo>
                    <a:pt x="32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7480" y="3067920"/>
              <a:ext cx="34920" cy="7056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13" y="0"/>
                  </a:moveTo>
                  <a:lnTo>
                    <a:pt x="0" y="32"/>
                  </a:lnTo>
                  <a:lnTo>
                    <a:pt x="7" y="45"/>
                  </a:lnTo>
                  <a:lnTo>
                    <a:pt x="26" y="26"/>
                  </a:lnTo>
                  <a:lnTo>
                    <a:pt x="2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7320" y="3077280"/>
              <a:ext cx="52200" cy="612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lnTo>
                    <a:pt x="13" y="13"/>
                  </a:lnTo>
                  <a:lnTo>
                    <a:pt x="0" y="26"/>
                  </a:lnTo>
                  <a:lnTo>
                    <a:pt x="6" y="39"/>
                  </a:lnTo>
                  <a:lnTo>
                    <a:pt x="26" y="39"/>
                  </a:lnTo>
                  <a:lnTo>
                    <a:pt x="39" y="26"/>
                  </a:lnTo>
                  <a:lnTo>
                    <a:pt x="39" y="1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50360" y="2863080"/>
              <a:ext cx="131040" cy="50400"/>
            </a:xfrm>
            <a:custGeom>
              <a:avLst/>
              <a:gdLst/>
              <a:ahLst/>
              <a:rect l="l" t="t" r="r" b="b"/>
              <a:pathLst>
                <a:path w="98" h="32">
                  <a:moveTo>
                    <a:pt x="98" y="0"/>
                  </a:moveTo>
                  <a:lnTo>
                    <a:pt x="91" y="26"/>
                  </a:lnTo>
                  <a:lnTo>
                    <a:pt x="78" y="13"/>
                  </a:lnTo>
                  <a:lnTo>
                    <a:pt x="33" y="26"/>
                  </a:lnTo>
                  <a:lnTo>
                    <a:pt x="0" y="32"/>
                  </a:lnTo>
                  <a:lnTo>
                    <a:pt x="20" y="13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98840" y="3138840"/>
              <a:ext cx="50760" cy="2052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38" y="7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13" y="13"/>
                  </a:lnTo>
                  <a:lnTo>
                    <a:pt x="25" y="13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9440" y="3015720"/>
              <a:ext cx="34920" cy="518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6" y="0"/>
                  </a:moveTo>
                  <a:lnTo>
                    <a:pt x="20" y="0"/>
                  </a:lnTo>
                  <a:lnTo>
                    <a:pt x="7" y="13"/>
                  </a:lnTo>
                  <a:lnTo>
                    <a:pt x="0" y="33"/>
                  </a:lnTo>
                  <a:lnTo>
                    <a:pt x="26" y="33"/>
                  </a:lnTo>
                  <a:lnTo>
                    <a:pt x="26" y="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9640" y="2944800"/>
              <a:ext cx="69480" cy="8172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33" y="0"/>
                  </a:lnTo>
                  <a:lnTo>
                    <a:pt x="7" y="26"/>
                  </a:lnTo>
                  <a:lnTo>
                    <a:pt x="0" y="52"/>
                  </a:lnTo>
                  <a:lnTo>
                    <a:pt x="20" y="52"/>
                  </a:lnTo>
                  <a:lnTo>
                    <a:pt x="33" y="32"/>
                  </a:lnTo>
                  <a:lnTo>
                    <a:pt x="33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06720" y="2883600"/>
              <a:ext cx="52200" cy="4104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26" y="0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26" y="26"/>
                  </a:lnTo>
                  <a:lnTo>
                    <a:pt x="39" y="13"/>
                  </a:lnTo>
                  <a:lnTo>
                    <a:pt x="33" y="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29480" y="2751120"/>
              <a:ext cx="148680" cy="16200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78" y="19"/>
                  </a:moveTo>
                  <a:lnTo>
                    <a:pt x="78" y="0"/>
                  </a:lnTo>
                  <a:lnTo>
                    <a:pt x="20" y="26"/>
                  </a:lnTo>
                  <a:lnTo>
                    <a:pt x="0" y="52"/>
                  </a:lnTo>
                  <a:lnTo>
                    <a:pt x="0" y="71"/>
                  </a:lnTo>
                  <a:lnTo>
                    <a:pt x="20" y="58"/>
                  </a:lnTo>
                  <a:lnTo>
                    <a:pt x="59" y="103"/>
                  </a:lnTo>
                  <a:lnTo>
                    <a:pt x="72" y="103"/>
                  </a:lnTo>
                  <a:lnTo>
                    <a:pt x="111" y="78"/>
                  </a:lnTo>
                  <a:lnTo>
                    <a:pt x="111" y="32"/>
                  </a:lnTo>
                  <a:lnTo>
                    <a:pt x="98" y="26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86840" y="2730600"/>
              <a:ext cx="347040" cy="34668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201" y="39"/>
                  </a:moveTo>
                  <a:lnTo>
                    <a:pt x="259" y="13"/>
                  </a:lnTo>
                  <a:lnTo>
                    <a:pt x="253" y="0"/>
                  </a:lnTo>
                  <a:lnTo>
                    <a:pt x="201" y="13"/>
                  </a:lnTo>
                  <a:lnTo>
                    <a:pt x="175" y="13"/>
                  </a:lnTo>
                  <a:lnTo>
                    <a:pt x="136" y="19"/>
                  </a:lnTo>
                  <a:lnTo>
                    <a:pt x="162" y="45"/>
                  </a:lnTo>
                  <a:lnTo>
                    <a:pt x="123" y="32"/>
                  </a:lnTo>
                  <a:lnTo>
                    <a:pt x="97" y="45"/>
                  </a:lnTo>
                  <a:lnTo>
                    <a:pt x="97" y="71"/>
                  </a:lnTo>
                  <a:lnTo>
                    <a:pt x="71" y="71"/>
                  </a:lnTo>
                  <a:lnTo>
                    <a:pt x="71" y="91"/>
                  </a:lnTo>
                  <a:lnTo>
                    <a:pt x="78" y="123"/>
                  </a:lnTo>
                  <a:lnTo>
                    <a:pt x="0" y="149"/>
                  </a:lnTo>
                  <a:lnTo>
                    <a:pt x="26" y="207"/>
                  </a:lnTo>
                  <a:lnTo>
                    <a:pt x="97" y="220"/>
                  </a:lnTo>
                  <a:lnTo>
                    <a:pt x="136" y="194"/>
                  </a:lnTo>
                  <a:lnTo>
                    <a:pt x="162" y="220"/>
                  </a:lnTo>
                  <a:lnTo>
                    <a:pt x="201" y="214"/>
                  </a:lnTo>
                  <a:lnTo>
                    <a:pt x="207" y="168"/>
                  </a:lnTo>
                  <a:lnTo>
                    <a:pt x="227" y="149"/>
                  </a:lnTo>
                  <a:lnTo>
                    <a:pt x="253" y="116"/>
                  </a:lnTo>
                  <a:lnTo>
                    <a:pt x="240" y="116"/>
                  </a:lnTo>
                  <a:lnTo>
                    <a:pt x="201" y="71"/>
                  </a:lnTo>
                  <a:lnTo>
                    <a:pt x="181" y="84"/>
                  </a:lnTo>
                  <a:lnTo>
                    <a:pt x="181" y="65"/>
                  </a:lnTo>
                  <a:lnTo>
                    <a:pt x="188" y="52"/>
                  </a:lnTo>
                  <a:lnTo>
                    <a:pt x="201" y="3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73760" y="2986200"/>
              <a:ext cx="199440" cy="193680"/>
            </a:xfrm>
            <a:custGeom>
              <a:avLst/>
              <a:gdLst/>
              <a:ahLst/>
              <a:rect l="l" t="t" r="r" b="b"/>
              <a:pathLst>
                <a:path w="149" h="123">
                  <a:moveTo>
                    <a:pt x="104" y="26"/>
                  </a:moveTo>
                  <a:lnTo>
                    <a:pt x="142" y="19"/>
                  </a:lnTo>
                  <a:lnTo>
                    <a:pt x="149" y="52"/>
                  </a:lnTo>
                  <a:lnTo>
                    <a:pt x="123" y="52"/>
                  </a:lnTo>
                  <a:lnTo>
                    <a:pt x="136" y="71"/>
                  </a:lnTo>
                  <a:lnTo>
                    <a:pt x="104" y="97"/>
                  </a:lnTo>
                  <a:lnTo>
                    <a:pt x="65" y="123"/>
                  </a:lnTo>
                  <a:lnTo>
                    <a:pt x="0" y="97"/>
                  </a:lnTo>
                  <a:lnTo>
                    <a:pt x="19" y="78"/>
                  </a:lnTo>
                  <a:lnTo>
                    <a:pt x="45" y="71"/>
                  </a:lnTo>
                  <a:lnTo>
                    <a:pt x="71" y="32"/>
                  </a:lnTo>
                  <a:lnTo>
                    <a:pt x="78" y="6"/>
                  </a:lnTo>
                  <a:lnTo>
                    <a:pt x="91" y="0"/>
                  </a:lnTo>
                  <a:lnTo>
                    <a:pt x="97" y="13"/>
                  </a:lnTo>
                  <a:lnTo>
                    <a:pt x="104" y="2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03920" y="2833200"/>
              <a:ext cx="477000" cy="478800"/>
            </a:xfrm>
            <a:custGeom>
              <a:avLst/>
              <a:gdLst/>
              <a:ahLst/>
              <a:rect l="l" t="t" r="r" b="b"/>
              <a:pathLst>
                <a:path w="356" h="304">
                  <a:moveTo>
                    <a:pt x="194" y="116"/>
                  </a:moveTo>
                  <a:lnTo>
                    <a:pt x="201" y="71"/>
                  </a:lnTo>
                  <a:lnTo>
                    <a:pt x="227" y="71"/>
                  </a:lnTo>
                  <a:lnTo>
                    <a:pt x="246" y="45"/>
                  </a:lnTo>
                  <a:lnTo>
                    <a:pt x="292" y="26"/>
                  </a:lnTo>
                  <a:lnTo>
                    <a:pt x="298" y="6"/>
                  </a:lnTo>
                  <a:lnTo>
                    <a:pt x="318" y="0"/>
                  </a:lnTo>
                  <a:lnTo>
                    <a:pt x="318" y="19"/>
                  </a:lnTo>
                  <a:lnTo>
                    <a:pt x="292" y="58"/>
                  </a:lnTo>
                  <a:lnTo>
                    <a:pt x="318" y="58"/>
                  </a:lnTo>
                  <a:lnTo>
                    <a:pt x="330" y="77"/>
                  </a:lnTo>
                  <a:lnTo>
                    <a:pt x="318" y="116"/>
                  </a:lnTo>
                  <a:lnTo>
                    <a:pt x="318" y="168"/>
                  </a:lnTo>
                  <a:lnTo>
                    <a:pt x="343" y="181"/>
                  </a:lnTo>
                  <a:lnTo>
                    <a:pt x="356" y="226"/>
                  </a:lnTo>
                  <a:lnTo>
                    <a:pt x="343" y="252"/>
                  </a:lnTo>
                  <a:lnTo>
                    <a:pt x="298" y="265"/>
                  </a:lnTo>
                  <a:lnTo>
                    <a:pt x="318" y="298"/>
                  </a:lnTo>
                  <a:lnTo>
                    <a:pt x="292" y="304"/>
                  </a:lnTo>
                  <a:lnTo>
                    <a:pt x="253" y="304"/>
                  </a:lnTo>
                  <a:lnTo>
                    <a:pt x="227" y="298"/>
                  </a:lnTo>
                  <a:lnTo>
                    <a:pt x="214" y="304"/>
                  </a:lnTo>
                  <a:lnTo>
                    <a:pt x="143" y="291"/>
                  </a:lnTo>
                  <a:lnTo>
                    <a:pt x="130" y="272"/>
                  </a:lnTo>
                  <a:lnTo>
                    <a:pt x="52" y="291"/>
                  </a:lnTo>
                  <a:lnTo>
                    <a:pt x="0" y="265"/>
                  </a:lnTo>
                  <a:lnTo>
                    <a:pt x="0" y="252"/>
                  </a:lnTo>
                  <a:lnTo>
                    <a:pt x="39" y="252"/>
                  </a:lnTo>
                  <a:lnTo>
                    <a:pt x="65" y="226"/>
                  </a:lnTo>
                  <a:lnTo>
                    <a:pt x="117" y="226"/>
                  </a:lnTo>
                  <a:lnTo>
                    <a:pt x="156" y="201"/>
                  </a:lnTo>
                  <a:lnTo>
                    <a:pt x="156" y="194"/>
                  </a:lnTo>
                  <a:lnTo>
                    <a:pt x="188" y="168"/>
                  </a:lnTo>
                  <a:lnTo>
                    <a:pt x="175" y="149"/>
                  </a:lnTo>
                  <a:lnTo>
                    <a:pt x="201" y="149"/>
                  </a:lnTo>
                  <a:lnTo>
                    <a:pt x="201" y="129"/>
                  </a:lnTo>
                  <a:lnTo>
                    <a:pt x="194" y="11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03720" y="2475360"/>
              <a:ext cx="242280" cy="469440"/>
            </a:xfrm>
            <a:custGeom>
              <a:avLst/>
              <a:gdLst/>
              <a:ahLst/>
              <a:rect l="l" t="t" r="r" b="b"/>
              <a:pathLst>
                <a:path w="181" h="298">
                  <a:moveTo>
                    <a:pt x="71" y="298"/>
                  </a:moveTo>
                  <a:lnTo>
                    <a:pt x="52" y="298"/>
                  </a:lnTo>
                  <a:lnTo>
                    <a:pt x="45" y="259"/>
                  </a:lnTo>
                  <a:lnTo>
                    <a:pt x="71" y="233"/>
                  </a:lnTo>
                  <a:lnTo>
                    <a:pt x="39" y="246"/>
                  </a:lnTo>
                  <a:lnTo>
                    <a:pt x="7" y="220"/>
                  </a:lnTo>
                  <a:lnTo>
                    <a:pt x="19" y="181"/>
                  </a:lnTo>
                  <a:lnTo>
                    <a:pt x="19" y="136"/>
                  </a:lnTo>
                  <a:lnTo>
                    <a:pt x="0" y="149"/>
                  </a:lnTo>
                  <a:lnTo>
                    <a:pt x="7" y="123"/>
                  </a:lnTo>
                  <a:lnTo>
                    <a:pt x="39" y="103"/>
                  </a:lnTo>
                  <a:lnTo>
                    <a:pt x="39" y="84"/>
                  </a:lnTo>
                  <a:lnTo>
                    <a:pt x="71" y="52"/>
                  </a:lnTo>
                  <a:lnTo>
                    <a:pt x="78" y="39"/>
                  </a:lnTo>
                  <a:lnTo>
                    <a:pt x="71" y="32"/>
                  </a:lnTo>
                  <a:lnTo>
                    <a:pt x="91" y="6"/>
                  </a:lnTo>
                  <a:lnTo>
                    <a:pt x="104" y="0"/>
                  </a:lnTo>
                  <a:lnTo>
                    <a:pt x="169" y="26"/>
                  </a:lnTo>
                  <a:lnTo>
                    <a:pt x="156" y="39"/>
                  </a:lnTo>
                  <a:lnTo>
                    <a:pt x="130" y="39"/>
                  </a:lnTo>
                  <a:lnTo>
                    <a:pt x="117" y="71"/>
                  </a:lnTo>
                  <a:lnTo>
                    <a:pt x="130" y="71"/>
                  </a:lnTo>
                  <a:lnTo>
                    <a:pt x="143" y="84"/>
                  </a:lnTo>
                  <a:lnTo>
                    <a:pt x="169" y="84"/>
                  </a:lnTo>
                  <a:lnTo>
                    <a:pt x="181" y="110"/>
                  </a:lnTo>
                  <a:lnTo>
                    <a:pt x="117" y="181"/>
                  </a:lnTo>
                  <a:lnTo>
                    <a:pt x="149" y="201"/>
                  </a:lnTo>
                  <a:lnTo>
                    <a:pt x="169" y="233"/>
                  </a:lnTo>
                  <a:lnTo>
                    <a:pt x="149" y="233"/>
                  </a:lnTo>
                  <a:lnTo>
                    <a:pt x="143" y="253"/>
                  </a:lnTo>
                  <a:lnTo>
                    <a:pt x="91" y="272"/>
                  </a:lnTo>
                  <a:lnTo>
                    <a:pt x="78" y="285"/>
                  </a:lnTo>
                  <a:lnTo>
                    <a:pt x="71" y="298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875040"/>
              <a:ext cx="434160" cy="510120"/>
            </a:xfrm>
            <a:custGeom>
              <a:avLst/>
              <a:gdLst/>
              <a:ahLst/>
              <a:rect l="l" t="t" r="r" b="b"/>
              <a:pathLst>
                <a:path w="324" h="324">
                  <a:moveTo>
                    <a:pt x="253" y="6"/>
                  </a:moveTo>
                  <a:lnTo>
                    <a:pt x="201" y="0"/>
                  </a:lnTo>
                  <a:lnTo>
                    <a:pt x="175" y="32"/>
                  </a:lnTo>
                  <a:lnTo>
                    <a:pt x="149" y="90"/>
                  </a:lnTo>
                  <a:lnTo>
                    <a:pt x="7" y="188"/>
                  </a:lnTo>
                  <a:lnTo>
                    <a:pt x="26" y="233"/>
                  </a:lnTo>
                  <a:lnTo>
                    <a:pt x="0" y="298"/>
                  </a:lnTo>
                  <a:lnTo>
                    <a:pt x="20" y="324"/>
                  </a:lnTo>
                  <a:lnTo>
                    <a:pt x="104" y="324"/>
                  </a:lnTo>
                  <a:lnTo>
                    <a:pt x="117" y="304"/>
                  </a:lnTo>
                  <a:lnTo>
                    <a:pt x="149" y="285"/>
                  </a:lnTo>
                  <a:lnTo>
                    <a:pt x="149" y="259"/>
                  </a:lnTo>
                  <a:lnTo>
                    <a:pt x="201" y="214"/>
                  </a:lnTo>
                  <a:lnTo>
                    <a:pt x="195" y="181"/>
                  </a:lnTo>
                  <a:lnTo>
                    <a:pt x="246" y="162"/>
                  </a:lnTo>
                  <a:lnTo>
                    <a:pt x="253" y="136"/>
                  </a:lnTo>
                  <a:lnTo>
                    <a:pt x="324" y="90"/>
                  </a:lnTo>
                  <a:lnTo>
                    <a:pt x="305" y="39"/>
                  </a:lnTo>
                  <a:lnTo>
                    <a:pt x="272" y="39"/>
                  </a:lnTo>
                  <a:lnTo>
                    <a:pt x="227" y="13"/>
                  </a:lnTo>
                  <a:lnTo>
                    <a:pt x="246" y="13"/>
                  </a:lnTo>
                  <a:lnTo>
                    <a:pt x="253" y="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87440" y="3772440"/>
              <a:ext cx="981360" cy="868320"/>
            </a:xfrm>
            <a:custGeom>
              <a:avLst/>
              <a:gdLst/>
              <a:ahLst/>
              <a:rect l="l" t="t" r="r" b="b"/>
              <a:pathLst>
                <a:path w="732" h="551">
                  <a:moveTo>
                    <a:pt x="428" y="104"/>
                  </a:moveTo>
                  <a:lnTo>
                    <a:pt x="525" y="129"/>
                  </a:lnTo>
                  <a:lnTo>
                    <a:pt x="551" y="142"/>
                  </a:lnTo>
                  <a:lnTo>
                    <a:pt x="551" y="168"/>
                  </a:lnTo>
                  <a:lnTo>
                    <a:pt x="583" y="194"/>
                  </a:lnTo>
                  <a:lnTo>
                    <a:pt x="609" y="201"/>
                  </a:lnTo>
                  <a:lnTo>
                    <a:pt x="609" y="220"/>
                  </a:lnTo>
                  <a:lnTo>
                    <a:pt x="654" y="240"/>
                  </a:lnTo>
                  <a:lnTo>
                    <a:pt x="674" y="272"/>
                  </a:lnTo>
                  <a:lnTo>
                    <a:pt x="732" y="291"/>
                  </a:lnTo>
                  <a:lnTo>
                    <a:pt x="732" y="311"/>
                  </a:lnTo>
                  <a:lnTo>
                    <a:pt x="706" y="324"/>
                  </a:lnTo>
                  <a:lnTo>
                    <a:pt x="570" y="350"/>
                  </a:lnTo>
                  <a:lnTo>
                    <a:pt x="447" y="421"/>
                  </a:lnTo>
                  <a:lnTo>
                    <a:pt x="473" y="473"/>
                  </a:lnTo>
                  <a:lnTo>
                    <a:pt x="434" y="466"/>
                  </a:lnTo>
                  <a:lnTo>
                    <a:pt x="376" y="512"/>
                  </a:lnTo>
                  <a:lnTo>
                    <a:pt x="304" y="512"/>
                  </a:lnTo>
                  <a:lnTo>
                    <a:pt x="278" y="538"/>
                  </a:lnTo>
                  <a:lnTo>
                    <a:pt x="220" y="551"/>
                  </a:lnTo>
                  <a:lnTo>
                    <a:pt x="129" y="499"/>
                  </a:lnTo>
                  <a:lnTo>
                    <a:pt x="19" y="512"/>
                  </a:lnTo>
                  <a:lnTo>
                    <a:pt x="19" y="434"/>
                  </a:lnTo>
                  <a:lnTo>
                    <a:pt x="0" y="395"/>
                  </a:lnTo>
                  <a:lnTo>
                    <a:pt x="13" y="369"/>
                  </a:lnTo>
                  <a:lnTo>
                    <a:pt x="45" y="350"/>
                  </a:lnTo>
                  <a:lnTo>
                    <a:pt x="45" y="337"/>
                  </a:lnTo>
                  <a:lnTo>
                    <a:pt x="97" y="279"/>
                  </a:lnTo>
                  <a:lnTo>
                    <a:pt x="91" y="246"/>
                  </a:lnTo>
                  <a:lnTo>
                    <a:pt x="142" y="220"/>
                  </a:lnTo>
                  <a:lnTo>
                    <a:pt x="155" y="201"/>
                  </a:lnTo>
                  <a:lnTo>
                    <a:pt x="220" y="155"/>
                  </a:lnTo>
                  <a:lnTo>
                    <a:pt x="201" y="97"/>
                  </a:lnTo>
                  <a:lnTo>
                    <a:pt x="168" y="104"/>
                  </a:lnTo>
                  <a:lnTo>
                    <a:pt x="129" y="78"/>
                  </a:lnTo>
                  <a:lnTo>
                    <a:pt x="149" y="71"/>
                  </a:lnTo>
                  <a:lnTo>
                    <a:pt x="97" y="65"/>
                  </a:lnTo>
                  <a:lnTo>
                    <a:pt x="104" y="6"/>
                  </a:lnTo>
                  <a:lnTo>
                    <a:pt x="129" y="0"/>
                  </a:lnTo>
                  <a:lnTo>
                    <a:pt x="155" y="19"/>
                  </a:lnTo>
                  <a:lnTo>
                    <a:pt x="214" y="0"/>
                  </a:lnTo>
                  <a:lnTo>
                    <a:pt x="350" y="71"/>
                  </a:lnTo>
                  <a:lnTo>
                    <a:pt x="369" y="65"/>
                  </a:lnTo>
                  <a:lnTo>
                    <a:pt x="421" y="91"/>
                  </a:lnTo>
                  <a:lnTo>
                    <a:pt x="421" y="97"/>
                  </a:lnTo>
                  <a:lnTo>
                    <a:pt x="428" y="10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1240" y="3343680"/>
              <a:ext cx="841680" cy="898200"/>
            </a:xfrm>
            <a:custGeom>
              <a:avLst/>
              <a:gdLst/>
              <a:ahLst/>
              <a:rect l="l" t="t" r="r" b="b"/>
              <a:pathLst>
                <a:path w="628" h="570">
                  <a:moveTo>
                    <a:pt x="26" y="427"/>
                  </a:moveTo>
                  <a:lnTo>
                    <a:pt x="0" y="414"/>
                  </a:lnTo>
                  <a:lnTo>
                    <a:pt x="78" y="350"/>
                  </a:lnTo>
                  <a:lnTo>
                    <a:pt x="84" y="298"/>
                  </a:lnTo>
                  <a:lnTo>
                    <a:pt x="110" y="350"/>
                  </a:lnTo>
                  <a:lnTo>
                    <a:pt x="123" y="350"/>
                  </a:lnTo>
                  <a:lnTo>
                    <a:pt x="84" y="291"/>
                  </a:lnTo>
                  <a:lnTo>
                    <a:pt x="103" y="252"/>
                  </a:lnTo>
                  <a:lnTo>
                    <a:pt x="78" y="201"/>
                  </a:lnTo>
                  <a:lnTo>
                    <a:pt x="103" y="188"/>
                  </a:lnTo>
                  <a:lnTo>
                    <a:pt x="103" y="149"/>
                  </a:lnTo>
                  <a:lnTo>
                    <a:pt x="58" y="103"/>
                  </a:lnTo>
                  <a:lnTo>
                    <a:pt x="32" y="116"/>
                  </a:lnTo>
                  <a:lnTo>
                    <a:pt x="6" y="90"/>
                  </a:lnTo>
                  <a:lnTo>
                    <a:pt x="19" y="71"/>
                  </a:lnTo>
                  <a:lnTo>
                    <a:pt x="19" y="52"/>
                  </a:lnTo>
                  <a:lnTo>
                    <a:pt x="32" y="45"/>
                  </a:lnTo>
                  <a:lnTo>
                    <a:pt x="136" y="64"/>
                  </a:lnTo>
                  <a:lnTo>
                    <a:pt x="136" y="90"/>
                  </a:lnTo>
                  <a:lnTo>
                    <a:pt x="162" y="90"/>
                  </a:lnTo>
                  <a:lnTo>
                    <a:pt x="188" y="45"/>
                  </a:lnTo>
                  <a:lnTo>
                    <a:pt x="214" y="26"/>
                  </a:lnTo>
                  <a:lnTo>
                    <a:pt x="214" y="45"/>
                  </a:lnTo>
                  <a:lnTo>
                    <a:pt x="227" y="64"/>
                  </a:lnTo>
                  <a:lnTo>
                    <a:pt x="298" y="77"/>
                  </a:lnTo>
                  <a:lnTo>
                    <a:pt x="298" y="52"/>
                  </a:lnTo>
                  <a:lnTo>
                    <a:pt x="324" y="64"/>
                  </a:lnTo>
                  <a:lnTo>
                    <a:pt x="376" y="45"/>
                  </a:lnTo>
                  <a:lnTo>
                    <a:pt x="414" y="6"/>
                  </a:lnTo>
                  <a:lnTo>
                    <a:pt x="440" y="0"/>
                  </a:lnTo>
                  <a:lnTo>
                    <a:pt x="453" y="39"/>
                  </a:lnTo>
                  <a:lnTo>
                    <a:pt x="486" y="52"/>
                  </a:lnTo>
                  <a:lnTo>
                    <a:pt x="492" y="90"/>
                  </a:lnTo>
                  <a:lnTo>
                    <a:pt x="557" y="142"/>
                  </a:lnTo>
                  <a:lnTo>
                    <a:pt x="583" y="149"/>
                  </a:lnTo>
                  <a:lnTo>
                    <a:pt x="583" y="188"/>
                  </a:lnTo>
                  <a:lnTo>
                    <a:pt x="615" y="194"/>
                  </a:lnTo>
                  <a:lnTo>
                    <a:pt x="628" y="214"/>
                  </a:lnTo>
                  <a:lnTo>
                    <a:pt x="564" y="252"/>
                  </a:lnTo>
                  <a:lnTo>
                    <a:pt x="564" y="291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486" y="317"/>
                  </a:lnTo>
                  <a:lnTo>
                    <a:pt x="466" y="363"/>
                  </a:lnTo>
                  <a:lnTo>
                    <a:pt x="492" y="350"/>
                  </a:lnTo>
                  <a:lnTo>
                    <a:pt x="492" y="376"/>
                  </a:lnTo>
                  <a:lnTo>
                    <a:pt x="479" y="388"/>
                  </a:lnTo>
                  <a:lnTo>
                    <a:pt x="505" y="395"/>
                  </a:lnTo>
                  <a:lnTo>
                    <a:pt x="466" y="440"/>
                  </a:lnTo>
                  <a:lnTo>
                    <a:pt x="466" y="473"/>
                  </a:lnTo>
                  <a:lnTo>
                    <a:pt x="460" y="492"/>
                  </a:lnTo>
                  <a:lnTo>
                    <a:pt x="479" y="538"/>
                  </a:lnTo>
                  <a:lnTo>
                    <a:pt x="363" y="570"/>
                  </a:lnTo>
                  <a:lnTo>
                    <a:pt x="304" y="518"/>
                  </a:lnTo>
                  <a:lnTo>
                    <a:pt x="278" y="499"/>
                  </a:lnTo>
                  <a:lnTo>
                    <a:pt x="259" y="525"/>
                  </a:lnTo>
                  <a:lnTo>
                    <a:pt x="227" y="512"/>
                  </a:lnTo>
                  <a:lnTo>
                    <a:pt x="207" y="538"/>
                  </a:lnTo>
                  <a:lnTo>
                    <a:pt x="201" y="563"/>
                  </a:lnTo>
                  <a:lnTo>
                    <a:pt x="149" y="544"/>
                  </a:lnTo>
                  <a:lnTo>
                    <a:pt x="129" y="512"/>
                  </a:lnTo>
                  <a:lnTo>
                    <a:pt x="84" y="492"/>
                  </a:lnTo>
                  <a:lnTo>
                    <a:pt x="78" y="473"/>
                  </a:lnTo>
                  <a:lnTo>
                    <a:pt x="58" y="466"/>
                  </a:lnTo>
                  <a:lnTo>
                    <a:pt x="26" y="440"/>
                  </a:lnTo>
                  <a:lnTo>
                    <a:pt x="26" y="434"/>
                  </a:lnTo>
                  <a:lnTo>
                    <a:pt x="26" y="42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8280" y="3936600"/>
              <a:ext cx="756000" cy="1030680"/>
            </a:xfrm>
            <a:custGeom>
              <a:avLst/>
              <a:gdLst/>
              <a:ahLst/>
              <a:rect l="l" t="t" r="r" b="b"/>
              <a:pathLst>
                <a:path w="564" h="654">
                  <a:moveTo>
                    <a:pt x="84" y="38"/>
                  </a:moveTo>
                  <a:lnTo>
                    <a:pt x="45" y="19"/>
                  </a:lnTo>
                  <a:lnTo>
                    <a:pt x="6" y="64"/>
                  </a:lnTo>
                  <a:lnTo>
                    <a:pt x="6" y="110"/>
                  </a:lnTo>
                  <a:lnTo>
                    <a:pt x="0" y="123"/>
                  </a:lnTo>
                  <a:lnTo>
                    <a:pt x="19" y="162"/>
                  </a:lnTo>
                  <a:lnTo>
                    <a:pt x="84" y="142"/>
                  </a:lnTo>
                  <a:lnTo>
                    <a:pt x="168" y="162"/>
                  </a:lnTo>
                  <a:lnTo>
                    <a:pt x="181" y="259"/>
                  </a:lnTo>
                  <a:lnTo>
                    <a:pt x="168" y="265"/>
                  </a:lnTo>
                  <a:lnTo>
                    <a:pt x="246" y="388"/>
                  </a:lnTo>
                  <a:lnTo>
                    <a:pt x="304" y="421"/>
                  </a:lnTo>
                  <a:lnTo>
                    <a:pt x="363" y="486"/>
                  </a:lnTo>
                  <a:lnTo>
                    <a:pt x="408" y="505"/>
                  </a:lnTo>
                  <a:lnTo>
                    <a:pt x="408" y="544"/>
                  </a:lnTo>
                  <a:lnTo>
                    <a:pt x="382" y="654"/>
                  </a:lnTo>
                  <a:lnTo>
                    <a:pt x="428" y="635"/>
                  </a:lnTo>
                  <a:lnTo>
                    <a:pt x="428" y="609"/>
                  </a:lnTo>
                  <a:lnTo>
                    <a:pt x="473" y="602"/>
                  </a:lnTo>
                  <a:lnTo>
                    <a:pt x="473" y="570"/>
                  </a:lnTo>
                  <a:lnTo>
                    <a:pt x="460" y="511"/>
                  </a:lnTo>
                  <a:lnTo>
                    <a:pt x="486" y="492"/>
                  </a:lnTo>
                  <a:lnTo>
                    <a:pt x="525" y="505"/>
                  </a:lnTo>
                  <a:lnTo>
                    <a:pt x="531" y="531"/>
                  </a:lnTo>
                  <a:lnTo>
                    <a:pt x="564" y="544"/>
                  </a:lnTo>
                  <a:lnTo>
                    <a:pt x="551" y="492"/>
                  </a:lnTo>
                  <a:lnTo>
                    <a:pt x="505" y="440"/>
                  </a:lnTo>
                  <a:lnTo>
                    <a:pt x="447" y="414"/>
                  </a:lnTo>
                  <a:lnTo>
                    <a:pt x="453" y="369"/>
                  </a:lnTo>
                  <a:lnTo>
                    <a:pt x="447" y="362"/>
                  </a:lnTo>
                  <a:lnTo>
                    <a:pt x="402" y="362"/>
                  </a:lnTo>
                  <a:lnTo>
                    <a:pt x="350" y="356"/>
                  </a:lnTo>
                  <a:lnTo>
                    <a:pt x="324" y="246"/>
                  </a:lnTo>
                  <a:lnTo>
                    <a:pt x="279" y="207"/>
                  </a:lnTo>
                  <a:lnTo>
                    <a:pt x="272" y="168"/>
                  </a:lnTo>
                  <a:lnTo>
                    <a:pt x="311" y="136"/>
                  </a:lnTo>
                  <a:lnTo>
                    <a:pt x="324" y="116"/>
                  </a:lnTo>
                  <a:lnTo>
                    <a:pt x="363" y="97"/>
                  </a:lnTo>
                  <a:lnTo>
                    <a:pt x="376" y="116"/>
                  </a:lnTo>
                  <a:lnTo>
                    <a:pt x="395" y="64"/>
                  </a:lnTo>
                  <a:lnTo>
                    <a:pt x="402" y="51"/>
                  </a:lnTo>
                  <a:lnTo>
                    <a:pt x="402" y="38"/>
                  </a:lnTo>
                  <a:lnTo>
                    <a:pt x="363" y="38"/>
                  </a:lnTo>
                  <a:lnTo>
                    <a:pt x="330" y="0"/>
                  </a:lnTo>
                  <a:lnTo>
                    <a:pt x="246" y="12"/>
                  </a:lnTo>
                  <a:lnTo>
                    <a:pt x="227" y="38"/>
                  </a:lnTo>
                  <a:lnTo>
                    <a:pt x="201" y="38"/>
                  </a:lnTo>
                  <a:lnTo>
                    <a:pt x="181" y="38"/>
                  </a:lnTo>
                  <a:lnTo>
                    <a:pt x="149" y="19"/>
                  </a:lnTo>
                  <a:lnTo>
                    <a:pt x="149" y="38"/>
                  </a:lnTo>
                  <a:lnTo>
                    <a:pt x="123" y="64"/>
                  </a:lnTo>
                  <a:lnTo>
                    <a:pt x="123" y="38"/>
                  </a:lnTo>
                  <a:lnTo>
                    <a:pt x="123" y="25"/>
                  </a:lnTo>
                  <a:lnTo>
                    <a:pt x="123" y="0"/>
                  </a:lnTo>
                  <a:lnTo>
                    <a:pt x="104" y="19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6200" y="3802320"/>
              <a:ext cx="321480" cy="21420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52" y="0"/>
                  </a:moveTo>
                  <a:lnTo>
                    <a:pt x="117" y="0"/>
                  </a:lnTo>
                  <a:lnTo>
                    <a:pt x="214" y="26"/>
                  </a:lnTo>
                  <a:lnTo>
                    <a:pt x="240" y="97"/>
                  </a:lnTo>
                  <a:lnTo>
                    <a:pt x="214" y="123"/>
                  </a:lnTo>
                  <a:lnTo>
                    <a:pt x="195" y="123"/>
                  </a:lnTo>
                  <a:lnTo>
                    <a:pt x="188" y="110"/>
                  </a:lnTo>
                  <a:lnTo>
                    <a:pt x="143" y="104"/>
                  </a:lnTo>
                  <a:lnTo>
                    <a:pt x="143" y="123"/>
                  </a:lnTo>
                  <a:lnTo>
                    <a:pt x="117" y="136"/>
                  </a:lnTo>
                  <a:lnTo>
                    <a:pt x="111" y="110"/>
                  </a:lnTo>
                  <a:lnTo>
                    <a:pt x="117" y="85"/>
                  </a:lnTo>
                  <a:lnTo>
                    <a:pt x="98" y="104"/>
                  </a:lnTo>
                  <a:lnTo>
                    <a:pt x="78" y="123"/>
                  </a:lnTo>
                  <a:lnTo>
                    <a:pt x="13" y="97"/>
                  </a:lnTo>
                  <a:lnTo>
                    <a:pt x="26" y="85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0" y="26"/>
                  </a:lnTo>
                  <a:lnTo>
                    <a:pt x="46" y="26"/>
                  </a:lnTo>
                  <a:lnTo>
                    <a:pt x="52" y="1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73000" y="3343680"/>
              <a:ext cx="207360" cy="203040"/>
            </a:xfrm>
            <a:custGeom>
              <a:avLst/>
              <a:gdLst/>
              <a:ahLst/>
              <a:rect l="l" t="t" r="r" b="b"/>
              <a:pathLst>
                <a:path w="155" h="129">
                  <a:moveTo>
                    <a:pt x="19" y="39"/>
                  </a:moveTo>
                  <a:lnTo>
                    <a:pt x="0" y="6"/>
                  </a:lnTo>
                  <a:lnTo>
                    <a:pt x="78" y="0"/>
                  </a:lnTo>
                  <a:lnTo>
                    <a:pt x="130" y="26"/>
                  </a:lnTo>
                  <a:lnTo>
                    <a:pt x="149" y="39"/>
                  </a:lnTo>
                  <a:lnTo>
                    <a:pt x="155" y="39"/>
                  </a:lnTo>
                  <a:lnTo>
                    <a:pt x="149" y="103"/>
                  </a:lnTo>
                  <a:lnTo>
                    <a:pt x="123" y="116"/>
                  </a:lnTo>
                  <a:lnTo>
                    <a:pt x="110" y="123"/>
                  </a:lnTo>
                  <a:lnTo>
                    <a:pt x="130" y="129"/>
                  </a:lnTo>
                  <a:lnTo>
                    <a:pt x="123" y="129"/>
                  </a:lnTo>
                  <a:lnTo>
                    <a:pt x="58" y="90"/>
                  </a:lnTo>
                  <a:lnTo>
                    <a:pt x="52" y="64"/>
                  </a:lnTo>
                  <a:lnTo>
                    <a:pt x="32" y="52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7240" y="3118320"/>
              <a:ext cx="599040" cy="797400"/>
            </a:xfrm>
            <a:custGeom>
              <a:avLst/>
              <a:gdLst/>
              <a:ahLst/>
              <a:rect l="l" t="t" r="r" b="b"/>
              <a:pathLst>
                <a:path w="447" h="506">
                  <a:moveTo>
                    <a:pt x="272" y="20"/>
                  </a:moveTo>
                  <a:lnTo>
                    <a:pt x="259" y="20"/>
                  </a:lnTo>
                  <a:lnTo>
                    <a:pt x="246" y="13"/>
                  </a:lnTo>
                  <a:lnTo>
                    <a:pt x="220" y="0"/>
                  </a:lnTo>
                  <a:lnTo>
                    <a:pt x="194" y="39"/>
                  </a:lnTo>
                  <a:lnTo>
                    <a:pt x="220" y="39"/>
                  </a:lnTo>
                  <a:lnTo>
                    <a:pt x="220" y="65"/>
                  </a:lnTo>
                  <a:lnTo>
                    <a:pt x="181" y="65"/>
                  </a:lnTo>
                  <a:lnTo>
                    <a:pt x="142" y="58"/>
                  </a:lnTo>
                  <a:lnTo>
                    <a:pt x="123" y="110"/>
                  </a:lnTo>
                  <a:lnTo>
                    <a:pt x="97" y="123"/>
                  </a:lnTo>
                  <a:lnTo>
                    <a:pt x="97" y="149"/>
                  </a:lnTo>
                  <a:lnTo>
                    <a:pt x="38" y="182"/>
                  </a:lnTo>
                  <a:lnTo>
                    <a:pt x="19" y="246"/>
                  </a:lnTo>
                  <a:lnTo>
                    <a:pt x="25" y="272"/>
                  </a:lnTo>
                  <a:lnTo>
                    <a:pt x="13" y="292"/>
                  </a:lnTo>
                  <a:lnTo>
                    <a:pt x="19" y="331"/>
                  </a:lnTo>
                  <a:lnTo>
                    <a:pt x="51" y="337"/>
                  </a:lnTo>
                  <a:lnTo>
                    <a:pt x="51" y="363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19" y="434"/>
                  </a:lnTo>
                  <a:lnTo>
                    <a:pt x="103" y="460"/>
                  </a:lnTo>
                  <a:lnTo>
                    <a:pt x="123" y="506"/>
                  </a:lnTo>
                  <a:lnTo>
                    <a:pt x="142" y="480"/>
                  </a:lnTo>
                  <a:lnTo>
                    <a:pt x="168" y="493"/>
                  </a:lnTo>
                  <a:lnTo>
                    <a:pt x="246" y="493"/>
                  </a:lnTo>
                  <a:lnTo>
                    <a:pt x="272" y="493"/>
                  </a:lnTo>
                  <a:lnTo>
                    <a:pt x="298" y="460"/>
                  </a:lnTo>
                  <a:lnTo>
                    <a:pt x="343" y="441"/>
                  </a:lnTo>
                  <a:lnTo>
                    <a:pt x="298" y="331"/>
                  </a:lnTo>
                  <a:lnTo>
                    <a:pt x="401" y="272"/>
                  </a:lnTo>
                  <a:lnTo>
                    <a:pt x="447" y="292"/>
                  </a:lnTo>
                  <a:lnTo>
                    <a:pt x="447" y="266"/>
                  </a:lnTo>
                  <a:lnTo>
                    <a:pt x="447" y="246"/>
                  </a:lnTo>
                  <a:lnTo>
                    <a:pt x="447" y="169"/>
                  </a:lnTo>
                  <a:lnTo>
                    <a:pt x="447" y="136"/>
                  </a:lnTo>
                  <a:lnTo>
                    <a:pt x="447" y="117"/>
                  </a:lnTo>
                  <a:lnTo>
                    <a:pt x="401" y="58"/>
                  </a:lnTo>
                  <a:lnTo>
                    <a:pt x="324" y="84"/>
                  </a:lnTo>
                  <a:lnTo>
                    <a:pt x="304" y="45"/>
                  </a:lnTo>
                  <a:lnTo>
                    <a:pt x="278" y="45"/>
                  </a:lnTo>
                  <a:lnTo>
                    <a:pt x="272" y="32"/>
                  </a:lnTo>
                  <a:lnTo>
                    <a:pt x="272" y="2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7760" y="3189240"/>
              <a:ext cx="259920" cy="195480"/>
            </a:xfrm>
            <a:custGeom>
              <a:avLst/>
              <a:gdLst/>
              <a:ahLst/>
              <a:rect l="l" t="t" r="r" b="b"/>
              <a:pathLst>
                <a:path w="194" h="124">
                  <a:moveTo>
                    <a:pt x="175" y="65"/>
                  </a:moveTo>
                  <a:lnTo>
                    <a:pt x="194" y="13"/>
                  </a:lnTo>
                  <a:lnTo>
                    <a:pt x="142" y="0"/>
                  </a:lnTo>
                  <a:lnTo>
                    <a:pt x="116" y="46"/>
                  </a:lnTo>
                  <a:lnTo>
                    <a:pt x="142" y="65"/>
                  </a:lnTo>
                  <a:lnTo>
                    <a:pt x="90" y="72"/>
                  </a:lnTo>
                  <a:lnTo>
                    <a:pt x="90" y="65"/>
                  </a:lnTo>
                  <a:lnTo>
                    <a:pt x="97" y="39"/>
                  </a:lnTo>
                  <a:lnTo>
                    <a:pt x="71" y="39"/>
                  </a:lnTo>
                  <a:lnTo>
                    <a:pt x="65" y="26"/>
                  </a:lnTo>
                  <a:lnTo>
                    <a:pt x="19" y="72"/>
                  </a:lnTo>
                  <a:lnTo>
                    <a:pt x="71" y="78"/>
                  </a:lnTo>
                  <a:lnTo>
                    <a:pt x="45" y="78"/>
                  </a:lnTo>
                  <a:lnTo>
                    <a:pt x="0" y="98"/>
                  </a:lnTo>
                  <a:lnTo>
                    <a:pt x="52" y="124"/>
                  </a:lnTo>
                  <a:lnTo>
                    <a:pt x="65" y="124"/>
                  </a:lnTo>
                  <a:lnTo>
                    <a:pt x="77" y="124"/>
                  </a:lnTo>
                  <a:lnTo>
                    <a:pt x="149" y="104"/>
                  </a:lnTo>
                  <a:lnTo>
                    <a:pt x="142" y="72"/>
                  </a:lnTo>
                  <a:lnTo>
                    <a:pt x="155" y="65"/>
                  </a:lnTo>
                  <a:lnTo>
                    <a:pt x="175" y="6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24800" y="2913480"/>
              <a:ext cx="182160" cy="2361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39" y="143"/>
                  </a:moveTo>
                  <a:lnTo>
                    <a:pt x="13" y="130"/>
                  </a:lnTo>
                  <a:lnTo>
                    <a:pt x="19" y="91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19" y="20"/>
                  </a:lnTo>
                  <a:lnTo>
                    <a:pt x="117" y="0"/>
                  </a:lnTo>
                  <a:lnTo>
                    <a:pt x="136" y="33"/>
                  </a:lnTo>
                  <a:lnTo>
                    <a:pt x="97" y="33"/>
                  </a:lnTo>
                  <a:lnTo>
                    <a:pt x="97" y="72"/>
                  </a:lnTo>
                  <a:lnTo>
                    <a:pt x="71" y="78"/>
                  </a:lnTo>
                  <a:lnTo>
                    <a:pt x="65" y="124"/>
                  </a:lnTo>
                  <a:lnTo>
                    <a:pt x="52" y="130"/>
                  </a:lnTo>
                  <a:lnTo>
                    <a:pt x="52" y="150"/>
                  </a:lnTo>
                  <a:lnTo>
                    <a:pt x="45" y="150"/>
                  </a:lnTo>
                  <a:lnTo>
                    <a:pt x="39" y="14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2280" y="4016880"/>
              <a:ext cx="624600" cy="694800"/>
            </a:xfrm>
            <a:custGeom>
              <a:avLst/>
              <a:gdLst/>
              <a:ahLst/>
              <a:rect l="l" t="t" r="r" b="b"/>
              <a:pathLst>
                <a:path w="466" h="441">
                  <a:moveTo>
                    <a:pt x="19" y="13"/>
                  </a:moveTo>
                  <a:lnTo>
                    <a:pt x="0" y="72"/>
                  </a:lnTo>
                  <a:lnTo>
                    <a:pt x="19" y="111"/>
                  </a:lnTo>
                  <a:lnTo>
                    <a:pt x="32" y="98"/>
                  </a:lnTo>
                  <a:lnTo>
                    <a:pt x="32" y="111"/>
                  </a:lnTo>
                  <a:lnTo>
                    <a:pt x="77" y="124"/>
                  </a:lnTo>
                  <a:lnTo>
                    <a:pt x="103" y="169"/>
                  </a:lnTo>
                  <a:lnTo>
                    <a:pt x="52" y="143"/>
                  </a:lnTo>
                  <a:lnTo>
                    <a:pt x="84" y="208"/>
                  </a:lnTo>
                  <a:lnTo>
                    <a:pt x="129" y="214"/>
                  </a:lnTo>
                  <a:lnTo>
                    <a:pt x="149" y="266"/>
                  </a:lnTo>
                  <a:lnTo>
                    <a:pt x="233" y="337"/>
                  </a:lnTo>
                  <a:lnTo>
                    <a:pt x="278" y="292"/>
                  </a:lnTo>
                  <a:lnTo>
                    <a:pt x="311" y="331"/>
                  </a:lnTo>
                  <a:lnTo>
                    <a:pt x="324" y="428"/>
                  </a:lnTo>
                  <a:lnTo>
                    <a:pt x="350" y="435"/>
                  </a:lnTo>
                  <a:lnTo>
                    <a:pt x="350" y="441"/>
                  </a:lnTo>
                  <a:lnTo>
                    <a:pt x="453" y="435"/>
                  </a:lnTo>
                  <a:lnTo>
                    <a:pt x="466" y="389"/>
                  </a:lnTo>
                  <a:lnTo>
                    <a:pt x="414" y="337"/>
                  </a:lnTo>
                  <a:lnTo>
                    <a:pt x="440" y="318"/>
                  </a:lnTo>
                  <a:lnTo>
                    <a:pt x="453" y="292"/>
                  </a:lnTo>
                  <a:lnTo>
                    <a:pt x="434" y="214"/>
                  </a:lnTo>
                  <a:lnTo>
                    <a:pt x="466" y="195"/>
                  </a:lnTo>
                  <a:lnTo>
                    <a:pt x="453" y="169"/>
                  </a:lnTo>
                  <a:lnTo>
                    <a:pt x="414" y="182"/>
                  </a:lnTo>
                  <a:lnTo>
                    <a:pt x="402" y="162"/>
                  </a:lnTo>
                  <a:lnTo>
                    <a:pt x="389" y="124"/>
                  </a:lnTo>
                  <a:lnTo>
                    <a:pt x="376" y="124"/>
                  </a:lnTo>
                  <a:lnTo>
                    <a:pt x="363" y="72"/>
                  </a:lnTo>
                  <a:lnTo>
                    <a:pt x="330" y="46"/>
                  </a:lnTo>
                  <a:lnTo>
                    <a:pt x="278" y="65"/>
                  </a:lnTo>
                  <a:lnTo>
                    <a:pt x="233" y="91"/>
                  </a:lnTo>
                  <a:lnTo>
                    <a:pt x="207" y="72"/>
                  </a:lnTo>
                  <a:lnTo>
                    <a:pt x="162" y="0"/>
                  </a:lnTo>
                  <a:lnTo>
                    <a:pt x="71" y="13"/>
                  </a:lnTo>
                  <a:lnTo>
                    <a:pt x="26" y="0"/>
                  </a:lnTo>
                  <a:lnTo>
                    <a:pt x="19" y="7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98840" y="4476960"/>
              <a:ext cx="182160" cy="387720"/>
            </a:xfrm>
            <a:custGeom>
              <a:avLst/>
              <a:gdLst/>
              <a:ahLst/>
              <a:rect l="l" t="t" r="r" b="b"/>
              <a:pathLst>
                <a:path w="136" h="246">
                  <a:moveTo>
                    <a:pt x="64" y="0"/>
                  </a:moveTo>
                  <a:lnTo>
                    <a:pt x="19" y="45"/>
                  </a:lnTo>
                  <a:lnTo>
                    <a:pt x="38" y="45"/>
                  </a:lnTo>
                  <a:lnTo>
                    <a:pt x="0" y="162"/>
                  </a:lnTo>
                  <a:lnTo>
                    <a:pt x="64" y="246"/>
                  </a:lnTo>
                  <a:lnTo>
                    <a:pt x="77" y="220"/>
                  </a:lnTo>
                  <a:lnTo>
                    <a:pt x="77" y="194"/>
                  </a:lnTo>
                  <a:lnTo>
                    <a:pt x="110" y="188"/>
                  </a:lnTo>
                  <a:lnTo>
                    <a:pt x="136" y="149"/>
                  </a:lnTo>
                  <a:lnTo>
                    <a:pt x="136" y="136"/>
                  </a:lnTo>
                  <a:lnTo>
                    <a:pt x="116" y="136"/>
                  </a:lnTo>
                  <a:lnTo>
                    <a:pt x="97" y="19"/>
                  </a:lnTo>
                  <a:lnTo>
                    <a:pt x="77" y="13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6840" y="3567600"/>
              <a:ext cx="642240" cy="398520"/>
            </a:xfrm>
            <a:custGeom>
              <a:avLst/>
              <a:gdLst/>
              <a:ahLst/>
              <a:rect l="l" t="t" r="r" b="b"/>
              <a:pathLst>
                <a:path w="479" h="253">
                  <a:moveTo>
                    <a:pt x="181" y="26"/>
                  </a:moveTo>
                  <a:lnTo>
                    <a:pt x="103" y="0"/>
                  </a:lnTo>
                  <a:lnTo>
                    <a:pt x="0" y="46"/>
                  </a:lnTo>
                  <a:lnTo>
                    <a:pt x="45" y="156"/>
                  </a:lnTo>
                  <a:lnTo>
                    <a:pt x="84" y="169"/>
                  </a:lnTo>
                  <a:lnTo>
                    <a:pt x="129" y="130"/>
                  </a:lnTo>
                  <a:lnTo>
                    <a:pt x="149" y="169"/>
                  </a:lnTo>
                  <a:lnTo>
                    <a:pt x="201" y="169"/>
                  </a:lnTo>
                  <a:lnTo>
                    <a:pt x="207" y="227"/>
                  </a:lnTo>
                  <a:lnTo>
                    <a:pt x="259" y="253"/>
                  </a:lnTo>
                  <a:lnTo>
                    <a:pt x="265" y="234"/>
                  </a:lnTo>
                  <a:lnTo>
                    <a:pt x="324" y="208"/>
                  </a:lnTo>
                  <a:lnTo>
                    <a:pt x="337" y="227"/>
                  </a:lnTo>
                  <a:lnTo>
                    <a:pt x="388" y="201"/>
                  </a:lnTo>
                  <a:lnTo>
                    <a:pt x="466" y="221"/>
                  </a:lnTo>
                  <a:lnTo>
                    <a:pt x="479" y="195"/>
                  </a:lnTo>
                  <a:lnTo>
                    <a:pt x="460" y="149"/>
                  </a:lnTo>
                  <a:lnTo>
                    <a:pt x="356" y="149"/>
                  </a:lnTo>
                  <a:lnTo>
                    <a:pt x="304" y="130"/>
                  </a:lnTo>
                  <a:lnTo>
                    <a:pt x="278" y="84"/>
                  </a:lnTo>
                  <a:lnTo>
                    <a:pt x="265" y="84"/>
                  </a:lnTo>
                  <a:lnTo>
                    <a:pt x="226" y="59"/>
                  </a:lnTo>
                  <a:lnTo>
                    <a:pt x="188" y="72"/>
                  </a:lnTo>
                  <a:lnTo>
                    <a:pt x="188" y="46"/>
                  </a:lnTo>
                  <a:lnTo>
                    <a:pt x="181" y="2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2480" y="3772440"/>
              <a:ext cx="537480" cy="264600"/>
            </a:xfrm>
            <a:custGeom>
              <a:avLst/>
              <a:gdLst/>
              <a:ahLst/>
              <a:rect l="l" t="t" r="r" b="b"/>
              <a:pathLst>
                <a:path w="401" h="168">
                  <a:moveTo>
                    <a:pt x="19" y="65"/>
                  </a:moveTo>
                  <a:lnTo>
                    <a:pt x="0" y="91"/>
                  </a:lnTo>
                  <a:lnTo>
                    <a:pt x="6" y="91"/>
                  </a:lnTo>
                  <a:lnTo>
                    <a:pt x="19" y="97"/>
                  </a:lnTo>
                  <a:lnTo>
                    <a:pt x="26" y="97"/>
                  </a:lnTo>
                  <a:lnTo>
                    <a:pt x="32" y="116"/>
                  </a:lnTo>
                  <a:lnTo>
                    <a:pt x="103" y="104"/>
                  </a:lnTo>
                  <a:lnTo>
                    <a:pt x="136" y="142"/>
                  </a:lnTo>
                  <a:lnTo>
                    <a:pt x="168" y="142"/>
                  </a:lnTo>
                  <a:lnTo>
                    <a:pt x="175" y="155"/>
                  </a:lnTo>
                  <a:lnTo>
                    <a:pt x="220" y="168"/>
                  </a:lnTo>
                  <a:lnTo>
                    <a:pt x="304" y="155"/>
                  </a:lnTo>
                  <a:lnTo>
                    <a:pt x="376" y="104"/>
                  </a:lnTo>
                  <a:lnTo>
                    <a:pt x="401" y="104"/>
                  </a:lnTo>
                  <a:lnTo>
                    <a:pt x="382" y="97"/>
                  </a:lnTo>
                  <a:lnTo>
                    <a:pt x="376" y="39"/>
                  </a:lnTo>
                  <a:lnTo>
                    <a:pt x="324" y="26"/>
                  </a:lnTo>
                  <a:lnTo>
                    <a:pt x="304" y="0"/>
                  </a:lnTo>
                  <a:lnTo>
                    <a:pt x="259" y="39"/>
                  </a:lnTo>
                  <a:lnTo>
                    <a:pt x="220" y="26"/>
                  </a:lnTo>
                  <a:lnTo>
                    <a:pt x="175" y="45"/>
                  </a:lnTo>
                  <a:lnTo>
                    <a:pt x="149" y="78"/>
                  </a:lnTo>
                  <a:lnTo>
                    <a:pt x="123" y="78"/>
                  </a:lnTo>
                  <a:lnTo>
                    <a:pt x="45" y="78"/>
                  </a:lnTo>
                  <a:lnTo>
                    <a:pt x="32" y="71"/>
                  </a:lnTo>
                  <a:lnTo>
                    <a:pt x="19" y="6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3320" y="4579560"/>
              <a:ext cx="234360" cy="173160"/>
            </a:xfrm>
            <a:custGeom>
              <a:avLst/>
              <a:gdLst/>
              <a:ahLst/>
              <a:rect l="l" t="t" r="r" b="b"/>
              <a:pathLst>
                <a:path w="175" h="110">
                  <a:moveTo>
                    <a:pt x="97" y="0"/>
                  </a:moveTo>
                  <a:lnTo>
                    <a:pt x="52" y="0"/>
                  </a:lnTo>
                  <a:lnTo>
                    <a:pt x="32" y="13"/>
                  </a:lnTo>
                  <a:lnTo>
                    <a:pt x="32" y="26"/>
                  </a:lnTo>
                  <a:lnTo>
                    <a:pt x="32" y="78"/>
                  </a:lnTo>
                  <a:lnTo>
                    <a:pt x="0" y="110"/>
                  </a:lnTo>
                  <a:lnTo>
                    <a:pt x="71" y="103"/>
                  </a:lnTo>
                  <a:lnTo>
                    <a:pt x="110" y="97"/>
                  </a:lnTo>
                  <a:lnTo>
                    <a:pt x="175" y="97"/>
                  </a:lnTo>
                  <a:lnTo>
                    <a:pt x="162" y="78"/>
                  </a:lnTo>
                  <a:lnTo>
                    <a:pt x="129" y="39"/>
                  </a:lnTo>
                  <a:lnTo>
                    <a:pt x="123" y="0"/>
                  </a:lnTo>
                  <a:lnTo>
                    <a:pt x="110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7040" y="4344840"/>
              <a:ext cx="513360" cy="316440"/>
            </a:xfrm>
            <a:custGeom>
              <a:avLst/>
              <a:gdLst/>
              <a:ahLst/>
              <a:rect l="l" t="t" r="r" b="b"/>
              <a:pathLst>
                <a:path w="383" h="201">
                  <a:moveTo>
                    <a:pt x="65" y="6"/>
                  </a:moveTo>
                  <a:lnTo>
                    <a:pt x="39" y="0"/>
                  </a:lnTo>
                  <a:lnTo>
                    <a:pt x="20" y="6"/>
                  </a:lnTo>
                  <a:lnTo>
                    <a:pt x="39" y="78"/>
                  </a:lnTo>
                  <a:lnTo>
                    <a:pt x="26" y="123"/>
                  </a:lnTo>
                  <a:lnTo>
                    <a:pt x="0" y="129"/>
                  </a:lnTo>
                  <a:lnTo>
                    <a:pt x="52" y="181"/>
                  </a:lnTo>
                  <a:lnTo>
                    <a:pt x="52" y="188"/>
                  </a:lnTo>
                  <a:lnTo>
                    <a:pt x="117" y="188"/>
                  </a:lnTo>
                  <a:lnTo>
                    <a:pt x="188" y="201"/>
                  </a:lnTo>
                  <a:lnTo>
                    <a:pt x="253" y="162"/>
                  </a:lnTo>
                  <a:lnTo>
                    <a:pt x="273" y="149"/>
                  </a:lnTo>
                  <a:lnTo>
                    <a:pt x="318" y="149"/>
                  </a:lnTo>
                  <a:lnTo>
                    <a:pt x="344" y="149"/>
                  </a:lnTo>
                  <a:lnTo>
                    <a:pt x="350" y="78"/>
                  </a:lnTo>
                  <a:lnTo>
                    <a:pt x="376" y="78"/>
                  </a:lnTo>
                  <a:lnTo>
                    <a:pt x="383" y="52"/>
                  </a:lnTo>
                  <a:lnTo>
                    <a:pt x="324" y="6"/>
                  </a:lnTo>
                  <a:lnTo>
                    <a:pt x="240" y="26"/>
                  </a:lnTo>
                  <a:lnTo>
                    <a:pt x="201" y="58"/>
                  </a:lnTo>
                  <a:lnTo>
                    <a:pt x="72" y="26"/>
                  </a:lnTo>
                  <a:lnTo>
                    <a:pt x="65" y="13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84880" y="4600080"/>
              <a:ext cx="521280" cy="622440"/>
            </a:xfrm>
            <a:custGeom>
              <a:avLst/>
              <a:gdLst/>
              <a:ahLst/>
              <a:rect l="l" t="t" r="r" b="b"/>
              <a:pathLst>
                <a:path w="389" h="395">
                  <a:moveTo>
                    <a:pt x="13" y="142"/>
                  </a:moveTo>
                  <a:lnTo>
                    <a:pt x="0" y="168"/>
                  </a:lnTo>
                  <a:lnTo>
                    <a:pt x="7" y="188"/>
                  </a:lnTo>
                  <a:lnTo>
                    <a:pt x="33" y="181"/>
                  </a:lnTo>
                  <a:lnTo>
                    <a:pt x="26" y="194"/>
                  </a:lnTo>
                  <a:lnTo>
                    <a:pt x="52" y="246"/>
                  </a:lnTo>
                  <a:lnTo>
                    <a:pt x="111" y="246"/>
                  </a:lnTo>
                  <a:lnTo>
                    <a:pt x="162" y="265"/>
                  </a:lnTo>
                  <a:lnTo>
                    <a:pt x="156" y="272"/>
                  </a:lnTo>
                  <a:lnTo>
                    <a:pt x="85" y="246"/>
                  </a:lnTo>
                  <a:lnTo>
                    <a:pt x="46" y="259"/>
                  </a:lnTo>
                  <a:lnTo>
                    <a:pt x="33" y="246"/>
                  </a:lnTo>
                  <a:lnTo>
                    <a:pt x="13" y="265"/>
                  </a:lnTo>
                  <a:lnTo>
                    <a:pt x="46" y="285"/>
                  </a:lnTo>
                  <a:lnTo>
                    <a:pt x="52" y="343"/>
                  </a:lnTo>
                  <a:lnTo>
                    <a:pt x="78" y="356"/>
                  </a:lnTo>
                  <a:lnTo>
                    <a:pt x="104" y="389"/>
                  </a:lnTo>
                  <a:lnTo>
                    <a:pt x="111" y="389"/>
                  </a:lnTo>
                  <a:lnTo>
                    <a:pt x="130" y="395"/>
                  </a:lnTo>
                  <a:lnTo>
                    <a:pt x="136" y="389"/>
                  </a:lnTo>
                  <a:lnTo>
                    <a:pt x="130" y="311"/>
                  </a:lnTo>
                  <a:lnTo>
                    <a:pt x="182" y="337"/>
                  </a:lnTo>
                  <a:lnTo>
                    <a:pt x="175" y="291"/>
                  </a:lnTo>
                  <a:lnTo>
                    <a:pt x="201" y="285"/>
                  </a:lnTo>
                  <a:lnTo>
                    <a:pt x="208" y="304"/>
                  </a:lnTo>
                  <a:lnTo>
                    <a:pt x="227" y="291"/>
                  </a:lnTo>
                  <a:lnTo>
                    <a:pt x="201" y="246"/>
                  </a:lnTo>
                  <a:lnTo>
                    <a:pt x="136" y="214"/>
                  </a:lnTo>
                  <a:lnTo>
                    <a:pt x="156" y="188"/>
                  </a:lnTo>
                  <a:lnTo>
                    <a:pt x="175" y="194"/>
                  </a:lnTo>
                  <a:lnTo>
                    <a:pt x="175" y="168"/>
                  </a:lnTo>
                  <a:lnTo>
                    <a:pt x="136" y="123"/>
                  </a:lnTo>
                  <a:lnTo>
                    <a:pt x="136" y="110"/>
                  </a:lnTo>
                  <a:lnTo>
                    <a:pt x="188" y="123"/>
                  </a:lnTo>
                  <a:lnTo>
                    <a:pt x="214" y="123"/>
                  </a:lnTo>
                  <a:lnTo>
                    <a:pt x="234" y="90"/>
                  </a:lnTo>
                  <a:lnTo>
                    <a:pt x="260" y="90"/>
                  </a:lnTo>
                  <a:lnTo>
                    <a:pt x="279" y="65"/>
                  </a:lnTo>
                  <a:lnTo>
                    <a:pt x="350" y="84"/>
                  </a:lnTo>
                  <a:lnTo>
                    <a:pt x="357" y="90"/>
                  </a:lnTo>
                  <a:lnTo>
                    <a:pt x="389" y="58"/>
                  </a:lnTo>
                  <a:lnTo>
                    <a:pt x="389" y="13"/>
                  </a:lnTo>
                  <a:lnTo>
                    <a:pt x="389" y="0"/>
                  </a:lnTo>
                  <a:lnTo>
                    <a:pt x="331" y="39"/>
                  </a:lnTo>
                  <a:lnTo>
                    <a:pt x="253" y="26"/>
                  </a:lnTo>
                  <a:lnTo>
                    <a:pt x="188" y="26"/>
                  </a:lnTo>
                  <a:lnTo>
                    <a:pt x="175" y="65"/>
                  </a:lnTo>
                  <a:lnTo>
                    <a:pt x="78" y="71"/>
                  </a:lnTo>
                  <a:lnTo>
                    <a:pt x="52" y="110"/>
                  </a:lnTo>
                  <a:lnTo>
                    <a:pt x="13" y="123"/>
                  </a:lnTo>
                  <a:lnTo>
                    <a:pt x="13" y="136"/>
                  </a:lnTo>
                  <a:lnTo>
                    <a:pt x="13" y="14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46640" y="3209760"/>
              <a:ext cx="572400" cy="623880"/>
            </a:xfrm>
            <a:custGeom>
              <a:avLst/>
              <a:gdLst/>
              <a:ahLst/>
              <a:rect l="l" t="t" r="r" b="b"/>
              <a:pathLst>
                <a:path w="427" h="396">
                  <a:moveTo>
                    <a:pt x="0" y="85"/>
                  </a:moveTo>
                  <a:lnTo>
                    <a:pt x="0" y="52"/>
                  </a:lnTo>
                  <a:lnTo>
                    <a:pt x="39" y="52"/>
                  </a:lnTo>
                  <a:lnTo>
                    <a:pt x="110" y="7"/>
                  </a:lnTo>
                  <a:lnTo>
                    <a:pt x="214" y="0"/>
                  </a:lnTo>
                  <a:lnTo>
                    <a:pt x="201" y="33"/>
                  </a:lnTo>
                  <a:lnTo>
                    <a:pt x="214" y="52"/>
                  </a:lnTo>
                  <a:lnTo>
                    <a:pt x="239" y="26"/>
                  </a:lnTo>
                  <a:lnTo>
                    <a:pt x="304" y="52"/>
                  </a:lnTo>
                  <a:lnTo>
                    <a:pt x="389" y="52"/>
                  </a:lnTo>
                  <a:lnTo>
                    <a:pt x="427" y="91"/>
                  </a:lnTo>
                  <a:lnTo>
                    <a:pt x="427" y="130"/>
                  </a:lnTo>
                  <a:lnTo>
                    <a:pt x="389" y="175"/>
                  </a:lnTo>
                  <a:lnTo>
                    <a:pt x="395" y="260"/>
                  </a:lnTo>
                  <a:lnTo>
                    <a:pt x="414" y="279"/>
                  </a:lnTo>
                  <a:lnTo>
                    <a:pt x="414" y="305"/>
                  </a:lnTo>
                  <a:lnTo>
                    <a:pt x="343" y="331"/>
                  </a:lnTo>
                  <a:lnTo>
                    <a:pt x="317" y="396"/>
                  </a:lnTo>
                  <a:lnTo>
                    <a:pt x="304" y="376"/>
                  </a:lnTo>
                  <a:lnTo>
                    <a:pt x="201" y="376"/>
                  </a:lnTo>
                  <a:lnTo>
                    <a:pt x="155" y="357"/>
                  </a:lnTo>
                  <a:lnTo>
                    <a:pt x="129" y="311"/>
                  </a:lnTo>
                  <a:lnTo>
                    <a:pt x="116" y="311"/>
                  </a:lnTo>
                  <a:lnTo>
                    <a:pt x="77" y="286"/>
                  </a:lnTo>
                  <a:lnTo>
                    <a:pt x="39" y="299"/>
                  </a:lnTo>
                  <a:lnTo>
                    <a:pt x="32" y="253"/>
                  </a:lnTo>
                  <a:lnTo>
                    <a:pt x="0" y="234"/>
                  </a:lnTo>
                  <a:lnTo>
                    <a:pt x="0" y="208"/>
                  </a:lnTo>
                  <a:lnTo>
                    <a:pt x="6" y="188"/>
                  </a:lnTo>
                  <a:lnTo>
                    <a:pt x="0" y="111"/>
                  </a:lnTo>
                  <a:lnTo>
                    <a:pt x="0" y="9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9360" y="3884400"/>
              <a:ext cx="469080" cy="275760"/>
            </a:xfrm>
            <a:custGeom>
              <a:avLst/>
              <a:gdLst/>
              <a:ahLst/>
              <a:rect l="l" t="t" r="r" b="b"/>
              <a:pathLst>
                <a:path w="350" h="175">
                  <a:moveTo>
                    <a:pt x="265" y="0"/>
                  </a:moveTo>
                  <a:lnTo>
                    <a:pt x="330" y="20"/>
                  </a:lnTo>
                  <a:lnTo>
                    <a:pt x="350" y="33"/>
                  </a:lnTo>
                  <a:lnTo>
                    <a:pt x="252" y="143"/>
                  </a:lnTo>
                  <a:lnTo>
                    <a:pt x="194" y="149"/>
                  </a:lnTo>
                  <a:lnTo>
                    <a:pt x="168" y="130"/>
                  </a:lnTo>
                  <a:lnTo>
                    <a:pt x="116" y="149"/>
                  </a:lnTo>
                  <a:lnTo>
                    <a:pt x="71" y="175"/>
                  </a:lnTo>
                  <a:lnTo>
                    <a:pt x="45" y="156"/>
                  </a:lnTo>
                  <a:lnTo>
                    <a:pt x="0" y="84"/>
                  </a:lnTo>
                  <a:lnTo>
                    <a:pt x="65" y="33"/>
                  </a:lnTo>
                  <a:lnTo>
                    <a:pt x="90" y="33"/>
                  </a:lnTo>
                  <a:lnTo>
                    <a:pt x="123" y="52"/>
                  </a:lnTo>
                  <a:lnTo>
                    <a:pt x="129" y="33"/>
                  </a:lnTo>
                  <a:lnTo>
                    <a:pt x="188" y="7"/>
                  </a:lnTo>
                  <a:lnTo>
                    <a:pt x="201" y="26"/>
                  </a:lnTo>
                  <a:lnTo>
                    <a:pt x="233" y="13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9120" y="3179880"/>
              <a:ext cx="209160" cy="11160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1" y="71"/>
                  </a:moveTo>
                  <a:lnTo>
                    <a:pt x="0" y="52"/>
                  </a:lnTo>
                  <a:lnTo>
                    <a:pt x="84" y="0"/>
                  </a:lnTo>
                  <a:lnTo>
                    <a:pt x="149" y="32"/>
                  </a:lnTo>
                  <a:lnTo>
                    <a:pt x="156" y="71"/>
                  </a:lnTo>
                  <a:lnTo>
                    <a:pt x="110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68080" y="3895560"/>
              <a:ext cx="182160" cy="296280"/>
            </a:xfrm>
            <a:custGeom>
              <a:avLst/>
              <a:gdLst/>
              <a:ahLst/>
              <a:rect l="l" t="t" r="r" b="b"/>
              <a:pathLst>
                <a:path w="136" h="188">
                  <a:moveTo>
                    <a:pt x="6" y="13"/>
                  </a:moveTo>
                  <a:lnTo>
                    <a:pt x="0" y="26"/>
                  </a:lnTo>
                  <a:lnTo>
                    <a:pt x="71" y="123"/>
                  </a:lnTo>
                  <a:lnTo>
                    <a:pt x="71" y="188"/>
                  </a:lnTo>
                  <a:lnTo>
                    <a:pt x="123" y="149"/>
                  </a:lnTo>
                  <a:lnTo>
                    <a:pt x="123" y="142"/>
                  </a:lnTo>
                  <a:lnTo>
                    <a:pt x="136" y="142"/>
                  </a:lnTo>
                  <a:lnTo>
                    <a:pt x="136" y="77"/>
                  </a:lnTo>
                  <a:lnTo>
                    <a:pt x="103" y="19"/>
                  </a:lnTo>
                  <a:lnTo>
                    <a:pt x="77" y="19"/>
                  </a:lnTo>
                  <a:lnTo>
                    <a:pt x="84" y="38"/>
                  </a:lnTo>
                  <a:lnTo>
                    <a:pt x="51" y="0"/>
                  </a:lnTo>
                  <a:lnTo>
                    <a:pt x="32" y="6"/>
                  </a:lnTo>
                  <a:lnTo>
                    <a:pt x="6" y="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9640" y="3925440"/>
              <a:ext cx="678240" cy="510480"/>
            </a:xfrm>
            <a:custGeom>
              <a:avLst/>
              <a:gdLst/>
              <a:ahLst/>
              <a:rect l="l" t="t" r="r" b="b"/>
              <a:pathLst>
                <a:path w="506" h="324">
                  <a:moveTo>
                    <a:pt x="493" y="227"/>
                  </a:moveTo>
                  <a:lnTo>
                    <a:pt x="506" y="201"/>
                  </a:lnTo>
                  <a:lnTo>
                    <a:pt x="415" y="182"/>
                  </a:lnTo>
                  <a:lnTo>
                    <a:pt x="428" y="104"/>
                  </a:lnTo>
                  <a:lnTo>
                    <a:pt x="357" y="7"/>
                  </a:lnTo>
                  <a:lnTo>
                    <a:pt x="324" y="0"/>
                  </a:lnTo>
                  <a:lnTo>
                    <a:pt x="298" y="26"/>
                  </a:lnTo>
                  <a:lnTo>
                    <a:pt x="156" y="7"/>
                  </a:lnTo>
                  <a:lnTo>
                    <a:pt x="71" y="117"/>
                  </a:lnTo>
                  <a:lnTo>
                    <a:pt x="0" y="123"/>
                  </a:lnTo>
                  <a:lnTo>
                    <a:pt x="7" y="130"/>
                  </a:lnTo>
                  <a:lnTo>
                    <a:pt x="26" y="175"/>
                  </a:lnTo>
                  <a:lnTo>
                    <a:pt x="33" y="182"/>
                  </a:lnTo>
                  <a:lnTo>
                    <a:pt x="46" y="220"/>
                  </a:lnTo>
                  <a:lnTo>
                    <a:pt x="58" y="240"/>
                  </a:lnTo>
                  <a:lnTo>
                    <a:pt x="97" y="240"/>
                  </a:lnTo>
                  <a:lnTo>
                    <a:pt x="110" y="253"/>
                  </a:lnTo>
                  <a:lnTo>
                    <a:pt x="97" y="266"/>
                  </a:lnTo>
                  <a:lnTo>
                    <a:pt x="123" y="272"/>
                  </a:lnTo>
                  <a:lnTo>
                    <a:pt x="130" y="292"/>
                  </a:lnTo>
                  <a:lnTo>
                    <a:pt x="259" y="324"/>
                  </a:lnTo>
                  <a:lnTo>
                    <a:pt x="285" y="292"/>
                  </a:lnTo>
                  <a:lnTo>
                    <a:pt x="382" y="272"/>
                  </a:lnTo>
                  <a:lnTo>
                    <a:pt x="441" y="318"/>
                  </a:lnTo>
                  <a:lnTo>
                    <a:pt x="460" y="246"/>
                  </a:lnTo>
                  <a:lnTo>
                    <a:pt x="480" y="240"/>
                  </a:lnTo>
                  <a:lnTo>
                    <a:pt x="493" y="22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45840" y="1422000"/>
              <a:ext cx="1589760" cy="3319560"/>
            </a:xfrm>
            <a:custGeom>
              <a:avLst/>
              <a:gdLst/>
              <a:ahLst/>
              <a:rect l="l" t="t" r="r" b="b"/>
              <a:pathLst>
                <a:path w="1186" h="2106">
                  <a:moveTo>
                    <a:pt x="175" y="227"/>
                  </a:moveTo>
                  <a:lnTo>
                    <a:pt x="142" y="201"/>
                  </a:lnTo>
                  <a:lnTo>
                    <a:pt x="78" y="227"/>
                  </a:lnTo>
                  <a:lnTo>
                    <a:pt x="52" y="305"/>
                  </a:lnTo>
                  <a:lnTo>
                    <a:pt x="91" y="350"/>
                  </a:lnTo>
                  <a:lnTo>
                    <a:pt x="78" y="422"/>
                  </a:lnTo>
                  <a:lnTo>
                    <a:pt x="123" y="648"/>
                  </a:lnTo>
                  <a:lnTo>
                    <a:pt x="97" y="726"/>
                  </a:lnTo>
                  <a:lnTo>
                    <a:pt x="19" y="778"/>
                  </a:lnTo>
                  <a:lnTo>
                    <a:pt x="91" y="817"/>
                  </a:lnTo>
                  <a:lnTo>
                    <a:pt x="19" y="862"/>
                  </a:lnTo>
                  <a:lnTo>
                    <a:pt x="39" y="895"/>
                  </a:lnTo>
                  <a:lnTo>
                    <a:pt x="26" y="901"/>
                  </a:lnTo>
                  <a:lnTo>
                    <a:pt x="19" y="921"/>
                  </a:lnTo>
                  <a:lnTo>
                    <a:pt x="19" y="953"/>
                  </a:lnTo>
                  <a:lnTo>
                    <a:pt x="19" y="979"/>
                  </a:lnTo>
                  <a:lnTo>
                    <a:pt x="13" y="1011"/>
                  </a:lnTo>
                  <a:lnTo>
                    <a:pt x="19" y="998"/>
                  </a:lnTo>
                  <a:lnTo>
                    <a:pt x="26" y="1024"/>
                  </a:lnTo>
                  <a:lnTo>
                    <a:pt x="0" y="1037"/>
                  </a:lnTo>
                  <a:lnTo>
                    <a:pt x="19" y="1089"/>
                  </a:lnTo>
                  <a:lnTo>
                    <a:pt x="39" y="1089"/>
                  </a:lnTo>
                  <a:lnTo>
                    <a:pt x="78" y="1089"/>
                  </a:lnTo>
                  <a:lnTo>
                    <a:pt x="78" y="1096"/>
                  </a:lnTo>
                  <a:lnTo>
                    <a:pt x="123" y="1115"/>
                  </a:lnTo>
                  <a:lnTo>
                    <a:pt x="136" y="1141"/>
                  </a:lnTo>
                  <a:lnTo>
                    <a:pt x="136" y="1186"/>
                  </a:lnTo>
                  <a:lnTo>
                    <a:pt x="142" y="1199"/>
                  </a:lnTo>
                  <a:lnTo>
                    <a:pt x="168" y="1199"/>
                  </a:lnTo>
                  <a:lnTo>
                    <a:pt x="194" y="1264"/>
                  </a:lnTo>
                  <a:lnTo>
                    <a:pt x="175" y="1283"/>
                  </a:lnTo>
                  <a:lnTo>
                    <a:pt x="142" y="1258"/>
                  </a:lnTo>
                  <a:lnTo>
                    <a:pt x="142" y="1283"/>
                  </a:lnTo>
                  <a:lnTo>
                    <a:pt x="149" y="1342"/>
                  </a:lnTo>
                  <a:lnTo>
                    <a:pt x="220" y="1309"/>
                  </a:lnTo>
                  <a:lnTo>
                    <a:pt x="279" y="1322"/>
                  </a:lnTo>
                  <a:lnTo>
                    <a:pt x="246" y="1361"/>
                  </a:lnTo>
                  <a:lnTo>
                    <a:pt x="266" y="1407"/>
                  </a:lnTo>
                  <a:lnTo>
                    <a:pt x="298" y="1394"/>
                  </a:lnTo>
                  <a:lnTo>
                    <a:pt x="324" y="1445"/>
                  </a:lnTo>
                  <a:lnTo>
                    <a:pt x="382" y="1439"/>
                  </a:lnTo>
                  <a:lnTo>
                    <a:pt x="402" y="1433"/>
                  </a:lnTo>
                  <a:lnTo>
                    <a:pt x="473" y="1439"/>
                  </a:lnTo>
                  <a:lnTo>
                    <a:pt x="479" y="1465"/>
                  </a:lnTo>
                  <a:lnTo>
                    <a:pt x="518" y="1458"/>
                  </a:lnTo>
                  <a:lnTo>
                    <a:pt x="544" y="1569"/>
                  </a:lnTo>
                  <a:lnTo>
                    <a:pt x="492" y="1607"/>
                  </a:lnTo>
                  <a:lnTo>
                    <a:pt x="499" y="1633"/>
                  </a:lnTo>
                  <a:lnTo>
                    <a:pt x="544" y="1620"/>
                  </a:lnTo>
                  <a:lnTo>
                    <a:pt x="525" y="1659"/>
                  </a:lnTo>
                  <a:lnTo>
                    <a:pt x="441" y="1692"/>
                  </a:lnTo>
                  <a:lnTo>
                    <a:pt x="479" y="1679"/>
                  </a:lnTo>
                  <a:lnTo>
                    <a:pt x="441" y="1692"/>
                  </a:lnTo>
                  <a:lnTo>
                    <a:pt x="479" y="1711"/>
                  </a:lnTo>
                  <a:lnTo>
                    <a:pt x="447" y="1770"/>
                  </a:lnTo>
                  <a:lnTo>
                    <a:pt x="428" y="1770"/>
                  </a:lnTo>
                  <a:lnTo>
                    <a:pt x="428" y="1789"/>
                  </a:lnTo>
                  <a:lnTo>
                    <a:pt x="466" y="1789"/>
                  </a:lnTo>
                  <a:lnTo>
                    <a:pt x="466" y="1808"/>
                  </a:lnTo>
                  <a:lnTo>
                    <a:pt x="583" y="1880"/>
                  </a:lnTo>
                  <a:lnTo>
                    <a:pt x="583" y="1906"/>
                  </a:lnTo>
                  <a:lnTo>
                    <a:pt x="648" y="1925"/>
                  </a:lnTo>
                  <a:lnTo>
                    <a:pt x="700" y="2003"/>
                  </a:lnTo>
                  <a:lnTo>
                    <a:pt x="758" y="1977"/>
                  </a:lnTo>
                  <a:lnTo>
                    <a:pt x="810" y="1990"/>
                  </a:lnTo>
                  <a:lnTo>
                    <a:pt x="855" y="2055"/>
                  </a:lnTo>
                  <a:lnTo>
                    <a:pt x="965" y="2106"/>
                  </a:lnTo>
                  <a:lnTo>
                    <a:pt x="991" y="2106"/>
                  </a:lnTo>
                  <a:lnTo>
                    <a:pt x="1076" y="2055"/>
                  </a:lnTo>
                  <a:lnTo>
                    <a:pt x="1076" y="2029"/>
                  </a:lnTo>
                  <a:lnTo>
                    <a:pt x="1082" y="2029"/>
                  </a:lnTo>
                  <a:lnTo>
                    <a:pt x="1108" y="2035"/>
                  </a:lnTo>
                  <a:lnTo>
                    <a:pt x="1082" y="2074"/>
                  </a:lnTo>
                  <a:lnTo>
                    <a:pt x="1134" y="2106"/>
                  </a:lnTo>
                  <a:lnTo>
                    <a:pt x="1127" y="2035"/>
                  </a:lnTo>
                  <a:lnTo>
                    <a:pt x="1153" y="2061"/>
                  </a:lnTo>
                  <a:lnTo>
                    <a:pt x="1166" y="1964"/>
                  </a:lnTo>
                  <a:lnTo>
                    <a:pt x="1186" y="1957"/>
                  </a:lnTo>
                  <a:lnTo>
                    <a:pt x="1166" y="1925"/>
                  </a:lnTo>
                  <a:lnTo>
                    <a:pt x="1134" y="1925"/>
                  </a:lnTo>
                  <a:lnTo>
                    <a:pt x="1030" y="1834"/>
                  </a:lnTo>
                  <a:lnTo>
                    <a:pt x="1011" y="1789"/>
                  </a:lnTo>
                  <a:lnTo>
                    <a:pt x="940" y="1757"/>
                  </a:lnTo>
                  <a:lnTo>
                    <a:pt x="927" y="1685"/>
                  </a:lnTo>
                  <a:lnTo>
                    <a:pt x="1004" y="1595"/>
                  </a:lnTo>
                  <a:lnTo>
                    <a:pt x="991" y="1569"/>
                  </a:lnTo>
                  <a:lnTo>
                    <a:pt x="1004" y="1530"/>
                  </a:lnTo>
                  <a:lnTo>
                    <a:pt x="907" y="1471"/>
                  </a:lnTo>
                  <a:lnTo>
                    <a:pt x="907" y="1491"/>
                  </a:lnTo>
                  <a:lnTo>
                    <a:pt x="875" y="1491"/>
                  </a:lnTo>
                  <a:lnTo>
                    <a:pt x="836" y="1394"/>
                  </a:lnTo>
                  <a:lnTo>
                    <a:pt x="862" y="1348"/>
                  </a:lnTo>
                  <a:lnTo>
                    <a:pt x="927" y="1374"/>
                  </a:lnTo>
                  <a:lnTo>
                    <a:pt x="907" y="1322"/>
                  </a:lnTo>
                  <a:lnTo>
                    <a:pt x="985" y="1245"/>
                  </a:lnTo>
                  <a:lnTo>
                    <a:pt x="985" y="1212"/>
                  </a:lnTo>
                  <a:lnTo>
                    <a:pt x="1011" y="1225"/>
                  </a:lnTo>
                  <a:lnTo>
                    <a:pt x="1056" y="1199"/>
                  </a:lnTo>
                  <a:lnTo>
                    <a:pt x="1153" y="1225"/>
                  </a:lnTo>
                  <a:lnTo>
                    <a:pt x="914" y="0"/>
                  </a:lnTo>
                  <a:lnTo>
                    <a:pt x="875" y="7"/>
                  </a:lnTo>
                  <a:lnTo>
                    <a:pt x="875" y="59"/>
                  </a:lnTo>
                  <a:lnTo>
                    <a:pt x="888" y="85"/>
                  </a:lnTo>
                  <a:lnTo>
                    <a:pt x="875" y="104"/>
                  </a:lnTo>
                  <a:lnTo>
                    <a:pt x="875" y="136"/>
                  </a:lnTo>
                  <a:lnTo>
                    <a:pt x="849" y="85"/>
                  </a:lnTo>
                  <a:lnTo>
                    <a:pt x="829" y="130"/>
                  </a:lnTo>
                  <a:lnTo>
                    <a:pt x="752" y="182"/>
                  </a:lnTo>
                  <a:lnTo>
                    <a:pt x="719" y="149"/>
                  </a:lnTo>
                  <a:lnTo>
                    <a:pt x="687" y="162"/>
                  </a:lnTo>
                  <a:lnTo>
                    <a:pt x="700" y="201"/>
                  </a:lnTo>
                  <a:lnTo>
                    <a:pt x="674" y="188"/>
                  </a:lnTo>
                  <a:lnTo>
                    <a:pt x="648" y="201"/>
                  </a:lnTo>
                  <a:lnTo>
                    <a:pt x="603" y="272"/>
                  </a:lnTo>
                  <a:lnTo>
                    <a:pt x="603" y="298"/>
                  </a:lnTo>
                  <a:lnTo>
                    <a:pt x="583" y="331"/>
                  </a:lnTo>
                  <a:lnTo>
                    <a:pt x="557" y="331"/>
                  </a:lnTo>
                  <a:lnTo>
                    <a:pt x="551" y="305"/>
                  </a:lnTo>
                  <a:lnTo>
                    <a:pt x="525" y="298"/>
                  </a:lnTo>
                  <a:lnTo>
                    <a:pt x="525" y="260"/>
                  </a:lnTo>
                  <a:lnTo>
                    <a:pt x="479" y="221"/>
                  </a:lnTo>
                  <a:lnTo>
                    <a:pt x="447" y="227"/>
                  </a:lnTo>
                  <a:lnTo>
                    <a:pt x="466" y="324"/>
                  </a:lnTo>
                  <a:lnTo>
                    <a:pt x="505" y="350"/>
                  </a:lnTo>
                  <a:lnTo>
                    <a:pt x="499" y="383"/>
                  </a:lnTo>
                  <a:lnTo>
                    <a:pt x="479" y="370"/>
                  </a:lnTo>
                  <a:lnTo>
                    <a:pt x="466" y="396"/>
                  </a:lnTo>
                  <a:lnTo>
                    <a:pt x="447" y="396"/>
                  </a:lnTo>
                  <a:lnTo>
                    <a:pt x="428" y="376"/>
                  </a:lnTo>
                  <a:lnTo>
                    <a:pt x="408" y="383"/>
                  </a:lnTo>
                  <a:lnTo>
                    <a:pt x="408" y="409"/>
                  </a:lnTo>
                  <a:lnTo>
                    <a:pt x="356" y="447"/>
                  </a:lnTo>
                  <a:lnTo>
                    <a:pt x="350" y="473"/>
                  </a:lnTo>
                  <a:lnTo>
                    <a:pt x="395" y="493"/>
                  </a:lnTo>
                  <a:lnTo>
                    <a:pt x="402" y="499"/>
                  </a:lnTo>
                  <a:lnTo>
                    <a:pt x="454" y="519"/>
                  </a:lnTo>
                  <a:lnTo>
                    <a:pt x="356" y="506"/>
                  </a:lnTo>
                  <a:lnTo>
                    <a:pt x="324" y="519"/>
                  </a:lnTo>
                  <a:lnTo>
                    <a:pt x="324" y="571"/>
                  </a:lnTo>
                  <a:lnTo>
                    <a:pt x="292" y="577"/>
                  </a:lnTo>
                  <a:lnTo>
                    <a:pt x="246" y="551"/>
                  </a:lnTo>
                  <a:lnTo>
                    <a:pt x="220" y="551"/>
                  </a:lnTo>
                  <a:lnTo>
                    <a:pt x="201" y="506"/>
                  </a:lnTo>
                  <a:lnTo>
                    <a:pt x="240" y="506"/>
                  </a:lnTo>
                  <a:lnTo>
                    <a:pt x="227" y="454"/>
                  </a:lnTo>
                  <a:lnTo>
                    <a:pt x="168" y="402"/>
                  </a:lnTo>
                  <a:lnTo>
                    <a:pt x="292" y="435"/>
                  </a:lnTo>
                  <a:lnTo>
                    <a:pt x="376" y="396"/>
                  </a:lnTo>
                  <a:lnTo>
                    <a:pt x="382" y="344"/>
                  </a:lnTo>
                  <a:lnTo>
                    <a:pt x="369" y="298"/>
                  </a:lnTo>
                  <a:lnTo>
                    <a:pt x="266" y="247"/>
                  </a:lnTo>
                  <a:lnTo>
                    <a:pt x="240" y="227"/>
                  </a:lnTo>
                  <a:lnTo>
                    <a:pt x="207" y="227"/>
                  </a:lnTo>
                  <a:lnTo>
                    <a:pt x="175" y="22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8280" y="3118320"/>
              <a:ext cx="537480" cy="521640"/>
            </a:xfrm>
            <a:custGeom>
              <a:avLst/>
              <a:gdLst/>
              <a:ahLst/>
              <a:rect l="l" t="t" r="r" b="b"/>
              <a:pathLst>
                <a:path w="401" h="331">
                  <a:moveTo>
                    <a:pt x="0" y="233"/>
                  </a:moveTo>
                  <a:lnTo>
                    <a:pt x="6" y="318"/>
                  </a:lnTo>
                  <a:lnTo>
                    <a:pt x="71" y="285"/>
                  </a:lnTo>
                  <a:lnTo>
                    <a:pt x="168" y="292"/>
                  </a:lnTo>
                  <a:lnTo>
                    <a:pt x="252" y="331"/>
                  </a:lnTo>
                  <a:lnTo>
                    <a:pt x="330" y="292"/>
                  </a:lnTo>
                  <a:lnTo>
                    <a:pt x="356" y="266"/>
                  </a:lnTo>
                  <a:lnTo>
                    <a:pt x="349" y="195"/>
                  </a:lnTo>
                  <a:lnTo>
                    <a:pt x="349" y="182"/>
                  </a:lnTo>
                  <a:lnTo>
                    <a:pt x="395" y="195"/>
                  </a:lnTo>
                  <a:lnTo>
                    <a:pt x="401" y="182"/>
                  </a:lnTo>
                  <a:lnTo>
                    <a:pt x="382" y="123"/>
                  </a:lnTo>
                  <a:lnTo>
                    <a:pt x="349" y="117"/>
                  </a:lnTo>
                  <a:lnTo>
                    <a:pt x="343" y="91"/>
                  </a:lnTo>
                  <a:lnTo>
                    <a:pt x="343" y="71"/>
                  </a:lnTo>
                  <a:lnTo>
                    <a:pt x="330" y="26"/>
                  </a:lnTo>
                  <a:lnTo>
                    <a:pt x="285" y="13"/>
                  </a:lnTo>
                  <a:lnTo>
                    <a:pt x="285" y="0"/>
                  </a:lnTo>
                  <a:lnTo>
                    <a:pt x="246" y="13"/>
                  </a:lnTo>
                  <a:lnTo>
                    <a:pt x="226" y="13"/>
                  </a:lnTo>
                  <a:lnTo>
                    <a:pt x="226" y="0"/>
                  </a:lnTo>
                  <a:lnTo>
                    <a:pt x="116" y="65"/>
                  </a:lnTo>
                  <a:lnTo>
                    <a:pt x="103" y="123"/>
                  </a:lnTo>
                  <a:lnTo>
                    <a:pt x="38" y="149"/>
                  </a:lnTo>
                  <a:lnTo>
                    <a:pt x="38" y="188"/>
                  </a:lnTo>
                  <a:lnTo>
                    <a:pt x="19" y="207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63520" y="3077280"/>
              <a:ext cx="304200" cy="275760"/>
            </a:xfrm>
            <a:custGeom>
              <a:avLst/>
              <a:gdLst/>
              <a:ahLst/>
              <a:rect l="l" t="t" r="r" b="b"/>
              <a:pathLst>
                <a:path w="227" h="175">
                  <a:moveTo>
                    <a:pt x="71" y="97"/>
                  </a:moveTo>
                  <a:lnTo>
                    <a:pt x="6" y="65"/>
                  </a:lnTo>
                  <a:lnTo>
                    <a:pt x="0" y="20"/>
                  </a:lnTo>
                  <a:lnTo>
                    <a:pt x="32" y="0"/>
                  </a:lnTo>
                  <a:lnTo>
                    <a:pt x="78" y="13"/>
                  </a:lnTo>
                  <a:lnTo>
                    <a:pt x="103" y="20"/>
                  </a:lnTo>
                  <a:lnTo>
                    <a:pt x="155" y="13"/>
                  </a:lnTo>
                  <a:lnTo>
                    <a:pt x="227" y="71"/>
                  </a:lnTo>
                  <a:lnTo>
                    <a:pt x="194" y="91"/>
                  </a:lnTo>
                  <a:lnTo>
                    <a:pt x="181" y="149"/>
                  </a:lnTo>
                  <a:lnTo>
                    <a:pt x="116" y="175"/>
                  </a:lnTo>
                  <a:lnTo>
                    <a:pt x="78" y="136"/>
                  </a:lnTo>
                  <a:lnTo>
                    <a:pt x="71" y="117"/>
                  </a:lnTo>
                  <a:lnTo>
                    <a:pt x="71" y="9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63520" y="2913480"/>
              <a:ext cx="416520" cy="275400"/>
            </a:xfrm>
            <a:custGeom>
              <a:avLst/>
              <a:gdLst/>
              <a:ahLst/>
              <a:rect l="l" t="t" r="r" b="b"/>
              <a:pathLst>
                <a:path w="311" h="175">
                  <a:moveTo>
                    <a:pt x="32" y="104"/>
                  </a:moveTo>
                  <a:lnTo>
                    <a:pt x="0" y="124"/>
                  </a:lnTo>
                  <a:lnTo>
                    <a:pt x="71" y="33"/>
                  </a:lnTo>
                  <a:lnTo>
                    <a:pt x="103" y="33"/>
                  </a:lnTo>
                  <a:lnTo>
                    <a:pt x="129" y="65"/>
                  </a:lnTo>
                  <a:lnTo>
                    <a:pt x="168" y="52"/>
                  </a:lnTo>
                  <a:lnTo>
                    <a:pt x="175" y="0"/>
                  </a:lnTo>
                  <a:lnTo>
                    <a:pt x="227" y="20"/>
                  </a:lnTo>
                  <a:lnTo>
                    <a:pt x="227" y="33"/>
                  </a:lnTo>
                  <a:lnTo>
                    <a:pt x="304" y="52"/>
                  </a:lnTo>
                  <a:lnTo>
                    <a:pt x="311" y="72"/>
                  </a:lnTo>
                  <a:lnTo>
                    <a:pt x="285" y="91"/>
                  </a:lnTo>
                  <a:lnTo>
                    <a:pt x="298" y="130"/>
                  </a:lnTo>
                  <a:lnTo>
                    <a:pt x="227" y="175"/>
                  </a:lnTo>
                  <a:lnTo>
                    <a:pt x="155" y="124"/>
                  </a:lnTo>
                  <a:lnTo>
                    <a:pt x="103" y="124"/>
                  </a:lnTo>
                  <a:lnTo>
                    <a:pt x="78" y="117"/>
                  </a:lnTo>
                  <a:lnTo>
                    <a:pt x="58" y="111"/>
                  </a:lnTo>
                  <a:lnTo>
                    <a:pt x="32" y="104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71440" y="3485880"/>
              <a:ext cx="1112400" cy="879120"/>
            </a:xfrm>
            <a:custGeom>
              <a:avLst/>
              <a:gdLst/>
              <a:ahLst/>
              <a:rect l="l" t="t" r="r" b="b"/>
              <a:pathLst>
                <a:path w="830" h="558">
                  <a:moveTo>
                    <a:pt x="143" y="52"/>
                  </a:moveTo>
                  <a:lnTo>
                    <a:pt x="78" y="85"/>
                  </a:lnTo>
                  <a:lnTo>
                    <a:pt x="97" y="111"/>
                  </a:lnTo>
                  <a:lnTo>
                    <a:pt x="97" y="130"/>
                  </a:lnTo>
                  <a:lnTo>
                    <a:pt x="39" y="156"/>
                  </a:lnTo>
                  <a:lnTo>
                    <a:pt x="0" y="221"/>
                  </a:lnTo>
                  <a:lnTo>
                    <a:pt x="13" y="247"/>
                  </a:lnTo>
                  <a:lnTo>
                    <a:pt x="0" y="279"/>
                  </a:lnTo>
                  <a:lnTo>
                    <a:pt x="20" y="286"/>
                  </a:lnTo>
                  <a:lnTo>
                    <a:pt x="162" y="305"/>
                  </a:lnTo>
                  <a:lnTo>
                    <a:pt x="188" y="279"/>
                  </a:lnTo>
                  <a:lnTo>
                    <a:pt x="221" y="286"/>
                  </a:lnTo>
                  <a:lnTo>
                    <a:pt x="227" y="273"/>
                  </a:lnTo>
                  <a:lnTo>
                    <a:pt x="272" y="273"/>
                  </a:lnTo>
                  <a:lnTo>
                    <a:pt x="305" y="298"/>
                  </a:lnTo>
                  <a:lnTo>
                    <a:pt x="298" y="279"/>
                  </a:lnTo>
                  <a:lnTo>
                    <a:pt x="324" y="279"/>
                  </a:lnTo>
                  <a:lnTo>
                    <a:pt x="357" y="337"/>
                  </a:lnTo>
                  <a:lnTo>
                    <a:pt x="357" y="402"/>
                  </a:lnTo>
                  <a:lnTo>
                    <a:pt x="344" y="402"/>
                  </a:lnTo>
                  <a:lnTo>
                    <a:pt x="344" y="409"/>
                  </a:lnTo>
                  <a:lnTo>
                    <a:pt x="292" y="454"/>
                  </a:lnTo>
                  <a:lnTo>
                    <a:pt x="279" y="473"/>
                  </a:lnTo>
                  <a:lnTo>
                    <a:pt x="370" y="493"/>
                  </a:lnTo>
                  <a:lnTo>
                    <a:pt x="370" y="473"/>
                  </a:lnTo>
                  <a:lnTo>
                    <a:pt x="383" y="448"/>
                  </a:lnTo>
                  <a:lnTo>
                    <a:pt x="402" y="422"/>
                  </a:lnTo>
                  <a:lnTo>
                    <a:pt x="447" y="402"/>
                  </a:lnTo>
                  <a:lnTo>
                    <a:pt x="467" y="383"/>
                  </a:lnTo>
                  <a:lnTo>
                    <a:pt x="499" y="383"/>
                  </a:lnTo>
                  <a:lnTo>
                    <a:pt x="506" y="409"/>
                  </a:lnTo>
                  <a:lnTo>
                    <a:pt x="577" y="428"/>
                  </a:lnTo>
                  <a:lnTo>
                    <a:pt x="525" y="448"/>
                  </a:lnTo>
                  <a:lnTo>
                    <a:pt x="525" y="473"/>
                  </a:lnTo>
                  <a:lnTo>
                    <a:pt x="558" y="493"/>
                  </a:lnTo>
                  <a:lnTo>
                    <a:pt x="558" y="525"/>
                  </a:lnTo>
                  <a:lnTo>
                    <a:pt x="545" y="545"/>
                  </a:lnTo>
                  <a:lnTo>
                    <a:pt x="596" y="558"/>
                  </a:lnTo>
                  <a:lnTo>
                    <a:pt x="635" y="551"/>
                  </a:lnTo>
                  <a:lnTo>
                    <a:pt x="622" y="493"/>
                  </a:lnTo>
                  <a:lnTo>
                    <a:pt x="681" y="499"/>
                  </a:lnTo>
                  <a:lnTo>
                    <a:pt x="700" y="461"/>
                  </a:lnTo>
                  <a:lnTo>
                    <a:pt x="687" y="448"/>
                  </a:lnTo>
                  <a:lnTo>
                    <a:pt x="648" y="454"/>
                  </a:lnTo>
                  <a:lnTo>
                    <a:pt x="603" y="428"/>
                  </a:lnTo>
                  <a:lnTo>
                    <a:pt x="603" y="422"/>
                  </a:lnTo>
                  <a:lnTo>
                    <a:pt x="655" y="409"/>
                  </a:lnTo>
                  <a:lnTo>
                    <a:pt x="655" y="383"/>
                  </a:lnTo>
                  <a:lnTo>
                    <a:pt x="681" y="383"/>
                  </a:lnTo>
                  <a:lnTo>
                    <a:pt x="778" y="324"/>
                  </a:lnTo>
                  <a:lnTo>
                    <a:pt x="778" y="286"/>
                  </a:lnTo>
                  <a:lnTo>
                    <a:pt x="830" y="260"/>
                  </a:lnTo>
                  <a:lnTo>
                    <a:pt x="797" y="149"/>
                  </a:lnTo>
                  <a:lnTo>
                    <a:pt x="771" y="149"/>
                  </a:lnTo>
                  <a:lnTo>
                    <a:pt x="752" y="130"/>
                  </a:lnTo>
                  <a:lnTo>
                    <a:pt x="687" y="124"/>
                  </a:lnTo>
                  <a:lnTo>
                    <a:pt x="661" y="130"/>
                  </a:lnTo>
                  <a:lnTo>
                    <a:pt x="622" y="130"/>
                  </a:lnTo>
                  <a:lnTo>
                    <a:pt x="577" y="78"/>
                  </a:lnTo>
                  <a:lnTo>
                    <a:pt x="551" y="85"/>
                  </a:lnTo>
                  <a:lnTo>
                    <a:pt x="532" y="52"/>
                  </a:lnTo>
                  <a:lnTo>
                    <a:pt x="558" y="26"/>
                  </a:lnTo>
                  <a:lnTo>
                    <a:pt x="499" y="0"/>
                  </a:lnTo>
                  <a:lnTo>
                    <a:pt x="441" y="33"/>
                  </a:lnTo>
                  <a:lnTo>
                    <a:pt x="415" y="59"/>
                  </a:lnTo>
                  <a:lnTo>
                    <a:pt x="331" y="98"/>
                  </a:lnTo>
                  <a:lnTo>
                    <a:pt x="240" y="59"/>
                  </a:lnTo>
                  <a:lnTo>
                    <a:pt x="188" y="52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5080" y="1779840"/>
              <a:ext cx="703440" cy="1338120"/>
            </a:xfrm>
            <a:custGeom>
              <a:avLst/>
              <a:gdLst/>
              <a:ahLst/>
              <a:rect l="l" t="t" r="r" b="b"/>
              <a:pathLst>
                <a:path w="525" h="849">
                  <a:moveTo>
                    <a:pt x="454" y="7"/>
                  </a:moveTo>
                  <a:lnTo>
                    <a:pt x="473" y="0"/>
                  </a:lnTo>
                  <a:lnTo>
                    <a:pt x="480" y="45"/>
                  </a:lnTo>
                  <a:lnTo>
                    <a:pt x="525" y="58"/>
                  </a:lnTo>
                  <a:lnTo>
                    <a:pt x="525" y="201"/>
                  </a:lnTo>
                  <a:lnTo>
                    <a:pt x="454" y="246"/>
                  </a:lnTo>
                  <a:lnTo>
                    <a:pt x="441" y="279"/>
                  </a:lnTo>
                  <a:lnTo>
                    <a:pt x="460" y="324"/>
                  </a:lnTo>
                  <a:lnTo>
                    <a:pt x="324" y="389"/>
                  </a:lnTo>
                  <a:lnTo>
                    <a:pt x="260" y="525"/>
                  </a:lnTo>
                  <a:lnTo>
                    <a:pt x="298" y="564"/>
                  </a:lnTo>
                  <a:lnTo>
                    <a:pt x="298" y="622"/>
                  </a:lnTo>
                  <a:lnTo>
                    <a:pt x="221" y="668"/>
                  </a:lnTo>
                  <a:lnTo>
                    <a:pt x="149" y="817"/>
                  </a:lnTo>
                  <a:lnTo>
                    <a:pt x="72" y="836"/>
                  </a:lnTo>
                  <a:lnTo>
                    <a:pt x="46" y="849"/>
                  </a:lnTo>
                  <a:lnTo>
                    <a:pt x="20" y="849"/>
                  </a:lnTo>
                  <a:lnTo>
                    <a:pt x="7" y="784"/>
                  </a:lnTo>
                  <a:lnTo>
                    <a:pt x="33" y="765"/>
                  </a:lnTo>
                  <a:lnTo>
                    <a:pt x="0" y="739"/>
                  </a:lnTo>
                  <a:lnTo>
                    <a:pt x="0" y="616"/>
                  </a:lnTo>
                  <a:lnTo>
                    <a:pt x="78" y="512"/>
                  </a:lnTo>
                  <a:lnTo>
                    <a:pt x="110" y="493"/>
                  </a:lnTo>
                  <a:lnTo>
                    <a:pt x="98" y="421"/>
                  </a:lnTo>
                  <a:lnTo>
                    <a:pt x="149" y="344"/>
                  </a:lnTo>
                  <a:lnTo>
                    <a:pt x="195" y="318"/>
                  </a:lnTo>
                  <a:lnTo>
                    <a:pt x="247" y="220"/>
                  </a:lnTo>
                  <a:lnTo>
                    <a:pt x="279" y="195"/>
                  </a:lnTo>
                  <a:lnTo>
                    <a:pt x="350" y="58"/>
                  </a:lnTo>
                  <a:lnTo>
                    <a:pt x="402" y="58"/>
                  </a:lnTo>
                  <a:lnTo>
                    <a:pt x="409" y="33"/>
                  </a:lnTo>
                  <a:lnTo>
                    <a:pt x="454" y="33"/>
                  </a:lnTo>
                  <a:lnTo>
                    <a:pt x="454" y="20"/>
                  </a:lnTo>
                  <a:lnTo>
                    <a:pt x="454" y="13"/>
                  </a:lnTo>
                  <a:lnTo>
                    <a:pt x="454" y="7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58920" y="1718280"/>
              <a:ext cx="451440" cy="1011960"/>
            </a:xfrm>
            <a:custGeom>
              <a:avLst/>
              <a:gdLst/>
              <a:ahLst/>
              <a:rect l="l" t="t" r="r" b="b"/>
              <a:pathLst>
                <a:path w="337" h="642">
                  <a:moveTo>
                    <a:pt x="285" y="39"/>
                  </a:moveTo>
                  <a:lnTo>
                    <a:pt x="305" y="33"/>
                  </a:lnTo>
                  <a:lnTo>
                    <a:pt x="259" y="0"/>
                  </a:lnTo>
                  <a:lnTo>
                    <a:pt x="214" y="0"/>
                  </a:lnTo>
                  <a:lnTo>
                    <a:pt x="201" y="39"/>
                  </a:lnTo>
                  <a:lnTo>
                    <a:pt x="175" y="59"/>
                  </a:lnTo>
                  <a:lnTo>
                    <a:pt x="97" y="59"/>
                  </a:lnTo>
                  <a:lnTo>
                    <a:pt x="58" y="20"/>
                  </a:lnTo>
                  <a:lnTo>
                    <a:pt x="45" y="39"/>
                  </a:lnTo>
                  <a:lnTo>
                    <a:pt x="52" y="84"/>
                  </a:lnTo>
                  <a:lnTo>
                    <a:pt x="97" y="97"/>
                  </a:lnTo>
                  <a:lnTo>
                    <a:pt x="97" y="247"/>
                  </a:lnTo>
                  <a:lnTo>
                    <a:pt x="136" y="240"/>
                  </a:lnTo>
                  <a:lnTo>
                    <a:pt x="181" y="305"/>
                  </a:lnTo>
                  <a:lnTo>
                    <a:pt x="149" y="318"/>
                  </a:lnTo>
                  <a:lnTo>
                    <a:pt x="13" y="441"/>
                  </a:lnTo>
                  <a:lnTo>
                    <a:pt x="0" y="590"/>
                  </a:lnTo>
                  <a:lnTo>
                    <a:pt x="71" y="642"/>
                  </a:lnTo>
                  <a:lnTo>
                    <a:pt x="162" y="616"/>
                  </a:lnTo>
                  <a:lnTo>
                    <a:pt x="175" y="603"/>
                  </a:lnTo>
                  <a:lnTo>
                    <a:pt x="233" y="590"/>
                  </a:lnTo>
                  <a:lnTo>
                    <a:pt x="305" y="538"/>
                  </a:lnTo>
                  <a:lnTo>
                    <a:pt x="337" y="460"/>
                  </a:lnTo>
                  <a:lnTo>
                    <a:pt x="285" y="234"/>
                  </a:lnTo>
                  <a:lnTo>
                    <a:pt x="305" y="162"/>
                  </a:lnTo>
                  <a:lnTo>
                    <a:pt x="259" y="117"/>
                  </a:lnTo>
                  <a:lnTo>
                    <a:pt x="272" y="78"/>
                  </a:lnTo>
                  <a:lnTo>
                    <a:pt x="285" y="39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1960" y="1576440"/>
              <a:ext cx="1388520" cy="1204200"/>
            </a:xfrm>
            <a:custGeom>
              <a:avLst/>
              <a:gdLst/>
              <a:ahLst/>
              <a:rect l="l" t="t" r="r" b="b"/>
              <a:pathLst>
                <a:path w="1036" h="764">
                  <a:moveTo>
                    <a:pt x="298" y="641"/>
                  </a:moveTo>
                  <a:lnTo>
                    <a:pt x="246" y="725"/>
                  </a:lnTo>
                  <a:lnTo>
                    <a:pt x="226" y="699"/>
                  </a:lnTo>
                  <a:lnTo>
                    <a:pt x="181" y="725"/>
                  </a:lnTo>
                  <a:lnTo>
                    <a:pt x="155" y="706"/>
                  </a:lnTo>
                  <a:lnTo>
                    <a:pt x="116" y="764"/>
                  </a:lnTo>
                  <a:lnTo>
                    <a:pt x="51" y="751"/>
                  </a:lnTo>
                  <a:lnTo>
                    <a:pt x="0" y="725"/>
                  </a:lnTo>
                  <a:lnTo>
                    <a:pt x="19" y="622"/>
                  </a:lnTo>
                  <a:lnTo>
                    <a:pt x="45" y="576"/>
                  </a:lnTo>
                  <a:lnTo>
                    <a:pt x="45" y="557"/>
                  </a:lnTo>
                  <a:lnTo>
                    <a:pt x="123" y="453"/>
                  </a:lnTo>
                  <a:lnTo>
                    <a:pt x="220" y="434"/>
                  </a:lnTo>
                  <a:lnTo>
                    <a:pt x="447" y="285"/>
                  </a:lnTo>
                  <a:lnTo>
                    <a:pt x="453" y="252"/>
                  </a:lnTo>
                  <a:lnTo>
                    <a:pt x="511" y="207"/>
                  </a:lnTo>
                  <a:lnTo>
                    <a:pt x="511" y="174"/>
                  </a:lnTo>
                  <a:lnTo>
                    <a:pt x="563" y="174"/>
                  </a:lnTo>
                  <a:lnTo>
                    <a:pt x="550" y="149"/>
                  </a:lnTo>
                  <a:lnTo>
                    <a:pt x="511" y="162"/>
                  </a:lnTo>
                  <a:lnTo>
                    <a:pt x="531" y="123"/>
                  </a:lnTo>
                  <a:lnTo>
                    <a:pt x="576" y="136"/>
                  </a:lnTo>
                  <a:lnTo>
                    <a:pt x="628" y="84"/>
                  </a:lnTo>
                  <a:lnTo>
                    <a:pt x="706" y="58"/>
                  </a:lnTo>
                  <a:lnTo>
                    <a:pt x="732" y="64"/>
                  </a:lnTo>
                  <a:lnTo>
                    <a:pt x="868" y="0"/>
                  </a:lnTo>
                  <a:lnTo>
                    <a:pt x="835" y="51"/>
                  </a:lnTo>
                  <a:lnTo>
                    <a:pt x="855" y="51"/>
                  </a:lnTo>
                  <a:lnTo>
                    <a:pt x="868" y="25"/>
                  </a:lnTo>
                  <a:lnTo>
                    <a:pt x="894" y="38"/>
                  </a:lnTo>
                  <a:lnTo>
                    <a:pt x="913" y="6"/>
                  </a:lnTo>
                  <a:lnTo>
                    <a:pt x="933" y="6"/>
                  </a:lnTo>
                  <a:lnTo>
                    <a:pt x="933" y="51"/>
                  </a:lnTo>
                  <a:lnTo>
                    <a:pt x="1004" y="38"/>
                  </a:lnTo>
                  <a:lnTo>
                    <a:pt x="1036" y="64"/>
                  </a:lnTo>
                  <a:lnTo>
                    <a:pt x="972" y="84"/>
                  </a:lnTo>
                  <a:lnTo>
                    <a:pt x="1004" y="103"/>
                  </a:lnTo>
                  <a:lnTo>
                    <a:pt x="946" y="123"/>
                  </a:lnTo>
                  <a:lnTo>
                    <a:pt x="933" y="103"/>
                  </a:lnTo>
                  <a:lnTo>
                    <a:pt x="868" y="90"/>
                  </a:lnTo>
                  <a:lnTo>
                    <a:pt x="855" y="129"/>
                  </a:lnTo>
                  <a:lnTo>
                    <a:pt x="829" y="149"/>
                  </a:lnTo>
                  <a:lnTo>
                    <a:pt x="751" y="149"/>
                  </a:lnTo>
                  <a:lnTo>
                    <a:pt x="712" y="110"/>
                  </a:lnTo>
                  <a:lnTo>
                    <a:pt x="680" y="136"/>
                  </a:lnTo>
                  <a:lnTo>
                    <a:pt x="680" y="149"/>
                  </a:lnTo>
                  <a:lnTo>
                    <a:pt x="667" y="162"/>
                  </a:lnTo>
                  <a:lnTo>
                    <a:pt x="635" y="162"/>
                  </a:lnTo>
                  <a:lnTo>
                    <a:pt x="628" y="187"/>
                  </a:lnTo>
                  <a:lnTo>
                    <a:pt x="576" y="187"/>
                  </a:lnTo>
                  <a:lnTo>
                    <a:pt x="505" y="324"/>
                  </a:lnTo>
                  <a:lnTo>
                    <a:pt x="473" y="349"/>
                  </a:lnTo>
                  <a:lnTo>
                    <a:pt x="421" y="447"/>
                  </a:lnTo>
                  <a:lnTo>
                    <a:pt x="362" y="479"/>
                  </a:lnTo>
                  <a:lnTo>
                    <a:pt x="324" y="550"/>
                  </a:lnTo>
                  <a:lnTo>
                    <a:pt x="330" y="622"/>
                  </a:lnTo>
                  <a:lnTo>
                    <a:pt x="311" y="628"/>
                  </a:lnTo>
                  <a:lnTo>
                    <a:pt x="298" y="641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70920" y="1413000"/>
              <a:ext cx="355320" cy="1981080"/>
            </a:xfrm>
            <a:custGeom>
              <a:avLst/>
              <a:gdLst/>
              <a:ahLst/>
              <a:rect l="l" t="t" r="r" b="b"/>
              <a:pathLst>
                <a:path w="265" h="1257">
                  <a:moveTo>
                    <a:pt x="26" y="0"/>
                  </a:moveTo>
                  <a:lnTo>
                    <a:pt x="0" y="6"/>
                  </a:lnTo>
                  <a:lnTo>
                    <a:pt x="233" y="1238"/>
                  </a:lnTo>
                  <a:lnTo>
                    <a:pt x="252" y="1257"/>
                  </a:lnTo>
                  <a:lnTo>
                    <a:pt x="265" y="1238"/>
                  </a:lnTo>
                  <a:lnTo>
                    <a:pt x="149" y="62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20600" y="3506040"/>
              <a:ext cx="60120" cy="72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26"/>
                  </a:moveTo>
                  <a:lnTo>
                    <a:pt x="39" y="0"/>
                  </a:lnTo>
                  <a:lnTo>
                    <a:pt x="13" y="13"/>
                  </a:lnTo>
                  <a:lnTo>
                    <a:pt x="0" y="20"/>
                  </a:lnTo>
                  <a:lnTo>
                    <a:pt x="20" y="26"/>
                  </a:lnTo>
                  <a:lnTo>
                    <a:pt x="0" y="26"/>
                  </a:lnTo>
                  <a:lnTo>
                    <a:pt x="13" y="39"/>
                  </a:lnTo>
                  <a:lnTo>
                    <a:pt x="33" y="46"/>
                  </a:lnTo>
                  <a:lnTo>
                    <a:pt x="39" y="39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20400" y="3915720"/>
              <a:ext cx="3492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3" y="6"/>
                  </a:moveTo>
                  <a:lnTo>
                    <a:pt x="0" y="0"/>
                  </a:lnTo>
                  <a:lnTo>
                    <a:pt x="13" y="25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36680" y="2751120"/>
              <a:ext cx="243720" cy="244080"/>
            </a:xfrm>
            <a:custGeom>
              <a:avLst/>
              <a:gdLst/>
              <a:ahLst/>
              <a:rect l="l" t="t" r="r" b="b"/>
              <a:pathLst>
                <a:path w="182" h="155">
                  <a:moveTo>
                    <a:pt x="98" y="136"/>
                  </a:moveTo>
                  <a:lnTo>
                    <a:pt x="169" y="155"/>
                  </a:lnTo>
                  <a:lnTo>
                    <a:pt x="169" y="136"/>
                  </a:lnTo>
                  <a:lnTo>
                    <a:pt x="175" y="110"/>
                  </a:lnTo>
                  <a:lnTo>
                    <a:pt x="175" y="78"/>
                  </a:lnTo>
                  <a:lnTo>
                    <a:pt x="182" y="52"/>
                  </a:lnTo>
                  <a:lnTo>
                    <a:pt x="182" y="45"/>
                  </a:lnTo>
                  <a:lnTo>
                    <a:pt x="175" y="19"/>
                  </a:lnTo>
                  <a:lnTo>
                    <a:pt x="117" y="0"/>
                  </a:lnTo>
                  <a:lnTo>
                    <a:pt x="39" y="19"/>
                  </a:lnTo>
                  <a:lnTo>
                    <a:pt x="0" y="52"/>
                  </a:lnTo>
                  <a:lnTo>
                    <a:pt x="20" y="97"/>
                  </a:lnTo>
                  <a:lnTo>
                    <a:pt x="52" y="97"/>
                  </a:lnTo>
                  <a:lnTo>
                    <a:pt x="46" y="103"/>
                  </a:lnTo>
                  <a:lnTo>
                    <a:pt x="98" y="123"/>
                  </a:lnTo>
                  <a:lnTo>
                    <a:pt x="98" y="129"/>
                  </a:lnTo>
                  <a:lnTo>
                    <a:pt x="98" y="136"/>
                  </a:lnTo>
                  <a:close/>
                </a:path>
              </a:pathLst>
            </a:custGeom>
            <a:solidFill>
              <a:srgbClr val="66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744680" y="32418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870200"/>
            <a:ext cx="361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Standards has b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33"/>
                </a:solidFill>
                <a:latin typeface="Arial"/>
              </a:rPr>
              <a:t>“</a:t>
            </a:r>
            <a:r>
              <a:rPr b="1" lang="ja-JP" sz="2400" spc="-1" strike="noStrike">
                <a:solidFill>
                  <a:srgbClr val="ffcc33"/>
                </a:solidFill>
                <a:latin typeface="Arial"/>
              </a:rPr>
              <a:t>must”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in Europe for 50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3484440"/>
            <a:ext cx="336600" cy="489240"/>
          </a:xfrm>
          <a:custGeom>
            <a:avLst/>
            <a:gdLst/>
            <a:ahLst/>
            <a:rect l="l" t="t" r="r" b="b"/>
            <a:pathLst>
              <a:path w="233" h="369">
                <a:moveTo>
                  <a:pt x="207" y="149"/>
                </a:moveTo>
                <a:lnTo>
                  <a:pt x="214" y="130"/>
                </a:lnTo>
                <a:lnTo>
                  <a:pt x="227" y="104"/>
                </a:lnTo>
                <a:lnTo>
                  <a:pt x="227" y="97"/>
                </a:lnTo>
                <a:lnTo>
                  <a:pt x="233" y="91"/>
                </a:lnTo>
                <a:lnTo>
                  <a:pt x="233" y="71"/>
                </a:lnTo>
                <a:lnTo>
                  <a:pt x="233" y="52"/>
                </a:lnTo>
                <a:lnTo>
                  <a:pt x="233" y="32"/>
                </a:lnTo>
                <a:lnTo>
                  <a:pt x="227" y="26"/>
                </a:lnTo>
                <a:lnTo>
                  <a:pt x="227" y="19"/>
                </a:lnTo>
                <a:lnTo>
                  <a:pt x="214" y="6"/>
                </a:lnTo>
                <a:lnTo>
                  <a:pt x="207" y="6"/>
                </a:lnTo>
                <a:lnTo>
                  <a:pt x="201" y="0"/>
                </a:lnTo>
                <a:lnTo>
                  <a:pt x="175" y="0"/>
                </a:lnTo>
                <a:lnTo>
                  <a:pt x="156" y="0"/>
                </a:lnTo>
                <a:lnTo>
                  <a:pt x="26" y="6"/>
                </a:lnTo>
                <a:lnTo>
                  <a:pt x="0" y="91"/>
                </a:lnTo>
                <a:lnTo>
                  <a:pt x="19" y="207"/>
                </a:lnTo>
                <a:lnTo>
                  <a:pt x="32" y="363"/>
                </a:lnTo>
                <a:lnTo>
                  <a:pt x="45" y="363"/>
                </a:lnTo>
                <a:lnTo>
                  <a:pt x="52" y="369"/>
                </a:lnTo>
                <a:lnTo>
                  <a:pt x="71" y="363"/>
                </a:lnTo>
                <a:lnTo>
                  <a:pt x="71" y="350"/>
                </a:lnTo>
                <a:lnTo>
                  <a:pt x="71" y="330"/>
                </a:lnTo>
                <a:lnTo>
                  <a:pt x="78" y="317"/>
                </a:lnTo>
                <a:lnTo>
                  <a:pt x="149" y="227"/>
                </a:lnTo>
                <a:lnTo>
                  <a:pt x="156" y="175"/>
                </a:lnTo>
                <a:lnTo>
                  <a:pt x="181" y="162"/>
                </a:lnTo>
                <a:lnTo>
                  <a:pt x="207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3475080"/>
            <a:ext cx="336600" cy="498600"/>
          </a:xfrm>
          <a:custGeom>
            <a:avLst/>
            <a:gdLst/>
            <a:ahLst/>
            <a:rect l="l" t="t" r="r" b="b"/>
            <a:pathLst>
              <a:path w="233" h="376">
                <a:moveTo>
                  <a:pt x="227" y="137"/>
                </a:moveTo>
                <a:lnTo>
                  <a:pt x="227" y="111"/>
                </a:lnTo>
                <a:lnTo>
                  <a:pt x="233" y="98"/>
                </a:lnTo>
                <a:lnTo>
                  <a:pt x="233" y="78"/>
                </a:lnTo>
                <a:lnTo>
                  <a:pt x="233" y="59"/>
                </a:lnTo>
                <a:lnTo>
                  <a:pt x="233" y="39"/>
                </a:lnTo>
                <a:lnTo>
                  <a:pt x="233" y="33"/>
                </a:lnTo>
                <a:lnTo>
                  <a:pt x="227" y="13"/>
                </a:lnTo>
                <a:lnTo>
                  <a:pt x="214" y="13"/>
                </a:lnTo>
                <a:lnTo>
                  <a:pt x="207" y="7"/>
                </a:lnTo>
                <a:lnTo>
                  <a:pt x="201" y="7"/>
                </a:lnTo>
                <a:lnTo>
                  <a:pt x="175" y="0"/>
                </a:lnTo>
                <a:lnTo>
                  <a:pt x="156" y="0"/>
                </a:lnTo>
                <a:lnTo>
                  <a:pt x="26" y="13"/>
                </a:lnTo>
                <a:lnTo>
                  <a:pt x="0" y="98"/>
                </a:lnTo>
                <a:lnTo>
                  <a:pt x="19" y="214"/>
                </a:lnTo>
                <a:lnTo>
                  <a:pt x="32" y="370"/>
                </a:lnTo>
                <a:lnTo>
                  <a:pt x="45" y="376"/>
                </a:lnTo>
                <a:lnTo>
                  <a:pt x="52" y="376"/>
                </a:lnTo>
                <a:lnTo>
                  <a:pt x="78" y="376"/>
                </a:lnTo>
                <a:lnTo>
                  <a:pt x="78" y="357"/>
                </a:lnTo>
                <a:lnTo>
                  <a:pt x="71" y="350"/>
                </a:lnTo>
                <a:lnTo>
                  <a:pt x="78" y="324"/>
                </a:lnTo>
                <a:lnTo>
                  <a:pt x="149" y="234"/>
                </a:lnTo>
                <a:lnTo>
                  <a:pt x="156" y="188"/>
                </a:lnTo>
                <a:lnTo>
                  <a:pt x="207" y="156"/>
                </a:lnTo>
                <a:lnTo>
                  <a:pt x="227" y="137"/>
                </a:lnTo>
                <a:lnTo>
                  <a:pt x="214" y="137"/>
                </a:lnTo>
                <a:lnTo>
                  <a:pt x="207" y="156"/>
                </a:lnTo>
                <a:lnTo>
                  <a:pt x="156" y="182"/>
                </a:lnTo>
                <a:lnTo>
                  <a:pt x="149" y="234"/>
                </a:lnTo>
                <a:lnTo>
                  <a:pt x="78" y="324"/>
                </a:lnTo>
                <a:lnTo>
                  <a:pt x="71" y="337"/>
                </a:lnTo>
                <a:lnTo>
                  <a:pt x="71" y="357"/>
                </a:lnTo>
                <a:lnTo>
                  <a:pt x="71" y="370"/>
                </a:lnTo>
                <a:lnTo>
                  <a:pt x="52" y="370"/>
                </a:lnTo>
                <a:lnTo>
                  <a:pt x="45" y="370"/>
                </a:lnTo>
                <a:lnTo>
                  <a:pt x="32" y="370"/>
                </a:lnTo>
                <a:lnTo>
                  <a:pt x="19" y="214"/>
                </a:lnTo>
                <a:lnTo>
                  <a:pt x="6" y="98"/>
                </a:lnTo>
                <a:lnTo>
                  <a:pt x="26" y="13"/>
                </a:lnTo>
                <a:lnTo>
                  <a:pt x="156" y="7"/>
                </a:lnTo>
                <a:lnTo>
                  <a:pt x="175" y="7"/>
                </a:lnTo>
                <a:lnTo>
                  <a:pt x="201" y="13"/>
                </a:lnTo>
                <a:lnTo>
                  <a:pt x="207" y="13"/>
                </a:lnTo>
                <a:lnTo>
                  <a:pt x="214" y="13"/>
                </a:lnTo>
                <a:lnTo>
                  <a:pt x="214" y="26"/>
                </a:lnTo>
                <a:lnTo>
                  <a:pt x="227" y="33"/>
                </a:lnTo>
                <a:lnTo>
                  <a:pt x="233" y="52"/>
                </a:lnTo>
                <a:lnTo>
                  <a:pt x="233" y="59"/>
                </a:lnTo>
                <a:lnTo>
                  <a:pt x="233" y="78"/>
                </a:lnTo>
                <a:lnTo>
                  <a:pt x="227" y="98"/>
                </a:lnTo>
                <a:lnTo>
                  <a:pt x="227" y="104"/>
                </a:lnTo>
                <a:lnTo>
                  <a:pt x="214" y="111"/>
                </a:lnTo>
                <a:lnTo>
                  <a:pt x="214" y="137"/>
                </a:lnTo>
                <a:lnTo>
                  <a:pt x="220" y="137"/>
                </a:lnTo>
                <a:lnTo>
                  <a:pt x="227" y="137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9880" y="3870360"/>
            <a:ext cx="412560" cy="198360"/>
          </a:xfrm>
          <a:custGeom>
            <a:avLst/>
            <a:gdLst/>
            <a:ahLst/>
            <a:rect l="l" t="t" r="r" b="b"/>
            <a:pathLst>
              <a:path w="285" h="149">
                <a:moveTo>
                  <a:pt x="0" y="58"/>
                </a:moveTo>
                <a:lnTo>
                  <a:pt x="0" y="38"/>
                </a:lnTo>
                <a:lnTo>
                  <a:pt x="143" y="0"/>
                </a:lnTo>
                <a:lnTo>
                  <a:pt x="240" y="6"/>
                </a:lnTo>
                <a:lnTo>
                  <a:pt x="253" y="6"/>
                </a:lnTo>
                <a:lnTo>
                  <a:pt x="260" y="6"/>
                </a:lnTo>
                <a:lnTo>
                  <a:pt x="266" y="6"/>
                </a:lnTo>
                <a:lnTo>
                  <a:pt x="279" y="6"/>
                </a:lnTo>
                <a:lnTo>
                  <a:pt x="285" y="6"/>
                </a:lnTo>
                <a:lnTo>
                  <a:pt x="285" y="12"/>
                </a:lnTo>
                <a:lnTo>
                  <a:pt x="285" y="25"/>
                </a:lnTo>
                <a:lnTo>
                  <a:pt x="285" y="58"/>
                </a:lnTo>
                <a:lnTo>
                  <a:pt x="188" y="136"/>
                </a:lnTo>
                <a:lnTo>
                  <a:pt x="110" y="149"/>
                </a:lnTo>
                <a:lnTo>
                  <a:pt x="104" y="129"/>
                </a:lnTo>
                <a:lnTo>
                  <a:pt x="104" y="123"/>
                </a:lnTo>
                <a:lnTo>
                  <a:pt x="52" y="84"/>
                </a:lnTo>
                <a:lnTo>
                  <a:pt x="0" y="71"/>
                </a:lnTo>
                <a:lnTo>
                  <a:pt x="0" y="64"/>
                </a:lnTo>
                <a:lnTo>
                  <a:pt x="0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89880" y="3870360"/>
            <a:ext cx="412560" cy="198360"/>
          </a:xfrm>
          <a:custGeom>
            <a:avLst/>
            <a:gdLst/>
            <a:ahLst/>
            <a:rect l="l" t="t" r="r" b="b"/>
            <a:pathLst>
              <a:path w="285" h="149">
                <a:moveTo>
                  <a:pt x="7" y="51"/>
                </a:moveTo>
                <a:lnTo>
                  <a:pt x="143" y="0"/>
                </a:lnTo>
                <a:lnTo>
                  <a:pt x="240" y="6"/>
                </a:lnTo>
                <a:lnTo>
                  <a:pt x="253" y="6"/>
                </a:lnTo>
                <a:lnTo>
                  <a:pt x="260" y="6"/>
                </a:lnTo>
                <a:lnTo>
                  <a:pt x="266" y="6"/>
                </a:lnTo>
                <a:lnTo>
                  <a:pt x="279" y="6"/>
                </a:lnTo>
                <a:lnTo>
                  <a:pt x="285" y="6"/>
                </a:lnTo>
                <a:lnTo>
                  <a:pt x="285" y="12"/>
                </a:lnTo>
                <a:lnTo>
                  <a:pt x="285" y="25"/>
                </a:lnTo>
                <a:lnTo>
                  <a:pt x="285" y="58"/>
                </a:lnTo>
                <a:lnTo>
                  <a:pt x="188" y="136"/>
                </a:lnTo>
                <a:lnTo>
                  <a:pt x="110" y="149"/>
                </a:lnTo>
                <a:lnTo>
                  <a:pt x="104" y="129"/>
                </a:lnTo>
                <a:lnTo>
                  <a:pt x="104" y="123"/>
                </a:lnTo>
                <a:lnTo>
                  <a:pt x="52" y="84"/>
                </a:lnTo>
                <a:lnTo>
                  <a:pt x="7" y="58"/>
                </a:lnTo>
                <a:lnTo>
                  <a:pt x="7" y="51"/>
                </a:lnTo>
                <a:lnTo>
                  <a:pt x="0" y="38"/>
                </a:lnTo>
                <a:lnTo>
                  <a:pt x="0" y="58"/>
                </a:lnTo>
                <a:lnTo>
                  <a:pt x="0" y="71"/>
                </a:lnTo>
                <a:lnTo>
                  <a:pt x="39" y="84"/>
                </a:lnTo>
                <a:lnTo>
                  <a:pt x="104" y="123"/>
                </a:lnTo>
                <a:lnTo>
                  <a:pt x="104" y="129"/>
                </a:lnTo>
                <a:lnTo>
                  <a:pt x="104" y="149"/>
                </a:lnTo>
                <a:lnTo>
                  <a:pt x="188" y="149"/>
                </a:lnTo>
                <a:lnTo>
                  <a:pt x="285" y="58"/>
                </a:lnTo>
                <a:lnTo>
                  <a:pt x="285" y="25"/>
                </a:lnTo>
                <a:lnTo>
                  <a:pt x="285" y="6"/>
                </a:lnTo>
                <a:lnTo>
                  <a:pt x="279" y="6"/>
                </a:lnTo>
                <a:lnTo>
                  <a:pt x="266" y="6"/>
                </a:lnTo>
                <a:lnTo>
                  <a:pt x="260" y="6"/>
                </a:lnTo>
                <a:lnTo>
                  <a:pt x="253" y="6"/>
                </a:lnTo>
                <a:lnTo>
                  <a:pt x="240" y="6"/>
                </a:lnTo>
                <a:lnTo>
                  <a:pt x="143" y="0"/>
                </a:lnTo>
                <a:lnTo>
                  <a:pt x="0" y="38"/>
                </a:lnTo>
                <a:lnTo>
                  <a:pt x="0" y="45"/>
                </a:lnTo>
                <a:lnTo>
                  <a:pt x="7" y="51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81960" y="3630600"/>
            <a:ext cx="392040" cy="290520"/>
          </a:xfrm>
          <a:custGeom>
            <a:avLst/>
            <a:gdLst/>
            <a:ahLst/>
            <a:rect l="l" t="t" r="r" b="b"/>
            <a:pathLst>
              <a:path w="272" h="220">
                <a:moveTo>
                  <a:pt x="26" y="220"/>
                </a:moveTo>
                <a:lnTo>
                  <a:pt x="6" y="220"/>
                </a:lnTo>
                <a:lnTo>
                  <a:pt x="0" y="220"/>
                </a:lnTo>
                <a:lnTo>
                  <a:pt x="0" y="207"/>
                </a:lnTo>
                <a:lnTo>
                  <a:pt x="0" y="201"/>
                </a:lnTo>
                <a:lnTo>
                  <a:pt x="78" y="117"/>
                </a:lnTo>
                <a:lnTo>
                  <a:pt x="78" y="104"/>
                </a:lnTo>
                <a:lnTo>
                  <a:pt x="78" y="97"/>
                </a:lnTo>
                <a:lnTo>
                  <a:pt x="78" y="84"/>
                </a:lnTo>
                <a:lnTo>
                  <a:pt x="78" y="78"/>
                </a:lnTo>
                <a:lnTo>
                  <a:pt x="78" y="71"/>
                </a:lnTo>
                <a:lnTo>
                  <a:pt x="84" y="58"/>
                </a:lnTo>
                <a:lnTo>
                  <a:pt x="97" y="52"/>
                </a:lnTo>
                <a:lnTo>
                  <a:pt x="104" y="45"/>
                </a:lnTo>
                <a:lnTo>
                  <a:pt x="123" y="32"/>
                </a:lnTo>
                <a:lnTo>
                  <a:pt x="136" y="20"/>
                </a:lnTo>
                <a:lnTo>
                  <a:pt x="149" y="20"/>
                </a:lnTo>
                <a:lnTo>
                  <a:pt x="175" y="7"/>
                </a:lnTo>
                <a:lnTo>
                  <a:pt x="194" y="0"/>
                </a:lnTo>
                <a:lnTo>
                  <a:pt x="207" y="0"/>
                </a:lnTo>
                <a:lnTo>
                  <a:pt x="227" y="0"/>
                </a:lnTo>
                <a:lnTo>
                  <a:pt x="246" y="0"/>
                </a:lnTo>
                <a:lnTo>
                  <a:pt x="253" y="7"/>
                </a:lnTo>
                <a:lnTo>
                  <a:pt x="259" y="20"/>
                </a:lnTo>
                <a:lnTo>
                  <a:pt x="272" y="20"/>
                </a:lnTo>
                <a:lnTo>
                  <a:pt x="272" y="45"/>
                </a:lnTo>
                <a:lnTo>
                  <a:pt x="272" y="32"/>
                </a:lnTo>
                <a:lnTo>
                  <a:pt x="253" y="32"/>
                </a:lnTo>
                <a:lnTo>
                  <a:pt x="246" y="32"/>
                </a:lnTo>
                <a:lnTo>
                  <a:pt x="227" y="32"/>
                </a:lnTo>
                <a:lnTo>
                  <a:pt x="220" y="32"/>
                </a:lnTo>
                <a:lnTo>
                  <a:pt x="201" y="32"/>
                </a:lnTo>
                <a:lnTo>
                  <a:pt x="181" y="45"/>
                </a:lnTo>
                <a:lnTo>
                  <a:pt x="162" y="52"/>
                </a:lnTo>
                <a:lnTo>
                  <a:pt x="149" y="52"/>
                </a:lnTo>
                <a:lnTo>
                  <a:pt x="129" y="58"/>
                </a:lnTo>
                <a:lnTo>
                  <a:pt x="104" y="78"/>
                </a:lnTo>
                <a:lnTo>
                  <a:pt x="104" y="84"/>
                </a:lnTo>
                <a:lnTo>
                  <a:pt x="97" y="97"/>
                </a:lnTo>
                <a:lnTo>
                  <a:pt x="84" y="97"/>
                </a:lnTo>
                <a:lnTo>
                  <a:pt x="97" y="117"/>
                </a:lnTo>
                <a:lnTo>
                  <a:pt x="97" y="123"/>
                </a:lnTo>
                <a:lnTo>
                  <a:pt x="84" y="123"/>
                </a:lnTo>
                <a:lnTo>
                  <a:pt x="58" y="169"/>
                </a:lnTo>
                <a:lnTo>
                  <a:pt x="26" y="220"/>
                </a:lnTo>
                <a:close/>
              </a:path>
            </a:pathLst>
          </a:custGeom>
          <a:solidFill>
            <a:srgbClr val="ff7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1960" y="3886200"/>
            <a:ext cx="411120" cy="208080"/>
          </a:xfrm>
          <a:custGeom>
            <a:avLst/>
            <a:gdLst/>
            <a:ahLst/>
            <a:rect l="l" t="t" r="r" b="b"/>
            <a:pathLst>
              <a:path w="285" h="156">
                <a:moveTo>
                  <a:pt x="0" y="52"/>
                </a:moveTo>
                <a:lnTo>
                  <a:pt x="0" y="33"/>
                </a:lnTo>
                <a:lnTo>
                  <a:pt x="104" y="78"/>
                </a:lnTo>
                <a:lnTo>
                  <a:pt x="104" y="85"/>
                </a:lnTo>
                <a:lnTo>
                  <a:pt x="104" y="104"/>
                </a:lnTo>
                <a:lnTo>
                  <a:pt x="104" y="111"/>
                </a:lnTo>
                <a:lnTo>
                  <a:pt x="110" y="111"/>
                </a:lnTo>
                <a:lnTo>
                  <a:pt x="123" y="111"/>
                </a:lnTo>
                <a:lnTo>
                  <a:pt x="129" y="111"/>
                </a:lnTo>
                <a:lnTo>
                  <a:pt x="136" y="111"/>
                </a:lnTo>
                <a:lnTo>
                  <a:pt x="175" y="104"/>
                </a:lnTo>
                <a:lnTo>
                  <a:pt x="207" y="85"/>
                </a:lnTo>
                <a:lnTo>
                  <a:pt x="227" y="78"/>
                </a:lnTo>
                <a:lnTo>
                  <a:pt x="246" y="59"/>
                </a:lnTo>
                <a:lnTo>
                  <a:pt x="259" y="52"/>
                </a:lnTo>
                <a:lnTo>
                  <a:pt x="272" y="39"/>
                </a:lnTo>
                <a:lnTo>
                  <a:pt x="285" y="26"/>
                </a:lnTo>
                <a:lnTo>
                  <a:pt x="285" y="13"/>
                </a:lnTo>
                <a:lnTo>
                  <a:pt x="285" y="7"/>
                </a:lnTo>
                <a:lnTo>
                  <a:pt x="285" y="0"/>
                </a:lnTo>
                <a:lnTo>
                  <a:pt x="285" y="39"/>
                </a:lnTo>
                <a:lnTo>
                  <a:pt x="285" y="52"/>
                </a:lnTo>
                <a:lnTo>
                  <a:pt x="278" y="72"/>
                </a:lnTo>
                <a:lnTo>
                  <a:pt x="272" y="85"/>
                </a:lnTo>
                <a:lnTo>
                  <a:pt x="253" y="98"/>
                </a:lnTo>
                <a:lnTo>
                  <a:pt x="233" y="111"/>
                </a:lnTo>
                <a:lnTo>
                  <a:pt x="207" y="124"/>
                </a:lnTo>
                <a:lnTo>
                  <a:pt x="201" y="130"/>
                </a:lnTo>
                <a:lnTo>
                  <a:pt x="181" y="137"/>
                </a:lnTo>
                <a:lnTo>
                  <a:pt x="155" y="150"/>
                </a:lnTo>
                <a:lnTo>
                  <a:pt x="136" y="156"/>
                </a:lnTo>
                <a:lnTo>
                  <a:pt x="123" y="156"/>
                </a:lnTo>
                <a:lnTo>
                  <a:pt x="110" y="156"/>
                </a:lnTo>
                <a:lnTo>
                  <a:pt x="104" y="150"/>
                </a:lnTo>
                <a:lnTo>
                  <a:pt x="97" y="137"/>
                </a:lnTo>
                <a:lnTo>
                  <a:pt x="97" y="111"/>
                </a:lnTo>
                <a:lnTo>
                  <a:pt x="45" y="85"/>
                </a:lnTo>
                <a:lnTo>
                  <a:pt x="6" y="59"/>
                </a:lnTo>
                <a:lnTo>
                  <a:pt x="0" y="52"/>
                </a:lnTo>
                <a:close/>
              </a:path>
            </a:pathLst>
          </a:custGeom>
          <a:solidFill>
            <a:srgbClr val="ff7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80400" y="3630600"/>
            <a:ext cx="93600" cy="58680"/>
          </a:xfrm>
          <a:custGeom>
            <a:avLst/>
            <a:gdLst/>
            <a:ahLst/>
            <a:rect l="l" t="t" r="r" b="b"/>
            <a:pathLst>
              <a:path w="65" h="45">
                <a:moveTo>
                  <a:pt x="39" y="20"/>
                </a:moveTo>
                <a:lnTo>
                  <a:pt x="65" y="45"/>
                </a:lnTo>
                <a:lnTo>
                  <a:pt x="65" y="20"/>
                </a:lnTo>
                <a:lnTo>
                  <a:pt x="52" y="7"/>
                </a:lnTo>
                <a:lnTo>
                  <a:pt x="46" y="7"/>
                </a:lnTo>
                <a:lnTo>
                  <a:pt x="46" y="0"/>
                </a:lnTo>
                <a:lnTo>
                  <a:pt x="39" y="0"/>
                </a:lnTo>
                <a:lnTo>
                  <a:pt x="26" y="0"/>
                </a:lnTo>
                <a:lnTo>
                  <a:pt x="20" y="0"/>
                </a:lnTo>
                <a:lnTo>
                  <a:pt x="13" y="0"/>
                </a:lnTo>
                <a:lnTo>
                  <a:pt x="0" y="0"/>
                </a:lnTo>
                <a:lnTo>
                  <a:pt x="0" y="7"/>
                </a:lnTo>
                <a:lnTo>
                  <a:pt x="20" y="20"/>
                </a:lnTo>
                <a:lnTo>
                  <a:pt x="26" y="20"/>
                </a:lnTo>
                <a:lnTo>
                  <a:pt x="39" y="20"/>
                </a:lnTo>
                <a:close/>
              </a:path>
            </a:pathLst>
          </a:custGeom>
          <a:solidFill>
            <a:srgbClr val="ff7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1320" y="3630600"/>
            <a:ext cx="37800" cy="25560"/>
          </a:xfrm>
          <a:custGeom>
            <a:avLst/>
            <a:gdLst/>
            <a:ahLst/>
            <a:rect l="l" t="t" r="r" b="b"/>
            <a:pathLst>
              <a:path w="26" h="20">
                <a:moveTo>
                  <a:pt x="13" y="20"/>
                </a:moveTo>
                <a:lnTo>
                  <a:pt x="26" y="0"/>
                </a:lnTo>
                <a:lnTo>
                  <a:pt x="13" y="0"/>
                </a:lnTo>
                <a:lnTo>
                  <a:pt x="7" y="0"/>
                </a:lnTo>
                <a:lnTo>
                  <a:pt x="0" y="7"/>
                </a:lnTo>
                <a:lnTo>
                  <a:pt x="7" y="20"/>
                </a:lnTo>
                <a:lnTo>
                  <a:pt x="13" y="20"/>
                </a:lnTo>
                <a:close/>
              </a:path>
            </a:pathLst>
          </a:custGeom>
          <a:solidFill>
            <a:srgbClr val="ff7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032440" y="3381480"/>
            <a:ext cx="2894040" cy="1431720"/>
            <a:chOff x="5032440" y="3381480"/>
            <a:chExt cx="2894040" cy="1431720"/>
          </a:xfrm>
        </p:grpSpPr>
        <p:grpSp>
          <p:nvGrpSpPr>
            <p:cNvPr id="154" name=""/>
            <p:cNvGrpSpPr/>
            <p:nvPr/>
          </p:nvGrpSpPr>
          <p:grpSpPr>
            <a:xfrm>
              <a:off x="5257800" y="3706920"/>
              <a:ext cx="992160" cy="755280"/>
              <a:chOff x="5257800" y="3706920"/>
              <a:chExt cx="992160" cy="75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556600" y="3750120"/>
                <a:ext cx="448920" cy="574200"/>
              </a:xfrm>
              <a:custGeom>
                <a:avLst/>
                <a:gdLst/>
                <a:ahLst/>
                <a:rect l="l" t="t" r="r" b="b"/>
                <a:pathLst>
                  <a:path w="311" h="434">
                    <a:moveTo>
                      <a:pt x="279" y="175"/>
                    </a:moveTo>
                    <a:lnTo>
                      <a:pt x="292" y="162"/>
                    </a:lnTo>
                    <a:lnTo>
                      <a:pt x="305" y="129"/>
                    </a:lnTo>
                    <a:lnTo>
                      <a:pt x="305" y="116"/>
                    </a:lnTo>
                    <a:lnTo>
                      <a:pt x="305" y="103"/>
                    </a:lnTo>
                    <a:lnTo>
                      <a:pt x="311" y="91"/>
                    </a:lnTo>
                    <a:lnTo>
                      <a:pt x="311" y="71"/>
                    </a:lnTo>
                    <a:lnTo>
                      <a:pt x="311" y="45"/>
                    </a:lnTo>
                    <a:lnTo>
                      <a:pt x="305" y="39"/>
                    </a:lnTo>
                    <a:lnTo>
                      <a:pt x="292" y="26"/>
                    </a:lnTo>
                    <a:lnTo>
                      <a:pt x="285" y="19"/>
                    </a:lnTo>
                    <a:lnTo>
                      <a:pt x="279" y="6"/>
                    </a:lnTo>
                    <a:lnTo>
                      <a:pt x="259" y="6"/>
                    </a:lnTo>
                    <a:lnTo>
                      <a:pt x="233" y="6"/>
                    </a:lnTo>
                    <a:lnTo>
                      <a:pt x="208" y="0"/>
                    </a:lnTo>
                    <a:lnTo>
                      <a:pt x="33" y="19"/>
                    </a:lnTo>
                    <a:lnTo>
                      <a:pt x="0" y="103"/>
                    </a:lnTo>
                    <a:lnTo>
                      <a:pt x="26" y="253"/>
                    </a:lnTo>
                    <a:lnTo>
                      <a:pt x="39" y="421"/>
                    </a:lnTo>
                    <a:lnTo>
                      <a:pt x="58" y="421"/>
                    </a:lnTo>
                    <a:lnTo>
                      <a:pt x="65" y="434"/>
                    </a:lnTo>
                    <a:lnTo>
                      <a:pt x="97" y="421"/>
                    </a:lnTo>
                    <a:lnTo>
                      <a:pt x="97" y="415"/>
                    </a:lnTo>
                    <a:lnTo>
                      <a:pt x="97" y="395"/>
                    </a:lnTo>
                    <a:lnTo>
                      <a:pt x="104" y="376"/>
                    </a:lnTo>
                    <a:lnTo>
                      <a:pt x="201" y="272"/>
                    </a:lnTo>
                    <a:lnTo>
                      <a:pt x="214" y="214"/>
                    </a:lnTo>
                    <a:lnTo>
                      <a:pt x="246" y="194"/>
                    </a:lnTo>
                    <a:lnTo>
                      <a:pt x="279" y="1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56600" y="3750120"/>
                <a:ext cx="459000" cy="574200"/>
              </a:xfrm>
              <a:custGeom>
                <a:avLst/>
                <a:gdLst/>
                <a:ahLst/>
                <a:rect l="l" t="t" r="r" b="b"/>
                <a:pathLst>
                  <a:path w="318" h="434">
                    <a:moveTo>
                      <a:pt x="305" y="162"/>
                    </a:moveTo>
                    <a:lnTo>
                      <a:pt x="305" y="129"/>
                    </a:lnTo>
                    <a:lnTo>
                      <a:pt x="305" y="116"/>
                    </a:lnTo>
                    <a:lnTo>
                      <a:pt x="305" y="103"/>
                    </a:lnTo>
                    <a:lnTo>
                      <a:pt x="311" y="91"/>
                    </a:lnTo>
                    <a:lnTo>
                      <a:pt x="318" y="71"/>
                    </a:lnTo>
                    <a:lnTo>
                      <a:pt x="311" y="45"/>
                    </a:lnTo>
                    <a:lnTo>
                      <a:pt x="305" y="26"/>
                    </a:lnTo>
                    <a:lnTo>
                      <a:pt x="285" y="6"/>
                    </a:lnTo>
                    <a:lnTo>
                      <a:pt x="279" y="6"/>
                    </a:lnTo>
                    <a:lnTo>
                      <a:pt x="259" y="6"/>
                    </a:lnTo>
                    <a:lnTo>
                      <a:pt x="233" y="0"/>
                    </a:lnTo>
                    <a:lnTo>
                      <a:pt x="208" y="0"/>
                    </a:lnTo>
                    <a:lnTo>
                      <a:pt x="26" y="6"/>
                    </a:lnTo>
                    <a:lnTo>
                      <a:pt x="0" y="103"/>
                    </a:lnTo>
                    <a:lnTo>
                      <a:pt x="26" y="253"/>
                    </a:lnTo>
                    <a:lnTo>
                      <a:pt x="39" y="421"/>
                    </a:lnTo>
                    <a:lnTo>
                      <a:pt x="58" y="434"/>
                    </a:lnTo>
                    <a:lnTo>
                      <a:pt x="104" y="434"/>
                    </a:lnTo>
                    <a:lnTo>
                      <a:pt x="97" y="415"/>
                    </a:lnTo>
                    <a:lnTo>
                      <a:pt x="97" y="395"/>
                    </a:lnTo>
                    <a:lnTo>
                      <a:pt x="104" y="376"/>
                    </a:lnTo>
                    <a:lnTo>
                      <a:pt x="201" y="272"/>
                    </a:lnTo>
                    <a:lnTo>
                      <a:pt x="214" y="220"/>
                    </a:lnTo>
                    <a:lnTo>
                      <a:pt x="279" y="175"/>
                    </a:lnTo>
                    <a:lnTo>
                      <a:pt x="305" y="162"/>
                    </a:lnTo>
                    <a:lnTo>
                      <a:pt x="292" y="162"/>
                    </a:lnTo>
                    <a:lnTo>
                      <a:pt x="279" y="175"/>
                    </a:lnTo>
                    <a:lnTo>
                      <a:pt x="208" y="214"/>
                    </a:lnTo>
                    <a:lnTo>
                      <a:pt x="201" y="272"/>
                    </a:lnTo>
                    <a:lnTo>
                      <a:pt x="104" y="376"/>
                    </a:lnTo>
                    <a:lnTo>
                      <a:pt x="84" y="395"/>
                    </a:lnTo>
                    <a:lnTo>
                      <a:pt x="84" y="415"/>
                    </a:lnTo>
                    <a:lnTo>
                      <a:pt x="97" y="421"/>
                    </a:lnTo>
                    <a:lnTo>
                      <a:pt x="65" y="421"/>
                    </a:lnTo>
                    <a:lnTo>
                      <a:pt x="58" y="421"/>
                    </a:lnTo>
                    <a:lnTo>
                      <a:pt x="39" y="415"/>
                    </a:lnTo>
                    <a:lnTo>
                      <a:pt x="26" y="253"/>
                    </a:lnTo>
                    <a:lnTo>
                      <a:pt x="0" y="103"/>
                    </a:lnTo>
                    <a:lnTo>
                      <a:pt x="33" y="19"/>
                    </a:lnTo>
                    <a:lnTo>
                      <a:pt x="208" y="6"/>
                    </a:lnTo>
                    <a:lnTo>
                      <a:pt x="233" y="6"/>
                    </a:lnTo>
                    <a:lnTo>
                      <a:pt x="259" y="6"/>
                    </a:lnTo>
                    <a:lnTo>
                      <a:pt x="279" y="6"/>
                    </a:lnTo>
                    <a:lnTo>
                      <a:pt x="285" y="19"/>
                    </a:lnTo>
                    <a:lnTo>
                      <a:pt x="292" y="26"/>
                    </a:lnTo>
                    <a:lnTo>
                      <a:pt x="305" y="39"/>
                    </a:lnTo>
                    <a:lnTo>
                      <a:pt x="305" y="52"/>
                    </a:lnTo>
                    <a:lnTo>
                      <a:pt x="311" y="71"/>
                    </a:lnTo>
                    <a:lnTo>
                      <a:pt x="305" y="91"/>
                    </a:lnTo>
                    <a:lnTo>
                      <a:pt x="305" y="103"/>
                    </a:lnTo>
                    <a:lnTo>
                      <a:pt x="292" y="116"/>
                    </a:lnTo>
                    <a:lnTo>
                      <a:pt x="292" y="129"/>
                    </a:lnTo>
                    <a:lnTo>
                      <a:pt x="292" y="162"/>
                    </a:lnTo>
                    <a:lnTo>
                      <a:pt x="298" y="162"/>
                    </a:lnTo>
                    <a:lnTo>
                      <a:pt x="305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96640" y="4196160"/>
                <a:ext cx="552960" cy="239760"/>
              </a:xfrm>
              <a:custGeom>
                <a:avLst/>
                <a:gdLst/>
                <a:ahLst/>
                <a:rect l="l" t="t" r="r" b="b"/>
                <a:pathLst>
                  <a:path w="383" h="181">
                    <a:moveTo>
                      <a:pt x="0" y="78"/>
                    </a:moveTo>
                    <a:lnTo>
                      <a:pt x="0" y="58"/>
                    </a:lnTo>
                    <a:lnTo>
                      <a:pt x="195" y="0"/>
                    </a:lnTo>
                    <a:lnTo>
                      <a:pt x="195" y="6"/>
                    </a:lnTo>
                    <a:lnTo>
                      <a:pt x="318" y="13"/>
                    </a:lnTo>
                    <a:lnTo>
                      <a:pt x="331" y="13"/>
                    </a:lnTo>
                    <a:lnTo>
                      <a:pt x="344" y="13"/>
                    </a:lnTo>
                    <a:lnTo>
                      <a:pt x="357" y="13"/>
                    </a:lnTo>
                    <a:lnTo>
                      <a:pt x="363" y="13"/>
                    </a:lnTo>
                    <a:lnTo>
                      <a:pt x="383" y="13"/>
                    </a:lnTo>
                    <a:lnTo>
                      <a:pt x="383" y="26"/>
                    </a:lnTo>
                    <a:lnTo>
                      <a:pt x="383" y="78"/>
                    </a:lnTo>
                    <a:lnTo>
                      <a:pt x="247" y="162"/>
                    </a:lnTo>
                    <a:lnTo>
                      <a:pt x="143" y="181"/>
                    </a:lnTo>
                    <a:lnTo>
                      <a:pt x="136" y="149"/>
                    </a:lnTo>
                    <a:lnTo>
                      <a:pt x="130" y="149"/>
                    </a:lnTo>
                    <a:lnTo>
                      <a:pt x="59" y="10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77920" y="4196160"/>
                <a:ext cx="572040" cy="239760"/>
              </a:xfrm>
              <a:custGeom>
                <a:avLst/>
                <a:gdLst/>
                <a:ahLst/>
                <a:rect l="l" t="t" r="r" b="b"/>
                <a:pathLst>
                  <a:path w="396" h="181">
                    <a:moveTo>
                      <a:pt x="13" y="58"/>
                    </a:moveTo>
                    <a:lnTo>
                      <a:pt x="208" y="6"/>
                    </a:lnTo>
                    <a:lnTo>
                      <a:pt x="331" y="26"/>
                    </a:lnTo>
                    <a:lnTo>
                      <a:pt x="344" y="13"/>
                    </a:lnTo>
                    <a:lnTo>
                      <a:pt x="357" y="13"/>
                    </a:lnTo>
                    <a:lnTo>
                      <a:pt x="370" y="13"/>
                    </a:lnTo>
                    <a:lnTo>
                      <a:pt x="376" y="13"/>
                    </a:lnTo>
                    <a:lnTo>
                      <a:pt x="396" y="26"/>
                    </a:lnTo>
                    <a:lnTo>
                      <a:pt x="383" y="78"/>
                    </a:lnTo>
                    <a:lnTo>
                      <a:pt x="260" y="162"/>
                    </a:lnTo>
                    <a:lnTo>
                      <a:pt x="156" y="175"/>
                    </a:lnTo>
                    <a:lnTo>
                      <a:pt x="149" y="149"/>
                    </a:lnTo>
                    <a:lnTo>
                      <a:pt x="143" y="136"/>
                    </a:lnTo>
                    <a:lnTo>
                      <a:pt x="72" y="103"/>
                    </a:lnTo>
                    <a:lnTo>
                      <a:pt x="20" y="78"/>
                    </a:lnTo>
                    <a:lnTo>
                      <a:pt x="13" y="78"/>
                    </a:lnTo>
                    <a:lnTo>
                      <a:pt x="13" y="58"/>
                    </a:lnTo>
                    <a:lnTo>
                      <a:pt x="0" y="58"/>
                    </a:lnTo>
                    <a:lnTo>
                      <a:pt x="0" y="78"/>
                    </a:lnTo>
                    <a:lnTo>
                      <a:pt x="13" y="84"/>
                    </a:lnTo>
                    <a:lnTo>
                      <a:pt x="72" y="103"/>
                    </a:lnTo>
                    <a:lnTo>
                      <a:pt x="143" y="149"/>
                    </a:lnTo>
                    <a:lnTo>
                      <a:pt x="143" y="155"/>
                    </a:lnTo>
                    <a:lnTo>
                      <a:pt x="149" y="181"/>
                    </a:lnTo>
                    <a:lnTo>
                      <a:pt x="260" y="175"/>
                    </a:lnTo>
                    <a:lnTo>
                      <a:pt x="396" y="78"/>
                    </a:lnTo>
                    <a:lnTo>
                      <a:pt x="396" y="26"/>
                    </a:lnTo>
                    <a:lnTo>
                      <a:pt x="396" y="13"/>
                    </a:lnTo>
                    <a:lnTo>
                      <a:pt x="376" y="13"/>
                    </a:lnTo>
                    <a:lnTo>
                      <a:pt x="370" y="13"/>
                    </a:lnTo>
                    <a:lnTo>
                      <a:pt x="357" y="13"/>
                    </a:lnTo>
                    <a:lnTo>
                      <a:pt x="344" y="13"/>
                    </a:lnTo>
                    <a:lnTo>
                      <a:pt x="331" y="13"/>
                    </a:lnTo>
                    <a:lnTo>
                      <a:pt x="208" y="0"/>
                    </a:lnTo>
                    <a:lnTo>
                      <a:pt x="0" y="58"/>
                    </a:lnTo>
                    <a:lnTo>
                      <a:pt x="7" y="58"/>
                    </a:lnTo>
                    <a:lnTo>
                      <a:pt x="1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15360" y="3964680"/>
                <a:ext cx="496440" cy="300240"/>
              </a:xfrm>
              <a:custGeom>
                <a:avLst/>
                <a:gdLst/>
                <a:ahLst/>
                <a:rect l="l" t="t" r="r" b="b"/>
                <a:pathLst>
                  <a:path w="344" h="227">
                    <a:moveTo>
                      <a:pt x="182" y="181"/>
                    </a:moveTo>
                    <a:lnTo>
                      <a:pt x="0" y="227"/>
                    </a:lnTo>
                    <a:lnTo>
                      <a:pt x="104" y="123"/>
                    </a:lnTo>
                    <a:lnTo>
                      <a:pt x="104" y="110"/>
                    </a:lnTo>
                    <a:lnTo>
                      <a:pt x="104" y="104"/>
                    </a:lnTo>
                    <a:lnTo>
                      <a:pt x="104" y="91"/>
                    </a:lnTo>
                    <a:lnTo>
                      <a:pt x="104" y="78"/>
                    </a:lnTo>
                    <a:lnTo>
                      <a:pt x="143" y="39"/>
                    </a:lnTo>
                    <a:lnTo>
                      <a:pt x="247" y="0"/>
                    </a:lnTo>
                    <a:lnTo>
                      <a:pt x="331" y="0"/>
                    </a:lnTo>
                    <a:lnTo>
                      <a:pt x="344" y="26"/>
                    </a:lnTo>
                    <a:lnTo>
                      <a:pt x="344" y="32"/>
                    </a:lnTo>
                    <a:lnTo>
                      <a:pt x="331" y="39"/>
                    </a:lnTo>
                    <a:lnTo>
                      <a:pt x="324" y="52"/>
                    </a:lnTo>
                    <a:lnTo>
                      <a:pt x="318" y="52"/>
                    </a:lnTo>
                    <a:lnTo>
                      <a:pt x="298" y="58"/>
                    </a:lnTo>
                    <a:lnTo>
                      <a:pt x="292" y="65"/>
                    </a:lnTo>
                    <a:lnTo>
                      <a:pt x="253" y="110"/>
                    </a:lnTo>
                    <a:lnTo>
                      <a:pt x="227" y="136"/>
                    </a:lnTo>
                    <a:lnTo>
                      <a:pt x="195" y="175"/>
                    </a:lnTo>
                    <a:lnTo>
                      <a:pt x="188" y="175"/>
                    </a:lnTo>
                    <a:lnTo>
                      <a:pt x="182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06720" y="3964680"/>
                <a:ext cx="513720" cy="308160"/>
              </a:xfrm>
              <a:custGeom>
                <a:avLst/>
                <a:gdLst/>
                <a:ahLst/>
                <a:rect l="l" t="t" r="r" b="b"/>
                <a:pathLst>
                  <a:path w="356" h="233">
                    <a:moveTo>
                      <a:pt x="19" y="227"/>
                    </a:moveTo>
                    <a:lnTo>
                      <a:pt x="110" y="123"/>
                    </a:lnTo>
                    <a:lnTo>
                      <a:pt x="110" y="110"/>
                    </a:lnTo>
                    <a:lnTo>
                      <a:pt x="110" y="104"/>
                    </a:lnTo>
                    <a:lnTo>
                      <a:pt x="110" y="91"/>
                    </a:lnTo>
                    <a:lnTo>
                      <a:pt x="110" y="84"/>
                    </a:lnTo>
                    <a:lnTo>
                      <a:pt x="149" y="52"/>
                    </a:lnTo>
                    <a:lnTo>
                      <a:pt x="253" y="0"/>
                    </a:lnTo>
                    <a:lnTo>
                      <a:pt x="337" y="6"/>
                    </a:lnTo>
                    <a:lnTo>
                      <a:pt x="350" y="26"/>
                    </a:lnTo>
                    <a:lnTo>
                      <a:pt x="350" y="32"/>
                    </a:lnTo>
                    <a:lnTo>
                      <a:pt x="337" y="32"/>
                    </a:lnTo>
                    <a:lnTo>
                      <a:pt x="337" y="39"/>
                    </a:lnTo>
                    <a:lnTo>
                      <a:pt x="330" y="52"/>
                    </a:lnTo>
                    <a:lnTo>
                      <a:pt x="304" y="58"/>
                    </a:lnTo>
                    <a:lnTo>
                      <a:pt x="298" y="65"/>
                    </a:lnTo>
                    <a:lnTo>
                      <a:pt x="259" y="104"/>
                    </a:lnTo>
                    <a:lnTo>
                      <a:pt x="233" y="129"/>
                    </a:lnTo>
                    <a:lnTo>
                      <a:pt x="201" y="175"/>
                    </a:lnTo>
                    <a:lnTo>
                      <a:pt x="188" y="175"/>
                    </a:lnTo>
                    <a:lnTo>
                      <a:pt x="19" y="227"/>
                    </a:lnTo>
                    <a:lnTo>
                      <a:pt x="0" y="233"/>
                    </a:lnTo>
                    <a:lnTo>
                      <a:pt x="188" y="181"/>
                    </a:lnTo>
                    <a:lnTo>
                      <a:pt x="201" y="175"/>
                    </a:lnTo>
                    <a:lnTo>
                      <a:pt x="233" y="136"/>
                    </a:lnTo>
                    <a:lnTo>
                      <a:pt x="259" y="110"/>
                    </a:lnTo>
                    <a:lnTo>
                      <a:pt x="298" y="78"/>
                    </a:lnTo>
                    <a:lnTo>
                      <a:pt x="304" y="58"/>
                    </a:lnTo>
                    <a:lnTo>
                      <a:pt x="330" y="52"/>
                    </a:lnTo>
                    <a:lnTo>
                      <a:pt x="337" y="52"/>
                    </a:lnTo>
                    <a:lnTo>
                      <a:pt x="337" y="39"/>
                    </a:lnTo>
                    <a:lnTo>
                      <a:pt x="350" y="32"/>
                    </a:lnTo>
                    <a:lnTo>
                      <a:pt x="356" y="26"/>
                    </a:lnTo>
                    <a:lnTo>
                      <a:pt x="350" y="0"/>
                    </a:lnTo>
                    <a:lnTo>
                      <a:pt x="240" y="0"/>
                    </a:lnTo>
                    <a:lnTo>
                      <a:pt x="149" y="39"/>
                    </a:lnTo>
                    <a:lnTo>
                      <a:pt x="110" y="78"/>
                    </a:lnTo>
                    <a:lnTo>
                      <a:pt x="110" y="84"/>
                    </a:lnTo>
                    <a:lnTo>
                      <a:pt x="104" y="91"/>
                    </a:lnTo>
                    <a:lnTo>
                      <a:pt x="110" y="104"/>
                    </a:lnTo>
                    <a:lnTo>
                      <a:pt x="110" y="110"/>
                    </a:lnTo>
                    <a:lnTo>
                      <a:pt x="0" y="233"/>
                    </a:lnTo>
                    <a:lnTo>
                      <a:pt x="6" y="227"/>
                    </a:lnTo>
                    <a:lnTo>
                      <a:pt x="1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77920" y="3930480"/>
                <a:ext cx="524160" cy="334800"/>
              </a:xfrm>
              <a:custGeom>
                <a:avLst/>
                <a:gdLst/>
                <a:ahLst/>
                <a:rect l="l" t="t" r="r" b="b"/>
                <a:pathLst>
                  <a:path w="363" h="253">
                    <a:moveTo>
                      <a:pt x="33" y="246"/>
                    </a:moveTo>
                    <a:lnTo>
                      <a:pt x="13" y="253"/>
                    </a:lnTo>
                    <a:lnTo>
                      <a:pt x="7" y="253"/>
                    </a:lnTo>
                    <a:lnTo>
                      <a:pt x="0" y="240"/>
                    </a:lnTo>
                    <a:lnTo>
                      <a:pt x="104" y="123"/>
                    </a:lnTo>
                    <a:lnTo>
                      <a:pt x="111" y="117"/>
                    </a:lnTo>
                    <a:lnTo>
                      <a:pt x="111" y="104"/>
                    </a:lnTo>
                    <a:lnTo>
                      <a:pt x="111" y="97"/>
                    </a:lnTo>
                    <a:lnTo>
                      <a:pt x="111" y="91"/>
                    </a:lnTo>
                    <a:lnTo>
                      <a:pt x="111" y="78"/>
                    </a:lnTo>
                    <a:lnTo>
                      <a:pt x="117" y="71"/>
                    </a:lnTo>
                    <a:lnTo>
                      <a:pt x="130" y="52"/>
                    </a:lnTo>
                    <a:lnTo>
                      <a:pt x="136" y="52"/>
                    </a:lnTo>
                    <a:lnTo>
                      <a:pt x="143" y="45"/>
                    </a:lnTo>
                    <a:lnTo>
                      <a:pt x="169" y="39"/>
                    </a:lnTo>
                    <a:lnTo>
                      <a:pt x="188" y="19"/>
                    </a:lnTo>
                    <a:lnTo>
                      <a:pt x="208" y="19"/>
                    </a:lnTo>
                    <a:lnTo>
                      <a:pt x="234" y="6"/>
                    </a:lnTo>
                    <a:lnTo>
                      <a:pt x="260" y="6"/>
                    </a:lnTo>
                    <a:lnTo>
                      <a:pt x="273" y="0"/>
                    </a:lnTo>
                    <a:lnTo>
                      <a:pt x="311" y="0"/>
                    </a:lnTo>
                    <a:lnTo>
                      <a:pt x="318" y="6"/>
                    </a:lnTo>
                    <a:lnTo>
                      <a:pt x="337" y="6"/>
                    </a:lnTo>
                    <a:lnTo>
                      <a:pt x="357" y="19"/>
                    </a:lnTo>
                    <a:lnTo>
                      <a:pt x="363" y="19"/>
                    </a:lnTo>
                    <a:lnTo>
                      <a:pt x="363" y="45"/>
                    </a:lnTo>
                    <a:lnTo>
                      <a:pt x="357" y="39"/>
                    </a:lnTo>
                    <a:lnTo>
                      <a:pt x="337" y="39"/>
                    </a:lnTo>
                    <a:lnTo>
                      <a:pt x="331" y="39"/>
                    </a:lnTo>
                    <a:lnTo>
                      <a:pt x="311" y="39"/>
                    </a:lnTo>
                    <a:lnTo>
                      <a:pt x="292" y="39"/>
                    </a:lnTo>
                    <a:lnTo>
                      <a:pt x="273" y="39"/>
                    </a:lnTo>
                    <a:lnTo>
                      <a:pt x="247" y="45"/>
                    </a:lnTo>
                    <a:lnTo>
                      <a:pt x="214" y="52"/>
                    </a:lnTo>
                    <a:lnTo>
                      <a:pt x="195" y="52"/>
                    </a:lnTo>
                    <a:lnTo>
                      <a:pt x="169" y="71"/>
                    </a:lnTo>
                    <a:lnTo>
                      <a:pt x="143" y="91"/>
                    </a:lnTo>
                    <a:lnTo>
                      <a:pt x="136" y="97"/>
                    </a:lnTo>
                    <a:lnTo>
                      <a:pt x="130" y="97"/>
                    </a:lnTo>
                    <a:lnTo>
                      <a:pt x="130" y="117"/>
                    </a:lnTo>
                    <a:lnTo>
                      <a:pt x="130" y="130"/>
                    </a:lnTo>
                    <a:lnTo>
                      <a:pt x="130" y="142"/>
                    </a:lnTo>
                    <a:lnTo>
                      <a:pt x="78" y="194"/>
                    </a:lnTo>
                    <a:lnTo>
                      <a:pt x="33" y="246"/>
                    </a:lnTo>
                    <a:close/>
                  </a:path>
                </a:pathLst>
              </a:custGeom>
              <a:solidFill>
                <a:srgbClr val="997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88000" y="4221360"/>
                <a:ext cx="551520" cy="240840"/>
              </a:xfrm>
              <a:custGeom>
                <a:avLst/>
                <a:gdLst/>
                <a:ahLst/>
                <a:rect l="l" t="t" r="r" b="b"/>
                <a:pathLst>
                  <a:path w="382" h="182">
                    <a:moveTo>
                      <a:pt x="0" y="65"/>
                    </a:moveTo>
                    <a:lnTo>
                      <a:pt x="0" y="33"/>
                    </a:lnTo>
                    <a:lnTo>
                      <a:pt x="129" y="91"/>
                    </a:lnTo>
                    <a:lnTo>
                      <a:pt x="136" y="97"/>
                    </a:lnTo>
                    <a:lnTo>
                      <a:pt x="129" y="117"/>
                    </a:lnTo>
                    <a:lnTo>
                      <a:pt x="129" y="123"/>
                    </a:lnTo>
                    <a:lnTo>
                      <a:pt x="136" y="123"/>
                    </a:lnTo>
                    <a:lnTo>
                      <a:pt x="136" y="130"/>
                    </a:lnTo>
                    <a:lnTo>
                      <a:pt x="149" y="130"/>
                    </a:lnTo>
                    <a:lnTo>
                      <a:pt x="149" y="143"/>
                    </a:lnTo>
                    <a:lnTo>
                      <a:pt x="155" y="143"/>
                    </a:lnTo>
                    <a:lnTo>
                      <a:pt x="162" y="143"/>
                    </a:lnTo>
                    <a:lnTo>
                      <a:pt x="181" y="130"/>
                    </a:lnTo>
                    <a:lnTo>
                      <a:pt x="227" y="123"/>
                    </a:lnTo>
                    <a:lnTo>
                      <a:pt x="266" y="104"/>
                    </a:lnTo>
                    <a:lnTo>
                      <a:pt x="298" y="97"/>
                    </a:lnTo>
                    <a:lnTo>
                      <a:pt x="324" y="78"/>
                    </a:lnTo>
                    <a:lnTo>
                      <a:pt x="350" y="65"/>
                    </a:lnTo>
                    <a:lnTo>
                      <a:pt x="363" y="46"/>
                    </a:lnTo>
                    <a:lnTo>
                      <a:pt x="376" y="33"/>
                    </a:lnTo>
                    <a:lnTo>
                      <a:pt x="382" y="26"/>
                    </a:lnTo>
                    <a:lnTo>
                      <a:pt x="382" y="20"/>
                    </a:lnTo>
                    <a:lnTo>
                      <a:pt x="382" y="0"/>
                    </a:lnTo>
                    <a:lnTo>
                      <a:pt x="382" y="46"/>
                    </a:lnTo>
                    <a:lnTo>
                      <a:pt x="382" y="65"/>
                    </a:lnTo>
                    <a:lnTo>
                      <a:pt x="376" y="72"/>
                    </a:lnTo>
                    <a:lnTo>
                      <a:pt x="363" y="78"/>
                    </a:lnTo>
                    <a:lnTo>
                      <a:pt x="350" y="97"/>
                    </a:lnTo>
                    <a:lnTo>
                      <a:pt x="330" y="117"/>
                    </a:lnTo>
                    <a:lnTo>
                      <a:pt x="311" y="123"/>
                    </a:lnTo>
                    <a:lnTo>
                      <a:pt x="279" y="143"/>
                    </a:lnTo>
                    <a:lnTo>
                      <a:pt x="259" y="156"/>
                    </a:lnTo>
                    <a:lnTo>
                      <a:pt x="233" y="169"/>
                    </a:lnTo>
                    <a:lnTo>
                      <a:pt x="207" y="175"/>
                    </a:lnTo>
                    <a:lnTo>
                      <a:pt x="181" y="182"/>
                    </a:lnTo>
                    <a:lnTo>
                      <a:pt x="162" y="182"/>
                    </a:lnTo>
                    <a:lnTo>
                      <a:pt x="149" y="182"/>
                    </a:lnTo>
                    <a:lnTo>
                      <a:pt x="136" y="175"/>
                    </a:lnTo>
                    <a:lnTo>
                      <a:pt x="129" y="175"/>
                    </a:lnTo>
                    <a:lnTo>
                      <a:pt x="129" y="169"/>
                    </a:lnTo>
                    <a:lnTo>
                      <a:pt x="129" y="156"/>
                    </a:lnTo>
                    <a:lnTo>
                      <a:pt x="129" y="130"/>
                    </a:lnTo>
                    <a:lnTo>
                      <a:pt x="123" y="130"/>
                    </a:lnTo>
                    <a:lnTo>
                      <a:pt x="123" y="123"/>
                    </a:lnTo>
                    <a:lnTo>
                      <a:pt x="58" y="91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997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72120" y="3930480"/>
                <a:ext cx="140040" cy="59400"/>
              </a:xfrm>
              <a:custGeom>
                <a:avLst/>
                <a:gdLst/>
                <a:ahLst/>
                <a:rect l="l" t="t" r="r" b="b"/>
                <a:pathLst>
                  <a:path w="97" h="45">
                    <a:moveTo>
                      <a:pt x="64" y="19"/>
                    </a:moveTo>
                    <a:lnTo>
                      <a:pt x="97" y="45"/>
                    </a:lnTo>
                    <a:lnTo>
                      <a:pt x="90" y="19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71" y="6"/>
                    </a:lnTo>
                    <a:lnTo>
                      <a:pt x="64" y="6"/>
                    </a:lnTo>
                    <a:lnTo>
                      <a:pt x="58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38" y="19"/>
                    </a:lnTo>
                    <a:lnTo>
                      <a:pt x="51" y="19"/>
                    </a:lnTo>
                    <a:lnTo>
                      <a:pt x="64" y="19"/>
                    </a:lnTo>
                    <a:close/>
                  </a:path>
                </a:pathLst>
              </a:custGeom>
              <a:solidFill>
                <a:srgbClr val="997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53400" y="39304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32" y="6"/>
                    </a:moveTo>
                    <a:lnTo>
                      <a:pt x="32" y="0"/>
                    </a:lnTo>
                    <a:lnTo>
                      <a:pt x="2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13" y="6"/>
                    </a:lnTo>
                    <a:lnTo>
                      <a:pt x="26" y="6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57800" y="3706920"/>
                <a:ext cx="757800" cy="600480"/>
              </a:xfrm>
              <a:custGeom>
                <a:avLst/>
                <a:gdLst/>
                <a:ahLst/>
                <a:rect l="l" t="t" r="r" b="b"/>
                <a:pathLst>
                  <a:path w="525" h="454">
                    <a:moveTo>
                      <a:pt x="525" y="20"/>
                    </a:moveTo>
                    <a:lnTo>
                      <a:pt x="227" y="0"/>
                    </a:lnTo>
                    <a:lnTo>
                      <a:pt x="168" y="0"/>
                    </a:lnTo>
                    <a:lnTo>
                      <a:pt x="149" y="0"/>
                    </a:lnTo>
                    <a:lnTo>
                      <a:pt x="123" y="0"/>
                    </a:lnTo>
                    <a:lnTo>
                      <a:pt x="91" y="20"/>
                    </a:lnTo>
                    <a:lnTo>
                      <a:pt x="52" y="26"/>
                    </a:lnTo>
                    <a:lnTo>
                      <a:pt x="39" y="39"/>
                    </a:lnTo>
                    <a:lnTo>
                      <a:pt x="19" y="59"/>
                    </a:lnTo>
                    <a:lnTo>
                      <a:pt x="19" y="65"/>
                    </a:lnTo>
                    <a:lnTo>
                      <a:pt x="13" y="85"/>
                    </a:lnTo>
                    <a:lnTo>
                      <a:pt x="0" y="98"/>
                    </a:lnTo>
                    <a:lnTo>
                      <a:pt x="0" y="117"/>
                    </a:lnTo>
                    <a:lnTo>
                      <a:pt x="13" y="124"/>
                    </a:lnTo>
                    <a:lnTo>
                      <a:pt x="13" y="143"/>
                    </a:lnTo>
                    <a:lnTo>
                      <a:pt x="19" y="149"/>
                    </a:lnTo>
                    <a:lnTo>
                      <a:pt x="26" y="162"/>
                    </a:lnTo>
                    <a:lnTo>
                      <a:pt x="39" y="169"/>
                    </a:lnTo>
                    <a:lnTo>
                      <a:pt x="39" y="175"/>
                    </a:lnTo>
                    <a:lnTo>
                      <a:pt x="39" y="188"/>
                    </a:lnTo>
                    <a:lnTo>
                      <a:pt x="39" y="208"/>
                    </a:lnTo>
                    <a:lnTo>
                      <a:pt x="45" y="357"/>
                    </a:lnTo>
                    <a:lnTo>
                      <a:pt x="45" y="363"/>
                    </a:lnTo>
                    <a:lnTo>
                      <a:pt x="45" y="370"/>
                    </a:lnTo>
                    <a:lnTo>
                      <a:pt x="350" y="454"/>
                    </a:lnTo>
                    <a:lnTo>
                      <a:pt x="350" y="441"/>
                    </a:lnTo>
                    <a:lnTo>
                      <a:pt x="343" y="441"/>
                    </a:lnTo>
                    <a:lnTo>
                      <a:pt x="343" y="396"/>
                    </a:lnTo>
                    <a:lnTo>
                      <a:pt x="343" y="234"/>
                    </a:lnTo>
                    <a:lnTo>
                      <a:pt x="343" y="221"/>
                    </a:lnTo>
                    <a:lnTo>
                      <a:pt x="330" y="221"/>
                    </a:lnTo>
                    <a:lnTo>
                      <a:pt x="330" y="214"/>
                    </a:lnTo>
                    <a:lnTo>
                      <a:pt x="324" y="195"/>
                    </a:lnTo>
                    <a:lnTo>
                      <a:pt x="304" y="169"/>
                    </a:lnTo>
                    <a:lnTo>
                      <a:pt x="304" y="143"/>
                    </a:lnTo>
                    <a:lnTo>
                      <a:pt x="304" y="124"/>
                    </a:lnTo>
                    <a:lnTo>
                      <a:pt x="304" y="111"/>
                    </a:lnTo>
                    <a:lnTo>
                      <a:pt x="324" y="91"/>
                    </a:lnTo>
                    <a:lnTo>
                      <a:pt x="343" y="72"/>
                    </a:lnTo>
                    <a:lnTo>
                      <a:pt x="369" y="59"/>
                    </a:lnTo>
                    <a:lnTo>
                      <a:pt x="402" y="39"/>
                    </a:lnTo>
                    <a:lnTo>
                      <a:pt x="447" y="39"/>
                    </a:lnTo>
                    <a:lnTo>
                      <a:pt x="486" y="20"/>
                    </a:lnTo>
                    <a:lnTo>
                      <a:pt x="505" y="20"/>
                    </a:lnTo>
                    <a:lnTo>
                      <a:pt x="525" y="20"/>
                    </a:lnTo>
                    <a:close/>
                  </a:path>
                </a:pathLst>
              </a:custGeom>
              <a:solidFill>
                <a:srgbClr val="997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249960" y="3467160"/>
              <a:ext cx="552600" cy="515880"/>
            </a:xfrm>
            <a:custGeom>
              <a:avLst/>
              <a:gdLst/>
              <a:ahLst/>
              <a:rect l="l" t="t" r="r" b="b"/>
              <a:pathLst>
                <a:path w="382" h="389">
                  <a:moveTo>
                    <a:pt x="382" y="19"/>
                  </a:moveTo>
                  <a:lnTo>
                    <a:pt x="175" y="0"/>
                  </a:lnTo>
                  <a:lnTo>
                    <a:pt x="123" y="0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65" y="6"/>
                  </a:lnTo>
                  <a:lnTo>
                    <a:pt x="39" y="19"/>
                  </a:lnTo>
                  <a:lnTo>
                    <a:pt x="19" y="32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97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19" y="143"/>
                  </a:lnTo>
                  <a:lnTo>
                    <a:pt x="19" y="155"/>
                  </a:lnTo>
                  <a:lnTo>
                    <a:pt x="19" y="175"/>
                  </a:lnTo>
                  <a:lnTo>
                    <a:pt x="26" y="298"/>
                  </a:lnTo>
                  <a:lnTo>
                    <a:pt x="26" y="305"/>
                  </a:lnTo>
                  <a:lnTo>
                    <a:pt x="26" y="317"/>
                  </a:lnTo>
                  <a:lnTo>
                    <a:pt x="39" y="317"/>
                  </a:lnTo>
                  <a:lnTo>
                    <a:pt x="252" y="389"/>
                  </a:lnTo>
                  <a:lnTo>
                    <a:pt x="252" y="376"/>
                  </a:lnTo>
                  <a:lnTo>
                    <a:pt x="246" y="343"/>
                  </a:lnTo>
                  <a:lnTo>
                    <a:pt x="246" y="201"/>
                  </a:lnTo>
                  <a:lnTo>
                    <a:pt x="246" y="194"/>
                  </a:lnTo>
                  <a:lnTo>
                    <a:pt x="246" y="181"/>
                  </a:lnTo>
                  <a:lnTo>
                    <a:pt x="239" y="168"/>
                  </a:lnTo>
                  <a:lnTo>
                    <a:pt x="220" y="143"/>
                  </a:lnTo>
                  <a:lnTo>
                    <a:pt x="220" y="123"/>
                  </a:lnTo>
                  <a:lnTo>
                    <a:pt x="220" y="104"/>
                  </a:lnTo>
                  <a:lnTo>
                    <a:pt x="227" y="84"/>
                  </a:lnTo>
                  <a:lnTo>
                    <a:pt x="239" y="78"/>
                  </a:lnTo>
                  <a:lnTo>
                    <a:pt x="246" y="58"/>
                  </a:lnTo>
                  <a:lnTo>
                    <a:pt x="265" y="52"/>
                  </a:lnTo>
                  <a:lnTo>
                    <a:pt x="298" y="32"/>
                  </a:lnTo>
                  <a:lnTo>
                    <a:pt x="324" y="26"/>
                  </a:lnTo>
                  <a:lnTo>
                    <a:pt x="356" y="19"/>
                  </a:lnTo>
                  <a:lnTo>
                    <a:pt x="369" y="19"/>
                  </a:lnTo>
                  <a:lnTo>
                    <a:pt x="382" y="19"/>
                  </a:lnTo>
                  <a:close/>
                </a:path>
              </a:pathLst>
            </a:custGeom>
            <a:solidFill>
              <a:srgbClr val="ff7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032440" y="4316400"/>
              <a:ext cx="1236600" cy="496800"/>
              <a:chOff x="5032440" y="4316400"/>
              <a:chExt cx="1236600" cy="496800"/>
            </a:xfrm>
          </p:grpSpPr>
          <p:sp>
            <p:nvSpPr>
              <p:cNvPr id="168" name=""/>
              <p:cNvSpPr/>
              <p:nvPr/>
            </p:nvSpPr>
            <p:spPr>
              <a:xfrm>
                <a:off x="5032440" y="4316400"/>
                <a:ext cx="1236600" cy="496800"/>
              </a:xfrm>
              <a:custGeom>
                <a:avLst/>
                <a:gdLst/>
                <a:ahLst/>
                <a:rect l="l" t="t" r="r" b="b"/>
                <a:pathLst>
                  <a:path w="856" h="375">
                    <a:moveTo>
                      <a:pt x="7" y="349"/>
                    </a:moveTo>
                    <a:lnTo>
                      <a:pt x="0" y="349"/>
                    </a:lnTo>
                    <a:lnTo>
                      <a:pt x="0" y="343"/>
                    </a:lnTo>
                    <a:lnTo>
                      <a:pt x="7" y="330"/>
                    </a:lnTo>
                    <a:lnTo>
                      <a:pt x="7" y="324"/>
                    </a:lnTo>
                    <a:lnTo>
                      <a:pt x="20" y="324"/>
                    </a:lnTo>
                    <a:lnTo>
                      <a:pt x="20" y="317"/>
                    </a:lnTo>
                    <a:lnTo>
                      <a:pt x="26" y="304"/>
                    </a:lnTo>
                    <a:lnTo>
                      <a:pt x="26" y="298"/>
                    </a:lnTo>
                    <a:lnTo>
                      <a:pt x="33" y="298"/>
                    </a:lnTo>
                    <a:lnTo>
                      <a:pt x="46" y="291"/>
                    </a:lnTo>
                    <a:lnTo>
                      <a:pt x="52" y="291"/>
                    </a:lnTo>
                    <a:lnTo>
                      <a:pt x="59" y="278"/>
                    </a:lnTo>
                    <a:lnTo>
                      <a:pt x="78" y="272"/>
                    </a:lnTo>
                    <a:lnTo>
                      <a:pt x="78" y="252"/>
                    </a:lnTo>
                    <a:lnTo>
                      <a:pt x="97" y="252"/>
                    </a:lnTo>
                    <a:lnTo>
                      <a:pt x="110" y="246"/>
                    </a:lnTo>
                    <a:lnTo>
                      <a:pt x="110" y="233"/>
                    </a:lnTo>
                    <a:lnTo>
                      <a:pt x="136" y="226"/>
                    </a:lnTo>
                    <a:lnTo>
                      <a:pt x="149" y="220"/>
                    </a:lnTo>
                    <a:lnTo>
                      <a:pt x="169" y="207"/>
                    </a:lnTo>
                    <a:lnTo>
                      <a:pt x="175" y="200"/>
                    </a:lnTo>
                    <a:lnTo>
                      <a:pt x="182" y="200"/>
                    </a:lnTo>
                    <a:lnTo>
                      <a:pt x="201" y="194"/>
                    </a:lnTo>
                    <a:lnTo>
                      <a:pt x="208" y="194"/>
                    </a:lnTo>
                    <a:lnTo>
                      <a:pt x="227" y="181"/>
                    </a:lnTo>
                    <a:lnTo>
                      <a:pt x="234" y="174"/>
                    </a:lnTo>
                    <a:lnTo>
                      <a:pt x="253" y="174"/>
                    </a:lnTo>
                    <a:lnTo>
                      <a:pt x="253" y="168"/>
                    </a:lnTo>
                    <a:lnTo>
                      <a:pt x="259" y="168"/>
                    </a:lnTo>
                    <a:lnTo>
                      <a:pt x="272" y="155"/>
                    </a:lnTo>
                    <a:lnTo>
                      <a:pt x="285" y="149"/>
                    </a:lnTo>
                    <a:lnTo>
                      <a:pt x="298" y="149"/>
                    </a:lnTo>
                    <a:lnTo>
                      <a:pt x="298" y="142"/>
                    </a:lnTo>
                    <a:lnTo>
                      <a:pt x="311" y="142"/>
                    </a:lnTo>
                    <a:lnTo>
                      <a:pt x="324" y="129"/>
                    </a:lnTo>
                    <a:lnTo>
                      <a:pt x="350" y="123"/>
                    </a:lnTo>
                    <a:lnTo>
                      <a:pt x="376" y="110"/>
                    </a:lnTo>
                    <a:lnTo>
                      <a:pt x="383" y="110"/>
                    </a:lnTo>
                    <a:lnTo>
                      <a:pt x="415" y="103"/>
                    </a:lnTo>
                    <a:lnTo>
                      <a:pt x="434" y="97"/>
                    </a:lnTo>
                    <a:lnTo>
                      <a:pt x="447" y="97"/>
                    </a:lnTo>
                    <a:lnTo>
                      <a:pt x="454" y="84"/>
                    </a:lnTo>
                    <a:lnTo>
                      <a:pt x="473" y="84"/>
                    </a:lnTo>
                    <a:lnTo>
                      <a:pt x="480" y="84"/>
                    </a:lnTo>
                    <a:lnTo>
                      <a:pt x="486" y="77"/>
                    </a:lnTo>
                    <a:lnTo>
                      <a:pt x="506" y="84"/>
                    </a:lnTo>
                    <a:lnTo>
                      <a:pt x="525" y="77"/>
                    </a:lnTo>
                    <a:lnTo>
                      <a:pt x="532" y="71"/>
                    </a:lnTo>
                    <a:lnTo>
                      <a:pt x="538" y="71"/>
                    </a:lnTo>
                    <a:lnTo>
                      <a:pt x="551" y="71"/>
                    </a:lnTo>
                    <a:lnTo>
                      <a:pt x="558" y="71"/>
                    </a:lnTo>
                    <a:lnTo>
                      <a:pt x="564" y="58"/>
                    </a:lnTo>
                    <a:lnTo>
                      <a:pt x="577" y="58"/>
                    </a:lnTo>
                    <a:lnTo>
                      <a:pt x="583" y="51"/>
                    </a:lnTo>
                    <a:lnTo>
                      <a:pt x="590" y="51"/>
                    </a:lnTo>
                    <a:lnTo>
                      <a:pt x="603" y="51"/>
                    </a:lnTo>
                    <a:lnTo>
                      <a:pt x="616" y="45"/>
                    </a:lnTo>
                    <a:lnTo>
                      <a:pt x="635" y="45"/>
                    </a:lnTo>
                    <a:lnTo>
                      <a:pt x="642" y="32"/>
                    </a:lnTo>
                    <a:lnTo>
                      <a:pt x="655" y="32"/>
                    </a:lnTo>
                    <a:lnTo>
                      <a:pt x="661" y="25"/>
                    </a:lnTo>
                    <a:lnTo>
                      <a:pt x="668" y="25"/>
                    </a:lnTo>
                    <a:lnTo>
                      <a:pt x="687" y="25"/>
                    </a:lnTo>
                    <a:lnTo>
                      <a:pt x="694" y="25"/>
                    </a:lnTo>
                    <a:lnTo>
                      <a:pt x="707" y="25"/>
                    </a:lnTo>
                    <a:lnTo>
                      <a:pt x="713" y="19"/>
                    </a:lnTo>
                    <a:lnTo>
                      <a:pt x="733" y="6"/>
                    </a:lnTo>
                    <a:lnTo>
                      <a:pt x="739" y="6"/>
                    </a:lnTo>
                    <a:lnTo>
                      <a:pt x="752" y="6"/>
                    </a:lnTo>
                    <a:lnTo>
                      <a:pt x="758" y="6"/>
                    </a:lnTo>
                    <a:lnTo>
                      <a:pt x="765" y="6"/>
                    </a:lnTo>
                    <a:lnTo>
                      <a:pt x="784" y="0"/>
                    </a:lnTo>
                    <a:lnTo>
                      <a:pt x="804" y="6"/>
                    </a:lnTo>
                    <a:lnTo>
                      <a:pt x="810" y="0"/>
                    </a:lnTo>
                    <a:lnTo>
                      <a:pt x="817" y="0"/>
                    </a:lnTo>
                    <a:lnTo>
                      <a:pt x="830" y="6"/>
                    </a:lnTo>
                    <a:lnTo>
                      <a:pt x="836" y="6"/>
                    </a:lnTo>
                    <a:lnTo>
                      <a:pt x="843" y="19"/>
                    </a:lnTo>
                    <a:lnTo>
                      <a:pt x="843" y="25"/>
                    </a:lnTo>
                    <a:lnTo>
                      <a:pt x="856" y="45"/>
                    </a:lnTo>
                    <a:lnTo>
                      <a:pt x="856" y="51"/>
                    </a:lnTo>
                    <a:lnTo>
                      <a:pt x="843" y="58"/>
                    </a:lnTo>
                    <a:lnTo>
                      <a:pt x="843" y="71"/>
                    </a:lnTo>
                    <a:lnTo>
                      <a:pt x="836" y="84"/>
                    </a:lnTo>
                    <a:lnTo>
                      <a:pt x="830" y="97"/>
                    </a:lnTo>
                    <a:lnTo>
                      <a:pt x="817" y="97"/>
                    </a:lnTo>
                    <a:lnTo>
                      <a:pt x="817" y="103"/>
                    </a:lnTo>
                    <a:lnTo>
                      <a:pt x="810" y="103"/>
                    </a:lnTo>
                    <a:lnTo>
                      <a:pt x="804" y="103"/>
                    </a:lnTo>
                    <a:lnTo>
                      <a:pt x="784" y="123"/>
                    </a:lnTo>
                    <a:lnTo>
                      <a:pt x="765" y="129"/>
                    </a:lnTo>
                    <a:lnTo>
                      <a:pt x="758" y="142"/>
                    </a:lnTo>
                    <a:lnTo>
                      <a:pt x="739" y="149"/>
                    </a:lnTo>
                    <a:lnTo>
                      <a:pt x="720" y="155"/>
                    </a:lnTo>
                    <a:lnTo>
                      <a:pt x="713" y="168"/>
                    </a:lnTo>
                    <a:lnTo>
                      <a:pt x="707" y="174"/>
                    </a:lnTo>
                    <a:lnTo>
                      <a:pt x="694" y="174"/>
                    </a:lnTo>
                    <a:lnTo>
                      <a:pt x="687" y="181"/>
                    </a:lnTo>
                    <a:lnTo>
                      <a:pt x="681" y="194"/>
                    </a:lnTo>
                    <a:lnTo>
                      <a:pt x="668" y="194"/>
                    </a:lnTo>
                    <a:lnTo>
                      <a:pt x="635" y="207"/>
                    </a:lnTo>
                    <a:lnTo>
                      <a:pt x="616" y="207"/>
                    </a:lnTo>
                    <a:lnTo>
                      <a:pt x="603" y="226"/>
                    </a:lnTo>
                    <a:lnTo>
                      <a:pt x="577" y="233"/>
                    </a:lnTo>
                    <a:lnTo>
                      <a:pt x="564" y="246"/>
                    </a:lnTo>
                    <a:lnTo>
                      <a:pt x="558" y="246"/>
                    </a:lnTo>
                    <a:lnTo>
                      <a:pt x="538" y="252"/>
                    </a:lnTo>
                    <a:lnTo>
                      <a:pt x="525" y="252"/>
                    </a:lnTo>
                    <a:lnTo>
                      <a:pt x="512" y="265"/>
                    </a:lnTo>
                    <a:lnTo>
                      <a:pt x="499" y="265"/>
                    </a:lnTo>
                    <a:lnTo>
                      <a:pt x="486" y="272"/>
                    </a:lnTo>
                    <a:lnTo>
                      <a:pt x="460" y="291"/>
                    </a:lnTo>
                    <a:lnTo>
                      <a:pt x="447" y="291"/>
                    </a:lnTo>
                    <a:lnTo>
                      <a:pt x="415" y="298"/>
                    </a:lnTo>
                    <a:lnTo>
                      <a:pt x="409" y="298"/>
                    </a:lnTo>
                    <a:lnTo>
                      <a:pt x="389" y="317"/>
                    </a:lnTo>
                    <a:lnTo>
                      <a:pt x="383" y="317"/>
                    </a:lnTo>
                    <a:lnTo>
                      <a:pt x="376" y="324"/>
                    </a:lnTo>
                    <a:lnTo>
                      <a:pt x="357" y="330"/>
                    </a:lnTo>
                    <a:lnTo>
                      <a:pt x="350" y="330"/>
                    </a:lnTo>
                    <a:lnTo>
                      <a:pt x="337" y="330"/>
                    </a:lnTo>
                    <a:lnTo>
                      <a:pt x="331" y="343"/>
                    </a:lnTo>
                    <a:lnTo>
                      <a:pt x="324" y="343"/>
                    </a:lnTo>
                    <a:lnTo>
                      <a:pt x="311" y="349"/>
                    </a:lnTo>
                    <a:lnTo>
                      <a:pt x="305" y="349"/>
                    </a:lnTo>
                    <a:lnTo>
                      <a:pt x="298" y="343"/>
                    </a:lnTo>
                    <a:lnTo>
                      <a:pt x="298" y="349"/>
                    </a:lnTo>
                    <a:lnTo>
                      <a:pt x="272" y="349"/>
                    </a:lnTo>
                    <a:lnTo>
                      <a:pt x="259" y="349"/>
                    </a:lnTo>
                    <a:lnTo>
                      <a:pt x="253" y="349"/>
                    </a:lnTo>
                    <a:lnTo>
                      <a:pt x="247" y="349"/>
                    </a:lnTo>
                    <a:lnTo>
                      <a:pt x="234" y="349"/>
                    </a:lnTo>
                    <a:lnTo>
                      <a:pt x="227" y="349"/>
                    </a:lnTo>
                    <a:lnTo>
                      <a:pt x="221" y="349"/>
                    </a:lnTo>
                    <a:lnTo>
                      <a:pt x="201" y="356"/>
                    </a:lnTo>
                    <a:lnTo>
                      <a:pt x="195" y="356"/>
                    </a:lnTo>
                    <a:lnTo>
                      <a:pt x="175" y="356"/>
                    </a:lnTo>
                    <a:lnTo>
                      <a:pt x="156" y="356"/>
                    </a:lnTo>
                    <a:lnTo>
                      <a:pt x="149" y="369"/>
                    </a:lnTo>
                    <a:lnTo>
                      <a:pt x="130" y="375"/>
                    </a:lnTo>
                    <a:lnTo>
                      <a:pt x="130" y="356"/>
                    </a:lnTo>
                    <a:lnTo>
                      <a:pt x="110" y="356"/>
                    </a:lnTo>
                    <a:lnTo>
                      <a:pt x="104" y="369"/>
                    </a:lnTo>
                    <a:lnTo>
                      <a:pt x="97" y="369"/>
                    </a:lnTo>
                    <a:lnTo>
                      <a:pt x="84" y="369"/>
                    </a:lnTo>
                    <a:lnTo>
                      <a:pt x="78" y="369"/>
                    </a:lnTo>
                    <a:lnTo>
                      <a:pt x="72" y="369"/>
                    </a:lnTo>
                    <a:lnTo>
                      <a:pt x="52" y="369"/>
                    </a:lnTo>
                    <a:lnTo>
                      <a:pt x="52" y="356"/>
                    </a:lnTo>
                    <a:lnTo>
                      <a:pt x="33" y="369"/>
                    </a:lnTo>
                    <a:lnTo>
                      <a:pt x="33" y="356"/>
                    </a:lnTo>
                    <a:lnTo>
                      <a:pt x="20" y="356"/>
                    </a:lnTo>
                    <a:lnTo>
                      <a:pt x="26" y="349"/>
                    </a:lnTo>
                    <a:lnTo>
                      <a:pt x="20" y="343"/>
                    </a:lnTo>
                    <a:lnTo>
                      <a:pt x="26" y="343"/>
                    </a:lnTo>
                    <a:lnTo>
                      <a:pt x="7" y="349"/>
                    </a:lnTo>
                    <a:close/>
                  </a:path>
                </a:pathLst>
              </a:custGeom>
              <a:solidFill>
                <a:srgbClr val="ffb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032440" y="4316400"/>
                <a:ext cx="1236600" cy="496800"/>
              </a:xfrm>
              <a:custGeom>
                <a:avLst/>
                <a:gdLst/>
                <a:ahLst/>
                <a:rect l="l" t="t" r="r" b="b"/>
                <a:pathLst>
                  <a:path w="856" h="375">
                    <a:moveTo>
                      <a:pt x="7" y="349"/>
                    </a:moveTo>
                    <a:lnTo>
                      <a:pt x="0" y="349"/>
                    </a:lnTo>
                    <a:lnTo>
                      <a:pt x="0" y="343"/>
                    </a:lnTo>
                    <a:lnTo>
                      <a:pt x="7" y="330"/>
                    </a:lnTo>
                    <a:lnTo>
                      <a:pt x="7" y="324"/>
                    </a:lnTo>
                    <a:lnTo>
                      <a:pt x="20" y="324"/>
                    </a:lnTo>
                    <a:lnTo>
                      <a:pt x="20" y="317"/>
                    </a:lnTo>
                    <a:lnTo>
                      <a:pt x="26" y="304"/>
                    </a:lnTo>
                    <a:lnTo>
                      <a:pt x="26" y="298"/>
                    </a:lnTo>
                    <a:lnTo>
                      <a:pt x="33" y="298"/>
                    </a:lnTo>
                    <a:lnTo>
                      <a:pt x="46" y="291"/>
                    </a:lnTo>
                    <a:lnTo>
                      <a:pt x="52" y="291"/>
                    </a:lnTo>
                    <a:lnTo>
                      <a:pt x="59" y="278"/>
                    </a:lnTo>
                    <a:lnTo>
                      <a:pt x="78" y="272"/>
                    </a:lnTo>
                    <a:lnTo>
                      <a:pt x="78" y="252"/>
                    </a:lnTo>
                    <a:lnTo>
                      <a:pt x="97" y="252"/>
                    </a:lnTo>
                    <a:lnTo>
                      <a:pt x="110" y="246"/>
                    </a:lnTo>
                    <a:lnTo>
                      <a:pt x="110" y="233"/>
                    </a:lnTo>
                    <a:lnTo>
                      <a:pt x="136" y="226"/>
                    </a:lnTo>
                    <a:lnTo>
                      <a:pt x="149" y="220"/>
                    </a:lnTo>
                    <a:lnTo>
                      <a:pt x="169" y="207"/>
                    </a:lnTo>
                    <a:lnTo>
                      <a:pt x="175" y="200"/>
                    </a:lnTo>
                    <a:lnTo>
                      <a:pt x="182" y="200"/>
                    </a:lnTo>
                    <a:lnTo>
                      <a:pt x="201" y="194"/>
                    </a:lnTo>
                    <a:lnTo>
                      <a:pt x="208" y="194"/>
                    </a:lnTo>
                    <a:lnTo>
                      <a:pt x="227" y="181"/>
                    </a:lnTo>
                    <a:lnTo>
                      <a:pt x="234" y="174"/>
                    </a:lnTo>
                    <a:lnTo>
                      <a:pt x="253" y="174"/>
                    </a:lnTo>
                    <a:lnTo>
                      <a:pt x="253" y="168"/>
                    </a:lnTo>
                    <a:lnTo>
                      <a:pt x="259" y="168"/>
                    </a:lnTo>
                    <a:lnTo>
                      <a:pt x="272" y="155"/>
                    </a:lnTo>
                    <a:lnTo>
                      <a:pt x="285" y="149"/>
                    </a:lnTo>
                    <a:lnTo>
                      <a:pt x="298" y="149"/>
                    </a:lnTo>
                    <a:lnTo>
                      <a:pt x="298" y="142"/>
                    </a:lnTo>
                    <a:lnTo>
                      <a:pt x="311" y="142"/>
                    </a:lnTo>
                    <a:lnTo>
                      <a:pt x="324" y="129"/>
                    </a:lnTo>
                    <a:lnTo>
                      <a:pt x="350" y="123"/>
                    </a:lnTo>
                    <a:lnTo>
                      <a:pt x="376" y="110"/>
                    </a:lnTo>
                    <a:lnTo>
                      <a:pt x="383" y="110"/>
                    </a:lnTo>
                    <a:lnTo>
                      <a:pt x="415" y="103"/>
                    </a:lnTo>
                    <a:lnTo>
                      <a:pt x="434" y="97"/>
                    </a:lnTo>
                    <a:lnTo>
                      <a:pt x="447" y="97"/>
                    </a:lnTo>
                    <a:lnTo>
                      <a:pt x="454" y="84"/>
                    </a:lnTo>
                    <a:lnTo>
                      <a:pt x="473" y="84"/>
                    </a:lnTo>
                    <a:lnTo>
                      <a:pt x="480" y="84"/>
                    </a:lnTo>
                    <a:lnTo>
                      <a:pt x="486" y="77"/>
                    </a:lnTo>
                    <a:lnTo>
                      <a:pt x="506" y="84"/>
                    </a:lnTo>
                    <a:lnTo>
                      <a:pt x="525" y="77"/>
                    </a:lnTo>
                    <a:lnTo>
                      <a:pt x="532" y="71"/>
                    </a:lnTo>
                    <a:lnTo>
                      <a:pt x="538" y="71"/>
                    </a:lnTo>
                    <a:lnTo>
                      <a:pt x="551" y="71"/>
                    </a:lnTo>
                    <a:lnTo>
                      <a:pt x="558" y="71"/>
                    </a:lnTo>
                    <a:lnTo>
                      <a:pt x="564" y="58"/>
                    </a:lnTo>
                    <a:lnTo>
                      <a:pt x="577" y="58"/>
                    </a:lnTo>
                    <a:lnTo>
                      <a:pt x="583" y="51"/>
                    </a:lnTo>
                    <a:lnTo>
                      <a:pt x="590" y="51"/>
                    </a:lnTo>
                    <a:lnTo>
                      <a:pt x="603" y="51"/>
                    </a:lnTo>
                    <a:lnTo>
                      <a:pt x="616" y="45"/>
                    </a:lnTo>
                    <a:lnTo>
                      <a:pt x="635" y="45"/>
                    </a:lnTo>
                    <a:lnTo>
                      <a:pt x="642" y="32"/>
                    </a:lnTo>
                    <a:lnTo>
                      <a:pt x="655" y="32"/>
                    </a:lnTo>
                    <a:lnTo>
                      <a:pt x="661" y="25"/>
                    </a:lnTo>
                    <a:lnTo>
                      <a:pt x="668" y="25"/>
                    </a:lnTo>
                    <a:lnTo>
                      <a:pt x="687" y="25"/>
                    </a:lnTo>
                    <a:lnTo>
                      <a:pt x="694" y="25"/>
                    </a:lnTo>
                    <a:lnTo>
                      <a:pt x="707" y="25"/>
                    </a:lnTo>
                    <a:lnTo>
                      <a:pt x="713" y="19"/>
                    </a:lnTo>
                    <a:lnTo>
                      <a:pt x="733" y="6"/>
                    </a:lnTo>
                    <a:lnTo>
                      <a:pt x="739" y="6"/>
                    </a:lnTo>
                    <a:lnTo>
                      <a:pt x="752" y="6"/>
                    </a:lnTo>
                    <a:lnTo>
                      <a:pt x="758" y="6"/>
                    </a:lnTo>
                    <a:lnTo>
                      <a:pt x="765" y="6"/>
                    </a:lnTo>
                    <a:lnTo>
                      <a:pt x="784" y="0"/>
                    </a:lnTo>
                    <a:lnTo>
                      <a:pt x="804" y="6"/>
                    </a:lnTo>
                    <a:lnTo>
                      <a:pt x="810" y="0"/>
                    </a:lnTo>
                    <a:lnTo>
                      <a:pt x="817" y="0"/>
                    </a:lnTo>
                    <a:lnTo>
                      <a:pt x="830" y="6"/>
                    </a:lnTo>
                    <a:lnTo>
                      <a:pt x="836" y="6"/>
                    </a:lnTo>
                    <a:lnTo>
                      <a:pt x="843" y="19"/>
                    </a:lnTo>
                    <a:lnTo>
                      <a:pt x="843" y="25"/>
                    </a:lnTo>
                    <a:lnTo>
                      <a:pt x="856" y="45"/>
                    </a:lnTo>
                    <a:lnTo>
                      <a:pt x="856" y="51"/>
                    </a:lnTo>
                    <a:lnTo>
                      <a:pt x="843" y="58"/>
                    </a:lnTo>
                    <a:lnTo>
                      <a:pt x="843" y="71"/>
                    </a:lnTo>
                    <a:lnTo>
                      <a:pt x="836" y="84"/>
                    </a:lnTo>
                    <a:lnTo>
                      <a:pt x="830" y="97"/>
                    </a:lnTo>
                    <a:lnTo>
                      <a:pt x="817" y="97"/>
                    </a:lnTo>
                    <a:lnTo>
                      <a:pt x="817" y="103"/>
                    </a:lnTo>
                    <a:lnTo>
                      <a:pt x="810" y="103"/>
                    </a:lnTo>
                    <a:lnTo>
                      <a:pt x="804" y="103"/>
                    </a:lnTo>
                    <a:lnTo>
                      <a:pt x="784" y="123"/>
                    </a:lnTo>
                    <a:lnTo>
                      <a:pt x="765" y="129"/>
                    </a:lnTo>
                    <a:lnTo>
                      <a:pt x="758" y="142"/>
                    </a:lnTo>
                    <a:lnTo>
                      <a:pt x="739" y="149"/>
                    </a:lnTo>
                    <a:lnTo>
                      <a:pt x="720" y="155"/>
                    </a:lnTo>
                    <a:lnTo>
                      <a:pt x="713" y="168"/>
                    </a:lnTo>
                    <a:lnTo>
                      <a:pt x="707" y="174"/>
                    </a:lnTo>
                    <a:lnTo>
                      <a:pt x="694" y="174"/>
                    </a:lnTo>
                    <a:lnTo>
                      <a:pt x="687" y="181"/>
                    </a:lnTo>
                    <a:lnTo>
                      <a:pt x="681" y="194"/>
                    </a:lnTo>
                    <a:lnTo>
                      <a:pt x="668" y="194"/>
                    </a:lnTo>
                    <a:lnTo>
                      <a:pt x="635" y="207"/>
                    </a:lnTo>
                    <a:lnTo>
                      <a:pt x="616" y="207"/>
                    </a:lnTo>
                    <a:lnTo>
                      <a:pt x="603" y="226"/>
                    </a:lnTo>
                    <a:lnTo>
                      <a:pt x="577" y="233"/>
                    </a:lnTo>
                    <a:lnTo>
                      <a:pt x="564" y="246"/>
                    </a:lnTo>
                    <a:lnTo>
                      <a:pt x="558" y="246"/>
                    </a:lnTo>
                    <a:lnTo>
                      <a:pt x="538" y="252"/>
                    </a:lnTo>
                    <a:lnTo>
                      <a:pt x="525" y="252"/>
                    </a:lnTo>
                    <a:lnTo>
                      <a:pt x="512" y="265"/>
                    </a:lnTo>
                    <a:lnTo>
                      <a:pt x="499" y="265"/>
                    </a:lnTo>
                    <a:lnTo>
                      <a:pt x="486" y="272"/>
                    </a:lnTo>
                    <a:lnTo>
                      <a:pt x="460" y="291"/>
                    </a:lnTo>
                    <a:lnTo>
                      <a:pt x="447" y="291"/>
                    </a:lnTo>
                    <a:lnTo>
                      <a:pt x="415" y="298"/>
                    </a:lnTo>
                    <a:lnTo>
                      <a:pt x="409" y="298"/>
                    </a:lnTo>
                    <a:lnTo>
                      <a:pt x="389" y="317"/>
                    </a:lnTo>
                    <a:lnTo>
                      <a:pt x="383" y="317"/>
                    </a:lnTo>
                    <a:lnTo>
                      <a:pt x="376" y="324"/>
                    </a:lnTo>
                    <a:lnTo>
                      <a:pt x="357" y="330"/>
                    </a:lnTo>
                    <a:lnTo>
                      <a:pt x="350" y="330"/>
                    </a:lnTo>
                    <a:lnTo>
                      <a:pt x="337" y="330"/>
                    </a:lnTo>
                    <a:lnTo>
                      <a:pt x="331" y="343"/>
                    </a:lnTo>
                    <a:lnTo>
                      <a:pt x="324" y="343"/>
                    </a:lnTo>
                    <a:lnTo>
                      <a:pt x="311" y="349"/>
                    </a:lnTo>
                    <a:lnTo>
                      <a:pt x="305" y="349"/>
                    </a:lnTo>
                    <a:lnTo>
                      <a:pt x="298" y="343"/>
                    </a:lnTo>
                    <a:lnTo>
                      <a:pt x="298" y="349"/>
                    </a:lnTo>
                    <a:lnTo>
                      <a:pt x="272" y="349"/>
                    </a:lnTo>
                    <a:lnTo>
                      <a:pt x="259" y="349"/>
                    </a:lnTo>
                    <a:lnTo>
                      <a:pt x="253" y="349"/>
                    </a:lnTo>
                    <a:lnTo>
                      <a:pt x="247" y="349"/>
                    </a:lnTo>
                    <a:lnTo>
                      <a:pt x="234" y="349"/>
                    </a:lnTo>
                    <a:lnTo>
                      <a:pt x="227" y="349"/>
                    </a:lnTo>
                    <a:lnTo>
                      <a:pt x="221" y="349"/>
                    </a:lnTo>
                    <a:lnTo>
                      <a:pt x="201" y="356"/>
                    </a:lnTo>
                    <a:lnTo>
                      <a:pt x="195" y="356"/>
                    </a:lnTo>
                    <a:lnTo>
                      <a:pt x="175" y="356"/>
                    </a:lnTo>
                    <a:lnTo>
                      <a:pt x="156" y="356"/>
                    </a:lnTo>
                    <a:lnTo>
                      <a:pt x="149" y="369"/>
                    </a:lnTo>
                    <a:lnTo>
                      <a:pt x="130" y="375"/>
                    </a:lnTo>
                    <a:lnTo>
                      <a:pt x="130" y="356"/>
                    </a:lnTo>
                    <a:lnTo>
                      <a:pt x="110" y="356"/>
                    </a:lnTo>
                    <a:lnTo>
                      <a:pt x="104" y="369"/>
                    </a:lnTo>
                    <a:lnTo>
                      <a:pt x="97" y="369"/>
                    </a:lnTo>
                    <a:lnTo>
                      <a:pt x="84" y="369"/>
                    </a:lnTo>
                    <a:lnTo>
                      <a:pt x="78" y="369"/>
                    </a:lnTo>
                    <a:lnTo>
                      <a:pt x="72" y="369"/>
                    </a:lnTo>
                    <a:lnTo>
                      <a:pt x="52" y="369"/>
                    </a:lnTo>
                    <a:lnTo>
                      <a:pt x="52" y="356"/>
                    </a:lnTo>
                    <a:lnTo>
                      <a:pt x="33" y="369"/>
                    </a:lnTo>
                    <a:lnTo>
                      <a:pt x="33" y="356"/>
                    </a:lnTo>
                    <a:lnTo>
                      <a:pt x="20" y="356"/>
                    </a:lnTo>
                    <a:lnTo>
                      <a:pt x="26" y="349"/>
                    </a:lnTo>
                    <a:lnTo>
                      <a:pt x="20" y="343"/>
                    </a:lnTo>
                    <a:lnTo>
                      <a:pt x="26" y="3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22960" y="4521600"/>
                <a:ext cx="139680" cy="18936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97" y="0"/>
                    </a:moveTo>
                    <a:lnTo>
                      <a:pt x="84" y="0"/>
                    </a:lnTo>
                    <a:lnTo>
                      <a:pt x="78" y="0"/>
                    </a:lnTo>
                    <a:lnTo>
                      <a:pt x="71" y="13"/>
                    </a:lnTo>
                    <a:lnTo>
                      <a:pt x="58" y="13"/>
                    </a:lnTo>
                    <a:lnTo>
                      <a:pt x="52" y="13"/>
                    </a:lnTo>
                    <a:lnTo>
                      <a:pt x="52" y="19"/>
                    </a:lnTo>
                    <a:lnTo>
                      <a:pt x="46" y="39"/>
                    </a:lnTo>
                    <a:lnTo>
                      <a:pt x="33" y="39"/>
                    </a:lnTo>
                    <a:lnTo>
                      <a:pt x="33" y="45"/>
                    </a:lnTo>
                    <a:lnTo>
                      <a:pt x="26" y="52"/>
                    </a:lnTo>
                    <a:lnTo>
                      <a:pt x="20" y="52"/>
                    </a:lnTo>
                    <a:lnTo>
                      <a:pt x="20" y="65"/>
                    </a:lnTo>
                    <a:lnTo>
                      <a:pt x="20" y="71"/>
                    </a:lnTo>
                    <a:lnTo>
                      <a:pt x="20" y="78"/>
                    </a:lnTo>
                    <a:lnTo>
                      <a:pt x="7" y="78"/>
                    </a:lnTo>
                    <a:lnTo>
                      <a:pt x="20" y="91"/>
                    </a:lnTo>
                    <a:lnTo>
                      <a:pt x="7" y="97"/>
                    </a:lnTo>
                    <a:lnTo>
                      <a:pt x="7" y="110"/>
                    </a:lnTo>
                    <a:lnTo>
                      <a:pt x="0" y="117"/>
                    </a:lnTo>
                    <a:lnTo>
                      <a:pt x="7" y="136"/>
                    </a:lnTo>
                    <a:lnTo>
                      <a:pt x="20" y="14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b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22960" y="4521600"/>
                <a:ext cx="139680" cy="189360"/>
              </a:xfrm>
              <a:custGeom>
                <a:avLst/>
                <a:gdLst/>
                <a:ahLst/>
                <a:rect l="l" t="t" r="r" b="b"/>
                <a:pathLst>
                  <a:path w="97" h="143">
                    <a:moveTo>
                      <a:pt x="97" y="0"/>
                    </a:moveTo>
                    <a:lnTo>
                      <a:pt x="84" y="0"/>
                    </a:lnTo>
                    <a:lnTo>
                      <a:pt x="78" y="0"/>
                    </a:lnTo>
                    <a:lnTo>
                      <a:pt x="71" y="13"/>
                    </a:lnTo>
                    <a:lnTo>
                      <a:pt x="58" y="13"/>
                    </a:lnTo>
                    <a:lnTo>
                      <a:pt x="52" y="13"/>
                    </a:lnTo>
                    <a:lnTo>
                      <a:pt x="52" y="19"/>
                    </a:lnTo>
                    <a:lnTo>
                      <a:pt x="46" y="39"/>
                    </a:lnTo>
                    <a:lnTo>
                      <a:pt x="33" y="39"/>
                    </a:lnTo>
                    <a:lnTo>
                      <a:pt x="33" y="45"/>
                    </a:lnTo>
                    <a:lnTo>
                      <a:pt x="26" y="52"/>
                    </a:lnTo>
                    <a:lnTo>
                      <a:pt x="20" y="52"/>
                    </a:lnTo>
                    <a:lnTo>
                      <a:pt x="20" y="65"/>
                    </a:lnTo>
                    <a:lnTo>
                      <a:pt x="20" y="71"/>
                    </a:lnTo>
                    <a:lnTo>
                      <a:pt x="20" y="78"/>
                    </a:lnTo>
                    <a:lnTo>
                      <a:pt x="7" y="78"/>
                    </a:lnTo>
                    <a:lnTo>
                      <a:pt x="20" y="91"/>
                    </a:lnTo>
                    <a:lnTo>
                      <a:pt x="7" y="97"/>
                    </a:lnTo>
                    <a:lnTo>
                      <a:pt x="7" y="110"/>
                    </a:lnTo>
                    <a:lnTo>
                      <a:pt x="0" y="117"/>
                    </a:lnTo>
                    <a:lnTo>
                      <a:pt x="7" y="136"/>
                    </a:lnTo>
                    <a:lnTo>
                      <a:pt x="20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2720" y="4461840"/>
                <a:ext cx="112680" cy="20520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78" y="0"/>
                    </a:moveTo>
                    <a:lnTo>
                      <a:pt x="71" y="13"/>
                    </a:lnTo>
                    <a:lnTo>
                      <a:pt x="58" y="13"/>
                    </a:lnTo>
                    <a:lnTo>
                      <a:pt x="52" y="19"/>
                    </a:lnTo>
                    <a:lnTo>
                      <a:pt x="32" y="19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26" y="45"/>
                    </a:lnTo>
                    <a:lnTo>
                      <a:pt x="19" y="58"/>
                    </a:lnTo>
                    <a:lnTo>
                      <a:pt x="19" y="64"/>
                    </a:lnTo>
                    <a:lnTo>
                      <a:pt x="6" y="64"/>
                    </a:lnTo>
                    <a:lnTo>
                      <a:pt x="6" y="71"/>
                    </a:lnTo>
                    <a:lnTo>
                      <a:pt x="6" y="84"/>
                    </a:lnTo>
                    <a:lnTo>
                      <a:pt x="6" y="97"/>
                    </a:lnTo>
                    <a:lnTo>
                      <a:pt x="6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6" y="142"/>
                    </a:lnTo>
                    <a:lnTo>
                      <a:pt x="6" y="155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b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72720" y="4461840"/>
                <a:ext cx="112680" cy="205200"/>
              </a:xfrm>
              <a:custGeom>
                <a:avLst/>
                <a:gdLst/>
                <a:ahLst/>
                <a:rect l="l" t="t" r="r" b="b"/>
                <a:pathLst>
                  <a:path w="78" h="155">
                    <a:moveTo>
                      <a:pt x="78" y="0"/>
                    </a:moveTo>
                    <a:lnTo>
                      <a:pt x="71" y="13"/>
                    </a:lnTo>
                    <a:lnTo>
                      <a:pt x="58" y="13"/>
                    </a:lnTo>
                    <a:lnTo>
                      <a:pt x="52" y="19"/>
                    </a:lnTo>
                    <a:lnTo>
                      <a:pt x="32" y="19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26" y="45"/>
                    </a:lnTo>
                    <a:lnTo>
                      <a:pt x="19" y="58"/>
                    </a:lnTo>
                    <a:lnTo>
                      <a:pt x="19" y="64"/>
                    </a:lnTo>
                    <a:lnTo>
                      <a:pt x="6" y="64"/>
                    </a:lnTo>
                    <a:lnTo>
                      <a:pt x="6" y="71"/>
                    </a:lnTo>
                    <a:lnTo>
                      <a:pt x="6" y="84"/>
                    </a:lnTo>
                    <a:lnTo>
                      <a:pt x="6" y="97"/>
                    </a:lnTo>
                    <a:lnTo>
                      <a:pt x="6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6" y="142"/>
                    </a:lnTo>
                    <a:lnTo>
                      <a:pt x="6" y="1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13120" y="4427280"/>
                <a:ext cx="120960" cy="197280"/>
              </a:xfrm>
              <a:custGeom>
                <a:avLst/>
                <a:gdLst/>
                <a:ahLst/>
                <a:rect l="l" t="t" r="r" b="b"/>
                <a:pathLst>
                  <a:path w="84" h="149">
                    <a:moveTo>
                      <a:pt x="84" y="0"/>
                    </a:moveTo>
                    <a:lnTo>
                      <a:pt x="78" y="13"/>
                    </a:lnTo>
                    <a:lnTo>
                      <a:pt x="58" y="19"/>
                    </a:lnTo>
                    <a:lnTo>
                      <a:pt x="45" y="19"/>
                    </a:lnTo>
                    <a:lnTo>
                      <a:pt x="45" y="26"/>
                    </a:lnTo>
                    <a:lnTo>
                      <a:pt x="45" y="39"/>
                    </a:lnTo>
                    <a:lnTo>
                      <a:pt x="32" y="45"/>
                    </a:lnTo>
                    <a:lnTo>
                      <a:pt x="26" y="58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13" y="84"/>
                    </a:lnTo>
                    <a:lnTo>
                      <a:pt x="7" y="84"/>
                    </a:lnTo>
                    <a:lnTo>
                      <a:pt x="13" y="84"/>
                    </a:lnTo>
                    <a:lnTo>
                      <a:pt x="7" y="90"/>
                    </a:lnTo>
                    <a:lnTo>
                      <a:pt x="7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7" y="142"/>
                    </a:lnTo>
                    <a:lnTo>
                      <a:pt x="7" y="149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b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13120" y="4427280"/>
                <a:ext cx="120960" cy="197280"/>
              </a:xfrm>
              <a:custGeom>
                <a:avLst/>
                <a:gdLst/>
                <a:ahLst/>
                <a:rect l="l" t="t" r="r" b="b"/>
                <a:pathLst>
                  <a:path w="84" h="149">
                    <a:moveTo>
                      <a:pt x="84" y="0"/>
                    </a:moveTo>
                    <a:lnTo>
                      <a:pt x="78" y="13"/>
                    </a:lnTo>
                    <a:lnTo>
                      <a:pt x="58" y="19"/>
                    </a:lnTo>
                    <a:lnTo>
                      <a:pt x="45" y="19"/>
                    </a:lnTo>
                    <a:lnTo>
                      <a:pt x="45" y="26"/>
                    </a:lnTo>
                    <a:lnTo>
                      <a:pt x="45" y="39"/>
                    </a:lnTo>
                    <a:lnTo>
                      <a:pt x="32" y="45"/>
                    </a:lnTo>
                    <a:lnTo>
                      <a:pt x="26" y="58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13" y="84"/>
                    </a:lnTo>
                    <a:lnTo>
                      <a:pt x="7" y="84"/>
                    </a:lnTo>
                    <a:lnTo>
                      <a:pt x="13" y="84"/>
                    </a:lnTo>
                    <a:lnTo>
                      <a:pt x="7" y="90"/>
                    </a:lnTo>
                    <a:lnTo>
                      <a:pt x="7" y="110"/>
                    </a:lnTo>
                    <a:lnTo>
                      <a:pt x="0" y="116"/>
                    </a:lnTo>
                    <a:lnTo>
                      <a:pt x="0" y="123"/>
                    </a:lnTo>
                    <a:lnTo>
                      <a:pt x="7" y="142"/>
                    </a:lnTo>
                    <a:lnTo>
                      <a:pt x="7" y="1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71880" y="4383720"/>
                <a:ext cx="131040" cy="189360"/>
              </a:xfrm>
              <a:custGeom>
                <a:avLst/>
                <a:gdLst/>
                <a:ahLst/>
                <a:rect l="l" t="t" r="r" b="b"/>
                <a:pathLst>
                  <a:path w="91" h="143">
                    <a:moveTo>
                      <a:pt x="91" y="0"/>
                    </a:moveTo>
                    <a:lnTo>
                      <a:pt x="78" y="0"/>
                    </a:lnTo>
                    <a:lnTo>
                      <a:pt x="71" y="0"/>
                    </a:lnTo>
                    <a:lnTo>
                      <a:pt x="65" y="7"/>
                    </a:lnTo>
                    <a:lnTo>
                      <a:pt x="46" y="20"/>
                    </a:lnTo>
                    <a:lnTo>
                      <a:pt x="46" y="26"/>
                    </a:lnTo>
                    <a:lnTo>
                      <a:pt x="39" y="33"/>
                    </a:lnTo>
                    <a:lnTo>
                      <a:pt x="26" y="33"/>
                    </a:lnTo>
                    <a:lnTo>
                      <a:pt x="26" y="52"/>
                    </a:lnTo>
                    <a:lnTo>
                      <a:pt x="20" y="52"/>
                    </a:lnTo>
                    <a:lnTo>
                      <a:pt x="13" y="59"/>
                    </a:lnTo>
                    <a:lnTo>
                      <a:pt x="13" y="72"/>
                    </a:lnTo>
                    <a:lnTo>
                      <a:pt x="13" y="78"/>
                    </a:lnTo>
                    <a:lnTo>
                      <a:pt x="13" y="98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43"/>
                    </a:lnTo>
                    <a:lnTo>
                      <a:pt x="13" y="143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b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71880" y="4383720"/>
                <a:ext cx="131040" cy="189360"/>
              </a:xfrm>
              <a:custGeom>
                <a:avLst/>
                <a:gdLst/>
                <a:ahLst/>
                <a:rect l="l" t="t" r="r" b="b"/>
                <a:pathLst>
                  <a:path w="91" h="143">
                    <a:moveTo>
                      <a:pt x="91" y="0"/>
                    </a:moveTo>
                    <a:lnTo>
                      <a:pt x="78" y="0"/>
                    </a:lnTo>
                    <a:lnTo>
                      <a:pt x="71" y="0"/>
                    </a:lnTo>
                    <a:lnTo>
                      <a:pt x="65" y="7"/>
                    </a:lnTo>
                    <a:lnTo>
                      <a:pt x="46" y="20"/>
                    </a:lnTo>
                    <a:lnTo>
                      <a:pt x="46" y="26"/>
                    </a:lnTo>
                    <a:lnTo>
                      <a:pt x="39" y="33"/>
                    </a:lnTo>
                    <a:lnTo>
                      <a:pt x="26" y="33"/>
                    </a:lnTo>
                    <a:lnTo>
                      <a:pt x="26" y="52"/>
                    </a:lnTo>
                    <a:lnTo>
                      <a:pt x="20" y="52"/>
                    </a:lnTo>
                    <a:lnTo>
                      <a:pt x="13" y="59"/>
                    </a:lnTo>
                    <a:lnTo>
                      <a:pt x="13" y="72"/>
                    </a:lnTo>
                    <a:lnTo>
                      <a:pt x="13" y="78"/>
                    </a:lnTo>
                    <a:lnTo>
                      <a:pt x="13" y="98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43"/>
                    </a:lnTo>
                    <a:lnTo>
                      <a:pt x="13" y="14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205760" y="3381480"/>
              <a:ext cx="720720" cy="290520"/>
              <a:chOff x="7205760" y="3381480"/>
              <a:chExt cx="720720" cy="290520"/>
            </a:xfrm>
          </p:grpSpPr>
          <p:sp>
            <p:nvSpPr>
              <p:cNvPr id="179" name=""/>
              <p:cNvSpPr/>
              <p:nvPr/>
            </p:nvSpPr>
            <p:spPr>
              <a:xfrm>
                <a:off x="7205760" y="3381480"/>
                <a:ext cx="720720" cy="290520"/>
              </a:xfrm>
              <a:custGeom>
                <a:avLst/>
                <a:gdLst/>
                <a:ahLst/>
                <a:rect l="l" t="t" r="r" b="b"/>
                <a:pathLst>
                  <a:path w="499" h="220">
                    <a:moveTo>
                      <a:pt x="246" y="13"/>
                    </a:moveTo>
                    <a:lnTo>
                      <a:pt x="136" y="20"/>
                    </a:lnTo>
                    <a:lnTo>
                      <a:pt x="123" y="20"/>
                    </a:lnTo>
                    <a:lnTo>
                      <a:pt x="97" y="20"/>
                    </a:lnTo>
                    <a:lnTo>
                      <a:pt x="77" y="39"/>
                    </a:lnTo>
                    <a:lnTo>
                      <a:pt x="65" y="46"/>
                    </a:lnTo>
                    <a:lnTo>
                      <a:pt x="52" y="46"/>
                    </a:lnTo>
                    <a:lnTo>
                      <a:pt x="45" y="58"/>
                    </a:lnTo>
                    <a:lnTo>
                      <a:pt x="39" y="65"/>
                    </a:lnTo>
                    <a:lnTo>
                      <a:pt x="26" y="71"/>
                    </a:lnTo>
                    <a:lnTo>
                      <a:pt x="19" y="71"/>
                    </a:lnTo>
                    <a:lnTo>
                      <a:pt x="19" y="84"/>
                    </a:lnTo>
                    <a:lnTo>
                      <a:pt x="13" y="97"/>
                    </a:lnTo>
                    <a:lnTo>
                      <a:pt x="0" y="97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13" y="136"/>
                    </a:lnTo>
                    <a:lnTo>
                      <a:pt x="19" y="143"/>
                    </a:lnTo>
                    <a:lnTo>
                      <a:pt x="26" y="143"/>
                    </a:lnTo>
                    <a:lnTo>
                      <a:pt x="39" y="162"/>
                    </a:lnTo>
                    <a:lnTo>
                      <a:pt x="52" y="169"/>
                    </a:lnTo>
                    <a:lnTo>
                      <a:pt x="65" y="182"/>
                    </a:lnTo>
                    <a:lnTo>
                      <a:pt x="71" y="188"/>
                    </a:lnTo>
                    <a:lnTo>
                      <a:pt x="90" y="195"/>
                    </a:lnTo>
                    <a:lnTo>
                      <a:pt x="103" y="208"/>
                    </a:lnTo>
                    <a:lnTo>
                      <a:pt x="123" y="208"/>
                    </a:lnTo>
                    <a:lnTo>
                      <a:pt x="142" y="208"/>
                    </a:lnTo>
                    <a:lnTo>
                      <a:pt x="162" y="220"/>
                    </a:lnTo>
                    <a:lnTo>
                      <a:pt x="194" y="220"/>
                    </a:lnTo>
                    <a:lnTo>
                      <a:pt x="201" y="220"/>
                    </a:lnTo>
                    <a:lnTo>
                      <a:pt x="220" y="220"/>
                    </a:lnTo>
                    <a:lnTo>
                      <a:pt x="227" y="220"/>
                    </a:lnTo>
                    <a:lnTo>
                      <a:pt x="246" y="220"/>
                    </a:lnTo>
                    <a:lnTo>
                      <a:pt x="272" y="220"/>
                    </a:lnTo>
                    <a:lnTo>
                      <a:pt x="291" y="220"/>
                    </a:lnTo>
                    <a:lnTo>
                      <a:pt x="304" y="220"/>
                    </a:lnTo>
                    <a:lnTo>
                      <a:pt x="324" y="220"/>
                    </a:lnTo>
                    <a:lnTo>
                      <a:pt x="343" y="220"/>
                    </a:lnTo>
                    <a:lnTo>
                      <a:pt x="356" y="214"/>
                    </a:lnTo>
                    <a:lnTo>
                      <a:pt x="369" y="214"/>
                    </a:lnTo>
                    <a:lnTo>
                      <a:pt x="382" y="208"/>
                    </a:lnTo>
                    <a:lnTo>
                      <a:pt x="402" y="208"/>
                    </a:lnTo>
                    <a:lnTo>
                      <a:pt x="421" y="208"/>
                    </a:lnTo>
                    <a:lnTo>
                      <a:pt x="427" y="208"/>
                    </a:lnTo>
                    <a:lnTo>
                      <a:pt x="447" y="208"/>
                    </a:lnTo>
                    <a:lnTo>
                      <a:pt x="453" y="195"/>
                    </a:lnTo>
                    <a:lnTo>
                      <a:pt x="466" y="188"/>
                    </a:lnTo>
                    <a:lnTo>
                      <a:pt x="479" y="188"/>
                    </a:lnTo>
                    <a:lnTo>
                      <a:pt x="492" y="182"/>
                    </a:lnTo>
                    <a:lnTo>
                      <a:pt x="492" y="169"/>
                    </a:lnTo>
                    <a:lnTo>
                      <a:pt x="499" y="162"/>
                    </a:lnTo>
                    <a:lnTo>
                      <a:pt x="499" y="149"/>
                    </a:lnTo>
                    <a:lnTo>
                      <a:pt x="499" y="143"/>
                    </a:lnTo>
                    <a:lnTo>
                      <a:pt x="499" y="123"/>
                    </a:lnTo>
                    <a:lnTo>
                      <a:pt x="499" y="117"/>
                    </a:lnTo>
                    <a:lnTo>
                      <a:pt x="499" y="110"/>
                    </a:lnTo>
                    <a:lnTo>
                      <a:pt x="499" y="97"/>
                    </a:lnTo>
                    <a:lnTo>
                      <a:pt x="492" y="91"/>
                    </a:lnTo>
                    <a:lnTo>
                      <a:pt x="492" y="84"/>
                    </a:lnTo>
                    <a:lnTo>
                      <a:pt x="479" y="71"/>
                    </a:lnTo>
                    <a:lnTo>
                      <a:pt x="466" y="71"/>
                    </a:lnTo>
                    <a:lnTo>
                      <a:pt x="453" y="65"/>
                    </a:lnTo>
                    <a:lnTo>
                      <a:pt x="440" y="58"/>
                    </a:lnTo>
                    <a:lnTo>
                      <a:pt x="427" y="58"/>
                    </a:lnTo>
                    <a:lnTo>
                      <a:pt x="427" y="46"/>
                    </a:lnTo>
                    <a:lnTo>
                      <a:pt x="421" y="46"/>
                    </a:lnTo>
                    <a:lnTo>
                      <a:pt x="402" y="39"/>
                    </a:lnTo>
                    <a:lnTo>
                      <a:pt x="382" y="33"/>
                    </a:lnTo>
                    <a:lnTo>
                      <a:pt x="369" y="20"/>
                    </a:lnTo>
                    <a:lnTo>
                      <a:pt x="356" y="20"/>
                    </a:lnTo>
                    <a:lnTo>
                      <a:pt x="343" y="13"/>
                    </a:lnTo>
                    <a:lnTo>
                      <a:pt x="330" y="13"/>
                    </a:lnTo>
                    <a:lnTo>
                      <a:pt x="324" y="0"/>
                    </a:lnTo>
                    <a:lnTo>
                      <a:pt x="317" y="0"/>
                    </a:lnTo>
                    <a:lnTo>
                      <a:pt x="304" y="0"/>
                    </a:lnTo>
                    <a:lnTo>
                      <a:pt x="298" y="0"/>
                    </a:lnTo>
                    <a:lnTo>
                      <a:pt x="278" y="0"/>
                    </a:lnTo>
                    <a:lnTo>
                      <a:pt x="272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46" y="0"/>
                    </a:lnTo>
                    <a:lnTo>
                      <a:pt x="239" y="0"/>
                    </a:lnTo>
                    <a:lnTo>
                      <a:pt x="227" y="0"/>
                    </a:lnTo>
                    <a:lnTo>
                      <a:pt x="246" y="13"/>
                    </a:lnTo>
                    <a:close/>
                  </a:path>
                </a:pathLst>
              </a:custGeom>
              <a:solidFill>
                <a:srgbClr val="ffe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05760" y="3381480"/>
                <a:ext cx="720720" cy="290520"/>
              </a:xfrm>
              <a:custGeom>
                <a:avLst/>
                <a:gdLst/>
                <a:ahLst/>
                <a:rect l="l" t="t" r="r" b="b"/>
                <a:pathLst>
                  <a:path w="499" h="220">
                    <a:moveTo>
                      <a:pt x="246" y="13"/>
                    </a:moveTo>
                    <a:lnTo>
                      <a:pt x="136" y="20"/>
                    </a:lnTo>
                    <a:lnTo>
                      <a:pt x="123" y="20"/>
                    </a:lnTo>
                    <a:lnTo>
                      <a:pt x="97" y="20"/>
                    </a:lnTo>
                    <a:lnTo>
                      <a:pt x="77" y="39"/>
                    </a:lnTo>
                    <a:lnTo>
                      <a:pt x="65" y="46"/>
                    </a:lnTo>
                    <a:lnTo>
                      <a:pt x="52" y="46"/>
                    </a:lnTo>
                    <a:lnTo>
                      <a:pt x="45" y="58"/>
                    </a:lnTo>
                    <a:lnTo>
                      <a:pt x="39" y="65"/>
                    </a:lnTo>
                    <a:lnTo>
                      <a:pt x="26" y="71"/>
                    </a:lnTo>
                    <a:lnTo>
                      <a:pt x="19" y="71"/>
                    </a:lnTo>
                    <a:lnTo>
                      <a:pt x="19" y="84"/>
                    </a:lnTo>
                    <a:lnTo>
                      <a:pt x="13" y="97"/>
                    </a:lnTo>
                    <a:lnTo>
                      <a:pt x="0" y="97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13" y="136"/>
                    </a:lnTo>
                    <a:lnTo>
                      <a:pt x="19" y="143"/>
                    </a:lnTo>
                    <a:lnTo>
                      <a:pt x="26" y="143"/>
                    </a:lnTo>
                    <a:lnTo>
                      <a:pt x="39" y="162"/>
                    </a:lnTo>
                    <a:lnTo>
                      <a:pt x="52" y="169"/>
                    </a:lnTo>
                    <a:lnTo>
                      <a:pt x="65" y="182"/>
                    </a:lnTo>
                    <a:lnTo>
                      <a:pt x="71" y="188"/>
                    </a:lnTo>
                    <a:lnTo>
                      <a:pt x="90" y="195"/>
                    </a:lnTo>
                    <a:lnTo>
                      <a:pt x="103" y="208"/>
                    </a:lnTo>
                    <a:lnTo>
                      <a:pt x="123" y="208"/>
                    </a:lnTo>
                    <a:lnTo>
                      <a:pt x="142" y="208"/>
                    </a:lnTo>
                    <a:lnTo>
                      <a:pt x="162" y="220"/>
                    </a:lnTo>
                    <a:lnTo>
                      <a:pt x="194" y="220"/>
                    </a:lnTo>
                    <a:lnTo>
                      <a:pt x="201" y="220"/>
                    </a:lnTo>
                    <a:lnTo>
                      <a:pt x="220" y="220"/>
                    </a:lnTo>
                    <a:lnTo>
                      <a:pt x="227" y="220"/>
                    </a:lnTo>
                    <a:lnTo>
                      <a:pt x="246" y="220"/>
                    </a:lnTo>
                    <a:lnTo>
                      <a:pt x="272" y="220"/>
                    </a:lnTo>
                    <a:lnTo>
                      <a:pt x="291" y="220"/>
                    </a:lnTo>
                    <a:lnTo>
                      <a:pt x="304" y="220"/>
                    </a:lnTo>
                    <a:lnTo>
                      <a:pt x="324" y="220"/>
                    </a:lnTo>
                    <a:lnTo>
                      <a:pt x="343" y="220"/>
                    </a:lnTo>
                    <a:lnTo>
                      <a:pt x="356" y="214"/>
                    </a:lnTo>
                    <a:lnTo>
                      <a:pt x="369" y="214"/>
                    </a:lnTo>
                    <a:lnTo>
                      <a:pt x="382" y="208"/>
                    </a:lnTo>
                    <a:lnTo>
                      <a:pt x="402" y="208"/>
                    </a:lnTo>
                    <a:lnTo>
                      <a:pt x="421" y="208"/>
                    </a:lnTo>
                    <a:lnTo>
                      <a:pt x="427" y="208"/>
                    </a:lnTo>
                    <a:lnTo>
                      <a:pt x="447" y="208"/>
                    </a:lnTo>
                    <a:lnTo>
                      <a:pt x="453" y="195"/>
                    </a:lnTo>
                    <a:lnTo>
                      <a:pt x="466" y="188"/>
                    </a:lnTo>
                    <a:lnTo>
                      <a:pt x="479" y="188"/>
                    </a:lnTo>
                    <a:lnTo>
                      <a:pt x="492" y="182"/>
                    </a:lnTo>
                    <a:lnTo>
                      <a:pt x="492" y="169"/>
                    </a:lnTo>
                    <a:lnTo>
                      <a:pt x="499" y="162"/>
                    </a:lnTo>
                    <a:lnTo>
                      <a:pt x="499" y="149"/>
                    </a:lnTo>
                    <a:lnTo>
                      <a:pt x="499" y="143"/>
                    </a:lnTo>
                    <a:lnTo>
                      <a:pt x="499" y="123"/>
                    </a:lnTo>
                    <a:lnTo>
                      <a:pt x="499" y="117"/>
                    </a:lnTo>
                    <a:lnTo>
                      <a:pt x="499" y="110"/>
                    </a:lnTo>
                    <a:lnTo>
                      <a:pt x="499" y="97"/>
                    </a:lnTo>
                    <a:lnTo>
                      <a:pt x="492" y="91"/>
                    </a:lnTo>
                    <a:lnTo>
                      <a:pt x="492" y="84"/>
                    </a:lnTo>
                    <a:lnTo>
                      <a:pt x="479" y="71"/>
                    </a:lnTo>
                    <a:lnTo>
                      <a:pt x="466" y="71"/>
                    </a:lnTo>
                    <a:lnTo>
                      <a:pt x="453" y="65"/>
                    </a:lnTo>
                    <a:lnTo>
                      <a:pt x="440" y="58"/>
                    </a:lnTo>
                    <a:lnTo>
                      <a:pt x="427" y="58"/>
                    </a:lnTo>
                    <a:lnTo>
                      <a:pt x="427" y="46"/>
                    </a:lnTo>
                    <a:lnTo>
                      <a:pt x="421" y="46"/>
                    </a:lnTo>
                    <a:lnTo>
                      <a:pt x="402" y="39"/>
                    </a:lnTo>
                    <a:lnTo>
                      <a:pt x="382" y="33"/>
                    </a:lnTo>
                    <a:lnTo>
                      <a:pt x="369" y="20"/>
                    </a:lnTo>
                    <a:lnTo>
                      <a:pt x="356" y="20"/>
                    </a:lnTo>
                    <a:lnTo>
                      <a:pt x="343" y="13"/>
                    </a:lnTo>
                    <a:lnTo>
                      <a:pt x="330" y="13"/>
                    </a:lnTo>
                    <a:lnTo>
                      <a:pt x="324" y="0"/>
                    </a:lnTo>
                    <a:lnTo>
                      <a:pt x="317" y="0"/>
                    </a:lnTo>
                    <a:lnTo>
                      <a:pt x="304" y="0"/>
                    </a:lnTo>
                    <a:lnTo>
                      <a:pt x="298" y="0"/>
                    </a:lnTo>
                    <a:lnTo>
                      <a:pt x="278" y="0"/>
                    </a:lnTo>
                    <a:lnTo>
                      <a:pt x="272" y="0"/>
                    </a:lnTo>
                    <a:lnTo>
                      <a:pt x="265" y="0"/>
                    </a:lnTo>
                    <a:lnTo>
                      <a:pt x="252" y="0"/>
                    </a:lnTo>
                    <a:lnTo>
                      <a:pt x="246" y="0"/>
                    </a:lnTo>
                    <a:lnTo>
                      <a:pt x="239" y="0"/>
                    </a:ln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54440" y="3407760"/>
                <a:ext cx="159840" cy="128160"/>
              </a:xfrm>
              <a:custGeom>
                <a:avLst/>
                <a:gdLst/>
                <a:ahLst/>
                <a:rect l="l" t="t" r="r" b="b"/>
                <a:pathLst>
                  <a:path w="111" h="97">
                    <a:moveTo>
                      <a:pt x="111" y="0"/>
                    </a:moveTo>
                    <a:lnTo>
                      <a:pt x="98" y="0"/>
                    </a:lnTo>
                    <a:lnTo>
                      <a:pt x="98" y="13"/>
                    </a:lnTo>
                    <a:lnTo>
                      <a:pt x="91" y="13"/>
                    </a:lnTo>
                    <a:lnTo>
                      <a:pt x="85" y="13"/>
                    </a:lnTo>
                    <a:lnTo>
                      <a:pt x="72" y="13"/>
                    </a:lnTo>
                    <a:lnTo>
                      <a:pt x="72" y="19"/>
                    </a:lnTo>
                    <a:lnTo>
                      <a:pt x="65" y="38"/>
                    </a:lnTo>
                    <a:lnTo>
                      <a:pt x="59" y="38"/>
                    </a:lnTo>
                    <a:lnTo>
                      <a:pt x="59" y="45"/>
                    </a:lnTo>
                    <a:lnTo>
                      <a:pt x="39" y="51"/>
                    </a:lnTo>
                    <a:lnTo>
                      <a:pt x="39" y="64"/>
                    </a:lnTo>
                    <a:lnTo>
                      <a:pt x="33" y="64"/>
                    </a:lnTo>
                    <a:lnTo>
                      <a:pt x="20" y="64"/>
                    </a:lnTo>
                    <a:lnTo>
                      <a:pt x="20" y="71"/>
                    </a:lnTo>
                    <a:lnTo>
                      <a:pt x="20" y="77"/>
                    </a:lnTo>
                    <a:lnTo>
                      <a:pt x="13" y="77"/>
                    </a:lnTo>
                    <a:lnTo>
                      <a:pt x="0" y="9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e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54440" y="3407760"/>
                <a:ext cx="159840" cy="128160"/>
              </a:xfrm>
              <a:custGeom>
                <a:avLst/>
                <a:gdLst/>
                <a:ahLst/>
                <a:rect l="l" t="t" r="r" b="b"/>
                <a:pathLst>
                  <a:path w="111" h="97">
                    <a:moveTo>
                      <a:pt x="111" y="0"/>
                    </a:moveTo>
                    <a:lnTo>
                      <a:pt x="98" y="0"/>
                    </a:lnTo>
                    <a:lnTo>
                      <a:pt x="98" y="13"/>
                    </a:lnTo>
                    <a:lnTo>
                      <a:pt x="91" y="13"/>
                    </a:lnTo>
                    <a:lnTo>
                      <a:pt x="85" y="13"/>
                    </a:lnTo>
                    <a:lnTo>
                      <a:pt x="72" y="13"/>
                    </a:lnTo>
                    <a:lnTo>
                      <a:pt x="72" y="19"/>
                    </a:lnTo>
                    <a:lnTo>
                      <a:pt x="65" y="38"/>
                    </a:lnTo>
                    <a:lnTo>
                      <a:pt x="59" y="38"/>
                    </a:lnTo>
                    <a:lnTo>
                      <a:pt x="59" y="45"/>
                    </a:lnTo>
                    <a:lnTo>
                      <a:pt x="39" y="51"/>
                    </a:lnTo>
                    <a:lnTo>
                      <a:pt x="39" y="64"/>
                    </a:lnTo>
                    <a:lnTo>
                      <a:pt x="33" y="64"/>
                    </a:lnTo>
                    <a:lnTo>
                      <a:pt x="20" y="64"/>
                    </a:lnTo>
                    <a:lnTo>
                      <a:pt x="20" y="71"/>
                    </a:lnTo>
                    <a:lnTo>
                      <a:pt x="20" y="77"/>
                    </a:lnTo>
                    <a:lnTo>
                      <a:pt x="13" y="77"/>
                    </a:lnTo>
                    <a:lnTo>
                      <a:pt x="0" y="9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77200" y="3407760"/>
                <a:ext cx="159120" cy="13572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110" y="0"/>
                    </a:moveTo>
                    <a:lnTo>
                      <a:pt x="103" y="0"/>
                    </a:lnTo>
                    <a:lnTo>
                      <a:pt x="90" y="19"/>
                    </a:lnTo>
                    <a:lnTo>
                      <a:pt x="77" y="19"/>
                    </a:lnTo>
                    <a:lnTo>
                      <a:pt x="77" y="26"/>
                    </a:lnTo>
                    <a:lnTo>
                      <a:pt x="64" y="38"/>
                    </a:lnTo>
                    <a:lnTo>
                      <a:pt x="58" y="38"/>
                    </a:lnTo>
                    <a:lnTo>
                      <a:pt x="58" y="45"/>
                    </a:lnTo>
                    <a:lnTo>
                      <a:pt x="51" y="45"/>
                    </a:lnTo>
                    <a:lnTo>
                      <a:pt x="39" y="51"/>
                    </a:lnTo>
                    <a:lnTo>
                      <a:pt x="32" y="51"/>
                    </a:lnTo>
                    <a:lnTo>
                      <a:pt x="32" y="64"/>
                    </a:lnTo>
                    <a:lnTo>
                      <a:pt x="26" y="64"/>
                    </a:lnTo>
                    <a:lnTo>
                      <a:pt x="26" y="71"/>
                    </a:lnTo>
                    <a:lnTo>
                      <a:pt x="13" y="71"/>
                    </a:lnTo>
                    <a:lnTo>
                      <a:pt x="13" y="77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9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e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477200" y="3407760"/>
                <a:ext cx="159120" cy="13572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110" y="0"/>
                    </a:moveTo>
                    <a:lnTo>
                      <a:pt x="103" y="0"/>
                    </a:lnTo>
                    <a:lnTo>
                      <a:pt x="90" y="19"/>
                    </a:lnTo>
                    <a:lnTo>
                      <a:pt x="77" y="19"/>
                    </a:lnTo>
                    <a:lnTo>
                      <a:pt x="77" y="26"/>
                    </a:lnTo>
                    <a:lnTo>
                      <a:pt x="64" y="38"/>
                    </a:lnTo>
                    <a:lnTo>
                      <a:pt x="58" y="38"/>
                    </a:lnTo>
                    <a:lnTo>
                      <a:pt x="58" y="45"/>
                    </a:lnTo>
                    <a:lnTo>
                      <a:pt x="51" y="45"/>
                    </a:lnTo>
                    <a:lnTo>
                      <a:pt x="39" y="51"/>
                    </a:lnTo>
                    <a:lnTo>
                      <a:pt x="32" y="51"/>
                    </a:lnTo>
                    <a:lnTo>
                      <a:pt x="32" y="64"/>
                    </a:lnTo>
                    <a:lnTo>
                      <a:pt x="26" y="64"/>
                    </a:lnTo>
                    <a:lnTo>
                      <a:pt x="26" y="71"/>
                    </a:lnTo>
                    <a:lnTo>
                      <a:pt x="13" y="71"/>
                    </a:lnTo>
                    <a:lnTo>
                      <a:pt x="13" y="77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9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07160" y="3407760"/>
                <a:ext cx="150120" cy="135720"/>
              </a:xfrm>
              <a:custGeom>
                <a:avLst/>
                <a:gdLst/>
                <a:ahLst/>
                <a:rect l="l" t="t" r="r" b="b"/>
                <a:pathLst>
                  <a:path w="104" h="103">
                    <a:moveTo>
                      <a:pt x="104" y="0"/>
                    </a:moveTo>
                    <a:lnTo>
                      <a:pt x="98" y="19"/>
                    </a:lnTo>
                    <a:lnTo>
                      <a:pt x="91" y="19"/>
                    </a:lnTo>
                    <a:lnTo>
                      <a:pt x="78" y="19"/>
                    </a:lnTo>
                    <a:lnTo>
                      <a:pt x="78" y="26"/>
                    </a:lnTo>
                    <a:lnTo>
                      <a:pt x="72" y="38"/>
                    </a:lnTo>
                    <a:lnTo>
                      <a:pt x="65" y="38"/>
                    </a:lnTo>
                    <a:lnTo>
                      <a:pt x="65" y="45"/>
                    </a:lnTo>
                    <a:lnTo>
                      <a:pt x="52" y="45"/>
                    </a:lnTo>
                    <a:lnTo>
                      <a:pt x="46" y="51"/>
                    </a:lnTo>
                    <a:lnTo>
                      <a:pt x="39" y="51"/>
                    </a:lnTo>
                    <a:lnTo>
                      <a:pt x="39" y="64"/>
                    </a:lnTo>
                    <a:lnTo>
                      <a:pt x="26" y="64"/>
                    </a:lnTo>
                    <a:lnTo>
                      <a:pt x="26" y="77"/>
                    </a:lnTo>
                    <a:lnTo>
                      <a:pt x="20" y="77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97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e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07160" y="3407760"/>
                <a:ext cx="150120" cy="135720"/>
              </a:xfrm>
              <a:custGeom>
                <a:avLst/>
                <a:gdLst/>
                <a:ahLst/>
                <a:rect l="l" t="t" r="r" b="b"/>
                <a:pathLst>
                  <a:path w="104" h="103">
                    <a:moveTo>
                      <a:pt x="104" y="0"/>
                    </a:moveTo>
                    <a:lnTo>
                      <a:pt x="98" y="19"/>
                    </a:lnTo>
                    <a:lnTo>
                      <a:pt x="91" y="19"/>
                    </a:lnTo>
                    <a:lnTo>
                      <a:pt x="78" y="19"/>
                    </a:lnTo>
                    <a:lnTo>
                      <a:pt x="78" y="26"/>
                    </a:lnTo>
                    <a:lnTo>
                      <a:pt x="72" y="38"/>
                    </a:lnTo>
                    <a:lnTo>
                      <a:pt x="65" y="38"/>
                    </a:lnTo>
                    <a:lnTo>
                      <a:pt x="65" y="45"/>
                    </a:lnTo>
                    <a:lnTo>
                      <a:pt x="52" y="45"/>
                    </a:lnTo>
                    <a:lnTo>
                      <a:pt x="46" y="51"/>
                    </a:lnTo>
                    <a:lnTo>
                      <a:pt x="39" y="51"/>
                    </a:lnTo>
                    <a:lnTo>
                      <a:pt x="39" y="64"/>
                    </a:lnTo>
                    <a:lnTo>
                      <a:pt x="26" y="64"/>
                    </a:lnTo>
                    <a:lnTo>
                      <a:pt x="26" y="77"/>
                    </a:lnTo>
                    <a:lnTo>
                      <a:pt x="20" y="77"/>
                    </a:lnTo>
                    <a:lnTo>
                      <a:pt x="0" y="97"/>
                    </a:lnTo>
                    <a:lnTo>
                      <a:pt x="0" y="103"/>
                    </a:lnTo>
                    <a:lnTo>
                      <a:pt x="0" y="9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6708600" y="3681360"/>
            <a:ext cx="365400" cy="266760"/>
          </a:xfrm>
          <a:custGeom>
            <a:avLst/>
            <a:gdLst/>
            <a:ahLst/>
            <a:rect l="l" t="t" r="r" b="b"/>
            <a:pathLst>
              <a:path w="253" h="201">
                <a:moveTo>
                  <a:pt x="130" y="149"/>
                </a:moveTo>
                <a:lnTo>
                  <a:pt x="0" y="201"/>
                </a:lnTo>
                <a:lnTo>
                  <a:pt x="72" y="104"/>
                </a:lnTo>
                <a:lnTo>
                  <a:pt x="72" y="97"/>
                </a:lnTo>
                <a:lnTo>
                  <a:pt x="72" y="91"/>
                </a:lnTo>
                <a:lnTo>
                  <a:pt x="72" y="78"/>
                </a:lnTo>
                <a:lnTo>
                  <a:pt x="72" y="71"/>
                </a:lnTo>
                <a:lnTo>
                  <a:pt x="104" y="32"/>
                </a:lnTo>
                <a:lnTo>
                  <a:pt x="188" y="0"/>
                </a:lnTo>
                <a:lnTo>
                  <a:pt x="247" y="0"/>
                </a:lnTo>
                <a:lnTo>
                  <a:pt x="253" y="26"/>
                </a:lnTo>
                <a:lnTo>
                  <a:pt x="247" y="26"/>
                </a:lnTo>
                <a:lnTo>
                  <a:pt x="247" y="32"/>
                </a:lnTo>
                <a:lnTo>
                  <a:pt x="240" y="45"/>
                </a:lnTo>
                <a:lnTo>
                  <a:pt x="227" y="45"/>
                </a:lnTo>
                <a:lnTo>
                  <a:pt x="221" y="52"/>
                </a:lnTo>
                <a:lnTo>
                  <a:pt x="214" y="58"/>
                </a:lnTo>
                <a:lnTo>
                  <a:pt x="188" y="91"/>
                </a:lnTo>
                <a:lnTo>
                  <a:pt x="169" y="123"/>
                </a:lnTo>
                <a:lnTo>
                  <a:pt x="130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89880" y="3681360"/>
            <a:ext cx="376200" cy="266760"/>
          </a:xfrm>
          <a:custGeom>
            <a:avLst/>
            <a:gdLst/>
            <a:ahLst/>
            <a:rect l="l" t="t" r="r" b="b"/>
            <a:pathLst>
              <a:path w="260" h="201">
                <a:moveTo>
                  <a:pt x="13" y="201"/>
                </a:moveTo>
                <a:lnTo>
                  <a:pt x="85" y="104"/>
                </a:lnTo>
                <a:lnTo>
                  <a:pt x="85" y="97"/>
                </a:lnTo>
                <a:lnTo>
                  <a:pt x="85" y="91"/>
                </a:lnTo>
                <a:lnTo>
                  <a:pt x="85" y="78"/>
                </a:lnTo>
                <a:lnTo>
                  <a:pt x="110" y="45"/>
                </a:lnTo>
                <a:lnTo>
                  <a:pt x="182" y="0"/>
                </a:lnTo>
                <a:lnTo>
                  <a:pt x="260" y="6"/>
                </a:lnTo>
                <a:lnTo>
                  <a:pt x="260" y="26"/>
                </a:lnTo>
                <a:lnTo>
                  <a:pt x="253" y="32"/>
                </a:lnTo>
                <a:lnTo>
                  <a:pt x="240" y="45"/>
                </a:lnTo>
                <a:lnTo>
                  <a:pt x="227" y="52"/>
                </a:lnTo>
                <a:lnTo>
                  <a:pt x="214" y="58"/>
                </a:lnTo>
                <a:lnTo>
                  <a:pt x="188" y="91"/>
                </a:lnTo>
                <a:lnTo>
                  <a:pt x="169" y="123"/>
                </a:lnTo>
                <a:lnTo>
                  <a:pt x="143" y="149"/>
                </a:lnTo>
                <a:lnTo>
                  <a:pt x="136" y="149"/>
                </a:lnTo>
                <a:lnTo>
                  <a:pt x="13" y="201"/>
                </a:lnTo>
                <a:lnTo>
                  <a:pt x="0" y="201"/>
                </a:lnTo>
                <a:lnTo>
                  <a:pt x="143" y="155"/>
                </a:lnTo>
                <a:lnTo>
                  <a:pt x="143" y="149"/>
                </a:lnTo>
                <a:lnTo>
                  <a:pt x="169" y="123"/>
                </a:lnTo>
                <a:lnTo>
                  <a:pt x="201" y="97"/>
                </a:lnTo>
                <a:lnTo>
                  <a:pt x="214" y="71"/>
                </a:lnTo>
                <a:lnTo>
                  <a:pt x="227" y="58"/>
                </a:lnTo>
                <a:lnTo>
                  <a:pt x="240" y="45"/>
                </a:lnTo>
                <a:lnTo>
                  <a:pt x="253" y="45"/>
                </a:lnTo>
                <a:lnTo>
                  <a:pt x="260" y="32"/>
                </a:lnTo>
                <a:lnTo>
                  <a:pt x="260" y="26"/>
                </a:lnTo>
                <a:lnTo>
                  <a:pt x="260" y="0"/>
                </a:lnTo>
                <a:lnTo>
                  <a:pt x="182" y="0"/>
                </a:lnTo>
                <a:lnTo>
                  <a:pt x="110" y="32"/>
                </a:lnTo>
                <a:lnTo>
                  <a:pt x="78" y="71"/>
                </a:lnTo>
                <a:lnTo>
                  <a:pt x="78" y="78"/>
                </a:lnTo>
                <a:lnTo>
                  <a:pt x="78" y="91"/>
                </a:lnTo>
                <a:lnTo>
                  <a:pt x="78" y="97"/>
                </a:lnTo>
                <a:lnTo>
                  <a:pt x="78" y="104"/>
                </a:lnTo>
                <a:lnTo>
                  <a:pt x="0" y="201"/>
                </a:lnTo>
                <a:lnTo>
                  <a:pt x="7" y="201"/>
                </a:lnTo>
                <a:lnTo>
                  <a:pt x="13" y="201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80160" y="4676760"/>
            <a:ext cx="120960" cy="301680"/>
          </a:xfrm>
          <a:custGeom>
            <a:avLst/>
            <a:gdLst/>
            <a:ahLst/>
            <a:rect l="l" t="t" r="r" b="b"/>
            <a:pathLst>
              <a:path w="84" h="227">
                <a:moveTo>
                  <a:pt x="84" y="0"/>
                </a:moveTo>
                <a:lnTo>
                  <a:pt x="32" y="45"/>
                </a:lnTo>
                <a:lnTo>
                  <a:pt x="0" y="103"/>
                </a:lnTo>
                <a:lnTo>
                  <a:pt x="0" y="168"/>
                </a:lnTo>
                <a:lnTo>
                  <a:pt x="6" y="194"/>
                </a:lnTo>
                <a:lnTo>
                  <a:pt x="19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83480" y="4667400"/>
            <a:ext cx="120600" cy="311040"/>
          </a:xfrm>
          <a:custGeom>
            <a:avLst/>
            <a:gdLst/>
            <a:ahLst/>
            <a:rect l="l" t="t" r="r" b="b"/>
            <a:pathLst>
              <a:path w="84" h="234">
                <a:moveTo>
                  <a:pt x="84" y="0"/>
                </a:moveTo>
                <a:lnTo>
                  <a:pt x="33" y="46"/>
                </a:lnTo>
                <a:lnTo>
                  <a:pt x="0" y="104"/>
                </a:lnTo>
                <a:lnTo>
                  <a:pt x="0" y="143"/>
                </a:lnTo>
                <a:lnTo>
                  <a:pt x="0" y="175"/>
                </a:lnTo>
                <a:lnTo>
                  <a:pt x="7" y="201"/>
                </a:lnTo>
                <a:lnTo>
                  <a:pt x="20" y="2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58000" y="4684680"/>
            <a:ext cx="120600" cy="301680"/>
          </a:xfrm>
          <a:custGeom>
            <a:avLst/>
            <a:gdLst/>
            <a:ahLst/>
            <a:rect l="l" t="t" r="r" b="b"/>
            <a:pathLst>
              <a:path w="84" h="227">
                <a:moveTo>
                  <a:pt x="84" y="0"/>
                </a:moveTo>
                <a:lnTo>
                  <a:pt x="45" y="52"/>
                </a:lnTo>
                <a:lnTo>
                  <a:pt x="20" y="65"/>
                </a:lnTo>
                <a:lnTo>
                  <a:pt x="13" y="84"/>
                </a:lnTo>
                <a:lnTo>
                  <a:pt x="0" y="97"/>
                </a:lnTo>
                <a:lnTo>
                  <a:pt x="0" y="123"/>
                </a:lnTo>
                <a:lnTo>
                  <a:pt x="13" y="169"/>
                </a:lnTo>
                <a:lnTo>
                  <a:pt x="26" y="214"/>
                </a:lnTo>
                <a:lnTo>
                  <a:pt x="32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9760" y="4702320"/>
            <a:ext cx="112680" cy="299880"/>
          </a:xfrm>
          <a:custGeom>
            <a:avLst/>
            <a:gdLst/>
            <a:ahLst/>
            <a:rect l="l" t="t" r="r" b="b"/>
            <a:pathLst>
              <a:path w="78" h="227">
                <a:moveTo>
                  <a:pt x="78" y="0"/>
                </a:moveTo>
                <a:lnTo>
                  <a:pt x="32" y="46"/>
                </a:lnTo>
                <a:lnTo>
                  <a:pt x="6" y="65"/>
                </a:lnTo>
                <a:lnTo>
                  <a:pt x="0" y="97"/>
                </a:lnTo>
                <a:lnTo>
                  <a:pt x="0" y="162"/>
                </a:lnTo>
                <a:lnTo>
                  <a:pt x="19" y="22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808960" y="3648240"/>
            <a:ext cx="2821680" cy="2255760"/>
            <a:chOff x="5808960" y="3648240"/>
            <a:chExt cx="2821680" cy="2255760"/>
          </a:xfrm>
        </p:grpSpPr>
        <p:grpSp>
          <p:nvGrpSpPr>
            <p:cNvPr id="194" name=""/>
            <p:cNvGrpSpPr/>
            <p:nvPr/>
          </p:nvGrpSpPr>
          <p:grpSpPr>
            <a:xfrm>
              <a:off x="6662880" y="3913200"/>
              <a:ext cx="739800" cy="806400"/>
              <a:chOff x="6662880" y="3913200"/>
              <a:chExt cx="739800" cy="806400"/>
            </a:xfrm>
          </p:grpSpPr>
          <p:sp>
            <p:nvSpPr>
              <p:cNvPr id="195" name=""/>
              <p:cNvSpPr/>
              <p:nvPr/>
            </p:nvSpPr>
            <p:spPr>
              <a:xfrm>
                <a:off x="7224840" y="4599000"/>
                <a:ext cx="37080" cy="34200"/>
              </a:xfrm>
              <a:prstGeom prst="rect">
                <a:avLst/>
              </a:pr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176960" y="4599000"/>
                <a:ext cx="37440" cy="34200"/>
              </a:xfrm>
              <a:prstGeom prst="rect">
                <a:avLst/>
              </a:pr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30880" y="4599000"/>
                <a:ext cx="46080" cy="34200"/>
              </a:xfrm>
              <a:prstGeom prst="rect">
                <a:avLst/>
              </a:pr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00320" y="3913200"/>
                <a:ext cx="505440" cy="712440"/>
              </a:xfrm>
              <a:custGeom>
                <a:avLst/>
                <a:gdLst/>
                <a:ahLst/>
                <a:rect l="l" t="t" r="r" b="b"/>
                <a:pathLst>
                  <a:path w="350" h="538">
                    <a:moveTo>
                      <a:pt x="350" y="486"/>
                    </a:moveTo>
                    <a:lnTo>
                      <a:pt x="330" y="467"/>
                    </a:lnTo>
                    <a:lnTo>
                      <a:pt x="298" y="447"/>
                    </a:lnTo>
                    <a:lnTo>
                      <a:pt x="259" y="421"/>
                    </a:lnTo>
                    <a:lnTo>
                      <a:pt x="233" y="415"/>
                    </a:lnTo>
                    <a:lnTo>
                      <a:pt x="207" y="395"/>
                    </a:lnTo>
                    <a:lnTo>
                      <a:pt x="181" y="376"/>
                    </a:lnTo>
                    <a:lnTo>
                      <a:pt x="155" y="350"/>
                    </a:lnTo>
                    <a:lnTo>
                      <a:pt x="136" y="337"/>
                    </a:lnTo>
                    <a:lnTo>
                      <a:pt x="123" y="298"/>
                    </a:lnTo>
                    <a:lnTo>
                      <a:pt x="103" y="279"/>
                    </a:lnTo>
                    <a:lnTo>
                      <a:pt x="78" y="246"/>
                    </a:lnTo>
                    <a:lnTo>
                      <a:pt x="71" y="214"/>
                    </a:lnTo>
                    <a:lnTo>
                      <a:pt x="52" y="175"/>
                    </a:lnTo>
                    <a:lnTo>
                      <a:pt x="45" y="149"/>
                    </a:lnTo>
                    <a:lnTo>
                      <a:pt x="32" y="97"/>
                    </a:lnTo>
                    <a:lnTo>
                      <a:pt x="32" y="71"/>
                    </a:lnTo>
                    <a:lnTo>
                      <a:pt x="45" y="39"/>
                    </a:lnTo>
                    <a:lnTo>
                      <a:pt x="52" y="0"/>
                    </a:lnTo>
                    <a:lnTo>
                      <a:pt x="32" y="26"/>
                    </a:lnTo>
                    <a:lnTo>
                      <a:pt x="0" y="97"/>
                    </a:lnTo>
                    <a:lnTo>
                      <a:pt x="32" y="298"/>
                    </a:lnTo>
                    <a:lnTo>
                      <a:pt x="337" y="538"/>
                    </a:lnTo>
                    <a:lnTo>
                      <a:pt x="343" y="512"/>
                    </a:lnTo>
                    <a:lnTo>
                      <a:pt x="343" y="486"/>
                    </a:lnTo>
                    <a:lnTo>
                      <a:pt x="350" y="486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06120" y="4487760"/>
                <a:ext cx="196560" cy="231480"/>
              </a:xfrm>
              <a:custGeom>
                <a:avLst/>
                <a:gdLst/>
                <a:ahLst/>
                <a:rect l="l" t="t" r="r" b="b"/>
                <a:pathLst>
                  <a:path w="136" h="175">
                    <a:moveTo>
                      <a:pt x="58" y="0"/>
                    </a:moveTo>
                    <a:lnTo>
                      <a:pt x="84" y="7"/>
                    </a:lnTo>
                    <a:lnTo>
                      <a:pt x="84" y="13"/>
                    </a:lnTo>
                    <a:lnTo>
                      <a:pt x="84" y="26"/>
                    </a:lnTo>
                    <a:lnTo>
                      <a:pt x="84" y="52"/>
                    </a:lnTo>
                    <a:lnTo>
                      <a:pt x="84" y="65"/>
                    </a:lnTo>
                    <a:lnTo>
                      <a:pt x="103" y="104"/>
                    </a:lnTo>
                    <a:lnTo>
                      <a:pt x="110" y="130"/>
                    </a:lnTo>
                    <a:lnTo>
                      <a:pt x="129" y="156"/>
                    </a:lnTo>
                    <a:lnTo>
                      <a:pt x="136" y="162"/>
                    </a:lnTo>
                    <a:lnTo>
                      <a:pt x="110" y="175"/>
                    </a:lnTo>
                    <a:lnTo>
                      <a:pt x="0" y="110"/>
                    </a:lnTo>
                    <a:lnTo>
                      <a:pt x="26" y="52"/>
                    </a:lnTo>
                    <a:lnTo>
                      <a:pt x="52" y="7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71520" y="3913200"/>
                <a:ext cx="693000" cy="806400"/>
              </a:xfrm>
              <a:custGeom>
                <a:avLst/>
                <a:gdLst/>
                <a:ahLst/>
                <a:rect l="l" t="t" r="r" b="b"/>
                <a:pathLst>
                  <a:path w="480" h="609">
                    <a:moveTo>
                      <a:pt x="350" y="499"/>
                    </a:moveTo>
                    <a:lnTo>
                      <a:pt x="318" y="486"/>
                    </a:lnTo>
                    <a:lnTo>
                      <a:pt x="279" y="460"/>
                    </a:lnTo>
                    <a:lnTo>
                      <a:pt x="240" y="434"/>
                    </a:lnTo>
                    <a:lnTo>
                      <a:pt x="201" y="415"/>
                    </a:lnTo>
                    <a:lnTo>
                      <a:pt x="175" y="376"/>
                    </a:lnTo>
                    <a:lnTo>
                      <a:pt x="149" y="350"/>
                    </a:lnTo>
                    <a:lnTo>
                      <a:pt x="123" y="317"/>
                    </a:lnTo>
                    <a:lnTo>
                      <a:pt x="104" y="279"/>
                    </a:lnTo>
                    <a:lnTo>
                      <a:pt x="91" y="253"/>
                    </a:lnTo>
                    <a:lnTo>
                      <a:pt x="72" y="220"/>
                    </a:lnTo>
                    <a:lnTo>
                      <a:pt x="65" y="188"/>
                    </a:lnTo>
                    <a:lnTo>
                      <a:pt x="52" y="149"/>
                    </a:lnTo>
                    <a:lnTo>
                      <a:pt x="52" y="123"/>
                    </a:lnTo>
                    <a:lnTo>
                      <a:pt x="46" y="78"/>
                    </a:lnTo>
                    <a:lnTo>
                      <a:pt x="52" y="52"/>
                    </a:lnTo>
                    <a:lnTo>
                      <a:pt x="52" y="2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52" y="26"/>
                    </a:lnTo>
                    <a:lnTo>
                      <a:pt x="39" y="39"/>
                    </a:lnTo>
                    <a:lnTo>
                      <a:pt x="26" y="71"/>
                    </a:lnTo>
                    <a:lnTo>
                      <a:pt x="20" y="91"/>
                    </a:lnTo>
                    <a:lnTo>
                      <a:pt x="13" y="117"/>
                    </a:lnTo>
                    <a:lnTo>
                      <a:pt x="0" y="149"/>
                    </a:lnTo>
                    <a:lnTo>
                      <a:pt x="0" y="175"/>
                    </a:lnTo>
                    <a:lnTo>
                      <a:pt x="0" y="214"/>
                    </a:lnTo>
                    <a:lnTo>
                      <a:pt x="13" y="246"/>
                    </a:lnTo>
                    <a:lnTo>
                      <a:pt x="20" y="292"/>
                    </a:lnTo>
                    <a:lnTo>
                      <a:pt x="26" y="317"/>
                    </a:lnTo>
                    <a:lnTo>
                      <a:pt x="46" y="350"/>
                    </a:lnTo>
                    <a:lnTo>
                      <a:pt x="52" y="376"/>
                    </a:lnTo>
                    <a:lnTo>
                      <a:pt x="78" y="415"/>
                    </a:lnTo>
                    <a:lnTo>
                      <a:pt x="104" y="447"/>
                    </a:lnTo>
                    <a:lnTo>
                      <a:pt x="130" y="473"/>
                    </a:lnTo>
                    <a:lnTo>
                      <a:pt x="156" y="492"/>
                    </a:lnTo>
                    <a:lnTo>
                      <a:pt x="195" y="518"/>
                    </a:lnTo>
                    <a:lnTo>
                      <a:pt x="221" y="538"/>
                    </a:lnTo>
                    <a:lnTo>
                      <a:pt x="273" y="551"/>
                    </a:lnTo>
                    <a:lnTo>
                      <a:pt x="195" y="609"/>
                    </a:lnTo>
                    <a:lnTo>
                      <a:pt x="221" y="609"/>
                    </a:lnTo>
                    <a:lnTo>
                      <a:pt x="247" y="609"/>
                    </a:lnTo>
                    <a:lnTo>
                      <a:pt x="279" y="596"/>
                    </a:lnTo>
                    <a:lnTo>
                      <a:pt x="331" y="596"/>
                    </a:lnTo>
                    <a:lnTo>
                      <a:pt x="357" y="596"/>
                    </a:lnTo>
                    <a:lnTo>
                      <a:pt x="396" y="596"/>
                    </a:lnTo>
                    <a:lnTo>
                      <a:pt x="454" y="596"/>
                    </a:lnTo>
                    <a:lnTo>
                      <a:pt x="480" y="609"/>
                    </a:lnTo>
                    <a:lnTo>
                      <a:pt x="473" y="590"/>
                    </a:lnTo>
                    <a:lnTo>
                      <a:pt x="454" y="564"/>
                    </a:lnTo>
                    <a:lnTo>
                      <a:pt x="447" y="544"/>
                    </a:lnTo>
                    <a:lnTo>
                      <a:pt x="435" y="518"/>
                    </a:lnTo>
                    <a:lnTo>
                      <a:pt x="428" y="499"/>
                    </a:lnTo>
                    <a:lnTo>
                      <a:pt x="428" y="473"/>
                    </a:lnTo>
                    <a:lnTo>
                      <a:pt x="428" y="447"/>
                    </a:lnTo>
                    <a:lnTo>
                      <a:pt x="435" y="434"/>
                    </a:lnTo>
                    <a:lnTo>
                      <a:pt x="396" y="467"/>
                    </a:lnTo>
                    <a:lnTo>
                      <a:pt x="350" y="499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2880" y="3920760"/>
                <a:ext cx="702000" cy="798480"/>
              </a:xfrm>
              <a:custGeom>
                <a:avLst/>
                <a:gdLst/>
                <a:ahLst/>
                <a:rect l="l" t="t" r="r" b="b"/>
                <a:pathLst>
                  <a:path w="486" h="603">
                    <a:moveTo>
                      <a:pt x="350" y="493"/>
                    </a:moveTo>
                    <a:lnTo>
                      <a:pt x="311" y="480"/>
                    </a:lnTo>
                    <a:lnTo>
                      <a:pt x="279" y="454"/>
                    </a:lnTo>
                    <a:lnTo>
                      <a:pt x="233" y="428"/>
                    </a:lnTo>
                    <a:lnTo>
                      <a:pt x="201" y="409"/>
                    </a:lnTo>
                    <a:lnTo>
                      <a:pt x="175" y="370"/>
                    </a:lnTo>
                    <a:lnTo>
                      <a:pt x="149" y="344"/>
                    </a:lnTo>
                    <a:lnTo>
                      <a:pt x="123" y="311"/>
                    </a:lnTo>
                    <a:lnTo>
                      <a:pt x="104" y="273"/>
                    </a:lnTo>
                    <a:lnTo>
                      <a:pt x="97" y="247"/>
                    </a:lnTo>
                    <a:lnTo>
                      <a:pt x="78" y="221"/>
                    </a:lnTo>
                    <a:lnTo>
                      <a:pt x="58" y="182"/>
                    </a:lnTo>
                    <a:lnTo>
                      <a:pt x="58" y="143"/>
                    </a:lnTo>
                    <a:lnTo>
                      <a:pt x="52" y="117"/>
                    </a:lnTo>
                    <a:lnTo>
                      <a:pt x="45" y="72"/>
                    </a:lnTo>
                    <a:lnTo>
                      <a:pt x="52" y="46"/>
                    </a:lnTo>
                    <a:lnTo>
                      <a:pt x="58" y="33"/>
                    </a:lnTo>
                    <a:lnTo>
                      <a:pt x="78" y="0"/>
                    </a:lnTo>
                    <a:lnTo>
                      <a:pt x="58" y="20"/>
                    </a:lnTo>
                    <a:lnTo>
                      <a:pt x="45" y="33"/>
                    </a:lnTo>
                    <a:lnTo>
                      <a:pt x="26" y="65"/>
                    </a:lnTo>
                    <a:lnTo>
                      <a:pt x="19" y="85"/>
                    </a:lnTo>
                    <a:lnTo>
                      <a:pt x="19" y="117"/>
                    </a:lnTo>
                    <a:lnTo>
                      <a:pt x="6" y="143"/>
                    </a:lnTo>
                    <a:lnTo>
                      <a:pt x="0" y="169"/>
                    </a:lnTo>
                    <a:lnTo>
                      <a:pt x="6" y="208"/>
                    </a:lnTo>
                    <a:lnTo>
                      <a:pt x="19" y="247"/>
                    </a:lnTo>
                    <a:lnTo>
                      <a:pt x="26" y="286"/>
                    </a:lnTo>
                    <a:lnTo>
                      <a:pt x="32" y="311"/>
                    </a:lnTo>
                    <a:lnTo>
                      <a:pt x="45" y="344"/>
                    </a:lnTo>
                    <a:lnTo>
                      <a:pt x="58" y="370"/>
                    </a:lnTo>
                    <a:lnTo>
                      <a:pt x="78" y="409"/>
                    </a:lnTo>
                    <a:lnTo>
                      <a:pt x="110" y="454"/>
                    </a:lnTo>
                    <a:lnTo>
                      <a:pt x="136" y="467"/>
                    </a:lnTo>
                    <a:lnTo>
                      <a:pt x="155" y="486"/>
                    </a:lnTo>
                    <a:lnTo>
                      <a:pt x="201" y="512"/>
                    </a:lnTo>
                    <a:lnTo>
                      <a:pt x="227" y="532"/>
                    </a:lnTo>
                    <a:lnTo>
                      <a:pt x="279" y="558"/>
                    </a:lnTo>
                    <a:lnTo>
                      <a:pt x="201" y="603"/>
                    </a:lnTo>
                    <a:lnTo>
                      <a:pt x="220" y="603"/>
                    </a:lnTo>
                    <a:lnTo>
                      <a:pt x="246" y="603"/>
                    </a:lnTo>
                    <a:lnTo>
                      <a:pt x="285" y="590"/>
                    </a:lnTo>
                    <a:lnTo>
                      <a:pt x="330" y="590"/>
                    </a:lnTo>
                    <a:lnTo>
                      <a:pt x="363" y="590"/>
                    </a:lnTo>
                    <a:lnTo>
                      <a:pt x="402" y="590"/>
                    </a:lnTo>
                    <a:lnTo>
                      <a:pt x="460" y="603"/>
                    </a:lnTo>
                    <a:lnTo>
                      <a:pt x="486" y="603"/>
                    </a:lnTo>
                    <a:lnTo>
                      <a:pt x="479" y="584"/>
                    </a:lnTo>
                    <a:lnTo>
                      <a:pt x="460" y="558"/>
                    </a:lnTo>
                    <a:lnTo>
                      <a:pt x="441" y="538"/>
                    </a:lnTo>
                    <a:lnTo>
                      <a:pt x="441" y="512"/>
                    </a:lnTo>
                    <a:lnTo>
                      <a:pt x="434" y="493"/>
                    </a:lnTo>
                    <a:lnTo>
                      <a:pt x="434" y="467"/>
                    </a:lnTo>
                    <a:lnTo>
                      <a:pt x="434" y="441"/>
                    </a:lnTo>
                    <a:lnTo>
                      <a:pt x="434" y="428"/>
                    </a:lnTo>
                    <a:lnTo>
                      <a:pt x="389" y="461"/>
                    </a:lnTo>
                    <a:lnTo>
                      <a:pt x="350" y="493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645320" y="3648240"/>
              <a:ext cx="422280" cy="950760"/>
              <a:chOff x="7645320" y="3648240"/>
              <a:chExt cx="422280" cy="950760"/>
            </a:xfrm>
          </p:grpSpPr>
          <p:sp>
            <p:nvSpPr>
              <p:cNvPr id="203" name=""/>
              <p:cNvSpPr/>
              <p:nvPr/>
            </p:nvSpPr>
            <p:spPr>
              <a:xfrm>
                <a:off x="7832880" y="4428360"/>
                <a:ext cx="27360" cy="421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2120"/>
                  <a:gd name="textAreaBottom" fmla="*/ 42120 h 42120"/>
                </a:gdLst>
                <a:ahLst/>
                <a:rect l="textAreaLeft" t="textAreaTop" r="textAreaRight" b="textAreaBottom"/>
                <a:pathLst>
                  <a:path w="21600" h="33101">
                    <a:moveTo>
                      <a:pt x="0" y="0"/>
                    </a:moveTo>
                    <a:arcTo wR="0" hR="0" stAng="16200000" swAng="-5400000"/>
                    <a:lnTo>
                      <a:pt x="0" y="33101"/>
                    </a:lnTo>
                    <a:arcTo wR="0" hR="0" stAng="10800000" swAng="-5400000"/>
                    <a:lnTo>
                      <a:pt x="21600" y="3310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14160" y="4428360"/>
                <a:ext cx="56160" cy="514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9" y="32"/>
                    </a:lnTo>
                    <a:lnTo>
                      <a:pt x="19" y="39"/>
                    </a:lnTo>
                    <a:lnTo>
                      <a:pt x="0" y="1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0600" y="4428360"/>
                <a:ext cx="28800" cy="42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21600" h="31467">
                    <a:moveTo>
                      <a:pt x="0" y="0"/>
                    </a:moveTo>
                    <a:arcTo wR="0" hR="0" stAng="16200000" swAng="-5400000"/>
                    <a:lnTo>
                      <a:pt x="0" y="31467"/>
                    </a:lnTo>
                    <a:arcTo wR="0" hR="0" stAng="10800000" swAng="-5400000"/>
                    <a:lnTo>
                      <a:pt x="21600" y="314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51960" y="4419000"/>
                <a:ext cx="46080" cy="5148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13" y="0"/>
                    </a:moveTo>
                    <a:lnTo>
                      <a:pt x="32" y="33"/>
                    </a:lnTo>
                    <a:lnTo>
                      <a:pt x="19" y="39"/>
                    </a:lnTo>
                    <a:lnTo>
                      <a:pt x="0" y="1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89400" y="4411080"/>
                <a:ext cx="27360" cy="421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2120"/>
                  <a:gd name="textAreaBottom" fmla="*/ 42120 h 42120"/>
                </a:gdLst>
                <a:ahLst/>
                <a:rect l="textAreaLeft" t="textAreaTop" r="textAreaRight" b="textAreaBottom"/>
                <a:pathLst>
                  <a:path w="21600" h="33101">
                    <a:moveTo>
                      <a:pt x="0" y="0"/>
                    </a:moveTo>
                    <a:arcTo wR="0" hR="0" stAng="16200000" swAng="-5400000"/>
                    <a:lnTo>
                      <a:pt x="0" y="33101"/>
                    </a:lnTo>
                    <a:arcTo wR="0" hR="0" stAng="10800000" swAng="-5400000"/>
                    <a:lnTo>
                      <a:pt x="21600" y="3310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79320" y="4411080"/>
                <a:ext cx="47520" cy="514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3" y="0"/>
                    </a:moveTo>
                    <a:lnTo>
                      <a:pt x="33" y="26"/>
                    </a:lnTo>
                    <a:lnTo>
                      <a:pt x="20" y="39"/>
                    </a:lnTo>
                    <a:lnTo>
                      <a:pt x="0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45320" y="3648240"/>
                <a:ext cx="263160" cy="797400"/>
              </a:xfrm>
              <a:custGeom>
                <a:avLst/>
                <a:gdLst/>
                <a:ahLst/>
                <a:rect l="l" t="t" r="r" b="b"/>
                <a:pathLst>
                  <a:path w="182" h="603">
                    <a:moveTo>
                      <a:pt x="110" y="564"/>
                    </a:moveTo>
                    <a:lnTo>
                      <a:pt x="110" y="538"/>
                    </a:lnTo>
                    <a:lnTo>
                      <a:pt x="123" y="512"/>
                    </a:lnTo>
                    <a:lnTo>
                      <a:pt x="130" y="473"/>
                    </a:lnTo>
                    <a:lnTo>
                      <a:pt x="130" y="454"/>
                    </a:lnTo>
                    <a:lnTo>
                      <a:pt x="136" y="428"/>
                    </a:lnTo>
                    <a:lnTo>
                      <a:pt x="149" y="395"/>
                    </a:lnTo>
                    <a:lnTo>
                      <a:pt x="149" y="369"/>
                    </a:lnTo>
                    <a:lnTo>
                      <a:pt x="136" y="344"/>
                    </a:lnTo>
                    <a:lnTo>
                      <a:pt x="130" y="318"/>
                    </a:lnTo>
                    <a:lnTo>
                      <a:pt x="130" y="279"/>
                    </a:lnTo>
                    <a:lnTo>
                      <a:pt x="130" y="240"/>
                    </a:lnTo>
                    <a:lnTo>
                      <a:pt x="110" y="207"/>
                    </a:lnTo>
                    <a:lnTo>
                      <a:pt x="104" y="169"/>
                    </a:lnTo>
                    <a:lnTo>
                      <a:pt x="85" y="130"/>
                    </a:lnTo>
                    <a:lnTo>
                      <a:pt x="65" y="84"/>
                    </a:lnTo>
                    <a:lnTo>
                      <a:pt x="52" y="52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85" y="78"/>
                    </a:lnTo>
                    <a:lnTo>
                      <a:pt x="182" y="272"/>
                    </a:lnTo>
                    <a:lnTo>
                      <a:pt x="149" y="603"/>
                    </a:lnTo>
                    <a:lnTo>
                      <a:pt x="130" y="583"/>
                    </a:lnTo>
                    <a:lnTo>
                      <a:pt x="110" y="564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01480" y="4359600"/>
                <a:ext cx="168840" cy="239040"/>
              </a:xfrm>
              <a:custGeom>
                <a:avLst/>
                <a:gdLst/>
                <a:ahLst/>
                <a:rect l="l" t="t" r="r" b="b"/>
                <a:pathLst>
                  <a:path w="117" h="181">
                    <a:moveTo>
                      <a:pt x="20" y="0"/>
                    </a:moveTo>
                    <a:lnTo>
                      <a:pt x="0" y="6"/>
                    </a:lnTo>
                    <a:lnTo>
                      <a:pt x="13" y="13"/>
                    </a:lnTo>
                    <a:lnTo>
                      <a:pt x="20" y="26"/>
                    </a:lnTo>
                    <a:lnTo>
                      <a:pt x="26" y="39"/>
                    </a:lnTo>
                    <a:lnTo>
                      <a:pt x="46" y="78"/>
                    </a:lnTo>
                    <a:lnTo>
                      <a:pt x="52" y="104"/>
                    </a:lnTo>
                    <a:lnTo>
                      <a:pt x="65" y="136"/>
                    </a:lnTo>
                    <a:lnTo>
                      <a:pt x="71" y="162"/>
                    </a:lnTo>
                    <a:lnTo>
                      <a:pt x="71" y="175"/>
                    </a:lnTo>
                    <a:lnTo>
                      <a:pt x="91" y="181"/>
                    </a:lnTo>
                    <a:lnTo>
                      <a:pt x="117" y="78"/>
                    </a:lnTo>
                    <a:lnTo>
                      <a:pt x="71" y="3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45320" y="3648240"/>
                <a:ext cx="411840" cy="950760"/>
              </a:xfrm>
              <a:custGeom>
                <a:avLst/>
                <a:gdLst/>
                <a:ahLst/>
                <a:rect l="l" t="t" r="r" b="b"/>
                <a:pathLst>
                  <a:path w="285" h="719">
                    <a:moveTo>
                      <a:pt x="130" y="564"/>
                    </a:moveTo>
                    <a:lnTo>
                      <a:pt x="149" y="538"/>
                    </a:lnTo>
                    <a:lnTo>
                      <a:pt x="156" y="512"/>
                    </a:lnTo>
                    <a:lnTo>
                      <a:pt x="162" y="467"/>
                    </a:lnTo>
                    <a:lnTo>
                      <a:pt x="162" y="428"/>
                    </a:lnTo>
                    <a:lnTo>
                      <a:pt x="162" y="395"/>
                    </a:lnTo>
                    <a:lnTo>
                      <a:pt x="162" y="350"/>
                    </a:lnTo>
                    <a:lnTo>
                      <a:pt x="156" y="305"/>
                    </a:lnTo>
                    <a:lnTo>
                      <a:pt x="149" y="272"/>
                    </a:lnTo>
                    <a:lnTo>
                      <a:pt x="136" y="240"/>
                    </a:lnTo>
                    <a:lnTo>
                      <a:pt x="130" y="201"/>
                    </a:lnTo>
                    <a:lnTo>
                      <a:pt x="110" y="169"/>
                    </a:lnTo>
                    <a:lnTo>
                      <a:pt x="104" y="130"/>
                    </a:lnTo>
                    <a:lnTo>
                      <a:pt x="85" y="104"/>
                    </a:lnTo>
                    <a:lnTo>
                      <a:pt x="59" y="58"/>
                    </a:lnTo>
                    <a:lnTo>
                      <a:pt x="39" y="32"/>
                    </a:lnTo>
                    <a:lnTo>
                      <a:pt x="2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7"/>
                    </a:lnTo>
                    <a:lnTo>
                      <a:pt x="39" y="26"/>
                    </a:lnTo>
                    <a:lnTo>
                      <a:pt x="65" y="45"/>
                    </a:lnTo>
                    <a:lnTo>
                      <a:pt x="85" y="58"/>
                    </a:lnTo>
                    <a:lnTo>
                      <a:pt x="104" y="84"/>
                    </a:lnTo>
                    <a:lnTo>
                      <a:pt x="130" y="117"/>
                    </a:lnTo>
                    <a:lnTo>
                      <a:pt x="149" y="149"/>
                    </a:lnTo>
                    <a:lnTo>
                      <a:pt x="162" y="175"/>
                    </a:lnTo>
                    <a:lnTo>
                      <a:pt x="182" y="207"/>
                    </a:lnTo>
                    <a:lnTo>
                      <a:pt x="188" y="246"/>
                    </a:lnTo>
                    <a:lnTo>
                      <a:pt x="208" y="279"/>
                    </a:lnTo>
                    <a:lnTo>
                      <a:pt x="214" y="318"/>
                    </a:lnTo>
                    <a:lnTo>
                      <a:pt x="227" y="350"/>
                    </a:lnTo>
                    <a:lnTo>
                      <a:pt x="234" y="395"/>
                    </a:lnTo>
                    <a:lnTo>
                      <a:pt x="240" y="441"/>
                    </a:lnTo>
                    <a:lnTo>
                      <a:pt x="240" y="467"/>
                    </a:lnTo>
                    <a:lnTo>
                      <a:pt x="240" y="499"/>
                    </a:lnTo>
                    <a:lnTo>
                      <a:pt x="234" y="538"/>
                    </a:lnTo>
                    <a:lnTo>
                      <a:pt x="227" y="564"/>
                    </a:lnTo>
                    <a:lnTo>
                      <a:pt x="208" y="596"/>
                    </a:lnTo>
                    <a:lnTo>
                      <a:pt x="285" y="622"/>
                    </a:lnTo>
                    <a:lnTo>
                      <a:pt x="266" y="622"/>
                    </a:lnTo>
                    <a:lnTo>
                      <a:pt x="253" y="635"/>
                    </a:lnTo>
                    <a:lnTo>
                      <a:pt x="234" y="642"/>
                    </a:lnTo>
                    <a:lnTo>
                      <a:pt x="208" y="661"/>
                    </a:lnTo>
                    <a:lnTo>
                      <a:pt x="188" y="668"/>
                    </a:lnTo>
                    <a:lnTo>
                      <a:pt x="162" y="674"/>
                    </a:lnTo>
                    <a:lnTo>
                      <a:pt x="130" y="700"/>
                    </a:lnTo>
                    <a:lnTo>
                      <a:pt x="123" y="719"/>
                    </a:lnTo>
                    <a:lnTo>
                      <a:pt x="123" y="700"/>
                    </a:lnTo>
                    <a:lnTo>
                      <a:pt x="110" y="674"/>
                    </a:lnTo>
                    <a:lnTo>
                      <a:pt x="104" y="642"/>
                    </a:lnTo>
                    <a:lnTo>
                      <a:pt x="104" y="622"/>
                    </a:lnTo>
                    <a:lnTo>
                      <a:pt x="85" y="596"/>
                    </a:lnTo>
                    <a:lnTo>
                      <a:pt x="65" y="570"/>
                    </a:lnTo>
                    <a:lnTo>
                      <a:pt x="59" y="551"/>
                    </a:lnTo>
                    <a:lnTo>
                      <a:pt x="39" y="538"/>
                    </a:lnTo>
                    <a:lnTo>
                      <a:pt x="85" y="551"/>
                    </a:lnTo>
                    <a:lnTo>
                      <a:pt x="130" y="564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45320" y="3648240"/>
                <a:ext cx="422280" cy="950760"/>
              </a:xfrm>
              <a:custGeom>
                <a:avLst/>
                <a:gdLst/>
                <a:ahLst/>
                <a:rect l="l" t="t" r="r" b="b"/>
                <a:pathLst>
                  <a:path w="292" h="719">
                    <a:moveTo>
                      <a:pt x="136" y="564"/>
                    </a:moveTo>
                    <a:lnTo>
                      <a:pt x="149" y="538"/>
                    </a:lnTo>
                    <a:lnTo>
                      <a:pt x="156" y="512"/>
                    </a:lnTo>
                    <a:lnTo>
                      <a:pt x="162" y="467"/>
                    </a:lnTo>
                    <a:lnTo>
                      <a:pt x="162" y="428"/>
                    </a:lnTo>
                    <a:lnTo>
                      <a:pt x="162" y="395"/>
                    </a:lnTo>
                    <a:lnTo>
                      <a:pt x="162" y="350"/>
                    </a:lnTo>
                    <a:lnTo>
                      <a:pt x="156" y="318"/>
                    </a:lnTo>
                    <a:lnTo>
                      <a:pt x="149" y="272"/>
                    </a:lnTo>
                    <a:lnTo>
                      <a:pt x="136" y="240"/>
                    </a:lnTo>
                    <a:lnTo>
                      <a:pt x="130" y="207"/>
                    </a:lnTo>
                    <a:lnTo>
                      <a:pt x="123" y="169"/>
                    </a:lnTo>
                    <a:lnTo>
                      <a:pt x="104" y="130"/>
                    </a:lnTo>
                    <a:lnTo>
                      <a:pt x="85" y="104"/>
                    </a:lnTo>
                    <a:lnTo>
                      <a:pt x="59" y="58"/>
                    </a:lnTo>
                    <a:lnTo>
                      <a:pt x="39" y="32"/>
                    </a:lnTo>
                    <a:lnTo>
                      <a:pt x="26" y="26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39" y="26"/>
                    </a:lnTo>
                    <a:lnTo>
                      <a:pt x="65" y="45"/>
                    </a:lnTo>
                    <a:lnTo>
                      <a:pt x="85" y="58"/>
                    </a:lnTo>
                    <a:lnTo>
                      <a:pt x="104" y="84"/>
                    </a:lnTo>
                    <a:lnTo>
                      <a:pt x="130" y="117"/>
                    </a:lnTo>
                    <a:lnTo>
                      <a:pt x="149" y="143"/>
                    </a:lnTo>
                    <a:lnTo>
                      <a:pt x="162" y="175"/>
                    </a:lnTo>
                    <a:lnTo>
                      <a:pt x="182" y="207"/>
                    </a:lnTo>
                    <a:lnTo>
                      <a:pt x="188" y="246"/>
                    </a:lnTo>
                    <a:lnTo>
                      <a:pt x="208" y="279"/>
                    </a:lnTo>
                    <a:lnTo>
                      <a:pt x="227" y="318"/>
                    </a:lnTo>
                    <a:lnTo>
                      <a:pt x="227" y="350"/>
                    </a:lnTo>
                    <a:lnTo>
                      <a:pt x="240" y="395"/>
                    </a:lnTo>
                    <a:lnTo>
                      <a:pt x="240" y="441"/>
                    </a:lnTo>
                    <a:lnTo>
                      <a:pt x="240" y="467"/>
                    </a:lnTo>
                    <a:lnTo>
                      <a:pt x="240" y="493"/>
                    </a:lnTo>
                    <a:lnTo>
                      <a:pt x="240" y="538"/>
                    </a:lnTo>
                    <a:lnTo>
                      <a:pt x="227" y="551"/>
                    </a:lnTo>
                    <a:lnTo>
                      <a:pt x="214" y="596"/>
                    </a:lnTo>
                    <a:lnTo>
                      <a:pt x="292" y="622"/>
                    </a:lnTo>
                    <a:lnTo>
                      <a:pt x="279" y="622"/>
                    </a:lnTo>
                    <a:lnTo>
                      <a:pt x="260" y="635"/>
                    </a:lnTo>
                    <a:lnTo>
                      <a:pt x="234" y="642"/>
                    </a:lnTo>
                    <a:lnTo>
                      <a:pt x="208" y="661"/>
                    </a:lnTo>
                    <a:lnTo>
                      <a:pt x="188" y="668"/>
                    </a:lnTo>
                    <a:lnTo>
                      <a:pt x="175" y="674"/>
                    </a:lnTo>
                    <a:lnTo>
                      <a:pt x="136" y="700"/>
                    </a:lnTo>
                    <a:lnTo>
                      <a:pt x="123" y="719"/>
                    </a:lnTo>
                    <a:lnTo>
                      <a:pt x="123" y="693"/>
                    </a:lnTo>
                    <a:lnTo>
                      <a:pt x="123" y="668"/>
                    </a:lnTo>
                    <a:lnTo>
                      <a:pt x="110" y="642"/>
                    </a:lnTo>
                    <a:lnTo>
                      <a:pt x="104" y="622"/>
                    </a:lnTo>
                    <a:lnTo>
                      <a:pt x="85" y="596"/>
                    </a:lnTo>
                    <a:lnTo>
                      <a:pt x="65" y="570"/>
                    </a:lnTo>
                    <a:lnTo>
                      <a:pt x="59" y="551"/>
                    </a:lnTo>
                    <a:lnTo>
                      <a:pt x="52" y="538"/>
                    </a:lnTo>
                    <a:lnTo>
                      <a:pt x="91" y="551"/>
                    </a:lnTo>
                    <a:lnTo>
                      <a:pt x="136" y="564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249960" y="4540320"/>
              <a:ext cx="1114200" cy="668160"/>
              <a:chOff x="6249960" y="4540320"/>
              <a:chExt cx="1114200" cy="668160"/>
            </a:xfrm>
          </p:grpSpPr>
          <p:sp>
            <p:nvSpPr>
              <p:cNvPr id="214" name=""/>
              <p:cNvSpPr/>
              <p:nvPr/>
            </p:nvSpPr>
            <p:spPr>
              <a:xfrm>
                <a:off x="7130160" y="4951440"/>
                <a:ext cx="46080" cy="34200"/>
              </a:xfrm>
              <a:prstGeom prst="roundRect">
                <a:avLst>
                  <a:gd name="adj" fmla="val 0"/>
                </a:avLst>
              </a:pr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20080" y="4943880"/>
                <a:ext cx="66240" cy="5004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33" y="0"/>
                    </a:moveTo>
                    <a:lnTo>
                      <a:pt x="46" y="19"/>
                    </a:lnTo>
                    <a:lnTo>
                      <a:pt x="13" y="38"/>
                    </a:lnTo>
                    <a:lnTo>
                      <a:pt x="0" y="1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65360" y="4968720"/>
                <a:ext cx="46080" cy="34200"/>
              </a:xfrm>
              <a:prstGeom prst="roundRect">
                <a:avLst>
                  <a:gd name="adj" fmla="val 0"/>
                </a:avLst>
              </a:pr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65360" y="4960800"/>
                <a:ext cx="54720" cy="500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25" y="0"/>
                    </a:moveTo>
                    <a:lnTo>
                      <a:pt x="38" y="25"/>
                    </a:lnTo>
                    <a:lnTo>
                      <a:pt x="6" y="38"/>
                    </a:lnTo>
                    <a:lnTo>
                      <a:pt x="0" y="1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7480" y="4986000"/>
                <a:ext cx="47520" cy="42120"/>
              </a:xfrm>
              <a:prstGeom prst="roundRect">
                <a:avLst>
                  <a:gd name="adj" fmla="val 0"/>
                </a:avLst>
              </a:pr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08840" y="4978080"/>
                <a:ext cx="64800" cy="594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32" y="0"/>
                    </a:moveTo>
                    <a:lnTo>
                      <a:pt x="45" y="32"/>
                    </a:lnTo>
                    <a:lnTo>
                      <a:pt x="13" y="45"/>
                    </a:lnTo>
                    <a:lnTo>
                      <a:pt x="0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268320" y="4540320"/>
                <a:ext cx="805320" cy="445680"/>
              </a:xfrm>
              <a:custGeom>
                <a:avLst/>
                <a:gdLst/>
                <a:ahLst/>
                <a:rect l="l" t="t" r="r" b="b"/>
                <a:pathLst>
                  <a:path w="557" h="337">
                    <a:moveTo>
                      <a:pt x="557" y="285"/>
                    </a:moveTo>
                    <a:lnTo>
                      <a:pt x="525" y="285"/>
                    </a:lnTo>
                    <a:lnTo>
                      <a:pt x="479" y="285"/>
                    </a:lnTo>
                    <a:lnTo>
                      <a:pt x="427" y="285"/>
                    </a:lnTo>
                    <a:lnTo>
                      <a:pt x="395" y="285"/>
                    </a:lnTo>
                    <a:lnTo>
                      <a:pt x="356" y="272"/>
                    </a:lnTo>
                    <a:lnTo>
                      <a:pt x="324" y="272"/>
                    </a:lnTo>
                    <a:lnTo>
                      <a:pt x="291" y="266"/>
                    </a:lnTo>
                    <a:lnTo>
                      <a:pt x="252" y="259"/>
                    </a:lnTo>
                    <a:lnTo>
                      <a:pt x="226" y="246"/>
                    </a:lnTo>
                    <a:lnTo>
                      <a:pt x="194" y="233"/>
                    </a:lnTo>
                    <a:lnTo>
                      <a:pt x="149" y="214"/>
                    </a:lnTo>
                    <a:lnTo>
                      <a:pt x="123" y="188"/>
                    </a:lnTo>
                    <a:lnTo>
                      <a:pt x="97" y="162"/>
                    </a:lnTo>
                    <a:lnTo>
                      <a:pt x="71" y="136"/>
                    </a:lnTo>
                    <a:lnTo>
                      <a:pt x="45" y="97"/>
                    </a:lnTo>
                    <a:lnTo>
                      <a:pt x="26" y="71"/>
                    </a:lnTo>
                    <a:lnTo>
                      <a:pt x="26" y="39"/>
                    </a:lnTo>
                    <a:lnTo>
                      <a:pt x="19" y="0"/>
                    </a:lnTo>
                    <a:lnTo>
                      <a:pt x="0" y="39"/>
                    </a:lnTo>
                    <a:lnTo>
                      <a:pt x="0" y="123"/>
                    </a:lnTo>
                    <a:lnTo>
                      <a:pt x="129" y="285"/>
                    </a:lnTo>
                    <a:lnTo>
                      <a:pt x="557" y="337"/>
                    </a:lnTo>
                    <a:lnTo>
                      <a:pt x="557" y="311"/>
                    </a:lnTo>
                    <a:lnTo>
                      <a:pt x="557" y="285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01360" y="4796640"/>
                <a:ext cx="262800" cy="196920"/>
              </a:xfrm>
              <a:custGeom>
                <a:avLst/>
                <a:gdLst/>
                <a:ahLst/>
                <a:rect l="l" t="t" r="r" b="b"/>
                <a:pathLst>
                  <a:path w="182" h="149">
                    <a:moveTo>
                      <a:pt x="26" y="20"/>
                    </a:moveTo>
                    <a:lnTo>
                      <a:pt x="52" y="0"/>
                    </a:lnTo>
                    <a:lnTo>
                      <a:pt x="59" y="20"/>
                    </a:lnTo>
                    <a:lnTo>
                      <a:pt x="59" y="26"/>
                    </a:lnTo>
                    <a:lnTo>
                      <a:pt x="78" y="46"/>
                    </a:lnTo>
                    <a:lnTo>
                      <a:pt x="85" y="65"/>
                    </a:lnTo>
                    <a:lnTo>
                      <a:pt x="111" y="78"/>
                    </a:lnTo>
                    <a:lnTo>
                      <a:pt x="137" y="104"/>
                    </a:lnTo>
                    <a:lnTo>
                      <a:pt x="162" y="124"/>
                    </a:lnTo>
                    <a:lnTo>
                      <a:pt x="182" y="130"/>
                    </a:lnTo>
                    <a:lnTo>
                      <a:pt x="156" y="143"/>
                    </a:lnTo>
                    <a:lnTo>
                      <a:pt x="0" y="149"/>
                    </a:lnTo>
                    <a:lnTo>
                      <a:pt x="13" y="85"/>
                    </a:lnTo>
                    <a:lnTo>
                      <a:pt x="26" y="20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58240" y="4540320"/>
                <a:ext cx="1068480" cy="668160"/>
              </a:xfrm>
              <a:custGeom>
                <a:avLst/>
                <a:gdLst/>
                <a:ahLst/>
                <a:rect l="l" t="t" r="r" b="b"/>
                <a:pathLst>
                  <a:path w="739" h="505">
                    <a:moveTo>
                      <a:pt x="538" y="311"/>
                    </a:moveTo>
                    <a:lnTo>
                      <a:pt x="499" y="318"/>
                    </a:lnTo>
                    <a:lnTo>
                      <a:pt x="454" y="318"/>
                    </a:lnTo>
                    <a:lnTo>
                      <a:pt x="389" y="311"/>
                    </a:lnTo>
                    <a:lnTo>
                      <a:pt x="337" y="311"/>
                    </a:lnTo>
                    <a:lnTo>
                      <a:pt x="298" y="298"/>
                    </a:lnTo>
                    <a:lnTo>
                      <a:pt x="253" y="272"/>
                    </a:lnTo>
                    <a:lnTo>
                      <a:pt x="221" y="259"/>
                    </a:lnTo>
                    <a:lnTo>
                      <a:pt x="182" y="246"/>
                    </a:lnTo>
                    <a:lnTo>
                      <a:pt x="149" y="233"/>
                    </a:lnTo>
                    <a:lnTo>
                      <a:pt x="110" y="194"/>
                    </a:lnTo>
                    <a:lnTo>
                      <a:pt x="97" y="175"/>
                    </a:lnTo>
                    <a:lnTo>
                      <a:pt x="71" y="149"/>
                    </a:lnTo>
                    <a:lnTo>
                      <a:pt x="52" y="123"/>
                    </a:lnTo>
                    <a:lnTo>
                      <a:pt x="33" y="91"/>
                    </a:lnTo>
                    <a:lnTo>
                      <a:pt x="20" y="52"/>
                    </a:lnTo>
                    <a:lnTo>
                      <a:pt x="20" y="26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26"/>
                    </a:lnTo>
                    <a:lnTo>
                      <a:pt x="7" y="52"/>
                    </a:lnTo>
                    <a:lnTo>
                      <a:pt x="0" y="91"/>
                    </a:lnTo>
                    <a:lnTo>
                      <a:pt x="0" y="110"/>
                    </a:lnTo>
                    <a:lnTo>
                      <a:pt x="0" y="143"/>
                    </a:lnTo>
                    <a:lnTo>
                      <a:pt x="20" y="175"/>
                    </a:lnTo>
                    <a:lnTo>
                      <a:pt x="26" y="194"/>
                    </a:lnTo>
                    <a:lnTo>
                      <a:pt x="33" y="233"/>
                    </a:lnTo>
                    <a:lnTo>
                      <a:pt x="59" y="259"/>
                    </a:lnTo>
                    <a:lnTo>
                      <a:pt x="84" y="292"/>
                    </a:lnTo>
                    <a:lnTo>
                      <a:pt x="110" y="311"/>
                    </a:lnTo>
                    <a:lnTo>
                      <a:pt x="136" y="337"/>
                    </a:lnTo>
                    <a:lnTo>
                      <a:pt x="175" y="356"/>
                    </a:lnTo>
                    <a:lnTo>
                      <a:pt x="208" y="369"/>
                    </a:lnTo>
                    <a:lnTo>
                      <a:pt x="259" y="395"/>
                    </a:lnTo>
                    <a:lnTo>
                      <a:pt x="298" y="408"/>
                    </a:lnTo>
                    <a:lnTo>
                      <a:pt x="324" y="415"/>
                    </a:lnTo>
                    <a:lnTo>
                      <a:pt x="383" y="415"/>
                    </a:lnTo>
                    <a:lnTo>
                      <a:pt x="415" y="415"/>
                    </a:lnTo>
                    <a:lnTo>
                      <a:pt x="486" y="408"/>
                    </a:lnTo>
                    <a:lnTo>
                      <a:pt x="415" y="505"/>
                    </a:lnTo>
                    <a:lnTo>
                      <a:pt x="441" y="486"/>
                    </a:lnTo>
                    <a:lnTo>
                      <a:pt x="480" y="467"/>
                    </a:lnTo>
                    <a:lnTo>
                      <a:pt x="512" y="447"/>
                    </a:lnTo>
                    <a:lnTo>
                      <a:pt x="564" y="415"/>
                    </a:lnTo>
                    <a:lnTo>
                      <a:pt x="603" y="395"/>
                    </a:lnTo>
                    <a:lnTo>
                      <a:pt x="635" y="389"/>
                    </a:lnTo>
                    <a:lnTo>
                      <a:pt x="707" y="356"/>
                    </a:lnTo>
                    <a:lnTo>
                      <a:pt x="739" y="337"/>
                    </a:lnTo>
                    <a:lnTo>
                      <a:pt x="720" y="337"/>
                    </a:lnTo>
                    <a:lnTo>
                      <a:pt x="694" y="318"/>
                    </a:lnTo>
                    <a:lnTo>
                      <a:pt x="681" y="298"/>
                    </a:lnTo>
                    <a:lnTo>
                      <a:pt x="661" y="292"/>
                    </a:lnTo>
                    <a:lnTo>
                      <a:pt x="635" y="272"/>
                    </a:lnTo>
                    <a:lnTo>
                      <a:pt x="629" y="246"/>
                    </a:lnTo>
                    <a:lnTo>
                      <a:pt x="616" y="233"/>
                    </a:lnTo>
                    <a:lnTo>
                      <a:pt x="616" y="201"/>
                    </a:lnTo>
                    <a:lnTo>
                      <a:pt x="577" y="259"/>
                    </a:lnTo>
                    <a:lnTo>
                      <a:pt x="538" y="311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49960" y="4540320"/>
                <a:ext cx="1077120" cy="668160"/>
              </a:xfrm>
              <a:custGeom>
                <a:avLst/>
                <a:gdLst/>
                <a:ahLst/>
                <a:rect l="l" t="t" r="r" b="b"/>
                <a:pathLst>
                  <a:path w="745" h="505">
                    <a:moveTo>
                      <a:pt x="544" y="318"/>
                    </a:moveTo>
                    <a:lnTo>
                      <a:pt x="505" y="324"/>
                    </a:lnTo>
                    <a:lnTo>
                      <a:pt x="447" y="318"/>
                    </a:lnTo>
                    <a:lnTo>
                      <a:pt x="389" y="318"/>
                    </a:lnTo>
                    <a:lnTo>
                      <a:pt x="343" y="311"/>
                    </a:lnTo>
                    <a:lnTo>
                      <a:pt x="304" y="298"/>
                    </a:lnTo>
                    <a:lnTo>
                      <a:pt x="252" y="272"/>
                    </a:lnTo>
                    <a:lnTo>
                      <a:pt x="214" y="266"/>
                    </a:lnTo>
                    <a:lnTo>
                      <a:pt x="181" y="246"/>
                    </a:lnTo>
                    <a:lnTo>
                      <a:pt x="155" y="233"/>
                    </a:lnTo>
                    <a:lnTo>
                      <a:pt x="116" y="201"/>
                    </a:lnTo>
                    <a:lnTo>
                      <a:pt x="90" y="175"/>
                    </a:lnTo>
                    <a:lnTo>
                      <a:pt x="65" y="149"/>
                    </a:lnTo>
                    <a:lnTo>
                      <a:pt x="58" y="123"/>
                    </a:lnTo>
                    <a:lnTo>
                      <a:pt x="32" y="91"/>
                    </a:lnTo>
                    <a:lnTo>
                      <a:pt x="26" y="65"/>
                    </a:lnTo>
                    <a:lnTo>
                      <a:pt x="26" y="39"/>
                    </a:lnTo>
                    <a:lnTo>
                      <a:pt x="32" y="13"/>
                    </a:lnTo>
                    <a:lnTo>
                      <a:pt x="39" y="0"/>
                    </a:lnTo>
                    <a:lnTo>
                      <a:pt x="26" y="26"/>
                    </a:lnTo>
                    <a:lnTo>
                      <a:pt x="6" y="52"/>
                    </a:lnTo>
                    <a:lnTo>
                      <a:pt x="6" y="91"/>
                    </a:lnTo>
                    <a:lnTo>
                      <a:pt x="0" y="117"/>
                    </a:lnTo>
                    <a:lnTo>
                      <a:pt x="6" y="143"/>
                    </a:lnTo>
                    <a:lnTo>
                      <a:pt x="26" y="175"/>
                    </a:lnTo>
                    <a:lnTo>
                      <a:pt x="26" y="201"/>
                    </a:lnTo>
                    <a:lnTo>
                      <a:pt x="39" y="233"/>
                    </a:lnTo>
                    <a:lnTo>
                      <a:pt x="65" y="259"/>
                    </a:lnTo>
                    <a:lnTo>
                      <a:pt x="84" y="292"/>
                    </a:lnTo>
                    <a:lnTo>
                      <a:pt x="110" y="318"/>
                    </a:lnTo>
                    <a:lnTo>
                      <a:pt x="142" y="337"/>
                    </a:lnTo>
                    <a:lnTo>
                      <a:pt x="181" y="356"/>
                    </a:lnTo>
                    <a:lnTo>
                      <a:pt x="207" y="382"/>
                    </a:lnTo>
                    <a:lnTo>
                      <a:pt x="259" y="395"/>
                    </a:lnTo>
                    <a:lnTo>
                      <a:pt x="304" y="408"/>
                    </a:lnTo>
                    <a:lnTo>
                      <a:pt x="330" y="415"/>
                    </a:lnTo>
                    <a:lnTo>
                      <a:pt x="382" y="415"/>
                    </a:lnTo>
                    <a:lnTo>
                      <a:pt x="421" y="415"/>
                    </a:lnTo>
                    <a:lnTo>
                      <a:pt x="486" y="415"/>
                    </a:lnTo>
                    <a:lnTo>
                      <a:pt x="421" y="505"/>
                    </a:lnTo>
                    <a:lnTo>
                      <a:pt x="447" y="493"/>
                    </a:lnTo>
                    <a:lnTo>
                      <a:pt x="473" y="467"/>
                    </a:lnTo>
                    <a:lnTo>
                      <a:pt x="512" y="447"/>
                    </a:lnTo>
                    <a:lnTo>
                      <a:pt x="564" y="415"/>
                    </a:lnTo>
                    <a:lnTo>
                      <a:pt x="609" y="395"/>
                    </a:lnTo>
                    <a:lnTo>
                      <a:pt x="641" y="389"/>
                    </a:lnTo>
                    <a:lnTo>
                      <a:pt x="713" y="356"/>
                    </a:lnTo>
                    <a:lnTo>
                      <a:pt x="745" y="343"/>
                    </a:lnTo>
                    <a:lnTo>
                      <a:pt x="726" y="337"/>
                    </a:lnTo>
                    <a:lnTo>
                      <a:pt x="693" y="324"/>
                    </a:lnTo>
                    <a:lnTo>
                      <a:pt x="674" y="311"/>
                    </a:lnTo>
                    <a:lnTo>
                      <a:pt x="661" y="292"/>
                    </a:lnTo>
                    <a:lnTo>
                      <a:pt x="641" y="272"/>
                    </a:lnTo>
                    <a:lnTo>
                      <a:pt x="635" y="246"/>
                    </a:lnTo>
                    <a:lnTo>
                      <a:pt x="622" y="233"/>
                    </a:lnTo>
                    <a:lnTo>
                      <a:pt x="615" y="214"/>
                    </a:lnTo>
                    <a:lnTo>
                      <a:pt x="583" y="266"/>
                    </a:lnTo>
                    <a:lnTo>
                      <a:pt x="544" y="318"/>
                    </a:lnTo>
                    <a:close/>
                  </a:path>
                </a:pathLst>
              </a:custGeom>
              <a:solidFill>
                <a:srgbClr val="99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7340760" y="4646520"/>
              <a:ext cx="965160" cy="420840"/>
            </a:xfrm>
            <a:prstGeom prst="ellipse">
              <a:avLst/>
            </a:prstGeom>
            <a:solidFill>
              <a:srgbClr val="ff7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08960" y="5078520"/>
              <a:ext cx="282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TTO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33"/>
                  </a:solidFill>
                  <a:latin typeface="Arial"/>
                </a:rPr>
                <a:t>Standard of Bre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911160" y="4638600"/>
            <a:ext cx="38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global econom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</a:t>
            </a: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“must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Asia </a:t>
            </a: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0735400">
            <a:off x="5022360" y="2491920"/>
            <a:ext cx="29941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0730600">
            <a:off x="5095800" y="245700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500 year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938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91640" y="3605040"/>
            <a:ext cx="976320" cy="382680"/>
          </a:xfrm>
          <a:custGeom>
            <a:avLst/>
            <a:gdLst>
              <a:gd name="textAreaLeft" fmla="*/ 152280 w 976320"/>
              <a:gd name="textAreaRight" fmla="*/ 854280 w 97632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79800" y="2481120"/>
            <a:ext cx="1166760" cy="432000"/>
          </a:xfrm>
          <a:prstGeom prst="ellipse">
            <a:avLst/>
          </a:prstGeom>
          <a:solidFill>
            <a:srgbClr val="ffcc33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72120" y="2521080"/>
            <a:ext cx="5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434360" y="3111480"/>
            <a:ext cx="1166760" cy="433440"/>
            <a:chOff x="7434360" y="3111480"/>
            <a:chExt cx="1166760" cy="433440"/>
          </a:xfrm>
        </p:grpSpPr>
        <p:sp>
          <p:nvSpPr>
            <p:cNvPr id="234" name=""/>
            <p:cNvSpPr/>
            <p:nvPr/>
          </p:nvSpPr>
          <p:spPr>
            <a:xfrm>
              <a:off x="7434360" y="3111480"/>
              <a:ext cx="1166760" cy="4334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74480" y="312264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T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97080" y="3271680"/>
            <a:ext cx="642960" cy="43200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22480" y="4213080"/>
            <a:ext cx="642960" cy="619200"/>
          </a:xfrm>
          <a:prstGeom prst="ellipse">
            <a:avLst/>
          </a:prstGeom>
          <a:noFill/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1400" y="3533760"/>
            <a:ext cx="2014560" cy="349200"/>
          </a:xfrm>
          <a:custGeom>
            <a:avLst/>
            <a:gdLst/>
            <a:ahLst/>
            <a:rect l="l" t="t" r="r" b="b"/>
            <a:pathLst>
              <a:path w="1269" h="220">
                <a:moveTo>
                  <a:pt x="59" y="0"/>
                </a:moveTo>
                <a:lnTo>
                  <a:pt x="0" y="220"/>
                </a:lnTo>
                <a:lnTo>
                  <a:pt x="1269" y="22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923080" y="4397040"/>
            <a:ext cx="2880" cy="59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44680" y="4802040"/>
            <a:ext cx="1787760" cy="662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710160" y="3882960"/>
            <a:ext cx="536400" cy="18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5160" y="3917880"/>
            <a:ext cx="196920" cy="279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244680" y="4092480"/>
            <a:ext cx="406440" cy="115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511440" y="4116240"/>
            <a:ext cx="163800" cy="314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45000" y="4051440"/>
            <a:ext cx="106200" cy="60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7400" y="3863880"/>
            <a:ext cx="10800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2560" y="3852720"/>
            <a:ext cx="106560" cy="6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4480" y="3259080"/>
            <a:ext cx="106200" cy="60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51000" y="3527280"/>
            <a:ext cx="106560" cy="60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68760" y="3446640"/>
            <a:ext cx="106200" cy="60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79880" y="4178160"/>
            <a:ext cx="106200" cy="60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76400" y="4492800"/>
            <a:ext cx="106560" cy="60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4160" y="4411800"/>
            <a:ext cx="106200" cy="60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14800" y="4784760"/>
            <a:ext cx="106200" cy="60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406680" y="2498760"/>
            <a:ext cx="0" cy="790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76720" y="3917880"/>
            <a:ext cx="5713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9760" y="1871640"/>
            <a:ext cx="1630440" cy="549000"/>
          </a:xfrm>
          <a:prstGeom prst="rect">
            <a:avLst/>
          </a:pr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4200" y="3638520"/>
            <a:ext cx="159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o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36120" y="5370480"/>
            <a:ext cx="167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or 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97360" y="2684520"/>
            <a:ext cx="909360" cy="0"/>
          </a:xfrm>
          <a:prstGeom prst="line">
            <a:avLst/>
          </a:prstGeom>
          <a:ln w="76320">
            <a:solidFill>
              <a:srgbClr val="ffcc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530680" y="4709880"/>
            <a:ext cx="617760" cy="111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26240" y="2467080"/>
            <a:ext cx="2317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nternet Architecture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30320" y="426960"/>
            <a:ext cx="65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ternational Standards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Optic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48000" y="3019320"/>
            <a:ext cx="2241360" cy="2109960"/>
          </a:xfrm>
          <a:custGeom>
            <a:avLst/>
            <a:gdLst/>
            <a:ahLst/>
            <a:rect l="l" t="t" r="r" b="b"/>
            <a:pathLst>
              <a:path w="3959" h="3426">
                <a:moveTo>
                  <a:pt x="676" y="646"/>
                </a:moveTo>
                <a:lnTo>
                  <a:pt x="639" y="640"/>
                </a:lnTo>
                <a:lnTo>
                  <a:pt x="603" y="640"/>
                </a:lnTo>
                <a:lnTo>
                  <a:pt x="566" y="642"/>
                </a:lnTo>
                <a:lnTo>
                  <a:pt x="532" y="650"/>
                </a:lnTo>
                <a:lnTo>
                  <a:pt x="495" y="661"/>
                </a:lnTo>
                <a:lnTo>
                  <a:pt x="461" y="676"/>
                </a:lnTo>
                <a:lnTo>
                  <a:pt x="426" y="694"/>
                </a:lnTo>
                <a:lnTo>
                  <a:pt x="394" y="717"/>
                </a:lnTo>
                <a:lnTo>
                  <a:pt x="361" y="742"/>
                </a:lnTo>
                <a:lnTo>
                  <a:pt x="332" y="769"/>
                </a:lnTo>
                <a:lnTo>
                  <a:pt x="303" y="799"/>
                </a:lnTo>
                <a:lnTo>
                  <a:pt x="276" y="834"/>
                </a:lnTo>
                <a:lnTo>
                  <a:pt x="251" y="870"/>
                </a:lnTo>
                <a:lnTo>
                  <a:pt x="230" y="909"/>
                </a:lnTo>
                <a:lnTo>
                  <a:pt x="211" y="949"/>
                </a:lnTo>
                <a:lnTo>
                  <a:pt x="194" y="993"/>
                </a:lnTo>
                <a:lnTo>
                  <a:pt x="177" y="1055"/>
                </a:lnTo>
                <a:lnTo>
                  <a:pt x="165" y="1118"/>
                </a:lnTo>
                <a:lnTo>
                  <a:pt x="161" y="1179"/>
                </a:lnTo>
                <a:lnTo>
                  <a:pt x="165" y="1241"/>
                </a:lnTo>
                <a:lnTo>
                  <a:pt x="173" y="1299"/>
                </a:lnTo>
                <a:lnTo>
                  <a:pt x="188" y="1354"/>
                </a:lnTo>
                <a:lnTo>
                  <a:pt x="211" y="1406"/>
                </a:lnTo>
                <a:lnTo>
                  <a:pt x="238" y="1454"/>
                </a:lnTo>
                <a:lnTo>
                  <a:pt x="238" y="1446"/>
                </a:lnTo>
                <a:lnTo>
                  <a:pt x="205" y="1473"/>
                </a:lnTo>
                <a:lnTo>
                  <a:pt x="173" y="1502"/>
                </a:lnTo>
                <a:lnTo>
                  <a:pt x="144" y="1533"/>
                </a:lnTo>
                <a:lnTo>
                  <a:pt x="115" y="1567"/>
                </a:lnTo>
                <a:lnTo>
                  <a:pt x="90" y="1606"/>
                </a:lnTo>
                <a:lnTo>
                  <a:pt x="69" y="1644"/>
                </a:lnTo>
                <a:lnTo>
                  <a:pt x="50" y="1686"/>
                </a:lnTo>
                <a:lnTo>
                  <a:pt x="33" y="1729"/>
                </a:lnTo>
                <a:lnTo>
                  <a:pt x="19" y="1777"/>
                </a:lnTo>
                <a:lnTo>
                  <a:pt x="8" y="1825"/>
                </a:lnTo>
                <a:lnTo>
                  <a:pt x="2" y="1871"/>
                </a:lnTo>
                <a:lnTo>
                  <a:pt x="0" y="1917"/>
                </a:lnTo>
                <a:lnTo>
                  <a:pt x="2" y="1963"/>
                </a:lnTo>
                <a:lnTo>
                  <a:pt x="8" y="2007"/>
                </a:lnTo>
                <a:lnTo>
                  <a:pt x="15" y="2049"/>
                </a:lnTo>
                <a:lnTo>
                  <a:pt x="29" y="2090"/>
                </a:lnTo>
                <a:lnTo>
                  <a:pt x="44" y="2128"/>
                </a:lnTo>
                <a:lnTo>
                  <a:pt x="63" y="2165"/>
                </a:lnTo>
                <a:lnTo>
                  <a:pt x="84" y="2197"/>
                </a:lnTo>
                <a:lnTo>
                  <a:pt x="109" y="2228"/>
                </a:lnTo>
                <a:lnTo>
                  <a:pt x="138" y="2255"/>
                </a:lnTo>
                <a:lnTo>
                  <a:pt x="169" y="2278"/>
                </a:lnTo>
                <a:lnTo>
                  <a:pt x="202" y="2297"/>
                </a:lnTo>
                <a:lnTo>
                  <a:pt x="238" y="2312"/>
                </a:lnTo>
                <a:lnTo>
                  <a:pt x="261" y="2318"/>
                </a:lnTo>
                <a:lnTo>
                  <a:pt x="282" y="2324"/>
                </a:lnTo>
                <a:lnTo>
                  <a:pt x="280" y="2326"/>
                </a:lnTo>
                <a:lnTo>
                  <a:pt x="286" y="2380"/>
                </a:lnTo>
                <a:lnTo>
                  <a:pt x="296" y="2433"/>
                </a:lnTo>
                <a:lnTo>
                  <a:pt x="309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4"/>
                </a:lnTo>
                <a:lnTo>
                  <a:pt x="386" y="2668"/>
                </a:lnTo>
                <a:lnTo>
                  <a:pt x="413" y="2708"/>
                </a:lnTo>
                <a:lnTo>
                  <a:pt x="440" y="2745"/>
                </a:lnTo>
                <a:lnTo>
                  <a:pt x="470" y="2779"/>
                </a:lnTo>
                <a:lnTo>
                  <a:pt x="503" y="2812"/>
                </a:lnTo>
                <a:lnTo>
                  <a:pt x="538" y="2841"/>
                </a:lnTo>
                <a:lnTo>
                  <a:pt x="576" y="2867"/>
                </a:lnTo>
                <a:lnTo>
                  <a:pt x="614" y="2890"/>
                </a:lnTo>
                <a:lnTo>
                  <a:pt x="655" y="2910"/>
                </a:lnTo>
                <a:lnTo>
                  <a:pt x="697" y="2927"/>
                </a:lnTo>
                <a:lnTo>
                  <a:pt x="741" y="2940"/>
                </a:lnTo>
                <a:lnTo>
                  <a:pt x="787" y="2950"/>
                </a:lnTo>
                <a:lnTo>
                  <a:pt x="833" y="2954"/>
                </a:lnTo>
                <a:lnTo>
                  <a:pt x="879" y="2956"/>
                </a:lnTo>
                <a:lnTo>
                  <a:pt x="927" y="2954"/>
                </a:lnTo>
                <a:lnTo>
                  <a:pt x="973" y="2948"/>
                </a:lnTo>
                <a:lnTo>
                  <a:pt x="1021" y="2937"/>
                </a:lnTo>
                <a:lnTo>
                  <a:pt x="1069" y="2923"/>
                </a:lnTo>
                <a:lnTo>
                  <a:pt x="1067" y="2923"/>
                </a:lnTo>
                <a:lnTo>
                  <a:pt x="1075" y="2967"/>
                </a:lnTo>
                <a:lnTo>
                  <a:pt x="1087" y="3010"/>
                </a:lnTo>
                <a:lnTo>
                  <a:pt x="1098" y="3050"/>
                </a:lnTo>
                <a:lnTo>
                  <a:pt x="1112" y="3088"/>
                </a:lnTo>
                <a:lnTo>
                  <a:pt x="1129" y="3127"/>
                </a:lnTo>
                <a:lnTo>
                  <a:pt x="1148" y="3161"/>
                </a:lnTo>
                <a:lnTo>
                  <a:pt x="1167" y="3196"/>
                </a:lnTo>
                <a:lnTo>
                  <a:pt x="1190" y="3227"/>
                </a:lnTo>
                <a:lnTo>
                  <a:pt x="1213" y="3257"/>
                </a:lnTo>
                <a:lnTo>
                  <a:pt x="1240" y="3284"/>
                </a:lnTo>
                <a:lnTo>
                  <a:pt x="1267" y="3309"/>
                </a:lnTo>
                <a:lnTo>
                  <a:pt x="1296" y="3334"/>
                </a:lnTo>
                <a:lnTo>
                  <a:pt x="1327" y="3353"/>
                </a:lnTo>
                <a:lnTo>
                  <a:pt x="1359" y="3372"/>
                </a:lnTo>
                <a:lnTo>
                  <a:pt x="1392" y="3388"/>
                </a:lnTo>
                <a:lnTo>
                  <a:pt x="1427" y="3401"/>
                </a:lnTo>
                <a:lnTo>
                  <a:pt x="1473" y="3415"/>
                </a:lnTo>
                <a:lnTo>
                  <a:pt x="1521" y="3422"/>
                </a:lnTo>
                <a:lnTo>
                  <a:pt x="1569" y="3426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09"/>
                </a:lnTo>
                <a:lnTo>
                  <a:pt x="1762" y="3394"/>
                </a:lnTo>
                <a:lnTo>
                  <a:pt x="1810" y="3374"/>
                </a:lnTo>
                <a:lnTo>
                  <a:pt x="1857" y="3351"/>
                </a:lnTo>
                <a:lnTo>
                  <a:pt x="1903" y="3324"/>
                </a:lnTo>
                <a:lnTo>
                  <a:pt x="1947" y="3292"/>
                </a:lnTo>
                <a:lnTo>
                  <a:pt x="1989" y="3257"/>
                </a:lnTo>
                <a:lnTo>
                  <a:pt x="2029" y="3217"/>
                </a:lnTo>
                <a:lnTo>
                  <a:pt x="2068" y="3175"/>
                </a:lnTo>
                <a:lnTo>
                  <a:pt x="2104" y="3127"/>
                </a:lnTo>
                <a:lnTo>
                  <a:pt x="2139" y="3077"/>
                </a:lnTo>
                <a:lnTo>
                  <a:pt x="2139" y="3081"/>
                </a:lnTo>
                <a:lnTo>
                  <a:pt x="2160" y="3111"/>
                </a:lnTo>
                <a:lnTo>
                  <a:pt x="2185" y="3140"/>
                </a:lnTo>
                <a:lnTo>
                  <a:pt x="2210" y="3167"/>
                </a:lnTo>
                <a:lnTo>
                  <a:pt x="2237" y="3192"/>
                </a:lnTo>
                <a:lnTo>
                  <a:pt x="2266" y="3213"/>
                </a:lnTo>
                <a:lnTo>
                  <a:pt x="2296" y="3232"/>
                </a:lnTo>
                <a:lnTo>
                  <a:pt x="2329" y="3248"/>
                </a:lnTo>
                <a:lnTo>
                  <a:pt x="2362" y="3261"/>
                </a:lnTo>
                <a:lnTo>
                  <a:pt x="2411" y="3275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6"/>
                </a:lnTo>
                <a:lnTo>
                  <a:pt x="2615" y="3267"/>
                </a:lnTo>
                <a:lnTo>
                  <a:pt x="2665" y="3250"/>
                </a:lnTo>
                <a:lnTo>
                  <a:pt x="2715" y="3227"/>
                </a:lnTo>
                <a:lnTo>
                  <a:pt x="2761" y="3200"/>
                </a:lnTo>
                <a:lnTo>
                  <a:pt x="2807" y="3167"/>
                </a:lnTo>
                <a:lnTo>
                  <a:pt x="2851" y="3130"/>
                </a:lnTo>
                <a:lnTo>
                  <a:pt x="2893" y="3088"/>
                </a:lnTo>
                <a:lnTo>
                  <a:pt x="2932" y="3042"/>
                </a:lnTo>
                <a:lnTo>
                  <a:pt x="2966" y="2992"/>
                </a:lnTo>
                <a:lnTo>
                  <a:pt x="2999" y="2938"/>
                </a:lnTo>
                <a:lnTo>
                  <a:pt x="3026" y="2881"/>
                </a:lnTo>
                <a:lnTo>
                  <a:pt x="3051" y="2819"/>
                </a:lnTo>
                <a:lnTo>
                  <a:pt x="3051" y="2817"/>
                </a:lnTo>
                <a:lnTo>
                  <a:pt x="3106" y="2823"/>
                </a:lnTo>
                <a:lnTo>
                  <a:pt x="3162" y="2821"/>
                </a:lnTo>
                <a:lnTo>
                  <a:pt x="3216" y="2814"/>
                </a:lnTo>
                <a:lnTo>
                  <a:pt x="3272" y="2802"/>
                </a:lnTo>
                <a:lnTo>
                  <a:pt x="3325" y="2783"/>
                </a:lnTo>
                <a:lnTo>
                  <a:pt x="3377" y="2758"/>
                </a:lnTo>
                <a:lnTo>
                  <a:pt x="3429" y="2729"/>
                </a:lnTo>
                <a:lnTo>
                  <a:pt x="3479" y="2697"/>
                </a:lnTo>
                <a:lnTo>
                  <a:pt x="3527" y="2656"/>
                </a:lnTo>
                <a:lnTo>
                  <a:pt x="3571" y="2614"/>
                </a:lnTo>
                <a:lnTo>
                  <a:pt x="3613" y="2566"/>
                </a:lnTo>
                <a:lnTo>
                  <a:pt x="3654" y="2516"/>
                </a:lnTo>
                <a:lnTo>
                  <a:pt x="3690" y="2460"/>
                </a:lnTo>
                <a:lnTo>
                  <a:pt x="3723" y="2401"/>
                </a:lnTo>
                <a:lnTo>
                  <a:pt x="3752" y="2339"/>
                </a:lnTo>
                <a:lnTo>
                  <a:pt x="3777" y="2274"/>
                </a:lnTo>
                <a:lnTo>
                  <a:pt x="3794" y="2215"/>
                </a:lnTo>
                <a:lnTo>
                  <a:pt x="3809" y="2153"/>
                </a:lnTo>
                <a:lnTo>
                  <a:pt x="3819" y="2094"/>
                </a:lnTo>
                <a:lnTo>
                  <a:pt x="3825" y="2032"/>
                </a:lnTo>
                <a:lnTo>
                  <a:pt x="3828" y="1973"/>
                </a:lnTo>
                <a:lnTo>
                  <a:pt x="3825" y="1913"/>
                </a:lnTo>
                <a:lnTo>
                  <a:pt x="3819" y="1855"/>
                </a:lnTo>
                <a:lnTo>
                  <a:pt x="3809" y="1798"/>
                </a:lnTo>
                <a:lnTo>
                  <a:pt x="3807" y="1796"/>
                </a:lnTo>
                <a:lnTo>
                  <a:pt x="3842" y="1748"/>
                </a:lnTo>
                <a:lnTo>
                  <a:pt x="3873" y="1698"/>
                </a:lnTo>
                <a:lnTo>
                  <a:pt x="3897" y="1642"/>
                </a:lnTo>
                <a:lnTo>
                  <a:pt x="3919" y="1587"/>
                </a:lnTo>
                <a:lnTo>
                  <a:pt x="3934" y="1539"/>
                </a:lnTo>
                <a:lnTo>
                  <a:pt x="3945" y="1491"/>
                </a:lnTo>
                <a:lnTo>
                  <a:pt x="3953" y="1443"/>
                </a:lnTo>
                <a:lnTo>
                  <a:pt x="3957" y="1395"/>
                </a:lnTo>
                <a:lnTo>
                  <a:pt x="3959" y="1348"/>
                </a:lnTo>
                <a:lnTo>
                  <a:pt x="3957" y="1302"/>
                </a:lnTo>
                <a:lnTo>
                  <a:pt x="3953" y="1256"/>
                </a:lnTo>
                <a:lnTo>
                  <a:pt x="3945" y="1212"/>
                </a:lnTo>
                <a:lnTo>
                  <a:pt x="3934" y="1170"/>
                </a:lnTo>
                <a:lnTo>
                  <a:pt x="3921" y="1128"/>
                </a:lnTo>
                <a:lnTo>
                  <a:pt x="3903" y="1089"/>
                </a:lnTo>
                <a:lnTo>
                  <a:pt x="3884" y="1053"/>
                </a:lnTo>
                <a:lnTo>
                  <a:pt x="3861" y="1018"/>
                </a:lnTo>
                <a:lnTo>
                  <a:pt x="3836" y="986"/>
                </a:lnTo>
                <a:lnTo>
                  <a:pt x="3809" y="957"/>
                </a:lnTo>
                <a:lnTo>
                  <a:pt x="3778" y="930"/>
                </a:lnTo>
                <a:lnTo>
                  <a:pt x="3780" y="928"/>
                </a:lnTo>
                <a:lnTo>
                  <a:pt x="3788" y="880"/>
                </a:lnTo>
                <a:lnTo>
                  <a:pt x="3792" y="834"/>
                </a:lnTo>
                <a:lnTo>
                  <a:pt x="3792" y="788"/>
                </a:lnTo>
                <a:lnTo>
                  <a:pt x="3788" y="744"/>
                </a:lnTo>
                <a:lnTo>
                  <a:pt x="3782" y="699"/>
                </a:lnTo>
                <a:lnTo>
                  <a:pt x="3773" y="657"/>
                </a:lnTo>
                <a:lnTo>
                  <a:pt x="3759" y="617"/>
                </a:lnTo>
                <a:lnTo>
                  <a:pt x="3744" y="578"/>
                </a:lnTo>
                <a:lnTo>
                  <a:pt x="3727" y="544"/>
                </a:lnTo>
                <a:lnTo>
                  <a:pt x="3705" y="509"/>
                </a:lnTo>
                <a:lnTo>
                  <a:pt x="3681" y="479"/>
                </a:lnTo>
                <a:lnTo>
                  <a:pt x="3654" y="450"/>
                </a:lnTo>
                <a:lnTo>
                  <a:pt x="3625" y="425"/>
                </a:lnTo>
                <a:lnTo>
                  <a:pt x="3594" y="404"/>
                </a:lnTo>
                <a:lnTo>
                  <a:pt x="3561" y="386"/>
                </a:lnTo>
                <a:lnTo>
                  <a:pt x="3525" y="371"/>
                </a:lnTo>
                <a:lnTo>
                  <a:pt x="3479" y="360"/>
                </a:lnTo>
                <a:lnTo>
                  <a:pt x="3433" y="354"/>
                </a:lnTo>
                <a:lnTo>
                  <a:pt x="3387" y="354"/>
                </a:lnTo>
                <a:lnTo>
                  <a:pt x="3339" y="360"/>
                </a:lnTo>
                <a:lnTo>
                  <a:pt x="3291" y="373"/>
                </a:lnTo>
                <a:lnTo>
                  <a:pt x="3245" y="392"/>
                </a:lnTo>
                <a:lnTo>
                  <a:pt x="3199" y="415"/>
                </a:lnTo>
                <a:lnTo>
                  <a:pt x="3154" y="446"/>
                </a:lnTo>
                <a:lnTo>
                  <a:pt x="3154" y="448"/>
                </a:lnTo>
                <a:lnTo>
                  <a:pt x="3141" y="398"/>
                </a:lnTo>
                <a:lnTo>
                  <a:pt x="3124" y="352"/>
                </a:lnTo>
                <a:lnTo>
                  <a:pt x="3101" y="308"/>
                </a:lnTo>
                <a:lnTo>
                  <a:pt x="3074" y="271"/>
                </a:lnTo>
                <a:lnTo>
                  <a:pt x="3041" y="237"/>
                </a:lnTo>
                <a:lnTo>
                  <a:pt x="3007" y="208"/>
                </a:lnTo>
                <a:lnTo>
                  <a:pt x="2968" y="185"/>
                </a:lnTo>
                <a:lnTo>
                  <a:pt x="2928" y="168"/>
                </a:lnTo>
                <a:lnTo>
                  <a:pt x="2901" y="160"/>
                </a:lnTo>
                <a:lnTo>
                  <a:pt x="2876" y="154"/>
                </a:lnTo>
                <a:lnTo>
                  <a:pt x="2849" y="152"/>
                </a:lnTo>
                <a:lnTo>
                  <a:pt x="2822" y="150"/>
                </a:lnTo>
                <a:lnTo>
                  <a:pt x="2794" y="152"/>
                </a:lnTo>
                <a:lnTo>
                  <a:pt x="2767" y="156"/>
                </a:lnTo>
                <a:lnTo>
                  <a:pt x="2740" y="164"/>
                </a:lnTo>
                <a:lnTo>
                  <a:pt x="2713" y="171"/>
                </a:lnTo>
                <a:lnTo>
                  <a:pt x="2686" y="181"/>
                </a:lnTo>
                <a:lnTo>
                  <a:pt x="2659" y="194"/>
                </a:lnTo>
                <a:lnTo>
                  <a:pt x="2634" y="210"/>
                </a:lnTo>
                <a:lnTo>
                  <a:pt x="2609" y="225"/>
                </a:lnTo>
                <a:lnTo>
                  <a:pt x="2584" y="244"/>
                </a:lnTo>
                <a:lnTo>
                  <a:pt x="2561" y="265"/>
                </a:lnTo>
                <a:lnTo>
                  <a:pt x="2515" y="312"/>
                </a:lnTo>
                <a:lnTo>
                  <a:pt x="2513" y="319"/>
                </a:lnTo>
                <a:lnTo>
                  <a:pt x="2494" y="271"/>
                </a:lnTo>
                <a:lnTo>
                  <a:pt x="2469" y="227"/>
                </a:lnTo>
                <a:lnTo>
                  <a:pt x="2442" y="187"/>
                </a:lnTo>
                <a:lnTo>
                  <a:pt x="2411" y="150"/>
                </a:lnTo>
                <a:lnTo>
                  <a:pt x="2377" y="120"/>
                </a:lnTo>
                <a:lnTo>
                  <a:pt x="2340" y="91"/>
                </a:lnTo>
                <a:lnTo>
                  <a:pt x="2300" y="70"/>
                </a:lnTo>
                <a:lnTo>
                  <a:pt x="2258" y="52"/>
                </a:lnTo>
                <a:lnTo>
                  <a:pt x="2227" y="43"/>
                </a:lnTo>
                <a:lnTo>
                  <a:pt x="2194" y="37"/>
                </a:lnTo>
                <a:lnTo>
                  <a:pt x="2164" y="33"/>
                </a:lnTo>
                <a:lnTo>
                  <a:pt x="2131" y="31"/>
                </a:lnTo>
                <a:lnTo>
                  <a:pt x="2098" y="33"/>
                </a:lnTo>
                <a:lnTo>
                  <a:pt x="2066" y="37"/>
                </a:lnTo>
                <a:lnTo>
                  <a:pt x="2033" y="45"/>
                </a:lnTo>
                <a:lnTo>
                  <a:pt x="2001" y="54"/>
                </a:lnTo>
                <a:lnTo>
                  <a:pt x="1970" y="66"/>
                </a:lnTo>
                <a:lnTo>
                  <a:pt x="1937" y="81"/>
                </a:lnTo>
                <a:lnTo>
                  <a:pt x="1906" y="98"/>
                </a:lnTo>
                <a:lnTo>
                  <a:pt x="1876" y="118"/>
                </a:lnTo>
                <a:lnTo>
                  <a:pt x="1847" y="139"/>
                </a:lnTo>
                <a:lnTo>
                  <a:pt x="1818" y="164"/>
                </a:lnTo>
                <a:lnTo>
                  <a:pt x="1789" y="189"/>
                </a:lnTo>
                <a:lnTo>
                  <a:pt x="1762" y="217"/>
                </a:lnTo>
                <a:lnTo>
                  <a:pt x="1761" y="221"/>
                </a:lnTo>
                <a:lnTo>
                  <a:pt x="1736" y="187"/>
                </a:lnTo>
                <a:lnTo>
                  <a:pt x="1709" y="156"/>
                </a:lnTo>
                <a:lnTo>
                  <a:pt x="1678" y="127"/>
                </a:lnTo>
                <a:lnTo>
                  <a:pt x="1647" y="100"/>
                </a:lnTo>
                <a:lnTo>
                  <a:pt x="1615" y="77"/>
                </a:lnTo>
                <a:lnTo>
                  <a:pt x="1582" y="58"/>
                </a:lnTo>
                <a:lnTo>
                  <a:pt x="1546" y="41"/>
                </a:lnTo>
                <a:lnTo>
                  <a:pt x="1509" y="25"/>
                </a:lnTo>
                <a:lnTo>
                  <a:pt x="1480" y="16"/>
                </a:lnTo>
                <a:lnTo>
                  <a:pt x="1450" y="10"/>
                </a:lnTo>
                <a:lnTo>
                  <a:pt x="1421" y="4"/>
                </a:lnTo>
                <a:lnTo>
                  <a:pt x="1390" y="2"/>
                </a:lnTo>
                <a:lnTo>
                  <a:pt x="1331" y="0"/>
                </a:lnTo>
                <a:lnTo>
                  <a:pt x="1271" y="8"/>
                </a:lnTo>
                <a:lnTo>
                  <a:pt x="1211" y="20"/>
                </a:lnTo>
                <a:lnTo>
                  <a:pt x="1152" y="41"/>
                </a:lnTo>
                <a:lnTo>
                  <a:pt x="1096" y="68"/>
                </a:lnTo>
                <a:lnTo>
                  <a:pt x="1041" y="100"/>
                </a:lnTo>
                <a:lnTo>
                  <a:pt x="987" y="139"/>
                </a:lnTo>
                <a:lnTo>
                  <a:pt x="935" y="181"/>
                </a:lnTo>
                <a:lnTo>
                  <a:pt x="887" y="231"/>
                </a:lnTo>
                <a:lnTo>
                  <a:pt x="841" y="285"/>
                </a:lnTo>
                <a:lnTo>
                  <a:pt x="801" y="344"/>
                </a:lnTo>
                <a:lnTo>
                  <a:pt x="764" y="408"/>
                </a:lnTo>
                <a:lnTo>
                  <a:pt x="731" y="477"/>
                </a:lnTo>
                <a:lnTo>
                  <a:pt x="703" y="548"/>
                </a:lnTo>
                <a:lnTo>
                  <a:pt x="687" y="598"/>
                </a:lnTo>
                <a:lnTo>
                  <a:pt x="674" y="646"/>
                </a:lnTo>
                <a:lnTo>
                  <a:pt x="676" y="646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25880" y="5014800"/>
            <a:ext cx="2114640" cy="1175040"/>
          </a:xfrm>
          <a:custGeom>
            <a:avLst/>
            <a:gdLst/>
            <a:ahLst/>
            <a:rect l="l" t="t" r="r" b="b"/>
            <a:pathLst>
              <a:path w="3959" h="3426">
                <a:moveTo>
                  <a:pt x="676" y="646"/>
                </a:moveTo>
                <a:lnTo>
                  <a:pt x="639" y="640"/>
                </a:lnTo>
                <a:lnTo>
                  <a:pt x="603" y="640"/>
                </a:lnTo>
                <a:lnTo>
                  <a:pt x="566" y="642"/>
                </a:lnTo>
                <a:lnTo>
                  <a:pt x="532" y="650"/>
                </a:lnTo>
                <a:lnTo>
                  <a:pt x="495" y="661"/>
                </a:lnTo>
                <a:lnTo>
                  <a:pt x="461" y="676"/>
                </a:lnTo>
                <a:lnTo>
                  <a:pt x="426" y="694"/>
                </a:lnTo>
                <a:lnTo>
                  <a:pt x="394" y="717"/>
                </a:lnTo>
                <a:lnTo>
                  <a:pt x="361" y="742"/>
                </a:lnTo>
                <a:lnTo>
                  <a:pt x="332" y="769"/>
                </a:lnTo>
                <a:lnTo>
                  <a:pt x="303" y="799"/>
                </a:lnTo>
                <a:lnTo>
                  <a:pt x="276" y="834"/>
                </a:lnTo>
                <a:lnTo>
                  <a:pt x="251" y="870"/>
                </a:lnTo>
                <a:lnTo>
                  <a:pt x="230" y="909"/>
                </a:lnTo>
                <a:lnTo>
                  <a:pt x="211" y="949"/>
                </a:lnTo>
                <a:lnTo>
                  <a:pt x="194" y="993"/>
                </a:lnTo>
                <a:lnTo>
                  <a:pt x="177" y="1055"/>
                </a:lnTo>
                <a:lnTo>
                  <a:pt x="165" y="1118"/>
                </a:lnTo>
                <a:lnTo>
                  <a:pt x="161" y="1179"/>
                </a:lnTo>
                <a:lnTo>
                  <a:pt x="165" y="1241"/>
                </a:lnTo>
                <a:lnTo>
                  <a:pt x="173" y="1299"/>
                </a:lnTo>
                <a:lnTo>
                  <a:pt x="188" y="1354"/>
                </a:lnTo>
                <a:lnTo>
                  <a:pt x="211" y="1406"/>
                </a:lnTo>
                <a:lnTo>
                  <a:pt x="238" y="1454"/>
                </a:lnTo>
                <a:lnTo>
                  <a:pt x="238" y="1446"/>
                </a:lnTo>
                <a:lnTo>
                  <a:pt x="205" y="1473"/>
                </a:lnTo>
                <a:lnTo>
                  <a:pt x="173" y="1502"/>
                </a:lnTo>
                <a:lnTo>
                  <a:pt x="144" y="1533"/>
                </a:lnTo>
                <a:lnTo>
                  <a:pt x="115" y="1567"/>
                </a:lnTo>
                <a:lnTo>
                  <a:pt x="90" y="1606"/>
                </a:lnTo>
                <a:lnTo>
                  <a:pt x="69" y="1644"/>
                </a:lnTo>
                <a:lnTo>
                  <a:pt x="50" y="1686"/>
                </a:lnTo>
                <a:lnTo>
                  <a:pt x="33" y="1729"/>
                </a:lnTo>
                <a:lnTo>
                  <a:pt x="19" y="1777"/>
                </a:lnTo>
                <a:lnTo>
                  <a:pt x="8" y="1825"/>
                </a:lnTo>
                <a:lnTo>
                  <a:pt x="2" y="1871"/>
                </a:lnTo>
                <a:lnTo>
                  <a:pt x="0" y="1917"/>
                </a:lnTo>
                <a:lnTo>
                  <a:pt x="2" y="1963"/>
                </a:lnTo>
                <a:lnTo>
                  <a:pt x="8" y="2007"/>
                </a:lnTo>
                <a:lnTo>
                  <a:pt x="15" y="2049"/>
                </a:lnTo>
                <a:lnTo>
                  <a:pt x="29" y="2090"/>
                </a:lnTo>
                <a:lnTo>
                  <a:pt x="44" y="2128"/>
                </a:lnTo>
                <a:lnTo>
                  <a:pt x="63" y="2165"/>
                </a:lnTo>
                <a:lnTo>
                  <a:pt x="84" y="2197"/>
                </a:lnTo>
                <a:lnTo>
                  <a:pt x="109" y="2228"/>
                </a:lnTo>
                <a:lnTo>
                  <a:pt x="138" y="2255"/>
                </a:lnTo>
                <a:lnTo>
                  <a:pt x="169" y="2278"/>
                </a:lnTo>
                <a:lnTo>
                  <a:pt x="202" y="2297"/>
                </a:lnTo>
                <a:lnTo>
                  <a:pt x="238" y="2312"/>
                </a:lnTo>
                <a:lnTo>
                  <a:pt x="261" y="2318"/>
                </a:lnTo>
                <a:lnTo>
                  <a:pt x="282" y="2324"/>
                </a:lnTo>
                <a:lnTo>
                  <a:pt x="280" y="2326"/>
                </a:lnTo>
                <a:lnTo>
                  <a:pt x="286" y="2380"/>
                </a:lnTo>
                <a:lnTo>
                  <a:pt x="296" y="2433"/>
                </a:lnTo>
                <a:lnTo>
                  <a:pt x="309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4"/>
                </a:lnTo>
                <a:lnTo>
                  <a:pt x="386" y="2668"/>
                </a:lnTo>
                <a:lnTo>
                  <a:pt x="413" y="2708"/>
                </a:lnTo>
                <a:lnTo>
                  <a:pt x="440" y="2745"/>
                </a:lnTo>
                <a:lnTo>
                  <a:pt x="470" y="2779"/>
                </a:lnTo>
                <a:lnTo>
                  <a:pt x="503" y="2812"/>
                </a:lnTo>
                <a:lnTo>
                  <a:pt x="538" y="2841"/>
                </a:lnTo>
                <a:lnTo>
                  <a:pt x="576" y="2867"/>
                </a:lnTo>
                <a:lnTo>
                  <a:pt x="614" y="2890"/>
                </a:lnTo>
                <a:lnTo>
                  <a:pt x="655" y="2910"/>
                </a:lnTo>
                <a:lnTo>
                  <a:pt x="697" y="2927"/>
                </a:lnTo>
                <a:lnTo>
                  <a:pt x="741" y="2940"/>
                </a:lnTo>
                <a:lnTo>
                  <a:pt x="787" y="2950"/>
                </a:lnTo>
                <a:lnTo>
                  <a:pt x="833" y="2954"/>
                </a:lnTo>
                <a:lnTo>
                  <a:pt x="879" y="2956"/>
                </a:lnTo>
                <a:lnTo>
                  <a:pt x="927" y="2954"/>
                </a:lnTo>
                <a:lnTo>
                  <a:pt x="973" y="2948"/>
                </a:lnTo>
                <a:lnTo>
                  <a:pt x="1021" y="2937"/>
                </a:lnTo>
                <a:lnTo>
                  <a:pt x="1069" y="2923"/>
                </a:lnTo>
                <a:lnTo>
                  <a:pt x="1067" y="2923"/>
                </a:lnTo>
                <a:lnTo>
                  <a:pt x="1075" y="2967"/>
                </a:lnTo>
                <a:lnTo>
                  <a:pt x="1087" y="3010"/>
                </a:lnTo>
                <a:lnTo>
                  <a:pt x="1098" y="3050"/>
                </a:lnTo>
                <a:lnTo>
                  <a:pt x="1112" y="3088"/>
                </a:lnTo>
                <a:lnTo>
                  <a:pt x="1129" y="3127"/>
                </a:lnTo>
                <a:lnTo>
                  <a:pt x="1148" y="3161"/>
                </a:lnTo>
                <a:lnTo>
                  <a:pt x="1167" y="3196"/>
                </a:lnTo>
                <a:lnTo>
                  <a:pt x="1190" y="3227"/>
                </a:lnTo>
                <a:lnTo>
                  <a:pt x="1213" y="3257"/>
                </a:lnTo>
                <a:lnTo>
                  <a:pt x="1240" y="3284"/>
                </a:lnTo>
                <a:lnTo>
                  <a:pt x="1267" y="3309"/>
                </a:lnTo>
                <a:lnTo>
                  <a:pt x="1296" y="3334"/>
                </a:lnTo>
                <a:lnTo>
                  <a:pt x="1327" y="3353"/>
                </a:lnTo>
                <a:lnTo>
                  <a:pt x="1359" y="3372"/>
                </a:lnTo>
                <a:lnTo>
                  <a:pt x="1392" y="3388"/>
                </a:lnTo>
                <a:lnTo>
                  <a:pt x="1427" y="3401"/>
                </a:lnTo>
                <a:lnTo>
                  <a:pt x="1473" y="3415"/>
                </a:lnTo>
                <a:lnTo>
                  <a:pt x="1521" y="3422"/>
                </a:lnTo>
                <a:lnTo>
                  <a:pt x="1569" y="3426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09"/>
                </a:lnTo>
                <a:lnTo>
                  <a:pt x="1762" y="3394"/>
                </a:lnTo>
                <a:lnTo>
                  <a:pt x="1810" y="3374"/>
                </a:lnTo>
                <a:lnTo>
                  <a:pt x="1857" y="3351"/>
                </a:lnTo>
                <a:lnTo>
                  <a:pt x="1903" y="3324"/>
                </a:lnTo>
                <a:lnTo>
                  <a:pt x="1947" y="3292"/>
                </a:lnTo>
                <a:lnTo>
                  <a:pt x="1989" y="3257"/>
                </a:lnTo>
                <a:lnTo>
                  <a:pt x="2029" y="3217"/>
                </a:lnTo>
                <a:lnTo>
                  <a:pt x="2068" y="3175"/>
                </a:lnTo>
                <a:lnTo>
                  <a:pt x="2104" y="3127"/>
                </a:lnTo>
                <a:lnTo>
                  <a:pt x="2139" y="3077"/>
                </a:lnTo>
                <a:lnTo>
                  <a:pt x="2139" y="3081"/>
                </a:lnTo>
                <a:lnTo>
                  <a:pt x="2160" y="3111"/>
                </a:lnTo>
                <a:lnTo>
                  <a:pt x="2185" y="3140"/>
                </a:lnTo>
                <a:lnTo>
                  <a:pt x="2210" y="3167"/>
                </a:lnTo>
                <a:lnTo>
                  <a:pt x="2237" y="3192"/>
                </a:lnTo>
                <a:lnTo>
                  <a:pt x="2266" y="3213"/>
                </a:lnTo>
                <a:lnTo>
                  <a:pt x="2296" y="3232"/>
                </a:lnTo>
                <a:lnTo>
                  <a:pt x="2329" y="3248"/>
                </a:lnTo>
                <a:lnTo>
                  <a:pt x="2362" y="3261"/>
                </a:lnTo>
                <a:lnTo>
                  <a:pt x="2411" y="3275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6"/>
                </a:lnTo>
                <a:lnTo>
                  <a:pt x="2615" y="3267"/>
                </a:lnTo>
                <a:lnTo>
                  <a:pt x="2665" y="3250"/>
                </a:lnTo>
                <a:lnTo>
                  <a:pt x="2715" y="3227"/>
                </a:lnTo>
                <a:lnTo>
                  <a:pt x="2761" y="3200"/>
                </a:lnTo>
                <a:lnTo>
                  <a:pt x="2807" y="3167"/>
                </a:lnTo>
                <a:lnTo>
                  <a:pt x="2851" y="3130"/>
                </a:lnTo>
                <a:lnTo>
                  <a:pt x="2893" y="3088"/>
                </a:lnTo>
                <a:lnTo>
                  <a:pt x="2932" y="3042"/>
                </a:lnTo>
                <a:lnTo>
                  <a:pt x="2966" y="2992"/>
                </a:lnTo>
                <a:lnTo>
                  <a:pt x="2999" y="2938"/>
                </a:lnTo>
                <a:lnTo>
                  <a:pt x="3026" y="2881"/>
                </a:lnTo>
                <a:lnTo>
                  <a:pt x="3051" y="2819"/>
                </a:lnTo>
                <a:lnTo>
                  <a:pt x="3051" y="2817"/>
                </a:lnTo>
                <a:lnTo>
                  <a:pt x="3106" y="2823"/>
                </a:lnTo>
                <a:lnTo>
                  <a:pt x="3162" y="2821"/>
                </a:lnTo>
                <a:lnTo>
                  <a:pt x="3216" y="2814"/>
                </a:lnTo>
                <a:lnTo>
                  <a:pt x="3272" y="2802"/>
                </a:lnTo>
                <a:lnTo>
                  <a:pt x="3325" y="2783"/>
                </a:lnTo>
                <a:lnTo>
                  <a:pt x="3377" y="2758"/>
                </a:lnTo>
                <a:lnTo>
                  <a:pt x="3429" y="2729"/>
                </a:lnTo>
                <a:lnTo>
                  <a:pt x="3479" y="2697"/>
                </a:lnTo>
                <a:lnTo>
                  <a:pt x="3527" y="2656"/>
                </a:lnTo>
                <a:lnTo>
                  <a:pt x="3571" y="2614"/>
                </a:lnTo>
                <a:lnTo>
                  <a:pt x="3613" y="2566"/>
                </a:lnTo>
                <a:lnTo>
                  <a:pt x="3654" y="2516"/>
                </a:lnTo>
                <a:lnTo>
                  <a:pt x="3690" y="2460"/>
                </a:lnTo>
                <a:lnTo>
                  <a:pt x="3723" y="2401"/>
                </a:lnTo>
                <a:lnTo>
                  <a:pt x="3752" y="2339"/>
                </a:lnTo>
                <a:lnTo>
                  <a:pt x="3777" y="2274"/>
                </a:lnTo>
                <a:lnTo>
                  <a:pt x="3794" y="2215"/>
                </a:lnTo>
                <a:lnTo>
                  <a:pt x="3809" y="2153"/>
                </a:lnTo>
                <a:lnTo>
                  <a:pt x="3819" y="2094"/>
                </a:lnTo>
                <a:lnTo>
                  <a:pt x="3825" y="2032"/>
                </a:lnTo>
                <a:lnTo>
                  <a:pt x="3828" y="1973"/>
                </a:lnTo>
                <a:lnTo>
                  <a:pt x="3825" y="1913"/>
                </a:lnTo>
                <a:lnTo>
                  <a:pt x="3819" y="1855"/>
                </a:lnTo>
                <a:lnTo>
                  <a:pt x="3809" y="1798"/>
                </a:lnTo>
                <a:lnTo>
                  <a:pt x="3807" y="1796"/>
                </a:lnTo>
                <a:lnTo>
                  <a:pt x="3842" y="1748"/>
                </a:lnTo>
                <a:lnTo>
                  <a:pt x="3873" y="1698"/>
                </a:lnTo>
                <a:lnTo>
                  <a:pt x="3897" y="1642"/>
                </a:lnTo>
                <a:lnTo>
                  <a:pt x="3919" y="1587"/>
                </a:lnTo>
                <a:lnTo>
                  <a:pt x="3934" y="1539"/>
                </a:lnTo>
                <a:lnTo>
                  <a:pt x="3945" y="1491"/>
                </a:lnTo>
                <a:lnTo>
                  <a:pt x="3953" y="1443"/>
                </a:lnTo>
                <a:lnTo>
                  <a:pt x="3957" y="1395"/>
                </a:lnTo>
                <a:lnTo>
                  <a:pt x="3959" y="1348"/>
                </a:lnTo>
                <a:lnTo>
                  <a:pt x="3957" y="1302"/>
                </a:lnTo>
                <a:lnTo>
                  <a:pt x="3953" y="1256"/>
                </a:lnTo>
                <a:lnTo>
                  <a:pt x="3945" y="1212"/>
                </a:lnTo>
                <a:lnTo>
                  <a:pt x="3934" y="1170"/>
                </a:lnTo>
                <a:lnTo>
                  <a:pt x="3921" y="1128"/>
                </a:lnTo>
                <a:lnTo>
                  <a:pt x="3903" y="1089"/>
                </a:lnTo>
                <a:lnTo>
                  <a:pt x="3884" y="1053"/>
                </a:lnTo>
                <a:lnTo>
                  <a:pt x="3861" y="1018"/>
                </a:lnTo>
                <a:lnTo>
                  <a:pt x="3836" y="986"/>
                </a:lnTo>
                <a:lnTo>
                  <a:pt x="3809" y="957"/>
                </a:lnTo>
                <a:lnTo>
                  <a:pt x="3778" y="930"/>
                </a:lnTo>
                <a:lnTo>
                  <a:pt x="3780" y="928"/>
                </a:lnTo>
                <a:lnTo>
                  <a:pt x="3788" y="880"/>
                </a:lnTo>
                <a:lnTo>
                  <a:pt x="3792" y="834"/>
                </a:lnTo>
                <a:lnTo>
                  <a:pt x="3792" y="788"/>
                </a:lnTo>
                <a:lnTo>
                  <a:pt x="3788" y="744"/>
                </a:lnTo>
                <a:lnTo>
                  <a:pt x="3782" y="699"/>
                </a:lnTo>
                <a:lnTo>
                  <a:pt x="3773" y="657"/>
                </a:lnTo>
                <a:lnTo>
                  <a:pt x="3759" y="617"/>
                </a:lnTo>
                <a:lnTo>
                  <a:pt x="3744" y="578"/>
                </a:lnTo>
                <a:lnTo>
                  <a:pt x="3727" y="544"/>
                </a:lnTo>
                <a:lnTo>
                  <a:pt x="3705" y="509"/>
                </a:lnTo>
                <a:lnTo>
                  <a:pt x="3681" y="479"/>
                </a:lnTo>
                <a:lnTo>
                  <a:pt x="3654" y="450"/>
                </a:lnTo>
                <a:lnTo>
                  <a:pt x="3625" y="425"/>
                </a:lnTo>
                <a:lnTo>
                  <a:pt x="3594" y="404"/>
                </a:lnTo>
                <a:lnTo>
                  <a:pt x="3561" y="386"/>
                </a:lnTo>
                <a:lnTo>
                  <a:pt x="3525" y="371"/>
                </a:lnTo>
                <a:lnTo>
                  <a:pt x="3479" y="360"/>
                </a:lnTo>
                <a:lnTo>
                  <a:pt x="3433" y="354"/>
                </a:lnTo>
                <a:lnTo>
                  <a:pt x="3387" y="354"/>
                </a:lnTo>
                <a:lnTo>
                  <a:pt x="3339" y="360"/>
                </a:lnTo>
                <a:lnTo>
                  <a:pt x="3291" y="373"/>
                </a:lnTo>
                <a:lnTo>
                  <a:pt x="3245" y="392"/>
                </a:lnTo>
                <a:lnTo>
                  <a:pt x="3199" y="415"/>
                </a:lnTo>
                <a:lnTo>
                  <a:pt x="3154" y="446"/>
                </a:lnTo>
                <a:lnTo>
                  <a:pt x="3154" y="448"/>
                </a:lnTo>
                <a:lnTo>
                  <a:pt x="3141" y="398"/>
                </a:lnTo>
                <a:lnTo>
                  <a:pt x="3124" y="352"/>
                </a:lnTo>
                <a:lnTo>
                  <a:pt x="3101" y="308"/>
                </a:lnTo>
                <a:lnTo>
                  <a:pt x="3074" y="271"/>
                </a:lnTo>
                <a:lnTo>
                  <a:pt x="3041" y="237"/>
                </a:lnTo>
                <a:lnTo>
                  <a:pt x="3007" y="208"/>
                </a:lnTo>
                <a:lnTo>
                  <a:pt x="2968" y="185"/>
                </a:lnTo>
                <a:lnTo>
                  <a:pt x="2928" y="168"/>
                </a:lnTo>
                <a:lnTo>
                  <a:pt x="2901" y="160"/>
                </a:lnTo>
                <a:lnTo>
                  <a:pt x="2876" y="154"/>
                </a:lnTo>
                <a:lnTo>
                  <a:pt x="2849" y="152"/>
                </a:lnTo>
                <a:lnTo>
                  <a:pt x="2822" y="150"/>
                </a:lnTo>
                <a:lnTo>
                  <a:pt x="2794" y="152"/>
                </a:lnTo>
                <a:lnTo>
                  <a:pt x="2767" y="156"/>
                </a:lnTo>
                <a:lnTo>
                  <a:pt x="2740" y="164"/>
                </a:lnTo>
                <a:lnTo>
                  <a:pt x="2713" y="171"/>
                </a:lnTo>
                <a:lnTo>
                  <a:pt x="2686" y="181"/>
                </a:lnTo>
                <a:lnTo>
                  <a:pt x="2659" y="194"/>
                </a:lnTo>
                <a:lnTo>
                  <a:pt x="2634" y="210"/>
                </a:lnTo>
                <a:lnTo>
                  <a:pt x="2609" y="225"/>
                </a:lnTo>
                <a:lnTo>
                  <a:pt x="2584" y="244"/>
                </a:lnTo>
                <a:lnTo>
                  <a:pt x="2561" y="265"/>
                </a:lnTo>
                <a:lnTo>
                  <a:pt x="2515" y="312"/>
                </a:lnTo>
                <a:lnTo>
                  <a:pt x="2513" y="319"/>
                </a:lnTo>
                <a:lnTo>
                  <a:pt x="2494" y="271"/>
                </a:lnTo>
                <a:lnTo>
                  <a:pt x="2469" y="227"/>
                </a:lnTo>
                <a:lnTo>
                  <a:pt x="2442" y="187"/>
                </a:lnTo>
                <a:lnTo>
                  <a:pt x="2411" y="150"/>
                </a:lnTo>
                <a:lnTo>
                  <a:pt x="2377" y="120"/>
                </a:lnTo>
                <a:lnTo>
                  <a:pt x="2340" y="91"/>
                </a:lnTo>
                <a:lnTo>
                  <a:pt x="2300" y="70"/>
                </a:lnTo>
                <a:lnTo>
                  <a:pt x="2258" y="52"/>
                </a:lnTo>
                <a:lnTo>
                  <a:pt x="2227" y="43"/>
                </a:lnTo>
                <a:lnTo>
                  <a:pt x="2194" y="37"/>
                </a:lnTo>
                <a:lnTo>
                  <a:pt x="2164" y="33"/>
                </a:lnTo>
                <a:lnTo>
                  <a:pt x="2131" y="31"/>
                </a:lnTo>
                <a:lnTo>
                  <a:pt x="2098" y="33"/>
                </a:lnTo>
                <a:lnTo>
                  <a:pt x="2066" y="37"/>
                </a:lnTo>
                <a:lnTo>
                  <a:pt x="2033" y="45"/>
                </a:lnTo>
                <a:lnTo>
                  <a:pt x="2001" y="54"/>
                </a:lnTo>
                <a:lnTo>
                  <a:pt x="1970" y="66"/>
                </a:lnTo>
                <a:lnTo>
                  <a:pt x="1937" y="81"/>
                </a:lnTo>
                <a:lnTo>
                  <a:pt x="1906" y="98"/>
                </a:lnTo>
                <a:lnTo>
                  <a:pt x="1876" y="118"/>
                </a:lnTo>
                <a:lnTo>
                  <a:pt x="1847" y="139"/>
                </a:lnTo>
                <a:lnTo>
                  <a:pt x="1818" y="164"/>
                </a:lnTo>
                <a:lnTo>
                  <a:pt x="1789" y="189"/>
                </a:lnTo>
                <a:lnTo>
                  <a:pt x="1762" y="217"/>
                </a:lnTo>
                <a:lnTo>
                  <a:pt x="1761" y="221"/>
                </a:lnTo>
                <a:lnTo>
                  <a:pt x="1736" y="187"/>
                </a:lnTo>
                <a:lnTo>
                  <a:pt x="1709" y="156"/>
                </a:lnTo>
                <a:lnTo>
                  <a:pt x="1678" y="127"/>
                </a:lnTo>
                <a:lnTo>
                  <a:pt x="1647" y="100"/>
                </a:lnTo>
                <a:lnTo>
                  <a:pt x="1615" y="77"/>
                </a:lnTo>
                <a:lnTo>
                  <a:pt x="1582" y="58"/>
                </a:lnTo>
                <a:lnTo>
                  <a:pt x="1546" y="41"/>
                </a:lnTo>
                <a:lnTo>
                  <a:pt x="1509" y="25"/>
                </a:lnTo>
                <a:lnTo>
                  <a:pt x="1480" y="16"/>
                </a:lnTo>
                <a:lnTo>
                  <a:pt x="1450" y="10"/>
                </a:lnTo>
                <a:lnTo>
                  <a:pt x="1421" y="4"/>
                </a:lnTo>
                <a:lnTo>
                  <a:pt x="1390" y="2"/>
                </a:lnTo>
                <a:lnTo>
                  <a:pt x="1331" y="0"/>
                </a:lnTo>
                <a:lnTo>
                  <a:pt x="1271" y="8"/>
                </a:lnTo>
                <a:lnTo>
                  <a:pt x="1211" y="20"/>
                </a:lnTo>
                <a:lnTo>
                  <a:pt x="1152" y="41"/>
                </a:lnTo>
                <a:lnTo>
                  <a:pt x="1096" y="68"/>
                </a:lnTo>
                <a:lnTo>
                  <a:pt x="1041" y="100"/>
                </a:lnTo>
                <a:lnTo>
                  <a:pt x="987" y="139"/>
                </a:lnTo>
                <a:lnTo>
                  <a:pt x="935" y="181"/>
                </a:lnTo>
                <a:lnTo>
                  <a:pt x="887" y="231"/>
                </a:lnTo>
                <a:lnTo>
                  <a:pt x="841" y="285"/>
                </a:lnTo>
                <a:lnTo>
                  <a:pt x="801" y="344"/>
                </a:lnTo>
                <a:lnTo>
                  <a:pt x="764" y="408"/>
                </a:lnTo>
                <a:lnTo>
                  <a:pt x="731" y="477"/>
                </a:lnTo>
                <a:lnTo>
                  <a:pt x="703" y="548"/>
                </a:lnTo>
                <a:lnTo>
                  <a:pt x="687" y="598"/>
                </a:lnTo>
                <a:lnTo>
                  <a:pt x="674" y="646"/>
                </a:lnTo>
                <a:lnTo>
                  <a:pt x="676" y="646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2440" y="3249720"/>
            <a:ext cx="1917720" cy="1174680"/>
          </a:xfrm>
          <a:custGeom>
            <a:avLst/>
            <a:gdLst/>
            <a:ahLst/>
            <a:rect l="l" t="t" r="r" b="b"/>
            <a:pathLst>
              <a:path w="3959" h="3426">
                <a:moveTo>
                  <a:pt x="676" y="646"/>
                </a:moveTo>
                <a:lnTo>
                  <a:pt x="639" y="640"/>
                </a:lnTo>
                <a:lnTo>
                  <a:pt x="603" y="640"/>
                </a:lnTo>
                <a:lnTo>
                  <a:pt x="566" y="642"/>
                </a:lnTo>
                <a:lnTo>
                  <a:pt x="532" y="650"/>
                </a:lnTo>
                <a:lnTo>
                  <a:pt x="495" y="661"/>
                </a:lnTo>
                <a:lnTo>
                  <a:pt x="461" y="676"/>
                </a:lnTo>
                <a:lnTo>
                  <a:pt x="426" y="694"/>
                </a:lnTo>
                <a:lnTo>
                  <a:pt x="394" y="717"/>
                </a:lnTo>
                <a:lnTo>
                  <a:pt x="361" y="742"/>
                </a:lnTo>
                <a:lnTo>
                  <a:pt x="332" y="769"/>
                </a:lnTo>
                <a:lnTo>
                  <a:pt x="303" y="799"/>
                </a:lnTo>
                <a:lnTo>
                  <a:pt x="276" y="834"/>
                </a:lnTo>
                <a:lnTo>
                  <a:pt x="251" y="870"/>
                </a:lnTo>
                <a:lnTo>
                  <a:pt x="230" y="909"/>
                </a:lnTo>
                <a:lnTo>
                  <a:pt x="211" y="949"/>
                </a:lnTo>
                <a:lnTo>
                  <a:pt x="194" y="993"/>
                </a:lnTo>
                <a:lnTo>
                  <a:pt x="177" y="1055"/>
                </a:lnTo>
                <a:lnTo>
                  <a:pt x="165" y="1118"/>
                </a:lnTo>
                <a:lnTo>
                  <a:pt x="161" y="1179"/>
                </a:lnTo>
                <a:lnTo>
                  <a:pt x="165" y="1241"/>
                </a:lnTo>
                <a:lnTo>
                  <a:pt x="173" y="1299"/>
                </a:lnTo>
                <a:lnTo>
                  <a:pt x="188" y="1354"/>
                </a:lnTo>
                <a:lnTo>
                  <a:pt x="211" y="1406"/>
                </a:lnTo>
                <a:lnTo>
                  <a:pt x="238" y="1454"/>
                </a:lnTo>
                <a:lnTo>
                  <a:pt x="238" y="1446"/>
                </a:lnTo>
                <a:lnTo>
                  <a:pt x="205" y="1473"/>
                </a:lnTo>
                <a:lnTo>
                  <a:pt x="173" y="1502"/>
                </a:lnTo>
                <a:lnTo>
                  <a:pt x="144" y="1533"/>
                </a:lnTo>
                <a:lnTo>
                  <a:pt x="115" y="1567"/>
                </a:lnTo>
                <a:lnTo>
                  <a:pt x="90" y="1606"/>
                </a:lnTo>
                <a:lnTo>
                  <a:pt x="69" y="1644"/>
                </a:lnTo>
                <a:lnTo>
                  <a:pt x="50" y="1686"/>
                </a:lnTo>
                <a:lnTo>
                  <a:pt x="33" y="1729"/>
                </a:lnTo>
                <a:lnTo>
                  <a:pt x="19" y="1777"/>
                </a:lnTo>
                <a:lnTo>
                  <a:pt x="8" y="1825"/>
                </a:lnTo>
                <a:lnTo>
                  <a:pt x="2" y="1871"/>
                </a:lnTo>
                <a:lnTo>
                  <a:pt x="0" y="1917"/>
                </a:lnTo>
                <a:lnTo>
                  <a:pt x="2" y="1963"/>
                </a:lnTo>
                <a:lnTo>
                  <a:pt x="8" y="2007"/>
                </a:lnTo>
                <a:lnTo>
                  <a:pt x="15" y="2049"/>
                </a:lnTo>
                <a:lnTo>
                  <a:pt x="29" y="2090"/>
                </a:lnTo>
                <a:lnTo>
                  <a:pt x="44" y="2128"/>
                </a:lnTo>
                <a:lnTo>
                  <a:pt x="63" y="2165"/>
                </a:lnTo>
                <a:lnTo>
                  <a:pt x="84" y="2197"/>
                </a:lnTo>
                <a:lnTo>
                  <a:pt x="109" y="2228"/>
                </a:lnTo>
                <a:lnTo>
                  <a:pt x="138" y="2255"/>
                </a:lnTo>
                <a:lnTo>
                  <a:pt x="169" y="2278"/>
                </a:lnTo>
                <a:lnTo>
                  <a:pt x="202" y="2297"/>
                </a:lnTo>
                <a:lnTo>
                  <a:pt x="238" y="2312"/>
                </a:lnTo>
                <a:lnTo>
                  <a:pt x="261" y="2318"/>
                </a:lnTo>
                <a:lnTo>
                  <a:pt x="282" y="2324"/>
                </a:lnTo>
                <a:lnTo>
                  <a:pt x="280" y="2326"/>
                </a:lnTo>
                <a:lnTo>
                  <a:pt x="286" y="2380"/>
                </a:lnTo>
                <a:lnTo>
                  <a:pt x="296" y="2433"/>
                </a:lnTo>
                <a:lnTo>
                  <a:pt x="309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4"/>
                </a:lnTo>
                <a:lnTo>
                  <a:pt x="386" y="2668"/>
                </a:lnTo>
                <a:lnTo>
                  <a:pt x="413" y="2708"/>
                </a:lnTo>
                <a:lnTo>
                  <a:pt x="440" y="2745"/>
                </a:lnTo>
                <a:lnTo>
                  <a:pt x="470" y="2779"/>
                </a:lnTo>
                <a:lnTo>
                  <a:pt x="503" y="2812"/>
                </a:lnTo>
                <a:lnTo>
                  <a:pt x="538" y="2841"/>
                </a:lnTo>
                <a:lnTo>
                  <a:pt x="576" y="2867"/>
                </a:lnTo>
                <a:lnTo>
                  <a:pt x="614" y="2890"/>
                </a:lnTo>
                <a:lnTo>
                  <a:pt x="655" y="2910"/>
                </a:lnTo>
                <a:lnTo>
                  <a:pt x="697" y="2927"/>
                </a:lnTo>
                <a:lnTo>
                  <a:pt x="741" y="2940"/>
                </a:lnTo>
                <a:lnTo>
                  <a:pt x="787" y="2950"/>
                </a:lnTo>
                <a:lnTo>
                  <a:pt x="833" y="2954"/>
                </a:lnTo>
                <a:lnTo>
                  <a:pt x="879" y="2956"/>
                </a:lnTo>
                <a:lnTo>
                  <a:pt x="927" y="2954"/>
                </a:lnTo>
                <a:lnTo>
                  <a:pt x="973" y="2948"/>
                </a:lnTo>
                <a:lnTo>
                  <a:pt x="1021" y="2937"/>
                </a:lnTo>
                <a:lnTo>
                  <a:pt x="1069" y="2923"/>
                </a:lnTo>
                <a:lnTo>
                  <a:pt x="1067" y="2923"/>
                </a:lnTo>
                <a:lnTo>
                  <a:pt x="1075" y="2967"/>
                </a:lnTo>
                <a:lnTo>
                  <a:pt x="1087" y="3010"/>
                </a:lnTo>
                <a:lnTo>
                  <a:pt x="1098" y="3050"/>
                </a:lnTo>
                <a:lnTo>
                  <a:pt x="1112" y="3088"/>
                </a:lnTo>
                <a:lnTo>
                  <a:pt x="1129" y="3127"/>
                </a:lnTo>
                <a:lnTo>
                  <a:pt x="1148" y="3161"/>
                </a:lnTo>
                <a:lnTo>
                  <a:pt x="1167" y="3196"/>
                </a:lnTo>
                <a:lnTo>
                  <a:pt x="1190" y="3227"/>
                </a:lnTo>
                <a:lnTo>
                  <a:pt x="1213" y="3257"/>
                </a:lnTo>
                <a:lnTo>
                  <a:pt x="1240" y="3284"/>
                </a:lnTo>
                <a:lnTo>
                  <a:pt x="1267" y="3309"/>
                </a:lnTo>
                <a:lnTo>
                  <a:pt x="1296" y="3334"/>
                </a:lnTo>
                <a:lnTo>
                  <a:pt x="1327" y="3353"/>
                </a:lnTo>
                <a:lnTo>
                  <a:pt x="1359" y="3372"/>
                </a:lnTo>
                <a:lnTo>
                  <a:pt x="1392" y="3388"/>
                </a:lnTo>
                <a:lnTo>
                  <a:pt x="1427" y="3401"/>
                </a:lnTo>
                <a:lnTo>
                  <a:pt x="1473" y="3415"/>
                </a:lnTo>
                <a:lnTo>
                  <a:pt x="1521" y="3422"/>
                </a:lnTo>
                <a:lnTo>
                  <a:pt x="1569" y="3426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09"/>
                </a:lnTo>
                <a:lnTo>
                  <a:pt x="1762" y="3394"/>
                </a:lnTo>
                <a:lnTo>
                  <a:pt x="1810" y="3374"/>
                </a:lnTo>
                <a:lnTo>
                  <a:pt x="1857" y="3351"/>
                </a:lnTo>
                <a:lnTo>
                  <a:pt x="1903" y="3324"/>
                </a:lnTo>
                <a:lnTo>
                  <a:pt x="1947" y="3292"/>
                </a:lnTo>
                <a:lnTo>
                  <a:pt x="1989" y="3257"/>
                </a:lnTo>
                <a:lnTo>
                  <a:pt x="2029" y="3217"/>
                </a:lnTo>
                <a:lnTo>
                  <a:pt x="2068" y="3175"/>
                </a:lnTo>
                <a:lnTo>
                  <a:pt x="2104" y="3127"/>
                </a:lnTo>
                <a:lnTo>
                  <a:pt x="2139" y="3077"/>
                </a:lnTo>
                <a:lnTo>
                  <a:pt x="2139" y="3081"/>
                </a:lnTo>
                <a:lnTo>
                  <a:pt x="2160" y="3111"/>
                </a:lnTo>
                <a:lnTo>
                  <a:pt x="2185" y="3140"/>
                </a:lnTo>
                <a:lnTo>
                  <a:pt x="2210" y="3167"/>
                </a:lnTo>
                <a:lnTo>
                  <a:pt x="2237" y="3192"/>
                </a:lnTo>
                <a:lnTo>
                  <a:pt x="2266" y="3213"/>
                </a:lnTo>
                <a:lnTo>
                  <a:pt x="2296" y="3232"/>
                </a:lnTo>
                <a:lnTo>
                  <a:pt x="2329" y="3248"/>
                </a:lnTo>
                <a:lnTo>
                  <a:pt x="2362" y="3261"/>
                </a:lnTo>
                <a:lnTo>
                  <a:pt x="2411" y="3275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6"/>
                </a:lnTo>
                <a:lnTo>
                  <a:pt x="2615" y="3267"/>
                </a:lnTo>
                <a:lnTo>
                  <a:pt x="2665" y="3250"/>
                </a:lnTo>
                <a:lnTo>
                  <a:pt x="2715" y="3227"/>
                </a:lnTo>
                <a:lnTo>
                  <a:pt x="2761" y="3200"/>
                </a:lnTo>
                <a:lnTo>
                  <a:pt x="2807" y="3167"/>
                </a:lnTo>
                <a:lnTo>
                  <a:pt x="2851" y="3130"/>
                </a:lnTo>
                <a:lnTo>
                  <a:pt x="2893" y="3088"/>
                </a:lnTo>
                <a:lnTo>
                  <a:pt x="2932" y="3042"/>
                </a:lnTo>
                <a:lnTo>
                  <a:pt x="2966" y="2992"/>
                </a:lnTo>
                <a:lnTo>
                  <a:pt x="2999" y="2938"/>
                </a:lnTo>
                <a:lnTo>
                  <a:pt x="3026" y="2881"/>
                </a:lnTo>
                <a:lnTo>
                  <a:pt x="3051" y="2819"/>
                </a:lnTo>
                <a:lnTo>
                  <a:pt x="3051" y="2817"/>
                </a:lnTo>
                <a:lnTo>
                  <a:pt x="3106" y="2823"/>
                </a:lnTo>
                <a:lnTo>
                  <a:pt x="3162" y="2821"/>
                </a:lnTo>
                <a:lnTo>
                  <a:pt x="3216" y="2814"/>
                </a:lnTo>
                <a:lnTo>
                  <a:pt x="3272" y="2802"/>
                </a:lnTo>
                <a:lnTo>
                  <a:pt x="3325" y="2783"/>
                </a:lnTo>
                <a:lnTo>
                  <a:pt x="3377" y="2758"/>
                </a:lnTo>
                <a:lnTo>
                  <a:pt x="3429" y="2729"/>
                </a:lnTo>
                <a:lnTo>
                  <a:pt x="3479" y="2697"/>
                </a:lnTo>
                <a:lnTo>
                  <a:pt x="3527" y="2656"/>
                </a:lnTo>
                <a:lnTo>
                  <a:pt x="3571" y="2614"/>
                </a:lnTo>
                <a:lnTo>
                  <a:pt x="3613" y="2566"/>
                </a:lnTo>
                <a:lnTo>
                  <a:pt x="3654" y="2516"/>
                </a:lnTo>
                <a:lnTo>
                  <a:pt x="3690" y="2460"/>
                </a:lnTo>
                <a:lnTo>
                  <a:pt x="3723" y="2401"/>
                </a:lnTo>
                <a:lnTo>
                  <a:pt x="3752" y="2339"/>
                </a:lnTo>
                <a:lnTo>
                  <a:pt x="3777" y="2274"/>
                </a:lnTo>
                <a:lnTo>
                  <a:pt x="3794" y="2215"/>
                </a:lnTo>
                <a:lnTo>
                  <a:pt x="3809" y="2153"/>
                </a:lnTo>
                <a:lnTo>
                  <a:pt x="3819" y="2094"/>
                </a:lnTo>
                <a:lnTo>
                  <a:pt x="3825" y="2032"/>
                </a:lnTo>
                <a:lnTo>
                  <a:pt x="3828" y="1973"/>
                </a:lnTo>
                <a:lnTo>
                  <a:pt x="3825" y="1913"/>
                </a:lnTo>
                <a:lnTo>
                  <a:pt x="3819" y="1855"/>
                </a:lnTo>
                <a:lnTo>
                  <a:pt x="3809" y="1798"/>
                </a:lnTo>
                <a:lnTo>
                  <a:pt x="3807" y="1796"/>
                </a:lnTo>
                <a:lnTo>
                  <a:pt x="3842" y="1748"/>
                </a:lnTo>
                <a:lnTo>
                  <a:pt x="3873" y="1698"/>
                </a:lnTo>
                <a:lnTo>
                  <a:pt x="3897" y="1642"/>
                </a:lnTo>
                <a:lnTo>
                  <a:pt x="3919" y="1587"/>
                </a:lnTo>
                <a:lnTo>
                  <a:pt x="3934" y="1539"/>
                </a:lnTo>
                <a:lnTo>
                  <a:pt x="3945" y="1491"/>
                </a:lnTo>
                <a:lnTo>
                  <a:pt x="3953" y="1443"/>
                </a:lnTo>
                <a:lnTo>
                  <a:pt x="3957" y="1395"/>
                </a:lnTo>
                <a:lnTo>
                  <a:pt x="3959" y="1348"/>
                </a:lnTo>
                <a:lnTo>
                  <a:pt x="3957" y="1302"/>
                </a:lnTo>
                <a:lnTo>
                  <a:pt x="3953" y="1256"/>
                </a:lnTo>
                <a:lnTo>
                  <a:pt x="3945" y="1212"/>
                </a:lnTo>
                <a:lnTo>
                  <a:pt x="3934" y="1170"/>
                </a:lnTo>
                <a:lnTo>
                  <a:pt x="3921" y="1128"/>
                </a:lnTo>
                <a:lnTo>
                  <a:pt x="3903" y="1089"/>
                </a:lnTo>
                <a:lnTo>
                  <a:pt x="3884" y="1053"/>
                </a:lnTo>
                <a:lnTo>
                  <a:pt x="3861" y="1018"/>
                </a:lnTo>
                <a:lnTo>
                  <a:pt x="3836" y="986"/>
                </a:lnTo>
                <a:lnTo>
                  <a:pt x="3809" y="957"/>
                </a:lnTo>
                <a:lnTo>
                  <a:pt x="3778" y="930"/>
                </a:lnTo>
                <a:lnTo>
                  <a:pt x="3780" y="928"/>
                </a:lnTo>
                <a:lnTo>
                  <a:pt x="3788" y="880"/>
                </a:lnTo>
                <a:lnTo>
                  <a:pt x="3792" y="834"/>
                </a:lnTo>
                <a:lnTo>
                  <a:pt x="3792" y="788"/>
                </a:lnTo>
                <a:lnTo>
                  <a:pt x="3788" y="744"/>
                </a:lnTo>
                <a:lnTo>
                  <a:pt x="3782" y="699"/>
                </a:lnTo>
                <a:lnTo>
                  <a:pt x="3773" y="657"/>
                </a:lnTo>
                <a:lnTo>
                  <a:pt x="3759" y="617"/>
                </a:lnTo>
                <a:lnTo>
                  <a:pt x="3744" y="578"/>
                </a:lnTo>
                <a:lnTo>
                  <a:pt x="3727" y="544"/>
                </a:lnTo>
                <a:lnTo>
                  <a:pt x="3705" y="509"/>
                </a:lnTo>
                <a:lnTo>
                  <a:pt x="3681" y="479"/>
                </a:lnTo>
                <a:lnTo>
                  <a:pt x="3654" y="450"/>
                </a:lnTo>
                <a:lnTo>
                  <a:pt x="3625" y="425"/>
                </a:lnTo>
                <a:lnTo>
                  <a:pt x="3594" y="404"/>
                </a:lnTo>
                <a:lnTo>
                  <a:pt x="3561" y="386"/>
                </a:lnTo>
                <a:lnTo>
                  <a:pt x="3525" y="371"/>
                </a:lnTo>
                <a:lnTo>
                  <a:pt x="3479" y="360"/>
                </a:lnTo>
                <a:lnTo>
                  <a:pt x="3433" y="354"/>
                </a:lnTo>
                <a:lnTo>
                  <a:pt x="3387" y="354"/>
                </a:lnTo>
                <a:lnTo>
                  <a:pt x="3339" y="360"/>
                </a:lnTo>
                <a:lnTo>
                  <a:pt x="3291" y="373"/>
                </a:lnTo>
                <a:lnTo>
                  <a:pt x="3245" y="392"/>
                </a:lnTo>
                <a:lnTo>
                  <a:pt x="3199" y="415"/>
                </a:lnTo>
                <a:lnTo>
                  <a:pt x="3154" y="446"/>
                </a:lnTo>
                <a:lnTo>
                  <a:pt x="3154" y="448"/>
                </a:lnTo>
                <a:lnTo>
                  <a:pt x="3141" y="398"/>
                </a:lnTo>
                <a:lnTo>
                  <a:pt x="3124" y="352"/>
                </a:lnTo>
                <a:lnTo>
                  <a:pt x="3101" y="308"/>
                </a:lnTo>
                <a:lnTo>
                  <a:pt x="3074" y="271"/>
                </a:lnTo>
                <a:lnTo>
                  <a:pt x="3041" y="237"/>
                </a:lnTo>
                <a:lnTo>
                  <a:pt x="3007" y="208"/>
                </a:lnTo>
                <a:lnTo>
                  <a:pt x="2968" y="185"/>
                </a:lnTo>
                <a:lnTo>
                  <a:pt x="2928" y="168"/>
                </a:lnTo>
                <a:lnTo>
                  <a:pt x="2901" y="160"/>
                </a:lnTo>
                <a:lnTo>
                  <a:pt x="2876" y="154"/>
                </a:lnTo>
                <a:lnTo>
                  <a:pt x="2849" y="152"/>
                </a:lnTo>
                <a:lnTo>
                  <a:pt x="2822" y="150"/>
                </a:lnTo>
                <a:lnTo>
                  <a:pt x="2794" y="152"/>
                </a:lnTo>
                <a:lnTo>
                  <a:pt x="2767" y="156"/>
                </a:lnTo>
                <a:lnTo>
                  <a:pt x="2740" y="164"/>
                </a:lnTo>
                <a:lnTo>
                  <a:pt x="2713" y="171"/>
                </a:lnTo>
                <a:lnTo>
                  <a:pt x="2686" y="181"/>
                </a:lnTo>
                <a:lnTo>
                  <a:pt x="2659" y="194"/>
                </a:lnTo>
                <a:lnTo>
                  <a:pt x="2634" y="210"/>
                </a:lnTo>
                <a:lnTo>
                  <a:pt x="2609" y="225"/>
                </a:lnTo>
                <a:lnTo>
                  <a:pt x="2584" y="244"/>
                </a:lnTo>
                <a:lnTo>
                  <a:pt x="2561" y="265"/>
                </a:lnTo>
                <a:lnTo>
                  <a:pt x="2515" y="312"/>
                </a:lnTo>
                <a:lnTo>
                  <a:pt x="2513" y="319"/>
                </a:lnTo>
                <a:lnTo>
                  <a:pt x="2494" y="271"/>
                </a:lnTo>
                <a:lnTo>
                  <a:pt x="2469" y="227"/>
                </a:lnTo>
                <a:lnTo>
                  <a:pt x="2442" y="187"/>
                </a:lnTo>
                <a:lnTo>
                  <a:pt x="2411" y="150"/>
                </a:lnTo>
                <a:lnTo>
                  <a:pt x="2377" y="120"/>
                </a:lnTo>
                <a:lnTo>
                  <a:pt x="2340" y="91"/>
                </a:lnTo>
                <a:lnTo>
                  <a:pt x="2300" y="70"/>
                </a:lnTo>
                <a:lnTo>
                  <a:pt x="2258" y="52"/>
                </a:lnTo>
                <a:lnTo>
                  <a:pt x="2227" y="43"/>
                </a:lnTo>
                <a:lnTo>
                  <a:pt x="2194" y="37"/>
                </a:lnTo>
                <a:lnTo>
                  <a:pt x="2164" y="33"/>
                </a:lnTo>
                <a:lnTo>
                  <a:pt x="2131" y="31"/>
                </a:lnTo>
                <a:lnTo>
                  <a:pt x="2098" y="33"/>
                </a:lnTo>
                <a:lnTo>
                  <a:pt x="2066" y="37"/>
                </a:lnTo>
                <a:lnTo>
                  <a:pt x="2033" y="45"/>
                </a:lnTo>
                <a:lnTo>
                  <a:pt x="2001" y="54"/>
                </a:lnTo>
                <a:lnTo>
                  <a:pt x="1970" y="66"/>
                </a:lnTo>
                <a:lnTo>
                  <a:pt x="1937" y="81"/>
                </a:lnTo>
                <a:lnTo>
                  <a:pt x="1906" y="98"/>
                </a:lnTo>
                <a:lnTo>
                  <a:pt x="1876" y="118"/>
                </a:lnTo>
                <a:lnTo>
                  <a:pt x="1847" y="139"/>
                </a:lnTo>
                <a:lnTo>
                  <a:pt x="1818" y="164"/>
                </a:lnTo>
                <a:lnTo>
                  <a:pt x="1789" y="189"/>
                </a:lnTo>
                <a:lnTo>
                  <a:pt x="1762" y="217"/>
                </a:lnTo>
                <a:lnTo>
                  <a:pt x="1761" y="221"/>
                </a:lnTo>
                <a:lnTo>
                  <a:pt x="1736" y="187"/>
                </a:lnTo>
                <a:lnTo>
                  <a:pt x="1709" y="156"/>
                </a:lnTo>
                <a:lnTo>
                  <a:pt x="1678" y="127"/>
                </a:lnTo>
                <a:lnTo>
                  <a:pt x="1647" y="100"/>
                </a:lnTo>
                <a:lnTo>
                  <a:pt x="1615" y="77"/>
                </a:lnTo>
                <a:lnTo>
                  <a:pt x="1582" y="58"/>
                </a:lnTo>
                <a:lnTo>
                  <a:pt x="1546" y="41"/>
                </a:lnTo>
                <a:lnTo>
                  <a:pt x="1509" y="25"/>
                </a:lnTo>
                <a:lnTo>
                  <a:pt x="1480" y="16"/>
                </a:lnTo>
                <a:lnTo>
                  <a:pt x="1450" y="10"/>
                </a:lnTo>
                <a:lnTo>
                  <a:pt x="1421" y="4"/>
                </a:lnTo>
                <a:lnTo>
                  <a:pt x="1390" y="2"/>
                </a:lnTo>
                <a:lnTo>
                  <a:pt x="1331" y="0"/>
                </a:lnTo>
                <a:lnTo>
                  <a:pt x="1271" y="8"/>
                </a:lnTo>
                <a:lnTo>
                  <a:pt x="1211" y="20"/>
                </a:lnTo>
                <a:lnTo>
                  <a:pt x="1152" y="41"/>
                </a:lnTo>
                <a:lnTo>
                  <a:pt x="1096" y="68"/>
                </a:lnTo>
                <a:lnTo>
                  <a:pt x="1041" y="100"/>
                </a:lnTo>
                <a:lnTo>
                  <a:pt x="987" y="139"/>
                </a:lnTo>
                <a:lnTo>
                  <a:pt x="935" y="181"/>
                </a:lnTo>
                <a:lnTo>
                  <a:pt x="887" y="231"/>
                </a:lnTo>
                <a:lnTo>
                  <a:pt x="841" y="285"/>
                </a:lnTo>
                <a:lnTo>
                  <a:pt x="801" y="344"/>
                </a:lnTo>
                <a:lnTo>
                  <a:pt x="764" y="408"/>
                </a:lnTo>
                <a:lnTo>
                  <a:pt x="731" y="477"/>
                </a:lnTo>
                <a:lnTo>
                  <a:pt x="703" y="548"/>
                </a:lnTo>
                <a:lnTo>
                  <a:pt x="687" y="598"/>
                </a:lnTo>
                <a:lnTo>
                  <a:pt x="674" y="646"/>
                </a:lnTo>
                <a:lnTo>
                  <a:pt x="676" y="646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67240" y="3656160"/>
            <a:ext cx="1678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or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7680" y="2602080"/>
            <a:ext cx="1295280" cy="636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7000" y="2669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9600" y="1891800"/>
            <a:ext cx="1700280" cy="6426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480" y="5289120"/>
            <a:ext cx="28022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chitecture, Interface, System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16400" y="4638600"/>
            <a:ext cx="1166760" cy="547920"/>
          </a:xfrm>
          <a:prstGeom prst="ellipse">
            <a:avLst/>
          </a:prstGeom>
          <a:solidFill>
            <a:srgbClr val="ff0000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37800" y="472608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U-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66480" y="1967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9680" y="1960560"/>
            <a:ext cx="1457280" cy="528480"/>
          </a:xfrm>
          <a:custGeom>
            <a:avLst/>
            <a:gdLst/>
            <a:ahLst/>
            <a:rect l="l" t="t" r="r" b="b"/>
            <a:pathLst>
              <a:path w="3959" h="3426">
                <a:moveTo>
                  <a:pt x="676" y="646"/>
                </a:moveTo>
                <a:lnTo>
                  <a:pt x="639" y="640"/>
                </a:lnTo>
                <a:lnTo>
                  <a:pt x="603" y="640"/>
                </a:lnTo>
                <a:lnTo>
                  <a:pt x="566" y="642"/>
                </a:lnTo>
                <a:lnTo>
                  <a:pt x="532" y="650"/>
                </a:lnTo>
                <a:lnTo>
                  <a:pt x="495" y="661"/>
                </a:lnTo>
                <a:lnTo>
                  <a:pt x="461" y="676"/>
                </a:lnTo>
                <a:lnTo>
                  <a:pt x="426" y="694"/>
                </a:lnTo>
                <a:lnTo>
                  <a:pt x="394" y="717"/>
                </a:lnTo>
                <a:lnTo>
                  <a:pt x="361" y="742"/>
                </a:lnTo>
                <a:lnTo>
                  <a:pt x="332" y="769"/>
                </a:lnTo>
                <a:lnTo>
                  <a:pt x="303" y="799"/>
                </a:lnTo>
                <a:lnTo>
                  <a:pt x="276" y="834"/>
                </a:lnTo>
                <a:lnTo>
                  <a:pt x="251" y="870"/>
                </a:lnTo>
                <a:lnTo>
                  <a:pt x="230" y="909"/>
                </a:lnTo>
                <a:lnTo>
                  <a:pt x="211" y="949"/>
                </a:lnTo>
                <a:lnTo>
                  <a:pt x="194" y="993"/>
                </a:lnTo>
                <a:lnTo>
                  <a:pt x="177" y="1055"/>
                </a:lnTo>
                <a:lnTo>
                  <a:pt x="165" y="1118"/>
                </a:lnTo>
                <a:lnTo>
                  <a:pt x="161" y="1179"/>
                </a:lnTo>
                <a:lnTo>
                  <a:pt x="165" y="1241"/>
                </a:lnTo>
                <a:lnTo>
                  <a:pt x="173" y="1299"/>
                </a:lnTo>
                <a:lnTo>
                  <a:pt x="188" y="1354"/>
                </a:lnTo>
                <a:lnTo>
                  <a:pt x="211" y="1406"/>
                </a:lnTo>
                <a:lnTo>
                  <a:pt x="238" y="1454"/>
                </a:lnTo>
                <a:lnTo>
                  <a:pt x="238" y="1446"/>
                </a:lnTo>
                <a:lnTo>
                  <a:pt x="205" y="1473"/>
                </a:lnTo>
                <a:lnTo>
                  <a:pt x="173" y="1502"/>
                </a:lnTo>
                <a:lnTo>
                  <a:pt x="144" y="1533"/>
                </a:lnTo>
                <a:lnTo>
                  <a:pt x="115" y="1567"/>
                </a:lnTo>
                <a:lnTo>
                  <a:pt x="90" y="1606"/>
                </a:lnTo>
                <a:lnTo>
                  <a:pt x="69" y="1644"/>
                </a:lnTo>
                <a:lnTo>
                  <a:pt x="50" y="1686"/>
                </a:lnTo>
                <a:lnTo>
                  <a:pt x="33" y="1729"/>
                </a:lnTo>
                <a:lnTo>
                  <a:pt x="19" y="1777"/>
                </a:lnTo>
                <a:lnTo>
                  <a:pt x="8" y="1825"/>
                </a:lnTo>
                <a:lnTo>
                  <a:pt x="2" y="1871"/>
                </a:lnTo>
                <a:lnTo>
                  <a:pt x="0" y="1917"/>
                </a:lnTo>
                <a:lnTo>
                  <a:pt x="2" y="1963"/>
                </a:lnTo>
                <a:lnTo>
                  <a:pt x="8" y="2007"/>
                </a:lnTo>
                <a:lnTo>
                  <a:pt x="15" y="2049"/>
                </a:lnTo>
                <a:lnTo>
                  <a:pt x="29" y="2090"/>
                </a:lnTo>
                <a:lnTo>
                  <a:pt x="44" y="2128"/>
                </a:lnTo>
                <a:lnTo>
                  <a:pt x="63" y="2165"/>
                </a:lnTo>
                <a:lnTo>
                  <a:pt x="84" y="2197"/>
                </a:lnTo>
                <a:lnTo>
                  <a:pt x="109" y="2228"/>
                </a:lnTo>
                <a:lnTo>
                  <a:pt x="138" y="2255"/>
                </a:lnTo>
                <a:lnTo>
                  <a:pt x="169" y="2278"/>
                </a:lnTo>
                <a:lnTo>
                  <a:pt x="202" y="2297"/>
                </a:lnTo>
                <a:lnTo>
                  <a:pt x="238" y="2312"/>
                </a:lnTo>
                <a:lnTo>
                  <a:pt x="261" y="2318"/>
                </a:lnTo>
                <a:lnTo>
                  <a:pt x="282" y="2324"/>
                </a:lnTo>
                <a:lnTo>
                  <a:pt x="280" y="2326"/>
                </a:lnTo>
                <a:lnTo>
                  <a:pt x="286" y="2380"/>
                </a:lnTo>
                <a:lnTo>
                  <a:pt x="296" y="2433"/>
                </a:lnTo>
                <a:lnTo>
                  <a:pt x="309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4"/>
                </a:lnTo>
                <a:lnTo>
                  <a:pt x="386" y="2668"/>
                </a:lnTo>
                <a:lnTo>
                  <a:pt x="413" y="2708"/>
                </a:lnTo>
                <a:lnTo>
                  <a:pt x="440" y="2745"/>
                </a:lnTo>
                <a:lnTo>
                  <a:pt x="470" y="2779"/>
                </a:lnTo>
                <a:lnTo>
                  <a:pt x="503" y="2812"/>
                </a:lnTo>
                <a:lnTo>
                  <a:pt x="538" y="2841"/>
                </a:lnTo>
                <a:lnTo>
                  <a:pt x="576" y="2867"/>
                </a:lnTo>
                <a:lnTo>
                  <a:pt x="614" y="2890"/>
                </a:lnTo>
                <a:lnTo>
                  <a:pt x="655" y="2910"/>
                </a:lnTo>
                <a:lnTo>
                  <a:pt x="697" y="2927"/>
                </a:lnTo>
                <a:lnTo>
                  <a:pt x="741" y="2940"/>
                </a:lnTo>
                <a:lnTo>
                  <a:pt x="787" y="2950"/>
                </a:lnTo>
                <a:lnTo>
                  <a:pt x="833" y="2954"/>
                </a:lnTo>
                <a:lnTo>
                  <a:pt x="879" y="2956"/>
                </a:lnTo>
                <a:lnTo>
                  <a:pt x="927" y="2954"/>
                </a:lnTo>
                <a:lnTo>
                  <a:pt x="973" y="2948"/>
                </a:lnTo>
                <a:lnTo>
                  <a:pt x="1021" y="2937"/>
                </a:lnTo>
                <a:lnTo>
                  <a:pt x="1069" y="2923"/>
                </a:lnTo>
                <a:lnTo>
                  <a:pt x="1067" y="2923"/>
                </a:lnTo>
                <a:lnTo>
                  <a:pt x="1075" y="2967"/>
                </a:lnTo>
                <a:lnTo>
                  <a:pt x="1087" y="3010"/>
                </a:lnTo>
                <a:lnTo>
                  <a:pt x="1098" y="3050"/>
                </a:lnTo>
                <a:lnTo>
                  <a:pt x="1112" y="3088"/>
                </a:lnTo>
                <a:lnTo>
                  <a:pt x="1129" y="3127"/>
                </a:lnTo>
                <a:lnTo>
                  <a:pt x="1148" y="3161"/>
                </a:lnTo>
                <a:lnTo>
                  <a:pt x="1167" y="3196"/>
                </a:lnTo>
                <a:lnTo>
                  <a:pt x="1190" y="3227"/>
                </a:lnTo>
                <a:lnTo>
                  <a:pt x="1213" y="3257"/>
                </a:lnTo>
                <a:lnTo>
                  <a:pt x="1240" y="3284"/>
                </a:lnTo>
                <a:lnTo>
                  <a:pt x="1267" y="3309"/>
                </a:lnTo>
                <a:lnTo>
                  <a:pt x="1296" y="3334"/>
                </a:lnTo>
                <a:lnTo>
                  <a:pt x="1327" y="3353"/>
                </a:lnTo>
                <a:lnTo>
                  <a:pt x="1359" y="3372"/>
                </a:lnTo>
                <a:lnTo>
                  <a:pt x="1392" y="3388"/>
                </a:lnTo>
                <a:lnTo>
                  <a:pt x="1427" y="3401"/>
                </a:lnTo>
                <a:lnTo>
                  <a:pt x="1473" y="3415"/>
                </a:lnTo>
                <a:lnTo>
                  <a:pt x="1521" y="3422"/>
                </a:lnTo>
                <a:lnTo>
                  <a:pt x="1569" y="3426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09"/>
                </a:lnTo>
                <a:lnTo>
                  <a:pt x="1762" y="3394"/>
                </a:lnTo>
                <a:lnTo>
                  <a:pt x="1810" y="3374"/>
                </a:lnTo>
                <a:lnTo>
                  <a:pt x="1857" y="3351"/>
                </a:lnTo>
                <a:lnTo>
                  <a:pt x="1903" y="3324"/>
                </a:lnTo>
                <a:lnTo>
                  <a:pt x="1947" y="3292"/>
                </a:lnTo>
                <a:lnTo>
                  <a:pt x="1989" y="3257"/>
                </a:lnTo>
                <a:lnTo>
                  <a:pt x="2029" y="3217"/>
                </a:lnTo>
                <a:lnTo>
                  <a:pt x="2068" y="3175"/>
                </a:lnTo>
                <a:lnTo>
                  <a:pt x="2104" y="3127"/>
                </a:lnTo>
                <a:lnTo>
                  <a:pt x="2139" y="3077"/>
                </a:lnTo>
                <a:lnTo>
                  <a:pt x="2139" y="3081"/>
                </a:lnTo>
                <a:lnTo>
                  <a:pt x="2160" y="3111"/>
                </a:lnTo>
                <a:lnTo>
                  <a:pt x="2185" y="3140"/>
                </a:lnTo>
                <a:lnTo>
                  <a:pt x="2210" y="3167"/>
                </a:lnTo>
                <a:lnTo>
                  <a:pt x="2237" y="3192"/>
                </a:lnTo>
                <a:lnTo>
                  <a:pt x="2266" y="3213"/>
                </a:lnTo>
                <a:lnTo>
                  <a:pt x="2296" y="3232"/>
                </a:lnTo>
                <a:lnTo>
                  <a:pt x="2329" y="3248"/>
                </a:lnTo>
                <a:lnTo>
                  <a:pt x="2362" y="3261"/>
                </a:lnTo>
                <a:lnTo>
                  <a:pt x="2411" y="3275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6"/>
                </a:lnTo>
                <a:lnTo>
                  <a:pt x="2615" y="3267"/>
                </a:lnTo>
                <a:lnTo>
                  <a:pt x="2665" y="3250"/>
                </a:lnTo>
                <a:lnTo>
                  <a:pt x="2715" y="3227"/>
                </a:lnTo>
                <a:lnTo>
                  <a:pt x="2761" y="3200"/>
                </a:lnTo>
                <a:lnTo>
                  <a:pt x="2807" y="3167"/>
                </a:lnTo>
                <a:lnTo>
                  <a:pt x="2851" y="3130"/>
                </a:lnTo>
                <a:lnTo>
                  <a:pt x="2893" y="3088"/>
                </a:lnTo>
                <a:lnTo>
                  <a:pt x="2932" y="3042"/>
                </a:lnTo>
                <a:lnTo>
                  <a:pt x="2966" y="2992"/>
                </a:lnTo>
                <a:lnTo>
                  <a:pt x="2999" y="2938"/>
                </a:lnTo>
                <a:lnTo>
                  <a:pt x="3026" y="2881"/>
                </a:lnTo>
                <a:lnTo>
                  <a:pt x="3051" y="2819"/>
                </a:lnTo>
                <a:lnTo>
                  <a:pt x="3051" y="2817"/>
                </a:lnTo>
                <a:lnTo>
                  <a:pt x="3106" y="2823"/>
                </a:lnTo>
                <a:lnTo>
                  <a:pt x="3162" y="2821"/>
                </a:lnTo>
                <a:lnTo>
                  <a:pt x="3216" y="2814"/>
                </a:lnTo>
                <a:lnTo>
                  <a:pt x="3272" y="2802"/>
                </a:lnTo>
                <a:lnTo>
                  <a:pt x="3325" y="2783"/>
                </a:lnTo>
                <a:lnTo>
                  <a:pt x="3377" y="2758"/>
                </a:lnTo>
                <a:lnTo>
                  <a:pt x="3429" y="2729"/>
                </a:lnTo>
                <a:lnTo>
                  <a:pt x="3479" y="2697"/>
                </a:lnTo>
                <a:lnTo>
                  <a:pt x="3527" y="2656"/>
                </a:lnTo>
                <a:lnTo>
                  <a:pt x="3571" y="2614"/>
                </a:lnTo>
                <a:lnTo>
                  <a:pt x="3613" y="2566"/>
                </a:lnTo>
                <a:lnTo>
                  <a:pt x="3654" y="2516"/>
                </a:lnTo>
                <a:lnTo>
                  <a:pt x="3690" y="2460"/>
                </a:lnTo>
                <a:lnTo>
                  <a:pt x="3723" y="2401"/>
                </a:lnTo>
                <a:lnTo>
                  <a:pt x="3752" y="2339"/>
                </a:lnTo>
                <a:lnTo>
                  <a:pt x="3777" y="2274"/>
                </a:lnTo>
                <a:lnTo>
                  <a:pt x="3794" y="2215"/>
                </a:lnTo>
                <a:lnTo>
                  <a:pt x="3809" y="2153"/>
                </a:lnTo>
                <a:lnTo>
                  <a:pt x="3819" y="2094"/>
                </a:lnTo>
                <a:lnTo>
                  <a:pt x="3825" y="2032"/>
                </a:lnTo>
                <a:lnTo>
                  <a:pt x="3828" y="1973"/>
                </a:lnTo>
                <a:lnTo>
                  <a:pt x="3825" y="1913"/>
                </a:lnTo>
                <a:lnTo>
                  <a:pt x="3819" y="1855"/>
                </a:lnTo>
                <a:lnTo>
                  <a:pt x="3809" y="1798"/>
                </a:lnTo>
                <a:lnTo>
                  <a:pt x="3807" y="1796"/>
                </a:lnTo>
                <a:lnTo>
                  <a:pt x="3842" y="1748"/>
                </a:lnTo>
                <a:lnTo>
                  <a:pt x="3873" y="1698"/>
                </a:lnTo>
                <a:lnTo>
                  <a:pt x="3897" y="1642"/>
                </a:lnTo>
                <a:lnTo>
                  <a:pt x="3919" y="1587"/>
                </a:lnTo>
                <a:lnTo>
                  <a:pt x="3934" y="1539"/>
                </a:lnTo>
                <a:lnTo>
                  <a:pt x="3945" y="1491"/>
                </a:lnTo>
                <a:lnTo>
                  <a:pt x="3953" y="1443"/>
                </a:lnTo>
                <a:lnTo>
                  <a:pt x="3957" y="1395"/>
                </a:lnTo>
                <a:lnTo>
                  <a:pt x="3959" y="1348"/>
                </a:lnTo>
                <a:lnTo>
                  <a:pt x="3957" y="1302"/>
                </a:lnTo>
                <a:lnTo>
                  <a:pt x="3953" y="1256"/>
                </a:lnTo>
                <a:lnTo>
                  <a:pt x="3945" y="1212"/>
                </a:lnTo>
                <a:lnTo>
                  <a:pt x="3934" y="1170"/>
                </a:lnTo>
                <a:lnTo>
                  <a:pt x="3921" y="1128"/>
                </a:lnTo>
                <a:lnTo>
                  <a:pt x="3903" y="1089"/>
                </a:lnTo>
                <a:lnTo>
                  <a:pt x="3884" y="1053"/>
                </a:lnTo>
                <a:lnTo>
                  <a:pt x="3861" y="1018"/>
                </a:lnTo>
                <a:lnTo>
                  <a:pt x="3836" y="986"/>
                </a:lnTo>
                <a:lnTo>
                  <a:pt x="3809" y="957"/>
                </a:lnTo>
                <a:lnTo>
                  <a:pt x="3778" y="930"/>
                </a:lnTo>
                <a:lnTo>
                  <a:pt x="3780" y="928"/>
                </a:lnTo>
                <a:lnTo>
                  <a:pt x="3788" y="880"/>
                </a:lnTo>
                <a:lnTo>
                  <a:pt x="3792" y="834"/>
                </a:lnTo>
                <a:lnTo>
                  <a:pt x="3792" y="788"/>
                </a:lnTo>
                <a:lnTo>
                  <a:pt x="3788" y="744"/>
                </a:lnTo>
                <a:lnTo>
                  <a:pt x="3782" y="699"/>
                </a:lnTo>
                <a:lnTo>
                  <a:pt x="3773" y="657"/>
                </a:lnTo>
                <a:lnTo>
                  <a:pt x="3759" y="617"/>
                </a:lnTo>
                <a:lnTo>
                  <a:pt x="3744" y="578"/>
                </a:lnTo>
                <a:lnTo>
                  <a:pt x="3727" y="544"/>
                </a:lnTo>
                <a:lnTo>
                  <a:pt x="3705" y="509"/>
                </a:lnTo>
                <a:lnTo>
                  <a:pt x="3681" y="479"/>
                </a:lnTo>
                <a:lnTo>
                  <a:pt x="3654" y="450"/>
                </a:lnTo>
                <a:lnTo>
                  <a:pt x="3625" y="425"/>
                </a:lnTo>
                <a:lnTo>
                  <a:pt x="3594" y="404"/>
                </a:lnTo>
                <a:lnTo>
                  <a:pt x="3561" y="386"/>
                </a:lnTo>
                <a:lnTo>
                  <a:pt x="3525" y="371"/>
                </a:lnTo>
                <a:lnTo>
                  <a:pt x="3479" y="360"/>
                </a:lnTo>
                <a:lnTo>
                  <a:pt x="3433" y="354"/>
                </a:lnTo>
                <a:lnTo>
                  <a:pt x="3387" y="354"/>
                </a:lnTo>
                <a:lnTo>
                  <a:pt x="3339" y="360"/>
                </a:lnTo>
                <a:lnTo>
                  <a:pt x="3291" y="373"/>
                </a:lnTo>
                <a:lnTo>
                  <a:pt x="3245" y="392"/>
                </a:lnTo>
                <a:lnTo>
                  <a:pt x="3199" y="415"/>
                </a:lnTo>
                <a:lnTo>
                  <a:pt x="3154" y="446"/>
                </a:lnTo>
                <a:lnTo>
                  <a:pt x="3154" y="448"/>
                </a:lnTo>
                <a:lnTo>
                  <a:pt x="3141" y="398"/>
                </a:lnTo>
                <a:lnTo>
                  <a:pt x="3124" y="352"/>
                </a:lnTo>
                <a:lnTo>
                  <a:pt x="3101" y="308"/>
                </a:lnTo>
                <a:lnTo>
                  <a:pt x="3074" y="271"/>
                </a:lnTo>
                <a:lnTo>
                  <a:pt x="3041" y="237"/>
                </a:lnTo>
                <a:lnTo>
                  <a:pt x="3007" y="208"/>
                </a:lnTo>
                <a:lnTo>
                  <a:pt x="2968" y="185"/>
                </a:lnTo>
                <a:lnTo>
                  <a:pt x="2928" y="168"/>
                </a:lnTo>
                <a:lnTo>
                  <a:pt x="2901" y="160"/>
                </a:lnTo>
                <a:lnTo>
                  <a:pt x="2876" y="154"/>
                </a:lnTo>
                <a:lnTo>
                  <a:pt x="2849" y="152"/>
                </a:lnTo>
                <a:lnTo>
                  <a:pt x="2822" y="150"/>
                </a:lnTo>
                <a:lnTo>
                  <a:pt x="2794" y="152"/>
                </a:lnTo>
                <a:lnTo>
                  <a:pt x="2767" y="156"/>
                </a:lnTo>
                <a:lnTo>
                  <a:pt x="2740" y="164"/>
                </a:lnTo>
                <a:lnTo>
                  <a:pt x="2713" y="171"/>
                </a:lnTo>
                <a:lnTo>
                  <a:pt x="2686" y="181"/>
                </a:lnTo>
                <a:lnTo>
                  <a:pt x="2659" y="194"/>
                </a:lnTo>
                <a:lnTo>
                  <a:pt x="2634" y="210"/>
                </a:lnTo>
                <a:lnTo>
                  <a:pt x="2609" y="225"/>
                </a:lnTo>
                <a:lnTo>
                  <a:pt x="2584" y="244"/>
                </a:lnTo>
                <a:lnTo>
                  <a:pt x="2561" y="265"/>
                </a:lnTo>
                <a:lnTo>
                  <a:pt x="2515" y="312"/>
                </a:lnTo>
                <a:lnTo>
                  <a:pt x="2513" y="319"/>
                </a:lnTo>
                <a:lnTo>
                  <a:pt x="2494" y="271"/>
                </a:lnTo>
                <a:lnTo>
                  <a:pt x="2469" y="227"/>
                </a:lnTo>
                <a:lnTo>
                  <a:pt x="2442" y="187"/>
                </a:lnTo>
                <a:lnTo>
                  <a:pt x="2411" y="150"/>
                </a:lnTo>
                <a:lnTo>
                  <a:pt x="2377" y="120"/>
                </a:lnTo>
                <a:lnTo>
                  <a:pt x="2340" y="91"/>
                </a:lnTo>
                <a:lnTo>
                  <a:pt x="2300" y="70"/>
                </a:lnTo>
                <a:lnTo>
                  <a:pt x="2258" y="52"/>
                </a:lnTo>
                <a:lnTo>
                  <a:pt x="2227" y="43"/>
                </a:lnTo>
                <a:lnTo>
                  <a:pt x="2194" y="37"/>
                </a:lnTo>
                <a:lnTo>
                  <a:pt x="2164" y="33"/>
                </a:lnTo>
                <a:lnTo>
                  <a:pt x="2131" y="31"/>
                </a:lnTo>
                <a:lnTo>
                  <a:pt x="2098" y="33"/>
                </a:lnTo>
                <a:lnTo>
                  <a:pt x="2066" y="37"/>
                </a:lnTo>
                <a:lnTo>
                  <a:pt x="2033" y="45"/>
                </a:lnTo>
                <a:lnTo>
                  <a:pt x="2001" y="54"/>
                </a:lnTo>
                <a:lnTo>
                  <a:pt x="1970" y="66"/>
                </a:lnTo>
                <a:lnTo>
                  <a:pt x="1937" y="81"/>
                </a:lnTo>
                <a:lnTo>
                  <a:pt x="1906" y="98"/>
                </a:lnTo>
                <a:lnTo>
                  <a:pt x="1876" y="118"/>
                </a:lnTo>
                <a:lnTo>
                  <a:pt x="1847" y="139"/>
                </a:lnTo>
                <a:lnTo>
                  <a:pt x="1818" y="164"/>
                </a:lnTo>
                <a:lnTo>
                  <a:pt x="1789" y="189"/>
                </a:lnTo>
                <a:lnTo>
                  <a:pt x="1762" y="217"/>
                </a:lnTo>
                <a:lnTo>
                  <a:pt x="1761" y="221"/>
                </a:lnTo>
                <a:lnTo>
                  <a:pt x="1736" y="187"/>
                </a:lnTo>
                <a:lnTo>
                  <a:pt x="1709" y="156"/>
                </a:lnTo>
                <a:lnTo>
                  <a:pt x="1678" y="127"/>
                </a:lnTo>
                <a:lnTo>
                  <a:pt x="1647" y="100"/>
                </a:lnTo>
                <a:lnTo>
                  <a:pt x="1615" y="77"/>
                </a:lnTo>
                <a:lnTo>
                  <a:pt x="1582" y="58"/>
                </a:lnTo>
                <a:lnTo>
                  <a:pt x="1546" y="41"/>
                </a:lnTo>
                <a:lnTo>
                  <a:pt x="1509" y="25"/>
                </a:lnTo>
                <a:lnTo>
                  <a:pt x="1480" y="16"/>
                </a:lnTo>
                <a:lnTo>
                  <a:pt x="1450" y="10"/>
                </a:lnTo>
                <a:lnTo>
                  <a:pt x="1421" y="4"/>
                </a:lnTo>
                <a:lnTo>
                  <a:pt x="1390" y="2"/>
                </a:lnTo>
                <a:lnTo>
                  <a:pt x="1331" y="0"/>
                </a:lnTo>
                <a:lnTo>
                  <a:pt x="1271" y="8"/>
                </a:lnTo>
                <a:lnTo>
                  <a:pt x="1211" y="20"/>
                </a:lnTo>
                <a:lnTo>
                  <a:pt x="1152" y="41"/>
                </a:lnTo>
                <a:lnTo>
                  <a:pt x="1096" y="68"/>
                </a:lnTo>
                <a:lnTo>
                  <a:pt x="1041" y="100"/>
                </a:lnTo>
                <a:lnTo>
                  <a:pt x="987" y="139"/>
                </a:lnTo>
                <a:lnTo>
                  <a:pt x="935" y="181"/>
                </a:lnTo>
                <a:lnTo>
                  <a:pt x="887" y="231"/>
                </a:lnTo>
                <a:lnTo>
                  <a:pt x="841" y="285"/>
                </a:lnTo>
                <a:lnTo>
                  <a:pt x="801" y="344"/>
                </a:lnTo>
                <a:lnTo>
                  <a:pt x="764" y="408"/>
                </a:lnTo>
                <a:lnTo>
                  <a:pt x="731" y="477"/>
                </a:lnTo>
                <a:lnTo>
                  <a:pt x="703" y="548"/>
                </a:lnTo>
                <a:lnTo>
                  <a:pt x="687" y="598"/>
                </a:lnTo>
                <a:lnTo>
                  <a:pt x="674" y="646"/>
                </a:lnTo>
                <a:lnTo>
                  <a:pt x="676" y="64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8160" y="3656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1360" y="3649680"/>
            <a:ext cx="1304640" cy="528480"/>
          </a:xfrm>
          <a:custGeom>
            <a:avLst/>
            <a:gdLst/>
            <a:ahLst/>
            <a:rect l="l" t="t" r="r" b="b"/>
            <a:pathLst>
              <a:path w="3959" h="3426">
                <a:moveTo>
                  <a:pt x="676" y="646"/>
                </a:moveTo>
                <a:lnTo>
                  <a:pt x="639" y="640"/>
                </a:lnTo>
                <a:lnTo>
                  <a:pt x="603" y="640"/>
                </a:lnTo>
                <a:lnTo>
                  <a:pt x="566" y="642"/>
                </a:lnTo>
                <a:lnTo>
                  <a:pt x="532" y="650"/>
                </a:lnTo>
                <a:lnTo>
                  <a:pt x="495" y="661"/>
                </a:lnTo>
                <a:lnTo>
                  <a:pt x="461" y="676"/>
                </a:lnTo>
                <a:lnTo>
                  <a:pt x="426" y="694"/>
                </a:lnTo>
                <a:lnTo>
                  <a:pt x="394" y="717"/>
                </a:lnTo>
                <a:lnTo>
                  <a:pt x="361" y="742"/>
                </a:lnTo>
                <a:lnTo>
                  <a:pt x="332" y="769"/>
                </a:lnTo>
                <a:lnTo>
                  <a:pt x="303" y="799"/>
                </a:lnTo>
                <a:lnTo>
                  <a:pt x="276" y="834"/>
                </a:lnTo>
                <a:lnTo>
                  <a:pt x="251" y="870"/>
                </a:lnTo>
                <a:lnTo>
                  <a:pt x="230" y="909"/>
                </a:lnTo>
                <a:lnTo>
                  <a:pt x="211" y="949"/>
                </a:lnTo>
                <a:lnTo>
                  <a:pt x="194" y="993"/>
                </a:lnTo>
                <a:lnTo>
                  <a:pt x="177" y="1055"/>
                </a:lnTo>
                <a:lnTo>
                  <a:pt x="165" y="1118"/>
                </a:lnTo>
                <a:lnTo>
                  <a:pt x="161" y="1179"/>
                </a:lnTo>
                <a:lnTo>
                  <a:pt x="165" y="1241"/>
                </a:lnTo>
                <a:lnTo>
                  <a:pt x="173" y="1299"/>
                </a:lnTo>
                <a:lnTo>
                  <a:pt x="188" y="1354"/>
                </a:lnTo>
                <a:lnTo>
                  <a:pt x="211" y="1406"/>
                </a:lnTo>
                <a:lnTo>
                  <a:pt x="238" y="1454"/>
                </a:lnTo>
                <a:lnTo>
                  <a:pt x="238" y="1446"/>
                </a:lnTo>
                <a:lnTo>
                  <a:pt x="205" y="1473"/>
                </a:lnTo>
                <a:lnTo>
                  <a:pt x="173" y="1502"/>
                </a:lnTo>
                <a:lnTo>
                  <a:pt x="144" y="1533"/>
                </a:lnTo>
                <a:lnTo>
                  <a:pt x="115" y="1567"/>
                </a:lnTo>
                <a:lnTo>
                  <a:pt x="90" y="1606"/>
                </a:lnTo>
                <a:lnTo>
                  <a:pt x="69" y="1644"/>
                </a:lnTo>
                <a:lnTo>
                  <a:pt x="50" y="1686"/>
                </a:lnTo>
                <a:lnTo>
                  <a:pt x="33" y="1729"/>
                </a:lnTo>
                <a:lnTo>
                  <a:pt x="19" y="1777"/>
                </a:lnTo>
                <a:lnTo>
                  <a:pt x="8" y="1825"/>
                </a:lnTo>
                <a:lnTo>
                  <a:pt x="2" y="1871"/>
                </a:lnTo>
                <a:lnTo>
                  <a:pt x="0" y="1917"/>
                </a:lnTo>
                <a:lnTo>
                  <a:pt x="2" y="1963"/>
                </a:lnTo>
                <a:lnTo>
                  <a:pt x="8" y="2007"/>
                </a:lnTo>
                <a:lnTo>
                  <a:pt x="15" y="2049"/>
                </a:lnTo>
                <a:lnTo>
                  <a:pt x="29" y="2090"/>
                </a:lnTo>
                <a:lnTo>
                  <a:pt x="44" y="2128"/>
                </a:lnTo>
                <a:lnTo>
                  <a:pt x="63" y="2165"/>
                </a:lnTo>
                <a:lnTo>
                  <a:pt x="84" y="2197"/>
                </a:lnTo>
                <a:lnTo>
                  <a:pt x="109" y="2228"/>
                </a:lnTo>
                <a:lnTo>
                  <a:pt x="138" y="2255"/>
                </a:lnTo>
                <a:lnTo>
                  <a:pt x="169" y="2278"/>
                </a:lnTo>
                <a:lnTo>
                  <a:pt x="202" y="2297"/>
                </a:lnTo>
                <a:lnTo>
                  <a:pt x="238" y="2312"/>
                </a:lnTo>
                <a:lnTo>
                  <a:pt x="261" y="2318"/>
                </a:lnTo>
                <a:lnTo>
                  <a:pt x="282" y="2324"/>
                </a:lnTo>
                <a:lnTo>
                  <a:pt x="280" y="2326"/>
                </a:lnTo>
                <a:lnTo>
                  <a:pt x="286" y="2380"/>
                </a:lnTo>
                <a:lnTo>
                  <a:pt x="296" y="2433"/>
                </a:lnTo>
                <a:lnTo>
                  <a:pt x="309" y="2483"/>
                </a:lnTo>
                <a:lnTo>
                  <a:pt x="324" y="2533"/>
                </a:lnTo>
                <a:lnTo>
                  <a:pt x="342" y="2579"/>
                </a:lnTo>
                <a:lnTo>
                  <a:pt x="363" y="2624"/>
                </a:lnTo>
                <a:lnTo>
                  <a:pt x="386" y="2668"/>
                </a:lnTo>
                <a:lnTo>
                  <a:pt x="413" y="2708"/>
                </a:lnTo>
                <a:lnTo>
                  <a:pt x="440" y="2745"/>
                </a:lnTo>
                <a:lnTo>
                  <a:pt x="470" y="2779"/>
                </a:lnTo>
                <a:lnTo>
                  <a:pt x="503" y="2812"/>
                </a:lnTo>
                <a:lnTo>
                  <a:pt x="538" y="2841"/>
                </a:lnTo>
                <a:lnTo>
                  <a:pt x="576" y="2867"/>
                </a:lnTo>
                <a:lnTo>
                  <a:pt x="614" y="2890"/>
                </a:lnTo>
                <a:lnTo>
                  <a:pt x="655" y="2910"/>
                </a:lnTo>
                <a:lnTo>
                  <a:pt x="697" y="2927"/>
                </a:lnTo>
                <a:lnTo>
                  <a:pt x="741" y="2940"/>
                </a:lnTo>
                <a:lnTo>
                  <a:pt x="787" y="2950"/>
                </a:lnTo>
                <a:lnTo>
                  <a:pt x="833" y="2954"/>
                </a:lnTo>
                <a:lnTo>
                  <a:pt x="879" y="2956"/>
                </a:lnTo>
                <a:lnTo>
                  <a:pt x="927" y="2954"/>
                </a:lnTo>
                <a:lnTo>
                  <a:pt x="973" y="2948"/>
                </a:lnTo>
                <a:lnTo>
                  <a:pt x="1021" y="2937"/>
                </a:lnTo>
                <a:lnTo>
                  <a:pt x="1069" y="2923"/>
                </a:lnTo>
                <a:lnTo>
                  <a:pt x="1067" y="2923"/>
                </a:lnTo>
                <a:lnTo>
                  <a:pt x="1075" y="2967"/>
                </a:lnTo>
                <a:lnTo>
                  <a:pt x="1087" y="3010"/>
                </a:lnTo>
                <a:lnTo>
                  <a:pt x="1098" y="3050"/>
                </a:lnTo>
                <a:lnTo>
                  <a:pt x="1112" y="3088"/>
                </a:lnTo>
                <a:lnTo>
                  <a:pt x="1129" y="3127"/>
                </a:lnTo>
                <a:lnTo>
                  <a:pt x="1148" y="3161"/>
                </a:lnTo>
                <a:lnTo>
                  <a:pt x="1167" y="3196"/>
                </a:lnTo>
                <a:lnTo>
                  <a:pt x="1190" y="3227"/>
                </a:lnTo>
                <a:lnTo>
                  <a:pt x="1213" y="3257"/>
                </a:lnTo>
                <a:lnTo>
                  <a:pt x="1240" y="3284"/>
                </a:lnTo>
                <a:lnTo>
                  <a:pt x="1267" y="3309"/>
                </a:lnTo>
                <a:lnTo>
                  <a:pt x="1296" y="3334"/>
                </a:lnTo>
                <a:lnTo>
                  <a:pt x="1327" y="3353"/>
                </a:lnTo>
                <a:lnTo>
                  <a:pt x="1359" y="3372"/>
                </a:lnTo>
                <a:lnTo>
                  <a:pt x="1392" y="3388"/>
                </a:lnTo>
                <a:lnTo>
                  <a:pt x="1427" y="3401"/>
                </a:lnTo>
                <a:lnTo>
                  <a:pt x="1473" y="3415"/>
                </a:lnTo>
                <a:lnTo>
                  <a:pt x="1521" y="3422"/>
                </a:lnTo>
                <a:lnTo>
                  <a:pt x="1569" y="3426"/>
                </a:lnTo>
                <a:lnTo>
                  <a:pt x="1618" y="3426"/>
                </a:lnTo>
                <a:lnTo>
                  <a:pt x="1666" y="3420"/>
                </a:lnTo>
                <a:lnTo>
                  <a:pt x="1714" y="3409"/>
                </a:lnTo>
                <a:lnTo>
                  <a:pt x="1762" y="3394"/>
                </a:lnTo>
                <a:lnTo>
                  <a:pt x="1810" y="3374"/>
                </a:lnTo>
                <a:lnTo>
                  <a:pt x="1857" y="3351"/>
                </a:lnTo>
                <a:lnTo>
                  <a:pt x="1903" y="3324"/>
                </a:lnTo>
                <a:lnTo>
                  <a:pt x="1947" y="3292"/>
                </a:lnTo>
                <a:lnTo>
                  <a:pt x="1989" y="3257"/>
                </a:lnTo>
                <a:lnTo>
                  <a:pt x="2029" y="3217"/>
                </a:lnTo>
                <a:lnTo>
                  <a:pt x="2068" y="3175"/>
                </a:lnTo>
                <a:lnTo>
                  <a:pt x="2104" y="3127"/>
                </a:lnTo>
                <a:lnTo>
                  <a:pt x="2139" y="3077"/>
                </a:lnTo>
                <a:lnTo>
                  <a:pt x="2139" y="3081"/>
                </a:lnTo>
                <a:lnTo>
                  <a:pt x="2160" y="3111"/>
                </a:lnTo>
                <a:lnTo>
                  <a:pt x="2185" y="3140"/>
                </a:lnTo>
                <a:lnTo>
                  <a:pt x="2210" y="3167"/>
                </a:lnTo>
                <a:lnTo>
                  <a:pt x="2237" y="3192"/>
                </a:lnTo>
                <a:lnTo>
                  <a:pt x="2266" y="3213"/>
                </a:lnTo>
                <a:lnTo>
                  <a:pt x="2296" y="3232"/>
                </a:lnTo>
                <a:lnTo>
                  <a:pt x="2329" y="3248"/>
                </a:lnTo>
                <a:lnTo>
                  <a:pt x="2362" y="3261"/>
                </a:lnTo>
                <a:lnTo>
                  <a:pt x="2411" y="3275"/>
                </a:lnTo>
                <a:lnTo>
                  <a:pt x="2463" y="3282"/>
                </a:lnTo>
                <a:lnTo>
                  <a:pt x="2513" y="3282"/>
                </a:lnTo>
                <a:lnTo>
                  <a:pt x="2565" y="3276"/>
                </a:lnTo>
                <a:lnTo>
                  <a:pt x="2615" y="3267"/>
                </a:lnTo>
                <a:lnTo>
                  <a:pt x="2665" y="3250"/>
                </a:lnTo>
                <a:lnTo>
                  <a:pt x="2715" y="3227"/>
                </a:lnTo>
                <a:lnTo>
                  <a:pt x="2761" y="3200"/>
                </a:lnTo>
                <a:lnTo>
                  <a:pt x="2807" y="3167"/>
                </a:lnTo>
                <a:lnTo>
                  <a:pt x="2851" y="3130"/>
                </a:lnTo>
                <a:lnTo>
                  <a:pt x="2893" y="3088"/>
                </a:lnTo>
                <a:lnTo>
                  <a:pt x="2932" y="3042"/>
                </a:lnTo>
                <a:lnTo>
                  <a:pt x="2966" y="2992"/>
                </a:lnTo>
                <a:lnTo>
                  <a:pt x="2999" y="2938"/>
                </a:lnTo>
                <a:lnTo>
                  <a:pt x="3026" y="2881"/>
                </a:lnTo>
                <a:lnTo>
                  <a:pt x="3051" y="2819"/>
                </a:lnTo>
                <a:lnTo>
                  <a:pt x="3051" y="2817"/>
                </a:lnTo>
                <a:lnTo>
                  <a:pt x="3106" y="2823"/>
                </a:lnTo>
                <a:lnTo>
                  <a:pt x="3162" y="2821"/>
                </a:lnTo>
                <a:lnTo>
                  <a:pt x="3216" y="2814"/>
                </a:lnTo>
                <a:lnTo>
                  <a:pt x="3272" y="2802"/>
                </a:lnTo>
                <a:lnTo>
                  <a:pt x="3325" y="2783"/>
                </a:lnTo>
                <a:lnTo>
                  <a:pt x="3377" y="2758"/>
                </a:lnTo>
                <a:lnTo>
                  <a:pt x="3429" y="2729"/>
                </a:lnTo>
                <a:lnTo>
                  <a:pt x="3479" y="2697"/>
                </a:lnTo>
                <a:lnTo>
                  <a:pt x="3527" y="2656"/>
                </a:lnTo>
                <a:lnTo>
                  <a:pt x="3571" y="2614"/>
                </a:lnTo>
                <a:lnTo>
                  <a:pt x="3613" y="2566"/>
                </a:lnTo>
                <a:lnTo>
                  <a:pt x="3654" y="2516"/>
                </a:lnTo>
                <a:lnTo>
                  <a:pt x="3690" y="2460"/>
                </a:lnTo>
                <a:lnTo>
                  <a:pt x="3723" y="2401"/>
                </a:lnTo>
                <a:lnTo>
                  <a:pt x="3752" y="2339"/>
                </a:lnTo>
                <a:lnTo>
                  <a:pt x="3777" y="2274"/>
                </a:lnTo>
                <a:lnTo>
                  <a:pt x="3794" y="2215"/>
                </a:lnTo>
                <a:lnTo>
                  <a:pt x="3809" y="2153"/>
                </a:lnTo>
                <a:lnTo>
                  <a:pt x="3819" y="2094"/>
                </a:lnTo>
                <a:lnTo>
                  <a:pt x="3825" y="2032"/>
                </a:lnTo>
                <a:lnTo>
                  <a:pt x="3828" y="1973"/>
                </a:lnTo>
                <a:lnTo>
                  <a:pt x="3825" y="1913"/>
                </a:lnTo>
                <a:lnTo>
                  <a:pt x="3819" y="1855"/>
                </a:lnTo>
                <a:lnTo>
                  <a:pt x="3809" y="1798"/>
                </a:lnTo>
                <a:lnTo>
                  <a:pt x="3807" y="1796"/>
                </a:lnTo>
                <a:lnTo>
                  <a:pt x="3842" y="1748"/>
                </a:lnTo>
                <a:lnTo>
                  <a:pt x="3873" y="1698"/>
                </a:lnTo>
                <a:lnTo>
                  <a:pt x="3897" y="1642"/>
                </a:lnTo>
                <a:lnTo>
                  <a:pt x="3919" y="1587"/>
                </a:lnTo>
                <a:lnTo>
                  <a:pt x="3934" y="1539"/>
                </a:lnTo>
                <a:lnTo>
                  <a:pt x="3945" y="1491"/>
                </a:lnTo>
                <a:lnTo>
                  <a:pt x="3953" y="1443"/>
                </a:lnTo>
                <a:lnTo>
                  <a:pt x="3957" y="1395"/>
                </a:lnTo>
                <a:lnTo>
                  <a:pt x="3959" y="1348"/>
                </a:lnTo>
                <a:lnTo>
                  <a:pt x="3957" y="1302"/>
                </a:lnTo>
                <a:lnTo>
                  <a:pt x="3953" y="1256"/>
                </a:lnTo>
                <a:lnTo>
                  <a:pt x="3945" y="1212"/>
                </a:lnTo>
                <a:lnTo>
                  <a:pt x="3934" y="1170"/>
                </a:lnTo>
                <a:lnTo>
                  <a:pt x="3921" y="1128"/>
                </a:lnTo>
                <a:lnTo>
                  <a:pt x="3903" y="1089"/>
                </a:lnTo>
                <a:lnTo>
                  <a:pt x="3884" y="1053"/>
                </a:lnTo>
                <a:lnTo>
                  <a:pt x="3861" y="1018"/>
                </a:lnTo>
                <a:lnTo>
                  <a:pt x="3836" y="986"/>
                </a:lnTo>
                <a:lnTo>
                  <a:pt x="3809" y="957"/>
                </a:lnTo>
                <a:lnTo>
                  <a:pt x="3778" y="930"/>
                </a:lnTo>
                <a:lnTo>
                  <a:pt x="3780" y="928"/>
                </a:lnTo>
                <a:lnTo>
                  <a:pt x="3788" y="880"/>
                </a:lnTo>
                <a:lnTo>
                  <a:pt x="3792" y="834"/>
                </a:lnTo>
                <a:lnTo>
                  <a:pt x="3792" y="788"/>
                </a:lnTo>
                <a:lnTo>
                  <a:pt x="3788" y="744"/>
                </a:lnTo>
                <a:lnTo>
                  <a:pt x="3782" y="699"/>
                </a:lnTo>
                <a:lnTo>
                  <a:pt x="3773" y="657"/>
                </a:lnTo>
                <a:lnTo>
                  <a:pt x="3759" y="617"/>
                </a:lnTo>
                <a:lnTo>
                  <a:pt x="3744" y="578"/>
                </a:lnTo>
                <a:lnTo>
                  <a:pt x="3727" y="544"/>
                </a:lnTo>
                <a:lnTo>
                  <a:pt x="3705" y="509"/>
                </a:lnTo>
                <a:lnTo>
                  <a:pt x="3681" y="479"/>
                </a:lnTo>
                <a:lnTo>
                  <a:pt x="3654" y="450"/>
                </a:lnTo>
                <a:lnTo>
                  <a:pt x="3625" y="425"/>
                </a:lnTo>
                <a:lnTo>
                  <a:pt x="3594" y="404"/>
                </a:lnTo>
                <a:lnTo>
                  <a:pt x="3561" y="386"/>
                </a:lnTo>
                <a:lnTo>
                  <a:pt x="3525" y="371"/>
                </a:lnTo>
                <a:lnTo>
                  <a:pt x="3479" y="360"/>
                </a:lnTo>
                <a:lnTo>
                  <a:pt x="3433" y="354"/>
                </a:lnTo>
                <a:lnTo>
                  <a:pt x="3387" y="354"/>
                </a:lnTo>
                <a:lnTo>
                  <a:pt x="3339" y="360"/>
                </a:lnTo>
                <a:lnTo>
                  <a:pt x="3291" y="373"/>
                </a:lnTo>
                <a:lnTo>
                  <a:pt x="3245" y="392"/>
                </a:lnTo>
                <a:lnTo>
                  <a:pt x="3199" y="415"/>
                </a:lnTo>
                <a:lnTo>
                  <a:pt x="3154" y="446"/>
                </a:lnTo>
                <a:lnTo>
                  <a:pt x="3154" y="448"/>
                </a:lnTo>
                <a:lnTo>
                  <a:pt x="3141" y="398"/>
                </a:lnTo>
                <a:lnTo>
                  <a:pt x="3124" y="352"/>
                </a:lnTo>
                <a:lnTo>
                  <a:pt x="3101" y="308"/>
                </a:lnTo>
                <a:lnTo>
                  <a:pt x="3074" y="271"/>
                </a:lnTo>
                <a:lnTo>
                  <a:pt x="3041" y="237"/>
                </a:lnTo>
                <a:lnTo>
                  <a:pt x="3007" y="208"/>
                </a:lnTo>
                <a:lnTo>
                  <a:pt x="2968" y="185"/>
                </a:lnTo>
                <a:lnTo>
                  <a:pt x="2928" y="168"/>
                </a:lnTo>
                <a:lnTo>
                  <a:pt x="2901" y="160"/>
                </a:lnTo>
                <a:lnTo>
                  <a:pt x="2876" y="154"/>
                </a:lnTo>
                <a:lnTo>
                  <a:pt x="2849" y="152"/>
                </a:lnTo>
                <a:lnTo>
                  <a:pt x="2822" y="150"/>
                </a:lnTo>
                <a:lnTo>
                  <a:pt x="2794" y="152"/>
                </a:lnTo>
                <a:lnTo>
                  <a:pt x="2767" y="156"/>
                </a:lnTo>
                <a:lnTo>
                  <a:pt x="2740" y="164"/>
                </a:lnTo>
                <a:lnTo>
                  <a:pt x="2713" y="171"/>
                </a:lnTo>
                <a:lnTo>
                  <a:pt x="2686" y="181"/>
                </a:lnTo>
                <a:lnTo>
                  <a:pt x="2659" y="194"/>
                </a:lnTo>
                <a:lnTo>
                  <a:pt x="2634" y="210"/>
                </a:lnTo>
                <a:lnTo>
                  <a:pt x="2609" y="225"/>
                </a:lnTo>
                <a:lnTo>
                  <a:pt x="2584" y="244"/>
                </a:lnTo>
                <a:lnTo>
                  <a:pt x="2561" y="265"/>
                </a:lnTo>
                <a:lnTo>
                  <a:pt x="2515" y="312"/>
                </a:lnTo>
                <a:lnTo>
                  <a:pt x="2513" y="319"/>
                </a:lnTo>
                <a:lnTo>
                  <a:pt x="2494" y="271"/>
                </a:lnTo>
                <a:lnTo>
                  <a:pt x="2469" y="227"/>
                </a:lnTo>
                <a:lnTo>
                  <a:pt x="2442" y="187"/>
                </a:lnTo>
                <a:lnTo>
                  <a:pt x="2411" y="150"/>
                </a:lnTo>
                <a:lnTo>
                  <a:pt x="2377" y="120"/>
                </a:lnTo>
                <a:lnTo>
                  <a:pt x="2340" y="91"/>
                </a:lnTo>
                <a:lnTo>
                  <a:pt x="2300" y="70"/>
                </a:lnTo>
                <a:lnTo>
                  <a:pt x="2258" y="52"/>
                </a:lnTo>
                <a:lnTo>
                  <a:pt x="2227" y="43"/>
                </a:lnTo>
                <a:lnTo>
                  <a:pt x="2194" y="37"/>
                </a:lnTo>
                <a:lnTo>
                  <a:pt x="2164" y="33"/>
                </a:lnTo>
                <a:lnTo>
                  <a:pt x="2131" y="31"/>
                </a:lnTo>
                <a:lnTo>
                  <a:pt x="2098" y="33"/>
                </a:lnTo>
                <a:lnTo>
                  <a:pt x="2066" y="37"/>
                </a:lnTo>
                <a:lnTo>
                  <a:pt x="2033" y="45"/>
                </a:lnTo>
                <a:lnTo>
                  <a:pt x="2001" y="54"/>
                </a:lnTo>
                <a:lnTo>
                  <a:pt x="1970" y="66"/>
                </a:lnTo>
                <a:lnTo>
                  <a:pt x="1937" y="81"/>
                </a:lnTo>
                <a:lnTo>
                  <a:pt x="1906" y="98"/>
                </a:lnTo>
                <a:lnTo>
                  <a:pt x="1876" y="118"/>
                </a:lnTo>
                <a:lnTo>
                  <a:pt x="1847" y="139"/>
                </a:lnTo>
                <a:lnTo>
                  <a:pt x="1818" y="164"/>
                </a:lnTo>
                <a:lnTo>
                  <a:pt x="1789" y="189"/>
                </a:lnTo>
                <a:lnTo>
                  <a:pt x="1762" y="217"/>
                </a:lnTo>
                <a:lnTo>
                  <a:pt x="1761" y="221"/>
                </a:lnTo>
                <a:lnTo>
                  <a:pt x="1736" y="187"/>
                </a:lnTo>
                <a:lnTo>
                  <a:pt x="1709" y="156"/>
                </a:lnTo>
                <a:lnTo>
                  <a:pt x="1678" y="127"/>
                </a:lnTo>
                <a:lnTo>
                  <a:pt x="1647" y="100"/>
                </a:lnTo>
                <a:lnTo>
                  <a:pt x="1615" y="77"/>
                </a:lnTo>
                <a:lnTo>
                  <a:pt x="1582" y="58"/>
                </a:lnTo>
                <a:lnTo>
                  <a:pt x="1546" y="41"/>
                </a:lnTo>
                <a:lnTo>
                  <a:pt x="1509" y="25"/>
                </a:lnTo>
                <a:lnTo>
                  <a:pt x="1480" y="16"/>
                </a:lnTo>
                <a:lnTo>
                  <a:pt x="1450" y="10"/>
                </a:lnTo>
                <a:lnTo>
                  <a:pt x="1421" y="4"/>
                </a:lnTo>
                <a:lnTo>
                  <a:pt x="1390" y="2"/>
                </a:lnTo>
                <a:lnTo>
                  <a:pt x="1331" y="0"/>
                </a:lnTo>
                <a:lnTo>
                  <a:pt x="1271" y="8"/>
                </a:lnTo>
                <a:lnTo>
                  <a:pt x="1211" y="20"/>
                </a:lnTo>
                <a:lnTo>
                  <a:pt x="1152" y="41"/>
                </a:lnTo>
                <a:lnTo>
                  <a:pt x="1096" y="68"/>
                </a:lnTo>
                <a:lnTo>
                  <a:pt x="1041" y="100"/>
                </a:lnTo>
                <a:lnTo>
                  <a:pt x="987" y="139"/>
                </a:lnTo>
                <a:lnTo>
                  <a:pt x="935" y="181"/>
                </a:lnTo>
                <a:lnTo>
                  <a:pt x="887" y="231"/>
                </a:lnTo>
                <a:lnTo>
                  <a:pt x="841" y="285"/>
                </a:lnTo>
                <a:lnTo>
                  <a:pt x="801" y="344"/>
                </a:lnTo>
                <a:lnTo>
                  <a:pt x="764" y="408"/>
                </a:lnTo>
                <a:lnTo>
                  <a:pt x="731" y="477"/>
                </a:lnTo>
                <a:lnTo>
                  <a:pt x="703" y="548"/>
                </a:lnTo>
                <a:lnTo>
                  <a:pt x="687" y="598"/>
                </a:lnTo>
                <a:lnTo>
                  <a:pt x="674" y="646"/>
                </a:lnTo>
                <a:lnTo>
                  <a:pt x="676" y="64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78160" y="4510800"/>
            <a:ext cx="541440" cy="297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365120"/>
            <a:ext cx="9144000" cy="74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85880" y="15876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Use of International Standards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An example in a “System Supply Contract”</a:t>
            </a: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4479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Purchaser's specification requir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       “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The following documents </a:t>
            </a:r>
            <a:r>
              <a:rPr b="1" lang="ja-JP" sz="2000" spc="-1" strike="noStrike">
                <a:solidFill>
                  <a:srgbClr val="ffcc33"/>
                </a:solidFill>
                <a:latin typeface="Arial"/>
              </a:rPr>
              <a:t>shall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form part of this specification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0000" y="2590920"/>
            <a:ext cx="7314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U-T Recommend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. 650, 652, 653, 654, 661, Draft 662, Draft 663, 701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2, 703, 707, 712, 772, 773, 774, 783, 784, 801, 811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12, 813, 823, 824, 825, 826, 841, 911, 957, 958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71, 972, 975,,,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C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C6297, 6617, 6721, 6825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O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O8402, 9001, 9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0053200">
            <a:off x="4650120" y="44143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Even Drafts are included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4623800">
            <a:off x="5160600" y="3744720"/>
            <a:ext cx="1523880" cy="48564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200" y="2055960"/>
            <a:ext cx="808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13364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659400" y="1011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5120" y="1828800"/>
            <a:ext cx="894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Europ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djust / Harmonize Technologies/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since 500 years ag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North Americ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ead / Grow the Mark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as a strategic marketing to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33"/>
                </a:solidFill>
                <a:latin typeface="Arial"/>
              </a:rPr>
              <a:t>Asi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ll / Know / Meet  the Global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to join the Global markets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24920" y="195120"/>
            <a:ext cx="66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tion of standards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154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92200" y="1484280"/>
            <a:ext cx="80182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y Propo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technologies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Focus in / Grow / Stabil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Promo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structive/effective compet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Clarif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quirements, Quickly create the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Priorit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argets &amp;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y Contributing / Sup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Cat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Market Trends / Technology Tr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Enhan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Presence of Your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Develo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mpany networks / human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33"/>
                </a:solidFill>
                <a:latin typeface="Arial"/>
              </a:rPr>
              <a:t>Be prep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e future lead of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20" y="316080"/>
            <a:ext cx="8690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expected from standards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viewpoint of SG15 promotion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86000" y="562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319040"/>
            <a:ext cx="9144000" cy="86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623400" y="2209680"/>
            <a:ext cx="13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ITU-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1560" y="19044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ITU (International Telecommunication Un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376880" y="2830680"/>
            <a:ext cx="0" cy="2766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10040" y="2049480"/>
            <a:ext cx="2776320" cy="80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32280" y="4660920"/>
            <a:ext cx="931680" cy="571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19680" y="3578400"/>
            <a:ext cx="931680" cy="571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58880" y="22384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840" y="3676680"/>
            <a:ext cx="88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WTO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UNESCO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ITU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WHO          ILO       WIPO  ,,,,,,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3143160"/>
            <a:ext cx="63990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63720" y="3156120"/>
            <a:ext cx="0" cy="44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62320" y="3156120"/>
            <a:ext cx="0" cy="441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13480" y="3178080"/>
            <a:ext cx="0" cy="44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31400" y="20034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135 Ys a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1520" y="5533920"/>
            <a:ext cx="80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7 Study Groups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　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13 Study Groups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　　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Study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4520" y="4097160"/>
            <a:ext cx="0" cy="1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34960" y="4446720"/>
            <a:ext cx="5680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716360" y="2455560"/>
            <a:ext cx="2021040" cy="11667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4760" y="4746600"/>
            <a:ext cx="79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ITU-R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　　　                  </a:t>
            </a:r>
            <a:r>
              <a:rPr b="1" lang="ja-JP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ITU-T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　　　                     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ITU-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59080" y="4448160"/>
            <a:ext cx="0" cy="268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08920" y="4448160"/>
            <a:ext cx="0" cy="268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62560" y="3156120"/>
            <a:ext cx="0" cy="441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86640" y="3156120"/>
            <a:ext cx="0" cy="441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27040" y="5089680"/>
            <a:ext cx="0" cy="44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10360" y="5072040"/>
            <a:ext cx="0" cy="442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38160"/>
            <a:ext cx="9144000" cy="85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1T07:08:49Z</dcterms:created>
  <dc:creator>岡村　治男</dc:creator>
  <dc:description/>
  <dc:language>en-US</dc:language>
  <cp:lastModifiedBy>C.I.K.K.</cp:lastModifiedBy>
  <cp:lastPrinted>2001-12-03T01:08:05Z</cp:lastPrinted>
  <dcterms:modified xsi:type="dcterms:W3CDTF">2002-07-01T12:09:16Z</dcterms:modified>
  <cp:revision>331</cp:revision>
  <dc:subject/>
  <dc:title>ｽﾗｲﾄﾞ ﾀｲﾄﾙなし</dc:title>
</cp:coreProperties>
</file>