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1324-4036-4348-A463-BB3828981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A2C8-DAC6-4965-A561-D67FB95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7E08-38A6-4984-8EA7-CF457F6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69E4-4FFA-4177-91AC-D39F132E2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7076-338D-4CC3-B8DB-5486A482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D66A-C380-47B6-A96C-A52CC6A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7DF7-84DF-479F-A7FF-7B419BD8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85F2-2C87-4756-B8F7-2172C2A8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D2D5-4AD4-4E1A-9091-6D352685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AC7B-8AE8-48FD-9871-5E75854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7393-C116-4CC2-974A-698A0C3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E0F3-B3AD-454D-A935-E1C9DDEB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13D4-2569-410E-8590-259E9561A652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8D0-DD66-4C92-8A1E-26A92CAA33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Session 6 – WDM and DWDM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10th July, 2002</a:t>
            </a:r>
            <a:br>
              <a:rPr sz="2400"/>
            </a:b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Chitose ANA Hotel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Session Coordinator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sahito Tomizawa (NTT)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Editor, SG15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97B0-F673-4BF3-A6CA-0771190E26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7DA4-7966-4143-A698-BEFCDF35EA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scussion (2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hen standardization?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udy items for the near future.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udy items for far future.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1F0D-4DEC-4470-A576-96B5ADA56C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DE819-86AF-4C79-99CC-FF6F945A5C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rends in Technologies &amp; Standardization (1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echnological progress is so fast, that standardization-organization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ould be aware of the latest LAB result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AB tests - </a:t>
            </a:r>
            <a:r>
              <a:rPr b="0" lang="ja-JP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hort period) - getting into the marke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WDM is one of the most progressing technologie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inimum channel spacing - At presen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2.5GHz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grid is standardized in G.694.1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G.694.1,”Spectral Grids for WDM applications 1: DWDM Frequency Grid”, May, 2002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7DDF-A233-4FFF-8687-23006D9517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239E1-D82A-49C6-BEB6-568746EA7D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rends in Technologies &amp; Standardization (2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High-speed channel technology is also progressing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ximum channel bit-rate - At present, optical parameters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Gbit/s/ch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are going to be standardized in G.959.1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G.959.1, “OTN Physical Layer Interfaces”, to be consented in Jan. 2003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amplification is the key to enable the technologies in the system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stribut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man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amplification is under discussion.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7240-9C5A-4EF4-8B7D-7B3CD45F47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E23A8-B6E6-47E1-BE54-935EAB1030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cope of session 6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itial input of new technologies such as Super-DWDM (&lt; 12.5GHz spacing), ultra-fast TDM (e.g., 160Gbit/s), and new optical amplification (e.g., Raman) into ITU-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find out the direction and new study items in ITU-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cope with IEC on some study items (e.g., Raman amp.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increase awareness of ITU-T, also attract new member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743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9101-2ABC-4025-85A7-7A81D80106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C4B04-CDEC-4D27-9D12-7699869CE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entury"/>
              </a:rPr>
              <a:t>Invited Speaker (1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"/>
              </a:rPr>
              <a:t>Mr. Franko Kueppers</a:t>
            </a:r>
            <a:r>
              <a:rPr b="0" lang="en-US" sz="2400" spc="-1" strike="noStrike">
                <a:solidFill>
                  <a:srgbClr val="990033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T-Systems NOVA, Deutsche Telekom, German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entury"/>
              </a:rPr>
              <a:t>Head of Group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"/>
              </a:rPr>
              <a:t>Key words: 40G-WDM, 160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00"/>
                </a:solidFill>
                <a:latin typeface="Century"/>
                <a:ea typeface="ＭＳ ゴシック"/>
              </a:rPr>
              <a:t>Abstract: Experiences from pilot trials of commercial 40 Gbit/s/</a:t>
            </a:r>
            <a:r>
              <a:rPr b="0" lang="ja-JP" sz="20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ja-JP" sz="2000" spc="-1" strike="noStrike">
                <a:solidFill>
                  <a:srgbClr val="cc0000"/>
                </a:solidFill>
                <a:latin typeface="Century"/>
                <a:ea typeface="ＭＳ ゴシック"/>
              </a:rPr>
              <a:t> WDM systems in the backbone network will be reported and an outlook to 160 Gbit/s TDM will be given - both with respect to relevant effects (e.g. chromatic and polarization mode dispersion), the handling of these effects in future systems, and the relation to standardization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12C9-ECF2-4A3C-8814-018E99F510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CDDA-2942-4F84-B0D7-702F17D40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entury"/>
              </a:rPr>
              <a:t>Invited Speaker (2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"/>
              </a:rPr>
              <a:t>Mr. Toshio Moriok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NTT Network Innovation Labs., NTT, Japa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entury"/>
              </a:rPr>
              <a:t>Group leader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"/>
              </a:rPr>
              <a:t>Key words; SDWDM, OTDM, Light-sourc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Abstract:</a:t>
            </a: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  </a:t>
            </a:r>
            <a:r>
              <a:rPr b="0" lang="ja-JP" sz="2000" spc="-1" strike="noStrike">
                <a:solidFill>
                  <a:srgbClr val="cc0000"/>
                </a:solidFill>
                <a:latin typeface="Century"/>
                <a:ea typeface="ＭＳ ゴシック"/>
              </a:rPr>
              <a:t>Recent progress in broadband OTDM and DWDM technologies is presented including over Tbit/s OTDM transmission and processing, 1000 channel DWDM source, and over 100 nm-bandwidth seamless transmission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D724-C9BE-474F-853C-99FDEB0950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EF82B-ADDB-458E-8747-34E303F8AB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entury"/>
              </a:rPr>
              <a:t>Invited Speaker (3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"/>
              </a:rPr>
              <a:t>Mr. Haruo Okamura,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Corning International K. K, Corning, Japa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ITU-T SG15 Vice-chairman, IEC TC86 Convenor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"/>
              </a:rPr>
              <a:t>Key words; Raman amplification, 40G-WDM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Abstract:  </a:t>
            </a:r>
            <a:r>
              <a:rPr b="0" lang="ja-JP" sz="2000" spc="-1" strike="noStrike">
                <a:solidFill>
                  <a:srgbClr val="cc0000"/>
                </a:solidFill>
                <a:latin typeface="Century"/>
                <a:ea typeface="ＭＳ ゴシック"/>
              </a:rPr>
              <a:t>Trends in standards discussions at ITU-TSG15 and IECTC86 on the emerging broad-band optical transmission technologies/systems are reviewed from the viewpoints of technologies as well as businesses. The key words include 40Gb/s, WDM transmission and Raman amplification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9661-F30C-499B-93C6-8DD3902AD3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475C-A88D-4A48-9528-CE8274D9A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iscussion (1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hy Standard?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&lt;12.5GHz spac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160Gbit/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an amplification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mpatibility (Longitudinal or transverse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&lt;12.5GHz spac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160Gbit/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an amplification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78A7-0DDE-484F-AA16-DD4F68283D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90CCB-CF6F-4126-8881-EF0173FAA0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Longitudinal vs Transverse compatibility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64788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64644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9720" y="1371600"/>
            <a:ext cx="419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Longitudinal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ngle vendor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Target distance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mall set of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Major WDM spec., G.692, G.Ia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64800" y="3371760"/>
            <a:ext cx="389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Transverse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Multi-vendor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Interface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ull set of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Only G.959.1 for W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FC8C-C33E-4DDB-875F-79F69B2DAA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667CE-D910-4214-B708-9083AB48FE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WERY</dc:creator>
  <dc:description/>
  <dc:language>en-US</dc:language>
  <cp:lastModifiedBy>tomizawa</cp:lastModifiedBy>
  <dcterms:modified xsi:type="dcterms:W3CDTF">2002-06-21T08:03:24Z</dcterms:modified>
  <cp:revision>50</cp:revision>
  <dc:subject/>
  <dc:title>PowerPoint Presentation</dc:title>
</cp:coreProperties>
</file>