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6176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6176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6176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6176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6176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6176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6176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6176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176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73760" y="662796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3760" y="6615000"/>
            <a:ext cx="7160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681600" y="6567480"/>
            <a:ext cx="861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ＭＳ ゴシック"/>
              </a:rPr>
              <a:t>NTT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476760" y="6580080"/>
            <a:ext cx="29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08080"/>
                </a:solidFill>
                <a:latin typeface="Arial"/>
                <a:ea typeface="ＭＳ ゴシック"/>
              </a:rPr>
              <a:t>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696080" y="6566040"/>
            <a:ext cx="743040" cy="2649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8458200" y="6553080"/>
            <a:ext cx="53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9986-D270-44B6-91E0-347A3403F89A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6600"/>
            <a:ext cx="7250040" cy="201600"/>
          </a:xfrm>
          <a:prstGeom prst="flowChartProcess">
            <a:avLst/>
          </a:prstGeom>
          <a:gradFill rotWithShape="0">
            <a:gsLst>
              <a:gs pos="0">
                <a:srgbClr val="a34d13"/>
              </a:gs>
              <a:gs pos="100000">
                <a:srgbClr val="c47e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General Principles and Requi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for OAM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uly 10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Hiroshi Ohta (NTT, Q.3/13 rapport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M functions for SDH-based ATM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06360" y="510552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nerator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92920" y="417204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x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8360" y="3238560"/>
            <a:ext cx="39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Path (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11840" y="228600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Path (V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80120" y="1371600"/>
            <a:ext cx="34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hannel (V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876920"/>
            <a:ext cx="6248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962520"/>
            <a:ext cx="6248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048120"/>
            <a:ext cx="6248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2133720"/>
            <a:ext cx="6248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219320"/>
            <a:ext cx="6248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0480" y="26668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 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5240" y="22096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5240" y="12952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40480" y="17524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 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maintenance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397160"/>
            <a:ext cx="380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1397160"/>
            <a:ext cx="380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1397160"/>
            <a:ext cx="3812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7017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1397160"/>
            <a:ext cx="380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54944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154944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54944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154944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154944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54944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9625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3800" y="39625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41148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3962520"/>
            <a:ext cx="152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3962520"/>
            <a:ext cx="152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2209320" y="4038480"/>
            <a:ext cx="304560" cy="152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895120" y="4038480"/>
            <a:ext cx="304560" cy="152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4191120" y="4038480"/>
            <a:ext cx="304560" cy="152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4876920" y="4038480"/>
            <a:ext cx="304560" cy="152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248520" y="4038480"/>
            <a:ext cx="304560" cy="152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6934320" y="4038480"/>
            <a:ext cx="304560" cy="152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3875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2819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2819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19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276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3276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3276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276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5880" y="1295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4120" y="1143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5200" y="1143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2600" y="1143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3680" y="11430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5360" y="1295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6960" y="1295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6440" y="1295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22080" y="1295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7880" y="12952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8006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2819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5334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5334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334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5883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883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883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883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883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883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883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5883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5883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334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8840" y="2209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52640" y="267804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048120"/>
            <a:ext cx="127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mission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029200"/>
            <a:ext cx="93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 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6545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enerator 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600200" y="1752480"/>
            <a:ext cx="2743200" cy="228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752480"/>
            <a:ext cx="2743200" cy="2362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3760" y="37083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9640" y="37083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30800" y="37083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8200" y="37083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4800" y="3708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0600" y="3708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9920" y="3708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7320" y="3708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9440" y="3708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5720" y="370836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4495680"/>
            <a:ext cx="142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mission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3680" y="6248520"/>
            <a:ext cx="80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VCH: VC Handler, VPH: VP Handler, TPH: Transmission Path Handler, Rep: Repeater/re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0574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0574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2096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2057400"/>
            <a:ext cx="152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057400"/>
            <a:ext cx="152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676160" y="2133360"/>
            <a:ext cx="304920" cy="152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61960" y="2133360"/>
            <a:ext cx="304920" cy="152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3657240" y="213372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4343040" y="213372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5714640" y="213372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6400440" y="213372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800" y="17762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5040" y="17762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6920" y="17762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4320" y="17762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1640" y="17762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7440" y="17762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6760" y="17762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4160" y="17762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5920" y="17762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8520" y="2309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24080" y="2112840"/>
            <a:ext cx="228960" cy="228600"/>
            <a:chOff x="4024080" y="2112840"/>
            <a:chExt cx="228960" cy="228600"/>
          </a:xfrm>
        </p:grpSpPr>
        <p:sp>
          <p:nvSpPr>
            <p:cNvPr id="185" name=""/>
            <p:cNvSpPr/>
            <p:nvPr/>
          </p:nvSpPr>
          <p:spPr>
            <a:xfrm flipH="1">
              <a:off x="4024080" y="211284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24440" y="211284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355200" y="27669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is det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2920" y="139536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-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4680" y="10904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38120" y="22096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2133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49568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81480" y="1371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1828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4343400"/>
            <a:ext cx="380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4343400"/>
            <a:ext cx="380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4343400"/>
            <a:ext cx="3812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46483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343400"/>
            <a:ext cx="380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44956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449568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449568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44956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4956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44956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7240" y="42148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5480" y="40622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6560" y="40622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3960" y="40622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5040" y="40622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720" y="42148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8320" y="42148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800" y="42148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3440" y="42148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9240" y="42148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084200" y="4516560"/>
            <a:ext cx="228960" cy="228600"/>
            <a:chOff x="4084200" y="4516560"/>
            <a:chExt cx="228960" cy="228600"/>
          </a:xfrm>
        </p:grpSpPr>
        <p:sp>
          <p:nvSpPr>
            <p:cNvPr id="217" name=""/>
            <p:cNvSpPr/>
            <p:nvPr/>
          </p:nvSpPr>
          <p:spPr>
            <a:xfrm flipH="1">
              <a:off x="4084200" y="45165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84560" y="45165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066680" y="2209680"/>
            <a:ext cx="2819520" cy="2362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495320" y="2133720"/>
            <a:ext cx="2667240" cy="2438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4267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148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0384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5880" y="35290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-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8360" y="33004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-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2280" y="5715000"/>
            <a:ext cx="806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VCH: VC Handler, VPH: VP Handler, TPH: Transmission Path Handler, Rep: Repeater/re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: Multiplex 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 detection and performance monitoring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4840" y="511956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nerator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8160" y="44625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6560" y="37767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7880" y="30909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th (V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160" y="240516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Channel (V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513396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ion of LOS/LOF at a re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53160" y="4371840"/>
            <a:ext cx="263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ion of LOS/LOF/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ption of MS-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368604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trace (J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Label (C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300024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Seg/EE) VP Continuity Check (C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2238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Seg/EE) VC Continuity Check (C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1336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32756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64176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295596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7016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15080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1324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s for defect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12477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s for performanc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2238480"/>
            <a:ext cx="283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Seg/EE) VC Performance Monitoring (P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3000240"/>
            <a:ext cx="283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Seg/EE) VP Performance Monitoring (P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3762360"/>
            <a:ext cx="28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 error monitoring (B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4524480"/>
            <a:ext cx="28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 error monitoring (B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19920" y="5210280"/>
            <a:ext cx="28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 error monitoring (B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to OSS (1) – Physical layer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895480"/>
            <a:ext cx="3045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73120" y="308628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84480" y="308628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17840" y="308628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06840" y="308628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89548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51560" y="308628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40560" y="308628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289548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2895480"/>
            <a:ext cx="3045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990720"/>
            <a:ext cx="39625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72640" y="1219320"/>
            <a:ext cx="31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 (Operation Suppor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72320" y="27669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6880" y="2538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8120" y="27669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06040" y="27669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91840" y="3376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9400" y="27669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1520" y="276696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20240" y="2538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3960" y="35290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1360" y="2538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32004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82680" y="3103560"/>
            <a:ext cx="228960" cy="228600"/>
            <a:chOff x="3982680" y="3103560"/>
            <a:chExt cx="228960" cy="228600"/>
          </a:xfrm>
        </p:grpSpPr>
        <p:sp>
          <p:nvSpPr>
            <p:cNvPr id="277" name=""/>
            <p:cNvSpPr/>
            <p:nvPr/>
          </p:nvSpPr>
          <p:spPr>
            <a:xfrm flipH="1">
              <a:off x="3982680" y="31035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83040" y="31035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 flipH="1" flipV="1">
            <a:off x="4190760" y="17524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00160" y="19051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port (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495680" y="2362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3124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8520" y="213372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-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2200" y="38862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-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971520" y="3780000"/>
            <a:ext cx="228960" cy="228600"/>
            <a:chOff x="3971520" y="3780000"/>
            <a:chExt cx="228960" cy="228600"/>
          </a:xfrm>
        </p:grpSpPr>
        <p:sp>
          <p:nvSpPr>
            <p:cNvPr id="287" name=""/>
            <p:cNvSpPr/>
            <p:nvPr/>
          </p:nvSpPr>
          <p:spPr>
            <a:xfrm flipH="1">
              <a:off x="3971520" y="3780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71880" y="3780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029200" y="3809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5880" y="4876920"/>
            <a:ext cx="457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ion of Loss of VP-CC (L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t is not reported because VP-AIS is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419360" y="388620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18148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2040" y="23623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-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44024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62920" y="43639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248160" y="441972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5400" y="5562720"/>
            <a:ext cx="458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ion of Loss of VC-CC (L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t is not reported because VC-AIS is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001760" y="4343400"/>
            <a:ext cx="228960" cy="228600"/>
            <a:chOff x="4001760" y="4343400"/>
            <a:chExt cx="228960" cy="228600"/>
          </a:xfrm>
        </p:grpSpPr>
        <p:sp>
          <p:nvSpPr>
            <p:cNvPr id="300" name=""/>
            <p:cNvSpPr/>
            <p:nvPr/>
          </p:nvSpPr>
          <p:spPr>
            <a:xfrm flipH="1">
              <a:off x="4001760" y="4343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02120" y="43434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868720" y="41148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-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9200" y="6248520"/>
            <a:ext cx="183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LOS: Loss of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to OSS (2) – VP layer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04812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49440" y="323856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0440" y="323856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94160" y="323856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83160" y="323856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304812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27880" y="323856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16520" y="323856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3048120"/>
            <a:ext cx="304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304812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1143000"/>
            <a:ext cx="381024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77200" y="1371600"/>
            <a:ext cx="31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 (Operation Suppor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8640" y="29192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840" y="2690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4440" y="29192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2000" y="29192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4120" y="29192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720" y="29192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840" y="29192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96560" y="2690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30280" y="36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87680" y="2690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90720" y="33526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4267080" y="1905120"/>
            <a:ext cx="914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20574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port (L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8520" y="41148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-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047840" y="4008600"/>
            <a:ext cx="228960" cy="228600"/>
            <a:chOff x="4047840" y="4008600"/>
            <a:chExt cx="228960" cy="228600"/>
          </a:xfrm>
        </p:grpSpPr>
        <p:sp>
          <p:nvSpPr>
            <p:cNvPr id="333" name=""/>
            <p:cNvSpPr/>
            <p:nvPr/>
          </p:nvSpPr>
          <p:spPr>
            <a:xfrm flipH="1">
              <a:off x="4047840" y="40086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48200" y="40086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5040" y="4952880"/>
            <a:ext cx="44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ion of Loss of VP-CC (L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reported because VP-AIS is NOT recei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343400" y="41148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57800" y="2819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4320" y="25383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-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466884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45925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171840" y="4648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60480" y="5562720"/>
            <a:ext cx="458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ion of Loss of VC-CC (L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t is not reported because VC-AIS is rece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78080" y="4572000"/>
            <a:ext cx="228960" cy="228600"/>
            <a:chOff x="4078080" y="4572000"/>
            <a:chExt cx="228960" cy="228600"/>
          </a:xfrm>
        </p:grpSpPr>
        <p:sp>
          <p:nvSpPr>
            <p:cNvPr id="346" name=""/>
            <p:cNvSpPr/>
            <p:nvPr/>
          </p:nvSpPr>
          <p:spPr>
            <a:xfrm flipH="1">
              <a:off x="4078080" y="457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78440" y="457200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886360" y="43862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-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422240" y="3235320"/>
            <a:ext cx="228960" cy="228600"/>
            <a:chOff x="4422240" y="3235320"/>
            <a:chExt cx="228960" cy="228600"/>
          </a:xfrm>
        </p:grpSpPr>
        <p:sp>
          <p:nvSpPr>
            <p:cNvPr id="350" name=""/>
            <p:cNvSpPr/>
            <p:nvPr/>
          </p:nvSpPr>
          <p:spPr>
            <a:xfrm flipH="1">
              <a:off x="4422240" y="3235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22600" y="3235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H="1" flipV="1">
            <a:off x="1905120" y="2133360"/>
            <a:ext cx="2590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16002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 layer defect (e.g., table corrup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7760" y="6248520"/>
            <a:ext cx="21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LOC: Loss of 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04920" y="5334120"/>
            <a:ext cx="510516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operator environment – VP layer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304812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49440" y="323856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60440" y="323856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94160" y="323856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83160" y="323856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304812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27880" y="323856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16520" y="323856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3048120"/>
            <a:ext cx="30456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38880" y="3048120"/>
            <a:ext cx="304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990720"/>
            <a:ext cx="28195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93000" y="1219320"/>
            <a:ext cx="28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S (Operation Support Syst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50080" y="2971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8320" y="27432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35880" y="2971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3440" y="2971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69240" y="2971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17160" y="29462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79280" y="29462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8000" y="27432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31720" y="37083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89120" y="27176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0720" y="33526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3962520" y="1676160"/>
            <a:ext cx="121896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20574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port (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34320" y="396864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-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047840" y="3932280"/>
            <a:ext cx="228960" cy="228600"/>
            <a:chOff x="4047840" y="3932280"/>
            <a:chExt cx="228960" cy="228600"/>
          </a:xfrm>
        </p:grpSpPr>
        <p:sp>
          <p:nvSpPr>
            <p:cNvPr id="385" name=""/>
            <p:cNvSpPr/>
            <p:nvPr/>
          </p:nvSpPr>
          <p:spPr>
            <a:xfrm flipH="1">
              <a:off x="4047840" y="3932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48200" y="3932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07040" y="4876920"/>
            <a:ext cx="29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of Loss of VP-CC (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724280" y="40384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257800" y="2819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78000" y="259092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-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4495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162560" y="4572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2720" y="4699080"/>
            <a:ext cx="29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of Loss of VC-CC (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078080" y="4398840"/>
            <a:ext cx="228960" cy="228600"/>
            <a:chOff x="4078080" y="4398840"/>
            <a:chExt cx="228960" cy="228600"/>
          </a:xfrm>
        </p:grpSpPr>
        <p:sp>
          <p:nvSpPr>
            <p:cNvPr id="398" name=""/>
            <p:cNvSpPr/>
            <p:nvPr/>
          </p:nvSpPr>
          <p:spPr>
            <a:xfrm flipH="1">
              <a:off x="4078080" y="439884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78440" y="439884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887080" y="424008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-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422240" y="3235320"/>
            <a:ext cx="228960" cy="228600"/>
            <a:chOff x="4422240" y="3235320"/>
            <a:chExt cx="228960" cy="228600"/>
          </a:xfrm>
        </p:grpSpPr>
        <p:sp>
          <p:nvSpPr>
            <p:cNvPr id="402" name=""/>
            <p:cNvSpPr/>
            <p:nvPr/>
          </p:nvSpPr>
          <p:spPr>
            <a:xfrm flipH="1">
              <a:off x="4422240" y="3235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22600" y="3235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 flipV="1">
            <a:off x="1905120" y="2133360"/>
            <a:ext cx="2590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1828800"/>
            <a:ext cx="199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 layer defect (e.g., table corrup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9907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0560" y="104148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37240" y="104148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43600" y="1295280"/>
            <a:ext cx="28195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36400" y="1523880"/>
            <a:ext cx="28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S (Operation Support Syste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3480" y="500688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0880" y="5402160"/>
            <a:ext cx="4800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s VP-LOC defect at the VP termina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it is the root-cause because there is no 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or A is responsible to handle this de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5334120"/>
            <a:ext cx="312408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89880" y="500688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o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5334120"/>
            <a:ext cx="2971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s VC-LOC at the VC terminat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that the cause of this defect is already detected in upstream because there is VC-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or B is not responsible for this de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5120" y="6400800"/>
            <a:ext cx="21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LOC: Loss of 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AM functions for emerging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 aspects for MPLS and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LS and Ethernet are widely used recently for providing services for corporate user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S based IP-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t LAN Service (TLS) / Ethernet based on optical pure Ethernet or 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services are replacing leased line services based on SDH and ATM because they are cheaper in terms of the cost per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lthough services for corporate users require high reliability in general, OAM functions for MPLS and Ethernet have not been fully develop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s, principles and requirements of OA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 functions for SDH-based ATM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 functions for emerging networks (MPLS and Eth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 for MPLS networks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s below are specified in Draft Rec. Y.17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fect detection: Connectivity Verification (C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erify connectivity by sending CV packet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erify TTSI (Trail Termination Source Identifier) at the sink of an LSP to detect the following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sconnection, swapped connection, unintended replication,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larm signal transfer: Forward Defect Indication (FDI) and Backward Defect Indication (B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otify defects downstream and up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uppress unnecessary reporting to OpS (because it has been already reported by the NE generating F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AM for MPLS network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s below are under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erformanc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oop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SP 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 for Ethernet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 for access network is under study (IEEE/EFM, SG13/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AM functions which cover enti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up/down can be reported by L2 switches to OSS but (for example) it does not cover the cases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regenerators between L2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WDM systems between L2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OAM functions to indicate defects to other operators in multi-operator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up at all L2 switches does not mean defect-free end-to-end connectivity because switches can have defects such as VLAN table corru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AM for Ethernet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thernet is a connectionless mesh network.  Ethernet OAM functions must be applied to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ollowing OAM functions are envisag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nnectivity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larm signal transfer (forward/backw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erformanc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op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thernet OAM functions should be coordinated with lower layer OAM functions (e.g., OAM for WDM, regenerator spans) so that operator can grasp all the defects in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over MPLS, SDH/SONET,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thernet services can be provided by emulation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PLS (Ethernet over MPLS … several Internet-Draf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DH/SONET (Ethernet over SDH/SONET with GFP … G.7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M (Multiprotocol Encapsulation over AAL5 … RFC26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f the paths (LSPs, Transmission paths, VPs/VCs) spans UNI to UNI or edge to edge, OAMs for these lower layer can be used as OAM for Ethernet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cation of the requirements to OAM functions, in particular, for emerging networks such as MPLS and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 detection and loc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the standard methods to realize necessary OA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cation of the trade-off between cost/complexity and OA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ication of what OAM functions should be performed by what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s, principles and requirements of OA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the OA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AM (Operation and Maintenance) functions are  used to detect defects and performance degradation and localize them in order to maintain and guarantee the ser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en an operator receives complaints from a customer, they ne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calize the defect and report it to th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rrange correctiv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en a defect or performance degradation occurs, they should be reported to the operator automatically and recovered automatically extent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en a service is released to a user, it should be tested beforehand to ensure its availability and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M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AM functions are designed to meet the following objec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fect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fect loc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fect information (reporting to OSS/N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erformanc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 protection (protection switching, redundancy of network e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s and performance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amples of defects and performance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iber/wire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fect in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is-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wapped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erformance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it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acket/Cell/Frame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elay and its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lthough there are several technologies to build a network, problems are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OA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n-demand diagnosis and continuous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fect should be automatically detected, localized and reported to OSS/N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ustomers should not be used as a defect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vailability and QoS should be able to be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AM functions should not be dependent of the dynamic behavior of customer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OAM function should perform reliably even under degraded link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quirements are similar regardless of the technology (OTN, SDH, ATM, MPL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s to realize OA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erarchical maintenance entity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ult management and performance management functions for each ME/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PLS … under 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thernet … under study/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AM functions are categorized i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ntinous surveillance for detection of defects and performance degradation (e.g., CC, AIS/RDI, PM for A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n-demand diagnosis test for defect localization (e.g., Loopback and on-demand non-intrusive monitoring for A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s are also similar regardless of the technology (OTN, SDH, ATM, MPL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of standar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M for ATM: Rec. I.6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switching for ATM: Rec. I.6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P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M requirements for MPLS: Rec. Y.17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M mechanisms for MPLS: Draft Rec. Y.17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switching for MPLS: Draft Rec. Y.1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standardization within IEEE/EFM for OAM for Ethernet acc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study within ITU-T SG13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40:29Z</dcterms:created>
  <dc:creator>H. OHTA</dc:creator>
  <dc:description/>
  <dc:language>en-US</dc:language>
  <cp:lastModifiedBy>H. OHTA</cp:lastModifiedBy>
  <dcterms:modified xsi:type="dcterms:W3CDTF">2002-06-24T09:51:31Z</dcterms:modified>
  <cp:revision>25</cp:revision>
  <dc:subject/>
  <dc:title>Requirements, principles and multi-layer network OAM</dc:title>
</cp:coreProperties>
</file>