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E4D1-2C39-4CCF-8C64-21D8FC5E33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alicized Recommendations are Not Yet 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commendations are Common between SDH and O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alicized Recommendations are Not Yet 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commendations are Common between SDH and O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3C6C1-7687-4F18-9C75-CBE7E99950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348084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4C306-043A-4CC9-A9F4-47ECB6D4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8081F-BAF9-445A-9E7C-70FC4106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34808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34808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34808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71E59-CB8D-4B72-829A-50193542A6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BAEE5-94C6-412C-A0DA-E3B217C2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0564D-EEDA-4483-B139-BF0B6125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5ADC0-D81F-46ED-9B11-E56AA2F7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69120-4F84-470F-A4EF-2A0EDD537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AC39E-2B72-479E-8B39-33D779A11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2BF1F-1A6D-43E0-80B3-ABE2371E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EF9D5-880E-4DC7-B1A0-FCE9C7AD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48084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C08BF-19CB-4DD2-9470-194A4E78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8D9C-20D2-4E40-A6E1-4AD3D7DB2A0C}" type="slidenum"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5562720"/>
            <a:ext cx="6951960" cy="839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70160" y="545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696080" y="5562720"/>
            <a:ext cx="801720" cy="879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09480" y="609480"/>
            <a:ext cx="7925040" cy="4800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666880" y="647712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orkshop IP/Optical; Chitose, Japan; 9-11 July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09480" y="5562720"/>
            <a:ext cx="6951960" cy="839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270160" y="545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 txBox="1"/>
          <p:nvPr/>
        </p:nvSpPr>
        <p:spPr>
          <a:xfrm>
            <a:off x="1676520" y="5715000"/>
            <a:ext cx="5105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33cccc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orkshop IP/Optica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33cccc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" name="" descr=""/>
          <p:cNvPicPr/>
          <p:nvPr/>
        </p:nvPicPr>
        <p:blipFill>
          <a:blip r:embed="rId3"/>
          <a:stretch/>
        </p:blipFill>
        <p:spPr>
          <a:xfrm>
            <a:off x="7696080" y="5562720"/>
            <a:ext cx="801720" cy="879480"/>
          </a:xfrm>
          <a:prstGeom prst="rect">
            <a:avLst/>
          </a:prstGeom>
          <a:ln w="0">
            <a:noFill/>
          </a:ln>
        </p:spPr>
      </p:pic>
      <p:sp>
        <p:nvSpPr>
          <p:cNvPr id="14" name=""/>
          <p:cNvSpPr/>
          <p:nvPr/>
        </p:nvSpPr>
        <p:spPr>
          <a:xfrm>
            <a:off x="609480" y="609480"/>
            <a:ext cx="7925040" cy="4800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2666880" y="647712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orkshop IP/Optical; Chitose, Japan; 9-11 July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OTN Equipment and Deployment in Today’s Transport Network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8487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Times New Roman"/>
              </a:rPr>
              <a:t>Session 5     </a:t>
            </a:r>
            <a:endParaRPr b="0" lang="en-US" sz="3600" spc="-1" strike="noStrike">
              <a:solidFill>
                <a:srgbClr val="990033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Times New Roman"/>
              </a:rPr>
              <a:t>Dr. Ghani Abbas</a:t>
            </a:r>
            <a:r>
              <a:rPr b="0" lang="en-GB" sz="24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Times New Roman"/>
              </a:rPr>
              <a:t>Q9/15 Rapporteur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Times New Roman"/>
              </a:rPr>
              <a:t>Dr. Stephen Trowbridge</a:t>
            </a:r>
            <a:r>
              <a:rPr b="0" lang="en-GB" sz="24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Times New Roman"/>
              </a:rPr>
              <a:t>Chairman WP 3/15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Times New Roman"/>
              </a:rPr>
              <a:t>10/7/2002</a:t>
            </a:r>
            <a:endParaRPr b="0" lang="en-US" sz="36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609480" y="1371600"/>
            <a:ext cx="5181840" cy="457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793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Times New Roman"/>
              </a:rPr>
              <a:t>Mixed Fabric Switch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3880" y="1370520"/>
            <a:ext cx="51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EO and OOO Cross-connect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9480" y="3429000"/>
            <a:ext cx="7620120" cy="1447920"/>
          </a:xfrm>
          <a:prstGeom prst="rect">
            <a:avLst/>
          </a:prstGeom>
          <a:noFill/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819760" y="3930480"/>
            <a:ext cx="6127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819760" y="3832200"/>
            <a:ext cx="7351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784520" y="3930480"/>
            <a:ext cx="4888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028960" y="3798720"/>
            <a:ext cx="4888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2395440" y="3568680"/>
            <a:ext cx="4525200" cy="542520"/>
            <a:chOff x="2395440" y="3568680"/>
            <a:chExt cx="4525200" cy="542520"/>
          </a:xfrm>
        </p:grpSpPr>
        <p:sp>
          <p:nvSpPr>
            <p:cNvPr id="301" name=""/>
            <p:cNvSpPr/>
            <p:nvPr/>
          </p:nvSpPr>
          <p:spPr>
            <a:xfrm flipH="1">
              <a:off x="2395440" y="3568680"/>
              <a:ext cx="356400" cy="542520"/>
            </a:xfrm>
            <a:custGeom>
              <a:avLst/>
              <a:gdLst/>
              <a:ahLst/>
              <a:rect l="l" t="t" r="r" b="b"/>
              <a:pathLst>
                <a:path w="195" h="815">
                  <a:moveTo>
                    <a:pt x="0" y="0"/>
                  </a:moveTo>
                  <a:lnTo>
                    <a:pt x="195" y="126"/>
                  </a:lnTo>
                  <a:lnTo>
                    <a:pt x="195" y="688"/>
                  </a:lnTo>
                  <a:lnTo>
                    <a:pt x="0" y="8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64240" y="3568680"/>
              <a:ext cx="356400" cy="542520"/>
            </a:xfrm>
            <a:custGeom>
              <a:avLst/>
              <a:gdLst/>
              <a:ahLst/>
              <a:rect l="l" t="t" r="r" b="b"/>
              <a:pathLst>
                <a:path w="195" h="815">
                  <a:moveTo>
                    <a:pt x="0" y="0"/>
                  </a:moveTo>
                  <a:lnTo>
                    <a:pt x="195" y="126"/>
                  </a:lnTo>
                  <a:lnTo>
                    <a:pt x="195" y="688"/>
                  </a:lnTo>
                  <a:lnTo>
                    <a:pt x="0" y="8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567440" y="2268360"/>
            <a:ext cx="5598360" cy="115920"/>
            <a:chOff x="1567440" y="2268360"/>
            <a:chExt cx="5598360" cy="115920"/>
          </a:xfrm>
        </p:grpSpPr>
        <p:sp>
          <p:nvSpPr>
            <p:cNvPr id="304" name=""/>
            <p:cNvSpPr/>
            <p:nvPr/>
          </p:nvSpPr>
          <p:spPr>
            <a:xfrm flipH="1">
              <a:off x="1567080" y="2268360"/>
              <a:ext cx="5598360" cy="720"/>
            </a:xfrm>
            <a:prstGeom prst="rect">
              <a:avLst/>
            </a:prstGeom>
            <a:solidFill>
              <a:srgbClr val="a20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567080" y="2269080"/>
              <a:ext cx="5598360" cy="720"/>
            </a:xfrm>
            <a:prstGeom prst="rect">
              <a:avLst/>
            </a:prstGeom>
            <a:solidFill>
              <a:srgbClr val="9e04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1567080" y="2269800"/>
              <a:ext cx="5598360" cy="720"/>
            </a:xfrm>
            <a:prstGeom prst="rect">
              <a:avLst/>
            </a:prstGeom>
            <a:solidFill>
              <a:srgbClr val="990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1567080" y="2270880"/>
              <a:ext cx="5598360" cy="720"/>
            </a:xfrm>
            <a:prstGeom prst="rect">
              <a:avLst/>
            </a:prstGeom>
            <a:solidFill>
              <a:srgbClr val="9405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1567080" y="2271600"/>
              <a:ext cx="5598360" cy="720"/>
            </a:xfrm>
            <a:prstGeom prst="rect">
              <a:avLst/>
            </a:prstGeom>
            <a:solidFill>
              <a:srgbClr val="900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1567080" y="2272320"/>
              <a:ext cx="5598360" cy="720"/>
            </a:xfrm>
            <a:prstGeom prst="rect">
              <a:avLst/>
            </a:prstGeom>
            <a:solidFill>
              <a:srgbClr val="8906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1567080" y="2273400"/>
              <a:ext cx="5598360" cy="360"/>
            </a:xfrm>
            <a:prstGeom prst="rect">
              <a:avLst/>
            </a:prstGeom>
            <a:solidFill>
              <a:srgbClr val="850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1567080" y="2273400"/>
              <a:ext cx="5598360" cy="1440"/>
            </a:xfrm>
            <a:prstGeom prst="rect">
              <a:avLst/>
            </a:prstGeom>
            <a:solidFill>
              <a:srgbClr val="8008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1567080" y="2275200"/>
              <a:ext cx="5598360" cy="360"/>
            </a:xfrm>
            <a:prstGeom prst="rect">
              <a:avLst/>
            </a:prstGeom>
            <a:solidFill>
              <a:srgbClr val="7b0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1567080" y="2275200"/>
              <a:ext cx="5598360" cy="720"/>
            </a:xfrm>
            <a:prstGeom prst="rect">
              <a:avLst/>
            </a:prstGeom>
            <a:solidFill>
              <a:srgbClr val="760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1567080" y="2275920"/>
              <a:ext cx="5598360" cy="720"/>
            </a:xfrm>
            <a:prstGeom prst="rect">
              <a:avLst/>
            </a:prstGeom>
            <a:solidFill>
              <a:srgbClr val="720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1567080" y="2277000"/>
              <a:ext cx="5598360" cy="720"/>
            </a:xfrm>
            <a:prstGeom prst="rect">
              <a:avLst/>
            </a:prstGeom>
            <a:solidFill>
              <a:srgbClr val="6d0a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1567080" y="2277720"/>
              <a:ext cx="5598360" cy="720"/>
            </a:xfrm>
            <a:prstGeom prst="rect">
              <a:avLst/>
            </a:prstGeom>
            <a:solidFill>
              <a:srgbClr val="670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1567080" y="2278440"/>
              <a:ext cx="5598360" cy="720"/>
            </a:xfrm>
            <a:prstGeom prst="rect">
              <a:avLst/>
            </a:prstGeom>
            <a:solidFill>
              <a:srgbClr val="620c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1567080" y="2279520"/>
              <a:ext cx="5598360" cy="720"/>
            </a:xfrm>
            <a:prstGeom prst="rect">
              <a:avLst/>
            </a:prstGeom>
            <a:solidFill>
              <a:srgbClr val="5d0d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567080" y="2280240"/>
              <a:ext cx="5598360" cy="360"/>
            </a:xfrm>
            <a:prstGeom prst="rect">
              <a:avLst/>
            </a:prstGeom>
            <a:solidFill>
              <a:srgbClr val="590d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567080" y="2280240"/>
              <a:ext cx="5598360" cy="720"/>
            </a:xfrm>
            <a:prstGeom prst="rect">
              <a:avLst/>
            </a:prstGeom>
            <a:solidFill>
              <a:srgbClr val="540e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1567080" y="2281320"/>
              <a:ext cx="5598360" cy="1440"/>
            </a:xfrm>
            <a:prstGeom prst="rect">
              <a:avLst/>
            </a:prstGeom>
            <a:solidFill>
              <a:srgbClr val="4e0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1567080" y="2282760"/>
              <a:ext cx="5598360" cy="360"/>
            </a:xfrm>
            <a:prstGeom prst="rect">
              <a:avLst/>
            </a:prstGeom>
            <a:solidFill>
              <a:srgbClr val="490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567080" y="2282760"/>
              <a:ext cx="5598360" cy="720"/>
            </a:xfrm>
            <a:prstGeom prst="rect">
              <a:avLst/>
            </a:prstGeom>
            <a:solidFill>
              <a:srgbClr val="4410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1567080" y="2283480"/>
              <a:ext cx="5598360" cy="720"/>
            </a:xfrm>
            <a:prstGeom prst="rect">
              <a:avLst/>
            </a:prstGeom>
            <a:solidFill>
              <a:srgbClr val="401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1567080" y="2284560"/>
              <a:ext cx="5598360" cy="720"/>
            </a:xfrm>
            <a:prstGeom prst="rect">
              <a:avLst/>
            </a:prstGeom>
            <a:solidFill>
              <a:srgbClr val="3b1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1567080" y="2285280"/>
              <a:ext cx="5598360" cy="720"/>
            </a:xfrm>
            <a:prstGeom prst="rect">
              <a:avLst/>
            </a:prstGeom>
            <a:solidFill>
              <a:srgbClr val="351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1567080" y="2286000"/>
              <a:ext cx="5598360" cy="720"/>
            </a:xfrm>
            <a:prstGeom prst="rect">
              <a:avLst/>
            </a:prstGeom>
            <a:solidFill>
              <a:srgbClr val="301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567080" y="2287080"/>
              <a:ext cx="5598360" cy="720"/>
            </a:xfrm>
            <a:prstGeom prst="rect">
              <a:avLst/>
            </a:prstGeom>
            <a:solidFill>
              <a:srgbClr val="2b1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567080" y="2287800"/>
              <a:ext cx="5598360" cy="360"/>
            </a:xfrm>
            <a:prstGeom prst="rect">
              <a:avLst/>
            </a:prstGeom>
            <a:solidFill>
              <a:srgbClr val="271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1567080" y="2287800"/>
              <a:ext cx="5598360" cy="1440"/>
            </a:xfrm>
            <a:prstGeom prst="rect">
              <a:avLst/>
            </a:prstGeom>
            <a:solidFill>
              <a:srgbClr val="221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1567080" y="2289600"/>
              <a:ext cx="5598360" cy="360"/>
            </a:xfrm>
            <a:prstGeom prst="rect">
              <a:avLst/>
            </a:prstGeom>
            <a:solidFill>
              <a:srgbClr val="1d1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1567080" y="2289600"/>
              <a:ext cx="5598360" cy="720"/>
            </a:xfrm>
            <a:prstGeom prst="rect">
              <a:avLst/>
            </a:prstGeom>
            <a:solidFill>
              <a:srgbClr val="1816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1567080" y="2290320"/>
              <a:ext cx="5598360" cy="720"/>
            </a:xfrm>
            <a:prstGeom prst="rect">
              <a:avLst/>
            </a:prstGeom>
            <a:solidFill>
              <a:srgbClr val="1217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1567080" y="2291400"/>
              <a:ext cx="5598360" cy="720"/>
            </a:xfrm>
            <a:prstGeom prst="rect">
              <a:avLst/>
            </a:prstGeom>
            <a:solidFill>
              <a:srgbClr val="0d18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567080" y="2292120"/>
              <a:ext cx="5598360" cy="720"/>
            </a:xfrm>
            <a:prstGeom prst="rect">
              <a:avLst/>
            </a:prstGeom>
            <a:solidFill>
              <a:srgbClr val="0918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1567080" y="2292840"/>
              <a:ext cx="5598360" cy="720"/>
            </a:xfrm>
            <a:prstGeom prst="rect">
              <a:avLst/>
            </a:prstGeom>
            <a:solidFill>
              <a:srgbClr val="081c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1567080" y="2293920"/>
              <a:ext cx="5598360" cy="720"/>
            </a:xfrm>
            <a:prstGeom prst="rect">
              <a:avLst/>
            </a:prstGeom>
            <a:solidFill>
              <a:srgbClr val="0921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1567080" y="2294640"/>
              <a:ext cx="5598360" cy="360"/>
            </a:xfrm>
            <a:prstGeom prst="rect">
              <a:avLst/>
            </a:prstGeom>
            <a:solidFill>
              <a:srgbClr val="0a2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1567080" y="2294640"/>
              <a:ext cx="5598360" cy="720"/>
            </a:xfrm>
            <a:prstGeom prst="rect">
              <a:avLst/>
            </a:prstGeom>
            <a:solidFill>
              <a:srgbClr val="0a2a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1567080" y="2295720"/>
              <a:ext cx="5598360" cy="720"/>
            </a:xfrm>
            <a:prstGeom prst="rect">
              <a:avLst/>
            </a:prstGeom>
            <a:solidFill>
              <a:srgbClr val="0b2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1567080" y="2296440"/>
              <a:ext cx="5598360" cy="720"/>
            </a:xfrm>
            <a:prstGeom prst="rect">
              <a:avLst/>
            </a:prstGeom>
            <a:solidFill>
              <a:srgbClr val="0c3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1567080" y="2297160"/>
              <a:ext cx="5598360" cy="720"/>
            </a:xfrm>
            <a:prstGeom prst="rect">
              <a:avLst/>
            </a:prstGeom>
            <a:solidFill>
              <a:srgbClr val="0d3a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1567080" y="2298240"/>
              <a:ext cx="5598360" cy="360"/>
            </a:xfrm>
            <a:prstGeom prst="rect">
              <a:avLst/>
            </a:prstGeom>
            <a:solidFill>
              <a:srgbClr val="0d3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1567080" y="2298240"/>
              <a:ext cx="5598360" cy="720"/>
            </a:xfrm>
            <a:prstGeom prst="rect">
              <a:avLst/>
            </a:prstGeom>
            <a:solidFill>
              <a:srgbClr val="0e4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1567080" y="2298960"/>
              <a:ext cx="5598360" cy="720"/>
            </a:xfrm>
            <a:prstGeom prst="rect">
              <a:avLst/>
            </a:prstGeom>
            <a:solidFill>
              <a:srgbClr val="0f47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1567080" y="2300040"/>
              <a:ext cx="5598360" cy="720"/>
            </a:xfrm>
            <a:prstGeom prst="rect">
              <a:avLst/>
            </a:prstGeom>
            <a:solidFill>
              <a:srgbClr val="104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1567080" y="2300760"/>
              <a:ext cx="5598360" cy="720"/>
            </a:xfrm>
            <a:prstGeom prst="rect">
              <a:avLst/>
            </a:prstGeom>
            <a:solidFill>
              <a:srgbClr val="105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1567080" y="2301480"/>
              <a:ext cx="5598360" cy="360"/>
            </a:xfrm>
            <a:prstGeom prst="rect">
              <a:avLst/>
            </a:prstGeom>
            <a:solidFill>
              <a:srgbClr val="115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1567080" y="2301480"/>
              <a:ext cx="5598360" cy="720"/>
            </a:xfrm>
            <a:prstGeom prst="rect">
              <a:avLst/>
            </a:prstGeom>
            <a:solidFill>
              <a:srgbClr val="125c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1567080" y="2302560"/>
              <a:ext cx="5598360" cy="720"/>
            </a:xfrm>
            <a:prstGeom prst="rect">
              <a:avLst/>
            </a:prstGeom>
            <a:solidFill>
              <a:srgbClr val="1361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1567080" y="2303280"/>
              <a:ext cx="5598360" cy="360"/>
            </a:xfrm>
            <a:prstGeom prst="rect">
              <a:avLst/>
            </a:prstGeom>
            <a:solidFill>
              <a:srgbClr val="136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1567080" y="2303280"/>
              <a:ext cx="5598360" cy="1440"/>
            </a:xfrm>
            <a:prstGeom prst="rect">
              <a:avLst/>
            </a:prstGeom>
            <a:solidFill>
              <a:srgbClr val="146a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1567080" y="2305080"/>
              <a:ext cx="5598360" cy="360"/>
            </a:xfrm>
            <a:prstGeom prst="rect">
              <a:avLst/>
            </a:prstGeom>
            <a:solidFill>
              <a:srgbClr val="156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1567080" y="2305080"/>
              <a:ext cx="5598360" cy="720"/>
            </a:xfrm>
            <a:prstGeom prst="rect">
              <a:avLst/>
            </a:prstGeom>
            <a:solidFill>
              <a:srgbClr val="1674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1567080" y="2305800"/>
              <a:ext cx="5598360" cy="720"/>
            </a:xfrm>
            <a:prstGeom prst="rect">
              <a:avLst/>
            </a:prstGeom>
            <a:solidFill>
              <a:srgbClr val="177a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1567080" y="2306520"/>
              <a:ext cx="5598360" cy="360"/>
            </a:xfrm>
            <a:prstGeom prst="rect">
              <a:avLst/>
            </a:prstGeom>
            <a:solidFill>
              <a:srgbClr val="177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1567080" y="2306520"/>
              <a:ext cx="5598360" cy="1440"/>
            </a:xfrm>
            <a:prstGeom prst="rect">
              <a:avLst/>
            </a:prstGeom>
            <a:solidFill>
              <a:srgbClr val="1882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1567080" y="2308320"/>
              <a:ext cx="5598360" cy="360"/>
            </a:xfrm>
            <a:prstGeom prst="rect">
              <a:avLst/>
            </a:prstGeom>
            <a:solidFill>
              <a:srgbClr val="1987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1567080" y="2308320"/>
              <a:ext cx="5598360" cy="720"/>
            </a:xfrm>
            <a:prstGeom prst="rect">
              <a:avLst/>
            </a:prstGeom>
            <a:solidFill>
              <a:srgbClr val="1a8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1567080" y="2309040"/>
              <a:ext cx="5598360" cy="720"/>
            </a:xfrm>
            <a:prstGeom prst="rect">
              <a:avLst/>
            </a:prstGeom>
            <a:solidFill>
              <a:srgbClr val="2291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1567080" y="2310120"/>
              <a:ext cx="5598360" cy="720"/>
            </a:xfrm>
            <a:prstGeom prst="rect">
              <a:avLst/>
            </a:prstGeom>
            <a:solidFill>
              <a:srgbClr val="2a9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1567080" y="2310840"/>
              <a:ext cx="5598360" cy="720"/>
            </a:xfrm>
            <a:prstGeom prst="rect">
              <a:avLst/>
            </a:prstGeom>
            <a:solidFill>
              <a:srgbClr val="369a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1567080" y="2311560"/>
              <a:ext cx="5598360" cy="720"/>
            </a:xfrm>
            <a:prstGeom prst="rect">
              <a:avLst/>
            </a:prstGeom>
            <a:solidFill>
              <a:srgbClr val="3e9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1567080" y="2312640"/>
              <a:ext cx="5598360" cy="720"/>
            </a:xfrm>
            <a:prstGeom prst="rect">
              <a:avLst/>
            </a:prstGeom>
            <a:solidFill>
              <a:srgbClr val="46a3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1567080" y="2313360"/>
              <a:ext cx="5598360" cy="720"/>
            </a:xfrm>
            <a:prstGeom prst="rect">
              <a:avLst/>
            </a:prstGeom>
            <a:solidFill>
              <a:srgbClr val="52a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1567080" y="2314440"/>
              <a:ext cx="5598360" cy="720"/>
            </a:xfrm>
            <a:prstGeom prst="rect">
              <a:avLst/>
            </a:prstGeom>
            <a:solidFill>
              <a:srgbClr val="5dae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1567080" y="2315160"/>
              <a:ext cx="5598360" cy="720"/>
            </a:xfrm>
            <a:prstGeom prst="rect">
              <a:avLst/>
            </a:prstGeom>
            <a:solidFill>
              <a:srgbClr val="65b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1567080" y="2315880"/>
              <a:ext cx="5598360" cy="720"/>
            </a:xfrm>
            <a:prstGeom prst="rect">
              <a:avLst/>
            </a:prstGeom>
            <a:solidFill>
              <a:srgbClr val="6eb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1567080" y="2316960"/>
              <a:ext cx="5598360" cy="720"/>
            </a:xfrm>
            <a:prstGeom prst="rect">
              <a:avLst/>
            </a:prstGeom>
            <a:solidFill>
              <a:srgbClr val="79b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1567080" y="2317680"/>
              <a:ext cx="5598360" cy="360"/>
            </a:xfrm>
            <a:prstGeom prst="rect">
              <a:avLst/>
            </a:prstGeom>
            <a:solidFill>
              <a:srgbClr val="81c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1567080" y="2317680"/>
              <a:ext cx="5598360" cy="1440"/>
            </a:xfrm>
            <a:prstGeom prst="rect">
              <a:avLst/>
            </a:prstGeom>
            <a:solidFill>
              <a:srgbClr val="8a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1567080" y="2319480"/>
              <a:ext cx="5598360" cy="720"/>
            </a:xfrm>
            <a:prstGeom prst="rect">
              <a:avLst/>
            </a:prstGeom>
            <a:solidFill>
              <a:srgbClr val="95c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1567080" y="2320200"/>
              <a:ext cx="5598360" cy="360"/>
            </a:xfrm>
            <a:prstGeom prst="rect">
              <a:avLst/>
            </a:prstGeom>
            <a:solidFill>
              <a:srgbClr val="9dc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1567080" y="2320200"/>
              <a:ext cx="5598360" cy="720"/>
            </a:xfrm>
            <a:prstGeom prst="rect">
              <a:avLst/>
            </a:prstGeom>
            <a:solidFill>
              <a:srgbClr val="a6d2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567080" y="2321280"/>
              <a:ext cx="5598360" cy="1440"/>
            </a:xfrm>
            <a:prstGeom prst="rect">
              <a:avLst/>
            </a:prstGeom>
            <a:solidFill>
              <a:srgbClr val="b1d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1567080" y="2323080"/>
              <a:ext cx="5598360" cy="720"/>
            </a:xfrm>
            <a:prstGeom prst="rect">
              <a:avLst/>
            </a:prstGeom>
            <a:solidFill>
              <a:srgbClr val="bcde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1567080" y="2323800"/>
              <a:ext cx="5598360" cy="360"/>
            </a:xfrm>
            <a:prstGeom prst="rect">
              <a:avLst/>
            </a:prstGeom>
            <a:solidFill>
              <a:srgbClr val="c5e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1567080" y="2323800"/>
              <a:ext cx="5598360" cy="720"/>
            </a:xfrm>
            <a:prstGeom prst="rect">
              <a:avLst/>
            </a:prstGeom>
            <a:solidFill>
              <a:srgbClr val="cde6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1567080" y="2324520"/>
              <a:ext cx="5598360" cy="1440"/>
            </a:xfrm>
            <a:prstGeom prst="rect">
              <a:avLst/>
            </a:prstGeom>
            <a:solidFill>
              <a:srgbClr val="d8e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1567080" y="2326320"/>
              <a:ext cx="5598360" cy="360"/>
            </a:xfrm>
            <a:prstGeom prst="rect">
              <a:avLst/>
            </a:prstGeom>
            <a:solidFill>
              <a:srgbClr val="e1f0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1567080" y="2326320"/>
              <a:ext cx="5598360" cy="720"/>
            </a:xfrm>
            <a:prstGeom prst="rect">
              <a:avLst/>
            </a:prstGeom>
            <a:solidFill>
              <a:srgbClr val="e9f4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1567080" y="2327040"/>
              <a:ext cx="5598360" cy="720"/>
            </a:xfrm>
            <a:prstGeom prst="rect">
              <a:avLst/>
            </a:prstGeom>
            <a:solidFill>
              <a:srgbClr val="f4f9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1567080" y="2328120"/>
              <a:ext cx="5598360" cy="720"/>
            </a:xfrm>
            <a:prstGeom prst="rect">
              <a:avLst/>
            </a:prstGeom>
            <a:solidFill>
              <a:srgbClr val="fdf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567080" y="2328840"/>
              <a:ext cx="5598360" cy="720"/>
            </a:xfrm>
            <a:prstGeom prst="rect">
              <a:avLst/>
            </a:prstGeom>
            <a:solidFill>
              <a:srgbClr val="fe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1567080" y="2329560"/>
              <a:ext cx="5598360" cy="720"/>
            </a:xfrm>
            <a:prstGeom prst="rect">
              <a:avLst/>
            </a:prstGeom>
            <a:solidFill>
              <a:srgbClr val="fdf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1567080" y="2330640"/>
              <a:ext cx="5598360" cy="720"/>
            </a:xfrm>
            <a:prstGeom prst="rect">
              <a:avLst/>
            </a:prstGeom>
            <a:solidFill>
              <a:srgbClr val="fded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1567080" y="2331360"/>
              <a:ext cx="5598360" cy="720"/>
            </a:xfrm>
            <a:prstGeom prst="rect">
              <a:avLst/>
            </a:prstGeom>
            <a:solidFill>
              <a:srgbClr val="fce7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1567080" y="2332080"/>
              <a:ext cx="5598360" cy="360"/>
            </a:xfrm>
            <a:prstGeom prst="rect">
              <a:avLst/>
            </a:prstGeom>
            <a:solidFill>
              <a:srgbClr val="fce1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1567080" y="2332080"/>
              <a:ext cx="5598360" cy="1440"/>
            </a:xfrm>
            <a:prstGeom prst="rect">
              <a:avLst/>
            </a:prstGeom>
            <a:solidFill>
              <a:srgbClr val="fbdb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567080" y="2333880"/>
              <a:ext cx="5598360" cy="720"/>
            </a:xfrm>
            <a:prstGeom prst="rect">
              <a:avLst/>
            </a:prstGeom>
            <a:solidFill>
              <a:srgbClr val="fbd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1567080" y="2334600"/>
              <a:ext cx="5598360" cy="360"/>
            </a:xfrm>
            <a:prstGeom prst="rect">
              <a:avLst/>
            </a:prstGeom>
            <a:solidFill>
              <a:srgbClr val="fac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1567080" y="2334600"/>
              <a:ext cx="5598360" cy="720"/>
            </a:xfrm>
            <a:prstGeom prst="rect">
              <a:avLst/>
            </a:prstGeom>
            <a:solidFill>
              <a:srgbClr val="fac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1567080" y="2335680"/>
              <a:ext cx="5598360" cy="720"/>
            </a:xfrm>
            <a:prstGeom prst="rect">
              <a:avLst/>
            </a:prstGeom>
            <a:solidFill>
              <a:srgbClr val="f9c3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1567080" y="2336400"/>
              <a:ext cx="5598360" cy="720"/>
            </a:xfrm>
            <a:prstGeom prst="rect">
              <a:avLst/>
            </a:prstGeom>
            <a:solidFill>
              <a:srgbClr val="f9b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1567080" y="2337480"/>
              <a:ext cx="5598360" cy="720"/>
            </a:xfrm>
            <a:prstGeom prst="rect">
              <a:avLst/>
            </a:prstGeom>
            <a:solidFill>
              <a:srgbClr val="f8b5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1567080" y="2338200"/>
              <a:ext cx="5598360" cy="720"/>
            </a:xfrm>
            <a:prstGeom prst="rect">
              <a:avLst/>
            </a:prstGeom>
            <a:solidFill>
              <a:srgbClr val="f8b0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1567080" y="2338920"/>
              <a:ext cx="5598360" cy="720"/>
            </a:xfrm>
            <a:prstGeom prst="rect">
              <a:avLst/>
            </a:prstGeom>
            <a:solidFill>
              <a:srgbClr val="f7a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1567080" y="2340000"/>
              <a:ext cx="5598360" cy="720"/>
            </a:xfrm>
            <a:prstGeom prst="rect">
              <a:avLst/>
            </a:prstGeom>
            <a:solidFill>
              <a:srgbClr val="f7a4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1567080" y="2340720"/>
              <a:ext cx="5598360" cy="720"/>
            </a:xfrm>
            <a:prstGeom prst="rect">
              <a:avLst/>
            </a:prstGeom>
            <a:solidFill>
              <a:srgbClr val="f69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1567080" y="2341800"/>
              <a:ext cx="5598360" cy="360"/>
            </a:xfrm>
            <a:prstGeom prst="rect">
              <a:avLst/>
            </a:prstGeom>
            <a:solidFill>
              <a:srgbClr val="f59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1567080" y="2341800"/>
              <a:ext cx="5598360" cy="720"/>
            </a:xfrm>
            <a:prstGeom prst="rect">
              <a:avLst/>
            </a:prstGeom>
            <a:solidFill>
              <a:srgbClr val="f59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1567080" y="2342520"/>
              <a:ext cx="5598360" cy="720"/>
            </a:xfrm>
            <a:prstGeom prst="rect">
              <a:avLst/>
            </a:prstGeom>
            <a:solidFill>
              <a:srgbClr val="f48b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1567080" y="2343600"/>
              <a:ext cx="5598360" cy="720"/>
            </a:xfrm>
            <a:prstGeom prst="rect">
              <a:avLst/>
            </a:prstGeom>
            <a:solidFill>
              <a:srgbClr val="f486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1567080" y="2344320"/>
              <a:ext cx="5598360" cy="720"/>
            </a:xfrm>
            <a:prstGeom prst="rect">
              <a:avLst/>
            </a:prstGeom>
            <a:solidFill>
              <a:srgbClr val="f38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1567080" y="2345040"/>
              <a:ext cx="5598360" cy="720"/>
            </a:xfrm>
            <a:prstGeom prst="rect">
              <a:avLst/>
            </a:prstGeom>
            <a:solidFill>
              <a:srgbClr val="f37a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1567080" y="2346120"/>
              <a:ext cx="5598360" cy="720"/>
            </a:xfrm>
            <a:prstGeom prst="rect">
              <a:avLst/>
            </a:prstGeom>
            <a:solidFill>
              <a:srgbClr val="f275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1567080" y="2346840"/>
              <a:ext cx="5598360" cy="720"/>
            </a:xfrm>
            <a:prstGeom prst="rect">
              <a:avLst/>
            </a:prstGeom>
            <a:solidFill>
              <a:srgbClr val="f26d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1567080" y="2347560"/>
              <a:ext cx="5598360" cy="720"/>
            </a:xfrm>
            <a:prstGeom prst="rect">
              <a:avLst/>
            </a:prstGeom>
            <a:solidFill>
              <a:srgbClr val="f16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1567080" y="2348640"/>
              <a:ext cx="5598360" cy="720"/>
            </a:xfrm>
            <a:prstGeom prst="rect">
              <a:avLst/>
            </a:prstGeom>
            <a:solidFill>
              <a:srgbClr val="f16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1567080" y="2349360"/>
              <a:ext cx="5598360" cy="360"/>
            </a:xfrm>
            <a:prstGeom prst="rect">
              <a:avLst/>
            </a:prstGeom>
            <a:solidFill>
              <a:srgbClr val="f05c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1567080" y="2349360"/>
              <a:ext cx="5598360" cy="720"/>
            </a:xfrm>
            <a:prstGeom prst="rect">
              <a:avLst/>
            </a:prstGeom>
            <a:solidFill>
              <a:srgbClr val="f056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1567080" y="2350080"/>
              <a:ext cx="5598360" cy="1440"/>
            </a:xfrm>
            <a:prstGeom prst="rect">
              <a:avLst/>
            </a:prstGeom>
            <a:solidFill>
              <a:srgbClr val="ef4f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1567080" y="2351880"/>
              <a:ext cx="5598360" cy="360"/>
            </a:xfrm>
            <a:prstGeom prst="rect">
              <a:avLst/>
            </a:prstGeom>
            <a:solidFill>
              <a:srgbClr val="ee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1567080" y="2351880"/>
              <a:ext cx="5598360" cy="720"/>
            </a:xfrm>
            <a:prstGeom prst="rect">
              <a:avLst/>
            </a:prstGeom>
            <a:solidFill>
              <a:srgbClr val="ee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1567080" y="2352600"/>
              <a:ext cx="5598360" cy="720"/>
            </a:xfrm>
            <a:prstGeom prst="rect">
              <a:avLst/>
            </a:prstGeom>
            <a:solidFill>
              <a:srgbClr val="ed3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1567080" y="2353680"/>
              <a:ext cx="5598360" cy="720"/>
            </a:xfrm>
            <a:prstGeom prst="rect">
              <a:avLst/>
            </a:prstGeom>
            <a:solidFill>
              <a:srgbClr val="ed3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1567080" y="2354400"/>
              <a:ext cx="5598360" cy="360"/>
            </a:xfrm>
            <a:prstGeom prst="rect">
              <a:avLst/>
            </a:prstGeom>
            <a:solidFill>
              <a:srgbClr val="ed3b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1567080" y="2354400"/>
              <a:ext cx="5598360" cy="1440"/>
            </a:xfrm>
            <a:prstGeom prst="rect">
              <a:avLst/>
            </a:prstGeom>
            <a:solidFill>
              <a:srgbClr val="ed39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1567080" y="2356200"/>
              <a:ext cx="5598360" cy="360"/>
            </a:xfrm>
            <a:prstGeom prst="rect">
              <a:avLst/>
            </a:prstGeom>
            <a:solidFill>
              <a:srgbClr val="ec3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1567080" y="2356200"/>
              <a:ext cx="5598360" cy="720"/>
            </a:xfrm>
            <a:prstGeom prst="rect">
              <a:avLst/>
            </a:prstGeom>
            <a:solidFill>
              <a:srgbClr val="ec3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1567080" y="2356920"/>
              <a:ext cx="5598360" cy="720"/>
            </a:xfrm>
            <a:prstGeom prst="rect">
              <a:avLst/>
            </a:prstGeom>
            <a:solidFill>
              <a:srgbClr val="ec3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1567080" y="2357640"/>
              <a:ext cx="5598360" cy="720"/>
            </a:xfrm>
            <a:prstGeom prst="rect">
              <a:avLst/>
            </a:prstGeom>
            <a:solidFill>
              <a:srgbClr val="ec33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1567080" y="2358720"/>
              <a:ext cx="5598360" cy="720"/>
            </a:xfrm>
            <a:prstGeom prst="rect">
              <a:avLst/>
            </a:prstGeom>
            <a:solidFill>
              <a:srgbClr val="eb31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567080" y="2359440"/>
              <a:ext cx="5598360" cy="720"/>
            </a:xfrm>
            <a:prstGeom prst="rect">
              <a:avLst/>
            </a:prstGeom>
            <a:solidFill>
              <a:srgbClr val="eb2f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1567080" y="2360520"/>
              <a:ext cx="5598360" cy="360"/>
            </a:xfrm>
            <a:prstGeom prst="rect">
              <a:avLst/>
            </a:prstGeom>
            <a:solidFill>
              <a:srgbClr val="eb2e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1567080" y="2360520"/>
              <a:ext cx="5598360" cy="720"/>
            </a:xfrm>
            <a:prstGeom prst="rect">
              <a:avLst/>
            </a:prstGeom>
            <a:solidFill>
              <a:srgbClr val="eb2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1567080" y="2361240"/>
              <a:ext cx="5598360" cy="720"/>
            </a:xfrm>
            <a:prstGeom prst="rect">
              <a:avLst/>
            </a:prstGeom>
            <a:solidFill>
              <a:srgbClr val="ea2a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1567080" y="2362320"/>
              <a:ext cx="5598360" cy="720"/>
            </a:xfrm>
            <a:prstGeom prst="rect">
              <a:avLst/>
            </a:prstGeom>
            <a:solidFill>
              <a:srgbClr val="ea29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1567080" y="2363040"/>
              <a:ext cx="5598360" cy="720"/>
            </a:xfrm>
            <a:prstGeom prst="rect">
              <a:avLst/>
            </a:prstGeom>
            <a:solidFill>
              <a:srgbClr val="ea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1567080" y="2363760"/>
              <a:ext cx="5598360" cy="720"/>
            </a:xfrm>
            <a:prstGeom prst="rect">
              <a:avLst/>
            </a:prstGeom>
            <a:solidFill>
              <a:srgbClr val="ea2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1567080" y="2364840"/>
              <a:ext cx="5598360" cy="360"/>
            </a:xfrm>
            <a:prstGeom prst="rect">
              <a:avLst/>
            </a:prstGeom>
            <a:solidFill>
              <a:srgbClr val="e923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1567080" y="2364840"/>
              <a:ext cx="5598360" cy="1440"/>
            </a:xfrm>
            <a:prstGeom prst="rect">
              <a:avLst/>
            </a:prstGeom>
            <a:solidFill>
              <a:srgbClr val="e92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1567080" y="2366640"/>
              <a:ext cx="5598360" cy="360"/>
            </a:xfrm>
            <a:prstGeom prst="rect">
              <a:avLst/>
            </a:prstGeom>
            <a:solidFill>
              <a:srgbClr val="e92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1567080" y="2366640"/>
              <a:ext cx="5598360" cy="720"/>
            </a:xfrm>
            <a:prstGeom prst="rect">
              <a:avLst/>
            </a:prstGeom>
            <a:solidFill>
              <a:srgbClr val="e91e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1567080" y="2367360"/>
              <a:ext cx="5598360" cy="720"/>
            </a:xfrm>
            <a:prstGeom prst="rect">
              <a:avLst/>
            </a:prstGeom>
            <a:solidFill>
              <a:srgbClr val="e81d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1567080" y="2368080"/>
              <a:ext cx="5598360" cy="720"/>
            </a:xfrm>
            <a:prstGeom prst="rect">
              <a:avLst/>
            </a:prstGeom>
            <a:solidFill>
              <a:srgbClr val="e81b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1567080" y="2369160"/>
              <a:ext cx="5598360" cy="360"/>
            </a:xfrm>
            <a:prstGeom prst="rect">
              <a:avLst/>
            </a:prstGeom>
            <a:solidFill>
              <a:srgbClr val="e81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1567080" y="2369160"/>
              <a:ext cx="5598360" cy="1440"/>
            </a:xfrm>
            <a:prstGeom prst="rect">
              <a:avLst/>
            </a:prstGeom>
            <a:solidFill>
              <a:srgbClr val="e81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1567080" y="2370600"/>
              <a:ext cx="5598360" cy="360"/>
            </a:xfrm>
            <a:prstGeom prst="rect">
              <a:avLst/>
            </a:prstGeom>
            <a:solidFill>
              <a:srgbClr val="e71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1567080" y="2370600"/>
              <a:ext cx="5598360" cy="720"/>
            </a:xfrm>
            <a:prstGeom prst="rect">
              <a:avLst/>
            </a:prstGeom>
            <a:solidFill>
              <a:srgbClr val="e315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1567080" y="2371320"/>
              <a:ext cx="5598360" cy="720"/>
            </a:xfrm>
            <a:prstGeom prst="rect">
              <a:avLst/>
            </a:prstGeom>
            <a:solidFill>
              <a:srgbClr val="e014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1567080" y="2372400"/>
              <a:ext cx="5598360" cy="720"/>
            </a:xfrm>
            <a:prstGeom prst="rect">
              <a:avLst/>
            </a:prstGeom>
            <a:solidFill>
              <a:srgbClr val="dd13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1567080" y="2373120"/>
              <a:ext cx="5598360" cy="720"/>
            </a:xfrm>
            <a:prstGeom prst="rect">
              <a:avLst/>
            </a:prstGeom>
            <a:solidFill>
              <a:srgbClr val="d81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1567080" y="2373840"/>
              <a:ext cx="5598360" cy="720"/>
            </a:xfrm>
            <a:prstGeom prst="rect">
              <a:avLst/>
            </a:prstGeom>
            <a:solidFill>
              <a:srgbClr val="d310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1567080" y="2374920"/>
              <a:ext cx="5598360" cy="720"/>
            </a:xfrm>
            <a:prstGeom prst="rect">
              <a:avLst/>
            </a:prstGeom>
            <a:solidFill>
              <a:srgbClr val="cf0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1567080" y="2375640"/>
              <a:ext cx="5598360" cy="720"/>
            </a:xfrm>
            <a:prstGeom prst="rect">
              <a:avLst/>
            </a:prstGeom>
            <a:solidFill>
              <a:srgbClr val="cb0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1567080" y="2376360"/>
              <a:ext cx="5598360" cy="720"/>
            </a:xfrm>
            <a:prstGeom prst="rect">
              <a:avLst/>
            </a:prstGeom>
            <a:solidFill>
              <a:srgbClr val="c80d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1567080" y="2377440"/>
              <a:ext cx="5598360" cy="720"/>
            </a:xfrm>
            <a:prstGeom prst="rect">
              <a:avLst/>
            </a:prstGeom>
            <a:solidFill>
              <a:srgbClr val="c30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1567080" y="2378160"/>
              <a:ext cx="5598360" cy="720"/>
            </a:xfrm>
            <a:prstGeom prst="rect">
              <a:avLst/>
            </a:prstGeom>
            <a:solidFill>
              <a:srgbClr val="bf0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1567080" y="2379240"/>
              <a:ext cx="5598360" cy="720"/>
            </a:xfrm>
            <a:prstGeom prst="rect">
              <a:avLst/>
            </a:prstGeom>
            <a:solidFill>
              <a:srgbClr val="ba0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1567080" y="2379960"/>
              <a:ext cx="5598360" cy="720"/>
            </a:xfrm>
            <a:prstGeom prst="rect">
              <a:avLst/>
            </a:prstGeom>
            <a:solidFill>
              <a:srgbClr val="b70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1567080" y="2381040"/>
              <a:ext cx="5598360" cy="720"/>
            </a:xfrm>
            <a:prstGeom prst="rect">
              <a:avLst/>
            </a:prstGeom>
            <a:solidFill>
              <a:srgbClr val="b307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1567080" y="2381760"/>
              <a:ext cx="5598360" cy="720"/>
            </a:xfrm>
            <a:prstGeom prst="rect">
              <a:avLst/>
            </a:prstGeom>
            <a:solidFill>
              <a:srgbClr val="af0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1567080" y="2382480"/>
              <a:ext cx="5598360" cy="720"/>
            </a:xfrm>
            <a:prstGeom prst="rect">
              <a:avLst/>
            </a:prstGeom>
            <a:solidFill>
              <a:srgbClr val="aa0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1567080" y="2383560"/>
              <a:ext cx="5598360" cy="720"/>
            </a:xfrm>
            <a:prstGeom prst="rect">
              <a:avLst/>
            </a:prstGeom>
            <a:solidFill>
              <a:srgbClr val="a70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1543680" y="2976480"/>
            <a:ext cx="5598360" cy="115920"/>
            <a:chOff x="1543680" y="2976480"/>
            <a:chExt cx="5598360" cy="115920"/>
          </a:xfrm>
        </p:grpSpPr>
        <p:sp>
          <p:nvSpPr>
            <p:cNvPr id="457" name=""/>
            <p:cNvSpPr/>
            <p:nvPr/>
          </p:nvSpPr>
          <p:spPr>
            <a:xfrm flipH="1">
              <a:off x="1543320" y="2976480"/>
              <a:ext cx="5598360" cy="720"/>
            </a:xfrm>
            <a:prstGeom prst="rect">
              <a:avLst/>
            </a:prstGeom>
            <a:solidFill>
              <a:srgbClr val="a20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1543320" y="2977200"/>
              <a:ext cx="5598360" cy="720"/>
            </a:xfrm>
            <a:prstGeom prst="rect">
              <a:avLst/>
            </a:prstGeom>
            <a:solidFill>
              <a:srgbClr val="9e04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1543320" y="2977920"/>
              <a:ext cx="5598360" cy="720"/>
            </a:xfrm>
            <a:prstGeom prst="rect">
              <a:avLst/>
            </a:prstGeom>
            <a:solidFill>
              <a:srgbClr val="990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1543320" y="2979000"/>
              <a:ext cx="5598360" cy="720"/>
            </a:xfrm>
            <a:prstGeom prst="rect">
              <a:avLst/>
            </a:prstGeom>
            <a:solidFill>
              <a:srgbClr val="9405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1543320" y="2979720"/>
              <a:ext cx="5598360" cy="720"/>
            </a:xfrm>
            <a:prstGeom prst="rect">
              <a:avLst/>
            </a:prstGeom>
            <a:solidFill>
              <a:srgbClr val="900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1543320" y="2980440"/>
              <a:ext cx="5598360" cy="720"/>
            </a:xfrm>
            <a:prstGeom prst="rect">
              <a:avLst/>
            </a:prstGeom>
            <a:solidFill>
              <a:srgbClr val="8906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1543320" y="2981520"/>
              <a:ext cx="5598360" cy="360"/>
            </a:xfrm>
            <a:prstGeom prst="rect">
              <a:avLst/>
            </a:prstGeom>
            <a:solidFill>
              <a:srgbClr val="850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1543320" y="2981520"/>
              <a:ext cx="5598360" cy="1440"/>
            </a:xfrm>
            <a:prstGeom prst="rect">
              <a:avLst/>
            </a:prstGeom>
            <a:solidFill>
              <a:srgbClr val="8008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1543320" y="2983320"/>
              <a:ext cx="5598360" cy="360"/>
            </a:xfrm>
            <a:prstGeom prst="rect">
              <a:avLst/>
            </a:prstGeom>
            <a:solidFill>
              <a:srgbClr val="7b0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543320" y="2983320"/>
              <a:ext cx="5598360" cy="720"/>
            </a:xfrm>
            <a:prstGeom prst="rect">
              <a:avLst/>
            </a:prstGeom>
            <a:solidFill>
              <a:srgbClr val="760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1543320" y="2984040"/>
              <a:ext cx="5598360" cy="720"/>
            </a:xfrm>
            <a:prstGeom prst="rect">
              <a:avLst/>
            </a:prstGeom>
            <a:solidFill>
              <a:srgbClr val="720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1543320" y="2985120"/>
              <a:ext cx="5598360" cy="720"/>
            </a:xfrm>
            <a:prstGeom prst="rect">
              <a:avLst/>
            </a:prstGeom>
            <a:solidFill>
              <a:srgbClr val="6d0a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1543320" y="2985840"/>
              <a:ext cx="5598360" cy="720"/>
            </a:xfrm>
            <a:prstGeom prst="rect">
              <a:avLst/>
            </a:prstGeom>
            <a:solidFill>
              <a:srgbClr val="670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1543320" y="2986560"/>
              <a:ext cx="5598360" cy="720"/>
            </a:xfrm>
            <a:prstGeom prst="rect">
              <a:avLst/>
            </a:prstGeom>
            <a:solidFill>
              <a:srgbClr val="620c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1543320" y="2987640"/>
              <a:ext cx="5598360" cy="720"/>
            </a:xfrm>
            <a:prstGeom prst="rect">
              <a:avLst/>
            </a:prstGeom>
            <a:solidFill>
              <a:srgbClr val="5d0d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1543320" y="2988360"/>
              <a:ext cx="5598360" cy="360"/>
            </a:xfrm>
            <a:prstGeom prst="rect">
              <a:avLst/>
            </a:prstGeom>
            <a:solidFill>
              <a:srgbClr val="590d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1543320" y="2988360"/>
              <a:ext cx="5598360" cy="720"/>
            </a:xfrm>
            <a:prstGeom prst="rect">
              <a:avLst/>
            </a:prstGeom>
            <a:solidFill>
              <a:srgbClr val="540e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1543320" y="2989440"/>
              <a:ext cx="5598360" cy="1440"/>
            </a:xfrm>
            <a:prstGeom prst="rect">
              <a:avLst/>
            </a:prstGeom>
            <a:solidFill>
              <a:srgbClr val="4e0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1543320" y="2990880"/>
              <a:ext cx="5598360" cy="360"/>
            </a:xfrm>
            <a:prstGeom prst="rect">
              <a:avLst/>
            </a:prstGeom>
            <a:solidFill>
              <a:srgbClr val="490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1543320" y="2990880"/>
              <a:ext cx="5598360" cy="720"/>
            </a:xfrm>
            <a:prstGeom prst="rect">
              <a:avLst/>
            </a:prstGeom>
            <a:solidFill>
              <a:srgbClr val="4410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1543320" y="2991600"/>
              <a:ext cx="5598360" cy="720"/>
            </a:xfrm>
            <a:prstGeom prst="rect">
              <a:avLst/>
            </a:prstGeom>
            <a:solidFill>
              <a:srgbClr val="401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1543320" y="2992680"/>
              <a:ext cx="5598360" cy="720"/>
            </a:xfrm>
            <a:prstGeom prst="rect">
              <a:avLst/>
            </a:prstGeom>
            <a:solidFill>
              <a:srgbClr val="3b1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1543320" y="2993400"/>
              <a:ext cx="5598360" cy="720"/>
            </a:xfrm>
            <a:prstGeom prst="rect">
              <a:avLst/>
            </a:prstGeom>
            <a:solidFill>
              <a:srgbClr val="351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1543320" y="2994120"/>
              <a:ext cx="5598360" cy="720"/>
            </a:xfrm>
            <a:prstGeom prst="rect">
              <a:avLst/>
            </a:prstGeom>
            <a:solidFill>
              <a:srgbClr val="301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1543320" y="2995200"/>
              <a:ext cx="5598360" cy="720"/>
            </a:xfrm>
            <a:prstGeom prst="rect">
              <a:avLst/>
            </a:prstGeom>
            <a:solidFill>
              <a:srgbClr val="2b1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1543320" y="2995920"/>
              <a:ext cx="5598360" cy="360"/>
            </a:xfrm>
            <a:prstGeom prst="rect">
              <a:avLst/>
            </a:prstGeom>
            <a:solidFill>
              <a:srgbClr val="271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1543320" y="2995920"/>
              <a:ext cx="5598360" cy="1440"/>
            </a:xfrm>
            <a:prstGeom prst="rect">
              <a:avLst/>
            </a:prstGeom>
            <a:solidFill>
              <a:srgbClr val="221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1543320" y="2997720"/>
              <a:ext cx="5598360" cy="360"/>
            </a:xfrm>
            <a:prstGeom prst="rect">
              <a:avLst/>
            </a:prstGeom>
            <a:solidFill>
              <a:srgbClr val="1d1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1543320" y="2997720"/>
              <a:ext cx="5598360" cy="720"/>
            </a:xfrm>
            <a:prstGeom prst="rect">
              <a:avLst/>
            </a:prstGeom>
            <a:solidFill>
              <a:srgbClr val="1816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1543320" y="2998440"/>
              <a:ext cx="5598360" cy="720"/>
            </a:xfrm>
            <a:prstGeom prst="rect">
              <a:avLst/>
            </a:prstGeom>
            <a:solidFill>
              <a:srgbClr val="1217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1543320" y="2999520"/>
              <a:ext cx="5598360" cy="720"/>
            </a:xfrm>
            <a:prstGeom prst="rect">
              <a:avLst/>
            </a:prstGeom>
            <a:solidFill>
              <a:srgbClr val="0d18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1543320" y="3000240"/>
              <a:ext cx="5598360" cy="720"/>
            </a:xfrm>
            <a:prstGeom prst="rect">
              <a:avLst/>
            </a:prstGeom>
            <a:solidFill>
              <a:srgbClr val="0918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1543320" y="3000960"/>
              <a:ext cx="5598360" cy="720"/>
            </a:xfrm>
            <a:prstGeom prst="rect">
              <a:avLst/>
            </a:prstGeom>
            <a:solidFill>
              <a:srgbClr val="081c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1543320" y="3002040"/>
              <a:ext cx="5598360" cy="720"/>
            </a:xfrm>
            <a:prstGeom prst="rect">
              <a:avLst/>
            </a:prstGeom>
            <a:solidFill>
              <a:srgbClr val="0921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1543320" y="3002760"/>
              <a:ext cx="5598360" cy="360"/>
            </a:xfrm>
            <a:prstGeom prst="rect">
              <a:avLst/>
            </a:prstGeom>
            <a:solidFill>
              <a:srgbClr val="0a2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1543320" y="3002760"/>
              <a:ext cx="5598360" cy="720"/>
            </a:xfrm>
            <a:prstGeom prst="rect">
              <a:avLst/>
            </a:prstGeom>
            <a:solidFill>
              <a:srgbClr val="0a2a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1543320" y="3003840"/>
              <a:ext cx="5598360" cy="720"/>
            </a:xfrm>
            <a:prstGeom prst="rect">
              <a:avLst/>
            </a:prstGeom>
            <a:solidFill>
              <a:srgbClr val="0b2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1543320" y="3004560"/>
              <a:ext cx="5598360" cy="720"/>
            </a:xfrm>
            <a:prstGeom prst="rect">
              <a:avLst/>
            </a:prstGeom>
            <a:solidFill>
              <a:srgbClr val="0c3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1543320" y="3005280"/>
              <a:ext cx="5598360" cy="720"/>
            </a:xfrm>
            <a:prstGeom prst="rect">
              <a:avLst/>
            </a:prstGeom>
            <a:solidFill>
              <a:srgbClr val="0d3a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1543320" y="3006360"/>
              <a:ext cx="5598360" cy="360"/>
            </a:xfrm>
            <a:prstGeom prst="rect">
              <a:avLst/>
            </a:prstGeom>
            <a:solidFill>
              <a:srgbClr val="0d3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1543320" y="3006360"/>
              <a:ext cx="5598360" cy="720"/>
            </a:xfrm>
            <a:prstGeom prst="rect">
              <a:avLst/>
            </a:prstGeom>
            <a:solidFill>
              <a:srgbClr val="0e4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1543320" y="3007080"/>
              <a:ext cx="5598360" cy="720"/>
            </a:xfrm>
            <a:prstGeom prst="rect">
              <a:avLst/>
            </a:prstGeom>
            <a:solidFill>
              <a:srgbClr val="0f47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1543320" y="3008160"/>
              <a:ext cx="5598360" cy="720"/>
            </a:xfrm>
            <a:prstGeom prst="rect">
              <a:avLst/>
            </a:prstGeom>
            <a:solidFill>
              <a:srgbClr val="104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1543320" y="3008880"/>
              <a:ext cx="5598360" cy="720"/>
            </a:xfrm>
            <a:prstGeom prst="rect">
              <a:avLst/>
            </a:prstGeom>
            <a:solidFill>
              <a:srgbClr val="105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1543320" y="3009600"/>
              <a:ext cx="5598360" cy="360"/>
            </a:xfrm>
            <a:prstGeom prst="rect">
              <a:avLst/>
            </a:prstGeom>
            <a:solidFill>
              <a:srgbClr val="115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1543320" y="3009600"/>
              <a:ext cx="5598360" cy="720"/>
            </a:xfrm>
            <a:prstGeom prst="rect">
              <a:avLst/>
            </a:prstGeom>
            <a:solidFill>
              <a:srgbClr val="125c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1543320" y="3010680"/>
              <a:ext cx="5598360" cy="720"/>
            </a:xfrm>
            <a:prstGeom prst="rect">
              <a:avLst/>
            </a:prstGeom>
            <a:solidFill>
              <a:srgbClr val="1361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1543320" y="3011400"/>
              <a:ext cx="5598360" cy="360"/>
            </a:xfrm>
            <a:prstGeom prst="rect">
              <a:avLst/>
            </a:prstGeom>
            <a:solidFill>
              <a:srgbClr val="136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1543320" y="3011400"/>
              <a:ext cx="5598360" cy="1440"/>
            </a:xfrm>
            <a:prstGeom prst="rect">
              <a:avLst/>
            </a:prstGeom>
            <a:solidFill>
              <a:srgbClr val="146a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1543320" y="3013200"/>
              <a:ext cx="5598360" cy="360"/>
            </a:xfrm>
            <a:prstGeom prst="rect">
              <a:avLst/>
            </a:prstGeom>
            <a:solidFill>
              <a:srgbClr val="156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1543320" y="3013200"/>
              <a:ext cx="5598360" cy="720"/>
            </a:xfrm>
            <a:prstGeom prst="rect">
              <a:avLst/>
            </a:prstGeom>
            <a:solidFill>
              <a:srgbClr val="1674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1543320" y="3013920"/>
              <a:ext cx="5598360" cy="720"/>
            </a:xfrm>
            <a:prstGeom prst="rect">
              <a:avLst/>
            </a:prstGeom>
            <a:solidFill>
              <a:srgbClr val="177a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1543320" y="3014640"/>
              <a:ext cx="5598360" cy="360"/>
            </a:xfrm>
            <a:prstGeom prst="rect">
              <a:avLst/>
            </a:prstGeom>
            <a:solidFill>
              <a:srgbClr val="177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1543320" y="3014640"/>
              <a:ext cx="5598360" cy="1440"/>
            </a:xfrm>
            <a:prstGeom prst="rect">
              <a:avLst/>
            </a:prstGeom>
            <a:solidFill>
              <a:srgbClr val="1882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1543320" y="3016440"/>
              <a:ext cx="5598360" cy="360"/>
            </a:xfrm>
            <a:prstGeom prst="rect">
              <a:avLst/>
            </a:prstGeom>
            <a:solidFill>
              <a:srgbClr val="1987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1543320" y="3016440"/>
              <a:ext cx="5598360" cy="720"/>
            </a:xfrm>
            <a:prstGeom prst="rect">
              <a:avLst/>
            </a:prstGeom>
            <a:solidFill>
              <a:srgbClr val="1a8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1543320" y="3017160"/>
              <a:ext cx="5598360" cy="720"/>
            </a:xfrm>
            <a:prstGeom prst="rect">
              <a:avLst/>
            </a:prstGeom>
            <a:solidFill>
              <a:srgbClr val="2291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1543320" y="3018240"/>
              <a:ext cx="5598360" cy="720"/>
            </a:xfrm>
            <a:prstGeom prst="rect">
              <a:avLst/>
            </a:prstGeom>
            <a:solidFill>
              <a:srgbClr val="2a9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1543320" y="3018960"/>
              <a:ext cx="5598360" cy="720"/>
            </a:xfrm>
            <a:prstGeom prst="rect">
              <a:avLst/>
            </a:prstGeom>
            <a:solidFill>
              <a:srgbClr val="369a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1543320" y="3019680"/>
              <a:ext cx="5598360" cy="720"/>
            </a:xfrm>
            <a:prstGeom prst="rect">
              <a:avLst/>
            </a:prstGeom>
            <a:solidFill>
              <a:srgbClr val="3e9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1543320" y="3020760"/>
              <a:ext cx="5598360" cy="720"/>
            </a:xfrm>
            <a:prstGeom prst="rect">
              <a:avLst/>
            </a:prstGeom>
            <a:solidFill>
              <a:srgbClr val="46a3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1543320" y="3021480"/>
              <a:ext cx="5598360" cy="720"/>
            </a:xfrm>
            <a:prstGeom prst="rect">
              <a:avLst/>
            </a:prstGeom>
            <a:solidFill>
              <a:srgbClr val="52a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1543320" y="3022560"/>
              <a:ext cx="5598360" cy="720"/>
            </a:xfrm>
            <a:prstGeom prst="rect">
              <a:avLst/>
            </a:prstGeom>
            <a:solidFill>
              <a:srgbClr val="5dae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1543320" y="3023280"/>
              <a:ext cx="5598360" cy="720"/>
            </a:xfrm>
            <a:prstGeom prst="rect">
              <a:avLst/>
            </a:prstGeom>
            <a:solidFill>
              <a:srgbClr val="65b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1543320" y="3024000"/>
              <a:ext cx="5598360" cy="720"/>
            </a:xfrm>
            <a:prstGeom prst="rect">
              <a:avLst/>
            </a:prstGeom>
            <a:solidFill>
              <a:srgbClr val="6eb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1543320" y="3025080"/>
              <a:ext cx="5598360" cy="720"/>
            </a:xfrm>
            <a:prstGeom prst="rect">
              <a:avLst/>
            </a:prstGeom>
            <a:solidFill>
              <a:srgbClr val="79b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1543320" y="3025800"/>
              <a:ext cx="5598360" cy="360"/>
            </a:xfrm>
            <a:prstGeom prst="rect">
              <a:avLst/>
            </a:prstGeom>
            <a:solidFill>
              <a:srgbClr val="81c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1543320" y="3025800"/>
              <a:ext cx="5598360" cy="1440"/>
            </a:xfrm>
            <a:prstGeom prst="rect">
              <a:avLst/>
            </a:prstGeom>
            <a:solidFill>
              <a:srgbClr val="8a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1543320" y="3027600"/>
              <a:ext cx="5598360" cy="720"/>
            </a:xfrm>
            <a:prstGeom prst="rect">
              <a:avLst/>
            </a:prstGeom>
            <a:solidFill>
              <a:srgbClr val="95c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1543320" y="3028320"/>
              <a:ext cx="5598360" cy="360"/>
            </a:xfrm>
            <a:prstGeom prst="rect">
              <a:avLst/>
            </a:prstGeom>
            <a:solidFill>
              <a:srgbClr val="9dc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1543320" y="3028320"/>
              <a:ext cx="5598360" cy="720"/>
            </a:xfrm>
            <a:prstGeom prst="rect">
              <a:avLst/>
            </a:prstGeom>
            <a:solidFill>
              <a:srgbClr val="a6d2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1543320" y="3029400"/>
              <a:ext cx="5598360" cy="1440"/>
            </a:xfrm>
            <a:prstGeom prst="rect">
              <a:avLst/>
            </a:prstGeom>
            <a:solidFill>
              <a:srgbClr val="b1d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1543320" y="3031200"/>
              <a:ext cx="5598360" cy="720"/>
            </a:xfrm>
            <a:prstGeom prst="rect">
              <a:avLst/>
            </a:prstGeom>
            <a:solidFill>
              <a:srgbClr val="bcde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1543320" y="3031920"/>
              <a:ext cx="5598360" cy="360"/>
            </a:xfrm>
            <a:prstGeom prst="rect">
              <a:avLst/>
            </a:prstGeom>
            <a:solidFill>
              <a:srgbClr val="c5e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1543320" y="3031920"/>
              <a:ext cx="5598360" cy="720"/>
            </a:xfrm>
            <a:prstGeom prst="rect">
              <a:avLst/>
            </a:prstGeom>
            <a:solidFill>
              <a:srgbClr val="cde6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1543320" y="3032640"/>
              <a:ext cx="5598360" cy="1440"/>
            </a:xfrm>
            <a:prstGeom prst="rect">
              <a:avLst/>
            </a:prstGeom>
            <a:solidFill>
              <a:srgbClr val="d8e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1543320" y="3034440"/>
              <a:ext cx="5598360" cy="360"/>
            </a:xfrm>
            <a:prstGeom prst="rect">
              <a:avLst/>
            </a:prstGeom>
            <a:solidFill>
              <a:srgbClr val="e1f0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1543320" y="3034440"/>
              <a:ext cx="5598360" cy="720"/>
            </a:xfrm>
            <a:prstGeom prst="rect">
              <a:avLst/>
            </a:prstGeom>
            <a:solidFill>
              <a:srgbClr val="e9f4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1543320" y="3035160"/>
              <a:ext cx="5598360" cy="720"/>
            </a:xfrm>
            <a:prstGeom prst="rect">
              <a:avLst/>
            </a:prstGeom>
            <a:solidFill>
              <a:srgbClr val="f4f9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1543320" y="3036240"/>
              <a:ext cx="5598360" cy="720"/>
            </a:xfrm>
            <a:prstGeom prst="rect">
              <a:avLst/>
            </a:prstGeom>
            <a:solidFill>
              <a:srgbClr val="fdf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1543320" y="3036960"/>
              <a:ext cx="5598360" cy="720"/>
            </a:xfrm>
            <a:prstGeom prst="rect">
              <a:avLst/>
            </a:prstGeom>
            <a:solidFill>
              <a:srgbClr val="fe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1543320" y="3037680"/>
              <a:ext cx="5598360" cy="720"/>
            </a:xfrm>
            <a:prstGeom prst="rect">
              <a:avLst/>
            </a:prstGeom>
            <a:solidFill>
              <a:srgbClr val="fdf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1543320" y="3038760"/>
              <a:ext cx="5598360" cy="720"/>
            </a:xfrm>
            <a:prstGeom prst="rect">
              <a:avLst/>
            </a:prstGeom>
            <a:solidFill>
              <a:srgbClr val="fded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1543320" y="3039480"/>
              <a:ext cx="5598360" cy="720"/>
            </a:xfrm>
            <a:prstGeom prst="rect">
              <a:avLst/>
            </a:prstGeom>
            <a:solidFill>
              <a:srgbClr val="fce7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1543320" y="3040200"/>
              <a:ext cx="5598360" cy="360"/>
            </a:xfrm>
            <a:prstGeom prst="rect">
              <a:avLst/>
            </a:prstGeom>
            <a:solidFill>
              <a:srgbClr val="fce1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1543320" y="3040200"/>
              <a:ext cx="5598360" cy="1440"/>
            </a:xfrm>
            <a:prstGeom prst="rect">
              <a:avLst/>
            </a:prstGeom>
            <a:solidFill>
              <a:srgbClr val="fbdb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1543320" y="3042000"/>
              <a:ext cx="5598360" cy="720"/>
            </a:xfrm>
            <a:prstGeom prst="rect">
              <a:avLst/>
            </a:prstGeom>
            <a:solidFill>
              <a:srgbClr val="fbd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1543320" y="3042720"/>
              <a:ext cx="5598360" cy="360"/>
            </a:xfrm>
            <a:prstGeom prst="rect">
              <a:avLst/>
            </a:prstGeom>
            <a:solidFill>
              <a:srgbClr val="fac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1543320" y="3042720"/>
              <a:ext cx="5598360" cy="720"/>
            </a:xfrm>
            <a:prstGeom prst="rect">
              <a:avLst/>
            </a:prstGeom>
            <a:solidFill>
              <a:srgbClr val="fac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1543320" y="3043800"/>
              <a:ext cx="5598360" cy="720"/>
            </a:xfrm>
            <a:prstGeom prst="rect">
              <a:avLst/>
            </a:prstGeom>
            <a:solidFill>
              <a:srgbClr val="f9c3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1543320" y="3044520"/>
              <a:ext cx="5598360" cy="720"/>
            </a:xfrm>
            <a:prstGeom prst="rect">
              <a:avLst/>
            </a:prstGeom>
            <a:solidFill>
              <a:srgbClr val="f9b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1543320" y="3045600"/>
              <a:ext cx="5598360" cy="720"/>
            </a:xfrm>
            <a:prstGeom prst="rect">
              <a:avLst/>
            </a:prstGeom>
            <a:solidFill>
              <a:srgbClr val="f8b5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1543320" y="3046320"/>
              <a:ext cx="5598360" cy="720"/>
            </a:xfrm>
            <a:prstGeom prst="rect">
              <a:avLst/>
            </a:prstGeom>
            <a:solidFill>
              <a:srgbClr val="f8b0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1543320" y="3047040"/>
              <a:ext cx="5598360" cy="720"/>
            </a:xfrm>
            <a:prstGeom prst="rect">
              <a:avLst/>
            </a:prstGeom>
            <a:solidFill>
              <a:srgbClr val="f7a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1543320" y="3048120"/>
              <a:ext cx="5598360" cy="720"/>
            </a:xfrm>
            <a:prstGeom prst="rect">
              <a:avLst/>
            </a:prstGeom>
            <a:solidFill>
              <a:srgbClr val="f7a4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1543320" y="3048840"/>
              <a:ext cx="5598360" cy="720"/>
            </a:xfrm>
            <a:prstGeom prst="rect">
              <a:avLst/>
            </a:prstGeom>
            <a:solidFill>
              <a:srgbClr val="f69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1543320" y="3049920"/>
              <a:ext cx="5598360" cy="360"/>
            </a:xfrm>
            <a:prstGeom prst="rect">
              <a:avLst/>
            </a:prstGeom>
            <a:solidFill>
              <a:srgbClr val="f59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1543320" y="3049920"/>
              <a:ext cx="5598360" cy="720"/>
            </a:xfrm>
            <a:prstGeom prst="rect">
              <a:avLst/>
            </a:prstGeom>
            <a:solidFill>
              <a:srgbClr val="f59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1543320" y="3050640"/>
              <a:ext cx="5598360" cy="720"/>
            </a:xfrm>
            <a:prstGeom prst="rect">
              <a:avLst/>
            </a:prstGeom>
            <a:solidFill>
              <a:srgbClr val="f48b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1543320" y="3051720"/>
              <a:ext cx="5598360" cy="720"/>
            </a:xfrm>
            <a:prstGeom prst="rect">
              <a:avLst/>
            </a:prstGeom>
            <a:solidFill>
              <a:srgbClr val="f486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1543320" y="3052440"/>
              <a:ext cx="5598360" cy="720"/>
            </a:xfrm>
            <a:prstGeom prst="rect">
              <a:avLst/>
            </a:prstGeom>
            <a:solidFill>
              <a:srgbClr val="f38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1543320" y="3053160"/>
              <a:ext cx="5598360" cy="720"/>
            </a:xfrm>
            <a:prstGeom prst="rect">
              <a:avLst/>
            </a:prstGeom>
            <a:solidFill>
              <a:srgbClr val="f37a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1543320" y="3054240"/>
              <a:ext cx="5598360" cy="720"/>
            </a:xfrm>
            <a:prstGeom prst="rect">
              <a:avLst/>
            </a:prstGeom>
            <a:solidFill>
              <a:srgbClr val="f275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1543320" y="3054960"/>
              <a:ext cx="5598360" cy="720"/>
            </a:xfrm>
            <a:prstGeom prst="rect">
              <a:avLst/>
            </a:prstGeom>
            <a:solidFill>
              <a:srgbClr val="f26d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1543320" y="3055680"/>
              <a:ext cx="5598360" cy="720"/>
            </a:xfrm>
            <a:prstGeom prst="rect">
              <a:avLst/>
            </a:prstGeom>
            <a:solidFill>
              <a:srgbClr val="f16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1543320" y="3056760"/>
              <a:ext cx="5598360" cy="720"/>
            </a:xfrm>
            <a:prstGeom prst="rect">
              <a:avLst/>
            </a:prstGeom>
            <a:solidFill>
              <a:srgbClr val="f16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1543320" y="3057480"/>
              <a:ext cx="5598360" cy="360"/>
            </a:xfrm>
            <a:prstGeom prst="rect">
              <a:avLst/>
            </a:prstGeom>
            <a:solidFill>
              <a:srgbClr val="f05c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1543320" y="3057480"/>
              <a:ext cx="5598360" cy="720"/>
            </a:xfrm>
            <a:prstGeom prst="rect">
              <a:avLst/>
            </a:prstGeom>
            <a:solidFill>
              <a:srgbClr val="f056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1543320" y="3058200"/>
              <a:ext cx="5598360" cy="1440"/>
            </a:xfrm>
            <a:prstGeom prst="rect">
              <a:avLst/>
            </a:prstGeom>
            <a:solidFill>
              <a:srgbClr val="ef4f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1543320" y="3060000"/>
              <a:ext cx="5598360" cy="360"/>
            </a:xfrm>
            <a:prstGeom prst="rect">
              <a:avLst/>
            </a:prstGeom>
            <a:solidFill>
              <a:srgbClr val="ee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1543320" y="3060000"/>
              <a:ext cx="5598360" cy="720"/>
            </a:xfrm>
            <a:prstGeom prst="rect">
              <a:avLst/>
            </a:prstGeom>
            <a:solidFill>
              <a:srgbClr val="ee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1543320" y="3060720"/>
              <a:ext cx="5598360" cy="720"/>
            </a:xfrm>
            <a:prstGeom prst="rect">
              <a:avLst/>
            </a:prstGeom>
            <a:solidFill>
              <a:srgbClr val="ed3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1543320" y="3061800"/>
              <a:ext cx="5598360" cy="720"/>
            </a:xfrm>
            <a:prstGeom prst="rect">
              <a:avLst/>
            </a:prstGeom>
            <a:solidFill>
              <a:srgbClr val="ed3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1543320" y="3062520"/>
              <a:ext cx="5598360" cy="360"/>
            </a:xfrm>
            <a:prstGeom prst="rect">
              <a:avLst/>
            </a:prstGeom>
            <a:solidFill>
              <a:srgbClr val="ed3b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1543320" y="3062520"/>
              <a:ext cx="5598360" cy="1440"/>
            </a:xfrm>
            <a:prstGeom prst="rect">
              <a:avLst/>
            </a:prstGeom>
            <a:solidFill>
              <a:srgbClr val="ed39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1543320" y="3064320"/>
              <a:ext cx="5598360" cy="360"/>
            </a:xfrm>
            <a:prstGeom prst="rect">
              <a:avLst/>
            </a:prstGeom>
            <a:solidFill>
              <a:srgbClr val="ec3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1543320" y="3064320"/>
              <a:ext cx="5598360" cy="720"/>
            </a:xfrm>
            <a:prstGeom prst="rect">
              <a:avLst/>
            </a:prstGeom>
            <a:solidFill>
              <a:srgbClr val="ec3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1543320" y="3065040"/>
              <a:ext cx="5598360" cy="720"/>
            </a:xfrm>
            <a:prstGeom prst="rect">
              <a:avLst/>
            </a:prstGeom>
            <a:solidFill>
              <a:srgbClr val="ec3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1543320" y="3065760"/>
              <a:ext cx="5598360" cy="720"/>
            </a:xfrm>
            <a:prstGeom prst="rect">
              <a:avLst/>
            </a:prstGeom>
            <a:solidFill>
              <a:srgbClr val="ec33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1543320" y="3066840"/>
              <a:ext cx="5598360" cy="720"/>
            </a:xfrm>
            <a:prstGeom prst="rect">
              <a:avLst/>
            </a:prstGeom>
            <a:solidFill>
              <a:srgbClr val="eb31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1543320" y="3067560"/>
              <a:ext cx="5598360" cy="720"/>
            </a:xfrm>
            <a:prstGeom prst="rect">
              <a:avLst/>
            </a:prstGeom>
            <a:solidFill>
              <a:srgbClr val="eb2f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1543320" y="3068640"/>
              <a:ext cx="5598360" cy="360"/>
            </a:xfrm>
            <a:prstGeom prst="rect">
              <a:avLst/>
            </a:prstGeom>
            <a:solidFill>
              <a:srgbClr val="eb2e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1543320" y="3068640"/>
              <a:ext cx="5598360" cy="720"/>
            </a:xfrm>
            <a:prstGeom prst="rect">
              <a:avLst/>
            </a:prstGeom>
            <a:solidFill>
              <a:srgbClr val="eb2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1543320" y="3069360"/>
              <a:ext cx="5598360" cy="720"/>
            </a:xfrm>
            <a:prstGeom prst="rect">
              <a:avLst/>
            </a:prstGeom>
            <a:solidFill>
              <a:srgbClr val="ea2a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1543320" y="3070440"/>
              <a:ext cx="5598360" cy="720"/>
            </a:xfrm>
            <a:prstGeom prst="rect">
              <a:avLst/>
            </a:prstGeom>
            <a:solidFill>
              <a:srgbClr val="ea29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1543320" y="3071160"/>
              <a:ext cx="5598360" cy="720"/>
            </a:xfrm>
            <a:prstGeom prst="rect">
              <a:avLst/>
            </a:prstGeom>
            <a:solidFill>
              <a:srgbClr val="ea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1543320" y="3071880"/>
              <a:ext cx="5598360" cy="720"/>
            </a:xfrm>
            <a:prstGeom prst="rect">
              <a:avLst/>
            </a:prstGeom>
            <a:solidFill>
              <a:srgbClr val="ea2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1543320" y="3072960"/>
              <a:ext cx="5598360" cy="360"/>
            </a:xfrm>
            <a:prstGeom prst="rect">
              <a:avLst/>
            </a:prstGeom>
            <a:solidFill>
              <a:srgbClr val="e923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1543320" y="3072960"/>
              <a:ext cx="5598360" cy="1440"/>
            </a:xfrm>
            <a:prstGeom prst="rect">
              <a:avLst/>
            </a:prstGeom>
            <a:solidFill>
              <a:srgbClr val="e92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1543320" y="3074760"/>
              <a:ext cx="5598360" cy="360"/>
            </a:xfrm>
            <a:prstGeom prst="rect">
              <a:avLst/>
            </a:prstGeom>
            <a:solidFill>
              <a:srgbClr val="e92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1543320" y="3074760"/>
              <a:ext cx="5598360" cy="720"/>
            </a:xfrm>
            <a:prstGeom prst="rect">
              <a:avLst/>
            </a:prstGeom>
            <a:solidFill>
              <a:srgbClr val="e91e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1543320" y="3075480"/>
              <a:ext cx="5598360" cy="720"/>
            </a:xfrm>
            <a:prstGeom prst="rect">
              <a:avLst/>
            </a:prstGeom>
            <a:solidFill>
              <a:srgbClr val="e81d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1543320" y="3076200"/>
              <a:ext cx="5598360" cy="720"/>
            </a:xfrm>
            <a:prstGeom prst="rect">
              <a:avLst/>
            </a:prstGeom>
            <a:solidFill>
              <a:srgbClr val="e81b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1543320" y="3077280"/>
              <a:ext cx="5598360" cy="360"/>
            </a:xfrm>
            <a:prstGeom prst="rect">
              <a:avLst/>
            </a:prstGeom>
            <a:solidFill>
              <a:srgbClr val="e81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1543320" y="3077280"/>
              <a:ext cx="5598360" cy="1440"/>
            </a:xfrm>
            <a:prstGeom prst="rect">
              <a:avLst/>
            </a:prstGeom>
            <a:solidFill>
              <a:srgbClr val="e81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1543320" y="3078720"/>
              <a:ext cx="5598360" cy="360"/>
            </a:xfrm>
            <a:prstGeom prst="rect">
              <a:avLst/>
            </a:prstGeom>
            <a:solidFill>
              <a:srgbClr val="e71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1543320" y="3078720"/>
              <a:ext cx="5598360" cy="720"/>
            </a:xfrm>
            <a:prstGeom prst="rect">
              <a:avLst/>
            </a:prstGeom>
            <a:solidFill>
              <a:srgbClr val="e315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1543320" y="3079440"/>
              <a:ext cx="5598360" cy="720"/>
            </a:xfrm>
            <a:prstGeom prst="rect">
              <a:avLst/>
            </a:prstGeom>
            <a:solidFill>
              <a:srgbClr val="e014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1543320" y="3080520"/>
              <a:ext cx="5598360" cy="720"/>
            </a:xfrm>
            <a:prstGeom prst="rect">
              <a:avLst/>
            </a:prstGeom>
            <a:solidFill>
              <a:srgbClr val="dd13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1543320" y="3081240"/>
              <a:ext cx="5598360" cy="720"/>
            </a:xfrm>
            <a:prstGeom prst="rect">
              <a:avLst/>
            </a:prstGeom>
            <a:solidFill>
              <a:srgbClr val="d81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1543320" y="3081960"/>
              <a:ext cx="5598360" cy="720"/>
            </a:xfrm>
            <a:prstGeom prst="rect">
              <a:avLst/>
            </a:prstGeom>
            <a:solidFill>
              <a:srgbClr val="d310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1543320" y="3083040"/>
              <a:ext cx="5598360" cy="720"/>
            </a:xfrm>
            <a:prstGeom prst="rect">
              <a:avLst/>
            </a:prstGeom>
            <a:solidFill>
              <a:srgbClr val="cf0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1543320" y="3083760"/>
              <a:ext cx="5598360" cy="720"/>
            </a:xfrm>
            <a:prstGeom prst="rect">
              <a:avLst/>
            </a:prstGeom>
            <a:solidFill>
              <a:srgbClr val="cb0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1543320" y="3084480"/>
              <a:ext cx="5598360" cy="720"/>
            </a:xfrm>
            <a:prstGeom prst="rect">
              <a:avLst/>
            </a:prstGeom>
            <a:solidFill>
              <a:srgbClr val="c80d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1543320" y="3085560"/>
              <a:ext cx="5598360" cy="720"/>
            </a:xfrm>
            <a:prstGeom prst="rect">
              <a:avLst/>
            </a:prstGeom>
            <a:solidFill>
              <a:srgbClr val="c30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1543320" y="3086280"/>
              <a:ext cx="5598360" cy="720"/>
            </a:xfrm>
            <a:prstGeom prst="rect">
              <a:avLst/>
            </a:prstGeom>
            <a:solidFill>
              <a:srgbClr val="bf0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1543320" y="3087360"/>
              <a:ext cx="5598360" cy="720"/>
            </a:xfrm>
            <a:prstGeom prst="rect">
              <a:avLst/>
            </a:prstGeom>
            <a:solidFill>
              <a:srgbClr val="ba0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1543320" y="3088080"/>
              <a:ext cx="5598360" cy="720"/>
            </a:xfrm>
            <a:prstGeom prst="rect">
              <a:avLst/>
            </a:prstGeom>
            <a:solidFill>
              <a:srgbClr val="b70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1543320" y="3089160"/>
              <a:ext cx="5598360" cy="720"/>
            </a:xfrm>
            <a:prstGeom prst="rect">
              <a:avLst/>
            </a:prstGeom>
            <a:solidFill>
              <a:srgbClr val="b307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1543320" y="3089880"/>
              <a:ext cx="5598360" cy="720"/>
            </a:xfrm>
            <a:prstGeom prst="rect">
              <a:avLst/>
            </a:prstGeom>
            <a:solidFill>
              <a:srgbClr val="af0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1543320" y="3090600"/>
              <a:ext cx="5598360" cy="720"/>
            </a:xfrm>
            <a:prstGeom prst="rect">
              <a:avLst/>
            </a:prstGeom>
            <a:solidFill>
              <a:srgbClr val="aa0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1543320" y="3091680"/>
              <a:ext cx="5598360" cy="720"/>
            </a:xfrm>
            <a:prstGeom prst="rect">
              <a:avLst/>
            </a:prstGeom>
            <a:solidFill>
              <a:srgbClr val="a70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6319800" y="1940040"/>
            <a:ext cx="357120" cy="1530360"/>
          </a:xfrm>
          <a:custGeom>
            <a:avLst/>
            <a:gdLst/>
            <a:ahLst/>
            <a:rect l="l" t="t" r="r" b="b"/>
            <a:pathLst>
              <a:path w="195" h="815">
                <a:moveTo>
                  <a:pt x="0" y="0"/>
                </a:moveTo>
                <a:lnTo>
                  <a:pt x="195" y="126"/>
                </a:lnTo>
                <a:lnTo>
                  <a:pt x="195" y="688"/>
                </a:lnTo>
                <a:lnTo>
                  <a:pt x="0" y="81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986200" y="1973160"/>
            <a:ext cx="2813040" cy="690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254760" y="1976400"/>
            <a:ext cx="23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ransparent  OOO S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371680" y="4900680"/>
            <a:ext cx="490320" cy="200880"/>
            <a:chOff x="2371680" y="4900680"/>
            <a:chExt cx="490320" cy="200880"/>
          </a:xfrm>
        </p:grpSpPr>
        <p:grpSp>
          <p:nvGrpSpPr>
            <p:cNvPr id="613" name=""/>
            <p:cNvGrpSpPr/>
            <p:nvPr/>
          </p:nvGrpSpPr>
          <p:grpSpPr>
            <a:xfrm>
              <a:off x="2371680" y="4900680"/>
              <a:ext cx="489600" cy="196920"/>
              <a:chOff x="2371680" y="4900680"/>
              <a:chExt cx="489600" cy="196920"/>
            </a:xfrm>
          </p:grpSpPr>
          <p:sp>
            <p:nvSpPr>
              <p:cNvPr id="614" name=""/>
              <p:cNvSpPr/>
              <p:nvPr/>
            </p:nvSpPr>
            <p:spPr>
              <a:xfrm>
                <a:off x="2371680" y="4900680"/>
                <a:ext cx="1224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494080" y="4900680"/>
                <a:ext cx="244440" cy="1969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738880" y="5097600"/>
                <a:ext cx="1224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2372400" y="4904640"/>
              <a:ext cx="489600" cy="196920"/>
              <a:chOff x="2372400" y="4904640"/>
              <a:chExt cx="489600" cy="196920"/>
            </a:xfrm>
          </p:grpSpPr>
          <p:sp>
            <p:nvSpPr>
              <p:cNvPr id="618" name=""/>
              <p:cNvSpPr/>
              <p:nvPr/>
            </p:nvSpPr>
            <p:spPr>
              <a:xfrm flipH="1">
                <a:off x="2739600" y="4904640"/>
                <a:ext cx="1224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2495160" y="4904640"/>
                <a:ext cx="244440" cy="1969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2372400" y="5101560"/>
                <a:ext cx="1224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1" name=""/>
          <p:cNvGrpSpPr/>
          <p:nvPr/>
        </p:nvGrpSpPr>
        <p:grpSpPr>
          <a:xfrm>
            <a:off x="4148280" y="2317680"/>
            <a:ext cx="488160" cy="200880"/>
            <a:chOff x="4148280" y="2317680"/>
            <a:chExt cx="488160" cy="200880"/>
          </a:xfrm>
        </p:grpSpPr>
        <p:grpSp>
          <p:nvGrpSpPr>
            <p:cNvPr id="622" name=""/>
            <p:cNvGrpSpPr/>
            <p:nvPr/>
          </p:nvGrpSpPr>
          <p:grpSpPr>
            <a:xfrm>
              <a:off x="4148280" y="2317680"/>
              <a:ext cx="487800" cy="196920"/>
              <a:chOff x="4148280" y="2317680"/>
              <a:chExt cx="487800" cy="196920"/>
            </a:xfrm>
          </p:grpSpPr>
          <p:sp>
            <p:nvSpPr>
              <p:cNvPr id="623" name=""/>
              <p:cNvSpPr/>
              <p:nvPr/>
            </p:nvSpPr>
            <p:spPr>
              <a:xfrm>
                <a:off x="4148280" y="2317680"/>
                <a:ext cx="122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270320" y="2317680"/>
                <a:ext cx="243720" cy="196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514040" y="2514600"/>
                <a:ext cx="122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4148640" y="2321640"/>
              <a:ext cx="487800" cy="196920"/>
              <a:chOff x="4148640" y="2321640"/>
              <a:chExt cx="487800" cy="196920"/>
            </a:xfrm>
          </p:grpSpPr>
          <p:sp>
            <p:nvSpPr>
              <p:cNvPr id="627" name=""/>
              <p:cNvSpPr/>
              <p:nvPr/>
            </p:nvSpPr>
            <p:spPr>
              <a:xfrm flipH="1">
                <a:off x="4514400" y="2321640"/>
                <a:ext cx="122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4270680" y="2321640"/>
                <a:ext cx="243720" cy="196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4148640" y="2518560"/>
                <a:ext cx="122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0" name=""/>
          <p:cNvGrpSpPr/>
          <p:nvPr/>
        </p:nvGrpSpPr>
        <p:grpSpPr>
          <a:xfrm>
            <a:off x="4719600" y="4705200"/>
            <a:ext cx="1465920" cy="690120"/>
            <a:chOff x="4719600" y="4705200"/>
            <a:chExt cx="1465920" cy="690120"/>
          </a:xfrm>
        </p:grpSpPr>
        <p:sp>
          <p:nvSpPr>
            <p:cNvPr id="631" name=""/>
            <p:cNvSpPr/>
            <p:nvPr/>
          </p:nvSpPr>
          <p:spPr>
            <a:xfrm>
              <a:off x="4719600" y="4705200"/>
              <a:ext cx="1465920" cy="690120"/>
            </a:xfrm>
            <a:custGeom>
              <a:avLst/>
              <a:gdLst/>
              <a:ahLst/>
              <a:rect l="l" t="t" r="r" b="b"/>
              <a:pathLst>
                <a:path w="522" h="518">
                  <a:moveTo>
                    <a:pt x="260" y="0"/>
                  </a:moveTo>
                  <a:lnTo>
                    <a:pt x="208" y="1"/>
                  </a:lnTo>
                  <a:lnTo>
                    <a:pt x="159" y="9"/>
                  </a:lnTo>
                  <a:lnTo>
                    <a:pt x="115" y="17"/>
                  </a:lnTo>
                  <a:lnTo>
                    <a:pt x="76" y="30"/>
                  </a:lnTo>
                  <a:lnTo>
                    <a:pt x="59" y="38"/>
                  </a:lnTo>
                  <a:lnTo>
                    <a:pt x="44" y="45"/>
                  </a:lnTo>
                  <a:lnTo>
                    <a:pt x="32" y="53"/>
                  </a:lnTo>
                  <a:lnTo>
                    <a:pt x="20" y="62"/>
                  </a:lnTo>
                  <a:lnTo>
                    <a:pt x="12" y="72"/>
                  </a:lnTo>
                  <a:lnTo>
                    <a:pt x="5" y="82"/>
                  </a:lnTo>
                  <a:lnTo>
                    <a:pt x="1" y="93"/>
                  </a:lnTo>
                  <a:lnTo>
                    <a:pt x="0" y="103"/>
                  </a:lnTo>
                  <a:lnTo>
                    <a:pt x="0" y="415"/>
                  </a:lnTo>
                  <a:lnTo>
                    <a:pt x="1" y="425"/>
                  </a:lnTo>
                  <a:lnTo>
                    <a:pt x="5" y="435"/>
                  </a:lnTo>
                  <a:lnTo>
                    <a:pt x="12" y="445"/>
                  </a:lnTo>
                  <a:lnTo>
                    <a:pt x="20" y="455"/>
                  </a:lnTo>
                  <a:lnTo>
                    <a:pt x="32" y="464"/>
                  </a:lnTo>
                  <a:lnTo>
                    <a:pt x="44" y="473"/>
                  </a:lnTo>
                  <a:lnTo>
                    <a:pt x="59" y="480"/>
                  </a:lnTo>
                  <a:lnTo>
                    <a:pt x="76" y="487"/>
                  </a:lnTo>
                  <a:lnTo>
                    <a:pt x="115" y="500"/>
                  </a:lnTo>
                  <a:lnTo>
                    <a:pt x="159" y="509"/>
                  </a:lnTo>
                  <a:lnTo>
                    <a:pt x="208" y="516"/>
                  </a:lnTo>
                  <a:lnTo>
                    <a:pt x="260" y="518"/>
                  </a:lnTo>
                  <a:lnTo>
                    <a:pt x="312" y="516"/>
                  </a:lnTo>
                  <a:lnTo>
                    <a:pt x="363" y="509"/>
                  </a:lnTo>
                  <a:lnTo>
                    <a:pt x="407" y="500"/>
                  </a:lnTo>
                  <a:lnTo>
                    <a:pt x="427" y="494"/>
                  </a:lnTo>
                  <a:lnTo>
                    <a:pt x="446" y="487"/>
                  </a:lnTo>
                  <a:lnTo>
                    <a:pt x="463" y="480"/>
                  </a:lnTo>
                  <a:lnTo>
                    <a:pt x="478" y="473"/>
                  </a:lnTo>
                  <a:lnTo>
                    <a:pt x="490" y="464"/>
                  </a:lnTo>
                  <a:lnTo>
                    <a:pt x="501" y="455"/>
                  </a:lnTo>
                  <a:lnTo>
                    <a:pt x="510" y="445"/>
                  </a:lnTo>
                  <a:lnTo>
                    <a:pt x="517" y="435"/>
                  </a:lnTo>
                  <a:lnTo>
                    <a:pt x="520" y="425"/>
                  </a:lnTo>
                  <a:lnTo>
                    <a:pt x="522" y="415"/>
                  </a:lnTo>
                  <a:lnTo>
                    <a:pt x="522" y="103"/>
                  </a:lnTo>
                  <a:lnTo>
                    <a:pt x="520" y="93"/>
                  </a:lnTo>
                  <a:lnTo>
                    <a:pt x="517" y="82"/>
                  </a:lnTo>
                  <a:lnTo>
                    <a:pt x="510" y="72"/>
                  </a:lnTo>
                  <a:lnTo>
                    <a:pt x="501" y="62"/>
                  </a:lnTo>
                  <a:lnTo>
                    <a:pt x="490" y="53"/>
                  </a:lnTo>
                  <a:lnTo>
                    <a:pt x="478" y="45"/>
                  </a:lnTo>
                  <a:lnTo>
                    <a:pt x="463" y="38"/>
                  </a:lnTo>
                  <a:lnTo>
                    <a:pt x="446" y="30"/>
                  </a:lnTo>
                  <a:lnTo>
                    <a:pt x="427" y="23"/>
                  </a:lnTo>
                  <a:lnTo>
                    <a:pt x="407" y="17"/>
                  </a:lnTo>
                  <a:lnTo>
                    <a:pt x="363" y="9"/>
                  </a:lnTo>
                  <a:lnTo>
                    <a:pt x="312" y="1"/>
                  </a:lnTo>
                  <a:lnTo>
                    <a:pt x="26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719600" y="4705200"/>
              <a:ext cx="1465920" cy="273960"/>
            </a:xfrm>
            <a:custGeom>
              <a:avLst/>
              <a:gdLst/>
              <a:ahLst/>
              <a:rect l="l" t="t" r="r" b="b"/>
              <a:pathLst>
                <a:path w="522" h="204">
                  <a:moveTo>
                    <a:pt x="0" y="103"/>
                  </a:moveTo>
                  <a:lnTo>
                    <a:pt x="1" y="113"/>
                  </a:lnTo>
                  <a:lnTo>
                    <a:pt x="5" y="123"/>
                  </a:lnTo>
                  <a:lnTo>
                    <a:pt x="12" y="133"/>
                  </a:lnTo>
                  <a:lnTo>
                    <a:pt x="20" y="142"/>
                  </a:lnTo>
                  <a:lnTo>
                    <a:pt x="32" y="152"/>
                  </a:lnTo>
                  <a:lnTo>
                    <a:pt x="44" y="159"/>
                  </a:lnTo>
                  <a:lnTo>
                    <a:pt x="59" y="168"/>
                  </a:lnTo>
                  <a:lnTo>
                    <a:pt x="76" y="175"/>
                  </a:lnTo>
                  <a:lnTo>
                    <a:pt x="115" y="187"/>
                  </a:lnTo>
                  <a:lnTo>
                    <a:pt x="159" y="197"/>
                  </a:lnTo>
                  <a:lnTo>
                    <a:pt x="208" y="203"/>
                  </a:lnTo>
                  <a:lnTo>
                    <a:pt x="260" y="204"/>
                  </a:lnTo>
                  <a:lnTo>
                    <a:pt x="312" y="203"/>
                  </a:lnTo>
                  <a:lnTo>
                    <a:pt x="363" y="197"/>
                  </a:lnTo>
                  <a:lnTo>
                    <a:pt x="407" y="187"/>
                  </a:lnTo>
                  <a:lnTo>
                    <a:pt x="427" y="181"/>
                  </a:lnTo>
                  <a:lnTo>
                    <a:pt x="446" y="175"/>
                  </a:lnTo>
                  <a:lnTo>
                    <a:pt x="463" y="168"/>
                  </a:lnTo>
                  <a:lnTo>
                    <a:pt x="478" y="159"/>
                  </a:lnTo>
                  <a:lnTo>
                    <a:pt x="490" y="152"/>
                  </a:lnTo>
                  <a:lnTo>
                    <a:pt x="501" y="142"/>
                  </a:lnTo>
                  <a:lnTo>
                    <a:pt x="510" y="133"/>
                  </a:lnTo>
                  <a:lnTo>
                    <a:pt x="517" y="123"/>
                  </a:lnTo>
                  <a:lnTo>
                    <a:pt x="520" y="113"/>
                  </a:lnTo>
                  <a:lnTo>
                    <a:pt x="522" y="103"/>
                  </a:lnTo>
                  <a:lnTo>
                    <a:pt x="520" y="93"/>
                  </a:lnTo>
                  <a:lnTo>
                    <a:pt x="517" y="82"/>
                  </a:lnTo>
                  <a:lnTo>
                    <a:pt x="510" y="72"/>
                  </a:lnTo>
                  <a:lnTo>
                    <a:pt x="501" y="62"/>
                  </a:lnTo>
                  <a:lnTo>
                    <a:pt x="490" y="53"/>
                  </a:lnTo>
                  <a:lnTo>
                    <a:pt x="478" y="45"/>
                  </a:lnTo>
                  <a:lnTo>
                    <a:pt x="463" y="38"/>
                  </a:lnTo>
                  <a:lnTo>
                    <a:pt x="446" y="30"/>
                  </a:lnTo>
                  <a:lnTo>
                    <a:pt x="427" y="23"/>
                  </a:lnTo>
                  <a:lnTo>
                    <a:pt x="407" y="17"/>
                  </a:lnTo>
                  <a:lnTo>
                    <a:pt x="363" y="9"/>
                  </a:lnTo>
                  <a:lnTo>
                    <a:pt x="312" y="1"/>
                  </a:lnTo>
                  <a:lnTo>
                    <a:pt x="260" y="0"/>
                  </a:lnTo>
                  <a:lnTo>
                    <a:pt x="208" y="1"/>
                  </a:lnTo>
                  <a:lnTo>
                    <a:pt x="159" y="9"/>
                  </a:lnTo>
                  <a:lnTo>
                    <a:pt x="115" y="17"/>
                  </a:lnTo>
                  <a:lnTo>
                    <a:pt x="76" y="30"/>
                  </a:lnTo>
                  <a:lnTo>
                    <a:pt x="59" y="38"/>
                  </a:lnTo>
                  <a:lnTo>
                    <a:pt x="44" y="45"/>
                  </a:lnTo>
                  <a:lnTo>
                    <a:pt x="32" y="53"/>
                  </a:lnTo>
                  <a:lnTo>
                    <a:pt x="20" y="62"/>
                  </a:lnTo>
                  <a:lnTo>
                    <a:pt x="12" y="72"/>
                  </a:lnTo>
                  <a:lnTo>
                    <a:pt x="5" y="82"/>
                  </a:lnTo>
                  <a:lnTo>
                    <a:pt x="1" y="9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719600" y="4705200"/>
              <a:ext cx="1465920" cy="690120"/>
            </a:xfrm>
            <a:custGeom>
              <a:avLst/>
              <a:gdLst/>
              <a:ahLst/>
              <a:rect l="l" t="t" r="r" b="b"/>
              <a:pathLst>
                <a:path w="522" h="518">
                  <a:moveTo>
                    <a:pt x="260" y="0"/>
                  </a:moveTo>
                  <a:lnTo>
                    <a:pt x="208" y="1"/>
                  </a:lnTo>
                  <a:lnTo>
                    <a:pt x="159" y="9"/>
                  </a:lnTo>
                  <a:lnTo>
                    <a:pt x="115" y="17"/>
                  </a:lnTo>
                  <a:lnTo>
                    <a:pt x="76" y="30"/>
                  </a:lnTo>
                  <a:lnTo>
                    <a:pt x="59" y="38"/>
                  </a:lnTo>
                  <a:lnTo>
                    <a:pt x="44" y="45"/>
                  </a:lnTo>
                  <a:lnTo>
                    <a:pt x="32" y="53"/>
                  </a:lnTo>
                  <a:lnTo>
                    <a:pt x="20" y="62"/>
                  </a:lnTo>
                  <a:lnTo>
                    <a:pt x="12" y="72"/>
                  </a:lnTo>
                  <a:lnTo>
                    <a:pt x="5" y="82"/>
                  </a:lnTo>
                  <a:lnTo>
                    <a:pt x="1" y="93"/>
                  </a:lnTo>
                  <a:lnTo>
                    <a:pt x="0" y="103"/>
                  </a:lnTo>
                  <a:lnTo>
                    <a:pt x="0" y="415"/>
                  </a:lnTo>
                  <a:lnTo>
                    <a:pt x="1" y="425"/>
                  </a:lnTo>
                  <a:lnTo>
                    <a:pt x="5" y="435"/>
                  </a:lnTo>
                  <a:lnTo>
                    <a:pt x="12" y="445"/>
                  </a:lnTo>
                  <a:lnTo>
                    <a:pt x="20" y="455"/>
                  </a:lnTo>
                  <a:lnTo>
                    <a:pt x="32" y="464"/>
                  </a:lnTo>
                  <a:lnTo>
                    <a:pt x="44" y="473"/>
                  </a:lnTo>
                  <a:lnTo>
                    <a:pt x="59" y="480"/>
                  </a:lnTo>
                  <a:lnTo>
                    <a:pt x="76" y="487"/>
                  </a:lnTo>
                  <a:lnTo>
                    <a:pt x="115" y="500"/>
                  </a:lnTo>
                  <a:lnTo>
                    <a:pt x="159" y="509"/>
                  </a:lnTo>
                  <a:lnTo>
                    <a:pt x="208" y="516"/>
                  </a:lnTo>
                  <a:lnTo>
                    <a:pt x="260" y="518"/>
                  </a:lnTo>
                  <a:lnTo>
                    <a:pt x="312" y="516"/>
                  </a:lnTo>
                  <a:lnTo>
                    <a:pt x="363" y="509"/>
                  </a:lnTo>
                  <a:lnTo>
                    <a:pt x="407" y="500"/>
                  </a:lnTo>
                  <a:lnTo>
                    <a:pt x="427" y="494"/>
                  </a:lnTo>
                  <a:lnTo>
                    <a:pt x="446" y="487"/>
                  </a:lnTo>
                  <a:lnTo>
                    <a:pt x="463" y="480"/>
                  </a:lnTo>
                  <a:lnTo>
                    <a:pt x="478" y="473"/>
                  </a:lnTo>
                  <a:lnTo>
                    <a:pt x="490" y="464"/>
                  </a:lnTo>
                  <a:lnTo>
                    <a:pt x="501" y="455"/>
                  </a:lnTo>
                  <a:lnTo>
                    <a:pt x="510" y="445"/>
                  </a:lnTo>
                  <a:lnTo>
                    <a:pt x="517" y="435"/>
                  </a:lnTo>
                  <a:lnTo>
                    <a:pt x="520" y="425"/>
                  </a:lnTo>
                  <a:lnTo>
                    <a:pt x="522" y="415"/>
                  </a:lnTo>
                  <a:lnTo>
                    <a:pt x="522" y="103"/>
                  </a:lnTo>
                  <a:lnTo>
                    <a:pt x="520" y="93"/>
                  </a:lnTo>
                  <a:lnTo>
                    <a:pt x="517" y="82"/>
                  </a:lnTo>
                  <a:lnTo>
                    <a:pt x="510" y="72"/>
                  </a:lnTo>
                  <a:lnTo>
                    <a:pt x="501" y="62"/>
                  </a:lnTo>
                  <a:lnTo>
                    <a:pt x="490" y="53"/>
                  </a:lnTo>
                  <a:lnTo>
                    <a:pt x="478" y="45"/>
                  </a:lnTo>
                  <a:lnTo>
                    <a:pt x="463" y="38"/>
                  </a:lnTo>
                  <a:lnTo>
                    <a:pt x="446" y="30"/>
                  </a:lnTo>
                  <a:lnTo>
                    <a:pt x="427" y="23"/>
                  </a:lnTo>
                  <a:lnTo>
                    <a:pt x="407" y="17"/>
                  </a:lnTo>
                  <a:lnTo>
                    <a:pt x="363" y="9"/>
                  </a:lnTo>
                  <a:lnTo>
                    <a:pt x="312" y="1"/>
                  </a:lnTo>
                  <a:lnTo>
                    <a:pt x="26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719600" y="4843800"/>
              <a:ext cx="1465920" cy="135000"/>
            </a:xfrm>
            <a:custGeom>
              <a:avLst/>
              <a:gdLst/>
              <a:ahLst/>
              <a:rect l="l" t="t" r="r" b="b"/>
              <a:pathLst>
                <a:path w="522" h="101">
                  <a:moveTo>
                    <a:pt x="0" y="0"/>
                  </a:moveTo>
                  <a:lnTo>
                    <a:pt x="1" y="10"/>
                  </a:lnTo>
                  <a:lnTo>
                    <a:pt x="5" y="20"/>
                  </a:lnTo>
                  <a:lnTo>
                    <a:pt x="12" y="30"/>
                  </a:lnTo>
                  <a:lnTo>
                    <a:pt x="20" y="39"/>
                  </a:lnTo>
                  <a:lnTo>
                    <a:pt x="32" y="49"/>
                  </a:lnTo>
                  <a:lnTo>
                    <a:pt x="44" y="56"/>
                  </a:lnTo>
                  <a:lnTo>
                    <a:pt x="59" y="65"/>
                  </a:lnTo>
                  <a:lnTo>
                    <a:pt x="76" y="72"/>
                  </a:lnTo>
                  <a:lnTo>
                    <a:pt x="115" y="84"/>
                  </a:lnTo>
                  <a:lnTo>
                    <a:pt x="159" y="94"/>
                  </a:lnTo>
                  <a:lnTo>
                    <a:pt x="208" y="100"/>
                  </a:lnTo>
                  <a:lnTo>
                    <a:pt x="260" y="101"/>
                  </a:lnTo>
                  <a:lnTo>
                    <a:pt x="312" y="100"/>
                  </a:lnTo>
                  <a:lnTo>
                    <a:pt x="363" y="94"/>
                  </a:lnTo>
                  <a:lnTo>
                    <a:pt x="407" y="84"/>
                  </a:lnTo>
                  <a:lnTo>
                    <a:pt x="427" y="78"/>
                  </a:lnTo>
                  <a:lnTo>
                    <a:pt x="446" y="72"/>
                  </a:lnTo>
                  <a:lnTo>
                    <a:pt x="463" y="65"/>
                  </a:lnTo>
                  <a:lnTo>
                    <a:pt x="478" y="56"/>
                  </a:lnTo>
                  <a:lnTo>
                    <a:pt x="490" y="49"/>
                  </a:lnTo>
                  <a:lnTo>
                    <a:pt x="501" y="39"/>
                  </a:lnTo>
                  <a:lnTo>
                    <a:pt x="510" y="30"/>
                  </a:lnTo>
                  <a:lnTo>
                    <a:pt x="517" y="20"/>
                  </a:lnTo>
                  <a:lnTo>
                    <a:pt x="520" y="10"/>
                  </a:lnTo>
                  <a:lnTo>
                    <a:pt x="52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992480" y="5001120"/>
              <a:ext cx="912960" cy="345600"/>
            </a:xfrm>
            <a:custGeom>
              <a:avLst/>
              <a:gdLst/>
              <a:ahLst/>
              <a:rect l="l" t="t" r="r" b="b"/>
              <a:pathLst>
                <a:path w="191" h="178">
                  <a:moveTo>
                    <a:pt x="27" y="0"/>
                  </a:moveTo>
                  <a:lnTo>
                    <a:pt x="27" y="21"/>
                  </a:lnTo>
                  <a:lnTo>
                    <a:pt x="71" y="21"/>
                  </a:lnTo>
                  <a:lnTo>
                    <a:pt x="94" y="67"/>
                  </a:lnTo>
                  <a:lnTo>
                    <a:pt x="118" y="21"/>
                  </a:lnTo>
                  <a:lnTo>
                    <a:pt x="163" y="21"/>
                  </a:lnTo>
                  <a:lnTo>
                    <a:pt x="163" y="0"/>
                  </a:lnTo>
                  <a:lnTo>
                    <a:pt x="190" y="26"/>
                  </a:lnTo>
                  <a:lnTo>
                    <a:pt x="163" y="56"/>
                  </a:lnTo>
                  <a:lnTo>
                    <a:pt x="163" y="37"/>
                  </a:lnTo>
                  <a:lnTo>
                    <a:pt x="130" y="37"/>
                  </a:lnTo>
                  <a:lnTo>
                    <a:pt x="105" y="89"/>
                  </a:lnTo>
                  <a:lnTo>
                    <a:pt x="130" y="141"/>
                  </a:lnTo>
                  <a:lnTo>
                    <a:pt x="163" y="141"/>
                  </a:lnTo>
                  <a:lnTo>
                    <a:pt x="163" y="120"/>
                  </a:lnTo>
                  <a:lnTo>
                    <a:pt x="190" y="150"/>
                  </a:lnTo>
                  <a:lnTo>
                    <a:pt x="163" y="177"/>
                  </a:lnTo>
                  <a:lnTo>
                    <a:pt x="163" y="155"/>
                  </a:lnTo>
                  <a:lnTo>
                    <a:pt x="118" y="155"/>
                  </a:lnTo>
                  <a:lnTo>
                    <a:pt x="94" y="109"/>
                  </a:lnTo>
                  <a:lnTo>
                    <a:pt x="71" y="155"/>
                  </a:lnTo>
                  <a:lnTo>
                    <a:pt x="27" y="155"/>
                  </a:lnTo>
                  <a:lnTo>
                    <a:pt x="27" y="177"/>
                  </a:lnTo>
                  <a:lnTo>
                    <a:pt x="0" y="150"/>
                  </a:lnTo>
                  <a:lnTo>
                    <a:pt x="27" y="120"/>
                  </a:lnTo>
                  <a:lnTo>
                    <a:pt x="27" y="141"/>
                  </a:lnTo>
                  <a:lnTo>
                    <a:pt x="58" y="141"/>
                  </a:lnTo>
                  <a:lnTo>
                    <a:pt x="84" y="89"/>
                  </a:lnTo>
                  <a:lnTo>
                    <a:pt x="59" y="37"/>
                  </a:lnTo>
                  <a:lnTo>
                    <a:pt x="27" y="37"/>
                  </a:lnTo>
                  <a:lnTo>
                    <a:pt x="27" y="51"/>
                  </a:lnTo>
                  <a:lnTo>
                    <a:pt x="0" y="26"/>
                  </a:lnTo>
                  <a:lnTo>
                    <a:pt x="27" y="0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3862440" y="4556160"/>
            <a:ext cx="0" cy="4935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108320" y="4556160"/>
            <a:ext cx="0" cy="4935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352760" y="4556160"/>
            <a:ext cx="0" cy="4935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409920" y="5029200"/>
            <a:ext cx="123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DH/PDH/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173280" y="5029200"/>
            <a:ext cx="130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ocal IP 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r ATM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373560" y="2679840"/>
            <a:ext cx="0" cy="1983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618000" y="2679840"/>
            <a:ext cx="0" cy="19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862440" y="2679840"/>
            <a:ext cx="0" cy="1983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964040" y="2679840"/>
            <a:ext cx="0" cy="1983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208480" y="2679840"/>
            <a:ext cx="0" cy="19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452920" y="2679840"/>
            <a:ext cx="0" cy="1983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2273400" y="3666960"/>
            <a:ext cx="4525200" cy="544320"/>
            <a:chOff x="2273400" y="3666960"/>
            <a:chExt cx="4525200" cy="544320"/>
          </a:xfrm>
        </p:grpSpPr>
        <p:sp>
          <p:nvSpPr>
            <p:cNvPr id="648" name=""/>
            <p:cNvSpPr/>
            <p:nvPr/>
          </p:nvSpPr>
          <p:spPr>
            <a:xfrm flipH="1">
              <a:off x="2273400" y="3666960"/>
              <a:ext cx="356400" cy="544320"/>
            </a:xfrm>
            <a:custGeom>
              <a:avLst/>
              <a:gdLst/>
              <a:ahLst/>
              <a:rect l="l" t="t" r="r" b="b"/>
              <a:pathLst>
                <a:path w="195" h="815">
                  <a:moveTo>
                    <a:pt x="0" y="0"/>
                  </a:moveTo>
                  <a:lnTo>
                    <a:pt x="195" y="126"/>
                  </a:lnTo>
                  <a:lnTo>
                    <a:pt x="195" y="688"/>
                  </a:lnTo>
                  <a:lnTo>
                    <a:pt x="0" y="8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442200" y="3666960"/>
              <a:ext cx="356400" cy="544320"/>
            </a:xfrm>
            <a:custGeom>
              <a:avLst/>
              <a:gdLst/>
              <a:ahLst/>
              <a:rect l="l" t="t" r="r" b="b"/>
              <a:pathLst>
                <a:path w="195" h="815">
                  <a:moveTo>
                    <a:pt x="0" y="0"/>
                  </a:moveTo>
                  <a:lnTo>
                    <a:pt x="195" y="126"/>
                  </a:lnTo>
                  <a:lnTo>
                    <a:pt x="195" y="688"/>
                  </a:lnTo>
                  <a:lnTo>
                    <a:pt x="0" y="8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538280" y="4029120"/>
            <a:ext cx="599436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2151000" y="3767040"/>
            <a:ext cx="4525200" cy="542520"/>
            <a:chOff x="2151000" y="3767040"/>
            <a:chExt cx="4525200" cy="542520"/>
          </a:xfrm>
        </p:grpSpPr>
        <p:sp>
          <p:nvSpPr>
            <p:cNvPr id="652" name=""/>
            <p:cNvSpPr/>
            <p:nvPr/>
          </p:nvSpPr>
          <p:spPr>
            <a:xfrm flipH="1">
              <a:off x="2151000" y="3767040"/>
              <a:ext cx="356400" cy="542520"/>
            </a:xfrm>
            <a:custGeom>
              <a:avLst/>
              <a:gdLst/>
              <a:ahLst/>
              <a:rect l="l" t="t" r="r" b="b"/>
              <a:pathLst>
                <a:path w="195" h="815">
                  <a:moveTo>
                    <a:pt x="0" y="0"/>
                  </a:moveTo>
                  <a:lnTo>
                    <a:pt x="195" y="126"/>
                  </a:lnTo>
                  <a:lnTo>
                    <a:pt x="195" y="688"/>
                  </a:lnTo>
                  <a:lnTo>
                    <a:pt x="0" y="8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319800" y="3767040"/>
              <a:ext cx="356400" cy="542520"/>
            </a:xfrm>
            <a:custGeom>
              <a:avLst/>
              <a:gdLst/>
              <a:ahLst/>
              <a:rect l="l" t="t" r="r" b="b"/>
              <a:pathLst>
                <a:path w="195" h="815">
                  <a:moveTo>
                    <a:pt x="0" y="0"/>
                  </a:moveTo>
                  <a:lnTo>
                    <a:pt x="195" y="126"/>
                  </a:lnTo>
                  <a:lnTo>
                    <a:pt x="195" y="688"/>
                  </a:lnTo>
                  <a:lnTo>
                    <a:pt x="0" y="8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"/>
          <p:cNvSpPr/>
          <p:nvPr/>
        </p:nvSpPr>
        <p:spPr>
          <a:xfrm flipH="1">
            <a:off x="2160720" y="1940040"/>
            <a:ext cx="357120" cy="1530360"/>
          </a:xfrm>
          <a:custGeom>
            <a:avLst/>
            <a:gdLst/>
            <a:ahLst/>
            <a:rect l="l" t="t" r="r" b="b"/>
            <a:pathLst>
              <a:path w="195" h="815">
                <a:moveTo>
                  <a:pt x="0" y="0"/>
                </a:moveTo>
                <a:lnTo>
                  <a:pt x="195" y="126"/>
                </a:lnTo>
                <a:lnTo>
                  <a:pt x="195" y="688"/>
                </a:lnTo>
                <a:lnTo>
                  <a:pt x="0" y="81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639880" y="3930480"/>
            <a:ext cx="3668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762280" y="3816360"/>
            <a:ext cx="3668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986200" y="2878200"/>
            <a:ext cx="2813040" cy="16794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241800" y="2909880"/>
            <a:ext cx="23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ransparent  OOO S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4148280" y="3274920"/>
            <a:ext cx="488160" cy="200880"/>
            <a:chOff x="4148280" y="3274920"/>
            <a:chExt cx="488160" cy="200880"/>
          </a:xfrm>
        </p:grpSpPr>
        <p:grpSp>
          <p:nvGrpSpPr>
            <p:cNvPr id="660" name=""/>
            <p:cNvGrpSpPr/>
            <p:nvPr/>
          </p:nvGrpSpPr>
          <p:grpSpPr>
            <a:xfrm>
              <a:off x="4148280" y="3274920"/>
              <a:ext cx="487800" cy="196920"/>
              <a:chOff x="4148280" y="3274920"/>
              <a:chExt cx="487800" cy="196920"/>
            </a:xfrm>
          </p:grpSpPr>
          <p:sp>
            <p:nvSpPr>
              <p:cNvPr id="661" name=""/>
              <p:cNvSpPr/>
              <p:nvPr/>
            </p:nvSpPr>
            <p:spPr>
              <a:xfrm>
                <a:off x="4148280" y="3274920"/>
                <a:ext cx="122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270320" y="3274920"/>
                <a:ext cx="243720" cy="196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514040" y="3471840"/>
                <a:ext cx="122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"/>
            <p:cNvGrpSpPr/>
            <p:nvPr/>
          </p:nvGrpSpPr>
          <p:grpSpPr>
            <a:xfrm>
              <a:off x="4148640" y="3278880"/>
              <a:ext cx="487800" cy="196920"/>
              <a:chOff x="4148640" y="3278880"/>
              <a:chExt cx="487800" cy="196920"/>
            </a:xfrm>
          </p:grpSpPr>
          <p:sp>
            <p:nvSpPr>
              <p:cNvPr id="665" name=""/>
              <p:cNvSpPr/>
              <p:nvPr/>
            </p:nvSpPr>
            <p:spPr>
              <a:xfrm flipH="1">
                <a:off x="4514400" y="3278880"/>
                <a:ext cx="122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>
                <a:off x="4270680" y="3278880"/>
                <a:ext cx="243720" cy="196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4148640" y="3475800"/>
                <a:ext cx="122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8" name=""/>
          <p:cNvSpPr/>
          <p:nvPr/>
        </p:nvSpPr>
        <p:spPr>
          <a:xfrm>
            <a:off x="3343680" y="3594240"/>
            <a:ext cx="2090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DU switc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DH/SONET switc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575320" y="4557600"/>
            <a:ext cx="0" cy="196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330880" y="4557600"/>
            <a:ext cx="0" cy="196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921360" y="3848040"/>
            <a:ext cx="3668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799320" y="3930480"/>
            <a:ext cx="6112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926640" y="3429000"/>
            <a:ext cx="106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DH Op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840240" y="2462040"/>
            <a:ext cx="123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WDM Op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523520" y="9144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Example of nested and cascaded ODUk monitored connections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457200" y="1695600"/>
          <a:ext cx="8229600" cy="34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95600"/>
                    <a:ext cx="822960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TDM Multiplexing in the OTN</a:t>
            </a:r>
            <a:br>
              <a:rPr sz="2800"/>
            </a:b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w Addition to G.709, October 2001</a:t>
            </a:r>
            <a:endParaRPr b="1" lang="en-US" sz="1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ODUk multiplexing, allowing multiplexing of 4x2.5G clients into 10G wavelengths, 4x10G clients into 40G wavelengths, and combinations of 2.5 and 10G clients into 40G wavelengths.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Virtual concatenation of Optical Channel Payloads to allow inverse multiplexing of larger payloads into OTNs: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May be used to invese multiplex 40G payloads to carry over only 10G capable fibers.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May carry future services at greater than 40G rates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OTN Multiplexing Hierarchy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95200" y="19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9140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2" name=""/>
          <p:cNvGraphicFramePr/>
          <p:nvPr/>
        </p:nvGraphicFramePr>
        <p:xfrm>
          <a:off x="685800" y="2122560"/>
          <a:ext cx="7772400" cy="26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22560"/>
                    <a:ext cx="7772400" cy="26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SDH Standardization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352680" y="1447920"/>
            <a:ext cx="2210040" cy="6094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twork Archite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G.803, G.80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62120" y="2133720"/>
            <a:ext cx="2209680" cy="6094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uctures and Mappin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G.70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019920" y="2133720"/>
            <a:ext cx="2209680" cy="6094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ysical Lay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G.957, G.69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62120" y="2971800"/>
            <a:ext cx="2209680" cy="609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quipment Functional Spec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G.783,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G.80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657600" y="2743200"/>
            <a:ext cx="2209680" cy="609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quipment Management</a:t>
            </a:r>
            <a:br>
              <a:rPr sz="1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G.784,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G.771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495680" y="3809880"/>
            <a:ext cx="2210040" cy="6098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formation Model</a:t>
            </a:r>
            <a:br>
              <a:rPr sz="1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G.774 Seri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143000" y="3809880"/>
            <a:ext cx="2209680" cy="6098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tection Switching</a:t>
            </a:r>
            <a:br>
              <a:rPr sz="1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ff3300"/>
                </a:solidFill>
                <a:latin typeface="Times New Roman"/>
              </a:rPr>
              <a:t>G.gp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G.841, G.84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019920" y="2971800"/>
            <a:ext cx="2209680" cy="609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ser Safety</a:t>
            </a:r>
            <a:br>
              <a:rPr sz="1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G.66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19920" y="4724280"/>
            <a:ext cx="220968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and Signal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s Network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G.771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62120" y="4724280"/>
            <a:ext cx="2209680" cy="6098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itter and Wander Perf.</a:t>
            </a:r>
            <a:br>
              <a:rPr sz="1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G.82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429000" y="4724280"/>
            <a:ext cx="2209680" cy="6098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rror Performance</a:t>
            </a:r>
            <a:br>
              <a:rPr sz="1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G.826-82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2971800" y="1905120"/>
            <a:ext cx="38088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57760" bIns="-609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3200400" y="2057400"/>
            <a:ext cx="380880" cy="1752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828800" y="27432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181800" bIns="-685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162920" y="27432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181800" bIns="-685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562720" y="1828800"/>
            <a:ext cx="45720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34080" bIns="-533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971800" y="312408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9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181480" y="33526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0" bIns="-45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2971440" y="3505320"/>
            <a:ext cx="3048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9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990720" y="358092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752480" y="35812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181800" bIns="-685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198108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181800" bIns="-685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4343400" y="33526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 flipV="1">
            <a:off x="2971440" y="3200040"/>
            <a:ext cx="1219320" cy="152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Optical Transport Network (OTN) Standardization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352680" y="1447920"/>
            <a:ext cx="2210040" cy="6094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twork Archite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G.87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62120" y="2133720"/>
            <a:ext cx="2209680" cy="6094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uctures and Mappin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G.70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019920" y="2133720"/>
            <a:ext cx="2209680" cy="6094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ysical Lay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G.692, G.959.1, G.694.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62120" y="2971800"/>
            <a:ext cx="2209680" cy="609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quipment Functional Spec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G.798,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G.80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657600" y="2743200"/>
            <a:ext cx="2209680" cy="609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quipment Management</a:t>
            </a:r>
            <a:br>
              <a:rPr sz="1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G.874, </a:t>
            </a: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G.771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495680" y="3809880"/>
            <a:ext cx="2210040" cy="6098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formation Model</a:t>
            </a:r>
            <a:br>
              <a:rPr sz="1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G.874.1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.87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143000" y="3809880"/>
            <a:ext cx="2209680" cy="6098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tection Switching</a:t>
            </a:r>
            <a:br>
              <a:rPr sz="1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ff3300"/>
                </a:solidFill>
                <a:latin typeface="Times New Roman"/>
              </a:rPr>
              <a:t>G.gps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G.otnpro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019920" y="2971800"/>
            <a:ext cx="2209680" cy="609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ser Safety</a:t>
            </a:r>
            <a:br>
              <a:rPr sz="1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G.66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019920" y="4724280"/>
            <a:ext cx="220968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and Signal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s Network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G.771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62120" y="4724280"/>
            <a:ext cx="2209680" cy="6098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itter and Wander Perf.</a:t>
            </a:r>
            <a:br>
              <a:rPr sz="1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G.825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429000" y="4724280"/>
            <a:ext cx="2209680" cy="6098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rror Performance</a:t>
            </a:r>
            <a:br>
              <a:rPr sz="1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.optper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2971800" y="1905120"/>
            <a:ext cx="38088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57760" bIns="-609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3200400" y="2057400"/>
            <a:ext cx="380880" cy="1752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828800" y="27432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181800" bIns="-685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162920" y="27432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181800" bIns="-685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62720" y="1828800"/>
            <a:ext cx="45720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34080" bIns="-533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971800" y="312408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9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81480" y="33526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0" bIns="-45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2971440" y="3505320"/>
            <a:ext cx="3048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9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990720" y="358092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752480" y="35812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181800" bIns="-685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198108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181800" bIns="-685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4343400" y="33526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971440" y="3200040"/>
            <a:ext cx="1219320" cy="152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a50021"/>
                </a:solidFill>
                <a:latin typeface="Times New Roman"/>
              </a:rPr>
              <a:t>ITU OTN Equipment Recommendations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85800" y="1219320"/>
            <a:ext cx="777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fb0b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G.798   Characteristics of OTN Hierarchy Equipment Functional Bloc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fb0b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G.709   Interfaces for OT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fb0b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G.8251 The Control of Jitter and Wander within the OTN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fb0b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G.872   Architecture of OT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fb0b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G.959.1 OTN Physical Lay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fb0b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G.694.1 Spectral Grid for WDM Applications : DWDM Frequency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fb0b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G.694.2 Spectral Grid for WDM Applications : CWDM Frequency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Re-use in the development of OTN Standards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Optical Fiber Recommendations (G.651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.652, G.653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, G.654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.655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Laser Safety Recommendation G.664.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Generic Equipment Functionality G.806.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Generic Protection Switching G.gps (under development).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ommon Equipment Management Requirements, G.7710.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Data Communication Network (DCN), G.7712.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pproach is to separate generic aspects from SDH Recommendations to avoid “reinventing the wheel” for OTN.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Summary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0773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OTN technology introduces a number of new equipment:-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Metro OADM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Core OADM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Cross-connect - OEO and OOO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Line Systems   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TDM Multiplexing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Topics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1600200"/>
            <a:ext cx="603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b0b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Today’s Transport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b0b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Types of OTN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b0b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Interworking with other transport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b0b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ITU Recommend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Times New Roman"/>
              </a:rPr>
              <a:t>Today’s Transport Networks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447920"/>
            <a:ext cx="7772400" cy="39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b0b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Metro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fb0b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cc99"/>
                </a:solidFill>
                <a:latin typeface="Arial"/>
              </a:rPr>
              <a:t>SDH metro ring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fb0b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cc99"/>
                </a:solidFill>
                <a:latin typeface="Arial"/>
              </a:rPr>
              <a:t>Multi-Service Provisioning Nodes - combining data and SD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b0b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3991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39911"/>
                </a:solidFill>
                <a:latin typeface="Arial"/>
              </a:rPr>
              <a:t>Metro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fb0b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39911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39911"/>
                </a:solidFill>
                <a:latin typeface="Arial"/>
              </a:rPr>
              <a:t>SDH ADM metro ring and mesh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fb0b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39911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39911"/>
                </a:solidFill>
                <a:latin typeface="Arial"/>
              </a:rPr>
              <a:t>Optical add/drop multiplexers (propriet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b0b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c0025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c0025"/>
                </a:solidFill>
                <a:latin typeface="Arial"/>
              </a:rPr>
              <a:t>Long Haul/Ultra Long 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fb0b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c0025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9c0025"/>
                </a:solidFill>
                <a:latin typeface="Arial"/>
              </a:rPr>
              <a:t>SDH ADM rings and line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fb0b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c0025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9c0025"/>
                </a:solidFill>
                <a:latin typeface="Arial"/>
              </a:rPr>
              <a:t>DWDM line systems (propriet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Times New Roman"/>
              </a:rPr>
              <a:t>OTN Requirements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79440" y="2251080"/>
            <a:ext cx="733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b0b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Functionality as that offered by SDH or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b0b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Transparent transport of SDH and other pay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b0b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Stronger F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419112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3991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39911"/>
                </a:solidFill>
                <a:latin typeface="Arial"/>
              </a:rPr>
              <a:t>G.709 is the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3991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39911"/>
                </a:solidFill>
                <a:latin typeface="Arial"/>
              </a:rPr>
              <a:t>G.709 defines the interfaces for the OT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Applicability of SDH and OTN Standards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SONET and SDH technology evolved with fully standardized external interfaces.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While many of the features of Optical Transport Networks (OTNs) are standardized, many of the external interfaces are highly proprietary, trying to maximize: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bit-rate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ensity of packing of wavelengths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total number of wavelengths carried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istance that can be spanned without requiring O-E-O (Optical to Electrical to Optical) regeneration.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Strategy for Standardization of Optical Transport Networks</a:t>
            </a:r>
            <a:endParaRPr b="1" lang="en-US" sz="1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Standardize around digital frame formats supporting (initially) client bit rates of 2.5, 10, and 40 Gbps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Develop layered network architecture (as for SDH) to support in-service monitoring, fault detection, and isolation.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Monitoring occurs at “3R” points in the network.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Fully standardize “path” layers to support end to end transport of client signals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Partially standardize line and section type layers to allow interconnect at handoff points in the network without limiting the ability of vendors and operators to take advantage of new technologies.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581280" y="4038480"/>
            <a:ext cx="3461040" cy="44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91720" cy="6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Times New Roman"/>
              </a:rPr>
              <a:t>Network Evolution - Transport  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6060960" y="3285720"/>
            <a:ext cx="1441080" cy="78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6057720" y="3290760"/>
            <a:ext cx="1441080" cy="78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45160" y="3843360"/>
            <a:ext cx="1697040" cy="92160"/>
          </a:xfrm>
          <a:custGeom>
            <a:avLst/>
            <a:gdLst/>
            <a:ahLst/>
            <a:rect l="l" t="t" r="r" b="b"/>
            <a:pathLst>
              <a:path w="1069" h="58">
                <a:moveTo>
                  <a:pt x="1069" y="58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21560" y="3378240"/>
            <a:ext cx="266760" cy="1857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46960" y="3378240"/>
            <a:ext cx="266760" cy="1857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42200" y="3879720"/>
            <a:ext cx="266400" cy="1857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56360" y="4103640"/>
            <a:ext cx="266760" cy="1857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005680" y="3602160"/>
            <a:ext cx="266760" cy="1857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83560" y="3992400"/>
            <a:ext cx="264960" cy="1857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7335720" y="4103280"/>
            <a:ext cx="447840" cy="1112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721200" y="3713040"/>
            <a:ext cx="1284120" cy="2793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00920" y="3489480"/>
            <a:ext cx="168120" cy="6141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00920" y="3489480"/>
            <a:ext cx="782640" cy="5587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21560" y="3992400"/>
            <a:ext cx="334800" cy="2224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610320" y="3544920"/>
            <a:ext cx="223920" cy="3348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26320" y="3489480"/>
            <a:ext cx="279360" cy="1681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70880" y="3602160"/>
            <a:ext cx="223920" cy="3902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7894800" y="3768480"/>
            <a:ext cx="223560" cy="2235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00920" y="3489480"/>
            <a:ext cx="44604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30760" y="3489480"/>
            <a:ext cx="1990800" cy="353880"/>
          </a:xfrm>
          <a:custGeom>
            <a:avLst/>
            <a:gdLst/>
            <a:ahLst/>
            <a:rect l="l" t="t" r="r" b="b"/>
            <a:pathLst>
              <a:path w="1254" h="223">
                <a:moveTo>
                  <a:pt x="0" y="223"/>
                </a:moveTo>
                <a:lnTo>
                  <a:pt x="125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7615080" y="2987280"/>
            <a:ext cx="211320" cy="3906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834240" y="3154320"/>
            <a:ext cx="55440" cy="2239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713600">
            <a:off x="6378120" y="2633760"/>
            <a:ext cx="1359000" cy="46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713600">
            <a:off x="6376680" y="2638440"/>
            <a:ext cx="1359000" cy="4680"/>
          </a:xfrm>
          <a:prstGeom prst="rect">
            <a:avLst/>
          </a:prstGeom>
          <a:solidFill>
            <a:srgbClr val="f2cb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713600">
            <a:off x="6375240" y="2642760"/>
            <a:ext cx="1359000" cy="3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713600">
            <a:off x="6372360" y="2644560"/>
            <a:ext cx="1358640" cy="2880"/>
          </a:xfrm>
          <a:prstGeom prst="rect">
            <a:avLst/>
          </a:prstGeom>
          <a:solidFill>
            <a:srgbClr val="b5f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713600">
            <a:off x="6370200" y="2647440"/>
            <a:ext cx="1360440" cy="3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713600">
            <a:off x="6370200" y="2651040"/>
            <a:ext cx="1359000" cy="4680"/>
          </a:xfrm>
          <a:prstGeom prst="rect">
            <a:avLst/>
          </a:prstGeom>
          <a:solidFill>
            <a:srgbClr val="0cf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713600">
            <a:off x="6367320" y="2653920"/>
            <a:ext cx="1359000" cy="32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713600">
            <a:off x="6365520" y="2657520"/>
            <a:ext cx="1360440" cy="4680"/>
          </a:xfrm>
          <a:prstGeom prst="rect">
            <a:avLst/>
          </a:prstGeom>
          <a:solidFill>
            <a:srgbClr val="03a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713600">
            <a:off x="6364440" y="2660400"/>
            <a:ext cx="1358640" cy="3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713600">
            <a:off x="6362280" y="2664000"/>
            <a:ext cx="1360440" cy="4680"/>
          </a:xfrm>
          <a:prstGeom prst="rect">
            <a:avLst/>
          </a:prstGeom>
          <a:solidFill>
            <a:srgbClr val="c20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713600">
            <a:off x="6361200" y="2668320"/>
            <a:ext cx="1358640" cy="32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713600">
            <a:off x="6357600" y="2669760"/>
            <a:ext cx="1360440" cy="3240"/>
          </a:xfrm>
          <a:prstGeom prst="rect">
            <a:avLst/>
          </a:prstGeom>
          <a:solidFill>
            <a:srgbClr val="b700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713600">
            <a:off x="6357960" y="2673000"/>
            <a:ext cx="1359000" cy="3240"/>
          </a:xfrm>
          <a:prstGeom prst="rect">
            <a:avLst/>
          </a:prstGeom>
          <a:solidFill>
            <a:srgbClr val="7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713600">
            <a:off x="6379920" y="2631600"/>
            <a:ext cx="1360440" cy="3240"/>
          </a:xfrm>
          <a:prstGeom prst="rect">
            <a:avLst/>
          </a:prstGeom>
          <a:solidFill>
            <a:srgbClr val="b900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713600">
            <a:off x="6381720" y="2628720"/>
            <a:ext cx="1359000" cy="2880"/>
          </a:xfrm>
          <a:prstGeom prst="rect">
            <a:avLst/>
          </a:prstGeom>
          <a:solidFill>
            <a:srgbClr val="a700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647640"/>
            <a:ext cx="1981080" cy="3812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647640"/>
            <a:ext cx="1600200" cy="3812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647640"/>
            <a:ext cx="3352680" cy="3812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614880"/>
            <a:ext cx="34434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ong Haul/Ultra Long Ha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70360" y="3300480"/>
            <a:ext cx="304920" cy="569880"/>
          </a:xfrm>
          <a:custGeom>
            <a:avLst/>
            <a:gdLst/>
            <a:ahLst/>
            <a:rect l="l" t="t" r="r" b="b"/>
            <a:pathLst>
              <a:path w="192" h="359">
                <a:moveTo>
                  <a:pt x="0" y="359"/>
                </a:moveTo>
                <a:lnTo>
                  <a:pt x="192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73800" y="2155680"/>
            <a:ext cx="27000" cy="746280"/>
          </a:xfrm>
          <a:custGeom>
            <a:avLst/>
            <a:gdLst/>
            <a:ahLst/>
            <a:rect l="l" t="t" r="r" b="b"/>
            <a:pathLst>
              <a:path w="17" h="470">
                <a:moveTo>
                  <a:pt x="17" y="0"/>
                </a:moveTo>
                <a:lnTo>
                  <a:pt x="0" y="47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720840" y="2936160"/>
            <a:ext cx="1052280" cy="351000"/>
            <a:chOff x="6720840" y="2936160"/>
            <a:chExt cx="1052280" cy="351000"/>
          </a:xfrm>
        </p:grpSpPr>
        <p:sp>
          <p:nvSpPr>
            <p:cNvPr id="118" name=""/>
            <p:cNvSpPr/>
            <p:nvPr/>
          </p:nvSpPr>
          <p:spPr>
            <a:xfrm flipH="1">
              <a:off x="6773400" y="2997000"/>
              <a:ext cx="917280" cy="26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774120" y="3000600"/>
              <a:ext cx="917640" cy="263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20637000">
              <a:off x="6701760" y="3092040"/>
              <a:ext cx="1079640" cy="360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0637000">
              <a:off x="6702840" y="3095640"/>
              <a:ext cx="1079640" cy="3600"/>
            </a:xfrm>
            <a:prstGeom prst="rect">
              <a:avLst/>
            </a:prstGeom>
            <a:solidFill>
              <a:srgbClr val="f2cb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20637000">
              <a:off x="6703920" y="3099600"/>
              <a:ext cx="1079640" cy="3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0637000">
              <a:off x="6705000" y="3102840"/>
              <a:ext cx="1079640" cy="3240"/>
            </a:xfrm>
            <a:prstGeom prst="rect">
              <a:avLst/>
            </a:prstGeom>
            <a:solidFill>
              <a:srgbClr val="b5fd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0637000">
              <a:off x="6705720" y="3105720"/>
              <a:ext cx="1079640" cy="36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20637000">
              <a:off x="6706800" y="3109320"/>
              <a:ext cx="1079640" cy="3600"/>
            </a:xfrm>
            <a:prstGeom prst="rect">
              <a:avLst/>
            </a:prstGeom>
            <a:solidFill>
              <a:srgbClr val="0cf3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0637000">
              <a:off x="6707880" y="3112920"/>
              <a:ext cx="1079640" cy="36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37000">
              <a:off x="6708960" y="3116520"/>
              <a:ext cx="1079640" cy="3600"/>
            </a:xfrm>
            <a:prstGeom prst="rect">
              <a:avLst/>
            </a:prstGeom>
            <a:solidFill>
              <a:srgbClr val="03ae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637000">
              <a:off x="6709680" y="3119400"/>
              <a:ext cx="1079640" cy="3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20637000">
              <a:off x="6710760" y="3123000"/>
              <a:ext cx="1079640" cy="3600"/>
            </a:xfrm>
            <a:prstGeom prst="rect">
              <a:avLst/>
            </a:prstGeom>
            <a:solidFill>
              <a:srgbClr val="c205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20637000">
              <a:off x="6711840" y="3126600"/>
              <a:ext cx="1079640" cy="32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20637000">
              <a:off x="6712920" y="3130200"/>
              <a:ext cx="1079640" cy="3600"/>
            </a:xfrm>
            <a:prstGeom prst="rect">
              <a:avLst/>
            </a:pr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20637000">
              <a:off x="6714000" y="3134160"/>
              <a:ext cx="1079640" cy="3240"/>
            </a:xfrm>
            <a:prstGeom prst="rect">
              <a:avLst/>
            </a:prstGeom>
            <a:solidFill>
              <a:srgbClr val="78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20637000">
              <a:off x="6700680" y="3088440"/>
              <a:ext cx="1079640" cy="3600"/>
            </a:xfrm>
            <a:prstGeom prst="rect">
              <a:avLst/>
            </a:prstGeom>
            <a:solidFill>
              <a:srgbClr val="b900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20637000">
              <a:off x="6699960" y="3085200"/>
              <a:ext cx="1079640" cy="3240"/>
            </a:xfrm>
            <a:prstGeom prst="rect">
              <a:avLst/>
            </a:prstGeom>
            <a:solidFill>
              <a:srgbClr val="a70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371280" y="2385720"/>
            <a:ext cx="445680" cy="763200"/>
            <a:chOff x="6371280" y="2385720"/>
            <a:chExt cx="445680" cy="763200"/>
          </a:xfrm>
        </p:grpSpPr>
        <p:sp>
          <p:nvSpPr>
            <p:cNvPr id="136" name=""/>
            <p:cNvSpPr/>
            <p:nvPr/>
          </p:nvSpPr>
          <p:spPr>
            <a:xfrm>
              <a:off x="6437160" y="2448720"/>
              <a:ext cx="350640" cy="651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440400" y="2446920"/>
              <a:ext cx="350640" cy="651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4502600">
              <a:off x="6158520" y="2774160"/>
              <a:ext cx="837000" cy="360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4502600">
              <a:off x="6162120" y="2772360"/>
              <a:ext cx="837000" cy="3960"/>
            </a:xfrm>
            <a:prstGeom prst="rect">
              <a:avLst/>
            </a:prstGeom>
            <a:solidFill>
              <a:srgbClr val="f2cb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4502600">
              <a:off x="6165720" y="2770560"/>
              <a:ext cx="837000" cy="3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4502600">
              <a:off x="6168960" y="2769120"/>
              <a:ext cx="837000" cy="3240"/>
            </a:xfrm>
            <a:prstGeom prst="rect">
              <a:avLst/>
            </a:prstGeom>
            <a:solidFill>
              <a:srgbClr val="b5fd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4502600">
              <a:off x="6171840" y="2767320"/>
              <a:ext cx="837000" cy="36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4502600">
              <a:off x="6175080" y="2765160"/>
              <a:ext cx="837000" cy="3600"/>
            </a:xfrm>
            <a:prstGeom prst="rect">
              <a:avLst/>
            </a:prstGeom>
            <a:solidFill>
              <a:srgbClr val="0cf3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4502600">
              <a:off x="6178680" y="2763720"/>
              <a:ext cx="837000" cy="39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4502600">
              <a:off x="6181920" y="2761560"/>
              <a:ext cx="837000" cy="3600"/>
            </a:xfrm>
            <a:prstGeom prst="rect">
              <a:avLst/>
            </a:prstGeom>
            <a:solidFill>
              <a:srgbClr val="03ae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4502600">
              <a:off x="6184800" y="2760120"/>
              <a:ext cx="837000" cy="3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4502600">
              <a:off x="6188040" y="2758320"/>
              <a:ext cx="837000" cy="3960"/>
            </a:xfrm>
            <a:prstGeom prst="rect">
              <a:avLst/>
            </a:prstGeom>
            <a:solidFill>
              <a:srgbClr val="c205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4502600">
              <a:off x="6191280" y="2756520"/>
              <a:ext cx="837000" cy="36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4502600">
              <a:off x="6194880" y="2754720"/>
              <a:ext cx="837000" cy="3600"/>
            </a:xfrm>
            <a:prstGeom prst="rect">
              <a:avLst/>
            </a:pr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4502600">
              <a:off x="6198480" y="2753280"/>
              <a:ext cx="837000" cy="3240"/>
            </a:xfrm>
            <a:prstGeom prst="rect">
              <a:avLst/>
            </a:prstGeom>
            <a:solidFill>
              <a:srgbClr val="78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4502600">
              <a:off x="6155280" y="2775960"/>
              <a:ext cx="837000" cy="3600"/>
            </a:xfrm>
            <a:prstGeom prst="rect">
              <a:avLst/>
            </a:prstGeom>
            <a:solidFill>
              <a:srgbClr val="b900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4502600">
              <a:off x="6152400" y="2777760"/>
              <a:ext cx="837000" cy="3240"/>
            </a:xfrm>
            <a:prstGeom prst="rect">
              <a:avLst/>
            </a:prstGeom>
            <a:solidFill>
              <a:srgbClr val="a70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7673400" y="2188440"/>
            <a:ext cx="515160" cy="787680"/>
            <a:chOff x="7673400" y="2188440"/>
            <a:chExt cx="515160" cy="787680"/>
          </a:xfrm>
        </p:grpSpPr>
        <p:sp>
          <p:nvSpPr>
            <p:cNvPr id="154" name=""/>
            <p:cNvSpPr/>
            <p:nvPr/>
          </p:nvSpPr>
          <p:spPr>
            <a:xfrm flipH="1">
              <a:off x="7725600" y="2266920"/>
              <a:ext cx="415080" cy="671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7728480" y="2269080"/>
              <a:ext cx="415080" cy="671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8103800">
              <a:off x="7469280" y="2570760"/>
              <a:ext cx="892800" cy="360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8103800">
              <a:off x="7472160" y="2572560"/>
              <a:ext cx="892800" cy="3600"/>
            </a:xfrm>
            <a:prstGeom prst="rect">
              <a:avLst/>
            </a:prstGeom>
            <a:solidFill>
              <a:srgbClr val="f2cb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8103800">
              <a:off x="7475040" y="2575080"/>
              <a:ext cx="892800" cy="3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8103800">
              <a:off x="7478280" y="2576880"/>
              <a:ext cx="892800" cy="3240"/>
            </a:xfrm>
            <a:prstGeom prst="rect">
              <a:avLst/>
            </a:prstGeom>
            <a:solidFill>
              <a:srgbClr val="b5fd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8103800">
              <a:off x="7481160" y="2577960"/>
              <a:ext cx="892800" cy="36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8103800">
              <a:off x="7484400" y="2580120"/>
              <a:ext cx="892800" cy="3600"/>
            </a:xfrm>
            <a:prstGeom prst="rect">
              <a:avLst/>
            </a:prstGeom>
            <a:solidFill>
              <a:srgbClr val="0cf3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8103800">
              <a:off x="7487640" y="2581920"/>
              <a:ext cx="892800" cy="36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8103800">
              <a:off x="7490520" y="2583720"/>
              <a:ext cx="892800" cy="3600"/>
            </a:xfrm>
            <a:prstGeom prst="rect">
              <a:avLst/>
            </a:prstGeom>
            <a:solidFill>
              <a:srgbClr val="03ae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8103800">
              <a:off x="7493400" y="2585520"/>
              <a:ext cx="892800" cy="3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8103800">
              <a:off x="7496280" y="2587320"/>
              <a:ext cx="892800" cy="3600"/>
            </a:xfrm>
            <a:prstGeom prst="rect">
              <a:avLst/>
            </a:prstGeom>
            <a:solidFill>
              <a:srgbClr val="c205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8103800">
              <a:off x="7499520" y="2589840"/>
              <a:ext cx="892800" cy="32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8103800">
              <a:off x="7502760" y="2591280"/>
              <a:ext cx="892800" cy="3600"/>
            </a:xfrm>
            <a:prstGeom prst="rect">
              <a:avLst/>
            </a:pr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8103800">
              <a:off x="7505640" y="2593800"/>
              <a:ext cx="892800" cy="3240"/>
            </a:xfrm>
            <a:prstGeom prst="rect">
              <a:avLst/>
            </a:prstGeom>
            <a:solidFill>
              <a:srgbClr val="78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8103800">
              <a:off x="7465680" y="2568600"/>
              <a:ext cx="892800" cy="3600"/>
            </a:xfrm>
            <a:prstGeom prst="rect">
              <a:avLst/>
            </a:prstGeom>
            <a:solidFill>
              <a:srgbClr val="b900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8103800">
              <a:off x="7462800" y="2567160"/>
              <a:ext cx="892800" cy="3240"/>
            </a:xfrm>
            <a:prstGeom prst="rect">
              <a:avLst/>
            </a:prstGeom>
            <a:solidFill>
              <a:srgbClr val="a70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7290000" y="1755360"/>
            <a:ext cx="805320" cy="479880"/>
            <a:chOff x="7290000" y="1755360"/>
            <a:chExt cx="805320" cy="479880"/>
          </a:xfrm>
        </p:grpSpPr>
        <p:sp>
          <p:nvSpPr>
            <p:cNvPr id="172" name=""/>
            <p:cNvSpPr/>
            <p:nvPr/>
          </p:nvSpPr>
          <p:spPr>
            <a:xfrm flipH="1" flipV="1">
              <a:off x="7327800" y="1807200"/>
              <a:ext cx="688680" cy="382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7326000" y="1810080"/>
              <a:ext cx="688680" cy="382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743000">
              <a:off x="7255440" y="1977480"/>
              <a:ext cx="891360" cy="360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743000">
              <a:off x="7253640" y="1980720"/>
              <a:ext cx="891360" cy="3600"/>
            </a:xfrm>
            <a:prstGeom prst="rect">
              <a:avLst/>
            </a:prstGeom>
            <a:solidFill>
              <a:srgbClr val="f2cb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743000">
              <a:off x="7251840" y="1984320"/>
              <a:ext cx="891360" cy="3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743000">
              <a:off x="7250400" y="1987200"/>
              <a:ext cx="891360" cy="3240"/>
            </a:xfrm>
            <a:prstGeom prst="rect">
              <a:avLst/>
            </a:prstGeom>
            <a:solidFill>
              <a:srgbClr val="b5fd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743000">
              <a:off x="7248600" y="1989720"/>
              <a:ext cx="891360" cy="36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743000">
              <a:off x="7246440" y="1993320"/>
              <a:ext cx="891360" cy="3600"/>
            </a:xfrm>
            <a:prstGeom prst="rect">
              <a:avLst/>
            </a:prstGeom>
            <a:solidFill>
              <a:srgbClr val="0cf3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743000">
              <a:off x="7244640" y="1996560"/>
              <a:ext cx="891360" cy="36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743000">
              <a:off x="7243200" y="1999440"/>
              <a:ext cx="891360" cy="3600"/>
            </a:xfrm>
            <a:prstGeom prst="rect">
              <a:avLst/>
            </a:prstGeom>
            <a:solidFill>
              <a:srgbClr val="03ae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743000">
              <a:off x="7241400" y="2002320"/>
              <a:ext cx="891360" cy="3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743000">
              <a:off x="7239600" y="2005560"/>
              <a:ext cx="891360" cy="3600"/>
            </a:xfrm>
            <a:prstGeom prst="rect">
              <a:avLst/>
            </a:prstGeom>
            <a:solidFill>
              <a:srgbClr val="c205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743000">
              <a:off x="7238160" y="2009160"/>
              <a:ext cx="891360" cy="32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743000">
              <a:off x="7236000" y="2012040"/>
              <a:ext cx="891360" cy="3600"/>
            </a:xfrm>
            <a:prstGeom prst="rect">
              <a:avLst/>
            </a:pr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743000">
              <a:off x="7234560" y="2015640"/>
              <a:ext cx="891360" cy="3240"/>
            </a:xfrm>
            <a:prstGeom prst="rect">
              <a:avLst/>
            </a:prstGeom>
            <a:solidFill>
              <a:srgbClr val="78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1743000">
              <a:off x="7257240" y="1974240"/>
              <a:ext cx="891360" cy="3600"/>
            </a:xfrm>
            <a:prstGeom prst="rect">
              <a:avLst/>
            </a:prstGeom>
            <a:solidFill>
              <a:srgbClr val="b900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743000">
              <a:off x="7259040" y="1971360"/>
              <a:ext cx="891360" cy="3240"/>
            </a:xfrm>
            <a:prstGeom prst="rect">
              <a:avLst/>
            </a:prstGeom>
            <a:solidFill>
              <a:srgbClr val="a70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6420960" y="1742400"/>
            <a:ext cx="944280" cy="617760"/>
            <a:chOff x="6420960" y="1742400"/>
            <a:chExt cx="944280" cy="617760"/>
          </a:xfrm>
        </p:grpSpPr>
        <p:sp>
          <p:nvSpPr>
            <p:cNvPr id="190" name=""/>
            <p:cNvSpPr/>
            <p:nvPr/>
          </p:nvSpPr>
          <p:spPr>
            <a:xfrm flipH="1">
              <a:off x="6478560" y="1819080"/>
              <a:ext cx="810000" cy="505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6480720" y="1822320"/>
              <a:ext cx="809640" cy="505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9680600">
              <a:off x="6343560" y="2034000"/>
              <a:ext cx="1079640" cy="360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9680600">
              <a:off x="6345360" y="2036880"/>
              <a:ext cx="1079640" cy="3600"/>
            </a:xfrm>
            <a:prstGeom prst="rect">
              <a:avLst/>
            </a:prstGeom>
            <a:solidFill>
              <a:srgbClr val="f2cb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9680600">
              <a:off x="6347520" y="2040120"/>
              <a:ext cx="1079640" cy="3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9680600">
              <a:off x="6349320" y="2043360"/>
              <a:ext cx="1079640" cy="3240"/>
            </a:xfrm>
            <a:prstGeom prst="rect">
              <a:avLst/>
            </a:prstGeom>
            <a:solidFill>
              <a:srgbClr val="b5fd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9680600">
              <a:off x="6350760" y="2045880"/>
              <a:ext cx="1079640" cy="36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9680600">
              <a:off x="6352920" y="2049120"/>
              <a:ext cx="1079640" cy="3600"/>
            </a:xfrm>
            <a:prstGeom prst="rect">
              <a:avLst/>
            </a:prstGeom>
            <a:solidFill>
              <a:srgbClr val="0cf3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9680600">
              <a:off x="6355080" y="2052000"/>
              <a:ext cx="1079640" cy="36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9680600">
              <a:off x="6356880" y="2055240"/>
              <a:ext cx="1079640" cy="3600"/>
            </a:xfrm>
            <a:prstGeom prst="rect">
              <a:avLst/>
            </a:prstGeom>
            <a:solidFill>
              <a:srgbClr val="03ae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9680600">
              <a:off x="6358680" y="2058120"/>
              <a:ext cx="1079640" cy="3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9680600">
              <a:off x="6360480" y="2061000"/>
              <a:ext cx="1079640" cy="3600"/>
            </a:xfrm>
            <a:prstGeom prst="rect">
              <a:avLst/>
            </a:prstGeom>
            <a:solidFill>
              <a:srgbClr val="c205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9680600">
              <a:off x="6362640" y="2064240"/>
              <a:ext cx="1079640" cy="32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9680600">
              <a:off x="6364440" y="2067480"/>
              <a:ext cx="1079640" cy="3600"/>
            </a:xfrm>
            <a:prstGeom prst="rect">
              <a:avLst/>
            </a:prstGeom>
            <a:solidFill>
              <a:srgbClr val="b70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9680600">
              <a:off x="6366600" y="2070720"/>
              <a:ext cx="1079640" cy="3240"/>
            </a:xfrm>
            <a:prstGeom prst="rect">
              <a:avLst/>
            </a:prstGeom>
            <a:solidFill>
              <a:srgbClr val="78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9680600">
              <a:off x="6341400" y="2030400"/>
              <a:ext cx="1079640" cy="3600"/>
            </a:xfrm>
            <a:prstGeom prst="rect">
              <a:avLst/>
            </a:prstGeom>
            <a:solidFill>
              <a:srgbClr val="b900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9680600">
              <a:off x="6339600" y="2027880"/>
              <a:ext cx="1079640" cy="3240"/>
            </a:xfrm>
            <a:prstGeom prst="rect">
              <a:avLst/>
            </a:prstGeom>
            <a:solidFill>
              <a:srgbClr val="a70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6270480" y="2173320"/>
            <a:ext cx="277920" cy="2779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35920" y="1633680"/>
            <a:ext cx="277560" cy="27936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3621600">
            <a:off x="6924960" y="1917000"/>
            <a:ext cx="279360" cy="55800"/>
          </a:xfrm>
          <a:custGeom>
            <a:avLst/>
            <a:gdLst>
              <a:gd name="textAreaLeft" fmla="*/ 61200 w 279360"/>
              <a:gd name="textAreaRight" fmla="*/ 218160 w 279360"/>
              <a:gd name="textAreaTop" fmla="*/ 12240 h 55800"/>
              <a:gd name="textAreaBottom" fmla="*/ 43560 h 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14568600">
            <a:off x="6518880" y="2171880"/>
            <a:ext cx="279360" cy="55800"/>
          </a:xfrm>
          <a:custGeom>
            <a:avLst/>
            <a:gdLst>
              <a:gd name="textAreaLeft" fmla="*/ 61200 w 279360"/>
              <a:gd name="textAreaRight" fmla="*/ 218160 w 279360"/>
              <a:gd name="textAreaTop" fmla="*/ 12240 h 55800"/>
              <a:gd name="textAreaBottom" fmla="*/ 43560 h 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05720" y="3009960"/>
            <a:ext cx="277560" cy="27936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81960" y="2860560"/>
            <a:ext cx="279360" cy="27936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991640" y="2079720"/>
            <a:ext cx="279360" cy="27936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7143000">
            <a:off x="7358760" y="1856160"/>
            <a:ext cx="279360" cy="55440"/>
          </a:xfrm>
          <a:custGeom>
            <a:avLst/>
            <a:gdLst>
              <a:gd name="textAreaLeft" fmla="*/ 61200 w 279360"/>
              <a:gd name="textAreaRight" fmla="*/ 218160 w 279360"/>
              <a:gd name="textAreaTop" fmla="*/ 12240 h 55440"/>
              <a:gd name="textAreaBottom" fmla="*/ 43200 h 5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8018000">
            <a:off x="7730280" y="2065680"/>
            <a:ext cx="279360" cy="55440"/>
          </a:xfrm>
          <a:custGeom>
            <a:avLst/>
            <a:gdLst>
              <a:gd name="textAreaLeft" fmla="*/ 61200 w 279360"/>
              <a:gd name="textAreaRight" fmla="*/ 218160 w 279360"/>
              <a:gd name="textAreaTop" fmla="*/ 12240 h 55440"/>
              <a:gd name="textAreaBottom" fmla="*/ 43200 h 5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2025600">
            <a:off x="7673760" y="2734920"/>
            <a:ext cx="279360" cy="55440"/>
          </a:xfrm>
          <a:custGeom>
            <a:avLst/>
            <a:gdLst>
              <a:gd name="textAreaLeft" fmla="*/ 61200 w 279360"/>
              <a:gd name="textAreaRight" fmla="*/ 218160 w 279360"/>
              <a:gd name="textAreaTop" fmla="*/ 12240 h 55440"/>
              <a:gd name="textAreaBottom" fmla="*/ 43200 h 5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12598800">
            <a:off x="7856640" y="2409840"/>
            <a:ext cx="279360" cy="55440"/>
          </a:xfrm>
          <a:custGeom>
            <a:avLst/>
            <a:gdLst>
              <a:gd name="textAreaLeft" fmla="*/ 61200 w 279360"/>
              <a:gd name="textAreaRight" fmla="*/ 218160 w 279360"/>
              <a:gd name="textAreaTop" fmla="*/ 12240 h 55440"/>
              <a:gd name="textAreaBottom" fmla="*/ 43200 h 5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4568400">
            <a:off x="7340400" y="3019320"/>
            <a:ext cx="277560" cy="55800"/>
          </a:xfrm>
          <a:custGeom>
            <a:avLst/>
            <a:gdLst>
              <a:gd name="textAreaLeft" fmla="*/ 60840 w 277560"/>
              <a:gd name="textAreaRight" fmla="*/ 216720 w 277560"/>
              <a:gd name="textAreaTop" fmla="*/ 12240 h 55800"/>
              <a:gd name="textAreaBottom" fmla="*/ 43560 h 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5280200">
            <a:off x="6945120" y="3144600"/>
            <a:ext cx="277920" cy="55800"/>
          </a:xfrm>
          <a:custGeom>
            <a:avLst/>
            <a:gdLst>
              <a:gd name="textAreaLeft" fmla="*/ 60840 w 277920"/>
              <a:gd name="textAreaRight" fmla="*/ 217080 w 277920"/>
              <a:gd name="textAreaTop" fmla="*/ 12240 h 55800"/>
              <a:gd name="textAreaBottom" fmla="*/ 43560 h 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19802400">
            <a:off x="6362280" y="2549160"/>
            <a:ext cx="279360" cy="55440"/>
          </a:xfrm>
          <a:custGeom>
            <a:avLst/>
            <a:gdLst>
              <a:gd name="textAreaLeft" fmla="*/ 61200 w 279360"/>
              <a:gd name="textAreaRight" fmla="*/ 218160 w 279360"/>
              <a:gd name="textAreaTop" fmla="*/ 12240 h 55440"/>
              <a:gd name="textAreaBottom" fmla="*/ 43200 h 5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20065800">
            <a:off x="6553080" y="2916000"/>
            <a:ext cx="279360" cy="56880"/>
          </a:xfrm>
          <a:custGeom>
            <a:avLst/>
            <a:gdLst>
              <a:gd name="textAreaLeft" fmla="*/ 61200 w 279360"/>
              <a:gd name="textAreaRight" fmla="*/ 218160 w 279360"/>
              <a:gd name="textAreaTop" fmla="*/ 12240 h 56880"/>
              <a:gd name="textAreaBottom" fmla="*/ 44640 h 5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14400" bIns="-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65120" y="2316960"/>
            <a:ext cx="112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DWDM me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87360" y="627840"/>
            <a:ext cx="15249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tro 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21419400">
            <a:off x="3228480" y="3571920"/>
            <a:ext cx="1506600" cy="5014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83360" y="3652200"/>
            <a:ext cx="996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99"/>
                </a:solidFill>
                <a:latin typeface="Arial"/>
              </a:rPr>
              <a:t>STM 64/2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99"/>
                </a:solidFill>
                <a:latin typeface="Arial"/>
              </a:rPr>
              <a:t>Rings or Me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987720" y="4017960"/>
            <a:ext cx="146160" cy="136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41680" y="3571920"/>
            <a:ext cx="146160" cy="136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56200" y="3516480"/>
            <a:ext cx="145800" cy="136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92480" y="3220920"/>
            <a:ext cx="2226960" cy="449280"/>
          </a:xfrm>
          <a:custGeom>
            <a:avLst/>
            <a:gdLst/>
            <a:ahLst/>
            <a:rect l="l" t="t" r="r" b="b"/>
            <a:pathLst>
              <a:path w="1403" h="283">
                <a:moveTo>
                  <a:pt x="1403" y="0"/>
                </a:moveTo>
                <a:lnTo>
                  <a:pt x="0" y="283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53000" y="3760920"/>
            <a:ext cx="146160" cy="1346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325400" y="2666880"/>
            <a:ext cx="2118240" cy="729000"/>
            <a:chOff x="4325400" y="2666880"/>
            <a:chExt cx="2118240" cy="729000"/>
          </a:xfrm>
        </p:grpSpPr>
        <p:sp>
          <p:nvSpPr>
            <p:cNvPr id="232" name=""/>
            <p:cNvSpPr/>
            <p:nvPr/>
          </p:nvSpPr>
          <p:spPr>
            <a:xfrm rot="21337200">
              <a:off x="4343400" y="2763360"/>
              <a:ext cx="2065320" cy="554040"/>
            </a:xfrm>
            <a:prstGeom prst="donut">
              <a:avLst>
                <a:gd name="adj" fmla="val 4175"/>
              </a:avLst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17640" y="2900880"/>
              <a:ext cx="1665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99"/>
                  </a:solidFill>
                  <a:latin typeface="Arial"/>
                </a:rPr>
                <a:t>OADM Rings or Mes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89800" y="2765160"/>
              <a:ext cx="168120" cy="166680"/>
            </a:xfrm>
            <a:prstGeom prst="rect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05560" y="2666880"/>
              <a:ext cx="168480" cy="168120"/>
            </a:xfrm>
            <a:prstGeom prst="rect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999320" y="3219120"/>
              <a:ext cx="166680" cy="166680"/>
            </a:xfrm>
            <a:prstGeom prst="rect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64400" y="3135240"/>
              <a:ext cx="166680" cy="166680"/>
            </a:xfrm>
            <a:prstGeom prst="rect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75520" y="2876400"/>
              <a:ext cx="168120" cy="168120"/>
            </a:xfrm>
            <a:prstGeom prst="rect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5040" y="3165120"/>
              <a:ext cx="168120" cy="167040"/>
            </a:xfrm>
            <a:prstGeom prst="rect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901800" y="600840"/>
            <a:ext cx="1884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tro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71520" y="3193920"/>
            <a:ext cx="252360" cy="649440"/>
          </a:xfrm>
          <a:custGeom>
            <a:avLst/>
            <a:gdLst/>
            <a:ahLst/>
            <a:rect l="l" t="t" r="r" b="b"/>
            <a:pathLst>
              <a:path w="159" h="409">
                <a:moveTo>
                  <a:pt x="0" y="0"/>
                </a:moveTo>
                <a:lnTo>
                  <a:pt x="159" y="409"/>
                </a:lnTo>
              </a:path>
            </a:pathLst>
          </a:custGeom>
          <a:noFill/>
          <a:ln w="1908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92120" y="3830760"/>
            <a:ext cx="119160" cy="528480"/>
          </a:xfrm>
          <a:custGeom>
            <a:avLst/>
            <a:gdLst/>
            <a:ahLst/>
            <a:rect l="l" t="t" r="r" b="b"/>
            <a:pathLst>
              <a:path w="75" h="333">
                <a:moveTo>
                  <a:pt x="75" y="0"/>
                </a:moveTo>
                <a:lnTo>
                  <a:pt x="0" y="333"/>
                </a:lnTo>
              </a:path>
            </a:pathLst>
          </a:custGeom>
          <a:noFill/>
          <a:ln w="1908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744480" y="3029040"/>
            <a:ext cx="576360" cy="299880"/>
            <a:chOff x="744480" y="3029040"/>
            <a:chExt cx="576360" cy="299880"/>
          </a:xfrm>
        </p:grpSpPr>
        <p:pic>
          <p:nvPicPr>
            <p:cNvPr id="244" name="network" descr=""/>
            <p:cNvPicPr/>
            <p:nvPr/>
          </p:nvPicPr>
          <p:blipFill>
            <a:blip r:embed="rId1"/>
            <a:stretch/>
          </p:blipFill>
          <p:spPr>
            <a:xfrm>
              <a:off x="744480" y="3029040"/>
              <a:ext cx="576360" cy="2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873000" y="3097440"/>
              <a:ext cx="32868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25320"/>
                  <a:tab algn="l" pos="1251000"/>
                  <a:tab algn="l" pos="1876320"/>
                  <a:tab algn="l" pos="2502000"/>
                  <a:tab algn="l" pos="3127320"/>
                  <a:tab algn="l" pos="3753000"/>
                  <a:tab algn="l" pos="4378320"/>
                  <a:tab algn="l" pos="5003640"/>
                  <a:tab algn="l" pos="5629320"/>
                  <a:tab algn="l" pos="6254640"/>
                  <a:tab algn="l" pos="6880320"/>
                  <a:tab algn="l" pos="7505640"/>
                  <a:tab algn="l" pos="8131320"/>
                  <a:tab algn="l" pos="8756640"/>
                  <a:tab algn="l" pos="9381960"/>
                  <a:tab algn="l" pos="10007640"/>
                  <a:tab algn="l" pos="1063296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</a:rPr>
                <a:t>IS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6" name="network" descr=""/>
          <p:cNvPicPr/>
          <p:nvPr/>
        </p:nvPicPr>
        <p:blipFill>
          <a:blip r:embed="rId2"/>
          <a:stretch/>
        </p:blipFill>
        <p:spPr>
          <a:xfrm>
            <a:off x="609480" y="4267080"/>
            <a:ext cx="839880" cy="3430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609480" y="4267080"/>
            <a:ext cx="9288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640" rIns="62640" tIns="31320" bIns="31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Busin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u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21419400">
            <a:off x="2382480" y="3951000"/>
            <a:ext cx="1004760" cy="5014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06560" y="3882960"/>
            <a:ext cx="130320" cy="13032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network" descr=""/>
          <p:cNvPicPr/>
          <p:nvPr/>
        </p:nvPicPr>
        <p:blipFill>
          <a:blip r:embed="rId3"/>
          <a:stretch/>
        </p:blipFill>
        <p:spPr>
          <a:xfrm>
            <a:off x="609480" y="4800600"/>
            <a:ext cx="962280" cy="4096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762120" y="4800600"/>
            <a:ext cx="7318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640" rIns="62640" tIns="31320" bIns="31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Campus/MTB s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84280" y="4679280"/>
            <a:ext cx="3348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76800" y="3982320"/>
            <a:ext cx="87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99"/>
                </a:solidFill>
                <a:latin typeface="Arial"/>
              </a:rPr>
              <a:t>STM</a:t>
            </a: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 16/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447920" y="3429000"/>
            <a:ext cx="868320" cy="515520"/>
            <a:chOff x="1447920" y="3429000"/>
            <a:chExt cx="868320" cy="515520"/>
          </a:xfrm>
        </p:grpSpPr>
        <p:sp>
          <p:nvSpPr>
            <p:cNvPr id="255" name=""/>
            <p:cNvSpPr/>
            <p:nvPr/>
          </p:nvSpPr>
          <p:spPr>
            <a:xfrm rot="21249600">
              <a:off x="1472760" y="3500280"/>
              <a:ext cx="806760" cy="399600"/>
            </a:xfrm>
            <a:prstGeom prst="donut">
              <a:avLst>
                <a:gd name="adj" fmla="val 4175"/>
              </a:avLst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599480" y="3501000"/>
              <a:ext cx="587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99"/>
                  </a:solidFill>
                  <a:latin typeface="Arial"/>
                </a:rPr>
                <a:t>Metro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99"/>
                  </a:solidFill>
                  <a:latin typeface="Arial"/>
                </a:rPr>
                <a:t>DWD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33480" y="3429000"/>
              <a:ext cx="119160" cy="125280"/>
            </a:xfrm>
            <a:prstGeom prst="rect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197080" y="3597120"/>
              <a:ext cx="119160" cy="124920"/>
            </a:xfrm>
            <a:prstGeom prst="rect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447920" y="3678120"/>
              <a:ext cx="119160" cy="124920"/>
            </a:xfrm>
            <a:prstGeom prst="rect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825560" y="3819240"/>
              <a:ext cx="117720" cy="125280"/>
            </a:xfrm>
            <a:prstGeom prst="rect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3057480" y="4351320"/>
            <a:ext cx="130320" cy="13032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332080" y="4148280"/>
            <a:ext cx="129960" cy="1299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68600" y="4371840"/>
            <a:ext cx="130320" cy="13032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11320" y="5054760"/>
            <a:ext cx="55440" cy="55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20680" y="4950720"/>
            <a:ext cx="3348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038320" y="4816080"/>
            <a:ext cx="258840" cy="252360"/>
          </a:xfrm>
          <a:prstGeom prst="line">
            <a:avLst/>
          </a:prstGeom>
          <a:ln w="190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789200" y="4895280"/>
            <a:ext cx="33480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66760" y="4511520"/>
            <a:ext cx="1127160" cy="312840"/>
          </a:xfrm>
          <a:custGeom>
            <a:avLst/>
            <a:gdLst/>
            <a:ahLst/>
            <a:rect l="l" t="t" r="r" b="b"/>
            <a:pathLst>
              <a:path w="710" h="197">
                <a:moveTo>
                  <a:pt x="0" y="197"/>
                </a:moveTo>
                <a:lnTo>
                  <a:pt x="710" y="0"/>
                </a:lnTo>
              </a:path>
            </a:pathLst>
          </a:custGeom>
          <a:noFill/>
          <a:ln w="1908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19987800">
            <a:off x="2209320" y="4437000"/>
            <a:ext cx="501840" cy="4255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77960" y="4741920"/>
            <a:ext cx="114480" cy="1047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1676520" y="4809960"/>
            <a:ext cx="577800" cy="76320"/>
          </a:xfrm>
          <a:prstGeom prst="line">
            <a:avLst/>
          </a:prstGeom>
          <a:ln w="190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787400" y="4816080"/>
            <a:ext cx="501840" cy="182520"/>
          </a:xfrm>
          <a:prstGeom prst="line">
            <a:avLst/>
          </a:prstGeom>
          <a:ln w="190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19280" y="4859280"/>
            <a:ext cx="57240" cy="5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68320" y="4979880"/>
            <a:ext cx="55800" cy="5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94920" y="4509720"/>
            <a:ext cx="5677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M 1/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43160" y="4449600"/>
            <a:ext cx="114120" cy="1047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32000" y="4756320"/>
            <a:ext cx="114480" cy="1047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220920" y="3932280"/>
            <a:ext cx="146160" cy="136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581280" y="4114800"/>
            <a:ext cx="2954520" cy="2728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79120" y="4037760"/>
            <a:ext cx="2812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etwork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3124080"/>
            <a:ext cx="2424240" cy="2455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cc99"/>
                </a:solidFill>
                <a:latin typeface="Arial"/>
              </a:rPr>
              <a:t>Increase in IP/Ethernet tra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cc99"/>
                </a:solidFill>
                <a:latin typeface="Arial"/>
              </a:rPr>
              <a:t>Overlay Data Networks - Public LANs/W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cc99"/>
                </a:solidFill>
                <a:latin typeface="Arial"/>
              </a:rPr>
              <a:t>New services/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81280" y="2286000"/>
            <a:ext cx="2783160" cy="2197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cc99"/>
                </a:solidFill>
                <a:latin typeface="Arial"/>
              </a:rPr>
              <a:t>Optical metro supports ring/mesh router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cc99"/>
                </a:solidFill>
                <a:latin typeface="Arial"/>
              </a:rPr>
              <a:t>Overlay IP  Networks - Routers with integrated op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cc99"/>
                </a:solidFill>
                <a:latin typeface="Arial"/>
              </a:rPr>
              <a:t>GMPLS routing and rest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69200" y="1447920"/>
            <a:ext cx="2674800" cy="2197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cc99"/>
                </a:solidFill>
                <a:latin typeface="Arial"/>
              </a:rPr>
              <a:t>All-optical (DWDM)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cc99"/>
                </a:solidFill>
                <a:latin typeface="Arial"/>
              </a:rPr>
              <a:t>Optical switching n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cc99"/>
                </a:solidFill>
                <a:latin typeface="Arial"/>
              </a:rPr>
              <a:t>Support for  meshed router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cc99"/>
                </a:solidFill>
                <a:latin typeface="Arial"/>
              </a:rPr>
              <a:t>Flatter feeder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963720"/>
            <a:ext cx="24386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buClr>
                <a:srgbClr val="ff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ast provision &amp; High Churn Rate - vola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ilding on existing SDH infra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owering transport co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owering provisioning co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livering multi-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95480" y="990720"/>
            <a:ext cx="23623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buClr>
                <a:srgbClr val="ff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olatilty reflected from 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creasing 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H  consolidation &amp; groo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ptical rings for capacity bui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rect access for wavelength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952880" y="990720"/>
            <a:ext cx="388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buClr>
                <a:srgbClr val="ff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ore stable - long haul 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gh capacity DWDM for lowest cost per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naged Optical Networ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81280" y="4419720"/>
            <a:ext cx="4646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buClr>
                <a:srgbClr val="ff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mon management across layers an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grated technology layers - for data and 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ayer &amp; vendor interwor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mon control interface - GMP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374840" y="685800"/>
            <a:ext cx="563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ypes of OTN Equi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30760" y="1944720"/>
            <a:ext cx="597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b0b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Metro OADM using CWDM or DW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b0b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OADM for core applications using DW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b0b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Optical Lin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b0b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Cross-connect : OEO and O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b0b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Mixed fabric switch OEO and O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35320" y="1143000"/>
            <a:ext cx="7877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b0b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tro ADM and Core OADM are very similar in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 to the SDH A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b0b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b0b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DWDM Line Systems are terminating line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similar to SDH lin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b0b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3991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39911"/>
                </a:solidFill>
                <a:latin typeface="Arial"/>
              </a:rPr>
              <a:t>Two types of OTN cross-connects are envisa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399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39911"/>
                </a:solidFill>
                <a:latin typeface="Arial"/>
              </a:rPr>
              <a:t>- ODU(Optical Data Un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399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39911"/>
                </a:solidFill>
                <a:latin typeface="Arial"/>
              </a:rPr>
              <a:t>- Optical Channel (OCh) (ie. wavelength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3991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39911"/>
                </a:solidFill>
                <a:latin typeface="Arial"/>
              </a:rPr>
              <a:t>The ODU cross-connect is a digital cross-conn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39911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39911"/>
                </a:solidFill>
                <a:latin typeface="Arial"/>
              </a:rPr>
              <a:t>with O-E-O while the OCh cross-connect i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39911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39911"/>
                </a:solidFill>
                <a:latin typeface="Arial"/>
              </a:rPr>
              <a:t>all optical cross-connec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988560" y="609480"/>
            <a:ext cx="66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99"/>
                </a:solidFill>
                <a:latin typeface="Arial"/>
              </a:rPr>
              <a:t>Types of OTN Equipment - conti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ucent End User</cp:lastModifiedBy>
  <dcterms:modified xsi:type="dcterms:W3CDTF">2002-07-10T00:56:48Z</dcterms:modified>
  <cp:revision>32</cp:revision>
  <dc:subject/>
  <dc:title>PowerPoint Presentation</dc:title>
</cp:coreProperties>
</file>