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0.jpeg" ContentType="image/jpeg"/>
  <Override PartName="/ppt/media/image9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00000" y="739440"/>
            <a:ext cx="493560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898560" y="4687920"/>
            <a:ext cx="493704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2"/>
          </p:nvPr>
        </p:nvSpPr>
        <p:spPr>
          <a:xfrm>
            <a:off x="-3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3"/>
          </p:nvPr>
        </p:nvSpPr>
        <p:spPr>
          <a:xfrm>
            <a:off x="38145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7309A-B500-40D5-BFD6-68B3974438B8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7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578" name="PlaceHolder 2"/>
          <p:cNvSpPr>
            <a:spLocks noGrp="1"/>
          </p:cNvSpPr>
          <p:nvPr>
            <p:ph type="body"/>
          </p:nvPr>
        </p:nvSpPr>
        <p:spPr>
          <a:xfrm>
            <a:off x="898560" y="4687920"/>
            <a:ext cx="493704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graph shows the growth of ATM services circuits provided by B-PON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ands for ATM services have been rapidly increased since June 1999 and NTT provided about 10,000 (ten-thousand) circuits by June 2000. FSAN B-PON system is used for 25% of these circuit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446120" y="6532560"/>
            <a:ext cx="6939000" cy="127080"/>
          </a:xfrm>
          <a:prstGeom prst="rect">
            <a:avLst/>
          </a:prstGeom>
          <a:gradFill rotWithShape="0">
            <a:gsLst>
              <a:gs pos="0">
                <a:srgbClr val="9ab0f4"/>
              </a:gs>
              <a:gs pos="100000">
                <a:srgbClr val="063d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261200" y="6594480"/>
            <a:ext cx="138600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6440" bIns="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ゴシック"/>
              </a:rPr>
              <a:t>(C)2002 NT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34920" y="6346800"/>
          <a:ext cx="1449360" cy="506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920" y="6346800"/>
                    <a:ext cx="144936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"/>
          <p:cNvSpPr/>
          <p:nvPr/>
        </p:nvSpPr>
        <p:spPr>
          <a:xfrm>
            <a:off x="152280" y="679320"/>
            <a:ext cx="8845560" cy="135000"/>
          </a:xfrm>
          <a:prstGeom prst="rect">
            <a:avLst/>
          </a:prstGeom>
          <a:gradFill rotWithShape="0">
            <a:gsLst>
              <a:gs pos="0">
                <a:srgbClr val="f9bca3"/>
              </a:gs>
              <a:gs pos="50000">
                <a:srgbClr val="f35b1b"/>
              </a:gs>
              <a:gs pos="100000">
                <a:srgbClr val="f9bca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026240" y="657864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17698-0604-4CC1-8E7D-2D232DC71AA2}" type="slidenum">
              <a:rPr b="0" lang="en-US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8477280" y="6165720"/>
            <a:ext cx="611280" cy="66996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6.xml"/><Relationship Id="rId3" Type="http://schemas.openxmlformats.org/officeDocument/2006/relationships/slide" Target="slide16.xm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9840" y="1104840"/>
            <a:ext cx="8713800" cy="22449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  <a:ea typeface="HG丸ｺﾞｼｯｸM-PRO"/>
              </a:rPr>
              <a:t>NTT’s Broadband Access Services and Deployment Experiences</a:t>
            </a:r>
            <a:br>
              <a:rPr sz="4000"/>
            </a:br>
            <a:r>
              <a:rPr b="1" lang="en-US" sz="4000" spc="-1" strike="noStrike">
                <a:solidFill>
                  <a:srgbClr val="0033cc"/>
                </a:solidFill>
                <a:latin typeface="Arial"/>
                <a:ea typeface="HG丸ｺﾞｼｯｸM-PRO"/>
              </a:rPr>
              <a:t> in Jap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63600" y="3781080"/>
            <a:ext cx="8447040" cy="26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July 10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NTT Access Service Systems Laborator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Yoichi Mae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maeda@ansl.ntt.co.j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8280" y="212760"/>
            <a:ext cx="531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Workshop on IP/Optical : Session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326880" y="1373040"/>
            <a:ext cx="8574120" cy="1035360"/>
          </a:xfrm>
          <a:custGeom>
            <a:avLst/>
            <a:gdLst>
              <a:gd name="textAreaLeft" fmla="*/ 66960 w 8574120"/>
              <a:gd name="textAreaRight" fmla="*/ 8507160 w 8574120"/>
              <a:gd name="textAreaTop" fmla="*/ 66960 h 1035360"/>
              <a:gd name="textAreaBottom" fmla="*/ 968400 h 1035360"/>
            </a:gdLst>
            <a:ahLst/>
            <a:rect l="textAreaLeft" t="textAreaTop" r="textAreaRight" b="textAreaBottom"/>
            <a:pathLst>
              <a:path w="178821" h="21600">
                <a:moveTo>
                  <a:pt x="0" y="0"/>
                </a:moveTo>
                <a:lnTo>
                  <a:pt x="178821" y="0"/>
                </a:lnTo>
                <a:lnTo>
                  <a:pt x="178821" y="21600"/>
                </a:lnTo>
                <a:lnTo>
                  <a:pt x="0" y="21600"/>
                </a:lnTo>
                <a:close/>
              </a:path>
              <a:path fill="lightenLess" w="178821" h="21600">
                <a:moveTo>
                  <a:pt x="0" y="0"/>
                </a:moveTo>
                <a:lnTo>
                  <a:pt x="178821" y="0"/>
                </a:lnTo>
                <a:lnTo>
                  <a:pt x="177421" y="1400"/>
                </a:lnTo>
                <a:lnTo>
                  <a:pt x="1400" y="1400"/>
                </a:lnTo>
                <a:close/>
              </a:path>
              <a:path fill="darken" w="178821" h="21600">
                <a:moveTo>
                  <a:pt x="178821" y="0"/>
                </a:moveTo>
                <a:lnTo>
                  <a:pt x="178821" y="21600"/>
                </a:lnTo>
                <a:lnTo>
                  <a:pt x="177421" y="20200"/>
                </a:lnTo>
                <a:lnTo>
                  <a:pt x="177421" y="1400"/>
                </a:lnTo>
                <a:close/>
              </a:path>
              <a:path fill="darkenLess" w="178821" h="21600">
                <a:moveTo>
                  <a:pt x="1788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7421" y="20200"/>
                </a:lnTo>
                <a:close/>
              </a:path>
              <a:path fill="lighten" w="1788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8080"/>
                </a:solidFill>
                <a:latin typeface="Arial"/>
                <a:ea typeface="HG丸ｺﾞｼｯｸM-PRO"/>
              </a:rPr>
              <a:t>1. Current Network Services in Japa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8080"/>
                </a:solidFill>
                <a:latin typeface="Arial"/>
                <a:ea typeface="HG丸ｺﾞｼｯｸM-PRO"/>
              </a:rPr>
              <a:t>	</a:t>
            </a:r>
            <a:r>
              <a:rPr b="1" lang="en-US" sz="2600" spc="-1" strike="noStrike">
                <a:solidFill>
                  <a:srgbClr val="808080"/>
                </a:solidFill>
                <a:latin typeface="Arial"/>
                <a:ea typeface="HG丸ｺﾞｼｯｸM-PRO"/>
              </a:rPr>
              <a:t>Access services and Metro servic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39840" y="2554200"/>
            <a:ext cx="8574120" cy="1035000"/>
          </a:xfrm>
          <a:custGeom>
            <a:avLst/>
            <a:gdLst>
              <a:gd name="textAreaLeft" fmla="*/ 66960 w 8574120"/>
              <a:gd name="textAreaRight" fmla="*/ 8507160 w 8574120"/>
              <a:gd name="textAreaTop" fmla="*/ 66960 h 1035000"/>
              <a:gd name="textAreaBottom" fmla="*/ 968040 h 1035000"/>
            </a:gdLst>
            <a:ahLst/>
            <a:rect l="textAreaLeft" t="textAreaTop" r="textAreaRight" b="textAreaBottom"/>
            <a:pathLst>
              <a:path w="178883" h="21600">
                <a:moveTo>
                  <a:pt x="0" y="0"/>
                </a:moveTo>
                <a:lnTo>
                  <a:pt x="178883" y="0"/>
                </a:lnTo>
                <a:lnTo>
                  <a:pt x="178883" y="21600"/>
                </a:lnTo>
                <a:lnTo>
                  <a:pt x="0" y="21600"/>
                </a:lnTo>
                <a:close/>
              </a:path>
              <a:path fill="lightenLess" w="178883" h="21600">
                <a:moveTo>
                  <a:pt x="0" y="0"/>
                </a:moveTo>
                <a:lnTo>
                  <a:pt x="178883" y="0"/>
                </a:lnTo>
                <a:lnTo>
                  <a:pt x="177484" y="1400"/>
                </a:lnTo>
                <a:lnTo>
                  <a:pt x="1400" y="1400"/>
                </a:lnTo>
                <a:close/>
              </a:path>
              <a:path fill="darken" w="178883" h="21600">
                <a:moveTo>
                  <a:pt x="178883" y="0"/>
                </a:moveTo>
                <a:lnTo>
                  <a:pt x="178883" y="21600"/>
                </a:lnTo>
                <a:lnTo>
                  <a:pt x="177484" y="20200"/>
                </a:lnTo>
                <a:lnTo>
                  <a:pt x="177484" y="1400"/>
                </a:lnTo>
                <a:close/>
              </a:path>
              <a:path fill="darkenLess" w="178883" h="21600">
                <a:moveTo>
                  <a:pt x="1788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7484" y="20200"/>
                </a:lnTo>
                <a:close/>
              </a:path>
              <a:path fill="lighten" w="1788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HG丸ｺﾞｼｯｸM-PRO"/>
              </a:rPr>
              <a:t>2. Standardization Trend of Optical Access Syste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HG丸ｺﾞｼｯｸM-PRO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HG丸ｺﾞｼｯｸM-PRO"/>
              </a:rPr>
              <a:t>B-PON and G-P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2440" y="3735360"/>
            <a:ext cx="8574120" cy="1035000"/>
          </a:xfrm>
          <a:custGeom>
            <a:avLst/>
            <a:gdLst>
              <a:gd name="textAreaLeft" fmla="*/ 66960 w 8574120"/>
              <a:gd name="textAreaRight" fmla="*/ 8507160 w 8574120"/>
              <a:gd name="textAreaTop" fmla="*/ 66960 h 1035000"/>
              <a:gd name="textAreaBottom" fmla="*/ 968040 h 1035000"/>
            </a:gdLst>
            <a:ahLst/>
            <a:rect l="textAreaLeft" t="textAreaTop" r="textAreaRight" b="textAreaBottom"/>
            <a:pathLst>
              <a:path w="178883" h="21600">
                <a:moveTo>
                  <a:pt x="0" y="0"/>
                </a:moveTo>
                <a:lnTo>
                  <a:pt x="178883" y="0"/>
                </a:lnTo>
                <a:lnTo>
                  <a:pt x="178883" y="21600"/>
                </a:lnTo>
                <a:lnTo>
                  <a:pt x="0" y="21600"/>
                </a:lnTo>
                <a:close/>
              </a:path>
              <a:path fill="lightenLess" w="178883" h="21600">
                <a:moveTo>
                  <a:pt x="0" y="0"/>
                </a:moveTo>
                <a:lnTo>
                  <a:pt x="178883" y="0"/>
                </a:lnTo>
                <a:lnTo>
                  <a:pt x="177484" y="1400"/>
                </a:lnTo>
                <a:lnTo>
                  <a:pt x="1400" y="1400"/>
                </a:lnTo>
                <a:close/>
              </a:path>
              <a:path fill="darken" w="178883" h="21600">
                <a:moveTo>
                  <a:pt x="178883" y="0"/>
                </a:moveTo>
                <a:lnTo>
                  <a:pt x="178883" y="21600"/>
                </a:lnTo>
                <a:lnTo>
                  <a:pt x="177484" y="20200"/>
                </a:lnTo>
                <a:lnTo>
                  <a:pt x="177484" y="1400"/>
                </a:lnTo>
                <a:close/>
              </a:path>
              <a:path fill="darkenLess" w="178883" h="21600">
                <a:moveTo>
                  <a:pt x="1788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7484" y="20200"/>
                </a:lnTo>
                <a:close/>
              </a:path>
              <a:path fill="lighten" w="1788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8080"/>
                </a:solidFill>
                <a:latin typeface="Arial"/>
                <a:ea typeface="HG丸ｺﾞｼｯｸM-PRO"/>
              </a:rPr>
              <a:t>3. B-PON Trial and Deployment in NT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65040" y="4916520"/>
            <a:ext cx="8574120" cy="1035000"/>
          </a:xfrm>
          <a:custGeom>
            <a:avLst/>
            <a:gdLst>
              <a:gd name="textAreaLeft" fmla="*/ 66960 w 8574120"/>
              <a:gd name="textAreaRight" fmla="*/ 8507160 w 8574120"/>
              <a:gd name="textAreaTop" fmla="*/ 66960 h 1035000"/>
              <a:gd name="textAreaBottom" fmla="*/ 968040 h 1035000"/>
            </a:gdLst>
            <a:ahLst/>
            <a:rect l="textAreaLeft" t="textAreaTop" r="textAreaRight" b="textAreaBottom"/>
            <a:pathLst>
              <a:path w="178883" h="21600">
                <a:moveTo>
                  <a:pt x="0" y="0"/>
                </a:moveTo>
                <a:lnTo>
                  <a:pt x="178883" y="0"/>
                </a:lnTo>
                <a:lnTo>
                  <a:pt x="178883" y="21600"/>
                </a:lnTo>
                <a:lnTo>
                  <a:pt x="0" y="21600"/>
                </a:lnTo>
                <a:close/>
              </a:path>
              <a:path fill="lightenLess" w="178883" h="21600">
                <a:moveTo>
                  <a:pt x="0" y="0"/>
                </a:moveTo>
                <a:lnTo>
                  <a:pt x="178883" y="0"/>
                </a:lnTo>
                <a:lnTo>
                  <a:pt x="177484" y="1400"/>
                </a:lnTo>
                <a:lnTo>
                  <a:pt x="1400" y="1400"/>
                </a:lnTo>
                <a:close/>
              </a:path>
              <a:path fill="darken" w="178883" h="21600">
                <a:moveTo>
                  <a:pt x="178883" y="0"/>
                </a:moveTo>
                <a:lnTo>
                  <a:pt x="178883" y="21600"/>
                </a:lnTo>
                <a:lnTo>
                  <a:pt x="177484" y="20200"/>
                </a:lnTo>
                <a:lnTo>
                  <a:pt x="177484" y="1400"/>
                </a:lnTo>
                <a:close/>
              </a:path>
              <a:path fill="darkenLess" w="178883" h="21600">
                <a:moveTo>
                  <a:pt x="1788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7484" y="20200"/>
                </a:lnTo>
                <a:close/>
              </a:path>
              <a:path fill="lighten" w="1788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8080"/>
                </a:solidFill>
                <a:latin typeface="Arial"/>
                <a:ea typeface="HG丸ｺﾞｼｯｸM-PRO"/>
              </a:rPr>
              <a:t>4. Future issues and Conclus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>
            <a:off x="2184480" y="863640"/>
            <a:ext cx="3917880" cy="2724120"/>
          </a:xfrm>
          <a:prstGeom prst="roundRect">
            <a:avLst>
              <a:gd name="adj" fmla="val 16667"/>
            </a:avLst>
          </a:prstGeom>
          <a:solidFill>
            <a:srgbClr val="fefe9e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6524640" y="1303200"/>
            <a:ext cx="0" cy="857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92000" y="2317680"/>
            <a:ext cx="578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6826320" y="2359080"/>
            <a:ext cx="660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18960" y="2101680"/>
            <a:ext cx="4734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437240" y="1917720"/>
            <a:ext cx="157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738520" y="882720"/>
            <a:ext cx="29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Scope of </a:t>
            </a:r>
            <a:r>
              <a:rPr b="1" lang="en-US" sz="2400" spc="-1" strike="noStrike">
                <a:solidFill>
                  <a:srgbClr val="3f56fd"/>
                </a:solidFill>
                <a:latin typeface="Arial"/>
              </a:rPr>
              <a:t>Q2/SG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804200" y="2374920"/>
            <a:ext cx="89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lit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456160" y="1249200"/>
            <a:ext cx="452520" cy="857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806400" y="1860480"/>
            <a:ext cx="57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71480" y="2724120"/>
            <a:ext cx="682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143000" y="1743120"/>
            <a:ext cx="0" cy="210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141560" y="2192400"/>
            <a:ext cx="0" cy="210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146240" y="2614680"/>
            <a:ext cx="0" cy="210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804600" y="129240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209000" y="2243160"/>
            <a:ext cx="0" cy="210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935400" y="179064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H="1" flipV="1">
            <a:off x="3352320" y="1623600"/>
            <a:ext cx="1629000" cy="701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3602160" y="2373480"/>
            <a:ext cx="1365120" cy="550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H="1" flipV="1">
            <a:off x="2033640" y="1833480"/>
            <a:ext cx="2946240" cy="478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2027160" y="2360520"/>
            <a:ext cx="2959200" cy="433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H="1" flipV="1">
            <a:off x="2061720" y="2300040"/>
            <a:ext cx="4156200" cy="50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2314440" y="2185920"/>
            <a:ext cx="112320" cy="299880"/>
            <a:chOff x="2314440" y="2185920"/>
            <a:chExt cx="112320" cy="299880"/>
          </a:xfrm>
        </p:grpSpPr>
        <p:sp>
          <p:nvSpPr>
            <p:cNvPr id="583" name=""/>
            <p:cNvSpPr/>
            <p:nvPr/>
          </p:nvSpPr>
          <p:spPr>
            <a:xfrm flipH="1">
              <a:off x="2396520" y="2190600"/>
              <a:ext cx="30240" cy="29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>
              <a:off x="2314440" y="2185920"/>
              <a:ext cx="30960" cy="29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5" name=""/>
          <p:cNvSpPr/>
          <p:nvPr/>
        </p:nvSpPr>
        <p:spPr>
          <a:xfrm flipH="1">
            <a:off x="4877640" y="2244600"/>
            <a:ext cx="214200" cy="17316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2311560" y="1709640"/>
            <a:ext cx="112320" cy="299880"/>
            <a:chOff x="2311560" y="1709640"/>
            <a:chExt cx="112320" cy="299880"/>
          </a:xfrm>
        </p:grpSpPr>
        <p:sp>
          <p:nvSpPr>
            <p:cNvPr id="587" name=""/>
            <p:cNvSpPr/>
            <p:nvPr/>
          </p:nvSpPr>
          <p:spPr>
            <a:xfrm flipH="1">
              <a:off x="2393640" y="1714320"/>
              <a:ext cx="30240" cy="29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2311560" y="1709640"/>
              <a:ext cx="30960" cy="29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2316240" y="2617920"/>
            <a:ext cx="113760" cy="299880"/>
            <a:chOff x="2316240" y="2617920"/>
            <a:chExt cx="113760" cy="299880"/>
          </a:xfrm>
        </p:grpSpPr>
        <p:sp>
          <p:nvSpPr>
            <p:cNvPr id="590" name=""/>
            <p:cNvSpPr/>
            <p:nvPr/>
          </p:nvSpPr>
          <p:spPr>
            <a:xfrm flipH="1">
              <a:off x="2399040" y="2622600"/>
              <a:ext cx="30960" cy="29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H="1">
              <a:off x="2315880" y="2617920"/>
              <a:ext cx="31320" cy="29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2" name=""/>
          <p:cNvSpPr/>
          <p:nvPr/>
        </p:nvSpPr>
        <p:spPr>
          <a:xfrm flipH="1">
            <a:off x="2354400" y="1216080"/>
            <a:ext cx="534960" cy="42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373040" y="1647720"/>
            <a:ext cx="671760" cy="389160"/>
          </a:xfrm>
          <a:prstGeom prst="roundRect">
            <a:avLst>
              <a:gd name="adj" fmla="val 16667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379520" y="2116080"/>
            <a:ext cx="671400" cy="389160"/>
          </a:xfrm>
          <a:prstGeom prst="roundRect">
            <a:avLst>
              <a:gd name="adj" fmla="val 16667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365120" y="2576520"/>
            <a:ext cx="671760" cy="388800"/>
          </a:xfrm>
          <a:prstGeom prst="roundRect">
            <a:avLst>
              <a:gd name="adj" fmla="val 16667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18960" y="1666800"/>
            <a:ext cx="4734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18960" y="2521080"/>
            <a:ext cx="4734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200640" y="2152800"/>
            <a:ext cx="671760" cy="388800"/>
          </a:xfrm>
          <a:prstGeom prst="roundRect">
            <a:avLst>
              <a:gd name="adj" fmla="val 16667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5911920" y="2170080"/>
            <a:ext cx="113760" cy="299880"/>
            <a:chOff x="5911920" y="2170080"/>
            <a:chExt cx="113760" cy="299880"/>
          </a:xfrm>
        </p:grpSpPr>
        <p:sp>
          <p:nvSpPr>
            <p:cNvPr id="600" name=""/>
            <p:cNvSpPr/>
            <p:nvPr/>
          </p:nvSpPr>
          <p:spPr>
            <a:xfrm flipH="1">
              <a:off x="5994720" y="2174760"/>
              <a:ext cx="30960" cy="29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5911560" y="2170080"/>
              <a:ext cx="31320" cy="29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2" name=""/>
          <p:cNvSpPr/>
          <p:nvPr/>
        </p:nvSpPr>
        <p:spPr>
          <a:xfrm>
            <a:off x="4248720" y="14922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D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162840" y="912960"/>
            <a:ext cx="7171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6367320" y="1582560"/>
            <a:ext cx="299880" cy="114120"/>
            <a:chOff x="6367320" y="1582560"/>
            <a:chExt cx="299880" cy="114120"/>
          </a:xfrm>
        </p:grpSpPr>
        <p:sp>
          <p:nvSpPr>
            <p:cNvPr id="605" name=""/>
            <p:cNvSpPr/>
            <p:nvPr/>
          </p:nvSpPr>
          <p:spPr>
            <a:xfrm flipH="1" rot="16200000">
              <a:off x="6504120" y="1450440"/>
              <a:ext cx="30960" cy="29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 rot="16200000">
              <a:off x="6499080" y="1533240"/>
              <a:ext cx="31320" cy="29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7149240" y="83520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56fd"/>
                </a:solidFill>
                <a:latin typeface="Arial"/>
              </a:rPr>
              <a:t>Scope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56fd"/>
                </a:solidFill>
                <a:latin typeface="Arial"/>
              </a:rPr>
              <a:t>Q14/SG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6684840" y="1120680"/>
            <a:ext cx="519120" cy="522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062080" y="4915080"/>
            <a:ext cx="4351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5Mb/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55Mb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22Mb/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622Mb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244Gb/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.244Gb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488Gb/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.488Gb/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957400" y="3105000"/>
            <a:ext cx="534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562920" y="2878200"/>
            <a:ext cx="161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171880" y="4905360"/>
            <a:ext cx="4081320" cy="760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369840" y="5094360"/>
            <a:ext cx="254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oadband-P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092320" y="4957920"/>
            <a:ext cx="4124160" cy="1501560"/>
          </a:xfrm>
          <a:custGeom>
            <a:avLst/>
            <a:gdLst/>
            <a:ahLst/>
            <a:rect l="l" t="t" r="r" b="b"/>
            <a:pathLst>
              <a:path w="2355" h="943">
                <a:moveTo>
                  <a:pt x="0" y="0"/>
                </a:moveTo>
                <a:lnTo>
                  <a:pt x="0" y="943"/>
                </a:lnTo>
                <a:lnTo>
                  <a:pt x="2355" y="943"/>
                </a:lnTo>
                <a:lnTo>
                  <a:pt x="2355" y="484"/>
                </a:lnTo>
                <a:lnTo>
                  <a:pt x="1142" y="484"/>
                </a:lnTo>
                <a:lnTo>
                  <a:pt x="1142" y="2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376680" y="5862600"/>
            <a:ext cx="199440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igabit-P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77840" y="5148360"/>
            <a:ext cx="202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N bit r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e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385360" y="445932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strea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2944800" y="3384720"/>
            <a:ext cx="534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16000" y="3666960"/>
            <a:ext cx="861840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T 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tical Network Termina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LT 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tical Line Term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 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termina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DN : Optical Distribution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N 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sive Optical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12840" y="127080"/>
            <a:ext cx="8559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B-PON Standardization in ITU-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614520" y="81000"/>
            <a:ext cx="793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Business Requirements for B-P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42920" y="855720"/>
            <a:ext cx="2139840" cy="825480"/>
          </a:xfrm>
          <a:prstGeom prst="rect">
            <a:avLst/>
          </a:prstGeom>
          <a:solidFill>
            <a:srgbClr val="fe9ea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siness 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3" name=""/>
          <p:cNvGraphicFramePr/>
          <p:nvPr/>
        </p:nvGraphicFramePr>
        <p:xfrm>
          <a:off x="2560680" y="839880"/>
          <a:ext cx="6507000" cy="5532480"/>
        </p:xfrm>
        <a:graphic>
          <a:graphicData uri="http://schemas.openxmlformats.org/drawingml/2006/table">
            <a:tbl>
              <a:tblPr/>
              <a:tblGrid>
                <a:gridCol w="4900680"/>
                <a:gridCol w="160632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-PON Requirem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d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U-T Stand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df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ational standards compliances and multi-vendor interoperab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983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98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6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deo signal overlay with 3-waves multiplex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983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983.3.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BA (Dynamic Bandwidth  Assignment) to improve transmission efficiency of upstream sign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983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983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ss line protection and survivab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983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983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7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hanced OMCI (ONT Management and Control Interface) for new servi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983.2.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12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ng 622Mb/s upstre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e upgrade to 1.2Gb/s and hig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983.1.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-P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24" name=""/>
          <p:cNvSpPr/>
          <p:nvPr/>
        </p:nvSpPr>
        <p:spPr>
          <a:xfrm flipV="1">
            <a:off x="2171880" y="2381040"/>
            <a:ext cx="358560" cy="679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187720" y="3225960"/>
            <a:ext cx="344520" cy="17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V="1">
            <a:off x="2120760" y="3587760"/>
            <a:ext cx="390600" cy="64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168640" y="4437000"/>
            <a:ext cx="363600" cy="1488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185920" y="4379760"/>
            <a:ext cx="339840" cy="119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2171880" y="5316120"/>
            <a:ext cx="363240" cy="492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182680" y="5918040"/>
            <a:ext cx="357480" cy="336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38240" y="4005360"/>
            <a:ext cx="204156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ompetition with CLEC’s ADS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28520" y="5084640"/>
            <a:ext cx="207828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tition with Long Haul oper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146320" y="3213000"/>
            <a:ext cx="363600" cy="1838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58760" y="2892600"/>
            <a:ext cx="201924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tition with CATV provi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52280" y="1936800"/>
            <a:ext cx="207972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Low-cost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reliable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2222640" y="1870200"/>
            <a:ext cx="288720" cy="460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0" y="60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Relationship in B-PON Standard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700520" y="4844880"/>
            <a:ext cx="23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on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979720" y="2160720"/>
            <a:ext cx="26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5800680" y="3262320"/>
            <a:ext cx="843120" cy="45072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66760" y="5324400"/>
            <a:ext cx="8296200" cy="1076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2992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92920" y="4975200"/>
            <a:ext cx="1518840" cy="386280"/>
          </a:xfrm>
          <a:prstGeom prst="rect">
            <a:avLst/>
          </a:prstGeom>
          <a:solidFill>
            <a:srgbClr val="abeaa8"/>
          </a:solidFill>
          <a:ln w="28440">
            <a:solidFill>
              <a:srgbClr val="2992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3" name=""/>
          <p:cNvGraphicFramePr/>
          <p:nvPr/>
        </p:nvGraphicFramePr>
        <p:xfrm>
          <a:off x="811080" y="3282840"/>
          <a:ext cx="1700280" cy="911160"/>
        </p:xfrm>
        <a:graphic>
          <a:graphicData uri="http://schemas.openxmlformats.org/drawingml/2006/table">
            <a:tbl>
              <a:tblPr/>
              <a:tblGrid>
                <a:gridCol w="17002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G4 (Q1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9ea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M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4" name=""/>
          <p:cNvGraphicFramePr/>
          <p:nvPr/>
        </p:nvGraphicFramePr>
        <p:xfrm>
          <a:off x="3567240" y="3281400"/>
          <a:ext cx="2226960" cy="911160"/>
        </p:xfrm>
        <a:graphic>
          <a:graphicData uri="http://schemas.openxmlformats.org/drawingml/2006/table">
            <a:tbl>
              <a:tblPr/>
              <a:tblGrid>
                <a:gridCol w="2226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G15 (Q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9ea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cal acc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5" name=""/>
          <p:cNvGraphicFramePr/>
          <p:nvPr/>
        </p:nvGraphicFramePr>
        <p:xfrm>
          <a:off x="6669000" y="3765600"/>
          <a:ext cx="2079720" cy="911160"/>
        </p:xfrm>
        <a:graphic>
          <a:graphicData uri="http://schemas.openxmlformats.org/drawingml/2006/table">
            <a:tbl>
              <a:tblPr/>
              <a:tblGrid>
                <a:gridCol w="2079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G9 (Q16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9ea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deo overla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6" name=""/>
          <p:cNvGraphicFramePr/>
          <p:nvPr/>
        </p:nvGraphicFramePr>
        <p:xfrm>
          <a:off x="6676920" y="2786040"/>
          <a:ext cx="1820880" cy="911160"/>
        </p:xfrm>
        <a:graphic>
          <a:graphicData uri="http://schemas.openxmlformats.org/drawingml/2006/table">
            <a:tbl>
              <a:tblPr/>
              <a:tblGrid>
                <a:gridCol w="1820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G15(Q16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9ea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WD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7" name=""/>
          <p:cNvSpPr/>
          <p:nvPr/>
        </p:nvSpPr>
        <p:spPr>
          <a:xfrm>
            <a:off x="5815080" y="3773520"/>
            <a:ext cx="828720" cy="46656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64960" y="2673360"/>
            <a:ext cx="8658360" cy="21765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09120" y="2444760"/>
            <a:ext cx="959400" cy="459720"/>
          </a:xfrm>
          <a:prstGeom prst="rect">
            <a:avLst/>
          </a:prstGeom>
          <a:solidFill>
            <a:srgbClr val="fe9eac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U-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870200" y="1192320"/>
          <a:ext cx="1699920" cy="939600"/>
        </p:xfrm>
        <a:graphic>
          <a:graphicData uri="http://schemas.openxmlformats.org/drawingml/2006/table">
            <a:tbl>
              <a:tblPr/>
              <a:tblGrid>
                <a:gridCol w="1699920"/>
              </a:tblGrid>
              <a:tr h="47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2.3.EF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9f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-P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1" name=""/>
          <p:cNvSpPr/>
          <p:nvPr/>
        </p:nvSpPr>
        <p:spPr>
          <a:xfrm>
            <a:off x="231840" y="1069920"/>
            <a:ext cx="3778200" cy="11415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f5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84640" y="920880"/>
            <a:ext cx="874080" cy="459720"/>
          </a:xfrm>
          <a:prstGeom prst="rect">
            <a:avLst/>
          </a:prstGeom>
          <a:solidFill>
            <a:srgbClr val="bfedff"/>
          </a:solidFill>
          <a:ln w="28440">
            <a:solidFill>
              <a:srgbClr val="3f5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E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695680" y="2208240"/>
            <a:ext cx="1201680" cy="10285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267080" y="4197240"/>
            <a:ext cx="601920" cy="1074960"/>
          </a:xfrm>
          <a:prstGeom prst="upArrow">
            <a:avLst>
              <a:gd name="adj1" fmla="val 32611"/>
              <a:gd name="adj2" fmla="val 4469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746600" y="1063800"/>
            <a:ext cx="3076560" cy="966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3f5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920840" y="885960"/>
            <a:ext cx="11120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3f5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M-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689440" y="1289160"/>
            <a:ext cx="3076560" cy="966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3f5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200640" y="1101600"/>
            <a:ext cx="857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3f5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H="1">
            <a:off x="4402080" y="2050920"/>
            <a:ext cx="1068480" cy="1225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522520" y="3740040"/>
            <a:ext cx="1041480" cy="1296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5176800" y="2492280"/>
            <a:ext cx="905040" cy="7588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649840" y="2936880"/>
            <a:ext cx="11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Liai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523960" y="3235320"/>
            <a:ext cx="11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Liai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006960" y="1542960"/>
            <a:ext cx="3076560" cy="966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3f5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975720" y="1393920"/>
            <a:ext cx="6883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3f5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V="1">
            <a:off x="4997520" y="2238120"/>
            <a:ext cx="817560" cy="10206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rot="18693000">
            <a:off x="2821680" y="3989880"/>
            <a:ext cx="682560" cy="1484280"/>
          </a:xfrm>
          <a:prstGeom prst="upArrow">
            <a:avLst>
              <a:gd name="adj1" fmla="val 32611"/>
              <a:gd name="adj2" fmla="val 544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524600" y="5424480"/>
            <a:ext cx="694116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HG丸ｺﾞｼｯｸM-PRO"/>
              </a:rPr>
              <a:t>FSAN (Full Service Access Networks) Initi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(21 operators + 20 vendo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12600" y="101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SAN (Full Service Access Network) Me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374120" y="4354560"/>
            <a:ext cx="64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21 Operators and 20 vendors as of June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12680" y="4853160"/>
            <a:ext cx="8904240" cy="1465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Agere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Alcatel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Broadcom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BroadLight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Erics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FlexLight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Fujitsu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Hitach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Iamba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Infineo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INOVIA/EC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Lucent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Marcon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Mitsubishi / Paceon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NEC/eLuminant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Ok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Optical Solutions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 Quantum Bri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Terawave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Zon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87840" y="966960"/>
            <a:ext cx="9055800" cy="3385800"/>
            <a:chOff x="87840" y="966960"/>
            <a:chExt cx="9055800" cy="3385800"/>
          </a:xfrm>
        </p:grpSpPr>
        <p:sp>
          <p:nvSpPr>
            <p:cNvPr id="673" name=""/>
            <p:cNvSpPr/>
            <p:nvPr/>
          </p:nvSpPr>
          <p:spPr>
            <a:xfrm>
              <a:off x="7361280" y="2903400"/>
              <a:ext cx="4680" cy="70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4" name=""/>
            <p:cNvGrpSpPr/>
            <p:nvPr/>
          </p:nvGrpSpPr>
          <p:grpSpPr>
            <a:xfrm>
              <a:off x="6832440" y="1176840"/>
              <a:ext cx="2136960" cy="2297880"/>
              <a:chOff x="6832440" y="1176840"/>
              <a:chExt cx="2136960" cy="2297880"/>
            </a:xfrm>
          </p:grpSpPr>
          <p:grpSp>
            <p:nvGrpSpPr>
              <p:cNvPr id="675" name=""/>
              <p:cNvGrpSpPr/>
              <p:nvPr/>
            </p:nvGrpSpPr>
            <p:grpSpPr>
              <a:xfrm>
                <a:off x="7366320" y="1216080"/>
                <a:ext cx="1603080" cy="1566360"/>
                <a:chOff x="7366320" y="1216080"/>
                <a:chExt cx="1603080" cy="1566360"/>
              </a:xfrm>
            </p:grpSpPr>
            <p:sp>
              <p:nvSpPr>
                <p:cNvPr id="676" name=""/>
                <p:cNvSpPr/>
                <p:nvPr/>
              </p:nvSpPr>
              <p:spPr>
                <a:xfrm>
                  <a:off x="7366320" y="1504440"/>
                  <a:ext cx="1603080" cy="1278000"/>
                </a:xfrm>
                <a:custGeom>
                  <a:avLst/>
                  <a:gdLst/>
                  <a:ahLst/>
                  <a:rect l="l" t="t" r="r" b="b"/>
                  <a:pathLst>
                    <a:path w="3054" h="1812">
                      <a:moveTo>
                        <a:pt x="1965" y="1229"/>
                      </a:moveTo>
                      <a:lnTo>
                        <a:pt x="1895" y="1211"/>
                      </a:lnTo>
                      <a:lnTo>
                        <a:pt x="1859" y="1166"/>
                      </a:lnTo>
                      <a:lnTo>
                        <a:pt x="1808" y="1070"/>
                      </a:lnTo>
                      <a:lnTo>
                        <a:pt x="1775" y="1031"/>
                      </a:lnTo>
                      <a:lnTo>
                        <a:pt x="1685" y="1028"/>
                      </a:lnTo>
                      <a:lnTo>
                        <a:pt x="1604" y="959"/>
                      </a:lnTo>
                      <a:lnTo>
                        <a:pt x="1544" y="959"/>
                      </a:lnTo>
                      <a:lnTo>
                        <a:pt x="1541" y="968"/>
                      </a:lnTo>
                      <a:lnTo>
                        <a:pt x="1495" y="956"/>
                      </a:lnTo>
                      <a:lnTo>
                        <a:pt x="1402" y="956"/>
                      </a:lnTo>
                      <a:lnTo>
                        <a:pt x="1402" y="872"/>
                      </a:lnTo>
                      <a:lnTo>
                        <a:pt x="1342" y="857"/>
                      </a:lnTo>
                      <a:lnTo>
                        <a:pt x="1363" y="779"/>
                      </a:lnTo>
                      <a:lnTo>
                        <a:pt x="1348" y="779"/>
                      </a:lnTo>
                      <a:lnTo>
                        <a:pt x="1405" y="676"/>
                      </a:lnTo>
                      <a:lnTo>
                        <a:pt x="1411" y="595"/>
                      </a:lnTo>
                      <a:lnTo>
                        <a:pt x="1465" y="571"/>
                      </a:lnTo>
                      <a:lnTo>
                        <a:pt x="1516" y="475"/>
                      </a:lnTo>
                      <a:lnTo>
                        <a:pt x="1450" y="463"/>
                      </a:lnTo>
                      <a:lnTo>
                        <a:pt x="1550" y="355"/>
                      </a:lnTo>
                      <a:lnTo>
                        <a:pt x="1604" y="343"/>
                      </a:lnTo>
                      <a:lnTo>
                        <a:pt x="1643" y="316"/>
                      </a:lnTo>
                      <a:lnTo>
                        <a:pt x="1565" y="256"/>
                      </a:lnTo>
                      <a:lnTo>
                        <a:pt x="1550" y="196"/>
                      </a:lnTo>
                      <a:lnTo>
                        <a:pt x="1465" y="196"/>
                      </a:lnTo>
                      <a:lnTo>
                        <a:pt x="1507" y="289"/>
                      </a:lnTo>
                      <a:lnTo>
                        <a:pt x="1486" y="316"/>
                      </a:lnTo>
                      <a:lnTo>
                        <a:pt x="1441" y="286"/>
                      </a:lnTo>
                      <a:lnTo>
                        <a:pt x="1435" y="220"/>
                      </a:lnTo>
                      <a:lnTo>
                        <a:pt x="1402" y="280"/>
                      </a:lnTo>
                      <a:lnTo>
                        <a:pt x="1354" y="217"/>
                      </a:lnTo>
                      <a:lnTo>
                        <a:pt x="1366" y="135"/>
                      </a:lnTo>
                      <a:lnTo>
                        <a:pt x="1282" y="105"/>
                      </a:lnTo>
                      <a:lnTo>
                        <a:pt x="1255" y="190"/>
                      </a:lnTo>
                      <a:lnTo>
                        <a:pt x="1318" y="235"/>
                      </a:lnTo>
                      <a:lnTo>
                        <a:pt x="1300" y="280"/>
                      </a:lnTo>
                      <a:lnTo>
                        <a:pt x="1318" y="292"/>
                      </a:lnTo>
                      <a:lnTo>
                        <a:pt x="1285" y="355"/>
                      </a:lnTo>
                      <a:lnTo>
                        <a:pt x="1246" y="283"/>
                      </a:lnTo>
                      <a:lnTo>
                        <a:pt x="1255" y="217"/>
                      </a:lnTo>
                      <a:lnTo>
                        <a:pt x="1177" y="223"/>
                      </a:lnTo>
                      <a:lnTo>
                        <a:pt x="1210" y="283"/>
                      </a:lnTo>
                      <a:lnTo>
                        <a:pt x="1201" y="346"/>
                      </a:lnTo>
                      <a:lnTo>
                        <a:pt x="1135" y="346"/>
                      </a:lnTo>
                      <a:lnTo>
                        <a:pt x="1063" y="265"/>
                      </a:lnTo>
                      <a:lnTo>
                        <a:pt x="1030" y="265"/>
                      </a:lnTo>
                      <a:lnTo>
                        <a:pt x="979" y="289"/>
                      </a:lnTo>
                      <a:lnTo>
                        <a:pt x="1036" y="292"/>
                      </a:lnTo>
                      <a:lnTo>
                        <a:pt x="997" y="337"/>
                      </a:lnTo>
                      <a:lnTo>
                        <a:pt x="946" y="352"/>
                      </a:lnTo>
                      <a:lnTo>
                        <a:pt x="898" y="289"/>
                      </a:lnTo>
                      <a:lnTo>
                        <a:pt x="811" y="307"/>
                      </a:lnTo>
                      <a:lnTo>
                        <a:pt x="865" y="256"/>
                      </a:lnTo>
                      <a:lnTo>
                        <a:pt x="802" y="238"/>
                      </a:lnTo>
                      <a:lnTo>
                        <a:pt x="744" y="160"/>
                      </a:lnTo>
                      <a:lnTo>
                        <a:pt x="672" y="160"/>
                      </a:lnTo>
                      <a:lnTo>
                        <a:pt x="642" y="84"/>
                      </a:lnTo>
                      <a:lnTo>
                        <a:pt x="597" y="114"/>
                      </a:lnTo>
                      <a:lnTo>
                        <a:pt x="597" y="51"/>
                      </a:lnTo>
                      <a:lnTo>
                        <a:pt x="522" y="99"/>
                      </a:lnTo>
                      <a:lnTo>
                        <a:pt x="456" y="60"/>
                      </a:lnTo>
                      <a:lnTo>
                        <a:pt x="402" y="84"/>
                      </a:lnTo>
                      <a:lnTo>
                        <a:pt x="387" y="102"/>
                      </a:lnTo>
                      <a:lnTo>
                        <a:pt x="357" y="102"/>
                      </a:lnTo>
                      <a:lnTo>
                        <a:pt x="339" y="0"/>
                      </a:lnTo>
                      <a:lnTo>
                        <a:pt x="0" y="475"/>
                      </a:lnTo>
                      <a:lnTo>
                        <a:pt x="30" y="496"/>
                      </a:lnTo>
                      <a:lnTo>
                        <a:pt x="30" y="574"/>
                      </a:lnTo>
                      <a:lnTo>
                        <a:pt x="72" y="574"/>
                      </a:lnTo>
                      <a:lnTo>
                        <a:pt x="126" y="589"/>
                      </a:lnTo>
                      <a:lnTo>
                        <a:pt x="123" y="643"/>
                      </a:lnTo>
                      <a:lnTo>
                        <a:pt x="144" y="713"/>
                      </a:lnTo>
                      <a:lnTo>
                        <a:pt x="144" y="821"/>
                      </a:lnTo>
                      <a:lnTo>
                        <a:pt x="165" y="854"/>
                      </a:lnTo>
                      <a:lnTo>
                        <a:pt x="147" y="893"/>
                      </a:lnTo>
                      <a:lnTo>
                        <a:pt x="153" y="926"/>
                      </a:lnTo>
                      <a:lnTo>
                        <a:pt x="120" y="974"/>
                      </a:lnTo>
                      <a:lnTo>
                        <a:pt x="132" y="998"/>
                      </a:lnTo>
                      <a:lnTo>
                        <a:pt x="174" y="1019"/>
                      </a:lnTo>
                      <a:lnTo>
                        <a:pt x="123" y="1037"/>
                      </a:lnTo>
                      <a:lnTo>
                        <a:pt x="162" y="1052"/>
                      </a:lnTo>
                      <a:lnTo>
                        <a:pt x="120" y="1082"/>
                      </a:lnTo>
                      <a:lnTo>
                        <a:pt x="168" y="1103"/>
                      </a:lnTo>
                      <a:lnTo>
                        <a:pt x="126" y="1127"/>
                      </a:lnTo>
                      <a:lnTo>
                        <a:pt x="153" y="1133"/>
                      </a:lnTo>
                      <a:lnTo>
                        <a:pt x="141" y="1166"/>
                      </a:lnTo>
                      <a:lnTo>
                        <a:pt x="168" y="1166"/>
                      </a:lnTo>
                      <a:lnTo>
                        <a:pt x="201" y="1229"/>
                      </a:lnTo>
                      <a:lnTo>
                        <a:pt x="240" y="1232"/>
                      </a:lnTo>
                      <a:lnTo>
                        <a:pt x="222" y="1259"/>
                      </a:lnTo>
                      <a:lnTo>
                        <a:pt x="252" y="1275"/>
                      </a:lnTo>
                      <a:lnTo>
                        <a:pt x="252" y="1311"/>
                      </a:lnTo>
                      <a:lnTo>
                        <a:pt x="267" y="1320"/>
                      </a:lnTo>
                      <a:lnTo>
                        <a:pt x="294" y="1320"/>
                      </a:lnTo>
                      <a:lnTo>
                        <a:pt x="348" y="1464"/>
                      </a:lnTo>
                      <a:lnTo>
                        <a:pt x="582" y="1461"/>
                      </a:lnTo>
                      <a:lnTo>
                        <a:pt x="591" y="1455"/>
                      </a:lnTo>
                      <a:lnTo>
                        <a:pt x="1384" y="1455"/>
                      </a:lnTo>
                      <a:lnTo>
                        <a:pt x="1444" y="1398"/>
                      </a:lnTo>
                      <a:lnTo>
                        <a:pt x="1673" y="1407"/>
                      </a:lnTo>
                      <a:lnTo>
                        <a:pt x="1718" y="1458"/>
                      </a:lnTo>
                      <a:lnTo>
                        <a:pt x="1757" y="1494"/>
                      </a:lnTo>
                      <a:lnTo>
                        <a:pt x="1778" y="1551"/>
                      </a:lnTo>
                      <a:lnTo>
                        <a:pt x="1847" y="1551"/>
                      </a:lnTo>
                      <a:lnTo>
                        <a:pt x="1901" y="1584"/>
                      </a:lnTo>
                      <a:lnTo>
                        <a:pt x="1931" y="1617"/>
                      </a:lnTo>
                      <a:lnTo>
                        <a:pt x="1940" y="1668"/>
                      </a:lnTo>
                      <a:lnTo>
                        <a:pt x="1943" y="1707"/>
                      </a:lnTo>
                      <a:lnTo>
                        <a:pt x="1937" y="1755"/>
                      </a:lnTo>
                      <a:lnTo>
                        <a:pt x="1868" y="1812"/>
                      </a:lnTo>
                      <a:lnTo>
                        <a:pt x="1932" y="1808"/>
                      </a:lnTo>
                      <a:lnTo>
                        <a:pt x="1987" y="1783"/>
                      </a:lnTo>
                      <a:lnTo>
                        <a:pt x="2002" y="1754"/>
                      </a:lnTo>
                      <a:lnTo>
                        <a:pt x="2018" y="1712"/>
                      </a:lnTo>
                      <a:lnTo>
                        <a:pt x="2050" y="1687"/>
                      </a:lnTo>
                      <a:lnTo>
                        <a:pt x="2096" y="1694"/>
                      </a:lnTo>
                      <a:lnTo>
                        <a:pt x="2128" y="1676"/>
                      </a:lnTo>
                      <a:lnTo>
                        <a:pt x="2158" y="1683"/>
                      </a:lnTo>
                      <a:lnTo>
                        <a:pt x="2272" y="1682"/>
                      </a:lnTo>
                      <a:lnTo>
                        <a:pt x="2342" y="1542"/>
                      </a:lnTo>
                      <a:lnTo>
                        <a:pt x="2360" y="1533"/>
                      </a:lnTo>
                      <a:lnTo>
                        <a:pt x="2369" y="1555"/>
                      </a:lnTo>
                      <a:lnTo>
                        <a:pt x="2393" y="1547"/>
                      </a:lnTo>
                      <a:lnTo>
                        <a:pt x="2420" y="1643"/>
                      </a:lnTo>
                      <a:lnTo>
                        <a:pt x="2443" y="1632"/>
                      </a:lnTo>
                      <a:lnTo>
                        <a:pt x="2443" y="1671"/>
                      </a:lnTo>
                      <a:lnTo>
                        <a:pt x="2479" y="1619"/>
                      </a:lnTo>
                      <a:lnTo>
                        <a:pt x="2503" y="1567"/>
                      </a:lnTo>
                      <a:lnTo>
                        <a:pt x="2539" y="1535"/>
                      </a:lnTo>
                      <a:lnTo>
                        <a:pt x="2550" y="1488"/>
                      </a:lnTo>
                      <a:lnTo>
                        <a:pt x="2576" y="1479"/>
                      </a:lnTo>
                      <a:lnTo>
                        <a:pt x="2589" y="1445"/>
                      </a:lnTo>
                      <a:lnTo>
                        <a:pt x="2617" y="1433"/>
                      </a:lnTo>
                      <a:lnTo>
                        <a:pt x="2642" y="1391"/>
                      </a:lnTo>
                      <a:lnTo>
                        <a:pt x="2649" y="1431"/>
                      </a:lnTo>
                      <a:lnTo>
                        <a:pt x="2682" y="1407"/>
                      </a:lnTo>
                      <a:lnTo>
                        <a:pt x="2685" y="1440"/>
                      </a:lnTo>
                      <a:lnTo>
                        <a:pt x="2655" y="1452"/>
                      </a:lnTo>
                      <a:lnTo>
                        <a:pt x="2643" y="1473"/>
                      </a:lnTo>
                      <a:lnTo>
                        <a:pt x="2637" y="1536"/>
                      </a:lnTo>
                      <a:lnTo>
                        <a:pt x="2661" y="1560"/>
                      </a:lnTo>
                      <a:lnTo>
                        <a:pt x="2685" y="1542"/>
                      </a:lnTo>
                      <a:lnTo>
                        <a:pt x="2694" y="1506"/>
                      </a:lnTo>
                      <a:lnTo>
                        <a:pt x="2703" y="1464"/>
                      </a:lnTo>
                      <a:lnTo>
                        <a:pt x="2751" y="1443"/>
                      </a:lnTo>
                      <a:lnTo>
                        <a:pt x="2775" y="1392"/>
                      </a:lnTo>
                      <a:lnTo>
                        <a:pt x="2775" y="1371"/>
                      </a:lnTo>
                      <a:lnTo>
                        <a:pt x="2793" y="1368"/>
                      </a:lnTo>
                      <a:lnTo>
                        <a:pt x="2829" y="1338"/>
                      </a:lnTo>
                      <a:lnTo>
                        <a:pt x="2826" y="1305"/>
                      </a:lnTo>
                      <a:lnTo>
                        <a:pt x="2796" y="1305"/>
                      </a:lnTo>
                      <a:lnTo>
                        <a:pt x="2781" y="1275"/>
                      </a:lnTo>
                      <a:lnTo>
                        <a:pt x="2748" y="1259"/>
                      </a:lnTo>
                      <a:lnTo>
                        <a:pt x="2751" y="1371"/>
                      </a:lnTo>
                      <a:lnTo>
                        <a:pt x="2715" y="1371"/>
                      </a:lnTo>
                      <a:lnTo>
                        <a:pt x="2685" y="1392"/>
                      </a:lnTo>
                      <a:lnTo>
                        <a:pt x="2649" y="1392"/>
                      </a:lnTo>
                      <a:lnTo>
                        <a:pt x="2649" y="1371"/>
                      </a:lnTo>
                      <a:lnTo>
                        <a:pt x="2649" y="1340"/>
                      </a:lnTo>
                      <a:lnTo>
                        <a:pt x="2661" y="1347"/>
                      </a:lnTo>
                      <a:lnTo>
                        <a:pt x="2658" y="1320"/>
                      </a:lnTo>
                      <a:lnTo>
                        <a:pt x="2636" y="1320"/>
                      </a:lnTo>
                      <a:lnTo>
                        <a:pt x="2641" y="1287"/>
                      </a:lnTo>
                      <a:lnTo>
                        <a:pt x="2608" y="1283"/>
                      </a:lnTo>
                      <a:lnTo>
                        <a:pt x="2633" y="1266"/>
                      </a:lnTo>
                      <a:lnTo>
                        <a:pt x="2670" y="1262"/>
                      </a:lnTo>
                      <a:lnTo>
                        <a:pt x="2704" y="1250"/>
                      </a:lnTo>
                      <a:lnTo>
                        <a:pt x="2733" y="1215"/>
                      </a:lnTo>
                      <a:lnTo>
                        <a:pt x="2709" y="1172"/>
                      </a:lnTo>
                      <a:lnTo>
                        <a:pt x="2643" y="1154"/>
                      </a:lnTo>
                      <a:lnTo>
                        <a:pt x="2643" y="1154"/>
                      </a:lnTo>
                      <a:lnTo>
                        <a:pt x="2695" y="1121"/>
                      </a:lnTo>
                      <a:lnTo>
                        <a:pt x="2613" y="1118"/>
                      </a:lnTo>
                      <a:lnTo>
                        <a:pt x="2574" y="1127"/>
                      </a:lnTo>
                      <a:lnTo>
                        <a:pt x="2589" y="1148"/>
                      </a:lnTo>
                      <a:lnTo>
                        <a:pt x="2514" y="1175"/>
                      </a:lnTo>
                      <a:lnTo>
                        <a:pt x="2465" y="1219"/>
                      </a:lnTo>
                      <a:lnTo>
                        <a:pt x="2411" y="1291"/>
                      </a:lnTo>
                      <a:lnTo>
                        <a:pt x="2400" y="1346"/>
                      </a:lnTo>
                      <a:lnTo>
                        <a:pt x="2400" y="1372"/>
                      </a:lnTo>
                      <a:lnTo>
                        <a:pt x="2388" y="1392"/>
                      </a:lnTo>
                      <a:lnTo>
                        <a:pt x="2361" y="1414"/>
                      </a:lnTo>
                      <a:lnTo>
                        <a:pt x="2397" y="1295"/>
                      </a:lnTo>
                      <a:lnTo>
                        <a:pt x="2411" y="1229"/>
                      </a:lnTo>
                      <a:lnTo>
                        <a:pt x="2411" y="1213"/>
                      </a:lnTo>
                      <a:lnTo>
                        <a:pt x="2457" y="1130"/>
                      </a:lnTo>
                      <a:lnTo>
                        <a:pt x="2528" y="1081"/>
                      </a:lnTo>
                      <a:lnTo>
                        <a:pt x="2584" y="1070"/>
                      </a:lnTo>
                      <a:lnTo>
                        <a:pt x="2642" y="1040"/>
                      </a:lnTo>
                      <a:lnTo>
                        <a:pt x="2685" y="1006"/>
                      </a:lnTo>
                      <a:lnTo>
                        <a:pt x="2712" y="932"/>
                      </a:lnTo>
                      <a:lnTo>
                        <a:pt x="2763" y="1035"/>
                      </a:lnTo>
                      <a:lnTo>
                        <a:pt x="2784" y="1052"/>
                      </a:lnTo>
                      <a:lnTo>
                        <a:pt x="2778" y="1082"/>
                      </a:lnTo>
                      <a:lnTo>
                        <a:pt x="2745" y="1112"/>
                      </a:lnTo>
                      <a:lnTo>
                        <a:pt x="2799" y="1103"/>
                      </a:lnTo>
                      <a:lnTo>
                        <a:pt x="2769" y="1148"/>
                      </a:lnTo>
                      <a:lnTo>
                        <a:pt x="2808" y="1166"/>
                      </a:lnTo>
                      <a:lnTo>
                        <a:pt x="2841" y="1121"/>
                      </a:lnTo>
                      <a:lnTo>
                        <a:pt x="2928" y="1073"/>
                      </a:lnTo>
                      <a:lnTo>
                        <a:pt x="2937" y="1094"/>
                      </a:lnTo>
                      <a:lnTo>
                        <a:pt x="2934" y="1139"/>
                      </a:lnTo>
                      <a:lnTo>
                        <a:pt x="2979" y="1058"/>
                      </a:lnTo>
                      <a:lnTo>
                        <a:pt x="2997" y="1100"/>
                      </a:lnTo>
                      <a:lnTo>
                        <a:pt x="3036" y="1103"/>
                      </a:lnTo>
                      <a:lnTo>
                        <a:pt x="3054" y="1088"/>
                      </a:lnTo>
                      <a:lnTo>
                        <a:pt x="3012" y="1043"/>
                      </a:lnTo>
                      <a:lnTo>
                        <a:pt x="3003" y="1001"/>
                      </a:lnTo>
                      <a:lnTo>
                        <a:pt x="2964" y="980"/>
                      </a:lnTo>
                      <a:lnTo>
                        <a:pt x="2973" y="1025"/>
                      </a:lnTo>
                      <a:lnTo>
                        <a:pt x="2958" y="1001"/>
                      </a:lnTo>
                      <a:lnTo>
                        <a:pt x="2961" y="962"/>
                      </a:lnTo>
                      <a:lnTo>
                        <a:pt x="2928" y="1004"/>
                      </a:lnTo>
                      <a:lnTo>
                        <a:pt x="2910" y="953"/>
                      </a:lnTo>
                      <a:lnTo>
                        <a:pt x="2859" y="995"/>
                      </a:lnTo>
                      <a:lnTo>
                        <a:pt x="2808" y="956"/>
                      </a:lnTo>
                      <a:lnTo>
                        <a:pt x="2802" y="986"/>
                      </a:lnTo>
                      <a:lnTo>
                        <a:pt x="2784" y="962"/>
                      </a:lnTo>
                      <a:lnTo>
                        <a:pt x="2781" y="920"/>
                      </a:lnTo>
                      <a:lnTo>
                        <a:pt x="2787" y="884"/>
                      </a:lnTo>
                      <a:lnTo>
                        <a:pt x="2718" y="830"/>
                      </a:lnTo>
                      <a:lnTo>
                        <a:pt x="2707" y="785"/>
                      </a:lnTo>
                      <a:lnTo>
                        <a:pt x="2576" y="763"/>
                      </a:lnTo>
                      <a:lnTo>
                        <a:pt x="2572" y="787"/>
                      </a:lnTo>
                      <a:lnTo>
                        <a:pt x="2565" y="737"/>
                      </a:lnTo>
                      <a:lnTo>
                        <a:pt x="2484" y="746"/>
                      </a:lnTo>
                      <a:lnTo>
                        <a:pt x="2423" y="689"/>
                      </a:lnTo>
                      <a:lnTo>
                        <a:pt x="2403" y="688"/>
                      </a:lnTo>
                      <a:lnTo>
                        <a:pt x="2345" y="652"/>
                      </a:lnTo>
                      <a:lnTo>
                        <a:pt x="2309" y="617"/>
                      </a:lnTo>
                      <a:lnTo>
                        <a:pt x="2240" y="599"/>
                      </a:lnTo>
                      <a:lnTo>
                        <a:pt x="2188" y="527"/>
                      </a:lnTo>
                      <a:lnTo>
                        <a:pt x="2181" y="634"/>
                      </a:lnTo>
                      <a:lnTo>
                        <a:pt x="2198" y="647"/>
                      </a:lnTo>
                      <a:lnTo>
                        <a:pt x="2204" y="659"/>
                      </a:lnTo>
                      <a:lnTo>
                        <a:pt x="2183" y="700"/>
                      </a:lnTo>
                      <a:lnTo>
                        <a:pt x="2147" y="664"/>
                      </a:lnTo>
                      <a:lnTo>
                        <a:pt x="2117" y="703"/>
                      </a:lnTo>
                      <a:lnTo>
                        <a:pt x="2096" y="688"/>
                      </a:lnTo>
                      <a:lnTo>
                        <a:pt x="2096" y="631"/>
                      </a:lnTo>
                      <a:lnTo>
                        <a:pt x="2075" y="619"/>
                      </a:lnTo>
                      <a:lnTo>
                        <a:pt x="2066" y="577"/>
                      </a:lnTo>
                      <a:lnTo>
                        <a:pt x="1988" y="574"/>
                      </a:lnTo>
                      <a:lnTo>
                        <a:pt x="1949" y="517"/>
                      </a:lnTo>
                      <a:lnTo>
                        <a:pt x="1862" y="562"/>
                      </a:lnTo>
                      <a:lnTo>
                        <a:pt x="1811" y="571"/>
                      </a:lnTo>
                      <a:lnTo>
                        <a:pt x="1832" y="628"/>
                      </a:lnTo>
                      <a:lnTo>
                        <a:pt x="1835" y="688"/>
                      </a:lnTo>
                      <a:lnTo>
                        <a:pt x="1865" y="694"/>
                      </a:lnTo>
                      <a:lnTo>
                        <a:pt x="1868" y="700"/>
                      </a:lnTo>
                      <a:lnTo>
                        <a:pt x="1829" y="734"/>
                      </a:lnTo>
                      <a:lnTo>
                        <a:pt x="1868" y="746"/>
                      </a:lnTo>
                      <a:lnTo>
                        <a:pt x="1823" y="815"/>
                      </a:lnTo>
                      <a:lnTo>
                        <a:pt x="1889" y="817"/>
                      </a:lnTo>
                      <a:lnTo>
                        <a:pt x="1922" y="897"/>
                      </a:lnTo>
                      <a:lnTo>
                        <a:pt x="1956" y="925"/>
                      </a:lnTo>
                      <a:lnTo>
                        <a:pt x="1911" y="989"/>
                      </a:lnTo>
                      <a:lnTo>
                        <a:pt x="1899" y="1034"/>
                      </a:lnTo>
                      <a:lnTo>
                        <a:pt x="1905" y="1080"/>
                      </a:lnTo>
                      <a:lnTo>
                        <a:pt x="1942" y="1111"/>
                      </a:lnTo>
                      <a:lnTo>
                        <a:pt x="1971" y="1180"/>
                      </a:lnTo>
                      <a:lnTo>
                        <a:pt x="1965" y="1229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8814600" y="2349360"/>
                  <a:ext cx="50760" cy="50400"/>
                </a:xfrm>
                <a:custGeom>
                  <a:avLst/>
                  <a:gdLst/>
                  <a:ahLst/>
                  <a:rect l="l" t="t" r="r" b="b"/>
                  <a:pathLst>
                    <a:path w="97" h="72">
                      <a:moveTo>
                        <a:pt x="0" y="21"/>
                      </a:moveTo>
                      <a:lnTo>
                        <a:pt x="16" y="49"/>
                      </a:lnTo>
                      <a:lnTo>
                        <a:pt x="34" y="52"/>
                      </a:lnTo>
                      <a:lnTo>
                        <a:pt x="52" y="51"/>
                      </a:lnTo>
                      <a:lnTo>
                        <a:pt x="73" y="72"/>
                      </a:lnTo>
                      <a:lnTo>
                        <a:pt x="97" y="29"/>
                      </a:lnTo>
                      <a:lnTo>
                        <a:pt x="62" y="20"/>
                      </a:lnTo>
                      <a:lnTo>
                        <a:pt x="49" y="21"/>
                      </a:lnTo>
                      <a:lnTo>
                        <a:pt x="8" y="0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78" name=""/>
                <p:cNvGrpSpPr/>
                <p:nvPr/>
              </p:nvGrpSpPr>
              <p:grpSpPr>
                <a:xfrm>
                  <a:off x="7817760" y="1216080"/>
                  <a:ext cx="618480" cy="739080"/>
                  <a:chOff x="7817760" y="1216080"/>
                  <a:chExt cx="618480" cy="739080"/>
                </a:xfrm>
              </p:grpSpPr>
              <p:sp>
                <p:nvSpPr>
                  <p:cNvPr id="679" name=""/>
                  <p:cNvSpPr/>
                  <p:nvPr/>
                </p:nvSpPr>
                <p:spPr>
                  <a:xfrm>
                    <a:off x="7861320" y="1520640"/>
                    <a:ext cx="135360" cy="12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8" h="175">
                        <a:moveTo>
                          <a:pt x="10" y="66"/>
                        </a:moveTo>
                        <a:lnTo>
                          <a:pt x="47" y="66"/>
                        </a:lnTo>
                        <a:lnTo>
                          <a:pt x="67" y="88"/>
                        </a:lnTo>
                        <a:lnTo>
                          <a:pt x="81" y="129"/>
                        </a:lnTo>
                        <a:lnTo>
                          <a:pt x="73" y="165"/>
                        </a:lnTo>
                        <a:lnTo>
                          <a:pt x="90" y="175"/>
                        </a:lnTo>
                        <a:lnTo>
                          <a:pt x="145" y="169"/>
                        </a:lnTo>
                        <a:lnTo>
                          <a:pt x="197" y="143"/>
                        </a:lnTo>
                        <a:lnTo>
                          <a:pt x="257" y="165"/>
                        </a:lnTo>
                        <a:lnTo>
                          <a:pt x="244" y="122"/>
                        </a:lnTo>
                        <a:lnTo>
                          <a:pt x="258" y="105"/>
                        </a:lnTo>
                        <a:lnTo>
                          <a:pt x="205" y="77"/>
                        </a:lnTo>
                        <a:lnTo>
                          <a:pt x="166" y="0"/>
                        </a:lnTo>
                        <a:lnTo>
                          <a:pt x="149" y="16"/>
                        </a:lnTo>
                        <a:lnTo>
                          <a:pt x="125" y="9"/>
                        </a:lnTo>
                        <a:lnTo>
                          <a:pt x="115" y="25"/>
                        </a:lnTo>
                        <a:lnTo>
                          <a:pt x="95" y="10"/>
                        </a:lnTo>
                        <a:lnTo>
                          <a:pt x="81" y="28"/>
                        </a:lnTo>
                        <a:lnTo>
                          <a:pt x="57" y="6"/>
                        </a:lnTo>
                        <a:lnTo>
                          <a:pt x="63" y="24"/>
                        </a:lnTo>
                        <a:lnTo>
                          <a:pt x="17" y="30"/>
                        </a:lnTo>
                        <a:lnTo>
                          <a:pt x="0" y="56"/>
                        </a:lnTo>
                        <a:lnTo>
                          <a:pt x="10" y="66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0" name=""/>
                  <p:cNvSpPr/>
                  <p:nvPr/>
                </p:nvSpPr>
                <p:spPr>
                  <a:xfrm>
                    <a:off x="7817760" y="1484640"/>
                    <a:ext cx="6480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4" h="133">
                        <a:moveTo>
                          <a:pt x="32" y="0"/>
                        </a:moveTo>
                        <a:lnTo>
                          <a:pt x="17" y="36"/>
                        </a:lnTo>
                        <a:lnTo>
                          <a:pt x="0" y="100"/>
                        </a:lnTo>
                        <a:lnTo>
                          <a:pt x="20" y="133"/>
                        </a:lnTo>
                        <a:lnTo>
                          <a:pt x="52" y="124"/>
                        </a:lnTo>
                        <a:lnTo>
                          <a:pt x="64" y="103"/>
                        </a:lnTo>
                        <a:lnTo>
                          <a:pt x="56" y="91"/>
                        </a:lnTo>
                        <a:lnTo>
                          <a:pt x="73" y="67"/>
                        </a:lnTo>
                        <a:lnTo>
                          <a:pt x="93" y="61"/>
                        </a:lnTo>
                        <a:lnTo>
                          <a:pt x="120" y="45"/>
                        </a:lnTo>
                        <a:lnTo>
                          <a:pt x="124" y="35"/>
                        </a:lnTo>
                        <a:lnTo>
                          <a:pt x="107" y="16"/>
                        </a:lnTo>
                        <a:lnTo>
                          <a:pt x="96" y="20"/>
                        </a:lnTo>
                        <a:lnTo>
                          <a:pt x="83" y="0"/>
                        </a:lnTo>
                        <a:lnTo>
                          <a:pt x="68" y="8"/>
                        </a:lnTo>
                        <a:lnTo>
                          <a:pt x="32" y="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1" name=""/>
                  <p:cNvSpPr/>
                  <p:nvPr/>
                </p:nvSpPr>
                <p:spPr>
                  <a:xfrm>
                    <a:off x="8035560" y="1469880"/>
                    <a:ext cx="439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100">
                        <a:moveTo>
                          <a:pt x="42" y="100"/>
                        </a:moveTo>
                        <a:lnTo>
                          <a:pt x="84" y="57"/>
                        </a:lnTo>
                        <a:lnTo>
                          <a:pt x="64" y="46"/>
                        </a:lnTo>
                        <a:lnTo>
                          <a:pt x="64" y="33"/>
                        </a:lnTo>
                        <a:lnTo>
                          <a:pt x="61" y="27"/>
                        </a:lnTo>
                        <a:lnTo>
                          <a:pt x="68" y="11"/>
                        </a:lnTo>
                        <a:lnTo>
                          <a:pt x="71" y="0"/>
                        </a:lnTo>
                        <a:lnTo>
                          <a:pt x="28" y="7"/>
                        </a:lnTo>
                        <a:lnTo>
                          <a:pt x="28" y="37"/>
                        </a:lnTo>
                        <a:lnTo>
                          <a:pt x="0" y="53"/>
                        </a:lnTo>
                        <a:lnTo>
                          <a:pt x="4" y="72"/>
                        </a:lnTo>
                        <a:lnTo>
                          <a:pt x="36" y="84"/>
                        </a:lnTo>
                        <a:lnTo>
                          <a:pt x="42" y="10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>
                    <a:off x="8112960" y="1469160"/>
                    <a:ext cx="323280" cy="361080"/>
                  </a:xfrm>
                  <a:custGeom>
                    <a:avLst/>
                    <a:gdLst/>
                    <a:ahLst/>
                    <a:rect l="l" t="t" r="r" b="b"/>
                    <a:pathLst>
                      <a:path w="616" h="512">
                        <a:moveTo>
                          <a:pt x="275" y="444"/>
                        </a:moveTo>
                        <a:lnTo>
                          <a:pt x="309" y="460"/>
                        </a:lnTo>
                        <a:lnTo>
                          <a:pt x="361" y="443"/>
                        </a:lnTo>
                        <a:lnTo>
                          <a:pt x="385" y="428"/>
                        </a:lnTo>
                        <a:lnTo>
                          <a:pt x="413" y="459"/>
                        </a:lnTo>
                        <a:lnTo>
                          <a:pt x="449" y="462"/>
                        </a:lnTo>
                        <a:lnTo>
                          <a:pt x="473" y="484"/>
                        </a:lnTo>
                        <a:lnTo>
                          <a:pt x="508" y="486"/>
                        </a:lnTo>
                        <a:lnTo>
                          <a:pt x="527" y="498"/>
                        </a:lnTo>
                        <a:lnTo>
                          <a:pt x="569" y="500"/>
                        </a:lnTo>
                        <a:lnTo>
                          <a:pt x="585" y="508"/>
                        </a:lnTo>
                        <a:lnTo>
                          <a:pt x="601" y="512"/>
                        </a:lnTo>
                        <a:lnTo>
                          <a:pt x="616" y="492"/>
                        </a:lnTo>
                        <a:lnTo>
                          <a:pt x="492" y="443"/>
                        </a:lnTo>
                        <a:lnTo>
                          <a:pt x="485" y="427"/>
                        </a:lnTo>
                        <a:lnTo>
                          <a:pt x="529" y="428"/>
                        </a:lnTo>
                        <a:lnTo>
                          <a:pt x="568" y="444"/>
                        </a:lnTo>
                        <a:lnTo>
                          <a:pt x="581" y="460"/>
                        </a:lnTo>
                        <a:lnTo>
                          <a:pt x="600" y="464"/>
                        </a:lnTo>
                        <a:lnTo>
                          <a:pt x="593" y="417"/>
                        </a:lnTo>
                        <a:lnTo>
                          <a:pt x="539" y="371"/>
                        </a:lnTo>
                        <a:lnTo>
                          <a:pt x="519" y="373"/>
                        </a:lnTo>
                        <a:lnTo>
                          <a:pt x="465" y="339"/>
                        </a:lnTo>
                        <a:lnTo>
                          <a:pt x="468" y="309"/>
                        </a:lnTo>
                        <a:lnTo>
                          <a:pt x="508" y="297"/>
                        </a:lnTo>
                        <a:lnTo>
                          <a:pt x="573" y="287"/>
                        </a:lnTo>
                        <a:lnTo>
                          <a:pt x="543" y="267"/>
                        </a:lnTo>
                        <a:lnTo>
                          <a:pt x="470" y="265"/>
                        </a:lnTo>
                        <a:lnTo>
                          <a:pt x="481" y="232"/>
                        </a:lnTo>
                        <a:lnTo>
                          <a:pt x="445" y="234"/>
                        </a:lnTo>
                        <a:lnTo>
                          <a:pt x="385" y="161"/>
                        </a:lnTo>
                        <a:lnTo>
                          <a:pt x="301" y="125"/>
                        </a:lnTo>
                        <a:lnTo>
                          <a:pt x="178" y="125"/>
                        </a:lnTo>
                        <a:lnTo>
                          <a:pt x="143" y="133"/>
                        </a:lnTo>
                        <a:lnTo>
                          <a:pt x="131" y="85"/>
                        </a:lnTo>
                        <a:lnTo>
                          <a:pt x="64" y="109"/>
                        </a:lnTo>
                        <a:lnTo>
                          <a:pt x="60" y="79"/>
                        </a:lnTo>
                        <a:lnTo>
                          <a:pt x="73" y="55"/>
                        </a:lnTo>
                        <a:lnTo>
                          <a:pt x="59" y="0"/>
                        </a:lnTo>
                        <a:lnTo>
                          <a:pt x="40" y="10"/>
                        </a:lnTo>
                        <a:lnTo>
                          <a:pt x="32" y="55"/>
                        </a:lnTo>
                        <a:lnTo>
                          <a:pt x="17" y="95"/>
                        </a:lnTo>
                        <a:lnTo>
                          <a:pt x="0" y="145"/>
                        </a:lnTo>
                        <a:lnTo>
                          <a:pt x="17" y="163"/>
                        </a:lnTo>
                        <a:lnTo>
                          <a:pt x="44" y="186"/>
                        </a:lnTo>
                        <a:lnTo>
                          <a:pt x="77" y="199"/>
                        </a:lnTo>
                        <a:lnTo>
                          <a:pt x="93" y="214"/>
                        </a:lnTo>
                        <a:lnTo>
                          <a:pt x="123" y="210"/>
                        </a:lnTo>
                        <a:lnTo>
                          <a:pt x="135" y="210"/>
                        </a:lnTo>
                        <a:lnTo>
                          <a:pt x="217" y="207"/>
                        </a:lnTo>
                        <a:lnTo>
                          <a:pt x="262" y="219"/>
                        </a:lnTo>
                        <a:lnTo>
                          <a:pt x="295" y="219"/>
                        </a:lnTo>
                        <a:lnTo>
                          <a:pt x="302" y="234"/>
                        </a:lnTo>
                        <a:lnTo>
                          <a:pt x="349" y="275"/>
                        </a:lnTo>
                        <a:lnTo>
                          <a:pt x="345" y="311"/>
                        </a:lnTo>
                        <a:lnTo>
                          <a:pt x="346" y="330"/>
                        </a:lnTo>
                        <a:lnTo>
                          <a:pt x="356" y="357"/>
                        </a:lnTo>
                        <a:lnTo>
                          <a:pt x="349" y="397"/>
                        </a:lnTo>
                        <a:lnTo>
                          <a:pt x="329" y="417"/>
                        </a:lnTo>
                        <a:lnTo>
                          <a:pt x="310" y="421"/>
                        </a:lnTo>
                        <a:lnTo>
                          <a:pt x="278" y="419"/>
                        </a:lnTo>
                        <a:lnTo>
                          <a:pt x="275" y="444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3" name=""/>
                  <p:cNvSpPr/>
                  <p:nvPr/>
                </p:nvSpPr>
                <p:spPr>
                  <a:xfrm>
                    <a:off x="7902000" y="1394280"/>
                    <a:ext cx="52920" cy="78840"/>
                  </a:xfrm>
                  <a:custGeom>
                    <a:avLst/>
                    <a:gdLst/>
                    <a:ahLst/>
                    <a:rect l="l" t="t" r="r" b="b"/>
                    <a:pathLst>
                      <a:path w="101" h="112">
                        <a:moveTo>
                          <a:pt x="0" y="6"/>
                        </a:moveTo>
                        <a:lnTo>
                          <a:pt x="0" y="39"/>
                        </a:lnTo>
                        <a:lnTo>
                          <a:pt x="13" y="48"/>
                        </a:lnTo>
                        <a:lnTo>
                          <a:pt x="29" y="50"/>
                        </a:lnTo>
                        <a:lnTo>
                          <a:pt x="47" y="70"/>
                        </a:lnTo>
                        <a:lnTo>
                          <a:pt x="44" y="90"/>
                        </a:lnTo>
                        <a:lnTo>
                          <a:pt x="52" y="112"/>
                        </a:lnTo>
                        <a:lnTo>
                          <a:pt x="72" y="103"/>
                        </a:lnTo>
                        <a:lnTo>
                          <a:pt x="71" y="88"/>
                        </a:lnTo>
                        <a:lnTo>
                          <a:pt x="93" y="82"/>
                        </a:lnTo>
                        <a:lnTo>
                          <a:pt x="85" y="70"/>
                        </a:lnTo>
                        <a:lnTo>
                          <a:pt x="101" y="48"/>
                        </a:lnTo>
                        <a:lnTo>
                          <a:pt x="72" y="23"/>
                        </a:lnTo>
                        <a:lnTo>
                          <a:pt x="47" y="6"/>
                        </a:lnTo>
                        <a:lnTo>
                          <a:pt x="32" y="0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040" bIns="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4" name=""/>
                  <p:cNvSpPr/>
                  <p:nvPr/>
                </p:nvSpPr>
                <p:spPr>
                  <a:xfrm>
                    <a:off x="7939800" y="1340640"/>
                    <a:ext cx="2016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39">
                        <a:moveTo>
                          <a:pt x="0" y="27"/>
                        </a:moveTo>
                        <a:lnTo>
                          <a:pt x="20" y="39"/>
                        </a:lnTo>
                        <a:lnTo>
                          <a:pt x="39" y="24"/>
                        </a:lnTo>
                        <a:lnTo>
                          <a:pt x="31" y="17"/>
                        </a:lnTo>
                        <a:lnTo>
                          <a:pt x="28" y="9"/>
                        </a:lnTo>
                        <a:lnTo>
                          <a:pt x="31" y="1"/>
                        </a:lnTo>
                        <a:lnTo>
                          <a:pt x="15" y="0"/>
                        </a:lnTo>
                        <a:lnTo>
                          <a:pt x="9" y="3"/>
                        </a:lnTo>
                        <a:lnTo>
                          <a:pt x="0" y="27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5" name=""/>
                  <p:cNvSpPr/>
                  <p:nvPr/>
                </p:nvSpPr>
                <p:spPr>
                  <a:xfrm>
                    <a:off x="7979760" y="1338480"/>
                    <a:ext cx="2664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59">
                        <a:moveTo>
                          <a:pt x="0" y="41"/>
                        </a:moveTo>
                        <a:lnTo>
                          <a:pt x="24" y="59"/>
                        </a:lnTo>
                        <a:lnTo>
                          <a:pt x="51" y="38"/>
                        </a:lnTo>
                        <a:lnTo>
                          <a:pt x="43" y="20"/>
                        </a:lnTo>
                        <a:lnTo>
                          <a:pt x="46" y="0"/>
                        </a:lnTo>
                        <a:lnTo>
                          <a:pt x="16" y="3"/>
                        </a:lnTo>
                        <a:lnTo>
                          <a:pt x="18" y="20"/>
                        </a:lnTo>
                        <a:lnTo>
                          <a:pt x="4" y="26"/>
                        </a:lnTo>
                        <a:lnTo>
                          <a:pt x="0" y="41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6" name=""/>
                  <p:cNvSpPr/>
                  <p:nvPr/>
                </p:nvSpPr>
                <p:spPr>
                  <a:xfrm>
                    <a:off x="8015040" y="1330200"/>
                    <a:ext cx="31680" cy="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71">
                        <a:moveTo>
                          <a:pt x="1" y="49"/>
                        </a:moveTo>
                        <a:lnTo>
                          <a:pt x="23" y="58"/>
                        </a:lnTo>
                        <a:lnTo>
                          <a:pt x="31" y="71"/>
                        </a:lnTo>
                        <a:lnTo>
                          <a:pt x="61" y="39"/>
                        </a:lnTo>
                        <a:lnTo>
                          <a:pt x="49" y="32"/>
                        </a:lnTo>
                        <a:lnTo>
                          <a:pt x="48" y="22"/>
                        </a:lnTo>
                        <a:lnTo>
                          <a:pt x="44" y="16"/>
                        </a:lnTo>
                        <a:lnTo>
                          <a:pt x="48" y="0"/>
                        </a:lnTo>
                        <a:lnTo>
                          <a:pt x="19" y="3"/>
                        </a:lnTo>
                        <a:lnTo>
                          <a:pt x="17" y="24"/>
                        </a:lnTo>
                        <a:lnTo>
                          <a:pt x="0" y="30"/>
                        </a:lnTo>
                        <a:lnTo>
                          <a:pt x="1" y="49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" bIns="3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7" name=""/>
                  <p:cNvSpPr/>
                  <p:nvPr/>
                </p:nvSpPr>
                <p:spPr>
                  <a:xfrm>
                    <a:off x="7991280" y="1406880"/>
                    <a:ext cx="2736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53">
                        <a:moveTo>
                          <a:pt x="12" y="0"/>
                        </a:moveTo>
                        <a:lnTo>
                          <a:pt x="42" y="2"/>
                        </a:lnTo>
                        <a:lnTo>
                          <a:pt x="34" y="10"/>
                        </a:lnTo>
                        <a:lnTo>
                          <a:pt x="38" y="22"/>
                        </a:lnTo>
                        <a:lnTo>
                          <a:pt x="52" y="30"/>
                        </a:lnTo>
                        <a:lnTo>
                          <a:pt x="28" y="53"/>
                        </a:lnTo>
                        <a:lnTo>
                          <a:pt x="20" y="45"/>
                        </a:lnTo>
                        <a:lnTo>
                          <a:pt x="0" y="37"/>
                        </a:lnTo>
                        <a:lnTo>
                          <a:pt x="2" y="25"/>
                        </a:lnTo>
                        <a:lnTo>
                          <a:pt x="14" y="14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8" name=""/>
                  <p:cNvSpPr/>
                  <p:nvPr/>
                </p:nvSpPr>
                <p:spPr>
                  <a:xfrm>
                    <a:off x="8025120" y="1396440"/>
                    <a:ext cx="3132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68">
                        <a:moveTo>
                          <a:pt x="16" y="4"/>
                        </a:moveTo>
                        <a:lnTo>
                          <a:pt x="48" y="0"/>
                        </a:lnTo>
                        <a:lnTo>
                          <a:pt x="38" y="19"/>
                        </a:lnTo>
                        <a:lnTo>
                          <a:pt x="42" y="29"/>
                        </a:lnTo>
                        <a:lnTo>
                          <a:pt x="60" y="36"/>
                        </a:lnTo>
                        <a:lnTo>
                          <a:pt x="25" y="68"/>
                        </a:lnTo>
                        <a:lnTo>
                          <a:pt x="20" y="55"/>
                        </a:lnTo>
                        <a:lnTo>
                          <a:pt x="0" y="45"/>
                        </a:lnTo>
                        <a:lnTo>
                          <a:pt x="0" y="33"/>
                        </a:lnTo>
                        <a:lnTo>
                          <a:pt x="16" y="20"/>
                        </a:lnTo>
                        <a:lnTo>
                          <a:pt x="16" y="4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9" name=""/>
                  <p:cNvSpPr/>
                  <p:nvPr/>
                </p:nvSpPr>
                <p:spPr>
                  <a:xfrm>
                    <a:off x="8075520" y="1412640"/>
                    <a:ext cx="86040" cy="51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74">
                        <a:moveTo>
                          <a:pt x="0" y="0"/>
                        </a:moveTo>
                        <a:lnTo>
                          <a:pt x="21" y="41"/>
                        </a:lnTo>
                        <a:lnTo>
                          <a:pt x="79" y="74"/>
                        </a:lnTo>
                        <a:lnTo>
                          <a:pt x="144" y="61"/>
                        </a:lnTo>
                        <a:lnTo>
                          <a:pt x="164" y="61"/>
                        </a:lnTo>
                        <a:lnTo>
                          <a:pt x="156" y="13"/>
                        </a:lnTo>
                        <a:lnTo>
                          <a:pt x="119" y="16"/>
                        </a:lnTo>
                        <a:lnTo>
                          <a:pt x="68" y="24"/>
                        </a:lnTo>
                        <a:lnTo>
                          <a:pt x="45" y="13"/>
                        </a:lnTo>
                        <a:lnTo>
                          <a:pt x="21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040" bIns="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0" name=""/>
                  <p:cNvSpPr/>
                  <p:nvPr/>
                </p:nvSpPr>
                <p:spPr>
                  <a:xfrm>
                    <a:off x="8102520" y="1216080"/>
                    <a:ext cx="63360" cy="19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273">
                        <a:moveTo>
                          <a:pt x="4" y="251"/>
                        </a:moveTo>
                        <a:lnTo>
                          <a:pt x="25" y="273"/>
                        </a:lnTo>
                        <a:lnTo>
                          <a:pt x="68" y="261"/>
                        </a:lnTo>
                        <a:lnTo>
                          <a:pt x="104" y="271"/>
                        </a:lnTo>
                        <a:lnTo>
                          <a:pt x="95" y="229"/>
                        </a:lnTo>
                        <a:lnTo>
                          <a:pt x="109" y="204"/>
                        </a:lnTo>
                        <a:lnTo>
                          <a:pt x="81" y="161"/>
                        </a:lnTo>
                        <a:lnTo>
                          <a:pt x="72" y="153"/>
                        </a:lnTo>
                        <a:lnTo>
                          <a:pt x="113" y="112"/>
                        </a:lnTo>
                        <a:lnTo>
                          <a:pt x="103" y="90"/>
                        </a:lnTo>
                        <a:lnTo>
                          <a:pt x="121" y="66"/>
                        </a:lnTo>
                        <a:lnTo>
                          <a:pt x="104" y="41"/>
                        </a:lnTo>
                        <a:lnTo>
                          <a:pt x="85" y="0"/>
                        </a:lnTo>
                        <a:lnTo>
                          <a:pt x="25" y="5"/>
                        </a:lnTo>
                        <a:lnTo>
                          <a:pt x="0" y="97"/>
                        </a:lnTo>
                        <a:lnTo>
                          <a:pt x="51" y="104"/>
                        </a:lnTo>
                        <a:lnTo>
                          <a:pt x="19" y="128"/>
                        </a:lnTo>
                        <a:lnTo>
                          <a:pt x="9" y="144"/>
                        </a:lnTo>
                        <a:lnTo>
                          <a:pt x="32" y="162"/>
                        </a:lnTo>
                        <a:lnTo>
                          <a:pt x="36" y="184"/>
                        </a:lnTo>
                        <a:lnTo>
                          <a:pt x="24" y="196"/>
                        </a:lnTo>
                        <a:lnTo>
                          <a:pt x="24" y="215"/>
                        </a:lnTo>
                        <a:lnTo>
                          <a:pt x="33" y="221"/>
                        </a:lnTo>
                        <a:lnTo>
                          <a:pt x="4" y="251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>
                    <a:off x="8166240" y="1804680"/>
                    <a:ext cx="88560" cy="10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69" h="152">
                        <a:moveTo>
                          <a:pt x="0" y="0"/>
                        </a:moveTo>
                        <a:lnTo>
                          <a:pt x="30" y="58"/>
                        </a:lnTo>
                        <a:lnTo>
                          <a:pt x="8" y="146"/>
                        </a:lnTo>
                        <a:lnTo>
                          <a:pt x="50" y="152"/>
                        </a:lnTo>
                        <a:lnTo>
                          <a:pt x="94" y="140"/>
                        </a:lnTo>
                        <a:lnTo>
                          <a:pt x="122" y="94"/>
                        </a:lnTo>
                        <a:lnTo>
                          <a:pt x="160" y="103"/>
                        </a:lnTo>
                        <a:lnTo>
                          <a:pt x="169" y="55"/>
                        </a:lnTo>
                        <a:lnTo>
                          <a:pt x="112" y="36"/>
                        </a:lnTo>
                        <a:lnTo>
                          <a:pt x="57" y="20"/>
                        </a:lnTo>
                        <a:lnTo>
                          <a:pt x="25" y="1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2" name=""/>
                  <p:cNvSpPr/>
                  <p:nvPr/>
                </p:nvSpPr>
                <p:spPr>
                  <a:xfrm>
                    <a:off x="8220600" y="1905840"/>
                    <a:ext cx="2844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70">
                        <a:moveTo>
                          <a:pt x="0" y="70"/>
                        </a:moveTo>
                        <a:lnTo>
                          <a:pt x="45" y="50"/>
                        </a:lnTo>
                        <a:lnTo>
                          <a:pt x="54" y="0"/>
                        </a:lnTo>
                        <a:lnTo>
                          <a:pt x="25" y="1"/>
                        </a:lnTo>
                        <a:lnTo>
                          <a:pt x="6" y="52"/>
                        </a:lnTo>
                        <a:lnTo>
                          <a:pt x="0" y="7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93" name=""/>
                <p:cNvSpPr/>
                <p:nvPr/>
              </p:nvSpPr>
              <p:spPr>
                <a:xfrm>
                  <a:off x="7402320" y="2310120"/>
                  <a:ext cx="104760" cy="167040"/>
                </a:xfrm>
                <a:custGeom>
                  <a:avLst/>
                  <a:gdLst/>
                  <a:ahLst/>
                  <a:rect l="l" t="t" r="r" b="b"/>
                  <a:pathLst>
                    <a:path w="200" h="237">
                      <a:moveTo>
                        <a:pt x="107" y="68"/>
                      </a:moveTo>
                      <a:lnTo>
                        <a:pt x="143" y="153"/>
                      </a:lnTo>
                      <a:lnTo>
                        <a:pt x="168" y="162"/>
                      </a:lnTo>
                      <a:lnTo>
                        <a:pt x="171" y="193"/>
                      </a:lnTo>
                      <a:lnTo>
                        <a:pt x="200" y="212"/>
                      </a:lnTo>
                      <a:lnTo>
                        <a:pt x="160" y="237"/>
                      </a:lnTo>
                      <a:lnTo>
                        <a:pt x="127" y="206"/>
                      </a:lnTo>
                      <a:lnTo>
                        <a:pt x="89" y="196"/>
                      </a:lnTo>
                      <a:lnTo>
                        <a:pt x="107" y="156"/>
                      </a:lnTo>
                      <a:lnTo>
                        <a:pt x="65" y="156"/>
                      </a:lnTo>
                      <a:lnTo>
                        <a:pt x="71" y="121"/>
                      </a:lnTo>
                      <a:lnTo>
                        <a:pt x="28" y="120"/>
                      </a:lnTo>
                      <a:lnTo>
                        <a:pt x="55" y="81"/>
                      </a:lnTo>
                      <a:lnTo>
                        <a:pt x="27" y="64"/>
                      </a:lnTo>
                      <a:lnTo>
                        <a:pt x="28" y="38"/>
                      </a:lnTo>
                      <a:lnTo>
                        <a:pt x="0" y="14"/>
                      </a:lnTo>
                      <a:lnTo>
                        <a:pt x="28" y="0"/>
                      </a:lnTo>
                      <a:lnTo>
                        <a:pt x="76" y="29"/>
                      </a:lnTo>
                      <a:lnTo>
                        <a:pt x="80" y="64"/>
                      </a:lnTo>
                      <a:lnTo>
                        <a:pt x="107" y="68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4" name=""/>
              <p:cNvSpPr/>
              <p:nvPr/>
            </p:nvSpPr>
            <p:spPr>
              <a:xfrm rot="2178000">
                <a:off x="7008480" y="1278720"/>
                <a:ext cx="604440" cy="793800"/>
              </a:xfrm>
              <a:custGeom>
                <a:avLst/>
                <a:gdLst/>
                <a:ahLst/>
                <a:rect l="l" t="t" r="r" b="b"/>
                <a:pathLst>
                  <a:path w="839" h="820">
                    <a:moveTo>
                      <a:pt x="134" y="122"/>
                    </a:moveTo>
                    <a:lnTo>
                      <a:pt x="303" y="0"/>
                    </a:lnTo>
                    <a:lnTo>
                      <a:pt x="384" y="22"/>
                    </a:lnTo>
                    <a:lnTo>
                      <a:pt x="423" y="60"/>
                    </a:lnTo>
                    <a:lnTo>
                      <a:pt x="581" y="76"/>
                    </a:lnTo>
                    <a:lnTo>
                      <a:pt x="586" y="481"/>
                    </a:lnTo>
                    <a:lnTo>
                      <a:pt x="638" y="493"/>
                    </a:lnTo>
                    <a:lnTo>
                      <a:pt x="662" y="541"/>
                    </a:lnTo>
                    <a:lnTo>
                      <a:pt x="699" y="525"/>
                    </a:lnTo>
                    <a:lnTo>
                      <a:pt x="774" y="634"/>
                    </a:lnTo>
                    <a:lnTo>
                      <a:pt x="839" y="685"/>
                    </a:lnTo>
                    <a:lnTo>
                      <a:pt x="838" y="729"/>
                    </a:lnTo>
                    <a:lnTo>
                      <a:pt x="755" y="736"/>
                    </a:lnTo>
                    <a:lnTo>
                      <a:pt x="718" y="600"/>
                    </a:lnTo>
                    <a:lnTo>
                      <a:pt x="458" y="468"/>
                    </a:lnTo>
                    <a:lnTo>
                      <a:pt x="465" y="510"/>
                    </a:lnTo>
                    <a:lnTo>
                      <a:pt x="406" y="563"/>
                    </a:lnTo>
                    <a:lnTo>
                      <a:pt x="396" y="543"/>
                    </a:lnTo>
                    <a:lnTo>
                      <a:pt x="379" y="543"/>
                    </a:lnTo>
                    <a:lnTo>
                      <a:pt x="332" y="656"/>
                    </a:lnTo>
                    <a:lnTo>
                      <a:pt x="186" y="767"/>
                    </a:lnTo>
                    <a:lnTo>
                      <a:pt x="42" y="820"/>
                    </a:lnTo>
                    <a:lnTo>
                      <a:pt x="0" y="813"/>
                    </a:lnTo>
                    <a:lnTo>
                      <a:pt x="166" y="717"/>
                    </a:lnTo>
                    <a:lnTo>
                      <a:pt x="186" y="717"/>
                    </a:lnTo>
                    <a:lnTo>
                      <a:pt x="247" y="644"/>
                    </a:lnTo>
                    <a:lnTo>
                      <a:pt x="274" y="641"/>
                    </a:lnTo>
                    <a:lnTo>
                      <a:pt x="315" y="586"/>
                    </a:lnTo>
                    <a:lnTo>
                      <a:pt x="301" y="561"/>
                    </a:lnTo>
                    <a:lnTo>
                      <a:pt x="212" y="572"/>
                    </a:lnTo>
                    <a:lnTo>
                      <a:pt x="152" y="434"/>
                    </a:lnTo>
                    <a:lnTo>
                      <a:pt x="186" y="371"/>
                    </a:lnTo>
                    <a:lnTo>
                      <a:pt x="241" y="348"/>
                    </a:lnTo>
                    <a:lnTo>
                      <a:pt x="222" y="293"/>
                    </a:lnTo>
                    <a:lnTo>
                      <a:pt x="163" y="319"/>
                    </a:lnTo>
                    <a:lnTo>
                      <a:pt x="120" y="240"/>
                    </a:lnTo>
                    <a:lnTo>
                      <a:pt x="168" y="220"/>
                    </a:lnTo>
                    <a:lnTo>
                      <a:pt x="212" y="242"/>
                    </a:lnTo>
                    <a:lnTo>
                      <a:pt x="233" y="230"/>
                    </a:lnTo>
                    <a:lnTo>
                      <a:pt x="196" y="161"/>
                    </a:lnTo>
                    <a:lnTo>
                      <a:pt x="131" y="156"/>
                    </a:lnTo>
                    <a:lnTo>
                      <a:pt x="134" y="122"/>
                    </a:lnTo>
                    <a:close/>
                  </a:path>
                </a:pathLst>
              </a:custGeom>
              <a:solidFill>
                <a:srgbClr val="00cc99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7412040" y="2429640"/>
                <a:ext cx="1284840" cy="1045080"/>
              </a:xfrm>
              <a:custGeom>
                <a:avLst/>
                <a:gdLst/>
                <a:ahLst/>
                <a:rect l="l" t="t" r="r" b="b"/>
                <a:pathLst>
                  <a:path w="2512" h="1521">
                    <a:moveTo>
                      <a:pt x="2421" y="9"/>
                    </a:moveTo>
                    <a:lnTo>
                      <a:pt x="2408" y="0"/>
                    </a:lnTo>
                    <a:lnTo>
                      <a:pt x="2394" y="0"/>
                    </a:lnTo>
                    <a:lnTo>
                      <a:pt x="2385" y="1"/>
                    </a:lnTo>
                    <a:lnTo>
                      <a:pt x="2379" y="12"/>
                    </a:lnTo>
                    <a:lnTo>
                      <a:pt x="2368" y="9"/>
                    </a:lnTo>
                    <a:lnTo>
                      <a:pt x="2360" y="12"/>
                    </a:lnTo>
                    <a:lnTo>
                      <a:pt x="2354" y="27"/>
                    </a:lnTo>
                    <a:lnTo>
                      <a:pt x="2336" y="61"/>
                    </a:lnTo>
                    <a:lnTo>
                      <a:pt x="2345" y="82"/>
                    </a:lnTo>
                    <a:lnTo>
                      <a:pt x="2338" y="107"/>
                    </a:lnTo>
                    <a:lnTo>
                      <a:pt x="2344" y="118"/>
                    </a:lnTo>
                    <a:lnTo>
                      <a:pt x="2343" y="138"/>
                    </a:lnTo>
                    <a:lnTo>
                      <a:pt x="2340" y="156"/>
                    </a:lnTo>
                    <a:lnTo>
                      <a:pt x="2329" y="159"/>
                    </a:lnTo>
                    <a:lnTo>
                      <a:pt x="2320" y="149"/>
                    </a:lnTo>
                    <a:lnTo>
                      <a:pt x="2303" y="189"/>
                    </a:lnTo>
                    <a:lnTo>
                      <a:pt x="2270" y="197"/>
                    </a:lnTo>
                    <a:lnTo>
                      <a:pt x="2227" y="210"/>
                    </a:lnTo>
                    <a:lnTo>
                      <a:pt x="2196" y="218"/>
                    </a:lnTo>
                    <a:lnTo>
                      <a:pt x="2172" y="239"/>
                    </a:lnTo>
                    <a:lnTo>
                      <a:pt x="2155" y="262"/>
                    </a:lnTo>
                    <a:lnTo>
                      <a:pt x="2141" y="263"/>
                    </a:lnTo>
                    <a:lnTo>
                      <a:pt x="2125" y="288"/>
                    </a:lnTo>
                    <a:lnTo>
                      <a:pt x="2132" y="297"/>
                    </a:lnTo>
                    <a:lnTo>
                      <a:pt x="2136" y="317"/>
                    </a:lnTo>
                    <a:lnTo>
                      <a:pt x="2128" y="324"/>
                    </a:lnTo>
                    <a:lnTo>
                      <a:pt x="2117" y="339"/>
                    </a:lnTo>
                    <a:lnTo>
                      <a:pt x="2105" y="343"/>
                    </a:lnTo>
                    <a:lnTo>
                      <a:pt x="2101" y="353"/>
                    </a:lnTo>
                    <a:lnTo>
                      <a:pt x="2080" y="356"/>
                    </a:lnTo>
                    <a:lnTo>
                      <a:pt x="2051" y="357"/>
                    </a:lnTo>
                    <a:lnTo>
                      <a:pt x="2028" y="371"/>
                    </a:lnTo>
                    <a:lnTo>
                      <a:pt x="2031" y="393"/>
                    </a:lnTo>
                    <a:lnTo>
                      <a:pt x="2024" y="412"/>
                    </a:lnTo>
                    <a:lnTo>
                      <a:pt x="2005" y="437"/>
                    </a:lnTo>
                    <a:lnTo>
                      <a:pt x="1981" y="460"/>
                    </a:lnTo>
                    <a:lnTo>
                      <a:pt x="1957" y="469"/>
                    </a:lnTo>
                    <a:lnTo>
                      <a:pt x="1950" y="487"/>
                    </a:lnTo>
                    <a:lnTo>
                      <a:pt x="1901" y="507"/>
                    </a:lnTo>
                    <a:lnTo>
                      <a:pt x="1874" y="501"/>
                    </a:lnTo>
                    <a:lnTo>
                      <a:pt x="1869" y="495"/>
                    </a:lnTo>
                    <a:lnTo>
                      <a:pt x="1881" y="483"/>
                    </a:lnTo>
                    <a:lnTo>
                      <a:pt x="1882" y="467"/>
                    </a:lnTo>
                    <a:lnTo>
                      <a:pt x="1873" y="453"/>
                    </a:lnTo>
                    <a:lnTo>
                      <a:pt x="1883" y="446"/>
                    </a:lnTo>
                    <a:lnTo>
                      <a:pt x="1897" y="449"/>
                    </a:lnTo>
                    <a:lnTo>
                      <a:pt x="1895" y="419"/>
                    </a:lnTo>
                    <a:lnTo>
                      <a:pt x="1892" y="395"/>
                    </a:lnTo>
                    <a:lnTo>
                      <a:pt x="1884" y="373"/>
                    </a:lnTo>
                    <a:lnTo>
                      <a:pt x="1871" y="362"/>
                    </a:lnTo>
                    <a:lnTo>
                      <a:pt x="1853" y="357"/>
                    </a:lnTo>
                    <a:lnTo>
                      <a:pt x="1839" y="367"/>
                    </a:lnTo>
                    <a:lnTo>
                      <a:pt x="1826" y="385"/>
                    </a:lnTo>
                    <a:lnTo>
                      <a:pt x="1812" y="381"/>
                    </a:lnTo>
                    <a:lnTo>
                      <a:pt x="1817" y="372"/>
                    </a:lnTo>
                    <a:lnTo>
                      <a:pt x="1824" y="367"/>
                    </a:lnTo>
                    <a:lnTo>
                      <a:pt x="1833" y="361"/>
                    </a:lnTo>
                    <a:lnTo>
                      <a:pt x="1846" y="345"/>
                    </a:lnTo>
                    <a:lnTo>
                      <a:pt x="1836" y="314"/>
                    </a:lnTo>
                    <a:lnTo>
                      <a:pt x="1833" y="289"/>
                    </a:lnTo>
                    <a:lnTo>
                      <a:pt x="1812" y="285"/>
                    </a:lnTo>
                    <a:lnTo>
                      <a:pt x="1774" y="262"/>
                    </a:lnTo>
                    <a:lnTo>
                      <a:pt x="1752" y="272"/>
                    </a:lnTo>
                    <a:lnTo>
                      <a:pt x="1748" y="283"/>
                    </a:lnTo>
                    <a:lnTo>
                      <a:pt x="1753" y="292"/>
                    </a:lnTo>
                    <a:lnTo>
                      <a:pt x="1742" y="297"/>
                    </a:lnTo>
                    <a:lnTo>
                      <a:pt x="1741" y="315"/>
                    </a:lnTo>
                    <a:lnTo>
                      <a:pt x="1731" y="315"/>
                    </a:lnTo>
                    <a:lnTo>
                      <a:pt x="1715" y="330"/>
                    </a:lnTo>
                    <a:lnTo>
                      <a:pt x="1709" y="341"/>
                    </a:lnTo>
                    <a:lnTo>
                      <a:pt x="1704" y="353"/>
                    </a:lnTo>
                    <a:lnTo>
                      <a:pt x="1703" y="382"/>
                    </a:lnTo>
                    <a:lnTo>
                      <a:pt x="1700" y="414"/>
                    </a:lnTo>
                    <a:lnTo>
                      <a:pt x="1708" y="432"/>
                    </a:lnTo>
                    <a:lnTo>
                      <a:pt x="1719" y="462"/>
                    </a:lnTo>
                    <a:lnTo>
                      <a:pt x="1719" y="499"/>
                    </a:lnTo>
                    <a:lnTo>
                      <a:pt x="1709" y="540"/>
                    </a:lnTo>
                    <a:lnTo>
                      <a:pt x="1691" y="543"/>
                    </a:lnTo>
                    <a:lnTo>
                      <a:pt x="1679" y="536"/>
                    </a:lnTo>
                    <a:lnTo>
                      <a:pt x="1669" y="521"/>
                    </a:lnTo>
                    <a:lnTo>
                      <a:pt x="1658" y="499"/>
                    </a:lnTo>
                    <a:lnTo>
                      <a:pt x="1660" y="470"/>
                    </a:lnTo>
                    <a:lnTo>
                      <a:pt x="1660" y="451"/>
                    </a:lnTo>
                    <a:lnTo>
                      <a:pt x="1651" y="433"/>
                    </a:lnTo>
                    <a:lnTo>
                      <a:pt x="1653" y="397"/>
                    </a:lnTo>
                    <a:lnTo>
                      <a:pt x="1657" y="368"/>
                    </a:lnTo>
                    <a:lnTo>
                      <a:pt x="1659" y="353"/>
                    </a:lnTo>
                    <a:lnTo>
                      <a:pt x="1677" y="328"/>
                    </a:lnTo>
                    <a:lnTo>
                      <a:pt x="1667" y="317"/>
                    </a:lnTo>
                    <a:lnTo>
                      <a:pt x="1658" y="322"/>
                    </a:lnTo>
                    <a:lnTo>
                      <a:pt x="1652" y="336"/>
                    </a:lnTo>
                    <a:lnTo>
                      <a:pt x="1631" y="358"/>
                    </a:lnTo>
                    <a:lnTo>
                      <a:pt x="1643" y="340"/>
                    </a:lnTo>
                    <a:lnTo>
                      <a:pt x="1644" y="327"/>
                    </a:lnTo>
                    <a:lnTo>
                      <a:pt x="1640" y="312"/>
                    </a:lnTo>
                    <a:lnTo>
                      <a:pt x="1643" y="298"/>
                    </a:lnTo>
                    <a:lnTo>
                      <a:pt x="1652" y="285"/>
                    </a:lnTo>
                    <a:lnTo>
                      <a:pt x="1654" y="266"/>
                    </a:lnTo>
                    <a:lnTo>
                      <a:pt x="1658" y="256"/>
                    </a:lnTo>
                    <a:lnTo>
                      <a:pt x="1662" y="273"/>
                    </a:lnTo>
                    <a:lnTo>
                      <a:pt x="1680" y="274"/>
                    </a:lnTo>
                    <a:lnTo>
                      <a:pt x="1691" y="263"/>
                    </a:lnTo>
                    <a:lnTo>
                      <a:pt x="1709" y="255"/>
                    </a:lnTo>
                    <a:lnTo>
                      <a:pt x="1729" y="253"/>
                    </a:lnTo>
                    <a:lnTo>
                      <a:pt x="1737" y="260"/>
                    </a:lnTo>
                    <a:lnTo>
                      <a:pt x="1752" y="257"/>
                    </a:lnTo>
                    <a:lnTo>
                      <a:pt x="1775" y="252"/>
                    </a:lnTo>
                    <a:lnTo>
                      <a:pt x="1787" y="251"/>
                    </a:lnTo>
                    <a:lnTo>
                      <a:pt x="1789" y="241"/>
                    </a:lnTo>
                    <a:lnTo>
                      <a:pt x="1791" y="241"/>
                    </a:lnTo>
                    <a:lnTo>
                      <a:pt x="1781" y="230"/>
                    </a:lnTo>
                    <a:lnTo>
                      <a:pt x="1768" y="224"/>
                    </a:lnTo>
                    <a:lnTo>
                      <a:pt x="1746" y="217"/>
                    </a:lnTo>
                    <a:lnTo>
                      <a:pt x="1727" y="217"/>
                    </a:lnTo>
                    <a:lnTo>
                      <a:pt x="1715" y="215"/>
                    </a:lnTo>
                    <a:lnTo>
                      <a:pt x="1709" y="207"/>
                    </a:lnTo>
                    <a:lnTo>
                      <a:pt x="1687" y="204"/>
                    </a:lnTo>
                    <a:lnTo>
                      <a:pt x="1667" y="208"/>
                    </a:lnTo>
                    <a:lnTo>
                      <a:pt x="1653" y="210"/>
                    </a:lnTo>
                    <a:lnTo>
                      <a:pt x="1637" y="224"/>
                    </a:lnTo>
                    <a:lnTo>
                      <a:pt x="1617" y="215"/>
                    </a:lnTo>
                    <a:lnTo>
                      <a:pt x="1601" y="208"/>
                    </a:lnTo>
                    <a:lnTo>
                      <a:pt x="1582" y="217"/>
                    </a:lnTo>
                    <a:lnTo>
                      <a:pt x="1569" y="211"/>
                    </a:lnTo>
                    <a:lnTo>
                      <a:pt x="1583" y="191"/>
                    </a:lnTo>
                    <a:lnTo>
                      <a:pt x="1579" y="184"/>
                    </a:lnTo>
                    <a:lnTo>
                      <a:pt x="1571" y="187"/>
                    </a:lnTo>
                    <a:lnTo>
                      <a:pt x="1552" y="210"/>
                    </a:lnTo>
                    <a:lnTo>
                      <a:pt x="1537" y="228"/>
                    </a:lnTo>
                    <a:lnTo>
                      <a:pt x="1522" y="248"/>
                    </a:lnTo>
                    <a:lnTo>
                      <a:pt x="1501" y="246"/>
                    </a:lnTo>
                    <a:lnTo>
                      <a:pt x="1492" y="223"/>
                    </a:lnTo>
                    <a:lnTo>
                      <a:pt x="1484" y="224"/>
                    </a:lnTo>
                    <a:lnTo>
                      <a:pt x="1477" y="241"/>
                    </a:lnTo>
                    <a:lnTo>
                      <a:pt x="1452" y="242"/>
                    </a:lnTo>
                    <a:lnTo>
                      <a:pt x="1479" y="208"/>
                    </a:lnTo>
                    <a:lnTo>
                      <a:pt x="1542" y="169"/>
                    </a:lnTo>
                    <a:lnTo>
                      <a:pt x="1546" y="159"/>
                    </a:lnTo>
                    <a:lnTo>
                      <a:pt x="1511" y="161"/>
                    </a:lnTo>
                    <a:lnTo>
                      <a:pt x="1475" y="148"/>
                    </a:lnTo>
                    <a:lnTo>
                      <a:pt x="1462" y="165"/>
                    </a:lnTo>
                    <a:lnTo>
                      <a:pt x="1434" y="155"/>
                    </a:lnTo>
                    <a:lnTo>
                      <a:pt x="1416" y="162"/>
                    </a:lnTo>
                    <a:lnTo>
                      <a:pt x="1404" y="142"/>
                    </a:lnTo>
                    <a:lnTo>
                      <a:pt x="1373" y="143"/>
                    </a:lnTo>
                    <a:lnTo>
                      <a:pt x="1364" y="152"/>
                    </a:lnTo>
                    <a:lnTo>
                      <a:pt x="1329" y="130"/>
                    </a:lnTo>
                    <a:lnTo>
                      <a:pt x="1324" y="109"/>
                    </a:lnTo>
                    <a:lnTo>
                      <a:pt x="1284" y="101"/>
                    </a:lnTo>
                    <a:lnTo>
                      <a:pt x="1302" y="130"/>
                    </a:lnTo>
                    <a:lnTo>
                      <a:pt x="709" y="111"/>
                    </a:lnTo>
                    <a:lnTo>
                      <a:pt x="673" y="102"/>
                    </a:lnTo>
                    <a:lnTo>
                      <a:pt x="610" y="94"/>
                    </a:lnTo>
                    <a:lnTo>
                      <a:pt x="530" y="82"/>
                    </a:lnTo>
                    <a:lnTo>
                      <a:pt x="430" y="73"/>
                    </a:lnTo>
                    <a:lnTo>
                      <a:pt x="392" y="66"/>
                    </a:lnTo>
                    <a:lnTo>
                      <a:pt x="338" y="57"/>
                    </a:lnTo>
                    <a:lnTo>
                      <a:pt x="299" y="48"/>
                    </a:lnTo>
                    <a:lnTo>
                      <a:pt x="195" y="18"/>
                    </a:lnTo>
                    <a:lnTo>
                      <a:pt x="188" y="21"/>
                    </a:lnTo>
                    <a:lnTo>
                      <a:pt x="191" y="35"/>
                    </a:lnTo>
                    <a:lnTo>
                      <a:pt x="197" y="51"/>
                    </a:lnTo>
                    <a:lnTo>
                      <a:pt x="192" y="58"/>
                    </a:lnTo>
                    <a:lnTo>
                      <a:pt x="185" y="65"/>
                    </a:lnTo>
                    <a:lnTo>
                      <a:pt x="189" y="76"/>
                    </a:lnTo>
                    <a:lnTo>
                      <a:pt x="204" y="101"/>
                    </a:lnTo>
                    <a:lnTo>
                      <a:pt x="192" y="118"/>
                    </a:lnTo>
                    <a:lnTo>
                      <a:pt x="185" y="139"/>
                    </a:lnTo>
                    <a:lnTo>
                      <a:pt x="168" y="139"/>
                    </a:lnTo>
                    <a:lnTo>
                      <a:pt x="182" y="129"/>
                    </a:lnTo>
                    <a:lnTo>
                      <a:pt x="187" y="118"/>
                    </a:lnTo>
                    <a:lnTo>
                      <a:pt x="184" y="107"/>
                    </a:lnTo>
                    <a:lnTo>
                      <a:pt x="175" y="104"/>
                    </a:lnTo>
                    <a:lnTo>
                      <a:pt x="179" y="96"/>
                    </a:lnTo>
                    <a:lnTo>
                      <a:pt x="191" y="99"/>
                    </a:lnTo>
                    <a:lnTo>
                      <a:pt x="191" y="93"/>
                    </a:lnTo>
                    <a:lnTo>
                      <a:pt x="183" y="74"/>
                    </a:lnTo>
                    <a:lnTo>
                      <a:pt x="174" y="73"/>
                    </a:lnTo>
                    <a:lnTo>
                      <a:pt x="155" y="70"/>
                    </a:lnTo>
                    <a:lnTo>
                      <a:pt x="140" y="56"/>
                    </a:lnTo>
                    <a:lnTo>
                      <a:pt x="130" y="49"/>
                    </a:lnTo>
                    <a:lnTo>
                      <a:pt x="118" y="44"/>
                    </a:lnTo>
                    <a:lnTo>
                      <a:pt x="110" y="57"/>
                    </a:lnTo>
                    <a:lnTo>
                      <a:pt x="115" y="78"/>
                    </a:lnTo>
                    <a:lnTo>
                      <a:pt x="118" y="95"/>
                    </a:lnTo>
                    <a:lnTo>
                      <a:pt x="116" y="116"/>
                    </a:lnTo>
                    <a:lnTo>
                      <a:pt x="115" y="135"/>
                    </a:lnTo>
                    <a:lnTo>
                      <a:pt x="118" y="142"/>
                    </a:lnTo>
                    <a:lnTo>
                      <a:pt x="125" y="156"/>
                    </a:lnTo>
                    <a:lnTo>
                      <a:pt x="118" y="166"/>
                    </a:lnTo>
                    <a:lnTo>
                      <a:pt x="119" y="175"/>
                    </a:lnTo>
                    <a:lnTo>
                      <a:pt x="120" y="190"/>
                    </a:lnTo>
                    <a:lnTo>
                      <a:pt x="109" y="195"/>
                    </a:lnTo>
                    <a:lnTo>
                      <a:pt x="101" y="229"/>
                    </a:lnTo>
                    <a:lnTo>
                      <a:pt x="93" y="259"/>
                    </a:lnTo>
                    <a:lnTo>
                      <a:pt x="81" y="290"/>
                    </a:lnTo>
                    <a:lnTo>
                      <a:pt x="66" y="314"/>
                    </a:lnTo>
                    <a:lnTo>
                      <a:pt x="52" y="345"/>
                    </a:lnTo>
                    <a:lnTo>
                      <a:pt x="38" y="364"/>
                    </a:lnTo>
                    <a:lnTo>
                      <a:pt x="38" y="411"/>
                    </a:lnTo>
                    <a:lnTo>
                      <a:pt x="38" y="453"/>
                    </a:lnTo>
                    <a:lnTo>
                      <a:pt x="32" y="469"/>
                    </a:lnTo>
                    <a:lnTo>
                      <a:pt x="18" y="496"/>
                    </a:lnTo>
                    <a:lnTo>
                      <a:pt x="0" y="525"/>
                    </a:lnTo>
                    <a:lnTo>
                      <a:pt x="18" y="562"/>
                    </a:lnTo>
                    <a:lnTo>
                      <a:pt x="13" y="592"/>
                    </a:lnTo>
                    <a:lnTo>
                      <a:pt x="8" y="613"/>
                    </a:lnTo>
                    <a:lnTo>
                      <a:pt x="23" y="650"/>
                    </a:lnTo>
                    <a:lnTo>
                      <a:pt x="34" y="674"/>
                    </a:lnTo>
                    <a:lnTo>
                      <a:pt x="50" y="684"/>
                    </a:lnTo>
                    <a:lnTo>
                      <a:pt x="65" y="667"/>
                    </a:lnTo>
                    <a:lnTo>
                      <a:pt x="70" y="678"/>
                    </a:lnTo>
                    <a:lnTo>
                      <a:pt x="74" y="687"/>
                    </a:lnTo>
                    <a:lnTo>
                      <a:pt x="59" y="689"/>
                    </a:lnTo>
                    <a:lnTo>
                      <a:pt x="60" y="700"/>
                    </a:lnTo>
                    <a:lnTo>
                      <a:pt x="46" y="693"/>
                    </a:lnTo>
                    <a:lnTo>
                      <a:pt x="48" y="716"/>
                    </a:lnTo>
                    <a:lnTo>
                      <a:pt x="54" y="736"/>
                    </a:lnTo>
                    <a:lnTo>
                      <a:pt x="57" y="751"/>
                    </a:lnTo>
                    <a:lnTo>
                      <a:pt x="76" y="748"/>
                    </a:lnTo>
                    <a:lnTo>
                      <a:pt x="73" y="755"/>
                    </a:lnTo>
                    <a:lnTo>
                      <a:pt x="57" y="766"/>
                    </a:lnTo>
                    <a:lnTo>
                      <a:pt x="57" y="790"/>
                    </a:lnTo>
                    <a:lnTo>
                      <a:pt x="79" y="814"/>
                    </a:lnTo>
                    <a:lnTo>
                      <a:pt x="88" y="822"/>
                    </a:lnTo>
                    <a:lnTo>
                      <a:pt x="82" y="832"/>
                    </a:lnTo>
                    <a:lnTo>
                      <a:pt x="89" y="846"/>
                    </a:lnTo>
                    <a:lnTo>
                      <a:pt x="93" y="863"/>
                    </a:lnTo>
                    <a:lnTo>
                      <a:pt x="99" y="874"/>
                    </a:lnTo>
                    <a:lnTo>
                      <a:pt x="102" y="887"/>
                    </a:lnTo>
                    <a:lnTo>
                      <a:pt x="103" y="900"/>
                    </a:lnTo>
                    <a:lnTo>
                      <a:pt x="99" y="909"/>
                    </a:lnTo>
                    <a:lnTo>
                      <a:pt x="114" y="913"/>
                    </a:lnTo>
                    <a:lnTo>
                      <a:pt x="128" y="914"/>
                    </a:lnTo>
                    <a:lnTo>
                      <a:pt x="140" y="911"/>
                    </a:lnTo>
                    <a:lnTo>
                      <a:pt x="155" y="913"/>
                    </a:lnTo>
                    <a:lnTo>
                      <a:pt x="159" y="925"/>
                    </a:lnTo>
                    <a:lnTo>
                      <a:pt x="162" y="935"/>
                    </a:lnTo>
                    <a:lnTo>
                      <a:pt x="177" y="951"/>
                    </a:lnTo>
                    <a:lnTo>
                      <a:pt x="184" y="958"/>
                    </a:lnTo>
                    <a:lnTo>
                      <a:pt x="191" y="971"/>
                    </a:lnTo>
                    <a:lnTo>
                      <a:pt x="192" y="979"/>
                    </a:lnTo>
                    <a:lnTo>
                      <a:pt x="206" y="987"/>
                    </a:lnTo>
                    <a:lnTo>
                      <a:pt x="218" y="998"/>
                    </a:lnTo>
                    <a:lnTo>
                      <a:pt x="231" y="1018"/>
                    </a:lnTo>
                    <a:lnTo>
                      <a:pt x="233" y="1042"/>
                    </a:lnTo>
                    <a:lnTo>
                      <a:pt x="232" y="1055"/>
                    </a:lnTo>
                    <a:lnTo>
                      <a:pt x="245" y="1057"/>
                    </a:lnTo>
                    <a:lnTo>
                      <a:pt x="259" y="1054"/>
                    </a:lnTo>
                    <a:lnTo>
                      <a:pt x="273" y="1053"/>
                    </a:lnTo>
                    <a:lnTo>
                      <a:pt x="294" y="1054"/>
                    </a:lnTo>
                    <a:lnTo>
                      <a:pt x="314" y="1055"/>
                    </a:lnTo>
                    <a:lnTo>
                      <a:pt x="341" y="1055"/>
                    </a:lnTo>
                    <a:lnTo>
                      <a:pt x="359" y="1057"/>
                    </a:lnTo>
                    <a:lnTo>
                      <a:pt x="362" y="1068"/>
                    </a:lnTo>
                    <a:lnTo>
                      <a:pt x="358" y="1079"/>
                    </a:lnTo>
                    <a:lnTo>
                      <a:pt x="380" y="1093"/>
                    </a:lnTo>
                    <a:lnTo>
                      <a:pt x="402" y="1104"/>
                    </a:lnTo>
                    <a:lnTo>
                      <a:pt x="444" y="1126"/>
                    </a:lnTo>
                    <a:lnTo>
                      <a:pt x="475" y="1143"/>
                    </a:lnTo>
                    <a:lnTo>
                      <a:pt x="509" y="1156"/>
                    </a:lnTo>
                    <a:lnTo>
                      <a:pt x="544" y="1168"/>
                    </a:lnTo>
                    <a:lnTo>
                      <a:pt x="567" y="1170"/>
                    </a:lnTo>
                    <a:lnTo>
                      <a:pt x="587" y="1167"/>
                    </a:lnTo>
                    <a:lnTo>
                      <a:pt x="618" y="1171"/>
                    </a:lnTo>
                    <a:lnTo>
                      <a:pt x="638" y="1174"/>
                    </a:lnTo>
                    <a:lnTo>
                      <a:pt x="660" y="1172"/>
                    </a:lnTo>
                    <a:lnTo>
                      <a:pt x="681" y="1177"/>
                    </a:lnTo>
                    <a:lnTo>
                      <a:pt x="699" y="1176"/>
                    </a:lnTo>
                    <a:lnTo>
                      <a:pt x="701" y="1151"/>
                    </a:lnTo>
                    <a:lnTo>
                      <a:pt x="733" y="1155"/>
                    </a:lnTo>
                    <a:lnTo>
                      <a:pt x="772" y="1156"/>
                    </a:lnTo>
                    <a:lnTo>
                      <a:pt x="802" y="1191"/>
                    </a:lnTo>
                    <a:lnTo>
                      <a:pt x="838" y="1221"/>
                    </a:lnTo>
                    <a:lnTo>
                      <a:pt x="859" y="1244"/>
                    </a:lnTo>
                    <a:lnTo>
                      <a:pt x="860" y="1264"/>
                    </a:lnTo>
                    <a:lnTo>
                      <a:pt x="867" y="1286"/>
                    </a:lnTo>
                    <a:lnTo>
                      <a:pt x="881" y="1301"/>
                    </a:lnTo>
                    <a:lnTo>
                      <a:pt x="896" y="1315"/>
                    </a:lnTo>
                    <a:lnTo>
                      <a:pt x="940" y="1342"/>
                    </a:lnTo>
                    <a:lnTo>
                      <a:pt x="955" y="1338"/>
                    </a:lnTo>
                    <a:lnTo>
                      <a:pt x="964" y="1330"/>
                    </a:lnTo>
                    <a:lnTo>
                      <a:pt x="969" y="1314"/>
                    </a:lnTo>
                    <a:lnTo>
                      <a:pt x="973" y="1301"/>
                    </a:lnTo>
                    <a:lnTo>
                      <a:pt x="990" y="1300"/>
                    </a:lnTo>
                    <a:lnTo>
                      <a:pt x="1009" y="1301"/>
                    </a:lnTo>
                    <a:lnTo>
                      <a:pt x="1033" y="1306"/>
                    </a:lnTo>
                    <a:lnTo>
                      <a:pt x="1047" y="1316"/>
                    </a:lnTo>
                    <a:lnTo>
                      <a:pt x="1065" y="1324"/>
                    </a:lnTo>
                    <a:lnTo>
                      <a:pt x="1071" y="1337"/>
                    </a:lnTo>
                    <a:lnTo>
                      <a:pt x="1080" y="1358"/>
                    </a:lnTo>
                    <a:lnTo>
                      <a:pt x="1089" y="1378"/>
                    </a:lnTo>
                    <a:lnTo>
                      <a:pt x="1099" y="1394"/>
                    </a:lnTo>
                    <a:lnTo>
                      <a:pt x="1117" y="1405"/>
                    </a:lnTo>
                    <a:lnTo>
                      <a:pt x="1132" y="1421"/>
                    </a:lnTo>
                    <a:lnTo>
                      <a:pt x="1138" y="1444"/>
                    </a:lnTo>
                    <a:lnTo>
                      <a:pt x="1144" y="1463"/>
                    </a:lnTo>
                    <a:lnTo>
                      <a:pt x="1156" y="1494"/>
                    </a:lnTo>
                    <a:lnTo>
                      <a:pt x="1173" y="1497"/>
                    </a:lnTo>
                    <a:lnTo>
                      <a:pt x="1192" y="1505"/>
                    </a:lnTo>
                    <a:lnTo>
                      <a:pt x="1211" y="1510"/>
                    </a:lnTo>
                    <a:lnTo>
                      <a:pt x="1236" y="1511"/>
                    </a:lnTo>
                    <a:lnTo>
                      <a:pt x="1250" y="1521"/>
                    </a:lnTo>
                    <a:lnTo>
                      <a:pt x="1284" y="1519"/>
                    </a:lnTo>
                    <a:lnTo>
                      <a:pt x="1286" y="1495"/>
                    </a:lnTo>
                    <a:lnTo>
                      <a:pt x="1267" y="1478"/>
                    </a:lnTo>
                    <a:lnTo>
                      <a:pt x="1264" y="1452"/>
                    </a:lnTo>
                    <a:lnTo>
                      <a:pt x="1277" y="1434"/>
                    </a:lnTo>
                    <a:lnTo>
                      <a:pt x="1276" y="1415"/>
                    </a:lnTo>
                    <a:lnTo>
                      <a:pt x="1281" y="1410"/>
                    </a:lnTo>
                    <a:lnTo>
                      <a:pt x="1283" y="1396"/>
                    </a:lnTo>
                    <a:lnTo>
                      <a:pt x="1295" y="1388"/>
                    </a:lnTo>
                    <a:lnTo>
                      <a:pt x="1317" y="1373"/>
                    </a:lnTo>
                    <a:lnTo>
                      <a:pt x="1329" y="1373"/>
                    </a:lnTo>
                    <a:lnTo>
                      <a:pt x="1356" y="1356"/>
                    </a:lnTo>
                    <a:lnTo>
                      <a:pt x="1373" y="1340"/>
                    </a:lnTo>
                    <a:lnTo>
                      <a:pt x="1400" y="1324"/>
                    </a:lnTo>
                    <a:lnTo>
                      <a:pt x="1393" y="1303"/>
                    </a:lnTo>
                    <a:lnTo>
                      <a:pt x="1399" y="1298"/>
                    </a:lnTo>
                    <a:lnTo>
                      <a:pt x="1407" y="1320"/>
                    </a:lnTo>
                    <a:lnTo>
                      <a:pt x="1444" y="1288"/>
                    </a:lnTo>
                    <a:lnTo>
                      <a:pt x="1474" y="1289"/>
                    </a:lnTo>
                    <a:lnTo>
                      <a:pt x="1515" y="1298"/>
                    </a:lnTo>
                    <a:lnTo>
                      <a:pt x="1547" y="1293"/>
                    </a:lnTo>
                    <a:lnTo>
                      <a:pt x="1562" y="1291"/>
                    </a:lnTo>
                    <a:lnTo>
                      <a:pt x="1554" y="1277"/>
                    </a:lnTo>
                    <a:lnTo>
                      <a:pt x="1568" y="1279"/>
                    </a:lnTo>
                    <a:lnTo>
                      <a:pt x="1577" y="1290"/>
                    </a:lnTo>
                    <a:lnTo>
                      <a:pt x="1577" y="1300"/>
                    </a:lnTo>
                    <a:lnTo>
                      <a:pt x="1607" y="1302"/>
                    </a:lnTo>
                    <a:lnTo>
                      <a:pt x="1622" y="1303"/>
                    </a:lnTo>
                    <a:lnTo>
                      <a:pt x="1628" y="1297"/>
                    </a:lnTo>
                    <a:lnTo>
                      <a:pt x="1641" y="1308"/>
                    </a:lnTo>
                    <a:lnTo>
                      <a:pt x="1651" y="1311"/>
                    </a:lnTo>
                    <a:lnTo>
                      <a:pt x="1663" y="1308"/>
                    </a:lnTo>
                    <a:lnTo>
                      <a:pt x="1654" y="1291"/>
                    </a:lnTo>
                    <a:lnTo>
                      <a:pt x="1668" y="1290"/>
                    </a:lnTo>
                    <a:lnTo>
                      <a:pt x="1677" y="1295"/>
                    </a:lnTo>
                    <a:lnTo>
                      <a:pt x="1690" y="1305"/>
                    </a:lnTo>
                    <a:lnTo>
                      <a:pt x="1699" y="1302"/>
                    </a:lnTo>
                    <a:lnTo>
                      <a:pt x="1708" y="1292"/>
                    </a:lnTo>
                    <a:lnTo>
                      <a:pt x="1702" y="1279"/>
                    </a:lnTo>
                    <a:lnTo>
                      <a:pt x="1689" y="1274"/>
                    </a:lnTo>
                    <a:lnTo>
                      <a:pt x="1681" y="1267"/>
                    </a:lnTo>
                    <a:lnTo>
                      <a:pt x="1687" y="1253"/>
                    </a:lnTo>
                    <a:lnTo>
                      <a:pt x="1686" y="1240"/>
                    </a:lnTo>
                    <a:lnTo>
                      <a:pt x="1673" y="1240"/>
                    </a:lnTo>
                    <a:lnTo>
                      <a:pt x="1661" y="1253"/>
                    </a:lnTo>
                    <a:lnTo>
                      <a:pt x="1659" y="1235"/>
                    </a:lnTo>
                    <a:lnTo>
                      <a:pt x="1643" y="1245"/>
                    </a:lnTo>
                    <a:lnTo>
                      <a:pt x="1628" y="1250"/>
                    </a:lnTo>
                    <a:lnTo>
                      <a:pt x="1623" y="1241"/>
                    </a:lnTo>
                    <a:lnTo>
                      <a:pt x="1635" y="1226"/>
                    </a:lnTo>
                    <a:lnTo>
                      <a:pt x="1677" y="1234"/>
                    </a:lnTo>
                    <a:lnTo>
                      <a:pt x="1686" y="1218"/>
                    </a:lnTo>
                    <a:lnTo>
                      <a:pt x="1707" y="1212"/>
                    </a:lnTo>
                    <a:lnTo>
                      <a:pt x="1731" y="1218"/>
                    </a:lnTo>
                    <a:lnTo>
                      <a:pt x="1740" y="1212"/>
                    </a:lnTo>
                    <a:lnTo>
                      <a:pt x="1740" y="1192"/>
                    </a:lnTo>
                    <a:lnTo>
                      <a:pt x="1752" y="1217"/>
                    </a:lnTo>
                    <a:lnTo>
                      <a:pt x="1756" y="1226"/>
                    </a:lnTo>
                    <a:lnTo>
                      <a:pt x="1774" y="1216"/>
                    </a:lnTo>
                    <a:lnTo>
                      <a:pt x="1788" y="1200"/>
                    </a:lnTo>
                    <a:lnTo>
                      <a:pt x="1795" y="1210"/>
                    </a:lnTo>
                    <a:lnTo>
                      <a:pt x="1807" y="1214"/>
                    </a:lnTo>
                    <a:lnTo>
                      <a:pt x="1826" y="1206"/>
                    </a:lnTo>
                    <a:lnTo>
                      <a:pt x="1866" y="1199"/>
                    </a:lnTo>
                    <a:lnTo>
                      <a:pt x="1874" y="1208"/>
                    </a:lnTo>
                    <a:lnTo>
                      <a:pt x="1884" y="1219"/>
                    </a:lnTo>
                    <a:lnTo>
                      <a:pt x="1900" y="1222"/>
                    </a:lnTo>
                    <a:lnTo>
                      <a:pt x="1916" y="1224"/>
                    </a:lnTo>
                    <a:lnTo>
                      <a:pt x="1935" y="1217"/>
                    </a:lnTo>
                    <a:lnTo>
                      <a:pt x="1947" y="1205"/>
                    </a:lnTo>
                    <a:lnTo>
                      <a:pt x="1958" y="1201"/>
                    </a:lnTo>
                    <a:lnTo>
                      <a:pt x="1965" y="1206"/>
                    </a:lnTo>
                    <a:lnTo>
                      <a:pt x="1975" y="1217"/>
                    </a:lnTo>
                    <a:lnTo>
                      <a:pt x="1990" y="1230"/>
                    </a:lnTo>
                    <a:lnTo>
                      <a:pt x="2004" y="1234"/>
                    </a:lnTo>
                    <a:lnTo>
                      <a:pt x="2016" y="1236"/>
                    </a:lnTo>
                    <a:lnTo>
                      <a:pt x="2029" y="1249"/>
                    </a:lnTo>
                    <a:lnTo>
                      <a:pt x="2037" y="1264"/>
                    </a:lnTo>
                    <a:lnTo>
                      <a:pt x="2047" y="1274"/>
                    </a:lnTo>
                    <a:lnTo>
                      <a:pt x="2043" y="1295"/>
                    </a:lnTo>
                    <a:lnTo>
                      <a:pt x="2044" y="1312"/>
                    </a:lnTo>
                    <a:lnTo>
                      <a:pt x="2044" y="1324"/>
                    </a:lnTo>
                    <a:lnTo>
                      <a:pt x="2048" y="1333"/>
                    </a:lnTo>
                    <a:lnTo>
                      <a:pt x="2054" y="1335"/>
                    </a:lnTo>
                    <a:lnTo>
                      <a:pt x="2058" y="1317"/>
                    </a:lnTo>
                    <a:lnTo>
                      <a:pt x="2067" y="1327"/>
                    </a:lnTo>
                    <a:lnTo>
                      <a:pt x="2060" y="1341"/>
                    </a:lnTo>
                    <a:lnTo>
                      <a:pt x="2058" y="1353"/>
                    </a:lnTo>
                    <a:lnTo>
                      <a:pt x="2066" y="1359"/>
                    </a:lnTo>
                    <a:lnTo>
                      <a:pt x="2082" y="1375"/>
                    </a:lnTo>
                    <a:lnTo>
                      <a:pt x="2095" y="1378"/>
                    </a:lnTo>
                    <a:lnTo>
                      <a:pt x="2102" y="1398"/>
                    </a:lnTo>
                    <a:lnTo>
                      <a:pt x="2110" y="1402"/>
                    </a:lnTo>
                    <a:lnTo>
                      <a:pt x="2122" y="1424"/>
                    </a:lnTo>
                    <a:lnTo>
                      <a:pt x="2138" y="1432"/>
                    </a:lnTo>
                    <a:lnTo>
                      <a:pt x="2153" y="1438"/>
                    </a:lnTo>
                    <a:lnTo>
                      <a:pt x="2164" y="1456"/>
                    </a:lnTo>
                    <a:lnTo>
                      <a:pt x="2186" y="1452"/>
                    </a:lnTo>
                    <a:lnTo>
                      <a:pt x="2216" y="1445"/>
                    </a:lnTo>
                    <a:lnTo>
                      <a:pt x="2224" y="1412"/>
                    </a:lnTo>
                    <a:lnTo>
                      <a:pt x="2219" y="1391"/>
                    </a:lnTo>
                    <a:lnTo>
                      <a:pt x="2219" y="1354"/>
                    </a:lnTo>
                    <a:lnTo>
                      <a:pt x="2211" y="1343"/>
                    </a:lnTo>
                    <a:lnTo>
                      <a:pt x="2196" y="1325"/>
                    </a:lnTo>
                    <a:lnTo>
                      <a:pt x="2183" y="1305"/>
                    </a:lnTo>
                    <a:lnTo>
                      <a:pt x="2171" y="1280"/>
                    </a:lnTo>
                    <a:lnTo>
                      <a:pt x="2159" y="1251"/>
                    </a:lnTo>
                    <a:lnTo>
                      <a:pt x="2141" y="1224"/>
                    </a:lnTo>
                    <a:lnTo>
                      <a:pt x="2126" y="1205"/>
                    </a:lnTo>
                    <a:lnTo>
                      <a:pt x="2108" y="1178"/>
                    </a:lnTo>
                    <a:lnTo>
                      <a:pt x="2095" y="1155"/>
                    </a:lnTo>
                    <a:lnTo>
                      <a:pt x="2090" y="1135"/>
                    </a:lnTo>
                    <a:lnTo>
                      <a:pt x="2088" y="1120"/>
                    </a:lnTo>
                    <a:lnTo>
                      <a:pt x="2091" y="1107"/>
                    </a:lnTo>
                    <a:lnTo>
                      <a:pt x="2094" y="1102"/>
                    </a:lnTo>
                    <a:lnTo>
                      <a:pt x="2095" y="1070"/>
                    </a:lnTo>
                    <a:lnTo>
                      <a:pt x="2112" y="1041"/>
                    </a:lnTo>
                    <a:lnTo>
                      <a:pt x="2108" y="1023"/>
                    </a:lnTo>
                    <a:lnTo>
                      <a:pt x="2134" y="1016"/>
                    </a:lnTo>
                    <a:lnTo>
                      <a:pt x="2167" y="984"/>
                    </a:lnTo>
                    <a:lnTo>
                      <a:pt x="2184" y="932"/>
                    </a:lnTo>
                    <a:lnTo>
                      <a:pt x="2226" y="914"/>
                    </a:lnTo>
                    <a:lnTo>
                      <a:pt x="2251" y="866"/>
                    </a:lnTo>
                    <a:lnTo>
                      <a:pt x="2292" y="851"/>
                    </a:lnTo>
                    <a:lnTo>
                      <a:pt x="2312" y="814"/>
                    </a:lnTo>
                    <a:lnTo>
                      <a:pt x="2312" y="788"/>
                    </a:lnTo>
                    <a:lnTo>
                      <a:pt x="2313" y="765"/>
                    </a:lnTo>
                    <a:lnTo>
                      <a:pt x="2303" y="766"/>
                    </a:lnTo>
                    <a:lnTo>
                      <a:pt x="2303" y="804"/>
                    </a:lnTo>
                    <a:lnTo>
                      <a:pt x="2278" y="832"/>
                    </a:lnTo>
                    <a:lnTo>
                      <a:pt x="2244" y="839"/>
                    </a:lnTo>
                    <a:lnTo>
                      <a:pt x="2277" y="822"/>
                    </a:lnTo>
                    <a:lnTo>
                      <a:pt x="2258" y="814"/>
                    </a:lnTo>
                    <a:lnTo>
                      <a:pt x="2277" y="810"/>
                    </a:lnTo>
                    <a:lnTo>
                      <a:pt x="2289" y="811"/>
                    </a:lnTo>
                    <a:lnTo>
                      <a:pt x="2295" y="789"/>
                    </a:lnTo>
                    <a:lnTo>
                      <a:pt x="2293" y="769"/>
                    </a:lnTo>
                    <a:lnTo>
                      <a:pt x="2275" y="769"/>
                    </a:lnTo>
                    <a:lnTo>
                      <a:pt x="2248" y="779"/>
                    </a:lnTo>
                    <a:lnTo>
                      <a:pt x="2249" y="760"/>
                    </a:lnTo>
                    <a:lnTo>
                      <a:pt x="2264" y="768"/>
                    </a:lnTo>
                    <a:lnTo>
                      <a:pt x="2287" y="757"/>
                    </a:lnTo>
                    <a:lnTo>
                      <a:pt x="2290" y="747"/>
                    </a:lnTo>
                    <a:lnTo>
                      <a:pt x="2274" y="741"/>
                    </a:lnTo>
                    <a:lnTo>
                      <a:pt x="2276" y="718"/>
                    </a:lnTo>
                    <a:lnTo>
                      <a:pt x="2258" y="709"/>
                    </a:lnTo>
                    <a:lnTo>
                      <a:pt x="2252" y="717"/>
                    </a:lnTo>
                    <a:lnTo>
                      <a:pt x="2246" y="701"/>
                    </a:lnTo>
                    <a:lnTo>
                      <a:pt x="2248" y="683"/>
                    </a:lnTo>
                    <a:lnTo>
                      <a:pt x="2251" y="665"/>
                    </a:lnTo>
                    <a:lnTo>
                      <a:pt x="2219" y="652"/>
                    </a:lnTo>
                    <a:lnTo>
                      <a:pt x="2228" y="648"/>
                    </a:lnTo>
                    <a:lnTo>
                      <a:pt x="2220" y="609"/>
                    </a:lnTo>
                    <a:lnTo>
                      <a:pt x="2219" y="586"/>
                    </a:lnTo>
                    <a:lnTo>
                      <a:pt x="2225" y="580"/>
                    </a:lnTo>
                    <a:lnTo>
                      <a:pt x="2226" y="612"/>
                    </a:lnTo>
                    <a:lnTo>
                      <a:pt x="2238" y="634"/>
                    </a:lnTo>
                    <a:lnTo>
                      <a:pt x="2256" y="655"/>
                    </a:lnTo>
                    <a:lnTo>
                      <a:pt x="2256" y="695"/>
                    </a:lnTo>
                    <a:lnTo>
                      <a:pt x="2276" y="698"/>
                    </a:lnTo>
                    <a:lnTo>
                      <a:pt x="2292" y="658"/>
                    </a:lnTo>
                    <a:lnTo>
                      <a:pt x="2291" y="600"/>
                    </a:lnTo>
                    <a:lnTo>
                      <a:pt x="2270" y="584"/>
                    </a:lnTo>
                    <a:lnTo>
                      <a:pt x="2272" y="572"/>
                    </a:lnTo>
                    <a:lnTo>
                      <a:pt x="2297" y="585"/>
                    </a:lnTo>
                    <a:lnTo>
                      <a:pt x="2310" y="555"/>
                    </a:lnTo>
                    <a:lnTo>
                      <a:pt x="2311" y="530"/>
                    </a:lnTo>
                    <a:lnTo>
                      <a:pt x="2311" y="487"/>
                    </a:lnTo>
                    <a:lnTo>
                      <a:pt x="2299" y="473"/>
                    </a:lnTo>
                    <a:lnTo>
                      <a:pt x="2305" y="462"/>
                    </a:lnTo>
                    <a:lnTo>
                      <a:pt x="2314" y="474"/>
                    </a:lnTo>
                    <a:lnTo>
                      <a:pt x="2366" y="447"/>
                    </a:lnTo>
                    <a:lnTo>
                      <a:pt x="2402" y="418"/>
                    </a:lnTo>
                    <a:lnTo>
                      <a:pt x="2375" y="415"/>
                    </a:lnTo>
                    <a:lnTo>
                      <a:pt x="2336" y="438"/>
                    </a:lnTo>
                    <a:lnTo>
                      <a:pt x="2311" y="448"/>
                    </a:lnTo>
                    <a:lnTo>
                      <a:pt x="2329" y="426"/>
                    </a:lnTo>
                    <a:lnTo>
                      <a:pt x="2346" y="415"/>
                    </a:lnTo>
                    <a:lnTo>
                      <a:pt x="2356" y="419"/>
                    </a:lnTo>
                    <a:lnTo>
                      <a:pt x="2384" y="404"/>
                    </a:lnTo>
                    <a:lnTo>
                      <a:pt x="2390" y="390"/>
                    </a:lnTo>
                    <a:lnTo>
                      <a:pt x="2398" y="390"/>
                    </a:lnTo>
                    <a:lnTo>
                      <a:pt x="2409" y="383"/>
                    </a:lnTo>
                    <a:lnTo>
                      <a:pt x="2421" y="369"/>
                    </a:lnTo>
                    <a:lnTo>
                      <a:pt x="2442" y="377"/>
                    </a:lnTo>
                    <a:lnTo>
                      <a:pt x="2453" y="367"/>
                    </a:lnTo>
                    <a:lnTo>
                      <a:pt x="2462" y="353"/>
                    </a:lnTo>
                    <a:lnTo>
                      <a:pt x="2453" y="335"/>
                    </a:lnTo>
                    <a:lnTo>
                      <a:pt x="2440" y="324"/>
                    </a:lnTo>
                    <a:lnTo>
                      <a:pt x="2432" y="323"/>
                    </a:lnTo>
                    <a:lnTo>
                      <a:pt x="2422" y="328"/>
                    </a:lnTo>
                    <a:lnTo>
                      <a:pt x="2432" y="343"/>
                    </a:lnTo>
                    <a:lnTo>
                      <a:pt x="2437" y="352"/>
                    </a:lnTo>
                    <a:lnTo>
                      <a:pt x="2425" y="351"/>
                    </a:lnTo>
                    <a:lnTo>
                      <a:pt x="2412" y="334"/>
                    </a:lnTo>
                    <a:lnTo>
                      <a:pt x="2399" y="337"/>
                    </a:lnTo>
                    <a:lnTo>
                      <a:pt x="2402" y="324"/>
                    </a:lnTo>
                    <a:lnTo>
                      <a:pt x="2408" y="310"/>
                    </a:lnTo>
                    <a:lnTo>
                      <a:pt x="2397" y="308"/>
                    </a:lnTo>
                    <a:lnTo>
                      <a:pt x="2406" y="281"/>
                    </a:lnTo>
                    <a:lnTo>
                      <a:pt x="2403" y="265"/>
                    </a:lnTo>
                    <a:lnTo>
                      <a:pt x="2416" y="253"/>
                    </a:lnTo>
                    <a:lnTo>
                      <a:pt x="2409" y="236"/>
                    </a:lnTo>
                    <a:lnTo>
                      <a:pt x="2421" y="228"/>
                    </a:lnTo>
                    <a:lnTo>
                      <a:pt x="2435" y="218"/>
                    </a:lnTo>
                    <a:lnTo>
                      <a:pt x="2448" y="213"/>
                    </a:lnTo>
                    <a:lnTo>
                      <a:pt x="2453" y="186"/>
                    </a:lnTo>
                    <a:lnTo>
                      <a:pt x="2467" y="186"/>
                    </a:lnTo>
                    <a:lnTo>
                      <a:pt x="2486" y="173"/>
                    </a:lnTo>
                    <a:lnTo>
                      <a:pt x="2496" y="159"/>
                    </a:lnTo>
                    <a:lnTo>
                      <a:pt x="2512" y="146"/>
                    </a:lnTo>
                    <a:lnTo>
                      <a:pt x="2510" y="128"/>
                    </a:lnTo>
                    <a:lnTo>
                      <a:pt x="2488" y="119"/>
                    </a:lnTo>
                    <a:lnTo>
                      <a:pt x="2475" y="101"/>
                    </a:lnTo>
                    <a:lnTo>
                      <a:pt x="2451" y="101"/>
                    </a:lnTo>
                    <a:lnTo>
                      <a:pt x="2441" y="80"/>
                    </a:lnTo>
                    <a:lnTo>
                      <a:pt x="2438" y="57"/>
                    </a:lnTo>
                    <a:lnTo>
                      <a:pt x="2431" y="36"/>
                    </a:lnTo>
                    <a:lnTo>
                      <a:pt x="2421" y="9"/>
                    </a:lnTo>
                    <a:close/>
                  </a:path>
                </a:pathLst>
              </a:custGeom>
              <a:solidFill>
                <a:srgbClr val="00cc99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6" name=""/>
            <p:cNvGrpSpPr/>
            <p:nvPr/>
          </p:nvGrpSpPr>
          <p:grpSpPr>
            <a:xfrm>
              <a:off x="2633760" y="1133640"/>
              <a:ext cx="4506840" cy="3071160"/>
              <a:chOff x="2633760" y="1133640"/>
              <a:chExt cx="4506840" cy="3071160"/>
            </a:xfrm>
          </p:grpSpPr>
          <p:sp>
            <p:nvSpPr>
              <p:cNvPr id="697" name=""/>
              <p:cNvSpPr/>
              <p:nvPr/>
            </p:nvSpPr>
            <p:spPr>
              <a:xfrm>
                <a:off x="2633760" y="1133640"/>
                <a:ext cx="4506840" cy="3071160"/>
              </a:xfrm>
              <a:custGeom>
                <a:avLst/>
                <a:gdLst/>
                <a:ahLst/>
                <a:rect l="l" t="t" r="r" b="b"/>
                <a:pathLst>
                  <a:path w="8603" h="4364">
                    <a:moveTo>
                      <a:pt x="6422" y="4364"/>
                    </a:moveTo>
                    <a:lnTo>
                      <a:pt x="6609" y="4312"/>
                    </a:lnTo>
                    <a:lnTo>
                      <a:pt x="6838" y="4231"/>
                    </a:lnTo>
                    <a:lnTo>
                      <a:pt x="7080" y="4132"/>
                    </a:lnTo>
                    <a:lnTo>
                      <a:pt x="7291" y="4022"/>
                    </a:lnTo>
                    <a:lnTo>
                      <a:pt x="7482" y="3906"/>
                    </a:lnTo>
                    <a:lnTo>
                      <a:pt x="7664" y="3785"/>
                    </a:lnTo>
                    <a:lnTo>
                      <a:pt x="7834" y="3659"/>
                    </a:lnTo>
                    <a:lnTo>
                      <a:pt x="7986" y="3530"/>
                    </a:lnTo>
                    <a:lnTo>
                      <a:pt x="8119" y="3397"/>
                    </a:lnTo>
                    <a:lnTo>
                      <a:pt x="8237" y="3263"/>
                    </a:lnTo>
                    <a:lnTo>
                      <a:pt x="8335" y="3129"/>
                    </a:lnTo>
                    <a:lnTo>
                      <a:pt x="8415" y="2994"/>
                    </a:lnTo>
                    <a:lnTo>
                      <a:pt x="8476" y="2859"/>
                    </a:lnTo>
                    <a:lnTo>
                      <a:pt x="8519" y="2723"/>
                    </a:lnTo>
                    <a:lnTo>
                      <a:pt x="8555" y="2588"/>
                    </a:lnTo>
                    <a:lnTo>
                      <a:pt x="8581" y="2452"/>
                    </a:lnTo>
                    <a:lnTo>
                      <a:pt x="8595" y="2317"/>
                    </a:lnTo>
                    <a:lnTo>
                      <a:pt x="8603" y="2182"/>
                    </a:lnTo>
                    <a:lnTo>
                      <a:pt x="8595" y="2046"/>
                    </a:lnTo>
                    <a:lnTo>
                      <a:pt x="8581" y="1911"/>
                    </a:lnTo>
                    <a:lnTo>
                      <a:pt x="8555" y="1775"/>
                    </a:lnTo>
                    <a:lnTo>
                      <a:pt x="8519" y="1640"/>
                    </a:lnTo>
                    <a:lnTo>
                      <a:pt x="8476" y="1505"/>
                    </a:lnTo>
                    <a:lnTo>
                      <a:pt x="8415" y="1369"/>
                    </a:lnTo>
                    <a:lnTo>
                      <a:pt x="8335" y="1234"/>
                    </a:lnTo>
                    <a:lnTo>
                      <a:pt x="8237" y="1100"/>
                    </a:lnTo>
                    <a:lnTo>
                      <a:pt x="8119" y="966"/>
                    </a:lnTo>
                    <a:lnTo>
                      <a:pt x="7986" y="833"/>
                    </a:lnTo>
                    <a:lnTo>
                      <a:pt x="7834" y="704"/>
                    </a:lnTo>
                    <a:lnTo>
                      <a:pt x="7664" y="579"/>
                    </a:lnTo>
                    <a:lnTo>
                      <a:pt x="7482" y="458"/>
                    </a:lnTo>
                    <a:lnTo>
                      <a:pt x="7291" y="341"/>
                    </a:lnTo>
                    <a:lnTo>
                      <a:pt x="7080" y="231"/>
                    </a:lnTo>
                    <a:lnTo>
                      <a:pt x="6838" y="132"/>
                    </a:lnTo>
                    <a:lnTo>
                      <a:pt x="6609" y="51"/>
                    </a:lnTo>
                    <a:lnTo>
                      <a:pt x="6422" y="0"/>
                    </a:lnTo>
                    <a:lnTo>
                      <a:pt x="6359" y="0"/>
                    </a:lnTo>
                    <a:lnTo>
                      <a:pt x="6295" y="0"/>
                    </a:lnTo>
                    <a:lnTo>
                      <a:pt x="6232" y="0"/>
                    </a:lnTo>
                    <a:lnTo>
                      <a:pt x="6169" y="0"/>
                    </a:lnTo>
                    <a:lnTo>
                      <a:pt x="6105" y="0"/>
                    </a:lnTo>
                    <a:lnTo>
                      <a:pt x="6041" y="0"/>
                    </a:lnTo>
                    <a:lnTo>
                      <a:pt x="5977" y="0"/>
                    </a:lnTo>
                    <a:lnTo>
                      <a:pt x="5914" y="0"/>
                    </a:lnTo>
                    <a:lnTo>
                      <a:pt x="5850" y="0"/>
                    </a:lnTo>
                    <a:lnTo>
                      <a:pt x="5787" y="0"/>
                    </a:lnTo>
                    <a:lnTo>
                      <a:pt x="5724" y="0"/>
                    </a:lnTo>
                    <a:lnTo>
                      <a:pt x="5660" y="0"/>
                    </a:lnTo>
                    <a:lnTo>
                      <a:pt x="5595" y="0"/>
                    </a:lnTo>
                    <a:lnTo>
                      <a:pt x="5532" y="0"/>
                    </a:lnTo>
                    <a:lnTo>
                      <a:pt x="5469" y="0"/>
                    </a:lnTo>
                    <a:lnTo>
                      <a:pt x="5405" y="0"/>
                    </a:lnTo>
                    <a:lnTo>
                      <a:pt x="5342" y="0"/>
                    </a:lnTo>
                    <a:lnTo>
                      <a:pt x="5279" y="0"/>
                    </a:lnTo>
                    <a:lnTo>
                      <a:pt x="5214" y="0"/>
                    </a:lnTo>
                    <a:lnTo>
                      <a:pt x="5150" y="0"/>
                    </a:lnTo>
                    <a:lnTo>
                      <a:pt x="5087" y="0"/>
                    </a:lnTo>
                    <a:lnTo>
                      <a:pt x="5024" y="0"/>
                    </a:lnTo>
                    <a:lnTo>
                      <a:pt x="4960" y="0"/>
                    </a:lnTo>
                    <a:lnTo>
                      <a:pt x="4897" y="0"/>
                    </a:lnTo>
                    <a:lnTo>
                      <a:pt x="4834" y="0"/>
                    </a:lnTo>
                    <a:lnTo>
                      <a:pt x="4769" y="0"/>
                    </a:lnTo>
                    <a:lnTo>
                      <a:pt x="4705" y="0"/>
                    </a:lnTo>
                    <a:lnTo>
                      <a:pt x="4642" y="0"/>
                    </a:lnTo>
                    <a:lnTo>
                      <a:pt x="4579" y="0"/>
                    </a:lnTo>
                    <a:lnTo>
                      <a:pt x="4515" y="0"/>
                    </a:lnTo>
                    <a:lnTo>
                      <a:pt x="4452" y="0"/>
                    </a:lnTo>
                    <a:lnTo>
                      <a:pt x="4389" y="0"/>
                    </a:lnTo>
                    <a:lnTo>
                      <a:pt x="4324" y="0"/>
                    </a:lnTo>
                    <a:lnTo>
                      <a:pt x="4260" y="0"/>
                    </a:lnTo>
                    <a:lnTo>
                      <a:pt x="4197" y="0"/>
                    </a:lnTo>
                    <a:lnTo>
                      <a:pt x="4134" y="0"/>
                    </a:lnTo>
                    <a:lnTo>
                      <a:pt x="4070" y="0"/>
                    </a:lnTo>
                    <a:lnTo>
                      <a:pt x="4007" y="0"/>
                    </a:lnTo>
                    <a:lnTo>
                      <a:pt x="3942" y="0"/>
                    </a:lnTo>
                    <a:lnTo>
                      <a:pt x="3879" y="0"/>
                    </a:lnTo>
                    <a:lnTo>
                      <a:pt x="3815" y="0"/>
                    </a:lnTo>
                    <a:lnTo>
                      <a:pt x="3752" y="0"/>
                    </a:lnTo>
                    <a:lnTo>
                      <a:pt x="3689" y="0"/>
                    </a:lnTo>
                    <a:lnTo>
                      <a:pt x="3625" y="0"/>
                    </a:lnTo>
                    <a:lnTo>
                      <a:pt x="3562" y="0"/>
                    </a:lnTo>
                    <a:lnTo>
                      <a:pt x="3497" y="0"/>
                    </a:lnTo>
                    <a:lnTo>
                      <a:pt x="3434" y="0"/>
                    </a:lnTo>
                    <a:lnTo>
                      <a:pt x="3370" y="0"/>
                    </a:lnTo>
                    <a:lnTo>
                      <a:pt x="3307" y="0"/>
                    </a:lnTo>
                    <a:lnTo>
                      <a:pt x="3244" y="0"/>
                    </a:lnTo>
                    <a:lnTo>
                      <a:pt x="3180" y="0"/>
                    </a:lnTo>
                    <a:lnTo>
                      <a:pt x="3117" y="0"/>
                    </a:lnTo>
                    <a:lnTo>
                      <a:pt x="3052" y="0"/>
                    </a:lnTo>
                    <a:lnTo>
                      <a:pt x="2989" y="0"/>
                    </a:lnTo>
                    <a:lnTo>
                      <a:pt x="2925" y="0"/>
                    </a:lnTo>
                    <a:lnTo>
                      <a:pt x="2862" y="0"/>
                    </a:lnTo>
                    <a:lnTo>
                      <a:pt x="2799" y="0"/>
                    </a:lnTo>
                    <a:lnTo>
                      <a:pt x="2735" y="0"/>
                    </a:lnTo>
                    <a:lnTo>
                      <a:pt x="2670" y="0"/>
                    </a:lnTo>
                    <a:lnTo>
                      <a:pt x="2607" y="0"/>
                    </a:lnTo>
                    <a:lnTo>
                      <a:pt x="2544" y="0"/>
                    </a:lnTo>
                    <a:lnTo>
                      <a:pt x="2480" y="0"/>
                    </a:lnTo>
                    <a:lnTo>
                      <a:pt x="2417" y="0"/>
                    </a:lnTo>
                    <a:lnTo>
                      <a:pt x="2354" y="0"/>
                    </a:lnTo>
                    <a:lnTo>
                      <a:pt x="2290" y="0"/>
                    </a:lnTo>
                    <a:lnTo>
                      <a:pt x="2225" y="0"/>
                    </a:lnTo>
                    <a:lnTo>
                      <a:pt x="2162" y="0"/>
                    </a:lnTo>
                    <a:lnTo>
                      <a:pt x="2099" y="0"/>
                    </a:lnTo>
                    <a:lnTo>
                      <a:pt x="2035" y="0"/>
                    </a:lnTo>
                    <a:lnTo>
                      <a:pt x="1972" y="0"/>
                    </a:lnTo>
                    <a:lnTo>
                      <a:pt x="1909" y="0"/>
                    </a:lnTo>
                    <a:lnTo>
                      <a:pt x="1845" y="0"/>
                    </a:lnTo>
                    <a:lnTo>
                      <a:pt x="1687" y="51"/>
                    </a:lnTo>
                    <a:lnTo>
                      <a:pt x="1494" y="132"/>
                    </a:lnTo>
                    <a:lnTo>
                      <a:pt x="1289" y="231"/>
                    </a:lnTo>
                    <a:lnTo>
                      <a:pt x="1109" y="341"/>
                    </a:lnTo>
                    <a:lnTo>
                      <a:pt x="948" y="458"/>
                    </a:lnTo>
                    <a:lnTo>
                      <a:pt x="794" y="579"/>
                    </a:lnTo>
                    <a:lnTo>
                      <a:pt x="651" y="704"/>
                    </a:lnTo>
                    <a:lnTo>
                      <a:pt x="522" y="833"/>
                    </a:lnTo>
                    <a:lnTo>
                      <a:pt x="409" y="966"/>
                    </a:lnTo>
                    <a:lnTo>
                      <a:pt x="310" y="1100"/>
                    </a:lnTo>
                    <a:lnTo>
                      <a:pt x="226" y="1234"/>
                    </a:lnTo>
                    <a:lnTo>
                      <a:pt x="157" y="1369"/>
                    </a:lnTo>
                    <a:lnTo>
                      <a:pt x="107" y="1505"/>
                    </a:lnTo>
                    <a:lnTo>
                      <a:pt x="71" y="1640"/>
                    </a:lnTo>
                    <a:lnTo>
                      <a:pt x="39" y="1775"/>
                    </a:lnTo>
                    <a:lnTo>
                      <a:pt x="19" y="1911"/>
                    </a:lnTo>
                    <a:lnTo>
                      <a:pt x="6" y="2046"/>
                    </a:lnTo>
                    <a:lnTo>
                      <a:pt x="0" y="2182"/>
                    </a:lnTo>
                    <a:lnTo>
                      <a:pt x="6" y="2317"/>
                    </a:lnTo>
                    <a:lnTo>
                      <a:pt x="19" y="2452"/>
                    </a:lnTo>
                    <a:lnTo>
                      <a:pt x="39" y="2588"/>
                    </a:lnTo>
                    <a:lnTo>
                      <a:pt x="71" y="2723"/>
                    </a:lnTo>
                    <a:lnTo>
                      <a:pt x="107" y="2859"/>
                    </a:lnTo>
                    <a:lnTo>
                      <a:pt x="157" y="2994"/>
                    </a:lnTo>
                    <a:lnTo>
                      <a:pt x="226" y="3129"/>
                    </a:lnTo>
                    <a:lnTo>
                      <a:pt x="310" y="3263"/>
                    </a:lnTo>
                    <a:lnTo>
                      <a:pt x="409" y="3397"/>
                    </a:lnTo>
                    <a:lnTo>
                      <a:pt x="522" y="3530"/>
                    </a:lnTo>
                    <a:lnTo>
                      <a:pt x="651" y="3659"/>
                    </a:lnTo>
                    <a:lnTo>
                      <a:pt x="794" y="3785"/>
                    </a:lnTo>
                    <a:lnTo>
                      <a:pt x="948" y="3906"/>
                    </a:lnTo>
                    <a:lnTo>
                      <a:pt x="1109" y="4022"/>
                    </a:lnTo>
                    <a:lnTo>
                      <a:pt x="1289" y="4132"/>
                    </a:lnTo>
                    <a:lnTo>
                      <a:pt x="1494" y="4231"/>
                    </a:lnTo>
                    <a:lnTo>
                      <a:pt x="1687" y="4312"/>
                    </a:lnTo>
                    <a:lnTo>
                      <a:pt x="1845" y="4364"/>
                    </a:lnTo>
                    <a:lnTo>
                      <a:pt x="1909" y="4364"/>
                    </a:lnTo>
                    <a:lnTo>
                      <a:pt x="1972" y="4364"/>
                    </a:lnTo>
                    <a:lnTo>
                      <a:pt x="2035" y="4364"/>
                    </a:lnTo>
                    <a:lnTo>
                      <a:pt x="2099" y="4364"/>
                    </a:lnTo>
                    <a:lnTo>
                      <a:pt x="2162" y="4364"/>
                    </a:lnTo>
                    <a:lnTo>
                      <a:pt x="2225" y="4364"/>
                    </a:lnTo>
                    <a:lnTo>
                      <a:pt x="2290" y="4364"/>
                    </a:lnTo>
                    <a:lnTo>
                      <a:pt x="2354" y="4364"/>
                    </a:lnTo>
                    <a:lnTo>
                      <a:pt x="2417" y="4364"/>
                    </a:lnTo>
                    <a:lnTo>
                      <a:pt x="2480" y="4364"/>
                    </a:lnTo>
                    <a:lnTo>
                      <a:pt x="2544" y="4364"/>
                    </a:lnTo>
                    <a:lnTo>
                      <a:pt x="2607" y="4364"/>
                    </a:lnTo>
                    <a:lnTo>
                      <a:pt x="2670" y="4364"/>
                    </a:lnTo>
                    <a:lnTo>
                      <a:pt x="2735" y="4364"/>
                    </a:lnTo>
                    <a:lnTo>
                      <a:pt x="2799" y="4364"/>
                    </a:lnTo>
                    <a:lnTo>
                      <a:pt x="2862" y="4364"/>
                    </a:lnTo>
                    <a:lnTo>
                      <a:pt x="2925" y="4364"/>
                    </a:lnTo>
                    <a:lnTo>
                      <a:pt x="2989" y="4364"/>
                    </a:lnTo>
                    <a:lnTo>
                      <a:pt x="3052" y="4364"/>
                    </a:lnTo>
                    <a:lnTo>
                      <a:pt x="3117" y="4364"/>
                    </a:lnTo>
                    <a:lnTo>
                      <a:pt x="3180" y="4364"/>
                    </a:lnTo>
                    <a:lnTo>
                      <a:pt x="3244" y="4364"/>
                    </a:lnTo>
                    <a:lnTo>
                      <a:pt x="3307" y="4364"/>
                    </a:lnTo>
                    <a:lnTo>
                      <a:pt x="3370" y="4364"/>
                    </a:lnTo>
                    <a:lnTo>
                      <a:pt x="3434" y="4364"/>
                    </a:lnTo>
                    <a:lnTo>
                      <a:pt x="3497" y="4364"/>
                    </a:lnTo>
                    <a:lnTo>
                      <a:pt x="3562" y="4364"/>
                    </a:lnTo>
                    <a:lnTo>
                      <a:pt x="3625" y="4364"/>
                    </a:lnTo>
                    <a:lnTo>
                      <a:pt x="3689" y="4364"/>
                    </a:lnTo>
                    <a:lnTo>
                      <a:pt x="3752" y="4364"/>
                    </a:lnTo>
                    <a:lnTo>
                      <a:pt x="3815" y="4364"/>
                    </a:lnTo>
                    <a:lnTo>
                      <a:pt x="3879" y="4364"/>
                    </a:lnTo>
                    <a:lnTo>
                      <a:pt x="3942" y="4364"/>
                    </a:lnTo>
                    <a:lnTo>
                      <a:pt x="4007" y="4364"/>
                    </a:lnTo>
                    <a:lnTo>
                      <a:pt x="4070" y="4364"/>
                    </a:lnTo>
                    <a:lnTo>
                      <a:pt x="4134" y="4364"/>
                    </a:lnTo>
                    <a:lnTo>
                      <a:pt x="4197" y="4364"/>
                    </a:lnTo>
                    <a:lnTo>
                      <a:pt x="4260" y="4364"/>
                    </a:lnTo>
                    <a:lnTo>
                      <a:pt x="4324" y="4364"/>
                    </a:lnTo>
                    <a:lnTo>
                      <a:pt x="4389" y="4364"/>
                    </a:lnTo>
                    <a:lnTo>
                      <a:pt x="4452" y="4364"/>
                    </a:lnTo>
                    <a:lnTo>
                      <a:pt x="4515" y="4364"/>
                    </a:lnTo>
                    <a:lnTo>
                      <a:pt x="4579" y="4364"/>
                    </a:lnTo>
                    <a:lnTo>
                      <a:pt x="4642" y="4364"/>
                    </a:lnTo>
                    <a:lnTo>
                      <a:pt x="4705" y="4364"/>
                    </a:lnTo>
                    <a:lnTo>
                      <a:pt x="4769" y="4364"/>
                    </a:lnTo>
                    <a:lnTo>
                      <a:pt x="4834" y="4364"/>
                    </a:lnTo>
                    <a:lnTo>
                      <a:pt x="4897" y="4364"/>
                    </a:lnTo>
                    <a:lnTo>
                      <a:pt x="4960" y="4364"/>
                    </a:lnTo>
                    <a:lnTo>
                      <a:pt x="5024" y="4364"/>
                    </a:lnTo>
                    <a:lnTo>
                      <a:pt x="5087" y="4364"/>
                    </a:lnTo>
                    <a:lnTo>
                      <a:pt x="5150" y="4364"/>
                    </a:lnTo>
                    <a:lnTo>
                      <a:pt x="5214" y="4364"/>
                    </a:lnTo>
                    <a:lnTo>
                      <a:pt x="5279" y="4364"/>
                    </a:lnTo>
                    <a:lnTo>
                      <a:pt x="5342" y="4364"/>
                    </a:lnTo>
                    <a:lnTo>
                      <a:pt x="5405" y="4364"/>
                    </a:lnTo>
                    <a:lnTo>
                      <a:pt x="5469" y="4364"/>
                    </a:lnTo>
                    <a:lnTo>
                      <a:pt x="5532" y="4364"/>
                    </a:lnTo>
                    <a:lnTo>
                      <a:pt x="5595" y="4364"/>
                    </a:lnTo>
                    <a:lnTo>
                      <a:pt x="5660" y="4364"/>
                    </a:lnTo>
                    <a:lnTo>
                      <a:pt x="5724" y="4364"/>
                    </a:lnTo>
                    <a:lnTo>
                      <a:pt x="5787" y="4364"/>
                    </a:lnTo>
                    <a:lnTo>
                      <a:pt x="5850" y="4364"/>
                    </a:lnTo>
                    <a:lnTo>
                      <a:pt x="5914" y="4364"/>
                    </a:lnTo>
                    <a:lnTo>
                      <a:pt x="5977" y="4364"/>
                    </a:lnTo>
                    <a:lnTo>
                      <a:pt x="6041" y="4364"/>
                    </a:lnTo>
                    <a:lnTo>
                      <a:pt x="6105" y="4364"/>
                    </a:lnTo>
                    <a:lnTo>
                      <a:pt x="6169" y="4364"/>
                    </a:lnTo>
                    <a:lnTo>
                      <a:pt x="6232" y="4364"/>
                    </a:lnTo>
                    <a:lnTo>
                      <a:pt x="6295" y="4364"/>
                    </a:lnTo>
                    <a:lnTo>
                      <a:pt x="6359" y="4364"/>
                    </a:lnTo>
                    <a:lnTo>
                      <a:pt x="6422" y="436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6511680" y="2433960"/>
                <a:ext cx="150840" cy="314280"/>
              </a:xfrm>
              <a:custGeom>
                <a:avLst/>
                <a:gdLst/>
                <a:ahLst/>
                <a:rect l="l" t="t" r="r" b="b"/>
                <a:pathLst>
                  <a:path w="288" h="448">
                    <a:moveTo>
                      <a:pt x="93" y="31"/>
                    </a:moveTo>
                    <a:lnTo>
                      <a:pt x="87" y="42"/>
                    </a:lnTo>
                    <a:lnTo>
                      <a:pt x="88" y="36"/>
                    </a:lnTo>
                    <a:lnTo>
                      <a:pt x="75" y="38"/>
                    </a:lnTo>
                    <a:lnTo>
                      <a:pt x="62" y="59"/>
                    </a:lnTo>
                    <a:lnTo>
                      <a:pt x="62" y="80"/>
                    </a:lnTo>
                    <a:lnTo>
                      <a:pt x="39" y="104"/>
                    </a:lnTo>
                    <a:lnTo>
                      <a:pt x="38" y="120"/>
                    </a:lnTo>
                    <a:lnTo>
                      <a:pt x="32" y="106"/>
                    </a:lnTo>
                    <a:lnTo>
                      <a:pt x="26" y="100"/>
                    </a:lnTo>
                    <a:lnTo>
                      <a:pt x="29" y="120"/>
                    </a:lnTo>
                    <a:lnTo>
                      <a:pt x="21" y="127"/>
                    </a:lnTo>
                    <a:lnTo>
                      <a:pt x="16" y="139"/>
                    </a:lnTo>
                    <a:lnTo>
                      <a:pt x="25" y="150"/>
                    </a:lnTo>
                    <a:lnTo>
                      <a:pt x="34" y="175"/>
                    </a:lnTo>
                    <a:lnTo>
                      <a:pt x="29" y="186"/>
                    </a:lnTo>
                    <a:lnTo>
                      <a:pt x="34" y="206"/>
                    </a:lnTo>
                    <a:lnTo>
                      <a:pt x="36" y="227"/>
                    </a:lnTo>
                    <a:lnTo>
                      <a:pt x="39" y="229"/>
                    </a:lnTo>
                    <a:lnTo>
                      <a:pt x="26" y="260"/>
                    </a:lnTo>
                    <a:lnTo>
                      <a:pt x="12" y="267"/>
                    </a:lnTo>
                    <a:lnTo>
                      <a:pt x="8" y="281"/>
                    </a:lnTo>
                    <a:lnTo>
                      <a:pt x="0" y="286"/>
                    </a:lnTo>
                    <a:lnTo>
                      <a:pt x="3" y="296"/>
                    </a:lnTo>
                    <a:lnTo>
                      <a:pt x="23" y="310"/>
                    </a:lnTo>
                    <a:lnTo>
                      <a:pt x="39" y="323"/>
                    </a:lnTo>
                    <a:lnTo>
                      <a:pt x="62" y="323"/>
                    </a:lnTo>
                    <a:lnTo>
                      <a:pt x="88" y="336"/>
                    </a:lnTo>
                    <a:lnTo>
                      <a:pt x="91" y="335"/>
                    </a:lnTo>
                    <a:lnTo>
                      <a:pt x="103" y="349"/>
                    </a:lnTo>
                    <a:lnTo>
                      <a:pt x="116" y="362"/>
                    </a:lnTo>
                    <a:lnTo>
                      <a:pt x="133" y="382"/>
                    </a:lnTo>
                    <a:lnTo>
                      <a:pt x="137" y="395"/>
                    </a:lnTo>
                    <a:lnTo>
                      <a:pt x="166" y="397"/>
                    </a:lnTo>
                    <a:lnTo>
                      <a:pt x="185" y="397"/>
                    </a:lnTo>
                    <a:lnTo>
                      <a:pt x="209" y="405"/>
                    </a:lnTo>
                    <a:lnTo>
                      <a:pt x="198" y="438"/>
                    </a:lnTo>
                    <a:lnTo>
                      <a:pt x="212" y="448"/>
                    </a:lnTo>
                    <a:lnTo>
                      <a:pt x="219" y="411"/>
                    </a:lnTo>
                    <a:lnTo>
                      <a:pt x="228" y="372"/>
                    </a:lnTo>
                    <a:lnTo>
                      <a:pt x="219" y="345"/>
                    </a:lnTo>
                    <a:lnTo>
                      <a:pt x="214" y="319"/>
                    </a:lnTo>
                    <a:lnTo>
                      <a:pt x="229" y="317"/>
                    </a:lnTo>
                    <a:lnTo>
                      <a:pt x="234" y="312"/>
                    </a:lnTo>
                    <a:lnTo>
                      <a:pt x="221" y="306"/>
                    </a:lnTo>
                    <a:lnTo>
                      <a:pt x="216" y="287"/>
                    </a:lnTo>
                    <a:lnTo>
                      <a:pt x="237" y="287"/>
                    </a:lnTo>
                    <a:lnTo>
                      <a:pt x="258" y="287"/>
                    </a:lnTo>
                    <a:lnTo>
                      <a:pt x="255" y="284"/>
                    </a:lnTo>
                    <a:lnTo>
                      <a:pt x="261" y="286"/>
                    </a:lnTo>
                    <a:lnTo>
                      <a:pt x="274" y="277"/>
                    </a:lnTo>
                    <a:lnTo>
                      <a:pt x="284" y="300"/>
                    </a:lnTo>
                    <a:lnTo>
                      <a:pt x="288" y="301"/>
                    </a:lnTo>
                    <a:lnTo>
                      <a:pt x="281" y="278"/>
                    </a:lnTo>
                    <a:lnTo>
                      <a:pt x="267" y="258"/>
                    </a:lnTo>
                    <a:lnTo>
                      <a:pt x="274" y="245"/>
                    </a:lnTo>
                    <a:lnTo>
                      <a:pt x="261" y="212"/>
                    </a:lnTo>
                    <a:lnTo>
                      <a:pt x="265" y="189"/>
                    </a:lnTo>
                    <a:lnTo>
                      <a:pt x="268" y="166"/>
                    </a:lnTo>
                    <a:lnTo>
                      <a:pt x="247" y="168"/>
                    </a:lnTo>
                    <a:lnTo>
                      <a:pt x="226" y="169"/>
                    </a:lnTo>
                    <a:lnTo>
                      <a:pt x="202" y="144"/>
                    </a:lnTo>
                    <a:lnTo>
                      <a:pt x="183" y="144"/>
                    </a:lnTo>
                    <a:lnTo>
                      <a:pt x="166" y="143"/>
                    </a:lnTo>
                    <a:lnTo>
                      <a:pt x="147" y="134"/>
                    </a:lnTo>
                    <a:lnTo>
                      <a:pt x="146" y="117"/>
                    </a:lnTo>
                    <a:lnTo>
                      <a:pt x="130" y="87"/>
                    </a:lnTo>
                    <a:lnTo>
                      <a:pt x="120" y="85"/>
                    </a:lnTo>
                    <a:lnTo>
                      <a:pt x="127" y="64"/>
                    </a:lnTo>
                    <a:lnTo>
                      <a:pt x="136" y="41"/>
                    </a:lnTo>
                    <a:lnTo>
                      <a:pt x="144" y="18"/>
                    </a:lnTo>
                    <a:lnTo>
                      <a:pt x="160" y="13"/>
                    </a:lnTo>
                    <a:lnTo>
                      <a:pt x="159" y="0"/>
                    </a:lnTo>
                    <a:lnTo>
                      <a:pt x="144" y="2"/>
                    </a:lnTo>
                    <a:lnTo>
                      <a:pt x="126" y="15"/>
                    </a:lnTo>
                    <a:lnTo>
                      <a:pt x="106" y="29"/>
                    </a:lnTo>
                    <a:lnTo>
                      <a:pt x="93" y="31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6455520" y="2486880"/>
                <a:ext cx="40320" cy="43920"/>
              </a:xfrm>
              <a:custGeom>
                <a:avLst/>
                <a:gdLst/>
                <a:ahLst/>
                <a:rect l="l" t="t" r="r" b="b"/>
                <a:pathLst>
                  <a:path w="77" h="64">
                    <a:moveTo>
                      <a:pt x="3" y="42"/>
                    </a:moveTo>
                    <a:lnTo>
                      <a:pt x="3" y="21"/>
                    </a:lnTo>
                    <a:lnTo>
                      <a:pt x="0" y="3"/>
                    </a:lnTo>
                    <a:lnTo>
                      <a:pt x="8" y="0"/>
                    </a:lnTo>
                    <a:lnTo>
                      <a:pt x="16" y="12"/>
                    </a:lnTo>
                    <a:lnTo>
                      <a:pt x="28" y="15"/>
                    </a:lnTo>
                    <a:lnTo>
                      <a:pt x="35" y="22"/>
                    </a:lnTo>
                    <a:lnTo>
                      <a:pt x="67" y="10"/>
                    </a:lnTo>
                    <a:lnTo>
                      <a:pt x="71" y="13"/>
                    </a:lnTo>
                    <a:lnTo>
                      <a:pt x="77" y="21"/>
                    </a:lnTo>
                    <a:lnTo>
                      <a:pt x="61" y="36"/>
                    </a:lnTo>
                    <a:lnTo>
                      <a:pt x="74" y="55"/>
                    </a:lnTo>
                    <a:lnTo>
                      <a:pt x="54" y="64"/>
                    </a:lnTo>
                    <a:lnTo>
                      <a:pt x="48" y="46"/>
                    </a:lnTo>
                    <a:lnTo>
                      <a:pt x="45" y="52"/>
                    </a:lnTo>
                    <a:lnTo>
                      <a:pt x="32" y="41"/>
                    </a:lnTo>
                    <a:lnTo>
                      <a:pt x="9" y="33"/>
                    </a:lnTo>
                    <a:lnTo>
                      <a:pt x="3" y="42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496200" y="2488680"/>
                <a:ext cx="31320" cy="42120"/>
              </a:xfrm>
              <a:custGeom>
                <a:avLst/>
                <a:gdLst/>
                <a:ahLst/>
                <a:rect l="l" t="t" r="r" b="b"/>
                <a:pathLst>
                  <a:path w="60" h="61">
                    <a:moveTo>
                      <a:pt x="36" y="33"/>
                    </a:moveTo>
                    <a:lnTo>
                      <a:pt x="44" y="35"/>
                    </a:lnTo>
                    <a:lnTo>
                      <a:pt x="41" y="29"/>
                    </a:lnTo>
                    <a:lnTo>
                      <a:pt x="33" y="28"/>
                    </a:lnTo>
                    <a:lnTo>
                      <a:pt x="26" y="20"/>
                    </a:lnTo>
                    <a:lnTo>
                      <a:pt x="8" y="12"/>
                    </a:lnTo>
                    <a:lnTo>
                      <a:pt x="1" y="6"/>
                    </a:lnTo>
                    <a:lnTo>
                      <a:pt x="0" y="0"/>
                    </a:lnTo>
                    <a:lnTo>
                      <a:pt x="23" y="0"/>
                    </a:lnTo>
                    <a:lnTo>
                      <a:pt x="40" y="12"/>
                    </a:lnTo>
                    <a:lnTo>
                      <a:pt x="57" y="22"/>
                    </a:lnTo>
                    <a:lnTo>
                      <a:pt x="60" y="42"/>
                    </a:lnTo>
                    <a:lnTo>
                      <a:pt x="52" y="49"/>
                    </a:lnTo>
                    <a:lnTo>
                      <a:pt x="47" y="61"/>
                    </a:lnTo>
                    <a:lnTo>
                      <a:pt x="41" y="52"/>
                    </a:lnTo>
                    <a:lnTo>
                      <a:pt x="36" y="33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6575040" y="2436120"/>
                <a:ext cx="169560" cy="217080"/>
              </a:xfrm>
              <a:custGeom>
                <a:avLst/>
                <a:gdLst/>
                <a:ahLst/>
                <a:rect l="l" t="t" r="r" b="b"/>
                <a:pathLst>
                  <a:path w="324" h="309">
                    <a:moveTo>
                      <a:pt x="265" y="66"/>
                    </a:moveTo>
                    <a:lnTo>
                      <a:pt x="263" y="63"/>
                    </a:lnTo>
                    <a:lnTo>
                      <a:pt x="258" y="56"/>
                    </a:lnTo>
                    <a:lnTo>
                      <a:pt x="248" y="57"/>
                    </a:lnTo>
                    <a:lnTo>
                      <a:pt x="252" y="56"/>
                    </a:lnTo>
                    <a:lnTo>
                      <a:pt x="245" y="49"/>
                    </a:lnTo>
                    <a:lnTo>
                      <a:pt x="266" y="42"/>
                    </a:lnTo>
                    <a:lnTo>
                      <a:pt x="240" y="42"/>
                    </a:lnTo>
                    <a:lnTo>
                      <a:pt x="215" y="42"/>
                    </a:lnTo>
                    <a:lnTo>
                      <a:pt x="225" y="44"/>
                    </a:lnTo>
                    <a:lnTo>
                      <a:pt x="203" y="56"/>
                    </a:lnTo>
                    <a:lnTo>
                      <a:pt x="168" y="44"/>
                    </a:lnTo>
                    <a:lnTo>
                      <a:pt x="147" y="46"/>
                    </a:lnTo>
                    <a:lnTo>
                      <a:pt x="124" y="46"/>
                    </a:lnTo>
                    <a:lnTo>
                      <a:pt x="112" y="29"/>
                    </a:lnTo>
                    <a:lnTo>
                      <a:pt x="83" y="18"/>
                    </a:lnTo>
                    <a:lnTo>
                      <a:pt x="70" y="0"/>
                    </a:lnTo>
                    <a:lnTo>
                      <a:pt x="66" y="11"/>
                    </a:lnTo>
                    <a:lnTo>
                      <a:pt x="79" y="18"/>
                    </a:lnTo>
                    <a:lnTo>
                      <a:pt x="73" y="18"/>
                    </a:lnTo>
                    <a:lnTo>
                      <a:pt x="45" y="31"/>
                    </a:lnTo>
                    <a:lnTo>
                      <a:pt x="40" y="37"/>
                    </a:lnTo>
                    <a:lnTo>
                      <a:pt x="53" y="72"/>
                    </a:lnTo>
                    <a:lnTo>
                      <a:pt x="45" y="85"/>
                    </a:lnTo>
                    <a:lnTo>
                      <a:pt x="29" y="66"/>
                    </a:lnTo>
                    <a:lnTo>
                      <a:pt x="37" y="43"/>
                    </a:lnTo>
                    <a:lnTo>
                      <a:pt x="26" y="20"/>
                    </a:lnTo>
                    <a:lnTo>
                      <a:pt x="40" y="8"/>
                    </a:lnTo>
                    <a:lnTo>
                      <a:pt x="24" y="13"/>
                    </a:lnTo>
                    <a:lnTo>
                      <a:pt x="16" y="36"/>
                    </a:lnTo>
                    <a:lnTo>
                      <a:pt x="7" y="59"/>
                    </a:lnTo>
                    <a:lnTo>
                      <a:pt x="0" y="80"/>
                    </a:lnTo>
                    <a:lnTo>
                      <a:pt x="10" y="82"/>
                    </a:lnTo>
                    <a:lnTo>
                      <a:pt x="26" y="112"/>
                    </a:lnTo>
                    <a:lnTo>
                      <a:pt x="27" y="129"/>
                    </a:lnTo>
                    <a:lnTo>
                      <a:pt x="46" y="138"/>
                    </a:lnTo>
                    <a:lnTo>
                      <a:pt x="63" y="139"/>
                    </a:lnTo>
                    <a:lnTo>
                      <a:pt x="82" y="139"/>
                    </a:lnTo>
                    <a:lnTo>
                      <a:pt x="106" y="164"/>
                    </a:lnTo>
                    <a:lnTo>
                      <a:pt x="127" y="163"/>
                    </a:lnTo>
                    <a:lnTo>
                      <a:pt x="148" y="161"/>
                    </a:lnTo>
                    <a:lnTo>
                      <a:pt x="145" y="184"/>
                    </a:lnTo>
                    <a:lnTo>
                      <a:pt x="141" y="207"/>
                    </a:lnTo>
                    <a:lnTo>
                      <a:pt x="154" y="240"/>
                    </a:lnTo>
                    <a:lnTo>
                      <a:pt x="147" y="253"/>
                    </a:lnTo>
                    <a:lnTo>
                      <a:pt x="161" y="273"/>
                    </a:lnTo>
                    <a:lnTo>
                      <a:pt x="168" y="296"/>
                    </a:lnTo>
                    <a:lnTo>
                      <a:pt x="189" y="308"/>
                    </a:lnTo>
                    <a:lnTo>
                      <a:pt x="202" y="307"/>
                    </a:lnTo>
                    <a:lnTo>
                      <a:pt x="204" y="309"/>
                    </a:lnTo>
                    <a:lnTo>
                      <a:pt x="227" y="291"/>
                    </a:lnTo>
                    <a:lnTo>
                      <a:pt x="248" y="272"/>
                    </a:lnTo>
                    <a:lnTo>
                      <a:pt x="251" y="263"/>
                    </a:lnTo>
                    <a:lnTo>
                      <a:pt x="236" y="258"/>
                    </a:lnTo>
                    <a:lnTo>
                      <a:pt x="227" y="227"/>
                    </a:lnTo>
                    <a:lnTo>
                      <a:pt x="219" y="214"/>
                    </a:lnTo>
                    <a:lnTo>
                      <a:pt x="243" y="222"/>
                    </a:lnTo>
                    <a:lnTo>
                      <a:pt x="265" y="229"/>
                    </a:lnTo>
                    <a:lnTo>
                      <a:pt x="268" y="220"/>
                    </a:lnTo>
                    <a:lnTo>
                      <a:pt x="288" y="211"/>
                    </a:lnTo>
                    <a:lnTo>
                      <a:pt x="307" y="203"/>
                    </a:lnTo>
                    <a:lnTo>
                      <a:pt x="312" y="188"/>
                    </a:lnTo>
                    <a:lnTo>
                      <a:pt x="311" y="188"/>
                    </a:lnTo>
                    <a:lnTo>
                      <a:pt x="294" y="167"/>
                    </a:lnTo>
                    <a:lnTo>
                      <a:pt x="301" y="147"/>
                    </a:lnTo>
                    <a:lnTo>
                      <a:pt x="317" y="137"/>
                    </a:lnTo>
                    <a:lnTo>
                      <a:pt x="305" y="125"/>
                    </a:lnTo>
                    <a:lnTo>
                      <a:pt x="324" y="103"/>
                    </a:lnTo>
                    <a:lnTo>
                      <a:pt x="320" y="98"/>
                    </a:lnTo>
                    <a:lnTo>
                      <a:pt x="297" y="98"/>
                    </a:lnTo>
                    <a:lnTo>
                      <a:pt x="281" y="98"/>
                    </a:lnTo>
                    <a:lnTo>
                      <a:pt x="287" y="96"/>
                    </a:lnTo>
                    <a:lnTo>
                      <a:pt x="292" y="83"/>
                    </a:lnTo>
                    <a:lnTo>
                      <a:pt x="298" y="79"/>
                    </a:lnTo>
                    <a:lnTo>
                      <a:pt x="282" y="65"/>
                    </a:lnTo>
                    <a:lnTo>
                      <a:pt x="274" y="66"/>
                    </a:lnTo>
                    <a:lnTo>
                      <a:pt x="263" y="60"/>
                    </a:lnTo>
                    <a:lnTo>
                      <a:pt x="265" y="6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684480" y="2457000"/>
                <a:ext cx="6120" cy="1800"/>
              </a:xfrm>
              <a:custGeom>
                <a:avLst/>
                <a:gdLst/>
                <a:ahLst/>
                <a:rect l="l" t="t" r="r" b="b"/>
                <a:pathLst>
                  <a:path w="12" h="1">
                    <a:moveTo>
                      <a:pt x="12" y="1"/>
                    </a:moveTo>
                    <a:lnTo>
                      <a:pt x="0" y="0"/>
                    </a:lnTo>
                    <a:lnTo>
                      <a:pt x="12" y="1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714720" y="238536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2" y="8"/>
                    </a:moveTo>
                    <a:lnTo>
                      <a:pt x="0" y="0"/>
                    </a:lnTo>
                    <a:lnTo>
                      <a:pt x="12" y="10"/>
                    </a:lnTo>
                    <a:lnTo>
                      <a:pt x="12" y="8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6705360" y="2358000"/>
                <a:ext cx="1080" cy="396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1" y="0"/>
                    </a:moveTo>
                    <a:lnTo>
                      <a:pt x="3" y="3"/>
                    </a:lnTo>
                    <a:lnTo>
                      <a:pt x="0" y="8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6681960" y="2319840"/>
                <a:ext cx="1080" cy="21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700680" y="234324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4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698880" y="2330280"/>
                <a:ext cx="1440" cy="396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3"/>
                    </a:moveTo>
                    <a:lnTo>
                      <a:pt x="3" y="4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661080" y="23176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662880" y="231156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664320" y="23158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6659640" y="231768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6662880" y="2319840"/>
                <a:ext cx="1080" cy="2160"/>
              </a:xfrm>
              <a:custGeom>
                <a:avLst/>
                <a:gdLst/>
                <a:ahLst/>
                <a:rect l="l" t="t" r="r" b="b"/>
                <a:pathLst>
                  <a:path w="1" h="0">
                    <a:moveTo>
                      <a:pt x="1" y="0"/>
                    </a:move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662880" y="2319840"/>
                <a:ext cx="360" cy="360"/>
              </a:xfrm>
              <a:prstGeom prst="rect">
                <a:avLst/>
              </a:pr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710040" y="237276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7"/>
                    </a:moveTo>
                    <a:lnTo>
                      <a:pt x="5" y="10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6570360" y="2290680"/>
                <a:ext cx="45000" cy="42120"/>
              </a:xfrm>
              <a:custGeom>
                <a:avLst/>
                <a:gdLst/>
                <a:ahLst/>
                <a:rect l="l" t="t" r="r" b="b"/>
                <a:pathLst>
                  <a:path w="86" h="61">
                    <a:moveTo>
                      <a:pt x="0" y="5"/>
                    </a:moveTo>
                    <a:lnTo>
                      <a:pt x="3" y="23"/>
                    </a:lnTo>
                    <a:lnTo>
                      <a:pt x="1" y="33"/>
                    </a:lnTo>
                    <a:lnTo>
                      <a:pt x="8" y="49"/>
                    </a:lnTo>
                    <a:lnTo>
                      <a:pt x="20" y="61"/>
                    </a:lnTo>
                    <a:lnTo>
                      <a:pt x="26" y="46"/>
                    </a:lnTo>
                    <a:lnTo>
                      <a:pt x="36" y="41"/>
                    </a:lnTo>
                    <a:lnTo>
                      <a:pt x="47" y="41"/>
                    </a:lnTo>
                    <a:lnTo>
                      <a:pt x="79" y="42"/>
                    </a:lnTo>
                    <a:lnTo>
                      <a:pt x="86" y="32"/>
                    </a:lnTo>
                    <a:lnTo>
                      <a:pt x="56" y="21"/>
                    </a:lnTo>
                    <a:lnTo>
                      <a:pt x="59" y="15"/>
                    </a:lnTo>
                    <a:lnTo>
                      <a:pt x="46" y="9"/>
                    </a:lnTo>
                    <a:lnTo>
                      <a:pt x="1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540480" y="2290680"/>
                <a:ext cx="34560" cy="33480"/>
              </a:xfrm>
              <a:custGeom>
                <a:avLst/>
                <a:gdLst/>
                <a:ahLst/>
                <a:rect l="l" t="t" r="r" b="b"/>
                <a:pathLst>
                  <a:path w="64" h="49">
                    <a:moveTo>
                      <a:pt x="56" y="5"/>
                    </a:moveTo>
                    <a:lnTo>
                      <a:pt x="59" y="23"/>
                    </a:lnTo>
                    <a:lnTo>
                      <a:pt x="57" y="33"/>
                    </a:lnTo>
                    <a:lnTo>
                      <a:pt x="64" y="49"/>
                    </a:lnTo>
                    <a:lnTo>
                      <a:pt x="40" y="48"/>
                    </a:lnTo>
                    <a:lnTo>
                      <a:pt x="16" y="46"/>
                    </a:lnTo>
                    <a:lnTo>
                      <a:pt x="0" y="38"/>
                    </a:lnTo>
                    <a:lnTo>
                      <a:pt x="10" y="33"/>
                    </a:lnTo>
                    <a:lnTo>
                      <a:pt x="30" y="35"/>
                    </a:lnTo>
                    <a:lnTo>
                      <a:pt x="49" y="35"/>
                    </a:lnTo>
                    <a:lnTo>
                      <a:pt x="34" y="15"/>
                    </a:lnTo>
                    <a:lnTo>
                      <a:pt x="21" y="6"/>
                    </a:lnTo>
                    <a:lnTo>
                      <a:pt x="18" y="0"/>
                    </a:lnTo>
                    <a:lnTo>
                      <a:pt x="41" y="3"/>
                    </a:lnTo>
                    <a:lnTo>
                      <a:pt x="56" y="5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6631560" y="2315880"/>
                <a:ext cx="18360" cy="10440"/>
              </a:xfrm>
              <a:custGeom>
                <a:avLst/>
                <a:gdLst/>
                <a:ahLst/>
                <a:rect l="l" t="t" r="r" b="b"/>
                <a:pathLst>
                  <a:path w="38" h="15">
                    <a:moveTo>
                      <a:pt x="38" y="8"/>
                    </a:moveTo>
                    <a:lnTo>
                      <a:pt x="35" y="9"/>
                    </a:lnTo>
                    <a:lnTo>
                      <a:pt x="12" y="15"/>
                    </a:lnTo>
                    <a:lnTo>
                      <a:pt x="2" y="12"/>
                    </a:lnTo>
                    <a:lnTo>
                      <a:pt x="0" y="0"/>
                    </a:lnTo>
                    <a:lnTo>
                      <a:pt x="38" y="8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363280" y="3029040"/>
                <a:ext cx="1080" cy="21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0"/>
                    </a:moveTo>
                    <a:lnTo>
                      <a:pt x="0" y="3"/>
                    </a:lnTo>
                    <a:lnTo>
                      <a:pt x="4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5298840" y="3073680"/>
                <a:ext cx="1080" cy="396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5221800" y="2906640"/>
                <a:ext cx="108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5091480" y="294912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11" h="21">
                    <a:moveTo>
                      <a:pt x="11" y="20"/>
                    </a:moveTo>
                    <a:lnTo>
                      <a:pt x="9" y="8"/>
                    </a:lnTo>
                    <a:lnTo>
                      <a:pt x="6" y="8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11" y="2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5097960" y="2970360"/>
                <a:ext cx="7560" cy="1224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13" y="17"/>
                    </a:moveTo>
                    <a:lnTo>
                      <a:pt x="3" y="16"/>
                    </a:lnTo>
                    <a:lnTo>
                      <a:pt x="0" y="0"/>
                    </a:lnTo>
                    <a:lnTo>
                      <a:pt x="13" y="17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5108760" y="2973960"/>
                <a:ext cx="1080" cy="648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3" y="0"/>
                    </a:moveTo>
                    <a:lnTo>
                      <a:pt x="3" y="7"/>
                    </a:lnTo>
                    <a:lnTo>
                      <a:pt x="0" y="7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119560" y="3024720"/>
                <a:ext cx="1440" cy="396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1" y="3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570360" y="2568960"/>
                <a:ext cx="489960" cy="742680"/>
              </a:xfrm>
              <a:custGeom>
                <a:avLst/>
                <a:gdLst/>
                <a:ahLst/>
                <a:rect l="l" t="t" r="r" b="b"/>
                <a:pathLst>
                  <a:path w="934" h="1056">
                    <a:moveTo>
                      <a:pt x="720" y="207"/>
                    </a:moveTo>
                    <a:lnTo>
                      <a:pt x="715" y="210"/>
                    </a:lnTo>
                    <a:lnTo>
                      <a:pt x="705" y="228"/>
                    </a:lnTo>
                    <a:lnTo>
                      <a:pt x="712" y="207"/>
                    </a:lnTo>
                    <a:lnTo>
                      <a:pt x="710" y="202"/>
                    </a:lnTo>
                    <a:lnTo>
                      <a:pt x="706" y="205"/>
                    </a:lnTo>
                    <a:lnTo>
                      <a:pt x="709" y="192"/>
                    </a:lnTo>
                    <a:lnTo>
                      <a:pt x="700" y="184"/>
                    </a:lnTo>
                    <a:lnTo>
                      <a:pt x="692" y="184"/>
                    </a:lnTo>
                    <a:lnTo>
                      <a:pt x="690" y="181"/>
                    </a:lnTo>
                    <a:lnTo>
                      <a:pt x="681" y="176"/>
                    </a:lnTo>
                    <a:lnTo>
                      <a:pt x="671" y="171"/>
                    </a:lnTo>
                    <a:lnTo>
                      <a:pt x="661" y="167"/>
                    </a:lnTo>
                    <a:lnTo>
                      <a:pt x="654" y="166"/>
                    </a:lnTo>
                    <a:lnTo>
                      <a:pt x="643" y="158"/>
                    </a:lnTo>
                    <a:lnTo>
                      <a:pt x="641" y="161"/>
                    </a:lnTo>
                    <a:lnTo>
                      <a:pt x="625" y="166"/>
                    </a:lnTo>
                    <a:lnTo>
                      <a:pt x="617" y="181"/>
                    </a:lnTo>
                    <a:lnTo>
                      <a:pt x="615" y="184"/>
                    </a:lnTo>
                    <a:lnTo>
                      <a:pt x="607" y="189"/>
                    </a:lnTo>
                    <a:lnTo>
                      <a:pt x="588" y="213"/>
                    </a:lnTo>
                    <a:lnTo>
                      <a:pt x="591" y="193"/>
                    </a:lnTo>
                    <a:lnTo>
                      <a:pt x="584" y="197"/>
                    </a:lnTo>
                    <a:lnTo>
                      <a:pt x="576" y="194"/>
                    </a:lnTo>
                    <a:lnTo>
                      <a:pt x="568" y="194"/>
                    </a:lnTo>
                    <a:lnTo>
                      <a:pt x="561" y="169"/>
                    </a:lnTo>
                    <a:lnTo>
                      <a:pt x="545" y="177"/>
                    </a:lnTo>
                    <a:lnTo>
                      <a:pt x="527" y="186"/>
                    </a:lnTo>
                    <a:lnTo>
                      <a:pt x="519" y="183"/>
                    </a:lnTo>
                    <a:lnTo>
                      <a:pt x="537" y="173"/>
                    </a:lnTo>
                    <a:lnTo>
                      <a:pt x="553" y="144"/>
                    </a:lnTo>
                    <a:lnTo>
                      <a:pt x="568" y="125"/>
                    </a:lnTo>
                    <a:lnTo>
                      <a:pt x="582" y="108"/>
                    </a:lnTo>
                    <a:lnTo>
                      <a:pt x="575" y="94"/>
                    </a:lnTo>
                    <a:lnTo>
                      <a:pt x="563" y="84"/>
                    </a:lnTo>
                    <a:lnTo>
                      <a:pt x="556" y="60"/>
                    </a:lnTo>
                    <a:lnTo>
                      <a:pt x="550" y="37"/>
                    </a:lnTo>
                    <a:lnTo>
                      <a:pt x="550" y="40"/>
                    </a:lnTo>
                    <a:lnTo>
                      <a:pt x="540" y="26"/>
                    </a:lnTo>
                    <a:lnTo>
                      <a:pt x="542" y="32"/>
                    </a:lnTo>
                    <a:lnTo>
                      <a:pt x="539" y="32"/>
                    </a:lnTo>
                    <a:lnTo>
                      <a:pt x="537" y="33"/>
                    </a:lnTo>
                    <a:lnTo>
                      <a:pt x="523" y="58"/>
                    </a:lnTo>
                    <a:lnTo>
                      <a:pt x="509" y="84"/>
                    </a:lnTo>
                    <a:lnTo>
                      <a:pt x="486" y="82"/>
                    </a:lnTo>
                    <a:lnTo>
                      <a:pt x="470" y="79"/>
                    </a:lnTo>
                    <a:lnTo>
                      <a:pt x="455" y="73"/>
                    </a:lnTo>
                    <a:lnTo>
                      <a:pt x="434" y="78"/>
                    </a:lnTo>
                    <a:lnTo>
                      <a:pt x="437" y="92"/>
                    </a:lnTo>
                    <a:lnTo>
                      <a:pt x="425" y="89"/>
                    </a:lnTo>
                    <a:lnTo>
                      <a:pt x="401" y="94"/>
                    </a:lnTo>
                    <a:lnTo>
                      <a:pt x="378" y="105"/>
                    </a:lnTo>
                    <a:lnTo>
                      <a:pt x="363" y="107"/>
                    </a:lnTo>
                    <a:lnTo>
                      <a:pt x="347" y="86"/>
                    </a:lnTo>
                    <a:lnTo>
                      <a:pt x="342" y="55"/>
                    </a:lnTo>
                    <a:lnTo>
                      <a:pt x="347" y="30"/>
                    </a:lnTo>
                    <a:lnTo>
                      <a:pt x="336" y="16"/>
                    </a:lnTo>
                    <a:lnTo>
                      <a:pt x="333" y="0"/>
                    </a:lnTo>
                    <a:lnTo>
                      <a:pt x="320" y="1"/>
                    </a:lnTo>
                    <a:lnTo>
                      <a:pt x="321" y="1"/>
                    </a:lnTo>
                    <a:lnTo>
                      <a:pt x="316" y="16"/>
                    </a:lnTo>
                    <a:lnTo>
                      <a:pt x="297" y="24"/>
                    </a:lnTo>
                    <a:lnTo>
                      <a:pt x="277" y="33"/>
                    </a:lnTo>
                    <a:lnTo>
                      <a:pt x="274" y="42"/>
                    </a:lnTo>
                    <a:lnTo>
                      <a:pt x="252" y="35"/>
                    </a:lnTo>
                    <a:lnTo>
                      <a:pt x="228" y="27"/>
                    </a:lnTo>
                    <a:lnTo>
                      <a:pt x="236" y="40"/>
                    </a:lnTo>
                    <a:lnTo>
                      <a:pt x="245" y="71"/>
                    </a:lnTo>
                    <a:lnTo>
                      <a:pt x="260" y="76"/>
                    </a:lnTo>
                    <a:lnTo>
                      <a:pt x="257" y="85"/>
                    </a:lnTo>
                    <a:lnTo>
                      <a:pt x="236" y="104"/>
                    </a:lnTo>
                    <a:lnTo>
                      <a:pt x="213" y="122"/>
                    </a:lnTo>
                    <a:lnTo>
                      <a:pt x="211" y="120"/>
                    </a:lnTo>
                    <a:lnTo>
                      <a:pt x="198" y="121"/>
                    </a:lnTo>
                    <a:lnTo>
                      <a:pt x="177" y="109"/>
                    </a:lnTo>
                    <a:lnTo>
                      <a:pt x="173" y="108"/>
                    </a:lnTo>
                    <a:lnTo>
                      <a:pt x="163" y="85"/>
                    </a:lnTo>
                    <a:lnTo>
                      <a:pt x="150" y="94"/>
                    </a:lnTo>
                    <a:lnTo>
                      <a:pt x="144" y="92"/>
                    </a:lnTo>
                    <a:lnTo>
                      <a:pt x="147" y="95"/>
                    </a:lnTo>
                    <a:lnTo>
                      <a:pt x="126" y="95"/>
                    </a:lnTo>
                    <a:lnTo>
                      <a:pt x="105" y="95"/>
                    </a:lnTo>
                    <a:lnTo>
                      <a:pt x="110" y="114"/>
                    </a:lnTo>
                    <a:lnTo>
                      <a:pt x="123" y="120"/>
                    </a:lnTo>
                    <a:lnTo>
                      <a:pt x="118" y="125"/>
                    </a:lnTo>
                    <a:lnTo>
                      <a:pt x="103" y="127"/>
                    </a:lnTo>
                    <a:lnTo>
                      <a:pt x="108" y="153"/>
                    </a:lnTo>
                    <a:lnTo>
                      <a:pt x="117" y="180"/>
                    </a:lnTo>
                    <a:lnTo>
                      <a:pt x="108" y="219"/>
                    </a:lnTo>
                    <a:lnTo>
                      <a:pt x="101" y="256"/>
                    </a:lnTo>
                    <a:lnTo>
                      <a:pt x="92" y="255"/>
                    </a:lnTo>
                    <a:lnTo>
                      <a:pt x="72" y="261"/>
                    </a:lnTo>
                    <a:lnTo>
                      <a:pt x="52" y="269"/>
                    </a:lnTo>
                    <a:lnTo>
                      <a:pt x="33" y="278"/>
                    </a:lnTo>
                    <a:lnTo>
                      <a:pt x="25" y="300"/>
                    </a:lnTo>
                    <a:lnTo>
                      <a:pt x="16" y="320"/>
                    </a:lnTo>
                    <a:lnTo>
                      <a:pt x="0" y="341"/>
                    </a:lnTo>
                    <a:lnTo>
                      <a:pt x="9" y="363"/>
                    </a:lnTo>
                    <a:lnTo>
                      <a:pt x="18" y="383"/>
                    </a:lnTo>
                    <a:lnTo>
                      <a:pt x="15" y="395"/>
                    </a:lnTo>
                    <a:lnTo>
                      <a:pt x="23" y="398"/>
                    </a:lnTo>
                    <a:lnTo>
                      <a:pt x="36" y="408"/>
                    </a:lnTo>
                    <a:lnTo>
                      <a:pt x="55" y="412"/>
                    </a:lnTo>
                    <a:lnTo>
                      <a:pt x="72" y="399"/>
                    </a:lnTo>
                    <a:lnTo>
                      <a:pt x="71" y="419"/>
                    </a:lnTo>
                    <a:lnTo>
                      <a:pt x="68" y="441"/>
                    </a:lnTo>
                    <a:lnTo>
                      <a:pt x="94" y="438"/>
                    </a:lnTo>
                    <a:lnTo>
                      <a:pt x="124" y="439"/>
                    </a:lnTo>
                    <a:lnTo>
                      <a:pt x="137" y="431"/>
                    </a:lnTo>
                    <a:lnTo>
                      <a:pt x="159" y="419"/>
                    </a:lnTo>
                    <a:lnTo>
                      <a:pt x="180" y="406"/>
                    </a:lnTo>
                    <a:lnTo>
                      <a:pt x="199" y="409"/>
                    </a:lnTo>
                    <a:lnTo>
                      <a:pt x="198" y="431"/>
                    </a:lnTo>
                    <a:lnTo>
                      <a:pt x="195" y="454"/>
                    </a:lnTo>
                    <a:lnTo>
                      <a:pt x="209" y="474"/>
                    </a:lnTo>
                    <a:lnTo>
                      <a:pt x="225" y="480"/>
                    </a:lnTo>
                    <a:lnTo>
                      <a:pt x="244" y="490"/>
                    </a:lnTo>
                    <a:lnTo>
                      <a:pt x="267" y="508"/>
                    </a:lnTo>
                    <a:lnTo>
                      <a:pt x="293" y="513"/>
                    </a:lnTo>
                    <a:lnTo>
                      <a:pt x="297" y="523"/>
                    </a:lnTo>
                    <a:lnTo>
                      <a:pt x="294" y="550"/>
                    </a:lnTo>
                    <a:lnTo>
                      <a:pt x="290" y="550"/>
                    </a:lnTo>
                    <a:lnTo>
                      <a:pt x="296" y="560"/>
                    </a:lnTo>
                    <a:lnTo>
                      <a:pt x="293" y="582"/>
                    </a:lnTo>
                    <a:lnTo>
                      <a:pt x="313" y="585"/>
                    </a:lnTo>
                    <a:lnTo>
                      <a:pt x="334" y="586"/>
                    </a:lnTo>
                    <a:lnTo>
                      <a:pt x="330" y="611"/>
                    </a:lnTo>
                    <a:lnTo>
                      <a:pt x="340" y="625"/>
                    </a:lnTo>
                    <a:lnTo>
                      <a:pt x="342" y="635"/>
                    </a:lnTo>
                    <a:lnTo>
                      <a:pt x="330" y="655"/>
                    </a:lnTo>
                    <a:lnTo>
                      <a:pt x="320" y="675"/>
                    </a:lnTo>
                    <a:lnTo>
                      <a:pt x="320" y="684"/>
                    </a:lnTo>
                    <a:lnTo>
                      <a:pt x="316" y="687"/>
                    </a:lnTo>
                    <a:lnTo>
                      <a:pt x="316" y="700"/>
                    </a:lnTo>
                    <a:lnTo>
                      <a:pt x="306" y="737"/>
                    </a:lnTo>
                    <a:lnTo>
                      <a:pt x="337" y="743"/>
                    </a:lnTo>
                    <a:lnTo>
                      <a:pt x="355" y="745"/>
                    </a:lnTo>
                    <a:lnTo>
                      <a:pt x="353" y="768"/>
                    </a:lnTo>
                    <a:lnTo>
                      <a:pt x="352" y="789"/>
                    </a:lnTo>
                    <a:lnTo>
                      <a:pt x="365" y="789"/>
                    </a:lnTo>
                    <a:lnTo>
                      <a:pt x="376" y="791"/>
                    </a:lnTo>
                    <a:lnTo>
                      <a:pt x="368" y="812"/>
                    </a:lnTo>
                    <a:lnTo>
                      <a:pt x="357" y="834"/>
                    </a:lnTo>
                    <a:lnTo>
                      <a:pt x="372" y="835"/>
                    </a:lnTo>
                    <a:lnTo>
                      <a:pt x="365" y="870"/>
                    </a:lnTo>
                    <a:lnTo>
                      <a:pt x="343" y="883"/>
                    </a:lnTo>
                    <a:lnTo>
                      <a:pt x="321" y="896"/>
                    </a:lnTo>
                    <a:lnTo>
                      <a:pt x="301" y="912"/>
                    </a:lnTo>
                    <a:lnTo>
                      <a:pt x="280" y="928"/>
                    </a:lnTo>
                    <a:lnTo>
                      <a:pt x="260" y="943"/>
                    </a:lnTo>
                    <a:lnTo>
                      <a:pt x="238" y="959"/>
                    </a:lnTo>
                    <a:lnTo>
                      <a:pt x="238" y="961"/>
                    </a:lnTo>
                    <a:lnTo>
                      <a:pt x="252" y="956"/>
                    </a:lnTo>
                    <a:lnTo>
                      <a:pt x="265" y="979"/>
                    </a:lnTo>
                    <a:lnTo>
                      <a:pt x="272" y="979"/>
                    </a:lnTo>
                    <a:lnTo>
                      <a:pt x="281" y="988"/>
                    </a:lnTo>
                    <a:lnTo>
                      <a:pt x="293" y="1007"/>
                    </a:lnTo>
                    <a:lnTo>
                      <a:pt x="304" y="1024"/>
                    </a:lnTo>
                    <a:lnTo>
                      <a:pt x="294" y="1037"/>
                    </a:lnTo>
                    <a:lnTo>
                      <a:pt x="285" y="1056"/>
                    </a:lnTo>
                    <a:lnTo>
                      <a:pt x="306" y="1038"/>
                    </a:lnTo>
                    <a:lnTo>
                      <a:pt x="326" y="1021"/>
                    </a:lnTo>
                    <a:lnTo>
                      <a:pt x="339" y="1005"/>
                    </a:lnTo>
                    <a:lnTo>
                      <a:pt x="357" y="988"/>
                    </a:lnTo>
                    <a:lnTo>
                      <a:pt x="375" y="975"/>
                    </a:lnTo>
                    <a:lnTo>
                      <a:pt x="383" y="961"/>
                    </a:lnTo>
                    <a:lnTo>
                      <a:pt x="385" y="959"/>
                    </a:lnTo>
                    <a:lnTo>
                      <a:pt x="393" y="962"/>
                    </a:lnTo>
                    <a:lnTo>
                      <a:pt x="398" y="964"/>
                    </a:lnTo>
                    <a:lnTo>
                      <a:pt x="375" y="984"/>
                    </a:lnTo>
                    <a:lnTo>
                      <a:pt x="352" y="1002"/>
                    </a:lnTo>
                    <a:lnTo>
                      <a:pt x="342" y="1007"/>
                    </a:lnTo>
                    <a:lnTo>
                      <a:pt x="342" y="1010"/>
                    </a:lnTo>
                    <a:lnTo>
                      <a:pt x="372" y="988"/>
                    </a:lnTo>
                    <a:lnTo>
                      <a:pt x="402" y="966"/>
                    </a:lnTo>
                    <a:lnTo>
                      <a:pt x="425" y="945"/>
                    </a:lnTo>
                    <a:lnTo>
                      <a:pt x="447" y="922"/>
                    </a:lnTo>
                    <a:lnTo>
                      <a:pt x="460" y="910"/>
                    </a:lnTo>
                    <a:lnTo>
                      <a:pt x="461" y="910"/>
                    </a:lnTo>
                    <a:lnTo>
                      <a:pt x="473" y="889"/>
                    </a:lnTo>
                    <a:lnTo>
                      <a:pt x="484" y="866"/>
                    </a:lnTo>
                    <a:lnTo>
                      <a:pt x="486" y="851"/>
                    </a:lnTo>
                    <a:lnTo>
                      <a:pt x="490" y="843"/>
                    </a:lnTo>
                    <a:lnTo>
                      <a:pt x="499" y="832"/>
                    </a:lnTo>
                    <a:lnTo>
                      <a:pt x="497" y="831"/>
                    </a:lnTo>
                    <a:lnTo>
                      <a:pt x="507" y="828"/>
                    </a:lnTo>
                    <a:lnTo>
                      <a:pt x="536" y="809"/>
                    </a:lnTo>
                    <a:lnTo>
                      <a:pt x="565" y="789"/>
                    </a:lnTo>
                    <a:lnTo>
                      <a:pt x="586" y="784"/>
                    </a:lnTo>
                    <a:lnTo>
                      <a:pt x="608" y="771"/>
                    </a:lnTo>
                    <a:lnTo>
                      <a:pt x="620" y="765"/>
                    </a:lnTo>
                    <a:lnTo>
                      <a:pt x="634" y="765"/>
                    </a:lnTo>
                    <a:lnTo>
                      <a:pt x="627" y="766"/>
                    </a:lnTo>
                    <a:lnTo>
                      <a:pt x="644" y="760"/>
                    </a:lnTo>
                    <a:lnTo>
                      <a:pt x="648" y="759"/>
                    </a:lnTo>
                    <a:lnTo>
                      <a:pt x="676" y="759"/>
                    </a:lnTo>
                    <a:lnTo>
                      <a:pt x="687" y="745"/>
                    </a:lnTo>
                    <a:lnTo>
                      <a:pt x="705" y="736"/>
                    </a:lnTo>
                    <a:lnTo>
                      <a:pt x="717" y="706"/>
                    </a:lnTo>
                    <a:lnTo>
                      <a:pt x="736" y="686"/>
                    </a:lnTo>
                    <a:lnTo>
                      <a:pt x="755" y="664"/>
                    </a:lnTo>
                    <a:lnTo>
                      <a:pt x="769" y="628"/>
                    </a:lnTo>
                    <a:lnTo>
                      <a:pt x="779" y="614"/>
                    </a:lnTo>
                    <a:lnTo>
                      <a:pt x="789" y="588"/>
                    </a:lnTo>
                    <a:lnTo>
                      <a:pt x="798" y="562"/>
                    </a:lnTo>
                    <a:lnTo>
                      <a:pt x="802" y="542"/>
                    </a:lnTo>
                    <a:lnTo>
                      <a:pt x="807" y="523"/>
                    </a:lnTo>
                    <a:lnTo>
                      <a:pt x="805" y="514"/>
                    </a:lnTo>
                    <a:lnTo>
                      <a:pt x="814" y="488"/>
                    </a:lnTo>
                    <a:lnTo>
                      <a:pt x="823" y="487"/>
                    </a:lnTo>
                    <a:lnTo>
                      <a:pt x="823" y="494"/>
                    </a:lnTo>
                    <a:lnTo>
                      <a:pt x="840" y="472"/>
                    </a:lnTo>
                    <a:lnTo>
                      <a:pt x="856" y="452"/>
                    </a:lnTo>
                    <a:lnTo>
                      <a:pt x="857" y="449"/>
                    </a:lnTo>
                    <a:lnTo>
                      <a:pt x="863" y="442"/>
                    </a:lnTo>
                    <a:lnTo>
                      <a:pt x="882" y="423"/>
                    </a:lnTo>
                    <a:lnTo>
                      <a:pt x="899" y="403"/>
                    </a:lnTo>
                    <a:lnTo>
                      <a:pt x="923" y="373"/>
                    </a:lnTo>
                    <a:lnTo>
                      <a:pt x="934" y="336"/>
                    </a:lnTo>
                    <a:lnTo>
                      <a:pt x="926" y="308"/>
                    </a:lnTo>
                    <a:lnTo>
                      <a:pt x="919" y="281"/>
                    </a:lnTo>
                    <a:lnTo>
                      <a:pt x="900" y="277"/>
                    </a:lnTo>
                    <a:lnTo>
                      <a:pt x="882" y="274"/>
                    </a:lnTo>
                    <a:lnTo>
                      <a:pt x="857" y="251"/>
                    </a:lnTo>
                    <a:lnTo>
                      <a:pt x="833" y="228"/>
                    </a:lnTo>
                    <a:lnTo>
                      <a:pt x="800" y="219"/>
                    </a:lnTo>
                    <a:lnTo>
                      <a:pt x="778" y="219"/>
                    </a:lnTo>
                    <a:lnTo>
                      <a:pt x="756" y="215"/>
                    </a:lnTo>
                    <a:lnTo>
                      <a:pt x="736" y="210"/>
                    </a:lnTo>
                    <a:lnTo>
                      <a:pt x="717" y="216"/>
                    </a:lnTo>
                    <a:lnTo>
                      <a:pt x="720" y="207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6865560" y="2670120"/>
                <a:ext cx="29520" cy="33840"/>
              </a:xfrm>
              <a:custGeom>
                <a:avLst/>
                <a:gdLst/>
                <a:ahLst/>
                <a:rect l="l" t="t" r="r" b="b"/>
                <a:pathLst>
                  <a:path w="58" h="48">
                    <a:moveTo>
                      <a:pt x="28" y="43"/>
                    </a:moveTo>
                    <a:lnTo>
                      <a:pt x="23" y="46"/>
                    </a:lnTo>
                    <a:lnTo>
                      <a:pt x="12" y="40"/>
                    </a:lnTo>
                    <a:lnTo>
                      <a:pt x="6" y="48"/>
                    </a:lnTo>
                    <a:lnTo>
                      <a:pt x="0" y="27"/>
                    </a:lnTo>
                    <a:lnTo>
                      <a:pt x="3" y="27"/>
                    </a:lnTo>
                    <a:lnTo>
                      <a:pt x="2" y="16"/>
                    </a:lnTo>
                    <a:lnTo>
                      <a:pt x="10" y="0"/>
                    </a:lnTo>
                    <a:lnTo>
                      <a:pt x="34" y="4"/>
                    </a:lnTo>
                    <a:lnTo>
                      <a:pt x="58" y="9"/>
                    </a:lnTo>
                    <a:lnTo>
                      <a:pt x="45" y="30"/>
                    </a:lnTo>
                    <a:lnTo>
                      <a:pt x="44" y="33"/>
                    </a:lnTo>
                    <a:lnTo>
                      <a:pt x="41" y="39"/>
                    </a:lnTo>
                    <a:lnTo>
                      <a:pt x="36" y="39"/>
                    </a:lnTo>
                    <a:lnTo>
                      <a:pt x="28" y="43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6816960" y="2558520"/>
                <a:ext cx="34560" cy="69120"/>
              </a:xfrm>
              <a:custGeom>
                <a:avLst/>
                <a:gdLst/>
                <a:ahLst/>
                <a:rect l="l" t="t" r="r" b="b"/>
                <a:pathLst>
                  <a:path w="67" h="97">
                    <a:moveTo>
                      <a:pt x="52" y="26"/>
                    </a:moveTo>
                    <a:lnTo>
                      <a:pt x="27" y="6"/>
                    </a:lnTo>
                    <a:lnTo>
                      <a:pt x="10" y="0"/>
                    </a:lnTo>
                    <a:lnTo>
                      <a:pt x="6" y="10"/>
                    </a:lnTo>
                    <a:lnTo>
                      <a:pt x="1" y="33"/>
                    </a:lnTo>
                    <a:lnTo>
                      <a:pt x="11" y="66"/>
                    </a:lnTo>
                    <a:lnTo>
                      <a:pt x="0" y="92"/>
                    </a:lnTo>
                    <a:lnTo>
                      <a:pt x="16" y="95"/>
                    </a:lnTo>
                    <a:lnTo>
                      <a:pt x="39" y="97"/>
                    </a:lnTo>
                    <a:lnTo>
                      <a:pt x="53" y="71"/>
                    </a:lnTo>
                    <a:lnTo>
                      <a:pt x="67" y="46"/>
                    </a:lnTo>
                    <a:lnTo>
                      <a:pt x="60" y="30"/>
                    </a:lnTo>
                    <a:lnTo>
                      <a:pt x="60" y="36"/>
                    </a:lnTo>
                    <a:lnTo>
                      <a:pt x="52" y="2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6728760" y="2505600"/>
                <a:ext cx="64440" cy="137160"/>
              </a:xfrm>
              <a:custGeom>
                <a:avLst/>
                <a:gdLst/>
                <a:ahLst/>
                <a:rect l="l" t="t" r="r" b="b"/>
                <a:pathLst>
                  <a:path w="122" h="196">
                    <a:moveTo>
                      <a:pt x="98" y="141"/>
                    </a:moveTo>
                    <a:lnTo>
                      <a:pt x="85" y="125"/>
                    </a:lnTo>
                    <a:lnTo>
                      <a:pt x="85" y="102"/>
                    </a:lnTo>
                    <a:lnTo>
                      <a:pt x="96" y="96"/>
                    </a:lnTo>
                    <a:lnTo>
                      <a:pt x="99" y="83"/>
                    </a:lnTo>
                    <a:lnTo>
                      <a:pt x="95" y="62"/>
                    </a:lnTo>
                    <a:lnTo>
                      <a:pt x="67" y="46"/>
                    </a:lnTo>
                    <a:lnTo>
                      <a:pt x="63" y="56"/>
                    </a:lnTo>
                    <a:lnTo>
                      <a:pt x="62" y="29"/>
                    </a:lnTo>
                    <a:lnTo>
                      <a:pt x="47" y="17"/>
                    </a:lnTo>
                    <a:lnTo>
                      <a:pt x="31" y="5"/>
                    </a:lnTo>
                    <a:lnTo>
                      <a:pt x="37" y="8"/>
                    </a:lnTo>
                    <a:lnTo>
                      <a:pt x="26" y="0"/>
                    </a:lnTo>
                    <a:lnTo>
                      <a:pt x="30" y="5"/>
                    </a:lnTo>
                    <a:lnTo>
                      <a:pt x="11" y="27"/>
                    </a:lnTo>
                    <a:lnTo>
                      <a:pt x="23" y="39"/>
                    </a:lnTo>
                    <a:lnTo>
                      <a:pt x="7" y="49"/>
                    </a:lnTo>
                    <a:lnTo>
                      <a:pt x="0" y="69"/>
                    </a:lnTo>
                    <a:lnTo>
                      <a:pt x="17" y="90"/>
                    </a:lnTo>
                    <a:lnTo>
                      <a:pt x="30" y="89"/>
                    </a:lnTo>
                    <a:lnTo>
                      <a:pt x="33" y="105"/>
                    </a:lnTo>
                    <a:lnTo>
                      <a:pt x="44" y="119"/>
                    </a:lnTo>
                    <a:lnTo>
                      <a:pt x="39" y="144"/>
                    </a:lnTo>
                    <a:lnTo>
                      <a:pt x="44" y="175"/>
                    </a:lnTo>
                    <a:lnTo>
                      <a:pt x="60" y="196"/>
                    </a:lnTo>
                    <a:lnTo>
                      <a:pt x="75" y="194"/>
                    </a:lnTo>
                    <a:lnTo>
                      <a:pt x="98" y="183"/>
                    </a:lnTo>
                    <a:lnTo>
                      <a:pt x="122" y="178"/>
                    </a:lnTo>
                    <a:lnTo>
                      <a:pt x="111" y="160"/>
                    </a:lnTo>
                    <a:lnTo>
                      <a:pt x="98" y="141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6674040" y="3035520"/>
                <a:ext cx="93960" cy="156240"/>
              </a:xfrm>
              <a:custGeom>
                <a:avLst/>
                <a:gdLst/>
                <a:ahLst/>
                <a:rect l="l" t="t" r="r" b="b"/>
                <a:pathLst>
                  <a:path w="180" h="221">
                    <a:moveTo>
                      <a:pt x="32" y="21"/>
                    </a:moveTo>
                    <a:lnTo>
                      <a:pt x="16" y="49"/>
                    </a:lnTo>
                    <a:lnTo>
                      <a:pt x="0" y="78"/>
                    </a:lnTo>
                    <a:lnTo>
                      <a:pt x="15" y="101"/>
                    </a:lnTo>
                    <a:lnTo>
                      <a:pt x="30" y="123"/>
                    </a:lnTo>
                    <a:lnTo>
                      <a:pt x="46" y="131"/>
                    </a:lnTo>
                    <a:lnTo>
                      <a:pt x="62" y="140"/>
                    </a:lnTo>
                    <a:lnTo>
                      <a:pt x="79" y="153"/>
                    </a:lnTo>
                    <a:lnTo>
                      <a:pt x="94" y="165"/>
                    </a:lnTo>
                    <a:lnTo>
                      <a:pt x="72" y="191"/>
                    </a:lnTo>
                    <a:lnTo>
                      <a:pt x="51" y="216"/>
                    </a:lnTo>
                    <a:lnTo>
                      <a:pt x="76" y="218"/>
                    </a:lnTo>
                    <a:lnTo>
                      <a:pt x="102" y="221"/>
                    </a:lnTo>
                    <a:lnTo>
                      <a:pt x="121" y="215"/>
                    </a:lnTo>
                    <a:lnTo>
                      <a:pt x="154" y="186"/>
                    </a:lnTo>
                    <a:lnTo>
                      <a:pt x="161" y="169"/>
                    </a:lnTo>
                    <a:lnTo>
                      <a:pt x="172" y="147"/>
                    </a:lnTo>
                    <a:lnTo>
                      <a:pt x="180" y="126"/>
                    </a:lnTo>
                    <a:lnTo>
                      <a:pt x="169" y="124"/>
                    </a:lnTo>
                    <a:lnTo>
                      <a:pt x="156" y="124"/>
                    </a:lnTo>
                    <a:lnTo>
                      <a:pt x="157" y="103"/>
                    </a:lnTo>
                    <a:lnTo>
                      <a:pt x="159" y="80"/>
                    </a:lnTo>
                    <a:lnTo>
                      <a:pt x="141" y="78"/>
                    </a:lnTo>
                    <a:lnTo>
                      <a:pt x="110" y="72"/>
                    </a:lnTo>
                    <a:lnTo>
                      <a:pt x="120" y="35"/>
                    </a:lnTo>
                    <a:lnTo>
                      <a:pt x="120" y="22"/>
                    </a:lnTo>
                    <a:lnTo>
                      <a:pt x="121" y="18"/>
                    </a:lnTo>
                    <a:lnTo>
                      <a:pt x="102" y="0"/>
                    </a:lnTo>
                    <a:lnTo>
                      <a:pt x="71" y="5"/>
                    </a:lnTo>
                    <a:lnTo>
                      <a:pt x="39" y="9"/>
                    </a:lnTo>
                    <a:lnTo>
                      <a:pt x="32" y="21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6482160" y="2668320"/>
                <a:ext cx="145800" cy="348480"/>
              </a:xfrm>
              <a:custGeom>
                <a:avLst/>
                <a:gdLst/>
                <a:ahLst/>
                <a:rect l="l" t="t" r="r" b="b"/>
                <a:pathLst>
                  <a:path w="280" h="495">
                    <a:moveTo>
                      <a:pt x="267" y="377"/>
                    </a:moveTo>
                    <a:lnTo>
                      <a:pt x="260" y="391"/>
                    </a:lnTo>
                    <a:lnTo>
                      <a:pt x="252" y="414"/>
                    </a:lnTo>
                    <a:lnTo>
                      <a:pt x="249" y="436"/>
                    </a:lnTo>
                    <a:lnTo>
                      <a:pt x="257" y="439"/>
                    </a:lnTo>
                    <a:lnTo>
                      <a:pt x="238" y="462"/>
                    </a:lnTo>
                    <a:lnTo>
                      <a:pt x="235" y="472"/>
                    </a:lnTo>
                    <a:lnTo>
                      <a:pt x="225" y="484"/>
                    </a:lnTo>
                    <a:lnTo>
                      <a:pt x="213" y="495"/>
                    </a:lnTo>
                    <a:lnTo>
                      <a:pt x="209" y="495"/>
                    </a:lnTo>
                    <a:lnTo>
                      <a:pt x="198" y="484"/>
                    </a:lnTo>
                    <a:lnTo>
                      <a:pt x="190" y="469"/>
                    </a:lnTo>
                    <a:lnTo>
                      <a:pt x="175" y="458"/>
                    </a:lnTo>
                    <a:lnTo>
                      <a:pt x="157" y="446"/>
                    </a:lnTo>
                    <a:lnTo>
                      <a:pt x="140" y="435"/>
                    </a:lnTo>
                    <a:lnTo>
                      <a:pt x="124" y="423"/>
                    </a:lnTo>
                    <a:lnTo>
                      <a:pt x="108" y="403"/>
                    </a:lnTo>
                    <a:lnTo>
                      <a:pt x="93" y="381"/>
                    </a:lnTo>
                    <a:lnTo>
                      <a:pt x="95" y="368"/>
                    </a:lnTo>
                    <a:lnTo>
                      <a:pt x="87" y="338"/>
                    </a:lnTo>
                    <a:lnTo>
                      <a:pt x="77" y="309"/>
                    </a:lnTo>
                    <a:lnTo>
                      <a:pt x="69" y="291"/>
                    </a:lnTo>
                    <a:lnTo>
                      <a:pt x="62" y="272"/>
                    </a:lnTo>
                    <a:lnTo>
                      <a:pt x="55" y="252"/>
                    </a:lnTo>
                    <a:lnTo>
                      <a:pt x="48" y="231"/>
                    </a:lnTo>
                    <a:lnTo>
                      <a:pt x="41" y="211"/>
                    </a:lnTo>
                    <a:lnTo>
                      <a:pt x="32" y="191"/>
                    </a:lnTo>
                    <a:lnTo>
                      <a:pt x="18" y="178"/>
                    </a:lnTo>
                    <a:lnTo>
                      <a:pt x="2" y="165"/>
                    </a:lnTo>
                    <a:lnTo>
                      <a:pt x="5" y="158"/>
                    </a:lnTo>
                    <a:lnTo>
                      <a:pt x="0" y="122"/>
                    </a:lnTo>
                    <a:lnTo>
                      <a:pt x="12" y="106"/>
                    </a:lnTo>
                    <a:lnTo>
                      <a:pt x="23" y="90"/>
                    </a:lnTo>
                    <a:lnTo>
                      <a:pt x="25" y="106"/>
                    </a:lnTo>
                    <a:lnTo>
                      <a:pt x="19" y="118"/>
                    </a:lnTo>
                    <a:lnTo>
                      <a:pt x="28" y="115"/>
                    </a:lnTo>
                    <a:lnTo>
                      <a:pt x="52" y="135"/>
                    </a:lnTo>
                    <a:lnTo>
                      <a:pt x="64" y="112"/>
                    </a:lnTo>
                    <a:lnTo>
                      <a:pt x="75" y="90"/>
                    </a:lnTo>
                    <a:lnTo>
                      <a:pt x="101" y="73"/>
                    </a:lnTo>
                    <a:lnTo>
                      <a:pt x="127" y="57"/>
                    </a:lnTo>
                    <a:lnTo>
                      <a:pt x="144" y="26"/>
                    </a:lnTo>
                    <a:lnTo>
                      <a:pt x="149" y="26"/>
                    </a:lnTo>
                    <a:lnTo>
                      <a:pt x="141" y="4"/>
                    </a:lnTo>
                    <a:lnTo>
                      <a:pt x="147" y="1"/>
                    </a:lnTo>
                    <a:lnTo>
                      <a:pt x="150" y="0"/>
                    </a:lnTo>
                    <a:lnTo>
                      <a:pt x="162" y="14"/>
                    </a:lnTo>
                    <a:lnTo>
                      <a:pt x="175" y="27"/>
                    </a:lnTo>
                    <a:lnTo>
                      <a:pt x="192" y="47"/>
                    </a:lnTo>
                    <a:lnTo>
                      <a:pt x="196" y="60"/>
                    </a:lnTo>
                    <a:lnTo>
                      <a:pt x="225" y="62"/>
                    </a:lnTo>
                    <a:lnTo>
                      <a:pt x="244" y="62"/>
                    </a:lnTo>
                    <a:lnTo>
                      <a:pt x="268" y="70"/>
                    </a:lnTo>
                    <a:lnTo>
                      <a:pt x="257" y="103"/>
                    </a:lnTo>
                    <a:lnTo>
                      <a:pt x="271" y="113"/>
                    </a:lnTo>
                    <a:lnTo>
                      <a:pt x="262" y="112"/>
                    </a:lnTo>
                    <a:lnTo>
                      <a:pt x="242" y="118"/>
                    </a:lnTo>
                    <a:lnTo>
                      <a:pt x="222" y="126"/>
                    </a:lnTo>
                    <a:lnTo>
                      <a:pt x="203" y="135"/>
                    </a:lnTo>
                    <a:lnTo>
                      <a:pt x="195" y="157"/>
                    </a:lnTo>
                    <a:lnTo>
                      <a:pt x="186" y="177"/>
                    </a:lnTo>
                    <a:lnTo>
                      <a:pt x="170" y="198"/>
                    </a:lnTo>
                    <a:lnTo>
                      <a:pt x="179" y="220"/>
                    </a:lnTo>
                    <a:lnTo>
                      <a:pt x="188" y="240"/>
                    </a:lnTo>
                    <a:lnTo>
                      <a:pt x="185" y="252"/>
                    </a:lnTo>
                    <a:lnTo>
                      <a:pt x="193" y="255"/>
                    </a:lnTo>
                    <a:lnTo>
                      <a:pt x="206" y="265"/>
                    </a:lnTo>
                    <a:lnTo>
                      <a:pt x="225" y="269"/>
                    </a:lnTo>
                    <a:lnTo>
                      <a:pt x="242" y="256"/>
                    </a:lnTo>
                    <a:lnTo>
                      <a:pt x="241" y="276"/>
                    </a:lnTo>
                    <a:lnTo>
                      <a:pt x="238" y="298"/>
                    </a:lnTo>
                    <a:lnTo>
                      <a:pt x="264" y="295"/>
                    </a:lnTo>
                    <a:lnTo>
                      <a:pt x="271" y="316"/>
                    </a:lnTo>
                    <a:lnTo>
                      <a:pt x="280" y="337"/>
                    </a:lnTo>
                    <a:lnTo>
                      <a:pt x="274" y="344"/>
                    </a:lnTo>
                    <a:lnTo>
                      <a:pt x="267" y="377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6774480" y="2556360"/>
                <a:ext cx="48600" cy="75960"/>
              </a:xfrm>
              <a:custGeom>
                <a:avLst/>
                <a:gdLst/>
                <a:ahLst/>
                <a:rect l="l" t="t" r="r" b="b"/>
                <a:pathLst>
                  <a:path w="93" h="109">
                    <a:moveTo>
                      <a:pt x="13" y="69"/>
                    </a:moveTo>
                    <a:lnTo>
                      <a:pt x="0" y="53"/>
                    </a:lnTo>
                    <a:lnTo>
                      <a:pt x="0" y="30"/>
                    </a:lnTo>
                    <a:lnTo>
                      <a:pt x="11" y="24"/>
                    </a:lnTo>
                    <a:lnTo>
                      <a:pt x="14" y="11"/>
                    </a:lnTo>
                    <a:lnTo>
                      <a:pt x="17" y="0"/>
                    </a:lnTo>
                    <a:lnTo>
                      <a:pt x="46" y="3"/>
                    </a:lnTo>
                    <a:lnTo>
                      <a:pt x="66" y="1"/>
                    </a:lnTo>
                    <a:lnTo>
                      <a:pt x="66" y="0"/>
                    </a:lnTo>
                    <a:lnTo>
                      <a:pt x="88" y="1"/>
                    </a:lnTo>
                    <a:lnTo>
                      <a:pt x="88" y="14"/>
                    </a:lnTo>
                    <a:lnTo>
                      <a:pt x="83" y="37"/>
                    </a:lnTo>
                    <a:lnTo>
                      <a:pt x="93" y="70"/>
                    </a:lnTo>
                    <a:lnTo>
                      <a:pt x="82" y="96"/>
                    </a:lnTo>
                    <a:lnTo>
                      <a:pt x="67" y="90"/>
                    </a:lnTo>
                    <a:lnTo>
                      <a:pt x="46" y="95"/>
                    </a:lnTo>
                    <a:lnTo>
                      <a:pt x="49" y="109"/>
                    </a:lnTo>
                    <a:lnTo>
                      <a:pt x="37" y="106"/>
                    </a:lnTo>
                    <a:lnTo>
                      <a:pt x="26" y="88"/>
                    </a:lnTo>
                    <a:lnTo>
                      <a:pt x="13" y="69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4307400" y="2642760"/>
                <a:ext cx="4320" cy="21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7" y="0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4373280" y="2585880"/>
                <a:ext cx="125640" cy="158400"/>
              </a:xfrm>
              <a:custGeom>
                <a:avLst/>
                <a:gdLst/>
                <a:ahLst/>
                <a:rect l="l" t="t" r="r" b="b"/>
                <a:pathLst>
                  <a:path w="239" h="227">
                    <a:moveTo>
                      <a:pt x="239" y="94"/>
                    </a:moveTo>
                    <a:lnTo>
                      <a:pt x="217" y="93"/>
                    </a:lnTo>
                    <a:lnTo>
                      <a:pt x="216" y="93"/>
                    </a:lnTo>
                    <a:lnTo>
                      <a:pt x="205" y="127"/>
                    </a:lnTo>
                    <a:lnTo>
                      <a:pt x="207" y="130"/>
                    </a:lnTo>
                    <a:lnTo>
                      <a:pt x="203" y="143"/>
                    </a:lnTo>
                    <a:lnTo>
                      <a:pt x="187" y="150"/>
                    </a:lnTo>
                    <a:lnTo>
                      <a:pt x="177" y="168"/>
                    </a:lnTo>
                    <a:lnTo>
                      <a:pt x="179" y="179"/>
                    </a:lnTo>
                    <a:lnTo>
                      <a:pt x="183" y="179"/>
                    </a:lnTo>
                    <a:lnTo>
                      <a:pt x="177" y="186"/>
                    </a:lnTo>
                    <a:lnTo>
                      <a:pt x="173" y="196"/>
                    </a:lnTo>
                    <a:lnTo>
                      <a:pt x="168" y="217"/>
                    </a:lnTo>
                    <a:lnTo>
                      <a:pt x="137" y="227"/>
                    </a:lnTo>
                    <a:lnTo>
                      <a:pt x="132" y="214"/>
                    </a:lnTo>
                    <a:lnTo>
                      <a:pt x="128" y="209"/>
                    </a:lnTo>
                    <a:lnTo>
                      <a:pt x="112" y="209"/>
                    </a:lnTo>
                    <a:lnTo>
                      <a:pt x="98" y="201"/>
                    </a:lnTo>
                    <a:lnTo>
                      <a:pt x="84" y="209"/>
                    </a:lnTo>
                    <a:lnTo>
                      <a:pt x="71" y="211"/>
                    </a:lnTo>
                    <a:lnTo>
                      <a:pt x="66" y="196"/>
                    </a:lnTo>
                    <a:lnTo>
                      <a:pt x="45" y="199"/>
                    </a:lnTo>
                    <a:lnTo>
                      <a:pt x="48" y="198"/>
                    </a:lnTo>
                    <a:lnTo>
                      <a:pt x="42" y="201"/>
                    </a:lnTo>
                    <a:lnTo>
                      <a:pt x="30" y="196"/>
                    </a:lnTo>
                    <a:lnTo>
                      <a:pt x="24" y="169"/>
                    </a:lnTo>
                    <a:lnTo>
                      <a:pt x="24" y="149"/>
                    </a:lnTo>
                    <a:lnTo>
                      <a:pt x="9" y="137"/>
                    </a:lnTo>
                    <a:lnTo>
                      <a:pt x="12" y="137"/>
                    </a:lnTo>
                    <a:lnTo>
                      <a:pt x="4" y="124"/>
                    </a:lnTo>
                    <a:lnTo>
                      <a:pt x="6" y="116"/>
                    </a:lnTo>
                    <a:lnTo>
                      <a:pt x="0" y="96"/>
                    </a:lnTo>
                    <a:lnTo>
                      <a:pt x="7" y="81"/>
                    </a:lnTo>
                    <a:lnTo>
                      <a:pt x="3" y="81"/>
                    </a:lnTo>
                    <a:lnTo>
                      <a:pt x="17" y="62"/>
                    </a:lnTo>
                    <a:lnTo>
                      <a:pt x="22" y="80"/>
                    </a:lnTo>
                    <a:lnTo>
                      <a:pt x="45" y="94"/>
                    </a:lnTo>
                    <a:lnTo>
                      <a:pt x="76" y="87"/>
                    </a:lnTo>
                    <a:lnTo>
                      <a:pt x="85" y="77"/>
                    </a:lnTo>
                    <a:lnTo>
                      <a:pt x="117" y="84"/>
                    </a:lnTo>
                    <a:lnTo>
                      <a:pt x="137" y="75"/>
                    </a:lnTo>
                    <a:lnTo>
                      <a:pt x="148" y="52"/>
                    </a:lnTo>
                    <a:lnTo>
                      <a:pt x="154" y="38"/>
                    </a:lnTo>
                    <a:lnTo>
                      <a:pt x="160" y="19"/>
                    </a:lnTo>
                    <a:lnTo>
                      <a:pt x="166" y="0"/>
                    </a:lnTo>
                    <a:lnTo>
                      <a:pt x="187" y="3"/>
                    </a:lnTo>
                    <a:lnTo>
                      <a:pt x="207" y="6"/>
                    </a:lnTo>
                    <a:lnTo>
                      <a:pt x="205" y="9"/>
                    </a:lnTo>
                    <a:lnTo>
                      <a:pt x="206" y="12"/>
                    </a:lnTo>
                    <a:lnTo>
                      <a:pt x="212" y="21"/>
                    </a:lnTo>
                    <a:lnTo>
                      <a:pt x="206" y="19"/>
                    </a:lnTo>
                    <a:lnTo>
                      <a:pt x="197" y="21"/>
                    </a:lnTo>
                    <a:lnTo>
                      <a:pt x="202" y="31"/>
                    </a:lnTo>
                    <a:lnTo>
                      <a:pt x="219" y="58"/>
                    </a:lnTo>
                    <a:lnTo>
                      <a:pt x="213" y="67"/>
                    </a:lnTo>
                    <a:lnTo>
                      <a:pt x="226" y="81"/>
                    </a:lnTo>
                    <a:lnTo>
                      <a:pt x="239" y="9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4201920" y="2562840"/>
                <a:ext cx="135000" cy="217080"/>
              </a:xfrm>
              <a:custGeom>
                <a:avLst/>
                <a:gdLst/>
                <a:ahLst/>
                <a:rect l="l" t="t" r="r" b="b"/>
                <a:pathLst>
                  <a:path w="259" h="308">
                    <a:moveTo>
                      <a:pt x="259" y="237"/>
                    </a:moveTo>
                    <a:lnTo>
                      <a:pt x="258" y="239"/>
                    </a:lnTo>
                    <a:lnTo>
                      <a:pt x="255" y="273"/>
                    </a:lnTo>
                    <a:lnTo>
                      <a:pt x="254" y="308"/>
                    </a:lnTo>
                    <a:lnTo>
                      <a:pt x="241" y="296"/>
                    </a:lnTo>
                    <a:lnTo>
                      <a:pt x="239" y="304"/>
                    </a:lnTo>
                    <a:lnTo>
                      <a:pt x="226" y="299"/>
                    </a:lnTo>
                    <a:lnTo>
                      <a:pt x="228" y="308"/>
                    </a:lnTo>
                    <a:lnTo>
                      <a:pt x="202" y="284"/>
                    </a:lnTo>
                    <a:lnTo>
                      <a:pt x="189" y="271"/>
                    </a:lnTo>
                    <a:lnTo>
                      <a:pt x="176" y="258"/>
                    </a:lnTo>
                    <a:lnTo>
                      <a:pt x="163" y="245"/>
                    </a:lnTo>
                    <a:lnTo>
                      <a:pt x="150" y="232"/>
                    </a:lnTo>
                    <a:lnTo>
                      <a:pt x="138" y="209"/>
                    </a:lnTo>
                    <a:lnTo>
                      <a:pt x="128" y="187"/>
                    </a:lnTo>
                    <a:lnTo>
                      <a:pt x="124" y="183"/>
                    </a:lnTo>
                    <a:lnTo>
                      <a:pt x="111" y="164"/>
                    </a:lnTo>
                    <a:lnTo>
                      <a:pt x="98" y="144"/>
                    </a:lnTo>
                    <a:lnTo>
                      <a:pt x="91" y="125"/>
                    </a:lnTo>
                    <a:lnTo>
                      <a:pt x="84" y="108"/>
                    </a:lnTo>
                    <a:lnTo>
                      <a:pt x="65" y="88"/>
                    </a:lnTo>
                    <a:lnTo>
                      <a:pt x="50" y="66"/>
                    </a:lnTo>
                    <a:lnTo>
                      <a:pt x="33" y="49"/>
                    </a:lnTo>
                    <a:lnTo>
                      <a:pt x="16" y="30"/>
                    </a:lnTo>
                    <a:lnTo>
                      <a:pt x="0" y="0"/>
                    </a:lnTo>
                    <a:lnTo>
                      <a:pt x="17" y="3"/>
                    </a:lnTo>
                    <a:lnTo>
                      <a:pt x="35" y="6"/>
                    </a:lnTo>
                    <a:lnTo>
                      <a:pt x="53" y="8"/>
                    </a:lnTo>
                    <a:lnTo>
                      <a:pt x="74" y="33"/>
                    </a:lnTo>
                    <a:lnTo>
                      <a:pt x="76" y="39"/>
                    </a:lnTo>
                    <a:lnTo>
                      <a:pt x="97" y="59"/>
                    </a:lnTo>
                    <a:lnTo>
                      <a:pt x="117" y="78"/>
                    </a:lnTo>
                    <a:lnTo>
                      <a:pt x="134" y="96"/>
                    </a:lnTo>
                    <a:lnTo>
                      <a:pt x="134" y="88"/>
                    </a:lnTo>
                    <a:lnTo>
                      <a:pt x="154" y="105"/>
                    </a:lnTo>
                    <a:lnTo>
                      <a:pt x="166" y="119"/>
                    </a:lnTo>
                    <a:lnTo>
                      <a:pt x="187" y="135"/>
                    </a:lnTo>
                    <a:lnTo>
                      <a:pt x="190" y="137"/>
                    </a:lnTo>
                    <a:lnTo>
                      <a:pt x="205" y="150"/>
                    </a:lnTo>
                    <a:lnTo>
                      <a:pt x="194" y="155"/>
                    </a:lnTo>
                    <a:lnTo>
                      <a:pt x="197" y="160"/>
                    </a:lnTo>
                    <a:lnTo>
                      <a:pt x="196" y="164"/>
                    </a:lnTo>
                    <a:lnTo>
                      <a:pt x="199" y="173"/>
                    </a:lnTo>
                    <a:lnTo>
                      <a:pt x="218" y="177"/>
                    </a:lnTo>
                    <a:lnTo>
                      <a:pt x="222" y="197"/>
                    </a:lnTo>
                    <a:lnTo>
                      <a:pt x="228" y="204"/>
                    </a:lnTo>
                    <a:lnTo>
                      <a:pt x="228" y="214"/>
                    </a:lnTo>
                    <a:lnTo>
                      <a:pt x="246" y="214"/>
                    </a:lnTo>
                    <a:lnTo>
                      <a:pt x="259" y="237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4651200" y="2676960"/>
                <a:ext cx="122400" cy="166320"/>
              </a:xfrm>
              <a:custGeom>
                <a:avLst/>
                <a:gdLst/>
                <a:ahLst/>
                <a:rect l="l" t="t" r="r" b="b"/>
                <a:pathLst>
                  <a:path w="236" h="236">
                    <a:moveTo>
                      <a:pt x="187" y="197"/>
                    </a:moveTo>
                    <a:lnTo>
                      <a:pt x="189" y="199"/>
                    </a:lnTo>
                    <a:lnTo>
                      <a:pt x="187" y="210"/>
                    </a:lnTo>
                    <a:lnTo>
                      <a:pt x="193" y="208"/>
                    </a:lnTo>
                    <a:lnTo>
                      <a:pt x="213" y="205"/>
                    </a:lnTo>
                    <a:lnTo>
                      <a:pt x="220" y="219"/>
                    </a:lnTo>
                    <a:lnTo>
                      <a:pt x="236" y="236"/>
                    </a:lnTo>
                    <a:lnTo>
                      <a:pt x="236" y="213"/>
                    </a:lnTo>
                    <a:lnTo>
                      <a:pt x="236" y="192"/>
                    </a:lnTo>
                    <a:lnTo>
                      <a:pt x="236" y="170"/>
                    </a:lnTo>
                    <a:lnTo>
                      <a:pt x="236" y="147"/>
                    </a:lnTo>
                    <a:lnTo>
                      <a:pt x="236" y="125"/>
                    </a:lnTo>
                    <a:lnTo>
                      <a:pt x="236" y="104"/>
                    </a:lnTo>
                    <a:lnTo>
                      <a:pt x="236" y="81"/>
                    </a:lnTo>
                    <a:lnTo>
                      <a:pt x="236" y="59"/>
                    </a:lnTo>
                    <a:lnTo>
                      <a:pt x="220" y="55"/>
                    </a:lnTo>
                    <a:lnTo>
                      <a:pt x="190" y="42"/>
                    </a:lnTo>
                    <a:lnTo>
                      <a:pt x="161" y="29"/>
                    </a:lnTo>
                    <a:lnTo>
                      <a:pt x="145" y="42"/>
                    </a:lnTo>
                    <a:lnTo>
                      <a:pt x="124" y="55"/>
                    </a:lnTo>
                    <a:lnTo>
                      <a:pt x="99" y="79"/>
                    </a:lnTo>
                    <a:lnTo>
                      <a:pt x="89" y="71"/>
                    </a:lnTo>
                    <a:lnTo>
                      <a:pt x="81" y="58"/>
                    </a:lnTo>
                    <a:lnTo>
                      <a:pt x="79" y="63"/>
                    </a:lnTo>
                    <a:lnTo>
                      <a:pt x="72" y="33"/>
                    </a:lnTo>
                    <a:lnTo>
                      <a:pt x="72" y="20"/>
                    </a:lnTo>
                    <a:lnTo>
                      <a:pt x="69" y="9"/>
                    </a:lnTo>
                    <a:lnTo>
                      <a:pt x="48" y="4"/>
                    </a:lnTo>
                    <a:lnTo>
                      <a:pt x="24" y="0"/>
                    </a:lnTo>
                    <a:lnTo>
                      <a:pt x="4" y="15"/>
                    </a:lnTo>
                    <a:lnTo>
                      <a:pt x="0" y="27"/>
                    </a:lnTo>
                    <a:lnTo>
                      <a:pt x="19" y="35"/>
                    </a:lnTo>
                    <a:lnTo>
                      <a:pt x="30" y="51"/>
                    </a:lnTo>
                    <a:lnTo>
                      <a:pt x="49" y="49"/>
                    </a:lnTo>
                    <a:lnTo>
                      <a:pt x="66" y="49"/>
                    </a:lnTo>
                    <a:lnTo>
                      <a:pt x="65" y="53"/>
                    </a:lnTo>
                    <a:lnTo>
                      <a:pt x="63" y="56"/>
                    </a:lnTo>
                    <a:lnTo>
                      <a:pt x="60" y="58"/>
                    </a:lnTo>
                    <a:lnTo>
                      <a:pt x="53" y="56"/>
                    </a:lnTo>
                    <a:lnTo>
                      <a:pt x="32" y="62"/>
                    </a:lnTo>
                    <a:lnTo>
                      <a:pt x="23" y="68"/>
                    </a:lnTo>
                    <a:lnTo>
                      <a:pt x="43" y="85"/>
                    </a:lnTo>
                    <a:lnTo>
                      <a:pt x="40" y="97"/>
                    </a:lnTo>
                    <a:lnTo>
                      <a:pt x="53" y="97"/>
                    </a:lnTo>
                    <a:lnTo>
                      <a:pt x="66" y="72"/>
                    </a:lnTo>
                    <a:lnTo>
                      <a:pt x="63" y="88"/>
                    </a:lnTo>
                    <a:lnTo>
                      <a:pt x="84" y="95"/>
                    </a:lnTo>
                    <a:lnTo>
                      <a:pt x="89" y="95"/>
                    </a:lnTo>
                    <a:lnTo>
                      <a:pt x="88" y="104"/>
                    </a:lnTo>
                    <a:lnTo>
                      <a:pt x="107" y="111"/>
                    </a:lnTo>
                    <a:lnTo>
                      <a:pt x="124" y="117"/>
                    </a:lnTo>
                    <a:lnTo>
                      <a:pt x="141" y="124"/>
                    </a:lnTo>
                    <a:lnTo>
                      <a:pt x="160" y="131"/>
                    </a:lnTo>
                    <a:lnTo>
                      <a:pt x="170" y="143"/>
                    </a:lnTo>
                    <a:lnTo>
                      <a:pt x="184" y="173"/>
                    </a:lnTo>
                    <a:lnTo>
                      <a:pt x="192" y="177"/>
                    </a:lnTo>
                    <a:lnTo>
                      <a:pt x="180" y="179"/>
                    </a:lnTo>
                    <a:lnTo>
                      <a:pt x="193" y="184"/>
                    </a:lnTo>
                    <a:lnTo>
                      <a:pt x="181" y="184"/>
                    </a:lnTo>
                    <a:lnTo>
                      <a:pt x="186" y="193"/>
                    </a:lnTo>
                    <a:lnTo>
                      <a:pt x="170" y="190"/>
                    </a:lnTo>
                    <a:lnTo>
                      <a:pt x="157" y="216"/>
                    </a:lnTo>
                    <a:lnTo>
                      <a:pt x="179" y="212"/>
                    </a:lnTo>
                    <a:lnTo>
                      <a:pt x="187" y="197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4497480" y="2636640"/>
                <a:ext cx="79920" cy="138960"/>
              </a:xfrm>
              <a:custGeom>
                <a:avLst/>
                <a:gdLst/>
                <a:ahLst/>
                <a:rect l="l" t="t" r="r" b="b"/>
                <a:pathLst>
                  <a:path w="152" h="198">
                    <a:moveTo>
                      <a:pt x="152" y="5"/>
                    </a:moveTo>
                    <a:lnTo>
                      <a:pt x="145" y="0"/>
                    </a:lnTo>
                    <a:lnTo>
                      <a:pt x="121" y="23"/>
                    </a:lnTo>
                    <a:lnTo>
                      <a:pt x="90" y="18"/>
                    </a:lnTo>
                    <a:lnTo>
                      <a:pt x="60" y="14"/>
                    </a:lnTo>
                    <a:lnTo>
                      <a:pt x="47" y="12"/>
                    </a:lnTo>
                    <a:lnTo>
                      <a:pt x="37" y="24"/>
                    </a:lnTo>
                    <a:lnTo>
                      <a:pt x="33" y="23"/>
                    </a:lnTo>
                    <a:lnTo>
                      <a:pt x="20" y="46"/>
                    </a:lnTo>
                    <a:lnTo>
                      <a:pt x="23" y="69"/>
                    </a:lnTo>
                    <a:lnTo>
                      <a:pt x="18" y="66"/>
                    </a:lnTo>
                    <a:lnTo>
                      <a:pt x="10" y="92"/>
                    </a:lnTo>
                    <a:lnTo>
                      <a:pt x="0" y="118"/>
                    </a:lnTo>
                    <a:lnTo>
                      <a:pt x="3" y="141"/>
                    </a:lnTo>
                    <a:lnTo>
                      <a:pt x="14" y="144"/>
                    </a:lnTo>
                    <a:lnTo>
                      <a:pt x="14" y="164"/>
                    </a:lnTo>
                    <a:lnTo>
                      <a:pt x="14" y="182"/>
                    </a:lnTo>
                    <a:lnTo>
                      <a:pt x="17" y="198"/>
                    </a:lnTo>
                    <a:lnTo>
                      <a:pt x="37" y="194"/>
                    </a:lnTo>
                    <a:lnTo>
                      <a:pt x="36" y="161"/>
                    </a:lnTo>
                    <a:lnTo>
                      <a:pt x="33" y="129"/>
                    </a:lnTo>
                    <a:lnTo>
                      <a:pt x="49" y="118"/>
                    </a:lnTo>
                    <a:lnTo>
                      <a:pt x="50" y="133"/>
                    </a:lnTo>
                    <a:lnTo>
                      <a:pt x="53" y="146"/>
                    </a:lnTo>
                    <a:lnTo>
                      <a:pt x="64" y="161"/>
                    </a:lnTo>
                    <a:lnTo>
                      <a:pt x="67" y="177"/>
                    </a:lnTo>
                    <a:lnTo>
                      <a:pt x="76" y="172"/>
                    </a:lnTo>
                    <a:lnTo>
                      <a:pt x="90" y="162"/>
                    </a:lnTo>
                    <a:lnTo>
                      <a:pt x="96" y="161"/>
                    </a:lnTo>
                    <a:lnTo>
                      <a:pt x="80" y="138"/>
                    </a:lnTo>
                    <a:lnTo>
                      <a:pt x="83" y="131"/>
                    </a:lnTo>
                    <a:lnTo>
                      <a:pt x="72" y="112"/>
                    </a:lnTo>
                    <a:lnTo>
                      <a:pt x="59" y="95"/>
                    </a:lnTo>
                    <a:lnTo>
                      <a:pt x="69" y="96"/>
                    </a:lnTo>
                    <a:lnTo>
                      <a:pt x="85" y="83"/>
                    </a:lnTo>
                    <a:lnTo>
                      <a:pt x="102" y="70"/>
                    </a:lnTo>
                    <a:lnTo>
                      <a:pt x="108" y="70"/>
                    </a:lnTo>
                    <a:lnTo>
                      <a:pt x="103" y="61"/>
                    </a:lnTo>
                    <a:lnTo>
                      <a:pt x="95" y="64"/>
                    </a:lnTo>
                    <a:lnTo>
                      <a:pt x="66" y="70"/>
                    </a:lnTo>
                    <a:lnTo>
                      <a:pt x="47" y="83"/>
                    </a:lnTo>
                    <a:lnTo>
                      <a:pt x="27" y="56"/>
                    </a:lnTo>
                    <a:lnTo>
                      <a:pt x="36" y="33"/>
                    </a:lnTo>
                    <a:lnTo>
                      <a:pt x="69" y="34"/>
                    </a:lnTo>
                    <a:lnTo>
                      <a:pt x="103" y="36"/>
                    </a:lnTo>
                    <a:lnTo>
                      <a:pt x="135" y="30"/>
                    </a:lnTo>
                    <a:lnTo>
                      <a:pt x="152" y="5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4329000" y="2782080"/>
                <a:ext cx="116280" cy="52560"/>
              </a:xfrm>
              <a:custGeom>
                <a:avLst/>
                <a:gdLst/>
                <a:ahLst/>
                <a:rect l="l" t="t" r="r" b="b"/>
                <a:pathLst>
                  <a:path w="223" h="76">
                    <a:moveTo>
                      <a:pt x="223" y="76"/>
                    </a:moveTo>
                    <a:lnTo>
                      <a:pt x="220" y="72"/>
                    </a:lnTo>
                    <a:lnTo>
                      <a:pt x="219" y="50"/>
                    </a:lnTo>
                    <a:lnTo>
                      <a:pt x="202" y="47"/>
                    </a:lnTo>
                    <a:lnTo>
                      <a:pt x="183" y="46"/>
                    </a:lnTo>
                    <a:lnTo>
                      <a:pt x="176" y="29"/>
                    </a:lnTo>
                    <a:lnTo>
                      <a:pt x="145" y="20"/>
                    </a:lnTo>
                    <a:lnTo>
                      <a:pt x="134" y="13"/>
                    </a:lnTo>
                    <a:lnTo>
                      <a:pt x="125" y="24"/>
                    </a:lnTo>
                    <a:lnTo>
                      <a:pt x="107" y="24"/>
                    </a:lnTo>
                    <a:lnTo>
                      <a:pt x="88" y="24"/>
                    </a:lnTo>
                    <a:lnTo>
                      <a:pt x="78" y="14"/>
                    </a:lnTo>
                    <a:lnTo>
                      <a:pt x="49" y="1"/>
                    </a:lnTo>
                    <a:lnTo>
                      <a:pt x="19" y="0"/>
                    </a:lnTo>
                    <a:lnTo>
                      <a:pt x="7" y="17"/>
                    </a:lnTo>
                    <a:lnTo>
                      <a:pt x="0" y="20"/>
                    </a:lnTo>
                    <a:lnTo>
                      <a:pt x="26" y="29"/>
                    </a:lnTo>
                    <a:lnTo>
                      <a:pt x="26" y="34"/>
                    </a:lnTo>
                    <a:lnTo>
                      <a:pt x="52" y="40"/>
                    </a:lnTo>
                    <a:lnTo>
                      <a:pt x="76" y="47"/>
                    </a:lnTo>
                    <a:lnTo>
                      <a:pt x="99" y="52"/>
                    </a:lnTo>
                    <a:lnTo>
                      <a:pt x="121" y="58"/>
                    </a:lnTo>
                    <a:lnTo>
                      <a:pt x="153" y="60"/>
                    </a:lnTo>
                    <a:lnTo>
                      <a:pt x="183" y="65"/>
                    </a:lnTo>
                    <a:lnTo>
                      <a:pt x="203" y="70"/>
                    </a:lnTo>
                    <a:lnTo>
                      <a:pt x="223" y="7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4557240" y="2828520"/>
                <a:ext cx="45360" cy="38160"/>
              </a:xfrm>
              <a:custGeom>
                <a:avLst/>
                <a:gdLst/>
                <a:ahLst/>
                <a:rect l="l" t="t" r="r" b="b"/>
                <a:pathLst>
                  <a:path w="89" h="53">
                    <a:moveTo>
                      <a:pt x="89" y="0"/>
                    </a:moveTo>
                    <a:lnTo>
                      <a:pt x="55" y="2"/>
                    </a:lnTo>
                    <a:lnTo>
                      <a:pt x="33" y="15"/>
                    </a:lnTo>
                    <a:lnTo>
                      <a:pt x="10" y="26"/>
                    </a:lnTo>
                    <a:lnTo>
                      <a:pt x="1" y="45"/>
                    </a:lnTo>
                    <a:lnTo>
                      <a:pt x="0" y="48"/>
                    </a:lnTo>
                    <a:lnTo>
                      <a:pt x="4" y="53"/>
                    </a:lnTo>
                    <a:lnTo>
                      <a:pt x="32" y="36"/>
                    </a:lnTo>
                    <a:lnTo>
                      <a:pt x="60" y="19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4605480" y="2628000"/>
                <a:ext cx="17280" cy="56880"/>
              </a:xfrm>
              <a:custGeom>
                <a:avLst/>
                <a:gdLst/>
                <a:ahLst/>
                <a:rect l="l" t="t" r="r" b="b"/>
                <a:pathLst>
                  <a:path w="33" h="82">
                    <a:moveTo>
                      <a:pt x="33" y="52"/>
                    </a:moveTo>
                    <a:lnTo>
                      <a:pt x="18" y="33"/>
                    </a:lnTo>
                    <a:lnTo>
                      <a:pt x="30" y="22"/>
                    </a:lnTo>
                    <a:lnTo>
                      <a:pt x="23" y="16"/>
                    </a:lnTo>
                    <a:lnTo>
                      <a:pt x="15" y="23"/>
                    </a:lnTo>
                    <a:lnTo>
                      <a:pt x="7" y="36"/>
                    </a:lnTo>
                    <a:lnTo>
                      <a:pt x="7" y="29"/>
                    </a:lnTo>
                    <a:lnTo>
                      <a:pt x="11" y="10"/>
                    </a:lnTo>
                    <a:lnTo>
                      <a:pt x="13" y="0"/>
                    </a:lnTo>
                    <a:lnTo>
                      <a:pt x="0" y="19"/>
                    </a:lnTo>
                    <a:lnTo>
                      <a:pt x="2" y="39"/>
                    </a:lnTo>
                    <a:lnTo>
                      <a:pt x="4" y="58"/>
                    </a:lnTo>
                    <a:lnTo>
                      <a:pt x="20" y="82"/>
                    </a:lnTo>
                    <a:lnTo>
                      <a:pt x="8" y="49"/>
                    </a:lnTo>
                    <a:lnTo>
                      <a:pt x="33" y="52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4610520" y="2723400"/>
                <a:ext cx="37080" cy="18360"/>
              </a:xfrm>
              <a:custGeom>
                <a:avLst/>
                <a:gdLst/>
                <a:ahLst/>
                <a:rect l="l" t="t" r="r" b="b"/>
                <a:pathLst>
                  <a:path w="70" h="26">
                    <a:moveTo>
                      <a:pt x="70" y="21"/>
                    </a:moveTo>
                    <a:lnTo>
                      <a:pt x="66" y="26"/>
                    </a:lnTo>
                    <a:lnTo>
                      <a:pt x="37" y="13"/>
                    </a:lnTo>
                    <a:lnTo>
                      <a:pt x="18" y="15"/>
                    </a:lnTo>
                    <a:lnTo>
                      <a:pt x="4" y="9"/>
                    </a:lnTo>
                    <a:lnTo>
                      <a:pt x="0" y="15"/>
                    </a:lnTo>
                    <a:lnTo>
                      <a:pt x="1" y="6"/>
                    </a:lnTo>
                    <a:lnTo>
                      <a:pt x="15" y="0"/>
                    </a:lnTo>
                    <a:lnTo>
                      <a:pt x="37" y="2"/>
                    </a:lnTo>
                    <a:lnTo>
                      <a:pt x="59" y="3"/>
                    </a:lnTo>
                    <a:lnTo>
                      <a:pt x="70" y="21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4509720" y="2826720"/>
                <a:ext cx="40680" cy="10440"/>
              </a:xfrm>
              <a:custGeom>
                <a:avLst/>
                <a:gdLst/>
                <a:ahLst/>
                <a:rect l="l" t="t" r="r" b="b"/>
                <a:pathLst>
                  <a:path w="77" h="16">
                    <a:moveTo>
                      <a:pt x="77" y="1"/>
                    </a:moveTo>
                    <a:lnTo>
                      <a:pt x="76" y="0"/>
                    </a:lnTo>
                    <a:lnTo>
                      <a:pt x="72" y="0"/>
                    </a:lnTo>
                    <a:lnTo>
                      <a:pt x="64" y="7"/>
                    </a:lnTo>
                    <a:lnTo>
                      <a:pt x="50" y="6"/>
                    </a:lnTo>
                    <a:lnTo>
                      <a:pt x="31" y="3"/>
                    </a:lnTo>
                    <a:lnTo>
                      <a:pt x="11" y="0"/>
                    </a:lnTo>
                    <a:lnTo>
                      <a:pt x="0" y="11"/>
                    </a:lnTo>
                    <a:lnTo>
                      <a:pt x="11" y="16"/>
                    </a:lnTo>
                    <a:lnTo>
                      <a:pt x="34" y="14"/>
                    </a:lnTo>
                    <a:lnTo>
                      <a:pt x="57" y="13"/>
                    </a:lnTo>
                    <a:lnTo>
                      <a:pt x="77" y="1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325760" y="2697840"/>
                <a:ext cx="21960" cy="29520"/>
              </a:xfrm>
              <a:custGeom>
                <a:avLst/>
                <a:gdLst/>
                <a:ahLst/>
                <a:rect l="l" t="t" r="r" b="b"/>
                <a:pathLst>
                  <a:path w="40" h="42">
                    <a:moveTo>
                      <a:pt x="40" y="29"/>
                    </a:moveTo>
                    <a:lnTo>
                      <a:pt x="37" y="42"/>
                    </a:lnTo>
                    <a:lnTo>
                      <a:pt x="17" y="29"/>
                    </a:lnTo>
                    <a:lnTo>
                      <a:pt x="8" y="15"/>
                    </a:lnTo>
                    <a:lnTo>
                      <a:pt x="0" y="10"/>
                    </a:lnTo>
                    <a:lnTo>
                      <a:pt x="11" y="3"/>
                    </a:lnTo>
                    <a:lnTo>
                      <a:pt x="16" y="0"/>
                    </a:lnTo>
                    <a:lnTo>
                      <a:pt x="26" y="22"/>
                    </a:lnTo>
                    <a:lnTo>
                      <a:pt x="40" y="29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4472280" y="2822400"/>
                <a:ext cx="29520" cy="16560"/>
              </a:xfrm>
              <a:custGeom>
                <a:avLst/>
                <a:gdLst/>
                <a:ahLst/>
                <a:rect l="l" t="t" r="r" b="b"/>
                <a:pathLst>
                  <a:path w="57" h="24">
                    <a:moveTo>
                      <a:pt x="57" y="14"/>
                    </a:moveTo>
                    <a:lnTo>
                      <a:pt x="53" y="7"/>
                    </a:lnTo>
                    <a:lnTo>
                      <a:pt x="46" y="10"/>
                    </a:lnTo>
                    <a:lnTo>
                      <a:pt x="24" y="0"/>
                    </a:lnTo>
                    <a:lnTo>
                      <a:pt x="36" y="14"/>
                    </a:lnTo>
                    <a:lnTo>
                      <a:pt x="23" y="12"/>
                    </a:lnTo>
                    <a:lnTo>
                      <a:pt x="4" y="11"/>
                    </a:lnTo>
                    <a:lnTo>
                      <a:pt x="0" y="24"/>
                    </a:lnTo>
                    <a:lnTo>
                      <a:pt x="20" y="21"/>
                    </a:lnTo>
                    <a:lnTo>
                      <a:pt x="40" y="17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57" y="1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4500360" y="2847600"/>
                <a:ext cx="23400" cy="14760"/>
              </a:xfrm>
              <a:custGeom>
                <a:avLst/>
                <a:gdLst/>
                <a:ahLst/>
                <a:rect l="l" t="t" r="r" b="b"/>
                <a:pathLst>
                  <a:path w="44" h="21">
                    <a:moveTo>
                      <a:pt x="44" y="17"/>
                    </a:moveTo>
                    <a:lnTo>
                      <a:pt x="28" y="21"/>
                    </a:lnTo>
                    <a:lnTo>
                      <a:pt x="6" y="8"/>
                    </a:lnTo>
                    <a:lnTo>
                      <a:pt x="0" y="0"/>
                    </a:lnTo>
                    <a:lnTo>
                      <a:pt x="25" y="1"/>
                    </a:lnTo>
                    <a:lnTo>
                      <a:pt x="44" y="17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4586760" y="2727720"/>
                <a:ext cx="15840" cy="12240"/>
              </a:xfrm>
              <a:custGeom>
                <a:avLst/>
                <a:gdLst/>
                <a:ahLst/>
                <a:rect l="l" t="t" r="r" b="b"/>
                <a:pathLst>
                  <a:path w="29" h="19">
                    <a:moveTo>
                      <a:pt x="29" y="9"/>
                    </a:moveTo>
                    <a:lnTo>
                      <a:pt x="19" y="19"/>
                    </a:lnTo>
                    <a:lnTo>
                      <a:pt x="0" y="7"/>
                    </a:lnTo>
                    <a:lnTo>
                      <a:pt x="9" y="0"/>
                    </a:lnTo>
                    <a:lnTo>
                      <a:pt x="29" y="9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4443840" y="2824200"/>
                <a:ext cx="15480" cy="8280"/>
              </a:xfrm>
              <a:custGeom>
                <a:avLst/>
                <a:gdLst/>
                <a:ahLst/>
                <a:rect l="l" t="t" r="r" b="b"/>
                <a:pathLst>
                  <a:path w="29" h="14">
                    <a:moveTo>
                      <a:pt x="29" y="7"/>
                    </a:moveTo>
                    <a:lnTo>
                      <a:pt x="25" y="1"/>
                    </a:lnTo>
                    <a:lnTo>
                      <a:pt x="0" y="0"/>
                    </a:lnTo>
                    <a:lnTo>
                      <a:pt x="16" y="14"/>
                    </a:lnTo>
                    <a:lnTo>
                      <a:pt x="29" y="7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4225320" y="2640960"/>
                <a:ext cx="10800" cy="16560"/>
              </a:xfrm>
              <a:custGeom>
                <a:avLst/>
                <a:gdLst/>
                <a:ahLst/>
                <a:rect l="l" t="t" r="r" b="b"/>
                <a:pathLst>
                  <a:path w="20" h="26">
                    <a:moveTo>
                      <a:pt x="20" y="15"/>
                    </a:moveTo>
                    <a:lnTo>
                      <a:pt x="17" y="26"/>
                    </a:lnTo>
                    <a:lnTo>
                      <a:pt x="0" y="3"/>
                    </a:lnTo>
                    <a:lnTo>
                      <a:pt x="5" y="0"/>
                    </a:lnTo>
                    <a:lnTo>
                      <a:pt x="20" y="15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4462920" y="2824200"/>
                <a:ext cx="7560" cy="1476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17" y="6"/>
                    </a:moveTo>
                    <a:lnTo>
                      <a:pt x="11" y="0"/>
                    </a:lnTo>
                    <a:lnTo>
                      <a:pt x="0" y="15"/>
                    </a:lnTo>
                    <a:lnTo>
                      <a:pt x="10" y="21"/>
                    </a:lnTo>
                    <a:lnTo>
                      <a:pt x="17" y="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4357800" y="2719080"/>
                <a:ext cx="7560" cy="1044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16" y="7"/>
                    </a:moveTo>
                    <a:lnTo>
                      <a:pt x="7" y="15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6" y="7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4544280" y="2754720"/>
                <a:ext cx="7560" cy="22680"/>
              </a:xfrm>
              <a:custGeom>
                <a:avLst/>
                <a:gdLst/>
                <a:ahLst/>
                <a:rect l="l" t="t" r="r" b="b"/>
                <a:pathLst>
                  <a:path w="13" h="33">
                    <a:moveTo>
                      <a:pt x="13" y="23"/>
                    </a:moveTo>
                    <a:lnTo>
                      <a:pt x="10" y="20"/>
                    </a:lnTo>
                    <a:lnTo>
                      <a:pt x="10" y="7"/>
                    </a:lnTo>
                    <a:lnTo>
                      <a:pt x="10" y="0"/>
                    </a:lnTo>
                    <a:lnTo>
                      <a:pt x="0" y="33"/>
                    </a:lnTo>
                    <a:lnTo>
                      <a:pt x="13" y="23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4692240" y="2774160"/>
                <a:ext cx="4320" cy="14040"/>
              </a:xfrm>
              <a:custGeom>
                <a:avLst/>
                <a:gdLst/>
                <a:ahLst/>
                <a:rect l="l" t="t" r="r" b="b"/>
                <a:pathLst>
                  <a:path w="10" h="21">
                    <a:moveTo>
                      <a:pt x="10" y="16"/>
                    </a:moveTo>
                    <a:lnTo>
                      <a:pt x="7" y="0"/>
                    </a:lnTo>
                    <a:lnTo>
                      <a:pt x="0" y="5"/>
                    </a:lnTo>
                    <a:lnTo>
                      <a:pt x="1" y="21"/>
                    </a:lnTo>
                    <a:lnTo>
                      <a:pt x="10" y="1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4244400" y="2687400"/>
                <a:ext cx="7560" cy="14760"/>
              </a:xfrm>
              <a:custGeom>
                <a:avLst/>
                <a:gdLst/>
                <a:ahLst/>
                <a:rect l="l" t="t" r="r" b="b"/>
                <a:pathLst>
                  <a:path w="15" h="20">
                    <a:moveTo>
                      <a:pt x="15" y="20"/>
                    </a:moveTo>
                    <a:lnTo>
                      <a:pt x="4" y="20"/>
                    </a:lnTo>
                    <a:lnTo>
                      <a:pt x="0" y="0"/>
                    </a:lnTo>
                    <a:lnTo>
                      <a:pt x="15" y="2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4542840" y="2756880"/>
                <a:ext cx="2880" cy="14760"/>
              </a:xfrm>
              <a:custGeom>
                <a:avLst/>
                <a:gdLst/>
                <a:ahLst/>
                <a:rect l="l" t="t" r="r" b="b"/>
                <a:pathLst>
                  <a:path w="8" h="20">
                    <a:moveTo>
                      <a:pt x="8" y="9"/>
                    </a:moveTo>
                    <a:lnTo>
                      <a:pt x="7" y="0"/>
                    </a:lnTo>
                    <a:lnTo>
                      <a:pt x="2" y="3"/>
                    </a:lnTo>
                    <a:lnTo>
                      <a:pt x="0" y="20"/>
                    </a:lnTo>
                    <a:lnTo>
                      <a:pt x="8" y="9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4566600" y="2699640"/>
                <a:ext cx="12240" cy="3960"/>
              </a:xfrm>
              <a:custGeom>
                <a:avLst/>
                <a:gdLst/>
                <a:ahLst/>
                <a:rect l="l" t="t" r="r" b="b"/>
                <a:pathLst>
                  <a:path w="23" h="6">
                    <a:moveTo>
                      <a:pt x="23" y="6"/>
                    </a:moveTo>
                    <a:lnTo>
                      <a:pt x="10" y="0"/>
                    </a:lnTo>
                    <a:lnTo>
                      <a:pt x="0" y="6"/>
                    </a:lnTo>
                    <a:lnTo>
                      <a:pt x="23" y="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4689000" y="2788200"/>
                <a:ext cx="4320" cy="1044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8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9" y="8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4421880" y="2801160"/>
                <a:ext cx="17280" cy="3960"/>
              </a:xfrm>
              <a:custGeom>
                <a:avLst/>
                <a:gdLst/>
                <a:ahLst/>
                <a:rect l="l" t="t" r="r" b="b"/>
                <a:pathLst>
                  <a:path w="31" h="5">
                    <a:moveTo>
                      <a:pt x="31" y="0"/>
                    </a:moveTo>
                    <a:lnTo>
                      <a:pt x="8" y="5"/>
                    </a:lnTo>
                    <a:lnTo>
                      <a:pt x="0" y="2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4693680" y="2522520"/>
                <a:ext cx="1440" cy="612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0" y="6"/>
                    </a:moveTo>
                    <a:lnTo>
                      <a:pt x="1" y="6"/>
                    </a:lnTo>
                    <a:lnTo>
                      <a:pt x="1" y="4"/>
                    </a:lnTo>
                    <a:lnTo>
                      <a:pt x="3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3" y="6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4692240" y="252900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4692240" y="252900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2" y="1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4689000" y="25376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0"/>
                    </a:moveTo>
                    <a:lnTo>
                      <a:pt x="1" y="2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4690800" y="253332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0" h="3">
                    <a:moveTo>
                      <a:pt x="0" y="1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4512960" y="2313360"/>
                <a:ext cx="51840" cy="113760"/>
              </a:xfrm>
              <a:custGeom>
                <a:avLst/>
                <a:gdLst/>
                <a:ahLst/>
                <a:rect l="l" t="t" r="r" b="b"/>
                <a:pathLst>
                  <a:path w="100" h="163">
                    <a:moveTo>
                      <a:pt x="15" y="103"/>
                    </a:moveTo>
                    <a:lnTo>
                      <a:pt x="13" y="114"/>
                    </a:lnTo>
                    <a:lnTo>
                      <a:pt x="0" y="85"/>
                    </a:lnTo>
                    <a:lnTo>
                      <a:pt x="0" y="65"/>
                    </a:lnTo>
                    <a:lnTo>
                      <a:pt x="12" y="68"/>
                    </a:lnTo>
                    <a:lnTo>
                      <a:pt x="13" y="39"/>
                    </a:lnTo>
                    <a:lnTo>
                      <a:pt x="16" y="12"/>
                    </a:lnTo>
                    <a:lnTo>
                      <a:pt x="23" y="0"/>
                    </a:lnTo>
                    <a:lnTo>
                      <a:pt x="54" y="6"/>
                    </a:lnTo>
                    <a:lnTo>
                      <a:pt x="57" y="13"/>
                    </a:lnTo>
                    <a:lnTo>
                      <a:pt x="59" y="35"/>
                    </a:lnTo>
                    <a:lnTo>
                      <a:pt x="61" y="49"/>
                    </a:lnTo>
                    <a:lnTo>
                      <a:pt x="52" y="68"/>
                    </a:lnTo>
                    <a:lnTo>
                      <a:pt x="39" y="78"/>
                    </a:lnTo>
                    <a:lnTo>
                      <a:pt x="38" y="97"/>
                    </a:lnTo>
                    <a:lnTo>
                      <a:pt x="48" y="126"/>
                    </a:lnTo>
                    <a:lnTo>
                      <a:pt x="55" y="124"/>
                    </a:lnTo>
                    <a:lnTo>
                      <a:pt x="57" y="121"/>
                    </a:lnTo>
                    <a:lnTo>
                      <a:pt x="70" y="119"/>
                    </a:lnTo>
                    <a:lnTo>
                      <a:pt x="78" y="133"/>
                    </a:lnTo>
                    <a:lnTo>
                      <a:pt x="81" y="126"/>
                    </a:lnTo>
                    <a:lnTo>
                      <a:pt x="93" y="134"/>
                    </a:lnTo>
                    <a:lnTo>
                      <a:pt x="85" y="137"/>
                    </a:lnTo>
                    <a:lnTo>
                      <a:pt x="95" y="150"/>
                    </a:lnTo>
                    <a:lnTo>
                      <a:pt x="100" y="152"/>
                    </a:lnTo>
                    <a:lnTo>
                      <a:pt x="94" y="163"/>
                    </a:lnTo>
                    <a:lnTo>
                      <a:pt x="95" y="156"/>
                    </a:lnTo>
                    <a:lnTo>
                      <a:pt x="80" y="147"/>
                    </a:lnTo>
                    <a:lnTo>
                      <a:pt x="70" y="134"/>
                    </a:lnTo>
                    <a:lnTo>
                      <a:pt x="61" y="130"/>
                    </a:lnTo>
                    <a:lnTo>
                      <a:pt x="62" y="149"/>
                    </a:lnTo>
                    <a:lnTo>
                      <a:pt x="42" y="129"/>
                    </a:lnTo>
                    <a:lnTo>
                      <a:pt x="26" y="136"/>
                    </a:lnTo>
                    <a:lnTo>
                      <a:pt x="16" y="130"/>
                    </a:lnTo>
                    <a:lnTo>
                      <a:pt x="18" y="119"/>
                    </a:lnTo>
                    <a:lnTo>
                      <a:pt x="23" y="107"/>
                    </a:lnTo>
                    <a:lnTo>
                      <a:pt x="15" y="103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536360" y="2482560"/>
                <a:ext cx="58320" cy="80280"/>
              </a:xfrm>
              <a:custGeom>
                <a:avLst/>
                <a:gdLst/>
                <a:ahLst/>
                <a:rect l="l" t="t" r="r" b="b"/>
                <a:pathLst>
                  <a:path w="110" h="112">
                    <a:moveTo>
                      <a:pt x="80" y="112"/>
                    </a:moveTo>
                    <a:lnTo>
                      <a:pt x="79" y="102"/>
                    </a:lnTo>
                    <a:lnTo>
                      <a:pt x="73" y="104"/>
                    </a:lnTo>
                    <a:lnTo>
                      <a:pt x="48" y="89"/>
                    </a:lnTo>
                    <a:lnTo>
                      <a:pt x="53" y="66"/>
                    </a:lnTo>
                    <a:lnTo>
                      <a:pt x="40" y="52"/>
                    </a:lnTo>
                    <a:lnTo>
                      <a:pt x="33" y="61"/>
                    </a:lnTo>
                    <a:lnTo>
                      <a:pt x="28" y="58"/>
                    </a:lnTo>
                    <a:lnTo>
                      <a:pt x="24" y="62"/>
                    </a:lnTo>
                    <a:lnTo>
                      <a:pt x="18" y="53"/>
                    </a:lnTo>
                    <a:lnTo>
                      <a:pt x="7" y="69"/>
                    </a:lnTo>
                    <a:lnTo>
                      <a:pt x="0" y="75"/>
                    </a:lnTo>
                    <a:lnTo>
                      <a:pt x="2" y="56"/>
                    </a:lnTo>
                    <a:lnTo>
                      <a:pt x="24" y="40"/>
                    </a:lnTo>
                    <a:lnTo>
                      <a:pt x="38" y="30"/>
                    </a:lnTo>
                    <a:lnTo>
                      <a:pt x="43" y="45"/>
                    </a:lnTo>
                    <a:lnTo>
                      <a:pt x="54" y="39"/>
                    </a:lnTo>
                    <a:lnTo>
                      <a:pt x="61" y="33"/>
                    </a:lnTo>
                    <a:lnTo>
                      <a:pt x="67" y="22"/>
                    </a:lnTo>
                    <a:lnTo>
                      <a:pt x="77" y="22"/>
                    </a:lnTo>
                    <a:lnTo>
                      <a:pt x="82" y="22"/>
                    </a:lnTo>
                    <a:lnTo>
                      <a:pt x="82" y="0"/>
                    </a:lnTo>
                    <a:lnTo>
                      <a:pt x="97" y="13"/>
                    </a:lnTo>
                    <a:lnTo>
                      <a:pt x="102" y="33"/>
                    </a:lnTo>
                    <a:lnTo>
                      <a:pt x="110" y="66"/>
                    </a:lnTo>
                    <a:lnTo>
                      <a:pt x="103" y="79"/>
                    </a:lnTo>
                    <a:lnTo>
                      <a:pt x="100" y="91"/>
                    </a:lnTo>
                    <a:lnTo>
                      <a:pt x="92" y="68"/>
                    </a:lnTo>
                    <a:lnTo>
                      <a:pt x="83" y="75"/>
                    </a:lnTo>
                    <a:lnTo>
                      <a:pt x="86" y="92"/>
                    </a:lnTo>
                    <a:lnTo>
                      <a:pt x="80" y="112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542840" y="2461320"/>
                <a:ext cx="14040" cy="35640"/>
              </a:xfrm>
              <a:custGeom>
                <a:avLst/>
                <a:gdLst/>
                <a:ahLst/>
                <a:rect l="l" t="t" r="r" b="b"/>
                <a:pathLst>
                  <a:path w="27" h="49">
                    <a:moveTo>
                      <a:pt x="27" y="0"/>
                    </a:moveTo>
                    <a:lnTo>
                      <a:pt x="19" y="36"/>
                    </a:lnTo>
                    <a:lnTo>
                      <a:pt x="17" y="49"/>
                    </a:lnTo>
                    <a:lnTo>
                      <a:pt x="0" y="31"/>
                    </a:lnTo>
                    <a:lnTo>
                      <a:pt x="6" y="24"/>
                    </a:lnTo>
                    <a:lnTo>
                      <a:pt x="13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4566600" y="2429640"/>
                <a:ext cx="17280" cy="27000"/>
              </a:xfrm>
              <a:custGeom>
                <a:avLst/>
                <a:gdLst/>
                <a:ahLst/>
                <a:rect l="l" t="t" r="r" b="b"/>
                <a:pathLst>
                  <a:path w="33" h="40">
                    <a:moveTo>
                      <a:pt x="25" y="39"/>
                    </a:moveTo>
                    <a:lnTo>
                      <a:pt x="15" y="26"/>
                    </a:lnTo>
                    <a:lnTo>
                      <a:pt x="0" y="3"/>
                    </a:lnTo>
                    <a:lnTo>
                      <a:pt x="20" y="0"/>
                    </a:lnTo>
                    <a:lnTo>
                      <a:pt x="26" y="17"/>
                    </a:lnTo>
                    <a:lnTo>
                      <a:pt x="33" y="40"/>
                    </a:lnTo>
                    <a:lnTo>
                      <a:pt x="25" y="39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4536360" y="2444760"/>
                <a:ext cx="15480" cy="25200"/>
              </a:xfrm>
              <a:custGeom>
                <a:avLst/>
                <a:gdLst/>
                <a:ahLst/>
                <a:rect l="l" t="t" r="r" b="b"/>
                <a:pathLst>
                  <a:path w="28" h="36">
                    <a:moveTo>
                      <a:pt x="27" y="7"/>
                    </a:moveTo>
                    <a:lnTo>
                      <a:pt x="4" y="0"/>
                    </a:lnTo>
                    <a:lnTo>
                      <a:pt x="0" y="1"/>
                    </a:lnTo>
                    <a:lnTo>
                      <a:pt x="2" y="36"/>
                    </a:lnTo>
                    <a:lnTo>
                      <a:pt x="28" y="13"/>
                    </a:lnTo>
                    <a:lnTo>
                      <a:pt x="28" y="11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4476960" y="2452680"/>
                <a:ext cx="31320" cy="54720"/>
              </a:xfrm>
              <a:custGeom>
                <a:avLst/>
                <a:gdLst/>
                <a:ahLst/>
                <a:rect l="l" t="t" r="r" b="b"/>
                <a:pathLst>
                  <a:path w="60" h="78">
                    <a:moveTo>
                      <a:pt x="60" y="22"/>
                    </a:moveTo>
                    <a:lnTo>
                      <a:pt x="37" y="43"/>
                    </a:lnTo>
                    <a:lnTo>
                      <a:pt x="18" y="61"/>
                    </a:lnTo>
                    <a:lnTo>
                      <a:pt x="0" y="78"/>
                    </a:lnTo>
                    <a:lnTo>
                      <a:pt x="3" y="72"/>
                    </a:lnTo>
                    <a:lnTo>
                      <a:pt x="21" y="51"/>
                    </a:lnTo>
                    <a:lnTo>
                      <a:pt x="40" y="30"/>
                    </a:lnTo>
                    <a:lnTo>
                      <a:pt x="50" y="13"/>
                    </a:lnTo>
                    <a:lnTo>
                      <a:pt x="52" y="13"/>
                    </a:lnTo>
                    <a:lnTo>
                      <a:pt x="53" y="0"/>
                    </a:lnTo>
                    <a:lnTo>
                      <a:pt x="60" y="22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4517640" y="2412720"/>
                <a:ext cx="14040" cy="21240"/>
              </a:xfrm>
              <a:custGeom>
                <a:avLst/>
                <a:gdLst/>
                <a:ahLst/>
                <a:rect l="l" t="t" r="r" b="b"/>
                <a:pathLst>
                  <a:path w="29" h="30">
                    <a:moveTo>
                      <a:pt x="29" y="21"/>
                    </a:moveTo>
                    <a:lnTo>
                      <a:pt x="23" y="30"/>
                    </a:lnTo>
                    <a:lnTo>
                      <a:pt x="12" y="14"/>
                    </a:lnTo>
                    <a:lnTo>
                      <a:pt x="0" y="0"/>
                    </a:lnTo>
                    <a:lnTo>
                      <a:pt x="25" y="3"/>
                    </a:lnTo>
                    <a:lnTo>
                      <a:pt x="29" y="21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568400" y="2450880"/>
                <a:ext cx="10440" cy="25200"/>
              </a:xfrm>
              <a:custGeom>
                <a:avLst/>
                <a:gdLst/>
                <a:ahLst/>
                <a:rect l="l" t="t" r="r" b="b"/>
                <a:pathLst>
                  <a:path w="20" h="36">
                    <a:moveTo>
                      <a:pt x="14" y="6"/>
                    </a:moveTo>
                    <a:lnTo>
                      <a:pt x="20" y="32"/>
                    </a:lnTo>
                    <a:lnTo>
                      <a:pt x="13" y="33"/>
                    </a:lnTo>
                    <a:lnTo>
                      <a:pt x="11" y="36"/>
                    </a:lnTo>
                    <a:lnTo>
                      <a:pt x="2" y="14"/>
                    </a:lnTo>
                    <a:lnTo>
                      <a:pt x="0" y="0"/>
                    </a:lnTo>
                    <a:lnTo>
                      <a:pt x="14" y="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4552200" y="2431800"/>
                <a:ext cx="10800" cy="1476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20" y="20"/>
                    </a:moveTo>
                    <a:lnTo>
                      <a:pt x="4" y="10"/>
                    </a:lnTo>
                    <a:lnTo>
                      <a:pt x="0" y="11"/>
                    </a:lnTo>
                    <a:lnTo>
                      <a:pt x="3" y="0"/>
                    </a:lnTo>
                    <a:lnTo>
                      <a:pt x="20" y="15"/>
                    </a:lnTo>
                    <a:lnTo>
                      <a:pt x="20" y="2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560480" y="2476080"/>
                <a:ext cx="9000" cy="6120"/>
              </a:xfrm>
              <a:custGeom>
                <a:avLst/>
                <a:gdLst/>
                <a:ahLst/>
                <a:rect l="l" t="t" r="r" b="b"/>
                <a:pathLst>
                  <a:path w="20" h="10">
                    <a:moveTo>
                      <a:pt x="20" y="10"/>
                    </a:moveTo>
                    <a:lnTo>
                      <a:pt x="16" y="0"/>
                    </a:lnTo>
                    <a:lnTo>
                      <a:pt x="0" y="10"/>
                    </a:ln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554000" y="2455200"/>
                <a:ext cx="9000" cy="33480"/>
              </a:xfrm>
              <a:custGeom>
                <a:avLst/>
                <a:gdLst/>
                <a:ahLst/>
                <a:rect l="l" t="t" r="r" b="b"/>
                <a:pathLst>
                  <a:path w="19" h="49">
                    <a:moveTo>
                      <a:pt x="19" y="0"/>
                    </a:moveTo>
                    <a:lnTo>
                      <a:pt x="17" y="13"/>
                    </a:lnTo>
                    <a:lnTo>
                      <a:pt x="9" y="31"/>
                    </a:lnTo>
                    <a:lnTo>
                      <a:pt x="0" y="49"/>
                    </a:lnTo>
                    <a:lnTo>
                      <a:pt x="10" y="24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6359760" y="2394000"/>
                <a:ext cx="28080" cy="22680"/>
              </a:xfrm>
              <a:custGeom>
                <a:avLst/>
                <a:gdLst/>
                <a:ahLst/>
                <a:rect l="l" t="t" r="r" b="b"/>
                <a:pathLst>
                  <a:path w="54" h="34">
                    <a:moveTo>
                      <a:pt x="54" y="27"/>
                    </a:moveTo>
                    <a:lnTo>
                      <a:pt x="51" y="34"/>
                    </a:lnTo>
                    <a:lnTo>
                      <a:pt x="38" y="32"/>
                    </a:lnTo>
                    <a:lnTo>
                      <a:pt x="18" y="26"/>
                    </a:lnTo>
                    <a:lnTo>
                      <a:pt x="0" y="19"/>
                    </a:lnTo>
                    <a:lnTo>
                      <a:pt x="15" y="0"/>
                    </a:lnTo>
                    <a:lnTo>
                      <a:pt x="33" y="11"/>
                    </a:lnTo>
                    <a:lnTo>
                      <a:pt x="53" y="14"/>
                    </a:lnTo>
                    <a:lnTo>
                      <a:pt x="54" y="27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6417720" y="2457000"/>
                <a:ext cx="42120" cy="59040"/>
              </a:xfrm>
              <a:custGeom>
                <a:avLst/>
                <a:gdLst/>
                <a:ahLst/>
                <a:rect l="l" t="t" r="r" b="b"/>
                <a:pathLst>
                  <a:path w="81" h="82">
                    <a:moveTo>
                      <a:pt x="20" y="40"/>
                    </a:moveTo>
                    <a:lnTo>
                      <a:pt x="0" y="19"/>
                    </a:lnTo>
                    <a:lnTo>
                      <a:pt x="1" y="7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37" y="6"/>
                    </a:lnTo>
                    <a:lnTo>
                      <a:pt x="52" y="4"/>
                    </a:lnTo>
                    <a:lnTo>
                      <a:pt x="66" y="22"/>
                    </a:lnTo>
                    <a:lnTo>
                      <a:pt x="81" y="40"/>
                    </a:lnTo>
                    <a:lnTo>
                      <a:pt x="73" y="43"/>
                    </a:lnTo>
                    <a:lnTo>
                      <a:pt x="76" y="61"/>
                    </a:lnTo>
                    <a:lnTo>
                      <a:pt x="76" y="82"/>
                    </a:lnTo>
                    <a:lnTo>
                      <a:pt x="63" y="63"/>
                    </a:lnTo>
                    <a:lnTo>
                      <a:pt x="63" y="71"/>
                    </a:lnTo>
                    <a:lnTo>
                      <a:pt x="58" y="63"/>
                    </a:lnTo>
                    <a:lnTo>
                      <a:pt x="49" y="48"/>
                    </a:lnTo>
                    <a:lnTo>
                      <a:pt x="32" y="35"/>
                    </a:lnTo>
                    <a:lnTo>
                      <a:pt x="16" y="22"/>
                    </a:lnTo>
                    <a:lnTo>
                      <a:pt x="23" y="36"/>
                    </a:lnTo>
                    <a:lnTo>
                      <a:pt x="20" y="4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609600" y="2427480"/>
                <a:ext cx="2880" cy="39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2" y="0"/>
                    </a:moveTo>
                    <a:lnTo>
                      <a:pt x="0" y="0"/>
                    </a:lnTo>
                    <a:lnTo>
                      <a:pt x="6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738120" y="2414880"/>
                <a:ext cx="2880" cy="39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6"/>
                    </a:moveTo>
                    <a:lnTo>
                      <a:pt x="2" y="7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6714720" y="2436120"/>
                <a:ext cx="1440" cy="39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3"/>
                    </a:moveTo>
                    <a:lnTo>
                      <a:pt x="4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3" y="6"/>
                    </a:lnTo>
                    <a:lnTo>
                      <a:pt x="4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6716520" y="243396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6391080" y="2383200"/>
                <a:ext cx="53280" cy="77760"/>
              </a:xfrm>
              <a:custGeom>
                <a:avLst/>
                <a:gdLst/>
                <a:ahLst/>
                <a:rect l="l" t="t" r="r" b="b"/>
                <a:pathLst>
                  <a:path w="104" h="113">
                    <a:moveTo>
                      <a:pt x="39" y="29"/>
                    </a:moveTo>
                    <a:lnTo>
                      <a:pt x="30" y="32"/>
                    </a:lnTo>
                    <a:lnTo>
                      <a:pt x="20" y="38"/>
                    </a:lnTo>
                    <a:lnTo>
                      <a:pt x="14" y="55"/>
                    </a:lnTo>
                    <a:lnTo>
                      <a:pt x="9" y="55"/>
                    </a:lnTo>
                    <a:lnTo>
                      <a:pt x="0" y="57"/>
                    </a:lnTo>
                    <a:lnTo>
                      <a:pt x="27" y="81"/>
                    </a:lnTo>
                    <a:lnTo>
                      <a:pt x="55" y="107"/>
                    </a:lnTo>
                    <a:lnTo>
                      <a:pt x="89" y="113"/>
                    </a:lnTo>
                    <a:lnTo>
                      <a:pt x="104" y="111"/>
                    </a:lnTo>
                    <a:lnTo>
                      <a:pt x="99" y="93"/>
                    </a:lnTo>
                    <a:lnTo>
                      <a:pt x="98" y="80"/>
                    </a:lnTo>
                    <a:lnTo>
                      <a:pt x="99" y="64"/>
                    </a:lnTo>
                    <a:lnTo>
                      <a:pt x="101" y="68"/>
                    </a:lnTo>
                    <a:lnTo>
                      <a:pt x="101" y="48"/>
                    </a:lnTo>
                    <a:lnTo>
                      <a:pt x="99" y="26"/>
                    </a:lnTo>
                    <a:lnTo>
                      <a:pt x="95" y="6"/>
                    </a:lnTo>
                    <a:lnTo>
                      <a:pt x="101" y="0"/>
                    </a:lnTo>
                    <a:lnTo>
                      <a:pt x="82" y="3"/>
                    </a:lnTo>
                    <a:lnTo>
                      <a:pt x="63" y="8"/>
                    </a:lnTo>
                    <a:lnTo>
                      <a:pt x="39" y="29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6719040" y="2400120"/>
                <a:ext cx="1440" cy="612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4" y="9"/>
                    </a:moveTo>
                    <a:lnTo>
                      <a:pt x="0" y="5"/>
                    </a:lnTo>
                    <a:lnTo>
                      <a:pt x="4" y="0"/>
                    </a:lnTo>
                    <a:lnTo>
                      <a:pt x="4" y="9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6717960" y="2412720"/>
                <a:ext cx="1080" cy="648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3" y="7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6717960" y="2463480"/>
                <a:ext cx="9360" cy="126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3" y="0"/>
                    </a:moveTo>
                    <a:lnTo>
                      <a:pt x="19" y="0"/>
                    </a:lnTo>
                    <a:lnTo>
                      <a:pt x="15" y="17"/>
                    </a:lnTo>
                    <a:lnTo>
                      <a:pt x="0" y="15"/>
                    </a:lnTo>
                    <a:lnTo>
                      <a:pt x="7" y="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6486840" y="2640960"/>
                <a:ext cx="72000" cy="122040"/>
              </a:xfrm>
              <a:custGeom>
                <a:avLst/>
                <a:gdLst/>
                <a:ahLst/>
                <a:rect l="l" t="t" r="r" b="b"/>
                <a:pathLst>
                  <a:path w="139" h="174">
                    <a:moveTo>
                      <a:pt x="3" y="69"/>
                    </a:moveTo>
                    <a:lnTo>
                      <a:pt x="5" y="96"/>
                    </a:lnTo>
                    <a:lnTo>
                      <a:pt x="0" y="101"/>
                    </a:lnTo>
                    <a:lnTo>
                      <a:pt x="18" y="108"/>
                    </a:lnTo>
                    <a:lnTo>
                      <a:pt x="22" y="102"/>
                    </a:lnTo>
                    <a:lnTo>
                      <a:pt x="25" y="108"/>
                    </a:lnTo>
                    <a:lnTo>
                      <a:pt x="23" y="125"/>
                    </a:lnTo>
                    <a:lnTo>
                      <a:pt x="13" y="129"/>
                    </a:lnTo>
                    <a:lnTo>
                      <a:pt x="15" y="145"/>
                    </a:lnTo>
                    <a:lnTo>
                      <a:pt x="9" y="157"/>
                    </a:lnTo>
                    <a:lnTo>
                      <a:pt x="18" y="154"/>
                    </a:lnTo>
                    <a:lnTo>
                      <a:pt x="42" y="174"/>
                    </a:lnTo>
                    <a:lnTo>
                      <a:pt x="54" y="151"/>
                    </a:lnTo>
                    <a:lnTo>
                      <a:pt x="65" y="129"/>
                    </a:lnTo>
                    <a:lnTo>
                      <a:pt x="91" y="112"/>
                    </a:lnTo>
                    <a:lnTo>
                      <a:pt x="117" y="96"/>
                    </a:lnTo>
                    <a:lnTo>
                      <a:pt x="134" y="65"/>
                    </a:lnTo>
                    <a:lnTo>
                      <a:pt x="139" y="65"/>
                    </a:lnTo>
                    <a:lnTo>
                      <a:pt x="131" y="43"/>
                    </a:lnTo>
                    <a:lnTo>
                      <a:pt x="137" y="40"/>
                    </a:lnTo>
                    <a:lnTo>
                      <a:pt x="111" y="27"/>
                    </a:lnTo>
                    <a:lnTo>
                      <a:pt x="88" y="27"/>
                    </a:lnTo>
                    <a:lnTo>
                      <a:pt x="72" y="14"/>
                    </a:lnTo>
                    <a:lnTo>
                      <a:pt x="52" y="0"/>
                    </a:lnTo>
                    <a:lnTo>
                      <a:pt x="44" y="8"/>
                    </a:lnTo>
                    <a:lnTo>
                      <a:pt x="22" y="20"/>
                    </a:lnTo>
                    <a:lnTo>
                      <a:pt x="18" y="43"/>
                    </a:lnTo>
                    <a:lnTo>
                      <a:pt x="15" y="54"/>
                    </a:lnTo>
                    <a:lnTo>
                      <a:pt x="3" y="69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6356520" y="2668320"/>
                <a:ext cx="5760" cy="1656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1" y="0"/>
                    </a:moveTo>
                    <a:lnTo>
                      <a:pt x="8" y="14"/>
                    </a:lnTo>
                    <a:lnTo>
                      <a:pt x="0" y="23"/>
                    </a:lnTo>
                    <a:lnTo>
                      <a:pt x="14" y="24"/>
                    </a:lnTo>
                    <a:lnTo>
                      <a:pt x="7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6496200" y="272088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0"/>
                    </a:moveTo>
                    <a:lnTo>
                      <a:pt x="1" y="4"/>
                    </a:lnTo>
                    <a:lnTo>
                      <a:pt x="0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6367320" y="2678760"/>
                <a:ext cx="4320" cy="180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9" y="2"/>
                    </a:moveTo>
                    <a:lnTo>
                      <a:pt x="7" y="3"/>
                    </a:lnTo>
                    <a:lnTo>
                      <a:pt x="0" y="0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6690960" y="234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0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6686280" y="2336760"/>
                <a:ext cx="2880" cy="396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0" y="0"/>
                    </a:lnTo>
                    <a:lnTo>
                      <a:pt x="6" y="2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6661080" y="232848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7" y="2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6361200" y="2315880"/>
                <a:ext cx="12240" cy="50040"/>
              </a:xfrm>
              <a:custGeom>
                <a:avLst/>
                <a:gdLst/>
                <a:ahLst/>
                <a:rect l="l" t="t" r="r" b="b"/>
                <a:pathLst>
                  <a:path w="23" h="71">
                    <a:moveTo>
                      <a:pt x="23" y="58"/>
                    </a:moveTo>
                    <a:lnTo>
                      <a:pt x="16" y="71"/>
                    </a:lnTo>
                    <a:lnTo>
                      <a:pt x="9" y="71"/>
                    </a:lnTo>
                    <a:lnTo>
                      <a:pt x="4" y="45"/>
                    </a:lnTo>
                    <a:lnTo>
                      <a:pt x="0" y="19"/>
                    </a:lnTo>
                    <a:lnTo>
                      <a:pt x="17" y="0"/>
                    </a:lnTo>
                    <a:lnTo>
                      <a:pt x="20" y="5"/>
                    </a:lnTo>
                    <a:lnTo>
                      <a:pt x="22" y="32"/>
                    </a:lnTo>
                    <a:lnTo>
                      <a:pt x="23" y="58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6452280" y="229860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3"/>
                    </a:moveTo>
                    <a:lnTo>
                      <a:pt x="7" y="1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6471360" y="2292480"/>
                <a:ext cx="1080" cy="2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1"/>
                    </a:moveTo>
                    <a:lnTo>
                      <a:pt x="3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6468120" y="2292480"/>
                <a:ext cx="1080" cy="216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6329880" y="2328480"/>
                <a:ext cx="48600" cy="77760"/>
              </a:xfrm>
              <a:custGeom>
                <a:avLst/>
                <a:gdLst/>
                <a:ahLst/>
                <a:rect l="l" t="t" r="r" b="b"/>
                <a:pathLst>
                  <a:path w="92" h="110">
                    <a:moveTo>
                      <a:pt x="13" y="98"/>
                    </a:moveTo>
                    <a:lnTo>
                      <a:pt x="1" y="88"/>
                    </a:lnTo>
                    <a:lnTo>
                      <a:pt x="0" y="69"/>
                    </a:lnTo>
                    <a:lnTo>
                      <a:pt x="7" y="48"/>
                    </a:lnTo>
                    <a:lnTo>
                      <a:pt x="37" y="43"/>
                    </a:lnTo>
                    <a:lnTo>
                      <a:pt x="11" y="17"/>
                    </a:lnTo>
                    <a:lnTo>
                      <a:pt x="19" y="16"/>
                    </a:lnTo>
                    <a:lnTo>
                      <a:pt x="16" y="0"/>
                    </a:lnTo>
                    <a:lnTo>
                      <a:pt x="37" y="0"/>
                    </a:lnTo>
                    <a:lnTo>
                      <a:pt x="59" y="0"/>
                    </a:lnTo>
                    <a:lnTo>
                      <a:pt x="63" y="26"/>
                    </a:lnTo>
                    <a:lnTo>
                      <a:pt x="68" y="52"/>
                    </a:lnTo>
                    <a:lnTo>
                      <a:pt x="75" y="52"/>
                    </a:lnTo>
                    <a:lnTo>
                      <a:pt x="83" y="53"/>
                    </a:lnTo>
                    <a:lnTo>
                      <a:pt x="92" y="56"/>
                    </a:lnTo>
                    <a:lnTo>
                      <a:pt x="79" y="69"/>
                    </a:lnTo>
                    <a:lnTo>
                      <a:pt x="70" y="91"/>
                    </a:lnTo>
                    <a:lnTo>
                      <a:pt x="55" y="110"/>
                    </a:lnTo>
                    <a:lnTo>
                      <a:pt x="34" y="104"/>
                    </a:lnTo>
                    <a:lnTo>
                      <a:pt x="13" y="98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6367320" y="2366280"/>
                <a:ext cx="74880" cy="54720"/>
              </a:xfrm>
              <a:custGeom>
                <a:avLst/>
                <a:gdLst/>
                <a:ahLst/>
                <a:rect l="l" t="t" r="r" b="b"/>
                <a:pathLst>
                  <a:path w="146" h="79">
                    <a:moveTo>
                      <a:pt x="84" y="53"/>
                    </a:moveTo>
                    <a:lnTo>
                      <a:pt x="75" y="56"/>
                    </a:lnTo>
                    <a:lnTo>
                      <a:pt x="65" y="62"/>
                    </a:lnTo>
                    <a:lnTo>
                      <a:pt x="59" y="79"/>
                    </a:lnTo>
                    <a:lnTo>
                      <a:pt x="54" y="79"/>
                    </a:lnTo>
                    <a:lnTo>
                      <a:pt x="49" y="69"/>
                    </a:lnTo>
                    <a:lnTo>
                      <a:pt x="39" y="66"/>
                    </a:lnTo>
                    <a:lnTo>
                      <a:pt x="38" y="53"/>
                    </a:lnTo>
                    <a:lnTo>
                      <a:pt x="18" y="50"/>
                    </a:lnTo>
                    <a:lnTo>
                      <a:pt x="0" y="39"/>
                    </a:lnTo>
                    <a:lnTo>
                      <a:pt x="9" y="17"/>
                    </a:lnTo>
                    <a:lnTo>
                      <a:pt x="22" y="4"/>
                    </a:lnTo>
                    <a:lnTo>
                      <a:pt x="25" y="4"/>
                    </a:lnTo>
                    <a:lnTo>
                      <a:pt x="47" y="3"/>
                    </a:lnTo>
                    <a:lnTo>
                      <a:pt x="70" y="0"/>
                    </a:lnTo>
                    <a:lnTo>
                      <a:pt x="88" y="1"/>
                    </a:lnTo>
                    <a:lnTo>
                      <a:pt x="107" y="1"/>
                    </a:lnTo>
                    <a:lnTo>
                      <a:pt x="126" y="11"/>
                    </a:lnTo>
                    <a:lnTo>
                      <a:pt x="121" y="10"/>
                    </a:lnTo>
                    <a:lnTo>
                      <a:pt x="126" y="16"/>
                    </a:lnTo>
                    <a:lnTo>
                      <a:pt x="133" y="16"/>
                    </a:lnTo>
                    <a:lnTo>
                      <a:pt x="146" y="24"/>
                    </a:lnTo>
                    <a:lnTo>
                      <a:pt x="127" y="27"/>
                    </a:lnTo>
                    <a:lnTo>
                      <a:pt x="108" y="32"/>
                    </a:lnTo>
                    <a:lnTo>
                      <a:pt x="84" y="53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6492960" y="2315880"/>
                <a:ext cx="28440" cy="12240"/>
              </a:xfrm>
              <a:custGeom>
                <a:avLst/>
                <a:gdLst/>
                <a:ahLst/>
                <a:rect l="l" t="t" r="r" b="b"/>
                <a:pathLst>
                  <a:path w="53" h="19">
                    <a:moveTo>
                      <a:pt x="17" y="0"/>
                    </a:moveTo>
                    <a:lnTo>
                      <a:pt x="0" y="8"/>
                    </a:lnTo>
                    <a:lnTo>
                      <a:pt x="30" y="19"/>
                    </a:lnTo>
                    <a:lnTo>
                      <a:pt x="53" y="16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3912840" y="1874520"/>
                <a:ext cx="87840" cy="92520"/>
              </a:xfrm>
              <a:custGeom>
                <a:avLst/>
                <a:gdLst/>
                <a:ahLst/>
                <a:rect l="l" t="t" r="r" b="b"/>
                <a:pathLst>
                  <a:path w="169" h="132">
                    <a:moveTo>
                      <a:pt x="138" y="118"/>
                    </a:moveTo>
                    <a:lnTo>
                      <a:pt x="120" y="118"/>
                    </a:lnTo>
                    <a:lnTo>
                      <a:pt x="85" y="132"/>
                    </a:lnTo>
                    <a:lnTo>
                      <a:pt x="92" y="101"/>
                    </a:lnTo>
                    <a:lnTo>
                      <a:pt x="86" y="101"/>
                    </a:lnTo>
                    <a:lnTo>
                      <a:pt x="85" y="89"/>
                    </a:lnTo>
                    <a:lnTo>
                      <a:pt x="72" y="93"/>
                    </a:lnTo>
                    <a:lnTo>
                      <a:pt x="62" y="109"/>
                    </a:lnTo>
                    <a:lnTo>
                      <a:pt x="40" y="117"/>
                    </a:lnTo>
                    <a:lnTo>
                      <a:pt x="33" y="122"/>
                    </a:lnTo>
                    <a:lnTo>
                      <a:pt x="17" y="122"/>
                    </a:lnTo>
                    <a:lnTo>
                      <a:pt x="4" y="125"/>
                    </a:lnTo>
                    <a:lnTo>
                      <a:pt x="0" y="119"/>
                    </a:lnTo>
                    <a:lnTo>
                      <a:pt x="14" y="102"/>
                    </a:lnTo>
                    <a:lnTo>
                      <a:pt x="27" y="85"/>
                    </a:lnTo>
                    <a:lnTo>
                      <a:pt x="27" y="75"/>
                    </a:lnTo>
                    <a:lnTo>
                      <a:pt x="16" y="66"/>
                    </a:lnTo>
                    <a:lnTo>
                      <a:pt x="12" y="55"/>
                    </a:lnTo>
                    <a:lnTo>
                      <a:pt x="46" y="34"/>
                    </a:lnTo>
                    <a:lnTo>
                      <a:pt x="81" y="14"/>
                    </a:lnTo>
                    <a:lnTo>
                      <a:pt x="107" y="0"/>
                    </a:lnTo>
                    <a:lnTo>
                      <a:pt x="135" y="3"/>
                    </a:lnTo>
                    <a:lnTo>
                      <a:pt x="150" y="19"/>
                    </a:lnTo>
                    <a:lnTo>
                      <a:pt x="117" y="27"/>
                    </a:lnTo>
                    <a:lnTo>
                      <a:pt x="84" y="36"/>
                    </a:lnTo>
                    <a:lnTo>
                      <a:pt x="76" y="53"/>
                    </a:lnTo>
                    <a:lnTo>
                      <a:pt x="112" y="59"/>
                    </a:lnTo>
                    <a:lnTo>
                      <a:pt x="148" y="63"/>
                    </a:lnTo>
                    <a:lnTo>
                      <a:pt x="150" y="85"/>
                    </a:lnTo>
                    <a:lnTo>
                      <a:pt x="169" y="88"/>
                    </a:lnTo>
                    <a:lnTo>
                      <a:pt x="167" y="118"/>
                    </a:lnTo>
                    <a:lnTo>
                      <a:pt x="163" y="121"/>
                    </a:lnTo>
                    <a:lnTo>
                      <a:pt x="144" y="118"/>
                    </a:lnTo>
                    <a:lnTo>
                      <a:pt x="138" y="118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3989880" y="1659240"/>
                <a:ext cx="705240" cy="622800"/>
              </a:xfrm>
              <a:custGeom>
                <a:avLst/>
                <a:gdLst/>
                <a:ahLst/>
                <a:rect l="l" t="t" r="r" b="b"/>
                <a:pathLst>
                  <a:path w="1347" h="887">
                    <a:moveTo>
                      <a:pt x="421" y="645"/>
                    </a:moveTo>
                    <a:lnTo>
                      <a:pt x="401" y="661"/>
                    </a:lnTo>
                    <a:lnTo>
                      <a:pt x="379" y="677"/>
                    </a:lnTo>
                    <a:lnTo>
                      <a:pt x="355" y="684"/>
                    </a:lnTo>
                    <a:lnTo>
                      <a:pt x="345" y="677"/>
                    </a:lnTo>
                    <a:lnTo>
                      <a:pt x="313" y="672"/>
                    </a:lnTo>
                    <a:lnTo>
                      <a:pt x="290" y="697"/>
                    </a:lnTo>
                    <a:lnTo>
                      <a:pt x="286" y="675"/>
                    </a:lnTo>
                    <a:lnTo>
                      <a:pt x="274" y="681"/>
                    </a:lnTo>
                    <a:lnTo>
                      <a:pt x="247" y="679"/>
                    </a:lnTo>
                    <a:lnTo>
                      <a:pt x="226" y="677"/>
                    </a:lnTo>
                    <a:lnTo>
                      <a:pt x="205" y="666"/>
                    </a:lnTo>
                    <a:lnTo>
                      <a:pt x="203" y="661"/>
                    </a:lnTo>
                    <a:lnTo>
                      <a:pt x="185" y="652"/>
                    </a:lnTo>
                    <a:lnTo>
                      <a:pt x="180" y="643"/>
                    </a:lnTo>
                    <a:lnTo>
                      <a:pt x="170" y="646"/>
                    </a:lnTo>
                    <a:lnTo>
                      <a:pt x="147" y="623"/>
                    </a:lnTo>
                    <a:lnTo>
                      <a:pt x="133" y="612"/>
                    </a:lnTo>
                    <a:lnTo>
                      <a:pt x="118" y="620"/>
                    </a:lnTo>
                    <a:lnTo>
                      <a:pt x="118" y="619"/>
                    </a:lnTo>
                    <a:lnTo>
                      <a:pt x="101" y="603"/>
                    </a:lnTo>
                    <a:lnTo>
                      <a:pt x="81" y="587"/>
                    </a:lnTo>
                    <a:lnTo>
                      <a:pt x="71" y="584"/>
                    </a:lnTo>
                    <a:lnTo>
                      <a:pt x="72" y="554"/>
                    </a:lnTo>
                    <a:lnTo>
                      <a:pt x="85" y="556"/>
                    </a:lnTo>
                    <a:lnTo>
                      <a:pt x="94" y="545"/>
                    </a:lnTo>
                    <a:lnTo>
                      <a:pt x="87" y="525"/>
                    </a:lnTo>
                    <a:lnTo>
                      <a:pt x="91" y="515"/>
                    </a:lnTo>
                    <a:lnTo>
                      <a:pt x="103" y="511"/>
                    </a:lnTo>
                    <a:lnTo>
                      <a:pt x="111" y="498"/>
                    </a:lnTo>
                    <a:lnTo>
                      <a:pt x="126" y="475"/>
                    </a:lnTo>
                    <a:lnTo>
                      <a:pt x="111" y="468"/>
                    </a:lnTo>
                    <a:lnTo>
                      <a:pt x="93" y="463"/>
                    </a:lnTo>
                    <a:lnTo>
                      <a:pt x="70" y="475"/>
                    </a:lnTo>
                    <a:lnTo>
                      <a:pt x="44" y="466"/>
                    </a:lnTo>
                    <a:lnTo>
                      <a:pt x="31" y="459"/>
                    </a:lnTo>
                    <a:lnTo>
                      <a:pt x="29" y="440"/>
                    </a:lnTo>
                    <a:lnTo>
                      <a:pt x="6" y="433"/>
                    </a:lnTo>
                    <a:lnTo>
                      <a:pt x="8" y="427"/>
                    </a:lnTo>
                    <a:lnTo>
                      <a:pt x="15" y="429"/>
                    </a:lnTo>
                    <a:lnTo>
                      <a:pt x="19" y="426"/>
                    </a:lnTo>
                    <a:lnTo>
                      <a:pt x="21" y="396"/>
                    </a:lnTo>
                    <a:lnTo>
                      <a:pt x="2" y="393"/>
                    </a:lnTo>
                    <a:lnTo>
                      <a:pt x="0" y="371"/>
                    </a:lnTo>
                    <a:lnTo>
                      <a:pt x="19" y="351"/>
                    </a:lnTo>
                    <a:lnTo>
                      <a:pt x="41" y="341"/>
                    </a:lnTo>
                    <a:lnTo>
                      <a:pt x="51" y="341"/>
                    </a:lnTo>
                    <a:lnTo>
                      <a:pt x="62" y="344"/>
                    </a:lnTo>
                    <a:lnTo>
                      <a:pt x="88" y="327"/>
                    </a:lnTo>
                    <a:lnTo>
                      <a:pt x="114" y="321"/>
                    </a:lnTo>
                    <a:lnTo>
                      <a:pt x="140" y="308"/>
                    </a:lnTo>
                    <a:lnTo>
                      <a:pt x="165" y="293"/>
                    </a:lnTo>
                    <a:lnTo>
                      <a:pt x="167" y="280"/>
                    </a:lnTo>
                    <a:lnTo>
                      <a:pt x="176" y="275"/>
                    </a:lnTo>
                    <a:lnTo>
                      <a:pt x="179" y="270"/>
                    </a:lnTo>
                    <a:lnTo>
                      <a:pt x="180" y="250"/>
                    </a:lnTo>
                    <a:lnTo>
                      <a:pt x="183" y="230"/>
                    </a:lnTo>
                    <a:lnTo>
                      <a:pt x="173" y="223"/>
                    </a:lnTo>
                    <a:lnTo>
                      <a:pt x="205" y="214"/>
                    </a:lnTo>
                    <a:lnTo>
                      <a:pt x="232" y="217"/>
                    </a:lnTo>
                    <a:lnTo>
                      <a:pt x="231" y="207"/>
                    </a:lnTo>
                    <a:lnTo>
                      <a:pt x="244" y="184"/>
                    </a:lnTo>
                    <a:lnTo>
                      <a:pt x="258" y="161"/>
                    </a:lnTo>
                    <a:lnTo>
                      <a:pt x="287" y="168"/>
                    </a:lnTo>
                    <a:lnTo>
                      <a:pt x="309" y="165"/>
                    </a:lnTo>
                    <a:lnTo>
                      <a:pt x="319" y="136"/>
                    </a:lnTo>
                    <a:lnTo>
                      <a:pt x="333" y="129"/>
                    </a:lnTo>
                    <a:lnTo>
                      <a:pt x="355" y="112"/>
                    </a:lnTo>
                    <a:lnTo>
                      <a:pt x="372" y="111"/>
                    </a:lnTo>
                    <a:lnTo>
                      <a:pt x="371" y="113"/>
                    </a:lnTo>
                    <a:lnTo>
                      <a:pt x="373" y="123"/>
                    </a:lnTo>
                    <a:lnTo>
                      <a:pt x="392" y="142"/>
                    </a:lnTo>
                    <a:lnTo>
                      <a:pt x="407" y="147"/>
                    </a:lnTo>
                    <a:lnTo>
                      <a:pt x="422" y="168"/>
                    </a:lnTo>
                    <a:lnTo>
                      <a:pt x="415" y="190"/>
                    </a:lnTo>
                    <a:lnTo>
                      <a:pt x="408" y="211"/>
                    </a:lnTo>
                    <a:lnTo>
                      <a:pt x="431" y="216"/>
                    </a:lnTo>
                    <a:lnTo>
                      <a:pt x="453" y="220"/>
                    </a:lnTo>
                    <a:lnTo>
                      <a:pt x="479" y="230"/>
                    </a:lnTo>
                    <a:lnTo>
                      <a:pt x="503" y="240"/>
                    </a:lnTo>
                    <a:lnTo>
                      <a:pt x="510" y="260"/>
                    </a:lnTo>
                    <a:lnTo>
                      <a:pt x="517" y="280"/>
                    </a:lnTo>
                    <a:lnTo>
                      <a:pt x="546" y="282"/>
                    </a:lnTo>
                    <a:lnTo>
                      <a:pt x="576" y="285"/>
                    </a:lnTo>
                    <a:lnTo>
                      <a:pt x="605" y="286"/>
                    </a:lnTo>
                    <a:lnTo>
                      <a:pt x="634" y="288"/>
                    </a:lnTo>
                    <a:lnTo>
                      <a:pt x="638" y="295"/>
                    </a:lnTo>
                    <a:lnTo>
                      <a:pt x="663" y="301"/>
                    </a:lnTo>
                    <a:lnTo>
                      <a:pt x="686" y="305"/>
                    </a:lnTo>
                    <a:lnTo>
                      <a:pt x="699" y="312"/>
                    </a:lnTo>
                    <a:lnTo>
                      <a:pt x="720" y="302"/>
                    </a:lnTo>
                    <a:lnTo>
                      <a:pt x="742" y="292"/>
                    </a:lnTo>
                    <a:lnTo>
                      <a:pt x="769" y="291"/>
                    </a:lnTo>
                    <a:lnTo>
                      <a:pt x="797" y="289"/>
                    </a:lnTo>
                    <a:lnTo>
                      <a:pt x="827" y="272"/>
                    </a:lnTo>
                    <a:lnTo>
                      <a:pt x="857" y="256"/>
                    </a:lnTo>
                    <a:lnTo>
                      <a:pt x="850" y="242"/>
                    </a:lnTo>
                    <a:lnTo>
                      <a:pt x="863" y="217"/>
                    </a:lnTo>
                    <a:lnTo>
                      <a:pt x="888" y="226"/>
                    </a:lnTo>
                    <a:lnTo>
                      <a:pt x="916" y="214"/>
                    </a:lnTo>
                    <a:lnTo>
                      <a:pt x="942" y="208"/>
                    </a:lnTo>
                    <a:lnTo>
                      <a:pt x="960" y="190"/>
                    </a:lnTo>
                    <a:lnTo>
                      <a:pt x="993" y="177"/>
                    </a:lnTo>
                    <a:lnTo>
                      <a:pt x="1029" y="178"/>
                    </a:lnTo>
                    <a:lnTo>
                      <a:pt x="1033" y="164"/>
                    </a:lnTo>
                    <a:lnTo>
                      <a:pt x="1003" y="139"/>
                    </a:lnTo>
                    <a:lnTo>
                      <a:pt x="984" y="151"/>
                    </a:lnTo>
                    <a:lnTo>
                      <a:pt x="980" y="147"/>
                    </a:lnTo>
                    <a:lnTo>
                      <a:pt x="957" y="147"/>
                    </a:lnTo>
                    <a:lnTo>
                      <a:pt x="945" y="136"/>
                    </a:lnTo>
                    <a:lnTo>
                      <a:pt x="952" y="134"/>
                    </a:lnTo>
                    <a:lnTo>
                      <a:pt x="964" y="113"/>
                    </a:lnTo>
                    <a:lnTo>
                      <a:pt x="975" y="92"/>
                    </a:lnTo>
                    <a:lnTo>
                      <a:pt x="1003" y="99"/>
                    </a:lnTo>
                    <a:lnTo>
                      <a:pt x="1030" y="82"/>
                    </a:lnTo>
                    <a:lnTo>
                      <a:pt x="1039" y="62"/>
                    </a:lnTo>
                    <a:lnTo>
                      <a:pt x="1065" y="30"/>
                    </a:lnTo>
                    <a:lnTo>
                      <a:pt x="1057" y="20"/>
                    </a:lnTo>
                    <a:lnTo>
                      <a:pt x="1050" y="17"/>
                    </a:lnTo>
                    <a:lnTo>
                      <a:pt x="1079" y="3"/>
                    </a:lnTo>
                    <a:lnTo>
                      <a:pt x="1106" y="1"/>
                    </a:lnTo>
                    <a:lnTo>
                      <a:pt x="1132" y="0"/>
                    </a:lnTo>
                    <a:lnTo>
                      <a:pt x="1173" y="17"/>
                    </a:lnTo>
                    <a:lnTo>
                      <a:pt x="1180" y="36"/>
                    </a:lnTo>
                    <a:lnTo>
                      <a:pt x="1186" y="54"/>
                    </a:lnTo>
                    <a:lnTo>
                      <a:pt x="1193" y="72"/>
                    </a:lnTo>
                    <a:lnTo>
                      <a:pt x="1200" y="90"/>
                    </a:lnTo>
                    <a:lnTo>
                      <a:pt x="1216" y="100"/>
                    </a:lnTo>
                    <a:lnTo>
                      <a:pt x="1248" y="111"/>
                    </a:lnTo>
                    <a:lnTo>
                      <a:pt x="1263" y="119"/>
                    </a:lnTo>
                    <a:lnTo>
                      <a:pt x="1271" y="149"/>
                    </a:lnTo>
                    <a:lnTo>
                      <a:pt x="1305" y="144"/>
                    </a:lnTo>
                    <a:lnTo>
                      <a:pt x="1347" y="134"/>
                    </a:lnTo>
                    <a:lnTo>
                      <a:pt x="1344" y="155"/>
                    </a:lnTo>
                    <a:lnTo>
                      <a:pt x="1327" y="187"/>
                    </a:lnTo>
                    <a:lnTo>
                      <a:pt x="1308" y="219"/>
                    </a:lnTo>
                    <a:lnTo>
                      <a:pt x="1284" y="214"/>
                    </a:lnTo>
                    <a:lnTo>
                      <a:pt x="1271" y="229"/>
                    </a:lnTo>
                    <a:lnTo>
                      <a:pt x="1271" y="252"/>
                    </a:lnTo>
                    <a:lnTo>
                      <a:pt x="1271" y="276"/>
                    </a:lnTo>
                    <a:lnTo>
                      <a:pt x="1258" y="282"/>
                    </a:lnTo>
                    <a:lnTo>
                      <a:pt x="1259" y="289"/>
                    </a:lnTo>
                    <a:lnTo>
                      <a:pt x="1243" y="275"/>
                    </a:lnTo>
                    <a:lnTo>
                      <a:pt x="1235" y="289"/>
                    </a:lnTo>
                    <a:lnTo>
                      <a:pt x="1213" y="301"/>
                    </a:lnTo>
                    <a:lnTo>
                      <a:pt x="1204" y="302"/>
                    </a:lnTo>
                    <a:lnTo>
                      <a:pt x="1204" y="316"/>
                    </a:lnTo>
                    <a:lnTo>
                      <a:pt x="1183" y="309"/>
                    </a:lnTo>
                    <a:lnTo>
                      <a:pt x="1170" y="314"/>
                    </a:lnTo>
                    <a:lnTo>
                      <a:pt x="1142" y="337"/>
                    </a:lnTo>
                    <a:lnTo>
                      <a:pt x="1121" y="351"/>
                    </a:lnTo>
                    <a:lnTo>
                      <a:pt x="1106" y="358"/>
                    </a:lnTo>
                    <a:lnTo>
                      <a:pt x="1088" y="368"/>
                    </a:lnTo>
                    <a:lnTo>
                      <a:pt x="1069" y="378"/>
                    </a:lnTo>
                    <a:lnTo>
                      <a:pt x="1047" y="384"/>
                    </a:lnTo>
                    <a:lnTo>
                      <a:pt x="1065" y="370"/>
                    </a:lnTo>
                    <a:lnTo>
                      <a:pt x="1053" y="364"/>
                    </a:lnTo>
                    <a:lnTo>
                      <a:pt x="1073" y="338"/>
                    </a:lnTo>
                    <a:lnTo>
                      <a:pt x="1065" y="331"/>
                    </a:lnTo>
                    <a:lnTo>
                      <a:pt x="1047" y="334"/>
                    </a:lnTo>
                    <a:lnTo>
                      <a:pt x="1027" y="351"/>
                    </a:lnTo>
                    <a:lnTo>
                      <a:pt x="1007" y="368"/>
                    </a:lnTo>
                    <a:lnTo>
                      <a:pt x="985" y="378"/>
                    </a:lnTo>
                    <a:lnTo>
                      <a:pt x="973" y="380"/>
                    </a:lnTo>
                    <a:lnTo>
                      <a:pt x="971" y="399"/>
                    </a:lnTo>
                    <a:lnTo>
                      <a:pt x="998" y="407"/>
                    </a:lnTo>
                    <a:lnTo>
                      <a:pt x="998" y="429"/>
                    </a:lnTo>
                    <a:lnTo>
                      <a:pt x="1017" y="426"/>
                    </a:lnTo>
                    <a:lnTo>
                      <a:pt x="1042" y="413"/>
                    </a:lnTo>
                    <a:lnTo>
                      <a:pt x="1065" y="423"/>
                    </a:lnTo>
                    <a:lnTo>
                      <a:pt x="1078" y="426"/>
                    </a:lnTo>
                    <a:lnTo>
                      <a:pt x="1072" y="439"/>
                    </a:lnTo>
                    <a:lnTo>
                      <a:pt x="1059" y="437"/>
                    </a:lnTo>
                    <a:lnTo>
                      <a:pt x="1040" y="448"/>
                    </a:lnTo>
                    <a:lnTo>
                      <a:pt x="1026" y="459"/>
                    </a:lnTo>
                    <a:lnTo>
                      <a:pt x="1017" y="468"/>
                    </a:lnTo>
                    <a:lnTo>
                      <a:pt x="1000" y="495"/>
                    </a:lnTo>
                    <a:lnTo>
                      <a:pt x="1024" y="515"/>
                    </a:lnTo>
                    <a:lnTo>
                      <a:pt x="1032" y="535"/>
                    </a:lnTo>
                    <a:lnTo>
                      <a:pt x="1039" y="556"/>
                    </a:lnTo>
                    <a:lnTo>
                      <a:pt x="1055" y="579"/>
                    </a:lnTo>
                    <a:lnTo>
                      <a:pt x="1023" y="567"/>
                    </a:lnTo>
                    <a:lnTo>
                      <a:pt x="1023" y="570"/>
                    </a:lnTo>
                    <a:lnTo>
                      <a:pt x="1039" y="584"/>
                    </a:lnTo>
                    <a:lnTo>
                      <a:pt x="1055" y="597"/>
                    </a:lnTo>
                    <a:lnTo>
                      <a:pt x="1027" y="613"/>
                    </a:lnTo>
                    <a:lnTo>
                      <a:pt x="1019" y="618"/>
                    </a:lnTo>
                    <a:lnTo>
                      <a:pt x="1030" y="620"/>
                    </a:lnTo>
                    <a:lnTo>
                      <a:pt x="1045" y="619"/>
                    </a:lnTo>
                    <a:lnTo>
                      <a:pt x="1057" y="628"/>
                    </a:lnTo>
                    <a:lnTo>
                      <a:pt x="1046" y="638"/>
                    </a:lnTo>
                    <a:lnTo>
                      <a:pt x="1055" y="638"/>
                    </a:lnTo>
                    <a:lnTo>
                      <a:pt x="1052" y="642"/>
                    </a:lnTo>
                    <a:lnTo>
                      <a:pt x="1043" y="648"/>
                    </a:lnTo>
                    <a:lnTo>
                      <a:pt x="1045" y="652"/>
                    </a:lnTo>
                    <a:lnTo>
                      <a:pt x="1045" y="659"/>
                    </a:lnTo>
                    <a:lnTo>
                      <a:pt x="1040" y="659"/>
                    </a:lnTo>
                    <a:lnTo>
                      <a:pt x="1045" y="669"/>
                    </a:lnTo>
                    <a:lnTo>
                      <a:pt x="1037" y="671"/>
                    </a:lnTo>
                    <a:lnTo>
                      <a:pt x="1023" y="677"/>
                    </a:lnTo>
                    <a:lnTo>
                      <a:pt x="1026" y="685"/>
                    </a:lnTo>
                    <a:lnTo>
                      <a:pt x="1017" y="698"/>
                    </a:lnTo>
                    <a:lnTo>
                      <a:pt x="1004" y="718"/>
                    </a:lnTo>
                    <a:lnTo>
                      <a:pt x="998" y="720"/>
                    </a:lnTo>
                    <a:lnTo>
                      <a:pt x="1003" y="724"/>
                    </a:lnTo>
                    <a:lnTo>
                      <a:pt x="990" y="731"/>
                    </a:lnTo>
                    <a:lnTo>
                      <a:pt x="988" y="730"/>
                    </a:lnTo>
                    <a:lnTo>
                      <a:pt x="998" y="734"/>
                    </a:lnTo>
                    <a:lnTo>
                      <a:pt x="996" y="749"/>
                    </a:lnTo>
                    <a:lnTo>
                      <a:pt x="988" y="747"/>
                    </a:lnTo>
                    <a:lnTo>
                      <a:pt x="987" y="753"/>
                    </a:lnTo>
                    <a:lnTo>
                      <a:pt x="980" y="759"/>
                    </a:lnTo>
                    <a:lnTo>
                      <a:pt x="977" y="762"/>
                    </a:lnTo>
                    <a:lnTo>
                      <a:pt x="973" y="770"/>
                    </a:lnTo>
                    <a:lnTo>
                      <a:pt x="961" y="773"/>
                    </a:lnTo>
                    <a:lnTo>
                      <a:pt x="957" y="776"/>
                    </a:lnTo>
                    <a:lnTo>
                      <a:pt x="958" y="780"/>
                    </a:lnTo>
                    <a:lnTo>
                      <a:pt x="949" y="789"/>
                    </a:lnTo>
                    <a:lnTo>
                      <a:pt x="926" y="805"/>
                    </a:lnTo>
                    <a:lnTo>
                      <a:pt x="928" y="808"/>
                    </a:lnTo>
                    <a:lnTo>
                      <a:pt x="918" y="815"/>
                    </a:lnTo>
                    <a:lnTo>
                      <a:pt x="903" y="816"/>
                    </a:lnTo>
                    <a:lnTo>
                      <a:pt x="900" y="818"/>
                    </a:lnTo>
                    <a:lnTo>
                      <a:pt x="898" y="821"/>
                    </a:lnTo>
                    <a:lnTo>
                      <a:pt x="886" y="822"/>
                    </a:lnTo>
                    <a:lnTo>
                      <a:pt x="882" y="821"/>
                    </a:lnTo>
                    <a:lnTo>
                      <a:pt x="875" y="825"/>
                    </a:lnTo>
                    <a:lnTo>
                      <a:pt x="872" y="829"/>
                    </a:lnTo>
                    <a:lnTo>
                      <a:pt x="864" y="828"/>
                    </a:lnTo>
                    <a:lnTo>
                      <a:pt x="857" y="811"/>
                    </a:lnTo>
                    <a:lnTo>
                      <a:pt x="850" y="816"/>
                    </a:lnTo>
                    <a:lnTo>
                      <a:pt x="850" y="835"/>
                    </a:lnTo>
                    <a:lnTo>
                      <a:pt x="846" y="829"/>
                    </a:lnTo>
                    <a:lnTo>
                      <a:pt x="844" y="839"/>
                    </a:lnTo>
                    <a:lnTo>
                      <a:pt x="840" y="838"/>
                    </a:lnTo>
                    <a:lnTo>
                      <a:pt x="830" y="847"/>
                    </a:lnTo>
                    <a:lnTo>
                      <a:pt x="826" y="841"/>
                    </a:lnTo>
                    <a:lnTo>
                      <a:pt x="821" y="845"/>
                    </a:lnTo>
                    <a:lnTo>
                      <a:pt x="814" y="845"/>
                    </a:lnTo>
                    <a:lnTo>
                      <a:pt x="798" y="854"/>
                    </a:lnTo>
                    <a:lnTo>
                      <a:pt x="784" y="858"/>
                    </a:lnTo>
                    <a:lnTo>
                      <a:pt x="780" y="859"/>
                    </a:lnTo>
                    <a:lnTo>
                      <a:pt x="775" y="872"/>
                    </a:lnTo>
                    <a:lnTo>
                      <a:pt x="778" y="887"/>
                    </a:lnTo>
                    <a:lnTo>
                      <a:pt x="765" y="884"/>
                    </a:lnTo>
                    <a:lnTo>
                      <a:pt x="765" y="858"/>
                    </a:lnTo>
                    <a:lnTo>
                      <a:pt x="761" y="852"/>
                    </a:lnTo>
                    <a:lnTo>
                      <a:pt x="749" y="852"/>
                    </a:lnTo>
                    <a:lnTo>
                      <a:pt x="742" y="849"/>
                    </a:lnTo>
                    <a:lnTo>
                      <a:pt x="735" y="845"/>
                    </a:lnTo>
                    <a:lnTo>
                      <a:pt x="732" y="849"/>
                    </a:lnTo>
                    <a:lnTo>
                      <a:pt x="722" y="852"/>
                    </a:lnTo>
                    <a:lnTo>
                      <a:pt x="702" y="844"/>
                    </a:lnTo>
                    <a:lnTo>
                      <a:pt x="693" y="835"/>
                    </a:lnTo>
                    <a:lnTo>
                      <a:pt x="693" y="818"/>
                    </a:lnTo>
                    <a:lnTo>
                      <a:pt x="667" y="808"/>
                    </a:lnTo>
                    <a:lnTo>
                      <a:pt x="657" y="806"/>
                    </a:lnTo>
                    <a:lnTo>
                      <a:pt x="640" y="822"/>
                    </a:lnTo>
                    <a:lnTo>
                      <a:pt x="631" y="822"/>
                    </a:lnTo>
                    <a:lnTo>
                      <a:pt x="627" y="823"/>
                    </a:lnTo>
                    <a:lnTo>
                      <a:pt x="621" y="823"/>
                    </a:lnTo>
                    <a:lnTo>
                      <a:pt x="612" y="823"/>
                    </a:lnTo>
                    <a:lnTo>
                      <a:pt x="605" y="828"/>
                    </a:lnTo>
                    <a:lnTo>
                      <a:pt x="594" y="823"/>
                    </a:lnTo>
                    <a:lnTo>
                      <a:pt x="587" y="829"/>
                    </a:lnTo>
                    <a:lnTo>
                      <a:pt x="575" y="831"/>
                    </a:lnTo>
                    <a:lnTo>
                      <a:pt x="574" y="862"/>
                    </a:lnTo>
                    <a:lnTo>
                      <a:pt x="565" y="857"/>
                    </a:lnTo>
                    <a:lnTo>
                      <a:pt x="562" y="852"/>
                    </a:lnTo>
                    <a:lnTo>
                      <a:pt x="556" y="849"/>
                    </a:lnTo>
                    <a:lnTo>
                      <a:pt x="539" y="854"/>
                    </a:lnTo>
                    <a:lnTo>
                      <a:pt x="530" y="838"/>
                    </a:lnTo>
                    <a:lnTo>
                      <a:pt x="519" y="834"/>
                    </a:lnTo>
                    <a:lnTo>
                      <a:pt x="526" y="811"/>
                    </a:lnTo>
                    <a:lnTo>
                      <a:pt x="513" y="805"/>
                    </a:lnTo>
                    <a:lnTo>
                      <a:pt x="510" y="786"/>
                    </a:lnTo>
                    <a:lnTo>
                      <a:pt x="510" y="783"/>
                    </a:lnTo>
                    <a:lnTo>
                      <a:pt x="484" y="786"/>
                    </a:lnTo>
                    <a:lnTo>
                      <a:pt x="486" y="775"/>
                    </a:lnTo>
                    <a:lnTo>
                      <a:pt x="487" y="763"/>
                    </a:lnTo>
                    <a:lnTo>
                      <a:pt x="503" y="744"/>
                    </a:lnTo>
                    <a:lnTo>
                      <a:pt x="510" y="733"/>
                    </a:lnTo>
                    <a:lnTo>
                      <a:pt x="513" y="711"/>
                    </a:lnTo>
                    <a:lnTo>
                      <a:pt x="515" y="690"/>
                    </a:lnTo>
                    <a:lnTo>
                      <a:pt x="506" y="684"/>
                    </a:lnTo>
                    <a:lnTo>
                      <a:pt x="493" y="664"/>
                    </a:lnTo>
                    <a:lnTo>
                      <a:pt x="487" y="672"/>
                    </a:lnTo>
                    <a:lnTo>
                      <a:pt x="464" y="664"/>
                    </a:lnTo>
                    <a:lnTo>
                      <a:pt x="468" y="652"/>
                    </a:lnTo>
                    <a:lnTo>
                      <a:pt x="461" y="649"/>
                    </a:lnTo>
                    <a:lnTo>
                      <a:pt x="464" y="645"/>
                    </a:lnTo>
                    <a:lnTo>
                      <a:pt x="455" y="641"/>
                    </a:lnTo>
                    <a:lnTo>
                      <a:pt x="440" y="648"/>
                    </a:lnTo>
                    <a:lnTo>
                      <a:pt x="421" y="645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4374720" y="2288160"/>
                <a:ext cx="29880" cy="33840"/>
              </a:xfrm>
              <a:custGeom>
                <a:avLst/>
                <a:gdLst/>
                <a:ahLst/>
                <a:rect l="l" t="t" r="r" b="b"/>
                <a:pathLst>
                  <a:path w="56" h="48">
                    <a:moveTo>
                      <a:pt x="45" y="0"/>
                    </a:moveTo>
                    <a:lnTo>
                      <a:pt x="20" y="4"/>
                    </a:lnTo>
                    <a:lnTo>
                      <a:pt x="3" y="16"/>
                    </a:lnTo>
                    <a:lnTo>
                      <a:pt x="0" y="37"/>
                    </a:lnTo>
                    <a:lnTo>
                      <a:pt x="18" y="48"/>
                    </a:lnTo>
                    <a:lnTo>
                      <a:pt x="26" y="45"/>
                    </a:lnTo>
                    <a:lnTo>
                      <a:pt x="44" y="27"/>
                    </a:lnTo>
                    <a:lnTo>
                      <a:pt x="56" y="10"/>
                    </a:lnTo>
                    <a:lnTo>
                      <a:pt x="55" y="1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651200" y="1880640"/>
                <a:ext cx="130320" cy="151920"/>
              </a:xfrm>
              <a:custGeom>
                <a:avLst/>
                <a:gdLst/>
                <a:ahLst/>
                <a:rect l="l" t="t" r="r" b="b"/>
                <a:pathLst>
                  <a:path w="249" h="216">
                    <a:moveTo>
                      <a:pt x="204" y="161"/>
                    </a:moveTo>
                    <a:lnTo>
                      <a:pt x="202" y="156"/>
                    </a:lnTo>
                    <a:lnTo>
                      <a:pt x="197" y="167"/>
                    </a:lnTo>
                    <a:lnTo>
                      <a:pt x="184" y="173"/>
                    </a:lnTo>
                    <a:lnTo>
                      <a:pt x="177" y="183"/>
                    </a:lnTo>
                    <a:lnTo>
                      <a:pt x="177" y="170"/>
                    </a:lnTo>
                    <a:lnTo>
                      <a:pt x="166" y="184"/>
                    </a:lnTo>
                    <a:lnTo>
                      <a:pt x="143" y="183"/>
                    </a:lnTo>
                    <a:lnTo>
                      <a:pt x="135" y="180"/>
                    </a:lnTo>
                    <a:lnTo>
                      <a:pt x="131" y="173"/>
                    </a:lnTo>
                    <a:lnTo>
                      <a:pt x="131" y="186"/>
                    </a:lnTo>
                    <a:lnTo>
                      <a:pt x="132" y="193"/>
                    </a:lnTo>
                    <a:lnTo>
                      <a:pt x="118" y="205"/>
                    </a:lnTo>
                    <a:lnTo>
                      <a:pt x="111" y="216"/>
                    </a:lnTo>
                    <a:lnTo>
                      <a:pt x="95" y="199"/>
                    </a:lnTo>
                    <a:lnTo>
                      <a:pt x="101" y="182"/>
                    </a:lnTo>
                    <a:lnTo>
                      <a:pt x="72" y="184"/>
                    </a:lnTo>
                    <a:lnTo>
                      <a:pt x="37" y="192"/>
                    </a:lnTo>
                    <a:lnTo>
                      <a:pt x="24" y="203"/>
                    </a:lnTo>
                    <a:lnTo>
                      <a:pt x="0" y="197"/>
                    </a:lnTo>
                    <a:lnTo>
                      <a:pt x="7" y="189"/>
                    </a:lnTo>
                    <a:lnTo>
                      <a:pt x="30" y="174"/>
                    </a:lnTo>
                    <a:lnTo>
                      <a:pt x="52" y="158"/>
                    </a:lnTo>
                    <a:lnTo>
                      <a:pt x="75" y="157"/>
                    </a:lnTo>
                    <a:lnTo>
                      <a:pt x="99" y="156"/>
                    </a:lnTo>
                    <a:lnTo>
                      <a:pt x="102" y="158"/>
                    </a:lnTo>
                    <a:lnTo>
                      <a:pt x="118" y="153"/>
                    </a:lnTo>
                    <a:lnTo>
                      <a:pt x="122" y="138"/>
                    </a:lnTo>
                    <a:lnTo>
                      <a:pt x="131" y="117"/>
                    </a:lnTo>
                    <a:lnTo>
                      <a:pt x="144" y="110"/>
                    </a:lnTo>
                    <a:lnTo>
                      <a:pt x="138" y="117"/>
                    </a:lnTo>
                    <a:lnTo>
                      <a:pt x="143" y="127"/>
                    </a:lnTo>
                    <a:lnTo>
                      <a:pt x="158" y="115"/>
                    </a:lnTo>
                    <a:lnTo>
                      <a:pt x="176" y="104"/>
                    </a:lnTo>
                    <a:lnTo>
                      <a:pt x="189" y="84"/>
                    </a:lnTo>
                    <a:lnTo>
                      <a:pt x="200" y="63"/>
                    </a:lnTo>
                    <a:lnTo>
                      <a:pt x="199" y="43"/>
                    </a:lnTo>
                    <a:lnTo>
                      <a:pt x="204" y="19"/>
                    </a:lnTo>
                    <a:lnTo>
                      <a:pt x="215" y="6"/>
                    </a:lnTo>
                    <a:lnTo>
                      <a:pt x="220" y="14"/>
                    </a:lnTo>
                    <a:lnTo>
                      <a:pt x="229" y="10"/>
                    </a:lnTo>
                    <a:lnTo>
                      <a:pt x="229" y="6"/>
                    </a:lnTo>
                    <a:lnTo>
                      <a:pt x="219" y="6"/>
                    </a:lnTo>
                    <a:lnTo>
                      <a:pt x="226" y="0"/>
                    </a:lnTo>
                    <a:lnTo>
                      <a:pt x="233" y="3"/>
                    </a:lnTo>
                    <a:lnTo>
                      <a:pt x="239" y="27"/>
                    </a:lnTo>
                    <a:lnTo>
                      <a:pt x="249" y="50"/>
                    </a:lnTo>
                    <a:lnTo>
                      <a:pt x="235" y="82"/>
                    </a:lnTo>
                    <a:lnTo>
                      <a:pt x="225" y="92"/>
                    </a:lnTo>
                    <a:lnTo>
                      <a:pt x="222" y="125"/>
                    </a:lnTo>
                    <a:lnTo>
                      <a:pt x="223" y="153"/>
                    </a:lnTo>
                    <a:lnTo>
                      <a:pt x="202" y="176"/>
                    </a:lnTo>
                    <a:lnTo>
                      <a:pt x="204" y="161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4754880" y="1804680"/>
                <a:ext cx="63000" cy="75960"/>
              </a:xfrm>
              <a:custGeom>
                <a:avLst/>
                <a:gdLst/>
                <a:ahLst/>
                <a:rect l="l" t="t" r="r" b="b"/>
                <a:pathLst>
                  <a:path w="121" h="108">
                    <a:moveTo>
                      <a:pt x="106" y="40"/>
                    </a:moveTo>
                    <a:lnTo>
                      <a:pt x="88" y="36"/>
                    </a:lnTo>
                    <a:lnTo>
                      <a:pt x="65" y="17"/>
                    </a:lnTo>
                    <a:lnTo>
                      <a:pt x="41" y="0"/>
                    </a:lnTo>
                    <a:lnTo>
                      <a:pt x="37" y="14"/>
                    </a:lnTo>
                    <a:lnTo>
                      <a:pt x="34" y="36"/>
                    </a:lnTo>
                    <a:lnTo>
                      <a:pt x="33" y="59"/>
                    </a:lnTo>
                    <a:lnTo>
                      <a:pt x="17" y="59"/>
                    </a:lnTo>
                    <a:lnTo>
                      <a:pt x="11" y="62"/>
                    </a:lnTo>
                    <a:lnTo>
                      <a:pt x="5" y="73"/>
                    </a:lnTo>
                    <a:lnTo>
                      <a:pt x="0" y="88"/>
                    </a:lnTo>
                    <a:lnTo>
                      <a:pt x="4" y="108"/>
                    </a:lnTo>
                    <a:lnTo>
                      <a:pt x="13" y="104"/>
                    </a:lnTo>
                    <a:lnTo>
                      <a:pt x="26" y="101"/>
                    </a:lnTo>
                    <a:lnTo>
                      <a:pt x="8" y="84"/>
                    </a:lnTo>
                    <a:lnTo>
                      <a:pt x="21" y="82"/>
                    </a:lnTo>
                    <a:lnTo>
                      <a:pt x="33" y="78"/>
                    </a:lnTo>
                    <a:lnTo>
                      <a:pt x="70" y="92"/>
                    </a:lnTo>
                    <a:lnTo>
                      <a:pt x="75" y="85"/>
                    </a:lnTo>
                    <a:lnTo>
                      <a:pt x="98" y="68"/>
                    </a:lnTo>
                    <a:lnTo>
                      <a:pt x="121" y="59"/>
                    </a:lnTo>
                    <a:lnTo>
                      <a:pt x="115" y="50"/>
                    </a:lnTo>
                    <a:lnTo>
                      <a:pt x="118" y="33"/>
                    </a:lnTo>
                    <a:lnTo>
                      <a:pt x="106" y="4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635720" y="2022480"/>
                <a:ext cx="28440" cy="52560"/>
              </a:xfrm>
              <a:custGeom>
                <a:avLst/>
                <a:gdLst/>
                <a:ahLst/>
                <a:rect l="l" t="t" r="r" b="b"/>
                <a:pathLst>
                  <a:path w="55" h="75">
                    <a:moveTo>
                      <a:pt x="55" y="26"/>
                    </a:moveTo>
                    <a:lnTo>
                      <a:pt x="45" y="46"/>
                    </a:lnTo>
                    <a:lnTo>
                      <a:pt x="35" y="66"/>
                    </a:lnTo>
                    <a:lnTo>
                      <a:pt x="25" y="75"/>
                    </a:lnTo>
                    <a:lnTo>
                      <a:pt x="22" y="59"/>
                    </a:lnTo>
                    <a:lnTo>
                      <a:pt x="19" y="72"/>
                    </a:lnTo>
                    <a:lnTo>
                      <a:pt x="15" y="66"/>
                    </a:lnTo>
                    <a:lnTo>
                      <a:pt x="16" y="46"/>
                    </a:lnTo>
                    <a:lnTo>
                      <a:pt x="22" y="35"/>
                    </a:lnTo>
                    <a:lnTo>
                      <a:pt x="12" y="22"/>
                    </a:lnTo>
                    <a:lnTo>
                      <a:pt x="13" y="35"/>
                    </a:lnTo>
                    <a:lnTo>
                      <a:pt x="5" y="35"/>
                    </a:lnTo>
                    <a:lnTo>
                      <a:pt x="5" y="25"/>
                    </a:lnTo>
                    <a:lnTo>
                      <a:pt x="7" y="25"/>
                    </a:lnTo>
                    <a:lnTo>
                      <a:pt x="0" y="15"/>
                    </a:lnTo>
                    <a:lnTo>
                      <a:pt x="30" y="0"/>
                    </a:lnTo>
                    <a:lnTo>
                      <a:pt x="42" y="9"/>
                    </a:lnTo>
                    <a:lnTo>
                      <a:pt x="48" y="13"/>
                    </a:lnTo>
                    <a:lnTo>
                      <a:pt x="48" y="17"/>
                    </a:lnTo>
                    <a:lnTo>
                      <a:pt x="55" y="2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4665600" y="2015640"/>
                <a:ext cx="31320" cy="27720"/>
              </a:xfrm>
              <a:custGeom>
                <a:avLst/>
                <a:gdLst/>
                <a:ahLst/>
                <a:rect l="l" t="t" r="r" b="b"/>
                <a:pathLst>
                  <a:path w="59" h="41">
                    <a:moveTo>
                      <a:pt x="43" y="26"/>
                    </a:moveTo>
                    <a:lnTo>
                      <a:pt x="24" y="26"/>
                    </a:lnTo>
                    <a:lnTo>
                      <a:pt x="16" y="41"/>
                    </a:lnTo>
                    <a:lnTo>
                      <a:pt x="7" y="31"/>
                    </a:lnTo>
                    <a:lnTo>
                      <a:pt x="3" y="24"/>
                    </a:lnTo>
                    <a:lnTo>
                      <a:pt x="0" y="24"/>
                    </a:lnTo>
                    <a:lnTo>
                      <a:pt x="20" y="8"/>
                    </a:lnTo>
                    <a:lnTo>
                      <a:pt x="33" y="5"/>
                    </a:lnTo>
                    <a:lnTo>
                      <a:pt x="47" y="0"/>
                    </a:lnTo>
                    <a:lnTo>
                      <a:pt x="55" y="7"/>
                    </a:lnTo>
                    <a:lnTo>
                      <a:pt x="59" y="14"/>
                    </a:lnTo>
                    <a:lnTo>
                      <a:pt x="43" y="2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4610520" y="2157480"/>
                <a:ext cx="7560" cy="1224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0" y="19"/>
                    </a:moveTo>
                    <a:lnTo>
                      <a:pt x="16" y="3"/>
                    </a:lnTo>
                    <a:lnTo>
                      <a:pt x="16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4737960" y="194004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7"/>
                    </a:moveTo>
                    <a:lnTo>
                      <a:pt x="5" y="0"/>
                    </a:lnTo>
                    <a:lnTo>
                      <a:pt x="0" y="9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4638960" y="2049840"/>
                <a:ext cx="2880" cy="396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0"/>
                    </a:moveTo>
                    <a:lnTo>
                      <a:pt x="6" y="4"/>
                    </a:lnTo>
                    <a:lnTo>
                      <a:pt x="0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184640" y="1684440"/>
                <a:ext cx="345600" cy="194040"/>
              </a:xfrm>
              <a:custGeom>
                <a:avLst/>
                <a:gdLst/>
                <a:ahLst/>
                <a:rect l="l" t="t" r="r" b="b"/>
                <a:pathLst>
                  <a:path w="662" h="276">
                    <a:moveTo>
                      <a:pt x="315" y="269"/>
                    </a:moveTo>
                    <a:lnTo>
                      <a:pt x="292" y="265"/>
                    </a:lnTo>
                    <a:lnTo>
                      <a:pt x="267" y="259"/>
                    </a:lnTo>
                    <a:lnTo>
                      <a:pt x="263" y="252"/>
                    </a:lnTo>
                    <a:lnTo>
                      <a:pt x="234" y="250"/>
                    </a:lnTo>
                    <a:lnTo>
                      <a:pt x="205" y="249"/>
                    </a:lnTo>
                    <a:lnTo>
                      <a:pt x="175" y="246"/>
                    </a:lnTo>
                    <a:lnTo>
                      <a:pt x="146" y="244"/>
                    </a:lnTo>
                    <a:lnTo>
                      <a:pt x="139" y="224"/>
                    </a:lnTo>
                    <a:lnTo>
                      <a:pt x="132" y="204"/>
                    </a:lnTo>
                    <a:lnTo>
                      <a:pt x="108" y="194"/>
                    </a:lnTo>
                    <a:lnTo>
                      <a:pt x="82" y="184"/>
                    </a:lnTo>
                    <a:lnTo>
                      <a:pt x="60" y="180"/>
                    </a:lnTo>
                    <a:lnTo>
                      <a:pt x="37" y="175"/>
                    </a:lnTo>
                    <a:lnTo>
                      <a:pt x="44" y="154"/>
                    </a:lnTo>
                    <a:lnTo>
                      <a:pt x="51" y="132"/>
                    </a:lnTo>
                    <a:lnTo>
                      <a:pt x="36" y="111"/>
                    </a:lnTo>
                    <a:lnTo>
                      <a:pt x="21" y="106"/>
                    </a:lnTo>
                    <a:lnTo>
                      <a:pt x="2" y="87"/>
                    </a:lnTo>
                    <a:lnTo>
                      <a:pt x="0" y="77"/>
                    </a:lnTo>
                    <a:lnTo>
                      <a:pt x="1" y="75"/>
                    </a:lnTo>
                    <a:lnTo>
                      <a:pt x="18" y="66"/>
                    </a:lnTo>
                    <a:lnTo>
                      <a:pt x="43" y="57"/>
                    </a:lnTo>
                    <a:lnTo>
                      <a:pt x="73" y="44"/>
                    </a:lnTo>
                    <a:lnTo>
                      <a:pt x="103" y="33"/>
                    </a:lnTo>
                    <a:lnTo>
                      <a:pt x="144" y="37"/>
                    </a:lnTo>
                    <a:lnTo>
                      <a:pt x="144" y="46"/>
                    </a:lnTo>
                    <a:lnTo>
                      <a:pt x="171" y="51"/>
                    </a:lnTo>
                    <a:lnTo>
                      <a:pt x="198" y="57"/>
                    </a:lnTo>
                    <a:lnTo>
                      <a:pt x="224" y="44"/>
                    </a:lnTo>
                    <a:lnTo>
                      <a:pt x="218" y="26"/>
                    </a:lnTo>
                    <a:lnTo>
                      <a:pt x="246" y="0"/>
                    </a:lnTo>
                    <a:lnTo>
                      <a:pt x="276" y="7"/>
                    </a:lnTo>
                    <a:lnTo>
                      <a:pt x="305" y="15"/>
                    </a:lnTo>
                    <a:lnTo>
                      <a:pt x="309" y="30"/>
                    </a:lnTo>
                    <a:lnTo>
                      <a:pt x="328" y="47"/>
                    </a:lnTo>
                    <a:lnTo>
                      <a:pt x="370" y="40"/>
                    </a:lnTo>
                    <a:lnTo>
                      <a:pt x="394" y="46"/>
                    </a:lnTo>
                    <a:lnTo>
                      <a:pt x="419" y="53"/>
                    </a:lnTo>
                    <a:lnTo>
                      <a:pt x="423" y="62"/>
                    </a:lnTo>
                    <a:lnTo>
                      <a:pt x="459" y="73"/>
                    </a:lnTo>
                    <a:lnTo>
                      <a:pt x="488" y="69"/>
                    </a:lnTo>
                    <a:lnTo>
                      <a:pt x="515" y="64"/>
                    </a:lnTo>
                    <a:lnTo>
                      <a:pt x="553" y="46"/>
                    </a:lnTo>
                    <a:lnTo>
                      <a:pt x="586" y="54"/>
                    </a:lnTo>
                    <a:lnTo>
                      <a:pt x="604" y="56"/>
                    </a:lnTo>
                    <a:lnTo>
                      <a:pt x="593" y="77"/>
                    </a:lnTo>
                    <a:lnTo>
                      <a:pt x="581" y="98"/>
                    </a:lnTo>
                    <a:lnTo>
                      <a:pt x="574" y="100"/>
                    </a:lnTo>
                    <a:lnTo>
                      <a:pt x="586" y="111"/>
                    </a:lnTo>
                    <a:lnTo>
                      <a:pt x="609" y="111"/>
                    </a:lnTo>
                    <a:lnTo>
                      <a:pt x="613" y="115"/>
                    </a:lnTo>
                    <a:lnTo>
                      <a:pt x="632" y="103"/>
                    </a:lnTo>
                    <a:lnTo>
                      <a:pt x="662" y="128"/>
                    </a:lnTo>
                    <a:lnTo>
                      <a:pt x="658" y="142"/>
                    </a:lnTo>
                    <a:lnTo>
                      <a:pt x="622" y="141"/>
                    </a:lnTo>
                    <a:lnTo>
                      <a:pt x="589" y="154"/>
                    </a:lnTo>
                    <a:lnTo>
                      <a:pt x="571" y="172"/>
                    </a:lnTo>
                    <a:lnTo>
                      <a:pt x="545" y="178"/>
                    </a:lnTo>
                    <a:lnTo>
                      <a:pt x="517" y="190"/>
                    </a:lnTo>
                    <a:lnTo>
                      <a:pt x="492" y="181"/>
                    </a:lnTo>
                    <a:lnTo>
                      <a:pt x="479" y="206"/>
                    </a:lnTo>
                    <a:lnTo>
                      <a:pt x="486" y="220"/>
                    </a:lnTo>
                    <a:lnTo>
                      <a:pt x="456" y="236"/>
                    </a:lnTo>
                    <a:lnTo>
                      <a:pt x="426" y="253"/>
                    </a:lnTo>
                    <a:lnTo>
                      <a:pt x="398" y="255"/>
                    </a:lnTo>
                    <a:lnTo>
                      <a:pt x="371" y="256"/>
                    </a:lnTo>
                    <a:lnTo>
                      <a:pt x="349" y="266"/>
                    </a:lnTo>
                    <a:lnTo>
                      <a:pt x="328" y="276"/>
                    </a:lnTo>
                    <a:lnTo>
                      <a:pt x="315" y="269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577400" y="1851120"/>
                <a:ext cx="73440" cy="96840"/>
              </a:xfrm>
              <a:custGeom>
                <a:avLst/>
                <a:gdLst/>
                <a:ahLst/>
                <a:rect l="l" t="t" r="r" b="b"/>
                <a:pathLst>
                  <a:path w="141" h="138">
                    <a:moveTo>
                      <a:pt x="20" y="92"/>
                    </a:moveTo>
                    <a:lnTo>
                      <a:pt x="7" y="89"/>
                    </a:lnTo>
                    <a:lnTo>
                      <a:pt x="0" y="76"/>
                    </a:lnTo>
                    <a:lnTo>
                      <a:pt x="21" y="62"/>
                    </a:lnTo>
                    <a:lnTo>
                      <a:pt x="49" y="39"/>
                    </a:lnTo>
                    <a:lnTo>
                      <a:pt x="62" y="34"/>
                    </a:lnTo>
                    <a:lnTo>
                      <a:pt x="83" y="41"/>
                    </a:lnTo>
                    <a:lnTo>
                      <a:pt x="83" y="27"/>
                    </a:lnTo>
                    <a:lnTo>
                      <a:pt x="92" y="26"/>
                    </a:lnTo>
                    <a:lnTo>
                      <a:pt x="114" y="14"/>
                    </a:lnTo>
                    <a:lnTo>
                      <a:pt x="122" y="0"/>
                    </a:lnTo>
                    <a:lnTo>
                      <a:pt x="138" y="14"/>
                    </a:lnTo>
                    <a:lnTo>
                      <a:pt x="141" y="17"/>
                    </a:lnTo>
                    <a:lnTo>
                      <a:pt x="119" y="31"/>
                    </a:lnTo>
                    <a:lnTo>
                      <a:pt x="114" y="57"/>
                    </a:lnTo>
                    <a:lnTo>
                      <a:pt x="92" y="73"/>
                    </a:lnTo>
                    <a:lnTo>
                      <a:pt x="70" y="89"/>
                    </a:lnTo>
                    <a:lnTo>
                      <a:pt x="69" y="102"/>
                    </a:lnTo>
                    <a:lnTo>
                      <a:pt x="86" y="116"/>
                    </a:lnTo>
                    <a:lnTo>
                      <a:pt x="73" y="124"/>
                    </a:lnTo>
                    <a:lnTo>
                      <a:pt x="52" y="132"/>
                    </a:lnTo>
                    <a:lnTo>
                      <a:pt x="49" y="137"/>
                    </a:lnTo>
                    <a:lnTo>
                      <a:pt x="29" y="134"/>
                    </a:lnTo>
                    <a:lnTo>
                      <a:pt x="21" y="138"/>
                    </a:lnTo>
                    <a:lnTo>
                      <a:pt x="14" y="132"/>
                    </a:lnTo>
                    <a:lnTo>
                      <a:pt x="7" y="128"/>
                    </a:lnTo>
                    <a:lnTo>
                      <a:pt x="20" y="115"/>
                    </a:lnTo>
                    <a:lnTo>
                      <a:pt x="23" y="114"/>
                    </a:lnTo>
                    <a:lnTo>
                      <a:pt x="17" y="108"/>
                    </a:lnTo>
                    <a:lnTo>
                      <a:pt x="20" y="92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3436920" y="3157920"/>
                <a:ext cx="15480" cy="29520"/>
              </a:xfrm>
              <a:custGeom>
                <a:avLst/>
                <a:gdLst/>
                <a:ahLst/>
                <a:rect l="l" t="t" r="r" b="b"/>
                <a:pathLst>
                  <a:path w="30" h="43">
                    <a:moveTo>
                      <a:pt x="7" y="0"/>
                    </a:moveTo>
                    <a:lnTo>
                      <a:pt x="0" y="15"/>
                    </a:lnTo>
                    <a:lnTo>
                      <a:pt x="4" y="35"/>
                    </a:lnTo>
                    <a:lnTo>
                      <a:pt x="30" y="43"/>
                    </a:lnTo>
                    <a:lnTo>
                      <a:pt x="30" y="30"/>
                    </a:lnTo>
                    <a:lnTo>
                      <a:pt x="20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4434480" y="2874960"/>
                <a:ext cx="488520" cy="536040"/>
              </a:xfrm>
              <a:custGeom>
                <a:avLst/>
                <a:gdLst/>
                <a:ahLst/>
                <a:rect l="l" t="t" r="r" b="b"/>
                <a:pathLst>
                  <a:path w="933" h="763">
                    <a:moveTo>
                      <a:pt x="455" y="17"/>
                    </a:moveTo>
                    <a:lnTo>
                      <a:pt x="445" y="16"/>
                    </a:lnTo>
                    <a:lnTo>
                      <a:pt x="438" y="13"/>
                    </a:lnTo>
                    <a:lnTo>
                      <a:pt x="435" y="16"/>
                    </a:lnTo>
                    <a:lnTo>
                      <a:pt x="428" y="14"/>
                    </a:lnTo>
                    <a:lnTo>
                      <a:pt x="439" y="19"/>
                    </a:lnTo>
                    <a:lnTo>
                      <a:pt x="449" y="24"/>
                    </a:lnTo>
                    <a:lnTo>
                      <a:pt x="447" y="36"/>
                    </a:lnTo>
                    <a:lnTo>
                      <a:pt x="439" y="39"/>
                    </a:lnTo>
                    <a:lnTo>
                      <a:pt x="418" y="36"/>
                    </a:lnTo>
                    <a:lnTo>
                      <a:pt x="411" y="40"/>
                    </a:lnTo>
                    <a:lnTo>
                      <a:pt x="405" y="49"/>
                    </a:lnTo>
                    <a:lnTo>
                      <a:pt x="400" y="45"/>
                    </a:lnTo>
                    <a:lnTo>
                      <a:pt x="398" y="50"/>
                    </a:lnTo>
                    <a:lnTo>
                      <a:pt x="390" y="65"/>
                    </a:lnTo>
                    <a:lnTo>
                      <a:pt x="389" y="71"/>
                    </a:lnTo>
                    <a:lnTo>
                      <a:pt x="380" y="79"/>
                    </a:lnTo>
                    <a:lnTo>
                      <a:pt x="373" y="99"/>
                    </a:lnTo>
                    <a:lnTo>
                      <a:pt x="380" y="102"/>
                    </a:lnTo>
                    <a:lnTo>
                      <a:pt x="385" y="107"/>
                    </a:lnTo>
                    <a:lnTo>
                      <a:pt x="379" y="117"/>
                    </a:lnTo>
                    <a:lnTo>
                      <a:pt x="389" y="125"/>
                    </a:lnTo>
                    <a:lnTo>
                      <a:pt x="367" y="111"/>
                    </a:lnTo>
                    <a:lnTo>
                      <a:pt x="366" y="115"/>
                    </a:lnTo>
                    <a:lnTo>
                      <a:pt x="349" y="108"/>
                    </a:lnTo>
                    <a:lnTo>
                      <a:pt x="346" y="122"/>
                    </a:lnTo>
                    <a:lnTo>
                      <a:pt x="341" y="122"/>
                    </a:lnTo>
                    <a:lnTo>
                      <a:pt x="339" y="127"/>
                    </a:lnTo>
                    <a:lnTo>
                      <a:pt x="339" y="120"/>
                    </a:lnTo>
                    <a:lnTo>
                      <a:pt x="341" y="104"/>
                    </a:lnTo>
                    <a:lnTo>
                      <a:pt x="314" y="79"/>
                    </a:lnTo>
                    <a:lnTo>
                      <a:pt x="313" y="85"/>
                    </a:lnTo>
                    <a:lnTo>
                      <a:pt x="303" y="89"/>
                    </a:lnTo>
                    <a:lnTo>
                      <a:pt x="301" y="86"/>
                    </a:lnTo>
                    <a:lnTo>
                      <a:pt x="297" y="89"/>
                    </a:lnTo>
                    <a:lnTo>
                      <a:pt x="291" y="88"/>
                    </a:lnTo>
                    <a:lnTo>
                      <a:pt x="288" y="102"/>
                    </a:lnTo>
                    <a:lnTo>
                      <a:pt x="284" y="96"/>
                    </a:lnTo>
                    <a:lnTo>
                      <a:pt x="272" y="109"/>
                    </a:lnTo>
                    <a:lnTo>
                      <a:pt x="275" y="118"/>
                    </a:lnTo>
                    <a:lnTo>
                      <a:pt x="265" y="115"/>
                    </a:lnTo>
                    <a:lnTo>
                      <a:pt x="272" y="128"/>
                    </a:lnTo>
                    <a:lnTo>
                      <a:pt x="261" y="124"/>
                    </a:lnTo>
                    <a:lnTo>
                      <a:pt x="255" y="135"/>
                    </a:lnTo>
                    <a:lnTo>
                      <a:pt x="258" y="135"/>
                    </a:lnTo>
                    <a:lnTo>
                      <a:pt x="261" y="135"/>
                    </a:lnTo>
                    <a:lnTo>
                      <a:pt x="255" y="143"/>
                    </a:lnTo>
                    <a:lnTo>
                      <a:pt x="256" y="150"/>
                    </a:lnTo>
                    <a:lnTo>
                      <a:pt x="262" y="150"/>
                    </a:lnTo>
                    <a:lnTo>
                      <a:pt x="249" y="150"/>
                    </a:lnTo>
                    <a:lnTo>
                      <a:pt x="243" y="150"/>
                    </a:lnTo>
                    <a:lnTo>
                      <a:pt x="238" y="148"/>
                    </a:lnTo>
                    <a:lnTo>
                      <a:pt x="236" y="154"/>
                    </a:lnTo>
                    <a:lnTo>
                      <a:pt x="242" y="167"/>
                    </a:lnTo>
                    <a:lnTo>
                      <a:pt x="236" y="170"/>
                    </a:lnTo>
                    <a:lnTo>
                      <a:pt x="241" y="192"/>
                    </a:lnTo>
                    <a:lnTo>
                      <a:pt x="229" y="171"/>
                    </a:lnTo>
                    <a:lnTo>
                      <a:pt x="219" y="151"/>
                    </a:lnTo>
                    <a:lnTo>
                      <a:pt x="213" y="160"/>
                    </a:lnTo>
                    <a:lnTo>
                      <a:pt x="202" y="181"/>
                    </a:lnTo>
                    <a:lnTo>
                      <a:pt x="205" y="199"/>
                    </a:lnTo>
                    <a:lnTo>
                      <a:pt x="186" y="225"/>
                    </a:lnTo>
                    <a:lnTo>
                      <a:pt x="170" y="236"/>
                    </a:lnTo>
                    <a:lnTo>
                      <a:pt x="153" y="246"/>
                    </a:lnTo>
                    <a:lnTo>
                      <a:pt x="127" y="252"/>
                    </a:lnTo>
                    <a:lnTo>
                      <a:pt x="107" y="259"/>
                    </a:lnTo>
                    <a:lnTo>
                      <a:pt x="88" y="266"/>
                    </a:lnTo>
                    <a:lnTo>
                      <a:pt x="79" y="262"/>
                    </a:lnTo>
                    <a:lnTo>
                      <a:pt x="52" y="285"/>
                    </a:lnTo>
                    <a:lnTo>
                      <a:pt x="25" y="307"/>
                    </a:lnTo>
                    <a:lnTo>
                      <a:pt x="17" y="315"/>
                    </a:lnTo>
                    <a:lnTo>
                      <a:pt x="14" y="298"/>
                    </a:lnTo>
                    <a:lnTo>
                      <a:pt x="9" y="324"/>
                    </a:lnTo>
                    <a:lnTo>
                      <a:pt x="3" y="353"/>
                    </a:lnTo>
                    <a:lnTo>
                      <a:pt x="6" y="377"/>
                    </a:lnTo>
                    <a:lnTo>
                      <a:pt x="14" y="396"/>
                    </a:lnTo>
                    <a:lnTo>
                      <a:pt x="22" y="415"/>
                    </a:lnTo>
                    <a:lnTo>
                      <a:pt x="17" y="419"/>
                    </a:lnTo>
                    <a:lnTo>
                      <a:pt x="14" y="413"/>
                    </a:lnTo>
                    <a:lnTo>
                      <a:pt x="4" y="400"/>
                    </a:lnTo>
                    <a:lnTo>
                      <a:pt x="13" y="428"/>
                    </a:lnTo>
                    <a:lnTo>
                      <a:pt x="3" y="416"/>
                    </a:lnTo>
                    <a:lnTo>
                      <a:pt x="0" y="415"/>
                    </a:lnTo>
                    <a:lnTo>
                      <a:pt x="12" y="439"/>
                    </a:lnTo>
                    <a:lnTo>
                      <a:pt x="23" y="465"/>
                    </a:lnTo>
                    <a:lnTo>
                      <a:pt x="33" y="488"/>
                    </a:lnTo>
                    <a:lnTo>
                      <a:pt x="43" y="511"/>
                    </a:lnTo>
                    <a:lnTo>
                      <a:pt x="49" y="531"/>
                    </a:lnTo>
                    <a:lnTo>
                      <a:pt x="55" y="552"/>
                    </a:lnTo>
                    <a:lnTo>
                      <a:pt x="61" y="570"/>
                    </a:lnTo>
                    <a:lnTo>
                      <a:pt x="68" y="590"/>
                    </a:lnTo>
                    <a:lnTo>
                      <a:pt x="61" y="618"/>
                    </a:lnTo>
                    <a:lnTo>
                      <a:pt x="50" y="619"/>
                    </a:lnTo>
                    <a:lnTo>
                      <a:pt x="58" y="637"/>
                    </a:lnTo>
                    <a:lnTo>
                      <a:pt x="78" y="647"/>
                    </a:lnTo>
                    <a:lnTo>
                      <a:pt x="97" y="657"/>
                    </a:lnTo>
                    <a:lnTo>
                      <a:pt x="125" y="654"/>
                    </a:lnTo>
                    <a:lnTo>
                      <a:pt x="148" y="642"/>
                    </a:lnTo>
                    <a:lnTo>
                      <a:pt x="153" y="639"/>
                    </a:lnTo>
                    <a:lnTo>
                      <a:pt x="161" y="628"/>
                    </a:lnTo>
                    <a:lnTo>
                      <a:pt x="187" y="628"/>
                    </a:lnTo>
                    <a:lnTo>
                      <a:pt x="213" y="626"/>
                    </a:lnTo>
                    <a:lnTo>
                      <a:pt x="243" y="625"/>
                    </a:lnTo>
                    <a:lnTo>
                      <a:pt x="258" y="603"/>
                    </a:lnTo>
                    <a:lnTo>
                      <a:pt x="282" y="593"/>
                    </a:lnTo>
                    <a:lnTo>
                      <a:pt x="308" y="582"/>
                    </a:lnTo>
                    <a:lnTo>
                      <a:pt x="334" y="576"/>
                    </a:lnTo>
                    <a:lnTo>
                      <a:pt x="360" y="570"/>
                    </a:lnTo>
                    <a:lnTo>
                      <a:pt x="388" y="566"/>
                    </a:lnTo>
                    <a:lnTo>
                      <a:pt x="415" y="562"/>
                    </a:lnTo>
                    <a:lnTo>
                      <a:pt x="432" y="566"/>
                    </a:lnTo>
                    <a:lnTo>
                      <a:pt x="470" y="579"/>
                    </a:lnTo>
                    <a:lnTo>
                      <a:pt x="480" y="586"/>
                    </a:lnTo>
                    <a:lnTo>
                      <a:pt x="485" y="593"/>
                    </a:lnTo>
                    <a:lnTo>
                      <a:pt x="493" y="605"/>
                    </a:lnTo>
                    <a:lnTo>
                      <a:pt x="503" y="622"/>
                    </a:lnTo>
                    <a:lnTo>
                      <a:pt x="513" y="641"/>
                    </a:lnTo>
                    <a:lnTo>
                      <a:pt x="508" y="641"/>
                    </a:lnTo>
                    <a:lnTo>
                      <a:pt x="523" y="651"/>
                    </a:lnTo>
                    <a:lnTo>
                      <a:pt x="527" y="648"/>
                    </a:lnTo>
                    <a:lnTo>
                      <a:pt x="543" y="624"/>
                    </a:lnTo>
                    <a:lnTo>
                      <a:pt x="562" y="603"/>
                    </a:lnTo>
                    <a:lnTo>
                      <a:pt x="568" y="589"/>
                    </a:lnTo>
                    <a:lnTo>
                      <a:pt x="569" y="609"/>
                    </a:lnTo>
                    <a:lnTo>
                      <a:pt x="562" y="631"/>
                    </a:lnTo>
                    <a:lnTo>
                      <a:pt x="555" y="652"/>
                    </a:lnTo>
                    <a:lnTo>
                      <a:pt x="547" y="660"/>
                    </a:lnTo>
                    <a:lnTo>
                      <a:pt x="563" y="660"/>
                    </a:lnTo>
                    <a:lnTo>
                      <a:pt x="573" y="635"/>
                    </a:lnTo>
                    <a:lnTo>
                      <a:pt x="585" y="648"/>
                    </a:lnTo>
                    <a:lnTo>
                      <a:pt x="575" y="668"/>
                    </a:lnTo>
                    <a:lnTo>
                      <a:pt x="589" y="668"/>
                    </a:lnTo>
                    <a:lnTo>
                      <a:pt x="593" y="670"/>
                    </a:lnTo>
                    <a:lnTo>
                      <a:pt x="605" y="683"/>
                    </a:lnTo>
                    <a:lnTo>
                      <a:pt x="609" y="707"/>
                    </a:lnTo>
                    <a:lnTo>
                      <a:pt x="624" y="735"/>
                    </a:lnTo>
                    <a:lnTo>
                      <a:pt x="651" y="745"/>
                    </a:lnTo>
                    <a:lnTo>
                      <a:pt x="671" y="750"/>
                    </a:lnTo>
                    <a:lnTo>
                      <a:pt x="690" y="756"/>
                    </a:lnTo>
                    <a:lnTo>
                      <a:pt x="717" y="743"/>
                    </a:lnTo>
                    <a:lnTo>
                      <a:pt x="714" y="740"/>
                    </a:lnTo>
                    <a:lnTo>
                      <a:pt x="726" y="733"/>
                    </a:lnTo>
                    <a:lnTo>
                      <a:pt x="722" y="746"/>
                    </a:lnTo>
                    <a:lnTo>
                      <a:pt x="727" y="746"/>
                    </a:lnTo>
                    <a:lnTo>
                      <a:pt x="737" y="746"/>
                    </a:lnTo>
                    <a:lnTo>
                      <a:pt x="748" y="759"/>
                    </a:lnTo>
                    <a:lnTo>
                      <a:pt x="755" y="763"/>
                    </a:lnTo>
                    <a:lnTo>
                      <a:pt x="758" y="755"/>
                    </a:lnTo>
                    <a:lnTo>
                      <a:pt x="789" y="733"/>
                    </a:lnTo>
                    <a:lnTo>
                      <a:pt x="809" y="730"/>
                    </a:lnTo>
                    <a:lnTo>
                      <a:pt x="834" y="722"/>
                    </a:lnTo>
                    <a:lnTo>
                      <a:pt x="838" y="707"/>
                    </a:lnTo>
                    <a:lnTo>
                      <a:pt x="848" y="680"/>
                    </a:lnTo>
                    <a:lnTo>
                      <a:pt x="860" y="654"/>
                    </a:lnTo>
                    <a:lnTo>
                      <a:pt x="870" y="624"/>
                    </a:lnTo>
                    <a:lnTo>
                      <a:pt x="876" y="616"/>
                    </a:lnTo>
                    <a:lnTo>
                      <a:pt x="893" y="593"/>
                    </a:lnTo>
                    <a:lnTo>
                      <a:pt x="902" y="588"/>
                    </a:lnTo>
                    <a:lnTo>
                      <a:pt x="909" y="562"/>
                    </a:lnTo>
                    <a:lnTo>
                      <a:pt x="917" y="537"/>
                    </a:lnTo>
                    <a:lnTo>
                      <a:pt x="926" y="511"/>
                    </a:lnTo>
                    <a:lnTo>
                      <a:pt x="933" y="487"/>
                    </a:lnTo>
                    <a:lnTo>
                      <a:pt x="929" y="468"/>
                    </a:lnTo>
                    <a:lnTo>
                      <a:pt x="923" y="449"/>
                    </a:lnTo>
                    <a:lnTo>
                      <a:pt x="923" y="428"/>
                    </a:lnTo>
                    <a:lnTo>
                      <a:pt x="922" y="406"/>
                    </a:lnTo>
                    <a:lnTo>
                      <a:pt x="915" y="389"/>
                    </a:lnTo>
                    <a:lnTo>
                      <a:pt x="903" y="374"/>
                    </a:lnTo>
                    <a:lnTo>
                      <a:pt x="890" y="360"/>
                    </a:lnTo>
                    <a:lnTo>
                      <a:pt x="871" y="343"/>
                    </a:lnTo>
                    <a:lnTo>
                      <a:pt x="870" y="313"/>
                    </a:lnTo>
                    <a:lnTo>
                      <a:pt x="867" y="318"/>
                    </a:lnTo>
                    <a:lnTo>
                      <a:pt x="854" y="308"/>
                    </a:lnTo>
                    <a:lnTo>
                      <a:pt x="854" y="318"/>
                    </a:lnTo>
                    <a:lnTo>
                      <a:pt x="845" y="311"/>
                    </a:lnTo>
                    <a:lnTo>
                      <a:pt x="840" y="289"/>
                    </a:lnTo>
                    <a:lnTo>
                      <a:pt x="827" y="268"/>
                    </a:lnTo>
                    <a:lnTo>
                      <a:pt x="828" y="261"/>
                    </a:lnTo>
                    <a:lnTo>
                      <a:pt x="820" y="253"/>
                    </a:lnTo>
                    <a:lnTo>
                      <a:pt x="799" y="236"/>
                    </a:lnTo>
                    <a:lnTo>
                      <a:pt x="771" y="216"/>
                    </a:lnTo>
                    <a:lnTo>
                      <a:pt x="765" y="190"/>
                    </a:lnTo>
                    <a:lnTo>
                      <a:pt x="759" y="164"/>
                    </a:lnTo>
                    <a:lnTo>
                      <a:pt x="752" y="145"/>
                    </a:lnTo>
                    <a:lnTo>
                      <a:pt x="749" y="120"/>
                    </a:lnTo>
                    <a:lnTo>
                      <a:pt x="743" y="108"/>
                    </a:lnTo>
                    <a:lnTo>
                      <a:pt x="727" y="94"/>
                    </a:lnTo>
                    <a:lnTo>
                      <a:pt x="713" y="96"/>
                    </a:lnTo>
                    <a:lnTo>
                      <a:pt x="709" y="78"/>
                    </a:lnTo>
                    <a:lnTo>
                      <a:pt x="704" y="59"/>
                    </a:lnTo>
                    <a:lnTo>
                      <a:pt x="699" y="35"/>
                    </a:lnTo>
                    <a:lnTo>
                      <a:pt x="691" y="19"/>
                    </a:lnTo>
                    <a:lnTo>
                      <a:pt x="684" y="6"/>
                    </a:lnTo>
                    <a:lnTo>
                      <a:pt x="681" y="0"/>
                    </a:lnTo>
                    <a:lnTo>
                      <a:pt x="671" y="22"/>
                    </a:lnTo>
                    <a:lnTo>
                      <a:pt x="668" y="33"/>
                    </a:lnTo>
                    <a:lnTo>
                      <a:pt x="664" y="47"/>
                    </a:lnTo>
                    <a:lnTo>
                      <a:pt x="668" y="50"/>
                    </a:lnTo>
                    <a:lnTo>
                      <a:pt x="668" y="53"/>
                    </a:lnTo>
                    <a:lnTo>
                      <a:pt x="661" y="63"/>
                    </a:lnTo>
                    <a:lnTo>
                      <a:pt x="663" y="75"/>
                    </a:lnTo>
                    <a:lnTo>
                      <a:pt x="660" y="75"/>
                    </a:lnTo>
                    <a:lnTo>
                      <a:pt x="660" y="98"/>
                    </a:lnTo>
                    <a:lnTo>
                      <a:pt x="660" y="120"/>
                    </a:lnTo>
                    <a:lnTo>
                      <a:pt x="650" y="150"/>
                    </a:lnTo>
                    <a:lnTo>
                      <a:pt x="638" y="181"/>
                    </a:lnTo>
                    <a:lnTo>
                      <a:pt x="621" y="184"/>
                    </a:lnTo>
                    <a:lnTo>
                      <a:pt x="602" y="171"/>
                    </a:lnTo>
                    <a:lnTo>
                      <a:pt x="575" y="154"/>
                    </a:lnTo>
                    <a:lnTo>
                      <a:pt x="547" y="138"/>
                    </a:lnTo>
                    <a:lnTo>
                      <a:pt x="530" y="122"/>
                    </a:lnTo>
                    <a:lnTo>
                      <a:pt x="514" y="107"/>
                    </a:lnTo>
                    <a:lnTo>
                      <a:pt x="527" y="81"/>
                    </a:lnTo>
                    <a:lnTo>
                      <a:pt x="532" y="65"/>
                    </a:lnTo>
                    <a:lnTo>
                      <a:pt x="536" y="68"/>
                    </a:lnTo>
                    <a:lnTo>
                      <a:pt x="542" y="58"/>
                    </a:lnTo>
                    <a:lnTo>
                      <a:pt x="550" y="42"/>
                    </a:lnTo>
                    <a:lnTo>
                      <a:pt x="539" y="33"/>
                    </a:lnTo>
                    <a:lnTo>
                      <a:pt x="530" y="45"/>
                    </a:lnTo>
                    <a:lnTo>
                      <a:pt x="527" y="37"/>
                    </a:lnTo>
                    <a:lnTo>
                      <a:pt x="520" y="37"/>
                    </a:lnTo>
                    <a:lnTo>
                      <a:pt x="523" y="33"/>
                    </a:lnTo>
                    <a:lnTo>
                      <a:pt x="503" y="37"/>
                    </a:lnTo>
                    <a:lnTo>
                      <a:pt x="485" y="35"/>
                    </a:lnTo>
                    <a:lnTo>
                      <a:pt x="474" y="29"/>
                    </a:lnTo>
                    <a:lnTo>
                      <a:pt x="455" y="17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4810320" y="3445200"/>
                <a:ext cx="42120" cy="52560"/>
              </a:xfrm>
              <a:custGeom>
                <a:avLst/>
                <a:gdLst/>
                <a:ahLst/>
                <a:rect l="l" t="t" r="r" b="b"/>
                <a:pathLst>
                  <a:path w="81" h="75">
                    <a:moveTo>
                      <a:pt x="56" y="57"/>
                    </a:moveTo>
                    <a:lnTo>
                      <a:pt x="42" y="75"/>
                    </a:lnTo>
                    <a:lnTo>
                      <a:pt x="26" y="68"/>
                    </a:lnTo>
                    <a:lnTo>
                      <a:pt x="27" y="66"/>
                    </a:lnTo>
                    <a:lnTo>
                      <a:pt x="11" y="42"/>
                    </a:lnTo>
                    <a:lnTo>
                      <a:pt x="13" y="40"/>
                    </a:lnTo>
                    <a:lnTo>
                      <a:pt x="17" y="42"/>
                    </a:lnTo>
                    <a:lnTo>
                      <a:pt x="9" y="23"/>
                    </a:lnTo>
                    <a:lnTo>
                      <a:pt x="0" y="3"/>
                    </a:lnTo>
                    <a:lnTo>
                      <a:pt x="4" y="0"/>
                    </a:lnTo>
                    <a:lnTo>
                      <a:pt x="29" y="7"/>
                    </a:lnTo>
                    <a:lnTo>
                      <a:pt x="53" y="16"/>
                    </a:lnTo>
                    <a:lnTo>
                      <a:pt x="52" y="6"/>
                    </a:lnTo>
                    <a:lnTo>
                      <a:pt x="79" y="3"/>
                    </a:lnTo>
                    <a:lnTo>
                      <a:pt x="81" y="37"/>
                    </a:lnTo>
                    <a:lnTo>
                      <a:pt x="75" y="34"/>
                    </a:lnTo>
                    <a:lnTo>
                      <a:pt x="65" y="63"/>
                    </a:lnTo>
                    <a:lnTo>
                      <a:pt x="66" y="59"/>
                    </a:lnTo>
                    <a:lnTo>
                      <a:pt x="60" y="59"/>
                    </a:lnTo>
                    <a:lnTo>
                      <a:pt x="56" y="57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5056920" y="3052440"/>
                <a:ext cx="34560" cy="39600"/>
              </a:xfrm>
              <a:custGeom>
                <a:avLst/>
                <a:gdLst/>
                <a:ahLst/>
                <a:rect l="l" t="t" r="r" b="b"/>
                <a:pathLst>
                  <a:path w="65" h="57">
                    <a:moveTo>
                      <a:pt x="65" y="57"/>
                    </a:moveTo>
                    <a:lnTo>
                      <a:pt x="52" y="55"/>
                    </a:lnTo>
                    <a:lnTo>
                      <a:pt x="29" y="36"/>
                    </a:lnTo>
                    <a:lnTo>
                      <a:pt x="6" y="16"/>
                    </a:lnTo>
                    <a:lnTo>
                      <a:pt x="0" y="0"/>
                    </a:lnTo>
                    <a:lnTo>
                      <a:pt x="16" y="15"/>
                    </a:lnTo>
                    <a:lnTo>
                      <a:pt x="33" y="28"/>
                    </a:lnTo>
                    <a:lnTo>
                      <a:pt x="49" y="42"/>
                    </a:lnTo>
                    <a:lnTo>
                      <a:pt x="65" y="57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26640" y="3084120"/>
                <a:ext cx="438120" cy="576360"/>
              </a:xfrm>
              <a:custGeom>
                <a:avLst/>
                <a:gdLst/>
                <a:ahLst/>
                <a:rect l="l" t="t" r="r" b="b"/>
                <a:pathLst>
                  <a:path w="838" h="819">
                    <a:moveTo>
                      <a:pt x="422" y="520"/>
                    </a:moveTo>
                    <a:lnTo>
                      <a:pt x="391" y="520"/>
                    </a:lnTo>
                    <a:lnTo>
                      <a:pt x="373" y="515"/>
                    </a:lnTo>
                    <a:lnTo>
                      <a:pt x="354" y="551"/>
                    </a:lnTo>
                    <a:lnTo>
                      <a:pt x="358" y="554"/>
                    </a:lnTo>
                    <a:lnTo>
                      <a:pt x="368" y="553"/>
                    </a:lnTo>
                    <a:lnTo>
                      <a:pt x="380" y="547"/>
                    </a:lnTo>
                    <a:lnTo>
                      <a:pt x="367" y="567"/>
                    </a:lnTo>
                    <a:lnTo>
                      <a:pt x="358" y="563"/>
                    </a:lnTo>
                    <a:lnTo>
                      <a:pt x="342" y="563"/>
                    </a:lnTo>
                    <a:lnTo>
                      <a:pt x="350" y="571"/>
                    </a:lnTo>
                    <a:lnTo>
                      <a:pt x="314" y="593"/>
                    </a:lnTo>
                    <a:lnTo>
                      <a:pt x="293" y="615"/>
                    </a:lnTo>
                    <a:lnTo>
                      <a:pt x="278" y="626"/>
                    </a:lnTo>
                    <a:lnTo>
                      <a:pt x="240" y="638"/>
                    </a:lnTo>
                    <a:lnTo>
                      <a:pt x="211" y="664"/>
                    </a:lnTo>
                    <a:lnTo>
                      <a:pt x="226" y="681"/>
                    </a:lnTo>
                    <a:lnTo>
                      <a:pt x="230" y="688"/>
                    </a:lnTo>
                    <a:lnTo>
                      <a:pt x="207" y="701"/>
                    </a:lnTo>
                    <a:lnTo>
                      <a:pt x="211" y="704"/>
                    </a:lnTo>
                    <a:lnTo>
                      <a:pt x="181" y="721"/>
                    </a:lnTo>
                    <a:lnTo>
                      <a:pt x="149" y="739"/>
                    </a:lnTo>
                    <a:lnTo>
                      <a:pt x="124" y="759"/>
                    </a:lnTo>
                    <a:lnTo>
                      <a:pt x="116" y="754"/>
                    </a:lnTo>
                    <a:lnTo>
                      <a:pt x="109" y="757"/>
                    </a:lnTo>
                    <a:lnTo>
                      <a:pt x="113" y="763"/>
                    </a:lnTo>
                    <a:lnTo>
                      <a:pt x="85" y="777"/>
                    </a:lnTo>
                    <a:lnTo>
                      <a:pt x="75" y="783"/>
                    </a:lnTo>
                    <a:lnTo>
                      <a:pt x="63" y="799"/>
                    </a:lnTo>
                    <a:lnTo>
                      <a:pt x="59" y="799"/>
                    </a:lnTo>
                    <a:lnTo>
                      <a:pt x="64" y="806"/>
                    </a:lnTo>
                    <a:lnTo>
                      <a:pt x="59" y="819"/>
                    </a:lnTo>
                    <a:lnTo>
                      <a:pt x="37" y="809"/>
                    </a:lnTo>
                    <a:lnTo>
                      <a:pt x="0" y="806"/>
                    </a:lnTo>
                    <a:lnTo>
                      <a:pt x="4" y="793"/>
                    </a:lnTo>
                    <a:lnTo>
                      <a:pt x="18" y="773"/>
                    </a:lnTo>
                    <a:lnTo>
                      <a:pt x="4" y="775"/>
                    </a:lnTo>
                    <a:lnTo>
                      <a:pt x="27" y="740"/>
                    </a:lnTo>
                    <a:lnTo>
                      <a:pt x="59" y="724"/>
                    </a:lnTo>
                    <a:lnTo>
                      <a:pt x="96" y="688"/>
                    </a:lnTo>
                    <a:lnTo>
                      <a:pt x="126" y="658"/>
                    </a:lnTo>
                    <a:lnTo>
                      <a:pt x="148" y="636"/>
                    </a:lnTo>
                    <a:lnTo>
                      <a:pt x="155" y="625"/>
                    </a:lnTo>
                    <a:lnTo>
                      <a:pt x="152" y="620"/>
                    </a:lnTo>
                    <a:lnTo>
                      <a:pt x="172" y="615"/>
                    </a:lnTo>
                    <a:lnTo>
                      <a:pt x="165" y="605"/>
                    </a:lnTo>
                    <a:lnTo>
                      <a:pt x="184" y="576"/>
                    </a:lnTo>
                    <a:lnTo>
                      <a:pt x="188" y="561"/>
                    </a:lnTo>
                    <a:lnTo>
                      <a:pt x="208" y="540"/>
                    </a:lnTo>
                    <a:lnTo>
                      <a:pt x="236" y="504"/>
                    </a:lnTo>
                    <a:lnTo>
                      <a:pt x="259" y="475"/>
                    </a:lnTo>
                    <a:lnTo>
                      <a:pt x="279" y="458"/>
                    </a:lnTo>
                    <a:lnTo>
                      <a:pt x="289" y="442"/>
                    </a:lnTo>
                    <a:lnTo>
                      <a:pt x="301" y="420"/>
                    </a:lnTo>
                    <a:lnTo>
                      <a:pt x="314" y="397"/>
                    </a:lnTo>
                    <a:lnTo>
                      <a:pt x="340" y="378"/>
                    </a:lnTo>
                    <a:lnTo>
                      <a:pt x="350" y="361"/>
                    </a:lnTo>
                    <a:lnTo>
                      <a:pt x="377" y="327"/>
                    </a:lnTo>
                    <a:lnTo>
                      <a:pt x="381" y="311"/>
                    </a:lnTo>
                    <a:lnTo>
                      <a:pt x="386" y="289"/>
                    </a:lnTo>
                    <a:lnTo>
                      <a:pt x="390" y="268"/>
                    </a:lnTo>
                    <a:lnTo>
                      <a:pt x="403" y="250"/>
                    </a:lnTo>
                    <a:lnTo>
                      <a:pt x="417" y="233"/>
                    </a:lnTo>
                    <a:lnTo>
                      <a:pt x="429" y="213"/>
                    </a:lnTo>
                    <a:lnTo>
                      <a:pt x="437" y="193"/>
                    </a:lnTo>
                    <a:lnTo>
                      <a:pt x="461" y="170"/>
                    </a:lnTo>
                    <a:lnTo>
                      <a:pt x="482" y="145"/>
                    </a:lnTo>
                    <a:lnTo>
                      <a:pt x="492" y="138"/>
                    </a:lnTo>
                    <a:lnTo>
                      <a:pt x="492" y="122"/>
                    </a:lnTo>
                    <a:lnTo>
                      <a:pt x="507" y="83"/>
                    </a:lnTo>
                    <a:lnTo>
                      <a:pt x="515" y="70"/>
                    </a:lnTo>
                    <a:lnTo>
                      <a:pt x="540" y="60"/>
                    </a:lnTo>
                    <a:lnTo>
                      <a:pt x="554" y="33"/>
                    </a:lnTo>
                    <a:lnTo>
                      <a:pt x="551" y="27"/>
                    </a:lnTo>
                    <a:lnTo>
                      <a:pt x="581" y="0"/>
                    </a:lnTo>
                    <a:lnTo>
                      <a:pt x="584" y="3"/>
                    </a:lnTo>
                    <a:lnTo>
                      <a:pt x="612" y="8"/>
                    </a:lnTo>
                    <a:lnTo>
                      <a:pt x="617" y="24"/>
                    </a:lnTo>
                    <a:lnTo>
                      <a:pt x="630" y="10"/>
                    </a:lnTo>
                    <a:lnTo>
                      <a:pt x="659" y="5"/>
                    </a:lnTo>
                    <a:lnTo>
                      <a:pt x="662" y="11"/>
                    </a:lnTo>
                    <a:lnTo>
                      <a:pt x="677" y="34"/>
                    </a:lnTo>
                    <a:lnTo>
                      <a:pt x="692" y="56"/>
                    </a:lnTo>
                    <a:lnTo>
                      <a:pt x="708" y="64"/>
                    </a:lnTo>
                    <a:lnTo>
                      <a:pt x="724" y="73"/>
                    </a:lnTo>
                    <a:lnTo>
                      <a:pt x="741" y="86"/>
                    </a:lnTo>
                    <a:lnTo>
                      <a:pt x="756" y="98"/>
                    </a:lnTo>
                    <a:lnTo>
                      <a:pt x="734" y="124"/>
                    </a:lnTo>
                    <a:lnTo>
                      <a:pt x="713" y="149"/>
                    </a:lnTo>
                    <a:lnTo>
                      <a:pt x="738" y="151"/>
                    </a:lnTo>
                    <a:lnTo>
                      <a:pt x="764" y="154"/>
                    </a:lnTo>
                    <a:lnTo>
                      <a:pt x="783" y="148"/>
                    </a:lnTo>
                    <a:lnTo>
                      <a:pt x="816" y="119"/>
                    </a:lnTo>
                    <a:lnTo>
                      <a:pt x="823" y="102"/>
                    </a:lnTo>
                    <a:lnTo>
                      <a:pt x="838" y="103"/>
                    </a:lnTo>
                    <a:lnTo>
                      <a:pt x="831" y="138"/>
                    </a:lnTo>
                    <a:lnTo>
                      <a:pt x="809" y="151"/>
                    </a:lnTo>
                    <a:lnTo>
                      <a:pt x="787" y="164"/>
                    </a:lnTo>
                    <a:lnTo>
                      <a:pt x="767" y="180"/>
                    </a:lnTo>
                    <a:lnTo>
                      <a:pt x="746" y="196"/>
                    </a:lnTo>
                    <a:lnTo>
                      <a:pt x="726" y="211"/>
                    </a:lnTo>
                    <a:lnTo>
                      <a:pt x="704" y="227"/>
                    </a:lnTo>
                    <a:lnTo>
                      <a:pt x="704" y="230"/>
                    </a:lnTo>
                    <a:lnTo>
                      <a:pt x="682" y="259"/>
                    </a:lnTo>
                    <a:lnTo>
                      <a:pt x="661" y="288"/>
                    </a:lnTo>
                    <a:lnTo>
                      <a:pt x="652" y="305"/>
                    </a:lnTo>
                    <a:lnTo>
                      <a:pt x="638" y="317"/>
                    </a:lnTo>
                    <a:lnTo>
                      <a:pt x="628" y="348"/>
                    </a:lnTo>
                    <a:lnTo>
                      <a:pt x="642" y="370"/>
                    </a:lnTo>
                    <a:lnTo>
                      <a:pt x="628" y="389"/>
                    </a:lnTo>
                    <a:lnTo>
                      <a:pt x="633" y="400"/>
                    </a:lnTo>
                    <a:lnTo>
                      <a:pt x="605" y="423"/>
                    </a:lnTo>
                    <a:lnTo>
                      <a:pt x="576" y="446"/>
                    </a:lnTo>
                    <a:lnTo>
                      <a:pt x="553" y="452"/>
                    </a:lnTo>
                    <a:lnTo>
                      <a:pt x="530" y="456"/>
                    </a:lnTo>
                    <a:lnTo>
                      <a:pt x="507" y="461"/>
                    </a:lnTo>
                    <a:lnTo>
                      <a:pt x="485" y="465"/>
                    </a:lnTo>
                    <a:lnTo>
                      <a:pt x="468" y="463"/>
                    </a:lnTo>
                    <a:lnTo>
                      <a:pt x="465" y="474"/>
                    </a:lnTo>
                    <a:lnTo>
                      <a:pt x="442" y="507"/>
                    </a:lnTo>
                    <a:lnTo>
                      <a:pt x="422" y="52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6323400" y="3664440"/>
                <a:ext cx="37440" cy="39960"/>
              </a:xfrm>
              <a:custGeom>
                <a:avLst/>
                <a:gdLst/>
                <a:ahLst/>
                <a:rect l="l" t="t" r="r" b="b"/>
                <a:pathLst>
                  <a:path w="73" h="58">
                    <a:moveTo>
                      <a:pt x="47" y="12"/>
                    </a:moveTo>
                    <a:lnTo>
                      <a:pt x="55" y="0"/>
                    </a:lnTo>
                    <a:lnTo>
                      <a:pt x="27" y="29"/>
                    </a:lnTo>
                    <a:lnTo>
                      <a:pt x="0" y="58"/>
                    </a:lnTo>
                    <a:lnTo>
                      <a:pt x="33" y="58"/>
                    </a:lnTo>
                    <a:lnTo>
                      <a:pt x="66" y="58"/>
                    </a:lnTo>
                    <a:lnTo>
                      <a:pt x="73" y="52"/>
                    </a:lnTo>
                    <a:lnTo>
                      <a:pt x="46" y="36"/>
                    </a:lnTo>
                    <a:lnTo>
                      <a:pt x="47" y="12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6296400" y="3002040"/>
                <a:ext cx="320400" cy="685800"/>
              </a:xfrm>
              <a:custGeom>
                <a:avLst/>
                <a:gdLst/>
                <a:ahLst/>
                <a:rect l="l" t="t" r="r" b="b"/>
                <a:pathLst>
                  <a:path w="612" h="975">
                    <a:moveTo>
                      <a:pt x="442" y="347"/>
                    </a:moveTo>
                    <a:lnTo>
                      <a:pt x="434" y="367"/>
                    </a:lnTo>
                    <a:lnTo>
                      <a:pt x="423" y="387"/>
                    </a:lnTo>
                    <a:lnTo>
                      <a:pt x="413" y="408"/>
                    </a:lnTo>
                    <a:lnTo>
                      <a:pt x="402" y="428"/>
                    </a:lnTo>
                    <a:lnTo>
                      <a:pt x="382" y="452"/>
                    </a:lnTo>
                    <a:lnTo>
                      <a:pt x="363" y="477"/>
                    </a:lnTo>
                    <a:lnTo>
                      <a:pt x="340" y="500"/>
                    </a:lnTo>
                    <a:lnTo>
                      <a:pt x="318" y="524"/>
                    </a:lnTo>
                    <a:lnTo>
                      <a:pt x="305" y="533"/>
                    </a:lnTo>
                    <a:lnTo>
                      <a:pt x="294" y="556"/>
                    </a:lnTo>
                    <a:lnTo>
                      <a:pt x="282" y="579"/>
                    </a:lnTo>
                    <a:lnTo>
                      <a:pt x="268" y="605"/>
                    </a:lnTo>
                    <a:lnTo>
                      <a:pt x="241" y="629"/>
                    </a:lnTo>
                    <a:lnTo>
                      <a:pt x="232" y="651"/>
                    </a:lnTo>
                    <a:lnTo>
                      <a:pt x="229" y="657"/>
                    </a:lnTo>
                    <a:lnTo>
                      <a:pt x="243" y="651"/>
                    </a:lnTo>
                    <a:lnTo>
                      <a:pt x="251" y="651"/>
                    </a:lnTo>
                    <a:lnTo>
                      <a:pt x="262" y="648"/>
                    </a:lnTo>
                    <a:lnTo>
                      <a:pt x="245" y="663"/>
                    </a:lnTo>
                    <a:lnTo>
                      <a:pt x="243" y="670"/>
                    </a:lnTo>
                    <a:lnTo>
                      <a:pt x="243" y="667"/>
                    </a:lnTo>
                    <a:lnTo>
                      <a:pt x="235" y="675"/>
                    </a:lnTo>
                    <a:lnTo>
                      <a:pt x="223" y="691"/>
                    </a:lnTo>
                    <a:lnTo>
                      <a:pt x="206" y="709"/>
                    </a:lnTo>
                    <a:lnTo>
                      <a:pt x="197" y="719"/>
                    </a:lnTo>
                    <a:lnTo>
                      <a:pt x="199" y="729"/>
                    </a:lnTo>
                    <a:lnTo>
                      <a:pt x="173" y="746"/>
                    </a:lnTo>
                    <a:lnTo>
                      <a:pt x="174" y="753"/>
                    </a:lnTo>
                    <a:lnTo>
                      <a:pt x="167" y="753"/>
                    </a:lnTo>
                    <a:lnTo>
                      <a:pt x="160" y="760"/>
                    </a:lnTo>
                    <a:lnTo>
                      <a:pt x="146" y="775"/>
                    </a:lnTo>
                    <a:lnTo>
                      <a:pt x="148" y="773"/>
                    </a:lnTo>
                    <a:lnTo>
                      <a:pt x="130" y="784"/>
                    </a:lnTo>
                    <a:lnTo>
                      <a:pt x="137" y="776"/>
                    </a:lnTo>
                    <a:lnTo>
                      <a:pt x="128" y="776"/>
                    </a:lnTo>
                    <a:lnTo>
                      <a:pt x="141" y="766"/>
                    </a:lnTo>
                    <a:lnTo>
                      <a:pt x="134" y="768"/>
                    </a:lnTo>
                    <a:lnTo>
                      <a:pt x="125" y="769"/>
                    </a:lnTo>
                    <a:lnTo>
                      <a:pt x="89" y="791"/>
                    </a:lnTo>
                    <a:lnTo>
                      <a:pt x="95" y="789"/>
                    </a:lnTo>
                    <a:lnTo>
                      <a:pt x="108" y="785"/>
                    </a:lnTo>
                    <a:lnTo>
                      <a:pt x="115" y="789"/>
                    </a:lnTo>
                    <a:lnTo>
                      <a:pt x="117" y="802"/>
                    </a:lnTo>
                    <a:lnTo>
                      <a:pt x="104" y="808"/>
                    </a:lnTo>
                    <a:lnTo>
                      <a:pt x="105" y="812"/>
                    </a:lnTo>
                    <a:lnTo>
                      <a:pt x="91" y="815"/>
                    </a:lnTo>
                    <a:lnTo>
                      <a:pt x="111" y="814"/>
                    </a:lnTo>
                    <a:lnTo>
                      <a:pt x="115" y="812"/>
                    </a:lnTo>
                    <a:lnTo>
                      <a:pt x="112" y="822"/>
                    </a:lnTo>
                    <a:lnTo>
                      <a:pt x="105" y="828"/>
                    </a:lnTo>
                    <a:lnTo>
                      <a:pt x="92" y="825"/>
                    </a:lnTo>
                    <a:lnTo>
                      <a:pt x="88" y="824"/>
                    </a:lnTo>
                    <a:lnTo>
                      <a:pt x="79" y="840"/>
                    </a:lnTo>
                    <a:lnTo>
                      <a:pt x="69" y="858"/>
                    </a:lnTo>
                    <a:lnTo>
                      <a:pt x="59" y="868"/>
                    </a:lnTo>
                    <a:lnTo>
                      <a:pt x="53" y="877"/>
                    </a:lnTo>
                    <a:lnTo>
                      <a:pt x="45" y="880"/>
                    </a:lnTo>
                    <a:lnTo>
                      <a:pt x="46" y="887"/>
                    </a:lnTo>
                    <a:lnTo>
                      <a:pt x="40" y="897"/>
                    </a:lnTo>
                    <a:lnTo>
                      <a:pt x="32" y="903"/>
                    </a:lnTo>
                    <a:lnTo>
                      <a:pt x="35" y="909"/>
                    </a:lnTo>
                    <a:lnTo>
                      <a:pt x="29" y="916"/>
                    </a:lnTo>
                    <a:lnTo>
                      <a:pt x="26" y="915"/>
                    </a:lnTo>
                    <a:lnTo>
                      <a:pt x="25" y="923"/>
                    </a:lnTo>
                    <a:lnTo>
                      <a:pt x="16" y="930"/>
                    </a:lnTo>
                    <a:lnTo>
                      <a:pt x="9" y="943"/>
                    </a:lnTo>
                    <a:lnTo>
                      <a:pt x="6" y="948"/>
                    </a:lnTo>
                    <a:lnTo>
                      <a:pt x="9" y="953"/>
                    </a:lnTo>
                    <a:lnTo>
                      <a:pt x="7" y="958"/>
                    </a:lnTo>
                    <a:lnTo>
                      <a:pt x="0" y="959"/>
                    </a:lnTo>
                    <a:lnTo>
                      <a:pt x="9" y="964"/>
                    </a:lnTo>
                    <a:lnTo>
                      <a:pt x="23" y="975"/>
                    </a:lnTo>
                    <a:lnTo>
                      <a:pt x="68" y="943"/>
                    </a:lnTo>
                    <a:lnTo>
                      <a:pt x="98" y="933"/>
                    </a:lnTo>
                    <a:lnTo>
                      <a:pt x="117" y="936"/>
                    </a:lnTo>
                    <a:lnTo>
                      <a:pt x="95" y="926"/>
                    </a:lnTo>
                    <a:lnTo>
                      <a:pt x="58" y="923"/>
                    </a:lnTo>
                    <a:lnTo>
                      <a:pt x="62" y="910"/>
                    </a:lnTo>
                    <a:lnTo>
                      <a:pt x="76" y="890"/>
                    </a:lnTo>
                    <a:lnTo>
                      <a:pt x="62" y="892"/>
                    </a:lnTo>
                    <a:lnTo>
                      <a:pt x="85" y="857"/>
                    </a:lnTo>
                    <a:lnTo>
                      <a:pt x="117" y="841"/>
                    </a:lnTo>
                    <a:lnTo>
                      <a:pt x="154" y="805"/>
                    </a:lnTo>
                    <a:lnTo>
                      <a:pt x="184" y="775"/>
                    </a:lnTo>
                    <a:lnTo>
                      <a:pt x="206" y="753"/>
                    </a:lnTo>
                    <a:lnTo>
                      <a:pt x="213" y="742"/>
                    </a:lnTo>
                    <a:lnTo>
                      <a:pt x="210" y="737"/>
                    </a:lnTo>
                    <a:lnTo>
                      <a:pt x="230" y="732"/>
                    </a:lnTo>
                    <a:lnTo>
                      <a:pt x="223" y="722"/>
                    </a:lnTo>
                    <a:lnTo>
                      <a:pt x="242" y="693"/>
                    </a:lnTo>
                    <a:lnTo>
                      <a:pt x="246" y="678"/>
                    </a:lnTo>
                    <a:lnTo>
                      <a:pt x="266" y="657"/>
                    </a:lnTo>
                    <a:lnTo>
                      <a:pt x="294" y="621"/>
                    </a:lnTo>
                    <a:lnTo>
                      <a:pt x="317" y="592"/>
                    </a:lnTo>
                    <a:lnTo>
                      <a:pt x="337" y="575"/>
                    </a:lnTo>
                    <a:lnTo>
                      <a:pt x="347" y="559"/>
                    </a:lnTo>
                    <a:lnTo>
                      <a:pt x="359" y="537"/>
                    </a:lnTo>
                    <a:lnTo>
                      <a:pt x="372" y="514"/>
                    </a:lnTo>
                    <a:lnTo>
                      <a:pt x="398" y="495"/>
                    </a:lnTo>
                    <a:lnTo>
                      <a:pt x="408" y="478"/>
                    </a:lnTo>
                    <a:lnTo>
                      <a:pt x="435" y="444"/>
                    </a:lnTo>
                    <a:lnTo>
                      <a:pt x="439" y="428"/>
                    </a:lnTo>
                    <a:lnTo>
                      <a:pt x="444" y="406"/>
                    </a:lnTo>
                    <a:lnTo>
                      <a:pt x="448" y="385"/>
                    </a:lnTo>
                    <a:lnTo>
                      <a:pt x="461" y="367"/>
                    </a:lnTo>
                    <a:lnTo>
                      <a:pt x="475" y="350"/>
                    </a:lnTo>
                    <a:lnTo>
                      <a:pt x="487" y="330"/>
                    </a:lnTo>
                    <a:lnTo>
                      <a:pt x="495" y="310"/>
                    </a:lnTo>
                    <a:lnTo>
                      <a:pt x="519" y="287"/>
                    </a:lnTo>
                    <a:lnTo>
                      <a:pt x="540" y="262"/>
                    </a:lnTo>
                    <a:lnTo>
                      <a:pt x="550" y="255"/>
                    </a:lnTo>
                    <a:lnTo>
                      <a:pt x="550" y="239"/>
                    </a:lnTo>
                    <a:lnTo>
                      <a:pt x="565" y="200"/>
                    </a:lnTo>
                    <a:lnTo>
                      <a:pt x="573" y="187"/>
                    </a:lnTo>
                    <a:lnTo>
                      <a:pt x="598" y="177"/>
                    </a:lnTo>
                    <a:lnTo>
                      <a:pt x="612" y="150"/>
                    </a:lnTo>
                    <a:lnTo>
                      <a:pt x="609" y="144"/>
                    </a:lnTo>
                    <a:lnTo>
                      <a:pt x="593" y="141"/>
                    </a:lnTo>
                    <a:lnTo>
                      <a:pt x="593" y="118"/>
                    </a:lnTo>
                    <a:lnTo>
                      <a:pt x="592" y="94"/>
                    </a:lnTo>
                    <a:lnTo>
                      <a:pt x="593" y="71"/>
                    </a:lnTo>
                    <a:lnTo>
                      <a:pt x="601" y="49"/>
                    </a:lnTo>
                    <a:lnTo>
                      <a:pt x="593" y="32"/>
                    </a:lnTo>
                    <a:lnTo>
                      <a:pt x="592" y="13"/>
                    </a:lnTo>
                    <a:lnTo>
                      <a:pt x="589" y="0"/>
                    </a:lnTo>
                    <a:lnTo>
                      <a:pt x="579" y="12"/>
                    </a:lnTo>
                    <a:lnTo>
                      <a:pt x="567" y="23"/>
                    </a:lnTo>
                    <a:lnTo>
                      <a:pt x="563" y="23"/>
                    </a:lnTo>
                    <a:lnTo>
                      <a:pt x="559" y="58"/>
                    </a:lnTo>
                    <a:lnTo>
                      <a:pt x="553" y="92"/>
                    </a:lnTo>
                    <a:lnTo>
                      <a:pt x="543" y="122"/>
                    </a:lnTo>
                    <a:lnTo>
                      <a:pt x="531" y="151"/>
                    </a:lnTo>
                    <a:lnTo>
                      <a:pt x="526" y="163"/>
                    </a:lnTo>
                    <a:lnTo>
                      <a:pt x="519" y="197"/>
                    </a:lnTo>
                    <a:lnTo>
                      <a:pt x="504" y="226"/>
                    </a:lnTo>
                    <a:lnTo>
                      <a:pt x="484" y="265"/>
                    </a:lnTo>
                    <a:lnTo>
                      <a:pt x="464" y="302"/>
                    </a:lnTo>
                    <a:lnTo>
                      <a:pt x="457" y="320"/>
                    </a:lnTo>
                    <a:lnTo>
                      <a:pt x="442" y="347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6292080" y="3662640"/>
                <a:ext cx="59760" cy="42120"/>
              </a:xfrm>
              <a:custGeom>
                <a:avLst/>
                <a:gdLst/>
                <a:ahLst/>
                <a:rect l="l" t="t" r="r" b="b"/>
                <a:pathLst>
                  <a:path w="116" h="60">
                    <a:moveTo>
                      <a:pt x="116" y="2"/>
                    </a:moveTo>
                    <a:lnTo>
                      <a:pt x="88" y="31"/>
                    </a:lnTo>
                    <a:lnTo>
                      <a:pt x="61" y="60"/>
                    </a:lnTo>
                    <a:lnTo>
                      <a:pt x="57" y="59"/>
                    </a:lnTo>
                    <a:lnTo>
                      <a:pt x="45" y="60"/>
                    </a:lnTo>
                    <a:lnTo>
                      <a:pt x="23" y="57"/>
                    </a:lnTo>
                    <a:lnTo>
                      <a:pt x="18" y="56"/>
                    </a:lnTo>
                    <a:lnTo>
                      <a:pt x="0" y="53"/>
                    </a:lnTo>
                    <a:lnTo>
                      <a:pt x="9" y="50"/>
                    </a:lnTo>
                    <a:lnTo>
                      <a:pt x="28" y="46"/>
                    </a:lnTo>
                    <a:lnTo>
                      <a:pt x="29" y="50"/>
                    </a:lnTo>
                    <a:lnTo>
                      <a:pt x="36" y="50"/>
                    </a:lnTo>
                    <a:lnTo>
                      <a:pt x="32" y="44"/>
                    </a:lnTo>
                    <a:lnTo>
                      <a:pt x="44" y="47"/>
                    </a:lnTo>
                    <a:lnTo>
                      <a:pt x="49" y="48"/>
                    </a:lnTo>
                    <a:lnTo>
                      <a:pt x="57" y="51"/>
                    </a:lnTo>
                    <a:lnTo>
                      <a:pt x="59" y="51"/>
                    </a:lnTo>
                    <a:lnTo>
                      <a:pt x="54" y="36"/>
                    </a:lnTo>
                    <a:lnTo>
                      <a:pt x="81" y="24"/>
                    </a:lnTo>
                    <a:lnTo>
                      <a:pt x="64" y="24"/>
                    </a:lnTo>
                    <a:lnTo>
                      <a:pt x="82" y="4"/>
                    </a:lnTo>
                    <a:lnTo>
                      <a:pt x="98" y="0"/>
                    </a:lnTo>
                    <a:lnTo>
                      <a:pt x="116" y="2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394320" y="3464280"/>
                <a:ext cx="20160" cy="27000"/>
              </a:xfrm>
              <a:custGeom>
                <a:avLst/>
                <a:gdLst/>
                <a:ahLst/>
                <a:rect l="l" t="t" r="r" b="b"/>
                <a:pathLst>
                  <a:path w="39" h="40">
                    <a:moveTo>
                      <a:pt x="39" y="0"/>
                    </a:moveTo>
                    <a:lnTo>
                      <a:pt x="28" y="4"/>
                    </a:lnTo>
                    <a:lnTo>
                      <a:pt x="0" y="40"/>
                    </a:lnTo>
                    <a:lnTo>
                      <a:pt x="12" y="37"/>
                    </a:lnTo>
                    <a:lnTo>
                      <a:pt x="19" y="31"/>
                    </a:lnTo>
                    <a:lnTo>
                      <a:pt x="32" y="14"/>
                    </a:lnTo>
                    <a:lnTo>
                      <a:pt x="38" y="13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317280" y="3594960"/>
                <a:ext cx="16920" cy="2268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32" y="0"/>
                    </a:moveTo>
                    <a:lnTo>
                      <a:pt x="6" y="13"/>
                    </a:lnTo>
                    <a:lnTo>
                      <a:pt x="0" y="28"/>
                    </a:lnTo>
                    <a:lnTo>
                      <a:pt x="3" y="33"/>
                    </a:lnTo>
                    <a:lnTo>
                      <a:pt x="15" y="23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5050440" y="3440880"/>
                <a:ext cx="99000" cy="113760"/>
              </a:xfrm>
              <a:custGeom>
                <a:avLst/>
                <a:gdLst/>
                <a:ahLst/>
                <a:rect l="l" t="t" r="r" b="b"/>
                <a:pathLst>
                  <a:path w="190" h="164">
                    <a:moveTo>
                      <a:pt x="139" y="88"/>
                    </a:moveTo>
                    <a:lnTo>
                      <a:pt x="120" y="72"/>
                    </a:lnTo>
                    <a:lnTo>
                      <a:pt x="117" y="70"/>
                    </a:lnTo>
                    <a:lnTo>
                      <a:pt x="113" y="75"/>
                    </a:lnTo>
                    <a:lnTo>
                      <a:pt x="131" y="90"/>
                    </a:lnTo>
                    <a:lnTo>
                      <a:pt x="116" y="95"/>
                    </a:lnTo>
                    <a:lnTo>
                      <a:pt x="105" y="98"/>
                    </a:lnTo>
                    <a:lnTo>
                      <a:pt x="107" y="106"/>
                    </a:lnTo>
                    <a:lnTo>
                      <a:pt x="105" y="118"/>
                    </a:lnTo>
                    <a:lnTo>
                      <a:pt x="104" y="118"/>
                    </a:lnTo>
                    <a:lnTo>
                      <a:pt x="90" y="142"/>
                    </a:lnTo>
                    <a:lnTo>
                      <a:pt x="52" y="164"/>
                    </a:lnTo>
                    <a:lnTo>
                      <a:pt x="38" y="160"/>
                    </a:lnTo>
                    <a:lnTo>
                      <a:pt x="16" y="152"/>
                    </a:lnTo>
                    <a:lnTo>
                      <a:pt x="5" y="148"/>
                    </a:lnTo>
                    <a:lnTo>
                      <a:pt x="6" y="147"/>
                    </a:lnTo>
                    <a:lnTo>
                      <a:pt x="0" y="145"/>
                    </a:lnTo>
                    <a:lnTo>
                      <a:pt x="7" y="136"/>
                    </a:lnTo>
                    <a:lnTo>
                      <a:pt x="10" y="134"/>
                    </a:lnTo>
                    <a:lnTo>
                      <a:pt x="13" y="128"/>
                    </a:lnTo>
                    <a:lnTo>
                      <a:pt x="16" y="129"/>
                    </a:lnTo>
                    <a:lnTo>
                      <a:pt x="19" y="119"/>
                    </a:lnTo>
                    <a:lnTo>
                      <a:pt x="25" y="115"/>
                    </a:lnTo>
                    <a:lnTo>
                      <a:pt x="35" y="109"/>
                    </a:lnTo>
                    <a:lnTo>
                      <a:pt x="55" y="92"/>
                    </a:lnTo>
                    <a:lnTo>
                      <a:pt x="65" y="90"/>
                    </a:lnTo>
                    <a:lnTo>
                      <a:pt x="95" y="70"/>
                    </a:lnTo>
                    <a:lnTo>
                      <a:pt x="110" y="62"/>
                    </a:lnTo>
                    <a:lnTo>
                      <a:pt x="126" y="47"/>
                    </a:lnTo>
                    <a:lnTo>
                      <a:pt x="120" y="47"/>
                    </a:lnTo>
                    <a:lnTo>
                      <a:pt x="128" y="33"/>
                    </a:lnTo>
                    <a:lnTo>
                      <a:pt x="154" y="3"/>
                    </a:lnTo>
                    <a:lnTo>
                      <a:pt x="164" y="0"/>
                    </a:lnTo>
                    <a:lnTo>
                      <a:pt x="157" y="5"/>
                    </a:lnTo>
                    <a:lnTo>
                      <a:pt x="162" y="17"/>
                    </a:lnTo>
                    <a:lnTo>
                      <a:pt x="180" y="10"/>
                    </a:lnTo>
                    <a:lnTo>
                      <a:pt x="180" y="15"/>
                    </a:lnTo>
                    <a:lnTo>
                      <a:pt x="183" y="17"/>
                    </a:lnTo>
                    <a:lnTo>
                      <a:pt x="183" y="18"/>
                    </a:lnTo>
                    <a:lnTo>
                      <a:pt x="190" y="18"/>
                    </a:lnTo>
                    <a:lnTo>
                      <a:pt x="185" y="30"/>
                    </a:lnTo>
                    <a:lnTo>
                      <a:pt x="167" y="50"/>
                    </a:lnTo>
                    <a:lnTo>
                      <a:pt x="152" y="69"/>
                    </a:lnTo>
                    <a:lnTo>
                      <a:pt x="140" y="73"/>
                    </a:lnTo>
                    <a:lnTo>
                      <a:pt x="143" y="77"/>
                    </a:lnTo>
                    <a:lnTo>
                      <a:pt x="131" y="77"/>
                    </a:lnTo>
                    <a:lnTo>
                      <a:pt x="144" y="82"/>
                    </a:lnTo>
                    <a:lnTo>
                      <a:pt x="150" y="89"/>
                    </a:lnTo>
                    <a:lnTo>
                      <a:pt x="139" y="88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5146200" y="3324600"/>
                <a:ext cx="61200" cy="135360"/>
              </a:xfrm>
              <a:custGeom>
                <a:avLst/>
                <a:gdLst/>
                <a:ahLst/>
                <a:rect l="l" t="t" r="r" b="b"/>
                <a:pathLst>
                  <a:path w="117" h="193">
                    <a:moveTo>
                      <a:pt x="3" y="130"/>
                    </a:moveTo>
                    <a:lnTo>
                      <a:pt x="17" y="143"/>
                    </a:lnTo>
                    <a:lnTo>
                      <a:pt x="30" y="156"/>
                    </a:lnTo>
                    <a:lnTo>
                      <a:pt x="16" y="186"/>
                    </a:lnTo>
                    <a:lnTo>
                      <a:pt x="26" y="193"/>
                    </a:lnTo>
                    <a:lnTo>
                      <a:pt x="48" y="173"/>
                    </a:lnTo>
                    <a:lnTo>
                      <a:pt x="68" y="155"/>
                    </a:lnTo>
                    <a:lnTo>
                      <a:pt x="74" y="133"/>
                    </a:lnTo>
                    <a:lnTo>
                      <a:pt x="95" y="127"/>
                    </a:lnTo>
                    <a:lnTo>
                      <a:pt x="100" y="114"/>
                    </a:lnTo>
                    <a:lnTo>
                      <a:pt x="117" y="88"/>
                    </a:lnTo>
                    <a:lnTo>
                      <a:pt x="111" y="85"/>
                    </a:lnTo>
                    <a:lnTo>
                      <a:pt x="91" y="96"/>
                    </a:lnTo>
                    <a:lnTo>
                      <a:pt x="61" y="84"/>
                    </a:lnTo>
                    <a:lnTo>
                      <a:pt x="53" y="57"/>
                    </a:lnTo>
                    <a:lnTo>
                      <a:pt x="52" y="72"/>
                    </a:lnTo>
                    <a:lnTo>
                      <a:pt x="36" y="65"/>
                    </a:lnTo>
                    <a:lnTo>
                      <a:pt x="36" y="57"/>
                    </a:lnTo>
                    <a:lnTo>
                      <a:pt x="32" y="36"/>
                    </a:lnTo>
                    <a:lnTo>
                      <a:pt x="32" y="25"/>
                    </a:lnTo>
                    <a:lnTo>
                      <a:pt x="28" y="23"/>
                    </a:lnTo>
                    <a:lnTo>
                      <a:pt x="12" y="12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6" y="19"/>
                    </a:lnTo>
                    <a:lnTo>
                      <a:pt x="13" y="28"/>
                    </a:lnTo>
                    <a:lnTo>
                      <a:pt x="22" y="52"/>
                    </a:lnTo>
                    <a:lnTo>
                      <a:pt x="19" y="42"/>
                    </a:lnTo>
                    <a:lnTo>
                      <a:pt x="25" y="47"/>
                    </a:lnTo>
                    <a:lnTo>
                      <a:pt x="28" y="51"/>
                    </a:lnTo>
                    <a:lnTo>
                      <a:pt x="26" y="58"/>
                    </a:lnTo>
                    <a:lnTo>
                      <a:pt x="29" y="71"/>
                    </a:lnTo>
                    <a:lnTo>
                      <a:pt x="36" y="68"/>
                    </a:lnTo>
                    <a:lnTo>
                      <a:pt x="32" y="74"/>
                    </a:lnTo>
                    <a:lnTo>
                      <a:pt x="33" y="87"/>
                    </a:lnTo>
                    <a:lnTo>
                      <a:pt x="25" y="116"/>
                    </a:lnTo>
                    <a:lnTo>
                      <a:pt x="3" y="13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5061600" y="355716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13" y="5"/>
                    </a:moveTo>
                    <a:lnTo>
                      <a:pt x="12" y="3"/>
                    </a:lnTo>
                    <a:lnTo>
                      <a:pt x="3" y="0"/>
                    </a:lnTo>
                    <a:lnTo>
                      <a:pt x="0" y="10"/>
                    </a:lnTo>
                    <a:lnTo>
                      <a:pt x="13" y="5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6661080" y="3240360"/>
                <a:ext cx="69120" cy="92520"/>
              </a:xfrm>
              <a:custGeom>
                <a:avLst/>
                <a:gdLst/>
                <a:ahLst/>
                <a:rect l="l" t="t" r="r" b="b"/>
                <a:pathLst>
                  <a:path w="131" h="130">
                    <a:moveTo>
                      <a:pt x="131" y="68"/>
                    </a:moveTo>
                    <a:lnTo>
                      <a:pt x="120" y="51"/>
                    </a:lnTo>
                    <a:lnTo>
                      <a:pt x="108" y="32"/>
                    </a:lnTo>
                    <a:lnTo>
                      <a:pt x="99" y="23"/>
                    </a:lnTo>
                    <a:lnTo>
                      <a:pt x="92" y="23"/>
                    </a:lnTo>
                    <a:lnTo>
                      <a:pt x="79" y="0"/>
                    </a:lnTo>
                    <a:lnTo>
                      <a:pt x="65" y="5"/>
                    </a:lnTo>
                    <a:lnTo>
                      <a:pt x="65" y="6"/>
                    </a:lnTo>
                    <a:lnTo>
                      <a:pt x="43" y="35"/>
                    </a:lnTo>
                    <a:lnTo>
                      <a:pt x="22" y="64"/>
                    </a:lnTo>
                    <a:lnTo>
                      <a:pt x="20" y="68"/>
                    </a:lnTo>
                    <a:lnTo>
                      <a:pt x="3" y="90"/>
                    </a:lnTo>
                    <a:lnTo>
                      <a:pt x="0" y="113"/>
                    </a:lnTo>
                    <a:lnTo>
                      <a:pt x="20" y="124"/>
                    </a:lnTo>
                    <a:lnTo>
                      <a:pt x="55" y="130"/>
                    </a:lnTo>
                    <a:lnTo>
                      <a:pt x="81" y="121"/>
                    </a:lnTo>
                    <a:lnTo>
                      <a:pt x="112" y="100"/>
                    </a:lnTo>
                    <a:lnTo>
                      <a:pt x="121" y="81"/>
                    </a:lnTo>
                    <a:lnTo>
                      <a:pt x="131" y="68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5333400" y="2925720"/>
                <a:ext cx="7560" cy="396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5" y="5"/>
                    </a:moveTo>
                    <a:lnTo>
                      <a:pt x="13" y="6"/>
                    </a:lnTo>
                    <a:lnTo>
                      <a:pt x="0" y="0"/>
                    </a:lnTo>
                    <a:lnTo>
                      <a:pt x="15" y="5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6604920" y="2854080"/>
                <a:ext cx="144000" cy="248760"/>
              </a:xfrm>
              <a:custGeom>
                <a:avLst/>
                <a:gdLst/>
                <a:ahLst/>
                <a:rect l="l" t="t" r="r" b="b"/>
                <a:pathLst>
                  <a:path w="277" h="353">
                    <a:moveTo>
                      <a:pt x="163" y="280"/>
                    </a:moveTo>
                    <a:lnTo>
                      <a:pt x="147" y="308"/>
                    </a:lnTo>
                    <a:lnTo>
                      <a:pt x="131" y="337"/>
                    </a:lnTo>
                    <a:lnTo>
                      <a:pt x="128" y="331"/>
                    </a:lnTo>
                    <a:lnTo>
                      <a:pt x="99" y="336"/>
                    </a:lnTo>
                    <a:lnTo>
                      <a:pt x="86" y="350"/>
                    </a:lnTo>
                    <a:lnTo>
                      <a:pt x="81" y="334"/>
                    </a:lnTo>
                    <a:lnTo>
                      <a:pt x="53" y="329"/>
                    </a:lnTo>
                    <a:lnTo>
                      <a:pt x="50" y="326"/>
                    </a:lnTo>
                    <a:lnTo>
                      <a:pt x="20" y="353"/>
                    </a:lnTo>
                    <a:lnTo>
                      <a:pt x="4" y="350"/>
                    </a:lnTo>
                    <a:lnTo>
                      <a:pt x="4" y="327"/>
                    </a:lnTo>
                    <a:lnTo>
                      <a:pt x="3" y="303"/>
                    </a:lnTo>
                    <a:lnTo>
                      <a:pt x="4" y="280"/>
                    </a:lnTo>
                    <a:lnTo>
                      <a:pt x="12" y="258"/>
                    </a:lnTo>
                    <a:lnTo>
                      <a:pt x="4" y="241"/>
                    </a:lnTo>
                    <a:lnTo>
                      <a:pt x="3" y="222"/>
                    </a:lnTo>
                    <a:lnTo>
                      <a:pt x="0" y="209"/>
                    </a:lnTo>
                    <a:lnTo>
                      <a:pt x="3" y="199"/>
                    </a:lnTo>
                    <a:lnTo>
                      <a:pt x="22" y="176"/>
                    </a:lnTo>
                    <a:lnTo>
                      <a:pt x="14" y="173"/>
                    </a:lnTo>
                    <a:lnTo>
                      <a:pt x="17" y="151"/>
                    </a:lnTo>
                    <a:lnTo>
                      <a:pt x="25" y="128"/>
                    </a:lnTo>
                    <a:lnTo>
                      <a:pt x="32" y="114"/>
                    </a:lnTo>
                    <a:lnTo>
                      <a:pt x="39" y="81"/>
                    </a:lnTo>
                    <a:lnTo>
                      <a:pt x="45" y="74"/>
                    </a:lnTo>
                    <a:lnTo>
                      <a:pt x="36" y="53"/>
                    </a:lnTo>
                    <a:lnTo>
                      <a:pt x="29" y="32"/>
                    </a:lnTo>
                    <a:lnTo>
                      <a:pt x="59" y="33"/>
                    </a:lnTo>
                    <a:lnTo>
                      <a:pt x="72" y="25"/>
                    </a:lnTo>
                    <a:lnTo>
                      <a:pt x="94" y="13"/>
                    </a:lnTo>
                    <a:lnTo>
                      <a:pt x="115" y="0"/>
                    </a:lnTo>
                    <a:lnTo>
                      <a:pt x="134" y="3"/>
                    </a:lnTo>
                    <a:lnTo>
                      <a:pt x="133" y="25"/>
                    </a:lnTo>
                    <a:lnTo>
                      <a:pt x="130" y="48"/>
                    </a:lnTo>
                    <a:lnTo>
                      <a:pt x="144" y="68"/>
                    </a:lnTo>
                    <a:lnTo>
                      <a:pt x="160" y="74"/>
                    </a:lnTo>
                    <a:lnTo>
                      <a:pt x="179" y="84"/>
                    </a:lnTo>
                    <a:lnTo>
                      <a:pt x="202" y="102"/>
                    </a:lnTo>
                    <a:lnTo>
                      <a:pt x="228" y="107"/>
                    </a:lnTo>
                    <a:lnTo>
                      <a:pt x="232" y="117"/>
                    </a:lnTo>
                    <a:lnTo>
                      <a:pt x="229" y="144"/>
                    </a:lnTo>
                    <a:lnTo>
                      <a:pt x="225" y="144"/>
                    </a:lnTo>
                    <a:lnTo>
                      <a:pt x="231" y="154"/>
                    </a:lnTo>
                    <a:lnTo>
                      <a:pt x="228" y="176"/>
                    </a:lnTo>
                    <a:lnTo>
                      <a:pt x="248" y="179"/>
                    </a:lnTo>
                    <a:lnTo>
                      <a:pt x="269" y="180"/>
                    </a:lnTo>
                    <a:lnTo>
                      <a:pt x="265" y="205"/>
                    </a:lnTo>
                    <a:lnTo>
                      <a:pt x="275" y="219"/>
                    </a:lnTo>
                    <a:lnTo>
                      <a:pt x="277" y="229"/>
                    </a:lnTo>
                    <a:lnTo>
                      <a:pt x="265" y="249"/>
                    </a:lnTo>
                    <a:lnTo>
                      <a:pt x="255" y="269"/>
                    </a:lnTo>
                    <a:lnTo>
                      <a:pt x="255" y="278"/>
                    </a:lnTo>
                    <a:lnTo>
                      <a:pt x="251" y="281"/>
                    </a:lnTo>
                    <a:lnTo>
                      <a:pt x="252" y="277"/>
                    </a:lnTo>
                    <a:lnTo>
                      <a:pt x="233" y="259"/>
                    </a:lnTo>
                    <a:lnTo>
                      <a:pt x="202" y="264"/>
                    </a:lnTo>
                    <a:lnTo>
                      <a:pt x="170" y="268"/>
                    </a:lnTo>
                    <a:lnTo>
                      <a:pt x="163" y="28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5415120" y="2891880"/>
                <a:ext cx="2880" cy="396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6" y="4"/>
                    </a:moveTo>
                    <a:lnTo>
                      <a:pt x="3" y="3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5484240" y="2867040"/>
                <a:ext cx="2880" cy="36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3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5510880" y="30841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3"/>
                    </a:moveTo>
                    <a:lnTo>
                      <a:pt x="3" y="0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5488920" y="307368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3" y="0"/>
                    </a:moveTo>
                    <a:lnTo>
                      <a:pt x="0" y="2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5488920" y="3027240"/>
                <a:ext cx="2520" cy="18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2" y="4"/>
                    </a:lnTo>
                    <a:lnTo>
                      <a:pt x="2" y="3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501520" y="303336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3" y="3"/>
                    </a:moveTo>
                    <a:lnTo>
                      <a:pt x="0" y="3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2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5482800" y="286272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1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5490360" y="302472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2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5449680" y="30124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3" y="3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514120" y="30441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5518800" y="3050280"/>
                <a:ext cx="1440" cy="216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2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5487120" y="30315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452560" y="29239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451120" y="291960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493600" y="3024720"/>
                <a:ext cx="1080" cy="216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2"/>
                    </a:moveTo>
                    <a:lnTo>
                      <a:pt x="1" y="0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221800" y="2999520"/>
                <a:ext cx="17280" cy="14760"/>
              </a:xfrm>
              <a:custGeom>
                <a:avLst/>
                <a:gdLst/>
                <a:ahLst/>
                <a:rect l="l" t="t" r="r" b="b"/>
                <a:pathLst>
                  <a:path w="32" h="22">
                    <a:moveTo>
                      <a:pt x="32" y="20"/>
                    </a:moveTo>
                    <a:lnTo>
                      <a:pt x="3" y="22"/>
                    </a:lnTo>
                    <a:lnTo>
                      <a:pt x="0" y="10"/>
                    </a:lnTo>
                    <a:lnTo>
                      <a:pt x="20" y="0"/>
                    </a:lnTo>
                    <a:lnTo>
                      <a:pt x="30" y="17"/>
                    </a:lnTo>
                    <a:lnTo>
                      <a:pt x="32" y="2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5239440" y="2978280"/>
                <a:ext cx="15480" cy="10440"/>
              </a:xfrm>
              <a:custGeom>
                <a:avLst/>
                <a:gdLst/>
                <a:ahLst/>
                <a:rect l="l" t="t" r="r" b="b"/>
                <a:pathLst>
                  <a:path w="30" h="16">
                    <a:moveTo>
                      <a:pt x="24" y="10"/>
                    </a:moveTo>
                    <a:lnTo>
                      <a:pt x="30" y="0"/>
                    </a:lnTo>
                    <a:lnTo>
                      <a:pt x="0" y="10"/>
                    </a:lnTo>
                    <a:lnTo>
                      <a:pt x="1" y="16"/>
                    </a:lnTo>
                    <a:lnTo>
                      <a:pt x="24" y="1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616360" y="300204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4" y="0"/>
                    </a:moveTo>
                    <a:lnTo>
                      <a:pt x="0" y="3"/>
                    </a:lnTo>
                    <a:lnTo>
                      <a:pt x="10" y="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5594040" y="29869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2"/>
                    </a:moveTo>
                    <a:lnTo>
                      <a:pt x="0" y="0"/>
                    </a:lnTo>
                    <a:lnTo>
                      <a:pt x="2" y="3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3796200" y="1796400"/>
                <a:ext cx="171360" cy="162000"/>
              </a:xfrm>
              <a:custGeom>
                <a:avLst/>
                <a:gdLst/>
                <a:ahLst/>
                <a:rect l="l" t="t" r="r" b="b"/>
                <a:pathLst>
                  <a:path w="329" h="230">
                    <a:moveTo>
                      <a:pt x="180" y="197"/>
                    </a:moveTo>
                    <a:lnTo>
                      <a:pt x="154" y="174"/>
                    </a:lnTo>
                    <a:lnTo>
                      <a:pt x="130" y="150"/>
                    </a:lnTo>
                    <a:lnTo>
                      <a:pt x="117" y="140"/>
                    </a:lnTo>
                    <a:lnTo>
                      <a:pt x="94" y="128"/>
                    </a:lnTo>
                    <a:lnTo>
                      <a:pt x="92" y="101"/>
                    </a:lnTo>
                    <a:lnTo>
                      <a:pt x="77" y="81"/>
                    </a:lnTo>
                    <a:lnTo>
                      <a:pt x="46" y="101"/>
                    </a:lnTo>
                    <a:lnTo>
                      <a:pt x="32" y="107"/>
                    </a:lnTo>
                    <a:lnTo>
                      <a:pt x="28" y="122"/>
                    </a:lnTo>
                    <a:lnTo>
                      <a:pt x="0" y="115"/>
                    </a:lnTo>
                    <a:lnTo>
                      <a:pt x="9" y="91"/>
                    </a:lnTo>
                    <a:lnTo>
                      <a:pt x="18" y="68"/>
                    </a:lnTo>
                    <a:lnTo>
                      <a:pt x="28" y="43"/>
                    </a:lnTo>
                    <a:lnTo>
                      <a:pt x="36" y="19"/>
                    </a:lnTo>
                    <a:lnTo>
                      <a:pt x="69" y="9"/>
                    </a:lnTo>
                    <a:lnTo>
                      <a:pt x="103" y="0"/>
                    </a:lnTo>
                    <a:lnTo>
                      <a:pt x="121" y="14"/>
                    </a:lnTo>
                    <a:lnTo>
                      <a:pt x="140" y="29"/>
                    </a:lnTo>
                    <a:lnTo>
                      <a:pt x="146" y="55"/>
                    </a:lnTo>
                    <a:lnTo>
                      <a:pt x="167" y="56"/>
                    </a:lnTo>
                    <a:lnTo>
                      <a:pt x="190" y="58"/>
                    </a:lnTo>
                    <a:lnTo>
                      <a:pt x="212" y="59"/>
                    </a:lnTo>
                    <a:lnTo>
                      <a:pt x="234" y="62"/>
                    </a:lnTo>
                    <a:lnTo>
                      <a:pt x="247" y="79"/>
                    </a:lnTo>
                    <a:lnTo>
                      <a:pt x="235" y="99"/>
                    </a:lnTo>
                    <a:lnTo>
                      <a:pt x="251" y="111"/>
                    </a:lnTo>
                    <a:lnTo>
                      <a:pt x="265" y="121"/>
                    </a:lnTo>
                    <a:lnTo>
                      <a:pt x="294" y="107"/>
                    </a:lnTo>
                    <a:lnTo>
                      <a:pt x="324" y="91"/>
                    </a:lnTo>
                    <a:lnTo>
                      <a:pt x="329" y="111"/>
                    </a:lnTo>
                    <a:lnTo>
                      <a:pt x="303" y="125"/>
                    </a:lnTo>
                    <a:lnTo>
                      <a:pt x="268" y="145"/>
                    </a:lnTo>
                    <a:lnTo>
                      <a:pt x="234" y="166"/>
                    </a:lnTo>
                    <a:lnTo>
                      <a:pt x="238" y="177"/>
                    </a:lnTo>
                    <a:lnTo>
                      <a:pt x="249" y="186"/>
                    </a:lnTo>
                    <a:lnTo>
                      <a:pt x="249" y="196"/>
                    </a:lnTo>
                    <a:lnTo>
                      <a:pt x="236" y="213"/>
                    </a:lnTo>
                    <a:lnTo>
                      <a:pt x="222" y="230"/>
                    </a:lnTo>
                    <a:lnTo>
                      <a:pt x="202" y="228"/>
                    </a:lnTo>
                    <a:lnTo>
                      <a:pt x="182" y="223"/>
                    </a:lnTo>
                    <a:lnTo>
                      <a:pt x="180" y="197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506040" y="1741320"/>
                <a:ext cx="32760" cy="67320"/>
              </a:xfrm>
              <a:custGeom>
                <a:avLst/>
                <a:gdLst/>
                <a:ahLst/>
                <a:rect l="l" t="t" r="r" b="b"/>
                <a:pathLst>
                  <a:path w="63" h="95">
                    <a:moveTo>
                      <a:pt x="33" y="0"/>
                    </a:moveTo>
                    <a:lnTo>
                      <a:pt x="6" y="15"/>
                    </a:lnTo>
                    <a:lnTo>
                      <a:pt x="7" y="15"/>
                    </a:lnTo>
                    <a:lnTo>
                      <a:pt x="11" y="30"/>
                    </a:lnTo>
                    <a:lnTo>
                      <a:pt x="17" y="46"/>
                    </a:lnTo>
                    <a:lnTo>
                      <a:pt x="8" y="69"/>
                    </a:lnTo>
                    <a:lnTo>
                      <a:pt x="0" y="91"/>
                    </a:lnTo>
                    <a:lnTo>
                      <a:pt x="16" y="91"/>
                    </a:lnTo>
                    <a:lnTo>
                      <a:pt x="26" y="95"/>
                    </a:lnTo>
                    <a:lnTo>
                      <a:pt x="33" y="82"/>
                    </a:lnTo>
                    <a:lnTo>
                      <a:pt x="63" y="65"/>
                    </a:lnTo>
                    <a:lnTo>
                      <a:pt x="57" y="49"/>
                    </a:lnTo>
                    <a:lnTo>
                      <a:pt x="50" y="35"/>
                    </a:lnTo>
                    <a:lnTo>
                      <a:pt x="44" y="19"/>
                    </a:lnTo>
                    <a:lnTo>
                      <a:pt x="39" y="3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367800" y="1703520"/>
                <a:ext cx="65880" cy="43920"/>
              </a:xfrm>
              <a:custGeom>
                <a:avLst/>
                <a:gdLst/>
                <a:ahLst/>
                <a:rect l="l" t="t" r="r" b="b"/>
                <a:pathLst>
                  <a:path w="128" h="63">
                    <a:moveTo>
                      <a:pt x="116" y="19"/>
                    </a:moveTo>
                    <a:lnTo>
                      <a:pt x="128" y="37"/>
                    </a:lnTo>
                    <a:lnTo>
                      <a:pt x="125" y="39"/>
                    </a:lnTo>
                    <a:lnTo>
                      <a:pt x="115" y="45"/>
                    </a:lnTo>
                    <a:lnTo>
                      <a:pt x="109" y="46"/>
                    </a:lnTo>
                    <a:lnTo>
                      <a:pt x="106" y="49"/>
                    </a:lnTo>
                    <a:lnTo>
                      <a:pt x="95" y="56"/>
                    </a:lnTo>
                    <a:lnTo>
                      <a:pt x="82" y="59"/>
                    </a:lnTo>
                    <a:lnTo>
                      <a:pt x="75" y="59"/>
                    </a:lnTo>
                    <a:lnTo>
                      <a:pt x="69" y="58"/>
                    </a:lnTo>
                    <a:lnTo>
                      <a:pt x="37" y="53"/>
                    </a:lnTo>
                    <a:lnTo>
                      <a:pt x="19" y="63"/>
                    </a:lnTo>
                    <a:lnTo>
                      <a:pt x="11" y="58"/>
                    </a:lnTo>
                    <a:lnTo>
                      <a:pt x="0" y="29"/>
                    </a:lnTo>
                    <a:lnTo>
                      <a:pt x="1" y="20"/>
                    </a:lnTo>
                    <a:lnTo>
                      <a:pt x="65" y="0"/>
                    </a:lnTo>
                    <a:lnTo>
                      <a:pt x="69" y="3"/>
                    </a:lnTo>
                    <a:lnTo>
                      <a:pt x="73" y="1"/>
                    </a:lnTo>
                    <a:lnTo>
                      <a:pt x="92" y="12"/>
                    </a:lnTo>
                    <a:lnTo>
                      <a:pt x="91" y="19"/>
                    </a:lnTo>
                    <a:lnTo>
                      <a:pt x="102" y="17"/>
                    </a:lnTo>
                    <a:lnTo>
                      <a:pt x="116" y="19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3381480" y="1749960"/>
                <a:ext cx="83160" cy="46080"/>
              </a:xfrm>
              <a:custGeom>
                <a:avLst/>
                <a:gdLst/>
                <a:ahLst/>
                <a:rect l="l" t="t" r="r" b="b"/>
                <a:pathLst>
                  <a:path w="159" h="68">
                    <a:moveTo>
                      <a:pt x="40" y="68"/>
                    </a:moveTo>
                    <a:lnTo>
                      <a:pt x="11" y="65"/>
                    </a:lnTo>
                    <a:lnTo>
                      <a:pt x="2" y="49"/>
                    </a:lnTo>
                    <a:lnTo>
                      <a:pt x="0" y="45"/>
                    </a:lnTo>
                    <a:lnTo>
                      <a:pt x="0" y="42"/>
                    </a:lnTo>
                    <a:lnTo>
                      <a:pt x="4" y="39"/>
                    </a:lnTo>
                    <a:lnTo>
                      <a:pt x="23" y="22"/>
                    </a:lnTo>
                    <a:lnTo>
                      <a:pt x="26" y="20"/>
                    </a:lnTo>
                    <a:lnTo>
                      <a:pt x="40" y="12"/>
                    </a:lnTo>
                    <a:lnTo>
                      <a:pt x="44" y="15"/>
                    </a:lnTo>
                    <a:lnTo>
                      <a:pt x="70" y="15"/>
                    </a:lnTo>
                    <a:lnTo>
                      <a:pt x="115" y="0"/>
                    </a:lnTo>
                    <a:lnTo>
                      <a:pt x="151" y="0"/>
                    </a:lnTo>
                    <a:lnTo>
                      <a:pt x="159" y="13"/>
                    </a:lnTo>
                    <a:lnTo>
                      <a:pt x="123" y="33"/>
                    </a:lnTo>
                    <a:lnTo>
                      <a:pt x="90" y="58"/>
                    </a:lnTo>
                    <a:lnTo>
                      <a:pt x="76" y="62"/>
                    </a:lnTo>
                    <a:lnTo>
                      <a:pt x="40" y="68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735000" y="1621440"/>
                <a:ext cx="439920" cy="261720"/>
              </a:xfrm>
              <a:custGeom>
                <a:avLst/>
                <a:gdLst/>
                <a:ahLst/>
                <a:rect l="l" t="t" r="r" b="b"/>
                <a:pathLst>
                  <a:path w="841" h="370">
                    <a:moveTo>
                      <a:pt x="79" y="220"/>
                    </a:moveTo>
                    <a:lnTo>
                      <a:pt x="62" y="219"/>
                    </a:lnTo>
                    <a:lnTo>
                      <a:pt x="26" y="232"/>
                    </a:lnTo>
                    <a:lnTo>
                      <a:pt x="23" y="233"/>
                    </a:lnTo>
                    <a:lnTo>
                      <a:pt x="23" y="207"/>
                    </a:lnTo>
                    <a:lnTo>
                      <a:pt x="11" y="187"/>
                    </a:lnTo>
                    <a:lnTo>
                      <a:pt x="0" y="167"/>
                    </a:lnTo>
                    <a:lnTo>
                      <a:pt x="24" y="138"/>
                    </a:lnTo>
                    <a:lnTo>
                      <a:pt x="51" y="109"/>
                    </a:lnTo>
                    <a:lnTo>
                      <a:pt x="67" y="121"/>
                    </a:lnTo>
                    <a:lnTo>
                      <a:pt x="80" y="109"/>
                    </a:lnTo>
                    <a:lnTo>
                      <a:pt x="106" y="98"/>
                    </a:lnTo>
                    <a:lnTo>
                      <a:pt x="131" y="86"/>
                    </a:lnTo>
                    <a:lnTo>
                      <a:pt x="162" y="85"/>
                    </a:lnTo>
                    <a:lnTo>
                      <a:pt x="180" y="98"/>
                    </a:lnTo>
                    <a:lnTo>
                      <a:pt x="197" y="111"/>
                    </a:lnTo>
                    <a:lnTo>
                      <a:pt x="230" y="109"/>
                    </a:lnTo>
                    <a:lnTo>
                      <a:pt x="272" y="108"/>
                    </a:lnTo>
                    <a:lnTo>
                      <a:pt x="308" y="115"/>
                    </a:lnTo>
                    <a:lnTo>
                      <a:pt x="318" y="108"/>
                    </a:lnTo>
                    <a:lnTo>
                      <a:pt x="316" y="80"/>
                    </a:lnTo>
                    <a:lnTo>
                      <a:pt x="351" y="50"/>
                    </a:lnTo>
                    <a:lnTo>
                      <a:pt x="370" y="52"/>
                    </a:lnTo>
                    <a:lnTo>
                      <a:pt x="354" y="39"/>
                    </a:lnTo>
                    <a:lnTo>
                      <a:pt x="384" y="34"/>
                    </a:lnTo>
                    <a:lnTo>
                      <a:pt x="414" y="30"/>
                    </a:lnTo>
                    <a:lnTo>
                      <a:pt x="446" y="23"/>
                    </a:lnTo>
                    <a:lnTo>
                      <a:pt x="478" y="16"/>
                    </a:lnTo>
                    <a:lnTo>
                      <a:pt x="508" y="8"/>
                    </a:lnTo>
                    <a:lnTo>
                      <a:pt x="540" y="1"/>
                    </a:lnTo>
                    <a:lnTo>
                      <a:pt x="561" y="0"/>
                    </a:lnTo>
                    <a:lnTo>
                      <a:pt x="561" y="16"/>
                    </a:lnTo>
                    <a:lnTo>
                      <a:pt x="590" y="30"/>
                    </a:lnTo>
                    <a:lnTo>
                      <a:pt x="599" y="39"/>
                    </a:lnTo>
                    <a:lnTo>
                      <a:pt x="613" y="42"/>
                    </a:lnTo>
                    <a:lnTo>
                      <a:pt x="648" y="31"/>
                    </a:lnTo>
                    <a:lnTo>
                      <a:pt x="682" y="21"/>
                    </a:lnTo>
                    <a:lnTo>
                      <a:pt x="684" y="26"/>
                    </a:lnTo>
                    <a:lnTo>
                      <a:pt x="669" y="37"/>
                    </a:lnTo>
                    <a:lnTo>
                      <a:pt x="682" y="57"/>
                    </a:lnTo>
                    <a:lnTo>
                      <a:pt x="695" y="76"/>
                    </a:lnTo>
                    <a:lnTo>
                      <a:pt x="708" y="95"/>
                    </a:lnTo>
                    <a:lnTo>
                      <a:pt x="721" y="115"/>
                    </a:lnTo>
                    <a:lnTo>
                      <a:pt x="731" y="108"/>
                    </a:lnTo>
                    <a:lnTo>
                      <a:pt x="741" y="114"/>
                    </a:lnTo>
                    <a:lnTo>
                      <a:pt x="772" y="109"/>
                    </a:lnTo>
                    <a:lnTo>
                      <a:pt x="786" y="128"/>
                    </a:lnTo>
                    <a:lnTo>
                      <a:pt x="802" y="145"/>
                    </a:lnTo>
                    <a:lnTo>
                      <a:pt x="833" y="138"/>
                    </a:lnTo>
                    <a:lnTo>
                      <a:pt x="841" y="164"/>
                    </a:lnTo>
                    <a:lnTo>
                      <a:pt x="819" y="181"/>
                    </a:lnTo>
                    <a:lnTo>
                      <a:pt x="805" y="188"/>
                    </a:lnTo>
                    <a:lnTo>
                      <a:pt x="795" y="217"/>
                    </a:lnTo>
                    <a:lnTo>
                      <a:pt x="773" y="220"/>
                    </a:lnTo>
                    <a:lnTo>
                      <a:pt x="744" y="213"/>
                    </a:lnTo>
                    <a:lnTo>
                      <a:pt x="730" y="236"/>
                    </a:lnTo>
                    <a:lnTo>
                      <a:pt x="717" y="259"/>
                    </a:lnTo>
                    <a:lnTo>
                      <a:pt x="718" y="269"/>
                    </a:lnTo>
                    <a:lnTo>
                      <a:pt x="691" y="266"/>
                    </a:lnTo>
                    <a:lnTo>
                      <a:pt x="659" y="275"/>
                    </a:lnTo>
                    <a:lnTo>
                      <a:pt x="669" y="282"/>
                    </a:lnTo>
                    <a:lnTo>
                      <a:pt x="666" y="302"/>
                    </a:lnTo>
                    <a:lnTo>
                      <a:pt x="665" y="322"/>
                    </a:lnTo>
                    <a:lnTo>
                      <a:pt x="662" y="327"/>
                    </a:lnTo>
                    <a:lnTo>
                      <a:pt x="653" y="332"/>
                    </a:lnTo>
                    <a:lnTo>
                      <a:pt x="636" y="315"/>
                    </a:lnTo>
                    <a:lnTo>
                      <a:pt x="606" y="318"/>
                    </a:lnTo>
                    <a:lnTo>
                      <a:pt x="576" y="321"/>
                    </a:lnTo>
                    <a:lnTo>
                      <a:pt x="544" y="322"/>
                    </a:lnTo>
                    <a:lnTo>
                      <a:pt x="525" y="320"/>
                    </a:lnTo>
                    <a:lnTo>
                      <a:pt x="504" y="335"/>
                    </a:lnTo>
                    <a:lnTo>
                      <a:pt x="483" y="331"/>
                    </a:lnTo>
                    <a:lnTo>
                      <a:pt x="462" y="328"/>
                    </a:lnTo>
                    <a:lnTo>
                      <a:pt x="440" y="340"/>
                    </a:lnTo>
                    <a:lnTo>
                      <a:pt x="410" y="356"/>
                    </a:lnTo>
                    <a:lnTo>
                      <a:pt x="381" y="370"/>
                    </a:lnTo>
                    <a:lnTo>
                      <a:pt x="367" y="360"/>
                    </a:lnTo>
                    <a:lnTo>
                      <a:pt x="351" y="348"/>
                    </a:lnTo>
                    <a:lnTo>
                      <a:pt x="363" y="328"/>
                    </a:lnTo>
                    <a:lnTo>
                      <a:pt x="350" y="311"/>
                    </a:lnTo>
                    <a:lnTo>
                      <a:pt x="328" y="308"/>
                    </a:lnTo>
                    <a:lnTo>
                      <a:pt x="306" y="307"/>
                    </a:lnTo>
                    <a:lnTo>
                      <a:pt x="283" y="305"/>
                    </a:lnTo>
                    <a:lnTo>
                      <a:pt x="262" y="304"/>
                    </a:lnTo>
                    <a:lnTo>
                      <a:pt x="256" y="278"/>
                    </a:lnTo>
                    <a:lnTo>
                      <a:pt x="237" y="263"/>
                    </a:lnTo>
                    <a:lnTo>
                      <a:pt x="219" y="249"/>
                    </a:lnTo>
                    <a:lnTo>
                      <a:pt x="185" y="258"/>
                    </a:lnTo>
                    <a:lnTo>
                      <a:pt x="152" y="268"/>
                    </a:lnTo>
                    <a:lnTo>
                      <a:pt x="144" y="292"/>
                    </a:lnTo>
                    <a:lnTo>
                      <a:pt x="134" y="317"/>
                    </a:lnTo>
                    <a:lnTo>
                      <a:pt x="125" y="340"/>
                    </a:lnTo>
                    <a:lnTo>
                      <a:pt x="116" y="364"/>
                    </a:lnTo>
                    <a:lnTo>
                      <a:pt x="96" y="357"/>
                    </a:lnTo>
                    <a:lnTo>
                      <a:pt x="76" y="348"/>
                    </a:lnTo>
                    <a:lnTo>
                      <a:pt x="89" y="330"/>
                    </a:lnTo>
                    <a:lnTo>
                      <a:pt x="51" y="330"/>
                    </a:lnTo>
                    <a:lnTo>
                      <a:pt x="37" y="322"/>
                    </a:lnTo>
                    <a:lnTo>
                      <a:pt x="31" y="318"/>
                    </a:lnTo>
                    <a:lnTo>
                      <a:pt x="28" y="292"/>
                    </a:lnTo>
                    <a:lnTo>
                      <a:pt x="21" y="284"/>
                    </a:lnTo>
                    <a:lnTo>
                      <a:pt x="47" y="282"/>
                    </a:lnTo>
                    <a:lnTo>
                      <a:pt x="43" y="272"/>
                    </a:lnTo>
                    <a:lnTo>
                      <a:pt x="63" y="262"/>
                    </a:lnTo>
                    <a:lnTo>
                      <a:pt x="90" y="262"/>
                    </a:lnTo>
                    <a:lnTo>
                      <a:pt x="90" y="252"/>
                    </a:lnTo>
                    <a:lnTo>
                      <a:pt x="106" y="222"/>
                    </a:lnTo>
                    <a:lnTo>
                      <a:pt x="79" y="22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403800" y="1633680"/>
                <a:ext cx="120960" cy="103320"/>
              </a:xfrm>
              <a:custGeom>
                <a:avLst/>
                <a:gdLst/>
                <a:ahLst/>
                <a:rect l="l" t="t" r="r" b="b"/>
                <a:pathLst>
                  <a:path w="233" h="147">
                    <a:moveTo>
                      <a:pt x="141" y="7"/>
                    </a:moveTo>
                    <a:lnTo>
                      <a:pt x="144" y="0"/>
                    </a:lnTo>
                    <a:lnTo>
                      <a:pt x="115" y="2"/>
                    </a:lnTo>
                    <a:lnTo>
                      <a:pt x="81" y="12"/>
                    </a:lnTo>
                    <a:lnTo>
                      <a:pt x="47" y="17"/>
                    </a:lnTo>
                    <a:lnTo>
                      <a:pt x="50" y="26"/>
                    </a:lnTo>
                    <a:lnTo>
                      <a:pt x="42" y="27"/>
                    </a:lnTo>
                    <a:lnTo>
                      <a:pt x="24" y="52"/>
                    </a:lnTo>
                    <a:lnTo>
                      <a:pt x="13" y="79"/>
                    </a:lnTo>
                    <a:lnTo>
                      <a:pt x="0" y="101"/>
                    </a:lnTo>
                    <a:lnTo>
                      <a:pt x="4" y="99"/>
                    </a:lnTo>
                    <a:lnTo>
                      <a:pt x="23" y="110"/>
                    </a:lnTo>
                    <a:lnTo>
                      <a:pt x="22" y="117"/>
                    </a:lnTo>
                    <a:lnTo>
                      <a:pt x="33" y="115"/>
                    </a:lnTo>
                    <a:lnTo>
                      <a:pt x="47" y="117"/>
                    </a:lnTo>
                    <a:lnTo>
                      <a:pt x="59" y="135"/>
                    </a:lnTo>
                    <a:lnTo>
                      <a:pt x="81" y="137"/>
                    </a:lnTo>
                    <a:lnTo>
                      <a:pt x="82" y="141"/>
                    </a:lnTo>
                    <a:lnTo>
                      <a:pt x="102" y="140"/>
                    </a:lnTo>
                    <a:lnTo>
                      <a:pt x="130" y="147"/>
                    </a:lnTo>
                    <a:lnTo>
                      <a:pt x="137" y="140"/>
                    </a:lnTo>
                    <a:lnTo>
                      <a:pt x="176" y="112"/>
                    </a:lnTo>
                    <a:lnTo>
                      <a:pt x="190" y="99"/>
                    </a:lnTo>
                    <a:lnTo>
                      <a:pt x="200" y="72"/>
                    </a:lnTo>
                    <a:lnTo>
                      <a:pt x="196" y="63"/>
                    </a:lnTo>
                    <a:lnTo>
                      <a:pt x="223" y="46"/>
                    </a:lnTo>
                    <a:lnTo>
                      <a:pt x="233" y="13"/>
                    </a:lnTo>
                    <a:lnTo>
                      <a:pt x="199" y="10"/>
                    </a:lnTo>
                    <a:lnTo>
                      <a:pt x="163" y="7"/>
                    </a:lnTo>
                    <a:lnTo>
                      <a:pt x="141" y="7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422520" y="1752120"/>
                <a:ext cx="97200" cy="86400"/>
              </a:xfrm>
              <a:custGeom>
                <a:avLst/>
                <a:gdLst/>
                <a:ahLst/>
                <a:rect l="l" t="t" r="r" b="b"/>
                <a:pathLst>
                  <a:path w="186" h="121">
                    <a:moveTo>
                      <a:pt x="158" y="99"/>
                    </a:moveTo>
                    <a:lnTo>
                      <a:pt x="144" y="119"/>
                    </a:lnTo>
                    <a:lnTo>
                      <a:pt x="108" y="110"/>
                    </a:lnTo>
                    <a:lnTo>
                      <a:pt x="68" y="121"/>
                    </a:lnTo>
                    <a:lnTo>
                      <a:pt x="46" y="118"/>
                    </a:lnTo>
                    <a:lnTo>
                      <a:pt x="24" y="113"/>
                    </a:lnTo>
                    <a:lnTo>
                      <a:pt x="23" y="106"/>
                    </a:lnTo>
                    <a:lnTo>
                      <a:pt x="26" y="98"/>
                    </a:lnTo>
                    <a:lnTo>
                      <a:pt x="22" y="95"/>
                    </a:lnTo>
                    <a:lnTo>
                      <a:pt x="14" y="95"/>
                    </a:lnTo>
                    <a:lnTo>
                      <a:pt x="9" y="89"/>
                    </a:lnTo>
                    <a:lnTo>
                      <a:pt x="0" y="57"/>
                    </a:lnTo>
                    <a:lnTo>
                      <a:pt x="14" y="53"/>
                    </a:lnTo>
                    <a:lnTo>
                      <a:pt x="47" y="28"/>
                    </a:lnTo>
                    <a:lnTo>
                      <a:pt x="83" y="8"/>
                    </a:lnTo>
                    <a:lnTo>
                      <a:pt x="121" y="11"/>
                    </a:lnTo>
                    <a:lnTo>
                      <a:pt x="166" y="0"/>
                    </a:lnTo>
                    <a:lnTo>
                      <a:pt x="167" y="0"/>
                    </a:lnTo>
                    <a:lnTo>
                      <a:pt x="171" y="15"/>
                    </a:lnTo>
                    <a:lnTo>
                      <a:pt x="177" y="31"/>
                    </a:lnTo>
                    <a:lnTo>
                      <a:pt x="168" y="54"/>
                    </a:lnTo>
                    <a:lnTo>
                      <a:pt x="160" y="76"/>
                    </a:lnTo>
                    <a:lnTo>
                      <a:pt x="176" y="76"/>
                    </a:lnTo>
                    <a:lnTo>
                      <a:pt x="186" y="80"/>
                    </a:lnTo>
                    <a:lnTo>
                      <a:pt x="183" y="86"/>
                    </a:lnTo>
                    <a:lnTo>
                      <a:pt x="170" y="92"/>
                    </a:lnTo>
                    <a:lnTo>
                      <a:pt x="168" y="89"/>
                    </a:lnTo>
                    <a:lnTo>
                      <a:pt x="158" y="99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461760" y="1674000"/>
                <a:ext cx="205920" cy="149760"/>
              </a:xfrm>
              <a:custGeom>
                <a:avLst/>
                <a:gdLst/>
                <a:ahLst/>
                <a:rect l="l" t="t" r="r" b="b"/>
                <a:pathLst>
                  <a:path w="393" h="213">
                    <a:moveTo>
                      <a:pt x="285" y="0"/>
                    </a:moveTo>
                    <a:lnTo>
                      <a:pt x="263" y="5"/>
                    </a:lnTo>
                    <a:lnTo>
                      <a:pt x="229" y="18"/>
                    </a:lnTo>
                    <a:lnTo>
                      <a:pt x="222" y="27"/>
                    </a:lnTo>
                    <a:lnTo>
                      <a:pt x="191" y="21"/>
                    </a:lnTo>
                    <a:lnTo>
                      <a:pt x="161" y="14"/>
                    </a:lnTo>
                    <a:lnTo>
                      <a:pt x="125" y="14"/>
                    </a:lnTo>
                    <a:lnTo>
                      <a:pt x="89" y="14"/>
                    </a:lnTo>
                    <a:lnTo>
                      <a:pt x="79" y="41"/>
                    </a:lnTo>
                    <a:lnTo>
                      <a:pt x="65" y="54"/>
                    </a:lnTo>
                    <a:lnTo>
                      <a:pt x="26" y="82"/>
                    </a:lnTo>
                    <a:lnTo>
                      <a:pt x="19" y="89"/>
                    </a:lnTo>
                    <a:lnTo>
                      <a:pt x="0" y="106"/>
                    </a:lnTo>
                    <a:lnTo>
                      <a:pt x="8" y="119"/>
                    </a:lnTo>
                    <a:lnTo>
                      <a:pt x="46" y="122"/>
                    </a:lnTo>
                    <a:lnTo>
                      <a:pt x="91" y="111"/>
                    </a:lnTo>
                    <a:lnTo>
                      <a:pt x="118" y="96"/>
                    </a:lnTo>
                    <a:lnTo>
                      <a:pt x="124" y="99"/>
                    </a:lnTo>
                    <a:lnTo>
                      <a:pt x="129" y="115"/>
                    </a:lnTo>
                    <a:lnTo>
                      <a:pt x="135" y="131"/>
                    </a:lnTo>
                    <a:lnTo>
                      <a:pt x="142" y="145"/>
                    </a:lnTo>
                    <a:lnTo>
                      <a:pt x="148" y="161"/>
                    </a:lnTo>
                    <a:lnTo>
                      <a:pt x="174" y="151"/>
                    </a:lnTo>
                    <a:lnTo>
                      <a:pt x="177" y="154"/>
                    </a:lnTo>
                    <a:lnTo>
                      <a:pt x="184" y="141"/>
                    </a:lnTo>
                    <a:lnTo>
                      <a:pt x="181" y="151"/>
                    </a:lnTo>
                    <a:lnTo>
                      <a:pt x="194" y="154"/>
                    </a:lnTo>
                    <a:lnTo>
                      <a:pt x="171" y="157"/>
                    </a:lnTo>
                    <a:lnTo>
                      <a:pt x="177" y="161"/>
                    </a:lnTo>
                    <a:lnTo>
                      <a:pt x="190" y="167"/>
                    </a:lnTo>
                    <a:lnTo>
                      <a:pt x="207" y="170"/>
                    </a:lnTo>
                    <a:lnTo>
                      <a:pt x="176" y="184"/>
                    </a:lnTo>
                    <a:lnTo>
                      <a:pt x="186" y="191"/>
                    </a:lnTo>
                    <a:lnTo>
                      <a:pt x="190" y="201"/>
                    </a:lnTo>
                    <a:lnTo>
                      <a:pt x="186" y="213"/>
                    </a:lnTo>
                    <a:lnTo>
                      <a:pt x="224" y="200"/>
                    </a:lnTo>
                    <a:lnTo>
                      <a:pt x="240" y="197"/>
                    </a:lnTo>
                    <a:lnTo>
                      <a:pt x="258" y="190"/>
                    </a:lnTo>
                    <a:lnTo>
                      <a:pt x="242" y="188"/>
                    </a:lnTo>
                    <a:lnTo>
                      <a:pt x="232" y="173"/>
                    </a:lnTo>
                    <a:lnTo>
                      <a:pt x="246" y="160"/>
                    </a:lnTo>
                    <a:lnTo>
                      <a:pt x="239" y="167"/>
                    </a:lnTo>
                    <a:lnTo>
                      <a:pt x="249" y="161"/>
                    </a:lnTo>
                    <a:lnTo>
                      <a:pt x="286" y="151"/>
                    </a:lnTo>
                    <a:lnTo>
                      <a:pt x="327" y="138"/>
                    </a:lnTo>
                    <a:lnTo>
                      <a:pt x="340" y="137"/>
                    </a:lnTo>
                    <a:lnTo>
                      <a:pt x="357" y="122"/>
                    </a:lnTo>
                    <a:lnTo>
                      <a:pt x="380" y="113"/>
                    </a:lnTo>
                    <a:lnTo>
                      <a:pt x="393" y="76"/>
                    </a:lnTo>
                    <a:lnTo>
                      <a:pt x="368" y="66"/>
                    </a:lnTo>
                    <a:lnTo>
                      <a:pt x="344" y="56"/>
                    </a:lnTo>
                    <a:lnTo>
                      <a:pt x="328" y="59"/>
                    </a:lnTo>
                    <a:lnTo>
                      <a:pt x="320" y="36"/>
                    </a:lnTo>
                    <a:lnTo>
                      <a:pt x="312" y="13"/>
                    </a:lnTo>
                    <a:lnTo>
                      <a:pt x="315" y="3"/>
                    </a:lnTo>
                    <a:lnTo>
                      <a:pt x="285" y="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372480" y="1792080"/>
                <a:ext cx="62640" cy="80280"/>
              </a:xfrm>
              <a:custGeom>
                <a:avLst/>
                <a:gdLst/>
                <a:ahLst/>
                <a:rect l="l" t="t" r="r" b="b"/>
                <a:pathLst>
                  <a:path w="121" h="113">
                    <a:moveTo>
                      <a:pt x="63" y="22"/>
                    </a:moveTo>
                    <a:lnTo>
                      <a:pt x="63" y="23"/>
                    </a:lnTo>
                    <a:lnTo>
                      <a:pt x="55" y="25"/>
                    </a:lnTo>
                    <a:lnTo>
                      <a:pt x="49" y="32"/>
                    </a:lnTo>
                    <a:lnTo>
                      <a:pt x="56" y="32"/>
                    </a:lnTo>
                    <a:lnTo>
                      <a:pt x="55" y="35"/>
                    </a:lnTo>
                    <a:lnTo>
                      <a:pt x="49" y="39"/>
                    </a:lnTo>
                    <a:lnTo>
                      <a:pt x="43" y="43"/>
                    </a:lnTo>
                    <a:lnTo>
                      <a:pt x="43" y="46"/>
                    </a:lnTo>
                    <a:lnTo>
                      <a:pt x="45" y="49"/>
                    </a:lnTo>
                    <a:lnTo>
                      <a:pt x="50" y="55"/>
                    </a:lnTo>
                    <a:lnTo>
                      <a:pt x="40" y="58"/>
                    </a:lnTo>
                    <a:lnTo>
                      <a:pt x="45" y="62"/>
                    </a:lnTo>
                    <a:lnTo>
                      <a:pt x="40" y="68"/>
                    </a:lnTo>
                    <a:lnTo>
                      <a:pt x="27" y="69"/>
                    </a:lnTo>
                    <a:lnTo>
                      <a:pt x="29" y="75"/>
                    </a:lnTo>
                    <a:lnTo>
                      <a:pt x="24" y="78"/>
                    </a:lnTo>
                    <a:lnTo>
                      <a:pt x="23" y="74"/>
                    </a:lnTo>
                    <a:lnTo>
                      <a:pt x="13" y="82"/>
                    </a:lnTo>
                    <a:lnTo>
                      <a:pt x="9" y="84"/>
                    </a:lnTo>
                    <a:lnTo>
                      <a:pt x="9" y="92"/>
                    </a:lnTo>
                    <a:lnTo>
                      <a:pt x="3" y="94"/>
                    </a:lnTo>
                    <a:lnTo>
                      <a:pt x="0" y="98"/>
                    </a:lnTo>
                    <a:lnTo>
                      <a:pt x="10" y="105"/>
                    </a:lnTo>
                    <a:lnTo>
                      <a:pt x="13" y="113"/>
                    </a:lnTo>
                    <a:lnTo>
                      <a:pt x="29" y="95"/>
                    </a:lnTo>
                    <a:lnTo>
                      <a:pt x="40" y="98"/>
                    </a:lnTo>
                    <a:lnTo>
                      <a:pt x="37" y="113"/>
                    </a:lnTo>
                    <a:lnTo>
                      <a:pt x="43" y="111"/>
                    </a:lnTo>
                    <a:lnTo>
                      <a:pt x="45" y="108"/>
                    </a:lnTo>
                    <a:lnTo>
                      <a:pt x="55" y="105"/>
                    </a:lnTo>
                    <a:lnTo>
                      <a:pt x="59" y="107"/>
                    </a:lnTo>
                    <a:lnTo>
                      <a:pt x="63" y="102"/>
                    </a:lnTo>
                    <a:lnTo>
                      <a:pt x="66" y="102"/>
                    </a:lnTo>
                    <a:lnTo>
                      <a:pt x="70" y="104"/>
                    </a:lnTo>
                    <a:lnTo>
                      <a:pt x="75" y="102"/>
                    </a:lnTo>
                    <a:lnTo>
                      <a:pt x="83" y="100"/>
                    </a:lnTo>
                    <a:lnTo>
                      <a:pt x="85" y="107"/>
                    </a:lnTo>
                    <a:lnTo>
                      <a:pt x="91" y="104"/>
                    </a:lnTo>
                    <a:lnTo>
                      <a:pt x="89" y="95"/>
                    </a:lnTo>
                    <a:lnTo>
                      <a:pt x="106" y="81"/>
                    </a:lnTo>
                    <a:lnTo>
                      <a:pt x="106" y="66"/>
                    </a:lnTo>
                    <a:lnTo>
                      <a:pt x="118" y="49"/>
                    </a:lnTo>
                    <a:lnTo>
                      <a:pt x="121" y="41"/>
                    </a:lnTo>
                    <a:lnTo>
                      <a:pt x="117" y="38"/>
                    </a:lnTo>
                    <a:lnTo>
                      <a:pt x="109" y="38"/>
                    </a:lnTo>
                    <a:lnTo>
                      <a:pt x="104" y="32"/>
                    </a:lnTo>
                    <a:lnTo>
                      <a:pt x="95" y="0"/>
                    </a:lnTo>
                    <a:lnTo>
                      <a:pt x="59" y="6"/>
                    </a:lnTo>
                    <a:lnTo>
                      <a:pt x="59" y="15"/>
                    </a:lnTo>
                    <a:lnTo>
                      <a:pt x="60" y="16"/>
                    </a:lnTo>
                    <a:lnTo>
                      <a:pt x="56" y="19"/>
                    </a:lnTo>
                    <a:lnTo>
                      <a:pt x="57" y="20"/>
                    </a:lnTo>
                    <a:lnTo>
                      <a:pt x="63" y="22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6474240" y="2189160"/>
                <a:ext cx="5760" cy="1476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13" y="19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4" y="21"/>
                    </a:lnTo>
                    <a:lnTo>
                      <a:pt x="13" y="19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6469560" y="2154960"/>
                <a:ext cx="12600" cy="1692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20" y="24"/>
                    </a:moveTo>
                    <a:lnTo>
                      <a:pt x="17" y="13"/>
                    </a:lnTo>
                    <a:lnTo>
                      <a:pt x="0" y="0"/>
                    </a:lnTo>
                    <a:lnTo>
                      <a:pt x="24" y="17"/>
                    </a:lnTo>
                    <a:lnTo>
                      <a:pt x="20" y="2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6490080" y="2182680"/>
                <a:ext cx="7560" cy="1476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6" y="20"/>
                    </a:moveTo>
                    <a:lnTo>
                      <a:pt x="16" y="1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9" y="7"/>
                    </a:lnTo>
                    <a:lnTo>
                      <a:pt x="15" y="11"/>
                    </a:lnTo>
                    <a:lnTo>
                      <a:pt x="13" y="18"/>
                    </a:lnTo>
                    <a:lnTo>
                      <a:pt x="16" y="2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6543360" y="2262600"/>
                <a:ext cx="5760" cy="648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2" y="0"/>
                    </a:moveTo>
                    <a:lnTo>
                      <a:pt x="12" y="4"/>
                    </a:lnTo>
                    <a:lnTo>
                      <a:pt x="0" y="1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6530760" y="223740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8" y="2"/>
                    </a:moveTo>
                    <a:lnTo>
                      <a:pt x="2" y="0"/>
                    </a:lnTo>
                    <a:lnTo>
                      <a:pt x="0" y="9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6455520" y="2159280"/>
                <a:ext cx="13680" cy="216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9" y="0"/>
                    </a:moveTo>
                    <a:lnTo>
                      <a:pt x="25" y="1"/>
                    </a:lnTo>
                    <a:lnTo>
                      <a:pt x="16" y="2"/>
                    </a:lnTo>
                    <a:lnTo>
                      <a:pt x="0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6480360" y="220824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7"/>
                    </a:moveTo>
                    <a:lnTo>
                      <a:pt x="5" y="3"/>
                    </a:lnTo>
                    <a:lnTo>
                      <a:pt x="0" y="0"/>
                    </a:lnTo>
                    <a:lnTo>
                      <a:pt x="8" y="10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6480360" y="2190960"/>
                <a:ext cx="4320" cy="39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3"/>
                    </a:moveTo>
                    <a:lnTo>
                      <a:pt x="1" y="4"/>
                    </a:lnTo>
                    <a:lnTo>
                      <a:pt x="0" y="6"/>
                    </a:lnTo>
                    <a:lnTo>
                      <a:pt x="4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6593760" y="2051640"/>
                <a:ext cx="1080" cy="2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1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5448240" y="1342800"/>
                <a:ext cx="1073160" cy="531720"/>
              </a:xfrm>
              <a:custGeom>
                <a:avLst/>
                <a:gdLst/>
                <a:ahLst/>
                <a:rect l="l" t="t" r="r" b="b"/>
                <a:pathLst>
                  <a:path w="2051" h="758">
                    <a:moveTo>
                      <a:pt x="1043" y="133"/>
                    </a:moveTo>
                    <a:lnTo>
                      <a:pt x="1018" y="126"/>
                    </a:lnTo>
                    <a:lnTo>
                      <a:pt x="1045" y="126"/>
                    </a:lnTo>
                    <a:lnTo>
                      <a:pt x="1070" y="133"/>
                    </a:lnTo>
                    <a:lnTo>
                      <a:pt x="1076" y="130"/>
                    </a:lnTo>
                    <a:lnTo>
                      <a:pt x="1041" y="117"/>
                    </a:lnTo>
                    <a:lnTo>
                      <a:pt x="1057" y="120"/>
                    </a:lnTo>
                    <a:lnTo>
                      <a:pt x="1064" y="121"/>
                    </a:lnTo>
                    <a:lnTo>
                      <a:pt x="1086" y="128"/>
                    </a:lnTo>
                    <a:lnTo>
                      <a:pt x="1099" y="113"/>
                    </a:lnTo>
                    <a:lnTo>
                      <a:pt x="1083" y="100"/>
                    </a:lnTo>
                    <a:lnTo>
                      <a:pt x="1058" y="88"/>
                    </a:lnTo>
                    <a:lnTo>
                      <a:pt x="1047" y="81"/>
                    </a:lnTo>
                    <a:lnTo>
                      <a:pt x="1054" y="74"/>
                    </a:lnTo>
                    <a:lnTo>
                      <a:pt x="1038" y="71"/>
                    </a:lnTo>
                    <a:lnTo>
                      <a:pt x="1040" y="64"/>
                    </a:lnTo>
                    <a:lnTo>
                      <a:pt x="998" y="55"/>
                    </a:lnTo>
                    <a:lnTo>
                      <a:pt x="1012" y="54"/>
                    </a:lnTo>
                    <a:lnTo>
                      <a:pt x="956" y="52"/>
                    </a:lnTo>
                    <a:lnTo>
                      <a:pt x="975" y="64"/>
                    </a:lnTo>
                    <a:lnTo>
                      <a:pt x="988" y="69"/>
                    </a:lnTo>
                    <a:lnTo>
                      <a:pt x="994" y="74"/>
                    </a:lnTo>
                    <a:lnTo>
                      <a:pt x="979" y="74"/>
                    </a:lnTo>
                    <a:lnTo>
                      <a:pt x="999" y="105"/>
                    </a:lnTo>
                    <a:lnTo>
                      <a:pt x="988" y="108"/>
                    </a:lnTo>
                    <a:lnTo>
                      <a:pt x="950" y="90"/>
                    </a:lnTo>
                    <a:lnTo>
                      <a:pt x="949" y="85"/>
                    </a:lnTo>
                    <a:lnTo>
                      <a:pt x="930" y="69"/>
                    </a:lnTo>
                    <a:lnTo>
                      <a:pt x="901" y="62"/>
                    </a:lnTo>
                    <a:lnTo>
                      <a:pt x="911" y="85"/>
                    </a:lnTo>
                    <a:lnTo>
                      <a:pt x="883" y="67"/>
                    </a:lnTo>
                    <a:lnTo>
                      <a:pt x="868" y="61"/>
                    </a:lnTo>
                    <a:lnTo>
                      <a:pt x="878" y="58"/>
                    </a:lnTo>
                    <a:lnTo>
                      <a:pt x="858" y="54"/>
                    </a:lnTo>
                    <a:lnTo>
                      <a:pt x="838" y="52"/>
                    </a:lnTo>
                    <a:lnTo>
                      <a:pt x="831" y="51"/>
                    </a:lnTo>
                    <a:lnTo>
                      <a:pt x="831" y="43"/>
                    </a:lnTo>
                    <a:lnTo>
                      <a:pt x="825" y="39"/>
                    </a:lnTo>
                    <a:lnTo>
                      <a:pt x="835" y="41"/>
                    </a:lnTo>
                    <a:lnTo>
                      <a:pt x="796" y="26"/>
                    </a:lnTo>
                    <a:lnTo>
                      <a:pt x="773" y="13"/>
                    </a:lnTo>
                    <a:lnTo>
                      <a:pt x="747" y="6"/>
                    </a:lnTo>
                    <a:lnTo>
                      <a:pt x="739" y="5"/>
                    </a:lnTo>
                    <a:lnTo>
                      <a:pt x="736" y="0"/>
                    </a:lnTo>
                    <a:lnTo>
                      <a:pt x="729" y="5"/>
                    </a:lnTo>
                    <a:lnTo>
                      <a:pt x="737" y="5"/>
                    </a:lnTo>
                    <a:lnTo>
                      <a:pt x="724" y="10"/>
                    </a:lnTo>
                    <a:lnTo>
                      <a:pt x="737" y="15"/>
                    </a:lnTo>
                    <a:lnTo>
                      <a:pt x="723" y="16"/>
                    </a:lnTo>
                    <a:lnTo>
                      <a:pt x="747" y="31"/>
                    </a:lnTo>
                    <a:lnTo>
                      <a:pt x="756" y="33"/>
                    </a:lnTo>
                    <a:lnTo>
                      <a:pt x="747" y="35"/>
                    </a:lnTo>
                    <a:lnTo>
                      <a:pt x="766" y="48"/>
                    </a:lnTo>
                    <a:lnTo>
                      <a:pt x="828" y="59"/>
                    </a:lnTo>
                    <a:lnTo>
                      <a:pt x="822" y="62"/>
                    </a:lnTo>
                    <a:lnTo>
                      <a:pt x="819" y="59"/>
                    </a:lnTo>
                    <a:lnTo>
                      <a:pt x="819" y="65"/>
                    </a:lnTo>
                    <a:lnTo>
                      <a:pt x="826" y="74"/>
                    </a:lnTo>
                    <a:lnTo>
                      <a:pt x="834" y="68"/>
                    </a:lnTo>
                    <a:lnTo>
                      <a:pt x="841" y="77"/>
                    </a:lnTo>
                    <a:lnTo>
                      <a:pt x="828" y="90"/>
                    </a:lnTo>
                    <a:lnTo>
                      <a:pt x="845" y="105"/>
                    </a:lnTo>
                    <a:lnTo>
                      <a:pt x="854" y="115"/>
                    </a:lnTo>
                    <a:lnTo>
                      <a:pt x="842" y="115"/>
                    </a:lnTo>
                    <a:lnTo>
                      <a:pt x="851" y="120"/>
                    </a:lnTo>
                    <a:lnTo>
                      <a:pt x="841" y="115"/>
                    </a:lnTo>
                    <a:lnTo>
                      <a:pt x="842" y="115"/>
                    </a:lnTo>
                    <a:lnTo>
                      <a:pt x="851" y="113"/>
                    </a:lnTo>
                    <a:lnTo>
                      <a:pt x="841" y="110"/>
                    </a:lnTo>
                    <a:lnTo>
                      <a:pt x="837" y="105"/>
                    </a:lnTo>
                    <a:lnTo>
                      <a:pt x="829" y="107"/>
                    </a:lnTo>
                    <a:lnTo>
                      <a:pt x="811" y="84"/>
                    </a:lnTo>
                    <a:lnTo>
                      <a:pt x="803" y="88"/>
                    </a:lnTo>
                    <a:lnTo>
                      <a:pt x="799" y="85"/>
                    </a:lnTo>
                    <a:lnTo>
                      <a:pt x="773" y="81"/>
                    </a:lnTo>
                    <a:lnTo>
                      <a:pt x="766" y="85"/>
                    </a:lnTo>
                    <a:lnTo>
                      <a:pt x="785" y="92"/>
                    </a:lnTo>
                    <a:lnTo>
                      <a:pt x="802" y="95"/>
                    </a:lnTo>
                    <a:lnTo>
                      <a:pt x="786" y="97"/>
                    </a:lnTo>
                    <a:lnTo>
                      <a:pt x="767" y="90"/>
                    </a:lnTo>
                    <a:lnTo>
                      <a:pt x="775" y="97"/>
                    </a:lnTo>
                    <a:lnTo>
                      <a:pt x="739" y="95"/>
                    </a:lnTo>
                    <a:lnTo>
                      <a:pt x="701" y="95"/>
                    </a:lnTo>
                    <a:lnTo>
                      <a:pt x="680" y="90"/>
                    </a:lnTo>
                    <a:lnTo>
                      <a:pt x="662" y="88"/>
                    </a:lnTo>
                    <a:lnTo>
                      <a:pt x="639" y="79"/>
                    </a:lnTo>
                    <a:lnTo>
                      <a:pt x="616" y="69"/>
                    </a:lnTo>
                    <a:lnTo>
                      <a:pt x="586" y="82"/>
                    </a:lnTo>
                    <a:lnTo>
                      <a:pt x="605" y="87"/>
                    </a:lnTo>
                    <a:lnTo>
                      <a:pt x="621" y="81"/>
                    </a:lnTo>
                    <a:lnTo>
                      <a:pt x="632" y="78"/>
                    </a:lnTo>
                    <a:lnTo>
                      <a:pt x="619" y="90"/>
                    </a:lnTo>
                    <a:lnTo>
                      <a:pt x="608" y="91"/>
                    </a:lnTo>
                    <a:lnTo>
                      <a:pt x="648" y="118"/>
                    </a:lnTo>
                    <a:lnTo>
                      <a:pt x="634" y="114"/>
                    </a:lnTo>
                    <a:lnTo>
                      <a:pt x="657" y="130"/>
                    </a:lnTo>
                    <a:lnTo>
                      <a:pt x="615" y="111"/>
                    </a:lnTo>
                    <a:lnTo>
                      <a:pt x="628" y="111"/>
                    </a:lnTo>
                    <a:lnTo>
                      <a:pt x="602" y="100"/>
                    </a:lnTo>
                    <a:lnTo>
                      <a:pt x="603" y="105"/>
                    </a:lnTo>
                    <a:lnTo>
                      <a:pt x="587" y="97"/>
                    </a:lnTo>
                    <a:lnTo>
                      <a:pt x="566" y="92"/>
                    </a:lnTo>
                    <a:lnTo>
                      <a:pt x="510" y="98"/>
                    </a:lnTo>
                    <a:lnTo>
                      <a:pt x="475" y="92"/>
                    </a:lnTo>
                    <a:lnTo>
                      <a:pt x="487" y="85"/>
                    </a:lnTo>
                    <a:lnTo>
                      <a:pt x="492" y="82"/>
                    </a:lnTo>
                    <a:lnTo>
                      <a:pt x="446" y="68"/>
                    </a:lnTo>
                    <a:lnTo>
                      <a:pt x="441" y="71"/>
                    </a:lnTo>
                    <a:lnTo>
                      <a:pt x="373" y="59"/>
                    </a:lnTo>
                    <a:lnTo>
                      <a:pt x="307" y="48"/>
                    </a:lnTo>
                    <a:lnTo>
                      <a:pt x="304" y="59"/>
                    </a:lnTo>
                    <a:lnTo>
                      <a:pt x="289" y="56"/>
                    </a:lnTo>
                    <a:lnTo>
                      <a:pt x="286" y="52"/>
                    </a:lnTo>
                    <a:lnTo>
                      <a:pt x="271" y="42"/>
                    </a:lnTo>
                    <a:lnTo>
                      <a:pt x="273" y="45"/>
                    </a:lnTo>
                    <a:lnTo>
                      <a:pt x="276" y="51"/>
                    </a:lnTo>
                    <a:lnTo>
                      <a:pt x="273" y="55"/>
                    </a:lnTo>
                    <a:lnTo>
                      <a:pt x="275" y="61"/>
                    </a:lnTo>
                    <a:lnTo>
                      <a:pt x="236" y="45"/>
                    </a:lnTo>
                    <a:lnTo>
                      <a:pt x="204" y="33"/>
                    </a:lnTo>
                    <a:lnTo>
                      <a:pt x="222" y="39"/>
                    </a:lnTo>
                    <a:lnTo>
                      <a:pt x="206" y="51"/>
                    </a:lnTo>
                    <a:lnTo>
                      <a:pt x="201" y="48"/>
                    </a:lnTo>
                    <a:lnTo>
                      <a:pt x="176" y="55"/>
                    </a:lnTo>
                    <a:lnTo>
                      <a:pt x="187" y="41"/>
                    </a:lnTo>
                    <a:lnTo>
                      <a:pt x="167" y="45"/>
                    </a:lnTo>
                    <a:lnTo>
                      <a:pt x="144" y="56"/>
                    </a:lnTo>
                    <a:lnTo>
                      <a:pt x="121" y="68"/>
                    </a:lnTo>
                    <a:lnTo>
                      <a:pt x="129" y="74"/>
                    </a:lnTo>
                    <a:lnTo>
                      <a:pt x="109" y="72"/>
                    </a:lnTo>
                    <a:lnTo>
                      <a:pt x="114" y="75"/>
                    </a:lnTo>
                    <a:lnTo>
                      <a:pt x="56" y="64"/>
                    </a:lnTo>
                    <a:lnTo>
                      <a:pt x="0" y="52"/>
                    </a:lnTo>
                    <a:lnTo>
                      <a:pt x="19" y="79"/>
                    </a:lnTo>
                    <a:lnTo>
                      <a:pt x="37" y="107"/>
                    </a:lnTo>
                    <a:lnTo>
                      <a:pt x="57" y="134"/>
                    </a:lnTo>
                    <a:lnTo>
                      <a:pt x="76" y="162"/>
                    </a:lnTo>
                    <a:lnTo>
                      <a:pt x="93" y="189"/>
                    </a:lnTo>
                    <a:lnTo>
                      <a:pt x="112" y="218"/>
                    </a:lnTo>
                    <a:lnTo>
                      <a:pt x="129" y="247"/>
                    </a:lnTo>
                    <a:lnTo>
                      <a:pt x="148" y="275"/>
                    </a:lnTo>
                    <a:lnTo>
                      <a:pt x="184" y="274"/>
                    </a:lnTo>
                    <a:lnTo>
                      <a:pt x="186" y="280"/>
                    </a:lnTo>
                    <a:lnTo>
                      <a:pt x="199" y="284"/>
                    </a:lnTo>
                    <a:lnTo>
                      <a:pt x="237" y="310"/>
                    </a:lnTo>
                    <a:lnTo>
                      <a:pt x="245" y="304"/>
                    </a:lnTo>
                    <a:lnTo>
                      <a:pt x="248" y="296"/>
                    </a:lnTo>
                    <a:lnTo>
                      <a:pt x="262" y="287"/>
                    </a:lnTo>
                    <a:lnTo>
                      <a:pt x="309" y="314"/>
                    </a:lnTo>
                    <a:lnTo>
                      <a:pt x="341" y="337"/>
                    </a:lnTo>
                    <a:lnTo>
                      <a:pt x="373" y="360"/>
                    </a:lnTo>
                    <a:lnTo>
                      <a:pt x="400" y="373"/>
                    </a:lnTo>
                    <a:lnTo>
                      <a:pt x="429" y="385"/>
                    </a:lnTo>
                    <a:lnTo>
                      <a:pt x="443" y="408"/>
                    </a:lnTo>
                    <a:lnTo>
                      <a:pt x="438" y="392"/>
                    </a:lnTo>
                    <a:lnTo>
                      <a:pt x="445" y="396"/>
                    </a:lnTo>
                    <a:lnTo>
                      <a:pt x="443" y="408"/>
                    </a:lnTo>
                    <a:lnTo>
                      <a:pt x="448" y="408"/>
                    </a:lnTo>
                    <a:lnTo>
                      <a:pt x="449" y="418"/>
                    </a:lnTo>
                    <a:lnTo>
                      <a:pt x="442" y="417"/>
                    </a:lnTo>
                    <a:lnTo>
                      <a:pt x="455" y="425"/>
                    </a:lnTo>
                    <a:lnTo>
                      <a:pt x="442" y="419"/>
                    </a:lnTo>
                    <a:lnTo>
                      <a:pt x="455" y="429"/>
                    </a:lnTo>
                    <a:lnTo>
                      <a:pt x="464" y="429"/>
                    </a:lnTo>
                    <a:lnTo>
                      <a:pt x="458" y="429"/>
                    </a:lnTo>
                    <a:lnTo>
                      <a:pt x="465" y="435"/>
                    </a:lnTo>
                    <a:lnTo>
                      <a:pt x="456" y="432"/>
                    </a:lnTo>
                    <a:lnTo>
                      <a:pt x="482" y="450"/>
                    </a:lnTo>
                    <a:lnTo>
                      <a:pt x="487" y="432"/>
                    </a:lnTo>
                    <a:lnTo>
                      <a:pt x="497" y="448"/>
                    </a:lnTo>
                    <a:lnTo>
                      <a:pt x="507" y="451"/>
                    </a:lnTo>
                    <a:lnTo>
                      <a:pt x="489" y="447"/>
                    </a:lnTo>
                    <a:lnTo>
                      <a:pt x="511" y="465"/>
                    </a:lnTo>
                    <a:lnTo>
                      <a:pt x="513" y="463"/>
                    </a:lnTo>
                    <a:lnTo>
                      <a:pt x="520" y="478"/>
                    </a:lnTo>
                    <a:lnTo>
                      <a:pt x="521" y="474"/>
                    </a:lnTo>
                    <a:lnTo>
                      <a:pt x="530" y="480"/>
                    </a:lnTo>
                    <a:lnTo>
                      <a:pt x="537" y="464"/>
                    </a:lnTo>
                    <a:lnTo>
                      <a:pt x="544" y="477"/>
                    </a:lnTo>
                    <a:lnTo>
                      <a:pt x="557" y="486"/>
                    </a:lnTo>
                    <a:lnTo>
                      <a:pt x="541" y="477"/>
                    </a:lnTo>
                    <a:lnTo>
                      <a:pt x="534" y="491"/>
                    </a:lnTo>
                    <a:lnTo>
                      <a:pt x="544" y="497"/>
                    </a:lnTo>
                    <a:lnTo>
                      <a:pt x="544" y="493"/>
                    </a:lnTo>
                    <a:lnTo>
                      <a:pt x="562" y="494"/>
                    </a:lnTo>
                    <a:lnTo>
                      <a:pt x="546" y="500"/>
                    </a:lnTo>
                    <a:lnTo>
                      <a:pt x="544" y="503"/>
                    </a:lnTo>
                    <a:lnTo>
                      <a:pt x="556" y="504"/>
                    </a:lnTo>
                    <a:lnTo>
                      <a:pt x="550" y="509"/>
                    </a:lnTo>
                    <a:lnTo>
                      <a:pt x="574" y="514"/>
                    </a:lnTo>
                    <a:lnTo>
                      <a:pt x="576" y="512"/>
                    </a:lnTo>
                    <a:lnTo>
                      <a:pt x="583" y="513"/>
                    </a:lnTo>
                    <a:lnTo>
                      <a:pt x="577" y="516"/>
                    </a:lnTo>
                    <a:lnTo>
                      <a:pt x="589" y="517"/>
                    </a:lnTo>
                    <a:lnTo>
                      <a:pt x="586" y="520"/>
                    </a:lnTo>
                    <a:lnTo>
                      <a:pt x="596" y="514"/>
                    </a:lnTo>
                    <a:lnTo>
                      <a:pt x="595" y="510"/>
                    </a:lnTo>
                    <a:lnTo>
                      <a:pt x="596" y="520"/>
                    </a:lnTo>
                    <a:lnTo>
                      <a:pt x="590" y="522"/>
                    </a:lnTo>
                    <a:lnTo>
                      <a:pt x="592" y="526"/>
                    </a:lnTo>
                    <a:lnTo>
                      <a:pt x="600" y="520"/>
                    </a:lnTo>
                    <a:lnTo>
                      <a:pt x="609" y="526"/>
                    </a:lnTo>
                    <a:lnTo>
                      <a:pt x="610" y="517"/>
                    </a:lnTo>
                    <a:lnTo>
                      <a:pt x="621" y="529"/>
                    </a:lnTo>
                    <a:lnTo>
                      <a:pt x="628" y="525"/>
                    </a:lnTo>
                    <a:lnTo>
                      <a:pt x="623" y="536"/>
                    </a:lnTo>
                    <a:lnTo>
                      <a:pt x="644" y="543"/>
                    </a:lnTo>
                    <a:lnTo>
                      <a:pt x="639" y="532"/>
                    </a:lnTo>
                    <a:lnTo>
                      <a:pt x="652" y="548"/>
                    </a:lnTo>
                    <a:lnTo>
                      <a:pt x="655" y="548"/>
                    </a:lnTo>
                    <a:lnTo>
                      <a:pt x="646" y="548"/>
                    </a:lnTo>
                    <a:lnTo>
                      <a:pt x="659" y="550"/>
                    </a:lnTo>
                    <a:lnTo>
                      <a:pt x="664" y="546"/>
                    </a:lnTo>
                    <a:lnTo>
                      <a:pt x="667" y="555"/>
                    </a:lnTo>
                    <a:lnTo>
                      <a:pt x="675" y="556"/>
                    </a:lnTo>
                    <a:lnTo>
                      <a:pt x="671" y="561"/>
                    </a:lnTo>
                    <a:lnTo>
                      <a:pt x="682" y="565"/>
                    </a:lnTo>
                    <a:lnTo>
                      <a:pt x="718" y="565"/>
                    </a:lnTo>
                    <a:lnTo>
                      <a:pt x="754" y="565"/>
                    </a:lnTo>
                    <a:lnTo>
                      <a:pt x="790" y="565"/>
                    </a:lnTo>
                    <a:lnTo>
                      <a:pt x="826" y="565"/>
                    </a:lnTo>
                    <a:lnTo>
                      <a:pt x="863" y="563"/>
                    </a:lnTo>
                    <a:lnTo>
                      <a:pt x="899" y="563"/>
                    </a:lnTo>
                    <a:lnTo>
                      <a:pt x="935" y="563"/>
                    </a:lnTo>
                    <a:lnTo>
                      <a:pt x="971" y="563"/>
                    </a:lnTo>
                    <a:lnTo>
                      <a:pt x="1007" y="563"/>
                    </a:lnTo>
                    <a:lnTo>
                      <a:pt x="1043" y="563"/>
                    </a:lnTo>
                    <a:lnTo>
                      <a:pt x="1079" y="563"/>
                    </a:lnTo>
                    <a:lnTo>
                      <a:pt x="1115" y="563"/>
                    </a:lnTo>
                    <a:lnTo>
                      <a:pt x="1151" y="563"/>
                    </a:lnTo>
                    <a:lnTo>
                      <a:pt x="1187" y="563"/>
                    </a:lnTo>
                    <a:lnTo>
                      <a:pt x="1223" y="563"/>
                    </a:lnTo>
                    <a:lnTo>
                      <a:pt x="1259" y="563"/>
                    </a:lnTo>
                    <a:lnTo>
                      <a:pt x="1256" y="555"/>
                    </a:lnTo>
                    <a:lnTo>
                      <a:pt x="1272" y="569"/>
                    </a:lnTo>
                    <a:lnTo>
                      <a:pt x="1300" y="575"/>
                    </a:lnTo>
                    <a:lnTo>
                      <a:pt x="1346" y="586"/>
                    </a:lnTo>
                    <a:lnTo>
                      <a:pt x="1361" y="584"/>
                    </a:lnTo>
                    <a:lnTo>
                      <a:pt x="1385" y="591"/>
                    </a:lnTo>
                    <a:lnTo>
                      <a:pt x="1407" y="584"/>
                    </a:lnTo>
                    <a:lnTo>
                      <a:pt x="1437" y="595"/>
                    </a:lnTo>
                    <a:lnTo>
                      <a:pt x="1469" y="607"/>
                    </a:lnTo>
                    <a:lnTo>
                      <a:pt x="1501" y="618"/>
                    </a:lnTo>
                    <a:lnTo>
                      <a:pt x="1532" y="630"/>
                    </a:lnTo>
                    <a:lnTo>
                      <a:pt x="1547" y="641"/>
                    </a:lnTo>
                    <a:lnTo>
                      <a:pt x="1552" y="640"/>
                    </a:lnTo>
                    <a:lnTo>
                      <a:pt x="1560" y="647"/>
                    </a:lnTo>
                    <a:lnTo>
                      <a:pt x="1591" y="660"/>
                    </a:lnTo>
                    <a:lnTo>
                      <a:pt x="1611" y="684"/>
                    </a:lnTo>
                    <a:lnTo>
                      <a:pt x="1630" y="707"/>
                    </a:lnTo>
                    <a:lnTo>
                      <a:pt x="1634" y="722"/>
                    </a:lnTo>
                    <a:lnTo>
                      <a:pt x="1634" y="748"/>
                    </a:lnTo>
                    <a:lnTo>
                      <a:pt x="1652" y="758"/>
                    </a:lnTo>
                    <a:lnTo>
                      <a:pt x="1666" y="751"/>
                    </a:lnTo>
                    <a:lnTo>
                      <a:pt x="1682" y="743"/>
                    </a:lnTo>
                    <a:lnTo>
                      <a:pt x="1696" y="735"/>
                    </a:lnTo>
                    <a:lnTo>
                      <a:pt x="1712" y="728"/>
                    </a:lnTo>
                    <a:lnTo>
                      <a:pt x="1696" y="710"/>
                    </a:lnTo>
                    <a:lnTo>
                      <a:pt x="1721" y="709"/>
                    </a:lnTo>
                    <a:lnTo>
                      <a:pt x="1745" y="706"/>
                    </a:lnTo>
                    <a:lnTo>
                      <a:pt x="1750" y="690"/>
                    </a:lnTo>
                    <a:lnTo>
                      <a:pt x="1755" y="674"/>
                    </a:lnTo>
                    <a:lnTo>
                      <a:pt x="1794" y="671"/>
                    </a:lnTo>
                    <a:lnTo>
                      <a:pt x="1833" y="669"/>
                    </a:lnTo>
                    <a:lnTo>
                      <a:pt x="1838" y="660"/>
                    </a:lnTo>
                    <a:lnTo>
                      <a:pt x="1839" y="644"/>
                    </a:lnTo>
                    <a:lnTo>
                      <a:pt x="1835" y="624"/>
                    </a:lnTo>
                    <a:lnTo>
                      <a:pt x="1830" y="604"/>
                    </a:lnTo>
                    <a:lnTo>
                      <a:pt x="1839" y="610"/>
                    </a:lnTo>
                    <a:lnTo>
                      <a:pt x="1849" y="610"/>
                    </a:lnTo>
                    <a:lnTo>
                      <a:pt x="1869" y="615"/>
                    </a:lnTo>
                    <a:lnTo>
                      <a:pt x="1897" y="647"/>
                    </a:lnTo>
                    <a:lnTo>
                      <a:pt x="1922" y="664"/>
                    </a:lnTo>
                    <a:lnTo>
                      <a:pt x="1931" y="667"/>
                    </a:lnTo>
                    <a:lnTo>
                      <a:pt x="1943" y="660"/>
                    </a:lnTo>
                    <a:lnTo>
                      <a:pt x="1943" y="661"/>
                    </a:lnTo>
                    <a:lnTo>
                      <a:pt x="1963" y="653"/>
                    </a:lnTo>
                    <a:lnTo>
                      <a:pt x="1956" y="641"/>
                    </a:lnTo>
                    <a:lnTo>
                      <a:pt x="1964" y="647"/>
                    </a:lnTo>
                    <a:lnTo>
                      <a:pt x="1969" y="647"/>
                    </a:lnTo>
                    <a:lnTo>
                      <a:pt x="1966" y="658"/>
                    </a:lnTo>
                    <a:lnTo>
                      <a:pt x="2000" y="660"/>
                    </a:lnTo>
                    <a:lnTo>
                      <a:pt x="1987" y="666"/>
                    </a:lnTo>
                    <a:lnTo>
                      <a:pt x="1982" y="661"/>
                    </a:lnTo>
                    <a:lnTo>
                      <a:pt x="1966" y="677"/>
                    </a:lnTo>
                    <a:lnTo>
                      <a:pt x="1969" y="676"/>
                    </a:lnTo>
                    <a:lnTo>
                      <a:pt x="1958" y="684"/>
                    </a:lnTo>
                    <a:lnTo>
                      <a:pt x="1961" y="680"/>
                    </a:lnTo>
                    <a:lnTo>
                      <a:pt x="1964" y="693"/>
                    </a:lnTo>
                    <a:lnTo>
                      <a:pt x="1984" y="707"/>
                    </a:lnTo>
                    <a:lnTo>
                      <a:pt x="1994" y="703"/>
                    </a:lnTo>
                    <a:lnTo>
                      <a:pt x="2000" y="679"/>
                    </a:lnTo>
                    <a:lnTo>
                      <a:pt x="2007" y="683"/>
                    </a:lnTo>
                    <a:lnTo>
                      <a:pt x="2010" y="679"/>
                    </a:lnTo>
                    <a:lnTo>
                      <a:pt x="2015" y="680"/>
                    </a:lnTo>
                    <a:lnTo>
                      <a:pt x="2033" y="671"/>
                    </a:lnTo>
                    <a:lnTo>
                      <a:pt x="2051" y="663"/>
                    </a:lnTo>
                    <a:lnTo>
                      <a:pt x="2041" y="660"/>
                    </a:lnTo>
                    <a:lnTo>
                      <a:pt x="2043" y="657"/>
                    </a:lnTo>
                    <a:lnTo>
                      <a:pt x="2020" y="646"/>
                    </a:lnTo>
                    <a:lnTo>
                      <a:pt x="2016" y="651"/>
                    </a:lnTo>
                    <a:lnTo>
                      <a:pt x="1996" y="648"/>
                    </a:lnTo>
                    <a:lnTo>
                      <a:pt x="1974" y="641"/>
                    </a:lnTo>
                    <a:lnTo>
                      <a:pt x="1957" y="637"/>
                    </a:lnTo>
                    <a:lnTo>
                      <a:pt x="1935" y="617"/>
                    </a:lnTo>
                    <a:lnTo>
                      <a:pt x="1924" y="615"/>
                    </a:lnTo>
                    <a:lnTo>
                      <a:pt x="1921" y="598"/>
                    </a:lnTo>
                    <a:lnTo>
                      <a:pt x="1904" y="599"/>
                    </a:lnTo>
                    <a:lnTo>
                      <a:pt x="1895" y="594"/>
                    </a:lnTo>
                    <a:lnTo>
                      <a:pt x="1872" y="591"/>
                    </a:lnTo>
                    <a:lnTo>
                      <a:pt x="1875" y="589"/>
                    </a:lnTo>
                    <a:lnTo>
                      <a:pt x="1897" y="589"/>
                    </a:lnTo>
                    <a:lnTo>
                      <a:pt x="1914" y="579"/>
                    </a:lnTo>
                    <a:lnTo>
                      <a:pt x="1905" y="571"/>
                    </a:lnTo>
                    <a:lnTo>
                      <a:pt x="1911" y="571"/>
                    </a:lnTo>
                    <a:lnTo>
                      <a:pt x="1902" y="565"/>
                    </a:lnTo>
                    <a:lnTo>
                      <a:pt x="1869" y="556"/>
                    </a:lnTo>
                    <a:lnTo>
                      <a:pt x="1849" y="565"/>
                    </a:lnTo>
                    <a:lnTo>
                      <a:pt x="1827" y="573"/>
                    </a:lnTo>
                    <a:lnTo>
                      <a:pt x="1822" y="588"/>
                    </a:lnTo>
                    <a:lnTo>
                      <a:pt x="1816" y="602"/>
                    </a:lnTo>
                    <a:lnTo>
                      <a:pt x="1803" y="621"/>
                    </a:lnTo>
                    <a:lnTo>
                      <a:pt x="1806" y="604"/>
                    </a:lnTo>
                    <a:lnTo>
                      <a:pt x="1807" y="586"/>
                    </a:lnTo>
                    <a:lnTo>
                      <a:pt x="1774" y="578"/>
                    </a:lnTo>
                    <a:lnTo>
                      <a:pt x="1804" y="586"/>
                    </a:lnTo>
                    <a:lnTo>
                      <a:pt x="1812" y="566"/>
                    </a:lnTo>
                    <a:lnTo>
                      <a:pt x="1830" y="555"/>
                    </a:lnTo>
                    <a:lnTo>
                      <a:pt x="1829" y="533"/>
                    </a:lnTo>
                    <a:lnTo>
                      <a:pt x="1874" y="533"/>
                    </a:lnTo>
                    <a:lnTo>
                      <a:pt x="1918" y="532"/>
                    </a:lnTo>
                    <a:lnTo>
                      <a:pt x="1957" y="530"/>
                    </a:lnTo>
                    <a:lnTo>
                      <a:pt x="1966" y="510"/>
                    </a:lnTo>
                    <a:lnTo>
                      <a:pt x="1990" y="501"/>
                    </a:lnTo>
                    <a:lnTo>
                      <a:pt x="2002" y="480"/>
                    </a:lnTo>
                    <a:lnTo>
                      <a:pt x="1984" y="474"/>
                    </a:lnTo>
                    <a:lnTo>
                      <a:pt x="1992" y="473"/>
                    </a:lnTo>
                    <a:lnTo>
                      <a:pt x="1973" y="470"/>
                    </a:lnTo>
                    <a:lnTo>
                      <a:pt x="1982" y="468"/>
                    </a:lnTo>
                    <a:lnTo>
                      <a:pt x="1979" y="465"/>
                    </a:lnTo>
                    <a:lnTo>
                      <a:pt x="1971" y="457"/>
                    </a:lnTo>
                    <a:lnTo>
                      <a:pt x="1963" y="450"/>
                    </a:lnTo>
                    <a:lnTo>
                      <a:pt x="1941" y="442"/>
                    </a:lnTo>
                    <a:lnTo>
                      <a:pt x="1941" y="441"/>
                    </a:lnTo>
                    <a:lnTo>
                      <a:pt x="1931" y="445"/>
                    </a:lnTo>
                    <a:lnTo>
                      <a:pt x="1914" y="429"/>
                    </a:lnTo>
                    <a:lnTo>
                      <a:pt x="1898" y="432"/>
                    </a:lnTo>
                    <a:lnTo>
                      <a:pt x="1910" y="432"/>
                    </a:lnTo>
                    <a:lnTo>
                      <a:pt x="1889" y="442"/>
                    </a:lnTo>
                    <a:lnTo>
                      <a:pt x="1875" y="451"/>
                    </a:lnTo>
                    <a:lnTo>
                      <a:pt x="1878" y="447"/>
                    </a:lnTo>
                    <a:lnTo>
                      <a:pt x="1859" y="441"/>
                    </a:lnTo>
                    <a:lnTo>
                      <a:pt x="1874" y="441"/>
                    </a:lnTo>
                    <a:lnTo>
                      <a:pt x="1894" y="428"/>
                    </a:lnTo>
                    <a:lnTo>
                      <a:pt x="1874" y="432"/>
                    </a:lnTo>
                    <a:lnTo>
                      <a:pt x="1902" y="419"/>
                    </a:lnTo>
                    <a:lnTo>
                      <a:pt x="1859" y="408"/>
                    </a:lnTo>
                    <a:lnTo>
                      <a:pt x="1853" y="409"/>
                    </a:lnTo>
                    <a:lnTo>
                      <a:pt x="1850" y="402"/>
                    </a:lnTo>
                    <a:lnTo>
                      <a:pt x="1848" y="412"/>
                    </a:lnTo>
                    <a:lnTo>
                      <a:pt x="1845" y="405"/>
                    </a:lnTo>
                    <a:lnTo>
                      <a:pt x="1839" y="402"/>
                    </a:lnTo>
                    <a:lnTo>
                      <a:pt x="1833" y="405"/>
                    </a:lnTo>
                    <a:lnTo>
                      <a:pt x="1829" y="401"/>
                    </a:lnTo>
                    <a:lnTo>
                      <a:pt x="1826" y="406"/>
                    </a:lnTo>
                    <a:lnTo>
                      <a:pt x="1825" y="402"/>
                    </a:lnTo>
                    <a:lnTo>
                      <a:pt x="1820" y="398"/>
                    </a:lnTo>
                    <a:lnTo>
                      <a:pt x="1807" y="388"/>
                    </a:lnTo>
                    <a:lnTo>
                      <a:pt x="1810" y="393"/>
                    </a:lnTo>
                    <a:lnTo>
                      <a:pt x="1804" y="389"/>
                    </a:lnTo>
                    <a:lnTo>
                      <a:pt x="1781" y="380"/>
                    </a:lnTo>
                    <a:lnTo>
                      <a:pt x="1763" y="376"/>
                    </a:lnTo>
                    <a:lnTo>
                      <a:pt x="1773" y="376"/>
                    </a:lnTo>
                    <a:lnTo>
                      <a:pt x="1757" y="370"/>
                    </a:lnTo>
                    <a:lnTo>
                      <a:pt x="1761" y="369"/>
                    </a:lnTo>
                    <a:lnTo>
                      <a:pt x="1751" y="368"/>
                    </a:lnTo>
                    <a:lnTo>
                      <a:pt x="1757" y="368"/>
                    </a:lnTo>
                    <a:lnTo>
                      <a:pt x="1738" y="362"/>
                    </a:lnTo>
                    <a:lnTo>
                      <a:pt x="1744" y="362"/>
                    </a:lnTo>
                    <a:lnTo>
                      <a:pt x="1755" y="365"/>
                    </a:lnTo>
                    <a:lnTo>
                      <a:pt x="1754" y="355"/>
                    </a:lnTo>
                    <a:lnTo>
                      <a:pt x="1735" y="349"/>
                    </a:lnTo>
                    <a:lnTo>
                      <a:pt x="1724" y="344"/>
                    </a:lnTo>
                    <a:lnTo>
                      <a:pt x="1722" y="339"/>
                    </a:lnTo>
                    <a:lnTo>
                      <a:pt x="1706" y="333"/>
                    </a:lnTo>
                    <a:lnTo>
                      <a:pt x="1698" y="329"/>
                    </a:lnTo>
                    <a:lnTo>
                      <a:pt x="1691" y="332"/>
                    </a:lnTo>
                    <a:lnTo>
                      <a:pt x="1696" y="324"/>
                    </a:lnTo>
                    <a:lnTo>
                      <a:pt x="1686" y="320"/>
                    </a:lnTo>
                    <a:lnTo>
                      <a:pt x="1678" y="324"/>
                    </a:lnTo>
                    <a:lnTo>
                      <a:pt x="1676" y="313"/>
                    </a:lnTo>
                    <a:lnTo>
                      <a:pt x="1662" y="307"/>
                    </a:lnTo>
                    <a:lnTo>
                      <a:pt x="1653" y="306"/>
                    </a:lnTo>
                    <a:lnTo>
                      <a:pt x="1650" y="300"/>
                    </a:lnTo>
                    <a:lnTo>
                      <a:pt x="1642" y="297"/>
                    </a:lnTo>
                    <a:lnTo>
                      <a:pt x="1617" y="284"/>
                    </a:lnTo>
                    <a:lnTo>
                      <a:pt x="1611" y="281"/>
                    </a:lnTo>
                    <a:lnTo>
                      <a:pt x="1606" y="283"/>
                    </a:lnTo>
                    <a:lnTo>
                      <a:pt x="1601" y="275"/>
                    </a:lnTo>
                    <a:lnTo>
                      <a:pt x="1600" y="281"/>
                    </a:lnTo>
                    <a:lnTo>
                      <a:pt x="1610" y="288"/>
                    </a:lnTo>
                    <a:lnTo>
                      <a:pt x="1600" y="288"/>
                    </a:lnTo>
                    <a:lnTo>
                      <a:pt x="1614" y="296"/>
                    </a:lnTo>
                    <a:lnTo>
                      <a:pt x="1613" y="298"/>
                    </a:lnTo>
                    <a:lnTo>
                      <a:pt x="1616" y="306"/>
                    </a:lnTo>
                    <a:lnTo>
                      <a:pt x="1620" y="316"/>
                    </a:lnTo>
                    <a:lnTo>
                      <a:pt x="1627" y="323"/>
                    </a:lnTo>
                    <a:lnTo>
                      <a:pt x="1609" y="313"/>
                    </a:lnTo>
                    <a:lnTo>
                      <a:pt x="1606" y="323"/>
                    </a:lnTo>
                    <a:lnTo>
                      <a:pt x="1607" y="334"/>
                    </a:lnTo>
                    <a:lnTo>
                      <a:pt x="1596" y="324"/>
                    </a:lnTo>
                    <a:lnTo>
                      <a:pt x="1594" y="329"/>
                    </a:lnTo>
                    <a:lnTo>
                      <a:pt x="1583" y="319"/>
                    </a:lnTo>
                    <a:lnTo>
                      <a:pt x="1591" y="332"/>
                    </a:lnTo>
                    <a:lnTo>
                      <a:pt x="1580" y="339"/>
                    </a:lnTo>
                    <a:lnTo>
                      <a:pt x="1585" y="324"/>
                    </a:lnTo>
                    <a:lnTo>
                      <a:pt x="1560" y="310"/>
                    </a:lnTo>
                    <a:lnTo>
                      <a:pt x="1544" y="314"/>
                    </a:lnTo>
                    <a:lnTo>
                      <a:pt x="1535" y="313"/>
                    </a:lnTo>
                    <a:lnTo>
                      <a:pt x="1537" y="308"/>
                    </a:lnTo>
                    <a:lnTo>
                      <a:pt x="1548" y="311"/>
                    </a:lnTo>
                    <a:lnTo>
                      <a:pt x="1535" y="298"/>
                    </a:lnTo>
                    <a:lnTo>
                      <a:pt x="1525" y="294"/>
                    </a:lnTo>
                    <a:lnTo>
                      <a:pt x="1513" y="283"/>
                    </a:lnTo>
                    <a:lnTo>
                      <a:pt x="1486" y="281"/>
                    </a:lnTo>
                    <a:lnTo>
                      <a:pt x="1509" y="278"/>
                    </a:lnTo>
                    <a:lnTo>
                      <a:pt x="1493" y="265"/>
                    </a:lnTo>
                    <a:lnTo>
                      <a:pt x="1486" y="260"/>
                    </a:lnTo>
                    <a:lnTo>
                      <a:pt x="1480" y="261"/>
                    </a:lnTo>
                    <a:lnTo>
                      <a:pt x="1434" y="249"/>
                    </a:lnTo>
                    <a:lnTo>
                      <a:pt x="1428" y="242"/>
                    </a:lnTo>
                    <a:lnTo>
                      <a:pt x="1423" y="242"/>
                    </a:lnTo>
                    <a:lnTo>
                      <a:pt x="1403" y="235"/>
                    </a:lnTo>
                    <a:lnTo>
                      <a:pt x="1398" y="231"/>
                    </a:lnTo>
                    <a:lnTo>
                      <a:pt x="1365" y="222"/>
                    </a:lnTo>
                    <a:lnTo>
                      <a:pt x="1356" y="229"/>
                    </a:lnTo>
                    <a:lnTo>
                      <a:pt x="1335" y="229"/>
                    </a:lnTo>
                    <a:lnTo>
                      <a:pt x="1336" y="226"/>
                    </a:lnTo>
                    <a:lnTo>
                      <a:pt x="1292" y="222"/>
                    </a:lnTo>
                    <a:lnTo>
                      <a:pt x="1308" y="241"/>
                    </a:lnTo>
                    <a:lnTo>
                      <a:pt x="1322" y="248"/>
                    </a:lnTo>
                    <a:lnTo>
                      <a:pt x="1336" y="264"/>
                    </a:lnTo>
                    <a:lnTo>
                      <a:pt x="1342" y="264"/>
                    </a:lnTo>
                    <a:lnTo>
                      <a:pt x="1367" y="281"/>
                    </a:lnTo>
                    <a:lnTo>
                      <a:pt x="1374" y="291"/>
                    </a:lnTo>
                    <a:lnTo>
                      <a:pt x="1369" y="291"/>
                    </a:lnTo>
                    <a:lnTo>
                      <a:pt x="1378" y="317"/>
                    </a:lnTo>
                    <a:lnTo>
                      <a:pt x="1437" y="342"/>
                    </a:lnTo>
                    <a:lnTo>
                      <a:pt x="1459" y="363"/>
                    </a:lnTo>
                    <a:lnTo>
                      <a:pt x="1480" y="385"/>
                    </a:lnTo>
                    <a:lnTo>
                      <a:pt x="1473" y="398"/>
                    </a:lnTo>
                    <a:lnTo>
                      <a:pt x="1466" y="412"/>
                    </a:lnTo>
                    <a:lnTo>
                      <a:pt x="1459" y="418"/>
                    </a:lnTo>
                    <a:lnTo>
                      <a:pt x="1486" y="437"/>
                    </a:lnTo>
                    <a:lnTo>
                      <a:pt x="1526" y="471"/>
                    </a:lnTo>
                    <a:lnTo>
                      <a:pt x="1535" y="487"/>
                    </a:lnTo>
                    <a:lnTo>
                      <a:pt x="1545" y="499"/>
                    </a:lnTo>
                    <a:lnTo>
                      <a:pt x="1548" y="504"/>
                    </a:lnTo>
                    <a:lnTo>
                      <a:pt x="1531" y="494"/>
                    </a:lnTo>
                    <a:lnTo>
                      <a:pt x="1538" y="510"/>
                    </a:lnTo>
                    <a:lnTo>
                      <a:pt x="1551" y="517"/>
                    </a:lnTo>
                    <a:lnTo>
                      <a:pt x="1516" y="503"/>
                    </a:lnTo>
                    <a:lnTo>
                      <a:pt x="1511" y="510"/>
                    </a:lnTo>
                    <a:lnTo>
                      <a:pt x="1509" y="499"/>
                    </a:lnTo>
                    <a:lnTo>
                      <a:pt x="1469" y="480"/>
                    </a:lnTo>
                    <a:lnTo>
                      <a:pt x="1463" y="473"/>
                    </a:lnTo>
                    <a:lnTo>
                      <a:pt x="1436" y="454"/>
                    </a:lnTo>
                    <a:lnTo>
                      <a:pt x="1413" y="429"/>
                    </a:lnTo>
                    <a:lnTo>
                      <a:pt x="1387" y="405"/>
                    </a:lnTo>
                    <a:lnTo>
                      <a:pt x="1359" y="404"/>
                    </a:lnTo>
                    <a:lnTo>
                      <a:pt x="1332" y="402"/>
                    </a:lnTo>
                    <a:lnTo>
                      <a:pt x="1332" y="405"/>
                    </a:lnTo>
                    <a:lnTo>
                      <a:pt x="1331" y="399"/>
                    </a:lnTo>
                    <a:lnTo>
                      <a:pt x="1297" y="391"/>
                    </a:lnTo>
                    <a:lnTo>
                      <a:pt x="1264" y="380"/>
                    </a:lnTo>
                    <a:lnTo>
                      <a:pt x="1210" y="360"/>
                    </a:lnTo>
                    <a:lnTo>
                      <a:pt x="1169" y="350"/>
                    </a:lnTo>
                    <a:lnTo>
                      <a:pt x="1149" y="359"/>
                    </a:lnTo>
                    <a:lnTo>
                      <a:pt x="1146" y="357"/>
                    </a:lnTo>
                    <a:lnTo>
                      <a:pt x="1143" y="359"/>
                    </a:lnTo>
                    <a:lnTo>
                      <a:pt x="1113" y="329"/>
                    </a:lnTo>
                    <a:lnTo>
                      <a:pt x="1090" y="314"/>
                    </a:lnTo>
                    <a:lnTo>
                      <a:pt x="1077" y="317"/>
                    </a:lnTo>
                    <a:lnTo>
                      <a:pt x="1083" y="327"/>
                    </a:lnTo>
                    <a:lnTo>
                      <a:pt x="1070" y="314"/>
                    </a:lnTo>
                    <a:lnTo>
                      <a:pt x="1054" y="306"/>
                    </a:lnTo>
                    <a:lnTo>
                      <a:pt x="1025" y="270"/>
                    </a:lnTo>
                    <a:lnTo>
                      <a:pt x="1018" y="241"/>
                    </a:lnTo>
                    <a:lnTo>
                      <a:pt x="1009" y="235"/>
                    </a:lnTo>
                    <a:lnTo>
                      <a:pt x="1017" y="228"/>
                    </a:lnTo>
                    <a:lnTo>
                      <a:pt x="1008" y="225"/>
                    </a:lnTo>
                    <a:lnTo>
                      <a:pt x="1021" y="228"/>
                    </a:lnTo>
                    <a:lnTo>
                      <a:pt x="1017" y="221"/>
                    </a:lnTo>
                    <a:lnTo>
                      <a:pt x="1024" y="218"/>
                    </a:lnTo>
                    <a:lnTo>
                      <a:pt x="1017" y="213"/>
                    </a:lnTo>
                    <a:lnTo>
                      <a:pt x="1038" y="208"/>
                    </a:lnTo>
                    <a:lnTo>
                      <a:pt x="1027" y="199"/>
                    </a:lnTo>
                    <a:lnTo>
                      <a:pt x="995" y="195"/>
                    </a:lnTo>
                    <a:lnTo>
                      <a:pt x="995" y="192"/>
                    </a:lnTo>
                    <a:lnTo>
                      <a:pt x="968" y="189"/>
                    </a:lnTo>
                    <a:lnTo>
                      <a:pt x="958" y="183"/>
                    </a:lnTo>
                    <a:lnTo>
                      <a:pt x="995" y="187"/>
                    </a:lnTo>
                    <a:lnTo>
                      <a:pt x="1031" y="193"/>
                    </a:lnTo>
                    <a:lnTo>
                      <a:pt x="1027" y="185"/>
                    </a:lnTo>
                    <a:lnTo>
                      <a:pt x="1027" y="182"/>
                    </a:lnTo>
                    <a:lnTo>
                      <a:pt x="1044" y="186"/>
                    </a:lnTo>
                    <a:lnTo>
                      <a:pt x="1035" y="180"/>
                    </a:lnTo>
                    <a:lnTo>
                      <a:pt x="1051" y="183"/>
                    </a:lnTo>
                    <a:lnTo>
                      <a:pt x="1055" y="162"/>
                    </a:lnTo>
                    <a:lnTo>
                      <a:pt x="1048" y="156"/>
                    </a:lnTo>
                    <a:lnTo>
                      <a:pt x="999" y="149"/>
                    </a:lnTo>
                    <a:lnTo>
                      <a:pt x="956" y="139"/>
                    </a:lnTo>
                    <a:lnTo>
                      <a:pt x="1014" y="146"/>
                    </a:lnTo>
                    <a:lnTo>
                      <a:pt x="1040" y="153"/>
                    </a:lnTo>
                    <a:lnTo>
                      <a:pt x="1043" y="133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5864760" y="1314720"/>
                <a:ext cx="383400" cy="192240"/>
              </a:xfrm>
              <a:custGeom>
                <a:avLst/>
                <a:gdLst/>
                <a:ahLst/>
                <a:rect l="l" t="t" r="r" b="b"/>
                <a:pathLst>
                  <a:path w="734" h="275">
                    <a:moveTo>
                      <a:pt x="374" y="72"/>
                    </a:moveTo>
                    <a:lnTo>
                      <a:pt x="373" y="74"/>
                    </a:lnTo>
                    <a:lnTo>
                      <a:pt x="379" y="64"/>
                    </a:lnTo>
                    <a:lnTo>
                      <a:pt x="364" y="62"/>
                    </a:lnTo>
                    <a:lnTo>
                      <a:pt x="353" y="67"/>
                    </a:lnTo>
                    <a:lnTo>
                      <a:pt x="348" y="59"/>
                    </a:lnTo>
                    <a:lnTo>
                      <a:pt x="357" y="57"/>
                    </a:lnTo>
                    <a:lnTo>
                      <a:pt x="322" y="51"/>
                    </a:lnTo>
                    <a:lnTo>
                      <a:pt x="325" y="59"/>
                    </a:lnTo>
                    <a:lnTo>
                      <a:pt x="315" y="55"/>
                    </a:lnTo>
                    <a:lnTo>
                      <a:pt x="318" y="59"/>
                    </a:lnTo>
                    <a:lnTo>
                      <a:pt x="302" y="49"/>
                    </a:lnTo>
                    <a:lnTo>
                      <a:pt x="305" y="55"/>
                    </a:lnTo>
                    <a:lnTo>
                      <a:pt x="292" y="45"/>
                    </a:lnTo>
                    <a:lnTo>
                      <a:pt x="292" y="46"/>
                    </a:lnTo>
                    <a:lnTo>
                      <a:pt x="292" y="58"/>
                    </a:lnTo>
                    <a:lnTo>
                      <a:pt x="285" y="49"/>
                    </a:lnTo>
                    <a:lnTo>
                      <a:pt x="278" y="49"/>
                    </a:lnTo>
                    <a:lnTo>
                      <a:pt x="284" y="41"/>
                    </a:lnTo>
                    <a:lnTo>
                      <a:pt x="259" y="39"/>
                    </a:lnTo>
                    <a:lnTo>
                      <a:pt x="262" y="45"/>
                    </a:lnTo>
                    <a:lnTo>
                      <a:pt x="253" y="38"/>
                    </a:lnTo>
                    <a:lnTo>
                      <a:pt x="249" y="44"/>
                    </a:lnTo>
                    <a:lnTo>
                      <a:pt x="260" y="34"/>
                    </a:lnTo>
                    <a:lnTo>
                      <a:pt x="232" y="28"/>
                    </a:lnTo>
                    <a:lnTo>
                      <a:pt x="191" y="28"/>
                    </a:lnTo>
                    <a:lnTo>
                      <a:pt x="223" y="36"/>
                    </a:lnTo>
                    <a:lnTo>
                      <a:pt x="196" y="35"/>
                    </a:lnTo>
                    <a:lnTo>
                      <a:pt x="223" y="44"/>
                    </a:lnTo>
                    <a:lnTo>
                      <a:pt x="201" y="39"/>
                    </a:lnTo>
                    <a:lnTo>
                      <a:pt x="209" y="42"/>
                    </a:lnTo>
                    <a:lnTo>
                      <a:pt x="199" y="38"/>
                    </a:lnTo>
                    <a:lnTo>
                      <a:pt x="183" y="31"/>
                    </a:lnTo>
                    <a:lnTo>
                      <a:pt x="180" y="32"/>
                    </a:lnTo>
                    <a:lnTo>
                      <a:pt x="171" y="34"/>
                    </a:lnTo>
                    <a:lnTo>
                      <a:pt x="178" y="36"/>
                    </a:lnTo>
                    <a:lnTo>
                      <a:pt x="170" y="36"/>
                    </a:lnTo>
                    <a:lnTo>
                      <a:pt x="170" y="39"/>
                    </a:lnTo>
                    <a:lnTo>
                      <a:pt x="155" y="31"/>
                    </a:lnTo>
                    <a:lnTo>
                      <a:pt x="154" y="32"/>
                    </a:lnTo>
                    <a:lnTo>
                      <a:pt x="154" y="22"/>
                    </a:lnTo>
                    <a:lnTo>
                      <a:pt x="105" y="2"/>
                    </a:lnTo>
                    <a:lnTo>
                      <a:pt x="70" y="6"/>
                    </a:lnTo>
                    <a:lnTo>
                      <a:pt x="78" y="9"/>
                    </a:lnTo>
                    <a:lnTo>
                      <a:pt x="68" y="10"/>
                    </a:lnTo>
                    <a:lnTo>
                      <a:pt x="60" y="13"/>
                    </a:lnTo>
                    <a:lnTo>
                      <a:pt x="88" y="18"/>
                    </a:lnTo>
                    <a:lnTo>
                      <a:pt x="69" y="18"/>
                    </a:lnTo>
                    <a:lnTo>
                      <a:pt x="95" y="23"/>
                    </a:lnTo>
                    <a:lnTo>
                      <a:pt x="62" y="21"/>
                    </a:lnTo>
                    <a:lnTo>
                      <a:pt x="88" y="32"/>
                    </a:lnTo>
                    <a:lnTo>
                      <a:pt x="92" y="32"/>
                    </a:lnTo>
                    <a:lnTo>
                      <a:pt x="112" y="39"/>
                    </a:lnTo>
                    <a:lnTo>
                      <a:pt x="88" y="38"/>
                    </a:lnTo>
                    <a:lnTo>
                      <a:pt x="93" y="42"/>
                    </a:lnTo>
                    <a:lnTo>
                      <a:pt x="124" y="52"/>
                    </a:lnTo>
                    <a:lnTo>
                      <a:pt x="129" y="61"/>
                    </a:lnTo>
                    <a:lnTo>
                      <a:pt x="105" y="61"/>
                    </a:lnTo>
                    <a:lnTo>
                      <a:pt x="119" y="52"/>
                    </a:lnTo>
                    <a:lnTo>
                      <a:pt x="76" y="39"/>
                    </a:lnTo>
                    <a:lnTo>
                      <a:pt x="44" y="12"/>
                    </a:lnTo>
                    <a:lnTo>
                      <a:pt x="44" y="0"/>
                    </a:lnTo>
                    <a:lnTo>
                      <a:pt x="0" y="6"/>
                    </a:lnTo>
                    <a:lnTo>
                      <a:pt x="3" y="22"/>
                    </a:lnTo>
                    <a:lnTo>
                      <a:pt x="34" y="52"/>
                    </a:lnTo>
                    <a:lnTo>
                      <a:pt x="92" y="61"/>
                    </a:lnTo>
                    <a:lnTo>
                      <a:pt x="60" y="62"/>
                    </a:lnTo>
                    <a:lnTo>
                      <a:pt x="89" y="74"/>
                    </a:lnTo>
                    <a:lnTo>
                      <a:pt x="118" y="77"/>
                    </a:lnTo>
                    <a:lnTo>
                      <a:pt x="118" y="75"/>
                    </a:lnTo>
                    <a:lnTo>
                      <a:pt x="122" y="74"/>
                    </a:lnTo>
                    <a:lnTo>
                      <a:pt x="150" y="84"/>
                    </a:lnTo>
                    <a:lnTo>
                      <a:pt x="219" y="85"/>
                    </a:lnTo>
                    <a:lnTo>
                      <a:pt x="184" y="77"/>
                    </a:lnTo>
                    <a:lnTo>
                      <a:pt x="240" y="90"/>
                    </a:lnTo>
                    <a:lnTo>
                      <a:pt x="213" y="81"/>
                    </a:lnTo>
                    <a:lnTo>
                      <a:pt x="271" y="85"/>
                    </a:lnTo>
                    <a:lnTo>
                      <a:pt x="246" y="75"/>
                    </a:lnTo>
                    <a:lnTo>
                      <a:pt x="246" y="70"/>
                    </a:lnTo>
                    <a:lnTo>
                      <a:pt x="260" y="75"/>
                    </a:lnTo>
                    <a:lnTo>
                      <a:pt x="281" y="80"/>
                    </a:lnTo>
                    <a:lnTo>
                      <a:pt x="292" y="88"/>
                    </a:lnTo>
                    <a:lnTo>
                      <a:pt x="309" y="90"/>
                    </a:lnTo>
                    <a:lnTo>
                      <a:pt x="311" y="93"/>
                    </a:lnTo>
                    <a:lnTo>
                      <a:pt x="317" y="91"/>
                    </a:lnTo>
                    <a:lnTo>
                      <a:pt x="345" y="106"/>
                    </a:lnTo>
                    <a:lnTo>
                      <a:pt x="338" y="110"/>
                    </a:lnTo>
                    <a:lnTo>
                      <a:pt x="345" y="114"/>
                    </a:lnTo>
                    <a:lnTo>
                      <a:pt x="353" y="107"/>
                    </a:lnTo>
                    <a:lnTo>
                      <a:pt x="366" y="108"/>
                    </a:lnTo>
                    <a:lnTo>
                      <a:pt x="393" y="118"/>
                    </a:lnTo>
                    <a:lnTo>
                      <a:pt x="389" y="113"/>
                    </a:lnTo>
                    <a:lnTo>
                      <a:pt x="406" y="124"/>
                    </a:lnTo>
                    <a:lnTo>
                      <a:pt x="419" y="124"/>
                    </a:lnTo>
                    <a:lnTo>
                      <a:pt x="464" y="150"/>
                    </a:lnTo>
                    <a:lnTo>
                      <a:pt x="464" y="159"/>
                    </a:lnTo>
                    <a:lnTo>
                      <a:pt x="495" y="162"/>
                    </a:lnTo>
                    <a:lnTo>
                      <a:pt x="489" y="153"/>
                    </a:lnTo>
                    <a:lnTo>
                      <a:pt x="534" y="166"/>
                    </a:lnTo>
                    <a:lnTo>
                      <a:pt x="538" y="172"/>
                    </a:lnTo>
                    <a:lnTo>
                      <a:pt x="518" y="172"/>
                    </a:lnTo>
                    <a:lnTo>
                      <a:pt x="514" y="175"/>
                    </a:lnTo>
                    <a:lnTo>
                      <a:pt x="500" y="165"/>
                    </a:lnTo>
                    <a:lnTo>
                      <a:pt x="461" y="163"/>
                    </a:lnTo>
                    <a:lnTo>
                      <a:pt x="455" y="173"/>
                    </a:lnTo>
                    <a:lnTo>
                      <a:pt x="487" y="188"/>
                    </a:lnTo>
                    <a:lnTo>
                      <a:pt x="461" y="195"/>
                    </a:lnTo>
                    <a:lnTo>
                      <a:pt x="472" y="201"/>
                    </a:lnTo>
                    <a:lnTo>
                      <a:pt x="475" y="203"/>
                    </a:lnTo>
                    <a:lnTo>
                      <a:pt x="458" y="195"/>
                    </a:lnTo>
                    <a:lnTo>
                      <a:pt x="423" y="192"/>
                    </a:lnTo>
                    <a:lnTo>
                      <a:pt x="432" y="209"/>
                    </a:lnTo>
                    <a:lnTo>
                      <a:pt x="466" y="216"/>
                    </a:lnTo>
                    <a:lnTo>
                      <a:pt x="482" y="214"/>
                    </a:lnTo>
                    <a:lnTo>
                      <a:pt x="479" y="211"/>
                    </a:lnTo>
                    <a:lnTo>
                      <a:pt x="498" y="211"/>
                    </a:lnTo>
                    <a:lnTo>
                      <a:pt x="487" y="202"/>
                    </a:lnTo>
                    <a:lnTo>
                      <a:pt x="502" y="208"/>
                    </a:lnTo>
                    <a:lnTo>
                      <a:pt x="515" y="216"/>
                    </a:lnTo>
                    <a:lnTo>
                      <a:pt x="515" y="209"/>
                    </a:lnTo>
                    <a:lnTo>
                      <a:pt x="524" y="209"/>
                    </a:lnTo>
                    <a:lnTo>
                      <a:pt x="536" y="219"/>
                    </a:lnTo>
                    <a:lnTo>
                      <a:pt x="560" y="226"/>
                    </a:lnTo>
                    <a:lnTo>
                      <a:pt x="570" y="232"/>
                    </a:lnTo>
                    <a:lnTo>
                      <a:pt x="587" y="235"/>
                    </a:lnTo>
                    <a:lnTo>
                      <a:pt x="582" y="239"/>
                    </a:lnTo>
                    <a:lnTo>
                      <a:pt x="605" y="247"/>
                    </a:lnTo>
                    <a:lnTo>
                      <a:pt x="644" y="257"/>
                    </a:lnTo>
                    <a:lnTo>
                      <a:pt x="688" y="265"/>
                    </a:lnTo>
                    <a:lnTo>
                      <a:pt x="734" y="275"/>
                    </a:lnTo>
                    <a:lnTo>
                      <a:pt x="714" y="264"/>
                    </a:lnTo>
                    <a:lnTo>
                      <a:pt x="668" y="247"/>
                    </a:lnTo>
                    <a:lnTo>
                      <a:pt x="623" y="229"/>
                    </a:lnTo>
                    <a:lnTo>
                      <a:pt x="658" y="239"/>
                    </a:lnTo>
                    <a:lnTo>
                      <a:pt x="651" y="232"/>
                    </a:lnTo>
                    <a:lnTo>
                      <a:pt x="687" y="247"/>
                    </a:lnTo>
                    <a:lnTo>
                      <a:pt x="684" y="244"/>
                    </a:lnTo>
                    <a:lnTo>
                      <a:pt x="700" y="248"/>
                    </a:lnTo>
                    <a:lnTo>
                      <a:pt x="721" y="254"/>
                    </a:lnTo>
                    <a:lnTo>
                      <a:pt x="731" y="257"/>
                    </a:lnTo>
                    <a:lnTo>
                      <a:pt x="720" y="250"/>
                    </a:lnTo>
                    <a:lnTo>
                      <a:pt x="724" y="248"/>
                    </a:lnTo>
                    <a:lnTo>
                      <a:pt x="698" y="232"/>
                    </a:lnTo>
                    <a:lnTo>
                      <a:pt x="713" y="238"/>
                    </a:lnTo>
                    <a:lnTo>
                      <a:pt x="703" y="229"/>
                    </a:lnTo>
                    <a:lnTo>
                      <a:pt x="693" y="224"/>
                    </a:lnTo>
                    <a:lnTo>
                      <a:pt x="684" y="222"/>
                    </a:lnTo>
                    <a:lnTo>
                      <a:pt x="675" y="216"/>
                    </a:lnTo>
                    <a:lnTo>
                      <a:pt x="670" y="212"/>
                    </a:lnTo>
                    <a:lnTo>
                      <a:pt x="659" y="209"/>
                    </a:lnTo>
                    <a:lnTo>
                      <a:pt x="651" y="206"/>
                    </a:lnTo>
                    <a:lnTo>
                      <a:pt x="645" y="205"/>
                    </a:lnTo>
                    <a:lnTo>
                      <a:pt x="628" y="199"/>
                    </a:lnTo>
                    <a:lnTo>
                      <a:pt x="631" y="202"/>
                    </a:lnTo>
                    <a:lnTo>
                      <a:pt x="623" y="195"/>
                    </a:lnTo>
                    <a:lnTo>
                      <a:pt x="621" y="198"/>
                    </a:lnTo>
                    <a:lnTo>
                      <a:pt x="610" y="190"/>
                    </a:lnTo>
                    <a:lnTo>
                      <a:pt x="597" y="185"/>
                    </a:lnTo>
                    <a:lnTo>
                      <a:pt x="587" y="185"/>
                    </a:lnTo>
                    <a:lnTo>
                      <a:pt x="583" y="182"/>
                    </a:lnTo>
                    <a:lnTo>
                      <a:pt x="573" y="178"/>
                    </a:lnTo>
                    <a:lnTo>
                      <a:pt x="556" y="169"/>
                    </a:lnTo>
                    <a:lnTo>
                      <a:pt x="587" y="179"/>
                    </a:lnTo>
                    <a:lnTo>
                      <a:pt x="583" y="173"/>
                    </a:lnTo>
                    <a:lnTo>
                      <a:pt x="569" y="167"/>
                    </a:lnTo>
                    <a:lnTo>
                      <a:pt x="576" y="166"/>
                    </a:lnTo>
                    <a:lnTo>
                      <a:pt x="569" y="163"/>
                    </a:lnTo>
                    <a:lnTo>
                      <a:pt x="585" y="166"/>
                    </a:lnTo>
                    <a:lnTo>
                      <a:pt x="610" y="172"/>
                    </a:lnTo>
                    <a:lnTo>
                      <a:pt x="610" y="169"/>
                    </a:lnTo>
                    <a:lnTo>
                      <a:pt x="615" y="178"/>
                    </a:lnTo>
                    <a:lnTo>
                      <a:pt x="629" y="169"/>
                    </a:lnTo>
                    <a:lnTo>
                      <a:pt x="629" y="176"/>
                    </a:lnTo>
                    <a:lnTo>
                      <a:pt x="631" y="185"/>
                    </a:lnTo>
                    <a:lnTo>
                      <a:pt x="638" y="185"/>
                    </a:lnTo>
                    <a:lnTo>
                      <a:pt x="645" y="190"/>
                    </a:lnTo>
                    <a:lnTo>
                      <a:pt x="654" y="189"/>
                    </a:lnTo>
                    <a:lnTo>
                      <a:pt x="665" y="198"/>
                    </a:lnTo>
                    <a:lnTo>
                      <a:pt x="662" y="193"/>
                    </a:lnTo>
                    <a:lnTo>
                      <a:pt x="675" y="198"/>
                    </a:lnTo>
                    <a:lnTo>
                      <a:pt x="688" y="199"/>
                    </a:lnTo>
                    <a:lnTo>
                      <a:pt x="670" y="189"/>
                    </a:lnTo>
                    <a:lnTo>
                      <a:pt x="668" y="188"/>
                    </a:lnTo>
                    <a:lnTo>
                      <a:pt x="658" y="178"/>
                    </a:lnTo>
                    <a:lnTo>
                      <a:pt x="678" y="185"/>
                    </a:lnTo>
                    <a:lnTo>
                      <a:pt x="672" y="179"/>
                    </a:lnTo>
                    <a:lnTo>
                      <a:pt x="678" y="178"/>
                    </a:lnTo>
                    <a:lnTo>
                      <a:pt x="668" y="176"/>
                    </a:lnTo>
                    <a:lnTo>
                      <a:pt x="677" y="173"/>
                    </a:lnTo>
                    <a:lnTo>
                      <a:pt x="662" y="170"/>
                    </a:lnTo>
                    <a:lnTo>
                      <a:pt x="665" y="167"/>
                    </a:lnTo>
                    <a:lnTo>
                      <a:pt x="677" y="167"/>
                    </a:lnTo>
                    <a:lnTo>
                      <a:pt x="675" y="165"/>
                    </a:lnTo>
                    <a:lnTo>
                      <a:pt x="664" y="162"/>
                    </a:lnTo>
                    <a:lnTo>
                      <a:pt x="675" y="162"/>
                    </a:lnTo>
                    <a:lnTo>
                      <a:pt x="648" y="154"/>
                    </a:lnTo>
                    <a:lnTo>
                      <a:pt x="651" y="159"/>
                    </a:lnTo>
                    <a:lnTo>
                      <a:pt x="645" y="159"/>
                    </a:lnTo>
                    <a:lnTo>
                      <a:pt x="636" y="154"/>
                    </a:lnTo>
                    <a:lnTo>
                      <a:pt x="635" y="160"/>
                    </a:lnTo>
                    <a:lnTo>
                      <a:pt x="629" y="157"/>
                    </a:lnTo>
                    <a:lnTo>
                      <a:pt x="618" y="147"/>
                    </a:lnTo>
                    <a:lnTo>
                      <a:pt x="621" y="152"/>
                    </a:lnTo>
                    <a:lnTo>
                      <a:pt x="600" y="150"/>
                    </a:lnTo>
                    <a:lnTo>
                      <a:pt x="608" y="147"/>
                    </a:lnTo>
                    <a:lnTo>
                      <a:pt x="595" y="149"/>
                    </a:lnTo>
                    <a:lnTo>
                      <a:pt x="602" y="146"/>
                    </a:lnTo>
                    <a:lnTo>
                      <a:pt x="590" y="144"/>
                    </a:lnTo>
                    <a:lnTo>
                      <a:pt x="600" y="143"/>
                    </a:lnTo>
                    <a:lnTo>
                      <a:pt x="596" y="140"/>
                    </a:lnTo>
                    <a:lnTo>
                      <a:pt x="579" y="137"/>
                    </a:lnTo>
                    <a:lnTo>
                      <a:pt x="573" y="136"/>
                    </a:lnTo>
                    <a:lnTo>
                      <a:pt x="564" y="129"/>
                    </a:lnTo>
                    <a:lnTo>
                      <a:pt x="569" y="137"/>
                    </a:lnTo>
                    <a:lnTo>
                      <a:pt x="554" y="131"/>
                    </a:lnTo>
                    <a:lnTo>
                      <a:pt x="554" y="134"/>
                    </a:lnTo>
                    <a:lnTo>
                      <a:pt x="549" y="129"/>
                    </a:lnTo>
                    <a:lnTo>
                      <a:pt x="546" y="133"/>
                    </a:lnTo>
                    <a:lnTo>
                      <a:pt x="538" y="127"/>
                    </a:lnTo>
                    <a:lnTo>
                      <a:pt x="530" y="127"/>
                    </a:lnTo>
                    <a:lnTo>
                      <a:pt x="518" y="124"/>
                    </a:lnTo>
                    <a:lnTo>
                      <a:pt x="507" y="123"/>
                    </a:lnTo>
                    <a:lnTo>
                      <a:pt x="517" y="120"/>
                    </a:lnTo>
                    <a:lnTo>
                      <a:pt x="481" y="116"/>
                    </a:lnTo>
                    <a:lnTo>
                      <a:pt x="492" y="114"/>
                    </a:lnTo>
                    <a:lnTo>
                      <a:pt x="472" y="111"/>
                    </a:lnTo>
                    <a:lnTo>
                      <a:pt x="494" y="111"/>
                    </a:lnTo>
                    <a:lnTo>
                      <a:pt x="481" y="108"/>
                    </a:lnTo>
                    <a:lnTo>
                      <a:pt x="488" y="107"/>
                    </a:lnTo>
                    <a:lnTo>
                      <a:pt x="465" y="106"/>
                    </a:lnTo>
                    <a:lnTo>
                      <a:pt x="468" y="103"/>
                    </a:lnTo>
                    <a:lnTo>
                      <a:pt x="459" y="101"/>
                    </a:lnTo>
                    <a:lnTo>
                      <a:pt x="472" y="101"/>
                    </a:lnTo>
                    <a:lnTo>
                      <a:pt x="455" y="98"/>
                    </a:lnTo>
                    <a:lnTo>
                      <a:pt x="501" y="103"/>
                    </a:lnTo>
                    <a:lnTo>
                      <a:pt x="453" y="93"/>
                    </a:lnTo>
                    <a:lnTo>
                      <a:pt x="433" y="94"/>
                    </a:lnTo>
                    <a:lnTo>
                      <a:pt x="475" y="90"/>
                    </a:lnTo>
                    <a:lnTo>
                      <a:pt x="439" y="77"/>
                    </a:lnTo>
                    <a:lnTo>
                      <a:pt x="435" y="88"/>
                    </a:lnTo>
                    <a:lnTo>
                      <a:pt x="428" y="91"/>
                    </a:lnTo>
                    <a:lnTo>
                      <a:pt x="433" y="80"/>
                    </a:lnTo>
                    <a:lnTo>
                      <a:pt x="416" y="84"/>
                    </a:lnTo>
                    <a:lnTo>
                      <a:pt x="429" y="72"/>
                    </a:lnTo>
                    <a:lnTo>
                      <a:pt x="397" y="68"/>
                    </a:lnTo>
                    <a:lnTo>
                      <a:pt x="393" y="70"/>
                    </a:lnTo>
                    <a:lnTo>
                      <a:pt x="390" y="64"/>
                    </a:lnTo>
                    <a:lnTo>
                      <a:pt x="383" y="72"/>
                    </a:lnTo>
                    <a:lnTo>
                      <a:pt x="392" y="84"/>
                    </a:lnTo>
                    <a:lnTo>
                      <a:pt x="374" y="72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5699520" y="1192680"/>
                <a:ext cx="218160" cy="84240"/>
              </a:xfrm>
              <a:custGeom>
                <a:avLst/>
                <a:gdLst/>
                <a:ahLst/>
                <a:rect l="l" t="t" r="r" b="b"/>
                <a:pathLst>
                  <a:path w="418" h="120">
                    <a:moveTo>
                      <a:pt x="258" y="87"/>
                    </a:moveTo>
                    <a:lnTo>
                      <a:pt x="256" y="98"/>
                    </a:lnTo>
                    <a:lnTo>
                      <a:pt x="213" y="89"/>
                    </a:lnTo>
                    <a:lnTo>
                      <a:pt x="213" y="84"/>
                    </a:lnTo>
                    <a:lnTo>
                      <a:pt x="168" y="78"/>
                    </a:lnTo>
                    <a:lnTo>
                      <a:pt x="226" y="71"/>
                    </a:lnTo>
                    <a:lnTo>
                      <a:pt x="124" y="46"/>
                    </a:lnTo>
                    <a:lnTo>
                      <a:pt x="165" y="45"/>
                    </a:lnTo>
                    <a:lnTo>
                      <a:pt x="210" y="53"/>
                    </a:lnTo>
                    <a:lnTo>
                      <a:pt x="168" y="43"/>
                    </a:lnTo>
                    <a:lnTo>
                      <a:pt x="212" y="35"/>
                    </a:lnTo>
                    <a:lnTo>
                      <a:pt x="222" y="26"/>
                    </a:lnTo>
                    <a:lnTo>
                      <a:pt x="164" y="32"/>
                    </a:lnTo>
                    <a:lnTo>
                      <a:pt x="105" y="38"/>
                    </a:lnTo>
                    <a:lnTo>
                      <a:pt x="145" y="30"/>
                    </a:lnTo>
                    <a:lnTo>
                      <a:pt x="95" y="39"/>
                    </a:lnTo>
                    <a:lnTo>
                      <a:pt x="56" y="33"/>
                    </a:lnTo>
                    <a:lnTo>
                      <a:pt x="109" y="27"/>
                    </a:lnTo>
                    <a:lnTo>
                      <a:pt x="36" y="29"/>
                    </a:lnTo>
                    <a:lnTo>
                      <a:pt x="69" y="25"/>
                    </a:lnTo>
                    <a:lnTo>
                      <a:pt x="0" y="22"/>
                    </a:lnTo>
                    <a:lnTo>
                      <a:pt x="53" y="13"/>
                    </a:lnTo>
                    <a:lnTo>
                      <a:pt x="171" y="19"/>
                    </a:lnTo>
                    <a:lnTo>
                      <a:pt x="109" y="3"/>
                    </a:lnTo>
                    <a:lnTo>
                      <a:pt x="200" y="6"/>
                    </a:lnTo>
                    <a:lnTo>
                      <a:pt x="161" y="0"/>
                    </a:lnTo>
                    <a:lnTo>
                      <a:pt x="289" y="6"/>
                    </a:lnTo>
                    <a:lnTo>
                      <a:pt x="418" y="12"/>
                    </a:lnTo>
                    <a:lnTo>
                      <a:pt x="377" y="22"/>
                    </a:lnTo>
                    <a:lnTo>
                      <a:pt x="334" y="30"/>
                    </a:lnTo>
                    <a:lnTo>
                      <a:pt x="399" y="25"/>
                    </a:lnTo>
                    <a:lnTo>
                      <a:pt x="367" y="39"/>
                    </a:lnTo>
                    <a:lnTo>
                      <a:pt x="335" y="55"/>
                    </a:lnTo>
                    <a:lnTo>
                      <a:pt x="281" y="61"/>
                    </a:lnTo>
                    <a:lnTo>
                      <a:pt x="341" y="68"/>
                    </a:lnTo>
                    <a:lnTo>
                      <a:pt x="297" y="72"/>
                    </a:lnTo>
                    <a:lnTo>
                      <a:pt x="353" y="76"/>
                    </a:lnTo>
                    <a:lnTo>
                      <a:pt x="325" y="89"/>
                    </a:lnTo>
                    <a:lnTo>
                      <a:pt x="347" y="99"/>
                    </a:lnTo>
                    <a:lnTo>
                      <a:pt x="302" y="102"/>
                    </a:lnTo>
                    <a:lnTo>
                      <a:pt x="380" y="115"/>
                    </a:lnTo>
                    <a:lnTo>
                      <a:pt x="338" y="120"/>
                    </a:lnTo>
                    <a:lnTo>
                      <a:pt x="275" y="118"/>
                    </a:lnTo>
                    <a:lnTo>
                      <a:pt x="212" y="117"/>
                    </a:lnTo>
                    <a:lnTo>
                      <a:pt x="214" y="104"/>
                    </a:lnTo>
                    <a:lnTo>
                      <a:pt x="181" y="94"/>
                    </a:lnTo>
                    <a:lnTo>
                      <a:pt x="262" y="101"/>
                    </a:lnTo>
                    <a:lnTo>
                      <a:pt x="258" y="87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5616360" y="1321560"/>
                <a:ext cx="191520" cy="75600"/>
              </a:xfrm>
              <a:custGeom>
                <a:avLst/>
                <a:gdLst/>
                <a:ahLst/>
                <a:rect l="l" t="t" r="r" b="b"/>
                <a:pathLst>
                  <a:path w="365" h="109">
                    <a:moveTo>
                      <a:pt x="310" y="99"/>
                    </a:moveTo>
                    <a:lnTo>
                      <a:pt x="284" y="91"/>
                    </a:lnTo>
                    <a:lnTo>
                      <a:pt x="274" y="89"/>
                    </a:lnTo>
                    <a:lnTo>
                      <a:pt x="264" y="99"/>
                    </a:lnTo>
                    <a:lnTo>
                      <a:pt x="224" y="104"/>
                    </a:lnTo>
                    <a:lnTo>
                      <a:pt x="185" y="109"/>
                    </a:lnTo>
                    <a:lnTo>
                      <a:pt x="163" y="97"/>
                    </a:lnTo>
                    <a:lnTo>
                      <a:pt x="94" y="84"/>
                    </a:lnTo>
                    <a:lnTo>
                      <a:pt x="80" y="72"/>
                    </a:lnTo>
                    <a:lnTo>
                      <a:pt x="126" y="69"/>
                    </a:lnTo>
                    <a:lnTo>
                      <a:pt x="170" y="68"/>
                    </a:lnTo>
                    <a:lnTo>
                      <a:pt x="110" y="61"/>
                    </a:lnTo>
                    <a:lnTo>
                      <a:pt x="55" y="59"/>
                    </a:lnTo>
                    <a:lnTo>
                      <a:pt x="38" y="53"/>
                    </a:lnTo>
                    <a:lnTo>
                      <a:pt x="75" y="42"/>
                    </a:lnTo>
                    <a:lnTo>
                      <a:pt x="28" y="42"/>
                    </a:lnTo>
                    <a:lnTo>
                      <a:pt x="34" y="37"/>
                    </a:lnTo>
                    <a:lnTo>
                      <a:pt x="11" y="37"/>
                    </a:lnTo>
                    <a:lnTo>
                      <a:pt x="11" y="23"/>
                    </a:lnTo>
                    <a:lnTo>
                      <a:pt x="0" y="20"/>
                    </a:lnTo>
                    <a:lnTo>
                      <a:pt x="23" y="10"/>
                    </a:lnTo>
                    <a:lnTo>
                      <a:pt x="45" y="0"/>
                    </a:lnTo>
                    <a:lnTo>
                      <a:pt x="61" y="6"/>
                    </a:lnTo>
                    <a:lnTo>
                      <a:pt x="65" y="17"/>
                    </a:lnTo>
                    <a:lnTo>
                      <a:pt x="77" y="14"/>
                    </a:lnTo>
                    <a:lnTo>
                      <a:pt x="80" y="9"/>
                    </a:lnTo>
                    <a:lnTo>
                      <a:pt x="120" y="19"/>
                    </a:lnTo>
                    <a:lnTo>
                      <a:pt x="121" y="25"/>
                    </a:lnTo>
                    <a:lnTo>
                      <a:pt x="126" y="23"/>
                    </a:lnTo>
                    <a:lnTo>
                      <a:pt x="144" y="20"/>
                    </a:lnTo>
                    <a:lnTo>
                      <a:pt x="134" y="14"/>
                    </a:lnTo>
                    <a:lnTo>
                      <a:pt x="123" y="9"/>
                    </a:lnTo>
                    <a:lnTo>
                      <a:pt x="163" y="19"/>
                    </a:lnTo>
                    <a:lnTo>
                      <a:pt x="198" y="39"/>
                    </a:lnTo>
                    <a:lnTo>
                      <a:pt x="199" y="32"/>
                    </a:lnTo>
                    <a:lnTo>
                      <a:pt x="156" y="4"/>
                    </a:lnTo>
                    <a:lnTo>
                      <a:pt x="183" y="4"/>
                    </a:lnTo>
                    <a:lnTo>
                      <a:pt x="221" y="19"/>
                    </a:lnTo>
                    <a:lnTo>
                      <a:pt x="268" y="48"/>
                    </a:lnTo>
                    <a:lnTo>
                      <a:pt x="300" y="62"/>
                    </a:lnTo>
                    <a:lnTo>
                      <a:pt x="307" y="62"/>
                    </a:lnTo>
                    <a:lnTo>
                      <a:pt x="355" y="72"/>
                    </a:lnTo>
                    <a:lnTo>
                      <a:pt x="362" y="76"/>
                    </a:lnTo>
                    <a:lnTo>
                      <a:pt x="360" y="82"/>
                    </a:lnTo>
                    <a:lnTo>
                      <a:pt x="353" y="76"/>
                    </a:lnTo>
                    <a:lnTo>
                      <a:pt x="349" y="81"/>
                    </a:lnTo>
                    <a:lnTo>
                      <a:pt x="340" y="81"/>
                    </a:lnTo>
                    <a:lnTo>
                      <a:pt x="339" y="85"/>
                    </a:lnTo>
                    <a:lnTo>
                      <a:pt x="332" y="85"/>
                    </a:lnTo>
                    <a:lnTo>
                      <a:pt x="343" y="95"/>
                    </a:lnTo>
                    <a:lnTo>
                      <a:pt x="353" y="86"/>
                    </a:lnTo>
                    <a:lnTo>
                      <a:pt x="360" y="92"/>
                    </a:lnTo>
                    <a:lnTo>
                      <a:pt x="365" y="99"/>
                    </a:lnTo>
                    <a:lnTo>
                      <a:pt x="310" y="99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542560" y="1304280"/>
                <a:ext cx="89280" cy="50400"/>
              </a:xfrm>
              <a:custGeom>
                <a:avLst/>
                <a:gdLst/>
                <a:ahLst/>
                <a:rect l="l" t="t" r="r" b="b"/>
                <a:pathLst>
                  <a:path w="173" h="72">
                    <a:moveTo>
                      <a:pt x="124" y="49"/>
                    </a:moveTo>
                    <a:lnTo>
                      <a:pt x="128" y="65"/>
                    </a:lnTo>
                    <a:lnTo>
                      <a:pt x="98" y="72"/>
                    </a:lnTo>
                    <a:lnTo>
                      <a:pt x="56" y="57"/>
                    </a:lnTo>
                    <a:lnTo>
                      <a:pt x="32" y="51"/>
                    </a:lnTo>
                    <a:lnTo>
                      <a:pt x="30" y="36"/>
                    </a:lnTo>
                    <a:lnTo>
                      <a:pt x="24" y="29"/>
                    </a:lnTo>
                    <a:lnTo>
                      <a:pt x="26" y="13"/>
                    </a:lnTo>
                    <a:lnTo>
                      <a:pt x="0" y="2"/>
                    </a:lnTo>
                    <a:lnTo>
                      <a:pt x="59" y="0"/>
                    </a:lnTo>
                    <a:lnTo>
                      <a:pt x="86" y="5"/>
                    </a:lnTo>
                    <a:lnTo>
                      <a:pt x="96" y="8"/>
                    </a:lnTo>
                    <a:lnTo>
                      <a:pt x="122" y="5"/>
                    </a:lnTo>
                    <a:lnTo>
                      <a:pt x="173" y="21"/>
                    </a:lnTo>
                    <a:lnTo>
                      <a:pt x="153" y="32"/>
                    </a:lnTo>
                    <a:lnTo>
                      <a:pt x="131" y="44"/>
                    </a:lnTo>
                    <a:lnTo>
                      <a:pt x="124" y="49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5685480" y="1213920"/>
                <a:ext cx="106560" cy="37800"/>
              </a:xfrm>
              <a:custGeom>
                <a:avLst/>
                <a:gdLst/>
                <a:ahLst/>
                <a:rect l="l" t="t" r="r" b="b"/>
                <a:pathLst>
                  <a:path w="204" h="55">
                    <a:moveTo>
                      <a:pt x="32" y="16"/>
                    </a:moveTo>
                    <a:lnTo>
                      <a:pt x="0" y="10"/>
                    </a:lnTo>
                    <a:lnTo>
                      <a:pt x="22" y="0"/>
                    </a:lnTo>
                    <a:lnTo>
                      <a:pt x="125" y="12"/>
                    </a:lnTo>
                    <a:lnTo>
                      <a:pt x="157" y="28"/>
                    </a:lnTo>
                    <a:lnTo>
                      <a:pt x="204" y="33"/>
                    </a:lnTo>
                    <a:lnTo>
                      <a:pt x="174" y="44"/>
                    </a:lnTo>
                    <a:lnTo>
                      <a:pt x="183" y="55"/>
                    </a:lnTo>
                    <a:lnTo>
                      <a:pt x="150" y="46"/>
                    </a:lnTo>
                    <a:lnTo>
                      <a:pt x="173" y="55"/>
                    </a:lnTo>
                    <a:lnTo>
                      <a:pt x="75" y="39"/>
                    </a:lnTo>
                    <a:lnTo>
                      <a:pt x="122" y="33"/>
                    </a:lnTo>
                    <a:lnTo>
                      <a:pt x="26" y="25"/>
                    </a:lnTo>
                    <a:lnTo>
                      <a:pt x="32" y="1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5740200" y="1270800"/>
                <a:ext cx="177480" cy="29520"/>
              </a:xfrm>
              <a:custGeom>
                <a:avLst/>
                <a:gdLst/>
                <a:ahLst/>
                <a:rect l="l" t="t" r="r" b="b"/>
                <a:pathLst>
                  <a:path w="340" h="42">
                    <a:moveTo>
                      <a:pt x="154" y="22"/>
                    </a:moveTo>
                    <a:lnTo>
                      <a:pt x="100" y="12"/>
                    </a:lnTo>
                    <a:lnTo>
                      <a:pt x="136" y="12"/>
                    </a:lnTo>
                    <a:lnTo>
                      <a:pt x="62" y="8"/>
                    </a:lnTo>
                    <a:lnTo>
                      <a:pt x="51" y="0"/>
                    </a:lnTo>
                    <a:lnTo>
                      <a:pt x="0" y="2"/>
                    </a:lnTo>
                    <a:lnTo>
                      <a:pt x="72" y="9"/>
                    </a:lnTo>
                    <a:lnTo>
                      <a:pt x="108" y="25"/>
                    </a:lnTo>
                    <a:lnTo>
                      <a:pt x="144" y="42"/>
                    </a:lnTo>
                    <a:lnTo>
                      <a:pt x="193" y="41"/>
                    </a:lnTo>
                    <a:lnTo>
                      <a:pt x="242" y="41"/>
                    </a:lnTo>
                    <a:lnTo>
                      <a:pt x="291" y="39"/>
                    </a:lnTo>
                    <a:lnTo>
                      <a:pt x="340" y="38"/>
                    </a:lnTo>
                    <a:lnTo>
                      <a:pt x="321" y="29"/>
                    </a:lnTo>
                    <a:lnTo>
                      <a:pt x="256" y="21"/>
                    </a:lnTo>
                    <a:lnTo>
                      <a:pt x="206" y="21"/>
                    </a:lnTo>
                    <a:lnTo>
                      <a:pt x="154" y="22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6498000" y="1693080"/>
                <a:ext cx="95760" cy="90360"/>
              </a:xfrm>
              <a:custGeom>
                <a:avLst/>
                <a:gdLst/>
                <a:ahLst/>
                <a:rect l="l" t="t" r="r" b="b"/>
                <a:pathLst>
                  <a:path w="183" h="128">
                    <a:moveTo>
                      <a:pt x="104" y="102"/>
                    </a:moveTo>
                    <a:lnTo>
                      <a:pt x="99" y="96"/>
                    </a:lnTo>
                    <a:lnTo>
                      <a:pt x="66" y="102"/>
                    </a:lnTo>
                    <a:lnTo>
                      <a:pt x="29" y="99"/>
                    </a:lnTo>
                    <a:lnTo>
                      <a:pt x="26" y="89"/>
                    </a:lnTo>
                    <a:lnTo>
                      <a:pt x="29" y="77"/>
                    </a:lnTo>
                    <a:lnTo>
                      <a:pt x="13" y="77"/>
                    </a:lnTo>
                    <a:lnTo>
                      <a:pt x="16" y="74"/>
                    </a:lnTo>
                    <a:lnTo>
                      <a:pt x="23" y="63"/>
                    </a:lnTo>
                    <a:lnTo>
                      <a:pt x="27" y="66"/>
                    </a:lnTo>
                    <a:lnTo>
                      <a:pt x="23" y="59"/>
                    </a:lnTo>
                    <a:lnTo>
                      <a:pt x="14" y="54"/>
                    </a:lnTo>
                    <a:lnTo>
                      <a:pt x="19" y="51"/>
                    </a:lnTo>
                    <a:lnTo>
                      <a:pt x="4" y="23"/>
                    </a:lnTo>
                    <a:lnTo>
                      <a:pt x="0" y="2"/>
                    </a:lnTo>
                    <a:lnTo>
                      <a:pt x="9" y="0"/>
                    </a:lnTo>
                    <a:lnTo>
                      <a:pt x="19" y="0"/>
                    </a:lnTo>
                    <a:lnTo>
                      <a:pt x="13" y="7"/>
                    </a:lnTo>
                    <a:lnTo>
                      <a:pt x="22" y="11"/>
                    </a:lnTo>
                    <a:lnTo>
                      <a:pt x="24" y="18"/>
                    </a:lnTo>
                    <a:lnTo>
                      <a:pt x="39" y="50"/>
                    </a:lnTo>
                    <a:lnTo>
                      <a:pt x="42" y="36"/>
                    </a:lnTo>
                    <a:lnTo>
                      <a:pt x="45" y="40"/>
                    </a:lnTo>
                    <a:lnTo>
                      <a:pt x="59" y="40"/>
                    </a:lnTo>
                    <a:lnTo>
                      <a:pt x="53" y="47"/>
                    </a:lnTo>
                    <a:lnTo>
                      <a:pt x="58" y="51"/>
                    </a:lnTo>
                    <a:lnTo>
                      <a:pt x="76" y="54"/>
                    </a:lnTo>
                    <a:lnTo>
                      <a:pt x="81" y="60"/>
                    </a:lnTo>
                    <a:lnTo>
                      <a:pt x="91" y="53"/>
                    </a:lnTo>
                    <a:lnTo>
                      <a:pt x="95" y="57"/>
                    </a:lnTo>
                    <a:lnTo>
                      <a:pt x="112" y="56"/>
                    </a:lnTo>
                    <a:lnTo>
                      <a:pt x="114" y="69"/>
                    </a:lnTo>
                    <a:lnTo>
                      <a:pt x="124" y="74"/>
                    </a:lnTo>
                    <a:lnTo>
                      <a:pt x="122" y="80"/>
                    </a:lnTo>
                    <a:lnTo>
                      <a:pt x="141" y="76"/>
                    </a:lnTo>
                    <a:lnTo>
                      <a:pt x="134" y="89"/>
                    </a:lnTo>
                    <a:lnTo>
                      <a:pt x="143" y="93"/>
                    </a:lnTo>
                    <a:lnTo>
                      <a:pt x="141" y="93"/>
                    </a:lnTo>
                    <a:lnTo>
                      <a:pt x="148" y="102"/>
                    </a:lnTo>
                    <a:lnTo>
                      <a:pt x="153" y="87"/>
                    </a:lnTo>
                    <a:lnTo>
                      <a:pt x="160" y="102"/>
                    </a:lnTo>
                    <a:lnTo>
                      <a:pt x="164" y="96"/>
                    </a:lnTo>
                    <a:lnTo>
                      <a:pt x="174" y="103"/>
                    </a:lnTo>
                    <a:lnTo>
                      <a:pt x="183" y="128"/>
                    </a:lnTo>
                    <a:lnTo>
                      <a:pt x="170" y="123"/>
                    </a:lnTo>
                    <a:lnTo>
                      <a:pt x="161" y="115"/>
                    </a:lnTo>
                    <a:lnTo>
                      <a:pt x="156" y="121"/>
                    </a:lnTo>
                    <a:lnTo>
                      <a:pt x="144" y="102"/>
                    </a:lnTo>
                    <a:lnTo>
                      <a:pt x="133" y="95"/>
                    </a:lnTo>
                    <a:lnTo>
                      <a:pt x="135" y="109"/>
                    </a:lnTo>
                    <a:lnTo>
                      <a:pt x="134" y="102"/>
                    </a:lnTo>
                    <a:lnTo>
                      <a:pt x="124" y="122"/>
                    </a:lnTo>
                    <a:lnTo>
                      <a:pt x="115" y="116"/>
                    </a:lnTo>
                    <a:lnTo>
                      <a:pt x="125" y="100"/>
                    </a:lnTo>
                    <a:lnTo>
                      <a:pt x="121" y="102"/>
                    </a:lnTo>
                    <a:lnTo>
                      <a:pt x="120" y="98"/>
                    </a:lnTo>
                    <a:lnTo>
                      <a:pt x="112" y="100"/>
                    </a:lnTo>
                    <a:lnTo>
                      <a:pt x="109" y="106"/>
                    </a:lnTo>
                    <a:lnTo>
                      <a:pt x="99" y="105"/>
                    </a:lnTo>
                    <a:lnTo>
                      <a:pt x="104" y="102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5587920" y="1270800"/>
                <a:ext cx="102240" cy="33480"/>
              </a:xfrm>
              <a:custGeom>
                <a:avLst/>
                <a:gdLst/>
                <a:ahLst/>
                <a:rect l="l" t="t" r="r" b="b"/>
                <a:pathLst>
                  <a:path w="195" h="50">
                    <a:moveTo>
                      <a:pt x="105" y="50"/>
                    </a:moveTo>
                    <a:lnTo>
                      <a:pt x="69" y="45"/>
                    </a:lnTo>
                    <a:lnTo>
                      <a:pt x="108" y="32"/>
                    </a:lnTo>
                    <a:lnTo>
                      <a:pt x="55" y="32"/>
                    </a:lnTo>
                    <a:lnTo>
                      <a:pt x="3" y="32"/>
                    </a:lnTo>
                    <a:lnTo>
                      <a:pt x="32" y="24"/>
                    </a:lnTo>
                    <a:lnTo>
                      <a:pt x="3" y="22"/>
                    </a:lnTo>
                    <a:lnTo>
                      <a:pt x="29" y="19"/>
                    </a:lnTo>
                    <a:lnTo>
                      <a:pt x="0" y="14"/>
                    </a:lnTo>
                    <a:lnTo>
                      <a:pt x="66" y="16"/>
                    </a:lnTo>
                    <a:lnTo>
                      <a:pt x="137" y="27"/>
                    </a:lnTo>
                    <a:lnTo>
                      <a:pt x="88" y="9"/>
                    </a:lnTo>
                    <a:lnTo>
                      <a:pt x="101" y="0"/>
                    </a:lnTo>
                    <a:lnTo>
                      <a:pt x="144" y="22"/>
                    </a:lnTo>
                    <a:lnTo>
                      <a:pt x="182" y="20"/>
                    </a:lnTo>
                    <a:lnTo>
                      <a:pt x="195" y="36"/>
                    </a:lnTo>
                    <a:lnTo>
                      <a:pt x="167" y="36"/>
                    </a:lnTo>
                    <a:lnTo>
                      <a:pt x="136" y="43"/>
                    </a:lnTo>
                    <a:lnTo>
                      <a:pt x="105" y="5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5749920" y="1314720"/>
                <a:ext cx="67320" cy="35640"/>
              </a:xfrm>
              <a:custGeom>
                <a:avLst/>
                <a:gdLst/>
                <a:ahLst/>
                <a:rect l="l" t="t" r="r" b="b"/>
                <a:pathLst>
                  <a:path w="129" h="49">
                    <a:moveTo>
                      <a:pt x="71" y="0"/>
                    </a:moveTo>
                    <a:lnTo>
                      <a:pt x="3" y="0"/>
                    </a:lnTo>
                    <a:lnTo>
                      <a:pt x="35" y="11"/>
                    </a:lnTo>
                    <a:lnTo>
                      <a:pt x="39" y="20"/>
                    </a:lnTo>
                    <a:lnTo>
                      <a:pt x="0" y="21"/>
                    </a:lnTo>
                    <a:lnTo>
                      <a:pt x="57" y="36"/>
                    </a:lnTo>
                    <a:lnTo>
                      <a:pt x="113" y="49"/>
                    </a:lnTo>
                    <a:lnTo>
                      <a:pt x="98" y="42"/>
                    </a:lnTo>
                    <a:lnTo>
                      <a:pt x="129" y="40"/>
                    </a:lnTo>
                    <a:lnTo>
                      <a:pt x="100" y="20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5999760" y="1441800"/>
                <a:ext cx="83160" cy="44280"/>
              </a:xfrm>
              <a:custGeom>
                <a:avLst/>
                <a:gdLst/>
                <a:ahLst/>
                <a:rect l="l" t="t" r="r" b="b"/>
                <a:pathLst>
                  <a:path w="158" h="65">
                    <a:moveTo>
                      <a:pt x="117" y="48"/>
                    </a:moveTo>
                    <a:lnTo>
                      <a:pt x="98" y="44"/>
                    </a:lnTo>
                    <a:lnTo>
                      <a:pt x="94" y="41"/>
                    </a:lnTo>
                    <a:lnTo>
                      <a:pt x="91" y="45"/>
                    </a:lnTo>
                    <a:lnTo>
                      <a:pt x="82" y="65"/>
                    </a:lnTo>
                    <a:lnTo>
                      <a:pt x="56" y="51"/>
                    </a:lnTo>
                    <a:lnTo>
                      <a:pt x="32" y="52"/>
                    </a:lnTo>
                    <a:lnTo>
                      <a:pt x="36" y="39"/>
                    </a:lnTo>
                    <a:lnTo>
                      <a:pt x="19" y="19"/>
                    </a:lnTo>
                    <a:lnTo>
                      <a:pt x="0" y="0"/>
                    </a:lnTo>
                    <a:lnTo>
                      <a:pt x="20" y="5"/>
                    </a:lnTo>
                    <a:lnTo>
                      <a:pt x="35" y="15"/>
                    </a:lnTo>
                    <a:lnTo>
                      <a:pt x="39" y="10"/>
                    </a:lnTo>
                    <a:lnTo>
                      <a:pt x="110" y="32"/>
                    </a:lnTo>
                    <a:lnTo>
                      <a:pt x="120" y="44"/>
                    </a:lnTo>
                    <a:lnTo>
                      <a:pt x="147" y="45"/>
                    </a:lnTo>
                    <a:lnTo>
                      <a:pt x="158" y="49"/>
                    </a:lnTo>
                    <a:lnTo>
                      <a:pt x="147" y="57"/>
                    </a:lnTo>
                    <a:lnTo>
                      <a:pt x="117" y="48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5798520" y="1311120"/>
                <a:ext cx="45360" cy="31320"/>
              </a:xfrm>
              <a:custGeom>
                <a:avLst/>
                <a:gdLst/>
                <a:ahLst/>
                <a:rect l="l" t="t" r="r" b="b"/>
                <a:pathLst>
                  <a:path w="86" h="46">
                    <a:moveTo>
                      <a:pt x="86" y="26"/>
                    </a:moveTo>
                    <a:lnTo>
                      <a:pt x="51" y="28"/>
                    </a:lnTo>
                    <a:lnTo>
                      <a:pt x="66" y="33"/>
                    </a:lnTo>
                    <a:lnTo>
                      <a:pt x="72" y="43"/>
                    </a:lnTo>
                    <a:lnTo>
                      <a:pt x="56" y="46"/>
                    </a:lnTo>
                    <a:lnTo>
                      <a:pt x="51" y="41"/>
                    </a:lnTo>
                    <a:lnTo>
                      <a:pt x="4" y="11"/>
                    </a:lnTo>
                    <a:lnTo>
                      <a:pt x="14" y="8"/>
                    </a:lnTo>
                    <a:lnTo>
                      <a:pt x="0" y="4"/>
                    </a:lnTo>
                    <a:lnTo>
                      <a:pt x="4" y="0"/>
                    </a:lnTo>
                    <a:lnTo>
                      <a:pt x="83" y="4"/>
                    </a:lnTo>
                    <a:lnTo>
                      <a:pt x="83" y="11"/>
                    </a:lnTo>
                    <a:lnTo>
                      <a:pt x="86" y="2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5534640" y="1262160"/>
                <a:ext cx="48240" cy="20880"/>
              </a:xfrm>
              <a:custGeom>
                <a:avLst/>
                <a:gdLst/>
                <a:ahLst/>
                <a:rect l="l" t="t" r="r" b="b"/>
                <a:pathLst>
                  <a:path w="94" h="32">
                    <a:moveTo>
                      <a:pt x="70" y="18"/>
                    </a:moveTo>
                    <a:lnTo>
                      <a:pt x="62" y="15"/>
                    </a:lnTo>
                    <a:lnTo>
                      <a:pt x="61" y="21"/>
                    </a:lnTo>
                    <a:lnTo>
                      <a:pt x="58" y="25"/>
                    </a:lnTo>
                    <a:lnTo>
                      <a:pt x="47" y="22"/>
                    </a:lnTo>
                    <a:lnTo>
                      <a:pt x="58" y="31"/>
                    </a:lnTo>
                    <a:lnTo>
                      <a:pt x="48" y="32"/>
                    </a:lnTo>
                    <a:lnTo>
                      <a:pt x="32" y="26"/>
                    </a:lnTo>
                    <a:lnTo>
                      <a:pt x="28" y="29"/>
                    </a:lnTo>
                    <a:lnTo>
                      <a:pt x="9" y="29"/>
                    </a:lnTo>
                    <a:lnTo>
                      <a:pt x="0" y="22"/>
                    </a:lnTo>
                    <a:lnTo>
                      <a:pt x="25" y="11"/>
                    </a:lnTo>
                    <a:lnTo>
                      <a:pt x="36" y="2"/>
                    </a:lnTo>
                    <a:lnTo>
                      <a:pt x="58" y="0"/>
                    </a:lnTo>
                    <a:lnTo>
                      <a:pt x="90" y="3"/>
                    </a:lnTo>
                    <a:lnTo>
                      <a:pt x="83" y="8"/>
                    </a:lnTo>
                    <a:lnTo>
                      <a:pt x="94" y="11"/>
                    </a:lnTo>
                    <a:lnTo>
                      <a:pt x="93" y="13"/>
                    </a:lnTo>
                    <a:lnTo>
                      <a:pt x="84" y="19"/>
                    </a:lnTo>
                    <a:lnTo>
                      <a:pt x="87" y="25"/>
                    </a:lnTo>
                    <a:lnTo>
                      <a:pt x="70" y="18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5631840" y="1236960"/>
                <a:ext cx="69120" cy="19080"/>
              </a:xfrm>
              <a:custGeom>
                <a:avLst/>
                <a:gdLst/>
                <a:ahLst/>
                <a:rect l="l" t="t" r="r" b="b"/>
                <a:pathLst>
                  <a:path w="134" h="29">
                    <a:moveTo>
                      <a:pt x="56" y="6"/>
                    </a:moveTo>
                    <a:lnTo>
                      <a:pt x="52" y="5"/>
                    </a:lnTo>
                    <a:lnTo>
                      <a:pt x="77" y="6"/>
                    </a:lnTo>
                    <a:lnTo>
                      <a:pt x="90" y="9"/>
                    </a:lnTo>
                    <a:lnTo>
                      <a:pt x="110" y="16"/>
                    </a:lnTo>
                    <a:lnTo>
                      <a:pt x="134" y="24"/>
                    </a:lnTo>
                    <a:lnTo>
                      <a:pt x="128" y="29"/>
                    </a:lnTo>
                    <a:lnTo>
                      <a:pt x="79" y="19"/>
                    </a:lnTo>
                    <a:lnTo>
                      <a:pt x="36" y="18"/>
                    </a:lnTo>
                    <a:lnTo>
                      <a:pt x="32" y="13"/>
                    </a:lnTo>
                    <a:lnTo>
                      <a:pt x="46" y="12"/>
                    </a:lnTo>
                    <a:lnTo>
                      <a:pt x="30" y="6"/>
                    </a:lnTo>
                    <a:lnTo>
                      <a:pt x="19" y="8"/>
                    </a:lnTo>
                    <a:lnTo>
                      <a:pt x="0" y="2"/>
                    </a:lnTo>
                    <a:lnTo>
                      <a:pt x="39" y="0"/>
                    </a:lnTo>
                    <a:lnTo>
                      <a:pt x="56" y="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5704200" y="1272600"/>
                <a:ext cx="54720" cy="23400"/>
              </a:xfrm>
              <a:custGeom>
                <a:avLst/>
                <a:gdLst/>
                <a:ahLst/>
                <a:rect l="l" t="t" r="r" b="b"/>
                <a:pathLst>
                  <a:path w="105" h="33">
                    <a:moveTo>
                      <a:pt x="27" y="10"/>
                    </a:moveTo>
                    <a:lnTo>
                      <a:pt x="0" y="6"/>
                    </a:lnTo>
                    <a:lnTo>
                      <a:pt x="13" y="9"/>
                    </a:lnTo>
                    <a:lnTo>
                      <a:pt x="9" y="10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10" y="20"/>
                    </a:lnTo>
                    <a:lnTo>
                      <a:pt x="69" y="19"/>
                    </a:lnTo>
                    <a:lnTo>
                      <a:pt x="50" y="26"/>
                    </a:lnTo>
                    <a:lnTo>
                      <a:pt x="59" y="29"/>
                    </a:lnTo>
                    <a:lnTo>
                      <a:pt x="105" y="33"/>
                    </a:lnTo>
                    <a:lnTo>
                      <a:pt x="98" y="29"/>
                    </a:lnTo>
                    <a:lnTo>
                      <a:pt x="92" y="25"/>
                    </a:lnTo>
                    <a:lnTo>
                      <a:pt x="104" y="25"/>
                    </a:lnTo>
                    <a:lnTo>
                      <a:pt x="94" y="19"/>
                    </a:lnTo>
                    <a:lnTo>
                      <a:pt x="83" y="19"/>
                    </a:lnTo>
                    <a:lnTo>
                      <a:pt x="68" y="8"/>
                    </a:lnTo>
                    <a:lnTo>
                      <a:pt x="46" y="0"/>
                    </a:lnTo>
                    <a:lnTo>
                      <a:pt x="39" y="5"/>
                    </a:lnTo>
                    <a:lnTo>
                      <a:pt x="10" y="3"/>
                    </a:lnTo>
                    <a:lnTo>
                      <a:pt x="43" y="10"/>
                    </a:lnTo>
                    <a:lnTo>
                      <a:pt x="39" y="13"/>
                    </a:lnTo>
                    <a:lnTo>
                      <a:pt x="27" y="1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5731200" y="1705680"/>
                <a:ext cx="72000" cy="44280"/>
              </a:xfrm>
              <a:custGeom>
                <a:avLst/>
                <a:gdLst/>
                <a:ahLst/>
                <a:rect l="l" t="t" r="r" b="b"/>
                <a:pathLst>
                  <a:path w="138" h="62">
                    <a:moveTo>
                      <a:pt x="98" y="44"/>
                    </a:moveTo>
                    <a:lnTo>
                      <a:pt x="96" y="46"/>
                    </a:lnTo>
                    <a:lnTo>
                      <a:pt x="79" y="45"/>
                    </a:lnTo>
                    <a:lnTo>
                      <a:pt x="79" y="41"/>
                    </a:lnTo>
                    <a:lnTo>
                      <a:pt x="70" y="39"/>
                    </a:lnTo>
                    <a:lnTo>
                      <a:pt x="56" y="36"/>
                    </a:lnTo>
                    <a:lnTo>
                      <a:pt x="63" y="29"/>
                    </a:lnTo>
                    <a:lnTo>
                      <a:pt x="43" y="23"/>
                    </a:lnTo>
                    <a:lnTo>
                      <a:pt x="36" y="19"/>
                    </a:lnTo>
                    <a:lnTo>
                      <a:pt x="24" y="18"/>
                    </a:lnTo>
                    <a:lnTo>
                      <a:pt x="19" y="13"/>
                    </a:lnTo>
                    <a:lnTo>
                      <a:pt x="20" y="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29" y="6"/>
                    </a:lnTo>
                    <a:lnTo>
                      <a:pt x="58" y="10"/>
                    </a:lnTo>
                    <a:lnTo>
                      <a:pt x="79" y="22"/>
                    </a:lnTo>
                    <a:lnTo>
                      <a:pt x="108" y="38"/>
                    </a:lnTo>
                    <a:lnTo>
                      <a:pt x="132" y="58"/>
                    </a:lnTo>
                    <a:lnTo>
                      <a:pt x="138" y="62"/>
                    </a:lnTo>
                    <a:lnTo>
                      <a:pt x="95" y="54"/>
                    </a:lnTo>
                    <a:lnTo>
                      <a:pt x="98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5925960" y="1317240"/>
                <a:ext cx="52920" cy="12240"/>
              </a:xfrm>
              <a:custGeom>
                <a:avLst/>
                <a:gdLst/>
                <a:ahLst/>
                <a:rect l="l" t="t" r="r" b="b"/>
                <a:pathLst>
                  <a:path w="101" h="20">
                    <a:moveTo>
                      <a:pt x="44" y="0"/>
                    </a:moveTo>
                    <a:lnTo>
                      <a:pt x="0" y="2"/>
                    </a:lnTo>
                    <a:lnTo>
                      <a:pt x="12" y="9"/>
                    </a:lnTo>
                    <a:lnTo>
                      <a:pt x="29" y="13"/>
                    </a:lnTo>
                    <a:lnTo>
                      <a:pt x="52" y="20"/>
                    </a:lnTo>
                    <a:lnTo>
                      <a:pt x="101" y="18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5830200" y="1376280"/>
                <a:ext cx="40320" cy="23400"/>
              </a:xfrm>
              <a:custGeom>
                <a:avLst/>
                <a:gdLst/>
                <a:ahLst/>
                <a:rect l="l" t="t" r="r" b="b"/>
                <a:pathLst>
                  <a:path w="80" h="33">
                    <a:moveTo>
                      <a:pt x="56" y="16"/>
                    </a:moveTo>
                    <a:lnTo>
                      <a:pt x="53" y="14"/>
                    </a:lnTo>
                    <a:lnTo>
                      <a:pt x="5" y="0"/>
                    </a:lnTo>
                    <a:lnTo>
                      <a:pt x="13" y="8"/>
                    </a:lnTo>
                    <a:lnTo>
                      <a:pt x="8" y="7"/>
                    </a:lnTo>
                    <a:lnTo>
                      <a:pt x="14" y="13"/>
                    </a:lnTo>
                    <a:lnTo>
                      <a:pt x="0" y="20"/>
                    </a:lnTo>
                    <a:lnTo>
                      <a:pt x="67" y="33"/>
                    </a:lnTo>
                    <a:lnTo>
                      <a:pt x="80" y="23"/>
                    </a:lnTo>
                    <a:lnTo>
                      <a:pt x="73" y="24"/>
                    </a:lnTo>
                    <a:lnTo>
                      <a:pt x="56" y="1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5694840" y="1243080"/>
                <a:ext cx="39240" cy="12600"/>
              </a:xfrm>
              <a:custGeom>
                <a:avLst/>
                <a:gdLst/>
                <a:ahLst/>
                <a:rect l="l" t="t" r="r" b="b"/>
                <a:pathLst>
                  <a:path w="74" h="18">
                    <a:moveTo>
                      <a:pt x="20" y="8"/>
                    </a:moveTo>
                    <a:lnTo>
                      <a:pt x="0" y="0"/>
                    </a:lnTo>
                    <a:lnTo>
                      <a:pt x="66" y="7"/>
                    </a:lnTo>
                    <a:lnTo>
                      <a:pt x="74" y="13"/>
                    </a:lnTo>
                    <a:lnTo>
                      <a:pt x="53" y="18"/>
                    </a:lnTo>
                    <a:lnTo>
                      <a:pt x="33" y="13"/>
                    </a:lnTo>
                    <a:lnTo>
                      <a:pt x="20" y="8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5771520" y="1287720"/>
                <a:ext cx="29880" cy="12600"/>
              </a:xfrm>
              <a:custGeom>
                <a:avLst/>
                <a:gdLst/>
                <a:ahLst/>
                <a:rect l="l" t="t" r="r" b="b"/>
                <a:pathLst>
                  <a:path w="58" h="19">
                    <a:moveTo>
                      <a:pt x="22" y="18"/>
                    </a:moveTo>
                    <a:lnTo>
                      <a:pt x="0" y="13"/>
                    </a:lnTo>
                    <a:lnTo>
                      <a:pt x="4" y="0"/>
                    </a:lnTo>
                    <a:lnTo>
                      <a:pt x="46" y="12"/>
                    </a:lnTo>
                    <a:lnTo>
                      <a:pt x="58" y="19"/>
                    </a:lnTo>
                    <a:lnTo>
                      <a:pt x="22" y="18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6051240" y="1401480"/>
                <a:ext cx="23400" cy="16560"/>
              </a:xfrm>
              <a:custGeom>
                <a:avLst/>
                <a:gdLst/>
                <a:ahLst/>
                <a:rect l="l" t="t" r="r" b="b"/>
                <a:pathLst>
                  <a:path w="44" h="26">
                    <a:moveTo>
                      <a:pt x="44" y="16"/>
                    </a:moveTo>
                    <a:lnTo>
                      <a:pt x="26" y="26"/>
                    </a:lnTo>
                    <a:lnTo>
                      <a:pt x="0" y="14"/>
                    </a:lnTo>
                    <a:lnTo>
                      <a:pt x="2" y="0"/>
                    </a:lnTo>
                    <a:lnTo>
                      <a:pt x="31" y="6"/>
                    </a:lnTo>
                    <a:lnTo>
                      <a:pt x="44" y="1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5704200" y="1314720"/>
                <a:ext cx="21960" cy="14760"/>
              </a:xfrm>
              <a:custGeom>
                <a:avLst/>
                <a:gdLst/>
                <a:ahLst/>
                <a:rect l="l" t="t" r="r" b="b"/>
                <a:pathLst>
                  <a:path w="42" h="19">
                    <a:moveTo>
                      <a:pt x="42" y="19"/>
                    </a:moveTo>
                    <a:lnTo>
                      <a:pt x="0" y="6"/>
                    </a:lnTo>
                    <a:lnTo>
                      <a:pt x="24" y="0"/>
                    </a:lnTo>
                    <a:lnTo>
                      <a:pt x="41" y="4"/>
                    </a:lnTo>
                    <a:lnTo>
                      <a:pt x="42" y="19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6401880" y="2226960"/>
                <a:ext cx="136440" cy="61200"/>
              </a:xfrm>
              <a:custGeom>
                <a:avLst/>
                <a:gdLst/>
                <a:ahLst/>
                <a:rect l="l" t="t" r="r" b="b"/>
                <a:pathLst>
                  <a:path w="261" h="86">
                    <a:moveTo>
                      <a:pt x="173" y="35"/>
                    </a:moveTo>
                    <a:lnTo>
                      <a:pt x="174" y="38"/>
                    </a:lnTo>
                    <a:lnTo>
                      <a:pt x="146" y="25"/>
                    </a:lnTo>
                    <a:lnTo>
                      <a:pt x="117" y="13"/>
                    </a:lnTo>
                    <a:lnTo>
                      <a:pt x="97" y="4"/>
                    </a:lnTo>
                    <a:lnTo>
                      <a:pt x="76" y="2"/>
                    </a:lnTo>
                    <a:lnTo>
                      <a:pt x="68" y="0"/>
                    </a:lnTo>
                    <a:lnTo>
                      <a:pt x="42" y="6"/>
                    </a:lnTo>
                    <a:lnTo>
                      <a:pt x="16" y="12"/>
                    </a:lnTo>
                    <a:lnTo>
                      <a:pt x="10" y="27"/>
                    </a:lnTo>
                    <a:lnTo>
                      <a:pt x="0" y="36"/>
                    </a:lnTo>
                    <a:lnTo>
                      <a:pt x="9" y="33"/>
                    </a:lnTo>
                    <a:lnTo>
                      <a:pt x="25" y="25"/>
                    </a:lnTo>
                    <a:lnTo>
                      <a:pt x="40" y="16"/>
                    </a:lnTo>
                    <a:lnTo>
                      <a:pt x="71" y="14"/>
                    </a:lnTo>
                    <a:lnTo>
                      <a:pt x="61" y="19"/>
                    </a:lnTo>
                    <a:lnTo>
                      <a:pt x="84" y="26"/>
                    </a:lnTo>
                    <a:lnTo>
                      <a:pt x="98" y="29"/>
                    </a:lnTo>
                    <a:lnTo>
                      <a:pt x="105" y="33"/>
                    </a:lnTo>
                    <a:lnTo>
                      <a:pt x="141" y="42"/>
                    </a:lnTo>
                    <a:lnTo>
                      <a:pt x="154" y="56"/>
                    </a:lnTo>
                    <a:lnTo>
                      <a:pt x="187" y="71"/>
                    </a:lnTo>
                    <a:lnTo>
                      <a:pt x="180" y="86"/>
                    </a:lnTo>
                    <a:lnTo>
                      <a:pt x="203" y="86"/>
                    </a:lnTo>
                    <a:lnTo>
                      <a:pt x="226" y="86"/>
                    </a:lnTo>
                    <a:lnTo>
                      <a:pt x="244" y="84"/>
                    </a:lnTo>
                    <a:lnTo>
                      <a:pt x="261" y="79"/>
                    </a:lnTo>
                    <a:lnTo>
                      <a:pt x="241" y="71"/>
                    </a:lnTo>
                    <a:lnTo>
                      <a:pt x="220" y="63"/>
                    </a:lnTo>
                    <a:lnTo>
                      <a:pt x="216" y="55"/>
                    </a:lnTo>
                    <a:lnTo>
                      <a:pt x="197" y="48"/>
                    </a:lnTo>
                    <a:lnTo>
                      <a:pt x="177" y="42"/>
                    </a:lnTo>
                    <a:lnTo>
                      <a:pt x="173" y="35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6425640" y="225036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0" y="11"/>
                    </a:moveTo>
                    <a:lnTo>
                      <a:pt x="12" y="10"/>
                    </a:lnTo>
                    <a:lnTo>
                      <a:pt x="0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5969880" y="2045520"/>
                <a:ext cx="411480" cy="345960"/>
              </a:xfrm>
              <a:custGeom>
                <a:avLst/>
                <a:gdLst/>
                <a:ahLst/>
                <a:rect l="l" t="t" r="r" b="b"/>
                <a:pathLst>
                  <a:path w="785" h="490">
                    <a:moveTo>
                      <a:pt x="243" y="255"/>
                    </a:moveTo>
                    <a:lnTo>
                      <a:pt x="229" y="262"/>
                    </a:lnTo>
                    <a:lnTo>
                      <a:pt x="207" y="236"/>
                    </a:lnTo>
                    <a:lnTo>
                      <a:pt x="176" y="213"/>
                    </a:lnTo>
                    <a:lnTo>
                      <a:pt x="168" y="192"/>
                    </a:lnTo>
                    <a:lnTo>
                      <a:pt x="150" y="172"/>
                    </a:lnTo>
                    <a:lnTo>
                      <a:pt x="135" y="157"/>
                    </a:lnTo>
                    <a:lnTo>
                      <a:pt x="121" y="156"/>
                    </a:lnTo>
                    <a:lnTo>
                      <a:pt x="104" y="143"/>
                    </a:lnTo>
                    <a:lnTo>
                      <a:pt x="85" y="131"/>
                    </a:lnTo>
                    <a:lnTo>
                      <a:pt x="106" y="134"/>
                    </a:lnTo>
                    <a:lnTo>
                      <a:pt x="96" y="107"/>
                    </a:lnTo>
                    <a:lnTo>
                      <a:pt x="75" y="90"/>
                    </a:lnTo>
                    <a:lnTo>
                      <a:pt x="52" y="71"/>
                    </a:lnTo>
                    <a:lnTo>
                      <a:pt x="26" y="38"/>
                    </a:lnTo>
                    <a:lnTo>
                      <a:pt x="0" y="3"/>
                    </a:lnTo>
                    <a:lnTo>
                      <a:pt x="26" y="2"/>
                    </a:lnTo>
                    <a:lnTo>
                      <a:pt x="53" y="0"/>
                    </a:lnTo>
                    <a:lnTo>
                      <a:pt x="76" y="9"/>
                    </a:lnTo>
                    <a:lnTo>
                      <a:pt x="101" y="19"/>
                    </a:lnTo>
                    <a:lnTo>
                      <a:pt x="125" y="28"/>
                    </a:lnTo>
                    <a:lnTo>
                      <a:pt x="148" y="36"/>
                    </a:lnTo>
                    <a:lnTo>
                      <a:pt x="181" y="36"/>
                    </a:lnTo>
                    <a:lnTo>
                      <a:pt x="214" y="36"/>
                    </a:lnTo>
                    <a:lnTo>
                      <a:pt x="210" y="25"/>
                    </a:lnTo>
                    <a:lnTo>
                      <a:pt x="248" y="25"/>
                    </a:lnTo>
                    <a:lnTo>
                      <a:pt x="285" y="51"/>
                    </a:lnTo>
                    <a:lnTo>
                      <a:pt x="311" y="77"/>
                    </a:lnTo>
                    <a:lnTo>
                      <a:pt x="330" y="88"/>
                    </a:lnTo>
                    <a:lnTo>
                      <a:pt x="350" y="100"/>
                    </a:lnTo>
                    <a:lnTo>
                      <a:pt x="356" y="79"/>
                    </a:lnTo>
                    <a:lnTo>
                      <a:pt x="389" y="82"/>
                    </a:lnTo>
                    <a:lnTo>
                      <a:pt x="413" y="107"/>
                    </a:lnTo>
                    <a:lnTo>
                      <a:pt x="436" y="133"/>
                    </a:lnTo>
                    <a:lnTo>
                      <a:pt x="461" y="164"/>
                    </a:lnTo>
                    <a:lnTo>
                      <a:pt x="482" y="176"/>
                    </a:lnTo>
                    <a:lnTo>
                      <a:pt x="513" y="182"/>
                    </a:lnTo>
                    <a:lnTo>
                      <a:pt x="514" y="218"/>
                    </a:lnTo>
                    <a:lnTo>
                      <a:pt x="514" y="254"/>
                    </a:lnTo>
                    <a:lnTo>
                      <a:pt x="524" y="290"/>
                    </a:lnTo>
                    <a:lnTo>
                      <a:pt x="541" y="316"/>
                    </a:lnTo>
                    <a:lnTo>
                      <a:pt x="559" y="340"/>
                    </a:lnTo>
                    <a:lnTo>
                      <a:pt x="570" y="357"/>
                    </a:lnTo>
                    <a:lnTo>
                      <a:pt x="583" y="375"/>
                    </a:lnTo>
                    <a:lnTo>
                      <a:pt x="586" y="376"/>
                    </a:lnTo>
                    <a:lnTo>
                      <a:pt x="615" y="389"/>
                    </a:lnTo>
                    <a:lnTo>
                      <a:pt x="636" y="388"/>
                    </a:lnTo>
                    <a:lnTo>
                      <a:pt x="659" y="382"/>
                    </a:lnTo>
                    <a:lnTo>
                      <a:pt x="675" y="382"/>
                    </a:lnTo>
                    <a:lnTo>
                      <a:pt x="687" y="383"/>
                    </a:lnTo>
                    <a:lnTo>
                      <a:pt x="691" y="378"/>
                    </a:lnTo>
                    <a:lnTo>
                      <a:pt x="688" y="373"/>
                    </a:lnTo>
                    <a:lnTo>
                      <a:pt x="701" y="353"/>
                    </a:lnTo>
                    <a:lnTo>
                      <a:pt x="701" y="320"/>
                    </a:lnTo>
                    <a:lnTo>
                      <a:pt x="721" y="307"/>
                    </a:lnTo>
                    <a:lnTo>
                      <a:pt x="743" y="304"/>
                    </a:lnTo>
                    <a:lnTo>
                      <a:pt x="765" y="303"/>
                    </a:lnTo>
                    <a:lnTo>
                      <a:pt x="770" y="301"/>
                    </a:lnTo>
                    <a:lnTo>
                      <a:pt x="782" y="307"/>
                    </a:lnTo>
                    <a:lnTo>
                      <a:pt x="785" y="311"/>
                    </a:lnTo>
                    <a:lnTo>
                      <a:pt x="775" y="344"/>
                    </a:lnTo>
                    <a:lnTo>
                      <a:pt x="773" y="355"/>
                    </a:lnTo>
                    <a:lnTo>
                      <a:pt x="776" y="359"/>
                    </a:lnTo>
                    <a:lnTo>
                      <a:pt x="776" y="362"/>
                    </a:lnTo>
                    <a:lnTo>
                      <a:pt x="773" y="388"/>
                    </a:lnTo>
                    <a:lnTo>
                      <a:pt x="765" y="378"/>
                    </a:lnTo>
                    <a:lnTo>
                      <a:pt x="763" y="383"/>
                    </a:lnTo>
                    <a:lnTo>
                      <a:pt x="746" y="402"/>
                    </a:lnTo>
                    <a:lnTo>
                      <a:pt x="724" y="402"/>
                    </a:lnTo>
                    <a:lnTo>
                      <a:pt x="703" y="402"/>
                    </a:lnTo>
                    <a:lnTo>
                      <a:pt x="706" y="418"/>
                    </a:lnTo>
                    <a:lnTo>
                      <a:pt x="698" y="419"/>
                    </a:lnTo>
                    <a:lnTo>
                      <a:pt x="724" y="445"/>
                    </a:lnTo>
                    <a:lnTo>
                      <a:pt x="694" y="450"/>
                    </a:lnTo>
                    <a:lnTo>
                      <a:pt x="687" y="471"/>
                    </a:lnTo>
                    <a:lnTo>
                      <a:pt x="688" y="490"/>
                    </a:lnTo>
                    <a:lnTo>
                      <a:pt x="659" y="467"/>
                    </a:lnTo>
                    <a:lnTo>
                      <a:pt x="629" y="444"/>
                    </a:lnTo>
                    <a:lnTo>
                      <a:pt x="642" y="451"/>
                    </a:lnTo>
                    <a:lnTo>
                      <a:pt x="625" y="444"/>
                    </a:lnTo>
                    <a:lnTo>
                      <a:pt x="615" y="444"/>
                    </a:lnTo>
                    <a:lnTo>
                      <a:pt x="619" y="445"/>
                    </a:lnTo>
                    <a:lnTo>
                      <a:pt x="599" y="453"/>
                    </a:lnTo>
                    <a:lnTo>
                      <a:pt x="577" y="458"/>
                    </a:lnTo>
                    <a:lnTo>
                      <a:pt x="547" y="447"/>
                    </a:lnTo>
                    <a:lnTo>
                      <a:pt x="517" y="434"/>
                    </a:lnTo>
                    <a:lnTo>
                      <a:pt x="488" y="422"/>
                    </a:lnTo>
                    <a:lnTo>
                      <a:pt x="458" y="409"/>
                    </a:lnTo>
                    <a:lnTo>
                      <a:pt x="439" y="399"/>
                    </a:lnTo>
                    <a:lnTo>
                      <a:pt x="420" y="391"/>
                    </a:lnTo>
                    <a:lnTo>
                      <a:pt x="400" y="382"/>
                    </a:lnTo>
                    <a:lnTo>
                      <a:pt x="379" y="365"/>
                    </a:lnTo>
                    <a:lnTo>
                      <a:pt x="357" y="349"/>
                    </a:lnTo>
                    <a:lnTo>
                      <a:pt x="347" y="330"/>
                    </a:lnTo>
                    <a:lnTo>
                      <a:pt x="354" y="326"/>
                    </a:lnTo>
                    <a:lnTo>
                      <a:pt x="348" y="319"/>
                    </a:lnTo>
                    <a:lnTo>
                      <a:pt x="348" y="301"/>
                    </a:lnTo>
                    <a:lnTo>
                      <a:pt x="333" y="281"/>
                    </a:lnTo>
                    <a:lnTo>
                      <a:pt x="317" y="260"/>
                    </a:lnTo>
                    <a:lnTo>
                      <a:pt x="297" y="241"/>
                    </a:lnTo>
                    <a:lnTo>
                      <a:pt x="275" y="222"/>
                    </a:lnTo>
                    <a:lnTo>
                      <a:pt x="282" y="225"/>
                    </a:lnTo>
                    <a:lnTo>
                      <a:pt x="268" y="211"/>
                    </a:lnTo>
                    <a:lnTo>
                      <a:pt x="262" y="206"/>
                    </a:lnTo>
                    <a:lnTo>
                      <a:pt x="263" y="205"/>
                    </a:lnTo>
                    <a:lnTo>
                      <a:pt x="240" y="195"/>
                    </a:lnTo>
                    <a:lnTo>
                      <a:pt x="242" y="189"/>
                    </a:lnTo>
                    <a:lnTo>
                      <a:pt x="232" y="187"/>
                    </a:lnTo>
                    <a:lnTo>
                      <a:pt x="230" y="172"/>
                    </a:lnTo>
                    <a:lnTo>
                      <a:pt x="217" y="163"/>
                    </a:lnTo>
                    <a:lnTo>
                      <a:pt x="189" y="136"/>
                    </a:lnTo>
                    <a:lnTo>
                      <a:pt x="184" y="128"/>
                    </a:lnTo>
                    <a:lnTo>
                      <a:pt x="164" y="117"/>
                    </a:lnTo>
                    <a:lnTo>
                      <a:pt x="142" y="94"/>
                    </a:lnTo>
                    <a:lnTo>
                      <a:pt x="122" y="71"/>
                    </a:lnTo>
                    <a:lnTo>
                      <a:pt x="99" y="39"/>
                    </a:lnTo>
                    <a:lnTo>
                      <a:pt x="79" y="32"/>
                    </a:lnTo>
                    <a:lnTo>
                      <a:pt x="55" y="20"/>
                    </a:lnTo>
                    <a:lnTo>
                      <a:pt x="70" y="49"/>
                    </a:lnTo>
                    <a:lnTo>
                      <a:pt x="86" y="78"/>
                    </a:lnTo>
                    <a:lnTo>
                      <a:pt x="111" y="100"/>
                    </a:lnTo>
                    <a:lnTo>
                      <a:pt x="134" y="123"/>
                    </a:lnTo>
                    <a:lnTo>
                      <a:pt x="151" y="143"/>
                    </a:lnTo>
                    <a:lnTo>
                      <a:pt x="167" y="162"/>
                    </a:lnTo>
                    <a:lnTo>
                      <a:pt x="168" y="159"/>
                    </a:lnTo>
                    <a:lnTo>
                      <a:pt x="189" y="190"/>
                    </a:lnTo>
                    <a:lnTo>
                      <a:pt x="207" y="222"/>
                    </a:lnTo>
                    <a:lnTo>
                      <a:pt x="217" y="228"/>
                    </a:lnTo>
                    <a:lnTo>
                      <a:pt x="235" y="242"/>
                    </a:lnTo>
                    <a:lnTo>
                      <a:pt x="243" y="255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6555960" y="225216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6" h="1">
                    <a:moveTo>
                      <a:pt x="5" y="1"/>
                    </a:moveTo>
                    <a:lnTo>
                      <a:pt x="2" y="1"/>
                    </a:lnTo>
                    <a:lnTo>
                      <a:pt x="0" y="0"/>
                    </a:lnTo>
                    <a:lnTo>
                      <a:pt x="6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6562440" y="225216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2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5789160" y="1733400"/>
                <a:ext cx="670680" cy="455400"/>
              </a:xfrm>
              <a:custGeom>
                <a:avLst/>
                <a:gdLst/>
                <a:ahLst/>
                <a:rect l="l" t="t" r="r" b="b"/>
                <a:pathLst>
                  <a:path w="1282" h="648">
                    <a:moveTo>
                      <a:pt x="1282" y="119"/>
                    </a:moveTo>
                    <a:lnTo>
                      <a:pt x="1270" y="109"/>
                    </a:lnTo>
                    <a:lnTo>
                      <a:pt x="1245" y="92"/>
                    </a:lnTo>
                    <a:lnTo>
                      <a:pt x="1217" y="60"/>
                    </a:lnTo>
                    <a:lnTo>
                      <a:pt x="1197" y="55"/>
                    </a:lnTo>
                    <a:lnTo>
                      <a:pt x="1187" y="55"/>
                    </a:lnTo>
                    <a:lnTo>
                      <a:pt x="1178" y="49"/>
                    </a:lnTo>
                    <a:lnTo>
                      <a:pt x="1183" y="69"/>
                    </a:lnTo>
                    <a:lnTo>
                      <a:pt x="1187" y="89"/>
                    </a:lnTo>
                    <a:lnTo>
                      <a:pt x="1186" y="105"/>
                    </a:lnTo>
                    <a:lnTo>
                      <a:pt x="1181" y="114"/>
                    </a:lnTo>
                    <a:lnTo>
                      <a:pt x="1142" y="116"/>
                    </a:lnTo>
                    <a:lnTo>
                      <a:pt x="1103" y="119"/>
                    </a:lnTo>
                    <a:lnTo>
                      <a:pt x="1098" y="135"/>
                    </a:lnTo>
                    <a:lnTo>
                      <a:pt x="1093" y="151"/>
                    </a:lnTo>
                    <a:lnTo>
                      <a:pt x="1069" y="154"/>
                    </a:lnTo>
                    <a:lnTo>
                      <a:pt x="1044" y="155"/>
                    </a:lnTo>
                    <a:lnTo>
                      <a:pt x="1060" y="173"/>
                    </a:lnTo>
                    <a:lnTo>
                      <a:pt x="1044" y="180"/>
                    </a:lnTo>
                    <a:lnTo>
                      <a:pt x="1030" y="188"/>
                    </a:lnTo>
                    <a:lnTo>
                      <a:pt x="1014" y="196"/>
                    </a:lnTo>
                    <a:lnTo>
                      <a:pt x="1000" y="203"/>
                    </a:lnTo>
                    <a:lnTo>
                      <a:pt x="982" y="193"/>
                    </a:lnTo>
                    <a:lnTo>
                      <a:pt x="982" y="167"/>
                    </a:lnTo>
                    <a:lnTo>
                      <a:pt x="978" y="152"/>
                    </a:lnTo>
                    <a:lnTo>
                      <a:pt x="959" y="129"/>
                    </a:lnTo>
                    <a:lnTo>
                      <a:pt x="939" y="105"/>
                    </a:lnTo>
                    <a:lnTo>
                      <a:pt x="908" y="92"/>
                    </a:lnTo>
                    <a:lnTo>
                      <a:pt x="900" y="85"/>
                    </a:lnTo>
                    <a:lnTo>
                      <a:pt x="895" y="86"/>
                    </a:lnTo>
                    <a:lnTo>
                      <a:pt x="880" y="75"/>
                    </a:lnTo>
                    <a:lnTo>
                      <a:pt x="849" y="63"/>
                    </a:lnTo>
                    <a:lnTo>
                      <a:pt x="817" y="52"/>
                    </a:lnTo>
                    <a:lnTo>
                      <a:pt x="785" y="40"/>
                    </a:lnTo>
                    <a:lnTo>
                      <a:pt x="755" y="29"/>
                    </a:lnTo>
                    <a:lnTo>
                      <a:pt x="733" y="36"/>
                    </a:lnTo>
                    <a:lnTo>
                      <a:pt x="709" y="29"/>
                    </a:lnTo>
                    <a:lnTo>
                      <a:pt x="694" y="31"/>
                    </a:lnTo>
                    <a:lnTo>
                      <a:pt x="648" y="20"/>
                    </a:lnTo>
                    <a:lnTo>
                      <a:pt x="620" y="14"/>
                    </a:lnTo>
                    <a:lnTo>
                      <a:pt x="604" y="0"/>
                    </a:lnTo>
                    <a:lnTo>
                      <a:pt x="607" y="8"/>
                    </a:lnTo>
                    <a:lnTo>
                      <a:pt x="571" y="8"/>
                    </a:lnTo>
                    <a:lnTo>
                      <a:pt x="535" y="8"/>
                    </a:lnTo>
                    <a:lnTo>
                      <a:pt x="499" y="8"/>
                    </a:lnTo>
                    <a:lnTo>
                      <a:pt x="463" y="8"/>
                    </a:lnTo>
                    <a:lnTo>
                      <a:pt x="427" y="8"/>
                    </a:lnTo>
                    <a:lnTo>
                      <a:pt x="391" y="8"/>
                    </a:lnTo>
                    <a:lnTo>
                      <a:pt x="355" y="8"/>
                    </a:lnTo>
                    <a:lnTo>
                      <a:pt x="319" y="8"/>
                    </a:lnTo>
                    <a:lnTo>
                      <a:pt x="283" y="8"/>
                    </a:lnTo>
                    <a:lnTo>
                      <a:pt x="247" y="8"/>
                    </a:lnTo>
                    <a:lnTo>
                      <a:pt x="211" y="8"/>
                    </a:lnTo>
                    <a:lnTo>
                      <a:pt x="174" y="10"/>
                    </a:lnTo>
                    <a:lnTo>
                      <a:pt x="138" y="10"/>
                    </a:lnTo>
                    <a:lnTo>
                      <a:pt x="102" y="10"/>
                    </a:lnTo>
                    <a:lnTo>
                      <a:pt x="66" y="10"/>
                    </a:lnTo>
                    <a:lnTo>
                      <a:pt x="30" y="10"/>
                    </a:lnTo>
                    <a:lnTo>
                      <a:pt x="48" y="31"/>
                    </a:lnTo>
                    <a:lnTo>
                      <a:pt x="61" y="52"/>
                    </a:lnTo>
                    <a:lnTo>
                      <a:pt x="54" y="60"/>
                    </a:lnTo>
                    <a:lnTo>
                      <a:pt x="49" y="53"/>
                    </a:lnTo>
                    <a:lnTo>
                      <a:pt x="55" y="57"/>
                    </a:lnTo>
                    <a:lnTo>
                      <a:pt x="49" y="37"/>
                    </a:lnTo>
                    <a:lnTo>
                      <a:pt x="46" y="52"/>
                    </a:lnTo>
                    <a:lnTo>
                      <a:pt x="45" y="53"/>
                    </a:lnTo>
                    <a:lnTo>
                      <a:pt x="45" y="42"/>
                    </a:lnTo>
                    <a:lnTo>
                      <a:pt x="42" y="31"/>
                    </a:lnTo>
                    <a:lnTo>
                      <a:pt x="0" y="26"/>
                    </a:lnTo>
                    <a:lnTo>
                      <a:pt x="30" y="60"/>
                    </a:lnTo>
                    <a:lnTo>
                      <a:pt x="32" y="65"/>
                    </a:lnTo>
                    <a:lnTo>
                      <a:pt x="36" y="69"/>
                    </a:lnTo>
                    <a:lnTo>
                      <a:pt x="39" y="75"/>
                    </a:lnTo>
                    <a:lnTo>
                      <a:pt x="35" y="70"/>
                    </a:lnTo>
                    <a:lnTo>
                      <a:pt x="39" y="80"/>
                    </a:lnTo>
                    <a:lnTo>
                      <a:pt x="58" y="83"/>
                    </a:lnTo>
                    <a:lnTo>
                      <a:pt x="46" y="83"/>
                    </a:lnTo>
                    <a:lnTo>
                      <a:pt x="51" y="96"/>
                    </a:lnTo>
                    <a:lnTo>
                      <a:pt x="62" y="132"/>
                    </a:lnTo>
                    <a:lnTo>
                      <a:pt x="72" y="167"/>
                    </a:lnTo>
                    <a:lnTo>
                      <a:pt x="87" y="188"/>
                    </a:lnTo>
                    <a:lnTo>
                      <a:pt x="101" y="210"/>
                    </a:lnTo>
                    <a:lnTo>
                      <a:pt x="104" y="236"/>
                    </a:lnTo>
                    <a:lnTo>
                      <a:pt x="115" y="246"/>
                    </a:lnTo>
                    <a:lnTo>
                      <a:pt x="130" y="265"/>
                    </a:lnTo>
                    <a:lnTo>
                      <a:pt x="147" y="282"/>
                    </a:lnTo>
                    <a:lnTo>
                      <a:pt x="164" y="299"/>
                    </a:lnTo>
                    <a:lnTo>
                      <a:pt x="159" y="296"/>
                    </a:lnTo>
                    <a:lnTo>
                      <a:pt x="162" y="301"/>
                    </a:lnTo>
                    <a:lnTo>
                      <a:pt x="173" y="302"/>
                    </a:lnTo>
                    <a:lnTo>
                      <a:pt x="179" y="301"/>
                    </a:lnTo>
                    <a:lnTo>
                      <a:pt x="186" y="315"/>
                    </a:lnTo>
                    <a:lnTo>
                      <a:pt x="179" y="311"/>
                    </a:lnTo>
                    <a:lnTo>
                      <a:pt x="177" y="315"/>
                    </a:lnTo>
                    <a:lnTo>
                      <a:pt x="196" y="330"/>
                    </a:lnTo>
                    <a:lnTo>
                      <a:pt x="199" y="340"/>
                    </a:lnTo>
                    <a:lnTo>
                      <a:pt x="218" y="356"/>
                    </a:lnTo>
                    <a:lnTo>
                      <a:pt x="235" y="371"/>
                    </a:lnTo>
                    <a:lnTo>
                      <a:pt x="249" y="394"/>
                    </a:lnTo>
                    <a:lnTo>
                      <a:pt x="264" y="397"/>
                    </a:lnTo>
                    <a:lnTo>
                      <a:pt x="295" y="409"/>
                    </a:lnTo>
                    <a:lnTo>
                      <a:pt x="330" y="428"/>
                    </a:lnTo>
                    <a:lnTo>
                      <a:pt x="346" y="449"/>
                    </a:lnTo>
                    <a:lnTo>
                      <a:pt x="372" y="448"/>
                    </a:lnTo>
                    <a:lnTo>
                      <a:pt x="399" y="446"/>
                    </a:lnTo>
                    <a:lnTo>
                      <a:pt x="422" y="455"/>
                    </a:lnTo>
                    <a:lnTo>
                      <a:pt x="447" y="465"/>
                    </a:lnTo>
                    <a:lnTo>
                      <a:pt x="471" y="474"/>
                    </a:lnTo>
                    <a:lnTo>
                      <a:pt x="494" y="482"/>
                    </a:lnTo>
                    <a:lnTo>
                      <a:pt x="527" y="482"/>
                    </a:lnTo>
                    <a:lnTo>
                      <a:pt x="560" y="482"/>
                    </a:lnTo>
                    <a:lnTo>
                      <a:pt x="556" y="471"/>
                    </a:lnTo>
                    <a:lnTo>
                      <a:pt x="594" y="471"/>
                    </a:lnTo>
                    <a:lnTo>
                      <a:pt x="631" y="497"/>
                    </a:lnTo>
                    <a:lnTo>
                      <a:pt x="657" y="523"/>
                    </a:lnTo>
                    <a:lnTo>
                      <a:pt x="676" y="534"/>
                    </a:lnTo>
                    <a:lnTo>
                      <a:pt x="696" y="546"/>
                    </a:lnTo>
                    <a:lnTo>
                      <a:pt x="702" y="525"/>
                    </a:lnTo>
                    <a:lnTo>
                      <a:pt x="735" y="528"/>
                    </a:lnTo>
                    <a:lnTo>
                      <a:pt x="759" y="553"/>
                    </a:lnTo>
                    <a:lnTo>
                      <a:pt x="782" y="579"/>
                    </a:lnTo>
                    <a:lnTo>
                      <a:pt x="807" y="610"/>
                    </a:lnTo>
                    <a:lnTo>
                      <a:pt x="828" y="622"/>
                    </a:lnTo>
                    <a:lnTo>
                      <a:pt x="859" y="628"/>
                    </a:lnTo>
                    <a:lnTo>
                      <a:pt x="841" y="597"/>
                    </a:lnTo>
                    <a:lnTo>
                      <a:pt x="837" y="593"/>
                    </a:lnTo>
                    <a:lnTo>
                      <a:pt x="831" y="587"/>
                    </a:lnTo>
                    <a:lnTo>
                      <a:pt x="841" y="590"/>
                    </a:lnTo>
                    <a:lnTo>
                      <a:pt x="838" y="577"/>
                    </a:lnTo>
                    <a:lnTo>
                      <a:pt x="841" y="573"/>
                    </a:lnTo>
                    <a:lnTo>
                      <a:pt x="850" y="563"/>
                    </a:lnTo>
                    <a:lnTo>
                      <a:pt x="853" y="559"/>
                    </a:lnTo>
                    <a:lnTo>
                      <a:pt x="851" y="554"/>
                    </a:lnTo>
                    <a:lnTo>
                      <a:pt x="864" y="556"/>
                    </a:lnTo>
                    <a:lnTo>
                      <a:pt x="860" y="560"/>
                    </a:lnTo>
                    <a:lnTo>
                      <a:pt x="869" y="553"/>
                    </a:lnTo>
                    <a:lnTo>
                      <a:pt x="864" y="553"/>
                    </a:lnTo>
                    <a:lnTo>
                      <a:pt x="882" y="534"/>
                    </a:lnTo>
                    <a:lnTo>
                      <a:pt x="880" y="527"/>
                    </a:lnTo>
                    <a:lnTo>
                      <a:pt x="889" y="531"/>
                    </a:lnTo>
                    <a:lnTo>
                      <a:pt x="887" y="533"/>
                    </a:lnTo>
                    <a:lnTo>
                      <a:pt x="900" y="523"/>
                    </a:lnTo>
                    <a:lnTo>
                      <a:pt x="905" y="523"/>
                    </a:lnTo>
                    <a:lnTo>
                      <a:pt x="923" y="525"/>
                    </a:lnTo>
                    <a:lnTo>
                      <a:pt x="944" y="527"/>
                    </a:lnTo>
                    <a:lnTo>
                      <a:pt x="955" y="525"/>
                    </a:lnTo>
                    <a:lnTo>
                      <a:pt x="967" y="536"/>
                    </a:lnTo>
                    <a:lnTo>
                      <a:pt x="982" y="538"/>
                    </a:lnTo>
                    <a:lnTo>
                      <a:pt x="995" y="540"/>
                    </a:lnTo>
                    <a:lnTo>
                      <a:pt x="990" y="530"/>
                    </a:lnTo>
                    <a:lnTo>
                      <a:pt x="1014" y="541"/>
                    </a:lnTo>
                    <a:lnTo>
                      <a:pt x="1013" y="547"/>
                    </a:lnTo>
                    <a:lnTo>
                      <a:pt x="1016" y="538"/>
                    </a:lnTo>
                    <a:lnTo>
                      <a:pt x="1000" y="527"/>
                    </a:lnTo>
                    <a:lnTo>
                      <a:pt x="1004" y="521"/>
                    </a:lnTo>
                    <a:lnTo>
                      <a:pt x="1000" y="520"/>
                    </a:lnTo>
                    <a:lnTo>
                      <a:pt x="997" y="517"/>
                    </a:lnTo>
                    <a:lnTo>
                      <a:pt x="978" y="513"/>
                    </a:lnTo>
                    <a:lnTo>
                      <a:pt x="993" y="513"/>
                    </a:lnTo>
                    <a:lnTo>
                      <a:pt x="1030" y="510"/>
                    </a:lnTo>
                    <a:lnTo>
                      <a:pt x="1027" y="498"/>
                    </a:lnTo>
                    <a:lnTo>
                      <a:pt x="1034" y="511"/>
                    </a:lnTo>
                    <a:lnTo>
                      <a:pt x="1044" y="510"/>
                    </a:lnTo>
                    <a:lnTo>
                      <a:pt x="1053" y="505"/>
                    </a:lnTo>
                    <a:lnTo>
                      <a:pt x="1050" y="508"/>
                    </a:lnTo>
                    <a:lnTo>
                      <a:pt x="1072" y="508"/>
                    </a:lnTo>
                    <a:lnTo>
                      <a:pt x="1066" y="508"/>
                    </a:lnTo>
                    <a:lnTo>
                      <a:pt x="1082" y="511"/>
                    </a:lnTo>
                    <a:lnTo>
                      <a:pt x="1086" y="511"/>
                    </a:lnTo>
                    <a:lnTo>
                      <a:pt x="1095" y="518"/>
                    </a:lnTo>
                    <a:lnTo>
                      <a:pt x="1088" y="515"/>
                    </a:lnTo>
                    <a:lnTo>
                      <a:pt x="1099" y="527"/>
                    </a:lnTo>
                    <a:lnTo>
                      <a:pt x="1126" y="515"/>
                    </a:lnTo>
                    <a:lnTo>
                      <a:pt x="1148" y="533"/>
                    </a:lnTo>
                    <a:lnTo>
                      <a:pt x="1168" y="551"/>
                    </a:lnTo>
                    <a:lnTo>
                      <a:pt x="1178" y="582"/>
                    </a:lnTo>
                    <a:lnTo>
                      <a:pt x="1174" y="577"/>
                    </a:lnTo>
                    <a:lnTo>
                      <a:pt x="1178" y="582"/>
                    </a:lnTo>
                    <a:lnTo>
                      <a:pt x="1180" y="574"/>
                    </a:lnTo>
                    <a:lnTo>
                      <a:pt x="1184" y="592"/>
                    </a:lnTo>
                    <a:lnTo>
                      <a:pt x="1197" y="602"/>
                    </a:lnTo>
                    <a:lnTo>
                      <a:pt x="1200" y="603"/>
                    </a:lnTo>
                    <a:lnTo>
                      <a:pt x="1206" y="612"/>
                    </a:lnTo>
                    <a:lnTo>
                      <a:pt x="1207" y="608"/>
                    </a:lnTo>
                    <a:lnTo>
                      <a:pt x="1207" y="613"/>
                    </a:lnTo>
                    <a:lnTo>
                      <a:pt x="1220" y="629"/>
                    </a:lnTo>
                    <a:lnTo>
                      <a:pt x="1239" y="648"/>
                    </a:lnTo>
                    <a:lnTo>
                      <a:pt x="1253" y="645"/>
                    </a:lnTo>
                    <a:lnTo>
                      <a:pt x="1249" y="623"/>
                    </a:lnTo>
                    <a:lnTo>
                      <a:pt x="1245" y="600"/>
                    </a:lnTo>
                    <a:lnTo>
                      <a:pt x="1229" y="577"/>
                    </a:lnTo>
                    <a:lnTo>
                      <a:pt x="1213" y="554"/>
                    </a:lnTo>
                    <a:lnTo>
                      <a:pt x="1229" y="576"/>
                    </a:lnTo>
                    <a:lnTo>
                      <a:pt x="1214" y="554"/>
                    </a:lnTo>
                    <a:lnTo>
                      <a:pt x="1201" y="533"/>
                    </a:lnTo>
                    <a:lnTo>
                      <a:pt x="1187" y="511"/>
                    </a:lnTo>
                    <a:lnTo>
                      <a:pt x="1173" y="489"/>
                    </a:lnTo>
                    <a:lnTo>
                      <a:pt x="1175" y="484"/>
                    </a:lnTo>
                    <a:lnTo>
                      <a:pt x="1174" y="481"/>
                    </a:lnTo>
                    <a:lnTo>
                      <a:pt x="1175" y="468"/>
                    </a:lnTo>
                    <a:lnTo>
                      <a:pt x="1174" y="456"/>
                    </a:lnTo>
                    <a:lnTo>
                      <a:pt x="1174" y="453"/>
                    </a:lnTo>
                    <a:lnTo>
                      <a:pt x="1180" y="452"/>
                    </a:lnTo>
                    <a:lnTo>
                      <a:pt x="1196" y="429"/>
                    </a:lnTo>
                    <a:lnTo>
                      <a:pt x="1198" y="429"/>
                    </a:lnTo>
                    <a:lnTo>
                      <a:pt x="1210" y="413"/>
                    </a:lnTo>
                    <a:lnTo>
                      <a:pt x="1219" y="410"/>
                    </a:lnTo>
                    <a:lnTo>
                      <a:pt x="1223" y="394"/>
                    </a:lnTo>
                    <a:lnTo>
                      <a:pt x="1245" y="384"/>
                    </a:lnTo>
                    <a:lnTo>
                      <a:pt x="1223" y="379"/>
                    </a:lnTo>
                    <a:lnTo>
                      <a:pt x="1236" y="380"/>
                    </a:lnTo>
                    <a:lnTo>
                      <a:pt x="1234" y="374"/>
                    </a:lnTo>
                    <a:lnTo>
                      <a:pt x="1219" y="368"/>
                    </a:lnTo>
                    <a:lnTo>
                      <a:pt x="1243" y="370"/>
                    </a:lnTo>
                    <a:lnTo>
                      <a:pt x="1240" y="358"/>
                    </a:lnTo>
                    <a:lnTo>
                      <a:pt x="1237" y="361"/>
                    </a:lnTo>
                    <a:lnTo>
                      <a:pt x="1226" y="357"/>
                    </a:lnTo>
                    <a:lnTo>
                      <a:pt x="1216" y="353"/>
                    </a:lnTo>
                    <a:lnTo>
                      <a:pt x="1216" y="351"/>
                    </a:lnTo>
                    <a:lnTo>
                      <a:pt x="1226" y="354"/>
                    </a:lnTo>
                    <a:lnTo>
                      <a:pt x="1232" y="351"/>
                    </a:lnTo>
                    <a:lnTo>
                      <a:pt x="1239" y="354"/>
                    </a:lnTo>
                    <a:lnTo>
                      <a:pt x="1226" y="337"/>
                    </a:lnTo>
                    <a:lnTo>
                      <a:pt x="1249" y="361"/>
                    </a:lnTo>
                    <a:lnTo>
                      <a:pt x="1214" y="330"/>
                    </a:lnTo>
                    <a:lnTo>
                      <a:pt x="1206" y="328"/>
                    </a:lnTo>
                    <a:lnTo>
                      <a:pt x="1191" y="320"/>
                    </a:lnTo>
                    <a:lnTo>
                      <a:pt x="1211" y="327"/>
                    </a:lnTo>
                    <a:lnTo>
                      <a:pt x="1196" y="315"/>
                    </a:lnTo>
                    <a:lnTo>
                      <a:pt x="1210" y="321"/>
                    </a:lnTo>
                    <a:lnTo>
                      <a:pt x="1181" y="299"/>
                    </a:lnTo>
                    <a:lnTo>
                      <a:pt x="1203" y="309"/>
                    </a:lnTo>
                    <a:lnTo>
                      <a:pt x="1177" y="291"/>
                    </a:lnTo>
                    <a:lnTo>
                      <a:pt x="1171" y="291"/>
                    </a:lnTo>
                    <a:lnTo>
                      <a:pt x="1171" y="281"/>
                    </a:lnTo>
                    <a:lnTo>
                      <a:pt x="1175" y="291"/>
                    </a:lnTo>
                    <a:lnTo>
                      <a:pt x="1196" y="298"/>
                    </a:lnTo>
                    <a:lnTo>
                      <a:pt x="1180" y="284"/>
                    </a:lnTo>
                    <a:lnTo>
                      <a:pt x="1191" y="292"/>
                    </a:lnTo>
                    <a:lnTo>
                      <a:pt x="1177" y="269"/>
                    </a:lnTo>
                    <a:lnTo>
                      <a:pt x="1186" y="262"/>
                    </a:lnTo>
                    <a:lnTo>
                      <a:pt x="1188" y="278"/>
                    </a:lnTo>
                    <a:lnTo>
                      <a:pt x="1193" y="285"/>
                    </a:lnTo>
                    <a:lnTo>
                      <a:pt x="1194" y="292"/>
                    </a:lnTo>
                    <a:lnTo>
                      <a:pt x="1206" y="296"/>
                    </a:lnTo>
                    <a:lnTo>
                      <a:pt x="1209" y="304"/>
                    </a:lnTo>
                    <a:lnTo>
                      <a:pt x="1214" y="308"/>
                    </a:lnTo>
                    <a:lnTo>
                      <a:pt x="1213" y="312"/>
                    </a:lnTo>
                    <a:lnTo>
                      <a:pt x="1216" y="322"/>
                    </a:lnTo>
                    <a:lnTo>
                      <a:pt x="1219" y="291"/>
                    </a:lnTo>
                    <a:lnTo>
                      <a:pt x="1193" y="262"/>
                    </a:lnTo>
                    <a:lnTo>
                      <a:pt x="1196" y="250"/>
                    </a:lnTo>
                    <a:lnTo>
                      <a:pt x="1191" y="259"/>
                    </a:lnTo>
                    <a:lnTo>
                      <a:pt x="1209" y="269"/>
                    </a:lnTo>
                    <a:lnTo>
                      <a:pt x="1214" y="276"/>
                    </a:lnTo>
                    <a:lnTo>
                      <a:pt x="1219" y="250"/>
                    </a:lnTo>
                    <a:lnTo>
                      <a:pt x="1222" y="255"/>
                    </a:lnTo>
                    <a:lnTo>
                      <a:pt x="1209" y="236"/>
                    </a:lnTo>
                    <a:lnTo>
                      <a:pt x="1200" y="217"/>
                    </a:lnTo>
                    <a:lnTo>
                      <a:pt x="1206" y="224"/>
                    </a:lnTo>
                    <a:lnTo>
                      <a:pt x="1210" y="222"/>
                    </a:lnTo>
                    <a:lnTo>
                      <a:pt x="1229" y="216"/>
                    </a:lnTo>
                    <a:lnTo>
                      <a:pt x="1247" y="211"/>
                    </a:lnTo>
                    <a:lnTo>
                      <a:pt x="1245" y="203"/>
                    </a:lnTo>
                    <a:lnTo>
                      <a:pt x="1249" y="204"/>
                    </a:lnTo>
                    <a:lnTo>
                      <a:pt x="1250" y="204"/>
                    </a:lnTo>
                    <a:lnTo>
                      <a:pt x="1265" y="210"/>
                    </a:lnTo>
                    <a:lnTo>
                      <a:pt x="1270" y="210"/>
                    </a:lnTo>
                    <a:lnTo>
                      <a:pt x="1278" y="204"/>
                    </a:lnTo>
                    <a:lnTo>
                      <a:pt x="1266" y="193"/>
                    </a:lnTo>
                    <a:lnTo>
                      <a:pt x="1273" y="200"/>
                    </a:lnTo>
                    <a:lnTo>
                      <a:pt x="1256" y="196"/>
                    </a:lnTo>
                    <a:lnTo>
                      <a:pt x="1243" y="180"/>
                    </a:lnTo>
                    <a:lnTo>
                      <a:pt x="1240" y="175"/>
                    </a:lnTo>
                    <a:lnTo>
                      <a:pt x="1237" y="148"/>
                    </a:lnTo>
                    <a:lnTo>
                      <a:pt x="1240" y="144"/>
                    </a:lnTo>
                    <a:lnTo>
                      <a:pt x="1246" y="145"/>
                    </a:lnTo>
                    <a:lnTo>
                      <a:pt x="1249" y="128"/>
                    </a:lnTo>
                    <a:lnTo>
                      <a:pt x="1252" y="131"/>
                    </a:lnTo>
                    <a:lnTo>
                      <a:pt x="1256" y="129"/>
                    </a:lnTo>
                    <a:lnTo>
                      <a:pt x="1268" y="132"/>
                    </a:lnTo>
                    <a:lnTo>
                      <a:pt x="1282" y="119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5225040" y="1353240"/>
                <a:ext cx="452520" cy="278280"/>
              </a:xfrm>
              <a:custGeom>
                <a:avLst/>
                <a:gdLst/>
                <a:ahLst/>
                <a:rect l="l" t="t" r="r" b="b"/>
                <a:pathLst>
                  <a:path w="865" h="396">
                    <a:moveTo>
                      <a:pt x="865" y="385"/>
                    </a:moveTo>
                    <a:lnTo>
                      <a:pt x="855" y="369"/>
                    </a:lnTo>
                    <a:lnTo>
                      <a:pt x="826" y="357"/>
                    </a:lnTo>
                    <a:lnTo>
                      <a:pt x="799" y="344"/>
                    </a:lnTo>
                    <a:lnTo>
                      <a:pt x="767" y="321"/>
                    </a:lnTo>
                    <a:lnTo>
                      <a:pt x="735" y="298"/>
                    </a:lnTo>
                    <a:lnTo>
                      <a:pt x="688" y="271"/>
                    </a:lnTo>
                    <a:lnTo>
                      <a:pt x="674" y="280"/>
                    </a:lnTo>
                    <a:lnTo>
                      <a:pt x="671" y="288"/>
                    </a:lnTo>
                    <a:lnTo>
                      <a:pt x="663" y="294"/>
                    </a:lnTo>
                    <a:lnTo>
                      <a:pt x="625" y="268"/>
                    </a:lnTo>
                    <a:lnTo>
                      <a:pt x="612" y="264"/>
                    </a:lnTo>
                    <a:lnTo>
                      <a:pt x="610" y="258"/>
                    </a:lnTo>
                    <a:lnTo>
                      <a:pt x="574" y="259"/>
                    </a:lnTo>
                    <a:lnTo>
                      <a:pt x="555" y="231"/>
                    </a:lnTo>
                    <a:lnTo>
                      <a:pt x="538" y="202"/>
                    </a:lnTo>
                    <a:lnTo>
                      <a:pt x="519" y="173"/>
                    </a:lnTo>
                    <a:lnTo>
                      <a:pt x="502" y="146"/>
                    </a:lnTo>
                    <a:lnTo>
                      <a:pt x="483" y="118"/>
                    </a:lnTo>
                    <a:lnTo>
                      <a:pt x="463" y="91"/>
                    </a:lnTo>
                    <a:lnTo>
                      <a:pt x="445" y="63"/>
                    </a:lnTo>
                    <a:lnTo>
                      <a:pt x="426" y="36"/>
                    </a:lnTo>
                    <a:lnTo>
                      <a:pt x="367" y="27"/>
                    </a:lnTo>
                    <a:lnTo>
                      <a:pt x="321" y="23"/>
                    </a:lnTo>
                    <a:lnTo>
                      <a:pt x="276" y="19"/>
                    </a:lnTo>
                    <a:lnTo>
                      <a:pt x="221" y="16"/>
                    </a:lnTo>
                    <a:lnTo>
                      <a:pt x="211" y="13"/>
                    </a:lnTo>
                    <a:lnTo>
                      <a:pt x="185" y="9"/>
                    </a:lnTo>
                    <a:lnTo>
                      <a:pt x="172" y="9"/>
                    </a:lnTo>
                    <a:lnTo>
                      <a:pt x="161" y="6"/>
                    </a:lnTo>
                    <a:lnTo>
                      <a:pt x="149" y="9"/>
                    </a:lnTo>
                    <a:lnTo>
                      <a:pt x="145" y="2"/>
                    </a:lnTo>
                    <a:lnTo>
                      <a:pt x="129" y="0"/>
                    </a:lnTo>
                    <a:lnTo>
                      <a:pt x="105" y="12"/>
                    </a:lnTo>
                    <a:lnTo>
                      <a:pt x="93" y="10"/>
                    </a:lnTo>
                    <a:lnTo>
                      <a:pt x="86" y="15"/>
                    </a:lnTo>
                    <a:lnTo>
                      <a:pt x="93" y="19"/>
                    </a:lnTo>
                    <a:lnTo>
                      <a:pt x="95" y="25"/>
                    </a:lnTo>
                    <a:lnTo>
                      <a:pt x="83" y="16"/>
                    </a:lnTo>
                    <a:lnTo>
                      <a:pt x="59" y="23"/>
                    </a:lnTo>
                    <a:lnTo>
                      <a:pt x="47" y="39"/>
                    </a:lnTo>
                    <a:lnTo>
                      <a:pt x="33" y="53"/>
                    </a:lnTo>
                    <a:lnTo>
                      <a:pt x="0" y="55"/>
                    </a:lnTo>
                    <a:lnTo>
                      <a:pt x="0" y="66"/>
                    </a:lnTo>
                    <a:lnTo>
                      <a:pt x="59" y="89"/>
                    </a:lnTo>
                    <a:lnTo>
                      <a:pt x="64" y="95"/>
                    </a:lnTo>
                    <a:lnTo>
                      <a:pt x="102" y="99"/>
                    </a:lnTo>
                    <a:lnTo>
                      <a:pt x="110" y="110"/>
                    </a:lnTo>
                    <a:lnTo>
                      <a:pt x="133" y="110"/>
                    </a:lnTo>
                    <a:lnTo>
                      <a:pt x="103" y="110"/>
                    </a:lnTo>
                    <a:lnTo>
                      <a:pt x="86" y="101"/>
                    </a:lnTo>
                    <a:lnTo>
                      <a:pt x="105" y="112"/>
                    </a:lnTo>
                    <a:lnTo>
                      <a:pt x="123" y="118"/>
                    </a:lnTo>
                    <a:lnTo>
                      <a:pt x="112" y="120"/>
                    </a:lnTo>
                    <a:lnTo>
                      <a:pt x="67" y="117"/>
                    </a:lnTo>
                    <a:lnTo>
                      <a:pt x="67" y="108"/>
                    </a:lnTo>
                    <a:lnTo>
                      <a:pt x="36" y="117"/>
                    </a:lnTo>
                    <a:lnTo>
                      <a:pt x="4" y="131"/>
                    </a:lnTo>
                    <a:lnTo>
                      <a:pt x="38" y="138"/>
                    </a:lnTo>
                    <a:lnTo>
                      <a:pt x="28" y="140"/>
                    </a:lnTo>
                    <a:lnTo>
                      <a:pt x="50" y="156"/>
                    </a:lnTo>
                    <a:lnTo>
                      <a:pt x="102" y="156"/>
                    </a:lnTo>
                    <a:lnTo>
                      <a:pt x="116" y="160"/>
                    </a:lnTo>
                    <a:lnTo>
                      <a:pt x="136" y="147"/>
                    </a:lnTo>
                    <a:lnTo>
                      <a:pt x="144" y="157"/>
                    </a:lnTo>
                    <a:lnTo>
                      <a:pt x="141" y="159"/>
                    </a:lnTo>
                    <a:lnTo>
                      <a:pt x="157" y="174"/>
                    </a:lnTo>
                    <a:lnTo>
                      <a:pt x="138" y="182"/>
                    </a:lnTo>
                    <a:lnTo>
                      <a:pt x="110" y="193"/>
                    </a:lnTo>
                    <a:lnTo>
                      <a:pt x="109" y="187"/>
                    </a:lnTo>
                    <a:lnTo>
                      <a:pt x="100" y="192"/>
                    </a:lnTo>
                    <a:lnTo>
                      <a:pt x="96" y="203"/>
                    </a:lnTo>
                    <a:lnTo>
                      <a:pt x="99" y="202"/>
                    </a:lnTo>
                    <a:lnTo>
                      <a:pt x="96" y="206"/>
                    </a:lnTo>
                    <a:lnTo>
                      <a:pt x="86" y="219"/>
                    </a:lnTo>
                    <a:lnTo>
                      <a:pt x="80" y="222"/>
                    </a:lnTo>
                    <a:lnTo>
                      <a:pt x="87" y="225"/>
                    </a:lnTo>
                    <a:lnTo>
                      <a:pt x="82" y="229"/>
                    </a:lnTo>
                    <a:lnTo>
                      <a:pt x="100" y="236"/>
                    </a:lnTo>
                    <a:lnTo>
                      <a:pt x="109" y="229"/>
                    </a:lnTo>
                    <a:lnTo>
                      <a:pt x="105" y="239"/>
                    </a:lnTo>
                    <a:lnTo>
                      <a:pt x="110" y="242"/>
                    </a:lnTo>
                    <a:lnTo>
                      <a:pt x="138" y="245"/>
                    </a:lnTo>
                    <a:lnTo>
                      <a:pt x="132" y="245"/>
                    </a:lnTo>
                    <a:lnTo>
                      <a:pt x="144" y="249"/>
                    </a:lnTo>
                    <a:lnTo>
                      <a:pt x="128" y="249"/>
                    </a:lnTo>
                    <a:lnTo>
                      <a:pt x="113" y="246"/>
                    </a:lnTo>
                    <a:lnTo>
                      <a:pt x="112" y="254"/>
                    </a:lnTo>
                    <a:lnTo>
                      <a:pt x="148" y="271"/>
                    </a:lnTo>
                    <a:lnTo>
                      <a:pt x="167" y="262"/>
                    </a:lnTo>
                    <a:lnTo>
                      <a:pt x="169" y="251"/>
                    </a:lnTo>
                    <a:lnTo>
                      <a:pt x="174" y="267"/>
                    </a:lnTo>
                    <a:lnTo>
                      <a:pt x="185" y="282"/>
                    </a:lnTo>
                    <a:lnTo>
                      <a:pt x="190" y="290"/>
                    </a:lnTo>
                    <a:lnTo>
                      <a:pt x="191" y="290"/>
                    </a:lnTo>
                    <a:lnTo>
                      <a:pt x="195" y="300"/>
                    </a:lnTo>
                    <a:lnTo>
                      <a:pt x="226" y="294"/>
                    </a:lnTo>
                    <a:lnTo>
                      <a:pt x="237" y="295"/>
                    </a:lnTo>
                    <a:lnTo>
                      <a:pt x="256" y="307"/>
                    </a:lnTo>
                    <a:lnTo>
                      <a:pt x="254" y="291"/>
                    </a:lnTo>
                    <a:lnTo>
                      <a:pt x="263" y="291"/>
                    </a:lnTo>
                    <a:lnTo>
                      <a:pt x="257" y="297"/>
                    </a:lnTo>
                    <a:lnTo>
                      <a:pt x="267" y="301"/>
                    </a:lnTo>
                    <a:lnTo>
                      <a:pt x="288" y="291"/>
                    </a:lnTo>
                    <a:lnTo>
                      <a:pt x="285" y="311"/>
                    </a:lnTo>
                    <a:lnTo>
                      <a:pt x="290" y="311"/>
                    </a:lnTo>
                    <a:lnTo>
                      <a:pt x="286" y="311"/>
                    </a:lnTo>
                    <a:lnTo>
                      <a:pt x="289" y="326"/>
                    </a:lnTo>
                    <a:lnTo>
                      <a:pt x="285" y="330"/>
                    </a:lnTo>
                    <a:lnTo>
                      <a:pt x="279" y="347"/>
                    </a:lnTo>
                    <a:lnTo>
                      <a:pt x="250" y="363"/>
                    </a:lnTo>
                    <a:lnTo>
                      <a:pt x="257" y="372"/>
                    </a:lnTo>
                    <a:lnTo>
                      <a:pt x="249" y="370"/>
                    </a:lnTo>
                    <a:lnTo>
                      <a:pt x="250" y="375"/>
                    </a:lnTo>
                    <a:lnTo>
                      <a:pt x="243" y="370"/>
                    </a:lnTo>
                    <a:lnTo>
                      <a:pt x="226" y="370"/>
                    </a:lnTo>
                    <a:lnTo>
                      <a:pt x="207" y="393"/>
                    </a:lnTo>
                    <a:lnTo>
                      <a:pt x="207" y="392"/>
                    </a:lnTo>
                    <a:lnTo>
                      <a:pt x="216" y="393"/>
                    </a:lnTo>
                    <a:lnTo>
                      <a:pt x="218" y="388"/>
                    </a:lnTo>
                    <a:lnTo>
                      <a:pt x="224" y="390"/>
                    </a:lnTo>
                    <a:lnTo>
                      <a:pt x="231" y="379"/>
                    </a:lnTo>
                    <a:lnTo>
                      <a:pt x="243" y="379"/>
                    </a:lnTo>
                    <a:lnTo>
                      <a:pt x="237" y="380"/>
                    </a:lnTo>
                    <a:lnTo>
                      <a:pt x="256" y="376"/>
                    </a:lnTo>
                    <a:lnTo>
                      <a:pt x="272" y="375"/>
                    </a:lnTo>
                    <a:lnTo>
                      <a:pt x="273" y="373"/>
                    </a:lnTo>
                    <a:lnTo>
                      <a:pt x="288" y="366"/>
                    </a:lnTo>
                    <a:lnTo>
                      <a:pt x="292" y="364"/>
                    </a:lnTo>
                    <a:lnTo>
                      <a:pt x="288" y="359"/>
                    </a:lnTo>
                    <a:lnTo>
                      <a:pt x="316" y="336"/>
                    </a:lnTo>
                    <a:lnTo>
                      <a:pt x="341" y="316"/>
                    </a:lnTo>
                    <a:lnTo>
                      <a:pt x="357" y="295"/>
                    </a:lnTo>
                    <a:lnTo>
                      <a:pt x="337" y="288"/>
                    </a:lnTo>
                    <a:lnTo>
                      <a:pt x="351" y="271"/>
                    </a:lnTo>
                    <a:lnTo>
                      <a:pt x="357" y="268"/>
                    </a:lnTo>
                    <a:lnTo>
                      <a:pt x="349" y="261"/>
                    </a:lnTo>
                    <a:lnTo>
                      <a:pt x="361" y="246"/>
                    </a:lnTo>
                    <a:lnTo>
                      <a:pt x="378" y="235"/>
                    </a:lnTo>
                    <a:lnTo>
                      <a:pt x="396" y="229"/>
                    </a:lnTo>
                    <a:lnTo>
                      <a:pt x="391" y="236"/>
                    </a:lnTo>
                    <a:lnTo>
                      <a:pt x="407" y="244"/>
                    </a:lnTo>
                    <a:lnTo>
                      <a:pt x="397" y="242"/>
                    </a:lnTo>
                    <a:lnTo>
                      <a:pt x="370" y="249"/>
                    </a:lnTo>
                    <a:lnTo>
                      <a:pt x="377" y="274"/>
                    </a:lnTo>
                    <a:lnTo>
                      <a:pt x="391" y="272"/>
                    </a:lnTo>
                    <a:lnTo>
                      <a:pt x="380" y="282"/>
                    </a:lnTo>
                    <a:lnTo>
                      <a:pt x="397" y="285"/>
                    </a:lnTo>
                    <a:lnTo>
                      <a:pt x="406" y="274"/>
                    </a:lnTo>
                    <a:lnTo>
                      <a:pt x="407" y="278"/>
                    </a:lnTo>
                    <a:lnTo>
                      <a:pt x="409" y="274"/>
                    </a:lnTo>
                    <a:lnTo>
                      <a:pt x="414" y="274"/>
                    </a:lnTo>
                    <a:lnTo>
                      <a:pt x="411" y="269"/>
                    </a:lnTo>
                    <a:lnTo>
                      <a:pt x="417" y="272"/>
                    </a:lnTo>
                    <a:lnTo>
                      <a:pt x="419" y="265"/>
                    </a:lnTo>
                    <a:lnTo>
                      <a:pt x="433" y="268"/>
                    </a:lnTo>
                    <a:lnTo>
                      <a:pt x="437" y="256"/>
                    </a:lnTo>
                    <a:lnTo>
                      <a:pt x="430" y="254"/>
                    </a:lnTo>
                    <a:lnTo>
                      <a:pt x="432" y="251"/>
                    </a:lnTo>
                    <a:lnTo>
                      <a:pt x="423" y="248"/>
                    </a:lnTo>
                    <a:lnTo>
                      <a:pt x="427" y="244"/>
                    </a:lnTo>
                    <a:lnTo>
                      <a:pt x="432" y="235"/>
                    </a:lnTo>
                    <a:lnTo>
                      <a:pt x="430" y="244"/>
                    </a:lnTo>
                    <a:lnTo>
                      <a:pt x="439" y="242"/>
                    </a:lnTo>
                    <a:lnTo>
                      <a:pt x="442" y="245"/>
                    </a:lnTo>
                    <a:lnTo>
                      <a:pt x="460" y="239"/>
                    </a:lnTo>
                    <a:lnTo>
                      <a:pt x="456" y="241"/>
                    </a:lnTo>
                    <a:lnTo>
                      <a:pt x="463" y="245"/>
                    </a:lnTo>
                    <a:lnTo>
                      <a:pt x="462" y="248"/>
                    </a:lnTo>
                    <a:lnTo>
                      <a:pt x="472" y="248"/>
                    </a:lnTo>
                    <a:lnTo>
                      <a:pt x="475" y="249"/>
                    </a:lnTo>
                    <a:lnTo>
                      <a:pt x="478" y="255"/>
                    </a:lnTo>
                    <a:lnTo>
                      <a:pt x="489" y="258"/>
                    </a:lnTo>
                    <a:lnTo>
                      <a:pt x="496" y="251"/>
                    </a:lnTo>
                    <a:lnTo>
                      <a:pt x="499" y="256"/>
                    </a:lnTo>
                    <a:lnTo>
                      <a:pt x="515" y="262"/>
                    </a:lnTo>
                    <a:lnTo>
                      <a:pt x="544" y="264"/>
                    </a:lnTo>
                    <a:lnTo>
                      <a:pt x="573" y="265"/>
                    </a:lnTo>
                    <a:lnTo>
                      <a:pt x="584" y="272"/>
                    </a:lnTo>
                    <a:lnTo>
                      <a:pt x="604" y="268"/>
                    </a:lnTo>
                    <a:lnTo>
                      <a:pt x="620" y="271"/>
                    </a:lnTo>
                    <a:lnTo>
                      <a:pt x="616" y="275"/>
                    </a:lnTo>
                    <a:lnTo>
                      <a:pt x="610" y="268"/>
                    </a:lnTo>
                    <a:lnTo>
                      <a:pt x="612" y="275"/>
                    </a:lnTo>
                    <a:lnTo>
                      <a:pt x="650" y="292"/>
                    </a:lnTo>
                    <a:lnTo>
                      <a:pt x="689" y="310"/>
                    </a:lnTo>
                    <a:lnTo>
                      <a:pt x="698" y="308"/>
                    </a:lnTo>
                    <a:lnTo>
                      <a:pt x="671" y="294"/>
                    </a:lnTo>
                    <a:lnTo>
                      <a:pt x="682" y="295"/>
                    </a:lnTo>
                    <a:lnTo>
                      <a:pt x="688" y="292"/>
                    </a:lnTo>
                    <a:lnTo>
                      <a:pt x="692" y="294"/>
                    </a:lnTo>
                    <a:lnTo>
                      <a:pt x="698" y="301"/>
                    </a:lnTo>
                    <a:lnTo>
                      <a:pt x="705" y="305"/>
                    </a:lnTo>
                    <a:lnTo>
                      <a:pt x="714" y="310"/>
                    </a:lnTo>
                    <a:lnTo>
                      <a:pt x="698" y="287"/>
                    </a:lnTo>
                    <a:lnTo>
                      <a:pt x="715" y="300"/>
                    </a:lnTo>
                    <a:lnTo>
                      <a:pt x="737" y="311"/>
                    </a:lnTo>
                    <a:lnTo>
                      <a:pt x="738" y="310"/>
                    </a:lnTo>
                    <a:lnTo>
                      <a:pt x="747" y="314"/>
                    </a:lnTo>
                    <a:lnTo>
                      <a:pt x="747" y="318"/>
                    </a:lnTo>
                    <a:lnTo>
                      <a:pt x="761" y="318"/>
                    </a:lnTo>
                    <a:lnTo>
                      <a:pt x="754" y="318"/>
                    </a:lnTo>
                    <a:lnTo>
                      <a:pt x="766" y="327"/>
                    </a:lnTo>
                    <a:lnTo>
                      <a:pt x="756" y="324"/>
                    </a:lnTo>
                    <a:lnTo>
                      <a:pt x="771" y="333"/>
                    </a:lnTo>
                    <a:lnTo>
                      <a:pt x="766" y="334"/>
                    </a:lnTo>
                    <a:lnTo>
                      <a:pt x="771" y="337"/>
                    </a:lnTo>
                    <a:lnTo>
                      <a:pt x="793" y="349"/>
                    </a:lnTo>
                    <a:lnTo>
                      <a:pt x="820" y="362"/>
                    </a:lnTo>
                    <a:lnTo>
                      <a:pt x="813" y="362"/>
                    </a:lnTo>
                    <a:lnTo>
                      <a:pt x="818" y="377"/>
                    </a:lnTo>
                    <a:lnTo>
                      <a:pt x="822" y="375"/>
                    </a:lnTo>
                    <a:lnTo>
                      <a:pt x="832" y="364"/>
                    </a:lnTo>
                    <a:lnTo>
                      <a:pt x="848" y="385"/>
                    </a:lnTo>
                    <a:lnTo>
                      <a:pt x="846" y="388"/>
                    </a:lnTo>
                    <a:lnTo>
                      <a:pt x="855" y="383"/>
                    </a:lnTo>
                    <a:lnTo>
                      <a:pt x="855" y="390"/>
                    </a:lnTo>
                    <a:lnTo>
                      <a:pt x="859" y="396"/>
                    </a:lnTo>
                    <a:lnTo>
                      <a:pt x="865" y="385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5409000" y="1576800"/>
                <a:ext cx="23400" cy="20880"/>
              </a:xfrm>
              <a:custGeom>
                <a:avLst/>
                <a:gdLst/>
                <a:ahLst/>
                <a:rect l="l" t="t" r="r" b="b"/>
                <a:pathLst>
                  <a:path w="44" h="32">
                    <a:moveTo>
                      <a:pt x="44" y="9"/>
                    </a:moveTo>
                    <a:lnTo>
                      <a:pt x="35" y="7"/>
                    </a:lnTo>
                    <a:lnTo>
                      <a:pt x="29" y="3"/>
                    </a:lnTo>
                    <a:lnTo>
                      <a:pt x="26" y="1"/>
                    </a:lnTo>
                    <a:lnTo>
                      <a:pt x="16" y="0"/>
                    </a:lnTo>
                    <a:lnTo>
                      <a:pt x="21" y="4"/>
                    </a:lnTo>
                    <a:lnTo>
                      <a:pt x="15" y="4"/>
                    </a:lnTo>
                    <a:lnTo>
                      <a:pt x="8" y="6"/>
                    </a:lnTo>
                    <a:lnTo>
                      <a:pt x="16" y="17"/>
                    </a:lnTo>
                    <a:lnTo>
                      <a:pt x="2" y="9"/>
                    </a:lnTo>
                    <a:lnTo>
                      <a:pt x="0" y="17"/>
                    </a:lnTo>
                    <a:lnTo>
                      <a:pt x="12" y="26"/>
                    </a:lnTo>
                    <a:lnTo>
                      <a:pt x="9" y="22"/>
                    </a:lnTo>
                    <a:lnTo>
                      <a:pt x="16" y="23"/>
                    </a:lnTo>
                    <a:lnTo>
                      <a:pt x="18" y="32"/>
                    </a:lnTo>
                    <a:lnTo>
                      <a:pt x="19" y="23"/>
                    </a:lnTo>
                    <a:lnTo>
                      <a:pt x="32" y="16"/>
                    </a:lnTo>
                    <a:lnTo>
                      <a:pt x="34" y="13"/>
                    </a:lnTo>
                    <a:lnTo>
                      <a:pt x="44" y="9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5201640" y="1477800"/>
                <a:ext cx="31320" cy="10440"/>
              </a:xfrm>
              <a:custGeom>
                <a:avLst/>
                <a:gdLst/>
                <a:ahLst/>
                <a:rect l="l" t="t" r="r" b="b"/>
                <a:pathLst>
                  <a:path w="61" h="16">
                    <a:moveTo>
                      <a:pt x="61" y="9"/>
                    </a:moveTo>
                    <a:lnTo>
                      <a:pt x="48" y="16"/>
                    </a:lnTo>
                    <a:lnTo>
                      <a:pt x="20" y="6"/>
                    </a:lnTo>
                    <a:lnTo>
                      <a:pt x="32" y="10"/>
                    </a:lnTo>
                    <a:lnTo>
                      <a:pt x="9" y="9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61" y="9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5633280" y="1606320"/>
                <a:ext cx="28440" cy="29520"/>
              </a:xfrm>
              <a:custGeom>
                <a:avLst/>
                <a:gdLst/>
                <a:ahLst/>
                <a:rect l="l" t="t" r="r" b="b"/>
                <a:pathLst>
                  <a:path w="55" h="42">
                    <a:moveTo>
                      <a:pt x="53" y="37"/>
                    </a:moveTo>
                    <a:lnTo>
                      <a:pt x="55" y="42"/>
                    </a:lnTo>
                    <a:lnTo>
                      <a:pt x="40" y="31"/>
                    </a:lnTo>
                    <a:lnTo>
                      <a:pt x="22" y="26"/>
                    </a:lnTo>
                    <a:lnTo>
                      <a:pt x="27" y="24"/>
                    </a:lnTo>
                    <a:lnTo>
                      <a:pt x="22" y="17"/>
                    </a:lnTo>
                    <a:lnTo>
                      <a:pt x="16" y="18"/>
                    </a:lnTo>
                    <a:lnTo>
                      <a:pt x="13" y="11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38" y="20"/>
                    </a:lnTo>
                    <a:lnTo>
                      <a:pt x="30" y="17"/>
                    </a:lnTo>
                    <a:lnTo>
                      <a:pt x="38" y="23"/>
                    </a:lnTo>
                    <a:lnTo>
                      <a:pt x="53" y="37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5534640" y="2282040"/>
                <a:ext cx="13680" cy="23400"/>
              </a:xfrm>
              <a:custGeom>
                <a:avLst/>
                <a:gdLst/>
                <a:ahLst/>
                <a:rect l="l" t="t" r="r" b="b"/>
                <a:pathLst>
                  <a:path w="27" h="33">
                    <a:moveTo>
                      <a:pt x="27" y="20"/>
                    </a:moveTo>
                    <a:lnTo>
                      <a:pt x="10" y="33"/>
                    </a:lnTo>
                    <a:lnTo>
                      <a:pt x="1" y="29"/>
                    </a:lnTo>
                    <a:lnTo>
                      <a:pt x="0" y="0"/>
                    </a:lnTo>
                    <a:lnTo>
                      <a:pt x="27" y="2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5603760" y="1570680"/>
                <a:ext cx="15480" cy="22680"/>
              </a:xfrm>
              <a:custGeom>
                <a:avLst/>
                <a:gdLst/>
                <a:ahLst/>
                <a:rect l="l" t="t" r="r" b="b"/>
                <a:pathLst>
                  <a:path w="30" h="31">
                    <a:moveTo>
                      <a:pt x="30" y="17"/>
                    </a:moveTo>
                    <a:lnTo>
                      <a:pt x="28" y="20"/>
                    </a:lnTo>
                    <a:lnTo>
                      <a:pt x="25" y="31"/>
                    </a:lnTo>
                    <a:lnTo>
                      <a:pt x="21" y="24"/>
                    </a:lnTo>
                    <a:lnTo>
                      <a:pt x="0" y="0"/>
                    </a:lnTo>
                    <a:lnTo>
                      <a:pt x="8" y="1"/>
                    </a:lnTo>
                    <a:lnTo>
                      <a:pt x="30" y="17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5317560" y="1629360"/>
                <a:ext cx="18720" cy="8280"/>
              </a:xfrm>
              <a:custGeom>
                <a:avLst/>
                <a:gdLst/>
                <a:ahLst/>
                <a:rect l="l" t="t" r="r" b="b"/>
                <a:pathLst>
                  <a:path w="37" h="13">
                    <a:moveTo>
                      <a:pt x="37" y="9"/>
                    </a:moveTo>
                    <a:lnTo>
                      <a:pt x="16" y="0"/>
                    </a:lnTo>
                    <a:lnTo>
                      <a:pt x="0" y="11"/>
                    </a:lnTo>
                    <a:lnTo>
                      <a:pt x="13" y="13"/>
                    </a:lnTo>
                    <a:lnTo>
                      <a:pt x="37" y="9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7" name=""/>
            <p:cNvGrpSpPr/>
            <p:nvPr/>
          </p:nvGrpSpPr>
          <p:grpSpPr>
            <a:xfrm>
              <a:off x="2960640" y="1185840"/>
              <a:ext cx="3541320" cy="3018960"/>
              <a:chOff x="2960640" y="1185840"/>
              <a:chExt cx="3541320" cy="3018960"/>
            </a:xfrm>
          </p:grpSpPr>
          <p:sp>
            <p:nvSpPr>
              <p:cNvPr id="898" name=""/>
              <p:cNvSpPr/>
              <p:nvPr/>
            </p:nvSpPr>
            <p:spPr>
              <a:xfrm>
                <a:off x="5263920" y="1532160"/>
                <a:ext cx="17280" cy="10440"/>
              </a:xfrm>
              <a:custGeom>
                <a:avLst/>
                <a:gdLst/>
                <a:ahLst/>
                <a:rect l="l" t="t" r="r" b="b"/>
                <a:pathLst>
                  <a:path w="33" h="13">
                    <a:moveTo>
                      <a:pt x="33" y="11"/>
                    </a:moveTo>
                    <a:lnTo>
                      <a:pt x="26" y="13"/>
                    </a:lnTo>
                    <a:lnTo>
                      <a:pt x="0" y="8"/>
                    </a:lnTo>
                    <a:lnTo>
                      <a:pt x="18" y="0"/>
                    </a:lnTo>
                    <a:lnTo>
                      <a:pt x="33" y="11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5590800" y="1569960"/>
                <a:ext cx="18720" cy="14760"/>
              </a:xfrm>
              <a:custGeom>
                <a:avLst/>
                <a:gdLst/>
                <a:ahLst/>
                <a:rect l="l" t="t" r="r" b="b"/>
                <a:pathLst>
                  <a:path w="36" h="20">
                    <a:moveTo>
                      <a:pt x="36" y="20"/>
                    </a:moveTo>
                    <a:lnTo>
                      <a:pt x="25" y="14"/>
                    </a:lnTo>
                    <a:lnTo>
                      <a:pt x="8" y="7"/>
                    </a:lnTo>
                    <a:lnTo>
                      <a:pt x="28" y="11"/>
                    </a:lnTo>
                    <a:lnTo>
                      <a:pt x="22" y="8"/>
                    </a:lnTo>
                    <a:lnTo>
                      <a:pt x="13" y="7"/>
                    </a:lnTo>
                    <a:lnTo>
                      <a:pt x="6" y="0"/>
                    </a:lnTo>
                    <a:lnTo>
                      <a:pt x="0" y="4"/>
                    </a:lnTo>
                    <a:lnTo>
                      <a:pt x="8" y="10"/>
                    </a:lnTo>
                    <a:lnTo>
                      <a:pt x="0" y="11"/>
                    </a:lnTo>
                    <a:lnTo>
                      <a:pt x="22" y="20"/>
                    </a:lnTo>
                    <a:lnTo>
                      <a:pt x="13" y="13"/>
                    </a:lnTo>
                    <a:lnTo>
                      <a:pt x="36" y="2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5603400" y="1585080"/>
                <a:ext cx="18360" cy="20880"/>
              </a:xfrm>
              <a:custGeom>
                <a:avLst/>
                <a:gdLst/>
                <a:ahLst/>
                <a:rect l="l" t="t" r="r" b="b"/>
                <a:pathLst>
                  <a:path w="34" h="30">
                    <a:moveTo>
                      <a:pt x="34" y="30"/>
                    </a:moveTo>
                    <a:lnTo>
                      <a:pt x="3" y="0"/>
                    </a:lnTo>
                    <a:lnTo>
                      <a:pt x="0" y="6"/>
                    </a:lnTo>
                    <a:lnTo>
                      <a:pt x="34" y="3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5622120" y="1591200"/>
                <a:ext cx="14040" cy="12600"/>
              </a:xfrm>
              <a:custGeom>
                <a:avLst/>
                <a:gdLst/>
                <a:ahLst/>
                <a:rect l="l" t="t" r="r" b="b"/>
                <a:pathLst>
                  <a:path w="26" h="16">
                    <a:moveTo>
                      <a:pt x="26" y="10"/>
                    </a:moveTo>
                    <a:lnTo>
                      <a:pt x="22" y="6"/>
                    </a:lnTo>
                    <a:lnTo>
                      <a:pt x="0" y="0"/>
                    </a:lnTo>
                    <a:lnTo>
                      <a:pt x="13" y="12"/>
                    </a:lnTo>
                    <a:lnTo>
                      <a:pt x="24" y="16"/>
                    </a:lnTo>
                    <a:lnTo>
                      <a:pt x="19" y="9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5619240" y="1595520"/>
                <a:ext cx="7560" cy="1224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16" y="6"/>
                    </a:moveTo>
                    <a:lnTo>
                      <a:pt x="16" y="17"/>
                    </a:lnTo>
                    <a:lnTo>
                      <a:pt x="0" y="0"/>
                    </a:lnTo>
                    <a:lnTo>
                      <a:pt x="16" y="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5524920" y="2266920"/>
                <a:ext cx="7560" cy="8280"/>
              </a:xfrm>
              <a:custGeom>
                <a:avLst/>
                <a:gdLst/>
                <a:ahLst/>
                <a:rect l="l" t="t" r="r" b="b"/>
                <a:pathLst>
                  <a:path w="16" h="13">
                    <a:moveTo>
                      <a:pt x="16" y="9"/>
                    </a:moveTo>
                    <a:lnTo>
                      <a:pt x="5" y="13"/>
                    </a:lnTo>
                    <a:lnTo>
                      <a:pt x="0" y="0"/>
                    </a:lnTo>
                    <a:lnTo>
                      <a:pt x="16" y="9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6420600" y="1886760"/>
                <a:ext cx="21600" cy="8280"/>
              </a:xfrm>
              <a:custGeom>
                <a:avLst/>
                <a:gdLst/>
                <a:ahLst/>
                <a:rect l="l" t="t" r="r" b="b"/>
                <a:pathLst>
                  <a:path w="40" h="13">
                    <a:moveTo>
                      <a:pt x="40" y="1"/>
                    </a:moveTo>
                    <a:lnTo>
                      <a:pt x="30" y="4"/>
                    </a:lnTo>
                    <a:lnTo>
                      <a:pt x="27" y="0"/>
                    </a:lnTo>
                    <a:lnTo>
                      <a:pt x="0" y="13"/>
                    </a:lnTo>
                    <a:lnTo>
                      <a:pt x="20" y="7"/>
                    </a:lnTo>
                    <a:lnTo>
                      <a:pt x="40" y="1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5483880" y="224568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1"/>
                    </a:moveTo>
                    <a:lnTo>
                      <a:pt x="8" y="9"/>
                    </a:lnTo>
                    <a:lnTo>
                      <a:pt x="0" y="0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505840" y="225612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11" y="7"/>
                    </a:moveTo>
                    <a:lnTo>
                      <a:pt x="5" y="7"/>
                    </a:lnTo>
                    <a:lnTo>
                      <a:pt x="0" y="0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5905080" y="1185840"/>
                <a:ext cx="596880" cy="352800"/>
              </a:xfrm>
              <a:custGeom>
                <a:avLst/>
                <a:gdLst/>
                <a:ahLst/>
                <a:rect l="l" t="t" r="r" b="b"/>
                <a:pathLst>
                  <a:path w="1141" h="503">
                    <a:moveTo>
                      <a:pt x="1025" y="257"/>
                    </a:moveTo>
                    <a:lnTo>
                      <a:pt x="1023" y="257"/>
                    </a:lnTo>
                    <a:lnTo>
                      <a:pt x="1023" y="255"/>
                    </a:lnTo>
                    <a:lnTo>
                      <a:pt x="506" y="28"/>
                    </a:lnTo>
                    <a:lnTo>
                      <a:pt x="461" y="29"/>
                    </a:lnTo>
                    <a:lnTo>
                      <a:pt x="470" y="22"/>
                    </a:lnTo>
                    <a:lnTo>
                      <a:pt x="493" y="22"/>
                    </a:lnTo>
                    <a:lnTo>
                      <a:pt x="455" y="9"/>
                    </a:lnTo>
                    <a:lnTo>
                      <a:pt x="374" y="11"/>
                    </a:lnTo>
                    <a:lnTo>
                      <a:pt x="389" y="9"/>
                    </a:lnTo>
                    <a:lnTo>
                      <a:pt x="449" y="8"/>
                    </a:lnTo>
                    <a:lnTo>
                      <a:pt x="432" y="2"/>
                    </a:lnTo>
                    <a:lnTo>
                      <a:pt x="425" y="0"/>
                    </a:lnTo>
                    <a:lnTo>
                      <a:pt x="298" y="3"/>
                    </a:lnTo>
                    <a:lnTo>
                      <a:pt x="317" y="6"/>
                    </a:lnTo>
                    <a:lnTo>
                      <a:pt x="314" y="9"/>
                    </a:lnTo>
                    <a:lnTo>
                      <a:pt x="317" y="11"/>
                    </a:lnTo>
                    <a:lnTo>
                      <a:pt x="274" y="8"/>
                    </a:lnTo>
                    <a:lnTo>
                      <a:pt x="223" y="6"/>
                    </a:lnTo>
                    <a:lnTo>
                      <a:pt x="245" y="11"/>
                    </a:lnTo>
                    <a:lnTo>
                      <a:pt x="205" y="9"/>
                    </a:lnTo>
                    <a:lnTo>
                      <a:pt x="274" y="12"/>
                    </a:lnTo>
                    <a:lnTo>
                      <a:pt x="323" y="18"/>
                    </a:lnTo>
                    <a:lnTo>
                      <a:pt x="281" y="13"/>
                    </a:lnTo>
                    <a:lnTo>
                      <a:pt x="285" y="15"/>
                    </a:lnTo>
                    <a:lnTo>
                      <a:pt x="238" y="13"/>
                    </a:lnTo>
                    <a:lnTo>
                      <a:pt x="281" y="21"/>
                    </a:lnTo>
                    <a:lnTo>
                      <a:pt x="265" y="21"/>
                    </a:lnTo>
                    <a:lnTo>
                      <a:pt x="272" y="24"/>
                    </a:lnTo>
                    <a:lnTo>
                      <a:pt x="284" y="28"/>
                    </a:lnTo>
                    <a:lnTo>
                      <a:pt x="170" y="18"/>
                    </a:lnTo>
                    <a:lnTo>
                      <a:pt x="197" y="26"/>
                    </a:lnTo>
                    <a:lnTo>
                      <a:pt x="207" y="29"/>
                    </a:lnTo>
                    <a:lnTo>
                      <a:pt x="156" y="25"/>
                    </a:lnTo>
                    <a:lnTo>
                      <a:pt x="164" y="32"/>
                    </a:lnTo>
                    <a:lnTo>
                      <a:pt x="160" y="32"/>
                    </a:lnTo>
                    <a:lnTo>
                      <a:pt x="125" y="21"/>
                    </a:lnTo>
                    <a:lnTo>
                      <a:pt x="62" y="25"/>
                    </a:lnTo>
                    <a:lnTo>
                      <a:pt x="117" y="35"/>
                    </a:lnTo>
                    <a:lnTo>
                      <a:pt x="81" y="29"/>
                    </a:lnTo>
                    <a:lnTo>
                      <a:pt x="42" y="28"/>
                    </a:lnTo>
                    <a:lnTo>
                      <a:pt x="55" y="32"/>
                    </a:lnTo>
                    <a:lnTo>
                      <a:pt x="68" y="38"/>
                    </a:lnTo>
                    <a:lnTo>
                      <a:pt x="39" y="38"/>
                    </a:lnTo>
                    <a:lnTo>
                      <a:pt x="52" y="44"/>
                    </a:lnTo>
                    <a:lnTo>
                      <a:pt x="36" y="39"/>
                    </a:lnTo>
                    <a:lnTo>
                      <a:pt x="12" y="54"/>
                    </a:lnTo>
                    <a:lnTo>
                      <a:pt x="61" y="55"/>
                    </a:lnTo>
                    <a:lnTo>
                      <a:pt x="53" y="57"/>
                    </a:lnTo>
                    <a:lnTo>
                      <a:pt x="69" y="64"/>
                    </a:lnTo>
                    <a:lnTo>
                      <a:pt x="75" y="71"/>
                    </a:lnTo>
                    <a:lnTo>
                      <a:pt x="35" y="78"/>
                    </a:lnTo>
                    <a:lnTo>
                      <a:pt x="0" y="88"/>
                    </a:lnTo>
                    <a:lnTo>
                      <a:pt x="6" y="91"/>
                    </a:lnTo>
                    <a:lnTo>
                      <a:pt x="20" y="97"/>
                    </a:lnTo>
                    <a:lnTo>
                      <a:pt x="63" y="101"/>
                    </a:lnTo>
                    <a:lnTo>
                      <a:pt x="68" y="104"/>
                    </a:lnTo>
                    <a:lnTo>
                      <a:pt x="69" y="106"/>
                    </a:lnTo>
                    <a:lnTo>
                      <a:pt x="98" y="107"/>
                    </a:lnTo>
                    <a:lnTo>
                      <a:pt x="122" y="104"/>
                    </a:lnTo>
                    <a:lnTo>
                      <a:pt x="138" y="111"/>
                    </a:lnTo>
                    <a:lnTo>
                      <a:pt x="99" y="111"/>
                    </a:lnTo>
                    <a:lnTo>
                      <a:pt x="138" y="114"/>
                    </a:lnTo>
                    <a:lnTo>
                      <a:pt x="121" y="113"/>
                    </a:lnTo>
                    <a:lnTo>
                      <a:pt x="75" y="117"/>
                    </a:lnTo>
                    <a:lnTo>
                      <a:pt x="101" y="120"/>
                    </a:lnTo>
                    <a:lnTo>
                      <a:pt x="131" y="124"/>
                    </a:lnTo>
                    <a:lnTo>
                      <a:pt x="124" y="129"/>
                    </a:lnTo>
                    <a:lnTo>
                      <a:pt x="193" y="139"/>
                    </a:lnTo>
                    <a:lnTo>
                      <a:pt x="177" y="136"/>
                    </a:lnTo>
                    <a:lnTo>
                      <a:pt x="184" y="134"/>
                    </a:lnTo>
                    <a:lnTo>
                      <a:pt x="196" y="134"/>
                    </a:lnTo>
                    <a:lnTo>
                      <a:pt x="213" y="132"/>
                    </a:lnTo>
                    <a:lnTo>
                      <a:pt x="225" y="132"/>
                    </a:lnTo>
                    <a:lnTo>
                      <a:pt x="328" y="143"/>
                    </a:lnTo>
                    <a:lnTo>
                      <a:pt x="346" y="152"/>
                    </a:lnTo>
                    <a:lnTo>
                      <a:pt x="386" y="160"/>
                    </a:lnTo>
                    <a:lnTo>
                      <a:pt x="403" y="166"/>
                    </a:lnTo>
                    <a:lnTo>
                      <a:pt x="409" y="170"/>
                    </a:lnTo>
                    <a:lnTo>
                      <a:pt x="412" y="175"/>
                    </a:lnTo>
                    <a:lnTo>
                      <a:pt x="423" y="175"/>
                    </a:lnTo>
                    <a:lnTo>
                      <a:pt x="445" y="185"/>
                    </a:lnTo>
                    <a:lnTo>
                      <a:pt x="459" y="191"/>
                    </a:lnTo>
                    <a:lnTo>
                      <a:pt x="472" y="196"/>
                    </a:lnTo>
                    <a:lnTo>
                      <a:pt x="484" y="199"/>
                    </a:lnTo>
                    <a:lnTo>
                      <a:pt x="507" y="211"/>
                    </a:lnTo>
                    <a:lnTo>
                      <a:pt x="506" y="215"/>
                    </a:lnTo>
                    <a:lnTo>
                      <a:pt x="514" y="221"/>
                    </a:lnTo>
                    <a:lnTo>
                      <a:pt x="527" y="221"/>
                    </a:lnTo>
                    <a:lnTo>
                      <a:pt x="520" y="228"/>
                    </a:lnTo>
                    <a:lnTo>
                      <a:pt x="547" y="237"/>
                    </a:lnTo>
                    <a:lnTo>
                      <a:pt x="554" y="231"/>
                    </a:lnTo>
                    <a:lnTo>
                      <a:pt x="529" y="215"/>
                    </a:lnTo>
                    <a:lnTo>
                      <a:pt x="557" y="227"/>
                    </a:lnTo>
                    <a:lnTo>
                      <a:pt x="560" y="222"/>
                    </a:lnTo>
                    <a:lnTo>
                      <a:pt x="565" y="227"/>
                    </a:lnTo>
                    <a:lnTo>
                      <a:pt x="589" y="231"/>
                    </a:lnTo>
                    <a:lnTo>
                      <a:pt x="579" y="234"/>
                    </a:lnTo>
                    <a:lnTo>
                      <a:pt x="596" y="234"/>
                    </a:lnTo>
                    <a:lnTo>
                      <a:pt x="596" y="240"/>
                    </a:lnTo>
                    <a:lnTo>
                      <a:pt x="601" y="238"/>
                    </a:lnTo>
                    <a:lnTo>
                      <a:pt x="602" y="240"/>
                    </a:lnTo>
                    <a:lnTo>
                      <a:pt x="624" y="244"/>
                    </a:lnTo>
                    <a:lnTo>
                      <a:pt x="611" y="244"/>
                    </a:lnTo>
                    <a:lnTo>
                      <a:pt x="635" y="248"/>
                    </a:lnTo>
                    <a:lnTo>
                      <a:pt x="635" y="250"/>
                    </a:lnTo>
                    <a:lnTo>
                      <a:pt x="645" y="254"/>
                    </a:lnTo>
                    <a:lnTo>
                      <a:pt x="655" y="258"/>
                    </a:lnTo>
                    <a:lnTo>
                      <a:pt x="580" y="248"/>
                    </a:lnTo>
                    <a:lnTo>
                      <a:pt x="591" y="255"/>
                    </a:lnTo>
                    <a:lnTo>
                      <a:pt x="680" y="268"/>
                    </a:lnTo>
                    <a:lnTo>
                      <a:pt x="678" y="274"/>
                    </a:lnTo>
                    <a:lnTo>
                      <a:pt x="690" y="278"/>
                    </a:lnTo>
                    <a:lnTo>
                      <a:pt x="691" y="283"/>
                    </a:lnTo>
                    <a:lnTo>
                      <a:pt x="697" y="284"/>
                    </a:lnTo>
                    <a:lnTo>
                      <a:pt x="707" y="287"/>
                    </a:lnTo>
                    <a:lnTo>
                      <a:pt x="713" y="290"/>
                    </a:lnTo>
                    <a:lnTo>
                      <a:pt x="699" y="287"/>
                    </a:lnTo>
                    <a:lnTo>
                      <a:pt x="703" y="293"/>
                    </a:lnTo>
                    <a:lnTo>
                      <a:pt x="710" y="294"/>
                    </a:lnTo>
                    <a:lnTo>
                      <a:pt x="686" y="304"/>
                    </a:lnTo>
                    <a:lnTo>
                      <a:pt x="696" y="309"/>
                    </a:lnTo>
                    <a:lnTo>
                      <a:pt x="717" y="306"/>
                    </a:lnTo>
                    <a:lnTo>
                      <a:pt x="719" y="301"/>
                    </a:lnTo>
                    <a:lnTo>
                      <a:pt x="724" y="309"/>
                    </a:lnTo>
                    <a:lnTo>
                      <a:pt x="740" y="313"/>
                    </a:lnTo>
                    <a:lnTo>
                      <a:pt x="697" y="309"/>
                    </a:lnTo>
                    <a:lnTo>
                      <a:pt x="688" y="309"/>
                    </a:lnTo>
                    <a:lnTo>
                      <a:pt x="714" y="314"/>
                    </a:lnTo>
                    <a:lnTo>
                      <a:pt x="693" y="313"/>
                    </a:lnTo>
                    <a:lnTo>
                      <a:pt x="697" y="322"/>
                    </a:lnTo>
                    <a:lnTo>
                      <a:pt x="720" y="316"/>
                    </a:lnTo>
                    <a:lnTo>
                      <a:pt x="717" y="316"/>
                    </a:lnTo>
                    <a:lnTo>
                      <a:pt x="733" y="317"/>
                    </a:lnTo>
                    <a:lnTo>
                      <a:pt x="736" y="314"/>
                    </a:lnTo>
                    <a:lnTo>
                      <a:pt x="746" y="316"/>
                    </a:lnTo>
                    <a:lnTo>
                      <a:pt x="742" y="319"/>
                    </a:lnTo>
                    <a:lnTo>
                      <a:pt x="755" y="319"/>
                    </a:lnTo>
                    <a:lnTo>
                      <a:pt x="752" y="322"/>
                    </a:lnTo>
                    <a:lnTo>
                      <a:pt x="760" y="325"/>
                    </a:lnTo>
                    <a:lnTo>
                      <a:pt x="719" y="319"/>
                    </a:lnTo>
                    <a:lnTo>
                      <a:pt x="704" y="327"/>
                    </a:lnTo>
                    <a:lnTo>
                      <a:pt x="746" y="327"/>
                    </a:lnTo>
                    <a:lnTo>
                      <a:pt x="763" y="332"/>
                    </a:lnTo>
                    <a:lnTo>
                      <a:pt x="749" y="329"/>
                    </a:lnTo>
                    <a:lnTo>
                      <a:pt x="711" y="332"/>
                    </a:lnTo>
                    <a:lnTo>
                      <a:pt x="724" y="336"/>
                    </a:lnTo>
                    <a:lnTo>
                      <a:pt x="742" y="337"/>
                    </a:lnTo>
                    <a:lnTo>
                      <a:pt x="739" y="340"/>
                    </a:lnTo>
                    <a:lnTo>
                      <a:pt x="742" y="343"/>
                    </a:lnTo>
                    <a:lnTo>
                      <a:pt x="737" y="343"/>
                    </a:lnTo>
                    <a:lnTo>
                      <a:pt x="755" y="346"/>
                    </a:lnTo>
                    <a:lnTo>
                      <a:pt x="739" y="348"/>
                    </a:lnTo>
                    <a:lnTo>
                      <a:pt x="749" y="353"/>
                    </a:lnTo>
                    <a:lnTo>
                      <a:pt x="763" y="345"/>
                    </a:lnTo>
                    <a:lnTo>
                      <a:pt x="779" y="336"/>
                    </a:lnTo>
                    <a:lnTo>
                      <a:pt x="778" y="340"/>
                    </a:lnTo>
                    <a:lnTo>
                      <a:pt x="756" y="358"/>
                    </a:lnTo>
                    <a:lnTo>
                      <a:pt x="765" y="359"/>
                    </a:lnTo>
                    <a:lnTo>
                      <a:pt x="763" y="362"/>
                    </a:lnTo>
                    <a:lnTo>
                      <a:pt x="785" y="358"/>
                    </a:lnTo>
                    <a:lnTo>
                      <a:pt x="773" y="365"/>
                    </a:lnTo>
                    <a:lnTo>
                      <a:pt x="779" y="368"/>
                    </a:lnTo>
                    <a:lnTo>
                      <a:pt x="788" y="371"/>
                    </a:lnTo>
                    <a:lnTo>
                      <a:pt x="799" y="369"/>
                    </a:lnTo>
                    <a:lnTo>
                      <a:pt x="817" y="366"/>
                    </a:lnTo>
                    <a:lnTo>
                      <a:pt x="801" y="372"/>
                    </a:lnTo>
                    <a:lnTo>
                      <a:pt x="805" y="378"/>
                    </a:lnTo>
                    <a:lnTo>
                      <a:pt x="815" y="385"/>
                    </a:lnTo>
                    <a:lnTo>
                      <a:pt x="828" y="384"/>
                    </a:lnTo>
                    <a:lnTo>
                      <a:pt x="827" y="386"/>
                    </a:lnTo>
                    <a:lnTo>
                      <a:pt x="837" y="399"/>
                    </a:lnTo>
                    <a:lnTo>
                      <a:pt x="843" y="395"/>
                    </a:lnTo>
                    <a:lnTo>
                      <a:pt x="847" y="391"/>
                    </a:lnTo>
                    <a:lnTo>
                      <a:pt x="828" y="378"/>
                    </a:lnTo>
                    <a:lnTo>
                      <a:pt x="841" y="384"/>
                    </a:lnTo>
                    <a:lnTo>
                      <a:pt x="855" y="386"/>
                    </a:lnTo>
                    <a:lnTo>
                      <a:pt x="874" y="397"/>
                    </a:lnTo>
                    <a:lnTo>
                      <a:pt x="854" y="392"/>
                    </a:lnTo>
                    <a:lnTo>
                      <a:pt x="864" y="397"/>
                    </a:lnTo>
                    <a:lnTo>
                      <a:pt x="853" y="402"/>
                    </a:lnTo>
                    <a:lnTo>
                      <a:pt x="868" y="401"/>
                    </a:lnTo>
                    <a:lnTo>
                      <a:pt x="876" y="401"/>
                    </a:lnTo>
                    <a:lnTo>
                      <a:pt x="854" y="407"/>
                    </a:lnTo>
                    <a:lnTo>
                      <a:pt x="867" y="409"/>
                    </a:lnTo>
                    <a:lnTo>
                      <a:pt x="873" y="417"/>
                    </a:lnTo>
                    <a:lnTo>
                      <a:pt x="881" y="415"/>
                    </a:lnTo>
                    <a:lnTo>
                      <a:pt x="881" y="418"/>
                    </a:lnTo>
                    <a:lnTo>
                      <a:pt x="881" y="420"/>
                    </a:lnTo>
                    <a:lnTo>
                      <a:pt x="894" y="422"/>
                    </a:lnTo>
                    <a:lnTo>
                      <a:pt x="887" y="422"/>
                    </a:lnTo>
                    <a:lnTo>
                      <a:pt x="904" y="427"/>
                    </a:lnTo>
                    <a:lnTo>
                      <a:pt x="915" y="433"/>
                    </a:lnTo>
                    <a:lnTo>
                      <a:pt x="919" y="431"/>
                    </a:lnTo>
                    <a:lnTo>
                      <a:pt x="920" y="435"/>
                    </a:lnTo>
                    <a:lnTo>
                      <a:pt x="926" y="440"/>
                    </a:lnTo>
                    <a:lnTo>
                      <a:pt x="949" y="450"/>
                    </a:lnTo>
                    <a:lnTo>
                      <a:pt x="953" y="453"/>
                    </a:lnTo>
                    <a:lnTo>
                      <a:pt x="962" y="453"/>
                    </a:lnTo>
                    <a:lnTo>
                      <a:pt x="968" y="458"/>
                    </a:lnTo>
                    <a:lnTo>
                      <a:pt x="971" y="457"/>
                    </a:lnTo>
                    <a:lnTo>
                      <a:pt x="978" y="461"/>
                    </a:lnTo>
                    <a:lnTo>
                      <a:pt x="985" y="464"/>
                    </a:lnTo>
                    <a:lnTo>
                      <a:pt x="981" y="466"/>
                    </a:lnTo>
                    <a:lnTo>
                      <a:pt x="992" y="467"/>
                    </a:lnTo>
                    <a:lnTo>
                      <a:pt x="992" y="469"/>
                    </a:lnTo>
                    <a:lnTo>
                      <a:pt x="994" y="470"/>
                    </a:lnTo>
                    <a:lnTo>
                      <a:pt x="1001" y="474"/>
                    </a:lnTo>
                    <a:lnTo>
                      <a:pt x="1007" y="473"/>
                    </a:lnTo>
                    <a:lnTo>
                      <a:pt x="1017" y="477"/>
                    </a:lnTo>
                    <a:lnTo>
                      <a:pt x="1017" y="480"/>
                    </a:lnTo>
                    <a:lnTo>
                      <a:pt x="1021" y="480"/>
                    </a:lnTo>
                    <a:lnTo>
                      <a:pt x="1024" y="483"/>
                    </a:lnTo>
                    <a:lnTo>
                      <a:pt x="1034" y="483"/>
                    </a:lnTo>
                    <a:lnTo>
                      <a:pt x="1041" y="482"/>
                    </a:lnTo>
                    <a:lnTo>
                      <a:pt x="1051" y="474"/>
                    </a:lnTo>
                    <a:lnTo>
                      <a:pt x="1059" y="479"/>
                    </a:lnTo>
                    <a:lnTo>
                      <a:pt x="1061" y="474"/>
                    </a:lnTo>
                    <a:lnTo>
                      <a:pt x="1064" y="484"/>
                    </a:lnTo>
                    <a:lnTo>
                      <a:pt x="1072" y="483"/>
                    </a:lnTo>
                    <a:lnTo>
                      <a:pt x="1077" y="490"/>
                    </a:lnTo>
                    <a:lnTo>
                      <a:pt x="1083" y="487"/>
                    </a:lnTo>
                    <a:lnTo>
                      <a:pt x="1087" y="490"/>
                    </a:lnTo>
                    <a:lnTo>
                      <a:pt x="1093" y="490"/>
                    </a:lnTo>
                    <a:lnTo>
                      <a:pt x="1100" y="499"/>
                    </a:lnTo>
                    <a:lnTo>
                      <a:pt x="1102" y="493"/>
                    </a:lnTo>
                    <a:lnTo>
                      <a:pt x="1103" y="500"/>
                    </a:lnTo>
                    <a:lnTo>
                      <a:pt x="1113" y="503"/>
                    </a:lnTo>
                    <a:lnTo>
                      <a:pt x="1118" y="496"/>
                    </a:lnTo>
                    <a:lnTo>
                      <a:pt x="1141" y="502"/>
                    </a:lnTo>
                    <a:lnTo>
                      <a:pt x="1135" y="499"/>
                    </a:lnTo>
                    <a:lnTo>
                      <a:pt x="1128" y="496"/>
                    </a:lnTo>
                    <a:lnTo>
                      <a:pt x="1106" y="490"/>
                    </a:lnTo>
                    <a:lnTo>
                      <a:pt x="1128" y="492"/>
                    </a:lnTo>
                    <a:lnTo>
                      <a:pt x="1128" y="489"/>
                    </a:lnTo>
                    <a:lnTo>
                      <a:pt x="1118" y="486"/>
                    </a:lnTo>
                    <a:lnTo>
                      <a:pt x="1119" y="484"/>
                    </a:lnTo>
                    <a:lnTo>
                      <a:pt x="1113" y="483"/>
                    </a:lnTo>
                    <a:lnTo>
                      <a:pt x="1122" y="482"/>
                    </a:lnTo>
                    <a:lnTo>
                      <a:pt x="1105" y="477"/>
                    </a:lnTo>
                    <a:lnTo>
                      <a:pt x="1115" y="477"/>
                    </a:lnTo>
                    <a:lnTo>
                      <a:pt x="1110" y="474"/>
                    </a:lnTo>
                    <a:lnTo>
                      <a:pt x="1106" y="473"/>
                    </a:lnTo>
                    <a:lnTo>
                      <a:pt x="1110" y="471"/>
                    </a:lnTo>
                    <a:lnTo>
                      <a:pt x="1099" y="467"/>
                    </a:lnTo>
                    <a:lnTo>
                      <a:pt x="1106" y="466"/>
                    </a:lnTo>
                    <a:lnTo>
                      <a:pt x="1097" y="461"/>
                    </a:lnTo>
                    <a:lnTo>
                      <a:pt x="1093" y="456"/>
                    </a:lnTo>
                    <a:lnTo>
                      <a:pt x="1090" y="453"/>
                    </a:lnTo>
                    <a:lnTo>
                      <a:pt x="1072" y="446"/>
                    </a:lnTo>
                    <a:lnTo>
                      <a:pt x="1076" y="446"/>
                    </a:lnTo>
                    <a:lnTo>
                      <a:pt x="1056" y="438"/>
                    </a:lnTo>
                    <a:lnTo>
                      <a:pt x="1063" y="433"/>
                    </a:lnTo>
                    <a:lnTo>
                      <a:pt x="1073" y="431"/>
                    </a:lnTo>
                    <a:lnTo>
                      <a:pt x="1064" y="428"/>
                    </a:lnTo>
                    <a:lnTo>
                      <a:pt x="1057" y="425"/>
                    </a:lnTo>
                    <a:lnTo>
                      <a:pt x="1066" y="425"/>
                    </a:lnTo>
                    <a:lnTo>
                      <a:pt x="1060" y="421"/>
                    </a:lnTo>
                    <a:lnTo>
                      <a:pt x="1067" y="422"/>
                    </a:lnTo>
                    <a:lnTo>
                      <a:pt x="1060" y="420"/>
                    </a:lnTo>
                    <a:lnTo>
                      <a:pt x="1063" y="420"/>
                    </a:lnTo>
                    <a:lnTo>
                      <a:pt x="1064" y="415"/>
                    </a:lnTo>
                    <a:lnTo>
                      <a:pt x="1051" y="412"/>
                    </a:lnTo>
                    <a:lnTo>
                      <a:pt x="1064" y="411"/>
                    </a:lnTo>
                    <a:lnTo>
                      <a:pt x="1047" y="402"/>
                    </a:lnTo>
                    <a:lnTo>
                      <a:pt x="1030" y="399"/>
                    </a:lnTo>
                    <a:lnTo>
                      <a:pt x="1041" y="395"/>
                    </a:lnTo>
                    <a:lnTo>
                      <a:pt x="1015" y="381"/>
                    </a:lnTo>
                    <a:lnTo>
                      <a:pt x="1030" y="378"/>
                    </a:lnTo>
                    <a:lnTo>
                      <a:pt x="1017" y="372"/>
                    </a:lnTo>
                    <a:lnTo>
                      <a:pt x="1024" y="369"/>
                    </a:lnTo>
                    <a:lnTo>
                      <a:pt x="1027" y="368"/>
                    </a:lnTo>
                    <a:lnTo>
                      <a:pt x="1040" y="363"/>
                    </a:lnTo>
                    <a:lnTo>
                      <a:pt x="1033" y="362"/>
                    </a:lnTo>
                    <a:lnTo>
                      <a:pt x="1027" y="352"/>
                    </a:lnTo>
                    <a:lnTo>
                      <a:pt x="1037" y="353"/>
                    </a:lnTo>
                    <a:lnTo>
                      <a:pt x="1043" y="361"/>
                    </a:lnTo>
                    <a:lnTo>
                      <a:pt x="1054" y="362"/>
                    </a:lnTo>
                    <a:lnTo>
                      <a:pt x="1070" y="356"/>
                    </a:lnTo>
                    <a:lnTo>
                      <a:pt x="1061" y="350"/>
                    </a:lnTo>
                    <a:lnTo>
                      <a:pt x="1070" y="350"/>
                    </a:lnTo>
                    <a:lnTo>
                      <a:pt x="1079" y="348"/>
                    </a:lnTo>
                    <a:lnTo>
                      <a:pt x="1076" y="343"/>
                    </a:lnTo>
                    <a:lnTo>
                      <a:pt x="1064" y="329"/>
                    </a:lnTo>
                    <a:lnTo>
                      <a:pt x="1067" y="316"/>
                    </a:lnTo>
                    <a:lnTo>
                      <a:pt x="1053" y="309"/>
                    </a:lnTo>
                    <a:lnTo>
                      <a:pt x="1043" y="301"/>
                    </a:lnTo>
                    <a:lnTo>
                      <a:pt x="1083" y="312"/>
                    </a:lnTo>
                    <a:lnTo>
                      <a:pt x="1087" y="309"/>
                    </a:lnTo>
                    <a:lnTo>
                      <a:pt x="1093" y="307"/>
                    </a:lnTo>
                    <a:lnTo>
                      <a:pt x="1100" y="307"/>
                    </a:lnTo>
                    <a:lnTo>
                      <a:pt x="1108" y="304"/>
                    </a:lnTo>
                    <a:lnTo>
                      <a:pt x="1025" y="257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185280" y="1202760"/>
                <a:ext cx="398880" cy="200520"/>
              </a:xfrm>
              <a:custGeom>
                <a:avLst/>
                <a:gdLst/>
                <a:ahLst/>
                <a:rect l="l" t="t" r="r" b="b"/>
                <a:pathLst>
                  <a:path w="761" h="284">
                    <a:moveTo>
                      <a:pt x="0" y="282"/>
                    </a:moveTo>
                    <a:lnTo>
                      <a:pt x="6" y="284"/>
                    </a:lnTo>
                    <a:lnTo>
                      <a:pt x="55" y="274"/>
                    </a:lnTo>
                    <a:lnTo>
                      <a:pt x="102" y="265"/>
                    </a:lnTo>
                    <a:lnTo>
                      <a:pt x="123" y="259"/>
                    </a:lnTo>
                    <a:lnTo>
                      <a:pt x="143" y="253"/>
                    </a:lnTo>
                    <a:lnTo>
                      <a:pt x="156" y="249"/>
                    </a:lnTo>
                    <a:lnTo>
                      <a:pt x="173" y="243"/>
                    </a:lnTo>
                    <a:lnTo>
                      <a:pt x="189" y="240"/>
                    </a:lnTo>
                    <a:lnTo>
                      <a:pt x="144" y="235"/>
                    </a:lnTo>
                    <a:lnTo>
                      <a:pt x="92" y="242"/>
                    </a:lnTo>
                    <a:lnTo>
                      <a:pt x="94" y="239"/>
                    </a:lnTo>
                    <a:lnTo>
                      <a:pt x="133" y="232"/>
                    </a:lnTo>
                    <a:lnTo>
                      <a:pt x="89" y="232"/>
                    </a:lnTo>
                    <a:lnTo>
                      <a:pt x="123" y="223"/>
                    </a:lnTo>
                    <a:lnTo>
                      <a:pt x="125" y="220"/>
                    </a:lnTo>
                    <a:lnTo>
                      <a:pt x="131" y="219"/>
                    </a:lnTo>
                    <a:lnTo>
                      <a:pt x="173" y="216"/>
                    </a:lnTo>
                    <a:lnTo>
                      <a:pt x="182" y="210"/>
                    </a:lnTo>
                    <a:lnTo>
                      <a:pt x="180" y="209"/>
                    </a:lnTo>
                    <a:lnTo>
                      <a:pt x="147" y="207"/>
                    </a:lnTo>
                    <a:lnTo>
                      <a:pt x="163" y="204"/>
                    </a:lnTo>
                    <a:lnTo>
                      <a:pt x="159" y="197"/>
                    </a:lnTo>
                    <a:lnTo>
                      <a:pt x="177" y="207"/>
                    </a:lnTo>
                    <a:lnTo>
                      <a:pt x="192" y="219"/>
                    </a:lnTo>
                    <a:lnTo>
                      <a:pt x="186" y="233"/>
                    </a:lnTo>
                    <a:lnTo>
                      <a:pt x="205" y="229"/>
                    </a:lnTo>
                    <a:lnTo>
                      <a:pt x="215" y="223"/>
                    </a:lnTo>
                    <a:lnTo>
                      <a:pt x="206" y="232"/>
                    </a:lnTo>
                    <a:lnTo>
                      <a:pt x="218" y="229"/>
                    </a:lnTo>
                    <a:lnTo>
                      <a:pt x="229" y="220"/>
                    </a:lnTo>
                    <a:lnTo>
                      <a:pt x="245" y="210"/>
                    </a:lnTo>
                    <a:lnTo>
                      <a:pt x="232" y="212"/>
                    </a:lnTo>
                    <a:lnTo>
                      <a:pt x="246" y="206"/>
                    </a:lnTo>
                    <a:lnTo>
                      <a:pt x="239" y="206"/>
                    </a:lnTo>
                    <a:lnTo>
                      <a:pt x="236" y="204"/>
                    </a:lnTo>
                    <a:lnTo>
                      <a:pt x="248" y="199"/>
                    </a:lnTo>
                    <a:lnTo>
                      <a:pt x="220" y="190"/>
                    </a:lnTo>
                    <a:lnTo>
                      <a:pt x="212" y="193"/>
                    </a:lnTo>
                    <a:lnTo>
                      <a:pt x="219" y="189"/>
                    </a:lnTo>
                    <a:lnTo>
                      <a:pt x="241" y="184"/>
                    </a:lnTo>
                    <a:lnTo>
                      <a:pt x="218" y="183"/>
                    </a:lnTo>
                    <a:lnTo>
                      <a:pt x="208" y="183"/>
                    </a:lnTo>
                    <a:lnTo>
                      <a:pt x="206" y="180"/>
                    </a:lnTo>
                    <a:lnTo>
                      <a:pt x="249" y="174"/>
                    </a:lnTo>
                    <a:lnTo>
                      <a:pt x="212" y="174"/>
                    </a:lnTo>
                    <a:lnTo>
                      <a:pt x="208" y="177"/>
                    </a:lnTo>
                    <a:lnTo>
                      <a:pt x="212" y="173"/>
                    </a:lnTo>
                    <a:lnTo>
                      <a:pt x="226" y="170"/>
                    </a:lnTo>
                    <a:lnTo>
                      <a:pt x="226" y="167"/>
                    </a:lnTo>
                    <a:lnTo>
                      <a:pt x="252" y="167"/>
                    </a:lnTo>
                    <a:lnTo>
                      <a:pt x="267" y="163"/>
                    </a:lnTo>
                    <a:lnTo>
                      <a:pt x="269" y="158"/>
                    </a:lnTo>
                    <a:lnTo>
                      <a:pt x="278" y="161"/>
                    </a:lnTo>
                    <a:lnTo>
                      <a:pt x="297" y="160"/>
                    </a:lnTo>
                    <a:lnTo>
                      <a:pt x="304" y="164"/>
                    </a:lnTo>
                    <a:lnTo>
                      <a:pt x="284" y="163"/>
                    </a:lnTo>
                    <a:lnTo>
                      <a:pt x="308" y="168"/>
                    </a:lnTo>
                    <a:lnTo>
                      <a:pt x="343" y="163"/>
                    </a:lnTo>
                    <a:lnTo>
                      <a:pt x="353" y="157"/>
                    </a:lnTo>
                    <a:lnTo>
                      <a:pt x="330" y="157"/>
                    </a:lnTo>
                    <a:lnTo>
                      <a:pt x="324" y="160"/>
                    </a:lnTo>
                    <a:lnTo>
                      <a:pt x="330" y="151"/>
                    </a:lnTo>
                    <a:lnTo>
                      <a:pt x="349" y="143"/>
                    </a:lnTo>
                    <a:lnTo>
                      <a:pt x="388" y="147"/>
                    </a:lnTo>
                    <a:lnTo>
                      <a:pt x="395" y="140"/>
                    </a:lnTo>
                    <a:lnTo>
                      <a:pt x="377" y="138"/>
                    </a:lnTo>
                    <a:lnTo>
                      <a:pt x="385" y="131"/>
                    </a:lnTo>
                    <a:lnTo>
                      <a:pt x="369" y="131"/>
                    </a:lnTo>
                    <a:lnTo>
                      <a:pt x="392" y="128"/>
                    </a:lnTo>
                    <a:lnTo>
                      <a:pt x="382" y="124"/>
                    </a:lnTo>
                    <a:lnTo>
                      <a:pt x="389" y="119"/>
                    </a:lnTo>
                    <a:lnTo>
                      <a:pt x="413" y="128"/>
                    </a:lnTo>
                    <a:lnTo>
                      <a:pt x="435" y="114"/>
                    </a:lnTo>
                    <a:lnTo>
                      <a:pt x="408" y="114"/>
                    </a:lnTo>
                    <a:lnTo>
                      <a:pt x="445" y="109"/>
                    </a:lnTo>
                    <a:lnTo>
                      <a:pt x="429" y="108"/>
                    </a:lnTo>
                    <a:lnTo>
                      <a:pt x="425" y="105"/>
                    </a:lnTo>
                    <a:lnTo>
                      <a:pt x="422" y="104"/>
                    </a:lnTo>
                    <a:lnTo>
                      <a:pt x="424" y="98"/>
                    </a:lnTo>
                    <a:lnTo>
                      <a:pt x="452" y="95"/>
                    </a:lnTo>
                    <a:lnTo>
                      <a:pt x="497" y="95"/>
                    </a:lnTo>
                    <a:lnTo>
                      <a:pt x="511" y="86"/>
                    </a:lnTo>
                    <a:lnTo>
                      <a:pt x="488" y="83"/>
                    </a:lnTo>
                    <a:lnTo>
                      <a:pt x="485" y="79"/>
                    </a:lnTo>
                    <a:lnTo>
                      <a:pt x="514" y="81"/>
                    </a:lnTo>
                    <a:lnTo>
                      <a:pt x="493" y="73"/>
                    </a:lnTo>
                    <a:lnTo>
                      <a:pt x="477" y="79"/>
                    </a:lnTo>
                    <a:lnTo>
                      <a:pt x="475" y="76"/>
                    </a:lnTo>
                    <a:lnTo>
                      <a:pt x="516" y="60"/>
                    </a:lnTo>
                    <a:lnTo>
                      <a:pt x="549" y="55"/>
                    </a:lnTo>
                    <a:lnTo>
                      <a:pt x="570" y="47"/>
                    </a:lnTo>
                    <a:lnTo>
                      <a:pt x="560" y="49"/>
                    </a:lnTo>
                    <a:lnTo>
                      <a:pt x="592" y="37"/>
                    </a:lnTo>
                    <a:lnTo>
                      <a:pt x="612" y="36"/>
                    </a:lnTo>
                    <a:lnTo>
                      <a:pt x="624" y="30"/>
                    </a:lnTo>
                    <a:lnTo>
                      <a:pt x="579" y="36"/>
                    </a:lnTo>
                    <a:lnTo>
                      <a:pt x="581" y="32"/>
                    </a:lnTo>
                    <a:lnTo>
                      <a:pt x="619" y="29"/>
                    </a:lnTo>
                    <a:lnTo>
                      <a:pt x="664" y="24"/>
                    </a:lnTo>
                    <a:lnTo>
                      <a:pt x="602" y="23"/>
                    </a:lnTo>
                    <a:lnTo>
                      <a:pt x="702" y="17"/>
                    </a:lnTo>
                    <a:lnTo>
                      <a:pt x="703" y="14"/>
                    </a:lnTo>
                    <a:lnTo>
                      <a:pt x="761" y="7"/>
                    </a:lnTo>
                    <a:lnTo>
                      <a:pt x="716" y="1"/>
                    </a:lnTo>
                    <a:lnTo>
                      <a:pt x="678" y="7"/>
                    </a:lnTo>
                    <a:lnTo>
                      <a:pt x="640" y="10"/>
                    </a:lnTo>
                    <a:lnTo>
                      <a:pt x="644" y="7"/>
                    </a:lnTo>
                    <a:lnTo>
                      <a:pt x="553" y="23"/>
                    </a:lnTo>
                    <a:lnTo>
                      <a:pt x="596" y="11"/>
                    </a:lnTo>
                    <a:lnTo>
                      <a:pt x="631" y="1"/>
                    </a:lnTo>
                    <a:lnTo>
                      <a:pt x="611" y="0"/>
                    </a:lnTo>
                    <a:lnTo>
                      <a:pt x="593" y="4"/>
                    </a:lnTo>
                    <a:lnTo>
                      <a:pt x="540" y="10"/>
                    </a:lnTo>
                    <a:lnTo>
                      <a:pt x="572" y="6"/>
                    </a:lnTo>
                    <a:lnTo>
                      <a:pt x="586" y="1"/>
                    </a:lnTo>
                    <a:lnTo>
                      <a:pt x="511" y="3"/>
                    </a:lnTo>
                    <a:lnTo>
                      <a:pt x="0" y="282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3460320" y="1192320"/>
                <a:ext cx="72000" cy="10440"/>
              </a:xfrm>
              <a:custGeom>
                <a:avLst/>
                <a:gdLst/>
                <a:ahLst/>
                <a:rect l="l" t="t" r="r" b="b"/>
                <a:pathLst>
                  <a:path w="137" h="15">
                    <a:moveTo>
                      <a:pt x="0" y="15"/>
                    </a:moveTo>
                    <a:lnTo>
                      <a:pt x="55" y="15"/>
                    </a:lnTo>
                    <a:lnTo>
                      <a:pt x="137" y="7"/>
                    </a:lnTo>
                    <a:lnTo>
                      <a:pt x="97" y="3"/>
                    </a:lnTo>
                    <a:lnTo>
                      <a:pt x="105" y="0"/>
                    </a:lnTo>
                    <a:lnTo>
                      <a:pt x="32" y="2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6217920" y="1367640"/>
                <a:ext cx="34560" cy="16560"/>
              </a:xfrm>
              <a:custGeom>
                <a:avLst/>
                <a:gdLst/>
                <a:ahLst/>
                <a:rect l="l" t="t" r="r" b="b"/>
                <a:pathLst>
                  <a:path w="68" h="23">
                    <a:moveTo>
                      <a:pt x="68" y="16"/>
                    </a:moveTo>
                    <a:lnTo>
                      <a:pt x="0" y="0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15" y="13"/>
                    </a:lnTo>
                    <a:lnTo>
                      <a:pt x="28" y="17"/>
                    </a:lnTo>
                    <a:lnTo>
                      <a:pt x="42" y="20"/>
                    </a:lnTo>
                    <a:lnTo>
                      <a:pt x="42" y="23"/>
                    </a:lnTo>
                    <a:lnTo>
                      <a:pt x="68" y="1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3479400" y="1185840"/>
                <a:ext cx="31320" cy="396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0" y="6"/>
                    </a:moveTo>
                    <a:lnTo>
                      <a:pt x="59" y="4"/>
                    </a:lnTo>
                    <a:lnTo>
                      <a:pt x="28" y="0"/>
                    </a:lnTo>
                    <a:lnTo>
                      <a:pt x="16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3593880" y="1260000"/>
                <a:ext cx="1619640" cy="615960"/>
              </a:xfrm>
              <a:custGeom>
                <a:avLst/>
                <a:gdLst/>
                <a:ahLst/>
                <a:rect l="l" t="t" r="r" b="b"/>
                <a:pathLst>
                  <a:path w="3095" h="875">
                    <a:moveTo>
                      <a:pt x="2921" y="282"/>
                    </a:moveTo>
                    <a:lnTo>
                      <a:pt x="2921" y="260"/>
                    </a:lnTo>
                    <a:lnTo>
                      <a:pt x="2918" y="253"/>
                    </a:lnTo>
                    <a:lnTo>
                      <a:pt x="2922" y="250"/>
                    </a:lnTo>
                    <a:lnTo>
                      <a:pt x="2922" y="246"/>
                    </a:lnTo>
                    <a:lnTo>
                      <a:pt x="2931" y="250"/>
                    </a:lnTo>
                    <a:lnTo>
                      <a:pt x="2935" y="249"/>
                    </a:lnTo>
                    <a:lnTo>
                      <a:pt x="2932" y="257"/>
                    </a:lnTo>
                    <a:lnTo>
                      <a:pt x="2948" y="266"/>
                    </a:lnTo>
                    <a:lnTo>
                      <a:pt x="2985" y="266"/>
                    </a:lnTo>
                    <a:lnTo>
                      <a:pt x="3004" y="283"/>
                    </a:lnTo>
                    <a:lnTo>
                      <a:pt x="3030" y="289"/>
                    </a:lnTo>
                    <a:lnTo>
                      <a:pt x="3044" y="289"/>
                    </a:lnTo>
                    <a:lnTo>
                      <a:pt x="3050" y="296"/>
                    </a:lnTo>
                    <a:lnTo>
                      <a:pt x="3056" y="292"/>
                    </a:lnTo>
                    <a:lnTo>
                      <a:pt x="3060" y="289"/>
                    </a:lnTo>
                    <a:lnTo>
                      <a:pt x="3052" y="283"/>
                    </a:lnTo>
                    <a:lnTo>
                      <a:pt x="3056" y="272"/>
                    </a:lnTo>
                    <a:lnTo>
                      <a:pt x="3054" y="267"/>
                    </a:lnTo>
                    <a:lnTo>
                      <a:pt x="3047" y="262"/>
                    </a:lnTo>
                    <a:lnTo>
                      <a:pt x="3057" y="266"/>
                    </a:lnTo>
                    <a:lnTo>
                      <a:pt x="3069" y="265"/>
                    </a:lnTo>
                    <a:lnTo>
                      <a:pt x="3069" y="260"/>
                    </a:lnTo>
                    <a:lnTo>
                      <a:pt x="3083" y="260"/>
                    </a:lnTo>
                    <a:lnTo>
                      <a:pt x="3095" y="253"/>
                    </a:lnTo>
                    <a:lnTo>
                      <a:pt x="3072" y="244"/>
                    </a:lnTo>
                    <a:lnTo>
                      <a:pt x="3039" y="231"/>
                    </a:lnTo>
                    <a:lnTo>
                      <a:pt x="3024" y="230"/>
                    </a:lnTo>
                    <a:lnTo>
                      <a:pt x="3030" y="233"/>
                    </a:lnTo>
                    <a:lnTo>
                      <a:pt x="3020" y="231"/>
                    </a:lnTo>
                    <a:lnTo>
                      <a:pt x="3003" y="231"/>
                    </a:lnTo>
                    <a:lnTo>
                      <a:pt x="3008" y="242"/>
                    </a:lnTo>
                    <a:lnTo>
                      <a:pt x="3017" y="247"/>
                    </a:lnTo>
                    <a:lnTo>
                      <a:pt x="3008" y="247"/>
                    </a:lnTo>
                    <a:lnTo>
                      <a:pt x="2997" y="237"/>
                    </a:lnTo>
                    <a:lnTo>
                      <a:pt x="2985" y="223"/>
                    </a:lnTo>
                    <a:lnTo>
                      <a:pt x="2961" y="210"/>
                    </a:lnTo>
                    <a:lnTo>
                      <a:pt x="2925" y="197"/>
                    </a:lnTo>
                    <a:lnTo>
                      <a:pt x="2926" y="200"/>
                    </a:lnTo>
                    <a:lnTo>
                      <a:pt x="2893" y="184"/>
                    </a:lnTo>
                    <a:lnTo>
                      <a:pt x="2850" y="174"/>
                    </a:lnTo>
                    <a:lnTo>
                      <a:pt x="2808" y="164"/>
                    </a:lnTo>
                    <a:lnTo>
                      <a:pt x="2762" y="164"/>
                    </a:lnTo>
                    <a:lnTo>
                      <a:pt x="2722" y="159"/>
                    </a:lnTo>
                    <a:lnTo>
                      <a:pt x="2726" y="171"/>
                    </a:lnTo>
                    <a:lnTo>
                      <a:pt x="2735" y="184"/>
                    </a:lnTo>
                    <a:lnTo>
                      <a:pt x="2728" y="188"/>
                    </a:lnTo>
                    <a:lnTo>
                      <a:pt x="2712" y="188"/>
                    </a:lnTo>
                    <a:lnTo>
                      <a:pt x="2696" y="180"/>
                    </a:lnTo>
                    <a:lnTo>
                      <a:pt x="2689" y="178"/>
                    </a:lnTo>
                    <a:lnTo>
                      <a:pt x="2676" y="167"/>
                    </a:lnTo>
                    <a:lnTo>
                      <a:pt x="2650" y="172"/>
                    </a:lnTo>
                    <a:lnTo>
                      <a:pt x="2582" y="168"/>
                    </a:lnTo>
                    <a:lnTo>
                      <a:pt x="2569" y="180"/>
                    </a:lnTo>
                    <a:lnTo>
                      <a:pt x="2556" y="170"/>
                    </a:lnTo>
                    <a:lnTo>
                      <a:pt x="2536" y="164"/>
                    </a:lnTo>
                    <a:lnTo>
                      <a:pt x="2532" y="147"/>
                    </a:lnTo>
                    <a:lnTo>
                      <a:pt x="2501" y="138"/>
                    </a:lnTo>
                    <a:lnTo>
                      <a:pt x="2455" y="141"/>
                    </a:lnTo>
                    <a:lnTo>
                      <a:pt x="2409" y="142"/>
                    </a:lnTo>
                    <a:lnTo>
                      <a:pt x="2402" y="139"/>
                    </a:lnTo>
                    <a:lnTo>
                      <a:pt x="2382" y="131"/>
                    </a:lnTo>
                    <a:lnTo>
                      <a:pt x="2366" y="135"/>
                    </a:lnTo>
                    <a:lnTo>
                      <a:pt x="2376" y="128"/>
                    </a:lnTo>
                    <a:lnTo>
                      <a:pt x="2366" y="126"/>
                    </a:lnTo>
                    <a:lnTo>
                      <a:pt x="2349" y="122"/>
                    </a:lnTo>
                    <a:lnTo>
                      <a:pt x="2365" y="121"/>
                    </a:lnTo>
                    <a:lnTo>
                      <a:pt x="2337" y="111"/>
                    </a:lnTo>
                    <a:lnTo>
                      <a:pt x="2307" y="115"/>
                    </a:lnTo>
                    <a:lnTo>
                      <a:pt x="2300" y="116"/>
                    </a:lnTo>
                    <a:lnTo>
                      <a:pt x="2311" y="111"/>
                    </a:lnTo>
                    <a:lnTo>
                      <a:pt x="2310" y="109"/>
                    </a:lnTo>
                    <a:lnTo>
                      <a:pt x="2258" y="105"/>
                    </a:lnTo>
                    <a:lnTo>
                      <a:pt x="2206" y="100"/>
                    </a:lnTo>
                    <a:lnTo>
                      <a:pt x="2213" y="105"/>
                    </a:lnTo>
                    <a:lnTo>
                      <a:pt x="2182" y="111"/>
                    </a:lnTo>
                    <a:lnTo>
                      <a:pt x="2187" y="112"/>
                    </a:lnTo>
                    <a:lnTo>
                      <a:pt x="2193" y="113"/>
                    </a:lnTo>
                    <a:lnTo>
                      <a:pt x="2192" y="121"/>
                    </a:lnTo>
                    <a:lnTo>
                      <a:pt x="2190" y="129"/>
                    </a:lnTo>
                    <a:lnTo>
                      <a:pt x="2163" y="126"/>
                    </a:lnTo>
                    <a:lnTo>
                      <a:pt x="2163" y="132"/>
                    </a:lnTo>
                    <a:lnTo>
                      <a:pt x="2159" y="136"/>
                    </a:lnTo>
                    <a:lnTo>
                      <a:pt x="2127" y="125"/>
                    </a:lnTo>
                    <a:lnTo>
                      <a:pt x="2103" y="131"/>
                    </a:lnTo>
                    <a:lnTo>
                      <a:pt x="2074" y="122"/>
                    </a:lnTo>
                    <a:lnTo>
                      <a:pt x="2071" y="121"/>
                    </a:lnTo>
                    <a:lnTo>
                      <a:pt x="2061" y="134"/>
                    </a:lnTo>
                    <a:lnTo>
                      <a:pt x="2042" y="145"/>
                    </a:lnTo>
                    <a:lnTo>
                      <a:pt x="2025" y="136"/>
                    </a:lnTo>
                    <a:lnTo>
                      <a:pt x="2010" y="123"/>
                    </a:lnTo>
                    <a:lnTo>
                      <a:pt x="1990" y="109"/>
                    </a:lnTo>
                    <a:lnTo>
                      <a:pt x="1977" y="111"/>
                    </a:lnTo>
                    <a:lnTo>
                      <a:pt x="1980" y="131"/>
                    </a:lnTo>
                    <a:lnTo>
                      <a:pt x="1969" y="109"/>
                    </a:lnTo>
                    <a:lnTo>
                      <a:pt x="1914" y="102"/>
                    </a:lnTo>
                    <a:lnTo>
                      <a:pt x="1861" y="95"/>
                    </a:lnTo>
                    <a:lnTo>
                      <a:pt x="1839" y="86"/>
                    </a:lnTo>
                    <a:lnTo>
                      <a:pt x="1846" y="83"/>
                    </a:lnTo>
                    <a:lnTo>
                      <a:pt x="1820" y="83"/>
                    </a:lnTo>
                    <a:lnTo>
                      <a:pt x="1758" y="85"/>
                    </a:lnTo>
                    <a:lnTo>
                      <a:pt x="1751" y="76"/>
                    </a:lnTo>
                    <a:lnTo>
                      <a:pt x="1725" y="76"/>
                    </a:lnTo>
                    <a:lnTo>
                      <a:pt x="1730" y="73"/>
                    </a:lnTo>
                    <a:lnTo>
                      <a:pt x="1695" y="77"/>
                    </a:lnTo>
                    <a:lnTo>
                      <a:pt x="1717" y="80"/>
                    </a:lnTo>
                    <a:lnTo>
                      <a:pt x="1673" y="90"/>
                    </a:lnTo>
                    <a:lnTo>
                      <a:pt x="1636" y="93"/>
                    </a:lnTo>
                    <a:lnTo>
                      <a:pt x="1643" y="89"/>
                    </a:lnTo>
                    <a:lnTo>
                      <a:pt x="1705" y="67"/>
                    </a:lnTo>
                    <a:lnTo>
                      <a:pt x="1770" y="44"/>
                    </a:lnTo>
                    <a:lnTo>
                      <a:pt x="1761" y="41"/>
                    </a:lnTo>
                    <a:lnTo>
                      <a:pt x="1757" y="36"/>
                    </a:lnTo>
                    <a:lnTo>
                      <a:pt x="1773" y="40"/>
                    </a:lnTo>
                    <a:lnTo>
                      <a:pt x="1771" y="28"/>
                    </a:lnTo>
                    <a:lnTo>
                      <a:pt x="1764" y="30"/>
                    </a:lnTo>
                    <a:lnTo>
                      <a:pt x="1757" y="27"/>
                    </a:lnTo>
                    <a:lnTo>
                      <a:pt x="1742" y="20"/>
                    </a:lnTo>
                    <a:lnTo>
                      <a:pt x="1689" y="20"/>
                    </a:lnTo>
                    <a:lnTo>
                      <a:pt x="1666" y="21"/>
                    </a:lnTo>
                    <a:lnTo>
                      <a:pt x="1679" y="11"/>
                    </a:lnTo>
                    <a:lnTo>
                      <a:pt x="1659" y="10"/>
                    </a:lnTo>
                    <a:lnTo>
                      <a:pt x="1632" y="10"/>
                    </a:lnTo>
                    <a:lnTo>
                      <a:pt x="1663" y="4"/>
                    </a:lnTo>
                    <a:lnTo>
                      <a:pt x="1629" y="0"/>
                    </a:lnTo>
                    <a:lnTo>
                      <a:pt x="1580" y="13"/>
                    </a:lnTo>
                    <a:lnTo>
                      <a:pt x="1577" y="21"/>
                    </a:lnTo>
                    <a:lnTo>
                      <a:pt x="1588" y="23"/>
                    </a:lnTo>
                    <a:lnTo>
                      <a:pt x="1545" y="24"/>
                    </a:lnTo>
                    <a:lnTo>
                      <a:pt x="1552" y="28"/>
                    </a:lnTo>
                    <a:lnTo>
                      <a:pt x="1522" y="31"/>
                    </a:lnTo>
                    <a:lnTo>
                      <a:pt x="1493" y="33"/>
                    </a:lnTo>
                    <a:lnTo>
                      <a:pt x="1446" y="33"/>
                    </a:lnTo>
                    <a:lnTo>
                      <a:pt x="1465" y="33"/>
                    </a:lnTo>
                    <a:lnTo>
                      <a:pt x="1414" y="40"/>
                    </a:lnTo>
                    <a:lnTo>
                      <a:pt x="1364" y="47"/>
                    </a:lnTo>
                    <a:lnTo>
                      <a:pt x="1345" y="50"/>
                    </a:lnTo>
                    <a:lnTo>
                      <a:pt x="1331" y="60"/>
                    </a:lnTo>
                    <a:lnTo>
                      <a:pt x="1318" y="59"/>
                    </a:lnTo>
                    <a:lnTo>
                      <a:pt x="1333" y="66"/>
                    </a:lnTo>
                    <a:lnTo>
                      <a:pt x="1315" y="67"/>
                    </a:lnTo>
                    <a:lnTo>
                      <a:pt x="1329" y="73"/>
                    </a:lnTo>
                    <a:lnTo>
                      <a:pt x="1325" y="76"/>
                    </a:lnTo>
                    <a:lnTo>
                      <a:pt x="1273" y="80"/>
                    </a:lnTo>
                    <a:lnTo>
                      <a:pt x="1221" y="85"/>
                    </a:lnTo>
                    <a:lnTo>
                      <a:pt x="1215" y="95"/>
                    </a:lnTo>
                    <a:lnTo>
                      <a:pt x="1215" y="109"/>
                    </a:lnTo>
                    <a:lnTo>
                      <a:pt x="1231" y="115"/>
                    </a:lnTo>
                    <a:lnTo>
                      <a:pt x="1248" y="126"/>
                    </a:lnTo>
                    <a:lnTo>
                      <a:pt x="1237" y="145"/>
                    </a:lnTo>
                    <a:lnTo>
                      <a:pt x="1231" y="154"/>
                    </a:lnTo>
                    <a:lnTo>
                      <a:pt x="1221" y="154"/>
                    </a:lnTo>
                    <a:lnTo>
                      <a:pt x="1225" y="139"/>
                    </a:lnTo>
                    <a:lnTo>
                      <a:pt x="1211" y="148"/>
                    </a:lnTo>
                    <a:lnTo>
                      <a:pt x="1221" y="134"/>
                    </a:lnTo>
                    <a:lnTo>
                      <a:pt x="1243" y="125"/>
                    </a:lnTo>
                    <a:lnTo>
                      <a:pt x="1211" y="121"/>
                    </a:lnTo>
                    <a:lnTo>
                      <a:pt x="1187" y="109"/>
                    </a:lnTo>
                    <a:lnTo>
                      <a:pt x="1152" y="113"/>
                    </a:lnTo>
                    <a:lnTo>
                      <a:pt x="1158" y="121"/>
                    </a:lnTo>
                    <a:lnTo>
                      <a:pt x="1123" y="119"/>
                    </a:lnTo>
                    <a:lnTo>
                      <a:pt x="1123" y="126"/>
                    </a:lnTo>
                    <a:lnTo>
                      <a:pt x="1153" y="135"/>
                    </a:lnTo>
                    <a:lnTo>
                      <a:pt x="1155" y="139"/>
                    </a:lnTo>
                    <a:lnTo>
                      <a:pt x="1107" y="129"/>
                    </a:lnTo>
                    <a:lnTo>
                      <a:pt x="1126" y="100"/>
                    </a:lnTo>
                    <a:lnTo>
                      <a:pt x="1115" y="99"/>
                    </a:lnTo>
                    <a:lnTo>
                      <a:pt x="1109" y="115"/>
                    </a:lnTo>
                    <a:lnTo>
                      <a:pt x="1079" y="125"/>
                    </a:lnTo>
                    <a:lnTo>
                      <a:pt x="1073" y="134"/>
                    </a:lnTo>
                    <a:lnTo>
                      <a:pt x="1077" y="149"/>
                    </a:lnTo>
                    <a:lnTo>
                      <a:pt x="1053" y="167"/>
                    </a:lnTo>
                    <a:lnTo>
                      <a:pt x="1053" y="183"/>
                    </a:lnTo>
                    <a:lnTo>
                      <a:pt x="1100" y="181"/>
                    </a:lnTo>
                    <a:lnTo>
                      <a:pt x="1115" y="187"/>
                    </a:lnTo>
                    <a:lnTo>
                      <a:pt x="1109" y="203"/>
                    </a:lnTo>
                    <a:lnTo>
                      <a:pt x="1104" y="213"/>
                    </a:lnTo>
                    <a:lnTo>
                      <a:pt x="1125" y="217"/>
                    </a:lnTo>
                    <a:lnTo>
                      <a:pt x="1093" y="213"/>
                    </a:lnTo>
                    <a:lnTo>
                      <a:pt x="1100" y="193"/>
                    </a:lnTo>
                    <a:lnTo>
                      <a:pt x="1097" y="184"/>
                    </a:lnTo>
                    <a:lnTo>
                      <a:pt x="1057" y="191"/>
                    </a:lnTo>
                    <a:lnTo>
                      <a:pt x="1050" y="214"/>
                    </a:lnTo>
                    <a:lnTo>
                      <a:pt x="1005" y="239"/>
                    </a:lnTo>
                    <a:lnTo>
                      <a:pt x="994" y="243"/>
                    </a:lnTo>
                    <a:lnTo>
                      <a:pt x="979" y="246"/>
                    </a:lnTo>
                    <a:lnTo>
                      <a:pt x="936" y="240"/>
                    </a:lnTo>
                    <a:lnTo>
                      <a:pt x="936" y="236"/>
                    </a:lnTo>
                    <a:lnTo>
                      <a:pt x="968" y="237"/>
                    </a:lnTo>
                    <a:lnTo>
                      <a:pt x="958" y="240"/>
                    </a:lnTo>
                    <a:lnTo>
                      <a:pt x="982" y="237"/>
                    </a:lnTo>
                    <a:lnTo>
                      <a:pt x="985" y="233"/>
                    </a:lnTo>
                    <a:lnTo>
                      <a:pt x="1025" y="208"/>
                    </a:lnTo>
                    <a:lnTo>
                      <a:pt x="1038" y="197"/>
                    </a:lnTo>
                    <a:lnTo>
                      <a:pt x="1030" y="180"/>
                    </a:lnTo>
                    <a:lnTo>
                      <a:pt x="1043" y="157"/>
                    </a:lnTo>
                    <a:lnTo>
                      <a:pt x="1057" y="136"/>
                    </a:lnTo>
                    <a:lnTo>
                      <a:pt x="1051" y="126"/>
                    </a:lnTo>
                    <a:lnTo>
                      <a:pt x="1079" y="106"/>
                    </a:lnTo>
                    <a:lnTo>
                      <a:pt x="1063" y="98"/>
                    </a:lnTo>
                    <a:lnTo>
                      <a:pt x="1022" y="100"/>
                    </a:lnTo>
                    <a:lnTo>
                      <a:pt x="981" y="128"/>
                    </a:lnTo>
                    <a:lnTo>
                      <a:pt x="953" y="139"/>
                    </a:lnTo>
                    <a:lnTo>
                      <a:pt x="950" y="144"/>
                    </a:lnTo>
                    <a:lnTo>
                      <a:pt x="960" y="145"/>
                    </a:lnTo>
                    <a:lnTo>
                      <a:pt x="945" y="159"/>
                    </a:lnTo>
                    <a:lnTo>
                      <a:pt x="940" y="170"/>
                    </a:lnTo>
                    <a:lnTo>
                      <a:pt x="955" y="175"/>
                    </a:lnTo>
                    <a:lnTo>
                      <a:pt x="959" y="187"/>
                    </a:lnTo>
                    <a:lnTo>
                      <a:pt x="966" y="187"/>
                    </a:lnTo>
                    <a:lnTo>
                      <a:pt x="942" y="203"/>
                    </a:lnTo>
                    <a:lnTo>
                      <a:pt x="930" y="188"/>
                    </a:lnTo>
                    <a:lnTo>
                      <a:pt x="900" y="177"/>
                    </a:lnTo>
                    <a:lnTo>
                      <a:pt x="867" y="171"/>
                    </a:lnTo>
                    <a:lnTo>
                      <a:pt x="835" y="165"/>
                    </a:lnTo>
                    <a:lnTo>
                      <a:pt x="819" y="171"/>
                    </a:lnTo>
                    <a:lnTo>
                      <a:pt x="822" y="187"/>
                    </a:lnTo>
                    <a:lnTo>
                      <a:pt x="801" y="194"/>
                    </a:lnTo>
                    <a:lnTo>
                      <a:pt x="793" y="200"/>
                    </a:lnTo>
                    <a:lnTo>
                      <a:pt x="785" y="198"/>
                    </a:lnTo>
                    <a:lnTo>
                      <a:pt x="792" y="187"/>
                    </a:lnTo>
                    <a:lnTo>
                      <a:pt x="763" y="191"/>
                    </a:lnTo>
                    <a:lnTo>
                      <a:pt x="740" y="194"/>
                    </a:lnTo>
                    <a:lnTo>
                      <a:pt x="710" y="201"/>
                    </a:lnTo>
                    <a:lnTo>
                      <a:pt x="682" y="200"/>
                    </a:lnTo>
                    <a:lnTo>
                      <a:pt x="695" y="195"/>
                    </a:lnTo>
                    <a:lnTo>
                      <a:pt x="697" y="188"/>
                    </a:lnTo>
                    <a:lnTo>
                      <a:pt x="716" y="184"/>
                    </a:lnTo>
                    <a:lnTo>
                      <a:pt x="672" y="194"/>
                    </a:lnTo>
                    <a:lnTo>
                      <a:pt x="667" y="197"/>
                    </a:lnTo>
                    <a:lnTo>
                      <a:pt x="622" y="204"/>
                    </a:lnTo>
                    <a:lnTo>
                      <a:pt x="595" y="211"/>
                    </a:lnTo>
                    <a:lnTo>
                      <a:pt x="593" y="214"/>
                    </a:lnTo>
                    <a:lnTo>
                      <a:pt x="573" y="217"/>
                    </a:lnTo>
                    <a:lnTo>
                      <a:pt x="554" y="233"/>
                    </a:lnTo>
                    <a:lnTo>
                      <a:pt x="526" y="233"/>
                    </a:lnTo>
                    <a:lnTo>
                      <a:pt x="521" y="220"/>
                    </a:lnTo>
                    <a:lnTo>
                      <a:pt x="560" y="210"/>
                    </a:lnTo>
                    <a:lnTo>
                      <a:pt x="546" y="194"/>
                    </a:lnTo>
                    <a:lnTo>
                      <a:pt x="513" y="193"/>
                    </a:lnTo>
                    <a:lnTo>
                      <a:pt x="523" y="201"/>
                    </a:lnTo>
                    <a:lnTo>
                      <a:pt x="501" y="227"/>
                    </a:lnTo>
                    <a:lnTo>
                      <a:pt x="491" y="243"/>
                    </a:lnTo>
                    <a:lnTo>
                      <a:pt x="478" y="253"/>
                    </a:lnTo>
                    <a:lnTo>
                      <a:pt x="469" y="253"/>
                    </a:lnTo>
                    <a:lnTo>
                      <a:pt x="472" y="244"/>
                    </a:lnTo>
                    <a:lnTo>
                      <a:pt x="455" y="242"/>
                    </a:lnTo>
                    <a:lnTo>
                      <a:pt x="423" y="255"/>
                    </a:lnTo>
                    <a:lnTo>
                      <a:pt x="389" y="269"/>
                    </a:lnTo>
                    <a:lnTo>
                      <a:pt x="386" y="288"/>
                    </a:lnTo>
                    <a:lnTo>
                      <a:pt x="350" y="282"/>
                    </a:lnTo>
                    <a:lnTo>
                      <a:pt x="333" y="273"/>
                    </a:lnTo>
                    <a:lnTo>
                      <a:pt x="322" y="283"/>
                    </a:lnTo>
                    <a:lnTo>
                      <a:pt x="333" y="292"/>
                    </a:lnTo>
                    <a:lnTo>
                      <a:pt x="335" y="301"/>
                    </a:lnTo>
                    <a:lnTo>
                      <a:pt x="308" y="303"/>
                    </a:lnTo>
                    <a:lnTo>
                      <a:pt x="289" y="286"/>
                    </a:lnTo>
                    <a:lnTo>
                      <a:pt x="299" y="266"/>
                    </a:lnTo>
                    <a:lnTo>
                      <a:pt x="307" y="259"/>
                    </a:lnTo>
                    <a:lnTo>
                      <a:pt x="309" y="259"/>
                    </a:lnTo>
                    <a:lnTo>
                      <a:pt x="298" y="246"/>
                    </a:lnTo>
                    <a:lnTo>
                      <a:pt x="295" y="240"/>
                    </a:lnTo>
                    <a:lnTo>
                      <a:pt x="286" y="227"/>
                    </a:lnTo>
                    <a:lnTo>
                      <a:pt x="297" y="231"/>
                    </a:lnTo>
                    <a:lnTo>
                      <a:pt x="334" y="242"/>
                    </a:lnTo>
                    <a:lnTo>
                      <a:pt x="371" y="252"/>
                    </a:lnTo>
                    <a:lnTo>
                      <a:pt x="429" y="242"/>
                    </a:lnTo>
                    <a:lnTo>
                      <a:pt x="452" y="226"/>
                    </a:lnTo>
                    <a:lnTo>
                      <a:pt x="449" y="213"/>
                    </a:lnTo>
                    <a:lnTo>
                      <a:pt x="416" y="195"/>
                    </a:lnTo>
                    <a:lnTo>
                      <a:pt x="384" y="180"/>
                    </a:lnTo>
                    <a:lnTo>
                      <a:pt x="353" y="181"/>
                    </a:lnTo>
                    <a:lnTo>
                      <a:pt x="343" y="183"/>
                    </a:lnTo>
                    <a:lnTo>
                      <a:pt x="357" y="175"/>
                    </a:lnTo>
                    <a:lnTo>
                      <a:pt x="344" y="177"/>
                    </a:lnTo>
                    <a:lnTo>
                      <a:pt x="338" y="168"/>
                    </a:lnTo>
                    <a:lnTo>
                      <a:pt x="357" y="167"/>
                    </a:lnTo>
                    <a:lnTo>
                      <a:pt x="340" y="162"/>
                    </a:lnTo>
                    <a:lnTo>
                      <a:pt x="327" y="168"/>
                    </a:lnTo>
                    <a:lnTo>
                      <a:pt x="320" y="165"/>
                    </a:lnTo>
                    <a:lnTo>
                      <a:pt x="314" y="172"/>
                    </a:lnTo>
                    <a:lnTo>
                      <a:pt x="301" y="172"/>
                    </a:lnTo>
                    <a:lnTo>
                      <a:pt x="271" y="183"/>
                    </a:lnTo>
                    <a:lnTo>
                      <a:pt x="265" y="188"/>
                    </a:lnTo>
                    <a:lnTo>
                      <a:pt x="249" y="203"/>
                    </a:lnTo>
                    <a:lnTo>
                      <a:pt x="259" y="217"/>
                    </a:lnTo>
                    <a:lnTo>
                      <a:pt x="227" y="234"/>
                    </a:lnTo>
                    <a:lnTo>
                      <a:pt x="220" y="262"/>
                    </a:lnTo>
                    <a:lnTo>
                      <a:pt x="199" y="282"/>
                    </a:lnTo>
                    <a:lnTo>
                      <a:pt x="197" y="291"/>
                    </a:lnTo>
                    <a:lnTo>
                      <a:pt x="197" y="301"/>
                    </a:lnTo>
                    <a:lnTo>
                      <a:pt x="181" y="308"/>
                    </a:lnTo>
                    <a:lnTo>
                      <a:pt x="194" y="328"/>
                    </a:lnTo>
                    <a:lnTo>
                      <a:pt x="165" y="342"/>
                    </a:lnTo>
                    <a:lnTo>
                      <a:pt x="137" y="357"/>
                    </a:lnTo>
                    <a:lnTo>
                      <a:pt x="108" y="371"/>
                    </a:lnTo>
                    <a:lnTo>
                      <a:pt x="79" y="386"/>
                    </a:lnTo>
                    <a:lnTo>
                      <a:pt x="92" y="386"/>
                    </a:lnTo>
                    <a:lnTo>
                      <a:pt x="89" y="386"/>
                    </a:lnTo>
                    <a:lnTo>
                      <a:pt x="89" y="390"/>
                    </a:lnTo>
                    <a:lnTo>
                      <a:pt x="112" y="400"/>
                    </a:lnTo>
                    <a:lnTo>
                      <a:pt x="93" y="399"/>
                    </a:lnTo>
                    <a:lnTo>
                      <a:pt x="69" y="407"/>
                    </a:lnTo>
                    <a:lnTo>
                      <a:pt x="56" y="414"/>
                    </a:lnTo>
                    <a:lnTo>
                      <a:pt x="42" y="437"/>
                    </a:lnTo>
                    <a:lnTo>
                      <a:pt x="17" y="452"/>
                    </a:lnTo>
                    <a:lnTo>
                      <a:pt x="13" y="471"/>
                    </a:lnTo>
                    <a:lnTo>
                      <a:pt x="0" y="499"/>
                    </a:lnTo>
                    <a:lnTo>
                      <a:pt x="26" y="505"/>
                    </a:lnTo>
                    <a:lnTo>
                      <a:pt x="53" y="511"/>
                    </a:lnTo>
                    <a:lnTo>
                      <a:pt x="32" y="540"/>
                    </a:lnTo>
                    <a:lnTo>
                      <a:pt x="39" y="563"/>
                    </a:lnTo>
                    <a:lnTo>
                      <a:pt x="26" y="570"/>
                    </a:lnTo>
                    <a:lnTo>
                      <a:pt x="11" y="594"/>
                    </a:lnTo>
                    <a:lnTo>
                      <a:pt x="33" y="589"/>
                    </a:lnTo>
                    <a:lnTo>
                      <a:pt x="63" y="592"/>
                    </a:lnTo>
                    <a:lnTo>
                      <a:pt x="60" y="602"/>
                    </a:lnTo>
                    <a:lnTo>
                      <a:pt x="68" y="625"/>
                    </a:lnTo>
                    <a:lnTo>
                      <a:pt x="76" y="648"/>
                    </a:lnTo>
                    <a:lnTo>
                      <a:pt x="92" y="645"/>
                    </a:lnTo>
                    <a:lnTo>
                      <a:pt x="116" y="655"/>
                    </a:lnTo>
                    <a:lnTo>
                      <a:pt x="141" y="665"/>
                    </a:lnTo>
                    <a:lnTo>
                      <a:pt x="128" y="702"/>
                    </a:lnTo>
                    <a:lnTo>
                      <a:pt x="105" y="711"/>
                    </a:lnTo>
                    <a:lnTo>
                      <a:pt x="88" y="726"/>
                    </a:lnTo>
                    <a:lnTo>
                      <a:pt x="89" y="731"/>
                    </a:lnTo>
                    <a:lnTo>
                      <a:pt x="66" y="740"/>
                    </a:lnTo>
                    <a:lnTo>
                      <a:pt x="53" y="743"/>
                    </a:lnTo>
                    <a:lnTo>
                      <a:pt x="62" y="757"/>
                    </a:lnTo>
                    <a:lnTo>
                      <a:pt x="55" y="756"/>
                    </a:lnTo>
                    <a:lnTo>
                      <a:pt x="46" y="764"/>
                    </a:lnTo>
                    <a:lnTo>
                      <a:pt x="47" y="759"/>
                    </a:lnTo>
                    <a:lnTo>
                      <a:pt x="36" y="774"/>
                    </a:lnTo>
                    <a:lnTo>
                      <a:pt x="14" y="776"/>
                    </a:lnTo>
                    <a:lnTo>
                      <a:pt x="7" y="782"/>
                    </a:lnTo>
                    <a:lnTo>
                      <a:pt x="29" y="798"/>
                    </a:lnTo>
                    <a:lnTo>
                      <a:pt x="50" y="815"/>
                    </a:lnTo>
                    <a:lnTo>
                      <a:pt x="53" y="813"/>
                    </a:lnTo>
                    <a:lnTo>
                      <a:pt x="76" y="815"/>
                    </a:lnTo>
                    <a:lnTo>
                      <a:pt x="99" y="816"/>
                    </a:lnTo>
                    <a:lnTo>
                      <a:pt x="124" y="829"/>
                    </a:lnTo>
                    <a:lnTo>
                      <a:pt x="150" y="842"/>
                    </a:lnTo>
                    <a:lnTo>
                      <a:pt x="174" y="855"/>
                    </a:lnTo>
                    <a:lnTo>
                      <a:pt x="199" y="868"/>
                    </a:lnTo>
                    <a:lnTo>
                      <a:pt x="230" y="875"/>
                    </a:lnTo>
                    <a:lnTo>
                      <a:pt x="225" y="855"/>
                    </a:lnTo>
                    <a:lnTo>
                      <a:pt x="219" y="834"/>
                    </a:lnTo>
                    <a:lnTo>
                      <a:pt x="227" y="816"/>
                    </a:lnTo>
                    <a:lnTo>
                      <a:pt x="220" y="823"/>
                    </a:lnTo>
                    <a:lnTo>
                      <a:pt x="222" y="803"/>
                    </a:lnTo>
                    <a:lnTo>
                      <a:pt x="219" y="795"/>
                    </a:lnTo>
                    <a:lnTo>
                      <a:pt x="246" y="769"/>
                    </a:lnTo>
                    <a:lnTo>
                      <a:pt x="276" y="759"/>
                    </a:lnTo>
                    <a:lnTo>
                      <a:pt x="291" y="753"/>
                    </a:lnTo>
                    <a:lnTo>
                      <a:pt x="294" y="747"/>
                    </a:lnTo>
                    <a:lnTo>
                      <a:pt x="294" y="721"/>
                    </a:lnTo>
                    <a:lnTo>
                      <a:pt x="282" y="701"/>
                    </a:lnTo>
                    <a:lnTo>
                      <a:pt x="271" y="681"/>
                    </a:lnTo>
                    <a:lnTo>
                      <a:pt x="295" y="652"/>
                    </a:lnTo>
                    <a:lnTo>
                      <a:pt x="322" y="623"/>
                    </a:lnTo>
                    <a:lnTo>
                      <a:pt x="338" y="635"/>
                    </a:lnTo>
                    <a:lnTo>
                      <a:pt x="351" y="623"/>
                    </a:lnTo>
                    <a:lnTo>
                      <a:pt x="377" y="612"/>
                    </a:lnTo>
                    <a:lnTo>
                      <a:pt x="402" y="600"/>
                    </a:lnTo>
                    <a:lnTo>
                      <a:pt x="433" y="599"/>
                    </a:lnTo>
                    <a:lnTo>
                      <a:pt x="451" y="612"/>
                    </a:lnTo>
                    <a:lnTo>
                      <a:pt x="468" y="625"/>
                    </a:lnTo>
                    <a:lnTo>
                      <a:pt x="501" y="623"/>
                    </a:lnTo>
                    <a:lnTo>
                      <a:pt x="543" y="622"/>
                    </a:lnTo>
                    <a:lnTo>
                      <a:pt x="579" y="629"/>
                    </a:lnTo>
                    <a:lnTo>
                      <a:pt x="589" y="622"/>
                    </a:lnTo>
                    <a:lnTo>
                      <a:pt x="587" y="594"/>
                    </a:lnTo>
                    <a:lnTo>
                      <a:pt x="622" y="564"/>
                    </a:lnTo>
                    <a:lnTo>
                      <a:pt x="641" y="566"/>
                    </a:lnTo>
                    <a:lnTo>
                      <a:pt x="625" y="553"/>
                    </a:lnTo>
                    <a:lnTo>
                      <a:pt x="655" y="548"/>
                    </a:lnTo>
                    <a:lnTo>
                      <a:pt x="685" y="544"/>
                    </a:lnTo>
                    <a:lnTo>
                      <a:pt x="717" y="537"/>
                    </a:lnTo>
                    <a:lnTo>
                      <a:pt x="749" y="530"/>
                    </a:lnTo>
                    <a:lnTo>
                      <a:pt x="779" y="522"/>
                    </a:lnTo>
                    <a:lnTo>
                      <a:pt x="811" y="515"/>
                    </a:lnTo>
                    <a:lnTo>
                      <a:pt x="832" y="514"/>
                    </a:lnTo>
                    <a:lnTo>
                      <a:pt x="832" y="530"/>
                    </a:lnTo>
                    <a:lnTo>
                      <a:pt x="861" y="544"/>
                    </a:lnTo>
                    <a:lnTo>
                      <a:pt x="870" y="553"/>
                    </a:lnTo>
                    <a:lnTo>
                      <a:pt x="884" y="556"/>
                    </a:lnTo>
                    <a:lnTo>
                      <a:pt x="919" y="545"/>
                    </a:lnTo>
                    <a:lnTo>
                      <a:pt x="953" y="535"/>
                    </a:lnTo>
                    <a:lnTo>
                      <a:pt x="955" y="540"/>
                    </a:lnTo>
                    <a:lnTo>
                      <a:pt x="940" y="551"/>
                    </a:lnTo>
                    <a:lnTo>
                      <a:pt x="953" y="571"/>
                    </a:lnTo>
                    <a:lnTo>
                      <a:pt x="966" y="590"/>
                    </a:lnTo>
                    <a:lnTo>
                      <a:pt x="979" y="609"/>
                    </a:lnTo>
                    <a:lnTo>
                      <a:pt x="992" y="629"/>
                    </a:lnTo>
                    <a:lnTo>
                      <a:pt x="1002" y="622"/>
                    </a:lnTo>
                    <a:lnTo>
                      <a:pt x="1012" y="628"/>
                    </a:lnTo>
                    <a:lnTo>
                      <a:pt x="1043" y="623"/>
                    </a:lnTo>
                    <a:lnTo>
                      <a:pt x="1057" y="642"/>
                    </a:lnTo>
                    <a:lnTo>
                      <a:pt x="1073" y="659"/>
                    </a:lnTo>
                    <a:lnTo>
                      <a:pt x="1104" y="652"/>
                    </a:lnTo>
                    <a:lnTo>
                      <a:pt x="1112" y="678"/>
                    </a:lnTo>
                    <a:lnTo>
                      <a:pt x="1129" y="677"/>
                    </a:lnTo>
                    <a:lnTo>
                      <a:pt x="1146" y="668"/>
                    </a:lnTo>
                    <a:lnTo>
                      <a:pt x="1171" y="659"/>
                    </a:lnTo>
                    <a:lnTo>
                      <a:pt x="1201" y="646"/>
                    </a:lnTo>
                    <a:lnTo>
                      <a:pt x="1231" y="635"/>
                    </a:lnTo>
                    <a:lnTo>
                      <a:pt x="1272" y="639"/>
                    </a:lnTo>
                    <a:lnTo>
                      <a:pt x="1272" y="648"/>
                    </a:lnTo>
                    <a:lnTo>
                      <a:pt x="1299" y="653"/>
                    </a:lnTo>
                    <a:lnTo>
                      <a:pt x="1326" y="659"/>
                    </a:lnTo>
                    <a:lnTo>
                      <a:pt x="1352" y="646"/>
                    </a:lnTo>
                    <a:lnTo>
                      <a:pt x="1346" y="628"/>
                    </a:lnTo>
                    <a:lnTo>
                      <a:pt x="1374" y="602"/>
                    </a:lnTo>
                    <a:lnTo>
                      <a:pt x="1404" y="609"/>
                    </a:lnTo>
                    <a:lnTo>
                      <a:pt x="1433" y="617"/>
                    </a:lnTo>
                    <a:lnTo>
                      <a:pt x="1437" y="632"/>
                    </a:lnTo>
                    <a:lnTo>
                      <a:pt x="1456" y="649"/>
                    </a:lnTo>
                    <a:lnTo>
                      <a:pt x="1498" y="642"/>
                    </a:lnTo>
                    <a:lnTo>
                      <a:pt x="1522" y="648"/>
                    </a:lnTo>
                    <a:lnTo>
                      <a:pt x="1547" y="655"/>
                    </a:lnTo>
                    <a:lnTo>
                      <a:pt x="1551" y="664"/>
                    </a:lnTo>
                    <a:lnTo>
                      <a:pt x="1587" y="675"/>
                    </a:lnTo>
                    <a:lnTo>
                      <a:pt x="1616" y="671"/>
                    </a:lnTo>
                    <a:lnTo>
                      <a:pt x="1643" y="666"/>
                    </a:lnTo>
                    <a:lnTo>
                      <a:pt x="1681" y="648"/>
                    </a:lnTo>
                    <a:lnTo>
                      <a:pt x="1714" y="656"/>
                    </a:lnTo>
                    <a:lnTo>
                      <a:pt x="1732" y="658"/>
                    </a:lnTo>
                    <a:lnTo>
                      <a:pt x="1760" y="665"/>
                    </a:lnTo>
                    <a:lnTo>
                      <a:pt x="1787" y="648"/>
                    </a:lnTo>
                    <a:lnTo>
                      <a:pt x="1796" y="628"/>
                    </a:lnTo>
                    <a:lnTo>
                      <a:pt x="1822" y="596"/>
                    </a:lnTo>
                    <a:lnTo>
                      <a:pt x="1814" y="586"/>
                    </a:lnTo>
                    <a:lnTo>
                      <a:pt x="1807" y="583"/>
                    </a:lnTo>
                    <a:lnTo>
                      <a:pt x="1836" y="569"/>
                    </a:lnTo>
                    <a:lnTo>
                      <a:pt x="1863" y="567"/>
                    </a:lnTo>
                    <a:lnTo>
                      <a:pt x="1889" y="566"/>
                    </a:lnTo>
                    <a:lnTo>
                      <a:pt x="1930" y="583"/>
                    </a:lnTo>
                    <a:lnTo>
                      <a:pt x="1937" y="602"/>
                    </a:lnTo>
                    <a:lnTo>
                      <a:pt x="1943" y="620"/>
                    </a:lnTo>
                    <a:lnTo>
                      <a:pt x="1950" y="638"/>
                    </a:lnTo>
                    <a:lnTo>
                      <a:pt x="1957" y="656"/>
                    </a:lnTo>
                    <a:lnTo>
                      <a:pt x="1973" y="666"/>
                    </a:lnTo>
                    <a:lnTo>
                      <a:pt x="2005" y="677"/>
                    </a:lnTo>
                    <a:lnTo>
                      <a:pt x="2020" y="685"/>
                    </a:lnTo>
                    <a:lnTo>
                      <a:pt x="2028" y="715"/>
                    </a:lnTo>
                    <a:lnTo>
                      <a:pt x="2062" y="710"/>
                    </a:lnTo>
                    <a:lnTo>
                      <a:pt x="2104" y="700"/>
                    </a:lnTo>
                    <a:lnTo>
                      <a:pt x="2101" y="721"/>
                    </a:lnTo>
                    <a:lnTo>
                      <a:pt x="2084" y="753"/>
                    </a:lnTo>
                    <a:lnTo>
                      <a:pt x="2065" y="785"/>
                    </a:lnTo>
                    <a:lnTo>
                      <a:pt x="2041" y="780"/>
                    </a:lnTo>
                    <a:lnTo>
                      <a:pt x="2028" y="795"/>
                    </a:lnTo>
                    <a:lnTo>
                      <a:pt x="2028" y="818"/>
                    </a:lnTo>
                    <a:lnTo>
                      <a:pt x="2028" y="842"/>
                    </a:lnTo>
                    <a:lnTo>
                      <a:pt x="2015" y="848"/>
                    </a:lnTo>
                    <a:lnTo>
                      <a:pt x="2016" y="855"/>
                    </a:lnTo>
                    <a:lnTo>
                      <a:pt x="2019" y="858"/>
                    </a:lnTo>
                    <a:lnTo>
                      <a:pt x="2020" y="851"/>
                    </a:lnTo>
                    <a:lnTo>
                      <a:pt x="2023" y="851"/>
                    </a:lnTo>
                    <a:lnTo>
                      <a:pt x="2045" y="834"/>
                    </a:lnTo>
                    <a:lnTo>
                      <a:pt x="2054" y="832"/>
                    </a:lnTo>
                    <a:lnTo>
                      <a:pt x="2054" y="844"/>
                    </a:lnTo>
                    <a:lnTo>
                      <a:pt x="2068" y="845"/>
                    </a:lnTo>
                    <a:lnTo>
                      <a:pt x="2100" y="835"/>
                    </a:lnTo>
                    <a:lnTo>
                      <a:pt x="2118" y="818"/>
                    </a:lnTo>
                    <a:lnTo>
                      <a:pt x="2137" y="799"/>
                    </a:lnTo>
                    <a:lnTo>
                      <a:pt x="2157" y="774"/>
                    </a:lnTo>
                    <a:lnTo>
                      <a:pt x="2177" y="749"/>
                    </a:lnTo>
                    <a:lnTo>
                      <a:pt x="2196" y="724"/>
                    </a:lnTo>
                    <a:lnTo>
                      <a:pt x="2215" y="700"/>
                    </a:lnTo>
                    <a:lnTo>
                      <a:pt x="2221" y="677"/>
                    </a:lnTo>
                    <a:lnTo>
                      <a:pt x="2225" y="655"/>
                    </a:lnTo>
                    <a:lnTo>
                      <a:pt x="2223" y="641"/>
                    </a:lnTo>
                    <a:lnTo>
                      <a:pt x="2232" y="623"/>
                    </a:lnTo>
                    <a:lnTo>
                      <a:pt x="2241" y="605"/>
                    </a:lnTo>
                    <a:lnTo>
                      <a:pt x="2239" y="587"/>
                    </a:lnTo>
                    <a:lnTo>
                      <a:pt x="2228" y="573"/>
                    </a:lnTo>
                    <a:lnTo>
                      <a:pt x="2241" y="574"/>
                    </a:lnTo>
                    <a:lnTo>
                      <a:pt x="2211" y="545"/>
                    </a:lnTo>
                    <a:lnTo>
                      <a:pt x="2186" y="543"/>
                    </a:lnTo>
                    <a:lnTo>
                      <a:pt x="2185" y="554"/>
                    </a:lnTo>
                    <a:lnTo>
                      <a:pt x="2159" y="563"/>
                    </a:lnTo>
                    <a:lnTo>
                      <a:pt x="2166" y="554"/>
                    </a:lnTo>
                    <a:lnTo>
                      <a:pt x="2159" y="550"/>
                    </a:lnTo>
                    <a:lnTo>
                      <a:pt x="2151" y="554"/>
                    </a:lnTo>
                    <a:lnTo>
                      <a:pt x="2149" y="537"/>
                    </a:lnTo>
                    <a:lnTo>
                      <a:pt x="2117" y="533"/>
                    </a:lnTo>
                    <a:lnTo>
                      <a:pt x="2146" y="509"/>
                    </a:lnTo>
                    <a:lnTo>
                      <a:pt x="2175" y="486"/>
                    </a:lnTo>
                    <a:lnTo>
                      <a:pt x="2195" y="471"/>
                    </a:lnTo>
                    <a:lnTo>
                      <a:pt x="2216" y="455"/>
                    </a:lnTo>
                    <a:lnTo>
                      <a:pt x="2222" y="443"/>
                    </a:lnTo>
                    <a:lnTo>
                      <a:pt x="2251" y="422"/>
                    </a:lnTo>
                    <a:lnTo>
                      <a:pt x="2280" y="417"/>
                    </a:lnTo>
                    <a:lnTo>
                      <a:pt x="2308" y="413"/>
                    </a:lnTo>
                    <a:lnTo>
                      <a:pt x="2317" y="413"/>
                    </a:lnTo>
                    <a:lnTo>
                      <a:pt x="2321" y="419"/>
                    </a:lnTo>
                    <a:lnTo>
                      <a:pt x="2329" y="414"/>
                    </a:lnTo>
                    <a:lnTo>
                      <a:pt x="2375" y="417"/>
                    </a:lnTo>
                    <a:lnTo>
                      <a:pt x="2379" y="413"/>
                    </a:lnTo>
                    <a:lnTo>
                      <a:pt x="2380" y="407"/>
                    </a:lnTo>
                    <a:lnTo>
                      <a:pt x="2416" y="410"/>
                    </a:lnTo>
                    <a:lnTo>
                      <a:pt x="2440" y="417"/>
                    </a:lnTo>
                    <a:lnTo>
                      <a:pt x="2427" y="420"/>
                    </a:lnTo>
                    <a:lnTo>
                      <a:pt x="2427" y="427"/>
                    </a:lnTo>
                    <a:lnTo>
                      <a:pt x="2450" y="424"/>
                    </a:lnTo>
                    <a:lnTo>
                      <a:pt x="2471" y="419"/>
                    </a:lnTo>
                    <a:lnTo>
                      <a:pt x="2500" y="420"/>
                    </a:lnTo>
                    <a:lnTo>
                      <a:pt x="2499" y="414"/>
                    </a:lnTo>
                    <a:lnTo>
                      <a:pt x="2481" y="413"/>
                    </a:lnTo>
                    <a:lnTo>
                      <a:pt x="2480" y="406"/>
                    </a:lnTo>
                    <a:lnTo>
                      <a:pt x="2504" y="381"/>
                    </a:lnTo>
                    <a:lnTo>
                      <a:pt x="2527" y="357"/>
                    </a:lnTo>
                    <a:lnTo>
                      <a:pt x="2571" y="355"/>
                    </a:lnTo>
                    <a:lnTo>
                      <a:pt x="2584" y="352"/>
                    </a:lnTo>
                    <a:lnTo>
                      <a:pt x="2581" y="376"/>
                    </a:lnTo>
                    <a:lnTo>
                      <a:pt x="2588" y="373"/>
                    </a:lnTo>
                    <a:lnTo>
                      <a:pt x="2589" y="384"/>
                    </a:lnTo>
                    <a:lnTo>
                      <a:pt x="2624" y="360"/>
                    </a:lnTo>
                    <a:lnTo>
                      <a:pt x="2637" y="360"/>
                    </a:lnTo>
                    <a:lnTo>
                      <a:pt x="2637" y="340"/>
                    </a:lnTo>
                    <a:lnTo>
                      <a:pt x="2645" y="335"/>
                    </a:lnTo>
                    <a:lnTo>
                      <a:pt x="2677" y="338"/>
                    </a:lnTo>
                    <a:lnTo>
                      <a:pt x="2677" y="342"/>
                    </a:lnTo>
                    <a:lnTo>
                      <a:pt x="2660" y="341"/>
                    </a:lnTo>
                    <a:lnTo>
                      <a:pt x="2658" y="358"/>
                    </a:lnTo>
                    <a:lnTo>
                      <a:pt x="2656" y="376"/>
                    </a:lnTo>
                    <a:lnTo>
                      <a:pt x="2635" y="384"/>
                    </a:lnTo>
                    <a:lnTo>
                      <a:pt x="2612" y="403"/>
                    </a:lnTo>
                    <a:lnTo>
                      <a:pt x="2588" y="423"/>
                    </a:lnTo>
                    <a:lnTo>
                      <a:pt x="2563" y="448"/>
                    </a:lnTo>
                    <a:lnTo>
                      <a:pt x="2539" y="453"/>
                    </a:lnTo>
                    <a:lnTo>
                      <a:pt x="2540" y="460"/>
                    </a:lnTo>
                    <a:lnTo>
                      <a:pt x="2527" y="478"/>
                    </a:lnTo>
                    <a:lnTo>
                      <a:pt x="2524" y="499"/>
                    </a:lnTo>
                    <a:lnTo>
                      <a:pt x="2522" y="521"/>
                    </a:lnTo>
                    <a:lnTo>
                      <a:pt x="2532" y="548"/>
                    </a:lnTo>
                    <a:lnTo>
                      <a:pt x="2540" y="574"/>
                    </a:lnTo>
                    <a:lnTo>
                      <a:pt x="2550" y="602"/>
                    </a:lnTo>
                    <a:lnTo>
                      <a:pt x="2559" y="629"/>
                    </a:lnTo>
                    <a:lnTo>
                      <a:pt x="2581" y="612"/>
                    </a:lnTo>
                    <a:lnTo>
                      <a:pt x="2592" y="577"/>
                    </a:lnTo>
                    <a:lnTo>
                      <a:pt x="2604" y="571"/>
                    </a:lnTo>
                    <a:lnTo>
                      <a:pt x="2618" y="574"/>
                    </a:lnTo>
                    <a:lnTo>
                      <a:pt x="2617" y="570"/>
                    </a:lnTo>
                    <a:lnTo>
                      <a:pt x="2618" y="544"/>
                    </a:lnTo>
                    <a:lnTo>
                      <a:pt x="2651" y="534"/>
                    </a:lnTo>
                    <a:lnTo>
                      <a:pt x="2644" y="507"/>
                    </a:lnTo>
                    <a:lnTo>
                      <a:pt x="2656" y="492"/>
                    </a:lnTo>
                    <a:lnTo>
                      <a:pt x="2663" y="488"/>
                    </a:lnTo>
                    <a:lnTo>
                      <a:pt x="2657" y="494"/>
                    </a:lnTo>
                    <a:lnTo>
                      <a:pt x="2667" y="498"/>
                    </a:lnTo>
                    <a:lnTo>
                      <a:pt x="2666" y="481"/>
                    </a:lnTo>
                    <a:lnTo>
                      <a:pt x="2657" y="479"/>
                    </a:lnTo>
                    <a:lnTo>
                      <a:pt x="2660" y="453"/>
                    </a:lnTo>
                    <a:lnTo>
                      <a:pt x="2647" y="455"/>
                    </a:lnTo>
                    <a:lnTo>
                      <a:pt x="2635" y="448"/>
                    </a:lnTo>
                    <a:lnTo>
                      <a:pt x="2651" y="420"/>
                    </a:lnTo>
                    <a:lnTo>
                      <a:pt x="2654" y="403"/>
                    </a:lnTo>
                    <a:lnTo>
                      <a:pt x="2673" y="399"/>
                    </a:lnTo>
                    <a:lnTo>
                      <a:pt x="2681" y="404"/>
                    </a:lnTo>
                    <a:lnTo>
                      <a:pt x="2686" y="397"/>
                    </a:lnTo>
                    <a:lnTo>
                      <a:pt x="2705" y="387"/>
                    </a:lnTo>
                    <a:lnTo>
                      <a:pt x="2706" y="403"/>
                    </a:lnTo>
                    <a:lnTo>
                      <a:pt x="2719" y="391"/>
                    </a:lnTo>
                    <a:lnTo>
                      <a:pt x="2761" y="384"/>
                    </a:lnTo>
                    <a:lnTo>
                      <a:pt x="2782" y="399"/>
                    </a:lnTo>
                    <a:lnTo>
                      <a:pt x="2788" y="393"/>
                    </a:lnTo>
                    <a:lnTo>
                      <a:pt x="2815" y="376"/>
                    </a:lnTo>
                    <a:lnTo>
                      <a:pt x="2820" y="373"/>
                    </a:lnTo>
                    <a:lnTo>
                      <a:pt x="2825" y="365"/>
                    </a:lnTo>
                    <a:lnTo>
                      <a:pt x="2831" y="361"/>
                    </a:lnTo>
                    <a:lnTo>
                      <a:pt x="2864" y="350"/>
                    </a:lnTo>
                    <a:lnTo>
                      <a:pt x="2898" y="337"/>
                    </a:lnTo>
                    <a:lnTo>
                      <a:pt x="2890" y="334"/>
                    </a:lnTo>
                    <a:lnTo>
                      <a:pt x="2898" y="332"/>
                    </a:lnTo>
                    <a:lnTo>
                      <a:pt x="2932" y="341"/>
                    </a:lnTo>
                    <a:lnTo>
                      <a:pt x="2938" y="337"/>
                    </a:lnTo>
                    <a:lnTo>
                      <a:pt x="2932" y="325"/>
                    </a:lnTo>
                    <a:lnTo>
                      <a:pt x="2921" y="315"/>
                    </a:lnTo>
                    <a:lnTo>
                      <a:pt x="2913" y="312"/>
                    </a:lnTo>
                    <a:lnTo>
                      <a:pt x="2902" y="292"/>
                    </a:lnTo>
                    <a:lnTo>
                      <a:pt x="2895" y="295"/>
                    </a:lnTo>
                    <a:lnTo>
                      <a:pt x="2885" y="283"/>
                    </a:lnTo>
                    <a:lnTo>
                      <a:pt x="2896" y="285"/>
                    </a:lnTo>
                    <a:lnTo>
                      <a:pt x="2921" y="282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4002120" y="1267920"/>
                <a:ext cx="155520" cy="54720"/>
              </a:xfrm>
              <a:custGeom>
                <a:avLst/>
                <a:gdLst/>
                <a:ahLst/>
                <a:rect l="l" t="t" r="r" b="b"/>
                <a:pathLst>
                  <a:path w="299" h="76">
                    <a:moveTo>
                      <a:pt x="299" y="5"/>
                    </a:moveTo>
                    <a:lnTo>
                      <a:pt x="265" y="15"/>
                    </a:lnTo>
                    <a:lnTo>
                      <a:pt x="202" y="25"/>
                    </a:lnTo>
                    <a:lnTo>
                      <a:pt x="139" y="37"/>
                    </a:lnTo>
                    <a:lnTo>
                      <a:pt x="124" y="38"/>
                    </a:lnTo>
                    <a:lnTo>
                      <a:pt x="126" y="41"/>
                    </a:lnTo>
                    <a:lnTo>
                      <a:pt x="119" y="46"/>
                    </a:lnTo>
                    <a:lnTo>
                      <a:pt x="107" y="47"/>
                    </a:lnTo>
                    <a:lnTo>
                      <a:pt x="103" y="51"/>
                    </a:lnTo>
                    <a:lnTo>
                      <a:pt x="88" y="49"/>
                    </a:lnTo>
                    <a:lnTo>
                      <a:pt x="84" y="57"/>
                    </a:lnTo>
                    <a:lnTo>
                      <a:pt x="72" y="60"/>
                    </a:lnTo>
                    <a:lnTo>
                      <a:pt x="67" y="67"/>
                    </a:lnTo>
                    <a:lnTo>
                      <a:pt x="51" y="63"/>
                    </a:lnTo>
                    <a:lnTo>
                      <a:pt x="64" y="69"/>
                    </a:lnTo>
                    <a:lnTo>
                      <a:pt x="52" y="69"/>
                    </a:lnTo>
                    <a:lnTo>
                      <a:pt x="47" y="76"/>
                    </a:lnTo>
                    <a:lnTo>
                      <a:pt x="5" y="72"/>
                    </a:lnTo>
                    <a:lnTo>
                      <a:pt x="21" y="66"/>
                    </a:lnTo>
                    <a:lnTo>
                      <a:pt x="0" y="66"/>
                    </a:lnTo>
                    <a:lnTo>
                      <a:pt x="34" y="57"/>
                    </a:lnTo>
                    <a:lnTo>
                      <a:pt x="41" y="56"/>
                    </a:lnTo>
                    <a:lnTo>
                      <a:pt x="38" y="53"/>
                    </a:lnTo>
                    <a:lnTo>
                      <a:pt x="48" y="49"/>
                    </a:lnTo>
                    <a:lnTo>
                      <a:pt x="65" y="43"/>
                    </a:lnTo>
                    <a:lnTo>
                      <a:pt x="61" y="41"/>
                    </a:lnTo>
                    <a:lnTo>
                      <a:pt x="68" y="38"/>
                    </a:lnTo>
                    <a:lnTo>
                      <a:pt x="58" y="37"/>
                    </a:lnTo>
                    <a:lnTo>
                      <a:pt x="78" y="33"/>
                    </a:lnTo>
                    <a:lnTo>
                      <a:pt x="95" y="30"/>
                    </a:lnTo>
                    <a:lnTo>
                      <a:pt x="152" y="18"/>
                    </a:lnTo>
                    <a:lnTo>
                      <a:pt x="165" y="14"/>
                    </a:lnTo>
                    <a:lnTo>
                      <a:pt x="248" y="7"/>
                    </a:lnTo>
                    <a:lnTo>
                      <a:pt x="288" y="0"/>
                    </a:lnTo>
                    <a:lnTo>
                      <a:pt x="299" y="5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4770360" y="1640160"/>
                <a:ext cx="36000" cy="153360"/>
              </a:xfrm>
              <a:custGeom>
                <a:avLst/>
                <a:gdLst/>
                <a:ahLst/>
                <a:rect l="l" t="t" r="r" b="b"/>
                <a:pathLst>
                  <a:path w="68" h="219">
                    <a:moveTo>
                      <a:pt x="68" y="149"/>
                    </a:moveTo>
                    <a:lnTo>
                      <a:pt x="59" y="126"/>
                    </a:lnTo>
                    <a:lnTo>
                      <a:pt x="49" y="105"/>
                    </a:lnTo>
                    <a:lnTo>
                      <a:pt x="39" y="82"/>
                    </a:lnTo>
                    <a:lnTo>
                      <a:pt x="30" y="59"/>
                    </a:lnTo>
                    <a:lnTo>
                      <a:pt x="32" y="50"/>
                    </a:lnTo>
                    <a:lnTo>
                      <a:pt x="24" y="26"/>
                    </a:lnTo>
                    <a:lnTo>
                      <a:pt x="19" y="0"/>
                    </a:lnTo>
                    <a:lnTo>
                      <a:pt x="10" y="3"/>
                    </a:lnTo>
                    <a:lnTo>
                      <a:pt x="19" y="18"/>
                    </a:lnTo>
                    <a:lnTo>
                      <a:pt x="10" y="27"/>
                    </a:lnTo>
                    <a:lnTo>
                      <a:pt x="0" y="27"/>
                    </a:lnTo>
                    <a:lnTo>
                      <a:pt x="3" y="50"/>
                    </a:lnTo>
                    <a:lnTo>
                      <a:pt x="6" y="73"/>
                    </a:lnTo>
                    <a:lnTo>
                      <a:pt x="10" y="95"/>
                    </a:lnTo>
                    <a:lnTo>
                      <a:pt x="9" y="121"/>
                    </a:lnTo>
                    <a:lnTo>
                      <a:pt x="7" y="147"/>
                    </a:lnTo>
                    <a:lnTo>
                      <a:pt x="10" y="170"/>
                    </a:lnTo>
                    <a:lnTo>
                      <a:pt x="13" y="191"/>
                    </a:lnTo>
                    <a:lnTo>
                      <a:pt x="11" y="219"/>
                    </a:lnTo>
                    <a:lnTo>
                      <a:pt x="17" y="219"/>
                    </a:lnTo>
                    <a:lnTo>
                      <a:pt x="27" y="200"/>
                    </a:lnTo>
                    <a:lnTo>
                      <a:pt x="42" y="210"/>
                    </a:lnTo>
                    <a:lnTo>
                      <a:pt x="43" y="219"/>
                    </a:lnTo>
                    <a:lnTo>
                      <a:pt x="40" y="198"/>
                    </a:lnTo>
                    <a:lnTo>
                      <a:pt x="22" y="167"/>
                    </a:lnTo>
                    <a:lnTo>
                      <a:pt x="36" y="134"/>
                    </a:lnTo>
                    <a:lnTo>
                      <a:pt x="45" y="132"/>
                    </a:lnTo>
                    <a:lnTo>
                      <a:pt x="63" y="142"/>
                    </a:lnTo>
                    <a:lnTo>
                      <a:pt x="68" y="149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3964680" y="1323000"/>
                <a:ext cx="56520" cy="39960"/>
              </a:xfrm>
              <a:custGeom>
                <a:avLst/>
                <a:gdLst/>
                <a:ahLst/>
                <a:rect l="l" t="t" r="r" b="b"/>
                <a:pathLst>
                  <a:path w="108" h="58">
                    <a:moveTo>
                      <a:pt x="86" y="56"/>
                    </a:moveTo>
                    <a:lnTo>
                      <a:pt x="68" y="37"/>
                    </a:lnTo>
                    <a:lnTo>
                      <a:pt x="83" y="14"/>
                    </a:lnTo>
                    <a:lnTo>
                      <a:pt x="88" y="11"/>
                    </a:lnTo>
                    <a:lnTo>
                      <a:pt x="96" y="9"/>
                    </a:lnTo>
                    <a:lnTo>
                      <a:pt x="108" y="1"/>
                    </a:lnTo>
                    <a:lnTo>
                      <a:pt x="65" y="0"/>
                    </a:lnTo>
                    <a:lnTo>
                      <a:pt x="49" y="7"/>
                    </a:lnTo>
                    <a:lnTo>
                      <a:pt x="34" y="14"/>
                    </a:lnTo>
                    <a:lnTo>
                      <a:pt x="36" y="17"/>
                    </a:lnTo>
                    <a:lnTo>
                      <a:pt x="16" y="27"/>
                    </a:lnTo>
                    <a:lnTo>
                      <a:pt x="3" y="30"/>
                    </a:lnTo>
                    <a:lnTo>
                      <a:pt x="0" y="40"/>
                    </a:lnTo>
                    <a:lnTo>
                      <a:pt x="16" y="40"/>
                    </a:lnTo>
                    <a:lnTo>
                      <a:pt x="24" y="40"/>
                    </a:lnTo>
                    <a:lnTo>
                      <a:pt x="32" y="42"/>
                    </a:lnTo>
                    <a:lnTo>
                      <a:pt x="29" y="49"/>
                    </a:lnTo>
                    <a:lnTo>
                      <a:pt x="23" y="52"/>
                    </a:lnTo>
                    <a:lnTo>
                      <a:pt x="34" y="55"/>
                    </a:lnTo>
                    <a:lnTo>
                      <a:pt x="46" y="56"/>
                    </a:lnTo>
                    <a:lnTo>
                      <a:pt x="62" y="58"/>
                    </a:lnTo>
                    <a:lnTo>
                      <a:pt x="76" y="58"/>
                    </a:lnTo>
                    <a:lnTo>
                      <a:pt x="86" y="5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4715640" y="1278720"/>
                <a:ext cx="70560" cy="23400"/>
              </a:xfrm>
              <a:custGeom>
                <a:avLst/>
                <a:gdLst/>
                <a:ahLst/>
                <a:rect l="l" t="t" r="r" b="b"/>
                <a:pathLst>
                  <a:path w="135" h="32">
                    <a:moveTo>
                      <a:pt x="135" y="13"/>
                    </a:moveTo>
                    <a:lnTo>
                      <a:pt x="69" y="0"/>
                    </a:lnTo>
                    <a:lnTo>
                      <a:pt x="73" y="3"/>
                    </a:lnTo>
                    <a:lnTo>
                      <a:pt x="63" y="3"/>
                    </a:lnTo>
                    <a:lnTo>
                      <a:pt x="62" y="9"/>
                    </a:lnTo>
                    <a:lnTo>
                      <a:pt x="33" y="2"/>
                    </a:lnTo>
                    <a:lnTo>
                      <a:pt x="7" y="6"/>
                    </a:lnTo>
                    <a:lnTo>
                      <a:pt x="4" y="8"/>
                    </a:lnTo>
                    <a:lnTo>
                      <a:pt x="4" y="13"/>
                    </a:lnTo>
                    <a:lnTo>
                      <a:pt x="0" y="18"/>
                    </a:lnTo>
                    <a:lnTo>
                      <a:pt x="34" y="32"/>
                    </a:lnTo>
                    <a:lnTo>
                      <a:pt x="44" y="26"/>
                    </a:lnTo>
                    <a:lnTo>
                      <a:pt x="88" y="25"/>
                    </a:lnTo>
                    <a:lnTo>
                      <a:pt x="109" y="25"/>
                    </a:lnTo>
                    <a:lnTo>
                      <a:pt x="104" y="22"/>
                    </a:lnTo>
                    <a:lnTo>
                      <a:pt x="125" y="19"/>
                    </a:lnTo>
                    <a:lnTo>
                      <a:pt x="135" y="13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4373280" y="1224000"/>
                <a:ext cx="53280" cy="18360"/>
              </a:xfrm>
              <a:custGeom>
                <a:avLst/>
                <a:gdLst/>
                <a:ahLst/>
                <a:rect l="l" t="t" r="r" b="b"/>
                <a:pathLst>
                  <a:path w="101" h="26">
                    <a:moveTo>
                      <a:pt x="101" y="7"/>
                    </a:moveTo>
                    <a:lnTo>
                      <a:pt x="81" y="3"/>
                    </a:lnTo>
                    <a:lnTo>
                      <a:pt x="64" y="7"/>
                    </a:lnTo>
                    <a:lnTo>
                      <a:pt x="67" y="0"/>
                    </a:lnTo>
                    <a:lnTo>
                      <a:pt x="16" y="5"/>
                    </a:lnTo>
                    <a:lnTo>
                      <a:pt x="0" y="13"/>
                    </a:lnTo>
                    <a:lnTo>
                      <a:pt x="13" y="13"/>
                    </a:lnTo>
                    <a:lnTo>
                      <a:pt x="19" y="22"/>
                    </a:lnTo>
                    <a:lnTo>
                      <a:pt x="85" y="26"/>
                    </a:lnTo>
                    <a:lnTo>
                      <a:pt x="88" y="19"/>
                    </a:lnTo>
                    <a:lnTo>
                      <a:pt x="101" y="7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4365360" y="1211040"/>
                <a:ext cx="48240" cy="12600"/>
              </a:xfrm>
              <a:custGeom>
                <a:avLst/>
                <a:gdLst/>
                <a:ahLst/>
                <a:rect l="l" t="t" r="r" b="b"/>
                <a:pathLst>
                  <a:path w="95" h="17">
                    <a:moveTo>
                      <a:pt x="95" y="9"/>
                    </a:moveTo>
                    <a:lnTo>
                      <a:pt x="74" y="0"/>
                    </a:lnTo>
                    <a:lnTo>
                      <a:pt x="20" y="6"/>
                    </a:lnTo>
                    <a:lnTo>
                      <a:pt x="28" y="7"/>
                    </a:lnTo>
                    <a:lnTo>
                      <a:pt x="17" y="11"/>
                    </a:lnTo>
                    <a:lnTo>
                      <a:pt x="0" y="14"/>
                    </a:lnTo>
                    <a:lnTo>
                      <a:pt x="22" y="14"/>
                    </a:lnTo>
                    <a:lnTo>
                      <a:pt x="12" y="17"/>
                    </a:lnTo>
                    <a:lnTo>
                      <a:pt x="79" y="16"/>
                    </a:lnTo>
                    <a:lnTo>
                      <a:pt x="79" y="11"/>
                    </a:lnTo>
                    <a:lnTo>
                      <a:pt x="95" y="9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4415760" y="1234440"/>
                <a:ext cx="48600" cy="19080"/>
              </a:xfrm>
              <a:custGeom>
                <a:avLst/>
                <a:gdLst/>
                <a:ahLst/>
                <a:rect l="l" t="t" r="r" b="b"/>
                <a:pathLst>
                  <a:path w="92" h="28">
                    <a:moveTo>
                      <a:pt x="92" y="15"/>
                    </a:moveTo>
                    <a:lnTo>
                      <a:pt x="70" y="4"/>
                    </a:lnTo>
                    <a:lnTo>
                      <a:pt x="49" y="11"/>
                    </a:lnTo>
                    <a:lnTo>
                      <a:pt x="60" y="0"/>
                    </a:lnTo>
                    <a:lnTo>
                      <a:pt x="50" y="0"/>
                    </a:lnTo>
                    <a:lnTo>
                      <a:pt x="50" y="2"/>
                    </a:lnTo>
                    <a:lnTo>
                      <a:pt x="31" y="4"/>
                    </a:lnTo>
                    <a:lnTo>
                      <a:pt x="30" y="7"/>
                    </a:lnTo>
                    <a:lnTo>
                      <a:pt x="28" y="13"/>
                    </a:lnTo>
                    <a:lnTo>
                      <a:pt x="14" y="17"/>
                    </a:lnTo>
                    <a:lnTo>
                      <a:pt x="0" y="28"/>
                    </a:lnTo>
                    <a:lnTo>
                      <a:pt x="90" y="18"/>
                    </a:lnTo>
                    <a:lnTo>
                      <a:pt x="92" y="15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4792680" y="1287000"/>
                <a:ext cx="40680" cy="12600"/>
              </a:xfrm>
              <a:custGeom>
                <a:avLst/>
                <a:gdLst/>
                <a:ahLst/>
                <a:rect l="l" t="t" r="r" b="b"/>
                <a:pathLst>
                  <a:path w="78" h="17">
                    <a:moveTo>
                      <a:pt x="78" y="9"/>
                    </a:moveTo>
                    <a:lnTo>
                      <a:pt x="18" y="3"/>
                    </a:lnTo>
                    <a:lnTo>
                      <a:pt x="4" y="0"/>
                    </a:lnTo>
                    <a:lnTo>
                      <a:pt x="0" y="7"/>
                    </a:lnTo>
                    <a:lnTo>
                      <a:pt x="59" y="17"/>
                    </a:lnTo>
                    <a:lnTo>
                      <a:pt x="78" y="9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087880" y="1350360"/>
                <a:ext cx="26640" cy="10440"/>
              </a:xfrm>
              <a:custGeom>
                <a:avLst/>
                <a:gdLst/>
                <a:ahLst/>
                <a:rect l="l" t="t" r="r" b="b"/>
                <a:pathLst>
                  <a:path w="53" h="16">
                    <a:moveTo>
                      <a:pt x="16" y="0"/>
                    </a:moveTo>
                    <a:lnTo>
                      <a:pt x="52" y="6"/>
                    </a:lnTo>
                    <a:lnTo>
                      <a:pt x="53" y="8"/>
                    </a:lnTo>
                    <a:lnTo>
                      <a:pt x="17" y="13"/>
                    </a:lnTo>
                    <a:lnTo>
                      <a:pt x="3" y="16"/>
                    </a:lnTo>
                    <a:lnTo>
                      <a:pt x="0" y="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4739040" y="1312560"/>
                <a:ext cx="33120" cy="10440"/>
              </a:xfrm>
              <a:custGeom>
                <a:avLst/>
                <a:gdLst/>
                <a:ahLst/>
                <a:rect l="l" t="t" r="r" b="b"/>
                <a:pathLst>
                  <a:path w="63" h="14">
                    <a:moveTo>
                      <a:pt x="63" y="14"/>
                    </a:moveTo>
                    <a:lnTo>
                      <a:pt x="0" y="10"/>
                    </a:lnTo>
                    <a:lnTo>
                      <a:pt x="37" y="0"/>
                    </a:lnTo>
                    <a:lnTo>
                      <a:pt x="62" y="10"/>
                    </a:lnTo>
                    <a:lnTo>
                      <a:pt x="63" y="1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4016520" y="1215360"/>
                <a:ext cx="42120" cy="10440"/>
              </a:xfrm>
              <a:custGeom>
                <a:avLst/>
                <a:gdLst/>
                <a:ahLst/>
                <a:rect l="l" t="t" r="r" b="b"/>
                <a:pathLst>
                  <a:path w="82" h="13">
                    <a:moveTo>
                      <a:pt x="82" y="3"/>
                    </a:moveTo>
                    <a:lnTo>
                      <a:pt x="27" y="8"/>
                    </a:lnTo>
                    <a:lnTo>
                      <a:pt x="8" y="13"/>
                    </a:lnTo>
                    <a:lnTo>
                      <a:pt x="0" y="11"/>
                    </a:lnTo>
                    <a:lnTo>
                      <a:pt x="19" y="8"/>
                    </a:lnTo>
                    <a:lnTo>
                      <a:pt x="52" y="3"/>
                    </a:lnTo>
                    <a:lnTo>
                      <a:pt x="75" y="0"/>
                    </a:lnTo>
                    <a:lnTo>
                      <a:pt x="82" y="3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494880" y="1631520"/>
                <a:ext cx="26640" cy="10440"/>
              </a:xfrm>
              <a:custGeom>
                <a:avLst/>
                <a:gdLst/>
                <a:ahLst/>
                <a:rect l="l" t="t" r="r" b="b"/>
                <a:pathLst>
                  <a:path w="49" h="16">
                    <a:moveTo>
                      <a:pt x="23" y="0"/>
                    </a:moveTo>
                    <a:lnTo>
                      <a:pt x="17" y="4"/>
                    </a:lnTo>
                    <a:lnTo>
                      <a:pt x="7" y="4"/>
                    </a:lnTo>
                    <a:lnTo>
                      <a:pt x="5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4" y="8"/>
                    </a:lnTo>
                    <a:lnTo>
                      <a:pt x="0" y="13"/>
                    </a:lnTo>
                    <a:lnTo>
                      <a:pt x="8" y="13"/>
                    </a:lnTo>
                    <a:lnTo>
                      <a:pt x="40" y="16"/>
                    </a:lnTo>
                    <a:lnTo>
                      <a:pt x="49" y="6"/>
                    </a:lnTo>
                    <a:lnTo>
                      <a:pt x="33" y="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911040" y="1379880"/>
                <a:ext cx="18720" cy="1476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38" y="9"/>
                    </a:moveTo>
                    <a:lnTo>
                      <a:pt x="0" y="19"/>
                    </a:lnTo>
                    <a:lnTo>
                      <a:pt x="4" y="6"/>
                    </a:lnTo>
                    <a:lnTo>
                      <a:pt x="19" y="0"/>
                    </a:lnTo>
                    <a:lnTo>
                      <a:pt x="38" y="9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4013280" y="1367640"/>
                <a:ext cx="15480" cy="7920"/>
              </a:xfrm>
              <a:custGeom>
                <a:avLst/>
                <a:gdLst/>
                <a:ahLst/>
                <a:rect l="l" t="t" r="r" b="b"/>
                <a:pathLst>
                  <a:path w="29" h="13">
                    <a:moveTo>
                      <a:pt x="29" y="13"/>
                    </a:moveTo>
                    <a:lnTo>
                      <a:pt x="7" y="0"/>
                    </a:lnTo>
                    <a:lnTo>
                      <a:pt x="0" y="3"/>
                    </a:lnTo>
                    <a:lnTo>
                      <a:pt x="13" y="13"/>
                    </a:lnTo>
                    <a:lnTo>
                      <a:pt x="29" y="13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4115520" y="1217880"/>
                <a:ext cx="24840" cy="360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0"/>
                    </a:moveTo>
                    <a:lnTo>
                      <a:pt x="0" y="3"/>
                    </a:lnTo>
                    <a:lnTo>
                      <a:pt x="17" y="6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4143600" y="1213560"/>
                <a:ext cx="21960" cy="3960"/>
              </a:xfrm>
              <a:custGeom>
                <a:avLst/>
                <a:gdLst/>
                <a:ahLst/>
                <a:rect l="l" t="t" r="r" b="b"/>
                <a:pathLst>
                  <a:path w="44" h="6">
                    <a:moveTo>
                      <a:pt x="44" y="5"/>
                    </a:moveTo>
                    <a:lnTo>
                      <a:pt x="0" y="6"/>
                    </a:lnTo>
                    <a:lnTo>
                      <a:pt x="44" y="0"/>
                    </a:lnTo>
                    <a:lnTo>
                      <a:pt x="44" y="5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4833720" y="1804320"/>
                <a:ext cx="20160" cy="19080"/>
              </a:xfrm>
              <a:custGeom>
                <a:avLst/>
                <a:gdLst/>
                <a:ahLst/>
                <a:rect l="l" t="t" r="r" b="b"/>
                <a:pathLst>
                  <a:path w="39" h="29">
                    <a:moveTo>
                      <a:pt x="39" y="0"/>
                    </a:moveTo>
                    <a:lnTo>
                      <a:pt x="16" y="9"/>
                    </a:lnTo>
                    <a:lnTo>
                      <a:pt x="0" y="29"/>
                    </a:lnTo>
                    <a:lnTo>
                      <a:pt x="16" y="17"/>
                    </a:lnTo>
                    <a:lnTo>
                      <a:pt x="33" y="4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3551040" y="1565640"/>
                <a:ext cx="15840" cy="8280"/>
              </a:xfrm>
              <a:custGeom>
                <a:avLst/>
                <a:gdLst/>
                <a:ahLst/>
                <a:rect l="l" t="t" r="r" b="b"/>
                <a:pathLst>
                  <a:path w="30" h="12">
                    <a:moveTo>
                      <a:pt x="30" y="1"/>
                    </a:moveTo>
                    <a:lnTo>
                      <a:pt x="0" y="12"/>
                    </a:lnTo>
                    <a:lnTo>
                      <a:pt x="5" y="3"/>
                    </a:lnTo>
                    <a:lnTo>
                      <a:pt x="27" y="0"/>
                    </a:lnTo>
                    <a:lnTo>
                      <a:pt x="30" y="1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4137480" y="1318680"/>
                <a:ext cx="15480" cy="6120"/>
              </a:xfrm>
              <a:custGeom>
                <a:avLst/>
                <a:gdLst/>
                <a:ahLst/>
                <a:rect l="l" t="t" r="r" b="b"/>
                <a:pathLst>
                  <a:path w="30" h="8">
                    <a:moveTo>
                      <a:pt x="30" y="7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22" y="4"/>
                    </a:lnTo>
                    <a:lnTo>
                      <a:pt x="30" y="7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4995360" y="1375560"/>
                <a:ext cx="14040" cy="3960"/>
              </a:xfrm>
              <a:custGeom>
                <a:avLst/>
                <a:gdLst/>
                <a:ahLst/>
                <a:rect l="l" t="t" r="r" b="b"/>
                <a:pathLst>
                  <a:path w="29" h="7">
                    <a:moveTo>
                      <a:pt x="29" y="3"/>
                    </a:moveTo>
                    <a:lnTo>
                      <a:pt x="20" y="7"/>
                    </a:lnTo>
                    <a:lnTo>
                      <a:pt x="0" y="1"/>
                    </a:lnTo>
                    <a:lnTo>
                      <a:pt x="27" y="0"/>
                    </a:lnTo>
                    <a:lnTo>
                      <a:pt x="29" y="3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4988880" y="1553400"/>
                <a:ext cx="9360" cy="1224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20" y="6"/>
                    </a:moveTo>
                    <a:lnTo>
                      <a:pt x="0" y="18"/>
                    </a:lnTo>
                    <a:lnTo>
                      <a:pt x="2" y="9"/>
                    </a:lnTo>
                    <a:lnTo>
                      <a:pt x="16" y="0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4500360" y="1303920"/>
                <a:ext cx="15480" cy="3960"/>
              </a:xfrm>
              <a:custGeom>
                <a:avLst/>
                <a:gdLst/>
                <a:ahLst/>
                <a:rect l="l" t="t" r="r" b="b"/>
                <a:pathLst>
                  <a:path w="30" h="5">
                    <a:moveTo>
                      <a:pt x="30" y="0"/>
                    </a:moveTo>
                    <a:lnTo>
                      <a:pt x="0" y="2"/>
                    </a:lnTo>
                    <a:lnTo>
                      <a:pt x="26" y="5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4011840" y="1217880"/>
                <a:ext cx="23400" cy="1800"/>
              </a:xfrm>
              <a:custGeom>
                <a:avLst/>
                <a:gdLst/>
                <a:ahLst/>
                <a:rect l="l" t="t" r="r" b="b"/>
                <a:pathLst>
                  <a:path w="47" h="2">
                    <a:moveTo>
                      <a:pt x="47" y="1"/>
                    </a:moveTo>
                    <a:lnTo>
                      <a:pt x="0" y="2"/>
                    </a:lnTo>
                    <a:lnTo>
                      <a:pt x="16" y="0"/>
                    </a:lnTo>
                    <a:lnTo>
                      <a:pt x="47" y="1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4098240" y="122148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31" h="3">
                    <a:moveTo>
                      <a:pt x="31" y="0"/>
                    </a:moveTo>
                    <a:lnTo>
                      <a:pt x="0" y="0"/>
                    </a:lnTo>
                    <a:lnTo>
                      <a:pt x="10" y="3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4742280" y="1308240"/>
                <a:ext cx="9360" cy="396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16" y="0"/>
                    </a:moveTo>
                    <a:lnTo>
                      <a:pt x="0" y="1"/>
                    </a:lnTo>
                    <a:lnTo>
                      <a:pt x="5" y="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4919760" y="1707480"/>
                <a:ext cx="7560" cy="1044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17" y="3"/>
                    </a:moveTo>
                    <a:lnTo>
                      <a:pt x="0" y="16"/>
                    </a:lnTo>
                    <a:lnTo>
                      <a:pt x="11" y="0"/>
                    </a:lnTo>
                    <a:lnTo>
                      <a:pt x="17" y="3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4194000" y="1333440"/>
                <a:ext cx="12240" cy="3960"/>
              </a:xfrm>
              <a:custGeom>
                <a:avLst/>
                <a:gdLst/>
                <a:ahLst/>
                <a:rect l="l" t="t" r="r" b="b"/>
                <a:pathLst>
                  <a:path w="25" h="6">
                    <a:moveTo>
                      <a:pt x="25" y="0"/>
                    </a:moveTo>
                    <a:lnTo>
                      <a:pt x="0" y="6"/>
                    </a:lnTo>
                    <a:lnTo>
                      <a:pt x="5" y="2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4819320" y="1823400"/>
                <a:ext cx="9360" cy="1260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20" y="0"/>
                    </a:moveTo>
                    <a:lnTo>
                      <a:pt x="0" y="18"/>
                    </a:lnTo>
                    <a:lnTo>
                      <a:pt x="7" y="5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4704480" y="1282680"/>
                <a:ext cx="4320" cy="828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8" y="6"/>
                    </a:moveTo>
                    <a:lnTo>
                      <a:pt x="0" y="0"/>
                    </a:lnTo>
                    <a:lnTo>
                      <a:pt x="3" y="10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5020560" y="1622880"/>
                <a:ext cx="10440" cy="1260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19" y="18"/>
                    </a:moveTo>
                    <a:lnTo>
                      <a:pt x="0" y="0"/>
                    </a:lnTo>
                    <a:lnTo>
                      <a:pt x="17" y="13"/>
                    </a:lnTo>
                    <a:lnTo>
                      <a:pt x="19" y="18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559320" y="1557720"/>
                <a:ext cx="9000" cy="1800"/>
              </a:xfrm>
              <a:custGeom>
                <a:avLst/>
                <a:gdLst/>
                <a:ahLst/>
                <a:rect l="l" t="t" r="r" b="b"/>
                <a:pathLst>
                  <a:path w="18" h="3">
                    <a:moveTo>
                      <a:pt x="18" y="3"/>
                    </a:moveTo>
                    <a:lnTo>
                      <a:pt x="0" y="3"/>
                    </a:lnTo>
                    <a:lnTo>
                      <a:pt x="8" y="0"/>
                    </a:lnTo>
                    <a:lnTo>
                      <a:pt x="18" y="3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3429000" y="1388520"/>
                <a:ext cx="243000" cy="234000"/>
              </a:xfrm>
              <a:custGeom>
                <a:avLst/>
                <a:gdLst/>
                <a:ahLst/>
                <a:rect l="l" t="t" r="r" b="b"/>
                <a:pathLst>
                  <a:path w="466" h="332">
                    <a:moveTo>
                      <a:pt x="348" y="110"/>
                    </a:moveTo>
                    <a:lnTo>
                      <a:pt x="308" y="128"/>
                    </a:lnTo>
                    <a:lnTo>
                      <a:pt x="282" y="138"/>
                    </a:lnTo>
                    <a:lnTo>
                      <a:pt x="268" y="144"/>
                    </a:lnTo>
                    <a:lnTo>
                      <a:pt x="255" y="145"/>
                    </a:lnTo>
                    <a:lnTo>
                      <a:pt x="242" y="155"/>
                    </a:lnTo>
                    <a:lnTo>
                      <a:pt x="233" y="159"/>
                    </a:lnTo>
                    <a:lnTo>
                      <a:pt x="217" y="174"/>
                    </a:lnTo>
                    <a:lnTo>
                      <a:pt x="196" y="200"/>
                    </a:lnTo>
                    <a:lnTo>
                      <a:pt x="206" y="210"/>
                    </a:lnTo>
                    <a:lnTo>
                      <a:pt x="206" y="221"/>
                    </a:lnTo>
                    <a:lnTo>
                      <a:pt x="177" y="231"/>
                    </a:lnTo>
                    <a:lnTo>
                      <a:pt x="177" y="224"/>
                    </a:lnTo>
                    <a:lnTo>
                      <a:pt x="174" y="227"/>
                    </a:lnTo>
                    <a:lnTo>
                      <a:pt x="147" y="230"/>
                    </a:lnTo>
                    <a:lnTo>
                      <a:pt x="189" y="233"/>
                    </a:lnTo>
                    <a:lnTo>
                      <a:pt x="167" y="243"/>
                    </a:lnTo>
                    <a:lnTo>
                      <a:pt x="167" y="239"/>
                    </a:lnTo>
                    <a:lnTo>
                      <a:pt x="144" y="250"/>
                    </a:lnTo>
                    <a:lnTo>
                      <a:pt x="135" y="250"/>
                    </a:lnTo>
                    <a:lnTo>
                      <a:pt x="137" y="256"/>
                    </a:lnTo>
                    <a:lnTo>
                      <a:pt x="135" y="256"/>
                    </a:lnTo>
                    <a:lnTo>
                      <a:pt x="124" y="266"/>
                    </a:lnTo>
                    <a:lnTo>
                      <a:pt x="122" y="273"/>
                    </a:lnTo>
                    <a:lnTo>
                      <a:pt x="121" y="272"/>
                    </a:lnTo>
                    <a:lnTo>
                      <a:pt x="98" y="292"/>
                    </a:lnTo>
                    <a:lnTo>
                      <a:pt x="76" y="312"/>
                    </a:lnTo>
                    <a:lnTo>
                      <a:pt x="37" y="318"/>
                    </a:lnTo>
                    <a:lnTo>
                      <a:pt x="21" y="332"/>
                    </a:lnTo>
                    <a:lnTo>
                      <a:pt x="0" y="331"/>
                    </a:lnTo>
                    <a:lnTo>
                      <a:pt x="11" y="311"/>
                    </a:lnTo>
                    <a:lnTo>
                      <a:pt x="21" y="295"/>
                    </a:lnTo>
                    <a:lnTo>
                      <a:pt x="29" y="267"/>
                    </a:lnTo>
                    <a:lnTo>
                      <a:pt x="37" y="260"/>
                    </a:lnTo>
                    <a:lnTo>
                      <a:pt x="33" y="259"/>
                    </a:lnTo>
                    <a:lnTo>
                      <a:pt x="32" y="259"/>
                    </a:lnTo>
                    <a:lnTo>
                      <a:pt x="39" y="244"/>
                    </a:lnTo>
                    <a:lnTo>
                      <a:pt x="46" y="241"/>
                    </a:lnTo>
                    <a:lnTo>
                      <a:pt x="79" y="218"/>
                    </a:lnTo>
                    <a:lnTo>
                      <a:pt x="104" y="197"/>
                    </a:lnTo>
                    <a:lnTo>
                      <a:pt x="111" y="190"/>
                    </a:lnTo>
                    <a:lnTo>
                      <a:pt x="127" y="182"/>
                    </a:lnTo>
                    <a:lnTo>
                      <a:pt x="121" y="174"/>
                    </a:lnTo>
                    <a:lnTo>
                      <a:pt x="144" y="151"/>
                    </a:lnTo>
                    <a:lnTo>
                      <a:pt x="168" y="126"/>
                    </a:lnTo>
                    <a:lnTo>
                      <a:pt x="196" y="116"/>
                    </a:lnTo>
                    <a:lnTo>
                      <a:pt x="213" y="115"/>
                    </a:lnTo>
                    <a:lnTo>
                      <a:pt x="214" y="105"/>
                    </a:lnTo>
                    <a:lnTo>
                      <a:pt x="261" y="74"/>
                    </a:lnTo>
                    <a:lnTo>
                      <a:pt x="265" y="67"/>
                    </a:lnTo>
                    <a:lnTo>
                      <a:pt x="286" y="64"/>
                    </a:lnTo>
                    <a:lnTo>
                      <a:pt x="310" y="50"/>
                    </a:lnTo>
                    <a:lnTo>
                      <a:pt x="347" y="27"/>
                    </a:lnTo>
                    <a:lnTo>
                      <a:pt x="377" y="21"/>
                    </a:lnTo>
                    <a:lnTo>
                      <a:pt x="389" y="12"/>
                    </a:lnTo>
                    <a:lnTo>
                      <a:pt x="419" y="12"/>
                    </a:lnTo>
                    <a:lnTo>
                      <a:pt x="432" y="0"/>
                    </a:lnTo>
                    <a:lnTo>
                      <a:pt x="441" y="0"/>
                    </a:lnTo>
                    <a:lnTo>
                      <a:pt x="466" y="21"/>
                    </a:lnTo>
                    <a:lnTo>
                      <a:pt x="449" y="53"/>
                    </a:lnTo>
                    <a:lnTo>
                      <a:pt x="432" y="76"/>
                    </a:lnTo>
                    <a:lnTo>
                      <a:pt x="407" y="74"/>
                    </a:lnTo>
                    <a:lnTo>
                      <a:pt x="397" y="77"/>
                    </a:lnTo>
                    <a:lnTo>
                      <a:pt x="392" y="82"/>
                    </a:lnTo>
                    <a:lnTo>
                      <a:pt x="389" y="80"/>
                    </a:lnTo>
                    <a:lnTo>
                      <a:pt x="371" y="87"/>
                    </a:lnTo>
                    <a:lnTo>
                      <a:pt x="354" y="99"/>
                    </a:lnTo>
                    <a:lnTo>
                      <a:pt x="348" y="11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3502800" y="1578600"/>
                <a:ext cx="12240" cy="14040"/>
              </a:xfrm>
              <a:custGeom>
                <a:avLst/>
                <a:gdLst/>
                <a:ahLst/>
                <a:rect l="l" t="t" r="r" b="b"/>
                <a:pathLst>
                  <a:path w="24" h="22">
                    <a:moveTo>
                      <a:pt x="24" y="0"/>
                    </a:moveTo>
                    <a:lnTo>
                      <a:pt x="20" y="6"/>
                    </a:lnTo>
                    <a:lnTo>
                      <a:pt x="4" y="18"/>
                    </a:lnTo>
                    <a:lnTo>
                      <a:pt x="0" y="22"/>
                    </a:lnTo>
                    <a:lnTo>
                      <a:pt x="4" y="1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3571920" y="1373760"/>
                <a:ext cx="172800" cy="168840"/>
              </a:xfrm>
              <a:custGeom>
                <a:avLst/>
                <a:gdLst/>
                <a:ahLst/>
                <a:rect l="l" t="t" r="r" b="b"/>
                <a:pathLst>
                  <a:path w="328" h="240">
                    <a:moveTo>
                      <a:pt x="237" y="130"/>
                    </a:moveTo>
                    <a:lnTo>
                      <a:pt x="239" y="121"/>
                    </a:lnTo>
                    <a:lnTo>
                      <a:pt x="260" y="101"/>
                    </a:lnTo>
                    <a:lnTo>
                      <a:pt x="267" y="73"/>
                    </a:lnTo>
                    <a:lnTo>
                      <a:pt x="299" y="56"/>
                    </a:lnTo>
                    <a:lnTo>
                      <a:pt x="289" y="42"/>
                    </a:lnTo>
                    <a:lnTo>
                      <a:pt x="305" y="27"/>
                    </a:lnTo>
                    <a:lnTo>
                      <a:pt x="311" y="22"/>
                    </a:lnTo>
                    <a:lnTo>
                      <a:pt x="328" y="7"/>
                    </a:lnTo>
                    <a:lnTo>
                      <a:pt x="308" y="0"/>
                    </a:lnTo>
                    <a:lnTo>
                      <a:pt x="272" y="9"/>
                    </a:lnTo>
                    <a:lnTo>
                      <a:pt x="246" y="26"/>
                    </a:lnTo>
                    <a:lnTo>
                      <a:pt x="230" y="32"/>
                    </a:lnTo>
                    <a:lnTo>
                      <a:pt x="207" y="30"/>
                    </a:lnTo>
                    <a:lnTo>
                      <a:pt x="192" y="27"/>
                    </a:lnTo>
                    <a:lnTo>
                      <a:pt x="185" y="16"/>
                    </a:lnTo>
                    <a:lnTo>
                      <a:pt x="167" y="22"/>
                    </a:lnTo>
                    <a:lnTo>
                      <a:pt x="192" y="43"/>
                    </a:lnTo>
                    <a:lnTo>
                      <a:pt x="175" y="75"/>
                    </a:lnTo>
                    <a:lnTo>
                      <a:pt x="158" y="98"/>
                    </a:lnTo>
                    <a:lnTo>
                      <a:pt x="168" y="95"/>
                    </a:lnTo>
                    <a:lnTo>
                      <a:pt x="169" y="102"/>
                    </a:lnTo>
                    <a:lnTo>
                      <a:pt x="155" y="119"/>
                    </a:lnTo>
                    <a:lnTo>
                      <a:pt x="99" y="144"/>
                    </a:lnTo>
                    <a:lnTo>
                      <a:pt x="73" y="157"/>
                    </a:lnTo>
                    <a:lnTo>
                      <a:pt x="48" y="164"/>
                    </a:lnTo>
                    <a:lnTo>
                      <a:pt x="24" y="190"/>
                    </a:lnTo>
                    <a:lnTo>
                      <a:pt x="0" y="222"/>
                    </a:lnTo>
                    <a:lnTo>
                      <a:pt x="12" y="227"/>
                    </a:lnTo>
                    <a:lnTo>
                      <a:pt x="10" y="232"/>
                    </a:lnTo>
                    <a:lnTo>
                      <a:pt x="20" y="230"/>
                    </a:lnTo>
                    <a:lnTo>
                      <a:pt x="15" y="240"/>
                    </a:lnTo>
                    <a:lnTo>
                      <a:pt x="24" y="238"/>
                    </a:lnTo>
                    <a:lnTo>
                      <a:pt x="80" y="229"/>
                    </a:lnTo>
                    <a:lnTo>
                      <a:pt x="93" y="225"/>
                    </a:lnTo>
                    <a:lnTo>
                      <a:pt x="119" y="225"/>
                    </a:lnTo>
                    <a:lnTo>
                      <a:pt x="148" y="210"/>
                    </a:lnTo>
                    <a:lnTo>
                      <a:pt x="177" y="196"/>
                    </a:lnTo>
                    <a:lnTo>
                      <a:pt x="205" y="181"/>
                    </a:lnTo>
                    <a:lnTo>
                      <a:pt x="234" y="167"/>
                    </a:lnTo>
                    <a:lnTo>
                      <a:pt x="221" y="147"/>
                    </a:lnTo>
                    <a:lnTo>
                      <a:pt x="237" y="140"/>
                    </a:lnTo>
                    <a:lnTo>
                      <a:pt x="237" y="13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3573360" y="1549080"/>
                <a:ext cx="48600" cy="29520"/>
              </a:xfrm>
              <a:custGeom>
                <a:avLst/>
                <a:gdLst/>
                <a:ahLst/>
                <a:rect l="l" t="t" r="r" b="b"/>
                <a:pathLst>
                  <a:path w="94" h="42">
                    <a:moveTo>
                      <a:pt x="80" y="27"/>
                    </a:moveTo>
                    <a:lnTo>
                      <a:pt x="94" y="4"/>
                    </a:lnTo>
                    <a:lnTo>
                      <a:pt x="49" y="0"/>
                    </a:lnTo>
                    <a:lnTo>
                      <a:pt x="6" y="10"/>
                    </a:lnTo>
                    <a:lnTo>
                      <a:pt x="0" y="19"/>
                    </a:lnTo>
                    <a:lnTo>
                      <a:pt x="0" y="33"/>
                    </a:lnTo>
                    <a:lnTo>
                      <a:pt x="8" y="33"/>
                    </a:lnTo>
                    <a:lnTo>
                      <a:pt x="31" y="38"/>
                    </a:lnTo>
                    <a:lnTo>
                      <a:pt x="55" y="42"/>
                    </a:lnTo>
                    <a:lnTo>
                      <a:pt x="80" y="27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3183840" y="1430640"/>
                <a:ext cx="114480" cy="50400"/>
              </a:xfrm>
              <a:custGeom>
                <a:avLst/>
                <a:gdLst/>
                <a:ahLst/>
                <a:rect l="l" t="t" r="r" b="b"/>
                <a:pathLst>
                  <a:path w="219" h="72">
                    <a:moveTo>
                      <a:pt x="190" y="0"/>
                    </a:moveTo>
                    <a:lnTo>
                      <a:pt x="182" y="4"/>
                    </a:lnTo>
                    <a:lnTo>
                      <a:pt x="159" y="10"/>
                    </a:lnTo>
                    <a:lnTo>
                      <a:pt x="149" y="7"/>
                    </a:lnTo>
                    <a:lnTo>
                      <a:pt x="136" y="17"/>
                    </a:lnTo>
                    <a:lnTo>
                      <a:pt x="139" y="14"/>
                    </a:lnTo>
                    <a:lnTo>
                      <a:pt x="128" y="9"/>
                    </a:lnTo>
                    <a:lnTo>
                      <a:pt x="115" y="14"/>
                    </a:lnTo>
                    <a:lnTo>
                      <a:pt x="111" y="9"/>
                    </a:lnTo>
                    <a:lnTo>
                      <a:pt x="85" y="22"/>
                    </a:lnTo>
                    <a:lnTo>
                      <a:pt x="69" y="26"/>
                    </a:lnTo>
                    <a:lnTo>
                      <a:pt x="69" y="19"/>
                    </a:lnTo>
                    <a:lnTo>
                      <a:pt x="81" y="14"/>
                    </a:lnTo>
                    <a:lnTo>
                      <a:pt x="72" y="0"/>
                    </a:lnTo>
                    <a:lnTo>
                      <a:pt x="69" y="6"/>
                    </a:lnTo>
                    <a:lnTo>
                      <a:pt x="64" y="13"/>
                    </a:lnTo>
                    <a:lnTo>
                      <a:pt x="58" y="7"/>
                    </a:lnTo>
                    <a:lnTo>
                      <a:pt x="48" y="10"/>
                    </a:lnTo>
                    <a:lnTo>
                      <a:pt x="43" y="14"/>
                    </a:lnTo>
                    <a:lnTo>
                      <a:pt x="45" y="16"/>
                    </a:lnTo>
                    <a:lnTo>
                      <a:pt x="43" y="17"/>
                    </a:lnTo>
                    <a:lnTo>
                      <a:pt x="29" y="16"/>
                    </a:lnTo>
                    <a:lnTo>
                      <a:pt x="29" y="20"/>
                    </a:lnTo>
                    <a:lnTo>
                      <a:pt x="18" y="22"/>
                    </a:lnTo>
                    <a:lnTo>
                      <a:pt x="56" y="23"/>
                    </a:lnTo>
                    <a:lnTo>
                      <a:pt x="45" y="27"/>
                    </a:lnTo>
                    <a:lnTo>
                      <a:pt x="45" y="32"/>
                    </a:lnTo>
                    <a:lnTo>
                      <a:pt x="5" y="36"/>
                    </a:lnTo>
                    <a:lnTo>
                      <a:pt x="26" y="43"/>
                    </a:lnTo>
                    <a:lnTo>
                      <a:pt x="33" y="45"/>
                    </a:lnTo>
                    <a:lnTo>
                      <a:pt x="25" y="49"/>
                    </a:lnTo>
                    <a:lnTo>
                      <a:pt x="29" y="49"/>
                    </a:lnTo>
                    <a:lnTo>
                      <a:pt x="22" y="53"/>
                    </a:lnTo>
                    <a:lnTo>
                      <a:pt x="0" y="59"/>
                    </a:lnTo>
                    <a:lnTo>
                      <a:pt x="9" y="62"/>
                    </a:lnTo>
                    <a:lnTo>
                      <a:pt x="33" y="65"/>
                    </a:lnTo>
                    <a:lnTo>
                      <a:pt x="67" y="72"/>
                    </a:lnTo>
                    <a:lnTo>
                      <a:pt x="107" y="62"/>
                    </a:lnTo>
                    <a:lnTo>
                      <a:pt x="146" y="52"/>
                    </a:lnTo>
                    <a:lnTo>
                      <a:pt x="173" y="42"/>
                    </a:lnTo>
                    <a:lnTo>
                      <a:pt x="189" y="35"/>
                    </a:lnTo>
                    <a:lnTo>
                      <a:pt x="196" y="35"/>
                    </a:lnTo>
                    <a:lnTo>
                      <a:pt x="193" y="29"/>
                    </a:lnTo>
                    <a:lnTo>
                      <a:pt x="203" y="27"/>
                    </a:lnTo>
                    <a:lnTo>
                      <a:pt x="209" y="23"/>
                    </a:lnTo>
                    <a:lnTo>
                      <a:pt x="192" y="23"/>
                    </a:lnTo>
                    <a:lnTo>
                      <a:pt x="200" y="19"/>
                    </a:lnTo>
                    <a:lnTo>
                      <a:pt x="195" y="17"/>
                    </a:lnTo>
                    <a:lnTo>
                      <a:pt x="202" y="10"/>
                    </a:lnTo>
                    <a:lnTo>
                      <a:pt x="219" y="1"/>
                    </a:lnTo>
                    <a:lnTo>
                      <a:pt x="200" y="6"/>
                    </a:lnTo>
                    <a:lnTo>
                      <a:pt x="190" y="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521520" y="1572120"/>
                <a:ext cx="79920" cy="39960"/>
              </a:xfrm>
              <a:custGeom>
                <a:avLst/>
                <a:gdLst/>
                <a:ahLst/>
                <a:rect l="l" t="t" r="r" b="b"/>
                <a:pathLst>
                  <a:path w="155" h="59">
                    <a:moveTo>
                      <a:pt x="82" y="41"/>
                    </a:moveTo>
                    <a:lnTo>
                      <a:pt x="44" y="45"/>
                    </a:lnTo>
                    <a:lnTo>
                      <a:pt x="7" y="49"/>
                    </a:lnTo>
                    <a:lnTo>
                      <a:pt x="0" y="51"/>
                    </a:lnTo>
                    <a:lnTo>
                      <a:pt x="40" y="17"/>
                    </a:lnTo>
                    <a:lnTo>
                      <a:pt x="59" y="16"/>
                    </a:lnTo>
                    <a:lnTo>
                      <a:pt x="69" y="32"/>
                    </a:lnTo>
                    <a:lnTo>
                      <a:pt x="89" y="23"/>
                    </a:lnTo>
                    <a:lnTo>
                      <a:pt x="108" y="0"/>
                    </a:lnTo>
                    <a:lnTo>
                      <a:pt x="131" y="5"/>
                    </a:lnTo>
                    <a:lnTo>
                      <a:pt x="155" y="9"/>
                    </a:lnTo>
                    <a:lnTo>
                      <a:pt x="151" y="28"/>
                    </a:lnTo>
                    <a:lnTo>
                      <a:pt x="138" y="56"/>
                    </a:lnTo>
                    <a:lnTo>
                      <a:pt x="106" y="59"/>
                    </a:lnTo>
                    <a:lnTo>
                      <a:pt x="82" y="41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3389400" y="1357200"/>
                <a:ext cx="378720" cy="217080"/>
              </a:xfrm>
              <a:custGeom>
                <a:avLst/>
                <a:gdLst/>
                <a:ahLst/>
                <a:rect l="l" t="t" r="r" b="b"/>
                <a:pathLst>
                  <a:path w="723" h="308">
                    <a:moveTo>
                      <a:pt x="526" y="32"/>
                    </a:moveTo>
                    <a:lnTo>
                      <a:pt x="526" y="33"/>
                    </a:lnTo>
                    <a:lnTo>
                      <a:pt x="511" y="39"/>
                    </a:lnTo>
                    <a:lnTo>
                      <a:pt x="527" y="24"/>
                    </a:lnTo>
                    <a:lnTo>
                      <a:pt x="516" y="33"/>
                    </a:lnTo>
                    <a:lnTo>
                      <a:pt x="508" y="34"/>
                    </a:lnTo>
                    <a:lnTo>
                      <a:pt x="514" y="27"/>
                    </a:lnTo>
                    <a:lnTo>
                      <a:pt x="503" y="33"/>
                    </a:lnTo>
                    <a:lnTo>
                      <a:pt x="500" y="39"/>
                    </a:lnTo>
                    <a:lnTo>
                      <a:pt x="488" y="36"/>
                    </a:lnTo>
                    <a:lnTo>
                      <a:pt x="487" y="40"/>
                    </a:lnTo>
                    <a:lnTo>
                      <a:pt x="481" y="37"/>
                    </a:lnTo>
                    <a:lnTo>
                      <a:pt x="469" y="43"/>
                    </a:lnTo>
                    <a:lnTo>
                      <a:pt x="459" y="52"/>
                    </a:lnTo>
                    <a:lnTo>
                      <a:pt x="455" y="53"/>
                    </a:lnTo>
                    <a:lnTo>
                      <a:pt x="431" y="57"/>
                    </a:lnTo>
                    <a:lnTo>
                      <a:pt x="448" y="60"/>
                    </a:lnTo>
                    <a:lnTo>
                      <a:pt x="439" y="65"/>
                    </a:lnTo>
                    <a:lnTo>
                      <a:pt x="428" y="63"/>
                    </a:lnTo>
                    <a:lnTo>
                      <a:pt x="423" y="65"/>
                    </a:lnTo>
                    <a:lnTo>
                      <a:pt x="415" y="69"/>
                    </a:lnTo>
                    <a:lnTo>
                      <a:pt x="412" y="72"/>
                    </a:lnTo>
                    <a:lnTo>
                      <a:pt x="412" y="66"/>
                    </a:lnTo>
                    <a:lnTo>
                      <a:pt x="405" y="69"/>
                    </a:lnTo>
                    <a:lnTo>
                      <a:pt x="382" y="78"/>
                    </a:lnTo>
                    <a:lnTo>
                      <a:pt x="400" y="76"/>
                    </a:lnTo>
                    <a:lnTo>
                      <a:pt x="392" y="79"/>
                    </a:lnTo>
                    <a:lnTo>
                      <a:pt x="390" y="82"/>
                    </a:lnTo>
                    <a:lnTo>
                      <a:pt x="389" y="83"/>
                    </a:lnTo>
                    <a:lnTo>
                      <a:pt x="377" y="83"/>
                    </a:lnTo>
                    <a:lnTo>
                      <a:pt x="372" y="88"/>
                    </a:lnTo>
                    <a:lnTo>
                      <a:pt x="380" y="91"/>
                    </a:lnTo>
                    <a:lnTo>
                      <a:pt x="363" y="92"/>
                    </a:lnTo>
                    <a:lnTo>
                      <a:pt x="344" y="96"/>
                    </a:lnTo>
                    <a:lnTo>
                      <a:pt x="328" y="104"/>
                    </a:lnTo>
                    <a:lnTo>
                      <a:pt x="318" y="108"/>
                    </a:lnTo>
                    <a:lnTo>
                      <a:pt x="321" y="109"/>
                    </a:lnTo>
                    <a:lnTo>
                      <a:pt x="331" y="111"/>
                    </a:lnTo>
                    <a:lnTo>
                      <a:pt x="308" y="117"/>
                    </a:lnTo>
                    <a:lnTo>
                      <a:pt x="295" y="122"/>
                    </a:lnTo>
                    <a:lnTo>
                      <a:pt x="289" y="128"/>
                    </a:lnTo>
                    <a:lnTo>
                      <a:pt x="285" y="132"/>
                    </a:lnTo>
                    <a:lnTo>
                      <a:pt x="287" y="134"/>
                    </a:lnTo>
                    <a:lnTo>
                      <a:pt x="258" y="142"/>
                    </a:lnTo>
                    <a:lnTo>
                      <a:pt x="256" y="144"/>
                    </a:lnTo>
                    <a:lnTo>
                      <a:pt x="266" y="141"/>
                    </a:lnTo>
                    <a:lnTo>
                      <a:pt x="253" y="148"/>
                    </a:lnTo>
                    <a:lnTo>
                      <a:pt x="242" y="151"/>
                    </a:lnTo>
                    <a:lnTo>
                      <a:pt x="232" y="154"/>
                    </a:lnTo>
                    <a:lnTo>
                      <a:pt x="210" y="164"/>
                    </a:lnTo>
                    <a:lnTo>
                      <a:pt x="199" y="170"/>
                    </a:lnTo>
                    <a:lnTo>
                      <a:pt x="203" y="174"/>
                    </a:lnTo>
                    <a:lnTo>
                      <a:pt x="220" y="167"/>
                    </a:lnTo>
                    <a:lnTo>
                      <a:pt x="230" y="164"/>
                    </a:lnTo>
                    <a:lnTo>
                      <a:pt x="223" y="171"/>
                    </a:lnTo>
                    <a:lnTo>
                      <a:pt x="202" y="177"/>
                    </a:lnTo>
                    <a:lnTo>
                      <a:pt x="194" y="177"/>
                    </a:lnTo>
                    <a:lnTo>
                      <a:pt x="183" y="176"/>
                    </a:lnTo>
                    <a:lnTo>
                      <a:pt x="179" y="177"/>
                    </a:lnTo>
                    <a:lnTo>
                      <a:pt x="164" y="183"/>
                    </a:lnTo>
                    <a:lnTo>
                      <a:pt x="154" y="187"/>
                    </a:lnTo>
                    <a:lnTo>
                      <a:pt x="153" y="190"/>
                    </a:lnTo>
                    <a:lnTo>
                      <a:pt x="150" y="189"/>
                    </a:lnTo>
                    <a:lnTo>
                      <a:pt x="150" y="194"/>
                    </a:lnTo>
                    <a:lnTo>
                      <a:pt x="131" y="189"/>
                    </a:lnTo>
                    <a:lnTo>
                      <a:pt x="122" y="194"/>
                    </a:lnTo>
                    <a:lnTo>
                      <a:pt x="131" y="194"/>
                    </a:lnTo>
                    <a:lnTo>
                      <a:pt x="138" y="194"/>
                    </a:lnTo>
                    <a:lnTo>
                      <a:pt x="127" y="197"/>
                    </a:lnTo>
                    <a:lnTo>
                      <a:pt x="108" y="200"/>
                    </a:lnTo>
                    <a:lnTo>
                      <a:pt x="114" y="206"/>
                    </a:lnTo>
                    <a:lnTo>
                      <a:pt x="111" y="207"/>
                    </a:lnTo>
                    <a:lnTo>
                      <a:pt x="105" y="203"/>
                    </a:lnTo>
                    <a:lnTo>
                      <a:pt x="102" y="206"/>
                    </a:lnTo>
                    <a:lnTo>
                      <a:pt x="91" y="207"/>
                    </a:lnTo>
                    <a:lnTo>
                      <a:pt x="91" y="210"/>
                    </a:lnTo>
                    <a:lnTo>
                      <a:pt x="81" y="210"/>
                    </a:lnTo>
                    <a:lnTo>
                      <a:pt x="75" y="210"/>
                    </a:lnTo>
                    <a:lnTo>
                      <a:pt x="69" y="214"/>
                    </a:lnTo>
                    <a:lnTo>
                      <a:pt x="92" y="216"/>
                    </a:lnTo>
                    <a:lnTo>
                      <a:pt x="65" y="219"/>
                    </a:lnTo>
                    <a:lnTo>
                      <a:pt x="66" y="226"/>
                    </a:lnTo>
                    <a:lnTo>
                      <a:pt x="58" y="227"/>
                    </a:lnTo>
                    <a:lnTo>
                      <a:pt x="60" y="227"/>
                    </a:lnTo>
                    <a:lnTo>
                      <a:pt x="50" y="233"/>
                    </a:lnTo>
                    <a:lnTo>
                      <a:pt x="81" y="230"/>
                    </a:lnTo>
                    <a:lnTo>
                      <a:pt x="94" y="229"/>
                    </a:lnTo>
                    <a:lnTo>
                      <a:pt x="98" y="227"/>
                    </a:lnTo>
                    <a:lnTo>
                      <a:pt x="92" y="235"/>
                    </a:lnTo>
                    <a:lnTo>
                      <a:pt x="84" y="238"/>
                    </a:lnTo>
                    <a:lnTo>
                      <a:pt x="72" y="235"/>
                    </a:lnTo>
                    <a:lnTo>
                      <a:pt x="45" y="238"/>
                    </a:lnTo>
                    <a:lnTo>
                      <a:pt x="45" y="242"/>
                    </a:lnTo>
                    <a:lnTo>
                      <a:pt x="43" y="243"/>
                    </a:lnTo>
                    <a:lnTo>
                      <a:pt x="39" y="243"/>
                    </a:lnTo>
                    <a:lnTo>
                      <a:pt x="49" y="245"/>
                    </a:lnTo>
                    <a:lnTo>
                      <a:pt x="40" y="250"/>
                    </a:lnTo>
                    <a:lnTo>
                      <a:pt x="29" y="256"/>
                    </a:lnTo>
                    <a:lnTo>
                      <a:pt x="39" y="255"/>
                    </a:lnTo>
                    <a:lnTo>
                      <a:pt x="37" y="261"/>
                    </a:lnTo>
                    <a:lnTo>
                      <a:pt x="56" y="250"/>
                    </a:lnTo>
                    <a:lnTo>
                      <a:pt x="66" y="249"/>
                    </a:lnTo>
                    <a:lnTo>
                      <a:pt x="52" y="258"/>
                    </a:lnTo>
                    <a:lnTo>
                      <a:pt x="56" y="252"/>
                    </a:lnTo>
                    <a:lnTo>
                      <a:pt x="33" y="266"/>
                    </a:lnTo>
                    <a:lnTo>
                      <a:pt x="35" y="266"/>
                    </a:lnTo>
                    <a:lnTo>
                      <a:pt x="20" y="271"/>
                    </a:lnTo>
                    <a:lnTo>
                      <a:pt x="13" y="278"/>
                    </a:lnTo>
                    <a:lnTo>
                      <a:pt x="24" y="275"/>
                    </a:lnTo>
                    <a:lnTo>
                      <a:pt x="33" y="274"/>
                    </a:lnTo>
                    <a:lnTo>
                      <a:pt x="27" y="279"/>
                    </a:lnTo>
                    <a:lnTo>
                      <a:pt x="20" y="286"/>
                    </a:lnTo>
                    <a:lnTo>
                      <a:pt x="10" y="286"/>
                    </a:lnTo>
                    <a:lnTo>
                      <a:pt x="0" y="299"/>
                    </a:lnTo>
                    <a:lnTo>
                      <a:pt x="10" y="307"/>
                    </a:lnTo>
                    <a:lnTo>
                      <a:pt x="35" y="308"/>
                    </a:lnTo>
                    <a:lnTo>
                      <a:pt x="88" y="284"/>
                    </a:lnTo>
                    <a:lnTo>
                      <a:pt x="102" y="284"/>
                    </a:lnTo>
                    <a:lnTo>
                      <a:pt x="117" y="269"/>
                    </a:lnTo>
                    <a:lnTo>
                      <a:pt x="127" y="265"/>
                    </a:lnTo>
                    <a:lnTo>
                      <a:pt x="117" y="281"/>
                    </a:lnTo>
                    <a:lnTo>
                      <a:pt x="121" y="286"/>
                    </a:lnTo>
                    <a:lnTo>
                      <a:pt x="154" y="263"/>
                    </a:lnTo>
                    <a:lnTo>
                      <a:pt x="179" y="242"/>
                    </a:lnTo>
                    <a:lnTo>
                      <a:pt x="186" y="235"/>
                    </a:lnTo>
                    <a:lnTo>
                      <a:pt x="202" y="227"/>
                    </a:lnTo>
                    <a:lnTo>
                      <a:pt x="196" y="219"/>
                    </a:lnTo>
                    <a:lnTo>
                      <a:pt x="219" y="196"/>
                    </a:lnTo>
                    <a:lnTo>
                      <a:pt x="243" y="171"/>
                    </a:lnTo>
                    <a:lnTo>
                      <a:pt x="271" y="161"/>
                    </a:lnTo>
                    <a:lnTo>
                      <a:pt x="288" y="160"/>
                    </a:lnTo>
                    <a:lnTo>
                      <a:pt x="289" y="150"/>
                    </a:lnTo>
                    <a:lnTo>
                      <a:pt x="336" y="119"/>
                    </a:lnTo>
                    <a:lnTo>
                      <a:pt x="340" y="112"/>
                    </a:lnTo>
                    <a:lnTo>
                      <a:pt x="361" y="109"/>
                    </a:lnTo>
                    <a:lnTo>
                      <a:pt x="385" y="95"/>
                    </a:lnTo>
                    <a:lnTo>
                      <a:pt x="422" y="72"/>
                    </a:lnTo>
                    <a:lnTo>
                      <a:pt x="452" y="66"/>
                    </a:lnTo>
                    <a:lnTo>
                      <a:pt x="464" y="57"/>
                    </a:lnTo>
                    <a:lnTo>
                      <a:pt x="494" y="57"/>
                    </a:lnTo>
                    <a:lnTo>
                      <a:pt x="507" y="45"/>
                    </a:lnTo>
                    <a:lnTo>
                      <a:pt x="516" y="45"/>
                    </a:lnTo>
                    <a:lnTo>
                      <a:pt x="534" y="39"/>
                    </a:lnTo>
                    <a:lnTo>
                      <a:pt x="541" y="50"/>
                    </a:lnTo>
                    <a:lnTo>
                      <a:pt x="556" y="53"/>
                    </a:lnTo>
                    <a:lnTo>
                      <a:pt x="579" y="55"/>
                    </a:lnTo>
                    <a:lnTo>
                      <a:pt x="595" y="49"/>
                    </a:lnTo>
                    <a:lnTo>
                      <a:pt x="621" y="32"/>
                    </a:lnTo>
                    <a:lnTo>
                      <a:pt x="657" y="23"/>
                    </a:lnTo>
                    <a:lnTo>
                      <a:pt x="677" y="30"/>
                    </a:lnTo>
                    <a:lnTo>
                      <a:pt x="660" y="45"/>
                    </a:lnTo>
                    <a:lnTo>
                      <a:pt x="690" y="34"/>
                    </a:lnTo>
                    <a:lnTo>
                      <a:pt x="703" y="34"/>
                    </a:lnTo>
                    <a:lnTo>
                      <a:pt x="709" y="27"/>
                    </a:lnTo>
                    <a:lnTo>
                      <a:pt x="700" y="27"/>
                    </a:lnTo>
                    <a:lnTo>
                      <a:pt x="688" y="29"/>
                    </a:lnTo>
                    <a:lnTo>
                      <a:pt x="684" y="20"/>
                    </a:lnTo>
                    <a:lnTo>
                      <a:pt x="723" y="17"/>
                    </a:lnTo>
                    <a:lnTo>
                      <a:pt x="717" y="9"/>
                    </a:lnTo>
                    <a:lnTo>
                      <a:pt x="704" y="6"/>
                    </a:lnTo>
                    <a:lnTo>
                      <a:pt x="687" y="9"/>
                    </a:lnTo>
                    <a:lnTo>
                      <a:pt x="670" y="20"/>
                    </a:lnTo>
                    <a:lnTo>
                      <a:pt x="678" y="13"/>
                    </a:lnTo>
                    <a:lnTo>
                      <a:pt x="681" y="9"/>
                    </a:lnTo>
                    <a:lnTo>
                      <a:pt x="681" y="7"/>
                    </a:lnTo>
                    <a:lnTo>
                      <a:pt x="688" y="0"/>
                    </a:lnTo>
                    <a:lnTo>
                      <a:pt x="673" y="4"/>
                    </a:lnTo>
                    <a:lnTo>
                      <a:pt x="647" y="16"/>
                    </a:lnTo>
                    <a:lnTo>
                      <a:pt x="655" y="4"/>
                    </a:lnTo>
                    <a:lnTo>
                      <a:pt x="614" y="21"/>
                    </a:lnTo>
                    <a:lnTo>
                      <a:pt x="641" y="7"/>
                    </a:lnTo>
                    <a:lnTo>
                      <a:pt x="638" y="6"/>
                    </a:lnTo>
                    <a:lnTo>
                      <a:pt x="625" y="4"/>
                    </a:lnTo>
                    <a:lnTo>
                      <a:pt x="619" y="9"/>
                    </a:lnTo>
                    <a:lnTo>
                      <a:pt x="583" y="21"/>
                    </a:lnTo>
                    <a:lnTo>
                      <a:pt x="570" y="21"/>
                    </a:lnTo>
                    <a:lnTo>
                      <a:pt x="576" y="19"/>
                    </a:lnTo>
                    <a:lnTo>
                      <a:pt x="554" y="20"/>
                    </a:lnTo>
                    <a:lnTo>
                      <a:pt x="562" y="23"/>
                    </a:lnTo>
                    <a:lnTo>
                      <a:pt x="554" y="27"/>
                    </a:lnTo>
                    <a:lnTo>
                      <a:pt x="544" y="27"/>
                    </a:lnTo>
                    <a:lnTo>
                      <a:pt x="526" y="32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3600000" y="1390680"/>
                <a:ext cx="18720" cy="8280"/>
              </a:xfrm>
              <a:custGeom>
                <a:avLst/>
                <a:gdLst/>
                <a:ahLst/>
                <a:rect l="l" t="t" r="r" b="b"/>
                <a:pathLst>
                  <a:path w="35" h="11">
                    <a:moveTo>
                      <a:pt x="28" y="0"/>
                    </a:moveTo>
                    <a:lnTo>
                      <a:pt x="7" y="10"/>
                    </a:lnTo>
                    <a:lnTo>
                      <a:pt x="0" y="11"/>
                    </a:lnTo>
                    <a:lnTo>
                      <a:pt x="12" y="10"/>
                    </a:lnTo>
                    <a:lnTo>
                      <a:pt x="15" y="11"/>
                    </a:lnTo>
                    <a:lnTo>
                      <a:pt x="35" y="3"/>
                    </a:lnTo>
                    <a:lnTo>
                      <a:pt x="23" y="6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3350160" y="3850200"/>
                <a:ext cx="2963160" cy="354600"/>
              </a:xfrm>
              <a:custGeom>
                <a:avLst/>
                <a:gdLst/>
                <a:ahLst/>
                <a:rect l="l" t="t" r="r" b="b"/>
                <a:pathLst>
                  <a:path w="5659" h="502">
                    <a:moveTo>
                      <a:pt x="128" y="371"/>
                    </a:moveTo>
                    <a:lnTo>
                      <a:pt x="127" y="369"/>
                    </a:lnTo>
                    <a:lnTo>
                      <a:pt x="97" y="355"/>
                    </a:lnTo>
                    <a:lnTo>
                      <a:pt x="95" y="353"/>
                    </a:lnTo>
                    <a:lnTo>
                      <a:pt x="92" y="352"/>
                    </a:lnTo>
                    <a:lnTo>
                      <a:pt x="0" y="307"/>
                    </a:lnTo>
                    <a:lnTo>
                      <a:pt x="14" y="300"/>
                    </a:lnTo>
                    <a:lnTo>
                      <a:pt x="4" y="294"/>
                    </a:lnTo>
                    <a:lnTo>
                      <a:pt x="19" y="293"/>
                    </a:lnTo>
                    <a:lnTo>
                      <a:pt x="10" y="290"/>
                    </a:lnTo>
                    <a:lnTo>
                      <a:pt x="56" y="281"/>
                    </a:lnTo>
                    <a:lnTo>
                      <a:pt x="104" y="273"/>
                    </a:lnTo>
                    <a:lnTo>
                      <a:pt x="94" y="271"/>
                    </a:lnTo>
                    <a:lnTo>
                      <a:pt x="123" y="257"/>
                    </a:lnTo>
                    <a:lnTo>
                      <a:pt x="141" y="245"/>
                    </a:lnTo>
                    <a:lnTo>
                      <a:pt x="130" y="244"/>
                    </a:lnTo>
                    <a:lnTo>
                      <a:pt x="102" y="247"/>
                    </a:lnTo>
                    <a:lnTo>
                      <a:pt x="98" y="242"/>
                    </a:lnTo>
                    <a:lnTo>
                      <a:pt x="95" y="232"/>
                    </a:lnTo>
                    <a:lnTo>
                      <a:pt x="115" y="225"/>
                    </a:lnTo>
                    <a:lnTo>
                      <a:pt x="101" y="221"/>
                    </a:lnTo>
                    <a:lnTo>
                      <a:pt x="130" y="216"/>
                    </a:lnTo>
                    <a:lnTo>
                      <a:pt x="130" y="206"/>
                    </a:lnTo>
                    <a:lnTo>
                      <a:pt x="91" y="191"/>
                    </a:lnTo>
                    <a:lnTo>
                      <a:pt x="102" y="191"/>
                    </a:lnTo>
                    <a:lnTo>
                      <a:pt x="123" y="196"/>
                    </a:lnTo>
                    <a:lnTo>
                      <a:pt x="114" y="183"/>
                    </a:lnTo>
                    <a:lnTo>
                      <a:pt x="124" y="183"/>
                    </a:lnTo>
                    <a:lnTo>
                      <a:pt x="144" y="188"/>
                    </a:lnTo>
                    <a:lnTo>
                      <a:pt x="171" y="201"/>
                    </a:lnTo>
                    <a:lnTo>
                      <a:pt x="183" y="196"/>
                    </a:lnTo>
                    <a:lnTo>
                      <a:pt x="169" y="191"/>
                    </a:lnTo>
                    <a:lnTo>
                      <a:pt x="180" y="176"/>
                    </a:lnTo>
                    <a:lnTo>
                      <a:pt x="192" y="179"/>
                    </a:lnTo>
                    <a:lnTo>
                      <a:pt x="196" y="191"/>
                    </a:lnTo>
                    <a:lnTo>
                      <a:pt x="256" y="189"/>
                    </a:lnTo>
                    <a:lnTo>
                      <a:pt x="274" y="192"/>
                    </a:lnTo>
                    <a:lnTo>
                      <a:pt x="285" y="191"/>
                    </a:lnTo>
                    <a:lnTo>
                      <a:pt x="288" y="195"/>
                    </a:lnTo>
                    <a:lnTo>
                      <a:pt x="301" y="193"/>
                    </a:lnTo>
                    <a:lnTo>
                      <a:pt x="324" y="185"/>
                    </a:lnTo>
                    <a:lnTo>
                      <a:pt x="347" y="176"/>
                    </a:lnTo>
                    <a:lnTo>
                      <a:pt x="393" y="170"/>
                    </a:lnTo>
                    <a:lnTo>
                      <a:pt x="399" y="165"/>
                    </a:lnTo>
                    <a:lnTo>
                      <a:pt x="419" y="170"/>
                    </a:lnTo>
                    <a:lnTo>
                      <a:pt x="408" y="162"/>
                    </a:lnTo>
                    <a:lnTo>
                      <a:pt x="471" y="176"/>
                    </a:lnTo>
                    <a:lnTo>
                      <a:pt x="484" y="176"/>
                    </a:lnTo>
                    <a:lnTo>
                      <a:pt x="483" y="166"/>
                    </a:lnTo>
                    <a:lnTo>
                      <a:pt x="529" y="165"/>
                    </a:lnTo>
                    <a:lnTo>
                      <a:pt x="575" y="162"/>
                    </a:lnTo>
                    <a:lnTo>
                      <a:pt x="624" y="166"/>
                    </a:lnTo>
                    <a:lnTo>
                      <a:pt x="673" y="172"/>
                    </a:lnTo>
                    <a:lnTo>
                      <a:pt x="703" y="166"/>
                    </a:lnTo>
                    <a:lnTo>
                      <a:pt x="735" y="160"/>
                    </a:lnTo>
                    <a:lnTo>
                      <a:pt x="766" y="155"/>
                    </a:lnTo>
                    <a:lnTo>
                      <a:pt x="799" y="149"/>
                    </a:lnTo>
                    <a:lnTo>
                      <a:pt x="807" y="133"/>
                    </a:lnTo>
                    <a:lnTo>
                      <a:pt x="814" y="124"/>
                    </a:lnTo>
                    <a:lnTo>
                      <a:pt x="831" y="130"/>
                    </a:lnTo>
                    <a:lnTo>
                      <a:pt x="877" y="150"/>
                    </a:lnTo>
                    <a:lnTo>
                      <a:pt x="893" y="155"/>
                    </a:lnTo>
                    <a:lnTo>
                      <a:pt x="909" y="155"/>
                    </a:lnTo>
                    <a:lnTo>
                      <a:pt x="922" y="159"/>
                    </a:lnTo>
                    <a:lnTo>
                      <a:pt x="928" y="149"/>
                    </a:lnTo>
                    <a:lnTo>
                      <a:pt x="923" y="133"/>
                    </a:lnTo>
                    <a:lnTo>
                      <a:pt x="951" y="123"/>
                    </a:lnTo>
                    <a:lnTo>
                      <a:pt x="978" y="113"/>
                    </a:lnTo>
                    <a:lnTo>
                      <a:pt x="1010" y="103"/>
                    </a:lnTo>
                    <a:lnTo>
                      <a:pt x="1018" y="98"/>
                    </a:lnTo>
                    <a:lnTo>
                      <a:pt x="1049" y="104"/>
                    </a:lnTo>
                    <a:lnTo>
                      <a:pt x="1059" y="97"/>
                    </a:lnTo>
                    <a:lnTo>
                      <a:pt x="1037" y="91"/>
                    </a:lnTo>
                    <a:lnTo>
                      <a:pt x="1054" y="90"/>
                    </a:lnTo>
                    <a:lnTo>
                      <a:pt x="1083" y="93"/>
                    </a:lnTo>
                    <a:lnTo>
                      <a:pt x="1076" y="85"/>
                    </a:lnTo>
                    <a:lnTo>
                      <a:pt x="1066" y="84"/>
                    </a:lnTo>
                    <a:lnTo>
                      <a:pt x="1066" y="74"/>
                    </a:lnTo>
                    <a:lnTo>
                      <a:pt x="1119" y="65"/>
                    </a:lnTo>
                    <a:lnTo>
                      <a:pt x="1151" y="68"/>
                    </a:lnTo>
                    <a:lnTo>
                      <a:pt x="1191" y="84"/>
                    </a:lnTo>
                    <a:lnTo>
                      <a:pt x="1184" y="88"/>
                    </a:lnTo>
                    <a:lnTo>
                      <a:pt x="1229" y="97"/>
                    </a:lnTo>
                    <a:lnTo>
                      <a:pt x="1267" y="100"/>
                    </a:lnTo>
                    <a:lnTo>
                      <a:pt x="1306" y="103"/>
                    </a:lnTo>
                    <a:lnTo>
                      <a:pt x="1363" y="106"/>
                    </a:lnTo>
                    <a:lnTo>
                      <a:pt x="1417" y="108"/>
                    </a:lnTo>
                    <a:lnTo>
                      <a:pt x="1424" y="108"/>
                    </a:lnTo>
                    <a:lnTo>
                      <a:pt x="1436" y="133"/>
                    </a:lnTo>
                    <a:lnTo>
                      <a:pt x="1429" y="136"/>
                    </a:lnTo>
                    <a:lnTo>
                      <a:pt x="1443" y="136"/>
                    </a:lnTo>
                    <a:lnTo>
                      <a:pt x="1429" y="140"/>
                    </a:lnTo>
                    <a:lnTo>
                      <a:pt x="1445" y="143"/>
                    </a:lnTo>
                    <a:lnTo>
                      <a:pt x="1430" y="146"/>
                    </a:lnTo>
                    <a:lnTo>
                      <a:pt x="1426" y="152"/>
                    </a:lnTo>
                    <a:lnTo>
                      <a:pt x="1443" y="156"/>
                    </a:lnTo>
                    <a:lnTo>
                      <a:pt x="1427" y="162"/>
                    </a:lnTo>
                    <a:lnTo>
                      <a:pt x="1443" y="166"/>
                    </a:lnTo>
                    <a:lnTo>
                      <a:pt x="1456" y="178"/>
                    </a:lnTo>
                    <a:lnTo>
                      <a:pt x="1494" y="182"/>
                    </a:lnTo>
                    <a:lnTo>
                      <a:pt x="1502" y="188"/>
                    </a:lnTo>
                    <a:lnTo>
                      <a:pt x="1508" y="173"/>
                    </a:lnTo>
                    <a:lnTo>
                      <a:pt x="1496" y="166"/>
                    </a:lnTo>
                    <a:lnTo>
                      <a:pt x="1538" y="155"/>
                    </a:lnTo>
                    <a:lnTo>
                      <a:pt x="1558" y="147"/>
                    </a:lnTo>
                    <a:lnTo>
                      <a:pt x="1583" y="134"/>
                    </a:lnTo>
                    <a:lnTo>
                      <a:pt x="1586" y="124"/>
                    </a:lnTo>
                    <a:lnTo>
                      <a:pt x="1612" y="116"/>
                    </a:lnTo>
                    <a:lnTo>
                      <a:pt x="1638" y="107"/>
                    </a:lnTo>
                    <a:lnTo>
                      <a:pt x="1635" y="101"/>
                    </a:lnTo>
                    <a:lnTo>
                      <a:pt x="1643" y="95"/>
                    </a:lnTo>
                    <a:lnTo>
                      <a:pt x="1653" y="97"/>
                    </a:lnTo>
                    <a:lnTo>
                      <a:pt x="1692" y="93"/>
                    </a:lnTo>
                    <a:lnTo>
                      <a:pt x="1731" y="88"/>
                    </a:lnTo>
                    <a:lnTo>
                      <a:pt x="1740" y="82"/>
                    </a:lnTo>
                    <a:lnTo>
                      <a:pt x="1741" y="70"/>
                    </a:lnTo>
                    <a:lnTo>
                      <a:pt x="1756" y="85"/>
                    </a:lnTo>
                    <a:lnTo>
                      <a:pt x="1802" y="82"/>
                    </a:lnTo>
                    <a:lnTo>
                      <a:pt x="1846" y="80"/>
                    </a:lnTo>
                    <a:lnTo>
                      <a:pt x="1865" y="78"/>
                    </a:lnTo>
                    <a:lnTo>
                      <a:pt x="1865" y="72"/>
                    </a:lnTo>
                    <a:lnTo>
                      <a:pt x="1877" y="81"/>
                    </a:lnTo>
                    <a:lnTo>
                      <a:pt x="1931" y="75"/>
                    </a:lnTo>
                    <a:lnTo>
                      <a:pt x="1929" y="62"/>
                    </a:lnTo>
                    <a:lnTo>
                      <a:pt x="1939" y="62"/>
                    </a:lnTo>
                    <a:lnTo>
                      <a:pt x="1950" y="61"/>
                    </a:lnTo>
                    <a:lnTo>
                      <a:pt x="1957" y="71"/>
                    </a:lnTo>
                    <a:lnTo>
                      <a:pt x="1973" y="68"/>
                    </a:lnTo>
                    <a:lnTo>
                      <a:pt x="2018" y="67"/>
                    </a:lnTo>
                    <a:lnTo>
                      <a:pt x="2067" y="77"/>
                    </a:lnTo>
                    <a:lnTo>
                      <a:pt x="2116" y="87"/>
                    </a:lnTo>
                    <a:lnTo>
                      <a:pt x="2139" y="75"/>
                    </a:lnTo>
                    <a:lnTo>
                      <a:pt x="2152" y="67"/>
                    </a:lnTo>
                    <a:lnTo>
                      <a:pt x="2189" y="61"/>
                    </a:lnTo>
                    <a:lnTo>
                      <a:pt x="2211" y="75"/>
                    </a:lnTo>
                    <a:lnTo>
                      <a:pt x="2222" y="78"/>
                    </a:lnTo>
                    <a:lnTo>
                      <a:pt x="2250" y="81"/>
                    </a:lnTo>
                    <a:lnTo>
                      <a:pt x="2270" y="90"/>
                    </a:lnTo>
                    <a:lnTo>
                      <a:pt x="2313" y="85"/>
                    </a:lnTo>
                    <a:lnTo>
                      <a:pt x="2356" y="81"/>
                    </a:lnTo>
                    <a:lnTo>
                      <a:pt x="2378" y="81"/>
                    </a:lnTo>
                    <a:lnTo>
                      <a:pt x="2405" y="81"/>
                    </a:lnTo>
                    <a:lnTo>
                      <a:pt x="2421" y="74"/>
                    </a:lnTo>
                    <a:lnTo>
                      <a:pt x="2443" y="81"/>
                    </a:lnTo>
                    <a:lnTo>
                      <a:pt x="2457" y="91"/>
                    </a:lnTo>
                    <a:lnTo>
                      <a:pt x="2479" y="90"/>
                    </a:lnTo>
                    <a:lnTo>
                      <a:pt x="2492" y="72"/>
                    </a:lnTo>
                    <a:lnTo>
                      <a:pt x="2542" y="72"/>
                    </a:lnTo>
                    <a:lnTo>
                      <a:pt x="2594" y="71"/>
                    </a:lnTo>
                    <a:lnTo>
                      <a:pt x="2626" y="75"/>
                    </a:lnTo>
                    <a:lnTo>
                      <a:pt x="2656" y="81"/>
                    </a:lnTo>
                    <a:lnTo>
                      <a:pt x="2718" y="90"/>
                    </a:lnTo>
                    <a:lnTo>
                      <a:pt x="2732" y="91"/>
                    </a:lnTo>
                    <a:lnTo>
                      <a:pt x="2747" y="94"/>
                    </a:lnTo>
                    <a:lnTo>
                      <a:pt x="2768" y="95"/>
                    </a:lnTo>
                    <a:lnTo>
                      <a:pt x="2757" y="104"/>
                    </a:lnTo>
                    <a:lnTo>
                      <a:pt x="2810" y="116"/>
                    </a:lnTo>
                    <a:lnTo>
                      <a:pt x="2804" y="123"/>
                    </a:lnTo>
                    <a:lnTo>
                      <a:pt x="2857" y="124"/>
                    </a:lnTo>
                    <a:lnTo>
                      <a:pt x="2855" y="129"/>
                    </a:lnTo>
                    <a:lnTo>
                      <a:pt x="2901" y="133"/>
                    </a:lnTo>
                    <a:lnTo>
                      <a:pt x="2905" y="121"/>
                    </a:lnTo>
                    <a:lnTo>
                      <a:pt x="2918" y="130"/>
                    </a:lnTo>
                    <a:lnTo>
                      <a:pt x="2919" y="140"/>
                    </a:lnTo>
                    <a:lnTo>
                      <a:pt x="2941" y="137"/>
                    </a:lnTo>
                    <a:lnTo>
                      <a:pt x="3003" y="150"/>
                    </a:lnTo>
                    <a:lnTo>
                      <a:pt x="3022" y="166"/>
                    </a:lnTo>
                    <a:lnTo>
                      <a:pt x="3039" y="165"/>
                    </a:lnTo>
                    <a:lnTo>
                      <a:pt x="3037" y="169"/>
                    </a:lnTo>
                    <a:lnTo>
                      <a:pt x="3053" y="169"/>
                    </a:lnTo>
                    <a:lnTo>
                      <a:pt x="3062" y="170"/>
                    </a:lnTo>
                    <a:lnTo>
                      <a:pt x="3099" y="175"/>
                    </a:lnTo>
                    <a:lnTo>
                      <a:pt x="3135" y="179"/>
                    </a:lnTo>
                    <a:lnTo>
                      <a:pt x="3169" y="195"/>
                    </a:lnTo>
                    <a:lnTo>
                      <a:pt x="3174" y="189"/>
                    </a:lnTo>
                    <a:lnTo>
                      <a:pt x="3173" y="203"/>
                    </a:lnTo>
                    <a:lnTo>
                      <a:pt x="3160" y="208"/>
                    </a:lnTo>
                    <a:lnTo>
                      <a:pt x="3160" y="212"/>
                    </a:lnTo>
                    <a:lnTo>
                      <a:pt x="3154" y="222"/>
                    </a:lnTo>
                    <a:lnTo>
                      <a:pt x="3135" y="234"/>
                    </a:lnTo>
                    <a:lnTo>
                      <a:pt x="3079" y="244"/>
                    </a:lnTo>
                    <a:lnTo>
                      <a:pt x="3086" y="250"/>
                    </a:lnTo>
                    <a:lnTo>
                      <a:pt x="3061" y="251"/>
                    </a:lnTo>
                    <a:lnTo>
                      <a:pt x="3065" y="260"/>
                    </a:lnTo>
                    <a:lnTo>
                      <a:pt x="3042" y="264"/>
                    </a:lnTo>
                    <a:lnTo>
                      <a:pt x="3016" y="265"/>
                    </a:lnTo>
                    <a:lnTo>
                      <a:pt x="3022" y="274"/>
                    </a:lnTo>
                    <a:lnTo>
                      <a:pt x="3052" y="278"/>
                    </a:lnTo>
                    <a:lnTo>
                      <a:pt x="3024" y="281"/>
                    </a:lnTo>
                    <a:lnTo>
                      <a:pt x="3012" y="291"/>
                    </a:lnTo>
                    <a:lnTo>
                      <a:pt x="3009" y="301"/>
                    </a:lnTo>
                    <a:lnTo>
                      <a:pt x="3006" y="307"/>
                    </a:lnTo>
                    <a:lnTo>
                      <a:pt x="3022" y="319"/>
                    </a:lnTo>
                    <a:lnTo>
                      <a:pt x="3017" y="323"/>
                    </a:lnTo>
                    <a:lnTo>
                      <a:pt x="3029" y="326"/>
                    </a:lnTo>
                    <a:lnTo>
                      <a:pt x="3023" y="333"/>
                    </a:lnTo>
                    <a:lnTo>
                      <a:pt x="3029" y="332"/>
                    </a:lnTo>
                    <a:lnTo>
                      <a:pt x="3033" y="335"/>
                    </a:lnTo>
                    <a:lnTo>
                      <a:pt x="3043" y="329"/>
                    </a:lnTo>
                    <a:lnTo>
                      <a:pt x="3042" y="333"/>
                    </a:lnTo>
                    <a:lnTo>
                      <a:pt x="3061" y="343"/>
                    </a:lnTo>
                    <a:lnTo>
                      <a:pt x="3006" y="345"/>
                    </a:lnTo>
                    <a:lnTo>
                      <a:pt x="2954" y="348"/>
                    </a:lnTo>
                    <a:lnTo>
                      <a:pt x="2958" y="356"/>
                    </a:lnTo>
                    <a:lnTo>
                      <a:pt x="2944" y="365"/>
                    </a:lnTo>
                    <a:lnTo>
                      <a:pt x="2955" y="368"/>
                    </a:lnTo>
                    <a:lnTo>
                      <a:pt x="2934" y="373"/>
                    </a:lnTo>
                    <a:lnTo>
                      <a:pt x="2958" y="375"/>
                    </a:lnTo>
                    <a:lnTo>
                      <a:pt x="2948" y="378"/>
                    </a:lnTo>
                    <a:lnTo>
                      <a:pt x="2952" y="382"/>
                    </a:lnTo>
                    <a:lnTo>
                      <a:pt x="2951" y="386"/>
                    </a:lnTo>
                    <a:lnTo>
                      <a:pt x="2971" y="389"/>
                    </a:lnTo>
                    <a:lnTo>
                      <a:pt x="2960" y="394"/>
                    </a:lnTo>
                    <a:lnTo>
                      <a:pt x="2986" y="402"/>
                    </a:lnTo>
                    <a:lnTo>
                      <a:pt x="2984" y="405"/>
                    </a:lnTo>
                    <a:lnTo>
                      <a:pt x="3001" y="407"/>
                    </a:lnTo>
                    <a:lnTo>
                      <a:pt x="3027" y="415"/>
                    </a:lnTo>
                    <a:lnTo>
                      <a:pt x="3052" y="420"/>
                    </a:lnTo>
                    <a:lnTo>
                      <a:pt x="3125" y="430"/>
                    </a:lnTo>
                    <a:lnTo>
                      <a:pt x="3199" y="438"/>
                    </a:lnTo>
                    <a:lnTo>
                      <a:pt x="3258" y="440"/>
                    </a:lnTo>
                    <a:lnTo>
                      <a:pt x="3343" y="447"/>
                    </a:lnTo>
                    <a:lnTo>
                      <a:pt x="3428" y="453"/>
                    </a:lnTo>
                    <a:lnTo>
                      <a:pt x="3585" y="453"/>
                    </a:lnTo>
                    <a:lnTo>
                      <a:pt x="3733" y="450"/>
                    </a:lnTo>
                    <a:lnTo>
                      <a:pt x="3609" y="443"/>
                    </a:lnTo>
                    <a:lnTo>
                      <a:pt x="3562" y="434"/>
                    </a:lnTo>
                    <a:lnTo>
                      <a:pt x="3575" y="420"/>
                    </a:lnTo>
                    <a:lnTo>
                      <a:pt x="3598" y="412"/>
                    </a:lnTo>
                    <a:lnTo>
                      <a:pt x="3575" y="401"/>
                    </a:lnTo>
                    <a:lnTo>
                      <a:pt x="3586" y="395"/>
                    </a:lnTo>
                    <a:lnTo>
                      <a:pt x="3550" y="389"/>
                    </a:lnTo>
                    <a:lnTo>
                      <a:pt x="3559" y="386"/>
                    </a:lnTo>
                    <a:lnTo>
                      <a:pt x="3635" y="389"/>
                    </a:lnTo>
                    <a:lnTo>
                      <a:pt x="3724" y="389"/>
                    </a:lnTo>
                    <a:lnTo>
                      <a:pt x="3750" y="381"/>
                    </a:lnTo>
                    <a:lnTo>
                      <a:pt x="3732" y="376"/>
                    </a:lnTo>
                    <a:lnTo>
                      <a:pt x="3716" y="366"/>
                    </a:lnTo>
                    <a:lnTo>
                      <a:pt x="3663" y="359"/>
                    </a:lnTo>
                    <a:lnTo>
                      <a:pt x="3609" y="352"/>
                    </a:lnTo>
                    <a:lnTo>
                      <a:pt x="3599" y="345"/>
                    </a:lnTo>
                    <a:lnTo>
                      <a:pt x="3647" y="333"/>
                    </a:lnTo>
                    <a:lnTo>
                      <a:pt x="3614" y="332"/>
                    </a:lnTo>
                    <a:lnTo>
                      <a:pt x="3590" y="329"/>
                    </a:lnTo>
                    <a:lnTo>
                      <a:pt x="3603" y="314"/>
                    </a:lnTo>
                    <a:lnTo>
                      <a:pt x="3616" y="316"/>
                    </a:lnTo>
                    <a:lnTo>
                      <a:pt x="3628" y="313"/>
                    </a:lnTo>
                    <a:lnTo>
                      <a:pt x="3674" y="314"/>
                    </a:lnTo>
                    <a:lnTo>
                      <a:pt x="3686" y="317"/>
                    </a:lnTo>
                    <a:lnTo>
                      <a:pt x="3730" y="323"/>
                    </a:lnTo>
                    <a:lnTo>
                      <a:pt x="3775" y="316"/>
                    </a:lnTo>
                    <a:lnTo>
                      <a:pt x="3785" y="316"/>
                    </a:lnTo>
                    <a:lnTo>
                      <a:pt x="3791" y="311"/>
                    </a:lnTo>
                    <a:lnTo>
                      <a:pt x="3795" y="307"/>
                    </a:lnTo>
                    <a:lnTo>
                      <a:pt x="3804" y="304"/>
                    </a:lnTo>
                    <a:lnTo>
                      <a:pt x="3746" y="297"/>
                    </a:lnTo>
                    <a:lnTo>
                      <a:pt x="3766" y="294"/>
                    </a:lnTo>
                    <a:lnTo>
                      <a:pt x="3805" y="299"/>
                    </a:lnTo>
                    <a:lnTo>
                      <a:pt x="3801" y="291"/>
                    </a:lnTo>
                    <a:lnTo>
                      <a:pt x="3860" y="283"/>
                    </a:lnTo>
                    <a:lnTo>
                      <a:pt x="3917" y="275"/>
                    </a:lnTo>
                    <a:lnTo>
                      <a:pt x="3943" y="275"/>
                    </a:lnTo>
                    <a:lnTo>
                      <a:pt x="3975" y="267"/>
                    </a:lnTo>
                    <a:lnTo>
                      <a:pt x="3997" y="261"/>
                    </a:lnTo>
                    <a:lnTo>
                      <a:pt x="4027" y="263"/>
                    </a:lnTo>
                    <a:lnTo>
                      <a:pt x="4067" y="264"/>
                    </a:lnTo>
                    <a:lnTo>
                      <a:pt x="4125" y="263"/>
                    </a:lnTo>
                    <a:lnTo>
                      <a:pt x="4184" y="260"/>
                    </a:lnTo>
                    <a:lnTo>
                      <a:pt x="4241" y="257"/>
                    </a:lnTo>
                    <a:lnTo>
                      <a:pt x="4301" y="255"/>
                    </a:lnTo>
                    <a:lnTo>
                      <a:pt x="4341" y="257"/>
                    </a:lnTo>
                    <a:lnTo>
                      <a:pt x="4362" y="245"/>
                    </a:lnTo>
                    <a:lnTo>
                      <a:pt x="4380" y="248"/>
                    </a:lnTo>
                    <a:lnTo>
                      <a:pt x="4370" y="255"/>
                    </a:lnTo>
                    <a:lnTo>
                      <a:pt x="4367" y="261"/>
                    </a:lnTo>
                    <a:lnTo>
                      <a:pt x="4390" y="264"/>
                    </a:lnTo>
                    <a:lnTo>
                      <a:pt x="4397" y="255"/>
                    </a:lnTo>
                    <a:lnTo>
                      <a:pt x="4413" y="251"/>
                    </a:lnTo>
                    <a:lnTo>
                      <a:pt x="4420" y="260"/>
                    </a:lnTo>
                    <a:lnTo>
                      <a:pt x="4440" y="263"/>
                    </a:lnTo>
                    <a:lnTo>
                      <a:pt x="4445" y="263"/>
                    </a:lnTo>
                    <a:lnTo>
                      <a:pt x="4473" y="260"/>
                    </a:lnTo>
                    <a:lnTo>
                      <a:pt x="4469" y="268"/>
                    </a:lnTo>
                    <a:lnTo>
                      <a:pt x="4493" y="265"/>
                    </a:lnTo>
                    <a:lnTo>
                      <a:pt x="4551" y="274"/>
                    </a:lnTo>
                    <a:lnTo>
                      <a:pt x="4542" y="267"/>
                    </a:lnTo>
                    <a:lnTo>
                      <a:pt x="4555" y="263"/>
                    </a:lnTo>
                    <a:lnTo>
                      <a:pt x="4571" y="263"/>
                    </a:lnTo>
                    <a:lnTo>
                      <a:pt x="4578" y="257"/>
                    </a:lnTo>
                    <a:lnTo>
                      <a:pt x="4561" y="255"/>
                    </a:lnTo>
                    <a:lnTo>
                      <a:pt x="4571" y="245"/>
                    </a:lnTo>
                    <a:lnTo>
                      <a:pt x="4550" y="244"/>
                    </a:lnTo>
                    <a:lnTo>
                      <a:pt x="4555" y="238"/>
                    </a:lnTo>
                    <a:lnTo>
                      <a:pt x="4603" y="242"/>
                    </a:lnTo>
                    <a:lnTo>
                      <a:pt x="4616" y="238"/>
                    </a:lnTo>
                    <a:lnTo>
                      <a:pt x="4561" y="229"/>
                    </a:lnTo>
                    <a:lnTo>
                      <a:pt x="4576" y="219"/>
                    </a:lnTo>
                    <a:lnTo>
                      <a:pt x="4583" y="225"/>
                    </a:lnTo>
                    <a:lnTo>
                      <a:pt x="4650" y="228"/>
                    </a:lnTo>
                    <a:lnTo>
                      <a:pt x="4698" y="231"/>
                    </a:lnTo>
                    <a:lnTo>
                      <a:pt x="4714" y="225"/>
                    </a:lnTo>
                    <a:lnTo>
                      <a:pt x="4764" y="232"/>
                    </a:lnTo>
                    <a:lnTo>
                      <a:pt x="4803" y="224"/>
                    </a:lnTo>
                    <a:lnTo>
                      <a:pt x="4809" y="216"/>
                    </a:lnTo>
                    <a:lnTo>
                      <a:pt x="4825" y="221"/>
                    </a:lnTo>
                    <a:lnTo>
                      <a:pt x="4810" y="227"/>
                    </a:lnTo>
                    <a:lnTo>
                      <a:pt x="4848" y="229"/>
                    </a:lnTo>
                    <a:lnTo>
                      <a:pt x="4854" y="228"/>
                    </a:lnTo>
                    <a:lnTo>
                      <a:pt x="4859" y="237"/>
                    </a:lnTo>
                    <a:lnTo>
                      <a:pt x="4881" y="238"/>
                    </a:lnTo>
                    <a:lnTo>
                      <a:pt x="4908" y="244"/>
                    </a:lnTo>
                    <a:lnTo>
                      <a:pt x="4927" y="232"/>
                    </a:lnTo>
                    <a:lnTo>
                      <a:pt x="4943" y="232"/>
                    </a:lnTo>
                    <a:lnTo>
                      <a:pt x="4949" y="225"/>
                    </a:lnTo>
                    <a:lnTo>
                      <a:pt x="4963" y="235"/>
                    </a:lnTo>
                    <a:lnTo>
                      <a:pt x="4960" y="239"/>
                    </a:lnTo>
                    <a:lnTo>
                      <a:pt x="4990" y="238"/>
                    </a:lnTo>
                    <a:lnTo>
                      <a:pt x="4975" y="244"/>
                    </a:lnTo>
                    <a:lnTo>
                      <a:pt x="5057" y="235"/>
                    </a:lnTo>
                    <a:lnTo>
                      <a:pt x="5139" y="227"/>
                    </a:lnTo>
                    <a:lnTo>
                      <a:pt x="5192" y="212"/>
                    </a:lnTo>
                    <a:lnTo>
                      <a:pt x="5216" y="188"/>
                    </a:lnTo>
                    <a:lnTo>
                      <a:pt x="5242" y="163"/>
                    </a:lnTo>
                    <a:lnTo>
                      <a:pt x="5258" y="146"/>
                    </a:lnTo>
                    <a:lnTo>
                      <a:pt x="5291" y="142"/>
                    </a:lnTo>
                    <a:lnTo>
                      <a:pt x="5301" y="136"/>
                    </a:lnTo>
                    <a:lnTo>
                      <a:pt x="5306" y="131"/>
                    </a:lnTo>
                    <a:lnTo>
                      <a:pt x="5319" y="120"/>
                    </a:lnTo>
                    <a:lnTo>
                      <a:pt x="5327" y="119"/>
                    </a:lnTo>
                    <a:lnTo>
                      <a:pt x="5340" y="108"/>
                    </a:lnTo>
                    <a:lnTo>
                      <a:pt x="5350" y="101"/>
                    </a:lnTo>
                    <a:lnTo>
                      <a:pt x="5336" y="101"/>
                    </a:lnTo>
                    <a:lnTo>
                      <a:pt x="5363" y="88"/>
                    </a:lnTo>
                    <a:lnTo>
                      <a:pt x="5362" y="98"/>
                    </a:lnTo>
                    <a:lnTo>
                      <a:pt x="5391" y="80"/>
                    </a:lnTo>
                    <a:lnTo>
                      <a:pt x="5399" y="80"/>
                    </a:lnTo>
                    <a:lnTo>
                      <a:pt x="5415" y="70"/>
                    </a:lnTo>
                    <a:lnTo>
                      <a:pt x="5422" y="68"/>
                    </a:lnTo>
                    <a:lnTo>
                      <a:pt x="5441" y="65"/>
                    </a:lnTo>
                    <a:lnTo>
                      <a:pt x="5444" y="61"/>
                    </a:lnTo>
                    <a:lnTo>
                      <a:pt x="5466" y="54"/>
                    </a:lnTo>
                    <a:lnTo>
                      <a:pt x="5480" y="45"/>
                    </a:lnTo>
                    <a:lnTo>
                      <a:pt x="5494" y="44"/>
                    </a:lnTo>
                    <a:lnTo>
                      <a:pt x="5513" y="36"/>
                    </a:lnTo>
                    <a:lnTo>
                      <a:pt x="5562" y="22"/>
                    </a:lnTo>
                    <a:lnTo>
                      <a:pt x="5592" y="16"/>
                    </a:lnTo>
                    <a:lnTo>
                      <a:pt x="5659" y="0"/>
                    </a:lnTo>
                    <a:lnTo>
                      <a:pt x="5649" y="10"/>
                    </a:lnTo>
                    <a:lnTo>
                      <a:pt x="5638" y="9"/>
                    </a:lnTo>
                    <a:lnTo>
                      <a:pt x="5594" y="26"/>
                    </a:lnTo>
                    <a:lnTo>
                      <a:pt x="5587" y="29"/>
                    </a:lnTo>
                    <a:lnTo>
                      <a:pt x="5578" y="28"/>
                    </a:lnTo>
                    <a:lnTo>
                      <a:pt x="5571" y="32"/>
                    </a:lnTo>
                    <a:lnTo>
                      <a:pt x="5502" y="52"/>
                    </a:lnTo>
                    <a:lnTo>
                      <a:pt x="5500" y="57"/>
                    </a:lnTo>
                    <a:lnTo>
                      <a:pt x="5476" y="67"/>
                    </a:lnTo>
                    <a:lnTo>
                      <a:pt x="5493" y="68"/>
                    </a:lnTo>
                    <a:lnTo>
                      <a:pt x="5510" y="65"/>
                    </a:lnTo>
                    <a:lnTo>
                      <a:pt x="5490" y="71"/>
                    </a:lnTo>
                    <a:lnTo>
                      <a:pt x="5476" y="74"/>
                    </a:lnTo>
                    <a:lnTo>
                      <a:pt x="5458" y="74"/>
                    </a:lnTo>
                    <a:lnTo>
                      <a:pt x="5453" y="80"/>
                    </a:lnTo>
                    <a:lnTo>
                      <a:pt x="5448" y="82"/>
                    </a:lnTo>
                    <a:lnTo>
                      <a:pt x="5450" y="71"/>
                    </a:lnTo>
                    <a:lnTo>
                      <a:pt x="5421" y="84"/>
                    </a:lnTo>
                    <a:lnTo>
                      <a:pt x="5418" y="88"/>
                    </a:lnTo>
                    <a:lnTo>
                      <a:pt x="5398" y="93"/>
                    </a:lnTo>
                    <a:lnTo>
                      <a:pt x="5386" y="98"/>
                    </a:lnTo>
                    <a:lnTo>
                      <a:pt x="5369" y="104"/>
                    </a:lnTo>
                    <a:lnTo>
                      <a:pt x="5349" y="117"/>
                    </a:lnTo>
                    <a:lnTo>
                      <a:pt x="5366" y="117"/>
                    </a:lnTo>
                    <a:lnTo>
                      <a:pt x="5355" y="121"/>
                    </a:lnTo>
                    <a:lnTo>
                      <a:pt x="5346" y="129"/>
                    </a:lnTo>
                    <a:lnTo>
                      <a:pt x="5359" y="129"/>
                    </a:lnTo>
                    <a:lnTo>
                      <a:pt x="5384" y="124"/>
                    </a:lnTo>
                    <a:lnTo>
                      <a:pt x="5365" y="130"/>
                    </a:lnTo>
                    <a:lnTo>
                      <a:pt x="5366" y="134"/>
                    </a:lnTo>
                    <a:lnTo>
                      <a:pt x="5358" y="142"/>
                    </a:lnTo>
                    <a:lnTo>
                      <a:pt x="5365" y="149"/>
                    </a:lnTo>
                    <a:lnTo>
                      <a:pt x="5350" y="159"/>
                    </a:lnTo>
                    <a:lnTo>
                      <a:pt x="5346" y="166"/>
                    </a:lnTo>
                    <a:lnTo>
                      <a:pt x="5336" y="167"/>
                    </a:lnTo>
                    <a:lnTo>
                      <a:pt x="5340" y="173"/>
                    </a:lnTo>
                    <a:lnTo>
                      <a:pt x="5326" y="180"/>
                    </a:lnTo>
                    <a:lnTo>
                      <a:pt x="5332" y="182"/>
                    </a:lnTo>
                    <a:lnTo>
                      <a:pt x="5317" y="192"/>
                    </a:lnTo>
                    <a:lnTo>
                      <a:pt x="5301" y="201"/>
                    </a:lnTo>
                    <a:lnTo>
                      <a:pt x="5286" y="203"/>
                    </a:lnTo>
                    <a:lnTo>
                      <a:pt x="5304" y="205"/>
                    </a:lnTo>
                    <a:lnTo>
                      <a:pt x="5286" y="214"/>
                    </a:lnTo>
                    <a:lnTo>
                      <a:pt x="5270" y="218"/>
                    </a:lnTo>
                    <a:lnTo>
                      <a:pt x="5281" y="222"/>
                    </a:lnTo>
                    <a:lnTo>
                      <a:pt x="5278" y="224"/>
                    </a:lnTo>
                    <a:lnTo>
                      <a:pt x="5287" y="225"/>
                    </a:lnTo>
                    <a:lnTo>
                      <a:pt x="5271" y="231"/>
                    </a:lnTo>
                    <a:lnTo>
                      <a:pt x="5270" y="228"/>
                    </a:lnTo>
                    <a:lnTo>
                      <a:pt x="5261" y="231"/>
                    </a:lnTo>
                    <a:lnTo>
                      <a:pt x="5247" y="229"/>
                    </a:lnTo>
                    <a:lnTo>
                      <a:pt x="5245" y="235"/>
                    </a:lnTo>
                    <a:lnTo>
                      <a:pt x="5250" y="241"/>
                    </a:lnTo>
                    <a:lnTo>
                      <a:pt x="5231" y="245"/>
                    </a:lnTo>
                    <a:lnTo>
                      <a:pt x="5221" y="251"/>
                    </a:lnTo>
                    <a:lnTo>
                      <a:pt x="5224" y="255"/>
                    </a:lnTo>
                    <a:lnTo>
                      <a:pt x="5193" y="257"/>
                    </a:lnTo>
                    <a:lnTo>
                      <a:pt x="5180" y="268"/>
                    </a:lnTo>
                    <a:lnTo>
                      <a:pt x="5170" y="263"/>
                    </a:lnTo>
                    <a:lnTo>
                      <a:pt x="5163" y="267"/>
                    </a:lnTo>
                    <a:lnTo>
                      <a:pt x="5147" y="270"/>
                    </a:lnTo>
                    <a:lnTo>
                      <a:pt x="5157" y="271"/>
                    </a:lnTo>
                    <a:lnTo>
                      <a:pt x="5139" y="275"/>
                    </a:lnTo>
                    <a:lnTo>
                      <a:pt x="5149" y="275"/>
                    </a:lnTo>
                    <a:lnTo>
                      <a:pt x="5081" y="286"/>
                    </a:lnTo>
                    <a:lnTo>
                      <a:pt x="5015" y="294"/>
                    </a:lnTo>
                    <a:lnTo>
                      <a:pt x="4954" y="290"/>
                    </a:lnTo>
                    <a:lnTo>
                      <a:pt x="4895" y="286"/>
                    </a:lnTo>
                    <a:lnTo>
                      <a:pt x="4818" y="297"/>
                    </a:lnTo>
                    <a:lnTo>
                      <a:pt x="4741" y="309"/>
                    </a:lnTo>
                    <a:lnTo>
                      <a:pt x="4728" y="316"/>
                    </a:lnTo>
                    <a:lnTo>
                      <a:pt x="4769" y="327"/>
                    </a:lnTo>
                    <a:lnTo>
                      <a:pt x="4809" y="339"/>
                    </a:lnTo>
                    <a:lnTo>
                      <a:pt x="4761" y="346"/>
                    </a:lnTo>
                    <a:lnTo>
                      <a:pt x="4734" y="346"/>
                    </a:lnTo>
                    <a:lnTo>
                      <a:pt x="4724" y="352"/>
                    </a:lnTo>
                    <a:lnTo>
                      <a:pt x="4715" y="365"/>
                    </a:lnTo>
                    <a:lnTo>
                      <a:pt x="4733" y="355"/>
                    </a:lnTo>
                    <a:lnTo>
                      <a:pt x="4794" y="359"/>
                    </a:lnTo>
                    <a:lnTo>
                      <a:pt x="4782" y="366"/>
                    </a:lnTo>
                    <a:lnTo>
                      <a:pt x="4718" y="369"/>
                    </a:lnTo>
                    <a:lnTo>
                      <a:pt x="4754" y="373"/>
                    </a:lnTo>
                    <a:lnTo>
                      <a:pt x="4766" y="382"/>
                    </a:lnTo>
                    <a:lnTo>
                      <a:pt x="4842" y="391"/>
                    </a:lnTo>
                    <a:lnTo>
                      <a:pt x="4884" y="401"/>
                    </a:lnTo>
                    <a:lnTo>
                      <a:pt x="4926" y="411"/>
                    </a:lnTo>
                    <a:lnTo>
                      <a:pt x="4911" y="418"/>
                    </a:lnTo>
                    <a:lnTo>
                      <a:pt x="5019" y="404"/>
                    </a:lnTo>
                    <a:lnTo>
                      <a:pt x="5108" y="399"/>
                    </a:lnTo>
                    <a:lnTo>
                      <a:pt x="5199" y="396"/>
                    </a:lnTo>
                    <a:lnTo>
                      <a:pt x="5276" y="386"/>
                    </a:lnTo>
                    <a:lnTo>
                      <a:pt x="5352" y="376"/>
                    </a:lnTo>
                    <a:lnTo>
                      <a:pt x="5431" y="375"/>
                    </a:lnTo>
                    <a:lnTo>
                      <a:pt x="5454" y="369"/>
                    </a:lnTo>
                    <a:lnTo>
                      <a:pt x="5467" y="360"/>
                    </a:lnTo>
                    <a:lnTo>
                      <a:pt x="5499" y="352"/>
                    </a:lnTo>
                    <a:lnTo>
                      <a:pt x="5427" y="345"/>
                    </a:lnTo>
                    <a:lnTo>
                      <a:pt x="5438" y="337"/>
                    </a:lnTo>
                    <a:lnTo>
                      <a:pt x="5447" y="335"/>
                    </a:lnTo>
                    <a:lnTo>
                      <a:pt x="5469" y="330"/>
                    </a:lnTo>
                    <a:lnTo>
                      <a:pt x="5479" y="326"/>
                    </a:lnTo>
                    <a:lnTo>
                      <a:pt x="5564" y="313"/>
                    </a:lnTo>
                    <a:lnTo>
                      <a:pt x="5633" y="303"/>
                    </a:lnTo>
                    <a:lnTo>
                      <a:pt x="5055" y="502"/>
                    </a:lnTo>
                    <a:lnTo>
                      <a:pt x="5042" y="502"/>
                    </a:lnTo>
                    <a:lnTo>
                      <a:pt x="4918" y="502"/>
                    </a:lnTo>
                    <a:lnTo>
                      <a:pt x="4869" y="502"/>
                    </a:lnTo>
                    <a:lnTo>
                      <a:pt x="4760" y="502"/>
                    </a:lnTo>
                    <a:lnTo>
                      <a:pt x="4652" y="502"/>
                    </a:lnTo>
                    <a:lnTo>
                      <a:pt x="4553" y="502"/>
                    </a:lnTo>
                    <a:lnTo>
                      <a:pt x="4413" y="502"/>
                    </a:lnTo>
                    <a:lnTo>
                      <a:pt x="4269" y="502"/>
                    </a:lnTo>
                    <a:lnTo>
                      <a:pt x="4113" y="502"/>
                    </a:lnTo>
                    <a:lnTo>
                      <a:pt x="3976" y="502"/>
                    </a:lnTo>
                    <a:lnTo>
                      <a:pt x="3837" y="502"/>
                    </a:lnTo>
                    <a:lnTo>
                      <a:pt x="3710" y="502"/>
                    </a:lnTo>
                    <a:lnTo>
                      <a:pt x="3590" y="502"/>
                    </a:lnTo>
                    <a:lnTo>
                      <a:pt x="3480" y="502"/>
                    </a:lnTo>
                    <a:lnTo>
                      <a:pt x="3399" y="502"/>
                    </a:lnTo>
                    <a:lnTo>
                      <a:pt x="3300" y="502"/>
                    </a:lnTo>
                    <a:lnTo>
                      <a:pt x="3206" y="502"/>
                    </a:lnTo>
                    <a:lnTo>
                      <a:pt x="3148" y="502"/>
                    </a:lnTo>
                    <a:lnTo>
                      <a:pt x="3118" y="502"/>
                    </a:lnTo>
                    <a:lnTo>
                      <a:pt x="3022" y="502"/>
                    </a:lnTo>
                    <a:lnTo>
                      <a:pt x="2893" y="502"/>
                    </a:lnTo>
                    <a:lnTo>
                      <a:pt x="2767" y="502"/>
                    </a:lnTo>
                    <a:lnTo>
                      <a:pt x="2640" y="502"/>
                    </a:lnTo>
                    <a:lnTo>
                      <a:pt x="2512" y="502"/>
                    </a:lnTo>
                    <a:lnTo>
                      <a:pt x="2385" y="502"/>
                    </a:lnTo>
                    <a:lnTo>
                      <a:pt x="2258" y="502"/>
                    </a:lnTo>
                    <a:lnTo>
                      <a:pt x="2130" y="502"/>
                    </a:lnTo>
                    <a:lnTo>
                      <a:pt x="2003" y="502"/>
                    </a:lnTo>
                    <a:lnTo>
                      <a:pt x="1877" y="502"/>
                    </a:lnTo>
                    <a:lnTo>
                      <a:pt x="1750" y="502"/>
                    </a:lnTo>
                    <a:lnTo>
                      <a:pt x="1622" y="502"/>
                    </a:lnTo>
                    <a:lnTo>
                      <a:pt x="1495" y="502"/>
                    </a:lnTo>
                    <a:lnTo>
                      <a:pt x="1368" y="502"/>
                    </a:lnTo>
                    <a:lnTo>
                      <a:pt x="1240" y="502"/>
                    </a:lnTo>
                    <a:lnTo>
                      <a:pt x="1113" y="502"/>
                    </a:lnTo>
                    <a:lnTo>
                      <a:pt x="987" y="502"/>
                    </a:lnTo>
                    <a:lnTo>
                      <a:pt x="858" y="502"/>
                    </a:lnTo>
                    <a:lnTo>
                      <a:pt x="732" y="502"/>
                    </a:lnTo>
                    <a:lnTo>
                      <a:pt x="605" y="502"/>
                    </a:lnTo>
                    <a:lnTo>
                      <a:pt x="478" y="502"/>
                    </a:lnTo>
                    <a:lnTo>
                      <a:pt x="128" y="371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5169600" y="4093200"/>
                <a:ext cx="34560" cy="12240"/>
              </a:xfrm>
              <a:custGeom>
                <a:avLst/>
                <a:gdLst/>
                <a:ahLst/>
                <a:rect l="l" t="t" r="r" b="b"/>
                <a:pathLst>
                  <a:path w="65" h="18">
                    <a:moveTo>
                      <a:pt x="65" y="18"/>
                    </a:moveTo>
                    <a:lnTo>
                      <a:pt x="38" y="0"/>
                    </a:lnTo>
                    <a:lnTo>
                      <a:pt x="0" y="5"/>
                    </a:lnTo>
                    <a:lnTo>
                      <a:pt x="6" y="14"/>
                    </a:lnTo>
                    <a:lnTo>
                      <a:pt x="65" y="18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6455160" y="3639240"/>
                <a:ext cx="24840" cy="18360"/>
              </a:xfrm>
              <a:custGeom>
                <a:avLst/>
                <a:gdLst/>
                <a:ahLst/>
                <a:rect l="l" t="t" r="r" b="b"/>
                <a:pathLst>
                  <a:path w="49" h="28">
                    <a:moveTo>
                      <a:pt x="49" y="12"/>
                    </a:moveTo>
                    <a:lnTo>
                      <a:pt x="47" y="8"/>
                    </a:lnTo>
                    <a:lnTo>
                      <a:pt x="42" y="6"/>
                    </a:lnTo>
                    <a:lnTo>
                      <a:pt x="40" y="5"/>
                    </a:lnTo>
                    <a:lnTo>
                      <a:pt x="36" y="0"/>
                    </a:lnTo>
                    <a:lnTo>
                      <a:pt x="23" y="10"/>
                    </a:lnTo>
                    <a:lnTo>
                      <a:pt x="4" y="19"/>
                    </a:lnTo>
                    <a:lnTo>
                      <a:pt x="0" y="28"/>
                    </a:lnTo>
                    <a:lnTo>
                      <a:pt x="11" y="22"/>
                    </a:lnTo>
                    <a:lnTo>
                      <a:pt x="17" y="21"/>
                    </a:lnTo>
                    <a:lnTo>
                      <a:pt x="20" y="18"/>
                    </a:lnTo>
                    <a:lnTo>
                      <a:pt x="49" y="12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6440760" y="3641400"/>
                <a:ext cx="28080" cy="12240"/>
              </a:xfrm>
              <a:custGeom>
                <a:avLst/>
                <a:gdLst/>
                <a:ahLst/>
                <a:rect l="l" t="t" r="r" b="b"/>
                <a:pathLst>
                  <a:path w="52" h="19">
                    <a:moveTo>
                      <a:pt x="23" y="9"/>
                    </a:moveTo>
                    <a:lnTo>
                      <a:pt x="26" y="2"/>
                    </a:lnTo>
                    <a:lnTo>
                      <a:pt x="52" y="0"/>
                    </a:lnTo>
                    <a:lnTo>
                      <a:pt x="20" y="15"/>
                    </a:lnTo>
                    <a:lnTo>
                      <a:pt x="0" y="19"/>
                    </a:lnTo>
                    <a:lnTo>
                      <a:pt x="19" y="12"/>
                    </a:lnTo>
                    <a:lnTo>
                      <a:pt x="17" y="10"/>
                    </a:lnTo>
                    <a:lnTo>
                      <a:pt x="23" y="9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3345480" y="2965680"/>
                <a:ext cx="99000" cy="128520"/>
              </a:xfrm>
              <a:custGeom>
                <a:avLst/>
                <a:gdLst/>
                <a:ahLst/>
                <a:rect l="l" t="t" r="r" b="b"/>
                <a:pathLst>
                  <a:path w="189" h="183">
                    <a:moveTo>
                      <a:pt x="114" y="174"/>
                    </a:moveTo>
                    <a:lnTo>
                      <a:pt x="107" y="170"/>
                    </a:lnTo>
                    <a:lnTo>
                      <a:pt x="84" y="160"/>
                    </a:lnTo>
                    <a:lnTo>
                      <a:pt x="71" y="138"/>
                    </a:lnTo>
                    <a:lnTo>
                      <a:pt x="64" y="130"/>
                    </a:lnTo>
                    <a:lnTo>
                      <a:pt x="58" y="124"/>
                    </a:lnTo>
                    <a:lnTo>
                      <a:pt x="38" y="111"/>
                    </a:lnTo>
                    <a:lnTo>
                      <a:pt x="19" y="85"/>
                    </a:lnTo>
                    <a:lnTo>
                      <a:pt x="0" y="58"/>
                    </a:lnTo>
                    <a:lnTo>
                      <a:pt x="35" y="66"/>
                    </a:lnTo>
                    <a:lnTo>
                      <a:pt x="54" y="46"/>
                    </a:lnTo>
                    <a:lnTo>
                      <a:pt x="75" y="25"/>
                    </a:lnTo>
                    <a:lnTo>
                      <a:pt x="80" y="9"/>
                    </a:lnTo>
                    <a:lnTo>
                      <a:pt x="97" y="4"/>
                    </a:lnTo>
                    <a:lnTo>
                      <a:pt x="113" y="0"/>
                    </a:lnTo>
                    <a:lnTo>
                      <a:pt x="114" y="10"/>
                    </a:lnTo>
                    <a:lnTo>
                      <a:pt x="127" y="10"/>
                    </a:lnTo>
                    <a:lnTo>
                      <a:pt x="152" y="19"/>
                    </a:lnTo>
                    <a:lnTo>
                      <a:pt x="176" y="29"/>
                    </a:lnTo>
                    <a:lnTo>
                      <a:pt x="182" y="62"/>
                    </a:lnTo>
                    <a:lnTo>
                      <a:pt x="182" y="85"/>
                    </a:lnTo>
                    <a:lnTo>
                      <a:pt x="189" y="109"/>
                    </a:lnTo>
                    <a:lnTo>
                      <a:pt x="186" y="133"/>
                    </a:lnTo>
                    <a:lnTo>
                      <a:pt x="185" y="154"/>
                    </a:lnTo>
                    <a:lnTo>
                      <a:pt x="173" y="169"/>
                    </a:lnTo>
                    <a:lnTo>
                      <a:pt x="162" y="183"/>
                    </a:lnTo>
                    <a:lnTo>
                      <a:pt x="139" y="180"/>
                    </a:lnTo>
                    <a:lnTo>
                      <a:pt x="116" y="177"/>
                    </a:lnTo>
                    <a:lnTo>
                      <a:pt x="114" y="17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3402360" y="2868480"/>
                <a:ext cx="128520" cy="309960"/>
              </a:xfrm>
              <a:custGeom>
                <a:avLst/>
                <a:gdLst/>
                <a:ahLst/>
                <a:rect l="l" t="t" r="r" b="b"/>
                <a:pathLst>
                  <a:path w="248" h="442">
                    <a:moveTo>
                      <a:pt x="131" y="277"/>
                    </a:moveTo>
                    <a:lnTo>
                      <a:pt x="125" y="258"/>
                    </a:lnTo>
                    <a:lnTo>
                      <a:pt x="122" y="251"/>
                    </a:lnTo>
                    <a:lnTo>
                      <a:pt x="133" y="249"/>
                    </a:lnTo>
                    <a:lnTo>
                      <a:pt x="156" y="228"/>
                    </a:lnTo>
                    <a:lnTo>
                      <a:pt x="169" y="203"/>
                    </a:lnTo>
                    <a:lnTo>
                      <a:pt x="187" y="192"/>
                    </a:lnTo>
                    <a:lnTo>
                      <a:pt x="205" y="179"/>
                    </a:lnTo>
                    <a:lnTo>
                      <a:pt x="232" y="160"/>
                    </a:lnTo>
                    <a:lnTo>
                      <a:pt x="245" y="129"/>
                    </a:lnTo>
                    <a:lnTo>
                      <a:pt x="248" y="107"/>
                    </a:lnTo>
                    <a:lnTo>
                      <a:pt x="245" y="107"/>
                    </a:lnTo>
                    <a:lnTo>
                      <a:pt x="236" y="69"/>
                    </a:lnTo>
                    <a:lnTo>
                      <a:pt x="238" y="55"/>
                    </a:lnTo>
                    <a:lnTo>
                      <a:pt x="233" y="18"/>
                    </a:lnTo>
                    <a:lnTo>
                      <a:pt x="232" y="0"/>
                    </a:lnTo>
                    <a:lnTo>
                      <a:pt x="230" y="0"/>
                    </a:lnTo>
                    <a:lnTo>
                      <a:pt x="206" y="12"/>
                    </a:lnTo>
                    <a:lnTo>
                      <a:pt x="183" y="25"/>
                    </a:lnTo>
                    <a:lnTo>
                      <a:pt x="171" y="25"/>
                    </a:lnTo>
                    <a:lnTo>
                      <a:pt x="154" y="32"/>
                    </a:lnTo>
                    <a:lnTo>
                      <a:pt x="127" y="28"/>
                    </a:lnTo>
                    <a:lnTo>
                      <a:pt x="114" y="29"/>
                    </a:lnTo>
                    <a:lnTo>
                      <a:pt x="102" y="29"/>
                    </a:lnTo>
                    <a:lnTo>
                      <a:pt x="95" y="35"/>
                    </a:lnTo>
                    <a:lnTo>
                      <a:pt x="92" y="55"/>
                    </a:lnTo>
                    <a:lnTo>
                      <a:pt x="99" y="82"/>
                    </a:lnTo>
                    <a:lnTo>
                      <a:pt x="117" y="97"/>
                    </a:lnTo>
                    <a:lnTo>
                      <a:pt x="133" y="113"/>
                    </a:lnTo>
                    <a:lnTo>
                      <a:pt x="133" y="133"/>
                    </a:lnTo>
                    <a:lnTo>
                      <a:pt x="133" y="153"/>
                    </a:lnTo>
                    <a:lnTo>
                      <a:pt x="121" y="165"/>
                    </a:lnTo>
                    <a:lnTo>
                      <a:pt x="127" y="180"/>
                    </a:lnTo>
                    <a:lnTo>
                      <a:pt x="112" y="163"/>
                    </a:lnTo>
                    <a:lnTo>
                      <a:pt x="98" y="144"/>
                    </a:lnTo>
                    <a:lnTo>
                      <a:pt x="102" y="117"/>
                    </a:lnTo>
                    <a:lnTo>
                      <a:pt x="92" y="107"/>
                    </a:lnTo>
                    <a:lnTo>
                      <a:pt x="76" y="107"/>
                    </a:lnTo>
                    <a:lnTo>
                      <a:pt x="68" y="95"/>
                    </a:lnTo>
                    <a:lnTo>
                      <a:pt x="50" y="103"/>
                    </a:lnTo>
                    <a:lnTo>
                      <a:pt x="33" y="110"/>
                    </a:lnTo>
                    <a:lnTo>
                      <a:pt x="16" y="118"/>
                    </a:lnTo>
                    <a:lnTo>
                      <a:pt x="0" y="126"/>
                    </a:lnTo>
                    <a:lnTo>
                      <a:pt x="6" y="140"/>
                    </a:lnTo>
                    <a:lnTo>
                      <a:pt x="7" y="150"/>
                    </a:lnTo>
                    <a:lnTo>
                      <a:pt x="20" y="150"/>
                    </a:lnTo>
                    <a:lnTo>
                      <a:pt x="45" y="159"/>
                    </a:lnTo>
                    <a:lnTo>
                      <a:pt x="69" y="169"/>
                    </a:lnTo>
                    <a:lnTo>
                      <a:pt x="75" y="202"/>
                    </a:lnTo>
                    <a:lnTo>
                      <a:pt x="75" y="225"/>
                    </a:lnTo>
                    <a:lnTo>
                      <a:pt x="82" y="249"/>
                    </a:lnTo>
                    <a:lnTo>
                      <a:pt x="79" y="273"/>
                    </a:lnTo>
                    <a:lnTo>
                      <a:pt x="78" y="294"/>
                    </a:lnTo>
                    <a:lnTo>
                      <a:pt x="66" y="309"/>
                    </a:lnTo>
                    <a:lnTo>
                      <a:pt x="55" y="323"/>
                    </a:lnTo>
                    <a:lnTo>
                      <a:pt x="63" y="343"/>
                    </a:lnTo>
                    <a:lnTo>
                      <a:pt x="72" y="362"/>
                    </a:lnTo>
                    <a:lnTo>
                      <a:pt x="79" y="391"/>
                    </a:lnTo>
                    <a:lnTo>
                      <a:pt x="88" y="418"/>
                    </a:lnTo>
                    <a:lnTo>
                      <a:pt x="98" y="442"/>
                    </a:lnTo>
                    <a:lnTo>
                      <a:pt x="115" y="442"/>
                    </a:lnTo>
                    <a:lnTo>
                      <a:pt x="111" y="425"/>
                    </a:lnTo>
                    <a:lnTo>
                      <a:pt x="104" y="419"/>
                    </a:lnTo>
                    <a:lnTo>
                      <a:pt x="124" y="396"/>
                    </a:lnTo>
                    <a:lnTo>
                      <a:pt x="141" y="385"/>
                    </a:lnTo>
                    <a:lnTo>
                      <a:pt x="158" y="373"/>
                    </a:lnTo>
                    <a:lnTo>
                      <a:pt x="157" y="362"/>
                    </a:lnTo>
                    <a:lnTo>
                      <a:pt x="154" y="339"/>
                    </a:lnTo>
                    <a:lnTo>
                      <a:pt x="151" y="314"/>
                    </a:lnTo>
                    <a:lnTo>
                      <a:pt x="148" y="323"/>
                    </a:lnTo>
                    <a:lnTo>
                      <a:pt x="140" y="300"/>
                    </a:lnTo>
                    <a:lnTo>
                      <a:pt x="131" y="277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3578040" y="2898360"/>
                <a:ext cx="75240" cy="257400"/>
              </a:xfrm>
              <a:custGeom>
                <a:avLst/>
                <a:gdLst/>
                <a:ahLst/>
                <a:rect l="l" t="t" r="r" b="b"/>
                <a:pathLst>
                  <a:path w="144" h="364">
                    <a:moveTo>
                      <a:pt x="31" y="103"/>
                    </a:moveTo>
                    <a:lnTo>
                      <a:pt x="23" y="105"/>
                    </a:lnTo>
                    <a:lnTo>
                      <a:pt x="4" y="115"/>
                    </a:lnTo>
                    <a:lnTo>
                      <a:pt x="1" y="136"/>
                    </a:lnTo>
                    <a:lnTo>
                      <a:pt x="0" y="158"/>
                    </a:lnTo>
                    <a:lnTo>
                      <a:pt x="8" y="185"/>
                    </a:lnTo>
                    <a:lnTo>
                      <a:pt x="17" y="213"/>
                    </a:lnTo>
                    <a:lnTo>
                      <a:pt x="8" y="231"/>
                    </a:lnTo>
                    <a:lnTo>
                      <a:pt x="0" y="250"/>
                    </a:lnTo>
                    <a:lnTo>
                      <a:pt x="1" y="286"/>
                    </a:lnTo>
                    <a:lnTo>
                      <a:pt x="14" y="315"/>
                    </a:lnTo>
                    <a:lnTo>
                      <a:pt x="30" y="351"/>
                    </a:lnTo>
                    <a:lnTo>
                      <a:pt x="64" y="364"/>
                    </a:lnTo>
                    <a:lnTo>
                      <a:pt x="82" y="354"/>
                    </a:lnTo>
                    <a:lnTo>
                      <a:pt x="100" y="342"/>
                    </a:lnTo>
                    <a:lnTo>
                      <a:pt x="103" y="318"/>
                    </a:lnTo>
                    <a:lnTo>
                      <a:pt x="106" y="293"/>
                    </a:lnTo>
                    <a:lnTo>
                      <a:pt x="109" y="269"/>
                    </a:lnTo>
                    <a:lnTo>
                      <a:pt x="112" y="244"/>
                    </a:lnTo>
                    <a:lnTo>
                      <a:pt x="116" y="220"/>
                    </a:lnTo>
                    <a:lnTo>
                      <a:pt x="119" y="195"/>
                    </a:lnTo>
                    <a:lnTo>
                      <a:pt x="123" y="171"/>
                    </a:lnTo>
                    <a:lnTo>
                      <a:pt x="126" y="145"/>
                    </a:lnTo>
                    <a:lnTo>
                      <a:pt x="134" y="129"/>
                    </a:lnTo>
                    <a:lnTo>
                      <a:pt x="126" y="90"/>
                    </a:lnTo>
                    <a:lnTo>
                      <a:pt x="141" y="102"/>
                    </a:lnTo>
                    <a:lnTo>
                      <a:pt x="144" y="87"/>
                    </a:lnTo>
                    <a:lnTo>
                      <a:pt x="132" y="53"/>
                    </a:lnTo>
                    <a:lnTo>
                      <a:pt x="119" y="18"/>
                    </a:lnTo>
                    <a:lnTo>
                      <a:pt x="109" y="1"/>
                    </a:lnTo>
                    <a:lnTo>
                      <a:pt x="105" y="0"/>
                    </a:lnTo>
                    <a:lnTo>
                      <a:pt x="99" y="8"/>
                    </a:lnTo>
                    <a:lnTo>
                      <a:pt x="98" y="36"/>
                    </a:lnTo>
                    <a:lnTo>
                      <a:pt x="89" y="40"/>
                    </a:lnTo>
                    <a:lnTo>
                      <a:pt x="86" y="44"/>
                    </a:lnTo>
                    <a:lnTo>
                      <a:pt x="79" y="40"/>
                    </a:lnTo>
                    <a:lnTo>
                      <a:pt x="82" y="56"/>
                    </a:lnTo>
                    <a:lnTo>
                      <a:pt x="77" y="66"/>
                    </a:lnTo>
                    <a:lnTo>
                      <a:pt x="82" y="70"/>
                    </a:lnTo>
                    <a:lnTo>
                      <a:pt x="70" y="77"/>
                    </a:lnTo>
                    <a:lnTo>
                      <a:pt x="70" y="70"/>
                    </a:lnTo>
                    <a:lnTo>
                      <a:pt x="66" y="87"/>
                    </a:lnTo>
                    <a:lnTo>
                      <a:pt x="62" y="89"/>
                    </a:lnTo>
                    <a:lnTo>
                      <a:pt x="56" y="87"/>
                    </a:lnTo>
                    <a:lnTo>
                      <a:pt x="49" y="102"/>
                    </a:lnTo>
                    <a:lnTo>
                      <a:pt x="31" y="103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290400" y="3007800"/>
                <a:ext cx="114480" cy="170640"/>
              </a:xfrm>
              <a:custGeom>
                <a:avLst/>
                <a:gdLst/>
                <a:ahLst/>
                <a:rect l="l" t="t" r="r" b="b"/>
                <a:pathLst>
                  <a:path w="219" h="244">
                    <a:moveTo>
                      <a:pt x="15" y="188"/>
                    </a:moveTo>
                    <a:lnTo>
                      <a:pt x="8" y="151"/>
                    </a:lnTo>
                    <a:lnTo>
                      <a:pt x="0" y="113"/>
                    </a:lnTo>
                    <a:lnTo>
                      <a:pt x="25" y="113"/>
                    </a:lnTo>
                    <a:lnTo>
                      <a:pt x="19" y="89"/>
                    </a:lnTo>
                    <a:lnTo>
                      <a:pt x="15" y="64"/>
                    </a:lnTo>
                    <a:lnTo>
                      <a:pt x="10" y="39"/>
                    </a:lnTo>
                    <a:lnTo>
                      <a:pt x="8" y="14"/>
                    </a:lnTo>
                    <a:lnTo>
                      <a:pt x="33" y="11"/>
                    </a:lnTo>
                    <a:lnTo>
                      <a:pt x="61" y="8"/>
                    </a:lnTo>
                    <a:lnTo>
                      <a:pt x="71" y="17"/>
                    </a:lnTo>
                    <a:lnTo>
                      <a:pt x="88" y="7"/>
                    </a:lnTo>
                    <a:lnTo>
                      <a:pt x="105" y="0"/>
                    </a:lnTo>
                    <a:lnTo>
                      <a:pt x="124" y="27"/>
                    </a:lnTo>
                    <a:lnTo>
                      <a:pt x="143" y="53"/>
                    </a:lnTo>
                    <a:lnTo>
                      <a:pt x="163" y="66"/>
                    </a:lnTo>
                    <a:lnTo>
                      <a:pt x="169" y="72"/>
                    </a:lnTo>
                    <a:lnTo>
                      <a:pt x="176" y="80"/>
                    </a:lnTo>
                    <a:lnTo>
                      <a:pt x="189" y="102"/>
                    </a:lnTo>
                    <a:lnTo>
                      <a:pt x="212" y="112"/>
                    </a:lnTo>
                    <a:lnTo>
                      <a:pt x="219" y="116"/>
                    </a:lnTo>
                    <a:lnTo>
                      <a:pt x="218" y="119"/>
                    </a:lnTo>
                    <a:lnTo>
                      <a:pt x="190" y="139"/>
                    </a:lnTo>
                    <a:lnTo>
                      <a:pt x="172" y="160"/>
                    </a:lnTo>
                    <a:lnTo>
                      <a:pt x="165" y="184"/>
                    </a:lnTo>
                    <a:lnTo>
                      <a:pt x="152" y="193"/>
                    </a:lnTo>
                    <a:lnTo>
                      <a:pt x="146" y="216"/>
                    </a:lnTo>
                    <a:lnTo>
                      <a:pt x="110" y="210"/>
                    </a:lnTo>
                    <a:lnTo>
                      <a:pt x="88" y="204"/>
                    </a:lnTo>
                    <a:lnTo>
                      <a:pt x="81" y="221"/>
                    </a:lnTo>
                    <a:lnTo>
                      <a:pt x="75" y="239"/>
                    </a:lnTo>
                    <a:lnTo>
                      <a:pt x="52" y="244"/>
                    </a:lnTo>
                    <a:lnTo>
                      <a:pt x="42" y="240"/>
                    </a:lnTo>
                    <a:lnTo>
                      <a:pt x="38" y="214"/>
                    </a:lnTo>
                    <a:lnTo>
                      <a:pt x="15" y="188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3559320" y="2885400"/>
                <a:ext cx="1080" cy="1044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13"/>
                    </a:moveTo>
                    <a:lnTo>
                      <a:pt x="4" y="10"/>
                    </a:lnTo>
                    <a:lnTo>
                      <a:pt x="0" y="0"/>
                    </a:lnTo>
                    <a:lnTo>
                      <a:pt x="5" y="13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3402360" y="3213000"/>
                <a:ext cx="24840" cy="37800"/>
              </a:xfrm>
              <a:custGeom>
                <a:avLst/>
                <a:gdLst/>
                <a:ahLst/>
                <a:rect l="l" t="t" r="r" b="b"/>
                <a:pathLst>
                  <a:path w="47" h="54">
                    <a:moveTo>
                      <a:pt x="15" y="8"/>
                    </a:moveTo>
                    <a:lnTo>
                      <a:pt x="0" y="31"/>
                    </a:lnTo>
                    <a:lnTo>
                      <a:pt x="25" y="54"/>
                    </a:lnTo>
                    <a:lnTo>
                      <a:pt x="31" y="47"/>
                    </a:lnTo>
                    <a:lnTo>
                      <a:pt x="47" y="29"/>
                    </a:lnTo>
                    <a:lnTo>
                      <a:pt x="47" y="12"/>
                    </a:lnTo>
                    <a:lnTo>
                      <a:pt x="22" y="0"/>
                    </a:lnTo>
                    <a:lnTo>
                      <a:pt x="15" y="8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3746160" y="3049920"/>
                <a:ext cx="4680" cy="82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7" y="0"/>
                    </a:moveTo>
                    <a:lnTo>
                      <a:pt x="0" y="10"/>
                    </a:lnTo>
                    <a:lnTo>
                      <a:pt x="10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3178800" y="2991240"/>
                <a:ext cx="166680" cy="225720"/>
              </a:xfrm>
              <a:custGeom>
                <a:avLst/>
                <a:gdLst/>
                <a:ahLst/>
                <a:rect l="l" t="t" r="r" b="b"/>
                <a:pathLst>
                  <a:path w="319" h="321">
                    <a:moveTo>
                      <a:pt x="229" y="210"/>
                    </a:moveTo>
                    <a:lnTo>
                      <a:pt x="222" y="173"/>
                    </a:lnTo>
                    <a:lnTo>
                      <a:pt x="214" y="135"/>
                    </a:lnTo>
                    <a:lnTo>
                      <a:pt x="239" y="135"/>
                    </a:lnTo>
                    <a:lnTo>
                      <a:pt x="233" y="111"/>
                    </a:lnTo>
                    <a:lnTo>
                      <a:pt x="229" y="86"/>
                    </a:lnTo>
                    <a:lnTo>
                      <a:pt x="224" y="61"/>
                    </a:lnTo>
                    <a:lnTo>
                      <a:pt x="222" y="36"/>
                    </a:lnTo>
                    <a:lnTo>
                      <a:pt x="247" y="33"/>
                    </a:lnTo>
                    <a:lnTo>
                      <a:pt x="275" y="30"/>
                    </a:lnTo>
                    <a:lnTo>
                      <a:pt x="285" y="39"/>
                    </a:lnTo>
                    <a:lnTo>
                      <a:pt x="302" y="29"/>
                    </a:lnTo>
                    <a:lnTo>
                      <a:pt x="319" y="22"/>
                    </a:lnTo>
                    <a:lnTo>
                      <a:pt x="292" y="14"/>
                    </a:lnTo>
                    <a:lnTo>
                      <a:pt x="276" y="17"/>
                    </a:lnTo>
                    <a:lnTo>
                      <a:pt x="242" y="22"/>
                    </a:lnTo>
                    <a:lnTo>
                      <a:pt x="207" y="26"/>
                    </a:lnTo>
                    <a:lnTo>
                      <a:pt x="184" y="22"/>
                    </a:lnTo>
                    <a:lnTo>
                      <a:pt x="161" y="16"/>
                    </a:lnTo>
                    <a:lnTo>
                      <a:pt x="155" y="12"/>
                    </a:lnTo>
                    <a:lnTo>
                      <a:pt x="128" y="10"/>
                    </a:lnTo>
                    <a:lnTo>
                      <a:pt x="101" y="9"/>
                    </a:lnTo>
                    <a:lnTo>
                      <a:pt x="73" y="9"/>
                    </a:lnTo>
                    <a:lnTo>
                      <a:pt x="46" y="7"/>
                    </a:lnTo>
                    <a:lnTo>
                      <a:pt x="27" y="0"/>
                    </a:lnTo>
                    <a:lnTo>
                      <a:pt x="0" y="7"/>
                    </a:lnTo>
                    <a:lnTo>
                      <a:pt x="1" y="23"/>
                    </a:lnTo>
                    <a:lnTo>
                      <a:pt x="23" y="56"/>
                    </a:lnTo>
                    <a:lnTo>
                      <a:pt x="44" y="88"/>
                    </a:lnTo>
                    <a:lnTo>
                      <a:pt x="67" y="121"/>
                    </a:lnTo>
                    <a:lnTo>
                      <a:pt x="90" y="154"/>
                    </a:lnTo>
                    <a:lnTo>
                      <a:pt x="96" y="169"/>
                    </a:lnTo>
                    <a:lnTo>
                      <a:pt x="92" y="167"/>
                    </a:lnTo>
                    <a:lnTo>
                      <a:pt x="102" y="194"/>
                    </a:lnTo>
                    <a:lnTo>
                      <a:pt x="112" y="222"/>
                    </a:lnTo>
                    <a:lnTo>
                      <a:pt x="124" y="249"/>
                    </a:lnTo>
                    <a:lnTo>
                      <a:pt x="137" y="277"/>
                    </a:lnTo>
                    <a:lnTo>
                      <a:pt x="155" y="295"/>
                    </a:lnTo>
                    <a:lnTo>
                      <a:pt x="175" y="314"/>
                    </a:lnTo>
                    <a:lnTo>
                      <a:pt x="184" y="300"/>
                    </a:lnTo>
                    <a:lnTo>
                      <a:pt x="197" y="317"/>
                    </a:lnTo>
                    <a:lnTo>
                      <a:pt x="233" y="321"/>
                    </a:lnTo>
                    <a:lnTo>
                      <a:pt x="250" y="311"/>
                    </a:lnTo>
                    <a:lnTo>
                      <a:pt x="245" y="287"/>
                    </a:lnTo>
                    <a:lnTo>
                      <a:pt x="239" y="261"/>
                    </a:lnTo>
                    <a:lnTo>
                      <a:pt x="234" y="236"/>
                    </a:lnTo>
                    <a:lnTo>
                      <a:pt x="229" y="21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722760" y="306504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3" y="0"/>
                    </a:moveTo>
                    <a:lnTo>
                      <a:pt x="0" y="10"/>
                    </a:lnTo>
                    <a:lnTo>
                      <a:pt x="13" y="9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3270240" y="3090240"/>
                <a:ext cx="191520" cy="240480"/>
              </a:xfrm>
              <a:custGeom>
                <a:avLst/>
                <a:gdLst/>
                <a:ahLst/>
                <a:rect l="l" t="t" r="r" b="b"/>
                <a:pathLst>
                  <a:path w="366" h="340">
                    <a:moveTo>
                      <a:pt x="54" y="69"/>
                    </a:moveTo>
                    <a:lnTo>
                      <a:pt x="59" y="95"/>
                    </a:lnTo>
                    <a:lnTo>
                      <a:pt x="64" y="120"/>
                    </a:lnTo>
                    <a:lnTo>
                      <a:pt x="70" y="146"/>
                    </a:lnTo>
                    <a:lnTo>
                      <a:pt x="75" y="170"/>
                    </a:lnTo>
                    <a:lnTo>
                      <a:pt x="58" y="180"/>
                    </a:lnTo>
                    <a:lnTo>
                      <a:pt x="22" y="176"/>
                    </a:lnTo>
                    <a:lnTo>
                      <a:pt x="9" y="159"/>
                    </a:lnTo>
                    <a:lnTo>
                      <a:pt x="0" y="173"/>
                    </a:lnTo>
                    <a:lnTo>
                      <a:pt x="18" y="198"/>
                    </a:lnTo>
                    <a:lnTo>
                      <a:pt x="36" y="223"/>
                    </a:lnTo>
                    <a:lnTo>
                      <a:pt x="55" y="248"/>
                    </a:lnTo>
                    <a:lnTo>
                      <a:pt x="75" y="272"/>
                    </a:lnTo>
                    <a:lnTo>
                      <a:pt x="71" y="285"/>
                    </a:lnTo>
                    <a:lnTo>
                      <a:pt x="78" y="298"/>
                    </a:lnTo>
                    <a:lnTo>
                      <a:pt x="97" y="326"/>
                    </a:lnTo>
                    <a:lnTo>
                      <a:pt x="104" y="324"/>
                    </a:lnTo>
                    <a:lnTo>
                      <a:pt x="119" y="331"/>
                    </a:lnTo>
                    <a:lnTo>
                      <a:pt x="137" y="340"/>
                    </a:lnTo>
                    <a:lnTo>
                      <a:pt x="157" y="331"/>
                    </a:lnTo>
                    <a:lnTo>
                      <a:pt x="178" y="324"/>
                    </a:lnTo>
                    <a:lnTo>
                      <a:pt x="202" y="323"/>
                    </a:lnTo>
                    <a:lnTo>
                      <a:pt x="227" y="323"/>
                    </a:lnTo>
                    <a:lnTo>
                      <a:pt x="255" y="317"/>
                    </a:lnTo>
                    <a:lnTo>
                      <a:pt x="268" y="313"/>
                    </a:lnTo>
                    <a:lnTo>
                      <a:pt x="287" y="298"/>
                    </a:lnTo>
                    <a:lnTo>
                      <a:pt x="307" y="284"/>
                    </a:lnTo>
                    <a:lnTo>
                      <a:pt x="314" y="268"/>
                    </a:lnTo>
                    <a:lnTo>
                      <a:pt x="323" y="252"/>
                    </a:lnTo>
                    <a:lnTo>
                      <a:pt x="332" y="236"/>
                    </a:lnTo>
                    <a:lnTo>
                      <a:pt x="340" y="221"/>
                    </a:lnTo>
                    <a:lnTo>
                      <a:pt x="350" y="199"/>
                    </a:lnTo>
                    <a:lnTo>
                      <a:pt x="360" y="179"/>
                    </a:lnTo>
                    <a:lnTo>
                      <a:pt x="363" y="153"/>
                    </a:lnTo>
                    <a:lnTo>
                      <a:pt x="366" y="125"/>
                    </a:lnTo>
                    <a:lnTo>
                      <a:pt x="349" y="125"/>
                    </a:lnTo>
                    <a:lnTo>
                      <a:pt x="349" y="138"/>
                    </a:lnTo>
                    <a:lnTo>
                      <a:pt x="323" y="130"/>
                    </a:lnTo>
                    <a:lnTo>
                      <a:pt x="319" y="110"/>
                    </a:lnTo>
                    <a:lnTo>
                      <a:pt x="326" y="95"/>
                    </a:lnTo>
                    <a:lnTo>
                      <a:pt x="339" y="101"/>
                    </a:lnTo>
                    <a:lnTo>
                      <a:pt x="330" y="74"/>
                    </a:lnTo>
                    <a:lnTo>
                      <a:pt x="323" y="45"/>
                    </a:lnTo>
                    <a:lnTo>
                      <a:pt x="314" y="26"/>
                    </a:lnTo>
                    <a:lnTo>
                      <a:pt x="306" y="6"/>
                    </a:lnTo>
                    <a:lnTo>
                      <a:pt x="283" y="3"/>
                    </a:lnTo>
                    <a:lnTo>
                      <a:pt x="260" y="0"/>
                    </a:lnTo>
                    <a:lnTo>
                      <a:pt x="257" y="0"/>
                    </a:lnTo>
                    <a:lnTo>
                      <a:pt x="229" y="20"/>
                    </a:lnTo>
                    <a:lnTo>
                      <a:pt x="211" y="41"/>
                    </a:lnTo>
                    <a:lnTo>
                      <a:pt x="204" y="65"/>
                    </a:lnTo>
                    <a:lnTo>
                      <a:pt x="191" y="74"/>
                    </a:lnTo>
                    <a:lnTo>
                      <a:pt x="185" y="97"/>
                    </a:lnTo>
                    <a:lnTo>
                      <a:pt x="149" y="91"/>
                    </a:lnTo>
                    <a:lnTo>
                      <a:pt x="127" y="85"/>
                    </a:lnTo>
                    <a:lnTo>
                      <a:pt x="120" y="102"/>
                    </a:lnTo>
                    <a:lnTo>
                      <a:pt x="114" y="120"/>
                    </a:lnTo>
                    <a:lnTo>
                      <a:pt x="91" y="125"/>
                    </a:lnTo>
                    <a:lnTo>
                      <a:pt x="81" y="121"/>
                    </a:lnTo>
                    <a:lnTo>
                      <a:pt x="77" y="95"/>
                    </a:lnTo>
                    <a:lnTo>
                      <a:pt x="54" y="69"/>
                    </a:lnTo>
                    <a:lnTo>
                      <a:pt x="267" y="182"/>
                    </a:lnTo>
                    <a:lnTo>
                      <a:pt x="252" y="205"/>
                    </a:lnTo>
                    <a:lnTo>
                      <a:pt x="277" y="228"/>
                    </a:lnTo>
                    <a:lnTo>
                      <a:pt x="283" y="221"/>
                    </a:lnTo>
                    <a:lnTo>
                      <a:pt x="299" y="203"/>
                    </a:lnTo>
                    <a:lnTo>
                      <a:pt x="299" y="186"/>
                    </a:lnTo>
                    <a:lnTo>
                      <a:pt x="274" y="174"/>
                    </a:lnTo>
                    <a:lnTo>
                      <a:pt x="267" y="182"/>
                    </a:lnTo>
                    <a:lnTo>
                      <a:pt x="54" y="69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3270240" y="3090240"/>
                <a:ext cx="191520" cy="240480"/>
              </a:xfrm>
              <a:custGeom>
                <a:avLst/>
                <a:gdLst/>
                <a:ahLst/>
                <a:rect l="l" t="t" r="r" b="b"/>
                <a:pathLst>
                  <a:path w="366" h="340">
                    <a:moveTo>
                      <a:pt x="54" y="69"/>
                    </a:moveTo>
                    <a:lnTo>
                      <a:pt x="59" y="95"/>
                    </a:lnTo>
                    <a:lnTo>
                      <a:pt x="64" y="120"/>
                    </a:lnTo>
                    <a:lnTo>
                      <a:pt x="70" y="146"/>
                    </a:lnTo>
                    <a:lnTo>
                      <a:pt x="75" y="170"/>
                    </a:lnTo>
                    <a:lnTo>
                      <a:pt x="58" y="180"/>
                    </a:lnTo>
                    <a:lnTo>
                      <a:pt x="22" y="176"/>
                    </a:lnTo>
                    <a:lnTo>
                      <a:pt x="9" y="159"/>
                    </a:lnTo>
                    <a:lnTo>
                      <a:pt x="0" y="173"/>
                    </a:lnTo>
                    <a:lnTo>
                      <a:pt x="18" y="198"/>
                    </a:lnTo>
                    <a:lnTo>
                      <a:pt x="36" y="223"/>
                    </a:lnTo>
                    <a:lnTo>
                      <a:pt x="55" y="248"/>
                    </a:lnTo>
                    <a:lnTo>
                      <a:pt x="75" y="272"/>
                    </a:lnTo>
                    <a:lnTo>
                      <a:pt x="71" y="285"/>
                    </a:lnTo>
                    <a:lnTo>
                      <a:pt x="78" y="298"/>
                    </a:lnTo>
                    <a:lnTo>
                      <a:pt x="97" y="326"/>
                    </a:lnTo>
                    <a:lnTo>
                      <a:pt x="104" y="324"/>
                    </a:lnTo>
                    <a:lnTo>
                      <a:pt x="119" y="331"/>
                    </a:lnTo>
                    <a:lnTo>
                      <a:pt x="137" y="340"/>
                    </a:lnTo>
                    <a:lnTo>
                      <a:pt x="157" y="331"/>
                    </a:lnTo>
                    <a:lnTo>
                      <a:pt x="178" y="324"/>
                    </a:lnTo>
                    <a:lnTo>
                      <a:pt x="202" y="323"/>
                    </a:lnTo>
                    <a:lnTo>
                      <a:pt x="227" y="323"/>
                    </a:lnTo>
                    <a:lnTo>
                      <a:pt x="255" y="317"/>
                    </a:lnTo>
                    <a:lnTo>
                      <a:pt x="268" y="313"/>
                    </a:lnTo>
                    <a:lnTo>
                      <a:pt x="287" y="298"/>
                    </a:lnTo>
                    <a:lnTo>
                      <a:pt x="307" y="284"/>
                    </a:lnTo>
                    <a:lnTo>
                      <a:pt x="314" y="268"/>
                    </a:lnTo>
                    <a:lnTo>
                      <a:pt x="323" y="252"/>
                    </a:lnTo>
                    <a:lnTo>
                      <a:pt x="332" y="236"/>
                    </a:lnTo>
                    <a:lnTo>
                      <a:pt x="340" y="221"/>
                    </a:lnTo>
                    <a:lnTo>
                      <a:pt x="350" y="199"/>
                    </a:lnTo>
                    <a:lnTo>
                      <a:pt x="360" y="179"/>
                    </a:lnTo>
                    <a:lnTo>
                      <a:pt x="363" y="153"/>
                    </a:lnTo>
                    <a:lnTo>
                      <a:pt x="366" y="125"/>
                    </a:lnTo>
                    <a:lnTo>
                      <a:pt x="349" y="125"/>
                    </a:lnTo>
                    <a:lnTo>
                      <a:pt x="349" y="138"/>
                    </a:lnTo>
                    <a:lnTo>
                      <a:pt x="323" y="130"/>
                    </a:lnTo>
                    <a:lnTo>
                      <a:pt x="319" y="110"/>
                    </a:lnTo>
                    <a:lnTo>
                      <a:pt x="326" y="95"/>
                    </a:lnTo>
                    <a:lnTo>
                      <a:pt x="339" y="101"/>
                    </a:lnTo>
                    <a:lnTo>
                      <a:pt x="330" y="74"/>
                    </a:lnTo>
                    <a:lnTo>
                      <a:pt x="323" y="45"/>
                    </a:lnTo>
                    <a:lnTo>
                      <a:pt x="314" y="26"/>
                    </a:lnTo>
                    <a:lnTo>
                      <a:pt x="306" y="6"/>
                    </a:lnTo>
                    <a:lnTo>
                      <a:pt x="283" y="3"/>
                    </a:lnTo>
                    <a:lnTo>
                      <a:pt x="260" y="0"/>
                    </a:lnTo>
                    <a:lnTo>
                      <a:pt x="257" y="0"/>
                    </a:lnTo>
                    <a:lnTo>
                      <a:pt x="229" y="20"/>
                    </a:lnTo>
                    <a:lnTo>
                      <a:pt x="211" y="41"/>
                    </a:lnTo>
                    <a:lnTo>
                      <a:pt x="204" y="65"/>
                    </a:lnTo>
                    <a:lnTo>
                      <a:pt x="191" y="74"/>
                    </a:lnTo>
                    <a:lnTo>
                      <a:pt x="185" y="97"/>
                    </a:lnTo>
                    <a:lnTo>
                      <a:pt x="149" y="91"/>
                    </a:lnTo>
                    <a:lnTo>
                      <a:pt x="127" y="85"/>
                    </a:lnTo>
                    <a:lnTo>
                      <a:pt x="120" y="102"/>
                    </a:lnTo>
                    <a:lnTo>
                      <a:pt x="114" y="120"/>
                    </a:lnTo>
                    <a:lnTo>
                      <a:pt x="91" y="125"/>
                    </a:lnTo>
                    <a:lnTo>
                      <a:pt x="81" y="121"/>
                    </a:lnTo>
                    <a:lnTo>
                      <a:pt x="77" y="95"/>
                    </a:lnTo>
                    <a:lnTo>
                      <a:pt x="54" y="69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402360" y="3213000"/>
                <a:ext cx="24840" cy="37800"/>
              </a:xfrm>
              <a:custGeom>
                <a:avLst/>
                <a:gdLst/>
                <a:ahLst/>
                <a:rect l="l" t="t" r="r" b="b"/>
                <a:pathLst>
                  <a:path w="47" h="54">
                    <a:moveTo>
                      <a:pt x="15" y="8"/>
                    </a:moveTo>
                    <a:lnTo>
                      <a:pt x="0" y="31"/>
                    </a:lnTo>
                    <a:lnTo>
                      <a:pt x="25" y="54"/>
                    </a:lnTo>
                    <a:lnTo>
                      <a:pt x="31" y="47"/>
                    </a:lnTo>
                    <a:lnTo>
                      <a:pt x="47" y="29"/>
                    </a:lnTo>
                    <a:lnTo>
                      <a:pt x="47" y="12"/>
                    </a:lnTo>
                    <a:lnTo>
                      <a:pt x="22" y="0"/>
                    </a:lnTo>
                    <a:lnTo>
                      <a:pt x="15" y="8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3226320" y="3100680"/>
                <a:ext cx="2520" cy="1044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6" y="15"/>
                    </a:moveTo>
                    <a:lnTo>
                      <a:pt x="2" y="13"/>
                    </a:lnTo>
                    <a:lnTo>
                      <a:pt x="0" y="0"/>
                    </a:lnTo>
                    <a:lnTo>
                      <a:pt x="6" y="15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4382640" y="2537280"/>
                <a:ext cx="120960" cy="113760"/>
              </a:xfrm>
              <a:custGeom>
                <a:avLst/>
                <a:gdLst/>
                <a:ahLst/>
                <a:rect l="l" t="t" r="r" b="b"/>
                <a:pathLst>
                  <a:path w="231" h="163">
                    <a:moveTo>
                      <a:pt x="177" y="0"/>
                    </a:moveTo>
                    <a:lnTo>
                      <a:pt x="190" y="12"/>
                    </a:lnTo>
                    <a:lnTo>
                      <a:pt x="189" y="28"/>
                    </a:lnTo>
                    <a:lnTo>
                      <a:pt x="200" y="23"/>
                    </a:lnTo>
                    <a:lnTo>
                      <a:pt x="199" y="31"/>
                    </a:lnTo>
                    <a:lnTo>
                      <a:pt x="203" y="32"/>
                    </a:lnTo>
                    <a:lnTo>
                      <a:pt x="231" y="45"/>
                    </a:lnTo>
                    <a:lnTo>
                      <a:pt x="206" y="52"/>
                    </a:lnTo>
                    <a:lnTo>
                      <a:pt x="212" y="65"/>
                    </a:lnTo>
                    <a:lnTo>
                      <a:pt x="195" y="71"/>
                    </a:lnTo>
                    <a:lnTo>
                      <a:pt x="190" y="75"/>
                    </a:lnTo>
                    <a:lnTo>
                      <a:pt x="170" y="72"/>
                    </a:lnTo>
                    <a:lnTo>
                      <a:pt x="149" y="69"/>
                    </a:lnTo>
                    <a:lnTo>
                      <a:pt x="143" y="88"/>
                    </a:lnTo>
                    <a:lnTo>
                      <a:pt x="137" y="107"/>
                    </a:lnTo>
                    <a:lnTo>
                      <a:pt x="131" y="121"/>
                    </a:lnTo>
                    <a:lnTo>
                      <a:pt x="120" y="144"/>
                    </a:lnTo>
                    <a:lnTo>
                      <a:pt x="100" y="153"/>
                    </a:lnTo>
                    <a:lnTo>
                      <a:pt x="68" y="146"/>
                    </a:lnTo>
                    <a:lnTo>
                      <a:pt x="59" y="156"/>
                    </a:lnTo>
                    <a:lnTo>
                      <a:pt x="28" y="163"/>
                    </a:lnTo>
                    <a:lnTo>
                      <a:pt x="5" y="149"/>
                    </a:lnTo>
                    <a:lnTo>
                      <a:pt x="0" y="131"/>
                    </a:lnTo>
                    <a:lnTo>
                      <a:pt x="2" y="134"/>
                    </a:lnTo>
                    <a:lnTo>
                      <a:pt x="20" y="144"/>
                    </a:lnTo>
                    <a:lnTo>
                      <a:pt x="39" y="150"/>
                    </a:lnTo>
                    <a:lnTo>
                      <a:pt x="35" y="149"/>
                    </a:lnTo>
                    <a:lnTo>
                      <a:pt x="38" y="143"/>
                    </a:lnTo>
                    <a:lnTo>
                      <a:pt x="41" y="130"/>
                    </a:lnTo>
                    <a:lnTo>
                      <a:pt x="41" y="124"/>
                    </a:lnTo>
                    <a:lnTo>
                      <a:pt x="43" y="116"/>
                    </a:lnTo>
                    <a:lnTo>
                      <a:pt x="61" y="110"/>
                    </a:lnTo>
                    <a:lnTo>
                      <a:pt x="77" y="104"/>
                    </a:lnTo>
                    <a:lnTo>
                      <a:pt x="92" y="84"/>
                    </a:lnTo>
                    <a:lnTo>
                      <a:pt x="107" y="64"/>
                    </a:lnTo>
                    <a:lnTo>
                      <a:pt x="118" y="78"/>
                    </a:lnTo>
                    <a:lnTo>
                      <a:pt x="124" y="68"/>
                    </a:lnTo>
                    <a:lnTo>
                      <a:pt x="128" y="55"/>
                    </a:lnTo>
                    <a:lnTo>
                      <a:pt x="134" y="69"/>
                    </a:lnTo>
                    <a:lnTo>
                      <a:pt x="134" y="58"/>
                    </a:lnTo>
                    <a:lnTo>
                      <a:pt x="140" y="52"/>
                    </a:lnTo>
                    <a:lnTo>
                      <a:pt x="139" y="45"/>
                    </a:lnTo>
                    <a:lnTo>
                      <a:pt x="144" y="38"/>
                    </a:lnTo>
                    <a:lnTo>
                      <a:pt x="157" y="19"/>
                    </a:lnTo>
                    <a:lnTo>
                      <a:pt x="170" y="0"/>
                    </a:lnTo>
                    <a:lnTo>
                      <a:pt x="172" y="8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4263120" y="2543400"/>
                <a:ext cx="51840" cy="99000"/>
              </a:xfrm>
              <a:custGeom>
                <a:avLst/>
                <a:gdLst/>
                <a:ahLst/>
                <a:rect l="l" t="t" r="r" b="b"/>
                <a:pathLst>
                  <a:path w="98" h="140">
                    <a:moveTo>
                      <a:pt x="82" y="140"/>
                    </a:moveTo>
                    <a:lnTo>
                      <a:pt x="55" y="120"/>
                    </a:lnTo>
                    <a:lnTo>
                      <a:pt x="28" y="100"/>
                    </a:lnTo>
                    <a:lnTo>
                      <a:pt x="15" y="70"/>
                    </a:lnTo>
                    <a:lnTo>
                      <a:pt x="7" y="3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0" y="9"/>
                    </a:lnTo>
                    <a:lnTo>
                      <a:pt x="20" y="21"/>
                    </a:lnTo>
                    <a:lnTo>
                      <a:pt x="38" y="21"/>
                    </a:lnTo>
                    <a:lnTo>
                      <a:pt x="48" y="9"/>
                    </a:lnTo>
                    <a:lnTo>
                      <a:pt x="61" y="25"/>
                    </a:lnTo>
                    <a:lnTo>
                      <a:pt x="75" y="41"/>
                    </a:lnTo>
                    <a:lnTo>
                      <a:pt x="76" y="65"/>
                    </a:lnTo>
                    <a:lnTo>
                      <a:pt x="79" y="91"/>
                    </a:lnTo>
                    <a:lnTo>
                      <a:pt x="88" y="114"/>
                    </a:lnTo>
                    <a:lnTo>
                      <a:pt x="98" y="139"/>
                    </a:lnTo>
                    <a:lnTo>
                      <a:pt x="91" y="134"/>
                    </a:lnTo>
                    <a:lnTo>
                      <a:pt x="82" y="14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3931920" y="2631960"/>
                <a:ext cx="360" cy="360"/>
              </a:xfrm>
              <a:prstGeom prst="rect">
                <a:avLst/>
              </a:pr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3933000" y="267660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1"/>
                    </a:lnTo>
                    <a:lnTo>
                      <a:pt x="2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3930120" y="26661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3925440" y="2680560"/>
                <a:ext cx="1080" cy="216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1" y="1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3926880" y="26827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1" y="0"/>
                    </a:lnTo>
                    <a:lnTo>
                      <a:pt x="0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3930120" y="2560320"/>
                <a:ext cx="1440" cy="21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3930120" y="2680560"/>
                <a:ext cx="1440" cy="21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3934440" y="2627640"/>
                <a:ext cx="1440" cy="216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3928680" y="2534760"/>
                <a:ext cx="1080" cy="21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3930120" y="2634120"/>
                <a:ext cx="1440" cy="216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1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3933000" y="2623320"/>
                <a:ext cx="1080" cy="216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3933000" y="2560320"/>
                <a:ext cx="1080" cy="216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1" y="2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3926880" y="2541240"/>
                <a:ext cx="1440" cy="216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3926880" y="25329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3920760" y="261540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1"/>
                    </a:moveTo>
                    <a:lnTo>
                      <a:pt x="0" y="0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3930120" y="261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1" y="3"/>
                    </a:moveTo>
                    <a:lnTo>
                      <a:pt x="1" y="2"/>
                    </a:lnTo>
                    <a:lnTo>
                      <a:pt x="0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3931920" y="265752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3926880" y="2537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2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3931920" y="261972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1" y="2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3931920" y="2581200"/>
                <a:ext cx="1080" cy="216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5099040" y="267840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0" y="0"/>
                    </a:lnTo>
                    <a:lnTo>
                      <a:pt x="2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4773600" y="2718720"/>
                <a:ext cx="124200" cy="151560"/>
              </a:xfrm>
              <a:custGeom>
                <a:avLst/>
                <a:gdLst/>
                <a:ahLst/>
                <a:rect l="l" t="t" r="r" b="b"/>
                <a:pathLst>
                  <a:path w="235" h="216">
                    <a:moveTo>
                      <a:pt x="235" y="206"/>
                    </a:moveTo>
                    <a:lnTo>
                      <a:pt x="225" y="212"/>
                    </a:lnTo>
                    <a:lnTo>
                      <a:pt x="226" y="216"/>
                    </a:lnTo>
                    <a:lnTo>
                      <a:pt x="213" y="215"/>
                    </a:lnTo>
                    <a:lnTo>
                      <a:pt x="190" y="209"/>
                    </a:lnTo>
                    <a:lnTo>
                      <a:pt x="166" y="203"/>
                    </a:lnTo>
                    <a:lnTo>
                      <a:pt x="153" y="190"/>
                    </a:lnTo>
                    <a:lnTo>
                      <a:pt x="140" y="177"/>
                    </a:lnTo>
                    <a:lnTo>
                      <a:pt x="125" y="160"/>
                    </a:lnTo>
                    <a:lnTo>
                      <a:pt x="113" y="144"/>
                    </a:lnTo>
                    <a:lnTo>
                      <a:pt x="81" y="133"/>
                    </a:lnTo>
                    <a:lnTo>
                      <a:pt x="79" y="140"/>
                    </a:lnTo>
                    <a:lnTo>
                      <a:pt x="65" y="134"/>
                    </a:lnTo>
                    <a:lnTo>
                      <a:pt x="68" y="147"/>
                    </a:lnTo>
                    <a:lnTo>
                      <a:pt x="59" y="146"/>
                    </a:lnTo>
                    <a:lnTo>
                      <a:pt x="62" y="153"/>
                    </a:lnTo>
                    <a:lnTo>
                      <a:pt x="29" y="151"/>
                    </a:lnTo>
                    <a:lnTo>
                      <a:pt x="56" y="167"/>
                    </a:lnTo>
                    <a:lnTo>
                      <a:pt x="46" y="179"/>
                    </a:lnTo>
                    <a:lnTo>
                      <a:pt x="23" y="177"/>
                    </a:lnTo>
                    <a:lnTo>
                      <a:pt x="0" y="177"/>
                    </a:lnTo>
                    <a:lnTo>
                      <a:pt x="0" y="154"/>
                    </a:lnTo>
                    <a:lnTo>
                      <a:pt x="0" y="133"/>
                    </a:lnTo>
                    <a:lnTo>
                      <a:pt x="0" y="111"/>
                    </a:lnTo>
                    <a:lnTo>
                      <a:pt x="0" y="88"/>
                    </a:lnTo>
                    <a:lnTo>
                      <a:pt x="0" y="66"/>
                    </a:lnTo>
                    <a:lnTo>
                      <a:pt x="0" y="45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23" y="10"/>
                    </a:lnTo>
                    <a:lnTo>
                      <a:pt x="46" y="20"/>
                    </a:lnTo>
                    <a:lnTo>
                      <a:pt x="69" y="30"/>
                    </a:lnTo>
                    <a:lnTo>
                      <a:pt x="92" y="40"/>
                    </a:lnTo>
                    <a:lnTo>
                      <a:pt x="114" y="66"/>
                    </a:lnTo>
                    <a:lnTo>
                      <a:pt x="117" y="79"/>
                    </a:lnTo>
                    <a:lnTo>
                      <a:pt x="138" y="88"/>
                    </a:lnTo>
                    <a:lnTo>
                      <a:pt x="159" y="97"/>
                    </a:lnTo>
                    <a:lnTo>
                      <a:pt x="163" y="111"/>
                    </a:lnTo>
                    <a:lnTo>
                      <a:pt x="141" y="114"/>
                    </a:lnTo>
                    <a:lnTo>
                      <a:pt x="154" y="137"/>
                    </a:lnTo>
                    <a:lnTo>
                      <a:pt x="172" y="153"/>
                    </a:lnTo>
                    <a:lnTo>
                      <a:pt x="183" y="176"/>
                    </a:lnTo>
                    <a:lnTo>
                      <a:pt x="197" y="177"/>
                    </a:lnTo>
                    <a:lnTo>
                      <a:pt x="199" y="187"/>
                    </a:lnTo>
                    <a:lnTo>
                      <a:pt x="212" y="193"/>
                    </a:lnTo>
                    <a:lnTo>
                      <a:pt x="209" y="199"/>
                    </a:lnTo>
                    <a:lnTo>
                      <a:pt x="235" y="20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4866480" y="2750400"/>
                <a:ext cx="50400" cy="37800"/>
              </a:xfrm>
              <a:custGeom>
                <a:avLst/>
                <a:gdLst/>
                <a:ahLst/>
                <a:rect l="l" t="t" r="r" b="b"/>
                <a:pathLst>
                  <a:path w="96" h="55">
                    <a:moveTo>
                      <a:pt x="96" y="1"/>
                    </a:moveTo>
                    <a:lnTo>
                      <a:pt x="91" y="20"/>
                    </a:lnTo>
                    <a:lnTo>
                      <a:pt x="86" y="24"/>
                    </a:lnTo>
                    <a:lnTo>
                      <a:pt x="88" y="33"/>
                    </a:lnTo>
                    <a:lnTo>
                      <a:pt x="72" y="40"/>
                    </a:lnTo>
                    <a:lnTo>
                      <a:pt x="40" y="55"/>
                    </a:lnTo>
                    <a:lnTo>
                      <a:pt x="20" y="50"/>
                    </a:lnTo>
                    <a:lnTo>
                      <a:pt x="6" y="42"/>
                    </a:lnTo>
                    <a:lnTo>
                      <a:pt x="0" y="33"/>
                    </a:lnTo>
                    <a:lnTo>
                      <a:pt x="33" y="36"/>
                    </a:lnTo>
                    <a:lnTo>
                      <a:pt x="40" y="21"/>
                    </a:lnTo>
                    <a:lnTo>
                      <a:pt x="40" y="29"/>
                    </a:lnTo>
                    <a:lnTo>
                      <a:pt x="53" y="34"/>
                    </a:lnTo>
                    <a:lnTo>
                      <a:pt x="75" y="17"/>
                    </a:lnTo>
                    <a:lnTo>
                      <a:pt x="75" y="1"/>
                    </a:lnTo>
                    <a:lnTo>
                      <a:pt x="88" y="0"/>
                    </a:lnTo>
                    <a:lnTo>
                      <a:pt x="96" y="1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4944960" y="2771280"/>
                <a:ext cx="15480" cy="27000"/>
              </a:xfrm>
              <a:custGeom>
                <a:avLst/>
                <a:gdLst/>
                <a:ahLst/>
                <a:rect l="l" t="t" r="r" b="b"/>
                <a:pathLst>
                  <a:path w="29" h="39">
                    <a:moveTo>
                      <a:pt x="29" y="35"/>
                    </a:moveTo>
                    <a:lnTo>
                      <a:pt x="23" y="39"/>
                    </a:lnTo>
                    <a:lnTo>
                      <a:pt x="6" y="22"/>
                    </a:lnTo>
                    <a:lnTo>
                      <a:pt x="0" y="0"/>
                    </a:lnTo>
                    <a:lnTo>
                      <a:pt x="15" y="18"/>
                    </a:lnTo>
                    <a:lnTo>
                      <a:pt x="29" y="35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4898160" y="2720520"/>
                <a:ext cx="28080" cy="3816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54" y="45"/>
                    </a:moveTo>
                    <a:lnTo>
                      <a:pt x="46" y="55"/>
                    </a:lnTo>
                    <a:lnTo>
                      <a:pt x="29" y="22"/>
                    </a:lnTo>
                    <a:lnTo>
                      <a:pt x="15" y="12"/>
                    </a:lnTo>
                    <a:lnTo>
                      <a:pt x="0" y="0"/>
                    </a:lnTo>
                    <a:lnTo>
                      <a:pt x="21" y="14"/>
                    </a:lnTo>
                    <a:lnTo>
                      <a:pt x="39" y="27"/>
                    </a:lnTo>
                    <a:lnTo>
                      <a:pt x="54" y="45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4898160" y="2856240"/>
                <a:ext cx="4320" cy="360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10" y="4"/>
                    </a:moveTo>
                    <a:lnTo>
                      <a:pt x="3" y="8"/>
                    </a:lnTo>
                    <a:lnTo>
                      <a:pt x="0" y="0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006520" y="2845080"/>
                <a:ext cx="14040" cy="1080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26" y="17"/>
                    </a:moveTo>
                    <a:lnTo>
                      <a:pt x="27" y="16"/>
                    </a:lnTo>
                    <a:lnTo>
                      <a:pt x="3" y="0"/>
                    </a:lnTo>
                    <a:lnTo>
                      <a:pt x="0" y="9"/>
                    </a:lnTo>
                    <a:lnTo>
                      <a:pt x="26" y="17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4968720" y="279468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0"/>
                    </a:moveTo>
                    <a:lnTo>
                      <a:pt x="21" y="20"/>
                    </a:lnTo>
                    <a:lnTo>
                      <a:pt x="7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5026680" y="2862360"/>
                <a:ext cx="12240" cy="12240"/>
              </a:xfrm>
              <a:custGeom>
                <a:avLst/>
                <a:gdLst/>
                <a:ahLst/>
                <a:rect l="l" t="t" r="r" b="b"/>
                <a:pathLst>
                  <a:path w="23" h="17">
                    <a:moveTo>
                      <a:pt x="23" y="17"/>
                    </a:moveTo>
                    <a:lnTo>
                      <a:pt x="4" y="6"/>
                    </a:lnTo>
                    <a:lnTo>
                      <a:pt x="0" y="0"/>
                    </a:lnTo>
                    <a:lnTo>
                      <a:pt x="23" y="13"/>
                    </a:lnTo>
                    <a:lnTo>
                      <a:pt x="23" y="17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4978080" y="282204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13" y="13"/>
                    </a:moveTo>
                    <a:lnTo>
                      <a:pt x="7" y="0"/>
                    </a:lnTo>
                    <a:lnTo>
                      <a:pt x="0" y="4"/>
                    </a:lnTo>
                    <a:lnTo>
                      <a:pt x="5" y="6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5020560" y="2826360"/>
                <a:ext cx="5760" cy="25200"/>
              </a:xfrm>
              <a:custGeom>
                <a:avLst/>
                <a:gdLst/>
                <a:ahLst/>
                <a:rect l="l" t="t" r="r" b="b"/>
                <a:pathLst>
                  <a:path w="13" h="35">
                    <a:moveTo>
                      <a:pt x="0" y="0"/>
                    </a:moveTo>
                    <a:lnTo>
                      <a:pt x="13" y="35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4993920" y="2811600"/>
                <a:ext cx="15480" cy="19080"/>
              </a:xfrm>
              <a:custGeom>
                <a:avLst/>
                <a:gdLst/>
                <a:ahLst/>
                <a:rect l="l" t="t" r="r" b="b"/>
                <a:pathLst>
                  <a:path w="31" h="27">
                    <a:moveTo>
                      <a:pt x="29" y="27"/>
                    </a:moveTo>
                    <a:lnTo>
                      <a:pt x="31" y="27"/>
                    </a:lnTo>
                    <a:lnTo>
                      <a:pt x="15" y="15"/>
                    </a:lnTo>
                    <a:lnTo>
                      <a:pt x="0" y="0"/>
                    </a:lnTo>
                    <a:lnTo>
                      <a:pt x="15" y="15"/>
                    </a:lnTo>
                    <a:lnTo>
                      <a:pt x="29" y="27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5529600" y="2630160"/>
                <a:ext cx="2880" cy="360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5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171400" y="260892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1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174640" y="2631960"/>
                <a:ext cx="1080" cy="39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2" y="6"/>
                    </a:moveTo>
                    <a:lnTo>
                      <a:pt x="2" y="3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176080" y="2642760"/>
                <a:ext cx="1440" cy="21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2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5179320" y="263016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5174640" y="263628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0" h="3">
                    <a:moveTo>
                      <a:pt x="0" y="3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119200" y="25286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1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5160240" y="253296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5113440" y="2560320"/>
                <a:ext cx="1080" cy="216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1"/>
                    </a:move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122440" y="2524320"/>
                <a:ext cx="1440" cy="216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0"/>
                    </a:move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3705480" y="2754720"/>
                <a:ext cx="1080" cy="39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6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3593880" y="2847600"/>
                <a:ext cx="2520" cy="180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7" y="0"/>
                    </a:moveTo>
                    <a:lnTo>
                      <a:pt x="4" y="0"/>
                    </a:lnTo>
                    <a:lnTo>
                      <a:pt x="0" y="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3168360" y="2779920"/>
                <a:ext cx="155160" cy="229680"/>
              </a:xfrm>
              <a:custGeom>
                <a:avLst/>
                <a:gdLst/>
                <a:ahLst/>
                <a:rect l="l" t="t" r="r" b="b"/>
                <a:pathLst>
                  <a:path w="296" h="327">
                    <a:moveTo>
                      <a:pt x="292" y="192"/>
                    </a:moveTo>
                    <a:lnTo>
                      <a:pt x="269" y="193"/>
                    </a:lnTo>
                    <a:lnTo>
                      <a:pt x="244" y="193"/>
                    </a:lnTo>
                    <a:lnTo>
                      <a:pt x="247" y="215"/>
                    </a:lnTo>
                    <a:lnTo>
                      <a:pt x="250" y="236"/>
                    </a:lnTo>
                    <a:lnTo>
                      <a:pt x="253" y="258"/>
                    </a:lnTo>
                    <a:lnTo>
                      <a:pt x="256" y="279"/>
                    </a:lnTo>
                    <a:lnTo>
                      <a:pt x="276" y="298"/>
                    </a:lnTo>
                    <a:lnTo>
                      <a:pt x="296" y="318"/>
                    </a:lnTo>
                    <a:lnTo>
                      <a:pt x="262" y="323"/>
                    </a:lnTo>
                    <a:lnTo>
                      <a:pt x="227" y="327"/>
                    </a:lnTo>
                    <a:lnTo>
                      <a:pt x="204" y="323"/>
                    </a:lnTo>
                    <a:lnTo>
                      <a:pt x="181" y="317"/>
                    </a:lnTo>
                    <a:lnTo>
                      <a:pt x="175" y="313"/>
                    </a:lnTo>
                    <a:lnTo>
                      <a:pt x="148" y="311"/>
                    </a:lnTo>
                    <a:lnTo>
                      <a:pt x="121" y="310"/>
                    </a:lnTo>
                    <a:lnTo>
                      <a:pt x="93" y="310"/>
                    </a:lnTo>
                    <a:lnTo>
                      <a:pt x="66" y="308"/>
                    </a:lnTo>
                    <a:lnTo>
                      <a:pt x="47" y="301"/>
                    </a:lnTo>
                    <a:lnTo>
                      <a:pt x="20" y="308"/>
                    </a:lnTo>
                    <a:lnTo>
                      <a:pt x="17" y="287"/>
                    </a:lnTo>
                    <a:lnTo>
                      <a:pt x="15" y="265"/>
                    </a:lnTo>
                    <a:lnTo>
                      <a:pt x="21" y="232"/>
                    </a:lnTo>
                    <a:lnTo>
                      <a:pt x="27" y="197"/>
                    </a:lnTo>
                    <a:lnTo>
                      <a:pt x="37" y="179"/>
                    </a:lnTo>
                    <a:lnTo>
                      <a:pt x="47" y="161"/>
                    </a:lnTo>
                    <a:lnTo>
                      <a:pt x="38" y="125"/>
                    </a:lnTo>
                    <a:lnTo>
                      <a:pt x="30" y="105"/>
                    </a:lnTo>
                    <a:lnTo>
                      <a:pt x="21" y="84"/>
                    </a:lnTo>
                    <a:lnTo>
                      <a:pt x="28" y="71"/>
                    </a:lnTo>
                    <a:lnTo>
                      <a:pt x="14" y="39"/>
                    </a:lnTo>
                    <a:lnTo>
                      <a:pt x="0" y="6"/>
                    </a:lnTo>
                    <a:lnTo>
                      <a:pt x="18" y="0"/>
                    </a:lnTo>
                    <a:lnTo>
                      <a:pt x="40" y="1"/>
                    </a:lnTo>
                    <a:lnTo>
                      <a:pt x="60" y="1"/>
                    </a:lnTo>
                    <a:lnTo>
                      <a:pt x="80" y="3"/>
                    </a:lnTo>
                    <a:lnTo>
                      <a:pt x="100" y="3"/>
                    </a:lnTo>
                    <a:lnTo>
                      <a:pt x="112" y="29"/>
                    </a:lnTo>
                    <a:lnTo>
                      <a:pt x="123" y="55"/>
                    </a:lnTo>
                    <a:lnTo>
                      <a:pt x="141" y="61"/>
                    </a:lnTo>
                    <a:lnTo>
                      <a:pt x="170" y="55"/>
                    </a:lnTo>
                    <a:lnTo>
                      <a:pt x="172" y="32"/>
                    </a:lnTo>
                    <a:lnTo>
                      <a:pt x="197" y="33"/>
                    </a:lnTo>
                    <a:lnTo>
                      <a:pt x="197" y="39"/>
                    </a:lnTo>
                    <a:lnTo>
                      <a:pt x="229" y="43"/>
                    </a:lnTo>
                    <a:lnTo>
                      <a:pt x="231" y="75"/>
                    </a:lnTo>
                    <a:lnTo>
                      <a:pt x="234" y="105"/>
                    </a:lnTo>
                    <a:lnTo>
                      <a:pt x="246" y="134"/>
                    </a:lnTo>
                    <a:lnTo>
                      <a:pt x="247" y="144"/>
                    </a:lnTo>
                    <a:lnTo>
                      <a:pt x="266" y="140"/>
                    </a:lnTo>
                    <a:lnTo>
                      <a:pt x="286" y="135"/>
                    </a:lnTo>
                    <a:lnTo>
                      <a:pt x="289" y="164"/>
                    </a:lnTo>
                    <a:lnTo>
                      <a:pt x="292" y="192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3161880" y="2754720"/>
                <a:ext cx="14040" cy="25200"/>
              </a:xfrm>
              <a:custGeom>
                <a:avLst/>
                <a:gdLst/>
                <a:ahLst/>
                <a:rect l="l" t="t" r="r" b="b"/>
                <a:pathLst>
                  <a:path w="25" h="36">
                    <a:moveTo>
                      <a:pt x="6" y="36"/>
                    </a:moveTo>
                    <a:lnTo>
                      <a:pt x="0" y="14"/>
                    </a:lnTo>
                    <a:lnTo>
                      <a:pt x="16" y="0"/>
                    </a:lnTo>
                    <a:lnTo>
                      <a:pt x="25" y="4"/>
                    </a:lnTo>
                    <a:lnTo>
                      <a:pt x="15" y="13"/>
                    </a:lnTo>
                    <a:lnTo>
                      <a:pt x="13" y="33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3373920" y="2712600"/>
                <a:ext cx="23400" cy="42120"/>
              </a:xfrm>
              <a:custGeom>
                <a:avLst/>
                <a:gdLst/>
                <a:ahLst/>
                <a:rect l="l" t="t" r="r" b="b"/>
                <a:pathLst>
                  <a:path w="44" h="58">
                    <a:moveTo>
                      <a:pt x="37" y="14"/>
                    </a:moveTo>
                    <a:lnTo>
                      <a:pt x="37" y="1"/>
                    </a:lnTo>
                    <a:lnTo>
                      <a:pt x="24" y="0"/>
                    </a:lnTo>
                    <a:lnTo>
                      <a:pt x="21" y="9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1" y="13"/>
                    </a:lnTo>
                    <a:lnTo>
                      <a:pt x="6" y="35"/>
                    </a:lnTo>
                    <a:lnTo>
                      <a:pt x="11" y="58"/>
                    </a:lnTo>
                    <a:lnTo>
                      <a:pt x="17" y="58"/>
                    </a:lnTo>
                    <a:lnTo>
                      <a:pt x="30" y="40"/>
                    </a:lnTo>
                    <a:lnTo>
                      <a:pt x="44" y="23"/>
                    </a:lnTo>
                    <a:lnTo>
                      <a:pt x="37" y="1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3427200" y="2847600"/>
                <a:ext cx="43920" cy="147600"/>
              </a:xfrm>
              <a:custGeom>
                <a:avLst/>
                <a:gdLst/>
                <a:ahLst/>
                <a:rect l="l" t="t" r="r" b="b"/>
                <a:pathLst>
                  <a:path w="84" h="208">
                    <a:moveTo>
                      <a:pt x="53" y="145"/>
                    </a:moveTo>
                    <a:lnTo>
                      <a:pt x="49" y="172"/>
                    </a:lnTo>
                    <a:lnTo>
                      <a:pt x="63" y="191"/>
                    </a:lnTo>
                    <a:lnTo>
                      <a:pt x="78" y="208"/>
                    </a:lnTo>
                    <a:lnTo>
                      <a:pt x="72" y="193"/>
                    </a:lnTo>
                    <a:lnTo>
                      <a:pt x="84" y="181"/>
                    </a:lnTo>
                    <a:lnTo>
                      <a:pt x="84" y="161"/>
                    </a:lnTo>
                    <a:lnTo>
                      <a:pt x="84" y="141"/>
                    </a:lnTo>
                    <a:lnTo>
                      <a:pt x="68" y="125"/>
                    </a:lnTo>
                    <a:lnTo>
                      <a:pt x="50" y="110"/>
                    </a:lnTo>
                    <a:lnTo>
                      <a:pt x="43" y="83"/>
                    </a:lnTo>
                    <a:lnTo>
                      <a:pt x="46" y="63"/>
                    </a:lnTo>
                    <a:lnTo>
                      <a:pt x="53" y="57"/>
                    </a:lnTo>
                    <a:lnTo>
                      <a:pt x="45" y="37"/>
                    </a:lnTo>
                    <a:lnTo>
                      <a:pt x="35" y="8"/>
                    </a:lnTo>
                    <a:lnTo>
                      <a:pt x="24" y="2"/>
                    </a:lnTo>
                    <a:lnTo>
                      <a:pt x="0" y="0"/>
                    </a:lnTo>
                    <a:lnTo>
                      <a:pt x="3" y="5"/>
                    </a:lnTo>
                    <a:lnTo>
                      <a:pt x="19" y="27"/>
                    </a:lnTo>
                    <a:lnTo>
                      <a:pt x="14" y="37"/>
                    </a:lnTo>
                    <a:lnTo>
                      <a:pt x="16" y="57"/>
                    </a:lnTo>
                    <a:lnTo>
                      <a:pt x="19" y="79"/>
                    </a:lnTo>
                    <a:lnTo>
                      <a:pt x="16" y="86"/>
                    </a:lnTo>
                    <a:lnTo>
                      <a:pt x="6" y="112"/>
                    </a:lnTo>
                    <a:lnTo>
                      <a:pt x="19" y="123"/>
                    </a:lnTo>
                    <a:lnTo>
                      <a:pt x="27" y="135"/>
                    </a:lnTo>
                    <a:lnTo>
                      <a:pt x="43" y="135"/>
                    </a:lnTo>
                    <a:lnTo>
                      <a:pt x="53" y="145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3380040" y="2687040"/>
                <a:ext cx="141120" cy="202320"/>
              </a:xfrm>
              <a:custGeom>
                <a:avLst/>
                <a:gdLst/>
                <a:ahLst/>
                <a:rect l="l" t="t" r="r" b="b"/>
                <a:pathLst>
                  <a:path w="272" h="288">
                    <a:moveTo>
                      <a:pt x="196" y="63"/>
                    </a:moveTo>
                    <a:lnTo>
                      <a:pt x="195" y="53"/>
                    </a:lnTo>
                    <a:lnTo>
                      <a:pt x="172" y="40"/>
                    </a:lnTo>
                    <a:lnTo>
                      <a:pt x="150" y="27"/>
                    </a:lnTo>
                    <a:lnTo>
                      <a:pt x="127" y="13"/>
                    </a:lnTo>
                    <a:lnTo>
                      <a:pt x="105" y="0"/>
                    </a:lnTo>
                    <a:lnTo>
                      <a:pt x="85" y="0"/>
                    </a:lnTo>
                    <a:lnTo>
                      <a:pt x="64" y="0"/>
                    </a:lnTo>
                    <a:lnTo>
                      <a:pt x="43" y="1"/>
                    </a:lnTo>
                    <a:lnTo>
                      <a:pt x="23" y="1"/>
                    </a:lnTo>
                    <a:lnTo>
                      <a:pt x="33" y="35"/>
                    </a:lnTo>
                    <a:lnTo>
                      <a:pt x="26" y="37"/>
                    </a:lnTo>
                    <a:lnTo>
                      <a:pt x="26" y="50"/>
                    </a:lnTo>
                    <a:lnTo>
                      <a:pt x="33" y="59"/>
                    </a:lnTo>
                    <a:lnTo>
                      <a:pt x="19" y="76"/>
                    </a:lnTo>
                    <a:lnTo>
                      <a:pt x="6" y="94"/>
                    </a:lnTo>
                    <a:lnTo>
                      <a:pt x="0" y="94"/>
                    </a:lnTo>
                    <a:lnTo>
                      <a:pt x="2" y="112"/>
                    </a:lnTo>
                    <a:lnTo>
                      <a:pt x="5" y="132"/>
                    </a:lnTo>
                    <a:lnTo>
                      <a:pt x="15" y="156"/>
                    </a:lnTo>
                    <a:lnTo>
                      <a:pt x="26" y="174"/>
                    </a:lnTo>
                    <a:lnTo>
                      <a:pt x="38" y="194"/>
                    </a:lnTo>
                    <a:lnTo>
                      <a:pt x="39" y="199"/>
                    </a:lnTo>
                    <a:lnTo>
                      <a:pt x="65" y="213"/>
                    </a:lnTo>
                    <a:lnTo>
                      <a:pt x="91" y="228"/>
                    </a:lnTo>
                    <a:lnTo>
                      <a:pt x="115" y="230"/>
                    </a:lnTo>
                    <a:lnTo>
                      <a:pt x="126" y="236"/>
                    </a:lnTo>
                    <a:lnTo>
                      <a:pt x="136" y="265"/>
                    </a:lnTo>
                    <a:lnTo>
                      <a:pt x="144" y="285"/>
                    </a:lnTo>
                    <a:lnTo>
                      <a:pt x="156" y="285"/>
                    </a:lnTo>
                    <a:lnTo>
                      <a:pt x="169" y="284"/>
                    </a:lnTo>
                    <a:lnTo>
                      <a:pt x="196" y="288"/>
                    </a:lnTo>
                    <a:lnTo>
                      <a:pt x="213" y="281"/>
                    </a:lnTo>
                    <a:lnTo>
                      <a:pt x="225" y="281"/>
                    </a:lnTo>
                    <a:lnTo>
                      <a:pt x="248" y="268"/>
                    </a:lnTo>
                    <a:lnTo>
                      <a:pt x="272" y="256"/>
                    </a:lnTo>
                    <a:lnTo>
                      <a:pt x="254" y="240"/>
                    </a:lnTo>
                    <a:lnTo>
                      <a:pt x="247" y="215"/>
                    </a:lnTo>
                    <a:lnTo>
                      <a:pt x="242" y="193"/>
                    </a:lnTo>
                    <a:lnTo>
                      <a:pt x="241" y="184"/>
                    </a:lnTo>
                    <a:lnTo>
                      <a:pt x="244" y="158"/>
                    </a:lnTo>
                    <a:lnTo>
                      <a:pt x="225" y="135"/>
                    </a:lnTo>
                    <a:lnTo>
                      <a:pt x="234" y="99"/>
                    </a:lnTo>
                    <a:lnTo>
                      <a:pt x="215" y="81"/>
                    </a:lnTo>
                    <a:lnTo>
                      <a:pt x="196" y="63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3502800" y="2779920"/>
                <a:ext cx="4320" cy="1044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10" y="17"/>
                    </a:moveTo>
                    <a:lnTo>
                      <a:pt x="4" y="0"/>
                    </a:lnTo>
                    <a:lnTo>
                      <a:pt x="0" y="5"/>
                    </a:lnTo>
                    <a:lnTo>
                      <a:pt x="10" y="17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4597560" y="1933200"/>
                <a:ext cx="37440" cy="80280"/>
              </a:xfrm>
              <a:custGeom>
                <a:avLst/>
                <a:gdLst/>
                <a:ahLst/>
                <a:rect l="l" t="t" r="r" b="b"/>
                <a:pathLst>
                  <a:path w="72" h="113">
                    <a:moveTo>
                      <a:pt x="18" y="111"/>
                    </a:moveTo>
                    <a:lnTo>
                      <a:pt x="18" y="106"/>
                    </a:lnTo>
                    <a:lnTo>
                      <a:pt x="10" y="110"/>
                    </a:lnTo>
                    <a:lnTo>
                      <a:pt x="3" y="113"/>
                    </a:lnTo>
                    <a:lnTo>
                      <a:pt x="1" y="108"/>
                    </a:lnTo>
                    <a:lnTo>
                      <a:pt x="3" y="106"/>
                    </a:lnTo>
                    <a:lnTo>
                      <a:pt x="3" y="103"/>
                    </a:lnTo>
                    <a:lnTo>
                      <a:pt x="1" y="97"/>
                    </a:lnTo>
                    <a:lnTo>
                      <a:pt x="4" y="82"/>
                    </a:lnTo>
                    <a:lnTo>
                      <a:pt x="7" y="74"/>
                    </a:lnTo>
                    <a:lnTo>
                      <a:pt x="8" y="71"/>
                    </a:lnTo>
                    <a:lnTo>
                      <a:pt x="1" y="54"/>
                    </a:lnTo>
                    <a:lnTo>
                      <a:pt x="0" y="49"/>
                    </a:lnTo>
                    <a:lnTo>
                      <a:pt x="4" y="46"/>
                    </a:lnTo>
                    <a:lnTo>
                      <a:pt x="13" y="49"/>
                    </a:lnTo>
                    <a:lnTo>
                      <a:pt x="14" y="46"/>
                    </a:lnTo>
                    <a:lnTo>
                      <a:pt x="10" y="26"/>
                    </a:lnTo>
                    <a:lnTo>
                      <a:pt x="10" y="21"/>
                    </a:lnTo>
                    <a:lnTo>
                      <a:pt x="13" y="16"/>
                    </a:lnTo>
                    <a:lnTo>
                      <a:pt x="34" y="8"/>
                    </a:lnTo>
                    <a:lnTo>
                      <a:pt x="47" y="0"/>
                    </a:lnTo>
                    <a:lnTo>
                      <a:pt x="59" y="26"/>
                    </a:lnTo>
                    <a:lnTo>
                      <a:pt x="72" y="52"/>
                    </a:lnTo>
                    <a:lnTo>
                      <a:pt x="66" y="90"/>
                    </a:lnTo>
                    <a:lnTo>
                      <a:pt x="53" y="95"/>
                    </a:lnTo>
                    <a:lnTo>
                      <a:pt x="40" y="101"/>
                    </a:lnTo>
                    <a:lnTo>
                      <a:pt x="36" y="98"/>
                    </a:lnTo>
                    <a:lnTo>
                      <a:pt x="31" y="103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8" y="111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3634560" y="2095920"/>
                <a:ext cx="20520" cy="29520"/>
              </a:xfrm>
              <a:custGeom>
                <a:avLst/>
                <a:gdLst/>
                <a:ahLst/>
                <a:rect l="l" t="t" r="r" b="b"/>
                <a:pathLst>
                  <a:path w="40" h="41">
                    <a:moveTo>
                      <a:pt x="40" y="12"/>
                    </a:moveTo>
                    <a:lnTo>
                      <a:pt x="33" y="13"/>
                    </a:lnTo>
                    <a:lnTo>
                      <a:pt x="31" y="19"/>
                    </a:lnTo>
                    <a:lnTo>
                      <a:pt x="40" y="41"/>
                    </a:lnTo>
                    <a:lnTo>
                      <a:pt x="21" y="36"/>
                    </a:lnTo>
                    <a:lnTo>
                      <a:pt x="21" y="28"/>
                    </a:lnTo>
                    <a:lnTo>
                      <a:pt x="0" y="25"/>
                    </a:lnTo>
                    <a:lnTo>
                      <a:pt x="18" y="2"/>
                    </a:lnTo>
                    <a:lnTo>
                      <a:pt x="37" y="0"/>
                    </a:lnTo>
                    <a:lnTo>
                      <a:pt x="40" y="12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3512160" y="2009160"/>
                <a:ext cx="23400" cy="29520"/>
              </a:xfrm>
              <a:custGeom>
                <a:avLst/>
                <a:gdLst/>
                <a:ahLst/>
                <a:rect l="l" t="t" r="r" b="b"/>
                <a:pathLst>
                  <a:path w="43" h="42">
                    <a:moveTo>
                      <a:pt x="34" y="22"/>
                    </a:moveTo>
                    <a:lnTo>
                      <a:pt x="13" y="37"/>
                    </a:lnTo>
                    <a:lnTo>
                      <a:pt x="0" y="42"/>
                    </a:lnTo>
                    <a:lnTo>
                      <a:pt x="16" y="22"/>
                    </a:lnTo>
                    <a:lnTo>
                      <a:pt x="33" y="0"/>
                    </a:lnTo>
                    <a:lnTo>
                      <a:pt x="43" y="6"/>
                    </a:lnTo>
                    <a:lnTo>
                      <a:pt x="34" y="22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4038120" y="2089440"/>
                <a:ext cx="94320" cy="73440"/>
              </a:xfrm>
              <a:custGeom>
                <a:avLst/>
                <a:gdLst/>
                <a:ahLst/>
                <a:rect l="l" t="t" r="r" b="b"/>
                <a:pathLst>
                  <a:path w="181" h="106">
                    <a:moveTo>
                      <a:pt x="99" y="85"/>
                    </a:moveTo>
                    <a:lnTo>
                      <a:pt x="70" y="80"/>
                    </a:lnTo>
                    <a:lnTo>
                      <a:pt x="49" y="75"/>
                    </a:lnTo>
                    <a:lnTo>
                      <a:pt x="24" y="60"/>
                    </a:lnTo>
                    <a:lnTo>
                      <a:pt x="0" y="46"/>
                    </a:lnTo>
                    <a:lnTo>
                      <a:pt x="4" y="29"/>
                    </a:lnTo>
                    <a:lnTo>
                      <a:pt x="25" y="7"/>
                    </a:lnTo>
                    <a:lnTo>
                      <a:pt x="25" y="8"/>
                    </a:lnTo>
                    <a:lnTo>
                      <a:pt x="40" y="0"/>
                    </a:lnTo>
                    <a:lnTo>
                      <a:pt x="54" y="11"/>
                    </a:lnTo>
                    <a:lnTo>
                      <a:pt x="77" y="34"/>
                    </a:lnTo>
                    <a:lnTo>
                      <a:pt x="87" y="31"/>
                    </a:lnTo>
                    <a:lnTo>
                      <a:pt x="92" y="40"/>
                    </a:lnTo>
                    <a:lnTo>
                      <a:pt x="110" y="49"/>
                    </a:lnTo>
                    <a:lnTo>
                      <a:pt x="112" y="54"/>
                    </a:lnTo>
                    <a:lnTo>
                      <a:pt x="133" y="65"/>
                    </a:lnTo>
                    <a:lnTo>
                      <a:pt x="154" y="67"/>
                    </a:lnTo>
                    <a:lnTo>
                      <a:pt x="181" y="69"/>
                    </a:lnTo>
                    <a:lnTo>
                      <a:pt x="177" y="106"/>
                    </a:lnTo>
                    <a:lnTo>
                      <a:pt x="151" y="106"/>
                    </a:lnTo>
                    <a:lnTo>
                      <a:pt x="122" y="102"/>
                    </a:lnTo>
                    <a:lnTo>
                      <a:pt x="106" y="98"/>
                    </a:lnTo>
                    <a:lnTo>
                      <a:pt x="99" y="85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3805920" y="1962720"/>
                <a:ext cx="219600" cy="253080"/>
              </a:xfrm>
              <a:custGeom>
                <a:avLst/>
                <a:gdLst/>
                <a:ahLst/>
                <a:rect l="l" t="t" r="r" b="b"/>
                <a:pathLst>
                  <a:path w="421" h="360">
                    <a:moveTo>
                      <a:pt x="112" y="314"/>
                    </a:moveTo>
                    <a:lnTo>
                      <a:pt x="118" y="327"/>
                    </a:lnTo>
                    <a:lnTo>
                      <a:pt x="125" y="331"/>
                    </a:lnTo>
                    <a:lnTo>
                      <a:pt x="134" y="353"/>
                    </a:lnTo>
                    <a:lnTo>
                      <a:pt x="150" y="360"/>
                    </a:lnTo>
                    <a:lnTo>
                      <a:pt x="163" y="354"/>
                    </a:lnTo>
                    <a:lnTo>
                      <a:pt x="164" y="344"/>
                    </a:lnTo>
                    <a:lnTo>
                      <a:pt x="183" y="346"/>
                    </a:lnTo>
                    <a:lnTo>
                      <a:pt x="207" y="342"/>
                    </a:lnTo>
                    <a:lnTo>
                      <a:pt x="216" y="343"/>
                    </a:lnTo>
                    <a:lnTo>
                      <a:pt x="213" y="308"/>
                    </a:lnTo>
                    <a:lnTo>
                      <a:pt x="204" y="307"/>
                    </a:lnTo>
                    <a:lnTo>
                      <a:pt x="204" y="288"/>
                    </a:lnTo>
                    <a:lnTo>
                      <a:pt x="190" y="278"/>
                    </a:lnTo>
                    <a:lnTo>
                      <a:pt x="213" y="246"/>
                    </a:lnTo>
                    <a:lnTo>
                      <a:pt x="222" y="248"/>
                    </a:lnTo>
                    <a:lnTo>
                      <a:pt x="243" y="248"/>
                    </a:lnTo>
                    <a:lnTo>
                      <a:pt x="266" y="225"/>
                    </a:lnTo>
                    <a:lnTo>
                      <a:pt x="288" y="203"/>
                    </a:lnTo>
                    <a:lnTo>
                      <a:pt x="307" y="182"/>
                    </a:lnTo>
                    <a:lnTo>
                      <a:pt x="324" y="164"/>
                    </a:lnTo>
                    <a:lnTo>
                      <a:pt x="327" y="144"/>
                    </a:lnTo>
                    <a:lnTo>
                      <a:pt x="347" y="133"/>
                    </a:lnTo>
                    <a:lnTo>
                      <a:pt x="340" y="124"/>
                    </a:lnTo>
                    <a:lnTo>
                      <a:pt x="336" y="115"/>
                    </a:lnTo>
                    <a:lnTo>
                      <a:pt x="328" y="108"/>
                    </a:lnTo>
                    <a:lnTo>
                      <a:pt x="328" y="94"/>
                    </a:lnTo>
                    <a:lnTo>
                      <a:pt x="331" y="85"/>
                    </a:lnTo>
                    <a:lnTo>
                      <a:pt x="325" y="74"/>
                    </a:lnTo>
                    <a:lnTo>
                      <a:pt x="330" y="65"/>
                    </a:lnTo>
                    <a:lnTo>
                      <a:pt x="361" y="69"/>
                    </a:lnTo>
                    <a:lnTo>
                      <a:pt x="390" y="62"/>
                    </a:lnTo>
                    <a:lnTo>
                      <a:pt x="421" y="42"/>
                    </a:lnTo>
                    <a:lnTo>
                      <a:pt x="395" y="33"/>
                    </a:lnTo>
                    <a:lnTo>
                      <a:pt x="382" y="26"/>
                    </a:lnTo>
                    <a:lnTo>
                      <a:pt x="380" y="7"/>
                    </a:lnTo>
                    <a:lnTo>
                      <a:pt x="357" y="0"/>
                    </a:lnTo>
                    <a:lnTo>
                      <a:pt x="327" y="7"/>
                    </a:lnTo>
                    <a:lnTo>
                      <a:pt x="297" y="13"/>
                    </a:lnTo>
                    <a:lnTo>
                      <a:pt x="276" y="29"/>
                    </a:lnTo>
                    <a:lnTo>
                      <a:pt x="278" y="52"/>
                    </a:lnTo>
                    <a:lnTo>
                      <a:pt x="264" y="72"/>
                    </a:lnTo>
                    <a:lnTo>
                      <a:pt x="253" y="84"/>
                    </a:lnTo>
                    <a:lnTo>
                      <a:pt x="233" y="85"/>
                    </a:lnTo>
                    <a:lnTo>
                      <a:pt x="240" y="101"/>
                    </a:lnTo>
                    <a:lnTo>
                      <a:pt x="216" y="115"/>
                    </a:lnTo>
                    <a:lnTo>
                      <a:pt x="202" y="146"/>
                    </a:lnTo>
                    <a:lnTo>
                      <a:pt x="180" y="144"/>
                    </a:lnTo>
                    <a:lnTo>
                      <a:pt x="171" y="153"/>
                    </a:lnTo>
                    <a:lnTo>
                      <a:pt x="145" y="161"/>
                    </a:lnTo>
                    <a:lnTo>
                      <a:pt x="132" y="183"/>
                    </a:lnTo>
                    <a:lnTo>
                      <a:pt x="128" y="195"/>
                    </a:lnTo>
                    <a:lnTo>
                      <a:pt x="102" y="200"/>
                    </a:lnTo>
                    <a:lnTo>
                      <a:pt x="75" y="206"/>
                    </a:lnTo>
                    <a:lnTo>
                      <a:pt x="40" y="208"/>
                    </a:lnTo>
                    <a:lnTo>
                      <a:pt x="22" y="200"/>
                    </a:lnTo>
                    <a:lnTo>
                      <a:pt x="4" y="195"/>
                    </a:lnTo>
                    <a:lnTo>
                      <a:pt x="16" y="213"/>
                    </a:lnTo>
                    <a:lnTo>
                      <a:pt x="26" y="231"/>
                    </a:lnTo>
                    <a:lnTo>
                      <a:pt x="42" y="239"/>
                    </a:lnTo>
                    <a:lnTo>
                      <a:pt x="40" y="267"/>
                    </a:lnTo>
                    <a:lnTo>
                      <a:pt x="47" y="269"/>
                    </a:lnTo>
                    <a:lnTo>
                      <a:pt x="43" y="282"/>
                    </a:lnTo>
                    <a:lnTo>
                      <a:pt x="20" y="290"/>
                    </a:lnTo>
                    <a:lnTo>
                      <a:pt x="9" y="300"/>
                    </a:lnTo>
                    <a:lnTo>
                      <a:pt x="0" y="321"/>
                    </a:lnTo>
                    <a:lnTo>
                      <a:pt x="23" y="320"/>
                    </a:lnTo>
                    <a:lnTo>
                      <a:pt x="45" y="320"/>
                    </a:lnTo>
                    <a:lnTo>
                      <a:pt x="63" y="318"/>
                    </a:lnTo>
                    <a:lnTo>
                      <a:pt x="88" y="316"/>
                    </a:lnTo>
                    <a:lnTo>
                      <a:pt x="112" y="31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3673800" y="2171880"/>
                <a:ext cx="10800" cy="29160"/>
              </a:xfrm>
              <a:custGeom>
                <a:avLst/>
                <a:gdLst/>
                <a:ahLst/>
                <a:rect l="l" t="t" r="r" b="b"/>
                <a:pathLst>
                  <a:path w="20" h="42">
                    <a:moveTo>
                      <a:pt x="9" y="40"/>
                    </a:moveTo>
                    <a:lnTo>
                      <a:pt x="6" y="42"/>
                    </a:lnTo>
                    <a:lnTo>
                      <a:pt x="0" y="36"/>
                    </a:lnTo>
                    <a:lnTo>
                      <a:pt x="6" y="11"/>
                    </a:lnTo>
                    <a:lnTo>
                      <a:pt x="19" y="0"/>
                    </a:lnTo>
                    <a:lnTo>
                      <a:pt x="20" y="21"/>
                    </a:lnTo>
                    <a:lnTo>
                      <a:pt x="9" y="4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3516480" y="1960920"/>
                <a:ext cx="99000" cy="92880"/>
              </a:xfrm>
              <a:custGeom>
                <a:avLst/>
                <a:gdLst/>
                <a:ahLst/>
                <a:rect l="l" t="t" r="r" b="b"/>
                <a:pathLst>
                  <a:path w="190" h="131">
                    <a:moveTo>
                      <a:pt x="136" y="9"/>
                    </a:moveTo>
                    <a:lnTo>
                      <a:pt x="103" y="9"/>
                    </a:lnTo>
                    <a:lnTo>
                      <a:pt x="67" y="12"/>
                    </a:lnTo>
                    <a:lnTo>
                      <a:pt x="57" y="15"/>
                    </a:lnTo>
                    <a:lnTo>
                      <a:pt x="51" y="26"/>
                    </a:lnTo>
                    <a:lnTo>
                      <a:pt x="36" y="35"/>
                    </a:lnTo>
                    <a:lnTo>
                      <a:pt x="35" y="33"/>
                    </a:lnTo>
                    <a:lnTo>
                      <a:pt x="25" y="68"/>
                    </a:lnTo>
                    <a:lnTo>
                      <a:pt x="35" y="74"/>
                    </a:lnTo>
                    <a:lnTo>
                      <a:pt x="26" y="90"/>
                    </a:lnTo>
                    <a:lnTo>
                      <a:pt x="5" y="105"/>
                    </a:lnTo>
                    <a:lnTo>
                      <a:pt x="0" y="120"/>
                    </a:lnTo>
                    <a:lnTo>
                      <a:pt x="25" y="131"/>
                    </a:lnTo>
                    <a:lnTo>
                      <a:pt x="51" y="117"/>
                    </a:lnTo>
                    <a:lnTo>
                      <a:pt x="78" y="103"/>
                    </a:lnTo>
                    <a:lnTo>
                      <a:pt x="107" y="88"/>
                    </a:lnTo>
                    <a:lnTo>
                      <a:pt x="136" y="74"/>
                    </a:lnTo>
                    <a:lnTo>
                      <a:pt x="147" y="48"/>
                    </a:lnTo>
                    <a:lnTo>
                      <a:pt x="160" y="22"/>
                    </a:lnTo>
                    <a:lnTo>
                      <a:pt x="190" y="2"/>
                    </a:lnTo>
                    <a:lnTo>
                      <a:pt x="185" y="0"/>
                    </a:lnTo>
                    <a:lnTo>
                      <a:pt x="160" y="5"/>
                    </a:lnTo>
                    <a:lnTo>
                      <a:pt x="136" y="9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4519440" y="2188800"/>
                <a:ext cx="21960" cy="61200"/>
              </a:xfrm>
              <a:custGeom>
                <a:avLst/>
                <a:gdLst/>
                <a:ahLst/>
                <a:rect l="l" t="t" r="r" b="b"/>
                <a:pathLst>
                  <a:path w="43" h="87">
                    <a:moveTo>
                      <a:pt x="13" y="87"/>
                    </a:moveTo>
                    <a:lnTo>
                      <a:pt x="0" y="65"/>
                    </a:lnTo>
                    <a:lnTo>
                      <a:pt x="1" y="35"/>
                    </a:lnTo>
                    <a:lnTo>
                      <a:pt x="16" y="18"/>
                    </a:lnTo>
                    <a:lnTo>
                      <a:pt x="29" y="0"/>
                    </a:lnTo>
                    <a:lnTo>
                      <a:pt x="43" y="5"/>
                    </a:lnTo>
                    <a:lnTo>
                      <a:pt x="36" y="26"/>
                    </a:lnTo>
                    <a:lnTo>
                      <a:pt x="29" y="46"/>
                    </a:lnTo>
                    <a:lnTo>
                      <a:pt x="22" y="67"/>
                    </a:lnTo>
                    <a:lnTo>
                      <a:pt x="13" y="87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612600" y="2106360"/>
                <a:ext cx="21960" cy="14760"/>
              </a:xfrm>
              <a:custGeom>
                <a:avLst/>
                <a:gdLst/>
                <a:ahLst/>
                <a:rect l="l" t="t" r="r" b="b"/>
                <a:pathLst>
                  <a:path w="42" h="20">
                    <a:moveTo>
                      <a:pt x="19" y="0"/>
                    </a:moveTo>
                    <a:lnTo>
                      <a:pt x="0" y="7"/>
                    </a:lnTo>
                    <a:lnTo>
                      <a:pt x="16" y="20"/>
                    </a:lnTo>
                    <a:lnTo>
                      <a:pt x="42" y="1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4440600" y="224388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0"/>
                    </a:moveTo>
                    <a:lnTo>
                      <a:pt x="3" y="3"/>
                    </a:lnTo>
                    <a:lnTo>
                      <a:pt x="0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3882960" y="1983960"/>
                <a:ext cx="361080" cy="529920"/>
              </a:xfrm>
              <a:custGeom>
                <a:avLst/>
                <a:gdLst/>
                <a:ahLst/>
                <a:rect l="l" t="t" r="r" b="b"/>
                <a:pathLst>
                  <a:path w="690" h="752">
                    <a:moveTo>
                      <a:pt x="624" y="182"/>
                    </a:moveTo>
                    <a:lnTo>
                      <a:pt x="604" y="198"/>
                    </a:lnTo>
                    <a:lnTo>
                      <a:pt x="582" y="214"/>
                    </a:lnTo>
                    <a:lnTo>
                      <a:pt x="558" y="221"/>
                    </a:lnTo>
                    <a:lnTo>
                      <a:pt x="562" y="229"/>
                    </a:lnTo>
                    <a:lnTo>
                      <a:pt x="566" y="244"/>
                    </a:lnTo>
                    <a:lnTo>
                      <a:pt x="543" y="245"/>
                    </a:lnTo>
                    <a:lnTo>
                      <a:pt x="522" y="247"/>
                    </a:lnTo>
                    <a:lnTo>
                      <a:pt x="493" y="244"/>
                    </a:lnTo>
                    <a:lnTo>
                      <a:pt x="493" y="234"/>
                    </a:lnTo>
                    <a:lnTo>
                      <a:pt x="489" y="212"/>
                    </a:lnTo>
                    <a:lnTo>
                      <a:pt x="477" y="218"/>
                    </a:lnTo>
                    <a:lnTo>
                      <a:pt x="473" y="255"/>
                    </a:lnTo>
                    <a:lnTo>
                      <a:pt x="447" y="255"/>
                    </a:lnTo>
                    <a:lnTo>
                      <a:pt x="418" y="251"/>
                    </a:lnTo>
                    <a:lnTo>
                      <a:pt x="402" y="247"/>
                    </a:lnTo>
                    <a:lnTo>
                      <a:pt x="395" y="234"/>
                    </a:lnTo>
                    <a:lnTo>
                      <a:pt x="366" y="229"/>
                    </a:lnTo>
                    <a:lnTo>
                      <a:pt x="345" y="224"/>
                    </a:lnTo>
                    <a:lnTo>
                      <a:pt x="320" y="209"/>
                    </a:lnTo>
                    <a:lnTo>
                      <a:pt x="296" y="195"/>
                    </a:lnTo>
                    <a:lnTo>
                      <a:pt x="300" y="178"/>
                    </a:lnTo>
                    <a:lnTo>
                      <a:pt x="321" y="156"/>
                    </a:lnTo>
                    <a:lnTo>
                      <a:pt x="304" y="140"/>
                    </a:lnTo>
                    <a:lnTo>
                      <a:pt x="284" y="124"/>
                    </a:lnTo>
                    <a:lnTo>
                      <a:pt x="274" y="121"/>
                    </a:lnTo>
                    <a:lnTo>
                      <a:pt x="275" y="91"/>
                    </a:lnTo>
                    <a:lnTo>
                      <a:pt x="288" y="93"/>
                    </a:lnTo>
                    <a:lnTo>
                      <a:pt x="297" y="82"/>
                    </a:lnTo>
                    <a:lnTo>
                      <a:pt x="290" y="62"/>
                    </a:lnTo>
                    <a:lnTo>
                      <a:pt x="294" y="52"/>
                    </a:lnTo>
                    <a:lnTo>
                      <a:pt x="306" y="48"/>
                    </a:lnTo>
                    <a:lnTo>
                      <a:pt x="314" y="35"/>
                    </a:lnTo>
                    <a:lnTo>
                      <a:pt x="329" y="12"/>
                    </a:lnTo>
                    <a:lnTo>
                      <a:pt x="314" y="5"/>
                    </a:lnTo>
                    <a:lnTo>
                      <a:pt x="296" y="0"/>
                    </a:lnTo>
                    <a:lnTo>
                      <a:pt x="273" y="12"/>
                    </a:lnTo>
                    <a:lnTo>
                      <a:pt x="242" y="32"/>
                    </a:lnTo>
                    <a:lnTo>
                      <a:pt x="213" y="39"/>
                    </a:lnTo>
                    <a:lnTo>
                      <a:pt x="182" y="35"/>
                    </a:lnTo>
                    <a:lnTo>
                      <a:pt x="177" y="44"/>
                    </a:lnTo>
                    <a:lnTo>
                      <a:pt x="183" y="55"/>
                    </a:lnTo>
                    <a:lnTo>
                      <a:pt x="180" y="64"/>
                    </a:lnTo>
                    <a:lnTo>
                      <a:pt x="180" y="78"/>
                    </a:lnTo>
                    <a:lnTo>
                      <a:pt x="188" y="85"/>
                    </a:lnTo>
                    <a:lnTo>
                      <a:pt x="192" y="94"/>
                    </a:lnTo>
                    <a:lnTo>
                      <a:pt x="199" y="103"/>
                    </a:lnTo>
                    <a:lnTo>
                      <a:pt x="179" y="114"/>
                    </a:lnTo>
                    <a:lnTo>
                      <a:pt x="176" y="134"/>
                    </a:lnTo>
                    <a:lnTo>
                      <a:pt x="159" y="152"/>
                    </a:lnTo>
                    <a:lnTo>
                      <a:pt x="140" y="173"/>
                    </a:lnTo>
                    <a:lnTo>
                      <a:pt x="118" y="195"/>
                    </a:lnTo>
                    <a:lnTo>
                      <a:pt x="95" y="218"/>
                    </a:lnTo>
                    <a:lnTo>
                      <a:pt x="74" y="218"/>
                    </a:lnTo>
                    <a:lnTo>
                      <a:pt x="65" y="216"/>
                    </a:lnTo>
                    <a:lnTo>
                      <a:pt x="42" y="248"/>
                    </a:lnTo>
                    <a:lnTo>
                      <a:pt x="56" y="258"/>
                    </a:lnTo>
                    <a:lnTo>
                      <a:pt x="56" y="277"/>
                    </a:lnTo>
                    <a:lnTo>
                      <a:pt x="65" y="278"/>
                    </a:lnTo>
                    <a:lnTo>
                      <a:pt x="68" y="313"/>
                    </a:lnTo>
                    <a:lnTo>
                      <a:pt x="59" y="312"/>
                    </a:lnTo>
                    <a:lnTo>
                      <a:pt x="35" y="316"/>
                    </a:lnTo>
                    <a:lnTo>
                      <a:pt x="16" y="314"/>
                    </a:lnTo>
                    <a:lnTo>
                      <a:pt x="15" y="324"/>
                    </a:lnTo>
                    <a:lnTo>
                      <a:pt x="2" y="330"/>
                    </a:lnTo>
                    <a:lnTo>
                      <a:pt x="0" y="330"/>
                    </a:lnTo>
                    <a:lnTo>
                      <a:pt x="12" y="327"/>
                    </a:lnTo>
                    <a:lnTo>
                      <a:pt x="6" y="333"/>
                    </a:lnTo>
                    <a:lnTo>
                      <a:pt x="22" y="355"/>
                    </a:lnTo>
                    <a:lnTo>
                      <a:pt x="51" y="350"/>
                    </a:lnTo>
                    <a:lnTo>
                      <a:pt x="48" y="355"/>
                    </a:lnTo>
                    <a:lnTo>
                      <a:pt x="28" y="368"/>
                    </a:lnTo>
                    <a:lnTo>
                      <a:pt x="16" y="365"/>
                    </a:lnTo>
                    <a:lnTo>
                      <a:pt x="32" y="388"/>
                    </a:lnTo>
                    <a:lnTo>
                      <a:pt x="48" y="411"/>
                    </a:lnTo>
                    <a:lnTo>
                      <a:pt x="82" y="401"/>
                    </a:lnTo>
                    <a:lnTo>
                      <a:pt x="88" y="384"/>
                    </a:lnTo>
                    <a:lnTo>
                      <a:pt x="92" y="371"/>
                    </a:lnTo>
                    <a:lnTo>
                      <a:pt x="104" y="371"/>
                    </a:lnTo>
                    <a:lnTo>
                      <a:pt x="100" y="378"/>
                    </a:lnTo>
                    <a:lnTo>
                      <a:pt x="97" y="384"/>
                    </a:lnTo>
                    <a:lnTo>
                      <a:pt x="110" y="384"/>
                    </a:lnTo>
                    <a:lnTo>
                      <a:pt x="100" y="392"/>
                    </a:lnTo>
                    <a:lnTo>
                      <a:pt x="101" y="404"/>
                    </a:lnTo>
                    <a:lnTo>
                      <a:pt x="98" y="424"/>
                    </a:lnTo>
                    <a:lnTo>
                      <a:pt x="98" y="451"/>
                    </a:lnTo>
                    <a:lnTo>
                      <a:pt x="98" y="458"/>
                    </a:lnTo>
                    <a:lnTo>
                      <a:pt x="100" y="464"/>
                    </a:lnTo>
                    <a:lnTo>
                      <a:pt x="101" y="497"/>
                    </a:lnTo>
                    <a:lnTo>
                      <a:pt x="105" y="523"/>
                    </a:lnTo>
                    <a:lnTo>
                      <a:pt x="110" y="551"/>
                    </a:lnTo>
                    <a:lnTo>
                      <a:pt x="114" y="556"/>
                    </a:lnTo>
                    <a:lnTo>
                      <a:pt x="121" y="587"/>
                    </a:lnTo>
                    <a:lnTo>
                      <a:pt x="130" y="618"/>
                    </a:lnTo>
                    <a:lnTo>
                      <a:pt x="139" y="641"/>
                    </a:lnTo>
                    <a:lnTo>
                      <a:pt x="147" y="663"/>
                    </a:lnTo>
                    <a:lnTo>
                      <a:pt x="154" y="685"/>
                    </a:lnTo>
                    <a:lnTo>
                      <a:pt x="160" y="703"/>
                    </a:lnTo>
                    <a:lnTo>
                      <a:pt x="169" y="725"/>
                    </a:lnTo>
                    <a:lnTo>
                      <a:pt x="176" y="745"/>
                    </a:lnTo>
                    <a:lnTo>
                      <a:pt x="190" y="752"/>
                    </a:lnTo>
                    <a:lnTo>
                      <a:pt x="205" y="739"/>
                    </a:lnTo>
                    <a:lnTo>
                      <a:pt x="219" y="723"/>
                    </a:lnTo>
                    <a:lnTo>
                      <a:pt x="234" y="722"/>
                    </a:lnTo>
                    <a:lnTo>
                      <a:pt x="225" y="712"/>
                    </a:lnTo>
                    <a:lnTo>
                      <a:pt x="239" y="693"/>
                    </a:lnTo>
                    <a:lnTo>
                      <a:pt x="247" y="692"/>
                    </a:lnTo>
                    <a:lnTo>
                      <a:pt x="247" y="672"/>
                    </a:lnTo>
                    <a:lnTo>
                      <a:pt x="248" y="653"/>
                    </a:lnTo>
                    <a:lnTo>
                      <a:pt x="255" y="631"/>
                    </a:lnTo>
                    <a:lnTo>
                      <a:pt x="262" y="608"/>
                    </a:lnTo>
                    <a:lnTo>
                      <a:pt x="260" y="584"/>
                    </a:lnTo>
                    <a:lnTo>
                      <a:pt x="262" y="553"/>
                    </a:lnTo>
                    <a:lnTo>
                      <a:pt x="277" y="545"/>
                    </a:lnTo>
                    <a:lnTo>
                      <a:pt x="280" y="542"/>
                    </a:lnTo>
                    <a:lnTo>
                      <a:pt x="285" y="541"/>
                    </a:lnTo>
                    <a:lnTo>
                      <a:pt x="294" y="530"/>
                    </a:lnTo>
                    <a:lnTo>
                      <a:pt x="314" y="523"/>
                    </a:lnTo>
                    <a:lnTo>
                      <a:pt x="321" y="506"/>
                    </a:lnTo>
                    <a:lnTo>
                      <a:pt x="349" y="483"/>
                    </a:lnTo>
                    <a:lnTo>
                      <a:pt x="375" y="458"/>
                    </a:lnTo>
                    <a:lnTo>
                      <a:pt x="398" y="440"/>
                    </a:lnTo>
                    <a:lnTo>
                      <a:pt x="414" y="431"/>
                    </a:lnTo>
                    <a:lnTo>
                      <a:pt x="431" y="411"/>
                    </a:lnTo>
                    <a:lnTo>
                      <a:pt x="437" y="391"/>
                    </a:lnTo>
                    <a:lnTo>
                      <a:pt x="461" y="376"/>
                    </a:lnTo>
                    <a:lnTo>
                      <a:pt x="465" y="386"/>
                    </a:lnTo>
                    <a:lnTo>
                      <a:pt x="473" y="388"/>
                    </a:lnTo>
                    <a:lnTo>
                      <a:pt x="478" y="386"/>
                    </a:lnTo>
                    <a:lnTo>
                      <a:pt x="484" y="386"/>
                    </a:lnTo>
                    <a:lnTo>
                      <a:pt x="484" y="379"/>
                    </a:lnTo>
                    <a:lnTo>
                      <a:pt x="481" y="359"/>
                    </a:lnTo>
                    <a:lnTo>
                      <a:pt x="480" y="337"/>
                    </a:lnTo>
                    <a:lnTo>
                      <a:pt x="480" y="323"/>
                    </a:lnTo>
                    <a:lnTo>
                      <a:pt x="467" y="307"/>
                    </a:lnTo>
                    <a:lnTo>
                      <a:pt x="474" y="296"/>
                    </a:lnTo>
                    <a:lnTo>
                      <a:pt x="486" y="291"/>
                    </a:lnTo>
                    <a:lnTo>
                      <a:pt x="473" y="274"/>
                    </a:lnTo>
                    <a:lnTo>
                      <a:pt x="480" y="254"/>
                    </a:lnTo>
                    <a:lnTo>
                      <a:pt x="493" y="261"/>
                    </a:lnTo>
                    <a:lnTo>
                      <a:pt x="499" y="268"/>
                    </a:lnTo>
                    <a:lnTo>
                      <a:pt x="506" y="264"/>
                    </a:lnTo>
                    <a:lnTo>
                      <a:pt x="509" y="286"/>
                    </a:lnTo>
                    <a:lnTo>
                      <a:pt x="533" y="288"/>
                    </a:lnTo>
                    <a:lnTo>
                      <a:pt x="558" y="291"/>
                    </a:lnTo>
                    <a:lnTo>
                      <a:pt x="566" y="300"/>
                    </a:lnTo>
                    <a:lnTo>
                      <a:pt x="561" y="312"/>
                    </a:lnTo>
                    <a:lnTo>
                      <a:pt x="540" y="323"/>
                    </a:lnTo>
                    <a:lnTo>
                      <a:pt x="540" y="345"/>
                    </a:lnTo>
                    <a:lnTo>
                      <a:pt x="543" y="350"/>
                    </a:lnTo>
                    <a:lnTo>
                      <a:pt x="559" y="330"/>
                    </a:lnTo>
                    <a:lnTo>
                      <a:pt x="562" y="355"/>
                    </a:lnTo>
                    <a:lnTo>
                      <a:pt x="566" y="378"/>
                    </a:lnTo>
                    <a:lnTo>
                      <a:pt x="568" y="376"/>
                    </a:lnTo>
                    <a:lnTo>
                      <a:pt x="576" y="378"/>
                    </a:lnTo>
                    <a:lnTo>
                      <a:pt x="582" y="349"/>
                    </a:lnTo>
                    <a:lnTo>
                      <a:pt x="588" y="326"/>
                    </a:lnTo>
                    <a:lnTo>
                      <a:pt x="604" y="326"/>
                    </a:lnTo>
                    <a:lnTo>
                      <a:pt x="622" y="293"/>
                    </a:lnTo>
                    <a:lnTo>
                      <a:pt x="625" y="281"/>
                    </a:lnTo>
                    <a:lnTo>
                      <a:pt x="634" y="258"/>
                    </a:lnTo>
                    <a:lnTo>
                      <a:pt x="664" y="234"/>
                    </a:lnTo>
                    <a:lnTo>
                      <a:pt x="680" y="238"/>
                    </a:lnTo>
                    <a:lnTo>
                      <a:pt x="677" y="229"/>
                    </a:lnTo>
                    <a:lnTo>
                      <a:pt x="683" y="222"/>
                    </a:lnTo>
                    <a:lnTo>
                      <a:pt x="690" y="209"/>
                    </a:lnTo>
                    <a:lnTo>
                      <a:pt x="667" y="201"/>
                    </a:lnTo>
                    <a:lnTo>
                      <a:pt x="671" y="189"/>
                    </a:lnTo>
                    <a:lnTo>
                      <a:pt x="664" y="186"/>
                    </a:lnTo>
                    <a:lnTo>
                      <a:pt x="667" y="182"/>
                    </a:lnTo>
                    <a:lnTo>
                      <a:pt x="658" y="178"/>
                    </a:lnTo>
                    <a:lnTo>
                      <a:pt x="643" y="185"/>
                    </a:lnTo>
                    <a:lnTo>
                      <a:pt x="624" y="182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4271040" y="2241360"/>
                <a:ext cx="87840" cy="160200"/>
              </a:xfrm>
              <a:custGeom>
                <a:avLst/>
                <a:gdLst/>
                <a:ahLst/>
                <a:rect l="l" t="t" r="r" b="b"/>
                <a:pathLst>
                  <a:path w="169" h="229">
                    <a:moveTo>
                      <a:pt x="111" y="59"/>
                    </a:moveTo>
                    <a:lnTo>
                      <a:pt x="105" y="52"/>
                    </a:lnTo>
                    <a:lnTo>
                      <a:pt x="94" y="39"/>
                    </a:lnTo>
                    <a:lnTo>
                      <a:pt x="81" y="45"/>
                    </a:lnTo>
                    <a:lnTo>
                      <a:pt x="68" y="30"/>
                    </a:lnTo>
                    <a:lnTo>
                      <a:pt x="66" y="19"/>
                    </a:lnTo>
                    <a:lnTo>
                      <a:pt x="51" y="0"/>
                    </a:lnTo>
                    <a:lnTo>
                      <a:pt x="39" y="2"/>
                    </a:lnTo>
                    <a:lnTo>
                      <a:pt x="38" y="33"/>
                    </a:lnTo>
                    <a:lnTo>
                      <a:pt x="29" y="28"/>
                    </a:lnTo>
                    <a:lnTo>
                      <a:pt x="26" y="23"/>
                    </a:lnTo>
                    <a:lnTo>
                      <a:pt x="12" y="42"/>
                    </a:lnTo>
                    <a:lnTo>
                      <a:pt x="0" y="56"/>
                    </a:lnTo>
                    <a:lnTo>
                      <a:pt x="7" y="59"/>
                    </a:lnTo>
                    <a:lnTo>
                      <a:pt x="7" y="75"/>
                    </a:lnTo>
                    <a:lnTo>
                      <a:pt x="26" y="77"/>
                    </a:lnTo>
                    <a:lnTo>
                      <a:pt x="22" y="104"/>
                    </a:lnTo>
                    <a:lnTo>
                      <a:pt x="19" y="131"/>
                    </a:lnTo>
                    <a:lnTo>
                      <a:pt x="42" y="115"/>
                    </a:lnTo>
                    <a:lnTo>
                      <a:pt x="56" y="121"/>
                    </a:lnTo>
                    <a:lnTo>
                      <a:pt x="68" y="117"/>
                    </a:lnTo>
                    <a:lnTo>
                      <a:pt x="79" y="108"/>
                    </a:lnTo>
                    <a:lnTo>
                      <a:pt x="105" y="133"/>
                    </a:lnTo>
                    <a:lnTo>
                      <a:pt x="105" y="151"/>
                    </a:lnTo>
                    <a:lnTo>
                      <a:pt x="121" y="180"/>
                    </a:lnTo>
                    <a:lnTo>
                      <a:pt x="123" y="203"/>
                    </a:lnTo>
                    <a:lnTo>
                      <a:pt x="114" y="218"/>
                    </a:lnTo>
                    <a:lnTo>
                      <a:pt x="133" y="229"/>
                    </a:lnTo>
                    <a:lnTo>
                      <a:pt x="133" y="222"/>
                    </a:lnTo>
                    <a:lnTo>
                      <a:pt x="143" y="215"/>
                    </a:lnTo>
                    <a:lnTo>
                      <a:pt x="151" y="218"/>
                    </a:lnTo>
                    <a:lnTo>
                      <a:pt x="169" y="209"/>
                    </a:lnTo>
                    <a:lnTo>
                      <a:pt x="169" y="187"/>
                    </a:lnTo>
                    <a:lnTo>
                      <a:pt x="164" y="177"/>
                    </a:lnTo>
                    <a:lnTo>
                      <a:pt x="166" y="172"/>
                    </a:lnTo>
                    <a:lnTo>
                      <a:pt x="148" y="156"/>
                    </a:lnTo>
                    <a:lnTo>
                      <a:pt x="140" y="140"/>
                    </a:lnTo>
                    <a:lnTo>
                      <a:pt x="128" y="121"/>
                    </a:lnTo>
                    <a:lnTo>
                      <a:pt x="118" y="104"/>
                    </a:lnTo>
                    <a:lnTo>
                      <a:pt x="91" y="81"/>
                    </a:lnTo>
                    <a:lnTo>
                      <a:pt x="97" y="74"/>
                    </a:lnTo>
                    <a:lnTo>
                      <a:pt x="111" y="69"/>
                    </a:lnTo>
                    <a:lnTo>
                      <a:pt x="111" y="59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3150720" y="2600640"/>
                <a:ext cx="94320" cy="162000"/>
              </a:xfrm>
              <a:custGeom>
                <a:avLst/>
                <a:gdLst/>
                <a:ahLst/>
                <a:rect l="l" t="t" r="r" b="b"/>
                <a:pathLst>
                  <a:path w="178" h="232">
                    <a:moveTo>
                      <a:pt x="30" y="163"/>
                    </a:moveTo>
                    <a:lnTo>
                      <a:pt x="10" y="164"/>
                    </a:lnTo>
                    <a:lnTo>
                      <a:pt x="10" y="171"/>
                    </a:lnTo>
                    <a:lnTo>
                      <a:pt x="13" y="179"/>
                    </a:lnTo>
                    <a:lnTo>
                      <a:pt x="19" y="190"/>
                    </a:lnTo>
                    <a:lnTo>
                      <a:pt x="14" y="196"/>
                    </a:lnTo>
                    <a:lnTo>
                      <a:pt x="7" y="192"/>
                    </a:lnTo>
                    <a:lnTo>
                      <a:pt x="0" y="203"/>
                    </a:lnTo>
                    <a:lnTo>
                      <a:pt x="21" y="232"/>
                    </a:lnTo>
                    <a:lnTo>
                      <a:pt x="37" y="218"/>
                    </a:lnTo>
                    <a:lnTo>
                      <a:pt x="46" y="222"/>
                    </a:lnTo>
                    <a:lnTo>
                      <a:pt x="59" y="226"/>
                    </a:lnTo>
                    <a:lnTo>
                      <a:pt x="66" y="218"/>
                    </a:lnTo>
                    <a:lnTo>
                      <a:pt x="79" y="216"/>
                    </a:lnTo>
                    <a:lnTo>
                      <a:pt x="82" y="229"/>
                    </a:lnTo>
                    <a:lnTo>
                      <a:pt x="101" y="210"/>
                    </a:lnTo>
                    <a:lnTo>
                      <a:pt x="118" y="193"/>
                    </a:lnTo>
                    <a:lnTo>
                      <a:pt x="121" y="171"/>
                    </a:lnTo>
                    <a:lnTo>
                      <a:pt x="122" y="151"/>
                    </a:lnTo>
                    <a:lnTo>
                      <a:pt x="138" y="130"/>
                    </a:lnTo>
                    <a:lnTo>
                      <a:pt x="154" y="107"/>
                    </a:lnTo>
                    <a:lnTo>
                      <a:pt x="158" y="87"/>
                    </a:lnTo>
                    <a:lnTo>
                      <a:pt x="163" y="66"/>
                    </a:lnTo>
                    <a:lnTo>
                      <a:pt x="167" y="46"/>
                    </a:lnTo>
                    <a:lnTo>
                      <a:pt x="171" y="26"/>
                    </a:lnTo>
                    <a:lnTo>
                      <a:pt x="178" y="3"/>
                    </a:lnTo>
                    <a:lnTo>
                      <a:pt x="160" y="2"/>
                    </a:lnTo>
                    <a:lnTo>
                      <a:pt x="141" y="0"/>
                    </a:lnTo>
                    <a:lnTo>
                      <a:pt x="128" y="7"/>
                    </a:lnTo>
                    <a:lnTo>
                      <a:pt x="119" y="36"/>
                    </a:lnTo>
                    <a:lnTo>
                      <a:pt x="114" y="49"/>
                    </a:lnTo>
                    <a:lnTo>
                      <a:pt x="93" y="43"/>
                    </a:lnTo>
                    <a:lnTo>
                      <a:pt x="73" y="39"/>
                    </a:lnTo>
                    <a:lnTo>
                      <a:pt x="50" y="38"/>
                    </a:lnTo>
                    <a:lnTo>
                      <a:pt x="46" y="63"/>
                    </a:lnTo>
                    <a:lnTo>
                      <a:pt x="73" y="62"/>
                    </a:lnTo>
                    <a:lnTo>
                      <a:pt x="75" y="79"/>
                    </a:lnTo>
                    <a:lnTo>
                      <a:pt x="63" y="95"/>
                    </a:lnTo>
                    <a:lnTo>
                      <a:pt x="76" y="120"/>
                    </a:lnTo>
                    <a:lnTo>
                      <a:pt x="72" y="156"/>
                    </a:lnTo>
                    <a:lnTo>
                      <a:pt x="63" y="163"/>
                    </a:lnTo>
                    <a:lnTo>
                      <a:pt x="60" y="156"/>
                    </a:lnTo>
                    <a:lnTo>
                      <a:pt x="46" y="161"/>
                    </a:lnTo>
                    <a:lnTo>
                      <a:pt x="32" y="146"/>
                    </a:lnTo>
                    <a:lnTo>
                      <a:pt x="30" y="163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3128760" y="2623320"/>
                <a:ext cx="23400" cy="25200"/>
              </a:xfrm>
              <a:custGeom>
                <a:avLst/>
                <a:gdLst/>
                <a:ahLst/>
                <a:rect l="l" t="t" r="r" b="b"/>
                <a:pathLst>
                  <a:path w="45" h="36">
                    <a:moveTo>
                      <a:pt x="7" y="36"/>
                    </a:moveTo>
                    <a:lnTo>
                      <a:pt x="0" y="33"/>
                    </a:lnTo>
                    <a:lnTo>
                      <a:pt x="2" y="23"/>
                    </a:lnTo>
                    <a:lnTo>
                      <a:pt x="9" y="0"/>
                    </a:lnTo>
                    <a:lnTo>
                      <a:pt x="26" y="3"/>
                    </a:lnTo>
                    <a:lnTo>
                      <a:pt x="45" y="5"/>
                    </a:lnTo>
                    <a:lnTo>
                      <a:pt x="45" y="36"/>
                    </a:lnTo>
                    <a:lnTo>
                      <a:pt x="26" y="36"/>
                    </a:lnTo>
                    <a:lnTo>
                      <a:pt x="7" y="3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3117600" y="25984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11" y="0"/>
                    </a:moveTo>
                    <a:lnTo>
                      <a:pt x="7" y="0"/>
                    </a:lnTo>
                    <a:lnTo>
                      <a:pt x="0" y="1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3120840" y="2627640"/>
                <a:ext cx="70560" cy="116280"/>
              </a:xfrm>
              <a:custGeom>
                <a:avLst/>
                <a:gdLst/>
                <a:ahLst/>
                <a:rect l="l" t="t" r="r" b="b"/>
                <a:pathLst>
                  <a:path w="135" h="165">
                    <a:moveTo>
                      <a:pt x="23" y="31"/>
                    </a:moveTo>
                    <a:lnTo>
                      <a:pt x="20" y="41"/>
                    </a:lnTo>
                    <a:lnTo>
                      <a:pt x="13" y="41"/>
                    </a:lnTo>
                    <a:lnTo>
                      <a:pt x="27" y="54"/>
                    </a:lnTo>
                    <a:lnTo>
                      <a:pt x="13" y="53"/>
                    </a:lnTo>
                    <a:lnTo>
                      <a:pt x="6" y="77"/>
                    </a:lnTo>
                    <a:lnTo>
                      <a:pt x="0" y="77"/>
                    </a:lnTo>
                    <a:lnTo>
                      <a:pt x="10" y="96"/>
                    </a:lnTo>
                    <a:lnTo>
                      <a:pt x="16" y="102"/>
                    </a:lnTo>
                    <a:lnTo>
                      <a:pt x="7" y="95"/>
                    </a:lnTo>
                    <a:lnTo>
                      <a:pt x="19" y="110"/>
                    </a:lnTo>
                    <a:lnTo>
                      <a:pt x="14" y="110"/>
                    </a:lnTo>
                    <a:lnTo>
                      <a:pt x="30" y="128"/>
                    </a:lnTo>
                    <a:lnTo>
                      <a:pt x="27" y="126"/>
                    </a:lnTo>
                    <a:lnTo>
                      <a:pt x="43" y="146"/>
                    </a:lnTo>
                    <a:lnTo>
                      <a:pt x="59" y="165"/>
                    </a:lnTo>
                    <a:lnTo>
                      <a:pt x="66" y="154"/>
                    </a:lnTo>
                    <a:lnTo>
                      <a:pt x="73" y="158"/>
                    </a:lnTo>
                    <a:lnTo>
                      <a:pt x="78" y="152"/>
                    </a:lnTo>
                    <a:lnTo>
                      <a:pt x="72" y="141"/>
                    </a:lnTo>
                    <a:lnTo>
                      <a:pt x="69" y="133"/>
                    </a:lnTo>
                    <a:lnTo>
                      <a:pt x="69" y="126"/>
                    </a:lnTo>
                    <a:lnTo>
                      <a:pt x="89" y="125"/>
                    </a:lnTo>
                    <a:lnTo>
                      <a:pt x="91" y="108"/>
                    </a:lnTo>
                    <a:lnTo>
                      <a:pt x="105" y="123"/>
                    </a:lnTo>
                    <a:lnTo>
                      <a:pt x="119" y="118"/>
                    </a:lnTo>
                    <a:lnTo>
                      <a:pt x="122" y="125"/>
                    </a:lnTo>
                    <a:lnTo>
                      <a:pt x="131" y="118"/>
                    </a:lnTo>
                    <a:lnTo>
                      <a:pt x="135" y="82"/>
                    </a:lnTo>
                    <a:lnTo>
                      <a:pt x="122" y="57"/>
                    </a:lnTo>
                    <a:lnTo>
                      <a:pt x="134" y="41"/>
                    </a:lnTo>
                    <a:lnTo>
                      <a:pt x="132" y="24"/>
                    </a:lnTo>
                    <a:lnTo>
                      <a:pt x="105" y="25"/>
                    </a:lnTo>
                    <a:lnTo>
                      <a:pt x="109" y="0"/>
                    </a:lnTo>
                    <a:lnTo>
                      <a:pt x="85" y="0"/>
                    </a:lnTo>
                    <a:lnTo>
                      <a:pt x="62" y="0"/>
                    </a:lnTo>
                    <a:lnTo>
                      <a:pt x="62" y="31"/>
                    </a:lnTo>
                    <a:lnTo>
                      <a:pt x="43" y="31"/>
                    </a:lnTo>
                    <a:lnTo>
                      <a:pt x="24" y="31"/>
                    </a:lnTo>
                    <a:lnTo>
                      <a:pt x="23" y="31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3433680" y="2579400"/>
                <a:ext cx="101880" cy="177120"/>
              </a:xfrm>
              <a:custGeom>
                <a:avLst/>
                <a:gdLst/>
                <a:ahLst/>
                <a:rect l="l" t="t" r="r" b="b"/>
                <a:pathLst>
                  <a:path w="194" h="252">
                    <a:moveTo>
                      <a:pt x="91" y="206"/>
                    </a:moveTo>
                    <a:lnTo>
                      <a:pt x="68" y="193"/>
                    </a:lnTo>
                    <a:lnTo>
                      <a:pt x="46" y="180"/>
                    </a:lnTo>
                    <a:lnTo>
                      <a:pt x="23" y="166"/>
                    </a:lnTo>
                    <a:lnTo>
                      <a:pt x="1" y="153"/>
                    </a:lnTo>
                    <a:lnTo>
                      <a:pt x="0" y="123"/>
                    </a:lnTo>
                    <a:lnTo>
                      <a:pt x="17" y="95"/>
                    </a:lnTo>
                    <a:lnTo>
                      <a:pt x="27" y="75"/>
                    </a:lnTo>
                    <a:lnTo>
                      <a:pt x="22" y="54"/>
                    </a:lnTo>
                    <a:lnTo>
                      <a:pt x="14" y="33"/>
                    </a:lnTo>
                    <a:lnTo>
                      <a:pt x="6" y="12"/>
                    </a:lnTo>
                    <a:lnTo>
                      <a:pt x="14" y="0"/>
                    </a:lnTo>
                    <a:lnTo>
                      <a:pt x="33" y="0"/>
                    </a:lnTo>
                    <a:lnTo>
                      <a:pt x="52" y="0"/>
                    </a:lnTo>
                    <a:lnTo>
                      <a:pt x="72" y="5"/>
                    </a:lnTo>
                    <a:lnTo>
                      <a:pt x="101" y="25"/>
                    </a:lnTo>
                    <a:lnTo>
                      <a:pt x="134" y="31"/>
                    </a:lnTo>
                    <a:lnTo>
                      <a:pt x="145" y="20"/>
                    </a:lnTo>
                    <a:lnTo>
                      <a:pt x="170" y="13"/>
                    </a:lnTo>
                    <a:lnTo>
                      <a:pt x="194" y="18"/>
                    </a:lnTo>
                    <a:lnTo>
                      <a:pt x="183" y="33"/>
                    </a:lnTo>
                    <a:lnTo>
                      <a:pt x="171" y="49"/>
                    </a:lnTo>
                    <a:lnTo>
                      <a:pt x="171" y="74"/>
                    </a:lnTo>
                    <a:lnTo>
                      <a:pt x="170" y="100"/>
                    </a:lnTo>
                    <a:lnTo>
                      <a:pt x="170" y="124"/>
                    </a:lnTo>
                    <a:lnTo>
                      <a:pt x="170" y="149"/>
                    </a:lnTo>
                    <a:lnTo>
                      <a:pt x="184" y="170"/>
                    </a:lnTo>
                    <a:lnTo>
                      <a:pt x="170" y="177"/>
                    </a:lnTo>
                    <a:lnTo>
                      <a:pt x="161" y="195"/>
                    </a:lnTo>
                    <a:lnTo>
                      <a:pt x="151" y="205"/>
                    </a:lnTo>
                    <a:lnTo>
                      <a:pt x="141" y="228"/>
                    </a:lnTo>
                    <a:lnTo>
                      <a:pt x="132" y="251"/>
                    </a:lnTo>
                    <a:lnTo>
                      <a:pt x="130" y="252"/>
                    </a:lnTo>
                    <a:lnTo>
                      <a:pt x="111" y="234"/>
                    </a:lnTo>
                    <a:lnTo>
                      <a:pt x="92" y="216"/>
                    </a:lnTo>
                    <a:lnTo>
                      <a:pt x="91" y="20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3372480" y="2689200"/>
                <a:ext cx="24840" cy="31320"/>
              </a:xfrm>
              <a:custGeom>
                <a:avLst/>
                <a:gdLst/>
                <a:ahLst/>
                <a:rect l="l" t="t" r="r" b="b"/>
                <a:pathLst>
                  <a:path w="46" h="45">
                    <a:moveTo>
                      <a:pt x="15" y="9"/>
                    </a:moveTo>
                    <a:lnTo>
                      <a:pt x="6" y="28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23" y="44"/>
                    </a:lnTo>
                    <a:lnTo>
                      <a:pt x="26" y="35"/>
                    </a:lnTo>
                    <a:lnTo>
                      <a:pt x="39" y="36"/>
                    </a:lnTo>
                    <a:lnTo>
                      <a:pt x="46" y="34"/>
                    </a:lnTo>
                    <a:lnTo>
                      <a:pt x="36" y="0"/>
                    </a:lnTo>
                    <a:lnTo>
                      <a:pt x="22" y="9"/>
                    </a:lnTo>
                    <a:lnTo>
                      <a:pt x="15" y="9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3090960" y="2659320"/>
                <a:ext cx="2880" cy="828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7" y="4"/>
                    </a:moveTo>
                    <a:lnTo>
                      <a:pt x="1" y="12"/>
                    </a:lnTo>
                    <a:lnTo>
                      <a:pt x="0" y="6"/>
                    </a:lnTo>
                    <a:lnTo>
                      <a:pt x="4" y="0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3103560" y="263628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4"/>
                    </a:moveTo>
                    <a:lnTo>
                      <a:pt x="0" y="1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3522960" y="2441880"/>
                <a:ext cx="135000" cy="257400"/>
              </a:xfrm>
              <a:custGeom>
                <a:avLst/>
                <a:gdLst/>
                <a:ahLst/>
                <a:rect l="l" t="t" r="r" b="b"/>
                <a:pathLst>
                  <a:path w="258" h="367">
                    <a:moveTo>
                      <a:pt x="245" y="49"/>
                    </a:moveTo>
                    <a:lnTo>
                      <a:pt x="236" y="79"/>
                    </a:lnTo>
                    <a:lnTo>
                      <a:pt x="217" y="112"/>
                    </a:lnTo>
                    <a:lnTo>
                      <a:pt x="199" y="144"/>
                    </a:lnTo>
                    <a:lnTo>
                      <a:pt x="180" y="177"/>
                    </a:lnTo>
                    <a:lnTo>
                      <a:pt x="163" y="209"/>
                    </a:lnTo>
                    <a:lnTo>
                      <a:pt x="148" y="225"/>
                    </a:lnTo>
                    <a:lnTo>
                      <a:pt x="132" y="239"/>
                    </a:lnTo>
                    <a:lnTo>
                      <a:pt x="118" y="253"/>
                    </a:lnTo>
                    <a:lnTo>
                      <a:pt x="104" y="269"/>
                    </a:lnTo>
                    <a:lnTo>
                      <a:pt x="86" y="285"/>
                    </a:lnTo>
                    <a:lnTo>
                      <a:pt x="69" y="301"/>
                    </a:lnTo>
                    <a:lnTo>
                      <a:pt x="52" y="318"/>
                    </a:lnTo>
                    <a:lnTo>
                      <a:pt x="34" y="334"/>
                    </a:lnTo>
                    <a:lnTo>
                      <a:pt x="24" y="351"/>
                    </a:lnTo>
                    <a:lnTo>
                      <a:pt x="14" y="367"/>
                    </a:lnTo>
                    <a:lnTo>
                      <a:pt x="0" y="346"/>
                    </a:lnTo>
                    <a:lnTo>
                      <a:pt x="0" y="321"/>
                    </a:lnTo>
                    <a:lnTo>
                      <a:pt x="0" y="297"/>
                    </a:lnTo>
                    <a:lnTo>
                      <a:pt x="1" y="271"/>
                    </a:lnTo>
                    <a:lnTo>
                      <a:pt x="1" y="246"/>
                    </a:lnTo>
                    <a:lnTo>
                      <a:pt x="13" y="230"/>
                    </a:lnTo>
                    <a:lnTo>
                      <a:pt x="24" y="215"/>
                    </a:lnTo>
                    <a:lnTo>
                      <a:pt x="36" y="209"/>
                    </a:lnTo>
                    <a:lnTo>
                      <a:pt x="59" y="193"/>
                    </a:lnTo>
                    <a:lnTo>
                      <a:pt x="78" y="192"/>
                    </a:lnTo>
                    <a:lnTo>
                      <a:pt x="96" y="190"/>
                    </a:lnTo>
                    <a:lnTo>
                      <a:pt x="117" y="168"/>
                    </a:lnTo>
                    <a:lnTo>
                      <a:pt x="135" y="148"/>
                    </a:lnTo>
                    <a:lnTo>
                      <a:pt x="154" y="127"/>
                    </a:lnTo>
                    <a:lnTo>
                      <a:pt x="174" y="107"/>
                    </a:lnTo>
                    <a:lnTo>
                      <a:pt x="150" y="107"/>
                    </a:lnTo>
                    <a:lnTo>
                      <a:pt x="132" y="99"/>
                    </a:lnTo>
                    <a:lnTo>
                      <a:pt x="115" y="92"/>
                    </a:lnTo>
                    <a:lnTo>
                      <a:pt x="98" y="86"/>
                    </a:lnTo>
                    <a:lnTo>
                      <a:pt x="81" y="79"/>
                    </a:lnTo>
                    <a:lnTo>
                      <a:pt x="66" y="59"/>
                    </a:lnTo>
                    <a:lnTo>
                      <a:pt x="53" y="40"/>
                    </a:lnTo>
                    <a:lnTo>
                      <a:pt x="59" y="24"/>
                    </a:lnTo>
                    <a:lnTo>
                      <a:pt x="68" y="11"/>
                    </a:lnTo>
                    <a:lnTo>
                      <a:pt x="81" y="26"/>
                    </a:lnTo>
                    <a:lnTo>
                      <a:pt x="92" y="40"/>
                    </a:lnTo>
                    <a:lnTo>
                      <a:pt x="125" y="29"/>
                    </a:lnTo>
                    <a:lnTo>
                      <a:pt x="147" y="32"/>
                    </a:lnTo>
                    <a:lnTo>
                      <a:pt x="170" y="22"/>
                    </a:lnTo>
                    <a:lnTo>
                      <a:pt x="204" y="14"/>
                    </a:lnTo>
                    <a:lnTo>
                      <a:pt x="238" y="7"/>
                    </a:lnTo>
                    <a:lnTo>
                      <a:pt x="252" y="0"/>
                    </a:lnTo>
                    <a:lnTo>
                      <a:pt x="258" y="7"/>
                    </a:lnTo>
                    <a:lnTo>
                      <a:pt x="252" y="40"/>
                    </a:lnTo>
                    <a:lnTo>
                      <a:pt x="255" y="40"/>
                    </a:lnTo>
                    <a:lnTo>
                      <a:pt x="245" y="49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4437720" y="2575080"/>
                <a:ext cx="12240" cy="1656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11" y="24"/>
                    </a:moveTo>
                    <a:lnTo>
                      <a:pt x="0" y="10"/>
                    </a:lnTo>
                    <a:lnTo>
                      <a:pt x="23" y="0"/>
                    </a:lnTo>
                    <a:lnTo>
                      <a:pt x="21" y="1"/>
                    </a:lnTo>
                    <a:lnTo>
                      <a:pt x="17" y="14"/>
                    </a:lnTo>
                    <a:lnTo>
                      <a:pt x="11" y="2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4294440" y="2389320"/>
                <a:ext cx="64440" cy="80280"/>
              </a:xfrm>
              <a:custGeom>
                <a:avLst/>
                <a:gdLst/>
                <a:ahLst/>
                <a:rect l="l" t="t" r="r" b="b"/>
                <a:pathLst>
                  <a:path w="124" h="115">
                    <a:moveTo>
                      <a:pt x="82" y="85"/>
                    </a:moveTo>
                    <a:lnTo>
                      <a:pt x="86" y="105"/>
                    </a:lnTo>
                    <a:lnTo>
                      <a:pt x="70" y="102"/>
                    </a:lnTo>
                    <a:lnTo>
                      <a:pt x="63" y="107"/>
                    </a:lnTo>
                    <a:lnTo>
                      <a:pt x="47" y="115"/>
                    </a:lnTo>
                    <a:lnTo>
                      <a:pt x="33" y="112"/>
                    </a:lnTo>
                    <a:lnTo>
                      <a:pt x="27" y="108"/>
                    </a:lnTo>
                    <a:lnTo>
                      <a:pt x="26" y="97"/>
                    </a:lnTo>
                    <a:lnTo>
                      <a:pt x="17" y="102"/>
                    </a:lnTo>
                    <a:lnTo>
                      <a:pt x="13" y="85"/>
                    </a:lnTo>
                    <a:lnTo>
                      <a:pt x="13" y="82"/>
                    </a:lnTo>
                    <a:lnTo>
                      <a:pt x="6" y="61"/>
                    </a:lnTo>
                    <a:lnTo>
                      <a:pt x="0" y="38"/>
                    </a:lnTo>
                    <a:lnTo>
                      <a:pt x="18" y="10"/>
                    </a:lnTo>
                    <a:lnTo>
                      <a:pt x="44" y="10"/>
                    </a:lnTo>
                    <a:lnTo>
                      <a:pt x="69" y="9"/>
                    </a:lnTo>
                    <a:lnTo>
                      <a:pt x="88" y="20"/>
                    </a:lnTo>
                    <a:lnTo>
                      <a:pt x="88" y="13"/>
                    </a:lnTo>
                    <a:lnTo>
                      <a:pt x="98" y="6"/>
                    </a:lnTo>
                    <a:lnTo>
                      <a:pt x="106" y="9"/>
                    </a:lnTo>
                    <a:lnTo>
                      <a:pt x="124" y="0"/>
                    </a:lnTo>
                    <a:lnTo>
                      <a:pt x="122" y="25"/>
                    </a:lnTo>
                    <a:lnTo>
                      <a:pt x="121" y="45"/>
                    </a:lnTo>
                    <a:lnTo>
                      <a:pt x="119" y="66"/>
                    </a:lnTo>
                    <a:lnTo>
                      <a:pt x="96" y="78"/>
                    </a:lnTo>
                    <a:lnTo>
                      <a:pt x="82" y="85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4987440" y="2534760"/>
                <a:ext cx="2880" cy="39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1" y="0"/>
                    </a:moveTo>
                    <a:lnTo>
                      <a:pt x="0" y="1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3" y="6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048640" y="2566440"/>
                <a:ext cx="1080" cy="2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1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3" y="2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4737600" y="248652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2"/>
                    </a:moveTo>
                    <a:lnTo>
                      <a:pt x="1" y="2"/>
                    </a:lnTo>
                    <a:lnTo>
                      <a:pt x="0" y="5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4905720" y="252684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4908600" y="25268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0">
                    <a:moveTo>
                      <a:pt x="1" y="0"/>
                    </a:move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4819320" y="241056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9"/>
                    </a:moveTo>
                    <a:lnTo>
                      <a:pt x="0" y="5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4831920" y="2376360"/>
                <a:ext cx="1440" cy="396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3" y="0"/>
                    </a:move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4830480" y="2380680"/>
                <a:ext cx="1080" cy="396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1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4825800" y="239796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3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4831920" y="23216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4830480" y="231120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2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4830480" y="2355480"/>
                <a:ext cx="1080" cy="21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1"/>
                    </a:lnTo>
                    <a:lnTo>
                      <a:pt x="0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4175280" y="2125440"/>
                <a:ext cx="108000" cy="347760"/>
              </a:xfrm>
              <a:custGeom>
                <a:avLst/>
                <a:gdLst/>
                <a:ahLst/>
                <a:rect l="l" t="t" r="r" b="b"/>
                <a:pathLst>
                  <a:path w="209" h="496">
                    <a:moveTo>
                      <a:pt x="157" y="119"/>
                    </a:moveTo>
                    <a:lnTo>
                      <a:pt x="131" y="122"/>
                    </a:lnTo>
                    <a:lnTo>
                      <a:pt x="133" y="111"/>
                    </a:lnTo>
                    <a:lnTo>
                      <a:pt x="134" y="99"/>
                    </a:lnTo>
                    <a:lnTo>
                      <a:pt x="150" y="80"/>
                    </a:lnTo>
                    <a:lnTo>
                      <a:pt x="157" y="69"/>
                    </a:lnTo>
                    <a:lnTo>
                      <a:pt x="160" y="47"/>
                    </a:lnTo>
                    <a:lnTo>
                      <a:pt x="162" y="26"/>
                    </a:lnTo>
                    <a:lnTo>
                      <a:pt x="153" y="20"/>
                    </a:lnTo>
                    <a:lnTo>
                      <a:pt x="140" y="0"/>
                    </a:lnTo>
                    <a:lnTo>
                      <a:pt x="134" y="8"/>
                    </a:lnTo>
                    <a:lnTo>
                      <a:pt x="127" y="21"/>
                    </a:lnTo>
                    <a:lnTo>
                      <a:pt x="121" y="28"/>
                    </a:lnTo>
                    <a:lnTo>
                      <a:pt x="124" y="37"/>
                    </a:lnTo>
                    <a:lnTo>
                      <a:pt x="108" y="33"/>
                    </a:lnTo>
                    <a:lnTo>
                      <a:pt x="78" y="57"/>
                    </a:lnTo>
                    <a:lnTo>
                      <a:pt x="69" y="80"/>
                    </a:lnTo>
                    <a:lnTo>
                      <a:pt x="66" y="92"/>
                    </a:lnTo>
                    <a:lnTo>
                      <a:pt x="48" y="125"/>
                    </a:lnTo>
                    <a:lnTo>
                      <a:pt x="32" y="125"/>
                    </a:lnTo>
                    <a:lnTo>
                      <a:pt x="26" y="148"/>
                    </a:lnTo>
                    <a:lnTo>
                      <a:pt x="20" y="177"/>
                    </a:lnTo>
                    <a:lnTo>
                      <a:pt x="12" y="175"/>
                    </a:lnTo>
                    <a:lnTo>
                      <a:pt x="10" y="177"/>
                    </a:lnTo>
                    <a:lnTo>
                      <a:pt x="9" y="193"/>
                    </a:lnTo>
                    <a:lnTo>
                      <a:pt x="0" y="198"/>
                    </a:lnTo>
                    <a:lnTo>
                      <a:pt x="10" y="223"/>
                    </a:lnTo>
                    <a:lnTo>
                      <a:pt x="12" y="224"/>
                    </a:lnTo>
                    <a:lnTo>
                      <a:pt x="18" y="219"/>
                    </a:lnTo>
                    <a:lnTo>
                      <a:pt x="19" y="234"/>
                    </a:lnTo>
                    <a:lnTo>
                      <a:pt x="20" y="234"/>
                    </a:lnTo>
                    <a:lnTo>
                      <a:pt x="32" y="234"/>
                    </a:lnTo>
                    <a:lnTo>
                      <a:pt x="36" y="244"/>
                    </a:lnTo>
                    <a:lnTo>
                      <a:pt x="29" y="249"/>
                    </a:lnTo>
                    <a:lnTo>
                      <a:pt x="33" y="259"/>
                    </a:lnTo>
                    <a:lnTo>
                      <a:pt x="39" y="249"/>
                    </a:lnTo>
                    <a:lnTo>
                      <a:pt x="45" y="270"/>
                    </a:lnTo>
                    <a:lnTo>
                      <a:pt x="49" y="292"/>
                    </a:lnTo>
                    <a:lnTo>
                      <a:pt x="43" y="315"/>
                    </a:lnTo>
                    <a:lnTo>
                      <a:pt x="38" y="338"/>
                    </a:lnTo>
                    <a:lnTo>
                      <a:pt x="51" y="324"/>
                    </a:lnTo>
                    <a:lnTo>
                      <a:pt x="51" y="338"/>
                    </a:lnTo>
                    <a:lnTo>
                      <a:pt x="54" y="342"/>
                    </a:lnTo>
                    <a:lnTo>
                      <a:pt x="59" y="341"/>
                    </a:lnTo>
                    <a:lnTo>
                      <a:pt x="65" y="340"/>
                    </a:lnTo>
                    <a:lnTo>
                      <a:pt x="65" y="342"/>
                    </a:lnTo>
                    <a:lnTo>
                      <a:pt x="84" y="329"/>
                    </a:lnTo>
                    <a:lnTo>
                      <a:pt x="88" y="321"/>
                    </a:lnTo>
                    <a:lnTo>
                      <a:pt x="94" y="325"/>
                    </a:lnTo>
                    <a:lnTo>
                      <a:pt x="104" y="303"/>
                    </a:lnTo>
                    <a:lnTo>
                      <a:pt x="111" y="316"/>
                    </a:lnTo>
                    <a:lnTo>
                      <a:pt x="120" y="325"/>
                    </a:lnTo>
                    <a:lnTo>
                      <a:pt x="124" y="364"/>
                    </a:lnTo>
                    <a:lnTo>
                      <a:pt x="128" y="401"/>
                    </a:lnTo>
                    <a:lnTo>
                      <a:pt x="130" y="394"/>
                    </a:lnTo>
                    <a:lnTo>
                      <a:pt x="134" y="414"/>
                    </a:lnTo>
                    <a:lnTo>
                      <a:pt x="138" y="433"/>
                    </a:lnTo>
                    <a:lnTo>
                      <a:pt x="140" y="455"/>
                    </a:lnTo>
                    <a:lnTo>
                      <a:pt x="137" y="476"/>
                    </a:lnTo>
                    <a:lnTo>
                      <a:pt x="134" y="496"/>
                    </a:lnTo>
                    <a:lnTo>
                      <a:pt x="140" y="492"/>
                    </a:lnTo>
                    <a:lnTo>
                      <a:pt x="150" y="475"/>
                    </a:lnTo>
                    <a:lnTo>
                      <a:pt x="160" y="456"/>
                    </a:lnTo>
                    <a:lnTo>
                      <a:pt x="157" y="430"/>
                    </a:lnTo>
                    <a:lnTo>
                      <a:pt x="154" y="407"/>
                    </a:lnTo>
                    <a:lnTo>
                      <a:pt x="144" y="390"/>
                    </a:lnTo>
                    <a:lnTo>
                      <a:pt x="134" y="374"/>
                    </a:lnTo>
                    <a:lnTo>
                      <a:pt x="136" y="358"/>
                    </a:lnTo>
                    <a:lnTo>
                      <a:pt x="141" y="347"/>
                    </a:lnTo>
                    <a:lnTo>
                      <a:pt x="150" y="329"/>
                    </a:lnTo>
                    <a:lnTo>
                      <a:pt x="144" y="328"/>
                    </a:lnTo>
                    <a:lnTo>
                      <a:pt x="130" y="299"/>
                    </a:lnTo>
                    <a:lnTo>
                      <a:pt x="117" y="270"/>
                    </a:lnTo>
                    <a:lnTo>
                      <a:pt x="123" y="270"/>
                    </a:lnTo>
                    <a:lnTo>
                      <a:pt x="133" y="240"/>
                    </a:lnTo>
                    <a:lnTo>
                      <a:pt x="157" y="236"/>
                    </a:lnTo>
                    <a:lnTo>
                      <a:pt x="170" y="224"/>
                    </a:lnTo>
                    <a:lnTo>
                      <a:pt x="183" y="221"/>
                    </a:lnTo>
                    <a:lnTo>
                      <a:pt x="195" y="207"/>
                    </a:lnTo>
                    <a:lnTo>
                      <a:pt x="209" y="188"/>
                    </a:lnTo>
                    <a:lnTo>
                      <a:pt x="203" y="185"/>
                    </a:lnTo>
                    <a:lnTo>
                      <a:pt x="186" y="190"/>
                    </a:lnTo>
                    <a:lnTo>
                      <a:pt x="177" y="174"/>
                    </a:lnTo>
                    <a:lnTo>
                      <a:pt x="166" y="170"/>
                    </a:lnTo>
                    <a:lnTo>
                      <a:pt x="173" y="147"/>
                    </a:lnTo>
                    <a:lnTo>
                      <a:pt x="160" y="141"/>
                    </a:lnTo>
                    <a:lnTo>
                      <a:pt x="157" y="122"/>
                    </a:lnTo>
                    <a:lnTo>
                      <a:pt x="157" y="119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3675600" y="2193120"/>
                <a:ext cx="103680" cy="158400"/>
              </a:xfrm>
              <a:custGeom>
                <a:avLst/>
                <a:gdLst/>
                <a:ahLst/>
                <a:rect l="l" t="t" r="r" b="b"/>
                <a:pathLst>
                  <a:path w="199" h="226">
                    <a:moveTo>
                      <a:pt x="199" y="69"/>
                    </a:moveTo>
                    <a:lnTo>
                      <a:pt x="184" y="52"/>
                    </a:lnTo>
                    <a:lnTo>
                      <a:pt x="170" y="36"/>
                    </a:lnTo>
                    <a:lnTo>
                      <a:pt x="152" y="29"/>
                    </a:lnTo>
                    <a:lnTo>
                      <a:pt x="135" y="20"/>
                    </a:lnTo>
                    <a:lnTo>
                      <a:pt x="127" y="0"/>
                    </a:lnTo>
                    <a:lnTo>
                      <a:pt x="118" y="6"/>
                    </a:lnTo>
                    <a:lnTo>
                      <a:pt x="116" y="0"/>
                    </a:lnTo>
                    <a:lnTo>
                      <a:pt x="115" y="25"/>
                    </a:lnTo>
                    <a:lnTo>
                      <a:pt x="104" y="29"/>
                    </a:lnTo>
                    <a:lnTo>
                      <a:pt x="92" y="62"/>
                    </a:lnTo>
                    <a:lnTo>
                      <a:pt x="101" y="81"/>
                    </a:lnTo>
                    <a:lnTo>
                      <a:pt x="89" y="107"/>
                    </a:lnTo>
                    <a:lnTo>
                      <a:pt x="78" y="134"/>
                    </a:lnTo>
                    <a:lnTo>
                      <a:pt x="59" y="141"/>
                    </a:lnTo>
                    <a:lnTo>
                      <a:pt x="40" y="148"/>
                    </a:lnTo>
                    <a:lnTo>
                      <a:pt x="23" y="154"/>
                    </a:lnTo>
                    <a:lnTo>
                      <a:pt x="4" y="161"/>
                    </a:lnTo>
                    <a:lnTo>
                      <a:pt x="0" y="173"/>
                    </a:lnTo>
                    <a:lnTo>
                      <a:pt x="11" y="199"/>
                    </a:lnTo>
                    <a:lnTo>
                      <a:pt x="23" y="226"/>
                    </a:lnTo>
                    <a:lnTo>
                      <a:pt x="42" y="220"/>
                    </a:lnTo>
                    <a:lnTo>
                      <a:pt x="62" y="216"/>
                    </a:lnTo>
                    <a:lnTo>
                      <a:pt x="76" y="205"/>
                    </a:lnTo>
                    <a:lnTo>
                      <a:pt x="86" y="192"/>
                    </a:lnTo>
                    <a:lnTo>
                      <a:pt x="109" y="184"/>
                    </a:lnTo>
                    <a:lnTo>
                      <a:pt x="122" y="166"/>
                    </a:lnTo>
                    <a:lnTo>
                      <a:pt x="141" y="157"/>
                    </a:lnTo>
                    <a:lnTo>
                      <a:pt x="145" y="127"/>
                    </a:lnTo>
                    <a:lnTo>
                      <a:pt x="155" y="121"/>
                    </a:lnTo>
                    <a:lnTo>
                      <a:pt x="163" y="121"/>
                    </a:lnTo>
                    <a:lnTo>
                      <a:pt x="181" y="95"/>
                    </a:lnTo>
                    <a:lnTo>
                      <a:pt x="199" y="69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3740040" y="216972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0"/>
                    </a:moveTo>
                    <a:lnTo>
                      <a:pt x="0" y="10"/>
                    </a:lnTo>
                    <a:lnTo>
                      <a:pt x="4" y="12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3486960" y="2053800"/>
                <a:ext cx="241920" cy="318600"/>
              </a:xfrm>
              <a:custGeom>
                <a:avLst/>
                <a:gdLst/>
                <a:ahLst/>
                <a:rect l="l" t="t" r="r" b="b"/>
                <a:pathLst>
                  <a:path w="460" h="451">
                    <a:moveTo>
                      <a:pt x="74" y="308"/>
                    </a:moveTo>
                    <a:lnTo>
                      <a:pt x="71" y="272"/>
                    </a:lnTo>
                    <a:lnTo>
                      <a:pt x="68" y="250"/>
                    </a:lnTo>
                    <a:lnTo>
                      <a:pt x="64" y="229"/>
                    </a:lnTo>
                    <a:lnTo>
                      <a:pt x="51" y="216"/>
                    </a:lnTo>
                    <a:lnTo>
                      <a:pt x="39" y="203"/>
                    </a:lnTo>
                    <a:lnTo>
                      <a:pt x="35" y="175"/>
                    </a:lnTo>
                    <a:lnTo>
                      <a:pt x="20" y="144"/>
                    </a:lnTo>
                    <a:lnTo>
                      <a:pt x="7" y="112"/>
                    </a:lnTo>
                    <a:lnTo>
                      <a:pt x="0" y="111"/>
                    </a:lnTo>
                    <a:lnTo>
                      <a:pt x="15" y="78"/>
                    </a:lnTo>
                    <a:lnTo>
                      <a:pt x="39" y="83"/>
                    </a:lnTo>
                    <a:lnTo>
                      <a:pt x="59" y="65"/>
                    </a:lnTo>
                    <a:lnTo>
                      <a:pt x="78" y="60"/>
                    </a:lnTo>
                    <a:lnTo>
                      <a:pt x="92" y="47"/>
                    </a:lnTo>
                    <a:lnTo>
                      <a:pt x="78" y="20"/>
                    </a:lnTo>
                    <a:lnTo>
                      <a:pt x="107" y="10"/>
                    </a:lnTo>
                    <a:lnTo>
                      <a:pt x="136" y="0"/>
                    </a:lnTo>
                    <a:lnTo>
                      <a:pt x="154" y="11"/>
                    </a:lnTo>
                    <a:lnTo>
                      <a:pt x="173" y="21"/>
                    </a:lnTo>
                    <a:lnTo>
                      <a:pt x="190" y="31"/>
                    </a:lnTo>
                    <a:lnTo>
                      <a:pt x="209" y="42"/>
                    </a:lnTo>
                    <a:lnTo>
                      <a:pt x="208" y="50"/>
                    </a:lnTo>
                    <a:lnTo>
                      <a:pt x="222" y="50"/>
                    </a:lnTo>
                    <a:lnTo>
                      <a:pt x="215" y="72"/>
                    </a:lnTo>
                    <a:lnTo>
                      <a:pt x="238" y="82"/>
                    </a:lnTo>
                    <a:lnTo>
                      <a:pt x="254" y="95"/>
                    </a:lnTo>
                    <a:lnTo>
                      <a:pt x="280" y="85"/>
                    </a:lnTo>
                    <a:lnTo>
                      <a:pt x="301" y="88"/>
                    </a:lnTo>
                    <a:lnTo>
                      <a:pt x="301" y="96"/>
                    </a:lnTo>
                    <a:lnTo>
                      <a:pt x="320" y="101"/>
                    </a:lnTo>
                    <a:lnTo>
                      <a:pt x="327" y="121"/>
                    </a:lnTo>
                    <a:lnTo>
                      <a:pt x="334" y="129"/>
                    </a:lnTo>
                    <a:lnTo>
                      <a:pt x="349" y="151"/>
                    </a:lnTo>
                    <a:lnTo>
                      <a:pt x="346" y="167"/>
                    </a:lnTo>
                    <a:lnTo>
                      <a:pt x="350" y="184"/>
                    </a:lnTo>
                    <a:lnTo>
                      <a:pt x="356" y="203"/>
                    </a:lnTo>
                    <a:lnTo>
                      <a:pt x="362" y="209"/>
                    </a:lnTo>
                    <a:lnTo>
                      <a:pt x="360" y="216"/>
                    </a:lnTo>
                    <a:lnTo>
                      <a:pt x="375" y="227"/>
                    </a:lnTo>
                    <a:lnTo>
                      <a:pt x="378" y="250"/>
                    </a:lnTo>
                    <a:lnTo>
                      <a:pt x="411" y="258"/>
                    </a:lnTo>
                    <a:lnTo>
                      <a:pt x="445" y="263"/>
                    </a:lnTo>
                    <a:lnTo>
                      <a:pt x="451" y="259"/>
                    </a:lnTo>
                    <a:lnTo>
                      <a:pt x="460" y="278"/>
                    </a:lnTo>
                    <a:lnTo>
                      <a:pt x="448" y="304"/>
                    </a:lnTo>
                    <a:lnTo>
                      <a:pt x="437" y="331"/>
                    </a:lnTo>
                    <a:lnTo>
                      <a:pt x="418" y="338"/>
                    </a:lnTo>
                    <a:lnTo>
                      <a:pt x="399" y="345"/>
                    </a:lnTo>
                    <a:lnTo>
                      <a:pt x="382" y="351"/>
                    </a:lnTo>
                    <a:lnTo>
                      <a:pt x="363" y="358"/>
                    </a:lnTo>
                    <a:lnTo>
                      <a:pt x="343" y="364"/>
                    </a:lnTo>
                    <a:lnTo>
                      <a:pt x="324" y="368"/>
                    </a:lnTo>
                    <a:lnTo>
                      <a:pt x="304" y="373"/>
                    </a:lnTo>
                    <a:lnTo>
                      <a:pt x="284" y="379"/>
                    </a:lnTo>
                    <a:lnTo>
                      <a:pt x="268" y="396"/>
                    </a:lnTo>
                    <a:lnTo>
                      <a:pt x="251" y="415"/>
                    </a:lnTo>
                    <a:lnTo>
                      <a:pt x="235" y="432"/>
                    </a:lnTo>
                    <a:lnTo>
                      <a:pt x="219" y="451"/>
                    </a:lnTo>
                    <a:lnTo>
                      <a:pt x="222" y="422"/>
                    </a:lnTo>
                    <a:lnTo>
                      <a:pt x="202" y="412"/>
                    </a:lnTo>
                    <a:lnTo>
                      <a:pt x="182" y="402"/>
                    </a:lnTo>
                    <a:lnTo>
                      <a:pt x="154" y="399"/>
                    </a:lnTo>
                    <a:lnTo>
                      <a:pt x="147" y="422"/>
                    </a:lnTo>
                    <a:lnTo>
                      <a:pt x="137" y="429"/>
                    </a:lnTo>
                    <a:lnTo>
                      <a:pt x="128" y="410"/>
                    </a:lnTo>
                    <a:lnTo>
                      <a:pt x="121" y="390"/>
                    </a:lnTo>
                    <a:lnTo>
                      <a:pt x="107" y="360"/>
                    </a:lnTo>
                    <a:lnTo>
                      <a:pt x="94" y="330"/>
                    </a:lnTo>
                    <a:lnTo>
                      <a:pt x="74" y="308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4010040" y="2482200"/>
                <a:ext cx="26640" cy="71640"/>
              </a:xfrm>
              <a:custGeom>
                <a:avLst/>
                <a:gdLst/>
                <a:ahLst/>
                <a:rect l="l" t="t" r="r" b="b"/>
                <a:pathLst>
                  <a:path w="51" h="103">
                    <a:moveTo>
                      <a:pt x="16" y="2"/>
                    </a:moveTo>
                    <a:lnTo>
                      <a:pt x="25" y="17"/>
                    </a:lnTo>
                    <a:lnTo>
                      <a:pt x="35" y="34"/>
                    </a:lnTo>
                    <a:lnTo>
                      <a:pt x="42" y="54"/>
                    </a:lnTo>
                    <a:lnTo>
                      <a:pt x="51" y="74"/>
                    </a:lnTo>
                    <a:lnTo>
                      <a:pt x="36" y="98"/>
                    </a:lnTo>
                    <a:lnTo>
                      <a:pt x="12" y="103"/>
                    </a:lnTo>
                    <a:lnTo>
                      <a:pt x="2" y="67"/>
                    </a:lnTo>
                    <a:lnTo>
                      <a:pt x="0" y="43"/>
                    </a:lnTo>
                    <a:lnTo>
                      <a:pt x="2" y="44"/>
                    </a:lnTo>
                    <a:lnTo>
                      <a:pt x="6" y="26"/>
                    </a:lnTo>
                    <a:lnTo>
                      <a:pt x="12" y="7"/>
                    </a:lnTo>
                    <a:lnTo>
                      <a:pt x="13" y="4"/>
                    </a:lnTo>
                    <a:lnTo>
                      <a:pt x="7" y="0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4236480" y="2281680"/>
                <a:ext cx="99000" cy="276480"/>
              </a:xfrm>
              <a:custGeom>
                <a:avLst/>
                <a:gdLst/>
                <a:ahLst/>
                <a:rect l="l" t="t" r="r" b="b"/>
                <a:pathLst>
                  <a:path w="189" h="394">
                    <a:moveTo>
                      <a:pt x="37" y="301"/>
                    </a:moveTo>
                    <a:lnTo>
                      <a:pt x="32" y="280"/>
                    </a:lnTo>
                    <a:lnTo>
                      <a:pt x="40" y="257"/>
                    </a:lnTo>
                    <a:lnTo>
                      <a:pt x="49" y="234"/>
                    </a:lnTo>
                    <a:lnTo>
                      <a:pt x="52" y="211"/>
                    </a:lnTo>
                    <a:lnTo>
                      <a:pt x="56" y="189"/>
                    </a:lnTo>
                    <a:lnTo>
                      <a:pt x="78" y="186"/>
                    </a:lnTo>
                    <a:lnTo>
                      <a:pt x="76" y="205"/>
                    </a:lnTo>
                    <a:lnTo>
                      <a:pt x="93" y="208"/>
                    </a:lnTo>
                    <a:lnTo>
                      <a:pt x="115" y="225"/>
                    </a:lnTo>
                    <a:lnTo>
                      <a:pt x="124" y="235"/>
                    </a:lnTo>
                    <a:lnTo>
                      <a:pt x="117" y="214"/>
                    </a:lnTo>
                    <a:lnTo>
                      <a:pt x="111" y="191"/>
                    </a:lnTo>
                    <a:lnTo>
                      <a:pt x="129" y="163"/>
                    </a:lnTo>
                    <a:lnTo>
                      <a:pt x="155" y="163"/>
                    </a:lnTo>
                    <a:lnTo>
                      <a:pt x="180" y="162"/>
                    </a:lnTo>
                    <a:lnTo>
                      <a:pt x="189" y="147"/>
                    </a:lnTo>
                    <a:lnTo>
                      <a:pt x="187" y="124"/>
                    </a:lnTo>
                    <a:lnTo>
                      <a:pt x="171" y="95"/>
                    </a:lnTo>
                    <a:lnTo>
                      <a:pt x="171" y="77"/>
                    </a:lnTo>
                    <a:lnTo>
                      <a:pt x="145" y="52"/>
                    </a:lnTo>
                    <a:lnTo>
                      <a:pt x="134" y="61"/>
                    </a:lnTo>
                    <a:lnTo>
                      <a:pt x="122" y="65"/>
                    </a:lnTo>
                    <a:lnTo>
                      <a:pt x="108" y="59"/>
                    </a:lnTo>
                    <a:lnTo>
                      <a:pt x="85" y="75"/>
                    </a:lnTo>
                    <a:lnTo>
                      <a:pt x="88" y="48"/>
                    </a:lnTo>
                    <a:lnTo>
                      <a:pt x="92" y="21"/>
                    </a:lnTo>
                    <a:lnTo>
                      <a:pt x="73" y="19"/>
                    </a:lnTo>
                    <a:lnTo>
                      <a:pt x="73" y="3"/>
                    </a:lnTo>
                    <a:lnTo>
                      <a:pt x="66" y="0"/>
                    </a:lnTo>
                    <a:lnTo>
                      <a:pt x="53" y="3"/>
                    </a:lnTo>
                    <a:lnTo>
                      <a:pt x="40" y="15"/>
                    </a:lnTo>
                    <a:lnTo>
                      <a:pt x="16" y="19"/>
                    </a:lnTo>
                    <a:lnTo>
                      <a:pt x="6" y="49"/>
                    </a:lnTo>
                    <a:lnTo>
                      <a:pt x="0" y="49"/>
                    </a:lnTo>
                    <a:lnTo>
                      <a:pt x="13" y="78"/>
                    </a:lnTo>
                    <a:lnTo>
                      <a:pt x="27" y="107"/>
                    </a:lnTo>
                    <a:lnTo>
                      <a:pt x="33" y="108"/>
                    </a:lnTo>
                    <a:lnTo>
                      <a:pt x="24" y="126"/>
                    </a:lnTo>
                    <a:lnTo>
                      <a:pt x="19" y="137"/>
                    </a:lnTo>
                    <a:lnTo>
                      <a:pt x="17" y="153"/>
                    </a:lnTo>
                    <a:lnTo>
                      <a:pt x="27" y="169"/>
                    </a:lnTo>
                    <a:lnTo>
                      <a:pt x="37" y="186"/>
                    </a:lnTo>
                    <a:lnTo>
                      <a:pt x="40" y="209"/>
                    </a:lnTo>
                    <a:lnTo>
                      <a:pt x="43" y="235"/>
                    </a:lnTo>
                    <a:lnTo>
                      <a:pt x="33" y="254"/>
                    </a:lnTo>
                    <a:lnTo>
                      <a:pt x="23" y="271"/>
                    </a:lnTo>
                    <a:lnTo>
                      <a:pt x="21" y="275"/>
                    </a:lnTo>
                    <a:lnTo>
                      <a:pt x="16" y="301"/>
                    </a:lnTo>
                    <a:lnTo>
                      <a:pt x="10" y="329"/>
                    </a:lnTo>
                    <a:lnTo>
                      <a:pt x="14" y="324"/>
                    </a:lnTo>
                    <a:lnTo>
                      <a:pt x="27" y="339"/>
                    </a:lnTo>
                    <a:lnTo>
                      <a:pt x="39" y="353"/>
                    </a:lnTo>
                    <a:lnTo>
                      <a:pt x="43" y="360"/>
                    </a:lnTo>
                    <a:lnTo>
                      <a:pt x="53" y="376"/>
                    </a:lnTo>
                    <a:lnTo>
                      <a:pt x="55" y="373"/>
                    </a:lnTo>
                    <a:lnTo>
                      <a:pt x="73" y="382"/>
                    </a:lnTo>
                    <a:lnTo>
                      <a:pt x="73" y="394"/>
                    </a:lnTo>
                    <a:lnTo>
                      <a:pt x="91" y="394"/>
                    </a:lnTo>
                    <a:lnTo>
                      <a:pt x="101" y="382"/>
                    </a:lnTo>
                    <a:lnTo>
                      <a:pt x="88" y="366"/>
                    </a:lnTo>
                    <a:lnTo>
                      <a:pt x="70" y="362"/>
                    </a:lnTo>
                    <a:lnTo>
                      <a:pt x="59" y="348"/>
                    </a:lnTo>
                    <a:lnTo>
                      <a:pt x="55" y="329"/>
                    </a:lnTo>
                    <a:lnTo>
                      <a:pt x="49" y="303"/>
                    </a:lnTo>
                    <a:lnTo>
                      <a:pt x="37" y="301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3675600" y="2176200"/>
                <a:ext cx="67320" cy="63000"/>
              </a:xfrm>
              <a:custGeom>
                <a:avLst/>
                <a:gdLst/>
                <a:ahLst/>
                <a:rect l="l" t="t" r="r" b="b"/>
                <a:pathLst>
                  <a:path w="127" h="90">
                    <a:moveTo>
                      <a:pt x="5" y="34"/>
                    </a:moveTo>
                    <a:lnTo>
                      <a:pt x="2" y="36"/>
                    </a:lnTo>
                    <a:lnTo>
                      <a:pt x="0" y="43"/>
                    </a:lnTo>
                    <a:lnTo>
                      <a:pt x="15" y="54"/>
                    </a:lnTo>
                    <a:lnTo>
                      <a:pt x="18" y="77"/>
                    </a:lnTo>
                    <a:lnTo>
                      <a:pt x="51" y="85"/>
                    </a:lnTo>
                    <a:lnTo>
                      <a:pt x="85" y="90"/>
                    </a:lnTo>
                    <a:lnTo>
                      <a:pt x="91" y="86"/>
                    </a:lnTo>
                    <a:lnTo>
                      <a:pt x="103" y="53"/>
                    </a:lnTo>
                    <a:lnTo>
                      <a:pt x="114" y="49"/>
                    </a:lnTo>
                    <a:lnTo>
                      <a:pt x="115" y="24"/>
                    </a:lnTo>
                    <a:lnTo>
                      <a:pt x="117" y="30"/>
                    </a:lnTo>
                    <a:lnTo>
                      <a:pt x="126" y="24"/>
                    </a:lnTo>
                    <a:lnTo>
                      <a:pt x="127" y="2"/>
                    </a:lnTo>
                    <a:lnTo>
                      <a:pt x="123" y="0"/>
                    </a:lnTo>
                    <a:lnTo>
                      <a:pt x="94" y="24"/>
                    </a:lnTo>
                    <a:lnTo>
                      <a:pt x="67" y="47"/>
                    </a:lnTo>
                    <a:lnTo>
                      <a:pt x="29" y="50"/>
                    </a:lnTo>
                    <a:lnTo>
                      <a:pt x="16" y="47"/>
                    </a:lnTo>
                    <a:lnTo>
                      <a:pt x="7" y="41"/>
                    </a:lnTo>
                    <a:lnTo>
                      <a:pt x="9" y="34"/>
                    </a:lnTo>
                    <a:lnTo>
                      <a:pt x="5" y="3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4297680" y="2224440"/>
                <a:ext cx="83160" cy="278640"/>
              </a:xfrm>
              <a:custGeom>
                <a:avLst/>
                <a:gdLst/>
                <a:ahLst/>
                <a:rect l="l" t="t" r="r" b="b"/>
                <a:pathLst>
                  <a:path w="161" h="395">
                    <a:moveTo>
                      <a:pt x="60" y="82"/>
                    </a:moveTo>
                    <a:lnTo>
                      <a:pt x="54" y="75"/>
                    </a:lnTo>
                    <a:lnTo>
                      <a:pt x="43" y="62"/>
                    </a:lnTo>
                    <a:lnTo>
                      <a:pt x="30" y="68"/>
                    </a:lnTo>
                    <a:lnTo>
                      <a:pt x="17" y="53"/>
                    </a:lnTo>
                    <a:lnTo>
                      <a:pt x="15" y="42"/>
                    </a:lnTo>
                    <a:lnTo>
                      <a:pt x="0" y="23"/>
                    </a:lnTo>
                    <a:lnTo>
                      <a:pt x="7" y="17"/>
                    </a:lnTo>
                    <a:lnTo>
                      <a:pt x="18" y="22"/>
                    </a:lnTo>
                    <a:lnTo>
                      <a:pt x="25" y="17"/>
                    </a:lnTo>
                    <a:lnTo>
                      <a:pt x="34" y="17"/>
                    </a:lnTo>
                    <a:lnTo>
                      <a:pt x="40" y="17"/>
                    </a:lnTo>
                    <a:lnTo>
                      <a:pt x="44" y="16"/>
                    </a:lnTo>
                    <a:lnTo>
                      <a:pt x="53" y="16"/>
                    </a:lnTo>
                    <a:lnTo>
                      <a:pt x="70" y="0"/>
                    </a:lnTo>
                    <a:lnTo>
                      <a:pt x="80" y="2"/>
                    </a:lnTo>
                    <a:lnTo>
                      <a:pt x="106" y="12"/>
                    </a:lnTo>
                    <a:lnTo>
                      <a:pt x="106" y="29"/>
                    </a:lnTo>
                    <a:lnTo>
                      <a:pt x="115" y="38"/>
                    </a:lnTo>
                    <a:lnTo>
                      <a:pt x="135" y="46"/>
                    </a:lnTo>
                    <a:lnTo>
                      <a:pt x="121" y="56"/>
                    </a:lnTo>
                    <a:lnTo>
                      <a:pt x="106" y="64"/>
                    </a:lnTo>
                    <a:lnTo>
                      <a:pt x="106" y="66"/>
                    </a:lnTo>
                    <a:lnTo>
                      <a:pt x="92" y="88"/>
                    </a:lnTo>
                    <a:lnTo>
                      <a:pt x="79" y="114"/>
                    </a:lnTo>
                    <a:lnTo>
                      <a:pt x="92" y="137"/>
                    </a:lnTo>
                    <a:lnTo>
                      <a:pt x="95" y="150"/>
                    </a:lnTo>
                    <a:lnTo>
                      <a:pt x="106" y="164"/>
                    </a:lnTo>
                    <a:lnTo>
                      <a:pt x="119" y="180"/>
                    </a:lnTo>
                    <a:lnTo>
                      <a:pt x="136" y="196"/>
                    </a:lnTo>
                    <a:lnTo>
                      <a:pt x="149" y="213"/>
                    </a:lnTo>
                    <a:lnTo>
                      <a:pt x="155" y="249"/>
                    </a:lnTo>
                    <a:lnTo>
                      <a:pt x="161" y="287"/>
                    </a:lnTo>
                    <a:lnTo>
                      <a:pt x="158" y="295"/>
                    </a:lnTo>
                    <a:lnTo>
                      <a:pt x="157" y="306"/>
                    </a:lnTo>
                    <a:lnTo>
                      <a:pt x="152" y="316"/>
                    </a:lnTo>
                    <a:lnTo>
                      <a:pt x="133" y="331"/>
                    </a:lnTo>
                    <a:lnTo>
                      <a:pt x="115" y="346"/>
                    </a:lnTo>
                    <a:lnTo>
                      <a:pt x="99" y="342"/>
                    </a:lnTo>
                    <a:lnTo>
                      <a:pt x="97" y="349"/>
                    </a:lnTo>
                    <a:lnTo>
                      <a:pt x="97" y="357"/>
                    </a:lnTo>
                    <a:lnTo>
                      <a:pt x="92" y="360"/>
                    </a:lnTo>
                    <a:lnTo>
                      <a:pt x="90" y="370"/>
                    </a:lnTo>
                    <a:lnTo>
                      <a:pt x="82" y="372"/>
                    </a:lnTo>
                    <a:lnTo>
                      <a:pt x="61" y="391"/>
                    </a:lnTo>
                    <a:lnTo>
                      <a:pt x="50" y="395"/>
                    </a:lnTo>
                    <a:lnTo>
                      <a:pt x="56" y="362"/>
                    </a:lnTo>
                    <a:lnTo>
                      <a:pt x="41" y="347"/>
                    </a:lnTo>
                    <a:lnTo>
                      <a:pt x="57" y="339"/>
                    </a:lnTo>
                    <a:lnTo>
                      <a:pt x="64" y="334"/>
                    </a:lnTo>
                    <a:lnTo>
                      <a:pt x="80" y="337"/>
                    </a:lnTo>
                    <a:lnTo>
                      <a:pt x="76" y="317"/>
                    </a:lnTo>
                    <a:lnTo>
                      <a:pt x="90" y="310"/>
                    </a:lnTo>
                    <a:lnTo>
                      <a:pt x="113" y="298"/>
                    </a:lnTo>
                    <a:lnTo>
                      <a:pt x="115" y="277"/>
                    </a:lnTo>
                    <a:lnTo>
                      <a:pt x="116" y="257"/>
                    </a:lnTo>
                    <a:lnTo>
                      <a:pt x="118" y="232"/>
                    </a:lnTo>
                    <a:lnTo>
                      <a:pt x="118" y="210"/>
                    </a:lnTo>
                    <a:lnTo>
                      <a:pt x="113" y="200"/>
                    </a:lnTo>
                    <a:lnTo>
                      <a:pt x="115" y="195"/>
                    </a:lnTo>
                    <a:lnTo>
                      <a:pt x="97" y="179"/>
                    </a:lnTo>
                    <a:lnTo>
                      <a:pt x="89" y="163"/>
                    </a:lnTo>
                    <a:lnTo>
                      <a:pt x="77" y="144"/>
                    </a:lnTo>
                    <a:lnTo>
                      <a:pt x="67" y="127"/>
                    </a:lnTo>
                    <a:lnTo>
                      <a:pt x="40" y="104"/>
                    </a:lnTo>
                    <a:lnTo>
                      <a:pt x="46" y="97"/>
                    </a:lnTo>
                    <a:lnTo>
                      <a:pt x="60" y="92"/>
                    </a:lnTo>
                    <a:lnTo>
                      <a:pt x="60" y="82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3556080" y="2306880"/>
                <a:ext cx="131760" cy="119880"/>
              </a:xfrm>
              <a:custGeom>
                <a:avLst/>
                <a:gdLst/>
                <a:ahLst/>
                <a:rect l="l" t="t" r="r" b="b"/>
                <a:pathLst>
                  <a:path w="251" h="172">
                    <a:moveTo>
                      <a:pt x="16" y="64"/>
                    </a:moveTo>
                    <a:lnTo>
                      <a:pt x="6" y="71"/>
                    </a:lnTo>
                    <a:lnTo>
                      <a:pt x="0" y="103"/>
                    </a:lnTo>
                    <a:lnTo>
                      <a:pt x="6" y="137"/>
                    </a:lnTo>
                    <a:lnTo>
                      <a:pt x="12" y="172"/>
                    </a:lnTo>
                    <a:lnTo>
                      <a:pt x="42" y="169"/>
                    </a:lnTo>
                    <a:lnTo>
                      <a:pt x="75" y="152"/>
                    </a:lnTo>
                    <a:lnTo>
                      <a:pt x="101" y="143"/>
                    </a:lnTo>
                    <a:lnTo>
                      <a:pt x="126" y="136"/>
                    </a:lnTo>
                    <a:lnTo>
                      <a:pt x="146" y="127"/>
                    </a:lnTo>
                    <a:lnTo>
                      <a:pt x="164" y="119"/>
                    </a:lnTo>
                    <a:lnTo>
                      <a:pt x="185" y="110"/>
                    </a:lnTo>
                    <a:lnTo>
                      <a:pt x="203" y="101"/>
                    </a:lnTo>
                    <a:lnTo>
                      <a:pt x="223" y="93"/>
                    </a:lnTo>
                    <a:lnTo>
                      <a:pt x="226" y="83"/>
                    </a:lnTo>
                    <a:lnTo>
                      <a:pt x="251" y="65"/>
                    </a:lnTo>
                    <a:lnTo>
                      <a:pt x="239" y="38"/>
                    </a:lnTo>
                    <a:lnTo>
                      <a:pt x="228" y="12"/>
                    </a:lnTo>
                    <a:lnTo>
                      <a:pt x="232" y="0"/>
                    </a:lnTo>
                    <a:lnTo>
                      <a:pt x="212" y="6"/>
                    </a:lnTo>
                    <a:lnTo>
                      <a:pt x="193" y="10"/>
                    </a:lnTo>
                    <a:lnTo>
                      <a:pt x="173" y="15"/>
                    </a:lnTo>
                    <a:lnTo>
                      <a:pt x="153" y="21"/>
                    </a:lnTo>
                    <a:lnTo>
                      <a:pt x="137" y="38"/>
                    </a:lnTo>
                    <a:lnTo>
                      <a:pt x="120" y="57"/>
                    </a:lnTo>
                    <a:lnTo>
                      <a:pt x="104" y="74"/>
                    </a:lnTo>
                    <a:lnTo>
                      <a:pt x="88" y="93"/>
                    </a:lnTo>
                    <a:lnTo>
                      <a:pt x="91" y="64"/>
                    </a:lnTo>
                    <a:lnTo>
                      <a:pt x="71" y="54"/>
                    </a:lnTo>
                    <a:lnTo>
                      <a:pt x="51" y="44"/>
                    </a:lnTo>
                    <a:lnTo>
                      <a:pt x="23" y="41"/>
                    </a:lnTo>
                    <a:lnTo>
                      <a:pt x="16" y="6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3494880" y="2032560"/>
                <a:ext cx="64440" cy="79920"/>
              </a:xfrm>
              <a:custGeom>
                <a:avLst/>
                <a:gdLst/>
                <a:ahLst/>
                <a:rect l="l" t="t" r="r" b="b"/>
                <a:pathLst>
                  <a:path w="121" h="113">
                    <a:moveTo>
                      <a:pt x="66" y="28"/>
                    </a:moveTo>
                    <a:lnTo>
                      <a:pt x="41" y="17"/>
                    </a:lnTo>
                    <a:lnTo>
                      <a:pt x="31" y="38"/>
                    </a:lnTo>
                    <a:lnTo>
                      <a:pt x="21" y="60"/>
                    </a:lnTo>
                    <a:lnTo>
                      <a:pt x="11" y="82"/>
                    </a:lnTo>
                    <a:lnTo>
                      <a:pt x="1" y="103"/>
                    </a:lnTo>
                    <a:lnTo>
                      <a:pt x="0" y="108"/>
                    </a:lnTo>
                    <a:lnTo>
                      <a:pt x="24" y="113"/>
                    </a:lnTo>
                    <a:lnTo>
                      <a:pt x="44" y="95"/>
                    </a:lnTo>
                    <a:lnTo>
                      <a:pt x="63" y="90"/>
                    </a:lnTo>
                    <a:lnTo>
                      <a:pt x="77" y="77"/>
                    </a:lnTo>
                    <a:lnTo>
                      <a:pt x="63" y="50"/>
                    </a:lnTo>
                    <a:lnTo>
                      <a:pt x="92" y="40"/>
                    </a:lnTo>
                    <a:lnTo>
                      <a:pt x="121" y="30"/>
                    </a:lnTo>
                    <a:lnTo>
                      <a:pt x="119" y="0"/>
                    </a:lnTo>
                    <a:lnTo>
                      <a:pt x="92" y="14"/>
                    </a:lnTo>
                    <a:lnTo>
                      <a:pt x="66" y="28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3807360" y="1937520"/>
                <a:ext cx="190080" cy="170640"/>
              </a:xfrm>
              <a:custGeom>
                <a:avLst/>
                <a:gdLst/>
                <a:ahLst/>
                <a:rect l="l" t="t" r="r" b="b"/>
                <a:pathLst>
                  <a:path w="362" h="244">
                    <a:moveTo>
                      <a:pt x="28" y="107"/>
                    </a:moveTo>
                    <a:lnTo>
                      <a:pt x="23" y="110"/>
                    </a:lnTo>
                    <a:lnTo>
                      <a:pt x="18" y="124"/>
                    </a:lnTo>
                    <a:lnTo>
                      <a:pt x="23" y="131"/>
                    </a:lnTo>
                    <a:lnTo>
                      <a:pt x="19" y="136"/>
                    </a:lnTo>
                    <a:lnTo>
                      <a:pt x="15" y="159"/>
                    </a:lnTo>
                    <a:lnTo>
                      <a:pt x="10" y="182"/>
                    </a:lnTo>
                    <a:lnTo>
                      <a:pt x="29" y="189"/>
                    </a:lnTo>
                    <a:lnTo>
                      <a:pt x="31" y="199"/>
                    </a:lnTo>
                    <a:lnTo>
                      <a:pt x="0" y="231"/>
                    </a:lnTo>
                    <a:lnTo>
                      <a:pt x="18" y="236"/>
                    </a:lnTo>
                    <a:lnTo>
                      <a:pt x="36" y="244"/>
                    </a:lnTo>
                    <a:lnTo>
                      <a:pt x="71" y="242"/>
                    </a:lnTo>
                    <a:lnTo>
                      <a:pt x="98" y="236"/>
                    </a:lnTo>
                    <a:lnTo>
                      <a:pt x="124" y="231"/>
                    </a:lnTo>
                    <a:lnTo>
                      <a:pt x="128" y="219"/>
                    </a:lnTo>
                    <a:lnTo>
                      <a:pt x="141" y="197"/>
                    </a:lnTo>
                    <a:lnTo>
                      <a:pt x="167" y="189"/>
                    </a:lnTo>
                    <a:lnTo>
                      <a:pt x="176" y="180"/>
                    </a:lnTo>
                    <a:lnTo>
                      <a:pt x="198" y="182"/>
                    </a:lnTo>
                    <a:lnTo>
                      <a:pt x="212" y="151"/>
                    </a:lnTo>
                    <a:lnTo>
                      <a:pt x="236" y="137"/>
                    </a:lnTo>
                    <a:lnTo>
                      <a:pt x="229" y="121"/>
                    </a:lnTo>
                    <a:lnTo>
                      <a:pt x="249" y="120"/>
                    </a:lnTo>
                    <a:lnTo>
                      <a:pt x="260" y="108"/>
                    </a:lnTo>
                    <a:lnTo>
                      <a:pt x="274" y="88"/>
                    </a:lnTo>
                    <a:lnTo>
                      <a:pt x="272" y="65"/>
                    </a:lnTo>
                    <a:lnTo>
                      <a:pt x="293" y="49"/>
                    </a:lnTo>
                    <a:lnTo>
                      <a:pt x="323" y="43"/>
                    </a:lnTo>
                    <a:lnTo>
                      <a:pt x="353" y="36"/>
                    </a:lnTo>
                    <a:lnTo>
                      <a:pt x="355" y="30"/>
                    </a:lnTo>
                    <a:lnTo>
                      <a:pt x="362" y="32"/>
                    </a:lnTo>
                    <a:lnTo>
                      <a:pt x="343" y="29"/>
                    </a:lnTo>
                    <a:lnTo>
                      <a:pt x="337" y="29"/>
                    </a:lnTo>
                    <a:lnTo>
                      <a:pt x="319" y="29"/>
                    </a:lnTo>
                    <a:lnTo>
                      <a:pt x="284" y="43"/>
                    </a:lnTo>
                    <a:lnTo>
                      <a:pt x="291" y="12"/>
                    </a:lnTo>
                    <a:lnTo>
                      <a:pt x="285" y="12"/>
                    </a:lnTo>
                    <a:lnTo>
                      <a:pt x="284" y="0"/>
                    </a:lnTo>
                    <a:lnTo>
                      <a:pt x="271" y="4"/>
                    </a:lnTo>
                    <a:lnTo>
                      <a:pt x="261" y="20"/>
                    </a:lnTo>
                    <a:lnTo>
                      <a:pt x="239" y="28"/>
                    </a:lnTo>
                    <a:lnTo>
                      <a:pt x="232" y="33"/>
                    </a:lnTo>
                    <a:lnTo>
                      <a:pt x="216" y="33"/>
                    </a:lnTo>
                    <a:lnTo>
                      <a:pt x="203" y="36"/>
                    </a:lnTo>
                    <a:lnTo>
                      <a:pt x="199" y="30"/>
                    </a:lnTo>
                    <a:lnTo>
                      <a:pt x="179" y="28"/>
                    </a:lnTo>
                    <a:lnTo>
                      <a:pt x="159" y="23"/>
                    </a:lnTo>
                    <a:lnTo>
                      <a:pt x="146" y="32"/>
                    </a:lnTo>
                    <a:lnTo>
                      <a:pt x="134" y="39"/>
                    </a:lnTo>
                    <a:lnTo>
                      <a:pt x="116" y="61"/>
                    </a:lnTo>
                    <a:lnTo>
                      <a:pt x="90" y="71"/>
                    </a:lnTo>
                    <a:lnTo>
                      <a:pt x="75" y="85"/>
                    </a:lnTo>
                    <a:lnTo>
                      <a:pt x="64" y="82"/>
                    </a:lnTo>
                    <a:lnTo>
                      <a:pt x="46" y="75"/>
                    </a:lnTo>
                    <a:lnTo>
                      <a:pt x="28" y="107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3639240" y="1911960"/>
                <a:ext cx="194760" cy="276480"/>
              </a:xfrm>
              <a:custGeom>
                <a:avLst/>
                <a:gdLst/>
                <a:ahLst/>
                <a:rect l="l" t="t" r="r" b="b"/>
                <a:pathLst>
                  <a:path w="372" h="393">
                    <a:moveTo>
                      <a:pt x="6" y="179"/>
                    </a:moveTo>
                    <a:lnTo>
                      <a:pt x="0" y="160"/>
                    </a:lnTo>
                    <a:lnTo>
                      <a:pt x="3" y="146"/>
                    </a:lnTo>
                    <a:lnTo>
                      <a:pt x="23" y="121"/>
                    </a:lnTo>
                    <a:lnTo>
                      <a:pt x="29" y="108"/>
                    </a:lnTo>
                    <a:lnTo>
                      <a:pt x="17" y="101"/>
                    </a:lnTo>
                    <a:lnTo>
                      <a:pt x="10" y="69"/>
                    </a:lnTo>
                    <a:lnTo>
                      <a:pt x="6" y="51"/>
                    </a:lnTo>
                    <a:lnTo>
                      <a:pt x="15" y="23"/>
                    </a:lnTo>
                    <a:lnTo>
                      <a:pt x="19" y="9"/>
                    </a:lnTo>
                    <a:lnTo>
                      <a:pt x="32" y="0"/>
                    </a:lnTo>
                    <a:lnTo>
                      <a:pt x="33" y="3"/>
                    </a:lnTo>
                    <a:lnTo>
                      <a:pt x="35" y="7"/>
                    </a:lnTo>
                    <a:lnTo>
                      <a:pt x="53" y="23"/>
                    </a:lnTo>
                    <a:lnTo>
                      <a:pt x="75" y="15"/>
                    </a:lnTo>
                    <a:lnTo>
                      <a:pt x="105" y="2"/>
                    </a:lnTo>
                    <a:lnTo>
                      <a:pt x="104" y="16"/>
                    </a:lnTo>
                    <a:lnTo>
                      <a:pt x="100" y="22"/>
                    </a:lnTo>
                    <a:lnTo>
                      <a:pt x="112" y="35"/>
                    </a:lnTo>
                    <a:lnTo>
                      <a:pt x="114" y="59"/>
                    </a:lnTo>
                    <a:lnTo>
                      <a:pt x="134" y="69"/>
                    </a:lnTo>
                    <a:lnTo>
                      <a:pt x="151" y="76"/>
                    </a:lnTo>
                    <a:lnTo>
                      <a:pt x="169" y="85"/>
                    </a:lnTo>
                    <a:lnTo>
                      <a:pt x="192" y="81"/>
                    </a:lnTo>
                    <a:lnTo>
                      <a:pt x="208" y="78"/>
                    </a:lnTo>
                    <a:lnTo>
                      <a:pt x="215" y="74"/>
                    </a:lnTo>
                    <a:lnTo>
                      <a:pt x="215" y="64"/>
                    </a:lnTo>
                    <a:lnTo>
                      <a:pt x="222" y="65"/>
                    </a:lnTo>
                    <a:lnTo>
                      <a:pt x="248" y="48"/>
                    </a:lnTo>
                    <a:lnTo>
                      <a:pt x="275" y="45"/>
                    </a:lnTo>
                    <a:lnTo>
                      <a:pt x="297" y="42"/>
                    </a:lnTo>
                    <a:lnTo>
                      <a:pt x="327" y="56"/>
                    </a:lnTo>
                    <a:lnTo>
                      <a:pt x="340" y="68"/>
                    </a:lnTo>
                    <a:lnTo>
                      <a:pt x="353" y="81"/>
                    </a:lnTo>
                    <a:lnTo>
                      <a:pt x="372" y="84"/>
                    </a:lnTo>
                    <a:lnTo>
                      <a:pt x="367" y="111"/>
                    </a:lnTo>
                    <a:lnTo>
                      <a:pt x="349" y="143"/>
                    </a:lnTo>
                    <a:lnTo>
                      <a:pt x="344" y="146"/>
                    </a:lnTo>
                    <a:lnTo>
                      <a:pt x="339" y="160"/>
                    </a:lnTo>
                    <a:lnTo>
                      <a:pt x="344" y="167"/>
                    </a:lnTo>
                    <a:lnTo>
                      <a:pt x="340" y="172"/>
                    </a:lnTo>
                    <a:lnTo>
                      <a:pt x="336" y="195"/>
                    </a:lnTo>
                    <a:lnTo>
                      <a:pt x="331" y="218"/>
                    </a:lnTo>
                    <a:lnTo>
                      <a:pt x="350" y="225"/>
                    </a:lnTo>
                    <a:lnTo>
                      <a:pt x="352" y="235"/>
                    </a:lnTo>
                    <a:lnTo>
                      <a:pt x="321" y="267"/>
                    </a:lnTo>
                    <a:lnTo>
                      <a:pt x="333" y="285"/>
                    </a:lnTo>
                    <a:lnTo>
                      <a:pt x="343" y="303"/>
                    </a:lnTo>
                    <a:lnTo>
                      <a:pt x="359" y="311"/>
                    </a:lnTo>
                    <a:lnTo>
                      <a:pt x="357" y="339"/>
                    </a:lnTo>
                    <a:lnTo>
                      <a:pt x="364" y="341"/>
                    </a:lnTo>
                    <a:lnTo>
                      <a:pt x="360" y="354"/>
                    </a:lnTo>
                    <a:lnTo>
                      <a:pt x="337" y="362"/>
                    </a:lnTo>
                    <a:lnTo>
                      <a:pt x="326" y="372"/>
                    </a:lnTo>
                    <a:lnTo>
                      <a:pt x="317" y="393"/>
                    </a:lnTo>
                    <a:lnTo>
                      <a:pt x="294" y="389"/>
                    </a:lnTo>
                    <a:lnTo>
                      <a:pt x="269" y="385"/>
                    </a:lnTo>
                    <a:lnTo>
                      <a:pt x="245" y="380"/>
                    </a:lnTo>
                    <a:lnTo>
                      <a:pt x="220" y="377"/>
                    </a:lnTo>
                    <a:lnTo>
                      <a:pt x="216" y="359"/>
                    </a:lnTo>
                    <a:lnTo>
                      <a:pt x="213" y="340"/>
                    </a:lnTo>
                    <a:lnTo>
                      <a:pt x="192" y="347"/>
                    </a:lnTo>
                    <a:lnTo>
                      <a:pt x="170" y="356"/>
                    </a:lnTo>
                    <a:lnTo>
                      <a:pt x="137" y="347"/>
                    </a:lnTo>
                    <a:lnTo>
                      <a:pt x="120" y="334"/>
                    </a:lnTo>
                    <a:lnTo>
                      <a:pt x="104" y="321"/>
                    </a:lnTo>
                    <a:lnTo>
                      <a:pt x="89" y="304"/>
                    </a:lnTo>
                    <a:lnTo>
                      <a:pt x="84" y="287"/>
                    </a:lnTo>
                    <a:lnTo>
                      <a:pt x="74" y="258"/>
                    </a:lnTo>
                    <a:lnTo>
                      <a:pt x="62" y="259"/>
                    </a:lnTo>
                    <a:lnTo>
                      <a:pt x="55" y="252"/>
                    </a:lnTo>
                    <a:lnTo>
                      <a:pt x="55" y="249"/>
                    </a:lnTo>
                    <a:lnTo>
                      <a:pt x="43" y="262"/>
                    </a:lnTo>
                    <a:lnTo>
                      <a:pt x="39" y="264"/>
                    </a:lnTo>
                    <a:lnTo>
                      <a:pt x="36" y="254"/>
                    </a:lnTo>
                    <a:lnTo>
                      <a:pt x="35" y="236"/>
                    </a:lnTo>
                    <a:lnTo>
                      <a:pt x="27" y="236"/>
                    </a:lnTo>
                    <a:lnTo>
                      <a:pt x="38" y="215"/>
                    </a:lnTo>
                    <a:lnTo>
                      <a:pt x="33" y="202"/>
                    </a:lnTo>
                    <a:lnTo>
                      <a:pt x="19" y="190"/>
                    </a:lnTo>
                    <a:lnTo>
                      <a:pt x="6" y="179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3557520" y="1958400"/>
                <a:ext cx="102240" cy="156240"/>
              </a:xfrm>
              <a:custGeom>
                <a:avLst/>
                <a:gdLst/>
                <a:ahLst/>
                <a:rect l="l" t="t" r="r" b="b"/>
                <a:pathLst>
                  <a:path w="196" h="221">
                    <a:moveTo>
                      <a:pt x="157" y="94"/>
                    </a:moveTo>
                    <a:lnTo>
                      <a:pt x="160" y="80"/>
                    </a:lnTo>
                    <a:lnTo>
                      <a:pt x="180" y="55"/>
                    </a:lnTo>
                    <a:lnTo>
                      <a:pt x="186" y="42"/>
                    </a:lnTo>
                    <a:lnTo>
                      <a:pt x="174" y="35"/>
                    </a:lnTo>
                    <a:lnTo>
                      <a:pt x="167" y="3"/>
                    </a:lnTo>
                    <a:lnTo>
                      <a:pt x="154" y="5"/>
                    </a:lnTo>
                    <a:lnTo>
                      <a:pt x="150" y="0"/>
                    </a:lnTo>
                    <a:lnTo>
                      <a:pt x="121" y="0"/>
                    </a:lnTo>
                    <a:lnTo>
                      <a:pt x="112" y="5"/>
                    </a:lnTo>
                    <a:lnTo>
                      <a:pt x="82" y="25"/>
                    </a:lnTo>
                    <a:lnTo>
                      <a:pt x="69" y="51"/>
                    </a:lnTo>
                    <a:lnTo>
                      <a:pt x="58" y="77"/>
                    </a:lnTo>
                    <a:lnTo>
                      <a:pt x="29" y="91"/>
                    </a:lnTo>
                    <a:lnTo>
                      <a:pt x="0" y="106"/>
                    </a:lnTo>
                    <a:lnTo>
                      <a:pt x="2" y="136"/>
                    </a:lnTo>
                    <a:lnTo>
                      <a:pt x="20" y="147"/>
                    </a:lnTo>
                    <a:lnTo>
                      <a:pt x="39" y="157"/>
                    </a:lnTo>
                    <a:lnTo>
                      <a:pt x="56" y="167"/>
                    </a:lnTo>
                    <a:lnTo>
                      <a:pt x="75" y="178"/>
                    </a:lnTo>
                    <a:lnTo>
                      <a:pt x="74" y="186"/>
                    </a:lnTo>
                    <a:lnTo>
                      <a:pt x="88" y="186"/>
                    </a:lnTo>
                    <a:lnTo>
                      <a:pt x="81" y="208"/>
                    </a:lnTo>
                    <a:lnTo>
                      <a:pt x="104" y="218"/>
                    </a:lnTo>
                    <a:lnTo>
                      <a:pt x="123" y="211"/>
                    </a:lnTo>
                    <a:lnTo>
                      <a:pt x="146" y="221"/>
                    </a:lnTo>
                    <a:lnTo>
                      <a:pt x="164" y="198"/>
                    </a:lnTo>
                    <a:lnTo>
                      <a:pt x="183" y="196"/>
                    </a:lnTo>
                    <a:lnTo>
                      <a:pt x="196" y="198"/>
                    </a:lnTo>
                    <a:lnTo>
                      <a:pt x="193" y="188"/>
                    </a:lnTo>
                    <a:lnTo>
                      <a:pt x="192" y="170"/>
                    </a:lnTo>
                    <a:lnTo>
                      <a:pt x="184" y="170"/>
                    </a:lnTo>
                    <a:lnTo>
                      <a:pt x="195" y="149"/>
                    </a:lnTo>
                    <a:lnTo>
                      <a:pt x="190" y="136"/>
                    </a:lnTo>
                    <a:lnTo>
                      <a:pt x="176" y="124"/>
                    </a:lnTo>
                    <a:lnTo>
                      <a:pt x="163" y="113"/>
                    </a:lnTo>
                    <a:lnTo>
                      <a:pt x="157" y="9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3506040" y="1610280"/>
                <a:ext cx="114480" cy="82080"/>
              </a:xfrm>
              <a:custGeom>
                <a:avLst/>
                <a:gdLst/>
                <a:ahLst/>
                <a:rect l="l" t="t" r="r" b="b"/>
                <a:pathLst>
                  <a:path w="220" h="117">
                    <a:moveTo>
                      <a:pt x="206" y="64"/>
                    </a:moveTo>
                    <a:lnTo>
                      <a:pt x="193" y="71"/>
                    </a:lnTo>
                    <a:lnTo>
                      <a:pt x="178" y="95"/>
                    </a:lnTo>
                    <a:lnTo>
                      <a:pt x="144" y="108"/>
                    </a:lnTo>
                    <a:lnTo>
                      <a:pt x="137" y="117"/>
                    </a:lnTo>
                    <a:lnTo>
                      <a:pt x="106" y="111"/>
                    </a:lnTo>
                    <a:lnTo>
                      <a:pt x="76" y="104"/>
                    </a:lnTo>
                    <a:lnTo>
                      <a:pt x="40" y="104"/>
                    </a:lnTo>
                    <a:lnTo>
                      <a:pt x="4" y="104"/>
                    </a:lnTo>
                    <a:lnTo>
                      <a:pt x="0" y="95"/>
                    </a:lnTo>
                    <a:lnTo>
                      <a:pt x="27" y="78"/>
                    </a:lnTo>
                    <a:lnTo>
                      <a:pt x="37" y="45"/>
                    </a:lnTo>
                    <a:lnTo>
                      <a:pt x="86" y="23"/>
                    </a:lnTo>
                    <a:lnTo>
                      <a:pt x="135" y="3"/>
                    </a:lnTo>
                    <a:lnTo>
                      <a:pt x="167" y="0"/>
                    </a:lnTo>
                    <a:lnTo>
                      <a:pt x="193" y="6"/>
                    </a:lnTo>
                    <a:lnTo>
                      <a:pt x="220" y="12"/>
                    </a:lnTo>
                    <a:lnTo>
                      <a:pt x="199" y="41"/>
                    </a:lnTo>
                    <a:lnTo>
                      <a:pt x="206" y="6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3378240" y="1595520"/>
                <a:ext cx="39240" cy="37800"/>
              </a:xfrm>
              <a:custGeom>
                <a:avLst/>
                <a:gdLst/>
                <a:ahLst/>
                <a:rect l="l" t="t" r="r" b="b"/>
                <a:pathLst>
                  <a:path w="77" h="54">
                    <a:moveTo>
                      <a:pt x="22" y="48"/>
                    </a:moveTo>
                    <a:lnTo>
                      <a:pt x="15" y="54"/>
                    </a:lnTo>
                    <a:lnTo>
                      <a:pt x="0" y="51"/>
                    </a:lnTo>
                    <a:lnTo>
                      <a:pt x="0" y="46"/>
                    </a:lnTo>
                    <a:lnTo>
                      <a:pt x="8" y="35"/>
                    </a:lnTo>
                    <a:lnTo>
                      <a:pt x="29" y="9"/>
                    </a:lnTo>
                    <a:lnTo>
                      <a:pt x="44" y="6"/>
                    </a:lnTo>
                    <a:lnTo>
                      <a:pt x="45" y="9"/>
                    </a:lnTo>
                    <a:lnTo>
                      <a:pt x="51" y="5"/>
                    </a:lnTo>
                    <a:lnTo>
                      <a:pt x="70" y="0"/>
                    </a:lnTo>
                    <a:lnTo>
                      <a:pt x="67" y="9"/>
                    </a:lnTo>
                    <a:lnTo>
                      <a:pt x="77" y="10"/>
                    </a:lnTo>
                    <a:lnTo>
                      <a:pt x="62" y="20"/>
                    </a:lnTo>
                    <a:lnTo>
                      <a:pt x="38" y="32"/>
                    </a:lnTo>
                    <a:lnTo>
                      <a:pt x="36" y="35"/>
                    </a:lnTo>
                    <a:lnTo>
                      <a:pt x="22" y="48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3410280" y="1610280"/>
                <a:ext cx="18720" cy="18360"/>
              </a:xfrm>
              <a:custGeom>
                <a:avLst/>
                <a:gdLst/>
                <a:ahLst/>
                <a:rect l="l" t="t" r="r" b="b"/>
                <a:pathLst>
                  <a:path w="36" h="26">
                    <a:moveTo>
                      <a:pt x="33" y="9"/>
                    </a:moveTo>
                    <a:lnTo>
                      <a:pt x="36" y="4"/>
                    </a:lnTo>
                    <a:lnTo>
                      <a:pt x="32" y="0"/>
                    </a:lnTo>
                    <a:lnTo>
                      <a:pt x="23" y="7"/>
                    </a:lnTo>
                    <a:lnTo>
                      <a:pt x="18" y="7"/>
                    </a:lnTo>
                    <a:lnTo>
                      <a:pt x="13" y="3"/>
                    </a:lnTo>
                    <a:lnTo>
                      <a:pt x="6" y="7"/>
                    </a:lnTo>
                    <a:lnTo>
                      <a:pt x="0" y="13"/>
                    </a:lnTo>
                    <a:lnTo>
                      <a:pt x="3" y="26"/>
                    </a:lnTo>
                    <a:lnTo>
                      <a:pt x="15" y="22"/>
                    </a:lnTo>
                    <a:lnTo>
                      <a:pt x="19" y="16"/>
                    </a:lnTo>
                    <a:lnTo>
                      <a:pt x="33" y="9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3395880" y="1580760"/>
                <a:ext cx="34560" cy="19080"/>
              </a:xfrm>
              <a:custGeom>
                <a:avLst/>
                <a:gdLst/>
                <a:ahLst/>
                <a:rect l="l" t="t" r="r" b="b"/>
                <a:pathLst>
                  <a:path w="65" h="28">
                    <a:moveTo>
                      <a:pt x="40" y="19"/>
                    </a:moveTo>
                    <a:lnTo>
                      <a:pt x="10" y="20"/>
                    </a:lnTo>
                    <a:lnTo>
                      <a:pt x="0" y="28"/>
                    </a:lnTo>
                    <a:lnTo>
                      <a:pt x="11" y="16"/>
                    </a:lnTo>
                    <a:lnTo>
                      <a:pt x="35" y="12"/>
                    </a:lnTo>
                    <a:lnTo>
                      <a:pt x="65" y="0"/>
                    </a:lnTo>
                    <a:lnTo>
                      <a:pt x="40" y="19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3395880" y="1620720"/>
                <a:ext cx="9000" cy="792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18" y="5"/>
                    </a:moveTo>
                    <a:lnTo>
                      <a:pt x="15" y="0"/>
                    </a:lnTo>
                    <a:lnTo>
                      <a:pt x="0" y="2"/>
                    </a:lnTo>
                    <a:lnTo>
                      <a:pt x="5" y="12"/>
                    </a:lnTo>
                    <a:lnTo>
                      <a:pt x="18" y="5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3410280" y="1631520"/>
                <a:ext cx="2520" cy="39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1"/>
                    </a:moveTo>
                    <a:lnTo>
                      <a:pt x="6" y="0"/>
                    </a:lnTo>
                    <a:lnTo>
                      <a:pt x="0" y="6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3507480" y="1599840"/>
                <a:ext cx="69120" cy="42120"/>
              </a:xfrm>
              <a:custGeom>
                <a:avLst/>
                <a:gdLst/>
                <a:ahLst/>
                <a:rect l="l" t="t" r="r" b="b"/>
                <a:pathLst>
                  <a:path w="132" h="60">
                    <a:moveTo>
                      <a:pt x="0" y="43"/>
                    </a:moveTo>
                    <a:lnTo>
                      <a:pt x="26" y="10"/>
                    </a:lnTo>
                    <a:lnTo>
                      <a:pt x="33" y="8"/>
                    </a:lnTo>
                    <a:lnTo>
                      <a:pt x="70" y="4"/>
                    </a:lnTo>
                    <a:lnTo>
                      <a:pt x="108" y="0"/>
                    </a:lnTo>
                    <a:lnTo>
                      <a:pt x="132" y="18"/>
                    </a:lnTo>
                    <a:lnTo>
                      <a:pt x="83" y="38"/>
                    </a:lnTo>
                    <a:lnTo>
                      <a:pt x="34" y="60"/>
                    </a:lnTo>
                    <a:lnTo>
                      <a:pt x="17" y="59"/>
                    </a:lnTo>
                    <a:lnTo>
                      <a:pt x="26" y="49"/>
                    </a:lnTo>
                    <a:lnTo>
                      <a:pt x="10" y="4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3315600" y="183204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3" y="0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3403800" y="1728720"/>
                <a:ext cx="67680" cy="31320"/>
              </a:xfrm>
              <a:custGeom>
                <a:avLst/>
                <a:gdLst/>
                <a:ahLst/>
                <a:rect l="l" t="t" r="r" b="b"/>
                <a:pathLst>
                  <a:path w="130" h="44">
                    <a:moveTo>
                      <a:pt x="59" y="0"/>
                    </a:moveTo>
                    <a:lnTo>
                      <a:pt x="56" y="2"/>
                    </a:lnTo>
                    <a:lnTo>
                      <a:pt x="46" y="8"/>
                    </a:lnTo>
                    <a:lnTo>
                      <a:pt x="40" y="9"/>
                    </a:lnTo>
                    <a:lnTo>
                      <a:pt x="37" y="12"/>
                    </a:lnTo>
                    <a:lnTo>
                      <a:pt x="26" y="19"/>
                    </a:lnTo>
                    <a:lnTo>
                      <a:pt x="13" y="22"/>
                    </a:lnTo>
                    <a:lnTo>
                      <a:pt x="6" y="22"/>
                    </a:lnTo>
                    <a:lnTo>
                      <a:pt x="0" y="21"/>
                    </a:lnTo>
                    <a:lnTo>
                      <a:pt x="0" y="41"/>
                    </a:lnTo>
                    <a:lnTo>
                      <a:pt x="4" y="44"/>
                    </a:lnTo>
                    <a:lnTo>
                      <a:pt x="30" y="44"/>
                    </a:lnTo>
                    <a:lnTo>
                      <a:pt x="75" y="29"/>
                    </a:lnTo>
                    <a:lnTo>
                      <a:pt x="111" y="29"/>
                    </a:lnTo>
                    <a:lnTo>
                      <a:pt x="130" y="12"/>
                    </a:lnTo>
                    <a:lnTo>
                      <a:pt x="102" y="5"/>
                    </a:lnTo>
                    <a:lnTo>
                      <a:pt x="82" y="6"/>
                    </a:lnTo>
                    <a:lnTo>
                      <a:pt x="81" y="2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3751200" y="1852920"/>
                <a:ext cx="139320" cy="143280"/>
              </a:xfrm>
              <a:custGeom>
                <a:avLst/>
                <a:gdLst/>
                <a:ahLst/>
                <a:rect l="l" t="t" r="r" b="b"/>
                <a:pathLst>
                  <a:path w="267" h="204">
                    <a:moveTo>
                      <a:pt x="242" y="158"/>
                    </a:moveTo>
                    <a:lnTo>
                      <a:pt x="224" y="180"/>
                    </a:lnTo>
                    <a:lnTo>
                      <a:pt x="198" y="190"/>
                    </a:lnTo>
                    <a:lnTo>
                      <a:pt x="183" y="204"/>
                    </a:lnTo>
                    <a:lnTo>
                      <a:pt x="172" y="201"/>
                    </a:lnTo>
                    <a:lnTo>
                      <a:pt x="154" y="194"/>
                    </a:lnTo>
                    <a:lnTo>
                      <a:pt x="159" y="167"/>
                    </a:lnTo>
                    <a:lnTo>
                      <a:pt x="140" y="164"/>
                    </a:lnTo>
                    <a:lnTo>
                      <a:pt x="127" y="151"/>
                    </a:lnTo>
                    <a:lnTo>
                      <a:pt x="114" y="139"/>
                    </a:lnTo>
                    <a:lnTo>
                      <a:pt x="84" y="125"/>
                    </a:lnTo>
                    <a:lnTo>
                      <a:pt x="62" y="128"/>
                    </a:lnTo>
                    <a:lnTo>
                      <a:pt x="35" y="131"/>
                    </a:lnTo>
                    <a:lnTo>
                      <a:pt x="9" y="148"/>
                    </a:lnTo>
                    <a:lnTo>
                      <a:pt x="2" y="147"/>
                    </a:lnTo>
                    <a:lnTo>
                      <a:pt x="7" y="125"/>
                    </a:lnTo>
                    <a:lnTo>
                      <a:pt x="13" y="102"/>
                    </a:lnTo>
                    <a:lnTo>
                      <a:pt x="5" y="93"/>
                    </a:lnTo>
                    <a:lnTo>
                      <a:pt x="2" y="95"/>
                    </a:lnTo>
                    <a:lnTo>
                      <a:pt x="9" y="89"/>
                    </a:lnTo>
                    <a:lnTo>
                      <a:pt x="13" y="86"/>
                    </a:lnTo>
                    <a:lnTo>
                      <a:pt x="13" y="76"/>
                    </a:lnTo>
                    <a:lnTo>
                      <a:pt x="2" y="79"/>
                    </a:lnTo>
                    <a:lnTo>
                      <a:pt x="0" y="79"/>
                    </a:lnTo>
                    <a:lnTo>
                      <a:pt x="10" y="53"/>
                    </a:lnTo>
                    <a:lnTo>
                      <a:pt x="13" y="51"/>
                    </a:lnTo>
                    <a:lnTo>
                      <a:pt x="26" y="51"/>
                    </a:lnTo>
                    <a:lnTo>
                      <a:pt x="33" y="59"/>
                    </a:lnTo>
                    <a:lnTo>
                      <a:pt x="41" y="57"/>
                    </a:lnTo>
                    <a:lnTo>
                      <a:pt x="43" y="54"/>
                    </a:lnTo>
                    <a:lnTo>
                      <a:pt x="51" y="46"/>
                    </a:lnTo>
                    <a:lnTo>
                      <a:pt x="43" y="23"/>
                    </a:lnTo>
                    <a:lnTo>
                      <a:pt x="26" y="21"/>
                    </a:lnTo>
                    <a:lnTo>
                      <a:pt x="13" y="43"/>
                    </a:lnTo>
                    <a:lnTo>
                      <a:pt x="12" y="46"/>
                    </a:lnTo>
                    <a:lnTo>
                      <a:pt x="15" y="17"/>
                    </a:lnTo>
                    <a:lnTo>
                      <a:pt x="23" y="5"/>
                    </a:lnTo>
                    <a:lnTo>
                      <a:pt x="20" y="0"/>
                    </a:lnTo>
                    <a:lnTo>
                      <a:pt x="58" y="0"/>
                    </a:lnTo>
                    <a:lnTo>
                      <a:pt x="45" y="18"/>
                    </a:lnTo>
                    <a:lnTo>
                      <a:pt x="65" y="27"/>
                    </a:lnTo>
                    <a:lnTo>
                      <a:pt x="85" y="34"/>
                    </a:lnTo>
                    <a:lnTo>
                      <a:pt x="113" y="41"/>
                    </a:lnTo>
                    <a:lnTo>
                      <a:pt x="117" y="26"/>
                    </a:lnTo>
                    <a:lnTo>
                      <a:pt x="131" y="20"/>
                    </a:lnTo>
                    <a:lnTo>
                      <a:pt x="162" y="0"/>
                    </a:lnTo>
                    <a:lnTo>
                      <a:pt x="177" y="20"/>
                    </a:lnTo>
                    <a:lnTo>
                      <a:pt x="179" y="47"/>
                    </a:lnTo>
                    <a:lnTo>
                      <a:pt x="202" y="59"/>
                    </a:lnTo>
                    <a:lnTo>
                      <a:pt x="215" y="69"/>
                    </a:lnTo>
                    <a:lnTo>
                      <a:pt x="239" y="93"/>
                    </a:lnTo>
                    <a:lnTo>
                      <a:pt x="265" y="116"/>
                    </a:lnTo>
                    <a:lnTo>
                      <a:pt x="267" y="142"/>
                    </a:lnTo>
                    <a:lnTo>
                      <a:pt x="254" y="151"/>
                    </a:lnTo>
                    <a:lnTo>
                      <a:pt x="242" y="158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3342600" y="1783080"/>
                <a:ext cx="62640" cy="67320"/>
              </a:xfrm>
              <a:custGeom>
                <a:avLst/>
                <a:gdLst/>
                <a:ahLst/>
                <a:rect l="l" t="t" r="r" b="b"/>
                <a:pathLst>
                  <a:path w="119" h="97">
                    <a:moveTo>
                      <a:pt x="101" y="43"/>
                    </a:moveTo>
                    <a:lnTo>
                      <a:pt x="105" y="45"/>
                    </a:lnTo>
                    <a:lnTo>
                      <a:pt x="111" y="38"/>
                    </a:lnTo>
                    <a:lnTo>
                      <a:pt x="119" y="36"/>
                    </a:lnTo>
                    <a:lnTo>
                      <a:pt x="119" y="35"/>
                    </a:lnTo>
                    <a:lnTo>
                      <a:pt x="113" y="33"/>
                    </a:lnTo>
                    <a:lnTo>
                      <a:pt x="112" y="32"/>
                    </a:lnTo>
                    <a:lnTo>
                      <a:pt x="116" y="29"/>
                    </a:lnTo>
                    <a:lnTo>
                      <a:pt x="115" y="28"/>
                    </a:lnTo>
                    <a:lnTo>
                      <a:pt x="115" y="19"/>
                    </a:lnTo>
                    <a:lnTo>
                      <a:pt x="86" y="16"/>
                    </a:lnTo>
                    <a:lnTo>
                      <a:pt x="77" y="0"/>
                    </a:lnTo>
                    <a:lnTo>
                      <a:pt x="75" y="2"/>
                    </a:lnTo>
                    <a:lnTo>
                      <a:pt x="73" y="2"/>
                    </a:lnTo>
                    <a:lnTo>
                      <a:pt x="72" y="5"/>
                    </a:lnTo>
                    <a:lnTo>
                      <a:pt x="65" y="5"/>
                    </a:lnTo>
                    <a:lnTo>
                      <a:pt x="62" y="7"/>
                    </a:lnTo>
                    <a:lnTo>
                      <a:pt x="53" y="9"/>
                    </a:lnTo>
                    <a:lnTo>
                      <a:pt x="52" y="13"/>
                    </a:lnTo>
                    <a:lnTo>
                      <a:pt x="50" y="16"/>
                    </a:lnTo>
                    <a:lnTo>
                      <a:pt x="50" y="20"/>
                    </a:lnTo>
                    <a:lnTo>
                      <a:pt x="46" y="20"/>
                    </a:lnTo>
                    <a:lnTo>
                      <a:pt x="37" y="23"/>
                    </a:lnTo>
                    <a:lnTo>
                      <a:pt x="36" y="26"/>
                    </a:lnTo>
                    <a:lnTo>
                      <a:pt x="34" y="29"/>
                    </a:lnTo>
                    <a:lnTo>
                      <a:pt x="28" y="30"/>
                    </a:lnTo>
                    <a:lnTo>
                      <a:pt x="26" y="28"/>
                    </a:lnTo>
                    <a:lnTo>
                      <a:pt x="24" y="28"/>
                    </a:lnTo>
                    <a:lnTo>
                      <a:pt x="23" y="28"/>
                    </a:lnTo>
                    <a:lnTo>
                      <a:pt x="21" y="25"/>
                    </a:lnTo>
                    <a:lnTo>
                      <a:pt x="16" y="30"/>
                    </a:lnTo>
                    <a:lnTo>
                      <a:pt x="5" y="29"/>
                    </a:lnTo>
                    <a:lnTo>
                      <a:pt x="1" y="28"/>
                    </a:lnTo>
                    <a:lnTo>
                      <a:pt x="1" y="35"/>
                    </a:lnTo>
                    <a:lnTo>
                      <a:pt x="0" y="43"/>
                    </a:lnTo>
                    <a:lnTo>
                      <a:pt x="10" y="38"/>
                    </a:lnTo>
                    <a:lnTo>
                      <a:pt x="10" y="64"/>
                    </a:lnTo>
                    <a:lnTo>
                      <a:pt x="11" y="69"/>
                    </a:lnTo>
                    <a:lnTo>
                      <a:pt x="24" y="82"/>
                    </a:lnTo>
                    <a:lnTo>
                      <a:pt x="43" y="97"/>
                    </a:lnTo>
                    <a:lnTo>
                      <a:pt x="47" y="97"/>
                    </a:lnTo>
                    <a:lnTo>
                      <a:pt x="49" y="97"/>
                    </a:lnTo>
                    <a:lnTo>
                      <a:pt x="49" y="95"/>
                    </a:lnTo>
                    <a:lnTo>
                      <a:pt x="46" y="87"/>
                    </a:lnTo>
                    <a:lnTo>
                      <a:pt x="46" y="84"/>
                    </a:lnTo>
                    <a:lnTo>
                      <a:pt x="43" y="81"/>
                    </a:lnTo>
                    <a:lnTo>
                      <a:pt x="34" y="65"/>
                    </a:lnTo>
                    <a:lnTo>
                      <a:pt x="36" y="64"/>
                    </a:lnTo>
                    <a:lnTo>
                      <a:pt x="33" y="62"/>
                    </a:lnTo>
                    <a:lnTo>
                      <a:pt x="36" y="51"/>
                    </a:lnTo>
                    <a:lnTo>
                      <a:pt x="33" y="48"/>
                    </a:lnTo>
                    <a:lnTo>
                      <a:pt x="40" y="36"/>
                    </a:lnTo>
                    <a:lnTo>
                      <a:pt x="46" y="36"/>
                    </a:lnTo>
                    <a:lnTo>
                      <a:pt x="47" y="42"/>
                    </a:lnTo>
                    <a:lnTo>
                      <a:pt x="57" y="35"/>
                    </a:lnTo>
                    <a:lnTo>
                      <a:pt x="65" y="35"/>
                    </a:lnTo>
                    <a:lnTo>
                      <a:pt x="69" y="38"/>
                    </a:lnTo>
                    <a:lnTo>
                      <a:pt x="82" y="41"/>
                    </a:lnTo>
                    <a:lnTo>
                      <a:pt x="86" y="38"/>
                    </a:lnTo>
                    <a:lnTo>
                      <a:pt x="89" y="41"/>
                    </a:lnTo>
                    <a:lnTo>
                      <a:pt x="92" y="38"/>
                    </a:lnTo>
                    <a:lnTo>
                      <a:pt x="96" y="41"/>
                    </a:lnTo>
                    <a:lnTo>
                      <a:pt x="99" y="39"/>
                    </a:lnTo>
                    <a:lnTo>
                      <a:pt x="101" y="43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3359520" y="1850760"/>
                <a:ext cx="14040" cy="1080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25" y="14"/>
                    </a:moveTo>
                    <a:lnTo>
                      <a:pt x="28" y="10"/>
                    </a:lnTo>
                    <a:lnTo>
                      <a:pt x="25" y="8"/>
                    </a:lnTo>
                    <a:lnTo>
                      <a:pt x="22" y="3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0" y="0"/>
                    </a:lnTo>
                    <a:lnTo>
                      <a:pt x="25" y="1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3389400" y="1863720"/>
                <a:ext cx="29880" cy="27000"/>
              </a:xfrm>
              <a:custGeom>
                <a:avLst/>
                <a:gdLst/>
                <a:ahLst/>
                <a:rect l="l" t="t" r="r" b="b"/>
                <a:pathLst>
                  <a:path w="57" h="40">
                    <a:moveTo>
                      <a:pt x="0" y="40"/>
                    </a:moveTo>
                    <a:lnTo>
                      <a:pt x="3" y="13"/>
                    </a:lnTo>
                    <a:lnTo>
                      <a:pt x="9" y="11"/>
                    </a:lnTo>
                    <a:lnTo>
                      <a:pt x="11" y="8"/>
                    </a:lnTo>
                    <a:lnTo>
                      <a:pt x="21" y="5"/>
                    </a:lnTo>
                    <a:lnTo>
                      <a:pt x="25" y="7"/>
                    </a:lnTo>
                    <a:lnTo>
                      <a:pt x="29" y="2"/>
                    </a:lnTo>
                    <a:lnTo>
                      <a:pt x="32" y="2"/>
                    </a:lnTo>
                    <a:lnTo>
                      <a:pt x="36" y="4"/>
                    </a:lnTo>
                    <a:lnTo>
                      <a:pt x="41" y="2"/>
                    </a:lnTo>
                    <a:lnTo>
                      <a:pt x="49" y="0"/>
                    </a:lnTo>
                    <a:lnTo>
                      <a:pt x="51" y="7"/>
                    </a:lnTo>
                    <a:lnTo>
                      <a:pt x="57" y="4"/>
                    </a:lnTo>
                    <a:lnTo>
                      <a:pt x="57" y="8"/>
                    </a:lnTo>
                    <a:lnTo>
                      <a:pt x="48" y="28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3619080" y="1832040"/>
                <a:ext cx="78480" cy="48240"/>
              </a:xfrm>
              <a:custGeom>
                <a:avLst/>
                <a:gdLst/>
                <a:ahLst/>
                <a:rect l="l" t="t" r="r" b="b"/>
                <a:pathLst>
                  <a:path w="149" h="68">
                    <a:moveTo>
                      <a:pt x="23" y="25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26" y="2"/>
                    </a:lnTo>
                    <a:lnTo>
                      <a:pt x="49" y="3"/>
                    </a:lnTo>
                    <a:lnTo>
                      <a:pt x="74" y="16"/>
                    </a:lnTo>
                    <a:lnTo>
                      <a:pt x="100" y="29"/>
                    </a:lnTo>
                    <a:lnTo>
                      <a:pt x="124" y="42"/>
                    </a:lnTo>
                    <a:lnTo>
                      <a:pt x="149" y="55"/>
                    </a:lnTo>
                    <a:lnTo>
                      <a:pt x="133" y="68"/>
                    </a:lnTo>
                    <a:lnTo>
                      <a:pt x="114" y="65"/>
                    </a:lnTo>
                    <a:lnTo>
                      <a:pt x="82" y="65"/>
                    </a:lnTo>
                    <a:lnTo>
                      <a:pt x="49" y="64"/>
                    </a:lnTo>
                    <a:lnTo>
                      <a:pt x="20" y="67"/>
                    </a:lnTo>
                    <a:lnTo>
                      <a:pt x="32" y="46"/>
                    </a:lnTo>
                    <a:lnTo>
                      <a:pt x="23" y="25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3372480" y="1874160"/>
                <a:ext cx="86040" cy="99000"/>
              </a:xfrm>
              <a:custGeom>
                <a:avLst/>
                <a:gdLst/>
                <a:ahLst/>
                <a:rect l="l" t="t" r="r" b="b"/>
                <a:pathLst>
                  <a:path w="164" h="140">
                    <a:moveTo>
                      <a:pt x="16" y="73"/>
                    </a:moveTo>
                    <a:lnTo>
                      <a:pt x="3" y="68"/>
                    </a:lnTo>
                    <a:lnTo>
                      <a:pt x="0" y="55"/>
                    </a:lnTo>
                    <a:lnTo>
                      <a:pt x="9" y="47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82" y="11"/>
                    </a:lnTo>
                    <a:lnTo>
                      <a:pt x="109" y="7"/>
                    </a:lnTo>
                    <a:lnTo>
                      <a:pt x="144" y="11"/>
                    </a:lnTo>
                    <a:lnTo>
                      <a:pt x="157" y="4"/>
                    </a:lnTo>
                    <a:lnTo>
                      <a:pt x="164" y="0"/>
                    </a:lnTo>
                    <a:lnTo>
                      <a:pt x="163" y="10"/>
                    </a:lnTo>
                    <a:lnTo>
                      <a:pt x="144" y="26"/>
                    </a:lnTo>
                    <a:lnTo>
                      <a:pt x="121" y="21"/>
                    </a:lnTo>
                    <a:lnTo>
                      <a:pt x="93" y="29"/>
                    </a:lnTo>
                    <a:lnTo>
                      <a:pt x="98" y="40"/>
                    </a:lnTo>
                    <a:lnTo>
                      <a:pt x="88" y="40"/>
                    </a:lnTo>
                    <a:lnTo>
                      <a:pt x="86" y="46"/>
                    </a:lnTo>
                    <a:lnTo>
                      <a:pt x="78" y="42"/>
                    </a:lnTo>
                    <a:lnTo>
                      <a:pt x="79" y="47"/>
                    </a:lnTo>
                    <a:lnTo>
                      <a:pt x="75" y="32"/>
                    </a:lnTo>
                    <a:lnTo>
                      <a:pt x="65" y="36"/>
                    </a:lnTo>
                    <a:lnTo>
                      <a:pt x="63" y="59"/>
                    </a:lnTo>
                    <a:lnTo>
                      <a:pt x="62" y="70"/>
                    </a:lnTo>
                    <a:lnTo>
                      <a:pt x="55" y="66"/>
                    </a:lnTo>
                    <a:lnTo>
                      <a:pt x="53" y="75"/>
                    </a:lnTo>
                    <a:lnTo>
                      <a:pt x="47" y="76"/>
                    </a:lnTo>
                    <a:lnTo>
                      <a:pt x="68" y="96"/>
                    </a:lnTo>
                    <a:lnTo>
                      <a:pt x="62" y="106"/>
                    </a:lnTo>
                    <a:lnTo>
                      <a:pt x="53" y="101"/>
                    </a:lnTo>
                    <a:lnTo>
                      <a:pt x="46" y="104"/>
                    </a:lnTo>
                    <a:lnTo>
                      <a:pt x="46" y="115"/>
                    </a:lnTo>
                    <a:lnTo>
                      <a:pt x="33" y="115"/>
                    </a:lnTo>
                    <a:lnTo>
                      <a:pt x="29" y="140"/>
                    </a:lnTo>
                    <a:lnTo>
                      <a:pt x="20" y="134"/>
                    </a:lnTo>
                    <a:lnTo>
                      <a:pt x="14" y="140"/>
                    </a:lnTo>
                    <a:lnTo>
                      <a:pt x="10" y="127"/>
                    </a:lnTo>
                    <a:lnTo>
                      <a:pt x="4" y="132"/>
                    </a:lnTo>
                    <a:lnTo>
                      <a:pt x="3" y="109"/>
                    </a:lnTo>
                    <a:lnTo>
                      <a:pt x="7" y="99"/>
                    </a:lnTo>
                    <a:lnTo>
                      <a:pt x="29" y="93"/>
                    </a:lnTo>
                    <a:lnTo>
                      <a:pt x="46" y="98"/>
                    </a:lnTo>
                    <a:lnTo>
                      <a:pt x="47" y="93"/>
                    </a:lnTo>
                    <a:lnTo>
                      <a:pt x="37" y="89"/>
                    </a:lnTo>
                    <a:lnTo>
                      <a:pt x="14" y="88"/>
                    </a:lnTo>
                    <a:lnTo>
                      <a:pt x="7" y="88"/>
                    </a:lnTo>
                    <a:lnTo>
                      <a:pt x="9" y="75"/>
                    </a:lnTo>
                    <a:lnTo>
                      <a:pt x="16" y="73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3386160" y="1992240"/>
                <a:ext cx="31680" cy="10440"/>
              </a:xfrm>
              <a:custGeom>
                <a:avLst/>
                <a:gdLst/>
                <a:ahLst/>
                <a:rect l="l" t="t" r="r" b="b"/>
                <a:pathLst>
                  <a:path w="61" h="14">
                    <a:moveTo>
                      <a:pt x="48" y="6"/>
                    </a:moveTo>
                    <a:lnTo>
                      <a:pt x="16" y="0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20" y="10"/>
                    </a:lnTo>
                    <a:lnTo>
                      <a:pt x="41" y="14"/>
                    </a:lnTo>
                    <a:lnTo>
                      <a:pt x="61" y="9"/>
                    </a:lnTo>
                    <a:lnTo>
                      <a:pt x="48" y="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3402360" y="1926720"/>
                <a:ext cx="12240" cy="16920"/>
              </a:xfrm>
              <a:custGeom>
                <a:avLst/>
                <a:gdLst/>
                <a:ahLst/>
                <a:rect l="l" t="t" r="r" b="b"/>
                <a:pathLst>
                  <a:path w="24" h="25">
                    <a:moveTo>
                      <a:pt x="24" y="25"/>
                    </a:moveTo>
                    <a:lnTo>
                      <a:pt x="13" y="8"/>
                    </a:lnTo>
                    <a:lnTo>
                      <a:pt x="0" y="0"/>
                    </a:lnTo>
                    <a:lnTo>
                      <a:pt x="12" y="12"/>
                    </a:lnTo>
                    <a:lnTo>
                      <a:pt x="22" y="25"/>
                    </a:lnTo>
                    <a:lnTo>
                      <a:pt x="24" y="25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3438360" y="1920600"/>
                <a:ext cx="4320" cy="396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10" y="5"/>
                    </a:moveTo>
                    <a:lnTo>
                      <a:pt x="3" y="3"/>
                    </a:lnTo>
                    <a:lnTo>
                      <a:pt x="0" y="0"/>
                    </a:lnTo>
                    <a:lnTo>
                      <a:pt x="10" y="3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3367800" y="1937520"/>
                <a:ext cx="2520" cy="39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2" y="0"/>
                    </a:moveTo>
                    <a:lnTo>
                      <a:pt x="6" y="6"/>
                    </a:lnTo>
                    <a:lnTo>
                      <a:pt x="0" y="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3431880" y="193320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6" y="0"/>
                    </a:moveTo>
                    <a:lnTo>
                      <a:pt x="2" y="9"/>
                    </a:lnTo>
                    <a:lnTo>
                      <a:pt x="0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3952080" y="1842480"/>
                <a:ext cx="125640" cy="75960"/>
              </a:xfrm>
              <a:custGeom>
                <a:avLst/>
                <a:gdLst/>
                <a:ahLst/>
                <a:rect l="l" t="t" r="r" b="b"/>
                <a:pathLst>
                  <a:path w="239" h="108">
                    <a:moveTo>
                      <a:pt x="74" y="64"/>
                    </a:moveTo>
                    <a:lnTo>
                      <a:pt x="59" y="48"/>
                    </a:lnTo>
                    <a:lnTo>
                      <a:pt x="31" y="45"/>
                    </a:lnTo>
                    <a:lnTo>
                      <a:pt x="26" y="25"/>
                    </a:lnTo>
                    <a:lnTo>
                      <a:pt x="48" y="13"/>
                    </a:lnTo>
                    <a:lnTo>
                      <a:pt x="69" y="16"/>
                    </a:lnTo>
                    <a:lnTo>
                      <a:pt x="90" y="20"/>
                    </a:lnTo>
                    <a:lnTo>
                      <a:pt x="111" y="5"/>
                    </a:lnTo>
                    <a:lnTo>
                      <a:pt x="130" y="7"/>
                    </a:lnTo>
                    <a:lnTo>
                      <a:pt x="162" y="6"/>
                    </a:lnTo>
                    <a:lnTo>
                      <a:pt x="192" y="3"/>
                    </a:lnTo>
                    <a:lnTo>
                      <a:pt x="222" y="0"/>
                    </a:lnTo>
                    <a:lnTo>
                      <a:pt x="239" y="17"/>
                    </a:lnTo>
                    <a:lnTo>
                      <a:pt x="237" y="30"/>
                    </a:lnTo>
                    <a:lnTo>
                      <a:pt x="212" y="45"/>
                    </a:lnTo>
                    <a:lnTo>
                      <a:pt x="186" y="58"/>
                    </a:lnTo>
                    <a:lnTo>
                      <a:pt x="160" y="64"/>
                    </a:lnTo>
                    <a:lnTo>
                      <a:pt x="134" y="81"/>
                    </a:lnTo>
                    <a:lnTo>
                      <a:pt x="123" y="78"/>
                    </a:lnTo>
                    <a:lnTo>
                      <a:pt x="113" y="78"/>
                    </a:lnTo>
                    <a:lnTo>
                      <a:pt x="91" y="88"/>
                    </a:lnTo>
                    <a:lnTo>
                      <a:pt x="72" y="108"/>
                    </a:lnTo>
                    <a:lnTo>
                      <a:pt x="36" y="104"/>
                    </a:lnTo>
                    <a:lnTo>
                      <a:pt x="0" y="98"/>
                    </a:lnTo>
                    <a:lnTo>
                      <a:pt x="8" y="81"/>
                    </a:lnTo>
                    <a:lnTo>
                      <a:pt x="41" y="72"/>
                    </a:lnTo>
                    <a:lnTo>
                      <a:pt x="74" y="6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3436920" y="1869840"/>
                <a:ext cx="219600" cy="116280"/>
              </a:xfrm>
              <a:custGeom>
                <a:avLst/>
                <a:gdLst/>
                <a:ahLst/>
                <a:rect l="l" t="t" r="r" b="b"/>
                <a:pathLst>
                  <a:path w="419" h="164">
                    <a:moveTo>
                      <a:pt x="288" y="138"/>
                    </a:moveTo>
                    <a:lnTo>
                      <a:pt x="255" y="138"/>
                    </a:lnTo>
                    <a:lnTo>
                      <a:pt x="219" y="141"/>
                    </a:lnTo>
                    <a:lnTo>
                      <a:pt x="209" y="144"/>
                    </a:lnTo>
                    <a:lnTo>
                      <a:pt x="203" y="155"/>
                    </a:lnTo>
                    <a:lnTo>
                      <a:pt x="188" y="164"/>
                    </a:lnTo>
                    <a:lnTo>
                      <a:pt x="187" y="162"/>
                    </a:lnTo>
                    <a:lnTo>
                      <a:pt x="190" y="158"/>
                    </a:lnTo>
                    <a:lnTo>
                      <a:pt x="201" y="138"/>
                    </a:lnTo>
                    <a:lnTo>
                      <a:pt x="188" y="142"/>
                    </a:lnTo>
                    <a:lnTo>
                      <a:pt x="174" y="141"/>
                    </a:lnTo>
                    <a:lnTo>
                      <a:pt x="154" y="148"/>
                    </a:lnTo>
                    <a:lnTo>
                      <a:pt x="125" y="160"/>
                    </a:lnTo>
                    <a:lnTo>
                      <a:pt x="109" y="152"/>
                    </a:lnTo>
                    <a:lnTo>
                      <a:pt x="80" y="138"/>
                    </a:lnTo>
                    <a:lnTo>
                      <a:pt x="72" y="149"/>
                    </a:lnTo>
                    <a:lnTo>
                      <a:pt x="57" y="155"/>
                    </a:lnTo>
                    <a:lnTo>
                      <a:pt x="40" y="148"/>
                    </a:lnTo>
                    <a:lnTo>
                      <a:pt x="31" y="141"/>
                    </a:lnTo>
                    <a:lnTo>
                      <a:pt x="18" y="142"/>
                    </a:lnTo>
                    <a:lnTo>
                      <a:pt x="8" y="142"/>
                    </a:lnTo>
                    <a:lnTo>
                      <a:pt x="26" y="135"/>
                    </a:lnTo>
                    <a:lnTo>
                      <a:pt x="8" y="132"/>
                    </a:lnTo>
                    <a:lnTo>
                      <a:pt x="14" y="126"/>
                    </a:lnTo>
                    <a:lnTo>
                      <a:pt x="8" y="116"/>
                    </a:lnTo>
                    <a:lnTo>
                      <a:pt x="14" y="112"/>
                    </a:lnTo>
                    <a:lnTo>
                      <a:pt x="0" y="102"/>
                    </a:lnTo>
                    <a:lnTo>
                      <a:pt x="1" y="93"/>
                    </a:lnTo>
                    <a:lnTo>
                      <a:pt x="7" y="95"/>
                    </a:lnTo>
                    <a:lnTo>
                      <a:pt x="14" y="96"/>
                    </a:lnTo>
                    <a:lnTo>
                      <a:pt x="14" y="86"/>
                    </a:lnTo>
                    <a:lnTo>
                      <a:pt x="17" y="82"/>
                    </a:lnTo>
                    <a:lnTo>
                      <a:pt x="21" y="67"/>
                    </a:lnTo>
                    <a:lnTo>
                      <a:pt x="10" y="67"/>
                    </a:lnTo>
                    <a:lnTo>
                      <a:pt x="21" y="47"/>
                    </a:lnTo>
                    <a:lnTo>
                      <a:pt x="46" y="44"/>
                    </a:lnTo>
                    <a:lnTo>
                      <a:pt x="56" y="40"/>
                    </a:lnTo>
                    <a:lnTo>
                      <a:pt x="82" y="40"/>
                    </a:lnTo>
                    <a:lnTo>
                      <a:pt x="102" y="33"/>
                    </a:lnTo>
                    <a:lnTo>
                      <a:pt x="96" y="33"/>
                    </a:lnTo>
                    <a:lnTo>
                      <a:pt x="92" y="23"/>
                    </a:lnTo>
                    <a:lnTo>
                      <a:pt x="132" y="24"/>
                    </a:lnTo>
                    <a:lnTo>
                      <a:pt x="174" y="5"/>
                    </a:lnTo>
                    <a:lnTo>
                      <a:pt x="197" y="3"/>
                    </a:lnTo>
                    <a:lnTo>
                      <a:pt x="220" y="0"/>
                    </a:lnTo>
                    <a:lnTo>
                      <a:pt x="233" y="1"/>
                    </a:lnTo>
                    <a:lnTo>
                      <a:pt x="245" y="8"/>
                    </a:lnTo>
                    <a:lnTo>
                      <a:pt x="250" y="14"/>
                    </a:lnTo>
                    <a:lnTo>
                      <a:pt x="275" y="20"/>
                    </a:lnTo>
                    <a:lnTo>
                      <a:pt x="299" y="27"/>
                    </a:lnTo>
                    <a:lnTo>
                      <a:pt x="327" y="27"/>
                    </a:lnTo>
                    <a:lnTo>
                      <a:pt x="368" y="13"/>
                    </a:lnTo>
                    <a:lnTo>
                      <a:pt x="397" y="10"/>
                    </a:lnTo>
                    <a:lnTo>
                      <a:pt x="406" y="21"/>
                    </a:lnTo>
                    <a:lnTo>
                      <a:pt x="404" y="39"/>
                    </a:lnTo>
                    <a:lnTo>
                      <a:pt x="404" y="53"/>
                    </a:lnTo>
                    <a:lnTo>
                      <a:pt x="419" y="60"/>
                    </a:lnTo>
                    <a:lnTo>
                      <a:pt x="406" y="69"/>
                    </a:lnTo>
                    <a:lnTo>
                      <a:pt x="402" y="83"/>
                    </a:lnTo>
                    <a:lnTo>
                      <a:pt x="393" y="111"/>
                    </a:lnTo>
                    <a:lnTo>
                      <a:pt x="397" y="129"/>
                    </a:lnTo>
                    <a:lnTo>
                      <a:pt x="384" y="131"/>
                    </a:lnTo>
                    <a:lnTo>
                      <a:pt x="380" y="126"/>
                    </a:lnTo>
                    <a:lnTo>
                      <a:pt x="351" y="126"/>
                    </a:lnTo>
                    <a:lnTo>
                      <a:pt x="342" y="131"/>
                    </a:lnTo>
                    <a:lnTo>
                      <a:pt x="337" y="129"/>
                    </a:lnTo>
                    <a:lnTo>
                      <a:pt x="312" y="134"/>
                    </a:lnTo>
                    <a:lnTo>
                      <a:pt x="288" y="138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3446280" y="1869840"/>
                <a:ext cx="37440" cy="33840"/>
              </a:xfrm>
              <a:custGeom>
                <a:avLst/>
                <a:gdLst/>
                <a:ahLst/>
                <a:rect l="l" t="t" r="r" b="b"/>
                <a:pathLst>
                  <a:path w="73" h="47">
                    <a:moveTo>
                      <a:pt x="30" y="1"/>
                    </a:moveTo>
                    <a:lnTo>
                      <a:pt x="23" y="7"/>
                    </a:lnTo>
                    <a:lnTo>
                      <a:pt x="22" y="17"/>
                    </a:lnTo>
                    <a:lnTo>
                      <a:pt x="3" y="33"/>
                    </a:lnTo>
                    <a:lnTo>
                      <a:pt x="16" y="36"/>
                    </a:lnTo>
                    <a:lnTo>
                      <a:pt x="0" y="47"/>
                    </a:lnTo>
                    <a:lnTo>
                      <a:pt x="36" y="30"/>
                    </a:lnTo>
                    <a:lnTo>
                      <a:pt x="73" y="24"/>
                    </a:lnTo>
                    <a:lnTo>
                      <a:pt x="68" y="17"/>
                    </a:lnTo>
                    <a:lnTo>
                      <a:pt x="63" y="0"/>
                    </a:lnTo>
                    <a:lnTo>
                      <a:pt x="30" y="1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3494880" y="2034720"/>
                <a:ext cx="24840" cy="71640"/>
              </a:xfrm>
              <a:custGeom>
                <a:avLst/>
                <a:gdLst/>
                <a:ahLst/>
                <a:rect l="l" t="t" r="r" b="b"/>
                <a:pathLst>
                  <a:path w="48" h="103">
                    <a:moveTo>
                      <a:pt x="2" y="103"/>
                    </a:moveTo>
                    <a:lnTo>
                      <a:pt x="0" y="78"/>
                    </a:lnTo>
                    <a:lnTo>
                      <a:pt x="0" y="52"/>
                    </a:lnTo>
                    <a:lnTo>
                      <a:pt x="17" y="29"/>
                    </a:lnTo>
                    <a:lnTo>
                      <a:pt x="35" y="5"/>
                    </a:lnTo>
                    <a:lnTo>
                      <a:pt x="48" y="0"/>
                    </a:lnTo>
                    <a:lnTo>
                      <a:pt x="43" y="15"/>
                    </a:lnTo>
                    <a:lnTo>
                      <a:pt x="33" y="36"/>
                    </a:lnTo>
                    <a:lnTo>
                      <a:pt x="23" y="58"/>
                    </a:lnTo>
                    <a:lnTo>
                      <a:pt x="13" y="80"/>
                    </a:lnTo>
                    <a:lnTo>
                      <a:pt x="3" y="101"/>
                    </a:lnTo>
                    <a:lnTo>
                      <a:pt x="2" y="103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3351600" y="2066040"/>
                <a:ext cx="142920" cy="187920"/>
              </a:xfrm>
              <a:custGeom>
                <a:avLst/>
                <a:gdLst/>
                <a:ahLst/>
                <a:rect l="l" t="t" r="r" b="b"/>
                <a:pathLst>
                  <a:path w="273" h="268">
                    <a:moveTo>
                      <a:pt x="237" y="99"/>
                    </a:moveTo>
                    <a:lnTo>
                      <a:pt x="229" y="73"/>
                    </a:lnTo>
                    <a:lnTo>
                      <a:pt x="222" y="49"/>
                    </a:lnTo>
                    <a:lnTo>
                      <a:pt x="218" y="51"/>
                    </a:lnTo>
                    <a:lnTo>
                      <a:pt x="221" y="72"/>
                    </a:lnTo>
                    <a:lnTo>
                      <a:pt x="225" y="92"/>
                    </a:lnTo>
                    <a:lnTo>
                      <a:pt x="229" y="112"/>
                    </a:lnTo>
                    <a:lnTo>
                      <a:pt x="234" y="131"/>
                    </a:lnTo>
                    <a:lnTo>
                      <a:pt x="238" y="151"/>
                    </a:lnTo>
                    <a:lnTo>
                      <a:pt x="242" y="170"/>
                    </a:lnTo>
                    <a:lnTo>
                      <a:pt x="251" y="188"/>
                    </a:lnTo>
                    <a:lnTo>
                      <a:pt x="260" y="207"/>
                    </a:lnTo>
                    <a:lnTo>
                      <a:pt x="257" y="208"/>
                    </a:lnTo>
                    <a:lnTo>
                      <a:pt x="252" y="230"/>
                    </a:lnTo>
                    <a:lnTo>
                      <a:pt x="242" y="240"/>
                    </a:lnTo>
                    <a:lnTo>
                      <a:pt x="237" y="239"/>
                    </a:lnTo>
                    <a:lnTo>
                      <a:pt x="228" y="253"/>
                    </a:lnTo>
                    <a:lnTo>
                      <a:pt x="215" y="256"/>
                    </a:lnTo>
                    <a:lnTo>
                      <a:pt x="208" y="268"/>
                    </a:lnTo>
                    <a:lnTo>
                      <a:pt x="179" y="265"/>
                    </a:lnTo>
                    <a:lnTo>
                      <a:pt x="150" y="262"/>
                    </a:lnTo>
                    <a:lnTo>
                      <a:pt x="150" y="256"/>
                    </a:lnTo>
                    <a:lnTo>
                      <a:pt x="146" y="262"/>
                    </a:lnTo>
                    <a:lnTo>
                      <a:pt x="129" y="262"/>
                    </a:lnTo>
                    <a:lnTo>
                      <a:pt x="110" y="262"/>
                    </a:lnTo>
                    <a:lnTo>
                      <a:pt x="91" y="262"/>
                    </a:lnTo>
                    <a:lnTo>
                      <a:pt x="74" y="262"/>
                    </a:lnTo>
                    <a:lnTo>
                      <a:pt x="55" y="262"/>
                    </a:lnTo>
                    <a:lnTo>
                      <a:pt x="36" y="262"/>
                    </a:lnTo>
                    <a:lnTo>
                      <a:pt x="18" y="262"/>
                    </a:lnTo>
                    <a:lnTo>
                      <a:pt x="0" y="262"/>
                    </a:lnTo>
                    <a:lnTo>
                      <a:pt x="5" y="236"/>
                    </a:lnTo>
                    <a:lnTo>
                      <a:pt x="8" y="210"/>
                    </a:lnTo>
                    <a:lnTo>
                      <a:pt x="12" y="185"/>
                    </a:lnTo>
                    <a:lnTo>
                      <a:pt x="18" y="159"/>
                    </a:lnTo>
                    <a:lnTo>
                      <a:pt x="25" y="135"/>
                    </a:lnTo>
                    <a:lnTo>
                      <a:pt x="31" y="109"/>
                    </a:lnTo>
                    <a:lnTo>
                      <a:pt x="36" y="83"/>
                    </a:lnTo>
                    <a:lnTo>
                      <a:pt x="42" y="59"/>
                    </a:lnTo>
                    <a:lnTo>
                      <a:pt x="48" y="39"/>
                    </a:lnTo>
                    <a:lnTo>
                      <a:pt x="57" y="17"/>
                    </a:lnTo>
                    <a:lnTo>
                      <a:pt x="67" y="0"/>
                    </a:lnTo>
                    <a:lnTo>
                      <a:pt x="83" y="1"/>
                    </a:lnTo>
                    <a:lnTo>
                      <a:pt x="113" y="11"/>
                    </a:lnTo>
                    <a:lnTo>
                      <a:pt x="144" y="21"/>
                    </a:lnTo>
                    <a:lnTo>
                      <a:pt x="180" y="10"/>
                    </a:lnTo>
                    <a:lnTo>
                      <a:pt x="199" y="3"/>
                    </a:lnTo>
                    <a:lnTo>
                      <a:pt x="191" y="5"/>
                    </a:lnTo>
                    <a:lnTo>
                      <a:pt x="202" y="3"/>
                    </a:lnTo>
                    <a:lnTo>
                      <a:pt x="221" y="8"/>
                    </a:lnTo>
                    <a:lnTo>
                      <a:pt x="225" y="14"/>
                    </a:lnTo>
                    <a:lnTo>
                      <a:pt x="235" y="15"/>
                    </a:lnTo>
                    <a:lnTo>
                      <a:pt x="271" y="8"/>
                    </a:lnTo>
                    <a:lnTo>
                      <a:pt x="271" y="34"/>
                    </a:lnTo>
                    <a:lnTo>
                      <a:pt x="273" y="59"/>
                    </a:lnTo>
                    <a:lnTo>
                      <a:pt x="261" y="80"/>
                    </a:lnTo>
                    <a:lnTo>
                      <a:pt x="248" y="103"/>
                    </a:lnTo>
                    <a:lnTo>
                      <a:pt x="237" y="99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4142160" y="2131560"/>
                <a:ext cx="37080" cy="25200"/>
              </a:xfrm>
              <a:custGeom>
                <a:avLst/>
                <a:gdLst/>
                <a:ahLst/>
                <a:rect l="l" t="t" r="r" b="b"/>
                <a:pathLst>
                  <a:path w="73" h="38">
                    <a:moveTo>
                      <a:pt x="55" y="5"/>
                    </a:moveTo>
                    <a:lnTo>
                      <a:pt x="23" y="0"/>
                    </a:lnTo>
                    <a:lnTo>
                      <a:pt x="0" y="25"/>
                    </a:lnTo>
                    <a:lnTo>
                      <a:pt x="0" y="35"/>
                    </a:lnTo>
                    <a:lnTo>
                      <a:pt x="29" y="38"/>
                    </a:lnTo>
                    <a:lnTo>
                      <a:pt x="50" y="36"/>
                    </a:lnTo>
                    <a:lnTo>
                      <a:pt x="73" y="35"/>
                    </a:lnTo>
                    <a:lnTo>
                      <a:pt x="69" y="20"/>
                    </a:lnTo>
                    <a:lnTo>
                      <a:pt x="65" y="12"/>
                    </a:lnTo>
                    <a:lnTo>
                      <a:pt x="55" y="5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2960640" y="1965240"/>
                <a:ext cx="260640" cy="337320"/>
              </a:xfrm>
              <a:custGeom>
                <a:avLst/>
                <a:gdLst/>
                <a:ahLst/>
                <a:rect l="l" t="t" r="r" b="b"/>
                <a:pathLst>
                  <a:path w="498" h="480">
                    <a:moveTo>
                      <a:pt x="18" y="218"/>
                    </a:moveTo>
                    <a:lnTo>
                      <a:pt x="4" y="250"/>
                    </a:lnTo>
                    <a:lnTo>
                      <a:pt x="0" y="260"/>
                    </a:lnTo>
                    <a:lnTo>
                      <a:pt x="17" y="276"/>
                    </a:lnTo>
                    <a:lnTo>
                      <a:pt x="34" y="291"/>
                    </a:lnTo>
                    <a:lnTo>
                      <a:pt x="53" y="307"/>
                    </a:lnTo>
                    <a:lnTo>
                      <a:pt x="70" y="322"/>
                    </a:lnTo>
                    <a:lnTo>
                      <a:pt x="84" y="336"/>
                    </a:lnTo>
                    <a:lnTo>
                      <a:pt x="99" y="349"/>
                    </a:lnTo>
                    <a:lnTo>
                      <a:pt x="113" y="362"/>
                    </a:lnTo>
                    <a:lnTo>
                      <a:pt x="128" y="375"/>
                    </a:lnTo>
                    <a:lnTo>
                      <a:pt x="142" y="388"/>
                    </a:lnTo>
                    <a:lnTo>
                      <a:pt x="156" y="401"/>
                    </a:lnTo>
                    <a:lnTo>
                      <a:pt x="171" y="414"/>
                    </a:lnTo>
                    <a:lnTo>
                      <a:pt x="185" y="428"/>
                    </a:lnTo>
                    <a:lnTo>
                      <a:pt x="184" y="435"/>
                    </a:lnTo>
                    <a:lnTo>
                      <a:pt x="193" y="446"/>
                    </a:lnTo>
                    <a:lnTo>
                      <a:pt x="223" y="460"/>
                    </a:lnTo>
                    <a:lnTo>
                      <a:pt x="220" y="480"/>
                    </a:lnTo>
                    <a:lnTo>
                      <a:pt x="247" y="480"/>
                    </a:lnTo>
                    <a:lnTo>
                      <a:pt x="266" y="476"/>
                    </a:lnTo>
                    <a:lnTo>
                      <a:pt x="285" y="473"/>
                    </a:lnTo>
                    <a:lnTo>
                      <a:pt x="308" y="453"/>
                    </a:lnTo>
                    <a:lnTo>
                      <a:pt x="331" y="434"/>
                    </a:lnTo>
                    <a:lnTo>
                      <a:pt x="361" y="417"/>
                    </a:lnTo>
                    <a:lnTo>
                      <a:pt x="391" y="398"/>
                    </a:lnTo>
                    <a:lnTo>
                      <a:pt x="421" y="381"/>
                    </a:lnTo>
                    <a:lnTo>
                      <a:pt x="452" y="362"/>
                    </a:lnTo>
                    <a:lnTo>
                      <a:pt x="446" y="340"/>
                    </a:lnTo>
                    <a:lnTo>
                      <a:pt x="420" y="336"/>
                    </a:lnTo>
                    <a:lnTo>
                      <a:pt x="417" y="313"/>
                    </a:lnTo>
                    <a:lnTo>
                      <a:pt x="409" y="291"/>
                    </a:lnTo>
                    <a:lnTo>
                      <a:pt x="423" y="281"/>
                    </a:lnTo>
                    <a:lnTo>
                      <a:pt x="432" y="250"/>
                    </a:lnTo>
                    <a:lnTo>
                      <a:pt x="440" y="219"/>
                    </a:lnTo>
                    <a:lnTo>
                      <a:pt x="440" y="188"/>
                    </a:lnTo>
                    <a:lnTo>
                      <a:pt x="445" y="181"/>
                    </a:lnTo>
                    <a:lnTo>
                      <a:pt x="449" y="156"/>
                    </a:lnTo>
                    <a:lnTo>
                      <a:pt x="453" y="130"/>
                    </a:lnTo>
                    <a:lnTo>
                      <a:pt x="443" y="110"/>
                    </a:lnTo>
                    <a:lnTo>
                      <a:pt x="436" y="84"/>
                    </a:lnTo>
                    <a:lnTo>
                      <a:pt x="453" y="64"/>
                    </a:lnTo>
                    <a:lnTo>
                      <a:pt x="472" y="44"/>
                    </a:lnTo>
                    <a:lnTo>
                      <a:pt x="489" y="8"/>
                    </a:lnTo>
                    <a:lnTo>
                      <a:pt x="498" y="0"/>
                    </a:lnTo>
                    <a:lnTo>
                      <a:pt x="463" y="0"/>
                    </a:lnTo>
                    <a:lnTo>
                      <a:pt x="445" y="0"/>
                    </a:lnTo>
                    <a:lnTo>
                      <a:pt x="417" y="3"/>
                    </a:lnTo>
                    <a:lnTo>
                      <a:pt x="391" y="5"/>
                    </a:lnTo>
                    <a:lnTo>
                      <a:pt x="367" y="5"/>
                    </a:lnTo>
                    <a:lnTo>
                      <a:pt x="332" y="13"/>
                    </a:lnTo>
                    <a:lnTo>
                      <a:pt x="299" y="22"/>
                    </a:lnTo>
                    <a:lnTo>
                      <a:pt x="285" y="28"/>
                    </a:lnTo>
                    <a:lnTo>
                      <a:pt x="257" y="39"/>
                    </a:lnTo>
                    <a:lnTo>
                      <a:pt x="230" y="49"/>
                    </a:lnTo>
                    <a:lnTo>
                      <a:pt x="233" y="55"/>
                    </a:lnTo>
                    <a:lnTo>
                      <a:pt x="229" y="75"/>
                    </a:lnTo>
                    <a:lnTo>
                      <a:pt x="223" y="96"/>
                    </a:lnTo>
                    <a:lnTo>
                      <a:pt x="229" y="119"/>
                    </a:lnTo>
                    <a:lnTo>
                      <a:pt x="220" y="127"/>
                    </a:lnTo>
                    <a:lnTo>
                      <a:pt x="194" y="129"/>
                    </a:lnTo>
                    <a:lnTo>
                      <a:pt x="158" y="140"/>
                    </a:lnTo>
                    <a:lnTo>
                      <a:pt x="152" y="156"/>
                    </a:lnTo>
                    <a:lnTo>
                      <a:pt x="131" y="169"/>
                    </a:lnTo>
                    <a:lnTo>
                      <a:pt x="109" y="181"/>
                    </a:lnTo>
                    <a:lnTo>
                      <a:pt x="86" y="189"/>
                    </a:lnTo>
                    <a:lnTo>
                      <a:pt x="63" y="198"/>
                    </a:lnTo>
                    <a:lnTo>
                      <a:pt x="41" y="208"/>
                    </a:lnTo>
                    <a:lnTo>
                      <a:pt x="18" y="218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3672360" y="2169720"/>
                <a:ext cx="1080" cy="39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0"/>
                    </a:moveTo>
                    <a:lnTo>
                      <a:pt x="0" y="6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4128120" y="2163240"/>
                <a:ext cx="51480" cy="107640"/>
              </a:xfrm>
              <a:custGeom>
                <a:avLst/>
                <a:gdLst/>
                <a:ahLst/>
                <a:rect l="l" t="t" r="r" b="b"/>
                <a:pathLst>
                  <a:path w="99" h="154">
                    <a:moveTo>
                      <a:pt x="23" y="128"/>
                    </a:moveTo>
                    <a:lnTo>
                      <a:pt x="22" y="130"/>
                    </a:lnTo>
                    <a:lnTo>
                      <a:pt x="17" y="122"/>
                    </a:lnTo>
                    <a:lnTo>
                      <a:pt x="17" y="125"/>
                    </a:lnTo>
                    <a:lnTo>
                      <a:pt x="14" y="105"/>
                    </a:lnTo>
                    <a:lnTo>
                      <a:pt x="13" y="83"/>
                    </a:lnTo>
                    <a:lnTo>
                      <a:pt x="13" y="69"/>
                    </a:lnTo>
                    <a:lnTo>
                      <a:pt x="0" y="53"/>
                    </a:lnTo>
                    <a:lnTo>
                      <a:pt x="7" y="42"/>
                    </a:lnTo>
                    <a:lnTo>
                      <a:pt x="19" y="37"/>
                    </a:lnTo>
                    <a:lnTo>
                      <a:pt x="6" y="20"/>
                    </a:lnTo>
                    <a:lnTo>
                      <a:pt x="13" y="0"/>
                    </a:lnTo>
                    <a:lnTo>
                      <a:pt x="26" y="7"/>
                    </a:lnTo>
                    <a:lnTo>
                      <a:pt x="32" y="14"/>
                    </a:lnTo>
                    <a:lnTo>
                      <a:pt x="39" y="10"/>
                    </a:lnTo>
                    <a:lnTo>
                      <a:pt x="42" y="32"/>
                    </a:lnTo>
                    <a:lnTo>
                      <a:pt x="66" y="34"/>
                    </a:lnTo>
                    <a:lnTo>
                      <a:pt x="91" y="37"/>
                    </a:lnTo>
                    <a:lnTo>
                      <a:pt x="99" y="46"/>
                    </a:lnTo>
                    <a:lnTo>
                      <a:pt x="94" y="58"/>
                    </a:lnTo>
                    <a:lnTo>
                      <a:pt x="73" y="69"/>
                    </a:lnTo>
                    <a:lnTo>
                      <a:pt x="73" y="91"/>
                    </a:lnTo>
                    <a:lnTo>
                      <a:pt x="76" y="96"/>
                    </a:lnTo>
                    <a:lnTo>
                      <a:pt x="92" y="76"/>
                    </a:lnTo>
                    <a:lnTo>
                      <a:pt x="95" y="101"/>
                    </a:lnTo>
                    <a:lnTo>
                      <a:pt x="99" y="124"/>
                    </a:lnTo>
                    <a:lnTo>
                      <a:pt x="98" y="140"/>
                    </a:lnTo>
                    <a:lnTo>
                      <a:pt x="89" y="145"/>
                    </a:lnTo>
                    <a:lnTo>
                      <a:pt x="91" y="154"/>
                    </a:lnTo>
                    <a:lnTo>
                      <a:pt x="82" y="128"/>
                    </a:lnTo>
                    <a:lnTo>
                      <a:pt x="73" y="102"/>
                    </a:lnTo>
                    <a:lnTo>
                      <a:pt x="60" y="99"/>
                    </a:lnTo>
                    <a:lnTo>
                      <a:pt x="55" y="83"/>
                    </a:lnTo>
                    <a:lnTo>
                      <a:pt x="34" y="70"/>
                    </a:lnTo>
                    <a:lnTo>
                      <a:pt x="27" y="70"/>
                    </a:lnTo>
                    <a:lnTo>
                      <a:pt x="49" y="86"/>
                    </a:lnTo>
                    <a:lnTo>
                      <a:pt x="53" y="101"/>
                    </a:lnTo>
                    <a:lnTo>
                      <a:pt x="53" y="108"/>
                    </a:lnTo>
                    <a:lnTo>
                      <a:pt x="43" y="128"/>
                    </a:lnTo>
                    <a:lnTo>
                      <a:pt x="40" y="121"/>
                    </a:lnTo>
                    <a:lnTo>
                      <a:pt x="36" y="122"/>
                    </a:lnTo>
                    <a:lnTo>
                      <a:pt x="29" y="128"/>
                    </a:lnTo>
                    <a:lnTo>
                      <a:pt x="23" y="128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8" name=""/>
            <p:cNvSpPr/>
            <p:nvPr/>
          </p:nvSpPr>
          <p:spPr>
            <a:xfrm>
              <a:off x="3489480" y="1990800"/>
              <a:ext cx="28440" cy="19080"/>
            </a:xfrm>
            <a:custGeom>
              <a:avLst/>
              <a:gdLst/>
              <a:ahLst/>
              <a:rect l="l" t="t" r="r" b="b"/>
              <a:pathLst>
                <a:path w="54" h="27">
                  <a:moveTo>
                    <a:pt x="54" y="0"/>
                  </a:moveTo>
                  <a:lnTo>
                    <a:pt x="20" y="8"/>
                  </a:lnTo>
                  <a:lnTo>
                    <a:pt x="0" y="17"/>
                  </a:lnTo>
                  <a:lnTo>
                    <a:pt x="2" y="27"/>
                  </a:lnTo>
                  <a:lnTo>
                    <a:pt x="31" y="18"/>
                  </a:lnTo>
                  <a:lnTo>
                    <a:pt x="33" y="13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173400" y="2036880"/>
              <a:ext cx="214200" cy="258480"/>
            </a:xfrm>
            <a:custGeom>
              <a:avLst/>
              <a:gdLst/>
              <a:ahLst/>
              <a:rect l="l" t="t" r="r" b="b"/>
              <a:pathLst>
                <a:path w="406" h="370">
                  <a:moveTo>
                    <a:pt x="303" y="370"/>
                  </a:moveTo>
                  <a:lnTo>
                    <a:pt x="306" y="356"/>
                  </a:lnTo>
                  <a:lnTo>
                    <a:pt x="329" y="356"/>
                  </a:lnTo>
                  <a:lnTo>
                    <a:pt x="334" y="329"/>
                  </a:lnTo>
                  <a:lnTo>
                    <a:pt x="339" y="303"/>
                  </a:lnTo>
                  <a:lnTo>
                    <a:pt x="344" y="277"/>
                  </a:lnTo>
                  <a:lnTo>
                    <a:pt x="347" y="251"/>
                  </a:lnTo>
                  <a:lnTo>
                    <a:pt x="351" y="226"/>
                  </a:lnTo>
                  <a:lnTo>
                    <a:pt x="357" y="200"/>
                  </a:lnTo>
                  <a:lnTo>
                    <a:pt x="364" y="176"/>
                  </a:lnTo>
                  <a:lnTo>
                    <a:pt x="370" y="150"/>
                  </a:lnTo>
                  <a:lnTo>
                    <a:pt x="375" y="124"/>
                  </a:lnTo>
                  <a:lnTo>
                    <a:pt x="381" y="100"/>
                  </a:lnTo>
                  <a:lnTo>
                    <a:pt x="387" y="80"/>
                  </a:lnTo>
                  <a:lnTo>
                    <a:pt x="396" y="58"/>
                  </a:lnTo>
                  <a:lnTo>
                    <a:pt x="406" y="41"/>
                  </a:lnTo>
                  <a:lnTo>
                    <a:pt x="397" y="32"/>
                  </a:lnTo>
                  <a:lnTo>
                    <a:pt x="365" y="23"/>
                  </a:lnTo>
                  <a:lnTo>
                    <a:pt x="365" y="13"/>
                  </a:lnTo>
                  <a:lnTo>
                    <a:pt x="338" y="6"/>
                  </a:lnTo>
                  <a:lnTo>
                    <a:pt x="316" y="18"/>
                  </a:lnTo>
                  <a:lnTo>
                    <a:pt x="295" y="28"/>
                  </a:lnTo>
                  <a:lnTo>
                    <a:pt x="282" y="64"/>
                  </a:lnTo>
                  <a:lnTo>
                    <a:pt x="253" y="78"/>
                  </a:lnTo>
                  <a:lnTo>
                    <a:pt x="231" y="65"/>
                  </a:lnTo>
                  <a:lnTo>
                    <a:pt x="210" y="54"/>
                  </a:lnTo>
                  <a:lnTo>
                    <a:pt x="187" y="45"/>
                  </a:lnTo>
                  <a:lnTo>
                    <a:pt x="187" y="20"/>
                  </a:lnTo>
                  <a:lnTo>
                    <a:pt x="164" y="15"/>
                  </a:lnTo>
                  <a:lnTo>
                    <a:pt x="141" y="9"/>
                  </a:lnTo>
                  <a:lnTo>
                    <a:pt x="110" y="0"/>
                  </a:lnTo>
                  <a:lnTo>
                    <a:pt x="100" y="22"/>
                  </a:lnTo>
                  <a:lnTo>
                    <a:pt x="80" y="35"/>
                  </a:lnTo>
                  <a:lnTo>
                    <a:pt x="61" y="48"/>
                  </a:lnTo>
                  <a:lnTo>
                    <a:pt x="51" y="69"/>
                  </a:lnTo>
                  <a:lnTo>
                    <a:pt x="36" y="80"/>
                  </a:lnTo>
                  <a:lnTo>
                    <a:pt x="31" y="87"/>
                  </a:lnTo>
                  <a:lnTo>
                    <a:pt x="31" y="118"/>
                  </a:lnTo>
                  <a:lnTo>
                    <a:pt x="23" y="149"/>
                  </a:lnTo>
                  <a:lnTo>
                    <a:pt x="14" y="180"/>
                  </a:lnTo>
                  <a:lnTo>
                    <a:pt x="0" y="190"/>
                  </a:lnTo>
                  <a:lnTo>
                    <a:pt x="8" y="212"/>
                  </a:lnTo>
                  <a:lnTo>
                    <a:pt x="11" y="235"/>
                  </a:lnTo>
                  <a:lnTo>
                    <a:pt x="37" y="239"/>
                  </a:lnTo>
                  <a:lnTo>
                    <a:pt x="43" y="261"/>
                  </a:lnTo>
                  <a:lnTo>
                    <a:pt x="74" y="270"/>
                  </a:lnTo>
                  <a:lnTo>
                    <a:pt x="90" y="285"/>
                  </a:lnTo>
                  <a:lnTo>
                    <a:pt x="109" y="275"/>
                  </a:lnTo>
                  <a:lnTo>
                    <a:pt x="136" y="262"/>
                  </a:lnTo>
                  <a:lnTo>
                    <a:pt x="157" y="275"/>
                  </a:lnTo>
                  <a:lnTo>
                    <a:pt x="178" y="288"/>
                  </a:lnTo>
                  <a:lnTo>
                    <a:pt x="198" y="303"/>
                  </a:lnTo>
                  <a:lnTo>
                    <a:pt x="220" y="316"/>
                  </a:lnTo>
                  <a:lnTo>
                    <a:pt x="240" y="329"/>
                  </a:lnTo>
                  <a:lnTo>
                    <a:pt x="262" y="343"/>
                  </a:lnTo>
                  <a:lnTo>
                    <a:pt x="282" y="356"/>
                  </a:lnTo>
                  <a:lnTo>
                    <a:pt x="303" y="370"/>
                  </a:lnTo>
                  <a:close/>
                </a:path>
              </a:pathLst>
            </a:custGeom>
            <a:solidFill>
              <a:srgbClr val="00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281400" y="1984320"/>
              <a:ext cx="3240" cy="32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3"/>
                  </a:moveTo>
                  <a:lnTo>
                    <a:pt x="1" y="4"/>
                  </a:lnTo>
                  <a:lnTo>
                    <a:pt x="0" y="0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906640" y="1987560"/>
              <a:ext cx="176400" cy="155520"/>
            </a:xfrm>
            <a:custGeom>
              <a:avLst/>
              <a:gdLst/>
              <a:ahLst/>
              <a:rect l="l" t="t" r="r" b="b"/>
              <a:pathLst>
                <a:path w="334" h="222">
                  <a:moveTo>
                    <a:pt x="209" y="55"/>
                  </a:moveTo>
                  <a:lnTo>
                    <a:pt x="181" y="68"/>
                  </a:lnTo>
                  <a:lnTo>
                    <a:pt x="154" y="82"/>
                  </a:lnTo>
                  <a:lnTo>
                    <a:pt x="135" y="102"/>
                  </a:lnTo>
                  <a:lnTo>
                    <a:pt x="115" y="124"/>
                  </a:lnTo>
                  <a:lnTo>
                    <a:pt x="108" y="147"/>
                  </a:lnTo>
                  <a:lnTo>
                    <a:pt x="89" y="167"/>
                  </a:lnTo>
                  <a:lnTo>
                    <a:pt x="73" y="186"/>
                  </a:lnTo>
                  <a:lnTo>
                    <a:pt x="52" y="199"/>
                  </a:lnTo>
                  <a:lnTo>
                    <a:pt x="30" y="210"/>
                  </a:lnTo>
                  <a:lnTo>
                    <a:pt x="0" y="222"/>
                  </a:lnTo>
                  <a:lnTo>
                    <a:pt x="26" y="222"/>
                  </a:lnTo>
                  <a:lnTo>
                    <a:pt x="53" y="222"/>
                  </a:lnTo>
                  <a:lnTo>
                    <a:pt x="79" y="222"/>
                  </a:lnTo>
                  <a:lnTo>
                    <a:pt x="105" y="222"/>
                  </a:lnTo>
                  <a:lnTo>
                    <a:pt x="119" y="190"/>
                  </a:lnTo>
                  <a:lnTo>
                    <a:pt x="142" y="180"/>
                  </a:lnTo>
                  <a:lnTo>
                    <a:pt x="164" y="170"/>
                  </a:lnTo>
                  <a:lnTo>
                    <a:pt x="187" y="161"/>
                  </a:lnTo>
                  <a:lnTo>
                    <a:pt x="210" y="153"/>
                  </a:lnTo>
                  <a:lnTo>
                    <a:pt x="232" y="141"/>
                  </a:lnTo>
                  <a:lnTo>
                    <a:pt x="253" y="128"/>
                  </a:lnTo>
                  <a:lnTo>
                    <a:pt x="259" y="112"/>
                  </a:lnTo>
                  <a:lnTo>
                    <a:pt x="295" y="101"/>
                  </a:lnTo>
                  <a:lnTo>
                    <a:pt x="321" y="99"/>
                  </a:lnTo>
                  <a:lnTo>
                    <a:pt x="330" y="91"/>
                  </a:lnTo>
                  <a:lnTo>
                    <a:pt x="324" y="68"/>
                  </a:lnTo>
                  <a:lnTo>
                    <a:pt x="330" y="47"/>
                  </a:lnTo>
                  <a:lnTo>
                    <a:pt x="334" y="27"/>
                  </a:lnTo>
                  <a:lnTo>
                    <a:pt x="331" y="21"/>
                  </a:lnTo>
                  <a:lnTo>
                    <a:pt x="318" y="16"/>
                  </a:lnTo>
                  <a:lnTo>
                    <a:pt x="311" y="17"/>
                  </a:lnTo>
                  <a:lnTo>
                    <a:pt x="273" y="16"/>
                  </a:lnTo>
                  <a:lnTo>
                    <a:pt x="269" y="0"/>
                  </a:lnTo>
                  <a:lnTo>
                    <a:pt x="250" y="10"/>
                  </a:lnTo>
                  <a:lnTo>
                    <a:pt x="229" y="33"/>
                  </a:lnTo>
                  <a:lnTo>
                    <a:pt x="209" y="55"/>
                  </a:lnTo>
                  <a:close/>
                </a:path>
              </a:pathLst>
            </a:custGeom>
            <a:solidFill>
              <a:srgbClr val="00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379680" y="2587680"/>
              <a:ext cx="68400" cy="108000"/>
            </a:xfrm>
            <a:custGeom>
              <a:avLst/>
              <a:gdLst/>
              <a:ahLst/>
              <a:rect l="l" t="t" r="r" b="b"/>
              <a:pathLst>
                <a:path w="129" h="151">
                  <a:moveTo>
                    <a:pt x="116" y="21"/>
                  </a:moveTo>
                  <a:lnTo>
                    <a:pt x="108" y="0"/>
                  </a:lnTo>
                  <a:lnTo>
                    <a:pt x="96" y="13"/>
                  </a:lnTo>
                  <a:lnTo>
                    <a:pt x="69" y="13"/>
                  </a:lnTo>
                  <a:lnTo>
                    <a:pt x="57" y="16"/>
                  </a:lnTo>
                  <a:lnTo>
                    <a:pt x="52" y="13"/>
                  </a:lnTo>
                  <a:lnTo>
                    <a:pt x="34" y="14"/>
                  </a:lnTo>
                  <a:lnTo>
                    <a:pt x="31" y="20"/>
                  </a:lnTo>
                  <a:lnTo>
                    <a:pt x="30" y="43"/>
                  </a:lnTo>
                  <a:lnTo>
                    <a:pt x="41" y="55"/>
                  </a:lnTo>
                  <a:lnTo>
                    <a:pt x="26" y="73"/>
                  </a:lnTo>
                  <a:lnTo>
                    <a:pt x="10" y="91"/>
                  </a:lnTo>
                  <a:lnTo>
                    <a:pt x="4" y="121"/>
                  </a:lnTo>
                  <a:lnTo>
                    <a:pt x="0" y="151"/>
                  </a:lnTo>
                  <a:lnTo>
                    <a:pt x="7" y="151"/>
                  </a:lnTo>
                  <a:lnTo>
                    <a:pt x="21" y="142"/>
                  </a:lnTo>
                  <a:lnTo>
                    <a:pt x="41" y="142"/>
                  </a:lnTo>
                  <a:lnTo>
                    <a:pt x="62" y="141"/>
                  </a:lnTo>
                  <a:lnTo>
                    <a:pt x="83" y="141"/>
                  </a:lnTo>
                  <a:lnTo>
                    <a:pt x="103" y="141"/>
                  </a:lnTo>
                  <a:lnTo>
                    <a:pt x="102" y="111"/>
                  </a:lnTo>
                  <a:lnTo>
                    <a:pt x="119" y="83"/>
                  </a:lnTo>
                  <a:lnTo>
                    <a:pt x="129" y="63"/>
                  </a:lnTo>
                  <a:lnTo>
                    <a:pt x="124" y="42"/>
                  </a:lnTo>
                  <a:lnTo>
                    <a:pt x="116" y="21"/>
                  </a:lnTo>
                  <a:close/>
                </a:path>
              </a:pathLst>
            </a:custGeom>
            <a:solidFill>
              <a:srgbClr val="00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164040" y="2568600"/>
              <a:ext cx="237960" cy="355680"/>
            </a:xfrm>
            <a:custGeom>
              <a:avLst/>
              <a:gdLst/>
              <a:ahLst/>
              <a:rect l="l" t="t" r="r" b="b"/>
              <a:pathLst>
                <a:path w="452" h="506">
                  <a:moveTo>
                    <a:pt x="411" y="180"/>
                  </a:moveTo>
                  <a:lnTo>
                    <a:pt x="402" y="199"/>
                  </a:lnTo>
                  <a:lnTo>
                    <a:pt x="396" y="215"/>
                  </a:lnTo>
                  <a:lnTo>
                    <a:pt x="398" y="216"/>
                  </a:lnTo>
                  <a:lnTo>
                    <a:pt x="398" y="217"/>
                  </a:lnTo>
                  <a:lnTo>
                    <a:pt x="399" y="219"/>
                  </a:lnTo>
                  <a:lnTo>
                    <a:pt x="404" y="241"/>
                  </a:lnTo>
                  <a:lnTo>
                    <a:pt x="409" y="264"/>
                  </a:lnTo>
                  <a:lnTo>
                    <a:pt x="411" y="282"/>
                  </a:lnTo>
                  <a:lnTo>
                    <a:pt x="414" y="302"/>
                  </a:lnTo>
                  <a:lnTo>
                    <a:pt x="424" y="326"/>
                  </a:lnTo>
                  <a:lnTo>
                    <a:pt x="435" y="344"/>
                  </a:lnTo>
                  <a:lnTo>
                    <a:pt x="447" y="364"/>
                  </a:lnTo>
                  <a:lnTo>
                    <a:pt x="425" y="369"/>
                  </a:lnTo>
                  <a:lnTo>
                    <a:pt x="404" y="374"/>
                  </a:lnTo>
                  <a:lnTo>
                    <a:pt x="392" y="395"/>
                  </a:lnTo>
                  <a:lnTo>
                    <a:pt x="399" y="418"/>
                  </a:lnTo>
                  <a:lnTo>
                    <a:pt x="401" y="441"/>
                  </a:lnTo>
                  <a:lnTo>
                    <a:pt x="401" y="464"/>
                  </a:lnTo>
                  <a:lnTo>
                    <a:pt x="427" y="480"/>
                  </a:lnTo>
                  <a:lnTo>
                    <a:pt x="432" y="471"/>
                  </a:lnTo>
                  <a:lnTo>
                    <a:pt x="432" y="506"/>
                  </a:lnTo>
                  <a:lnTo>
                    <a:pt x="427" y="503"/>
                  </a:lnTo>
                  <a:lnTo>
                    <a:pt x="416" y="504"/>
                  </a:lnTo>
                  <a:lnTo>
                    <a:pt x="393" y="478"/>
                  </a:lnTo>
                  <a:lnTo>
                    <a:pt x="378" y="467"/>
                  </a:lnTo>
                  <a:lnTo>
                    <a:pt x="366" y="457"/>
                  </a:lnTo>
                  <a:lnTo>
                    <a:pt x="357" y="467"/>
                  </a:lnTo>
                  <a:lnTo>
                    <a:pt x="324" y="455"/>
                  </a:lnTo>
                  <a:lnTo>
                    <a:pt x="320" y="446"/>
                  </a:lnTo>
                  <a:lnTo>
                    <a:pt x="301" y="449"/>
                  </a:lnTo>
                  <a:lnTo>
                    <a:pt x="291" y="436"/>
                  </a:lnTo>
                  <a:lnTo>
                    <a:pt x="271" y="441"/>
                  </a:lnTo>
                  <a:lnTo>
                    <a:pt x="252" y="445"/>
                  </a:lnTo>
                  <a:lnTo>
                    <a:pt x="251" y="435"/>
                  </a:lnTo>
                  <a:lnTo>
                    <a:pt x="239" y="406"/>
                  </a:lnTo>
                  <a:lnTo>
                    <a:pt x="236" y="376"/>
                  </a:lnTo>
                  <a:lnTo>
                    <a:pt x="234" y="344"/>
                  </a:lnTo>
                  <a:lnTo>
                    <a:pt x="202" y="340"/>
                  </a:lnTo>
                  <a:lnTo>
                    <a:pt x="202" y="334"/>
                  </a:lnTo>
                  <a:lnTo>
                    <a:pt x="177" y="333"/>
                  </a:lnTo>
                  <a:lnTo>
                    <a:pt x="175" y="356"/>
                  </a:lnTo>
                  <a:lnTo>
                    <a:pt x="146" y="362"/>
                  </a:lnTo>
                  <a:lnTo>
                    <a:pt x="128" y="356"/>
                  </a:lnTo>
                  <a:lnTo>
                    <a:pt x="117" y="330"/>
                  </a:lnTo>
                  <a:lnTo>
                    <a:pt x="105" y="304"/>
                  </a:lnTo>
                  <a:lnTo>
                    <a:pt x="85" y="304"/>
                  </a:lnTo>
                  <a:lnTo>
                    <a:pt x="65" y="302"/>
                  </a:lnTo>
                  <a:lnTo>
                    <a:pt x="45" y="302"/>
                  </a:lnTo>
                  <a:lnTo>
                    <a:pt x="23" y="301"/>
                  </a:lnTo>
                  <a:lnTo>
                    <a:pt x="5" y="304"/>
                  </a:lnTo>
                  <a:lnTo>
                    <a:pt x="0" y="300"/>
                  </a:lnTo>
                  <a:lnTo>
                    <a:pt x="7" y="297"/>
                  </a:lnTo>
                  <a:lnTo>
                    <a:pt x="9" y="277"/>
                  </a:lnTo>
                  <a:lnTo>
                    <a:pt x="19" y="268"/>
                  </a:lnTo>
                  <a:lnTo>
                    <a:pt x="32" y="272"/>
                  </a:lnTo>
                  <a:lnTo>
                    <a:pt x="39" y="264"/>
                  </a:lnTo>
                  <a:lnTo>
                    <a:pt x="52" y="262"/>
                  </a:lnTo>
                  <a:lnTo>
                    <a:pt x="55" y="275"/>
                  </a:lnTo>
                  <a:lnTo>
                    <a:pt x="74" y="256"/>
                  </a:lnTo>
                  <a:lnTo>
                    <a:pt x="91" y="239"/>
                  </a:lnTo>
                  <a:lnTo>
                    <a:pt x="94" y="217"/>
                  </a:lnTo>
                  <a:lnTo>
                    <a:pt x="95" y="197"/>
                  </a:lnTo>
                  <a:lnTo>
                    <a:pt x="111" y="176"/>
                  </a:lnTo>
                  <a:lnTo>
                    <a:pt x="127" y="153"/>
                  </a:lnTo>
                  <a:lnTo>
                    <a:pt x="131" y="133"/>
                  </a:lnTo>
                  <a:lnTo>
                    <a:pt x="136" y="112"/>
                  </a:lnTo>
                  <a:lnTo>
                    <a:pt x="140" y="92"/>
                  </a:lnTo>
                  <a:lnTo>
                    <a:pt x="144" y="72"/>
                  </a:lnTo>
                  <a:lnTo>
                    <a:pt x="151" y="49"/>
                  </a:lnTo>
                  <a:lnTo>
                    <a:pt x="150" y="27"/>
                  </a:lnTo>
                  <a:lnTo>
                    <a:pt x="172" y="4"/>
                  </a:lnTo>
                  <a:lnTo>
                    <a:pt x="195" y="17"/>
                  </a:lnTo>
                  <a:lnTo>
                    <a:pt x="218" y="24"/>
                  </a:lnTo>
                  <a:lnTo>
                    <a:pt x="239" y="30"/>
                  </a:lnTo>
                  <a:lnTo>
                    <a:pt x="251" y="14"/>
                  </a:lnTo>
                  <a:lnTo>
                    <a:pt x="262" y="16"/>
                  </a:lnTo>
                  <a:lnTo>
                    <a:pt x="287" y="7"/>
                  </a:lnTo>
                  <a:lnTo>
                    <a:pt x="304" y="7"/>
                  </a:lnTo>
                  <a:lnTo>
                    <a:pt x="313" y="0"/>
                  </a:lnTo>
                  <a:lnTo>
                    <a:pt x="331" y="1"/>
                  </a:lnTo>
                  <a:lnTo>
                    <a:pt x="350" y="4"/>
                  </a:lnTo>
                  <a:lnTo>
                    <a:pt x="363" y="7"/>
                  </a:lnTo>
                  <a:lnTo>
                    <a:pt x="369" y="13"/>
                  </a:lnTo>
                  <a:lnTo>
                    <a:pt x="388" y="24"/>
                  </a:lnTo>
                  <a:lnTo>
                    <a:pt x="401" y="23"/>
                  </a:lnTo>
                  <a:lnTo>
                    <a:pt x="411" y="16"/>
                  </a:lnTo>
                  <a:lnTo>
                    <a:pt x="427" y="32"/>
                  </a:lnTo>
                  <a:lnTo>
                    <a:pt x="442" y="49"/>
                  </a:lnTo>
                  <a:lnTo>
                    <a:pt x="441" y="72"/>
                  </a:lnTo>
                  <a:lnTo>
                    <a:pt x="452" y="84"/>
                  </a:lnTo>
                  <a:lnTo>
                    <a:pt x="437" y="102"/>
                  </a:lnTo>
                  <a:lnTo>
                    <a:pt x="421" y="120"/>
                  </a:lnTo>
                  <a:lnTo>
                    <a:pt x="415" y="150"/>
                  </a:lnTo>
                  <a:lnTo>
                    <a:pt x="411" y="180"/>
                  </a:lnTo>
                  <a:close/>
                </a:path>
              </a:pathLst>
            </a:custGeom>
            <a:solidFill>
              <a:srgbClr val="00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295800" y="2824200"/>
              <a:ext cx="141120" cy="189000"/>
            </a:xfrm>
            <a:custGeom>
              <a:avLst/>
              <a:gdLst/>
              <a:ahLst/>
              <a:rect l="l" t="t" r="r" b="b"/>
              <a:pathLst>
                <a:path w="270" h="268">
                  <a:moveTo>
                    <a:pt x="48" y="129"/>
                  </a:moveTo>
                  <a:lnTo>
                    <a:pt x="25" y="130"/>
                  </a:lnTo>
                  <a:lnTo>
                    <a:pt x="0" y="130"/>
                  </a:lnTo>
                  <a:lnTo>
                    <a:pt x="3" y="152"/>
                  </a:lnTo>
                  <a:lnTo>
                    <a:pt x="6" y="173"/>
                  </a:lnTo>
                  <a:lnTo>
                    <a:pt x="9" y="195"/>
                  </a:lnTo>
                  <a:lnTo>
                    <a:pt x="12" y="216"/>
                  </a:lnTo>
                  <a:lnTo>
                    <a:pt x="32" y="235"/>
                  </a:lnTo>
                  <a:lnTo>
                    <a:pt x="52" y="255"/>
                  </a:lnTo>
                  <a:lnTo>
                    <a:pt x="68" y="252"/>
                  </a:lnTo>
                  <a:lnTo>
                    <a:pt x="95" y="260"/>
                  </a:lnTo>
                  <a:lnTo>
                    <a:pt x="130" y="268"/>
                  </a:lnTo>
                  <a:lnTo>
                    <a:pt x="149" y="248"/>
                  </a:lnTo>
                  <a:lnTo>
                    <a:pt x="170" y="227"/>
                  </a:lnTo>
                  <a:lnTo>
                    <a:pt x="175" y="211"/>
                  </a:lnTo>
                  <a:lnTo>
                    <a:pt x="192" y="206"/>
                  </a:lnTo>
                  <a:lnTo>
                    <a:pt x="208" y="202"/>
                  </a:lnTo>
                  <a:lnTo>
                    <a:pt x="202" y="188"/>
                  </a:lnTo>
                  <a:lnTo>
                    <a:pt x="218" y="180"/>
                  </a:lnTo>
                  <a:lnTo>
                    <a:pt x="235" y="172"/>
                  </a:lnTo>
                  <a:lnTo>
                    <a:pt x="252" y="165"/>
                  </a:lnTo>
                  <a:lnTo>
                    <a:pt x="270" y="157"/>
                  </a:lnTo>
                  <a:lnTo>
                    <a:pt x="257" y="146"/>
                  </a:lnTo>
                  <a:lnTo>
                    <a:pt x="267" y="120"/>
                  </a:lnTo>
                  <a:lnTo>
                    <a:pt x="270" y="113"/>
                  </a:lnTo>
                  <a:lnTo>
                    <a:pt x="267" y="91"/>
                  </a:lnTo>
                  <a:lnTo>
                    <a:pt x="265" y="71"/>
                  </a:lnTo>
                  <a:lnTo>
                    <a:pt x="270" y="61"/>
                  </a:lnTo>
                  <a:lnTo>
                    <a:pt x="254" y="39"/>
                  </a:lnTo>
                  <a:lnTo>
                    <a:pt x="251" y="34"/>
                  </a:lnTo>
                  <a:lnTo>
                    <a:pt x="225" y="19"/>
                  </a:lnTo>
                  <a:lnTo>
                    <a:pt x="199" y="5"/>
                  </a:lnTo>
                  <a:lnTo>
                    <a:pt x="198" y="0"/>
                  </a:lnTo>
                  <a:lnTo>
                    <a:pt x="176" y="5"/>
                  </a:lnTo>
                  <a:lnTo>
                    <a:pt x="155" y="10"/>
                  </a:lnTo>
                  <a:lnTo>
                    <a:pt x="143" y="31"/>
                  </a:lnTo>
                  <a:lnTo>
                    <a:pt x="150" y="54"/>
                  </a:lnTo>
                  <a:lnTo>
                    <a:pt x="152" y="77"/>
                  </a:lnTo>
                  <a:lnTo>
                    <a:pt x="152" y="100"/>
                  </a:lnTo>
                  <a:lnTo>
                    <a:pt x="178" y="116"/>
                  </a:lnTo>
                  <a:lnTo>
                    <a:pt x="183" y="107"/>
                  </a:lnTo>
                  <a:lnTo>
                    <a:pt x="183" y="142"/>
                  </a:lnTo>
                  <a:lnTo>
                    <a:pt x="178" y="139"/>
                  </a:lnTo>
                  <a:lnTo>
                    <a:pt x="167" y="140"/>
                  </a:lnTo>
                  <a:lnTo>
                    <a:pt x="144" y="114"/>
                  </a:lnTo>
                  <a:lnTo>
                    <a:pt x="129" y="103"/>
                  </a:lnTo>
                  <a:lnTo>
                    <a:pt x="117" y="93"/>
                  </a:lnTo>
                  <a:lnTo>
                    <a:pt x="108" y="103"/>
                  </a:lnTo>
                  <a:lnTo>
                    <a:pt x="75" y="91"/>
                  </a:lnTo>
                  <a:lnTo>
                    <a:pt x="71" y="82"/>
                  </a:lnTo>
                  <a:lnTo>
                    <a:pt x="52" y="85"/>
                  </a:lnTo>
                  <a:lnTo>
                    <a:pt x="42" y="72"/>
                  </a:lnTo>
                  <a:lnTo>
                    <a:pt x="45" y="101"/>
                  </a:lnTo>
                  <a:lnTo>
                    <a:pt x="48" y="129"/>
                  </a:lnTo>
                  <a:close/>
                </a:path>
              </a:pathLst>
            </a:custGeom>
            <a:solidFill>
              <a:srgbClr val="00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300480" y="1874880"/>
              <a:ext cx="1440" cy="1440"/>
            </a:xfrm>
            <a:custGeom>
              <a:avLst/>
              <a:gdLst/>
              <a:ahLst/>
              <a:rect l="l" t="t" r="r" b="b"/>
              <a:pathLst>
                <a:path w="0" h="1">
                  <a:moveTo>
                    <a:pt x="0" y="1"/>
                  </a:move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273480" y="1695600"/>
              <a:ext cx="34920" cy="33120"/>
            </a:xfrm>
            <a:custGeom>
              <a:avLst/>
              <a:gdLst/>
              <a:ahLst/>
              <a:rect l="l" t="t" r="r" b="b"/>
              <a:pathLst>
                <a:path w="66" h="47">
                  <a:moveTo>
                    <a:pt x="23" y="0"/>
                  </a:moveTo>
                  <a:lnTo>
                    <a:pt x="0" y="7"/>
                  </a:lnTo>
                  <a:lnTo>
                    <a:pt x="0" y="16"/>
                  </a:lnTo>
                  <a:lnTo>
                    <a:pt x="13" y="33"/>
                  </a:lnTo>
                  <a:lnTo>
                    <a:pt x="23" y="33"/>
                  </a:lnTo>
                  <a:lnTo>
                    <a:pt x="23" y="36"/>
                  </a:lnTo>
                  <a:lnTo>
                    <a:pt x="36" y="47"/>
                  </a:lnTo>
                  <a:lnTo>
                    <a:pt x="37" y="47"/>
                  </a:lnTo>
                  <a:lnTo>
                    <a:pt x="40" y="43"/>
                  </a:lnTo>
                  <a:lnTo>
                    <a:pt x="54" y="32"/>
                  </a:lnTo>
                  <a:lnTo>
                    <a:pt x="66" y="19"/>
                  </a:lnTo>
                  <a:lnTo>
                    <a:pt x="65" y="16"/>
                  </a:lnTo>
                  <a:lnTo>
                    <a:pt x="63" y="10"/>
                  </a:lnTo>
                  <a:lnTo>
                    <a:pt x="65" y="1"/>
                  </a:lnTo>
                  <a:lnTo>
                    <a:pt x="40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311640" y="1738440"/>
              <a:ext cx="91800" cy="47520"/>
            </a:xfrm>
            <a:custGeom>
              <a:avLst/>
              <a:gdLst/>
              <a:ahLst/>
              <a:rect l="l" t="t" r="r" b="b"/>
              <a:pathLst>
                <a:path w="176" h="65">
                  <a:moveTo>
                    <a:pt x="52" y="54"/>
                  </a:moveTo>
                  <a:lnTo>
                    <a:pt x="28" y="56"/>
                  </a:lnTo>
                  <a:lnTo>
                    <a:pt x="16" y="55"/>
                  </a:lnTo>
                  <a:lnTo>
                    <a:pt x="16" y="54"/>
                  </a:lnTo>
                  <a:lnTo>
                    <a:pt x="2" y="49"/>
                  </a:lnTo>
                  <a:lnTo>
                    <a:pt x="0" y="49"/>
                  </a:lnTo>
                  <a:lnTo>
                    <a:pt x="2" y="48"/>
                  </a:lnTo>
                  <a:lnTo>
                    <a:pt x="3" y="44"/>
                  </a:lnTo>
                  <a:lnTo>
                    <a:pt x="7" y="38"/>
                  </a:lnTo>
                  <a:lnTo>
                    <a:pt x="20" y="41"/>
                  </a:lnTo>
                  <a:lnTo>
                    <a:pt x="23" y="41"/>
                  </a:lnTo>
                  <a:lnTo>
                    <a:pt x="33" y="36"/>
                  </a:lnTo>
                  <a:lnTo>
                    <a:pt x="52" y="36"/>
                  </a:lnTo>
                  <a:lnTo>
                    <a:pt x="77" y="36"/>
                  </a:lnTo>
                  <a:lnTo>
                    <a:pt x="84" y="33"/>
                  </a:lnTo>
                  <a:lnTo>
                    <a:pt x="91" y="19"/>
                  </a:lnTo>
                  <a:lnTo>
                    <a:pt x="118" y="5"/>
                  </a:lnTo>
                  <a:lnTo>
                    <a:pt x="126" y="10"/>
                  </a:lnTo>
                  <a:lnTo>
                    <a:pt x="144" y="0"/>
                  </a:lnTo>
                  <a:lnTo>
                    <a:pt x="176" y="5"/>
                  </a:lnTo>
                  <a:lnTo>
                    <a:pt x="176" y="25"/>
                  </a:lnTo>
                  <a:lnTo>
                    <a:pt x="162" y="33"/>
                  </a:lnTo>
                  <a:lnTo>
                    <a:pt x="159" y="35"/>
                  </a:lnTo>
                  <a:lnTo>
                    <a:pt x="140" y="52"/>
                  </a:lnTo>
                  <a:lnTo>
                    <a:pt x="136" y="55"/>
                  </a:lnTo>
                  <a:lnTo>
                    <a:pt x="87" y="65"/>
                  </a:lnTo>
                  <a:lnTo>
                    <a:pt x="79" y="64"/>
                  </a:lnTo>
                  <a:lnTo>
                    <a:pt x="52" y="54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152880" y="1701720"/>
              <a:ext cx="160200" cy="160560"/>
            </a:xfrm>
            <a:custGeom>
              <a:avLst/>
              <a:gdLst/>
              <a:ahLst/>
              <a:rect l="l" t="t" r="r" b="b"/>
              <a:pathLst>
                <a:path w="306" h="229">
                  <a:moveTo>
                    <a:pt x="212" y="182"/>
                  </a:moveTo>
                  <a:lnTo>
                    <a:pt x="206" y="193"/>
                  </a:lnTo>
                  <a:lnTo>
                    <a:pt x="203" y="193"/>
                  </a:lnTo>
                  <a:lnTo>
                    <a:pt x="202" y="193"/>
                  </a:lnTo>
                  <a:lnTo>
                    <a:pt x="202" y="195"/>
                  </a:lnTo>
                  <a:lnTo>
                    <a:pt x="170" y="212"/>
                  </a:lnTo>
                  <a:lnTo>
                    <a:pt x="147" y="202"/>
                  </a:lnTo>
                  <a:lnTo>
                    <a:pt x="141" y="200"/>
                  </a:lnTo>
                  <a:lnTo>
                    <a:pt x="137" y="202"/>
                  </a:lnTo>
                  <a:lnTo>
                    <a:pt x="120" y="202"/>
                  </a:lnTo>
                  <a:lnTo>
                    <a:pt x="101" y="212"/>
                  </a:lnTo>
                  <a:lnTo>
                    <a:pt x="92" y="229"/>
                  </a:lnTo>
                  <a:lnTo>
                    <a:pt x="61" y="226"/>
                  </a:lnTo>
                  <a:lnTo>
                    <a:pt x="64" y="223"/>
                  </a:lnTo>
                  <a:lnTo>
                    <a:pt x="56" y="225"/>
                  </a:lnTo>
                  <a:lnTo>
                    <a:pt x="5" y="210"/>
                  </a:lnTo>
                  <a:lnTo>
                    <a:pt x="0" y="203"/>
                  </a:lnTo>
                  <a:lnTo>
                    <a:pt x="16" y="189"/>
                  </a:lnTo>
                  <a:lnTo>
                    <a:pt x="32" y="169"/>
                  </a:lnTo>
                  <a:lnTo>
                    <a:pt x="48" y="147"/>
                  </a:lnTo>
                  <a:lnTo>
                    <a:pt x="51" y="159"/>
                  </a:lnTo>
                  <a:lnTo>
                    <a:pt x="54" y="138"/>
                  </a:lnTo>
                  <a:lnTo>
                    <a:pt x="61" y="131"/>
                  </a:lnTo>
                  <a:lnTo>
                    <a:pt x="55" y="123"/>
                  </a:lnTo>
                  <a:lnTo>
                    <a:pt x="59" y="104"/>
                  </a:lnTo>
                  <a:lnTo>
                    <a:pt x="64" y="100"/>
                  </a:lnTo>
                  <a:lnTo>
                    <a:pt x="56" y="97"/>
                  </a:lnTo>
                  <a:lnTo>
                    <a:pt x="45" y="92"/>
                  </a:lnTo>
                  <a:lnTo>
                    <a:pt x="32" y="84"/>
                  </a:lnTo>
                  <a:lnTo>
                    <a:pt x="23" y="81"/>
                  </a:lnTo>
                  <a:lnTo>
                    <a:pt x="31" y="75"/>
                  </a:lnTo>
                  <a:lnTo>
                    <a:pt x="33" y="74"/>
                  </a:lnTo>
                  <a:lnTo>
                    <a:pt x="25" y="71"/>
                  </a:lnTo>
                  <a:lnTo>
                    <a:pt x="58" y="61"/>
                  </a:lnTo>
                  <a:lnTo>
                    <a:pt x="72" y="63"/>
                  </a:lnTo>
                  <a:lnTo>
                    <a:pt x="97" y="63"/>
                  </a:lnTo>
                  <a:lnTo>
                    <a:pt x="110" y="39"/>
                  </a:lnTo>
                  <a:lnTo>
                    <a:pt x="117" y="36"/>
                  </a:lnTo>
                  <a:lnTo>
                    <a:pt x="120" y="43"/>
                  </a:lnTo>
                  <a:lnTo>
                    <a:pt x="154" y="42"/>
                  </a:lnTo>
                  <a:lnTo>
                    <a:pt x="149" y="40"/>
                  </a:lnTo>
                  <a:lnTo>
                    <a:pt x="188" y="26"/>
                  </a:lnTo>
                  <a:lnTo>
                    <a:pt x="205" y="7"/>
                  </a:lnTo>
                  <a:lnTo>
                    <a:pt x="231" y="0"/>
                  </a:lnTo>
                  <a:lnTo>
                    <a:pt x="231" y="9"/>
                  </a:lnTo>
                  <a:lnTo>
                    <a:pt x="244" y="26"/>
                  </a:lnTo>
                  <a:lnTo>
                    <a:pt x="254" y="26"/>
                  </a:lnTo>
                  <a:lnTo>
                    <a:pt x="254" y="29"/>
                  </a:lnTo>
                  <a:lnTo>
                    <a:pt x="267" y="40"/>
                  </a:lnTo>
                  <a:lnTo>
                    <a:pt x="268" y="40"/>
                  </a:lnTo>
                  <a:lnTo>
                    <a:pt x="278" y="42"/>
                  </a:lnTo>
                  <a:lnTo>
                    <a:pt x="280" y="43"/>
                  </a:lnTo>
                  <a:lnTo>
                    <a:pt x="306" y="55"/>
                  </a:lnTo>
                  <a:lnTo>
                    <a:pt x="271" y="92"/>
                  </a:lnTo>
                  <a:lnTo>
                    <a:pt x="261" y="95"/>
                  </a:lnTo>
                  <a:lnTo>
                    <a:pt x="254" y="100"/>
                  </a:lnTo>
                  <a:lnTo>
                    <a:pt x="216" y="127"/>
                  </a:lnTo>
                  <a:lnTo>
                    <a:pt x="228" y="121"/>
                  </a:lnTo>
                  <a:lnTo>
                    <a:pt x="231" y="136"/>
                  </a:lnTo>
                  <a:lnTo>
                    <a:pt x="222" y="147"/>
                  </a:lnTo>
                  <a:lnTo>
                    <a:pt x="213" y="157"/>
                  </a:lnTo>
                  <a:lnTo>
                    <a:pt x="209" y="163"/>
                  </a:lnTo>
                  <a:lnTo>
                    <a:pt x="203" y="174"/>
                  </a:lnTo>
                  <a:lnTo>
                    <a:pt x="212" y="182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257640" y="1852560"/>
              <a:ext cx="15840" cy="25560"/>
            </a:xfrm>
            <a:custGeom>
              <a:avLst/>
              <a:gdLst/>
              <a:ahLst/>
              <a:rect l="l" t="t" r="r" b="b"/>
              <a:pathLst>
                <a:path w="29" h="36">
                  <a:moveTo>
                    <a:pt x="7" y="36"/>
                  </a:moveTo>
                  <a:lnTo>
                    <a:pt x="0" y="30"/>
                  </a:lnTo>
                  <a:lnTo>
                    <a:pt x="6" y="14"/>
                  </a:lnTo>
                  <a:lnTo>
                    <a:pt x="29" y="0"/>
                  </a:lnTo>
                  <a:lnTo>
                    <a:pt x="26" y="15"/>
                  </a:lnTo>
                  <a:lnTo>
                    <a:pt x="7" y="36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294000" y="1631880"/>
              <a:ext cx="135000" cy="138240"/>
            </a:xfrm>
            <a:custGeom>
              <a:avLst/>
              <a:gdLst/>
              <a:ahLst/>
              <a:rect l="l" t="t" r="r" b="b"/>
              <a:pathLst>
                <a:path w="258" h="196">
                  <a:moveTo>
                    <a:pt x="127" y="36"/>
                  </a:moveTo>
                  <a:lnTo>
                    <a:pt x="130" y="37"/>
                  </a:lnTo>
                  <a:lnTo>
                    <a:pt x="133" y="33"/>
                  </a:lnTo>
                  <a:lnTo>
                    <a:pt x="144" y="27"/>
                  </a:lnTo>
                  <a:lnTo>
                    <a:pt x="153" y="34"/>
                  </a:lnTo>
                  <a:lnTo>
                    <a:pt x="153" y="27"/>
                  </a:lnTo>
                  <a:lnTo>
                    <a:pt x="154" y="16"/>
                  </a:lnTo>
                  <a:lnTo>
                    <a:pt x="156" y="13"/>
                  </a:lnTo>
                  <a:lnTo>
                    <a:pt x="161" y="0"/>
                  </a:lnTo>
                  <a:lnTo>
                    <a:pt x="176" y="3"/>
                  </a:lnTo>
                  <a:lnTo>
                    <a:pt x="180" y="3"/>
                  </a:lnTo>
                  <a:lnTo>
                    <a:pt x="177" y="11"/>
                  </a:lnTo>
                  <a:lnTo>
                    <a:pt x="196" y="14"/>
                  </a:lnTo>
                  <a:lnTo>
                    <a:pt x="190" y="21"/>
                  </a:lnTo>
                  <a:lnTo>
                    <a:pt x="195" y="24"/>
                  </a:lnTo>
                  <a:lnTo>
                    <a:pt x="232" y="11"/>
                  </a:lnTo>
                  <a:lnTo>
                    <a:pt x="229" y="14"/>
                  </a:lnTo>
                  <a:lnTo>
                    <a:pt x="248" y="23"/>
                  </a:lnTo>
                  <a:lnTo>
                    <a:pt x="256" y="21"/>
                  </a:lnTo>
                  <a:lnTo>
                    <a:pt x="258" y="30"/>
                  </a:lnTo>
                  <a:lnTo>
                    <a:pt x="251" y="31"/>
                  </a:lnTo>
                  <a:lnTo>
                    <a:pt x="233" y="56"/>
                  </a:lnTo>
                  <a:lnTo>
                    <a:pt x="222" y="83"/>
                  </a:lnTo>
                  <a:lnTo>
                    <a:pt x="209" y="105"/>
                  </a:lnTo>
                  <a:lnTo>
                    <a:pt x="205" y="102"/>
                  </a:lnTo>
                  <a:lnTo>
                    <a:pt x="141" y="122"/>
                  </a:lnTo>
                  <a:lnTo>
                    <a:pt x="140" y="131"/>
                  </a:lnTo>
                  <a:lnTo>
                    <a:pt x="151" y="160"/>
                  </a:lnTo>
                  <a:lnTo>
                    <a:pt x="124" y="174"/>
                  </a:lnTo>
                  <a:lnTo>
                    <a:pt x="117" y="188"/>
                  </a:lnTo>
                  <a:lnTo>
                    <a:pt x="110" y="191"/>
                  </a:lnTo>
                  <a:lnTo>
                    <a:pt x="85" y="191"/>
                  </a:lnTo>
                  <a:lnTo>
                    <a:pt x="66" y="191"/>
                  </a:lnTo>
                  <a:lnTo>
                    <a:pt x="56" y="196"/>
                  </a:lnTo>
                  <a:lnTo>
                    <a:pt x="40" y="193"/>
                  </a:lnTo>
                  <a:lnTo>
                    <a:pt x="22" y="188"/>
                  </a:lnTo>
                  <a:lnTo>
                    <a:pt x="0" y="191"/>
                  </a:lnTo>
                  <a:lnTo>
                    <a:pt x="35" y="154"/>
                  </a:lnTo>
                  <a:lnTo>
                    <a:pt x="9" y="142"/>
                  </a:lnTo>
                  <a:lnTo>
                    <a:pt x="7" y="141"/>
                  </a:lnTo>
                  <a:lnTo>
                    <a:pt x="9" y="139"/>
                  </a:lnTo>
                  <a:lnTo>
                    <a:pt x="14" y="124"/>
                  </a:lnTo>
                  <a:lnTo>
                    <a:pt x="26" y="111"/>
                  </a:lnTo>
                  <a:lnTo>
                    <a:pt x="25" y="108"/>
                  </a:lnTo>
                  <a:lnTo>
                    <a:pt x="50" y="79"/>
                  </a:lnTo>
                  <a:lnTo>
                    <a:pt x="75" y="69"/>
                  </a:lnTo>
                  <a:lnTo>
                    <a:pt x="78" y="59"/>
                  </a:lnTo>
                  <a:lnTo>
                    <a:pt x="99" y="43"/>
                  </a:lnTo>
                  <a:lnTo>
                    <a:pt x="98" y="40"/>
                  </a:lnTo>
                  <a:lnTo>
                    <a:pt x="108" y="31"/>
                  </a:lnTo>
                  <a:lnTo>
                    <a:pt x="127" y="36"/>
                  </a:lnTo>
                  <a:close/>
                </a:path>
              </a:pathLst>
            </a:custGeom>
            <a:solidFill>
              <a:srgbClr val="00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419640" y="1638360"/>
              <a:ext cx="6120" cy="1440"/>
            </a:xfrm>
            <a:custGeom>
              <a:avLst/>
              <a:gdLst/>
              <a:ahLst/>
              <a:rect l="l" t="t" r="r" b="b"/>
              <a:pathLst>
                <a:path w="13" h="4">
                  <a:moveTo>
                    <a:pt x="0" y="4"/>
                  </a:moveTo>
                  <a:lnTo>
                    <a:pt x="13" y="4"/>
                  </a:lnTo>
                  <a:lnTo>
                    <a:pt x="12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144960" y="1625760"/>
              <a:ext cx="73080" cy="64800"/>
            </a:xfrm>
            <a:custGeom>
              <a:avLst/>
              <a:gdLst/>
              <a:ahLst/>
              <a:rect l="l" t="t" r="r" b="b"/>
              <a:pathLst>
                <a:path w="140" h="95">
                  <a:moveTo>
                    <a:pt x="98" y="71"/>
                  </a:moveTo>
                  <a:lnTo>
                    <a:pt x="114" y="51"/>
                  </a:lnTo>
                  <a:lnTo>
                    <a:pt x="130" y="30"/>
                  </a:lnTo>
                  <a:lnTo>
                    <a:pt x="124" y="23"/>
                  </a:lnTo>
                  <a:lnTo>
                    <a:pt x="117" y="26"/>
                  </a:lnTo>
                  <a:lnTo>
                    <a:pt x="101" y="23"/>
                  </a:lnTo>
                  <a:lnTo>
                    <a:pt x="132" y="6"/>
                  </a:lnTo>
                  <a:lnTo>
                    <a:pt x="140" y="0"/>
                  </a:lnTo>
                  <a:lnTo>
                    <a:pt x="128" y="3"/>
                  </a:lnTo>
                  <a:lnTo>
                    <a:pt x="121" y="3"/>
                  </a:lnTo>
                  <a:lnTo>
                    <a:pt x="98" y="13"/>
                  </a:lnTo>
                  <a:lnTo>
                    <a:pt x="101" y="16"/>
                  </a:lnTo>
                  <a:lnTo>
                    <a:pt x="88" y="25"/>
                  </a:lnTo>
                  <a:lnTo>
                    <a:pt x="59" y="27"/>
                  </a:lnTo>
                  <a:lnTo>
                    <a:pt x="56" y="35"/>
                  </a:lnTo>
                  <a:lnTo>
                    <a:pt x="39" y="45"/>
                  </a:lnTo>
                  <a:lnTo>
                    <a:pt x="56" y="52"/>
                  </a:lnTo>
                  <a:lnTo>
                    <a:pt x="24" y="69"/>
                  </a:lnTo>
                  <a:lnTo>
                    <a:pt x="46" y="65"/>
                  </a:lnTo>
                  <a:lnTo>
                    <a:pt x="20" y="75"/>
                  </a:lnTo>
                  <a:lnTo>
                    <a:pt x="6" y="78"/>
                  </a:lnTo>
                  <a:lnTo>
                    <a:pt x="10" y="81"/>
                  </a:lnTo>
                  <a:lnTo>
                    <a:pt x="0" y="85"/>
                  </a:lnTo>
                  <a:lnTo>
                    <a:pt x="7" y="89"/>
                  </a:lnTo>
                  <a:lnTo>
                    <a:pt x="0" y="92"/>
                  </a:lnTo>
                  <a:lnTo>
                    <a:pt x="9" y="92"/>
                  </a:lnTo>
                  <a:lnTo>
                    <a:pt x="4" y="95"/>
                  </a:lnTo>
                  <a:lnTo>
                    <a:pt x="29" y="94"/>
                  </a:lnTo>
                  <a:lnTo>
                    <a:pt x="58" y="84"/>
                  </a:lnTo>
                  <a:lnTo>
                    <a:pt x="81" y="79"/>
                  </a:lnTo>
                  <a:lnTo>
                    <a:pt x="98" y="71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309840" y="1771560"/>
              <a:ext cx="3240" cy="32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0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292560" y="1717560"/>
              <a:ext cx="9360" cy="129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7" y="0"/>
                  </a:moveTo>
                  <a:lnTo>
                    <a:pt x="3" y="11"/>
                  </a:lnTo>
                  <a:lnTo>
                    <a:pt x="0" y="15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284640" y="1658880"/>
              <a:ext cx="60120" cy="49320"/>
            </a:xfrm>
            <a:custGeom>
              <a:avLst/>
              <a:gdLst/>
              <a:ahLst/>
              <a:rect l="l" t="t" r="r" b="b"/>
              <a:pathLst>
                <a:path w="116" h="69">
                  <a:moveTo>
                    <a:pt x="67" y="40"/>
                  </a:moveTo>
                  <a:lnTo>
                    <a:pt x="92" y="30"/>
                  </a:lnTo>
                  <a:lnTo>
                    <a:pt x="95" y="20"/>
                  </a:lnTo>
                  <a:lnTo>
                    <a:pt x="116" y="4"/>
                  </a:lnTo>
                  <a:lnTo>
                    <a:pt x="95" y="0"/>
                  </a:lnTo>
                  <a:lnTo>
                    <a:pt x="55" y="17"/>
                  </a:lnTo>
                  <a:lnTo>
                    <a:pt x="14" y="43"/>
                  </a:lnTo>
                  <a:lnTo>
                    <a:pt x="0" y="53"/>
                  </a:lnTo>
                  <a:lnTo>
                    <a:pt x="17" y="53"/>
                  </a:lnTo>
                  <a:lnTo>
                    <a:pt x="42" y="54"/>
                  </a:lnTo>
                  <a:lnTo>
                    <a:pt x="40" y="63"/>
                  </a:lnTo>
                  <a:lnTo>
                    <a:pt x="42" y="69"/>
                  </a:lnTo>
                  <a:lnTo>
                    <a:pt x="67" y="4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171960" y="1565280"/>
              <a:ext cx="129960" cy="152280"/>
            </a:xfrm>
            <a:custGeom>
              <a:avLst/>
              <a:gdLst/>
              <a:ahLst/>
              <a:rect l="l" t="t" r="r" b="b"/>
              <a:pathLst>
                <a:path w="244" h="217">
                  <a:moveTo>
                    <a:pt x="112" y="82"/>
                  </a:moveTo>
                  <a:lnTo>
                    <a:pt x="139" y="64"/>
                  </a:lnTo>
                  <a:lnTo>
                    <a:pt x="145" y="64"/>
                  </a:lnTo>
                  <a:lnTo>
                    <a:pt x="149" y="66"/>
                  </a:lnTo>
                  <a:lnTo>
                    <a:pt x="139" y="73"/>
                  </a:lnTo>
                  <a:lnTo>
                    <a:pt x="124" y="86"/>
                  </a:lnTo>
                  <a:lnTo>
                    <a:pt x="116" y="98"/>
                  </a:lnTo>
                  <a:lnTo>
                    <a:pt x="128" y="95"/>
                  </a:lnTo>
                  <a:lnTo>
                    <a:pt x="155" y="90"/>
                  </a:lnTo>
                  <a:lnTo>
                    <a:pt x="142" y="99"/>
                  </a:lnTo>
                  <a:lnTo>
                    <a:pt x="142" y="110"/>
                  </a:lnTo>
                  <a:lnTo>
                    <a:pt x="126" y="132"/>
                  </a:lnTo>
                  <a:lnTo>
                    <a:pt x="119" y="132"/>
                  </a:lnTo>
                  <a:lnTo>
                    <a:pt x="83" y="144"/>
                  </a:lnTo>
                  <a:lnTo>
                    <a:pt x="86" y="145"/>
                  </a:lnTo>
                  <a:lnTo>
                    <a:pt x="86" y="154"/>
                  </a:lnTo>
                  <a:lnTo>
                    <a:pt x="56" y="167"/>
                  </a:lnTo>
                  <a:lnTo>
                    <a:pt x="47" y="174"/>
                  </a:lnTo>
                  <a:lnTo>
                    <a:pt x="66" y="177"/>
                  </a:lnTo>
                  <a:lnTo>
                    <a:pt x="70" y="181"/>
                  </a:lnTo>
                  <a:lnTo>
                    <a:pt x="100" y="174"/>
                  </a:lnTo>
                  <a:lnTo>
                    <a:pt x="85" y="182"/>
                  </a:lnTo>
                  <a:lnTo>
                    <a:pt x="63" y="187"/>
                  </a:lnTo>
                  <a:lnTo>
                    <a:pt x="31" y="201"/>
                  </a:lnTo>
                  <a:lnTo>
                    <a:pt x="0" y="216"/>
                  </a:lnTo>
                  <a:lnTo>
                    <a:pt x="5" y="217"/>
                  </a:lnTo>
                  <a:lnTo>
                    <a:pt x="11" y="216"/>
                  </a:lnTo>
                  <a:lnTo>
                    <a:pt x="40" y="213"/>
                  </a:lnTo>
                  <a:lnTo>
                    <a:pt x="53" y="206"/>
                  </a:lnTo>
                  <a:lnTo>
                    <a:pt x="75" y="203"/>
                  </a:lnTo>
                  <a:lnTo>
                    <a:pt x="100" y="200"/>
                  </a:lnTo>
                  <a:lnTo>
                    <a:pt x="135" y="200"/>
                  </a:lnTo>
                  <a:lnTo>
                    <a:pt x="171" y="185"/>
                  </a:lnTo>
                  <a:lnTo>
                    <a:pt x="157" y="181"/>
                  </a:lnTo>
                  <a:lnTo>
                    <a:pt x="168" y="174"/>
                  </a:lnTo>
                  <a:lnTo>
                    <a:pt x="203" y="155"/>
                  </a:lnTo>
                  <a:lnTo>
                    <a:pt x="204" y="145"/>
                  </a:lnTo>
                  <a:lnTo>
                    <a:pt x="178" y="146"/>
                  </a:lnTo>
                  <a:lnTo>
                    <a:pt x="187" y="139"/>
                  </a:lnTo>
                  <a:lnTo>
                    <a:pt x="183" y="123"/>
                  </a:lnTo>
                  <a:lnTo>
                    <a:pt x="188" y="125"/>
                  </a:lnTo>
                  <a:lnTo>
                    <a:pt x="196" y="115"/>
                  </a:lnTo>
                  <a:lnTo>
                    <a:pt x="193" y="100"/>
                  </a:lnTo>
                  <a:lnTo>
                    <a:pt x="200" y="67"/>
                  </a:lnTo>
                  <a:lnTo>
                    <a:pt x="174" y="64"/>
                  </a:lnTo>
                  <a:lnTo>
                    <a:pt x="196" y="59"/>
                  </a:lnTo>
                  <a:lnTo>
                    <a:pt x="190" y="56"/>
                  </a:lnTo>
                  <a:lnTo>
                    <a:pt x="198" y="53"/>
                  </a:lnTo>
                  <a:lnTo>
                    <a:pt x="244" y="25"/>
                  </a:lnTo>
                  <a:lnTo>
                    <a:pt x="206" y="24"/>
                  </a:lnTo>
                  <a:lnTo>
                    <a:pt x="200" y="23"/>
                  </a:lnTo>
                  <a:lnTo>
                    <a:pt x="210" y="20"/>
                  </a:lnTo>
                  <a:lnTo>
                    <a:pt x="242" y="1"/>
                  </a:lnTo>
                  <a:lnTo>
                    <a:pt x="213" y="0"/>
                  </a:lnTo>
                  <a:lnTo>
                    <a:pt x="198" y="7"/>
                  </a:lnTo>
                  <a:lnTo>
                    <a:pt x="188" y="15"/>
                  </a:lnTo>
                  <a:lnTo>
                    <a:pt x="180" y="17"/>
                  </a:lnTo>
                  <a:lnTo>
                    <a:pt x="170" y="27"/>
                  </a:lnTo>
                  <a:lnTo>
                    <a:pt x="167" y="30"/>
                  </a:lnTo>
                  <a:lnTo>
                    <a:pt x="162" y="34"/>
                  </a:lnTo>
                  <a:lnTo>
                    <a:pt x="145" y="46"/>
                  </a:lnTo>
                  <a:lnTo>
                    <a:pt x="145" y="47"/>
                  </a:lnTo>
                  <a:lnTo>
                    <a:pt x="141" y="50"/>
                  </a:lnTo>
                  <a:lnTo>
                    <a:pt x="157" y="47"/>
                  </a:lnTo>
                  <a:lnTo>
                    <a:pt x="154" y="49"/>
                  </a:lnTo>
                  <a:lnTo>
                    <a:pt x="112" y="82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197160" y="1625760"/>
              <a:ext cx="27000" cy="20520"/>
            </a:xfrm>
            <a:custGeom>
              <a:avLst/>
              <a:gdLst/>
              <a:ahLst/>
              <a:rect l="l" t="t" r="r" b="b"/>
              <a:pathLst>
                <a:path w="53" h="30">
                  <a:moveTo>
                    <a:pt x="49" y="22"/>
                  </a:moveTo>
                  <a:lnTo>
                    <a:pt x="53" y="15"/>
                  </a:lnTo>
                  <a:lnTo>
                    <a:pt x="52" y="0"/>
                  </a:lnTo>
                  <a:lnTo>
                    <a:pt x="31" y="6"/>
                  </a:lnTo>
                  <a:lnTo>
                    <a:pt x="0" y="23"/>
                  </a:lnTo>
                  <a:lnTo>
                    <a:pt x="16" y="26"/>
                  </a:lnTo>
                  <a:lnTo>
                    <a:pt x="23" y="23"/>
                  </a:lnTo>
                  <a:lnTo>
                    <a:pt x="29" y="30"/>
                  </a:lnTo>
                  <a:lnTo>
                    <a:pt x="49" y="22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249720" y="1584360"/>
              <a:ext cx="7920" cy="648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15" y="2"/>
                  </a:moveTo>
                  <a:lnTo>
                    <a:pt x="10" y="0"/>
                  </a:lnTo>
                  <a:lnTo>
                    <a:pt x="0" y="5"/>
                  </a:lnTo>
                  <a:lnTo>
                    <a:pt x="12" y="12"/>
                  </a:lnTo>
                  <a:lnTo>
                    <a:pt x="17" y="8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252960" y="1571760"/>
              <a:ext cx="14040" cy="6120"/>
            </a:xfrm>
            <a:custGeom>
              <a:avLst/>
              <a:gdLst/>
              <a:ahLst/>
              <a:rect l="l" t="t" r="r" b="b"/>
              <a:pathLst>
                <a:path w="26" h="12">
                  <a:moveTo>
                    <a:pt x="25" y="5"/>
                  </a:moveTo>
                  <a:lnTo>
                    <a:pt x="26" y="0"/>
                  </a:lnTo>
                  <a:lnTo>
                    <a:pt x="10" y="5"/>
                  </a:lnTo>
                  <a:lnTo>
                    <a:pt x="0" y="12"/>
                  </a:lnTo>
                  <a:lnTo>
                    <a:pt x="25" y="5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335400" y="1533600"/>
              <a:ext cx="9360" cy="612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13" y="0"/>
                  </a:moveTo>
                  <a:lnTo>
                    <a:pt x="7" y="4"/>
                  </a:lnTo>
                  <a:lnTo>
                    <a:pt x="2" y="9"/>
                  </a:lnTo>
                  <a:lnTo>
                    <a:pt x="0" y="12"/>
                  </a:lnTo>
                  <a:lnTo>
                    <a:pt x="17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240000" y="1603440"/>
              <a:ext cx="7920" cy="3240"/>
            </a:xfrm>
            <a:custGeom>
              <a:avLst/>
              <a:gdLst/>
              <a:ahLst/>
              <a:rect l="l" t="t" r="r" b="b"/>
              <a:pathLst>
                <a:path w="15" h="4">
                  <a:moveTo>
                    <a:pt x="0" y="4"/>
                  </a:moveTo>
                  <a:lnTo>
                    <a:pt x="15" y="0"/>
                  </a:lnTo>
                  <a:lnTo>
                    <a:pt x="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220920" y="1658880"/>
              <a:ext cx="5040" cy="180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8" y="4"/>
                  </a:moveTo>
                  <a:lnTo>
                    <a:pt x="6" y="0"/>
                  </a:lnTo>
                  <a:lnTo>
                    <a:pt x="0" y="5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265560" y="1762200"/>
              <a:ext cx="52200" cy="34920"/>
            </a:xfrm>
            <a:custGeom>
              <a:avLst/>
              <a:gdLst/>
              <a:ahLst/>
              <a:rect l="l" t="t" r="r" b="b"/>
              <a:pathLst>
                <a:path w="104" h="47">
                  <a:moveTo>
                    <a:pt x="95" y="28"/>
                  </a:moveTo>
                  <a:lnTo>
                    <a:pt x="85" y="35"/>
                  </a:lnTo>
                  <a:lnTo>
                    <a:pt x="69" y="35"/>
                  </a:lnTo>
                  <a:lnTo>
                    <a:pt x="55" y="47"/>
                  </a:lnTo>
                  <a:lnTo>
                    <a:pt x="48" y="35"/>
                  </a:lnTo>
                  <a:lnTo>
                    <a:pt x="29" y="45"/>
                  </a:lnTo>
                  <a:lnTo>
                    <a:pt x="15" y="47"/>
                  </a:lnTo>
                  <a:lnTo>
                    <a:pt x="12" y="32"/>
                  </a:lnTo>
                  <a:lnTo>
                    <a:pt x="0" y="38"/>
                  </a:lnTo>
                  <a:lnTo>
                    <a:pt x="38" y="11"/>
                  </a:lnTo>
                  <a:lnTo>
                    <a:pt x="45" y="6"/>
                  </a:lnTo>
                  <a:lnTo>
                    <a:pt x="55" y="3"/>
                  </a:lnTo>
                  <a:lnTo>
                    <a:pt x="77" y="0"/>
                  </a:lnTo>
                  <a:lnTo>
                    <a:pt x="95" y="5"/>
                  </a:lnTo>
                  <a:lnTo>
                    <a:pt x="91" y="11"/>
                  </a:lnTo>
                  <a:lnTo>
                    <a:pt x="88" y="15"/>
                  </a:lnTo>
                  <a:lnTo>
                    <a:pt x="85" y="16"/>
                  </a:lnTo>
                  <a:lnTo>
                    <a:pt x="90" y="16"/>
                  </a:lnTo>
                  <a:lnTo>
                    <a:pt x="104" y="21"/>
                  </a:lnTo>
                  <a:lnTo>
                    <a:pt x="103" y="23"/>
                  </a:lnTo>
                  <a:lnTo>
                    <a:pt x="95" y="28"/>
                  </a:lnTo>
                  <a:close/>
                </a:path>
              </a:pathLst>
            </a:custGeom>
            <a:solidFill>
              <a:srgbClr val="00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343320" y="1779480"/>
              <a:ext cx="39600" cy="23760"/>
            </a:xfrm>
            <a:custGeom>
              <a:avLst/>
              <a:gdLst/>
              <a:ahLst/>
              <a:rect l="l" t="t" r="r" b="b"/>
              <a:pathLst>
                <a:path w="76" h="37">
                  <a:moveTo>
                    <a:pt x="4" y="36"/>
                  </a:moveTo>
                  <a:lnTo>
                    <a:pt x="15" y="37"/>
                  </a:lnTo>
                  <a:lnTo>
                    <a:pt x="20" y="32"/>
                  </a:lnTo>
                  <a:lnTo>
                    <a:pt x="22" y="35"/>
                  </a:lnTo>
                  <a:lnTo>
                    <a:pt x="23" y="35"/>
                  </a:lnTo>
                  <a:lnTo>
                    <a:pt x="25" y="35"/>
                  </a:lnTo>
                  <a:lnTo>
                    <a:pt x="27" y="37"/>
                  </a:lnTo>
                  <a:lnTo>
                    <a:pt x="33" y="36"/>
                  </a:lnTo>
                  <a:lnTo>
                    <a:pt x="35" y="33"/>
                  </a:lnTo>
                  <a:lnTo>
                    <a:pt x="36" y="30"/>
                  </a:lnTo>
                  <a:lnTo>
                    <a:pt x="45" y="27"/>
                  </a:lnTo>
                  <a:lnTo>
                    <a:pt x="49" y="27"/>
                  </a:lnTo>
                  <a:lnTo>
                    <a:pt x="49" y="23"/>
                  </a:lnTo>
                  <a:lnTo>
                    <a:pt x="51" y="20"/>
                  </a:lnTo>
                  <a:lnTo>
                    <a:pt x="52" y="16"/>
                  </a:lnTo>
                  <a:lnTo>
                    <a:pt x="61" y="14"/>
                  </a:lnTo>
                  <a:lnTo>
                    <a:pt x="64" y="12"/>
                  </a:lnTo>
                  <a:lnTo>
                    <a:pt x="71" y="12"/>
                  </a:lnTo>
                  <a:lnTo>
                    <a:pt x="72" y="9"/>
                  </a:lnTo>
                  <a:lnTo>
                    <a:pt x="74" y="9"/>
                  </a:lnTo>
                  <a:lnTo>
                    <a:pt x="76" y="7"/>
                  </a:lnTo>
                  <a:lnTo>
                    <a:pt x="74" y="3"/>
                  </a:lnTo>
                  <a:lnTo>
                    <a:pt x="74" y="0"/>
                  </a:lnTo>
                  <a:lnTo>
                    <a:pt x="25" y="10"/>
                  </a:lnTo>
                  <a:lnTo>
                    <a:pt x="17" y="9"/>
                  </a:lnTo>
                  <a:lnTo>
                    <a:pt x="7" y="17"/>
                  </a:lnTo>
                  <a:lnTo>
                    <a:pt x="0" y="35"/>
                  </a:lnTo>
                  <a:lnTo>
                    <a:pt x="4" y="36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187800" y="1962000"/>
              <a:ext cx="61920" cy="131760"/>
            </a:xfrm>
            <a:custGeom>
              <a:avLst/>
              <a:gdLst/>
              <a:ahLst/>
              <a:rect l="l" t="t" r="r" b="b"/>
              <a:pathLst>
                <a:path w="117" h="189">
                  <a:moveTo>
                    <a:pt x="24" y="178"/>
                  </a:moveTo>
                  <a:lnTo>
                    <a:pt x="9" y="189"/>
                  </a:lnTo>
                  <a:lnTo>
                    <a:pt x="13" y="164"/>
                  </a:lnTo>
                  <a:lnTo>
                    <a:pt x="17" y="138"/>
                  </a:lnTo>
                  <a:lnTo>
                    <a:pt x="7" y="118"/>
                  </a:lnTo>
                  <a:lnTo>
                    <a:pt x="0" y="92"/>
                  </a:lnTo>
                  <a:lnTo>
                    <a:pt x="17" y="72"/>
                  </a:lnTo>
                  <a:lnTo>
                    <a:pt x="36" y="52"/>
                  </a:lnTo>
                  <a:lnTo>
                    <a:pt x="53" y="16"/>
                  </a:lnTo>
                  <a:lnTo>
                    <a:pt x="62" y="8"/>
                  </a:lnTo>
                  <a:lnTo>
                    <a:pt x="92" y="0"/>
                  </a:lnTo>
                  <a:lnTo>
                    <a:pt x="98" y="4"/>
                  </a:lnTo>
                  <a:lnTo>
                    <a:pt x="99" y="13"/>
                  </a:lnTo>
                  <a:lnTo>
                    <a:pt x="117" y="6"/>
                  </a:lnTo>
                  <a:lnTo>
                    <a:pt x="92" y="33"/>
                  </a:lnTo>
                  <a:lnTo>
                    <a:pt x="96" y="53"/>
                  </a:lnTo>
                  <a:lnTo>
                    <a:pt x="78" y="70"/>
                  </a:lnTo>
                  <a:lnTo>
                    <a:pt x="59" y="86"/>
                  </a:lnTo>
                  <a:lnTo>
                    <a:pt x="73" y="99"/>
                  </a:lnTo>
                  <a:lnTo>
                    <a:pt x="83" y="109"/>
                  </a:lnTo>
                  <a:lnTo>
                    <a:pt x="73" y="131"/>
                  </a:lnTo>
                  <a:lnTo>
                    <a:pt x="53" y="144"/>
                  </a:lnTo>
                  <a:lnTo>
                    <a:pt x="34" y="157"/>
                  </a:lnTo>
                  <a:lnTo>
                    <a:pt x="24" y="178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257640" y="1776240"/>
              <a:ext cx="98280" cy="171720"/>
            </a:xfrm>
            <a:custGeom>
              <a:avLst/>
              <a:gdLst/>
              <a:ahLst/>
              <a:rect l="l" t="t" r="r" b="b"/>
              <a:pathLst>
                <a:path w="189" h="240">
                  <a:moveTo>
                    <a:pt x="180" y="10"/>
                  </a:moveTo>
                  <a:lnTo>
                    <a:pt x="153" y="0"/>
                  </a:lnTo>
                  <a:lnTo>
                    <a:pt x="129" y="2"/>
                  </a:lnTo>
                  <a:lnTo>
                    <a:pt x="117" y="1"/>
                  </a:lnTo>
                  <a:lnTo>
                    <a:pt x="116" y="2"/>
                  </a:lnTo>
                  <a:lnTo>
                    <a:pt x="108" y="7"/>
                  </a:lnTo>
                  <a:lnTo>
                    <a:pt x="98" y="14"/>
                  </a:lnTo>
                  <a:lnTo>
                    <a:pt x="82" y="14"/>
                  </a:lnTo>
                  <a:lnTo>
                    <a:pt x="68" y="26"/>
                  </a:lnTo>
                  <a:lnTo>
                    <a:pt x="61" y="14"/>
                  </a:lnTo>
                  <a:lnTo>
                    <a:pt x="42" y="24"/>
                  </a:lnTo>
                  <a:lnTo>
                    <a:pt x="28" y="26"/>
                  </a:lnTo>
                  <a:lnTo>
                    <a:pt x="19" y="37"/>
                  </a:lnTo>
                  <a:lnTo>
                    <a:pt x="10" y="47"/>
                  </a:lnTo>
                  <a:lnTo>
                    <a:pt x="6" y="53"/>
                  </a:lnTo>
                  <a:lnTo>
                    <a:pt x="0" y="64"/>
                  </a:lnTo>
                  <a:lnTo>
                    <a:pt x="9" y="72"/>
                  </a:lnTo>
                  <a:lnTo>
                    <a:pt x="3" y="83"/>
                  </a:lnTo>
                  <a:lnTo>
                    <a:pt x="32" y="69"/>
                  </a:lnTo>
                  <a:lnTo>
                    <a:pt x="58" y="74"/>
                  </a:lnTo>
                  <a:lnTo>
                    <a:pt x="57" y="102"/>
                  </a:lnTo>
                  <a:lnTo>
                    <a:pt x="65" y="119"/>
                  </a:lnTo>
                  <a:lnTo>
                    <a:pt x="74" y="138"/>
                  </a:lnTo>
                  <a:lnTo>
                    <a:pt x="78" y="141"/>
                  </a:lnTo>
                  <a:lnTo>
                    <a:pt x="80" y="141"/>
                  </a:lnTo>
                  <a:lnTo>
                    <a:pt x="91" y="149"/>
                  </a:lnTo>
                  <a:lnTo>
                    <a:pt x="106" y="167"/>
                  </a:lnTo>
                  <a:lnTo>
                    <a:pt x="116" y="172"/>
                  </a:lnTo>
                  <a:lnTo>
                    <a:pt x="121" y="182"/>
                  </a:lnTo>
                  <a:lnTo>
                    <a:pt x="121" y="210"/>
                  </a:lnTo>
                  <a:lnTo>
                    <a:pt x="101" y="234"/>
                  </a:lnTo>
                  <a:lnTo>
                    <a:pt x="108" y="240"/>
                  </a:lnTo>
                  <a:lnTo>
                    <a:pt x="127" y="223"/>
                  </a:lnTo>
                  <a:lnTo>
                    <a:pt x="140" y="213"/>
                  </a:lnTo>
                  <a:lnTo>
                    <a:pt x="147" y="206"/>
                  </a:lnTo>
                  <a:lnTo>
                    <a:pt x="140" y="194"/>
                  </a:lnTo>
                  <a:lnTo>
                    <a:pt x="157" y="172"/>
                  </a:lnTo>
                  <a:lnTo>
                    <a:pt x="169" y="175"/>
                  </a:lnTo>
                  <a:lnTo>
                    <a:pt x="178" y="188"/>
                  </a:lnTo>
                  <a:lnTo>
                    <a:pt x="189" y="177"/>
                  </a:lnTo>
                  <a:lnTo>
                    <a:pt x="170" y="161"/>
                  </a:lnTo>
                  <a:lnTo>
                    <a:pt x="152" y="145"/>
                  </a:lnTo>
                  <a:lnTo>
                    <a:pt x="162" y="136"/>
                  </a:lnTo>
                  <a:lnTo>
                    <a:pt x="156" y="132"/>
                  </a:lnTo>
                  <a:lnTo>
                    <a:pt x="131" y="125"/>
                  </a:lnTo>
                  <a:lnTo>
                    <a:pt x="131" y="108"/>
                  </a:lnTo>
                  <a:lnTo>
                    <a:pt x="131" y="90"/>
                  </a:lnTo>
                  <a:lnTo>
                    <a:pt x="117" y="77"/>
                  </a:lnTo>
                  <a:lnTo>
                    <a:pt x="123" y="56"/>
                  </a:lnTo>
                  <a:lnTo>
                    <a:pt x="127" y="43"/>
                  </a:lnTo>
                  <a:lnTo>
                    <a:pt x="154" y="31"/>
                  </a:lnTo>
                  <a:lnTo>
                    <a:pt x="163" y="36"/>
                  </a:lnTo>
                  <a:lnTo>
                    <a:pt x="170" y="18"/>
                  </a:lnTo>
                  <a:lnTo>
                    <a:pt x="180" y="10"/>
                  </a:lnTo>
                  <a:lnTo>
                    <a:pt x="113" y="77"/>
                  </a:lnTo>
                  <a:lnTo>
                    <a:pt x="114" y="77"/>
                  </a:lnTo>
                  <a:lnTo>
                    <a:pt x="113" y="77"/>
                  </a:lnTo>
                  <a:lnTo>
                    <a:pt x="111" y="77"/>
                  </a:lnTo>
                  <a:lnTo>
                    <a:pt x="110" y="79"/>
                  </a:lnTo>
                  <a:lnTo>
                    <a:pt x="111" y="79"/>
                  </a:lnTo>
                  <a:lnTo>
                    <a:pt x="113" y="77"/>
                  </a:lnTo>
                  <a:lnTo>
                    <a:pt x="180" y="10"/>
                  </a:lnTo>
                  <a:lnTo>
                    <a:pt x="81" y="139"/>
                  </a:lnTo>
                  <a:lnTo>
                    <a:pt x="81" y="138"/>
                  </a:lnTo>
                  <a:lnTo>
                    <a:pt x="81" y="139"/>
                  </a:lnTo>
                  <a:lnTo>
                    <a:pt x="180" y="1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257640" y="1776240"/>
              <a:ext cx="98280" cy="171720"/>
            </a:xfrm>
            <a:custGeom>
              <a:avLst/>
              <a:gdLst/>
              <a:ahLst/>
              <a:rect l="l" t="t" r="r" b="b"/>
              <a:pathLst>
                <a:path w="189" h="240">
                  <a:moveTo>
                    <a:pt x="180" y="10"/>
                  </a:moveTo>
                  <a:lnTo>
                    <a:pt x="153" y="0"/>
                  </a:lnTo>
                  <a:lnTo>
                    <a:pt x="129" y="2"/>
                  </a:lnTo>
                  <a:lnTo>
                    <a:pt x="117" y="1"/>
                  </a:lnTo>
                  <a:lnTo>
                    <a:pt x="116" y="2"/>
                  </a:lnTo>
                  <a:lnTo>
                    <a:pt x="108" y="7"/>
                  </a:lnTo>
                  <a:lnTo>
                    <a:pt x="98" y="14"/>
                  </a:lnTo>
                  <a:lnTo>
                    <a:pt x="82" y="14"/>
                  </a:lnTo>
                  <a:lnTo>
                    <a:pt x="68" y="26"/>
                  </a:lnTo>
                  <a:lnTo>
                    <a:pt x="61" y="14"/>
                  </a:lnTo>
                  <a:lnTo>
                    <a:pt x="42" y="24"/>
                  </a:lnTo>
                  <a:lnTo>
                    <a:pt x="28" y="26"/>
                  </a:lnTo>
                  <a:lnTo>
                    <a:pt x="19" y="37"/>
                  </a:lnTo>
                  <a:lnTo>
                    <a:pt x="10" y="47"/>
                  </a:lnTo>
                  <a:lnTo>
                    <a:pt x="6" y="53"/>
                  </a:lnTo>
                  <a:lnTo>
                    <a:pt x="0" y="64"/>
                  </a:lnTo>
                  <a:lnTo>
                    <a:pt x="9" y="72"/>
                  </a:lnTo>
                  <a:lnTo>
                    <a:pt x="3" y="83"/>
                  </a:lnTo>
                  <a:lnTo>
                    <a:pt x="32" y="69"/>
                  </a:lnTo>
                  <a:lnTo>
                    <a:pt x="58" y="74"/>
                  </a:lnTo>
                  <a:lnTo>
                    <a:pt x="57" y="102"/>
                  </a:lnTo>
                  <a:lnTo>
                    <a:pt x="65" y="119"/>
                  </a:lnTo>
                  <a:lnTo>
                    <a:pt x="74" y="138"/>
                  </a:lnTo>
                  <a:lnTo>
                    <a:pt x="78" y="141"/>
                  </a:lnTo>
                  <a:lnTo>
                    <a:pt x="80" y="141"/>
                  </a:lnTo>
                  <a:lnTo>
                    <a:pt x="91" y="149"/>
                  </a:lnTo>
                  <a:lnTo>
                    <a:pt x="106" y="167"/>
                  </a:lnTo>
                  <a:lnTo>
                    <a:pt x="116" y="172"/>
                  </a:lnTo>
                  <a:lnTo>
                    <a:pt x="121" y="182"/>
                  </a:lnTo>
                  <a:lnTo>
                    <a:pt x="121" y="210"/>
                  </a:lnTo>
                  <a:lnTo>
                    <a:pt x="101" y="234"/>
                  </a:lnTo>
                  <a:lnTo>
                    <a:pt x="108" y="240"/>
                  </a:lnTo>
                  <a:lnTo>
                    <a:pt x="127" y="223"/>
                  </a:lnTo>
                  <a:lnTo>
                    <a:pt x="140" y="213"/>
                  </a:lnTo>
                  <a:lnTo>
                    <a:pt x="147" y="206"/>
                  </a:lnTo>
                  <a:lnTo>
                    <a:pt x="140" y="194"/>
                  </a:lnTo>
                  <a:lnTo>
                    <a:pt x="157" y="172"/>
                  </a:lnTo>
                  <a:lnTo>
                    <a:pt x="169" y="175"/>
                  </a:lnTo>
                  <a:lnTo>
                    <a:pt x="178" y="188"/>
                  </a:lnTo>
                  <a:lnTo>
                    <a:pt x="189" y="177"/>
                  </a:lnTo>
                  <a:lnTo>
                    <a:pt x="170" y="161"/>
                  </a:lnTo>
                  <a:lnTo>
                    <a:pt x="152" y="145"/>
                  </a:lnTo>
                  <a:lnTo>
                    <a:pt x="162" y="136"/>
                  </a:lnTo>
                  <a:lnTo>
                    <a:pt x="156" y="132"/>
                  </a:lnTo>
                  <a:lnTo>
                    <a:pt x="131" y="125"/>
                  </a:lnTo>
                  <a:lnTo>
                    <a:pt x="131" y="108"/>
                  </a:lnTo>
                  <a:lnTo>
                    <a:pt x="131" y="90"/>
                  </a:lnTo>
                  <a:lnTo>
                    <a:pt x="117" y="77"/>
                  </a:lnTo>
                  <a:lnTo>
                    <a:pt x="123" y="56"/>
                  </a:lnTo>
                  <a:lnTo>
                    <a:pt x="127" y="43"/>
                  </a:lnTo>
                  <a:lnTo>
                    <a:pt x="154" y="31"/>
                  </a:lnTo>
                  <a:lnTo>
                    <a:pt x="163" y="36"/>
                  </a:lnTo>
                  <a:lnTo>
                    <a:pt x="170" y="18"/>
                  </a:lnTo>
                  <a:lnTo>
                    <a:pt x="180" y="10"/>
                  </a:lnTo>
                  <a:close/>
                </a:path>
              </a:pathLst>
            </a:custGeom>
            <a:solidFill>
              <a:srgbClr val="00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314880" y="1833480"/>
              <a:ext cx="1440" cy="1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3" y="0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300480" y="1874880"/>
              <a:ext cx="1440" cy="1440"/>
            </a:xfrm>
            <a:custGeom>
              <a:avLst/>
              <a:gdLst/>
              <a:ahLst/>
              <a:rect l="l" t="t" r="r" b="b"/>
              <a:pathLst>
                <a:path w="0" h="1">
                  <a:moveTo>
                    <a:pt x="0" y="1"/>
                  </a:move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273480" y="1940040"/>
              <a:ext cx="39600" cy="28440"/>
            </a:xfrm>
            <a:custGeom>
              <a:avLst/>
              <a:gdLst/>
              <a:ahLst/>
              <a:rect l="l" t="t" r="r" b="b"/>
              <a:pathLst>
                <a:path w="74" h="43">
                  <a:moveTo>
                    <a:pt x="52" y="26"/>
                  </a:moveTo>
                  <a:lnTo>
                    <a:pt x="43" y="43"/>
                  </a:lnTo>
                  <a:lnTo>
                    <a:pt x="22" y="32"/>
                  </a:lnTo>
                  <a:lnTo>
                    <a:pt x="0" y="19"/>
                  </a:lnTo>
                  <a:lnTo>
                    <a:pt x="0" y="7"/>
                  </a:lnTo>
                  <a:lnTo>
                    <a:pt x="22" y="4"/>
                  </a:lnTo>
                  <a:lnTo>
                    <a:pt x="48" y="3"/>
                  </a:lnTo>
                  <a:lnTo>
                    <a:pt x="74" y="0"/>
                  </a:lnTo>
                  <a:lnTo>
                    <a:pt x="52" y="26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235320" y="1884240"/>
              <a:ext cx="23760" cy="44640"/>
            </a:xfrm>
            <a:custGeom>
              <a:avLst/>
              <a:gdLst/>
              <a:ahLst/>
              <a:rect l="l" t="t" r="r" b="b"/>
              <a:pathLst>
                <a:path w="47" h="65">
                  <a:moveTo>
                    <a:pt x="11" y="57"/>
                  </a:moveTo>
                  <a:lnTo>
                    <a:pt x="0" y="65"/>
                  </a:lnTo>
                  <a:lnTo>
                    <a:pt x="1" y="49"/>
                  </a:lnTo>
                  <a:lnTo>
                    <a:pt x="8" y="31"/>
                  </a:lnTo>
                  <a:lnTo>
                    <a:pt x="18" y="10"/>
                  </a:lnTo>
                  <a:lnTo>
                    <a:pt x="46" y="0"/>
                  </a:lnTo>
                  <a:lnTo>
                    <a:pt x="47" y="21"/>
                  </a:lnTo>
                  <a:lnTo>
                    <a:pt x="26" y="54"/>
                  </a:lnTo>
                  <a:lnTo>
                    <a:pt x="11" y="57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370320" y="1860480"/>
              <a:ext cx="22320" cy="54000"/>
            </a:xfrm>
            <a:custGeom>
              <a:avLst/>
              <a:gdLst/>
              <a:ahLst/>
              <a:rect l="l" t="t" r="r" b="b"/>
              <a:pathLst>
                <a:path w="43" h="77">
                  <a:moveTo>
                    <a:pt x="16" y="18"/>
                  </a:moveTo>
                  <a:lnTo>
                    <a:pt x="0" y="54"/>
                  </a:lnTo>
                  <a:lnTo>
                    <a:pt x="3" y="77"/>
                  </a:lnTo>
                  <a:lnTo>
                    <a:pt x="12" y="69"/>
                  </a:lnTo>
                  <a:lnTo>
                    <a:pt x="37" y="46"/>
                  </a:lnTo>
                  <a:lnTo>
                    <a:pt x="37" y="45"/>
                  </a:lnTo>
                  <a:lnTo>
                    <a:pt x="40" y="18"/>
                  </a:lnTo>
                  <a:lnTo>
                    <a:pt x="43" y="3"/>
                  </a:lnTo>
                  <a:lnTo>
                    <a:pt x="32" y="0"/>
                  </a:lnTo>
                  <a:lnTo>
                    <a:pt x="16" y="18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179880" y="1859040"/>
              <a:ext cx="4680" cy="144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8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5" y="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645000" y="1876320"/>
              <a:ext cx="44280" cy="52560"/>
            </a:xfrm>
            <a:custGeom>
              <a:avLst/>
              <a:gdLst/>
              <a:ahLst/>
              <a:rect l="l" t="t" r="r" b="b"/>
              <a:pathLst>
                <a:path w="84" h="73">
                  <a:moveTo>
                    <a:pt x="9" y="11"/>
                  </a:moveTo>
                  <a:lnTo>
                    <a:pt x="0" y="0"/>
                  </a:lnTo>
                  <a:lnTo>
                    <a:pt x="33" y="1"/>
                  </a:lnTo>
                  <a:lnTo>
                    <a:pt x="65" y="1"/>
                  </a:lnTo>
                  <a:lnTo>
                    <a:pt x="84" y="4"/>
                  </a:lnTo>
                  <a:lnTo>
                    <a:pt x="68" y="29"/>
                  </a:lnTo>
                  <a:lnTo>
                    <a:pt x="75" y="33"/>
                  </a:lnTo>
                  <a:lnTo>
                    <a:pt x="61" y="43"/>
                  </a:lnTo>
                  <a:lnTo>
                    <a:pt x="65" y="65"/>
                  </a:lnTo>
                  <a:lnTo>
                    <a:pt x="43" y="73"/>
                  </a:lnTo>
                  <a:lnTo>
                    <a:pt x="25" y="57"/>
                  </a:lnTo>
                  <a:lnTo>
                    <a:pt x="23" y="53"/>
                  </a:lnTo>
                  <a:lnTo>
                    <a:pt x="22" y="50"/>
                  </a:lnTo>
                  <a:lnTo>
                    <a:pt x="7" y="43"/>
                  </a:lnTo>
                  <a:lnTo>
                    <a:pt x="7" y="29"/>
                  </a:lnTo>
                  <a:lnTo>
                    <a:pt x="9" y="11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676680" y="1871640"/>
              <a:ext cx="49320" cy="6660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4" y="74"/>
                  </a:moveTo>
                  <a:lnTo>
                    <a:pt x="0" y="52"/>
                  </a:lnTo>
                  <a:lnTo>
                    <a:pt x="14" y="42"/>
                  </a:lnTo>
                  <a:lnTo>
                    <a:pt x="7" y="38"/>
                  </a:lnTo>
                  <a:lnTo>
                    <a:pt x="23" y="13"/>
                  </a:lnTo>
                  <a:lnTo>
                    <a:pt x="39" y="0"/>
                  </a:lnTo>
                  <a:lnTo>
                    <a:pt x="70" y="7"/>
                  </a:lnTo>
                  <a:lnTo>
                    <a:pt x="73" y="25"/>
                  </a:lnTo>
                  <a:lnTo>
                    <a:pt x="92" y="42"/>
                  </a:lnTo>
                  <a:lnTo>
                    <a:pt x="76" y="45"/>
                  </a:lnTo>
                  <a:lnTo>
                    <a:pt x="53" y="76"/>
                  </a:lnTo>
                  <a:lnTo>
                    <a:pt x="41" y="94"/>
                  </a:lnTo>
                  <a:lnTo>
                    <a:pt x="29" y="81"/>
                  </a:lnTo>
                  <a:lnTo>
                    <a:pt x="33" y="75"/>
                  </a:lnTo>
                  <a:lnTo>
                    <a:pt x="34" y="61"/>
                  </a:lnTo>
                  <a:lnTo>
                    <a:pt x="4" y="74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359160" y="1809720"/>
              <a:ext cx="42840" cy="50760"/>
            </a:xfrm>
            <a:custGeom>
              <a:avLst/>
              <a:gdLst/>
              <a:ahLst/>
              <a:rect l="l" t="t" r="r" b="b"/>
              <a:pathLst>
                <a:path w="79" h="72">
                  <a:moveTo>
                    <a:pt x="79" y="10"/>
                  </a:moveTo>
                  <a:lnTo>
                    <a:pt x="78" y="13"/>
                  </a:lnTo>
                  <a:lnTo>
                    <a:pt x="72" y="17"/>
                  </a:lnTo>
                  <a:lnTo>
                    <a:pt x="66" y="21"/>
                  </a:lnTo>
                  <a:lnTo>
                    <a:pt x="66" y="24"/>
                  </a:lnTo>
                  <a:lnTo>
                    <a:pt x="68" y="27"/>
                  </a:lnTo>
                  <a:lnTo>
                    <a:pt x="73" y="33"/>
                  </a:lnTo>
                  <a:lnTo>
                    <a:pt x="63" y="36"/>
                  </a:lnTo>
                  <a:lnTo>
                    <a:pt x="68" y="40"/>
                  </a:lnTo>
                  <a:lnTo>
                    <a:pt x="63" y="46"/>
                  </a:lnTo>
                  <a:lnTo>
                    <a:pt x="50" y="47"/>
                  </a:lnTo>
                  <a:lnTo>
                    <a:pt x="52" y="53"/>
                  </a:lnTo>
                  <a:lnTo>
                    <a:pt x="47" y="56"/>
                  </a:lnTo>
                  <a:lnTo>
                    <a:pt x="46" y="52"/>
                  </a:lnTo>
                  <a:lnTo>
                    <a:pt x="36" y="60"/>
                  </a:lnTo>
                  <a:lnTo>
                    <a:pt x="32" y="62"/>
                  </a:lnTo>
                  <a:lnTo>
                    <a:pt x="32" y="70"/>
                  </a:lnTo>
                  <a:lnTo>
                    <a:pt x="26" y="72"/>
                  </a:lnTo>
                  <a:lnTo>
                    <a:pt x="23" y="70"/>
                  </a:lnTo>
                  <a:lnTo>
                    <a:pt x="20" y="65"/>
                  </a:lnTo>
                  <a:lnTo>
                    <a:pt x="16" y="62"/>
                  </a:lnTo>
                  <a:lnTo>
                    <a:pt x="16" y="60"/>
                  </a:lnTo>
                  <a:lnTo>
                    <a:pt x="13" y="52"/>
                  </a:lnTo>
                  <a:lnTo>
                    <a:pt x="13" y="49"/>
                  </a:lnTo>
                  <a:lnTo>
                    <a:pt x="10" y="46"/>
                  </a:lnTo>
                  <a:lnTo>
                    <a:pt x="1" y="30"/>
                  </a:lnTo>
                  <a:lnTo>
                    <a:pt x="3" y="29"/>
                  </a:lnTo>
                  <a:lnTo>
                    <a:pt x="0" y="27"/>
                  </a:lnTo>
                  <a:lnTo>
                    <a:pt x="3" y="16"/>
                  </a:lnTo>
                  <a:lnTo>
                    <a:pt x="0" y="13"/>
                  </a:lnTo>
                  <a:lnTo>
                    <a:pt x="7" y="1"/>
                  </a:lnTo>
                  <a:lnTo>
                    <a:pt x="13" y="1"/>
                  </a:lnTo>
                  <a:lnTo>
                    <a:pt x="14" y="7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6" y="3"/>
                  </a:lnTo>
                  <a:lnTo>
                    <a:pt x="49" y="6"/>
                  </a:lnTo>
                  <a:lnTo>
                    <a:pt x="53" y="3"/>
                  </a:lnTo>
                  <a:lnTo>
                    <a:pt x="56" y="6"/>
                  </a:lnTo>
                  <a:lnTo>
                    <a:pt x="59" y="3"/>
                  </a:lnTo>
                  <a:lnTo>
                    <a:pt x="63" y="6"/>
                  </a:lnTo>
                  <a:lnTo>
                    <a:pt x="66" y="4"/>
                  </a:lnTo>
                  <a:lnTo>
                    <a:pt x="68" y="8"/>
                  </a:lnTo>
                  <a:lnTo>
                    <a:pt x="72" y="10"/>
                  </a:lnTo>
                  <a:lnTo>
                    <a:pt x="79" y="1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414600" y="1827360"/>
              <a:ext cx="82800" cy="56880"/>
            </a:xfrm>
            <a:custGeom>
              <a:avLst/>
              <a:gdLst/>
              <a:ahLst/>
              <a:rect l="l" t="t" r="r" b="b"/>
              <a:pathLst>
                <a:path w="157" h="79">
                  <a:moveTo>
                    <a:pt x="37" y="7"/>
                  </a:moveTo>
                  <a:lnTo>
                    <a:pt x="36" y="0"/>
                  </a:lnTo>
                  <a:lnTo>
                    <a:pt x="24" y="17"/>
                  </a:lnTo>
                  <a:lnTo>
                    <a:pt x="24" y="32"/>
                  </a:lnTo>
                  <a:lnTo>
                    <a:pt x="7" y="46"/>
                  </a:lnTo>
                  <a:lnTo>
                    <a:pt x="9" y="55"/>
                  </a:lnTo>
                  <a:lnTo>
                    <a:pt x="9" y="59"/>
                  </a:lnTo>
                  <a:lnTo>
                    <a:pt x="0" y="79"/>
                  </a:lnTo>
                  <a:lnTo>
                    <a:pt x="27" y="75"/>
                  </a:lnTo>
                  <a:lnTo>
                    <a:pt x="62" y="79"/>
                  </a:lnTo>
                  <a:lnTo>
                    <a:pt x="75" y="72"/>
                  </a:lnTo>
                  <a:lnTo>
                    <a:pt x="82" y="68"/>
                  </a:lnTo>
                  <a:lnTo>
                    <a:pt x="89" y="62"/>
                  </a:lnTo>
                  <a:lnTo>
                    <a:pt x="122" y="61"/>
                  </a:lnTo>
                  <a:lnTo>
                    <a:pt x="119" y="49"/>
                  </a:lnTo>
                  <a:lnTo>
                    <a:pt x="130" y="39"/>
                  </a:lnTo>
                  <a:lnTo>
                    <a:pt x="145" y="23"/>
                  </a:lnTo>
                  <a:lnTo>
                    <a:pt x="157" y="13"/>
                  </a:lnTo>
                  <a:lnTo>
                    <a:pt x="121" y="4"/>
                  </a:lnTo>
                  <a:lnTo>
                    <a:pt x="81" y="15"/>
                  </a:lnTo>
                  <a:lnTo>
                    <a:pt x="59" y="12"/>
                  </a:lnTo>
                  <a:lnTo>
                    <a:pt x="37" y="7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257640" y="1836720"/>
              <a:ext cx="1440" cy="14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016080" y="1866960"/>
              <a:ext cx="68400" cy="96840"/>
            </a:xfrm>
            <a:custGeom>
              <a:avLst/>
              <a:gdLst/>
              <a:ahLst/>
              <a:rect l="l" t="t" r="r" b="b"/>
              <a:pathLst>
                <a:path w="127" h="134">
                  <a:moveTo>
                    <a:pt x="94" y="0"/>
                  </a:moveTo>
                  <a:lnTo>
                    <a:pt x="79" y="2"/>
                  </a:lnTo>
                  <a:lnTo>
                    <a:pt x="60" y="33"/>
                  </a:lnTo>
                  <a:lnTo>
                    <a:pt x="42" y="52"/>
                  </a:lnTo>
                  <a:lnTo>
                    <a:pt x="23" y="71"/>
                  </a:lnTo>
                  <a:lnTo>
                    <a:pt x="10" y="90"/>
                  </a:lnTo>
                  <a:lnTo>
                    <a:pt x="17" y="97"/>
                  </a:lnTo>
                  <a:lnTo>
                    <a:pt x="22" y="97"/>
                  </a:lnTo>
                  <a:lnTo>
                    <a:pt x="0" y="134"/>
                  </a:lnTo>
                  <a:lnTo>
                    <a:pt x="35" y="131"/>
                  </a:lnTo>
                  <a:lnTo>
                    <a:pt x="37" y="123"/>
                  </a:lnTo>
                  <a:lnTo>
                    <a:pt x="53" y="107"/>
                  </a:lnTo>
                  <a:lnTo>
                    <a:pt x="55" y="101"/>
                  </a:lnTo>
                  <a:lnTo>
                    <a:pt x="65" y="87"/>
                  </a:lnTo>
                  <a:lnTo>
                    <a:pt x="66" y="65"/>
                  </a:lnTo>
                  <a:lnTo>
                    <a:pt x="75" y="64"/>
                  </a:lnTo>
                  <a:lnTo>
                    <a:pt x="102" y="30"/>
                  </a:lnTo>
                  <a:lnTo>
                    <a:pt x="122" y="17"/>
                  </a:lnTo>
                  <a:lnTo>
                    <a:pt x="127" y="5"/>
                  </a:lnTo>
                  <a:lnTo>
                    <a:pt x="98" y="5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035160" y="1836720"/>
              <a:ext cx="163800" cy="142920"/>
            </a:xfrm>
            <a:custGeom>
              <a:avLst/>
              <a:gdLst/>
              <a:ahLst/>
              <a:rect l="l" t="t" r="r" b="b"/>
              <a:pathLst>
                <a:path w="313" h="205">
                  <a:moveTo>
                    <a:pt x="92" y="51"/>
                  </a:moveTo>
                  <a:lnTo>
                    <a:pt x="63" y="51"/>
                  </a:lnTo>
                  <a:lnTo>
                    <a:pt x="59" y="46"/>
                  </a:lnTo>
                  <a:lnTo>
                    <a:pt x="44" y="48"/>
                  </a:lnTo>
                  <a:lnTo>
                    <a:pt x="49" y="40"/>
                  </a:lnTo>
                  <a:lnTo>
                    <a:pt x="50" y="35"/>
                  </a:lnTo>
                  <a:lnTo>
                    <a:pt x="51" y="32"/>
                  </a:lnTo>
                  <a:lnTo>
                    <a:pt x="53" y="26"/>
                  </a:lnTo>
                  <a:lnTo>
                    <a:pt x="60" y="15"/>
                  </a:lnTo>
                  <a:lnTo>
                    <a:pt x="102" y="0"/>
                  </a:lnTo>
                  <a:lnTo>
                    <a:pt x="125" y="4"/>
                  </a:lnTo>
                  <a:lnTo>
                    <a:pt x="149" y="6"/>
                  </a:lnTo>
                  <a:lnTo>
                    <a:pt x="172" y="7"/>
                  </a:lnTo>
                  <a:lnTo>
                    <a:pt x="197" y="9"/>
                  </a:lnTo>
                  <a:lnTo>
                    <a:pt x="221" y="10"/>
                  </a:lnTo>
                  <a:lnTo>
                    <a:pt x="226" y="17"/>
                  </a:lnTo>
                  <a:lnTo>
                    <a:pt x="277" y="32"/>
                  </a:lnTo>
                  <a:lnTo>
                    <a:pt x="277" y="33"/>
                  </a:lnTo>
                  <a:lnTo>
                    <a:pt x="282" y="33"/>
                  </a:lnTo>
                  <a:lnTo>
                    <a:pt x="313" y="36"/>
                  </a:lnTo>
                  <a:lnTo>
                    <a:pt x="296" y="55"/>
                  </a:lnTo>
                  <a:lnTo>
                    <a:pt x="265" y="66"/>
                  </a:lnTo>
                  <a:lnTo>
                    <a:pt x="234" y="79"/>
                  </a:lnTo>
                  <a:lnTo>
                    <a:pt x="210" y="98"/>
                  </a:lnTo>
                  <a:lnTo>
                    <a:pt x="187" y="117"/>
                  </a:lnTo>
                  <a:lnTo>
                    <a:pt x="185" y="137"/>
                  </a:lnTo>
                  <a:lnTo>
                    <a:pt x="157" y="159"/>
                  </a:lnTo>
                  <a:lnTo>
                    <a:pt x="148" y="166"/>
                  </a:lnTo>
                  <a:lnTo>
                    <a:pt x="125" y="176"/>
                  </a:lnTo>
                  <a:lnTo>
                    <a:pt x="109" y="187"/>
                  </a:lnTo>
                  <a:lnTo>
                    <a:pt x="82" y="190"/>
                  </a:lnTo>
                  <a:lnTo>
                    <a:pt x="53" y="193"/>
                  </a:lnTo>
                  <a:lnTo>
                    <a:pt x="30" y="205"/>
                  </a:lnTo>
                  <a:lnTo>
                    <a:pt x="15" y="203"/>
                  </a:lnTo>
                  <a:lnTo>
                    <a:pt x="20" y="184"/>
                  </a:lnTo>
                  <a:lnTo>
                    <a:pt x="7" y="176"/>
                  </a:lnTo>
                  <a:lnTo>
                    <a:pt x="0" y="177"/>
                  </a:lnTo>
                  <a:lnTo>
                    <a:pt x="2" y="169"/>
                  </a:lnTo>
                  <a:lnTo>
                    <a:pt x="18" y="153"/>
                  </a:lnTo>
                  <a:lnTo>
                    <a:pt x="20" y="147"/>
                  </a:lnTo>
                  <a:lnTo>
                    <a:pt x="30" y="133"/>
                  </a:lnTo>
                  <a:lnTo>
                    <a:pt x="31" y="111"/>
                  </a:lnTo>
                  <a:lnTo>
                    <a:pt x="40" y="110"/>
                  </a:lnTo>
                  <a:lnTo>
                    <a:pt x="67" y="76"/>
                  </a:lnTo>
                  <a:lnTo>
                    <a:pt x="87" y="63"/>
                  </a:lnTo>
                  <a:lnTo>
                    <a:pt x="92" y="51"/>
                  </a:lnTo>
                  <a:close/>
                </a:path>
              </a:pathLst>
            </a:custGeom>
            <a:solidFill>
              <a:srgbClr val="00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166920" y="1911240"/>
              <a:ext cx="12960" cy="648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3"/>
                  </a:moveTo>
                  <a:lnTo>
                    <a:pt x="7" y="13"/>
                  </a:lnTo>
                  <a:lnTo>
                    <a:pt x="0" y="5"/>
                  </a:lnTo>
                  <a:lnTo>
                    <a:pt x="17" y="0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540240" y="2430360"/>
              <a:ext cx="19080" cy="28800"/>
            </a:xfrm>
            <a:custGeom>
              <a:avLst/>
              <a:gdLst/>
              <a:ahLst/>
              <a:rect l="l" t="t" r="r" b="b"/>
              <a:pathLst>
                <a:path w="36" h="41">
                  <a:moveTo>
                    <a:pt x="0" y="41"/>
                  </a:moveTo>
                  <a:lnTo>
                    <a:pt x="27" y="41"/>
                  </a:lnTo>
                  <a:lnTo>
                    <a:pt x="36" y="28"/>
                  </a:lnTo>
                  <a:lnTo>
                    <a:pt x="28" y="0"/>
                  </a:lnTo>
                  <a:lnTo>
                    <a:pt x="21" y="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427560" y="2394000"/>
              <a:ext cx="187200" cy="209520"/>
            </a:xfrm>
            <a:custGeom>
              <a:avLst/>
              <a:gdLst/>
              <a:ahLst/>
              <a:rect l="l" t="t" r="r" b="b"/>
              <a:pathLst>
                <a:path w="357" h="297">
                  <a:moveTo>
                    <a:pt x="114" y="291"/>
                  </a:moveTo>
                  <a:lnTo>
                    <a:pt x="85" y="271"/>
                  </a:lnTo>
                  <a:lnTo>
                    <a:pt x="65" y="266"/>
                  </a:lnTo>
                  <a:lnTo>
                    <a:pt x="59" y="246"/>
                  </a:lnTo>
                  <a:lnTo>
                    <a:pt x="46" y="239"/>
                  </a:lnTo>
                  <a:lnTo>
                    <a:pt x="39" y="222"/>
                  </a:lnTo>
                  <a:lnTo>
                    <a:pt x="30" y="203"/>
                  </a:lnTo>
                  <a:lnTo>
                    <a:pt x="9" y="183"/>
                  </a:lnTo>
                  <a:lnTo>
                    <a:pt x="0" y="176"/>
                  </a:lnTo>
                  <a:lnTo>
                    <a:pt x="10" y="163"/>
                  </a:lnTo>
                  <a:lnTo>
                    <a:pt x="27" y="160"/>
                  </a:lnTo>
                  <a:lnTo>
                    <a:pt x="33" y="129"/>
                  </a:lnTo>
                  <a:lnTo>
                    <a:pt x="39" y="99"/>
                  </a:lnTo>
                  <a:lnTo>
                    <a:pt x="52" y="98"/>
                  </a:lnTo>
                  <a:lnTo>
                    <a:pt x="62" y="68"/>
                  </a:lnTo>
                  <a:lnTo>
                    <a:pt x="92" y="23"/>
                  </a:lnTo>
                  <a:lnTo>
                    <a:pt x="104" y="26"/>
                  </a:lnTo>
                  <a:lnTo>
                    <a:pt x="115" y="13"/>
                  </a:lnTo>
                  <a:lnTo>
                    <a:pt x="125" y="21"/>
                  </a:lnTo>
                  <a:lnTo>
                    <a:pt x="131" y="0"/>
                  </a:lnTo>
                  <a:lnTo>
                    <a:pt x="141" y="13"/>
                  </a:lnTo>
                  <a:lnTo>
                    <a:pt x="157" y="10"/>
                  </a:lnTo>
                  <a:lnTo>
                    <a:pt x="168" y="13"/>
                  </a:lnTo>
                  <a:lnTo>
                    <a:pt x="183" y="20"/>
                  </a:lnTo>
                  <a:lnTo>
                    <a:pt x="190" y="30"/>
                  </a:lnTo>
                  <a:lnTo>
                    <a:pt x="202" y="46"/>
                  </a:lnTo>
                  <a:lnTo>
                    <a:pt x="222" y="53"/>
                  </a:lnTo>
                  <a:lnTo>
                    <a:pt x="222" y="60"/>
                  </a:lnTo>
                  <a:lnTo>
                    <a:pt x="236" y="53"/>
                  </a:lnTo>
                  <a:lnTo>
                    <a:pt x="215" y="93"/>
                  </a:lnTo>
                  <a:lnTo>
                    <a:pt x="242" y="93"/>
                  </a:lnTo>
                  <a:lnTo>
                    <a:pt x="236" y="109"/>
                  </a:lnTo>
                  <a:lnTo>
                    <a:pt x="249" y="128"/>
                  </a:lnTo>
                  <a:lnTo>
                    <a:pt x="264" y="148"/>
                  </a:lnTo>
                  <a:lnTo>
                    <a:pt x="281" y="155"/>
                  </a:lnTo>
                  <a:lnTo>
                    <a:pt x="298" y="161"/>
                  </a:lnTo>
                  <a:lnTo>
                    <a:pt x="315" y="168"/>
                  </a:lnTo>
                  <a:lnTo>
                    <a:pt x="333" y="176"/>
                  </a:lnTo>
                  <a:lnTo>
                    <a:pt x="357" y="176"/>
                  </a:lnTo>
                  <a:lnTo>
                    <a:pt x="337" y="196"/>
                  </a:lnTo>
                  <a:lnTo>
                    <a:pt x="318" y="217"/>
                  </a:lnTo>
                  <a:lnTo>
                    <a:pt x="300" y="237"/>
                  </a:lnTo>
                  <a:lnTo>
                    <a:pt x="279" y="259"/>
                  </a:lnTo>
                  <a:lnTo>
                    <a:pt x="261" y="261"/>
                  </a:lnTo>
                  <a:lnTo>
                    <a:pt x="242" y="262"/>
                  </a:lnTo>
                  <a:lnTo>
                    <a:pt x="219" y="278"/>
                  </a:lnTo>
                  <a:lnTo>
                    <a:pt x="207" y="284"/>
                  </a:lnTo>
                  <a:lnTo>
                    <a:pt x="183" y="279"/>
                  </a:lnTo>
                  <a:lnTo>
                    <a:pt x="158" y="286"/>
                  </a:lnTo>
                  <a:lnTo>
                    <a:pt x="147" y="297"/>
                  </a:lnTo>
                  <a:lnTo>
                    <a:pt x="114" y="291"/>
                  </a:lnTo>
                  <a:close/>
                </a:path>
              </a:pathLst>
            </a:custGeom>
            <a:solidFill>
              <a:srgbClr val="00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048120" y="2406600"/>
              <a:ext cx="153720" cy="179280"/>
            </a:xfrm>
            <a:custGeom>
              <a:avLst/>
              <a:gdLst/>
              <a:ahLst/>
              <a:rect l="l" t="t" r="r" b="b"/>
              <a:pathLst>
                <a:path w="296" h="253">
                  <a:moveTo>
                    <a:pt x="188" y="181"/>
                  </a:moveTo>
                  <a:lnTo>
                    <a:pt x="170" y="187"/>
                  </a:lnTo>
                  <a:lnTo>
                    <a:pt x="157" y="203"/>
                  </a:lnTo>
                  <a:lnTo>
                    <a:pt x="145" y="219"/>
                  </a:lnTo>
                  <a:lnTo>
                    <a:pt x="136" y="242"/>
                  </a:lnTo>
                  <a:lnTo>
                    <a:pt x="129" y="241"/>
                  </a:lnTo>
                  <a:lnTo>
                    <a:pt x="129" y="249"/>
                  </a:lnTo>
                  <a:lnTo>
                    <a:pt x="106" y="249"/>
                  </a:lnTo>
                  <a:lnTo>
                    <a:pt x="102" y="246"/>
                  </a:lnTo>
                  <a:lnTo>
                    <a:pt x="99" y="248"/>
                  </a:lnTo>
                  <a:lnTo>
                    <a:pt x="95" y="251"/>
                  </a:lnTo>
                  <a:lnTo>
                    <a:pt x="92" y="242"/>
                  </a:lnTo>
                  <a:lnTo>
                    <a:pt x="92" y="253"/>
                  </a:lnTo>
                  <a:lnTo>
                    <a:pt x="92" y="249"/>
                  </a:lnTo>
                  <a:lnTo>
                    <a:pt x="89" y="251"/>
                  </a:lnTo>
                  <a:lnTo>
                    <a:pt x="80" y="251"/>
                  </a:lnTo>
                  <a:lnTo>
                    <a:pt x="70" y="252"/>
                  </a:lnTo>
                  <a:lnTo>
                    <a:pt x="62" y="226"/>
                  </a:lnTo>
                  <a:lnTo>
                    <a:pt x="64" y="225"/>
                  </a:lnTo>
                  <a:lnTo>
                    <a:pt x="59" y="220"/>
                  </a:lnTo>
                  <a:lnTo>
                    <a:pt x="62" y="220"/>
                  </a:lnTo>
                  <a:lnTo>
                    <a:pt x="56" y="215"/>
                  </a:lnTo>
                  <a:lnTo>
                    <a:pt x="31" y="197"/>
                  </a:lnTo>
                  <a:lnTo>
                    <a:pt x="18" y="197"/>
                  </a:lnTo>
                  <a:lnTo>
                    <a:pt x="24" y="193"/>
                  </a:lnTo>
                  <a:lnTo>
                    <a:pt x="0" y="199"/>
                  </a:lnTo>
                  <a:lnTo>
                    <a:pt x="4" y="163"/>
                  </a:lnTo>
                  <a:lnTo>
                    <a:pt x="10" y="125"/>
                  </a:lnTo>
                  <a:lnTo>
                    <a:pt x="30" y="95"/>
                  </a:lnTo>
                  <a:lnTo>
                    <a:pt x="34" y="71"/>
                  </a:lnTo>
                  <a:lnTo>
                    <a:pt x="33" y="56"/>
                  </a:lnTo>
                  <a:lnTo>
                    <a:pt x="36" y="45"/>
                  </a:lnTo>
                  <a:lnTo>
                    <a:pt x="46" y="26"/>
                  </a:lnTo>
                  <a:lnTo>
                    <a:pt x="53" y="7"/>
                  </a:lnTo>
                  <a:lnTo>
                    <a:pt x="76" y="0"/>
                  </a:lnTo>
                  <a:lnTo>
                    <a:pt x="99" y="1"/>
                  </a:lnTo>
                  <a:lnTo>
                    <a:pt x="113" y="17"/>
                  </a:lnTo>
                  <a:lnTo>
                    <a:pt x="139" y="10"/>
                  </a:lnTo>
                  <a:lnTo>
                    <a:pt x="155" y="17"/>
                  </a:lnTo>
                  <a:lnTo>
                    <a:pt x="172" y="24"/>
                  </a:lnTo>
                  <a:lnTo>
                    <a:pt x="201" y="12"/>
                  </a:lnTo>
                  <a:lnTo>
                    <a:pt x="226" y="14"/>
                  </a:lnTo>
                  <a:lnTo>
                    <a:pt x="249" y="16"/>
                  </a:lnTo>
                  <a:lnTo>
                    <a:pt x="278" y="0"/>
                  </a:lnTo>
                  <a:lnTo>
                    <a:pt x="286" y="17"/>
                  </a:lnTo>
                  <a:lnTo>
                    <a:pt x="288" y="37"/>
                  </a:lnTo>
                  <a:lnTo>
                    <a:pt x="296" y="48"/>
                  </a:lnTo>
                  <a:lnTo>
                    <a:pt x="289" y="63"/>
                  </a:lnTo>
                  <a:lnTo>
                    <a:pt x="270" y="78"/>
                  </a:lnTo>
                  <a:lnTo>
                    <a:pt x="259" y="98"/>
                  </a:lnTo>
                  <a:lnTo>
                    <a:pt x="249" y="117"/>
                  </a:lnTo>
                  <a:lnTo>
                    <a:pt x="239" y="138"/>
                  </a:lnTo>
                  <a:lnTo>
                    <a:pt x="229" y="153"/>
                  </a:lnTo>
                  <a:lnTo>
                    <a:pt x="217" y="176"/>
                  </a:lnTo>
                  <a:lnTo>
                    <a:pt x="201" y="197"/>
                  </a:lnTo>
                  <a:lnTo>
                    <a:pt x="188" y="181"/>
                  </a:lnTo>
                  <a:close/>
                </a:path>
              </a:pathLst>
            </a:custGeom>
            <a:solidFill>
              <a:srgbClr val="00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119400" y="2419200"/>
              <a:ext cx="93600" cy="214560"/>
            </a:xfrm>
            <a:custGeom>
              <a:avLst/>
              <a:gdLst/>
              <a:ahLst/>
              <a:rect l="l" t="t" r="r" b="b"/>
              <a:pathLst>
                <a:path w="181" h="307">
                  <a:moveTo>
                    <a:pt x="180" y="84"/>
                  </a:moveTo>
                  <a:lnTo>
                    <a:pt x="153" y="84"/>
                  </a:lnTo>
                  <a:lnTo>
                    <a:pt x="140" y="91"/>
                  </a:lnTo>
                  <a:lnTo>
                    <a:pt x="158" y="116"/>
                  </a:lnTo>
                  <a:lnTo>
                    <a:pt x="171" y="150"/>
                  </a:lnTo>
                  <a:lnTo>
                    <a:pt x="157" y="173"/>
                  </a:lnTo>
                  <a:lnTo>
                    <a:pt x="144" y="195"/>
                  </a:lnTo>
                  <a:lnTo>
                    <a:pt x="150" y="232"/>
                  </a:lnTo>
                  <a:lnTo>
                    <a:pt x="161" y="251"/>
                  </a:lnTo>
                  <a:lnTo>
                    <a:pt x="174" y="270"/>
                  </a:lnTo>
                  <a:lnTo>
                    <a:pt x="181" y="294"/>
                  </a:lnTo>
                  <a:lnTo>
                    <a:pt x="176" y="307"/>
                  </a:lnTo>
                  <a:lnTo>
                    <a:pt x="155" y="301"/>
                  </a:lnTo>
                  <a:lnTo>
                    <a:pt x="135" y="297"/>
                  </a:lnTo>
                  <a:lnTo>
                    <a:pt x="112" y="296"/>
                  </a:lnTo>
                  <a:lnTo>
                    <a:pt x="88" y="296"/>
                  </a:lnTo>
                  <a:lnTo>
                    <a:pt x="65" y="296"/>
                  </a:lnTo>
                  <a:lnTo>
                    <a:pt x="46" y="294"/>
                  </a:lnTo>
                  <a:lnTo>
                    <a:pt x="29" y="291"/>
                  </a:lnTo>
                  <a:lnTo>
                    <a:pt x="30" y="262"/>
                  </a:lnTo>
                  <a:lnTo>
                    <a:pt x="27" y="251"/>
                  </a:lnTo>
                  <a:lnTo>
                    <a:pt x="26" y="245"/>
                  </a:lnTo>
                  <a:lnTo>
                    <a:pt x="10" y="244"/>
                  </a:lnTo>
                  <a:lnTo>
                    <a:pt x="3" y="228"/>
                  </a:lnTo>
                  <a:lnTo>
                    <a:pt x="0" y="229"/>
                  </a:lnTo>
                  <a:lnTo>
                    <a:pt x="1" y="225"/>
                  </a:lnTo>
                  <a:lnTo>
                    <a:pt x="10" y="202"/>
                  </a:lnTo>
                  <a:lnTo>
                    <a:pt x="22" y="186"/>
                  </a:lnTo>
                  <a:lnTo>
                    <a:pt x="35" y="170"/>
                  </a:lnTo>
                  <a:lnTo>
                    <a:pt x="53" y="164"/>
                  </a:lnTo>
                  <a:lnTo>
                    <a:pt x="66" y="180"/>
                  </a:lnTo>
                  <a:lnTo>
                    <a:pt x="82" y="159"/>
                  </a:lnTo>
                  <a:lnTo>
                    <a:pt x="94" y="136"/>
                  </a:lnTo>
                  <a:lnTo>
                    <a:pt x="104" y="121"/>
                  </a:lnTo>
                  <a:lnTo>
                    <a:pt x="114" y="100"/>
                  </a:lnTo>
                  <a:lnTo>
                    <a:pt x="124" y="81"/>
                  </a:lnTo>
                  <a:lnTo>
                    <a:pt x="135" y="61"/>
                  </a:lnTo>
                  <a:lnTo>
                    <a:pt x="154" y="46"/>
                  </a:lnTo>
                  <a:lnTo>
                    <a:pt x="161" y="31"/>
                  </a:lnTo>
                  <a:lnTo>
                    <a:pt x="153" y="20"/>
                  </a:lnTo>
                  <a:lnTo>
                    <a:pt x="151" y="0"/>
                  </a:lnTo>
                  <a:lnTo>
                    <a:pt x="160" y="0"/>
                  </a:lnTo>
                  <a:lnTo>
                    <a:pt x="168" y="28"/>
                  </a:lnTo>
                  <a:lnTo>
                    <a:pt x="167" y="58"/>
                  </a:lnTo>
                  <a:lnTo>
                    <a:pt x="180" y="84"/>
                  </a:lnTo>
                  <a:close/>
                </a:path>
              </a:pathLst>
            </a:custGeom>
            <a:solidFill>
              <a:srgbClr val="00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193920" y="2460600"/>
              <a:ext cx="160560" cy="165240"/>
            </a:xfrm>
            <a:custGeom>
              <a:avLst/>
              <a:gdLst/>
              <a:ahLst/>
              <a:rect l="l" t="t" r="r" b="b"/>
              <a:pathLst>
                <a:path w="308" h="235">
                  <a:moveTo>
                    <a:pt x="114" y="65"/>
                  </a:moveTo>
                  <a:lnTo>
                    <a:pt x="111" y="57"/>
                  </a:lnTo>
                  <a:lnTo>
                    <a:pt x="145" y="49"/>
                  </a:lnTo>
                  <a:lnTo>
                    <a:pt x="166" y="28"/>
                  </a:lnTo>
                  <a:lnTo>
                    <a:pt x="186" y="6"/>
                  </a:lnTo>
                  <a:lnTo>
                    <a:pt x="209" y="0"/>
                  </a:lnTo>
                  <a:lnTo>
                    <a:pt x="217" y="18"/>
                  </a:lnTo>
                  <a:lnTo>
                    <a:pt x="226" y="33"/>
                  </a:lnTo>
                  <a:lnTo>
                    <a:pt x="220" y="59"/>
                  </a:lnTo>
                  <a:lnTo>
                    <a:pt x="236" y="64"/>
                  </a:lnTo>
                  <a:lnTo>
                    <a:pt x="240" y="72"/>
                  </a:lnTo>
                  <a:lnTo>
                    <a:pt x="261" y="88"/>
                  </a:lnTo>
                  <a:lnTo>
                    <a:pt x="265" y="98"/>
                  </a:lnTo>
                  <a:lnTo>
                    <a:pt x="284" y="120"/>
                  </a:lnTo>
                  <a:lnTo>
                    <a:pt x="292" y="133"/>
                  </a:lnTo>
                  <a:lnTo>
                    <a:pt x="304" y="152"/>
                  </a:lnTo>
                  <a:lnTo>
                    <a:pt x="308" y="160"/>
                  </a:lnTo>
                  <a:lnTo>
                    <a:pt x="295" y="157"/>
                  </a:lnTo>
                  <a:lnTo>
                    <a:pt x="276" y="154"/>
                  </a:lnTo>
                  <a:lnTo>
                    <a:pt x="258" y="153"/>
                  </a:lnTo>
                  <a:lnTo>
                    <a:pt x="249" y="160"/>
                  </a:lnTo>
                  <a:lnTo>
                    <a:pt x="232" y="160"/>
                  </a:lnTo>
                  <a:lnTo>
                    <a:pt x="207" y="169"/>
                  </a:lnTo>
                  <a:lnTo>
                    <a:pt x="196" y="167"/>
                  </a:lnTo>
                  <a:lnTo>
                    <a:pt x="184" y="183"/>
                  </a:lnTo>
                  <a:lnTo>
                    <a:pt x="163" y="177"/>
                  </a:lnTo>
                  <a:lnTo>
                    <a:pt x="140" y="170"/>
                  </a:lnTo>
                  <a:lnTo>
                    <a:pt x="117" y="157"/>
                  </a:lnTo>
                  <a:lnTo>
                    <a:pt x="95" y="180"/>
                  </a:lnTo>
                  <a:lnTo>
                    <a:pt x="96" y="202"/>
                  </a:lnTo>
                  <a:lnTo>
                    <a:pt x="78" y="201"/>
                  </a:lnTo>
                  <a:lnTo>
                    <a:pt x="59" y="199"/>
                  </a:lnTo>
                  <a:lnTo>
                    <a:pt x="46" y="206"/>
                  </a:lnTo>
                  <a:lnTo>
                    <a:pt x="37" y="235"/>
                  </a:lnTo>
                  <a:lnTo>
                    <a:pt x="30" y="211"/>
                  </a:lnTo>
                  <a:lnTo>
                    <a:pt x="17" y="192"/>
                  </a:lnTo>
                  <a:lnTo>
                    <a:pt x="6" y="173"/>
                  </a:lnTo>
                  <a:lnTo>
                    <a:pt x="0" y="136"/>
                  </a:lnTo>
                  <a:lnTo>
                    <a:pt x="13" y="114"/>
                  </a:lnTo>
                  <a:lnTo>
                    <a:pt x="27" y="91"/>
                  </a:lnTo>
                  <a:lnTo>
                    <a:pt x="49" y="84"/>
                  </a:lnTo>
                  <a:lnTo>
                    <a:pt x="55" y="88"/>
                  </a:lnTo>
                  <a:lnTo>
                    <a:pt x="68" y="85"/>
                  </a:lnTo>
                  <a:lnTo>
                    <a:pt x="101" y="78"/>
                  </a:lnTo>
                  <a:lnTo>
                    <a:pt x="114" y="65"/>
                  </a:lnTo>
                  <a:close/>
                </a:path>
              </a:pathLst>
            </a:custGeom>
            <a:solidFill>
              <a:srgbClr val="00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873520" y="2192400"/>
              <a:ext cx="215640" cy="280800"/>
            </a:xfrm>
            <a:custGeom>
              <a:avLst/>
              <a:gdLst/>
              <a:ahLst/>
              <a:rect l="l" t="t" r="r" b="b"/>
              <a:pathLst>
                <a:path w="412" h="401">
                  <a:moveTo>
                    <a:pt x="78" y="368"/>
                  </a:moveTo>
                  <a:lnTo>
                    <a:pt x="74" y="377"/>
                  </a:lnTo>
                  <a:lnTo>
                    <a:pt x="77" y="377"/>
                  </a:lnTo>
                  <a:lnTo>
                    <a:pt x="85" y="401"/>
                  </a:lnTo>
                  <a:lnTo>
                    <a:pt x="91" y="397"/>
                  </a:lnTo>
                  <a:lnTo>
                    <a:pt x="105" y="400"/>
                  </a:lnTo>
                  <a:lnTo>
                    <a:pt x="117" y="393"/>
                  </a:lnTo>
                  <a:lnTo>
                    <a:pt x="126" y="387"/>
                  </a:lnTo>
                  <a:lnTo>
                    <a:pt x="129" y="397"/>
                  </a:lnTo>
                  <a:lnTo>
                    <a:pt x="144" y="394"/>
                  </a:lnTo>
                  <a:lnTo>
                    <a:pt x="154" y="358"/>
                  </a:lnTo>
                  <a:lnTo>
                    <a:pt x="163" y="353"/>
                  </a:lnTo>
                  <a:lnTo>
                    <a:pt x="177" y="340"/>
                  </a:lnTo>
                  <a:lnTo>
                    <a:pt x="183" y="329"/>
                  </a:lnTo>
                  <a:lnTo>
                    <a:pt x="189" y="314"/>
                  </a:lnTo>
                  <a:lnTo>
                    <a:pt x="203" y="319"/>
                  </a:lnTo>
                  <a:lnTo>
                    <a:pt x="209" y="309"/>
                  </a:lnTo>
                  <a:lnTo>
                    <a:pt x="213" y="308"/>
                  </a:lnTo>
                  <a:lnTo>
                    <a:pt x="225" y="293"/>
                  </a:lnTo>
                  <a:lnTo>
                    <a:pt x="238" y="293"/>
                  </a:lnTo>
                  <a:lnTo>
                    <a:pt x="244" y="283"/>
                  </a:lnTo>
                  <a:lnTo>
                    <a:pt x="275" y="269"/>
                  </a:lnTo>
                  <a:lnTo>
                    <a:pt x="297" y="270"/>
                  </a:lnTo>
                  <a:lnTo>
                    <a:pt x="301" y="272"/>
                  </a:lnTo>
                  <a:lnTo>
                    <a:pt x="324" y="263"/>
                  </a:lnTo>
                  <a:lnTo>
                    <a:pt x="350" y="262"/>
                  </a:lnTo>
                  <a:lnTo>
                    <a:pt x="376" y="262"/>
                  </a:lnTo>
                  <a:lnTo>
                    <a:pt x="394" y="237"/>
                  </a:lnTo>
                  <a:lnTo>
                    <a:pt x="398" y="217"/>
                  </a:lnTo>
                  <a:lnTo>
                    <a:pt x="402" y="198"/>
                  </a:lnTo>
                  <a:lnTo>
                    <a:pt x="408" y="178"/>
                  </a:lnTo>
                  <a:lnTo>
                    <a:pt x="412" y="158"/>
                  </a:lnTo>
                  <a:lnTo>
                    <a:pt x="385" y="158"/>
                  </a:lnTo>
                  <a:lnTo>
                    <a:pt x="388" y="138"/>
                  </a:lnTo>
                  <a:lnTo>
                    <a:pt x="358" y="124"/>
                  </a:lnTo>
                  <a:lnTo>
                    <a:pt x="349" y="113"/>
                  </a:lnTo>
                  <a:lnTo>
                    <a:pt x="350" y="106"/>
                  </a:lnTo>
                  <a:lnTo>
                    <a:pt x="336" y="92"/>
                  </a:lnTo>
                  <a:lnTo>
                    <a:pt x="321" y="79"/>
                  </a:lnTo>
                  <a:lnTo>
                    <a:pt x="307" y="66"/>
                  </a:lnTo>
                  <a:lnTo>
                    <a:pt x="293" y="53"/>
                  </a:lnTo>
                  <a:lnTo>
                    <a:pt x="278" y="40"/>
                  </a:lnTo>
                  <a:lnTo>
                    <a:pt x="264" y="27"/>
                  </a:lnTo>
                  <a:lnTo>
                    <a:pt x="249" y="14"/>
                  </a:lnTo>
                  <a:lnTo>
                    <a:pt x="235" y="0"/>
                  </a:lnTo>
                  <a:lnTo>
                    <a:pt x="213" y="0"/>
                  </a:lnTo>
                  <a:lnTo>
                    <a:pt x="193" y="0"/>
                  </a:lnTo>
                  <a:lnTo>
                    <a:pt x="189" y="28"/>
                  </a:lnTo>
                  <a:lnTo>
                    <a:pt x="186" y="57"/>
                  </a:lnTo>
                  <a:lnTo>
                    <a:pt x="182" y="86"/>
                  </a:lnTo>
                  <a:lnTo>
                    <a:pt x="177" y="115"/>
                  </a:lnTo>
                  <a:lnTo>
                    <a:pt x="175" y="144"/>
                  </a:lnTo>
                  <a:lnTo>
                    <a:pt x="172" y="172"/>
                  </a:lnTo>
                  <a:lnTo>
                    <a:pt x="169" y="201"/>
                  </a:lnTo>
                  <a:lnTo>
                    <a:pt x="167" y="230"/>
                  </a:lnTo>
                  <a:lnTo>
                    <a:pt x="172" y="234"/>
                  </a:lnTo>
                  <a:lnTo>
                    <a:pt x="165" y="257"/>
                  </a:lnTo>
                  <a:lnTo>
                    <a:pt x="141" y="257"/>
                  </a:lnTo>
                  <a:lnTo>
                    <a:pt x="118" y="257"/>
                  </a:lnTo>
                  <a:lnTo>
                    <a:pt x="95" y="257"/>
                  </a:lnTo>
                  <a:lnTo>
                    <a:pt x="74" y="257"/>
                  </a:lnTo>
                  <a:lnTo>
                    <a:pt x="71" y="255"/>
                  </a:lnTo>
                  <a:lnTo>
                    <a:pt x="36" y="263"/>
                  </a:lnTo>
                  <a:lnTo>
                    <a:pt x="32" y="265"/>
                  </a:lnTo>
                  <a:lnTo>
                    <a:pt x="20" y="256"/>
                  </a:lnTo>
                  <a:lnTo>
                    <a:pt x="5" y="279"/>
                  </a:lnTo>
                  <a:lnTo>
                    <a:pt x="0" y="278"/>
                  </a:lnTo>
                  <a:lnTo>
                    <a:pt x="3" y="304"/>
                  </a:lnTo>
                  <a:lnTo>
                    <a:pt x="9" y="315"/>
                  </a:lnTo>
                  <a:lnTo>
                    <a:pt x="12" y="341"/>
                  </a:lnTo>
                  <a:lnTo>
                    <a:pt x="9" y="347"/>
                  </a:lnTo>
                  <a:lnTo>
                    <a:pt x="23" y="348"/>
                  </a:lnTo>
                  <a:lnTo>
                    <a:pt x="31" y="351"/>
                  </a:lnTo>
                  <a:lnTo>
                    <a:pt x="45" y="350"/>
                  </a:lnTo>
                  <a:lnTo>
                    <a:pt x="61" y="344"/>
                  </a:lnTo>
                  <a:lnTo>
                    <a:pt x="65" y="338"/>
                  </a:lnTo>
                  <a:lnTo>
                    <a:pt x="69" y="361"/>
                  </a:lnTo>
                  <a:lnTo>
                    <a:pt x="78" y="368"/>
                  </a:lnTo>
                  <a:close/>
                </a:path>
              </a:pathLst>
            </a:custGeom>
            <a:solidFill>
              <a:srgbClr val="00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191040" y="2220840"/>
              <a:ext cx="141120" cy="303120"/>
            </a:xfrm>
            <a:custGeom>
              <a:avLst/>
              <a:gdLst/>
              <a:ahLst/>
              <a:rect l="l" t="t" r="r" b="b"/>
              <a:pathLst>
                <a:path w="270" h="431">
                  <a:moveTo>
                    <a:pt x="270" y="108"/>
                  </a:moveTo>
                  <a:lnTo>
                    <a:pt x="249" y="94"/>
                  </a:lnTo>
                  <a:lnTo>
                    <a:pt x="229" y="81"/>
                  </a:lnTo>
                  <a:lnTo>
                    <a:pt x="207" y="67"/>
                  </a:lnTo>
                  <a:lnTo>
                    <a:pt x="187" y="54"/>
                  </a:lnTo>
                  <a:lnTo>
                    <a:pt x="165" y="41"/>
                  </a:lnTo>
                  <a:lnTo>
                    <a:pt x="145" y="26"/>
                  </a:lnTo>
                  <a:lnTo>
                    <a:pt x="124" y="13"/>
                  </a:lnTo>
                  <a:lnTo>
                    <a:pt x="103" y="0"/>
                  </a:lnTo>
                  <a:lnTo>
                    <a:pt x="77" y="13"/>
                  </a:lnTo>
                  <a:lnTo>
                    <a:pt x="76" y="34"/>
                  </a:lnTo>
                  <a:lnTo>
                    <a:pt x="75" y="54"/>
                  </a:lnTo>
                  <a:lnTo>
                    <a:pt x="88" y="85"/>
                  </a:lnTo>
                  <a:lnTo>
                    <a:pt x="79" y="97"/>
                  </a:lnTo>
                  <a:lnTo>
                    <a:pt x="75" y="117"/>
                  </a:lnTo>
                  <a:lnTo>
                    <a:pt x="69" y="137"/>
                  </a:lnTo>
                  <a:lnTo>
                    <a:pt x="64" y="157"/>
                  </a:lnTo>
                  <a:lnTo>
                    <a:pt x="59" y="179"/>
                  </a:lnTo>
                  <a:lnTo>
                    <a:pt x="46" y="195"/>
                  </a:lnTo>
                  <a:lnTo>
                    <a:pt x="31" y="211"/>
                  </a:lnTo>
                  <a:lnTo>
                    <a:pt x="18" y="227"/>
                  </a:lnTo>
                  <a:lnTo>
                    <a:pt x="5" y="242"/>
                  </a:lnTo>
                  <a:lnTo>
                    <a:pt x="3" y="264"/>
                  </a:lnTo>
                  <a:lnTo>
                    <a:pt x="11" y="281"/>
                  </a:lnTo>
                  <a:lnTo>
                    <a:pt x="20" y="281"/>
                  </a:lnTo>
                  <a:lnTo>
                    <a:pt x="28" y="309"/>
                  </a:lnTo>
                  <a:lnTo>
                    <a:pt x="27" y="339"/>
                  </a:lnTo>
                  <a:lnTo>
                    <a:pt x="40" y="365"/>
                  </a:lnTo>
                  <a:lnTo>
                    <a:pt x="13" y="365"/>
                  </a:lnTo>
                  <a:lnTo>
                    <a:pt x="0" y="372"/>
                  </a:lnTo>
                  <a:lnTo>
                    <a:pt x="18" y="397"/>
                  </a:lnTo>
                  <a:lnTo>
                    <a:pt x="31" y="431"/>
                  </a:lnTo>
                  <a:lnTo>
                    <a:pt x="53" y="424"/>
                  </a:lnTo>
                  <a:lnTo>
                    <a:pt x="59" y="428"/>
                  </a:lnTo>
                  <a:lnTo>
                    <a:pt x="72" y="425"/>
                  </a:lnTo>
                  <a:lnTo>
                    <a:pt x="105" y="418"/>
                  </a:lnTo>
                  <a:lnTo>
                    <a:pt x="118" y="405"/>
                  </a:lnTo>
                  <a:lnTo>
                    <a:pt x="115" y="397"/>
                  </a:lnTo>
                  <a:lnTo>
                    <a:pt x="149" y="389"/>
                  </a:lnTo>
                  <a:lnTo>
                    <a:pt x="170" y="368"/>
                  </a:lnTo>
                  <a:lnTo>
                    <a:pt x="190" y="346"/>
                  </a:lnTo>
                  <a:lnTo>
                    <a:pt x="213" y="340"/>
                  </a:lnTo>
                  <a:lnTo>
                    <a:pt x="213" y="326"/>
                  </a:lnTo>
                  <a:lnTo>
                    <a:pt x="211" y="312"/>
                  </a:lnTo>
                  <a:lnTo>
                    <a:pt x="203" y="290"/>
                  </a:lnTo>
                  <a:lnTo>
                    <a:pt x="194" y="290"/>
                  </a:lnTo>
                  <a:lnTo>
                    <a:pt x="206" y="268"/>
                  </a:lnTo>
                  <a:lnTo>
                    <a:pt x="210" y="257"/>
                  </a:lnTo>
                  <a:lnTo>
                    <a:pt x="213" y="250"/>
                  </a:lnTo>
                  <a:lnTo>
                    <a:pt x="214" y="240"/>
                  </a:lnTo>
                  <a:lnTo>
                    <a:pt x="230" y="218"/>
                  </a:lnTo>
                  <a:lnTo>
                    <a:pt x="240" y="211"/>
                  </a:lnTo>
                  <a:lnTo>
                    <a:pt x="255" y="211"/>
                  </a:lnTo>
                  <a:lnTo>
                    <a:pt x="259" y="185"/>
                  </a:lnTo>
                  <a:lnTo>
                    <a:pt x="263" y="159"/>
                  </a:lnTo>
                  <a:lnTo>
                    <a:pt x="266" y="134"/>
                  </a:lnTo>
                  <a:lnTo>
                    <a:pt x="270" y="108"/>
                  </a:lnTo>
                  <a:close/>
                </a:path>
              </a:pathLst>
            </a:custGeom>
            <a:solidFill>
              <a:srgbClr val="00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475080" y="2327400"/>
              <a:ext cx="81000" cy="108000"/>
            </a:xfrm>
            <a:custGeom>
              <a:avLst/>
              <a:gdLst/>
              <a:ahLst/>
              <a:rect l="l" t="t" r="r" b="b"/>
              <a:pathLst>
                <a:path w="154" h="155">
                  <a:moveTo>
                    <a:pt x="0" y="118"/>
                  </a:moveTo>
                  <a:lnTo>
                    <a:pt x="6" y="98"/>
                  </a:lnTo>
                  <a:lnTo>
                    <a:pt x="15" y="60"/>
                  </a:lnTo>
                  <a:lnTo>
                    <a:pt x="29" y="26"/>
                  </a:lnTo>
                  <a:lnTo>
                    <a:pt x="46" y="14"/>
                  </a:lnTo>
                  <a:lnTo>
                    <a:pt x="64" y="3"/>
                  </a:lnTo>
                  <a:lnTo>
                    <a:pt x="68" y="0"/>
                  </a:lnTo>
                  <a:lnTo>
                    <a:pt x="71" y="18"/>
                  </a:lnTo>
                  <a:lnTo>
                    <a:pt x="75" y="39"/>
                  </a:lnTo>
                  <a:lnTo>
                    <a:pt x="79" y="57"/>
                  </a:lnTo>
                  <a:lnTo>
                    <a:pt x="82" y="78"/>
                  </a:lnTo>
                  <a:lnTo>
                    <a:pt x="85" y="70"/>
                  </a:lnTo>
                  <a:lnTo>
                    <a:pt x="91" y="75"/>
                  </a:lnTo>
                  <a:lnTo>
                    <a:pt x="108" y="89"/>
                  </a:lnTo>
                  <a:lnTo>
                    <a:pt x="131" y="115"/>
                  </a:lnTo>
                  <a:lnTo>
                    <a:pt x="154" y="141"/>
                  </a:lnTo>
                  <a:lnTo>
                    <a:pt x="154" y="145"/>
                  </a:lnTo>
                  <a:lnTo>
                    <a:pt x="151" y="147"/>
                  </a:lnTo>
                  <a:lnTo>
                    <a:pt x="144" y="148"/>
                  </a:lnTo>
                  <a:lnTo>
                    <a:pt x="130" y="155"/>
                  </a:lnTo>
                  <a:lnTo>
                    <a:pt x="130" y="148"/>
                  </a:lnTo>
                  <a:lnTo>
                    <a:pt x="110" y="141"/>
                  </a:lnTo>
                  <a:lnTo>
                    <a:pt x="98" y="125"/>
                  </a:lnTo>
                  <a:lnTo>
                    <a:pt x="91" y="115"/>
                  </a:lnTo>
                  <a:lnTo>
                    <a:pt x="76" y="108"/>
                  </a:lnTo>
                  <a:lnTo>
                    <a:pt x="65" y="105"/>
                  </a:lnTo>
                  <a:lnTo>
                    <a:pt x="49" y="108"/>
                  </a:lnTo>
                  <a:lnTo>
                    <a:pt x="39" y="95"/>
                  </a:lnTo>
                  <a:lnTo>
                    <a:pt x="33" y="116"/>
                  </a:lnTo>
                  <a:lnTo>
                    <a:pt x="23" y="108"/>
                  </a:lnTo>
                  <a:lnTo>
                    <a:pt x="12" y="121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029040" y="2220840"/>
              <a:ext cx="209520" cy="225360"/>
            </a:xfrm>
            <a:custGeom>
              <a:avLst/>
              <a:gdLst/>
              <a:ahLst/>
              <a:rect l="l" t="t" r="r" b="b"/>
              <a:pathLst>
                <a:path w="398" h="321">
                  <a:moveTo>
                    <a:pt x="32" y="292"/>
                  </a:moveTo>
                  <a:lnTo>
                    <a:pt x="23" y="295"/>
                  </a:lnTo>
                  <a:lnTo>
                    <a:pt x="12" y="284"/>
                  </a:lnTo>
                  <a:lnTo>
                    <a:pt x="13" y="275"/>
                  </a:lnTo>
                  <a:lnTo>
                    <a:pt x="16" y="274"/>
                  </a:lnTo>
                  <a:lnTo>
                    <a:pt x="0" y="253"/>
                  </a:lnTo>
                  <a:lnTo>
                    <a:pt x="0" y="230"/>
                  </a:lnTo>
                  <a:lnTo>
                    <a:pt x="4" y="232"/>
                  </a:lnTo>
                  <a:lnTo>
                    <a:pt x="27" y="223"/>
                  </a:lnTo>
                  <a:lnTo>
                    <a:pt x="53" y="222"/>
                  </a:lnTo>
                  <a:lnTo>
                    <a:pt x="79" y="222"/>
                  </a:lnTo>
                  <a:lnTo>
                    <a:pt x="97" y="197"/>
                  </a:lnTo>
                  <a:lnTo>
                    <a:pt x="101" y="177"/>
                  </a:lnTo>
                  <a:lnTo>
                    <a:pt x="105" y="158"/>
                  </a:lnTo>
                  <a:lnTo>
                    <a:pt x="111" y="138"/>
                  </a:lnTo>
                  <a:lnTo>
                    <a:pt x="115" y="118"/>
                  </a:lnTo>
                  <a:lnTo>
                    <a:pt x="134" y="114"/>
                  </a:lnTo>
                  <a:lnTo>
                    <a:pt x="153" y="111"/>
                  </a:lnTo>
                  <a:lnTo>
                    <a:pt x="176" y="91"/>
                  </a:lnTo>
                  <a:lnTo>
                    <a:pt x="199" y="72"/>
                  </a:lnTo>
                  <a:lnTo>
                    <a:pt x="229" y="55"/>
                  </a:lnTo>
                  <a:lnTo>
                    <a:pt x="259" y="36"/>
                  </a:lnTo>
                  <a:lnTo>
                    <a:pt x="289" y="19"/>
                  </a:lnTo>
                  <a:lnTo>
                    <a:pt x="320" y="0"/>
                  </a:lnTo>
                  <a:lnTo>
                    <a:pt x="351" y="9"/>
                  </a:lnTo>
                  <a:lnTo>
                    <a:pt x="367" y="24"/>
                  </a:lnTo>
                  <a:lnTo>
                    <a:pt x="386" y="14"/>
                  </a:lnTo>
                  <a:lnTo>
                    <a:pt x="387" y="14"/>
                  </a:lnTo>
                  <a:lnTo>
                    <a:pt x="386" y="35"/>
                  </a:lnTo>
                  <a:lnTo>
                    <a:pt x="385" y="55"/>
                  </a:lnTo>
                  <a:lnTo>
                    <a:pt x="398" y="86"/>
                  </a:lnTo>
                  <a:lnTo>
                    <a:pt x="389" y="98"/>
                  </a:lnTo>
                  <a:lnTo>
                    <a:pt x="385" y="118"/>
                  </a:lnTo>
                  <a:lnTo>
                    <a:pt x="379" y="138"/>
                  </a:lnTo>
                  <a:lnTo>
                    <a:pt x="374" y="158"/>
                  </a:lnTo>
                  <a:lnTo>
                    <a:pt x="369" y="180"/>
                  </a:lnTo>
                  <a:lnTo>
                    <a:pt x="356" y="196"/>
                  </a:lnTo>
                  <a:lnTo>
                    <a:pt x="341" y="212"/>
                  </a:lnTo>
                  <a:lnTo>
                    <a:pt x="328" y="228"/>
                  </a:lnTo>
                  <a:lnTo>
                    <a:pt x="315" y="243"/>
                  </a:lnTo>
                  <a:lnTo>
                    <a:pt x="313" y="265"/>
                  </a:lnTo>
                  <a:lnTo>
                    <a:pt x="284" y="281"/>
                  </a:lnTo>
                  <a:lnTo>
                    <a:pt x="261" y="279"/>
                  </a:lnTo>
                  <a:lnTo>
                    <a:pt x="236" y="277"/>
                  </a:lnTo>
                  <a:lnTo>
                    <a:pt x="207" y="289"/>
                  </a:lnTo>
                  <a:lnTo>
                    <a:pt x="190" y="282"/>
                  </a:lnTo>
                  <a:lnTo>
                    <a:pt x="174" y="275"/>
                  </a:lnTo>
                  <a:lnTo>
                    <a:pt x="148" y="282"/>
                  </a:lnTo>
                  <a:lnTo>
                    <a:pt x="134" y="266"/>
                  </a:lnTo>
                  <a:lnTo>
                    <a:pt x="111" y="265"/>
                  </a:lnTo>
                  <a:lnTo>
                    <a:pt x="88" y="272"/>
                  </a:lnTo>
                  <a:lnTo>
                    <a:pt x="81" y="291"/>
                  </a:lnTo>
                  <a:lnTo>
                    <a:pt x="71" y="310"/>
                  </a:lnTo>
                  <a:lnTo>
                    <a:pt x="68" y="321"/>
                  </a:lnTo>
                  <a:lnTo>
                    <a:pt x="49" y="302"/>
                  </a:lnTo>
                  <a:lnTo>
                    <a:pt x="42" y="311"/>
                  </a:lnTo>
                  <a:lnTo>
                    <a:pt x="40" y="315"/>
                  </a:lnTo>
                  <a:lnTo>
                    <a:pt x="40" y="314"/>
                  </a:lnTo>
                  <a:lnTo>
                    <a:pt x="36" y="301"/>
                  </a:lnTo>
                  <a:lnTo>
                    <a:pt x="32" y="292"/>
                  </a:lnTo>
                  <a:close/>
                </a:path>
              </a:pathLst>
            </a:custGeom>
            <a:solidFill>
              <a:srgbClr val="00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294000" y="2227320"/>
              <a:ext cx="214200" cy="376200"/>
            </a:xfrm>
            <a:custGeom>
              <a:avLst/>
              <a:gdLst/>
              <a:ahLst/>
              <a:rect l="l" t="t" r="r" b="b"/>
              <a:pathLst>
                <a:path w="411" h="533">
                  <a:moveTo>
                    <a:pt x="76" y="99"/>
                  </a:moveTo>
                  <a:lnTo>
                    <a:pt x="79" y="85"/>
                  </a:lnTo>
                  <a:lnTo>
                    <a:pt x="102" y="85"/>
                  </a:lnTo>
                  <a:lnTo>
                    <a:pt x="107" y="58"/>
                  </a:lnTo>
                  <a:lnTo>
                    <a:pt x="112" y="32"/>
                  </a:lnTo>
                  <a:lnTo>
                    <a:pt x="130" y="32"/>
                  </a:lnTo>
                  <a:lnTo>
                    <a:pt x="148" y="32"/>
                  </a:lnTo>
                  <a:lnTo>
                    <a:pt x="167" y="32"/>
                  </a:lnTo>
                  <a:lnTo>
                    <a:pt x="186" y="32"/>
                  </a:lnTo>
                  <a:lnTo>
                    <a:pt x="203" y="32"/>
                  </a:lnTo>
                  <a:lnTo>
                    <a:pt x="222" y="32"/>
                  </a:lnTo>
                  <a:lnTo>
                    <a:pt x="241" y="32"/>
                  </a:lnTo>
                  <a:lnTo>
                    <a:pt x="258" y="32"/>
                  </a:lnTo>
                  <a:lnTo>
                    <a:pt x="262" y="26"/>
                  </a:lnTo>
                  <a:lnTo>
                    <a:pt x="262" y="32"/>
                  </a:lnTo>
                  <a:lnTo>
                    <a:pt x="291" y="35"/>
                  </a:lnTo>
                  <a:lnTo>
                    <a:pt x="320" y="38"/>
                  </a:lnTo>
                  <a:lnTo>
                    <a:pt x="327" y="26"/>
                  </a:lnTo>
                  <a:lnTo>
                    <a:pt x="340" y="23"/>
                  </a:lnTo>
                  <a:lnTo>
                    <a:pt x="349" y="9"/>
                  </a:lnTo>
                  <a:lnTo>
                    <a:pt x="354" y="10"/>
                  </a:lnTo>
                  <a:lnTo>
                    <a:pt x="364" y="0"/>
                  </a:lnTo>
                  <a:lnTo>
                    <a:pt x="377" y="17"/>
                  </a:lnTo>
                  <a:lnTo>
                    <a:pt x="389" y="36"/>
                  </a:lnTo>
                  <a:lnTo>
                    <a:pt x="393" y="55"/>
                  </a:lnTo>
                  <a:lnTo>
                    <a:pt x="392" y="88"/>
                  </a:lnTo>
                  <a:lnTo>
                    <a:pt x="393" y="120"/>
                  </a:lnTo>
                  <a:lnTo>
                    <a:pt x="411" y="143"/>
                  </a:lnTo>
                  <a:lnTo>
                    <a:pt x="393" y="154"/>
                  </a:lnTo>
                  <a:lnTo>
                    <a:pt x="376" y="166"/>
                  </a:lnTo>
                  <a:lnTo>
                    <a:pt x="362" y="200"/>
                  </a:lnTo>
                  <a:lnTo>
                    <a:pt x="353" y="238"/>
                  </a:lnTo>
                  <a:lnTo>
                    <a:pt x="347" y="258"/>
                  </a:lnTo>
                  <a:lnTo>
                    <a:pt x="317" y="303"/>
                  </a:lnTo>
                  <a:lnTo>
                    <a:pt x="307" y="333"/>
                  </a:lnTo>
                  <a:lnTo>
                    <a:pt x="294" y="334"/>
                  </a:lnTo>
                  <a:lnTo>
                    <a:pt x="288" y="364"/>
                  </a:lnTo>
                  <a:lnTo>
                    <a:pt x="282" y="395"/>
                  </a:lnTo>
                  <a:lnTo>
                    <a:pt x="265" y="398"/>
                  </a:lnTo>
                  <a:lnTo>
                    <a:pt x="255" y="411"/>
                  </a:lnTo>
                  <a:lnTo>
                    <a:pt x="264" y="418"/>
                  </a:lnTo>
                  <a:lnTo>
                    <a:pt x="285" y="438"/>
                  </a:lnTo>
                  <a:lnTo>
                    <a:pt x="294" y="457"/>
                  </a:lnTo>
                  <a:lnTo>
                    <a:pt x="301" y="474"/>
                  </a:lnTo>
                  <a:lnTo>
                    <a:pt x="314" y="481"/>
                  </a:lnTo>
                  <a:lnTo>
                    <a:pt x="320" y="501"/>
                  </a:lnTo>
                  <a:lnTo>
                    <a:pt x="301" y="501"/>
                  </a:lnTo>
                  <a:lnTo>
                    <a:pt x="282" y="501"/>
                  </a:lnTo>
                  <a:lnTo>
                    <a:pt x="274" y="513"/>
                  </a:lnTo>
                  <a:lnTo>
                    <a:pt x="262" y="526"/>
                  </a:lnTo>
                  <a:lnTo>
                    <a:pt x="235" y="526"/>
                  </a:lnTo>
                  <a:lnTo>
                    <a:pt x="223" y="529"/>
                  </a:lnTo>
                  <a:lnTo>
                    <a:pt x="218" y="526"/>
                  </a:lnTo>
                  <a:lnTo>
                    <a:pt x="200" y="527"/>
                  </a:lnTo>
                  <a:lnTo>
                    <a:pt x="197" y="533"/>
                  </a:lnTo>
                  <a:lnTo>
                    <a:pt x="182" y="516"/>
                  </a:lnTo>
                  <a:lnTo>
                    <a:pt x="166" y="500"/>
                  </a:lnTo>
                  <a:lnTo>
                    <a:pt x="156" y="507"/>
                  </a:lnTo>
                  <a:lnTo>
                    <a:pt x="143" y="508"/>
                  </a:lnTo>
                  <a:lnTo>
                    <a:pt x="124" y="497"/>
                  </a:lnTo>
                  <a:lnTo>
                    <a:pt x="118" y="491"/>
                  </a:lnTo>
                  <a:lnTo>
                    <a:pt x="114" y="483"/>
                  </a:lnTo>
                  <a:lnTo>
                    <a:pt x="102" y="464"/>
                  </a:lnTo>
                  <a:lnTo>
                    <a:pt x="94" y="451"/>
                  </a:lnTo>
                  <a:lnTo>
                    <a:pt x="75" y="429"/>
                  </a:lnTo>
                  <a:lnTo>
                    <a:pt x="71" y="419"/>
                  </a:lnTo>
                  <a:lnTo>
                    <a:pt x="50" y="403"/>
                  </a:lnTo>
                  <a:lnTo>
                    <a:pt x="46" y="395"/>
                  </a:lnTo>
                  <a:lnTo>
                    <a:pt x="30" y="390"/>
                  </a:lnTo>
                  <a:lnTo>
                    <a:pt x="36" y="364"/>
                  </a:lnTo>
                  <a:lnTo>
                    <a:pt x="27" y="349"/>
                  </a:lnTo>
                  <a:lnTo>
                    <a:pt x="19" y="331"/>
                  </a:lnTo>
                  <a:lnTo>
                    <a:pt x="19" y="317"/>
                  </a:lnTo>
                  <a:lnTo>
                    <a:pt x="17" y="303"/>
                  </a:lnTo>
                  <a:lnTo>
                    <a:pt x="9" y="281"/>
                  </a:lnTo>
                  <a:lnTo>
                    <a:pt x="0" y="281"/>
                  </a:lnTo>
                  <a:lnTo>
                    <a:pt x="12" y="259"/>
                  </a:lnTo>
                  <a:lnTo>
                    <a:pt x="16" y="248"/>
                  </a:lnTo>
                  <a:lnTo>
                    <a:pt x="19" y="241"/>
                  </a:lnTo>
                  <a:lnTo>
                    <a:pt x="20" y="231"/>
                  </a:lnTo>
                  <a:lnTo>
                    <a:pt x="36" y="209"/>
                  </a:lnTo>
                  <a:lnTo>
                    <a:pt x="46" y="202"/>
                  </a:lnTo>
                  <a:lnTo>
                    <a:pt x="61" y="202"/>
                  </a:lnTo>
                  <a:lnTo>
                    <a:pt x="65" y="176"/>
                  </a:lnTo>
                  <a:lnTo>
                    <a:pt x="69" y="150"/>
                  </a:lnTo>
                  <a:lnTo>
                    <a:pt x="72" y="125"/>
                  </a:lnTo>
                  <a:lnTo>
                    <a:pt x="76" y="99"/>
                  </a:lnTo>
                  <a:close/>
                </a:path>
              </a:pathLst>
            </a:custGeom>
            <a:solidFill>
              <a:srgbClr val="00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135320" y="1133640"/>
              <a:ext cx="263520" cy="3071520"/>
            </a:xfrm>
            <a:custGeom>
              <a:avLst/>
              <a:gdLst/>
              <a:ahLst/>
              <a:rect l="l" t="t" r="r" b="b"/>
              <a:pathLst>
                <a:path w="502" h="4364">
                  <a:moveTo>
                    <a:pt x="502" y="0"/>
                  </a:moveTo>
                  <a:lnTo>
                    <a:pt x="459" y="51"/>
                  </a:lnTo>
                  <a:lnTo>
                    <a:pt x="407" y="132"/>
                  </a:lnTo>
                  <a:lnTo>
                    <a:pt x="351" y="231"/>
                  </a:lnTo>
                  <a:lnTo>
                    <a:pt x="302" y="341"/>
                  </a:lnTo>
                  <a:lnTo>
                    <a:pt x="258" y="458"/>
                  </a:lnTo>
                  <a:lnTo>
                    <a:pt x="216" y="579"/>
                  </a:lnTo>
                  <a:lnTo>
                    <a:pt x="177" y="704"/>
                  </a:lnTo>
                  <a:lnTo>
                    <a:pt x="142" y="833"/>
                  </a:lnTo>
                  <a:lnTo>
                    <a:pt x="111" y="966"/>
                  </a:lnTo>
                  <a:lnTo>
                    <a:pt x="83" y="1100"/>
                  </a:lnTo>
                  <a:lnTo>
                    <a:pt x="62" y="1234"/>
                  </a:lnTo>
                  <a:lnTo>
                    <a:pt x="43" y="1369"/>
                  </a:lnTo>
                  <a:lnTo>
                    <a:pt x="29" y="1505"/>
                  </a:lnTo>
                  <a:lnTo>
                    <a:pt x="18" y="1640"/>
                  </a:lnTo>
                  <a:lnTo>
                    <a:pt x="10" y="1775"/>
                  </a:lnTo>
                  <a:lnTo>
                    <a:pt x="4" y="1911"/>
                  </a:lnTo>
                  <a:lnTo>
                    <a:pt x="1" y="2046"/>
                  </a:lnTo>
                  <a:lnTo>
                    <a:pt x="0" y="2182"/>
                  </a:lnTo>
                  <a:lnTo>
                    <a:pt x="1" y="2317"/>
                  </a:lnTo>
                  <a:lnTo>
                    <a:pt x="4" y="2452"/>
                  </a:lnTo>
                  <a:lnTo>
                    <a:pt x="10" y="2588"/>
                  </a:lnTo>
                  <a:lnTo>
                    <a:pt x="18" y="2723"/>
                  </a:lnTo>
                  <a:lnTo>
                    <a:pt x="29" y="2859"/>
                  </a:lnTo>
                  <a:lnTo>
                    <a:pt x="43" y="2994"/>
                  </a:lnTo>
                  <a:lnTo>
                    <a:pt x="62" y="3129"/>
                  </a:lnTo>
                  <a:lnTo>
                    <a:pt x="83" y="3263"/>
                  </a:lnTo>
                  <a:lnTo>
                    <a:pt x="111" y="3397"/>
                  </a:lnTo>
                  <a:lnTo>
                    <a:pt x="142" y="3530"/>
                  </a:lnTo>
                  <a:lnTo>
                    <a:pt x="177" y="3659"/>
                  </a:lnTo>
                  <a:lnTo>
                    <a:pt x="216" y="3785"/>
                  </a:lnTo>
                  <a:lnTo>
                    <a:pt x="258" y="3906"/>
                  </a:lnTo>
                  <a:lnTo>
                    <a:pt x="302" y="4022"/>
                  </a:lnTo>
                  <a:lnTo>
                    <a:pt x="351" y="4132"/>
                  </a:lnTo>
                  <a:lnTo>
                    <a:pt x="407" y="4231"/>
                  </a:lnTo>
                  <a:lnTo>
                    <a:pt x="459" y="4312"/>
                  </a:lnTo>
                  <a:lnTo>
                    <a:pt x="502" y="436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497560" y="1133640"/>
              <a:ext cx="703080" cy="3071520"/>
            </a:xfrm>
            <a:custGeom>
              <a:avLst/>
              <a:gdLst/>
              <a:ahLst/>
              <a:rect l="l" t="t" r="r" b="b"/>
              <a:pathLst>
                <a:path w="1341" h="4364">
                  <a:moveTo>
                    <a:pt x="0" y="0"/>
                  </a:moveTo>
                  <a:lnTo>
                    <a:pt x="115" y="51"/>
                  </a:lnTo>
                  <a:lnTo>
                    <a:pt x="255" y="132"/>
                  </a:lnTo>
                  <a:lnTo>
                    <a:pt x="404" y="231"/>
                  </a:lnTo>
                  <a:lnTo>
                    <a:pt x="534" y="341"/>
                  </a:lnTo>
                  <a:lnTo>
                    <a:pt x="652" y="458"/>
                  </a:lnTo>
                  <a:lnTo>
                    <a:pt x="763" y="579"/>
                  </a:lnTo>
                  <a:lnTo>
                    <a:pt x="868" y="704"/>
                  </a:lnTo>
                  <a:lnTo>
                    <a:pt x="962" y="833"/>
                  </a:lnTo>
                  <a:lnTo>
                    <a:pt x="1044" y="966"/>
                  </a:lnTo>
                  <a:lnTo>
                    <a:pt x="1116" y="1100"/>
                  </a:lnTo>
                  <a:lnTo>
                    <a:pt x="1176" y="1234"/>
                  </a:lnTo>
                  <a:lnTo>
                    <a:pt x="1227" y="1369"/>
                  </a:lnTo>
                  <a:lnTo>
                    <a:pt x="1264" y="1505"/>
                  </a:lnTo>
                  <a:lnTo>
                    <a:pt x="1290" y="1640"/>
                  </a:lnTo>
                  <a:lnTo>
                    <a:pt x="1313" y="1775"/>
                  </a:lnTo>
                  <a:lnTo>
                    <a:pt x="1328" y="1911"/>
                  </a:lnTo>
                  <a:lnTo>
                    <a:pt x="1338" y="2046"/>
                  </a:lnTo>
                  <a:lnTo>
                    <a:pt x="1341" y="2182"/>
                  </a:lnTo>
                  <a:lnTo>
                    <a:pt x="1338" y="2317"/>
                  </a:lnTo>
                  <a:lnTo>
                    <a:pt x="1328" y="2452"/>
                  </a:lnTo>
                  <a:lnTo>
                    <a:pt x="1313" y="2588"/>
                  </a:lnTo>
                  <a:lnTo>
                    <a:pt x="1290" y="2723"/>
                  </a:lnTo>
                  <a:lnTo>
                    <a:pt x="1264" y="2859"/>
                  </a:lnTo>
                  <a:lnTo>
                    <a:pt x="1227" y="2994"/>
                  </a:lnTo>
                  <a:lnTo>
                    <a:pt x="1176" y="3129"/>
                  </a:lnTo>
                  <a:lnTo>
                    <a:pt x="1116" y="3263"/>
                  </a:lnTo>
                  <a:lnTo>
                    <a:pt x="1044" y="3397"/>
                  </a:lnTo>
                  <a:lnTo>
                    <a:pt x="962" y="3530"/>
                  </a:lnTo>
                  <a:lnTo>
                    <a:pt x="868" y="3659"/>
                  </a:lnTo>
                  <a:lnTo>
                    <a:pt x="763" y="3785"/>
                  </a:lnTo>
                  <a:lnTo>
                    <a:pt x="652" y="3906"/>
                  </a:lnTo>
                  <a:lnTo>
                    <a:pt x="534" y="4022"/>
                  </a:lnTo>
                  <a:lnTo>
                    <a:pt x="404" y="4132"/>
                  </a:lnTo>
                  <a:lnTo>
                    <a:pt x="255" y="4231"/>
                  </a:lnTo>
                  <a:lnTo>
                    <a:pt x="115" y="4312"/>
                  </a:lnTo>
                  <a:lnTo>
                    <a:pt x="0" y="436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899320" y="1133640"/>
              <a:ext cx="1052280" cy="3071520"/>
            </a:xfrm>
            <a:custGeom>
              <a:avLst/>
              <a:gdLst/>
              <a:ahLst/>
              <a:rect l="l" t="t" r="r" b="b"/>
              <a:pathLst>
                <a:path w="2012" h="4364">
                  <a:moveTo>
                    <a:pt x="0" y="0"/>
                  </a:moveTo>
                  <a:lnTo>
                    <a:pt x="171" y="51"/>
                  </a:lnTo>
                  <a:lnTo>
                    <a:pt x="383" y="132"/>
                  </a:lnTo>
                  <a:lnTo>
                    <a:pt x="606" y="231"/>
                  </a:lnTo>
                  <a:lnTo>
                    <a:pt x="802" y="341"/>
                  </a:lnTo>
                  <a:lnTo>
                    <a:pt x="978" y="458"/>
                  </a:lnTo>
                  <a:lnTo>
                    <a:pt x="1145" y="579"/>
                  </a:lnTo>
                  <a:lnTo>
                    <a:pt x="1302" y="704"/>
                  </a:lnTo>
                  <a:lnTo>
                    <a:pt x="1443" y="833"/>
                  </a:lnTo>
                  <a:lnTo>
                    <a:pt x="1566" y="966"/>
                  </a:lnTo>
                  <a:lnTo>
                    <a:pt x="1675" y="1100"/>
                  </a:lnTo>
                  <a:lnTo>
                    <a:pt x="1766" y="1234"/>
                  </a:lnTo>
                  <a:lnTo>
                    <a:pt x="1839" y="1369"/>
                  </a:lnTo>
                  <a:lnTo>
                    <a:pt x="1895" y="1505"/>
                  </a:lnTo>
                  <a:lnTo>
                    <a:pt x="1936" y="1640"/>
                  </a:lnTo>
                  <a:lnTo>
                    <a:pt x="1969" y="1775"/>
                  </a:lnTo>
                  <a:lnTo>
                    <a:pt x="1992" y="1911"/>
                  </a:lnTo>
                  <a:lnTo>
                    <a:pt x="2006" y="2046"/>
                  </a:lnTo>
                  <a:lnTo>
                    <a:pt x="2012" y="2182"/>
                  </a:lnTo>
                  <a:lnTo>
                    <a:pt x="2006" y="2317"/>
                  </a:lnTo>
                  <a:lnTo>
                    <a:pt x="1992" y="2452"/>
                  </a:lnTo>
                  <a:lnTo>
                    <a:pt x="1969" y="2588"/>
                  </a:lnTo>
                  <a:lnTo>
                    <a:pt x="1936" y="2723"/>
                  </a:lnTo>
                  <a:lnTo>
                    <a:pt x="1895" y="2859"/>
                  </a:lnTo>
                  <a:lnTo>
                    <a:pt x="1839" y="2994"/>
                  </a:lnTo>
                  <a:lnTo>
                    <a:pt x="1766" y="3129"/>
                  </a:lnTo>
                  <a:lnTo>
                    <a:pt x="1675" y="3263"/>
                  </a:lnTo>
                  <a:lnTo>
                    <a:pt x="1566" y="3397"/>
                  </a:lnTo>
                  <a:lnTo>
                    <a:pt x="1443" y="3530"/>
                  </a:lnTo>
                  <a:lnTo>
                    <a:pt x="1302" y="3659"/>
                  </a:lnTo>
                  <a:lnTo>
                    <a:pt x="1145" y="3785"/>
                  </a:lnTo>
                  <a:lnTo>
                    <a:pt x="978" y="3906"/>
                  </a:lnTo>
                  <a:lnTo>
                    <a:pt x="802" y="4022"/>
                  </a:lnTo>
                  <a:lnTo>
                    <a:pt x="606" y="4132"/>
                  </a:lnTo>
                  <a:lnTo>
                    <a:pt x="383" y="4231"/>
                  </a:lnTo>
                  <a:lnTo>
                    <a:pt x="171" y="4312"/>
                  </a:lnTo>
                  <a:lnTo>
                    <a:pt x="0" y="436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997600" y="1133640"/>
              <a:ext cx="1143000" cy="3071520"/>
            </a:xfrm>
            <a:custGeom>
              <a:avLst/>
              <a:gdLst/>
              <a:ahLst/>
              <a:rect l="l" t="t" r="r" b="b"/>
              <a:pathLst>
                <a:path w="2181" h="4364">
                  <a:moveTo>
                    <a:pt x="0" y="0"/>
                  </a:moveTo>
                  <a:lnTo>
                    <a:pt x="187" y="51"/>
                  </a:lnTo>
                  <a:lnTo>
                    <a:pt x="416" y="132"/>
                  </a:lnTo>
                  <a:lnTo>
                    <a:pt x="658" y="231"/>
                  </a:lnTo>
                  <a:lnTo>
                    <a:pt x="869" y="341"/>
                  </a:lnTo>
                  <a:lnTo>
                    <a:pt x="1060" y="458"/>
                  </a:lnTo>
                  <a:lnTo>
                    <a:pt x="1242" y="579"/>
                  </a:lnTo>
                  <a:lnTo>
                    <a:pt x="1412" y="704"/>
                  </a:lnTo>
                  <a:lnTo>
                    <a:pt x="1564" y="833"/>
                  </a:lnTo>
                  <a:lnTo>
                    <a:pt x="1697" y="966"/>
                  </a:lnTo>
                  <a:lnTo>
                    <a:pt x="1815" y="1100"/>
                  </a:lnTo>
                  <a:lnTo>
                    <a:pt x="1913" y="1234"/>
                  </a:lnTo>
                  <a:lnTo>
                    <a:pt x="1993" y="1369"/>
                  </a:lnTo>
                  <a:lnTo>
                    <a:pt x="2054" y="1505"/>
                  </a:lnTo>
                  <a:lnTo>
                    <a:pt x="2097" y="1640"/>
                  </a:lnTo>
                  <a:lnTo>
                    <a:pt x="2133" y="1775"/>
                  </a:lnTo>
                  <a:lnTo>
                    <a:pt x="2159" y="1911"/>
                  </a:lnTo>
                  <a:lnTo>
                    <a:pt x="2173" y="2046"/>
                  </a:lnTo>
                  <a:lnTo>
                    <a:pt x="2181" y="2182"/>
                  </a:lnTo>
                  <a:lnTo>
                    <a:pt x="2173" y="2317"/>
                  </a:lnTo>
                  <a:lnTo>
                    <a:pt x="2159" y="2452"/>
                  </a:lnTo>
                  <a:lnTo>
                    <a:pt x="2133" y="2588"/>
                  </a:lnTo>
                  <a:lnTo>
                    <a:pt x="2097" y="2723"/>
                  </a:lnTo>
                  <a:lnTo>
                    <a:pt x="2054" y="2859"/>
                  </a:lnTo>
                  <a:lnTo>
                    <a:pt x="1993" y="2994"/>
                  </a:lnTo>
                  <a:lnTo>
                    <a:pt x="1913" y="3129"/>
                  </a:lnTo>
                  <a:lnTo>
                    <a:pt x="1815" y="3263"/>
                  </a:lnTo>
                  <a:lnTo>
                    <a:pt x="1697" y="3397"/>
                  </a:lnTo>
                  <a:lnTo>
                    <a:pt x="1564" y="3530"/>
                  </a:lnTo>
                  <a:lnTo>
                    <a:pt x="1412" y="3659"/>
                  </a:lnTo>
                  <a:lnTo>
                    <a:pt x="1242" y="3785"/>
                  </a:lnTo>
                  <a:lnTo>
                    <a:pt x="1060" y="3906"/>
                  </a:lnTo>
                  <a:lnTo>
                    <a:pt x="869" y="4022"/>
                  </a:lnTo>
                  <a:lnTo>
                    <a:pt x="658" y="4132"/>
                  </a:lnTo>
                  <a:lnTo>
                    <a:pt x="416" y="4231"/>
                  </a:lnTo>
                  <a:lnTo>
                    <a:pt x="187" y="4312"/>
                  </a:lnTo>
                  <a:lnTo>
                    <a:pt x="0" y="436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398920" y="1133640"/>
              <a:ext cx="614520" cy="3071520"/>
            </a:xfrm>
            <a:custGeom>
              <a:avLst/>
              <a:gdLst/>
              <a:ahLst/>
              <a:rect l="l" t="t" r="r" b="b"/>
              <a:pathLst>
                <a:path w="1173" h="4364">
                  <a:moveTo>
                    <a:pt x="0" y="0"/>
                  </a:moveTo>
                  <a:lnTo>
                    <a:pt x="99" y="51"/>
                  </a:lnTo>
                  <a:lnTo>
                    <a:pt x="223" y="132"/>
                  </a:lnTo>
                  <a:lnTo>
                    <a:pt x="353" y="231"/>
                  </a:lnTo>
                  <a:lnTo>
                    <a:pt x="466" y="341"/>
                  </a:lnTo>
                  <a:lnTo>
                    <a:pt x="570" y="458"/>
                  </a:lnTo>
                  <a:lnTo>
                    <a:pt x="668" y="579"/>
                  </a:lnTo>
                  <a:lnTo>
                    <a:pt x="759" y="704"/>
                  </a:lnTo>
                  <a:lnTo>
                    <a:pt x="841" y="833"/>
                  </a:lnTo>
                  <a:lnTo>
                    <a:pt x="913" y="966"/>
                  </a:lnTo>
                  <a:lnTo>
                    <a:pt x="976" y="1100"/>
                  </a:lnTo>
                  <a:lnTo>
                    <a:pt x="1029" y="1234"/>
                  </a:lnTo>
                  <a:lnTo>
                    <a:pt x="1073" y="1369"/>
                  </a:lnTo>
                  <a:lnTo>
                    <a:pt x="1106" y="1505"/>
                  </a:lnTo>
                  <a:lnTo>
                    <a:pt x="1129" y="1640"/>
                  </a:lnTo>
                  <a:lnTo>
                    <a:pt x="1147" y="1775"/>
                  </a:lnTo>
                  <a:lnTo>
                    <a:pt x="1162" y="1911"/>
                  </a:lnTo>
                  <a:lnTo>
                    <a:pt x="1169" y="2046"/>
                  </a:lnTo>
                  <a:lnTo>
                    <a:pt x="1173" y="2182"/>
                  </a:lnTo>
                  <a:lnTo>
                    <a:pt x="1169" y="2317"/>
                  </a:lnTo>
                  <a:lnTo>
                    <a:pt x="1162" y="2452"/>
                  </a:lnTo>
                  <a:lnTo>
                    <a:pt x="1147" y="2588"/>
                  </a:lnTo>
                  <a:lnTo>
                    <a:pt x="1129" y="2723"/>
                  </a:lnTo>
                  <a:lnTo>
                    <a:pt x="1106" y="2859"/>
                  </a:lnTo>
                  <a:lnTo>
                    <a:pt x="1073" y="2994"/>
                  </a:lnTo>
                  <a:lnTo>
                    <a:pt x="1029" y="3129"/>
                  </a:lnTo>
                  <a:lnTo>
                    <a:pt x="976" y="3263"/>
                  </a:lnTo>
                  <a:lnTo>
                    <a:pt x="913" y="3397"/>
                  </a:lnTo>
                  <a:lnTo>
                    <a:pt x="841" y="3530"/>
                  </a:lnTo>
                  <a:lnTo>
                    <a:pt x="759" y="3659"/>
                  </a:lnTo>
                  <a:lnTo>
                    <a:pt x="668" y="3785"/>
                  </a:lnTo>
                  <a:lnTo>
                    <a:pt x="570" y="3906"/>
                  </a:lnTo>
                  <a:lnTo>
                    <a:pt x="466" y="4022"/>
                  </a:lnTo>
                  <a:lnTo>
                    <a:pt x="353" y="4132"/>
                  </a:lnTo>
                  <a:lnTo>
                    <a:pt x="223" y="4231"/>
                  </a:lnTo>
                  <a:lnTo>
                    <a:pt x="99" y="4312"/>
                  </a:lnTo>
                  <a:lnTo>
                    <a:pt x="0" y="436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384720" y="1133640"/>
              <a:ext cx="614160" cy="3071520"/>
            </a:xfrm>
            <a:custGeom>
              <a:avLst/>
              <a:gdLst/>
              <a:ahLst/>
              <a:rect l="l" t="t" r="r" b="b"/>
              <a:pathLst>
                <a:path w="1174" h="4364">
                  <a:moveTo>
                    <a:pt x="1174" y="0"/>
                  </a:moveTo>
                  <a:lnTo>
                    <a:pt x="1075" y="51"/>
                  </a:lnTo>
                  <a:lnTo>
                    <a:pt x="951" y="132"/>
                  </a:lnTo>
                  <a:lnTo>
                    <a:pt x="821" y="231"/>
                  </a:lnTo>
                  <a:lnTo>
                    <a:pt x="707" y="341"/>
                  </a:lnTo>
                  <a:lnTo>
                    <a:pt x="604" y="458"/>
                  </a:lnTo>
                  <a:lnTo>
                    <a:pt x="506" y="579"/>
                  </a:lnTo>
                  <a:lnTo>
                    <a:pt x="415" y="704"/>
                  </a:lnTo>
                  <a:lnTo>
                    <a:pt x="333" y="833"/>
                  </a:lnTo>
                  <a:lnTo>
                    <a:pt x="261" y="966"/>
                  </a:lnTo>
                  <a:lnTo>
                    <a:pt x="198" y="1100"/>
                  </a:lnTo>
                  <a:lnTo>
                    <a:pt x="144" y="1234"/>
                  </a:lnTo>
                  <a:lnTo>
                    <a:pt x="101" y="1369"/>
                  </a:lnTo>
                  <a:lnTo>
                    <a:pt x="68" y="1505"/>
                  </a:lnTo>
                  <a:lnTo>
                    <a:pt x="45" y="1640"/>
                  </a:lnTo>
                  <a:lnTo>
                    <a:pt x="26" y="1775"/>
                  </a:lnTo>
                  <a:lnTo>
                    <a:pt x="12" y="1911"/>
                  </a:lnTo>
                  <a:lnTo>
                    <a:pt x="5" y="2046"/>
                  </a:lnTo>
                  <a:lnTo>
                    <a:pt x="0" y="2182"/>
                  </a:lnTo>
                  <a:lnTo>
                    <a:pt x="5" y="2317"/>
                  </a:lnTo>
                  <a:lnTo>
                    <a:pt x="12" y="2452"/>
                  </a:lnTo>
                  <a:lnTo>
                    <a:pt x="26" y="2588"/>
                  </a:lnTo>
                  <a:lnTo>
                    <a:pt x="45" y="2723"/>
                  </a:lnTo>
                  <a:lnTo>
                    <a:pt x="68" y="2859"/>
                  </a:lnTo>
                  <a:lnTo>
                    <a:pt x="101" y="2994"/>
                  </a:lnTo>
                  <a:lnTo>
                    <a:pt x="144" y="3129"/>
                  </a:lnTo>
                  <a:lnTo>
                    <a:pt x="198" y="3263"/>
                  </a:lnTo>
                  <a:lnTo>
                    <a:pt x="261" y="3397"/>
                  </a:lnTo>
                  <a:lnTo>
                    <a:pt x="333" y="3530"/>
                  </a:lnTo>
                  <a:lnTo>
                    <a:pt x="415" y="3659"/>
                  </a:lnTo>
                  <a:lnTo>
                    <a:pt x="506" y="3785"/>
                  </a:lnTo>
                  <a:lnTo>
                    <a:pt x="604" y="3906"/>
                  </a:lnTo>
                  <a:lnTo>
                    <a:pt x="707" y="4022"/>
                  </a:lnTo>
                  <a:lnTo>
                    <a:pt x="821" y="4132"/>
                  </a:lnTo>
                  <a:lnTo>
                    <a:pt x="951" y="4231"/>
                  </a:lnTo>
                  <a:lnTo>
                    <a:pt x="1075" y="4312"/>
                  </a:lnTo>
                  <a:lnTo>
                    <a:pt x="1174" y="436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898880" y="1133640"/>
              <a:ext cx="174600" cy="3071520"/>
            </a:xfrm>
            <a:custGeom>
              <a:avLst/>
              <a:gdLst/>
              <a:ahLst/>
              <a:rect l="l" t="t" r="r" b="b"/>
              <a:pathLst>
                <a:path w="335" h="4364">
                  <a:moveTo>
                    <a:pt x="0" y="0"/>
                  </a:moveTo>
                  <a:lnTo>
                    <a:pt x="29" y="51"/>
                  </a:lnTo>
                  <a:lnTo>
                    <a:pt x="65" y="132"/>
                  </a:lnTo>
                  <a:lnTo>
                    <a:pt x="102" y="231"/>
                  </a:lnTo>
                  <a:lnTo>
                    <a:pt x="134" y="341"/>
                  </a:lnTo>
                  <a:lnTo>
                    <a:pt x="164" y="458"/>
                  </a:lnTo>
                  <a:lnTo>
                    <a:pt x="191" y="579"/>
                  </a:lnTo>
                  <a:lnTo>
                    <a:pt x="217" y="704"/>
                  </a:lnTo>
                  <a:lnTo>
                    <a:pt x="240" y="833"/>
                  </a:lnTo>
                  <a:lnTo>
                    <a:pt x="262" y="966"/>
                  </a:lnTo>
                  <a:lnTo>
                    <a:pt x="279" y="1100"/>
                  </a:lnTo>
                  <a:lnTo>
                    <a:pt x="295" y="1234"/>
                  </a:lnTo>
                  <a:lnTo>
                    <a:pt x="307" y="1369"/>
                  </a:lnTo>
                  <a:lnTo>
                    <a:pt x="317" y="1505"/>
                  </a:lnTo>
                  <a:lnTo>
                    <a:pt x="322" y="1640"/>
                  </a:lnTo>
                  <a:lnTo>
                    <a:pt x="328" y="1775"/>
                  </a:lnTo>
                  <a:lnTo>
                    <a:pt x="332" y="1911"/>
                  </a:lnTo>
                  <a:lnTo>
                    <a:pt x="335" y="2046"/>
                  </a:lnTo>
                  <a:lnTo>
                    <a:pt x="335" y="2182"/>
                  </a:lnTo>
                  <a:lnTo>
                    <a:pt x="335" y="2317"/>
                  </a:lnTo>
                  <a:lnTo>
                    <a:pt x="332" y="2452"/>
                  </a:lnTo>
                  <a:lnTo>
                    <a:pt x="328" y="2588"/>
                  </a:lnTo>
                  <a:lnTo>
                    <a:pt x="322" y="2723"/>
                  </a:lnTo>
                  <a:lnTo>
                    <a:pt x="317" y="2859"/>
                  </a:lnTo>
                  <a:lnTo>
                    <a:pt x="307" y="2994"/>
                  </a:lnTo>
                  <a:lnTo>
                    <a:pt x="295" y="3129"/>
                  </a:lnTo>
                  <a:lnTo>
                    <a:pt x="279" y="3263"/>
                  </a:lnTo>
                  <a:lnTo>
                    <a:pt x="262" y="3397"/>
                  </a:lnTo>
                  <a:lnTo>
                    <a:pt x="240" y="3530"/>
                  </a:lnTo>
                  <a:lnTo>
                    <a:pt x="217" y="3659"/>
                  </a:lnTo>
                  <a:lnTo>
                    <a:pt x="191" y="3785"/>
                  </a:lnTo>
                  <a:lnTo>
                    <a:pt x="164" y="3906"/>
                  </a:lnTo>
                  <a:lnTo>
                    <a:pt x="134" y="4022"/>
                  </a:lnTo>
                  <a:lnTo>
                    <a:pt x="102" y="4132"/>
                  </a:lnTo>
                  <a:lnTo>
                    <a:pt x="65" y="4231"/>
                  </a:lnTo>
                  <a:lnTo>
                    <a:pt x="29" y="4312"/>
                  </a:lnTo>
                  <a:lnTo>
                    <a:pt x="0" y="436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299200" y="1133640"/>
              <a:ext cx="527040" cy="3071520"/>
            </a:xfrm>
            <a:custGeom>
              <a:avLst/>
              <a:gdLst/>
              <a:ahLst/>
              <a:rect l="l" t="t" r="r" b="b"/>
              <a:pathLst>
                <a:path w="1007" h="4364">
                  <a:moveTo>
                    <a:pt x="0" y="0"/>
                  </a:moveTo>
                  <a:lnTo>
                    <a:pt x="87" y="51"/>
                  </a:lnTo>
                  <a:lnTo>
                    <a:pt x="192" y="132"/>
                  </a:lnTo>
                  <a:lnTo>
                    <a:pt x="304" y="231"/>
                  </a:lnTo>
                  <a:lnTo>
                    <a:pt x="402" y="341"/>
                  </a:lnTo>
                  <a:lnTo>
                    <a:pt x="490" y="458"/>
                  </a:lnTo>
                  <a:lnTo>
                    <a:pt x="573" y="579"/>
                  </a:lnTo>
                  <a:lnTo>
                    <a:pt x="651" y="704"/>
                  </a:lnTo>
                  <a:lnTo>
                    <a:pt x="722" y="833"/>
                  </a:lnTo>
                  <a:lnTo>
                    <a:pt x="784" y="966"/>
                  </a:lnTo>
                  <a:lnTo>
                    <a:pt x="838" y="1100"/>
                  </a:lnTo>
                  <a:lnTo>
                    <a:pt x="883" y="1234"/>
                  </a:lnTo>
                  <a:lnTo>
                    <a:pt x="920" y="1369"/>
                  </a:lnTo>
                  <a:lnTo>
                    <a:pt x="948" y="1505"/>
                  </a:lnTo>
                  <a:lnTo>
                    <a:pt x="968" y="1640"/>
                  </a:lnTo>
                  <a:lnTo>
                    <a:pt x="985" y="1775"/>
                  </a:lnTo>
                  <a:lnTo>
                    <a:pt x="997" y="1911"/>
                  </a:lnTo>
                  <a:lnTo>
                    <a:pt x="1004" y="2046"/>
                  </a:lnTo>
                  <a:lnTo>
                    <a:pt x="1007" y="2182"/>
                  </a:lnTo>
                  <a:lnTo>
                    <a:pt x="1004" y="2317"/>
                  </a:lnTo>
                  <a:lnTo>
                    <a:pt x="997" y="2452"/>
                  </a:lnTo>
                  <a:lnTo>
                    <a:pt x="985" y="2588"/>
                  </a:lnTo>
                  <a:lnTo>
                    <a:pt x="968" y="2723"/>
                  </a:lnTo>
                  <a:lnTo>
                    <a:pt x="948" y="2859"/>
                  </a:lnTo>
                  <a:lnTo>
                    <a:pt x="920" y="2994"/>
                  </a:lnTo>
                  <a:lnTo>
                    <a:pt x="883" y="3129"/>
                  </a:lnTo>
                  <a:lnTo>
                    <a:pt x="838" y="3263"/>
                  </a:lnTo>
                  <a:lnTo>
                    <a:pt x="784" y="3397"/>
                  </a:lnTo>
                  <a:lnTo>
                    <a:pt x="722" y="3530"/>
                  </a:lnTo>
                  <a:lnTo>
                    <a:pt x="651" y="3659"/>
                  </a:lnTo>
                  <a:lnTo>
                    <a:pt x="573" y="3785"/>
                  </a:lnTo>
                  <a:lnTo>
                    <a:pt x="490" y="3906"/>
                  </a:lnTo>
                  <a:lnTo>
                    <a:pt x="402" y="4022"/>
                  </a:lnTo>
                  <a:lnTo>
                    <a:pt x="304" y="4132"/>
                  </a:lnTo>
                  <a:lnTo>
                    <a:pt x="192" y="4231"/>
                  </a:lnTo>
                  <a:lnTo>
                    <a:pt x="87" y="4312"/>
                  </a:lnTo>
                  <a:lnTo>
                    <a:pt x="0" y="436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599080" y="1133640"/>
              <a:ext cx="790560" cy="3071520"/>
            </a:xfrm>
            <a:custGeom>
              <a:avLst/>
              <a:gdLst/>
              <a:ahLst/>
              <a:rect l="l" t="t" r="r" b="b"/>
              <a:pathLst>
                <a:path w="1508" h="4364">
                  <a:moveTo>
                    <a:pt x="0" y="0"/>
                  </a:moveTo>
                  <a:lnTo>
                    <a:pt x="128" y="51"/>
                  </a:lnTo>
                  <a:lnTo>
                    <a:pt x="287" y="132"/>
                  </a:lnTo>
                  <a:lnTo>
                    <a:pt x="454" y="231"/>
                  </a:lnTo>
                  <a:lnTo>
                    <a:pt x="601" y="341"/>
                  </a:lnTo>
                  <a:lnTo>
                    <a:pt x="733" y="458"/>
                  </a:lnTo>
                  <a:lnTo>
                    <a:pt x="859" y="579"/>
                  </a:lnTo>
                  <a:lnTo>
                    <a:pt x="977" y="704"/>
                  </a:lnTo>
                  <a:lnTo>
                    <a:pt x="1082" y="833"/>
                  </a:lnTo>
                  <a:lnTo>
                    <a:pt x="1174" y="966"/>
                  </a:lnTo>
                  <a:lnTo>
                    <a:pt x="1256" y="1100"/>
                  </a:lnTo>
                  <a:lnTo>
                    <a:pt x="1324" y="1234"/>
                  </a:lnTo>
                  <a:lnTo>
                    <a:pt x="1380" y="1369"/>
                  </a:lnTo>
                  <a:lnTo>
                    <a:pt x="1422" y="1505"/>
                  </a:lnTo>
                  <a:lnTo>
                    <a:pt x="1451" y="1640"/>
                  </a:lnTo>
                  <a:lnTo>
                    <a:pt x="1477" y="1775"/>
                  </a:lnTo>
                  <a:lnTo>
                    <a:pt x="1494" y="1911"/>
                  </a:lnTo>
                  <a:lnTo>
                    <a:pt x="1504" y="2046"/>
                  </a:lnTo>
                  <a:lnTo>
                    <a:pt x="1508" y="2182"/>
                  </a:lnTo>
                  <a:lnTo>
                    <a:pt x="1504" y="2317"/>
                  </a:lnTo>
                  <a:lnTo>
                    <a:pt x="1494" y="2452"/>
                  </a:lnTo>
                  <a:lnTo>
                    <a:pt x="1477" y="2588"/>
                  </a:lnTo>
                  <a:lnTo>
                    <a:pt x="1451" y="2723"/>
                  </a:lnTo>
                  <a:lnTo>
                    <a:pt x="1422" y="2859"/>
                  </a:lnTo>
                  <a:lnTo>
                    <a:pt x="1380" y="2994"/>
                  </a:lnTo>
                  <a:lnTo>
                    <a:pt x="1324" y="3129"/>
                  </a:lnTo>
                  <a:lnTo>
                    <a:pt x="1256" y="3263"/>
                  </a:lnTo>
                  <a:lnTo>
                    <a:pt x="1174" y="3397"/>
                  </a:lnTo>
                  <a:lnTo>
                    <a:pt x="1082" y="3530"/>
                  </a:lnTo>
                  <a:lnTo>
                    <a:pt x="977" y="3659"/>
                  </a:lnTo>
                  <a:lnTo>
                    <a:pt x="859" y="3785"/>
                  </a:lnTo>
                  <a:lnTo>
                    <a:pt x="733" y="3906"/>
                  </a:lnTo>
                  <a:lnTo>
                    <a:pt x="601" y="4022"/>
                  </a:lnTo>
                  <a:lnTo>
                    <a:pt x="454" y="4132"/>
                  </a:lnTo>
                  <a:lnTo>
                    <a:pt x="287" y="4231"/>
                  </a:lnTo>
                  <a:lnTo>
                    <a:pt x="128" y="4312"/>
                  </a:lnTo>
                  <a:lnTo>
                    <a:pt x="0" y="436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797440" y="1133640"/>
              <a:ext cx="966960" cy="3071520"/>
            </a:xfrm>
            <a:custGeom>
              <a:avLst/>
              <a:gdLst/>
              <a:ahLst/>
              <a:rect l="l" t="t" r="r" b="b"/>
              <a:pathLst>
                <a:path w="1844" h="4364">
                  <a:moveTo>
                    <a:pt x="0" y="0"/>
                  </a:moveTo>
                  <a:lnTo>
                    <a:pt x="158" y="51"/>
                  </a:lnTo>
                  <a:lnTo>
                    <a:pt x="351" y="132"/>
                  </a:lnTo>
                  <a:lnTo>
                    <a:pt x="555" y="231"/>
                  </a:lnTo>
                  <a:lnTo>
                    <a:pt x="735" y="341"/>
                  </a:lnTo>
                  <a:lnTo>
                    <a:pt x="897" y="458"/>
                  </a:lnTo>
                  <a:lnTo>
                    <a:pt x="1051" y="579"/>
                  </a:lnTo>
                  <a:lnTo>
                    <a:pt x="1193" y="704"/>
                  </a:lnTo>
                  <a:lnTo>
                    <a:pt x="1323" y="833"/>
                  </a:lnTo>
                  <a:lnTo>
                    <a:pt x="1435" y="966"/>
                  </a:lnTo>
                  <a:lnTo>
                    <a:pt x="1535" y="1100"/>
                  </a:lnTo>
                  <a:lnTo>
                    <a:pt x="1618" y="1234"/>
                  </a:lnTo>
                  <a:lnTo>
                    <a:pt x="1687" y="1369"/>
                  </a:lnTo>
                  <a:lnTo>
                    <a:pt x="1738" y="1505"/>
                  </a:lnTo>
                  <a:lnTo>
                    <a:pt x="1774" y="1640"/>
                  </a:lnTo>
                  <a:lnTo>
                    <a:pt x="1806" y="1775"/>
                  </a:lnTo>
                  <a:lnTo>
                    <a:pt x="1826" y="1911"/>
                  </a:lnTo>
                  <a:lnTo>
                    <a:pt x="1839" y="2046"/>
                  </a:lnTo>
                  <a:lnTo>
                    <a:pt x="1844" y="2182"/>
                  </a:lnTo>
                  <a:lnTo>
                    <a:pt x="1839" y="2317"/>
                  </a:lnTo>
                  <a:lnTo>
                    <a:pt x="1826" y="2452"/>
                  </a:lnTo>
                  <a:lnTo>
                    <a:pt x="1806" y="2588"/>
                  </a:lnTo>
                  <a:lnTo>
                    <a:pt x="1774" y="2723"/>
                  </a:lnTo>
                  <a:lnTo>
                    <a:pt x="1738" y="2859"/>
                  </a:lnTo>
                  <a:lnTo>
                    <a:pt x="1687" y="2994"/>
                  </a:lnTo>
                  <a:lnTo>
                    <a:pt x="1618" y="3129"/>
                  </a:lnTo>
                  <a:lnTo>
                    <a:pt x="1535" y="3263"/>
                  </a:lnTo>
                  <a:lnTo>
                    <a:pt x="1435" y="3397"/>
                  </a:lnTo>
                  <a:lnTo>
                    <a:pt x="1323" y="3530"/>
                  </a:lnTo>
                  <a:lnTo>
                    <a:pt x="1193" y="3659"/>
                  </a:lnTo>
                  <a:lnTo>
                    <a:pt x="1051" y="3785"/>
                  </a:lnTo>
                  <a:lnTo>
                    <a:pt x="897" y="3906"/>
                  </a:lnTo>
                  <a:lnTo>
                    <a:pt x="735" y="4022"/>
                  </a:lnTo>
                  <a:lnTo>
                    <a:pt x="555" y="4132"/>
                  </a:lnTo>
                  <a:lnTo>
                    <a:pt x="351" y="4231"/>
                  </a:lnTo>
                  <a:lnTo>
                    <a:pt x="158" y="4312"/>
                  </a:lnTo>
                  <a:lnTo>
                    <a:pt x="0" y="436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2633760" y="2668680"/>
              <a:ext cx="4506840" cy="1440"/>
            </a:xfrm>
            <a:custGeom>
              <a:avLst/>
              <a:gdLst/>
              <a:ahLst/>
              <a:rect l="l" t="t" r="r" b="b"/>
              <a:pathLst>
                <a:path w="8603" h="0">
                  <a:moveTo>
                    <a:pt x="0" y="0"/>
                  </a:moveTo>
                  <a:lnTo>
                    <a:pt x="120" y="0"/>
                  </a:lnTo>
                  <a:lnTo>
                    <a:pt x="239" y="0"/>
                  </a:lnTo>
                  <a:lnTo>
                    <a:pt x="359" y="0"/>
                  </a:lnTo>
                  <a:lnTo>
                    <a:pt x="478" y="0"/>
                  </a:lnTo>
                  <a:lnTo>
                    <a:pt x="598" y="0"/>
                  </a:lnTo>
                  <a:lnTo>
                    <a:pt x="718" y="0"/>
                  </a:lnTo>
                  <a:lnTo>
                    <a:pt x="837" y="0"/>
                  </a:lnTo>
                  <a:lnTo>
                    <a:pt x="957" y="0"/>
                  </a:lnTo>
                  <a:lnTo>
                    <a:pt x="1076" y="0"/>
                  </a:lnTo>
                  <a:lnTo>
                    <a:pt x="1194" y="0"/>
                  </a:lnTo>
                  <a:lnTo>
                    <a:pt x="1314" y="0"/>
                  </a:lnTo>
                  <a:lnTo>
                    <a:pt x="1433" y="0"/>
                  </a:lnTo>
                  <a:lnTo>
                    <a:pt x="1553" y="0"/>
                  </a:lnTo>
                  <a:lnTo>
                    <a:pt x="1672" y="0"/>
                  </a:lnTo>
                  <a:lnTo>
                    <a:pt x="1792" y="0"/>
                  </a:lnTo>
                  <a:lnTo>
                    <a:pt x="1911" y="0"/>
                  </a:lnTo>
                  <a:lnTo>
                    <a:pt x="2031" y="0"/>
                  </a:lnTo>
                  <a:lnTo>
                    <a:pt x="2151" y="0"/>
                  </a:lnTo>
                  <a:lnTo>
                    <a:pt x="2270" y="0"/>
                  </a:lnTo>
                  <a:lnTo>
                    <a:pt x="2390" y="0"/>
                  </a:lnTo>
                  <a:lnTo>
                    <a:pt x="2509" y="0"/>
                  </a:lnTo>
                  <a:lnTo>
                    <a:pt x="2629" y="0"/>
                  </a:lnTo>
                  <a:lnTo>
                    <a:pt x="2748" y="0"/>
                  </a:lnTo>
                  <a:lnTo>
                    <a:pt x="2868" y="0"/>
                  </a:lnTo>
                  <a:lnTo>
                    <a:pt x="2987" y="0"/>
                  </a:lnTo>
                  <a:lnTo>
                    <a:pt x="3107" y="0"/>
                  </a:lnTo>
                  <a:lnTo>
                    <a:pt x="3226" y="0"/>
                  </a:lnTo>
                  <a:lnTo>
                    <a:pt x="3346" y="0"/>
                  </a:lnTo>
                  <a:lnTo>
                    <a:pt x="3465" y="0"/>
                  </a:lnTo>
                  <a:lnTo>
                    <a:pt x="3585" y="0"/>
                  </a:lnTo>
                  <a:lnTo>
                    <a:pt x="3705" y="0"/>
                  </a:lnTo>
                  <a:lnTo>
                    <a:pt x="3824" y="0"/>
                  </a:lnTo>
                  <a:lnTo>
                    <a:pt x="3942" y="0"/>
                  </a:lnTo>
                  <a:lnTo>
                    <a:pt x="4062" y="0"/>
                  </a:lnTo>
                  <a:lnTo>
                    <a:pt x="4181" y="0"/>
                  </a:lnTo>
                  <a:lnTo>
                    <a:pt x="4301" y="0"/>
                  </a:lnTo>
                  <a:lnTo>
                    <a:pt x="4420" y="0"/>
                  </a:lnTo>
                  <a:lnTo>
                    <a:pt x="4540" y="0"/>
                  </a:lnTo>
                  <a:lnTo>
                    <a:pt x="4659" y="0"/>
                  </a:lnTo>
                  <a:lnTo>
                    <a:pt x="4779" y="0"/>
                  </a:lnTo>
                  <a:lnTo>
                    <a:pt x="4898" y="0"/>
                  </a:lnTo>
                  <a:lnTo>
                    <a:pt x="5018" y="0"/>
                  </a:lnTo>
                  <a:lnTo>
                    <a:pt x="5138" y="0"/>
                  </a:lnTo>
                  <a:lnTo>
                    <a:pt x="5257" y="0"/>
                  </a:lnTo>
                  <a:lnTo>
                    <a:pt x="5377" y="0"/>
                  </a:lnTo>
                  <a:lnTo>
                    <a:pt x="5496" y="0"/>
                  </a:lnTo>
                  <a:lnTo>
                    <a:pt x="5616" y="0"/>
                  </a:lnTo>
                  <a:lnTo>
                    <a:pt x="5735" y="0"/>
                  </a:lnTo>
                  <a:lnTo>
                    <a:pt x="5855" y="0"/>
                  </a:lnTo>
                  <a:lnTo>
                    <a:pt x="5974" y="0"/>
                  </a:lnTo>
                  <a:lnTo>
                    <a:pt x="6094" y="0"/>
                  </a:lnTo>
                  <a:lnTo>
                    <a:pt x="6213" y="0"/>
                  </a:lnTo>
                  <a:lnTo>
                    <a:pt x="6333" y="0"/>
                  </a:lnTo>
                  <a:lnTo>
                    <a:pt x="6452" y="0"/>
                  </a:lnTo>
                  <a:lnTo>
                    <a:pt x="6572" y="0"/>
                  </a:lnTo>
                  <a:lnTo>
                    <a:pt x="6690" y="0"/>
                  </a:lnTo>
                  <a:lnTo>
                    <a:pt x="6810" y="0"/>
                  </a:lnTo>
                  <a:lnTo>
                    <a:pt x="6929" y="0"/>
                  </a:lnTo>
                  <a:lnTo>
                    <a:pt x="7049" y="0"/>
                  </a:lnTo>
                  <a:lnTo>
                    <a:pt x="7168" y="0"/>
                  </a:lnTo>
                  <a:lnTo>
                    <a:pt x="7288" y="0"/>
                  </a:lnTo>
                  <a:lnTo>
                    <a:pt x="7407" y="0"/>
                  </a:lnTo>
                  <a:lnTo>
                    <a:pt x="7527" y="0"/>
                  </a:lnTo>
                  <a:lnTo>
                    <a:pt x="7646" y="0"/>
                  </a:lnTo>
                  <a:lnTo>
                    <a:pt x="7766" y="0"/>
                  </a:lnTo>
                  <a:lnTo>
                    <a:pt x="7885" y="0"/>
                  </a:lnTo>
                  <a:lnTo>
                    <a:pt x="8005" y="0"/>
                  </a:lnTo>
                  <a:lnTo>
                    <a:pt x="8124" y="0"/>
                  </a:lnTo>
                  <a:lnTo>
                    <a:pt x="8244" y="0"/>
                  </a:lnTo>
                  <a:lnTo>
                    <a:pt x="8364" y="0"/>
                  </a:lnTo>
                  <a:lnTo>
                    <a:pt x="8483" y="0"/>
                  </a:lnTo>
                  <a:lnTo>
                    <a:pt x="860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5099040" y="1133640"/>
              <a:ext cx="352440" cy="3071520"/>
            </a:xfrm>
            <a:custGeom>
              <a:avLst/>
              <a:gdLst/>
              <a:ahLst/>
              <a:rect l="l" t="t" r="r" b="b"/>
              <a:pathLst>
                <a:path w="672" h="4364">
                  <a:moveTo>
                    <a:pt x="0" y="0"/>
                  </a:moveTo>
                  <a:lnTo>
                    <a:pt x="58" y="51"/>
                  </a:lnTo>
                  <a:lnTo>
                    <a:pt x="129" y="132"/>
                  </a:lnTo>
                  <a:lnTo>
                    <a:pt x="204" y="231"/>
                  </a:lnTo>
                  <a:lnTo>
                    <a:pt x="268" y="341"/>
                  </a:lnTo>
                  <a:lnTo>
                    <a:pt x="327" y="458"/>
                  </a:lnTo>
                  <a:lnTo>
                    <a:pt x="382" y="579"/>
                  </a:lnTo>
                  <a:lnTo>
                    <a:pt x="435" y="704"/>
                  </a:lnTo>
                  <a:lnTo>
                    <a:pt x="481" y="833"/>
                  </a:lnTo>
                  <a:lnTo>
                    <a:pt x="523" y="966"/>
                  </a:lnTo>
                  <a:lnTo>
                    <a:pt x="559" y="1100"/>
                  </a:lnTo>
                  <a:lnTo>
                    <a:pt x="589" y="1234"/>
                  </a:lnTo>
                  <a:lnTo>
                    <a:pt x="614" y="1369"/>
                  </a:lnTo>
                  <a:lnTo>
                    <a:pt x="633" y="1505"/>
                  </a:lnTo>
                  <a:lnTo>
                    <a:pt x="646" y="1640"/>
                  </a:lnTo>
                  <a:lnTo>
                    <a:pt x="657" y="1775"/>
                  </a:lnTo>
                  <a:lnTo>
                    <a:pt x="664" y="1911"/>
                  </a:lnTo>
                  <a:lnTo>
                    <a:pt x="670" y="2046"/>
                  </a:lnTo>
                  <a:lnTo>
                    <a:pt x="672" y="2182"/>
                  </a:lnTo>
                  <a:lnTo>
                    <a:pt x="670" y="2317"/>
                  </a:lnTo>
                  <a:lnTo>
                    <a:pt x="664" y="2452"/>
                  </a:lnTo>
                  <a:lnTo>
                    <a:pt x="657" y="2588"/>
                  </a:lnTo>
                  <a:lnTo>
                    <a:pt x="646" y="2723"/>
                  </a:lnTo>
                  <a:lnTo>
                    <a:pt x="633" y="2859"/>
                  </a:lnTo>
                  <a:lnTo>
                    <a:pt x="614" y="2994"/>
                  </a:lnTo>
                  <a:lnTo>
                    <a:pt x="589" y="3129"/>
                  </a:lnTo>
                  <a:lnTo>
                    <a:pt x="559" y="3263"/>
                  </a:lnTo>
                  <a:lnTo>
                    <a:pt x="523" y="3397"/>
                  </a:lnTo>
                  <a:lnTo>
                    <a:pt x="481" y="3530"/>
                  </a:lnTo>
                  <a:lnTo>
                    <a:pt x="435" y="3659"/>
                  </a:lnTo>
                  <a:lnTo>
                    <a:pt x="382" y="3785"/>
                  </a:lnTo>
                  <a:lnTo>
                    <a:pt x="327" y="3906"/>
                  </a:lnTo>
                  <a:lnTo>
                    <a:pt x="268" y="4022"/>
                  </a:lnTo>
                  <a:lnTo>
                    <a:pt x="204" y="4132"/>
                  </a:lnTo>
                  <a:lnTo>
                    <a:pt x="129" y="4231"/>
                  </a:lnTo>
                  <a:lnTo>
                    <a:pt x="58" y="4312"/>
                  </a:lnTo>
                  <a:lnTo>
                    <a:pt x="0" y="436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3600360" y="1133640"/>
              <a:ext cx="2397240" cy="1440"/>
            </a:xfrm>
            <a:custGeom>
              <a:avLst/>
              <a:gdLst/>
              <a:ahLst/>
              <a:rect l="l" t="t" r="r" b="b"/>
              <a:pathLst>
                <a:path w="4577" h="0">
                  <a:moveTo>
                    <a:pt x="0" y="0"/>
                  </a:moveTo>
                  <a:lnTo>
                    <a:pt x="64" y="0"/>
                  </a:lnTo>
                  <a:lnTo>
                    <a:pt x="127" y="0"/>
                  </a:lnTo>
                  <a:lnTo>
                    <a:pt x="190" y="0"/>
                  </a:lnTo>
                  <a:lnTo>
                    <a:pt x="254" y="0"/>
                  </a:lnTo>
                  <a:lnTo>
                    <a:pt x="317" y="0"/>
                  </a:lnTo>
                  <a:lnTo>
                    <a:pt x="380" y="0"/>
                  </a:lnTo>
                  <a:lnTo>
                    <a:pt x="445" y="0"/>
                  </a:lnTo>
                  <a:lnTo>
                    <a:pt x="509" y="0"/>
                  </a:lnTo>
                  <a:lnTo>
                    <a:pt x="572" y="0"/>
                  </a:lnTo>
                  <a:lnTo>
                    <a:pt x="635" y="0"/>
                  </a:lnTo>
                  <a:lnTo>
                    <a:pt x="699" y="0"/>
                  </a:lnTo>
                  <a:lnTo>
                    <a:pt x="762" y="0"/>
                  </a:lnTo>
                  <a:lnTo>
                    <a:pt x="825" y="0"/>
                  </a:lnTo>
                  <a:lnTo>
                    <a:pt x="890" y="0"/>
                  </a:lnTo>
                  <a:lnTo>
                    <a:pt x="954" y="0"/>
                  </a:lnTo>
                  <a:lnTo>
                    <a:pt x="1017" y="0"/>
                  </a:lnTo>
                  <a:lnTo>
                    <a:pt x="1080" y="0"/>
                  </a:lnTo>
                  <a:lnTo>
                    <a:pt x="1144" y="0"/>
                  </a:lnTo>
                  <a:lnTo>
                    <a:pt x="1207" y="0"/>
                  </a:lnTo>
                  <a:lnTo>
                    <a:pt x="1272" y="0"/>
                  </a:lnTo>
                  <a:lnTo>
                    <a:pt x="1335" y="0"/>
                  </a:lnTo>
                  <a:lnTo>
                    <a:pt x="1399" y="0"/>
                  </a:lnTo>
                  <a:lnTo>
                    <a:pt x="1462" y="0"/>
                  </a:lnTo>
                  <a:lnTo>
                    <a:pt x="1525" y="0"/>
                  </a:lnTo>
                  <a:lnTo>
                    <a:pt x="1589" y="0"/>
                  </a:lnTo>
                  <a:lnTo>
                    <a:pt x="1652" y="0"/>
                  </a:lnTo>
                  <a:lnTo>
                    <a:pt x="1717" y="0"/>
                  </a:lnTo>
                  <a:lnTo>
                    <a:pt x="1780" y="0"/>
                  </a:lnTo>
                  <a:lnTo>
                    <a:pt x="1844" y="0"/>
                  </a:lnTo>
                  <a:lnTo>
                    <a:pt x="1907" y="0"/>
                  </a:lnTo>
                  <a:lnTo>
                    <a:pt x="1970" y="0"/>
                  </a:lnTo>
                  <a:lnTo>
                    <a:pt x="2034" y="0"/>
                  </a:lnTo>
                  <a:lnTo>
                    <a:pt x="2097" y="0"/>
                  </a:lnTo>
                  <a:lnTo>
                    <a:pt x="2162" y="0"/>
                  </a:lnTo>
                  <a:lnTo>
                    <a:pt x="2225" y="0"/>
                  </a:lnTo>
                  <a:lnTo>
                    <a:pt x="2289" y="0"/>
                  </a:lnTo>
                  <a:lnTo>
                    <a:pt x="2352" y="0"/>
                  </a:lnTo>
                  <a:lnTo>
                    <a:pt x="2415" y="0"/>
                  </a:lnTo>
                  <a:lnTo>
                    <a:pt x="2479" y="0"/>
                  </a:lnTo>
                  <a:lnTo>
                    <a:pt x="2544" y="0"/>
                  </a:lnTo>
                  <a:lnTo>
                    <a:pt x="2607" y="0"/>
                  </a:lnTo>
                  <a:lnTo>
                    <a:pt x="2670" y="0"/>
                  </a:lnTo>
                  <a:lnTo>
                    <a:pt x="2734" y="0"/>
                  </a:lnTo>
                  <a:lnTo>
                    <a:pt x="2797" y="0"/>
                  </a:lnTo>
                  <a:lnTo>
                    <a:pt x="2860" y="0"/>
                  </a:lnTo>
                  <a:lnTo>
                    <a:pt x="2924" y="0"/>
                  </a:lnTo>
                  <a:lnTo>
                    <a:pt x="2989" y="0"/>
                  </a:lnTo>
                  <a:lnTo>
                    <a:pt x="3052" y="0"/>
                  </a:lnTo>
                  <a:lnTo>
                    <a:pt x="3115" y="0"/>
                  </a:lnTo>
                  <a:lnTo>
                    <a:pt x="3179" y="0"/>
                  </a:lnTo>
                  <a:lnTo>
                    <a:pt x="3242" y="0"/>
                  </a:lnTo>
                  <a:lnTo>
                    <a:pt x="3305" y="0"/>
                  </a:lnTo>
                  <a:lnTo>
                    <a:pt x="3369" y="0"/>
                  </a:lnTo>
                  <a:lnTo>
                    <a:pt x="3434" y="0"/>
                  </a:lnTo>
                  <a:lnTo>
                    <a:pt x="3497" y="0"/>
                  </a:lnTo>
                  <a:lnTo>
                    <a:pt x="3560" y="0"/>
                  </a:lnTo>
                  <a:lnTo>
                    <a:pt x="3624" y="0"/>
                  </a:lnTo>
                  <a:lnTo>
                    <a:pt x="3687" y="0"/>
                  </a:lnTo>
                  <a:lnTo>
                    <a:pt x="3750" y="0"/>
                  </a:lnTo>
                  <a:lnTo>
                    <a:pt x="3815" y="0"/>
                  </a:lnTo>
                  <a:lnTo>
                    <a:pt x="3879" y="0"/>
                  </a:lnTo>
                  <a:lnTo>
                    <a:pt x="3942" y="0"/>
                  </a:lnTo>
                  <a:lnTo>
                    <a:pt x="4005" y="0"/>
                  </a:lnTo>
                  <a:lnTo>
                    <a:pt x="4069" y="0"/>
                  </a:lnTo>
                  <a:lnTo>
                    <a:pt x="4132" y="0"/>
                  </a:lnTo>
                  <a:lnTo>
                    <a:pt x="4196" y="0"/>
                  </a:lnTo>
                  <a:lnTo>
                    <a:pt x="4260" y="0"/>
                  </a:lnTo>
                  <a:lnTo>
                    <a:pt x="4324" y="0"/>
                  </a:lnTo>
                  <a:lnTo>
                    <a:pt x="4387" y="0"/>
                  </a:lnTo>
                  <a:lnTo>
                    <a:pt x="4450" y="0"/>
                  </a:lnTo>
                  <a:lnTo>
                    <a:pt x="4514" y="0"/>
                  </a:lnTo>
                  <a:lnTo>
                    <a:pt x="457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308400" y="1297080"/>
              <a:ext cx="3035160" cy="3240"/>
            </a:xfrm>
            <a:custGeom>
              <a:avLst/>
              <a:gdLst/>
              <a:ahLst/>
              <a:rect l="l" t="t" r="r" b="b"/>
              <a:pathLst>
                <a:path w="5796" h="0">
                  <a:moveTo>
                    <a:pt x="0" y="0"/>
                  </a:moveTo>
                  <a:lnTo>
                    <a:pt x="81" y="0"/>
                  </a:lnTo>
                  <a:lnTo>
                    <a:pt x="162" y="0"/>
                  </a:lnTo>
                  <a:lnTo>
                    <a:pt x="242" y="0"/>
                  </a:lnTo>
                  <a:lnTo>
                    <a:pt x="323" y="0"/>
                  </a:lnTo>
                  <a:lnTo>
                    <a:pt x="404" y="0"/>
                  </a:lnTo>
                  <a:lnTo>
                    <a:pt x="483" y="0"/>
                  </a:lnTo>
                  <a:lnTo>
                    <a:pt x="564" y="0"/>
                  </a:lnTo>
                  <a:lnTo>
                    <a:pt x="644" y="0"/>
                  </a:lnTo>
                  <a:lnTo>
                    <a:pt x="725" y="0"/>
                  </a:lnTo>
                  <a:lnTo>
                    <a:pt x="806" y="0"/>
                  </a:lnTo>
                  <a:lnTo>
                    <a:pt x="886" y="0"/>
                  </a:lnTo>
                  <a:lnTo>
                    <a:pt x="967" y="0"/>
                  </a:lnTo>
                  <a:lnTo>
                    <a:pt x="1047" y="0"/>
                  </a:lnTo>
                  <a:lnTo>
                    <a:pt x="1128" y="0"/>
                  </a:lnTo>
                  <a:lnTo>
                    <a:pt x="1207" y="0"/>
                  </a:lnTo>
                  <a:lnTo>
                    <a:pt x="1288" y="0"/>
                  </a:lnTo>
                  <a:lnTo>
                    <a:pt x="1369" y="0"/>
                  </a:lnTo>
                  <a:lnTo>
                    <a:pt x="1449" y="0"/>
                  </a:lnTo>
                  <a:lnTo>
                    <a:pt x="1530" y="0"/>
                  </a:lnTo>
                  <a:lnTo>
                    <a:pt x="1611" y="0"/>
                  </a:lnTo>
                  <a:lnTo>
                    <a:pt x="1691" y="0"/>
                  </a:lnTo>
                  <a:lnTo>
                    <a:pt x="1772" y="0"/>
                  </a:lnTo>
                  <a:lnTo>
                    <a:pt x="1851" y="0"/>
                  </a:lnTo>
                  <a:lnTo>
                    <a:pt x="1932" y="0"/>
                  </a:lnTo>
                  <a:lnTo>
                    <a:pt x="2012" y="0"/>
                  </a:lnTo>
                  <a:lnTo>
                    <a:pt x="2093" y="0"/>
                  </a:lnTo>
                  <a:lnTo>
                    <a:pt x="2174" y="0"/>
                  </a:lnTo>
                  <a:lnTo>
                    <a:pt x="2254" y="0"/>
                  </a:lnTo>
                  <a:lnTo>
                    <a:pt x="2335" y="0"/>
                  </a:lnTo>
                  <a:lnTo>
                    <a:pt x="2416" y="0"/>
                  </a:lnTo>
                  <a:lnTo>
                    <a:pt x="2495" y="0"/>
                  </a:lnTo>
                  <a:lnTo>
                    <a:pt x="2576" y="0"/>
                  </a:lnTo>
                  <a:lnTo>
                    <a:pt x="2656" y="0"/>
                  </a:lnTo>
                  <a:lnTo>
                    <a:pt x="2737" y="0"/>
                  </a:lnTo>
                  <a:lnTo>
                    <a:pt x="2817" y="0"/>
                  </a:lnTo>
                  <a:lnTo>
                    <a:pt x="2898" y="0"/>
                  </a:lnTo>
                  <a:lnTo>
                    <a:pt x="2979" y="0"/>
                  </a:lnTo>
                  <a:lnTo>
                    <a:pt x="3059" y="0"/>
                  </a:lnTo>
                  <a:lnTo>
                    <a:pt x="3139" y="0"/>
                  </a:lnTo>
                  <a:lnTo>
                    <a:pt x="3219" y="0"/>
                  </a:lnTo>
                  <a:lnTo>
                    <a:pt x="3300" y="0"/>
                  </a:lnTo>
                  <a:lnTo>
                    <a:pt x="3381" y="0"/>
                  </a:lnTo>
                  <a:lnTo>
                    <a:pt x="3461" y="0"/>
                  </a:lnTo>
                  <a:lnTo>
                    <a:pt x="3542" y="0"/>
                  </a:lnTo>
                  <a:lnTo>
                    <a:pt x="3623" y="0"/>
                  </a:lnTo>
                  <a:lnTo>
                    <a:pt x="3703" y="0"/>
                  </a:lnTo>
                  <a:lnTo>
                    <a:pt x="3784" y="0"/>
                  </a:lnTo>
                  <a:lnTo>
                    <a:pt x="3863" y="0"/>
                  </a:lnTo>
                  <a:lnTo>
                    <a:pt x="3944" y="0"/>
                  </a:lnTo>
                  <a:lnTo>
                    <a:pt x="4024" y="0"/>
                  </a:lnTo>
                  <a:lnTo>
                    <a:pt x="4105" y="0"/>
                  </a:lnTo>
                  <a:lnTo>
                    <a:pt x="4186" y="0"/>
                  </a:lnTo>
                  <a:lnTo>
                    <a:pt x="4266" y="0"/>
                  </a:lnTo>
                  <a:lnTo>
                    <a:pt x="4347" y="0"/>
                  </a:lnTo>
                  <a:lnTo>
                    <a:pt x="4428" y="0"/>
                  </a:lnTo>
                  <a:lnTo>
                    <a:pt x="4507" y="0"/>
                  </a:lnTo>
                  <a:lnTo>
                    <a:pt x="4587" y="0"/>
                  </a:lnTo>
                  <a:lnTo>
                    <a:pt x="4668" y="0"/>
                  </a:lnTo>
                  <a:lnTo>
                    <a:pt x="4749" y="0"/>
                  </a:lnTo>
                  <a:lnTo>
                    <a:pt x="4829" y="0"/>
                  </a:lnTo>
                  <a:lnTo>
                    <a:pt x="4910" y="0"/>
                  </a:lnTo>
                  <a:lnTo>
                    <a:pt x="4991" y="0"/>
                  </a:lnTo>
                  <a:lnTo>
                    <a:pt x="5071" y="0"/>
                  </a:lnTo>
                  <a:lnTo>
                    <a:pt x="5151" y="0"/>
                  </a:lnTo>
                  <a:lnTo>
                    <a:pt x="5231" y="0"/>
                  </a:lnTo>
                  <a:lnTo>
                    <a:pt x="5312" y="0"/>
                  </a:lnTo>
                  <a:lnTo>
                    <a:pt x="5393" y="0"/>
                  </a:lnTo>
                  <a:lnTo>
                    <a:pt x="5473" y="0"/>
                  </a:lnTo>
                  <a:lnTo>
                    <a:pt x="5554" y="0"/>
                  </a:lnTo>
                  <a:lnTo>
                    <a:pt x="5634" y="0"/>
                  </a:lnTo>
                  <a:lnTo>
                    <a:pt x="5715" y="0"/>
                  </a:lnTo>
                  <a:lnTo>
                    <a:pt x="579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049560" y="1538280"/>
              <a:ext cx="3597480" cy="1440"/>
            </a:xfrm>
            <a:custGeom>
              <a:avLst/>
              <a:gdLst/>
              <a:ahLst/>
              <a:rect l="l" t="t" r="r" b="b"/>
              <a:pathLst>
                <a:path w="6867" h="0">
                  <a:moveTo>
                    <a:pt x="0" y="0"/>
                  </a:moveTo>
                  <a:lnTo>
                    <a:pt x="97" y="0"/>
                  </a:lnTo>
                  <a:lnTo>
                    <a:pt x="192" y="0"/>
                  </a:lnTo>
                  <a:lnTo>
                    <a:pt x="287" y="0"/>
                  </a:lnTo>
                  <a:lnTo>
                    <a:pt x="382" y="0"/>
                  </a:lnTo>
                  <a:lnTo>
                    <a:pt x="478" y="0"/>
                  </a:lnTo>
                  <a:lnTo>
                    <a:pt x="574" y="0"/>
                  </a:lnTo>
                  <a:lnTo>
                    <a:pt x="669" y="0"/>
                  </a:lnTo>
                  <a:lnTo>
                    <a:pt x="764" y="0"/>
                  </a:lnTo>
                  <a:lnTo>
                    <a:pt x="859" y="0"/>
                  </a:lnTo>
                  <a:lnTo>
                    <a:pt x="955" y="0"/>
                  </a:lnTo>
                  <a:lnTo>
                    <a:pt x="1050" y="0"/>
                  </a:lnTo>
                  <a:lnTo>
                    <a:pt x="1145" y="0"/>
                  </a:lnTo>
                  <a:lnTo>
                    <a:pt x="1240" y="0"/>
                  </a:lnTo>
                  <a:lnTo>
                    <a:pt x="1335" y="0"/>
                  </a:lnTo>
                  <a:lnTo>
                    <a:pt x="1432" y="0"/>
                  </a:lnTo>
                  <a:lnTo>
                    <a:pt x="1527" y="0"/>
                  </a:lnTo>
                  <a:lnTo>
                    <a:pt x="1622" y="0"/>
                  </a:lnTo>
                  <a:lnTo>
                    <a:pt x="1717" y="0"/>
                  </a:lnTo>
                  <a:lnTo>
                    <a:pt x="1812" y="0"/>
                  </a:lnTo>
                  <a:lnTo>
                    <a:pt x="1909" y="0"/>
                  </a:lnTo>
                  <a:lnTo>
                    <a:pt x="2004" y="0"/>
                  </a:lnTo>
                  <a:lnTo>
                    <a:pt x="2099" y="0"/>
                  </a:lnTo>
                  <a:lnTo>
                    <a:pt x="2194" y="0"/>
                  </a:lnTo>
                  <a:lnTo>
                    <a:pt x="2290" y="0"/>
                  </a:lnTo>
                  <a:lnTo>
                    <a:pt x="2385" y="0"/>
                  </a:lnTo>
                  <a:lnTo>
                    <a:pt x="2480" y="0"/>
                  </a:lnTo>
                  <a:lnTo>
                    <a:pt x="2575" y="0"/>
                  </a:lnTo>
                  <a:lnTo>
                    <a:pt x="2670" y="0"/>
                  </a:lnTo>
                  <a:lnTo>
                    <a:pt x="2767" y="0"/>
                  </a:lnTo>
                  <a:lnTo>
                    <a:pt x="2862" y="0"/>
                  </a:lnTo>
                  <a:lnTo>
                    <a:pt x="2957" y="0"/>
                  </a:lnTo>
                  <a:lnTo>
                    <a:pt x="3052" y="0"/>
                  </a:lnTo>
                  <a:lnTo>
                    <a:pt x="3147" y="0"/>
                  </a:lnTo>
                  <a:lnTo>
                    <a:pt x="3244" y="0"/>
                  </a:lnTo>
                  <a:lnTo>
                    <a:pt x="3339" y="0"/>
                  </a:lnTo>
                  <a:lnTo>
                    <a:pt x="3434" y="0"/>
                  </a:lnTo>
                  <a:lnTo>
                    <a:pt x="3529" y="0"/>
                  </a:lnTo>
                  <a:lnTo>
                    <a:pt x="3625" y="0"/>
                  </a:lnTo>
                  <a:lnTo>
                    <a:pt x="3720" y="0"/>
                  </a:lnTo>
                  <a:lnTo>
                    <a:pt x="3815" y="0"/>
                  </a:lnTo>
                  <a:lnTo>
                    <a:pt x="3910" y="0"/>
                  </a:lnTo>
                  <a:lnTo>
                    <a:pt x="4006" y="0"/>
                  </a:lnTo>
                  <a:lnTo>
                    <a:pt x="4102" y="0"/>
                  </a:lnTo>
                  <a:lnTo>
                    <a:pt x="4197" y="0"/>
                  </a:lnTo>
                  <a:lnTo>
                    <a:pt x="4292" y="0"/>
                  </a:lnTo>
                  <a:lnTo>
                    <a:pt x="4387" y="0"/>
                  </a:lnTo>
                  <a:lnTo>
                    <a:pt x="4482" y="0"/>
                  </a:lnTo>
                  <a:lnTo>
                    <a:pt x="4579" y="0"/>
                  </a:lnTo>
                  <a:lnTo>
                    <a:pt x="4674" y="0"/>
                  </a:lnTo>
                  <a:lnTo>
                    <a:pt x="4769" y="0"/>
                  </a:lnTo>
                  <a:lnTo>
                    <a:pt x="4864" y="0"/>
                  </a:lnTo>
                  <a:lnTo>
                    <a:pt x="4960" y="0"/>
                  </a:lnTo>
                  <a:lnTo>
                    <a:pt x="5055" y="0"/>
                  </a:lnTo>
                  <a:lnTo>
                    <a:pt x="5150" y="0"/>
                  </a:lnTo>
                  <a:lnTo>
                    <a:pt x="5246" y="0"/>
                  </a:lnTo>
                  <a:lnTo>
                    <a:pt x="5341" y="0"/>
                  </a:lnTo>
                  <a:lnTo>
                    <a:pt x="5437" y="0"/>
                  </a:lnTo>
                  <a:lnTo>
                    <a:pt x="5532" y="0"/>
                  </a:lnTo>
                  <a:lnTo>
                    <a:pt x="5627" y="0"/>
                  </a:lnTo>
                  <a:lnTo>
                    <a:pt x="5722" y="0"/>
                  </a:lnTo>
                  <a:lnTo>
                    <a:pt x="5817" y="0"/>
                  </a:lnTo>
                  <a:lnTo>
                    <a:pt x="5914" y="0"/>
                  </a:lnTo>
                  <a:lnTo>
                    <a:pt x="6009" y="0"/>
                  </a:lnTo>
                  <a:lnTo>
                    <a:pt x="6104" y="0"/>
                  </a:lnTo>
                  <a:lnTo>
                    <a:pt x="6199" y="0"/>
                  </a:lnTo>
                  <a:lnTo>
                    <a:pt x="6295" y="0"/>
                  </a:lnTo>
                  <a:lnTo>
                    <a:pt x="6390" y="0"/>
                  </a:lnTo>
                  <a:lnTo>
                    <a:pt x="6486" y="0"/>
                  </a:lnTo>
                  <a:lnTo>
                    <a:pt x="6581" y="0"/>
                  </a:lnTo>
                  <a:lnTo>
                    <a:pt x="6676" y="0"/>
                  </a:lnTo>
                  <a:lnTo>
                    <a:pt x="6772" y="0"/>
                  </a:lnTo>
                  <a:lnTo>
                    <a:pt x="686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849400" y="1812960"/>
              <a:ext cx="4037040" cy="1440"/>
            </a:xfrm>
            <a:custGeom>
              <a:avLst/>
              <a:gdLst/>
              <a:ahLst/>
              <a:rect l="l" t="t" r="r" b="b"/>
              <a:pathLst>
                <a:path w="7710" h="0">
                  <a:moveTo>
                    <a:pt x="0" y="0"/>
                  </a:moveTo>
                  <a:lnTo>
                    <a:pt x="108" y="0"/>
                  </a:lnTo>
                  <a:lnTo>
                    <a:pt x="215" y="0"/>
                  </a:lnTo>
                  <a:lnTo>
                    <a:pt x="322" y="0"/>
                  </a:lnTo>
                  <a:lnTo>
                    <a:pt x="430" y="0"/>
                  </a:lnTo>
                  <a:lnTo>
                    <a:pt x="536" y="0"/>
                  </a:lnTo>
                  <a:lnTo>
                    <a:pt x="643" y="0"/>
                  </a:lnTo>
                  <a:lnTo>
                    <a:pt x="751" y="0"/>
                  </a:lnTo>
                  <a:lnTo>
                    <a:pt x="857" y="0"/>
                  </a:lnTo>
                  <a:lnTo>
                    <a:pt x="964" y="0"/>
                  </a:lnTo>
                  <a:lnTo>
                    <a:pt x="1072" y="0"/>
                  </a:lnTo>
                  <a:lnTo>
                    <a:pt x="1178" y="0"/>
                  </a:lnTo>
                  <a:lnTo>
                    <a:pt x="1285" y="0"/>
                  </a:lnTo>
                  <a:lnTo>
                    <a:pt x="1393" y="0"/>
                  </a:lnTo>
                  <a:lnTo>
                    <a:pt x="1500" y="0"/>
                  </a:lnTo>
                  <a:lnTo>
                    <a:pt x="1606" y="0"/>
                  </a:lnTo>
                  <a:lnTo>
                    <a:pt x="1714" y="0"/>
                  </a:lnTo>
                  <a:lnTo>
                    <a:pt x="1821" y="0"/>
                  </a:lnTo>
                  <a:lnTo>
                    <a:pt x="1927" y="0"/>
                  </a:lnTo>
                  <a:lnTo>
                    <a:pt x="2035" y="0"/>
                  </a:lnTo>
                  <a:lnTo>
                    <a:pt x="2142" y="0"/>
                  </a:lnTo>
                  <a:lnTo>
                    <a:pt x="2249" y="0"/>
                  </a:lnTo>
                  <a:lnTo>
                    <a:pt x="2357" y="0"/>
                  </a:lnTo>
                  <a:lnTo>
                    <a:pt x="2463" y="0"/>
                  </a:lnTo>
                  <a:lnTo>
                    <a:pt x="2570" y="0"/>
                  </a:lnTo>
                  <a:lnTo>
                    <a:pt x="2678" y="0"/>
                  </a:lnTo>
                  <a:lnTo>
                    <a:pt x="2784" y="0"/>
                  </a:lnTo>
                  <a:lnTo>
                    <a:pt x="2891" y="0"/>
                  </a:lnTo>
                  <a:lnTo>
                    <a:pt x="2999" y="0"/>
                  </a:lnTo>
                  <a:lnTo>
                    <a:pt x="3105" y="0"/>
                  </a:lnTo>
                  <a:lnTo>
                    <a:pt x="3212" y="0"/>
                  </a:lnTo>
                  <a:lnTo>
                    <a:pt x="3320" y="0"/>
                  </a:lnTo>
                  <a:lnTo>
                    <a:pt x="3427" y="0"/>
                  </a:lnTo>
                  <a:lnTo>
                    <a:pt x="3533" y="0"/>
                  </a:lnTo>
                  <a:lnTo>
                    <a:pt x="3641" y="0"/>
                  </a:lnTo>
                  <a:lnTo>
                    <a:pt x="3748" y="0"/>
                  </a:lnTo>
                  <a:lnTo>
                    <a:pt x="3854" y="0"/>
                  </a:lnTo>
                  <a:lnTo>
                    <a:pt x="3962" y="0"/>
                  </a:lnTo>
                  <a:lnTo>
                    <a:pt x="4069" y="0"/>
                  </a:lnTo>
                  <a:lnTo>
                    <a:pt x="4177" y="0"/>
                  </a:lnTo>
                  <a:lnTo>
                    <a:pt x="4283" y="0"/>
                  </a:lnTo>
                  <a:lnTo>
                    <a:pt x="4390" y="0"/>
                  </a:lnTo>
                  <a:lnTo>
                    <a:pt x="4498" y="0"/>
                  </a:lnTo>
                  <a:lnTo>
                    <a:pt x="4605" y="0"/>
                  </a:lnTo>
                  <a:lnTo>
                    <a:pt x="4711" y="0"/>
                  </a:lnTo>
                  <a:lnTo>
                    <a:pt x="4819" y="0"/>
                  </a:lnTo>
                  <a:lnTo>
                    <a:pt x="4926" y="0"/>
                  </a:lnTo>
                  <a:lnTo>
                    <a:pt x="5032" y="0"/>
                  </a:lnTo>
                  <a:lnTo>
                    <a:pt x="5140" y="0"/>
                  </a:lnTo>
                  <a:lnTo>
                    <a:pt x="5247" y="0"/>
                  </a:lnTo>
                  <a:lnTo>
                    <a:pt x="5354" y="0"/>
                  </a:lnTo>
                  <a:lnTo>
                    <a:pt x="5462" y="0"/>
                  </a:lnTo>
                  <a:lnTo>
                    <a:pt x="5568" y="0"/>
                  </a:lnTo>
                  <a:lnTo>
                    <a:pt x="5675" y="0"/>
                  </a:lnTo>
                  <a:lnTo>
                    <a:pt x="5783" y="0"/>
                  </a:lnTo>
                  <a:lnTo>
                    <a:pt x="5889" y="0"/>
                  </a:lnTo>
                  <a:lnTo>
                    <a:pt x="5996" y="0"/>
                  </a:lnTo>
                  <a:lnTo>
                    <a:pt x="6104" y="0"/>
                  </a:lnTo>
                  <a:lnTo>
                    <a:pt x="6210" y="0"/>
                  </a:lnTo>
                  <a:lnTo>
                    <a:pt x="6317" y="0"/>
                  </a:lnTo>
                  <a:lnTo>
                    <a:pt x="6425" y="0"/>
                  </a:lnTo>
                  <a:lnTo>
                    <a:pt x="6532" y="0"/>
                  </a:lnTo>
                  <a:lnTo>
                    <a:pt x="6638" y="0"/>
                  </a:lnTo>
                  <a:lnTo>
                    <a:pt x="6746" y="0"/>
                  </a:lnTo>
                  <a:lnTo>
                    <a:pt x="6853" y="0"/>
                  </a:lnTo>
                  <a:lnTo>
                    <a:pt x="6959" y="0"/>
                  </a:lnTo>
                  <a:lnTo>
                    <a:pt x="7067" y="0"/>
                  </a:lnTo>
                  <a:lnTo>
                    <a:pt x="7174" y="0"/>
                  </a:lnTo>
                  <a:lnTo>
                    <a:pt x="7281" y="0"/>
                  </a:lnTo>
                  <a:lnTo>
                    <a:pt x="7389" y="0"/>
                  </a:lnTo>
                  <a:lnTo>
                    <a:pt x="7495" y="0"/>
                  </a:lnTo>
                  <a:lnTo>
                    <a:pt x="7602" y="0"/>
                  </a:lnTo>
                  <a:lnTo>
                    <a:pt x="771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2716200" y="2098800"/>
              <a:ext cx="4326120" cy="1440"/>
            </a:xfrm>
            <a:custGeom>
              <a:avLst/>
              <a:gdLst/>
              <a:ahLst/>
              <a:rect l="l" t="t" r="r" b="b"/>
              <a:pathLst>
                <a:path w="8260" h="0">
                  <a:moveTo>
                    <a:pt x="0" y="0"/>
                  </a:moveTo>
                  <a:lnTo>
                    <a:pt x="116" y="0"/>
                  </a:lnTo>
                  <a:lnTo>
                    <a:pt x="229" y="0"/>
                  </a:lnTo>
                  <a:lnTo>
                    <a:pt x="345" y="0"/>
                  </a:lnTo>
                  <a:lnTo>
                    <a:pt x="460" y="0"/>
                  </a:lnTo>
                  <a:lnTo>
                    <a:pt x="574" y="0"/>
                  </a:lnTo>
                  <a:lnTo>
                    <a:pt x="689" y="0"/>
                  </a:lnTo>
                  <a:lnTo>
                    <a:pt x="804" y="0"/>
                  </a:lnTo>
                  <a:lnTo>
                    <a:pt x="918" y="0"/>
                  </a:lnTo>
                  <a:lnTo>
                    <a:pt x="1033" y="0"/>
                  </a:lnTo>
                  <a:lnTo>
                    <a:pt x="1148" y="0"/>
                  </a:lnTo>
                  <a:lnTo>
                    <a:pt x="1262" y="0"/>
                  </a:lnTo>
                  <a:lnTo>
                    <a:pt x="1377" y="0"/>
                  </a:lnTo>
                  <a:lnTo>
                    <a:pt x="1492" y="0"/>
                  </a:lnTo>
                  <a:lnTo>
                    <a:pt x="1606" y="0"/>
                  </a:lnTo>
                  <a:lnTo>
                    <a:pt x="1721" y="0"/>
                  </a:lnTo>
                  <a:lnTo>
                    <a:pt x="1837" y="0"/>
                  </a:lnTo>
                  <a:lnTo>
                    <a:pt x="1950" y="0"/>
                  </a:lnTo>
                  <a:lnTo>
                    <a:pt x="2066" y="0"/>
                  </a:lnTo>
                  <a:lnTo>
                    <a:pt x="2179" y="0"/>
                  </a:lnTo>
                  <a:lnTo>
                    <a:pt x="2295" y="0"/>
                  </a:lnTo>
                  <a:lnTo>
                    <a:pt x="2410" y="0"/>
                  </a:lnTo>
                  <a:lnTo>
                    <a:pt x="2524" y="0"/>
                  </a:lnTo>
                  <a:lnTo>
                    <a:pt x="2639" y="0"/>
                  </a:lnTo>
                  <a:lnTo>
                    <a:pt x="2754" y="0"/>
                  </a:lnTo>
                  <a:lnTo>
                    <a:pt x="2868" y="0"/>
                  </a:lnTo>
                  <a:lnTo>
                    <a:pt x="2983" y="0"/>
                  </a:lnTo>
                  <a:lnTo>
                    <a:pt x="3098" y="0"/>
                  </a:lnTo>
                  <a:lnTo>
                    <a:pt x="3212" y="0"/>
                  </a:lnTo>
                  <a:lnTo>
                    <a:pt x="3327" y="0"/>
                  </a:lnTo>
                  <a:lnTo>
                    <a:pt x="3442" y="0"/>
                  </a:lnTo>
                  <a:lnTo>
                    <a:pt x="3556" y="0"/>
                  </a:lnTo>
                  <a:lnTo>
                    <a:pt x="3671" y="0"/>
                  </a:lnTo>
                  <a:lnTo>
                    <a:pt x="3785" y="0"/>
                  </a:lnTo>
                  <a:lnTo>
                    <a:pt x="3900" y="0"/>
                  </a:lnTo>
                  <a:lnTo>
                    <a:pt x="4016" y="0"/>
                  </a:lnTo>
                  <a:lnTo>
                    <a:pt x="4129" y="0"/>
                  </a:lnTo>
                  <a:lnTo>
                    <a:pt x="4245" y="0"/>
                  </a:lnTo>
                  <a:lnTo>
                    <a:pt x="4360" y="0"/>
                  </a:lnTo>
                  <a:lnTo>
                    <a:pt x="4474" y="0"/>
                  </a:lnTo>
                  <a:lnTo>
                    <a:pt x="4589" y="0"/>
                  </a:lnTo>
                  <a:lnTo>
                    <a:pt x="4704" y="0"/>
                  </a:lnTo>
                  <a:lnTo>
                    <a:pt x="4818" y="0"/>
                  </a:lnTo>
                  <a:lnTo>
                    <a:pt x="4933" y="0"/>
                  </a:lnTo>
                  <a:lnTo>
                    <a:pt x="5048" y="0"/>
                  </a:lnTo>
                  <a:lnTo>
                    <a:pt x="5162" y="0"/>
                  </a:lnTo>
                  <a:lnTo>
                    <a:pt x="5277" y="0"/>
                  </a:lnTo>
                  <a:lnTo>
                    <a:pt x="5392" y="0"/>
                  </a:lnTo>
                  <a:lnTo>
                    <a:pt x="5506" y="0"/>
                  </a:lnTo>
                  <a:lnTo>
                    <a:pt x="5621" y="0"/>
                  </a:lnTo>
                  <a:lnTo>
                    <a:pt x="5735" y="0"/>
                  </a:lnTo>
                  <a:lnTo>
                    <a:pt x="5850" y="0"/>
                  </a:lnTo>
                  <a:lnTo>
                    <a:pt x="5966" y="0"/>
                  </a:lnTo>
                  <a:lnTo>
                    <a:pt x="6079" y="0"/>
                  </a:lnTo>
                  <a:lnTo>
                    <a:pt x="6195" y="0"/>
                  </a:lnTo>
                  <a:lnTo>
                    <a:pt x="6310" y="0"/>
                  </a:lnTo>
                  <a:lnTo>
                    <a:pt x="6424" y="0"/>
                  </a:lnTo>
                  <a:lnTo>
                    <a:pt x="6539" y="0"/>
                  </a:lnTo>
                  <a:lnTo>
                    <a:pt x="6654" y="0"/>
                  </a:lnTo>
                  <a:lnTo>
                    <a:pt x="6768" y="0"/>
                  </a:lnTo>
                  <a:lnTo>
                    <a:pt x="6883" y="0"/>
                  </a:lnTo>
                  <a:lnTo>
                    <a:pt x="6998" y="0"/>
                  </a:lnTo>
                  <a:lnTo>
                    <a:pt x="7112" y="0"/>
                  </a:lnTo>
                  <a:lnTo>
                    <a:pt x="7227" y="0"/>
                  </a:lnTo>
                  <a:lnTo>
                    <a:pt x="7342" y="0"/>
                  </a:lnTo>
                  <a:lnTo>
                    <a:pt x="7456" y="0"/>
                  </a:lnTo>
                  <a:lnTo>
                    <a:pt x="7571" y="0"/>
                  </a:lnTo>
                  <a:lnTo>
                    <a:pt x="7685" y="0"/>
                  </a:lnTo>
                  <a:lnTo>
                    <a:pt x="7800" y="0"/>
                  </a:lnTo>
                  <a:lnTo>
                    <a:pt x="7916" y="0"/>
                  </a:lnTo>
                  <a:lnTo>
                    <a:pt x="8029" y="0"/>
                  </a:lnTo>
                  <a:lnTo>
                    <a:pt x="8145" y="0"/>
                  </a:lnTo>
                  <a:lnTo>
                    <a:pt x="8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2654280" y="2382840"/>
              <a:ext cx="4460760" cy="1440"/>
            </a:xfrm>
            <a:custGeom>
              <a:avLst/>
              <a:gdLst/>
              <a:ahLst/>
              <a:rect l="l" t="t" r="r" b="b"/>
              <a:pathLst>
                <a:path w="8516" h="0">
                  <a:moveTo>
                    <a:pt x="0" y="0"/>
                  </a:moveTo>
                  <a:lnTo>
                    <a:pt x="118" y="0"/>
                  </a:lnTo>
                  <a:lnTo>
                    <a:pt x="238" y="0"/>
                  </a:lnTo>
                  <a:lnTo>
                    <a:pt x="356" y="0"/>
                  </a:lnTo>
                  <a:lnTo>
                    <a:pt x="474" y="0"/>
                  </a:lnTo>
                  <a:lnTo>
                    <a:pt x="592" y="0"/>
                  </a:lnTo>
                  <a:lnTo>
                    <a:pt x="710" y="0"/>
                  </a:lnTo>
                  <a:lnTo>
                    <a:pt x="828" y="0"/>
                  </a:lnTo>
                  <a:lnTo>
                    <a:pt x="946" y="0"/>
                  </a:lnTo>
                  <a:lnTo>
                    <a:pt x="1065" y="0"/>
                  </a:lnTo>
                  <a:lnTo>
                    <a:pt x="1184" y="0"/>
                  </a:lnTo>
                  <a:lnTo>
                    <a:pt x="1302" y="0"/>
                  </a:lnTo>
                  <a:lnTo>
                    <a:pt x="1420" y="0"/>
                  </a:lnTo>
                  <a:lnTo>
                    <a:pt x="1538" y="0"/>
                  </a:lnTo>
                  <a:lnTo>
                    <a:pt x="1656" y="0"/>
                  </a:lnTo>
                  <a:lnTo>
                    <a:pt x="1775" y="0"/>
                  </a:lnTo>
                  <a:lnTo>
                    <a:pt x="1893" y="0"/>
                  </a:lnTo>
                  <a:lnTo>
                    <a:pt x="2011" y="0"/>
                  </a:lnTo>
                  <a:lnTo>
                    <a:pt x="2130" y="0"/>
                  </a:lnTo>
                  <a:lnTo>
                    <a:pt x="2248" y="0"/>
                  </a:lnTo>
                  <a:lnTo>
                    <a:pt x="2366" y="0"/>
                  </a:lnTo>
                  <a:lnTo>
                    <a:pt x="2485" y="0"/>
                  </a:lnTo>
                  <a:lnTo>
                    <a:pt x="2603" y="0"/>
                  </a:lnTo>
                  <a:lnTo>
                    <a:pt x="2721" y="0"/>
                  </a:lnTo>
                  <a:lnTo>
                    <a:pt x="2839" y="0"/>
                  </a:lnTo>
                  <a:lnTo>
                    <a:pt x="2957" y="0"/>
                  </a:lnTo>
                  <a:lnTo>
                    <a:pt x="3076" y="0"/>
                  </a:lnTo>
                  <a:lnTo>
                    <a:pt x="3195" y="0"/>
                  </a:lnTo>
                  <a:lnTo>
                    <a:pt x="3313" y="0"/>
                  </a:lnTo>
                  <a:lnTo>
                    <a:pt x="3431" y="0"/>
                  </a:lnTo>
                  <a:lnTo>
                    <a:pt x="3549" y="0"/>
                  </a:lnTo>
                  <a:lnTo>
                    <a:pt x="3667" y="0"/>
                  </a:lnTo>
                  <a:lnTo>
                    <a:pt x="3785" y="0"/>
                  </a:lnTo>
                  <a:lnTo>
                    <a:pt x="3903" y="0"/>
                  </a:lnTo>
                  <a:lnTo>
                    <a:pt x="4023" y="0"/>
                  </a:lnTo>
                  <a:lnTo>
                    <a:pt x="4141" y="0"/>
                  </a:lnTo>
                  <a:lnTo>
                    <a:pt x="4259" y="0"/>
                  </a:lnTo>
                  <a:lnTo>
                    <a:pt x="4377" y="0"/>
                  </a:lnTo>
                  <a:lnTo>
                    <a:pt x="4495" y="0"/>
                  </a:lnTo>
                  <a:lnTo>
                    <a:pt x="4613" y="0"/>
                  </a:lnTo>
                  <a:lnTo>
                    <a:pt x="4731" y="0"/>
                  </a:lnTo>
                  <a:lnTo>
                    <a:pt x="4849" y="0"/>
                  </a:lnTo>
                  <a:lnTo>
                    <a:pt x="4969" y="0"/>
                  </a:lnTo>
                  <a:lnTo>
                    <a:pt x="5087" y="0"/>
                  </a:lnTo>
                  <a:lnTo>
                    <a:pt x="5205" y="0"/>
                  </a:lnTo>
                  <a:lnTo>
                    <a:pt x="5323" y="0"/>
                  </a:lnTo>
                  <a:lnTo>
                    <a:pt x="5441" y="0"/>
                  </a:lnTo>
                  <a:lnTo>
                    <a:pt x="5559" y="0"/>
                  </a:lnTo>
                  <a:lnTo>
                    <a:pt x="5677" y="0"/>
                  </a:lnTo>
                  <a:lnTo>
                    <a:pt x="5797" y="0"/>
                  </a:lnTo>
                  <a:lnTo>
                    <a:pt x="5915" y="0"/>
                  </a:lnTo>
                  <a:lnTo>
                    <a:pt x="6033" y="0"/>
                  </a:lnTo>
                  <a:lnTo>
                    <a:pt x="6151" y="0"/>
                  </a:lnTo>
                  <a:lnTo>
                    <a:pt x="6269" y="0"/>
                  </a:lnTo>
                  <a:lnTo>
                    <a:pt x="6387" y="0"/>
                  </a:lnTo>
                  <a:lnTo>
                    <a:pt x="6506" y="0"/>
                  </a:lnTo>
                  <a:lnTo>
                    <a:pt x="6624" y="0"/>
                  </a:lnTo>
                  <a:lnTo>
                    <a:pt x="6743" y="0"/>
                  </a:lnTo>
                  <a:lnTo>
                    <a:pt x="6861" y="0"/>
                  </a:lnTo>
                  <a:lnTo>
                    <a:pt x="6979" y="0"/>
                  </a:lnTo>
                  <a:lnTo>
                    <a:pt x="7098" y="0"/>
                  </a:lnTo>
                  <a:lnTo>
                    <a:pt x="7216" y="0"/>
                  </a:lnTo>
                  <a:lnTo>
                    <a:pt x="7334" y="0"/>
                  </a:lnTo>
                  <a:lnTo>
                    <a:pt x="7452" y="0"/>
                  </a:lnTo>
                  <a:lnTo>
                    <a:pt x="7570" y="0"/>
                  </a:lnTo>
                  <a:lnTo>
                    <a:pt x="7689" y="0"/>
                  </a:lnTo>
                  <a:lnTo>
                    <a:pt x="7808" y="0"/>
                  </a:lnTo>
                  <a:lnTo>
                    <a:pt x="7926" y="0"/>
                  </a:lnTo>
                  <a:lnTo>
                    <a:pt x="8044" y="0"/>
                  </a:lnTo>
                  <a:lnTo>
                    <a:pt x="8162" y="0"/>
                  </a:lnTo>
                  <a:lnTo>
                    <a:pt x="8280" y="0"/>
                  </a:lnTo>
                  <a:lnTo>
                    <a:pt x="8398" y="0"/>
                  </a:lnTo>
                  <a:lnTo>
                    <a:pt x="85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3049560" y="3797280"/>
              <a:ext cx="3598920" cy="3240"/>
            </a:xfrm>
            <a:custGeom>
              <a:avLst/>
              <a:gdLst/>
              <a:ahLst/>
              <a:rect l="l" t="t" r="r" b="b"/>
              <a:pathLst>
                <a:path w="6869" h="0">
                  <a:moveTo>
                    <a:pt x="0" y="0"/>
                  </a:moveTo>
                  <a:lnTo>
                    <a:pt x="95" y="0"/>
                  </a:lnTo>
                  <a:lnTo>
                    <a:pt x="190" y="0"/>
                  </a:lnTo>
                  <a:lnTo>
                    <a:pt x="285" y="0"/>
                  </a:lnTo>
                  <a:lnTo>
                    <a:pt x="382" y="0"/>
                  </a:lnTo>
                  <a:lnTo>
                    <a:pt x="477" y="0"/>
                  </a:lnTo>
                  <a:lnTo>
                    <a:pt x="572" y="0"/>
                  </a:lnTo>
                  <a:lnTo>
                    <a:pt x="667" y="0"/>
                  </a:lnTo>
                  <a:lnTo>
                    <a:pt x="764" y="0"/>
                  </a:lnTo>
                  <a:lnTo>
                    <a:pt x="859" y="0"/>
                  </a:lnTo>
                  <a:lnTo>
                    <a:pt x="954" y="0"/>
                  </a:lnTo>
                  <a:lnTo>
                    <a:pt x="1049" y="0"/>
                  </a:lnTo>
                  <a:lnTo>
                    <a:pt x="1145" y="0"/>
                  </a:lnTo>
                  <a:lnTo>
                    <a:pt x="1240" y="0"/>
                  </a:lnTo>
                  <a:lnTo>
                    <a:pt x="1335" y="0"/>
                  </a:lnTo>
                  <a:lnTo>
                    <a:pt x="1430" y="0"/>
                  </a:lnTo>
                  <a:lnTo>
                    <a:pt x="1526" y="0"/>
                  </a:lnTo>
                  <a:lnTo>
                    <a:pt x="1622" y="0"/>
                  </a:lnTo>
                  <a:lnTo>
                    <a:pt x="1717" y="0"/>
                  </a:lnTo>
                  <a:lnTo>
                    <a:pt x="1812" y="0"/>
                  </a:lnTo>
                  <a:lnTo>
                    <a:pt x="1907" y="0"/>
                  </a:lnTo>
                  <a:lnTo>
                    <a:pt x="2004" y="0"/>
                  </a:lnTo>
                  <a:lnTo>
                    <a:pt x="2099" y="0"/>
                  </a:lnTo>
                  <a:lnTo>
                    <a:pt x="2194" y="0"/>
                  </a:lnTo>
                  <a:lnTo>
                    <a:pt x="2289" y="0"/>
                  </a:lnTo>
                  <a:lnTo>
                    <a:pt x="2385" y="0"/>
                  </a:lnTo>
                  <a:lnTo>
                    <a:pt x="2480" y="0"/>
                  </a:lnTo>
                  <a:lnTo>
                    <a:pt x="2575" y="0"/>
                  </a:lnTo>
                  <a:lnTo>
                    <a:pt x="2670" y="0"/>
                  </a:lnTo>
                  <a:lnTo>
                    <a:pt x="2767" y="0"/>
                  </a:lnTo>
                  <a:lnTo>
                    <a:pt x="2862" y="0"/>
                  </a:lnTo>
                  <a:lnTo>
                    <a:pt x="2957" y="0"/>
                  </a:lnTo>
                  <a:lnTo>
                    <a:pt x="3052" y="0"/>
                  </a:lnTo>
                  <a:lnTo>
                    <a:pt x="3147" y="0"/>
                  </a:lnTo>
                  <a:lnTo>
                    <a:pt x="3244" y="0"/>
                  </a:lnTo>
                  <a:lnTo>
                    <a:pt x="3339" y="0"/>
                  </a:lnTo>
                  <a:lnTo>
                    <a:pt x="3434" y="0"/>
                  </a:lnTo>
                  <a:lnTo>
                    <a:pt x="3529" y="0"/>
                  </a:lnTo>
                  <a:lnTo>
                    <a:pt x="3625" y="0"/>
                  </a:lnTo>
                  <a:lnTo>
                    <a:pt x="3720" y="0"/>
                  </a:lnTo>
                  <a:lnTo>
                    <a:pt x="3815" y="0"/>
                  </a:lnTo>
                  <a:lnTo>
                    <a:pt x="3910" y="0"/>
                  </a:lnTo>
                  <a:lnTo>
                    <a:pt x="4007" y="0"/>
                  </a:lnTo>
                  <a:lnTo>
                    <a:pt x="4102" y="0"/>
                  </a:lnTo>
                  <a:lnTo>
                    <a:pt x="4197" y="0"/>
                  </a:lnTo>
                  <a:lnTo>
                    <a:pt x="4292" y="0"/>
                  </a:lnTo>
                  <a:lnTo>
                    <a:pt x="4389" y="0"/>
                  </a:lnTo>
                  <a:lnTo>
                    <a:pt x="4484" y="0"/>
                  </a:lnTo>
                  <a:lnTo>
                    <a:pt x="4579" y="0"/>
                  </a:lnTo>
                  <a:lnTo>
                    <a:pt x="4674" y="0"/>
                  </a:lnTo>
                  <a:lnTo>
                    <a:pt x="4770" y="0"/>
                  </a:lnTo>
                  <a:lnTo>
                    <a:pt x="4865" y="0"/>
                  </a:lnTo>
                  <a:lnTo>
                    <a:pt x="4960" y="0"/>
                  </a:lnTo>
                  <a:lnTo>
                    <a:pt x="5055" y="0"/>
                  </a:lnTo>
                  <a:lnTo>
                    <a:pt x="5150" y="0"/>
                  </a:lnTo>
                  <a:lnTo>
                    <a:pt x="5247" y="0"/>
                  </a:lnTo>
                  <a:lnTo>
                    <a:pt x="5342" y="0"/>
                  </a:lnTo>
                  <a:lnTo>
                    <a:pt x="5437" y="0"/>
                  </a:lnTo>
                  <a:lnTo>
                    <a:pt x="5532" y="0"/>
                  </a:lnTo>
                  <a:lnTo>
                    <a:pt x="5629" y="0"/>
                  </a:lnTo>
                  <a:lnTo>
                    <a:pt x="5724" y="0"/>
                  </a:lnTo>
                  <a:lnTo>
                    <a:pt x="5819" y="0"/>
                  </a:lnTo>
                  <a:lnTo>
                    <a:pt x="5914" y="0"/>
                  </a:lnTo>
                  <a:lnTo>
                    <a:pt x="6010" y="0"/>
                  </a:lnTo>
                  <a:lnTo>
                    <a:pt x="6105" y="0"/>
                  </a:lnTo>
                  <a:lnTo>
                    <a:pt x="6200" y="0"/>
                  </a:lnTo>
                  <a:lnTo>
                    <a:pt x="6295" y="0"/>
                  </a:lnTo>
                  <a:lnTo>
                    <a:pt x="6392" y="0"/>
                  </a:lnTo>
                  <a:lnTo>
                    <a:pt x="6487" y="0"/>
                  </a:lnTo>
                  <a:lnTo>
                    <a:pt x="6582" y="0"/>
                  </a:lnTo>
                  <a:lnTo>
                    <a:pt x="6677" y="0"/>
                  </a:lnTo>
                  <a:lnTo>
                    <a:pt x="6774" y="0"/>
                  </a:lnTo>
                  <a:lnTo>
                    <a:pt x="686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3313080" y="4043520"/>
              <a:ext cx="3025800" cy="1440"/>
            </a:xfrm>
            <a:custGeom>
              <a:avLst/>
              <a:gdLst/>
              <a:ahLst/>
              <a:rect l="l" t="t" r="r" b="b"/>
              <a:pathLst>
                <a:path w="5778" h="0">
                  <a:moveTo>
                    <a:pt x="0" y="0"/>
                  </a:moveTo>
                  <a:lnTo>
                    <a:pt x="79" y="0"/>
                  </a:lnTo>
                  <a:lnTo>
                    <a:pt x="160" y="0"/>
                  </a:lnTo>
                  <a:lnTo>
                    <a:pt x="241" y="0"/>
                  </a:lnTo>
                  <a:lnTo>
                    <a:pt x="321" y="0"/>
                  </a:lnTo>
                  <a:lnTo>
                    <a:pt x="400" y="0"/>
                  </a:lnTo>
                  <a:lnTo>
                    <a:pt x="481" y="0"/>
                  </a:lnTo>
                  <a:lnTo>
                    <a:pt x="562" y="0"/>
                  </a:lnTo>
                  <a:lnTo>
                    <a:pt x="641" y="0"/>
                  </a:lnTo>
                  <a:lnTo>
                    <a:pt x="722" y="0"/>
                  </a:lnTo>
                  <a:lnTo>
                    <a:pt x="802" y="0"/>
                  </a:lnTo>
                  <a:lnTo>
                    <a:pt x="883" y="0"/>
                  </a:lnTo>
                  <a:lnTo>
                    <a:pt x="962" y="0"/>
                  </a:lnTo>
                  <a:lnTo>
                    <a:pt x="1043" y="0"/>
                  </a:lnTo>
                  <a:lnTo>
                    <a:pt x="1123" y="0"/>
                  </a:lnTo>
                  <a:lnTo>
                    <a:pt x="1204" y="0"/>
                  </a:lnTo>
                  <a:lnTo>
                    <a:pt x="1283" y="0"/>
                  </a:lnTo>
                  <a:lnTo>
                    <a:pt x="1364" y="0"/>
                  </a:lnTo>
                  <a:lnTo>
                    <a:pt x="1445" y="0"/>
                  </a:lnTo>
                  <a:lnTo>
                    <a:pt x="1524" y="0"/>
                  </a:lnTo>
                  <a:lnTo>
                    <a:pt x="1604" y="0"/>
                  </a:lnTo>
                  <a:lnTo>
                    <a:pt x="1685" y="0"/>
                  </a:lnTo>
                  <a:lnTo>
                    <a:pt x="1766" y="0"/>
                  </a:lnTo>
                  <a:lnTo>
                    <a:pt x="1845" y="0"/>
                  </a:lnTo>
                  <a:lnTo>
                    <a:pt x="1926" y="0"/>
                  </a:lnTo>
                  <a:lnTo>
                    <a:pt x="2006" y="0"/>
                  </a:lnTo>
                  <a:lnTo>
                    <a:pt x="2085" y="0"/>
                  </a:lnTo>
                  <a:lnTo>
                    <a:pt x="2166" y="0"/>
                  </a:lnTo>
                  <a:lnTo>
                    <a:pt x="2247" y="0"/>
                  </a:lnTo>
                  <a:lnTo>
                    <a:pt x="2327" y="0"/>
                  </a:lnTo>
                  <a:lnTo>
                    <a:pt x="2407" y="0"/>
                  </a:lnTo>
                  <a:lnTo>
                    <a:pt x="2487" y="0"/>
                  </a:lnTo>
                  <a:lnTo>
                    <a:pt x="2568" y="0"/>
                  </a:lnTo>
                  <a:lnTo>
                    <a:pt x="2647" y="0"/>
                  </a:lnTo>
                  <a:lnTo>
                    <a:pt x="2728" y="0"/>
                  </a:lnTo>
                  <a:lnTo>
                    <a:pt x="2808" y="0"/>
                  </a:lnTo>
                  <a:lnTo>
                    <a:pt x="2889" y="0"/>
                  </a:lnTo>
                  <a:lnTo>
                    <a:pt x="2968" y="0"/>
                  </a:lnTo>
                  <a:lnTo>
                    <a:pt x="3049" y="0"/>
                  </a:lnTo>
                  <a:lnTo>
                    <a:pt x="3130" y="0"/>
                  </a:lnTo>
                  <a:lnTo>
                    <a:pt x="3210" y="0"/>
                  </a:lnTo>
                  <a:lnTo>
                    <a:pt x="3289" y="0"/>
                  </a:lnTo>
                  <a:lnTo>
                    <a:pt x="3370" y="0"/>
                  </a:lnTo>
                  <a:lnTo>
                    <a:pt x="3451" y="0"/>
                  </a:lnTo>
                  <a:lnTo>
                    <a:pt x="3530" y="0"/>
                  </a:lnTo>
                  <a:lnTo>
                    <a:pt x="3611" y="0"/>
                  </a:lnTo>
                  <a:lnTo>
                    <a:pt x="3691" y="0"/>
                  </a:lnTo>
                  <a:lnTo>
                    <a:pt x="3772" y="0"/>
                  </a:lnTo>
                  <a:lnTo>
                    <a:pt x="3851" y="0"/>
                  </a:lnTo>
                  <a:lnTo>
                    <a:pt x="3932" y="0"/>
                  </a:lnTo>
                  <a:lnTo>
                    <a:pt x="4012" y="0"/>
                  </a:lnTo>
                  <a:lnTo>
                    <a:pt x="4092" y="0"/>
                  </a:lnTo>
                  <a:lnTo>
                    <a:pt x="4172" y="0"/>
                  </a:lnTo>
                  <a:lnTo>
                    <a:pt x="4253" y="0"/>
                  </a:lnTo>
                  <a:lnTo>
                    <a:pt x="4334" y="0"/>
                  </a:lnTo>
                  <a:lnTo>
                    <a:pt x="4413" y="0"/>
                  </a:lnTo>
                  <a:lnTo>
                    <a:pt x="4493" y="0"/>
                  </a:lnTo>
                  <a:lnTo>
                    <a:pt x="4574" y="0"/>
                  </a:lnTo>
                  <a:lnTo>
                    <a:pt x="4653" y="0"/>
                  </a:lnTo>
                  <a:lnTo>
                    <a:pt x="4734" y="0"/>
                  </a:lnTo>
                  <a:lnTo>
                    <a:pt x="4815" y="0"/>
                  </a:lnTo>
                  <a:lnTo>
                    <a:pt x="4895" y="0"/>
                  </a:lnTo>
                  <a:lnTo>
                    <a:pt x="4975" y="0"/>
                  </a:lnTo>
                  <a:lnTo>
                    <a:pt x="5055" y="0"/>
                  </a:lnTo>
                  <a:lnTo>
                    <a:pt x="5136" y="0"/>
                  </a:lnTo>
                  <a:lnTo>
                    <a:pt x="5216" y="0"/>
                  </a:lnTo>
                  <a:lnTo>
                    <a:pt x="5296" y="0"/>
                  </a:lnTo>
                  <a:lnTo>
                    <a:pt x="5376" y="0"/>
                  </a:lnTo>
                  <a:lnTo>
                    <a:pt x="5457" y="0"/>
                  </a:lnTo>
                  <a:lnTo>
                    <a:pt x="5536" y="0"/>
                  </a:lnTo>
                  <a:lnTo>
                    <a:pt x="5617" y="0"/>
                  </a:lnTo>
                  <a:lnTo>
                    <a:pt x="5697" y="0"/>
                  </a:lnTo>
                  <a:lnTo>
                    <a:pt x="577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600360" y="4205160"/>
              <a:ext cx="2397240" cy="3240"/>
            </a:xfrm>
            <a:custGeom>
              <a:avLst/>
              <a:gdLst/>
              <a:ahLst/>
              <a:rect l="l" t="t" r="r" b="b"/>
              <a:pathLst>
                <a:path w="4577" h="0">
                  <a:moveTo>
                    <a:pt x="0" y="0"/>
                  </a:moveTo>
                  <a:lnTo>
                    <a:pt x="64" y="0"/>
                  </a:lnTo>
                  <a:lnTo>
                    <a:pt x="127" y="0"/>
                  </a:lnTo>
                  <a:lnTo>
                    <a:pt x="190" y="0"/>
                  </a:lnTo>
                  <a:lnTo>
                    <a:pt x="254" y="0"/>
                  </a:lnTo>
                  <a:lnTo>
                    <a:pt x="317" y="0"/>
                  </a:lnTo>
                  <a:lnTo>
                    <a:pt x="380" y="0"/>
                  </a:lnTo>
                  <a:lnTo>
                    <a:pt x="445" y="0"/>
                  </a:lnTo>
                  <a:lnTo>
                    <a:pt x="509" y="0"/>
                  </a:lnTo>
                  <a:lnTo>
                    <a:pt x="572" y="0"/>
                  </a:lnTo>
                  <a:lnTo>
                    <a:pt x="635" y="0"/>
                  </a:lnTo>
                  <a:lnTo>
                    <a:pt x="699" y="0"/>
                  </a:lnTo>
                  <a:lnTo>
                    <a:pt x="762" y="0"/>
                  </a:lnTo>
                  <a:lnTo>
                    <a:pt x="825" y="0"/>
                  </a:lnTo>
                  <a:lnTo>
                    <a:pt x="890" y="0"/>
                  </a:lnTo>
                  <a:lnTo>
                    <a:pt x="954" y="0"/>
                  </a:lnTo>
                  <a:lnTo>
                    <a:pt x="1017" y="0"/>
                  </a:lnTo>
                  <a:lnTo>
                    <a:pt x="1080" y="0"/>
                  </a:lnTo>
                  <a:lnTo>
                    <a:pt x="1144" y="0"/>
                  </a:lnTo>
                  <a:lnTo>
                    <a:pt x="1207" y="0"/>
                  </a:lnTo>
                  <a:lnTo>
                    <a:pt x="1272" y="0"/>
                  </a:lnTo>
                  <a:lnTo>
                    <a:pt x="1335" y="0"/>
                  </a:lnTo>
                  <a:lnTo>
                    <a:pt x="1399" y="0"/>
                  </a:lnTo>
                  <a:lnTo>
                    <a:pt x="1462" y="0"/>
                  </a:lnTo>
                  <a:lnTo>
                    <a:pt x="1525" y="0"/>
                  </a:lnTo>
                  <a:lnTo>
                    <a:pt x="1589" y="0"/>
                  </a:lnTo>
                  <a:lnTo>
                    <a:pt x="1652" y="0"/>
                  </a:lnTo>
                  <a:lnTo>
                    <a:pt x="1717" y="0"/>
                  </a:lnTo>
                  <a:lnTo>
                    <a:pt x="1780" y="0"/>
                  </a:lnTo>
                  <a:lnTo>
                    <a:pt x="1844" y="0"/>
                  </a:lnTo>
                  <a:lnTo>
                    <a:pt x="1907" y="0"/>
                  </a:lnTo>
                  <a:lnTo>
                    <a:pt x="1970" y="0"/>
                  </a:lnTo>
                  <a:lnTo>
                    <a:pt x="2034" y="0"/>
                  </a:lnTo>
                  <a:lnTo>
                    <a:pt x="2097" y="0"/>
                  </a:lnTo>
                  <a:lnTo>
                    <a:pt x="2162" y="0"/>
                  </a:lnTo>
                  <a:lnTo>
                    <a:pt x="2225" y="0"/>
                  </a:lnTo>
                  <a:lnTo>
                    <a:pt x="2289" y="0"/>
                  </a:lnTo>
                  <a:lnTo>
                    <a:pt x="2352" y="0"/>
                  </a:lnTo>
                  <a:lnTo>
                    <a:pt x="2415" y="0"/>
                  </a:lnTo>
                  <a:lnTo>
                    <a:pt x="2479" y="0"/>
                  </a:lnTo>
                  <a:lnTo>
                    <a:pt x="2544" y="0"/>
                  </a:lnTo>
                  <a:lnTo>
                    <a:pt x="2607" y="0"/>
                  </a:lnTo>
                  <a:lnTo>
                    <a:pt x="2670" y="0"/>
                  </a:lnTo>
                  <a:lnTo>
                    <a:pt x="2734" y="0"/>
                  </a:lnTo>
                  <a:lnTo>
                    <a:pt x="2797" y="0"/>
                  </a:lnTo>
                  <a:lnTo>
                    <a:pt x="2860" y="0"/>
                  </a:lnTo>
                  <a:lnTo>
                    <a:pt x="2924" y="0"/>
                  </a:lnTo>
                  <a:lnTo>
                    <a:pt x="2989" y="0"/>
                  </a:lnTo>
                  <a:lnTo>
                    <a:pt x="3052" y="0"/>
                  </a:lnTo>
                  <a:lnTo>
                    <a:pt x="3115" y="0"/>
                  </a:lnTo>
                  <a:lnTo>
                    <a:pt x="3179" y="0"/>
                  </a:lnTo>
                  <a:lnTo>
                    <a:pt x="3242" y="0"/>
                  </a:lnTo>
                  <a:lnTo>
                    <a:pt x="3305" y="0"/>
                  </a:lnTo>
                  <a:lnTo>
                    <a:pt x="3369" y="0"/>
                  </a:lnTo>
                  <a:lnTo>
                    <a:pt x="3434" y="0"/>
                  </a:lnTo>
                  <a:lnTo>
                    <a:pt x="3497" y="0"/>
                  </a:lnTo>
                  <a:lnTo>
                    <a:pt x="3560" y="0"/>
                  </a:lnTo>
                  <a:lnTo>
                    <a:pt x="3624" y="0"/>
                  </a:lnTo>
                  <a:lnTo>
                    <a:pt x="3687" y="0"/>
                  </a:lnTo>
                  <a:lnTo>
                    <a:pt x="3750" y="0"/>
                  </a:lnTo>
                  <a:lnTo>
                    <a:pt x="3815" y="0"/>
                  </a:lnTo>
                  <a:lnTo>
                    <a:pt x="3879" y="0"/>
                  </a:lnTo>
                  <a:lnTo>
                    <a:pt x="3942" y="0"/>
                  </a:lnTo>
                  <a:lnTo>
                    <a:pt x="4005" y="0"/>
                  </a:lnTo>
                  <a:lnTo>
                    <a:pt x="4069" y="0"/>
                  </a:lnTo>
                  <a:lnTo>
                    <a:pt x="4132" y="0"/>
                  </a:lnTo>
                  <a:lnTo>
                    <a:pt x="4196" y="0"/>
                  </a:lnTo>
                  <a:lnTo>
                    <a:pt x="4260" y="0"/>
                  </a:lnTo>
                  <a:lnTo>
                    <a:pt x="4324" y="0"/>
                  </a:lnTo>
                  <a:lnTo>
                    <a:pt x="4387" y="0"/>
                  </a:lnTo>
                  <a:lnTo>
                    <a:pt x="4450" y="0"/>
                  </a:lnTo>
                  <a:lnTo>
                    <a:pt x="4514" y="0"/>
                  </a:lnTo>
                  <a:lnTo>
                    <a:pt x="457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2846520" y="3519360"/>
              <a:ext cx="4041720" cy="1800"/>
            </a:xfrm>
            <a:custGeom>
              <a:avLst/>
              <a:gdLst/>
              <a:ahLst/>
              <a:rect l="l" t="t" r="r" b="b"/>
              <a:pathLst>
                <a:path w="7718" h="0">
                  <a:moveTo>
                    <a:pt x="0" y="0"/>
                  </a:moveTo>
                  <a:lnTo>
                    <a:pt x="108" y="0"/>
                  </a:lnTo>
                  <a:lnTo>
                    <a:pt x="215" y="0"/>
                  </a:lnTo>
                  <a:lnTo>
                    <a:pt x="323" y="0"/>
                  </a:lnTo>
                  <a:lnTo>
                    <a:pt x="429" y="0"/>
                  </a:lnTo>
                  <a:lnTo>
                    <a:pt x="536" y="0"/>
                  </a:lnTo>
                  <a:lnTo>
                    <a:pt x="644" y="0"/>
                  </a:lnTo>
                  <a:lnTo>
                    <a:pt x="750" y="0"/>
                  </a:lnTo>
                  <a:lnTo>
                    <a:pt x="858" y="0"/>
                  </a:lnTo>
                  <a:lnTo>
                    <a:pt x="965" y="0"/>
                  </a:lnTo>
                  <a:lnTo>
                    <a:pt x="1073" y="0"/>
                  </a:lnTo>
                  <a:lnTo>
                    <a:pt x="1180" y="0"/>
                  </a:lnTo>
                  <a:lnTo>
                    <a:pt x="1286" y="0"/>
                  </a:lnTo>
                  <a:lnTo>
                    <a:pt x="1394" y="0"/>
                  </a:lnTo>
                  <a:lnTo>
                    <a:pt x="1501" y="0"/>
                  </a:lnTo>
                  <a:lnTo>
                    <a:pt x="1609" y="0"/>
                  </a:lnTo>
                  <a:lnTo>
                    <a:pt x="1715" y="0"/>
                  </a:lnTo>
                  <a:lnTo>
                    <a:pt x="1823" y="0"/>
                  </a:lnTo>
                  <a:lnTo>
                    <a:pt x="1930" y="0"/>
                  </a:lnTo>
                  <a:lnTo>
                    <a:pt x="2036" y="0"/>
                  </a:lnTo>
                  <a:lnTo>
                    <a:pt x="2144" y="0"/>
                  </a:lnTo>
                  <a:lnTo>
                    <a:pt x="2251" y="0"/>
                  </a:lnTo>
                  <a:lnTo>
                    <a:pt x="2359" y="0"/>
                  </a:lnTo>
                  <a:lnTo>
                    <a:pt x="2466" y="0"/>
                  </a:lnTo>
                  <a:lnTo>
                    <a:pt x="2574" y="0"/>
                  </a:lnTo>
                  <a:lnTo>
                    <a:pt x="2680" y="0"/>
                  </a:lnTo>
                  <a:lnTo>
                    <a:pt x="2787" y="0"/>
                  </a:lnTo>
                  <a:lnTo>
                    <a:pt x="2895" y="0"/>
                  </a:lnTo>
                  <a:lnTo>
                    <a:pt x="3001" y="0"/>
                  </a:lnTo>
                  <a:lnTo>
                    <a:pt x="3109" y="0"/>
                  </a:lnTo>
                  <a:lnTo>
                    <a:pt x="3216" y="0"/>
                  </a:lnTo>
                  <a:lnTo>
                    <a:pt x="3324" y="0"/>
                  </a:lnTo>
                  <a:lnTo>
                    <a:pt x="3431" y="0"/>
                  </a:lnTo>
                  <a:lnTo>
                    <a:pt x="3537" y="0"/>
                  </a:lnTo>
                  <a:lnTo>
                    <a:pt x="3645" y="0"/>
                  </a:lnTo>
                  <a:lnTo>
                    <a:pt x="3752" y="0"/>
                  </a:lnTo>
                  <a:lnTo>
                    <a:pt x="3860" y="0"/>
                  </a:lnTo>
                  <a:lnTo>
                    <a:pt x="3966" y="0"/>
                  </a:lnTo>
                  <a:lnTo>
                    <a:pt x="4074" y="0"/>
                  </a:lnTo>
                  <a:lnTo>
                    <a:pt x="4181" y="0"/>
                  </a:lnTo>
                  <a:lnTo>
                    <a:pt x="4287" y="0"/>
                  </a:lnTo>
                  <a:lnTo>
                    <a:pt x="4396" y="0"/>
                  </a:lnTo>
                  <a:lnTo>
                    <a:pt x="4502" y="0"/>
                  </a:lnTo>
                  <a:lnTo>
                    <a:pt x="4610" y="0"/>
                  </a:lnTo>
                  <a:lnTo>
                    <a:pt x="4717" y="0"/>
                  </a:lnTo>
                  <a:lnTo>
                    <a:pt x="4825" y="0"/>
                  </a:lnTo>
                  <a:lnTo>
                    <a:pt x="4931" y="0"/>
                  </a:lnTo>
                  <a:lnTo>
                    <a:pt x="5038" y="0"/>
                  </a:lnTo>
                  <a:lnTo>
                    <a:pt x="5146" y="0"/>
                  </a:lnTo>
                  <a:lnTo>
                    <a:pt x="5252" y="0"/>
                  </a:lnTo>
                  <a:lnTo>
                    <a:pt x="5360" y="0"/>
                  </a:lnTo>
                  <a:lnTo>
                    <a:pt x="5467" y="0"/>
                  </a:lnTo>
                  <a:lnTo>
                    <a:pt x="5575" y="0"/>
                  </a:lnTo>
                  <a:lnTo>
                    <a:pt x="5682" y="0"/>
                  </a:lnTo>
                  <a:lnTo>
                    <a:pt x="5790" y="0"/>
                  </a:lnTo>
                  <a:lnTo>
                    <a:pt x="5896" y="0"/>
                  </a:lnTo>
                  <a:lnTo>
                    <a:pt x="6003" y="0"/>
                  </a:lnTo>
                  <a:lnTo>
                    <a:pt x="6111" y="0"/>
                  </a:lnTo>
                  <a:lnTo>
                    <a:pt x="6217" y="0"/>
                  </a:lnTo>
                  <a:lnTo>
                    <a:pt x="6325" y="0"/>
                  </a:lnTo>
                  <a:lnTo>
                    <a:pt x="6432" y="0"/>
                  </a:lnTo>
                  <a:lnTo>
                    <a:pt x="6540" y="0"/>
                  </a:lnTo>
                  <a:lnTo>
                    <a:pt x="6647" y="0"/>
                  </a:lnTo>
                  <a:lnTo>
                    <a:pt x="6753" y="0"/>
                  </a:lnTo>
                  <a:lnTo>
                    <a:pt x="6861" y="0"/>
                  </a:lnTo>
                  <a:lnTo>
                    <a:pt x="6968" y="0"/>
                  </a:lnTo>
                  <a:lnTo>
                    <a:pt x="7076" y="0"/>
                  </a:lnTo>
                  <a:lnTo>
                    <a:pt x="7182" y="0"/>
                  </a:lnTo>
                  <a:lnTo>
                    <a:pt x="7290" y="0"/>
                  </a:lnTo>
                  <a:lnTo>
                    <a:pt x="7397" y="0"/>
                  </a:lnTo>
                  <a:lnTo>
                    <a:pt x="7503" y="0"/>
                  </a:lnTo>
                  <a:lnTo>
                    <a:pt x="7611" y="0"/>
                  </a:lnTo>
                  <a:lnTo>
                    <a:pt x="77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2633760" y="1133640"/>
              <a:ext cx="966600" cy="3071520"/>
            </a:xfrm>
            <a:custGeom>
              <a:avLst/>
              <a:gdLst/>
              <a:ahLst/>
              <a:rect l="l" t="t" r="r" b="b"/>
              <a:pathLst>
                <a:path w="1845" h="4364">
                  <a:moveTo>
                    <a:pt x="1845" y="0"/>
                  </a:moveTo>
                  <a:lnTo>
                    <a:pt x="1687" y="51"/>
                  </a:lnTo>
                  <a:lnTo>
                    <a:pt x="1494" y="132"/>
                  </a:lnTo>
                  <a:lnTo>
                    <a:pt x="1289" y="231"/>
                  </a:lnTo>
                  <a:lnTo>
                    <a:pt x="1109" y="341"/>
                  </a:lnTo>
                  <a:lnTo>
                    <a:pt x="948" y="458"/>
                  </a:lnTo>
                  <a:lnTo>
                    <a:pt x="794" y="579"/>
                  </a:lnTo>
                  <a:lnTo>
                    <a:pt x="651" y="704"/>
                  </a:lnTo>
                  <a:lnTo>
                    <a:pt x="522" y="833"/>
                  </a:lnTo>
                  <a:lnTo>
                    <a:pt x="409" y="966"/>
                  </a:lnTo>
                  <a:lnTo>
                    <a:pt x="310" y="1100"/>
                  </a:lnTo>
                  <a:lnTo>
                    <a:pt x="226" y="1234"/>
                  </a:lnTo>
                  <a:lnTo>
                    <a:pt x="157" y="1369"/>
                  </a:lnTo>
                  <a:lnTo>
                    <a:pt x="107" y="1505"/>
                  </a:lnTo>
                  <a:lnTo>
                    <a:pt x="71" y="1640"/>
                  </a:lnTo>
                  <a:lnTo>
                    <a:pt x="39" y="1775"/>
                  </a:lnTo>
                  <a:lnTo>
                    <a:pt x="19" y="1911"/>
                  </a:lnTo>
                  <a:lnTo>
                    <a:pt x="6" y="2046"/>
                  </a:lnTo>
                  <a:lnTo>
                    <a:pt x="0" y="2182"/>
                  </a:lnTo>
                  <a:lnTo>
                    <a:pt x="6" y="2317"/>
                  </a:lnTo>
                  <a:lnTo>
                    <a:pt x="19" y="2452"/>
                  </a:lnTo>
                  <a:lnTo>
                    <a:pt x="39" y="2588"/>
                  </a:lnTo>
                  <a:lnTo>
                    <a:pt x="71" y="2723"/>
                  </a:lnTo>
                  <a:lnTo>
                    <a:pt x="107" y="2859"/>
                  </a:lnTo>
                  <a:lnTo>
                    <a:pt x="157" y="2994"/>
                  </a:lnTo>
                  <a:lnTo>
                    <a:pt x="226" y="3129"/>
                  </a:lnTo>
                  <a:lnTo>
                    <a:pt x="310" y="3263"/>
                  </a:lnTo>
                  <a:lnTo>
                    <a:pt x="409" y="3397"/>
                  </a:lnTo>
                  <a:lnTo>
                    <a:pt x="522" y="3530"/>
                  </a:lnTo>
                  <a:lnTo>
                    <a:pt x="651" y="3659"/>
                  </a:lnTo>
                  <a:lnTo>
                    <a:pt x="794" y="3785"/>
                  </a:lnTo>
                  <a:lnTo>
                    <a:pt x="948" y="3906"/>
                  </a:lnTo>
                  <a:lnTo>
                    <a:pt x="1109" y="4022"/>
                  </a:lnTo>
                  <a:lnTo>
                    <a:pt x="1289" y="4132"/>
                  </a:lnTo>
                  <a:lnTo>
                    <a:pt x="1494" y="4231"/>
                  </a:lnTo>
                  <a:lnTo>
                    <a:pt x="1687" y="4312"/>
                  </a:lnTo>
                  <a:lnTo>
                    <a:pt x="1845" y="436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697360" y="1133640"/>
              <a:ext cx="878040" cy="3071520"/>
            </a:xfrm>
            <a:custGeom>
              <a:avLst/>
              <a:gdLst/>
              <a:ahLst/>
              <a:rect l="l" t="t" r="r" b="b"/>
              <a:pathLst>
                <a:path w="1677" h="4364">
                  <a:moveTo>
                    <a:pt x="0" y="0"/>
                  </a:moveTo>
                  <a:lnTo>
                    <a:pt x="144" y="51"/>
                  </a:lnTo>
                  <a:lnTo>
                    <a:pt x="320" y="132"/>
                  </a:lnTo>
                  <a:lnTo>
                    <a:pt x="506" y="231"/>
                  </a:lnTo>
                  <a:lnTo>
                    <a:pt x="669" y="341"/>
                  </a:lnTo>
                  <a:lnTo>
                    <a:pt x="816" y="458"/>
                  </a:lnTo>
                  <a:lnTo>
                    <a:pt x="955" y="579"/>
                  </a:lnTo>
                  <a:lnTo>
                    <a:pt x="1086" y="704"/>
                  </a:lnTo>
                  <a:lnTo>
                    <a:pt x="1203" y="833"/>
                  </a:lnTo>
                  <a:lnTo>
                    <a:pt x="1305" y="966"/>
                  </a:lnTo>
                  <a:lnTo>
                    <a:pt x="1396" y="1100"/>
                  </a:lnTo>
                  <a:lnTo>
                    <a:pt x="1472" y="1234"/>
                  </a:lnTo>
                  <a:lnTo>
                    <a:pt x="1534" y="1369"/>
                  </a:lnTo>
                  <a:lnTo>
                    <a:pt x="1580" y="1505"/>
                  </a:lnTo>
                  <a:lnTo>
                    <a:pt x="1613" y="1640"/>
                  </a:lnTo>
                  <a:lnTo>
                    <a:pt x="1641" y="1775"/>
                  </a:lnTo>
                  <a:lnTo>
                    <a:pt x="1661" y="1911"/>
                  </a:lnTo>
                  <a:lnTo>
                    <a:pt x="1672" y="2046"/>
                  </a:lnTo>
                  <a:lnTo>
                    <a:pt x="1677" y="2182"/>
                  </a:lnTo>
                  <a:lnTo>
                    <a:pt x="1672" y="2317"/>
                  </a:lnTo>
                  <a:lnTo>
                    <a:pt x="1661" y="2452"/>
                  </a:lnTo>
                  <a:lnTo>
                    <a:pt x="1641" y="2588"/>
                  </a:lnTo>
                  <a:lnTo>
                    <a:pt x="1613" y="2723"/>
                  </a:lnTo>
                  <a:lnTo>
                    <a:pt x="1580" y="2859"/>
                  </a:lnTo>
                  <a:lnTo>
                    <a:pt x="1534" y="2994"/>
                  </a:lnTo>
                  <a:lnTo>
                    <a:pt x="1472" y="3129"/>
                  </a:lnTo>
                  <a:lnTo>
                    <a:pt x="1396" y="3263"/>
                  </a:lnTo>
                  <a:lnTo>
                    <a:pt x="1305" y="3397"/>
                  </a:lnTo>
                  <a:lnTo>
                    <a:pt x="1203" y="3530"/>
                  </a:lnTo>
                  <a:lnTo>
                    <a:pt x="1086" y="3659"/>
                  </a:lnTo>
                  <a:lnTo>
                    <a:pt x="955" y="3785"/>
                  </a:lnTo>
                  <a:lnTo>
                    <a:pt x="816" y="3906"/>
                  </a:lnTo>
                  <a:lnTo>
                    <a:pt x="669" y="4022"/>
                  </a:lnTo>
                  <a:lnTo>
                    <a:pt x="506" y="4132"/>
                  </a:lnTo>
                  <a:lnTo>
                    <a:pt x="320" y="4231"/>
                  </a:lnTo>
                  <a:lnTo>
                    <a:pt x="144" y="4312"/>
                  </a:lnTo>
                  <a:lnTo>
                    <a:pt x="0" y="436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2654280" y="2951280"/>
              <a:ext cx="4462560" cy="1440"/>
            </a:xfrm>
            <a:custGeom>
              <a:avLst/>
              <a:gdLst/>
              <a:ahLst/>
              <a:rect l="l" t="t" r="r" b="b"/>
              <a:pathLst>
                <a:path w="8518" h="0">
                  <a:moveTo>
                    <a:pt x="0" y="0"/>
                  </a:moveTo>
                  <a:lnTo>
                    <a:pt x="118" y="0"/>
                  </a:lnTo>
                  <a:lnTo>
                    <a:pt x="236" y="0"/>
                  </a:lnTo>
                  <a:lnTo>
                    <a:pt x="355" y="0"/>
                  </a:lnTo>
                  <a:lnTo>
                    <a:pt x="473" y="0"/>
                  </a:lnTo>
                  <a:lnTo>
                    <a:pt x="592" y="0"/>
                  </a:lnTo>
                  <a:lnTo>
                    <a:pt x="710" y="0"/>
                  </a:lnTo>
                  <a:lnTo>
                    <a:pt x="828" y="0"/>
                  </a:lnTo>
                  <a:lnTo>
                    <a:pt x="946" y="0"/>
                  </a:lnTo>
                  <a:lnTo>
                    <a:pt x="1065" y="0"/>
                  </a:lnTo>
                  <a:lnTo>
                    <a:pt x="1183" y="0"/>
                  </a:lnTo>
                  <a:lnTo>
                    <a:pt x="1301" y="0"/>
                  </a:lnTo>
                  <a:lnTo>
                    <a:pt x="1420" y="0"/>
                  </a:lnTo>
                  <a:lnTo>
                    <a:pt x="1538" y="0"/>
                  </a:lnTo>
                  <a:lnTo>
                    <a:pt x="1656" y="0"/>
                  </a:lnTo>
                  <a:lnTo>
                    <a:pt x="1775" y="0"/>
                  </a:lnTo>
                  <a:lnTo>
                    <a:pt x="1893" y="0"/>
                  </a:lnTo>
                  <a:lnTo>
                    <a:pt x="2011" y="0"/>
                  </a:lnTo>
                  <a:lnTo>
                    <a:pt x="2129" y="0"/>
                  </a:lnTo>
                  <a:lnTo>
                    <a:pt x="2248" y="0"/>
                  </a:lnTo>
                  <a:lnTo>
                    <a:pt x="2366" y="0"/>
                  </a:lnTo>
                  <a:lnTo>
                    <a:pt x="2485" y="0"/>
                  </a:lnTo>
                  <a:lnTo>
                    <a:pt x="2603" y="0"/>
                  </a:lnTo>
                  <a:lnTo>
                    <a:pt x="2721" y="0"/>
                  </a:lnTo>
                  <a:lnTo>
                    <a:pt x="2839" y="0"/>
                  </a:lnTo>
                  <a:lnTo>
                    <a:pt x="2957" y="0"/>
                  </a:lnTo>
                  <a:lnTo>
                    <a:pt x="3076" y="0"/>
                  </a:lnTo>
                  <a:lnTo>
                    <a:pt x="3195" y="0"/>
                  </a:lnTo>
                  <a:lnTo>
                    <a:pt x="3313" y="0"/>
                  </a:lnTo>
                  <a:lnTo>
                    <a:pt x="3431" y="0"/>
                  </a:lnTo>
                  <a:lnTo>
                    <a:pt x="3549" y="0"/>
                  </a:lnTo>
                  <a:lnTo>
                    <a:pt x="3667" y="0"/>
                  </a:lnTo>
                  <a:lnTo>
                    <a:pt x="3785" y="0"/>
                  </a:lnTo>
                  <a:lnTo>
                    <a:pt x="3903" y="0"/>
                  </a:lnTo>
                  <a:lnTo>
                    <a:pt x="4023" y="0"/>
                  </a:lnTo>
                  <a:lnTo>
                    <a:pt x="4141" y="0"/>
                  </a:lnTo>
                  <a:lnTo>
                    <a:pt x="4259" y="0"/>
                  </a:lnTo>
                  <a:lnTo>
                    <a:pt x="4377" y="0"/>
                  </a:lnTo>
                  <a:lnTo>
                    <a:pt x="4495" y="0"/>
                  </a:lnTo>
                  <a:lnTo>
                    <a:pt x="4613" y="0"/>
                  </a:lnTo>
                  <a:lnTo>
                    <a:pt x="4731" y="0"/>
                  </a:lnTo>
                  <a:lnTo>
                    <a:pt x="4851" y="0"/>
                  </a:lnTo>
                  <a:lnTo>
                    <a:pt x="4969" y="0"/>
                  </a:lnTo>
                  <a:lnTo>
                    <a:pt x="5087" y="0"/>
                  </a:lnTo>
                  <a:lnTo>
                    <a:pt x="5205" y="0"/>
                  </a:lnTo>
                  <a:lnTo>
                    <a:pt x="5323" y="0"/>
                  </a:lnTo>
                  <a:lnTo>
                    <a:pt x="5441" y="0"/>
                  </a:lnTo>
                  <a:lnTo>
                    <a:pt x="5559" y="0"/>
                  </a:lnTo>
                  <a:lnTo>
                    <a:pt x="5679" y="0"/>
                  </a:lnTo>
                  <a:lnTo>
                    <a:pt x="5797" y="0"/>
                  </a:lnTo>
                  <a:lnTo>
                    <a:pt x="5915" y="0"/>
                  </a:lnTo>
                  <a:lnTo>
                    <a:pt x="6033" y="0"/>
                  </a:lnTo>
                  <a:lnTo>
                    <a:pt x="6151" y="0"/>
                  </a:lnTo>
                  <a:lnTo>
                    <a:pt x="6269" y="0"/>
                  </a:lnTo>
                  <a:lnTo>
                    <a:pt x="6387" y="0"/>
                  </a:lnTo>
                  <a:lnTo>
                    <a:pt x="6507" y="0"/>
                  </a:lnTo>
                  <a:lnTo>
                    <a:pt x="6625" y="0"/>
                  </a:lnTo>
                  <a:lnTo>
                    <a:pt x="6743" y="0"/>
                  </a:lnTo>
                  <a:lnTo>
                    <a:pt x="6861" y="0"/>
                  </a:lnTo>
                  <a:lnTo>
                    <a:pt x="6979" y="0"/>
                  </a:lnTo>
                  <a:lnTo>
                    <a:pt x="7098" y="0"/>
                  </a:lnTo>
                  <a:lnTo>
                    <a:pt x="7216" y="0"/>
                  </a:lnTo>
                  <a:lnTo>
                    <a:pt x="7335" y="0"/>
                  </a:lnTo>
                  <a:lnTo>
                    <a:pt x="7453" y="0"/>
                  </a:lnTo>
                  <a:lnTo>
                    <a:pt x="7571" y="0"/>
                  </a:lnTo>
                  <a:lnTo>
                    <a:pt x="7689" y="0"/>
                  </a:lnTo>
                  <a:lnTo>
                    <a:pt x="7808" y="0"/>
                  </a:lnTo>
                  <a:lnTo>
                    <a:pt x="7926" y="0"/>
                  </a:lnTo>
                  <a:lnTo>
                    <a:pt x="8044" y="0"/>
                  </a:lnTo>
                  <a:lnTo>
                    <a:pt x="8162" y="0"/>
                  </a:lnTo>
                  <a:lnTo>
                    <a:pt x="8281" y="0"/>
                  </a:lnTo>
                  <a:lnTo>
                    <a:pt x="8399" y="0"/>
                  </a:lnTo>
                  <a:lnTo>
                    <a:pt x="8518" y="0"/>
                  </a:lnTo>
                </a:path>
              </a:pathLst>
            </a:custGeom>
            <a:solidFill>
              <a:srgbClr val="00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2716200" y="3240000"/>
              <a:ext cx="4324320" cy="1800"/>
            </a:xfrm>
            <a:custGeom>
              <a:avLst/>
              <a:gdLst/>
              <a:ahLst/>
              <a:rect l="l" t="t" r="r" b="b"/>
              <a:pathLst>
                <a:path w="8256" h="0">
                  <a:moveTo>
                    <a:pt x="0" y="0"/>
                  </a:moveTo>
                  <a:lnTo>
                    <a:pt x="114" y="0"/>
                  </a:lnTo>
                  <a:lnTo>
                    <a:pt x="229" y="0"/>
                  </a:lnTo>
                  <a:lnTo>
                    <a:pt x="344" y="0"/>
                  </a:lnTo>
                  <a:lnTo>
                    <a:pt x="458" y="0"/>
                  </a:lnTo>
                  <a:lnTo>
                    <a:pt x="573" y="0"/>
                  </a:lnTo>
                  <a:lnTo>
                    <a:pt x="687" y="0"/>
                  </a:lnTo>
                  <a:lnTo>
                    <a:pt x="802" y="0"/>
                  </a:lnTo>
                  <a:lnTo>
                    <a:pt x="917" y="0"/>
                  </a:lnTo>
                  <a:lnTo>
                    <a:pt x="1031" y="0"/>
                  </a:lnTo>
                  <a:lnTo>
                    <a:pt x="1146" y="0"/>
                  </a:lnTo>
                  <a:lnTo>
                    <a:pt x="1261" y="0"/>
                  </a:lnTo>
                  <a:lnTo>
                    <a:pt x="1375" y="0"/>
                  </a:lnTo>
                  <a:lnTo>
                    <a:pt x="1490" y="0"/>
                  </a:lnTo>
                  <a:lnTo>
                    <a:pt x="1604" y="0"/>
                  </a:lnTo>
                  <a:lnTo>
                    <a:pt x="1719" y="0"/>
                  </a:lnTo>
                  <a:lnTo>
                    <a:pt x="1835" y="0"/>
                  </a:lnTo>
                  <a:lnTo>
                    <a:pt x="1948" y="0"/>
                  </a:lnTo>
                  <a:lnTo>
                    <a:pt x="2064" y="0"/>
                  </a:lnTo>
                  <a:lnTo>
                    <a:pt x="2179" y="0"/>
                  </a:lnTo>
                  <a:lnTo>
                    <a:pt x="2293" y="0"/>
                  </a:lnTo>
                  <a:lnTo>
                    <a:pt x="2408" y="0"/>
                  </a:lnTo>
                  <a:lnTo>
                    <a:pt x="2523" y="0"/>
                  </a:lnTo>
                  <a:lnTo>
                    <a:pt x="2637" y="0"/>
                  </a:lnTo>
                  <a:lnTo>
                    <a:pt x="2752" y="0"/>
                  </a:lnTo>
                  <a:lnTo>
                    <a:pt x="2866" y="0"/>
                  </a:lnTo>
                  <a:lnTo>
                    <a:pt x="2981" y="0"/>
                  </a:lnTo>
                  <a:lnTo>
                    <a:pt x="3096" y="0"/>
                  </a:lnTo>
                  <a:lnTo>
                    <a:pt x="3210" y="0"/>
                  </a:lnTo>
                  <a:lnTo>
                    <a:pt x="3325" y="0"/>
                  </a:lnTo>
                  <a:lnTo>
                    <a:pt x="3440" y="0"/>
                  </a:lnTo>
                  <a:lnTo>
                    <a:pt x="3554" y="0"/>
                  </a:lnTo>
                  <a:lnTo>
                    <a:pt x="3669" y="0"/>
                  </a:lnTo>
                  <a:lnTo>
                    <a:pt x="3783" y="0"/>
                  </a:lnTo>
                  <a:lnTo>
                    <a:pt x="3898" y="0"/>
                  </a:lnTo>
                  <a:lnTo>
                    <a:pt x="4014" y="0"/>
                  </a:lnTo>
                  <a:lnTo>
                    <a:pt x="4127" y="0"/>
                  </a:lnTo>
                  <a:lnTo>
                    <a:pt x="4243" y="0"/>
                  </a:lnTo>
                  <a:lnTo>
                    <a:pt x="4358" y="0"/>
                  </a:lnTo>
                  <a:lnTo>
                    <a:pt x="4472" y="0"/>
                  </a:lnTo>
                  <a:lnTo>
                    <a:pt x="4587" y="0"/>
                  </a:lnTo>
                  <a:lnTo>
                    <a:pt x="4702" y="0"/>
                  </a:lnTo>
                  <a:lnTo>
                    <a:pt x="4816" y="0"/>
                  </a:lnTo>
                  <a:lnTo>
                    <a:pt x="4931" y="0"/>
                  </a:lnTo>
                  <a:lnTo>
                    <a:pt x="5045" y="0"/>
                  </a:lnTo>
                  <a:lnTo>
                    <a:pt x="5160" y="0"/>
                  </a:lnTo>
                  <a:lnTo>
                    <a:pt x="5275" y="0"/>
                  </a:lnTo>
                  <a:lnTo>
                    <a:pt x="5389" y="0"/>
                  </a:lnTo>
                  <a:lnTo>
                    <a:pt x="5504" y="0"/>
                  </a:lnTo>
                  <a:lnTo>
                    <a:pt x="5619" y="0"/>
                  </a:lnTo>
                  <a:lnTo>
                    <a:pt x="5733" y="0"/>
                  </a:lnTo>
                  <a:lnTo>
                    <a:pt x="5848" y="0"/>
                  </a:lnTo>
                  <a:lnTo>
                    <a:pt x="5962" y="0"/>
                  </a:lnTo>
                  <a:lnTo>
                    <a:pt x="6077" y="0"/>
                  </a:lnTo>
                  <a:lnTo>
                    <a:pt x="6193" y="0"/>
                  </a:lnTo>
                  <a:lnTo>
                    <a:pt x="6306" y="0"/>
                  </a:lnTo>
                  <a:lnTo>
                    <a:pt x="6422" y="0"/>
                  </a:lnTo>
                  <a:lnTo>
                    <a:pt x="6537" y="0"/>
                  </a:lnTo>
                  <a:lnTo>
                    <a:pt x="6651" y="0"/>
                  </a:lnTo>
                  <a:lnTo>
                    <a:pt x="6766" y="0"/>
                  </a:lnTo>
                  <a:lnTo>
                    <a:pt x="6881" y="0"/>
                  </a:lnTo>
                  <a:lnTo>
                    <a:pt x="6995" y="0"/>
                  </a:lnTo>
                  <a:lnTo>
                    <a:pt x="7110" y="0"/>
                  </a:lnTo>
                  <a:lnTo>
                    <a:pt x="7224" y="0"/>
                  </a:lnTo>
                  <a:lnTo>
                    <a:pt x="7339" y="0"/>
                  </a:lnTo>
                  <a:lnTo>
                    <a:pt x="7454" y="0"/>
                  </a:lnTo>
                  <a:lnTo>
                    <a:pt x="7568" y="0"/>
                  </a:lnTo>
                  <a:lnTo>
                    <a:pt x="7683" y="0"/>
                  </a:lnTo>
                  <a:lnTo>
                    <a:pt x="7798" y="0"/>
                  </a:lnTo>
                  <a:lnTo>
                    <a:pt x="7912" y="0"/>
                  </a:lnTo>
                  <a:lnTo>
                    <a:pt x="8027" y="0"/>
                  </a:lnTo>
                  <a:lnTo>
                    <a:pt x="8141" y="0"/>
                  </a:lnTo>
                  <a:lnTo>
                    <a:pt x="8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799160" y="1133640"/>
              <a:ext cx="87120" cy="3071520"/>
            </a:xfrm>
            <a:custGeom>
              <a:avLst/>
              <a:gdLst/>
              <a:ahLst/>
              <a:rect l="l" t="t" r="r" b="b"/>
              <a:pathLst>
                <a:path w="167" h="4364">
                  <a:moveTo>
                    <a:pt x="0" y="0"/>
                  </a:moveTo>
                  <a:lnTo>
                    <a:pt x="14" y="51"/>
                  </a:lnTo>
                  <a:lnTo>
                    <a:pt x="31" y="132"/>
                  </a:lnTo>
                  <a:lnTo>
                    <a:pt x="50" y="231"/>
                  </a:lnTo>
                  <a:lnTo>
                    <a:pt x="66" y="341"/>
                  </a:lnTo>
                  <a:lnTo>
                    <a:pt x="82" y="458"/>
                  </a:lnTo>
                  <a:lnTo>
                    <a:pt x="95" y="579"/>
                  </a:lnTo>
                  <a:lnTo>
                    <a:pt x="108" y="704"/>
                  </a:lnTo>
                  <a:lnTo>
                    <a:pt x="119" y="833"/>
                  </a:lnTo>
                  <a:lnTo>
                    <a:pt x="131" y="966"/>
                  </a:lnTo>
                  <a:lnTo>
                    <a:pt x="139" y="1100"/>
                  </a:lnTo>
                  <a:lnTo>
                    <a:pt x="147" y="1234"/>
                  </a:lnTo>
                  <a:lnTo>
                    <a:pt x="152" y="1369"/>
                  </a:lnTo>
                  <a:lnTo>
                    <a:pt x="158" y="1505"/>
                  </a:lnTo>
                  <a:lnTo>
                    <a:pt x="161" y="1640"/>
                  </a:lnTo>
                  <a:lnTo>
                    <a:pt x="164" y="1775"/>
                  </a:lnTo>
                  <a:lnTo>
                    <a:pt x="165" y="1911"/>
                  </a:lnTo>
                  <a:lnTo>
                    <a:pt x="167" y="2046"/>
                  </a:lnTo>
                  <a:lnTo>
                    <a:pt x="167" y="2182"/>
                  </a:lnTo>
                  <a:lnTo>
                    <a:pt x="167" y="2317"/>
                  </a:lnTo>
                  <a:lnTo>
                    <a:pt x="165" y="2452"/>
                  </a:lnTo>
                  <a:lnTo>
                    <a:pt x="164" y="2588"/>
                  </a:lnTo>
                  <a:lnTo>
                    <a:pt x="161" y="2723"/>
                  </a:lnTo>
                  <a:lnTo>
                    <a:pt x="158" y="2859"/>
                  </a:lnTo>
                  <a:lnTo>
                    <a:pt x="152" y="2994"/>
                  </a:lnTo>
                  <a:lnTo>
                    <a:pt x="147" y="3129"/>
                  </a:lnTo>
                  <a:lnTo>
                    <a:pt x="139" y="3263"/>
                  </a:lnTo>
                  <a:lnTo>
                    <a:pt x="131" y="3397"/>
                  </a:lnTo>
                  <a:lnTo>
                    <a:pt x="119" y="3530"/>
                  </a:lnTo>
                  <a:lnTo>
                    <a:pt x="108" y="3659"/>
                  </a:lnTo>
                  <a:lnTo>
                    <a:pt x="95" y="3785"/>
                  </a:lnTo>
                  <a:lnTo>
                    <a:pt x="82" y="3906"/>
                  </a:lnTo>
                  <a:lnTo>
                    <a:pt x="66" y="4022"/>
                  </a:lnTo>
                  <a:lnTo>
                    <a:pt x="50" y="4132"/>
                  </a:lnTo>
                  <a:lnTo>
                    <a:pt x="31" y="4231"/>
                  </a:lnTo>
                  <a:lnTo>
                    <a:pt x="14" y="4312"/>
                  </a:lnTo>
                  <a:lnTo>
                    <a:pt x="0" y="436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3009960" y="1133640"/>
              <a:ext cx="788760" cy="3071520"/>
            </a:xfrm>
            <a:custGeom>
              <a:avLst/>
              <a:gdLst/>
              <a:ahLst/>
              <a:rect l="l" t="t" r="r" b="b"/>
              <a:pathLst>
                <a:path w="1507" h="4364">
                  <a:moveTo>
                    <a:pt x="1507" y="0"/>
                  </a:moveTo>
                  <a:lnTo>
                    <a:pt x="1379" y="51"/>
                  </a:lnTo>
                  <a:lnTo>
                    <a:pt x="1221" y="132"/>
                  </a:lnTo>
                  <a:lnTo>
                    <a:pt x="1054" y="231"/>
                  </a:lnTo>
                  <a:lnTo>
                    <a:pt x="907" y="341"/>
                  </a:lnTo>
                  <a:lnTo>
                    <a:pt x="774" y="458"/>
                  </a:lnTo>
                  <a:lnTo>
                    <a:pt x="649" y="579"/>
                  </a:lnTo>
                  <a:lnTo>
                    <a:pt x="531" y="704"/>
                  </a:lnTo>
                  <a:lnTo>
                    <a:pt x="426" y="833"/>
                  </a:lnTo>
                  <a:lnTo>
                    <a:pt x="334" y="966"/>
                  </a:lnTo>
                  <a:lnTo>
                    <a:pt x="252" y="1100"/>
                  </a:lnTo>
                  <a:lnTo>
                    <a:pt x="184" y="1234"/>
                  </a:lnTo>
                  <a:lnTo>
                    <a:pt x="128" y="1369"/>
                  </a:lnTo>
                  <a:lnTo>
                    <a:pt x="86" y="1505"/>
                  </a:lnTo>
                  <a:lnTo>
                    <a:pt x="57" y="1640"/>
                  </a:lnTo>
                  <a:lnTo>
                    <a:pt x="31" y="1775"/>
                  </a:lnTo>
                  <a:lnTo>
                    <a:pt x="14" y="1911"/>
                  </a:lnTo>
                  <a:lnTo>
                    <a:pt x="4" y="2046"/>
                  </a:lnTo>
                  <a:lnTo>
                    <a:pt x="0" y="2182"/>
                  </a:lnTo>
                  <a:lnTo>
                    <a:pt x="4" y="2317"/>
                  </a:lnTo>
                  <a:lnTo>
                    <a:pt x="14" y="2452"/>
                  </a:lnTo>
                  <a:lnTo>
                    <a:pt x="31" y="2588"/>
                  </a:lnTo>
                  <a:lnTo>
                    <a:pt x="57" y="2723"/>
                  </a:lnTo>
                  <a:lnTo>
                    <a:pt x="86" y="2859"/>
                  </a:lnTo>
                  <a:lnTo>
                    <a:pt x="128" y="2994"/>
                  </a:lnTo>
                  <a:lnTo>
                    <a:pt x="184" y="3129"/>
                  </a:lnTo>
                  <a:lnTo>
                    <a:pt x="252" y="3263"/>
                  </a:lnTo>
                  <a:lnTo>
                    <a:pt x="334" y="3397"/>
                  </a:lnTo>
                  <a:lnTo>
                    <a:pt x="426" y="3530"/>
                  </a:lnTo>
                  <a:lnTo>
                    <a:pt x="531" y="3659"/>
                  </a:lnTo>
                  <a:lnTo>
                    <a:pt x="649" y="3785"/>
                  </a:lnTo>
                  <a:lnTo>
                    <a:pt x="774" y="3906"/>
                  </a:lnTo>
                  <a:lnTo>
                    <a:pt x="907" y="4022"/>
                  </a:lnTo>
                  <a:lnTo>
                    <a:pt x="1054" y="4132"/>
                  </a:lnTo>
                  <a:lnTo>
                    <a:pt x="1221" y="4231"/>
                  </a:lnTo>
                  <a:lnTo>
                    <a:pt x="1379" y="4312"/>
                  </a:lnTo>
                  <a:lnTo>
                    <a:pt x="1507" y="436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3760920" y="1133640"/>
              <a:ext cx="439560" cy="3071520"/>
            </a:xfrm>
            <a:custGeom>
              <a:avLst/>
              <a:gdLst/>
              <a:ahLst/>
              <a:rect l="l" t="t" r="r" b="b"/>
              <a:pathLst>
                <a:path w="838" h="4364">
                  <a:moveTo>
                    <a:pt x="838" y="0"/>
                  </a:moveTo>
                  <a:lnTo>
                    <a:pt x="766" y="51"/>
                  </a:lnTo>
                  <a:lnTo>
                    <a:pt x="678" y="132"/>
                  </a:lnTo>
                  <a:lnTo>
                    <a:pt x="586" y="231"/>
                  </a:lnTo>
                  <a:lnTo>
                    <a:pt x="504" y="341"/>
                  </a:lnTo>
                  <a:lnTo>
                    <a:pt x="430" y="458"/>
                  </a:lnTo>
                  <a:lnTo>
                    <a:pt x="361" y="579"/>
                  </a:lnTo>
                  <a:lnTo>
                    <a:pt x="295" y="704"/>
                  </a:lnTo>
                  <a:lnTo>
                    <a:pt x="237" y="833"/>
                  </a:lnTo>
                  <a:lnTo>
                    <a:pt x="185" y="966"/>
                  </a:lnTo>
                  <a:lnTo>
                    <a:pt x="141" y="1100"/>
                  </a:lnTo>
                  <a:lnTo>
                    <a:pt x="102" y="1234"/>
                  </a:lnTo>
                  <a:lnTo>
                    <a:pt x="72" y="1369"/>
                  </a:lnTo>
                  <a:lnTo>
                    <a:pt x="49" y="1505"/>
                  </a:lnTo>
                  <a:lnTo>
                    <a:pt x="31" y="1640"/>
                  </a:lnTo>
                  <a:lnTo>
                    <a:pt x="18" y="1775"/>
                  </a:lnTo>
                  <a:lnTo>
                    <a:pt x="8" y="1911"/>
                  </a:lnTo>
                  <a:lnTo>
                    <a:pt x="2" y="2046"/>
                  </a:lnTo>
                  <a:lnTo>
                    <a:pt x="0" y="2182"/>
                  </a:lnTo>
                  <a:lnTo>
                    <a:pt x="2" y="2317"/>
                  </a:lnTo>
                  <a:lnTo>
                    <a:pt x="8" y="2452"/>
                  </a:lnTo>
                  <a:lnTo>
                    <a:pt x="18" y="2588"/>
                  </a:lnTo>
                  <a:lnTo>
                    <a:pt x="31" y="2723"/>
                  </a:lnTo>
                  <a:lnTo>
                    <a:pt x="49" y="2859"/>
                  </a:lnTo>
                  <a:lnTo>
                    <a:pt x="72" y="2994"/>
                  </a:lnTo>
                  <a:lnTo>
                    <a:pt x="102" y="3129"/>
                  </a:lnTo>
                  <a:lnTo>
                    <a:pt x="141" y="3263"/>
                  </a:lnTo>
                  <a:lnTo>
                    <a:pt x="185" y="3397"/>
                  </a:lnTo>
                  <a:lnTo>
                    <a:pt x="237" y="3530"/>
                  </a:lnTo>
                  <a:lnTo>
                    <a:pt x="295" y="3659"/>
                  </a:lnTo>
                  <a:lnTo>
                    <a:pt x="361" y="3785"/>
                  </a:lnTo>
                  <a:lnTo>
                    <a:pt x="430" y="3906"/>
                  </a:lnTo>
                  <a:lnTo>
                    <a:pt x="504" y="4022"/>
                  </a:lnTo>
                  <a:lnTo>
                    <a:pt x="586" y="4132"/>
                  </a:lnTo>
                  <a:lnTo>
                    <a:pt x="678" y="4231"/>
                  </a:lnTo>
                  <a:lnTo>
                    <a:pt x="766" y="4312"/>
                  </a:lnTo>
                  <a:lnTo>
                    <a:pt x="838" y="436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511520" y="1133640"/>
              <a:ext cx="87480" cy="3071520"/>
            </a:xfrm>
            <a:custGeom>
              <a:avLst/>
              <a:gdLst/>
              <a:ahLst/>
              <a:rect l="l" t="t" r="r" b="b"/>
              <a:pathLst>
                <a:path w="167" h="4364">
                  <a:moveTo>
                    <a:pt x="167" y="0"/>
                  </a:moveTo>
                  <a:lnTo>
                    <a:pt x="153" y="51"/>
                  </a:lnTo>
                  <a:lnTo>
                    <a:pt x="135" y="132"/>
                  </a:lnTo>
                  <a:lnTo>
                    <a:pt x="117" y="231"/>
                  </a:lnTo>
                  <a:lnTo>
                    <a:pt x="101" y="341"/>
                  </a:lnTo>
                  <a:lnTo>
                    <a:pt x="85" y="458"/>
                  </a:lnTo>
                  <a:lnTo>
                    <a:pt x="72" y="579"/>
                  </a:lnTo>
                  <a:lnTo>
                    <a:pt x="59" y="704"/>
                  </a:lnTo>
                  <a:lnTo>
                    <a:pt x="46" y="833"/>
                  </a:lnTo>
                  <a:lnTo>
                    <a:pt x="36" y="966"/>
                  </a:lnTo>
                  <a:lnTo>
                    <a:pt x="27" y="1100"/>
                  </a:lnTo>
                  <a:lnTo>
                    <a:pt x="20" y="1234"/>
                  </a:lnTo>
                  <a:lnTo>
                    <a:pt x="14" y="1369"/>
                  </a:lnTo>
                  <a:lnTo>
                    <a:pt x="9" y="1505"/>
                  </a:lnTo>
                  <a:lnTo>
                    <a:pt x="6" y="1640"/>
                  </a:lnTo>
                  <a:lnTo>
                    <a:pt x="3" y="1775"/>
                  </a:lnTo>
                  <a:lnTo>
                    <a:pt x="1" y="1911"/>
                  </a:lnTo>
                  <a:lnTo>
                    <a:pt x="0" y="2046"/>
                  </a:lnTo>
                  <a:lnTo>
                    <a:pt x="0" y="2182"/>
                  </a:lnTo>
                  <a:lnTo>
                    <a:pt x="0" y="2317"/>
                  </a:lnTo>
                  <a:lnTo>
                    <a:pt x="1" y="2452"/>
                  </a:lnTo>
                  <a:lnTo>
                    <a:pt x="3" y="2588"/>
                  </a:lnTo>
                  <a:lnTo>
                    <a:pt x="6" y="2723"/>
                  </a:lnTo>
                  <a:lnTo>
                    <a:pt x="9" y="2859"/>
                  </a:lnTo>
                  <a:lnTo>
                    <a:pt x="14" y="2994"/>
                  </a:lnTo>
                  <a:lnTo>
                    <a:pt x="20" y="3129"/>
                  </a:lnTo>
                  <a:lnTo>
                    <a:pt x="27" y="3263"/>
                  </a:lnTo>
                  <a:lnTo>
                    <a:pt x="36" y="3397"/>
                  </a:lnTo>
                  <a:lnTo>
                    <a:pt x="46" y="3530"/>
                  </a:lnTo>
                  <a:lnTo>
                    <a:pt x="59" y="3659"/>
                  </a:lnTo>
                  <a:lnTo>
                    <a:pt x="72" y="3785"/>
                  </a:lnTo>
                  <a:lnTo>
                    <a:pt x="85" y="3906"/>
                  </a:lnTo>
                  <a:lnTo>
                    <a:pt x="101" y="4022"/>
                  </a:lnTo>
                  <a:lnTo>
                    <a:pt x="117" y="4132"/>
                  </a:lnTo>
                  <a:lnTo>
                    <a:pt x="135" y="4231"/>
                  </a:lnTo>
                  <a:lnTo>
                    <a:pt x="153" y="4312"/>
                  </a:lnTo>
                  <a:lnTo>
                    <a:pt x="167" y="436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998960" y="1133640"/>
              <a:ext cx="263520" cy="3071520"/>
            </a:xfrm>
            <a:custGeom>
              <a:avLst/>
              <a:gdLst/>
              <a:ahLst/>
              <a:rect l="l" t="t" r="r" b="b"/>
              <a:pathLst>
                <a:path w="503" h="4364">
                  <a:moveTo>
                    <a:pt x="0" y="0"/>
                  </a:moveTo>
                  <a:lnTo>
                    <a:pt x="44" y="51"/>
                  </a:lnTo>
                  <a:lnTo>
                    <a:pt x="95" y="132"/>
                  </a:lnTo>
                  <a:lnTo>
                    <a:pt x="152" y="231"/>
                  </a:lnTo>
                  <a:lnTo>
                    <a:pt x="201" y="341"/>
                  </a:lnTo>
                  <a:lnTo>
                    <a:pt x="245" y="458"/>
                  </a:lnTo>
                  <a:lnTo>
                    <a:pt x="287" y="579"/>
                  </a:lnTo>
                  <a:lnTo>
                    <a:pt x="326" y="704"/>
                  </a:lnTo>
                  <a:lnTo>
                    <a:pt x="360" y="833"/>
                  </a:lnTo>
                  <a:lnTo>
                    <a:pt x="392" y="966"/>
                  </a:lnTo>
                  <a:lnTo>
                    <a:pt x="419" y="1100"/>
                  </a:lnTo>
                  <a:lnTo>
                    <a:pt x="441" y="1234"/>
                  </a:lnTo>
                  <a:lnTo>
                    <a:pt x="460" y="1369"/>
                  </a:lnTo>
                  <a:lnTo>
                    <a:pt x="474" y="1505"/>
                  </a:lnTo>
                  <a:lnTo>
                    <a:pt x="484" y="1640"/>
                  </a:lnTo>
                  <a:lnTo>
                    <a:pt x="493" y="1775"/>
                  </a:lnTo>
                  <a:lnTo>
                    <a:pt x="499" y="1911"/>
                  </a:lnTo>
                  <a:lnTo>
                    <a:pt x="502" y="2046"/>
                  </a:lnTo>
                  <a:lnTo>
                    <a:pt x="503" y="2182"/>
                  </a:lnTo>
                  <a:lnTo>
                    <a:pt x="502" y="2317"/>
                  </a:lnTo>
                  <a:lnTo>
                    <a:pt x="499" y="2452"/>
                  </a:lnTo>
                  <a:lnTo>
                    <a:pt x="493" y="2588"/>
                  </a:lnTo>
                  <a:lnTo>
                    <a:pt x="484" y="2723"/>
                  </a:lnTo>
                  <a:lnTo>
                    <a:pt x="474" y="2859"/>
                  </a:lnTo>
                  <a:lnTo>
                    <a:pt x="460" y="2994"/>
                  </a:lnTo>
                  <a:lnTo>
                    <a:pt x="441" y="3129"/>
                  </a:lnTo>
                  <a:lnTo>
                    <a:pt x="419" y="3263"/>
                  </a:lnTo>
                  <a:lnTo>
                    <a:pt x="392" y="3397"/>
                  </a:lnTo>
                  <a:lnTo>
                    <a:pt x="360" y="3530"/>
                  </a:lnTo>
                  <a:lnTo>
                    <a:pt x="326" y="3659"/>
                  </a:lnTo>
                  <a:lnTo>
                    <a:pt x="287" y="3785"/>
                  </a:lnTo>
                  <a:lnTo>
                    <a:pt x="245" y="3906"/>
                  </a:lnTo>
                  <a:lnTo>
                    <a:pt x="201" y="4022"/>
                  </a:lnTo>
                  <a:lnTo>
                    <a:pt x="152" y="4132"/>
                  </a:lnTo>
                  <a:lnTo>
                    <a:pt x="95" y="4231"/>
                  </a:lnTo>
                  <a:lnTo>
                    <a:pt x="44" y="4312"/>
                  </a:lnTo>
                  <a:lnTo>
                    <a:pt x="0" y="436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199120" y="1133640"/>
              <a:ext cx="439560" cy="3071520"/>
            </a:xfrm>
            <a:custGeom>
              <a:avLst/>
              <a:gdLst/>
              <a:ahLst/>
              <a:rect l="l" t="t" r="r" b="b"/>
              <a:pathLst>
                <a:path w="838" h="4364">
                  <a:moveTo>
                    <a:pt x="0" y="0"/>
                  </a:moveTo>
                  <a:lnTo>
                    <a:pt x="71" y="51"/>
                  </a:lnTo>
                  <a:lnTo>
                    <a:pt x="160" y="132"/>
                  </a:lnTo>
                  <a:lnTo>
                    <a:pt x="252" y="231"/>
                  </a:lnTo>
                  <a:lnTo>
                    <a:pt x="334" y="341"/>
                  </a:lnTo>
                  <a:lnTo>
                    <a:pt x="408" y="458"/>
                  </a:lnTo>
                  <a:lnTo>
                    <a:pt x="477" y="579"/>
                  </a:lnTo>
                  <a:lnTo>
                    <a:pt x="543" y="704"/>
                  </a:lnTo>
                  <a:lnTo>
                    <a:pt x="601" y="833"/>
                  </a:lnTo>
                  <a:lnTo>
                    <a:pt x="652" y="966"/>
                  </a:lnTo>
                  <a:lnTo>
                    <a:pt x="697" y="1100"/>
                  </a:lnTo>
                  <a:lnTo>
                    <a:pt x="736" y="1234"/>
                  </a:lnTo>
                  <a:lnTo>
                    <a:pt x="766" y="1369"/>
                  </a:lnTo>
                  <a:lnTo>
                    <a:pt x="789" y="1505"/>
                  </a:lnTo>
                  <a:lnTo>
                    <a:pt x="807" y="1640"/>
                  </a:lnTo>
                  <a:lnTo>
                    <a:pt x="819" y="1775"/>
                  </a:lnTo>
                  <a:lnTo>
                    <a:pt x="830" y="1911"/>
                  </a:lnTo>
                  <a:lnTo>
                    <a:pt x="835" y="2046"/>
                  </a:lnTo>
                  <a:lnTo>
                    <a:pt x="838" y="2182"/>
                  </a:lnTo>
                  <a:lnTo>
                    <a:pt x="835" y="2317"/>
                  </a:lnTo>
                  <a:lnTo>
                    <a:pt x="830" y="2452"/>
                  </a:lnTo>
                  <a:lnTo>
                    <a:pt x="819" y="2588"/>
                  </a:lnTo>
                  <a:lnTo>
                    <a:pt x="807" y="2723"/>
                  </a:lnTo>
                  <a:lnTo>
                    <a:pt x="789" y="2859"/>
                  </a:lnTo>
                  <a:lnTo>
                    <a:pt x="766" y="2994"/>
                  </a:lnTo>
                  <a:lnTo>
                    <a:pt x="736" y="3129"/>
                  </a:lnTo>
                  <a:lnTo>
                    <a:pt x="697" y="3263"/>
                  </a:lnTo>
                  <a:lnTo>
                    <a:pt x="652" y="3397"/>
                  </a:lnTo>
                  <a:lnTo>
                    <a:pt x="601" y="3530"/>
                  </a:lnTo>
                  <a:lnTo>
                    <a:pt x="543" y="3659"/>
                  </a:lnTo>
                  <a:lnTo>
                    <a:pt x="477" y="3785"/>
                  </a:lnTo>
                  <a:lnTo>
                    <a:pt x="408" y="3906"/>
                  </a:lnTo>
                  <a:lnTo>
                    <a:pt x="334" y="4022"/>
                  </a:lnTo>
                  <a:lnTo>
                    <a:pt x="252" y="4132"/>
                  </a:lnTo>
                  <a:lnTo>
                    <a:pt x="160" y="4231"/>
                  </a:lnTo>
                  <a:lnTo>
                    <a:pt x="71" y="4312"/>
                  </a:lnTo>
                  <a:lnTo>
                    <a:pt x="0" y="436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2822400" y="1133640"/>
              <a:ext cx="878040" cy="3071520"/>
            </a:xfrm>
            <a:custGeom>
              <a:avLst/>
              <a:gdLst/>
              <a:ahLst/>
              <a:rect l="l" t="t" r="r" b="b"/>
              <a:pathLst>
                <a:path w="1676" h="4364">
                  <a:moveTo>
                    <a:pt x="1676" y="0"/>
                  </a:moveTo>
                  <a:lnTo>
                    <a:pt x="1532" y="51"/>
                  </a:lnTo>
                  <a:lnTo>
                    <a:pt x="1357" y="132"/>
                  </a:lnTo>
                  <a:lnTo>
                    <a:pt x="1171" y="231"/>
                  </a:lnTo>
                  <a:lnTo>
                    <a:pt x="1008" y="341"/>
                  </a:lnTo>
                  <a:lnTo>
                    <a:pt x="861" y="458"/>
                  </a:lnTo>
                  <a:lnTo>
                    <a:pt x="721" y="579"/>
                  </a:lnTo>
                  <a:lnTo>
                    <a:pt x="590" y="704"/>
                  </a:lnTo>
                  <a:lnTo>
                    <a:pt x="474" y="833"/>
                  </a:lnTo>
                  <a:lnTo>
                    <a:pt x="372" y="966"/>
                  </a:lnTo>
                  <a:lnTo>
                    <a:pt x="281" y="1100"/>
                  </a:lnTo>
                  <a:lnTo>
                    <a:pt x="204" y="1234"/>
                  </a:lnTo>
                  <a:lnTo>
                    <a:pt x="143" y="1369"/>
                  </a:lnTo>
                  <a:lnTo>
                    <a:pt x="96" y="1505"/>
                  </a:lnTo>
                  <a:lnTo>
                    <a:pt x="63" y="1640"/>
                  </a:lnTo>
                  <a:lnTo>
                    <a:pt x="36" y="1775"/>
                  </a:lnTo>
                  <a:lnTo>
                    <a:pt x="16" y="1911"/>
                  </a:lnTo>
                  <a:lnTo>
                    <a:pt x="4" y="2046"/>
                  </a:lnTo>
                  <a:lnTo>
                    <a:pt x="0" y="2182"/>
                  </a:lnTo>
                  <a:lnTo>
                    <a:pt x="4" y="2317"/>
                  </a:lnTo>
                  <a:lnTo>
                    <a:pt x="16" y="2452"/>
                  </a:lnTo>
                  <a:lnTo>
                    <a:pt x="36" y="2588"/>
                  </a:lnTo>
                  <a:lnTo>
                    <a:pt x="63" y="2723"/>
                  </a:lnTo>
                  <a:lnTo>
                    <a:pt x="96" y="2859"/>
                  </a:lnTo>
                  <a:lnTo>
                    <a:pt x="143" y="2994"/>
                  </a:lnTo>
                  <a:lnTo>
                    <a:pt x="204" y="3129"/>
                  </a:lnTo>
                  <a:lnTo>
                    <a:pt x="281" y="3263"/>
                  </a:lnTo>
                  <a:lnTo>
                    <a:pt x="372" y="3397"/>
                  </a:lnTo>
                  <a:lnTo>
                    <a:pt x="474" y="3530"/>
                  </a:lnTo>
                  <a:lnTo>
                    <a:pt x="590" y="3659"/>
                  </a:lnTo>
                  <a:lnTo>
                    <a:pt x="721" y="3785"/>
                  </a:lnTo>
                  <a:lnTo>
                    <a:pt x="861" y="3906"/>
                  </a:lnTo>
                  <a:lnTo>
                    <a:pt x="1008" y="4022"/>
                  </a:lnTo>
                  <a:lnTo>
                    <a:pt x="1171" y="4132"/>
                  </a:lnTo>
                  <a:lnTo>
                    <a:pt x="1357" y="4231"/>
                  </a:lnTo>
                  <a:lnTo>
                    <a:pt x="1532" y="4312"/>
                  </a:lnTo>
                  <a:lnTo>
                    <a:pt x="1676" y="436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3197160" y="1133640"/>
              <a:ext cx="703440" cy="3071520"/>
            </a:xfrm>
            <a:custGeom>
              <a:avLst/>
              <a:gdLst/>
              <a:ahLst/>
              <a:rect l="l" t="t" r="r" b="b"/>
              <a:pathLst>
                <a:path w="1341" h="4364">
                  <a:moveTo>
                    <a:pt x="1341" y="0"/>
                  </a:moveTo>
                  <a:lnTo>
                    <a:pt x="1226" y="51"/>
                  </a:lnTo>
                  <a:lnTo>
                    <a:pt x="1086" y="132"/>
                  </a:lnTo>
                  <a:lnTo>
                    <a:pt x="936" y="231"/>
                  </a:lnTo>
                  <a:lnTo>
                    <a:pt x="807" y="341"/>
                  </a:lnTo>
                  <a:lnTo>
                    <a:pt x="689" y="458"/>
                  </a:lnTo>
                  <a:lnTo>
                    <a:pt x="578" y="579"/>
                  </a:lnTo>
                  <a:lnTo>
                    <a:pt x="473" y="704"/>
                  </a:lnTo>
                  <a:lnTo>
                    <a:pt x="379" y="833"/>
                  </a:lnTo>
                  <a:lnTo>
                    <a:pt x="297" y="966"/>
                  </a:lnTo>
                  <a:lnTo>
                    <a:pt x="225" y="1100"/>
                  </a:lnTo>
                  <a:lnTo>
                    <a:pt x="164" y="1234"/>
                  </a:lnTo>
                  <a:lnTo>
                    <a:pt x="114" y="1369"/>
                  </a:lnTo>
                  <a:lnTo>
                    <a:pt x="77" y="1505"/>
                  </a:lnTo>
                  <a:lnTo>
                    <a:pt x="51" y="1640"/>
                  </a:lnTo>
                  <a:lnTo>
                    <a:pt x="28" y="1775"/>
                  </a:lnTo>
                  <a:lnTo>
                    <a:pt x="13" y="1911"/>
                  </a:lnTo>
                  <a:lnTo>
                    <a:pt x="3" y="2046"/>
                  </a:lnTo>
                  <a:lnTo>
                    <a:pt x="0" y="2182"/>
                  </a:lnTo>
                  <a:lnTo>
                    <a:pt x="3" y="2317"/>
                  </a:lnTo>
                  <a:lnTo>
                    <a:pt x="13" y="2452"/>
                  </a:lnTo>
                  <a:lnTo>
                    <a:pt x="28" y="2588"/>
                  </a:lnTo>
                  <a:lnTo>
                    <a:pt x="51" y="2723"/>
                  </a:lnTo>
                  <a:lnTo>
                    <a:pt x="77" y="2859"/>
                  </a:lnTo>
                  <a:lnTo>
                    <a:pt x="114" y="2994"/>
                  </a:lnTo>
                  <a:lnTo>
                    <a:pt x="164" y="3129"/>
                  </a:lnTo>
                  <a:lnTo>
                    <a:pt x="225" y="3263"/>
                  </a:lnTo>
                  <a:lnTo>
                    <a:pt x="297" y="3397"/>
                  </a:lnTo>
                  <a:lnTo>
                    <a:pt x="379" y="3530"/>
                  </a:lnTo>
                  <a:lnTo>
                    <a:pt x="473" y="3659"/>
                  </a:lnTo>
                  <a:lnTo>
                    <a:pt x="578" y="3785"/>
                  </a:lnTo>
                  <a:lnTo>
                    <a:pt x="689" y="3906"/>
                  </a:lnTo>
                  <a:lnTo>
                    <a:pt x="807" y="4022"/>
                  </a:lnTo>
                  <a:lnTo>
                    <a:pt x="936" y="4132"/>
                  </a:lnTo>
                  <a:lnTo>
                    <a:pt x="1086" y="4231"/>
                  </a:lnTo>
                  <a:lnTo>
                    <a:pt x="1226" y="4312"/>
                  </a:lnTo>
                  <a:lnTo>
                    <a:pt x="1341" y="436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3573360" y="1133640"/>
              <a:ext cx="525600" cy="3071520"/>
            </a:xfrm>
            <a:custGeom>
              <a:avLst/>
              <a:gdLst/>
              <a:ahLst/>
              <a:rect l="l" t="t" r="r" b="b"/>
              <a:pathLst>
                <a:path w="1007" h="4364">
                  <a:moveTo>
                    <a:pt x="1007" y="0"/>
                  </a:moveTo>
                  <a:lnTo>
                    <a:pt x="920" y="51"/>
                  </a:lnTo>
                  <a:lnTo>
                    <a:pt x="815" y="132"/>
                  </a:lnTo>
                  <a:lnTo>
                    <a:pt x="703" y="231"/>
                  </a:lnTo>
                  <a:lnTo>
                    <a:pt x="605" y="341"/>
                  </a:lnTo>
                  <a:lnTo>
                    <a:pt x="517" y="458"/>
                  </a:lnTo>
                  <a:lnTo>
                    <a:pt x="433" y="579"/>
                  </a:lnTo>
                  <a:lnTo>
                    <a:pt x="356" y="704"/>
                  </a:lnTo>
                  <a:lnTo>
                    <a:pt x="285" y="833"/>
                  </a:lnTo>
                  <a:lnTo>
                    <a:pt x="223" y="966"/>
                  </a:lnTo>
                  <a:lnTo>
                    <a:pt x="168" y="1100"/>
                  </a:lnTo>
                  <a:lnTo>
                    <a:pt x="124" y="1234"/>
                  </a:lnTo>
                  <a:lnTo>
                    <a:pt x="86" y="1369"/>
                  </a:lnTo>
                  <a:lnTo>
                    <a:pt x="59" y="1505"/>
                  </a:lnTo>
                  <a:lnTo>
                    <a:pt x="39" y="1640"/>
                  </a:lnTo>
                  <a:lnTo>
                    <a:pt x="22" y="1775"/>
                  </a:lnTo>
                  <a:lnTo>
                    <a:pt x="10" y="1911"/>
                  </a:lnTo>
                  <a:lnTo>
                    <a:pt x="3" y="2046"/>
                  </a:lnTo>
                  <a:lnTo>
                    <a:pt x="0" y="2182"/>
                  </a:lnTo>
                  <a:lnTo>
                    <a:pt x="3" y="2317"/>
                  </a:lnTo>
                  <a:lnTo>
                    <a:pt x="10" y="2452"/>
                  </a:lnTo>
                  <a:lnTo>
                    <a:pt x="22" y="2588"/>
                  </a:lnTo>
                  <a:lnTo>
                    <a:pt x="39" y="2723"/>
                  </a:lnTo>
                  <a:lnTo>
                    <a:pt x="59" y="2859"/>
                  </a:lnTo>
                  <a:lnTo>
                    <a:pt x="86" y="2994"/>
                  </a:lnTo>
                  <a:lnTo>
                    <a:pt x="124" y="3129"/>
                  </a:lnTo>
                  <a:lnTo>
                    <a:pt x="168" y="3263"/>
                  </a:lnTo>
                  <a:lnTo>
                    <a:pt x="223" y="3397"/>
                  </a:lnTo>
                  <a:lnTo>
                    <a:pt x="285" y="3530"/>
                  </a:lnTo>
                  <a:lnTo>
                    <a:pt x="356" y="3659"/>
                  </a:lnTo>
                  <a:lnTo>
                    <a:pt x="433" y="3785"/>
                  </a:lnTo>
                  <a:lnTo>
                    <a:pt x="517" y="3906"/>
                  </a:lnTo>
                  <a:lnTo>
                    <a:pt x="605" y="4022"/>
                  </a:lnTo>
                  <a:lnTo>
                    <a:pt x="703" y="4132"/>
                  </a:lnTo>
                  <a:lnTo>
                    <a:pt x="815" y="4231"/>
                  </a:lnTo>
                  <a:lnTo>
                    <a:pt x="920" y="4312"/>
                  </a:lnTo>
                  <a:lnTo>
                    <a:pt x="1007" y="436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3948120" y="1133640"/>
              <a:ext cx="351000" cy="3071520"/>
            </a:xfrm>
            <a:custGeom>
              <a:avLst/>
              <a:gdLst/>
              <a:ahLst/>
              <a:rect l="l" t="t" r="r" b="b"/>
              <a:pathLst>
                <a:path w="671" h="4364">
                  <a:moveTo>
                    <a:pt x="671" y="0"/>
                  </a:moveTo>
                  <a:lnTo>
                    <a:pt x="614" y="51"/>
                  </a:lnTo>
                  <a:lnTo>
                    <a:pt x="543" y="132"/>
                  </a:lnTo>
                  <a:lnTo>
                    <a:pt x="468" y="231"/>
                  </a:lnTo>
                  <a:lnTo>
                    <a:pt x="403" y="341"/>
                  </a:lnTo>
                  <a:lnTo>
                    <a:pt x="344" y="458"/>
                  </a:lnTo>
                  <a:lnTo>
                    <a:pt x="288" y="579"/>
                  </a:lnTo>
                  <a:lnTo>
                    <a:pt x="236" y="704"/>
                  </a:lnTo>
                  <a:lnTo>
                    <a:pt x="190" y="833"/>
                  </a:lnTo>
                  <a:lnTo>
                    <a:pt x="149" y="966"/>
                  </a:lnTo>
                  <a:lnTo>
                    <a:pt x="113" y="1100"/>
                  </a:lnTo>
                  <a:lnTo>
                    <a:pt x="82" y="1234"/>
                  </a:lnTo>
                  <a:lnTo>
                    <a:pt x="58" y="1369"/>
                  </a:lnTo>
                  <a:lnTo>
                    <a:pt x="39" y="1505"/>
                  </a:lnTo>
                  <a:lnTo>
                    <a:pt x="26" y="1640"/>
                  </a:lnTo>
                  <a:lnTo>
                    <a:pt x="15" y="1775"/>
                  </a:lnTo>
                  <a:lnTo>
                    <a:pt x="7" y="1911"/>
                  </a:lnTo>
                  <a:lnTo>
                    <a:pt x="2" y="2046"/>
                  </a:lnTo>
                  <a:lnTo>
                    <a:pt x="0" y="2182"/>
                  </a:lnTo>
                  <a:lnTo>
                    <a:pt x="2" y="2317"/>
                  </a:lnTo>
                  <a:lnTo>
                    <a:pt x="7" y="2452"/>
                  </a:lnTo>
                  <a:lnTo>
                    <a:pt x="15" y="2588"/>
                  </a:lnTo>
                  <a:lnTo>
                    <a:pt x="26" y="2723"/>
                  </a:lnTo>
                  <a:lnTo>
                    <a:pt x="39" y="2859"/>
                  </a:lnTo>
                  <a:lnTo>
                    <a:pt x="58" y="2994"/>
                  </a:lnTo>
                  <a:lnTo>
                    <a:pt x="82" y="3129"/>
                  </a:lnTo>
                  <a:lnTo>
                    <a:pt x="113" y="3263"/>
                  </a:lnTo>
                  <a:lnTo>
                    <a:pt x="149" y="3397"/>
                  </a:lnTo>
                  <a:lnTo>
                    <a:pt x="190" y="3530"/>
                  </a:lnTo>
                  <a:lnTo>
                    <a:pt x="236" y="3659"/>
                  </a:lnTo>
                  <a:lnTo>
                    <a:pt x="288" y="3785"/>
                  </a:lnTo>
                  <a:lnTo>
                    <a:pt x="344" y="3906"/>
                  </a:lnTo>
                  <a:lnTo>
                    <a:pt x="403" y="4022"/>
                  </a:lnTo>
                  <a:lnTo>
                    <a:pt x="468" y="4132"/>
                  </a:lnTo>
                  <a:lnTo>
                    <a:pt x="543" y="4231"/>
                  </a:lnTo>
                  <a:lnTo>
                    <a:pt x="614" y="4312"/>
                  </a:lnTo>
                  <a:lnTo>
                    <a:pt x="671" y="436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324320" y="1133640"/>
              <a:ext cx="176400" cy="3071520"/>
            </a:xfrm>
            <a:custGeom>
              <a:avLst/>
              <a:gdLst/>
              <a:ahLst/>
              <a:rect l="l" t="t" r="r" b="b"/>
              <a:pathLst>
                <a:path w="336" h="4364">
                  <a:moveTo>
                    <a:pt x="336" y="0"/>
                  </a:moveTo>
                  <a:lnTo>
                    <a:pt x="307" y="51"/>
                  </a:lnTo>
                  <a:lnTo>
                    <a:pt x="271" y="132"/>
                  </a:lnTo>
                  <a:lnTo>
                    <a:pt x="234" y="231"/>
                  </a:lnTo>
                  <a:lnTo>
                    <a:pt x="202" y="341"/>
                  </a:lnTo>
                  <a:lnTo>
                    <a:pt x="172" y="458"/>
                  </a:lnTo>
                  <a:lnTo>
                    <a:pt x="144" y="579"/>
                  </a:lnTo>
                  <a:lnTo>
                    <a:pt x="118" y="704"/>
                  </a:lnTo>
                  <a:lnTo>
                    <a:pt x="94" y="833"/>
                  </a:lnTo>
                  <a:lnTo>
                    <a:pt x="74" y="966"/>
                  </a:lnTo>
                  <a:lnTo>
                    <a:pt x="57" y="1100"/>
                  </a:lnTo>
                  <a:lnTo>
                    <a:pt x="41" y="1234"/>
                  </a:lnTo>
                  <a:lnTo>
                    <a:pt x="29" y="1369"/>
                  </a:lnTo>
                  <a:lnTo>
                    <a:pt x="19" y="1505"/>
                  </a:lnTo>
                  <a:lnTo>
                    <a:pt x="13" y="1640"/>
                  </a:lnTo>
                  <a:lnTo>
                    <a:pt x="8" y="1775"/>
                  </a:lnTo>
                  <a:lnTo>
                    <a:pt x="3" y="1911"/>
                  </a:lnTo>
                  <a:lnTo>
                    <a:pt x="0" y="2046"/>
                  </a:lnTo>
                  <a:lnTo>
                    <a:pt x="0" y="2182"/>
                  </a:lnTo>
                  <a:lnTo>
                    <a:pt x="0" y="2317"/>
                  </a:lnTo>
                  <a:lnTo>
                    <a:pt x="3" y="2452"/>
                  </a:lnTo>
                  <a:lnTo>
                    <a:pt x="8" y="2588"/>
                  </a:lnTo>
                  <a:lnTo>
                    <a:pt x="13" y="2723"/>
                  </a:lnTo>
                  <a:lnTo>
                    <a:pt x="19" y="2859"/>
                  </a:lnTo>
                  <a:lnTo>
                    <a:pt x="29" y="2994"/>
                  </a:lnTo>
                  <a:lnTo>
                    <a:pt x="41" y="3129"/>
                  </a:lnTo>
                  <a:lnTo>
                    <a:pt x="57" y="3263"/>
                  </a:lnTo>
                  <a:lnTo>
                    <a:pt x="74" y="3397"/>
                  </a:lnTo>
                  <a:lnTo>
                    <a:pt x="94" y="3530"/>
                  </a:lnTo>
                  <a:lnTo>
                    <a:pt x="118" y="3659"/>
                  </a:lnTo>
                  <a:lnTo>
                    <a:pt x="144" y="3785"/>
                  </a:lnTo>
                  <a:lnTo>
                    <a:pt x="172" y="3906"/>
                  </a:lnTo>
                  <a:lnTo>
                    <a:pt x="202" y="4022"/>
                  </a:lnTo>
                  <a:lnTo>
                    <a:pt x="234" y="4132"/>
                  </a:lnTo>
                  <a:lnTo>
                    <a:pt x="271" y="4231"/>
                  </a:lnTo>
                  <a:lnTo>
                    <a:pt x="307" y="4312"/>
                  </a:lnTo>
                  <a:lnTo>
                    <a:pt x="336" y="436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699080" y="1133640"/>
              <a:ext cx="1440" cy="3071520"/>
            </a:xfrm>
            <a:custGeom>
              <a:avLst/>
              <a:gdLst/>
              <a:ahLst/>
              <a:rect l="l" t="t" r="r" b="b"/>
              <a:pathLst>
                <a:path w="0" h="4364">
                  <a:moveTo>
                    <a:pt x="0" y="0"/>
                  </a:moveTo>
                  <a:lnTo>
                    <a:pt x="0" y="51"/>
                  </a:lnTo>
                  <a:lnTo>
                    <a:pt x="0" y="132"/>
                  </a:lnTo>
                  <a:lnTo>
                    <a:pt x="0" y="231"/>
                  </a:lnTo>
                  <a:lnTo>
                    <a:pt x="0" y="341"/>
                  </a:lnTo>
                  <a:lnTo>
                    <a:pt x="0" y="458"/>
                  </a:lnTo>
                  <a:lnTo>
                    <a:pt x="0" y="579"/>
                  </a:lnTo>
                  <a:lnTo>
                    <a:pt x="0" y="704"/>
                  </a:lnTo>
                  <a:lnTo>
                    <a:pt x="0" y="833"/>
                  </a:lnTo>
                  <a:lnTo>
                    <a:pt x="0" y="966"/>
                  </a:lnTo>
                  <a:lnTo>
                    <a:pt x="0" y="1100"/>
                  </a:lnTo>
                  <a:lnTo>
                    <a:pt x="0" y="1234"/>
                  </a:lnTo>
                  <a:lnTo>
                    <a:pt x="0" y="1369"/>
                  </a:lnTo>
                  <a:lnTo>
                    <a:pt x="0" y="1505"/>
                  </a:lnTo>
                  <a:lnTo>
                    <a:pt x="0" y="1640"/>
                  </a:lnTo>
                  <a:lnTo>
                    <a:pt x="0" y="1775"/>
                  </a:lnTo>
                  <a:lnTo>
                    <a:pt x="0" y="1911"/>
                  </a:lnTo>
                  <a:lnTo>
                    <a:pt x="0" y="2046"/>
                  </a:lnTo>
                  <a:lnTo>
                    <a:pt x="0" y="2182"/>
                  </a:lnTo>
                  <a:lnTo>
                    <a:pt x="0" y="2317"/>
                  </a:lnTo>
                  <a:lnTo>
                    <a:pt x="0" y="2452"/>
                  </a:lnTo>
                  <a:lnTo>
                    <a:pt x="0" y="2588"/>
                  </a:lnTo>
                  <a:lnTo>
                    <a:pt x="0" y="2723"/>
                  </a:lnTo>
                  <a:lnTo>
                    <a:pt x="0" y="2859"/>
                  </a:lnTo>
                  <a:lnTo>
                    <a:pt x="0" y="2994"/>
                  </a:lnTo>
                  <a:lnTo>
                    <a:pt x="0" y="3129"/>
                  </a:lnTo>
                  <a:lnTo>
                    <a:pt x="0" y="3263"/>
                  </a:lnTo>
                  <a:lnTo>
                    <a:pt x="0" y="3397"/>
                  </a:lnTo>
                  <a:lnTo>
                    <a:pt x="0" y="3530"/>
                  </a:lnTo>
                  <a:lnTo>
                    <a:pt x="0" y="3659"/>
                  </a:lnTo>
                  <a:lnTo>
                    <a:pt x="0" y="3785"/>
                  </a:lnTo>
                  <a:lnTo>
                    <a:pt x="0" y="3906"/>
                  </a:lnTo>
                  <a:lnTo>
                    <a:pt x="0" y="4022"/>
                  </a:lnTo>
                  <a:lnTo>
                    <a:pt x="0" y="4132"/>
                  </a:lnTo>
                  <a:lnTo>
                    <a:pt x="0" y="4231"/>
                  </a:lnTo>
                  <a:lnTo>
                    <a:pt x="0" y="4312"/>
                  </a:lnTo>
                  <a:lnTo>
                    <a:pt x="0" y="436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7962840" y="3129120"/>
              <a:ext cx="150840" cy="201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519440" y="1841400"/>
              <a:ext cx="150840" cy="2034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745160" y="3160800"/>
              <a:ext cx="150840" cy="2030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292640" y="2451240"/>
              <a:ext cx="150840" cy="2030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869000" y="1798560"/>
              <a:ext cx="525240" cy="307080"/>
            </a:xfrm>
            <a:prstGeom prst="rect">
              <a:avLst/>
            </a:pr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NT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3941640" y="1639800"/>
              <a:ext cx="501840" cy="307080"/>
            </a:xfrm>
            <a:prstGeom prst="rect">
              <a:avLst/>
            </a:pr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K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704760" y="2755800"/>
              <a:ext cx="756720" cy="307080"/>
            </a:xfrm>
            <a:prstGeom prst="rect">
              <a:avLst/>
            </a:pr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ja-JP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ingT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984480" y="3262320"/>
              <a:ext cx="698760" cy="307080"/>
            </a:xfrm>
            <a:prstGeom prst="rect">
              <a:avLst/>
            </a:pr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Telstr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8226720" y="3537000"/>
              <a:ext cx="916920" cy="307080"/>
            </a:xfrm>
            <a:prstGeom prst="rect">
              <a:avLst/>
            </a:pr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BellSou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8366040" y="2451240"/>
              <a:ext cx="150840" cy="2030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7516800" y="1989000"/>
              <a:ext cx="1101240" cy="307080"/>
            </a:xfrm>
            <a:prstGeom prst="rect">
              <a:avLst/>
            </a:pr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Bell Cana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7786440" y="3919680"/>
              <a:ext cx="517680" cy="307080"/>
            </a:xfrm>
            <a:prstGeom prst="rect">
              <a:avLst/>
            </a:pr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B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8271000" y="2967120"/>
              <a:ext cx="150840" cy="2030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8272440" y="1536840"/>
              <a:ext cx="773280" cy="307080"/>
            </a:xfrm>
            <a:prstGeom prst="rect">
              <a:avLst/>
            </a:pr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ja-JP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Veriz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670280" y="1943280"/>
              <a:ext cx="150840" cy="2030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729400" y="1663560"/>
              <a:ext cx="833400" cy="513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 flipH="1">
              <a:off x="6616080" y="1835280"/>
              <a:ext cx="595080" cy="426960"/>
            </a:xfrm>
            <a:prstGeom prst="leftArrow">
              <a:avLst>
                <a:gd name="adj1" fmla="val 50000"/>
                <a:gd name="adj2" fmla="val 34844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009960" y="1623960"/>
              <a:ext cx="538200" cy="459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7024680" y="3449520"/>
              <a:ext cx="817560" cy="307080"/>
            </a:xfrm>
            <a:prstGeom prst="rect">
              <a:avLst/>
            </a:pr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Qw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V="1">
              <a:off x="7367760" y="2889000"/>
              <a:ext cx="48384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823160" y="2773440"/>
              <a:ext cx="150840" cy="2030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479840" y="2112840"/>
              <a:ext cx="150840" cy="2034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494240" y="2330280"/>
              <a:ext cx="1101600" cy="307080"/>
            </a:xfrm>
            <a:prstGeom prst="rect">
              <a:avLst/>
            </a:pr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ja-JP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Chunghw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471840" y="1943280"/>
              <a:ext cx="152280" cy="2030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304800" y="2192400"/>
              <a:ext cx="618120" cy="307080"/>
            </a:xfrm>
            <a:prstGeom prst="rect">
              <a:avLst/>
            </a:pr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ja-JP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Beze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2897280" y="2119320"/>
              <a:ext cx="9360" cy="111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9" y="0"/>
                  </a:moveTo>
                  <a:lnTo>
                    <a:pt x="13" y="11"/>
                  </a:lnTo>
                  <a:lnTo>
                    <a:pt x="0" y="15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2865600" y="2125800"/>
              <a:ext cx="9360" cy="792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16" y="0"/>
                  </a:moveTo>
                  <a:lnTo>
                    <a:pt x="0" y="12"/>
                  </a:lnTo>
                  <a:lnTo>
                    <a:pt x="3" y="3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878200" y="2136600"/>
              <a:ext cx="4680" cy="324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10" y="0"/>
                  </a:moveTo>
                  <a:lnTo>
                    <a:pt x="5" y="6"/>
                  </a:lnTo>
                  <a:lnTo>
                    <a:pt x="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908440" y="2111400"/>
              <a:ext cx="4680" cy="32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5" y="5"/>
                  </a:moveTo>
                  <a:lnTo>
                    <a:pt x="8" y="0"/>
                  </a:lnTo>
                  <a:lnTo>
                    <a:pt x="0" y="3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3051000" y="1979640"/>
              <a:ext cx="1800" cy="1440"/>
            </a:xfrm>
            <a:custGeom>
              <a:avLst/>
              <a:gdLst/>
              <a:ahLst/>
              <a:rect l="l" t="t" r="r" b="b"/>
              <a:pathLst>
                <a:path w="0" h="1">
                  <a:moveTo>
                    <a:pt x="0" y="0"/>
                  </a:move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2825640" y="1947960"/>
              <a:ext cx="7920" cy="3240"/>
            </a:xfrm>
            <a:custGeom>
              <a:avLst/>
              <a:gdLst/>
              <a:ahLst/>
              <a:rect l="l" t="t" r="r" b="b"/>
              <a:pathLst>
                <a:path w="15" h="4">
                  <a:moveTo>
                    <a:pt x="2" y="4"/>
                  </a:moveTo>
                  <a:lnTo>
                    <a:pt x="0" y="0"/>
                  </a:lnTo>
                  <a:lnTo>
                    <a:pt x="15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2800440" y="1936800"/>
              <a:ext cx="4680" cy="144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4" y="0"/>
                  </a:moveTo>
                  <a:lnTo>
                    <a:pt x="0" y="3"/>
                  </a:lnTo>
                  <a:lnTo>
                    <a:pt x="10" y="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2816280" y="1928880"/>
              <a:ext cx="32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3"/>
                  </a:moveTo>
                  <a:lnTo>
                    <a:pt x="0" y="4"/>
                  </a:lnTo>
                  <a:lnTo>
                    <a:pt x="3" y="0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2816280" y="2406600"/>
              <a:ext cx="34920" cy="14400"/>
            </a:xfrm>
            <a:custGeom>
              <a:avLst/>
              <a:gdLst/>
              <a:ahLst/>
              <a:rect l="l" t="t" r="r" b="b"/>
              <a:pathLst>
                <a:path w="69" h="20">
                  <a:moveTo>
                    <a:pt x="4" y="8"/>
                  </a:moveTo>
                  <a:lnTo>
                    <a:pt x="0" y="20"/>
                  </a:lnTo>
                  <a:lnTo>
                    <a:pt x="19" y="13"/>
                  </a:lnTo>
                  <a:lnTo>
                    <a:pt x="37" y="7"/>
                  </a:lnTo>
                  <a:lnTo>
                    <a:pt x="69" y="13"/>
                  </a:lnTo>
                  <a:lnTo>
                    <a:pt x="63" y="7"/>
                  </a:lnTo>
                  <a:lnTo>
                    <a:pt x="35" y="0"/>
                  </a:lnTo>
                  <a:lnTo>
                    <a:pt x="32" y="5"/>
                  </a:lnTo>
                  <a:lnTo>
                    <a:pt x="6" y="5"/>
                  </a:lnTo>
                  <a:lnTo>
                    <a:pt x="6" y="8"/>
                  </a:lnTo>
                  <a:lnTo>
                    <a:pt x="27" y="8"/>
                  </a:lnTo>
                  <a:lnTo>
                    <a:pt x="14" y="14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2973240" y="2457360"/>
              <a:ext cx="54000" cy="120600"/>
            </a:xfrm>
            <a:custGeom>
              <a:avLst/>
              <a:gdLst/>
              <a:ahLst/>
              <a:rect l="l" t="t" r="r" b="b"/>
              <a:pathLst>
                <a:path w="104" h="171">
                  <a:moveTo>
                    <a:pt x="91" y="145"/>
                  </a:moveTo>
                  <a:lnTo>
                    <a:pt x="74" y="151"/>
                  </a:lnTo>
                  <a:lnTo>
                    <a:pt x="57" y="158"/>
                  </a:lnTo>
                  <a:lnTo>
                    <a:pt x="39" y="164"/>
                  </a:lnTo>
                  <a:lnTo>
                    <a:pt x="22" y="171"/>
                  </a:lnTo>
                  <a:lnTo>
                    <a:pt x="0" y="164"/>
                  </a:lnTo>
                  <a:lnTo>
                    <a:pt x="8" y="158"/>
                  </a:lnTo>
                  <a:lnTo>
                    <a:pt x="5" y="136"/>
                  </a:lnTo>
                  <a:lnTo>
                    <a:pt x="0" y="116"/>
                  </a:lnTo>
                  <a:lnTo>
                    <a:pt x="11" y="98"/>
                  </a:lnTo>
                  <a:lnTo>
                    <a:pt x="21" y="79"/>
                  </a:lnTo>
                  <a:lnTo>
                    <a:pt x="19" y="44"/>
                  </a:lnTo>
                  <a:lnTo>
                    <a:pt x="19" y="24"/>
                  </a:lnTo>
                  <a:lnTo>
                    <a:pt x="21" y="2"/>
                  </a:lnTo>
                  <a:lnTo>
                    <a:pt x="49" y="2"/>
                  </a:lnTo>
                  <a:lnTo>
                    <a:pt x="77" y="1"/>
                  </a:lnTo>
                  <a:lnTo>
                    <a:pt x="84" y="0"/>
                  </a:lnTo>
                  <a:lnTo>
                    <a:pt x="87" y="8"/>
                  </a:lnTo>
                  <a:lnTo>
                    <a:pt x="93" y="31"/>
                  </a:lnTo>
                  <a:lnTo>
                    <a:pt x="91" y="44"/>
                  </a:lnTo>
                  <a:lnTo>
                    <a:pt x="93" y="63"/>
                  </a:lnTo>
                  <a:lnTo>
                    <a:pt x="94" y="80"/>
                  </a:lnTo>
                  <a:lnTo>
                    <a:pt x="94" y="102"/>
                  </a:lnTo>
                  <a:lnTo>
                    <a:pt x="93" y="122"/>
                  </a:lnTo>
                  <a:lnTo>
                    <a:pt x="104" y="135"/>
                  </a:lnTo>
                  <a:lnTo>
                    <a:pt x="91" y="145"/>
                  </a:lnTo>
                  <a:lnTo>
                    <a:pt x="84" y="138"/>
                  </a:lnTo>
                  <a:lnTo>
                    <a:pt x="91" y="145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2814480" y="2428920"/>
              <a:ext cx="36720" cy="30240"/>
            </a:xfrm>
            <a:custGeom>
              <a:avLst/>
              <a:gdLst/>
              <a:ahLst/>
              <a:rect l="l" t="t" r="r" b="b"/>
              <a:pathLst>
                <a:path w="74" h="46">
                  <a:moveTo>
                    <a:pt x="35" y="27"/>
                  </a:moveTo>
                  <a:lnTo>
                    <a:pt x="29" y="34"/>
                  </a:lnTo>
                  <a:lnTo>
                    <a:pt x="33" y="42"/>
                  </a:lnTo>
                  <a:lnTo>
                    <a:pt x="36" y="46"/>
                  </a:lnTo>
                  <a:lnTo>
                    <a:pt x="42" y="36"/>
                  </a:lnTo>
                  <a:lnTo>
                    <a:pt x="65" y="27"/>
                  </a:lnTo>
                  <a:lnTo>
                    <a:pt x="68" y="11"/>
                  </a:lnTo>
                  <a:lnTo>
                    <a:pt x="74" y="0"/>
                  </a:lnTo>
                  <a:lnTo>
                    <a:pt x="53" y="1"/>
                  </a:lnTo>
                  <a:lnTo>
                    <a:pt x="33" y="3"/>
                  </a:lnTo>
                  <a:lnTo>
                    <a:pt x="0" y="10"/>
                  </a:lnTo>
                  <a:lnTo>
                    <a:pt x="12" y="10"/>
                  </a:lnTo>
                  <a:lnTo>
                    <a:pt x="7" y="16"/>
                  </a:lnTo>
                  <a:lnTo>
                    <a:pt x="19" y="19"/>
                  </a:lnTo>
                  <a:lnTo>
                    <a:pt x="17" y="21"/>
                  </a:lnTo>
                  <a:lnTo>
                    <a:pt x="35" y="20"/>
                  </a:lnTo>
                  <a:lnTo>
                    <a:pt x="39" y="24"/>
                  </a:lnTo>
                  <a:lnTo>
                    <a:pt x="26" y="26"/>
                  </a:lnTo>
                  <a:lnTo>
                    <a:pt x="35" y="27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908440" y="2465280"/>
              <a:ext cx="75960" cy="120600"/>
            </a:xfrm>
            <a:custGeom>
              <a:avLst/>
              <a:gdLst/>
              <a:ahLst/>
              <a:rect l="l" t="t" r="r" b="b"/>
              <a:pathLst>
                <a:path w="146" h="171">
                  <a:moveTo>
                    <a:pt x="88" y="12"/>
                  </a:moveTo>
                  <a:lnTo>
                    <a:pt x="79" y="7"/>
                  </a:lnTo>
                  <a:lnTo>
                    <a:pt x="64" y="10"/>
                  </a:lnTo>
                  <a:lnTo>
                    <a:pt x="61" y="0"/>
                  </a:lnTo>
                  <a:lnTo>
                    <a:pt x="52" y="6"/>
                  </a:lnTo>
                  <a:lnTo>
                    <a:pt x="40" y="13"/>
                  </a:lnTo>
                  <a:lnTo>
                    <a:pt x="26" y="10"/>
                  </a:lnTo>
                  <a:lnTo>
                    <a:pt x="20" y="14"/>
                  </a:lnTo>
                  <a:lnTo>
                    <a:pt x="16" y="35"/>
                  </a:lnTo>
                  <a:lnTo>
                    <a:pt x="19" y="40"/>
                  </a:lnTo>
                  <a:lnTo>
                    <a:pt x="20" y="45"/>
                  </a:lnTo>
                  <a:lnTo>
                    <a:pt x="22" y="55"/>
                  </a:lnTo>
                  <a:lnTo>
                    <a:pt x="20" y="61"/>
                  </a:lnTo>
                  <a:lnTo>
                    <a:pt x="10" y="63"/>
                  </a:lnTo>
                  <a:lnTo>
                    <a:pt x="13" y="74"/>
                  </a:lnTo>
                  <a:lnTo>
                    <a:pt x="4" y="84"/>
                  </a:lnTo>
                  <a:lnTo>
                    <a:pt x="2" y="85"/>
                  </a:lnTo>
                  <a:lnTo>
                    <a:pt x="2" y="110"/>
                  </a:lnTo>
                  <a:lnTo>
                    <a:pt x="0" y="114"/>
                  </a:lnTo>
                  <a:lnTo>
                    <a:pt x="15" y="128"/>
                  </a:lnTo>
                  <a:lnTo>
                    <a:pt x="25" y="138"/>
                  </a:lnTo>
                  <a:lnTo>
                    <a:pt x="19" y="171"/>
                  </a:lnTo>
                  <a:lnTo>
                    <a:pt x="49" y="161"/>
                  </a:lnTo>
                  <a:lnTo>
                    <a:pt x="79" y="151"/>
                  </a:lnTo>
                  <a:lnTo>
                    <a:pt x="74" y="150"/>
                  </a:lnTo>
                  <a:lnTo>
                    <a:pt x="104" y="148"/>
                  </a:lnTo>
                  <a:lnTo>
                    <a:pt x="88" y="148"/>
                  </a:lnTo>
                  <a:lnTo>
                    <a:pt x="107" y="147"/>
                  </a:lnTo>
                  <a:lnTo>
                    <a:pt x="121" y="148"/>
                  </a:lnTo>
                  <a:lnTo>
                    <a:pt x="125" y="153"/>
                  </a:lnTo>
                  <a:lnTo>
                    <a:pt x="133" y="147"/>
                  </a:lnTo>
                  <a:lnTo>
                    <a:pt x="130" y="125"/>
                  </a:lnTo>
                  <a:lnTo>
                    <a:pt x="125" y="105"/>
                  </a:lnTo>
                  <a:lnTo>
                    <a:pt x="136" y="87"/>
                  </a:lnTo>
                  <a:lnTo>
                    <a:pt x="146" y="68"/>
                  </a:lnTo>
                  <a:lnTo>
                    <a:pt x="144" y="33"/>
                  </a:lnTo>
                  <a:lnTo>
                    <a:pt x="124" y="20"/>
                  </a:lnTo>
                  <a:lnTo>
                    <a:pt x="101" y="27"/>
                  </a:lnTo>
                  <a:lnTo>
                    <a:pt x="88" y="12"/>
                  </a:lnTo>
                  <a:close/>
                </a:path>
              </a:pathLst>
            </a:custGeom>
            <a:solidFill>
              <a:srgbClr val="00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870280" y="2508120"/>
              <a:ext cx="50760" cy="77760"/>
            </a:xfrm>
            <a:custGeom>
              <a:avLst/>
              <a:gdLst/>
              <a:ahLst/>
              <a:rect l="l" t="t" r="r" b="b"/>
              <a:pathLst>
                <a:path w="95" h="110">
                  <a:moveTo>
                    <a:pt x="89" y="110"/>
                  </a:moveTo>
                  <a:lnTo>
                    <a:pt x="64" y="96"/>
                  </a:lnTo>
                  <a:lnTo>
                    <a:pt x="40" y="80"/>
                  </a:lnTo>
                  <a:lnTo>
                    <a:pt x="20" y="60"/>
                  </a:lnTo>
                  <a:lnTo>
                    <a:pt x="0" y="41"/>
                  </a:lnTo>
                  <a:lnTo>
                    <a:pt x="7" y="33"/>
                  </a:lnTo>
                  <a:lnTo>
                    <a:pt x="20" y="15"/>
                  </a:lnTo>
                  <a:lnTo>
                    <a:pt x="31" y="0"/>
                  </a:lnTo>
                  <a:lnTo>
                    <a:pt x="44" y="0"/>
                  </a:lnTo>
                  <a:lnTo>
                    <a:pt x="50" y="26"/>
                  </a:lnTo>
                  <a:lnTo>
                    <a:pt x="54" y="31"/>
                  </a:lnTo>
                  <a:lnTo>
                    <a:pt x="66" y="26"/>
                  </a:lnTo>
                  <a:lnTo>
                    <a:pt x="72" y="24"/>
                  </a:lnTo>
                  <a:lnTo>
                    <a:pt x="72" y="49"/>
                  </a:lnTo>
                  <a:lnTo>
                    <a:pt x="70" y="53"/>
                  </a:lnTo>
                  <a:lnTo>
                    <a:pt x="85" y="67"/>
                  </a:lnTo>
                  <a:lnTo>
                    <a:pt x="95" y="77"/>
                  </a:lnTo>
                  <a:lnTo>
                    <a:pt x="89" y="110"/>
                  </a:lnTo>
                  <a:close/>
                </a:path>
              </a:pathLst>
            </a:custGeom>
            <a:solidFill>
              <a:srgbClr val="00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2851200" y="2478240"/>
              <a:ext cx="36360" cy="58680"/>
            </a:xfrm>
            <a:custGeom>
              <a:avLst/>
              <a:gdLst/>
              <a:ahLst/>
              <a:rect l="l" t="t" r="r" b="b"/>
              <a:pathLst>
                <a:path w="70" h="83">
                  <a:moveTo>
                    <a:pt x="70" y="42"/>
                  </a:moveTo>
                  <a:lnTo>
                    <a:pt x="59" y="57"/>
                  </a:lnTo>
                  <a:lnTo>
                    <a:pt x="46" y="75"/>
                  </a:lnTo>
                  <a:lnTo>
                    <a:pt x="39" y="83"/>
                  </a:lnTo>
                  <a:lnTo>
                    <a:pt x="14" y="70"/>
                  </a:lnTo>
                  <a:lnTo>
                    <a:pt x="18" y="66"/>
                  </a:lnTo>
                  <a:lnTo>
                    <a:pt x="14" y="62"/>
                  </a:lnTo>
                  <a:lnTo>
                    <a:pt x="0" y="44"/>
                  </a:lnTo>
                  <a:lnTo>
                    <a:pt x="8" y="39"/>
                  </a:lnTo>
                  <a:lnTo>
                    <a:pt x="0" y="36"/>
                  </a:lnTo>
                  <a:lnTo>
                    <a:pt x="7" y="32"/>
                  </a:lnTo>
                  <a:lnTo>
                    <a:pt x="0" y="26"/>
                  </a:lnTo>
                  <a:lnTo>
                    <a:pt x="18" y="8"/>
                  </a:lnTo>
                  <a:lnTo>
                    <a:pt x="52" y="0"/>
                  </a:lnTo>
                  <a:lnTo>
                    <a:pt x="64" y="26"/>
                  </a:lnTo>
                  <a:lnTo>
                    <a:pt x="62" y="43"/>
                  </a:lnTo>
                  <a:lnTo>
                    <a:pt x="70" y="42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3029040" y="2433600"/>
              <a:ext cx="36360" cy="115920"/>
            </a:xfrm>
            <a:custGeom>
              <a:avLst/>
              <a:gdLst/>
              <a:ahLst/>
              <a:rect l="l" t="t" r="r" b="b"/>
              <a:pathLst>
                <a:path w="70" h="166">
                  <a:moveTo>
                    <a:pt x="4" y="36"/>
                  </a:moveTo>
                  <a:lnTo>
                    <a:pt x="2" y="36"/>
                  </a:lnTo>
                  <a:lnTo>
                    <a:pt x="0" y="48"/>
                  </a:lnTo>
                  <a:lnTo>
                    <a:pt x="10" y="64"/>
                  </a:lnTo>
                  <a:lnTo>
                    <a:pt x="13" y="85"/>
                  </a:lnTo>
                  <a:lnTo>
                    <a:pt x="11" y="106"/>
                  </a:lnTo>
                  <a:lnTo>
                    <a:pt x="11" y="126"/>
                  </a:lnTo>
                  <a:lnTo>
                    <a:pt x="10" y="146"/>
                  </a:lnTo>
                  <a:lnTo>
                    <a:pt x="10" y="166"/>
                  </a:lnTo>
                  <a:lnTo>
                    <a:pt x="36" y="162"/>
                  </a:lnTo>
                  <a:lnTo>
                    <a:pt x="40" y="126"/>
                  </a:lnTo>
                  <a:lnTo>
                    <a:pt x="46" y="88"/>
                  </a:lnTo>
                  <a:lnTo>
                    <a:pt x="66" y="58"/>
                  </a:lnTo>
                  <a:lnTo>
                    <a:pt x="70" y="34"/>
                  </a:lnTo>
                  <a:lnTo>
                    <a:pt x="69" y="19"/>
                  </a:lnTo>
                  <a:lnTo>
                    <a:pt x="50" y="0"/>
                  </a:lnTo>
                  <a:lnTo>
                    <a:pt x="43" y="9"/>
                  </a:lnTo>
                  <a:lnTo>
                    <a:pt x="41" y="13"/>
                  </a:lnTo>
                  <a:lnTo>
                    <a:pt x="40" y="16"/>
                  </a:lnTo>
                  <a:lnTo>
                    <a:pt x="21" y="26"/>
                  </a:lnTo>
                  <a:lnTo>
                    <a:pt x="4" y="36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2730600" y="2352600"/>
              <a:ext cx="3240" cy="180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5" y="3"/>
                  </a:moveTo>
                  <a:lnTo>
                    <a:pt x="1" y="1"/>
                  </a:lnTo>
                  <a:lnTo>
                    <a:pt x="0" y="0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2825640" y="2149560"/>
              <a:ext cx="171720" cy="241200"/>
            </a:xfrm>
            <a:custGeom>
              <a:avLst/>
              <a:gdLst/>
              <a:ahLst/>
              <a:rect l="l" t="t" r="r" b="b"/>
              <a:pathLst>
                <a:path w="328" h="341">
                  <a:moveTo>
                    <a:pt x="7" y="294"/>
                  </a:moveTo>
                  <a:lnTo>
                    <a:pt x="0" y="304"/>
                  </a:lnTo>
                  <a:lnTo>
                    <a:pt x="11" y="272"/>
                  </a:lnTo>
                  <a:lnTo>
                    <a:pt x="24" y="240"/>
                  </a:lnTo>
                  <a:lnTo>
                    <a:pt x="21" y="214"/>
                  </a:lnTo>
                  <a:lnTo>
                    <a:pt x="29" y="186"/>
                  </a:lnTo>
                  <a:lnTo>
                    <a:pt x="17" y="170"/>
                  </a:lnTo>
                  <a:lnTo>
                    <a:pt x="14" y="177"/>
                  </a:lnTo>
                  <a:lnTo>
                    <a:pt x="20" y="161"/>
                  </a:lnTo>
                  <a:lnTo>
                    <a:pt x="44" y="161"/>
                  </a:lnTo>
                  <a:lnTo>
                    <a:pt x="67" y="161"/>
                  </a:lnTo>
                  <a:lnTo>
                    <a:pt x="90" y="161"/>
                  </a:lnTo>
                  <a:lnTo>
                    <a:pt x="113" y="161"/>
                  </a:lnTo>
                  <a:lnTo>
                    <a:pt x="119" y="138"/>
                  </a:lnTo>
                  <a:lnTo>
                    <a:pt x="124" y="116"/>
                  </a:lnTo>
                  <a:lnTo>
                    <a:pt x="150" y="103"/>
                  </a:lnTo>
                  <a:lnTo>
                    <a:pt x="158" y="70"/>
                  </a:lnTo>
                  <a:lnTo>
                    <a:pt x="170" y="36"/>
                  </a:lnTo>
                  <a:lnTo>
                    <a:pt x="188" y="36"/>
                  </a:lnTo>
                  <a:lnTo>
                    <a:pt x="209" y="36"/>
                  </a:lnTo>
                  <a:lnTo>
                    <a:pt x="227" y="36"/>
                  </a:lnTo>
                  <a:lnTo>
                    <a:pt x="246" y="36"/>
                  </a:lnTo>
                  <a:lnTo>
                    <a:pt x="258" y="0"/>
                  </a:lnTo>
                  <a:lnTo>
                    <a:pt x="275" y="16"/>
                  </a:lnTo>
                  <a:lnTo>
                    <a:pt x="292" y="31"/>
                  </a:lnTo>
                  <a:lnTo>
                    <a:pt x="311" y="47"/>
                  </a:lnTo>
                  <a:lnTo>
                    <a:pt x="328" y="62"/>
                  </a:lnTo>
                  <a:lnTo>
                    <a:pt x="306" y="62"/>
                  </a:lnTo>
                  <a:lnTo>
                    <a:pt x="286" y="62"/>
                  </a:lnTo>
                  <a:lnTo>
                    <a:pt x="282" y="90"/>
                  </a:lnTo>
                  <a:lnTo>
                    <a:pt x="279" y="119"/>
                  </a:lnTo>
                  <a:lnTo>
                    <a:pt x="275" y="148"/>
                  </a:lnTo>
                  <a:lnTo>
                    <a:pt x="270" y="177"/>
                  </a:lnTo>
                  <a:lnTo>
                    <a:pt x="268" y="206"/>
                  </a:lnTo>
                  <a:lnTo>
                    <a:pt x="265" y="234"/>
                  </a:lnTo>
                  <a:lnTo>
                    <a:pt x="262" y="263"/>
                  </a:lnTo>
                  <a:lnTo>
                    <a:pt x="260" y="292"/>
                  </a:lnTo>
                  <a:lnTo>
                    <a:pt x="265" y="296"/>
                  </a:lnTo>
                  <a:lnTo>
                    <a:pt x="258" y="319"/>
                  </a:lnTo>
                  <a:lnTo>
                    <a:pt x="234" y="319"/>
                  </a:lnTo>
                  <a:lnTo>
                    <a:pt x="211" y="319"/>
                  </a:lnTo>
                  <a:lnTo>
                    <a:pt x="188" y="319"/>
                  </a:lnTo>
                  <a:lnTo>
                    <a:pt x="167" y="319"/>
                  </a:lnTo>
                  <a:lnTo>
                    <a:pt x="164" y="317"/>
                  </a:lnTo>
                  <a:lnTo>
                    <a:pt x="129" y="325"/>
                  </a:lnTo>
                  <a:lnTo>
                    <a:pt x="125" y="327"/>
                  </a:lnTo>
                  <a:lnTo>
                    <a:pt x="113" y="318"/>
                  </a:lnTo>
                  <a:lnTo>
                    <a:pt x="98" y="341"/>
                  </a:lnTo>
                  <a:lnTo>
                    <a:pt x="93" y="340"/>
                  </a:lnTo>
                  <a:lnTo>
                    <a:pt x="79" y="321"/>
                  </a:lnTo>
                  <a:lnTo>
                    <a:pt x="66" y="302"/>
                  </a:lnTo>
                  <a:lnTo>
                    <a:pt x="46" y="289"/>
                  </a:lnTo>
                  <a:lnTo>
                    <a:pt x="26" y="291"/>
                  </a:lnTo>
                  <a:lnTo>
                    <a:pt x="7" y="294"/>
                  </a:lnTo>
                  <a:close/>
                </a:path>
              </a:pathLst>
            </a:custGeom>
            <a:solidFill>
              <a:srgbClr val="00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2809800" y="2352600"/>
              <a:ext cx="69840" cy="81000"/>
            </a:xfrm>
            <a:custGeom>
              <a:avLst/>
              <a:gdLst/>
              <a:ahLst/>
              <a:rect l="l" t="t" r="r" b="b"/>
              <a:pathLst>
                <a:path w="134" h="117">
                  <a:moveTo>
                    <a:pt x="36" y="5"/>
                  </a:moveTo>
                  <a:lnTo>
                    <a:pt x="29" y="15"/>
                  </a:lnTo>
                  <a:lnTo>
                    <a:pt x="14" y="33"/>
                  </a:lnTo>
                  <a:lnTo>
                    <a:pt x="0" y="52"/>
                  </a:lnTo>
                  <a:lnTo>
                    <a:pt x="13" y="72"/>
                  </a:lnTo>
                  <a:lnTo>
                    <a:pt x="19" y="66"/>
                  </a:lnTo>
                  <a:lnTo>
                    <a:pt x="14" y="71"/>
                  </a:lnTo>
                  <a:lnTo>
                    <a:pt x="17" y="75"/>
                  </a:lnTo>
                  <a:lnTo>
                    <a:pt x="16" y="82"/>
                  </a:lnTo>
                  <a:lnTo>
                    <a:pt x="42" y="82"/>
                  </a:lnTo>
                  <a:lnTo>
                    <a:pt x="45" y="77"/>
                  </a:lnTo>
                  <a:lnTo>
                    <a:pt x="73" y="84"/>
                  </a:lnTo>
                  <a:lnTo>
                    <a:pt x="79" y="90"/>
                  </a:lnTo>
                  <a:lnTo>
                    <a:pt x="47" y="84"/>
                  </a:lnTo>
                  <a:lnTo>
                    <a:pt x="29" y="90"/>
                  </a:lnTo>
                  <a:lnTo>
                    <a:pt x="10" y="97"/>
                  </a:lnTo>
                  <a:lnTo>
                    <a:pt x="10" y="108"/>
                  </a:lnTo>
                  <a:lnTo>
                    <a:pt x="27" y="105"/>
                  </a:lnTo>
                  <a:lnTo>
                    <a:pt x="37" y="104"/>
                  </a:lnTo>
                  <a:lnTo>
                    <a:pt x="37" y="105"/>
                  </a:lnTo>
                  <a:lnTo>
                    <a:pt x="14" y="108"/>
                  </a:lnTo>
                  <a:lnTo>
                    <a:pt x="7" y="117"/>
                  </a:lnTo>
                  <a:lnTo>
                    <a:pt x="40" y="110"/>
                  </a:lnTo>
                  <a:lnTo>
                    <a:pt x="60" y="108"/>
                  </a:lnTo>
                  <a:lnTo>
                    <a:pt x="81" y="107"/>
                  </a:lnTo>
                  <a:lnTo>
                    <a:pt x="101" y="111"/>
                  </a:lnTo>
                  <a:lnTo>
                    <a:pt x="134" y="114"/>
                  </a:lnTo>
                  <a:lnTo>
                    <a:pt x="131" y="88"/>
                  </a:lnTo>
                  <a:lnTo>
                    <a:pt x="125" y="77"/>
                  </a:lnTo>
                  <a:lnTo>
                    <a:pt x="122" y="51"/>
                  </a:lnTo>
                  <a:lnTo>
                    <a:pt x="108" y="32"/>
                  </a:lnTo>
                  <a:lnTo>
                    <a:pt x="95" y="13"/>
                  </a:lnTo>
                  <a:lnTo>
                    <a:pt x="75" y="0"/>
                  </a:lnTo>
                  <a:lnTo>
                    <a:pt x="55" y="2"/>
                  </a:lnTo>
                  <a:lnTo>
                    <a:pt x="36" y="5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016080" y="2457360"/>
              <a:ext cx="19080" cy="95400"/>
            </a:xfrm>
            <a:custGeom>
              <a:avLst/>
              <a:gdLst/>
              <a:ahLst/>
              <a:rect l="l" t="t" r="r" b="b"/>
              <a:pathLst>
                <a:path w="35" h="135">
                  <a:moveTo>
                    <a:pt x="19" y="2"/>
                  </a:moveTo>
                  <a:lnTo>
                    <a:pt x="0" y="0"/>
                  </a:lnTo>
                  <a:lnTo>
                    <a:pt x="3" y="8"/>
                  </a:lnTo>
                  <a:lnTo>
                    <a:pt x="9" y="31"/>
                  </a:lnTo>
                  <a:lnTo>
                    <a:pt x="7" y="44"/>
                  </a:lnTo>
                  <a:lnTo>
                    <a:pt x="9" y="63"/>
                  </a:lnTo>
                  <a:lnTo>
                    <a:pt x="10" y="80"/>
                  </a:lnTo>
                  <a:lnTo>
                    <a:pt x="10" y="102"/>
                  </a:lnTo>
                  <a:lnTo>
                    <a:pt x="9" y="122"/>
                  </a:lnTo>
                  <a:lnTo>
                    <a:pt x="20" y="135"/>
                  </a:lnTo>
                  <a:lnTo>
                    <a:pt x="32" y="132"/>
                  </a:lnTo>
                  <a:lnTo>
                    <a:pt x="32" y="112"/>
                  </a:lnTo>
                  <a:lnTo>
                    <a:pt x="33" y="92"/>
                  </a:lnTo>
                  <a:lnTo>
                    <a:pt x="33" y="72"/>
                  </a:lnTo>
                  <a:lnTo>
                    <a:pt x="35" y="51"/>
                  </a:lnTo>
                  <a:lnTo>
                    <a:pt x="32" y="30"/>
                  </a:lnTo>
                  <a:lnTo>
                    <a:pt x="22" y="14"/>
                  </a:lnTo>
                  <a:lnTo>
                    <a:pt x="24" y="2"/>
                  </a:lnTo>
                  <a:lnTo>
                    <a:pt x="19" y="2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2833560" y="2143080"/>
              <a:ext cx="128880" cy="131760"/>
            </a:xfrm>
            <a:custGeom>
              <a:avLst/>
              <a:gdLst/>
              <a:ahLst/>
              <a:rect l="l" t="t" r="r" b="b"/>
              <a:pathLst>
                <a:path w="248" h="187">
                  <a:moveTo>
                    <a:pt x="6" y="171"/>
                  </a:moveTo>
                  <a:lnTo>
                    <a:pt x="0" y="187"/>
                  </a:lnTo>
                  <a:lnTo>
                    <a:pt x="4" y="171"/>
                  </a:lnTo>
                  <a:lnTo>
                    <a:pt x="27" y="138"/>
                  </a:lnTo>
                  <a:lnTo>
                    <a:pt x="51" y="105"/>
                  </a:lnTo>
                  <a:lnTo>
                    <a:pt x="46" y="108"/>
                  </a:lnTo>
                  <a:lnTo>
                    <a:pt x="69" y="86"/>
                  </a:lnTo>
                  <a:lnTo>
                    <a:pt x="82" y="66"/>
                  </a:lnTo>
                  <a:lnTo>
                    <a:pt x="98" y="44"/>
                  </a:lnTo>
                  <a:lnTo>
                    <a:pt x="121" y="28"/>
                  </a:lnTo>
                  <a:lnTo>
                    <a:pt x="143" y="0"/>
                  </a:lnTo>
                  <a:lnTo>
                    <a:pt x="169" y="0"/>
                  </a:lnTo>
                  <a:lnTo>
                    <a:pt x="196" y="0"/>
                  </a:lnTo>
                  <a:lnTo>
                    <a:pt x="222" y="0"/>
                  </a:lnTo>
                  <a:lnTo>
                    <a:pt x="248" y="0"/>
                  </a:lnTo>
                  <a:lnTo>
                    <a:pt x="244" y="10"/>
                  </a:lnTo>
                  <a:lnTo>
                    <a:pt x="232" y="46"/>
                  </a:lnTo>
                  <a:lnTo>
                    <a:pt x="213" y="46"/>
                  </a:lnTo>
                  <a:lnTo>
                    <a:pt x="195" y="46"/>
                  </a:lnTo>
                  <a:lnTo>
                    <a:pt x="174" y="46"/>
                  </a:lnTo>
                  <a:lnTo>
                    <a:pt x="156" y="46"/>
                  </a:lnTo>
                  <a:lnTo>
                    <a:pt x="144" y="80"/>
                  </a:lnTo>
                  <a:lnTo>
                    <a:pt x="136" y="113"/>
                  </a:lnTo>
                  <a:lnTo>
                    <a:pt x="110" y="126"/>
                  </a:lnTo>
                  <a:lnTo>
                    <a:pt x="105" y="148"/>
                  </a:lnTo>
                  <a:lnTo>
                    <a:pt x="99" y="171"/>
                  </a:lnTo>
                  <a:lnTo>
                    <a:pt x="76" y="171"/>
                  </a:lnTo>
                  <a:lnTo>
                    <a:pt x="53" y="171"/>
                  </a:lnTo>
                  <a:lnTo>
                    <a:pt x="30" y="171"/>
                  </a:lnTo>
                  <a:lnTo>
                    <a:pt x="6" y="171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2832120" y="2428920"/>
              <a:ext cx="87120" cy="100080"/>
            </a:xfrm>
            <a:custGeom>
              <a:avLst/>
              <a:gdLst/>
              <a:ahLst/>
              <a:rect l="l" t="t" r="r" b="b"/>
              <a:pathLst>
                <a:path w="167" h="145">
                  <a:moveTo>
                    <a:pt x="158" y="34"/>
                  </a:moveTo>
                  <a:lnTo>
                    <a:pt x="154" y="43"/>
                  </a:lnTo>
                  <a:lnTo>
                    <a:pt x="157" y="43"/>
                  </a:lnTo>
                  <a:lnTo>
                    <a:pt x="165" y="67"/>
                  </a:lnTo>
                  <a:lnTo>
                    <a:pt x="161" y="88"/>
                  </a:lnTo>
                  <a:lnTo>
                    <a:pt x="164" y="93"/>
                  </a:lnTo>
                  <a:lnTo>
                    <a:pt x="165" y="98"/>
                  </a:lnTo>
                  <a:lnTo>
                    <a:pt x="167" y="108"/>
                  </a:lnTo>
                  <a:lnTo>
                    <a:pt x="165" y="114"/>
                  </a:lnTo>
                  <a:lnTo>
                    <a:pt x="155" y="116"/>
                  </a:lnTo>
                  <a:lnTo>
                    <a:pt x="158" y="127"/>
                  </a:lnTo>
                  <a:lnTo>
                    <a:pt x="149" y="137"/>
                  </a:lnTo>
                  <a:lnTo>
                    <a:pt x="147" y="138"/>
                  </a:lnTo>
                  <a:lnTo>
                    <a:pt x="141" y="140"/>
                  </a:lnTo>
                  <a:lnTo>
                    <a:pt x="129" y="145"/>
                  </a:lnTo>
                  <a:lnTo>
                    <a:pt x="125" y="140"/>
                  </a:lnTo>
                  <a:lnTo>
                    <a:pt x="119" y="114"/>
                  </a:lnTo>
                  <a:lnTo>
                    <a:pt x="106" y="114"/>
                  </a:lnTo>
                  <a:lnTo>
                    <a:pt x="98" y="115"/>
                  </a:lnTo>
                  <a:lnTo>
                    <a:pt x="100" y="98"/>
                  </a:lnTo>
                  <a:lnTo>
                    <a:pt x="88" y="72"/>
                  </a:lnTo>
                  <a:lnTo>
                    <a:pt x="54" y="80"/>
                  </a:lnTo>
                  <a:lnTo>
                    <a:pt x="36" y="98"/>
                  </a:lnTo>
                  <a:lnTo>
                    <a:pt x="34" y="91"/>
                  </a:lnTo>
                  <a:lnTo>
                    <a:pt x="28" y="82"/>
                  </a:lnTo>
                  <a:lnTo>
                    <a:pt x="26" y="76"/>
                  </a:lnTo>
                  <a:lnTo>
                    <a:pt x="20" y="70"/>
                  </a:lnTo>
                  <a:lnTo>
                    <a:pt x="8" y="56"/>
                  </a:lnTo>
                  <a:lnTo>
                    <a:pt x="10" y="50"/>
                  </a:lnTo>
                  <a:lnTo>
                    <a:pt x="7" y="52"/>
                  </a:lnTo>
                  <a:lnTo>
                    <a:pt x="5" y="44"/>
                  </a:lnTo>
                  <a:lnTo>
                    <a:pt x="0" y="47"/>
                  </a:lnTo>
                  <a:lnTo>
                    <a:pt x="1" y="46"/>
                  </a:lnTo>
                  <a:lnTo>
                    <a:pt x="7" y="36"/>
                  </a:lnTo>
                  <a:lnTo>
                    <a:pt x="30" y="27"/>
                  </a:lnTo>
                  <a:lnTo>
                    <a:pt x="33" y="11"/>
                  </a:lnTo>
                  <a:lnTo>
                    <a:pt x="39" y="0"/>
                  </a:lnTo>
                  <a:lnTo>
                    <a:pt x="59" y="4"/>
                  </a:lnTo>
                  <a:lnTo>
                    <a:pt x="92" y="7"/>
                  </a:lnTo>
                  <a:lnTo>
                    <a:pt x="89" y="13"/>
                  </a:lnTo>
                  <a:lnTo>
                    <a:pt x="103" y="14"/>
                  </a:lnTo>
                  <a:lnTo>
                    <a:pt x="111" y="17"/>
                  </a:lnTo>
                  <a:lnTo>
                    <a:pt x="125" y="16"/>
                  </a:lnTo>
                  <a:lnTo>
                    <a:pt x="141" y="10"/>
                  </a:lnTo>
                  <a:lnTo>
                    <a:pt x="145" y="4"/>
                  </a:lnTo>
                  <a:lnTo>
                    <a:pt x="149" y="27"/>
                  </a:lnTo>
                  <a:lnTo>
                    <a:pt x="158" y="34"/>
                  </a:lnTo>
                  <a:close/>
                </a:path>
              </a:pathLst>
            </a:custGeom>
            <a:solidFill>
              <a:srgbClr val="00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2949480" y="2381400"/>
              <a:ext cx="100080" cy="107640"/>
            </a:xfrm>
            <a:custGeom>
              <a:avLst/>
              <a:gdLst/>
              <a:ahLst/>
              <a:rect l="l" t="t" r="r" b="b"/>
              <a:pathLst>
                <a:path w="193" h="151">
                  <a:moveTo>
                    <a:pt x="156" y="109"/>
                  </a:moveTo>
                  <a:lnTo>
                    <a:pt x="149" y="109"/>
                  </a:lnTo>
                  <a:lnTo>
                    <a:pt x="130" y="107"/>
                  </a:lnTo>
                  <a:lnTo>
                    <a:pt x="123" y="108"/>
                  </a:lnTo>
                  <a:lnTo>
                    <a:pt x="95" y="109"/>
                  </a:lnTo>
                  <a:lnTo>
                    <a:pt x="67" y="109"/>
                  </a:lnTo>
                  <a:lnTo>
                    <a:pt x="65" y="131"/>
                  </a:lnTo>
                  <a:lnTo>
                    <a:pt x="65" y="151"/>
                  </a:lnTo>
                  <a:lnTo>
                    <a:pt x="45" y="138"/>
                  </a:lnTo>
                  <a:lnTo>
                    <a:pt x="22" y="145"/>
                  </a:lnTo>
                  <a:lnTo>
                    <a:pt x="9" y="130"/>
                  </a:lnTo>
                  <a:lnTo>
                    <a:pt x="0" y="125"/>
                  </a:lnTo>
                  <a:lnTo>
                    <a:pt x="10" y="89"/>
                  </a:lnTo>
                  <a:lnTo>
                    <a:pt x="19" y="84"/>
                  </a:lnTo>
                  <a:lnTo>
                    <a:pt x="33" y="71"/>
                  </a:lnTo>
                  <a:lnTo>
                    <a:pt x="39" y="60"/>
                  </a:lnTo>
                  <a:lnTo>
                    <a:pt x="45" y="45"/>
                  </a:lnTo>
                  <a:lnTo>
                    <a:pt x="59" y="50"/>
                  </a:lnTo>
                  <a:lnTo>
                    <a:pt x="65" y="40"/>
                  </a:lnTo>
                  <a:lnTo>
                    <a:pt x="69" y="39"/>
                  </a:lnTo>
                  <a:lnTo>
                    <a:pt x="81" y="24"/>
                  </a:lnTo>
                  <a:lnTo>
                    <a:pt x="94" y="24"/>
                  </a:lnTo>
                  <a:lnTo>
                    <a:pt x="100" y="14"/>
                  </a:lnTo>
                  <a:lnTo>
                    <a:pt x="131" y="0"/>
                  </a:lnTo>
                  <a:lnTo>
                    <a:pt x="153" y="1"/>
                  </a:lnTo>
                  <a:lnTo>
                    <a:pt x="153" y="24"/>
                  </a:lnTo>
                  <a:lnTo>
                    <a:pt x="169" y="45"/>
                  </a:lnTo>
                  <a:lnTo>
                    <a:pt x="166" y="46"/>
                  </a:lnTo>
                  <a:lnTo>
                    <a:pt x="165" y="55"/>
                  </a:lnTo>
                  <a:lnTo>
                    <a:pt x="176" y="66"/>
                  </a:lnTo>
                  <a:lnTo>
                    <a:pt x="185" y="63"/>
                  </a:lnTo>
                  <a:lnTo>
                    <a:pt x="189" y="72"/>
                  </a:lnTo>
                  <a:lnTo>
                    <a:pt x="193" y="85"/>
                  </a:lnTo>
                  <a:lnTo>
                    <a:pt x="193" y="86"/>
                  </a:lnTo>
                  <a:lnTo>
                    <a:pt x="192" y="89"/>
                  </a:lnTo>
                  <a:lnTo>
                    <a:pt x="173" y="99"/>
                  </a:lnTo>
                  <a:lnTo>
                    <a:pt x="156" y="109"/>
                  </a:lnTo>
                  <a:close/>
                </a:path>
              </a:pathLst>
            </a:custGeom>
            <a:solidFill>
              <a:srgbClr val="00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462040" y="1727280"/>
              <a:ext cx="486000" cy="425520"/>
            </a:xfrm>
            <a:prstGeom prst="leftArrow">
              <a:avLst>
                <a:gd name="adj1" fmla="val 50000"/>
                <a:gd name="adj2" fmla="val 28553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2308320" y="1400040"/>
              <a:ext cx="150840" cy="2034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146160" y="2925720"/>
              <a:ext cx="376200" cy="649440"/>
            </a:xfrm>
            <a:custGeom>
              <a:avLst/>
              <a:gdLst/>
              <a:ahLst/>
              <a:rect l="l" t="t" r="r" b="b"/>
              <a:pathLst>
                <a:path w="362" h="515">
                  <a:moveTo>
                    <a:pt x="183" y="5"/>
                  </a:moveTo>
                  <a:lnTo>
                    <a:pt x="209" y="0"/>
                  </a:lnTo>
                  <a:lnTo>
                    <a:pt x="227" y="20"/>
                  </a:lnTo>
                  <a:lnTo>
                    <a:pt x="230" y="44"/>
                  </a:lnTo>
                  <a:lnTo>
                    <a:pt x="237" y="49"/>
                  </a:lnTo>
                  <a:lnTo>
                    <a:pt x="250" y="45"/>
                  </a:lnTo>
                  <a:lnTo>
                    <a:pt x="291" y="62"/>
                  </a:lnTo>
                  <a:lnTo>
                    <a:pt x="303" y="54"/>
                  </a:lnTo>
                  <a:lnTo>
                    <a:pt x="320" y="52"/>
                  </a:lnTo>
                  <a:lnTo>
                    <a:pt x="330" y="67"/>
                  </a:lnTo>
                  <a:lnTo>
                    <a:pt x="340" y="90"/>
                  </a:lnTo>
                  <a:lnTo>
                    <a:pt x="353" y="106"/>
                  </a:lnTo>
                  <a:lnTo>
                    <a:pt x="362" y="114"/>
                  </a:lnTo>
                  <a:lnTo>
                    <a:pt x="359" y="122"/>
                  </a:lnTo>
                  <a:lnTo>
                    <a:pt x="328" y="130"/>
                  </a:lnTo>
                  <a:lnTo>
                    <a:pt x="293" y="149"/>
                  </a:lnTo>
                  <a:lnTo>
                    <a:pt x="295" y="181"/>
                  </a:lnTo>
                  <a:lnTo>
                    <a:pt x="275" y="198"/>
                  </a:lnTo>
                  <a:lnTo>
                    <a:pt x="258" y="212"/>
                  </a:lnTo>
                  <a:lnTo>
                    <a:pt x="256" y="243"/>
                  </a:lnTo>
                  <a:lnTo>
                    <a:pt x="256" y="263"/>
                  </a:lnTo>
                  <a:lnTo>
                    <a:pt x="243" y="277"/>
                  </a:lnTo>
                  <a:lnTo>
                    <a:pt x="232" y="263"/>
                  </a:lnTo>
                  <a:lnTo>
                    <a:pt x="213" y="269"/>
                  </a:lnTo>
                  <a:lnTo>
                    <a:pt x="211" y="278"/>
                  </a:lnTo>
                  <a:lnTo>
                    <a:pt x="207" y="304"/>
                  </a:lnTo>
                  <a:lnTo>
                    <a:pt x="214" y="314"/>
                  </a:lnTo>
                  <a:lnTo>
                    <a:pt x="211" y="339"/>
                  </a:lnTo>
                  <a:lnTo>
                    <a:pt x="199" y="350"/>
                  </a:lnTo>
                  <a:lnTo>
                    <a:pt x="183" y="371"/>
                  </a:lnTo>
                  <a:lnTo>
                    <a:pt x="176" y="387"/>
                  </a:lnTo>
                  <a:lnTo>
                    <a:pt x="180" y="418"/>
                  </a:lnTo>
                  <a:lnTo>
                    <a:pt x="193" y="436"/>
                  </a:lnTo>
                  <a:lnTo>
                    <a:pt x="185" y="446"/>
                  </a:lnTo>
                  <a:lnTo>
                    <a:pt x="150" y="457"/>
                  </a:lnTo>
                  <a:lnTo>
                    <a:pt x="137" y="470"/>
                  </a:lnTo>
                  <a:lnTo>
                    <a:pt x="136" y="484"/>
                  </a:lnTo>
                  <a:lnTo>
                    <a:pt x="136" y="510"/>
                  </a:lnTo>
                  <a:lnTo>
                    <a:pt x="97" y="510"/>
                  </a:lnTo>
                  <a:lnTo>
                    <a:pt x="70" y="515"/>
                  </a:lnTo>
                  <a:lnTo>
                    <a:pt x="39" y="479"/>
                  </a:lnTo>
                  <a:lnTo>
                    <a:pt x="22" y="479"/>
                  </a:lnTo>
                  <a:lnTo>
                    <a:pt x="8" y="479"/>
                  </a:lnTo>
                  <a:lnTo>
                    <a:pt x="0" y="466"/>
                  </a:lnTo>
                  <a:lnTo>
                    <a:pt x="8" y="453"/>
                  </a:lnTo>
                  <a:lnTo>
                    <a:pt x="26" y="427"/>
                  </a:lnTo>
                  <a:lnTo>
                    <a:pt x="36" y="401"/>
                  </a:lnTo>
                  <a:lnTo>
                    <a:pt x="57" y="371"/>
                  </a:lnTo>
                  <a:lnTo>
                    <a:pt x="62" y="353"/>
                  </a:lnTo>
                  <a:lnTo>
                    <a:pt x="52" y="340"/>
                  </a:lnTo>
                  <a:lnTo>
                    <a:pt x="39" y="328"/>
                  </a:lnTo>
                  <a:lnTo>
                    <a:pt x="36" y="321"/>
                  </a:lnTo>
                  <a:lnTo>
                    <a:pt x="52" y="316"/>
                  </a:lnTo>
                  <a:lnTo>
                    <a:pt x="62" y="298"/>
                  </a:lnTo>
                  <a:lnTo>
                    <a:pt x="44" y="294"/>
                  </a:lnTo>
                  <a:lnTo>
                    <a:pt x="26" y="303"/>
                  </a:lnTo>
                  <a:lnTo>
                    <a:pt x="26" y="281"/>
                  </a:lnTo>
                  <a:lnTo>
                    <a:pt x="36" y="268"/>
                  </a:lnTo>
                  <a:lnTo>
                    <a:pt x="44" y="255"/>
                  </a:lnTo>
                  <a:lnTo>
                    <a:pt x="49" y="237"/>
                  </a:lnTo>
                  <a:lnTo>
                    <a:pt x="52" y="224"/>
                  </a:lnTo>
                  <a:lnTo>
                    <a:pt x="62" y="220"/>
                  </a:lnTo>
                  <a:lnTo>
                    <a:pt x="75" y="229"/>
                  </a:lnTo>
                  <a:lnTo>
                    <a:pt x="97" y="198"/>
                  </a:lnTo>
                  <a:lnTo>
                    <a:pt x="110" y="177"/>
                  </a:lnTo>
                  <a:lnTo>
                    <a:pt x="144" y="136"/>
                  </a:lnTo>
                  <a:lnTo>
                    <a:pt x="144" y="120"/>
                  </a:lnTo>
                  <a:lnTo>
                    <a:pt x="162" y="93"/>
                  </a:lnTo>
                  <a:lnTo>
                    <a:pt x="167" y="62"/>
                  </a:lnTo>
                  <a:lnTo>
                    <a:pt x="175" y="45"/>
                  </a:lnTo>
                  <a:lnTo>
                    <a:pt x="183" y="5"/>
                  </a:lnTo>
                  <a:close/>
                </a:path>
              </a:pathLst>
            </a:custGeom>
            <a:solidFill>
              <a:srgbClr val="00cc9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285840" y="2722680"/>
              <a:ext cx="990360" cy="1066680"/>
            </a:xfrm>
            <a:custGeom>
              <a:avLst/>
              <a:gdLst/>
              <a:ahLst/>
              <a:rect l="l" t="t" r="r" b="b"/>
              <a:pathLst>
                <a:path w="957" h="848">
                  <a:moveTo>
                    <a:pt x="49" y="167"/>
                  </a:moveTo>
                  <a:lnTo>
                    <a:pt x="44" y="154"/>
                  </a:lnTo>
                  <a:lnTo>
                    <a:pt x="49" y="136"/>
                  </a:lnTo>
                  <a:lnTo>
                    <a:pt x="75" y="93"/>
                  </a:lnTo>
                  <a:lnTo>
                    <a:pt x="62" y="83"/>
                  </a:lnTo>
                  <a:lnTo>
                    <a:pt x="66" y="70"/>
                  </a:lnTo>
                  <a:lnTo>
                    <a:pt x="52" y="67"/>
                  </a:lnTo>
                  <a:lnTo>
                    <a:pt x="52" y="49"/>
                  </a:lnTo>
                  <a:lnTo>
                    <a:pt x="62" y="36"/>
                  </a:lnTo>
                  <a:lnTo>
                    <a:pt x="105" y="23"/>
                  </a:lnTo>
                  <a:lnTo>
                    <a:pt x="141" y="26"/>
                  </a:lnTo>
                  <a:lnTo>
                    <a:pt x="144" y="13"/>
                  </a:lnTo>
                  <a:lnTo>
                    <a:pt x="170" y="0"/>
                  </a:lnTo>
                  <a:lnTo>
                    <a:pt x="185" y="5"/>
                  </a:lnTo>
                  <a:lnTo>
                    <a:pt x="214" y="44"/>
                  </a:lnTo>
                  <a:lnTo>
                    <a:pt x="263" y="67"/>
                  </a:lnTo>
                  <a:lnTo>
                    <a:pt x="307" y="67"/>
                  </a:lnTo>
                  <a:lnTo>
                    <a:pt x="318" y="70"/>
                  </a:lnTo>
                  <a:lnTo>
                    <a:pt x="436" y="136"/>
                  </a:lnTo>
                  <a:lnTo>
                    <a:pt x="471" y="141"/>
                  </a:lnTo>
                  <a:lnTo>
                    <a:pt x="497" y="167"/>
                  </a:lnTo>
                  <a:lnTo>
                    <a:pt x="536" y="158"/>
                  </a:lnTo>
                  <a:lnTo>
                    <a:pt x="559" y="172"/>
                  </a:lnTo>
                  <a:lnTo>
                    <a:pt x="581" y="193"/>
                  </a:lnTo>
                  <a:lnTo>
                    <a:pt x="607" y="193"/>
                  </a:lnTo>
                  <a:lnTo>
                    <a:pt x="625" y="198"/>
                  </a:lnTo>
                  <a:lnTo>
                    <a:pt x="633" y="206"/>
                  </a:lnTo>
                  <a:lnTo>
                    <a:pt x="625" y="219"/>
                  </a:lnTo>
                  <a:lnTo>
                    <a:pt x="625" y="237"/>
                  </a:lnTo>
                  <a:lnTo>
                    <a:pt x="695" y="285"/>
                  </a:lnTo>
                  <a:lnTo>
                    <a:pt x="734" y="316"/>
                  </a:lnTo>
                  <a:lnTo>
                    <a:pt x="752" y="311"/>
                  </a:lnTo>
                  <a:lnTo>
                    <a:pt x="773" y="307"/>
                  </a:lnTo>
                  <a:lnTo>
                    <a:pt x="839" y="337"/>
                  </a:lnTo>
                  <a:lnTo>
                    <a:pt x="847" y="360"/>
                  </a:lnTo>
                  <a:lnTo>
                    <a:pt x="857" y="368"/>
                  </a:lnTo>
                  <a:lnTo>
                    <a:pt x="878" y="373"/>
                  </a:lnTo>
                  <a:lnTo>
                    <a:pt x="891" y="381"/>
                  </a:lnTo>
                  <a:lnTo>
                    <a:pt x="909" y="381"/>
                  </a:lnTo>
                  <a:lnTo>
                    <a:pt x="927" y="381"/>
                  </a:lnTo>
                  <a:lnTo>
                    <a:pt x="944" y="386"/>
                  </a:lnTo>
                  <a:lnTo>
                    <a:pt x="949" y="381"/>
                  </a:lnTo>
                  <a:lnTo>
                    <a:pt x="957" y="399"/>
                  </a:lnTo>
                  <a:lnTo>
                    <a:pt x="957" y="421"/>
                  </a:lnTo>
                  <a:lnTo>
                    <a:pt x="944" y="434"/>
                  </a:lnTo>
                  <a:lnTo>
                    <a:pt x="875" y="485"/>
                  </a:lnTo>
                  <a:lnTo>
                    <a:pt x="844" y="485"/>
                  </a:lnTo>
                  <a:lnTo>
                    <a:pt x="756" y="506"/>
                  </a:lnTo>
                  <a:lnTo>
                    <a:pt x="726" y="511"/>
                  </a:lnTo>
                  <a:lnTo>
                    <a:pt x="726" y="537"/>
                  </a:lnTo>
                  <a:lnTo>
                    <a:pt x="708" y="537"/>
                  </a:lnTo>
                  <a:lnTo>
                    <a:pt x="690" y="550"/>
                  </a:lnTo>
                  <a:lnTo>
                    <a:pt x="672" y="573"/>
                  </a:lnTo>
                  <a:lnTo>
                    <a:pt x="655" y="589"/>
                  </a:lnTo>
                  <a:lnTo>
                    <a:pt x="633" y="594"/>
                  </a:lnTo>
                  <a:lnTo>
                    <a:pt x="615" y="616"/>
                  </a:lnTo>
                  <a:lnTo>
                    <a:pt x="615" y="647"/>
                  </a:lnTo>
                  <a:lnTo>
                    <a:pt x="628" y="664"/>
                  </a:lnTo>
                  <a:lnTo>
                    <a:pt x="633" y="677"/>
                  </a:lnTo>
                  <a:lnTo>
                    <a:pt x="633" y="699"/>
                  </a:lnTo>
                  <a:lnTo>
                    <a:pt x="628" y="708"/>
                  </a:lnTo>
                  <a:lnTo>
                    <a:pt x="611" y="712"/>
                  </a:lnTo>
                  <a:lnTo>
                    <a:pt x="585" y="735"/>
                  </a:lnTo>
                  <a:lnTo>
                    <a:pt x="550" y="766"/>
                  </a:lnTo>
                  <a:lnTo>
                    <a:pt x="536" y="779"/>
                  </a:lnTo>
                  <a:lnTo>
                    <a:pt x="528" y="787"/>
                  </a:lnTo>
                  <a:lnTo>
                    <a:pt x="528" y="800"/>
                  </a:lnTo>
                  <a:lnTo>
                    <a:pt x="489" y="800"/>
                  </a:lnTo>
                  <a:lnTo>
                    <a:pt x="466" y="805"/>
                  </a:lnTo>
                  <a:lnTo>
                    <a:pt x="449" y="809"/>
                  </a:lnTo>
                  <a:lnTo>
                    <a:pt x="440" y="818"/>
                  </a:lnTo>
                  <a:lnTo>
                    <a:pt x="427" y="835"/>
                  </a:lnTo>
                  <a:lnTo>
                    <a:pt x="405" y="844"/>
                  </a:lnTo>
                  <a:lnTo>
                    <a:pt x="392" y="844"/>
                  </a:lnTo>
                  <a:lnTo>
                    <a:pt x="366" y="840"/>
                  </a:lnTo>
                  <a:lnTo>
                    <a:pt x="322" y="835"/>
                  </a:lnTo>
                  <a:lnTo>
                    <a:pt x="245" y="805"/>
                  </a:lnTo>
                  <a:lnTo>
                    <a:pt x="214" y="800"/>
                  </a:lnTo>
                  <a:lnTo>
                    <a:pt x="185" y="809"/>
                  </a:lnTo>
                  <a:lnTo>
                    <a:pt x="162" y="822"/>
                  </a:lnTo>
                  <a:lnTo>
                    <a:pt x="136" y="826"/>
                  </a:lnTo>
                  <a:lnTo>
                    <a:pt x="114" y="840"/>
                  </a:lnTo>
                  <a:lnTo>
                    <a:pt x="101" y="848"/>
                  </a:lnTo>
                  <a:lnTo>
                    <a:pt x="52" y="796"/>
                  </a:lnTo>
                  <a:lnTo>
                    <a:pt x="52" y="722"/>
                  </a:lnTo>
                  <a:lnTo>
                    <a:pt x="31" y="695"/>
                  </a:lnTo>
                  <a:lnTo>
                    <a:pt x="5" y="673"/>
                  </a:lnTo>
                  <a:lnTo>
                    <a:pt x="0" y="660"/>
                  </a:lnTo>
                  <a:lnTo>
                    <a:pt x="0" y="633"/>
                  </a:lnTo>
                  <a:lnTo>
                    <a:pt x="13" y="620"/>
                  </a:lnTo>
                  <a:lnTo>
                    <a:pt x="49" y="607"/>
                  </a:lnTo>
                  <a:lnTo>
                    <a:pt x="57" y="599"/>
                  </a:lnTo>
                  <a:lnTo>
                    <a:pt x="44" y="581"/>
                  </a:lnTo>
                  <a:lnTo>
                    <a:pt x="39" y="550"/>
                  </a:lnTo>
                  <a:lnTo>
                    <a:pt x="52" y="524"/>
                  </a:lnTo>
                  <a:lnTo>
                    <a:pt x="79" y="498"/>
                  </a:lnTo>
                  <a:lnTo>
                    <a:pt x="79" y="478"/>
                  </a:lnTo>
                  <a:lnTo>
                    <a:pt x="70" y="460"/>
                  </a:lnTo>
                  <a:lnTo>
                    <a:pt x="79" y="430"/>
                  </a:lnTo>
                  <a:lnTo>
                    <a:pt x="83" y="426"/>
                  </a:lnTo>
                  <a:lnTo>
                    <a:pt x="96" y="426"/>
                  </a:lnTo>
                  <a:lnTo>
                    <a:pt x="105" y="439"/>
                  </a:lnTo>
                  <a:lnTo>
                    <a:pt x="118" y="421"/>
                  </a:lnTo>
                  <a:lnTo>
                    <a:pt x="123" y="373"/>
                  </a:lnTo>
                  <a:lnTo>
                    <a:pt x="157" y="342"/>
                  </a:lnTo>
                  <a:lnTo>
                    <a:pt x="157" y="324"/>
                  </a:lnTo>
                  <a:lnTo>
                    <a:pt x="157" y="311"/>
                  </a:lnTo>
                  <a:lnTo>
                    <a:pt x="193" y="290"/>
                  </a:lnTo>
                  <a:lnTo>
                    <a:pt x="219" y="285"/>
                  </a:lnTo>
                  <a:lnTo>
                    <a:pt x="228" y="276"/>
                  </a:lnTo>
                  <a:lnTo>
                    <a:pt x="206" y="255"/>
                  </a:lnTo>
                  <a:lnTo>
                    <a:pt x="188" y="219"/>
                  </a:lnTo>
                  <a:lnTo>
                    <a:pt x="180" y="211"/>
                  </a:lnTo>
                  <a:lnTo>
                    <a:pt x="154" y="224"/>
                  </a:lnTo>
                  <a:lnTo>
                    <a:pt x="136" y="216"/>
                  </a:lnTo>
                  <a:lnTo>
                    <a:pt x="110" y="206"/>
                  </a:lnTo>
                  <a:lnTo>
                    <a:pt x="101" y="211"/>
                  </a:lnTo>
                  <a:lnTo>
                    <a:pt x="92" y="201"/>
                  </a:lnTo>
                  <a:lnTo>
                    <a:pt x="92" y="185"/>
                  </a:lnTo>
                  <a:lnTo>
                    <a:pt x="79" y="167"/>
                  </a:lnTo>
                  <a:lnTo>
                    <a:pt x="70" y="162"/>
                  </a:lnTo>
                  <a:lnTo>
                    <a:pt x="49" y="167"/>
                  </a:lnTo>
                  <a:close/>
                </a:path>
              </a:pathLst>
            </a:custGeom>
            <a:solidFill>
              <a:srgbClr val="00cc9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1041480" y="3611520"/>
              <a:ext cx="38160" cy="28440"/>
            </a:xfrm>
            <a:custGeom>
              <a:avLst/>
              <a:gdLst/>
              <a:ahLst/>
              <a:rect l="l" t="t" r="r" b="b"/>
              <a:pathLst>
                <a:path w="37" h="26">
                  <a:moveTo>
                    <a:pt x="37" y="0"/>
                  </a:moveTo>
                  <a:lnTo>
                    <a:pt x="19" y="0"/>
                  </a:lnTo>
                  <a:lnTo>
                    <a:pt x="0" y="18"/>
                  </a:lnTo>
                  <a:lnTo>
                    <a:pt x="10" y="26"/>
                  </a:lnTo>
                  <a:lnTo>
                    <a:pt x="27" y="2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cc9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1152360" y="3525840"/>
              <a:ext cx="86040" cy="85680"/>
            </a:xfrm>
            <a:custGeom>
              <a:avLst/>
              <a:gdLst/>
              <a:ahLst/>
              <a:rect l="l" t="t" r="r" b="b"/>
              <a:pathLst>
                <a:path w="84" h="66">
                  <a:moveTo>
                    <a:pt x="61" y="0"/>
                  </a:moveTo>
                  <a:lnTo>
                    <a:pt x="53" y="8"/>
                  </a:lnTo>
                  <a:lnTo>
                    <a:pt x="17" y="13"/>
                  </a:lnTo>
                  <a:lnTo>
                    <a:pt x="0" y="35"/>
                  </a:lnTo>
                  <a:lnTo>
                    <a:pt x="26" y="53"/>
                  </a:lnTo>
                  <a:lnTo>
                    <a:pt x="40" y="66"/>
                  </a:lnTo>
                  <a:lnTo>
                    <a:pt x="66" y="61"/>
                  </a:lnTo>
                  <a:lnTo>
                    <a:pt x="84" y="53"/>
                  </a:lnTo>
                  <a:lnTo>
                    <a:pt x="79" y="35"/>
                  </a:lnTo>
                  <a:lnTo>
                    <a:pt x="66" y="22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cc9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1290600" y="3532320"/>
              <a:ext cx="27000" cy="4284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18" y="0"/>
                  </a:moveTo>
                  <a:lnTo>
                    <a:pt x="0" y="8"/>
                  </a:lnTo>
                  <a:lnTo>
                    <a:pt x="14" y="21"/>
                  </a:lnTo>
                  <a:lnTo>
                    <a:pt x="27" y="3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cc9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4" name=""/>
            <p:cNvGrpSpPr/>
            <p:nvPr/>
          </p:nvGrpSpPr>
          <p:grpSpPr>
            <a:xfrm>
              <a:off x="1616040" y="2757600"/>
              <a:ext cx="899640" cy="1380240"/>
              <a:chOff x="1616040" y="2757600"/>
              <a:chExt cx="899640" cy="1380240"/>
            </a:xfrm>
          </p:grpSpPr>
          <p:sp>
            <p:nvSpPr>
              <p:cNvPr id="1245" name=""/>
              <p:cNvSpPr/>
              <p:nvPr/>
            </p:nvSpPr>
            <p:spPr>
              <a:xfrm>
                <a:off x="1646640" y="3485160"/>
                <a:ext cx="145440" cy="286200"/>
              </a:xfrm>
              <a:custGeom>
                <a:avLst/>
                <a:gdLst/>
                <a:ahLst/>
                <a:rect l="l" t="t" r="r" b="b"/>
                <a:pathLst>
                  <a:path w="139" h="228">
                    <a:moveTo>
                      <a:pt x="82" y="0"/>
                    </a:moveTo>
                    <a:lnTo>
                      <a:pt x="61" y="13"/>
                    </a:lnTo>
                    <a:lnTo>
                      <a:pt x="43" y="26"/>
                    </a:lnTo>
                    <a:lnTo>
                      <a:pt x="26" y="31"/>
                    </a:lnTo>
                    <a:lnTo>
                      <a:pt x="0" y="26"/>
                    </a:lnTo>
                    <a:lnTo>
                      <a:pt x="4" y="53"/>
                    </a:lnTo>
                    <a:lnTo>
                      <a:pt x="17" y="70"/>
                    </a:lnTo>
                    <a:lnTo>
                      <a:pt x="13" y="115"/>
                    </a:lnTo>
                    <a:lnTo>
                      <a:pt x="13" y="136"/>
                    </a:lnTo>
                    <a:lnTo>
                      <a:pt x="17" y="154"/>
                    </a:lnTo>
                    <a:lnTo>
                      <a:pt x="4" y="189"/>
                    </a:lnTo>
                    <a:lnTo>
                      <a:pt x="8" y="215"/>
                    </a:lnTo>
                    <a:lnTo>
                      <a:pt x="26" y="228"/>
                    </a:lnTo>
                    <a:lnTo>
                      <a:pt x="52" y="211"/>
                    </a:lnTo>
                    <a:lnTo>
                      <a:pt x="61" y="206"/>
                    </a:lnTo>
                    <a:lnTo>
                      <a:pt x="87" y="211"/>
                    </a:lnTo>
                    <a:lnTo>
                      <a:pt x="105" y="193"/>
                    </a:lnTo>
                    <a:lnTo>
                      <a:pt x="105" y="175"/>
                    </a:lnTo>
                    <a:lnTo>
                      <a:pt x="126" y="141"/>
                    </a:lnTo>
                    <a:lnTo>
                      <a:pt x="135" y="118"/>
                    </a:lnTo>
                    <a:lnTo>
                      <a:pt x="126" y="97"/>
                    </a:lnTo>
                    <a:lnTo>
                      <a:pt x="139" y="70"/>
                    </a:lnTo>
                    <a:lnTo>
                      <a:pt x="131" y="31"/>
                    </a:lnTo>
                    <a:lnTo>
                      <a:pt x="126" y="8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00cc99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1981800" y="3934440"/>
                <a:ext cx="266400" cy="203400"/>
              </a:xfrm>
              <a:custGeom>
                <a:avLst/>
                <a:gdLst/>
                <a:ahLst/>
                <a:rect l="l" t="t" r="r" b="b"/>
                <a:pathLst>
                  <a:path w="256" h="161">
                    <a:moveTo>
                      <a:pt x="242" y="0"/>
                    </a:moveTo>
                    <a:lnTo>
                      <a:pt x="256" y="13"/>
                    </a:lnTo>
                    <a:lnTo>
                      <a:pt x="247" y="26"/>
                    </a:lnTo>
                    <a:lnTo>
                      <a:pt x="238" y="47"/>
                    </a:lnTo>
                    <a:lnTo>
                      <a:pt x="225" y="60"/>
                    </a:lnTo>
                    <a:lnTo>
                      <a:pt x="229" y="101"/>
                    </a:lnTo>
                    <a:lnTo>
                      <a:pt x="238" y="130"/>
                    </a:lnTo>
                    <a:lnTo>
                      <a:pt x="215" y="143"/>
                    </a:lnTo>
                    <a:lnTo>
                      <a:pt x="212" y="156"/>
                    </a:lnTo>
                    <a:lnTo>
                      <a:pt x="194" y="161"/>
                    </a:lnTo>
                    <a:lnTo>
                      <a:pt x="168" y="135"/>
                    </a:lnTo>
                    <a:lnTo>
                      <a:pt x="150" y="135"/>
                    </a:lnTo>
                    <a:lnTo>
                      <a:pt x="136" y="114"/>
                    </a:lnTo>
                    <a:lnTo>
                      <a:pt x="110" y="101"/>
                    </a:lnTo>
                    <a:lnTo>
                      <a:pt x="92" y="96"/>
                    </a:lnTo>
                    <a:lnTo>
                      <a:pt x="74" y="88"/>
                    </a:lnTo>
                    <a:lnTo>
                      <a:pt x="57" y="73"/>
                    </a:lnTo>
                    <a:lnTo>
                      <a:pt x="26" y="52"/>
                    </a:lnTo>
                    <a:lnTo>
                      <a:pt x="13" y="47"/>
                    </a:lnTo>
                    <a:lnTo>
                      <a:pt x="0" y="34"/>
                    </a:lnTo>
                    <a:lnTo>
                      <a:pt x="0" y="18"/>
                    </a:lnTo>
                    <a:lnTo>
                      <a:pt x="5" y="5"/>
                    </a:lnTo>
                    <a:lnTo>
                      <a:pt x="31" y="8"/>
                    </a:lnTo>
                    <a:lnTo>
                      <a:pt x="71" y="8"/>
                    </a:lnTo>
                    <a:lnTo>
                      <a:pt x="79" y="21"/>
                    </a:lnTo>
                    <a:lnTo>
                      <a:pt x="123" y="21"/>
                    </a:lnTo>
                    <a:lnTo>
                      <a:pt x="154" y="21"/>
                    </a:lnTo>
                    <a:lnTo>
                      <a:pt x="194" y="13"/>
                    </a:lnTo>
                    <a:lnTo>
                      <a:pt x="242" y="0"/>
                    </a:lnTo>
                    <a:close/>
                  </a:path>
                </a:pathLst>
              </a:custGeom>
              <a:solidFill>
                <a:srgbClr val="00cc99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1616040" y="2757600"/>
                <a:ext cx="899640" cy="1233000"/>
              </a:xfrm>
              <a:custGeom>
                <a:avLst/>
                <a:gdLst/>
                <a:ahLst/>
                <a:rect l="l" t="t" r="r" b="b"/>
                <a:pathLst>
                  <a:path w="870" h="981">
                    <a:moveTo>
                      <a:pt x="631" y="968"/>
                    </a:moveTo>
                    <a:lnTo>
                      <a:pt x="644" y="981"/>
                    </a:lnTo>
                    <a:lnTo>
                      <a:pt x="666" y="968"/>
                    </a:lnTo>
                    <a:lnTo>
                      <a:pt x="692" y="932"/>
                    </a:lnTo>
                    <a:lnTo>
                      <a:pt x="705" y="880"/>
                    </a:lnTo>
                    <a:lnTo>
                      <a:pt x="718" y="876"/>
                    </a:lnTo>
                    <a:lnTo>
                      <a:pt x="728" y="884"/>
                    </a:lnTo>
                    <a:lnTo>
                      <a:pt x="745" y="867"/>
                    </a:lnTo>
                    <a:lnTo>
                      <a:pt x="741" y="845"/>
                    </a:lnTo>
                    <a:lnTo>
                      <a:pt x="749" y="827"/>
                    </a:lnTo>
                    <a:lnTo>
                      <a:pt x="745" y="819"/>
                    </a:lnTo>
                    <a:lnTo>
                      <a:pt x="723" y="801"/>
                    </a:lnTo>
                    <a:lnTo>
                      <a:pt x="715" y="801"/>
                    </a:lnTo>
                    <a:lnTo>
                      <a:pt x="718" y="792"/>
                    </a:lnTo>
                    <a:lnTo>
                      <a:pt x="702" y="796"/>
                    </a:lnTo>
                    <a:lnTo>
                      <a:pt x="692" y="788"/>
                    </a:lnTo>
                    <a:lnTo>
                      <a:pt x="692" y="779"/>
                    </a:lnTo>
                    <a:lnTo>
                      <a:pt x="718" y="762"/>
                    </a:lnTo>
                    <a:lnTo>
                      <a:pt x="731" y="744"/>
                    </a:lnTo>
                    <a:lnTo>
                      <a:pt x="731" y="717"/>
                    </a:lnTo>
                    <a:lnTo>
                      <a:pt x="745" y="713"/>
                    </a:lnTo>
                    <a:lnTo>
                      <a:pt x="789" y="735"/>
                    </a:lnTo>
                    <a:lnTo>
                      <a:pt x="806" y="740"/>
                    </a:lnTo>
                    <a:lnTo>
                      <a:pt x="828" y="770"/>
                    </a:lnTo>
                    <a:lnTo>
                      <a:pt x="837" y="788"/>
                    </a:lnTo>
                    <a:lnTo>
                      <a:pt x="850" y="788"/>
                    </a:lnTo>
                    <a:lnTo>
                      <a:pt x="863" y="770"/>
                    </a:lnTo>
                    <a:lnTo>
                      <a:pt x="870" y="753"/>
                    </a:lnTo>
                    <a:lnTo>
                      <a:pt x="854" y="722"/>
                    </a:lnTo>
                    <a:lnTo>
                      <a:pt x="837" y="704"/>
                    </a:lnTo>
                    <a:lnTo>
                      <a:pt x="820" y="704"/>
                    </a:lnTo>
                    <a:lnTo>
                      <a:pt x="820" y="700"/>
                    </a:lnTo>
                    <a:lnTo>
                      <a:pt x="811" y="700"/>
                    </a:lnTo>
                    <a:lnTo>
                      <a:pt x="767" y="656"/>
                    </a:lnTo>
                    <a:lnTo>
                      <a:pt x="745" y="660"/>
                    </a:lnTo>
                    <a:lnTo>
                      <a:pt x="718" y="626"/>
                    </a:lnTo>
                    <a:lnTo>
                      <a:pt x="702" y="621"/>
                    </a:lnTo>
                    <a:lnTo>
                      <a:pt x="674" y="595"/>
                    </a:lnTo>
                    <a:lnTo>
                      <a:pt x="661" y="586"/>
                    </a:lnTo>
                    <a:lnTo>
                      <a:pt x="671" y="577"/>
                    </a:lnTo>
                    <a:lnTo>
                      <a:pt x="684" y="573"/>
                    </a:lnTo>
                    <a:lnTo>
                      <a:pt x="666" y="560"/>
                    </a:lnTo>
                    <a:lnTo>
                      <a:pt x="644" y="568"/>
                    </a:lnTo>
                    <a:lnTo>
                      <a:pt x="627" y="560"/>
                    </a:lnTo>
                    <a:lnTo>
                      <a:pt x="579" y="520"/>
                    </a:lnTo>
                    <a:lnTo>
                      <a:pt x="574" y="503"/>
                    </a:lnTo>
                    <a:lnTo>
                      <a:pt x="556" y="498"/>
                    </a:lnTo>
                    <a:lnTo>
                      <a:pt x="540" y="485"/>
                    </a:lnTo>
                    <a:lnTo>
                      <a:pt x="495" y="391"/>
                    </a:lnTo>
                    <a:lnTo>
                      <a:pt x="482" y="378"/>
                    </a:lnTo>
                    <a:lnTo>
                      <a:pt x="447" y="347"/>
                    </a:lnTo>
                    <a:lnTo>
                      <a:pt x="407" y="285"/>
                    </a:lnTo>
                    <a:lnTo>
                      <a:pt x="407" y="250"/>
                    </a:lnTo>
                    <a:lnTo>
                      <a:pt x="429" y="237"/>
                    </a:lnTo>
                    <a:lnTo>
                      <a:pt x="429" y="219"/>
                    </a:lnTo>
                    <a:lnTo>
                      <a:pt x="412" y="203"/>
                    </a:lnTo>
                    <a:lnTo>
                      <a:pt x="403" y="193"/>
                    </a:lnTo>
                    <a:lnTo>
                      <a:pt x="407" y="180"/>
                    </a:lnTo>
                    <a:lnTo>
                      <a:pt x="425" y="172"/>
                    </a:lnTo>
                    <a:lnTo>
                      <a:pt x="478" y="159"/>
                    </a:lnTo>
                    <a:lnTo>
                      <a:pt x="499" y="145"/>
                    </a:lnTo>
                    <a:lnTo>
                      <a:pt x="517" y="128"/>
                    </a:lnTo>
                    <a:lnTo>
                      <a:pt x="512" y="83"/>
                    </a:lnTo>
                    <a:lnTo>
                      <a:pt x="517" y="67"/>
                    </a:lnTo>
                    <a:lnTo>
                      <a:pt x="491" y="62"/>
                    </a:lnTo>
                    <a:lnTo>
                      <a:pt x="434" y="49"/>
                    </a:lnTo>
                    <a:lnTo>
                      <a:pt x="425" y="36"/>
                    </a:lnTo>
                    <a:lnTo>
                      <a:pt x="421" y="31"/>
                    </a:lnTo>
                    <a:lnTo>
                      <a:pt x="421" y="18"/>
                    </a:lnTo>
                    <a:lnTo>
                      <a:pt x="416" y="5"/>
                    </a:lnTo>
                    <a:lnTo>
                      <a:pt x="386" y="0"/>
                    </a:lnTo>
                    <a:lnTo>
                      <a:pt x="311" y="5"/>
                    </a:lnTo>
                    <a:lnTo>
                      <a:pt x="303" y="23"/>
                    </a:lnTo>
                    <a:lnTo>
                      <a:pt x="276" y="26"/>
                    </a:lnTo>
                    <a:lnTo>
                      <a:pt x="259" y="62"/>
                    </a:lnTo>
                    <a:lnTo>
                      <a:pt x="259" y="75"/>
                    </a:lnTo>
                    <a:lnTo>
                      <a:pt x="241" y="62"/>
                    </a:lnTo>
                    <a:lnTo>
                      <a:pt x="214" y="57"/>
                    </a:lnTo>
                    <a:lnTo>
                      <a:pt x="198" y="67"/>
                    </a:lnTo>
                    <a:lnTo>
                      <a:pt x="184" y="93"/>
                    </a:lnTo>
                    <a:lnTo>
                      <a:pt x="157" y="75"/>
                    </a:lnTo>
                    <a:lnTo>
                      <a:pt x="162" y="49"/>
                    </a:lnTo>
                    <a:lnTo>
                      <a:pt x="154" y="31"/>
                    </a:lnTo>
                    <a:lnTo>
                      <a:pt x="136" y="36"/>
                    </a:lnTo>
                    <a:lnTo>
                      <a:pt x="131" y="57"/>
                    </a:lnTo>
                    <a:lnTo>
                      <a:pt x="118" y="70"/>
                    </a:lnTo>
                    <a:lnTo>
                      <a:pt x="105" y="70"/>
                    </a:lnTo>
                    <a:lnTo>
                      <a:pt x="44" y="62"/>
                    </a:lnTo>
                    <a:lnTo>
                      <a:pt x="22" y="80"/>
                    </a:lnTo>
                    <a:lnTo>
                      <a:pt x="26" y="101"/>
                    </a:lnTo>
                    <a:lnTo>
                      <a:pt x="31" y="119"/>
                    </a:lnTo>
                    <a:lnTo>
                      <a:pt x="0" y="145"/>
                    </a:lnTo>
                    <a:lnTo>
                      <a:pt x="8" y="162"/>
                    </a:lnTo>
                    <a:lnTo>
                      <a:pt x="18" y="172"/>
                    </a:lnTo>
                    <a:lnTo>
                      <a:pt x="0" y="193"/>
                    </a:lnTo>
                    <a:lnTo>
                      <a:pt x="0" y="224"/>
                    </a:lnTo>
                    <a:lnTo>
                      <a:pt x="8" y="237"/>
                    </a:lnTo>
                    <a:lnTo>
                      <a:pt x="26" y="237"/>
                    </a:lnTo>
                    <a:lnTo>
                      <a:pt x="35" y="246"/>
                    </a:lnTo>
                    <a:lnTo>
                      <a:pt x="44" y="268"/>
                    </a:lnTo>
                    <a:lnTo>
                      <a:pt x="44" y="290"/>
                    </a:lnTo>
                    <a:lnTo>
                      <a:pt x="61" y="295"/>
                    </a:lnTo>
                    <a:lnTo>
                      <a:pt x="74" y="290"/>
                    </a:lnTo>
                    <a:lnTo>
                      <a:pt x="123" y="242"/>
                    </a:lnTo>
                    <a:lnTo>
                      <a:pt x="144" y="250"/>
                    </a:lnTo>
                    <a:lnTo>
                      <a:pt x="188" y="272"/>
                    </a:lnTo>
                    <a:lnTo>
                      <a:pt x="219" y="295"/>
                    </a:lnTo>
                    <a:lnTo>
                      <a:pt x="224" y="321"/>
                    </a:lnTo>
                    <a:lnTo>
                      <a:pt x="241" y="339"/>
                    </a:lnTo>
                    <a:lnTo>
                      <a:pt x="250" y="369"/>
                    </a:lnTo>
                    <a:lnTo>
                      <a:pt x="259" y="417"/>
                    </a:lnTo>
                    <a:lnTo>
                      <a:pt x="272" y="439"/>
                    </a:lnTo>
                    <a:lnTo>
                      <a:pt x="289" y="457"/>
                    </a:lnTo>
                    <a:lnTo>
                      <a:pt x="319" y="469"/>
                    </a:lnTo>
                    <a:lnTo>
                      <a:pt x="347" y="511"/>
                    </a:lnTo>
                    <a:lnTo>
                      <a:pt x="373" y="547"/>
                    </a:lnTo>
                    <a:lnTo>
                      <a:pt x="399" y="564"/>
                    </a:lnTo>
                    <a:lnTo>
                      <a:pt x="447" y="621"/>
                    </a:lnTo>
                    <a:lnTo>
                      <a:pt x="482" y="621"/>
                    </a:lnTo>
                    <a:lnTo>
                      <a:pt x="522" y="656"/>
                    </a:lnTo>
                    <a:lnTo>
                      <a:pt x="522" y="691"/>
                    </a:lnTo>
                    <a:lnTo>
                      <a:pt x="535" y="700"/>
                    </a:lnTo>
                    <a:lnTo>
                      <a:pt x="561" y="683"/>
                    </a:lnTo>
                    <a:lnTo>
                      <a:pt x="566" y="700"/>
                    </a:lnTo>
                    <a:lnTo>
                      <a:pt x="566" y="722"/>
                    </a:lnTo>
                    <a:lnTo>
                      <a:pt x="592" y="744"/>
                    </a:lnTo>
                    <a:lnTo>
                      <a:pt x="600" y="757"/>
                    </a:lnTo>
                    <a:lnTo>
                      <a:pt x="635" y="748"/>
                    </a:lnTo>
                    <a:lnTo>
                      <a:pt x="640" y="762"/>
                    </a:lnTo>
                    <a:lnTo>
                      <a:pt x="635" y="792"/>
                    </a:lnTo>
                    <a:lnTo>
                      <a:pt x="653" y="819"/>
                    </a:lnTo>
                    <a:lnTo>
                      <a:pt x="658" y="840"/>
                    </a:lnTo>
                    <a:lnTo>
                      <a:pt x="666" y="863"/>
                    </a:lnTo>
                    <a:lnTo>
                      <a:pt x="661" y="880"/>
                    </a:lnTo>
                    <a:lnTo>
                      <a:pt x="644" y="898"/>
                    </a:lnTo>
                    <a:lnTo>
                      <a:pt x="640" y="919"/>
                    </a:lnTo>
                    <a:lnTo>
                      <a:pt x="627" y="945"/>
                    </a:lnTo>
                    <a:lnTo>
                      <a:pt x="631" y="968"/>
                    </a:lnTo>
                    <a:close/>
                  </a:path>
                </a:pathLst>
              </a:custGeom>
              <a:solidFill>
                <a:srgbClr val="00cc99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8" name=""/>
            <p:cNvSpPr/>
            <p:nvPr/>
          </p:nvSpPr>
          <p:spPr>
            <a:xfrm>
              <a:off x="1571760" y="2581200"/>
              <a:ext cx="363240" cy="290520"/>
            </a:xfrm>
            <a:custGeom>
              <a:avLst/>
              <a:gdLst/>
              <a:ahLst/>
              <a:rect l="l" t="t" r="r" b="b"/>
              <a:pathLst>
                <a:path w="352" h="229">
                  <a:moveTo>
                    <a:pt x="185" y="44"/>
                  </a:moveTo>
                  <a:lnTo>
                    <a:pt x="167" y="28"/>
                  </a:lnTo>
                  <a:lnTo>
                    <a:pt x="170" y="22"/>
                  </a:lnTo>
                  <a:lnTo>
                    <a:pt x="159" y="13"/>
                  </a:lnTo>
                  <a:lnTo>
                    <a:pt x="149" y="0"/>
                  </a:lnTo>
                  <a:lnTo>
                    <a:pt x="139" y="13"/>
                  </a:lnTo>
                  <a:lnTo>
                    <a:pt x="132" y="8"/>
                  </a:lnTo>
                  <a:lnTo>
                    <a:pt x="119" y="20"/>
                  </a:lnTo>
                  <a:lnTo>
                    <a:pt x="119" y="26"/>
                  </a:lnTo>
                  <a:lnTo>
                    <a:pt x="103" y="33"/>
                  </a:lnTo>
                  <a:lnTo>
                    <a:pt x="64" y="64"/>
                  </a:lnTo>
                  <a:lnTo>
                    <a:pt x="54" y="77"/>
                  </a:lnTo>
                  <a:lnTo>
                    <a:pt x="54" y="92"/>
                  </a:lnTo>
                  <a:lnTo>
                    <a:pt x="39" y="97"/>
                  </a:lnTo>
                  <a:lnTo>
                    <a:pt x="11" y="128"/>
                  </a:lnTo>
                  <a:lnTo>
                    <a:pt x="11" y="138"/>
                  </a:lnTo>
                  <a:lnTo>
                    <a:pt x="0" y="151"/>
                  </a:lnTo>
                  <a:lnTo>
                    <a:pt x="5" y="167"/>
                  </a:lnTo>
                  <a:lnTo>
                    <a:pt x="18" y="158"/>
                  </a:lnTo>
                  <a:lnTo>
                    <a:pt x="31" y="144"/>
                  </a:lnTo>
                  <a:lnTo>
                    <a:pt x="51" y="141"/>
                  </a:lnTo>
                  <a:lnTo>
                    <a:pt x="64" y="144"/>
                  </a:lnTo>
                  <a:lnTo>
                    <a:pt x="69" y="167"/>
                  </a:lnTo>
                  <a:lnTo>
                    <a:pt x="67" y="182"/>
                  </a:lnTo>
                  <a:lnTo>
                    <a:pt x="75" y="193"/>
                  </a:lnTo>
                  <a:lnTo>
                    <a:pt x="85" y="200"/>
                  </a:lnTo>
                  <a:lnTo>
                    <a:pt x="108" y="202"/>
                  </a:lnTo>
                  <a:lnTo>
                    <a:pt x="156" y="208"/>
                  </a:lnTo>
                  <a:lnTo>
                    <a:pt x="167" y="202"/>
                  </a:lnTo>
                  <a:lnTo>
                    <a:pt x="174" y="193"/>
                  </a:lnTo>
                  <a:lnTo>
                    <a:pt x="179" y="173"/>
                  </a:lnTo>
                  <a:lnTo>
                    <a:pt x="197" y="171"/>
                  </a:lnTo>
                  <a:lnTo>
                    <a:pt x="203" y="184"/>
                  </a:lnTo>
                  <a:lnTo>
                    <a:pt x="203" y="214"/>
                  </a:lnTo>
                  <a:lnTo>
                    <a:pt x="225" y="229"/>
                  </a:lnTo>
                  <a:lnTo>
                    <a:pt x="242" y="203"/>
                  </a:lnTo>
                  <a:lnTo>
                    <a:pt x="259" y="195"/>
                  </a:lnTo>
                  <a:lnTo>
                    <a:pt x="280" y="197"/>
                  </a:lnTo>
                  <a:lnTo>
                    <a:pt x="295" y="206"/>
                  </a:lnTo>
                  <a:lnTo>
                    <a:pt x="301" y="213"/>
                  </a:lnTo>
                  <a:lnTo>
                    <a:pt x="306" y="190"/>
                  </a:lnTo>
                  <a:lnTo>
                    <a:pt x="317" y="164"/>
                  </a:lnTo>
                  <a:lnTo>
                    <a:pt x="343" y="160"/>
                  </a:lnTo>
                  <a:lnTo>
                    <a:pt x="352" y="143"/>
                  </a:lnTo>
                  <a:lnTo>
                    <a:pt x="343" y="129"/>
                  </a:lnTo>
                  <a:lnTo>
                    <a:pt x="332" y="123"/>
                  </a:lnTo>
                  <a:lnTo>
                    <a:pt x="298" y="117"/>
                  </a:lnTo>
                  <a:lnTo>
                    <a:pt x="297" y="100"/>
                  </a:lnTo>
                  <a:lnTo>
                    <a:pt x="297" y="83"/>
                  </a:lnTo>
                  <a:lnTo>
                    <a:pt x="297" y="70"/>
                  </a:lnTo>
                  <a:lnTo>
                    <a:pt x="277" y="59"/>
                  </a:lnTo>
                  <a:lnTo>
                    <a:pt x="267" y="64"/>
                  </a:lnTo>
                  <a:lnTo>
                    <a:pt x="249" y="51"/>
                  </a:lnTo>
                  <a:lnTo>
                    <a:pt x="246" y="41"/>
                  </a:lnTo>
                  <a:lnTo>
                    <a:pt x="239" y="31"/>
                  </a:lnTo>
                  <a:lnTo>
                    <a:pt x="239" y="26"/>
                  </a:lnTo>
                  <a:lnTo>
                    <a:pt x="220" y="20"/>
                  </a:lnTo>
                  <a:lnTo>
                    <a:pt x="213" y="28"/>
                  </a:lnTo>
                  <a:lnTo>
                    <a:pt x="200" y="38"/>
                  </a:lnTo>
                  <a:lnTo>
                    <a:pt x="185" y="44"/>
                  </a:lnTo>
                  <a:close/>
                </a:path>
              </a:pathLst>
            </a:custGeom>
            <a:solidFill>
              <a:srgbClr val="00cc9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1447920" y="2055960"/>
              <a:ext cx="257040" cy="274320"/>
            </a:xfrm>
            <a:custGeom>
              <a:avLst/>
              <a:gdLst/>
              <a:ahLst/>
              <a:rect l="l" t="t" r="r" b="b"/>
              <a:pathLst>
                <a:path w="248" h="219">
                  <a:moveTo>
                    <a:pt x="0" y="39"/>
                  </a:moveTo>
                  <a:lnTo>
                    <a:pt x="6" y="31"/>
                  </a:lnTo>
                  <a:lnTo>
                    <a:pt x="3" y="20"/>
                  </a:lnTo>
                  <a:lnTo>
                    <a:pt x="41" y="0"/>
                  </a:lnTo>
                  <a:lnTo>
                    <a:pt x="45" y="7"/>
                  </a:lnTo>
                  <a:lnTo>
                    <a:pt x="72" y="2"/>
                  </a:lnTo>
                  <a:lnTo>
                    <a:pt x="93" y="4"/>
                  </a:lnTo>
                  <a:lnTo>
                    <a:pt x="85" y="14"/>
                  </a:lnTo>
                  <a:lnTo>
                    <a:pt x="90" y="28"/>
                  </a:lnTo>
                  <a:lnTo>
                    <a:pt x="108" y="34"/>
                  </a:lnTo>
                  <a:lnTo>
                    <a:pt x="125" y="33"/>
                  </a:lnTo>
                  <a:lnTo>
                    <a:pt x="140" y="23"/>
                  </a:lnTo>
                  <a:lnTo>
                    <a:pt x="163" y="20"/>
                  </a:lnTo>
                  <a:lnTo>
                    <a:pt x="170" y="30"/>
                  </a:lnTo>
                  <a:lnTo>
                    <a:pt x="185" y="38"/>
                  </a:lnTo>
                  <a:lnTo>
                    <a:pt x="205" y="39"/>
                  </a:lnTo>
                  <a:lnTo>
                    <a:pt x="201" y="56"/>
                  </a:lnTo>
                  <a:lnTo>
                    <a:pt x="202" y="89"/>
                  </a:lnTo>
                  <a:lnTo>
                    <a:pt x="206" y="109"/>
                  </a:lnTo>
                  <a:lnTo>
                    <a:pt x="228" y="106"/>
                  </a:lnTo>
                  <a:lnTo>
                    <a:pt x="235" y="121"/>
                  </a:lnTo>
                  <a:lnTo>
                    <a:pt x="237" y="133"/>
                  </a:lnTo>
                  <a:lnTo>
                    <a:pt x="248" y="149"/>
                  </a:lnTo>
                  <a:lnTo>
                    <a:pt x="234" y="161"/>
                  </a:lnTo>
                  <a:lnTo>
                    <a:pt x="221" y="170"/>
                  </a:lnTo>
                  <a:lnTo>
                    <a:pt x="207" y="170"/>
                  </a:lnTo>
                  <a:lnTo>
                    <a:pt x="190" y="175"/>
                  </a:lnTo>
                  <a:lnTo>
                    <a:pt x="190" y="193"/>
                  </a:lnTo>
                  <a:lnTo>
                    <a:pt x="183" y="205"/>
                  </a:lnTo>
                  <a:lnTo>
                    <a:pt x="166" y="219"/>
                  </a:lnTo>
                  <a:lnTo>
                    <a:pt x="136" y="196"/>
                  </a:lnTo>
                  <a:lnTo>
                    <a:pt x="128" y="176"/>
                  </a:lnTo>
                  <a:lnTo>
                    <a:pt x="101" y="170"/>
                  </a:lnTo>
                  <a:lnTo>
                    <a:pt x="91" y="144"/>
                  </a:lnTo>
                  <a:lnTo>
                    <a:pt x="72" y="129"/>
                  </a:lnTo>
                  <a:lnTo>
                    <a:pt x="65" y="110"/>
                  </a:lnTo>
                  <a:lnTo>
                    <a:pt x="50" y="91"/>
                  </a:lnTo>
                  <a:lnTo>
                    <a:pt x="39" y="72"/>
                  </a:lnTo>
                  <a:lnTo>
                    <a:pt x="19" y="58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cc9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1625760" y="2265480"/>
              <a:ext cx="66600" cy="106200"/>
            </a:xfrm>
            <a:custGeom>
              <a:avLst/>
              <a:gdLst/>
              <a:ahLst/>
              <a:rect l="l" t="t" r="r" b="b"/>
              <a:pathLst>
                <a:path w="68" h="84">
                  <a:moveTo>
                    <a:pt x="49" y="84"/>
                  </a:moveTo>
                  <a:lnTo>
                    <a:pt x="52" y="57"/>
                  </a:lnTo>
                  <a:lnTo>
                    <a:pt x="68" y="46"/>
                  </a:lnTo>
                  <a:lnTo>
                    <a:pt x="68" y="33"/>
                  </a:lnTo>
                  <a:lnTo>
                    <a:pt x="59" y="24"/>
                  </a:lnTo>
                  <a:lnTo>
                    <a:pt x="51" y="11"/>
                  </a:lnTo>
                  <a:lnTo>
                    <a:pt x="46" y="0"/>
                  </a:lnTo>
                  <a:lnTo>
                    <a:pt x="31" y="0"/>
                  </a:lnTo>
                  <a:lnTo>
                    <a:pt x="20" y="5"/>
                  </a:lnTo>
                  <a:lnTo>
                    <a:pt x="20" y="23"/>
                  </a:lnTo>
                  <a:lnTo>
                    <a:pt x="11" y="38"/>
                  </a:lnTo>
                  <a:lnTo>
                    <a:pt x="0" y="43"/>
                  </a:lnTo>
                  <a:lnTo>
                    <a:pt x="5" y="56"/>
                  </a:lnTo>
                  <a:lnTo>
                    <a:pt x="19" y="60"/>
                  </a:lnTo>
                  <a:lnTo>
                    <a:pt x="33" y="63"/>
                  </a:lnTo>
                  <a:lnTo>
                    <a:pt x="42" y="71"/>
                  </a:lnTo>
                  <a:lnTo>
                    <a:pt x="49" y="84"/>
                  </a:lnTo>
                  <a:close/>
                </a:path>
              </a:pathLst>
            </a:custGeom>
            <a:solidFill>
              <a:srgbClr val="00cc9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1538280" y="1851120"/>
              <a:ext cx="263520" cy="338040"/>
            </a:xfrm>
            <a:custGeom>
              <a:avLst/>
              <a:gdLst/>
              <a:ahLst/>
              <a:rect l="l" t="t" r="r" b="b"/>
              <a:pathLst>
                <a:path w="254" h="269">
                  <a:moveTo>
                    <a:pt x="106" y="7"/>
                  </a:moveTo>
                  <a:lnTo>
                    <a:pt x="80" y="39"/>
                  </a:lnTo>
                  <a:lnTo>
                    <a:pt x="80" y="49"/>
                  </a:lnTo>
                  <a:lnTo>
                    <a:pt x="64" y="64"/>
                  </a:lnTo>
                  <a:lnTo>
                    <a:pt x="67" y="68"/>
                  </a:lnTo>
                  <a:lnTo>
                    <a:pt x="62" y="78"/>
                  </a:lnTo>
                  <a:lnTo>
                    <a:pt x="46" y="94"/>
                  </a:lnTo>
                  <a:lnTo>
                    <a:pt x="31" y="112"/>
                  </a:lnTo>
                  <a:lnTo>
                    <a:pt x="25" y="121"/>
                  </a:lnTo>
                  <a:lnTo>
                    <a:pt x="31" y="129"/>
                  </a:lnTo>
                  <a:lnTo>
                    <a:pt x="26" y="142"/>
                  </a:lnTo>
                  <a:lnTo>
                    <a:pt x="18" y="153"/>
                  </a:lnTo>
                  <a:lnTo>
                    <a:pt x="11" y="158"/>
                  </a:lnTo>
                  <a:lnTo>
                    <a:pt x="0" y="171"/>
                  </a:lnTo>
                  <a:lnTo>
                    <a:pt x="2" y="184"/>
                  </a:lnTo>
                  <a:lnTo>
                    <a:pt x="13" y="191"/>
                  </a:lnTo>
                  <a:lnTo>
                    <a:pt x="42" y="191"/>
                  </a:lnTo>
                  <a:lnTo>
                    <a:pt x="58" y="181"/>
                  </a:lnTo>
                  <a:lnTo>
                    <a:pt x="75" y="179"/>
                  </a:lnTo>
                  <a:lnTo>
                    <a:pt x="88" y="191"/>
                  </a:lnTo>
                  <a:lnTo>
                    <a:pt x="101" y="197"/>
                  </a:lnTo>
                  <a:lnTo>
                    <a:pt x="119" y="199"/>
                  </a:lnTo>
                  <a:lnTo>
                    <a:pt x="114" y="219"/>
                  </a:lnTo>
                  <a:lnTo>
                    <a:pt x="120" y="269"/>
                  </a:lnTo>
                  <a:lnTo>
                    <a:pt x="135" y="268"/>
                  </a:lnTo>
                  <a:lnTo>
                    <a:pt x="145" y="266"/>
                  </a:lnTo>
                  <a:lnTo>
                    <a:pt x="148" y="252"/>
                  </a:lnTo>
                  <a:lnTo>
                    <a:pt x="151" y="223"/>
                  </a:lnTo>
                  <a:lnTo>
                    <a:pt x="162" y="207"/>
                  </a:lnTo>
                  <a:lnTo>
                    <a:pt x="162" y="181"/>
                  </a:lnTo>
                  <a:lnTo>
                    <a:pt x="172" y="166"/>
                  </a:lnTo>
                  <a:lnTo>
                    <a:pt x="191" y="158"/>
                  </a:lnTo>
                  <a:lnTo>
                    <a:pt x="228" y="116"/>
                  </a:lnTo>
                  <a:lnTo>
                    <a:pt x="232" y="99"/>
                  </a:lnTo>
                  <a:lnTo>
                    <a:pt x="226" y="70"/>
                  </a:lnTo>
                  <a:lnTo>
                    <a:pt x="250" y="51"/>
                  </a:lnTo>
                  <a:lnTo>
                    <a:pt x="254" y="19"/>
                  </a:lnTo>
                  <a:lnTo>
                    <a:pt x="237" y="5"/>
                  </a:lnTo>
                  <a:lnTo>
                    <a:pt x="226" y="3"/>
                  </a:lnTo>
                  <a:lnTo>
                    <a:pt x="206" y="0"/>
                  </a:lnTo>
                  <a:lnTo>
                    <a:pt x="162" y="0"/>
                  </a:lnTo>
                  <a:lnTo>
                    <a:pt x="149" y="11"/>
                  </a:lnTo>
                  <a:lnTo>
                    <a:pt x="139" y="24"/>
                  </a:lnTo>
                  <a:lnTo>
                    <a:pt x="141" y="36"/>
                  </a:lnTo>
                  <a:lnTo>
                    <a:pt x="157" y="47"/>
                  </a:lnTo>
                  <a:lnTo>
                    <a:pt x="167" y="60"/>
                  </a:lnTo>
                  <a:lnTo>
                    <a:pt x="167" y="77"/>
                  </a:lnTo>
                  <a:lnTo>
                    <a:pt x="149" y="90"/>
                  </a:lnTo>
                  <a:lnTo>
                    <a:pt x="132" y="94"/>
                  </a:lnTo>
                  <a:lnTo>
                    <a:pt x="119" y="96"/>
                  </a:lnTo>
                  <a:lnTo>
                    <a:pt x="113" y="86"/>
                  </a:lnTo>
                  <a:lnTo>
                    <a:pt x="108" y="70"/>
                  </a:lnTo>
                  <a:lnTo>
                    <a:pt x="116" y="57"/>
                  </a:lnTo>
                  <a:lnTo>
                    <a:pt x="114" y="42"/>
                  </a:lnTo>
                  <a:lnTo>
                    <a:pt x="113" y="26"/>
                  </a:lnTo>
                  <a:lnTo>
                    <a:pt x="106" y="7"/>
                  </a:lnTo>
                  <a:close/>
                </a:path>
              </a:pathLst>
            </a:custGeom>
            <a:solidFill>
              <a:srgbClr val="00cc9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46200" y="1320840"/>
              <a:ext cx="369720" cy="412560"/>
            </a:xfrm>
            <a:custGeom>
              <a:avLst/>
              <a:gdLst/>
              <a:ahLst/>
              <a:rect l="l" t="t" r="r" b="b"/>
              <a:pathLst>
                <a:path w="358" h="327">
                  <a:moveTo>
                    <a:pt x="132" y="123"/>
                  </a:moveTo>
                  <a:lnTo>
                    <a:pt x="127" y="136"/>
                  </a:lnTo>
                  <a:lnTo>
                    <a:pt x="132" y="154"/>
                  </a:lnTo>
                  <a:lnTo>
                    <a:pt x="125" y="165"/>
                  </a:lnTo>
                  <a:lnTo>
                    <a:pt x="114" y="158"/>
                  </a:lnTo>
                  <a:lnTo>
                    <a:pt x="101" y="160"/>
                  </a:lnTo>
                  <a:lnTo>
                    <a:pt x="101" y="173"/>
                  </a:lnTo>
                  <a:lnTo>
                    <a:pt x="74" y="198"/>
                  </a:lnTo>
                  <a:lnTo>
                    <a:pt x="59" y="204"/>
                  </a:lnTo>
                  <a:lnTo>
                    <a:pt x="39" y="226"/>
                  </a:lnTo>
                  <a:lnTo>
                    <a:pt x="26" y="232"/>
                  </a:lnTo>
                  <a:lnTo>
                    <a:pt x="15" y="231"/>
                  </a:lnTo>
                  <a:lnTo>
                    <a:pt x="10" y="235"/>
                  </a:lnTo>
                  <a:lnTo>
                    <a:pt x="7" y="238"/>
                  </a:lnTo>
                  <a:lnTo>
                    <a:pt x="13" y="245"/>
                  </a:lnTo>
                  <a:lnTo>
                    <a:pt x="13" y="261"/>
                  </a:lnTo>
                  <a:lnTo>
                    <a:pt x="0" y="275"/>
                  </a:lnTo>
                  <a:lnTo>
                    <a:pt x="4" y="289"/>
                  </a:lnTo>
                  <a:lnTo>
                    <a:pt x="4" y="289"/>
                  </a:lnTo>
                  <a:lnTo>
                    <a:pt x="20" y="289"/>
                  </a:lnTo>
                  <a:lnTo>
                    <a:pt x="26" y="278"/>
                  </a:lnTo>
                  <a:lnTo>
                    <a:pt x="35" y="288"/>
                  </a:lnTo>
                  <a:lnTo>
                    <a:pt x="23" y="296"/>
                  </a:lnTo>
                  <a:lnTo>
                    <a:pt x="28" y="309"/>
                  </a:lnTo>
                  <a:lnTo>
                    <a:pt x="35" y="311"/>
                  </a:lnTo>
                  <a:lnTo>
                    <a:pt x="64" y="316"/>
                  </a:lnTo>
                  <a:lnTo>
                    <a:pt x="68" y="318"/>
                  </a:lnTo>
                  <a:lnTo>
                    <a:pt x="94" y="327"/>
                  </a:lnTo>
                  <a:lnTo>
                    <a:pt x="105" y="322"/>
                  </a:lnTo>
                  <a:lnTo>
                    <a:pt x="127" y="309"/>
                  </a:lnTo>
                  <a:lnTo>
                    <a:pt x="161" y="316"/>
                  </a:lnTo>
                  <a:lnTo>
                    <a:pt x="220" y="316"/>
                  </a:lnTo>
                  <a:lnTo>
                    <a:pt x="253" y="309"/>
                  </a:lnTo>
                  <a:lnTo>
                    <a:pt x="268" y="285"/>
                  </a:lnTo>
                  <a:lnTo>
                    <a:pt x="288" y="275"/>
                  </a:lnTo>
                  <a:lnTo>
                    <a:pt x="294" y="261"/>
                  </a:lnTo>
                  <a:lnTo>
                    <a:pt x="301" y="242"/>
                  </a:lnTo>
                  <a:lnTo>
                    <a:pt x="317" y="231"/>
                  </a:lnTo>
                  <a:lnTo>
                    <a:pt x="330" y="198"/>
                  </a:lnTo>
                  <a:lnTo>
                    <a:pt x="327" y="160"/>
                  </a:lnTo>
                  <a:lnTo>
                    <a:pt x="358" y="142"/>
                  </a:lnTo>
                  <a:lnTo>
                    <a:pt x="340" y="127"/>
                  </a:lnTo>
                  <a:lnTo>
                    <a:pt x="335" y="101"/>
                  </a:lnTo>
                  <a:lnTo>
                    <a:pt x="323" y="90"/>
                  </a:lnTo>
                  <a:lnTo>
                    <a:pt x="310" y="90"/>
                  </a:lnTo>
                  <a:lnTo>
                    <a:pt x="297" y="83"/>
                  </a:lnTo>
                  <a:lnTo>
                    <a:pt x="273" y="55"/>
                  </a:lnTo>
                  <a:lnTo>
                    <a:pt x="284" y="49"/>
                  </a:lnTo>
                  <a:lnTo>
                    <a:pt x="325" y="11"/>
                  </a:lnTo>
                  <a:lnTo>
                    <a:pt x="320" y="0"/>
                  </a:lnTo>
                  <a:lnTo>
                    <a:pt x="307" y="3"/>
                  </a:lnTo>
                  <a:lnTo>
                    <a:pt x="264" y="5"/>
                  </a:lnTo>
                  <a:lnTo>
                    <a:pt x="248" y="16"/>
                  </a:lnTo>
                  <a:lnTo>
                    <a:pt x="238" y="23"/>
                  </a:lnTo>
                  <a:lnTo>
                    <a:pt x="222" y="20"/>
                  </a:lnTo>
                  <a:lnTo>
                    <a:pt x="213" y="26"/>
                  </a:lnTo>
                  <a:lnTo>
                    <a:pt x="220" y="38"/>
                  </a:lnTo>
                  <a:lnTo>
                    <a:pt x="241" y="52"/>
                  </a:lnTo>
                  <a:lnTo>
                    <a:pt x="226" y="55"/>
                  </a:lnTo>
                  <a:lnTo>
                    <a:pt x="187" y="59"/>
                  </a:lnTo>
                  <a:lnTo>
                    <a:pt x="161" y="49"/>
                  </a:lnTo>
                  <a:lnTo>
                    <a:pt x="133" y="38"/>
                  </a:lnTo>
                  <a:lnTo>
                    <a:pt x="125" y="44"/>
                  </a:lnTo>
                  <a:lnTo>
                    <a:pt x="118" y="64"/>
                  </a:lnTo>
                  <a:lnTo>
                    <a:pt x="120" y="75"/>
                  </a:lnTo>
                  <a:lnTo>
                    <a:pt x="117" y="80"/>
                  </a:lnTo>
                  <a:lnTo>
                    <a:pt x="101" y="85"/>
                  </a:lnTo>
                  <a:lnTo>
                    <a:pt x="103" y="106"/>
                  </a:lnTo>
                  <a:lnTo>
                    <a:pt x="101" y="110"/>
                  </a:lnTo>
                  <a:lnTo>
                    <a:pt x="85" y="132"/>
                  </a:lnTo>
                  <a:lnTo>
                    <a:pt x="99" y="152"/>
                  </a:lnTo>
                  <a:lnTo>
                    <a:pt x="105" y="149"/>
                  </a:lnTo>
                  <a:lnTo>
                    <a:pt x="132" y="123"/>
                  </a:lnTo>
                  <a:close/>
                </a:path>
              </a:pathLst>
            </a:custGeom>
            <a:solidFill>
              <a:srgbClr val="00cc9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3" name=""/>
            <p:cNvGrpSpPr/>
            <p:nvPr/>
          </p:nvGrpSpPr>
          <p:grpSpPr>
            <a:xfrm>
              <a:off x="1670040" y="1677960"/>
              <a:ext cx="628200" cy="1017000"/>
              <a:chOff x="1670040" y="1677960"/>
              <a:chExt cx="628200" cy="1017000"/>
            </a:xfrm>
          </p:grpSpPr>
          <p:sp>
            <p:nvSpPr>
              <p:cNvPr id="1254" name=""/>
              <p:cNvSpPr/>
              <p:nvPr/>
            </p:nvSpPr>
            <p:spPr>
              <a:xfrm>
                <a:off x="2201400" y="1775160"/>
                <a:ext cx="28080" cy="3384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" y="0"/>
                    </a:moveTo>
                    <a:lnTo>
                      <a:pt x="0" y="5"/>
                    </a:lnTo>
                    <a:lnTo>
                      <a:pt x="2" y="18"/>
                    </a:lnTo>
                    <a:lnTo>
                      <a:pt x="17" y="26"/>
                    </a:lnTo>
                    <a:lnTo>
                      <a:pt x="28" y="1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cc99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1670040" y="1677960"/>
                <a:ext cx="628200" cy="1017000"/>
              </a:xfrm>
              <a:custGeom>
                <a:avLst/>
                <a:gdLst/>
                <a:ahLst/>
                <a:rect l="l" t="t" r="r" b="b"/>
                <a:pathLst>
                  <a:path w="605" h="808">
                    <a:moveTo>
                      <a:pt x="250" y="0"/>
                    </a:moveTo>
                    <a:lnTo>
                      <a:pt x="237" y="8"/>
                    </a:lnTo>
                    <a:lnTo>
                      <a:pt x="237" y="18"/>
                    </a:lnTo>
                    <a:lnTo>
                      <a:pt x="239" y="26"/>
                    </a:lnTo>
                    <a:lnTo>
                      <a:pt x="242" y="39"/>
                    </a:lnTo>
                    <a:lnTo>
                      <a:pt x="244" y="57"/>
                    </a:lnTo>
                    <a:lnTo>
                      <a:pt x="237" y="64"/>
                    </a:lnTo>
                    <a:lnTo>
                      <a:pt x="237" y="75"/>
                    </a:lnTo>
                    <a:lnTo>
                      <a:pt x="239" y="85"/>
                    </a:lnTo>
                    <a:lnTo>
                      <a:pt x="257" y="101"/>
                    </a:lnTo>
                    <a:lnTo>
                      <a:pt x="268" y="103"/>
                    </a:lnTo>
                    <a:lnTo>
                      <a:pt x="273" y="127"/>
                    </a:lnTo>
                    <a:lnTo>
                      <a:pt x="248" y="121"/>
                    </a:lnTo>
                    <a:lnTo>
                      <a:pt x="235" y="108"/>
                    </a:lnTo>
                    <a:lnTo>
                      <a:pt x="224" y="114"/>
                    </a:lnTo>
                    <a:lnTo>
                      <a:pt x="204" y="138"/>
                    </a:lnTo>
                    <a:lnTo>
                      <a:pt x="196" y="147"/>
                    </a:lnTo>
                    <a:lnTo>
                      <a:pt x="186" y="144"/>
                    </a:lnTo>
                    <a:lnTo>
                      <a:pt x="185" y="134"/>
                    </a:lnTo>
                    <a:lnTo>
                      <a:pt x="178" y="125"/>
                    </a:lnTo>
                    <a:lnTo>
                      <a:pt x="160" y="118"/>
                    </a:lnTo>
                    <a:lnTo>
                      <a:pt x="134" y="118"/>
                    </a:lnTo>
                    <a:lnTo>
                      <a:pt x="126" y="129"/>
                    </a:lnTo>
                    <a:lnTo>
                      <a:pt x="112" y="144"/>
                    </a:lnTo>
                    <a:lnTo>
                      <a:pt x="123" y="155"/>
                    </a:lnTo>
                    <a:lnTo>
                      <a:pt x="123" y="175"/>
                    </a:lnTo>
                    <a:lnTo>
                      <a:pt x="121" y="186"/>
                    </a:lnTo>
                    <a:lnTo>
                      <a:pt x="116" y="195"/>
                    </a:lnTo>
                    <a:lnTo>
                      <a:pt x="101" y="206"/>
                    </a:lnTo>
                    <a:lnTo>
                      <a:pt x="96" y="208"/>
                    </a:lnTo>
                    <a:lnTo>
                      <a:pt x="99" y="224"/>
                    </a:lnTo>
                    <a:lnTo>
                      <a:pt x="106" y="234"/>
                    </a:lnTo>
                    <a:lnTo>
                      <a:pt x="101" y="247"/>
                    </a:lnTo>
                    <a:lnTo>
                      <a:pt x="90" y="263"/>
                    </a:lnTo>
                    <a:lnTo>
                      <a:pt x="77" y="278"/>
                    </a:lnTo>
                    <a:lnTo>
                      <a:pt x="68" y="289"/>
                    </a:lnTo>
                    <a:lnTo>
                      <a:pt x="52" y="300"/>
                    </a:lnTo>
                    <a:lnTo>
                      <a:pt x="42" y="304"/>
                    </a:lnTo>
                    <a:lnTo>
                      <a:pt x="33" y="322"/>
                    </a:lnTo>
                    <a:lnTo>
                      <a:pt x="31" y="348"/>
                    </a:lnTo>
                    <a:lnTo>
                      <a:pt x="23" y="363"/>
                    </a:lnTo>
                    <a:lnTo>
                      <a:pt x="23" y="386"/>
                    </a:lnTo>
                    <a:lnTo>
                      <a:pt x="13" y="396"/>
                    </a:lnTo>
                    <a:lnTo>
                      <a:pt x="11" y="403"/>
                    </a:lnTo>
                    <a:lnTo>
                      <a:pt x="18" y="414"/>
                    </a:lnTo>
                    <a:lnTo>
                      <a:pt x="23" y="432"/>
                    </a:lnTo>
                    <a:lnTo>
                      <a:pt x="33" y="447"/>
                    </a:lnTo>
                    <a:lnTo>
                      <a:pt x="3" y="473"/>
                    </a:lnTo>
                    <a:lnTo>
                      <a:pt x="9" y="488"/>
                    </a:lnTo>
                    <a:lnTo>
                      <a:pt x="20" y="499"/>
                    </a:lnTo>
                    <a:lnTo>
                      <a:pt x="23" y="501"/>
                    </a:lnTo>
                    <a:lnTo>
                      <a:pt x="23" y="512"/>
                    </a:lnTo>
                    <a:lnTo>
                      <a:pt x="7" y="523"/>
                    </a:lnTo>
                    <a:lnTo>
                      <a:pt x="0" y="538"/>
                    </a:lnTo>
                    <a:lnTo>
                      <a:pt x="7" y="558"/>
                    </a:lnTo>
                    <a:lnTo>
                      <a:pt x="16" y="571"/>
                    </a:lnTo>
                    <a:lnTo>
                      <a:pt x="33" y="578"/>
                    </a:lnTo>
                    <a:lnTo>
                      <a:pt x="55" y="582"/>
                    </a:lnTo>
                    <a:lnTo>
                      <a:pt x="77" y="584"/>
                    </a:lnTo>
                    <a:lnTo>
                      <a:pt x="95" y="587"/>
                    </a:lnTo>
                    <a:lnTo>
                      <a:pt x="108" y="596"/>
                    </a:lnTo>
                    <a:lnTo>
                      <a:pt x="121" y="607"/>
                    </a:lnTo>
                    <a:lnTo>
                      <a:pt x="106" y="615"/>
                    </a:lnTo>
                    <a:lnTo>
                      <a:pt x="93" y="628"/>
                    </a:lnTo>
                    <a:lnTo>
                      <a:pt x="80" y="639"/>
                    </a:lnTo>
                    <a:lnTo>
                      <a:pt x="77" y="653"/>
                    </a:lnTo>
                    <a:lnTo>
                      <a:pt x="70" y="685"/>
                    </a:lnTo>
                    <a:lnTo>
                      <a:pt x="59" y="705"/>
                    </a:lnTo>
                    <a:lnTo>
                      <a:pt x="52" y="718"/>
                    </a:lnTo>
                    <a:lnTo>
                      <a:pt x="70" y="742"/>
                    </a:lnTo>
                    <a:lnTo>
                      <a:pt x="75" y="749"/>
                    </a:lnTo>
                    <a:lnTo>
                      <a:pt x="86" y="757"/>
                    </a:lnTo>
                    <a:lnTo>
                      <a:pt x="96" y="756"/>
                    </a:lnTo>
                    <a:lnTo>
                      <a:pt x="110" y="749"/>
                    </a:lnTo>
                    <a:lnTo>
                      <a:pt x="116" y="742"/>
                    </a:lnTo>
                    <a:lnTo>
                      <a:pt x="119" y="738"/>
                    </a:lnTo>
                    <a:lnTo>
                      <a:pt x="139" y="742"/>
                    </a:lnTo>
                    <a:lnTo>
                      <a:pt x="147" y="753"/>
                    </a:lnTo>
                    <a:lnTo>
                      <a:pt x="154" y="766"/>
                    </a:lnTo>
                    <a:lnTo>
                      <a:pt x="162" y="777"/>
                    </a:lnTo>
                    <a:lnTo>
                      <a:pt x="175" y="779"/>
                    </a:lnTo>
                    <a:lnTo>
                      <a:pt x="201" y="777"/>
                    </a:lnTo>
                    <a:lnTo>
                      <a:pt x="215" y="775"/>
                    </a:lnTo>
                    <a:lnTo>
                      <a:pt x="232" y="788"/>
                    </a:lnTo>
                    <a:lnTo>
                      <a:pt x="245" y="782"/>
                    </a:lnTo>
                    <a:lnTo>
                      <a:pt x="258" y="785"/>
                    </a:lnTo>
                    <a:lnTo>
                      <a:pt x="270" y="795"/>
                    </a:lnTo>
                    <a:lnTo>
                      <a:pt x="291" y="785"/>
                    </a:lnTo>
                    <a:lnTo>
                      <a:pt x="312" y="785"/>
                    </a:lnTo>
                    <a:lnTo>
                      <a:pt x="327" y="795"/>
                    </a:lnTo>
                    <a:lnTo>
                      <a:pt x="338" y="800"/>
                    </a:lnTo>
                    <a:lnTo>
                      <a:pt x="351" y="790"/>
                    </a:lnTo>
                    <a:lnTo>
                      <a:pt x="364" y="790"/>
                    </a:lnTo>
                    <a:lnTo>
                      <a:pt x="386" y="785"/>
                    </a:lnTo>
                    <a:lnTo>
                      <a:pt x="401" y="795"/>
                    </a:lnTo>
                    <a:lnTo>
                      <a:pt x="404" y="790"/>
                    </a:lnTo>
                    <a:lnTo>
                      <a:pt x="420" y="801"/>
                    </a:lnTo>
                    <a:lnTo>
                      <a:pt x="435" y="808"/>
                    </a:lnTo>
                    <a:lnTo>
                      <a:pt x="451" y="801"/>
                    </a:lnTo>
                    <a:lnTo>
                      <a:pt x="454" y="790"/>
                    </a:lnTo>
                    <a:lnTo>
                      <a:pt x="443" y="775"/>
                    </a:lnTo>
                    <a:lnTo>
                      <a:pt x="441" y="766"/>
                    </a:lnTo>
                    <a:lnTo>
                      <a:pt x="435" y="740"/>
                    </a:lnTo>
                    <a:lnTo>
                      <a:pt x="495" y="700"/>
                    </a:lnTo>
                    <a:lnTo>
                      <a:pt x="510" y="700"/>
                    </a:lnTo>
                    <a:lnTo>
                      <a:pt x="513" y="694"/>
                    </a:lnTo>
                    <a:lnTo>
                      <a:pt x="491" y="686"/>
                    </a:lnTo>
                    <a:lnTo>
                      <a:pt x="476" y="669"/>
                    </a:lnTo>
                    <a:lnTo>
                      <a:pt x="437" y="635"/>
                    </a:lnTo>
                    <a:lnTo>
                      <a:pt x="432" y="609"/>
                    </a:lnTo>
                    <a:lnTo>
                      <a:pt x="410" y="604"/>
                    </a:lnTo>
                    <a:lnTo>
                      <a:pt x="407" y="578"/>
                    </a:lnTo>
                    <a:lnTo>
                      <a:pt x="403" y="556"/>
                    </a:lnTo>
                    <a:lnTo>
                      <a:pt x="393" y="545"/>
                    </a:lnTo>
                    <a:lnTo>
                      <a:pt x="399" y="535"/>
                    </a:lnTo>
                    <a:lnTo>
                      <a:pt x="404" y="530"/>
                    </a:lnTo>
                    <a:lnTo>
                      <a:pt x="416" y="531"/>
                    </a:lnTo>
                    <a:lnTo>
                      <a:pt x="452" y="520"/>
                    </a:lnTo>
                    <a:lnTo>
                      <a:pt x="530" y="480"/>
                    </a:lnTo>
                    <a:lnTo>
                      <a:pt x="547" y="473"/>
                    </a:lnTo>
                    <a:lnTo>
                      <a:pt x="564" y="462"/>
                    </a:lnTo>
                    <a:lnTo>
                      <a:pt x="577" y="477"/>
                    </a:lnTo>
                    <a:lnTo>
                      <a:pt x="594" y="470"/>
                    </a:lnTo>
                    <a:lnTo>
                      <a:pt x="599" y="452"/>
                    </a:lnTo>
                    <a:lnTo>
                      <a:pt x="598" y="441"/>
                    </a:lnTo>
                    <a:lnTo>
                      <a:pt x="605" y="429"/>
                    </a:lnTo>
                    <a:lnTo>
                      <a:pt x="596" y="415"/>
                    </a:lnTo>
                    <a:lnTo>
                      <a:pt x="585" y="390"/>
                    </a:lnTo>
                    <a:lnTo>
                      <a:pt x="592" y="355"/>
                    </a:lnTo>
                    <a:lnTo>
                      <a:pt x="580" y="337"/>
                    </a:lnTo>
                    <a:lnTo>
                      <a:pt x="575" y="319"/>
                    </a:lnTo>
                    <a:lnTo>
                      <a:pt x="581" y="303"/>
                    </a:lnTo>
                    <a:lnTo>
                      <a:pt x="578" y="289"/>
                    </a:lnTo>
                    <a:lnTo>
                      <a:pt x="553" y="261"/>
                    </a:lnTo>
                    <a:lnTo>
                      <a:pt x="566" y="245"/>
                    </a:lnTo>
                    <a:lnTo>
                      <a:pt x="566" y="216"/>
                    </a:lnTo>
                    <a:lnTo>
                      <a:pt x="568" y="183"/>
                    </a:lnTo>
                    <a:lnTo>
                      <a:pt x="541" y="154"/>
                    </a:lnTo>
                    <a:lnTo>
                      <a:pt x="528" y="136"/>
                    </a:lnTo>
                    <a:lnTo>
                      <a:pt x="513" y="121"/>
                    </a:lnTo>
                    <a:lnTo>
                      <a:pt x="489" y="101"/>
                    </a:lnTo>
                    <a:lnTo>
                      <a:pt x="474" y="90"/>
                    </a:lnTo>
                    <a:lnTo>
                      <a:pt x="463" y="88"/>
                    </a:lnTo>
                    <a:lnTo>
                      <a:pt x="448" y="98"/>
                    </a:lnTo>
                    <a:lnTo>
                      <a:pt x="436" y="105"/>
                    </a:lnTo>
                    <a:lnTo>
                      <a:pt x="401" y="131"/>
                    </a:lnTo>
                    <a:lnTo>
                      <a:pt x="377" y="125"/>
                    </a:lnTo>
                    <a:lnTo>
                      <a:pt x="366" y="125"/>
                    </a:lnTo>
                    <a:lnTo>
                      <a:pt x="366" y="116"/>
                    </a:lnTo>
                    <a:lnTo>
                      <a:pt x="371" y="103"/>
                    </a:lnTo>
                    <a:lnTo>
                      <a:pt x="377" y="92"/>
                    </a:lnTo>
                    <a:lnTo>
                      <a:pt x="345" y="72"/>
                    </a:lnTo>
                    <a:lnTo>
                      <a:pt x="335" y="70"/>
                    </a:lnTo>
                    <a:lnTo>
                      <a:pt x="320" y="57"/>
                    </a:lnTo>
                    <a:lnTo>
                      <a:pt x="314" y="33"/>
                    </a:lnTo>
                    <a:lnTo>
                      <a:pt x="307" y="18"/>
                    </a:lnTo>
                    <a:lnTo>
                      <a:pt x="296" y="20"/>
                    </a:lnTo>
                    <a:lnTo>
                      <a:pt x="283" y="5"/>
                    </a:lnTo>
                    <a:lnTo>
                      <a:pt x="265" y="2"/>
                    </a:lnTo>
                    <a:lnTo>
                      <a:pt x="250" y="0"/>
                    </a:lnTo>
                    <a:close/>
                  </a:path>
                </a:pathLst>
              </a:custGeom>
              <a:solidFill>
                <a:srgbClr val="00cc99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6" name=""/>
            <p:cNvGrpSpPr/>
            <p:nvPr/>
          </p:nvGrpSpPr>
          <p:grpSpPr>
            <a:xfrm>
              <a:off x="861840" y="2098800"/>
              <a:ext cx="931680" cy="1343880"/>
              <a:chOff x="861840" y="2098800"/>
              <a:chExt cx="931680" cy="1343880"/>
            </a:xfrm>
          </p:grpSpPr>
          <p:sp>
            <p:nvSpPr>
              <p:cNvPr id="1257" name=""/>
              <p:cNvSpPr/>
              <p:nvPr/>
            </p:nvSpPr>
            <p:spPr>
              <a:xfrm>
                <a:off x="1712520" y="3261960"/>
                <a:ext cx="80640" cy="180720"/>
              </a:xfrm>
              <a:custGeom>
                <a:avLst/>
                <a:gdLst/>
                <a:ahLst/>
                <a:rect l="l" t="t" r="r" b="b"/>
                <a:pathLst>
                  <a:path w="79" h="143">
                    <a:moveTo>
                      <a:pt x="79" y="0"/>
                    </a:moveTo>
                    <a:lnTo>
                      <a:pt x="53" y="30"/>
                    </a:lnTo>
                    <a:lnTo>
                      <a:pt x="22" y="30"/>
                    </a:lnTo>
                    <a:lnTo>
                      <a:pt x="0" y="48"/>
                    </a:lnTo>
                    <a:lnTo>
                      <a:pt x="4" y="72"/>
                    </a:lnTo>
                    <a:lnTo>
                      <a:pt x="4" y="112"/>
                    </a:lnTo>
                    <a:lnTo>
                      <a:pt x="22" y="143"/>
                    </a:lnTo>
                    <a:lnTo>
                      <a:pt x="44" y="134"/>
                    </a:lnTo>
                    <a:lnTo>
                      <a:pt x="48" y="117"/>
                    </a:lnTo>
                    <a:lnTo>
                      <a:pt x="71" y="76"/>
                    </a:lnTo>
                    <a:lnTo>
                      <a:pt x="71" y="55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cc99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861840" y="2098800"/>
                <a:ext cx="931680" cy="1106640"/>
              </a:xfrm>
              <a:custGeom>
                <a:avLst/>
                <a:gdLst/>
                <a:ahLst/>
                <a:rect l="l" t="t" r="r" b="b"/>
                <a:pathLst>
                  <a:path w="902" h="881">
                    <a:moveTo>
                      <a:pt x="16" y="125"/>
                    </a:moveTo>
                    <a:lnTo>
                      <a:pt x="24" y="146"/>
                    </a:lnTo>
                    <a:lnTo>
                      <a:pt x="16" y="164"/>
                    </a:lnTo>
                    <a:lnTo>
                      <a:pt x="13" y="171"/>
                    </a:lnTo>
                    <a:lnTo>
                      <a:pt x="0" y="166"/>
                    </a:lnTo>
                    <a:lnTo>
                      <a:pt x="5" y="177"/>
                    </a:lnTo>
                    <a:lnTo>
                      <a:pt x="5" y="188"/>
                    </a:lnTo>
                    <a:lnTo>
                      <a:pt x="16" y="205"/>
                    </a:lnTo>
                    <a:lnTo>
                      <a:pt x="36" y="199"/>
                    </a:lnTo>
                    <a:lnTo>
                      <a:pt x="62" y="228"/>
                    </a:lnTo>
                    <a:lnTo>
                      <a:pt x="72" y="247"/>
                    </a:lnTo>
                    <a:lnTo>
                      <a:pt x="88" y="261"/>
                    </a:lnTo>
                    <a:lnTo>
                      <a:pt x="108" y="261"/>
                    </a:lnTo>
                    <a:lnTo>
                      <a:pt x="116" y="277"/>
                    </a:lnTo>
                    <a:lnTo>
                      <a:pt x="134" y="293"/>
                    </a:lnTo>
                    <a:lnTo>
                      <a:pt x="145" y="295"/>
                    </a:lnTo>
                    <a:lnTo>
                      <a:pt x="147" y="301"/>
                    </a:lnTo>
                    <a:lnTo>
                      <a:pt x="141" y="315"/>
                    </a:lnTo>
                    <a:lnTo>
                      <a:pt x="141" y="328"/>
                    </a:lnTo>
                    <a:lnTo>
                      <a:pt x="139" y="341"/>
                    </a:lnTo>
                    <a:lnTo>
                      <a:pt x="134" y="364"/>
                    </a:lnTo>
                    <a:lnTo>
                      <a:pt x="152" y="385"/>
                    </a:lnTo>
                    <a:lnTo>
                      <a:pt x="172" y="400"/>
                    </a:lnTo>
                    <a:lnTo>
                      <a:pt x="172" y="411"/>
                    </a:lnTo>
                    <a:lnTo>
                      <a:pt x="170" y="449"/>
                    </a:lnTo>
                    <a:lnTo>
                      <a:pt x="165" y="480"/>
                    </a:lnTo>
                    <a:lnTo>
                      <a:pt x="170" y="493"/>
                    </a:lnTo>
                    <a:lnTo>
                      <a:pt x="187" y="506"/>
                    </a:lnTo>
                    <a:lnTo>
                      <a:pt x="187" y="532"/>
                    </a:lnTo>
                    <a:lnTo>
                      <a:pt x="187" y="550"/>
                    </a:lnTo>
                    <a:lnTo>
                      <a:pt x="167" y="523"/>
                    </a:lnTo>
                    <a:lnTo>
                      <a:pt x="156" y="506"/>
                    </a:lnTo>
                    <a:lnTo>
                      <a:pt x="149" y="510"/>
                    </a:lnTo>
                    <a:lnTo>
                      <a:pt x="154" y="523"/>
                    </a:lnTo>
                    <a:lnTo>
                      <a:pt x="147" y="539"/>
                    </a:lnTo>
                    <a:lnTo>
                      <a:pt x="136" y="554"/>
                    </a:lnTo>
                    <a:lnTo>
                      <a:pt x="129" y="565"/>
                    </a:lnTo>
                    <a:lnTo>
                      <a:pt x="139" y="576"/>
                    </a:lnTo>
                    <a:lnTo>
                      <a:pt x="132" y="587"/>
                    </a:lnTo>
                    <a:lnTo>
                      <a:pt x="116" y="603"/>
                    </a:lnTo>
                    <a:lnTo>
                      <a:pt x="114" y="616"/>
                    </a:lnTo>
                    <a:lnTo>
                      <a:pt x="106" y="631"/>
                    </a:lnTo>
                    <a:lnTo>
                      <a:pt x="82" y="660"/>
                    </a:lnTo>
                    <a:lnTo>
                      <a:pt x="68" y="688"/>
                    </a:lnTo>
                    <a:lnTo>
                      <a:pt x="68" y="693"/>
                    </a:lnTo>
                    <a:lnTo>
                      <a:pt x="75" y="701"/>
                    </a:lnTo>
                    <a:lnTo>
                      <a:pt x="67" y="714"/>
                    </a:lnTo>
                    <a:lnTo>
                      <a:pt x="70" y="729"/>
                    </a:lnTo>
                    <a:lnTo>
                      <a:pt x="83" y="749"/>
                    </a:lnTo>
                    <a:lnTo>
                      <a:pt x="139" y="780"/>
                    </a:lnTo>
                    <a:lnTo>
                      <a:pt x="178" y="813"/>
                    </a:lnTo>
                    <a:lnTo>
                      <a:pt x="191" y="809"/>
                    </a:lnTo>
                    <a:lnTo>
                      <a:pt x="211" y="801"/>
                    </a:lnTo>
                    <a:lnTo>
                      <a:pt x="278" y="830"/>
                    </a:lnTo>
                    <a:lnTo>
                      <a:pt x="288" y="839"/>
                    </a:lnTo>
                    <a:lnTo>
                      <a:pt x="294" y="857"/>
                    </a:lnTo>
                    <a:lnTo>
                      <a:pt x="306" y="863"/>
                    </a:lnTo>
                    <a:lnTo>
                      <a:pt x="321" y="865"/>
                    </a:lnTo>
                    <a:lnTo>
                      <a:pt x="345" y="878"/>
                    </a:lnTo>
                    <a:lnTo>
                      <a:pt x="384" y="881"/>
                    </a:lnTo>
                    <a:lnTo>
                      <a:pt x="396" y="865"/>
                    </a:lnTo>
                    <a:lnTo>
                      <a:pt x="399" y="848"/>
                    </a:lnTo>
                    <a:lnTo>
                      <a:pt x="399" y="829"/>
                    </a:lnTo>
                    <a:lnTo>
                      <a:pt x="417" y="813"/>
                    </a:lnTo>
                    <a:lnTo>
                      <a:pt x="450" y="796"/>
                    </a:lnTo>
                    <a:lnTo>
                      <a:pt x="465" y="793"/>
                    </a:lnTo>
                    <a:lnTo>
                      <a:pt x="483" y="784"/>
                    </a:lnTo>
                    <a:lnTo>
                      <a:pt x="498" y="784"/>
                    </a:lnTo>
                    <a:lnTo>
                      <a:pt x="516" y="796"/>
                    </a:lnTo>
                    <a:lnTo>
                      <a:pt x="529" y="811"/>
                    </a:lnTo>
                    <a:lnTo>
                      <a:pt x="545" y="811"/>
                    </a:lnTo>
                    <a:lnTo>
                      <a:pt x="558" y="814"/>
                    </a:lnTo>
                    <a:lnTo>
                      <a:pt x="584" y="817"/>
                    </a:lnTo>
                    <a:lnTo>
                      <a:pt x="601" y="839"/>
                    </a:lnTo>
                    <a:lnTo>
                      <a:pt x="617" y="850"/>
                    </a:lnTo>
                    <a:lnTo>
                      <a:pt x="639" y="857"/>
                    </a:lnTo>
                    <a:lnTo>
                      <a:pt x="658" y="868"/>
                    </a:lnTo>
                    <a:lnTo>
                      <a:pt x="669" y="870"/>
                    </a:lnTo>
                    <a:lnTo>
                      <a:pt x="696" y="843"/>
                    </a:lnTo>
                    <a:lnTo>
                      <a:pt x="714" y="839"/>
                    </a:lnTo>
                    <a:lnTo>
                      <a:pt x="727" y="829"/>
                    </a:lnTo>
                    <a:lnTo>
                      <a:pt x="746" y="814"/>
                    </a:lnTo>
                    <a:lnTo>
                      <a:pt x="771" y="813"/>
                    </a:lnTo>
                    <a:lnTo>
                      <a:pt x="768" y="783"/>
                    </a:lnTo>
                    <a:lnTo>
                      <a:pt x="764" y="773"/>
                    </a:lnTo>
                    <a:lnTo>
                      <a:pt x="753" y="758"/>
                    </a:lnTo>
                    <a:lnTo>
                      <a:pt x="745" y="760"/>
                    </a:lnTo>
                    <a:lnTo>
                      <a:pt x="735" y="758"/>
                    </a:lnTo>
                    <a:lnTo>
                      <a:pt x="727" y="745"/>
                    </a:lnTo>
                    <a:lnTo>
                      <a:pt x="725" y="714"/>
                    </a:lnTo>
                    <a:lnTo>
                      <a:pt x="742" y="694"/>
                    </a:lnTo>
                    <a:lnTo>
                      <a:pt x="729" y="677"/>
                    </a:lnTo>
                    <a:lnTo>
                      <a:pt x="729" y="670"/>
                    </a:lnTo>
                    <a:lnTo>
                      <a:pt x="755" y="644"/>
                    </a:lnTo>
                    <a:lnTo>
                      <a:pt x="755" y="635"/>
                    </a:lnTo>
                    <a:lnTo>
                      <a:pt x="751" y="603"/>
                    </a:lnTo>
                    <a:lnTo>
                      <a:pt x="766" y="587"/>
                    </a:lnTo>
                    <a:lnTo>
                      <a:pt x="753" y="570"/>
                    </a:lnTo>
                    <a:lnTo>
                      <a:pt x="753" y="557"/>
                    </a:lnTo>
                    <a:lnTo>
                      <a:pt x="751" y="534"/>
                    </a:lnTo>
                    <a:lnTo>
                      <a:pt x="745" y="528"/>
                    </a:lnTo>
                    <a:lnTo>
                      <a:pt x="729" y="528"/>
                    </a:lnTo>
                    <a:lnTo>
                      <a:pt x="715" y="532"/>
                    </a:lnTo>
                    <a:lnTo>
                      <a:pt x="712" y="536"/>
                    </a:lnTo>
                    <a:lnTo>
                      <a:pt x="702" y="545"/>
                    </a:lnTo>
                    <a:lnTo>
                      <a:pt x="689" y="550"/>
                    </a:lnTo>
                    <a:lnTo>
                      <a:pt x="684" y="536"/>
                    </a:lnTo>
                    <a:lnTo>
                      <a:pt x="694" y="526"/>
                    </a:lnTo>
                    <a:lnTo>
                      <a:pt x="698" y="516"/>
                    </a:lnTo>
                    <a:lnTo>
                      <a:pt x="698" y="506"/>
                    </a:lnTo>
                    <a:lnTo>
                      <a:pt x="722" y="482"/>
                    </a:lnTo>
                    <a:lnTo>
                      <a:pt x="735" y="477"/>
                    </a:lnTo>
                    <a:lnTo>
                      <a:pt x="738" y="460"/>
                    </a:lnTo>
                    <a:lnTo>
                      <a:pt x="751" y="444"/>
                    </a:lnTo>
                    <a:lnTo>
                      <a:pt x="788" y="416"/>
                    </a:lnTo>
                    <a:lnTo>
                      <a:pt x="799" y="416"/>
                    </a:lnTo>
                    <a:lnTo>
                      <a:pt x="804" y="405"/>
                    </a:lnTo>
                    <a:lnTo>
                      <a:pt x="817" y="392"/>
                    </a:lnTo>
                    <a:lnTo>
                      <a:pt x="827" y="392"/>
                    </a:lnTo>
                    <a:lnTo>
                      <a:pt x="832" y="385"/>
                    </a:lnTo>
                    <a:lnTo>
                      <a:pt x="838" y="380"/>
                    </a:lnTo>
                    <a:lnTo>
                      <a:pt x="848" y="365"/>
                    </a:lnTo>
                    <a:lnTo>
                      <a:pt x="856" y="341"/>
                    </a:lnTo>
                    <a:lnTo>
                      <a:pt x="858" y="326"/>
                    </a:lnTo>
                    <a:lnTo>
                      <a:pt x="858" y="313"/>
                    </a:lnTo>
                    <a:lnTo>
                      <a:pt x="871" y="298"/>
                    </a:lnTo>
                    <a:lnTo>
                      <a:pt x="891" y="287"/>
                    </a:lnTo>
                    <a:lnTo>
                      <a:pt x="902" y="276"/>
                    </a:lnTo>
                    <a:lnTo>
                      <a:pt x="902" y="272"/>
                    </a:lnTo>
                    <a:lnTo>
                      <a:pt x="884" y="259"/>
                    </a:lnTo>
                    <a:lnTo>
                      <a:pt x="876" y="254"/>
                    </a:lnTo>
                    <a:lnTo>
                      <a:pt x="850" y="251"/>
                    </a:lnTo>
                    <a:lnTo>
                      <a:pt x="820" y="247"/>
                    </a:lnTo>
                    <a:lnTo>
                      <a:pt x="810" y="246"/>
                    </a:lnTo>
                    <a:lnTo>
                      <a:pt x="799" y="241"/>
                    </a:lnTo>
                    <a:lnTo>
                      <a:pt x="788" y="230"/>
                    </a:lnTo>
                    <a:lnTo>
                      <a:pt x="779" y="212"/>
                    </a:lnTo>
                    <a:lnTo>
                      <a:pt x="771" y="202"/>
                    </a:lnTo>
                    <a:lnTo>
                      <a:pt x="759" y="197"/>
                    </a:lnTo>
                    <a:lnTo>
                      <a:pt x="746" y="192"/>
                    </a:lnTo>
                    <a:lnTo>
                      <a:pt x="740" y="190"/>
                    </a:lnTo>
                    <a:lnTo>
                      <a:pt x="722" y="175"/>
                    </a:lnTo>
                    <a:lnTo>
                      <a:pt x="700" y="157"/>
                    </a:lnTo>
                    <a:lnTo>
                      <a:pt x="687" y="140"/>
                    </a:lnTo>
                    <a:lnTo>
                      <a:pt x="671" y="136"/>
                    </a:lnTo>
                    <a:lnTo>
                      <a:pt x="663" y="128"/>
                    </a:lnTo>
                    <a:lnTo>
                      <a:pt x="656" y="112"/>
                    </a:lnTo>
                    <a:lnTo>
                      <a:pt x="637" y="89"/>
                    </a:lnTo>
                    <a:lnTo>
                      <a:pt x="632" y="74"/>
                    </a:lnTo>
                    <a:lnTo>
                      <a:pt x="617" y="59"/>
                    </a:lnTo>
                    <a:lnTo>
                      <a:pt x="610" y="46"/>
                    </a:lnTo>
                    <a:lnTo>
                      <a:pt x="601" y="35"/>
                    </a:lnTo>
                    <a:lnTo>
                      <a:pt x="586" y="23"/>
                    </a:lnTo>
                    <a:lnTo>
                      <a:pt x="571" y="7"/>
                    </a:lnTo>
                    <a:lnTo>
                      <a:pt x="558" y="0"/>
                    </a:lnTo>
                    <a:lnTo>
                      <a:pt x="525" y="2"/>
                    </a:lnTo>
                    <a:lnTo>
                      <a:pt x="512" y="2"/>
                    </a:lnTo>
                    <a:lnTo>
                      <a:pt x="494" y="15"/>
                    </a:lnTo>
                    <a:lnTo>
                      <a:pt x="504" y="26"/>
                    </a:lnTo>
                    <a:lnTo>
                      <a:pt x="491" y="41"/>
                    </a:lnTo>
                    <a:lnTo>
                      <a:pt x="458" y="82"/>
                    </a:lnTo>
                    <a:lnTo>
                      <a:pt x="442" y="92"/>
                    </a:lnTo>
                    <a:lnTo>
                      <a:pt x="396" y="97"/>
                    </a:lnTo>
                    <a:lnTo>
                      <a:pt x="375" y="102"/>
                    </a:lnTo>
                    <a:lnTo>
                      <a:pt x="365" y="113"/>
                    </a:lnTo>
                    <a:lnTo>
                      <a:pt x="360" y="123"/>
                    </a:lnTo>
                    <a:lnTo>
                      <a:pt x="342" y="118"/>
                    </a:lnTo>
                    <a:lnTo>
                      <a:pt x="314" y="123"/>
                    </a:lnTo>
                    <a:lnTo>
                      <a:pt x="296" y="120"/>
                    </a:lnTo>
                    <a:lnTo>
                      <a:pt x="281" y="110"/>
                    </a:lnTo>
                    <a:lnTo>
                      <a:pt x="270" y="97"/>
                    </a:lnTo>
                    <a:lnTo>
                      <a:pt x="259" y="92"/>
                    </a:lnTo>
                    <a:lnTo>
                      <a:pt x="268" y="81"/>
                    </a:lnTo>
                    <a:lnTo>
                      <a:pt x="255" y="69"/>
                    </a:lnTo>
                    <a:lnTo>
                      <a:pt x="244" y="67"/>
                    </a:lnTo>
                    <a:lnTo>
                      <a:pt x="235" y="66"/>
                    </a:lnTo>
                    <a:lnTo>
                      <a:pt x="233" y="69"/>
                    </a:lnTo>
                    <a:lnTo>
                      <a:pt x="242" y="79"/>
                    </a:lnTo>
                    <a:lnTo>
                      <a:pt x="237" y="85"/>
                    </a:lnTo>
                    <a:lnTo>
                      <a:pt x="242" y="98"/>
                    </a:lnTo>
                    <a:lnTo>
                      <a:pt x="244" y="113"/>
                    </a:lnTo>
                    <a:lnTo>
                      <a:pt x="244" y="125"/>
                    </a:lnTo>
                    <a:lnTo>
                      <a:pt x="242" y="127"/>
                    </a:lnTo>
                    <a:lnTo>
                      <a:pt x="233" y="133"/>
                    </a:lnTo>
                    <a:lnTo>
                      <a:pt x="231" y="144"/>
                    </a:lnTo>
                    <a:lnTo>
                      <a:pt x="231" y="156"/>
                    </a:lnTo>
                    <a:lnTo>
                      <a:pt x="229" y="164"/>
                    </a:lnTo>
                    <a:lnTo>
                      <a:pt x="216" y="162"/>
                    </a:lnTo>
                    <a:lnTo>
                      <a:pt x="200" y="153"/>
                    </a:lnTo>
                    <a:lnTo>
                      <a:pt x="191" y="162"/>
                    </a:lnTo>
                    <a:lnTo>
                      <a:pt x="175" y="151"/>
                    </a:lnTo>
                    <a:lnTo>
                      <a:pt x="167" y="149"/>
                    </a:lnTo>
                    <a:lnTo>
                      <a:pt x="156" y="157"/>
                    </a:lnTo>
                    <a:lnTo>
                      <a:pt x="147" y="156"/>
                    </a:lnTo>
                    <a:lnTo>
                      <a:pt x="147" y="149"/>
                    </a:lnTo>
                    <a:lnTo>
                      <a:pt x="110" y="113"/>
                    </a:lnTo>
                    <a:lnTo>
                      <a:pt x="101" y="112"/>
                    </a:lnTo>
                    <a:lnTo>
                      <a:pt x="95" y="118"/>
                    </a:lnTo>
                    <a:lnTo>
                      <a:pt x="80" y="125"/>
                    </a:lnTo>
                    <a:lnTo>
                      <a:pt x="70" y="127"/>
                    </a:lnTo>
                    <a:lnTo>
                      <a:pt x="59" y="115"/>
                    </a:lnTo>
                    <a:lnTo>
                      <a:pt x="33" y="115"/>
                    </a:lnTo>
                    <a:lnTo>
                      <a:pt x="16" y="125"/>
                    </a:lnTo>
                    <a:close/>
                  </a:path>
                </a:pathLst>
              </a:custGeom>
              <a:solidFill>
                <a:srgbClr val="00cc99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9" name=""/>
            <p:cNvGrpSpPr/>
            <p:nvPr/>
          </p:nvGrpSpPr>
          <p:grpSpPr>
            <a:xfrm>
              <a:off x="873000" y="966960"/>
              <a:ext cx="552240" cy="1119600"/>
              <a:chOff x="873000" y="966960"/>
              <a:chExt cx="552240" cy="1119600"/>
            </a:xfrm>
          </p:grpSpPr>
          <p:sp>
            <p:nvSpPr>
              <p:cNvPr id="1260" name=""/>
              <p:cNvSpPr/>
              <p:nvPr/>
            </p:nvSpPr>
            <p:spPr>
              <a:xfrm>
                <a:off x="873000" y="977760"/>
                <a:ext cx="552240" cy="1108800"/>
              </a:xfrm>
              <a:custGeom>
                <a:avLst/>
                <a:gdLst/>
                <a:ahLst/>
                <a:rect l="l" t="t" r="r" b="b"/>
                <a:pathLst>
                  <a:path w="533" h="880">
                    <a:moveTo>
                      <a:pt x="160" y="564"/>
                    </a:moveTo>
                    <a:lnTo>
                      <a:pt x="184" y="587"/>
                    </a:lnTo>
                    <a:lnTo>
                      <a:pt x="174" y="608"/>
                    </a:lnTo>
                    <a:lnTo>
                      <a:pt x="158" y="626"/>
                    </a:lnTo>
                    <a:lnTo>
                      <a:pt x="133" y="638"/>
                    </a:lnTo>
                    <a:lnTo>
                      <a:pt x="115" y="648"/>
                    </a:lnTo>
                    <a:lnTo>
                      <a:pt x="94" y="651"/>
                    </a:lnTo>
                    <a:lnTo>
                      <a:pt x="84" y="659"/>
                    </a:lnTo>
                    <a:lnTo>
                      <a:pt x="99" y="685"/>
                    </a:lnTo>
                    <a:lnTo>
                      <a:pt x="123" y="685"/>
                    </a:lnTo>
                    <a:lnTo>
                      <a:pt x="133" y="687"/>
                    </a:lnTo>
                    <a:lnTo>
                      <a:pt x="133" y="705"/>
                    </a:lnTo>
                    <a:lnTo>
                      <a:pt x="146" y="705"/>
                    </a:lnTo>
                    <a:lnTo>
                      <a:pt x="156" y="700"/>
                    </a:lnTo>
                    <a:lnTo>
                      <a:pt x="162" y="718"/>
                    </a:lnTo>
                    <a:lnTo>
                      <a:pt x="175" y="734"/>
                    </a:lnTo>
                    <a:lnTo>
                      <a:pt x="197" y="734"/>
                    </a:lnTo>
                    <a:lnTo>
                      <a:pt x="213" y="729"/>
                    </a:lnTo>
                    <a:lnTo>
                      <a:pt x="226" y="734"/>
                    </a:lnTo>
                    <a:lnTo>
                      <a:pt x="193" y="762"/>
                    </a:lnTo>
                    <a:lnTo>
                      <a:pt x="180" y="769"/>
                    </a:lnTo>
                    <a:lnTo>
                      <a:pt x="162" y="762"/>
                    </a:lnTo>
                    <a:lnTo>
                      <a:pt x="123" y="747"/>
                    </a:lnTo>
                    <a:lnTo>
                      <a:pt x="103" y="747"/>
                    </a:lnTo>
                    <a:lnTo>
                      <a:pt x="85" y="762"/>
                    </a:lnTo>
                    <a:lnTo>
                      <a:pt x="61" y="782"/>
                    </a:lnTo>
                    <a:lnTo>
                      <a:pt x="48" y="793"/>
                    </a:lnTo>
                    <a:lnTo>
                      <a:pt x="33" y="797"/>
                    </a:lnTo>
                    <a:lnTo>
                      <a:pt x="15" y="806"/>
                    </a:lnTo>
                    <a:lnTo>
                      <a:pt x="2" y="816"/>
                    </a:lnTo>
                    <a:lnTo>
                      <a:pt x="0" y="823"/>
                    </a:lnTo>
                    <a:lnTo>
                      <a:pt x="15" y="826"/>
                    </a:lnTo>
                    <a:lnTo>
                      <a:pt x="26" y="836"/>
                    </a:lnTo>
                    <a:lnTo>
                      <a:pt x="41" y="844"/>
                    </a:lnTo>
                    <a:lnTo>
                      <a:pt x="57" y="836"/>
                    </a:lnTo>
                    <a:lnTo>
                      <a:pt x="70" y="829"/>
                    </a:lnTo>
                    <a:lnTo>
                      <a:pt x="85" y="832"/>
                    </a:lnTo>
                    <a:lnTo>
                      <a:pt x="107" y="845"/>
                    </a:lnTo>
                    <a:lnTo>
                      <a:pt x="130" y="854"/>
                    </a:lnTo>
                    <a:lnTo>
                      <a:pt x="144" y="845"/>
                    </a:lnTo>
                    <a:lnTo>
                      <a:pt x="151" y="828"/>
                    </a:lnTo>
                    <a:lnTo>
                      <a:pt x="175" y="814"/>
                    </a:lnTo>
                    <a:lnTo>
                      <a:pt x="190" y="814"/>
                    </a:lnTo>
                    <a:lnTo>
                      <a:pt x="204" y="829"/>
                    </a:lnTo>
                    <a:lnTo>
                      <a:pt x="215" y="839"/>
                    </a:lnTo>
                    <a:lnTo>
                      <a:pt x="233" y="839"/>
                    </a:lnTo>
                    <a:lnTo>
                      <a:pt x="257" y="841"/>
                    </a:lnTo>
                    <a:lnTo>
                      <a:pt x="272" y="847"/>
                    </a:lnTo>
                    <a:lnTo>
                      <a:pt x="287" y="836"/>
                    </a:lnTo>
                    <a:lnTo>
                      <a:pt x="300" y="836"/>
                    </a:lnTo>
                    <a:lnTo>
                      <a:pt x="313" y="844"/>
                    </a:lnTo>
                    <a:lnTo>
                      <a:pt x="329" y="860"/>
                    </a:lnTo>
                    <a:lnTo>
                      <a:pt x="349" y="863"/>
                    </a:lnTo>
                    <a:lnTo>
                      <a:pt x="371" y="867"/>
                    </a:lnTo>
                    <a:lnTo>
                      <a:pt x="387" y="876"/>
                    </a:lnTo>
                    <a:lnTo>
                      <a:pt x="406" y="880"/>
                    </a:lnTo>
                    <a:lnTo>
                      <a:pt x="421" y="872"/>
                    </a:lnTo>
                    <a:lnTo>
                      <a:pt x="441" y="860"/>
                    </a:lnTo>
                    <a:lnTo>
                      <a:pt x="454" y="858"/>
                    </a:lnTo>
                    <a:lnTo>
                      <a:pt x="470" y="854"/>
                    </a:lnTo>
                    <a:lnTo>
                      <a:pt x="485" y="841"/>
                    </a:lnTo>
                    <a:lnTo>
                      <a:pt x="474" y="828"/>
                    </a:lnTo>
                    <a:lnTo>
                      <a:pt x="449" y="814"/>
                    </a:lnTo>
                    <a:lnTo>
                      <a:pt x="441" y="806"/>
                    </a:lnTo>
                    <a:lnTo>
                      <a:pt x="441" y="797"/>
                    </a:lnTo>
                    <a:lnTo>
                      <a:pt x="452" y="788"/>
                    </a:lnTo>
                    <a:lnTo>
                      <a:pt x="470" y="786"/>
                    </a:lnTo>
                    <a:lnTo>
                      <a:pt x="487" y="777"/>
                    </a:lnTo>
                    <a:lnTo>
                      <a:pt x="516" y="747"/>
                    </a:lnTo>
                    <a:lnTo>
                      <a:pt x="529" y="731"/>
                    </a:lnTo>
                    <a:lnTo>
                      <a:pt x="533" y="705"/>
                    </a:lnTo>
                    <a:lnTo>
                      <a:pt x="533" y="690"/>
                    </a:lnTo>
                    <a:lnTo>
                      <a:pt x="520" y="679"/>
                    </a:lnTo>
                    <a:lnTo>
                      <a:pt x="503" y="666"/>
                    </a:lnTo>
                    <a:lnTo>
                      <a:pt x="487" y="659"/>
                    </a:lnTo>
                    <a:lnTo>
                      <a:pt x="470" y="661"/>
                    </a:lnTo>
                    <a:lnTo>
                      <a:pt x="459" y="667"/>
                    </a:lnTo>
                    <a:lnTo>
                      <a:pt x="454" y="657"/>
                    </a:lnTo>
                    <a:lnTo>
                      <a:pt x="464" y="639"/>
                    </a:lnTo>
                    <a:lnTo>
                      <a:pt x="467" y="626"/>
                    </a:lnTo>
                    <a:lnTo>
                      <a:pt x="465" y="602"/>
                    </a:lnTo>
                    <a:lnTo>
                      <a:pt x="464" y="569"/>
                    </a:lnTo>
                    <a:lnTo>
                      <a:pt x="470" y="543"/>
                    </a:lnTo>
                    <a:lnTo>
                      <a:pt x="465" y="528"/>
                    </a:lnTo>
                    <a:lnTo>
                      <a:pt x="454" y="510"/>
                    </a:lnTo>
                    <a:lnTo>
                      <a:pt x="428" y="464"/>
                    </a:lnTo>
                    <a:lnTo>
                      <a:pt x="417" y="443"/>
                    </a:lnTo>
                    <a:lnTo>
                      <a:pt x="413" y="417"/>
                    </a:lnTo>
                    <a:lnTo>
                      <a:pt x="410" y="401"/>
                    </a:lnTo>
                    <a:lnTo>
                      <a:pt x="417" y="375"/>
                    </a:lnTo>
                    <a:lnTo>
                      <a:pt x="417" y="355"/>
                    </a:lnTo>
                    <a:lnTo>
                      <a:pt x="413" y="333"/>
                    </a:lnTo>
                    <a:lnTo>
                      <a:pt x="402" y="322"/>
                    </a:lnTo>
                    <a:lnTo>
                      <a:pt x="382" y="302"/>
                    </a:lnTo>
                    <a:lnTo>
                      <a:pt x="367" y="296"/>
                    </a:lnTo>
                    <a:lnTo>
                      <a:pt x="351" y="294"/>
                    </a:lnTo>
                    <a:lnTo>
                      <a:pt x="341" y="291"/>
                    </a:lnTo>
                    <a:lnTo>
                      <a:pt x="341" y="281"/>
                    </a:lnTo>
                    <a:lnTo>
                      <a:pt x="346" y="272"/>
                    </a:lnTo>
                    <a:lnTo>
                      <a:pt x="364" y="270"/>
                    </a:lnTo>
                    <a:lnTo>
                      <a:pt x="380" y="276"/>
                    </a:lnTo>
                    <a:lnTo>
                      <a:pt x="390" y="278"/>
                    </a:lnTo>
                    <a:lnTo>
                      <a:pt x="397" y="268"/>
                    </a:lnTo>
                    <a:lnTo>
                      <a:pt x="395" y="255"/>
                    </a:lnTo>
                    <a:lnTo>
                      <a:pt x="459" y="195"/>
                    </a:lnTo>
                    <a:lnTo>
                      <a:pt x="470" y="182"/>
                    </a:lnTo>
                    <a:lnTo>
                      <a:pt x="470" y="155"/>
                    </a:lnTo>
                    <a:lnTo>
                      <a:pt x="454" y="142"/>
                    </a:lnTo>
                    <a:lnTo>
                      <a:pt x="436" y="140"/>
                    </a:lnTo>
                    <a:lnTo>
                      <a:pt x="421" y="116"/>
                    </a:lnTo>
                    <a:lnTo>
                      <a:pt x="390" y="116"/>
                    </a:lnTo>
                    <a:lnTo>
                      <a:pt x="390" y="116"/>
                    </a:lnTo>
                    <a:lnTo>
                      <a:pt x="362" y="121"/>
                    </a:lnTo>
                    <a:lnTo>
                      <a:pt x="356" y="119"/>
                    </a:lnTo>
                    <a:lnTo>
                      <a:pt x="349" y="108"/>
                    </a:lnTo>
                    <a:lnTo>
                      <a:pt x="362" y="98"/>
                    </a:lnTo>
                    <a:lnTo>
                      <a:pt x="375" y="85"/>
                    </a:lnTo>
                    <a:lnTo>
                      <a:pt x="402" y="62"/>
                    </a:lnTo>
                    <a:lnTo>
                      <a:pt x="423" y="59"/>
                    </a:lnTo>
                    <a:lnTo>
                      <a:pt x="444" y="44"/>
                    </a:lnTo>
                    <a:lnTo>
                      <a:pt x="464" y="29"/>
                    </a:lnTo>
                    <a:lnTo>
                      <a:pt x="419" y="18"/>
                    </a:lnTo>
                    <a:lnTo>
                      <a:pt x="400" y="16"/>
                    </a:lnTo>
                    <a:lnTo>
                      <a:pt x="377" y="13"/>
                    </a:lnTo>
                    <a:lnTo>
                      <a:pt x="351" y="0"/>
                    </a:lnTo>
                    <a:lnTo>
                      <a:pt x="328" y="26"/>
                    </a:lnTo>
                    <a:lnTo>
                      <a:pt x="329" y="39"/>
                    </a:lnTo>
                    <a:lnTo>
                      <a:pt x="316" y="44"/>
                    </a:lnTo>
                    <a:lnTo>
                      <a:pt x="294" y="57"/>
                    </a:lnTo>
                    <a:lnTo>
                      <a:pt x="274" y="64"/>
                    </a:lnTo>
                    <a:lnTo>
                      <a:pt x="274" y="83"/>
                    </a:lnTo>
                    <a:lnTo>
                      <a:pt x="272" y="98"/>
                    </a:lnTo>
                    <a:lnTo>
                      <a:pt x="254" y="123"/>
                    </a:lnTo>
                    <a:lnTo>
                      <a:pt x="226" y="154"/>
                    </a:lnTo>
                    <a:lnTo>
                      <a:pt x="215" y="169"/>
                    </a:lnTo>
                    <a:lnTo>
                      <a:pt x="221" y="180"/>
                    </a:lnTo>
                    <a:lnTo>
                      <a:pt x="251" y="178"/>
                    </a:lnTo>
                    <a:lnTo>
                      <a:pt x="252" y="184"/>
                    </a:lnTo>
                    <a:lnTo>
                      <a:pt x="252" y="195"/>
                    </a:lnTo>
                    <a:lnTo>
                      <a:pt x="213" y="245"/>
                    </a:lnTo>
                    <a:lnTo>
                      <a:pt x="200" y="272"/>
                    </a:lnTo>
                    <a:lnTo>
                      <a:pt x="190" y="296"/>
                    </a:lnTo>
                    <a:lnTo>
                      <a:pt x="200" y="307"/>
                    </a:lnTo>
                    <a:lnTo>
                      <a:pt x="217" y="285"/>
                    </a:lnTo>
                    <a:lnTo>
                      <a:pt x="235" y="260"/>
                    </a:lnTo>
                    <a:lnTo>
                      <a:pt x="248" y="268"/>
                    </a:lnTo>
                    <a:lnTo>
                      <a:pt x="251" y="304"/>
                    </a:lnTo>
                    <a:lnTo>
                      <a:pt x="252" y="329"/>
                    </a:lnTo>
                    <a:lnTo>
                      <a:pt x="228" y="342"/>
                    </a:lnTo>
                    <a:lnTo>
                      <a:pt x="213" y="357"/>
                    </a:lnTo>
                    <a:lnTo>
                      <a:pt x="208" y="370"/>
                    </a:lnTo>
                    <a:lnTo>
                      <a:pt x="239" y="397"/>
                    </a:lnTo>
                    <a:lnTo>
                      <a:pt x="266" y="392"/>
                    </a:lnTo>
                    <a:lnTo>
                      <a:pt x="272" y="407"/>
                    </a:lnTo>
                    <a:lnTo>
                      <a:pt x="300" y="389"/>
                    </a:lnTo>
                    <a:lnTo>
                      <a:pt x="298" y="404"/>
                    </a:lnTo>
                    <a:lnTo>
                      <a:pt x="274" y="432"/>
                    </a:lnTo>
                    <a:lnTo>
                      <a:pt x="285" y="463"/>
                    </a:lnTo>
                    <a:lnTo>
                      <a:pt x="287" y="479"/>
                    </a:lnTo>
                    <a:lnTo>
                      <a:pt x="312" y="482"/>
                    </a:lnTo>
                    <a:lnTo>
                      <a:pt x="313" y="497"/>
                    </a:lnTo>
                    <a:lnTo>
                      <a:pt x="285" y="530"/>
                    </a:lnTo>
                    <a:lnTo>
                      <a:pt x="274" y="525"/>
                    </a:lnTo>
                    <a:lnTo>
                      <a:pt x="264" y="536"/>
                    </a:lnTo>
                    <a:lnTo>
                      <a:pt x="261" y="554"/>
                    </a:lnTo>
                    <a:lnTo>
                      <a:pt x="233" y="538"/>
                    </a:lnTo>
                    <a:lnTo>
                      <a:pt x="160" y="564"/>
                    </a:lnTo>
                    <a:close/>
                  </a:path>
                </a:pathLst>
              </a:custGeom>
              <a:solidFill>
                <a:srgbClr val="00cc99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1071360" y="1517040"/>
                <a:ext cx="46080" cy="381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22" y="0"/>
                    </a:moveTo>
                    <a:lnTo>
                      <a:pt x="41" y="3"/>
                    </a:lnTo>
                    <a:lnTo>
                      <a:pt x="43" y="14"/>
                    </a:lnTo>
                    <a:lnTo>
                      <a:pt x="23" y="27"/>
                    </a:lnTo>
                    <a:lnTo>
                      <a:pt x="2" y="32"/>
                    </a:lnTo>
                    <a:lnTo>
                      <a:pt x="0" y="18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cc99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1040400" y="1256760"/>
                <a:ext cx="46080" cy="37440"/>
              </a:xfrm>
              <a:custGeom>
                <a:avLst/>
                <a:gdLst/>
                <a:ahLst/>
                <a:rect l="l" t="t" r="r" b="b"/>
                <a:pathLst>
                  <a:path w="44" h="32">
                    <a:moveTo>
                      <a:pt x="37" y="0"/>
                    </a:moveTo>
                    <a:lnTo>
                      <a:pt x="44" y="16"/>
                    </a:lnTo>
                    <a:lnTo>
                      <a:pt x="22" y="27"/>
                    </a:lnTo>
                    <a:lnTo>
                      <a:pt x="5" y="32"/>
                    </a:lnTo>
                    <a:lnTo>
                      <a:pt x="0" y="17"/>
                    </a:lnTo>
                    <a:lnTo>
                      <a:pt x="8" y="6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cc99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1105560" y="1053360"/>
                <a:ext cx="24480" cy="79560"/>
              </a:xfrm>
              <a:custGeom>
                <a:avLst/>
                <a:gdLst/>
                <a:ahLst/>
                <a:rect l="l" t="t" r="r" b="b"/>
                <a:pathLst>
                  <a:path w="23" h="62">
                    <a:moveTo>
                      <a:pt x="10" y="62"/>
                    </a:moveTo>
                    <a:lnTo>
                      <a:pt x="23" y="47"/>
                    </a:lnTo>
                    <a:lnTo>
                      <a:pt x="19" y="26"/>
                    </a:lnTo>
                    <a:lnTo>
                      <a:pt x="15" y="16"/>
                    </a:lnTo>
                    <a:lnTo>
                      <a:pt x="10" y="0"/>
                    </a:lnTo>
                    <a:lnTo>
                      <a:pt x="0" y="8"/>
                    </a:lnTo>
                    <a:lnTo>
                      <a:pt x="6" y="29"/>
                    </a:lnTo>
                    <a:lnTo>
                      <a:pt x="10" y="62"/>
                    </a:lnTo>
                    <a:close/>
                  </a:path>
                </a:pathLst>
              </a:custGeom>
              <a:solidFill>
                <a:srgbClr val="00cc99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925560" y="1355400"/>
                <a:ext cx="120960" cy="146880"/>
              </a:xfrm>
              <a:custGeom>
                <a:avLst/>
                <a:gdLst/>
                <a:ahLst/>
                <a:rect l="l" t="t" r="r" b="b"/>
                <a:pathLst>
                  <a:path w="115" h="117">
                    <a:moveTo>
                      <a:pt x="40" y="0"/>
                    </a:moveTo>
                    <a:lnTo>
                      <a:pt x="66" y="0"/>
                    </a:lnTo>
                    <a:lnTo>
                      <a:pt x="86" y="4"/>
                    </a:lnTo>
                    <a:lnTo>
                      <a:pt x="99" y="23"/>
                    </a:lnTo>
                    <a:lnTo>
                      <a:pt x="112" y="54"/>
                    </a:lnTo>
                    <a:lnTo>
                      <a:pt x="115" y="80"/>
                    </a:lnTo>
                    <a:lnTo>
                      <a:pt x="102" y="93"/>
                    </a:lnTo>
                    <a:lnTo>
                      <a:pt x="97" y="111"/>
                    </a:lnTo>
                    <a:lnTo>
                      <a:pt x="84" y="117"/>
                    </a:lnTo>
                    <a:lnTo>
                      <a:pt x="71" y="101"/>
                    </a:lnTo>
                    <a:lnTo>
                      <a:pt x="59" y="73"/>
                    </a:lnTo>
                    <a:lnTo>
                      <a:pt x="51" y="62"/>
                    </a:lnTo>
                    <a:lnTo>
                      <a:pt x="28" y="60"/>
                    </a:lnTo>
                    <a:lnTo>
                      <a:pt x="0" y="3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cc99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1102320" y="966960"/>
                <a:ext cx="59040" cy="52200"/>
              </a:xfrm>
              <a:custGeom>
                <a:avLst/>
                <a:gdLst/>
                <a:ahLst/>
                <a:rect l="l" t="t" r="r" b="b"/>
                <a:pathLst>
                  <a:path w="59" h="43">
                    <a:moveTo>
                      <a:pt x="52" y="0"/>
                    </a:moveTo>
                    <a:lnTo>
                      <a:pt x="59" y="10"/>
                    </a:lnTo>
                    <a:lnTo>
                      <a:pt x="37" y="23"/>
                    </a:lnTo>
                    <a:lnTo>
                      <a:pt x="15" y="43"/>
                    </a:lnTo>
                    <a:lnTo>
                      <a:pt x="2" y="39"/>
                    </a:lnTo>
                    <a:lnTo>
                      <a:pt x="0" y="15"/>
                    </a:lnTo>
                    <a:lnTo>
                      <a:pt x="0" y="7"/>
                    </a:lnTo>
                    <a:lnTo>
                      <a:pt x="36" y="0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00cc99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6" name=""/>
            <p:cNvSpPr/>
            <p:nvPr/>
          </p:nvSpPr>
          <p:spPr>
            <a:xfrm>
              <a:off x="1147680" y="1835280"/>
              <a:ext cx="139680" cy="1681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2084400" y="1976400"/>
              <a:ext cx="138240" cy="1684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592280" y="1860480"/>
              <a:ext cx="138240" cy="1684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1668600" y="2651040"/>
              <a:ext cx="139680" cy="1684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668600" y="2903400"/>
              <a:ext cx="139680" cy="1684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30360" y="3240000"/>
              <a:ext cx="139680" cy="1684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760320" y="2651040"/>
              <a:ext cx="407880" cy="307080"/>
            </a:xfrm>
            <a:prstGeom prst="rect">
              <a:avLst/>
            </a:pr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F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733320" y="1716120"/>
              <a:ext cx="407880" cy="307080"/>
            </a:xfrm>
            <a:prstGeom prst="rect">
              <a:avLst/>
            </a:pr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B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737360" y="2224080"/>
              <a:ext cx="663840" cy="307080"/>
            </a:xfrm>
            <a:prstGeom prst="rect">
              <a:avLst/>
            </a:pr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DTA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761840" y="3240000"/>
              <a:ext cx="358920" cy="307080"/>
            </a:xfrm>
            <a:prstGeom prst="rect">
              <a:avLst/>
            </a:pr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T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254240" y="2398680"/>
              <a:ext cx="137880" cy="1684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792000" y="1486080"/>
              <a:ext cx="140040" cy="1695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132120" y="1312920"/>
              <a:ext cx="807120" cy="307080"/>
            </a:xfrm>
            <a:prstGeom prst="rect">
              <a:avLst/>
            </a:pr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ja-JP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Eirec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1195560" y="2043000"/>
              <a:ext cx="561960" cy="307080"/>
            </a:xfrm>
            <a:prstGeom prst="rect">
              <a:avLst/>
            </a:pr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KP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0" name=""/>
            <p:cNvGrpSpPr/>
            <p:nvPr/>
          </p:nvGrpSpPr>
          <p:grpSpPr>
            <a:xfrm>
              <a:off x="1935000" y="1179360"/>
              <a:ext cx="810720" cy="550080"/>
              <a:chOff x="1935000" y="1179360"/>
              <a:chExt cx="810720" cy="550080"/>
            </a:xfrm>
          </p:grpSpPr>
          <p:sp>
            <p:nvSpPr>
              <p:cNvPr id="1281" name=""/>
              <p:cNvSpPr/>
              <p:nvPr/>
            </p:nvSpPr>
            <p:spPr>
              <a:xfrm>
                <a:off x="2019600" y="1244520"/>
                <a:ext cx="520920" cy="484920"/>
              </a:xfrm>
              <a:custGeom>
                <a:avLst/>
                <a:gdLst/>
                <a:ahLst/>
                <a:rect l="l" t="t" r="r" b="b"/>
                <a:pathLst>
                  <a:path w="466" h="332">
                    <a:moveTo>
                      <a:pt x="348" y="110"/>
                    </a:moveTo>
                    <a:lnTo>
                      <a:pt x="308" y="128"/>
                    </a:lnTo>
                    <a:lnTo>
                      <a:pt x="282" y="138"/>
                    </a:lnTo>
                    <a:lnTo>
                      <a:pt x="268" y="144"/>
                    </a:lnTo>
                    <a:lnTo>
                      <a:pt x="255" y="145"/>
                    </a:lnTo>
                    <a:lnTo>
                      <a:pt x="242" y="155"/>
                    </a:lnTo>
                    <a:lnTo>
                      <a:pt x="233" y="159"/>
                    </a:lnTo>
                    <a:lnTo>
                      <a:pt x="217" y="174"/>
                    </a:lnTo>
                    <a:lnTo>
                      <a:pt x="196" y="200"/>
                    </a:lnTo>
                    <a:lnTo>
                      <a:pt x="206" y="210"/>
                    </a:lnTo>
                    <a:lnTo>
                      <a:pt x="206" y="221"/>
                    </a:lnTo>
                    <a:lnTo>
                      <a:pt x="177" y="231"/>
                    </a:lnTo>
                    <a:lnTo>
                      <a:pt x="177" y="224"/>
                    </a:lnTo>
                    <a:lnTo>
                      <a:pt x="174" y="227"/>
                    </a:lnTo>
                    <a:lnTo>
                      <a:pt x="147" y="230"/>
                    </a:lnTo>
                    <a:lnTo>
                      <a:pt x="189" y="233"/>
                    </a:lnTo>
                    <a:lnTo>
                      <a:pt x="167" y="243"/>
                    </a:lnTo>
                    <a:lnTo>
                      <a:pt x="167" y="239"/>
                    </a:lnTo>
                    <a:lnTo>
                      <a:pt x="144" y="250"/>
                    </a:lnTo>
                    <a:lnTo>
                      <a:pt x="135" y="250"/>
                    </a:lnTo>
                    <a:lnTo>
                      <a:pt x="137" y="256"/>
                    </a:lnTo>
                    <a:lnTo>
                      <a:pt x="135" y="256"/>
                    </a:lnTo>
                    <a:lnTo>
                      <a:pt x="124" y="266"/>
                    </a:lnTo>
                    <a:lnTo>
                      <a:pt x="122" y="273"/>
                    </a:lnTo>
                    <a:lnTo>
                      <a:pt x="121" y="272"/>
                    </a:lnTo>
                    <a:lnTo>
                      <a:pt x="98" y="292"/>
                    </a:lnTo>
                    <a:lnTo>
                      <a:pt x="76" y="312"/>
                    </a:lnTo>
                    <a:lnTo>
                      <a:pt x="37" y="318"/>
                    </a:lnTo>
                    <a:lnTo>
                      <a:pt x="21" y="332"/>
                    </a:lnTo>
                    <a:lnTo>
                      <a:pt x="0" y="331"/>
                    </a:lnTo>
                    <a:lnTo>
                      <a:pt x="11" y="311"/>
                    </a:lnTo>
                    <a:lnTo>
                      <a:pt x="21" y="295"/>
                    </a:lnTo>
                    <a:lnTo>
                      <a:pt x="29" y="267"/>
                    </a:lnTo>
                    <a:lnTo>
                      <a:pt x="37" y="260"/>
                    </a:lnTo>
                    <a:lnTo>
                      <a:pt x="33" y="259"/>
                    </a:lnTo>
                    <a:lnTo>
                      <a:pt x="32" y="259"/>
                    </a:lnTo>
                    <a:lnTo>
                      <a:pt x="39" y="244"/>
                    </a:lnTo>
                    <a:lnTo>
                      <a:pt x="46" y="241"/>
                    </a:lnTo>
                    <a:lnTo>
                      <a:pt x="79" y="218"/>
                    </a:lnTo>
                    <a:lnTo>
                      <a:pt x="104" y="197"/>
                    </a:lnTo>
                    <a:lnTo>
                      <a:pt x="111" y="190"/>
                    </a:lnTo>
                    <a:lnTo>
                      <a:pt x="127" y="182"/>
                    </a:lnTo>
                    <a:lnTo>
                      <a:pt x="121" y="174"/>
                    </a:lnTo>
                    <a:lnTo>
                      <a:pt x="144" y="151"/>
                    </a:lnTo>
                    <a:lnTo>
                      <a:pt x="168" y="126"/>
                    </a:lnTo>
                    <a:lnTo>
                      <a:pt x="196" y="116"/>
                    </a:lnTo>
                    <a:lnTo>
                      <a:pt x="213" y="115"/>
                    </a:lnTo>
                    <a:lnTo>
                      <a:pt x="214" y="105"/>
                    </a:lnTo>
                    <a:lnTo>
                      <a:pt x="261" y="74"/>
                    </a:lnTo>
                    <a:lnTo>
                      <a:pt x="265" y="67"/>
                    </a:lnTo>
                    <a:lnTo>
                      <a:pt x="286" y="64"/>
                    </a:lnTo>
                    <a:lnTo>
                      <a:pt x="310" y="50"/>
                    </a:lnTo>
                    <a:lnTo>
                      <a:pt x="347" y="27"/>
                    </a:lnTo>
                    <a:lnTo>
                      <a:pt x="377" y="21"/>
                    </a:lnTo>
                    <a:lnTo>
                      <a:pt x="389" y="12"/>
                    </a:lnTo>
                    <a:lnTo>
                      <a:pt x="419" y="12"/>
                    </a:lnTo>
                    <a:lnTo>
                      <a:pt x="432" y="0"/>
                    </a:lnTo>
                    <a:lnTo>
                      <a:pt x="441" y="0"/>
                    </a:lnTo>
                    <a:lnTo>
                      <a:pt x="466" y="21"/>
                    </a:lnTo>
                    <a:lnTo>
                      <a:pt x="449" y="53"/>
                    </a:lnTo>
                    <a:lnTo>
                      <a:pt x="432" y="76"/>
                    </a:lnTo>
                    <a:lnTo>
                      <a:pt x="407" y="74"/>
                    </a:lnTo>
                    <a:lnTo>
                      <a:pt x="397" y="77"/>
                    </a:lnTo>
                    <a:lnTo>
                      <a:pt x="392" y="82"/>
                    </a:lnTo>
                    <a:lnTo>
                      <a:pt x="389" y="80"/>
                    </a:lnTo>
                    <a:lnTo>
                      <a:pt x="371" y="87"/>
                    </a:lnTo>
                    <a:lnTo>
                      <a:pt x="354" y="99"/>
                    </a:lnTo>
                    <a:lnTo>
                      <a:pt x="348" y="11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1935000" y="1179360"/>
                <a:ext cx="810720" cy="449280"/>
              </a:xfrm>
              <a:custGeom>
                <a:avLst/>
                <a:gdLst/>
                <a:ahLst/>
                <a:rect l="l" t="t" r="r" b="b"/>
                <a:pathLst>
                  <a:path w="723" h="308">
                    <a:moveTo>
                      <a:pt x="526" y="32"/>
                    </a:moveTo>
                    <a:lnTo>
                      <a:pt x="526" y="33"/>
                    </a:lnTo>
                    <a:lnTo>
                      <a:pt x="511" y="39"/>
                    </a:lnTo>
                    <a:lnTo>
                      <a:pt x="527" y="24"/>
                    </a:lnTo>
                    <a:lnTo>
                      <a:pt x="516" y="33"/>
                    </a:lnTo>
                    <a:lnTo>
                      <a:pt x="508" y="34"/>
                    </a:lnTo>
                    <a:lnTo>
                      <a:pt x="514" y="27"/>
                    </a:lnTo>
                    <a:lnTo>
                      <a:pt x="503" y="33"/>
                    </a:lnTo>
                    <a:lnTo>
                      <a:pt x="500" y="39"/>
                    </a:lnTo>
                    <a:lnTo>
                      <a:pt x="488" y="36"/>
                    </a:lnTo>
                    <a:lnTo>
                      <a:pt x="487" y="40"/>
                    </a:lnTo>
                    <a:lnTo>
                      <a:pt x="481" y="37"/>
                    </a:lnTo>
                    <a:lnTo>
                      <a:pt x="469" y="43"/>
                    </a:lnTo>
                    <a:lnTo>
                      <a:pt x="459" y="52"/>
                    </a:lnTo>
                    <a:lnTo>
                      <a:pt x="455" y="53"/>
                    </a:lnTo>
                    <a:lnTo>
                      <a:pt x="431" y="57"/>
                    </a:lnTo>
                    <a:lnTo>
                      <a:pt x="448" y="60"/>
                    </a:lnTo>
                    <a:lnTo>
                      <a:pt x="439" y="65"/>
                    </a:lnTo>
                    <a:lnTo>
                      <a:pt x="428" y="63"/>
                    </a:lnTo>
                    <a:lnTo>
                      <a:pt x="423" y="65"/>
                    </a:lnTo>
                    <a:lnTo>
                      <a:pt x="415" y="69"/>
                    </a:lnTo>
                    <a:lnTo>
                      <a:pt x="412" y="72"/>
                    </a:lnTo>
                    <a:lnTo>
                      <a:pt x="412" y="66"/>
                    </a:lnTo>
                    <a:lnTo>
                      <a:pt x="405" y="69"/>
                    </a:lnTo>
                    <a:lnTo>
                      <a:pt x="382" y="78"/>
                    </a:lnTo>
                    <a:lnTo>
                      <a:pt x="400" y="76"/>
                    </a:lnTo>
                    <a:lnTo>
                      <a:pt x="392" y="79"/>
                    </a:lnTo>
                    <a:lnTo>
                      <a:pt x="390" y="82"/>
                    </a:lnTo>
                    <a:lnTo>
                      <a:pt x="389" y="83"/>
                    </a:lnTo>
                    <a:lnTo>
                      <a:pt x="377" y="83"/>
                    </a:lnTo>
                    <a:lnTo>
                      <a:pt x="372" y="88"/>
                    </a:lnTo>
                    <a:lnTo>
                      <a:pt x="380" y="91"/>
                    </a:lnTo>
                    <a:lnTo>
                      <a:pt x="363" y="92"/>
                    </a:lnTo>
                    <a:lnTo>
                      <a:pt x="344" y="96"/>
                    </a:lnTo>
                    <a:lnTo>
                      <a:pt x="328" y="104"/>
                    </a:lnTo>
                    <a:lnTo>
                      <a:pt x="318" y="108"/>
                    </a:lnTo>
                    <a:lnTo>
                      <a:pt x="321" y="109"/>
                    </a:lnTo>
                    <a:lnTo>
                      <a:pt x="331" y="111"/>
                    </a:lnTo>
                    <a:lnTo>
                      <a:pt x="308" y="117"/>
                    </a:lnTo>
                    <a:lnTo>
                      <a:pt x="295" y="122"/>
                    </a:lnTo>
                    <a:lnTo>
                      <a:pt x="289" y="128"/>
                    </a:lnTo>
                    <a:lnTo>
                      <a:pt x="285" y="132"/>
                    </a:lnTo>
                    <a:lnTo>
                      <a:pt x="287" y="134"/>
                    </a:lnTo>
                    <a:lnTo>
                      <a:pt x="258" y="142"/>
                    </a:lnTo>
                    <a:lnTo>
                      <a:pt x="256" y="144"/>
                    </a:lnTo>
                    <a:lnTo>
                      <a:pt x="266" y="141"/>
                    </a:lnTo>
                    <a:lnTo>
                      <a:pt x="253" y="148"/>
                    </a:lnTo>
                    <a:lnTo>
                      <a:pt x="242" y="151"/>
                    </a:lnTo>
                    <a:lnTo>
                      <a:pt x="232" y="154"/>
                    </a:lnTo>
                    <a:lnTo>
                      <a:pt x="210" y="164"/>
                    </a:lnTo>
                    <a:lnTo>
                      <a:pt x="199" y="170"/>
                    </a:lnTo>
                    <a:lnTo>
                      <a:pt x="203" y="174"/>
                    </a:lnTo>
                    <a:lnTo>
                      <a:pt x="220" y="167"/>
                    </a:lnTo>
                    <a:lnTo>
                      <a:pt x="230" y="164"/>
                    </a:lnTo>
                    <a:lnTo>
                      <a:pt x="223" y="171"/>
                    </a:lnTo>
                    <a:lnTo>
                      <a:pt x="202" y="177"/>
                    </a:lnTo>
                    <a:lnTo>
                      <a:pt x="194" y="177"/>
                    </a:lnTo>
                    <a:lnTo>
                      <a:pt x="183" y="176"/>
                    </a:lnTo>
                    <a:lnTo>
                      <a:pt x="179" y="177"/>
                    </a:lnTo>
                    <a:lnTo>
                      <a:pt x="164" y="183"/>
                    </a:lnTo>
                    <a:lnTo>
                      <a:pt x="154" y="187"/>
                    </a:lnTo>
                    <a:lnTo>
                      <a:pt x="153" y="190"/>
                    </a:lnTo>
                    <a:lnTo>
                      <a:pt x="150" y="189"/>
                    </a:lnTo>
                    <a:lnTo>
                      <a:pt x="150" y="194"/>
                    </a:lnTo>
                    <a:lnTo>
                      <a:pt x="131" y="189"/>
                    </a:lnTo>
                    <a:lnTo>
                      <a:pt x="122" y="194"/>
                    </a:lnTo>
                    <a:lnTo>
                      <a:pt x="131" y="194"/>
                    </a:lnTo>
                    <a:lnTo>
                      <a:pt x="138" y="194"/>
                    </a:lnTo>
                    <a:lnTo>
                      <a:pt x="127" y="197"/>
                    </a:lnTo>
                    <a:lnTo>
                      <a:pt x="108" y="200"/>
                    </a:lnTo>
                    <a:lnTo>
                      <a:pt x="114" y="206"/>
                    </a:lnTo>
                    <a:lnTo>
                      <a:pt x="111" y="207"/>
                    </a:lnTo>
                    <a:lnTo>
                      <a:pt x="105" y="203"/>
                    </a:lnTo>
                    <a:lnTo>
                      <a:pt x="102" y="206"/>
                    </a:lnTo>
                    <a:lnTo>
                      <a:pt x="91" y="207"/>
                    </a:lnTo>
                    <a:lnTo>
                      <a:pt x="91" y="210"/>
                    </a:lnTo>
                    <a:lnTo>
                      <a:pt x="81" y="210"/>
                    </a:lnTo>
                    <a:lnTo>
                      <a:pt x="75" y="210"/>
                    </a:lnTo>
                    <a:lnTo>
                      <a:pt x="69" y="214"/>
                    </a:lnTo>
                    <a:lnTo>
                      <a:pt x="92" y="216"/>
                    </a:lnTo>
                    <a:lnTo>
                      <a:pt x="65" y="219"/>
                    </a:lnTo>
                    <a:lnTo>
                      <a:pt x="66" y="226"/>
                    </a:lnTo>
                    <a:lnTo>
                      <a:pt x="58" y="227"/>
                    </a:lnTo>
                    <a:lnTo>
                      <a:pt x="60" y="227"/>
                    </a:lnTo>
                    <a:lnTo>
                      <a:pt x="50" y="233"/>
                    </a:lnTo>
                    <a:lnTo>
                      <a:pt x="81" y="230"/>
                    </a:lnTo>
                    <a:lnTo>
                      <a:pt x="94" y="229"/>
                    </a:lnTo>
                    <a:lnTo>
                      <a:pt x="98" y="227"/>
                    </a:lnTo>
                    <a:lnTo>
                      <a:pt x="92" y="235"/>
                    </a:lnTo>
                    <a:lnTo>
                      <a:pt x="84" y="238"/>
                    </a:lnTo>
                    <a:lnTo>
                      <a:pt x="72" y="235"/>
                    </a:lnTo>
                    <a:lnTo>
                      <a:pt x="45" y="238"/>
                    </a:lnTo>
                    <a:lnTo>
                      <a:pt x="45" y="242"/>
                    </a:lnTo>
                    <a:lnTo>
                      <a:pt x="43" y="243"/>
                    </a:lnTo>
                    <a:lnTo>
                      <a:pt x="39" y="243"/>
                    </a:lnTo>
                    <a:lnTo>
                      <a:pt x="49" y="245"/>
                    </a:lnTo>
                    <a:lnTo>
                      <a:pt x="40" y="250"/>
                    </a:lnTo>
                    <a:lnTo>
                      <a:pt x="29" y="256"/>
                    </a:lnTo>
                    <a:lnTo>
                      <a:pt x="39" y="255"/>
                    </a:lnTo>
                    <a:lnTo>
                      <a:pt x="37" y="261"/>
                    </a:lnTo>
                    <a:lnTo>
                      <a:pt x="56" y="250"/>
                    </a:lnTo>
                    <a:lnTo>
                      <a:pt x="66" y="249"/>
                    </a:lnTo>
                    <a:lnTo>
                      <a:pt x="52" y="258"/>
                    </a:lnTo>
                    <a:lnTo>
                      <a:pt x="56" y="252"/>
                    </a:lnTo>
                    <a:lnTo>
                      <a:pt x="33" y="266"/>
                    </a:lnTo>
                    <a:lnTo>
                      <a:pt x="35" y="266"/>
                    </a:lnTo>
                    <a:lnTo>
                      <a:pt x="20" y="271"/>
                    </a:lnTo>
                    <a:lnTo>
                      <a:pt x="13" y="278"/>
                    </a:lnTo>
                    <a:lnTo>
                      <a:pt x="24" y="275"/>
                    </a:lnTo>
                    <a:lnTo>
                      <a:pt x="33" y="274"/>
                    </a:lnTo>
                    <a:lnTo>
                      <a:pt x="27" y="279"/>
                    </a:lnTo>
                    <a:lnTo>
                      <a:pt x="20" y="286"/>
                    </a:lnTo>
                    <a:lnTo>
                      <a:pt x="10" y="286"/>
                    </a:lnTo>
                    <a:lnTo>
                      <a:pt x="0" y="299"/>
                    </a:lnTo>
                    <a:lnTo>
                      <a:pt x="10" y="307"/>
                    </a:lnTo>
                    <a:lnTo>
                      <a:pt x="35" y="308"/>
                    </a:lnTo>
                    <a:lnTo>
                      <a:pt x="88" y="284"/>
                    </a:lnTo>
                    <a:lnTo>
                      <a:pt x="102" y="284"/>
                    </a:lnTo>
                    <a:lnTo>
                      <a:pt x="117" y="269"/>
                    </a:lnTo>
                    <a:lnTo>
                      <a:pt x="127" y="265"/>
                    </a:lnTo>
                    <a:lnTo>
                      <a:pt x="117" y="281"/>
                    </a:lnTo>
                    <a:lnTo>
                      <a:pt x="121" y="286"/>
                    </a:lnTo>
                    <a:lnTo>
                      <a:pt x="154" y="263"/>
                    </a:lnTo>
                    <a:lnTo>
                      <a:pt x="179" y="242"/>
                    </a:lnTo>
                    <a:lnTo>
                      <a:pt x="186" y="235"/>
                    </a:lnTo>
                    <a:lnTo>
                      <a:pt x="202" y="227"/>
                    </a:lnTo>
                    <a:lnTo>
                      <a:pt x="196" y="219"/>
                    </a:lnTo>
                    <a:lnTo>
                      <a:pt x="219" y="196"/>
                    </a:lnTo>
                    <a:lnTo>
                      <a:pt x="243" y="171"/>
                    </a:lnTo>
                    <a:lnTo>
                      <a:pt x="271" y="161"/>
                    </a:lnTo>
                    <a:lnTo>
                      <a:pt x="288" y="160"/>
                    </a:lnTo>
                    <a:lnTo>
                      <a:pt x="289" y="150"/>
                    </a:lnTo>
                    <a:lnTo>
                      <a:pt x="336" y="119"/>
                    </a:lnTo>
                    <a:lnTo>
                      <a:pt x="340" y="112"/>
                    </a:lnTo>
                    <a:lnTo>
                      <a:pt x="361" y="109"/>
                    </a:lnTo>
                    <a:lnTo>
                      <a:pt x="385" y="95"/>
                    </a:lnTo>
                    <a:lnTo>
                      <a:pt x="422" y="72"/>
                    </a:lnTo>
                    <a:lnTo>
                      <a:pt x="452" y="66"/>
                    </a:lnTo>
                    <a:lnTo>
                      <a:pt x="464" y="57"/>
                    </a:lnTo>
                    <a:lnTo>
                      <a:pt x="494" y="57"/>
                    </a:lnTo>
                    <a:lnTo>
                      <a:pt x="507" y="45"/>
                    </a:lnTo>
                    <a:lnTo>
                      <a:pt x="516" y="45"/>
                    </a:lnTo>
                    <a:lnTo>
                      <a:pt x="534" y="39"/>
                    </a:lnTo>
                    <a:lnTo>
                      <a:pt x="541" y="50"/>
                    </a:lnTo>
                    <a:lnTo>
                      <a:pt x="556" y="53"/>
                    </a:lnTo>
                    <a:lnTo>
                      <a:pt x="579" y="55"/>
                    </a:lnTo>
                    <a:lnTo>
                      <a:pt x="595" y="49"/>
                    </a:lnTo>
                    <a:lnTo>
                      <a:pt x="621" y="32"/>
                    </a:lnTo>
                    <a:lnTo>
                      <a:pt x="657" y="23"/>
                    </a:lnTo>
                    <a:lnTo>
                      <a:pt x="677" y="30"/>
                    </a:lnTo>
                    <a:lnTo>
                      <a:pt x="660" y="45"/>
                    </a:lnTo>
                    <a:lnTo>
                      <a:pt x="690" y="34"/>
                    </a:lnTo>
                    <a:lnTo>
                      <a:pt x="703" y="34"/>
                    </a:lnTo>
                    <a:lnTo>
                      <a:pt x="709" y="27"/>
                    </a:lnTo>
                    <a:lnTo>
                      <a:pt x="700" y="27"/>
                    </a:lnTo>
                    <a:lnTo>
                      <a:pt x="688" y="29"/>
                    </a:lnTo>
                    <a:lnTo>
                      <a:pt x="684" y="20"/>
                    </a:lnTo>
                    <a:lnTo>
                      <a:pt x="723" y="17"/>
                    </a:lnTo>
                    <a:lnTo>
                      <a:pt x="717" y="9"/>
                    </a:lnTo>
                    <a:lnTo>
                      <a:pt x="704" y="6"/>
                    </a:lnTo>
                    <a:lnTo>
                      <a:pt x="687" y="9"/>
                    </a:lnTo>
                    <a:lnTo>
                      <a:pt x="670" y="20"/>
                    </a:lnTo>
                    <a:lnTo>
                      <a:pt x="678" y="13"/>
                    </a:lnTo>
                    <a:lnTo>
                      <a:pt x="681" y="9"/>
                    </a:lnTo>
                    <a:lnTo>
                      <a:pt x="681" y="7"/>
                    </a:lnTo>
                    <a:lnTo>
                      <a:pt x="688" y="0"/>
                    </a:lnTo>
                    <a:lnTo>
                      <a:pt x="673" y="4"/>
                    </a:lnTo>
                    <a:lnTo>
                      <a:pt x="647" y="16"/>
                    </a:lnTo>
                    <a:lnTo>
                      <a:pt x="655" y="4"/>
                    </a:lnTo>
                    <a:lnTo>
                      <a:pt x="614" y="21"/>
                    </a:lnTo>
                    <a:lnTo>
                      <a:pt x="641" y="7"/>
                    </a:lnTo>
                    <a:lnTo>
                      <a:pt x="638" y="6"/>
                    </a:lnTo>
                    <a:lnTo>
                      <a:pt x="625" y="4"/>
                    </a:lnTo>
                    <a:lnTo>
                      <a:pt x="619" y="9"/>
                    </a:lnTo>
                    <a:lnTo>
                      <a:pt x="583" y="21"/>
                    </a:lnTo>
                    <a:lnTo>
                      <a:pt x="570" y="21"/>
                    </a:lnTo>
                    <a:lnTo>
                      <a:pt x="576" y="19"/>
                    </a:lnTo>
                    <a:lnTo>
                      <a:pt x="554" y="20"/>
                    </a:lnTo>
                    <a:lnTo>
                      <a:pt x="562" y="23"/>
                    </a:lnTo>
                    <a:lnTo>
                      <a:pt x="554" y="27"/>
                    </a:lnTo>
                    <a:lnTo>
                      <a:pt x="544" y="27"/>
                    </a:lnTo>
                    <a:lnTo>
                      <a:pt x="526" y="32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3" name=""/>
            <p:cNvSpPr/>
            <p:nvPr/>
          </p:nvSpPr>
          <p:spPr>
            <a:xfrm>
              <a:off x="2263680" y="1344600"/>
              <a:ext cx="558720" cy="307080"/>
            </a:xfrm>
            <a:prstGeom prst="rect">
              <a:avLst/>
            </a:pr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ja-JP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Tel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2133720" y="4208400"/>
              <a:ext cx="41040" cy="30240"/>
            </a:xfrm>
            <a:custGeom>
              <a:avLst/>
              <a:gdLst/>
              <a:ahLst/>
              <a:rect l="l" t="t" r="r" b="b"/>
              <a:pathLst>
                <a:path w="37" h="26">
                  <a:moveTo>
                    <a:pt x="37" y="0"/>
                  </a:moveTo>
                  <a:lnTo>
                    <a:pt x="19" y="0"/>
                  </a:lnTo>
                  <a:lnTo>
                    <a:pt x="0" y="18"/>
                  </a:lnTo>
                  <a:lnTo>
                    <a:pt x="10" y="26"/>
                  </a:lnTo>
                  <a:lnTo>
                    <a:pt x="27" y="2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cc9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171880" y="4184640"/>
              <a:ext cx="137880" cy="1681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347920" y="4021200"/>
              <a:ext cx="717480" cy="307080"/>
            </a:xfrm>
            <a:prstGeom prst="rect">
              <a:avLst/>
            </a:pr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Mal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87840" y="3495600"/>
              <a:ext cx="965520" cy="307080"/>
            </a:xfrm>
            <a:prstGeom prst="rect">
              <a:avLst/>
            </a:pr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ja-JP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Telefonic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V="1">
              <a:off x="8691480" y="1817280"/>
              <a:ext cx="0" cy="78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8605800" y="2600280"/>
              <a:ext cx="150840" cy="2048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8348760" y="3152880"/>
              <a:ext cx="1440" cy="3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912680" y="2755800"/>
              <a:ext cx="936720" cy="307080"/>
            </a:xfrm>
            <a:prstGeom prst="rect">
              <a:avLst/>
            </a:pr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ja-JP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wissC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8032680" y="3322800"/>
              <a:ext cx="3240" cy="58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"/>
          <p:cNvSpPr/>
          <p:nvPr/>
        </p:nvSpPr>
        <p:spPr>
          <a:xfrm>
            <a:off x="434880" y="63360"/>
            <a:ext cx="825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New G-PON Standardization in ITU-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863640" y="1027080"/>
            <a:ext cx="7007040" cy="906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HG丸ｺﾞｼｯｸM-PRO"/>
              </a:rPr>
              <a:t>GSR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HG丸ｺﾞｼｯｸM-PRO"/>
              </a:rPr>
              <a:t> (G-PON service requiremen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Target Date :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HG丸ｺﾞｼｯｸM-PRO"/>
              </a:rPr>
              <a:t>1 / 2003 to be cons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 flipH="1">
            <a:off x="1450800" y="1933560"/>
            <a:ext cx="966960" cy="895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434880" y="2847960"/>
            <a:ext cx="8275680" cy="10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HG丸ｺﾞｼｯｸM-PRO"/>
              </a:rPr>
              <a:t>GTC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HG丸ｺﾞｼｯｸM-PRO"/>
              </a:rPr>
              <a:t> (G-PON Transmission Convergence lay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Target Date : 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HG丸ｺﾞｼｯｸM-PRO"/>
              </a:rPr>
              <a:t>10 / 2003 to be cons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444600" y="3898800"/>
            <a:ext cx="8256600" cy="11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HG丸ｺﾞｼｯｸM-PRO"/>
              </a:rPr>
              <a:t>GPM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HG丸ｺﾞｼｯｸM-PRO"/>
              </a:rPr>
              <a:t> (G-PON Physical Medium Dependent lay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Target Date :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HG丸ｺﾞｼｯｸM-PRO"/>
              </a:rPr>
              <a:t>1 / 2003 to be cons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2544840" y="1952640"/>
            <a:ext cx="585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- Full services and Ethernet supp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- Same ODN requirements as B-P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676440" y="5159520"/>
            <a:ext cx="7770600" cy="119124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Maximum commonality in the lower layer specifications between ITU-T and IEEE is expected to reduce the G-PON components co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"/>
          <p:cNvSpPr/>
          <p:nvPr/>
        </p:nvSpPr>
        <p:spPr>
          <a:xfrm>
            <a:off x="903240" y="0"/>
            <a:ext cx="73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Service Requirements for G-P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1" name=""/>
          <p:cNvGraphicFramePr/>
          <p:nvPr/>
        </p:nvGraphicFramePr>
        <p:xfrm>
          <a:off x="165240" y="936720"/>
          <a:ext cx="8813520" cy="5186160"/>
        </p:xfrm>
        <a:graphic>
          <a:graphicData uri="http://schemas.openxmlformats.org/drawingml/2006/table">
            <a:tbl>
              <a:tblPr/>
              <a:tblGrid>
                <a:gridCol w="2725560"/>
                <a:gridCol w="60879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d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 descrip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dff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ces and QoS performan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 Servi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.g. 10/100Base-T, Voice, Leased lines, 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 ra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5Gbit/s symmetric and higher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ysical rea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 20 km or Max 10 k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cal rea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 60 km (for ranging protocol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nch numb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 64 in physical lay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 128 in TC lay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33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velength alloc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wnstream: 1480 – 1500n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stream:      1260 – 1360n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78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N clas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, B and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Existing ODN requirements 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02" name=""/>
          <p:cNvSpPr/>
          <p:nvPr/>
        </p:nvSpPr>
        <p:spPr>
          <a:xfrm>
            <a:off x="6823080" y="4589640"/>
            <a:ext cx="20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Video overlay in the downstream is consid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6781680" y="4549680"/>
            <a:ext cx="0" cy="89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"/>
          <p:cNvSpPr/>
          <p:nvPr/>
        </p:nvSpPr>
        <p:spPr>
          <a:xfrm>
            <a:off x="284040" y="0"/>
            <a:ext cx="857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G-PON TC Layer Op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1317600" y="2048040"/>
            <a:ext cx="1795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HG丸ｺﾞｼｯｸM-PRO"/>
              </a:rPr>
              <a:t>ATM fr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HG丸ｺﾞｼｯｸM-PRO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3713040" y="2048040"/>
            <a:ext cx="23162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HG丸ｺﾞｼｯｸM-PRO"/>
              </a:rPr>
              <a:t>Generic fr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HG丸ｺﾞｼｯｸM-PRO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508800" y="2048040"/>
            <a:ext cx="2395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HG丸ｺﾞｼｯｸM-PRO"/>
              </a:rPr>
              <a:t>Ethernet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HG丸ｺﾞｼｯｸM-PRO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844560" y="5083200"/>
            <a:ext cx="1195200" cy="3254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AAL1/AAL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2181240" y="5083200"/>
            <a:ext cx="1195200" cy="3254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AAL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2181240" y="3719520"/>
            <a:ext cx="1195200" cy="324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TCP+UDP 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2181240" y="4173480"/>
            <a:ext cx="1195200" cy="325440"/>
          </a:xfrm>
          <a:prstGeom prst="roundRect">
            <a:avLst>
              <a:gd name="adj" fmla="val 16667"/>
            </a:avLst>
          </a:prstGeom>
          <a:solidFill>
            <a:srgbClr val="bfedff"/>
          </a:soli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2181240" y="4629240"/>
            <a:ext cx="1195200" cy="3254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Eth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41120" y="4629240"/>
            <a:ext cx="633600" cy="1235160"/>
          </a:xfrm>
          <a:prstGeom prst="rect">
            <a:avLst/>
          </a:prstGeom>
          <a:solidFill>
            <a:srgbClr val="ffffcc"/>
          </a:soli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Lay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141120" y="4173480"/>
            <a:ext cx="633600" cy="390600"/>
          </a:xfrm>
          <a:prstGeom prst="rect">
            <a:avLst/>
          </a:prstGeom>
          <a:solidFill>
            <a:srgbClr val="ffffcc"/>
          </a:soli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Layer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141120" y="3719520"/>
            <a:ext cx="633600" cy="388800"/>
          </a:xfrm>
          <a:prstGeom prst="rect">
            <a:avLst/>
          </a:prstGeom>
          <a:solidFill>
            <a:srgbClr val="ffffcc"/>
          </a:soli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Layer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141120" y="2549520"/>
            <a:ext cx="633600" cy="1104840"/>
          </a:xfrm>
          <a:prstGeom prst="rect">
            <a:avLst/>
          </a:prstGeom>
          <a:solidFill>
            <a:srgbClr val="ffffcc"/>
          </a:soli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Layer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or m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141120" y="5929200"/>
            <a:ext cx="633600" cy="470160"/>
          </a:xfrm>
          <a:prstGeom prst="rect">
            <a:avLst/>
          </a:prstGeom>
          <a:solidFill>
            <a:srgbClr val="ffffcc"/>
          </a:soli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Lay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844560" y="5538960"/>
            <a:ext cx="2531880" cy="325440"/>
          </a:xfrm>
          <a:prstGeom prst="roundRect">
            <a:avLst>
              <a:gd name="adj" fmla="val 16667"/>
            </a:avLst>
          </a:prstGeom>
          <a:solidFill>
            <a:srgbClr val="fe9eac"/>
          </a:soli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ATM c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1096920" y="6122880"/>
            <a:ext cx="7332840" cy="3254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PON-PH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1197000" y="3263760"/>
            <a:ext cx="0" cy="1819440"/>
          </a:xfrm>
          <a:prstGeom prst="line">
            <a:avLst/>
          </a:prstGeom>
          <a:ln w="190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1828800" y="2809800"/>
            <a:ext cx="0" cy="2273400"/>
          </a:xfrm>
          <a:prstGeom prst="line">
            <a:avLst/>
          </a:prstGeom>
          <a:ln w="190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1969920" y="2940120"/>
            <a:ext cx="633600" cy="779400"/>
          </a:xfrm>
          <a:prstGeom prst="line">
            <a:avLst/>
          </a:prstGeom>
          <a:ln w="190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2533680" y="2940120"/>
            <a:ext cx="280800" cy="779400"/>
          </a:xfrm>
          <a:prstGeom prst="line">
            <a:avLst/>
          </a:prstGeom>
          <a:ln w="190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 flipH="1">
            <a:off x="3025800" y="3328920"/>
            <a:ext cx="139680" cy="390600"/>
          </a:xfrm>
          <a:prstGeom prst="line">
            <a:avLst/>
          </a:prstGeom>
          <a:ln w="190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2743200" y="4043520"/>
            <a:ext cx="0" cy="129960"/>
          </a:xfrm>
          <a:prstGeom prst="line">
            <a:avLst/>
          </a:prstGeom>
          <a:ln w="190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2743200" y="4498920"/>
            <a:ext cx="0" cy="130320"/>
          </a:xfrm>
          <a:prstGeom prst="line">
            <a:avLst/>
          </a:prstGeom>
          <a:ln w="190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743200" y="4954680"/>
            <a:ext cx="0" cy="128520"/>
          </a:xfrm>
          <a:prstGeom prst="line">
            <a:avLst/>
          </a:prstGeom>
          <a:ln w="190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2743200" y="5408640"/>
            <a:ext cx="0" cy="130320"/>
          </a:xfrm>
          <a:prstGeom prst="line">
            <a:avLst/>
          </a:prstGeom>
          <a:ln w="190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1415880" y="5864400"/>
            <a:ext cx="0" cy="258480"/>
          </a:xfrm>
          <a:prstGeom prst="line">
            <a:avLst/>
          </a:prstGeom>
          <a:ln w="190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1477800" y="5408640"/>
            <a:ext cx="0" cy="130320"/>
          </a:xfrm>
          <a:prstGeom prst="line">
            <a:avLst/>
          </a:prstGeom>
          <a:ln w="190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844560" y="3005280"/>
            <a:ext cx="774720" cy="388800"/>
          </a:xfrm>
          <a:prstGeom prst="ellipse">
            <a:avLst/>
          </a:prstGeom>
          <a:solidFill>
            <a:srgbClr val="ffffcc"/>
          </a:soli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T1/E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TD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1336680" y="2614680"/>
            <a:ext cx="774720" cy="390600"/>
          </a:xfrm>
          <a:prstGeom prst="ellipse">
            <a:avLst/>
          </a:prstGeom>
          <a:solidFill>
            <a:srgbClr val="ffffcc"/>
          </a:soli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PO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2743200" y="3005280"/>
            <a:ext cx="774720" cy="388800"/>
          </a:xfrm>
          <a:prstGeom prst="ellipse">
            <a:avLst/>
          </a:prstGeom>
          <a:solidFill>
            <a:srgbClr val="ffffcc"/>
          </a:soli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Vid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2181240" y="2614680"/>
            <a:ext cx="772920" cy="390600"/>
          </a:xfrm>
          <a:prstGeom prst="ellipse">
            <a:avLst/>
          </a:prstGeom>
          <a:solidFill>
            <a:srgbClr val="ffffcc"/>
          </a:soli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4924440" y="3719520"/>
            <a:ext cx="1195200" cy="324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TCP+UDP 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4924440" y="4173480"/>
            <a:ext cx="1195200" cy="325440"/>
          </a:xfrm>
          <a:prstGeom prst="roundRect">
            <a:avLst>
              <a:gd name="adj" fmla="val 16667"/>
            </a:avLst>
          </a:prstGeom>
          <a:solidFill>
            <a:srgbClr val="bfedff"/>
          </a:soli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4924440" y="4629240"/>
            <a:ext cx="1195200" cy="3254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Eth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3587760" y="5538960"/>
            <a:ext cx="2531880" cy="325440"/>
          </a:xfrm>
          <a:prstGeom prst="roundRect">
            <a:avLst>
              <a:gd name="adj" fmla="val 16667"/>
            </a:avLst>
          </a:prstGeom>
          <a:solidFill>
            <a:srgbClr val="fe9eac"/>
          </a:soli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Generic 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940200" y="3263760"/>
            <a:ext cx="0" cy="2275200"/>
          </a:xfrm>
          <a:prstGeom prst="line">
            <a:avLst/>
          </a:prstGeom>
          <a:ln w="190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4568760" y="2800440"/>
            <a:ext cx="0" cy="2728800"/>
          </a:xfrm>
          <a:prstGeom prst="line">
            <a:avLst/>
          </a:prstGeom>
          <a:ln w="190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4713120" y="2940120"/>
            <a:ext cx="633600" cy="779400"/>
          </a:xfrm>
          <a:prstGeom prst="line">
            <a:avLst/>
          </a:prstGeom>
          <a:ln w="190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5276880" y="2940120"/>
            <a:ext cx="280800" cy="779400"/>
          </a:xfrm>
          <a:prstGeom prst="line">
            <a:avLst/>
          </a:prstGeom>
          <a:ln w="190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 flipH="1">
            <a:off x="5769000" y="3328920"/>
            <a:ext cx="139680" cy="390600"/>
          </a:xfrm>
          <a:prstGeom prst="line">
            <a:avLst/>
          </a:prstGeom>
          <a:ln w="190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5487840" y="4043520"/>
            <a:ext cx="0" cy="129960"/>
          </a:xfrm>
          <a:prstGeom prst="line">
            <a:avLst/>
          </a:prstGeom>
          <a:ln w="190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5487840" y="4498920"/>
            <a:ext cx="0" cy="130320"/>
          </a:xfrm>
          <a:prstGeom prst="line">
            <a:avLst/>
          </a:prstGeom>
          <a:ln w="190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5487840" y="4954680"/>
            <a:ext cx="0" cy="584280"/>
          </a:xfrm>
          <a:prstGeom prst="line">
            <a:avLst/>
          </a:prstGeom>
          <a:ln w="190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230720" y="5864400"/>
            <a:ext cx="0" cy="258480"/>
          </a:xfrm>
          <a:prstGeom prst="line">
            <a:avLst/>
          </a:prstGeom>
          <a:ln w="190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3587760" y="3005280"/>
            <a:ext cx="774720" cy="388800"/>
          </a:xfrm>
          <a:prstGeom prst="ellipse">
            <a:avLst/>
          </a:prstGeom>
          <a:solidFill>
            <a:srgbClr val="ffffcc"/>
          </a:soli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T1/E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TD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4079880" y="2614680"/>
            <a:ext cx="774720" cy="390600"/>
          </a:xfrm>
          <a:prstGeom prst="ellipse">
            <a:avLst/>
          </a:prstGeom>
          <a:solidFill>
            <a:srgbClr val="ffffcc"/>
          </a:soli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PO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5487840" y="3005280"/>
            <a:ext cx="773280" cy="388800"/>
          </a:xfrm>
          <a:prstGeom prst="ellipse">
            <a:avLst/>
          </a:prstGeom>
          <a:solidFill>
            <a:srgbClr val="ffffcc"/>
          </a:soli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Vid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4924440" y="2614680"/>
            <a:ext cx="772920" cy="390600"/>
          </a:xfrm>
          <a:prstGeom prst="ellipse">
            <a:avLst/>
          </a:prstGeom>
          <a:solidFill>
            <a:srgbClr val="ffffcc"/>
          </a:soli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7667640" y="3719520"/>
            <a:ext cx="1195200" cy="324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TCP+UDP 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6330960" y="5538960"/>
            <a:ext cx="2531880" cy="325440"/>
          </a:xfrm>
          <a:prstGeom prst="roundRect">
            <a:avLst>
              <a:gd name="adj" fmla="val 16667"/>
            </a:avLst>
          </a:prstGeom>
          <a:solidFill>
            <a:srgbClr val="fe9eac"/>
          </a:soli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Ethernet 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6683400" y="3263760"/>
            <a:ext cx="0" cy="2275200"/>
          </a:xfrm>
          <a:prstGeom prst="line">
            <a:avLst/>
          </a:prstGeom>
          <a:ln w="19080">
            <a:solidFill>
              <a:srgbClr val="99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7456320" y="2940120"/>
            <a:ext cx="633600" cy="779400"/>
          </a:xfrm>
          <a:prstGeom prst="line">
            <a:avLst/>
          </a:prstGeom>
          <a:ln w="190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8020080" y="2940120"/>
            <a:ext cx="280800" cy="779400"/>
          </a:xfrm>
          <a:prstGeom prst="line">
            <a:avLst/>
          </a:prstGeom>
          <a:ln w="190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 flipH="1">
            <a:off x="8512200" y="3328920"/>
            <a:ext cx="139680" cy="390600"/>
          </a:xfrm>
          <a:prstGeom prst="line">
            <a:avLst/>
          </a:prstGeom>
          <a:ln w="190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8231040" y="4043520"/>
            <a:ext cx="0" cy="129960"/>
          </a:xfrm>
          <a:prstGeom prst="line">
            <a:avLst/>
          </a:prstGeom>
          <a:ln w="190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8231040" y="4433760"/>
            <a:ext cx="0" cy="1105200"/>
          </a:xfrm>
          <a:prstGeom prst="line">
            <a:avLst/>
          </a:prstGeom>
          <a:ln w="190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6711840" y="5864400"/>
            <a:ext cx="0" cy="258480"/>
          </a:xfrm>
          <a:prstGeom prst="line">
            <a:avLst/>
          </a:prstGeom>
          <a:ln w="190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6330960" y="3005280"/>
            <a:ext cx="774720" cy="388800"/>
          </a:xfrm>
          <a:prstGeom prst="ellipse">
            <a:avLst/>
          </a:prstGeom>
          <a:solidFill>
            <a:srgbClr val="ffffcc"/>
          </a:soli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T1/E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TD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8231040" y="3005280"/>
            <a:ext cx="773280" cy="388800"/>
          </a:xfrm>
          <a:prstGeom prst="ellipse">
            <a:avLst/>
          </a:prstGeom>
          <a:solidFill>
            <a:srgbClr val="ffffcc"/>
          </a:soli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Vid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7667640" y="2614680"/>
            <a:ext cx="774720" cy="390600"/>
          </a:xfrm>
          <a:prstGeom prst="ellipse">
            <a:avLst/>
          </a:prstGeom>
          <a:solidFill>
            <a:srgbClr val="ffffcc"/>
          </a:soli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7667640" y="4173480"/>
            <a:ext cx="1195200" cy="325440"/>
          </a:xfrm>
          <a:prstGeom prst="roundRect">
            <a:avLst>
              <a:gd name="adj" fmla="val 16667"/>
            </a:avLst>
          </a:prstGeom>
          <a:solidFill>
            <a:srgbClr val="bfedff"/>
          </a:soli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6318360" y="4129200"/>
            <a:ext cx="1654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w being discussed in  PWE3 WG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 in IE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7245360" y="2940120"/>
            <a:ext cx="0" cy="2598840"/>
          </a:xfrm>
          <a:prstGeom prst="line">
            <a:avLst/>
          </a:prstGeom>
          <a:ln w="19080">
            <a:solidFill>
              <a:srgbClr val="99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6823080" y="2614680"/>
            <a:ext cx="774720" cy="390600"/>
          </a:xfrm>
          <a:prstGeom prst="ellipse">
            <a:avLst/>
          </a:prstGeom>
          <a:solidFill>
            <a:srgbClr val="ffffcc"/>
          </a:soli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PO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1971000" y="32097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Vo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4714200" y="32097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Vo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7457400" y="32097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Vo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52280" y="847800"/>
            <a:ext cx="883944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mparative analysis will be made by the FSAN me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One of the best solutions will be proposed to ITU-T fr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he members in FS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557720" y="580860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HG丸ｺﾞｼｯｸM-PRO"/>
              </a:rPr>
              <a:t>G.983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6825600" y="579924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HG丸ｺﾞｼｯｸM-PRO"/>
              </a:rPr>
              <a:t>IEEE802.3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4367880" y="580860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HG丸ｺﾞｼｯｸM-PRO"/>
              </a:rPr>
              <a:t>G.707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"/>
          <p:cNvSpPr/>
          <p:nvPr/>
        </p:nvSpPr>
        <p:spPr>
          <a:xfrm>
            <a:off x="6497640" y="1355760"/>
            <a:ext cx="1990800" cy="4913280"/>
          </a:xfrm>
          <a:prstGeom prst="rect">
            <a:avLst/>
          </a:prstGeom>
          <a:solidFill>
            <a:srgbClr val="ffffff"/>
          </a:solidFill>
          <a:ln w="38160">
            <a:solidFill>
              <a:srgbClr val="3f5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639720" y="60480"/>
            <a:ext cx="787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Harmonization in G-PON Standar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7075440" y="4481640"/>
            <a:ext cx="914400" cy="1193760"/>
          </a:xfrm>
          <a:prstGeom prst="upArrow">
            <a:avLst>
              <a:gd name="adj1" fmla="val 60065"/>
              <a:gd name="adj2" fmla="val 35080"/>
            </a:avLst>
          </a:prstGeom>
          <a:solidFill>
            <a:srgbClr val="89f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797040" y="5746680"/>
            <a:ext cx="7189560" cy="4096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Op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3092400" y="880920"/>
            <a:ext cx="3286080" cy="957240"/>
          </a:xfrm>
          <a:prstGeom prst="leftRightArrow">
            <a:avLst>
              <a:gd name="adj1" fmla="val 42861"/>
              <a:gd name="adj2" fmla="val 43292"/>
            </a:avLst>
          </a:prstGeom>
          <a:solidFill>
            <a:srgbClr val="bfe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606600" y="1333440"/>
            <a:ext cx="2131920" cy="4944960"/>
          </a:xfrm>
          <a:prstGeom prst="rect">
            <a:avLst/>
          </a:prstGeom>
          <a:noFill/>
          <a:ln w="38160">
            <a:solidFill>
              <a:srgbClr val="2992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6687360" y="1011240"/>
            <a:ext cx="1585800" cy="825480"/>
          </a:xfrm>
          <a:prstGeom prst="rect">
            <a:avLst/>
          </a:prstGeom>
          <a:solidFill>
            <a:srgbClr val="89f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IE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802.3EF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1243080" y="4151160"/>
            <a:ext cx="823680" cy="6224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abea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1274760" y="5429160"/>
            <a:ext cx="833400" cy="3081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abea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787320" y="4935600"/>
            <a:ext cx="166392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GS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808200" y="3649680"/>
            <a:ext cx="1644480" cy="459720"/>
          </a:xfrm>
          <a:prstGeom prst="rect">
            <a:avLst/>
          </a:prstGeom>
          <a:solidFill>
            <a:srgbClr val="f0f76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G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806400" y="3189240"/>
            <a:ext cx="1647720" cy="459720"/>
          </a:xfrm>
          <a:prstGeom prst="rect">
            <a:avLst/>
          </a:prstGeom>
          <a:solidFill>
            <a:srgbClr val="ffff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G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776160" y="2692440"/>
            <a:ext cx="1832040" cy="2863800"/>
          </a:xfrm>
          <a:custGeom>
            <a:avLst/>
            <a:gdLst>
              <a:gd name="textAreaLeft" fmla="*/ 89280 w 1832040"/>
              <a:gd name="textAreaRight" fmla="*/ 1742760 w 1832040"/>
              <a:gd name="textAreaTop" fmla="*/ 89280 h 2863800"/>
              <a:gd name="textAreaBottom" fmla="*/ 2774520 h 2863800"/>
            </a:gdLst>
            <a:ahLst/>
            <a:rect l="textAreaLeft" t="textAreaTop" r="textAreaRight" b="textAreaBottom"/>
            <a:pathLst>
              <a:path w="21600" h="33762">
                <a:moveTo>
                  <a:pt x="3600" y="0"/>
                </a:moveTo>
                <a:arcTo wR="3600" hR="3600" stAng="16200000" swAng="-5400000"/>
                <a:lnTo>
                  <a:pt x="0" y="30162"/>
                </a:lnTo>
                <a:arcTo wR="3600" hR="3600" stAng="10800000" swAng="-5400000"/>
                <a:lnTo>
                  <a:pt x="18000" y="337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2992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1121400" y="2360520"/>
            <a:ext cx="1195560" cy="678600"/>
          </a:xfrm>
          <a:prstGeom prst="rect">
            <a:avLst/>
          </a:prstGeom>
          <a:solidFill>
            <a:srgbClr val="ffffff"/>
          </a:solidFill>
          <a:ln w="9360">
            <a:solidFill>
              <a:srgbClr val="2992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9224"/>
                </a:solidFill>
                <a:latin typeface="Arial"/>
              </a:rPr>
              <a:t>G-P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9224"/>
                </a:solidFill>
                <a:latin typeface="Arial"/>
              </a:rPr>
              <a:t>(FS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6771960" y="3600360"/>
            <a:ext cx="1418040" cy="825480"/>
          </a:xfrm>
          <a:prstGeom prst="rect">
            <a:avLst/>
          </a:prstGeom>
          <a:solidFill>
            <a:srgbClr val="f0f76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P-M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sub tr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6771960" y="2759040"/>
            <a:ext cx="1418040" cy="825480"/>
          </a:xfrm>
          <a:prstGeom prst="rect">
            <a:avLst/>
          </a:prstGeom>
          <a:solidFill>
            <a:srgbClr val="ffff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PM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sub tr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6610320" y="2355840"/>
            <a:ext cx="1733760" cy="2273400"/>
          </a:xfrm>
          <a:custGeom>
            <a:avLst/>
            <a:gdLst>
              <a:gd name="textAreaLeft" fmla="*/ 84600 w 1733760"/>
              <a:gd name="textAreaRight" fmla="*/ 1649160 w 1733760"/>
              <a:gd name="textAreaTop" fmla="*/ 84600 h 2273400"/>
              <a:gd name="textAreaBottom" fmla="*/ 2188800 h 2273400"/>
            </a:gdLst>
            <a:ahLst/>
            <a:rect l="textAreaLeft" t="textAreaTop" r="textAreaRight" b="textAreaBottom"/>
            <a:pathLst>
              <a:path w="21600" h="28322">
                <a:moveTo>
                  <a:pt x="3600" y="0"/>
                </a:moveTo>
                <a:arcTo wR="3600" hR="3600" stAng="16200000" swAng="-5400000"/>
                <a:lnTo>
                  <a:pt x="0" y="24722"/>
                </a:lnTo>
                <a:arcTo wR="3600" hR="3600" stAng="10800000" swAng="-5400000"/>
                <a:lnTo>
                  <a:pt x="18000" y="283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f5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6840360" y="2168640"/>
            <a:ext cx="13831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f5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56fd"/>
                </a:solidFill>
                <a:latin typeface="Arial"/>
              </a:rPr>
              <a:t>GE-P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244680" y="1857240"/>
            <a:ext cx="3157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iaison person in SG15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r.Frank Effenber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Quantum Brid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2513160" y="3059280"/>
            <a:ext cx="4203720" cy="722160"/>
          </a:xfrm>
          <a:custGeom>
            <a:avLst/>
            <a:gdLst>
              <a:gd name="textAreaLeft" fmla="*/ 656640 w 4203720"/>
              <a:gd name="textAreaRight" fmla="*/ 3678480 w 4203720"/>
              <a:gd name="textAreaTop" fmla="*/ 180360 h 722160"/>
              <a:gd name="textAreaBottom" fmla="*/ 541800 h 722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e9e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447840" y="1019160"/>
            <a:ext cx="2503440" cy="825480"/>
          </a:xfrm>
          <a:prstGeom prst="rect">
            <a:avLst/>
          </a:prstGeom>
          <a:solidFill>
            <a:srgbClr val="fe9ea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ITU-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Q.2/SG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2786040" y="3216240"/>
            <a:ext cx="392436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specs for P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wn stream wavelength allo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ysical layer specifications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except for line code and bit-rate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2489040" y="4621320"/>
            <a:ext cx="4708800" cy="1084320"/>
          </a:xfrm>
          <a:custGeom>
            <a:avLst/>
            <a:gdLst>
              <a:gd name="textAreaLeft" fmla="*/ 735480 w 4708800"/>
              <a:gd name="textAreaRight" fmla="*/ 4120200 w 4708800"/>
              <a:gd name="textAreaTop" fmla="*/ 271080 h 1084320"/>
              <a:gd name="textAreaBottom" fmla="*/ 813240 h 10843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e9e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3213360" y="4889520"/>
            <a:ext cx="30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rators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ODN, Servic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"/>
          <p:cNvSpPr/>
          <p:nvPr/>
        </p:nvSpPr>
        <p:spPr>
          <a:xfrm>
            <a:off x="326880" y="1373040"/>
            <a:ext cx="8574120" cy="1035360"/>
          </a:xfrm>
          <a:custGeom>
            <a:avLst/>
            <a:gdLst>
              <a:gd name="textAreaLeft" fmla="*/ 66960 w 8574120"/>
              <a:gd name="textAreaRight" fmla="*/ 8507160 w 8574120"/>
              <a:gd name="textAreaTop" fmla="*/ 66960 h 1035360"/>
              <a:gd name="textAreaBottom" fmla="*/ 968400 h 1035360"/>
            </a:gdLst>
            <a:ahLst/>
            <a:rect l="textAreaLeft" t="textAreaTop" r="textAreaRight" b="textAreaBottom"/>
            <a:pathLst>
              <a:path w="178821" h="21600">
                <a:moveTo>
                  <a:pt x="0" y="0"/>
                </a:moveTo>
                <a:lnTo>
                  <a:pt x="178821" y="0"/>
                </a:lnTo>
                <a:lnTo>
                  <a:pt x="178821" y="21600"/>
                </a:lnTo>
                <a:lnTo>
                  <a:pt x="0" y="21600"/>
                </a:lnTo>
                <a:close/>
              </a:path>
              <a:path fill="lightenLess" w="178821" h="21600">
                <a:moveTo>
                  <a:pt x="0" y="0"/>
                </a:moveTo>
                <a:lnTo>
                  <a:pt x="178821" y="0"/>
                </a:lnTo>
                <a:lnTo>
                  <a:pt x="177421" y="1400"/>
                </a:lnTo>
                <a:lnTo>
                  <a:pt x="1400" y="1400"/>
                </a:lnTo>
                <a:close/>
              </a:path>
              <a:path fill="darken" w="178821" h="21600">
                <a:moveTo>
                  <a:pt x="178821" y="0"/>
                </a:moveTo>
                <a:lnTo>
                  <a:pt x="178821" y="21600"/>
                </a:lnTo>
                <a:lnTo>
                  <a:pt x="177421" y="20200"/>
                </a:lnTo>
                <a:lnTo>
                  <a:pt x="177421" y="1400"/>
                </a:lnTo>
                <a:close/>
              </a:path>
              <a:path fill="darkenLess" w="178821" h="21600">
                <a:moveTo>
                  <a:pt x="1788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7421" y="20200"/>
                </a:lnTo>
                <a:close/>
              </a:path>
              <a:path fill="lighten" w="1788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8080"/>
                </a:solidFill>
                <a:latin typeface="Arial"/>
                <a:ea typeface="HG丸ｺﾞｼｯｸM-PRO"/>
              </a:rPr>
              <a:t>1. Current Network Services in Japa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8080"/>
                </a:solidFill>
                <a:latin typeface="Arial"/>
                <a:ea typeface="HG丸ｺﾞｼｯｸM-PRO"/>
              </a:rPr>
              <a:t>	</a:t>
            </a:r>
            <a:r>
              <a:rPr b="1" lang="en-US" sz="2600" spc="-1" strike="noStrike">
                <a:solidFill>
                  <a:srgbClr val="808080"/>
                </a:solidFill>
                <a:latin typeface="Arial"/>
                <a:ea typeface="HG丸ｺﾞｼｯｸM-PRO"/>
              </a:rPr>
              <a:t>Access services and Metro servic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339840" y="2554200"/>
            <a:ext cx="8574120" cy="1035000"/>
          </a:xfrm>
          <a:custGeom>
            <a:avLst/>
            <a:gdLst>
              <a:gd name="textAreaLeft" fmla="*/ 66960 w 8574120"/>
              <a:gd name="textAreaRight" fmla="*/ 8507160 w 8574120"/>
              <a:gd name="textAreaTop" fmla="*/ 66960 h 1035000"/>
              <a:gd name="textAreaBottom" fmla="*/ 968040 h 1035000"/>
            </a:gdLst>
            <a:ahLst/>
            <a:rect l="textAreaLeft" t="textAreaTop" r="textAreaRight" b="textAreaBottom"/>
            <a:pathLst>
              <a:path w="178883" h="21600">
                <a:moveTo>
                  <a:pt x="0" y="0"/>
                </a:moveTo>
                <a:lnTo>
                  <a:pt x="178883" y="0"/>
                </a:lnTo>
                <a:lnTo>
                  <a:pt x="178883" y="21600"/>
                </a:lnTo>
                <a:lnTo>
                  <a:pt x="0" y="21600"/>
                </a:lnTo>
                <a:close/>
              </a:path>
              <a:path fill="lightenLess" w="178883" h="21600">
                <a:moveTo>
                  <a:pt x="0" y="0"/>
                </a:moveTo>
                <a:lnTo>
                  <a:pt x="178883" y="0"/>
                </a:lnTo>
                <a:lnTo>
                  <a:pt x="177484" y="1400"/>
                </a:lnTo>
                <a:lnTo>
                  <a:pt x="1400" y="1400"/>
                </a:lnTo>
                <a:close/>
              </a:path>
              <a:path fill="darken" w="178883" h="21600">
                <a:moveTo>
                  <a:pt x="178883" y="0"/>
                </a:moveTo>
                <a:lnTo>
                  <a:pt x="178883" y="21600"/>
                </a:lnTo>
                <a:lnTo>
                  <a:pt x="177484" y="20200"/>
                </a:lnTo>
                <a:lnTo>
                  <a:pt x="177484" y="1400"/>
                </a:lnTo>
                <a:close/>
              </a:path>
              <a:path fill="darkenLess" w="178883" h="21600">
                <a:moveTo>
                  <a:pt x="1788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7484" y="20200"/>
                </a:lnTo>
                <a:close/>
              </a:path>
              <a:path fill="lighten" w="1788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8080"/>
                </a:solidFill>
                <a:latin typeface="Arial"/>
                <a:ea typeface="HG丸ｺﾞｼｯｸM-PRO"/>
              </a:rPr>
              <a:t>2. Standardization Trend of Optical Access Syste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8080"/>
                </a:solidFill>
                <a:latin typeface="Arial"/>
                <a:ea typeface="HG丸ｺﾞｼｯｸM-PRO"/>
              </a:rPr>
              <a:t>	</a:t>
            </a:r>
            <a:r>
              <a:rPr b="1" lang="en-US" sz="2600" spc="-1" strike="noStrike">
                <a:solidFill>
                  <a:srgbClr val="808080"/>
                </a:solidFill>
                <a:latin typeface="Arial"/>
                <a:ea typeface="HG丸ｺﾞｼｯｸM-PRO"/>
              </a:rPr>
              <a:t>B-PON and G-P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352440" y="3735360"/>
            <a:ext cx="8574120" cy="1035000"/>
          </a:xfrm>
          <a:custGeom>
            <a:avLst/>
            <a:gdLst>
              <a:gd name="textAreaLeft" fmla="*/ 66960 w 8574120"/>
              <a:gd name="textAreaRight" fmla="*/ 8507160 w 8574120"/>
              <a:gd name="textAreaTop" fmla="*/ 66960 h 1035000"/>
              <a:gd name="textAreaBottom" fmla="*/ 968040 h 1035000"/>
            </a:gdLst>
            <a:ahLst/>
            <a:rect l="textAreaLeft" t="textAreaTop" r="textAreaRight" b="textAreaBottom"/>
            <a:pathLst>
              <a:path w="178883" h="21600">
                <a:moveTo>
                  <a:pt x="0" y="0"/>
                </a:moveTo>
                <a:lnTo>
                  <a:pt x="178883" y="0"/>
                </a:lnTo>
                <a:lnTo>
                  <a:pt x="178883" y="21600"/>
                </a:lnTo>
                <a:lnTo>
                  <a:pt x="0" y="21600"/>
                </a:lnTo>
                <a:close/>
              </a:path>
              <a:path fill="lightenLess" w="178883" h="21600">
                <a:moveTo>
                  <a:pt x="0" y="0"/>
                </a:moveTo>
                <a:lnTo>
                  <a:pt x="178883" y="0"/>
                </a:lnTo>
                <a:lnTo>
                  <a:pt x="177484" y="1400"/>
                </a:lnTo>
                <a:lnTo>
                  <a:pt x="1400" y="1400"/>
                </a:lnTo>
                <a:close/>
              </a:path>
              <a:path fill="darken" w="178883" h="21600">
                <a:moveTo>
                  <a:pt x="178883" y="0"/>
                </a:moveTo>
                <a:lnTo>
                  <a:pt x="178883" y="21600"/>
                </a:lnTo>
                <a:lnTo>
                  <a:pt x="177484" y="20200"/>
                </a:lnTo>
                <a:lnTo>
                  <a:pt x="177484" y="1400"/>
                </a:lnTo>
                <a:close/>
              </a:path>
              <a:path fill="darkenLess" w="178883" h="21600">
                <a:moveTo>
                  <a:pt x="1788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7484" y="20200"/>
                </a:lnTo>
                <a:close/>
              </a:path>
              <a:path fill="lighten" w="1788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HG丸ｺﾞｼｯｸM-PRO"/>
              </a:rPr>
              <a:t>3. B-PON Trial and Deployment in NT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365040" y="4916520"/>
            <a:ext cx="8574120" cy="1035000"/>
          </a:xfrm>
          <a:custGeom>
            <a:avLst/>
            <a:gdLst>
              <a:gd name="textAreaLeft" fmla="*/ 66960 w 8574120"/>
              <a:gd name="textAreaRight" fmla="*/ 8507160 w 8574120"/>
              <a:gd name="textAreaTop" fmla="*/ 66960 h 1035000"/>
              <a:gd name="textAreaBottom" fmla="*/ 968040 h 1035000"/>
            </a:gdLst>
            <a:ahLst/>
            <a:rect l="textAreaLeft" t="textAreaTop" r="textAreaRight" b="textAreaBottom"/>
            <a:pathLst>
              <a:path w="178883" h="21600">
                <a:moveTo>
                  <a:pt x="0" y="0"/>
                </a:moveTo>
                <a:lnTo>
                  <a:pt x="178883" y="0"/>
                </a:lnTo>
                <a:lnTo>
                  <a:pt x="178883" y="21600"/>
                </a:lnTo>
                <a:lnTo>
                  <a:pt x="0" y="21600"/>
                </a:lnTo>
                <a:close/>
              </a:path>
              <a:path fill="lightenLess" w="178883" h="21600">
                <a:moveTo>
                  <a:pt x="0" y="0"/>
                </a:moveTo>
                <a:lnTo>
                  <a:pt x="178883" y="0"/>
                </a:lnTo>
                <a:lnTo>
                  <a:pt x="177484" y="1400"/>
                </a:lnTo>
                <a:lnTo>
                  <a:pt x="1400" y="1400"/>
                </a:lnTo>
                <a:close/>
              </a:path>
              <a:path fill="darken" w="178883" h="21600">
                <a:moveTo>
                  <a:pt x="178883" y="0"/>
                </a:moveTo>
                <a:lnTo>
                  <a:pt x="178883" y="21600"/>
                </a:lnTo>
                <a:lnTo>
                  <a:pt x="177484" y="20200"/>
                </a:lnTo>
                <a:lnTo>
                  <a:pt x="177484" y="1400"/>
                </a:lnTo>
                <a:close/>
              </a:path>
              <a:path fill="darkenLess" w="178883" h="21600">
                <a:moveTo>
                  <a:pt x="1788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7484" y="20200"/>
                </a:lnTo>
                <a:close/>
              </a:path>
              <a:path fill="lighten" w="1788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8080"/>
                </a:solidFill>
                <a:latin typeface="Arial"/>
                <a:ea typeface="HG丸ｺﾞｼｯｸM-PRO"/>
              </a:rPr>
              <a:t>4. Future issues and Conclus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06720" y="23400"/>
            <a:ext cx="302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HG丸ｺﾞｼｯｸM-PRO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" action="ppaction://hlinksldjump"/>
          </p:cNvPr>
          <p:cNvSpPr/>
          <p:nvPr/>
        </p:nvSpPr>
        <p:spPr>
          <a:xfrm>
            <a:off x="326880" y="1373040"/>
            <a:ext cx="8574120" cy="1035360"/>
          </a:xfrm>
          <a:custGeom>
            <a:avLst/>
            <a:gdLst>
              <a:gd name="textAreaLeft" fmla="*/ 66960 w 8574120"/>
              <a:gd name="textAreaRight" fmla="*/ 8507160 w 8574120"/>
              <a:gd name="textAreaTop" fmla="*/ 66960 h 1035360"/>
              <a:gd name="textAreaBottom" fmla="*/ 968400 h 1035360"/>
            </a:gdLst>
            <a:ahLst/>
            <a:rect l="textAreaLeft" t="textAreaTop" r="textAreaRight" b="textAreaBottom"/>
            <a:pathLst>
              <a:path w="178821" h="21600">
                <a:moveTo>
                  <a:pt x="0" y="0"/>
                </a:moveTo>
                <a:lnTo>
                  <a:pt x="178821" y="0"/>
                </a:lnTo>
                <a:lnTo>
                  <a:pt x="178821" y="21600"/>
                </a:lnTo>
                <a:lnTo>
                  <a:pt x="0" y="21600"/>
                </a:lnTo>
                <a:close/>
              </a:path>
              <a:path fill="lightenLess" w="178821" h="21600">
                <a:moveTo>
                  <a:pt x="0" y="0"/>
                </a:moveTo>
                <a:lnTo>
                  <a:pt x="178821" y="0"/>
                </a:lnTo>
                <a:lnTo>
                  <a:pt x="177421" y="1400"/>
                </a:lnTo>
                <a:lnTo>
                  <a:pt x="1400" y="1400"/>
                </a:lnTo>
                <a:close/>
              </a:path>
              <a:path fill="darken" w="178821" h="21600">
                <a:moveTo>
                  <a:pt x="178821" y="0"/>
                </a:moveTo>
                <a:lnTo>
                  <a:pt x="178821" y="21600"/>
                </a:lnTo>
                <a:lnTo>
                  <a:pt x="177421" y="20200"/>
                </a:lnTo>
                <a:lnTo>
                  <a:pt x="177421" y="1400"/>
                </a:lnTo>
                <a:close/>
              </a:path>
              <a:path fill="darkenLess" w="178821" h="21600">
                <a:moveTo>
                  <a:pt x="1788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7421" y="20200"/>
                </a:lnTo>
                <a:close/>
              </a:path>
              <a:path fill="lighten" w="1788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HG丸ｺﾞｼｯｸM-PRO"/>
              </a:rPr>
              <a:t>1. Current Network Services in Japa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HG丸ｺﾞｼｯｸM-PRO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HG丸ｺﾞｼｯｸM-PRO"/>
              </a:rPr>
              <a:t>Access services and Metro servic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2" action="ppaction://hlinksldjump"/>
          </p:cNvPr>
          <p:cNvSpPr/>
          <p:nvPr/>
        </p:nvSpPr>
        <p:spPr>
          <a:xfrm>
            <a:off x="339840" y="2554200"/>
            <a:ext cx="8574120" cy="1035000"/>
          </a:xfrm>
          <a:custGeom>
            <a:avLst/>
            <a:gdLst>
              <a:gd name="textAreaLeft" fmla="*/ 66960 w 8574120"/>
              <a:gd name="textAreaRight" fmla="*/ 8507160 w 8574120"/>
              <a:gd name="textAreaTop" fmla="*/ 66960 h 1035000"/>
              <a:gd name="textAreaBottom" fmla="*/ 968040 h 1035000"/>
            </a:gdLst>
            <a:ahLst/>
            <a:rect l="textAreaLeft" t="textAreaTop" r="textAreaRight" b="textAreaBottom"/>
            <a:pathLst>
              <a:path w="178883" h="21600">
                <a:moveTo>
                  <a:pt x="0" y="0"/>
                </a:moveTo>
                <a:lnTo>
                  <a:pt x="178883" y="0"/>
                </a:lnTo>
                <a:lnTo>
                  <a:pt x="178883" y="21600"/>
                </a:lnTo>
                <a:lnTo>
                  <a:pt x="0" y="21600"/>
                </a:lnTo>
                <a:close/>
              </a:path>
              <a:path fill="lightenLess" w="178883" h="21600">
                <a:moveTo>
                  <a:pt x="0" y="0"/>
                </a:moveTo>
                <a:lnTo>
                  <a:pt x="178883" y="0"/>
                </a:lnTo>
                <a:lnTo>
                  <a:pt x="177484" y="1400"/>
                </a:lnTo>
                <a:lnTo>
                  <a:pt x="1400" y="1400"/>
                </a:lnTo>
                <a:close/>
              </a:path>
              <a:path fill="darken" w="178883" h="21600">
                <a:moveTo>
                  <a:pt x="178883" y="0"/>
                </a:moveTo>
                <a:lnTo>
                  <a:pt x="178883" y="21600"/>
                </a:lnTo>
                <a:lnTo>
                  <a:pt x="177484" y="20200"/>
                </a:lnTo>
                <a:lnTo>
                  <a:pt x="177484" y="1400"/>
                </a:lnTo>
                <a:close/>
              </a:path>
              <a:path fill="darkenLess" w="178883" h="21600">
                <a:moveTo>
                  <a:pt x="1788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7484" y="20200"/>
                </a:lnTo>
                <a:close/>
              </a:path>
              <a:path fill="lighten" w="1788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HG丸ｺﾞｼｯｸM-PRO"/>
              </a:rPr>
              <a:t>2. Standardization Trend of Optical Access Syste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HG丸ｺﾞｼｯｸM-PRO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HG丸ｺﾞｼｯｸM-PRO"/>
              </a:rPr>
              <a:t>B-PON and G-P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3" action="ppaction://hlinksldjump"/>
          </p:cNvPr>
          <p:cNvSpPr/>
          <p:nvPr/>
        </p:nvSpPr>
        <p:spPr>
          <a:xfrm>
            <a:off x="352440" y="3735360"/>
            <a:ext cx="8574120" cy="1035000"/>
          </a:xfrm>
          <a:custGeom>
            <a:avLst/>
            <a:gdLst>
              <a:gd name="textAreaLeft" fmla="*/ 66960 w 8574120"/>
              <a:gd name="textAreaRight" fmla="*/ 8507160 w 8574120"/>
              <a:gd name="textAreaTop" fmla="*/ 66960 h 1035000"/>
              <a:gd name="textAreaBottom" fmla="*/ 968040 h 1035000"/>
            </a:gdLst>
            <a:ahLst/>
            <a:rect l="textAreaLeft" t="textAreaTop" r="textAreaRight" b="textAreaBottom"/>
            <a:pathLst>
              <a:path w="178883" h="21600">
                <a:moveTo>
                  <a:pt x="0" y="0"/>
                </a:moveTo>
                <a:lnTo>
                  <a:pt x="178883" y="0"/>
                </a:lnTo>
                <a:lnTo>
                  <a:pt x="178883" y="21600"/>
                </a:lnTo>
                <a:lnTo>
                  <a:pt x="0" y="21600"/>
                </a:lnTo>
                <a:close/>
              </a:path>
              <a:path fill="lightenLess" w="178883" h="21600">
                <a:moveTo>
                  <a:pt x="0" y="0"/>
                </a:moveTo>
                <a:lnTo>
                  <a:pt x="178883" y="0"/>
                </a:lnTo>
                <a:lnTo>
                  <a:pt x="177484" y="1400"/>
                </a:lnTo>
                <a:lnTo>
                  <a:pt x="1400" y="1400"/>
                </a:lnTo>
                <a:close/>
              </a:path>
              <a:path fill="darken" w="178883" h="21600">
                <a:moveTo>
                  <a:pt x="178883" y="0"/>
                </a:moveTo>
                <a:lnTo>
                  <a:pt x="178883" y="21600"/>
                </a:lnTo>
                <a:lnTo>
                  <a:pt x="177484" y="20200"/>
                </a:lnTo>
                <a:lnTo>
                  <a:pt x="177484" y="1400"/>
                </a:lnTo>
                <a:close/>
              </a:path>
              <a:path fill="darkenLess" w="178883" h="21600">
                <a:moveTo>
                  <a:pt x="1788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7484" y="20200"/>
                </a:lnTo>
                <a:close/>
              </a:path>
              <a:path fill="lighten" w="1788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HG丸ｺﾞｼｯｸM-PRO"/>
              </a:rPr>
              <a:t>3. B-PON Trial and Deployment in NT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5040" y="4916520"/>
            <a:ext cx="8574120" cy="1035000"/>
          </a:xfrm>
          <a:custGeom>
            <a:avLst/>
            <a:gdLst>
              <a:gd name="textAreaLeft" fmla="*/ 66960 w 8574120"/>
              <a:gd name="textAreaRight" fmla="*/ 8507160 w 8574120"/>
              <a:gd name="textAreaTop" fmla="*/ 66960 h 1035000"/>
              <a:gd name="textAreaBottom" fmla="*/ 968040 h 1035000"/>
            </a:gdLst>
            <a:ahLst/>
            <a:rect l="textAreaLeft" t="textAreaTop" r="textAreaRight" b="textAreaBottom"/>
            <a:pathLst>
              <a:path w="178883" h="21600">
                <a:moveTo>
                  <a:pt x="0" y="0"/>
                </a:moveTo>
                <a:lnTo>
                  <a:pt x="178883" y="0"/>
                </a:lnTo>
                <a:lnTo>
                  <a:pt x="178883" y="21600"/>
                </a:lnTo>
                <a:lnTo>
                  <a:pt x="0" y="21600"/>
                </a:lnTo>
                <a:close/>
              </a:path>
              <a:path fill="lightenLess" w="178883" h="21600">
                <a:moveTo>
                  <a:pt x="0" y="0"/>
                </a:moveTo>
                <a:lnTo>
                  <a:pt x="178883" y="0"/>
                </a:lnTo>
                <a:lnTo>
                  <a:pt x="177484" y="1400"/>
                </a:lnTo>
                <a:lnTo>
                  <a:pt x="1400" y="1400"/>
                </a:lnTo>
                <a:close/>
              </a:path>
              <a:path fill="darken" w="178883" h="21600">
                <a:moveTo>
                  <a:pt x="178883" y="0"/>
                </a:moveTo>
                <a:lnTo>
                  <a:pt x="178883" y="21600"/>
                </a:lnTo>
                <a:lnTo>
                  <a:pt x="177484" y="20200"/>
                </a:lnTo>
                <a:lnTo>
                  <a:pt x="177484" y="1400"/>
                </a:lnTo>
                <a:close/>
              </a:path>
              <a:path fill="darkenLess" w="178883" h="21600">
                <a:moveTo>
                  <a:pt x="1788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7484" y="20200"/>
                </a:lnTo>
                <a:close/>
              </a:path>
              <a:path fill="lighten" w="1788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HG丸ｺﾞｼｯｸM-PRO"/>
              </a:rPr>
              <a:t>4. Future issues and Conclus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"/>
          <p:cNvSpPr/>
          <p:nvPr/>
        </p:nvSpPr>
        <p:spPr>
          <a:xfrm>
            <a:off x="5261040" y="4822920"/>
            <a:ext cx="2087640" cy="922320"/>
          </a:xfrm>
          <a:custGeom>
            <a:avLst/>
            <a:gdLst/>
            <a:ahLst/>
            <a:rect l="l" t="t" r="r" b="b"/>
            <a:pathLst>
              <a:path w="1315" h="581">
                <a:moveTo>
                  <a:pt x="1310" y="0"/>
                </a:moveTo>
                <a:lnTo>
                  <a:pt x="713" y="438"/>
                </a:lnTo>
                <a:lnTo>
                  <a:pt x="0" y="576"/>
                </a:lnTo>
                <a:lnTo>
                  <a:pt x="479" y="581"/>
                </a:lnTo>
                <a:lnTo>
                  <a:pt x="708" y="510"/>
                </a:lnTo>
                <a:lnTo>
                  <a:pt x="1315" y="56"/>
                </a:lnTo>
                <a:lnTo>
                  <a:pt x="1310" y="0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6076800" y="4911840"/>
            <a:ext cx="1256040" cy="825480"/>
          </a:xfrm>
          <a:custGeom>
            <a:avLst/>
            <a:gdLst/>
            <a:ahLst/>
            <a:rect l="l" t="t" r="r" b="b"/>
            <a:pathLst>
              <a:path w="791" h="520">
                <a:moveTo>
                  <a:pt x="785" y="0"/>
                </a:moveTo>
                <a:lnTo>
                  <a:pt x="189" y="469"/>
                </a:lnTo>
                <a:lnTo>
                  <a:pt x="0" y="505"/>
                </a:lnTo>
                <a:lnTo>
                  <a:pt x="791" y="520"/>
                </a:lnTo>
                <a:lnTo>
                  <a:pt x="785" y="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1562040" y="2071800"/>
            <a:ext cx="5786640" cy="3657600"/>
          </a:xfrm>
          <a:custGeom>
            <a:avLst/>
            <a:gdLst/>
            <a:ahLst/>
            <a:rect l="l" t="t" r="r" b="b"/>
            <a:pathLst>
              <a:path w="3645" h="2304">
                <a:moveTo>
                  <a:pt x="3645" y="0"/>
                </a:moveTo>
                <a:lnTo>
                  <a:pt x="3053" y="1198"/>
                </a:lnTo>
                <a:lnTo>
                  <a:pt x="2472" y="1794"/>
                </a:lnTo>
                <a:lnTo>
                  <a:pt x="1886" y="2187"/>
                </a:lnTo>
                <a:lnTo>
                  <a:pt x="1315" y="2263"/>
                </a:lnTo>
                <a:lnTo>
                  <a:pt x="0" y="2299"/>
                </a:lnTo>
                <a:lnTo>
                  <a:pt x="2335" y="2304"/>
                </a:lnTo>
                <a:lnTo>
                  <a:pt x="3043" y="2151"/>
                </a:lnTo>
                <a:lnTo>
                  <a:pt x="3640" y="1738"/>
                </a:lnTo>
                <a:lnTo>
                  <a:pt x="3645" y="0"/>
                </a:lnTo>
                <a:close/>
              </a:path>
            </a:pathLst>
          </a:custGeom>
          <a:solidFill>
            <a:srgbClr val="ff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0" y="31680"/>
            <a:ext cx="91440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B-PON Deployment for ATM Serv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1566720" y="1135080"/>
            <a:ext cx="0" cy="4606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1571760" y="5735520"/>
            <a:ext cx="7116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3213360" y="5721480"/>
            <a:ext cx="77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Mar.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4131000" y="5721480"/>
            <a:ext cx="77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Mar.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1222560" y="5475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 rot="16200000">
            <a:off x="-391320" y="2871000"/>
            <a:ext cx="14014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Circui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 flipV="1">
            <a:off x="3021120" y="5675400"/>
            <a:ext cx="487080" cy="25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 flipV="1">
            <a:off x="3508200" y="5537160"/>
            <a:ext cx="1033560" cy="1396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6909120" y="5719680"/>
            <a:ext cx="77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Mar.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5966280" y="5719680"/>
            <a:ext cx="77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Mar.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424800" y="406224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1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424800" y="265104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2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5048640" y="5719680"/>
            <a:ext cx="77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Mar.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424800" y="123984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3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 flipV="1">
            <a:off x="4540320" y="4930920"/>
            <a:ext cx="931680" cy="6062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 flipV="1">
            <a:off x="5472000" y="3949560"/>
            <a:ext cx="932040" cy="9828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 flipV="1">
            <a:off x="6404040" y="2039400"/>
            <a:ext cx="941400" cy="1908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1565280" y="1477800"/>
            <a:ext cx="716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1566720" y="2889360"/>
            <a:ext cx="71661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1569960" y="4311720"/>
            <a:ext cx="71661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7342200" y="1346040"/>
            <a:ext cx="0" cy="438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 flipH="1">
            <a:off x="6401880" y="1357200"/>
            <a:ext cx="9720" cy="4376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5487840" y="1339920"/>
            <a:ext cx="0" cy="440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4565520" y="1311120"/>
            <a:ext cx="0" cy="4432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3646440" y="1360440"/>
            <a:ext cx="0" cy="4376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1766880" y="817560"/>
            <a:ext cx="44276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HG丸ｺﾞｼｯｸM-PRO"/>
              </a:rPr>
              <a:t>ATM Mega-Link (SS and P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0.5 – 135 Mb/s, C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HG丸ｺﾞｼｯｸM-PRO"/>
              </a:rPr>
              <a:t>ATM Share-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64kb/s – 2Mb/s, C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0.5 – 10 Mb/s, GF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  <a:ea typeface="HG丸ｺﾞｼｯｸM-PRO"/>
              </a:rPr>
              <a:t>Mega Data N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64kb/s – 2Mb/s, CBR with C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0.5 – 10 Mb/s, GFR with C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(CUG: Closed User 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 flipV="1">
            <a:off x="5251320" y="5508360"/>
            <a:ext cx="1148040" cy="2062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 flipV="1">
            <a:off x="6404040" y="4813200"/>
            <a:ext cx="938160" cy="6732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 flipV="1">
            <a:off x="6032520" y="5613480"/>
            <a:ext cx="385920" cy="9216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 flipV="1">
            <a:off x="6423120" y="4898880"/>
            <a:ext cx="938160" cy="70200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6179760" y="1571760"/>
            <a:ext cx="206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HG丸ｺﾞｼｯｸM-PRO"/>
              </a:rPr>
              <a:t>ATM Mega-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7315200" y="4324320"/>
            <a:ext cx="176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HG丸ｺﾞｼｯｸM-PRO"/>
              </a:rPr>
              <a:t>ATM Share-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7335720" y="5018040"/>
            <a:ext cx="1646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  <a:ea typeface="HG丸ｺﾞｼｯｸM-PRO"/>
              </a:rPr>
              <a:t>Mega Data N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2643120" y="4379760"/>
            <a:ext cx="0" cy="1357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2248200" y="5683320"/>
            <a:ext cx="77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Mar.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"/>
          <p:cNvSpPr/>
          <p:nvPr/>
        </p:nvSpPr>
        <p:spPr>
          <a:xfrm>
            <a:off x="7858080" y="4822920"/>
            <a:ext cx="828720" cy="109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8329680" y="4822920"/>
            <a:ext cx="152280" cy="118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8367840" y="4853160"/>
            <a:ext cx="75960" cy="58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5967360" y="982800"/>
            <a:ext cx="1528920" cy="5478480"/>
          </a:xfrm>
          <a:prstGeom prst="rect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7162920" y="1200240"/>
            <a:ext cx="990360" cy="4730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7486560" y="4514760"/>
            <a:ext cx="833400" cy="698760"/>
          </a:xfrm>
          <a:prstGeom prst="cube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 flipH="1">
            <a:off x="7999560" y="2089080"/>
            <a:ext cx="534960" cy="177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7418520" y="1954080"/>
            <a:ext cx="834840" cy="665280"/>
          </a:xfrm>
          <a:prstGeom prst="cube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2814480" y="2400480"/>
            <a:ext cx="2257560" cy="1062000"/>
          </a:xfrm>
          <a:custGeom>
            <a:avLst/>
            <a:gdLst/>
            <a:ahLst/>
            <a:rect l="l" t="t" r="r" b="b"/>
            <a:pathLst>
              <a:path w="1344" h="816">
                <a:moveTo>
                  <a:pt x="672" y="0"/>
                </a:moveTo>
                <a:lnTo>
                  <a:pt x="0" y="240"/>
                </a:lnTo>
                <a:lnTo>
                  <a:pt x="144" y="240"/>
                </a:lnTo>
                <a:lnTo>
                  <a:pt x="144" y="816"/>
                </a:lnTo>
                <a:lnTo>
                  <a:pt x="1200" y="816"/>
                </a:lnTo>
                <a:lnTo>
                  <a:pt x="1200" y="240"/>
                </a:lnTo>
                <a:lnTo>
                  <a:pt x="1344" y="240"/>
                </a:lnTo>
                <a:lnTo>
                  <a:pt x="672" y="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7037280" y="3233160"/>
            <a:ext cx="124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IP N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141120" y="2238480"/>
            <a:ext cx="2106720" cy="4683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4191120" y="292752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428760" y="2259000"/>
            <a:ext cx="169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Basic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247680" y="2732040"/>
            <a:ext cx="29401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For SOHO &amp; heavy us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6180120" y="981000"/>
            <a:ext cx="11430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NTT 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8515440" y="1047600"/>
            <a:ext cx="552240" cy="2133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8504280" y="1808640"/>
            <a:ext cx="61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I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-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9" name=""/>
          <p:cNvGrpSpPr/>
          <p:nvPr/>
        </p:nvGrpSpPr>
        <p:grpSpPr>
          <a:xfrm>
            <a:off x="3513240" y="2754360"/>
            <a:ext cx="520200" cy="355680"/>
            <a:chOff x="3513240" y="2754360"/>
            <a:chExt cx="520200" cy="355680"/>
          </a:xfrm>
        </p:grpSpPr>
        <p:grpSp>
          <p:nvGrpSpPr>
            <p:cNvPr id="1460" name=""/>
            <p:cNvGrpSpPr/>
            <p:nvPr/>
          </p:nvGrpSpPr>
          <p:grpSpPr>
            <a:xfrm>
              <a:off x="3881520" y="2833560"/>
              <a:ext cx="63720" cy="119160"/>
              <a:chOff x="3881520" y="2833560"/>
              <a:chExt cx="63720" cy="119160"/>
            </a:xfrm>
          </p:grpSpPr>
          <p:sp>
            <p:nvSpPr>
              <p:cNvPr id="1461" name=""/>
              <p:cNvSpPr/>
              <p:nvPr/>
            </p:nvSpPr>
            <p:spPr>
              <a:xfrm>
                <a:off x="3884760" y="2835360"/>
                <a:ext cx="60480" cy="1148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3921480" y="2833560"/>
                <a:ext cx="0" cy="11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3881520" y="2833560"/>
                <a:ext cx="0" cy="11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4" name=""/>
            <p:cNvSpPr/>
            <p:nvPr/>
          </p:nvSpPr>
          <p:spPr>
            <a:xfrm>
              <a:off x="3915720" y="2892240"/>
              <a:ext cx="11772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3763440" y="2892240"/>
              <a:ext cx="1180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66" name="" descr=""/>
            <p:cNvPicPr/>
            <p:nvPr/>
          </p:nvPicPr>
          <p:blipFill>
            <a:blip r:embed="rId1"/>
            <a:stretch/>
          </p:blipFill>
          <p:spPr>
            <a:xfrm>
              <a:off x="3513240" y="2754360"/>
              <a:ext cx="272520" cy="355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67" name=""/>
          <p:cNvSpPr/>
          <p:nvPr/>
        </p:nvSpPr>
        <p:spPr>
          <a:xfrm>
            <a:off x="341280" y="29113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HG丸ｺﾞｼｯｸM-PRO"/>
              </a:rPr>
              <a:t>(9,000JPY/Mont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6035760" y="2641680"/>
            <a:ext cx="838080" cy="515880"/>
          </a:xfrm>
          <a:prstGeom prst="cube">
            <a:avLst>
              <a:gd name="adj" fmla="val 11606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7356600" y="2030760"/>
            <a:ext cx="118080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Network Terminal Equi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8528040" y="4019400"/>
            <a:ext cx="552600" cy="2133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8504280" y="4802760"/>
            <a:ext cx="63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I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-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8305920" y="2085840"/>
            <a:ext cx="152280" cy="119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8344080" y="2116080"/>
            <a:ext cx="75960" cy="58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4664160" y="250344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100M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3029040" y="995400"/>
            <a:ext cx="1814400" cy="1326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4191120" y="170028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4630680" y="12715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100M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6035760" y="1415880"/>
            <a:ext cx="838080" cy="516240"/>
          </a:xfrm>
          <a:prstGeom prst="cube">
            <a:avLst>
              <a:gd name="adj" fmla="val 11606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3867120" y="170028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4014720" y="1428840"/>
            <a:ext cx="762120" cy="523800"/>
          </a:xfrm>
          <a:prstGeom prst="cube">
            <a:avLst>
              <a:gd name="adj" fmla="val 12500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4076640" y="1533600"/>
            <a:ext cx="62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E/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2" name=""/>
          <p:cNvGrpSpPr/>
          <p:nvPr/>
        </p:nvGrpSpPr>
        <p:grpSpPr>
          <a:xfrm>
            <a:off x="3333600" y="1027080"/>
            <a:ext cx="524160" cy="355680"/>
            <a:chOff x="3333600" y="1027080"/>
            <a:chExt cx="524160" cy="355680"/>
          </a:xfrm>
        </p:grpSpPr>
        <p:grpSp>
          <p:nvGrpSpPr>
            <p:cNvPr id="1483" name=""/>
            <p:cNvGrpSpPr/>
            <p:nvPr/>
          </p:nvGrpSpPr>
          <p:grpSpPr>
            <a:xfrm>
              <a:off x="3704400" y="1105920"/>
              <a:ext cx="64080" cy="118440"/>
              <a:chOff x="3704400" y="1105920"/>
              <a:chExt cx="64080" cy="118440"/>
            </a:xfrm>
          </p:grpSpPr>
          <p:sp>
            <p:nvSpPr>
              <p:cNvPr id="1484" name=""/>
              <p:cNvSpPr/>
              <p:nvPr/>
            </p:nvSpPr>
            <p:spPr>
              <a:xfrm>
                <a:off x="3707640" y="1107720"/>
                <a:ext cx="60840" cy="1141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3744720" y="1105920"/>
                <a:ext cx="0" cy="118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3704400" y="1105920"/>
                <a:ext cx="0" cy="118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7" name=""/>
            <p:cNvSpPr/>
            <p:nvPr/>
          </p:nvSpPr>
          <p:spPr>
            <a:xfrm>
              <a:off x="3738960" y="1165320"/>
              <a:ext cx="11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3585600" y="1165320"/>
              <a:ext cx="118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89" name="" descr=""/>
            <p:cNvPicPr/>
            <p:nvPr/>
          </p:nvPicPr>
          <p:blipFill>
            <a:blip r:embed="rId2"/>
            <a:stretch/>
          </p:blipFill>
          <p:spPr>
            <a:xfrm>
              <a:off x="3333600" y="1027080"/>
              <a:ext cx="274320" cy="355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90" name=""/>
          <p:cNvSpPr/>
          <p:nvPr/>
        </p:nvSpPr>
        <p:spPr>
          <a:xfrm>
            <a:off x="3857760" y="1165320"/>
            <a:ext cx="0" cy="1077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1" name=""/>
          <p:cNvGrpSpPr/>
          <p:nvPr/>
        </p:nvGrpSpPr>
        <p:grpSpPr>
          <a:xfrm>
            <a:off x="3333600" y="1441440"/>
            <a:ext cx="524160" cy="355680"/>
            <a:chOff x="3333600" y="1441440"/>
            <a:chExt cx="524160" cy="355680"/>
          </a:xfrm>
        </p:grpSpPr>
        <p:grpSp>
          <p:nvGrpSpPr>
            <p:cNvPr id="1492" name=""/>
            <p:cNvGrpSpPr/>
            <p:nvPr/>
          </p:nvGrpSpPr>
          <p:grpSpPr>
            <a:xfrm>
              <a:off x="3704400" y="1520280"/>
              <a:ext cx="64080" cy="118440"/>
              <a:chOff x="3704400" y="1520280"/>
              <a:chExt cx="64080" cy="118440"/>
            </a:xfrm>
          </p:grpSpPr>
          <p:sp>
            <p:nvSpPr>
              <p:cNvPr id="1493" name=""/>
              <p:cNvSpPr/>
              <p:nvPr/>
            </p:nvSpPr>
            <p:spPr>
              <a:xfrm>
                <a:off x="3707640" y="1522080"/>
                <a:ext cx="60840" cy="1141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3744720" y="1520280"/>
                <a:ext cx="0" cy="118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3704400" y="1520280"/>
                <a:ext cx="0" cy="118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6" name=""/>
            <p:cNvSpPr/>
            <p:nvPr/>
          </p:nvSpPr>
          <p:spPr>
            <a:xfrm>
              <a:off x="3738960" y="1579680"/>
              <a:ext cx="11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3585600" y="1579680"/>
              <a:ext cx="118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98" name="" descr=""/>
            <p:cNvPicPr/>
            <p:nvPr/>
          </p:nvPicPr>
          <p:blipFill>
            <a:blip r:embed="rId3"/>
            <a:stretch/>
          </p:blipFill>
          <p:spPr>
            <a:xfrm>
              <a:off x="3333600" y="1441440"/>
              <a:ext cx="274320" cy="355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99" name=""/>
          <p:cNvSpPr/>
          <p:nvPr/>
        </p:nvSpPr>
        <p:spPr>
          <a:xfrm>
            <a:off x="3747960" y="1798560"/>
            <a:ext cx="119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3747960" y="2100240"/>
            <a:ext cx="119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4029120" y="2701800"/>
            <a:ext cx="762120" cy="524160"/>
          </a:xfrm>
          <a:prstGeom prst="cube">
            <a:avLst>
              <a:gd name="adj" fmla="val 12500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141120" y="941400"/>
            <a:ext cx="2173320" cy="4525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237960" y="955800"/>
            <a:ext cx="229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Business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247680" y="137628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For Business us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328680" y="1668600"/>
            <a:ext cx="24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HG丸ｺﾞｼｯｸM-PRO"/>
              </a:rPr>
              <a:t>(40,000JPY/Mont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4076640" y="2790720"/>
            <a:ext cx="62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E/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6135840" y="1514520"/>
            <a:ext cx="62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O/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6135840" y="2727360"/>
            <a:ext cx="62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O/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0" y="114480"/>
            <a:ext cx="9144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HG丸ｺﾞｼｯｸM-PRO"/>
              </a:rPr>
              <a:t>Access Configuration of B-FLET’S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7416720" y="4607280"/>
            <a:ext cx="99720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Network Terminal Equi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3105000" y="5175360"/>
            <a:ext cx="1752840" cy="12826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4343400" y="572436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141120" y="5316480"/>
            <a:ext cx="2803680" cy="4287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252360" y="59896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HG丸ｺﾞｼｯｸM-PRO"/>
              </a:rPr>
              <a:t>(3,500JPY/Mont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4656240" y="531504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100M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247680" y="5802480"/>
            <a:ext cx="28702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Shared use by the 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6035760" y="5457960"/>
            <a:ext cx="838080" cy="515880"/>
          </a:xfrm>
          <a:prstGeom prst="cube">
            <a:avLst>
              <a:gd name="adj" fmla="val 11606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4043520" y="5462640"/>
            <a:ext cx="761760" cy="523800"/>
          </a:xfrm>
          <a:prstGeom prst="cube">
            <a:avLst>
              <a:gd name="adj" fmla="val 12500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3895560" y="574668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0" name=""/>
          <p:cNvGrpSpPr/>
          <p:nvPr/>
        </p:nvGrpSpPr>
        <p:grpSpPr>
          <a:xfrm>
            <a:off x="3362400" y="5199120"/>
            <a:ext cx="523440" cy="355680"/>
            <a:chOff x="3362400" y="5199120"/>
            <a:chExt cx="523440" cy="355680"/>
          </a:xfrm>
        </p:grpSpPr>
        <p:grpSp>
          <p:nvGrpSpPr>
            <p:cNvPr id="1521" name=""/>
            <p:cNvGrpSpPr/>
            <p:nvPr/>
          </p:nvGrpSpPr>
          <p:grpSpPr>
            <a:xfrm>
              <a:off x="3732840" y="5277960"/>
              <a:ext cx="64080" cy="118440"/>
              <a:chOff x="3732840" y="5277960"/>
              <a:chExt cx="64080" cy="118440"/>
            </a:xfrm>
          </p:grpSpPr>
          <p:sp>
            <p:nvSpPr>
              <p:cNvPr id="1522" name=""/>
              <p:cNvSpPr/>
              <p:nvPr/>
            </p:nvSpPr>
            <p:spPr>
              <a:xfrm>
                <a:off x="3736080" y="5279760"/>
                <a:ext cx="60840" cy="1141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3773160" y="5277960"/>
                <a:ext cx="0" cy="118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3732840" y="5277960"/>
                <a:ext cx="0" cy="118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5" name=""/>
            <p:cNvSpPr/>
            <p:nvPr/>
          </p:nvSpPr>
          <p:spPr>
            <a:xfrm>
              <a:off x="3767400" y="5337360"/>
              <a:ext cx="118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3614400" y="5337360"/>
              <a:ext cx="118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27" name="" descr=""/>
            <p:cNvPicPr/>
            <p:nvPr/>
          </p:nvPicPr>
          <p:blipFill>
            <a:blip r:embed="rId4"/>
            <a:stretch/>
          </p:blipFill>
          <p:spPr>
            <a:xfrm>
              <a:off x="3362400" y="5199120"/>
              <a:ext cx="273960" cy="355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28" name=""/>
          <p:cNvSpPr/>
          <p:nvPr/>
        </p:nvSpPr>
        <p:spPr>
          <a:xfrm>
            <a:off x="3886200" y="5342040"/>
            <a:ext cx="6480" cy="81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3776760" y="5681520"/>
            <a:ext cx="11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3776760" y="5899320"/>
            <a:ext cx="11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4076640" y="5572080"/>
            <a:ext cx="62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E/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6135840" y="5548320"/>
            <a:ext cx="62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O/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152280" y="5381640"/>
            <a:ext cx="28958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Condominium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2814480" y="3637080"/>
            <a:ext cx="2224080" cy="1131840"/>
          </a:xfrm>
          <a:custGeom>
            <a:avLst/>
            <a:gdLst/>
            <a:ahLst/>
            <a:rect l="l" t="t" r="r" b="b"/>
            <a:pathLst>
              <a:path w="1344" h="816">
                <a:moveTo>
                  <a:pt x="672" y="0"/>
                </a:moveTo>
                <a:lnTo>
                  <a:pt x="0" y="240"/>
                </a:lnTo>
                <a:lnTo>
                  <a:pt x="144" y="240"/>
                </a:lnTo>
                <a:lnTo>
                  <a:pt x="144" y="816"/>
                </a:lnTo>
                <a:lnTo>
                  <a:pt x="1200" y="816"/>
                </a:lnTo>
                <a:lnTo>
                  <a:pt x="1200" y="240"/>
                </a:lnTo>
                <a:lnTo>
                  <a:pt x="1344" y="240"/>
                </a:lnTo>
                <a:lnTo>
                  <a:pt x="672" y="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141120" y="3324240"/>
            <a:ext cx="2197440" cy="4604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4343400" y="416232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237960" y="3355920"/>
            <a:ext cx="184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Family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39600" y="4024440"/>
            <a:ext cx="395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HG丸ｺﾞｼｯｸM-PRO"/>
              </a:rPr>
              <a:t>(10Mbps) ---(5,000JPY/Mont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HG丸ｺﾞｼｯｸM-PRO"/>
              </a:rPr>
              <a:t>(100Mbps) -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HG丸ｺﾞｼｯｸM-PRO"/>
              </a:rPr>
              <a:t> 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HG丸ｺﾞｼｯｸM-PRO"/>
              </a:rPr>
              <a:t>(4,300JPY/Month) (NTT West)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HG丸ｺﾞｼｯｸM-PRO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HG丸ｺﾞｼｯｸM-PRO"/>
              </a:rPr>
              <a:t> 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HG丸ｺﾞｼｯｸM-PRO"/>
              </a:rPr>
              <a:t>(5,800JPY/Month) (NTT Ea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5315040" y="3925800"/>
            <a:ext cx="304560" cy="23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 flipH="1">
            <a:off x="5315040" y="4162320"/>
            <a:ext cx="304560" cy="23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5543640" y="4103640"/>
            <a:ext cx="152280" cy="117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4524480" y="331308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10Mbps 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100M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6068880" y="3886200"/>
            <a:ext cx="838440" cy="515880"/>
          </a:xfrm>
          <a:prstGeom prst="cube">
            <a:avLst>
              <a:gd name="adj" fmla="val 11606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3995640" y="3952800"/>
            <a:ext cx="762120" cy="523800"/>
          </a:xfrm>
          <a:prstGeom prst="cube">
            <a:avLst>
              <a:gd name="adj" fmla="val 12500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5" name=""/>
          <p:cNvGrpSpPr/>
          <p:nvPr/>
        </p:nvGrpSpPr>
        <p:grpSpPr>
          <a:xfrm>
            <a:off x="3476520" y="4025880"/>
            <a:ext cx="520560" cy="355680"/>
            <a:chOff x="3476520" y="4025880"/>
            <a:chExt cx="520560" cy="355680"/>
          </a:xfrm>
        </p:grpSpPr>
        <p:grpSp>
          <p:nvGrpSpPr>
            <p:cNvPr id="1546" name=""/>
            <p:cNvGrpSpPr/>
            <p:nvPr/>
          </p:nvGrpSpPr>
          <p:grpSpPr>
            <a:xfrm>
              <a:off x="3845160" y="4105080"/>
              <a:ext cx="63720" cy="119160"/>
              <a:chOff x="3845160" y="4105080"/>
              <a:chExt cx="63720" cy="119160"/>
            </a:xfrm>
          </p:grpSpPr>
          <p:sp>
            <p:nvSpPr>
              <p:cNvPr id="1547" name=""/>
              <p:cNvSpPr/>
              <p:nvPr/>
            </p:nvSpPr>
            <p:spPr>
              <a:xfrm>
                <a:off x="3848400" y="4106880"/>
                <a:ext cx="60480" cy="1148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3885120" y="4105080"/>
                <a:ext cx="0" cy="11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3845160" y="4105080"/>
                <a:ext cx="0" cy="11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0" name=""/>
            <p:cNvSpPr/>
            <p:nvPr/>
          </p:nvSpPr>
          <p:spPr>
            <a:xfrm>
              <a:off x="3879360" y="4163760"/>
              <a:ext cx="11772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3727080" y="4163760"/>
              <a:ext cx="1180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52" name="" descr=""/>
            <p:cNvPicPr/>
            <p:nvPr/>
          </p:nvPicPr>
          <p:blipFill>
            <a:blip r:embed="rId5"/>
            <a:stretch/>
          </p:blipFill>
          <p:spPr>
            <a:xfrm>
              <a:off x="3476520" y="4025880"/>
              <a:ext cx="272880" cy="355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53" name=""/>
          <p:cNvSpPr/>
          <p:nvPr/>
        </p:nvSpPr>
        <p:spPr>
          <a:xfrm>
            <a:off x="4033800" y="4051440"/>
            <a:ext cx="62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E/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6135840" y="3987720"/>
            <a:ext cx="62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O/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247680" y="3757680"/>
            <a:ext cx="192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For mass user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7054920" y="5504040"/>
            <a:ext cx="609480" cy="426960"/>
          </a:xfrm>
          <a:prstGeom prst="cube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B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5403960" y="3900600"/>
            <a:ext cx="88920" cy="507960"/>
          </a:xfrm>
          <a:custGeom>
            <a:avLst/>
            <a:gdLst>
              <a:gd name="textAreaLeft" fmla="*/ 25920 w 88920"/>
              <a:gd name="textAreaRight" fmla="*/ 89280 w 88920"/>
              <a:gd name="textAreaTop" fmla="*/ 20880 h 507960"/>
              <a:gd name="textAreaBottom" fmla="*/ 487080 h 507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3357360" y="1782720"/>
            <a:ext cx="214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3395520" y="5567400"/>
            <a:ext cx="214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6997680" y="1482840"/>
            <a:ext cx="609480" cy="426960"/>
          </a:xfrm>
          <a:prstGeom prst="cube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B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7005600" y="2678040"/>
            <a:ext cx="609480" cy="426960"/>
          </a:xfrm>
          <a:prstGeom prst="cube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B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7002360" y="3935520"/>
            <a:ext cx="609840" cy="426960"/>
          </a:xfrm>
          <a:prstGeom prst="cube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B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3" name="" descr=""/>
          <p:cNvPicPr/>
          <p:nvPr/>
        </p:nvPicPr>
        <p:blipFill>
          <a:blip r:embed="rId1"/>
          <a:stretch/>
        </p:blipFill>
        <p:spPr>
          <a:xfrm>
            <a:off x="25560" y="2705040"/>
            <a:ext cx="2860560" cy="2040120"/>
          </a:xfrm>
          <a:prstGeom prst="rect">
            <a:avLst/>
          </a:prstGeom>
          <a:ln w="0">
            <a:noFill/>
          </a:ln>
        </p:spPr>
      </p:pic>
      <p:sp>
        <p:nvSpPr>
          <p:cNvPr id="1564" name=""/>
          <p:cNvSpPr/>
          <p:nvPr/>
        </p:nvSpPr>
        <p:spPr>
          <a:xfrm>
            <a:off x="6710400" y="1378080"/>
            <a:ext cx="41400" cy="4680"/>
          </a:xfrm>
          <a:prstGeom prst="rect">
            <a:avLst/>
          </a:prstGeom>
          <a:solidFill>
            <a:srgbClr val="b2a8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7952400" y="3273480"/>
            <a:ext cx="9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To O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7983000" y="3851280"/>
            <a:ext cx="8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7584480" y="430704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PC: WEB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Brow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169560" y="114480"/>
            <a:ext cx="8795880" cy="58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HG丸ｺﾞｼｯｸM-PRO"/>
              </a:rPr>
              <a:t>155/622M Broadband IP Access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 flipV="1">
            <a:off x="7456320" y="3457080"/>
            <a:ext cx="4590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Cloud"/>
          <p:cNvSpPr/>
          <p:nvPr/>
        </p:nvSpPr>
        <p:spPr>
          <a:xfrm>
            <a:off x="7353360" y="2157480"/>
            <a:ext cx="1790640" cy="102384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Cloud"/>
          <p:cNvSpPr/>
          <p:nvPr/>
        </p:nvSpPr>
        <p:spPr>
          <a:xfrm>
            <a:off x="7334280" y="1003320"/>
            <a:ext cx="1809720" cy="10890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 flipH="1" flipV="1">
            <a:off x="7003800" y="4187520"/>
            <a:ext cx="106200" cy="1019160"/>
          </a:xfrm>
          <a:prstGeom prst="line">
            <a:avLst/>
          </a:prstGeom>
          <a:ln w="88920">
            <a:solidFill>
              <a:srgbClr val="8080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 flipH="1" flipV="1">
            <a:off x="1235160" y="2560680"/>
            <a:ext cx="622080" cy="488880"/>
          </a:xfrm>
          <a:prstGeom prst="line">
            <a:avLst/>
          </a:prstGeom>
          <a:ln w="88920">
            <a:solidFill>
              <a:srgbClr val="8080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6653160" y="5180040"/>
            <a:ext cx="2298600" cy="1025640"/>
          </a:xfrm>
          <a:prstGeom prst="roundRect">
            <a:avLst>
              <a:gd name="adj" fmla="val 19875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 flipV="1">
            <a:off x="3432240" y="3149640"/>
            <a:ext cx="560160" cy="1773360"/>
          </a:xfrm>
          <a:prstGeom prst="line">
            <a:avLst/>
          </a:prstGeom>
          <a:ln w="88920">
            <a:solidFill>
              <a:srgbClr val="8080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 flipV="1">
            <a:off x="4684680" y="3179520"/>
            <a:ext cx="274680" cy="965160"/>
          </a:xfrm>
          <a:prstGeom prst="line">
            <a:avLst/>
          </a:prstGeom>
          <a:ln w="88920">
            <a:solidFill>
              <a:srgbClr val="8080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3808440" y="4143240"/>
            <a:ext cx="2673360" cy="21830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1635120" y="3100320"/>
            <a:ext cx="1711440" cy="158616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3319560" y="1125360"/>
            <a:ext cx="2611440" cy="2146320"/>
          </a:xfrm>
          <a:prstGeom prst="roundRect">
            <a:avLst>
              <a:gd name="adj" fmla="val 4630"/>
            </a:avLst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3438360" y="1209600"/>
            <a:ext cx="1078200" cy="1932120"/>
          </a:xfrm>
          <a:prstGeom prst="cube">
            <a:avLst>
              <a:gd name="adj" fmla="val 4935"/>
            </a:avLst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 flipH="1">
            <a:off x="4211280" y="2386080"/>
            <a:ext cx="42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3668760" y="771480"/>
            <a:ext cx="184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O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 flipH="1">
            <a:off x="270000" y="1709640"/>
            <a:ext cx="4016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2830680" y="1633680"/>
            <a:ext cx="153720" cy="14256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 flipH="1">
            <a:off x="2633760" y="1690560"/>
            <a:ext cx="288720" cy="266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 flipH="1" flipV="1">
            <a:off x="2633760" y="1442520"/>
            <a:ext cx="288720" cy="266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 rot="10800000">
            <a:off x="2735640" y="1474920"/>
            <a:ext cx="187920" cy="437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671" y="3690"/>
                </a:moveTo>
                <a:arcTo wR="10800" hR="10800" stAng="-8329460" swAng="16928213"/>
                <a:lnTo>
                  <a:pt x="10800" y="10800"/>
                </a:lnTo>
                <a:close/>
              </a:path>
              <a:path fill="none" w="21600" h="21600">
                <a:moveTo>
                  <a:pt x="2671" y="3690"/>
                </a:moveTo>
                <a:arcTo wR="10800" hR="10800" stAng="-8329460" swAng="16928213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1779480" y="84456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MAX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32 Bran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 flipH="1">
            <a:off x="234720" y="2424240"/>
            <a:ext cx="3957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622440" y="1609560"/>
            <a:ext cx="0" cy="20016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0" y="1101600"/>
            <a:ext cx="182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100BASE-T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2830680" y="2347920"/>
            <a:ext cx="153720" cy="1429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 flipH="1">
            <a:off x="2633760" y="2405160"/>
            <a:ext cx="288720" cy="266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 flipH="1" flipV="1">
            <a:off x="2633760" y="2157120"/>
            <a:ext cx="288720" cy="266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 rot="10800000">
            <a:off x="2735640" y="2189160"/>
            <a:ext cx="187920" cy="437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671" y="3690"/>
                </a:moveTo>
                <a:arcTo wR="10800" hR="10800" stAng="-8329460" swAng="16928213"/>
                <a:lnTo>
                  <a:pt x="10800" y="10800"/>
                </a:lnTo>
                <a:close/>
              </a:path>
              <a:path fill="none" w="21600" h="21600">
                <a:moveTo>
                  <a:pt x="2671" y="3690"/>
                </a:moveTo>
                <a:arcTo wR="10800" hR="10800" stAng="-8329460" swAng="16928213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622440" y="2328840"/>
            <a:ext cx="0" cy="20016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7" name=""/>
          <p:cNvGrpSpPr/>
          <p:nvPr/>
        </p:nvGrpSpPr>
        <p:grpSpPr>
          <a:xfrm>
            <a:off x="3394080" y="1444680"/>
            <a:ext cx="1069920" cy="518760"/>
            <a:chOff x="3394080" y="1444680"/>
            <a:chExt cx="1069920" cy="518760"/>
          </a:xfrm>
        </p:grpSpPr>
        <p:sp>
          <p:nvSpPr>
            <p:cNvPr id="1598" name=""/>
            <p:cNvSpPr/>
            <p:nvPr/>
          </p:nvSpPr>
          <p:spPr>
            <a:xfrm flipH="1">
              <a:off x="4041720" y="1719360"/>
              <a:ext cx="15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3451320" y="1444680"/>
              <a:ext cx="917640" cy="4777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3394080" y="1514520"/>
              <a:ext cx="1069920" cy="4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HG丸ｺﾞｼｯｸM-PRO"/>
                </a:rPr>
                <a:t>PDS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HG丸ｺﾞｼｯｸM-PRO"/>
                </a:rPr>
                <a:t>Ether-I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1" name=""/>
          <p:cNvSpPr/>
          <p:nvPr/>
        </p:nvSpPr>
        <p:spPr>
          <a:xfrm rot="16200000">
            <a:off x="3578760" y="1890000"/>
            <a:ext cx="29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5904000" y="1930320"/>
            <a:ext cx="1684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100BASE-TX or Gb-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 flipH="1">
            <a:off x="4273560" y="1738440"/>
            <a:ext cx="34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 rot="16200000">
            <a:off x="4269240" y="1991520"/>
            <a:ext cx="29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838080" y="2271600"/>
            <a:ext cx="517680" cy="2858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ON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833400" y="1544760"/>
            <a:ext cx="507960" cy="2854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ON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6102360" y="1557360"/>
            <a:ext cx="0" cy="8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6102360" y="2612880"/>
            <a:ext cx="0" cy="8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5267160" y="1595520"/>
            <a:ext cx="209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5267160" y="2652840"/>
            <a:ext cx="2094120" cy="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5773680" y="3749760"/>
            <a:ext cx="1308240" cy="42840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6048000" y="377496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DC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5411880" y="3108240"/>
            <a:ext cx="579240" cy="73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4" name=""/>
          <p:cNvGrpSpPr/>
          <p:nvPr/>
        </p:nvGrpSpPr>
        <p:grpSpPr>
          <a:xfrm>
            <a:off x="7334280" y="4343400"/>
            <a:ext cx="363600" cy="328680"/>
            <a:chOff x="7334280" y="4343400"/>
            <a:chExt cx="363600" cy="328680"/>
          </a:xfrm>
        </p:grpSpPr>
        <p:sp>
          <p:nvSpPr>
            <p:cNvPr id="1615" name=""/>
            <p:cNvSpPr/>
            <p:nvPr/>
          </p:nvSpPr>
          <p:spPr>
            <a:xfrm>
              <a:off x="7614720" y="4629960"/>
              <a:ext cx="54000" cy="29160"/>
            </a:xfrm>
            <a:custGeom>
              <a:avLst/>
              <a:gdLst/>
              <a:ahLst/>
              <a:rect l="l" t="t" r="r" b="b"/>
              <a:pathLst>
                <a:path w="2446" h="1290">
                  <a:moveTo>
                    <a:pt x="2424" y="1162"/>
                  </a:moveTo>
                  <a:lnTo>
                    <a:pt x="1276" y="23"/>
                  </a:lnTo>
                  <a:lnTo>
                    <a:pt x="1273" y="20"/>
                  </a:lnTo>
                  <a:lnTo>
                    <a:pt x="1270" y="18"/>
                  </a:lnTo>
                  <a:lnTo>
                    <a:pt x="1267" y="14"/>
                  </a:lnTo>
                  <a:lnTo>
                    <a:pt x="1264" y="12"/>
                  </a:lnTo>
                  <a:lnTo>
                    <a:pt x="1261" y="10"/>
                  </a:lnTo>
                  <a:lnTo>
                    <a:pt x="1258" y="8"/>
                  </a:lnTo>
                  <a:lnTo>
                    <a:pt x="1255" y="7"/>
                  </a:lnTo>
                  <a:lnTo>
                    <a:pt x="1251" y="5"/>
                  </a:lnTo>
                  <a:lnTo>
                    <a:pt x="1248" y="4"/>
                  </a:lnTo>
                  <a:lnTo>
                    <a:pt x="1244" y="3"/>
                  </a:lnTo>
                  <a:lnTo>
                    <a:pt x="1241" y="2"/>
                  </a:lnTo>
                  <a:lnTo>
                    <a:pt x="1237" y="1"/>
                  </a:lnTo>
                  <a:lnTo>
                    <a:pt x="1233" y="0"/>
                  </a:lnTo>
                  <a:lnTo>
                    <a:pt x="1229" y="0"/>
                  </a:lnTo>
                  <a:lnTo>
                    <a:pt x="1225" y="0"/>
                  </a:lnTo>
                  <a:lnTo>
                    <a:pt x="1222" y="0"/>
                  </a:lnTo>
                  <a:lnTo>
                    <a:pt x="75" y="0"/>
                  </a:lnTo>
                  <a:lnTo>
                    <a:pt x="66" y="0"/>
                  </a:lnTo>
                  <a:lnTo>
                    <a:pt x="59" y="1"/>
                  </a:lnTo>
                  <a:lnTo>
                    <a:pt x="51" y="3"/>
                  </a:lnTo>
                  <a:lnTo>
                    <a:pt x="45" y="5"/>
                  </a:lnTo>
                  <a:lnTo>
                    <a:pt x="38" y="8"/>
                  </a:lnTo>
                  <a:lnTo>
                    <a:pt x="32" y="12"/>
                  </a:lnTo>
                  <a:lnTo>
                    <a:pt x="26" y="16"/>
                  </a:lnTo>
                  <a:lnTo>
                    <a:pt x="21" y="22"/>
                  </a:lnTo>
                  <a:lnTo>
                    <a:pt x="16" y="28"/>
                  </a:lnTo>
                  <a:lnTo>
                    <a:pt x="12" y="33"/>
                  </a:lnTo>
                  <a:lnTo>
                    <a:pt x="8" y="39"/>
                  </a:lnTo>
                  <a:lnTo>
                    <a:pt x="5" y="46"/>
                  </a:lnTo>
                  <a:lnTo>
                    <a:pt x="3" y="53"/>
                  </a:lnTo>
                  <a:lnTo>
                    <a:pt x="1" y="60"/>
                  </a:lnTo>
                  <a:lnTo>
                    <a:pt x="0" y="68"/>
                  </a:lnTo>
                  <a:lnTo>
                    <a:pt x="0" y="76"/>
                  </a:lnTo>
                  <a:lnTo>
                    <a:pt x="0" y="83"/>
                  </a:lnTo>
                  <a:lnTo>
                    <a:pt x="1" y="90"/>
                  </a:lnTo>
                  <a:lnTo>
                    <a:pt x="3" y="98"/>
                  </a:lnTo>
                  <a:lnTo>
                    <a:pt x="5" y="105"/>
                  </a:lnTo>
                  <a:lnTo>
                    <a:pt x="8" y="111"/>
                  </a:lnTo>
                  <a:lnTo>
                    <a:pt x="12" y="117"/>
                  </a:lnTo>
                  <a:lnTo>
                    <a:pt x="16" y="123"/>
                  </a:lnTo>
                  <a:lnTo>
                    <a:pt x="21" y="128"/>
                  </a:lnTo>
                  <a:lnTo>
                    <a:pt x="26" y="133"/>
                  </a:lnTo>
                  <a:lnTo>
                    <a:pt x="32" y="138"/>
                  </a:lnTo>
                  <a:lnTo>
                    <a:pt x="38" y="141"/>
                  </a:lnTo>
                  <a:lnTo>
                    <a:pt x="45" y="145"/>
                  </a:lnTo>
                  <a:lnTo>
                    <a:pt x="51" y="147"/>
                  </a:lnTo>
                  <a:lnTo>
                    <a:pt x="59" y="149"/>
                  </a:lnTo>
                  <a:lnTo>
                    <a:pt x="66" y="150"/>
                  </a:lnTo>
                  <a:lnTo>
                    <a:pt x="75" y="151"/>
                  </a:lnTo>
                  <a:lnTo>
                    <a:pt x="1191" y="151"/>
                  </a:lnTo>
                  <a:lnTo>
                    <a:pt x="2317" y="1268"/>
                  </a:lnTo>
                  <a:lnTo>
                    <a:pt x="2322" y="1273"/>
                  </a:lnTo>
                  <a:lnTo>
                    <a:pt x="2328" y="1277"/>
                  </a:lnTo>
                  <a:lnTo>
                    <a:pt x="2335" y="1281"/>
                  </a:lnTo>
                  <a:lnTo>
                    <a:pt x="2341" y="1284"/>
                  </a:lnTo>
                  <a:lnTo>
                    <a:pt x="2348" y="1287"/>
                  </a:lnTo>
                  <a:lnTo>
                    <a:pt x="2355" y="1289"/>
                  </a:lnTo>
                  <a:lnTo>
                    <a:pt x="2362" y="1290"/>
                  </a:lnTo>
                  <a:lnTo>
                    <a:pt x="2370" y="1290"/>
                  </a:lnTo>
                  <a:lnTo>
                    <a:pt x="2377" y="1290"/>
                  </a:lnTo>
                  <a:lnTo>
                    <a:pt x="2384" y="1289"/>
                  </a:lnTo>
                  <a:lnTo>
                    <a:pt x="2391" y="1287"/>
                  </a:lnTo>
                  <a:lnTo>
                    <a:pt x="2399" y="1284"/>
                  </a:lnTo>
                  <a:lnTo>
                    <a:pt x="2405" y="1281"/>
                  </a:lnTo>
                  <a:lnTo>
                    <a:pt x="2412" y="1277"/>
                  </a:lnTo>
                  <a:lnTo>
                    <a:pt x="2418" y="1273"/>
                  </a:lnTo>
                  <a:lnTo>
                    <a:pt x="2424" y="1268"/>
                  </a:lnTo>
                  <a:lnTo>
                    <a:pt x="2429" y="1262"/>
                  </a:lnTo>
                  <a:lnTo>
                    <a:pt x="2433" y="1256"/>
                  </a:lnTo>
                  <a:lnTo>
                    <a:pt x="2437" y="1250"/>
                  </a:lnTo>
                  <a:lnTo>
                    <a:pt x="2440" y="1243"/>
                  </a:lnTo>
                  <a:lnTo>
                    <a:pt x="2443" y="1236"/>
                  </a:lnTo>
                  <a:lnTo>
                    <a:pt x="2445" y="1229"/>
                  </a:lnTo>
                  <a:lnTo>
                    <a:pt x="2446" y="1222"/>
                  </a:lnTo>
                  <a:lnTo>
                    <a:pt x="2446" y="1215"/>
                  </a:lnTo>
                  <a:lnTo>
                    <a:pt x="2446" y="1208"/>
                  </a:lnTo>
                  <a:lnTo>
                    <a:pt x="2445" y="1201"/>
                  </a:lnTo>
                  <a:lnTo>
                    <a:pt x="2443" y="1194"/>
                  </a:lnTo>
                  <a:lnTo>
                    <a:pt x="2440" y="1187"/>
                  </a:lnTo>
                  <a:lnTo>
                    <a:pt x="2437" y="1180"/>
                  </a:lnTo>
                  <a:lnTo>
                    <a:pt x="2433" y="1173"/>
                  </a:lnTo>
                  <a:lnTo>
                    <a:pt x="2429" y="1167"/>
                  </a:lnTo>
                  <a:lnTo>
                    <a:pt x="2424" y="11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7651440" y="4664160"/>
              <a:ext cx="44640" cy="6480"/>
            </a:xfrm>
            <a:prstGeom prst="rect">
              <a:avLst/>
            </a:prstGeom>
            <a:solidFill>
              <a:srgbClr val="fff7e2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7651440" y="4641480"/>
              <a:ext cx="44640" cy="22320"/>
            </a:xfrm>
            <a:custGeom>
              <a:avLst/>
              <a:gdLst/>
              <a:ahLst/>
              <a:rect l="l" t="t" r="r" b="b"/>
              <a:pathLst>
                <a:path w="2009" h="998">
                  <a:moveTo>
                    <a:pt x="2009" y="998"/>
                  </a:moveTo>
                  <a:lnTo>
                    <a:pt x="2003" y="896"/>
                  </a:lnTo>
                  <a:lnTo>
                    <a:pt x="1987" y="796"/>
                  </a:lnTo>
                  <a:lnTo>
                    <a:pt x="1963" y="701"/>
                  </a:lnTo>
                  <a:lnTo>
                    <a:pt x="1929" y="609"/>
                  </a:lnTo>
                  <a:lnTo>
                    <a:pt x="1887" y="522"/>
                  </a:lnTo>
                  <a:lnTo>
                    <a:pt x="1837" y="440"/>
                  </a:lnTo>
                  <a:lnTo>
                    <a:pt x="1779" y="362"/>
                  </a:lnTo>
                  <a:lnTo>
                    <a:pt x="1714" y="292"/>
                  </a:lnTo>
                  <a:lnTo>
                    <a:pt x="1643" y="227"/>
                  </a:lnTo>
                  <a:lnTo>
                    <a:pt x="1566" y="169"/>
                  </a:lnTo>
                  <a:lnTo>
                    <a:pt x="1483" y="119"/>
                  </a:lnTo>
                  <a:lnTo>
                    <a:pt x="1395" y="78"/>
                  </a:lnTo>
                  <a:lnTo>
                    <a:pt x="1303" y="44"/>
                  </a:lnTo>
                  <a:lnTo>
                    <a:pt x="1207" y="20"/>
                  </a:lnTo>
                  <a:lnTo>
                    <a:pt x="1107" y="5"/>
                  </a:lnTo>
                  <a:lnTo>
                    <a:pt x="1004" y="0"/>
                  </a:lnTo>
                  <a:lnTo>
                    <a:pt x="901" y="5"/>
                  </a:lnTo>
                  <a:lnTo>
                    <a:pt x="801" y="20"/>
                  </a:lnTo>
                  <a:lnTo>
                    <a:pt x="705" y="44"/>
                  </a:lnTo>
                  <a:lnTo>
                    <a:pt x="613" y="78"/>
                  </a:lnTo>
                  <a:lnTo>
                    <a:pt x="525" y="119"/>
                  </a:lnTo>
                  <a:lnTo>
                    <a:pt x="442" y="169"/>
                  </a:lnTo>
                  <a:lnTo>
                    <a:pt x="365" y="227"/>
                  </a:lnTo>
                  <a:lnTo>
                    <a:pt x="294" y="292"/>
                  </a:lnTo>
                  <a:lnTo>
                    <a:pt x="229" y="362"/>
                  </a:lnTo>
                  <a:lnTo>
                    <a:pt x="171" y="440"/>
                  </a:lnTo>
                  <a:lnTo>
                    <a:pt x="121" y="522"/>
                  </a:lnTo>
                  <a:lnTo>
                    <a:pt x="79" y="609"/>
                  </a:lnTo>
                  <a:lnTo>
                    <a:pt x="45" y="701"/>
                  </a:lnTo>
                  <a:lnTo>
                    <a:pt x="20" y="796"/>
                  </a:lnTo>
                  <a:lnTo>
                    <a:pt x="5" y="896"/>
                  </a:lnTo>
                  <a:lnTo>
                    <a:pt x="0" y="998"/>
                  </a:lnTo>
                  <a:lnTo>
                    <a:pt x="2009" y="998"/>
                  </a:lnTo>
                  <a:close/>
                </a:path>
              </a:pathLst>
            </a:custGeom>
            <a:solidFill>
              <a:srgbClr val="fff7e2"/>
            </a:solidFill>
            <a:ln w="6480">
              <a:solidFill>
                <a:srgbClr val="7f7c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361640" y="4344480"/>
              <a:ext cx="254520" cy="214920"/>
            </a:xfrm>
            <a:prstGeom prst="rect">
              <a:avLst/>
            </a:prstGeom>
            <a:solidFill>
              <a:srgbClr val="fff7e2"/>
            </a:solidFill>
            <a:ln w="6480">
              <a:solidFill>
                <a:srgbClr val="7f7c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7380720" y="4364280"/>
              <a:ext cx="216360" cy="175680"/>
            </a:xfrm>
            <a:prstGeom prst="rect">
              <a:avLst/>
            </a:prstGeom>
            <a:solidFill>
              <a:srgbClr val="aec9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7335720" y="4660560"/>
              <a:ext cx="306000" cy="10080"/>
            </a:xfrm>
            <a:prstGeom prst="rect">
              <a:avLst/>
            </a:prstGeom>
            <a:solidFill>
              <a:srgbClr val="fff7e2"/>
            </a:solidFill>
            <a:ln w="6480">
              <a:solidFill>
                <a:srgbClr val="7f7c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7425000" y="4559760"/>
              <a:ext cx="127800" cy="12600"/>
            </a:xfrm>
            <a:prstGeom prst="rect">
              <a:avLst/>
            </a:prstGeom>
            <a:solidFill>
              <a:srgbClr val="fff7e2"/>
            </a:solidFill>
            <a:ln w="6480">
              <a:solidFill>
                <a:srgbClr val="7f7c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393320" y="4572720"/>
              <a:ext cx="191160" cy="6480"/>
            </a:xfrm>
            <a:prstGeom prst="rect">
              <a:avLst/>
            </a:prstGeom>
            <a:solidFill>
              <a:srgbClr val="fff7e2"/>
            </a:solidFill>
            <a:ln w="6480">
              <a:solidFill>
                <a:srgbClr val="7f7c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7367760" y="4579560"/>
              <a:ext cx="241920" cy="32400"/>
            </a:xfrm>
            <a:prstGeom prst="rect">
              <a:avLst/>
            </a:prstGeom>
            <a:solidFill>
              <a:srgbClr val="fff7e2"/>
            </a:solidFill>
            <a:ln w="6480">
              <a:solidFill>
                <a:srgbClr val="7f7c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335720" y="4612320"/>
              <a:ext cx="306000" cy="48240"/>
            </a:xfrm>
            <a:custGeom>
              <a:avLst/>
              <a:gdLst/>
              <a:ahLst/>
              <a:rect l="l" t="t" r="r" b="b"/>
              <a:pathLst>
                <a:path w="13766" h="2138">
                  <a:moveTo>
                    <a:pt x="13766" y="2138"/>
                  </a:moveTo>
                  <a:lnTo>
                    <a:pt x="12332" y="0"/>
                  </a:lnTo>
                  <a:lnTo>
                    <a:pt x="1430" y="0"/>
                  </a:lnTo>
                  <a:lnTo>
                    <a:pt x="0" y="2138"/>
                  </a:lnTo>
                  <a:lnTo>
                    <a:pt x="13766" y="2138"/>
                  </a:lnTo>
                  <a:close/>
                </a:path>
              </a:pathLst>
            </a:custGeom>
            <a:solidFill>
              <a:srgbClr val="fff7e2"/>
            </a:solidFill>
            <a:ln w="6480">
              <a:solidFill>
                <a:srgbClr val="7f7c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7466400" y="4641480"/>
              <a:ext cx="19080" cy="9360"/>
            </a:xfrm>
            <a:prstGeom prst="rect">
              <a:avLst/>
            </a:prstGeom>
            <a:solidFill>
              <a:srgbClr val="b2a8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7492320" y="4641480"/>
              <a:ext cx="18720" cy="9360"/>
            </a:xfrm>
            <a:prstGeom prst="rect">
              <a:avLst/>
            </a:prstGeom>
            <a:solidFill>
              <a:srgbClr val="b2a8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7517520" y="4641480"/>
              <a:ext cx="19080" cy="9360"/>
            </a:xfrm>
            <a:prstGeom prst="rect">
              <a:avLst/>
            </a:prstGeom>
            <a:solidFill>
              <a:srgbClr val="b2a8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7543080" y="4641480"/>
              <a:ext cx="18720" cy="9360"/>
            </a:xfrm>
            <a:prstGeom prst="rect">
              <a:avLst/>
            </a:prstGeom>
            <a:solidFill>
              <a:srgbClr val="b2a8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7568280" y="4641480"/>
              <a:ext cx="19080" cy="9360"/>
            </a:xfrm>
            <a:prstGeom prst="rect">
              <a:avLst/>
            </a:prstGeom>
            <a:solidFill>
              <a:srgbClr val="b2a8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7593840" y="4641480"/>
              <a:ext cx="18360" cy="9360"/>
            </a:xfrm>
            <a:prstGeom prst="rect">
              <a:avLst/>
            </a:prstGeom>
            <a:solidFill>
              <a:srgbClr val="b2a8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7365240" y="4641480"/>
              <a:ext cx="18720" cy="9360"/>
            </a:xfrm>
            <a:prstGeom prst="rect">
              <a:avLst/>
            </a:prstGeom>
            <a:solidFill>
              <a:srgbClr val="b2a8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7390440" y="4641480"/>
              <a:ext cx="19080" cy="9360"/>
            </a:xfrm>
            <a:prstGeom prst="rect">
              <a:avLst/>
            </a:prstGeom>
            <a:solidFill>
              <a:srgbClr val="b2a8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7415640" y="4641480"/>
              <a:ext cx="19080" cy="9360"/>
            </a:xfrm>
            <a:prstGeom prst="rect">
              <a:avLst/>
            </a:prstGeom>
            <a:solidFill>
              <a:srgbClr val="b2a8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7441560" y="4641480"/>
              <a:ext cx="19080" cy="9360"/>
            </a:xfrm>
            <a:prstGeom prst="rect">
              <a:avLst/>
            </a:prstGeom>
            <a:solidFill>
              <a:srgbClr val="b2a8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479720" y="4621680"/>
              <a:ext cx="18360" cy="9360"/>
            </a:xfrm>
            <a:prstGeom prst="rect">
              <a:avLst/>
            </a:prstGeom>
            <a:solidFill>
              <a:srgbClr val="b2a8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7504920" y="4621680"/>
              <a:ext cx="18720" cy="9360"/>
            </a:xfrm>
            <a:prstGeom prst="rect">
              <a:avLst/>
            </a:prstGeom>
            <a:solidFill>
              <a:srgbClr val="b2a8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7530480" y="4621680"/>
              <a:ext cx="18720" cy="9360"/>
            </a:xfrm>
            <a:prstGeom prst="rect">
              <a:avLst/>
            </a:prstGeom>
            <a:solidFill>
              <a:srgbClr val="b2a8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7555680" y="4621680"/>
              <a:ext cx="19080" cy="9360"/>
            </a:xfrm>
            <a:prstGeom prst="rect">
              <a:avLst/>
            </a:prstGeom>
            <a:solidFill>
              <a:srgbClr val="b2a8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7580880" y="4621680"/>
              <a:ext cx="19080" cy="9360"/>
            </a:xfrm>
            <a:prstGeom prst="rect">
              <a:avLst/>
            </a:prstGeom>
            <a:solidFill>
              <a:srgbClr val="b2a8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7377840" y="4621680"/>
              <a:ext cx="19080" cy="9360"/>
            </a:xfrm>
            <a:prstGeom prst="rect">
              <a:avLst/>
            </a:prstGeom>
            <a:solidFill>
              <a:srgbClr val="b2a8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7403040" y="4621680"/>
              <a:ext cx="19080" cy="9360"/>
            </a:xfrm>
            <a:prstGeom prst="rect">
              <a:avLst/>
            </a:prstGeom>
            <a:solidFill>
              <a:srgbClr val="b2a8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7428960" y="4621680"/>
              <a:ext cx="19080" cy="9360"/>
            </a:xfrm>
            <a:prstGeom prst="rect">
              <a:avLst/>
            </a:prstGeom>
            <a:solidFill>
              <a:srgbClr val="b2a8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453800" y="4621680"/>
              <a:ext cx="19080" cy="9360"/>
            </a:xfrm>
            <a:prstGeom prst="rect">
              <a:avLst/>
            </a:prstGeom>
            <a:solidFill>
              <a:srgbClr val="b2a8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7549560" y="4588920"/>
              <a:ext cx="47520" cy="16200"/>
            </a:xfrm>
            <a:prstGeom prst="rect">
              <a:avLst/>
            </a:prstGeom>
            <a:solidFill>
              <a:srgbClr val="fff7e2"/>
            </a:solidFill>
            <a:ln w="6480">
              <a:solidFill>
                <a:srgbClr val="7f7c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7562160" y="4592520"/>
              <a:ext cx="22320" cy="9360"/>
            </a:xfrm>
            <a:prstGeom prst="rect">
              <a:avLst/>
            </a:prstGeom>
            <a:solidFill>
              <a:srgbClr val="fff7e2"/>
            </a:solidFill>
            <a:ln w="6480">
              <a:solidFill>
                <a:srgbClr val="7f7c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7555680" y="4595760"/>
              <a:ext cx="35280" cy="2520"/>
            </a:xfrm>
            <a:prstGeom prst="rect">
              <a:avLst/>
            </a:prstGeom>
            <a:solidFill>
              <a:srgbClr val="fff7e2"/>
            </a:solidFill>
            <a:ln w="6480">
              <a:solidFill>
                <a:srgbClr val="7f7c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7459920" y="4592520"/>
              <a:ext cx="57240" cy="6480"/>
            </a:xfrm>
            <a:prstGeom prst="rect">
              <a:avLst/>
            </a:prstGeom>
            <a:solidFill>
              <a:srgbClr val="fff7e2"/>
            </a:solidFill>
            <a:ln w="6480">
              <a:solidFill>
                <a:srgbClr val="7f7c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7390080" y="4585680"/>
              <a:ext cx="3240" cy="19440"/>
            </a:xfrm>
            <a:prstGeom prst="rect">
              <a:avLst/>
            </a:prstGeom>
            <a:solidFill>
              <a:srgbClr val="b2a8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7380720" y="4585680"/>
              <a:ext cx="2520" cy="19440"/>
            </a:xfrm>
            <a:prstGeom prst="rect">
              <a:avLst/>
            </a:prstGeom>
            <a:solidFill>
              <a:srgbClr val="b2a8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7409160" y="4585680"/>
              <a:ext cx="3240" cy="19440"/>
            </a:xfrm>
            <a:prstGeom prst="rect">
              <a:avLst/>
            </a:prstGeom>
            <a:solidFill>
              <a:srgbClr val="b2a8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7399800" y="4585680"/>
              <a:ext cx="2520" cy="19440"/>
            </a:xfrm>
            <a:prstGeom prst="rect">
              <a:avLst/>
            </a:prstGeom>
            <a:solidFill>
              <a:srgbClr val="b2a8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7650000" y="4639320"/>
              <a:ext cx="47880" cy="32400"/>
            </a:xfrm>
            <a:custGeom>
              <a:avLst/>
              <a:gdLst/>
              <a:ahLst/>
              <a:rect l="l" t="t" r="r" b="b"/>
              <a:pathLst>
                <a:path w="2160" h="1433">
                  <a:moveTo>
                    <a:pt x="1844" y="314"/>
                  </a:moveTo>
                  <a:lnTo>
                    <a:pt x="1805" y="277"/>
                  </a:lnTo>
                  <a:lnTo>
                    <a:pt x="1764" y="241"/>
                  </a:lnTo>
                  <a:lnTo>
                    <a:pt x="1722" y="209"/>
                  </a:lnTo>
                  <a:lnTo>
                    <a:pt x="1678" y="179"/>
                  </a:lnTo>
                  <a:lnTo>
                    <a:pt x="1634" y="151"/>
                  </a:lnTo>
                  <a:lnTo>
                    <a:pt x="1588" y="125"/>
                  </a:lnTo>
                  <a:lnTo>
                    <a:pt x="1542" y="102"/>
                  </a:lnTo>
                  <a:lnTo>
                    <a:pt x="1493" y="81"/>
                  </a:lnTo>
                  <a:lnTo>
                    <a:pt x="1444" y="62"/>
                  </a:lnTo>
                  <a:lnTo>
                    <a:pt x="1394" y="46"/>
                  </a:lnTo>
                  <a:lnTo>
                    <a:pt x="1343" y="31"/>
                  </a:lnTo>
                  <a:lnTo>
                    <a:pt x="1292" y="20"/>
                  </a:lnTo>
                  <a:lnTo>
                    <a:pt x="1240" y="11"/>
                  </a:lnTo>
                  <a:lnTo>
                    <a:pt x="1187" y="5"/>
                  </a:lnTo>
                  <a:lnTo>
                    <a:pt x="1134" y="1"/>
                  </a:lnTo>
                  <a:lnTo>
                    <a:pt x="1080" y="0"/>
                  </a:lnTo>
                  <a:lnTo>
                    <a:pt x="969" y="5"/>
                  </a:lnTo>
                  <a:lnTo>
                    <a:pt x="863" y="21"/>
                  </a:lnTo>
                  <a:lnTo>
                    <a:pt x="759" y="49"/>
                  </a:lnTo>
                  <a:lnTo>
                    <a:pt x="660" y="85"/>
                  </a:lnTo>
                  <a:lnTo>
                    <a:pt x="566" y="130"/>
                  </a:lnTo>
                  <a:lnTo>
                    <a:pt x="477" y="183"/>
                  </a:lnTo>
                  <a:lnTo>
                    <a:pt x="394" y="245"/>
                  </a:lnTo>
                  <a:lnTo>
                    <a:pt x="317" y="315"/>
                  </a:lnTo>
                  <a:lnTo>
                    <a:pt x="247" y="391"/>
                  </a:lnTo>
                  <a:lnTo>
                    <a:pt x="184" y="473"/>
                  </a:lnTo>
                  <a:lnTo>
                    <a:pt x="131" y="562"/>
                  </a:lnTo>
                  <a:lnTo>
                    <a:pt x="85" y="655"/>
                  </a:lnTo>
                  <a:lnTo>
                    <a:pt x="49" y="754"/>
                  </a:lnTo>
                  <a:lnTo>
                    <a:pt x="22" y="857"/>
                  </a:lnTo>
                  <a:lnTo>
                    <a:pt x="5" y="963"/>
                  </a:lnTo>
                  <a:lnTo>
                    <a:pt x="0" y="1073"/>
                  </a:lnTo>
                  <a:lnTo>
                    <a:pt x="0" y="1357"/>
                  </a:lnTo>
                  <a:lnTo>
                    <a:pt x="0" y="1364"/>
                  </a:lnTo>
                  <a:lnTo>
                    <a:pt x="1" y="1371"/>
                  </a:lnTo>
                  <a:lnTo>
                    <a:pt x="3" y="1380"/>
                  </a:lnTo>
                  <a:lnTo>
                    <a:pt x="5" y="1387"/>
                  </a:lnTo>
                  <a:lnTo>
                    <a:pt x="9" y="1393"/>
                  </a:lnTo>
                  <a:lnTo>
                    <a:pt x="12" y="1399"/>
                  </a:lnTo>
                  <a:lnTo>
                    <a:pt x="18" y="1405"/>
                  </a:lnTo>
                  <a:lnTo>
                    <a:pt x="23" y="1410"/>
                  </a:lnTo>
                  <a:lnTo>
                    <a:pt x="28" y="1415"/>
                  </a:lnTo>
                  <a:lnTo>
                    <a:pt x="34" y="1420"/>
                  </a:lnTo>
                  <a:lnTo>
                    <a:pt x="40" y="1423"/>
                  </a:lnTo>
                  <a:lnTo>
                    <a:pt x="46" y="1427"/>
                  </a:lnTo>
                  <a:lnTo>
                    <a:pt x="53" y="1429"/>
                  </a:lnTo>
                  <a:lnTo>
                    <a:pt x="61" y="1431"/>
                  </a:lnTo>
                  <a:lnTo>
                    <a:pt x="68" y="1432"/>
                  </a:lnTo>
                  <a:lnTo>
                    <a:pt x="76" y="1433"/>
                  </a:lnTo>
                  <a:lnTo>
                    <a:pt x="2085" y="1433"/>
                  </a:lnTo>
                  <a:lnTo>
                    <a:pt x="2092" y="1432"/>
                  </a:lnTo>
                  <a:lnTo>
                    <a:pt x="2099" y="1431"/>
                  </a:lnTo>
                  <a:lnTo>
                    <a:pt x="2107" y="1429"/>
                  </a:lnTo>
                  <a:lnTo>
                    <a:pt x="2114" y="1427"/>
                  </a:lnTo>
                  <a:lnTo>
                    <a:pt x="2120" y="1423"/>
                  </a:lnTo>
                  <a:lnTo>
                    <a:pt x="2126" y="1420"/>
                  </a:lnTo>
                  <a:lnTo>
                    <a:pt x="2132" y="1415"/>
                  </a:lnTo>
                  <a:lnTo>
                    <a:pt x="2137" y="1410"/>
                  </a:lnTo>
                  <a:lnTo>
                    <a:pt x="2142" y="1405"/>
                  </a:lnTo>
                  <a:lnTo>
                    <a:pt x="2147" y="1399"/>
                  </a:lnTo>
                  <a:lnTo>
                    <a:pt x="2150" y="1393"/>
                  </a:lnTo>
                  <a:lnTo>
                    <a:pt x="2154" y="1387"/>
                  </a:lnTo>
                  <a:lnTo>
                    <a:pt x="2156" y="1380"/>
                  </a:lnTo>
                  <a:lnTo>
                    <a:pt x="2158" y="1371"/>
                  </a:lnTo>
                  <a:lnTo>
                    <a:pt x="2159" y="1364"/>
                  </a:lnTo>
                  <a:lnTo>
                    <a:pt x="2160" y="1357"/>
                  </a:lnTo>
                  <a:lnTo>
                    <a:pt x="2160" y="1073"/>
                  </a:lnTo>
                  <a:lnTo>
                    <a:pt x="2158" y="1019"/>
                  </a:lnTo>
                  <a:lnTo>
                    <a:pt x="2154" y="966"/>
                  </a:lnTo>
                  <a:lnTo>
                    <a:pt x="2148" y="913"/>
                  </a:lnTo>
                  <a:lnTo>
                    <a:pt x="2139" y="861"/>
                  </a:lnTo>
                  <a:lnTo>
                    <a:pt x="2128" y="810"/>
                  </a:lnTo>
                  <a:lnTo>
                    <a:pt x="2114" y="760"/>
                  </a:lnTo>
                  <a:lnTo>
                    <a:pt x="2097" y="710"/>
                  </a:lnTo>
                  <a:lnTo>
                    <a:pt x="2079" y="661"/>
                  </a:lnTo>
                  <a:lnTo>
                    <a:pt x="2057" y="614"/>
                  </a:lnTo>
                  <a:lnTo>
                    <a:pt x="2033" y="567"/>
                  </a:lnTo>
                  <a:lnTo>
                    <a:pt x="2008" y="522"/>
                  </a:lnTo>
                  <a:lnTo>
                    <a:pt x="1979" y="477"/>
                  </a:lnTo>
                  <a:lnTo>
                    <a:pt x="1948" y="434"/>
                  </a:lnTo>
                  <a:lnTo>
                    <a:pt x="1916" y="392"/>
                  </a:lnTo>
                  <a:lnTo>
                    <a:pt x="1880" y="352"/>
                  </a:lnTo>
                  <a:lnTo>
                    <a:pt x="1844" y="314"/>
                  </a:lnTo>
                  <a:close/>
                  <a:moveTo>
                    <a:pt x="424" y="420"/>
                  </a:moveTo>
                  <a:lnTo>
                    <a:pt x="457" y="388"/>
                  </a:lnTo>
                  <a:lnTo>
                    <a:pt x="492" y="358"/>
                  </a:lnTo>
                  <a:lnTo>
                    <a:pt x="528" y="330"/>
                  </a:lnTo>
                  <a:lnTo>
                    <a:pt x="565" y="304"/>
                  </a:lnTo>
                  <a:lnTo>
                    <a:pt x="603" y="280"/>
                  </a:lnTo>
                  <a:lnTo>
                    <a:pt x="643" y="257"/>
                  </a:lnTo>
                  <a:lnTo>
                    <a:pt x="683" y="237"/>
                  </a:lnTo>
                  <a:lnTo>
                    <a:pt x="724" y="219"/>
                  </a:lnTo>
                  <a:lnTo>
                    <a:pt x="766" y="203"/>
                  </a:lnTo>
                  <a:lnTo>
                    <a:pt x="809" y="189"/>
                  </a:lnTo>
                  <a:lnTo>
                    <a:pt x="853" y="177"/>
                  </a:lnTo>
                  <a:lnTo>
                    <a:pt x="897" y="167"/>
                  </a:lnTo>
                  <a:lnTo>
                    <a:pt x="942" y="159"/>
                  </a:lnTo>
                  <a:lnTo>
                    <a:pt x="987" y="154"/>
                  </a:lnTo>
                  <a:lnTo>
                    <a:pt x="1034" y="151"/>
                  </a:lnTo>
                  <a:lnTo>
                    <a:pt x="1080" y="150"/>
                  </a:lnTo>
                  <a:lnTo>
                    <a:pt x="1126" y="151"/>
                  </a:lnTo>
                  <a:lnTo>
                    <a:pt x="1172" y="154"/>
                  </a:lnTo>
                  <a:lnTo>
                    <a:pt x="1218" y="159"/>
                  </a:lnTo>
                  <a:lnTo>
                    <a:pt x="1262" y="167"/>
                  </a:lnTo>
                  <a:lnTo>
                    <a:pt x="1307" y="177"/>
                  </a:lnTo>
                  <a:lnTo>
                    <a:pt x="1350" y="189"/>
                  </a:lnTo>
                  <a:lnTo>
                    <a:pt x="1393" y="203"/>
                  </a:lnTo>
                  <a:lnTo>
                    <a:pt x="1435" y="219"/>
                  </a:lnTo>
                  <a:lnTo>
                    <a:pt x="1477" y="237"/>
                  </a:lnTo>
                  <a:lnTo>
                    <a:pt x="1517" y="257"/>
                  </a:lnTo>
                  <a:lnTo>
                    <a:pt x="1557" y="280"/>
                  </a:lnTo>
                  <a:lnTo>
                    <a:pt x="1595" y="304"/>
                  </a:lnTo>
                  <a:lnTo>
                    <a:pt x="1632" y="330"/>
                  </a:lnTo>
                  <a:lnTo>
                    <a:pt x="1668" y="358"/>
                  </a:lnTo>
                  <a:lnTo>
                    <a:pt x="1702" y="388"/>
                  </a:lnTo>
                  <a:lnTo>
                    <a:pt x="1737" y="420"/>
                  </a:lnTo>
                  <a:lnTo>
                    <a:pt x="1768" y="453"/>
                  </a:lnTo>
                  <a:lnTo>
                    <a:pt x="1798" y="488"/>
                  </a:lnTo>
                  <a:lnTo>
                    <a:pt x="1827" y="524"/>
                  </a:lnTo>
                  <a:lnTo>
                    <a:pt x="1853" y="561"/>
                  </a:lnTo>
                  <a:lnTo>
                    <a:pt x="1877" y="599"/>
                  </a:lnTo>
                  <a:lnTo>
                    <a:pt x="1900" y="638"/>
                  </a:lnTo>
                  <a:lnTo>
                    <a:pt x="1920" y="678"/>
                  </a:lnTo>
                  <a:lnTo>
                    <a:pt x="1938" y="720"/>
                  </a:lnTo>
                  <a:lnTo>
                    <a:pt x="1954" y="761"/>
                  </a:lnTo>
                  <a:lnTo>
                    <a:pt x="1968" y="804"/>
                  </a:lnTo>
                  <a:lnTo>
                    <a:pt x="1980" y="847"/>
                  </a:lnTo>
                  <a:lnTo>
                    <a:pt x="1991" y="891"/>
                  </a:lnTo>
                  <a:lnTo>
                    <a:pt x="1999" y="936"/>
                  </a:lnTo>
                  <a:lnTo>
                    <a:pt x="2004" y="981"/>
                  </a:lnTo>
                  <a:lnTo>
                    <a:pt x="2007" y="1027"/>
                  </a:lnTo>
                  <a:lnTo>
                    <a:pt x="2009" y="1073"/>
                  </a:lnTo>
                  <a:lnTo>
                    <a:pt x="2009" y="1282"/>
                  </a:lnTo>
                  <a:lnTo>
                    <a:pt x="152" y="1282"/>
                  </a:lnTo>
                  <a:lnTo>
                    <a:pt x="152" y="1073"/>
                  </a:lnTo>
                  <a:lnTo>
                    <a:pt x="153" y="1027"/>
                  </a:lnTo>
                  <a:lnTo>
                    <a:pt x="156" y="981"/>
                  </a:lnTo>
                  <a:lnTo>
                    <a:pt x="161" y="936"/>
                  </a:lnTo>
                  <a:lnTo>
                    <a:pt x="169" y="891"/>
                  </a:lnTo>
                  <a:lnTo>
                    <a:pt x="179" y="847"/>
                  </a:lnTo>
                  <a:lnTo>
                    <a:pt x="191" y="804"/>
                  </a:lnTo>
                  <a:lnTo>
                    <a:pt x="206" y="761"/>
                  </a:lnTo>
                  <a:lnTo>
                    <a:pt x="222" y="720"/>
                  </a:lnTo>
                  <a:lnTo>
                    <a:pt x="240" y="678"/>
                  </a:lnTo>
                  <a:lnTo>
                    <a:pt x="260" y="638"/>
                  </a:lnTo>
                  <a:lnTo>
                    <a:pt x="282" y="599"/>
                  </a:lnTo>
                  <a:lnTo>
                    <a:pt x="307" y="561"/>
                  </a:lnTo>
                  <a:lnTo>
                    <a:pt x="333" y="524"/>
                  </a:lnTo>
                  <a:lnTo>
                    <a:pt x="361" y="488"/>
                  </a:lnTo>
                  <a:lnTo>
                    <a:pt x="392" y="453"/>
                  </a:lnTo>
                  <a:lnTo>
                    <a:pt x="424" y="4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7334280" y="4343400"/>
              <a:ext cx="309240" cy="328680"/>
            </a:xfrm>
            <a:custGeom>
              <a:avLst/>
              <a:gdLst/>
              <a:ahLst/>
              <a:rect l="l" t="t" r="r" b="b"/>
              <a:pathLst>
                <a:path w="13922" h="14402">
                  <a:moveTo>
                    <a:pt x="12488" y="11738"/>
                  </a:moveTo>
                  <a:lnTo>
                    <a:pt x="12488" y="10337"/>
                  </a:lnTo>
                  <a:lnTo>
                    <a:pt x="12487" y="10329"/>
                  </a:lnTo>
                  <a:lnTo>
                    <a:pt x="12486" y="10320"/>
                  </a:lnTo>
                  <a:lnTo>
                    <a:pt x="12484" y="10313"/>
                  </a:lnTo>
                  <a:lnTo>
                    <a:pt x="12482" y="10306"/>
                  </a:lnTo>
                  <a:lnTo>
                    <a:pt x="12479" y="10299"/>
                  </a:lnTo>
                  <a:lnTo>
                    <a:pt x="12475" y="10293"/>
                  </a:lnTo>
                  <a:lnTo>
                    <a:pt x="12471" y="10287"/>
                  </a:lnTo>
                  <a:lnTo>
                    <a:pt x="12466" y="10282"/>
                  </a:lnTo>
                  <a:lnTo>
                    <a:pt x="12460" y="10277"/>
                  </a:lnTo>
                  <a:lnTo>
                    <a:pt x="12455" y="10272"/>
                  </a:lnTo>
                  <a:lnTo>
                    <a:pt x="12449" y="10269"/>
                  </a:lnTo>
                  <a:lnTo>
                    <a:pt x="12442" y="10265"/>
                  </a:lnTo>
                  <a:lnTo>
                    <a:pt x="12435" y="10263"/>
                  </a:lnTo>
                  <a:lnTo>
                    <a:pt x="12427" y="10261"/>
                  </a:lnTo>
                  <a:lnTo>
                    <a:pt x="12419" y="10260"/>
                  </a:lnTo>
                  <a:lnTo>
                    <a:pt x="12412" y="10260"/>
                  </a:lnTo>
                  <a:lnTo>
                    <a:pt x="11341" y="10260"/>
                  </a:lnTo>
                  <a:lnTo>
                    <a:pt x="11341" y="10051"/>
                  </a:lnTo>
                  <a:lnTo>
                    <a:pt x="11340" y="10043"/>
                  </a:lnTo>
                  <a:lnTo>
                    <a:pt x="11339" y="10036"/>
                  </a:lnTo>
                  <a:lnTo>
                    <a:pt x="11337" y="10028"/>
                  </a:lnTo>
                  <a:lnTo>
                    <a:pt x="11335" y="10021"/>
                  </a:lnTo>
                  <a:lnTo>
                    <a:pt x="11331" y="10015"/>
                  </a:lnTo>
                  <a:lnTo>
                    <a:pt x="11328" y="10009"/>
                  </a:lnTo>
                  <a:lnTo>
                    <a:pt x="11323" y="10003"/>
                  </a:lnTo>
                  <a:lnTo>
                    <a:pt x="11318" y="9998"/>
                  </a:lnTo>
                  <a:lnTo>
                    <a:pt x="11313" y="9993"/>
                  </a:lnTo>
                  <a:lnTo>
                    <a:pt x="11307" y="9988"/>
                  </a:lnTo>
                  <a:lnTo>
                    <a:pt x="11301" y="9985"/>
                  </a:lnTo>
                  <a:lnTo>
                    <a:pt x="11295" y="9981"/>
                  </a:lnTo>
                  <a:lnTo>
                    <a:pt x="11288" y="9979"/>
                  </a:lnTo>
                  <a:lnTo>
                    <a:pt x="11280" y="9977"/>
                  </a:lnTo>
                  <a:lnTo>
                    <a:pt x="11273" y="9976"/>
                  </a:lnTo>
                  <a:lnTo>
                    <a:pt x="11265" y="9976"/>
                  </a:lnTo>
                  <a:lnTo>
                    <a:pt x="9906" y="9976"/>
                  </a:lnTo>
                  <a:lnTo>
                    <a:pt x="9906" y="9557"/>
                  </a:lnTo>
                  <a:lnTo>
                    <a:pt x="12699" y="9557"/>
                  </a:lnTo>
                  <a:lnTo>
                    <a:pt x="12706" y="9556"/>
                  </a:lnTo>
                  <a:lnTo>
                    <a:pt x="12714" y="9555"/>
                  </a:lnTo>
                  <a:lnTo>
                    <a:pt x="12721" y="9553"/>
                  </a:lnTo>
                  <a:lnTo>
                    <a:pt x="12728" y="9551"/>
                  </a:lnTo>
                  <a:lnTo>
                    <a:pt x="12735" y="9547"/>
                  </a:lnTo>
                  <a:lnTo>
                    <a:pt x="12741" y="9544"/>
                  </a:lnTo>
                  <a:lnTo>
                    <a:pt x="12746" y="9539"/>
                  </a:lnTo>
                  <a:lnTo>
                    <a:pt x="12752" y="9534"/>
                  </a:lnTo>
                  <a:lnTo>
                    <a:pt x="12757" y="9529"/>
                  </a:lnTo>
                  <a:lnTo>
                    <a:pt x="12761" y="9523"/>
                  </a:lnTo>
                  <a:lnTo>
                    <a:pt x="12765" y="9517"/>
                  </a:lnTo>
                  <a:lnTo>
                    <a:pt x="12768" y="9511"/>
                  </a:lnTo>
                  <a:lnTo>
                    <a:pt x="12770" y="9504"/>
                  </a:lnTo>
                  <a:lnTo>
                    <a:pt x="12772" y="9496"/>
                  </a:lnTo>
                  <a:lnTo>
                    <a:pt x="12773" y="9489"/>
                  </a:lnTo>
                  <a:lnTo>
                    <a:pt x="12774" y="9482"/>
                  </a:lnTo>
                  <a:lnTo>
                    <a:pt x="12774" y="77"/>
                  </a:lnTo>
                  <a:lnTo>
                    <a:pt x="12773" y="69"/>
                  </a:lnTo>
                  <a:lnTo>
                    <a:pt x="12772" y="61"/>
                  </a:lnTo>
                  <a:lnTo>
                    <a:pt x="12770" y="53"/>
                  </a:lnTo>
                  <a:lnTo>
                    <a:pt x="12768" y="46"/>
                  </a:lnTo>
                  <a:lnTo>
                    <a:pt x="12765" y="39"/>
                  </a:lnTo>
                  <a:lnTo>
                    <a:pt x="12761" y="33"/>
                  </a:lnTo>
                  <a:lnTo>
                    <a:pt x="12757" y="27"/>
                  </a:lnTo>
                  <a:lnTo>
                    <a:pt x="12752" y="22"/>
                  </a:lnTo>
                  <a:lnTo>
                    <a:pt x="12746" y="17"/>
                  </a:lnTo>
                  <a:lnTo>
                    <a:pt x="12741" y="12"/>
                  </a:lnTo>
                  <a:lnTo>
                    <a:pt x="12735" y="9"/>
                  </a:lnTo>
                  <a:lnTo>
                    <a:pt x="12728" y="5"/>
                  </a:lnTo>
                  <a:lnTo>
                    <a:pt x="12721" y="3"/>
                  </a:lnTo>
                  <a:lnTo>
                    <a:pt x="12714" y="1"/>
                  </a:lnTo>
                  <a:lnTo>
                    <a:pt x="12706" y="0"/>
                  </a:lnTo>
                  <a:lnTo>
                    <a:pt x="12699" y="0"/>
                  </a:lnTo>
                  <a:lnTo>
                    <a:pt x="1223" y="0"/>
                  </a:lnTo>
                  <a:lnTo>
                    <a:pt x="1215" y="0"/>
                  </a:lnTo>
                  <a:lnTo>
                    <a:pt x="1207" y="1"/>
                  </a:lnTo>
                  <a:lnTo>
                    <a:pt x="1200" y="3"/>
                  </a:lnTo>
                  <a:lnTo>
                    <a:pt x="1193" y="5"/>
                  </a:lnTo>
                  <a:lnTo>
                    <a:pt x="1186" y="9"/>
                  </a:lnTo>
                  <a:lnTo>
                    <a:pt x="1180" y="12"/>
                  </a:lnTo>
                  <a:lnTo>
                    <a:pt x="1175" y="17"/>
                  </a:lnTo>
                  <a:lnTo>
                    <a:pt x="1169" y="22"/>
                  </a:lnTo>
                  <a:lnTo>
                    <a:pt x="1164" y="27"/>
                  </a:lnTo>
                  <a:lnTo>
                    <a:pt x="1159" y="33"/>
                  </a:lnTo>
                  <a:lnTo>
                    <a:pt x="1155" y="39"/>
                  </a:lnTo>
                  <a:lnTo>
                    <a:pt x="1152" y="46"/>
                  </a:lnTo>
                  <a:lnTo>
                    <a:pt x="1150" y="53"/>
                  </a:lnTo>
                  <a:lnTo>
                    <a:pt x="1148" y="61"/>
                  </a:lnTo>
                  <a:lnTo>
                    <a:pt x="1147" y="69"/>
                  </a:lnTo>
                  <a:lnTo>
                    <a:pt x="1147" y="77"/>
                  </a:lnTo>
                  <a:lnTo>
                    <a:pt x="1147" y="9482"/>
                  </a:lnTo>
                  <a:lnTo>
                    <a:pt x="1147" y="9489"/>
                  </a:lnTo>
                  <a:lnTo>
                    <a:pt x="1148" y="9496"/>
                  </a:lnTo>
                  <a:lnTo>
                    <a:pt x="1150" y="9504"/>
                  </a:lnTo>
                  <a:lnTo>
                    <a:pt x="1152" y="9511"/>
                  </a:lnTo>
                  <a:lnTo>
                    <a:pt x="1155" y="9517"/>
                  </a:lnTo>
                  <a:lnTo>
                    <a:pt x="1159" y="9523"/>
                  </a:lnTo>
                  <a:lnTo>
                    <a:pt x="1164" y="9529"/>
                  </a:lnTo>
                  <a:lnTo>
                    <a:pt x="1169" y="9534"/>
                  </a:lnTo>
                  <a:lnTo>
                    <a:pt x="1175" y="9539"/>
                  </a:lnTo>
                  <a:lnTo>
                    <a:pt x="1180" y="9544"/>
                  </a:lnTo>
                  <a:lnTo>
                    <a:pt x="1186" y="9547"/>
                  </a:lnTo>
                  <a:lnTo>
                    <a:pt x="1193" y="9551"/>
                  </a:lnTo>
                  <a:lnTo>
                    <a:pt x="1200" y="9553"/>
                  </a:lnTo>
                  <a:lnTo>
                    <a:pt x="1207" y="9555"/>
                  </a:lnTo>
                  <a:lnTo>
                    <a:pt x="1215" y="9556"/>
                  </a:lnTo>
                  <a:lnTo>
                    <a:pt x="1223" y="9557"/>
                  </a:lnTo>
                  <a:lnTo>
                    <a:pt x="4015" y="9557"/>
                  </a:lnTo>
                  <a:lnTo>
                    <a:pt x="4015" y="9976"/>
                  </a:lnTo>
                  <a:lnTo>
                    <a:pt x="2657" y="9976"/>
                  </a:lnTo>
                  <a:lnTo>
                    <a:pt x="2649" y="9976"/>
                  </a:lnTo>
                  <a:lnTo>
                    <a:pt x="2642" y="9977"/>
                  </a:lnTo>
                  <a:lnTo>
                    <a:pt x="2634" y="9979"/>
                  </a:lnTo>
                  <a:lnTo>
                    <a:pt x="2628" y="9981"/>
                  </a:lnTo>
                  <a:lnTo>
                    <a:pt x="2621" y="9985"/>
                  </a:lnTo>
                  <a:lnTo>
                    <a:pt x="2615" y="9988"/>
                  </a:lnTo>
                  <a:lnTo>
                    <a:pt x="2609" y="9993"/>
                  </a:lnTo>
                  <a:lnTo>
                    <a:pt x="2604" y="9998"/>
                  </a:lnTo>
                  <a:lnTo>
                    <a:pt x="2599" y="10003"/>
                  </a:lnTo>
                  <a:lnTo>
                    <a:pt x="2595" y="10009"/>
                  </a:lnTo>
                  <a:lnTo>
                    <a:pt x="2590" y="10015"/>
                  </a:lnTo>
                  <a:lnTo>
                    <a:pt x="2587" y="10021"/>
                  </a:lnTo>
                  <a:lnTo>
                    <a:pt x="2585" y="10028"/>
                  </a:lnTo>
                  <a:lnTo>
                    <a:pt x="2583" y="10036"/>
                  </a:lnTo>
                  <a:lnTo>
                    <a:pt x="2582" y="10043"/>
                  </a:lnTo>
                  <a:lnTo>
                    <a:pt x="2582" y="10051"/>
                  </a:lnTo>
                  <a:lnTo>
                    <a:pt x="2582" y="10260"/>
                  </a:lnTo>
                  <a:lnTo>
                    <a:pt x="1510" y="10260"/>
                  </a:lnTo>
                  <a:lnTo>
                    <a:pt x="1502" y="10260"/>
                  </a:lnTo>
                  <a:lnTo>
                    <a:pt x="1494" y="10261"/>
                  </a:lnTo>
                  <a:lnTo>
                    <a:pt x="1487" y="10263"/>
                  </a:lnTo>
                  <a:lnTo>
                    <a:pt x="1480" y="10265"/>
                  </a:lnTo>
                  <a:lnTo>
                    <a:pt x="1473" y="10269"/>
                  </a:lnTo>
                  <a:lnTo>
                    <a:pt x="1467" y="10272"/>
                  </a:lnTo>
                  <a:lnTo>
                    <a:pt x="1462" y="10277"/>
                  </a:lnTo>
                  <a:lnTo>
                    <a:pt x="1456" y="10282"/>
                  </a:lnTo>
                  <a:lnTo>
                    <a:pt x="1451" y="10287"/>
                  </a:lnTo>
                  <a:lnTo>
                    <a:pt x="1447" y="10293"/>
                  </a:lnTo>
                  <a:lnTo>
                    <a:pt x="1443" y="10299"/>
                  </a:lnTo>
                  <a:lnTo>
                    <a:pt x="1440" y="10306"/>
                  </a:lnTo>
                  <a:lnTo>
                    <a:pt x="1438" y="10313"/>
                  </a:lnTo>
                  <a:lnTo>
                    <a:pt x="1436" y="10320"/>
                  </a:lnTo>
                  <a:lnTo>
                    <a:pt x="1435" y="10329"/>
                  </a:lnTo>
                  <a:lnTo>
                    <a:pt x="1435" y="10337"/>
                  </a:lnTo>
                  <a:lnTo>
                    <a:pt x="1435" y="11739"/>
                  </a:lnTo>
                  <a:lnTo>
                    <a:pt x="26" y="13844"/>
                  </a:lnTo>
                  <a:lnTo>
                    <a:pt x="23" y="13846"/>
                  </a:lnTo>
                  <a:lnTo>
                    <a:pt x="20" y="13849"/>
                  </a:lnTo>
                  <a:lnTo>
                    <a:pt x="17" y="13852"/>
                  </a:lnTo>
                  <a:lnTo>
                    <a:pt x="15" y="13855"/>
                  </a:lnTo>
                  <a:lnTo>
                    <a:pt x="12" y="13858"/>
                  </a:lnTo>
                  <a:lnTo>
                    <a:pt x="10" y="13861"/>
                  </a:lnTo>
                  <a:lnTo>
                    <a:pt x="8" y="13864"/>
                  </a:lnTo>
                  <a:lnTo>
                    <a:pt x="7" y="13868"/>
                  </a:lnTo>
                  <a:lnTo>
                    <a:pt x="5" y="13871"/>
                  </a:lnTo>
                  <a:lnTo>
                    <a:pt x="4" y="13875"/>
                  </a:lnTo>
                  <a:lnTo>
                    <a:pt x="2" y="13878"/>
                  </a:lnTo>
                  <a:lnTo>
                    <a:pt x="1" y="13882"/>
                  </a:lnTo>
                  <a:lnTo>
                    <a:pt x="1" y="13886"/>
                  </a:lnTo>
                  <a:lnTo>
                    <a:pt x="0" y="13890"/>
                  </a:lnTo>
                  <a:lnTo>
                    <a:pt x="0" y="13894"/>
                  </a:lnTo>
                  <a:lnTo>
                    <a:pt x="0" y="13899"/>
                  </a:lnTo>
                  <a:lnTo>
                    <a:pt x="0" y="14326"/>
                  </a:lnTo>
                  <a:lnTo>
                    <a:pt x="0" y="14333"/>
                  </a:lnTo>
                  <a:lnTo>
                    <a:pt x="1" y="14340"/>
                  </a:lnTo>
                  <a:lnTo>
                    <a:pt x="3" y="14349"/>
                  </a:lnTo>
                  <a:lnTo>
                    <a:pt x="5" y="14356"/>
                  </a:lnTo>
                  <a:lnTo>
                    <a:pt x="9" y="14362"/>
                  </a:lnTo>
                  <a:lnTo>
                    <a:pt x="12" y="14368"/>
                  </a:lnTo>
                  <a:lnTo>
                    <a:pt x="17" y="14374"/>
                  </a:lnTo>
                  <a:lnTo>
                    <a:pt x="22" y="14379"/>
                  </a:lnTo>
                  <a:lnTo>
                    <a:pt x="27" y="14384"/>
                  </a:lnTo>
                  <a:lnTo>
                    <a:pt x="33" y="14389"/>
                  </a:lnTo>
                  <a:lnTo>
                    <a:pt x="39" y="14392"/>
                  </a:lnTo>
                  <a:lnTo>
                    <a:pt x="45" y="14396"/>
                  </a:lnTo>
                  <a:lnTo>
                    <a:pt x="52" y="14398"/>
                  </a:lnTo>
                  <a:lnTo>
                    <a:pt x="60" y="14400"/>
                  </a:lnTo>
                  <a:lnTo>
                    <a:pt x="67" y="14401"/>
                  </a:lnTo>
                  <a:lnTo>
                    <a:pt x="75" y="14402"/>
                  </a:lnTo>
                  <a:lnTo>
                    <a:pt x="13846" y="14402"/>
                  </a:lnTo>
                  <a:lnTo>
                    <a:pt x="13853" y="14401"/>
                  </a:lnTo>
                  <a:lnTo>
                    <a:pt x="13862" y="14400"/>
                  </a:lnTo>
                  <a:lnTo>
                    <a:pt x="13869" y="14398"/>
                  </a:lnTo>
                  <a:lnTo>
                    <a:pt x="13876" y="14396"/>
                  </a:lnTo>
                  <a:lnTo>
                    <a:pt x="13883" y="14392"/>
                  </a:lnTo>
                  <a:lnTo>
                    <a:pt x="13889" y="14389"/>
                  </a:lnTo>
                  <a:lnTo>
                    <a:pt x="13894" y="14384"/>
                  </a:lnTo>
                  <a:lnTo>
                    <a:pt x="13900" y="14379"/>
                  </a:lnTo>
                  <a:lnTo>
                    <a:pt x="13905" y="14374"/>
                  </a:lnTo>
                  <a:lnTo>
                    <a:pt x="13909" y="14368"/>
                  </a:lnTo>
                  <a:lnTo>
                    <a:pt x="13913" y="14362"/>
                  </a:lnTo>
                  <a:lnTo>
                    <a:pt x="13916" y="14356"/>
                  </a:lnTo>
                  <a:lnTo>
                    <a:pt x="13918" y="14349"/>
                  </a:lnTo>
                  <a:lnTo>
                    <a:pt x="13920" y="14340"/>
                  </a:lnTo>
                  <a:lnTo>
                    <a:pt x="13921" y="14333"/>
                  </a:lnTo>
                  <a:lnTo>
                    <a:pt x="13922" y="14326"/>
                  </a:lnTo>
                  <a:lnTo>
                    <a:pt x="13922" y="13899"/>
                  </a:lnTo>
                  <a:lnTo>
                    <a:pt x="13921" y="13895"/>
                  </a:lnTo>
                  <a:lnTo>
                    <a:pt x="13921" y="13892"/>
                  </a:lnTo>
                  <a:lnTo>
                    <a:pt x="13921" y="13889"/>
                  </a:lnTo>
                  <a:lnTo>
                    <a:pt x="13921" y="13886"/>
                  </a:lnTo>
                  <a:lnTo>
                    <a:pt x="13920" y="13884"/>
                  </a:lnTo>
                  <a:lnTo>
                    <a:pt x="13920" y="13881"/>
                  </a:lnTo>
                  <a:lnTo>
                    <a:pt x="13919" y="13878"/>
                  </a:lnTo>
                  <a:lnTo>
                    <a:pt x="13918" y="13876"/>
                  </a:lnTo>
                  <a:lnTo>
                    <a:pt x="13918" y="13873"/>
                  </a:lnTo>
                  <a:lnTo>
                    <a:pt x="13917" y="13871"/>
                  </a:lnTo>
                  <a:lnTo>
                    <a:pt x="13916" y="13868"/>
                  </a:lnTo>
                  <a:lnTo>
                    <a:pt x="13914" y="13865"/>
                  </a:lnTo>
                  <a:lnTo>
                    <a:pt x="13913" y="13863"/>
                  </a:lnTo>
                  <a:lnTo>
                    <a:pt x="13912" y="13860"/>
                  </a:lnTo>
                  <a:lnTo>
                    <a:pt x="13910" y="13858"/>
                  </a:lnTo>
                  <a:lnTo>
                    <a:pt x="13909" y="13856"/>
                  </a:lnTo>
                  <a:lnTo>
                    <a:pt x="12488" y="11738"/>
                  </a:lnTo>
                  <a:close/>
                  <a:moveTo>
                    <a:pt x="1573" y="11803"/>
                  </a:moveTo>
                  <a:lnTo>
                    <a:pt x="1574" y="11800"/>
                  </a:lnTo>
                  <a:lnTo>
                    <a:pt x="1575" y="11798"/>
                  </a:lnTo>
                  <a:lnTo>
                    <a:pt x="1577" y="11795"/>
                  </a:lnTo>
                  <a:lnTo>
                    <a:pt x="1578" y="11793"/>
                  </a:lnTo>
                  <a:lnTo>
                    <a:pt x="1579" y="11790"/>
                  </a:lnTo>
                  <a:lnTo>
                    <a:pt x="1580" y="11787"/>
                  </a:lnTo>
                  <a:lnTo>
                    <a:pt x="1581" y="11785"/>
                  </a:lnTo>
                  <a:lnTo>
                    <a:pt x="1582" y="11782"/>
                  </a:lnTo>
                  <a:lnTo>
                    <a:pt x="1583" y="11780"/>
                  </a:lnTo>
                  <a:lnTo>
                    <a:pt x="1583" y="11777"/>
                  </a:lnTo>
                  <a:lnTo>
                    <a:pt x="1584" y="11774"/>
                  </a:lnTo>
                  <a:lnTo>
                    <a:pt x="1585" y="11772"/>
                  </a:lnTo>
                  <a:lnTo>
                    <a:pt x="1585" y="11769"/>
                  </a:lnTo>
                  <a:lnTo>
                    <a:pt x="1585" y="11766"/>
                  </a:lnTo>
                  <a:lnTo>
                    <a:pt x="1585" y="11763"/>
                  </a:lnTo>
                  <a:lnTo>
                    <a:pt x="1586" y="11761"/>
                  </a:lnTo>
                  <a:lnTo>
                    <a:pt x="1586" y="10412"/>
                  </a:lnTo>
                  <a:lnTo>
                    <a:pt x="2657" y="10412"/>
                  </a:lnTo>
                  <a:lnTo>
                    <a:pt x="2664" y="10411"/>
                  </a:lnTo>
                  <a:lnTo>
                    <a:pt x="2672" y="10410"/>
                  </a:lnTo>
                  <a:lnTo>
                    <a:pt x="2679" y="10408"/>
                  </a:lnTo>
                  <a:lnTo>
                    <a:pt x="2687" y="10406"/>
                  </a:lnTo>
                  <a:lnTo>
                    <a:pt x="2694" y="10403"/>
                  </a:lnTo>
                  <a:lnTo>
                    <a:pt x="2700" y="10399"/>
                  </a:lnTo>
                  <a:lnTo>
                    <a:pt x="2705" y="10395"/>
                  </a:lnTo>
                  <a:lnTo>
                    <a:pt x="2711" y="10390"/>
                  </a:lnTo>
                  <a:lnTo>
                    <a:pt x="2716" y="10384"/>
                  </a:lnTo>
                  <a:lnTo>
                    <a:pt x="2720" y="10379"/>
                  </a:lnTo>
                  <a:lnTo>
                    <a:pt x="2724" y="10373"/>
                  </a:lnTo>
                  <a:lnTo>
                    <a:pt x="2727" y="10366"/>
                  </a:lnTo>
                  <a:lnTo>
                    <a:pt x="2729" y="10359"/>
                  </a:lnTo>
                  <a:lnTo>
                    <a:pt x="2731" y="10352"/>
                  </a:lnTo>
                  <a:lnTo>
                    <a:pt x="2732" y="10344"/>
                  </a:lnTo>
                  <a:lnTo>
                    <a:pt x="2733" y="10337"/>
                  </a:lnTo>
                  <a:lnTo>
                    <a:pt x="2733" y="10127"/>
                  </a:lnTo>
                  <a:lnTo>
                    <a:pt x="4092" y="10127"/>
                  </a:lnTo>
                  <a:lnTo>
                    <a:pt x="4099" y="10126"/>
                  </a:lnTo>
                  <a:lnTo>
                    <a:pt x="4107" y="10125"/>
                  </a:lnTo>
                  <a:lnTo>
                    <a:pt x="4115" y="10123"/>
                  </a:lnTo>
                  <a:lnTo>
                    <a:pt x="4122" y="10121"/>
                  </a:lnTo>
                  <a:lnTo>
                    <a:pt x="4129" y="10118"/>
                  </a:lnTo>
                  <a:lnTo>
                    <a:pt x="4135" y="10114"/>
                  </a:lnTo>
                  <a:lnTo>
                    <a:pt x="4140" y="10110"/>
                  </a:lnTo>
                  <a:lnTo>
                    <a:pt x="4146" y="10105"/>
                  </a:lnTo>
                  <a:lnTo>
                    <a:pt x="4151" y="10098"/>
                  </a:lnTo>
                  <a:lnTo>
                    <a:pt x="4155" y="10093"/>
                  </a:lnTo>
                  <a:lnTo>
                    <a:pt x="4159" y="10087"/>
                  </a:lnTo>
                  <a:lnTo>
                    <a:pt x="4162" y="10080"/>
                  </a:lnTo>
                  <a:lnTo>
                    <a:pt x="4164" y="10073"/>
                  </a:lnTo>
                  <a:lnTo>
                    <a:pt x="4166" y="10066"/>
                  </a:lnTo>
                  <a:lnTo>
                    <a:pt x="4167" y="10058"/>
                  </a:lnTo>
                  <a:lnTo>
                    <a:pt x="4168" y="10051"/>
                  </a:lnTo>
                  <a:lnTo>
                    <a:pt x="4168" y="9482"/>
                  </a:lnTo>
                  <a:lnTo>
                    <a:pt x="4167" y="9474"/>
                  </a:lnTo>
                  <a:lnTo>
                    <a:pt x="4166" y="9466"/>
                  </a:lnTo>
                  <a:lnTo>
                    <a:pt x="4164" y="9459"/>
                  </a:lnTo>
                  <a:lnTo>
                    <a:pt x="4162" y="9452"/>
                  </a:lnTo>
                  <a:lnTo>
                    <a:pt x="4159" y="9445"/>
                  </a:lnTo>
                  <a:lnTo>
                    <a:pt x="4155" y="9439"/>
                  </a:lnTo>
                  <a:lnTo>
                    <a:pt x="4151" y="9434"/>
                  </a:lnTo>
                  <a:lnTo>
                    <a:pt x="4146" y="9427"/>
                  </a:lnTo>
                  <a:lnTo>
                    <a:pt x="4140" y="9422"/>
                  </a:lnTo>
                  <a:lnTo>
                    <a:pt x="4135" y="9418"/>
                  </a:lnTo>
                  <a:lnTo>
                    <a:pt x="4129" y="9414"/>
                  </a:lnTo>
                  <a:lnTo>
                    <a:pt x="4122" y="9411"/>
                  </a:lnTo>
                  <a:lnTo>
                    <a:pt x="4115" y="9409"/>
                  </a:lnTo>
                  <a:lnTo>
                    <a:pt x="4107" y="9407"/>
                  </a:lnTo>
                  <a:lnTo>
                    <a:pt x="4099" y="9406"/>
                  </a:lnTo>
                  <a:lnTo>
                    <a:pt x="4092" y="9406"/>
                  </a:lnTo>
                  <a:lnTo>
                    <a:pt x="1300" y="9406"/>
                  </a:lnTo>
                  <a:lnTo>
                    <a:pt x="1300" y="152"/>
                  </a:lnTo>
                  <a:lnTo>
                    <a:pt x="12624" y="152"/>
                  </a:lnTo>
                  <a:lnTo>
                    <a:pt x="12624" y="9406"/>
                  </a:lnTo>
                  <a:lnTo>
                    <a:pt x="9830" y="9406"/>
                  </a:lnTo>
                  <a:lnTo>
                    <a:pt x="9822" y="9406"/>
                  </a:lnTo>
                  <a:lnTo>
                    <a:pt x="9814" y="9407"/>
                  </a:lnTo>
                  <a:lnTo>
                    <a:pt x="9807" y="9409"/>
                  </a:lnTo>
                  <a:lnTo>
                    <a:pt x="9800" y="9411"/>
                  </a:lnTo>
                  <a:lnTo>
                    <a:pt x="9793" y="9414"/>
                  </a:lnTo>
                  <a:lnTo>
                    <a:pt x="9787" y="9418"/>
                  </a:lnTo>
                  <a:lnTo>
                    <a:pt x="9782" y="9422"/>
                  </a:lnTo>
                  <a:lnTo>
                    <a:pt x="9776" y="9427"/>
                  </a:lnTo>
                  <a:lnTo>
                    <a:pt x="9771" y="9434"/>
                  </a:lnTo>
                  <a:lnTo>
                    <a:pt x="9767" y="9439"/>
                  </a:lnTo>
                  <a:lnTo>
                    <a:pt x="9763" y="9445"/>
                  </a:lnTo>
                  <a:lnTo>
                    <a:pt x="9760" y="9452"/>
                  </a:lnTo>
                  <a:lnTo>
                    <a:pt x="9758" y="9459"/>
                  </a:lnTo>
                  <a:lnTo>
                    <a:pt x="9756" y="9466"/>
                  </a:lnTo>
                  <a:lnTo>
                    <a:pt x="9755" y="9474"/>
                  </a:lnTo>
                  <a:lnTo>
                    <a:pt x="9755" y="9482"/>
                  </a:lnTo>
                  <a:lnTo>
                    <a:pt x="9755" y="10051"/>
                  </a:lnTo>
                  <a:lnTo>
                    <a:pt x="9755" y="10058"/>
                  </a:lnTo>
                  <a:lnTo>
                    <a:pt x="9756" y="10066"/>
                  </a:lnTo>
                  <a:lnTo>
                    <a:pt x="9758" y="10073"/>
                  </a:lnTo>
                  <a:lnTo>
                    <a:pt x="9760" y="10080"/>
                  </a:lnTo>
                  <a:lnTo>
                    <a:pt x="9763" y="10087"/>
                  </a:lnTo>
                  <a:lnTo>
                    <a:pt x="9767" y="10093"/>
                  </a:lnTo>
                  <a:lnTo>
                    <a:pt x="9771" y="10098"/>
                  </a:lnTo>
                  <a:lnTo>
                    <a:pt x="9776" y="10105"/>
                  </a:lnTo>
                  <a:lnTo>
                    <a:pt x="9782" y="10110"/>
                  </a:lnTo>
                  <a:lnTo>
                    <a:pt x="9787" y="10114"/>
                  </a:lnTo>
                  <a:lnTo>
                    <a:pt x="9793" y="10118"/>
                  </a:lnTo>
                  <a:lnTo>
                    <a:pt x="9800" y="10121"/>
                  </a:lnTo>
                  <a:lnTo>
                    <a:pt x="9807" y="10123"/>
                  </a:lnTo>
                  <a:lnTo>
                    <a:pt x="9814" y="10125"/>
                  </a:lnTo>
                  <a:lnTo>
                    <a:pt x="9822" y="10126"/>
                  </a:lnTo>
                  <a:lnTo>
                    <a:pt x="9830" y="10127"/>
                  </a:lnTo>
                  <a:lnTo>
                    <a:pt x="11189" y="10127"/>
                  </a:lnTo>
                  <a:lnTo>
                    <a:pt x="11189" y="10337"/>
                  </a:lnTo>
                  <a:lnTo>
                    <a:pt x="11189" y="10344"/>
                  </a:lnTo>
                  <a:lnTo>
                    <a:pt x="11190" y="10352"/>
                  </a:lnTo>
                  <a:lnTo>
                    <a:pt x="11192" y="10359"/>
                  </a:lnTo>
                  <a:lnTo>
                    <a:pt x="11194" y="10366"/>
                  </a:lnTo>
                  <a:lnTo>
                    <a:pt x="11198" y="10373"/>
                  </a:lnTo>
                  <a:lnTo>
                    <a:pt x="11201" y="10379"/>
                  </a:lnTo>
                  <a:lnTo>
                    <a:pt x="11206" y="10384"/>
                  </a:lnTo>
                  <a:lnTo>
                    <a:pt x="11211" y="10390"/>
                  </a:lnTo>
                  <a:lnTo>
                    <a:pt x="11216" y="10395"/>
                  </a:lnTo>
                  <a:lnTo>
                    <a:pt x="11222" y="10399"/>
                  </a:lnTo>
                  <a:lnTo>
                    <a:pt x="11228" y="10403"/>
                  </a:lnTo>
                  <a:lnTo>
                    <a:pt x="11235" y="10406"/>
                  </a:lnTo>
                  <a:lnTo>
                    <a:pt x="11242" y="10408"/>
                  </a:lnTo>
                  <a:lnTo>
                    <a:pt x="11249" y="10410"/>
                  </a:lnTo>
                  <a:lnTo>
                    <a:pt x="11257" y="10411"/>
                  </a:lnTo>
                  <a:lnTo>
                    <a:pt x="11265" y="10412"/>
                  </a:lnTo>
                  <a:lnTo>
                    <a:pt x="12336" y="10412"/>
                  </a:lnTo>
                  <a:lnTo>
                    <a:pt x="12336" y="11761"/>
                  </a:lnTo>
                  <a:lnTo>
                    <a:pt x="12336" y="11763"/>
                  </a:lnTo>
                  <a:lnTo>
                    <a:pt x="12336" y="11766"/>
                  </a:lnTo>
                  <a:lnTo>
                    <a:pt x="12336" y="11769"/>
                  </a:lnTo>
                  <a:lnTo>
                    <a:pt x="12336" y="11772"/>
                  </a:lnTo>
                  <a:lnTo>
                    <a:pt x="12337" y="11774"/>
                  </a:lnTo>
                  <a:lnTo>
                    <a:pt x="12338" y="11777"/>
                  </a:lnTo>
                  <a:lnTo>
                    <a:pt x="12338" y="11780"/>
                  </a:lnTo>
                  <a:lnTo>
                    <a:pt x="12340" y="11782"/>
                  </a:lnTo>
                  <a:lnTo>
                    <a:pt x="12341" y="11785"/>
                  </a:lnTo>
                  <a:lnTo>
                    <a:pt x="12342" y="11787"/>
                  </a:lnTo>
                  <a:lnTo>
                    <a:pt x="12343" y="11790"/>
                  </a:lnTo>
                  <a:lnTo>
                    <a:pt x="12344" y="11793"/>
                  </a:lnTo>
                  <a:lnTo>
                    <a:pt x="12345" y="11795"/>
                  </a:lnTo>
                  <a:lnTo>
                    <a:pt x="12347" y="11798"/>
                  </a:lnTo>
                  <a:lnTo>
                    <a:pt x="12348" y="11800"/>
                  </a:lnTo>
                  <a:lnTo>
                    <a:pt x="12350" y="11803"/>
                  </a:lnTo>
                  <a:lnTo>
                    <a:pt x="13771" y="13922"/>
                  </a:lnTo>
                  <a:lnTo>
                    <a:pt x="13771" y="14251"/>
                  </a:lnTo>
                  <a:lnTo>
                    <a:pt x="151" y="14251"/>
                  </a:lnTo>
                  <a:lnTo>
                    <a:pt x="151" y="13930"/>
                  </a:lnTo>
                  <a:lnTo>
                    <a:pt x="1573" y="11803"/>
                  </a:lnTo>
                  <a:close/>
                  <a:moveTo>
                    <a:pt x="75" y="13975"/>
                  </a:moveTo>
                  <a:lnTo>
                    <a:pt x="76" y="13974"/>
                  </a:lnTo>
                  <a:lnTo>
                    <a:pt x="78" y="13974"/>
                  </a:lnTo>
                  <a:lnTo>
                    <a:pt x="80" y="13974"/>
                  </a:lnTo>
                  <a:lnTo>
                    <a:pt x="82" y="13974"/>
                  </a:lnTo>
                  <a:lnTo>
                    <a:pt x="84" y="13974"/>
                  </a:lnTo>
                  <a:lnTo>
                    <a:pt x="86" y="13973"/>
                  </a:lnTo>
                  <a:lnTo>
                    <a:pt x="88" y="13973"/>
                  </a:lnTo>
                  <a:lnTo>
                    <a:pt x="91" y="13973"/>
                  </a:lnTo>
                  <a:lnTo>
                    <a:pt x="93" y="13972"/>
                  </a:lnTo>
                  <a:lnTo>
                    <a:pt x="95" y="13971"/>
                  </a:lnTo>
                  <a:lnTo>
                    <a:pt x="97" y="13971"/>
                  </a:lnTo>
                  <a:lnTo>
                    <a:pt x="99" y="13970"/>
                  </a:lnTo>
                  <a:lnTo>
                    <a:pt x="101" y="13970"/>
                  </a:lnTo>
                  <a:lnTo>
                    <a:pt x="103" y="13969"/>
                  </a:lnTo>
                  <a:lnTo>
                    <a:pt x="105" y="13968"/>
                  </a:lnTo>
                  <a:lnTo>
                    <a:pt x="107" y="13968"/>
                  </a:lnTo>
                  <a:lnTo>
                    <a:pt x="105" y="13968"/>
                  </a:lnTo>
                  <a:lnTo>
                    <a:pt x="103" y="13969"/>
                  </a:lnTo>
                  <a:lnTo>
                    <a:pt x="101" y="13970"/>
                  </a:lnTo>
                  <a:lnTo>
                    <a:pt x="99" y="13970"/>
                  </a:lnTo>
                  <a:lnTo>
                    <a:pt x="98" y="13971"/>
                  </a:lnTo>
                  <a:lnTo>
                    <a:pt x="96" y="13971"/>
                  </a:lnTo>
                  <a:lnTo>
                    <a:pt x="94" y="13972"/>
                  </a:lnTo>
                  <a:lnTo>
                    <a:pt x="92" y="13973"/>
                  </a:lnTo>
                  <a:lnTo>
                    <a:pt x="90" y="13973"/>
                  </a:lnTo>
                  <a:lnTo>
                    <a:pt x="87" y="13973"/>
                  </a:lnTo>
                  <a:lnTo>
                    <a:pt x="85" y="13974"/>
                  </a:lnTo>
                  <a:lnTo>
                    <a:pt x="83" y="13974"/>
                  </a:lnTo>
                  <a:lnTo>
                    <a:pt x="81" y="13974"/>
                  </a:lnTo>
                  <a:lnTo>
                    <a:pt x="79" y="13974"/>
                  </a:lnTo>
                  <a:lnTo>
                    <a:pt x="77" y="13974"/>
                  </a:lnTo>
                  <a:lnTo>
                    <a:pt x="75" y="13975"/>
                  </a:lnTo>
                  <a:close/>
                  <a:moveTo>
                    <a:pt x="46" y="13832"/>
                  </a:moveTo>
                  <a:lnTo>
                    <a:pt x="45" y="13832"/>
                  </a:lnTo>
                  <a:lnTo>
                    <a:pt x="44" y="13832"/>
                  </a:lnTo>
                  <a:lnTo>
                    <a:pt x="43" y="13832"/>
                  </a:lnTo>
                  <a:lnTo>
                    <a:pt x="43" y="13833"/>
                  </a:lnTo>
                  <a:lnTo>
                    <a:pt x="43" y="13832"/>
                  </a:lnTo>
                  <a:lnTo>
                    <a:pt x="44" y="13832"/>
                  </a:lnTo>
                  <a:lnTo>
                    <a:pt x="45" y="13832"/>
                  </a:lnTo>
                  <a:lnTo>
                    <a:pt x="46" y="138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4" name=""/>
          <p:cNvSpPr/>
          <p:nvPr/>
        </p:nvSpPr>
        <p:spPr>
          <a:xfrm>
            <a:off x="7058160" y="3978360"/>
            <a:ext cx="3333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7000920" y="4106880"/>
            <a:ext cx="345960" cy="29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474840" y="4930920"/>
            <a:ext cx="3122280" cy="15080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574560" y="4959360"/>
            <a:ext cx="3083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155/622M B-P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(G.983.1 &amp; G.983.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Shared access of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upstream band using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DBA function (G.983.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5932440" y="3344760"/>
            <a:ext cx="116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NE-O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 rot="16200000">
            <a:off x="2777040" y="1858320"/>
            <a:ext cx="2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1685880" y="3159000"/>
            <a:ext cx="175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Optimize for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Ether-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Single ASI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for P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term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6566040" y="5230800"/>
            <a:ext cx="241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・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SNMP for NE-O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・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2000 units of N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is controll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3798720" y="4119480"/>
            <a:ext cx="2727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Service separation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and multiplex 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VLAN tagg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func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Guarante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bandwidth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priority contro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3" name=""/>
          <p:cNvGrpSpPr/>
          <p:nvPr/>
        </p:nvGrpSpPr>
        <p:grpSpPr>
          <a:xfrm>
            <a:off x="7367760" y="3859200"/>
            <a:ext cx="585360" cy="379440"/>
            <a:chOff x="7367760" y="3859200"/>
            <a:chExt cx="585360" cy="379440"/>
          </a:xfrm>
        </p:grpSpPr>
        <p:grpSp>
          <p:nvGrpSpPr>
            <p:cNvPr id="1664" name=""/>
            <p:cNvGrpSpPr/>
            <p:nvPr/>
          </p:nvGrpSpPr>
          <p:grpSpPr>
            <a:xfrm>
              <a:off x="7529760" y="3862440"/>
              <a:ext cx="423360" cy="376200"/>
              <a:chOff x="7529760" y="3862440"/>
              <a:chExt cx="423360" cy="376200"/>
            </a:xfrm>
          </p:grpSpPr>
          <p:sp>
            <p:nvSpPr>
              <p:cNvPr id="1665" name=""/>
              <p:cNvSpPr/>
              <p:nvPr/>
            </p:nvSpPr>
            <p:spPr>
              <a:xfrm>
                <a:off x="7856640" y="4190400"/>
                <a:ext cx="63000" cy="33480"/>
              </a:xfrm>
              <a:custGeom>
                <a:avLst/>
                <a:gdLst/>
                <a:ahLst/>
                <a:rect l="l" t="t" r="r" b="b"/>
                <a:pathLst>
                  <a:path w="2446" h="1290">
                    <a:moveTo>
                      <a:pt x="2424" y="1162"/>
                    </a:moveTo>
                    <a:lnTo>
                      <a:pt x="1276" y="23"/>
                    </a:lnTo>
                    <a:lnTo>
                      <a:pt x="1273" y="20"/>
                    </a:lnTo>
                    <a:lnTo>
                      <a:pt x="1270" y="18"/>
                    </a:lnTo>
                    <a:lnTo>
                      <a:pt x="1267" y="14"/>
                    </a:lnTo>
                    <a:lnTo>
                      <a:pt x="1264" y="12"/>
                    </a:lnTo>
                    <a:lnTo>
                      <a:pt x="1261" y="10"/>
                    </a:lnTo>
                    <a:lnTo>
                      <a:pt x="1258" y="8"/>
                    </a:lnTo>
                    <a:lnTo>
                      <a:pt x="1255" y="7"/>
                    </a:lnTo>
                    <a:lnTo>
                      <a:pt x="1251" y="5"/>
                    </a:lnTo>
                    <a:lnTo>
                      <a:pt x="1248" y="4"/>
                    </a:lnTo>
                    <a:lnTo>
                      <a:pt x="1244" y="3"/>
                    </a:lnTo>
                    <a:lnTo>
                      <a:pt x="1241" y="2"/>
                    </a:lnTo>
                    <a:lnTo>
                      <a:pt x="1237" y="1"/>
                    </a:lnTo>
                    <a:lnTo>
                      <a:pt x="1233" y="0"/>
                    </a:lnTo>
                    <a:lnTo>
                      <a:pt x="1229" y="0"/>
                    </a:lnTo>
                    <a:lnTo>
                      <a:pt x="1225" y="0"/>
                    </a:lnTo>
                    <a:lnTo>
                      <a:pt x="1222" y="0"/>
                    </a:lnTo>
                    <a:lnTo>
                      <a:pt x="75" y="0"/>
                    </a:lnTo>
                    <a:lnTo>
                      <a:pt x="66" y="0"/>
                    </a:lnTo>
                    <a:lnTo>
                      <a:pt x="59" y="1"/>
                    </a:lnTo>
                    <a:lnTo>
                      <a:pt x="51" y="3"/>
                    </a:lnTo>
                    <a:lnTo>
                      <a:pt x="45" y="5"/>
                    </a:lnTo>
                    <a:lnTo>
                      <a:pt x="38" y="8"/>
                    </a:lnTo>
                    <a:lnTo>
                      <a:pt x="32" y="12"/>
                    </a:lnTo>
                    <a:lnTo>
                      <a:pt x="26" y="16"/>
                    </a:lnTo>
                    <a:lnTo>
                      <a:pt x="21" y="22"/>
                    </a:lnTo>
                    <a:lnTo>
                      <a:pt x="16" y="28"/>
                    </a:lnTo>
                    <a:lnTo>
                      <a:pt x="12" y="33"/>
                    </a:lnTo>
                    <a:lnTo>
                      <a:pt x="8" y="39"/>
                    </a:lnTo>
                    <a:lnTo>
                      <a:pt x="5" y="46"/>
                    </a:lnTo>
                    <a:lnTo>
                      <a:pt x="3" y="53"/>
                    </a:lnTo>
                    <a:lnTo>
                      <a:pt x="1" y="60"/>
                    </a:lnTo>
                    <a:lnTo>
                      <a:pt x="0" y="68"/>
                    </a:lnTo>
                    <a:lnTo>
                      <a:pt x="0" y="76"/>
                    </a:lnTo>
                    <a:lnTo>
                      <a:pt x="0" y="83"/>
                    </a:lnTo>
                    <a:lnTo>
                      <a:pt x="1" y="90"/>
                    </a:lnTo>
                    <a:lnTo>
                      <a:pt x="3" y="98"/>
                    </a:lnTo>
                    <a:lnTo>
                      <a:pt x="5" y="105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6" y="123"/>
                    </a:lnTo>
                    <a:lnTo>
                      <a:pt x="21" y="128"/>
                    </a:lnTo>
                    <a:lnTo>
                      <a:pt x="26" y="133"/>
                    </a:lnTo>
                    <a:lnTo>
                      <a:pt x="32" y="138"/>
                    </a:lnTo>
                    <a:lnTo>
                      <a:pt x="38" y="141"/>
                    </a:lnTo>
                    <a:lnTo>
                      <a:pt x="45" y="145"/>
                    </a:lnTo>
                    <a:lnTo>
                      <a:pt x="51" y="147"/>
                    </a:lnTo>
                    <a:lnTo>
                      <a:pt x="59" y="149"/>
                    </a:lnTo>
                    <a:lnTo>
                      <a:pt x="66" y="150"/>
                    </a:lnTo>
                    <a:lnTo>
                      <a:pt x="75" y="151"/>
                    </a:lnTo>
                    <a:lnTo>
                      <a:pt x="1191" y="151"/>
                    </a:lnTo>
                    <a:lnTo>
                      <a:pt x="2317" y="1268"/>
                    </a:lnTo>
                    <a:lnTo>
                      <a:pt x="2322" y="1273"/>
                    </a:lnTo>
                    <a:lnTo>
                      <a:pt x="2328" y="1277"/>
                    </a:lnTo>
                    <a:lnTo>
                      <a:pt x="2335" y="1281"/>
                    </a:lnTo>
                    <a:lnTo>
                      <a:pt x="2341" y="1284"/>
                    </a:lnTo>
                    <a:lnTo>
                      <a:pt x="2348" y="1287"/>
                    </a:lnTo>
                    <a:lnTo>
                      <a:pt x="2355" y="1289"/>
                    </a:lnTo>
                    <a:lnTo>
                      <a:pt x="2362" y="1290"/>
                    </a:lnTo>
                    <a:lnTo>
                      <a:pt x="2370" y="1290"/>
                    </a:lnTo>
                    <a:lnTo>
                      <a:pt x="2377" y="1290"/>
                    </a:lnTo>
                    <a:lnTo>
                      <a:pt x="2384" y="1289"/>
                    </a:lnTo>
                    <a:lnTo>
                      <a:pt x="2391" y="1287"/>
                    </a:lnTo>
                    <a:lnTo>
                      <a:pt x="2399" y="1284"/>
                    </a:lnTo>
                    <a:lnTo>
                      <a:pt x="2405" y="1281"/>
                    </a:lnTo>
                    <a:lnTo>
                      <a:pt x="2412" y="1277"/>
                    </a:lnTo>
                    <a:lnTo>
                      <a:pt x="2418" y="1273"/>
                    </a:lnTo>
                    <a:lnTo>
                      <a:pt x="2424" y="1268"/>
                    </a:lnTo>
                    <a:lnTo>
                      <a:pt x="2429" y="1262"/>
                    </a:lnTo>
                    <a:lnTo>
                      <a:pt x="2433" y="1256"/>
                    </a:lnTo>
                    <a:lnTo>
                      <a:pt x="2437" y="1250"/>
                    </a:lnTo>
                    <a:lnTo>
                      <a:pt x="2440" y="1243"/>
                    </a:lnTo>
                    <a:lnTo>
                      <a:pt x="2443" y="1236"/>
                    </a:lnTo>
                    <a:lnTo>
                      <a:pt x="2445" y="1229"/>
                    </a:lnTo>
                    <a:lnTo>
                      <a:pt x="2446" y="1222"/>
                    </a:lnTo>
                    <a:lnTo>
                      <a:pt x="2446" y="1215"/>
                    </a:lnTo>
                    <a:lnTo>
                      <a:pt x="2446" y="1208"/>
                    </a:lnTo>
                    <a:lnTo>
                      <a:pt x="2445" y="1201"/>
                    </a:lnTo>
                    <a:lnTo>
                      <a:pt x="2443" y="1194"/>
                    </a:lnTo>
                    <a:lnTo>
                      <a:pt x="2440" y="1187"/>
                    </a:lnTo>
                    <a:lnTo>
                      <a:pt x="2437" y="1180"/>
                    </a:lnTo>
                    <a:lnTo>
                      <a:pt x="2433" y="1173"/>
                    </a:lnTo>
                    <a:lnTo>
                      <a:pt x="2429" y="1167"/>
                    </a:lnTo>
                    <a:lnTo>
                      <a:pt x="2424" y="11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7898760" y="4229280"/>
                <a:ext cx="52200" cy="7560"/>
              </a:xfrm>
              <a:prstGeom prst="rect">
                <a:avLst/>
              </a:prstGeom>
              <a:solidFill>
                <a:srgbClr val="fff7e2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7898760" y="4203720"/>
                <a:ext cx="52200" cy="25560"/>
              </a:xfrm>
              <a:custGeom>
                <a:avLst/>
                <a:gdLst/>
                <a:ahLst/>
                <a:rect l="l" t="t" r="r" b="b"/>
                <a:pathLst>
                  <a:path w="2009" h="998">
                    <a:moveTo>
                      <a:pt x="2009" y="998"/>
                    </a:moveTo>
                    <a:lnTo>
                      <a:pt x="2003" y="896"/>
                    </a:lnTo>
                    <a:lnTo>
                      <a:pt x="1987" y="796"/>
                    </a:lnTo>
                    <a:lnTo>
                      <a:pt x="1963" y="701"/>
                    </a:lnTo>
                    <a:lnTo>
                      <a:pt x="1929" y="609"/>
                    </a:lnTo>
                    <a:lnTo>
                      <a:pt x="1887" y="522"/>
                    </a:lnTo>
                    <a:lnTo>
                      <a:pt x="1837" y="440"/>
                    </a:lnTo>
                    <a:lnTo>
                      <a:pt x="1779" y="362"/>
                    </a:lnTo>
                    <a:lnTo>
                      <a:pt x="1714" y="292"/>
                    </a:lnTo>
                    <a:lnTo>
                      <a:pt x="1643" y="227"/>
                    </a:lnTo>
                    <a:lnTo>
                      <a:pt x="1566" y="169"/>
                    </a:lnTo>
                    <a:lnTo>
                      <a:pt x="1483" y="119"/>
                    </a:lnTo>
                    <a:lnTo>
                      <a:pt x="1395" y="78"/>
                    </a:lnTo>
                    <a:lnTo>
                      <a:pt x="1303" y="44"/>
                    </a:lnTo>
                    <a:lnTo>
                      <a:pt x="1207" y="20"/>
                    </a:lnTo>
                    <a:lnTo>
                      <a:pt x="1107" y="5"/>
                    </a:lnTo>
                    <a:lnTo>
                      <a:pt x="1004" y="0"/>
                    </a:lnTo>
                    <a:lnTo>
                      <a:pt x="901" y="5"/>
                    </a:lnTo>
                    <a:lnTo>
                      <a:pt x="801" y="20"/>
                    </a:lnTo>
                    <a:lnTo>
                      <a:pt x="705" y="44"/>
                    </a:lnTo>
                    <a:lnTo>
                      <a:pt x="613" y="78"/>
                    </a:lnTo>
                    <a:lnTo>
                      <a:pt x="525" y="119"/>
                    </a:lnTo>
                    <a:lnTo>
                      <a:pt x="442" y="169"/>
                    </a:lnTo>
                    <a:lnTo>
                      <a:pt x="365" y="227"/>
                    </a:lnTo>
                    <a:lnTo>
                      <a:pt x="294" y="292"/>
                    </a:lnTo>
                    <a:lnTo>
                      <a:pt x="229" y="362"/>
                    </a:lnTo>
                    <a:lnTo>
                      <a:pt x="171" y="440"/>
                    </a:lnTo>
                    <a:lnTo>
                      <a:pt x="121" y="522"/>
                    </a:lnTo>
                    <a:lnTo>
                      <a:pt x="79" y="609"/>
                    </a:lnTo>
                    <a:lnTo>
                      <a:pt x="45" y="701"/>
                    </a:lnTo>
                    <a:lnTo>
                      <a:pt x="20" y="796"/>
                    </a:lnTo>
                    <a:lnTo>
                      <a:pt x="5" y="896"/>
                    </a:lnTo>
                    <a:lnTo>
                      <a:pt x="0" y="998"/>
                    </a:lnTo>
                    <a:lnTo>
                      <a:pt x="2009" y="998"/>
                    </a:lnTo>
                    <a:close/>
                  </a:path>
                </a:pathLst>
              </a:custGeom>
              <a:solidFill>
                <a:srgbClr val="fff7e2"/>
              </a:solidFill>
              <a:ln w="6480">
                <a:solidFill>
                  <a:srgbClr val="7f7c7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7561440" y="3863880"/>
                <a:ext cx="296280" cy="245880"/>
              </a:xfrm>
              <a:prstGeom prst="rect">
                <a:avLst/>
              </a:prstGeom>
              <a:solidFill>
                <a:srgbClr val="fff7e2"/>
              </a:solidFill>
              <a:ln w="6480">
                <a:solidFill>
                  <a:srgbClr val="7f7c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7583760" y="3886560"/>
                <a:ext cx="252000" cy="200880"/>
              </a:xfrm>
              <a:prstGeom prst="rect">
                <a:avLst/>
              </a:prstGeom>
              <a:solidFill>
                <a:srgbClr val="aec9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7531560" y="4225320"/>
                <a:ext cx="356040" cy="11520"/>
              </a:xfrm>
              <a:prstGeom prst="rect">
                <a:avLst/>
              </a:prstGeom>
              <a:solidFill>
                <a:srgbClr val="fff7e2"/>
              </a:solidFill>
              <a:ln w="6480">
                <a:solidFill>
                  <a:srgbClr val="7f7c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7635600" y="4110120"/>
                <a:ext cx="148680" cy="14760"/>
              </a:xfrm>
              <a:prstGeom prst="rect">
                <a:avLst/>
              </a:prstGeom>
              <a:solidFill>
                <a:srgbClr val="fff7e2"/>
              </a:solidFill>
              <a:ln w="6480">
                <a:solidFill>
                  <a:srgbClr val="7f7c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7598520" y="4124880"/>
                <a:ext cx="222480" cy="7560"/>
              </a:xfrm>
              <a:prstGeom prst="rect">
                <a:avLst/>
              </a:prstGeom>
              <a:solidFill>
                <a:srgbClr val="fff7e2"/>
              </a:solidFill>
              <a:ln w="6480">
                <a:solidFill>
                  <a:srgbClr val="7f7c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7568640" y="4132800"/>
                <a:ext cx="281880" cy="37080"/>
              </a:xfrm>
              <a:prstGeom prst="rect">
                <a:avLst/>
              </a:prstGeom>
              <a:solidFill>
                <a:srgbClr val="fff7e2"/>
              </a:solidFill>
              <a:ln w="6480">
                <a:solidFill>
                  <a:srgbClr val="7f7c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7531560" y="4169880"/>
                <a:ext cx="356040" cy="55440"/>
              </a:xfrm>
              <a:custGeom>
                <a:avLst/>
                <a:gdLst/>
                <a:ahLst/>
                <a:rect l="l" t="t" r="r" b="b"/>
                <a:pathLst>
                  <a:path w="13766" h="2138">
                    <a:moveTo>
                      <a:pt x="13766" y="2138"/>
                    </a:moveTo>
                    <a:lnTo>
                      <a:pt x="12332" y="0"/>
                    </a:lnTo>
                    <a:lnTo>
                      <a:pt x="1430" y="0"/>
                    </a:lnTo>
                    <a:lnTo>
                      <a:pt x="0" y="2138"/>
                    </a:lnTo>
                    <a:lnTo>
                      <a:pt x="13766" y="2138"/>
                    </a:lnTo>
                    <a:close/>
                  </a:path>
                </a:pathLst>
              </a:custGeom>
              <a:solidFill>
                <a:srgbClr val="fff7e2"/>
              </a:solidFill>
              <a:ln w="6480">
                <a:solidFill>
                  <a:srgbClr val="7f7c7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7683840" y="4203720"/>
                <a:ext cx="21960" cy="10800"/>
              </a:xfrm>
              <a:prstGeom prst="rect">
                <a:avLst/>
              </a:prstGeom>
              <a:solidFill>
                <a:srgbClr val="b2a8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7713720" y="4203720"/>
                <a:ext cx="21960" cy="10800"/>
              </a:xfrm>
              <a:prstGeom prst="rect">
                <a:avLst/>
              </a:prstGeom>
              <a:solidFill>
                <a:srgbClr val="b2a8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7742880" y="4203720"/>
                <a:ext cx="21960" cy="10800"/>
              </a:xfrm>
              <a:prstGeom prst="rect">
                <a:avLst/>
              </a:prstGeom>
              <a:solidFill>
                <a:srgbClr val="b2a8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7772760" y="4203720"/>
                <a:ext cx="21600" cy="10800"/>
              </a:xfrm>
              <a:prstGeom prst="rect">
                <a:avLst/>
              </a:prstGeom>
              <a:solidFill>
                <a:srgbClr val="b2a8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7802280" y="4203720"/>
                <a:ext cx="21960" cy="10800"/>
              </a:xfrm>
              <a:prstGeom prst="rect">
                <a:avLst/>
              </a:prstGeom>
              <a:solidFill>
                <a:srgbClr val="b2a8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7832160" y="4203720"/>
                <a:ext cx="21600" cy="10800"/>
              </a:xfrm>
              <a:prstGeom prst="rect">
                <a:avLst/>
              </a:prstGeom>
              <a:solidFill>
                <a:srgbClr val="b2a8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7565760" y="4203720"/>
                <a:ext cx="21600" cy="10800"/>
              </a:xfrm>
              <a:prstGeom prst="rect">
                <a:avLst/>
              </a:prstGeom>
              <a:solidFill>
                <a:srgbClr val="b2a8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7595280" y="4203720"/>
                <a:ext cx="21960" cy="10800"/>
              </a:xfrm>
              <a:prstGeom prst="rect">
                <a:avLst/>
              </a:prstGeom>
              <a:solidFill>
                <a:srgbClr val="b2a8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7624440" y="4203720"/>
                <a:ext cx="21960" cy="10800"/>
              </a:xfrm>
              <a:prstGeom prst="rect">
                <a:avLst/>
              </a:prstGeom>
              <a:solidFill>
                <a:srgbClr val="b2a8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7654320" y="4203720"/>
                <a:ext cx="21960" cy="10800"/>
              </a:xfrm>
              <a:prstGeom prst="rect">
                <a:avLst/>
              </a:prstGeom>
              <a:solidFill>
                <a:srgbClr val="b2a8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7698960" y="4181040"/>
                <a:ext cx="21600" cy="10800"/>
              </a:xfrm>
              <a:prstGeom prst="rect">
                <a:avLst/>
              </a:prstGeom>
              <a:solidFill>
                <a:srgbClr val="b2a8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7728480" y="4181040"/>
                <a:ext cx="21960" cy="10800"/>
              </a:xfrm>
              <a:prstGeom prst="rect">
                <a:avLst/>
              </a:prstGeom>
              <a:solidFill>
                <a:srgbClr val="b2a8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7758360" y="4181040"/>
                <a:ext cx="21600" cy="10800"/>
              </a:xfrm>
              <a:prstGeom prst="rect">
                <a:avLst/>
              </a:prstGeom>
              <a:solidFill>
                <a:srgbClr val="b2a8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7787520" y="4181040"/>
                <a:ext cx="21960" cy="10800"/>
              </a:xfrm>
              <a:prstGeom prst="rect">
                <a:avLst/>
              </a:prstGeom>
              <a:solidFill>
                <a:srgbClr val="b2a8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7816680" y="4181040"/>
                <a:ext cx="21960" cy="10800"/>
              </a:xfrm>
              <a:prstGeom prst="rect">
                <a:avLst/>
              </a:prstGeom>
              <a:solidFill>
                <a:srgbClr val="b2a8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7580520" y="4181040"/>
                <a:ext cx="21960" cy="10800"/>
              </a:xfrm>
              <a:prstGeom prst="rect">
                <a:avLst/>
              </a:prstGeom>
              <a:solidFill>
                <a:srgbClr val="b2a8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7610040" y="4181040"/>
                <a:ext cx="21960" cy="10800"/>
              </a:xfrm>
              <a:prstGeom prst="rect">
                <a:avLst/>
              </a:prstGeom>
              <a:solidFill>
                <a:srgbClr val="b2a8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7639920" y="4181040"/>
                <a:ext cx="21960" cy="10800"/>
              </a:xfrm>
              <a:prstGeom prst="rect">
                <a:avLst/>
              </a:prstGeom>
              <a:solidFill>
                <a:srgbClr val="b2a8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7669080" y="4181040"/>
                <a:ext cx="21960" cy="10800"/>
              </a:xfrm>
              <a:prstGeom prst="rect">
                <a:avLst/>
              </a:prstGeom>
              <a:solidFill>
                <a:srgbClr val="b2a8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7780320" y="4143600"/>
                <a:ext cx="55080" cy="18360"/>
              </a:xfrm>
              <a:prstGeom prst="rect">
                <a:avLst/>
              </a:prstGeom>
              <a:solidFill>
                <a:srgbClr val="fff7e2"/>
              </a:solidFill>
              <a:ln w="6480">
                <a:solidFill>
                  <a:srgbClr val="7f7c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7795080" y="4147560"/>
                <a:ext cx="25920" cy="10800"/>
              </a:xfrm>
              <a:prstGeom prst="rect">
                <a:avLst/>
              </a:prstGeom>
              <a:solidFill>
                <a:srgbClr val="fff7e2"/>
              </a:solidFill>
              <a:ln w="6480">
                <a:solidFill>
                  <a:srgbClr val="7f7c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7787520" y="4151520"/>
                <a:ext cx="41040" cy="2880"/>
              </a:xfrm>
              <a:prstGeom prst="rect">
                <a:avLst/>
              </a:prstGeom>
              <a:solidFill>
                <a:srgbClr val="fff7e2"/>
              </a:solidFill>
              <a:ln w="6480">
                <a:solidFill>
                  <a:srgbClr val="7f7c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7676280" y="4147560"/>
                <a:ext cx="66600" cy="7560"/>
              </a:xfrm>
              <a:prstGeom prst="rect">
                <a:avLst/>
              </a:prstGeom>
              <a:solidFill>
                <a:srgbClr val="fff7e2"/>
              </a:solidFill>
              <a:ln w="6480">
                <a:solidFill>
                  <a:srgbClr val="7f7c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7594560" y="4139640"/>
                <a:ext cx="3600" cy="22320"/>
              </a:xfrm>
              <a:prstGeom prst="rect">
                <a:avLst/>
              </a:prstGeom>
              <a:solidFill>
                <a:srgbClr val="b2a8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7583760" y="4139640"/>
                <a:ext cx="2880" cy="22320"/>
              </a:xfrm>
              <a:prstGeom prst="rect">
                <a:avLst/>
              </a:prstGeom>
              <a:solidFill>
                <a:srgbClr val="b2a8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7616880" y="4139640"/>
                <a:ext cx="3600" cy="22320"/>
              </a:xfrm>
              <a:prstGeom prst="rect">
                <a:avLst/>
              </a:prstGeom>
              <a:solidFill>
                <a:srgbClr val="b2a8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7606080" y="4139640"/>
                <a:ext cx="3240" cy="22320"/>
              </a:xfrm>
              <a:prstGeom prst="rect">
                <a:avLst/>
              </a:prstGeom>
              <a:solidFill>
                <a:srgbClr val="b2a8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7897320" y="4201200"/>
                <a:ext cx="55800" cy="37080"/>
              </a:xfrm>
              <a:custGeom>
                <a:avLst/>
                <a:gdLst/>
                <a:ahLst/>
                <a:rect l="l" t="t" r="r" b="b"/>
                <a:pathLst>
                  <a:path w="2160" h="1433">
                    <a:moveTo>
                      <a:pt x="1844" y="314"/>
                    </a:moveTo>
                    <a:lnTo>
                      <a:pt x="1805" y="277"/>
                    </a:lnTo>
                    <a:lnTo>
                      <a:pt x="1764" y="241"/>
                    </a:lnTo>
                    <a:lnTo>
                      <a:pt x="1722" y="209"/>
                    </a:lnTo>
                    <a:lnTo>
                      <a:pt x="1678" y="179"/>
                    </a:lnTo>
                    <a:lnTo>
                      <a:pt x="1634" y="151"/>
                    </a:lnTo>
                    <a:lnTo>
                      <a:pt x="1588" y="125"/>
                    </a:lnTo>
                    <a:lnTo>
                      <a:pt x="1542" y="102"/>
                    </a:lnTo>
                    <a:lnTo>
                      <a:pt x="1493" y="81"/>
                    </a:lnTo>
                    <a:lnTo>
                      <a:pt x="1444" y="62"/>
                    </a:lnTo>
                    <a:lnTo>
                      <a:pt x="1394" y="46"/>
                    </a:lnTo>
                    <a:lnTo>
                      <a:pt x="1343" y="31"/>
                    </a:lnTo>
                    <a:lnTo>
                      <a:pt x="1292" y="20"/>
                    </a:lnTo>
                    <a:lnTo>
                      <a:pt x="1240" y="11"/>
                    </a:lnTo>
                    <a:lnTo>
                      <a:pt x="1187" y="5"/>
                    </a:lnTo>
                    <a:lnTo>
                      <a:pt x="1134" y="1"/>
                    </a:lnTo>
                    <a:lnTo>
                      <a:pt x="1080" y="0"/>
                    </a:lnTo>
                    <a:lnTo>
                      <a:pt x="969" y="5"/>
                    </a:lnTo>
                    <a:lnTo>
                      <a:pt x="863" y="21"/>
                    </a:lnTo>
                    <a:lnTo>
                      <a:pt x="759" y="49"/>
                    </a:lnTo>
                    <a:lnTo>
                      <a:pt x="660" y="85"/>
                    </a:lnTo>
                    <a:lnTo>
                      <a:pt x="566" y="130"/>
                    </a:lnTo>
                    <a:lnTo>
                      <a:pt x="477" y="183"/>
                    </a:lnTo>
                    <a:lnTo>
                      <a:pt x="394" y="245"/>
                    </a:lnTo>
                    <a:lnTo>
                      <a:pt x="317" y="315"/>
                    </a:lnTo>
                    <a:lnTo>
                      <a:pt x="247" y="391"/>
                    </a:lnTo>
                    <a:lnTo>
                      <a:pt x="184" y="473"/>
                    </a:lnTo>
                    <a:lnTo>
                      <a:pt x="131" y="562"/>
                    </a:lnTo>
                    <a:lnTo>
                      <a:pt x="85" y="655"/>
                    </a:lnTo>
                    <a:lnTo>
                      <a:pt x="49" y="754"/>
                    </a:lnTo>
                    <a:lnTo>
                      <a:pt x="22" y="857"/>
                    </a:lnTo>
                    <a:lnTo>
                      <a:pt x="5" y="963"/>
                    </a:lnTo>
                    <a:lnTo>
                      <a:pt x="0" y="1073"/>
                    </a:lnTo>
                    <a:lnTo>
                      <a:pt x="0" y="1357"/>
                    </a:lnTo>
                    <a:lnTo>
                      <a:pt x="0" y="1364"/>
                    </a:lnTo>
                    <a:lnTo>
                      <a:pt x="1" y="1371"/>
                    </a:lnTo>
                    <a:lnTo>
                      <a:pt x="3" y="1380"/>
                    </a:lnTo>
                    <a:lnTo>
                      <a:pt x="5" y="1387"/>
                    </a:lnTo>
                    <a:lnTo>
                      <a:pt x="9" y="1393"/>
                    </a:lnTo>
                    <a:lnTo>
                      <a:pt x="12" y="1399"/>
                    </a:lnTo>
                    <a:lnTo>
                      <a:pt x="18" y="1405"/>
                    </a:lnTo>
                    <a:lnTo>
                      <a:pt x="23" y="1410"/>
                    </a:lnTo>
                    <a:lnTo>
                      <a:pt x="28" y="1415"/>
                    </a:lnTo>
                    <a:lnTo>
                      <a:pt x="34" y="1420"/>
                    </a:lnTo>
                    <a:lnTo>
                      <a:pt x="40" y="1423"/>
                    </a:lnTo>
                    <a:lnTo>
                      <a:pt x="46" y="1427"/>
                    </a:lnTo>
                    <a:lnTo>
                      <a:pt x="53" y="1429"/>
                    </a:lnTo>
                    <a:lnTo>
                      <a:pt x="61" y="1431"/>
                    </a:lnTo>
                    <a:lnTo>
                      <a:pt x="68" y="1432"/>
                    </a:lnTo>
                    <a:lnTo>
                      <a:pt x="76" y="1433"/>
                    </a:lnTo>
                    <a:lnTo>
                      <a:pt x="2085" y="1433"/>
                    </a:lnTo>
                    <a:lnTo>
                      <a:pt x="2092" y="1432"/>
                    </a:lnTo>
                    <a:lnTo>
                      <a:pt x="2099" y="1431"/>
                    </a:lnTo>
                    <a:lnTo>
                      <a:pt x="2107" y="1429"/>
                    </a:lnTo>
                    <a:lnTo>
                      <a:pt x="2114" y="1427"/>
                    </a:lnTo>
                    <a:lnTo>
                      <a:pt x="2120" y="1423"/>
                    </a:lnTo>
                    <a:lnTo>
                      <a:pt x="2126" y="1420"/>
                    </a:lnTo>
                    <a:lnTo>
                      <a:pt x="2132" y="1415"/>
                    </a:lnTo>
                    <a:lnTo>
                      <a:pt x="2137" y="1410"/>
                    </a:lnTo>
                    <a:lnTo>
                      <a:pt x="2142" y="1405"/>
                    </a:lnTo>
                    <a:lnTo>
                      <a:pt x="2147" y="1399"/>
                    </a:lnTo>
                    <a:lnTo>
                      <a:pt x="2150" y="1393"/>
                    </a:lnTo>
                    <a:lnTo>
                      <a:pt x="2154" y="1387"/>
                    </a:lnTo>
                    <a:lnTo>
                      <a:pt x="2156" y="1380"/>
                    </a:lnTo>
                    <a:lnTo>
                      <a:pt x="2158" y="1371"/>
                    </a:lnTo>
                    <a:lnTo>
                      <a:pt x="2159" y="1364"/>
                    </a:lnTo>
                    <a:lnTo>
                      <a:pt x="2160" y="1357"/>
                    </a:lnTo>
                    <a:lnTo>
                      <a:pt x="2160" y="1073"/>
                    </a:lnTo>
                    <a:lnTo>
                      <a:pt x="2158" y="1019"/>
                    </a:lnTo>
                    <a:lnTo>
                      <a:pt x="2154" y="966"/>
                    </a:lnTo>
                    <a:lnTo>
                      <a:pt x="2148" y="913"/>
                    </a:lnTo>
                    <a:lnTo>
                      <a:pt x="2139" y="861"/>
                    </a:lnTo>
                    <a:lnTo>
                      <a:pt x="2128" y="810"/>
                    </a:lnTo>
                    <a:lnTo>
                      <a:pt x="2114" y="760"/>
                    </a:lnTo>
                    <a:lnTo>
                      <a:pt x="2097" y="710"/>
                    </a:lnTo>
                    <a:lnTo>
                      <a:pt x="2079" y="661"/>
                    </a:lnTo>
                    <a:lnTo>
                      <a:pt x="2057" y="614"/>
                    </a:lnTo>
                    <a:lnTo>
                      <a:pt x="2033" y="567"/>
                    </a:lnTo>
                    <a:lnTo>
                      <a:pt x="2008" y="522"/>
                    </a:lnTo>
                    <a:lnTo>
                      <a:pt x="1979" y="477"/>
                    </a:lnTo>
                    <a:lnTo>
                      <a:pt x="1948" y="434"/>
                    </a:lnTo>
                    <a:lnTo>
                      <a:pt x="1916" y="392"/>
                    </a:lnTo>
                    <a:lnTo>
                      <a:pt x="1880" y="352"/>
                    </a:lnTo>
                    <a:lnTo>
                      <a:pt x="1844" y="314"/>
                    </a:lnTo>
                    <a:close/>
                    <a:moveTo>
                      <a:pt x="424" y="420"/>
                    </a:moveTo>
                    <a:lnTo>
                      <a:pt x="457" y="388"/>
                    </a:lnTo>
                    <a:lnTo>
                      <a:pt x="492" y="358"/>
                    </a:lnTo>
                    <a:lnTo>
                      <a:pt x="528" y="330"/>
                    </a:lnTo>
                    <a:lnTo>
                      <a:pt x="565" y="304"/>
                    </a:lnTo>
                    <a:lnTo>
                      <a:pt x="603" y="280"/>
                    </a:lnTo>
                    <a:lnTo>
                      <a:pt x="643" y="257"/>
                    </a:lnTo>
                    <a:lnTo>
                      <a:pt x="683" y="237"/>
                    </a:lnTo>
                    <a:lnTo>
                      <a:pt x="724" y="219"/>
                    </a:lnTo>
                    <a:lnTo>
                      <a:pt x="766" y="203"/>
                    </a:lnTo>
                    <a:lnTo>
                      <a:pt x="809" y="189"/>
                    </a:lnTo>
                    <a:lnTo>
                      <a:pt x="853" y="177"/>
                    </a:lnTo>
                    <a:lnTo>
                      <a:pt x="897" y="167"/>
                    </a:lnTo>
                    <a:lnTo>
                      <a:pt x="942" y="159"/>
                    </a:lnTo>
                    <a:lnTo>
                      <a:pt x="987" y="154"/>
                    </a:lnTo>
                    <a:lnTo>
                      <a:pt x="1034" y="151"/>
                    </a:lnTo>
                    <a:lnTo>
                      <a:pt x="1080" y="150"/>
                    </a:lnTo>
                    <a:lnTo>
                      <a:pt x="1126" y="151"/>
                    </a:lnTo>
                    <a:lnTo>
                      <a:pt x="1172" y="154"/>
                    </a:lnTo>
                    <a:lnTo>
                      <a:pt x="1218" y="159"/>
                    </a:lnTo>
                    <a:lnTo>
                      <a:pt x="1262" y="167"/>
                    </a:lnTo>
                    <a:lnTo>
                      <a:pt x="1307" y="177"/>
                    </a:lnTo>
                    <a:lnTo>
                      <a:pt x="1350" y="189"/>
                    </a:lnTo>
                    <a:lnTo>
                      <a:pt x="1393" y="203"/>
                    </a:lnTo>
                    <a:lnTo>
                      <a:pt x="1435" y="219"/>
                    </a:lnTo>
                    <a:lnTo>
                      <a:pt x="1477" y="237"/>
                    </a:lnTo>
                    <a:lnTo>
                      <a:pt x="1517" y="257"/>
                    </a:lnTo>
                    <a:lnTo>
                      <a:pt x="1557" y="280"/>
                    </a:lnTo>
                    <a:lnTo>
                      <a:pt x="1595" y="304"/>
                    </a:lnTo>
                    <a:lnTo>
                      <a:pt x="1632" y="330"/>
                    </a:lnTo>
                    <a:lnTo>
                      <a:pt x="1668" y="358"/>
                    </a:lnTo>
                    <a:lnTo>
                      <a:pt x="1702" y="388"/>
                    </a:lnTo>
                    <a:lnTo>
                      <a:pt x="1737" y="420"/>
                    </a:lnTo>
                    <a:lnTo>
                      <a:pt x="1768" y="453"/>
                    </a:lnTo>
                    <a:lnTo>
                      <a:pt x="1798" y="488"/>
                    </a:lnTo>
                    <a:lnTo>
                      <a:pt x="1827" y="524"/>
                    </a:lnTo>
                    <a:lnTo>
                      <a:pt x="1853" y="561"/>
                    </a:lnTo>
                    <a:lnTo>
                      <a:pt x="1877" y="599"/>
                    </a:lnTo>
                    <a:lnTo>
                      <a:pt x="1900" y="638"/>
                    </a:lnTo>
                    <a:lnTo>
                      <a:pt x="1920" y="678"/>
                    </a:lnTo>
                    <a:lnTo>
                      <a:pt x="1938" y="720"/>
                    </a:lnTo>
                    <a:lnTo>
                      <a:pt x="1954" y="761"/>
                    </a:lnTo>
                    <a:lnTo>
                      <a:pt x="1968" y="804"/>
                    </a:lnTo>
                    <a:lnTo>
                      <a:pt x="1980" y="847"/>
                    </a:lnTo>
                    <a:lnTo>
                      <a:pt x="1991" y="891"/>
                    </a:lnTo>
                    <a:lnTo>
                      <a:pt x="1999" y="936"/>
                    </a:lnTo>
                    <a:lnTo>
                      <a:pt x="2004" y="981"/>
                    </a:lnTo>
                    <a:lnTo>
                      <a:pt x="2007" y="1027"/>
                    </a:lnTo>
                    <a:lnTo>
                      <a:pt x="2009" y="1073"/>
                    </a:lnTo>
                    <a:lnTo>
                      <a:pt x="2009" y="1282"/>
                    </a:lnTo>
                    <a:lnTo>
                      <a:pt x="152" y="1282"/>
                    </a:lnTo>
                    <a:lnTo>
                      <a:pt x="152" y="1073"/>
                    </a:lnTo>
                    <a:lnTo>
                      <a:pt x="153" y="1027"/>
                    </a:lnTo>
                    <a:lnTo>
                      <a:pt x="156" y="981"/>
                    </a:lnTo>
                    <a:lnTo>
                      <a:pt x="161" y="936"/>
                    </a:lnTo>
                    <a:lnTo>
                      <a:pt x="169" y="891"/>
                    </a:lnTo>
                    <a:lnTo>
                      <a:pt x="179" y="847"/>
                    </a:lnTo>
                    <a:lnTo>
                      <a:pt x="191" y="804"/>
                    </a:lnTo>
                    <a:lnTo>
                      <a:pt x="206" y="761"/>
                    </a:lnTo>
                    <a:lnTo>
                      <a:pt x="222" y="720"/>
                    </a:lnTo>
                    <a:lnTo>
                      <a:pt x="240" y="678"/>
                    </a:lnTo>
                    <a:lnTo>
                      <a:pt x="260" y="638"/>
                    </a:lnTo>
                    <a:lnTo>
                      <a:pt x="282" y="599"/>
                    </a:lnTo>
                    <a:lnTo>
                      <a:pt x="307" y="561"/>
                    </a:lnTo>
                    <a:lnTo>
                      <a:pt x="333" y="524"/>
                    </a:lnTo>
                    <a:lnTo>
                      <a:pt x="361" y="488"/>
                    </a:lnTo>
                    <a:lnTo>
                      <a:pt x="392" y="453"/>
                    </a:lnTo>
                    <a:lnTo>
                      <a:pt x="424" y="4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7529760" y="3862440"/>
                <a:ext cx="360000" cy="376200"/>
              </a:xfrm>
              <a:custGeom>
                <a:avLst/>
                <a:gdLst/>
                <a:ahLst/>
                <a:rect l="l" t="t" r="r" b="b"/>
                <a:pathLst>
                  <a:path w="13922" h="14402">
                    <a:moveTo>
                      <a:pt x="12488" y="11738"/>
                    </a:moveTo>
                    <a:lnTo>
                      <a:pt x="12488" y="10337"/>
                    </a:lnTo>
                    <a:lnTo>
                      <a:pt x="12487" y="10329"/>
                    </a:lnTo>
                    <a:lnTo>
                      <a:pt x="12486" y="10320"/>
                    </a:lnTo>
                    <a:lnTo>
                      <a:pt x="12484" y="10313"/>
                    </a:lnTo>
                    <a:lnTo>
                      <a:pt x="12482" y="10306"/>
                    </a:lnTo>
                    <a:lnTo>
                      <a:pt x="12479" y="10299"/>
                    </a:lnTo>
                    <a:lnTo>
                      <a:pt x="12475" y="10293"/>
                    </a:lnTo>
                    <a:lnTo>
                      <a:pt x="12471" y="10287"/>
                    </a:lnTo>
                    <a:lnTo>
                      <a:pt x="12466" y="10282"/>
                    </a:lnTo>
                    <a:lnTo>
                      <a:pt x="12460" y="10277"/>
                    </a:lnTo>
                    <a:lnTo>
                      <a:pt x="12455" y="10272"/>
                    </a:lnTo>
                    <a:lnTo>
                      <a:pt x="12449" y="10269"/>
                    </a:lnTo>
                    <a:lnTo>
                      <a:pt x="12442" y="10265"/>
                    </a:lnTo>
                    <a:lnTo>
                      <a:pt x="12435" y="10263"/>
                    </a:lnTo>
                    <a:lnTo>
                      <a:pt x="12427" y="10261"/>
                    </a:lnTo>
                    <a:lnTo>
                      <a:pt x="12419" y="10260"/>
                    </a:lnTo>
                    <a:lnTo>
                      <a:pt x="12412" y="10260"/>
                    </a:lnTo>
                    <a:lnTo>
                      <a:pt x="11341" y="10260"/>
                    </a:lnTo>
                    <a:lnTo>
                      <a:pt x="11341" y="10051"/>
                    </a:lnTo>
                    <a:lnTo>
                      <a:pt x="11340" y="10043"/>
                    </a:lnTo>
                    <a:lnTo>
                      <a:pt x="11339" y="10036"/>
                    </a:lnTo>
                    <a:lnTo>
                      <a:pt x="11337" y="10028"/>
                    </a:lnTo>
                    <a:lnTo>
                      <a:pt x="11335" y="10021"/>
                    </a:lnTo>
                    <a:lnTo>
                      <a:pt x="11331" y="10015"/>
                    </a:lnTo>
                    <a:lnTo>
                      <a:pt x="11328" y="10009"/>
                    </a:lnTo>
                    <a:lnTo>
                      <a:pt x="11323" y="10003"/>
                    </a:lnTo>
                    <a:lnTo>
                      <a:pt x="11318" y="9998"/>
                    </a:lnTo>
                    <a:lnTo>
                      <a:pt x="11313" y="9993"/>
                    </a:lnTo>
                    <a:lnTo>
                      <a:pt x="11307" y="9988"/>
                    </a:lnTo>
                    <a:lnTo>
                      <a:pt x="11301" y="9985"/>
                    </a:lnTo>
                    <a:lnTo>
                      <a:pt x="11295" y="9981"/>
                    </a:lnTo>
                    <a:lnTo>
                      <a:pt x="11288" y="9979"/>
                    </a:lnTo>
                    <a:lnTo>
                      <a:pt x="11280" y="9977"/>
                    </a:lnTo>
                    <a:lnTo>
                      <a:pt x="11273" y="9976"/>
                    </a:lnTo>
                    <a:lnTo>
                      <a:pt x="11265" y="9976"/>
                    </a:lnTo>
                    <a:lnTo>
                      <a:pt x="9906" y="9976"/>
                    </a:lnTo>
                    <a:lnTo>
                      <a:pt x="9906" y="9557"/>
                    </a:lnTo>
                    <a:lnTo>
                      <a:pt x="12699" y="9557"/>
                    </a:lnTo>
                    <a:lnTo>
                      <a:pt x="12706" y="9556"/>
                    </a:lnTo>
                    <a:lnTo>
                      <a:pt x="12714" y="9555"/>
                    </a:lnTo>
                    <a:lnTo>
                      <a:pt x="12721" y="9553"/>
                    </a:lnTo>
                    <a:lnTo>
                      <a:pt x="12728" y="9551"/>
                    </a:lnTo>
                    <a:lnTo>
                      <a:pt x="12735" y="9547"/>
                    </a:lnTo>
                    <a:lnTo>
                      <a:pt x="12741" y="9544"/>
                    </a:lnTo>
                    <a:lnTo>
                      <a:pt x="12746" y="9539"/>
                    </a:lnTo>
                    <a:lnTo>
                      <a:pt x="12752" y="9534"/>
                    </a:lnTo>
                    <a:lnTo>
                      <a:pt x="12757" y="9529"/>
                    </a:lnTo>
                    <a:lnTo>
                      <a:pt x="12761" y="9523"/>
                    </a:lnTo>
                    <a:lnTo>
                      <a:pt x="12765" y="9517"/>
                    </a:lnTo>
                    <a:lnTo>
                      <a:pt x="12768" y="9511"/>
                    </a:lnTo>
                    <a:lnTo>
                      <a:pt x="12770" y="9504"/>
                    </a:lnTo>
                    <a:lnTo>
                      <a:pt x="12772" y="9496"/>
                    </a:lnTo>
                    <a:lnTo>
                      <a:pt x="12773" y="9489"/>
                    </a:lnTo>
                    <a:lnTo>
                      <a:pt x="12774" y="9482"/>
                    </a:lnTo>
                    <a:lnTo>
                      <a:pt x="12774" y="77"/>
                    </a:lnTo>
                    <a:lnTo>
                      <a:pt x="12773" y="69"/>
                    </a:lnTo>
                    <a:lnTo>
                      <a:pt x="12772" y="61"/>
                    </a:lnTo>
                    <a:lnTo>
                      <a:pt x="12770" y="53"/>
                    </a:lnTo>
                    <a:lnTo>
                      <a:pt x="12768" y="46"/>
                    </a:lnTo>
                    <a:lnTo>
                      <a:pt x="12765" y="39"/>
                    </a:lnTo>
                    <a:lnTo>
                      <a:pt x="12761" y="33"/>
                    </a:lnTo>
                    <a:lnTo>
                      <a:pt x="12757" y="27"/>
                    </a:lnTo>
                    <a:lnTo>
                      <a:pt x="12752" y="22"/>
                    </a:lnTo>
                    <a:lnTo>
                      <a:pt x="12746" y="17"/>
                    </a:lnTo>
                    <a:lnTo>
                      <a:pt x="12741" y="12"/>
                    </a:lnTo>
                    <a:lnTo>
                      <a:pt x="12735" y="9"/>
                    </a:lnTo>
                    <a:lnTo>
                      <a:pt x="12728" y="5"/>
                    </a:lnTo>
                    <a:lnTo>
                      <a:pt x="12721" y="3"/>
                    </a:lnTo>
                    <a:lnTo>
                      <a:pt x="12714" y="1"/>
                    </a:lnTo>
                    <a:lnTo>
                      <a:pt x="12706" y="0"/>
                    </a:lnTo>
                    <a:lnTo>
                      <a:pt x="12699" y="0"/>
                    </a:lnTo>
                    <a:lnTo>
                      <a:pt x="1223" y="0"/>
                    </a:lnTo>
                    <a:lnTo>
                      <a:pt x="1215" y="0"/>
                    </a:lnTo>
                    <a:lnTo>
                      <a:pt x="1207" y="1"/>
                    </a:lnTo>
                    <a:lnTo>
                      <a:pt x="1200" y="3"/>
                    </a:lnTo>
                    <a:lnTo>
                      <a:pt x="1193" y="5"/>
                    </a:lnTo>
                    <a:lnTo>
                      <a:pt x="1186" y="9"/>
                    </a:lnTo>
                    <a:lnTo>
                      <a:pt x="1180" y="12"/>
                    </a:lnTo>
                    <a:lnTo>
                      <a:pt x="1175" y="17"/>
                    </a:lnTo>
                    <a:lnTo>
                      <a:pt x="1169" y="22"/>
                    </a:lnTo>
                    <a:lnTo>
                      <a:pt x="1164" y="27"/>
                    </a:lnTo>
                    <a:lnTo>
                      <a:pt x="1159" y="33"/>
                    </a:lnTo>
                    <a:lnTo>
                      <a:pt x="1155" y="39"/>
                    </a:lnTo>
                    <a:lnTo>
                      <a:pt x="1152" y="46"/>
                    </a:lnTo>
                    <a:lnTo>
                      <a:pt x="1150" y="53"/>
                    </a:lnTo>
                    <a:lnTo>
                      <a:pt x="1148" y="61"/>
                    </a:lnTo>
                    <a:lnTo>
                      <a:pt x="1147" y="69"/>
                    </a:lnTo>
                    <a:lnTo>
                      <a:pt x="1147" y="77"/>
                    </a:lnTo>
                    <a:lnTo>
                      <a:pt x="1147" y="9482"/>
                    </a:lnTo>
                    <a:lnTo>
                      <a:pt x="1147" y="9489"/>
                    </a:lnTo>
                    <a:lnTo>
                      <a:pt x="1148" y="9496"/>
                    </a:lnTo>
                    <a:lnTo>
                      <a:pt x="1150" y="9504"/>
                    </a:lnTo>
                    <a:lnTo>
                      <a:pt x="1152" y="9511"/>
                    </a:lnTo>
                    <a:lnTo>
                      <a:pt x="1155" y="9517"/>
                    </a:lnTo>
                    <a:lnTo>
                      <a:pt x="1159" y="9523"/>
                    </a:lnTo>
                    <a:lnTo>
                      <a:pt x="1164" y="9529"/>
                    </a:lnTo>
                    <a:lnTo>
                      <a:pt x="1169" y="9534"/>
                    </a:lnTo>
                    <a:lnTo>
                      <a:pt x="1175" y="9539"/>
                    </a:lnTo>
                    <a:lnTo>
                      <a:pt x="1180" y="9544"/>
                    </a:lnTo>
                    <a:lnTo>
                      <a:pt x="1186" y="9547"/>
                    </a:lnTo>
                    <a:lnTo>
                      <a:pt x="1193" y="9551"/>
                    </a:lnTo>
                    <a:lnTo>
                      <a:pt x="1200" y="9553"/>
                    </a:lnTo>
                    <a:lnTo>
                      <a:pt x="1207" y="9555"/>
                    </a:lnTo>
                    <a:lnTo>
                      <a:pt x="1215" y="9556"/>
                    </a:lnTo>
                    <a:lnTo>
                      <a:pt x="1223" y="9557"/>
                    </a:lnTo>
                    <a:lnTo>
                      <a:pt x="4015" y="9557"/>
                    </a:lnTo>
                    <a:lnTo>
                      <a:pt x="4015" y="9976"/>
                    </a:lnTo>
                    <a:lnTo>
                      <a:pt x="2657" y="9976"/>
                    </a:lnTo>
                    <a:lnTo>
                      <a:pt x="2649" y="9976"/>
                    </a:lnTo>
                    <a:lnTo>
                      <a:pt x="2642" y="9977"/>
                    </a:lnTo>
                    <a:lnTo>
                      <a:pt x="2634" y="9979"/>
                    </a:lnTo>
                    <a:lnTo>
                      <a:pt x="2628" y="9981"/>
                    </a:lnTo>
                    <a:lnTo>
                      <a:pt x="2621" y="9985"/>
                    </a:lnTo>
                    <a:lnTo>
                      <a:pt x="2615" y="9988"/>
                    </a:lnTo>
                    <a:lnTo>
                      <a:pt x="2609" y="9993"/>
                    </a:lnTo>
                    <a:lnTo>
                      <a:pt x="2604" y="9998"/>
                    </a:lnTo>
                    <a:lnTo>
                      <a:pt x="2599" y="10003"/>
                    </a:lnTo>
                    <a:lnTo>
                      <a:pt x="2595" y="10009"/>
                    </a:lnTo>
                    <a:lnTo>
                      <a:pt x="2590" y="10015"/>
                    </a:lnTo>
                    <a:lnTo>
                      <a:pt x="2587" y="10021"/>
                    </a:lnTo>
                    <a:lnTo>
                      <a:pt x="2585" y="10028"/>
                    </a:lnTo>
                    <a:lnTo>
                      <a:pt x="2583" y="10036"/>
                    </a:lnTo>
                    <a:lnTo>
                      <a:pt x="2582" y="10043"/>
                    </a:lnTo>
                    <a:lnTo>
                      <a:pt x="2582" y="10051"/>
                    </a:lnTo>
                    <a:lnTo>
                      <a:pt x="2582" y="10260"/>
                    </a:lnTo>
                    <a:lnTo>
                      <a:pt x="1510" y="10260"/>
                    </a:lnTo>
                    <a:lnTo>
                      <a:pt x="1502" y="10260"/>
                    </a:lnTo>
                    <a:lnTo>
                      <a:pt x="1494" y="10261"/>
                    </a:lnTo>
                    <a:lnTo>
                      <a:pt x="1487" y="10263"/>
                    </a:lnTo>
                    <a:lnTo>
                      <a:pt x="1480" y="10265"/>
                    </a:lnTo>
                    <a:lnTo>
                      <a:pt x="1473" y="10269"/>
                    </a:lnTo>
                    <a:lnTo>
                      <a:pt x="1467" y="10272"/>
                    </a:lnTo>
                    <a:lnTo>
                      <a:pt x="1462" y="10277"/>
                    </a:lnTo>
                    <a:lnTo>
                      <a:pt x="1456" y="10282"/>
                    </a:lnTo>
                    <a:lnTo>
                      <a:pt x="1451" y="10287"/>
                    </a:lnTo>
                    <a:lnTo>
                      <a:pt x="1447" y="10293"/>
                    </a:lnTo>
                    <a:lnTo>
                      <a:pt x="1443" y="10299"/>
                    </a:lnTo>
                    <a:lnTo>
                      <a:pt x="1440" y="10306"/>
                    </a:lnTo>
                    <a:lnTo>
                      <a:pt x="1438" y="10313"/>
                    </a:lnTo>
                    <a:lnTo>
                      <a:pt x="1436" y="10320"/>
                    </a:lnTo>
                    <a:lnTo>
                      <a:pt x="1435" y="10329"/>
                    </a:lnTo>
                    <a:lnTo>
                      <a:pt x="1435" y="10337"/>
                    </a:lnTo>
                    <a:lnTo>
                      <a:pt x="1435" y="11739"/>
                    </a:lnTo>
                    <a:lnTo>
                      <a:pt x="26" y="13844"/>
                    </a:lnTo>
                    <a:lnTo>
                      <a:pt x="23" y="13846"/>
                    </a:lnTo>
                    <a:lnTo>
                      <a:pt x="20" y="13849"/>
                    </a:lnTo>
                    <a:lnTo>
                      <a:pt x="17" y="13852"/>
                    </a:lnTo>
                    <a:lnTo>
                      <a:pt x="15" y="13855"/>
                    </a:lnTo>
                    <a:lnTo>
                      <a:pt x="12" y="13858"/>
                    </a:lnTo>
                    <a:lnTo>
                      <a:pt x="10" y="13861"/>
                    </a:lnTo>
                    <a:lnTo>
                      <a:pt x="8" y="13864"/>
                    </a:lnTo>
                    <a:lnTo>
                      <a:pt x="7" y="13868"/>
                    </a:lnTo>
                    <a:lnTo>
                      <a:pt x="5" y="13871"/>
                    </a:lnTo>
                    <a:lnTo>
                      <a:pt x="4" y="13875"/>
                    </a:lnTo>
                    <a:lnTo>
                      <a:pt x="2" y="13878"/>
                    </a:lnTo>
                    <a:lnTo>
                      <a:pt x="1" y="13882"/>
                    </a:lnTo>
                    <a:lnTo>
                      <a:pt x="1" y="13886"/>
                    </a:lnTo>
                    <a:lnTo>
                      <a:pt x="0" y="13890"/>
                    </a:lnTo>
                    <a:lnTo>
                      <a:pt x="0" y="13894"/>
                    </a:lnTo>
                    <a:lnTo>
                      <a:pt x="0" y="13899"/>
                    </a:lnTo>
                    <a:lnTo>
                      <a:pt x="0" y="14326"/>
                    </a:lnTo>
                    <a:lnTo>
                      <a:pt x="0" y="14333"/>
                    </a:lnTo>
                    <a:lnTo>
                      <a:pt x="1" y="14340"/>
                    </a:lnTo>
                    <a:lnTo>
                      <a:pt x="3" y="14349"/>
                    </a:lnTo>
                    <a:lnTo>
                      <a:pt x="5" y="14356"/>
                    </a:lnTo>
                    <a:lnTo>
                      <a:pt x="9" y="14362"/>
                    </a:lnTo>
                    <a:lnTo>
                      <a:pt x="12" y="14368"/>
                    </a:lnTo>
                    <a:lnTo>
                      <a:pt x="17" y="14374"/>
                    </a:lnTo>
                    <a:lnTo>
                      <a:pt x="22" y="14379"/>
                    </a:lnTo>
                    <a:lnTo>
                      <a:pt x="27" y="14384"/>
                    </a:lnTo>
                    <a:lnTo>
                      <a:pt x="33" y="14389"/>
                    </a:lnTo>
                    <a:lnTo>
                      <a:pt x="39" y="14392"/>
                    </a:lnTo>
                    <a:lnTo>
                      <a:pt x="45" y="14396"/>
                    </a:lnTo>
                    <a:lnTo>
                      <a:pt x="52" y="14398"/>
                    </a:lnTo>
                    <a:lnTo>
                      <a:pt x="60" y="14400"/>
                    </a:lnTo>
                    <a:lnTo>
                      <a:pt x="67" y="14401"/>
                    </a:lnTo>
                    <a:lnTo>
                      <a:pt x="75" y="14402"/>
                    </a:lnTo>
                    <a:lnTo>
                      <a:pt x="13846" y="14402"/>
                    </a:lnTo>
                    <a:lnTo>
                      <a:pt x="13853" y="14401"/>
                    </a:lnTo>
                    <a:lnTo>
                      <a:pt x="13862" y="14400"/>
                    </a:lnTo>
                    <a:lnTo>
                      <a:pt x="13869" y="14398"/>
                    </a:lnTo>
                    <a:lnTo>
                      <a:pt x="13876" y="14396"/>
                    </a:lnTo>
                    <a:lnTo>
                      <a:pt x="13883" y="14392"/>
                    </a:lnTo>
                    <a:lnTo>
                      <a:pt x="13889" y="14389"/>
                    </a:lnTo>
                    <a:lnTo>
                      <a:pt x="13894" y="14384"/>
                    </a:lnTo>
                    <a:lnTo>
                      <a:pt x="13900" y="14379"/>
                    </a:lnTo>
                    <a:lnTo>
                      <a:pt x="13905" y="14374"/>
                    </a:lnTo>
                    <a:lnTo>
                      <a:pt x="13909" y="14368"/>
                    </a:lnTo>
                    <a:lnTo>
                      <a:pt x="13913" y="14362"/>
                    </a:lnTo>
                    <a:lnTo>
                      <a:pt x="13916" y="14356"/>
                    </a:lnTo>
                    <a:lnTo>
                      <a:pt x="13918" y="14349"/>
                    </a:lnTo>
                    <a:lnTo>
                      <a:pt x="13920" y="14340"/>
                    </a:lnTo>
                    <a:lnTo>
                      <a:pt x="13921" y="14333"/>
                    </a:lnTo>
                    <a:lnTo>
                      <a:pt x="13922" y="14326"/>
                    </a:lnTo>
                    <a:lnTo>
                      <a:pt x="13922" y="13899"/>
                    </a:lnTo>
                    <a:lnTo>
                      <a:pt x="13921" y="13895"/>
                    </a:lnTo>
                    <a:lnTo>
                      <a:pt x="13921" y="13892"/>
                    </a:lnTo>
                    <a:lnTo>
                      <a:pt x="13921" y="13889"/>
                    </a:lnTo>
                    <a:lnTo>
                      <a:pt x="13921" y="13886"/>
                    </a:lnTo>
                    <a:lnTo>
                      <a:pt x="13920" y="13884"/>
                    </a:lnTo>
                    <a:lnTo>
                      <a:pt x="13920" y="13881"/>
                    </a:lnTo>
                    <a:lnTo>
                      <a:pt x="13919" y="13878"/>
                    </a:lnTo>
                    <a:lnTo>
                      <a:pt x="13918" y="13876"/>
                    </a:lnTo>
                    <a:lnTo>
                      <a:pt x="13918" y="13873"/>
                    </a:lnTo>
                    <a:lnTo>
                      <a:pt x="13917" y="13871"/>
                    </a:lnTo>
                    <a:lnTo>
                      <a:pt x="13916" y="13868"/>
                    </a:lnTo>
                    <a:lnTo>
                      <a:pt x="13914" y="13865"/>
                    </a:lnTo>
                    <a:lnTo>
                      <a:pt x="13913" y="13863"/>
                    </a:lnTo>
                    <a:lnTo>
                      <a:pt x="13912" y="13860"/>
                    </a:lnTo>
                    <a:lnTo>
                      <a:pt x="13910" y="13858"/>
                    </a:lnTo>
                    <a:lnTo>
                      <a:pt x="13909" y="13856"/>
                    </a:lnTo>
                    <a:lnTo>
                      <a:pt x="12488" y="11738"/>
                    </a:lnTo>
                    <a:close/>
                    <a:moveTo>
                      <a:pt x="1573" y="11803"/>
                    </a:moveTo>
                    <a:lnTo>
                      <a:pt x="1574" y="11800"/>
                    </a:lnTo>
                    <a:lnTo>
                      <a:pt x="1575" y="11798"/>
                    </a:lnTo>
                    <a:lnTo>
                      <a:pt x="1577" y="11795"/>
                    </a:lnTo>
                    <a:lnTo>
                      <a:pt x="1578" y="11793"/>
                    </a:lnTo>
                    <a:lnTo>
                      <a:pt x="1579" y="11790"/>
                    </a:lnTo>
                    <a:lnTo>
                      <a:pt x="1580" y="11787"/>
                    </a:lnTo>
                    <a:lnTo>
                      <a:pt x="1581" y="11785"/>
                    </a:lnTo>
                    <a:lnTo>
                      <a:pt x="1582" y="11782"/>
                    </a:lnTo>
                    <a:lnTo>
                      <a:pt x="1583" y="11780"/>
                    </a:lnTo>
                    <a:lnTo>
                      <a:pt x="1583" y="11777"/>
                    </a:lnTo>
                    <a:lnTo>
                      <a:pt x="1584" y="11774"/>
                    </a:lnTo>
                    <a:lnTo>
                      <a:pt x="1585" y="11772"/>
                    </a:lnTo>
                    <a:lnTo>
                      <a:pt x="1585" y="11769"/>
                    </a:lnTo>
                    <a:lnTo>
                      <a:pt x="1585" y="11766"/>
                    </a:lnTo>
                    <a:lnTo>
                      <a:pt x="1585" y="11763"/>
                    </a:lnTo>
                    <a:lnTo>
                      <a:pt x="1586" y="11761"/>
                    </a:lnTo>
                    <a:lnTo>
                      <a:pt x="1586" y="10412"/>
                    </a:lnTo>
                    <a:lnTo>
                      <a:pt x="2657" y="10412"/>
                    </a:lnTo>
                    <a:lnTo>
                      <a:pt x="2664" y="10411"/>
                    </a:lnTo>
                    <a:lnTo>
                      <a:pt x="2672" y="10410"/>
                    </a:lnTo>
                    <a:lnTo>
                      <a:pt x="2679" y="10408"/>
                    </a:lnTo>
                    <a:lnTo>
                      <a:pt x="2687" y="10406"/>
                    </a:lnTo>
                    <a:lnTo>
                      <a:pt x="2694" y="10403"/>
                    </a:lnTo>
                    <a:lnTo>
                      <a:pt x="2700" y="10399"/>
                    </a:lnTo>
                    <a:lnTo>
                      <a:pt x="2705" y="10395"/>
                    </a:lnTo>
                    <a:lnTo>
                      <a:pt x="2711" y="10390"/>
                    </a:lnTo>
                    <a:lnTo>
                      <a:pt x="2716" y="10384"/>
                    </a:lnTo>
                    <a:lnTo>
                      <a:pt x="2720" y="10379"/>
                    </a:lnTo>
                    <a:lnTo>
                      <a:pt x="2724" y="10373"/>
                    </a:lnTo>
                    <a:lnTo>
                      <a:pt x="2727" y="10366"/>
                    </a:lnTo>
                    <a:lnTo>
                      <a:pt x="2729" y="10359"/>
                    </a:lnTo>
                    <a:lnTo>
                      <a:pt x="2731" y="10352"/>
                    </a:lnTo>
                    <a:lnTo>
                      <a:pt x="2732" y="10344"/>
                    </a:lnTo>
                    <a:lnTo>
                      <a:pt x="2733" y="10337"/>
                    </a:lnTo>
                    <a:lnTo>
                      <a:pt x="2733" y="10127"/>
                    </a:lnTo>
                    <a:lnTo>
                      <a:pt x="4092" y="10127"/>
                    </a:lnTo>
                    <a:lnTo>
                      <a:pt x="4099" y="10126"/>
                    </a:lnTo>
                    <a:lnTo>
                      <a:pt x="4107" y="10125"/>
                    </a:lnTo>
                    <a:lnTo>
                      <a:pt x="4115" y="10123"/>
                    </a:lnTo>
                    <a:lnTo>
                      <a:pt x="4122" y="10121"/>
                    </a:lnTo>
                    <a:lnTo>
                      <a:pt x="4129" y="10118"/>
                    </a:lnTo>
                    <a:lnTo>
                      <a:pt x="4135" y="10114"/>
                    </a:lnTo>
                    <a:lnTo>
                      <a:pt x="4140" y="10110"/>
                    </a:lnTo>
                    <a:lnTo>
                      <a:pt x="4146" y="10105"/>
                    </a:lnTo>
                    <a:lnTo>
                      <a:pt x="4151" y="10098"/>
                    </a:lnTo>
                    <a:lnTo>
                      <a:pt x="4155" y="10093"/>
                    </a:lnTo>
                    <a:lnTo>
                      <a:pt x="4159" y="10087"/>
                    </a:lnTo>
                    <a:lnTo>
                      <a:pt x="4162" y="10080"/>
                    </a:lnTo>
                    <a:lnTo>
                      <a:pt x="4164" y="10073"/>
                    </a:lnTo>
                    <a:lnTo>
                      <a:pt x="4166" y="10066"/>
                    </a:lnTo>
                    <a:lnTo>
                      <a:pt x="4167" y="10058"/>
                    </a:lnTo>
                    <a:lnTo>
                      <a:pt x="4168" y="10051"/>
                    </a:lnTo>
                    <a:lnTo>
                      <a:pt x="4168" y="9482"/>
                    </a:lnTo>
                    <a:lnTo>
                      <a:pt x="4167" y="9474"/>
                    </a:lnTo>
                    <a:lnTo>
                      <a:pt x="4166" y="9466"/>
                    </a:lnTo>
                    <a:lnTo>
                      <a:pt x="4164" y="9459"/>
                    </a:lnTo>
                    <a:lnTo>
                      <a:pt x="4162" y="9452"/>
                    </a:lnTo>
                    <a:lnTo>
                      <a:pt x="4159" y="9445"/>
                    </a:lnTo>
                    <a:lnTo>
                      <a:pt x="4155" y="9439"/>
                    </a:lnTo>
                    <a:lnTo>
                      <a:pt x="4151" y="9434"/>
                    </a:lnTo>
                    <a:lnTo>
                      <a:pt x="4146" y="9427"/>
                    </a:lnTo>
                    <a:lnTo>
                      <a:pt x="4140" y="9422"/>
                    </a:lnTo>
                    <a:lnTo>
                      <a:pt x="4135" y="9418"/>
                    </a:lnTo>
                    <a:lnTo>
                      <a:pt x="4129" y="9414"/>
                    </a:lnTo>
                    <a:lnTo>
                      <a:pt x="4122" y="9411"/>
                    </a:lnTo>
                    <a:lnTo>
                      <a:pt x="4115" y="9409"/>
                    </a:lnTo>
                    <a:lnTo>
                      <a:pt x="4107" y="9407"/>
                    </a:lnTo>
                    <a:lnTo>
                      <a:pt x="4099" y="9406"/>
                    </a:lnTo>
                    <a:lnTo>
                      <a:pt x="4092" y="9406"/>
                    </a:lnTo>
                    <a:lnTo>
                      <a:pt x="1300" y="9406"/>
                    </a:lnTo>
                    <a:lnTo>
                      <a:pt x="1300" y="152"/>
                    </a:lnTo>
                    <a:lnTo>
                      <a:pt x="12624" y="152"/>
                    </a:lnTo>
                    <a:lnTo>
                      <a:pt x="12624" y="9406"/>
                    </a:lnTo>
                    <a:lnTo>
                      <a:pt x="9830" y="9406"/>
                    </a:lnTo>
                    <a:lnTo>
                      <a:pt x="9822" y="9406"/>
                    </a:lnTo>
                    <a:lnTo>
                      <a:pt x="9814" y="9407"/>
                    </a:lnTo>
                    <a:lnTo>
                      <a:pt x="9807" y="9409"/>
                    </a:lnTo>
                    <a:lnTo>
                      <a:pt x="9800" y="9411"/>
                    </a:lnTo>
                    <a:lnTo>
                      <a:pt x="9793" y="9414"/>
                    </a:lnTo>
                    <a:lnTo>
                      <a:pt x="9787" y="9418"/>
                    </a:lnTo>
                    <a:lnTo>
                      <a:pt x="9782" y="9422"/>
                    </a:lnTo>
                    <a:lnTo>
                      <a:pt x="9776" y="9427"/>
                    </a:lnTo>
                    <a:lnTo>
                      <a:pt x="9771" y="9434"/>
                    </a:lnTo>
                    <a:lnTo>
                      <a:pt x="9767" y="9439"/>
                    </a:lnTo>
                    <a:lnTo>
                      <a:pt x="9763" y="9445"/>
                    </a:lnTo>
                    <a:lnTo>
                      <a:pt x="9760" y="9452"/>
                    </a:lnTo>
                    <a:lnTo>
                      <a:pt x="9758" y="9459"/>
                    </a:lnTo>
                    <a:lnTo>
                      <a:pt x="9756" y="9466"/>
                    </a:lnTo>
                    <a:lnTo>
                      <a:pt x="9755" y="9474"/>
                    </a:lnTo>
                    <a:lnTo>
                      <a:pt x="9755" y="9482"/>
                    </a:lnTo>
                    <a:lnTo>
                      <a:pt x="9755" y="10051"/>
                    </a:lnTo>
                    <a:lnTo>
                      <a:pt x="9755" y="10058"/>
                    </a:lnTo>
                    <a:lnTo>
                      <a:pt x="9756" y="10066"/>
                    </a:lnTo>
                    <a:lnTo>
                      <a:pt x="9758" y="10073"/>
                    </a:lnTo>
                    <a:lnTo>
                      <a:pt x="9760" y="10080"/>
                    </a:lnTo>
                    <a:lnTo>
                      <a:pt x="9763" y="10087"/>
                    </a:lnTo>
                    <a:lnTo>
                      <a:pt x="9767" y="10093"/>
                    </a:lnTo>
                    <a:lnTo>
                      <a:pt x="9771" y="10098"/>
                    </a:lnTo>
                    <a:lnTo>
                      <a:pt x="9776" y="10105"/>
                    </a:lnTo>
                    <a:lnTo>
                      <a:pt x="9782" y="10110"/>
                    </a:lnTo>
                    <a:lnTo>
                      <a:pt x="9787" y="10114"/>
                    </a:lnTo>
                    <a:lnTo>
                      <a:pt x="9793" y="10118"/>
                    </a:lnTo>
                    <a:lnTo>
                      <a:pt x="9800" y="10121"/>
                    </a:lnTo>
                    <a:lnTo>
                      <a:pt x="9807" y="10123"/>
                    </a:lnTo>
                    <a:lnTo>
                      <a:pt x="9814" y="10125"/>
                    </a:lnTo>
                    <a:lnTo>
                      <a:pt x="9822" y="10126"/>
                    </a:lnTo>
                    <a:lnTo>
                      <a:pt x="9830" y="10127"/>
                    </a:lnTo>
                    <a:lnTo>
                      <a:pt x="11189" y="10127"/>
                    </a:lnTo>
                    <a:lnTo>
                      <a:pt x="11189" y="10337"/>
                    </a:lnTo>
                    <a:lnTo>
                      <a:pt x="11189" y="10344"/>
                    </a:lnTo>
                    <a:lnTo>
                      <a:pt x="11190" y="10352"/>
                    </a:lnTo>
                    <a:lnTo>
                      <a:pt x="11192" y="10359"/>
                    </a:lnTo>
                    <a:lnTo>
                      <a:pt x="11194" y="10366"/>
                    </a:lnTo>
                    <a:lnTo>
                      <a:pt x="11198" y="10373"/>
                    </a:lnTo>
                    <a:lnTo>
                      <a:pt x="11201" y="10379"/>
                    </a:lnTo>
                    <a:lnTo>
                      <a:pt x="11206" y="10384"/>
                    </a:lnTo>
                    <a:lnTo>
                      <a:pt x="11211" y="10390"/>
                    </a:lnTo>
                    <a:lnTo>
                      <a:pt x="11216" y="10395"/>
                    </a:lnTo>
                    <a:lnTo>
                      <a:pt x="11222" y="10399"/>
                    </a:lnTo>
                    <a:lnTo>
                      <a:pt x="11228" y="10403"/>
                    </a:lnTo>
                    <a:lnTo>
                      <a:pt x="11235" y="10406"/>
                    </a:lnTo>
                    <a:lnTo>
                      <a:pt x="11242" y="10408"/>
                    </a:lnTo>
                    <a:lnTo>
                      <a:pt x="11249" y="10410"/>
                    </a:lnTo>
                    <a:lnTo>
                      <a:pt x="11257" y="10411"/>
                    </a:lnTo>
                    <a:lnTo>
                      <a:pt x="11265" y="10412"/>
                    </a:lnTo>
                    <a:lnTo>
                      <a:pt x="12336" y="10412"/>
                    </a:lnTo>
                    <a:lnTo>
                      <a:pt x="12336" y="11761"/>
                    </a:lnTo>
                    <a:lnTo>
                      <a:pt x="12336" y="11763"/>
                    </a:lnTo>
                    <a:lnTo>
                      <a:pt x="12336" y="11766"/>
                    </a:lnTo>
                    <a:lnTo>
                      <a:pt x="12336" y="11769"/>
                    </a:lnTo>
                    <a:lnTo>
                      <a:pt x="12336" y="11772"/>
                    </a:lnTo>
                    <a:lnTo>
                      <a:pt x="12337" y="11774"/>
                    </a:lnTo>
                    <a:lnTo>
                      <a:pt x="12338" y="11777"/>
                    </a:lnTo>
                    <a:lnTo>
                      <a:pt x="12338" y="11780"/>
                    </a:lnTo>
                    <a:lnTo>
                      <a:pt x="12340" y="11782"/>
                    </a:lnTo>
                    <a:lnTo>
                      <a:pt x="12341" y="11785"/>
                    </a:lnTo>
                    <a:lnTo>
                      <a:pt x="12342" y="11787"/>
                    </a:lnTo>
                    <a:lnTo>
                      <a:pt x="12343" y="11790"/>
                    </a:lnTo>
                    <a:lnTo>
                      <a:pt x="12344" y="11793"/>
                    </a:lnTo>
                    <a:lnTo>
                      <a:pt x="12345" y="11795"/>
                    </a:lnTo>
                    <a:lnTo>
                      <a:pt x="12347" y="11798"/>
                    </a:lnTo>
                    <a:lnTo>
                      <a:pt x="12348" y="11800"/>
                    </a:lnTo>
                    <a:lnTo>
                      <a:pt x="12350" y="11803"/>
                    </a:lnTo>
                    <a:lnTo>
                      <a:pt x="13771" y="13922"/>
                    </a:lnTo>
                    <a:lnTo>
                      <a:pt x="13771" y="14251"/>
                    </a:lnTo>
                    <a:lnTo>
                      <a:pt x="151" y="14251"/>
                    </a:lnTo>
                    <a:lnTo>
                      <a:pt x="151" y="13930"/>
                    </a:lnTo>
                    <a:lnTo>
                      <a:pt x="1573" y="11803"/>
                    </a:lnTo>
                    <a:close/>
                    <a:moveTo>
                      <a:pt x="75" y="13975"/>
                    </a:moveTo>
                    <a:lnTo>
                      <a:pt x="76" y="13974"/>
                    </a:lnTo>
                    <a:lnTo>
                      <a:pt x="78" y="13974"/>
                    </a:lnTo>
                    <a:lnTo>
                      <a:pt x="80" y="13974"/>
                    </a:lnTo>
                    <a:lnTo>
                      <a:pt x="82" y="13974"/>
                    </a:lnTo>
                    <a:lnTo>
                      <a:pt x="84" y="13974"/>
                    </a:lnTo>
                    <a:lnTo>
                      <a:pt x="86" y="13973"/>
                    </a:lnTo>
                    <a:lnTo>
                      <a:pt x="88" y="13973"/>
                    </a:lnTo>
                    <a:lnTo>
                      <a:pt x="91" y="13973"/>
                    </a:lnTo>
                    <a:lnTo>
                      <a:pt x="93" y="13972"/>
                    </a:lnTo>
                    <a:lnTo>
                      <a:pt x="95" y="13971"/>
                    </a:lnTo>
                    <a:lnTo>
                      <a:pt x="97" y="13971"/>
                    </a:lnTo>
                    <a:lnTo>
                      <a:pt x="99" y="13970"/>
                    </a:lnTo>
                    <a:lnTo>
                      <a:pt x="101" y="13970"/>
                    </a:lnTo>
                    <a:lnTo>
                      <a:pt x="103" y="13969"/>
                    </a:lnTo>
                    <a:lnTo>
                      <a:pt x="105" y="13968"/>
                    </a:lnTo>
                    <a:lnTo>
                      <a:pt x="107" y="13968"/>
                    </a:lnTo>
                    <a:lnTo>
                      <a:pt x="105" y="13968"/>
                    </a:lnTo>
                    <a:lnTo>
                      <a:pt x="103" y="13969"/>
                    </a:lnTo>
                    <a:lnTo>
                      <a:pt x="101" y="13970"/>
                    </a:lnTo>
                    <a:lnTo>
                      <a:pt x="99" y="13970"/>
                    </a:lnTo>
                    <a:lnTo>
                      <a:pt x="98" y="13971"/>
                    </a:lnTo>
                    <a:lnTo>
                      <a:pt x="96" y="13971"/>
                    </a:lnTo>
                    <a:lnTo>
                      <a:pt x="94" y="13972"/>
                    </a:lnTo>
                    <a:lnTo>
                      <a:pt x="92" y="13973"/>
                    </a:lnTo>
                    <a:lnTo>
                      <a:pt x="90" y="13973"/>
                    </a:lnTo>
                    <a:lnTo>
                      <a:pt x="87" y="13973"/>
                    </a:lnTo>
                    <a:lnTo>
                      <a:pt x="85" y="13974"/>
                    </a:lnTo>
                    <a:lnTo>
                      <a:pt x="83" y="13974"/>
                    </a:lnTo>
                    <a:lnTo>
                      <a:pt x="81" y="13974"/>
                    </a:lnTo>
                    <a:lnTo>
                      <a:pt x="79" y="13974"/>
                    </a:lnTo>
                    <a:lnTo>
                      <a:pt x="77" y="13974"/>
                    </a:lnTo>
                    <a:lnTo>
                      <a:pt x="75" y="13975"/>
                    </a:lnTo>
                    <a:close/>
                    <a:moveTo>
                      <a:pt x="46" y="13832"/>
                    </a:moveTo>
                    <a:lnTo>
                      <a:pt x="45" y="13832"/>
                    </a:lnTo>
                    <a:lnTo>
                      <a:pt x="44" y="13832"/>
                    </a:lnTo>
                    <a:lnTo>
                      <a:pt x="43" y="13832"/>
                    </a:lnTo>
                    <a:lnTo>
                      <a:pt x="43" y="13833"/>
                    </a:lnTo>
                    <a:lnTo>
                      <a:pt x="43" y="13832"/>
                    </a:lnTo>
                    <a:lnTo>
                      <a:pt x="44" y="13832"/>
                    </a:lnTo>
                    <a:lnTo>
                      <a:pt x="45" y="13832"/>
                    </a:lnTo>
                    <a:lnTo>
                      <a:pt x="46" y="138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4" name=""/>
            <p:cNvGrpSpPr/>
            <p:nvPr/>
          </p:nvGrpSpPr>
          <p:grpSpPr>
            <a:xfrm>
              <a:off x="7367760" y="3859200"/>
              <a:ext cx="162000" cy="379440"/>
              <a:chOff x="7367760" y="3859200"/>
              <a:chExt cx="162000" cy="379440"/>
            </a:xfrm>
          </p:grpSpPr>
          <p:sp>
            <p:nvSpPr>
              <p:cNvPr id="1705" name=""/>
              <p:cNvSpPr/>
              <p:nvPr/>
            </p:nvSpPr>
            <p:spPr>
              <a:xfrm>
                <a:off x="7369200" y="3860640"/>
                <a:ext cx="132840" cy="82800"/>
              </a:xfrm>
              <a:prstGeom prst="rect">
                <a:avLst/>
              </a:prstGeom>
              <a:solidFill>
                <a:srgbClr val="fff7e2"/>
              </a:solidFill>
              <a:ln w="6480">
                <a:solidFill>
                  <a:srgbClr val="7f7c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7369200" y="3943800"/>
                <a:ext cx="132840" cy="75240"/>
              </a:xfrm>
              <a:prstGeom prst="rect">
                <a:avLst/>
              </a:prstGeom>
              <a:solidFill>
                <a:srgbClr val="fff7e2"/>
              </a:solidFill>
              <a:ln w="6480">
                <a:solidFill>
                  <a:srgbClr val="7f7c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7369200" y="4019040"/>
                <a:ext cx="132840" cy="218160"/>
              </a:xfrm>
              <a:prstGeom prst="rect">
                <a:avLst/>
              </a:prstGeom>
              <a:solidFill>
                <a:srgbClr val="fff7e2"/>
              </a:solidFill>
              <a:ln w="6480">
                <a:solidFill>
                  <a:srgbClr val="7f7c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7400520" y="3879360"/>
                <a:ext cx="73440" cy="7560"/>
              </a:xfrm>
              <a:prstGeom prst="rect">
                <a:avLst/>
              </a:prstGeom>
              <a:solidFill>
                <a:srgbClr val="fff7e2"/>
              </a:solidFill>
              <a:ln w="6480">
                <a:solidFill>
                  <a:srgbClr val="7f7c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7392960" y="3902400"/>
                <a:ext cx="88200" cy="24120"/>
              </a:xfrm>
              <a:prstGeom prst="rect">
                <a:avLst/>
              </a:prstGeom>
              <a:solidFill>
                <a:srgbClr val="fff7e2"/>
              </a:solidFill>
              <a:ln w="6480">
                <a:solidFill>
                  <a:srgbClr val="7f7c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7437600" y="3943800"/>
                <a:ext cx="360" cy="75240"/>
              </a:xfrm>
              <a:prstGeom prst="line">
                <a:avLst/>
              </a:prstGeom>
              <a:ln w="6480">
                <a:solidFill>
                  <a:srgbClr val="7f7c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7402320" y="3943800"/>
                <a:ext cx="360" cy="75240"/>
              </a:xfrm>
              <a:prstGeom prst="line">
                <a:avLst/>
              </a:prstGeom>
              <a:ln w="6480">
                <a:solidFill>
                  <a:srgbClr val="7f7c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7470720" y="3943800"/>
                <a:ext cx="360" cy="75240"/>
              </a:xfrm>
              <a:prstGeom prst="line">
                <a:avLst/>
              </a:prstGeom>
              <a:ln w="6480">
                <a:solidFill>
                  <a:srgbClr val="7f7c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7454520" y="4184280"/>
                <a:ext cx="47520" cy="3600"/>
              </a:xfrm>
              <a:prstGeom prst="rect">
                <a:avLst/>
              </a:prstGeom>
              <a:solidFill>
                <a:srgbClr val="b2a8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7454520" y="4168800"/>
                <a:ext cx="47520" cy="3600"/>
              </a:xfrm>
              <a:prstGeom prst="rect">
                <a:avLst/>
              </a:prstGeom>
              <a:solidFill>
                <a:srgbClr val="b2a8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7454520" y="4154040"/>
                <a:ext cx="47520" cy="3600"/>
              </a:xfrm>
              <a:prstGeom prst="rect">
                <a:avLst/>
              </a:prstGeom>
              <a:solidFill>
                <a:srgbClr val="b2a8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7454520" y="4139280"/>
                <a:ext cx="47520" cy="2880"/>
              </a:xfrm>
              <a:prstGeom prst="rect">
                <a:avLst/>
              </a:prstGeom>
              <a:solidFill>
                <a:srgbClr val="b2a8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7454520" y="4123800"/>
                <a:ext cx="47520" cy="3600"/>
              </a:xfrm>
              <a:prstGeom prst="rect">
                <a:avLst/>
              </a:prstGeom>
              <a:solidFill>
                <a:srgbClr val="b2a8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7454520" y="4109040"/>
                <a:ext cx="47520" cy="3600"/>
              </a:xfrm>
              <a:prstGeom prst="rect">
                <a:avLst/>
              </a:prstGeom>
              <a:solidFill>
                <a:srgbClr val="b2a8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7369200" y="4019040"/>
                <a:ext cx="132840" cy="30240"/>
              </a:xfrm>
              <a:prstGeom prst="rect">
                <a:avLst/>
              </a:prstGeom>
              <a:solidFill>
                <a:srgbClr val="fff7e2"/>
              </a:solidFill>
              <a:ln w="6480">
                <a:solidFill>
                  <a:srgbClr val="7f7c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7502040" y="3860640"/>
                <a:ext cx="25560" cy="376200"/>
              </a:xfrm>
              <a:prstGeom prst="rect">
                <a:avLst/>
              </a:prstGeom>
              <a:solidFill>
                <a:srgbClr val="fff7e2"/>
              </a:solidFill>
              <a:ln w="6480">
                <a:solidFill>
                  <a:srgbClr val="7f7c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7367760" y="3859200"/>
                <a:ext cx="162000" cy="379440"/>
              </a:xfrm>
              <a:custGeom>
                <a:avLst/>
                <a:gdLst/>
                <a:ahLst/>
                <a:rect l="l" t="t" r="r" b="b"/>
                <a:pathLst>
                  <a:path w="7190" h="16604">
                    <a:moveTo>
                      <a:pt x="7104" y="0"/>
                    </a:moveTo>
                    <a:lnTo>
                      <a:pt x="87" y="0"/>
                    </a:lnTo>
                    <a:lnTo>
                      <a:pt x="78" y="0"/>
                    </a:lnTo>
                    <a:lnTo>
                      <a:pt x="69" y="1"/>
                    </a:lnTo>
                    <a:lnTo>
                      <a:pt x="61" y="3"/>
                    </a:lnTo>
                    <a:lnTo>
                      <a:pt x="53" y="6"/>
                    </a:lnTo>
                    <a:lnTo>
                      <a:pt x="44" y="10"/>
                    </a:lnTo>
                    <a:lnTo>
                      <a:pt x="37" y="14"/>
                    </a:lnTo>
                    <a:lnTo>
                      <a:pt x="31" y="19"/>
                    </a:lnTo>
                    <a:lnTo>
                      <a:pt x="25" y="24"/>
                    </a:lnTo>
                    <a:lnTo>
                      <a:pt x="19" y="31"/>
                    </a:lnTo>
                    <a:lnTo>
                      <a:pt x="14" y="38"/>
                    </a:lnTo>
                    <a:lnTo>
                      <a:pt x="10" y="45"/>
                    </a:lnTo>
                    <a:lnTo>
                      <a:pt x="6" y="52"/>
                    </a:lnTo>
                    <a:lnTo>
                      <a:pt x="3" y="60"/>
                    </a:lnTo>
                    <a:lnTo>
                      <a:pt x="1" y="68"/>
                    </a:lnTo>
                    <a:lnTo>
                      <a:pt x="0" y="77"/>
                    </a:lnTo>
                    <a:lnTo>
                      <a:pt x="0" y="87"/>
                    </a:lnTo>
                    <a:lnTo>
                      <a:pt x="0" y="16518"/>
                    </a:lnTo>
                    <a:lnTo>
                      <a:pt x="0" y="16526"/>
                    </a:lnTo>
                    <a:lnTo>
                      <a:pt x="1" y="16535"/>
                    </a:lnTo>
                    <a:lnTo>
                      <a:pt x="3" y="16543"/>
                    </a:lnTo>
                    <a:lnTo>
                      <a:pt x="6" y="16551"/>
                    </a:lnTo>
                    <a:lnTo>
                      <a:pt x="10" y="16558"/>
                    </a:lnTo>
                    <a:lnTo>
                      <a:pt x="14" y="16565"/>
                    </a:lnTo>
                    <a:lnTo>
                      <a:pt x="19" y="16572"/>
                    </a:lnTo>
                    <a:lnTo>
                      <a:pt x="25" y="16579"/>
                    </a:lnTo>
                    <a:lnTo>
                      <a:pt x="31" y="16584"/>
                    </a:lnTo>
                    <a:lnTo>
                      <a:pt x="37" y="16589"/>
                    </a:lnTo>
                    <a:lnTo>
                      <a:pt x="44" y="16593"/>
                    </a:lnTo>
                    <a:lnTo>
                      <a:pt x="53" y="16597"/>
                    </a:lnTo>
                    <a:lnTo>
                      <a:pt x="61" y="16600"/>
                    </a:lnTo>
                    <a:lnTo>
                      <a:pt x="69" y="16602"/>
                    </a:lnTo>
                    <a:lnTo>
                      <a:pt x="78" y="16603"/>
                    </a:lnTo>
                    <a:lnTo>
                      <a:pt x="87" y="16604"/>
                    </a:lnTo>
                    <a:lnTo>
                      <a:pt x="7104" y="16604"/>
                    </a:lnTo>
                    <a:lnTo>
                      <a:pt x="7112" y="16603"/>
                    </a:lnTo>
                    <a:lnTo>
                      <a:pt x="7121" y="16602"/>
                    </a:lnTo>
                    <a:lnTo>
                      <a:pt x="7129" y="16600"/>
                    </a:lnTo>
                    <a:lnTo>
                      <a:pt x="7137" y="16597"/>
                    </a:lnTo>
                    <a:lnTo>
                      <a:pt x="7144" y="16593"/>
                    </a:lnTo>
                    <a:lnTo>
                      <a:pt x="7151" y="16589"/>
                    </a:lnTo>
                    <a:lnTo>
                      <a:pt x="7158" y="16584"/>
                    </a:lnTo>
                    <a:lnTo>
                      <a:pt x="7164" y="16579"/>
                    </a:lnTo>
                    <a:lnTo>
                      <a:pt x="7169" y="16572"/>
                    </a:lnTo>
                    <a:lnTo>
                      <a:pt x="7174" y="16565"/>
                    </a:lnTo>
                    <a:lnTo>
                      <a:pt x="7179" y="16558"/>
                    </a:lnTo>
                    <a:lnTo>
                      <a:pt x="7183" y="16551"/>
                    </a:lnTo>
                    <a:lnTo>
                      <a:pt x="7186" y="16543"/>
                    </a:lnTo>
                    <a:lnTo>
                      <a:pt x="7188" y="16535"/>
                    </a:lnTo>
                    <a:lnTo>
                      <a:pt x="7189" y="16526"/>
                    </a:lnTo>
                    <a:lnTo>
                      <a:pt x="7190" y="16518"/>
                    </a:lnTo>
                    <a:lnTo>
                      <a:pt x="7190" y="87"/>
                    </a:lnTo>
                    <a:lnTo>
                      <a:pt x="7189" y="77"/>
                    </a:lnTo>
                    <a:lnTo>
                      <a:pt x="7188" y="68"/>
                    </a:lnTo>
                    <a:lnTo>
                      <a:pt x="7186" y="60"/>
                    </a:lnTo>
                    <a:lnTo>
                      <a:pt x="7183" y="52"/>
                    </a:lnTo>
                    <a:lnTo>
                      <a:pt x="7179" y="45"/>
                    </a:lnTo>
                    <a:lnTo>
                      <a:pt x="7174" y="38"/>
                    </a:lnTo>
                    <a:lnTo>
                      <a:pt x="7169" y="31"/>
                    </a:lnTo>
                    <a:lnTo>
                      <a:pt x="7164" y="24"/>
                    </a:lnTo>
                    <a:lnTo>
                      <a:pt x="7158" y="19"/>
                    </a:lnTo>
                    <a:lnTo>
                      <a:pt x="7151" y="14"/>
                    </a:lnTo>
                    <a:lnTo>
                      <a:pt x="7144" y="10"/>
                    </a:lnTo>
                    <a:lnTo>
                      <a:pt x="7137" y="6"/>
                    </a:lnTo>
                    <a:lnTo>
                      <a:pt x="7129" y="3"/>
                    </a:lnTo>
                    <a:lnTo>
                      <a:pt x="7121" y="1"/>
                    </a:lnTo>
                    <a:lnTo>
                      <a:pt x="7112" y="0"/>
                    </a:lnTo>
                    <a:lnTo>
                      <a:pt x="7104" y="0"/>
                    </a:lnTo>
                    <a:close/>
                    <a:moveTo>
                      <a:pt x="7016" y="173"/>
                    </a:moveTo>
                    <a:lnTo>
                      <a:pt x="7016" y="16431"/>
                    </a:lnTo>
                    <a:lnTo>
                      <a:pt x="173" y="16431"/>
                    </a:lnTo>
                    <a:lnTo>
                      <a:pt x="173" y="173"/>
                    </a:lnTo>
                    <a:lnTo>
                      <a:pt x="7016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7509240" y="4193640"/>
                <a:ext cx="11160" cy="19080"/>
              </a:xfrm>
              <a:prstGeom prst="rect">
                <a:avLst/>
              </a:prstGeom>
              <a:solidFill>
                <a:srgbClr val="b2a8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23" name=""/>
          <p:cNvSpPr/>
          <p:nvPr/>
        </p:nvSpPr>
        <p:spPr>
          <a:xfrm flipV="1">
            <a:off x="6870600" y="3552480"/>
            <a:ext cx="53028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7383600" y="3575160"/>
            <a:ext cx="2880" cy="21960"/>
          </a:xfrm>
          <a:prstGeom prst="rect">
            <a:avLst/>
          </a:prstGeom>
          <a:solidFill>
            <a:srgbClr val="b2a8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7459560" y="3703680"/>
            <a:ext cx="47880" cy="3240"/>
          </a:xfrm>
          <a:prstGeom prst="rect">
            <a:avLst/>
          </a:prstGeom>
          <a:solidFill>
            <a:srgbClr val="b2a8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6" name=""/>
          <p:cNvGrpSpPr/>
          <p:nvPr/>
        </p:nvGrpSpPr>
        <p:grpSpPr>
          <a:xfrm>
            <a:off x="7367760" y="3378240"/>
            <a:ext cx="161640" cy="379440"/>
            <a:chOff x="7367760" y="3378240"/>
            <a:chExt cx="161640" cy="379440"/>
          </a:xfrm>
        </p:grpSpPr>
        <p:sp>
          <p:nvSpPr>
            <p:cNvPr id="1727" name=""/>
            <p:cNvSpPr/>
            <p:nvPr/>
          </p:nvSpPr>
          <p:spPr>
            <a:xfrm>
              <a:off x="7368840" y="3379680"/>
              <a:ext cx="133200" cy="82800"/>
            </a:xfrm>
            <a:prstGeom prst="rect">
              <a:avLst/>
            </a:prstGeom>
            <a:solidFill>
              <a:srgbClr val="fff7e2"/>
            </a:solidFill>
            <a:ln w="6480">
              <a:solidFill>
                <a:srgbClr val="7f7c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7368840" y="3462480"/>
              <a:ext cx="133200" cy="75960"/>
            </a:xfrm>
            <a:prstGeom prst="rect">
              <a:avLst/>
            </a:prstGeom>
            <a:solidFill>
              <a:srgbClr val="fff7e2"/>
            </a:solidFill>
            <a:ln w="6480">
              <a:solidFill>
                <a:srgbClr val="7f7c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7368840" y="3538440"/>
              <a:ext cx="133200" cy="217440"/>
            </a:xfrm>
            <a:prstGeom prst="rect">
              <a:avLst/>
            </a:prstGeom>
            <a:solidFill>
              <a:srgbClr val="fff7e2"/>
            </a:solidFill>
            <a:ln w="6480">
              <a:solidFill>
                <a:srgbClr val="7f7c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7400880" y="3398760"/>
              <a:ext cx="72720" cy="7920"/>
            </a:xfrm>
            <a:prstGeom prst="rect">
              <a:avLst/>
            </a:prstGeom>
            <a:solidFill>
              <a:srgbClr val="fff7e2"/>
            </a:solidFill>
            <a:ln w="6480">
              <a:solidFill>
                <a:srgbClr val="7f7c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7392960" y="3421080"/>
              <a:ext cx="88560" cy="25560"/>
            </a:xfrm>
            <a:prstGeom prst="rect">
              <a:avLst/>
            </a:prstGeom>
            <a:solidFill>
              <a:srgbClr val="fff7e2"/>
            </a:solidFill>
            <a:ln w="6480">
              <a:solidFill>
                <a:srgbClr val="7f7c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7437240" y="3462480"/>
              <a:ext cx="0" cy="75960"/>
            </a:xfrm>
            <a:prstGeom prst="line">
              <a:avLst/>
            </a:prstGeom>
            <a:ln w="6480">
              <a:solidFill>
                <a:srgbClr val="7f7c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7402320" y="3462480"/>
              <a:ext cx="0" cy="75960"/>
            </a:xfrm>
            <a:prstGeom prst="line">
              <a:avLst/>
            </a:prstGeom>
            <a:ln w="6480">
              <a:solidFill>
                <a:srgbClr val="7f7c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7470720" y="3462480"/>
              <a:ext cx="0" cy="75960"/>
            </a:xfrm>
            <a:prstGeom prst="line">
              <a:avLst/>
            </a:prstGeom>
            <a:ln w="6480">
              <a:solidFill>
                <a:srgbClr val="7f7c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7454880" y="3687840"/>
              <a:ext cx="47160" cy="3240"/>
            </a:xfrm>
            <a:prstGeom prst="rect">
              <a:avLst/>
            </a:prstGeom>
            <a:solidFill>
              <a:srgbClr val="b2a8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7454880" y="3673440"/>
              <a:ext cx="47160" cy="3240"/>
            </a:xfrm>
            <a:prstGeom prst="rect">
              <a:avLst/>
            </a:prstGeom>
            <a:solidFill>
              <a:srgbClr val="b2a8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454880" y="3657600"/>
              <a:ext cx="47160" cy="3240"/>
            </a:xfrm>
            <a:prstGeom prst="rect">
              <a:avLst/>
            </a:prstGeom>
            <a:solidFill>
              <a:srgbClr val="b2a8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7454880" y="3643200"/>
              <a:ext cx="47160" cy="3240"/>
            </a:xfrm>
            <a:prstGeom prst="rect">
              <a:avLst/>
            </a:prstGeom>
            <a:solidFill>
              <a:srgbClr val="b2a8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7454880" y="3627360"/>
              <a:ext cx="47160" cy="5040"/>
            </a:xfrm>
            <a:prstGeom prst="rect">
              <a:avLst/>
            </a:prstGeom>
            <a:solidFill>
              <a:srgbClr val="b2a8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7368840" y="3538440"/>
              <a:ext cx="133200" cy="30240"/>
            </a:xfrm>
            <a:prstGeom prst="rect">
              <a:avLst/>
            </a:prstGeom>
            <a:solidFill>
              <a:srgbClr val="fff7e2"/>
            </a:solidFill>
            <a:ln w="6480">
              <a:solidFill>
                <a:srgbClr val="7f7c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7502400" y="3379680"/>
              <a:ext cx="24840" cy="376200"/>
            </a:xfrm>
            <a:prstGeom prst="rect">
              <a:avLst/>
            </a:prstGeom>
            <a:solidFill>
              <a:srgbClr val="fff7e2"/>
            </a:solidFill>
            <a:ln w="6480">
              <a:solidFill>
                <a:srgbClr val="7f7c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7367760" y="3378240"/>
              <a:ext cx="161640" cy="379440"/>
            </a:xfrm>
            <a:custGeom>
              <a:avLst/>
              <a:gdLst/>
              <a:ahLst/>
              <a:rect l="l" t="t" r="r" b="b"/>
              <a:pathLst>
                <a:path w="7190" h="16604">
                  <a:moveTo>
                    <a:pt x="7104" y="0"/>
                  </a:moveTo>
                  <a:lnTo>
                    <a:pt x="87" y="0"/>
                  </a:lnTo>
                  <a:lnTo>
                    <a:pt x="78" y="0"/>
                  </a:lnTo>
                  <a:lnTo>
                    <a:pt x="69" y="1"/>
                  </a:lnTo>
                  <a:lnTo>
                    <a:pt x="61" y="3"/>
                  </a:lnTo>
                  <a:lnTo>
                    <a:pt x="53" y="6"/>
                  </a:lnTo>
                  <a:lnTo>
                    <a:pt x="44" y="10"/>
                  </a:lnTo>
                  <a:lnTo>
                    <a:pt x="37" y="14"/>
                  </a:lnTo>
                  <a:lnTo>
                    <a:pt x="31" y="19"/>
                  </a:lnTo>
                  <a:lnTo>
                    <a:pt x="25" y="24"/>
                  </a:lnTo>
                  <a:lnTo>
                    <a:pt x="19" y="31"/>
                  </a:lnTo>
                  <a:lnTo>
                    <a:pt x="14" y="38"/>
                  </a:lnTo>
                  <a:lnTo>
                    <a:pt x="10" y="45"/>
                  </a:lnTo>
                  <a:lnTo>
                    <a:pt x="6" y="52"/>
                  </a:lnTo>
                  <a:lnTo>
                    <a:pt x="3" y="60"/>
                  </a:lnTo>
                  <a:lnTo>
                    <a:pt x="1" y="68"/>
                  </a:lnTo>
                  <a:lnTo>
                    <a:pt x="0" y="77"/>
                  </a:lnTo>
                  <a:lnTo>
                    <a:pt x="0" y="87"/>
                  </a:lnTo>
                  <a:lnTo>
                    <a:pt x="0" y="16518"/>
                  </a:lnTo>
                  <a:lnTo>
                    <a:pt x="0" y="16526"/>
                  </a:lnTo>
                  <a:lnTo>
                    <a:pt x="1" y="16535"/>
                  </a:lnTo>
                  <a:lnTo>
                    <a:pt x="3" y="16543"/>
                  </a:lnTo>
                  <a:lnTo>
                    <a:pt x="6" y="16551"/>
                  </a:lnTo>
                  <a:lnTo>
                    <a:pt x="10" y="16558"/>
                  </a:lnTo>
                  <a:lnTo>
                    <a:pt x="14" y="16565"/>
                  </a:lnTo>
                  <a:lnTo>
                    <a:pt x="19" y="16572"/>
                  </a:lnTo>
                  <a:lnTo>
                    <a:pt x="25" y="16579"/>
                  </a:lnTo>
                  <a:lnTo>
                    <a:pt x="31" y="16584"/>
                  </a:lnTo>
                  <a:lnTo>
                    <a:pt x="37" y="16589"/>
                  </a:lnTo>
                  <a:lnTo>
                    <a:pt x="44" y="16593"/>
                  </a:lnTo>
                  <a:lnTo>
                    <a:pt x="53" y="16597"/>
                  </a:lnTo>
                  <a:lnTo>
                    <a:pt x="61" y="16600"/>
                  </a:lnTo>
                  <a:lnTo>
                    <a:pt x="69" y="16602"/>
                  </a:lnTo>
                  <a:lnTo>
                    <a:pt x="78" y="16603"/>
                  </a:lnTo>
                  <a:lnTo>
                    <a:pt x="87" y="16604"/>
                  </a:lnTo>
                  <a:lnTo>
                    <a:pt x="7104" y="16604"/>
                  </a:lnTo>
                  <a:lnTo>
                    <a:pt x="7112" y="16603"/>
                  </a:lnTo>
                  <a:lnTo>
                    <a:pt x="7121" y="16602"/>
                  </a:lnTo>
                  <a:lnTo>
                    <a:pt x="7129" y="16600"/>
                  </a:lnTo>
                  <a:lnTo>
                    <a:pt x="7137" y="16597"/>
                  </a:lnTo>
                  <a:lnTo>
                    <a:pt x="7144" y="16593"/>
                  </a:lnTo>
                  <a:lnTo>
                    <a:pt x="7151" y="16589"/>
                  </a:lnTo>
                  <a:lnTo>
                    <a:pt x="7158" y="16584"/>
                  </a:lnTo>
                  <a:lnTo>
                    <a:pt x="7164" y="16579"/>
                  </a:lnTo>
                  <a:lnTo>
                    <a:pt x="7169" y="16572"/>
                  </a:lnTo>
                  <a:lnTo>
                    <a:pt x="7174" y="16565"/>
                  </a:lnTo>
                  <a:lnTo>
                    <a:pt x="7179" y="16558"/>
                  </a:lnTo>
                  <a:lnTo>
                    <a:pt x="7183" y="16551"/>
                  </a:lnTo>
                  <a:lnTo>
                    <a:pt x="7186" y="16543"/>
                  </a:lnTo>
                  <a:lnTo>
                    <a:pt x="7188" y="16535"/>
                  </a:lnTo>
                  <a:lnTo>
                    <a:pt x="7189" y="16526"/>
                  </a:lnTo>
                  <a:lnTo>
                    <a:pt x="7190" y="16518"/>
                  </a:lnTo>
                  <a:lnTo>
                    <a:pt x="7190" y="87"/>
                  </a:lnTo>
                  <a:lnTo>
                    <a:pt x="7189" y="77"/>
                  </a:lnTo>
                  <a:lnTo>
                    <a:pt x="7188" y="68"/>
                  </a:lnTo>
                  <a:lnTo>
                    <a:pt x="7186" y="60"/>
                  </a:lnTo>
                  <a:lnTo>
                    <a:pt x="7183" y="52"/>
                  </a:lnTo>
                  <a:lnTo>
                    <a:pt x="7179" y="45"/>
                  </a:lnTo>
                  <a:lnTo>
                    <a:pt x="7174" y="38"/>
                  </a:lnTo>
                  <a:lnTo>
                    <a:pt x="7169" y="31"/>
                  </a:lnTo>
                  <a:lnTo>
                    <a:pt x="7164" y="24"/>
                  </a:lnTo>
                  <a:lnTo>
                    <a:pt x="7158" y="19"/>
                  </a:lnTo>
                  <a:lnTo>
                    <a:pt x="7151" y="14"/>
                  </a:lnTo>
                  <a:lnTo>
                    <a:pt x="7144" y="10"/>
                  </a:lnTo>
                  <a:lnTo>
                    <a:pt x="7137" y="6"/>
                  </a:lnTo>
                  <a:lnTo>
                    <a:pt x="7129" y="3"/>
                  </a:lnTo>
                  <a:lnTo>
                    <a:pt x="7121" y="1"/>
                  </a:lnTo>
                  <a:lnTo>
                    <a:pt x="7112" y="0"/>
                  </a:lnTo>
                  <a:lnTo>
                    <a:pt x="7104" y="0"/>
                  </a:lnTo>
                  <a:close/>
                  <a:moveTo>
                    <a:pt x="7016" y="173"/>
                  </a:moveTo>
                  <a:lnTo>
                    <a:pt x="7016" y="16431"/>
                  </a:lnTo>
                  <a:lnTo>
                    <a:pt x="173" y="16431"/>
                  </a:lnTo>
                  <a:lnTo>
                    <a:pt x="173" y="173"/>
                  </a:lnTo>
                  <a:lnTo>
                    <a:pt x="7016" y="1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7508880" y="3713040"/>
              <a:ext cx="10440" cy="19080"/>
            </a:xfrm>
            <a:prstGeom prst="rect">
              <a:avLst/>
            </a:prstGeom>
            <a:solidFill>
              <a:srgbClr val="b2a8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4" name=""/>
          <p:cNvSpPr/>
          <p:nvPr/>
        </p:nvSpPr>
        <p:spPr>
          <a:xfrm>
            <a:off x="5503680" y="6300720"/>
            <a:ext cx="281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DCN:Data Communications 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4614840" y="1212840"/>
            <a:ext cx="1220760" cy="1917720"/>
          </a:xfrm>
          <a:prstGeom prst="cube">
            <a:avLst>
              <a:gd name="adj" fmla="val 4935"/>
            </a:avLst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4681440" y="1790640"/>
            <a:ext cx="10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EM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4500720" y="2630520"/>
            <a:ext cx="17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100BASE-T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4554360" y="1650960"/>
            <a:ext cx="0" cy="20016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4554360" y="2273400"/>
            <a:ext cx="0" cy="19980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 flipH="1" flipV="1">
            <a:off x="4583160" y="2428920"/>
            <a:ext cx="23976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7457040" y="1287360"/>
            <a:ext cx="164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Local IP N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7463880" y="2271600"/>
            <a:ext cx="166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Cont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Delivery N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3" name=""/>
          <p:cNvGrpSpPr/>
          <p:nvPr/>
        </p:nvGrpSpPr>
        <p:grpSpPr>
          <a:xfrm>
            <a:off x="3394080" y="2168640"/>
            <a:ext cx="1069920" cy="518760"/>
            <a:chOff x="3394080" y="2168640"/>
            <a:chExt cx="1069920" cy="518760"/>
          </a:xfrm>
        </p:grpSpPr>
        <p:sp>
          <p:nvSpPr>
            <p:cNvPr id="1754" name=""/>
            <p:cNvSpPr/>
            <p:nvPr/>
          </p:nvSpPr>
          <p:spPr>
            <a:xfrm flipH="1">
              <a:off x="4041720" y="2443320"/>
              <a:ext cx="15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3451320" y="2168640"/>
              <a:ext cx="917640" cy="4777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3394080" y="2238480"/>
              <a:ext cx="1069920" cy="4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HG丸ｺﾞｼｯｸM-PRO"/>
                </a:rPr>
                <a:t>PDS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HG丸ｺﾞｼｯｸM-PRO"/>
                </a:rPr>
                <a:t>Ether-I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57" name="" descr=""/>
          <p:cNvPicPr/>
          <p:nvPr/>
        </p:nvPicPr>
        <p:blipFill>
          <a:blip r:embed="rId2"/>
          <a:stretch/>
        </p:blipFill>
        <p:spPr>
          <a:xfrm>
            <a:off x="25560" y="1454040"/>
            <a:ext cx="631800" cy="590760"/>
          </a:xfrm>
          <a:prstGeom prst="rect">
            <a:avLst/>
          </a:prstGeom>
          <a:ln w="0">
            <a:noFill/>
          </a:ln>
        </p:spPr>
      </p:pic>
      <p:pic>
        <p:nvPicPr>
          <p:cNvPr id="1758" name="" descr=""/>
          <p:cNvPicPr/>
          <p:nvPr/>
        </p:nvPicPr>
        <p:blipFill>
          <a:blip r:embed="rId3"/>
          <a:stretch/>
        </p:blipFill>
        <p:spPr>
          <a:xfrm>
            <a:off x="0" y="2152800"/>
            <a:ext cx="631800" cy="590400"/>
          </a:xfrm>
          <a:prstGeom prst="rect">
            <a:avLst/>
          </a:prstGeom>
          <a:ln w="0">
            <a:noFill/>
          </a:ln>
        </p:spPr>
      </p:pic>
      <p:sp>
        <p:nvSpPr>
          <p:cNvPr id="1759" name=""/>
          <p:cNvSpPr/>
          <p:nvPr/>
        </p:nvSpPr>
        <p:spPr>
          <a:xfrm>
            <a:off x="4245120" y="3156120"/>
            <a:ext cx="1566720" cy="72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"/>
          <p:cNvSpPr/>
          <p:nvPr/>
        </p:nvSpPr>
        <p:spPr>
          <a:xfrm>
            <a:off x="2666880" y="3162240"/>
            <a:ext cx="1571760" cy="267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2736720" y="3828960"/>
            <a:ext cx="1105200" cy="1677960"/>
          </a:xfrm>
          <a:prstGeom prst="cube">
            <a:avLst>
              <a:gd name="adj" fmla="val 12643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0" y="142920"/>
            <a:ext cx="9144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3333cc"/>
                </a:solidFill>
                <a:latin typeface="Arial"/>
              </a:rPr>
              <a:t>Joint Trial of NTT and Sky PerfecTV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2293920" y="1778040"/>
            <a:ext cx="2781360" cy="1036440"/>
          </a:xfrm>
          <a:prstGeom prst="cloudCallout">
            <a:avLst>
              <a:gd name="adj1" fmla="val 32532"/>
              <a:gd name="adj2" fmla="val -6509"/>
            </a:avLst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The 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5346720" y="2203560"/>
            <a:ext cx="3465360" cy="3638520"/>
          </a:xfrm>
          <a:prstGeom prst="rect">
            <a:avLst/>
          </a:prstGeom>
          <a:solidFill>
            <a:srgbClr val="fffa9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6789600" y="3830760"/>
            <a:ext cx="1954440" cy="1849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3707640" y="6078600"/>
            <a:ext cx="228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Equipment installed by NT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666720" y="6100920"/>
            <a:ext cx="27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Equipment installed  by SPT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203040" y="6075360"/>
            <a:ext cx="5840640" cy="3240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9" name="" descr=""/>
          <p:cNvPicPr/>
          <p:nvPr/>
        </p:nvPicPr>
        <p:blipFill>
          <a:blip r:embed="rId1"/>
          <a:stretch/>
        </p:blipFill>
        <p:spPr>
          <a:xfrm>
            <a:off x="3038400" y="3176640"/>
            <a:ext cx="1173240" cy="438120"/>
          </a:xfrm>
          <a:prstGeom prst="rect">
            <a:avLst/>
          </a:prstGeom>
          <a:ln w="0">
            <a:noFill/>
          </a:ln>
        </p:spPr>
      </p:pic>
      <p:sp>
        <p:nvSpPr>
          <p:cNvPr id="1770" name=""/>
          <p:cNvSpPr/>
          <p:nvPr/>
        </p:nvSpPr>
        <p:spPr>
          <a:xfrm>
            <a:off x="5432760" y="2244600"/>
            <a:ext cx="33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artment equipp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 broadband 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7678800" y="5238720"/>
            <a:ext cx="547560" cy="158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409680" y="3179880"/>
            <a:ext cx="1896840" cy="283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3" name=""/>
          <p:cNvGrpSpPr/>
          <p:nvPr/>
        </p:nvGrpSpPr>
        <p:grpSpPr>
          <a:xfrm>
            <a:off x="247680" y="1886040"/>
            <a:ext cx="503280" cy="338040"/>
            <a:chOff x="247680" y="1886040"/>
            <a:chExt cx="503280" cy="338040"/>
          </a:xfrm>
        </p:grpSpPr>
        <p:sp>
          <p:nvSpPr>
            <p:cNvPr id="1774" name=""/>
            <p:cNvSpPr/>
            <p:nvPr/>
          </p:nvSpPr>
          <p:spPr>
            <a:xfrm>
              <a:off x="531000" y="1974600"/>
              <a:ext cx="54000" cy="56880"/>
            </a:xfrm>
            <a:custGeom>
              <a:avLst/>
              <a:gdLst/>
              <a:ahLst/>
              <a:rect l="l" t="t" r="r" b="b"/>
              <a:pathLst>
                <a:path w="73" h="57">
                  <a:moveTo>
                    <a:pt x="0" y="20"/>
                  </a:moveTo>
                  <a:lnTo>
                    <a:pt x="47" y="0"/>
                  </a:lnTo>
                  <a:lnTo>
                    <a:pt x="72" y="37"/>
                  </a:lnTo>
                  <a:lnTo>
                    <a:pt x="47" y="56"/>
                  </a:lnTo>
                  <a:lnTo>
                    <a:pt x="19" y="27"/>
                  </a:lnTo>
                  <a:lnTo>
                    <a:pt x="7" y="29"/>
                  </a:lnTo>
                  <a:lnTo>
                    <a:pt x="0" y="2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531000" y="1974600"/>
              <a:ext cx="54000" cy="56880"/>
            </a:xfrm>
            <a:custGeom>
              <a:avLst/>
              <a:gdLst/>
              <a:ahLst/>
              <a:rect l="l" t="t" r="r" b="b"/>
              <a:pathLst>
                <a:path w="73" h="57">
                  <a:moveTo>
                    <a:pt x="0" y="20"/>
                  </a:moveTo>
                  <a:lnTo>
                    <a:pt x="47" y="0"/>
                  </a:lnTo>
                  <a:lnTo>
                    <a:pt x="72" y="37"/>
                  </a:lnTo>
                  <a:lnTo>
                    <a:pt x="47" y="56"/>
                  </a:lnTo>
                  <a:lnTo>
                    <a:pt x="19" y="27"/>
                  </a:lnTo>
                  <a:lnTo>
                    <a:pt x="7" y="29"/>
                  </a:lnTo>
                  <a:lnTo>
                    <a:pt x="0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546840" y="1986480"/>
              <a:ext cx="26640" cy="3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545040" y="1886760"/>
              <a:ext cx="205560" cy="154440"/>
            </a:xfrm>
            <a:custGeom>
              <a:avLst/>
              <a:gdLst/>
              <a:ahLst/>
              <a:rect l="l" t="t" r="r" b="b"/>
              <a:pathLst>
                <a:path w="277" h="155">
                  <a:moveTo>
                    <a:pt x="0" y="88"/>
                  </a:moveTo>
                  <a:lnTo>
                    <a:pt x="68" y="154"/>
                  </a:lnTo>
                  <a:lnTo>
                    <a:pt x="276" y="58"/>
                  </a:lnTo>
                  <a:lnTo>
                    <a:pt x="200" y="0"/>
                  </a:lnTo>
                  <a:lnTo>
                    <a:pt x="0" y="8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545040" y="1886760"/>
              <a:ext cx="205560" cy="154440"/>
            </a:xfrm>
            <a:custGeom>
              <a:avLst/>
              <a:gdLst/>
              <a:ahLst/>
              <a:rect l="l" t="t" r="r" b="b"/>
              <a:pathLst>
                <a:path w="277" h="155">
                  <a:moveTo>
                    <a:pt x="0" y="88"/>
                  </a:moveTo>
                  <a:lnTo>
                    <a:pt x="68" y="154"/>
                  </a:lnTo>
                  <a:lnTo>
                    <a:pt x="276" y="58"/>
                  </a:lnTo>
                  <a:lnTo>
                    <a:pt x="200" y="0"/>
                  </a:lnTo>
                  <a:lnTo>
                    <a:pt x="0" y="8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445680" y="2009520"/>
              <a:ext cx="119520" cy="103320"/>
            </a:xfrm>
            <a:custGeom>
              <a:avLst/>
              <a:gdLst/>
              <a:ahLst/>
              <a:rect l="l" t="t" r="r" b="b"/>
              <a:pathLst>
                <a:path w="161" h="104">
                  <a:moveTo>
                    <a:pt x="52" y="103"/>
                  </a:moveTo>
                  <a:lnTo>
                    <a:pt x="53" y="99"/>
                  </a:lnTo>
                  <a:lnTo>
                    <a:pt x="55" y="96"/>
                  </a:lnTo>
                  <a:lnTo>
                    <a:pt x="57" y="92"/>
                  </a:lnTo>
                  <a:lnTo>
                    <a:pt x="61" y="88"/>
                  </a:lnTo>
                  <a:lnTo>
                    <a:pt x="65" y="82"/>
                  </a:lnTo>
                  <a:lnTo>
                    <a:pt x="69" y="78"/>
                  </a:lnTo>
                  <a:lnTo>
                    <a:pt x="73" y="76"/>
                  </a:lnTo>
                  <a:lnTo>
                    <a:pt x="78" y="75"/>
                  </a:lnTo>
                  <a:lnTo>
                    <a:pt x="84" y="73"/>
                  </a:lnTo>
                  <a:lnTo>
                    <a:pt x="94" y="73"/>
                  </a:lnTo>
                  <a:lnTo>
                    <a:pt x="103" y="71"/>
                  </a:lnTo>
                  <a:lnTo>
                    <a:pt x="116" y="69"/>
                  </a:lnTo>
                  <a:lnTo>
                    <a:pt x="130" y="69"/>
                  </a:lnTo>
                  <a:lnTo>
                    <a:pt x="141" y="69"/>
                  </a:lnTo>
                  <a:lnTo>
                    <a:pt x="153" y="71"/>
                  </a:lnTo>
                  <a:lnTo>
                    <a:pt x="160" y="71"/>
                  </a:lnTo>
                  <a:lnTo>
                    <a:pt x="113" y="0"/>
                  </a:lnTo>
                  <a:lnTo>
                    <a:pt x="0" y="48"/>
                  </a:lnTo>
                  <a:lnTo>
                    <a:pt x="52" y="10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445680" y="2009520"/>
              <a:ext cx="119520" cy="103320"/>
            </a:xfrm>
            <a:custGeom>
              <a:avLst/>
              <a:gdLst/>
              <a:ahLst/>
              <a:rect l="l" t="t" r="r" b="b"/>
              <a:pathLst>
                <a:path w="161" h="104">
                  <a:moveTo>
                    <a:pt x="52" y="103"/>
                  </a:moveTo>
                  <a:lnTo>
                    <a:pt x="53" y="99"/>
                  </a:lnTo>
                  <a:lnTo>
                    <a:pt x="55" y="96"/>
                  </a:lnTo>
                  <a:lnTo>
                    <a:pt x="57" y="92"/>
                  </a:lnTo>
                  <a:lnTo>
                    <a:pt x="61" y="88"/>
                  </a:lnTo>
                  <a:lnTo>
                    <a:pt x="65" y="82"/>
                  </a:lnTo>
                  <a:lnTo>
                    <a:pt x="69" y="78"/>
                  </a:lnTo>
                  <a:lnTo>
                    <a:pt x="73" y="76"/>
                  </a:lnTo>
                  <a:lnTo>
                    <a:pt x="78" y="75"/>
                  </a:lnTo>
                  <a:lnTo>
                    <a:pt x="84" y="73"/>
                  </a:lnTo>
                  <a:lnTo>
                    <a:pt x="94" y="73"/>
                  </a:lnTo>
                  <a:lnTo>
                    <a:pt x="103" y="71"/>
                  </a:lnTo>
                  <a:lnTo>
                    <a:pt x="116" y="69"/>
                  </a:lnTo>
                  <a:lnTo>
                    <a:pt x="130" y="69"/>
                  </a:lnTo>
                  <a:lnTo>
                    <a:pt x="141" y="69"/>
                  </a:lnTo>
                  <a:lnTo>
                    <a:pt x="153" y="71"/>
                  </a:lnTo>
                  <a:lnTo>
                    <a:pt x="160" y="71"/>
                  </a:lnTo>
                  <a:lnTo>
                    <a:pt x="113" y="0"/>
                  </a:lnTo>
                  <a:lnTo>
                    <a:pt x="0" y="48"/>
                  </a:lnTo>
                  <a:lnTo>
                    <a:pt x="52" y="10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477000" y="2053440"/>
              <a:ext cx="47520" cy="59400"/>
            </a:xfrm>
            <a:custGeom>
              <a:avLst/>
              <a:gdLst/>
              <a:ahLst/>
              <a:rect l="l" t="t" r="r" b="b"/>
              <a:pathLst>
                <a:path w="64" h="60">
                  <a:moveTo>
                    <a:pt x="0" y="8"/>
                  </a:moveTo>
                  <a:lnTo>
                    <a:pt x="61" y="59"/>
                  </a:lnTo>
                  <a:lnTo>
                    <a:pt x="63" y="57"/>
                  </a:lnTo>
                  <a:lnTo>
                    <a:pt x="4" y="0"/>
                  </a:lnTo>
                  <a:lnTo>
                    <a:pt x="0" y="8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477000" y="2053440"/>
              <a:ext cx="47520" cy="59400"/>
            </a:xfrm>
            <a:custGeom>
              <a:avLst/>
              <a:gdLst/>
              <a:ahLst/>
              <a:rect l="l" t="t" r="r" b="b"/>
              <a:pathLst>
                <a:path w="64" h="60">
                  <a:moveTo>
                    <a:pt x="0" y="8"/>
                  </a:moveTo>
                  <a:lnTo>
                    <a:pt x="61" y="59"/>
                  </a:lnTo>
                  <a:lnTo>
                    <a:pt x="63" y="57"/>
                  </a:lnTo>
                  <a:lnTo>
                    <a:pt x="4" y="0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493920" y="2045520"/>
              <a:ext cx="34560" cy="65520"/>
            </a:xfrm>
            <a:custGeom>
              <a:avLst/>
              <a:gdLst/>
              <a:ahLst/>
              <a:rect l="l" t="t" r="r" b="b"/>
              <a:pathLst>
                <a:path w="47" h="66">
                  <a:moveTo>
                    <a:pt x="0" y="2"/>
                  </a:moveTo>
                  <a:lnTo>
                    <a:pt x="40" y="65"/>
                  </a:lnTo>
                  <a:lnTo>
                    <a:pt x="46" y="63"/>
                  </a:lnTo>
                  <a:lnTo>
                    <a:pt x="6" y="0"/>
                  </a:lnTo>
                  <a:lnTo>
                    <a:pt x="0" y="2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493920" y="2045520"/>
              <a:ext cx="34560" cy="65520"/>
            </a:xfrm>
            <a:custGeom>
              <a:avLst/>
              <a:gdLst/>
              <a:ahLst/>
              <a:rect l="l" t="t" r="r" b="b"/>
              <a:pathLst>
                <a:path w="47" h="66">
                  <a:moveTo>
                    <a:pt x="0" y="2"/>
                  </a:moveTo>
                  <a:lnTo>
                    <a:pt x="40" y="65"/>
                  </a:lnTo>
                  <a:lnTo>
                    <a:pt x="46" y="63"/>
                  </a:lnTo>
                  <a:lnTo>
                    <a:pt x="6" y="0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545040" y="1886040"/>
              <a:ext cx="205560" cy="151200"/>
            </a:xfrm>
            <a:custGeom>
              <a:avLst/>
              <a:gdLst/>
              <a:ahLst/>
              <a:rect l="l" t="t" r="r" b="b"/>
              <a:pathLst>
                <a:path w="277" h="152">
                  <a:moveTo>
                    <a:pt x="0" y="86"/>
                  </a:moveTo>
                  <a:lnTo>
                    <a:pt x="68" y="151"/>
                  </a:lnTo>
                  <a:lnTo>
                    <a:pt x="276" y="55"/>
                  </a:lnTo>
                  <a:lnTo>
                    <a:pt x="200" y="0"/>
                  </a:lnTo>
                  <a:lnTo>
                    <a:pt x="0" y="86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545040" y="1886040"/>
              <a:ext cx="205560" cy="151200"/>
            </a:xfrm>
            <a:custGeom>
              <a:avLst/>
              <a:gdLst/>
              <a:ahLst/>
              <a:rect l="l" t="t" r="r" b="b"/>
              <a:pathLst>
                <a:path w="277" h="152">
                  <a:moveTo>
                    <a:pt x="0" y="86"/>
                  </a:moveTo>
                  <a:lnTo>
                    <a:pt x="68" y="151"/>
                  </a:lnTo>
                  <a:lnTo>
                    <a:pt x="276" y="55"/>
                  </a:lnTo>
                  <a:lnTo>
                    <a:pt x="200" y="0"/>
                  </a:lnTo>
                  <a:lnTo>
                    <a:pt x="0" y="8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489600" y="1898640"/>
              <a:ext cx="17640" cy="37080"/>
            </a:xfrm>
            <a:custGeom>
              <a:avLst/>
              <a:gdLst/>
              <a:ahLst/>
              <a:rect l="l" t="t" r="r" b="b"/>
              <a:pathLst>
                <a:path w="24" h="37">
                  <a:moveTo>
                    <a:pt x="0" y="25"/>
                  </a:moveTo>
                  <a:lnTo>
                    <a:pt x="0" y="2"/>
                  </a:lnTo>
                  <a:lnTo>
                    <a:pt x="6" y="0"/>
                  </a:lnTo>
                  <a:lnTo>
                    <a:pt x="19" y="10"/>
                  </a:lnTo>
                  <a:lnTo>
                    <a:pt x="23" y="36"/>
                  </a:lnTo>
                  <a:lnTo>
                    <a:pt x="0" y="25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489600" y="1898640"/>
              <a:ext cx="17640" cy="37080"/>
            </a:xfrm>
            <a:custGeom>
              <a:avLst/>
              <a:gdLst/>
              <a:ahLst/>
              <a:rect l="l" t="t" r="r" b="b"/>
              <a:pathLst>
                <a:path w="24" h="37">
                  <a:moveTo>
                    <a:pt x="0" y="25"/>
                  </a:moveTo>
                  <a:lnTo>
                    <a:pt x="0" y="2"/>
                  </a:lnTo>
                  <a:lnTo>
                    <a:pt x="6" y="0"/>
                  </a:lnTo>
                  <a:lnTo>
                    <a:pt x="19" y="10"/>
                  </a:lnTo>
                  <a:lnTo>
                    <a:pt x="23" y="36"/>
                  </a:lnTo>
                  <a:lnTo>
                    <a:pt x="0" y="2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489600" y="1900800"/>
              <a:ext cx="12600" cy="2772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0" y="0"/>
                  </a:moveTo>
                  <a:lnTo>
                    <a:pt x="16" y="9"/>
                  </a:lnTo>
                  <a:lnTo>
                    <a:pt x="16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522000" y="1936800"/>
              <a:ext cx="25200" cy="48600"/>
            </a:xfrm>
            <a:custGeom>
              <a:avLst/>
              <a:gdLst/>
              <a:ahLst/>
              <a:rect l="l" t="t" r="r" b="b"/>
              <a:pathLst>
                <a:path w="34" h="49">
                  <a:moveTo>
                    <a:pt x="0" y="12"/>
                  </a:moveTo>
                  <a:lnTo>
                    <a:pt x="8" y="0"/>
                  </a:lnTo>
                  <a:lnTo>
                    <a:pt x="10" y="0"/>
                  </a:lnTo>
                  <a:lnTo>
                    <a:pt x="19" y="8"/>
                  </a:lnTo>
                  <a:lnTo>
                    <a:pt x="19" y="16"/>
                  </a:lnTo>
                  <a:lnTo>
                    <a:pt x="29" y="19"/>
                  </a:lnTo>
                  <a:lnTo>
                    <a:pt x="33" y="40"/>
                  </a:lnTo>
                  <a:lnTo>
                    <a:pt x="15" y="48"/>
                  </a:lnTo>
                  <a:lnTo>
                    <a:pt x="0" y="12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522000" y="1936800"/>
              <a:ext cx="25200" cy="48600"/>
            </a:xfrm>
            <a:custGeom>
              <a:avLst/>
              <a:gdLst/>
              <a:ahLst/>
              <a:rect l="l" t="t" r="r" b="b"/>
              <a:pathLst>
                <a:path w="34" h="49">
                  <a:moveTo>
                    <a:pt x="0" y="12"/>
                  </a:moveTo>
                  <a:lnTo>
                    <a:pt x="8" y="0"/>
                  </a:lnTo>
                  <a:lnTo>
                    <a:pt x="10" y="0"/>
                  </a:lnTo>
                  <a:lnTo>
                    <a:pt x="19" y="8"/>
                  </a:lnTo>
                  <a:lnTo>
                    <a:pt x="19" y="16"/>
                  </a:lnTo>
                  <a:lnTo>
                    <a:pt x="29" y="19"/>
                  </a:lnTo>
                  <a:lnTo>
                    <a:pt x="33" y="40"/>
                  </a:lnTo>
                  <a:lnTo>
                    <a:pt x="15" y="48"/>
                  </a:lnTo>
                  <a:lnTo>
                    <a:pt x="0" y="1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539280" y="1955880"/>
              <a:ext cx="12600" cy="237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10" y="23"/>
                  </a:moveTo>
                  <a:lnTo>
                    <a:pt x="0" y="2"/>
                  </a:lnTo>
                  <a:lnTo>
                    <a:pt x="1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528120" y="1936800"/>
              <a:ext cx="12600" cy="169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2" y="16"/>
                  </a:lnTo>
                  <a:lnTo>
                    <a:pt x="16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417600" y="1915560"/>
              <a:ext cx="123840" cy="161640"/>
            </a:xfrm>
            <a:custGeom>
              <a:avLst/>
              <a:gdLst/>
              <a:ahLst/>
              <a:rect l="l" t="t" r="r" b="b"/>
              <a:pathLst>
                <a:path w="167" h="162">
                  <a:moveTo>
                    <a:pt x="7" y="132"/>
                  </a:moveTo>
                  <a:lnTo>
                    <a:pt x="7" y="126"/>
                  </a:lnTo>
                  <a:lnTo>
                    <a:pt x="9" y="119"/>
                  </a:lnTo>
                  <a:lnTo>
                    <a:pt x="13" y="109"/>
                  </a:lnTo>
                  <a:lnTo>
                    <a:pt x="19" y="103"/>
                  </a:lnTo>
                  <a:lnTo>
                    <a:pt x="15" y="102"/>
                  </a:lnTo>
                  <a:lnTo>
                    <a:pt x="11" y="96"/>
                  </a:lnTo>
                  <a:lnTo>
                    <a:pt x="7" y="90"/>
                  </a:lnTo>
                  <a:lnTo>
                    <a:pt x="4" y="82"/>
                  </a:lnTo>
                  <a:lnTo>
                    <a:pt x="2" y="77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0" y="58"/>
                  </a:lnTo>
                  <a:lnTo>
                    <a:pt x="2" y="52"/>
                  </a:lnTo>
                  <a:lnTo>
                    <a:pt x="4" y="44"/>
                  </a:lnTo>
                  <a:lnTo>
                    <a:pt x="6" y="38"/>
                  </a:lnTo>
                  <a:lnTo>
                    <a:pt x="11" y="29"/>
                  </a:lnTo>
                  <a:lnTo>
                    <a:pt x="19" y="21"/>
                  </a:lnTo>
                  <a:lnTo>
                    <a:pt x="27" y="15"/>
                  </a:lnTo>
                  <a:lnTo>
                    <a:pt x="38" y="8"/>
                  </a:lnTo>
                  <a:lnTo>
                    <a:pt x="48" y="6"/>
                  </a:lnTo>
                  <a:lnTo>
                    <a:pt x="55" y="4"/>
                  </a:lnTo>
                  <a:lnTo>
                    <a:pt x="61" y="4"/>
                  </a:lnTo>
                  <a:lnTo>
                    <a:pt x="67" y="4"/>
                  </a:lnTo>
                  <a:lnTo>
                    <a:pt x="70" y="4"/>
                  </a:lnTo>
                  <a:lnTo>
                    <a:pt x="72" y="6"/>
                  </a:lnTo>
                  <a:lnTo>
                    <a:pt x="74" y="6"/>
                  </a:lnTo>
                  <a:lnTo>
                    <a:pt x="74" y="6"/>
                  </a:lnTo>
                  <a:lnTo>
                    <a:pt x="93" y="0"/>
                  </a:lnTo>
                  <a:lnTo>
                    <a:pt x="141" y="23"/>
                  </a:lnTo>
                  <a:lnTo>
                    <a:pt x="164" y="56"/>
                  </a:lnTo>
                  <a:lnTo>
                    <a:pt x="166" y="115"/>
                  </a:lnTo>
                  <a:lnTo>
                    <a:pt x="69" y="161"/>
                  </a:lnTo>
                  <a:lnTo>
                    <a:pt x="7" y="13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417600" y="1915560"/>
              <a:ext cx="123840" cy="161640"/>
            </a:xfrm>
            <a:custGeom>
              <a:avLst/>
              <a:gdLst/>
              <a:ahLst/>
              <a:rect l="l" t="t" r="r" b="b"/>
              <a:pathLst>
                <a:path w="167" h="162">
                  <a:moveTo>
                    <a:pt x="7" y="132"/>
                  </a:moveTo>
                  <a:lnTo>
                    <a:pt x="7" y="126"/>
                  </a:lnTo>
                  <a:lnTo>
                    <a:pt x="9" y="119"/>
                  </a:lnTo>
                  <a:lnTo>
                    <a:pt x="13" y="109"/>
                  </a:lnTo>
                  <a:lnTo>
                    <a:pt x="19" y="103"/>
                  </a:lnTo>
                  <a:lnTo>
                    <a:pt x="15" y="102"/>
                  </a:lnTo>
                  <a:lnTo>
                    <a:pt x="11" y="96"/>
                  </a:lnTo>
                  <a:lnTo>
                    <a:pt x="7" y="90"/>
                  </a:lnTo>
                  <a:lnTo>
                    <a:pt x="4" y="82"/>
                  </a:lnTo>
                  <a:lnTo>
                    <a:pt x="2" y="77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0" y="58"/>
                  </a:lnTo>
                  <a:lnTo>
                    <a:pt x="2" y="52"/>
                  </a:lnTo>
                  <a:lnTo>
                    <a:pt x="4" y="44"/>
                  </a:lnTo>
                  <a:lnTo>
                    <a:pt x="6" y="38"/>
                  </a:lnTo>
                  <a:lnTo>
                    <a:pt x="11" y="29"/>
                  </a:lnTo>
                  <a:lnTo>
                    <a:pt x="19" y="21"/>
                  </a:lnTo>
                  <a:lnTo>
                    <a:pt x="27" y="15"/>
                  </a:lnTo>
                  <a:lnTo>
                    <a:pt x="38" y="8"/>
                  </a:lnTo>
                  <a:lnTo>
                    <a:pt x="48" y="6"/>
                  </a:lnTo>
                  <a:lnTo>
                    <a:pt x="55" y="4"/>
                  </a:lnTo>
                  <a:lnTo>
                    <a:pt x="61" y="4"/>
                  </a:lnTo>
                  <a:lnTo>
                    <a:pt x="67" y="4"/>
                  </a:lnTo>
                  <a:lnTo>
                    <a:pt x="70" y="4"/>
                  </a:lnTo>
                  <a:lnTo>
                    <a:pt x="72" y="6"/>
                  </a:lnTo>
                  <a:lnTo>
                    <a:pt x="74" y="6"/>
                  </a:lnTo>
                  <a:lnTo>
                    <a:pt x="74" y="6"/>
                  </a:lnTo>
                  <a:lnTo>
                    <a:pt x="93" y="0"/>
                  </a:lnTo>
                  <a:lnTo>
                    <a:pt x="141" y="23"/>
                  </a:lnTo>
                  <a:lnTo>
                    <a:pt x="164" y="56"/>
                  </a:lnTo>
                  <a:lnTo>
                    <a:pt x="166" y="115"/>
                  </a:lnTo>
                  <a:lnTo>
                    <a:pt x="69" y="161"/>
                  </a:lnTo>
                  <a:lnTo>
                    <a:pt x="7" y="13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495360" y="1999800"/>
              <a:ext cx="99000" cy="104400"/>
            </a:xfrm>
            <a:custGeom>
              <a:avLst/>
              <a:gdLst/>
              <a:ahLst/>
              <a:rect l="l" t="t" r="r" b="b"/>
              <a:pathLst>
                <a:path w="134" h="105">
                  <a:moveTo>
                    <a:pt x="44" y="94"/>
                  </a:moveTo>
                  <a:lnTo>
                    <a:pt x="30" y="86"/>
                  </a:lnTo>
                  <a:lnTo>
                    <a:pt x="21" y="79"/>
                  </a:lnTo>
                  <a:lnTo>
                    <a:pt x="11" y="69"/>
                  </a:lnTo>
                  <a:lnTo>
                    <a:pt x="6" y="60"/>
                  </a:lnTo>
                  <a:lnTo>
                    <a:pt x="2" y="50"/>
                  </a:lnTo>
                  <a:lnTo>
                    <a:pt x="0" y="41"/>
                  </a:lnTo>
                  <a:lnTo>
                    <a:pt x="0" y="31"/>
                  </a:lnTo>
                  <a:lnTo>
                    <a:pt x="4" y="23"/>
                  </a:lnTo>
                  <a:lnTo>
                    <a:pt x="7" y="16"/>
                  </a:lnTo>
                  <a:lnTo>
                    <a:pt x="15" y="10"/>
                  </a:lnTo>
                  <a:lnTo>
                    <a:pt x="25" y="4"/>
                  </a:lnTo>
                  <a:lnTo>
                    <a:pt x="36" y="2"/>
                  </a:lnTo>
                  <a:lnTo>
                    <a:pt x="48" y="0"/>
                  </a:lnTo>
                  <a:lnTo>
                    <a:pt x="61" y="0"/>
                  </a:lnTo>
                  <a:lnTo>
                    <a:pt x="72" y="2"/>
                  </a:lnTo>
                  <a:lnTo>
                    <a:pt x="88" y="8"/>
                  </a:lnTo>
                  <a:lnTo>
                    <a:pt x="99" y="16"/>
                  </a:lnTo>
                  <a:lnTo>
                    <a:pt x="111" y="23"/>
                  </a:lnTo>
                  <a:lnTo>
                    <a:pt x="120" y="33"/>
                  </a:lnTo>
                  <a:lnTo>
                    <a:pt x="126" y="42"/>
                  </a:lnTo>
                  <a:lnTo>
                    <a:pt x="130" y="54"/>
                  </a:lnTo>
                  <a:lnTo>
                    <a:pt x="133" y="63"/>
                  </a:lnTo>
                  <a:lnTo>
                    <a:pt x="133" y="73"/>
                  </a:lnTo>
                  <a:lnTo>
                    <a:pt x="130" y="81"/>
                  </a:lnTo>
                  <a:lnTo>
                    <a:pt x="124" y="90"/>
                  </a:lnTo>
                  <a:lnTo>
                    <a:pt x="114" y="96"/>
                  </a:lnTo>
                  <a:lnTo>
                    <a:pt x="105" y="102"/>
                  </a:lnTo>
                  <a:lnTo>
                    <a:pt x="95" y="104"/>
                  </a:lnTo>
                  <a:lnTo>
                    <a:pt x="82" y="104"/>
                  </a:lnTo>
                  <a:lnTo>
                    <a:pt x="70" y="102"/>
                  </a:lnTo>
                  <a:lnTo>
                    <a:pt x="57" y="98"/>
                  </a:lnTo>
                  <a:lnTo>
                    <a:pt x="44" y="9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433080" y="1921680"/>
              <a:ext cx="51840" cy="143280"/>
            </a:xfrm>
            <a:custGeom>
              <a:avLst/>
              <a:gdLst/>
              <a:ahLst/>
              <a:rect l="l" t="t" r="r" b="b"/>
              <a:pathLst>
                <a:path w="70" h="144">
                  <a:moveTo>
                    <a:pt x="53" y="0"/>
                  </a:moveTo>
                  <a:lnTo>
                    <a:pt x="0" y="21"/>
                  </a:lnTo>
                  <a:lnTo>
                    <a:pt x="44" y="44"/>
                  </a:lnTo>
                  <a:lnTo>
                    <a:pt x="65" y="82"/>
                  </a:lnTo>
                  <a:lnTo>
                    <a:pt x="69" y="14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 flipV="1">
              <a:off x="470880" y="1938600"/>
              <a:ext cx="45000" cy="2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 flipV="1">
              <a:off x="484920" y="1973160"/>
              <a:ext cx="51120" cy="2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433080" y="1942560"/>
              <a:ext cx="504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421920" y="1971720"/>
              <a:ext cx="216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421920" y="1986480"/>
              <a:ext cx="3600" cy="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519120" y="2103120"/>
              <a:ext cx="30240" cy="32760"/>
            </a:xfrm>
            <a:custGeom>
              <a:avLst/>
              <a:gdLst/>
              <a:ahLst/>
              <a:rect l="l" t="t" r="r" b="b"/>
              <a:pathLst>
                <a:path w="41" h="33">
                  <a:moveTo>
                    <a:pt x="14" y="0"/>
                  </a:moveTo>
                  <a:lnTo>
                    <a:pt x="6" y="0"/>
                  </a:lnTo>
                  <a:lnTo>
                    <a:pt x="0" y="9"/>
                  </a:lnTo>
                  <a:lnTo>
                    <a:pt x="10" y="15"/>
                  </a:lnTo>
                  <a:lnTo>
                    <a:pt x="12" y="28"/>
                  </a:lnTo>
                  <a:lnTo>
                    <a:pt x="17" y="32"/>
                  </a:lnTo>
                  <a:lnTo>
                    <a:pt x="23" y="23"/>
                  </a:lnTo>
                  <a:lnTo>
                    <a:pt x="40" y="17"/>
                  </a:lnTo>
                  <a:lnTo>
                    <a:pt x="40" y="13"/>
                  </a:lnTo>
                  <a:lnTo>
                    <a:pt x="38" y="7"/>
                  </a:lnTo>
                  <a:lnTo>
                    <a:pt x="19" y="9"/>
                  </a:lnTo>
                  <a:lnTo>
                    <a:pt x="14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519120" y="2103120"/>
              <a:ext cx="30240" cy="32760"/>
            </a:xfrm>
            <a:custGeom>
              <a:avLst/>
              <a:gdLst/>
              <a:ahLst/>
              <a:rect l="l" t="t" r="r" b="b"/>
              <a:pathLst>
                <a:path w="41" h="33">
                  <a:moveTo>
                    <a:pt x="14" y="0"/>
                  </a:moveTo>
                  <a:lnTo>
                    <a:pt x="6" y="0"/>
                  </a:lnTo>
                  <a:lnTo>
                    <a:pt x="0" y="9"/>
                  </a:lnTo>
                  <a:lnTo>
                    <a:pt x="10" y="15"/>
                  </a:lnTo>
                  <a:lnTo>
                    <a:pt x="12" y="28"/>
                  </a:lnTo>
                  <a:lnTo>
                    <a:pt x="17" y="32"/>
                  </a:lnTo>
                  <a:lnTo>
                    <a:pt x="23" y="23"/>
                  </a:lnTo>
                  <a:lnTo>
                    <a:pt x="40" y="17"/>
                  </a:lnTo>
                  <a:lnTo>
                    <a:pt x="40" y="13"/>
                  </a:lnTo>
                  <a:lnTo>
                    <a:pt x="38" y="7"/>
                  </a:lnTo>
                  <a:lnTo>
                    <a:pt x="19" y="9"/>
                  </a:lnTo>
                  <a:lnTo>
                    <a:pt x="1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523800" y="2103120"/>
              <a:ext cx="12600" cy="169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9"/>
                  </a:lnTo>
                  <a:lnTo>
                    <a:pt x="8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529560" y="2112120"/>
              <a:ext cx="19800" cy="1692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5" y="0"/>
                  </a:moveTo>
                  <a:lnTo>
                    <a:pt x="0" y="0"/>
                  </a:lnTo>
                  <a:lnTo>
                    <a:pt x="5" y="16"/>
                  </a:lnTo>
                  <a:lnTo>
                    <a:pt x="26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529560" y="2122200"/>
              <a:ext cx="21240" cy="3096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0" y="9"/>
                  </a:moveTo>
                  <a:lnTo>
                    <a:pt x="0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3" y="9"/>
                  </a:lnTo>
                  <a:lnTo>
                    <a:pt x="5" y="13"/>
                  </a:lnTo>
                  <a:lnTo>
                    <a:pt x="7" y="17"/>
                  </a:lnTo>
                  <a:lnTo>
                    <a:pt x="9" y="23"/>
                  </a:lnTo>
                  <a:lnTo>
                    <a:pt x="11" y="25"/>
                  </a:lnTo>
                  <a:lnTo>
                    <a:pt x="13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15" y="23"/>
                  </a:lnTo>
                  <a:lnTo>
                    <a:pt x="15" y="19"/>
                  </a:lnTo>
                  <a:lnTo>
                    <a:pt x="13" y="13"/>
                  </a:lnTo>
                  <a:lnTo>
                    <a:pt x="11" y="6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2"/>
                  </a:lnTo>
                  <a:lnTo>
                    <a:pt x="21" y="4"/>
                  </a:lnTo>
                  <a:lnTo>
                    <a:pt x="24" y="6"/>
                  </a:lnTo>
                  <a:lnTo>
                    <a:pt x="26" y="7"/>
                  </a:lnTo>
                  <a:lnTo>
                    <a:pt x="28" y="7"/>
                  </a:lnTo>
                  <a:lnTo>
                    <a:pt x="26" y="13"/>
                  </a:lnTo>
                  <a:lnTo>
                    <a:pt x="24" y="11"/>
                  </a:lnTo>
                  <a:lnTo>
                    <a:pt x="23" y="9"/>
                  </a:lnTo>
                  <a:lnTo>
                    <a:pt x="19" y="7"/>
                  </a:lnTo>
                  <a:lnTo>
                    <a:pt x="17" y="7"/>
                  </a:lnTo>
                  <a:lnTo>
                    <a:pt x="17" y="9"/>
                  </a:lnTo>
                  <a:lnTo>
                    <a:pt x="19" y="15"/>
                  </a:lnTo>
                  <a:lnTo>
                    <a:pt x="21" y="23"/>
                  </a:lnTo>
                  <a:lnTo>
                    <a:pt x="21" y="27"/>
                  </a:lnTo>
                  <a:lnTo>
                    <a:pt x="19" y="30"/>
                  </a:lnTo>
                  <a:lnTo>
                    <a:pt x="15" y="30"/>
                  </a:lnTo>
                  <a:lnTo>
                    <a:pt x="11" y="30"/>
                  </a:lnTo>
                  <a:lnTo>
                    <a:pt x="9" y="30"/>
                  </a:lnTo>
                  <a:lnTo>
                    <a:pt x="5" y="25"/>
                  </a:lnTo>
                  <a:lnTo>
                    <a:pt x="2" y="19"/>
                  </a:lnTo>
                  <a:lnTo>
                    <a:pt x="0" y="13"/>
                  </a:lnTo>
                  <a:lnTo>
                    <a:pt x="0" y="9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529560" y="2122200"/>
              <a:ext cx="21240" cy="3096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0" y="9"/>
                  </a:moveTo>
                  <a:lnTo>
                    <a:pt x="0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3" y="9"/>
                  </a:lnTo>
                  <a:lnTo>
                    <a:pt x="5" y="13"/>
                  </a:lnTo>
                  <a:lnTo>
                    <a:pt x="7" y="17"/>
                  </a:lnTo>
                  <a:lnTo>
                    <a:pt x="9" y="23"/>
                  </a:lnTo>
                  <a:lnTo>
                    <a:pt x="11" y="25"/>
                  </a:lnTo>
                  <a:lnTo>
                    <a:pt x="13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15" y="23"/>
                  </a:lnTo>
                  <a:lnTo>
                    <a:pt x="15" y="19"/>
                  </a:lnTo>
                  <a:lnTo>
                    <a:pt x="13" y="13"/>
                  </a:lnTo>
                  <a:lnTo>
                    <a:pt x="11" y="6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2"/>
                  </a:lnTo>
                  <a:lnTo>
                    <a:pt x="21" y="4"/>
                  </a:lnTo>
                  <a:lnTo>
                    <a:pt x="24" y="6"/>
                  </a:lnTo>
                  <a:lnTo>
                    <a:pt x="26" y="7"/>
                  </a:lnTo>
                  <a:lnTo>
                    <a:pt x="28" y="7"/>
                  </a:lnTo>
                  <a:lnTo>
                    <a:pt x="26" y="13"/>
                  </a:lnTo>
                  <a:lnTo>
                    <a:pt x="24" y="11"/>
                  </a:lnTo>
                  <a:lnTo>
                    <a:pt x="23" y="9"/>
                  </a:lnTo>
                  <a:lnTo>
                    <a:pt x="19" y="7"/>
                  </a:lnTo>
                  <a:lnTo>
                    <a:pt x="17" y="7"/>
                  </a:lnTo>
                  <a:lnTo>
                    <a:pt x="17" y="9"/>
                  </a:lnTo>
                  <a:lnTo>
                    <a:pt x="19" y="15"/>
                  </a:lnTo>
                  <a:lnTo>
                    <a:pt x="21" y="23"/>
                  </a:lnTo>
                  <a:lnTo>
                    <a:pt x="21" y="27"/>
                  </a:lnTo>
                  <a:lnTo>
                    <a:pt x="19" y="30"/>
                  </a:lnTo>
                  <a:lnTo>
                    <a:pt x="15" y="30"/>
                  </a:lnTo>
                  <a:lnTo>
                    <a:pt x="11" y="30"/>
                  </a:lnTo>
                  <a:lnTo>
                    <a:pt x="9" y="30"/>
                  </a:lnTo>
                  <a:lnTo>
                    <a:pt x="5" y="25"/>
                  </a:lnTo>
                  <a:lnTo>
                    <a:pt x="2" y="19"/>
                  </a:lnTo>
                  <a:lnTo>
                    <a:pt x="0" y="13"/>
                  </a:lnTo>
                  <a:lnTo>
                    <a:pt x="0" y="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545040" y="2126160"/>
              <a:ext cx="23040" cy="3060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2" y="9"/>
                  </a:moveTo>
                  <a:lnTo>
                    <a:pt x="2" y="9"/>
                  </a:lnTo>
                  <a:lnTo>
                    <a:pt x="0" y="5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2"/>
                  </a:lnTo>
                  <a:lnTo>
                    <a:pt x="28" y="21"/>
                  </a:lnTo>
                  <a:lnTo>
                    <a:pt x="30" y="23"/>
                  </a:lnTo>
                  <a:lnTo>
                    <a:pt x="30" y="24"/>
                  </a:lnTo>
                  <a:lnTo>
                    <a:pt x="30" y="26"/>
                  </a:lnTo>
                  <a:lnTo>
                    <a:pt x="28" y="28"/>
                  </a:lnTo>
                  <a:lnTo>
                    <a:pt x="28" y="30"/>
                  </a:lnTo>
                  <a:lnTo>
                    <a:pt x="24" y="30"/>
                  </a:lnTo>
                  <a:lnTo>
                    <a:pt x="23" y="30"/>
                  </a:lnTo>
                  <a:lnTo>
                    <a:pt x="21" y="28"/>
                  </a:lnTo>
                  <a:lnTo>
                    <a:pt x="2" y="9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545040" y="2126160"/>
              <a:ext cx="23040" cy="3060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2" y="9"/>
                  </a:moveTo>
                  <a:lnTo>
                    <a:pt x="2" y="9"/>
                  </a:lnTo>
                  <a:lnTo>
                    <a:pt x="0" y="5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2"/>
                  </a:lnTo>
                  <a:lnTo>
                    <a:pt x="28" y="21"/>
                  </a:lnTo>
                  <a:lnTo>
                    <a:pt x="30" y="23"/>
                  </a:lnTo>
                  <a:lnTo>
                    <a:pt x="30" y="24"/>
                  </a:lnTo>
                  <a:lnTo>
                    <a:pt x="30" y="26"/>
                  </a:lnTo>
                  <a:lnTo>
                    <a:pt x="28" y="28"/>
                  </a:lnTo>
                  <a:lnTo>
                    <a:pt x="28" y="30"/>
                  </a:lnTo>
                  <a:lnTo>
                    <a:pt x="24" y="30"/>
                  </a:lnTo>
                  <a:lnTo>
                    <a:pt x="23" y="30"/>
                  </a:lnTo>
                  <a:lnTo>
                    <a:pt x="21" y="28"/>
                  </a:lnTo>
                  <a:lnTo>
                    <a:pt x="2" y="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559440" y="2145240"/>
              <a:ext cx="12600" cy="169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3"/>
                  </a:moveTo>
                  <a:lnTo>
                    <a:pt x="16" y="3"/>
                  </a:lnTo>
                  <a:lnTo>
                    <a:pt x="12" y="0"/>
                  </a:lnTo>
                  <a:lnTo>
                    <a:pt x="7" y="0"/>
                  </a:lnTo>
                  <a:lnTo>
                    <a:pt x="3" y="3"/>
                  </a:lnTo>
                  <a:lnTo>
                    <a:pt x="3" y="7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560880" y="2149200"/>
              <a:ext cx="12600" cy="169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11"/>
                  </a:moveTo>
                  <a:lnTo>
                    <a:pt x="16" y="6"/>
                  </a:lnTo>
                  <a:lnTo>
                    <a:pt x="16" y="6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0" y="6"/>
                  </a:lnTo>
                  <a:lnTo>
                    <a:pt x="0" y="11"/>
                  </a:lnTo>
                  <a:lnTo>
                    <a:pt x="3" y="11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2" y="1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560880" y="2149200"/>
              <a:ext cx="12600" cy="169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11"/>
                  </a:moveTo>
                  <a:lnTo>
                    <a:pt x="16" y="6"/>
                  </a:lnTo>
                  <a:lnTo>
                    <a:pt x="16" y="6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0" y="6"/>
                  </a:lnTo>
                  <a:lnTo>
                    <a:pt x="0" y="11"/>
                  </a:lnTo>
                  <a:lnTo>
                    <a:pt x="3" y="11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2" y="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540720" y="2128320"/>
              <a:ext cx="12600" cy="169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16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528120" y="2120040"/>
              <a:ext cx="12600" cy="169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0" y="0"/>
                  </a:lnTo>
                  <a:lnTo>
                    <a:pt x="16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505080" y="1948680"/>
              <a:ext cx="12600" cy="169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12" y="12"/>
                  </a:lnTo>
                  <a:lnTo>
                    <a:pt x="12" y="12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8" y="0"/>
                  </a:lnTo>
                  <a:lnTo>
                    <a:pt x="4" y="3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8" y="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505080" y="1948680"/>
              <a:ext cx="12600" cy="169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12" y="12"/>
                  </a:lnTo>
                  <a:lnTo>
                    <a:pt x="12" y="12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8" y="0"/>
                  </a:lnTo>
                  <a:lnTo>
                    <a:pt x="4" y="3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8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514080" y="1944720"/>
              <a:ext cx="12600" cy="169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16"/>
                  </a:moveTo>
                  <a:lnTo>
                    <a:pt x="11" y="14"/>
                  </a:lnTo>
                  <a:lnTo>
                    <a:pt x="11" y="14"/>
                  </a:lnTo>
                  <a:lnTo>
                    <a:pt x="16" y="10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6" y="0"/>
                  </a:lnTo>
                  <a:lnTo>
                    <a:pt x="4" y="3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4" y="14"/>
                  </a:lnTo>
                  <a:lnTo>
                    <a:pt x="6" y="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514080" y="1944720"/>
              <a:ext cx="12600" cy="169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16"/>
                  </a:moveTo>
                  <a:lnTo>
                    <a:pt x="11" y="14"/>
                  </a:lnTo>
                  <a:lnTo>
                    <a:pt x="11" y="14"/>
                  </a:lnTo>
                  <a:lnTo>
                    <a:pt x="16" y="10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6" y="0"/>
                  </a:lnTo>
                  <a:lnTo>
                    <a:pt x="4" y="3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4" y="14"/>
                  </a:lnTo>
                  <a:lnTo>
                    <a:pt x="6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441360" y="1932840"/>
              <a:ext cx="25200" cy="1692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33" y="4"/>
                  </a:moveTo>
                  <a:lnTo>
                    <a:pt x="27" y="0"/>
                  </a:lnTo>
                  <a:lnTo>
                    <a:pt x="0" y="12"/>
                  </a:lnTo>
                  <a:lnTo>
                    <a:pt x="8" y="16"/>
                  </a:lnTo>
                  <a:lnTo>
                    <a:pt x="33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481320" y="1973520"/>
              <a:ext cx="31680" cy="23760"/>
            </a:xfrm>
            <a:custGeom>
              <a:avLst/>
              <a:gdLst/>
              <a:ahLst/>
              <a:rect l="l" t="t" r="r" b="b"/>
              <a:pathLst>
                <a:path w="43" h="24">
                  <a:moveTo>
                    <a:pt x="42" y="7"/>
                  </a:moveTo>
                  <a:lnTo>
                    <a:pt x="38" y="0"/>
                  </a:lnTo>
                  <a:lnTo>
                    <a:pt x="0" y="13"/>
                  </a:lnTo>
                  <a:lnTo>
                    <a:pt x="5" y="23"/>
                  </a:lnTo>
                  <a:lnTo>
                    <a:pt x="42" y="7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481320" y="1973520"/>
              <a:ext cx="31680" cy="23760"/>
            </a:xfrm>
            <a:custGeom>
              <a:avLst/>
              <a:gdLst/>
              <a:ahLst/>
              <a:rect l="l" t="t" r="r" b="b"/>
              <a:pathLst>
                <a:path w="43" h="24">
                  <a:moveTo>
                    <a:pt x="42" y="7"/>
                  </a:moveTo>
                  <a:lnTo>
                    <a:pt x="38" y="0"/>
                  </a:lnTo>
                  <a:lnTo>
                    <a:pt x="0" y="13"/>
                  </a:lnTo>
                  <a:lnTo>
                    <a:pt x="5" y="23"/>
                  </a:lnTo>
                  <a:lnTo>
                    <a:pt x="42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422640" y="1957680"/>
              <a:ext cx="60840" cy="157320"/>
            </a:xfrm>
            <a:custGeom>
              <a:avLst/>
              <a:gdLst/>
              <a:ahLst/>
              <a:rect l="l" t="t" r="r" b="b"/>
              <a:pathLst>
                <a:path w="82" h="158">
                  <a:moveTo>
                    <a:pt x="0" y="84"/>
                  </a:moveTo>
                  <a:lnTo>
                    <a:pt x="14" y="79"/>
                  </a:lnTo>
                  <a:lnTo>
                    <a:pt x="6" y="2"/>
                  </a:lnTo>
                  <a:lnTo>
                    <a:pt x="10" y="0"/>
                  </a:lnTo>
                  <a:lnTo>
                    <a:pt x="77" y="60"/>
                  </a:lnTo>
                  <a:lnTo>
                    <a:pt x="77" y="79"/>
                  </a:lnTo>
                  <a:lnTo>
                    <a:pt x="65" y="83"/>
                  </a:lnTo>
                  <a:lnTo>
                    <a:pt x="67" y="92"/>
                  </a:lnTo>
                  <a:lnTo>
                    <a:pt x="75" y="96"/>
                  </a:lnTo>
                  <a:lnTo>
                    <a:pt x="81" y="148"/>
                  </a:lnTo>
                  <a:lnTo>
                    <a:pt x="69" y="157"/>
                  </a:lnTo>
                  <a:lnTo>
                    <a:pt x="0" y="84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422640" y="1957680"/>
              <a:ext cx="60840" cy="157320"/>
            </a:xfrm>
            <a:custGeom>
              <a:avLst/>
              <a:gdLst/>
              <a:ahLst/>
              <a:rect l="l" t="t" r="r" b="b"/>
              <a:pathLst>
                <a:path w="82" h="158">
                  <a:moveTo>
                    <a:pt x="0" y="84"/>
                  </a:moveTo>
                  <a:lnTo>
                    <a:pt x="14" y="79"/>
                  </a:lnTo>
                  <a:lnTo>
                    <a:pt x="6" y="2"/>
                  </a:lnTo>
                  <a:lnTo>
                    <a:pt x="10" y="0"/>
                  </a:lnTo>
                  <a:lnTo>
                    <a:pt x="77" y="60"/>
                  </a:lnTo>
                  <a:lnTo>
                    <a:pt x="77" y="79"/>
                  </a:lnTo>
                  <a:lnTo>
                    <a:pt x="65" y="83"/>
                  </a:lnTo>
                  <a:lnTo>
                    <a:pt x="67" y="92"/>
                  </a:lnTo>
                  <a:lnTo>
                    <a:pt x="75" y="96"/>
                  </a:lnTo>
                  <a:lnTo>
                    <a:pt x="81" y="148"/>
                  </a:lnTo>
                  <a:lnTo>
                    <a:pt x="69" y="157"/>
                  </a:lnTo>
                  <a:lnTo>
                    <a:pt x="0" y="8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247680" y="2043360"/>
              <a:ext cx="226800" cy="180360"/>
            </a:xfrm>
            <a:custGeom>
              <a:avLst/>
              <a:gdLst/>
              <a:ahLst/>
              <a:rect l="l" t="t" r="r" b="b"/>
              <a:pathLst>
                <a:path w="306" h="181">
                  <a:moveTo>
                    <a:pt x="0" y="102"/>
                  </a:moveTo>
                  <a:lnTo>
                    <a:pt x="61" y="180"/>
                  </a:lnTo>
                  <a:lnTo>
                    <a:pt x="305" y="71"/>
                  </a:lnTo>
                  <a:lnTo>
                    <a:pt x="238" y="0"/>
                  </a:lnTo>
                  <a:lnTo>
                    <a:pt x="0" y="10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247680" y="2043360"/>
              <a:ext cx="226800" cy="180360"/>
            </a:xfrm>
            <a:custGeom>
              <a:avLst/>
              <a:gdLst/>
              <a:ahLst/>
              <a:rect l="l" t="t" r="r" b="b"/>
              <a:pathLst>
                <a:path w="306" h="181">
                  <a:moveTo>
                    <a:pt x="0" y="102"/>
                  </a:moveTo>
                  <a:lnTo>
                    <a:pt x="61" y="180"/>
                  </a:lnTo>
                  <a:lnTo>
                    <a:pt x="305" y="71"/>
                  </a:lnTo>
                  <a:lnTo>
                    <a:pt x="238" y="0"/>
                  </a:lnTo>
                  <a:lnTo>
                    <a:pt x="0" y="10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249120" y="2040480"/>
              <a:ext cx="225360" cy="179280"/>
            </a:xfrm>
            <a:custGeom>
              <a:avLst/>
              <a:gdLst/>
              <a:ahLst/>
              <a:rect l="l" t="t" r="r" b="b"/>
              <a:pathLst>
                <a:path w="304" h="180">
                  <a:moveTo>
                    <a:pt x="0" y="101"/>
                  </a:moveTo>
                  <a:lnTo>
                    <a:pt x="61" y="179"/>
                  </a:lnTo>
                  <a:lnTo>
                    <a:pt x="303" y="70"/>
                  </a:lnTo>
                  <a:lnTo>
                    <a:pt x="238" y="0"/>
                  </a:lnTo>
                  <a:lnTo>
                    <a:pt x="0" y="10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433080" y="2036520"/>
              <a:ext cx="46080" cy="72720"/>
            </a:xfrm>
            <a:custGeom>
              <a:avLst/>
              <a:gdLst/>
              <a:ahLst/>
              <a:rect l="l" t="t" r="r" b="b"/>
              <a:pathLst>
                <a:path w="62" h="73">
                  <a:moveTo>
                    <a:pt x="0" y="0"/>
                  </a:moveTo>
                  <a:lnTo>
                    <a:pt x="53" y="13"/>
                  </a:lnTo>
                  <a:lnTo>
                    <a:pt x="46" y="17"/>
                  </a:lnTo>
                  <a:lnTo>
                    <a:pt x="55" y="21"/>
                  </a:lnTo>
                  <a:lnTo>
                    <a:pt x="61" y="7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427320" y="1959480"/>
              <a:ext cx="48960" cy="77760"/>
            </a:xfrm>
            <a:custGeom>
              <a:avLst/>
              <a:gdLst/>
              <a:ahLst/>
              <a:rect l="l" t="t" r="r" b="b"/>
              <a:pathLst>
                <a:path w="66" h="78">
                  <a:moveTo>
                    <a:pt x="0" y="0"/>
                  </a:moveTo>
                  <a:lnTo>
                    <a:pt x="65" y="59"/>
                  </a:lnTo>
                  <a:lnTo>
                    <a:pt x="65" y="7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 flipV="1">
              <a:off x="500760" y="1908360"/>
              <a:ext cx="2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533160" y="1948680"/>
              <a:ext cx="12600" cy="169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8" y="16"/>
                  </a:lnTo>
                  <a:lnTo>
                    <a:pt x="16" y="1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534600" y="1953720"/>
              <a:ext cx="4320" cy="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 flipV="1">
              <a:off x="475560" y="2017080"/>
              <a:ext cx="43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 flipH="1">
              <a:off x="474120" y="2053440"/>
              <a:ext cx="4320" cy="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427320" y="2040480"/>
              <a:ext cx="3996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503640" y="2082600"/>
              <a:ext cx="19080" cy="2664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10" y="0"/>
                  </a:lnTo>
                  <a:lnTo>
                    <a:pt x="25" y="24"/>
                  </a:lnTo>
                  <a:lnTo>
                    <a:pt x="23" y="26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533160" y="2124360"/>
              <a:ext cx="12600" cy="237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16" y="21"/>
                  </a:moveTo>
                  <a:lnTo>
                    <a:pt x="16" y="23"/>
                  </a:lnTo>
                  <a:lnTo>
                    <a:pt x="16" y="23"/>
                  </a:lnTo>
                  <a:lnTo>
                    <a:pt x="12" y="23"/>
                  </a:lnTo>
                  <a:lnTo>
                    <a:pt x="9" y="23"/>
                  </a:lnTo>
                  <a:lnTo>
                    <a:pt x="6" y="21"/>
                  </a:lnTo>
                  <a:lnTo>
                    <a:pt x="3" y="17"/>
                  </a:lnTo>
                  <a:lnTo>
                    <a:pt x="3" y="13"/>
                  </a:lnTo>
                  <a:lnTo>
                    <a:pt x="0" y="9"/>
                  </a:lnTo>
                  <a:lnTo>
                    <a:pt x="6" y="2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4"/>
                  </a:lnTo>
                  <a:lnTo>
                    <a:pt x="12" y="11"/>
                  </a:lnTo>
                  <a:lnTo>
                    <a:pt x="16" y="17"/>
                  </a:lnTo>
                  <a:lnTo>
                    <a:pt x="16" y="2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539280" y="1974600"/>
              <a:ext cx="12960" cy="1692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16"/>
                  </a:moveTo>
                  <a:lnTo>
                    <a:pt x="0" y="6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7" y="8"/>
                  </a:lnTo>
                  <a:lnTo>
                    <a:pt x="0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496800" y="2036520"/>
              <a:ext cx="81360" cy="61560"/>
            </a:xfrm>
            <a:custGeom>
              <a:avLst/>
              <a:gdLst/>
              <a:ahLst/>
              <a:rect l="l" t="t" r="r" b="b"/>
              <a:pathLst>
                <a:path w="110" h="62">
                  <a:moveTo>
                    <a:pt x="0" y="0"/>
                  </a:moveTo>
                  <a:lnTo>
                    <a:pt x="0" y="4"/>
                  </a:lnTo>
                  <a:lnTo>
                    <a:pt x="2" y="7"/>
                  </a:lnTo>
                  <a:lnTo>
                    <a:pt x="5" y="15"/>
                  </a:lnTo>
                  <a:lnTo>
                    <a:pt x="9" y="23"/>
                  </a:lnTo>
                  <a:lnTo>
                    <a:pt x="17" y="32"/>
                  </a:lnTo>
                  <a:lnTo>
                    <a:pt x="26" y="40"/>
                  </a:lnTo>
                  <a:lnTo>
                    <a:pt x="40" y="49"/>
                  </a:lnTo>
                  <a:lnTo>
                    <a:pt x="57" y="57"/>
                  </a:lnTo>
                  <a:lnTo>
                    <a:pt x="65" y="59"/>
                  </a:lnTo>
                  <a:lnTo>
                    <a:pt x="72" y="61"/>
                  </a:lnTo>
                  <a:lnTo>
                    <a:pt x="80" y="61"/>
                  </a:lnTo>
                  <a:lnTo>
                    <a:pt x="88" y="61"/>
                  </a:lnTo>
                  <a:lnTo>
                    <a:pt x="95" y="61"/>
                  </a:lnTo>
                  <a:lnTo>
                    <a:pt x="103" y="61"/>
                  </a:lnTo>
                  <a:lnTo>
                    <a:pt x="107" y="61"/>
                  </a:lnTo>
                  <a:lnTo>
                    <a:pt x="109" y="6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506520" y="2009520"/>
              <a:ext cx="83160" cy="59400"/>
            </a:xfrm>
            <a:custGeom>
              <a:avLst/>
              <a:gdLst/>
              <a:ahLst/>
              <a:rect l="l" t="t" r="r" b="b"/>
              <a:pathLst>
                <a:path w="112" h="60">
                  <a:moveTo>
                    <a:pt x="0" y="4"/>
                  </a:moveTo>
                  <a:lnTo>
                    <a:pt x="2" y="4"/>
                  </a:lnTo>
                  <a:lnTo>
                    <a:pt x="6" y="2"/>
                  </a:lnTo>
                  <a:lnTo>
                    <a:pt x="12" y="2"/>
                  </a:lnTo>
                  <a:lnTo>
                    <a:pt x="21" y="0"/>
                  </a:lnTo>
                  <a:lnTo>
                    <a:pt x="31" y="0"/>
                  </a:lnTo>
                  <a:lnTo>
                    <a:pt x="42" y="2"/>
                  </a:lnTo>
                  <a:lnTo>
                    <a:pt x="55" y="4"/>
                  </a:lnTo>
                  <a:lnTo>
                    <a:pt x="69" y="8"/>
                  </a:lnTo>
                  <a:lnTo>
                    <a:pt x="80" y="15"/>
                  </a:lnTo>
                  <a:lnTo>
                    <a:pt x="90" y="23"/>
                  </a:lnTo>
                  <a:lnTo>
                    <a:pt x="97" y="32"/>
                  </a:lnTo>
                  <a:lnTo>
                    <a:pt x="103" y="40"/>
                  </a:lnTo>
                  <a:lnTo>
                    <a:pt x="107" y="48"/>
                  </a:lnTo>
                  <a:lnTo>
                    <a:pt x="109" y="53"/>
                  </a:lnTo>
                  <a:lnTo>
                    <a:pt x="111" y="59"/>
                  </a:lnTo>
                  <a:lnTo>
                    <a:pt x="111" y="5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686160" y="1965600"/>
              <a:ext cx="8640" cy="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703440" y="1940760"/>
              <a:ext cx="8640" cy="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670680" y="1946880"/>
              <a:ext cx="8640" cy="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687960" y="1923840"/>
              <a:ext cx="864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656640" y="1930680"/>
              <a:ext cx="7560" cy="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673560" y="1906920"/>
              <a:ext cx="720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642600" y="1913760"/>
              <a:ext cx="720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642600" y="1994760"/>
              <a:ext cx="7200" cy="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601560" y="2001600"/>
              <a:ext cx="7920" cy="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625320" y="1974600"/>
              <a:ext cx="720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611280" y="1957680"/>
              <a:ext cx="7200" cy="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598680" y="1940760"/>
              <a:ext cx="5760" cy="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 flipV="1">
              <a:off x="665280" y="1930320"/>
              <a:ext cx="73440" cy="4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 flipV="1">
              <a:off x="656640" y="1923480"/>
              <a:ext cx="75600" cy="4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 flipV="1">
              <a:off x="649800" y="1915200"/>
              <a:ext cx="73080" cy="4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 flipV="1">
              <a:off x="642600" y="1906560"/>
              <a:ext cx="72720" cy="4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 flipV="1">
              <a:off x="635760" y="1898280"/>
              <a:ext cx="70200" cy="4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 flipV="1">
              <a:off x="628560" y="1890720"/>
              <a:ext cx="69480" cy="4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621720" y="1927800"/>
              <a:ext cx="51840" cy="6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615600" y="1930680"/>
              <a:ext cx="52560" cy="5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545040" y="1973520"/>
              <a:ext cx="12600" cy="169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16"/>
                  </a:lnTo>
                  <a:lnTo>
                    <a:pt x="0" y="0"/>
                  </a:lnTo>
                  <a:lnTo>
                    <a:pt x="16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588960" y="1982520"/>
              <a:ext cx="6480" cy="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576360" y="1965600"/>
              <a:ext cx="6480" cy="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 flipV="1">
              <a:off x="572040" y="1963800"/>
              <a:ext cx="72000" cy="4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 flipV="1">
              <a:off x="564480" y="1953360"/>
              <a:ext cx="70920" cy="4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 flipV="1">
              <a:off x="558000" y="1946880"/>
              <a:ext cx="70200" cy="4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 flipV="1">
              <a:off x="550440" y="1936800"/>
              <a:ext cx="70920" cy="4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 flipV="1">
              <a:off x="586080" y="1980360"/>
              <a:ext cx="73080" cy="4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 flipV="1">
              <a:off x="578520" y="1971360"/>
              <a:ext cx="72720" cy="4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383400" y="2091240"/>
              <a:ext cx="7200" cy="1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370800" y="2070360"/>
              <a:ext cx="5040" cy="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345600" y="2172960"/>
              <a:ext cx="5040" cy="1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311400" y="2179080"/>
              <a:ext cx="5040" cy="1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333720" y="2150280"/>
              <a:ext cx="5760" cy="1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299520" y="2154240"/>
              <a:ext cx="5760" cy="1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320760" y="2126160"/>
              <a:ext cx="5760" cy="1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288360" y="2129400"/>
              <a:ext cx="5760" cy="1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311400" y="2105280"/>
              <a:ext cx="3600" cy="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 flipV="1">
              <a:off x="286560" y="2153880"/>
              <a:ext cx="93600" cy="5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 flipV="1">
              <a:off x="281520" y="2143440"/>
              <a:ext cx="90360" cy="5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 flipV="1">
              <a:off x="273960" y="2129040"/>
              <a:ext cx="90360" cy="5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 flipV="1">
              <a:off x="267480" y="2119680"/>
              <a:ext cx="90360" cy="5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 flipV="1">
              <a:off x="260280" y="2108160"/>
              <a:ext cx="90360" cy="5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 flipV="1">
              <a:off x="254160" y="2097000"/>
              <a:ext cx="89640" cy="5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345600" y="2085480"/>
              <a:ext cx="47160" cy="7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339480" y="2089440"/>
              <a:ext cx="46440" cy="7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408600" y="2137320"/>
              <a:ext cx="5760" cy="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431640" y="2108160"/>
              <a:ext cx="5760" cy="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396000" y="2114280"/>
              <a:ext cx="7200" cy="1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417600" y="2085480"/>
              <a:ext cx="5040" cy="1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403560" y="2064240"/>
              <a:ext cx="6480" cy="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 flipV="1">
              <a:off x="386280" y="2101320"/>
              <a:ext cx="7920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 flipV="1">
              <a:off x="381960" y="2090880"/>
              <a:ext cx="76320" cy="4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 flipV="1">
              <a:off x="373680" y="2082240"/>
              <a:ext cx="77760" cy="4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 flipV="1">
              <a:off x="364680" y="2070000"/>
              <a:ext cx="77760" cy="4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 flipV="1">
              <a:off x="358200" y="2058840"/>
              <a:ext cx="77760" cy="4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 flipV="1">
              <a:off x="350640" y="2049120"/>
              <a:ext cx="77760" cy="4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249120" y="2040480"/>
              <a:ext cx="225360" cy="179280"/>
            </a:xfrm>
            <a:custGeom>
              <a:avLst/>
              <a:gdLst/>
              <a:ahLst/>
              <a:rect l="l" t="t" r="r" b="b"/>
              <a:pathLst>
                <a:path w="304" h="180">
                  <a:moveTo>
                    <a:pt x="0" y="101"/>
                  </a:moveTo>
                  <a:lnTo>
                    <a:pt x="61" y="179"/>
                  </a:lnTo>
                  <a:lnTo>
                    <a:pt x="303" y="70"/>
                  </a:lnTo>
                  <a:lnTo>
                    <a:pt x="238" y="0"/>
                  </a:lnTo>
                  <a:lnTo>
                    <a:pt x="0" y="10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247680" y="1886040"/>
              <a:ext cx="503280" cy="338040"/>
            </a:xfrm>
            <a:custGeom>
              <a:avLst/>
              <a:gdLst/>
              <a:ahLst/>
              <a:rect l="l" t="t" r="r" b="b"/>
              <a:pathLst>
                <a:path w="678" h="339">
                  <a:moveTo>
                    <a:pt x="469" y="155"/>
                  </a:moveTo>
                  <a:lnTo>
                    <a:pt x="677" y="59"/>
                  </a:lnTo>
                  <a:lnTo>
                    <a:pt x="674" y="57"/>
                  </a:lnTo>
                  <a:lnTo>
                    <a:pt x="677" y="55"/>
                  </a:lnTo>
                  <a:lnTo>
                    <a:pt x="601" y="0"/>
                  </a:lnTo>
                  <a:lnTo>
                    <a:pt x="401" y="86"/>
                  </a:lnTo>
                  <a:lnTo>
                    <a:pt x="399" y="70"/>
                  </a:lnTo>
                  <a:lnTo>
                    <a:pt x="389" y="67"/>
                  </a:lnTo>
                  <a:lnTo>
                    <a:pt x="389" y="59"/>
                  </a:lnTo>
                  <a:lnTo>
                    <a:pt x="380" y="51"/>
                  </a:lnTo>
                  <a:lnTo>
                    <a:pt x="378" y="51"/>
                  </a:lnTo>
                  <a:lnTo>
                    <a:pt x="372" y="59"/>
                  </a:lnTo>
                  <a:lnTo>
                    <a:pt x="370" y="53"/>
                  </a:lnTo>
                  <a:lnTo>
                    <a:pt x="347" y="42"/>
                  </a:lnTo>
                  <a:lnTo>
                    <a:pt x="345" y="23"/>
                  </a:lnTo>
                  <a:lnTo>
                    <a:pt x="332" y="13"/>
                  </a:lnTo>
                  <a:lnTo>
                    <a:pt x="326" y="15"/>
                  </a:lnTo>
                  <a:lnTo>
                    <a:pt x="326" y="32"/>
                  </a:lnTo>
                  <a:lnTo>
                    <a:pt x="322" y="30"/>
                  </a:lnTo>
                  <a:lnTo>
                    <a:pt x="303" y="36"/>
                  </a:lnTo>
                  <a:lnTo>
                    <a:pt x="303" y="36"/>
                  </a:lnTo>
                  <a:lnTo>
                    <a:pt x="301" y="36"/>
                  </a:lnTo>
                  <a:lnTo>
                    <a:pt x="299" y="34"/>
                  </a:lnTo>
                  <a:lnTo>
                    <a:pt x="296" y="34"/>
                  </a:lnTo>
                  <a:lnTo>
                    <a:pt x="290" y="34"/>
                  </a:lnTo>
                  <a:lnTo>
                    <a:pt x="284" y="34"/>
                  </a:lnTo>
                  <a:lnTo>
                    <a:pt x="277" y="36"/>
                  </a:lnTo>
                  <a:lnTo>
                    <a:pt x="267" y="38"/>
                  </a:lnTo>
                  <a:lnTo>
                    <a:pt x="256" y="45"/>
                  </a:lnTo>
                  <a:lnTo>
                    <a:pt x="248" y="51"/>
                  </a:lnTo>
                  <a:lnTo>
                    <a:pt x="240" y="59"/>
                  </a:lnTo>
                  <a:lnTo>
                    <a:pt x="235" y="68"/>
                  </a:lnTo>
                  <a:lnTo>
                    <a:pt x="233" y="74"/>
                  </a:lnTo>
                  <a:lnTo>
                    <a:pt x="231" y="82"/>
                  </a:lnTo>
                  <a:lnTo>
                    <a:pt x="229" y="88"/>
                  </a:lnTo>
                  <a:lnTo>
                    <a:pt x="229" y="91"/>
                  </a:lnTo>
                  <a:lnTo>
                    <a:pt x="229" y="95"/>
                  </a:lnTo>
                  <a:lnTo>
                    <a:pt x="229" y="101"/>
                  </a:lnTo>
                  <a:lnTo>
                    <a:pt x="231" y="107"/>
                  </a:lnTo>
                  <a:lnTo>
                    <a:pt x="233" y="112"/>
                  </a:lnTo>
                  <a:lnTo>
                    <a:pt x="236" y="120"/>
                  </a:lnTo>
                  <a:lnTo>
                    <a:pt x="240" y="126"/>
                  </a:lnTo>
                  <a:lnTo>
                    <a:pt x="244" y="132"/>
                  </a:lnTo>
                  <a:lnTo>
                    <a:pt x="248" y="133"/>
                  </a:lnTo>
                  <a:lnTo>
                    <a:pt x="242" y="137"/>
                  </a:lnTo>
                  <a:lnTo>
                    <a:pt x="240" y="143"/>
                  </a:lnTo>
                  <a:lnTo>
                    <a:pt x="236" y="149"/>
                  </a:lnTo>
                  <a:lnTo>
                    <a:pt x="236" y="156"/>
                  </a:lnTo>
                  <a:lnTo>
                    <a:pt x="2" y="256"/>
                  </a:lnTo>
                  <a:lnTo>
                    <a:pt x="4" y="258"/>
                  </a:lnTo>
                  <a:lnTo>
                    <a:pt x="0" y="260"/>
                  </a:lnTo>
                  <a:lnTo>
                    <a:pt x="61" y="338"/>
                  </a:lnTo>
                  <a:lnTo>
                    <a:pt x="305" y="229"/>
                  </a:lnTo>
                  <a:lnTo>
                    <a:pt x="303" y="225"/>
                  </a:lnTo>
                  <a:lnTo>
                    <a:pt x="305" y="229"/>
                  </a:lnTo>
                  <a:lnTo>
                    <a:pt x="315" y="221"/>
                  </a:lnTo>
                  <a:lnTo>
                    <a:pt x="319" y="227"/>
                  </a:lnTo>
                  <a:lnTo>
                    <a:pt x="319" y="223"/>
                  </a:lnTo>
                  <a:lnTo>
                    <a:pt x="320" y="221"/>
                  </a:lnTo>
                  <a:lnTo>
                    <a:pt x="322" y="218"/>
                  </a:lnTo>
                  <a:lnTo>
                    <a:pt x="326" y="214"/>
                  </a:lnTo>
                  <a:lnTo>
                    <a:pt x="328" y="210"/>
                  </a:lnTo>
                  <a:lnTo>
                    <a:pt x="332" y="206"/>
                  </a:lnTo>
                  <a:lnTo>
                    <a:pt x="336" y="204"/>
                  </a:lnTo>
                  <a:lnTo>
                    <a:pt x="340" y="200"/>
                  </a:lnTo>
                  <a:lnTo>
                    <a:pt x="366" y="225"/>
                  </a:lnTo>
                  <a:lnTo>
                    <a:pt x="366" y="227"/>
                  </a:lnTo>
                  <a:lnTo>
                    <a:pt x="376" y="233"/>
                  </a:lnTo>
                  <a:lnTo>
                    <a:pt x="378" y="246"/>
                  </a:lnTo>
                  <a:lnTo>
                    <a:pt x="380" y="248"/>
                  </a:lnTo>
                  <a:lnTo>
                    <a:pt x="380" y="252"/>
                  </a:lnTo>
                  <a:lnTo>
                    <a:pt x="383" y="258"/>
                  </a:lnTo>
                  <a:lnTo>
                    <a:pt x="385" y="262"/>
                  </a:lnTo>
                  <a:lnTo>
                    <a:pt x="389" y="267"/>
                  </a:lnTo>
                  <a:lnTo>
                    <a:pt x="391" y="267"/>
                  </a:lnTo>
                  <a:lnTo>
                    <a:pt x="395" y="267"/>
                  </a:lnTo>
                  <a:lnTo>
                    <a:pt x="399" y="267"/>
                  </a:lnTo>
                  <a:lnTo>
                    <a:pt x="401" y="264"/>
                  </a:lnTo>
                  <a:lnTo>
                    <a:pt x="401" y="260"/>
                  </a:lnTo>
                  <a:lnTo>
                    <a:pt x="399" y="252"/>
                  </a:lnTo>
                  <a:lnTo>
                    <a:pt x="397" y="246"/>
                  </a:lnTo>
                  <a:lnTo>
                    <a:pt x="397" y="244"/>
                  </a:lnTo>
                  <a:lnTo>
                    <a:pt x="399" y="244"/>
                  </a:lnTo>
                  <a:lnTo>
                    <a:pt x="399" y="244"/>
                  </a:lnTo>
                  <a:lnTo>
                    <a:pt x="401" y="244"/>
                  </a:lnTo>
                  <a:lnTo>
                    <a:pt x="401" y="246"/>
                  </a:lnTo>
                  <a:lnTo>
                    <a:pt x="401" y="246"/>
                  </a:lnTo>
                  <a:lnTo>
                    <a:pt x="401" y="248"/>
                  </a:lnTo>
                  <a:lnTo>
                    <a:pt x="403" y="250"/>
                  </a:lnTo>
                  <a:lnTo>
                    <a:pt x="403" y="250"/>
                  </a:lnTo>
                  <a:lnTo>
                    <a:pt x="422" y="269"/>
                  </a:lnTo>
                  <a:lnTo>
                    <a:pt x="424" y="271"/>
                  </a:lnTo>
                  <a:lnTo>
                    <a:pt x="425" y="271"/>
                  </a:lnTo>
                  <a:lnTo>
                    <a:pt x="429" y="271"/>
                  </a:lnTo>
                  <a:lnTo>
                    <a:pt x="429" y="269"/>
                  </a:lnTo>
                  <a:lnTo>
                    <a:pt x="431" y="267"/>
                  </a:lnTo>
                  <a:lnTo>
                    <a:pt x="431" y="265"/>
                  </a:lnTo>
                  <a:lnTo>
                    <a:pt x="431" y="264"/>
                  </a:lnTo>
                  <a:lnTo>
                    <a:pt x="429" y="262"/>
                  </a:lnTo>
                  <a:lnTo>
                    <a:pt x="429" y="262"/>
                  </a:lnTo>
                  <a:lnTo>
                    <a:pt x="429" y="262"/>
                  </a:lnTo>
                  <a:lnTo>
                    <a:pt x="429" y="262"/>
                  </a:lnTo>
                  <a:lnTo>
                    <a:pt x="412" y="243"/>
                  </a:lnTo>
                  <a:lnTo>
                    <a:pt x="410" y="243"/>
                  </a:lnTo>
                  <a:lnTo>
                    <a:pt x="408" y="241"/>
                  </a:lnTo>
                  <a:lnTo>
                    <a:pt x="406" y="241"/>
                  </a:lnTo>
                  <a:lnTo>
                    <a:pt x="404" y="243"/>
                  </a:lnTo>
                  <a:lnTo>
                    <a:pt x="403" y="241"/>
                  </a:lnTo>
                  <a:lnTo>
                    <a:pt x="401" y="239"/>
                  </a:lnTo>
                  <a:lnTo>
                    <a:pt x="399" y="239"/>
                  </a:lnTo>
                  <a:lnTo>
                    <a:pt x="397" y="239"/>
                  </a:lnTo>
                  <a:lnTo>
                    <a:pt x="397" y="239"/>
                  </a:lnTo>
                  <a:lnTo>
                    <a:pt x="406" y="235"/>
                  </a:lnTo>
                  <a:lnTo>
                    <a:pt x="406" y="231"/>
                  </a:lnTo>
                  <a:lnTo>
                    <a:pt x="404" y="225"/>
                  </a:lnTo>
                  <a:lnTo>
                    <a:pt x="385" y="227"/>
                  </a:lnTo>
                  <a:lnTo>
                    <a:pt x="380" y="218"/>
                  </a:lnTo>
                  <a:lnTo>
                    <a:pt x="374" y="218"/>
                  </a:lnTo>
                  <a:lnTo>
                    <a:pt x="362" y="199"/>
                  </a:lnTo>
                  <a:lnTo>
                    <a:pt x="364" y="200"/>
                  </a:lnTo>
                  <a:lnTo>
                    <a:pt x="370" y="202"/>
                  </a:lnTo>
                  <a:lnTo>
                    <a:pt x="374" y="206"/>
                  </a:lnTo>
                  <a:lnTo>
                    <a:pt x="378" y="208"/>
                  </a:lnTo>
                  <a:lnTo>
                    <a:pt x="391" y="212"/>
                  </a:lnTo>
                  <a:lnTo>
                    <a:pt x="404" y="216"/>
                  </a:lnTo>
                  <a:lnTo>
                    <a:pt x="416" y="218"/>
                  </a:lnTo>
                  <a:lnTo>
                    <a:pt x="429" y="218"/>
                  </a:lnTo>
                  <a:lnTo>
                    <a:pt x="439" y="216"/>
                  </a:lnTo>
                  <a:lnTo>
                    <a:pt x="448" y="210"/>
                  </a:lnTo>
                  <a:lnTo>
                    <a:pt x="458" y="204"/>
                  </a:lnTo>
                  <a:lnTo>
                    <a:pt x="464" y="195"/>
                  </a:lnTo>
                  <a:lnTo>
                    <a:pt x="466" y="189"/>
                  </a:lnTo>
                  <a:lnTo>
                    <a:pt x="467" y="181"/>
                  </a:lnTo>
                  <a:lnTo>
                    <a:pt x="466" y="174"/>
                  </a:lnTo>
                  <a:lnTo>
                    <a:pt x="464" y="166"/>
                  </a:lnTo>
                  <a:lnTo>
                    <a:pt x="460" y="158"/>
                  </a:lnTo>
                  <a:lnTo>
                    <a:pt x="456" y="151"/>
                  </a:lnTo>
                  <a:lnTo>
                    <a:pt x="450" y="143"/>
                  </a:lnTo>
                  <a:lnTo>
                    <a:pt x="443" y="135"/>
                  </a:lnTo>
                  <a:lnTo>
                    <a:pt x="446" y="133"/>
                  </a:lnTo>
                  <a:lnTo>
                    <a:pt x="469" y="15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495360" y="1999800"/>
              <a:ext cx="99000" cy="104400"/>
            </a:xfrm>
            <a:custGeom>
              <a:avLst/>
              <a:gdLst/>
              <a:ahLst/>
              <a:rect l="l" t="t" r="r" b="b"/>
              <a:pathLst>
                <a:path w="134" h="105">
                  <a:moveTo>
                    <a:pt x="44" y="94"/>
                  </a:moveTo>
                  <a:lnTo>
                    <a:pt x="30" y="86"/>
                  </a:lnTo>
                  <a:lnTo>
                    <a:pt x="21" y="79"/>
                  </a:lnTo>
                  <a:lnTo>
                    <a:pt x="11" y="69"/>
                  </a:lnTo>
                  <a:lnTo>
                    <a:pt x="6" y="60"/>
                  </a:lnTo>
                  <a:lnTo>
                    <a:pt x="2" y="50"/>
                  </a:lnTo>
                  <a:lnTo>
                    <a:pt x="0" y="41"/>
                  </a:lnTo>
                  <a:lnTo>
                    <a:pt x="0" y="31"/>
                  </a:lnTo>
                  <a:lnTo>
                    <a:pt x="4" y="23"/>
                  </a:lnTo>
                  <a:lnTo>
                    <a:pt x="7" y="16"/>
                  </a:lnTo>
                  <a:lnTo>
                    <a:pt x="15" y="10"/>
                  </a:lnTo>
                  <a:lnTo>
                    <a:pt x="25" y="4"/>
                  </a:lnTo>
                  <a:lnTo>
                    <a:pt x="36" y="2"/>
                  </a:lnTo>
                  <a:lnTo>
                    <a:pt x="48" y="0"/>
                  </a:lnTo>
                  <a:lnTo>
                    <a:pt x="61" y="0"/>
                  </a:lnTo>
                  <a:lnTo>
                    <a:pt x="72" y="2"/>
                  </a:lnTo>
                  <a:lnTo>
                    <a:pt x="88" y="8"/>
                  </a:lnTo>
                  <a:lnTo>
                    <a:pt x="99" y="16"/>
                  </a:lnTo>
                  <a:lnTo>
                    <a:pt x="111" y="23"/>
                  </a:lnTo>
                  <a:lnTo>
                    <a:pt x="120" y="33"/>
                  </a:lnTo>
                  <a:lnTo>
                    <a:pt x="126" y="42"/>
                  </a:lnTo>
                  <a:lnTo>
                    <a:pt x="130" y="54"/>
                  </a:lnTo>
                  <a:lnTo>
                    <a:pt x="133" y="63"/>
                  </a:lnTo>
                  <a:lnTo>
                    <a:pt x="133" y="73"/>
                  </a:lnTo>
                  <a:lnTo>
                    <a:pt x="130" y="81"/>
                  </a:lnTo>
                  <a:lnTo>
                    <a:pt x="124" y="90"/>
                  </a:lnTo>
                  <a:lnTo>
                    <a:pt x="114" y="96"/>
                  </a:lnTo>
                  <a:lnTo>
                    <a:pt x="105" y="102"/>
                  </a:lnTo>
                  <a:lnTo>
                    <a:pt x="95" y="104"/>
                  </a:lnTo>
                  <a:lnTo>
                    <a:pt x="82" y="104"/>
                  </a:lnTo>
                  <a:lnTo>
                    <a:pt x="70" y="102"/>
                  </a:lnTo>
                  <a:lnTo>
                    <a:pt x="57" y="98"/>
                  </a:lnTo>
                  <a:lnTo>
                    <a:pt x="44" y="9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1" name=""/>
          <p:cNvGrpSpPr/>
          <p:nvPr/>
        </p:nvGrpSpPr>
        <p:grpSpPr>
          <a:xfrm>
            <a:off x="328680" y="2057400"/>
            <a:ext cx="428400" cy="785520"/>
            <a:chOff x="328680" y="2057400"/>
            <a:chExt cx="428400" cy="785520"/>
          </a:xfrm>
        </p:grpSpPr>
        <p:sp>
          <p:nvSpPr>
            <p:cNvPr id="1902" name=""/>
            <p:cNvSpPr/>
            <p:nvPr/>
          </p:nvSpPr>
          <p:spPr>
            <a:xfrm flipV="1">
              <a:off x="328680" y="2371320"/>
              <a:ext cx="201600" cy="4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 flipV="1">
              <a:off x="505080" y="2057400"/>
              <a:ext cx="252000" cy="62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 flipH="1">
              <a:off x="505080" y="2371320"/>
              <a:ext cx="25200" cy="31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5" name=""/>
          <p:cNvGrpSpPr/>
          <p:nvPr/>
        </p:nvGrpSpPr>
        <p:grpSpPr>
          <a:xfrm>
            <a:off x="1074600" y="2142000"/>
            <a:ext cx="400320" cy="593280"/>
            <a:chOff x="1074600" y="2142000"/>
            <a:chExt cx="400320" cy="593280"/>
          </a:xfrm>
        </p:grpSpPr>
        <p:sp>
          <p:nvSpPr>
            <p:cNvPr id="1906" name=""/>
            <p:cNvSpPr/>
            <p:nvPr/>
          </p:nvSpPr>
          <p:spPr>
            <a:xfrm>
              <a:off x="1074600" y="2142000"/>
              <a:ext cx="188280" cy="35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1239480" y="2260440"/>
              <a:ext cx="235440" cy="47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 flipH="1" flipV="1">
              <a:off x="1239120" y="2260080"/>
              <a:ext cx="23400" cy="23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9" name=""/>
          <p:cNvSpPr/>
          <p:nvPr/>
        </p:nvSpPr>
        <p:spPr>
          <a:xfrm>
            <a:off x="5562720" y="3786120"/>
            <a:ext cx="941400" cy="1670040"/>
          </a:xfrm>
          <a:prstGeom prst="cube">
            <a:avLst>
              <a:gd name="adj" fmla="val 1129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3392640" y="6130800"/>
            <a:ext cx="369720" cy="200160"/>
          </a:xfrm>
          <a:prstGeom prst="cube">
            <a:avLst>
              <a:gd name="adj" fmla="val 1263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6094440" y="5904000"/>
            <a:ext cx="2346120" cy="577800"/>
          </a:xfrm>
          <a:prstGeom prst="wedgeRoundRectCallout">
            <a:avLst>
              <a:gd name="adj1" fmla="val 40796"/>
              <a:gd name="adj2" fmla="val -10961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SKY PerfecTV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(CS Broadcast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903240" y="4110120"/>
            <a:ext cx="1344600" cy="1365120"/>
          </a:xfrm>
          <a:prstGeom prst="cube">
            <a:avLst>
              <a:gd name="adj" fmla="val 12643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de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mit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qui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316080" y="6140520"/>
            <a:ext cx="377640" cy="195120"/>
          </a:xfrm>
          <a:prstGeom prst="cube">
            <a:avLst>
              <a:gd name="adj" fmla="val 12643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4886280" y="4778280"/>
            <a:ext cx="574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 rot="5400000">
            <a:off x="4208400" y="4066920"/>
            <a:ext cx="1112760" cy="1503360"/>
          </a:xfrm>
          <a:prstGeom prst="can">
            <a:avLst>
              <a:gd name="adj" fmla="val 115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3951360" y="3632760"/>
            <a:ext cx="16016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tical Fi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 flipH="1">
            <a:off x="3794040" y="4676760"/>
            <a:ext cx="4276800" cy="14400"/>
          </a:xfrm>
          <a:prstGeom prst="line">
            <a:avLst/>
          </a:prstGeom>
          <a:ln w="572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 flipH="1">
            <a:off x="2876040" y="2749680"/>
            <a:ext cx="11160" cy="1554120"/>
          </a:xfrm>
          <a:prstGeom prst="line">
            <a:avLst/>
          </a:prstGeom>
          <a:ln w="572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2166840" y="5249880"/>
            <a:ext cx="4835520" cy="15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0" name=""/>
          <p:cNvGrpSpPr/>
          <p:nvPr/>
        </p:nvGrpSpPr>
        <p:grpSpPr>
          <a:xfrm>
            <a:off x="922320" y="1763640"/>
            <a:ext cx="503280" cy="338040"/>
            <a:chOff x="922320" y="1763640"/>
            <a:chExt cx="503280" cy="338040"/>
          </a:xfrm>
        </p:grpSpPr>
        <p:sp>
          <p:nvSpPr>
            <p:cNvPr id="1921" name=""/>
            <p:cNvSpPr/>
            <p:nvPr/>
          </p:nvSpPr>
          <p:spPr>
            <a:xfrm>
              <a:off x="1205640" y="1852200"/>
              <a:ext cx="54000" cy="56880"/>
            </a:xfrm>
            <a:custGeom>
              <a:avLst/>
              <a:gdLst/>
              <a:ahLst/>
              <a:rect l="l" t="t" r="r" b="b"/>
              <a:pathLst>
                <a:path w="73" h="57">
                  <a:moveTo>
                    <a:pt x="0" y="20"/>
                  </a:moveTo>
                  <a:lnTo>
                    <a:pt x="47" y="0"/>
                  </a:lnTo>
                  <a:lnTo>
                    <a:pt x="72" y="37"/>
                  </a:lnTo>
                  <a:lnTo>
                    <a:pt x="47" y="56"/>
                  </a:lnTo>
                  <a:lnTo>
                    <a:pt x="19" y="27"/>
                  </a:lnTo>
                  <a:lnTo>
                    <a:pt x="7" y="29"/>
                  </a:lnTo>
                  <a:lnTo>
                    <a:pt x="0" y="2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1205640" y="1852200"/>
              <a:ext cx="54000" cy="56880"/>
            </a:xfrm>
            <a:custGeom>
              <a:avLst/>
              <a:gdLst/>
              <a:ahLst/>
              <a:rect l="l" t="t" r="r" b="b"/>
              <a:pathLst>
                <a:path w="73" h="57">
                  <a:moveTo>
                    <a:pt x="0" y="20"/>
                  </a:moveTo>
                  <a:lnTo>
                    <a:pt x="47" y="0"/>
                  </a:lnTo>
                  <a:lnTo>
                    <a:pt x="72" y="37"/>
                  </a:lnTo>
                  <a:lnTo>
                    <a:pt x="47" y="56"/>
                  </a:lnTo>
                  <a:lnTo>
                    <a:pt x="19" y="27"/>
                  </a:lnTo>
                  <a:lnTo>
                    <a:pt x="7" y="29"/>
                  </a:lnTo>
                  <a:lnTo>
                    <a:pt x="0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1221480" y="1864080"/>
              <a:ext cx="26640" cy="3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1219680" y="1764360"/>
              <a:ext cx="205560" cy="154440"/>
            </a:xfrm>
            <a:custGeom>
              <a:avLst/>
              <a:gdLst/>
              <a:ahLst/>
              <a:rect l="l" t="t" r="r" b="b"/>
              <a:pathLst>
                <a:path w="277" h="155">
                  <a:moveTo>
                    <a:pt x="0" y="88"/>
                  </a:moveTo>
                  <a:lnTo>
                    <a:pt x="68" y="154"/>
                  </a:lnTo>
                  <a:lnTo>
                    <a:pt x="276" y="58"/>
                  </a:lnTo>
                  <a:lnTo>
                    <a:pt x="200" y="0"/>
                  </a:lnTo>
                  <a:lnTo>
                    <a:pt x="0" y="8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1219680" y="1764360"/>
              <a:ext cx="205560" cy="154440"/>
            </a:xfrm>
            <a:custGeom>
              <a:avLst/>
              <a:gdLst/>
              <a:ahLst/>
              <a:rect l="l" t="t" r="r" b="b"/>
              <a:pathLst>
                <a:path w="277" h="155">
                  <a:moveTo>
                    <a:pt x="0" y="88"/>
                  </a:moveTo>
                  <a:lnTo>
                    <a:pt x="68" y="154"/>
                  </a:lnTo>
                  <a:lnTo>
                    <a:pt x="276" y="58"/>
                  </a:lnTo>
                  <a:lnTo>
                    <a:pt x="200" y="0"/>
                  </a:lnTo>
                  <a:lnTo>
                    <a:pt x="0" y="8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1120320" y="1887120"/>
              <a:ext cx="119520" cy="103320"/>
            </a:xfrm>
            <a:custGeom>
              <a:avLst/>
              <a:gdLst/>
              <a:ahLst/>
              <a:rect l="l" t="t" r="r" b="b"/>
              <a:pathLst>
                <a:path w="161" h="104">
                  <a:moveTo>
                    <a:pt x="52" y="103"/>
                  </a:moveTo>
                  <a:lnTo>
                    <a:pt x="53" y="99"/>
                  </a:lnTo>
                  <a:lnTo>
                    <a:pt x="55" y="96"/>
                  </a:lnTo>
                  <a:lnTo>
                    <a:pt x="57" y="92"/>
                  </a:lnTo>
                  <a:lnTo>
                    <a:pt x="61" y="88"/>
                  </a:lnTo>
                  <a:lnTo>
                    <a:pt x="65" y="82"/>
                  </a:lnTo>
                  <a:lnTo>
                    <a:pt x="69" y="78"/>
                  </a:lnTo>
                  <a:lnTo>
                    <a:pt x="73" y="76"/>
                  </a:lnTo>
                  <a:lnTo>
                    <a:pt x="78" y="75"/>
                  </a:lnTo>
                  <a:lnTo>
                    <a:pt x="84" y="73"/>
                  </a:lnTo>
                  <a:lnTo>
                    <a:pt x="94" y="73"/>
                  </a:lnTo>
                  <a:lnTo>
                    <a:pt x="103" y="71"/>
                  </a:lnTo>
                  <a:lnTo>
                    <a:pt x="116" y="69"/>
                  </a:lnTo>
                  <a:lnTo>
                    <a:pt x="130" y="69"/>
                  </a:lnTo>
                  <a:lnTo>
                    <a:pt x="141" y="69"/>
                  </a:lnTo>
                  <a:lnTo>
                    <a:pt x="153" y="71"/>
                  </a:lnTo>
                  <a:lnTo>
                    <a:pt x="160" y="71"/>
                  </a:lnTo>
                  <a:lnTo>
                    <a:pt x="113" y="0"/>
                  </a:lnTo>
                  <a:lnTo>
                    <a:pt x="0" y="48"/>
                  </a:lnTo>
                  <a:lnTo>
                    <a:pt x="52" y="10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1120320" y="1887120"/>
              <a:ext cx="119520" cy="103320"/>
            </a:xfrm>
            <a:custGeom>
              <a:avLst/>
              <a:gdLst/>
              <a:ahLst/>
              <a:rect l="l" t="t" r="r" b="b"/>
              <a:pathLst>
                <a:path w="161" h="104">
                  <a:moveTo>
                    <a:pt x="52" y="103"/>
                  </a:moveTo>
                  <a:lnTo>
                    <a:pt x="53" y="99"/>
                  </a:lnTo>
                  <a:lnTo>
                    <a:pt x="55" y="96"/>
                  </a:lnTo>
                  <a:lnTo>
                    <a:pt x="57" y="92"/>
                  </a:lnTo>
                  <a:lnTo>
                    <a:pt x="61" y="88"/>
                  </a:lnTo>
                  <a:lnTo>
                    <a:pt x="65" y="82"/>
                  </a:lnTo>
                  <a:lnTo>
                    <a:pt x="69" y="78"/>
                  </a:lnTo>
                  <a:lnTo>
                    <a:pt x="73" y="76"/>
                  </a:lnTo>
                  <a:lnTo>
                    <a:pt x="78" y="75"/>
                  </a:lnTo>
                  <a:lnTo>
                    <a:pt x="84" y="73"/>
                  </a:lnTo>
                  <a:lnTo>
                    <a:pt x="94" y="73"/>
                  </a:lnTo>
                  <a:lnTo>
                    <a:pt x="103" y="71"/>
                  </a:lnTo>
                  <a:lnTo>
                    <a:pt x="116" y="69"/>
                  </a:lnTo>
                  <a:lnTo>
                    <a:pt x="130" y="69"/>
                  </a:lnTo>
                  <a:lnTo>
                    <a:pt x="141" y="69"/>
                  </a:lnTo>
                  <a:lnTo>
                    <a:pt x="153" y="71"/>
                  </a:lnTo>
                  <a:lnTo>
                    <a:pt x="160" y="71"/>
                  </a:lnTo>
                  <a:lnTo>
                    <a:pt x="113" y="0"/>
                  </a:lnTo>
                  <a:lnTo>
                    <a:pt x="0" y="48"/>
                  </a:lnTo>
                  <a:lnTo>
                    <a:pt x="52" y="10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1151640" y="1931040"/>
              <a:ext cx="47520" cy="59400"/>
            </a:xfrm>
            <a:custGeom>
              <a:avLst/>
              <a:gdLst/>
              <a:ahLst/>
              <a:rect l="l" t="t" r="r" b="b"/>
              <a:pathLst>
                <a:path w="64" h="60">
                  <a:moveTo>
                    <a:pt x="0" y="8"/>
                  </a:moveTo>
                  <a:lnTo>
                    <a:pt x="61" y="59"/>
                  </a:lnTo>
                  <a:lnTo>
                    <a:pt x="63" y="57"/>
                  </a:lnTo>
                  <a:lnTo>
                    <a:pt x="4" y="0"/>
                  </a:lnTo>
                  <a:lnTo>
                    <a:pt x="0" y="8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1151640" y="1931040"/>
              <a:ext cx="47520" cy="59400"/>
            </a:xfrm>
            <a:custGeom>
              <a:avLst/>
              <a:gdLst/>
              <a:ahLst/>
              <a:rect l="l" t="t" r="r" b="b"/>
              <a:pathLst>
                <a:path w="64" h="60">
                  <a:moveTo>
                    <a:pt x="0" y="8"/>
                  </a:moveTo>
                  <a:lnTo>
                    <a:pt x="61" y="59"/>
                  </a:lnTo>
                  <a:lnTo>
                    <a:pt x="63" y="57"/>
                  </a:lnTo>
                  <a:lnTo>
                    <a:pt x="4" y="0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1168560" y="1923120"/>
              <a:ext cx="34560" cy="65520"/>
            </a:xfrm>
            <a:custGeom>
              <a:avLst/>
              <a:gdLst/>
              <a:ahLst/>
              <a:rect l="l" t="t" r="r" b="b"/>
              <a:pathLst>
                <a:path w="47" h="66">
                  <a:moveTo>
                    <a:pt x="0" y="2"/>
                  </a:moveTo>
                  <a:lnTo>
                    <a:pt x="40" y="65"/>
                  </a:lnTo>
                  <a:lnTo>
                    <a:pt x="46" y="63"/>
                  </a:lnTo>
                  <a:lnTo>
                    <a:pt x="6" y="0"/>
                  </a:lnTo>
                  <a:lnTo>
                    <a:pt x="0" y="2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1168560" y="1923120"/>
              <a:ext cx="34560" cy="65520"/>
            </a:xfrm>
            <a:custGeom>
              <a:avLst/>
              <a:gdLst/>
              <a:ahLst/>
              <a:rect l="l" t="t" r="r" b="b"/>
              <a:pathLst>
                <a:path w="47" h="66">
                  <a:moveTo>
                    <a:pt x="0" y="2"/>
                  </a:moveTo>
                  <a:lnTo>
                    <a:pt x="40" y="65"/>
                  </a:lnTo>
                  <a:lnTo>
                    <a:pt x="46" y="63"/>
                  </a:lnTo>
                  <a:lnTo>
                    <a:pt x="6" y="0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1219680" y="1763640"/>
              <a:ext cx="205560" cy="151200"/>
            </a:xfrm>
            <a:custGeom>
              <a:avLst/>
              <a:gdLst/>
              <a:ahLst/>
              <a:rect l="l" t="t" r="r" b="b"/>
              <a:pathLst>
                <a:path w="277" h="152">
                  <a:moveTo>
                    <a:pt x="0" y="86"/>
                  </a:moveTo>
                  <a:lnTo>
                    <a:pt x="68" y="151"/>
                  </a:lnTo>
                  <a:lnTo>
                    <a:pt x="276" y="55"/>
                  </a:lnTo>
                  <a:lnTo>
                    <a:pt x="200" y="0"/>
                  </a:lnTo>
                  <a:lnTo>
                    <a:pt x="0" y="86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1219680" y="1763640"/>
              <a:ext cx="205560" cy="151200"/>
            </a:xfrm>
            <a:custGeom>
              <a:avLst/>
              <a:gdLst/>
              <a:ahLst/>
              <a:rect l="l" t="t" r="r" b="b"/>
              <a:pathLst>
                <a:path w="277" h="152">
                  <a:moveTo>
                    <a:pt x="0" y="86"/>
                  </a:moveTo>
                  <a:lnTo>
                    <a:pt x="68" y="151"/>
                  </a:lnTo>
                  <a:lnTo>
                    <a:pt x="276" y="55"/>
                  </a:lnTo>
                  <a:lnTo>
                    <a:pt x="200" y="0"/>
                  </a:lnTo>
                  <a:lnTo>
                    <a:pt x="0" y="8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1164240" y="1776240"/>
              <a:ext cx="17640" cy="37080"/>
            </a:xfrm>
            <a:custGeom>
              <a:avLst/>
              <a:gdLst/>
              <a:ahLst/>
              <a:rect l="l" t="t" r="r" b="b"/>
              <a:pathLst>
                <a:path w="24" h="37">
                  <a:moveTo>
                    <a:pt x="0" y="25"/>
                  </a:moveTo>
                  <a:lnTo>
                    <a:pt x="0" y="2"/>
                  </a:lnTo>
                  <a:lnTo>
                    <a:pt x="6" y="0"/>
                  </a:lnTo>
                  <a:lnTo>
                    <a:pt x="19" y="10"/>
                  </a:lnTo>
                  <a:lnTo>
                    <a:pt x="23" y="36"/>
                  </a:lnTo>
                  <a:lnTo>
                    <a:pt x="0" y="25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1164240" y="1776240"/>
              <a:ext cx="17640" cy="37080"/>
            </a:xfrm>
            <a:custGeom>
              <a:avLst/>
              <a:gdLst/>
              <a:ahLst/>
              <a:rect l="l" t="t" r="r" b="b"/>
              <a:pathLst>
                <a:path w="24" h="37">
                  <a:moveTo>
                    <a:pt x="0" y="25"/>
                  </a:moveTo>
                  <a:lnTo>
                    <a:pt x="0" y="2"/>
                  </a:lnTo>
                  <a:lnTo>
                    <a:pt x="6" y="0"/>
                  </a:lnTo>
                  <a:lnTo>
                    <a:pt x="19" y="10"/>
                  </a:lnTo>
                  <a:lnTo>
                    <a:pt x="23" y="36"/>
                  </a:lnTo>
                  <a:lnTo>
                    <a:pt x="0" y="2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1164240" y="1778400"/>
              <a:ext cx="12600" cy="2772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0" y="0"/>
                  </a:moveTo>
                  <a:lnTo>
                    <a:pt x="16" y="9"/>
                  </a:lnTo>
                  <a:lnTo>
                    <a:pt x="16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1196640" y="1814400"/>
              <a:ext cx="25200" cy="48600"/>
            </a:xfrm>
            <a:custGeom>
              <a:avLst/>
              <a:gdLst/>
              <a:ahLst/>
              <a:rect l="l" t="t" r="r" b="b"/>
              <a:pathLst>
                <a:path w="34" h="49">
                  <a:moveTo>
                    <a:pt x="0" y="12"/>
                  </a:moveTo>
                  <a:lnTo>
                    <a:pt x="8" y="0"/>
                  </a:lnTo>
                  <a:lnTo>
                    <a:pt x="10" y="0"/>
                  </a:lnTo>
                  <a:lnTo>
                    <a:pt x="19" y="8"/>
                  </a:lnTo>
                  <a:lnTo>
                    <a:pt x="19" y="16"/>
                  </a:lnTo>
                  <a:lnTo>
                    <a:pt x="29" y="19"/>
                  </a:lnTo>
                  <a:lnTo>
                    <a:pt x="33" y="40"/>
                  </a:lnTo>
                  <a:lnTo>
                    <a:pt x="15" y="48"/>
                  </a:lnTo>
                  <a:lnTo>
                    <a:pt x="0" y="12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1196640" y="1814400"/>
              <a:ext cx="25200" cy="48600"/>
            </a:xfrm>
            <a:custGeom>
              <a:avLst/>
              <a:gdLst/>
              <a:ahLst/>
              <a:rect l="l" t="t" r="r" b="b"/>
              <a:pathLst>
                <a:path w="34" h="49">
                  <a:moveTo>
                    <a:pt x="0" y="12"/>
                  </a:moveTo>
                  <a:lnTo>
                    <a:pt x="8" y="0"/>
                  </a:lnTo>
                  <a:lnTo>
                    <a:pt x="10" y="0"/>
                  </a:lnTo>
                  <a:lnTo>
                    <a:pt x="19" y="8"/>
                  </a:lnTo>
                  <a:lnTo>
                    <a:pt x="19" y="16"/>
                  </a:lnTo>
                  <a:lnTo>
                    <a:pt x="29" y="19"/>
                  </a:lnTo>
                  <a:lnTo>
                    <a:pt x="33" y="40"/>
                  </a:lnTo>
                  <a:lnTo>
                    <a:pt x="15" y="48"/>
                  </a:lnTo>
                  <a:lnTo>
                    <a:pt x="0" y="1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1213920" y="1833480"/>
              <a:ext cx="12600" cy="237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10" y="23"/>
                  </a:moveTo>
                  <a:lnTo>
                    <a:pt x="0" y="2"/>
                  </a:lnTo>
                  <a:lnTo>
                    <a:pt x="1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1202760" y="1814400"/>
              <a:ext cx="12600" cy="169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2" y="16"/>
                  </a:lnTo>
                  <a:lnTo>
                    <a:pt x="16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1092240" y="1793160"/>
              <a:ext cx="123840" cy="161640"/>
            </a:xfrm>
            <a:custGeom>
              <a:avLst/>
              <a:gdLst/>
              <a:ahLst/>
              <a:rect l="l" t="t" r="r" b="b"/>
              <a:pathLst>
                <a:path w="167" h="162">
                  <a:moveTo>
                    <a:pt x="7" y="132"/>
                  </a:moveTo>
                  <a:lnTo>
                    <a:pt x="7" y="126"/>
                  </a:lnTo>
                  <a:lnTo>
                    <a:pt x="9" y="119"/>
                  </a:lnTo>
                  <a:lnTo>
                    <a:pt x="13" y="109"/>
                  </a:lnTo>
                  <a:lnTo>
                    <a:pt x="19" y="103"/>
                  </a:lnTo>
                  <a:lnTo>
                    <a:pt x="15" y="102"/>
                  </a:lnTo>
                  <a:lnTo>
                    <a:pt x="11" y="96"/>
                  </a:lnTo>
                  <a:lnTo>
                    <a:pt x="7" y="90"/>
                  </a:lnTo>
                  <a:lnTo>
                    <a:pt x="4" y="82"/>
                  </a:lnTo>
                  <a:lnTo>
                    <a:pt x="2" y="77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0" y="58"/>
                  </a:lnTo>
                  <a:lnTo>
                    <a:pt x="2" y="52"/>
                  </a:lnTo>
                  <a:lnTo>
                    <a:pt x="4" y="44"/>
                  </a:lnTo>
                  <a:lnTo>
                    <a:pt x="6" y="38"/>
                  </a:lnTo>
                  <a:lnTo>
                    <a:pt x="11" y="29"/>
                  </a:lnTo>
                  <a:lnTo>
                    <a:pt x="19" y="21"/>
                  </a:lnTo>
                  <a:lnTo>
                    <a:pt x="27" y="15"/>
                  </a:lnTo>
                  <a:lnTo>
                    <a:pt x="38" y="8"/>
                  </a:lnTo>
                  <a:lnTo>
                    <a:pt x="48" y="6"/>
                  </a:lnTo>
                  <a:lnTo>
                    <a:pt x="55" y="4"/>
                  </a:lnTo>
                  <a:lnTo>
                    <a:pt x="61" y="4"/>
                  </a:lnTo>
                  <a:lnTo>
                    <a:pt x="67" y="4"/>
                  </a:lnTo>
                  <a:lnTo>
                    <a:pt x="70" y="4"/>
                  </a:lnTo>
                  <a:lnTo>
                    <a:pt x="72" y="6"/>
                  </a:lnTo>
                  <a:lnTo>
                    <a:pt x="74" y="6"/>
                  </a:lnTo>
                  <a:lnTo>
                    <a:pt x="74" y="6"/>
                  </a:lnTo>
                  <a:lnTo>
                    <a:pt x="93" y="0"/>
                  </a:lnTo>
                  <a:lnTo>
                    <a:pt x="141" y="23"/>
                  </a:lnTo>
                  <a:lnTo>
                    <a:pt x="164" y="56"/>
                  </a:lnTo>
                  <a:lnTo>
                    <a:pt x="166" y="115"/>
                  </a:lnTo>
                  <a:lnTo>
                    <a:pt x="69" y="161"/>
                  </a:lnTo>
                  <a:lnTo>
                    <a:pt x="7" y="13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1092240" y="1793160"/>
              <a:ext cx="123840" cy="161640"/>
            </a:xfrm>
            <a:custGeom>
              <a:avLst/>
              <a:gdLst/>
              <a:ahLst/>
              <a:rect l="l" t="t" r="r" b="b"/>
              <a:pathLst>
                <a:path w="167" h="162">
                  <a:moveTo>
                    <a:pt x="7" y="132"/>
                  </a:moveTo>
                  <a:lnTo>
                    <a:pt x="7" y="126"/>
                  </a:lnTo>
                  <a:lnTo>
                    <a:pt x="9" y="119"/>
                  </a:lnTo>
                  <a:lnTo>
                    <a:pt x="13" y="109"/>
                  </a:lnTo>
                  <a:lnTo>
                    <a:pt x="19" y="103"/>
                  </a:lnTo>
                  <a:lnTo>
                    <a:pt x="15" y="102"/>
                  </a:lnTo>
                  <a:lnTo>
                    <a:pt x="11" y="96"/>
                  </a:lnTo>
                  <a:lnTo>
                    <a:pt x="7" y="90"/>
                  </a:lnTo>
                  <a:lnTo>
                    <a:pt x="4" y="82"/>
                  </a:lnTo>
                  <a:lnTo>
                    <a:pt x="2" y="77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0" y="58"/>
                  </a:lnTo>
                  <a:lnTo>
                    <a:pt x="2" y="52"/>
                  </a:lnTo>
                  <a:lnTo>
                    <a:pt x="4" y="44"/>
                  </a:lnTo>
                  <a:lnTo>
                    <a:pt x="6" y="38"/>
                  </a:lnTo>
                  <a:lnTo>
                    <a:pt x="11" y="29"/>
                  </a:lnTo>
                  <a:lnTo>
                    <a:pt x="19" y="21"/>
                  </a:lnTo>
                  <a:lnTo>
                    <a:pt x="27" y="15"/>
                  </a:lnTo>
                  <a:lnTo>
                    <a:pt x="38" y="8"/>
                  </a:lnTo>
                  <a:lnTo>
                    <a:pt x="48" y="6"/>
                  </a:lnTo>
                  <a:lnTo>
                    <a:pt x="55" y="4"/>
                  </a:lnTo>
                  <a:lnTo>
                    <a:pt x="61" y="4"/>
                  </a:lnTo>
                  <a:lnTo>
                    <a:pt x="67" y="4"/>
                  </a:lnTo>
                  <a:lnTo>
                    <a:pt x="70" y="4"/>
                  </a:lnTo>
                  <a:lnTo>
                    <a:pt x="72" y="6"/>
                  </a:lnTo>
                  <a:lnTo>
                    <a:pt x="74" y="6"/>
                  </a:lnTo>
                  <a:lnTo>
                    <a:pt x="74" y="6"/>
                  </a:lnTo>
                  <a:lnTo>
                    <a:pt x="93" y="0"/>
                  </a:lnTo>
                  <a:lnTo>
                    <a:pt x="141" y="23"/>
                  </a:lnTo>
                  <a:lnTo>
                    <a:pt x="164" y="56"/>
                  </a:lnTo>
                  <a:lnTo>
                    <a:pt x="166" y="115"/>
                  </a:lnTo>
                  <a:lnTo>
                    <a:pt x="69" y="161"/>
                  </a:lnTo>
                  <a:lnTo>
                    <a:pt x="7" y="13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1170000" y="1877400"/>
              <a:ext cx="99000" cy="104400"/>
            </a:xfrm>
            <a:custGeom>
              <a:avLst/>
              <a:gdLst/>
              <a:ahLst/>
              <a:rect l="l" t="t" r="r" b="b"/>
              <a:pathLst>
                <a:path w="134" h="105">
                  <a:moveTo>
                    <a:pt x="44" y="94"/>
                  </a:moveTo>
                  <a:lnTo>
                    <a:pt x="30" y="86"/>
                  </a:lnTo>
                  <a:lnTo>
                    <a:pt x="21" y="79"/>
                  </a:lnTo>
                  <a:lnTo>
                    <a:pt x="11" y="69"/>
                  </a:lnTo>
                  <a:lnTo>
                    <a:pt x="6" y="60"/>
                  </a:lnTo>
                  <a:lnTo>
                    <a:pt x="2" y="50"/>
                  </a:lnTo>
                  <a:lnTo>
                    <a:pt x="0" y="41"/>
                  </a:lnTo>
                  <a:lnTo>
                    <a:pt x="0" y="31"/>
                  </a:lnTo>
                  <a:lnTo>
                    <a:pt x="4" y="23"/>
                  </a:lnTo>
                  <a:lnTo>
                    <a:pt x="7" y="16"/>
                  </a:lnTo>
                  <a:lnTo>
                    <a:pt x="15" y="10"/>
                  </a:lnTo>
                  <a:lnTo>
                    <a:pt x="25" y="4"/>
                  </a:lnTo>
                  <a:lnTo>
                    <a:pt x="36" y="2"/>
                  </a:lnTo>
                  <a:lnTo>
                    <a:pt x="48" y="0"/>
                  </a:lnTo>
                  <a:lnTo>
                    <a:pt x="61" y="0"/>
                  </a:lnTo>
                  <a:lnTo>
                    <a:pt x="72" y="2"/>
                  </a:lnTo>
                  <a:lnTo>
                    <a:pt x="88" y="8"/>
                  </a:lnTo>
                  <a:lnTo>
                    <a:pt x="99" y="16"/>
                  </a:lnTo>
                  <a:lnTo>
                    <a:pt x="111" y="23"/>
                  </a:lnTo>
                  <a:lnTo>
                    <a:pt x="120" y="33"/>
                  </a:lnTo>
                  <a:lnTo>
                    <a:pt x="126" y="42"/>
                  </a:lnTo>
                  <a:lnTo>
                    <a:pt x="130" y="54"/>
                  </a:lnTo>
                  <a:lnTo>
                    <a:pt x="133" y="63"/>
                  </a:lnTo>
                  <a:lnTo>
                    <a:pt x="133" y="73"/>
                  </a:lnTo>
                  <a:lnTo>
                    <a:pt x="130" y="81"/>
                  </a:lnTo>
                  <a:lnTo>
                    <a:pt x="124" y="90"/>
                  </a:lnTo>
                  <a:lnTo>
                    <a:pt x="114" y="96"/>
                  </a:lnTo>
                  <a:lnTo>
                    <a:pt x="105" y="102"/>
                  </a:lnTo>
                  <a:lnTo>
                    <a:pt x="95" y="104"/>
                  </a:lnTo>
                  <a:lnTo>
                    <a:pt x="82" y="104"/>
                  </a:lnTo>
                  <a:lnTo>
                    <a:pt x="70" y="102"/>
                  </a:lnTo>
                  <a:lnTo>
                    <a:pt x="57" y="98"/>
                  </a:lnTo>
                  <a:lnTo>
                    <a:pt x="44" y="9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1107720" y="1799280"/>
              <a:ext cx="51840" cy="143280"/>
            </a:xfrm>
            <a:custGeom>
              <a:avLst/>
              <a:gdLst/>
              <a:ahLst/>
              <a:rect l="l" t="t" r="r" b="b"/>
              <a:pathLst>
                <a:path w="70" h="144">
                  <a:moveTo>
                    <a:pt x="53" y="0"/>
                  </a:moveTo>
                  <a:lnTo>
                    <a:pt x="0" y="21"/>
                  </a:lnTo>
                  <a:lnTo>
                    <a:pt x="44" y="44"/>
                  </a:lnTo>
                  <a:lnTo>
                    <a:pt x="65" y="82"/>
                  </a:lnTo>
                  <a:lnTo>
                    <a:pt x="69" y="14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 flipV="1">
              <a:off x="1145520" y="1816200"/>
              <a:ext cx="45000" cy="2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 flipV="1">
              <a:off x="1159560" y="1850760"/>
              <a:ext cx="51120" cy="2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1107720" y="1820160"/>
              <a:ext cx="504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1096560" y="1849320"/>
              <a:ext cx="216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1096560" y="1864080"/>
              <a:ext cx="3600" cy="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1193760" y="1980720"/>
              <a:ext cx="30240" cy="32760"/>
            </a:xfrm>
            <a:custGeom>
              <a:avLst/>
              <a:gdLst/>
              <a:ahLst/>
              <a:rect l="l" t="t" r="r" b="b"/>
              <a:pathLst>
                <a:path w="41" h="33">
                  <a:moveTo>
                    <a:pt x="14" y="0"/>
                  </a:moveTo>
                  <a:lnTo>
                    <a:pt x="6" y="0"/>
                  </a:lnTo>
                  <a:lnTo>
                    <a:pt x="0" y="9"/>
                  </a:lnTo>
                  <a:lnTo>
                    <a:pt x="10" y="15"/>
                  </a:lnTo>
                  <a:lnTo>
                    <a:pt x="12" y="28"/>
                  </a:lnTo>
                  <a:lnTo>
                    <a:pt x="17" y="32"/>
                  </a:lnTo>
                  <a:lnTo>
                    <a:pt x="23" y="23"/>
                  </a:lnTo>
                  <a:lnTo>
                    <a:pt x="40" y="17"/>
                  </a:lnTo>
                  <a:lnTo>
                    <a:pt x="40" y="13"/>
                  </a:lnTo>
                  <a:lnTo>
                    <a:pt x="38" y="7"/>
                  </a:lnTo>
                  <a:lnTo>
                    <a:pt x="19" y="9"/>
                  </a:lnTo>
                  <a:lnTo>
                    <a:pt x="14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1193760" y="1980720"/>
              <a:ext cx="30240" cy="32760"/>
            </a:xfrm>
            <a:custGeom>
              <a:avLst/>
              <a:gdLst/>
              <a:ahLst/>
              <a:rect l="l" t="t" r="r" b="b"/>
              <a:pathLst>
                <a:path w="41" h="33">
                  <a:moveTo>
                    <a:pt x="14" y="0"/>
                  </a:moveTo>
                  <a:lnTo>
                    <a:pt x="6" y="0"/>
                  </a:lnTo>
                  <a:lnTo>
                    <a:pt x="0" y="9"/>
                  </a:lnTo>
                  <a:lnTo>
                    <a:pt x="10" y="15"/>
                  </a:lnTo>
                  <a:lnTo>
                    <a:pt x="12" y="28"/>
                  </a:lnTo>
                  <a:lnTo>
                    <a:pt x="17" y="32"/>
                  </a:lnTo>
                  <a:lnTo>
                    <a:pt x="23" y="23"/>
                  </a:lnTo>
                  <a:lnTo>
                    <a:pt x="40" y="17"/>
                  </a:lnTo>
                  <a:lnTo>
                    <a:pt x="40" y="13"/>
                  </a:lnTo>
                  <a:lnTo>
                    <a:pt x="38" y="7"/>
                  </a:lnTo>
                  <a:lnTo>
                    <a:pt x="19" y="9"/>
                  </a:lnTo>
                  <a:lnTo>
                    <a:pt x="1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1198440" y="1980720"/>
              <a:ext cx="12600" cy="169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9"/>
                  </a:lnTo>
                  <a:lnTo>
                    <a:pt x="8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1204200" y="1989720"/>
              <a:ext cx="19800" cy="1692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5" y="0"/>
                  </a:moveTo>
                  <a:lnTo>
                    <a:pt x="0" y="0"/>
                  </a:lnTo>
                  <a:lnTo>
                    <a:pt x="5" y="16"/>
                  </a:lnTo>
                  <a:lnTo>
                    <a:pt x="26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1204200" y="1999800"/>
              <a:ext cx="21240" cy="3096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0" y="9"/>
                  </a:moveTo>
                  <a:lnTo>
                    <a:pt x="0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3" y="9"/>
                  </a:lnTo>
                  <a:lnTo>
                    <a:pt x="5" y="13"/>
                  </a:lnTo>
                  <a:lnTo>
                    <a:pt x="7" y="17"/>
                  </a:lnTo>
                  <a:lnTo>
                    <a:pt x="9" y="23"/>
                  </a:lnTo>
                  <a:lnTo>
                    <a:pt x="11" y="25"/>
                  </a:lnTo>
                  <a:lnTo>
                    <a:pt x="13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15" y="23"/>
                  </a:lnTo>
                  <a:lnTo>
                    <a:pt x="15" y="19"/>
                  </a:lnTo>
                  <a:lnTo>
                    <a:pt x="13" y="13"/>
                  </a:lnTo>
                  <a:lnTo>
                    <a:pt x="11" y="6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2"/>
                  </a:lnTo>
                  <a:lnTo>
                    <a:pt x="21" y="4"/>
                  </a:lnTo>
                  <a:lnTo>
                    <a:pt x="24" y="6"/>
                  </a:lnTo>
                  <a:lnTo>
                    <a:pt x="26" y="7"/>
                  </a:lnTo>
                  <a:lnTo>
                    <a:pt x="28" y="7"/>
                  </a:lnTo>
                  <a:lnTo>
                    <a:pt x="26" y="13"/>
                  </a:lnTo>
                  <a:lnTo>
                    <a:pt x="24" y="11"/>
                  </a:lnTo>
                  <a:lnTo>
                    <a:pt x="23" y="9"/>
                  </a:lnTo>
                  <a:lnTo>
                    <a:pt x="19" y="7"/>
                  </a:lnTo>
                  <a:lnTo>
                    <a:pt x="17" y="7"/>
                  </a:lnTo>
                  <a:lnTo>
                    <a:pt x="17" y="9"/>
                  </a:lnTo>
                  <a:lnTo>
                    <a:pt x="19" y="15"/>
                  </a:lnTo>
                  <a:lnTo>
                    <a:pt x="21" y="23"/>
                  </a:lnTo>
                  <a:lnTo>
                    <a:pt x="21" y="27"/>
                  </a:lnTo>
                  <a:lnTo>
                    <a:pt x="19" y="30"/>
                  </a:lnTo>
                  <a:lnTo>
                    <a:pt x="15" y="30"/>
                  </a:lnTo>
                  <a:lnTo>
                    <a:pt x="11" y="30"/>
                  </a:lnTo>
                  <a:lnTo>
                    <a:pt x="9" y="30"/>
                  </a:lnTo>
                  <a:lnTo>
                    <a:pt x="5" y="25"/>
                  </a:lnTo>
                  <a:lnTo>
                    <a:pt x="2" y="19"/>
                  </a:lnTo>
                  <a:lnTo>
                    <a:pt x="0" y="13"/>
                  </a:lnTo>
                  <a:lnTo>
                    <a:pt x="0" y="9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1204200" y="1999800"/>
              <a:ext cx="21240" cy="3096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0" y="9"/>
                  </a:moveTo>
                  <a:lnTo>
                    <a:pt x="0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3" y="9"/>
                  </a:lnTo>
                  <a:lnTo>
                    <a:pt x="5" y="13"/>
                  </a:lnTo>
                  <a:lnTo>
                    <a:pt x="7" y="17"/>
                  </a:lnTo>
                  <a:lnTo>
                    <a:pt x="9" y="23"/>
                  </a:lnTo>
                  <a:lnTo>
                    <a:pt x="11" y="25"/>
                  </a:lnTo>
                  <a:lnTo>
                    <a:pt x="13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15" y="23"/>
                  </a:lnTo>
                  <a:lnTo>
                    <a:pt x="15" y="19"/>
                  </a:lnTo>
                  <a:lnTo>
                    <a:pt x="13" y="13"/>
                  </a:lnTo>
                  <a:lnTo>
                    <a:pt x="11" y="6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2"/>
                  </a:lnTo>
                  <a:lnTo>
                    <a:pt x="21" y="4"/>
                  </a:lnTo>
                  <a:lnTo>
                    <a:pt x="24" y="6"/>
                  </a:lnTo>
                  <a:lnTo>
                    <a:pt x="26" y="7"/>
                  </a:lnTo>
                  <a:lnTo>
                    <a:pt x="28" y="7"/>
                  </a:lnTo>
                  <a:lnTo>
                    <a:pt x="26" y="13"/>
                  </a:lnTo>
                  <a:lnTo>
                    <a:pt x="24" y="11"/>
                  </a:lnTo>
                  <a:lnTo>
                    <a:pt x="23" y="9"/>
                  </a:lnTo>
                  <a:lnTo>
                    <a:pt x="19" y="7"/>
                  </a:lnTo>
                  <a:lnTo>
                    <a:pt x="17" y="7"/>
                  </a:lnTo>
                  <a:lnTo>
                    <a:pt x="17" y="9"/>
                  </a:lnTo>
                  <a:lnTo>
                    <a:pt x="19" y="15"/>
                  </a:lnTo>
                  <a:lnTo>
                    <a:pt x="21" y="23"/>
                  </a:lnTo>
                  <a:lnTo>
                    <a:pt x="21" y="27"/>
                  </a:lnTo>
                  <a:lnTo>
                    <a:pt x="19" y="30"/>
                  </a:lnTo>
                  <a:lnTo>
                    <a:pt x="15" y="30"/>
                  </a:lnTo>
                  <a:lnTo>
                    <a:pt x="11" y="30"/>
                  </a:lnTo>
                  <a:lnTo>
                    <a:pt x="9" y="30"/>
                  </a:lnTo>
                  <a:lnTo>
                    <a:pt x="5" y="25"/>
                  </a:lnTo>
                  <a:lnTo>
                    <a:pt x="2" y="19"/>
                  </a:lnTo>
                  <a:lnTo>
                    <a:pt x="0" y="13"/>
                  </a:lnTo>
                  <a:lnTo>
                    <a:pt x="0" y="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1219680" y="2003760"/>
              <a:ext cx="23040" cy="3060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2" y="9"/>
                  </a:moveTo>
                  <a:lnTo>
                    <a:pt x="2" y="9"/>
                  </a:lnTo>
                  <a:lnTo>
                    <a:pt x="0" y="5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2"/>
                  </a:lnTo>
                  <a:lnTo>
                    <a:pt x="28" y="21"/>
                  </a:lnTo>
                  <a:lnTo>
                    <a:pt x="30" y="23"/>
                  </a:lnTo>
                  <a:lnTo>
                    <a:pt x="30" y="24"/>
                  </a:lnTo>
                  <a:lnTo>
                    <a:pt x="30" y="26"/>
                  </a:lnTo>
                  <a:lnTo>
                    <a:pt x="28" y="28"/>
                  </a:lnTo>
                  <a:lnTo>
                    <a:pt x="28" y="30"/>
                  </a:lnTo>
                  <a:lnTo>
                    <a:pt x="24" y="30"/>
                  </a:lnTo>
                  <a:lnTo>
                    <a:pt x="23" y="30"/>
                  </a:lnTo>
                  <a:lnTo>
                    <a:pt x="21" y="28"/>
                  </a:lnTo>
                  <a:lnTo>
                    <a:pt x="2" y="9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1219680" y="2003760"/>
              <a:ext cx="23040" cy="3060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2" y="9"/>
                  </a:moveTo>
                  <a:lnTo>
                    <a:pt x="2" y="9"/>
                  </a:lnTo>
                  <a:lnTo>
                    <a:pt x="0" y="5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2"/>
                  </a:lnTo>
                  <a:lnTo>
                    <a:pt x="28" y="21"/>
                  </a:lnTo>
                  <a:lnTo>
                    <a:pt x="30" y="23"/>
                  </a:lnTo>
                  <a:lnTo>
                    <a:pt x="30" y="24"/>
                  </a:lnTo>
                  <a:lnTo>
                    <a:pt x="30" y="26"/>
                  </a:lnTo>
                  <a:lnTo>
                    <a:pt x="28" y="28"/>
                  </a:lnTo>
                  <a:lnTo>
                    <a:pt x="28" y="30"/>
                  </a:lnTo>
                  <a:lnTo>
                    <a:pt x="24" y="30"/>
                  </a:lnTo>
                  <a:lnTo>
                    <a:pt x="23" y="30"/>
                  </a:lnTo>
                  <a:lnTo>
                    <a:pt x="21" y="28"/>
                  </a:lnTo>
                  <a:lnTo>
                    <a:pt x="2" y="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1234080" y="2022840"/>
              <a:ext cx="12600" cy="169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3"/>
                  </a:moveTo>
                  <a:lnTo>
                    <a:pt x="16" y="3"/>
                  </a:lnTo>
                  <a:lnTo>
                    <a:pt x="12" y="0"/>
                  </a:lnTo>
                  <a:lnTo>
                    <a:pt x="7" y="0"/>
                  </a:lnTo>
                  <a:lnTo>
                    <a:pt x="3" y="3"/>
                  </a:lnTo>
                  <a:lnTo>
                    <a:pt x="3" y="7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1235520" y="2026800"/>
              <a:ext cx="12600" cy="169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11"/>
                  </a:moveTo>
                  <a:lnTo>
                    <a:pt x="16" y="6"/>
                  </a:lnTo>
                  <a:lnTo>
                    <a:pt x="16" y="6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0" y="6"/>
                  </a:lnTo>
                  <a:lnTo>
                    <a:pt x="0" y="11"/>
                  </a:lnTo>
                  <a:lnTo>
                    <a:pt x="3" y="11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2" y="1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1235520" y="2026800"/>
              <a:ext cx="12600" cy="169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11"/>
                  </a:moveTo>
                  <a:lnTo>
                    <a:pt x="16" y="6"/>
                  </a:lnTo>
                  <a:lnTo>
                    <a:pt x="16" y="6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0" y="6"/>
                  </a:lnTo>
                  <a:lnTo>
                    <a:pt x="0" y="11"/>
                  </a:lnTo>
                  <a:lnTo>
                    <a:pt x="3" y="11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2" y="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1215360" y="2005920"/>
              <a:ext cx="12600" cy="169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16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1202760" y="1997640"/>
              <a:ext cx="12600" cy="169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0" y="0"/>
                  </a:lnTo>
                  <a:lnTo>
                    <a:pt x="16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1179720" y="1826280"/>
              <a:ext cx="12600" cy="169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12" y="12"/>
                  </a:lnTo>
                  <a:lnTo>
                    <a:pt x="12" y="12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8" y="0"/>
                  </a:lnTo>
                  <a:lnTo>
                    <a:pt x="4" y="3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8" y="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1179720" y="1826280"/>
              <a:ext cx="12600" cy="169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6"/>
                  </a:moveTo>
                  <a:lnTo>
                    <a:pt x="12" y="12"/>
                  </a:lnTo>
                  <a:lnTo>
                    <a:pt x="12" y="12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8" y="0"/>
                  </a:lnTo>
                  <a:lnTo>
                    <a:pt x="4" y="3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8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1188720" y="1822320"/>
              <a:ext cx="12600" cy="169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16"/>
                  </a:moveTo>
                  <a:lnTo>
                    <a:pt x="11" y="14"/>
                  </a:lnTo>
                  <a:lnTo>
                    <a:pt x="11" y="14"/>
                  </a:lnTo>
                  <a:lnTo>
                    <a:pt x="16" y="10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6" y="0"/>
                  </a:lnTo>
                  <a:lnTo>
                    <a:pt x="4" y="3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4" y="14"/>
                  </a:lnTo>
                  <a:lnTo>
                    <a:pt x="6" y="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1188720" y="1822320"/>
              <a:ext cx="12600" cy="169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16"/>
                  </a:moveTo>
                  <a:lnTo>
                    <a:pt x="11" y="14"/>
                  </a:lnTo>
                  <a:lnTo>
                    <a:pt x="11" y="14"/>
                  </a:lnTo>
                  <a:lnTo>
                    <a:pt x="16" y="10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6" y="0"/>
                  </a:lnTo>
                  <a:lnTo>
                    <a:pt x="4" y="3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4" y="14"/>
                  </a:lnTo>
                  <a:lnTo>
                    <a:pt x="6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1116000" y="1810440"/>
              <a:ext cx="25200" cy="1692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33" y="4"/>
                  </a:moveTo>
                  <a:lnTo>
                    <a:pt x="27" y="0"/>
                  </a:lnTo>
                  <a:lnTo>
                    <a:pt x="0" y="12"/>
                  </a:lnTo>
                  <a:lnTo>
                    <a:pt x="8" y="16"/>
                  </a:lnTo>
                  <a:lnTo>
                    <a:pt x="33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1155960" y="1851120"/>
              <a:ext cx="31680" cy="23760"/>
            </a:xfrm>
            <a:custGeom>
              <a:avLst/>
              <a:gdLst/>
              <a:ahLst/>
              <a:rect l="l" t="t" r="r" b="b"/>
              <a:pathLst>
                <a:path w="43" h="24">
                  <a:moveTo>
                    <a:pt x="42" y="7"/>
                  </a:moveTo>
                  <a:lnTo>
                    <a:pt x="38" y="0"/>
                  </a:lnTo>
                  <a:lnTo>
                    <a:pt x="0" y="13"/>
                  </a:lnTo>
                  <a:lnTo>
                    <a:pt x="5" y="23"/>
                  </a:lnTo>
                  <a:lnTo>
                    <a:pt x="42" y="7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1155960" y="1851120"/>
              <a:ext cx="31680" cy="23760"/>
            </a:xfrm>
            <a:custGeom>
              <a:avLst/>
              <a:gdLst/>
              <a:ahLst/>
              <a:rect l="l" t="t" r="r" b="b"/>
              <a:pathLst>
                <a:path w="43" h="24">
                  <a:moveTo>
                    <a:pt x="42" y="7"/>
                  </a:moveTo>
                  <a:lnTo>
                    <a:pt x="38" y="0"/>
                  </a:lnTo>
                  <a:lnTo>
                    <a:pt x="0" y="13"/>
                  </a:lnTo>
                  <a:lnTo>
                    <a:pt x="5" y="23"/>
                  </a:lnTo>
                  <a:lnTo>
                    <a:pt x="42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1097280" y="1835280"/>
              <a:ext cx="60840" cy="157320"/>
            </a:xfrm>
            <a:custGeom>
              <a:avLst/>
              <a:gdLst/>
              <a:ahLst/>
              <a:rect l="l" t="t" r="r" b="b"/>
              <a:pathLst>
                <a:path w="82" h="158">
                  <a:moveTo>
                    <a:pt x="0" y="84"/>
                  </a:moveTo>
                  <a:lnTo>
                    <a:pt x="14" y="79"/>
                  </a:lnTo>
                  <a:lnTo>
                    <a:pt x="6" y="2"/>
                  </a:lnTo>
                  <a:lnTo>
                    <a:pt x="10" y="0"/>
                  </a:lnTo>
                  <a:lnTo>
                    <a:pt x="77" y="60"/>
                  </a:lnTo>
                  <a:lnTo>
                    <a:pt x="77" y="79"/>
                  </a:lnTo>
                  <a:lnTo>
                    <a:pt x="65" y="83"/>
                  </a:lnTo>
                  <a:lnTo>
                    <a:pt x="67" y="92"/>
                  </a:lnTo>
                  <a:lnTo>
                    <a:pt x="75" y="96"/>
                  </a:lnTo>
                  <a:lnTo>
                    <a:pt x="81" y="148"/>
                  </a:lnTo>
                  <a:lnTo>
                    <a:pt x="69" y="157"/>
                  </a:lnTo>
                  <a:lnTo>
                    <a:pt x="0" y="84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1097280" y="1835280"/>
              <a:ext cx="60840" cy="157320"/>
            </a:xfrm>
            <a:custGeom>
              <a:avLst/>
              <a:gdLst/>
              <a:ahLst/>
              <a:rect l="l" t="t" r="r" b="b"/>
              <a:pathLst>
                <a:path w="82" h="158">
                  <a:moveTo>
                    <a:pt x="0" y="84"/>
                  </a:moveTo>
                  <a:lnTo>
                    <a:pt x="14" y="79"/>
                  </a:lnTo>
                  <a:lnTo>
                    <a:pt x="6" y="2"/>
                  </a:lnTo>
                  <a:lnTo>
                    <a:pt x="10" y="0"/>
                  </a:lnTo>
                  <a:lnTo>
                    <a:pt x="77" y="60"/>
                  </a:lnTo>
                  <a:lnTo>
                    <a:pt x="77" y="79"/>
                  </a:lnTo>
                  <a:lnTo>
                    <a:pt x="65" y="83"/>
                  </a:lnTo>
                  <a:lnTo>
                    <a:pt x="67" y="92"/>
                  </a:lnTo>
                  <a:lnTo>
                    <a:pt x="75" y="96"/>
                  </a:lnTo>
                  <a:lnTo>
                    <a:pt x="81" y="148"/>
                  </a:lnTo>
                  <a:lnTo>
                    <a:pt x="69" y="157"/>
                  </a:lnTo>
                  <a:lnTo>
                    <a:pt x="0" y="8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922320" y="1920960"/>
              <a:ext cx="226800" cy="180360"/>
            </a:xfrm>
            <a:custGeom>
              <a:avLst/>
              <a:gdLst/>
              <a:ahLst/>
              <a:rect l="l" t="t" r="r" b="b"/>
              <a:pathLst>
                <a:path w="306" h="181">
                  <a:moveTo>
                    <a:pt x="0" y="102"/>
                  </a:moveTo>
                  <a:lnTo>
                    <a:pt x="61" y="180"/>
                  </a:lnTo>
                  <a:lnTo>
                    <a:pt x="305" y="71"/>
                  </a:lnTo>
                  <a:lnTo>
                    <a:pt x="238" y="0"/>
                  </a:lnTo>
                  <a:lnTo>
                    <a:pt x="0" y="10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922320" y="1920960"/>
              <a:ext cx="226800" cy="180360"/>
            </a:xfrm>
            <a:custGeom>
              <a:avLst/>
              <a:gdLst/>
              <a:ahLst/>
              <a:rect l="l" t="t" r="r" b="b"/>
              <a:pathLst>
                <a:path w="306" h="181">
                  <a:moveTo>
                    <a:pt x="0" y="102"/>
                  </a:moveTo>
                  <a:lnTo>
                    <a:pt x="61" y="180"/>
                  </a:lnTo>
                  <a:lnTo>
                    <a:pt x="305" y="71"/>
                  </a:lnTo>
                  <a:lnTo>
                    <a:pt x="238" y="0"/>
                  </a:lnTo>
                  <a:lnTo>
                    <a:pt x="0" y="10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923760" y="1918080"/>
              <a:ext cx="225360" cy="179280"/>
            </a:xfrm>
            <a:custGeom>
              <a:avLst/>
              <a:gdLst/>
              <a:ahLst/>
              <a:rect l="l" t="t" r="r" b="b"/>
              <a:pathLst>
                <a:path w="304" h="180">
                  <a:moveTo>
                    <a:pt x="0" y="101"/>
                  </a:moveTo>
                  <a:lnTo>
                    <a:pt x="61" y="179"/>
                  </a:lnTo>
                  <a:lnTo>
                    <a:pt x="303" y="70"/>
                  </a:lnTo>
                  <a:lnTo>
                    <a:pt x="238" y="0"/>
                  </a:lnTo>
                  <a:lnTo>
                    <a:pt x="0" y="10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1107720" y="1914120"/>
              <a:ext cx="46080" cy="72720"/>
            </a:xfrm>
            <a:custGeom>
              <a:avLst/>
              <a:gdLst/>
              <a:ahLst/>
              <a:rect l="l" t="t" r="r" b="b"/>
              <a:pathLst>
                <a:path w="62" h="73">
                  <a:moveTo>
                    <a:pt x="0" y="0"/>
                  </a:moveTo>
                  <a:lnTo>
                    <a:pt x="53" y="13"/>
                  </a:lnTo>
                  <a:lnTo>
                    <a:pt x="46" y="17"/>
                  </a:lnTo>
                  <a:lnTo>
                    <a:pt x="55" y="21"/>
                  </a:lnTo>
                  <a:lnTo>
                    <a:pt x="61" y="7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1101960" y="1837080"/>
              <a:ext cx="48960" cy="77760"/>
            </a:xfrm>
            <a:custGeom>
              <a:avLst/>
              <a:gdLst/>
              <a:ahLst/>
              <a:rect l="l" t="t" r="r" b="b"/>
              <a:pathLst>
                <a:path w="66" h="78">
                  <a:moveTo>
                    <a:pt x="0" y="0"/>
                  </a:moveTo>
                  <a:lnTo>
                    <a:pt x="65" y="59"/>
                  </a:lnTo>
                  <a:lnTo>
                    <a:pt x="65" y="7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 flipV="1">
              <a:off x="1175400" y="1785960"/>
              <a:ext cx="2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1207800" y="1826280"/>
              <a:ext cx="12600" cy="169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8" y="16"/>
                  </a:lnTo>
                  <a:lnTo>
                    <a:pt x="16" y="1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1209240" y="1831320"/>
              <a:ext cx="4320" cy="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 flipV="1">
              <a:off x="1150200" y="1894680"/>
              <a:ext cx="43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 flipH="1">
              <a:off x="1148760" y="1931040"/>
              <a:ext cx="4320" cy="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1101960" y="1918080"/>
              <a:ext cx="3996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1178280" y="1960200"/>
              <a:ext cx="19080" cy="2664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10" y="0"/>
                  </a:lnTo>
                  <a:lnTo>
                    <a:pt x="25" y="24"/>
                  </a:lnTo>
                  <a:lnTo>
                    <a:pt x="23" y="26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1207800" y="2001960"/>
              <a:ext cx="12600" cy="237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16" y="21"/>
                  </a:moveTo>
                  <a:lnTo>
                    <a:pt x="16" y="23"/>
                  </a:lnTo>
                  <a:lnTo>
                    <a:pt x="16" y="23"/>
                  </a:lnTo>
                  <a:lnTo>
                    <a:pt x="12" y="23"/>
                  </a:lnTo>
                  <a:lnTo>
                    <a:pt x="9" y="23"/>
                  </a:lnTo>
                  <a:lnTo>
                    <a:pt x="6" y="21"/>
                  </a:lnTo>
                  <a:lnTo>
                    <a:pt x="3" y="17"/>
                  </a:lnTo>
                  <a:lnTo>
                    <a:pt x="3" y="13"/>
                  </a:lnTo>
                  <a:lnTo>
                    <a:pt x="0" y="9"/>
                  </a:lnTo>
                  <a:lnTo>
                    <a:pt x="6" y="2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4"/>
                  </a:lnTo>
                  <a:lnTo>
                    <a:pt x="12" y="11"/>
                  </a:lnTo>
                  <a:lnTo>
                    <a:pt x="16" y="17"/>
                  </a:lnTo>
                  <a:lnTo>
                    <a:pt x="16" y="2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1213920" y="1852200"/>
              <a:ext cx="12960" cy="1692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16"/>
                  </a:moveTo>
                  <a:lnTo>
                    <a:pt x="0" y="6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7" y="8"/>
                  </a:lnTo>
                  <a:lnTo>
                    <a:pt x="0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1171440" y="1914120"/>
              <a:ext cx="81360" cy="61560"/>
            </a:xfrm>
            <a:custGeom>
              <a:avLst/>
              <a:gdLst/>
              <a:ahLst/>
              <a:rect l="l" t="t" r="r" b="b"/>
              <a:pathLst>
                <a:path w="110" h="62">
                  <a:moveTo>
                    <a:pt x="0" y="0"/>
                  </a:moveTo>
                  <a:lnTo>
                    <a:pt x="0" y="4"/>
                  </a:lnTo>
                  <a:lnTo>
                    <a:pt x="2" y="7"/>
                  </a:lnTo>
                  <a:lnTo>
                    <a:pt x="5" y="15"/>
                  </a:lnTo>
                  <a:lnTo>
                    <a:pt x="9" y="23"/>
                  </a:lnTo>
                  <a:lnTo>
                    <a:pt x="17" y="32"/>
                  </a:lnTo>
                  <a:lnTo>
                    <a:pt x="26" y="40"/>
                  </a:lnTo>
                  <a:lnTo>
                    <a:pt x="40" y="49"/>
                  </a:lnTo>
                  <a:lnTo>
                    <a:pt x="57" y="57"/>
                  </a:lnTo>
                  <a:lnTo>
                    <a:pt x="65" y="59"/>
                  </a:lnTo>
                  <a:lnTo>
                    <a:pt x="72" y="61"/>
                  </a:lnTo>
                  <a:lnTo>
                    <a:pt x="80" y="61"/>
                  </a:lnTo>
                  <a:lnTo>
                    <a:pt x="88" y="61"/>
                  </a:lnTo>
                  <a:lnTo>
                    <a:pt x="95" y="61"/>
                  </a:lnTo>
                  <a:lnTo>
                    <a:pt x="103" y="61"/>
                  </a:lnTo>
                  <a:lnTo>
                    <a:pt x="107" y="61"/>
                  </a:lnTo>
                  <a:lnTo>
                    <a:pt x="109" y="6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1181160" y="1887120"/>
              <a:ext cx="83160" cy="59400"/>
            </a:xfrm>
            <a:custGeom>
              <a:avLst/>
              <a:gdLst/>
              <a:ahLst/>
              <a:rect l="l" t="t" r="r" b="b"/>
              <a:pathLst>
                <a:path w="112" h="60">
                  <a:moveTo>
                    <a:pt x="0" y="4"/>
                  </a:moveTo>
                  <a:lnTo>
                    <a:pt x="2" y="4"/>
                  </a:lnTo>
                  <a:lnTo>
                    <a:pt x="6" y="2"/>
                  </a:lnTo>
                  <a:lnTo>
                    <a:pt x="12" y="2"/>
                  </a:lnTo>
                  <a:lnTo>
                    <a:pt x="21" y="0"/>
                  </a:lnTo>
                  <a:lnTo>
                    <a:pt x="31" y="0"/>
                  </a:lnTo>
                  <a:lnTo>
                    <a:pt x="42" y="2"/>
                  </a:lnTo>
                  <a:lnTo>
                    <a:pt x="55" y="4"/>
                  </a:lnTo>
                  <a:lnTo>
                    <a:pt x="69" y="8"/>
                  </a:lnTo>
                  <a:lnTo>
                    <a:pt x="80" y="15"/>
                  </a:lnTo>
                  <a:lnTo>
                    <a:pt x="90" y="23"/>
                  </a:lnTo>
                  <a:lnTo>
                    <a:pt x="97" y="32"/>
                  </a:lnTo>
                  <a:lnTo>
                    <a:pt x="103" y="40"/>
                  </a:lnTo>
                  <a:lnTo>
                    <a:pt x="107" y="48"/>
                  </a:lnTo>
                  <a:lnTo>
                    <a:pt x="109" y="53"/>
                  </a:lnTo>
                  <a:lnTo>
                    <a:pt x="111" y="59"/>
                  </a:lnTo>
                  <a:lnTo>
                    <a:pt x="111" y="5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1360800" y="1843200"/>
              <a:ext cx="8640" cy="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1378080" y="1818360"/>
              <a:ext cx="8640" cy="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1345320" y="1824480"/>
              <a:ext cx="8640" cy="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1362600" y="1801440"/>
              <a:ext cx="864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1331280" y="1808280"/>
              <a:ext cx="7560" cy="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1348200" y="1784520"/>
              <a:ext cx="720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1317240" y="1791360"/>
              <a:ext cx="720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1317240" y="1872360"/>
              <a:ext cx="7200" cy="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1276200" y="1879200"/>
              <a:ext cx="7920" cy="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1299960" y="1852200"/>
              <a:ext cx="720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1285920" y="1835280"/>
              <a:ext cx="7200" cy="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1273320" y="1818360"/>
              <a:ext cx="5760" cy="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 flipV="1">
              <a:off x="1339920" y="1807920"/>
              <a:ext cx="73440" cy="4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 flipV="1">
              <a:off x="1331280" y="1801080"/>
              <a:ext cx="75600" cy="4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 flipV="1">
              <a:off x="1324440" y="1792800"/>
              <a:ext cx="73080" cy="4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 flipV="1">
              <a:off x="1317240" y="1784160"/>
              <a:ext cx="72720" cy="4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 flipV="1">
              <a:off x="1310400" y="1775880"/>
              <a:ext cx="70200" cy="4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 flipV="1">
              <a:off x="1303200" y="1768320"/>
              <a:ext cx="69480" cy="4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1296360" y="1805400"/>
              <a:ext cx="51840" cy="6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1290240" y="1808280"/>
              <a:ext cx="52560" cy="5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1219680" y="1851120"/>
              <a:ext cx="12600" cy="169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16"/>
                  </a:lnTo>
                  <a:lnTo>
                    <a:pt x="0" y="0"/>
                  </a:lnTo>
                  <a:lnTo>
                    <a:pt x="16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1263600" y="1860120"/>
              <a:ext cx="6480" cy="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1251000" y="1843200"/>
              <a:ext cx="6480" cy="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 flipV="1">
              <a:off x="1246680" y="1841400"/>
              <a:ext cx="72000" cy="4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 flipV="1">
              <a:off x="1239120" y="1830960"/>
              <a:ext cx="70920" cy="4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 flipV="1">
              <a:off x="1232640" y="1824480"/>
              <a:ext cx="70200" cy="4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 flipV="1">
              <a:off x="1225080" y="1814400"/>
              <a:ext cx="70920" cy="4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 flipV="1">
              <a:off x="1260720" y="1857960"/>
              <a:ext cx="73080" cy="4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 flipV="1">
              <a:off x="1253160" y="1848960"/>
              <a:ext cx="72720" cy="4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1058040" y="1968840"/>
              <a:ext cx="7200" cy="1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1045440" y="1947960"/>
              <a:ext cx="5040" cy="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1020240" y="2050560"/>
              <a:ext cx="5040" cy="1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986040" y="2056680"/>
              <a:ext cx="5040" cy="1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1008360" y="2027880"/>
              <a:ext cx="5760" cy="1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974160" y="2031840"/>
              <a:ext cx="5760" cy="1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995400" y="2003760"/>
              <a:ext cx="5760" cy="1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963000" y="2007000"/>
              <a:ext cx="5760" cy="1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986040" y="1982880"/>
              <a:ext cx="3600" cy="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 flipV="1">
              <a:off x="961200" y="2031480"/>
              <a:ext cx="93600" cy="5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V="1">
              <a:off x="956160" y="2021040"/>
              <a:ext cx="90360" cy="5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 flipV="1">
              <a:off x="948600" y="2006640"/>
              <a:ext cx="90360" cy="5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 flipV="1">
              <a:off x="942120" y="1997280"/>
              <a:ext cx="90360" cy="5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 flipV="1">
              <a:off x="934920" y="1985760"/>
              <a:ext cx="90360" cy="5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 flipV="1">
              <a:off x="928800" y="1974600"/>
              <a:ext cx="89640" cy="5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1020240" y="1963080"/>
              <a:ext cx="47160" cy="7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1014120" y="1967040"/>
              <a:ext cx="46440" cy="7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1083240" y="2014920"/>
              <a:ext cx="5760" cy="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1106280" y="1985760"/>
              <a:ext cx="5760" cy="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1070640" y="1991880"/>
              <a:ext cx="7200" cy="1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1092240" y="1963080"/>
              <a:ext cx="5040" cy="1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1078200" y="1941840"/>
              <a:ext cx="6480" cy="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 flipV="1">
              <a:off x="1060920" y="1978920"/>
              <a:ext cx="7920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 flipV="1">
              <a:off x="1056600" y="1968480"/>
              <a:ext cx="76320" cy="4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 flipV="1">
              <a:off x="1048320" y="1959840"/>
              <a:ext cx="77760" cy="4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 flipV="1">
              <a:off x="1039320" y="1947600"/>
              <a:ext cx="77760" cy="4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 flipV="1">
              <a:off x="1032840" y="1936440"/>
              <a:ext cx="77760" cy="4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 flipV="1">
              <a:off x="1025280" y="1926720"/>
              <a:ext cx="77760" cy="4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923760" y="1918080"/>
              <a:ext cx="225360" cy="179280"/>
            </a:xfrm>
            <a:custGeom>
              <a:avLst/>
              <a:gdLst/>
              <a:ahLst/>
              <a:rect l="l" t="t" r="r" b="b"/>
              <a:pathLst>
                <a:path w="304" h="180">
                  <a:moveTo>
                    <a:pt x="0" y="101"/>
                  </a:moveTo>
                  <a:lnTo>
                    <a:pt x="61" y="179"/>
                  </a:lnTo>
                  <a:lnTo>
                    <a:pt x="303" y="70"/>
                  </a:lnTo>
                  <a:lnTo>
                    <a:pt x="238" y="0"/>
                  </a:lnTo>
                  <a:lnTo>
                    <a:pt x="0" y="10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922320" y="1763640"/>
              <a:ext cx="503280" cy="338040"/>
            </a:xfrm>
            <a:custGeom>
              <a:avLst/>
              <a:gdLst/>
              <a:ahLst/>
              <a:rect l="l" t="t" r="r" b="b"/>
              <a:pathLst>
                <a:path w="678" h="339">
                  <a:moveTo>
                    <a:pt x="469" y="155"/>
                  </a:moveTo>
                  <a:lnTo>
                    <a:pt x="677" y="59"/>
                  </a:lnTo>
                  <a:lnTo>
                    <a:pt x="674" y="57"/>
                  </a:lnTo>
                  <a:lnTo>
                    <a:pt x="677" y="55"/>
                  </a:lnTo>
                  <a:lnTo>
                    <a:pt x="601" y="0"/>
                  </a:lnTo>
                  <a:lnTo>
                    <a:pt x="401" y="86"/>
                  </a:lnTo>
                  <a:lnTo>
                    <a:pt x="399" y="70"/>
                  </a:lnTo>
                  <a:lnTo>
                    <a:pt x="389" y="67"/>
                  </a:lnTo>
                  <a:lnTo>
                    <a:pt x="389" y="59"/>
                  </a:lnTo>
                  <a:lnTo>
                    <a:pt x="380" y="51"/>
                  </a:lnTo>
                  <a:lnTo>
                    <a:pt x="378" y="51"/>
                  </a:lnTo>
                  <a:lnTo>
                    <a:pt x="372" y="59"/>
                  </a:lnTo>
                  <a:lnTo>
                    <a:pt x="370" y="53"/>
                  </a:lnTo>
                  <a:lnTo>
                    <a:pt x="347" y="42"/>
                  </a:lnTo>
                  <a:lnTo>
                    <a:pt x="345" y="23"/>
                  </a:lnTo>
                  <a:lnTo>
                    <a:pt x="332" y="13"/>
                  </a:lnTo>
                  <a:lnTo>
                    <a:pt x="326" y="15"/>
                  </a:lnTo>
                  <a:lnTo>
                    <a:pt x="326" y="32"/>
                  </a:lnTo>
                  <a:lnTo>
                    <a:pt x="322" y="30"/>
                  </a:lnTo>
                  <a:lnTo>
                    <a:pt x="303" y="36"/>
                  </a:lnTo>
                  <a:lnTo>
                    <a:pt x="303" y="36"/>
                  </a:lnTo>
                  <a:lnTo>
                    <a:pt x="301" y="36"/>
                  </a:lnTo>
                  <a:lnTo>
                    <a:pt x="299" y="34"/>
                  </a:lnTo>
                  <a:lnTo>
                    <a:pt x="296" y="34"/>
                  </a:lnTo>
                  <a:lnTo>
                    <a:pt x="290" y="34"/>
                  </a:lnTo>
                  <a:lnTo>
                    <a:pt x="284" y="34"/>
                  </a:lnTo>
                  <a:lnTo>
                    <a:pt x="277" y="36"/>
                  </a:lnTo>
                  <a:lnTo>
                    <a:pt x="267" y="38"/>
                  </a:lnTo>
                  <a:lnTo>
                    <a:pt x="256" y="45"/>
                  </a:lnTo>
                  <a:lnTo>
                    <a:pt x="248" y="51"/>
                  </a:lnTo>
                  <a:lnTo>
                    <a:pt x="240" y="59"/>
                  </a:lnTo>
                  <a:lnTo>
                    <a:pt x="235" y="68"/>
                  </a:lnTo>
                  <a:lnTo>
                    <a:pt x="233" y="74"/>
                  </a:lnTo>
                  <a:lnTo>
                    <a:pt x="231" y="82"/>
                  </a:lnTo>
                  <a:lnTo>
                    <a:pt x="229" y="88"/>
                  </a:lnTo>
                  <a:lnTo>
                    <a:pt x="229" y="91"/>
                  </a:lnTo>
                  <a:lnTo>
                    <a:pt x="229" y="95"/>
                  </a:lnTo>
                  <a:lnTo>
                    <a:pt x="229" y="101"/>
                  </a:lnTo>
                  <a:lnTo>
                    <a:pt x="231" y="107"/>
                  </a:lnTo>
                  <a:lnTo>
                    <a:pt x="233" y="112"/>
                  </a:lnTo>
                  <a:lnTo>
                    <a:pt x="236" y="120"/>
                  </a:lnTo>
                  <a:lnTo>
                    <a:pt x="240" y="126"/>
                  </a:lnTo>
                  <a:lnTo>
                    <a:pt x="244" y="132"/>
                  </a:lnTo>
                  <a:lnTo>
                    <a:pt x="248" y="133"/>
                  </a:lnTo>
                  <a:lnTo>
                    <a:pt x="242" y="137"/>
                  </a:lnTo>
                  <a:lnTo>
                    <a:pt x="240" y="143"/>
                  </a:lnTo>
                  <a:lnTo>
                    <a:pt x="236" y="149"/>
                  </a:lnTo>
                  <a:lnTo>
                    <a:pt x="236" y="156"/>
                  </a:lnTo>
                  <a:lnTo>
                    <a:pt x="2" y="256"/>
                  </a:lnTo>
                  <a:lnTo>
                    <a:pt x="4" y="258"/>
                  </a:lnTo>
                  <a:lnTo>
                    <a:pt x="0" y="260"/>
                  </a:lnTo>
                  <a:lnTo>
                    <a:pt x="61" y="338"/>
                  </a:lnTo>
                  <a:lnTo>
                    <a:pt x="305" y="229"/>
                  </a:lnTo>
                  <a:lnTo>
                    <a:pt x="303" y="225"/>
                  </a:lnTo>
                  <a:lnTo>
                    <a:pt x="305" y="229"/>
                  </a:lnTo>
                  <a:lnTo>
                    <a:pt x="315" y="221"/>
                  </a:lnTo>
                  <a:lnTo>
                    <a:pt x="319" y="227"/>
                  </a:lnTo>
                  <a:lnTo>
                    <a:pt x="319" y="223"/>
                  </a:lnTo>
                  <a:lnTo>
                    <a:pt x="320" y="221"/>
                  </a:lnTo>
                  <a:lnTo>
                    <a:pt x="322" y="218"/>
                  </a:lnTo>
                  <a:lnTo>
                    <a:pt x="326" y="214"/>
                  </a:lnTo>
                  <a:lnTo>
                    <a:pt x="328" y="210"/>
                  </a:lnTo>
                  <a:lnTo>
                    <a:pt x="332" y="206"/>
                  </a:lnTo>
                  <a:lnTo>
                    <a:pt x="336" y="204"/>
                  </a:lnTo>
                  <a:lnTo>
                    <a:pt x="340" y="200"/>
                  </a:lnTo>
                  <a:lnTo>
                    <a:pt x="366" y="225"/>
                  </a:lnTo>
                  <a:lnTo>
                    <a:pt x="366" y="227"/>
                  </a:lnTo>
                  <a:lnTo>
                    <a:pt x="376" y="233"/>
                  </a:lnTo>
                  <a:lnTo>
                    <a:pt x="378" y="246"/>
                  </a:lnTo>
                  <a:lnTo>
                    <a:pt x="380" y="248"/>
                  </a:lnTo>
                  <a:lnTo>
                    <a:pt x="380" y="252"/>
                  </a:lnTo>
                  <a:lnTo>
                    <a:pt x="383" y="258"/>
                  </a:lnTo>
                  <a:lnTo>
                    <a:pt x="385" y="262"/>
                  </a:lnTo>
                  <a:lnTo>
                    <a:pt x="389" y="267"/>
                  </a:lnTo>
                  <a:lnTo>
                    <a:pt x="391" y="267"/>
                  </a:lnTo>
                  <a:lnTo>
                    <a:pt x="395" y="267"/>
                  </a:lnTo>
                  <a:lnTo>
                    <a:pt x="399" y="267"/>
                  </a:lnTo>
                  <a:lnTo>
                    <a:pt x="401" y="264"/>
                  </a:lnTo>
                  <a:lnTo>
                    <a:pt x="401" y="260"/>
                  </a:lnTo>
                  <a:lnTo>
                    <a:pt x="399" y="252"/>
                  </a:lnTo>
                  <a:lnTo>
                    <a:pt x="397" y="246"/>
                  </a:lnTo>
                  <a:lnTo>
                    <a:pt x="397" y="244"/>
                  </a:lnTo>
                  <a:lnTo>
                    <a:pt x="399" y="244"/>
                  </a:lnTo>
                  <a:lnTo>
                    <a:pt x="399" y="244"/>
                  </a:lnTo>
                  <a:lnTo>
                    <a:pt x="401" y="244"/>
                  </a:lnTo>
                  <a:lnTo>
                    <a:pt x="401" y="246"/>
                  </a:lnTo>
                  <a:lnTo>
                    <a:pt x="401" y="246"/>
                  </a:lnTo>
                  <a:lnTo>
                    <a:pt x="401" y="248"/>
                  </a:lnTo>
                  <a:lnTo>
                    <a:pt x="403" y="250"/>
                  </a:lnTo>
                  <a:lnTo>
                    <a:pt x="403" y="250"/>
                  </a:lnTo>
                  <a:lnTo>
                    <a:pt x="422" y="269"/>
                  </a:lnTo>
                  <a:lnTo>
                    <a:pt x="424" y="271"/>
                  </a:lnTo>
                  <a:lnTo>
                    <a:pt x="425" y="271"/>
                  </a:lnTo>
                  <a:lnTo>
                    <a:pt x="429" y="271"/>
                  </a:lnTo>
                  <a:lnTo>
                    <a:pt x="429" y="269"/>
                  </a:lnTo>
                  <a:lnTo>
                    <a:pt x="431" y="267"/>
                  </a:lnTo>
                  <a:lnTo>
                    <a:pt x="431" y="265"/>
                  </a:lnTo>
                  <a:lnTo>
                    <a:pt x="431" y="264"/>
                  </a:lnTo>
                  <a:lnTo>
                    <a:pt x="429" y="262"/>
                  </a:lnTo>
                  <a:lnTo>
                    <a:pt x="429" y="262"/>
                  </a:lnTo>
                  <a:lnTo>
                    <a:pt x="429" y="262"/>
                  </a:lnTo>
                  <a:lnTo>
                    <a:pt x="429" y="262"/>
                  </a:lnTo>
                  <a:lnTo>
                    <a:pt x="412" y="243"/>
                  </a:lnTo>
                  <a:lnTo>
                    <a:pt x="410" y="243"/>
                  </a:lnTo>
                  <a:lnTo>
                    <a:pt x="408" y="241"/>
                  </a:lnTo>
                  <a:lnTo>
                    <a:pt x="406" y="241"/>
                  </a:lnTo>
                  <a:lnTo>
                    <a:pt x="404" y="243"/>
                  </a:lnTo>
                  <a:lnTo>
                    <a:pt x="403" y="241"/>
                  </a:lnTo>
                  <a:lnTo>
                    <a:pt x="401" y="239"/>
                  </a:lnTo>
                  <a:lnTo>
                    <a:pt x="399" y="239"/>
                  </a:lnTo>
                  <a:lnTo>
                    <a:pt x="397" y="239"/>
                  </a:lnTo>
                  <a:lnTo>
                    <a:pt x="397" y="239"/>
                  </a:lnTo>
                  <a:lnTo>
                    <a:pt x="406" y="235"/>
                  </a:lnTo>
                  <a:lnTo>
                    <a:pt x="406" y="231"/>
                  </a:lnTo>
                  <a:lnTo>
                    <a:pt x="404" y="225"/>
                  </a:lnTo>
                  <a:lnTo>
                    <a:pt x="385" y="227"/>
                  </a:lnTo>
                  <a:lnTo>
                    <a:pt x="380" y="218"/>
                  </a:lnTo>
                  <a:lnTo>
                    <a:pt x="374" y="218"/>
                  </a:lnTo>
                  <a:lnTo>
                    <a:pt x="362" y="199"/>
                  </a:lnTo>
                  <a:lnTo>
                    <a:pt x="364" y="200"/>
                  </a:lnTo>
                  <a:lnTo>
                    <a:pt x="370" y="202"/>
                  </a:lnTo>
                  <a:lnTo>
                    <a:pt x="374" y="206"/>
                  </a:lnTo>
                  <a:lnTo>
                    <a:pt x="378" y="208"/>
                  </a:lnTo>
                  <a:lnTo>
                    <a:pt x="391" y="212"/>
                  </a:lnTo>
                  <a:lnTo>
                    <a:pt x="404" y="216"/>
                  </a:lnTo>
                  <a:lnTo>
                    <a:pt x="416" y="218"/>
                  </a:lnTo>
                  <a:lnTo>
                    <a:pt x="429" y="218"/>
                  </a:lnTo>
                  <a:lnTo>
                    <a:pt x="439" y="216"/>
                  </a:lnTo>
                  <a:lnTo>
                    <a:pt x="448" y="210"/>
                  </a:lnTo>
                  <a:lnTo>
                    <a:pt x="458" y="204"/>
                  </a:lnTo>
                  <a:lnTo>
                    <a:pt x="464" y="195"/>
                  </a:lnTo>
                  <a:lnTo>
                    <a:pt x="466" y="189"/>
                  </a:lnTo>
                  <a:lnTo>
                    <a:pt x="467" y="181"/>
                  </a:lnTo>
                  <a:lnTo>
                    <a:pt x="466" y="174"/>
                  </a:lnTo>
                  <a:lnTo>
                    <a:pt x="464" y="166"/>
                  </a:lnTo>
                  <a:lnTo>
                    <a:pt x="460" y="158"/>
                  </a:lnTo>
                  <a:lnTo>
                    <a:pt x="456" y="151"/>
                  </a:lnTo>
                  <a:lnTo>
                    <a:pt x="450" y="143"/>
                  </a:lnTo>
                  <a:lnTo>
                    <a:pt x="443" y="135"/>
                  </a:lnTo>
                  <a:lnTo>
                    <a:pt x="446" y="133"/>
                  </a:lnTo>
                  <a:lnTo>
                    <a:pt x="469" y="15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1170000" y="1877400"/>
              <a:ext cx="99000" cy="104400"/>
            </a:xfrm>
            <a:custGeom>
              <a:avLst/>
              <a:gdLst/>
              <a:ahLst/>
              <a:rect l="l" t="t" r="r" b="b"/>
              <a:pathLst>
                <a:path w="134" h="105">
                  <a:moveTo>
                    <a:pt x="44" y="94"/>
                  </a:moveTo>
                  <a:lnTo>
                    <a:pt x="30" y="86"/>
                  </a:lnTo>
                  <a:lnTo>
                    <a:pt x="21" y="79"/>
                  </a:lnTo>
                  <a:lnTo>
                    <a:pt x="11" y="69"/>
                  </a:lnTo>
                  <a:lnTo>
                    <a:pt x="6" y="60"/>
                  </a:lnTo>
                  <a:lnTo>
                    <a:pt x="2" y="50"/>
                  </a:lnTo>
                  <a:lnTo>
                    <a:pt x="0" y="41"/>
                  </a:lnTo>
                  <a:lnTo>
                    <a:pt x="0" y="31"/>
                  </a:lnTo>
                  <a:lnTo>
                    <a:pt x="4" y="23"/>
                  </a:lnTo>
                  <a:lnTo>
                    <a:pt x="7" y="16"/>
                  </a:lnTo>
                  <a:lnTo>
                    <a:pt x="15" y="10"/>
                  </a:lnTo>
                  <a:lnTo>
                    <a:pt x="25" y="4"/>
                  </a:lnTo>
                  <a:lnTo>
                    <a:pt x="36" y="2"/>
                  </a:lnTo>
                  <a:lnTo>
                    <a:pt x="48" y="0"/>
                  </a:lnTo>
                  <a:lnTo>
                    <a:pt x="61" y="0"/>
                  </a:lnTo>
                  <a:lnTo>
                    <a:pt x="72" y="2"/>
                  </a:lnTo>
                  <a:lnTo>
                    <a:pt x="88" y="8"/>
                  </a:lnTo>
                  <a:lnTo>
                    <a:pt x="99" y="16"/>
                  </a:lnTo>
                  <a:lnTo>
                    <a:pt x="111" y="23"/>
                  </a:lnTo>
                  <a:lnTo>
                    <a:pt x="120" y="33"/>
                  </a:lnTo>
                  <a:lnTo>
                    <a:pt x="126" y="42"/>
                  </a:lnTo>
                  <a:lnTo>
                    <a:pt x="130" y="54"/>
                  </a:lnTo>
                  <a:lnTo>
                    <a:pt x="133" y="63"/>
                  </a:lnTo>
                  <a:lnTo>
                    <a:pt x="133" y="73"/>
                  </a:lnTo>
                  <a:lnTo>
                    <a:pt x="130" y="81"/>
                  </a:lnTo>
                  <a:lnTo>
                    <a:pt x="124" y="90"/>
                  </a:lnTo>
                  <a:lnTo>
                    <a:pt x="114" y="96"/>
                  </a:lnTo>
                  <a:lnTo>
                    <a:pt x="105" y="102"/>
                  </a:lnTo>
                  <a:lnTo>
                    <a:pt x="95" y="104"/>
                  </a:lnTo>
                  <a:lnTo>
                    <a:pt x="82" y="104"/>
                  </a:lnTo>
                  <a:lnTo>
                    <a:pt x="70" y="102"/>
                  </a:lnTo>
                  <a:lnTo>
                    <a:pt x="57" y="98"/>
                  </a:lnTo>
                  <a:lnTo>
                    <a:pt x="44" y="9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8" name=""/>
          <p:cNvSpPr/>
          <p:nvPr/>
        </p:nvSpPr>
        <p:spPr>
          <a:xfrm>
            <a:off x="660600" y="5432400"/>
            <a:ext cx="167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gur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dia Cent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 flipH="1">
            <a:off x="2023920" y="3032280"/>
            <a:ext cx="20880" cy="12078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6654960" y="3019320"/>
            <a:ext cx="2314440" cy="650880"/>
          </a:xfrm>
          <a:prstGeom prst="wedgeRoundRectCallout">
            <a:avLst>
              <a:gd name="adj1" fmla="val 28050"/>
              <a:gd name="adj2" fmla="val 132194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-speed Internet (Max.100Mbp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7004160" y="5056200"/>
            <a:ext cx="689040" cy="358920"/>
          </a:xfrm>
          <a:prstGeom prst="cube">
            <a:avLst>
              <a:gd name="adj" fmla="val 843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3943440" y="4311000"/>
            <a:ext cx="343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100Mb/s Data Commun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3942000" y="478404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500 channels Video Distrib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4" name="" descr=""/>
          <p:cNvPicPr/>
          <p:nvPr/>
        </p:nvPicPr>
        <p:blipFill>
          <a:blip r:embed="rId2"/>
          <a:stretch/>
        </p:blipFill>
        <p:spPr>
          <a:xfrm>
            <a:off x="366840" y="3263760"/>
            <a:ext cx="1738080" cy="385920"/>
          </a:xfrm>
          <a:prstGeom prst="rect">
            <a:avLst/>
          </a:prstGeom>
          <a:ln w="0">
            <a:noFill/>
          </a:ln>
        </p:spPr>
      </p:pic>
      <p:pic>
        <p:nvPicPr>
          <p:cNvPr id="2055" name="" descr=""/>
          <p:cNvPicPr/>
          <p:nvPr/>
        </p:nvPicPr>
        <p:blipFill>
          <a:blip r:embed="rId3"/>
          <a:stretch/>
        </p:blipFill>
        <p:spPr>
          <a:xfrm>
            <a:off x="8048520" y="4194000"/>
            <a:ext cx="619200" cy="676440"/>
          </a:xfrm>
          <a:prstGeom prst="rect">
            <a:avLst/>
          </a:prstGeom>
          <a:ln w="0">
            <a:noFill/>
          </a:ln>
        </p:spPr>
      </p:pic>
      <p:pic>
        <p:nvPicPr>
          <p:cNvPr id="2056" name="" descr=""/>
          <p:cNvPicPr/>
          <p:nvPr/>
        </p:nvPicPr>
        <p:blipFill>
          <a:blip r:embed="rId4"/>
          <a:stretch/>
        </p:blipFill>
        <p:spPr>
          <a:xfrm>
            <a:off x="1528920" y="2290680"/>
            <a:ext cx="618840" cy="733680"/>
          </a:xfrm>
          <a:prstGeom prst="rect">
            <a:avLst/>
          </a:prstGeom>
          <a:ln w="0">
            <a:noFill/>
          </a:ln>
        </p:spPr>
      </p:pic>
      <p:pic>
        <p:nvPicPr>
          <p:cNvPr id="2057" name="" descr=""/>
          <p:cNvPicPr/>
          <p:nvPr/>
        </p:nvPicPr>
        <p:blipFill>
          <a:blip r:embed="rId5"/>
          <a:stretch/>
        </p:blipFill>
        <p:spPr>
          <a:xfrm>
            <a:off x="7891560" y="4917960"/>
            <a:ext cx="823680" cy="671760"/>
          </a:xfrm>
          <a:prstGeom prst="rect">
            <a:avLst/>
          </a:prstGeom>
          <a:ln w="0">
            <a:noFill/>
          </a:ln>
        </p:spPr>
      </p:pic>
      <p:sp>
        <p:nvSpPr>
          <p:cNvPr id="2058" name=""/>
          <p:cNvSpPr/>
          <p:nvPr/>
        </p:nvSpPr>
        <p:spPr>
          <a:xfrm>
            <a:off x="2618280" y="5508720"/>
            <a:ext cx="16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tral Off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2874600" y="392112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-O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5548320" y="386244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-O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 flipH="1" flipV="1">
            <a:off x="2876400" y="3842640"/>
            <a:ext cx="1874880" cy="837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5" y="0"/>
                </a:moveTo>
                <a:arcTo wR="10800" hR="10800" stAng="-5408089" swAng="5408089"/>
                <a:lnTo>
                  <a:pt x="10800" y="10800"/>
                </a:lnTo>
                <a:close/>
              </a:path>
              <a:path fill="none" w="21600" h="21600">
                <a:moveTo>
                  <a:pt x="10775" y="0"/>
                </a:moveTo>
                <a:arcTo wR="10800" hR="10800" stAng="-5408089" swAng="5408089"/>
              </a:path>
            </a:pathLst>
          </a:cu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127080" y="873000"/>
            <a:ext cx="892800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Objective:  Verification of video signal overlay on B-P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Terms:       March 2002 to February 2003 in Yotsuya, Tok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65160" y="233856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HG丸ｺﾞｼｯｸM-PRO"/>
              </a:rPr>
              <a:t>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HG丸ｺﾞｼｯｸM-PRO"/>
              </a:rPr>
              <a:t>Broadca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2670840" y="2327400"/>
            <a:ext cx="58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HG丸ｺﾞｼｯｸM-PRO"/>
              </a:rPr>
              <a:t>I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2562120" y="2271600"/>
            <a:ext cx="709560" cy="48096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"/>
          <p:cNvSpPr/>
          <p:nvPr/>
        </p:nvSpPr>
        <p:spPr>
          <a:xfrm>
            <a:off x="326880" y="1373040"/>
            <a:ext cx="8574120" cy="1035360"/>
          </a:xfrm>
          <a:custGeom>
            <a:avLst/>
            <a:gdLst>
              <a:gd name="textAreaLeft" fmla="*/ 66960 w 8574120"/>
              <a:gd name="textAreaRight" fmla="*/ 8507160 w 8574120"/>
              <a:gd name="textAreaTop" fmla="*/ 66960 h 1035360"/>
              <a:gd name="textAreaBottom" fmla="*/ 968400 h 1035360"/>
            </a:gdLst>
            <a:ahLst/>
            <a:rect l="textAreaLeft" t="textAreaTop" r="textAreaRight" b="textAreaBottom"/>
            <a:pathLst>
              <a:path w="178821" h="21600">
                <a:moveTo>
                  <a:pt x="0" y="0"/>
                </a:moveTo>
                <a:lnTo>
                  <a:pt x="178821" y="0"/>
                </a:lnTo>
                <a:lnTo>
                  <a:pt x="178821" y="21600"/>
                </a:lnTo>
                <a:lnTo>
                  <a:pt x="0" y="21600"/>
                </a:lnTo>
                <a:close/>
              </a:path>
              <a:path fill="lightenLess" w="178821" h="21600">
                <a:moveTo>
                  <a:pt x="0" y="0"/>
                </a:moveTo>
                <a:lnTo>
                  <a:pt x="178821" y="0"/>
                </a:lnTo>
                <a:lnTo>
                  <a:pt x="177421" y="1400"/>
                </a:lnTo>
                <a:lnTo>
                  <a:pt x="1400" y="1400"/>
                </a:lnTo>
                <a:close/>
              </a:path>
              <a:path fill="darken" w="178821" h="21600">
                <a:moveTo>
                  <a:pt x="178821" y="0"/>
                </a:moveTo>
                <a:lnTo>
                  <a:pt x="178821" y="21600"/>
                </a:lnTo>
                <a:lnTo>
                  <a:pt x="177421" y="20200"/>
                </a:lnTo>
                <a:lnTo>
                  <a:pt x="177421" y="1400"/>
                </a:lnTo>
                <a:close/>
              </a:path>
              <a:path fill="darkenLess" w="178821" h="21600">
                <a:moveTo>
                  <a:pt x="1788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7421" y="20200"/>
                </a:lnTo>
                <a:close/>
              </a:path>
              <a:path fill="lighten" w="1788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8080"/>
                </a:solidFill>
                <a:latin typeface="Arial"/>
                <a:ea typeface="HG丸ｺﾞｼｯｸM-PRO"/>
              </a:rPr>
              <a:t>1. Current Network Services in Japa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8080"/>
                </a:solidFill>
                <a:latin typeface="Arial"/>
                <a:ea typeface="HG丸ｺﾞｼｯｸM-PRO"/>
              </a:rPr>
              <a:t>	</a:t>
            </a:r>
            <a:r>
              <a:rPr b="1" lang="en-US" sz="2600" spc="-1" strike="noStrike">
                <a:solidFill>
                  <a:srgbClr val="808080"/>
                </a:solidFill>
                <a:latin typeface="Arial"/>
                <a:ea typeface="HG丸ｺﾞｼｯｸM-PRO"/>
              </a:rPr>
              <a:t>Access services and Metro servic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339840" y="2554200"/>
            <a:ext cx="8574120" cy="1035000"/>
          </a:xfrm>
          <a:custGeom>
            <a:avLst/>
            <a:gdLst>
              <a:gd name="textAreaLeft" fmla="*/ 66960 w 8574120"/>
              <a:gd name="textAreaRight" fmla="*/ 8507160 w 8574120"/>
              <a:gd name="textAreaTop" fmla="*/ 66960 h 1035000"/>
              <a:gd name="textAreaBottom" fmla="*/ 968040 h 1035000"/>
            </a:gdLst>
            <a:ahLst/>
            <a:rect l="textAreaLeft" t="textAreaTop" r="textAreaRight" b="textAreaBottom"/>
            <a:pathLst>
              <a:path w="178883" h="21600">
                <a:moveTo>
                  <a:pt x="0" y="0"/>
                </a:moveTo>
                <a:lnTo>
                  <a:pt x="178883" y="0"/>
                </a:lnTo>
                <a:lnTo>
                  <a:pt x="178883" y="21600"/>
                </a:lnTo>
                <a:lnTo>
                  <a:pt x="0" y="21600"/>
                </a:lnTo>
                <a:close/>
              </a:path>
              <a:path fill="lightenLess" w="178883" h="21600">
                <a:moveTo>
                  <a:pt x="0" y="0"/>
                </a:moveTo>
                <a:lnTo>
                  <a:pt x="178883" y="0"/>
                </a:lnTo>
                <a:lnTo>
                  <a:pt x="177484" y="1400"/>
                </a:lnTo>
                <a:lnTo>
                  <a:pt x="1400" y="1400"/>
                </a:lnTo>
                <a:close/>
              </a:path>
              <a:path fill="darken" w="178883" h="21600">
                <a:moveTo>
                  <a:pt x="178883" y="0"/>
                </a:moveTo>
                <a:lnTo>
                  <a:pt x="178883" y="21600"/>
                </a:lnTo>
                <a:lnTo>
                  <a:pt x="177484" y="20200"/>
                </a:lnTo>
                <a:lnTo>
                  <a:pt x="177484" y="1400"/>
                </a:lnTo>
                <a:close/>
              </a:path>
              <a:path fill="darkenLess" w="178883" h="21600">
                <a:moveTo>
                  <a:pt x="1788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7484" y="20200"/>
                </a:lnTo>
                <a:close/>
              </a:path>
              <a:path fill="lighten" w="1788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8080"/>
                </a:solidFill>
                <a:latin typeface="Arial"/>
                <a:ea typeface="HG丸ｺﾞｼｯｸM-PRO"/>
              </a:rPr>
              <a:t>2. Standardization Trend of Optical Access Syste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8080"/>
                </a:solidFill>
                <a:latin typeface="Arial"/>
                <a:ea typeface="HG丸ｺﾞｼｯｸM-PRO"/>
              </a:rPr>
              <a:t>	</a:t>
            </a:r>
            <a:r>
              <a:rPr b="1" lang="en-US" sz="2600" spc="-1" strike="noStrike">
                <a:solidFill>
                  <a:srgbClr val="808080"/>
                </a:solidFill>
                <a:latin typeface="Arial"/>
                <a:ea typeface="HG丸ｺﾞｼｯｸM-PRO"/>
              </a:rPr>
              <a:t>B-PON and G-P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352440" y="3735360"/>
            <a:ext cx="8574120" cy="1035000"/>
          </a:xfrm>
          <a:custGeom>
            <a:avLst/>
            <a:gdLst>
              <a:gd name="textAreaLeft" fmla="*/ 66960 w 8574120"/>
              <a:gd name="textAreaRight" fmla="*/ 8507160 w 8574120"/>
              <a:gd name="textAreaTop" fmla="*/ 66960 h 1035000"/>
              <a:gd name="textAreaBottom" fmla="*/ 968040 h 1035000"/>
            </a:gdLst>
            <a:ahLst/>
            <a:rect l="textAreaLeft" t="textAreaTop" r="textAreaRight" b="textAreaBottom"/>
            <a:pathLst>
              <a:path w="178883" h="21600">
                <a:moveTo>
                  <a:pt x="0" y="0"/>
                </a:moveTo>
                <a:lnTo>
                  <a:pt x="178883" y="0"/>
                </a:lnTo>
                <a:lnTo>
                  <a:pt x="178883" y="21600"/>
                </a:lnTo>
                <a:lnTo>
                  <a:pt x="0" y="21600"/>
                </a:lnTo>
                <a:close/>
              </a:path>
              <a:path fill="lightenLess" w="178883" h="21600">
                <a:moveTo>
                  <a:pt x="0" y="0"/>
                </a:moveTo>
                <a:lnTo>
                  <a:pt x="178883" y="0"/>
                </a:lnTo>
                <a:lnTo>
                  <a:pt x="177484" y="1400"/>
                </a:lnTo>
                <a:lnTo>
                  <a:pt x="1400" y="1400"/>
                </a:lnTo>
                <a:close/>
              </a:path>
              <a:path fill="darken" w="178883" h="21600">
                <a:moveTo>
                  <a:pt x="178883" y="0"/>
                </a:moveTo>
                <a:lnTo>
                  <a:pt x="178883" y="21600"/>
                </a:lnTo>
                <a:lnTo>
                  <a:pt x="177484" y="20200"/>
                </a:lnTo>
                <a:lnTo>
                  <a:pt x="177484" y="1400"/>
                </a:lnTo>
                <a:close/>
              </a:path>
              <a:path fill="darkenLess" w="178883" h="21600">
                <a:moveTo>
                  <a:pt x="1788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7484" y="20200"/>
                </a:lnTo>
                <a:close/>
              </a:path>
              <a:path fill="lighten" w="1788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8080"/>
                </a:solidFill>
                <a:latin typeface="Arial"/>
                <a:ea typeface="HG丸ｺﾞｼｯｸM-PRO"/>
              </a:rPr>
              <a:t>3. B-PON Trial and Deployment in NT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365040" y="4916520"/>
            <a:ext cx="8574120" cy="1035000"/>
          </a:xfrm>
          <a:custGeom>
            <a:avLst/>
            <a:gdLst>
              <a:gd name="textAreaLeft" fmla="*/ 66960 w 8574120"/>
              <a:gd name="textAreaRight" fmla="*/ 8507160 w 8574120"/>
              <a:gd name="textAreaTop" fmla="*/ 66960 h 1035000"/>
              <a:gd name="textAreaBottom" fmla="*/ 968040 h 1035000"/>
            </a:gdLst>
            <a:ahLst/>
            <a:rect l="textAreaLeft" t="textAreaTop" r="textAreaRight" b="textAreaBottom"/>
            <a:pathLst>
              <a:path w="178883" h="21600">
                <a:moveTo>
                  <a:pt x="0" y="0"/>
                </a:moveTo>
                <a:lnTo>
                  <a:pt x="178883" y="0"/>
                </a:lnTo>
                <a:lnTo>
                  <a:pt x="178883" y="21600"/>
                </a:lnTo>
                <a:lnTo>
                  <a:pt x="0" y="21600"/>
                </a:lnTo>
                <a:close/>
              </a:path>
              <a:path fill="lightenLess" w="178883" h="21600">
                <a:moveTo>
                  <a:pt x="0" y="0"/>
                </a:moveTo>
                <a:lnTo>
                  <a:pt x="178883" y="0"/>
                </a:lnTo>
                <a:lnTo>
                  <a:pt x="177484" y="1400"/>
                </a:lnTo>
                <a:lnTo>
                  <a:pt x="1400" y="1400"/>
                </a:lnTo>
                <a:close/>
              </a:path>
              <a:path fill="darken" w="178883" h="21600">
                <a:moveTo>
                  <a:pt x="178883" y="0"/>
                </a:moveTo>
                <a:lnTo>
                  <a:pt x="178883" y="21600"/>
                </a:lnTo>
                <a:lnTo>
                  <a:pt x="177484" y="20200"/>
                </a:lnTo>
                <a:lnTo>
                  <a:pt x="177484" y="1400"/>
                </a:lnTo>
                <a:close/>
              </a:path>
              <a:path fill="darkenLess" w="178883" h="21600">
                <a:moveTo>
                  <a:pt x="1788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7484" y="20200"/>
                </a:lnTo>
                <a:close/>
              </a:path>
              <a:path fill="lighten" w="1788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HG丸ｺﾞｼｯｸM-PRO"/>
              </a:rPr>
              <a:t>4. Future issues and Conclus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"/>
          <p:cNvSpPr/>
          <p:nvPr/>
        </p:nvSpPr>
        <p:spPr>
          <a:xfrm>
            <a:off x="2452680" y="3870360"/>
            <a:ext cx="4200480" cy="177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2077920" y="3738600"/>
            <a:ext cx="3787920" cy="1249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3429000" y="2749680"/>
            <a:ext cx="2870280" cy="1520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4622760" y="2359080"/>
            <a:ext cx="2857680" cy="1658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5514840" y="2104920"/>
            <a:ext cx="2052720" cy="12477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6713640" y="1382760"/>
            <a:ext cx="1682640" cy="1058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 rot="16200000">
            <a:off x="-119520" y="3223440"/>
            <a:ext cx="3983040" cy="428400"/>
          </a:xfrm>
          <a:custGeom>
            <a:avLst/>
            <a:gdLst>
              <a:gd name="textAreaLeft" fmla="*/ 622080 w 3983040"/>
              <a:gd name="textAreaRight" fmla="*/ 3852720 w 3983040"/>
              <a:gd name="textAreaTop" fmla="*/ 95760 h 428400"/>
              <a:gd name="textAreaBottom" fmla="*/ 332640 h 428400"/>
            </a:gdLst>
            <a:ahLst/>
            <a:rect l="textAreaLeft" t="textAreaTop" r="textAreaRight" b="textAreaBottom"/>
            <a:pathLst>
              <a:path w="21600" h="21600">
                <a:moveTo>
                  <a:pt x="3375" y="4837"/>
                </a:moveTo>
                <a:lnTo>
                  <a:pt x="20320" y="4837"/>
                </a:lnTo>
                <a:lnTo>
                  <a:pt x="20320" y="0"/>
                </a:lnTo>
                <a:lnTo>
                  <a:pt x="21600" y="10800"/>
                </a:lnTo>
                <a:lnTo>
                  <a:pt x="20320" y="21600"/>
                </a:lnTo>
                <a:lnTo>
                  <a:pt x="20320" y="16763"/>
                </a:lnTo>
                <a:lnTo>
                  <a:pt x="3375" y="16763"/>
                </a:lnTo>
                <a:close/>
              </a:path>
              <a:path w="21600" h="21600">
                <a:moveTo>
                  <a:pt x="0" y="4837"/>
                </a:moveTo>
                <a:lnTo>
                  <a:pt x="675" y="4837"/>
                </a:lnTo>
                <a:lnTo>
                  <a:pt x="675" y="16763"/>
                </a:lnTo>
                <a:lnTo>
                  <a:pt x="0" y="16763"/>
                </a:lnTo>
                <a:close/>
              </a:path>
              <a:path w="21600" h="21600">
                <a:moveTo>
                  <a:pt x="1350" y="4837"/>
                </a:moveTo>
                <a:lnTo>
                  <a:pt x="2700" y="4837"/>
                </a:lnTo>
                <a:lnTo>
                  <a:pt x="2700" y="16763"/>
                </a:lnTo>
                <a:lnTo>
                  <a:pt x="1350" y="16763"/>
                </a:lnTo>
                <a:close/>
              </a:path>
            </a:pathLst>
          </a:custGeom>
          <a:solidFill>
            <a:srgbClr val="ffccff">
              <a:alpha val="50000"/>
            </a:srgbClr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1324080" y="3678120"/>
            <a:ext cx="1325520" cy="1865520"/>
          </a:xfrm>
          <a:custGeom>
            <a:avLst/>
            <a:gdLst>
              <a:gd name="textAreaLeft" fmla="*/ 29520 w 1325520"/>
              <a:gd name="textAreaRight" fmla="*/ 1296000 w 1325520"/>
              <a:gd name="textAreaTop" fmla="*/ 29520 h 1865520"/>
              <a:gd name="textAreaBottom" fmla="*/ 1836000 h 1865520"/>
            </a:gdLst>
            <a:ahLst/>
            <a:rect l="textAreaLeft" t="textAreaTop" r="textAreaRight" b="textAreaBottom"/>
            <a:pathLst>
              <a:path w="21600" h="30397">
                <a:moveTo>
                  <a:pt x="1650" y="0"/>
                </a:moveTo>
                <a:arcTo wR="1650" hR="1650" stAng="16200000" swAng="-5400000"/>
                <a:lnTo>
                  <a:pt x="0" y="28747"/>
                </a:lnTo>
                <a:arcTo wR="1650" hR="1650" stAng="10800000" swAng="-5400000"/>
                <a:lnTo>
                  <a:pt x="19950" y="30397"/>
                </a:lnTo>
                <a:arcTo wR="1650" hR="1650" stAng="5400000" swAng="-5400000"/>
                <a:lnTo>
                  <a:pt x="21600" y="1650"/>
                </a:lnTo>
                <a:arcTo wR="1650" hR="1650" stAng="0" swAng="-5400000"/>
                <a:close/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1324080" y="2906640"/>
            <a:ext cx="3551040" cy="2637000"/>
          </a:xfrm>
          <a:prstGeom prst="roundRect">
            <a:avLst>
              <a:gd name="adj" fmla="val 7639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1324080" y="1449360"/>
            <a:ext cx="4429080" cy="4094280"/>
          </a:xfrm>
          <a:prstGeom prst="roundRect">
            <a:avLst>
              <a:gd name="adj" fmla="val 7639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491760" y="5129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100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669960" y="4362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1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551520" y="35463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10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431280" y="271764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100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682560" y="188748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1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4629240" y="2340000"/>
            <a:ext cx="98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600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B-P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5654160" y="233856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G-P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7306200" y="59673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Y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4245120" y="5629320"/>
            <a:ext cx="101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AD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2541240" y="5969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3470400" y="5981760"/>
            <a:ext cx="8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1649160" y="5969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1216080" y="6013440"/>
            <a:ext cx="751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 flipV="1">
            <a:off x="1216080" y="1661760"/>
            <a:ext cx="0" cy="4351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446760" y="925560"/>
            <a:ext cx="10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Bit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(bp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 rot="19719000">
            <a:off x="2509920" y="4679640"/>
            <a:ext cx="1447560" cy="6984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174600 h 698400"/>
              <a:gd name="textAreaBottom" fmla="*/ 523800 h 698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bd96b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Develop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 rot="19663800">
            <a:off x="3776400" y="3960720"/>
            <a:ext cx="1288800" cy="671760"/>
          </a:xfrm>
          <a:custGeom>
            <a:avLst/>
            <a:gdLst>
              <a:gd name="textAreaLeft" fmla="*/ 201240 w 1288800"/>
              <a:gd name="textAreaRight" fmla="*/ 1127880 w 1288800"/>
              <a:gd name="textAreaTop" fmla="*/ 167760 h 671760"/>
              <a:gd name="textAreaBottom" fmla="*/ 504000 h 67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bd96b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Develop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6273360" y="2870280"/>
            <a:ext cx="115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IEEE802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6149880" y="3651120"/>
            <a:ext cx="136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FSAN, ITU-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5004000" y="3987720"/>
            <a:ext cx="136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FSAN, ITU-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5300280" y="5969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3538440" y="2927520"/>
            <a:ext cx="925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150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B-P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1285920" y="2921040"/>
            <a:ext cx="145872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100M-E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M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1324080" y="2106720"/>
            <a:ext cx="146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GbE-M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1312920" y="3819600"/>
            <a:ext cx="120168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10M-E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M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2224080" y="1574640"/>
            <a:ext cx="2176560" cy="682920"/>
          </a:xfrm>
          <a:custGeom>
            <a:avLst/>
            <a:gdLst>
              <a:gd name="textAreaLeft" fmla="*/ 339840 w 2176560"/>
              <a:gd name="textAreaRight" fmla="*/ 2009880 w 2176560"/>
              <a:gd name="textAreaTop" fmla="*/ 153000 h 682920"/>
              <a:gd name="textAreaBottom" fmla="*/ 529920 h 682920"/>
            </a:gdLst>
            <a:ahLst/>
            <a:rect l="textAreaLeft" t="textAreaTop" r="textAreaRight" b="textAreaBottom"/>
            <a:pathLst>
              <a:path w="21600" h="21600">
                <a:moveTo>
                  <a:pt x="3375" y="4837"/>
                </a:moveTo>
                <a:lnTo>
                  <a:pt x="18599" y="4837"/>
                </a:lnTo>
                <a:lnTo>
                  <a:pt x="18599" y="0"/>
                </a:lnTo>
                <a:lnTo>
                  <a:pt x="21600" y="10800"/>
                </a:lnTo>
                <a:lnTo>
                  <a:pt x="18599" y="21600"/>
                </a:lnTo>
                <a:lnTo>
                  <a:pt x="18599" y="16763"/>
                </a:lnTo>
                <a:lnTo>
                  <a:pt x="3375" y="16763"/>
                </a:lnTo>
                <a:close/>
              </a:path>
              <a:path w="21600" h="21600">
                <a:moveTo>
                  <a:pt x="0" y="4837"/>
                </a:moveTo>
                <a:lnTo>
                  <a:pt x="675" y="4837"/>
                </a:lnTo>
                <a:lnTo>
                  <a:pt x="675" y="16763"/>
                </a:lnTo>
                <a:lnTo>
                  <a:pt x="0" y="16763"/>
                </a:lnTo>
                <a:close/>
              </a:path>
              <a:path w="21600" h="21600">
                <a:moveTo>
                  <a:pt x="1350" y="4837"/>
                </a:moveTo>
                <a:lnTo>
                  <a:pt x="2700" y="4837"/>
                </a:lnTo>
                <a:lnTo>
                  <a:pt x="2700" y="16763"/>
                </a:lnTo>
                <a:lnTo>
                  <a:pt x="1350" y="16763"/>
                </a:lnTo>
                <a:close/>
              </a:path>
            </a:pathLst>
          </a:custGeom>
          <a:solidFill>
            <a:srgbClr val="ffccff">
              <a:alpha val="50000"/>
            </a:srgbClr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2440800" y="1731960"/>
            <a:ext cx="182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Carrier grading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1711440" y="919080"/>
            <a:ext cx="196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LAN(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2610000" y="3848040"/>
            <a:ext cx="660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S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P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 rot="19735200">
            <a:off x="4878360" y="3206520"/>
            <a:ext cx="1546200" cy="672840"/>
          </a:xfrm>
          <a:custGeom>
            <a:avLst/>
            <a:gdLst>
              <a:gd name="textAreaLeft" fmla="*/ 241560 w 1546200"/>
              <a:gd name="textAreaRight" fmla="*/ 1353240 w 1546200"/>
              <a:gd name="textAreaTop" fmla="*/ 168120 h 672840"/>
              <a:gd name="textAreaBottom" fmla="*/ 504720 h 672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bd96b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Develop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6251760" y="3092400"/>
            <a:ext cx="136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FSAN, ITU-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209520" y="25560"/>
            <a:ext cx="8686800" cy="696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HG丸ｺﾞｼｯｸM-PRO"/>
              </a:rPr>
              <a:t>Trend of Broadband Access Stud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6702480" y="166860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WDM-P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4397040" y="59659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6285960" y="59547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"/>
          <p:cNvSpPr/>
          <p:nvPr/>
        </p:nvSpPr>
        <p:spPr>
          <a:xfrm>
            <a:off x="398520" y="866880"/>
            <a:ext cx="3014640" cy="2958840"/>
          </a:xfrm>
          <a:prstGeom prst="roundRect">
            <a:avLst>
              <a:gd name="adj" fmla="val 4764"/>
            </a:avLst>
          </a:prstGeom>
          <a:gradFill rotWithShape="0">
            <a:gsLst>
              <a:gs pos="0">
                <a:srgbClr val="ffccff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180720" y="-360"/>
            <a:ext cx="8705880" cy="60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HG丸ｺﾞｼｯｸM-PRO"/>
              </a:rPr>
              <a:t>NTT’s approach for G-P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182520" y="1247760"/>
            <a:ext cx="3014640" cy="2959200"/>
          </a:xfrm>
          <a:prstGeom prst="roundRect">
            <a:avLst>
              <a:gd name="adj" fmla="val 4764"/>
            </a:avLst>
          </a:prstGeom>
          <a:gradFill rotWithShape="0">
            <a:gsLst>
              <a:gs pos="0">
                <a:srgbClr val="ffccff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1199880" y="122400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F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182520" y="1658880"/>
            <a:ext cx="3013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218880" y="1662120"/>
            <a:ext cx="294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Initiative holder Carr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Main compan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NTT, SBC, BellSouth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BT, FT, TI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5742000" y="1041480"/>
            <a:ext cx="3186000" cy="2960640"/>
          </a:xfrm>
          <a:prstGeom prst="roundRect">
            <a:avLst>
              <a:gd name="adj" fmla="val 4764"/>
            </a:avLst>
          </a:prstGeom>
          <a:gradFill rotWithShape="0">
            <a:gsLst>
              <a:gs pos="0">
                <a:srgbClr val="ccffcc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6764400" y="104760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IE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5742000" y="1535040"/>
            <a:ext cx="3227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5800680" y="1496880"/>
            <a:ext cx="299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- Initiative holder Vend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- Main compan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Cisco, Nortel, Intel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Lucent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1362240" y="5324400"/>
            <a:ext cx="2681280" cy="1152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N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 rot="20798400">
            <a:off x="1484280" y="4202280"/>
            <a:ext cx="1305000" cy="1035000"/>
          </a:xfrm>
          <a:prstGeom prst="upArrow">
            <a:avLst>
              <a:gd name="adj1" fmla="val 55426"/>
              <a:gd name="adj2" fmla="val 25931"/>
            </a:avLst>
          </a:prstGeom>
          <a:solidFill>
            <a:srgbClr val="66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151920" y="4781520"/>
            <a:ext cx="42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NTT contributes to FSAN &amp; ITU-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3470400" y="857160"/>
            <a:ext cx="2266920" cy="3254400"/>
          </a:xfrm>
          <a:prstGeom prst="rightArrow">
            <a:avLst>
              <a:gd name="adj1" fmla="val 55426"/>
              <a:gd name="adj2" fmla="val 23495"/>
            </a:avLst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228600" y="2838600"/>
            <a:ext cx="2855880" cy="12427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Task for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for G-P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established in April, 200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5789520" y="2602080"/>
            <a:ext cx="3052800" cy="13525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EFM Study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For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HG丸ｺﾞｼｯｸM-PRO"/>
              </a:rPr>
              <a:t>GE-P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established in Jan., 200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3414600" y="1685880"/>
            <a:ext cx="2540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Input of carrier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- OD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- Target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- O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6254640" y="4064040"/>
            <a:ext cx="2351160" cy="5014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5455800" y="4208400"/>
            <a:ext cx="374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EFMA supports the EFM study 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5816520" y="4627440"/>
            <a:ext cx="2957760" cy="11667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5978160" y="4632480"/>
            <a:ext cx="263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EF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(EFM Allian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established in Dec., 200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 rot="20771400">
            <a:off x="4118040" y="5156280"/>
            <a:ext cx="1519200" cy="944640"/>
          </a:xfrm>
          <a:prstGeom prst="rightArrow">
            <a:avLst>
              <a:gd name="adj1" fmla="val 50000"/>
              <a:gd name="adj2" fmla="val 40206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5485680" y="5813280"/>
            <a:ext cx="371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NTT joined EFMA as the fir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alliance memb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1414080" y="83016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ITU-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"/>
          <p:cNvSpPr/>
          <p:nvPr/>
        </p:nvSpPr>
        <p:spPr>
          <a:xfrm>
            <a:off x="2104920" y="3098880"/>
            <a:ext cx="6215040" cy="3003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2103480" y="5316480"/>
            <a:ext cx="6222960" cy="784440"/>
          </a:xfrm>
          <a:custGeom>
            <a:avLst/>
            <a:gdLst/>
            <a:ahLst/>
            <a:rect l="l" t="t" r="r" b="b"/>
            <a:pathLst>
              <a:path w="3920" h="494">
                <a:moveTo>
                  <a:pt x="3920" y="0"/>
                </a:moveTo>
                <a:lnTo>
                  <a:pt x="0" y="367"/>
                </a:lnTo>
                <a:lnTo>
                  <a:pt x="11" y="489"/>
                </a:lnTo>
                <a:lnTo>
                  <a:pt x="2947" y="494"/>
                </a:lnTo>
                <a:lnTo>
                  <a:pt x="3920" y="362"/>
                </a:lnTo>
                <a:lnTo>
                  <a:pt x="3920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735120" y="849240"/>
            <a:ext cx="8021520" cy="208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655200" y="41400"/>
            <a:ext cx="7729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HG丸ｺﾞｼｯｸM-PRO"/>
              </a:rPr>
              <a:t>Features of CWDM Access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1116000" y="1022400"/>
            <a:ext cx="7615080" cy="18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- Multiplexes all kinds of services (SDH,Ethernet,F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- Wide wavelength 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- Cost effective un-cooled DFB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- Low cost WDM fil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- Flexible and high reliabl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4" name=""/>
          <p:cNvGrpSpPr/>
          <p:nvPr/>
        </p:nvGrpSpPr>
        <p:grpSpPr>
          <a:xfrm>
            <a:off x="87840" y="1636560"/>
            <a:ext cx="1037160" cy="463680"/>
            <a:chOff x="87840" y="1636560"/>
            <a:chExt cx="1037160" cy="463680"/>
          </a:xfrm>
        </p:grpSpPr>
        <p:sp>
          <p:nvSpPr>
            <p:cNvPr id="2145" name=""/>
            <p:cNvSpPr/>
            <p:nvPr/>
          </p:nvSpPr>
          <p:spPr>
            <a:xfrm>
              <a:off x="99720" y="1636560"/>
              <a:ext cx="1025280" cy="463680"/>
            </a:xfrm>
            <a:prstGeom prst="rect">
              <a:avLst/>
            </a:prstGeom>
            <a:solidFill>
              <a:srgbClr val="99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87840" y="1665360"/>
              <a:ext cx="100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HG丸ｺﾞｼｯｸM-PRO"/>
                </a:rPr>
                <a:t>CWD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7" name=""/>
          <p:cNvSpPr/>
          <p:nvPr/>
        </p:nvSpPr>
        <p:spPr>
          <a:xfrm>
            <a:off x="257040" y="3218040"/>
            <a:ext cx="175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Wavelength spacing (n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3143160" y="3106800"/>
            <a:ext cx="0" cy="30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7288200" y="3106800"/>
            <a:ext cx="0" cy="30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4179960" y="3106800"/>
            <a:ext cx="0" cy="30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5216400" y="3106800"/>
            <a:ext cx="0" cy="30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2108160" y="4608360"/>
            <a:ext cx="621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6251400" y="3106800"/>
            <a:ext cx="0" cy="30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5643720" y="4405320"/>
            <a:ext cx="1817640" cy="63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4363920" y="62038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Wavelength (u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2900880" y="60451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3956400" y="60451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1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4999320" y="60451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1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6007320" y="60451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1.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6985440" y="60451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8075880" y="60451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1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1814040" y="60451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2108160" y="3106800"/>
            <a:ext cx="0" cy="30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8323200" y="3106800"/>
            <a:ext cx="0" cy="30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1770480" y="513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1697400" y="4400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1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1542240" y="36385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1467000" y="297324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100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2108160" y="3857760"/>
            <a:ext cx="621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2108160" y="3106800"/>
            <a:ext cx="621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2108160" y="6000840"/>
            <a:ext cx="621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2108160" y="5359320"/>
            <a:ext cx="621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1636920" y="577224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0.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7350120" y="3854520"/>
            <a:ext cx="1590840" cy="457200"/>
          </a:xfrm>
          <a:prstGeom prst="wedgeEllipseCallout">
            <a:avLst>
              <a:gd name="adj1" fmla="val -55037"/>
              <a:gd name="adj2" fmla="val 8229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4 - 16 w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6239160" y="5423040"/>
            <a:ext cx="11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DWD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(G.694.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4889880" y="3092400"/>
            <a:ext cx="152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1.3/1.5-WD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 rot="13416000">
            <a:off x="3803400" y="3363480"/>
            <a:ext cx="2016000" cy="625680"/>
          </a:xfrm>
          <a:custGeom>
            <a:avLst/>
            <a:gdLst>
              <a:gd name="textAreaLeft" fmla="*/ 315000 w 2016000"/>
              <a:gd name="textAreaRight" fmla="*/ 1764000 w 2016000"/>
              <a:gd name="textAreaTop" fmla="*/ 156240 h 625680"/>
              <a:gd name="textAreaBottom" fmla="*/ 469440 h 6256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5243400" y="3429000"/>
            <a:ext cx="1968480" cy="457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6041880" y="4387680"/>
            <a:ext cx="1254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CWD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(G.694.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7211880" y="4829040"/>
            <a:ext cx="1602000" cy="457200"/>
          </a:xfrm>
          <a:prstGeom prst="wedgeEllipseCallout">
            <a:avLst>
              <a:gd name="adj1" fmla="val -43837"/>
              <a:gd name="adj2" fmla="val 66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- 1000 w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7362720" y="2992320"/>
            <a:ext cx="1498680" cy="533520"/>
          </a:xfrm>
          <a:prstGeom prst="wedgeEllipseCallout">
            <a:avLst>
              <a:gd name="adj1" fmla="val -62685"/>
              <a:gd name="adj2" fmla="val 684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2 w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5724360" y="3457440"/>
            <a:ext cx="384480" cy="385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6541920" y="3459240"/>
            <a:ext cx="397080" cy="384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 flipH="1">
            <a:off x="2095200" y="4441680"/>
            <a:ext cx="3552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1741680" y="4214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HG丸ｺﾞｼｯｸM-PRO"/>
              </a:rPr>
              <a:t>2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111960" y="4424400"/>
            <a:ext cx="13982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CWD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Coarse WD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DWD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Dense WD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"/>
          <p:cNvSpPr/>
          <p:nvPr/>
        </p:nvSpPr>
        <p:spPr>
          <a:xfrm>
            <a:off x="3209040" y="61920"/>
            <a:ext cx="29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HG丸ｺﾞｼｯｸM-PRO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425520" y="784080"/>
            <a:ext cx="84740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HG丸ｺﾞｼｯｸM-PRO"/>
              </a:rPr>
              <a:t>Competitive IP access services for mass users in Ja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HG丸ｺﾞｼｯｸM-PRO"/>
              </a:rPr>
              <a:t>Broadband access services based on optical fi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HG丸ｺﾞｼｯｸM-PRO"/>
              </a:rPr>
              <a:t>Future service integration of communication and broadcasting on an optical fiber using B-P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HG丸ｺﾞｼｯｸM-PRO"/>
              </a:rPr>
              <a:t>Maximum commonality in G-PON specifications between ITU-T and IE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HG丸ｺﾞｼｯｸM-PRO"/>
              </a:rPr>
              <a:t>Future access systems using CWD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182520" y="925560"/>
            <a:ext cx="252360" cy="241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195120" y="2208240"/>
            <a:ext cx="252720" cy="241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208080" y="3490920"/>
            <a:ext cx="252360" cy="241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220680" y="4761000"/>
            <a:ext cx="252360" cy="241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233280" y="6043680"/>
            <a:ext cx="252360" cy="241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"/>
          <p:cNvSpPr/>
          <p:nvPr/>
        </p:nvSpPr>
        <p:spPr>
          <a:xfrm>
            <a:off x="1755720" y="1952640"/>
            <a:ext cx="352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Impact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5" name=""/>
          <p:cNvGrpSpPr/>
          <p:nvPr/>
        </p:nvGrpSpPr>
        <p:grpSpPr>
          <a:xfrm>
            <a:off x="3075120" y="2682720"/>
            <a:ext cx="4298400" cy="2437920"/>
            <a:chOff x="3075120" y="2682720"/>
            <a:chExt cx="4298400" cy="2437920"/>
          </a:xfrm>
        </p:grpSpPr>
        <p:sp>
          <p:nvSpPr>
            <p:cNvPr id="2196" name=""/>
            <p:cNvSpPr/>
            <p:nvPr/>
          </p:nvSpPr>
          <p:spPr>
            <a:xfrm>
              <a:off x="3075120" y="4029120"/>
              <a:ext cx="4298400" cy="10915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97" name="" descr=""/>
            <p:cNvPicPr/>
            <p:nvPr/>
          </p:nvPicPr>
          <p:blipFill>
            <a:blip r:embed="rId1"/>
            <a:stretch/>
          </p:blipFill>
          <p:spPr>
            <a:xfrm>
              <a:off x="5204520" y="2682720"/>
              <a:ext cx="1723680" cy="227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8" name=""/>
          <p:cNvSpPr/>
          <p:nvPr/>
        </p:nvSpPr>
        <p:spPr>
          <a:xfrm>
            <a:off x="8056440" y="5073480"/>
            <a:ext cx="228600" cy="101880"/>
          </a:xfrm>
          <a:prstGeom prst="rect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3646440" y="5062680"/>
            <a:ext cx="497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400" spc="-1" strike="noStrike">
                <a:solidFill>
                  <a:srgbClr val="3333cc"/>
                </a:solidFill>
                <a:latin typeface="Arial"/>
              </a:rPr>
              <a:t>The beckoning cat, Maneki Nek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400" spc="-1" strike="noStrike">
                <a:solidFill>
                  <a:srgbClr val="3333cc"/>
                </a:solidFill>
                <a:latin typeface="Arial"/>
              </a:rPr>
              <a:t>brings Lu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26880" y="1373040"/>
            <a:ext cx="8574120" cy="1035360"/>
          </a:xfrm>
          <a:custGeom>
            <a:avLst/>
            <a:gdLst>
              <a:gd name="textAreaLeft" fmla="*/ 66960 w 8574120"/>
              <a:gd name="textAreaRight" fmla="*/ 8507160 w 8574120"/>
              <a:gd name="textAreaTop" fmla="*/ 66960 h 1035360"/>
              <a:gd name="textAreaBottom" fmla="*/ 968400 h 1035360"/>
            </a:gdLst>
            <a:ahLst/>
            <a:rect l="textAreaLeft" t="textAreaTop" r="textAreaRight" b="textAreaBottom"/>
            <a:pathLst>
              <a:path w="178821" h="21600">
                <a:moveTo>
                  <a:pt x="0" y="0"/>
                </a:moveTo>
                <a:lnTo>
                  <a:pt x="178821" y="0"/>
                </a:lnTo>
                <a:lnTo>
                  <a:pt x="178821" y="21600"/>
                </a:lnTo>
                <a:lnTo>
                  <a:pt x="0" y="21600"/>
                </a:lnTo>
                <a:close/>
              </a:path>
              <a:path fill="lightenLess" w="178821" h="21600">
                <a:moveTo>
                  <a:pt x="0" y="0"/>
                </a:moveTo>
                <a:lnTo>
                  <a:pt x="178821" y="0"/>
                </a:lnTo>
                <a:lnTo>
                  <a:pt x="177421" y="1400"/>
                </a:lnTo>
                <a:lnTo>
                  <a:pt x="1400" y="1400"/>
                </a:lnTo>
                <a:close/>
              </a:path>
              <a:path fill="darken" w="178821" h="21600">
                <a:moveTo>
                  <a:pt x="178821" y="0"/>
                </a:moveTo>
                <a:lnTo>
                  <a:pt x="178821" y="21600"/>
                </a:lnTo>
                <a:lnTo>
                  <a:pt x="177421" y="20200"/>
                </a:lnTo>
                <a:lnTo>
                  <a:pt x="177421" y="1400"/>
                </a:lnTo>
                <a:close/>
              </a:path>
              <a:path fill="darkenLess" w="178821" h="21600">
                <a:moveTo>
                  <a:pt x="1788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7421" y="20200"/>
                </a:lnTo>
                <a:close/>
              </a:path>
              <a:path fill="lighten" w="1788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HG丸ｺﾞｼｯｸM-PRO"/>
              </a:rPr>
              <a:t>1. Current Network Services in Japa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HG丸ｺﾞｼｯｸM-PRO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HG丸ｺﾞｼｯｸM-PRO"/>
              </a:rPr>
              <a:t>Access services and Metro servic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9840" y="2554200"/>
            <a:ext cx="8574120" cy="1035000"/>
          </a:xfrm>
          <a:custGeom>
            <a:avLst/>
            <a:gdLst>
              <a:gd name="textAreaLeft" fmla="*/ 66960 w 8574120"/>
              <a:gd name="textAreaRight" fmla="*/ 8507160 w 8574120"/>
              <a:gd name="textAreaTop" fmla="*/ 66960 h 1035000"/>
              <a:gd name="textAreaBottom" fmla="*/ 968040 h 1035000"/>
            </a:gdLst>
            <a:ahLst/>
            <a:rect l="textAreaLeft" t="textAreaTop" r="textAreaRight" b="textAreaBottom"/>
            <a:pathLst>
              <a:path w="178883" h="21600">
                <a:moveTo>
                  <a:pt x="0" y="0"/>
                </a:moveTo>
                <a:lnTo>
                  <a:pt x="178883" y="0"/>
                </a:lnTo>
                <a:lnTo>
                  <a:pt x="178883" y="21600"/>
                </a:lnTo>
                <a:lnTo>
                  <a:pt x="0" y="21600"/>
                </a:lnTo>
                <a:close/>
              </a:path>
              <a:path fill="lightenLess" w="178883" h="21600">
                <a:moveTo>
                  <a:pt x="0" y="0"/>
                </a:moveTo>
                <a:lnTo>
                  <a:pt x="178883" y="0"/>
                </a:lnTo>
                <a:lnTo>
                  <a:pt x="177484" y="1400"/>
                </a:lnTo>
                <a:lnTo>
                  <a:pt x="1400" y="1400"/>
                </a:lnTo>
                <a:close/>
              </a:path>
              <a:path fill="darken" w="178883" h="21600">
                <a:moveTo>
                  <a:pt x="178883" y="0"/>
                </a:moveTo>
                <a:lnTo>
                  <a:pt x="178883" y="21600"/>
                </a:lnTo>
                <a:lnTo>
                  <a:pt x="177484" y="20200"/>
                </a:lnTo>
                <a:lnTo>
                  <a:pt x="177484" y="1400"/>
                </a:lnTo>
                <a:close/>
              </a:path>
              <a:path fill="darkenLess" w="178883" h="21600">
                <a:moveTo>
                  <a:pt x="1788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7484" y="20200"/>
                </a:lnTo>
                <a:close/>
              </a:path>
              <a:path fill="lighten" w="1788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8080"/>
                </a:solidFill>
                <a:latin typeface="Arial"/>
                <a:ea typeface="HG丸ｺﾞｼｯｸM-PRO"/>
              </a:rPr>
              <a:t>2. Standardization Trend of Optical Access Syste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8080"/>
                </a:solidFill>
                <a:latin typeface="Arial"/>
                <a:ea typeface="HG丸ｺﾞｼｯｸM-PRO"/>
              </a:rPr>
              <a:t>	</a:t>
            </a:r>
            <a:r>
              <a:rPr b="1" lang="en-US" sz="2600" spc="-1" strike="noStrike">
                <a:solidFill>
                  <a:srgbClr val="808080"/>
                </a:solidFill>
                <a:latin typeface="Arial"/>
                <a:ea typeface="HG丸ｺﾞｼｯｸM-PRO"/>
              </a:rPr>
              <a:t>B-PON and G-P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2440" y="3735360"/>
            <a:ext cx="8574120" cy="1035000"/>
          </a:xfrm>
          <a:custGeom>
            <a:avLst/>
            <a:gdLst>
              <a:gd name="textAreaLeft" fmla="*/ 66960 w 8574120"/>
              <a:gd name="textAreaRight" fmla="*/ 8507160 w 8574120"/>
              <a:gd name="textAreaTop" fmla="*/ 66960 h 1035000"/>
              <a:gd name="textAreaBottom" fmla="*/ 968040 h 1035000"/>
            </a:gdLst>
            <a:ahLst/>
            <a:rect l="textAreaLeft" t="textAreaTop" r="textAreaRight" b="textAreaBottom"/>
            <a:pathLst>
              <a:path w="178883" h="21600">
                <a:moveTo>
                  <a:pt x="0" y="0"/>
                </a:moveTo>
                <a:lnTo>
                  <a:pt x="178883" y="0"/>
                </a:lnTo>
                <a:lnTo>
                  <a:pt x="178883" y="21600"/>
                </a:lnTo>
                <a:lnTo>
                  <a:pt x="0" y="21600"/>
                </a:lnTo>
                <a:close/>
              </a:path>
              <a:path fill="lightenLess" w="178883" h="21600">
                <a:moveTo>
                  <a:pt x="0" y="0"/>
                </a:moveTo>
                <a:lnTo>
                  <a:pt x="178883" y="0"/>
                </a:lnTo>
                <a:lnTo>
                  <a:pt x="177484" y="1400"/>
                </a:lnTo>
                <a:lnTo>
                  <a:pt x="1400" y="1400"/>
                </a:lnTo>
                <a:close/>
              </a:path>
              <a:path fill="darken" w="178883" h="21600">
                <a:moveTo>
                  <a:pt x="178883" y="0"/>
                </a:moveTo>
                <a:lnTo>
                  <a:pt x="178883" y="21600"/>
                </a:lnTo>
                <a:lnTo>
                  <a:pt x="177484" y="20200"/>
                </a:lnTo>
                <a:lnTo>
                  <a:pt x="177484" y="1400"/>
                </a:lnTo>
                <a:close/>
              </a:path>
              <a:path fill="darkenLess" w="178883" h="21600">
                <a:moveTo>
                  <a:pt x="1788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7484" y="20200"/>
                </a:lnTo>
                <a:close/>
              </a:path>
              <a:path fill="lighten" w="1788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8080"/>
                </a:solidFill>
                <a:latin typeface="Arial"/>
                <a:ea typeface="HG丸ｺﾞｼｯｸM-PRO"/>
              </a:rPr>
              <a:t>3. B-PON Trial and Deployment in NT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65040" y="4916520"/>
            <a:ext cx="8574120" cy="1035000"/>
          </a:xfrm>
          <a:custGeom>
            <a:avLst/>
            <a:gdLst>
              <a:gd name="textAreaLeft" fmla="*/ 66960 w 8574120"/>
              <a:gd name="textAreaRight" fmla="*/ 8507160 w 8574120"/>
              <a:gd name="textAreaTop" fmla="*/ 66960 h 1035000"/>
              <a:gd name="textAreaBottom" fmla="*/ 968040 h 1035000"/>
            </a:gdLst>
            <a:ahLst/>
            <a:rect l="textAreaLeft" t="textAreaTop" r="textAreaRight" b="textAreaBottom"/>
            <a:pathLst>
              <a:path w="178883" h="21600">
                <a:moveTo>
                  <a:pt x="0" y="0"/>
                </a:moveTo>
                <a:lnTo>
                  <a:pt x="178883" y="0"/>
                </a:lnTo>
                <a:lnTo>
                  <a:pt x="178883" y="21600"/>
                </a:lnTo>
                <a:lnTo>
                  <a:pt x="0" y="21600"/>
                </a:lnTo>
                <a:close/>
              </a:path>
              <a:path fill="lightenLess" w="178883" h="21600">
                <a:moveTo>
                  <a:pt x="0" y="0"/>
                </a:moveTo>
                <a:lnTo>
                  <a:pt x="178883" y="0"/>
                </a:lnTo>
                <a:lnTo>
                  <a:pt x="177484" y="1400"/>
                </a:lnTo>
                <a:lnTo>
                  <a:pt x="1400" y="1400"/>
                </a:lnTo>
                <a:close/>
              </a:path>
              <a:path fill="darken" w="178883" h="21600">
                <a:moveTo>
                  <a:pt x="178883" y="0"/>
                </a:moveTo>
                <a:lnTo>
                  <a:pt x="178883" y="21600"/>
                </a:lnTo>
                <a:lnTo>
                  <a:pt x="177484" y="20200"/>
                </a:lnTo>
                <a:lnTo>
                  <a:pt x="177484" y="1400"/>
                </a:lnTo>
                <a:close/>
              </a:path>
              <a:path fill="darkenLess" w="178883" h="21600">
                <a:moveTo>
                  <a:pt x="1788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7484" y="20200"/>
                </a:lnTo>
                <a:close/>
              </a:path>
              <a:path fill="lighten" w="1788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8080"/>
                </a:solidFill>
                <a:latin typeface="Arial"/>
                <a:ea typeface="HG丸ｺﾞｼｯｸM-PRO"/>
              </a:rPr>
              <a:t>4. Future issues and Conclus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"/>
          <p:cNvSpPr/>
          <p:nvPr/>
        </p:nvSpPr>
        <p:spPr>
          <a:xfrm>
            <a:off x="371520" y="1963800"/>
            <a:ext cx="82692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  <a:ea typeface="HG丸ｺﾞｼｯｸM-PRO"/>
              </a:rPr>
              <a:t>Appendi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  <a:ea typeface="HG丸ｺﾞｼｯｸM-PRO"/>
              </a:rPr>
              <a:t>ITU-T B-PON Standards and the out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1" name=""/>
          <p:cNvGraphicFramePr/>
          <p:nvPr/>
        </p:nvGraphicFramePr>
        <p:xfrm>
          <a:off x="358920" y="849240"/>
          <a:ext cx="8439120" cy="5505120"/>
        </p:xfrm>
        <a:graphic>
          <a:graphicData uri="http://schemas.openxmlformats.org/drawingml/2006/table">
            <a:tbl>
              <a:tblPr/>
              <a:tblGrid>
                <a:gridCol w="947520"/>
                <a:gridCol w="6440760"/>
                <a:gridCol w="105084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d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d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d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98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Broadband optical access systems based on Passive Optical Networks (P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/ 19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983.1.amd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Broadband optical access systems based on Passive Optical Networks (PON) amendment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/ 2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983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983.2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The ONT Management and Control Interface Specification for ATM-P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/ 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/ 200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983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A broadband optical access system with increased service capability by wavelength allo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/ 2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983.3.amd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A broadband optical access system with increased service capability by wavelength allocation amendment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 200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983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A Broadband Optical Access System with increased service capability using Dynamic Bandwidth Assign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/ 2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983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A broadband optical access system with enhanced surviva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/2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983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ONT management and control interface specification for B-PON system with protection featu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/ 200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983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ONT management and control interface specification for DBA B-PON sys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/ 2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.834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HG丸ｺﾞｼｯｸM-PRO"/>
                        </a:rPr>
                        <a:t>ATM-PON requirements and managed entities for the network element view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/ 2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.834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HG丸ｺﾞｼｯｸM-PRO"/>
                        </a:rPr>
                        <a:t>ATM-PON requirements and managed entities for the network view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/ 2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.834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HG丸ｺﾞｼｯｸM-PRO"/>
                        </a:rPr>
                        <a:t>A UML description for management interface requirements for broadband passive optical networ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/ 2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202" name=""/>
          <p:cNvSpPr/>
          <p:nvPr/>
        </p:nvSpPr>
        <p:spPr>
          <a:xfrm>
            <a:off x="410760" y="69840"/>
            <a:ext cx="83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List of ITU-T Recommendations on B-P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"/>
          <p:cNvSpPr/>
          <p:nvPr/>
        </p:nvSpPr>
        <p:spPr>
          <a:xfrm>
            <a:off x="960480" y="55440"/>
            <a:ext cx="723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-PON Basic Recommend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179280" y="1001880"/>
            <a:ext cx="879012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3333cc"/>
                </a:solidFill>
                <a:latin typeface="Arial"/>
              </a:rPr>
              <a:t>G.98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(PON requirements and ODN defini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e :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1 /1996 appro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3333cc"/>
                </a:solidFill>
                <a:latin typeface="Arial"/>
              </a:rPr>
              <a:t>G.983.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(Physical layer specifica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Editor 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B. Ford (BellSouth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Date :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0 /1998 appro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3333cc"/>
                </a:solidFill>
                <a:latin typeface="Arial"/>
              </a:rPr>
              <a:t>G.983.1.amd1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Add 622Mbit/s upstre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Editor 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F. Effenberger (Quantum Bridge)  Date :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2 /2001 appro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 flipH="1" flipV="1">
            <a:off x="3314880" y="5343120"/>
            <a:ext cx="939600" cy="476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 flipH="1">
            <a:off x="3389040" y="5867280"/>
            <a:ext cx="850680" cy="425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 flipH="1" flipV="1">
            <a:off x="2358720" y="5376960"/>
            <a:ext cx="1893960" cy="428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 flipH="1">
            <a:off x="2364840" y="5854680"/>
            <a:ext cx="1893960" cy="357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 flipH="1">
            <a:off x="2324160" y="5832360"/>
            <a:ext cx="2703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0" name=""/>
          <p:cNvGrpSpPr/>
          <p:nvPr/>
        </p:nvGrpSpPr>
        <p:grpSpPr>
          <a:xfrm>
            <a:off x="2641680" y="5641920"/>
            <a:ext cx="112320" cy="299880"/>
            <a:chOff x="2641680" y="5641920"/>
            <a:chExt cx="112320" cy="299880"/>
          </a:xfrm>
        </p:grpSpPr>
        <p:sp>
          <p:nvSpPr>
            <p:cNvPr id="2211" name=""/>
            <p:cNvSpPr/>
            <p:nvPr/>
          </p:nvSpPr>
          <p:spPr>
            <a:xfrm flipH="1">
              <a:off x="2723760" y="5646600"/>
              <a:ext cx="30240" cy="29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 flipH="1">
              <a:off x="2641680" y="5641920"/>
              <a:ext cx="30960" cy="29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3" name=""/>
          <p:cNvSpPr/>
          <p:nvPr/>
        </p:nvSpPr>
        <p:spPr>
          <a:xfrm flipH="1">
            <a:off x="4151160" y="5738760"/>
            <a:ext cx="214560" cy="17316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4" name=""/>
          <p:cNvGrpSpPr/>
          <p:nvPr/>
        </p:nvGrpSpPr>
        <p:grpSpPr>
          <a:xfrm>
            <a:off x="2638440" y="5292720"/>
            <a:ext cx="112320" cy="299880"/>
            <a:chOff x="2638440" y="5292720"/>
            <a:chExt cx="112320" cy="299880"/>
          </a:xfrm>
        </p:grpSpPr>
        <p:sp>
          <p:nvSpPr>
            <p:cNvPr id="2215" name=""/>
            <p:cNvSpPr/>
            <p:nvPr/>
          </p:nvSpPr>
          <p:spPr>
            <a:xfrm flipH="1">
              <a:off x="2720520" y="5297400"/>
              <a:ext cx="30240" cy="29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 flipH="1">
              <a:off x="2638440" y="5292720"/>
              <a:ext cx="30960" cy="29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7" name=""/>
          <p:cNvGrpSpPr/>
          <p:nvPr/>
        </p:nvGrpSpPr>
        <p:grpSpPr>
          <a:xfrm>
            <a:off x="2643480" y="5997600"/>
            <a:ext cx="114120" cy="299880"/>
            <a:chOff x="2643480" y="5997600"/>
            <a:chExt cx="114120" cy="299880"/>
          </a:xfrm>
        </p:grpSpPr>
        <p:sp>
          <p:nvSpPr>
            <p:cNvPr id="2218" name=""/>
            <p:cNvSpPr/>
            <p:nvPr/>
          </p:nvSpPr>
          <p:spPr>
            <a:xfrm flipH="1">
              <a:off x="2726640" y="6002280"/>
              <a:ext cx="30960" cy="29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 flipH="1">
              <a:off x="2643120" y="5997600"/>
              <a:ext cx="31320" cy="29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0" name=""/>
          <p:cNvSpPr/>
          <p:nvPr/>
        </p:nvSpPr>
        <p:spPr>
          <a:xfrm>
            <a:off x="1700280" y="5141880"/>
            <a:ext cx="671400" cy="388800"/>
          </a:xfrm>
          <a:prstGeom prst="roundRect">
            <a:avLst>
              <a:gd name="adj" fmla="val 16667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1706400" y="5610240"/>
            <a:ext cx="671760" cy="388800"/>
          </a:xfrm>
          <a:prstGeom prst="roundRect">
            <a:avLst>
              <a:gd name="adj" fmla="val 16667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1692360" y="6070680"/>
            <a:ext cx="671400" cy="388800"/>
          </a:xfrm>
          <a:prstGeom prst="roundRect">
            <a:avLst>
              <a:gd name="adj" fmla="val 16667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4978440" y="5630760"/>
            <a:ext cx="744480" cy="405000"/>
          </a:xfrm>
          <a:prstGeom prst="roundRect">
            <a:avLst>
              <a:gd name="adj" fmla="val 16667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4" name=""/>
          <p:cNvGrpSpPr/>
          <p:nvPr/>
        </p:nvGrpSpPr>
        <p:grpSpPr>
          <a:xfrm>
            <a:off x="4778640" y="5664240"/>
            <a:ext cx="114120" cy="299880"/>
            <a:chOff x="4778640" y="5664240"/>
            <a:chExt cx="114120" cy="299880"/>
          </a:xfrm>
        </p:grpSpPr>
        <p:sp>
          <p:nvSpPr>
            <p:cNvPr id="2225" name=""/>
            <p:cNvSpPr/>
            <p:nvPr/>
          </p:nvSpPr>
          <p:spPr>
            <a:xfrm flipH="1">
              <a:off x="4861800" y="5668920"/>
              <a:ext cx="30960" cy="29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 flipH="1">
              <a:off x="4778280" y="5664240"/>
              <a:ext cx="31320" cy="29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7" name=""/>
          <p:cNvSpPr/>
          <p:nvPr/>
        </p:nvSpPr>
        <p:spPr>
          <a:xfrm>
            <a:off x="220680" y="3268800"/>
            <a:ext cx="870120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hysical Interface specifications between OLT and 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rvice and functional requirements for B-PON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Physical Medium Dependent layer specs. (e.g. Optical paramet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Transmission Convergence layer specs (e.g. Frame structure and protoco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2703600" y="5081760"/>
            <a:ext cx="2127240" cy="13507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3556440" y="606744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5759280" y="4797360"/>
            <a:ext cx="216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ulti-vendo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nteroper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 flipH="1">
            <a:off x="4775040" y="5167440"/>
            <a:ext cx="951120" cy="41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 flipH="1">
            <a:off x="2808000" y="5067360"/>
            <a:ext cx="299412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"/>
          <p:cNvSpPr/>
          <p:nvPr/>
        </p:nvSpPr>
        <p:spPr>
          <a:xfrm>
            <a:off x="1140120" y="54000"/>
            <a:ext cx="719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-PON OMCI Recommend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127080" y="1057320"/>
            <a:ext cx="895968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3333cc"/>
                </a:solidFill>
                <a:latin typeface="Arial"/>
              </a:rPr>
              <a:t>G.983.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(Basic OMCI specifica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Editor 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Y. Maeda (NTT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 Date :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4 / 2000 approv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3333cc"/>
                </a:solidFill>
                <a:latin typeface="Arial"/>
              </a:rPr>
              <a:t>G.983.2 amendments and re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Editor 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J. Lorentzen (SBC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Date 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2 / 2001 approved for amend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3333ff"/>
                </a:solidFill>
                <a:latin typeface="Arial"/>
              </a:rPr>
              <a:t>5 / 2002 consented for revised Recommend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3f56fd"/>
                </a:solidFill>
                <a:latin typeface="Arial"/>
              </a:rPr>
              <a:t>1 / 2003 to be consented for additional new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5" name=""/>
          <p:cNvGrpSpPr/>
          <p:nvPr/>
        </p:nvGrpSpPr>
        <p:grpSpPr>
          <a:xfrm>
            <a:off x="1941480" y="4441680"/>
            <a:ext cx="5260680" cy="1476000"/>
            <a:chOff x="1941480" y="4441680"/>
            <a:chExt cx="5260680" cy="1476000"/>
          </a:xfrm>
        </p:grpSpPr>
        <p:sp>
          <p:nvSpPr>
            <p:cNvPr id="2236" name=""/>
            <p:cNvSpPr/>
            <p:nvPr/>
          </p:nvSpPr>
          <p:spPr>
            <a:xfrm flipH="1" flipV="1">
              <a:off x="4097520" y="4667400"/>
              <a:ext cx="124884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 flipH="1">
              <a:off x="4197240" y="5254560"/>
              <a:ext cx="1131120" cy="476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 flipH="1" flipV="1">
              <a:off x="2827080" y="4704840"/>
              <a:ext cx="2517480" cy="480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 flipH="1">
              <a:off x="2835720" y="5240160"/>
              <a:ext cx="2517480" cy="400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 flipH="1">
              <a:off x="2781000" y="5215680"/>
              <a:ext cx="3593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41" name=""/>
            <p:cNvGrpSpPr/>
            <p:nvPr/>
          </p:nvGrpSpPr>
          <p:grpSpPr>
            <a:xfrm>
              <a:off x="3203640" y="5001840"/>
              <a:ext cx="149400" cy="335880"/>
              <a:chOff x="3203640" y="5001840"/>
              <a:chExt cx="149400" cy="335880"/>
            </a:xfrm>
          </p:grpSpPr>
          <p:sp>
            <p:nvSpPr>
              <p:cNvPr id="2242" name=""/>
              <p:cNvSpPr/>
              <p:nvPr/>
            </p:nvSpPr>
            <p:spPr>
              <a:xfrm flipH="1">
                <a:off x="3312720" y="5006880"/>
                <a:ext cx="40320" cy="330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 flipH="1">
                <a:off x="3203640" y="5001840"/>
                <a:ext cx="41040" cy="330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4" name=""/>
            <p:cNvSpPr/>
            <p:nvPr/>
          </p:nvSpPr>
          <p:spPr>
            <a:xfrm flipH="1">
              <a:off x="5210280" y="5110200"/>
              <a:ext cx="284400" cy="193680"/>
            </a:xfrm>
            <a:prstGeom prst="ellipse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45" name=""/>
            <p:cNvGrpSpPr/>
            <p:nvPr/>
          </p:nvGrpSpPr>
          <p:grpSpPr>
            <a:xfrm>
              <a:off x="3199320" y="4610520"/>
              <a:ext cx="149400" cy="335880"/>
              <a:chOff x="3199320" y="4610520"/>
              <a:chExt cx="149400" cy="335880"/>
            </a:xfrm>
          </p:grpSpPr>
          <p:sp>
            <p:nvSpPr>
              <p:cNvPr id="2246" name=""/>
              <p:cNvSpPr/>
              <p:nvPr/>
            </p:nvSpPr>
            <p:spPr>
              <a:xfrm flipH="1">
                <a:off x="3308400" y="4615560"/>
                <a:ext cx="40320" cy="330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 flipH="1">
                <a:off x="3199320" y="4610520"/>
                <a:ext cx="41040" cy="330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8" name=""/>
            <p:cNvGrpSpPr/>
            <p:nvPr/>
          </p:nvGrpSpPr>
          <p:grpSpPr>
            <a:xfrm>
              <a:off x="3205800" y="5400360"/>
              <a:ext cx="150840" cy="335880"/>
              <a:chOff x="3205800" y="5400360"/>
              <a:chExt cx="150840" cy="335880"/>
            </a:xfrm>
          </p:grpSpPr>
          <p:sp>
            <p:nvSpPr>
              <p:cNvPr id="2249" name=""/>
              <p:cNvSpPr/>
              <p:nvPr/>
            </p:nvSpPr>
            <p:spPr>
              <a:xfrm flipH="1">
                <a:off x="3315600" y="5405400"/>
                <a:ext cx="41040" cy="330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 flipH="1">
                <a:off x="3205440" y="5400360"/>
                <a:ext cx="41400" cy="330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1" name=""/>
            <p:cNvSpPr/>
            <p:nvPr/>
          </p:nvSpPr>
          <p:spPr>
            <a:xfrm>
              <a:off x="1951920" y="4441680"/>
              <a:ext cx="892800" cy="435960"/>
            </a:xfrm>
            <a:prstGeom prst="roundRect">
              <a:avLst>
                <a:gd name="adj" fmla="val 16667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1960560" y="4966200"/>
              <a:ext cx="892440" cy="435960"/>
            </a:xfrm>
            <a:prstGeom prst="roundRect">
              <a:avLst>
                <a:gd name="adj" fmla="val 16667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1941480" y="5482080"/>
              <a:ext cx="892440" cy="435600"/>
            </a:xfrm>
            <a:prstGeom prst="roundRect">
              <a:avLst>
                <a:gd name="adj" fmla="val 16667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6309360" y="5007600"/>
              <a:ext cx="892800" cy="435600"/>
            </a:xfrm>
            <a:prstGeom prst="roundRect">
              <a:avLst>
                <a:gd name="adj" fmla="val 16667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L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5" name=""/>
            <p:cNvGrpSpPr/>
            <p:nvPr/>
          </p:nvGrpSpPr>
          <p:grpSpPr>
            <a:xfrm>
              <a:off x="6044040" y="5026680"/>
              <a:ext cx="150840" cy="335880"/>
              <a:chOff x="6044040" y="5026680"/>
              <a:chExt cx="150840" cy="335880"/>
            </a:xfrm>
          </p:grpSpPr>
          <p:sp>
            <p:nvSpPr>
              <p:cNvPr id="2256" name=""/>
              <p:cNvSpPr/>
              <p:nvPr/>
            </p:nvSpPr>
            <p:spPr>
              <a:xfrm flipH="1">
                <a:off x="6153840" y="5031720"/>
                <a:ext cx="41040" cy="330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 flipH="1">
                <a:off x="6043680" y="5026680"/>
                <a:ext cx="41400" cy="330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58" name=""/>
          <p:cNvSpPr/>
          <p:nvPr/>
        </p:nvSpPr>
        <p:spPr>
          <a:xfrm>
            <a:off x="217440" y="3570120"/>
            <a:ext cx="568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CI : ONT Management and Control Interfa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2743200" y="3973680"/>
            <a:ext cx="3855960" cy="563400"/>
          </a:xfrm>
          <a:prstGeom prst="leftArrow">
            <a:avLst>
              <a:gd name="adj1" fmla="val 55630"/>
              <a:gd name="adj2" fmla="val 90431"/>
            </a:avLst>
          </a:prstGeom>
          <a:solidFill>
            <a:srgbClr val="bfe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 flipH="1">
            <a:off x="2780640" y="5916600"/>
            <a:ext cx="3855960" cy="563400"/>
          </a:xfrm>
          <a:prstGeom prst="leftArrow">
            <a:avLst>
              <a:gd name="adj1" fmla="val 55630"/>
              <a:gd name="adj2" fmla="val 90431"/>
            </a:avLst>
          </a:prstGeom>
          <a:solidFill>
            <a:srgbClr val="bfe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es or al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"/>
          <p:cNvSpPr/>
          <p:nvPr/>
        </p:nvSpPr>
        <p:spPr>
          <a:xfrm>
            <a:off x="1211400" y="57240"/>
            <a:ext cx="726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-PON WDM Recommendati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325440" y="1095480"/>
            <a:ext cx="79344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3333cc"/>
                </a:solidFill>
                <a:latin typeface="Arial"/>
              </a:rPr>
              <a:t>G.983.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(Wavelength allocation for additional servic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Editor 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T. Sato (NTT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Date :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4 /2001 appro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3333cc"/>
                </a:solidFill>
                <a:latin typeface="Arial"/>
              </a:rPr>
              <a:t>G.983.3.amd1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Adjustment for 622Mbit/s upstre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Editor 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K. Nakanishi (NTT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Date : </a:t>
            </a:r>
            <a:r>
              <a:rPr b="0" lang="ja-JP" sz="2000" spc="-1" strike="noStrike">
                <a:solidFill>
                  <a:srgbClr val="3f56fd"/>
                </a:solidFill>
                <a:latin typeface="Arial"/>
              </a:rPr>
              <a:t>5 /2002 cons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398520" y="5002200"/>
            <a:ext cx="8077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398520" y="498312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4208400" y="498312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8018640" y="498312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2303640" y="498312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6113520" y="498312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135720" y="50022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1999440" y="5052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3904560" y="5052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5865120" y="50785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7733520" y="5052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1541520" y="4513320"/>
            <a:ext cx="1905120" cy="457200"/>
          </a:xfrm>
          <a:prstGeom prst="rect">
            <a:avLst/>
          </a:prstGeom>
          <a:solidFill>
            <a:srgbClr val="6099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5732640" y="4513320"/>
            <a:ext cx="379080" cy="457200"/>
          </a:xfrm>
          <a:prstGeom prst="rect">
            <a:avLst/>
          </a:prstGeom>
          <a:solidFill>
            <a:srgbClr val="96dc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6856560" y="4510080"/>
            <a:ext cx="498240" cy="457200"/>
          </a:xfrm>
          <a:prstGeom prst="rect">
            <a:avLst/>
          </a:prstGeom>
          <a:solidFill>
            <a:srgbClr val="ffa5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7790040" y="4513320"/>
            <a:ext cx="380880" cy="457200"/>
          </a:xfrm>
          <a:prstGeom prst="rect">
            <a:avLst/>
          </a:prstGeom>
          <a:solidFill>
            <a:srgbClr val="e8fcfe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1848600" y="407340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st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6310080" y="3816360"/>
            <a:ext cx="175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5035320" y="407340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8033040" y="4094280"/>
            <a:ext cx="840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3827520" y="4510080"/>
            <a:ext cx="1523880" cy="457200"/>
          </a:xfrm>
          <a:prstGeom prst="rect">
            <a:avLst/>
          </a:prstGeom>
          <a:solidFill>
            <a:srgbClr val="e8fcfe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3740400" y="4094280"/>
            <a:ext cx="840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7064280" y="4511520"/>
            <a:ext cx="193680" cy="457200"/>
          </a:xfrm>
          <a:prstGeom prst="rect">
            <a:avLst/>
          </a:prstGeom>
          <a:solidFill>
            <a:srgbClr val="ff69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5214600" y="5456160"/>
            <a:ext cx="172296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Video 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550-156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 flipV="1">
            <a:off x="7120080" y="5097240"/>
            <a:ext cx="0" cy="6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 flipV="1">
            <a:off x="7256520" y="5294160"/>
            <a:ext cx="0" cy="102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 rot="16200000">
            <a:off x="7058520" y="5043960"/>
            <a:ext cx="76320" cy="490680"/>
          </a:xfrm>
          <a:custGeom>
            <a:avLst/>
            <a:gdLst>
              <a:gd name="textAreaLeft" fmla="*/ 22320 w 76320"/>
              <a:gd name="textAreaRight" fmla="*/ 76320 w 76320"/>
              <a:gd name="textAreaTop" fmla="*/ 20160 h 490680"/>
              <a:gd name="textAreaBottom" fmla="*/ 470520 h 49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 rot="16200000">
            <a:off x="7109640" y="4985640"/>
            <a:ext cx="85680" cy="201600"/>
          </a:xfrm>
          <a:custGeom>
            <a:avLst/>
            <a:gdLst>
              <a:gd name="textAreaLeft" fmla="*/ 25200 w 85680"/>
              <a:gd name="textAreaRight" fmla="*/ 86040 w 85680"/>
              <a:gd name="textAreaTop" fmla="*/ 8280 h 201600"/>
              <a:gd name="textAreaBottom" fmla="*/ 193320 h 20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6770520" y="5737320"/>
            <a:ext cx="33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6680160" y="6313320"/>
            <a:ext cx="56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5003640" y="5975280"/>
            <a:ext cx="177948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Digital 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539-156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1234080" y="49687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3094920" y="4951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5360040" y="4917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270000" y="2682720"/>
            <a:ext cx="853596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60-1360 nm for upstream and 1480–1500 nm downstream wavelength allocation becomes a common PON standard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"/>
          <p:cNvSpPr/>
          <p:nvPr/>
        </p:nvSpPr>
        <p:spPr>
          <a:xfrm>
            <a:off x="1272240" y="69840"/>
            <a:ext cx="699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-PON DBA Recommend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441360" y="977760"/>
            <a:ext cx="8358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3333cc"/>
                </a:solidFill>
                <a:latin typeface="Arial"/>
              </a:rPr>
              <a:t>G.983.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(Dynamic bandwidth assignment protoco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Editor 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B. Ford (BellSouth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Date :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2 /2001 appro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3333cc"/>
                </a:solidFill>
                <a:latin typeface="Arial"/>
              </a:rPr>
              <a:t>G.983.7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OMCI for DBA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Editor 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S. Karasawa (Oki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Date :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2 /2001 appro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380880" y="3197160"/>
            <a:ext cx="157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 flipV="1">
            <a:off x="371520" y="5702400"/>
            <a:ext cx="15796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1" name=""/>
          <p:cNvGrpSpPr/>
          <p:nvPr/>
        </p:nvGrpSpPr>
        <p:grpSpPr>
          <a:xfrm>
            <a:off x="401760" y="2520720"/>
            <a:ext cx="1388520" cy="686160"/>
            <a:chOff x="401760" y="2520720"/>
            <a:chExt cx="1388520" cy="686160"/>
          </a:xfrm>
        </p:grpSpPr>
        <p:sp>
          <p:nvSpPr>
            <p:cNvPr id="2302" name=""/>
            <p:cNvSpPr/>
            <p:nvPr/>
          </p:nvSpPr>
          <p:spPr>
            <a:xfrm>
              <a:off x="414360" y="2532240"/>
              <a:ext cx="1375920" cy="67428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414360" y="2521080"/>
              <a:ext cx="1363320" cy="14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 flipV="1">
              <a:off x="1778040" y="2520720"/>
              <a:ext cx="1080" cy="66276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414360" y="3183840"/>
              <a:ext cx="1363320" cy="10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 flipV="1">
              <a:off x="414360" y="2520720"/>
              <a:ext cx="1080" cy="66276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414360" y="2670120"/>
              <a:ext cx="1375920" cy="536760"/>
            </a:xfrm>
            <a:custGeom>
              <a:avLst/>
              <a:gdLst/>
              <a:ahLst/>
              <a:rect l="l" t="t" r="r" b="b"/>
              <a:pathLst>
                <a:path w="870" h="375">
                  <a:moveTo>
                    <a:pt x="0" y="327"/>
                  </a:moveTo>
                  <a:lnTo>
                    <a:pt x="72" y="255"/>
                  </a:lnTo>
                  <a:lnTo>
                    <a:pt x="152" y="0"/>
                  </a:lnTo>
                  <a:lnTo>
                    <a:pt x="223" y="255"/>
                  </a:lnTo>
                  <a:lnTo>
                    <a:pt x="295" y="351"/>
                  </a:lnTo>
                  <a:lnTo>
                    <a:pt x="367" y="375"/>
                  </a:lnTo>
                  <a:lnTo>
                    <a:pt x="439" y="279"/>
                  </a:lnTo>
                  <a:lnTo>
                    <a:pt x="511" y="375"/>
                  </a:lnTo>
                  <a:lnTo>
                    <a:pt x="582" y="375"/>
                  </a:lnTo>
                  <a:lnTo>
                    <a:pt x="654" y="375"/>
                  </a:lnTo>
                  <a:lnTo>
                    <a:pt x="726" y="375"/>
                  </a:lnTo>
                  <a:lnTo>
                    <a:pt x="798" y="375"/>
                  </a:lnTo>
                  <a:lnTo>
                    <a:pt x="870" y="375"/>
                  </a:lnTo>
                  <a:lnTo>
                    <a:pt x="870" y="375"/>
                  </a:lnTo>
                  <a:lnTo>
                    <a:pt x="798" y="375"/>
                  </a:lnTo>
                  <a:lnTo>
                    <a:pt x="726" y="375"/>
                  </a:lnTo>
                  <a:lnTo>
                    <a:pt x="654" y="375"/>
                  </a:lnTo>
                  <a:lnTo>
                    <a:pt x="582" y="375"/>
                  </a:lnTo>
                  <a:lnTo>
                    <a:pt x="511" y="375"/>
                  </a:lnTo>
                  <a:lnTo>
                    <a:pt x="439" y="375"/>
                  </a:lnTo>
                  <a:lnTo>
                    <a:pt x="367" y="375"/>
                  </a:lnTo>
                  <a:lnTo>
                    <a:pt x="295" y="375"/>
                  </a:lnTo>
                  <a:lnTo>
                    <a:pt x="223" y="375"/>
                  </a:lnTo>
                  <a:lnTo>
                    <a:pt x="152" y="375"/>
                  </a:lnTo>
                  <a:lnTo>
                    <a:pt x="72" y="375"/>
                  </a:lnTo>
                  <a:lnTo>
                    <a:pt x="0" y="375"/>
                  </a:lnTo>
                  <a:lnTo>
                    <a:pt x="0" y="327"/>
                  </a:lnTo>
                  <a:close/>
                </a:path>
              </a:pathLst>
            </a:custGeom>
            <a:solidFill>
              <a:srgbClr val="cc00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414360" y="2658600"/>
              <a:ext cx="1363320" cy="525240"/>
            </a:xfrm>
            <a:custGeom>
              <a:avLst/>
              <a:gdLst/>
              <a:ahLst/>
              <a:rect l="l" t="t" r="r" b="b"/>
              <a:pathLst>
                <a:path w="862" h="367">
                  <a:moveTo>
                    <a:pt x="0" y="367"/>
                  </a:moveTo>
                  <a:lnTo>
                    <a:pt x="0" y="319"/>
                  </a:lnTo>
                  <a:lnTo>
                    <a:pt x="72" y="255"/>
                  </a:lnTo>
                  <a:lnTo>
                    <a:pt x="144" y="0"/>
                  </a:lnTo>
                  <a:lnTo>
                    <a:pt x="215" y="255"/>
                  </a:lnTo>
                  <a:lnTo>
                    <a:pt x="287" y="351"/>
                  </a:lnTo>
                  <a:lnTo>
                    <a:pt x="359" y="367"/>
                  </a:lnTo>
                  <a:lnTo>
                    <a:pt x="431" y="271"/>
                  </a:lnTo>
                  <a:lnTo>
                    <a:pt x="503" y="367"/>
                  </a:lnTo>
                  <a:lnTo>
                    <a:pt x="574" y="367"/>
                  </a:lnTo>
                  <a:lnTo>
                    <a:pt x="646" y="367"/>
                  </a:lnTo>
                  <a:lnTo>
                    <a:pt x="718" y="367"/>
                  </a:lnTo>
                  <a:lnTo>
                    <a:pt x="790" y="367"/>
                  </a:lnTo>
                  <a:lnTo>
                    <a:pt x="862" y="367"/>
                  </a:lnTo>
                  <a:lnTo>
                    <a:pt x="862" y="36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 flipV="1">
              <a:off x="401760" y="2520720"/>
              <a:ext cx="1440" cy="67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401760" y="319536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401760" y="3023640"/>
              <a:ext cx="252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401760" y="285300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401760" y="2681280"/>
              <a:ext cx="252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401760" y="252108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401760" y="3195360"/>
              <a:ext cx="13762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 flipV="1">
              <a:off x="401760" y="3172320"/>
              <a:ext cx="1440" cy="2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 flipV="1">
              <a:off x="515520" y="3172320"/>
              <a:ext cx="1080" cy="2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 flipV="1">
              <a:off x="642240" y="3172320"/>
              <a:ext cx="1080" cy="2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 flipV="1">
              <a:off x="754560" y="3172320"/>
              <a:ext cx="1080" cy="2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 flipV="1">
              <a:off x="868320" y="3172320"/>
              <a:ext cx="1440" cy="2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 flipV="1">
              <a:off x="982440" y="3172320"/>
              <a:ext cx="1080" cy="2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 flipV="1">
              <a:off x="1096200" y="3172320"/>
              <a:ext cx="1440" cy="2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 flipV="1">
              <a:off x="1209960" y="3172320"/>
              <a:ext cx="1080" cy="2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 flipV="1">
              <a:off x="1322280" y="3172320"/>
              <a:ext cx="1080" cy="2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 flipV="1">
              <a:off x="1436040" y="3172320"/>
              <a:ext cx="1440" cy="2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 flipV="1">
              <a:off x="1550160" y="3172320"/>
              <a:ext cx="1080" cy="2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 flipV="1">
              <a:off x="1663920" y="3172320"/>
              <a:ext cx="1440" cy="2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 flipV="1">
              <a:off x="1778040" y="3172320"/>
              <a:ext cx="1080" cy="2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9" name=""/>
          <p:cNvGrpSpPr/>
          <p:nvPr/>
        </p:nvGrpSpPr>
        <p:grpSpPr>
          <a:xfrm>
            <a:off x="401760" y="5035320"/>
            <a:ext cx="1387080" cy="664920"/>
            <a:chOff x="401760" y="5035320"/>
            <a:chExt cx="1387080" cy="664920"/>
          </a:xfrm>
        </p:grpSpPr>
        <p:sp>
          <p:nvSpPr>
            <p:cNvPr id="2330" name=""/>
            <p:cNvSpPr/>
            <p:nvPr/>
          </p:nvSpPr>
          <p:spPr>
            <a:xfrm>
              <a:off x="414000" y="5046480"/>
              <a:ext cx="1374840" cy="65376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414000" y="5046480"/>
              <a:ext cx="1362240" cy="10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 flipV="1">
              <a:off x="1776600" y="5046480"/>
              <a:ext cx="1440" cy="6422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414000" y="5689080"/>
              <a:ext cx="1362240" cy="14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 flipV="1">
              <a:off x="414000" y="5046480"/>
              <a:ext cx="1080" cy="6422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414000" y="5046480"/>
              <a:ext cx="1374840" cy="653760"/>
            </a:xfrm>
            <a:custGeom>
              <a:avLst/>
              <a:gdLst/>
              <a:ahLst/>
              <a:rect l="l" t="t" r="r" b="b"/>
              <a:pathLst>
                <a:path w="870" h="470">
                  <a:moveTo>
                    <a:pt x="0" y="407"/>
                  </a:moveTo>
                  <a:lnTo>
                    <a:pt x="72" y="359"/>
                  </a:lnTo>
                  <a:lnTo>
                    <a:pt x="151" y="191"/>
                  </a:lnTo>
                  <a:lnTo>
                    <a:pt x="223" y="359"/>
                  </a:lnTo>
                  <a:lnTo>
                    <a:pt x="295" y="407"/>
                  </a:lnTo>
                  <a:lnTo>
                    <a:pt x="367" y="470"/>
                  </a:lnTo>
                  <a:lnTo>
                    <a:pt x="439" y="470"/>
                  </a:lnTo>
                  <a:lnTo>
                    <a:pt x="511" y="470"/>
                  </a:lnTo>
                  <a:lnTo>
                    <a:pt x="582" y="407"/>
                  </a:lnTo>
                  <a:lnTo>
                    <a:pt x="654" y="119"/>
                  </a:lnTo>
                  <a:lnTo>
                    <a:pt x="726" y="0"/>
                  </a:lnTo>
                  <a:lnTo>
                    <a:pt x="798" y="359"/>
                  </a:lnTo>
                  <a:lnTo>
                    <a:pt x="870" y="470"/>
                  </a:lnTo>
                  <a:lnTo>
                    <a:pt x="870" y="470"/>
                  </a:lnTo>
                  <a:lnTo>
                    <a:pt x="798" y="470"/>
                  </a:lnTo>
                  <a:lnTo>
                    <a:pt x="726" y="470"/>
                  </a:lnTo>
                  <a:lnTo>
                    <a:pt x="654" y="470"/>
                  </a:lnTo>
                  <a:lnTo>
                    <a:pt x="582" y="470"/>
                  </a:lnTo>
                  <a:lnTo>
                    <a:pt x="511" y="470"/>
                  </a:lnTo>
                  <a:lnTo>
                    <a:pt x="439" y="470"/>
                  </a:lnTo>
                  <a:lnTo>
                    <a:pt x="367" y="470"/>
                  </a:lnTo>
                  <a:lnTo>
                    <a:pt x="295" y="470"/>
                  </a:lnTo>
                  <a:lnTo>
                    <a:pt x="223" y="470"/>
                  </a:lnTo>
                  <a:lnTo>
                    <a:pt x="151" y="470"/>
                  </a:lnTo>
                  <a:lnTo>
                    <a:pt x="72" y="470"/>
                  </a:lnTo>
                  <a:lnTo>
                    <a:pt x="0" y="470"/>
                  </a:lnTo>
                  <a:lnTo>
                    <a:pt x="0" y="407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414000" y="5046480"/>
              <a:ext cx="1362240" cy="642240"/>
            </a:xfrm>
            <a:custGeom>
              <a:avLst/>
              <a:gdLst/>
              <a:ahLst/>
              <a:rect l="l" t="t" r="r" b="b"/>
              <a:pathLst>
                <a:path w="862" h="462">
                  <a:moveTo>
                    <a:pt x="0" y="462"/>
                  </a:moveTo>
                  <a:lnTo>
                    <a:pt x="0" y="391"/>
                  </a:lnTo>
                  <a:lnTo>
                    <a:pt x="72" y="343"/>
                  </a:lnTo>
                  <a:lnTo>
                    <a:pt x="144" y="183"/>
                  </a:lnTo>
                  <a:lnTo>
                    <a:pt x="215" y="343"/>
                  </a:lnTo>
                  <a:lnTo>
                    <a:pt x="287" y="391"/>
                  </a:lnTo>
                  <a:lnTo>
                    <a:pt x="359" y="462"/>
                  </a:lnTo>
                  <a:lnTo>
                    <a:pt x="431" y="462"/>
                  </a:lnTo>
                  <a:lnTo>
                    <a:pt x="503" y="462"/>
                  </a:lnTo>
                  <a:lnTo>
                    <a:pt x="574" y="391"/>
                  </a:lnTo>
                  <a:lnTo>
                    <a:pt x="646" y="111"/>
                  </a:lnTo>
                  <a:lnTo>
                    <a:pt x="718" y="0"/>
                  </a:lnTo>
                  <a:lnTo>
                    <a:pt x="790" y="343"/>
                  </a:lnTo>
                  <a:lnTo>
                    <a:pt x="862" y="462"/>
                  </a:lnTo>
                  <a:lnTo>
                    <a:pt x="862" y="46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 flipV="1">
              <a:off x="401760" y="5035320"/>
              <a:ext cx="1080" cy="65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401760" y="5689080"/>
              <a:ext cx="24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401760" y="5535000"/>
              <a:ext cx="248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401760" y="5367960"/>
              <a:ext cx="248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401760" y="5200920"/>
              <a:ext cx="24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401760" y="5035680"/>
              <a:ext cx="248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401760" y="5689080"/>
              <a:ext cx="1374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 flipV="1">
              <a:off x="401760" y="5667840"/>
              <a:ext cx="108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 flipV="1">
              <a:off x="515160" y="5667840"/>
              <a:ext cx="144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 flipV="1">
              <a:off x="641880" y="5667840"/>
              <a:ext cx="108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 flipV="1">
              <a:off x="753840" y="5667840"/>
              <a:ext cx="108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 flipV="1">
              <a:off x="867960" y="5667840"/>
              <a:ext cx="108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 flipV="1">
              <a:off x="981360" y="5667840"/>
              <a:ext cx="108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 flipV="1">
              <a:off x="1095480" y="5667840"/>
              <a:ext cx="108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 flipV="1">
              <a:off x="1209240" y="5667840"/>
              <a:ext cx="108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 flipV="1">
              <a:off x="1321200" y="5667840"/>
              <a:ext cx="144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 flipV="1">
              <a:off x="1435320" y="5667840"/>
              <a:ext cx="108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 flipV="1">
              <a:off x="1548720" y="5667840"/>
              <a:ext cx="144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 flipV="1">
              <a:off x="1662840" y="5667840"/>
              <a:ext cx="108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 flipV="1">
              <a:off x="1776600" y="5667840"/>
              <a:ext cx="144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7" name=""/>
          <p:cNvGrpSpPr/>
          <p:nvPr/>
        </p:nvGrpSpPr>
        <p:grpSpPr>
          <a:xfrm>
            <a:off x="401760" y="4197240"/>
            <a:ext cx="1388520" cy="685440"/>
            <a:chOff x="401760" y="4197240"/>
            <a:chExt cx="1388520" cy="685440"/>
          </a:xfrm>
        </p:grpSpPr>
        <p:sp>
          <p:nvSpPr>
            <p:cNvPr id="2358" name=""/>
            <p:cNvSpPr/>
            <p:nvPr/>
          </p:nvSpPr>
          <p:spPr>
            <a:xfrm>
              <a:off x="414000" y="4208760"/>
              <a:ext cx="1376280" cy="67392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401760" y="4208760"/>
              <a:ext cx="1363680" cy="14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 flipV="1">
              <a:off x="1765440" y="4208760"/>
              <a:ext cx="1080" cy="6624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401760" y="4871160"/>
              <a:ext cx="1363680" cy="10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 flipV="1">
              <a:off x="401760" y="4208760"/>
              <a:ext cx="1080" cy="6624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414000" y="4579920"/>
              <a:ext cx="1376280" cy="302760"/>
            </a:xfrm>
            <a:custGeom>
              <a:avLst/>
              <a:gdLst/>
              <a:ahLst/>
              <a:rect l="l" t="t" r="r" b="b"/>
              <a:pathLst>
                <a:path w="870" h="208">
                  <a:moveTo>
                    <a:pt x="0" y="208"/>
                  </a:moveTo>
                  <a:lnTo>
                    <a:pt x="72" y="96"/>
                  </a:lnTo>
                  <a:lnTo>
                    <a:pt x="144" y="48"/>
                  </a:lnTo>
                  <a:lnTo>
                    <a:pt x="215" y="96"/>
                  </a:lnTo>
                  <a:lnTo>
                    <a:pt x="287" y="208"/>
                  </a:lnTo>
                  <a:lnTo>
                    <a:pt x="359" y="144"/>
                  </a:lnTo>
                  <a:lnTo>
                    <a:pt x="431" y="0"/>
                  </a:lnTo>
                  <a:lnTo>
                    <a:pt x="503" y="48"/>
                  </a:lnTo>
                  <a:lnTo>
                    <a:pt x="574" y="208"/>
                  </a:lnTo>
                  <a:lnTo>
                    <a:pt x="646" y="208"/>
                  </a:lnTo>
                  <a:lnTo>
                    <a:pt x="726" y="208"/>
                  </a:lnTo>
                  <a:lnTo>
                    <a:pt x="798" y="208"/>
                  </a:lnTo>
                  <a:lnTo>
                    <a:pt x="870" y="208"/>
                  </a:lnTo>
                  <a:lnTo>
                    <a:pt x="870" y="208"/>
                  </a:lnTo>
                  <a:lnTo>
                    <a:pt x="798" y="208"/>
                  </a:lnTo>
                  <a:lnTo>
                    <a:pt x="726" y="208"/>
                  </a:lnTo>
                  <a:lnTo>
                    <a:pt x="646" y="208"/>
                  </a:lnTo>
                  <a:lnTo>
                    <a:pt x="574" y="208"/>
                  </a:lnTo>
                  <a:lnTo>
                    <a:pt x="503" y="208"/>
                  </a:lnTo>
                  <a:lnTo>
                    <a:pt x="431" y="208"/>
                  </a:lnTo>
                  <a:lnTo>
                    <a:pt x="359" y="208"/>
                  </a:lnTo>
                  <a:lnTo>
                    <a:pt x="287" y="208"/>
                  </a:lnTo>
                  <a:lnTo>
                    <a:pt x="215" y="208"/>
                  </a:lnTo>
                  <a:lnTo>
                    <a:pt x="144" y="208"/>
                  </a:lnTo>
                  <a:lnTo>
                    <a:pt x="72" y="208"/>
                  </a:lnTo>
                  <a:lnTo>
                    <a:pt x="0" y="208"/>
                  </a:lnTo>
                  <a:lnTo>
                    <a:pt x="0" y="2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401760" y="4568400"/>
              <a:ext cx="1363680" cy="302760"/>
            </a:xfrm>
            <a:custGeom>
              <a:avLst/>
              <a:gdLst/>
              <a:ahLst/>
              <a:rect l="l" t="t" r="r" b="b"/>
              <a:pathLst>
                <a:path w="862" h="208">
                  <a:moveTo>
                    <a:pt x="0" y="208"/>
                  </a:moveTo>
                  <a:lnTo>
                    <a:pt x="0" y="208"/>
                  </a:lnTo>
                  <a:lnTo>
                    <a:pt x="72" y="96"/>
                  </a:lnTo>
                  <a:lnTo>
                    <a:pt x="144" y="48"/>
                  </a:lnTo>
                  <a:lnTo>
                    <a:pt x="215" y="96"/>
                  </a:lnTo>
                  <a:lnTo>
                    <a:pt x="287" y="208"/>
                  </a:lnTo>
                  <a:lnTo>
                    <a:pt x="359" y="136"/>
                  </a:lnTo>
                  <a:lnTo>
                    <a:pt x="431" y="0"/>
                  </a:lnTo>
                  <a:lnTo>
                    <a:pt x="503" y="48"/>
                  </a:lnTo>
                  <a:lnTo>
                    <a:pt x="574" y="208"/>
                  </a:lnTo>
                  <a:lnTo>
                    <a:pt x="646" y="208"/>
                  </a:lnTo>
                  <a:lnTo>
                    <a:pt x="718" y="208"/>
                  </a:lnTo>
                  <a:lnTo>
                    <a:pt x="790" y="208"/>
                  </a:lnTo>
                  <a:lnTo>
                    <a:pt x="862" y="208"/>
                  </a:lnTo>
                  <a:lnTo>
                    <a:pt x="862" y="20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 flipV="1">
              <a:off x="401760" y="4197240"/>
              <a:ext cx="1080" cy="67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401760" y="4871160"/>
              <a:ext cx="248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401760" y="4708080"/>
              <a:ext cx="248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401760" y="4533480"/>
              <a:ext cx="248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401760" y="4371840"/>
              <a:ext cx="24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401760" y="4197240"/>
              <a:ext cx="24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401760" y="4871160"/>
              <a:ext cx="13762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 flipV="1">
              <a:off x="401760" y="4859640"/>
              <a:ext cx="1080" cy="1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 flipV="1">
              <a:off x="515160" y="4859640"/>
              <a:ext cx="1440" cy="1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 flipV="1">
              <a:off x="629280" y="4859640"/>
              <a:ext cx="1080" cy="1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 flipV="1">
              <a:off x="741600" y="4859640"/>
              <a:ext cx="1080" cy="1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 flipV="1">
              <a:off x="855360" y="4859640"/>
              <a:ext cx="1440" cy="1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 flipV="1">
              <a:off x="969480" y="4859640"/>
              <a:ext cx="1080" cy="1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 flipV="1">
              <a:off x="1083240" y="4859640"/>
              <a:ext cx="1440" cy="1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 flipV="1">
              <a:off x="1197360" y="4859640"/>
              <a:ext cx="1080" cy="1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 flipV="1">
              <a:off x="1309680" y="4859640"/>
              <a:ext cx="1080" cy="1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 flipV="1">
              <a:off x="1423440" y="4859640"/>
              <a:ext cx="1440" cy="1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 flipV="1">
              <a:off x="1550160" y="4859640"/>
              <a:ext cx="1440" cy="1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 flipV="1">
              <a:off x="1664280" y="4859640"/>
              <a:ext cx="1080" cy="1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 flipV="1">
              <a:off x="1778040" y="4859640"/>
              <a:ext cx="1440" cy="1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5" name=""/>
          <p:cNvGrpSpPr/>
          <p:nvPr/>
        </p:nvGrpSpPr>
        <p:grpSpPr>
          <a:xfrm>
            <a:off x="401760" y="3377880"/>
            <a:ext cx="1387080" cy="667080"/>
            <a:chOff x="401760" y="3377880"/>
            <a:chExt cx="1387080" cy="667080"/>
          </a:xfrm>
        </p:grpSpPr>
        <p:sp>
          <p:nvSpPr>
            <p:cNvPr id="2386" name=""/>
            <p:cNvSpPr/>
            <p:nvPr/>
          </p:nvSpPr>
          <p:spPr>
            <a:xfrm>
              <a:off x="414000" y="3389040"/>
              <a:ext cx="1374840" cy="65556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401760" y="3378240"/>
              <a:ext cx="1362240" cy="10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 flipV="1">
              <a:off x="1764000" y="3377880"/>
              <a:ext cx="1080" cy="65556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401760" y="4033800"/>
              <a:ext cx="1362240" cy="10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 flipV="1">
              <a:off x="401760" y="3377880"/>
              <a:ext cx="1080" cy="65556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414000" y="3722040"/>
              <a:ext cx="1374840" cy="322920"/>
            </a:xfrm>
            <a:custGeom>
              <a:avLst/>
              <a:gdLst/>
              <a:ahLst/>
              <a:rect l="l" t="t" r="r" b="b"/>
              <a:pathLst>
                <a:path w="870" h="232">
                  <a:moveTo>
                    <a:pt x="0" y="184"/>
                  </a:moveTo>
                  <a:lnTo>
                    <a:pt x="72" y="112"/>
                  </a:lnTo>
                  <a:lnTo>
                    <a:pt x="144" y="0"/>
                  </a:lnTo>
                  <a:lnTo>
                    <a:pt x="215" y="112"/>
                  </a:lnTo>
                  <a:lnTo>
                    <a:pt x="287" y="232"/>
                  </a:lnTo>
                  <a:lnTo>
                    <a:pt x="359" y="232"/>
                  </a:lnTo>
                  <a:lnTo>
                    <a:pt x="431" y="232"/>
                  </a:lnTo>
                  <a:lnTo>
                    <a:pt x="503" y="232"/>
                  </a:lnTo>
                  <a:lnTo>
                    <a:pt x="574" y="232"/>
                  </a:lnTo>
                  <a:lnTo>
                    <a:pt x="646" y="232"/>
                  </a:lnTo>
                  <a:lnTo>
                    <a:pt x="726" y="232"/>
                  </a:lnTo>
                  <a:lnTo>
                    <a:pt x="798" y="232"/>
                  </a:lnTo>
                  <a:lnTo>
                    <a:pt x="870" y="232"/>
                  </a:lnTo>
                  <a:lnTo>
                    <a:pt x="870" y="232"/>
                  </a:lnTo>
                  <a:lnTo>
                    <a:pt x="798" y="232"/>
                  </a:lnTo>
                  <a:lnTo>
                    <a:pt x="726" y="232"/>
                  </a:lnTo>
                  <a:lnTo>
                    <a:pt x="646" y="232"/>
                  </a:lnTo>
                  <a:lnTo>
                    <a:pt x="574" y="232"/>
                  </a:lnTo>
                  <a:lnTo>
                    <a:pt x="503" y="232"/>
                  </a:lnTo>
                  <a:lnTo>
                    <a:pt x="431" y="232"/>
                  </a:lnTo>
                  <a:lnTo>
                    <a:pt x="359" y="232"/>
                  </a:lnTo>
                  <a:lnTo>
                    <a:pt x="287" y="232"/>
                  </a:lnTo>
                  <a:lnTo>
                    <a:pt x="215" y="232"/>
                  </a:lnTo>
                  <a:lnTo>
                    <a:pt x="144" y="232"/>
                  </a:lnTo>
                  <a:lnTo>
                    <a:pt x="72" y="232"/>
                  </a:lnTo>
                  <a:lnTo>
                    <a:pt x="0" y="232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401760" y="3710520"/>
              <a:ext cx="1362240" cy="322920"/>
            </a:xfrm>
            <a:custGeom>
              <a:avLst/>
              <a:gdLst/>
              <a:ahLst/>
              <a:rect l="l" t="t" r="r" b="b"/>
              <a:pathLst>
                <a:path w="862" h="232">
                  <a:moveTo>
                    <a:pt x="0" y="232"/>
                  </a:moveTo>
                  <a:lnTo>
                    <a:pt x="0" y="184"/>
                  </a:lnTo>
                  <a:lnTo>
                    <a:pt x="72" y="112"/>
                  </a:lnTo>
                  <a:lnTo>
                    <a:pt x="144" y="0"/>
                  </a:lnTo>
                  <a:lnTo>
                    <a:pt x="215" y="112"/>
                  </a:lnTo>
                  <a:lnTo>
                    <a:pt x="287" y="232"/>
                  </a:lnTo>
                  <a:lnTo>
                    <a:pt x="359" y="232"/>
                  </a:lnTo>
                  <a:lnTo>
                    <a:pt x="431" y="232"/>
                  </a:lnTo>
                  <a:lnTo>
                    <a:pt x="503" y="232"/>
                  </a:lnTo>
                  <a:lnTo>
                    <a:pt x="574" y="232"/>
                  </a:lnTo>
                  <a:lnTo>
                    <a:pt x="646" y="232"/>
                  </a:lnTo>
                  <a:lnTo>
                    <a:pt x="718" y="232"/>
                  </a:lnTo>
                  <a:lnTo>
                    <a:pt x="790" y="232"/>
                  </a:lnTo>
                  <a:lnTo>
                    <a:pt x="862" y="232"/>
                  </a:lnTo>
                  <a:lnTo>
                    <a:pt x="862" y="23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 flipV="1">
              <a:off x="401760" y="3377880"/>
              <a:ext cx="1080" cy="65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401760" y="4033800"/>
              <a:ext cx="248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401760" y="3866400"/>
              <a:ext cx="24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401760" y="3710520"/>
              <a:ext cx="24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401760" y="3544920"/>
              <a:ext cx="248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401760" y="3378240"/>
              <a:ext cx="248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401760" y="4033800"/>
              <a:ext cx="13748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 flipV="1">
              <a:off x="401760" y="4011480"/>
              <a:ext cx="1080" cy="2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 flipV="1">
              <a:off x="515160" y="4011480"/>
              <a:ext cx="1440" cy="2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 flipV="1">
              <a:off x="629280" y="4011480"/>
              <a:ext cx="1080" cy="2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 flipV="1">
              <a:off x="741240" y="4011480"/>
              <a:ext cx="1080" cy="2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 flipV="1">
              <a:off x="855000" y="4011480"/>
              <a:ext cx="1440" cy="2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 flipV="1">
              <a:off x="969120" y="4011480"/>
              <a:ext cx="1080" cy="2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 flipV="1">
              <a:off x="1082520" y="4011480"/>
              <a:ext cx="1440" cy="2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 flipV="1">
              <a:off x="1196640" y="4011480"/>
              <a:ext cx="1080" cy="2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 flipV="1">
              <a:off x="1308600" y="4011480"/>
              <a:ext cx="1080" cy="2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 flipV="1">
              <a:off x="1422360" y="4011480"/>
              <a:ext cx="1440" cy="2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 flipV="1">
              <a:off x="1548720" y="4011480"/>
              <a:ext cx="1440" cy="2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 flipV="1">
              <a:off x="1662840" y="4011480"/>
              <a:ext cx="1080" cy="2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 flipV="1">
              <a:off x="1776600" y="4011480"/>
              <a:ext cx="1440" cy="2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3" name=""/>
          <p:cNvSpPr/>
          <p:nvPr/>
        </p:nvSpPr>
        <p:spPr>
          <a:xfrm>
            <a:off x="420840" y="4044960"/>
            <a:ext cx="1504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390600" y="4881600"/>
            <a:ext cx="1571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5797440" y="4133880"/>
            <a:ext cx="202896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 flipH="1" flipV="1">
            <a:off x="3676320" y="2825280"/>
            <a:ext cx="2133720" cy="13114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 flipH="1">
            <a:off x="3723840" y="4137120"/>
            <a:ext cx="2086200" cy="12794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5695920" y="40132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 flipH="1">
            <a:off x="3723840" y="4121280"/>
            <a:ext cx="2086200" cy="4572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 flipH="1" flipV="1">
            <a:off x="3676320" y="3739680"/>
            <a:ext cx="2133720" cy="3812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7839000" y="3816360"/>
            <a:ext cx="990720" cy="533520"/>
          </a:xfrm>
          <a:prstGeom prst="rect">
            <a:avLst/>
          </a:prstGeom>
          <a:solidFill>
            <a:srgbClr val="96dc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2581200" y="2597040"/>
            <a:ext cx="1143000" cy="533520"/>
          </a:xfrm>
          <a:prstGeom prst="rect">
            <a:avLst/>
          </a:prstGeom>
          <a:solidFill>
            <a:srgbClr val="96dc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-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2581200" y="3435480"/>
            <a:ext cx="1143000" cy="533160"/>
          </a:xfrm>
          <a:prstGeom prst="rect">
            <a:avLst/>
          </a:prstGeom>
          <a:solidFill>
            <a:srgbClr val="96dc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-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2581200" y="4273560"/>
            <a:ext cx="1143000" cy="533520"/>
          </a:xfrm>
          <a:prstGeom prst="rect">
            <a:avLst/>
          </a:prstGeom>
          <a:solidFill>
            <a:srgbClr val="96dc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-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2581200" y="5111640"/>
            <a:ext cx="1143000" cy="533520"/>
          </a:xfrm>
          <a:prstGeom prst="rect">
            <a:avLst/>
          </a:prstGeom>
          <a:solidFill>
            <a:srgbClr val="96dc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-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6" name=""/>
          <p:cNvGrpSpPr/>
          <p:nvPr/>
        </p:nvGrpSpPr>
        <p:grpSpPr>
          <a:xfrm>
            <a:off x="6068880" y="4562640"/>
            <a:ext cx="1447560" cy="713520"/>
            <a:chOff x="6068880" y="4562640"/>
            <a:chExt cx="1447560" cy="713520"/>
          </a:xfrm>
        </p:grpSpPr>
        <p:sp>
          <p:nvSpPr>
            <p:cNvPr id="2427" name=""/>
            <p:cNvSpPr/>
            <p:nvPr/>
          </p:nvSpPr>
          <p:spPr>
            <a:xfrm>
              <a:off x="6068880" y="4562640"/>
              <a:ext cx="883080" cy="2239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6068880" y="4786560"/>
              <a:ext cx="883080" cy="223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6068880" y="5010840"/>
              <a:ext cx="883080" cy="223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30" name=""/>
            <p:cNvGrpSpPr/>
            <p:nvPr/>
          </p:nvGrpSpPr>
          <p:grpSpPr>
            <a:xfrm>
              <a:off x="6071400" y="4566960"/>
              <a:ext cx="1445040" cy="709200"/>
              <a:chOff x="6071400" y="4566960"/>
              <a:chExt cx="1445040" cy="709200"/>
            </a:xfrm>
          </p:grpSpPr>
          <p:sp>
            <p:nvSpPr>
              <p:cNvPr id="2431" name=""/>
              <p:cNvSpPr/>
              <p:nvPr/>
            </p:nvSpPr>
            <p:spPr>
              <a:xfrm>
                <a:off x="6082200" y="4576320"/>
                <a:ext cx="1434240" cy="69984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6071400" y="4566960"/>
                <a:ext cx="1435320" cy="108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 flipV="1">
                <a:off x="7506720" y="4566960"/>
                <a:ext cx="1440" cy="69984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6071400" y="5266800"/>
                <a:ext cx="1435320" cy="108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 flipV="1">
                <a:off x="6071400" y="4566960"/>
                <a:ext cx="1080" cy="69984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6082200" y="4576320"/>
                <a:ext cx="1434240" cy="699840"/>
              </a:xfrm>
              <a:custGeom>
                <a:avLst/>
                <a:gdLst/>
                <a:ahLst/>
                <a:rect l="l" t="t" r="r" b="b"/>
                <a:pathLst>
                  <a:path w="1053" h="591">
                    <a:moveTo>
                      <a:pt x="0" y="503"/>
                    </a:moveTo>
                    <a:lnTo>
                      <a:pt x="88" y="439"/>
                    </a:lnTo>
                    <a:lnTo>
                      <a:pt x="176" y="439"/>
                    </a:lnTo>
                    <a:lnTo>
                      <a:pt x="264" y="439"/>
                    </a:lnTo>
                    <a:lnTo>
                      <a:pt x="351" y="503"/>
                    </a:lnTo>
                    <a:lnTo>
                      <a:pt x="439" y="591"/>
                    </a:lnTo>
                    <a:lnTo>
                      <a:pt x="527" y="591"/>
                    </a:lnTo>
                    <a:lnTo>
                      <a:pt x="615" y="591"/>
                    </a:lnTo>
                    <a:lnTo>
                      <a:pt x="702" y="503"/>
                    </a:lnTo>
                    <a:lnTo>
                      <a:pt x="790" y="152"/>
                    </a:lnTo>
                    <a:lnTo>
                      <a:pt x="878" y="0"/>
                    </a:lnTo>
                    <a:lnTo>
                      <a:pt x="966" y="439"/>
                    </a:lnTo>
                    <a:lnTo>
                      <a:pt x="1053" y="591"/>
                    </a:lnTo>
                    <a:lnTo>
                      <a:pt x="1053" y="591"/>
                    </a:lnTo>
                    <a:lnTo>
                      <a:pt x="966" y="591"/>
                    </a:lnTo>
                    <a:lnTo>
                      <a:pt x="878" y="591"/>
                    </a:lnTo>
                    <a:lnTo>
                      <a:pt x="790" y="591"/>
                    </a:lnTo>
                    <a:lnTo>
                      <a:pt x="702" y="591"/>
                    </a:lnTo>
                    <a:lnTo>
                      <a:pt x="615" y="591"/>
                    </a:lnTo>
                    <a:lnTo>
                      <a:pt x="527" y="591"/>
                    </a:lnTo>
                    <a:lnTo>
                      <a:pt x="439" y="591"/>
                    </a:lnTo>
                    <a:lnTo>
                      <a:pt x="351" y="591"/>
                    </a:lnTo>
                    <a:lnTo>
                      <a:pt x="264" y="591"/>
                    </a:lnTo>
                    <a:lnTo>
                      <a:pt x="176" y="591"/>
                    </a:lnTo>
                    <a:lnTo>
                      <a:pt x="88" y="591"/>
                    </a:lnTo>
                    <a:lnTo>
                      <a:pt x="0" y="591"/>
                    </a:lnTo>
                    <a:lnTo>
                      <a:pt x="0" y="503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6071400" y="4566960"/>
                <a:ext cx="1435320" cy="699840"/>
              </a:xfrm>
              <a:custGeom>
                <a:avLst/>
                <a:gdLst/>
                <a:ahLst/>
                <a:rect l="l" t="t" r="r" b="b"/>
                <a:pathLst>
                  <a:path w="1054" h="591">
                    <a:moveTo>
                      <a:pt x="0" y="591"/>
                    </a:moveTo>
                    <a:lnTo>
                      <a:pt x="0" y="503"/>
                    </a:lnTo>
                    <a:lnTo>
                      <a:pt x="88" y="439"/>
                    </a:lnTo>
                    <a:lnTo>
                      <a:pt x="176" y="439"/>
                    </a:lnTo>
                    <a:lnTo>
                      <a:pt x="264" y="439"/>
                    </a:lnTo>
                    <a:lnTo>
                      <a:pt x="351" y="503"/>
                    </a:lnTo>
                    <a:lnTo>
                      <a:pt x="439" y="591"/>
                    </a:lnTo>
                    <a:lnTo>
                      <a:pt x="527" y="591"/>
                    </a:lnTo>
                    <a:lnTo>
                      <a:pt x="615" y="591"/>
                    </a:lnTo>
                    <a:lnTo>
                      <a:pt x="702" y="503"/>
                    </a:lnTo>
                    <a:lnTo>
                      <a:pt x="790" y="152"/>
                    </a:lnTo>
                    <a:lnTo>
                      <a:pt x="878" y="0"/>
                    </a:lnTo>
                    <a:lnTo>
                      <a:pt x="966" y="439"/>
                    </a:lnTo>
                    <a:lnTo>
                      <a:pt x="1054" y="591"/>
                    </a:lnTo>
                    <a:lnTo>
                      <a:pt x="1054" y="59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 flipV="1">
                <a:off x="6071400" y="4566960"/>
                <a:ext cx="1080" cy="69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6071400" y="5266800"/>
                <a:ext cx="2160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6071400" y="5086800"/>
                <a:ext cx="2160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6071400" y="4916160"/>
                <a:ext cx="2160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6071400" y="4746960"/>
                <a:ext cx="2160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6071400" y="4566960"/>
                <a:ext cx="2160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6071400" y="5266800"/>
                <a:ext cx="143532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 flipV="1">
                <a:off x="6071400" y="5238720"/>
                <a:ext cx="1080" cy="2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 flipV="1">
                <a:off x="6190920" y="5238720"/>
                <a:ext cx="1080" cy="2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 flipV="1">
                <a:off x="6310800" y="5238720"/>
                <a:ext cx="1080" cy="2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 flipV="1">
                <a:off x="6430680" y="5238720"/>
                <a:ext cx="1080" cy="2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 flipV="1">
                <a:off x="6549120" y="5238720"/>
                <a:ext cx="1440" cy="2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 flipV="1">
                <a:off x="6669000" y="5238720"/>
                <a:ext cx="1440" cy="2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 flipV="1">
                <a:off x="6788880" y="5238720"/>
                <a:ext cx="1440" cy="2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 flipV="1">
                <a:off x="6909120" y="5238720"/>
                <a:ext cx="1080" cy="2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 flipV="1">
                <a:off x="7027200" y="5238720"/>
                <a:ext cx="1440" cy="2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 flipV="1">
                <a:off x="7147080" y="5238720"/>
                <a:ext cx="1440" cy="2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 flipV="1">
                <a:off x="7266960" y="5238720"/>
                <a:ext cx="1440" cy="2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 flipV="1">
                <a:off x="7386840" y="5238720"/>
                <a:ext cx="1440" cy="2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 flipV="1">
                <a:off x="7506720" y="5238720"/>
                <a:ext cx="1440" cy="2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8" name=""/>
            <p:cNvGrpSpPr/>
            <p:nvPr/>
          </p:nvGrpSpPr>
          <p:grpSpPr>
            <a:xfrm>
              <a:off x="6071400" y="4784760"/>
              <a:ext cx="1435320" cy="321120"/>
              <a:chOff x="6071400" y="4784760"/>
              <a:chExt cx="1435320" cy="321120"/>
            </a:xfrm>
          </p:grpSpPr>
          <p:sp>
            <p:nvSpPr>
              <p:cNvPr id="2459" name=""/>
              <p:cNvSpPr/>
              <p:nvPr/>
            </p:nvSpPr>
            <p:spPr>
              <a:xfrm>
                <a:off x="6082200" y="4794120"/>
                <a:ext cx="1424520" cy="311760"/>
              </a:xfrm>
              <a:custGeom>
                <a:avLst/>
                <a:gdLst/>
                <a:ahLst/>
                <a:rect l="l" t="t" r="r" b="b"/>
                <a:pathLst>
                  <a:path w="1046" h="263">
                    <a:moveTo>
                      <a:pt x="0" y="263"/>
                    </a:moveTo>
                    <a:lnTo>
                      <a:pt x="80" y="119"/>
                    </a:lnTo>
                    <a:lnTo>
                      <a:pt x="176" y="119"/>
                    </a:lnTo>
                    <a:lnTo>
                      <a:pt x="264" y="119"/>
                    </a:lnTo>
                    <a:lnTo>
                      <a:pt x="351" y="263"/>
                    </a:lnTo>
                    <a:lnTo>
                      <a:pt x="431" y="175"/>
                    </a:lnTo>
                    <a:lnTo>
                      <a:pt x="527" y="0"/>
                    </a:lnTo>
                    <a:lnTo>
                      <a:pt x="615" y="55"/>
                    </a:lnTo>
                    <a:lnTo>
                      <a:pt x="694" y="263"/>
                    </a:lnTo>
                    <a:lnTo>
                      <a:pt x="782" y="263"/>
                    </a:lnTo>
                    <a:lnTo>
                      <a:pt x="878" y="263"/>
                    </a:lnTo>
                    <a:lnTo>
                      <a:pt x="966" y="263"/>
                    </a:lnTo>
                    <a:lnTo>
                      <a:pt x="1046" y="263"/>
                    </a:lnTo>
                    <a:lnTo>
                      <a:pt x="1046" y="263"/>
                    </a:lnTo>
                    <a:lnTo>
                      <a:pt x="966" y="263"/>
                    </a:lnTo>
                    <a:lnTo>
                      <a:pt x="878" y="263"/>
                    </a:lnTo>
                    <a:lnTo>
                      <a:pt x="782" y="263"/>
                    </a:lnTo>
                    <a:lnTo>
                      <a:pt x="694" y="263"/>
                    </a:lnTo>
                    <a:lnTo>
                      <a:pt x="615" y="263"/>
                    </a:lnTo>
                    <a:lnTo>
                      <a:pt x="527" y="263"/>
                    </a:lnTo>
                    <a:lnTo>
                      <a:pt x="431" y="263"/>
                    </a:lnTo>
                    <a:lnTo>
                      <a:pt x="351" y="263"/>
                    </a:lnTo>
                    <a:lnTo>
                      <a:pt x="264" y="263"/>
                    </a:lnTo>
                    <a:lnTo>
                      <a:pt x="176" y="263"/>
                    </a:lnTo>
                    <a:lnTo>
                      <a:pt x="80" y="263"/>
                    </a:lnTo>
                    <a:lnTo>
                      <a:pt x="0" y="263"/>
                    </a:lnTo>
                    <a:lnTo>
                      <a:pt x="0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6071400" y="4784760"/>
                <a:ext cx="945000" cy="311400"/>
              </a:xfrm>
              <a:custGeom>
                <a:avLst/>
                <a:gdLst/>
                <a:ahLst/>
                <a:rect l="l" t="t" r="r" b="b"/>
                <a:pathLst>
                  <a:path w="694" h="263">
                    <a:moveTo>
                      <a:pt x="0" y="263"/>
                    </a:moveTo>
                    <a:lnTo>
                      <a:pt x="0" y="263"/>
                    </a:lnTo>
                    <a:lnTo>
                      <a:pt x="88" y="119"/>
                    </a:lnTo>
                    <a:lnTo>
                      <a:pt x="176" y="119"/>
                    </a:lnTo>
                    <a:lnTo>
                      <a:pt x="264" y="119"/>
                    </a:lnTo>
                    <a:lnTo>
                      <a:pt x="351" y="263"/>
                    </a:lnTo>
                    <a:lnTo>
                      <a:pt x="431" y="175"/>
                    </a:lnTo>
                    <a:lnTo>
                      <a:pt x="527" y="0"/>
                    </a:lnTo>
                    <a:lnTo>
                      <a:pt x="615" y="56"/>
                    </a:lnTo>
                    <a:lnTo>
                      <a:pt x="694" y="26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7495920" y="5096160"/>
                <a:ext cx="144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6071400" y="5096160"/>
                <a:ext cx="2160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6071400" y="4925520"/>
                <a:ext cx="2160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 flipV="1">
                <a:off x="6071400" y="5067720"/>
                <a:ext cx="1080" cy="2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 flipV="1">
                <a:off x="6180120" y="5067720"/>
                <a:ext cx="1440" cy="2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 flipV="1">
                <a:off x="6310800" y="5067720"/>
                <a:ext cx="1080" cy="2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 flipV="1">
                <a:off x="6430680" y="5067720"/>
                <a:ext cx="1080" cy="2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 flipV="1">
                <a:off x="6549120" y="5067720"/>
                <a:ext cx="1440" cy="2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 flipV="1">
                <a:off x="6658200" y="5067720"/>
                <a:ext cx="1440" cy="2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 flipV="1">
                <a:off x="6788880" y="5067720"/>
                <a:ext cx="1440" cy="2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 flipV="1">
                <a:off x="6908760" y="5067720"/>
                <a:ext cx="1080" cy="2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 flipV="1">
                <a:off x="7016400" y="5067720"/>
                <a:ext cx="1080" cy="2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 flipV="1">
                <a:off x="7136280" y="5067720"/>
                <a:ext cx="1080" cy="2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 flipV="1">
                <a:off x="7266960" y="5067720"/>
                <a:ext cx="1440" cy="2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 flipV="1">
                <a:off x="7386840" y="5067720"/>
                <a:ext cx="1440" cy="2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 flipV="1">
                <a:off x="7495920" y="5067720"/>
                <a:ext cx="1440" cy="2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7" name=""/>
            <p:cNvGrpSpPr/>
            <p:nvPr/>
          </p:nvGrpSpPr>
          <p:grpSpPr>
            <a:xfrm>
              <a:off x="6071400" y="4756680"/>
              <a:ext cx="1435320" cy="188280"/>
              <a:chOff x="6071400" y="4756680"/>
              <a:chExt cx="1435320" cy="188280"/>
            </a:xfrm>
          </p:grpSpPr>
          <p:sp>
            <p:nvSpPr>
              <p:cNvPr id="2478" name=""/>
              <p:cNvSpPr/>
              <p:nvPr/>
            </p:nvSpPr>
            <p:spPr>
              <a:xfrm>
                <a:off x="6082200" y="4766040"/>
                <a:ext cx="1424520" cy="178920"/>
              </a:xfrm>
              <a:custGeom>
                <a:avLst/>
                <a:gdLst/>
                <a:ahLst/>
                <a:rect l="l" t="t" r="r" b="b"/>
                <a:pathLst>
                  <a:path w="1046" h="151">
                    <a:moveTo>
                      <a:pt x="0" y="87"/>
                    </a:moveTo>
                    <a:lnTo>
                      <a:pt x="80" y="0"/>
                    </a:lnTo>
                    <a:lnTo>
                      <a:pt x="176" y="0"/>
                    </a:lnTo>
                    <a:lnTo>
                      <a:pt x="264" y="0"/>
                    </a:lnTo>
                    <a:lnTo>
                      <a:pt x="351" y="151"/>
                    </a:lnTo>
                    <a:lnTo>
                      <a:pt x="431" y="151"/>
                    </a:lnTo>
                    <a:lnTo>
                      <a:pt x="527" y="151"/>
                    </a:lnTo>
                    <a:lnTo>
                      <a:pt x="615" y="151"/>
                    </a:lnTo>
                    <a:lnTo>
                      <a:pt x="694" y="151"/>
                    </a:lnTo>
                    <a:lnTo>
                      <a:pt x="782" y="151"/>
                    </a:lnTo>
                    <a:lnTo>
                      <a:pt x="878" y="151"/>
                    </a:lnTo>
                    <a:lnTo>
                      <a:pt x="966" y="151"/>
                    </a:lnTo>
                    <a:lnTo>
                      <a:pt x="1046" y="151"/>
                    </a:lnTo>
                    <a:lnTo>
                      <a:pt x="1046" y="151"/>
                    </a:lnTo>
                    <a:lnTo>
                      <a:pt x="966" y="151"/>
                    </a:lnTo>
                    <a:lnTo>
                      <a:pt x="878" y="151"/>
                    </a:lnTo>
                    <a:lnTo>
                      <a:pt x="782" y="151"/>
                    </a:lnTo>
                    <a:lnTo>
                      <a:pt x="694" y="151"/>
                    </a:lnTo>
                    <a:lnTo>
                      <a:pt x="615" y="151"/>
                    </a:lnTo>
                    <a:lnTo>
                      <a:pt x="527" y="151"/>
                    </a:lnTo>
                    <a:lnTo>
                      <a:pt x="431" y="151"/>
                    </a:lnTo>
                    <a:lnTo>
                      <a:pt x="351" y="151"/>
                    </a:lnTo>
                    <a:lnTo>
                      <a:pt x="264" y="151"/>
                    </a:lnTo>
                    <a:lnTo>
                      <a:pt x="176" y="151"/>
                    </a:lnTo>
                    <a:lnTo>
                      <a:pt x="80" y="151"/>
                    </a:lnTo>
                    <a:lnTo>
                      <a:pt x="0" y="151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6071400" y="4766040"/>
                <a:ext cx="477720" cy="169560"/>
              </a:xfrm>
              <a:custGeom>
                <a:avLst/>
                <a:gdLst/>
                <a:ahLst/>
                <a:rect l="l" t="t" r="r" b="b"/>
                <a:pathLst>
                  <a:path w="351" h="143">
                    <a:moveTo>
                      <a:pt x="0" y="143"/>
                    </a:moveTo>
                    <a:lnTo>
                      <a:pt x="0" y="79"/>
                    </a:lnTo>
                    <a:lnTo>
                      <a:pt x="88" y="0"/>
                    </a:lnTo>
                    <a:lnTo>
                      <a:pt x="176" y="0"/>
                    </a:lnTo>
                    <a:lnTo>
                      <a:pt x="264" y="0"/>
                    </a:lnTo>
                    <a:lnTo>
                      <a:pt x="351" y="14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7495920" y="4935600"/>
                <a:ext cx="144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6071400" y="4935600"/>
                <a:ext cx="2160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6071400" y="4756680"/>
                <a:ext cx="2160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 flipV="1">
                <a:off x="6071400" y="4916520"/>
                <a:ext cx="1080" cy="1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 flipV="1">
                <a:off x="6180120" y="4916520"/>
                <a:ext cx="1440" cy="1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 flipV="1">
                <a:off x="6310800" y="4916520"/>
                <a:ext cx="1080" cy="1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 flipV="1">
                <a:off x="6430680" y="4916520"/>
                <a:ext cx="1080" cy="1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 flipV="1">
                <a:off x="6549120" y="4916520"/>
                <a:ext cx="1440" cy="1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 flipV="1">
                <a:off x="6658200" y="4916520"/>
                <a:ext cx="1440" cy="1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 flipV="1">
                <a:off x="6788880" y="4916520"/>
                <a:ext cx="1440" cy="1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 flipV="1">
                <a:off x="6908760" y="4916520"/>
                <a:ext cx="1080" cy="1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 flipV="1">
                <a:off x="7016400" y="4916520"/>
                <a:ext cx="1080" cy="1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 flipV="1">
                <a:off x="7136280" y="4916520"/>
                <a:ext cx="1080" cy="1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 flipV="1">
                <a:off x="7266960" y="4916520"/>
                <a:ext cx="1440" cy="1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 flipV="1">
                <a:off x="7386840" y="4916520"/>
                <a:ext cx="1440" cy="1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 flipV="1">
                <a:off x="7495920" y="4916520"/>
                <a:ext cx="1440" cy="1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6" name=""/>
            <p:cNvGrpSpPr/>
            <p:nvPr/>
          </p:nvGrpSpPr>
          <p:grpSpPr>
            <a:xfrm>
              <a:off x="6071400" y="4605480"/>
              <a:ext cx="1445040" cy="178920"/>
              <a:chOff x="6071400" y="4605480"/>
              <a:chExt cx="1445040" cy="178920"/>
            </a:xfrm>
          </p:grpSpPr>
          <p:sp>
            <p:nvSpPr>
              <p:cNvPr id="2497" name=""/>
              <p:cNvSpPr/>
              <p:nvPr/>
            </p:nvSpPr>
            <p:spPr>
              <a:xfrm>
                <a:off x="6082200" y="4614840"/>
                <a:ext cx="1434240" cy="169560"/>
              </a:xfrm>
              <a:custGeom>
                <a:avLst/>
                <a:gdLst/>
                <a:ahLst/>
                <a:rect l="l" t="t" r="r" b="b"/>
                <a:pathLst>
                  <a:path w="1053" h="144">
                    <a:moveTo>
                      <a:pt x="0" y="88"/>
                    </a:moveTo>
                    <a:lnTo>
                      <a:pt x="88" y="0"/>
                    </a:lnTo>
                    <a:lnTo>
                      <a:pt x="184" y="0"/>
                    </a:lnTo>
                    <a:lnTo>
                      <a:pt x="271" y="0"/>
                    </a:lnTo>
                    <a:lnTo>
                      <a:pt x="351" y="120"/>
                    </a:lnTo>
                    <a:lnTo>
                      <a:pt x="439" y="144"/>
                    </a:lnTo>
                    <a:lnTo>
                      <a:pt x="535" y="24"/>
                    </a:lnTo>
                    <a:lnTo>
                      <a:pt x="623" y="144"/>
                    </a:lnTo>
                    <a:lnTo>
                      <a:pt x="702" y="144"/>
                    </a:lnTo>
                    <a:lnTo>
                      <a:pt x="790" y="144"/>
                    </a:lnTo>
                    <a:lnTo>
                      <a:pt x="886" y="144"/>
                    </a:lnTo>
                    <a:lnTo>
                      <a:pt x="966" y="144"/>
                    </a:lnTo>
                    <a:lnTo>
                      <a:pt x="1053" y="144"/>
                    </a:lnTo>
                    <a:lnTo>
                      <a:pt x="1053" y="144"/>
                    </a:lnTo>
                    <a:lnTo>
                      <a:pt x="966" y="144"/>
                    </a:lnTo>
                    <a:lnTo>
                      <a:pt x="886" y="144"/>
                    </a:lnTo>
                    <a:lnTo>
                      <a:pt x="790" y="144"/>
                    </a:lnTo>
                    <a:lnTo>
                      <a:pt x="702" y="144"/>
                    </a:lnTo>
                    <a:lnTo>
                      <a:pt x="623" y="144"/>
                    </a:lnTo>
                    <a:lnTo>
                      <a:pt x="535" y="144"/>
                    </a:lnTo>
                    <a:lnTo>
                      <a:pt x="439" y="144"/>
                    </a:lnTo>
                    <a:lnTo>
                      <a:pt x="351" y="144"/>
                    </a:lnTo>
                    <a:lnTo>
                      <a:pt x="271" y="144"/>
                    </a:lnTo>
                    <a:lnTo>
                      <a:pt x="184" y="144"/>
                    </a:lnTo>
                    <a:lnTo>
                      <a:pt x="88" y="144"/>
                    </a:lnTo>
                    <a:lnTo>
                      <a:pt x="0" y="144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cc00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6082200" y="4605480"/>
                <a:ext cx="837720" cy="169560"/>
              </a:xfrm>
              <a:custGeom>
                <a:avLst/>
                <a:gdLst/>
                <a:ahLst/>
                <a:rect l="l" t="t" r="r" b="b"/>
                <a:pathLst>
                  <a:path w="615" h="144">
                    <a:moveTo>
                      <a:pt x="0" y="144"/>
                    </a:moveTo>
                    <a:lnTo>
                      <a:pt x="0" y="80"/>
                    </a:lnTo>
                    <a:lnTo>
                      <a:pt x="80" y="0"/>
                    </a:lnTo>
                    <a:lnTo>
                      <a:pt x="176" y="0"/>
                    </a:lnTo>
                    <a:lnTo>
                      <a:pt x="264" y="0"/>
                    </a:lnTo>
                    <a:lnTo>
                      <a:pt x="343" y="112"/>
                    </a:lnTo>
                    <a:lnTo>
                      <a:pt x="431" y="144"/>
                    </a:lnTo>
                    <a:lnTo>
                      <a:pt x="527" y="24"/>
                    </a:lnTo>
                    <a:lnTo>
                      <a:pt x="615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7506720" y="4775040"/>
                <a:ext cx="144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6071400" y="4775040"/>
                <a:ext cx="2160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6071400" y="4605480"/>
                <a:ext cx="2160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 flipV="1">
                <a:off x="6071400" y="4755960"/>
                <a:ext cx="1080" cy="1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 flipV="1">
                <a:off x="6190920" y="4755960"/>
                <a:ext cx="1080" cy="1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 flipV="1">
                <a:off x="6321600" y="4755960"/>
                <a:ext cx="1080" cy="1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 flipV="1">
                <a:off x="6441480" y="4755960"/>
                <a:ext cx="1080" cy="1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 flipV="1">
                <a:off x="6549120" y="4755960"/>
                <a:ext cx="1440" cy="1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 flipV="1">
                <a:off x="6669000" y="4755960"/>
                <a:ext cx="1440" cy="1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 flipV="1">
                <a:off x="6800040" y="4755960"/>
                <a:ext cx="1080" cy="1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 flipV="1">
                <a:off x="6919920" y="4755960"/>
                <a:ext cx="1080" cy="1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 flipV="1">
                <a:off x="7027200" y="4755960"/>
                <a:ext cx="1440" cy="1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 flipV="1">
                <a:off x="7147080" y="4755960"/>
                <a:ext cx="1440" cy="1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 flipV="1">
                <a:off x="7278120" y="4755960"/>
                <a:ext cx="1080" cy="1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 flipV="1">
                <a:off x="7398000" y="4755960"/>
                <a:ext cx="1080" cy="1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 flipV="1">
                <a:off x="7506720" y="4755960"/>
                <a:ext cx="1440" cy="1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15" name=""/>
          <p:cNvSpPr/>
          <p:nvPr/>
        </p:nvSpPr>
        <p:spPr>
          <a:xfrm>
            <a:off x="7059600" y="540072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6068880" y="540072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5619240" y="2935440"/>
            <a:ext cx="25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gran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5425920" y="5472000"/>
            <a:ext cx="1417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dwid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7018200" y="5472000"/>
            <a:ext cx="147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cupy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dwid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1903320" y="2684520"/>
            <a:ext cx="639720" cy="425520"/>
          </a:xfrm>
          <a:custGeom>
            <a:avLst/>
            <a:gdLst>
              <a:gd name="textAreaLeft" fmla="*/ 99720 w 639720"/>
              <a:gd name="textAreaRight" fmla="*/ 559800 w 639720"/>
              <a:gd name="textAreaTop" fmla="*/ 106200 h 425520"/>
              <a:gd name="textAreaBottom" fmla="*/ 319320 h 425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fe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1890720" y="3484440"/>
            <a:ext cx="639720" cy="425520"/>
          </a:xfrm>
          <a:custGeom>
            <a:avLst/>
            <a:gdLst>
              <a:gd name="textAreaLeft" fmla="*/ 99720 w 639720"/>
              <a:gd name="textAreaRight" fmla="*/ 559800 w 639720"/>
              <a:gd name="textAreaTop" fmla="*/ 106200 h 425520"/>
              <a:gd name="textAreaBottom" fmla="*/ 319320 h 425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fe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1878120" y="4284720"/>
            <a:ext cx="639720" cy="425520"/>
          </a:xfrm>
          <a:custGeom>
            <a:avLst/>
            <a:gdLst>
              <a:gd name="textAreaLeft" fmla="*/ 99720 w 639720"/>
              <a:gd name="textAreaRight" fmla="*/ 559800 w 639720"/>
              <a:gd name="textAreaTop" fmla="*/ 106200 h 425520"/>
              <a:gd name="textAreaBottom" fmla="*/ 319320 h 425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fe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1865160" y="5084640"/>
            <a:ext cx="640080" cy="425520"/>
          </a:xfrm>
          <a:custGeom>
            <a:avLst/>
            <a:gdLst>
              <a:gd name="textAreaLeft" fmla="*/ 99720 w 640080"/>
              <a:gd name="textAreaRight" fmla="*/ 560160 w 640080"/>
              <a:gd name="textAreaTop" fmla="*/ 106200 h 425520"/>
              <a:gd name="textAreaBottom" fmla="*/ 319320 h 425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fe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6014880" y="4178160"/>
            <a:ext cx="1741680" cy="336600"/>
          </a:xfrm>
          <a:custGeom>
            <a:avLst/>
            <a:gdLst>
              <a:gd name="textAreaLeft" fmla="*/ 272160 w 1741680"/>
              <a:gd name="textAreaRight" fmla="*/ 1524240 w 1741680"/>
              <a:gd name="textAreaTop" fmla="*/ 84240 h 336600"/>
              <a:gd name="textAreaBottom" fmla="*/ 252720 h 336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fe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5361120" y="3421080"/>
            <a:ext cx="2555640" cy="412560"/>
          </a:xfrm>
          <a:prstGeom prst="leftArrow">
            <a:avLst>
              <a:gd name="adj1" fmla="val 50000"/>
              <a:gd name="adj2" fmla="val 154865"/>
            </a:avLst>
          </a:prstGeom>
          <a:solidFill>
            <a:srgbClr val="fe9e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6" name=""/>
          <p:cNvSpPr/>
          <p:nvPr/>
        </p:nvSpPr>
        <p:spPr>
          <a:xfrm>
            <a:off x="204480" y="63360"/>
            <a:ext cx="866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-PON survivability Recommend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203040" y="976320"/>
            <a:ext cx="8688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3333cc"/>
                </a:solidFill>
                <a:latin typeface="Arial"/>
              </a:rPr>
              <a:t>G.983.5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(Survivability mechanis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Editor 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H. Ichibangase (Mitsubishi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Date :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 /2002 appro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3333cc"/>
                </a:solidFill>
                <a:latin typeface="Arial"/>
              </a:rPr>
              <a:t>G.983.6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(OMCI for surviv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Editor 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J. Lorentzen (SBC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Date : </a:t>
            </a:r>
            <a:r>
              <a:rPr b="0" lang="ja-JP" sz="2000" spc="-1" strike="noStrike">
                <a:solidFill>
                  <a:srgbClr val="3f56fd"/>
                </a:solidFill>
                <a:latin typeface="Arial"/>
              </a:rPr>
              <a:t>5 /2002 cons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1260360" y="4600440"/>
            <a:ext cx="990720" cy="609840"/>
          </a:xfrm>
          <a:prstGeom prst="rect">
            <a:avLst/>
          </a:prstGeom>
          <a:solidFill>
            <a:srgbClr val="e0ff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1260360" y="3635280"/>
            <a:ext cx="990720" cy="609840"/>
          </a:xfrm>
          <a:prstGeom prst="rect">
            <a:avLst/>
          </a:prstGeom>
          <a:solidFill>
            <a:srgbClr val="e0ff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1260360" y="2797200"/>
            <a:ext cx="990720" cy="609480"/>
          </a:xfrm>
          <a:prstGeom prst="rect">
            <a:avLst/>
          </a:prstGeom>
          <a:solidFill>
            <a:srgbClr val="e0ff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3284640" y="2873520"/>
            <a:ext cx="990360" cy="1828800"/>
          </a:xfrm>
          <a:prstGeom prst="rect">
            <a:avLst/>
          </a:prstGeom>
          <a:solidFill>
            <a:srgbClr val="e0ff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3436920" y="3406680"/>
            <a:ext cx="685800" cy="304920"/>
          </a:xfrm>
          <a:prstGeom prst="rect">
            <a:avLst/>
          </a:prstGeom>
          <a:solidFill>
            <a:srgbClr val="96dc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 flipV="1">
            <a:off x="2936880" y="3575160"/>
            <a:ext cx="490680" cy="3650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1413000" y="2949480"/>
            <a:ext cx="685800" cy="304920"/>
          </a:xfrm>
          <a:prstGeom prst="rect">
            <a:avLst/>
          </a:prstGeom>
          <a:solidFill>
            <a:srgbClr val="96dc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1413000" y="3787920"/>
            <a:ext cx="685800" cy="304560"/>
          </a:xfrm>
          <a:prstGeom prst="rect">
            <a:avLst/>
          </a:prstGeom>
          <a:solidFill>
            <a:srgbClr val="96dc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2098800" y="3102120"/>
            <a:ext cx="838080" cy="838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 flipH="1">
            <a:off x="2075040" y="3940200"/>
            <a:ext cx="861840" cy="9874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2860560" y="3863880"/>
            <a:ext cx="15264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3436920" y="4168800"/>
            <a:ext cx="685800" cy="304920"/>
          </a:xfrm>
          <a:prstGeom prst="rect">
            <a:avLst/>
          </a:prstGeom>
          <a:solidFill>
            <a:srgbClr val="96dc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2936880" y="3940200"/>
            <a:ext cx="482760" cy="3808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1413000" y="4753080"/>
            <a:ext cx="685800" cy="304560"/>
          </a:xfrm>
          <a:prstGeom prst="rect">
            <a:avLst/>
          </a:prstGeom>
          <a:solidFill>
            <a:srgbClr val="96dc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 flipH="1">
            <a:off x="2098800" y="3940200"/>
            <a:ext cx="8380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3362040" y="28735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195840" y="28717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#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195840" y="371016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#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195840" y="46753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#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5629320" y="4767120"/>
            <a:ext cx="990720" cy="1067040"/>
          </a:xfrm>
          <a:prstGeom prst="rect">
            <a:avLst/>
          </a:prstGeom>
          <a:solidFill>
            <a:srgbClr val="e0ff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5629320" y="3624120"/>
            <a:ext cx="990720" cy="1067040"/>
          </a:xfrm>
          <a:prstGeom prst="rect">
            <a:avLst/>
          </a:prstGeom>
          <a:solidFill>
            <a:srgbClr val="e0ff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5629320" y="2481120"/>
            <a:ext cx="990720" cy="1067040"/>
          </a:xfrm>
          <a:prstGeom prst="rect">
            <a:avLst/>
          </a:prstGeom>
          <a:solidFill>
            <a:srgbClr val="e0ff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7532640" y="2678040"/>
            <a:ext cx="990720" cy="1828800"/>
          </a:xfrm>
          <a:prstGeom prst="rect">
            <a:avLst/>
          </a:prstGeom>
          <a:solidFill>
            <a:srgbClr val="e0ff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7684920" y="3211560"/>
            <a:ext cx="685800" cy="304920"/>
          </a:xfrm>
          <a:prstGeom prst="rect">
            <a:avLst/>
          </a:prstGeom>
          <a:solidFill>
            <a:srgbClr val="96dc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7305840" y="3363840"/>
            <a:ext cx="38556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5781600" y="2633760"/>
            <a:ext cx="685800" cy="304560"/>
          </a:xfrm>
          <a:prstGeom prst="rect">
            <a:avLst/>
          </a:prstGeom>
          <a:solidFill>
            <a:srgbClr val="96dc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5781600" y="3090960"/>
            <a:ext cx="685800" cy="304560"/>
          </a:xfrm>
          <a:prstGeom prst="rect">
            <a:avLst/>
          </a:prstGeom>
          <a:solidFill>
            <a:srgbClr val="96dc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5781600" y="3776760"/>
            <a:ext cx="685800" cy="304560"/>
          </a:xfrm>
          <a:prstGeom prst="rect">
            <a:avLst/>
          </a:prstGeom>
          <a:solidFill>
            <a:srgbClr val="96dc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6467400" y="2786040"/>
            <a:ext cx="841320" cy="5936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 flipH="1">
            <a:off x="6467040" y="3379680"/>
            <a:ext cx="838440" cy="16923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7229520" y="329580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7684920" y="3973680"/>
            <a:ext cx="685800" cy="304560"/>
          </a:xfrm>
          <a:prstGeom prst="rect">
            <a:avLst/>
          </a:prstGeom>
          <a:solidFill>
            <a:srgbClr val="96dc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7305840" y="4125960"/>
            <a:ext cx="361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5781600" y="4233960"/>
            <a:ext cx="685800" cy="304560"/>
          </a:xfrm>
          <a:prstGeom prst="rect">
            <a:avLst/>
          </a:prstGeom>
          <a:solidFill>
            <a:srgbClr val="96dc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5781600" y="4919760"/>
            <a:ext cx="685800" cy="304560"/>
          </a:xfrm>
          <a:prstGeom prst="rect">
            <a:avLst/>
          </a:prstGeom>
          <a:solidFill>
            <a:srgbClr val="96dc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5781600" y="5376960"/>
            <a:ext cx="685800" cy="304560"/>
          </a:xfrm>
          <a:prstGeom prst="rect">
            <a:avLst/>
          </a:prstGeom>
          <a:solidFill>
            <a:srgbClr val="96dc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6467400" y="3243240"/>
            <a:ext cx="820800" cy="9000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 flipH="1">
            <a:off x="6467400" y="4159080"/>
            <a:ext cx="820800" cy="13701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7229520" y="4057560"/>
            <a:ext cx="15228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"/>
          <p:cNvSpPr/>
          <p:nvPr/>
        </p:nvSpPr>
        <p:spPr>
          <a:xfrm flipH="1">
            <a:off x="6467040" y="4141800"/>
            <a:ext cx="838440" cy="2444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"/>
          <p:cNvSpPr/>
          <p:nvPr/>
        </p:nvSpPr>
        <p:spPr>
          <a:xfrm flipH="1">
            <a:off x="6467400" y="3371760"/>
            <a:ext cx="820800" cy="5414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"/>
          <p:cNvSpPr/>
          <p:nvPr/>
        </p:nvSpPr>
        <p:spPr>
          <a:xfrm>
            <a:off x="7610040" y="2678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>
            <a:off x="4564800" y="286056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#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>
            <a:off x="4564800" y="37368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#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>
            <a:off x="4564800" y="50706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#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1089000" y="5473800"/>
            <a:ext cx="263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Duplicated OL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6041160" y="5448240"/>
            <a:ext cx="268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Duplicated P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4907160" y="4172040"/>
            <a:ext cx="48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588960" y="3968640"/>
            <a:ext cx="48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96840" y="1158840"/>
            <a:ext cx="0" cy="480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96840" y="5959440"/>
            <a:ext cx="42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996840" y="5913360"/>
            <a:ext cx="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1627200" y="5913360"/>
            <a:ext cx="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897280" y="5913360"/>
            <a:ext cx="144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537000" y="5913360"/>
            <a:ext cx="144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4168800" y="5913360"/>
            <a:ext cx="144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807080" y="5913360"/>
            <a:ext cx="144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38880" y="5913360"/>
            <a:ext cx="144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6068880" y="5913360"/>
            <a:ext cx="180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6708600" y="5913360"/>
            <a:ext cx="180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7340760" y="5913360"/>
            <a:ext cx="144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7978680" y="5913360"/>
            <a:ext cx="180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8610480" y="5913360"/>
            <a:ext cx="180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996840" y="2678040"/>
            <a:ext cx="7613640" cy="658800"/>
            <a:chOff x="996840" y="2678040"/>
            <a:chExt cx="7613640" cy="658800"/>
          </a:xfrm>
        </p:grpSpPr>
        <p:sp>
          <p:nvSpPr>
            <p:cNvPr id="79" name=""/>
            <p:cNvSpPr/>
            <p:nvPr/>
          </p:nvSpPr>
          <p:spPr>
            <a:xfrm flipV="1">
              <a:off x="996840" y="2766960"/>
              <a:ext cx="630360" cy="55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627200" y="2705040"/>
              <a:ext cx="639720" cy="61920"/>
            </a:xfrm>
            <a:custGeom>
              <a:avLst/>
              <a:gdLst/>
              <a:ahLst/>
              <a:rect l="l" t="t" r="r" b="b"/>
              <a:pathLst>
                <a:path w="445" h="42">
                  <a:moveTo>
                    <a:pt x="0" y="42"/>
                  </a:moveTo>
                  <a:lnTo>
                    <a:pt x="222" y="18"/>
                  </a:lnTo>
                  <a:lnTo>
                    <a:pt x="445" y="0"/>
                  </a:ln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266920" y="2678040"/>
              <a:ext cx="630360" cy="27000"/>
            </a:xfrm>
            <a:custGeom>
              <a:avLst/>
              <a:gdLst/>
              <a:ahLst/>
              <a:rect l="l" t="t" r="r" b="b"/>
              <a:pathLst>
                <a:path w="438" h="18">
                  <a:moveTo>
                    <a:pt x="0" y="18"/>
                  </a:moveTo>
                  <a:lnTo>
                    <a:pt x="216" y="6"/>
                  </a:lnTo>
                  <a:lnTo>
                    <a:pt x="330" y="0"/>
                  </a:lnTo>
                  <a:lnTo>
                    <a:pt x="438" y="0"/>
                  </a:ln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897280" y="2678040"/>
              <a:ext cx="639720" cy="61920"/>
            </a:xfrm>
            <a:custGeom>
              <a:avLst/>
              <a:gdLst/>
              <a:ahLst/>
              <a:rect l="l" t="t" r="r" b="b"/>
              <a:pathLst>
                <a:path w="445" h="42">
                  <a:moveTo>
                    <a:pt x="0" y="0"/>
                  </a:moveTo>
                  <a:lnTo>
                    <a:pt x="108" y="6"/>
                  </a:lnTo>
                  <a:lnTo>
                    <a:pt x="223" y="18"/>
                  </a:lnTo>
                  <a:lnTo>
                    <a:pt x="445" y="42"/>
                  </a:ln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537000" y="2739960"/>
              <a:ext cx="631800" cy="99720"/>
            </a:xfrm>
            <a:custGeom>
              <a:avLst/>
              <a:gdLst/>
              <a:ahLst/>
              <a:rect l="l" t="t" r="r" b="b"/>
              <a:pathLst>
                <a:path w="439" h="66">
                  <a:moveTo>
                    <a:pt x="0" y="0"/>
                  </a:moveTo>
                  <a:lnTo>
                    <a:pt x="216" y="30"/>
                  </a:lnTo>
                  <a:lnTo>
                    <a:pt x="439" y="66"/>
                  </a:ln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168800" y="2839680"/>
              <a:ext cx="638280" cy="162000"/>
            </a:xfrm>
            <a:custGeom>
              <a:avLst/>
              <a:gdLst/>
              <a:ahLst/>
              <a:rect l="l" t="t" r="r" b="b"/>
              <a:pathLst>
                <a:path w="444" h="108">
                  <a:moveTo>
                    <a:pt x="0" y="0"/>
                  </a:moveTo>
                  <a:lnTo>
                    <a:pt x="108" y="24"/>
                  </a:lnTo>
                  <a:lnTo>
                    <a:pt x="222" y="48"/>
                  </a:lnTo>
                  <a:lnTo>
                    <a:pt x="444" y="108"/>
                  </a:ln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07080" y="3001680"/>
              <a:ext cx="631800" cy="181080"/>
            </a:xfrm>
            <a:custGeom>
              <a:avLst/>
              <a:gdLst/>
              <a:ahLst/>
              <a:rect l="l" t="t" r="r" b="b"/>
              <a:pathLst>
                <a:path w="439" h="120">
                  <a:moveTo>
                    <a:pt x="0" y="0"/>
                  </a:moveTo>
                  <a:lnTo>
                    <a:pt x="108" y="30"/>
                  </a:lnTo>
                  <a:lnTo>
                    <a:pt x="222" y="66"/>
                  </a:lnTo>
                  <a:lnTo>
                    <a:pt x="331" y="96"/>
                  </a:lnTo>
                  <a:lnTo>
                    <a:pt x="439" y="120"/>
                  </a:ln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5438880" y="3182760"/>
              <a:ext cx="3171600" cy="154080"/>
              <a:chOff x="5438880" y="3182760"/>
              <a:chExt cx="3171600" cy="154080"/>
            </a:xfrm>
          </p:grpSpPr>
          <p:sp>
            <p:nvSpPr>
              <p:cNvPr id="87" name=""/>
              <p:cNvSpPr/>
              <p:nvPr/>
            </p:nvSpPr>
            <p:spPr>
              <a:xfrm>
                <a:off x="5438880" y="3182760"/>
                <a:ext cx="630000" cy="73080"/>
              </a:xfrm>
              <a:custGeom>
                <a:avLst/>
                <a:gdLst/>
                <a:ahLst/>
                <a:rect l="l" t="t" r="r" b="b"/>
                <a:pathLst>
                  <a:path w="438" h="48">
                    <a:moveTo>
                      <a:pt x="0" y="0"/>
                    </a:moveTo>
                    <a:lnTo>
                      <a:pt x="108" y="18"/>
                    </a:lnTo>
                    <a:lnTo>
                      <a:pt x="216" y="30"/>
                    </a:lnTo>
                    <a:lnTo>
                      <a:pt x="438" y="48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068880" y="3255840"/>
                <a:ext cx="639720" cy="27000"/>
              </a:xfrm>
              <a:custGeom>
                <a:avLst/>
                <a:gdLst/>
                <a:ahLst/>
                <a:rect l="l" t="t" r="r" b="b"/>
                <a:pathLst>
                  <a:path w="445" h="18">
                    <a:moveTo>
                      <a:pt x="0" y="0"/>
                    </a:moveTo>
                    <a:lnTo>
                      <a:pt x="223" y="12"/>
                    </a:lnTo>
                    <a:lnTo>
                      <a:pt x="445" y="18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708600" y="3282840"/>
                <a:ext cx="631800" cy="27000"/>
              </a:xfrm>
              <a:custGeom>
                <a:avLst/>
                <a:gdLst/>
                <a:ahLst/>
                <a:rect l="l" t="t" r="r" b="b"/>
                <a:pathLst>
                  <a:path w="439" h="18">
                    <a:moveTo>
                      <a:pt x="0" y="0"/>
                    </a:moveTo>
                    <a:lnTo>
                      <a:pt x="216" y="12"/>
                    </a:lnTo>
                    <a:lnTo>
                      <a:pt x="439" y="18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340400" y="3309840"/>
                <a:ext cx="638280" cy="9360"/>
              </a:xfrm>
              <a:custGeom>
                <a:avLst/>
                <a:gdLst/>
                <a:ahLst/>
                <a:rect l="l" t="t" r="r" b="b"/>
                <a:pathLst>
                  <a:path w="444" h="6">
                    <a:moveTo>
                      <a:pt x="0" y="0"/>
                    </a:moveTo>
                    <a:lnTo>
                      <a:pt x="222" y="6"/>
                    </a:lnTo>
                    <a:lnTo>
                      <a:pt x="444" y="6"/>
                    </a:ln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978680" y="3319200"/>
                <a:ext cx="631800" cy="176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2" name=""/>
          <p:cNvSpPr/>
          <p:nvPr/>
        </p:nvSpPr>
        <p:spPr>
          <a:xfrm>
            <a:off x="996840" y="5940360"/>
            <a:ext cx="630360" cy="1800"/>
          </a:xfrm>
          <a:custGeom>
            <a:avLst/>
            <a:gdLst/>
            <a:ahLst/>
            <a:rect l="l" t="t" r="r" b="b"/>
            <a:pathLst>
              <a:path w="438" h="0">
                <a:moveTo>
                  <a:pt x="0" y="0"/>
                </a:moveTo>
                <a:lnTo>
                  <a:pt x="216" y="0"/>
                </a:lnTo>
                <a:lnTo>
                  <a:pt x="438" y="0"/>
                </a:ln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34400" y="5965920"/>
            <a:ext cx="522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Mar.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9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13720" y="5965920"/>
            <a:ext cx="522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Mar.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045880" y="5965920"/>
            <a:ext cx="522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Mar.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667960" y="5965920"/>
            <a:ext cx="522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Mar.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29920" y="5965920"/>
            <a:ext cx="586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Mar.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71080" y="5965920"/>
            <a:ext cx="586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Mar.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21960" y="5965920"/>
            <a:ext cx="586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Mar.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44400" y="5965920"/>
            <a:ext cx="586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Mar.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57120" y="5965920"/>
            <a:ext cx="586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Mar.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398280" y="5965920"/>
            <a:ext cx="586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Mar.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049160" y="5965920"/>
            <a:ext cx="586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Mar.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90680" y="5965920"/>
            <a:ext cx="586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Mar.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14560" y="5965920"/>
            <a:ext cx="586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Mar.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4280" y="470520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84280" y="363708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84280" y="257796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4280" y="150984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76200" y="2432160"/>
            <a:ext cx="113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(2000.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266920" y="5913360"/>
            <a:ext cx="144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96840" y="5724360"/>
            <a:ext cx="630360" cy="117720"/>
          </a:xfrm>
          <a:custGeom>
            <a:avLst/>
            <a:gdLst/>
            <a:ahLst/>
            <a:rect l="l" t="t" r="r" b="b"/>
            <a:pathLst>
              <a:path w="438" h="78">
                <a:moveTo>
                  <a:pt x="0" y="78"/>
                </a:moveTo>
                <a:lnTo>
                  <a:pt x="108" y="60"/>
                </a:lnTo>
                <a:lnTo>
                  <a:pt x="216" y="48"/>
                </a:lnTo>
                <a:lnTo>
                  <a:pt x="330" y="30"/>
                </a:lnTo>
                <a:lnTo>
                  <a:pt x="384" y="18"/>
                </a:lnTo>
                <a:lnTo>
                  <a:pt x="43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27200" y="5335560"/>
            <a:ext cx="639720" cy="388800"/>
          </a:xfrm>
          <a:custGeom>
            <a:avLst/>
            <a:gdLst/>
            <a:ahLst/>
            <a:rect l="l" t="t" r="r" b="b"/>
            <a:pathLst>
              <a:path w="445" h="258">
                <a:moveTo>
                  <a:pt x="0" y="258"/>
                </a:moveTo>
                <a:lnTo>
                  <a:pt x="108" y="210"/>
                </a:lnTo>
                <a:lnTo>
                  <a:pt x="222" y="156"/>
                </a:lnTo>
                <a:lnTo>
                  <a:pt x="277" y="126"/>
                </a:lnTo>
                <a:lnTo>
                  <a:pt x="337" y="90"/>
                </a:lnTo>
                <a:lnTo>
                  <a:pt x="391" y="48"/>
                </a:lnTo>
                <a:lnTo>
                  <a:pt x="44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66920" y="4522680"/>
            <a:ext cx="630360" cy="812880"/>
          </a:xfrm>
          <a:custGeom>
            <a:avLst/>
            <a:gdLst/>
            <a:ahLst/>
            <a:rect l="l" t="t" r="r" b="b"/>
            <a:pathLst>
              <a:path w="438" h="540">
                <a:moveTo>
                  <a:pt x="0" y="540"/>
                </a:moveTo>
                <a:lnTo>
                  <a:pt x="54" y="486"/>
                </a:lnTo>
                <a:lnTo>
                  <a:pt x="108" y="420"/>
                </a:lnTo>
                <a:lnTo>
                  <a:pt x="162" y="354"/>
                </a:lnTo>
                <a:lnTo>
                  <a:pt x="216" y="276"/>
                </a:lnTo>
                <a:lnTo>
                  <a:pt x="330" y="132"/>
                </a:lnTo>
                <a:lnTo>
                  <a:pt x="384" y="60"/>
                </a:lnTo>
                <a:lnTo>
                  <a:pt x="43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97280" y="3916440"/>
            <a:ext cx="639720" cy="606240"/>
          </a:xfrm>
          <a:custGeom>
            <a:avLst/>
            <a:gdLst/>
            <a:ahLst/>
            <a:rect l="l" t="t" r="r" b="b"/>
            <a:pathLst>
              <a:path w="445" h="402">
                <a:moveTo>
                  <a:pt x="0" y="402"/>
                </a:moveTo>
                <a:lnTo>
                  <a:pt x="108" y="288"/>
                </a:lnTo>
                <a:lnTo>
                  <a:pt x="223" y="186"/>
                </a:lnTo>
                <a:lnTo>
                  <a:pt x="337" y="90"/>
                </a:lnTo>
                <a:lnTo>
                  <a:pt x="44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37000" y="3436920"/>
            <a:ext cx="631800" cy="479520"/>
          </a:xfrm>
          <a:custGeom>
            <a:avLst/>
            <a:gdLst/>
            <a:ahLst/>
            <a:rect l="l" t="t" r="r" b="b"/>
            <a:pathLst>
              <a:path w="439" h="319">
                <a:moveTo>
                  <a:pt x="0" y="319"/>
                </a:moveTo>
                <a:lnTo>
                  <a:pt x="108" y="235"/>
                </a:lnTo>
                <a:lnTo>
                  <a:pt x="216" y="157"/>
                </a:lnTo>
                <a:lnTo>
                  <a:pt x="330" y="78"/>
                </a:lnTo>
                <a:lnTo>
                  <a:pt x="43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68800" y="2930400"/>
            <a:ext cx="638280" cy="506520"/>
          </a:xfrm>
          <a:custGeom>
            <a:avLst/>
            <a:gdLst/>
            <a:ahLst/>
            <a:rect l="l" t="t" r="r" b="b"/>
            <a:pathLst>
              <a:path w="444" h="336">
                <a:moveTo>
                  <a:pt x="0" y="336"/>
                </a:moveTo>
                <a:lnTo>
                  <a:pt x="222" y="168"/>
                </a:lnTo>
                <a:lnTo>
                  <a:pt x="44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807080" y="2397240"/>
            <a:ext cx="631800" cy="533160"/>
          </a:xfrm>
          <a:custGeom>
            <a:avLst/>
            <a:gdLst/>
            <a:ahLst/>
            <a:rect l="l" t="t" r="r" b="b"/>
            <a:pathLst>
              <a:path w="439" h="354">
                <a:moveTo>
                  <a:pt x="0" y="354"/>
                </a:moveTo>
                <a:lnTo>
                  <a:pt x="108" y="264"/>
                </a:lnTo>
                <a:lnTo>
                  <a:pt x="222" y="168"/>
                </a:lnTo>
                <a:lnTo>
                  <a:pt x="331" y="78"/>
                </a:lnTo>
                <a:lnTo>
                  <a:pt x="385" y="36"/>
                </a:lnTo>
                <a:lnTo>
                  <a:pt x="43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5438880" y="1376280"/>
            <a:ext cx="3171600" cy="1020600"/>
            <a:chOff x="5438880" y="1376280"/>
            <a:chExt cx="3171600" cy="1020600"/>
          </a:xfrm>
        </p:grpSpPr>
        <p:sp>
          <p:nvSpPr>
            <p:cNvPr id="120" name=""/>
            <p:cNvSpPr/>
            <p:nvPr/>
          </p:nvSpPr>
          <p:spPr>
            <a:xfrm>
              <a:off x="5438880" y="2098440"/>
              <a:ext cx="630000" cy="298440"/>
            </a:xfrm>
            <a:custGeom>
              <a:avLst/>
              <a:gdLst/>
              <a:ahLst/>
              <a:rect l="l" t="t" r="r" b="b"/>
              <a:pathLst>
                <a:path w="438" h="198">
                  <a:moveTo>
                    <a:pt x="0" y="198"/>
                  </a:moveTo>
                  <a:lnTo>
                    <a:pt x="54" y="168"/>
                  </a:lnTo>
                  <a:lnTo>
                    <a:pt x="108" y="138"/>
                  </a:lnTo>
                  <a:lnTo>
                    <a:pt x="216" y="90"/>
                  </a:lnTo>
                  <a:lnTo>
                    <a:pt x="330" y="42"/>
                  </a:lnTo>
                  <a:lnTo>
                    <a:pt x="43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068880" y="1819080"/>
              <a:ext cx="639720" cy="279360"/>
            </a:xfrm>
            <a:custGeom>
              <a:avLst/>
              <a:gdLst/>
              <a:ahLst/>
              <a:rect l="l" t="t" r="r" b="b"/>
              <a:pathLst>
                <a:path w="445" h="186">
                  <a:moveTo>
                    <a:pt x="0" y="186"/>
                  </a:moveTo>
                  <a:lnTo>
                    <a:pt x="223" y="90"/>
                  </a:lnTo>
                  <a:lnTo>
                    <a:pt x="44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708600" y="1593720"/>
              <a:ext cx="631800" cy="225360"/>
            </a:xfrm>
            <a:custGeom>
              <a:avLst/>
              <a:gdLst/>
              <a:ahLst/>
              <a:rect l="l" t="t" r="r" b="b"/>
              <a:pathLst>
                <a:path w="439" h="150">
                  <a:moveTo>
                    <a:pt x="0" y="150"/>
                  </a:moveTo>
                  <a:lnTo>
                    <a:pt x="216" y="72"/>
                  </a:lnTo>
                  <a:lnTo>
                    <a:pt x="330" y="30"/>
                  </a:lnTo>
                  <a:lnTo>
                    <a:pt x="43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40400" y="1447560"/>
              <a:ext cx="638280" cy="146160"/>
            </a:xfrm>
            <a:custGeom>
              <a:avLst/>
              <a:gdLst/>
              <a:ahLst/>
              <a:rect l="l" t="t" r="r" b="b"/>
              <a:pathLst>
                <a:path w="444" h="96">
                  <a:moveTo>
                    <a:pt x="0" y="96"/>
                  </a:moveTo>
                  <a:lnTo>
                    <a:pt x="222" y="42"/>
                  </a:lnTo>
                  <a:lnTo>
                    <a:pt x="44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978680" y="1376280"/>
              <a:ext cx="631800" cy="71280"/>
            </a:xfrm>
            <a:custGeom>
              <a:avLst/>
              <a:gdLst/>
              <a:ahLst/>
              <a:rect l="l" t="t" r="r" b="b"/>
              <a:pathLst>
                <a:path w="439" h="48">
                  <a:moveTo>
                    <a:pt x="0" y="48"/>
                  </a:moveTo>
                  <a:lnTo>
                    <a:pt x="108" y="30"/>
                  </a:lnTo>
                  <a:lnTo>
                    <a:pt x="223" y="24"/>
                  </a:lnTo>
                  <a:lnTo>
                    <a:pt x="43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168800" y="4341960"/>
            <a:ext cx="4441680" cy="1617480"/>
            <a:chOff x="4168800" y="4341960"/>
            <a:chExt cx="4441680" cy="1617480"/>
          </a:xfrm>
        </p:grpSpPr>
        <p:sp>
          <p:nvSpPr>
            <p:cNvPr id="126" name=""/>
            <p:cNvSpPr/>
            <p:nvPr/>
          </p:nvSpPr>
          <p:spPr>
            <a:xfrm>
              <a:off x="4168800" y="5950080"/>
              <a:ext cx="638280" cy="9360"/>
            </a:xfrm>
            <a:custGeom>
              <a:avLst/>
              <a:gdLst/>
              <a:ahLst/>
              <a:rect l="l" t="t" r="r" b="b"/>
              <a:pathLst>
                <a:path w="444" h="6">
                  <a:moveTo>
                    <a:pt x="0" y="6"/>
                  </a:moveTo>
                  <a:lnTo>
                    <a:pt x="222" y="6"/>
                  </a:lnTo>
                  <a:lnTo>
                    <a:pt x="444" y="0"/>
                  </a:lnTo>
                </a:path>
              </a:pathLst>
            </a:custGeom>
            <a:noFill/>
            <a:ln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07080" y="5913720"/>
              <a:ext cx="631800" cy="36360"/>
            </a:xfrm>
            <a:custGeom>
              <a:avLst/>
              <a:gdLst/>
              <a:ahLst/>
              <a:rect l="l" t="t" r="r" b="b"/>
              <a:pathLst>
                <a:path w="439" h="24">
                  <a:moveTo>
                    <a:pt x="0" y="24"/>
                  </a:moveTo>
                  <a:lnTo>
                    <a:pt x="222" y="18"/>
                  </a:lnTo>
                  <a:lnTo>
                    <a:pt x="331" y="12"/>
                  </a:lnTo>
                  <a:lnTo>
                    <a:pt x="439" y="0"/>
                  </a:lnTo>
                </a:path>
              </a:pathLst>
            </a:custGeom>
            <a:noFill/>
            <a:ln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5438880" y="4341960"/>
              <a:ext cx="3171600" cy="1571760"/>
              <a:chOff x="5438880" y="4341960"/>
              <a:chExt cx="3171600" cy="1571760"/>
            </a:xfrm>
          </p:grpSpPr>
          <p:sp>
            <p:nvSpPr>
              <p:cNvPr id="129" name=""/>
              <p:cNvSpPr/>
              <p:nvPr/>
            </p:nvSpPr>
            <p:spPr>
              <a:xfrm>
                <a:off x="5438880" y="5742000"/>
                <a:ext cx="630000" cy="171720"/>
              </a:xfrm>
              <a:custGeom>
                <a:avLst/>
                <a:gdLst/>
                <a:ahLst/>
                <a:rect l="l" t="t" r="r" b="b"/>
                <a:pathLst>
                  <a:path w="438" h="114">
                    <a:moveTo>
                      <a:pt x="0" y="114"/>
                    </a:moveTo>
                    <a:lnTo>
                      <a:pt x="108" y="90"/>
                    </a:lnTo>
                    <a:lnTo>
                      <a:pt x="216" y="66"/>
                    </a:lnTo>
                    <a:lnTo>
                      <a:pt x="438" y="0"/>
                    </a:lnTo>
                  </a:path>
                </a:pathLst>
              </a:custGeom>
              <a:noFill/>
              <a:ln w="381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068880" y="5534280"/>
                <a:ext cx="639720" cy="207720"/>
              </a:xfrm>
              <a:custGeom>
                <a:avLst/>
                <a:gdLst/>
                <a:ahLst/>
                <a:rect l="l" t="t" r="r" b="b"/>
                <a:pathLst>
                  <a:path w="445" h="138">
                    <a:moveTo>
                      <a:pt x="0" y="138"/>
                    </a:moveTo>
                    <a:lnTo>
                      <a:pt x="223" y="78"/>
                    </a:lnTo>
                    <a:lnTo>
                      <a:pt x="337" y="42"/>
                    </a:lnTo>
                    <a:lnTo>
                      <a:pt x="445" y="0"/>
                    </a:lnTo>
                  </a:path>
                </a:pathLst>
              </a:custGeom>
              <a:noFill/>
              <a:ln w="381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708600" y="5181840"/>
                <a:ext cx="631800" cy="352440"/>
              </a:xfrm>
              <a:custGeom>
                <a:avLst/>
                <a:gdLst/>
                <a:ahLst/>
                <a:rect l="l" t="t" r="r" b="b"/>
                <a:pathLst>
                  <a:path w="439" h="234">
                    <a:moveTo>
                      <a:pt x="0" y="234"/>
                    </a:moveTo>
                    <a:lnTo>
                      <a:pt x="108" y="186"/>
                    </a:lnTo>
                    <a:lnTo>
                      <a:pt x="216" y="126"/>
                    </a:lnTo>
                    <a:lnTo>
                      <a:pt x="330" y="66"/>
                    </a:lnTo>
                    <a:lnTo>
                      <a:pt x="439" y="0"/>
                    </a:lnTo>
                  </a:path>
                </a:pathLst>
              </a:custGeom>
              <a:noFill/>
              <a:ln w="381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340400" y="4748400"/>
                <a:ext cx="638280" cy="433440"/>
              </a:xfrm>
              <a:custGeom>
                <a:avLst/>
                <a:gdLst/>
                <a:ahLst/>
                <a:rect l="l" t="t" r="r" b="b"/>
                <a:pathLst>
                  <a:path w="444" h="288">
                    <a:moveTo>
                      <a:pt x="0" y="288"/>
                    </a:moveTo>
                    <a:lnTo>
                      <a:pt x="108" y="222"/>
                    </a:lnTo>
                    <a:lnTo>
                      <a:pt x="222" y="144"/>
                    </a:lnTo>
                    <a:lnTo>
                      <a:pt x="336" y="72"/>
                    </a:lnTo>
                    <a:lnTo>
                      <a:pt x="444" y="0"/>
                    </a:lnTo>
                  </a:path>
                </a:pathLst>
              </a:custGeom>
              <a:noFill/>
              <a:ln w="381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978680" y="4341960"/>
                <a:ext cx="631800" cy="406440"/>
              </a:xfrm>
              <a:custGeom>
                <a:avLst/>
                <a:gdLst/>
                <a:ahLst/>
                <a:rect l="l" t="t" r="r" b="b"/>
                <a:pathLst>
                  <a:path w="439" h="270">
                    <a:moveTo>
                      <a:pt x="0" y="270"/>
                    </a:moveTo>
                    <a:lnTo>
                      <a:pt x="223" y="132"/>
                    </a:lnTo>
                    <a:lnTo>
                      <a:pt x="439" y="0"/>
                    </a:lnTo>
                  </a:path>
                </a:pathLst>
              </a:custGeom>
              <a:noFill/>
              <a:ln w="381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4" name=""/>
          <p:cNvGrpSpPr/>
          <p:nvPr/>
        </p:nvGrpSpPr>
        <p:grpSpPr>
          <a:xfrm>
            <a:off x="996840" y="1123920"/>
            <a:ext cx="5711760" cy="4799160"/>
            <a:chOff x="996840" y="1123920"/>
            <a:chExt cx="5711760" cy="4799160"/>
          </a:xfrm>
        </p:grpSpPr>
        <p:sp>
          <p:nvSpPr>
            <p:cNvPr id="135" name=""/>
            <p:cNvSpPr/>
            <p:nvPr/>
          </p:nvSpPr>
          <p:spPr>
            <a:xfrm>
              <a:off x="996840" y="5904000"/>
              <a:ext cx="630360" cy="19080"/>
            </a:xfrm>
            <a:custGeom>
              <a:avLst/>
              <a:gdLst/>
              <a:ahLst/>
              <a:rect l="l" t="t" r="r" b="b"/>
              <a:pathLst>
                <a:path w="438" h="12">
                  <a:moveTo>
                    <a:pt x="0" y="12"/>
                  </a:moveTo>
                  <a:lnTo>
                    <a:pt x="216" y="6"/>
                  </a:lnTo>
                  <a:lnTo>
                    <a:pt x="43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27200" y="5832720"/>
              <a:ext cx="639720" cy="71280"/>
            </a:xfrm>
            <a:custGeom>
              <a:avLst/>
              <a:gdLst/>
              <a:ahLst/>
              <a:rect l="l" t="t" r="r" b="b"/>
              <a:pathLst>
                <a:path w="445" h="48">
                  <a:moveTo>
                    <a:pt x="0" y="48"/>
                  </a:moveTo>
                  <a:lnTo>
                    <a:pt x="222" y="30"/>
                  </a:lnTo>
                  <a:lnTo>
                    <a:pt x="445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266920" y="5742000"/>
              <a:ext cx="630360" cy="90720"/>
            </a:xfrm>
            <a:custGeom>
              <a:avLst/>
              <a:gdLst/>
              <a:ahLst/>
              <a:rect l="l" t="t" r="r" b="b"/>
              <a:pathLst>
                <a:path w="438" h="60">
                  <a:moveTo>
                    <a:pt x="0" y="60"/>
                  </a:moveTo>
                  <a:lnTo>
                    <a:pt x="216" y="30"/>
                  </a:lnTo>
                  <a:lnTo>
                    <a:pt x="43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897280" y="5607000"/>
              <a:ext cx="639720" cy="135000"/>
            </a:xfrm>
            <a:custGeom>
              <a:avLst/>
              <a:gdLst/>
              <a:ahLst/>
              <a:rect l="l" t="t" r="r" b="b"/>
              <a:pathLst>
                <a:path w="445" h="90">
                  <a:moveTo>
                    <a:pt x="0" y="90"/>
                  </a:moveTo>
                  <a:lnTo>
                    <a:pt x="223" y="54"/>
                  </a:lnTo>
                  <a:lnTo>
                    <a:pt x="337" y="30"/>
                  </a:lnTo>
                  <a:lnTo>
                    <a:pt x="445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537000" y="5372280"/>
              <a:ext cx="631800" cy="234720"/>
            </a:xfrm>
            <a:custGeom>
              <a:avLst/>
              <a:gdLst/>
              <a:ahLst/>
              <a:rect l="l" t="t" r="r" b="b"/>
              <a:pathLst>
                <a:path w="439" h="156">
                  <a:moveTo>
                    <a:pt x="0" y="156"/>
                  </a:moveTo>
                  <a:lnTo>
                    <a:pt x="108" y="126"/>
                  </a:lnTo>
                  <a:lnTo>
                    <a:pt x="216" y="90"/>
                  </a:lnTo>
                  <a:lnTo>
                    <a:pt x="330" y="54"/>
                  </a:lnTo>
                  <a:lnTo>
                    <a:pt x="439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168800" y="4883400"/>
              <a:ext cx="638280" cy="488880"/>
            </a:xfrm>
            <a:custGeom>
              <a:avLst/>
              <a:gdLst/>
              <a:ahLst/>
              <a:rect l="l" t="t" r="r" b="b"/>
              <a:pathLst>
                <a:path w="444" h="324">
                  <a:moveTo>
                    <a:pt x="0" y="324"/>
                  </a:moveTo>
                  <a:lnTo>
                    <a:pt x="108" y="270"/>
                  </a:lnTo>
                  <a:lnTo>
                    <a:pt x="168" y="240"/>
                  </a:lnTo>
                  <a:lnTo>
                    <a:pt x="222" y="204"/>
                  </a:lnTo>
                  <a:lnTo>
                    <a:pt x="276" y="168"/>
                  </a:lnTo>
                  <a:lnTo>
                    <a:pt x="336" y="126"/>
                  </a:lnTo>
                  <a:lnTo>
                    <a:pt x="390" y="66"/>
                  </a:lnTo>
                  <a:lnTo>
                    <a:pt x="44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807080" y="3571920"/>
              <a:ext cx="631800" cy="1311480"/>
            </a:xfrm>
            <a:custGeom>
              <a:avLst/>
              <a:gdLst/>
              <a:ahLst/>
              <a:rect l="l" t="t" r="r" b="b"/>
              <a:pathLst>
                <a:path w="439" h="871">
                  <a:moveTo>
                    <a:pt x="0" y="871"/>
                  </a:moveTo>
                  <a:lnTo>
                    <a:pt x="54" y="787"/>
                  </a:lnTo>
                  <a:lnTo>
                    <a:pt x="108" y="691"/>
                  </a:lnTo>
                  <a:lnTo>
                    <a:pt x="162" y="583"/>
                  </a:lnTo>
                  <a:lnTo>
                    <a:pt x="222" y="469"/>
                  </a:lnTo>
                  <a:lnTo>
                    <a:pt x="331" y="235"/>
                  </a:lnTo>
                  <a:lnTo>
                    <a:pt x="385" y="115"/>
                  </a:lnTo>
                  <a:lnTo>
                    <a:pt x="439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438880" y="2235240"/>
              <a:ext cx="630000" cy="1336680"/>
            </a:xfrm>
            <a:custGeom>
              <a:avLst/>
              <a:gdLst/>
              <a:ahLst/>
              <a:rect l="l" t="t" r="r" b="b"/>
              <a:pathLst>
                <a:path w="438" h="888">
                  <a:moveTo>
                    <a:pt x="0" y="888"/>
                  </a:moveTo>
                  <a:lnTo>
                    <a:pt x="108" y="666"/>
                  </a:lnTo>
                  <a:lnTo>
                    <a:pt x="216" y="438"/>
                  </a:lnTo>
                  <a:lnTo>
                    <a:pt x="330" y="210"/>
                  </a:lnTo>
                  <a:lnTo>
                    <a:pt x="384" y="102"/>
                  </a:lnTo>
                  <a:lnTo>
                    <a:pt x="43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068880" y="1123920"/>
              <a:ext cx="639720" cy="1111320"/>
            </a:xfrm>
            <a:custGeom>
              <a:avLst/>
              <a:gdLst/>
              <a:ahLst/>
              <a:rect l="l" t="t" r="r" b="b"/>
              <a:pathLst>
                <a:path w="445" h="738">
                  <a:moveTo>
                    <a:pt x="0" y="738"/>
                  </a:moveTo>
                  <a:lnTo>
                    <a:pt x="109" y="534"/>
                  </a:lnTo>
                  <a:lnTo>
                    <a:pt x="169" y="432"/>
                  </a:lnTo>
                  <a:lnTo>
                    <a:pt x="223" y="330"/>
                  </a:lnTo>
                  <a:lnTo>
                    <a:pt x="277" y="234"/>
                  </a:lnTo>
                  <a:lnTo>
                    <a:pt x="337" y="150"/>
                  </a:lnTo>
                  <a:lnTo>
                    <a:pt x="391" y="66"/>
                  </a:lnTo>
                  <a:lnTo>
                    <a:pt x="445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620720" y="5294160"/>
            <a:ext cx="6951600" cy="646200"/>
            <a:chOff x="1620720" y="5294160"/>
            <a:chExt cx="6951600" cy="646200"/>
          </a:xfrm>
        </p:grpSpPr>
        <p:sp>
          <p:nvSpPr>
            <p:cNvPr id="145" name=""/>
            <p:cNvSpPr/>
            <p:nvPr/>
          </p:nvSpPr>
          <p:spPr>
            <a:xfrm>
              <a:off x="1620720" y="5922720"/>
              <a:ext cx="639720" cy="17640"/>
            </a:xfrm>
            <a:custGeom>
              <a:avLst/>
              <a:gdLst/>
              <a:ahLst/>
              <a:rect l="l" t="t" r="r" b="b"/>
              <a:pathLst>
                <a:path w="445" h="12">
                  <a:moveTo>
                    <a:pt x="0" y="12"/>
                  </a:moveTo>
                  <a:lnTo>
                    <a:pt x="222" y="6"/>
                  </a:lnTo>
                  <a:lnTo>
                    <a:pt x="445" y="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60440" y="5895720"/>
              <a:ext cx="630360" cy="27000"/>
            </a:xfrm>
            <a:custGeom>
              <a:avLst/>
              <a:gdLst/>
              <a:ahLst/>
              <a:rect l="l" t="t" r="r" b="b"/>
              <a:pathLst>
                <a:path w="438" h="18">
                  <a:moveTo>
                    <a:pt x="0" y="18"/>
                  </a:moveTo>
                  <a:lnTo>
                    <a:pt x="216" y="12"/>
                  </a:lnTo>
                  <a:lnTo>
                    <a:pt x="438" y="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90800" y="5822640"/>
              <a:ext cx="639720" cy="73080"/>
            </a:xfrm>
            <a:custGeom>
              <a:avLst/>
              <a:gdLst/>
              <a:ahLst/>
              <a:rect l="l" t="t" r="r" b="b"/>
              <a:pathLst>
                <a:path w="445" h="48">
                  <a:moveTo>
                    <a:pt x="0" y="48"/>
                  </a:moveTo>
                  <a:lnTo>
                    <a:pt x="223" y="24"/>
                  </a:lnTo>
                  <a:lnTo>
                    <a:pt x="445" y="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30520" y="5724360"/>
              <a:ext cx="631800" cy="98280"/>
            </a:xfrm>
            <a:custGeom>
              <a:avLst/>
              <a:gdLst/>
              <a:ahLst/>
              <a:rect l="l" t="t" r="r" b="b"/>
              <a:pathLst>
                <a:path w="439" h="66">
                  <a:moveTo>
                    <a:pt x="0" y="66"/>
                  </a:moveTo>
                  <a:lnTo>
                    <a:pt x="216" y="36"/>
                  </a:lnTo>
                  <a:lnTo>
                    <a:pt x="439" y="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162320" y="5560920"/>
              <a:ext cx="638280" cy="163440"/>
            </a:xfrm>
            <a:custGeom>
              <a:avLst/>
              <a:gdLst/>
              <a:ahLst/>
              <a:rect l="l" t="t" r="r" b="b"/>
              <a:pathLst>
                <a:path w="444" h="108">
                  <a:moveTo>
                    <a:pt x="0" y="108"/>
                  </a:moveTo>
                  <a:lnTo>
                    <a:pt x="108" y="84"/>
                  </a:lnTo>
                  <a:lnTo>
                    <a:pt x="222" y="60"/>
                  </a:lnTo>
                  <a:lnTo>
                    <a:pt x="444" y="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00600" y="5379840"/>
              <a:ext cx="631800" cy="181080"/>
            </a:xfrm>
            <a:custGeom>
              <a:avLst/>
              <a:gdLst/>
              <a:ahLst/>
              <a:rect l="l" t="t" r="r" b="b"/>
              <a:pathLst>
                <a:path w="439" h="120">
                  <a:moveTo>
                    <a:pt x="0" y="120"/>
                  </a:moveTo>
                  <a:lnTo>
                    <a:pt x="108" y="90"/>
                  </a:lnTo>
                  <a:lnTo>
                    <a:pt x="222" y="54"/>
                  </a:lnTo>
                  <a:lnTo>
                    <a:pt x="331" y="24"/>
                  </a:lnTo>
                  <a:lnTo>
                    <a:pt x="439" y="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702120" y="5344920"/>
              <a:ext cx="1870200" cy="203040"/>
            </a:xfrm>
            <a:custGeom>
              <a:avLst/>
              <a:gdLst/>
              <a:ahLst/>
              <a:rect l="l" t="t" r="r" b="b"/>
              <a:pathLst>
                <a:path w="439" h="54">
                  <a:moveTo>
                    <a:pt x="0" y="0"/>
                  </a:moveTo>
                  <a:lnTo>
                    <a:pt x="108" y="12"/>
                  </a:lnTo>
                  <a:lnTo>
                    <a:pt x="216" y="24"/>
                  </a:lnTo>
                  <a:lnTo>
                    <a:pt x="330" y="42"/>
                  </a:lnTo>
                  <a:lnTo>
                    <a:pt x="439" y="54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5422680" y="5295600"/>
              <a:ext cx="635040" cy="8424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051240" y="5294160"/>
              <a:ext cx="654120" cy="4896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996840" y="4892760"/>
            <a:ext cx="761364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96840" y="3825720"/>
            <a:ext cx="761364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96840" y="1692360"/>
            <a:ext cx="761364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96840" y="2759040"/>
            <a:ext cx="761364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473200" y="2233440"/>
            <a:ext cx="976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  <a:ea typeface="HG丸ｺﾞｼｯｸM-PRO"/>
              </a:rPr>
              <a:t>PST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90600" y="3284640"/>
            <a:ext cx="3086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HG丸ｺﾞｼｯｸM-PRO"/>
              </a:rPr>
              <a:t>Mobile Tele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181840" y="3754440"/>
            <a:ext cx="3420720" cy="6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HG丸ｺﾞｼｯｸM-PRO"/>
              </a:rPr>
              <a:t>Broad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HG丸ｺﾞｼｯｸM-PRO"/>
              </a:rPr>
              <a:t>(FTTH/B + DSL + CAT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70600" y="2131920"/>
            <a:ext cx="2514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HG丸ｺﾞｼｯｸM-PRO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HG丸ｺﾞｼｯｸM-PRO"/>
              </a:rPr>
              <a:t>(Fixed &amp; Mobile Acc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70000" y="5067360"/>
            <a:ext cx="727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Arial"/>
                <a:ea typeface="HG丸ｺﾞｼｯｸM-PRO"/>
              </a:rPr>
              <a:t>ISD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96840" y="1123920"/>
            <a:ext cx="7613640" cy="4835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7560" y="743040"/>
            <a:ext cx="193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(Million Us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9600" y="0"/>
            <a:ext cx="852012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HG丸ｺﾞｼｯｸM-PRO"/>
              </a:rPr>
              <a:t>Telecommunication Service Tre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6153120" y="861480"/>
            <a:ext cx="0" cy="5077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154560" y="9460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0440" y="73836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(Estimat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695840" y="2911320"/>
            <a:ext cx="125280" cy="1558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7234200" y="1685880"/>
          <a:ext cx="72396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4200" y="1685880"/>
                    <a:ext cx="72396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5398920" y="4641840"/>
          <a:ext cx="601920" cy="66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8920" y="4641840"/>
                    <a:ext cx="60192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7045200" y="4476600"/>
            <a:ext cx="617760" cy="6462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6"/>
          <a:stretch/>
        </p:blipFill>
        <p:spPr>
          <a:xfrm>
            <a:off x="2508120" y="3646440"/>
            <a:ext cx="552600" cy="7653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7"/>
          <a:stretch/>
        </p:blipFill>
        <p:spPr>
          <a:xfrm>
            <a:off x="1393920" y="2090880"/>
            <a:ext cx="90972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50760" y="131760"/>
            <a:ext cx="902808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HG丸ｺﾞｼｯｸM-PRO"/>
              </a:rPr>
              <a:t>Broadband Access (FTTH, ADSL, CATV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224000" y="5867280"/>
            <a:ext cx="7418520" cy="3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1441440" y="5781600"/>
            <a:ext cx="1440" cy="85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82880" y="5867280"/>
            <a:ext cx="144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2525760" y="5781600"/>
            <a:ext cx="1440" cy="85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65400" y="5867280"/>
            <a:ext cx="180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3606840" y="5781600"/>
            <a:ext cx="1440" cy="85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149720" y="5867280"/>
            <a:ext cx="144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4691160" y="5781600"/>
            <a:ext cx="1440" cy="85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1224000" y="1218960"/>
            <a:ext cx="1440" cy="46479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224000" y="1216080"/>
            <a:ext cx="137880" cy="4652640"/>
            <a:chOff x="1224000" y="1216080"/>
            <a:chExt cx="137880" cy="4652640"/>
          </a:xfrm>
        </p:grpSpPr>
        <p:sp>
          <p:nvSpPr>
            <p:cNvPr id="188" name=""/>
            <p:cNvSpPr/>
            <p:nvPr/>
          </p:nvSpPr>
          <p:spPr>
            <a:xfrm>
              <a:off x="1224000" y="5866920"/>
              <a:ext cx="1378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24000" y="5402160"/>
              <a:ext cx="910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24000" y="5127480"/>
              <a:ext cx="910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224000" y="4933080"/>
              <a:ext cx="910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224000" y="4782960"/>
              <a:ext cx="91080" cy="3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224000" y="4660200"/>
              <a:ext cx="910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224000" y="4556880"/>
              <a:ext cx="910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224000" y="4467960"/>
              <a:ext cx="910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24000" y="4387680"/>
              <a:ext cx="91080" cy="3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24000" y="4315680"/>
              <a:ext cx="137880" cy="3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224000" y="3849120"/>
              <a:ext cx="91080" cy="3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224000" y="3578400"/>
              <a:ext cx="91080" cy="2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224000" y="3381840"/>
              <a:ext cx="91080" cy="3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224000" y="3231720"/>
              <a:ext cx="910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224000" y="3107160"/>
              <a:ext cx="91080" cy="3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224000" y="3005640"/>
              <a:ext cx="91080" cy="3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24000" y="2914920"/>
              <a:ext cx="91080" cy="3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24000" y="2836440"/>
              <a:ext cx="91080" cy="2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224000" y="2765160"/>
              <a:ext cx="1378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224000" y="2297880"/>
              <a:ext cx="910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224000" y="2025360"/>
              <a:ext cx="91080" cy="2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224000" y="1830600"/>
              <a:ext cx="91080" cy="2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224000" y="1678680"/>
              <a:ext cx="91080" cy="3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224000" y="1558440"/>
              <a:ext cx="910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224000" y="1455120"/>
              <a:ext cx="910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224000" y="1365840"/>
              <a:ext cx="91080" cy="2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224000" y="1283400"/>
              <a:ext cx="91080" cy="2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224000" y="1216080"/>
              <a:ext cx="137880" cy="2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1982880" y="1854360"/>
            <a:ext cx="14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25760" y="1854360"/>
            <a:ext cx="14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65400" y="1854360"/>
            <a:ext cx="180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06840" y="1854360"/>
            <a:ext cx="14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149720" y="1854360"/>
            <a:ext cx="14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691160" y="1854360"/>
            <a:ext cx="14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4828680" y="5867280"/>
            <a:ext cx="7956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016640" y="6004080"/>
            <a:ext cx="932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2001/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093040" y="6004080"/>
            <a:ext cx="932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2002/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15080" y="817560"/>
            <a:ext cx="2103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(Million Us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487640" y="6019920"/>
            <a:ext cx="1398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(Year/Mont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35840" y="3933720"/>
            <a:ext cx="82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HG丸ｺﾞｼｯｸM-PRO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334880" y="5343480"/>
            <a:ext cx="103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  <a:ea typeface="HG丸ｺﾞｼｯｸM-PRO"/>
              </a:rPr>
              <a:t>Op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98400" y="4162320"/>
            <a:ext cx="424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5000" y="1147680"/>
            <a:ext cx="425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413720" y="2063880"/>
            <a:ext cx="82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HG丸ｺﾞｼｯｸM-PRO"/>
              </a:rPr>
              <a:t>CAT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432160" y="5253120"/>
            <a:ext cx="171360" cy="1998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169440" y="6004080"/>
            <a:ext cx="932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2003/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267800" y="6004080"/>
            <a:ext cx="932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2004/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468040" y="6004080"/>
            <a:ext cx="932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2005/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2347920" y="5361120"/>
            <a:ext cx="193680" cy="5220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355760" y="4476600"/>
            <a:ext cx="171360" cy="2001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1423800" y="3076560"/>
            <a:ext cx="502920" cy="1484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525360" y="6013440"/>
            <a:ext cx="932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2006/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5769000" y="5772240"/>
            <a:ext cx="1440" cy="85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6853320" y="5791320"/>
            <a:ext cx="1440" cy="85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992160" y="259884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14680" y="1562040"/>
            <a:ext cx="171360" cy="2001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591080" y="1273320"/>
            <a:ext cx="171360" cy="1998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67480" y="1258920"/>
            <a:ext cx="171360" cy="2001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53240" y="1328760"/>
            <a:ext cx="171360" cy="2001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2579760" y="1657440"/>
            <a:ext cx="1023840" cy="49680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3632040" y="1353960"/>
            <a:ext cx="1055880" cy="29376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4691160" y="1343160"/>
            <a:ext cx="1068120" cy="792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742000" y="1384200"/>
            <a:ext cx="1090440" cy="6372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535120" y="1181160"/>
            <a:ext cx="0" cy="46861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89120" y="5599080"/>
            <a:ext cx="15811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786040" y="4764240"/>
            <a:ext cx="635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(Estimated by Ministry of Public Managem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http://www.soumu.go.jp/joho_tsusin/eng/index.ht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465280" y="2360520"/>
            <a:ext cx="171720" cy="2001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514680" y="1795320"/>
            <a:ext cx="171360" cy="2001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91080" y="1666800"/>
            <a:ext cx="171360" cy="2001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667480" y="1662120"/>
            <a:ext cx="171360" cy="2001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53240" y="1643040"/>
            <a:ext cx="171360" cy="2001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676760" y="1752480"/>
            <a:ext cx="2174760" cy="0"/>
          </a:xfrm>
          <a:prstGeom prst="line">
            <a:avLst/>
          </a:prstGeom>
          <a:ln w="381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3603600" y="1733040"/>
            <a:ext cx="1073160" cy="157320"/>
          </a:xfrm>
          <a:prstGeom prst="line">
            <a:avLst/>
          </a:prstGeom>
          <a:ln w="381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2525760" y="1888920"/>
            <a:ext cx="1084320" cy="569880"/>
          </a:xfrm>
          <a:prstGeom prst="line">
            <a:avLst/>
          </a:prstGeom>
          <a:ln w="381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756480" y="1206360"/>
            <a:ext cx="171360" cy="2001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670720" y="1353960"/>
            <a:ext cx="171360" cy="2001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91080" y="1733400"/>
            <a:ext cx="171360" cy="2001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514680" y="2590920"/>
            <a:ext cx="171360" cy="1998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549520" y="2692440"/>
            <a:ext cx="1052640" cy="2662200"/>
          </a:xfrm>
          <a:prstGeom prst="line">
            <a:avLst/>
          </a:prstGeom>
          <a:ln w="381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3576600" y="1857240"/>
            <a:ext cx="1100160" cy="809640"/>
          </a:xfrm>
          <a:prstGeom prst="line">
            <a:avLst/>
          </a:prstGeom>
          <a:ln w="381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4722840" y="1471680"/>
            <a:ext cx="1085760" cy="371520"/>
          </a:xfrm>
          <a:prstGeom prst="line">
            <a:avLst/>
          </a:prstGeom>
          <a:ln w="381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5743080" y="1320840"/>
            <a:ext cx="1086120" cy="162000"/>
          </a:xfrm>
          <a:prstGeom prst="line">
            <a:avLst/>
          </a:prstGeom>
          <a:ln w="381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355760" y="2867040"/>
            <a:ext cx="171360" cy="2001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1488960" y="2662200"/>
            <a:ext cx="447840" cy="2779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650840" y="3160800"/>
            <a:ext cx="354888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ADSL 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695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CATV 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429 Mill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Optica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773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65200" y="5586480"/>
            <a:ext cx="644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0.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471760" y="2077920"/>
            <a:ext cx="171360" cy="2001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9960" y="2987640"/>
            <a:ext cx="171360" cy="2001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1949040" y="2211480"/>
            <a:ext cx="609480" cy="8604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871640" y="2549520"/>
            <a:ext cx="171360" cy="2001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1941480" y="2458800"/>
            <a:ext cx="611280" cy="2048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974760" y="2633760"/>
            <a:ext cx="4993560" cy="82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Estimated broadband us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at March, 2006 in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HG丸ｺﾞｼｯｸM-PRO"/>
              </a:rPr>
              <a:t>e-Jap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 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97480" y="1390680"/>
            <a:ext cx="2733840" cy="4556160"/>
          </a:xfrm>
          <a:prstGeom prst="cloudCallout">
            <a:avLst>
              <a:gd name="adj1" fmla="val -19162"/>
              <a:gd name="adj2" fmla="val 25990"/>
            </a:avLst>
          </a:prstGeom>
          <a:gradFill rotWithShape="0">
            <a:gsLst>
              <a:gs pos="0">
                <a:srgbClr val="66ffff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74840" y="1486080"/>
            <a:ext cx="5627520" cy="41684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152360" y="2484360"/>
            <a:ext cx="3440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2035080" y="3533760"/>
            <a:ext cx="292320" cy="2286000"/>
          </a:xfrm>
          <a:prstGeom prst="can">
            <a:avLst>
              <a:gd name="adj" fmla="val 5740"/>
            </a:avLst>
          </a:prstGeom>
          <a:gradFill rotWithShape="0">
            <a:gsLst>
              <a:gs pos="0">
                <a:srgbClr val="75465e"/>
              </a:gs>
              <a:gs pos="50000">
                <a:srgbClr val="ff99cc"/>
              </a:gs>
              <a:gs pos="100000">
                <a:srgbClr val="7546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rot="5400000">
            <a:off x="2263680" y="2425320"/>
            <a:ext cx="120600" cy="2502000"/>
          </a:xfrm>
          <a:prstGeom prst="can">
            <a:avLst>
              <a:gd name="adj" fmla="val 5217"/>
            </a:avLst>
          </a:prstGeom>
          <a:gradFill rotWithShape="0">
            <a:gsLst>
              <a:gs pos="0">
                <a:srgbClr val="ffffff"/>
              </a:gs>
              <a:gs pos="5000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01680" y="3333600"/>
            <a:ext cx="18064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FLET’S ISD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341360" y="2171880"/>
            <a:ext cx="14781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POTS/ISD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5400000">
            <a:off x="2035800" y="3054960"/>
            <a:ext cx="173160" cy="2168640"/>
          </a:xfrm>
          <a:prstGeom prst="can">
            <a:avLst>
              <a:gd name="adj" fmla="val 5217"/>
            </a:avLst>
          </a:prstGeom>
          <a:gradFill rotWithShape="0">
            <a:gsLst>
              <a:gs pos="0">
                <a:srgbClr val="46005e"/>
              </a:gs>
              <a:gs pos="50000">
                <a:srgbClr val="9900cc"/>
              </a:gs>
              <a:gs pos="100000">
                <a:srgbClr val="4600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201680" y="3789360"/>
            <a:ext cx="20527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FLET’S AD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55800" y="4514760"/>
            <a:ext cx="22510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Fi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843120" y="2376360"/>
          <a:ext cx="347400" cy="3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3120" y="2376360"/>
                    <a:ext cx="3474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"/>
          <p:cNvGraphicFramePr/>
          <p:nvPr/>
        </p:nvGraphicFramePr>
        <p:xfrm>
          <a:off x="826920" y="3387600"/>
          <a:ext cx="376560" cy="47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6920" y="3387600"/>
                    <a:ext cx="37656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826920" y="3903840"/>
          <a:ext cx="376560" cy="474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6920" y="3903840"/>
                    <a:ext cx="37656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826920" y="4422600"/>
          <a:ext cx="376560" cy="47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26920" y="4422600"/>
                    <a:ext cx="37656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"/>
          <p:cNvSpPr/>
          <p:nvPr/>
        </p:nvSpPr>
        <p:spPr>
          <a:xfrm>
            <a:off x="3103560" y="2070000"/>
            <a:ext cx="2759040" cy="770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dd5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758400" y="2301840"/>
            <a:ext cx="1276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POTS/ISD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129120" y="3373560"/>
            <a:ext cx="2720880" cy="1644480"/>
          </a:xfrm>
          <a:prstGeom prst="ellipse">
            <a:avLst/>
          </a:prstGeom>
          <a:gradFill rotWithShape="0">
            <a:gsLst>
              <a:gs pos="0">
                <a:srgbClr val="99ff33"/>
              </a:gs>
              <a:gs pos="100000">
                <a:srgbClr val="46751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8320" rIns="5832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2480"/>
                <a:tab algn="l" pos="1165320"/>
                <a:tab algn="l" pos="1747800"/>
                <a:tab algn="l" pos="2330280"/>
                <a:tab algn="l" pos="2913120"/>
                <a:tab algn="l" pos="3495600"/>
                <a:tab algn="l" pos="4078440"/>
                <a:tab algn="l" pos="4660920"/>
                <a:tab algn="l" pos="5243400"/>
                <a:tab algn="l" pos="5826240"/>
                <a:tab algn="l" pos="6408720"/>
                <a:tab algn="l" pos="6991200"/>
                <a:tab algn="l" pos="7574040"/>
                <a:tab algn="l" pos="8156520"/>
                <a:tab algn="l" pos="8739360"/>
                <a:tab algn="l" pos="9321840"/>
                <a:tab algn="l" pos="9904320"/>
                <a:tab algn="l" pos="104871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2480"/>
                <a:tab algn="l" pos="1165320"/>
                <a:tab algn="l" pos="1747800"/>
                <a:tab algn="l" pos="2330280"/>
                <a:tab algn="l" pos="2913120"/>
                <a:tab algn="l" pos="3495600"/>
                <a:tab algn="l" pos="4078440"/>
                <a:tab algn="l" pos="4660920"/>
                <a:tab algn="l" pos="5243400"/>
                <a:tab algn="l" pos="5826240"/>
                <a:tab algn="l" pos="6408720"/>
                <a:tab algn="l" pos="6991200"/>
                <a:tab algn="l" pos="7574040"/>
                <a:tab algn="l" pos="8156520"/>
                <a:tab algn="l" pos="8739360"/>
                <a:tab algn="l" pos="9321840"/>
                <a:tab algn="l" pos="9904320"/>
                <a:tab algn="l" pos="104871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IP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945480" y="2682720"/>
            <a:ext cx="1688760" cy="457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Content, 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19520" y="1981080"/>
            <a:ext cx="600120" cy="3124440"/>
          </a:xfrm>
          <a:prstGeom prst="rect">
            <a:avLst/>
          </a:prstGeom>
          <a:solidFill>
            <a:srgbClr val="00cc99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046160" y="4984920"/>
            <a:ext cx="4425840" cy="527040"/>
          </a:xfrm>
          <a:prstGeom prst="leftRightArrow">
            <a:avLst>
              <a:gd name="adj1" fmla="val 67963"/>
              <a:gd name="adj2" fmla="val 167912"/>
            </a:avLst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108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Always ON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470640" y="2116080"/>
            <a:ext cx="1687680" cy="457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Content, 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227720" y="3228840"/>
            <a:ext cx="1687680" cy="457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Content, 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015920" y="2782800"/>
            <a:ext cx="4521240" cy="492120"/>
          </a:xfrm>
          <a:prstGeom prst="leftRightArrow">
            <a:avLst>
              <a:gd name="adj1" fmla="val 67963"/>
              <a:gd name="adj2" fmla="val 183703"/>
            </a:avLst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Dial-up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201680" y="4214880"/>
            <a:ext cx="13683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B-FLET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562720" y="1981080"/>
            <a:ext cx="630000" cy="3124440"/>
          </a:xfrm>
          <a:prstGeom prst="rect">
            <a:avLst/>
          </a:prstGeom>
          <a:solidFill>
            <a:srgbClr val="00cc99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-89280" y="139680"/>
            <a:ext cx="930132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HG丸ｺﾞｼｯｸM-PRO"/>
              </a:rPr>
              <a:t>Architecture for IP Access Service in NT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55640" y="979560"/>
            <a:ext cx="3006720" cy="358560"/>
          </a:xfrm>
          <a:prstGeom prst="wedgeRoundRectCallout">
            <a:avLst>
              <a:gd name="adj1" fmla="val -37699"/>
              <a:gd name="adj2" fmla="val 343805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Time-dependent cha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961240" y="852480"/>
            <a:ext cx="2385720" cy="698400"/>
          </a:xfrm>
          <a:prstGeom prst="wedgeRoundRectCallout">
            <a:avLst>
              <a:gd name="adj1" fmla="val -46541"/>
              <a:gd name="adj2" fmla="val 157273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Call congestion a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switching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4360" y="5770440"/>
            <a:ext cx="2116080" cy="503280"/>
          </a:xfrm>
          <a:prstGeom prst="wedgeRoundRectCallout">
            <a:avLst>
              <a:gd name="adj1" fmla="val -18717"/>
              <a:gd name="adj2" fmla="val -249370"/>
              <a:gd name="adj3" fmla="val 16667"/>
            </a:avLst>
          </a:prstGeom>
          <a:gradFill rotWithShape="0">
            <a:gsLst>
              <a:gs pos="0">
                <a:srgbClr val="ff3300"/>
              </a:gs>
              <a:gs pos="50000">
                <a:srgbClr val="fefefe"/>
              </a:gs>
              <a:gs pos="100000">
                <a:srgbClr val="ff3300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Fixed cha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089760" y="5510160"/>
            <a:ext cx="1550880" cy="863640"/>
          </a:xfrm>
          <a:prstGeom prst="wedgeRoundRectCallout">
            <a:avLst>
              <a:gd name="adj1" fmla="val -44675"/>
              <a:gd name="adj2" fmla="val -88972"/>
              <a:gd name="adj3" fmla="val 16667"/>
            </a:avLst>
          </a:prstGeom>
          <a:gradFill rotWithShape="0">
            <a:gsLst>
              <a:gs pos="0">
                <a:srgbClr val="ff3300"/>
              </a:gs>
              <a:gs pos="50000">
                <a:srgbClr val="fefefe"/>
              </a:gs>
              <a:gs pos="100000">
                <a:srgbClr val="ff3300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Avoi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conges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948120" y="5734080"/>
            <a:ext cx="1936800" cy="695160"/>
          </a:xfrm>
          <a:prstGeom prst="wedgeRoundRectCallout">
            <a:avLst>
              <a:gd name="adj1" fmla="val 46064"/>
              <a:gd name="adj2" fmla="val -151828"/>
              <a:gd name="adj3" fmla="val 16667"/>
            </a:avLst>
          </a:prstGeom>
          <a:gradFill rotWithShape="0">
            <a:gsLst>
              <a:gs pos="0">
                <a:srgbClr val="ff3300"/>
              </a:gs>
              <a:gs pos="50000">
                <a:srgbClr val="fefefe"/>
              </a:gs>
              <a:gs pos="100000">
                <a:srgbClr val="ff3300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Selection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multiple IS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197760" y="3660840"/>
            <a:ext cx="622080" cy="555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195960" y="3340080"/>
            <a:ext cx="622440" cy="555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195960" y="2867040"/>
            <a:ext cx="622440" cy="555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307200" y="2979720"/>
            <a:ext cx="4176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8320" rIns="5832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2480"/>
                <a:tab algn="l" pos="1165320"/>
                <a:tab algn="l" pos="1747800"/>
                <a:tab algn="l" pos="2330280"/>
                <a:tab algn="l" pos="2913120"/>
                <a:tab algn="l" pos="3495600"/>
                <a:tab algn="l" pos="4078440"/>
                <a:tab algn="l" pos="4660920"/>
                <a:tab algn="l" pos="5243400"/>
                <a:tab algn="l" pos="5826240"/>
                <a:tab algn="l" pos="6408720"/>
                <a:tab algn="l" pos="6991200"/>
                <a:tab algn="l" pos="7574040"/>
                <a:tab algn="l" pos="8156520"/>
                <a:tab algn="l" pos="8739360"/>
                <a:tab algn="l" pos="9321840"/>
                <a:tab algn="l" pos="9904320"/>
                <a:tab algn="l" pos="104871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I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59040" y="15937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HG丸ｺﾞｼｯｸM-PRO"/>
              </a:rPr>
              <a:t>Access Net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57160" y="1965240"/>
            <a:ext cx="1943280" cy="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933640" y="3467160"/>
            <a:ext cx="399960" cy="14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842560" y="400356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689440" y="3495600"/>
            <a:ext cx="400320" cy="14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595840" y="403236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2943360" y="2295360"/>
            <a:ext cx="295200" cy="352440"/>
            <a:chOff x="2943360" y="2295360"/>
            <a:chExt cx="295200" cy="352440"/>
          </a:xfrm>
        </p:grpSpPr>
        <p:sp>
          <p:nvSpPr>
            <p:cNvPr id="326" name=""/>
            <p:cNvSpPr/>
            <p:nvPr/>
          </p:nvSpPr>
          <p:spPr>
            <a:xfrm>
              <a:off x="2943360" y="2295360"/>
              <a:ext cx="285840" cy="352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2943360" y="2295360"/>
              <a:ext cx="29520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943360" y="2295360"/>
              <a:ext cx="285840" cy="34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5743440" y="2257560"/>
            <a:ext cx="295200" cy="352440"/>
            <a:chOff x="5743440" y="2257560"/>
            <a:chExt cx="295200" cy="352440"/>
          </a:xfrm>
        </p:grpSpPr>
        <p:sp>
          <p:nvSpPr>
            <p:cNvPr id="330" name=""/>
            <p:cNvSpPr/>
            <p:nvPr/>
          </p:nvSpPr>
          <p:spPr>
            <a:xfrm>
              <a:off x="5743440" y="2257560"/>
              <a:ext cx="285840" cy="352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5743440" y="2257560"/>
              <a:ext cx="29520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743440" y="2257560"/>
              <a:ext cx="285840" cy="34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2530800" y="145260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Local 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690360" y="1606680"/>
            <a:ext cx="167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HG丸ｺﾞｼｯｸM-PRO"/>
              </a:rPr>
              <a:t>Local Net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395520" y="1952640"/>
            <a:ext cx="2135160" cy="2556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319800" y="3424320"/>
            <a:ext cx="4176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8320" rIns="5832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2480"/>
                <a:tab algn="l" pos="1165320"/>
                <a:tab algn="l" pos="1747800"/>
                <a:tab algn="l" pos="2330280"/>
                <a:tab algn="l" pos="2913120"/>
                <a:tab algn="l" pos="3495600"/>
                <a:tab algn="l" pos="4078440"/>
                <a:tab algn="l" pos="4660920"/>
                <a:tab algn="l" pos="5243400"/>
                <a:tab algn="l" pos="5826240"/>
                <a:tab algn="l" pos="6408720"/>
                <a:tab algn="l" pos="6991200"/>
                <a:tab algn="l" pos="7574040"/>
                <a:tab algn="l" pos="8156520"/>
                <a:tab algn="l" pos="8739360"/>
                <a:tab algn="l" pos="9321840"/>
                <a:tab algn="l" pos="9904320"/>
                <a:tab algn="l" pos="104871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I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305400" y="3836880"/>
            <a:ext cx="4176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8320" rIns="5832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2480"/>
                <a:tab algn="l" pos="1165320"/>
                <a:tab algn="l" pos="1747800"/>
                <a:tab algn="l" pos="2330280"/>
                <a:tab algn="l" pos="2913120"/>
                <a:tab algn="l" pos="3495600"/>
                <a:tab algn="l" pos="4078440"/>
                <a:tab algn="l" pos="4660920"/>
                <a:tab algn="l" pos="5243400"/>
                <a:tab algn="l" pos="5826240"/>
                <a:tab algn="l" pos="6408720"/>
                <a:tab algn="l" pos="6991200"/>
                <a:tab algn="l" pos="7574040"/>
                <a:tab algn="l" pos="8156520"/>
                <a:tab algn="l" pos="8739360"/>
                <a:tab algn="l" pos="9321840"/>
                <a:tab algn="l" pos="9904320"/>
                <a:tab algn="l" pos="104871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I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818040" y="3930480"/>
            <a:ext cx="163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The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0" y="117000"/>
            <a:ext cx="914400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HG丸ｺﾞｼｯｸM-PRO"/>
              </a:rPr>
              <a:t>Competition in IP Access Mass Serv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448160" y="1162080"/>
            <a:ext cx="4127400" cy="4070160"/>
          </a:xfrm>
          <a:custGeom>
            <a:avLst/>
            <a:gdLst/>
            <a:ahLst/>
            <a:rect l="l" t="t" r="r" b="b"/>
            <a:pathLst>
              <a:path w="3892" h="2855">
                <a:moveTo>
                  <a:pt x="0" y="1925"/>
                </a:moveTo>
                <a:lnTo>
                  <a:pt x="2362" y="0"/>
                </a:lnTo>
                <a:lnTo>
                  <a:pt x="3892" y="0"/>
                </a:lnTo>
                <a:lnTo>
                  <a:pt x="3892" y="1942"/>
                </a:lnTo>
                <a:lnTo>
                  <a:pt x="3892" y="2567"/>
                </a:lnTo>
                <a:lnTo>
                  <a:pt x="494" y="2855"/>
                </a:lnTo>
                <a:lnTo>
                  <a:pt x="0" y="1925"/>
                </a:lnTo>
                <a:close/>
              </a:path>
            </a:pathLst>
          </a:custGeom>
          <a:gradFill rotWithShape="0">
            <a:gsLst>
              <a:gs pos="0">
                <a:srgbClr val="00ffff"/>
              </a:gs>
              <a:gs pos="100000">
                <a:srgbClr val="e4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008000" y="3654360"/>
            <a:ext cx="4267440" cy="2133720"/>
          </a:xfrm>
          <a:custGeom>
            <a:avLst/>
            <a:gdLst/>
            <a:ahLst/>
            <a:rect l="l" t="t" r="r" b="b"/>
            <a:pathLst>
              <a:path w="2688" h="1344">
                <a:moveTo>
                  <a:pt x="0" y="1344"/>
                </a:moveTo>
                <a:lnTo>
                  <a:pt x="1584" y="1344"/>
                </a:lnTo>
                <a:lnTo>
                  <a:pt x="2688" y="960"/>
                </a:lnTo>
                <a:lnTo>
                  <a:pt x="2304" y="0"/>
                </a:lnTo>
                <a:lnTo>
                  <a:pt x="864" y="528"/>
                </a:lnTo>
                <a:lnTo>
                  <a:pt x="0" y="1152"/>
                </a:lnTo>
                <a:lnTo>
                  <a:pt x="0" y="1344"/>
                </a:lnTo>
                <a:close/>
              </a:path>
            </a:pathLst>
          </a:custGeom>
          <a:gradFill rotWithShape="0">
            <a:gsLst>
              <a:gs pos="0">
                <a:srgbClr val="ff33cc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687920" y="2444760"/>
            <a:ext cx="2868480" cy="2530440"/>
          </a:xfrm>
          <a:custGeom>
            <a:avLst/>
            <a:gdLst/>
            <a:ahLst/>
            <a:rect l="l" t="t" r="r" b="b"/>
            <a:pathLst>
              <a:path w="2171" h="1794">
                <a:moveTo>
                  <a:pt x="1128" y="106"/>
                </a:moveTo>
                <a:cubicBezTo>
                  <a:pt x="965" y="174"/>
                  <a:pt x="870" y="283"/>
                  <a:pt x="726" y="420"/>
                </a:cubicBezTo>
                <a:cubicBezTo>
                  <a:pt x="582" y="557"/>
                  <a:pt x="381" y="766"/>
                  <a:pt x="264" y="927"/>
                </a:cubicBezTo>
                <a:cubicBezTo>
                  <a:pt x="147" y="1088"/>
                  <a:pt x="0" y="1254"/>
                  <a:pt x="24" y="1384"/>
                </a:cubicBezTo>
                <a:cubicBezTo>
                  <a:pt x="48" y="1513"/>
                  <a:pt x="192" y="1634"/>
                  <a:pt x="408" y="1703"/>
                </a:cubicBezTo>
                <a:cubicBezTo>
                  <a:pt x="624" y="1771"/>
                  <a:pt x="1064" y="1794"/>
                  <a:pt x="1320" y="1794"/>
                </a:cubicBezTo>
                <a:cubicBezTo>
                  <a:pt x="1576" y="1794"/>
                  <a:pt x="1808" y="1756"/>
                  <a:pt x="1944" y="1703"/>
                </a:cubicBezTo>
                <a:cubicBezTo>
                  <a:pt x="2080" y="1650"/>
                  <a:pt x="2101" y="1636"/>
                  <a:pt x="2136" y="1475"/>
                </a:cubicBezTo>
                <a:cubicBezTo>
                  <a:pt x="2171" y="1314"/>
                  <a:pt x="2162" y="951"/>
                  <a:pt x="2154" y="738"/>
                </a:cubicBezTo>
                <a:cubicBezTo>
                  <a:pt x="2146" y="525"/>
                  <a:pt x="2163" y="318"/>
                  <a:pt x="2088" y="198"/>
                </a:cubicBezTo>
                <a:cubicBezTo>
                  <a:pt x="2013" y="78"/>
                  <a:pt x="1864" y="30"/>
                  <a:pt x="1704" y="15"/>
                </a:cubicBezTo>
                <a:cubicBezTo>
                  <a:pt x="1544" y="0"/>
                  <a:pt x="1288" y="38"/>
                  <a:pt x="1128" y="106"/>
                </a:cubicBezTo>
                <a:close/>
              </a:path>
            </a:pathLst>
          </a:custGeom>
          <a:noFill/>
          <a:ln w="572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6099120" y="1216080"/>
            <a:ext cx="0" cy="4564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4803840" y="1249200"/>
            <a:ext cx="0" cy="4564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7338960" y="1249200"/>
            <a:ext cx="0" cy="4564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993600" y="4151160"/>
            <a:ext cx="7585200" cy="144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993600" y="2481120"/>
            <a:ext cx="7585200" cy="79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992160" y="1138320"/>
            <a:ext cx="1440" cy="46749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07920" y="5902200"/>
            <a:ext cx="7664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39080" y="56800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65240" y="4044960"/>
            <a:ext cx="715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5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2346480"/>
            <a:ext cx="88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1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506960" y="5067360"/>
            <a:ext cx="17337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FLET’S ISD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774800" y="4834080"/>
            <a:ext cx="1301760" cy="1746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39680" y="768240"/>
            <a:ext cx="179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(JPY/mont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054080" y="5626080"/>
            <a:ext cx="1119240" cy="189000"/>
          </a:xfrm>
          <a:prstGeom prst="ellipse">
            <a:avLst/>
          </a:prstGeom>
          <a:solidFill>
            <a:srgbClr val="ffffff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217240" y="5540400"/>
            <a:ext cx="10706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L 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528920" y="3711600"/>
            <a:ext cx="14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Arial"/>
                <a:ea typeface="HG丸ｺﾞｼｯｸM-PRO"/>
              </a:rPr>
              <a:t>Metall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063240" y="2597040"/>
            <a:ext cx="23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  <a:ea typeface="HG丸ｺﾞｼｯｸM-PRO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999040" y="2612880"/>
            <a:ext cx="1366920" cy="3938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815000" y="4446720"/>
            <a:ext cx="2593800" cy="326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53240" y="2665440"/>
            <a:ext cx="17539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Basic 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46680" y="4465800"/>
            <a:ext cx="25718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Condominium 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145360" y="585324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1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895440" y="58500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100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17600" y="584028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100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34440" y="5850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10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888560" y="582948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10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430040" y="614520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(bp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476960" y="58402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2212920" y="1236600"/>
            <a:ext cx="0" cy="4564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3508200" y="1236600"/>
            <a:ext cx="0" cy="4564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59600" y="58212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1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921120" y="4718160"/>
            <a:ext cx="1882800" cy="331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505400" y="5259240"/>
            <a:ext cx="307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HG丸ｺﾞｼｯｸM-PRO"/>
              </a:rPr>
              <a:t>ADSL (Yahoo! B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943440" y="4900680"/>
            <a:ext cx="1863720" cy="35244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35720" y="3360600"/>
            <a:ext cx="17618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3300"/>
                </a:solidFill>
                <a:latin typeface="Arial"/>
                <a:ea typeface="HG丸ｺﾞｼｯｸM-PRO"/>
              </a:rPr>
              <a:t>FTTH </a:t>
            </a:r>
            <a:r>
              <a:rPr b="1" lang="ja-JP" sz="1800" spc="-1" strike="noStrike">
                <a:solidFill>
                  <a:srgbClr val="ff3300"/>
                </a:solidFill>
                <a:latin typeface="Arial"/>
                <a:ea typeface="HG丸ｺﾞｼｯｸM-PRO"/>
              </a:rPr>
              <a:t>(Us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421320" y="1585800"/>
            <a:ext cx="18190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HG丸ｺﾞｼｯｸM-PRO"/>
              </a:rPr>
              <a:t>FT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HG丸ｺﾞｼｯｸM-PRO"/>
              </a:rPr>
              <a:t>(Tokyo Electr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HG丸ｺﾞｼｯｸM-PRO"/>
              </a:rPr>
              <a:t>Power Co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481120" y="4419720"/>
            <a:ext cx="20559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FLET’S ADS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093000" y="2309760"/>
            <a:ext cx="1228680" cy="32400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245200" y="3672000"/>
            <a:ext cx="2057400" cy="31428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261040" y="3860640"/>
            <a:ext cx="2054160" cy="5526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229360" y="4011480"/>
            <a:ext cx="2122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Family 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158840" y="1092240"/>
            <a:ext cx="3876840" cy="1222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41280" y="1279440"/>
            <a:ext cx="238320" cy="171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439280" y="1100160"/>
            <a:ext cx="339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: NTT FLET’S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436760" y="1452600"/>
            <a:ext cx="348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HG丸ｺﾞｼｯｸM-PRO"/>
              </a:rPr>
              <a:t>: Other op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HG丸ｺﾞｼｯｸM-PRO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HG丸ｺﾞｼｯｸM-PRO"/>
              </a:rPr>
              <a:t>(including ISP char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241280" y="1614600"/>
            <a:ext cx="238320" cy="19044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537320" y="3191040"/>
            <a:ext cx="150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33cc33"/>
                </a:solidFill>
                <a:latin typeface="Arial"/>
                <a:ea typeface="HG丸ｺﾞｼｯｸM-PRO"/>
              </a:rPr>
              <a:t>B FLET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33cc33"/>
                </a:solidFill>
                <a:latin typeface="Arial"/>
                <a:ea typeface="HG丸ｺﾞｼｯｸM-PRO"/>
              </a:rPr>
              <a:t>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1749600" y="4471920"/>
            <a:ext cx="3587400" cy="1268640"/>
          </a:xfrm>
          <a:custGeom>
            <a:avLst/>
            <a:gdLst/>
            <a:ahLst/>
            <a:rect l="l" t="t" r="r" b="b"/>
            <a:pathLst>
              <a:path w="2260" h="799">
                <a:moveTo>
                  <a:pt x="242" y="736"/>
                </a:moveTo>
                <a:cubicBezTo>
                  <a:pt x="318" y="716"/>
                  <a:pt x="458" y="707"/>
                  <a:pt x="629" y="667"/>
                </a:cubicBezTo>
                <a:cubicBezTo>
                  <a:pt x="800" y="627"/>
                  <a:pt x="1081" y="556"/>
                  <a:pt x="1268" y="496"/>
                </a:cubicBezTo>
                <a:cubicBezTo>
                  <a:pt x="1455" y="436"/>
                  <a:pt x="1610" y="386"/>
                  <a:pt x="1751" y="307"/>
                </a:cubicBezTo>
                <a:cubicBezTo>
                  <a:pt x="1892" y="228"/>
                  <a:pt x="2056" y="0"/>
                  <a:pt x="2117" y="22"/>
                </a:cubicBezTo>
                <a:cubicBezTo>
                  <a:pt x="2178" y="44"/>
                  <a:pt x="2260" y="335"/>
                  <a:pt x="2117" y="442"/>
                </a:cubicBezTo>
                <a:cubicBezTo>
                  <a:pt x="1974" y="549"/>
                  <a:pt x="1586" y="604"/>
                  <a:pt x="1262" y="661"/>
                </a:cubicBezTo>
                <a:cubicBezTo>
                  <a:pt x="938" y="718"/>
                  <a:pt x="340" y="775"/>
                  <a:pt x="170" y="787"/>
                </a:cubicBezTo>
                <a:cubicBezTo>
                  <a:pt x="0" y="799"/>
                  <a:pt x="146" y="764"/>
                  <a:pt x="242" y="736"/>
                </a:cubicBezTo>
                <a:close/>
              </a:path>
            </a:pathLst>
          </a:custGeom>
          <a:solidFill>
            <a:srgbClr val="ffff99"/>
          </a:solidFill>
          <a:ln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rot="19394400">
            <a:off x="3038040" y="3804840"/>
            <a:ext cx="4086360" cy="395280"/>
          </a:xfrm>
          <a:prstGeom prst="ellipse">
            <a:avLst/>
          </a:prstGeom>
          <a:solidFill>
            <a:srgbClr val="ccccff"/>
          </a:solidFill>
          <a:ln w="1908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885960" y="1227240"/>
            <a:ext cx="7600680" cy="46958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422440" y="1216080"/>
            <a:ext cx="0" cy="469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108880" y="58672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100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768840" y="1216080"/>
            <a:ext cx="0" cy="469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555360" y="586728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1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114880" y="1216080"/>
            <a:ext cx="0" cy="469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804560" y="586728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10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461280" y="1216080"/>
            <a:ext cx="0" cy="469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147360" y="586728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100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808760" y="1216080"/>
            <a:ext cx="0" cy="469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574760" y="586728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1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8253720" y="586728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(bp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885600" y="1425600"/>
            <a:ext cx="76006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876240" y="1598760"/>
            <a:ext cx="76010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47560" y="1152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876240" y="1895400"/>
            <a:ext cx="76010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876240" y="2249640"/>
            <a:ext cx="76010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876240" y="2698920"/>
            <a:ext cx="76010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876240" y="3243240"/>
            <a:ext cx="76010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47560" y="1409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35880" y="52671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47560" y="3048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47560" y="5705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885600" y="5443560"/>
            <a:ext cx="76006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885600" y="5062680"/>
            <a:ext cx="76006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885600" y="4738680"/>
            <a:ext cx="76006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885600" y="4414680"/>
            <a:ext cx="76006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885600" y="4148280"/>
            <a:ext cx="76006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885600" y="3890880"/>
            <a:ext cx="76006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885600" y="3672000"/>
            <a:ext cx="76006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885600" y="3490920"/>
            <a:ext cx="76006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76240" y="3348000"/>
            <a:ext cx="76010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35880" y="396252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0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557360" y="3594240"/>
            <a:ext cx="242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  <a:ea typeface="HG丸ｺﾞｼｯｸM-PRO"/>
              </a:rPr>
              <a:t>High Speed Dig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  <a:ea typeface="HG丸ｺﾞｼｯｸM-PRO"/>
              </a:rPr>
              <a:t>(64k - 6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933560" y="5711760"/>
            <a:ext cx="133200" cy="133560"/>
          </a:xfrm>
          <a:prstGeom prst="ellipse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933560" y="5497560"/>
            <a:ext cx="133200" cy="1332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48080" y="5425920"/>
            <a:ext cx="133200" cy="133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962440" y="5121360"/>
            <a:ext cx="133200" cy="1332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157560" y="4968720"/>
            <a:ext cx="133200" cy="133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319560" y="4883040"/>
            <a:ext cx="133200" cy="133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462480" y="4835520"/>
            <a:ext cx="133200" cy="1332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586320" y="4735440"/>
            <a:ext cx="133200" cy="133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700440" y="4640400"/>
            <a:ext cx="133200" cy="1332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081320" y="4506840"/>
            <a:ext cx="133560" cy="133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510080" y="3973680"/>
            <a:ext cx="133200" cy="1332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648320" y="3768840"/>
            <a:ext cx="133200" cy="1332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734000" y="3521160"/>
            <a:ext cx="133200" cy="1332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rot="19286400">
            <a:off x="1158840" y="2923920"/>
            <a:ext cx="7335720" cy="1361880"/>
          </a:xfrm>
          <a:prstGeom prst="ellipse">
            <a:avLst/>
          </a:prstGeom>
          <a:noFill/>
          <a:ln w="190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43040" y="5573880"/>
            <a:ext cx="133560" cy="133200"/>
          </a:xfrm>
          <a:prstGeom prst="ellipse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081320" y="5159520"/>
            <a:ext cx="133560" cy="133200"/>
          </a:xfrm>
          <a:prstGeom prst="ellipse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734000" y="5092560"/>
            <a:ext cx="133200" cy="133560"/>
          </a:xfrm>
          <a:prstGeom prst="ellipse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17080" y="5605560"/>
            <a:ext cx="83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Arial"/>
                <a:ea typeface="HG丸ｺﾞｼｯｸM-PRO"/>
              </a:rPr>
              <a:t>DA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243240" y="2365200"/>
            <a:ext cx="18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3333ff"/>
                </a:solidFill>
                <a:latin typeface="Arial"/>
                <a:ea typeface="HG丸ｺﾞｼｯｸM-PRO"/>
              </a:rPr>
              <a:t>ATM Mega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3333ff"/>
                </a:solidFill>
                <a:latin typeface="Arial"/>
                <a:ea typeface="HG丸ｺﾞｼｯｸM-PRO"/>
              </a:rPr>
              <a:t>(0.5M - 135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774760" y="1138320"/>
            <a:ext cx="276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3333ff"/>
                </a:solidFill>
                <a:latin typeface="Arial"/>
                <a:ea typeface="HG丸ｺﾞｼｯｸM-PRO"/>
              </a:rPr>
              <a:t>ATM Megalink (600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rot="16141800">
            <a:off x="7424640" y="1461600"/>
            <a:ext cx="353880" cy="163440"/>
          </a:xfrm>
          <a:prstGeom prst="ellipse">
            <a:avLst/>
          </a:prstGeom>
          <a:solidFill>
            <a:srgbClr val="ccccff"/>
          </a:solidFill>
          <a:ln w="1908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276520" y="3772080"/>
            <a:ext cx="224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HG丸ｺﾞｼｯｸM-PRO"/>
              </a:rPr>
              <a:t>Mega Data N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HG丸ｺﾞｼｯｸM-PRO"/>
              </a:rPr>
              <a:t>(PVC : 64k - 10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377040" y="4702320"/>
            <a:ext cx="162000" cy="161640"/>
          </a:xfrm>
          <a:prstGeom prst="diamond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738920" y="3139920"/>
            <a:ext cx="162000" cy="162000"/>
          </a:xfrm>
          <a:prstGeom prst="diamond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923880" y="3355920"/>
            <a:ext cx="217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HG丸ｺﾞｼｯｸM-PRO"/>
              </a:rPr>
              <a:t>Metro Ether (1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532920" y="4700520"/>
            <a:ext cx="247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HG丸ｺﾞｼｯｸM-PRO"/>
              </a:rPr>
              <a:t>Metro Ether (100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656440" y="545940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Arial"/>
                <a:ea typeface="HG丸ｺﾞｼｯｸM-PRO"/>
              </a:rPr>
              <a:t>DA1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769200" y="528156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Arial"/>
                <a:ea typeface="HG丸ｺﾞｼｯｸM-PRO"/>
              </a:rPr>
              <a:t>DA1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818600" y="511164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Arial"/>
                <a:ea typeface="HG丸ｺﾞｼｯｸM-PRO"/>
              </a:rPr>
              <a:t>DA6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757920" y="2673360"/>
            <a:ext cx="122400" cy="117360"/>
          </a:xfrm>
          <a:prstGeom prst="hexagon">
            <a:avLst>
              <a:gd name="adj" fmla="val 26074"/>
              <a:gd name="vf" fmla="val 115470"/>
            </a:avLst>
          </a:pr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757920" y="2859120"/>
            <a:ext cx="122400" cy="117360"/>
          </a:xfrm>
          <a:prstGeom prst="hexagon">
            <a:avLst>
              <a:gd name="adj" fmla="val 26074"/>
              <a:gd name="vf" fmla="val 115470"/>
            </a:avLst>
          </a:pr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rot="20611200">
            <a:off x="6019560" y="2306520"/>
            <a:ext cx="2477880" cy="642960"/>
          </a:xfrm>
          <a:prstGeom prst="ellipse">
            <a:avLst/>
          </a:prstGeom>
          <a:noFill/>
          <a:ln w="19080">
            <a:solidFill>
              <a:srgbClr val="9933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883920" y="2136600"/>
            <a:ext cx="226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ff"/>
                </a:solidFill>
                <a:latin typeface="Arial"/>
                <a:ea typeface="HG丸ｺﾞｼｯｸM-PRO"/>
              </a:rPr>
              <a:t>Metro High 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ff"/>
                </a:solidFill>
                <a:latin typeface="Arial"/>
                <a:ea typeface="HG丸ｺﾞｼｯｸM-PRO"/>
              </a:rPr>
              <a:t>(45M,150M,600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562880" y="2178000"/>
            <a:ext cx="122040" cy="117360"/>
          </a:xfrm>
          <a:prstGeom prst="hexagon">
            <a:avLst>
              <a:gd name="adj" fmla="val 25997"/>
              <a:gd name="vf" fmla="val 115470"/>
            </a:avLst>
          </a:pr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562880" y="2692440"/>
            <a:ext cx="122040" cy="117360"/>
          </a:xfrm>
          <a:prstGeom prst="hexagon">
            <a:avLst>
              <a:gd name="adj" fmla="val 25997"/>
              <a:gd name="vf" fmla="val 115470"/>
            </a:avLst>
          </a:pr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100920" y="2739960"/>
            <a:ext cx="122040" cy="117720"/>
          </a:xfrm>
          <a:prstGeom prst="hexagon">
            <a:avLst>
              <a:gd name="adj" fmla="val 25917"/>
              <a:gd name="vf" fmla="val 115470"/>
            </a:avLst>
          </a:pr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129360" y="2306520"/>
            <a:ext cx="133200" cy="13356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748560" y="2106720"/>
            <a:ext cx="133200" cy="13320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309200" y="1468440"/>
            <a:ext cx="234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  <a:ea typeface="HG丸ｺﾞｼｯｸM-PRO"/>
              </a:rPr>
              <a:t>Super High spe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  <a:ea typeface="HG丸ｺﾞｼｯｸM-PRO"/>
              </a:rPr>
              <a:t>(50M,150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019160" y="5645160"/>
            <a:ext cx="814320" cy="214200"/>
          </a:xfrm>
          <a:prstGeom prst="ellipse">
            <a:avLst/>
          </a:prstGeom>
          <a:solidFill>
            <a:srgbClr val="cc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12520" y="4772160"/>
            <a:ext cx="137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"/>
                <a:ea typeface="HG丸ｺﾞｼｯｸM-PRO"/>
              </a:rPr>
              <a:t>Anal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"/>
                <a:ea typeface="HG丸ｺﾞｼｯｸM-PRO"/>
              </a:rPr>
              <a:t>(2400bp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-55800" y="68040"/>
            <a:ext cx="92883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HG丸ｺﾞｼｯｸM-PRO"/>
              </a:rPr>
              <a:t>Service Lineup for Business Users in NT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5400" y="858960"/>
            <a:ext cx="38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Monthly charge (million JP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230920" y="6172200"/>
            <a:ext cx="579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(Connection distance between two points is 15km.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4813200" y="936720"/>
            <a:ext cx="4330800" cy="4054320"/>
          </a:xfrm>
          <a:prstGeom prst="cloudCallout">
            <a:avLst>
              <a:gd name="adj1" fmla="val 17226"/>
              <a:gd name="adj2" fmla="val 3331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68120" y="1057320"/>
            <a:ext cx="4569120" cy="3767040"/>
          </a:xfrm>
          <a:prstGeom prst="cloudCallout">
            <a:avLst>
              <a:gd name="adj1" fmla="val 15078"/>
              <a:gd name="adj2" fmla="val 3137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605640" y="1819440"/>
            <a:ext cx="1425600" cy="89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533640" y="2400480"/>
            <a:ext cx="153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Intensive off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HG丸ｺﾞｼｯｸM-PRO"/>
              </a:rPr>
              <a:t>Metro Area Services for Business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1733040" y="1812960"/>
            <a:ext cx="1537200" cy="755640"/>
            <a:chOff x="1733040" y="1812960"/>
            <a:chExt cx="1537200" cy="755640"/>
          </a:xfrm>
        </p:grpSpPr>
        <p:sp>
          <p:nvSpPr>
            <p:cNvPr id="476" name=""/>
            <p:cNvSpPr/>
            <p:nvPr/>
          </p:nvSpPr>
          <p:spPr>
            <a:xfrm>
              <a:off x="1808280" y="1824120"/>
              <a:ext cx="1425240" cy="74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238480" y="2121120"/>
              <a:ext cx="403200" cy="3888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733040" y="1812960"/>
              <a:ext cx="153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HG丸ｺﾞｼｯｸM-PRO"/>
                </a:rPr>
                <a:t>Intensive off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895760" y="2143440"/>
              <a:ext cx="118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Arial"/>
                  <a:ea typeface="HG丸ｺﾞｼｯｸM-PRO"/>
                </a:rPr>
                <a:t>GbE-S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360360" y="3062160"/>
            <a:ext cx="2079720" cy="768240"/>
            <a:chOff x="360360" y="3062160"/>
            <a:chExt cx="2079720" cy="768240"/>
          </a:xfrm>
        </p:grpSpPr>
        <p:sp>
          <p:nvSpPr>
            <p:cNvPr id="481" name=""/>
            <p:cNvSpPr/>
            <p:nvPr/>
          </p:nvSpPr>
          <p:spPr>
            <a:xfrm>
              <a:off x="360360" y="3062160"/>
              <a:ext cx="2079720" cy="76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486080" y="3213000"/>
              <a:ext cx="403200" cy="3888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134000" y="3251160"/>
              <a:ext cx="118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Arial"/>
                  <a:ea typeface="HG丸ｺﾞｼｯｸM-PRO"/>
                </a:rPr>
                <a:t>GbE-S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35240" y="3147840"/>
              <a:ext cx="879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HG丸ｺﾞｼｯｸM-PRO"/>
                </a:rPr>
                <a:t>Centra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HG丸ｺﾞｼｯｸM-PRO"/>
                </a:rPr>
                <a:t>off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2664000" y="3029040"/>
            <a:ext cx="2079360" cy="768240"/>
            <a:chOff x="2664000" y="3029040"/>
            <a:chExt cx="2079360" cy="768240"/>
          </a:xfrm>
        </p:grpSpPr>
        <p:sp>
          <p:nvSpPr>
            <p:cNvPr id="486" name=""/>
            <p:cNvSpPr/>
            <p:nvPr/>
          </p:nvSpPr>
          <p:spPr>
            <a:xfrm>
              <a:off x="2664000" y="3029040"/>
              <a:ext cx="2079360" cy="76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789360" y="3179880"/>
              <a:ext cx="402840" cy="3888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436920" y="3218040"/>
              <a:ext cx="118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Arial"/>
                  <a:ea typeface="HG丸ｺﾞｼｯｸM-PRO"/>
                </a:rPr>
                <a:t>GbE-S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738520" y="3114720"/>
              <a:ext cx="879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HG丸ｺﾞｼｯｸM-PRO"/>
                </a:rPr>
                <a:t>Centra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HG丸ｺﾞｼｯｸM-PRO"/>
                </a:rPr>
                <a:t>off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1068840" y="3611520"/>
            <a:ext cx="4960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M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657800" y="3602160"/>
            <a:ext cx="4960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M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407040" y="3587760"/>
            <a:ext cx="4960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M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182520" y="5167440"/>
            <a:ext cx="1011240" cy="866160"/>
            <a:chOff x="182520" y="5167440"/>
            <a:chExt cx="1011240" cy="866160"/>
          </a:xfrm>
        </p:grpSpPr>
        <p:sp>
          <p:nvSpPr>
            <p:cNvPr id="494" name=""/>
            <p:cNvSpPr/>
            <p:nvPr/>
          </p:nvSpPr>
          <p:spPr>
            <a:xfrm>
              <a:off x="182520" y="5346360"/>
              <a:ext cx="1011240" cy="687240"/>
            </a:xfrm>
            <a:prstGeom prst="cube">
              <a:avLst>
                <a:gd name="adj" fmla="val 1085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32160" y="5167440"/>
              <a:ext cx="49608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HG丸ｺﾞｼｯｸM-PRO"/>
                </a:rPr>
                <a:t>M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79360" y="5694120"/>
              <a:ext cx="397080" cy="25848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39760" y="5621040"/>
              <a:ext cx="81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862200" y="5524200"/>
              <a:ext cx="0" cy="9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82760" y="5621040"/>
              <a:ext cx="0" cy="10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83040" y="605628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1500120" y="5183280"/>
            <a:ext cx="1011240" cy="866160"/>
            <a:chOff x="1500120" y="5183280"/>
            <a:chExt cx="1011240" cy="866160"/>
          </a:xfrm>
        </p:grpSpPr>
        <p:sp>
          <p:nvSpPr>
            <p:cNvPr id="502" name=""/>
            <p:cNvSpPr/>
            <p:nvPr/>
          </p:nvSpPr>
          <p:spPr>
            <a:xfrm>
              <a:off x="1500120" y="5362200"/>
              <a:ext cx="1011240" cy="687240"/>
            </a:xfrm>
            <a:prstGeom prst="cube">
              <a:avLst>
                <a:gd name="adj" fmla="val 1085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949760" y="5183280"/>
              <a:ext cx="49608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HG丸ｺﾞｼｯｸM-PRO"/>
                </a:rPr>
                <a:t>M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596960" y="5709960"/>
              <a:ext cx="397080" cy="25848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557360" y="5636880"/>
              <a:ext cx="81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2179800" y="5540040"/>
              <a:ext cx="0" cy="9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800360" y="5636880"/>
              <a:ext cx="0" cy="10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1700640" y="607212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2770200" y="5149800"/>
            <a:ext cx="1011240" cy="866880"/>
            <a:chOff x="2770200" y="5149800"/>
            <a:chExt cx="1011240" cy="866880"/>
          </a:xfrm>
        </p:grpSpPr>
        <p:sp>
          <p:nvSpPr>
            <p:cNvPr id="510" name=""/>
            <p:cNvSpPr/>
            <p:nvPr/>
          </p:nvSpPr>
          <p:spPr>
            <a:xfrm>
              <a:off x="2770200" y="5329080"/>
              <a:ext cx="1011240" cy="687600"/>
            </a:xfrm>
            <a:prstGeom prst="cube">
              <a:avLst>
                <a:gd name="adj" fmla="val 1085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219840" y="5149800"/>
              <a:ext cx="49608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HG丸ｺﾞｼｯｸM-PRO"/>
                </a:rPr>
                <a:t>M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867040" y="5676840"/>
              <a:ext cx="397080" cy="2588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827440" y="5603760"/>
              <a:ext cx="81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3449880" y="5506560"/>
              <a:ext cx="0" cy="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070440" y="5603760"/>
              <a:ext cx="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6" name=""/>
          <p:cNvSpPr/>
          <p:nvPr/>
        </p:nvSpPr>
        <p:spPr>
          <a:xfrm>
            <a:off x="2970720" y="60390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106880" y="5291280"/>
            <a:ext cx="1011240" cy="687240"/>
          </a:xfrm>
          <a:prstGeom prst="cube">
            <a:avLst>
              <a:gd name="adj" fmla="val 1085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250160" y="60246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4319640" y="5481720"/>
            <a:ext cx="527040" cy="37764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3874680" y="5459400"/>
            <a:ext cx="14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IS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Core Ro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1663560" y="2521080"/>
            <a:ext cx="640080" cy="744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527200" y="2486160"/>
            <a:ext cx="1521000" cy="704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871200" y="3959280"/>
            <a:ext cx="439560" cy="1235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874880" y="3957480"/>
            <a:ext cx="314280" cy="1212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3467160" y="3916440"/>
            <a:ext cx="171360" cy="1230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002120" y="3589200"/>
            <a:ext cx="558720" cy="196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-2520" y="453852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100M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114920" y="485136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100M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472480" y="467676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100M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376520" y="473544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1G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104840" y="920880"/>
            <a:ext cx="2697120" cy="82548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Metro E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(Ether Networ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319800" y="2212920"/>
            <a:ext cx="1836720" cy="1763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172200" y="2062080"/>
            <a:ext cx="2136600" cy="2051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64280" y="1925640"/>
            <a:ext cx="403200" cy="38880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561280" y="1763640"/>
            <a:ext cx="14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SDH-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870600" y="3070080"/>
            <a:ext cx="16588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975720" y="3279600"/>
            <a:ext cx="83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Cent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Off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040360" y="3022560"/>
            <a:ext cx="16588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113440" y="3260880"/>
            <a:ext cx="83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Cent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Off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799240" y="5291280"/>
            <a:ext cx="1011240" cy="687240"/>
          </a:xfrm>
          <a:prstGeom prst="cube">
            <a:avLst>
              <a:gd name="adj" fmla="val 1085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089760" y="5452920"/>
            <a:ext cx="403200" cy="38916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006240" y="600552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693200" y="5281560"/>
            <a:ext cx="1011240" cy="687600"/>
          </a:xfrm>
          <a:prstGeom prst="cube">
            <a:avLst>
              <a:gd name="adj" fmla="val 1085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967520" y="5443560"/>
            <a:ext cx="403200" cy="38880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835040" y="59961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6214680" y="3635280"/>
            <a:ext cx="11160" cy="1866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335640" y="3651120"/>
            <a:ext cx="0" cy="184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8148600" y="3660840"/>
            <a:ext cx="0" cy="1833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780160" y="885960"/>
            <a:ext cx="2859120" cy="82548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Metro High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(SDH Networ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021640" y="2992320"/>
            <a:ext cx="14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SDH-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124680" y="3267000"/>
            <a:ext cx="403200" cy="38916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969320" y="3267000"/>
            <a:ext cx="403200" cy="38916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897960" y="3038400"/>
            <a:ext cx="14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SDH-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630840" y="26798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SDH 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297120" y="497844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45/155/622 M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4T04:22:02Z</dcterms:created>
  <dc:creator>maeda</dc:creator>
  <dc:description/>
  <dc:language>en-US</dc:language>
  <cp:lastModifiedBy>MAEDA</cp:lastModifiedBy>
  <cp:lastPrinted>2001-02-14T11:56:09Z</cp:lastPrinted>
  <dcterms:modified xsi:type="dcterms:W3CDTF">2002-06-24T06:32:01Z</dcterms:modified>
  <cp:revision>277</cp:revision>
  <dc:subject/>
  <dc:title>IPOptical Workshop Session3-1</dc:title>
</cp:coreProperties>
</file>