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3.png" ContentType="image/png"/>
  <Override PartName="/ppt/media/image12.jpeg" ContentType="image/jpeg"/>
  <Override PartName="/ppt/media/image7.png" ContentType="image/png"/>
  <Override PartName="/ppt/media/image9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43725" cy="9359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944400" cy="936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"/>
          </p:nvPr>
        </p:nvSpPr>
        <p:spPr>
          <a:xfrm>
            <a:off x="3935160" y="-36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33280" y="701640"/>
            <a:ext cx="4679640" cy="351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Click to move the slide</a:t>
            </a: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25200" y="4444560"/>
            <a:ext cx="5094360" cy="4211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2"/>
          </p:nvPr>
        </p:nvSpPr>
        <p:spPr>
          <a:xfrm>
            <a:off x="-360" y="888948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3"/>
          </p:nvPr>
        </p:nvSpPr>
        <p:spPr>
          <a:xfrm>
            <a:off x="3935160" y="8889480"/>
            <a:ext cx="3009960" cy="468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EB79AB-C350-4C88-ADA0-41B111EDC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81160" y="738360"/>
            <a:ext cx="4591080" cy="3443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925200" y="4425840"/>
            <a:ext cx="5094360" cy="426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mission 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oneer the Intelligent Wave Division Multiplexing (IWD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quipment market and be the leading supplier of optical net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lutions for fiber-based metropolitan net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WDM refers to the access network intelligently utilizing WDM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) deliver multiple service  types on a flexible basis to cust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)  provision bandwidth on de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) provide QOS on a customer by customer ba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two generations of WDM are focused on solving the fiber exhaust problem through bigger pipes.  They are strictly a transport solution.  We are focused on the flexible delivery of services over fiber in an efficient, cost effective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85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3960" y="12949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331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85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3960" y="380232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2840" y="38023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2840" y="129492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380232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46466a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6a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46466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6a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4646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6a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4646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6a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45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6a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6a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6a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6466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8315280" y="6656400"/>
            <a:ext cx="88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6466a"/>
                </a:solidFill>
                <a:latin typeface="Arial"/>
              </a:rPr>
              <a:t>SLIDE  </a:t>
            </a:r>
            <a:fld id="{C3B5D90E-C0D6-4098-9E00-04CA8D8CE928}" type="slidenum">
              <a:rPr b="0" lang="en-US" sz="700" spc="-1" strike="noStrike">
                <a:solidFill>
                  <a:srgbClr val="46466a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3961800" y="0"/>
            <a:ext cx="13105800" cy="1599840"/>
            <a:chOff x="-3961800" y="0"/>
            <a:chExt cx="13105800" cy="1599840"/>
          </a:xfrm>
        </p:grpSpPr>
        <p:sp>
          <p:nvSpPr>
            <p:cNvPr id="4" name=""/>
            <p:cNvSpPr/>
            <p:nvPr/>
          </p:nvSpPr>
          <p:spPr>
            <a:xfrm>
              <a:off x="-3961800" y="228600"/>
              <a:ext cx="131054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91160" y="1141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1800" y="11448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6689880" y="11916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678720" y="29844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6823080" y="263520"/>
              <a:ext cx="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813720" y="263520"/>
              <a:ext cx="11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6918480" y="139320"/>
              <a:ext cx="0" cy="12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908760" y="14292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7004160" y="139680"/>
              <a:ext cx="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994440" y="171360"/>
              <a:ext cx="8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7064280" y="172800"/>
              <a:ext cx="0" cy="12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56360" y="291960"/>
              <a:ext cx="103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7151760" y="291600"/>
              <a:ext cx="0" cy="4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156440" y="330120"/>
              <a:ext cx="7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7216920" y="68400"/>
              <a:ext cx="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207200" y="71280"/>
              <a:ext cx="211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7407360" y="70920"/>
              <a:ext cx="0" cy="1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407360" y="241200"/>
              <a:ext cx="1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7502400" y="244080"/>
              <a:ext cx="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500960" y="306360"/>
              <a:ext cx="106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7597800" y="233280"/>
              <a:ext cx="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589880" y="233280"/>
              <a:ext cx="13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V="1">
              <a:off x="7724880" y="223920"/>
              <a:ext cx="0" cy="18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718400" y="401760"/>
              <a:ext cx="5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>
              <a:off x="7769160" y="365040"/>
              <a:ext cx="1800" cy="4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761240" y="358920"/>
              <a:ext cx="98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>
              <a:off x="7850160" y="360360"/>
              <a:ext cx="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853400" y="422280"/>
              <a:ext cx="4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V="1">
              <a:off x="7891560" y="0"/>
              <a:ext cx="52200" cy="41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flipV="1">
              <a:off x="7948080" y="0"/>
              <a:ext cx="57240" cy="44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flipV="1">
              <a:off x="8059320" y="38376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051760" y="384120"/>
              <a:ext cx="9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V="1">
              <a:off x="8139240" y="385920"/>
              <a:ext cx="0" cy="6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142120" y="444600"/>
              <a:ext cx="193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997760" y="450720"/>
              <a:ext cx="7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 flipV="1">
              <a:off x="8338680" y="366480"/>
              <a:ext cx="180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332920" y="371520"/>
              <a:ext cx="50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V="1">
              <a:off x="8373960" y="372600"/>
              <a:ext cx="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379000" y="511200"/>
              <a:ext cx="76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8488440" y="487440"/>
              <a:ext cx="0" cy="7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9113760" y="464760"/>
              <a:ext cx="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8793000" y="394920"/>
              <a:ext cx="0" cy="17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8761320" y="394920"/>
              <a:ext cx="0" cy="17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8496360" y="385920"/>
              <a:ext cx="28872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90120" y="387360"/>
              <a:ext cx="1555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729640" y="4046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91480" y="426960"/>
              <a:ext cx="0" cy="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50440" y="444600"/>
              <a:ext cx="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609040" y="453960"/>
              <a:ext cx="0" cy="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566200" y="474840"/>
              <a:ext cx="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817120" y="40788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54920" y="439560"/>
              <a:ext cx="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96320" y="466560"/>
              <a:ext cx="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LOGONEW%20tiny" descr=""/>
          <p:cNvPicPr/>
          <p:nvPr/>
        </p:nvPicPr>
        <p:blipFill>
          <a:blip r:embed="rId2"/>
          <a:stretch/>
        </p:blipFill>
        <p:spPr>
          <a:xfrm>
            <a:off x="88920" y="6489720"/>
            <a:ext cx="132408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2395" t="0" r="2414" b="0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8880" y="1347840"/>
            <a:ext cx="85870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-Mile Broadband Acces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c Planning Meets Pragmatism in the Outsid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xpanded Role for Passive Optic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well D. Lamb, Director, PON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rawave Communicati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0680 Huntwood Avenue  Hayward, Ca  94544 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+1 510 401 6532 (voice) +1 510 401 6511 (fa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lamb@terawav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9680" y="2538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Some Examples:</a:t>
            </a:r>
            <a:br>
              <a:rPr sz="2400"/>
            </a:b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Broadband Customers, Prices &amp; Costs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035000"/>
            <a:ext cx="9144000" cy="66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 Modem: 13 M by 2002E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50 /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L: 7M by 2002E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50 /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L: 3 M by 2002E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21 / mon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ncl. ISP, PO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er-fed 100BaseT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51-92 / mon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ncl. I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L, Cable Modem, etc.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20 per mon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cl. I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L: 7 M by 2002E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25 per mon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cl. I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s include Outside Plant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bruary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66760" y="2790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A Distressing Case – </a:t>
            </a:r>
            <a:br>
              <a:rPr sz="2400"/>
            </a:b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US Rural Broadband Access   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456" name=""/>
          <p:cNvSpPr/>
          <p:nvPr/>
        </p:nvSpPr>
        <p:spPr>
          <a:xfrm>
            <a:off x="76320" y="1225440"/>
            <a:ext cx="9086760" cy="59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5 M Rural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L-ready Lines by 200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2 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-equipped lines ( &lt; 18 kft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6 M   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$493 p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-equipped lines ( &gt; 18 kft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1 M   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$4,121 p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-equipped lines (“Remote”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6 M   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$9,328 p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neca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416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A Distressing Case – </a:t>
            </a:r>
            <a:br>
              <a:rPr sz="2400"/>
            </a:b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In English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458" name=""/>
          <p:cNvSpPr/>
          <p:nvPr/>
        </p:nvSpPr>
        <p:spPr>
          <a:xfrm>
            <a:off x="250920" y="973080"/>
            <a:ext cx="8791560" cy="57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A's Middle Mi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b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shows that …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 at a very significant 15 percent penetration rate, the total cost for an average high-speed [1.5 Mb/s] circuit is $63.50 per month, which is above the $50 per month retail rate for this servi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urban are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Consequently, this service loses money in most rural areas, due in large part to the high "middle mile” * cost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Revenue shortfalls won't end as the market grows, they'll actually increase … This sobering conclusion suggests tha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-speed Internet service may not be sustainable in many rural areas, based on pure economics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“Middle Mile” refers to the distance from the rural CO to the nearest Internet Backbone Provider n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neca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120760" y="3022560"/>
            <a:ext cx="1892520" cy="100332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6000" y="406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How Do Japan, Sweden, &amp; Korea Do It?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85800" y="4978440"/>
          <a:ext cx="248904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978440"/>
                    <a:ext cx="248904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562320" y="4707000"/>
            <a:ext cx="1855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4600" y="857160"/>
            <a:ext cx="8918640" cy="20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 often are smaller and more closely spaced than US 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ps are short (2-3 k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-tenant structures domina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regulations allow co-location of businesses and residenc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mental guid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84400" y="5803920"/>
            <a:ext cx="123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4208400" y="3327480"/>
            <a:ext cx="2573280" cy="30607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203720" y="5207040"/>
            <a:ext cx="2197080" cy="1168200"/>
          </a:xfrm>
          <a:prstGeom prst="rect">
            <a:avLst/>
          </a:prstGeom>
          <a:solidFill>
            <a:srgbClr val="ff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934320" y="5105520"/>
            <a:ext cx="1559160" cy="1092240"/>
            <a:chOff x="6934320" y="5105520"/>
            <a:chExt cx="1559160" cy="1092240"/>
          </a:xfrm>
        </p:grpSpPr>
        <p:sp>
          <p:nvSpPr>
            <p:cNvPr id="469" name=""/>
            <p:cNvSpPr/>
            <p:nvPr/>
          </p:nvSpPr>
          <p:spPr>
            <a:xfrm>
              <a:off x="6934320" y="5105520"/>
              <a:ext cx="182520" cy="1092240"/>
            </a:xfrm>
            <a:custGeom>
              <a:avLst/>
              <a:gdLst>
                <a:gd name="textAreaLeft" fmla="*/ 0 w 182520"/>
                <a:gd name="textAreaRight" fmla="*/ 65880 w 182520"/>
                <a:gd name="textAreaTop" fmla="*/ 28440 h 1092240"/>
                <a:gd name="textAreaBottom" fmla="*/ 1063800 h 10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06680" y="5259240"/>
              <a:ext cx="148680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er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6934320" y="3270240"/>
            <a:ext cx="182520" cy="1758960"/>
          </a:xfrm>
          <a:custGeom>
            <a:avLst/>
            <a:gdLst>
              <a:gd name="textAreaLeft" fmla="*/ 0 w 182520"/>
              <a:gd name="textAreaRight" fmla="*/ 65880 w 182520"/>
              <a:gd name="textAreaTop" fmla="*/ 45720 h 1758960"/>
              <a:gd name="textAreaBottom" fmla="*/ 1713240 h 175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49880" y="3747960"/>
            <a:ext cx="140004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32280" y="3043080"/>
            <a:ext cx="1855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-Reac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l-Beha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side 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74840" y="4025880"/>
            <a:ext cx="470160" cy="171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405480" y="5207040"/>
            <a:ext cx="363600" cy="882720"/>
          </a:xfrm>
          <a:prstGeom prst="rect">
            <a:avLst/>
          </a:prstGeom>
          <a:solidFill>
            <a:srgbClr val="ff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5400000">
            <a:off x="6437160" y="6056280"/>
            <a:ext cx="276120" cy="336600"/>
          </a:xfrm>
          <a:prstGeom prst="rtTriangle">
            <a:avLst/>
          </a:prstGeom>
          <a:solidFill>
            <a:srgbClr val="ff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 rot="5400000">
            <a:off x="6450120" y="4903560"/>
            <a:ext cx="276480" cy="336600"/>
          </a:xfrm>
          <a:prstGeom prst="rtTriangle">
            <a:avLst/>
          </a:prstGeom>
          <a:solidFill>
            <a:srgbClr val="ff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6000" y="317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The Hard Truth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52280" y="704880"/>
            <a:ext cx="8845560" cy="5725080"/>
            <a:chOff x="152280" y="704880"/>
            <a:chExt cx="8845560" cy="5725080"/>
          </a:xfrm>
        </p:grpSpPr>
        <p:sp>
          <p:nvSpPr>
            <p:cNvPr id="480" name=""/>
            <p:cNvSpPr/>
            <p:nvPr/>
          </p:nvSpPr>
          <p:spPr>
            <a:xfrm>
              <a:off x="152280" y="704880"/>
              <a:ext cx="8845560" cy="57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In general, broadband economics are dominated by the outside plant (cables, conduit, distances, etc), by labor costs, and by regulatory constraints,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NOT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by details of the telecom equipment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Recommended Reading: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Outside Plant Magazine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1" name="loader_construction_raisingshovel_hr" descr=""/>
            <p:cNvPicPr/>
            <p:nvPr/>
          </p:nvPicPr>
          <p:blipFill>
            <a:blip r:embed="rId1"/>
            <a:stretch/>
          </p:blipFill>
          <p:spPr>
            <a:xfrm>
              <a:off x="465120" y="3448080"/>
              <a:ext cx="2425680" cy="141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2" name=""/>
            <p:cNvGrpSpPr/>
            <p:nvPr/>
          </p:nvGrpSpPr>
          <p:grpSpPr>
            <a:xfrm>
              <a:off x="6154560" y="3116160"/>
              <a:ext cx="2389320" cy="1974960"/>
              <a:chOff x="6154560" y="3116160"/>
              <a:chExt cx="2389320" cy="197496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6154560" y="3116160"/>
                <a:ext cx="1793160" cy="1974960"/>
                <a:chOff x="6154560" y="3116160"/>
                <a:chExt cx="1793160" cy="19749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6154560" y="31161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154560" y="3116160"/>
                  <a:ext cx="1793160" cy="197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238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                                                     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86" name="backhoe-loader-sideview" descr=""/>
              <p:cNvPicPr/>
              <p:nvPr/>
            </p:nvPicPr>
            <p:blipFill>
              <a:blip r:embed="rId2"/>
              <a:stretch/>
            </p:blipFill>
            <p:spPr>
              <a:xfrm>
                <a:off x="6248520" y="3138120"/>
                <a:ext cx="2295360" cy="18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6500880" y="4662000"/>
                <a:ext cx="1982880" cy="23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84040" y="3212640"/>
                <a:ext cx="95616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14320" y="4367160"/>
                <a:ext cx="401400" cy="23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90640" y="4440960"/>
                <a:ext cx="433440" cy="23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666840" y="3366360"/>
                <a:ext cx="745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719120" y="3777840"/>
                <a:ext cx="624600" cy="23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088840" y="4520880"/>
                <a:ext cx="159120" cy="27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475680" y="3470760"/>
                <a:ext cx="159120" cy="11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52000" y="3544560"/>
                <a:ext cx="159120" cy="11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5240" y="317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So how do we get there?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497" name=""/>
          <p:cNvSpPr/>
          <p:nvPr/>
        </p:nvSpPr>
        <p:spPr>
          <a:xfrm>
            <a:off x="298440" y="4781520"/>
            <a:ext cx="88455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our cho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ill it cost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long will it take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68120" y="861840"/>
            <a:ext cx="8812440" cy="3989520"/>
            <a:chOff x="168120" y="861840"/>
            <a:chExt cx="8812440" cy="3989520"/>
          </a:xfrm>
        </p:grpSpPr>
        <p:pic>
          <p:nvPicPr>
            <p:cNvPr id="499" name="oldmonarchwall" descr=""/>
            <p:cNvPicPr/>
            <p:nvPr/>
          </p:nvPicPr>
          <p:blipFill>
            <a:blip r:embed="rId1"/>
            <a:stretch/>
          </p:blipFill>
          <p:spPr>
            <a:xfrm>
              <a:off x="168120" y="861840"/>
              <a:ext cx="2874960" cy="39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CW-61" descr=""/>
            <p:cNvPicPr/>
            <p:nvPr/>
          </p:nvPicPr>
          <p:blipFill>
            <a:blip r:embed="rId2"/>
            <a:stretch/>
          </p:blipFill>
          <p:spPr>
            <a:xfrm>
              <a:off x="4659480" y="1666800"/>
              <a:ext cx="432108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3086280" y="2628720"/>
              <a:ext cx="1320480" cy="711360"/>
            </a:xfrm>
            <a:prstGeom prst="rightArrow">
              <a:avLst>
                <a:gd name="adj1" fmla="val 50000"/>
                <a:gd name="adj2" fmla="val 46407"/>
              </a:avLst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4660920" y="4788000"/>
            <a:ext cx="254160" cy="1485720"/>
          </a:xfrm>
          <a:custGeom>
            <a:avLst/>
            <a:gdLst>
              <a:gd name="textAreaLeft" fmla="*/ 0 w 254160"/>
              <a:gd name="textAreaRight" fmla="*/ 91800 w 254160"/>
              <a:gd name="textAreaTop" fmla="*/ 38520 h 1485720"/>
              <a:gd name="textAreaBottom" fmla="*/ 1447200 h 14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099040" y="5213520"/>
            <a:ext cx="3803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Next Slide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1598760" y="5064120"/>
            <a:ext cx="6308280" cy="691560"/>
            <a:chOff x="1598760" y="5064120"/>
            <a:chExt cx="6308280" cy="691560"/>
          </a:xfrm>
        </p:grpSpPr>
        <p:grpSp>
          <p:nvGrpSpPr>
            <p:cNvPr id="505" name=""/>
            <p:cNvGrpSpPr/>
            <p:nvPr/>
          </p:nvGrpSpPr>
          <p:grpSpPr>
            <a:xfrm>
              <a:off x="1598760" y="5064120"/>
              <a:ext cx="6308280" cy="691560"/>
              <a:chOff x="1598760" y="5064120"/>
              <a:chExt cx="6308280" cy="691560"/>
            </a:xfrm>
          </p:grpSpPr>
          <p:sp>
            <p:nvSpPr>
              <p:cNvPr id="506" name=""/>
              <p:cNvSpPr/>
              <p:nvPr/>
            </p:nvSpPr>
            <p:spPr>
              <a:xfrm>
                <a:off x="1652760" y="5108040"/>
                <a:ext cx="6254280" cy="647640"/>
              </a:xfrm>
              <a:custGeom>
                <a:avLst/>
                <a:gdLst/>
                <a:ahLst/>
                <a:rect l="l" t="t" r="r" b="b"/>
                <a:pathLst>
                  <a:path w="3321" h="337">
                    <a:moveTo>
                      <a:pt x="89" y="0"/>
                    </a:moveTo>
                    <a:lnTo>
                      <a:pt x="71" y="2"/>
                    </a:lnTo>
                    <a:lnTo>
                      <a:pt x="55" y="7"/>
                    </a:lnTo>
                    <a:lnTo>
                      <a:pt x="39" y="16"/>
                    </a:lnTo>
                    <a:lnTo>
                      <a:pt x="26" y="26"/>
                    </a:lnTo>
                    <a:lnTo>
                      <a:pt x="16" y="39"/>
                    </a:lnTo>
                    <a:lnTo>
                      <a:pt x="6" y="55"/>
                    </a:lnTo>
                    <a:lnTo>
                      <a:pt x="1" y="71"/>
                    </a:lnTo>
                    <a:lnTo>
                      <a:pt x="0" y="89"/>
                    </a:lnTo>
                    <a:lnTo>
                      <a:pt x="0" y="248"/>
                    </a:lnTo>
                    <a:lnTo>
                      <a:pt x="1" y="266"/>
                    </a:lnTo>
                    <a:lnTo>
                      <a:pt x="6" y="282"/>
                    </a:lnTo>
                    <a:lnTo>
                      <a:pt x="16" y="298"/>
                    </a:lnTo>
                    <a:lnTo>
                      <a:pt x="26" y="311"/>
                    </a:lnTo>
                    <a:lnTo>
                      <a:pt x="39" y="322"/>
                    </a:lnTo>
                    <a:lnTo>
                      <a:pt x="55" y="330"/>
                    </a:lnTo>
                    <a:lnTo>
                      <a:pt x="71" y="335"/>
                    </a:lnTo>
                    <a:lnTo>
                      <a:pt x="89" y="337"/>
                    </a:lnTo>
                    <a:lnTo>
                      <a:pt x="3232" y="337"/>
                    </a:lnTo>
                    <a:lnTo>
                      <a:pt x="3250" y="335"/>
                    </a:lnTo>
                    <a:lnTo>
                      <a:pt x="3266" y="330"/>
                    </a:lnTo>
                    <a:lnTo>
                      <a:pt x="3282" y="322"/>
                    </a:lnTo>
                    <a:lnTo>
                      <a:pt x="3295" y="311"/>
                    </a:lnTo>
                    <a:lnTo>
                      <a:pt x="3306" y="298"/>
                    </a:lnTo>
                    <a:lnTo>
                      <a:pt x="3314" y="282"/>
                    </a:lnTo>
                    <a:lnTo>
                      <a:pt x="3319" y="266"/>
                    </a:lnTo>
                    <a:lnTo>
                      <a:pt x="3321" y="248"/>
                    </a:lnTo>
                    <a:lnTo>
                      <a:pt x="3321" y="89"/>
                    </a:lnTo>
                    <a:lnTo>
                      <a:pt x="3319" y="71"/>
                    </a:lnTo>
                    <a:lnTo>
                      <a:pt x="3314" y="55"/>
                    </a:lnTo>
                    <a:lnTo>
                      <a:pt x="3306" y="39"/>
                    </a:lnTo>
                    <a:lnTo>
                      <a:pt x="3295" y="26"/>
                    </a:lnTo>
                    <a:lnTo>
                      <a:pt x="3282" y="16"/>
                    </a:lnTo>
                    <a:lnTo>
                      <a:pt x="3266" y="7"/>
                    </a:lnTo>
                    <a:lnTo>
                      <a:pt x="3250" y="2"/>
                    </a:lnTo>
                    <a:lnTo>
                      <a:pt x="3232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598760" y="5064120"/>
                <a:ext cx="6240600" cy="635760"/>
              </a:xfrm>
              <a:custGeom>
                <a:avLst/>
                <a:gdLst/>
                <a:ahLst/>
                <a:rect l="l" t="t" r="r" b="b"/>
                <a:pathLst>
                  <a:path w="3314" h="331">
                    <a:moveTo>
                      <a:pt x="87" y="0"/>
                    </a:moveTo>
                    <a:lnTo>
                      <a:pt x="69" y="2"/>
                    </a:lnTo>
                    <a:lnTo>
                      <a:pt x="53" y="7"/>
                    </a:lnTo>
                    <a:lnTo>
                      <a:pt x="39" y="15"/>
                    </a:lnTo>
                    <a:lnTo>
                      <a:pt x="26" y="26"/>
                    </a:lnTo>
                    <a:lnTo>
                      <a:pt x="14" y="39"/>
                    </a:lnTo>
                    <a:lnTo>
                      <a:pt x="6" y="54"/>
                    </a:lnTo>
                    <a:lnTo>
                      <a:pt x="1" y="70"/>
                    </a:lnTo>
                    <a:lnTo>
                      <a:pt x="0" y="88"/>
                    </a:lnTo>
                    <a:lnTo>
                      <a:pt x="0" y="243"/>
                    </a:lnTo>
                    <a:lnTo>
                      <a:pt x="1" y="261"/>
                    </a:lnTo>
                    <a:lnTo>
                      <a:pt x="6" y="277"/>
                    </a:lnTo>
                    <a:lnTo>
                      <a:pt x="14" y="292"/>
                    </a:lnTo>
                    <a:lnTo>
                      <a:pt x="26" y="305"/>
                    </a:lnTo>
                    <a:lnTo>
                      <a:pt x="39" y="316"/>
                    </a:lnTo>
                    <a:lnTo>
                      <a:pt x="53" y="324"/>
                    </a:lnTo>
                    <a:lnTo>
                      <a:pt x="69" y="329"/>
                    </a:lnTo>
                    <a:lnTo>
                      <a:pt x="87" y="331"/>
                    </a:lnTo>
                    <a:lnTo>
                      <a:pt x="3227" y="331"/>
                    </a:lnTo>
                    <a:lnTo>
                      <a:pt x="3245" y="329"/>
                    </a:lnTo>
                    <a:lnTo>
                      <a:pt x="3261" y="324"/>
                    </a:lnTo>
                    <a:lnTo>
                      <a:pt x="3275" y="316"/>
                    </a:lnTo>
                    <a:lnTo>
                      <a:pt x="3288" y="305"/>
                    </a:lnTo>
                    <a:lnTo>
                      <a:pt x="3300" y="292"/>
                    </a:lnTo>
                    <a:lnTo>
                      <a:pt x="3308" y="277"/>
                    </a:lnTo>
                    <a:lnTo>
                      <a:pt x="3313" y="261"/>
                    </a:lnTo>
                    <a:lnTo>
                      <a:pt x="3314" y="243"/>
                    </a:lnTo>
                    <a:lnTo>
                      <a:pt x="3314" y="88"/>
                    </a:lnTo>
                    <a:lnTo>
                      <a:pt x="3313" y="70"/>
                    </a:lnTo>
                    <a:lnTo>
                      <a:pt x="3308" y="54"/>
                    </a:lnTo>
                    <a:lnTo>
                      <a:pt x="3300" y="39"/>
                    </a:lnTo>
                    <a:lnTo>
                      <a:pt x="3288" y="26"/>
                    </a:lnTo>
                    <a:lnTo>
                      <a:pt x="3275" y="15"/>
                    </a:lnTo>
                    <a:lnTo>
                      <a:pt x="3261" y="7"/>
                    </a:lnTo>
                    <a:lnTo>
                      <a:pt x="3245" y="2"/>
                    </a:lnTo>
                    <a:lnTo>
                      <a:pt x="322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4819680" y="5073480"/>
              <a:ext cx="29314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13000" y="5135400"/>
              <a:ext cx="218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TTC:Fiber To The Cur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980960" y="5402160"/>
              <a:ext cx="761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TTCab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76920" y="5402160"/>
              <a:ext cx="196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:Fiber To The Cabin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36640" y="5073480"/>
              <a:ext cx="28094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36440" y="5135400"/>
              <a:ext cx="2327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TTH :Fiber To The 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36080" y="5402160"/>
              <a:ext cx="255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TTB :Fiber To The Buil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195840" y="6078600"/>
            <a:ext cx="353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adapted from image on www.fsanet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228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Fiber “As Close As You Can Get It” (FTT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03280" y="736560"/>
            <a:ext cx="1009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29640" y="3822840"/>
            <a:ext cx="12459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98520" y="4141800"/>
            <a:ext cx="5875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62240" y="3483000"/>
            <a:ext cx="500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90680" y="2808360"/>
            <a:ext cx="51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71600" y="2127240"/>
            <a:ext cx="47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61960" y="1460520"/>
            <a:ext cx="40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9680" y="1131840"/>
            <a:ext cx="1320840" cy="636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5520" y="1801800"/>
            <a:ext cx="1319400" cy="639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6440" y="800280"/>
            <a:ext cx="1403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2600" y="860400"/>
            <a:ext cx="106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Service No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8120" y="2475000"/>
            <a:ext cx="1332000" cy="65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4360" y="3830760"/>
            <a:ext cx="1317600" cy="637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44360" y="3159000"/>
            <a:ext cx="1317600" cy="639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73320" y="4276800"/>
            <a:ext cx="7380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59120" y="1073160"/>
            <a:ext cx="4041720" cy="3848040"/>
          </a:xfrm>
          <a:custGeom>
            <a:avLst/>
            <a:gdLst/>
            <a:ahLst/>
            <a:rect l="l" t="t" r="r" b="b"/>
            <a:pathLst>
              <a:path w="2146" h="2001">
                <a:moveTo>
                  <a:pt x="0" y="0"/>
                </a:moveTo>
                <a:lnTo>
                  <a:pt x="0" y="2001"/>
                </a:lnTo>
                <a:lnTo>
                  <a:pt x="777" y="2001"/>
                </a:lnTo>
                <a:lnTo>
                  <a:pt x="2146" y="284"/>
                </a:lnTo>
                <a:lnTo>
                  <a:pt x="2146" y="0"/>
                </a:lnTo>
                <a:lnTo>
                  <a:pt x="1076" y="0"/>
                </a:lnTo>
                <a:lnTo>
                  <a:pt x="0" y="0"/>
                </a:lnTo>
                <a:close/>
              </a:path>
            </a:pathLst>
          </a:custGeom>
          <a:solidFill>
            <a:srgbClr val="5a9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11520" y="1762200"/>
            <a:ext cx="2389320" cy="3144600"/>
          </a:xfrm>
          <a:custGeom>
            <a:avLst/>
            <a:gdLst/>
            <a:ahLst/>
            <a:rect l="l" t="t" r="r" b="b"/>
            <a:pathLst>
              <a:path w="1269" h="1636">
                <a:moveTo>
                  <a:pt x="0" y="1636"/>
                </a:moveTo>
                <a:lnTo>
                  <a:pt x="1269" y="1636"/>
                </a:lnTo>
                <a:lnTo>
                  <a:pt x="1269" y="0"/>
                </a:lnTo>
                <a:lnTo>
                  <a:pt x="638" y="814"/>
                </a:lnTo>
                <a:lnTo>
                  <a:pt x="0" y="1636"/>
                </a:lnTo>
                <a:close/>
              </a:path>
            </a:pathLst>
          </a:custGeom>
          <a:solidFill>
            <a:srgbClr val="95d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25760" y="1560600"/>
            <a:ext cx="3267000" cy="4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19400" y="3859200"/>
            <a:ext cx="47808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502000" y="2419200"/>
            <a:ext cx="2913120" cy="5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14600" y="3216240"/>
            <a:ext cx="2133720" cy="4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92280" y="4024440"/>
            <a:ext cx="1497240" cy="5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20920" y="1292400"/>
            <a:ext cx="454320" cy="363240"/>
          </a:xfrm>
          <a:custGeom>
            <a:avLst/>
            <a:gdLst/>
            <a:ahLst/>
            <a:rect l="l" t="t" r="r" b="b"/>
            <a:pathLst>
              <a:path w="241" h="189">
                <a:moveTo>
                  <a:pt x="0" y="168"/>
                </a:moveTo>
                <a:lnTo>
                  <a:pt x="15" y="189"/>
                </a:lnTo>
                <a:lnTo>
                  <a:pt x="241" y="21"/>
                </a:lnTo>
                <a:lnTo>
                  <a:pt x="227" y="0"/>
                </a:lnTo>
                <a:lnTo>
                  <a:pt x="0" y="16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60880" y="1400040"/>
            <a:ext cx="457200" cy="235080"/>
          </a:xfrm>
          <a:custGeom>
            <a:avLst/>
            <a:gdLst/>
            <a:ahLst/>
            <a:rect l="l" t="t" r="r" b="b"/>
            <a:pathLst>
              <a:path w="243" h="122">
                <a:moveTo>
                  <a:pt x="0" y="97"/>
                </a:moveTo>
                <a:lnTo>
                  <a:pt x="10" y="122"/>
                </a:lnTo>
                <a:lnTo>
                  <a:pt x="243" y="25"/>
                </a:lnTo>
                <a:lnTo>
                  <a:pt x="233" y="0"/>
                </a:lnTo>
                <a:lnTo>
                  <a:pt x="0" y="9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60880" y="1563840"/>
            <a:ext cx="447480" cy="268200"/>
          </a:xfrm>
          <a:custGeom>
            <a:avLst/>
            <a:gdLst/>
            <a:ahLst/>
            <a:rect l="l" t="t" r="r" b="b"/>
            <a:pathLst>
              <a:path w="238" h="139">
                <a:moveTo>
                  <a:pt x="12" y="0"/>
                </a:moveTo>
                <a:lnTo>
                  <a:pt x="0" y="22"/>
                </a:lnTo>
                <a:lnTo>
                  <a:pt x="227" y="139"/>
                </a:lnTo>
                <a:lnTo>
                  <a:pt x="238" y="116"/>
                </a:lnTo>
                <a:lnTo>
                  <a:pt x="1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03720" y="1596960"/>
            <a:ext cx="409320" cy="100080"/>
          </a:xfrm>
          <a:custGeom>
            <a:avLst/>
            <a:gdLst/>
            <a:ahLst/>
            <a:rect l="l" t="t" r="r" b="b"/>
            <a:pathLst>
              <a:path w="217" h="52">
                <a:moveTo>
                  <a:pt x="3" y="0"/>
                </a:moveTo>
                <a:lnTo>
                  <a:pt x="0" y="26"/>
                </a:lnTo>
                <a:lnTo>
                  <a:pt x="214" y="52"/>
                </a:lnTo>
                <a:lnTo>
                  <a:pt x="217" y="26"/>
                </a:lnTo>
                <a:lnTo>
                  <a:pt x="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35520" y="3875040"/>
            <a:ext cx="650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00040" y="3932280"/>
            <a:ext cx="412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N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04000" y="1389240"/>
            <a:ext cx="725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52840" y="1476360"/>
            <a:ext cx="45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791400" y="2124000"/>
            <a:ext cx="71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73720" y="2349360"/>
            <a:ext cx="45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T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04000" y="3106800"/>
            <a:ext cx="71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159320" y="3166920"/>
            <a:ext cx="45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04000" y="3914640"/>
            <a:ext cx="919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982560" y="3976560"/>
            <a:ext cx="66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T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41920" y="1636560"/>
            <a:ext cx="1341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68360" y="1698480"/>
            <a:ext cx="101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imes New Roman"/>
              </a:rPr>
              <a:t>Optical Fi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087640" y="4433760"/>
            <a:ext cx="1444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5040" y="4497480"/>
            <a:ext cx="48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00"/>
                </a:solidFill>
                <a:latin typeface="Times New Roman"/>
              </a:rPr>
              <a:t>P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610160" y="4433760"/>
            <a:ext cx="8269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21480" y="4497480"/>
            <a:ext cx="53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xDS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12960" y="1317600"/>
            <a:ext cx="711000" cy="295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79560" y="2708280"/>
            <a:ext cx="6415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49480" y="276696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L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65600" y="3038400"/>
            <a:ext cx="47808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79920" y="3054240"/>
            <a:ext cx="652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46240" y="3111480"/>
            <a:ext cx="412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N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20920" y="2138400"/>
            <a:ext cx="454320" cy="363600"/>
          </a:xfrm>
          <a:custGeom>
            <a:avLst/>
            <a:gdLst/>
            <a:ahLst/>
            <a:rect l="l" t="t" r="r" b="b"/>
            <a:pathLst>
              <a:path w="241" h="189">
                <a:moveTo>
                  <a:pt x="0" y="168"/>
                </a:moveTo>
                <a:lnTo>
                  <a:pt x="15" y="189"/>
                </a:lnTo>
                <a:lnTo>
                  <a:pt x="241" y="21"/>
                </a:lnTo>
                <a:lnTo>
                  <a:pt x="227" y="0"/>
                </a:lnTo>
                <a:lnTo>
                  <a:pt x="0" y="16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60880" y="2260440"/>
            <a:ext cx="457200" cy="231840"/>
          </a:xfrm>
          <a:custGeom>
            <a:avLst/>
            <a:gdLst/>
            <a:ahLst/>
            <a:rect l="l" t="t" r="r" b="b"/>
            <a:pathLst>
              <a:path w="243" h="121">
                <a:moveTo>
                  <a:pt x="0" y="97"/>
                </a:moveTo>
                <a:lnTo>
                  <a:pt x="10" y="121"/>
                </a:lnTo>
                <a:lnTo>
                  <a:pt x="243" y="24"/>
                </a:lnTo>
                <a:lnTo>
                  <a:pt x="233" y="0"/>
                </a:lnTo>
                <a:lnTo>
                  <a:pt x="0" y="9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60880" y="2421000"/>
            <a:ext cx="447480" cy="268200"/>
          </a:xfrm>
          <a:custGeom>
            <a:avLst/>
            <a:gdLst/>
            <a:ahLst/>
            <a:rect l="l" t="t" r="r" b="b"/>
            <a:pathLst>
              <a:path w="238" h="139">
                <a:moveTo>
                  <a:pt x="12" y="0"/>
                </a:moveTo>
                <a:lnTo>
                  <a:pt x="0" y="23"/>
                </a:lnTo>
                <a:lnTo>
                  <a:pt x="227" y="139"/>
                </a:lnTo>
                <a:lnTo>
                  <a:pt x="238" y="117"/>
                </a:lnTo>
                <a:lnTo>
                  <a:pt x="1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90760" y="2444760"/>
            <a:ext cx="422280" cy="111240"/>
          </a:xfrm>
          <a:custGeom>
            <a:avLst/>
            <a:gdLst/>
            <a:ahLst/>
            <a:rect l="l" t="t" r="r" b="b"/>
            <a:pathLst>
              <a:path w="224" h="58">
                <a:moveTo>
                  <a:pt x="4" y="0"/>
                </a:moveTo>
                <a:lnTo>
                  <a:pt x="0" y="25"/>
                </a:lnTo>
                <a:lnTo>
                  <a:pt x="221" y="58"/>
                </a:lnTo>
                <a:lnTo>
                  <a:pt x="224" y="32"/>
                </a:lnTo>
                <a:lnTo>
                  <a:pt x="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20920" y="2935440"/>
            <a:ext cx="454320" cy="350640"/>
          </a:xfrm>
          <a:custGeom>
            <a:avLst/>
            <a:gdLst/>
            <a:ahLst/>
            <a:rect l="l" t="t" r="r" b="b"/>
            <a:pathLst>
              <a:path w="241" h="183">
                <a:moveTo>
                  <a:pt x="0" y="162"/>
                </a:moveTo>
                <a:lnTo>
                  <a:pt x="15" y="183"/>
                </a:lnTo>
                <a:lnTo>
                  <a:pt x="241" y="21"/>
                </a:lnTo>
                <a:lnTo>
                  <a:pt x="227" y="0"/>
                </a:lnTo>
                <a:lnTo>
                  <a:pt x="0" y="1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60880" y="3044880"/>
            <a:ext cx="457200" cy="231840"/>
          </a:xfrm>
          <a:custGeom>
            <a:avLst/>
            <a:gdLst/>
            <a:ahLst/>
            <a:rect l="l" t="t" r="r" b="b"/>
            <a:pathLst>
              <a:path w="243" h="121">
                <a:moveTo>
                  <a:pt x="0" y="97"/>
                </a:moveTo>
                <a:lnTo>
                  <a:pt x="10" y="121"/>
                </a:lnTo>
                <a:lnTo>
                  <a:pt x="243" y="24"/>
                </a:lnTo>
                <a:lnTo>
                  <a:pt x="233" y="0"/>
                </a:lnTo>
                <a:lnTo>
                  <a:pt x="0" y="9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60880" y="3206880"/>
            <a:ext cx="447480" cy="266400"/>
          </a:xfrm>
          <a:custGeom>
            <a:avLst/>
            <a:gdLst/>
            <a:ahLst/>
            <a:rect l="l" t="t" r="r" b="b"/>
            <a:pathLst>
              <a:path w="238" h="139">
                <a:moveTo>
                  <a:pt x="12" y="0"/>
                </a:moveTo>
                <a:lnTo>
                  <a:pt x="0" y="23"/>
                </a:lnTo>
                <a:lnTo>
                  <a:pt x="227" y="139"/>
                </a:lnTo>
                <a:lnTo>
                  <a:pt x="238" y="117"/>
                </a:lnTo>
                <a:lnTo>
                  <a:pt x="1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90760" y="3240000"/>
            <a:ext cx="422280" cy="100080"/>
          </a:xfrm>
          <a:custGeom>
            <a:avLst/>
            <a:gdLst/>
            <a:ahLst/>
            <a:rect l="l" t="t" r="r" b="b"/>
            <a:pathLst>
              <a:path w="224" h="52">
                <a:moveTo>
                  <a:pt x="4" y="0"/>
                </a:moveTo>
                <a:lnTo>
                  <a:pt x="0" y="26"/>
                </a:lnTo>
                <a:lnTo>
                  <a:pt x="221" y="52"/>
                </a:lnTo>
                <a:lnTo>
                  <a:pt x="224" y="26"/>
                </a:lnTo>
                <a:lnTo>
                  <a:pt x="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220920" y="3745080"/>
            <a:ext cx="454320" cy="363240"/>
          </a:xfrm>
          <a:custGeom>
            <a:avLst/>
            <a:gdLst/>
            <a:ahLst/>
            <a:rect l="l" t="t" r="r" b="b"/>
            <a:pathLst>
              <a:path w="241" h="189">
                <a:moveTo>
                  <a:pt x="0" y="168"/>
                </a:moveTo>
                <a:lnTo>
                  <a:pt x="15" y="189"/>
                </a:lnTo>
                <a:lnTo>
                  <a:pt x="241" y="21"/>
                </a:lnTo>
                <a:lnTo>
                  <a:pt x="227" y="0"/>
                </a:lnTo>
                <a:lnTo>
                  <a:pt x="0" y="16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60880" y="3865680"/>
            <a:ext cx="457200" cy="234720"/>
          </a:xfrm>
          <a:custGeom>
            <a:avLst/>
            <a:gdLst/>
            <a:ahLst/>
            <a:rect l="l" t="t" r="r" b="b"/>
            <a:pathLst>
              <a:path w="243" h="122">
                <a:moveTo>
                  <a:pt x="0" y="97"/>
                </a:moveTo>
                <a:lnTo>
                  <a:pt x="10" y="122"/>
                </a:lnTo>
                <a:lnTo>
                  <a:pt x="243" y="25"/>
                </a:lnTo>
                <a:lnTo>
                  <a:pt x="233" y="0"/>
                </a:lnTo>
                <a:lnTo>
                  <a:pt x="0" y="9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0880" y="4027320"/>
            <a:ext cx="447480" cy="268560"/>
          </a:xfrm>
          <a:custGeom>
            <a:avLst/>
            <a:gdLst/>
            <a:ahLst/>
            <a:rect l="l" t="t" r="r" b="b"/>
            <a:pathLst>
              <a:path w="238" h="140">
                <a:moveTo>
                  <a:pt x="12" y="0"/>
                </a:moveTo>
                <a:lnTo>
                  <a:pt x="0" y="23"/>
                </a:lnTo>
                <a:lnTo>
                  <a:pt x="227" y="140"/>
                </a:lnTo>
                <a:lnTo>
                  <a:pt x="238" y="117"/>
                </a:lnTo>
                <a:lnTo>
                  <a:pt x="1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90760" y="4049640"/>
            <a:ext cx="422280" cy="111240"/>
          </a:xfrm>
          <a:custGeom>
            <a:avLst/>
            <a:gdLst/>
            <a:ahLst/>
            <a:rect l="l" t="t" r="r" b="b"/>
            <a:pathLst>
              <a:path w="224" h="58">
                <a:moveTo>
                  <a:pt x="4" y="0"/>
                </a:moveTo>
                <a:lnTo>
                  <a:pt x="0" y="26"/>
                </a:lnTo>
                <a:lnTo>
                  <a:pt x="221" y="58"/>
                </a:lnTo>
                <a:lnTo>
                  <a:pt x="224" y="32"/>
                </a:lnTo>
                <a:lnTo>
                  <a:pt x="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75320" y="2754360"/>
            <a:ext cx="1243080" cy="349200"/>
          </a:xfrm>
          <a:custGeom>
            <a:avLst/>
            <a:gdLst/>
            <a:ahLst/>
            <a:rect l="l" t="t" r="r" b="b"/>
            <a:pathLst>
              <a:path w="660" h="182">
                <a:moveTo>
                  <a:pt x="660" y="182"/>
                </a:moveTo>
                <a:lnTo>
                  <a:pt x="339" y="0"/>
                </a:lnTo>
                <a:lnTo>
                  <a:pt x="0" y="182"/>
                </a:lnTo>
                <a:lnTo>
                  <a:pt x="82" y="182"/>
                </a:lnTo>
                <a:lnTo>
                  <a:pt x="339" y="51"/>
                </a:lnTo>
                <a:lnTo>
                  <a:pt x="576" y="182"/>
                </a:lnTo>
                <a:lnTo>
                  <a:pt x="621" y="182"/>
                </a:lnTo>
                <a:lnTo>
                  <a:pt x="660" y="182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99080" y="2743200"/>
            <a:ext cx="1230480" cy="347760"/>
          </a:xfrm>
          <a:custGeom>
            <a:avLst/>
            <a:gdLst/>
            <a:ahLst/>
            <a:rect l="l" t="t" r="r" b="b"/>
            <a:pathLst>
              <a:path w="653" h="181">
                <a:moveTo>
                  <a:pt x="653" y="181"/>
                </a:moveTo>
                <a:lnTo>
                  <a:pt x="333" y="0"/>
                </a:lnTo>
                <a:lnTo>
                  <a:pt x="0" y="181"/>
                </a:lnTo>
                <a:lnTo>
                  <a:pt x="82" y="181"/>
                </a:lnTo>
                <a:lnTo>
                  <a:pt x="333" y="44"/>
                </a:lnTo>
                <a:lnTo>
                  <a:pt x="569" y="181"/>
                </a:lnTo>
                <a:lnTo>
                  <a:pt x="615" y="181"/>
                </a:lnTo>
                <a:lnTo>
                  <a:pt x="653" y="18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232680" y="2728800"/>
            <a:ext cx="609480" cy="362160"/>
          </a:xfrm>
          <a:custGeom>
            <a:avLst/>
            <a:gdLst/>
            <a:ahLst/>
            <a:rect l="l" t="t" r="r" b="b"/>
            <a:pathLst>
              <a:path w="324" h="188">
                <a:moveTo>
                  <a:pt x="324" y="188"/>
                </a:moveTo>
                <a:lnTo>
                  <a:pt x="324" y="18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599080" y="2728800"/>
            <a:ext cx="1243080" cy="362160"/>
          </a:xfrm>
          <a:custGeom>
            <a:avLst/>
            <a:gdLst/>
            <a:ahLst/>
            <a:rect l="l" t="t" r="r" b="b"/>
            <a:pathLst>
              <a:path w="660" h="188">
                <a:moveTo>
                  <a:pt x="336" y="0"/>
                </a:moveTo>
                <a:lnTo>
                  <a:pt x="336" y="0"/>
                </a:lnTo>
                <a:lnTo>
                  <a:pt x="0" y="188"/>
                </a:lnTo>
                <a:lnTo>
                  <a:pt x="84" y="188"/>
                </a:lnTo>
                <a:lnTo>
                  <a:pt x="336" y="46"/>
                </a:lnTo>
                <a:lnTo>
                  <a:pt x="576" y="188"/>
                </a:lnTo>
                <a:lnTo>
                  <a:pt x="615" y="188"/>
                </a:lnTo>
                <a:lnTo>
                  <a:pt x="660" y="1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586480" y="2717640"/>
            <a:ext cx="1243080" cy="362160"/>
          </a:xfrm>
          <a:custGeom>
            <a:avLst/>
            <a:gdLst/>
            <a:ahLst/>
            <a:rect l="l" t="t" r="r" b="b"/>
            <a:pathLst>
              <a:path w="660" h="188">
                <a:moveTo>
                  <a:pt x="660" y="188"/>
                </a:moveTo>
                <a:lnTo>
                  <a:pt x="337" y="0"/>
                </a:lnTo>
                <a:lnTo>
                  <a:pt x="0" y="188"/>
                </a:lnTo>
                <a:lnTo>
                  <a:pt x="84" y="188"/>
                </a:lnTo>
                <a:lnTo>
                  <a:pt x="337" y="45"/>
                </a:lnTo>
                <a:lnTo>
                  <a:pt x="576" y="188"/>
                </a:lnTo>
                <a:lnTo>
                  <a:pt x="615" y="188"/>
                </a:lnTo>
                <a:lnTo>
                  <a:pt x="660" y="1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08520" y="2828880"/>
            <a:ext cx="1011240" cy="698400"/>
          </a:xfrm>
          <a:custGeom>
            <a:avLst/>
            <a:gdLst/>
            <a:ahLst/>
            <a:rect l="l" t="t" r="r" b="b"/>
            <a:pathLst>
              <a:path w="537" h="363">
                <a:moveTo>
                  <a:pt x="537" y="159"/>
                </a:moveTo>
                <a:lnTo>
                  <a:pt x="537" y="363"/>
                </a:lnTo>
                <a:lnTo>
                  <a:pt x="0" y="363"/>
                </a:lnTo>
                <a:lnTo>
                  <a:pt x="0" y="152"/>
                </a:lnTo>
                <a:lnTo>
                  <a:pt x="268" y="0"/>
                </a:lnTo>
                <a:lnTo>
                  <a:pt x="403" y="76"/>
                </a:lnTo>
                <a:lnTo>
                  <a:pt x="537" y="159"/>
                </a:lnTo>
                <a:close/>
              </a:path>
            </a:pathLst>
          </a:cu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19680" y="2817720"/>
            <a:ext cx="1013040" cy="684360"/>
          </a:xfrm>
          <a:custGeom>
            <a:avLst/>
            <a:gdLst/>
            <a:ahLst/>
            <a:rect l="l" t="t" r="r" b="b"/>
            <a:pathLst>
              <a:path w="538" h="356">
                <a:moveTo>
                  <a:pt x="538" y="158"/>
                </a:moveTo>
                <a:lnTo>
                  <a:pt x="538" y="356"/>
                </a:lnTo>
                <a:lnTo>
                  <a:pt x="0" y="356"/>
                </a:lnTo>
                <a:lnTo>
                  <a:pt x="0" y="145"/>
                </a:lnTo>
                <a:lnTo>
                  <a:pt x="269" y="0"/>
                </a:lnTo>
                <a:lnTo>
                  <a:pt x="403" y="76"/>
                </a:lnTo>
                <a:lnTo>
                  <a:pt x="538" y="15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19680" y="2803680"/>
            <a:ext cx="1024200" cy="69840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544" y="162"/>
                </a:moveTo>
                <a:lnTo>
                  <a:pt x="544" y="162"/>
                </a:lnTo>
                <a:lnTo>
                  <a:pt x="544" y="363"/>
                </a:lnTo>
                <a:lnTo>
                  <a:pt x="0" y="363"/>
                </a:lnTo>
                <a:lnTo>
                  <a:pt x="0" y="149"/>
                </a:lnTo>
                <a:lnTo>
                  <a:pt x="272" y="0"/>
                </a:lnTo>
                <a:lnTo>
                  <a:pt x="408" y="85"/>
                </a:lnTo>
                <a:lnTo>
                  <a:pt x="544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08520" y="2792520"/>
            <a:ext cx="1024200" cy="69696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544" y="162"/>
                </a:moveTo>
                <a:lnTo>
                  <a:pt x="544" y="362"/>
                </a:lnTo>
                <a:lnTo>
                  <a:pt x="0" y="362"/>
                </a:lnTo>
                <a:lnTo>
                  <a:pt x="0" y="149"/>
                </a:lnTo>
                <a:lnTo>
                  <a:pt x="272" y="0"/>
                </a:lnTo>
                <a:lnTo>
                  <a:pt x="408" y="84"/>
                </a:lnTo>
                <a:lnTo>
                  <a:pt x="544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99080" y="3613320"/>
            <a:ext cx="1230480" cy="349200"/>
          </a:xfrm>
          <a:custGeom>
            <a:avLst/>
            <a:gdLst/>
            <a:ahLst/>
            <a:rect l="l" t="t" r="r" b="b"/>
            <a:pathLst>
              <a:path w="653" h="181">
                <a:moveTo>
                  <a:pt x="653" y="181"/>
                </a:moveTo>
                <a:lnTo>
                  <a:pt x="333" y="0"/>
                </a:lnTo>
                <a:lnTo>
                  <a:pt x="0" y="181"/>
                </a:lnTo>
                <a:lnTo>
                  <a:pt x="82" y="181"/>
                </a:lnTo>
                <a:lnTo>
                  <a:pt x="333" y="44"/>
                </a:lnTo>
                <a:lnTo>
                  <a:pt x="569" y="181"/>
                </a:lnTo>
                <a:lnTo>
                  <a:pt x="615" y="181"/>
                </a:lnTo>
                <a:lnTo>
                  <a:pt x="653" y="18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599080" y="3602160"/>
            <a:ext cx="1243080" cy="360360"/>
          </a:xfrm>
          <a:custGeom>
            <a:avLst/>
            <a:gdLst/>
            <a:ahLst/>
            <a:rect l="l" t="t" r="r" b="b"/>
            <a:pathLst>
              <a:path w="660" h="187">
                <a:moveTo>
                  <a:pt x="660" y="187"/>
                </a:moveTo>
                <a:lnTo>
                  <a:pt x="660" y="187"/>
                </a:lnTo>
                <a:lnTo>
                  <a:pt x="336" y="0"/>
                </a:lnTo>
                <a:lnTo>
                  <a:pt x="0" y="187"/>
                </a:lnTo>
                <a:lnTo>
                  <a:pt x="84" y="187"/>
                </a:lnTo>
                <a:lnTo>
                  <a:pt x="336" y="45"/>
                </a:lnTo>
                <a:lnTo>
                  <a:pt x="576" y="187"/>
                </a:lnTo>
                <a:lnTo>
                  <a:pt x="615" y="187"/>
                </a:lnTo>
                <a:lnTo>
                  <a:pt x="660" y="1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86480" y="3589200"/>
            <a:ext cx="1243080" cy="360360"/>
          </a:xfrm>
          <a:custGeom>
            <a:avLst/>
            <a:gdLst/>
            <a:ahLst/>
            <a:rect l="l" t="t" r="r" b="b"/>
            <a:pathLst>
              <a:path w="660" h="188">
                <a:moveTo>
                  <a:pt x="660" y="188"/>
                </a:moveTo>
                <a:lnTo>
                  <a:pt x="337" y="0"/>
                </a:lnTo>
                <a:lnTo>
                  <a:pt x="0" y="188"/>
                </a:lnTo>
                <a:lnTo>
                  <a:pt x="84" y="188"/>
                </a:lnTo>
                <a:lnTo>
                  <a:pt x="337" y="46"/>
                </a:lnTo>
                <a:lnTo>
                  <a:pt x="576" y="188"/>
                </a:lnTo>
                <a:lnTo>
                  <a:pt x="615" y="188"/>
                </a:lnTo>
                <a:lnTo>
                  <a:pt x="660" y="1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719680" y="3689280"/>
            <a:ext cx="1013040" cy="684360"/>
          </a:xfrm>
          <a:custGeom>
            <a:avLst/>
            <a:gdLst/>
            <a:ahLst/>
            <a:rect l="l" t="t" r="r" b="b"/>
            <a:pathLst>
              <a:path w="538" h="356">
                <a:moveTo>
                  <a:pt x="538" y="159"/>
                </a:moveTo>
                <a:lnTo>
                  <a:pt x="538" y="356"/>
                </a:lnTo>
                <a:lnTo>
                  <a:pt x="0" y="356"/>
                </a:lnTo>
                <a:lnTo>
                  <a:pt x="0" y="146"/>
                </a:lnTo>
                <a:lnTo>
                  <a:pt x="269" y="0"/>
                </a:lnTo>
                <a:lnTo>
                  <a:pt x="403" y="76"/>
                </a:lnTo>
                <a:lnTo>
                  <a:pt x="538" y="15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9680" y="3676680"/>
            <a:ext cx="1024200" cy="69696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544" y="161"/>
                </a:moveTo>
                <a:lnTo>
                  <a:pt x="544" y="161"/>
                </a:lnTo>
                <a:lnTo>
                  <a:pt x="544" y="362"/>
                </a:lnTo>
                <a:lnTo>
                  <a:pt x="0" y="362"/>
                </a:lnTo>
                <a:lnTo>
                  <a:pt x="0" y="148"/>
                </a:lnTo>
                <a:lnTo>
                  <a:pt x="272" y="0"/>
                </a:lnTo>
                <a:lnTo>
                  <a:pt x="408" y="84"/>
                </a:lnTo>
                <a:lnTo>
                  <a:pt x="544" y="16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08520" y="3664080"/>
            <a:ext cx="1024200" cy="6969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544" y="162"/>
                </a:moveTo>
                <a:lnTo>
                  <a:pt x="544" y="363"/>
                </a:lnTo>
                <a:lnTo>
                  <a:pt x="0" y="363"/>
                </a:lnTo>
                <a:lnTo>
                  <a:pt x="0" y="149"/>
                </a:lnTo>
                <a:lnTo>
                  <a:pt x="272" y="0"/>
                </a:lnTo>
                <a:lnTo>
                  <a:pt x="408" y="84"/>
                </a:lnTo>
                <a:lnTo>
                  <a:pt x="544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43480" y="1971720"/>
            <a:ext cx="1535040" cy="73080"/>
          </a:xfrm>
          <a:custGeom>
            <a:avLst/>
            <a:gdLst/>
            <a:ahLst/>
            <a:rect l="l" t="t" r="r" b="b"/>
            <a:pathLst>
              <a:path w="815" h="38">
                <a:moveTo>
                  <a:pt x="815" y="38"/>
                </a:moveTo>
                <a:lnTo>
                  <a:pt x="147" y="38"/>
                </a:lnTo>
                <a:lnTo>
                  <a:pt x="0" y="0"/>
                </a:lnTo>
                <a:lnTo>
                  <a:pt x="636" y="0"/>
                </a:lnTo>
                <a:lnTo>
                  <a:pt x="725" y="16"/>
                </a:lnTo>
                <a:lnTo>
                  <a:pt x="815" y="38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29080" y="1946160"/>
            <a:ext cx="1549440" cy="87480"/>
          </a:xfrm>
          <a:custGeom>
            <a:avLst/>
            <a:gdLst/>
            <a:ahLst/>
            <a:rect l="l" t="t" r="r" b="b"/>
            <a:pathLst>
              <a:path w="822" h="45">
                <a:moveTo>
                  <a:pt x="822" y="45"/>
                </a:moveTo>
                <a:lnTo>
                  <a:pt x="822" y="45"/>
                </a:lnTo>
                <a:lnTo>
                  <a:pt x="149" y="45"/>
                </a:lnTo>
                <a:lnTo>
                  <a:pt x="0" y="0"/>
                </a:lnTo>
                <a:lnTo>
                  <a:pt x="641" y="0"/>
                </a:lnTo>
                <a:lnTo>
                  <a:pt x="732" y="26"/>
                </a:lnTo>
                <a:lnTo>
                  <a:pt x="822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29080" y="1946160"/>
            <a:ext cx="1549440" cy="87480"/>
          </a:xfrm>
          <a:custGeom>
            <a:avLst/>
            <a:gdLst/>
            <a:ahLst/>
            <a:rect l="l" t="t" r="r" b="b"/>
            <a:pathLst>
              <a:path w="822" h="45">
                <a:moveTo>
                  <a:pt x="822" y="45"/>
                </a:moveTo>
                <a:lnTo>
                  <a:pt x="149" y="45"/>
                </a:lnTo>
                <a:lnTo>
                  <a:pt x="0" y="0"/>
                </a:lnTo>
                <a:lnTo>
                  <a:pt x="641" y="0"/>
                </a:lnTo>
                <a:lnTo>
                  <a:pt x="732" y="26"/>
                </a:lnTo>
                <a:lnTo>
                  <a:pt x="822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621400" y="2044800"/>
            <a:ext cx="1257120" cy="63360"/>
          </a:xfrm>
          <a:custGeom>
            <a:avLst/>
            <a:gdLst/>
            <a:ahLst/>
            <a:rect l="l" t="t" r="r" b="b"/>
            <a:pathLst>
              <a:path w="667" h="33">
                <a:moveTo>
                  <a:pt x="667" y="0"/>
                </a:moveTo>
                <a:lnTo>
                  <a:pt x="667" y="33"/>
                </a:lnTo>
                <a:lnTo>
                  <a:pt x="0" y="33"/>
                </a:lnTo>
                <a:lnTo>
                  <a:pt x="0" y="0"/>
                </a:lnTo>
                <a:lnTo>
                  <a:pt x="334" y="0"/>
                </a:lnTo>
                <a:lnTo>
                  <a:pt x="667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10240" y="2019240"/>
            <a:ext cx="1268280" cy="76320"/>
          </a:xfrm>
          <a:custGeom>
            <a:avLst/>
            <a:gdLst/>
            <a:ahLst/>
            <a:rect l="l" t="t" r="r" b="b"/>
            <a:pathLst>
              <a:path w="673" h="39">
                <a:moveTo>
                  <a:pt x="673" y="0"/>
                </a:moveTo>
                <a:lnTo>
                  <a:pt x="673" y="0"/>
                </a:lnTo>
                <a:lnTo>
                  <a:pt x="673" y="39"/>
                </a:lnTo>
                <a:lnTo>
                  <a:pt x="0" y="39"/>
                </a:lnTo>
                <a:lnTo>
                  <a:pt x="0" y="0"/>
                </a:lnTo>
                <a:lnTo>
                  <a:pt x="337" y="0"/>
                </a:lnTo>
                <a:lnTo>
                  <a:pt x="667" y="0"/>
                </a:lnTo>
                <a:lnTo>
                  <a:pt x="6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610240" y="2019240"/>
            <a:ext cx="1268280" cy="76320"/>
          </a:xfrm>
          <a:custGeom>
            <a:avLst/>
            <a:gdLst/>
            <a:ahLst/>
            <a:rect l="l" t="t" r="r" b="b"/>
            <a:pathLst>
              <a:path w="673" h="39">
                <a:moveTo>
                  <a:pt x="673" y="0"/>
                </a:moveTo>
                <a:lnTo>
                  <a:pt x="673" y="39"/>
                </a:lnTo>
                <a:lnTo>
                  <a:pt x="0" y="39"/>
                </a:lnTo>
                <a:lnTo>
                  <a:pt x="0" y="0"/>
                </a:lnTo>
                <a:lnTo>
                  <a:pt x="337" y="0"/>
                </a:lnTo>
                <a:lnTo>
                  <a:pt x="350" y="0"/>
                </a:lnTo>
                <a:lnTo>
                  <a:pt x="375" y="0"/>
                </a:lnTo>
                <a:lnTo>
                  <a:pt x="427" y="0"/>
                </a:lnTo>
                <a:lnTo>
                  <a:pt x="505" y="0"/>
                </a:lnTo>
                <a:lnTo>
                  <a:pt x="576" y="0"/>
                </a:lnTo>
                <a:lnTo>
                  <a:pt x="628" y="0"/>
                </a:lnTo>
                <a:lnTo>
                  <a:pt x="6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43480" y="1971720"/>
            <a:ext cx="266760" cy="147600"/>
          </a:xfrm>
          <a:custGeom>
            <a:avLst/>
            <a:gdLst/>
            <a:ahLst/>
            <a:rect l="l" t="t" r="r" b="b"/>
            <a:pathLst>
              <a:path w="142" h="77">
                <a:moveTo>
                  <a:pt x="142" y="42"/>
                </a:moveTo>
                <a:lnTo>
                  <a:pt x="0" y="0"/>
                </a:lnTo>
                <a:lnTo>
                  <a:pt x="0" y="29"/>
                </a:lnTo>
                <a:lnTo>
                  <a:pt x="142" y="77"/>
                </a:lnTo>
                <a:lnTo>
                  <a:pt x="142" y="59"/>
                </a:lnTo>
                <a:lnTo>
                  <a:pt x="142" y="42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29080" y="1946160"/>
            <a:ext cx="281160" cy="162000"/>
          </a:xfrm>
          <a:custGeom>
            <a:avLst/>
            <a:gdLst/>
            <a:ahLst/>
            <a:rect l="l" t="t" r="r" b="b"/>
            <a:pathLst>
              <a:path w="149" h="84">
                <a:moveTo>
                  <a:pt x="149" y="45"/>
                </a:moveTo>
                <a:lnTo>
                  <a:pt x="149" y="45"/>
                </a:lnTo>
                <a:lnTo>
                  <a:pt x="0" y="0"/>
                </a:lnTo>
                <a:lnTo>
                  <a:pt x="0" y="32"/>
                </a:lnTo>
                <a:lnTo>
                  <a:pt x="149" y="84"/>
                </a:lnTo>
                <a:lnTo>
                  <a:pt x="149" y="64"/>
                </a:lnTo>
                <a:lnTo>
                  <a:pt x="149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29080" y="1946160"/>
            <a:ext cx="281160" cy="162000"/>
          </a:xfrm>
          <a:custGeom>
            <a:avLst/>
            <a:gdLst/>
            <a:ahLst/>
            <a:rect l="l" t="t" r="r" b="b"/>
            <a:pathLst>
              <a:path w="149" h="84">
                <a:moveTo>
                  <a:pt x="149" y="45"/>
                </a:moveTo>
                <a:lnTo>
                  <a:pt x="0" y="0"/>
                </a:lnTo>
                <a:lnTo>
                  <a:pt x="0" y="32"/>
                </a:lnTo>
                <a:lnTo>
                  <a:pt x="149" y="84"/>
                </a:lnTo>
                <a:lnTo>
                  <a:pt x="149" y="64"/>
                </a:lnTo>
                <a:lnTo>
                  <a:pt x="149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629320" y="2127240"/>
            <a:ext cx="1160280" cy="114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6670800" y="2144520"/>
            <a:ext cx="144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232680" y="2144520"/>
            <a:ext cx="144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84720" y="2144520"/>
            <a:ext cx="180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5940360" y="2144520"/>
            <a:ext cx="180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792760" y="2144520"/>
            <a:ext cx="144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78400" y="2058840"/>
            <a:ext cx="231840" cy="174600"/>
          </a:xfrm>
          <a:custGeom>
            <a:avLst/>
            <a:gdLst/>
            <a:ahLst/>
            <a:rect l="l" t="t" r="r" b="b"/>
            <a:pathLst>
              <a:path w="123" h="91">
                <a:moveTo>
                  <a:pt x="123" y="91"/>
                </a:moveTo>
                <a:lnTo>
                  <a:pt x="0" y="53"/>
                </a:lnTo>
                <a:lnTo>
                  <a:pt x="0" y="0"/>
                </a:lnTo>
                <a:lnTo>
                  <a:pt x="117" y="36"/>
                </a:lnTo>
                <a:lnTo>
                  <a:pt x="123" y="60"/>
                </a:lnTo>
                <a:lnTo>
                  <a:pt x="123" y="91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67240" y="2033640"/>
            <a:ext cx="243000" cy="185760"/>
          </a:xfrm>
          <a:custGeom>
            <a:avLst/>
            <a:gdLst/>
            <a:ahLst/>
            <a:rect l="l" t="t" r="r" b="b"/>
            <a:pathLst>
              <a:path w="129" h="97">
                <a:moveTo>
                  <a:pt x="129" y="97"/>
                </a:moveTo>
                <a:lnTo>
                  <a:pt x="129" y="97"/>
                </a:lnTo>
                <a:lnTo>
                  <a:pt x="0" y="58"/>
                </a:lnTo>
                <a:lnTo>
                  <a:pt x="0" y="0"/>
                </a:lnTo>
                <a:lnTo>
                  <a:pt x="123" y="39"/>
                </a:lnTo>
                <a:lnTo>
                  <a:pt x="123" y="71"/>
                </a:lnTo>
                <a:lnTo>
                  <a:pt x="129" y="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67240" y="2033640"/>
            <a:ext cx="243000" cy="185760"/>
          </a:xfrm>
          <a:custGeom>
            <a:avLst/>
            <a:gdLst/>
            <a:ahLst/>
            <a:rect l="l" t="t" r="r" b="b"/>
            <a:pathLst>
              <a:path w="129" h="97">
                <a:moveTo>
                  <a:pt x="129" y="97"/>
                </a:moveTo>
                <a:lnTo>
                  <a:pt x="0" y="58"/>
                </a:lnTo>
                <a:lnTo>
                  <a:pt x="0" y="0"/>
                </a:lnTo>
                <a:lnTo>
                  <a:pt x="123" y="39"/>
                </a:lnTo>
                <a:lnTo>
                  <a:pt x="123" y="71"/>
                </a:lnTo>
                <a:lnTo>
                  <a:pt x="129" y="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621400" y="2133720"/>
            <a:ext cx="3240" cy="11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5487840" y="2095200"/>
            <a:ext cx="180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599080" y="2133360"/>
            <a:ext cx="180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989680" y="1922400"/>
            <a:ext cx="231840" cy="85680"/>
          </a:xfrm>
          <a:custGeom>
            <a:avLst/>
            <a:gdLst/>
            <a:ahLst/>
            <a:rect l="l" t="t" r="r" b="b"/>
            <a:pathLst>
              <a:path w="123" h="45">
                <a:moveTo>
                  <a:pt x="123" y="0"/>
                </a:moveTo>
                <a:lnTo>
                  <a:pt x="123" y="45"/>
                </a:lnTo>
                <a:lnTo>
                  <a:pt x="0" y="45"/>
                </a:lnTo>
                <a:lnTo>
                  <a:pt x="0" y="0"/>
                </a:lnTo>
                <a:lnTo>
                  <a:pt x="61" y="0"/>
                </a:lnTo>
                <a:lnTo>
                  <a:pt x="123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975280" y="1897200"/>
            <a:ext cx="246240" cy="99720"/>
          </a:xfrm>
          <a:custGeom>
            <a:avLst/>
            <a:gdLst/>
            <a:ahLst/>
            <a:rect l="l" t="t" r="r" b="b"/>
            <a:pathLst>
              <a:path w="130" h="52">
                <a:moveTo>
                  <a:pt x="130" y="0"/>
                </a:moveTo>
                <a:lnTo>
                  <a:pt x="130" y="0"/>
                </a:lnTo>
                <a:lnTo>
                  <a:pt x="130" y="52"/>
                </a:lnTo>
                <a:lnTo>
                  <a:pt x="0" y="52"/>
                </a:lnTo>
                <a:lnTo>
                  <a:pt x="0" y="0"/>
                </a:lnTo>
                <a:lnTo>
                  <a:pt x="65" y="0"/>
                </a:lnTo>
                <a:lnTo>
                  <a:pt x="123" y="0"/>
                </a:lnTo>
                <a:lnTo>
                  <a:pt x="13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75280" y="1897200"/>
            <a:ext cx="246240" cy="99720"/>
          </a:xfrm>
          <a:custGeom>
            <a:avLst/>
            <a:gdLst/>
            <a:ahLst/>
            <a:rect l="l" t="t" r="r" b="b"/>
            <a:pathLst>
              <a:path w="130" h="52">
                <a:moveTo>
                  <a:pt x="130" y="0"/>
                </a:moveTo>
                <a:lnTo>
                  <a:pt x="130" y="52"/>
                </a:lnTo>
                <a:lnTo>
                  <a:pt x="0" y="52"/>
                </a:lnTo>
                <a:lnTo>
                  <a:pt x="0" y="0"/>
                </a:lnTo>
                <a:lnTo>
                  <a:pt x="65" y="0"/>
                </a:lnTo>
                <a:lnTo>
                  <a:pt x="71" y="0"/>
                </a:lnTo>
                <a:lnTo>
                  <a:pt x="97" y="0"/>
                </a:lnTo>
                <a:lnTo>
                  <a:pt x="117" y="0"/>
                </a:lnTo>
                <a:lnTo>
                  <a:pt x="13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27760" y="1871640"/>
            <a:ext cx="47520" cy="136440"/>
          </a:xfrm>
          <a:custGeom>
            <a:avLst/>
            <a:gdLst/>
            <a:ahLst/>
            <a:rect l="l" t="t" r="r" b="b"/>
            <a:pathLst>
              <a:path w="26" h="71">
                <a:moveTo>
                  <a:pt x="26" y="18"/>
                </a:moveTo>
                <a:lnTo>
                  <a:pt x="0" y="0"/>
                </a:lnTo>
                <a:lnTo>
                  <a:pt x="0" y="53"/>
                </a:lnTo>
                <a:lnTo>
                  <a:pt x="0" y="47"/>
                </a:lnTo>
                <a:lnTo>
                  <a:pt x="26" y="71"/>
                </a:lnTo>
                <a:lnTo>
                  <a:pt x="26" y="40"/>
                </a:lnTo>
                <a:lnTo>
                  <a:pt x="26" y="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915160" y="1846440"/>
            <a:ext cx="60120" cy="150480"/>
          </a:xfrm>
          <a:custGeom>
            <a:avLst/>
            <a:gdLst/>
            <a:ahLst/>
            <a:rect l="l" t="t" r="r" b="b"/>
            <a:pathLst>
              <a:path w="32" h="78">
                <a:moveTo>
                  <a:pt x="32" y="19"/>
                </a:moveTo>
                <a:lnTo>
                  <a:pt x="32" y="19"/>
                </a:lnTo>
                <a:lnTo>
                  <a:pt x="0" y="0"/>
                </a:lnTo>
                <a:lnTo>
                  <a:pt x="0" y="58"/>
                </a:lnTo>
                <a:lnTo>
                  <a:pt x="0" y="52"/>
                </a:lnTo>
                <a:lnTo>
                  <a:pt x="32" y="78"/>
                </a:lnTo>
                <a:lnTo>
                  <a:pt x="32" y="52"/>
                </a:lnTo>
                <a:lnTo>
                  <a:pt x="32" y="1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15160" y="1846440"/>
            <a:ext cx="60120" cy="150480"/>
          </a:xfrm>
          <a:custGeom>
            <a:avLst/>
            <a:gdLst/>
            <a:ahLst/>
            <a:rect l="l" t="t" r="r" b="b"/>
            <a:pathLst>
              <a:path w="32" h="78">
                <a:moveTo>
                  <a:pt x="32" y="19"/>
                </a:moveTo>
                <a:lnTo>
                  <a:pt x="0" y="0"/>
                </a:lnTo>
                <a:lnTo>
                  <a:pt x="0" y="58"/>
                </a:lnTo>
                <a:lnTo>
                  <a:pt x="0" y="52"/>
                </a:lnTo>
                <a:lnTo>
                  <a:pt x="32" y="78"/>
                </a:lnTo>
                <a:lnTo>
                  <a:pt x="32" y="52"/>
                </a:lnTo>
                <a:lnTo>
                  <a:pt x="32" y="1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27760" y="1882800"/>
            <a:ext cx="293760" cy="25200"/>
          </a:xfrm>
          <a:custGeom>
            <a:avLst/>
            <a:gdLst/>
            <a:ahLst/>
            <a:rect l="l" t="t" r="r" b="b"/>
            <a:pathLst>
              <a:path w="156" h="13">
                <a:moveTo>
                  <a:pt x="156" y="13"/>
                </a:moveTo>
                <a:lnTo>
                  <a:pt x="38" y="13"/>
                </a:lnTo>
                <a:lnTo>
                  <a:pt x="0" y="0"/>
                </a:lnTo>
                <a:lnTo>
                  <a:pt x="118" y="0"/>
                </a:lnTo>
                <a:lnTo>
                  <a:pt x="136" y="3"/>
                </a:lnTo>
                <a:lnTo>
                  <a:pt x="156" y="1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915160" y="1859040"/>
            <a:ext cx="306360" cy="38160"/>
          </a:xfrm>
          <a:custGeom>
            <a:avLst/>
            <a:gdLst/>
            <a:ahLst/>
            <a:rect l="l" t="t" r="r" b="b"/>
            <a:pathLst>
              <a:path w="162" h="20">
                <a:moveTo>
                  <a:pt x="162" y="20"/>
                </a:moveTo>
                <a:lnTo>
                  <a:pt x="162" y="20"/>
                </a:lnTo>
                <a:lnTo>
                  <a:pt x="39" y="20"/>
                </a:lnTo>
                <a:lnTo>
                  <a:pt x="0" y="0"/>
                </a:lnTo>
                <a:lnTo>
                  <a:pt x="123" y="0"/>
                </a:lnTo>
                <a:lnTo>
                  <a:pt x="142" y="13"/>
                </a:lnTo>
                <a:lnTo>
                  <a:pt x="162" y="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15160" y="1859040"/>
            <a:ext cx="306360" cy="38160"/>
          </a:xfrm>
          <a:custGeom>
            <a:avLst/>
            <a:gdLst/>
            <a:ahLst/>
            <a:rect l="l" t="t" r="r" b="b"/>
            <a:pathLst>
              <a:path w="162" h="20">
                <a:moveTo>
                  <a:pt x="162" y="20"/>
                </a:moveTo>
                <a:lnTo>
                  <a:pt x="39" y="20"/>
                </a:lnTo>
                <a:lnTo>
                  <a:pt x="0" y="0"/>
                </a:lnTo>
                <a:lnTo>
                  <a:pt x="123" y="0"/>
                </a:lnTo>
                <a:lnTo>
                  <a:pt x="142" y="13"/>
                </a:lnTo>
                <a:lnTo>
                  <a:pt x="162" y="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621400" y="2244600"/>
            <a:ext cx="1257120" cy="61920"/>
          </a:xfrm>
          <a:custGeom>
            <a:avLst/>
            <a:gdLst/>
            <a:ahLst/>
            <a:rect l="l" t="t" r="r" b="b"/>
            <a:pathLst>
              <a:path w="667" h="32">
                <a:moveTo>
                  <a:pt x="667" y="0"/>
                </a:moveTo>
                <a:lnTo>
                  <a:pt x="667" y="32"/>
                </a:lnTo>
                <a:lnTo>
                  <a:pt x="0" y="32"/>
                </a:lnTo>
                <a:lnTo>
                  <a:pt x="0" y="0"/>
                </a:lnTo>
                <a:lnTo>
                  <a:pt x="334" y="0"/>
                </a:lnTo>
                <a:lnTo>
                  <a:pt x="667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10240" y="2219400"/>
            <a:ext cx="1268280" cy="74520"/>
          </a:xfrm>
          <a:custGeom>
            <a:avLst/>
            <a:gdLst/>
            <a:ahLst/>
            <a:rect l="l" t="t" r="r" b="b"/>
            <a:pathLst>
              <a:path w="673" h="39">
                <a:moveTo>
                  <a:pt x="673" y="0"/>
                </a:moveTo>
                <a:lnTo>
                  <a:pt x="673" y="0"/>
                </a:lnTo>
                <a:lnTo>
                  <a:pt x="673" y="39"/>
                </a:lnTo>
                <a:lnTo>
                  <a:pt x="0" y="39"/>
                </a:lnTo>
                <a:lnTo>
                  <a:pt x="0" y="0"/>
                </a:lnTo>
                <a:lnTo>
                  <a:pt x="337" y="0"/>
                </a:lnTo>
                <a:lnTo>
                  <a:pt x="667" y="0"/>
                </a:lnTo>
                <a:lnTo>
                  <a:pt x="6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610240" y="2219400"/>
            <a:ext cx="1268280" cy="74520"/>
          </a:xfrm>
          <a:custGeom>
            <a:avLst/>
            <a:gdLst/>
            <a:ahLst/>
            <a:rect l="l" t="t" r="r" b="b"/>
            <a:pathLst>
              <a:path w="673" h="39">
                <a:moveTo>
                  <a:pt x="673" y="0"/>
                </a:moveTo>
                <a:lnTo>
                  <a:pt x="673" y="39"/>
                </a:lnTo>
                <a:lnTo>
                  <a:pt x="0" y="39"/>
                </a:lnTo>
                <a:lnTo>
                  <a:pt x="0" y="0"/>
                </a:lnTo>
                <a:lnTo>
                  <a:pt x="337" y="0"/>
                </a:lnTo>
                <a:lnTo>
                  <a:pt x="350" y="0"/>
                </a:lnTo>
                <a:lnTo>
                  <a:pt x="375" y="0"/>
                </a:lnTo>
                <a:lnTo>
                  <a:pt x="427" y="0"/>
                </a:lnTo>
                <a:lnTo>
                  <a:pt x="505" y="0"/>
                </a:lnTo>
                <a:lnTo>
                  <a:pt x="576" y="0"/>
                </a:lnTo>
                <a:lnTo>
                  <a:pt x="628" y="0"/>
                </a:lnTo>
                <a:lnTo>
                  <a:pt x="6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43480" y="2157480"/>
            <a:ext cx="266760" cy="149040"/>
          </a:xfrm>
          <a:custGeom>
            <a:avLst/>
            <a:gdLst/>
            <a:ahLst/>
            <a:rect l="l" t="t" r="r" b="b"/>
            <a:pathLst>
              <a:path w="142" h="77">
                <a:moveTo>
                  <a:pt x="142" y="42"/>
                </a:moveTo>
                <a:lnTo>
                  <a:pt x="0" y="0"/>
                </a:lnTo>
                <a:lnTo>
                  <a:pt x="0" y="29"/>
                </a:lnTo>
                <a:lnTo>
                  <a:pt x="142" y="77"/>
                </a:lnTo>
                <a:lnTo>
                  <a:pt x="142" y="60"/>
                </a:lnTo>
                <a:lnTo>
                  <a:pt x="142" y="42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29080" y="2133720"/>
            <a:ext cx="281160" cy="160200"/>
          </a:xfrm>
          <a:custGeom>
            <a:avLst/>
            <a:gdLst/>
            <a:ahLst/>
            <a:rect l="l" t="t" r="r" b="b"/>
            <a:pathLst>
              <a:path w="149" h="84">
                <a:moveTo>
                  <a:pt x="149" y="45"/>
                </a:moveTo>
                <a:lnTo>
                  <a:pt x="149" y="45"/>
                </a:lnTo>
                <a:lnTo>
                  <a:pt x="0" y="0"/>
                </a:lnTo>
                <a:lnTo>
                  <a:pt x="0" y="32"/>
                </a:lnTo>
                <a:lnTo>
                  <a:pt x="149" y="84"/>
                </a:lnTo>
                <a:lnTo>
                  <a:pt x="149" y="64"/>
                </a:lnTo>
                <a:lnTo>
                  <a:pt x="149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29080" y="2133720"/>
            <a:ext cx="281160" cy="160200"/>
          </a:xfrm>
          <a:custGeom>
            <a:avLst/>
            <a:gdLst/>
            <a:ahLst/>
            <a:rect l="l" t="t" r="r" b="b"/>
            <a:pathLst>
              <a:path w="149" h="84">
                <a:moveTo>
                  <a:pt x="149" y="45"/>
                </a:moveTo>
                <a:lnTo>
                  <a:pt x="0" y="0"/>
                </a:lnTo>
                <a:lnTo>
                  <a:pt x="0" y="32"/>
                </a:lnTo>
                <a:lnTo>
                  <a:pt x="149" y="84"/>
                </a:lnTo>
                <a:lnTo>
                  <a:pt x="149" y="64"/>
                </a:lnTo>
                <a:lnTo>
                  <a:pt x="149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29320" y="2325600"/>
            <a:ext cx="1173240" cy="10152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683400" y="2330280"/>
            <a:ext cx="32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537240" y="233028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6389640" y="233028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6245280" y="2330280"/>
            <a:ext cx="14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6097680" y="2330280"/>
            <a:ext cx="32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951520" y="2330280"/>
            <a:ext cx="14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807160" y="2330280"/>
            <a:ext cx="14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78400" y="2255760"/>
            <a:ext cx="231840" cy="174600"/>
          </a:xfrm>
          <a:custGeom>
            <a:avLst/>
            <a:gdLst/>
            <a:ahLst/>
            <a:rect l="l" t="t" r="r" b="b"/>
            <a:pathLst>
              <a:path w="123" h="91">
                <a:moveTo>
                  <a:pt x="123" y="91"/>
                </a:moveTo>
                <a:lnTo>
                  <a:pt x="0" y="54"/>
                </a:lnTo>
                <a:lnTo>
                  <a:pt x="0" y="0"/>
                </a:lnTo>
                <a:lnTo>
                  <a:pt x="117" y="36"/>
                </a:lnTo>
                <a:lnTo>
                  <a:pt x="123" y="60"/>
                </a:lnTo>
                <a:lnTo>
                  <a:pt x="123" y="91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67240" y="2233440"/>
            <a:ext cx="243000" cy="185760"/>
          </a:xfrm>
          <a:custGeom>
            <a:avLst/>
            <a:gdLst/>
            <a:ahLst/>
            <a:rect l="l" t="t" r="r" b="b"/>
            <a:pathLst>
              <a:path w="129" h="97">
                <a:moveTo>
                  <a:pt x="129" y="97"/>
                </a:moveTo>
                <a:lnTo>
                  <a:pt x="129" y="97"/>
                </a:lnTo>
                <a:lnTo>
                  <a:pt x="0" y="58"/>
                </a:lnTo>
                <a:lnTo>
                  <a:pt x="0" y="0"/>
                </a:lnTo>
                <a:lnTo>
                  <a:pt x="123" y="38"/>
                </a:lnTo>
                <a:lnTo>
                  <a:pt x="123" y="71"/>
                </a:lnTo>
                <a:lnTo>
                  <a:pt x="129" y="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67240" y="2233440"/>
            <a:ext cx="243000" cy="185760"/>
          </a:xfrm>
          <a:custGeom>
            <a:avLst/>
            <a:gdLst/>
            <a:ahLst/>
            <a:rect l="l" t="t" r="r" b="b"/>
            <a:pathLst>
              <a:path w="129" h="97">
                <a:moveTo>
                  <a:pt x="129" y="97"/>
                </a:moveTo>
                <a:lnTo>
                  <a:pt x="0" y="58"/>
                </a:lnTo>
                <a:lnTo>
                  <a:pt x="0" y="0"/>
                </a:lnTo>
                <a:lnTo>
                  <a:pt x="123" y="38"/>
                </a:lnTo>
                <a:lnTo>
                  <a:pt x="123" y="71"/>
                </a:lnTo>
                <a:lnTo>
                  <a:pt x="129" y="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5635800" y="233028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5487840" y="229392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5599080" y="233028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621400" y="2444760"/>
            <a:ext cx="1257120" cy="61920"/>
          </a:xfrm>
          <a:custGeom>
            <a:avLst/>
            <a:gdLst/>
            <a:ahLst/>
            <a:rect l="l" t="t" r="r" b="b"/>
            <a:pathLst>
              <a:path w="667" h="32">
                <a:moveTo>
                  <a:pt x="667" y="0"/>
                </a:moveTo>
                <a:lnTo>
                  <a:pt x="667" y="32"/>
                </a:lnTo>
                <a:lnTo>
                  <a:pt x="0" y="32"/>
                </a:lnTo>
                <a:lnTo>
                  <a:pt x="0" y="0"/>
                </a:lnTo>
                <a:lnTo>
                  <a:pt x="334" y="0"/>
                </a:lnTo>
                <a:lnTo>
                  <a:pt x="667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10240" y="2419200"/>
            <a:ext cx="1268280" cy="73080"/>
          </a:xfrm>
          <a:custGeom>
            <a:avLst/>
            <a:gdLst/>
            <a:ahLst/>
            <a:rect l="l" t="t" r="r" b="b"/>
            <a:pathLst>
              <a:path w="673" h="38">
                <a:moveTo>
                  <a:pt x="673" y="0"/>
                </a:moveTo>
                <a:lnTo>
                  <a:pt x="673" y="0"/>
                </a:lnTo>
                <a:lnTo>
                  <a:pt x="673" y="38"/>
                </a:lnTo>
                <a:lnTo>
                  <a:pt x="0" y="38"/>
                </a:lnTo>
                <a:lnTo>
                  <a:pt x="0" y="0"/>
                </a:lnTo>
                <a:lnTo>
                  <a:pt x="337" y="0"/>
                </a:lnTo>
                <a:lnTo>
                  <a:pt x="667" y="0"/>
                </a:lnTo>
                <a:lnTo>
                  <a:pt x="6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610240" y="2419200"/>
            <a:ext cx="1268280" cy="73080"/>
          </a:xfrm>
          <a:custGeom>
            <a:avLst/>
            <a:gdLst/>
            <a:ahLst/>
            <a:rect l="l" t="t" r="r" b="b"/>
            <a:pathLst>
              <a:path w="673" h="38">
                <a:moveTo>
                  <a:pt x="673" y="0"/>
                </a:moveTo>
                <a:lnTo>
                  <a:pt x="673" y="38"/>
                </a:lnTo>
                <a:lnTo>
                  <a:pt x="0" y="38"/>
                </a:lnTo>
                <a:lnTo>
                  <a:pt x="0" y="0"/>
                </a:lnTo>
                <a:lnTo>
                  <a:pt x="337" y="0"/>
                </a:lnTo>
                <a:lnTo>
                  <a:pt x="350" y="0"/>
                </a:lnTo>
                <a:lnTo>
                  <a:pt x="375" y="0"/>
                </a:lnTo>
                <a:lnTo>
                  <a:pt x="427" y="0"/>
                </a:lnTo>
                <a:lnTo>
                  <a:pt x="505" y="0"/>
                </a:lnTo>
                <a:lnTo>
                  <a:pt x="576" y="0"/>
                </a:lnTo>
                <a:lnTo>
                  <a:pt x="628" y="0"/>
                </a:lnTo>
                <a:lnTo>
                  <a:pt x="6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43480" y="2355840"/>
            <a:ext cx="266760" cy="150840"/>
          </a:xfrm>
          <a:custGeom>
            <a:avLst/>
            <a:gdLst/>
            <a:ahLst/>
            <a:rect l="l" t="t" r="r" b="b"/>
            <a:pathLst>
              <a:path w="142" h="78">
                <a:moveTo>
                  <a:pt x="142" y="42"/>
                </a:moveTo>
                <a:lnTo>
                  <a:pt x="0" y="0"/>
                </a:lnTo>
                <a:lnTo>
                  <a:pt x="0" y="29"/>
                </a:lnTo>
                <a:lnTo>
                  <a:pt x="142" y="78"/>
                </a:lnTo>
                <a:lnTo>
                  <a:pt x="142" y="60"/>
                </a:lnTo>
                <a:lnTo>
                  <a:pt x="142" y="42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29080" y="2330280"/>
            <a:ext cx="281160" cy="162000"/>
          </a:xfrm>
          <a:custGeom>
            <a:avLst/>
            <a:gdLst/>
            <a:ahLst/>
            <a:rect l="l" t="t" r="r" b="b"/>
            <a:pathLst>
              <a:path w="149" h="84">
                <a:moveTo>
                  <a:pt x="149" y="46"/>
                </a:moveTo>
                <a:lnTo>
                  <a:pt x="149" y="46"/>
                </a:lnTo>
                <a:lnTo>
                  <a:pt x="0" y="0"/>
                </a:lnTo>
                <a:lnTo>
                  <a:pt x="0" y="33"/>
                </a:lnTo>
                <a:lnTo>
                  <a:pt x="149" y="84"/>
                </a:lnTo>
                <a:lnTo>
                  <a:pt x="149" y="65"/>
                </a:lnTo>
                <a:lnTo>
                  <a:pt x="149" y="4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29080" y="2330280"/>
            <a:ext cx="281160" cy="162000"/>
          </a:xfrm>
          <a:custGeom>
            <a:avLst/>
            <a:gdLst/>
            <a:ahLst/>
            <a:rect l="l" t="t" r="r" b="b"/>
            <a:pathLst>
              <a:path w="149" h="84">
                <a:moveTo>
                  <a:pt x="149" y="46"/>
                </a:moveTo>
                <a:lnTo>
                  <a:pt x="0" y="0"/>
                </a:lnTo>
                <a:lnTo>
                  <a:pt x="0" y="33"/>
                </a:lnTo>
                <a:lnTo>
                  <a:pt x="149" y="84"/>
                </a:lnTo>
                <a:lnTo>
                  <a:pt x="149" y="65"/>
                </a:lnTo>
                <a:lnTo>
                  <a:pt x="149" y="4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629320" y="2525760"/>
            <a:ext cx="1173240" cy="10152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6683400" y="2530440"/>
            <a:ext cx="32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537240" y="253044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389640" y="2530440"/>
            <a:ext cx="18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245280" y="2530440"/>
            <a:ext cx="14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097680" y="2530440"/>
            <a:ext cx="32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951520" y="2530440"/>
            <a:ext cx="14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807160" y="2530440"/>
            <a:ext cx="144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78400" y="2444760"/>
            <a:ext cx="231840" cy="173160"/>
          </a:xfrm>
          <a:custGeom>
            <a:avLst/>
            <a:gdLst/>
            <a:ahLst/>
            <a:rect l="l" t="t" r="r" b="b"/>
            <a:pathLst>
              <a:path w="123" h="90">
                <a:moveTo>
                  <a:pt x="123" y="90"/>
                </a:moveTo>
                <a:lnTo>
                  <a:pt x="0" y="53"/>
                </a:lnTo>
                <a:lnTo>
                  <a:pt x="0" y="0"/>
                </a:lnTo>
                <a:lnTo>
                  <a:pt x="117" y="35"/>
                </a:lnTo>
                <a:lnTo>
                  <a:pt x="123" y="59"/>
                </a:lnTo>
                <a:lnTo>
                  <a:pt x="123" y="90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67240" y="2419200"/>
            <a:ext cx="243000" cy="187560"/>
          </a:xfrm>
          <a:custGeom>
            <a:avLst/>
            <a:gdLst/>
            <a:ahLst/>
            <a:rect l="l" t="t" r="r" b="b"/>
            <a:pathLst>
              <a:path w="129" h="97">
                <a:moveTo>
                  <a:pt x="129" y="97"/>
                </a:moveTo>
                <a:lnTo>
                  <a:pt x="129" y="97"/>
                </a:lnTo>
                <a:lnTo>
                  <a:pt x="0" y="58"/>
                </a:lnTo>
                <a:lnTo>
                  <a:pt x="0" y="0"/>
                </a:lnTo>
                <a:lnTo>
                  <a:pt x="123" y="38"/>
                </a:lnTo>
                <a:lnTo>
                  <a:pt x="123" y="71"/>
                </a:lnTo>
                <a:lnTo>
                  <a:pt x="129" y="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67240" y="2419200"/>
            <a:ext cx="243000" cy="187560"/>
          </a:xfrm>
          <a:custGeom>
            <a:avLst/>
            <a:gdLst/>
            <a:ahLst/>
            <a:rect l="l" t="t" r="r" b="b"/>
            <a:pathLst>
              <a:path w="129" h="97">
                <a:moveTo>
                  <a:pt x="129" y="97"/>
                </a:moveTo>
                <a:lnTo>
                  <a:pt x="0" y="58"/>
                </a:lnTo>
                <a:lnTo>
                  <a:pt x="0" y="0"/>
                </a:lnTo>
                <a:lnTo>
                  <a:pt x="123" y="38"/>
                </a:lnTo>
                <a:lnTo>
                  <a:pt x="123" y="71"/>
                </a:lnTo>
                <a:lnTo>
                  <a:pt x="129" y="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5635800" y="2517480"/>
            <a:ext cx="144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487840" y="2480760"/>
            <a:ext cx="1800" cy="1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610240" y="2517480"/>
            <a:ext cx="144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41920" y="2525760"/>
            <a:ext cx="101880" cy="76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621400" y="2630520"/>
            <a:ext cx="1257120" cy="61920"/>
          </a:xfrm>
          <a:custGeom>
            <a:avLst/>
            <a:gdLst/>
            <a:ahLst/>
            <a:rect l="l" t="t" r="r" b="b"/>
            <a:pathLst>
              <a:path w="667" h="32">
                <a:moveTo>
                  <a:pt x="667" y="0"/>
                </a:moveTo>
                <a:lnTo>
                  <a:pt x="667" y="32"/>
                </a:lnTo>
                <a:lnTo>
                  <a:pt x="0" y="32"/>
                </a:lnTo>
                <a:lnTo>
                  <a:pt x="0" y="0"/>
                </a:lnTo>
                <a:lnTo>
                  <a:pt x="334" y="0"/>
                </a:lnTo>
                <a:lnTo>
                  <a:pt x="667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10240" y="2606760"/>
            <a:ext cx="1268280" cy="74520"/>
          </a:xfrm>
          <a:custGeom>
            <a:avLst/>
            <a:gdLst/>
            <a:ahLst/>
            <a:rect l="l" t="t" r="r" b="b"/>
            <a:pathLst>
              <a:path w="673" h="39">
                <a:moveTo>
                  <a:pt x="673" y="0"/>
                </a:moveTo>
                <a:lnTo>
                  <a:pt x="673" y="0"/>
                </a:lnTo>
                <a:lnTo>
                  <a:pt x="673" y="39"/>
                </a:lnTo>
                <a:lnTo>
                  <a:pt x="0" y="39"/>
                </a:lnTo>
                <a:lnTo>
                  <a:pt x="0" y="0"/>
                </a:lnTo>
                <a:lnTo>
                  <a:pt x="337" y="0"/>
                </a:lnTo>
                <a:lnTo>
                  <a:pt x="667" y="0"/>
                </a:lnTo>
                <a:lnTo>
                  <a:pt x="6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610240" y="2606760"/>
            <a:ext cx="1268280" cy="74520"/>
          </a:xfrm>
          <a:custGeom>
            <a:avLst/>
            <a:gdLst/>
            <a:ahLst/>
            <a:rect l="l" t="t" r="r" b="b"/>
            <a:pathLst>
              <a:path w="673" h="39">
                <a:moveTo>
                  <a:pt x="673" y="0"/>
                </a:moveTo>
                <a:lnTo>
                  <a:pt x="673" y="39"/>
                </a:lnTo>
                <a:lnTo>
                  <a:pt x="0" y="39"/>
                </a:lnTo>
                <a:lnTo>
                  <a:pt x="0" y="0"/>
                </a:lnTo>
                <a:lnTo>
                  <a:pt x="337" y="0"/>
                </a:lnTo>
                <a:lnTo>
                  <a:pt x="350" y="0"/>
                </a:lnTo>
                <a:lnTo>
                  <a:pt x="375" y="0"/>
                </a:lnTo>
                <a:lnTo>
                  <a:pt x="427" y="0"/>
                </a:lnTo>
                <a:lnTo>
                  <a:pt x="505" y="0"/>
                </a:lnTo>
                <a:lnTo>
                  <a:pt x="576" y="0"/>
                </a:lnTo>
                <a:lnTo>
                  <a:pt x="628" y="0"/>
                </a:lnTo>
                <a:lnTo>
                  <a:pt x="67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54640" y="2556000"/>
            <a:ext cx="266760" cy="150840"/>
          </a:xfrm>
          <a:custGeom>
            <a:avLst/>
            <a:gdLst/>
            <a:ahLst/>
            <a:rect l="l" t="t" r="r" b="b"/>
            <a:pathLst>
              <a:path w="142" h="78">
                <a:moveTo>
                  <a:pt x="142" y="42"/>
                </a:moveTo>
                <a:lnTo>
                  <a:pt x="0" y="0"/>
                </a:lnTo>
                <a:lnTo>
                  <a:pt x="0" y="29"/>
                </a:lnTo>
                <a:lnTo>
                  <a:pt x="142" y="78"/>
                </a:lnTo>
                <a:lnTo>
                  <a:pt x="142" y="60"/>
                </a:lnTo>
                <a:lnTo>
                  <a:pt x="142" y="42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43480" y="2530440"/>
            <a:ext cx="277920" cy="162000"/>
          </a:xfrm>
          <a:custGeom>
            <a:avLst/>
            <a:gdLst/>
            <a:ahLst/>
            <a:rect l="l" t="t" r="r" b="b"/>
            <a:pathLst>
              <a:path w="148" h="84">
                <a:moveTo>
                  <a:pt x="148" y="45"/>
                </a:moveTo>
                <a:lnTo>
                  <a:pt x="148" y="45"/>
                </a:lnTo>
                <a:lnTo>
                  <a:pt x="0" y="0"/>
                </a:lnTo>
                <a:lnTo>
                  <a:pt x="0" y="32"/>
                </a:lnTo>
                <a:lnTo>
                  <a:pt x="148" y="84"/>
                </a:lnTo>
                <a:lnTo>
                  <a:pt x="148" y="65"/>
                </a:lnTo>
                <a:lnTo>
                  <a:pt x="148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43480" y="2530440"/>
            <a:ext cx="277920" cy="162000"/>
          </a:xfrm>
          <a:custGeom>
            <a:avLst/>
            <a:gdLst/>
            <a:ahLst/>
            <a:rect l="l" t="t" r="r" b="b"/>
            <a:pathLst>
              <a:path w="148" h="84">
                <a:moveTo>
                  <a:pt x="148" y="45"/>
                </a:moveTo>
                <a:lnTo>
                  <a:pt x="0" y="0"/>
                </a:lnTo>
                <a:lnTo>
                  <a:pt x="0" y="32"/>
                </a:lnTo>
                <a:lnTo>
                  <a:pt x="148" y="84"/>
                </a:lnTo>
                <a:lnTo>
                  <a:pt x="148" y="65"/>
                </a:lnTo>
                <a:lnTo>
                  <a:pt x="148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68920" y="2225520"/>
            <a:ext cx="6192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568920" y="2411280"/>
            <a:ext cx="6192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568920" y="2630520"/>
            <a:ext cx="619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348160" y="2163600"/>
            <a:ext cx="11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48160" y="2363760"/>
            <a:ext cx="11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9320" y="2550960"/>
            <a:ext cx="3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31120" y="2127240"/>
            <a:ext cx="112680" cy="88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531120" y="2325600"/>
            <a:ext cx="112680" cy="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384960" y="2138400"/>
            <a:ext cx="100080" cy="777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526080" y="2144520"/>
            <a:ext cx="180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6378480" y="2144520"/>
            <a:ext cx="180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37360" y="2138400"/>
            <a:ext cx="101520" cy="777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481800" y="2394000"/>
            <a:ext cx="3240" cy="3240"/>
          </a:xfrm>
          <a:prstGeom prst="line">
            <a:avLst/>
          </a:prstGeom>
          <a:ln w="9360">
            <a:solidFill>
              <a:srgbClr val="003e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30920" y="3060720"/>
            <a:ext cx="47772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37400" y="3075120"/>
            <a:ext cx="468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91120" y="313704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23000" y="3936960"/>
            <a:ext cx="47952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30920" y="3954600"/>
            <a:ext cx="468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85000" y="4014720"/>
            <a:ext cx="25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86480" y="1073160"/>
            <a:ext cx="1243080" cy="351000"/>
          </a:xfrm>
          <a:custGeom>
            <a:avLst/>
            <a:gdLst/>
            <a:ahLst/>
            <a:rect l="l" t="t" r="r" b="b"/>
            <a:pathLst>
              <a:path w="660" h="182">
                <a:moveTo>
                  <a:pt x="660" y="182"/>
                </a:moveTo>
                <a:lnTo>
                  <a:pt x="340" y="0"/>
                </a:lnTo>
                <a:lnTo>
                  <a:pt x="0" y="182"/>
                </a:lnTo>
                <a:lnTo>
                  <a:pt x="83" y="182"/>
                </a:lnTo>
                <a:lnTo>
                  <a:pt x="340" y="51"/>
                </a:lnTo>
                <a:lnTo>
                  <a:pt x="576" y="182"/>
                </a:lnTo>
                <a:lnTo>
                  <a:pt x="622" y="182"/>
                </a:lnTo>
                <a:lnTo>
                  <a:pt x="660" y="182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99080" y="1062000"/>
            <a:ext cx="1230480" cy="347760"/>
          </a:xfrm>
          <a:custGeom>
            <a:avLst/>
            <a:gdLst/>
            <a:ahLst/>
            <a:rect l="l" t="t" r="r" b="b"/>
            <a:pathLst>
              <a:path w="653" h="181">
                <a:moveTo>
                  <a:pt x="653" y="181"/>
                </a:moveTo>
                <a:lnTo>
                  <a:pt x="333" y="0"/>
                </a:lnTo>
                <a:lnTo>
                  <a:pt x="0" y="181"/>
                </a:lnTo>
                <a:lnTo>
                  <a:pt x="82" y="181"/>
                </a:lnTo>
                <a:lnTo>
                  <a:pt x="333" y="44"/>
                </a:lnTo>
                <a:lnTo>
                  <a:pt x="569" y="181"/>
                </a:lnTo>
                <a:lnTo>
                  <a:pt x="615" y="181"/>
                </a:lnTo>
                <a:lnTo>
                  <a:pt x="653" y="18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599080" y="1049400"/>
            <a:ext cx="1243080" cy="360360"/>
          </a:xfrm>
          <a:custGeom>
            <a:avLst/>
            <a:gdLst/>
            <a:ahLst/>
            <a:rect l="l" t="t" r="r" b="b"/>
            <a:pathLst>
              <a:path w="660" h="188">
                <a:moveTo>
                  <a:pt x="660" y="188"/>
                </a:moveTo>
                <a:lnTo>
                  <a:pt x="660" y="188"/>
                </a:lnTo>
                <a:lnTo>
                  <a:pt x="336" y="0"/>
                </a:lnTo>
                <a:lnTo>
                  <a:pt x="0" y="188"/>
                </a:lnTo>
                <a:lnTo>
                  <a:pt x="84" y="188"/>
                </a:lnTo>
                <a:lnTo>
                  <a:pt x="336" y="4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232680" y="1136520"/>
            <a:ext cx="609480" cy="273240"/>
          </a:xfrm>
          <a:custGeom>
            <a:avLst/>
            <a:gdLst/>
            <a:ahLst/>
            <a:rect l="l" t="t" r="r" b="b"/>
            <a:pathLst>
              <a:path w="324" h="142">
                <a:moveTo>
                  <a:pt x="0" y="0"/>
                </a:moveTo>
                <a:lnTo>
                  <a:pt x="240" y="142"/>
                </a:lnTo>
                <a:lnTo>
                  <a:pt x="279" y="142"/>
                </a:lnTo>
                <a:lnTo>
                  <a:pt x="324" y="14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86480" y="1036800"/>
            <a:ext cx="1243080" cy="361800"/>
          </a:xfrm>
          <a:custGeom>
            <a:avLst/>
            <a:gdLst/>
            <a:ahLst/>
            <a:rect l="l" t="t" r="r" b="b"/>
            <a:pathLst>
              <a:path w="660" h="188">
                <a:moveTo>
                  <a:pt x="660" y="188"/>
                </a:moveTo>
                <a:lnTo>
                  <a:pt x="337" y="0"/>
                </a:lnTo>
                <a:lnTo>
                  <a:pt x="0" y="188"/>
                </a:lnTo>
                <a:lnTo>
                  <a:pt x="84" y="188"/>
                </a:lnTo>
                <a:lnTo>
                  <a:pt x="337" y="45"/>
                </a:lnTo>
                <a:lnTo>
                  <a:pt x="576" y="188"/>
                </a:lnTo>
                <a:lnTo>
                  <a:pt x="615" y="188"/>
                </a:lnTo>
                <a:lnTo>
                  <a:pt x="660" y="1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08520" y="1149480"/>
            <a:ext cx="1011240" cy="696960"/>
          </a:xfrm>
          <a:custGeom>
            <a:avLst/>
            <a:gdLst/>
            <a:ahLst/>
            <a:rect l="l" t="t" r="r" b="b"/>
            <a:pathLst>
              <a:path w="537" h="363">
                <a:moveTo>
                  <a:pt x="537" y="159"/>
                </a:moveTo>
                <a:lnTo>
                  <a:pt x="537" y="363"/>
                </a:lnTo>
                <a:lnTo>
                  <a:pt x="0" y="363"/>
                </a:lnTo>
                <a:lnTo>
                  <a:pt x="0" y="152"/>
                </a:lnTo>
                <a:lnTo>
                  <a:pt x="268" y="0"/>
                </a:lnTo>
                <a:lnTo>
                  <a:pt x="403" y="76"/>
                </a:lnTo>
                <a:lnTo>
                  <a:pt x="537" y="159"/>
                </a:lnTo>
                <a:close/>
              </a:path>
            </a:pathLst>
          </a:cu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732640" y="1136520"/>
            <a:ext cx="1011240" cy="685800"/>
          </a:xfrm>
          <a:custGeom>
            <a:avLst/>
            <a:gdLst/>
            <a:ahLst/>
            <a:rect l="l" t="t" r="r" b="b"/>
            <a:pathLst>
              <a:path w="537" h="356">
                <a:moveTo>
                  <a:pt x="537" y="158"/>
                </a:moveTo>
                <a:lnTo>
                  <a:pt x="537" y="356"/>
                </a:lnTo>
                <a:lnTo>
                  <a:pt x="0" y="356"/>
                </a:lnTo>
                <a:lnTo>
                  <a:pt x="0" y="145"/>
                </a:lnTo>
                <a:lnTo>
                  <a:pt x="268" y="0"/>
                </a:lnTo>
                <a:lnTo>
                  <a:pt x="403" y="76"/>
                </a:lnTo>
                <a:lnTo>
                  <a:pt x="537" y="158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32640" y="1123920"/>
            <a:ext cx="1025280" cy="69840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544" y="162"/>
                </a:moveTo>
                <a:lnTo>
                  <a:pt x="544" y="162"/>
                </a:lnTo>
                <a:lnTo>
                  <a:pt x="544" y="363"/>
                </a:lnTo>
                <a:lnTo>
                  <a:pt x="0" y="363"/>
                </a:lnTo>
                <a:lnTo>
                  <a:pt x="0" y="149"/>
                </a:lnTo>
                <a:lnTo>
                  <a:pt x="272" y="0"/>
                </a:lnTo>
                <a:lnTo>
                  <a:pt x="408" y="85"/>
                </a:lnTo>
                <a:lnTo>
                  <a:pt x="544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719680" y="1112760"/>
            <a:ext cx="1024200" cy="6955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544" y="162"/>
                </a:moveTo>
                <a:lnTo>
                  <a:pt x="544" y="362"/>
                </a:lnTo>
                <a:lnTo>
                  <a:pt x="0" y="362"/>
                </a:lnTo>
                <a:lnTo>
                  <a:pt x="0" y="149"/>
                </a:lnTo>
                <a:lnTo>
                  <a:pt x="272" y="0"/>
                </a:lnTo>
                <a:lnTo>
                  <a:pt x="408" y="84"/>
                </a:lnTo>
                <a:lnTo>
                  <a:pt x="544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65880" y="1722600"/>
            <a:ext cx="549360" cy="149040"/>
          </a:xfrm>
          <a:custGeom>
            <a:avLst/>
            <a:gdLst/>
            <a:ahLst/>
            <a:rect l="l" t="t" r="r" b="b"/>
            <a:pathLst>
              <a:path w="292" h="78">
                <a:moveTo>
                  <a:pt x="89" y="71"/>
                </a:moveTo>
                <a:lnTo>
                  <a:pt x="44" y="71"/>
                </a:lnTo>
                <a:lnTo>
                  <a:pt x="13" y="78"/>
                </a:lnTo>
                <a:lnTo>
                  <a:pt x="0" y="65"/>
                </a:lnTo>
                <a:lnTo>
                  <a:pt x="7" y="36"/>
                </a:lnTo>
                <a:lnTo>
                  <a:pt x="38" y="18"/>
                </a:lnTo>
                <a:lnTo>
                  <a:pt x="76" y="24"/>
                </a:lnTo>
                <a:lnTo>
                  <a:pt x="101" y="36"/>
                </a:lnTo>
                <a:lnTo>
                  <a:pt x="120" y="36"/>
                </a:lnTo>
                <a:lnTo>
                  <a:pt x="133" y="18"/>
                </a:lnTo>
                <a:lnTo>
                  <a:pt x="164" y="0"/>
                </a:lnTo>
                <a:lnTo>
                  <a:pt x="209" y="0"/>
                </a:lnTo>
                <a:lnTo>
                  <a:pt x="246" y="5"/>
                </a:lnTo>
                <a:lnTo>
                  <a:pt x="279" y="29"/>
                </a:lnTo>
                <a:lnTo>
                  <a:pt x="292" y="60"/>
                </a:lnTo>
                <a:lnTo>
                  <a:pt x="272" y="71"/>
                </a:lnTo>
                <a:lnTo>
                  <a:pt x="240" y="65"/>
                </a:lnTo>
                <a:lnTo>
                  <a:pt x="203" y="65"/>
                </a:lnTo>
                <a:lnTo>
                  <a:pt x="146" y="65"/>
                </a:lnTo>
                <a:lnTo>
                  <a:pt x="89" y="71"/>
                </a:lnTo>
                <a:close/>
              </a:path>
            </a:pathLst>
          </a:custGeom>
          <a:solidFill>
            <a:srgbClr val="66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329520" y="1685880"/>
            <a:ext cx="572760" cy="173160"/>
          </a:xfrm>
          <a:custGeom>
            <a:avLst/>
            <a:gdLst/>
            <a:ahLst/>
            <a:rect l="l" t="t" r="r" b="b"/>
            <a:pathLst>
              <a:path w="304" h="90">
                <a:moveTo>
                  <a:pt x="78" y="84"/>
                </a:moveTo>
                <a:lnTo>
                  <a:pt x="39" y="84"/>
                </a:lnTo>
                <a:lnTo>
                  <a:pt x="13" y="90"/>
                </a:lnTo>
                <a:lnTo>
                  <a:pt x="0" y="58"/>
                </a:lnTo>
                <a:lnTo>
                  <a:pt x="32" y="39"/>
                </a:lnTo>
                <a:lnTo>
                  <a:pt x="71" y="26"/>
                </a:lnTo>
                <a:lnTo>
                  <a:pt x="104" y="45"/>
                </a:lnTo>
                <a:lnTo>
                  <a:pt x="110" y="58"/>
                </a:lnTo>
                <a:lnTo>
                  <a:pt x="136" y="39"/>
                </a:lnTo>
                <a:lnTo>
                  <a:pt x="155" y="6"/>
                </a:lnTo>
                <a:lnTo>
                  <a:pt x="201" y="6"/>
                </a:lnTo>
                <a:lnTo>
                  <a:pt x="252" y="0"/>
                </a:lnTo>
                <a:lnTo>
                  <a:pt x="278" y="19"/>
                </a:lnTo>
                <a:lnTo>
                  <a:pt x="304" y="51"/>
                </a:lnTo>
                <a:lnTo>
                  <a:pt x="298" y="84"/>
                </a:lnTo>
                <a:lnTo>
                  <a:pt x="278" y="77"/>
                </a:lnTo>
                <a:lnTo>
                  <a:pt x="233" y="77"/>
                </a:lnTo>
                <a:lnTo>
                  <a:pt x="188" y="77"/>
                </a:lnTo>
                <a:lnTo>
                  <a:pt x="123" y="77"/>
                </a:lnTo>
                <a:lnTo>
                  <a:pt x="78" y="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40320" y="1697040"/>
            <a:ext cx="561960" cy="162000"/>
          </a:xfrm>
          <a:custGeom>
            <a:avLst/>
            <a:gdLst/>
            <a:ahLst/>
            <a:rect l="l" t="t" r="r" b="b"/>
            <a:pathLst>
              <a:path w="298" h="84">
                <a:moveTo>
                  <a:pt x="98" y="78"/>
                </a:moveTo>
                <a:lnTo>
                  <a:pt x="52" y="78"/>
                </a:lnTo>
                <a:lnTo>
                  <a:pt x="20" y="84"/>
                </a:lnTo>
                <a:lnTo>
                  <a:pt x="0" y="71"/>
                </a:lnTo>
                <a:lnTo>
                  <a:pt x="0" y="52"/>
                </a:lnTo>
                <a:lnTo>
                  <a:pt x="13" y="45"/>
                </a:lnTo>
                <a:lnTo>
                  <a:pt x="46" y="26"/>
                </a:lnTo>
                <a:lnTo>
                  <a:pt x="85" y="33"/>
                </a:lnTo>
                <a:lnTo>
                  <a:pt x="104" y="45"/>
                </a:lnTo>
                <a:lnTo>
                  <a:pt x="117" y="45"/>
                </a:lnTo>
                <a:lnTo>
                  <a:pt x="143" y="20"/>
                </a:lnTo>
                <a:lnTo>
                  <a:pt x="175" y="0"/>
                </a:lnTo>
                <a:lnTo>
                  <a:pt x="221" y="0"/>
                </a:lnTo>
                <a:lnTo>
                  <a:pt x="259" y="7"/>
                </a:lnTo>
                <a:lnTo>
                  <a:pt x="285" y="33"/>
                </a:lnTo>
                <a:lnTo>
                  <a:pt x="298" y="65"/>
                </a:lnTo>
                <a:lnTo>
                  <a:pt x="285" y="78"/>
                </a:lnTo>
                <a:lnTo>
                  <a:pt x="253" y="71"/>
                </a:lnTo>
                <a:lnTo>
                  <a:pt x="208" y="71"/>
                </a:lnTo>
                <a:lnTo>
                  <a:pt x="149" y="71"/>
                </a:lnTo>
                <a:lnTo>
                  <a:pt x="98" y="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811840" y="1379520"/>
            <a:ext cx="47772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305400" y="2157480"/>
            <a:ext cx="1800" cy="25200"/>
          </a:xfrm>
          <a:custGeom>
            <a:avLst/>
            <a:gdLst/>
            <a:ahLst/>
            <a:rect l="l" t="t" r="r" b="b"/>
            <a:pathLst>
              <a:path w="0" h="13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3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78480" y="3390840"/>
            <a:ext cx="561960" cy="173160"/>
          </a:xfrm>
          <a:custGeom>
            <a:avLst/>
            <a:gdLst/>
            <a:ahLst/>
            <a:rect l="l" t="t" r="r" b="b"/>
            <a:pathLst>
              <a:path w="298" h="90">
                <a:moveTo>
                  <a:pt x="94" y="77"/>
                </a:moveTo>
                <a:lnTo>
                  <a:pt x="50" y="84"/>
                </a:lnTo>
                <a:lnTo>
                  <a:pt x="13" y="90"/>
                </a:lnTo>
                <a:lnTo>
                  <a:pt x="0" y="72"/>
                </a:lnTo>
                <a:lnTo>
                  <a:pt x="6" y="42"/>
                </a:lnTo>
                <a:lnTo>
                  <a:pt x="37" y="24"/>
                </a:lnTo>
                <a:lnTo>
                  <a:pt x="76" y="29"/>
                </a:lnTo>
                <a:lnTo>
                  <a:pt x="100" y="42"/>
                </a:lnTo>
                <a:lnTo>
                  <a:pt x="126" y="35"/>
                </a:lnTo>
                <a:lnTo>
                  <a:pt x="139" y="17"/>
                </a:lnTo>
                <a:lnTo>
                  <a:pt x="170" y="4"/>
                </a:lnTo>
                <a:lnTo>
                  <a:pt x="215" y="0"/>
                </a:lnTo>
                <a:lnTo>
                  <a:pt x="252" y="4"/>
                </a:lnTo>
                <a:lnTo>
                  <a:pt x="285" y="29"/>
                </a:lnTo>
                <a:lnTo>
                  <a:pt x="298" y="66"/>
                </a:lnTo>
                <a:lnTo>
                  <a:pt x="285" y="77"/>
                </a:lnTo>
                <a:lnTo>
                  <a:pt x="252" y="72"/>
                </a:lnTo>
                <a:lnTo>
                  <a:pt x="209" y="72"/>
                </a:lnTo>
                <a:lnTo>
                  <a:pt x="152" y="72"/>
                </a:lnTo>
                <a:lnTo>
                  <a:pt x="94" y="77"/>
                </a:lnTo>
                <a:close/>
              </a:path>
            </a:pathLst>
          </a:custGeom>
          <a:solidFill>
            <a:srgbClr val="66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40320" y="3352680"/>
            <a:ext cx="600120" cy="200160"/>
          </a:xfrm>
          <a:custGeom>
            <a:avLst/>
            <a:gdLst/>
            <a:ahLst/>
            <a:rect l="l" t="t" r="r" b="b"/>
            <a:pathLst>
              <a:path w="318" h="104">
                <a:moveTo>
                  <a:pt x="85" y="97"/>
                </a:moveTo>
                <a:lnTo>
                  <a:pt x="39" y="97"/>
                </a:lnTo>
                <a:lnTo>
                  <a:pt x="13" y="104"/>
                </a:lnTo>
                <a:lnTo>
                  <a:pt x="0" y="65"/>
                </a:lnTo>
                <a:lnTo>
                  <a:pt x="33" y="46"/>
                </a:lnTo>
                <a:lnTo>
                  <a:pt x="72" y="33"/>
                </a:lnTo>
                <a:lnTo>
                  <a:pt x="104" y="52"/>
                </a:lnTo>
                <a:lnTo>
                  <a:pt x="123" y="65"/>
                </a:lnTo>
                <a:lnTo>
                  <a:pt x="143" y="46"/>
                </a:lnTo>
                <a:lnTo>
                  <a:pt x="162" y="13"/>
                </a:lnTo>
                <a:lnTo>
                  <a:pt x="208" y="7"/>
                </a:lnTo>
                <a:lnTo>
                  <a:pt x="253" y="0"/>
                </a:lnTo>
                <a:lnTo>
                  <a:pt x="285" y="20"/>
                </a:lnTo>
                <a:lnTo>
                  <a:pt x="318" y="58"/>
                </a:lnTo>
                <a:lnTo>
                  <a:pt x="311" y="91"/>
                </a:lnTo>
                <a:lnTo>
                  <a:pt x="292" y="84"/>
                </a:lnTo>
                <a:lnTo>
                  <a:pt x="240" y="84"/>
                </a:lnTo>
                <a:lnTo>
                  <a:pt x="195" y="84"/>
                </a:lnTo>
                <a:lnTo>
                  <a:pt x="130" y="84"/>
                </a:lnTo>
                <a:lnTo>
                  <a:pt x="85" y="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354720" y="3365640"/>
            <a:ext cx="585720" cy="187200"/>
          </a:xfrm>
          <a:custGeom>
            <a:avLst/>
            <a:gdLst/>
            <a:ahLst/>
            <a:rect l="l" t="t" r="r" b="b"/>
            <a:pathLst>
              <a:path w="311" h="97">
                <a:moveTo>
                  <a:pt x="103" y="84"/>
                </a:moveTo>
                <a:lnTo>
                  <a:pt x="58" y="90"/>
                </a:lnTo>
                <a:lnTo>
                  <a:pt x="19" y="97"/>
                </a:lnTo>
                <a:lnTo>
                  <a:pt x="0" y="77"/>
                </a:lnTo>
                <a:lnTo>
                  <a:pt x="0" y="58"/>
                </a:lnTo>
                <a:lnTo>
                  <a:pt x="13" y="51"/>
                </a:lnTo>
                <a:lnTo>
                  <a:pt x="45" y="32"/>
                </a:lnTo>
                <a:lnTo>
                  <a:pt x="84" y="39"/>
                </a:lnTo>
                <a:lnTo>
                  <a:pt x="110" y="51"/>
                </a:lnTo>
                <a:lnTo>
                  <a:pt x="129" y="51"/>
                </a:lnTo>
                <a:lnTo>
                  <a:pt x="149" y="26"/>
                </a:lnTo>
                <a:lnTo>
                  <a:pt x="181" y="6"/>
                </a:lnTo>
                <a:lnTo>
                  <a:pt x="226" y="0"/>
                </a:lnTo>
                <a:lnTo>
                  <a:pt x="265" y="6"/>
                </a:lnTo>
                <a:lnTo>
                  <a:pt x="298" y="32"/>
                </a:lnTo>
                <a:lnTo>
                  <a:pt x="311" y="71"/>
                </a:lnTo>
                <a:lnTo>
                  <a:pt x="298" y="84"/>
                </a:lnTo>
                <a:lnTo>
                  <a:pt x="259" y="77"/>
                </a:lnTo>
                <a:lnTo>
                  <a:pt x="214" y="77"/>
                </a:lnTo>
                <a:lnTo>
                  <a:pt x="155" y="77"/>
                </a:lnTo>
                <a:lnTo>
                  <a:pt x="103" y="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89640" y="4297320"/>
            <a:ext cx="550800" cy="150840"/>
          </a:xfrm>
          <a:custGeom>
            <a:avLst/>
            <a:gdLst/>
            <a:ahLst/>
            <a:rect l="l" t="t" r="r" b="b"/>
            <a:pathLst>
              <a:path w="292" h="78">
                <a:moveTo>
                  <a:pt x="89" y="71"/>
                </a:moveTo>
                <a:lnTo>
                  <a:pt x="44" y="71"/>
                </a:lnTo>
                <a:lnTo>
                  <a:pt x="13" y="78"/>
                </a:lnTo>
                <a:lnTo>
                  <a:pt x="0" y="65"/>
                </a:lnTo>
                <a:lnTo>
                  <a:pt x="7" y="36"/>
                </a:lnTo>
                <a:lnTo>
                  <a:pt x="38" y="18"/>
                </a:lnTo>
                <a:lnTo>
                  <a:pt x="76" y="25"/>
                </a:lnTo>
                <a:lnTo>
                  <a:pt x="101" y="36"/>
                </a:lnTo>
                <a:lnTo>
                  <a:pt x="120" y="36"/>
                </a:lnTo>
                <a:lnTo>
                  <a:pt x="133" y="18"/>
                </a:lnTo>
                <a:lnTo>
                  <a:pt x="164" y="0"/>
                </a:lnTo>
                <a:lnTo>
                  <a:pt x="209" y="0"/>
                </a:lnTo>
                <a:lnTo>
                  <a:pt x="246" y="5"/>
                </a:lnTo>
                <a:lnTo>
                  <a:pt x="279" y="29"/>
                </a:lnTo>
                <a:lnTo>
                  <a:pt x="292" y="60"/>
                </a:lnTo>
                <a:lnTo>
                  <a:pt x="272" y="71"/>
                </a:lnTo>
                <a:lnTo>
                  <a:pt x="240" y="65"/>
                </a:lnTo>
                <a:lnTo>
                  <a:pt x="203" y="65"/>
                </a:lnTo>
                <a:lnTo>
                  <a:pt x="146" y="65"/>
                </a:lnTo>
                <a:lnTo>
                  <a:pt x="89" y="71"/>
                </a:lnTo>
                <a:close/>
              </a:path>
            </a:pathLst>
          </a:custGeom>
          <a:solidFill>
            <a:srgbClr val="66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354720" y="4260960"/>
            <a:ext cx="571680" cy="172800"/>
          </a:xfrm>
          <a:custGeom>
            <a:avLst/>
            <a:gdLst/>
            <a:ahLst/>
            <a:rect l="l" t="t" r="r" b="b"/>
            <a:pathLst>
              <a:path w="304" h="90">
                <a:moveTo>
                  <a:pt x="78" y="84"/>
                </a:moveTo>
                <a:lnTo>
                  <a:pt x="39" y="84"/>
                </a:lnTo>
                <a:lnTo>
                  <a:pt x="13" y="90"/>
                </a:lnTo>
                <a:lnTo>
                  <a:pt x="0" y="58"/>
                </a:lnTo>
                <a:lnTo>
                  <a:pt x="32" y="39"/>
                </a:lnTo>
                <a:lnTo>
                  <a:pt x="71" y="26"/>
                </a:lnTo>
                <a:lnTo>
                  <a:pt x="103" y="45"/>
                </a:lnTo>
                <a:lnTo>
                  <a:pt x="110" y="58"/>
                </a:lnTo>
                <a:lnTo>
                  <a:pt x="136" y="39"/>
                </a:lnTo>
                <a:lnTo>
                  <a:pt x="155" y="6"/>
                </a:lnTo>
                <a:lnTo>
                  <a:pt x="201" y="6"/>
                </a:lnTo>
                <a:lnTo>
                  <a:pt x="252" y="0"/>
                </a:lnTo>
                <a:lnTo>
                  <a:pt x="278" y="19"/>
                </a:lnTo>
                <a:lnTo>
                  <a:pt x="304" y="52"/>
                </a:lnTo>
                <a:lnTo>
                  <a:pt x="298" y="84"/>
                </a:lnTo>
                <a:lnTo>
                  <a:pt x="278" y="77"/>
                </a:lnTo>
                <a:lnTo>
                  <a:pt x="233" y="77"/>
                </a:lnTo>
                <a:lnTo>
                  <a:pt x="188" y="77"/>
                </a:lnTo>
                <a:lnTo>
                  <a:pt x="123" y="77"/>
                </a:lnTo>
                <a:lnTo>
                  <a:pt x="78" y="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365880" y="4273560"/>
            <a:ext cx="560520" cy="160200"/>
          </a:xfrm>
          <a:custGeom>
            <a:avLst/>
            <a:gdLst/>
            <a:ahLst/>
            <a:rect l="l" t="t" r="r" b="b"/>
            <a:pathLst>
              <a:path w="298" h="84">
                <a:moveTo>
                  <a:pt x="97" y="78"/>
                </a:moveTo>
                <a:lnTo>
                  <a:pt x="52" y="78"/>
                </a:lnTo>
                <a:lnTo>
                  <a:pt x="20" y="84"/>
                </a:lnTo>
                <a:lnTo>
                  <a:pt x="0" y="71"/>
                </a:lnTo>
                <a:lnTo>
                  <a:pt x="0" y="52"/>
                </a:lnTo>
                <a:lnTo>
                  <a:pt x="13" y="46"/>
                </a:lnTo>
                <a:lnTo>
                  <a:pt x="46" y="26"/>
                </a:lnTo>
                <a:lnTo>
                  <a:pt x="85" y="33"/>
                </a:lnTo>
                <a:lnTo>
                  <a:pt x="104" y="46"/>
                </a:lnTo>
                <a:lnTo>
                  <a:pt x="117" y="46"/>
                </a:lnTo>
                <a:lnTo>
                  <a:pt x="143" y="20"/>
                </a:lnTo>
                <a:lnTo>
                  <a:pt x="175" y="0"/>
                </a:lnTo>
                <a:lnTo>
                  <a:pt x="220" y="0"/>
                </a:lnTo>
                <a:lnTo>
                  <a:pt x="259" y="7"/>
                </a:lnTo>
                <a:lnTo>
                  <a:pt x="285" y="33"/>
                </a:lnTo>
                <a:lnTo>
                  <a:pt x="298" y="65"/>
                </a:lnTo>
                <a:lnTo>
                  <a:pt x="285" y="78"/>
                </a:lnTo>
                <a:lnTo>
                  <a:pt x="253" y="71"/>
                </a:lnTo>
                <a:lnTo>
                  <a:pt x="208" y="71"/>
                </a:lnTo>
                <a:lnTo>
                  <a:pt x="149" y="71"/>
                </a:lnTo>
                <a:lnTo>
                  <a:pt x="97" y="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12880" y="1015920"/>
            <a:ext cx="2235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791400" y="893880"/>
            <a:ext cx="677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01840" y="3981600"/>
            <a:ext cx="101880" cy="12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201840" y="3184560"/>
            <a:ext cx="101880" cy="12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27400" y="2374920"/>
            <a:ext cx="101520" cy="12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240000" y="1515960"/>
            <a:ext cx="100080" cy="128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736640" y="704880"/>
            <a:ext cx="4827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78000" y="1287360"/>
            <a:ext cx="8604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6200" y="134136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91960" y="1962000"/>
            <a:ext cx="1189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98600" y="2016000"/>
            <a:ext cx="855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Leased L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71440" y="2562120"/>
            <a:ext cx="1120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6640" y="261612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rame/Ce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69960" y="2855880"/>
            <a:ext cx="403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1920" y="3317760"/>
            <a:ext cx="1046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29200" y="33717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1440" y="3900600"/>
            <a:ext cx="10908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68720" y="395460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ntera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32160" y="41940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87760" y="3529080"/>
            <a:ext cx="12938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710960" y="3591000"/>
            <a:ext cx="96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wisted Pai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27600" y="1395360"/>
            <a:ext cx="62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91760" y="1452600"/>
            <a:ext cx="39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296040" y="1563840"/>
            <a:ext cx="417240" cy="48600"/>
            <a:chOff x="6296040" y="1563840"/>
            <a:chExt cx="417240" cy="48600"/>
          </a:xfrm>
        </p:grpSpPr>
        <p:sp>
          <p:nvSpPr>
            <p:cNvPr id="732" name=""/>
            <p:cNvSpPr/>
            <p:nvPr/>
          </p:nvSpPr>
          <p:spPr>
            <a:xfrm>
              <a:off x="6296040" y="156384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93960" y="1563840"/>
              <a:ext cx="4860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491520" y="156384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89440" y="1563840"/>
              <a:ext cx="471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85200" y="1563840"/>
              <a:ext cx="2808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5931000" y="2363760"/>
            <a:ext cx="828360" cy="47160"/>
            <a:chOff x="5931000" y="2363760"/>
            <a:chExt cx="828360" cy="47160"/>
          </a:xfrm>
        </p:grpSpPr>
        <p:sp>
          <p:nvSpPr>
            <p:cNvPr id="738" name=""/>
            <p:cNvSpPr/>
            <p:nvPr/>
          </p:nvSpPr>
          <p:spPr>
            <a:xfrm>
              <a:off x="5931000" y="2363760"/>
              <a:ext cx="4896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028560" y="2363760"/>
              <a:ext cx="4896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26840" y="2363760"/>
              <a:ext cx="4680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22600" y="2363760"/>
              <a:ext cx="4896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20880" y="2363760"/>
              <a:ext cx="4860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18440" y="2363760"/>
              <a:ext cx="4896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16360" y="2363760"/>
              <a:ext cx="4896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12480" y="2363760"/>
              <a:ext cx="4896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710760" y="2363760"/>
              <a:ext cx="48600" cy="47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5151600" y="3225960"/>
            <a:ext cx="631440" cy="48600"/>
            <a:chOff x="5151600" y="3225960"/>
            <a:chExt cx="631440" cy="48600"/>
          </a:xfrm>
        </p:grpSpPr>
        <p:sp>
          <p:nvSpPr>
            <p:cNvPr id="748" name=""/>
            <p:cNvSpPr/>
            <p:nvPr/>
          </p:nvSpPr>
          <p:spPr>
            <a:xfrm>
              <a:off x="5151600" y="322596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47360" y="322596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344920" y="322596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42840" y="3225960"/>
              <a:ext cx="4824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0760" y="322596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320" y="3225960"/>
              <a:ext cx="471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34080" y="322596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6308640" y="3225960"/>
            <a:ext cx="340920" cy="48600"/>
            <a:chOff x="6308640" y="3225960"/>
            <a:chExt cx="340920" cy="48600"/>
          </a:xfrm>
        </p:grpSpPr>
        <p:sp>
          <p:nvSpPr>
            <p:cNvPr id="756" name=""/>
            <p:cNvSpPr/>
            <p:nvPr/>
          </p:nvSpPr>
          <p:spPr>
            <a:xfrm>
              <a:off x="6308640" y="322596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04760" y="322596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02680" y="3225960"/>
              <a:ext cx="4896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600960" y="3225960"/>
              <a:ext cx="48600" cy="4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4505400" y="4037040"/>
            <a:ext cx="1174320" cy="48960"/>
            <a:chOff x="4505400" y="4037040"/>
            <a:chExt cx="1174320" cy="48960"/>
          </a:xfrm>
        </p:grpSpPr>
        <p:sp>
          <p:nvSpPr>
            <p:cNvPr id="761" name=""/>
            <p:cNvSpPr/>
            <p:nvPr/>
          </p:nvSpPr>
          <p:spPr>
            <a:xfrm>
              <a:off x="4505400" y="4037040"/>
              <a:ext cx="4680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01160" y="4037040"/>
              <a:ext cx="4860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99080" y="403704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97000" y="403704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94920" y="4037040"/>
              <a:ext cx="4860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90680" y="403704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88960" y="4037040"/>
              <a:ext cx="4860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186520" y="403704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284440" y="403704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382720" y="4037040"/>
              <a:ext cx="4860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478840" y="4037040"/>
              <a:ext cx="4860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76400" y="403704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74320" y="4037040"/>
              <a:ext cx="540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308640" y="4108320"/>
            <a:ext cx="340920" cy="48960"/>
            <a:chOff x="6308640" y="4108320"/>
            <a:chExt cx="340920" cy="48960"/>
          </a:xfrm>
        </p:grpSpPr>
        <p:sp>
          <p:nvSpPr>
            <p:cNvPr id="775" name=""/>
            <p:cNvSpPr/>
            <p:nvPr/>
          </p:nvSpPr>
          <p:spPr>
            <a:xfrm>
              <a:off x="6308640" y="410832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404760" y="410832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502680" y="4108320"/>
              <a:ext cx="4896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00960" y="4108320"/>
              <a:ext cx="48600" cy="4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5927760" y="2143080"/>
            <a:ext cx="294840" cy="257040"/>
            <a:chOff x="5927760" y="2143080"/>
            <a:chExt cx="294840" cy="257040"/>
          </a:xfrm>
        </p:grpSpPr>
        <p:sp>
          <p:nvSpPr>
            <p:cNvPr id="780" name=""/>
            <p:cNvSpPr/>
            <p:nvPr/>
          </p:nvSpPr>
          <p:spPr>
            <a:xfrm>
              <a:off x="5927760" y="2331000"/>
              <a:ext cx="67680" cy="69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17"/>
                  </a:moveTo>
                  <a:lnTo>
                    <a:pt x="17" y="36"/>
                  </a:lnTo>
                  <a:lnTo>
                    <a:pt x="36" y="20"/>
                  </a:lnTo>
                  <a:lnTo>
                    <a:pt x="2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04800" y="2269440"/>
              <a:ext cx="65520" cy="691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0" y="16"/>
                  </a:moveTo>
                  <a:lnTo>
                    <a:pt x="16" y="36"/>
                  </a:lnTo>
                  <a:lnTo>
                    <a:pt x="35" y="19"/>
                  </a:lnTo>
                  <a:lnTo>
                    <a:pt x="1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79680" y="2208240"/>
              <a:ext cx="67680" cy="6696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16"/>
                  </a:moveTo>
                  <a:lnTo>
                    <a:pt x="16" y="35"/>
                  </a:lnTo>
                  <a:lnTo>
                    <a:pt x="36" y="19"/>
                  </a:lnTo>
                  <a:lnTo>
                    <a:pt x="2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57080" y="2143080"/>
              <a:ext cx="65520" cy="70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17"/>
                  </a:moveTo>
                  <a:lnTo>
                    <a:pt x="16" y="37"/>
                  </a:lnTo>
                  <a:lnTo>
                    <a:pt x="35" y="19"/>
                  </a:lnTo>
                  <a:lnTo>
                    <a:pt x="19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5146560" y="3003480"/>
            <a:ext cx="296640" cy="258480"/>
            <a:chOff x="5146560" y="3003480"/>
            <a:chExt cx="296640" cy="258480"/>
          </a:xfrm>
        </p:grpSpPr>
        <p:sp>
          <p:nvSpPr>
            <p:cNvPr id="785" name=""/>
            <p:cNvSpPr/>
            <p:nvPr/>
          </p:nvSpPr>
          <p:spPr>
            <a:xfrm>
              <a:off x="5146560" y="3194280"/>
              <a:ext cx="68040" cy="6768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16"/>
                  </a:moveTo>
                  <a:lnTo>
                    <a:pt x="16" y="35"/>
                  </a:lnTo>
                  <a:lnTo>
                    <a:pt x="36" y="19"/>
                  </a:lnTo>
                  <a:lnTo>
                    <a:pt x="1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222160" y="3130560"/>
              <a:ext cx="68040" cy="69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16"/>
                  </a:moveTo>
                  <a:lnTo>
                    <a:pt x="17" y="36"/>
                  </a:lnTo>
                  <a:lnTo>
                    <a:pt x="36" y="20"/>
                  </a:lnTo>
                  <a:lnTo>
                    <a:pt x="2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299920" y="3069000"/>
              <a:ext cx="67680" cy="69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16"/>
                  </a:moveTo>
                  <a:lnTo>
                    <a:pt x="16" y="36"/>
                  </a:lnTo>
                  <a:lnTo>
                    <a:pt x="36" y="19"/>
                  </a:lnTo>
                  <a:lnTo>
                    <a:pt x="1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75160" y="3003480"/>
              <a:ext cx="68040" cy="712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0" y="18"/>
                  </a:moveTo>
                  <a:lnTo>
                    <a:pt x="17" y="37"/>
                  </a:lnTo>
                  <a:lnTo>
                    <a:pt x="36" y="19"/>
                  </a:lnTo>
                  <a:lnTo>
                    <a:pt x="2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4502160" y="3878280"/>
            <a:ext cx="216720" cy="192960"/>
            <a:chOff x="4502160" y="3878280"/>
            <a:chExt cx="216720" cy="192960"/>
          </a:xfrm>
        </p:grpSpPr>
        <p:sp>
          <p:nvSpPr>
            <p:cNvPr id="790" name=""/>
            <p:cNvSpPr/>
            <p:nvPr/>
          </p:nvSpPr>
          <p:spPr>
            <a:xfrm>
              <a:off x="4502160" y="4001760"/>
              <a:ext cx="67320" cy="694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17"/>
                  </a:moveTo>
                  <a:lnTo>
                    <a:pt x="16" y="36"/>
                  </a:lnTo>
                  <a:lnTo>
                    <a:pt x="36" y="20"/>
                  </a:lnTo>
                  <a:lnTo>
                    <a:pt x="19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6680" y="3939840"/>
              <a:ext cx="67320" cy="694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16"/>
                  </a:moveTo>
                  <a:lnTo>
                    <a:pt x="17" y="36"/>
                  </a:lnTo>
                  <a:lnTo>
                    <a:pt x="36" y="20"/>
                  </a:lnTo>
                  <a:lnTo>
                    <a:pt x="2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53720" y="3878280"/>
              <a:ext cx="65160" cy="673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16"/>
                  </a:moveTo>
                  <a:lnTo>
                    <a:pt x="16" y="35"/>
                  </a:lnTo>
                  <a:lnTo>
                    <a:pt x="35" y="19"/>
                  </a:lnTo>
                  <a:lnTo>
                    <a:pt x="1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502160" y="4046400"/>
            <a:ext cx="294840" cy="257040"/>
            <a:chOff x="4502160" y="4046400"/>
            <a:chExt cx="294840" cy="257040"/>
          </a:xfrm>
        </p:grpSpPr>
        <p:sp>
          <p:nvSpPr>
            <p:cNvPr id="794" name=""/>
            <p:cNvSpPr/>
            <p:nvPr/>
          </p:nvSpPr>
          <p:spPr>
            <a:xfrm>
              <a:off x="4502160" y="4046400"/>
              <a:ext cx="67680" cy="68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6" y="0"/>
                  </a:moveTo>
                  <a:lnTo>
                    <a:pt x="0" y="20"/>
                  </a:lnTo>
                  <a:lnTo>
                    <a:pt x="19" y="36"/>
                  </a:lnTo>
                  <a:lnTo>
                    <a:pt x="36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7040" y="4107600"/>
              <a:ext cx="67680" cy="69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7" y="0"/>
                  </a:moveTo>
                  <a:lnTo>
                    <a:pt x="0" y="20"/>
                  </a:lnTo>
                  <a:lnTo>
                    <a:pt x="20" y="36"/>
                  </a:lnTo>
                  <a:lnTo>
                    <a:pt x="36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54080" y="4170600"/>
              <a:ext cx="65520" cy="673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6" y="0"/>
                  </a:moveTo>
                  <a:lnTo>
                    <a:pt x="0" y="19"/>
                  </a:lnTo>
                  <a:lnTo>
                    <a:pt x="19" y="35"/>
                  </a:lnTo>
                  <a:lnTo>
                    <a:pt x="35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729320" y="4232160"/>
              <a:ext cx="67680" cy="712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6" y="0"/>
                  </a:moveTo>
                  <a:lnTo>
                    <a:pt x="0" y="20"/>
                  </a:lnTo>
                  <a:lnTo>
                    <a:pt x="20" y="37"/>
                  </a:lnTo>
                  <a:lnTo>
                    <a:pt x="36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5146560" y="3236760"/>
            <a:ext cx="296640" cy="258480"/>
            <a:chOff x="5146560" y="3236760"/>
            <a:chExt cx="296640" cy="258480"/>
          </a:xfrm>
        </p:grpSpPr>
        <p:sp>
          <p:nvSpPr>
            <p:cNvPr id="799" name=""/>
            <p:cNvSpPr/>
            <p:nvPr/>
          </p:nvSpPr>
          <p:spPr>
            <a:xfrm>
              <a:off x="5146560" y="3236760"/>
              <a:ext cx="68040" cy="69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6" y="0"/>
                  </a:moveTo>
                  <a:lnTo>
                    <a:pt x="0" y="20"/>
                  </a:lnTo>
                  <a:lnTo>
                    <a:pt x="19" y="36"/>
                  </a:lnTo>
                  <a:lnTo>
                    <a:pt x="36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222160" y="3300120"/>
              <a:ext cx="68040" cy="6696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17" y="0"/>
                  </a:moveTo>
                  <a:lnTo>
                    <a:pt x="0" y="19"/>
                  </a:lnTo>
                  <a:lnTo>
                    <a:pt x="20" y="35"/>
                  </a:lnTo>
                  <a:lnTo>
                    <a:pt x="36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299920" y="3361320"/>
              <a:ext cx="67680" cy="69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6" y="0"/>
                  </a:moveTo>
                  <a:lnTo>
                    <a:pt x="0" y="19"/>
                  </a:lnTo>
                  <a:lnTo>
                    <a:pt x="19" y="36"/>
                  </a:lnTo>
                  <a:lnTo>
                    <a:pt x="36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75160" y="3422880"/>
              <a:ext cx="68040" cy="723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7" y="0"/>
                  </a:moveTo>
                  <a:lnTo>
                    <a:pt x="0" y="20"/>
                  </a:lnTo>
                  <a:lnTo>
                    <a:pt x="20" y="38"/>
                  </a:lnTo>
                  <a:lnTo>
                    <a:pt x="36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927760" y="2371680"/>
            <a:ext cx="294840" cy="255240"/>
            <a:chOff x="5927760" y="2371680"/>
            <a:chExt cx="294840" cy="255240"/>
          </a:xfrm>
        </p:grpSpPr>
        <p:sp>
          <p:nvSpPr>
            <p:cNvPr id="804" name=""/>
            <p:cNvSpPr/>
            <p:nvPr/>
          </p:nvSpPr>
          <p:spPr>
            <a:xfrm>
              <a:off x="5927760" y="2371680"/>
              <a:ext cx="67680" cy="69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7" y="0"/>
                  </a:moveTo>
                  <a:lnTo>
                    <a:pt x="0" y="20"/>
                  </a:lnTo>
                  <a:lnTo>
                    <a:pt x="20" y="36"/>
                  </a:lnTo>
                  <a:lnTo>
                    <a:pt x="36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04800" y="2434680"/>
              <a:ext cx="65520" cy="673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6" y="0"/>
                  </a:moveTo>
                  <a:lnTo>
                    <a:pt x="0" y="19"/>
                  </a:lnTo>
                  <a:lnTo>
                    <a:pt x="19" y="35"/>
                  </a:lnTo>
                  <a:lnTo>
                    <a:pt x="35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079680" y="2496240"/>
              <a:ext cx="67680" cy="69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6" y="0"/>
                  </a:moveTo>
                  <a:lnTo>
                    <a:pt x="0" y="20"/>
                  </a:lnTo>
                  <a:lnTo>
                    <a:pt x="20" y="36"/>
                  </a:lnTo>
                  <a:lnTo>
                    <a:pt x="36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57080" y="2558160"/>
              <a:ext cx="65520" cy="6876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6" y="0"/>
                  </a:moveTo>
                  <a:lnTo>
                    <a:pt x="0" y="20"/>
                  </a:lnTo>
                  <a:lnTo>
                    <a:pt x="19" y="36"/>
                  </a:lnTo>
                  <a:lnTo>
                    <a:pt x="35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5464080" y="2216160"/>
            <a:ext cx="46692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73720" y="2208240"/>
            <a:ext cx="62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537520" y="2265480"/>
            <a:ext cx="39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7721640" y="1130040"/>
            <a:ext cx="0" cy="378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7733880" y="4102200"/>
            <a:ext cx="165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7733880" y="1574640"/>
            <a:ext cx="165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733880" y="2463840"/>
            <a:ext cx="165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7733880" y="3251160"/>
            <a:ext cx="165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7520" y="4915080"/>
            <a:ext cx="740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552760" y="1128600"/>
            <a:ext cx="762120" cy="429120"/>
            <a:chOff x="2552760" y="1128600"/>
            <a:chExt cx="762120" cy="429120"/>
          </a:xfrm>
        </p:grpSpPr>
        <p:sp>
          <p:nvSpPr>
            <p:cNvPr id="818" name=""/>
            <p:cNvSpPr/>
            <p:nvPr/>
          </p:nvSpPr>
          <p:spPr>
            <a:xfrm>
              <a:off x="2552760" y="1155600"/>
              <a:ext cx="762120" cy="36828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39520" y="1128600"/>
              <a:ext cx="605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$$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4393440" y="6000840"/>
            <a:ext cx="409140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TTB costs compared to traditional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*Depends on the service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832880" y="2158920"/>
            <a:ext cx="12459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833240" y="1308240"/>
            <a:ext cx="123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t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835040" y="2984400"/>
            <a:ext cx="1230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t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2552760" y="2004840"/>
            <a:ext cx="762120" cy="429120"/>
            <a:chOff x="2552760" y="2004840"/>
            <a:chExt cx="762120" cy="429120"/>
          </a:xfrm>
        </p:grpSpPr>
        <p:sp>
          <p:nvSpPr>
            <p:cNvPr id="825" name=""/>
            <p:cNvSpPr/>
            <p:nvPr/>
          </p:nvSpPr>
          <p:spPr>
            <a:xfrm>
              <a:off x="2552760" y="2031840"/>
              <a:ext cx="762120" cy="36828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639160" y="2004840"/>
              <a:ext cx="49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$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565360" y="2792520"/>
            <a:ext cx="762120" cy="429120"/>
            <a:chOff x="2565360" y="2792520"/>
            <a:chExt cx="762120" cy="429120"/>
          </a:xfrm>
        </p:grpSpPr>
        <p:sp>
          <p:nvSpPr>
            <p:cNvPr id="828" name=""/>
            <p:cNvSpPr/>
            <p:nvPr/>
          </p:nvSpPr>
          <p:spPr>
            <a:xfrm>
              <a:off x="2565360" y="2819520"/>
              <a:ext cx="762120" cy="36828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652120" y="2792520"/>
              <a:ext cx="605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$$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2498760" y="3592440"/>
            <a:ext cx="860400" cy="429120"/>
            <a:chOff x="2498760" y="3592440"/>
            <a:chExt cx="860400" cy="429120"/>
          </a:xfrm>
        </p:grpSpPr>
        <p:sp>
          <p:nvSpPr>
            <p:cNvPr id="831" name=""/>
            <p:cNvSpPr/>
            <p:nvPr/>
          </p:nvSpPr>
          <p:spPr>
            <a:xfrm>
              <a:off x="2565360" y="3619440"/>
              <a:ext cx="762120" cy="36828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98760" y="3592440"/>
              <a:ext cx="860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$-$$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7112160" y="2057400"/>
            <a:ext cx="761760" cy="3682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749840" y="2057400"/>
            <a:ext cx="762120" cy="3682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02000" y="2057400"/>
            <a:ext cx="761760" cy="3682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90440" y="33012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5649d"/>
                </a:solidFill>
                <a:uFillTx/>
                <a:latin typeface="Arial Black"/>
              </a:rPr>
              <a:t>Cocktail Napkin Calculation</a:t>
            </a:r>
            <a:br>
              <a:rPr sz="1800"/>
            </a:b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Suppose Equipment Were Free…</a:t>
            </a:r>
            <a:br>
              <a:rPr sz="1800"/>
            </a:b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Suppose Infrastructure Were Free…</a:t>
            </a:r>
            <a:br>
              <a:rPr sz="1800"/>
            </a:b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Suppose Money Were Free…</a:t>
            </a:r>
            <a:br>
              <a:rPr sz="1800"/>
            </a:b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How Long Would it Take?</a:t>
            </a: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304920" y="5791320"/>
            <a:ext cx="9399240" cy="685800"/>
            <a:chOff x="304920" y="5791320"/>
            <a:chExt cx="9399240" cy="685800"/>
          </a:xfrm>
        </p:grpSpPr>
        <p:sp>
          <p:nvSpPr>
            <p:cNvPr id="838" name=""/>
            <p:cNvSpPr/>
            <p:nvPr/>
          </p:nvSpPr>
          <p:spPr>
            <a:xfrm>
              <a:off x="304920" y="5791320"/>
              <a:ext cx="8737560" cy="6858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9440" y="5823360"/>
              <a:ext cx="9324720" cy="6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bor per Subscrib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.5 Hou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                    29.2 Hou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196 Hou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ears to Convert Network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9.4 Yea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6.5 Yea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45 Yea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406440" y="2301840"/>
            <a:ext cx="882720" cy="977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0520" y="1973160"/>
            <a:ext cx="4838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225440" y="2568600"/>
            <a:ext cx="6305760" cy="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4051440" y="2635200"/>
            <a:ext cx="290520" cy="328320"/>
            <a:chOff x="4051440" y="2635200"/>
            <a:chExt cx="290520" cy="328320"/>
          </a:xfrm>
        </p:grpSpPr>
        <p:sp>
          <p:nvSpPr>
            <p:cNvPr id="844" name=""/>
            <p:cNvSpPr/>
            <p:nvPr/>
          </p:nvSpPr>
          <p:spPr>
            <a:xfrm>
              <a:off x="4062240" y="263520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051440" y="266688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749160" y="2813040"/>
            <a:ext cx="290520" cy="328320"/>
            <a:chOff x="749160" y="2813040"/>
            <a:chExt cx="290520" cy="328320"/>
          </a:xfrm>
        </p:grpSpPr>
        <p:sp>
          <p:nvSpPr>
            <p:cNvPr id="847" name=""/>
            <p:cNvSpPr/>
            <p:nvPr/>
          </p:nvSpPr>
          <p:spPr>
            <a:xfrm>
              <a:off x="759960" y="281304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49160" y="284472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2625480" y="3379680"/>
            <a:ext cx="519120" cy="361440"/>
            <a:chOff x="2625480" y="3379680"/>
            <a:chExt cx="519120" cy="361440"/>
          </a:xfrm>
        </p:grpSpPr>
        <p:sp>
          <p:nvSpPr>
            <p:cNvPr id="850" name=""/>
            <p:cNvSpPr/>
            <p:nvPr/>
          </p:nvSpPr>
          <p:spPr>
            <a:xfrm>
              <a:off x="2662200" y="3433680"/>
              <a:ext cx="455760" cy="299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25480" y="3379680"/>
              <a:ext cx="5191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06640" y="3710160"/>
            <a:ext cx="0" cy="12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16160" y="357840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35320" y="3578400"/>
            <a:ext cx="3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2370600" y="3738600"/>
            <a:ext cx="1065600" cy="537840"/>
            <a:chOff x="2370600" y="3738600"/>
            <a:chExt cx="1065600" cy="537840"/>
          </a:xfrm>
        </p:grpSpPr>
        <p:sp>
          <p:nvSpPr>
            <p:cNvPr id="856" name=""/>
            <p:cNvSpPr/>
            <p:nvPr/>
          </p:nvSpPr>
          <p:spPr>
            <a:xfrm rot="10800000">
              <a:off x="2904120" y="3743280"/>
              <a:ext cx="53208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rot="10800000">
              <a:off x="2370600" y="3738600"/>
              <a:ext cx="53280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3013200" y="4368960"/>
            <a:ext cx="1127160" cy="26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168720" y="4276800"/>
            <a:ext cx="1057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308400" y="4235400"/>
            <a:ext cx="88920" cy="8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 flipV="1">
            <a:off x="3352680" y="4273200"/>
            <a:ext cx="76320" cy="95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0800" y="3254400"/>
            <a:ext cx="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90800" y="2549520"/>
            <a:ext cx="0" cy="23328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1936800" y="2828880"/>
            <a:ext cx="556920" cy="361440"/>
            <a:chOff x="1936800" y="2828880"/>
            <a:chExt cx="556920" cy="361440"/>
          </a:xfrm>
        </p:grpSpPr>
        <p:sp>
          <p:nvSpPr>
            <p:cNvPr id="865" name=""/>
            <p:cNvSpPr/>
            <p:nvPr/>
          </p:nvSpPr>
          <p:spPr>
            <a:xfrm>
              <a:off x="1973160" y="2879640"/>
              <a:ext cx="520560" cy="300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36800" y="2828880"/>
              <a:ext cx="45036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2409120" y="2611440"/>
            <a:ext cx="481680" cy="336600"/>
            <a:chOff x="2409120" y="2611440"/>
            <a:chExt cx="481680" cy="336600"/>
          </a:xfrm>
        </p:grpSpPr>
        <p:sp>
          <p:nvSpPr>
            <p:cNvPr id="868" name=""/>
            <p:cNvSpPr/>
            <p:nvPr/>
          </p:nvSpPr>
          <p:spPr>
            <a:xfrm flipH="1" rot="10800000">
              <a:off x="2409120" y="2611440"/>
              <a:ext cx="48168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476440" y="2946600"/>
              <a:ext cx="208080" cy="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2409120" y="3103560"/>
            <a:ext cx="481680" cy="335880"/>
            <a:chOff x="2409120" y="3103560"/>
            <a:chExt cx="481680" cy="335880"/>
          </a:xfrm>
        </p:grpSpPr>
        <p:sp>
          <p:nvSpPr>
            <p:cNvPr id="871" name=""/>
            <p:cNvSpPr/>
            <p:nvPr/>
          </p:nvSpPr>
          <p:spPr>
            <a:xfrm flipH="1" flipV="1" rot="10800000">
              <a:off x="2409120" y="3103200"/>
              <a:ext cx="48168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76440" y="3104640"/>
              <a:ext cx="20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2620800" y="2784600"/>
            <a:ext cx="271440" cy="284040"/>
            <a:chOff x="2620800" y="2784600"/>
            <a:chExt cx="271440" cy="284040"/>
          </a:xfrm>
        </p:grpSpPr>
        <p:sp>
          <p:nvSpPr>
            <p:cNvPr id="874" name=""/>
            <p:cNvSpPr/>
            <p:nvPr/>
          </p:nvSpPr>
          <p:spPr>
            <a:xfrm>
              <a:off x="2620800" y="2784600"/>
              <a:ext cx="271440" cy="284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2658960" y="2808000"/>
              <a:ext cx="123840" cy="1810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2733480" y="2858760"/>
              <a:ext cx="123840" cy="1810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3187800" y="3625920"/>
            <a:ext cx="290520" cy="328320"/>
            <a:chOff x="3187800" y="3625920"/>
            <a:chExt cx="290520" cy="328320"/>
          </a:xfrm>
        </p:grpSpPr>
        <p:sp>
          <p:nvSpPr>
            <p:cNvPr id="878" name=""/>
            <p:cNvSpPr/>
            <p:nvPr/>
          </p:nvSpPr>
          <p:spPr>
            <a:xfrm>
              <a:off x="3198600" y="362592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87800" y="365760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946240" y="2774880"/>
            <a:ext cx="290520" cy="328320"/>
            <a:chOff x="2946240" y="2774880"/>
            <a:chExt cx="290520" cy="328320"/>
          </a:xfrm>
        </p:grpSpPr>
        <p:sp>
          <p:nvSpPr>
            <p:cNvPr id="881" name=""/>
            <p:cNvSpPr/>
            <p:nvPr/>
          </p:nvSpPr>
          <p:spPr>
            <a:xfrm>
              <a:off x="2957040" y="277488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946240" y="280656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2006640" y="3232080"/>
            <a:ext cx="290520" cy="328320"/>
            <a:chOff x="2006640" y="3232080"/>
            <a:chExt cx="290520" cy="328320"/>
          </a:xfrm>
        </p:grpSpPr>
        <p:sp>
          <p:nvSpPr>
            <p:cNvPr id="884" name=""/>
            <p:cNvSpPr/>
            <p:nvPr/>
          </p:nvSpPr>
          <p:spPr>
            <a:xfrm>
              <a:off x="2017440" y="323208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06640" y="326376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2867040" y="5200560"/>
            <a:ext cx="290520" cy="328320"/>
            <a:chOff x="2867040" y="5200560"/>
            <a:chExt cx="290520" cy="328320"/>
          </a:xfrm>
        </p:grpSpPr>
        <p:sp>
          <p:nvSpPr>
            <p:cNvPr id="887" name=""/>
            <p:cNvSpPr/>
            <p:nvPr/>
          </p:nvSpPr>
          <p:spPr>
            <a:xfrm>
              <a:off x="2877840" y="520056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67040" y="523224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4373640" y="2403360"/>
            <a:ext cx="271440" cy="284040"/>
            <a:chOff x="4373640" y="2403360"/>
            <a:chExt cx="271440" cy="284040"/>
          </a:xfrm>
        </p:grpSpPr>
        <p:sp>
          <p:nvSpPr>
            <p:cNvPr id="890" name=""/>
            <p:cNvSpPr/>
            <p:nvPr/>
          </p:nvSpPr>
          <p:spPr>
            <a:xfrm>
              <a:off x="4373640" y="2403360"/>
              <a:ext cx="271440" cy="284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411800" y="2426760"/>
              <a:ext cx="123840" cy="1810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486320" y="2477520"/>
              <a:ext cx="123840" cy="1810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4657680" y="3417840"/>
            <a:ext cx="1047960" cy="628920"/>
            <a:chOff x="4657680" y="3417840"/>
            <a:chExt cx="1047960" cy="628920"/>
          </a:xfrm>
        </p:grpSpPr>
        <p:sp>
          <p:nvSpPr>
            <p:cNvPr id="894" name=""/>
            <p:cNvSpPr/>
            <p:nvPr/>
          </p:nvSpPr>
          <p:spPr>
            <a:xfrm>
              <a:off x="4694400" y="3471480"/>
              <a:ext cx="966600" cy="53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57680" y="3417840"/>
              <a:ext cx="10479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NU /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SL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5299200" y="4368960"/>
            <a:ext cx="1127160" cy="26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54720" y="4276800"/>
            <a:ext cx="1057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94400" y="4235400"/>
            <a:ext cx="88920" cy="8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5638680" y="4273200"/>
            <a:ext cx="152640" cy="9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176800" y="2575080"/>
            <a:ext cx="0" cy="86832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5046840" y="2682720"/>
            <a:ext cx="271440" cy="284040"/>
            <a:chOff x="5046840" y="2682720"/>
            <a:chExt cx="271440" cy="284040"/>
          </a:xfrm>
        </p:grpSpPr>
        <p:sp>
          <p:nvSpPr>
            <p:cNvPr id="902" name=""/>
            <p:cNvSpPr/>
            <p:nvPr/>
          </p:nvSpPr>
          <p:spPr>
            <a:xfrm>
              <a:off x="5046840" y="2682720"/>
              <a:ext cx="271440" cy="284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5085000" y="2706120"/>
              <a:ext cx="123840" cy="1810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5159520" y="2756880"/>
              <a:ext cx="123840" cy="1810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5765760" y="3892680"/>
            <a:ext cx="290520" cy="328320"/>
            <a:chOff x="5765760" y="3892680"/>
            <a:chExt cx="290520" cy="328320"/>
          </a:xfrm>
        </p:grpSpPr>
        <p:sp>
          <p:nvSpPr>
            <p:cNvPr id="906" name=""/>
            <p:cNvSpPr/>
            <p:nvPr/>
          </p:nvSpPr>
          <p:spPr>
            <a:xfrm>
              <a:off x="5776560" y="389268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65760" y="392436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397480" y="2660760"/>
            <a:ext cx="290520" cy="328320"/>
            <a:chOff x="5397480" y="2660760"/>
            <a:chExt cx="290520" cy="328320"/>
          </a:xfrm>
        </p:grpSpPr>
        <p:sp>
          <p:nvSpPr>
            <p:cNvPr id="909" name=""/>
            <p:cNvSpPr/>
            <p:nvPr/>
          </p:nvSpPr>
          <p:spPr>
            <a:xfrm>
              <a:off x="5408280" y="266076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97480" y="269244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5165640" y="5200560"/>
            <a:ext cx="290520" cy="328320"/>
            <a:chOff x="5165640" y="5200560"/>
            <a:chExt cx="290520" cy="328320"/>
          </a:xfrm>
        </p:grpSpPr>
        <p:sp>
          <p:nvSpPr>
            <p:cNvPr id="912" name=""/>
            <p:cNvSpPr/>
            <p:nvPr/>
          </p:nvSpPr>
          <p:spPr>
            <a:xfrm>
              <a:off x="5176440" y="520056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165640" y="523224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7516800" y="2558880"/>
            <a:ext cx="12600" cy="2495880"/>
          </a:xfrm>
          <a:prstGeom prst="line">
            <a:avLst/>
          </a:prstGeom>
          <a:ln w="284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635960" y="4368960"/>
            <a:ext cx="1127160" cy="26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791480" y="4276800"/>
            <a:ext cx="1057320" cy="0"/>
          </a:xfrm>
          <a:prstGeom prst="line">
            <a:avLst/>
          </a:prstGeom>
          <a:ln w="2844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7975440" y="4273200"/>
            <a:ext cx="177840" cy="94284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7830360" y="4770000"/>
            <a:ext cx="1263960" cy="894960"/>
            <a:chOff x="7830360" y="4770000"/>
            <a:chExt cx="1263960" cy="894960"/>
          </a:xfrm>
        </p:grpSpPr>
        <p:grpSp>
          <p:nvGrpSpPr>
            <p:cNvPr id="919" name=""/>
            <p:cNvGrpSpPr/>
            <p:nvPr/>
          </p:nvGrpSpPr>
          <p:grpSpPr>
            <a:xfrm>
              <a:off x="8224920" y="4770000"/>
              <a:ext cx="869400" cy="894960"/>
              <a:chOff x="8224920" y="4770000"/>
              <a:chExt cx="869400" cy="894960"/>
            </a:xfrm>
          </p:grpSpPr>
          <p:sp>
            <p:nvSpPr>
              <p:cNvPr id="920" name=""/>
              <p:cNvSpPr/>
              <p:nvPr/>
            </p:nvSpPr>
            <p:spPr>
              <a:xfrm flipH="1">
                <a:off x="8380440" y="4985640"/>
                <a:ext cx="557280" cy="679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8745120" y="5342760"/>
                <a:ext cx="134640" cy="315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8682480" y="510660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8456760" y="5190120"/>
                <a:ext cx="198360" cy="253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558280" y="5186880"/>
                <a:ext cx="0" cy="25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8457120" y="5315040"/>
                <a:ext cx="198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"/>
              <p:cNvGrpSpPr/>
              <p:nvPr/>
            </p:nvGrpSpPr>
            <p:grpSpPr>
              <a:xfrm>
                <a:off x="8224920" y="4770000"/>
                <a:ext cx="869400" cy="312120"/>
                <a:chOff x="8224920" y="4770000"/>
                <a:chExt cx="869400" cy="312120"/>
              </a:xfrm>
            </p:grpSpPr>
            <p:sp>
              <p:nvSpPr>
                <p:cNvPr id="927" name=""/>
                <p:cNvSpPr/>
                <p:nvPr/>
              </p:nvSpPr>
              <p:spPr>
                <a:xfrm flipH="1" flipV="1">
                  <a:off x="8653680" y="4772520"/>
                  <a:ext cx="440640" cy="309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V="1">
                  <a:off x="8224920" y="4770000"/>
                  <a:ext cx="440640" cy="309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9" name=""/>
            <p:cNvGrpSpPr/>
            <p:nvPr/>
          </p:nvGrpSpPr>
          <p:grpSpPr>
            <a:xfrm>
              <a:off x="7830360" y="5178240"/>
              <a:ext cx="607320" cy="361440"/>
              <a:chOff x="7830360" y="5178240"/>
              <a:chExt cx="607320" cy="361440"/>
            </a:xfrm>
          </p:grpSpPr>
          <p:sp>
            <p:nvSpPr>
              <p:cNvPr id="930" name=""/>
              <p:cNvSpPr/>
              <p:nvPr/>
            </p:nvSpPr>
            <p:spPr>
              <a:xfrm>
                <a:off x="7866000" y="5229000"/>
                <a:ext cx="520560" cy="300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830360" y="5178240"/>
                <a:ext cx="60732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2" name=""/>
          <p:cNvGrpSpPr/>
          <p:nvPr/>
        </p:nvGrpSpPr>
        <p:grpSpPr>
          <a:xfrm>
            <a:off x="7370640" y="3483000"/>
            <a:ext cx="271440" cy="284040"/>
            <a:chOff x="7370640" y="3483000"/>
            <a:chExt cx="271440" cy="284040"/>
          </a:xfrm>
        </p:grpSpPr>
        <p:sp>
          <p:nvSpPr>
            <p:cNvPr id="933" name=""/>
            <p:cNvSpPr/>
            <p:nvPr/>
          </p:nvSpPr>
          <p:spPr>
            <a:xfrm>
              <a:off x="7370640" y="3483000"/>
              <a:ext cx="271440" cy="284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7408800" y="3506400"/>
              <a:ext cx="123840" cy="1810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483320" y="3557160"/>
              <a:ext cx="123840" cy="1810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7734240" y="4718160"/>
            <a:ext cx="290520" cy="328320"/>
            <a:chOff x="7734240" y="4718160"/>
            <a:chExt cx="290520" cy="328320"/>
          </a:xfrm>
        </p:grpSpPr>
        <p:sp>
          <p:nvSpPr>
            <p:cNvPr id="937" name=""/>
            <p:cNvSpPr/>
            <p:nvPr/>
          </p:nvSpPr>
          <p:spPr>
            <a:xfrm>
              <a:off x="7745040" y="471816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734240" y="474984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569360" y="3016080"/>
            <a:ext cx="290520" cy="328320"/>
            <a:chOff x="7569360" y="3016080"/>
            <a:chExt cx="290520" cy="328320"/>
          </a:xfrm>
        </p:grpSpPr>
        <p:sp>
          <p:nvSpPr>
            <p:cNvPr id="940" name=""/>
            <p:cNvSpPr/>
            <p:nvPr/>
          </p:nvSpPr>
          <p:spPr>
            <a:xfrm>
              <a:off x="7580160" y="301608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569360" y="304776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7670880" y="3854520"/>
            <a:ext cx="290520" cy="328320"/>
            <a:chOff x="7670880" y="3854520"/>
            <a:chExt cx="290520" cy="328320"/>
          </a:xfrm>
        </p:grpSpPr>
        <p:sp>
          <p:nvSpPr>
            <p:cNvPr id="943" name=""/>
            <p:cNvSpPr/>
            <p:nvPr/>
          </p:nvSpPr>
          <p:spPr>
            <a:xfrm>
              <a:off x="7681680" y="385452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670880" y="388620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7489800" y="5207040"/>
            <a:ext cx="290520" cy="328320"/>
            <a:chOff x="7489800" y="5207040"/>
            <a:chExt cx="290520" cy="328320"/>
          </a:xfrm>
        </p:grpSpPr>
        <p:sp>
          <p:nvSpPr>
            <p:cNvPr id="946" name=""/>
            <p:cNvSpPr/>
            <p:nvPr/>
          </p:nvSpPr>
          <p:spPr>
            <a:xfrm>
              <a:off x="7500600" y="520704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89800" y="523872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68160" y="2384280"/>
            <a:ext cx="584640" cy="361440"/>
            <a:chOff x="668160" y="2384280"/>
            <a:chExt cx="584640" cy="361440"/>
          </a:xfrm>
        </p:grpSpPr>
        <p:sp>
          <p:nvSpPr>
            <p:cNvPr id="949" name=""/>
            <p:cNvSpPr/>
            <p:nvPr/>
          </p:nvSpPr>
          <p:spPr>
            <a:xfrm>
              <a:off x="703440" y="2435040"/>
              <a:ext cx="520560" cy="300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8160" y="2384280"/>
              <a:ext cx="58464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4643640" y="3738600"/>
            <a:ext cx="1065600" cy="537840"/>
            <a:chOff x="4643640" y="3738600"/>
            <a:chExt cx="1065600" cy="537840"/>
          </a:xfrm>
        </p:grpSpPr>
        <p:sp>
          <p:nvSpPr>
            <p:cNvPr id="952" name=""/>
            <p:cNvSpPr/>
            <p:nvPr/>
          </p:nvSpPr>
          <p:spPr>
            <a:xfrm rot="10800000">
              <a:off x="5177160" y="3743280"/>
              <a:ext cx="53208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rot="10800000">
              <a:off x="4643640" y="3738600"/>
              <a:ext cx="53280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5192640" y="4052880"/>
            <a:ext cx="0" cy="81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4654080" y="4264200"/>
            <a:ext cx="25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4368960" y="3498840"/>
            <a:ext cx="290520" cy="328320"/>
            <a:chOff x="4368960" y="3498840"/>
            <a:chExt cx="290520" cy="328320"/>
          </a:xfrm>
        </p:grpSpPr>
        <p:sp>
          <p:nvSpPr>
            <p:cNvPr id="957" name=""/>
            <p:cNvSpPr/>
            <p:nvPr/>
          </p:nvSpPr>
          <p:spPr>
            <a:xfrm>
              <a:off x="4379760" y="3498840"/>
              <a:ext cx="279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368960" y="3530520"/>
              <a:ext cx="279360" cy="279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6993360" y="3738240"/>
            <a:ext cx="1065600" cy="586080"/>
            <a:chOff x="6993360" y="3738240"/>
            <a:chExt cx="1065600" cy="586080"/>
          </a:xfrm>
        </p:grpSpPr>
        <p:grpSp>
          <p:nvGrpSpPr>
            <p:cNvPr id="960" name=""/>
            <p:cNvGrpSpPr/>
            <p:nvPr/>
          </p:nvGrpSpPr>
          <p:grpSpPr>
            <a:xfrm>
              <a:off x="6993360" y="3738240"/>
              <a:ext cx="1065600" cy="537840"/>
              <a:chOff x="6993360" y="3738240"/>
              <a:chExt cx="1065600" cy="537840"/>
            </a:xfrm>
          </p:grpSpPr>
          <p:sp>
            <p:nvSpPr>
              <p:cNvPr id="961" name=""/>
              <p:cNvSpPr/>
              <p:nvPr/>
            </p:nvSpPr>
            <p:spPr>
              <a:xfrm rot="10800000">
                <a:off x="7526880" y="3742920"/>
                <a:ext cx="53208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 rot="10800000">
                <a:off x="6993360" y="3738240"/>
                <a:ext cx="53280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7931160" y="4235400"/>
              <a:ext cx="88920" cy="889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86920" y="3971880"/>
              <a:ext cx="88920" cy="889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3168720" y="4770000"/>
            <a:ext cx="1264680" cy="894960"/>
            <a:chOff x="3168720" y="4770000"/>
            <a:chExt cx="1264680" cy="894960"/>
          </a:xfrm>
        </p:grpSpPr>
        <p:grpSp>
          <p:nvGrpSpPr>
            <p:cNvPr id="966" name=""/>
            <p:cNvGrpSpPr/>
            <p:nvPr/>
          </p:nvGrpSpPr>
          <p:grpSpPr>
            <a:xfrm>
              <a:off x="3564000" y="4770000"/>
              <a:ext cx="869400" cy="894960"/>
              <a:chOff x="3564000" y="4770000"/>
              <a:chExt cx="869400" cy="894960"/>
            </a:xfrm>
          </p:grpSpPr>
          <p:sp>
            <p:nvSpPr>
              <p:cNvPr id="967" name=""/>
              <p:cNvSpPr/>
              <p:nvPr/>
            </p:nvSpPr>
            <p:spPr>
              <a:xfrm flipH="1">
                <a:off x="3719520" y="4985640"/>
                <a:ext cx="557280" cy="679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4084200" y="5342760"/>
                <a:ext cx="134640" cy="315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4021560" y="510660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3795840" y="5190120"/>
                <a:ext cx="198360" cy="253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897360" y="5186880"/>
                <a:ext cx="0" cy="25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3796200" y="5315040"/>
                <a:ext cx="198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3564000" y="4770000"/>
                <a:ext cx="869400" cy="312120"/>
                <a:chOff x="3564000" y="4770000"/>
                <a:chExt cx="869400" cy="312120"/>
              </a:xfrm>
            </p:grpSpPr>
            <p:sp>
              <p:nvSpPr>
                <p:cNvPr id="974" name=""/>
                <p:cNvSpPr/>
                <p:nvPr/>
              </p:nvSpPr>
              <p:spPr>
                <a:xfrm flipH="1" flipV="1">
                  <a:off x="3992760" y="4772520"/>
                  <a:ext cx="440640" cy="309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3564000" y="4770000"/>
                  <a:ext cx="440640" cy="309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6" name=""/>
            <p:cNvGrpSpPr/>
            <p:nvPr/>
          </p:nvGrpSpPr>
          <p:grpSpPr>
            <a:xfrm>
              <a:off x="3168720" y="5178240"/>
              <a:ext cx="556920" cy="361440"/>
              <a:chOff x="3168720" y="5178240"/>
              <a:chExt cx="556920" cy="361440"/>
            </a:xfrm>
          </p:grpSpPr>
          <p:sp>
            <p:nvSpPr>
              <p:cNvPr id="977" name=""/>
              <p:cNvSpPr/>
              <p:nvPr/>
            </p:nvSpPr>
            <p:spPr>
              <a:xfrm>
                <a:off x="3205080" y="5229000"/>
                <a:ext cx="520560" cy="300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168720" y="5178240"/>
                <a:ext cx="45036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"/>
          <p:cNvGrpSpPr/>
          <p:nvPr/>
        </p:nvGrpSpPr>
        <p:grpSpPr>
          <a:xfrm>
            <a:off x="5478840" y="4770000"/>
            <a:ext cx="1264680" cy="894960"/>
            <a:chOff x="5478840" y="4770000"/>
            <a:chExt cx="1264680" cy="894960"/>
          </a:xfrm>
        </p:grpSpPr>
        <p:grpSp>
          <p:nvGrpSpPr>
            <p:cNvPr id="980" name=""/>
            <p:cNvGrpSpPr/>
            <p:nvPr/>
          </p:nvGrpSpPr>
          <p:grpSpPr>
            <a:xfrm>
              <a:off x="5874120" y="4770000"/>
              <a:ext cx="869400" cy="894960"/>
              <a:chOff x="5874120" y="4770000"/>
              <a:chExt cx="869400" cy="894960"/>
            </a:xfrm>
          </p:grpSpPr>
          <p:sp>
            <p:nvSpPr>
              <p:cNvPr id="981" name=""/>
              <p:cNvSpPr/>
              <p:nvPr/>
            </p:nvSpPr>
            <p:spPr>
              <a:xfrm flipH="1">
                <a:off x="6029640" y="4985640"/>
                <a:ext cx="557280" cy="679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6394320" y="5342760"/>
                <a:ext cx="134640" cy="315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6331680" y="510660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6105960" y="5190120"/>
                <a:ext cx="198360" cy="253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207480" y="5186880"/>
                <a:ext cx="0" cy="259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6106320" y="5315040"/>
                <a:ext cx="198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5874120" y="4770000"/>
                <a:ext cx="869400" cy="312120"/>
                <a:chOff x="5874120" y="4770000"/>
                <a:chExt cx="869400" cy="312120"/>
              </a:xfrm>
            </p:grpSpPr>
            <p:sp>
              <p:nvSpPr>
                <p:cNvPr id="988" name=""/>
                <p:cNvSpPr/>
                <p:nvPr/>
              </p:nvSpPr>
              <p:spPr>
                <a:xfrm flipH="1" flipV="1">
                  <a:off x="6302880" y="4772520"/>
                  <a:ext cx="440640" cy="309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V="1">
                  <a:off x="5874120" y="4770000"/>
                  <a:ext cx="440640" cy="309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0" name=""/>
            <p:cNvGrpSpPr/>
            <p:nvPr/>
          </p:nvGrpSpPr>
          <p:grpSpPr>
            <a:xfrm>
              <a:off x="5478840" y="5178240"/>
              <a:ext cx="556920" cy="361440"/>
              <a:chOff x="5478840" y="5178240"/>
              <a:chExt cx="556920" cy="361440"/>
            </a:xfrm>
          </p:grpSpPr>
          <p:sp>
            <p:nvSpPr>
              <p:cNvPr id="991" name=""/>
              <p:cNvSpPr/>
              <p:nvPr/>
            </p:nvSpPr>
            <p:spPr>
              <a:xfrm>
                <a:off x="5515200" y="5229000"/>
                <a:ext cx="520560" cy="300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78840" y="5178240"/>
                <a:ext cx="45036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3" name=""/>
          <p:cNvGrpSpPr/>
          <p:nvPr/>
        </p:nvGrpSpPr>
        <p:grpSpPr>
          <a:xfrm>
            <a:off x="4643640" y="2824200"/>
            <a:ext cx="1065600" cy="537840"/>
            <a:chOff x="4643640" y="2824200"/>
            <a:chExt cx="1065600" cy="537840"/>
          </a:xfrm>
        </p:grpSpPr>
        <p:sp>
          <p:nvSpPr>
            <p:cNvPr id="994" name=""/>
            <p:cNvSpPr/>
            <p:nvPr/>
          </p:nvSpPr>
          <p:spPr>
            <a:xfrm rot="10800000">
              <a:off x="5177160" y="2828880"/>
              <a:ext cx="53208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 rot="10800000">
              <a:off x="4643640" y="2824200"/>
              <a:ext cx="53280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5137200" y="3057480"/>
            <a:ext cx="88920" cy="88920"/>
          </a:xfrm>
          <a:prstGeom prst="rect">
            <a:avLst/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-253800" y="3638520"/>
            <a:ext cx="2576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odel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Feede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 Lateral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 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 Distribution/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6) 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821480" y="438120"/>
            <a:ext cx="4608000" cy="17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American Tel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% Aerial / 50% Bur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-service plat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 performed by 20% of total Telco work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00%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49520" y="2076480"/>
            <a:ext cx="52372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TCab                                         FTTC                                              FT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3429000" y="2536920"/>
            <a:ext cx="2362320" cy="236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6a"/>
                </a:solidFill>
                <a:latin typeface="Arial Black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876920" y="4229280"/>
            <a:ext cx="1143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STM-1c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PT-to-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5638680" y="2243160"/>
            <a:ext cx="2416320" cy="13129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5638680" y="2854440"/>
            <a:ext cx="2297160" cy="777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5634000" y="3462120"/>
            <a:ext cx="2303640" cy="245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634000" y="3780000"/>
            <a:ext cx="2367000" cy="228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614920" y="3855960"/>
            <a:ext cx="2440080" cy="7254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629320" y="3932280"/>
            <a:ext cx="2413080" cy="1220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4746600" y="3554280"/>
            <a:ext cx="8920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647960" y="3630600"/>
            <a:ext cx="99036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4746600" y="3706920"/>
            <a:ext cx="8920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4746600" y="3782880"/>
            <a:ext cx="8920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4647960" y="3859200"/>
            <a:ext cx="99036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4746600" y="3935520"/>
            <a:ext cx="89208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 flipV="1">
            <a:off x="3124080" y="1449000"/>
            <a:ext cx="1300320" cy="1166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 flipV="1">
            <a:off x="3657600" y="1372680"/>
            <a:ext cx="838080" cy="1257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 flipV="1">
            <a:off x="4267080" y="1296720"/>
            <a:ext cx="300240" cy="1314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4643280" y="1296720"/>
            <a:ext cx="233640" cy="1314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4721400" y="1449360"/>
            <a:ext cx="688680" cy="11714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4789440" y="1449000"/>
            <a:ext cx="1230480" cy="1179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417920" y="2614680"/>
            <a:ext cx="0" cy="869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494240" y="2612880"/>
            <a:ext cx="0" cy="9669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570560" y="2614680"/>
            <a:ext cx="0" cy="869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646520" y="2614680"/>
            <a:ext cx="0" cy="869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722840" y="2612880"/>
            <a:ext cx="0" cy="9669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99160" y="2614680"/>
            <a:ext cx="0" cy="869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 flipV="1">
            <a:off x="3263760" y="2371680"/>
            <a:ext cx="1274040" cy="128988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2361600" y="2057400"/>
            <a:ext cx="1066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6a"/>
                </a:solidFill>
                <a:latin typeface="Arial Black"/>
              </a:rPr>
              <a:t>STM-1c T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258920" y="2295360"/>
            <a:ext cx="2246400" cy="1260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 flipV="1">
            <a:off x="1207800" y="2827080"/>
            <a:ext cx="2297160" cy="804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 flipV="1">
            <a:off x="1271520" y="3449160"/>
            <a:ext cx="2238480" cy="2588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1247760" y="3780000"/>
            <a:ext cx="2262240" cy="2426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1284120" y="3855960"/>
            <a:ext cx="2244960" cy="660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1179000" y="3932280"/>
            <a:ext cx="2335320" cy="12081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3505320" y="3554280"/>
            <a:ext cx="990000" cy="380880"/>
            <a:chOff x="3505320" y="3554280"/>
            <a:chExt cx="990000" cy="380880"/>
          </a:xfrm>
        </p:grpSpPr>
        <p:sp>
          <p:nvSpPr>
            <p:cNvPr id="1035" name=""/>
            <p:cNvSpPr/>
            <p:nvPr/>
          </p:nvSpPr>
          <p:spPr>
            <a:xfrm>
              <a:off x="3505320" y="3554280"/>
              <a:ext cx="89136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505320" y="3630240"/>
              <a:ext cx="9900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505320" y="3706560"/>
              <a:ext cx="89136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505320" y="3782880"/>
              <a:ext cx="89136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505320" y="3858840"/>
              <a:ext cx="9900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505320" y="3935160"/>
              <a:ext cx="89136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380880" y="2152800"/>
            <a:ext cx="761760" cy="465120"/>
            <a:chOff x="380880" y="2152800"/>
            <a:chExt cx="761760" cy="465120"/>
          </a:xfrm>
        </p:grpSpPr>
        <p:sp>
          <p:nvSpPr>
            <p:cNvPr id="1042" name=""/>
            <p:cNvSpPr/>
            <p:nvPr/>
          </p:nvSpPr>
          <p:spPr>
            <a:xfrm flipH="1">
              <a:off x="380880" y="238932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685440" y="21607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532800" y="215280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80880" y="2685960"/>
            <a:ext cx="761760" cy="465120"/>
            <a:chOff x="380880" y="2685960"/>
            <a:chExt cx="761760" cy="465120"/>
          </a:xfrm>
        </p:grpSpPr>
        <p:sp>
          <p:nvSpPr>
            <p:cNvPr id="1046" name=""/>
            <p:cNvSpPr/>
            <p:nvPr/>
          </p:nvSpPr>
          <p:spPr>
            <a:xfrm flipH="1">
              <a:off x="380880" y="292248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85440" y="2693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532800" y="26859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380880" y="3227400"/>
            <a:ext cx="761760" cy="465120"/>
            <a:chOff x="380880" y="3227400"/>
            <a:chExt cx="761760" cy="465120"/>
          </a:xfrm>
        </p:grpSpPr>
        <p:sp>
          <p:nvSpPr>
            <p:cNvPr id="1050" name=""/>
            <p:cNvSpPr/>
            <p:nvPr/>
          </p:nvSpPr>
          <p:spPr>
            <a:xfrm flipH="1">
              <a:off x="380880" y="346392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685440" y="32353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532800" y="322740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380880" y="3760920"/>
            <a:ext cx="761760" cy="465120"/>
            <a:chOff x="380880" y="3760920"/>
            <a:chExt cx="761760" cy="465120"/>
          </a:xfrm>
        </p:grpSpPr>
        <p:sp>
          <p:nvSpPr>
            <p:cNvPr id="1054" name=""/>
            <p:cNvSpPr/>
            <p:nvPr/>
          </p:nvSpPr>
          <p:spPr>
            <a:xfrm flipH="1">
              <a:off x="380880" y="399744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685440" y="37688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532800" y="37609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380880" y="4286160"/>
            <a:ext cx="761760" cy="465120"/>
            <a:chOff x="380880" y="4286160"/>
            <a:chExt cx="761760" cy="465120"/>
          </a:xfrm>
        </p:grpSpPr>
        <p:sp>
          <p:nvSpPr>
            <p:cNvPr id="1058" name=""/>
            <p:cNvSpPr/>
            <p:nvPr/>
          </p:nvSpPr>
          <p:spPr>
            <a:xfrm flipH="1">
              <a:off x="380880" y="452268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685440" y="42940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532800" y="42861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80880" y="4819680"/>
            <a:ext cx="761760" cy="465120"/>
            <a:chOff x="380880" y="4819680"/>
            <a:chExt cx="761760" cy="465120"/>
          </a:xfrm>
        </p:grpSpPr>
        <p:sp>
          <p:nvSpPr>
            <p:cNvPr id="1062" name=""/>
            <p:cNvSpPr/>
            <p:nvPr/>
          </p:nvSpPr>
          <p:spPr>
            <a:xfrm flipH="1">
              <a:off x="380880" y="505620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85440" y="48276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532800" y="481968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5" name=""/>
          <p:cNvSpPr/>
          <p:nvPr/>
        </p:nvSpPr>
        <p:spPr>
          <a:xfrm flipH="1">
            <a:off x="3124080" y="4776840"/>
            <a:ext cx="1300320" cy="1166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3657600" y="4762440"/>
            <a:ext cx="838080" cy="1257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4267080" y="4781520"/>
            <a:ext cx="300240" cy="1314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643280" y="4781520"/>
            <a:ext cx="285840" cy="1182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721400" y="4772160"/>
            <a:ext cx="780840" cy="11444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789440" y="4764240"/>
            <a:ext cx="1204920" cy="1074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4419720" y="3811680"/>
            <a:ext cx="380880" cy="966240"/>
            <a:chOff x="4419720" y="3811680"/>
            <a:chExt cx="380880" cy="966240"/>
          </a:xfrm>
        </p:grpSpPr>
        <p:sp>
          <p:nvSpPr>
            <p:cNvPr id="1072" name=""/>
            <p:cNvSpPr/>
            <p:nvPr/>
          </p:nvSpPr>
          <p:spPr>
            <a:xfrm flipV="1">
              <a:off x="4419720" y="3907440"/>
              <a:ext cx="0" cy="8701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4495680" y="3811680"/>
              <a:ext cx="0" cy="966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572000" y="3907440"/>
              <a:ext cx="0" cy="8701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648320" y="3907440"/>
              <a:ext cx="0" cy="8701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4724280" y="3811680"/>
              <a:ext cx="0" cy="966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800600" y="3907440"/>
              <a:ext cx="0" cy="8701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2971440" y="5803920"/>
            <a:ext cx="609480" cy="762120"/>
            <a:chOff x="2971440" y="5803920"/>
            <a:chExt cx="609480" cy="762120"/>
          </a:xfrm>
        </p:grpSpPr>
        <p:sp>
          <p:nvSpPr>
            <p:cNvPr id="1079" name=""/>
            <p:cNvSpPr/>
            <p:nvPr/>
          </p:nvSpPr>
          <p:spPr>
            <a:xfrm flipV="1">
              <a:off x="3465360" y="6108840"/>
              <a:ext cx="0" cy="457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3070800" y="5803920"/>
              <a:ext cx="45684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2971080" y="62611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3504960" y="5803920"/>
            <a:ext cx="609480" cy="762120"/>
            <a:chOff x="3504960" y="5803920"/>
            <a:chExt cx="609480" cy="762120"/>
          </a:xfrm>
        </p:grpSpPr>
        <p:sp>
          <p:nvSpPr>
            <p:cNvPr id="1083" name=""/>
            <p:cNvSpPr/>
            <p:nvPr/>
          </p:nvSpPr>
          <p:spPr>
            <a:xfrm flipV="1">
              <a:off x="3998880" y="6108840"/>
              <a:ext cx="0" cy="457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3604320" y="5803920"/>
              <a:ext cx="45684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3504600" y="62611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4038480" y="5803920"/>
            <a:ext cx="609840" cy="762120"/>
            <a:chOff x="4038480" y="5803920"/>
            <a:chExt cx="609840" cy="762120"/>
          </a:xfrm>
        </p:grpSpPr>
        <p:sp>
          <p:nvSpPr>
            <p:cNvPr id="1087" name=""/>
            <p:cNvSpPr/>
            <p:nvPr/>
          </p:nvSpPr>
          <p:spPr>
            <a:xfrm flipV="1">
              <a:off x="4532400" y="6108840"/>
              <a:ext cx="0" cy="457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413856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4038480" y="6261120"/>
              <a:ext cx="60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4571640" y="5803920"/>
            <a:ext cx="609480" cy="762120"/>
            <a:chOff x="4571640" y="5803920"/>
            <a:chExt cx="609480" cy="762120"/>
          </a:xfrm>
        </p:grpSpPr>
        <p:sp>
          <p:nvSpPr>
            <p:cNvPr id="1091" name=""/>
            <p:cNvSpPr/>
            <p:nvPr/>
          </p:nvSpPr>
          <p:spPr>
            <a:xfrm flipV="1">
              <a:off x="5065560" y="6108840"/>
              <a:ext cx="0" cy="457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671000" y="5803920"/>
              <a:ext cx="45684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4571280" y="62611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5105160" y="5803920"/>
            <a:ext cx="609480" cy="762120"/>
            <a:chOff x="5105160" y="5803920"/>
            <a:chExt cx="609480" cy="762120"/>
          </a:xfrm>
        </p:grpSpPr>
        <p:sp>
          <p:nvSpPr>
            <p:cNvPr id="1095" name=""/>
            <p:cNvSpPr/>
            <p:nvPr/>
          </p:nvSpPr>
          <p:spPr>
            <a:xfrm flipV="1">
              <a:off x="5599080" y="6108840"/>
              <a:ext cx="0" cy="457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204520" y="5803920"/>
              <a:ext cx="45684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5104800" y="62611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638680" y="5803920"/>
            <a:ext cx="609840" cy="762120"/>
            <a:chOff x="5638680" y="5803920"/>
            <a:chExt cx="609840" cy="762120"/>
          </a:xfrm>
        </p:grpSpPr>
        <p:sp>
          <p:nvSpPr>
            <p:cNvPr id="1099" name=""/>
            <p:cNvSpPr/>
            <p:nvPr/>
          </p:nvSpPr>
          <p:spPr>
            <a:xfrm flipV="1">
              <a:off x="6132600" y="6108840"/>
              <a:ext cx="0" cy="4572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573876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5638680" y="6261120"/>
              <a:ext cx="60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 flipV="1">
            <a:off x="338940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895480" y="83808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392256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3428280" y="8380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445608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3961800" y="8380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498960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495680" y="83808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552276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5028480" y="8380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605628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5562000" y="8380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299556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352908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406224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59576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512928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566244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3504960" y="4006800"/>
            <a:ext cx="21272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3505320" y="4087800"/>
            <a:ext cx="213336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504960" y="3483000"/>
            <a:ext cx="21366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3505320" y="3406680"/>
            <a:ext cx="213336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81600" y="2625840"/>
            <a:ext cx="0" cy="2136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52880" y="2625840"/>
            <a:ext cx="0" cy="21366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338720" y="2619360"/>
            <a:ext cx="0" cy="21369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257720" y="2619360"/>
            <a:ext cx="0" cy="21369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638320" y="1763640"/>
            <a:ext cx="2266920" cy="17114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5624640" y="1106640"/>
            <a:ext cx="2371680" cy="22921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5624640" y="3998520"/>
            <a:ext cx="2365200" cy="17161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 flipV="1">
            <a:off x="5633640" y="4079520"/>
            <a:ext cx="2306520" cy="21114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305000" y="1782720"/>
            <a:ext cx="2200320" cy="1692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266840" y="1220760"/>
            <a:ext cx="2238480" cy="21826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1266840" y="4008240"/>
            <a:ext cx="2238480" cy="16650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1266840" y="4084560"/>
            <a:ext cx="2252520" cy="21146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4884840" y="1471680"/>
            <a:ext cx="1627200" cy="11476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4941720" y="1511280"/>
            <a:ext cx="2119320" cy="1122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2631960" y="1536480"/>
            <a:ext cx="1704960" cy="1082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 flipV="1">
            <a:off x="2030400" y="1498680"/>
            <a:ext cx="2216160" cy="11304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879800" y="4764240"/>
            <a:ext cx="1697040" cy="1082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956120" y="4759200"/>
            <a:ext cx="2170080" cy="11019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2706840" y="4759200"/>
            <a:ext cx="1630080" cy="10969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2169720" y="4745160"/>
            <a:ext cx="2081160" cy="10857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2438280" y="5791320"/>
            <a:ext cx="609840" cy="761040"/>
            <a:chOff x="2438280" y="5791320"/>
            <a:chExt cx="609840" cy="761040"/>
          </a:xfrm>
        </p:grpSpPr>
        <p:sp>
          <p:nvSpPr>
            <p:cNvPr id="1145" name=""/>
            <p:cNvSpPr/>
            <p:nvPr/>
          </p:nvSpPr>
          <p:spPr>
            <a:xfrm flipV="1">
              <a:off x="2932200" y="6095520"/>
              <a:ext cx="0" cy="4568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2538360" y="5791320"/>
              <a:ext cx="457200" cy="456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438280" y="6248160"/>
              <a:ext cx="60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1904760" y="5791320"/>
            <a:ext cx="609480" cy="761040"/>
            <a:chOff x="1904760" y="5791320"/>
            <a:chExt cx="609480" cy="761040"/>
          </a:xfrm>
        </p:grpSpPr>
        <p:sp>
          <p:nvSpPr>
            <p:cNvPr id="1149" name=""/>
            <p:cNvSpPr/>
            <p:nvPr/>
          </p:nvSpPr>
          <p:spPr>
            <a:xfrm flipV="1">
              <a:off x="2398680" y="6095520"/>
              <a:ext cx="0" cy="4568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2004120" y="5791320"/>
              <a:ext cx="456840" cy="456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1904400" y="62481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6171840" y="5791320"/>
            <a:ext cx="609480" cy="761040"/>
            <a:chOff x="6171840" y="5791320"/>
            <a:chExt cx="609480" cy="761040"/>
          </a:xfrm>
        </p:grpSpPr>
        <p:sp>
          <p:nvSpPr>
            <p:cNvPr id="1153" name=""/>
            <p:cNvSpPr/>
            <p:nvPr/>
          </p:nvSpPr>
          <p:spPr>
            <a:xfrm flipV="1">
              <a:off x="6665760" y="6095520"/>
              <a:ext cx="0" cy="4568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6271200" y="5791320"/>
              <a:ext cx="456840" cy="456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171480" y="62481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6705360" y="5791320"/>
            <a:ext cx="609480" cy="761040"/>
            <a:chOff x="6705360" y="5791320"/>
            <a:chExt cx="609480" cy="761040"/>
          </a:xfrm>
        </p:grpSpPr>
        <p:sp>
          <p:nvSpPr>
            <p:cNvPr id="1157" name=""/>
            <p:cNvSpPr/>
            <p:nvPr/>
          </p:nvSpPr>
          <p:spPr>
            <a:xfrm flipV="1">
              <a:off x="7199280" y="6095520"/>
              <a:ext cx="0" cy="4568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6804720" y="5791320"/>
              <a:ext cx="456840" cy="456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705000" y="62481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380880" y="5334120"/>
            <a:ext cx="761760" cy="465120"/>
            <a:chOff x="380880" y="5334120"/>
            <a:chExt cx="761760" cy="465120"/>
          </a:xfrm>
        </p:grpSpPr>
        <p:sp>
          <p:nvSpPr>
            <p:cNvPr id="1161" name=""/>
            <p:cNvSpPr/>
            <p:nvPr/>
          </p:nvSpPr>
          <p:spPr>
            <a:xfrm flipH="1">
              <a:off x="380880" y="557064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685440" y="53420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532800" y="53341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380880" y="5867280"/>
            <a:ext cx="761760" cy="465120"/>
            <a:chOff x="380880" y="5867280"/>
            <a:chExt cx="761760" cy="465120"/>
          </a:xfrm>
        </p:grpSpPr>
        <p:sp>
          <p:nvSpPr>
            <p:cNvPr id="1165" name=""/>
            <p:cNvSpPr/>
            <p:nvPr/>
          </p:nvSpPr>
          <p:spPr>
            <a:xfrm flipH="1">
              <a:off x="380880" y="610380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685440" y="58752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532800" y="586728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80880" y="1600200"/>
            <a:ext cx="761760" cy="465120"/>
            <a:chOff x="380880" y="1600200"/>
            <a:chExt cx="761760" cy="465120"/>
          </a:xfrm>
        </p:grpSpPr>
        <p:sp>
          <p:nvSpPr>
            <p:cNvPr id="1169" name=""/>
            <p:cNvSpPr/>
            <p:nvPr/>
          </p:nvSpPr>
          <p:spPr>
            <a:xfrm flipH="1">
              <a:off x="380880" y="183672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685440" y="16081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32800" y="160020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380880" y="1066680"/>
            <a:ext cx="761760" cy="465120"/>
            <a:chOff x="380880" y="1066680"/>
            <a:chExt cx="761760" cy="465120"/>
          </a:xfrm>
        </p:grpSpPr>
        <p:sp>
          <p:nvSpPr>
            <p:cNvPr id="1173" name=""/>
            <p:cNvSpPr/>
            <p:nvPr/>
          </p:nvSpPr>
          <p:spPr>
            <a:xfrm flipH="1">
              <a:off x="380880" y="130320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685440" y="10746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532800" y="106668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7848720" y="2152800"/>
            <a:ext cx="990360" cy="465120"/>
            <a:chOff x="7848720" y="2152800"/>
            <a:chExt cx="990360" cy="465120"/>
          </a:xfrm>
        </p:grpSpPr>
        <p:sp>
          <p:nvSpPr>
            <p:cNvPr id="1177" name=""/>
            <p:cNvSpPr/>
            <p:nvPr/>
          </p:nvSpPr>
          <p:spPr>
            <a:xfrm>
              <a:off x="8153280" y="238932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848720" y="21607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229600" y="215280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7848720" y="2685960"/>
            <a:ext cx="990360" cy="465120"/>
            <a:chOff x="7848720" y="2685960"/>
            <a:chExt cx="990360" cy="465120"/>
          </a:xfrm>
        </p:grpSpPr>
        <p:sp>
          <p:nvSpPr>
            <p:cNvPr id="1181" name=""/>
            <p:cNvSpPr/>
            <p:nvPr/>
          </p:nvSpPr>
          <p:spPr>
            <a:xfrm>
              <a:off x="8153280" y="292248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848720" y="2693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229600" y="26859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7848720" y="3227400"/>
            <a:ext cx="990360" cy="465120"/>
            <a:chOff x="7848720" y="3227400"/>
            <a:chExt cx="990360" cy="465120"/>
          </a:xfrm>
        </p:grpSpPr>
        <p:sp>
          <p:nvSpPr>
            <p:cNvPr id="1185" name=""/>
            <p:cNvSpPr/>
            <p:nvPr/>
          </p:nvSpPr>
          <p:spPr>
            <a:xfrm>
              <a:off x="8153280" y="346392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848720" y="32353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229600" y="322740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7848720" y="3760920"/>
            <a:ext cx="990360" cy="465120"/>
            <a:chOff x="7848720" y="3760920"/>
            <a:chExt cx="990360" cy="465120"/>
          </a:xfrm>
        </p:grpSpPr>
        <p:sp>
          <p:nvSpPr>
            <p:cNvPr id="1189" name=""/>
            <p:cNvSpPr/>
            <p:nvPr/>
          </p:nvSpPr>
          <p:spPr>
            <a:xfrm>
              <a:off x="8153280" y="399744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848720" y="37688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229600" y="37609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7848720" y="4286160"/>
            <a:ext cx="990360" cy="465120"/>
            <a:chOff x="7848720" y="4286160"/>
            <a:chExt cx="990360" cy="465120"/>
          </a:xfrm>
        </p:grpSpPr>
        <p:sp>
          <p:nvSpPr>
            <p:cNvPr id="1193" name=""/>
            <p:cNvSpPr/>
            <p:nvPr/>
          </p:nvSpPr>
          <p:spPr>
            <a:xfrm>
              <a:off x="8153280" y="452268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848720" y="42940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229600" y="428616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7848720" y="4819680"/>
            <a:ext cx="990360" cy="465120"/>
            <a:chOff x="7848720" y="4819680"/>
            <a:chExt cx="990360" cy="465120"/>
          </a:xfrm>
        </p:grpSpPr>
        <p:sp>
          <p:nvSpPr>
            <p:cNvPr id="1197" name=""/>
            <p:cNvSpPr/>
            <p:nvPr/>
          </p:nvSpPr>
          <p:spPr>
            <a:xfrm>
              <a:off x="8153280" y="505620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848720" y="48276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29600" y="481968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7848720" y="5334120"/>
            <a:ext cx="990360" cy="465120"/>
            <a:chOff x="7848720" y="5334120"/>
            <a:chExt cx="990360" cy="465120"/>
          </a:xfrm>
        </p:grpSpPr>
        <p:sp>
          <p:nvSpPr>
            <p:cNvPr id="1201" name=""/>
            <p:cNvSpPr/>
            <p:nvPr/>
          </p:nvSpPr>
          <p:spPr>
            <a:xfrm>
              <a:off x="8153280" y="557064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848720" y="53420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229600" y="53341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7848720" y="5867280"/>
            <a:ext cx="990360" cy="465120"/>
            <a:chOff x="7848720" y="5867280"/>
            <a:chExt cx="990360" cy="465120"/>
          </a:xfrm>
        </p:grpSpPr>
        <p:sp>
          <p:nvSpPr>
            <p:cNvPr id="1205" name=""/>
            <p:cNvSpPr/>
            <p:nvPr/>
          </p:nvSpPr>
          <p:spPr>
            <a:xfrm>
              <a:off x="8153280" y="610380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848720" y="58752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229600" y="586728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848720" y="1600200"/>
            <a:ext cx="990360" cy="465120"/>
            <a:chOff x="7848720" y="1600200"/>
            <a:chExt cx="990360" cy="465120"/>
          </a:xfrm>
        </p:grpSpPr>
        <p:sp>
          <p:nvSpPr>
            <p:cNvPr id="1209" name=""/>
            <p:cNvSpPr/>
            <p:nvPr/>
          </p:nvSpPr>
          <p:spPr>
            <a:xfrm>
              <a:off x="8153280" y="183672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848720" y="16081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229600" y="160020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7848720" y="1066680"/>
            <a:ext cx="990360" cy="465120"/>
            <a:chOff x="7848720" y="1066680"/>
            <a:chExt cx="990360" cy="465120"/>
          </a:xfrm>
        </p:grpSpPr>
        <p:sp>
          <p:nvSpPr>
            <p:cNvPr id="1213" name=""/>
            <p:cNvSpPr/>
            <p:nvPr/>
          </p:nvSpPr>
          <p:spPr>
            <a:xfrm>
              <a:off x="8153280" y="130320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848720" y="10746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8229600" y="106668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 flipV="1">
            <a:off x="658980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6095880" y="83808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619596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12296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6628680" y="8380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672948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285588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361600" y="8380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246204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2322360" y="838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1828080" y="83808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1928880" y="114300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218120" y="3352680"/>
            <a:ext cx="768240" cy="768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6a"/>
                </a:solidFill>
                <a:latin typeface="Arial Black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6a"/>
                </a:solidFill>
                <a:latin typeface="Arial Black"/>
              </a:rPr>
              <a:t>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6320" y="88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PON’s Rol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Yesterday’s Backhau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3429000" y="2523960"/>
            <a:ext cx="2362320" cy="2362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6a"/>
                </a:solidFill>
                <a:latin typeface="Arial Black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077320" y="238284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2400" y="215424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153280" y="214632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7772400" y="2679840"/>
            <a:ext cx="990360" cy="465120"/>
            <a:chOff x="7772400" y="2679840"/>
            <a:chExt cx="990360" cy="465120"/>
          </a:xfrm>
        </p:grpSpPr>
        <p:sp>
          <p:nvSpPr>
            <p:cNvPr id="1235" name=""/>
            <p:cNvSpPr/>
            <p:nvPr/>
          </p:nvSpPr>
          <p:spPr>
            <a:xfrm>
              <a:off x="8076960" y="291636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772400" y="26877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153280" y="267984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772400" y="3220920"/>
            <a:ext cx="990360" cy="465120"/>
            <a:chOff x="7772400" y="3220920"/>
            <a:chExt cx="990360" cy="465120"/>
          </a:xfrm>
        </p:grpSpPr>
        <p:sp>
          <p:nvSpPr>
            <p:cNvPr id="1239" name=""/>
            <p:cNvSpPr/>
            <p:nvPr/>
          </p:nvSpPr>
          <p:spPr>
            <a:xfrm>
              <a:off x="8076960" y="345744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772400" y="32288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153280" y="322092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7772400" y="3754440"/>
            <a:ext cx="990360" cy="465120"/>
            <a:chOff x="7772400" y="3754440"/>
            <a:chExt cx="990360" cy="465120"/>
          </a:xfrm>
        </p:grpSpPr>
        <p:sp>
          <p:nvSpPr>
            <p:cNvPr id="1243" name=""/>
            <p:cNvSpPr/>
            <p:nvPr/>
          </p:nvSpPr>
          <p:spPr>
            <a:xfrm>
              <a:off x="8076960" y="399096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772400" y="37623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153280" y="375444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7772400" y="4280040"/>
            <a:ext cx="990360" cy="465120"/>
            <a:chOff x="7772400" y="4280040"/>
            <a:chExt cx="990360" cy="465120"/>
          </a:xfrm>
        </p:grpSpPr>
        <p:sp>
          <p:nvSpPr>
            <p:cNvPr id="1247" name=""/>
            <p:cNvSpPr/>
            <p:nvPr/>
          </p:nvSpPr>
          <p:spPr>
            <a:xfrm>
              <a:off x="8076960" y="4516560"/>
              <a:ext cx="4572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72400" y="42879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53280" y="4280040"/>
              <a:ext cx="609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 flipV="1">
            <a:off x="338940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92256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445608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498960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52276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6056280" y="76212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2995560" y="11239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3529080" y="11239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4062240" y="11239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4595760" y="11239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5129280" y="11239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5662440" y="11239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 flipV="1">
            <a:off x="3171240" y="2292840"/>
            <a:ext cx="1365840" cy="136836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2285280" y="1981080"/>
            <a:ext cx="1143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6a"/>
                </a:solidFill>
                <a:latin typeface="Arial Black"/>
              </a:rPr>
              <a:t>STM-1c T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584600" y="2266920"/>
            <a:ext cx="0" cy="2863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228240" y="2158920"/>
            <a:ext cx="991080" cy="465120"/>
            <a:chOff x="228240" y="2158920"/>
            <a:chExt cx="991080" cy="465120"/>
          </a:xfrm>
        </p:grpSpPr>
        <p:grpSp>
          <p:nvGrpSpPr>
            <p:cNvPr id="1266" name=""/>
            <p:cNvGrpSpPr/>
            <p:nvPr/>
          </p:nvGrpSpPr>
          <p:grpSpPr>
            <a:xfrm>
              <a:off x="228240" y="2158920"/>
              <a:ext cx="686160" cy="261360"/>
              <a:chOff x="228240" y="2158920"/>
              <a:chExt cx="686160" cy="261360"/>
            </a:xfrm>
          </p:grpSpPr>
          <p:sp>
            <p:nvSpPr>
              <p:cNvPr id="1267" name=""/>
              <p:cNvSpPr/>
              <p:nvPr/>
            </p:nvSpPr>
            <p:spPr>
              <a:xfrm flipH="1">
                <a:off x="457200" y="239544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>
                <a:off x="227880" y="215892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9" name=""/>
            <p:cNvSpPr/>
            <p:nvPr/>
          </p:nvSpPr>
          <p:spPr>
            <a:xfrm flipH="1">
              <a:off x="762120" y="21668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0" name=""/>
          <p:cNvSpPr/>
          <p:nvPr/>
        </p:nvSpPr>
        <p:spPr>
          <a:xfrm>
            <a:off x="1582560" y="2295360"/>
            <a:ext cx="381240" cy="1400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81080" y="3684600"/>
            <a:ext cx="5289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576440" y="2844720"/>
            <a:ext cx="37476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582560" y="3429000"/>
            <a:ext cx="374760" cy="2667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1595520" y="3701880"/>
            <a:ext cx="349200" cy="298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1620720" y="3701520"/>
            <a:ext cx="330480" cy="793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1614600" y="3683160"/>
            <a:ext cx="345960" cy="13903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rot="16200000">
            <a:off x="1325520" y="23191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rot="16200000">
            <a:off x="1325520" y="28555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rot="16200000">
            <a:off x="1325520" y="33922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rot="16200000">
            <a:off x="1325520" y="39286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rot="16200000">
            <a:off x="1325160" y="4452840"/>
            <a:ext cx="45432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rot="16200000">
            <a:off x="1325520" y="498600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317840" y="3438360"/>
            <a:ext cx="533520" cy="533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6a"/>
                </a:solidFill>
                <a:latin typeface="Arial Black"/>
              </a:rPr>
              <a:t>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7261200" y="2279520"/>
            <a:ext cx="371520" cy="1390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264080" y="2828880"/>
            <a:ext cx="374760" cy="838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7257600" y="3413160"/>
            <a:ext cx="374760" cy="2667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 flipV="1">
            <a:off x="7270920" y="3685680"/>
            <a:ext cx="349200" cy="29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 flipV="1">
            <a:off x="7264080" y="3685680"/>
            <a:ext cx="330120" cy="793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 flipV="1">
            <a:off x="7245360" y="3666600"/>
            <a:ext cx="355680" cy="1390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772400" y="48211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153280" y="481320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4594320" y="1739880"/>
            <a:ext cx="1311120" cy="5079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4578120" y="1752480"/>
            <a:ext cx="793800" cy="501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4584600" y="1752480"/>
            <a:ext cx="21600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286160" y="1746360"/>
            <a:ext cx="298440" cy="5014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753000" y="1739880"/>
            <a:ext cx="819000" cy="514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06880" y="1739880"/>
            <a:ext cx="1377720" cy="5270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 flipV="1">
            <a:off x="4581000" y="5136840"/>
            <a:ext cx="1327320" cy="514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 flipV="1">
            <a:off x="4575240" y="5136840"/>
            <a:ext cx="799920" cy="5014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H="1" flipV="1">
            <a:off x="4587840" y="5162040"/>
            <a:ext cx="21600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4289400" y="5162040"/>
            <a:ext cx="298440" cy="4827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3755880" y="5162040"/>
            <a:ext cx="825480" cy="489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3209760" y="5156280"/>
            <a:ext cx="1365480" cy="495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997360" y="56260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40240" y="56260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067280" y="56260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606920" y="56260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140440" y="56260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673600" y="5626080"/>
            <a:ext cx="45432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3720" y="3657600"/>
            <a:ext cx="13716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6a"/>
                </a:solidFill>
                <a:latin typeface="Arial Black"/>
              </a:rPr>
              <a:t>622MB Symme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592280" y="1681200"/>
            <a:ext cx="376200" cy="2019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622520" y="1136520"/>
            <a:ext cx="361800" cy="2560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1592280" y="3710160"/>
            <a:ext cx="369720" cy="20095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1595520" y="3695760"/>
            <a:ext cx="387360" cy="254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rot="16200000">
            <a:off x="1317240" y="5506920"/>
            <a:ext cx="45432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rot="16200000">
            <a:off x="1317240" y="6095880"/>
            <a:ext cx="45432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6200000">
            <a:off x="1317240" y="1760400"/>
            <a:ext cx="45432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6200000">
            <a:off x="1338120" y="1218600"/>
            <a:ext cx="453960" cy="152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92564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463840" y="5638680"/>
            <a:ext cx="453960" cy="152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930320" y="5638680"/>
            <a:ext cx="453960" cy="152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97760" y="5638680"/>
            <a:ext cx="453960" cy="152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730920" y="5638680"/>
            <a:ext cx="453960" cy="152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153280" y="532620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8153280" y="585936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153280" y="160020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153280" y="105876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7251480" y="1741320"/>
            <a:ext cx="344520" cy="1924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7241760" y="1155600"/>
            <a:ext cx="352440" cy="2502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238880" y="3683160"/>
            <a:ext cx="371520" cy="1866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>
            <a:off x="7229520" y="3695400"/>
            <a:ext cx="365040" cy="254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7212960" y="3641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285588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2462040" y="112248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232236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>
            <a:off x="1928880" y="112248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658980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6195960" y="11239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7122960" y="8110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1828440" y="762120"/>
            <a:ext cx="5410080" cy="308520"/>
            <a:chOff x="1828440" y="762120"/>
            <a:chExt cx="5410080" cy="308520"/>
          </a:xfrm>
        </p:grpSpPr>
        <p:sp>
          <p:nvSpPr>
            <p:cNvPr id="1341" name=""/>
            <p:cNvSpPr/>
            <p:nvPr/>
          </p:nvSpPr>
          <p:spPr>
            <a:xfrm flipH="1">
              <a:off x="2895480" y="774720"/>
              <a:ext cx="60984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3428280" y="774720"/>
              <a:ext cx="60948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3961800" y="774720"/>
              <a:ext cx="60948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4495680" y="774720"/>
              <a:ext cx="60984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5028480" y="774720"/>
              <a:ext cx="60948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5562000" y="774720"/>
              <a:ext cx="60948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2361600" y="762120"/>
              <a:ext cx="60948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1828080" y="762120"/>
              <a:ext cx="60948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6095880" y="776160"/>
              <a:ext cx="60984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6628680" y="762120"/>
              <a:ext cx="60948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6466a"/>
                  </a:solidFill>
                  <a:latin typeface="Arial Black"/>
                </a:rPr>
                <a:t>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 flipH="1">
            <a:off x="6729480" y="112248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665440" y="1722600"/>
            <a:ext cx="1876320" cy="539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025720" y="1709640"/>
            <a:ext cx="2527200" cy="567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4573440" y="1739520"/>
            <a:ext cx="1874880" cy="531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4572000" y="1739520"/>
            <a:ext cx="2451240" cy="54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54356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994120" y="16081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537000" y="16081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064040" y="16081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603680" y="16081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37200" y="16081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670720" y="16081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460600" y="16066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927080" y="1606680"/>
            <a:ext cx="45432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194520" y="16081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727680" y="1606680"/>
            <a:ext cx="45432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 flipV="1">
            <a:off x="4564080" y="5133600"/>
            <a:ext cx="1928880" cy="539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H="1" flipV="1">
            <a:off x="4589640" y="5127120"/>
            <a:ext cx="2503440" cy="54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2573280" y="5144760"/>
            <a:ext cx="1997280" cy="515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2011320" y="5125680"/>
            <a:ext cx="2571840" cy="547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4546440" y="510480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077320" y="182880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077320" y="129528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077320" y="556272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077320" y="609588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772400" y="53341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772400" y="586728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772400" y="160812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772400" y="1066680"/>
            <a:ext cx="4572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DS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rot="16200000">
            <a:off x="7435800" y="23032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rot="16200000">
            <a:off x="7435800" y="283968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rot="16200000">
            <a:off x="7435800" y="337644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rot="16200000">
            <a:off x="7435800" y="391284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rot="16200000">
            <a:off x="7435800" y="443664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rot="16200000">
            <a:off x="7435800" y="497016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rot="16200000">
            <a:off x="7435800" y="548280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rot="16200000">
            <a:off x="7435800" y="60163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rot="16200000">
            <a:off x="7435800" y="175716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rot="16200000">
            <a:off x="7435800" y="1215720"/>
            <a:ext cx="453960" cy="152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6466a"/>
                </a:solidFill>
                <a:latin typeface="Arial Black"/>
              </a:rPr>
              <a:t>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28240" y="1600200"/>
            <a:ext cx="991080" cy="465120"/>
            <a:chOff x="228240" y="1600200"/>
            <a:chExt cx="991080" cy="465120"/>
          </a:xfrm>
        </p:grpSpPr>
        <p:grpSp>
          <p:nvGrpSpPr>
            <p:cNvPr id="1391" name=""/>
            <p:cNvGrpSpPr/>
            <p:nvPr/>
          </p:nvGrpSpPr>
          <p:grpSpPr>
            <a:xfrm>
              <a:off x="228240" y="1600200"/>
              <a:ext cx="686160" cy="261360"/>
              <a:chOff x="228240" y="1600200"/>
              <a:chExt cx="686160" cy="261360"/>
            </a:xfrm>
          </p:grpSpPr>
          <p:sp>
            <p:nvSpPr>
              <p:cNvPr id="1392" name=""/>
              <p:cNvSpPr/>
              <p:nvPr/>
            </p:nvSpPr>
            <p:spPr>
              <a:xfrm flipH="1">
                <a:off x="457200" y="183672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227880" y="160020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4" name=""/>
            <p:cNvSpPr/>
            <p:nvPr/>
          </p:nvSpPr>
          <p:spPr>
            <a:xfrm flipH="1">
              <a:off x="762120" y="16081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228240" y="1066680"/>
            <a:ext cx="991080" cy="465120"/>
            <a:chOff x="228240" y="1066680"/>
            <a:chExt cx="991080" cy="465120"/>
          </a:xfrm>
        </p:grpSpPr>
        <p:grpSp>
          <p:nvGrpSpPr>
            <p:cNvPr id="1396" name=""/>
            <p:cNvGrpSpPr/>
            <p:nvPr/>
          </p:nvGrpSpPr>
          <p:grpSpPr>
            <a:xfrm>
              <a:off x="228240" y="1066680"/>
              <a:ext cx="686160" cy="261360"/>
              <a:chOff x="228240" y="1066680"/>
              <a:chExt cx="686160" cy="26136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457200" y="130320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>
                <a:off x="227880" y="106668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9" name=""/>
            <p:cNvSpPr/>
            <p:nvPr/>
          </p:nvSpPr>
          <p:spPr>
            <a:xfrm flipH="1">
              <a:off x="762120" y="10746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0" name=""/>
          <p:cNvGrpSpPr/>
          <p:nvPr/>
        </p:nvGrpSpPr>
        <p:grpSpPr>
          <a:xfrm>
            <a:off x="228240" y="3801960"/>
            <a:ext cx="991080" cy="465120"/>
            <a:chOff x="228240" y="3801960"/>
            <a:chExt cx="991080" cy="465120"/>
          </a:xfrm>
        </p:grpSpPr>
        <p:grpSp>
          <p:nvGrpSpPr>
            <p:cNvPr id="1401" name=""/>
            <p:cNvGrpSpPr/>
            <p:nvPr/>
          </p:nvGrpSpPr>
          <p:grpSpPr>
            <a:xfrm>
              <a:off x="228240" y="3801960"/>
              <a:ext cx="686160" cy="261360"/>
              <a:chOff x="228240" y="3801960"/>
              <a:chExt cx="686160" cy="261360"/>
            </a:xfrm>
          </p:grpSpPr>
          <p:sp>
            <p:nvSpPr>
              <p:cNvPr id="1402" name=""/>
              <p:cNvSpPr/>
              <p:nvPr/>
            </p:nvSpPr>
            <p:spPr>
              <a:xfrm flipH="1">
                <a:off x="457200" y="403848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227880" y="38019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 flipH="1">
              <a:off x="762120" y="3809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228240" y="3243240"/>
            <a:ext cx="991080" cy="465120"/>
            <a:chOff x="228240" y="3243240"/>
            <a:chExt cx="991080" cy="465120"/>
          </a:xfrm>
        </p:grpSpPr>
        <p:grpSp>
          <p:nvGrpSpPr>
            <p:cNvPr id="1406" name=""/>
            <p:cNvGrpSpPr/>
            <p:nvPr/>
          </p:nvGrpSpPr>
          <p:grpSpPr>
            <a:xfrm>
              <a:off x="228240" y="3243240"/>
              <a:ext cx="686160" cy="261360"/>
              <a:chOff x="228240" y="3243240"/>
              <a:chExt cx="686160" cy="261360"/>
            </a:xfrm>
          </p:grpSpPr>
          <p:sp>
            <p:nvSpPr>
              <p:cNvPr id="1407" name=""/>
              <p:cNvSpPr/>
              <p:nvPr/>
            </p:nvSpPr>
            <p:spPr>
              <a:xfrm flipH="1">
                <a:off x="457200" y="347976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227880" y="324324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9" name=""/>
            <p:cNvSpPr/>
            <p:nvPr/>
          </p:nvSpPr>
          <p:spPr>
            <a:xfrm flipH="1">
              <a:off x="762120" y="32511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228240" y="2709720"/>
            <a:ext cx="991080" cy="465120"/>
            <a:chOff x="228240" y="2709720"/>
            <a:chExt cx="991080" cy="465120"/>
          </a:xfrm>
        </p:grpSpPr>
        <p:grpSp>
          <p:nvGrpSpPr>
            <p:cNvPr id="1411" name=""/>
            <p:cNvGrpSpPr/>
            <p:nvPr/>
          </p:nvGrpSpPr>
          <p:grpSpPr>
            <a:xfrm>
              <a:off x="228240" y="2709720"/>
              <a:ext cx="686160" cy="261360"/>
              <a:chOff x="228240" y="2709720"/>
              <a:chExt cx="686160" cy="261360"/>
            </a:xfrm>
          </p:grpSpPr>
          <p:sp>
            <p:nvSpPr>
              <p:cNvPr id="1412" name=""/>
              <p:cNvSpPr/>
              <p:nvPr/>
            </p:nvSpPr>
            <p:spPr>
              <a:xfrm flipH="1">
                <a:off x="457200" y="294624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227880" y="270972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4" name=""/>
            <p:cNvSpPr/>
            <p:nvPr/>
          </p:nvSpPr>
          <p:spPr>
            <a:xfrm flipH="1">
              <a:off x="762120" y="27176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228240" y="4292640"/>
            <a:ext cx="991080" cy="465120"/>
            <a:chOff x="228240" y="4292640"/>
            <a:chExt cx="991080" cy="465120"/>
          </a:xfrm>
        </p:grpSpPr>
        <p:grpSp>
          <p:nvGrpSpPr>
            <p:cNvPr id="1416" name=""/>
            <p:cNvGrpSpPr/>
            <p:nvPr/>
          </p:nvGrpSpPr>
          <p:grpSpPr>
            <a:xfrm>
              <a:off x="228240" y="4292640"/>
              <a:ext cx="686160" cy="261360"/>
              <a:chOff x="228240" y="4292640"/>
              <a:chExt cx="686160" cy="261360"/>
            </a:xfrm>
          </p:grpSpPr>
          <p:sp>
            <p:nvSpPr>
              <p:cNvPr id="1417" name=""/>
              <p:cNvSpPr/>
              <p:nvPr/>
            </p:nvSpPr>
            <p:spPr>
              <a:xfrm flipH="1">
                <a:off x="457200" y="452916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227880" y="429264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9" name=""/>
            <p:cNvSpPr/>
            <p:nvPr/>
          </p:nvSpPr>
          <p:spPr>
            <a:xfrm flipH="1">
              <a:off x="762120" y="43005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228240" y="5935680"/>
            <a:ext cx="991080" cy="465120"/>
            <a:chOff x="228240" y="5935680"/>
            <a:chExt cx="991080" cy="465120"/>
          </a:xfrm>
        </p:grpSpPr>
        <p:grpSp>
          <p:nvGrpSpPr>
            <p:cNvPr id="1421" name=""/>
            <p:cNvGrpSpPr/>
            <p:nvPr/>
          </p:nvGrpSpPr>
          <p:grpSpPr>
            <a:xfrm>
              <a:off x="228240" y="5935680"/>
              <a:ext cx="686160" cy="261360"/>
              <a:chOff x="228240" y="5935680"/>
              <a:chExt cx="686160" cy="261360"/>
            </a:xfrm>
          </p:grpSpPr>
          <p:sp>
            <p:nvSpPr>
              <p:cNvPr id="1422" name=""/>
              <p:cNvSpPr/>
              <p:nvPr/>
            </p:nvSpPr>
            <p:spPr>
              <a:xfrm flipH="1">
                <a:off x="457200" y="617220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227880" y="593568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4" name=""/>
            <p:cNvSpPr/>
            <p:nvPr/>
          </p:nvSpPr>
          <p:spPr>
            <a:xfrm flipH="1">
              <a:off x="762120" y="59436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228240" y="5376960"/>
            <a:ext cx="991080" cy="465120"/>
            <a:chOff x="228240" y="5376960"/>
            <a:chExt cx="991080" cy="465120"/>
          </a:xfrm>
        </p:grpSpPr>
        <p:grpSp>
          <p:nvGrpSpPr>
            <p:cNvPr id="1426" name=""/>
            <p:cNvGrpSpPr/>
            <p:nvPr/>
          </p:nvGrpSpPr>
          <p:grpSpPr>
            <a:xfrm>
              <a:off x="228240" y="5376960"/>
              <a:ext cx="686160" cy="261360"/>
              <a:chOff x="228240" y="5376960"/>
              <a:chExt cx="686160" cy="261360"/>
            </a:xfrm>
          </p:grpSpPr>
          <p:sp>
            <p:nvSpPr>
              <p:cNvPr id="1427" name=""/>
              <p:cNvSpPr/>
              <p:nvPr/>
            </p:nvSpPr>
            <p:spPr>
              <a:xfrm flipH="1">
                <a:off x="457200" y="561348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>
                <a:off x="227880" y="53769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9" name=""/>
            <p:cNvSpPr/>
            <p:nvPr/>
          </p:nvSpPr>
          <p:spPr>
            <a:xfrm flipH="1">
              <a:off x="762120" y="5384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228240" y="4843440"/>
            <a:ext cx="991080" cy="465120"/>
            <a:chOff x="228240" y="4843440"/>
            <a:chExt cx="991080" cy="465120"/>
          </a:xfrm>
        </p:grpSpPr>
        <p:grpSp>
          <p:nvGrpSpPr>
            <p:cNvPr id="1431" name=""/>
            <p:cNvGrpSpPr/>
            <p:nvPr/>
          </p:nvGrpSpPr>
          <p:grpSpPr>
            <a:xfrm>
              <a:off x="228240" y="4843440"/>
              <a:ext cx="686160" cy="261360"/>
              <a:chOff x="228240" y="4843440"/>
              <a:chExt cx="686160" cy="261360"/>
            </a:xfrm>
          </p:grpSpPr>
          <p:sp>
            <p:nvSpPr>
              <p:cNvPr id="1432" name=""/>
              <p:cNvSpPr/>
              <p:nvPr/>
            </p:nvSpPr>
            <p:spPr>
              <a:xfrm flipH="1">
                <a:off x="457200" y="5079960"/>
                <a:ext cx="4572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227880" y="484344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4" name=""/>
            <p:cNvSpPr/>
            <p:nvPr/>
          </p:nvSpPr>
          <p:spPr>
            <a:xfrm flipH="1">
              <a:off x="762120" y="48513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5562360" y="5803920"/>
            <a:ext cx="609480" cy="749160"/>
            <a:chOff x="5562360" y="5803920"/>
            <a:chExt cx="609480" cy="749160"/>
          </a:xfrm>
        </p:grpSpPr>
        <p:sp>
          <p:nvSpPr>
            <p:cNvPr id="1436" name=""/>
            <p:cNvSpPr/>
            <p:nvPr/>
          </p:nvSpPr>
          <p:spPr>
            <a:xfrm flipH="1">
              <a:off x="566244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7" name=""/>
            <p:cNvGrpSpPr/>
            <p:nvPr/>
          </p:nvGrpSpPr>
          <p:grpSpPr>
            <a:xfrm>
              <a:off x="5562360" y="6095880"/>
              <a:ext cx="609480" cy="457200"/>
              <a:chOff x="5562360" y="6095880"/>
              <a:chExt cx="609480" cy="457200"/>
            </a:xfrm>
          </p:grpSpPr>
          <p:sp>
            <p:nvSpPr>
              <p:cNvPr id="1438" name=""/>
              <p:cNvSpPr/>
              <p:nvPr/>
            </p:nvSpPr>
            <p:spPr>
              <a:xfrm flipV="1">
                <a:off x="605628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556200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0" name=""/>
          <p:cNvGrpSpPr/>
          <p:nvPr/>
        </p:nvGrpSpPr>
        <p:grpSpPr>
          <a:xfrm>
            <a:off x="6095520" y="5803920"/>
            <a:ext cx="609480" cy="749160"/>
            <a:chOff x="6095520" y="5803920"/>
            <a:chExt cx="609480" cy="749160"/>
          </a:xfrm>
        </p:grpSpPr>
        <p:sp>
          <p:nvSpPr>
            <p:cNvPr id="1441" name=""/>
            <p:cNvSpPr/>
            <p:nvPr/>
          </p:nvSpPr>
          <p:spPr>
            <a:xfrm flipH="1">
              <a:off x="619560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2" name=""/>
            <p:cNvGrpSpPr/>
            <p:nvPr/>
          </p:nvGrpSpPr>
          <p:grpSpPr>
            <a:xfrm>
              <a:off x="6095520" y="6095880"/>
              <a:ext cx="609480" cy="457200"/>
              <a:chOff x="6095520" y="6095880"/>
              <a:chExt cx="609480" cy="457200"/>
            </a:xfrm>
          </p:grpSpPr>
          <p:sp>
            <p:nvSpPr>
              <p:cNvPr id="1443" name=""/>
              <p:cNvSpPr/>
              <p:nvPr/>
            </p:nvSpPr>
            <p:spPr>
              <a:xfrm flipV="1">
                <a:off x="658944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>
                <a:off x="609516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5" name=""/>
          <p:cNvGrpSpPr/>
          <p:nvPr/>
        </p:nvGrpSpPr>
        <p:grpSpPr>
          <a:xfrm>
            <a:off x="6629040" y="5803920"/>
            <a:ext cx="609480" cy="749160"/>
            <a:chOff x="6629040" y="5803920"/>
            <a:chExt cx="609480" cy="749160"/>
          </a:xfrm>
        </p:grpSpPr>
        <p:sp>
          <p:nvSpPr>
            <p:cNvPr id="1446" name=""/>
            <p:cNvSpPr/>
            <p:nvPr/>
          </p:nvSpPr>
          <p:spPr>
            <a:xfrm flipH="1">
              <a:off x="672912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7" name=""/>
            <p:cNvGrpSpPr/>
            <p:nvPr/>
          </p:nvGrpSpPr>
          <p:grpSpPr>
            <a:xfrm>
              <a:off x="6629040" y="6095880"/>
              <a:ext cx="609480" cy="457200"/>
              <a:chOff x="6629040" y="6095880"/>
              <a:chExt cx="609480" cy="457200"/>
            </a:xfrm>
          </p:grpSpPr>
          <p:sp>
            <p:nvSpPr>
              <p:cNvPr id="1448" name=""/>
              <p:cNvSpPr/>
              <p:nvPr/>
            </p:nvSpPr>
            <p:spPr>
              <a:xfrm flipV="1">
                <a:off x="712296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662868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0" name=""/>
          <p:cNvGrpSpPr/>
          <p:nvPr/>
        </p:nvGrpSpPr>
        <p:grpSpPr>
          <a:xfrm>
            <a:off x="3962160" y="5803920"/>
            <a:ext cx="609480" cy="749160"/>
            <a:chOff x="3962160" y="5803920"/>
            <a:chExt cx="609480" cy="749160"/>
          </a:xfrm>
        </p:grpSpPr>
        <p:sp>
          <p:nvSpPr>
            <p:cNvPr id="1451" name=""/>
            <p:cNvSpPr/>
            <p:nvPr/>
          </p:nvSpPr>
          <p:spPr>
            <a:xfrm flipH="1">
              <a:off x="406224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3962160" y="6095880"/>
              <a:ext cx="609480" cy="457200"/>
              <a:chOff x="3962160" y="6095880"/>
              <a:chExt cx="609480" cy="457200"/>
            </a:xfrm>
          </p:grpSpPr>
          <p:sp>
            <p:nvSpPr>
              <p:cNvPr id="1453" name=""/>
              <p:cNvSpPr/>
              <p:nvPr/>
            </p:nvSpPr>
            <p:spPr>
              <a:xfrm flipV="1">
                <a:off x="445608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396180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5" name=""/>
          <p:cNvGrpSpPr/>
          <p:nvPr/>
        </p:nvGrpSpPr>
        <p:grpSpPr>
          <a:xfrm>
            <a:off x="4495320" y="5803920"/>
            <a:ext cx="609480" cy="749160"/>
            <a:chOff x="4495320" y="5803920"/>
            <a:chExt cx="609480" cy="749160"/>
          </a:xfrm>
        </p:grpSpPr>
        <p:sp>
          <p:nvSpPr>
            <p:cNvPr id="1456" name=""/>
            <p:cNvSpPr/>
            <p:nvPr/>
          </p:nvSpPr>
          <p:spPr>
            <a:xfrm flipH="1">
              <a:off x="459540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7" name=""/>
            <p:cNvGrpSpPr/>
            <p:nvPr/>
          </p:nvGrpSpPr>
          <p:grpSpPr>
            <a:xfrm>
              <a:off x="4495320" y="6095880"/>
              <a:ext cx="609480" cy="457200"/>
              <a:chOff x="4495320" y="6095880"/>
              <a:chExt cx="609480" cy="457200"/>
            </a:xfrm>
          </p:grpSpPr>
          <p:sp>
            <p:nvSpPr>
              <p:cNvPr id="1458" name=""/>
              <p:cNvSpPr/>
              <p:nvPr/>
            </p:nvSpPr>
            <p:spPr>
              <a:xfrm flipV="1">
                <a:off x="498924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>
                <a:off x="449496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0" name=""/>
          <p:cNvGrpSpPr/>
          <p:nvPr/>
        </p:nvGrpSpPr>
        <p:grpSpPr>
          <a:xfrm>
            <a:off x="5028840" y="5803920"/>
            <a:ext cx="609480" cy="749160"/>
            <a:chOff x="5028840" y="5803920"/>
            <a:chExt cx="609480" cy="749160"/>
          </a:xfrm>
        </p:grpSpPr>
        <p:sp>
          <p:nvSpPr>
            <p:cNvPr id="1461" name=""/>
            <p:cNvSpPr/>
            <p:nvPr/>
          </p:nvSpPr>
          <p:spPr>
            <a:xfrm flipH="1">
              <a:off x="512892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2" name=""/>
            <p:cNvGrpSpPr/>
            <p:nvPr/>
          </p:nvGrpSpPr>
          <p:grpSpPr>
            <a:xfrm>
              <a:off x="5028840" y="6095880"/>
              <a:ext cx="609480" cy="457200"/>
              <a:chOff x="5028840" y="6095880"/>
              <a:chExt cx="609480" cy="457200"/>
            </a:xfrm>
          </p:grpSpPr>
          <p:sp>
            <p:nvSpPr>
              <p:cNvPr id="1463" name=""/>
              <p:cNvSpPr/>
              <p:nvPr/>
            </p:nvSpPr>
            <p:spPr>
              <a:xfrm flipV="1">
                <a:off x="552276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502848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5" name=""/>
          <p:cNvGrpSpPr/>
          <p:nvPr/>
        </p:nvGrpSpPr>
        <p:grpSpPr>
          <a:xfrm>
            <a:off x="2361960" y="5803920"/>
            <a:ext cx="609480" cy="749160"/>
            <a:chOff x="2361960" y="5803920"/>
            <a:chExt cx="609480" cy="749160"/>
          </a:xfrm>
        </p:grpSpPr>
        <p:sp>
          <p:nvSpPr>
            <p:cNvPr id="1466" name=""/>
            <p:cNvSpPr/>
            <p:nvPr/>
          </p:nvSpPr>
          <p:spPr>
            <a:xfrm flipH="1">
              <a:off x="246204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7" name=""/>
            <p:cNvGrpSpPr/>
            <p:nvPr/>
          </p:nvGrpSpPr>
          <p:grpSpPr>
            <a:xfrm>
              <a:off x="2361960" y="6095880"/>
              <a:ext cx="609480" cy="457200"/>
              <a:chOff x="2361960" y="6095880"/>
              <a:chExt cx="609480" cy="457200"/>
            </a:xfrm>
          </p:grpSpPr>
          <p:sp>
            <p:nvSpPr>
              <p:cNvPr id="1468" name=""/>
              <p:cNvSpPr/>
              <p:nvPr/>
            </p:nvSpPr>
            <p:spPr>
              <a:xfrm flipV="1">
                <a:off x="285588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236160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0" name=""/>
          <p:cNvGrpSpPr/>
          <p:nvPr/>
        </p:nvGrpSpPr>
        <p:grpSpPr>
          <a:xfrm>
            <a:off x="2895120" y="5803920"/>
            <a:ext cx="609480" cy="749160"/>
            <a:chOff x="2895120" y="5803920"/>
            <a:chExt cx="609480" cy="749160"/>
          </a:xfrm>
        </p:grpSpPr>
        <p:sp>
          <p:nvSpPr>
            <p:cNvPr id="1471" name=""/>
            <p:cNvSpPr/>
            <p:nvPr/>
          </p:nvSpPr>
          <p:spPr>
            <a:xfrm flipH="1">
              <a:off x="299520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2" name=""/>
            <p:cNvGrpSpPr/>
            <p:nvPr/>
          </p:nvGrpSpPr>
          <p:grpSpPr>
            <a:xfrm>
              <a:off x="2895120" y="6095880"/>
              <a:ext cx="609480" cy="457200"/>
              <a:chOff x="2895120" y="6095880"/>
              <a:chExt cx="609480" cy="457200"/>
            </a:xfrm>
          </p:grpSpPr>
          <p:sp>
            <p:nvSpPr>
              <p:cNvPr id="1473" name=""/>
              <p:cNvSpPr/>
              <p:nvPr/>
            </p:nvSpPr>
            <p:spPr>
              <a:xfrm flipV="1">
                <a:off x="338904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289476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5" name=""/>
          <p:cNvGrpSpPr/>
          <p:nvPr/>
        </p:nvGrpSpPr>
        <p:grpSpPr>
          <a:xfrm>
            <a:off x="3428640" y="5803920"/>
            <a:ext cx="609480" cy="749160"/>
            <a:chOff x="3428640" y="5803920"/>
            <a:chExt cx="609480" cy="749160"/>
          </a:xfrm>
        </p:grpSpPr>
        <p:sp>
          <p:nvSpPr>
            <p:cNvPr id="1476" name=""/>
            <p:cNvSpPr/>
            <p:nvPr/>
          </p:nvSpPr>
          <p:spPr>
            <a:xfrm flipH="1">
              <a:off x="352872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3428640" y="6095880"/>
              <a:ext cx="609480" cy="457200"/>
              <a:chOff x="3428640" y="6095880"/>
              <a:chExt cx="609480" cy="457200"/>
            </a:xfrm>
          </p:grpSpPr>
          <p:sp>
            <p:nvSpPr>
              <p:cNvPr id="1478" name=""/>
              <p:cNvSpPr/>
              <p:nvPr/>
            </p:nvSpPr>
            <p:spPr>
              <a:xfrm flipV="1">
                <a:off x="392256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342828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0" name=""/>
          <p:cNvGrpSpPr/>
          <p:nvPr/>
        </p:nvGrpSpPr>
        <p:grpSpPr>
          <a:xfrm>
            <a:off x="1828440" y="5803920"/>
            <a:ext cx="609480" cy="749160"/>
            <a:chOff x="1828440" y="5803920"/>
            <a:chExt cx="609480" cy="749160"/>
          </a:xfrm>
        </p:grpSpPr>
        <p:sp>
          <p:nvSpPr>
            <p:cNvPr id="1481" name=""/>
            <p:cNvSpPr/>
            <p:nvPr/>
          </p:nvSpPr>
          <p:spPr>
            <a:xfrm flipH="1">
              <a:off x="1928520" y="5803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6466a"/>
                  </a:solidFill>
                  <a:latin typeface="Arial Black"/>
                </a:rPr>
                <a:t>DSL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2" name=""/>
            <p:cNvGrpSpPr/>
            <p:nvPr/>
          </p:nvGrpSpPr>
          <p:grpSpPr>
            <a:xfrm>
              <a:off x="1828440" y="6095880"/>
              <a:ext cx="609480" cy="457200"/>
              <a:chOff x="1828440" y="6095880"/>
              <a:chExt cx="609480" cy="457200"/>
            </a:xfrm>
          </p:grpSpPr>
          <p:sp>
            <p:nvSpPr>
              <p:cNvPr id="1483" name=""/>
              <p:cNvSpPr/>
              <p:nvPr/>
            </p:nvSpPr>
            <p:spPr>
              <a:xfrm flipV="1">
                <a:off x="2322360" y="6095880"/>
                <a:ext cx="0" cy="457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1828080" y="6248160"/>
                <a:ext cx="609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46466a"/>
                    </a:solidFill>
                    <a:latin typeface="Arial Black"/>
                  </a:rPr>
                  <a:t>D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5" name=""/>
          <p:cNvSpPr/>
          <p:nvPr/>
        </p:nvSpPr>
        <p:spPr>
          <a:xfrm>
            <a:off x="76320" y="88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PON’s Rol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Tomorrow’s Backhau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Outline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139680" y="1263600"/>
            <a:ext cx="8845560" cy="51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Problem are We Trying to Sol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are the Custom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r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n Access Net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We get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165240" y="711360"/>
            <a:ext cx="89154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mall Business Deploym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10/100BaseT grows in popularity, PON will be the only viable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DU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market (especially internationally) for ONTs with many 10/100Base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T-Backhaul (Full-Service VDSL, wireless, etc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T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-generation video will drive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eased Line Services (DS1/E1, DS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SAN spec matches SONET/SDH service features (protection switching, jitter, wander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ows deployment of data-capable access network for legac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igh-End Video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DI (270 Mb/s), PAL, NTSC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many video customers also have substantial data and/or leased-line need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bE (Gigabit PONs in prepar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a lightly loaded PON, customer can burst at line-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a congested PON, BW is distributed fairly (enforce SL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pse core transport requirements (no more pt-to-pt fib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3164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Summary </a:t>
            </a:r>
            <a:br>
              <a:rPr sz="1800"/>
            </a:b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What is PON good for?</a:t>
            </a: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1488" name=""/>
          <p:cNvSpPr/>
          <p:nvPr/>
        </p:nvSpPr>
        <p:spPr>
          <a:xfrm>
            <a:off x="6071760" y="5326200"/>
            <a:ext cx="567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 Gb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6164280" y="4556160"/>
            <a:ext cx="2717640" cy="2092320"/>
            <a:chOff x="6164280" y="4556160"/>
            <a:chExt cx="2717640" cy="2092320"/>
          </a:xfrm>
        </p:grpSpPr>
        <p:grpSp>
          <p:nvGrpSpPr>
            <p:cNvPr id="1490" name=""/>
            <p:cNvGrpSpPr/>
            <p:nvPr/>
          </p:nvGrpSpPr>
          <p:grpSpPr>
            <a:xfrm>
              <a:off x="8258040" y="4556160"/>
              <a:ext cx="623880" cy="460440"/>
              <a:chOff x="8258040" y="4556160"/>
              <a:chExt cx="623880" cy="460440"/>
            </a:xfrm>
          </p:grpSpPr>
          <p:sp>
            <p:nvSpPr>
              <p:cNvPr id="1491" name=""/>
              <p:cNvSpPr/>
              <p:nvPr/>
            </p:nvSpPr>
            <p:spPr>
              <a:xfrm>
                <a:off x="8258040" y="4886280"/>
                <a:ext cx="52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8314200" y="4556160"/>
                <a:ext cx="5677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1 Gb/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3" name=""/>
            <p:cNvSpPr/>
            <p:nvPr/>
          </p:nvSpPr>
          <p:spPr>
            <a:xfrm>
              <a:off x="7770600" y="6216840"/>
              <a:ext cx="468360" cy="415800"/>
            </a:xfrm>
            <a:prstGeom prst="rect">
              <a:avLst/>
            </a:prstGeom>
            <a:solidFill>
              <a:srgbClr val="33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780320" y="6188040"/>
              <a:ext cx="448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619680" y="5367240"/>
              <a:ext cx="439920" cy="498600"/>
            </a:xfrm>
            <a:prstGeom prst="rect">
              <a:avLst/>
            </a:prstGeom>
            <a:solidFill>
              <a:srgbClr val="33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622920" y="5481720"/>
              <a:ext cx="435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L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164280" y="5562720"/>
              <a:ext cx="13644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200640" y="5641920"/>
              <a:ext cx="398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7476480" y="5647680"/>
              <a:ext cx="2948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 flipV="1">
              <a:off x="7451640" y="5641560"/>
              <a:ext cx="342360" cy="56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7489080" y="5115600"/>
              <a:ext cx="297720" cy="463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786440" y="4699080"/>
              <a:ext cx="466920" cy="414360"/>
            </a:xfrm>
            <a:prstGeom prst="rect">
              <a:avLst/>
            </a:prstGeom>
            <a:solidFill>
              <a:srgbClr val="33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786800" y="4665600"/>
              <a:ext cx="448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783560" y="5456160"/>
              <a:ext cx="466560" cy="416160"/>
            </a:xfrm>
            <a:prstGeom prst="rect">
              <a:avLst/>
            </a:prstGeom>
            <a:solidFill>
              <a:srgbClr val="33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786800" y="5437440"/>
              <a:ext cx="448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#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5400000">
              <a:off x="7876440" y="5880960"/>
              <a:ext cx="307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rot="5400000">
              <a:off x="7881120" y="5166720"/>
              <a:ext cx="307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8258040" y="6107040"/>
              <a:ext cx="540000" cy="460440"/>
              <a:chOff x="8258040" y="6107040"/>
              <a:chExt cx="540000" cy="460440"/>
            </a:xfrm>
          </p:grpSpPr>
          <p:sp>
            <p:nvSpPr>
              <p:cNvPr id="1509" name=""/>
              <p:cNvSpPr/>
              <p:nvPr/>
            </p:nvSpPr>
            <p:spPr>
              <a:xfrm>
                <a:off x="8258040" y="6437160"/>
                <a:ext cx="52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8399520" y="6107040"/>
                <a:ext cx="3985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8258040" y="5311800"/>
              <a:ext cx="540000" cy="460440"/>
              <a:chOff x="8258040" y="5311800"/>
              <a:chExt cx="540000" cy="460440"/>
            </a:xfrm>
          </p:grpSpPr>
          <p:sp>
            <p:nvSpPr>
              <p:cNvPr id="1512" name=""/>
              <p:cNvSpPr/>
              <p:nvPr/>
            </p:nvSpPr>
            <p:spPr>
              <a:xfrm>
                <a:off x="8258040" y="5641920"/>
                <a:ext cx="52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8399520" y="5311800"/>
                <a:ext cx="3985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Id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4" name=""/>
            <p:cNvSpPr/>
            <p:nvPr/>
          </p:nvSpPr>
          <p:spPr>
            <a:xfrm>
              <a:off x="7405560" y="5591160"/>
              <a:ext cx="106200" cy="1206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067520" y="5646960"/>
              <a:ext cx="326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17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What’s the Problem?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972040" y="2697120"/>
            <a:ext cx="4286160" cy="360"/>
            <a:chOff x="5972040" y="2697120"/>
            <a:chExt cx="4286160" cy="360"/>
          </a:xfrm>
        </p:grpSpPr>
        <p:sp>
          <p:nvSpPr>
            <p:cNvPr id="145" name=""/>
            <p:cNvSpPr/>
            <p:nvPr/>
          </p:nvSpPr>
          <p:spPr>
            <a:xfrm>
              <a:off x="5972040" y="2697120"/>
              <a:ext cx="4286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72040" y="2697120"/>
              <a:ext cx="4286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150160" y="6475320"/>
            <a:ext cx="3039840" cy="2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ttp://www.runco.com/Products/CWPlasma/CWDefault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08920" y="6475320"/>
            <a:ext cx="2789640" cy="2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ttp://www.sandman.com/images/oldmonarchwall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560" y="966960"/>
            <a:ext cx="42559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Premises Equipment (C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359000" y="5740560"/>
            <a:ext cx="5753160" cy="469800"/>
            <a:chOff x="1359000" y="5740560"/>
            <a:chExt cx="5753160" cy="469800"/>
          </a:xfrm>
        </p:grpSpPr>
        <p:sp>
          <p:nvSpPr>
            <p:cNvPr id="151" name=""/>
            <p:cNvSpPr/>
            <p:nvPr/>
          </p:nvSpPr>
          <p:spPr>
            <a:xfrm>
              <a:off x="5981760" y="5740560"/>
              <a:ext cx="1130400" cy="46980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59000" y="5740560"/>
              <a:ext cx="876240" cy="46980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92480" y="5767560"/>
              <a:ext cx="571140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 kHz                                                                20 Mb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" name="oldmonarchwall" descr=""/>
          <p:cNvPicPr/>
          <p:nvPr/>
        </p:nvPicPr>
        <p:blipFill>
          <a:blip r:embed="rId1"/>
          <a:stretch/>
        </p:blipFill>
        <p:spPr>
          <a:xfrm>
            <a:off x="168120" y="1674720"/>
            <a:ext cx="2874960" cy="3989520"/>
          </a:xfrm>
          <a:prstGeom prst="rect">
            <a:avLst/>
          </a:prstGeom>
          <a:ln w="0">
            <a:noFill/>
          </a:ln>
        </p:spPr>
      </p:pic>
      <p:pic>
        <p:nvPicPr>
          <p:cNvPr id="155" name="CW-61" descr=""/>
          <p:cNvPicPr/>
          <p:nvPr/>
        </p:nvPicPr>
        <p:blipFill>
          <a:blip r:embed="rId2"/>
          <a:stretch/>
        </p:blipFill>
        <p:spPr>
          <a:xfrm>
            <a:off x="4659480" y="2479680"/>
            <a:ext cx="4321080" cy="2803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99720" y="1601640"/>
            <a:ext cx="42559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orrow’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Premises Equipment (C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86280" y="3441600"/>
            <a:ext cx="1320480" cy="711360"/>
          </a:xfrm>
          <a:prstGeom prst="rightArrow">
            <a:avLst>
              <a:gd name="adj1" fmla="val 50000"/>
              <a:gd name="adj2" fmla="val 464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717640" y="5803920"/>
            <a:ext cx="3899160" cy="901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5240" y="666720"/>
            <a:ext cx="8928000" cy="62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riginal Bell System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roadband channel is a communications channel having a bandwidth greater than a voice-grade channel, and therefore capable of higher-speed data transmission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996 US Telecom Reform A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services are capable of carrying “high-quality” voice, data, graphics, &amp;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to “all America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actical 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id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ly means DSL, cable modem, or high-speed 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y’s services are web access, work-at-home, &amp; streaming audio (Napster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morrow, next-generation video will be the “killer app” (Son of Napster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, data, &amp;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y – Generally 1.5 Mb/s and u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morrow – MUCH MORE than 1.5 Mb/s ( 100Mb/s?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oadband” is a moving targ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on’t forget multi-service wireles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680" y="2790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What are Broadband Services?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36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Broadband Wireless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93840" y="851040"/>
            <a:ext cx="8355960" cy="2501640"/>
            <a:chOff x="393840" y="851040"/>
            <a:chExt cx="8355960" cy="2501640"/>
          </a:xfrm>
        </p:grpSpPr>
        <p:sp>
          <p:nvSpPr>
            <p:cNvPr id="163" name=""/>
            <p:cNvSpPr/>
            <p:nvPr/>
          </p:nvSpPr>
          <p:spPr>
            <a:xfrm>
              <a:off x="393840" y="851040"/>
              <a:ext cx="8355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3840" y="851040"/>
              <a:ext cx="8355960" cy="25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outh Let Their Thumbs Do the Talking in Japan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1800"/>
              </a:br>
              <a:br>
                <a:rPr sz="18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 York Times April 30, 200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STRACT - Young Japanese in a quiet, technology-driven change are developing hyper-agile thumbs, the fruit of childhoods spent furiously thumbing hand-held computer games and young adulthoods thumbing out e-mail messages on cell-phone key pads; a study of cell-phone habits of people in eight major world cities finds Japan's 'thumb generation' is the most advanced in the worl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0 Words / 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0 Emails / D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ell Phones With Came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spacer" descr=""/>
          <p:cNvPicPr/>
          <p:nvPr/>
        </p:nvPicPr>
        <p:blipFill>
          <a:blip r:embed="rId1"/>
          <a:stretch/>
        </p:blipFill>
        <p:spPr>
          <a:xfrm>
            <a:off x="1754280" y="1468440"/>
            <a:ext cx="11160" cy="79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5040" y="1027080"/>
            <a:ext cx="638280" cy="1085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83160" y="1027080"/>
            <a:ext cx="638280" cy="10857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6067440" y="915840"/>
            <a:ext cx="2949840" cy="1527840"/>
            <a:chOff x="6067440" y="915840"/>
            <a:chExt cx="2949840" cy="1527840"/>
          </a:xfrm>
        </p:grpSpPr>
        <p:sp>
          <p:nvSpPr>
            <p:cNvPr id="169" name=""/>
            <p:cNvSpPr/>
            <p:nvPr/>
          </p:nvSpPr>
          <p:spPr>
            <a:xfrm>
              <a:off x="6067440" y="915840"/>
              <a:ext cx="2894040" cy="1376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78240" y="946080"/>
              <a:ext cx="2939040" cy="14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Typical North American Central 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k pairs termin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5% residential, 35% busi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k residences (2+ pair per hom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I : Serving Area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LC: Digital Loop Carr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64880" y="1752120"/>
            <a:ext cx="8582400" cy="4775760"/>
            <a:chOff x="164880" y="1752120"/>
            <a:chExt cx="8582400" cy="4775760"/>
          </a:xfrm>
        </p:grpSpPr>
        <p:grpSp>
          <p:nvGrpSpPr>
            <p:cNvPr id="172" name=""/>
            <p:cNvGrpSpPr/>
            <p:nvPr/>
          </p:nvGrpSpPr>
          <p:grpSpPr>
            <a:xfrm>
              <a:off x="685800" y="2417760"/>
              <a:ext cx="947520" cy="658800"/>
              <a:chOff x="685800" y="2417760"/>
              <a:chExt cx="947520" cy="658800"/>
            </a:xfrm>
          </p:grpSpPr>
          <p:sp>
            <p:nvSpPr>
              <p:cNvPr id="173" name=""/>
              <p:cNvSpPr/>
              <p:nvPr/>
            </p:nvSpPr>
            <p:spPr>
              <a:xfrm>
                <a:off x="685800" y="2428920"/>
                <a:ext cx="882360" cy="647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98040" y="2417760"/>
                <a:ext cx="935280" cy="62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entral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Off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574640" y="2759040"/>
              <a:ext cx="6223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14760" y="2590920"/>
              <a:ext cx="282600" cy="282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52640" y="2759040"/>
              <a:ext cx="0" cy="79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82640" y="3184560"/>
              <a:ext cx="3330720" cy="3330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62120" y="3506760"/>
              <a:ext cx="519120" cy="361440"/>
              <a:chOff x="2562120" y="3506760"/>
              <a:chExt cx="519120" cy="361440"/>
            </a:xfrm>
          </p:grpSpPr>
          <p:sp>
            <p:nvSpPr>
              <p:cNvPr id="180" name=""/>
              <p:cNvSpPr/>
              <p:nvPr/>
            </p:nvSpPr>
            <p:spPr>
              <a:xfrm>
                <a:off x="2598840" y="3560760"/>
                <a:ext cx="455760" cy="299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62120" y="3506760"/>
                <a:ext cx="51912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A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843280" y="3862440"/>
              <a:ext cx="0" cy="22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10120" y="3963960"/>
              <a:ext cx="1065600" cy="537840"/>
              <a:chOff x="2310120" y="3963960"/>
              <a:chExt cx="1065600" cy="537840"/>
            </a:xfrm>
          </p:grpSpPr>
          <p:sp>
            <p:nvSpPr>
              <p:cNvPr id="184" name=""/>
              <p:cNvSpPr/>
              <p:nvPr/>
            </p:nvSpPr>
            <p:spPr>
              <a:xfrm rot="10800000">
                <a:off x="2843640" y="3968640"/>
                <a:ext cx="53208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rot="10800000">
                <a:off x="2310120" y="3963960"/>
                <a:ext cx="53280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310120" y="3682800"/>
              <a:ext cx="1065600" cy="537840"/>
              <a:chOff x="2310120" y="3682800"/>
              <a:chExt cx="1065600" cy="537840"/>
            </a:xfrm>
          </p:grpSpPr>
          <p:sp>
            <p:nvSpPr>
              <p:cNvPr id="187" name=""/>
              <p:cNvSpPr/>
              <p:nvPr/>
            </p:nvSpPr>
            <p:spPr>
              <a:xfrm rot="10800000">
                <a:off x="2843640" y="3687480"/>
                <a:ext cx="53208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10800000">
                <a:off x="2310120" y="3682800"/>
                <a:ext cx="53280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3052800" y="3705120"/>
              <a:ext cx="32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71600" y="3705120"/>
              <a:ext cx="3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195720" y="4608000"/>
              <a:ext cx="1177560" cy="1481760"/>
              <a:chOff x="3195720" y="4608000"/>
              <a:chExt cx="1177560" cy="14817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3195720" y="4608000"/>
                <a:ext cx="1174680" cy="430920"/>
                <a:chOff x="3195720" y="4608000"/>
                <a:chExt cx="1174680" cy="43092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3195720" y="4608000"/>
                  <a:ext cx="450720" cy="430920"/>
                  <a:chOff x="3195720" y="4608000"/>
                  <a:chExt cx="450720" cy="43092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flipH="1">
                    <a:off x="3276000" y="4707000"/>
                    <a:ext cx="289080" cy="3110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>
                    <a:off x="3465720" y="4870440"/>
                    <a:ext cx="69840" cy="1443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>
                    <a:off x="3379680" y="4762440"/>
                    <a:ext cx="218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>
                    <a:off x="3316680" y="4800600"/>
                    <a:ext cx="102960" cy="11592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368880" y="4799160"/>
                    <a:ext cx="0" cy="118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>
                    <a:off x="3316680" y="485784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3195720" y="4608000"/>
                    <a:ext cx="450720" cy="142920"/>
                    <a:chOff x="3195720" y="4608000"/>
                    <a:chExt cx="450720" cy="14292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 flipH="1" flipV="1">
                      <a:off x="3417840" y="4609080"/>
                      <a:ext cx="228600" cy="1418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 flipV="1">
                      <a:off x="3195720" y="4608000"/>
                      <a:ext cx="228600" cy="142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3919680" y="4608000"/>
                  <a:ext cx="450720" cy="430920"/>
                  <a:chOff x="3919680" y="4608000"/>
                  <a:chExt cx="450720" cy="4309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>
                    <a:off x="3999960" y="4707000"/>
                    <a:ext cx="289080" cy="3110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>
                    <a:off x="4189680" y="4870440"/>
                    <a:ext cx="69840" cy="1443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>
                    <a:off x="4103640" y="4762440"/>
                    <a:ext cx="218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>
                    <a:off x="4040640" y="4800600"/>
                    <a:ext cx="102960" cy="11592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4092840" y="4799160"/>
                    <a:ext cx="0" cy="118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>
                    <a:off x="4040640" y="485784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3919680" y="4608000"/>
                    <a:ext cx="450720" cy="142920"/>
                    <a:chOff x="3919680" y="4608000"/>
                    <a:chExt cx="450720" cy="1429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flipV="1">
                      <a:off x="4141800" y="4609080"/>
                      <a:ext cx="228600" cy="1418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V="1">
                      <a:off x="3919680" y="4608000"/>
                      <a:ext cx="228600" cy="142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3" name=""/>
              <p:cNvGrpSpPr/>
              <p:nvPr/>
            </p:nvGrpSpPr>
            <p:grpSpPr>
              <a:xfrm>
                <a:off x="3199320" y="5659560"/>
                <a:ext cx="1173960" cy="430200"/>
                <a:chOff x="3199320" y="5659560"/>
                <a:chExt cx="1173960" cy="4302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3199320" y="5659560"/>
                  <a:ext cx="450360" cy="430200"/>
                  <a:chOff x="3199320" y="5659560"/>
                  <a:chExt cx="450360" cy="4302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>
                    <a:off x="3279600" y="5757840"/>
                    <a:ext cx="288720" cy="3106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3467880" y="5921280"/>
                    <a:ext cx="69480" cy="1440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>
                    <a:off x="3382920" y="5813280"/>
                    <a:ext cx="218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>
                    <a:off x="3318840" y="5851440"/>
                    <a:ext cx="102600" cy="1155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371760" y="5850000"/>
                    <a:ext cx="0" cy="118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>
                    <a:off x="3319200" y="5908680"/>
                    <a:ext cx="102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3199320" y="5659560"/>
                    <a:ext cx="450360" cy="141840"/>
                    <a:chOff x="3199320" y="5659560"/>
                    <a:chExt cx="450360" cy="14184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 flipH="1" flipV="1">
                      <a:off x="3421440" y="5659920"/>
                      <a:ext cx="228240" cy="141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V="1">
                      <a:off x="3199320" y="5659560"/>
                      <a:ext cx="228240" cy="1418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3922920" y="5659560"/>
                  <a:ext cx="450360" cy="430200"/>
                  <a:chOff x="3922920" y="5659560"/>
                  <a:chExt cx="450360" cy="4302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H="1">
                    <a:off x="4003200" y="5757840"/>
                    <a:ext cx="288720" cy="3106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flipH="1">
                    <a:off x="4191480" y="5921280"/>
                    <a:ext cx="69480" cy="1440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flipH="1">
                    <a:off x="4106520" y="5813280"/>
                    <a:ext cx="218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>
                    <a:off x="4042440" y="5851440"/>
                    <a:ext cx="102600" cy="1155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095360" y="5850000"/>
                    <a:ext cx="0" cy="118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H="1">
                    <a:off x="4042800" y="5908680"/>
                    <a:ext cx="102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922920" y="5659560"/>
                    <a:ext cx="450360" cy="141840"/>
                    <a:chOff x="3922920" y="5659560"/>
                    <a:chExt cx="450360" cy="1418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flipV="1">
                      <a:off x="4145040" y="5659920"/>
                      <a:ext cx="228240" cy="141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V="1">
                      <a:off x="3922920" y="5659560"/>
                      <a:ext cx="228240" cy="1418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34" name=""/>
            <p:cNvGrpSpPr/>
            <p:nvPr/>
          </p:nvGrpSpPr>
          <p:grpSpPr>
            <a:xfrm>
              <a:off x="2306880" y="4627440"/>
              <a:ext cx="1065600" cy="537840"/>
              <a:chOff x="2306880" y="4627440"/>
              <a:chExt cx="1065600" cy="537840"/>
            </a:xfrm>
          </p:grpSpPr>
          <p:sp>
            <p:nvSpPr>
              <p:cNvPr id="235" name=""/>
              <p:cNvSpPr/>
              <p:nvPr/>
            </p:nvSpPr>
            <p:spPr>
              <a:xfrm rot="10800000">
                <a:off x="2840400" y="4632120"/>
                <a:ext cx="53208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rot="10800000">
                <a:off x="2306880" y="4627440"/>
                <a:ext cx="53280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139920" y="5257800"/>
              <a:ext cx="1438560" cy="263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5000" y="5165640"/>
              <a:ext cx="156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29160" y="5124600"/>
              <a:ext cx="88920" cy="8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3574800" y="4892400"/>
              <a:ext cx="9828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689280" y="4898880"/>
              <a:ext cx="30816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571560" y="5165640"/>
              <a:ext cx="104760" cy="70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3673440" y="5162040"/>
              <a:ext cx="317520" cy="752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16560" y="3197160"/>
              <a:ext cx="3330720" cy="3330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6296040" y="3519360"/>
              <a:ext cx="519120" cy="361440"/>
              <a:chOff x="6296040" y="3519360"/>
              <a:chExt cx="519120" cy="361440"/>
            </a:xfrm>
          </p:grpSpPr>
          <p:sp>
            <p:nvSpPr>
              <p:cNvPr id="246" name=""/>
              <p:cNvSpPr/>
              <p:nvPr/>
            </p:nvSpPr>
            <p:spPr>
              <a:xfrm>
                <a:off x="6332400" y="3573360"/>
                <a:ext cx="455400" cy="2998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296040" y="3519360"/>
                <a:ext cx="51912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A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576840" y="3875040"/>
              <a:ext cx="0" cy="22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044040" y="3976560"/>
              <a:ext cx="1065600" cy="537840"/>
              <a:chOff x="6044040" y="3976560"/>
              <a:chExt cx="1065600" cy="537840"/>
            </a:xfrm>
          </p:grpSpPr>
          <p:sp>
            <p:nvSpPr>
              <p:cNvPr id="250" name=""/>
              <p:cNvSpPr/>
              <p:nvPr/>
            </p:nvSpPr>
            <p:spPr>
              <a:xfrm rot="10800000">
                <a:off x="6577560" y="3981240"/>
                <a:ext cx="53208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10800000">
                <a:off x="6044040" y="3976560"/>
                <a:ext cx="53280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6044040" y="3695760"/>
              <a:ext cx="1065600" cy="537840"/>
              <a:chOff x="6044040" y="3695760"/>
              <a:chExt cx="1065600" cy="537840"/>
            </a:xfrm>
          </p:grpSpPr>
          <p:sp>
            <p:nvSpPr>
              <p:cNvPr id="253" name=""/>
              <p:cNvSpPr/>
              <p:nvPr/>
            </p:nvSpPr>
            <p:spPr>
              <a:xfrm rot="10800000">
                <a:off x="6577560" y="3700440"/>
                <a:ext cx="53208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0800000">
                <a:off x="6044040" y="3695760"/>
                <a:ext cx="53280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786720" y="3718080"/>
              <a:ext cx="32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05520" y="3718080"/>
              <a:ext cx="3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929280" y="4621320"/>
              <a:ext cx="1177560" cy="1481400"/>
              <a:chOff x="6929280" y="4621320"/>
              <a:chExt cx="1177560" cy="148140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6929280" y="4621320"/>
                <a:ext cx="1174680" cy="430200"/>
                <a:chOff x="6929280" y="4621320"/>
                <a:chExt cx="1174680" cy="430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6929280" y="4621320"/>
                  <a:ext cx="450720" cy="430200"/>
                  <a:chOff x="6929280" y="4621320"/>
                  <a:chExt cx="450720" cy="430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>
                    <a:off x="7009560" y="4719600"/>
                    <a:ext cx="289080" cy="3106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>
                    <a:off x="7199280" y="4883040"/>
                    <a:ext cx="69840" cy="1440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H="1">
                    <a:off x="7113240" y="4775040"/>
                    <a:ext cx="218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>
                    <a:off x="7050240" y="4813200"/>
                    <a:ext cx="102960" cy="1155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7102440" y="4811760"/>
                    <a:ext cx="0" cy="118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>
                    <a:off x="7050240" y="487044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6929280" y="4621320"/>
                    <a:ext cx="450720" cy="141840"/>
                    <a:chOff x="6929280" y="4621320"/>
                    <a:chExt cx="450720" cy="14184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flipV="1">
                      <a:off x="7151400" y="4621680"/>
                      <a:ext cx="228600" cy="141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V="1">
                      <a:off x="6929280" y="4621320"/>
                      <a:ext cx="228600" cy="1418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7653240" y="4621320"/>
                  <a:ext cx="450720" cy="430200"/>
                  <a:chOff x="7653240" y="4621320"/>
                  <a:chExt cx="450720" cy="43020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flipH="1">
                    <a:off x="7733520" y="4719600"/>
                    <a:ext cx="289080" cy="3106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>
                    <a:off x="7923240" y="4883040"/>
                    <a:ext cx="69840" cy="1440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>
                    <a:off x="7837200" y="4775040"/>
                    <a:ext cx="218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>
                    <a:off x="7774200" y="4813200"/>
                    <a:ext cx="102960" cy="1155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7826400" y="4811760"/>
                    <a:ext cx="0" cy="118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>
                    <a:off x="7774200" y="4870440"/>
                    <a:ext cx="102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653240" y="4621320"/>
                    <a:ext cx="450720" cy="141840"/>
                    <a:chOff x="7653240" y="4621320"/>
                    <a:chExt cx="450720" cy="14184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 flipH="1" flipV="1">
                      <a:off x="7875360" y="4621680"/>
                      <a:ext cx="228600" cy="141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V="1">
                      <a:off x="7653240" y="4621320"/>
                      <a:ext cx="228600" cy="1418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9" name=""/>
              <p:cNvGrpSpPr/>
              <p:nvPr/>
            </p:nvGrpSpPr>
            <p:grpSpPr>
              <a:xfrm>
                <a:off x="6932880" y="5671800"/>
                <a:ext cx="1173960" cy="430920"/>
                <a:chOff x="6932880" y="5671800"/>
                <a:chExt cx="1173960" cy="430920"/>
              </a:xfrm>
            </p:grpSpPr>
            <p:grpSp>
              <p:nvGrpSpPr>
                <p:cNvPr id="280" name=""/>
                <p:cNvGrpSpPr/>
                <p:nvPr/>
              </p:nvGrpSpPr>
              <p:grpSpPr>
                <a:xfrm>
                  <a:off x="6932880" y="5671800"/>
                  <a:ext cx="450360" cy="430920"/>
                  <a:chOff x="6932880" y="5671800"/>
                  <a:chExt cx="450360" cy="4309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>
                    <a:off x="7013160" y="5770800"/>
                    <a:ext cx="288720" cy="3110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>
                    <a:off x="7201440" y="5934240"/>
                    <a:ext cx="69480" cy="1443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>
                    <a:off x="7116480" y="5826240"/>
                    <a:ext cx="218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>
                    <a:off x="7052400" y="5864400"/>
                    <a:ext cx="102600" cy="11592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7105320" y="5862960"/>
                    <a:ext cx="0" cy="118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>
                    <a:off x="7052760" y="5921640"/>
                    <a:ext cx="102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6932880" y="5671800"/>
                    <a:ext cx="450360" cy="142920"/>
                    <a:chOff x="6932880" y="5671800"/>
                    <a:chExt cx="450360" cy="14292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flipH="1" flipV="1">
                      <a:off x="7155000" y="5672880"/>
                      <a:ext cx="228240" cy="1418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flipV="1">
                      <a:off x="6932880" y="5671800"/>
                      <a:ext cx="228240" cy="142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7656480" y="5671800"/>
                  <a:ext cx="450360" cy="430920"/>
                  <a:chOff x="7656480" y="5671800"/>
                  <a:chExt cx="450360" cy="4309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flipH="1">
                    <a:off x="7736760" y="5770800"/>
                    <a:ext cx="288720" cy="3110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7925040" y="5934240"/>
                    <a:ext cx="69480" cy="1443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>
                    <a:off x="7840080" y="5826240"/>
                    <a:ext cx="218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>
                    <a:off x="7776000" y="5864400"/>
                    <a:ext cx="102600" cy="11592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7828920" y="5862960"/>
                    <a:ext cx="0" cy="118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>
                    <a:off x="7776360" y="5921640"/>
                    <a:ext cx="102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7656480" y="5671800"/>
                    <a:ext cx="450360" cy="142920"/>
                    <a:chOff x="7656480" y="5671800"/>
                    <a:chExt cx="450360" cy="14292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 flipH="1" flipV="1">
                      <a:off x="7878600" y="5672880"/>
                      <a:ext cx="228240" cy="1418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flipV="1">
                      <a:off x="7656480" y="5671800"/>
                      <a:ext cx="228240" cy="142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0" name=""/>
            <p:cNvGrpSpPr/>
            <p:nvPr/>
          </p:nvGrpSpPr>
          <p:grpSpPr>
            <a:xfrm>
              <a:off x="6040800" y="4640040"/>
              <a:ext cx="1065600" cy="537840"/>
              <a:chOff x="6040800" y="4640040"/>
              <a:chExt cx="1065600" cy="537840"/>
            </a:xfrm>
          </p:grpSpPr>
          <p:sp>
            <p:nvSpPr>
              <p:cNvPr id="301" name=""/>
              <p:cNvSpPr/>
              <p:nvPr/>
            </p:nvSpPr>
            <p:spPr>
              <a:xfrm rot="10800000">
                <a:off x="6574320" y="4644720"/>
                <a:ext cx="53208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10800000">
                <a:off x="6040800" y="4640040"/>
                <a:ext cx="532800" cy="53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873840" y="5270400"/>
              <a:ext cx="1438200" cy="263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38920" y="5178600"/>
              <a:ext cx="156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62720" y="5137200"/>
              <a:ext cx="88920" cy="88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7308720" y="4905000"/>
              <a:ext cx="9864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422840" y="4911840"/>
              <a:ext cx="307800" cy="26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305480" y="5178600"/>
              <a:ext cx="104760" cy="70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7407360" y="5175360"/>
              <a:ext cx="317520" cy="75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7840" y="5818320"/>
              <a:ext cx="176724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ign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400-600 hom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1650960" y="5727600"/>
              <a:ext cx="19044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23120" y="2622600"/>
              <a:ext cx="282600" cy="282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61000" y="3394080"/>
              <a:ext cx="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64880" y="2759040"/>
              <a:ext cx="50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1136520" y="17521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35080" y="30664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6080" y="1893960"/>
              <a:ext cx="84528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e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84360" y="2695680"/>
              <a:ext cx="6226200" cy="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5937120" y="2521080"/>
              <a:ext cx="271440" cy="284040"/>
              <a:chOff x="5937120" y="2521080"/>
              <a:chExt cx="271440" cy="284040"/>
            </a:xfrm>
          </p:grpSpPr>
          <p:sp>
            <p:nvSpPr>
              <p:cNvPr id="320" name=""/>
              <p:cNvSpPr/>
              <p:nvPr/>
            </p:nvSpPr>
            <p:spPr>
              <a:xfrm>
                <a:off x="5937120" y="2521080"/>
                <a:ext cx="271440" cy="284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5975280" y="2544480"/>
                <a:ext cx="123840" cy="181080"/>
              </a:xfrm>
              <a:prstGeom prst="line">
                <a:avLst/>
              </a:prstGeom>
              <a:ln w="28440">
                <a:solidFill>
                  <a:srgbClr val="33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6049800" y="2595240"/>
                <a:ext cx="123840" cy="181080"/>
              </a:xfrm>
              <a:prstGeom prst="line">
                <a:avLst/>
              </a:prstGeom>
              <a:ln w="28440">
                <a:solidFill>
                  <a:srgbClr val="33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 flipV="1">
              <a:off x="3781440" y="2583720"/>
              <a:ext cx="282600" cy="282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919680" y="2037960"/>
              <a:ext cx="0" cy="73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759200" y="2583720"/>
              <a:ext cx="282600" cy="282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902120" y="1968120"/>
              <a:ext cx="0" cy="73044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768920" y="2222640"/>
              <a:ext cx="271440" cy="284040"/>
              <a:chOff x="4768920" y="2222640"/>
              <a:chExt cx="271440" cy="284040"/>
            </a:xfrm>
          </p:grpSpPr>
          <p:sp>
            <p:nvSpPr>
              <p:cNvPr id="328" name=""/>
              <p:cNvSpPr/>
              <p:nvPr/>
            </p:nvSpPr>
            <p:spPr>
              <a:xfrm>
                <a:off x="4768920" y="2222640"/>
                <a:ext cx="271440" cy="284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807080" y="2246040"/>
                <a:ext cx="123840" cy="181080"/>
              </a:xfrm>
              <a:prstGeom prst="line">
                <a:avLst/>
              </a:prstGeom>
              <a:ln w="28440">
                <a:solidFill>
                  <a:srgbClr val="33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4881600" y="2296800"/>
                <a:ext cx="123840" cy="181080"/>
              </a:xfrm>
              <a:prstGeom prst="line">
                <a:avLst/>
              </a:prstGeom>
              <a:ln w="28440">
                <a:solidFill>
                  <a:srgbClr val="33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561000" y="2689200"/>
              <a:ext cx="0" cy="233280"/>
            </a:xfrm>
            <a:prstGeom prst="line">
              <a:avLst/>
            </a:prstGeom>
            <a:ln w="284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5607000" y="2968560"/>
              <a:ext cx="596880" cy="361440"/>
              <a:chOff x="5607000" y="2968560"/>
              <a:chExt cx="596880" cy="361440"/>
            </a:xfrm>
          </p:grpSpPr>
          <p:sp>
            <p:nvSpPr>
              <p:cNvPr id="333" name=""/>
              <p:cNvSpPr/>
              <p:nvPr/>
            </p:nvSpPr>
            <p:spPr>
              <a:xfrm>
                <a:off x="5643720" y="3019320"/>
                <a:ext cx="520560" cy="3002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607000" y="2968560"/>
                <a:ext cx="59688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079320" y="2751120"/>
              <a:ext cx="481680" cy="336600"/>
              <a:chOff x="6079320" y="2751120"/>
              <a:chExt cx="481680" cy="336600"/>
            </a:xfrm>
          </p:grpSpPr>
          <p:sp>
            <p:nvSpPr>
              <p:cNvPr id="336" name=""/>
              <p:cNvSpPr/>
              <p:nvPr/>
            </p:nvSpPr>
            <p:spPr>
              <a:xfrm flipH="1" rot="10800000">
                <a:off x="6079320" y="2751120"/>
                <a:ext cx="481680" cy="33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46640" y="3086280"/>
                <a:ext cx="208080" cy="0"/>
              </a:xfrm>
              <a:prstGeom prst="line">
                <a:avLst/>
              </a:prstGeom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79320" y="3243240"/>
              <a:ext cx="481680" cy="335880"/>
              <a:chOff x="6079320" y="3243240"/>
              <a:chExt cx="481680" cy="335880"/>
            </a:xfrm>
          </p:grpSpPr>
          <p:sp>
            <p:nvSpPr>
              <p:cNvPr id="339" name=""/>
              <p:cNvSpPr/>
              <p:nvPr/>
            </p:nvSpPr>
            <p:spPr>
              <a:xfrm flipH="1" flipV="1" rot="10800000">
                <a:off x="6079320" y="3242880"/>
                <a:ext cx="481680" cy="33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46640" y="324432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6291360" y="2924280"/>
              <a:ext cx="271440" cy="284040"/>
              <a:chOff x="6291360" y="2924280"/>
              <a:chExt cx="271440" cy="284040"/>
            </a:xfrm>
          </p:grpSpPr>
          <p:sp>
            <p:nvSpPr>
              <p:cNvPr id="342" name=""/>
              <p:cNvSpPr/>
              <p:nvPr/>
            </p:nvSpPr>
            <p:spPr>
              <a:xfrm>
                <a:off x="6291360" y="2924280"/>
                <a:ext cx="271440" cy="284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6329520" y="2947680"/>
                <a:ext cx="123840" cy="181080"/>
              </a:xfrm>
              <a:prstGeom prst="line">
                <a:avLst/>
              </a:prstGeom>
              <a:ln w="28440">
                <a:solidFill>
                  <a:srgbClr val="33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6404040" y="2998440"/>
                <a:ext cx="123840" cy="181080"/>
              </a:xfrm>
              <a:prstGeom prst="line">
                <a:avLst/>
              </a:prstGeom>
              <a:ln w="28440">
                <a:solidFill>
                  <a:srgbClr val="33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656000" y="2736720"/>
              <a:ext cx="102492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t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1200 p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2494080" y="3018960"/>
              <a:ext cx="30456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3920" y="4175280"/>
              <a:ext cx="13161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2400 p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92400" y="3971880"/>
              <a:ext cx="241200" cy="191448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49680 h 1914480"/>
                <a:gd name="textAreaBottom" fmla="*/ 1864800 h 191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74840" y="4586400"/>
              <a:ext cx="718920" cy="31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37320" y="3863880"/>
              <a:ext cx="68652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5 p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657600" y="4238640"/>
              <a:ext cx="324000" cy="73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26120" y="1971720"/>
              <a:ext cx="6195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5229000" y="3164040"/>
              <a:ext cx="481680" cy="335880"/>
              <a:chOff x="5229000" y="3164040"/>
              <a:chExt cx="481680" cy="335880"/>
            </a:xfrm>
          </p:grpSpPr>
          <p:sp>
            <p:nvSpPr>
              <p:cNvPr id="354" name=""/>
              <p:cNvSpPr/>
              <p:nvPr/>
            </p:nvSpPr>
            <p:spPr>
              <a:xfrm flipV="1" rot="10800000">
                <a:off x="5229000" y="3163680"/>
                <a:ext cx="481680" cy="33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435280" y="316512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225760" y="2729160"/>
              <a:ext cx="481680" cy="335880"/>
              <a:chOff x="5225760" y="2729160"/>
              <a:chExt cx="481680" cy="335880"/>
            </a:xfrm>
          </p:grpSpPr>
          <p:sp>
            <p:nvSpPr>
              <p:cNvPr id="357" name=""/>
              <p:cNvSpPr/>
              <p:nvPr/>
            </p:nvSpPr>
            <p:spPr>
              <a:xfrm rot="10800000">
                <a:off x="5225760" y="2729160"/>
                <a:ext cx="481680" cy="33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432040" y="3063960"/>
                <a:ext cx="20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 flipV="1" rot="10800000">
              <a:off x="5401080" y="3296520"/>
              <a:ext cx="48168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6000" y="317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Where are the customers?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7080" y="33012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649d"/>
                </a:solidFill>
                <a:latin typeface="Arial Black"/>
              </a:rPr>
              <a:t>Passive Optical Network Cheat Sheet</a:t>
            </a:r>
            <a:endParaRPr b="0" lang="en-US" sz="1800" spc="-1" strike="noStrike">
              <a:solidFill>
                <a:srgbClr val="25649d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933560" y="774720"/>
            <a:ext cx="6676920" cy="2387520"/>
            <a:chOff x="1933560" y="774720"/>
            <a:chExt cx="6676920" cy="2387520"/>
          </a:xfrm>
        </p:grpSpPr>
        <p:sp>
          <p:nvSpPr>
            <p:cNvPr id="363" name=""/>
            <p:cNvSpPr/>
            <p:nvPr/>
          </p:nvSpPr>
          <p:spPr>
            <a:xfrm>
              <a:off x="1933560" y="774720"/>
              <a:ext cx="6676920" cy="23875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12760" y="804960"/>
              <a:ext cx="648072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cified by ITU-T &amp; IEE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5&amp; 622 Mbps currently,  1.2 &amp; 2.5 Gbps in preparation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TU-T 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tection switching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ynamic bandwidth allocation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DM overlay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cryption used to insure security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-rate, QOS, etc. provisionable on a per-customer basi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s in deployment (tens of thousands of customers turned u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888080" y="5315040"/>
            <a:ext cx="88560" cy="8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933800" y="4336920"/>
            <a:ext cx="743040" cy="10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3920" y="305604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ral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76520" y="4568760"/>
            <a:ext cx="752400" cy="152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399680" y="5521320"/>
            <a:ext cx="26676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9720" y="5351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-n/STM-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42880" y="5761080"/>
            <a:ext cx="960480" cy="605880"/>
            <a:chOff x="542880" y="5761080"/>
            <a:chExt cx="960480" cy="605880"/>
          </a:xfrm>
        </p:grpSpPr>
        <p:grpSp>
          <p:nvGrpSpPr>
            <p:cNvPr id="372" name=""/>
            <p:cNvGrpSpPr/>
            <p:nvPr/>
          </p:nvGrpSpPr>
          <p:grpSpPr>
            <a:xfrm>
              <a:off x="542880" y="5761080"/>
              <a:ext cx="960480" cy="605880"/>
              <a:chOff x="542880" y="5761080"/>
              <a:chExt cx="960480" cy="605880"/>
            </a:xfrm>
          </p:grpSpPr>
          <p:sp>
            <p:nvSpPr>
              <p:cNvPr id="373" name=""/>
              <p:cNvSpPr/>
              <p:nvPr/>
            </p:nvSpPr>
            <p:spPr>
              <a:xfrm>
                <a:off x="843120" y="5778000"/>
                <a:ext cx="230760" cy="2012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035360" y="5761080"/>
                <a:ext cx="189360" cy="162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207080" y="5927760"/>
                <a:ext cx="296280" cy="253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49800" y="6038280"/>
                <a:ext cx="339120" cy="291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21400" y="6074640"/>
                <a:ext cx="252360" cy="2174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3400" y="6094080"/>
                <a:ext cx="189360" cy="161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2880" y="5964480"/>
                <a:ext cx="189360" cy="162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8920" y="5816880"/>
                <a:ext cx="295200" cy="2552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85240" y="6112440"/>
                <a:ext cx="296280" cy="254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249920" y="5834160"/>
                <a:ext cx="232200" cy="19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184760" y="5761080"/>
                <a:ext cx="209880" cy="181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0280" y="5809320"/>
                <a:ext cx="829800" cy="479880"/>
              </a:xfrm>
              <a:custGeom>
                <a:avLst/>
                <a:gdLst/>
                <a:ahLst/>
                <a:rect l="l" t="t" r="r" b="b"/>
                <a:pathLst>
                  <a:path w="1958" h="1061">
                    <a:moveTo>
                      <a:pt x="603" y="106"/>
                    </a:moveTo>
                    <a:lnTo>
                      <a:pt x="686" y="29"/>
                    </a:lnTo>
                    <a:lnTo>
                      <a:pt x="1051" y="35"/>
                    </a:lnTo>
                    <a:lnTo>
                      <a:pt x="1309" y="0"/>
                    </a:lnTo>
                    <a:lnTo>
                      <a:pt x="1636" y="126"/>
                    </a:lnTo>
                    <a:lnTo>
                      <a:pt x="1799" y="91"/>
                    </a:lnTo>
                    <a:lnTo>
                      <a:pt x="1887" y="106"/>
                    </a:lnTo>
                    <a:lnTo>
                      <a:pt x="1906" y="420"/>
                    </a:lnTo>
                    <a:lnTo>
                      <a:pt x="1957" y="472"/>
                    </a:lnTo>
                    <a:lnTo>
                      <a:pt x="1806" y="714"/>
                    </a:lnTo>
                    <a:lnTo>
                      <a:pt x="1642" y="548"/>
                    </a:lnTo>
                    <a:lnTo>
                      <a:pt x="1597" y="634"/>
                    </a:lnTo>
                    <a:lnTo>
                      <a:pt x="1366" y="968"/>
                    </a:lnTo>
                    <a:lnTo>
                      <a:pt x="591" y="1060"/>
                    </a:lnTo>
                    <a:lnTo>
                      <a:pt x="189" y="994"/>
                    </a:lnTo>
                    <a:lnTo>
                      <a:pt x="63" y="786"/>
                    </a:lnTo>
                    <a:lnTo>
                      <a:pt x="63" y="572"/>
                    </a:lnTo>
                    <a:lnTo>
                      <a:pt x="0" y="396"/>
                    </a:lnTo>
                    <a:lnTo>
                      <a:pt x="603" y="106"/>
                    </a:lnTo>
                  </a:path>
                </a:pathLst>
              </a:custGeom>
              <a:solidFill>
                <a:srgbClr val="ffffff"/>
              </a:solidFill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1171440" y="5954760"/>
              <a:ext cx="230040" cy="20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9280" y="580248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D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428920" y="5349960"/>
            <a:ext cx="248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167440" y="4697280"/>
            <a:ext cx="271440" cy="284040"/>
            <a:chOff x="5167440" y="4697280"/>
            <a:chExt cx="271440" cy="284040"/>
          </a:xfrm>
        </p:grpSpPr>
        <p:sp>
          <p:nvSpPr>
            <p:cNvPr id="389" name=""/>
            <p:cNvSpPr/>
            <p:nvPr/>
          </p:nvSpPr>
          <p:spPr>
            <a:xfrm>
              <a:off x="5167440" y="4697280"/>
              <a:ext cx="271440" cy="28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205240" y="4721040"/>
              <a:ext cx="123840" cy="18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280120" y="4771440"/>
              <a:ext cx="123840" cy="1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110040" y="5194440"/>
            <a:ext cx="271440" cy="284040"/>
            <a:chOff x="3110040" y="5194440"/>
            <a:chExt cx="271440" cy="284040"/>
          </a:xfrm>
        </p:grpSpPr>
        <p:sp>
          <p:nvSpPr>
            <p:cNvPr id="393" name=""/>
            <p:cNvSpPr/>
            <p:nvPr/>
          </p:nvSpPr>
          <p:spPr>
            <a:xfrm>
              <a:off x="3110040" y="5194440"/>
              <a:ext cx="271440" cy="28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148200" y="5217840"/>
              <a:ext cx="123840" cy="1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3222720" y="5268600"/>
              <a:ext cx="123840" cy="1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4160520" y="5651640"/>
            <a:ext cx="7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05200" y="5473440"/>
            <a:ext cx="152640" cy="199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45200" y="4579920"/>
            <a:ext cx="81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1288800" y="4187520"/>
            <a:ext cx="352440" cy="57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1280" y="452772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-nc/G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84080" y="3544920"/>
            <a:ext cx="960480" cy="605880"/>
            <a:chOff x="784080" y="3544920"/>
            <a:chExt cx="960480" cy="605880"/>
          </a:xfrm>
        </p:grpSpPr>
        <p:grpSp>
          <p:nvGrpSpPr>
            <p:cNvPr id="402" name=""/>
            <p:cNvGrpSpPr/>
            <p:nvPr/>
          </p:nvGrpSpPr>
          <p:grpSpPr>
            <a:xfrm>
              <a:off x="784080" y="3544920"/>
              <a:ext cx="960480" cy="605880"/>
              <a:chOff x="784080" y="3544920"/>
              <a:chExt cx="960480" cy="605880"/>
            </a:xfrm>
          </p:grpSpPr>
          <p:sp>
            <p:nvSpPr>
              <p:cNvPr id="403" name=""/>
              <p:cNvSpPr/>
              <p:nvPr/>
            </p:nvSpPr>
            <p:spPr>
              <a:xfrm>
                <a:off x="1084320" y="3561840"/>
                <a:ext cx="230760" cy="2012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276560" y="3544920"/>
                <a:ext cx="189360" cy="162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8280" y="3711600"/>
                <a:ext cx="296280" cy="253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91000" y="3822120"/>
                <a:ext cx="339120" cy="291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362600" y="3858480"/>
                <a:ext cx="252360" cy="2174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04600" y="3877920"/>
                <a:ext cx="189360" cy="161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84080" y="3748320"/>
                <a:ext cx="189360" cy="162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70120" y="3600720"/>
                <a:ext cx="295200" cy="2552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26440" y="3896280"/>
                <a:ext cx="296280" cy="254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491120" y="3618000"/>
                <a:ext cx="232200" cy="19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25960" y="3544920"/>
                <a:ext cx="209880" cy="181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61480" y="3593160"/>
                <a:ext cx="829800" cy="479880"/>
              </a:xfrm>
              <a:custGeom>
                <a:avLst/>
                <a:gdLst/>
                <a:ahLst/>
                <a:rect l="l" t="t" r="r" b="b"/>
                <a:pathLst>
                  <a:path w="1958" h="1061">
                    <a:moveTo>
                      <a:pt x="603" y="106"/>
                    </a:moveTo>
                    <a:lnTo>
                      <a:pt x="686" y="29"/>
                    </a:lnTo>
                    <a:lnTo>
                      <a:pt x="1051" y="35"/>
                    </a:lnTo>
                    <a:lnTo>
                      <a:pt x="1309" y="0"/>
                    </a:lnTo>
                    <a:lnTo>
                      <a:pt x="1636" y="126"/>
                    </a:lnTo>
                    <a:lnTo>
                      <a:pt x="1799" y="91"/>
                    </a:lnTo>
                    <a:lnTo>
                      <a:pt x="1887" y="106"/>
                    </a:lnTo>
                    <a:lnTo>
                      <a:pt x="1906" y="420"/>
                    </a:lnTo>
                    <a:lnTo>
                      <a:pt x="1957" y="472"/>
                    </a:lnTo>
                    <a:lnTo>
                      <a:pt x="1806" y="714"/>
                    </a:lnTo>
                    <a:lnTo>
                      <a:pt x="1642" y="548"/>
                    </a:lnTo>
                    <a:lnTo>
                      <a:pt x="1597" y="634"/>
                    </a:lnTo>
                    <a:lnTo>
                      <a:pt x="1366" y="968"/>
                    </a:lnTo>
                    <a:lnTo>
                      <a:pt x="591" y="1060"/>
                    </a:lnTo>
                    <a:lnTo>
                      <a:pt x="189" y="994"/>
                    </a:lnTo>
                    <a:lnTo>
                      <a:pt x="63" y="786"/>
                    </a:lnTo>
                    <a:lnTo>
                      <a:pt x="63" y="572"/>
                    </a:lnTo>
                    <a:lnTo>
                      <a:pt x="0" y="396"/>
                    </a:lnTo>
                    <a:lnTo>
                      <a:pt x="603" y="106"/>
                    </a:lnTo>
                  </a:path>
                </a:pathLst>
              </a:custGeom>
              <a:solidFill>
                <a:srgbClr val="ffffff"/>
              </a:solidFill>
              <a:ln cap="rnd"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1412640" y="3738600"/>
              <a:ext cx="230040" cy="20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70480" y="3586320"/>
              <a:ext cx="78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940280" y="5372280"/>
            <a:ext cx="833400" cy="672840"/>
            <a:chOff x="4940280" y="5372280"/>
            <a:chExt cx="833400" cy="672840"/>
          </a:xfrm>
        </p:grpSpPr>
        <p:sp>
          <p:nvSpPr>
            <p:cNvPr id="418" name=""/>
            <p:cNvSpPr/>
            <p:nvPr/>
          </p:nvSpPr>
          <p:spPr>
            <a:xfrm>
              <a:off x="4940280" y="5372280"/>
              <a:ext cx="833400" cy="67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5243400" y="5568840"/>
              <a:ext cx="271440" cy="283680"/>
              <a:chOff x="5243400" y="5568840"/>
              <a:chExt cx="271440" cy="283680"/>
            </a:xfrm>
          </p:grpSpPr>
          <p:sp>
            <p:nvSpPr>
              <p:cNvPr id="420" name=""/>
              <p:cNvSpPr/>
              <p:nvPr/>
            </p:nvSpPr>
            <p:spPr>
              <a:xfrm>
                <a:off x="5243400" y="5568840"/>
                <a:ext cx="271440" cy="2836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5281560" y="5592240"/>
                <a:ext cx="123840" cy="18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5356080" y="5643000"/>
                <a:ext cx="123840" cy="18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 flipV="1">
            <a:off x="4946760" y="4997160"/>
            <a:ext cx="2146320" cy="36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072120" y="5008680"/>
            <a:ext cx="271440" cy="284040"/>
            <a:chOff x="6072120" y="5008680"/>
            <a:chExt cx="271440" cy="284040"/>
          </a:xfrm>
        </p:grpSpPr>
        <p:sp>
          <p:nvSpPr>
            <p:cNvPr id="425" name=""/>
            <p:cNvSpPr/>
            <p:nvPr/>
          </p:nvSpPr>
          <p:spPr>
            <a:xfrm>
              <a:off x="6072120" y="5008680"/>
              <a:ext cx="271440" cy="28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6110280" y="5032080"/>
              <a:ext cx="123840" cy="1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6184800" y="5082840"/>
              <a:ext cx="123840" cy="1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891840" y="4319640"/>
            <a:ext cx="1950480" cy="1279440"/>
            <a:chOff x="6891840" y="4319640"/>
            <a:chExt cx="1950480" cy="1279440"/>
          </a:xfrm>
        </p:grpSpPr>
        <p:sp>
          <p:nvSpPr>
            <p:cNvPr id="429" name=""/>
            <p:cNvSpPr/>
            <p:nvPr/>
          </p:nvSpPr>
          <p:spPr>
            <a:xfrm>
              <a:off x="6994440" y="4600800"/>
              <a:ext cx="1847880" cy="99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93080" y="4691160"/>
              <a:ext cx="734760" cy="804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91840" y="4319640"/>
              <a:ext cx="161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remi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32880" y="5315040"/>
              <a:ext cx="77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37560" y="4937400"/>
              <a:ext cx="77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96880" y="4691160"/>
              <a:ext cx="76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ic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60520" y="50468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a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52040" y="4664160"/>
              <a:ext cx="817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t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O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457200" y="3375000"/>
            <a:ext cx="2457360" cy="30542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571840" y="3591000"/>
            <a:ext cx="5482800" cy="459000"/>
            <a:chOff x="2571840" y="3591000"/>
            <a:chExt cx="5482800" cy="459000"/>
          </a:xfrm>
        </p:grpSpPr>
        <p:sp>
          <p:nvSpPr>
            <p:cNvPr id="439" name=""/>
            <p:cNvSpPr/>
            <p:nvPr/>
          </p:nvSpPr>
          <p:spPr>
            <a:xfrm flipH="1" flipV="1">
              <a:off x="6748200" y="3797280"/>
              <a:ext cx="130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0280" y="3591000"/>
              <a:ext cx="212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 km Ma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@ 32-Way Split (155 Mbp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71840" y="3782880"/>
              <a:ext cx="22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309480" y="4640400"/>
            <a:ext cx="1476720" cy="459000"/>
            <a:chOff x="3309480" y="4640400"/>
            <a:chExt cx="1476720" cy="459000"/>
          </a:xfrm>
        </p:grpSpPr>
        <p:sp>
          <p:nvSpPr>
            <p:cNvPr id="443" name=""/>
            <p:cNvSpPr/>
            <p:nvPr/>
          </p:nvSpPr>
          <p:spPr>
            <a:xfrm>
              <a:off x="3650760" y="4640400"/>
              <a:ext cx="79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xx n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310 n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24400" y="4783320"/>
              <a:ext cx="36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3309480" y="4969080"/>
              <a:ext cx="36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480" y="29196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Example: Verizon Access Lines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  <p:sp>
        <p:nvSpPr>
          <p:cNvPr id="447" name=""/>
          <p:cNvSpPr/>
          <p:nvPr/>
        </p:nvSpPr>
        <p:spPr>
          <a:xfrm>
            <a:off x="63360" y="557280"/>
            <a:ext cx="914400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witched access lines in serv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3 Months Ended 3/31/02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d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,34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,29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58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1,22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 DS0 Equivalents (Dat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,53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voice grade equival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133,76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ale &amp; UNE-P lines (000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3,679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* N.B. Unbundled lines are not uniformly distribut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investor.verizon.com/financial/quarterly/VZ/1Q2002/1Q02Bulletin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084320" y="896760"/>
            <a:ext cx="5357880" cy="5030640"/>
            <a:chOff x="1084320" y="896760"/>
            <a:chExt cx="5357880" cy="5030640"/>
          </a:xfrm>
        </p:grpSpPr>
        <p:sp>
          <p:nvSpPr>
            <p:cNvPr id="449" name=""/>
            <p:cNvSpPr/>
            <p:nvPr/>
          </p:nvSpPr>
          <p:spPr>
            <a:xfrm>
              <a:off x="1084320" y="896760"/>
              <a:ext cx="5357880" cy="503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84320" y="896760"/>
              <a:ext cx="5357880" cy="503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316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1" name="World%20top%20ten%20DSL" descr=""/>
          <p:cNvPicPr/>
          <p:nvPr/>
        </p:nvPicPr>
        <p:blipFill>
          <a:blip r:embed="rId1"/>
          <a:stretch/>
        </p:blipFill>
        <p:spPr>
          <a:xfrm>
            <a:off x="641520" y="579600"/>
            <a:ext cx="8015040" cy="58752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0440" y="3934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649d"/>
                </a:solidFill>
                <a:latin typeface="Arial Black"/>
              </a:rPr>
              <a:t>DSL: Who’s Connected?</a:t>
            </a:r>
            <a:endParaRPr b="0" lang="en-US" sz="2400" spc="-1" strike="noStrike">
              <a:solidFill>
                <a:srgbClr val="25649d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22:45:33Z</dcterms:created>
  <dc:creator>Dilip Modi</dc:creator>
  <dc:description/>
  <dc:language>en-US</dc:language>
  <cp:lastModifiedBy>UGALE, Arvin Carlos D.</cp:lastModifiedBy>
  <dcterms:modified xsi:type="dcterms:W3CDTF">2002-07-19T14:02:08Z</dcterms:modified>
  <cp:revision>294</cp:revision>
  <dc:subject>Terawave</dc:subject>
  <dc:title>Alts Presentation</dc:title>
</cp:coreProperties>
</file>