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38D-0DF0-45C2-AA5A-24004FA6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A5E-A98F-4174-AE4C-4C56093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DC3-6C65-4A4B-9C2D-2CE8AB43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06F-7B34-44B6-936A-542E338A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537-A075-4A0C-9C9F-35A42B6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E2D-E1DC-4FE2-9F64-2A43E312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A77-1977-4240-9AEC-E44AEAA7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CB8-0FB0-4053-A39A-B361E87C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93B-3BEB-4597-9556-83F3937F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376-BCC5-45C4-9A69-5A14250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128-0181-4806-BB3E-CE244AF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691-24FF-47DC-AC9B-6AE481A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E3A2-4B4E-420F-A1E9-C81DD4D1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501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U-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kshop on IP/Optica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itose, 9-11 July 200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ession 11 -- Network Performance </a:t>
            </a:r>
            <a:br>
              <a:rPr sz="3200"/>
            </a:b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al Seitz, Chair SG 13/WP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Performance Specifications: Progress and 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l Morton, AT&amp;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Gs 13, 12, 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ng Optical Layer and IP Clien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eter Huckett, Actern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SGs 4, 13, 15, TMFor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/Optical Network Performance Manag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obey Trygar, Telcor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Gs 15, 4, TMFor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TU_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twork Performance (IP/Optical)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ss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opic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resen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iscu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 Up, Action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ITU_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348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91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P/Optical Networks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core, IP router clients, IP 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ypes of application data carried in IP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LS based network management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esourc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ayer traffic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protection switching, path rest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network deployment and managem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optical path provisioning and resto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service creation, new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P/Optical Networks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formance Benefits 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(and more reconfigurable) transmission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packet transfer delay, delay variation, loss,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“call” set up delays and blocking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service avail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SON/OTN performance parameters and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 ASON/OTN and IP network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nteroperable performance signal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 IP user/client requirements with contro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mpatible network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257800"/>
            <a:ext cx="20574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257800"/>
            <a:ext cx="20574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334120"/>
            <a:ext cx="2438280" cy="990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5029200"/>
            <a:ext cx="609840" cy="916560"/>
            <a:chOff x="3352680" y="5029200"/>
            <a:chExt cx="609840" cy="916560"/>
          </a:xfrm>
        </p:grpSpPr>
        <p:grpSp>
          <p:nvGrpSpPr>
            <p:cNvPr id="52" name=""/>
            <p:cNvGrpSpPr/>
            <p:nvPr/>
          </p:nvGrpSpPr>
          <p:grpSpPr>
            <a:xfrm>
              <a:off x="3352680" y="5029200"/>
              <a:ext cx="609840" cy="914400"/>
              <a:chOff x="3352680" y="5029200"/>
              <a:chExt cx="609840" cy="914400"/>
            </a:xfrm>
          </p:grpSpPr>
          <p:sp>
            <p:nvSpPr>
              <p:cNvPr id="53" name=""/>
              <p:cNvSpPr/>
              <p:nvPr/>
            </p:nvSpPr>
            <p:spPr>
              <a:xfrm>
                <a:off x="3352680" y="5029200"/>
                <a:ext cx="609840" cy="9144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52680" y="53341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52680" y="56386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352680" y="5029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33412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56386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29200" y="5029200"/>
            <a:ext cx="609480" cy="916560"/>
            <a:chOff x="5029200" y="5029200"/>
            <a:chExt cx="609480" cy="916560"/>
          </a:xfrm>
        </p:grpSpPr>
        <p:grpSp>
          <p:nvGrpSpPr>
            <p:cNvPr id="60" name=""/>
            <p:cNvGrpSpPr/>
            <p:nvPr/>
          </p:nvGrpSpPr>
          <p:grpSpPr>
            <a:xfrm>
              <a:off x="5029200" y="5029200"/>
              <a:ext cx="609480" cy="914400"/>
              <a:chOff x="5029200" y="5029200"/>
              <a:chExt cx="609480" cy="914400"/>
            </a:xfrm>
          </p:grpSpPr>
          <p:sp>
            <p:nvSpPr>
              <p:cNvPr id="61" name=""/>
              <p:cNvSpPr/>
              <p:nvPr/>
            </p:nvSpPr>
            <p:spPr>
              <a:xfrm>
                <a:off x="5029200" y="5029200"/>
                <a:ext cx="609480" cy="9144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292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29200" y="56386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029200" y="50292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5334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2920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120" y="3733920"/>
            <a:ext cx="1066680" cy="1981080"/>
            <a:chOff x="762120" y="3733920"/>
            <a:chExt cx="1066680" cy="1981080"/>
          </a:xfrm>
        </p:grpSpPr>
        <p:grpSp>
          <p:nvGrpSpPr>
            <p:cNvPr id="68" name=""/>
            <p:cNvGrpSpPr/>
            <p:nvPr/>
          </p:nvGrpSpPr>
          <p:grpSpPr>
            <a:xfrm>
              <a:off x="762120" y="3733920"/>
              <a:ext cx="990000" cy="1981080"/>
              <a:chOff x="762120" y="3733920"/>
              <a:chExt cx="990000" cy="1981080"/>
            </a:xfrm>
          </p:grpSpPr>
          <p:sp>
            <p:nvSpPr>
              <p:cNvPr id="69" name=""/>
              <p:cNvSpPr/>
              <p:nvPr/>
            </p:nvSpPr>
            <p:spPr>
              <a:xfrm>
                <a:off x="762120" y="3733920"/>
                <a:ext cx="990000" cy="1981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2120" y="441972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2120" y="502920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62120" y="39625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P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449604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51055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SICAL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3733920"/>
            <a:ext cx="1066680" cy="1981080"/>
            <a:chOff x="7162920" y="3733920"/>
            <a:chExt cx="1066680" cy="1981080"/>
          </a:xfrm>
        </p:grpSpPr>
        <p:grpSp>
          <p:nvGrpSpPr>
            <p:cNvPr id="76" name=""/>
            <p:cNvGrpSpPr/>
            <p:nvPr/>
          </p:nvGrpSpPr>
          <p:grpSpPr>
            <a:xfrm>
              <a:off x="7162920" y="3733920"/>
              <a:ext cx="990000" cy="1981080"/>
              <a:chOff x="7162920" y="3733920"/>
              <a:chExt cx="990000" cy="1981080"/>
            </a:xfrm>
          </p:grpSpPr>
          <p:sp>
            <p:nvSpPr>
              <p:cNvPr id="77" name=""/>
              <p:cNvSpPr/>
              <p:nvPr/>
            </p:nvSpPr>
            <p:spPr>
              <a:xfrm>
                <a:off x="7162920" y="3733920"/>
                <a:ext cx="990000" cy="1981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62920" y="441972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62920" y="502920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162920" y="39625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P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2920" y="449604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2920" y="51055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SICAL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96252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8732000">
            <a:off x="2819880" y="533340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PTICAL LAYER PERFORMANC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11480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80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P LAYER PERFORMANCE (Y.1540, Y.15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715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 ROUTER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5715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 ROUTER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182880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63868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5943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219320"/>
            <a:ext cx="2438280" cy="1447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676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CONTRO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1306440"/>
            <a:ext cx="2133720" cy="1447920"/>
            <a:chOff x="609480" y="1306440"/>
            <a:chExt cx="2133720" cy="1447920"/>
          </a:xfrm>
        </p:grpSpPr>
        <p:sp>
          <p:nvSpPr>
            <p:cNvPr id="97" name=""/>
            <p:cNvSpPr/>
            <p:nvPr/>
          </p:nvSpPr>
          <p:spPr>
            <a:xfrm>
              <a:off x="609480" y="1306440"/>
              <a:ext cx="2057400" cy="1447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480" y="1676520"/>
              <a:ext cx="213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P CONTROL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MENT PL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324480" y="1219320"/>
            <a:ext cx="2133720" cy="1447560"/>
            <a:chOff x="6324480" y="1219320"/>
            <a:chExt cx="2133720" cy="1447560"/>
          </a:xfrm>
        </p:grpSpPr>
        <p:sp>
          <p:nvSpPr>
            <p:cNvPr id="100" name=""/>
            <p:cNvSpPr/>
            <p:nvPr/>
          </p:nvSpPr>
          <p:spPr>
            <a:xfrm>
              <a:off x="6324480" y="1219320"/>
              <a:ext cx="2057400" cy="1447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1589040"/>
              <a:ext cx="213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P CONTROL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MENT PL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666880" y="5638680"/>
            <a:ext cx="609840" cy="30492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1828800"/>
            <a:ext cx="609840" cy="30492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4114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086600" y="2743200"/>
            <a:ext cx="1447920" cy="838080"/>
            <a:chOff x="7086600" y="2743200"/>
            <a:chExt cx="1447920" cy="838080"/>
          </a:xfrm>
        </p:grpSpPr>
        <p:sp>
          <p:nvSpPr>
            <p:cNvPr id="107" name=""/>
            <p:cNvSpPr/>
            <p:nvPr/>
          </p:nvSpPr>
          <p:spPr>
            <a:xfrm>
              <a:off x="7391520" y="2743200"/>
              <a:ext cx="533160" cy="838080"/>
            </a:xfrm>
            <a:prstGeom prst="upDownArrow">
              <a:avLst>
                <a:gd name="adj1" fmla="val 50000"/>
                <a:gd name="adj2" fmla="val 31292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3048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OCOL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" y="2819520"/>
            <a:ext cx="1447920" cy="838080"/>
            <a:chOff x="685800" y="2819520"/>
            <a:chExt cx="1447920" cy="838080"/>
          </a:xfrm>
        </p:grpSpPr>
        <p:sp>
          <p:nvSpPr>
            <p:cNvPr id="110" name=""/>
            <p:cNvSpPr/>
            <p:nvPr/>
          </p:nvSpPr>
          <p:spPr>
            <a:xfrm>
              <a:off x="990720" y="2819520"/>
              <a:ext cx="533160" cy="838080"/>
            </a:xfrm>
            <a:prstGeom prst="upDownArrow">
              <a:avLst>
                <a:gd name="adj1" fmla="val 50000"/>
                <a:gd name="adj2" fmla="val 31292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312444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OCOL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9880" y="2819520"/>
            <a:ext cx="1447920" cy="838080"/>
            <a:chOff x="3809880" y="2819520"/>
            <a:chExt cx="1447920" cy="838080"/>
          </a:xfrm>
        </p:grpSpPr>
        <p:sp>
          <p:nvSpPr>
            <p:cNvPr id="113" name=""/>
            <p:cNvSpPr/>
            <p:nvPr/>
          </p:nvSpPr>
          <p:spPr>
            <a:xfrm>
              <a:off x="4114800" y="2819520"/>
              <a:ext cx="533160" cy="838080"/>
            </a:xfrm>
            <a:prstGeom prst="upDownArrow">
              <a:avLst>
                <a:gd name="adj1" fmla="val 50000"/>
                <a:gd name="adj2" fmla="val 31292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312444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OCOL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46680" y="4191120"/>
            <a:ext cx="701640" cy="838080"/>
          </a:xfrm>
          <a:prstGeom prst="upDownArrow">
            <a:avLst>
              <a:gd name="adj1" fmla="val 50000"/>
              <a:gd name="adj2" fmla="val 23778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495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RELATIONSHIP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bined Protocol Layer and Technology Domain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nd Some Performance Management Issues to be Resol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523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905120" y="2666880"/>
            <a:ext cx="5486400" cy="2590560"/>
            <a:chOff x="1905120" y="2666880"/>
            <a:chExt cx="5486400" cy="2590560"/>
          </a:xfrm>
        </p:grpSpPr>
        <p:sp>
          <p:nvSpPr>
            <p:cNvPr id="121" name=""/>
            <p:cNvSpPr/>
            <p:nvPr/>
          </p:nvSpPr>
          <p:spPr>
            <a:xfrm>
              <a:off x="4495680" y="2666880"/>
              <a:ext cx="0" cy="20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5120" y="2666880"/>
              <a:ext cx="5486400" cy="204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2666880"/>
              <a:ext cx="0" cy="20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2666880"/>
              <a:ext cx="0" cy="20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5120" y="328032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37576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5120" y="423504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2666880"/>
              <a:ext cx="1447560" cy="61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Cloud"/>
            <p:cNvSpPr/>
            <p:nvPr/>
          </p:nvSpPr>
          <p:spPr>
            <a:xfrm>
              <a:off x="4267080" y="3416760"/>
              <a:ext cx="1981440" cy="11628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mary Perform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33472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38260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4303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eng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287136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28713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ur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28713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pend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2880" y="300780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41880" y="26668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4303080"/>
              <a:ext cx="381240" cy="95436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167040 h 954360"/>
                <a:gd name="textAreaBottom" fmla="*/ 691920 h 95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4480" y="4303080"/>
              <a:ext cx="381240" cy="88632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155160 h 886320"/>
                <a:gd name="textAreaBottom" fmla="*/ 642600 h 88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4848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ecision Paramet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286000" y="3836160"/>
            <a:ext cx="5146560" cy="4297680"/>
            <a:chOff x="2286000" y="3836160"/>
            <a:chExt cx="5146560" cy="4297680"/>
          </a:xfrm>
        </p:grpSpPr>
        <p:sp>
          <p:nvSpPr>
            <p:cNvPr id="142" name=""/>
            <p:cNvSpPr/>
            <p:nvPr/>
          </p:nvSpPr>
          <p:spPr>
            <a:xfrm>
              <a:off x="2286000" y="5715000"/>
              <a:ext cx="225108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5715000"/>
              <a:ext cx="225108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8292000">
              <a:off x="3841920" y="4326120"/>
              <a:ext cx="2285280" cy="21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45" y="6"/>
                  </a:moveTo>
                  <a:arcTo wR="10800" hR="10800" stAng="-5290186" swAng="5290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45" y="6"/>
                  </a:moveTo>
                  <a:arcTo wR="10800" hR="10800" stAng="-5290186" swAng="5290186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934800">
              <a:off x="3737160" y="5504760"/>
              <a:ext cx="228528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45" y="6"/>
                  </a:moveTo>
                  <a:arcTo wR="10800" hR="10800" stAng="-5290186" swAng="5290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45" y="6"/>
                  </a:moveTo>
                  <a:arcTo wR="10800" hR="10800" stAng="-5290186" swAng="5290186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57913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67280" y="57913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19450200">
            <a:off x="3657960" y="571464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ailability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7200" y="914400"/>
            <a:ext cx="8194680" cy="1692360"/>
            <a:chOff x="457200" y="914400"/>
            <a:chExt cx="8194680" cy="1692360"/>
          </a:xfrm>
        </p:grpSpPr>
        <p:sp>
          <p:nvSpPr>
            <p:cNvPr id="150" name=""/>
            <p:cNvSpPr/>
            <p:nvPr/>
          </p:nvSpPr>
          <p:spPr>
            <a:xfrm rot="289800">
              <a:off x="5943600" y="1676520"/>
              <a:ext cx="380880" cy="91584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60200 h 915840"/>
                <a:gd name="textAreaBottom" fmla="*/ 66420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990720"/>
              <a:ext cx="225108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3000" y="112068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990720"/>
              <a:ext cx="24386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1219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137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137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46400">
              <a:off x="2588760" y="1596960"/>
              <a:ext cx="381240" cy="99396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173880 h 993960"/>
                <a:gd name="textAreaBottom" fmla="*/ 72072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1981080"/>
              <a:ext cx="198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Parameter Defining    Reference Even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0800" y="990720"/>
              <a:ext cx="225108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113508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914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9520" y="914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3808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aditional SG 13/WP 4 Performan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loud"/>
          <p:cNvSpPr/>
          <p:nvPr/>
        </p:nvSpPr>
        <p:spPr>
          <a:xfrm>
            <a:off x="2666880" y="3352680"/>
            <a:ext cx="4038840" cy="1219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me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720" y="3760200"/>
            <a:ext cx="5146560" cy="4297680"/>
            <a:chOff x="2133720" y="3760200"/>
            <a:chExt cx="5146560" cy="4297680"/>
          </a:xfrm>
        </p:grpSpPr>
        <p:sp>
          <p:nvSpPr>
            <p:cNvPr id="166" name=""/>
            <p:cNvSpPr/>
            <p:nvPr/>
          </p:nvSpPr>
          <p:spPr>
            <a:xfrm rot="8292000">
              <a:off x="3690000" y="4249800"/>
              <a:ext cx="228528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45" y="6"/>
                  </a:moveTo>
                  <a:arcTo wR="10800" hR="10800" stAng="-5290186" swAng="5290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45" y="6"/>
                  </a:moveTo>
                  <a:arcTo wR="10800" hR="10800" stAng="-5290186" swAng="5290186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33720" y="4891680"/>
              <a:ext cx="5146560" cy="3166200"/>
              <a:chOff x="2133720" y="4891680"/>
              <a:chExt cx="5146560" cy="316620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3720" y="5638680"/>
                <a:ext cx="2251080" cy="533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29200" y="5638680"/>
                <a:ext cx="2251080" cy="533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4800">
                <a:off x="3585240" y="5428440"/>
                <a:ext cx="2285280" cy="213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45" y="6"/>
                    </a:moveTo>
                    <a:arcTo wR="10800" hR="10800" stAng="-5290186" swAng="52901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45" y="6"/>
                    </a:moveTo>
                    <a:arcTo wR="10800" hR="10800" stAng="-5290186" swAng="5290186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43200" y="5715000"/>
                <a:ext cx="100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vail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5000" y="571500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avail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450200">
                <a:off x="3505680" y="5638320"/>
                <a:ext cx="267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Availability Parameters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 rot="20320200">
            <a:off x="2590560" y="449568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834000">
            <a:off x="6171840" y="434304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724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(Decision Parameter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pplication in Defining Optical Network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12193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167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167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1219320"/>
            <a:ext cx="12189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1447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762120"/>
            <a:ext cx="12189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10666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0875200">
            <a:off x="3338280" y="2209320"/>
            <a:ext cx="457200" cy="1148040"/>
          </a:xfrm>
          <a:custGeom>
            <a:avLst/>
            <a:gdLst>
              <a:gd name="textAreaLeft" fmla="*/ 61200 w 457200"/>
              <a:gd name="textAreaRight" fmla="*/ 396000 w 457200"/>
              <a:gd name="textAreaTop" fmla="*/ 200880 h 1148040"/>
              <a:gd name="textAreaBottom" fmla="*/ 832320 h 11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484800">
            <a:off x="5333760" y="2057400"/>
            <a:ext cx="533160" cy="1219320"/>
          </a:xfrm>
          <a:custGeom>
            <a:avLst/>
            <a:gdLst>
              <a:gd name="textAreaLeft" fmla="*/ 71280 w 533160"/>
              <a:gd name="textAreaRight" fmla="*/ 461880 w 5331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5146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(Reference Event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990720"/>
            <a:ext cx="1218960" cy="1447560"/>
            <a:chOff x="5791320" y="990720"/>
            <a:chExt cx="1218960" cy="1447560"/>
          </a:xfrm>
        </p:grpSpPr>
        <p:sp>
          <p:nvSpPr>
            <p:cNvPr id="194" name=""/>
            <p:cNvSpPr/>
            <p:nvPr/>
          </p:nvSpPr>
          <p:spPr>
            <a:xfrm>
              <a:off x="5791320" y="990720"/>
              <a:ext cx="1218960" cy="1447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1066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P 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33720" y="838080"/>
            <a:ext cx="1218960" cy="1447560"/>
            <a:chOff x="2133720" y="838080"/>
            <a:chExt cx="1218960" cy="1447560"/>
          </a:xfrm>
        </p:grpSpPr>
        <p:sp>
          <p:nvSpPr>
            <p:cNvPr id="197" name=""/>
            <p:cNvSpPr/>
            <p:nvPr/>
          </p:nvSpPr>
          <p:spPr>
            <a:xfrm>
              <a:off x="2133720" y="838080"/>
              <a:ext cx="1218960" cy="1447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91404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P 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sible Discussion Topics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P Performance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Parameters, Objectives, and QoS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P network applications (FTP, e-mail, browsing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real-time services (VoIP, video conferencing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pplications enabled by IP/Optical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ion of Performance Limits Among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onitoring (In and Out of Serv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for Providing Assured-Qual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tion of IP Network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sible Discussion Topics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lating Optical Layer </a:t>
            </a:r>
            <a:br>
              <a:rPr sz="3200"/>
            </a:br>
            <a:r>
              <a:rPr b="1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d IP Client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odel for ASON/IP Client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, reference events, functions,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classes, service level agreements (S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ion of Performance Limits Among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onitoring (In and Out of Serv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for Providing Assured-Qual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tion of Optical Network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sible Discussion Topics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formance Management and 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Views of a Service Deliver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 protocol/transmission sig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domain view (technology, jurisdiction, rou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 for Performance (and Capacity)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IP end users and “client” IP route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IP clients and switched optical cor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layers within IP and optical technology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anagement Interworking Among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onitoring, failure loc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, restoration, OAM&amp;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22:52:58Z</dcterms:created>
  <dc:creator>Neal Seitz</dc:creator>
  <dc:description/>
  <dc:language>en-US</dc:language>
  <cp:lastModifiedBy>Neal Seitz</cp:lastModifiedBy>
  <dcterms:modified xsi:type="dcterms:W3CDTF">2002-06-04T23:10:37Z</dcterms:modified>
  <cp:revision>63</cp:revision>
  <dc:subject/>
  <dc:title>ITU-T Workshop on IP/Optical Session 11: Network Performance   Neal Seitz, Chair SG 13/WP 4</dc:title>
</cp:coreProperties>
</file>