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822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672360"/>
            <a:ext cx="822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6723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0560" y="36723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5960" y="12729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8400" y="12729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6723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5960" y="36723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8400" y="36723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1272960"/>
            <a:ext cx="822960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822960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401580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0560" y="1272960"/>
            <a:ext cx="401580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600" y="539640"/>
            <a:ext cx="6829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0560" y="1272960"/>
            <a:ext cx="401580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520" y="36723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272960"/>
            <a:ext cx="822960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401580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0560" y="36723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056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672360"/>
            <a:ext cx="822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822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520" y="3672360"/>
            <a:ext cx="822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056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6723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0560" y="36723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5960" y="12729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8400" y="12729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520" y="36723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5960" y="36723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98400" y="3672360"/>
            <a:ext cx="264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822960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401580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0560" y="1272960"/>
            <a:ext cx="401580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61600" y="539640"/>
            <a:ext cx="6829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272960"/>
            <a:ext cx="401580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6723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401580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0560" y="36723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272960"/>
            <a:ext cx="40158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672360"/>
            <a:ext cx="8229600" cy="21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3040" y="463680"/>
            <a:ext cx="8217000" cy="67284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72960"/>
            <a:ext cx="822960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54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241200" y="6613560"/>
            <a:ext cx="943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Al Morton                                                                                                                                                                                                                     Page </a:t>
            </a:r>
            <a:fld id="{8C471137-7C1A-4A3C-A6DC-DF52AC5FA53B}" type="slidenum">
              <a:rPr b="1" lang="en-US" sz="10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73040" y="463680"/>
            <a:ext cx="8217000" cy="67284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695680" y="3732120"/>
            <a:ext cx="40129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488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algn="ctr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488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IP Performance Specifications -</a:t>
            </a:r>
            <a:br>
              <a:rPr sz="3600"/>
            </a:b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Progress and Next Steps</a:t>
            </a:r>
            <a:endParaRPr b="1" i="1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y 11,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 Mort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QoS Agreements -  Future</a:t>
            </a: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190512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7339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3351600"/>
            <a:ext cx="12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38480" y="2132640"/>
            <a:ext cx="159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93640" y="4266000"/>
            <a:ext cx="11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3352680"/>
            <a:ext cx="228600" cy="609840"/>
          </a:xfrm>
          <a:prstGeom prst="upArrow">
            <a:avLst>
              <a:gd name="adj1" fmla="val 38889"/>
              <a:gd name="adj2" fmla="val 111155"/>
            </a:avLst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1905120"/>
            <a:ext cx="152424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2132640"/>
            <a:ext cx="146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o/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/E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0200" y="3885120"/>
            <a:ext cx="1485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Me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L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46483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37339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8195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010280" y="3352680"/>
            <a:ext cx="228600" cy="609840"/>
          </a:xfrm>
          <a:prstGeom prst="upArrow">
            <a:avLst>
              <a:gd name="adj1" fmla="val 38889"/>
              <a:gd name="adj2" fmla="val 111155"/>
            </a:avLst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510552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190512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45240" y="1980000"/>
            <a:ext cx="159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nfg.Ch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01760" y="3961440"/>
            <a:ext cx="134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352680"/>
            <a:ext cx="228600" cy="609840"/>
          </a:xfrm>
          <a:prstGeom prst="upArrow">
            <a:avLst>
              <a:gd name="adj1" fmla="val 38889"/>
              <a:gd name="adj2" fmla="val 11115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51055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49960" y="1294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83760" y="12945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95920" y="129456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800" y="2088360"/>
            <a:ext cx="1130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/REJ/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25146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486040" y="2743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0240" y="2058120"/>
            <a:ext cx="1130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/REJ/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248436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95480" y="271296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467480" y="3352680"/>
            <a:ext cx="228600" cy="609840"/>
          </a:xfrm>
          <a:prstGeom prst="upArrow">
            <a:avLst>
              <a:gd name="adj1" fmla="val 38889"/>
              <a:gd name="adj2" fmla="val 11115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19920" y="2894760"/>
            <a:ext cx="533160" cy="2210040"/>
          </a:xfrm>
          <a:custGeom>
            <a:avLst/>
            <a:gdLst>
              <a:gd name="textAreaLeft" fmla="*/ 71280 w 533160"/>
              <a:gd name="textAreaRight" fmla="*/ 461880 w 533160"/>
              <a:gd name="textAreaTop" fmla="*/ 386640 h 2210040"/>
              <a:gd name="textAreaBottom" fmla="*/ 160236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9840" y="18284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Next Steps</a:t>
            </a: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273320"/>
            <a:ext cx="830556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Process and Methods to ACHIEVE e-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0032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in with Single networks and Static Agre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0032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, with Two or Thre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8548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fficult with more networks (see draft M.23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0032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d-in Flexibility (not too mu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0032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to Network Signaling for 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28548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the “Oracle” model, each network has an entity with specific knowledge and control capabilities.  These entities use a signaling protocol to communicate efficiently across network boundaries (accept/reject/modify reques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 Delay Variation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sit IP Service Availability Function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40032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de range of sensitivities across user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End-to-End IP Network Performance</a:t>
            </a: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925040" cy="4157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2560" y="5408280"/>
            <a:ext cx="663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f real-time/CBR application use on IP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P, Multi-Media Conferencing, Stream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applications require stricte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IP Packet Transfer Specifications </a:t>
            </a: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320840"/>
          <a:ext cx="8204040" cy="49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20840"/>
                    <a:ext cx="820404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Evolution of IPPM and Question 6/13</a:t>
            </a: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72960"/>
            <a:ext cx="403848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RFC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s Patt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k Transfer Capac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I-D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 Re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Meas. Protocol Req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PM MI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ly Chartered Work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Bandwidth Capac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23920" y="1272960"/>
            <a:ext cx="403884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.1541 (May 2002), six QoS 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gest QoS Signaling Support/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Re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.1540 (Nov 200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” Packet Transf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L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Y.1541 "Provisional IP QoS Classes”</a:t>
            </a: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763120" cy="3108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93640" y="4242240"/>
            <a:ext cx="832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.1221-based Traffic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transfer capabilities include: the service model, traffic descriptor, conformance definition and any QOS commit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Capabilities include Dedicated Bandwidth, Statistical Bandwidth, and Best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Viewpoints of QoS </a:t>
            </a: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676520"/>
          <a:ext cx="577224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577224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13080" y="6187320"/>
            <a:ext cx="534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‚l‚r –¾’©"/>
              </a:rPr>
              <a:t>From G.1000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unications quality of service: A framework and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Elements of Service Provider’s IP QoS View </a:t>
            </a: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-2666880" y="1676520"/>
          <a:ext cx="577188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66880" y="1676520"/>
                    <a:ext cx="577188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2280" y="37339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79400" y="3351600"/>
            <a:ext cx="12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1600200"/>
            <a:ext cx="3352680" cy="1600200"/>
          </a:xfrm>
          <a:prstGeom prst="wedgeRoundRectCallout">
            <a:avLst>
              <a:gd name="adj1" fmla="val -125189"/>
              <a:gd name="adj2" fmla="val 34324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d IP Perf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d IP QoS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25200">
            <a:off x="1566720" y="3533400"/>
            <a:ext cx="149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amp;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4191120"/>
            <a:ext cx="3352680" cy="1600200"/>
          </a:xfrm>
          <a:prstGeom prst="wedgeRoundRectCallout">
            <a:avLst>
              <a:gd name="adj1" fmla="val -127083"/>
              <a:gd name="adj2" fmla="val -24402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d Active Me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ing Method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v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QoS Agreements - Today and Tomorrow</a:t>
            </a: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90512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37339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79400" y="3351600"/>
            <a:ext cx="12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6840" y="2284920"/>
            <a:ext cx="137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m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00280" y="3961440"/>
            <a:ext cx="76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648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28195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3352680"/>
            <a:ext cx="228600" cy="609840"/>
          </a:xfrm>
          <a:prstGeom prst="upArrow">
            <a:avLst>
              <a:gd name="adj1" fmla="val 38889"/>
              <a:gd name="adj2" fmla="val 111155"/>
            </a:avLst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190512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00200" y="2132640"/>
            <a:ext cx="164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&amp; E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4920" y="3885120"/>
            <a:ext cx="1485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Me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L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648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28195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867280" y="3352680"/>
            <a:ext cx="228600" cy="609840"/>
          </a:xfrm>
          <a:prstGeom prst="upArrow">
            <a:avLst>
              <a:gd name="adj1" fmla="val 38889"/>
              <a:gd name="adj2" fmla="val 111155"/>
            </a:avLst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5105520"/>
            <a:ext cx="2286000" cy="228600"/>
          </a:xfrm>
          <a:prstGeom prst="leftArrow">
            <a:avLst>
              <a:gd name="adj1" fmla="val 50000"/>
              <a:gd name="adj2" fmla="val 2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438280"/>
            <a:ext cx="2362320" cy="228600"/>
          </a:xfrm>
          <a:prstGeom prst="leftRightArrow">
            <a:avLst>
              <a:gd name="adj1" fmla="val 50000"/>
              <a:gd name="adj2" fmla="val 205720"/>
            </a:avLst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1905120"/>
            <a:ext cx="1524240" cy="388620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53480" y="2437200"/>
            <a:ext cx="14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6440" y="2972520"/>
            <a:ext cx="1130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/REJ/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339876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781680" y="362736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724280" y="2894760"/>
            <a:ext cx="533520" cy="2210040"/>
          </a:xfrm>
          <a:custGeom>
            <a:avLst/>
            <a:gdLst>
              <a:gd name="textAreaLeft" fmla="*/ 71280 w 533520"/>
              <a:gd name="textAreaRight" fmla="*/ 462240 w 533520"/>
              <a:gd name="textAreaTop" fmla="*/ 386640 h 2210040"/>
              <a:gd name="textAreaBottom" fmla="*/ 160236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1600" y="539640"/>
            <a:ext cx="6829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QoS Agreements -  Viewed as 3 Entities</a:t>
            </a:r>
            <a:endParaRPr b="1" i="1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190512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37339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351600"/>
            <a:ext cx="12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38480" y="2132640"/>
            <a:ext cx="159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93640" y="4266000"/>
            <a:ext cx="11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3352680"/>
            <a:ext cx="228600" cy="609840"/>
          </a:xfrm>
          <a:prstGeom prst="upArrow">
            <a:avLst>
              <a:gd name="adj1" fmla="val 38889"/>
              <a:gd name="adj2" fmla="val 111155"/>
            </a:avLst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1905120"/>
            <a:ext cx="152424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4960" y="1827720"/>
            <a:ext cx="1640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&amp; E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0200" y="3885120"/>
            <a:ext cx="1485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Me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L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6483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37339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28195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162920" y="3352680"/>
            <a:ext cx="228600" cy="609840"/>
          </a:xfrm>
          <a:prstGeom prst="upArrow">
            <a:avLst>
              <a:gd name="adj1" fmla="val 38889"/>
              <a:gd name="adj2" fmla="val 111155"/>
            </a:avLst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510552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438280"/>
            <a:ext cx="990720" cy="228600"/>
          </a:xfrm>
          <a:prstGeom prst="leftRightArrow">
            <a:avLst>
              <a:gd name="adj1" fmla="val 50000"/>
              <a:gd name="adj2" fmla="val 86276"/>
            </a:avLst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2438280"/>
            <a:ext cx="1066680" cy="304920"/>
          </a:xfrm>
          <a:prstGeom prst="leftRightArrow">
            <a:avLst>
              <a:gd name="adj1" fmla="val 50000"/>
              <a:gd name="adj2" fmla="val 69640"/>
            </a:avLst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190512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9040" y="2208600"/>
            <a:ext cx="159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Manag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32640" y="3961440"/>
            <a:ext cx="148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3352680"/>
            <a:ext cx="228600" cy="609840"/>
          </a:xfrm>
          <a:prstGeom prst="upArrow">
            <a:avLst>
              <a:gd name="adj1" fmla="val 38889"/>
              <a:gd name="adj2" fmla="val 111155"/>
            </a:avLst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1055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019920" y="2894760"/>
            <a:ext cx="533160" cy="2210040"/>
          </a:xfrm>
          <a:custGeom>
            <a:avLst/>
            <a:gdLst>
              <a:gd name="textAreaLeft" fmla="*/ 71280 w 533160"/>
              <a:gd name="textAreaRight" fmla="*/ 461880 w 533160"/>
              <a:gd name="textAreaTop" fmla="*/ 386640 h 2210040"/>
              <a:gd name="textAreaBottom" fmla="*/ 160236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9840" y="18284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7:57:23Z</dcterms:created>
  <dc:creator>Al Morton</dc:creator>
  <dc:description/>
  <dc:language>en-US</dc:language>
  <cp:lastModifiedBy>Al Morton</cp:lastModifiedBy>
  <cp:lastPrinted>2001-06-05T13:11:37Z</cp:lastPrinted>
  <dcterms:modified xsi:type="dcterms:W3CDTF">2002-06-21T12:54:33Z</dcterms:modified>
  <cp:revision>106</cp:revision>
  <dc:subject>IP/Optical Workshop</dc:subject>
  <dc:title>IP Performance Specifications: Progress and Next Steps</dc:title>
</cp:coreProperties>
</file>