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5.wmf" ContentType="image/x-wmf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7.jpeg" ContentType="image/jpeg"/>
  <Override PartName="/ppt/media/image11.png" ContentType="image/png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4812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87360" y="-360"/>
            <a:ext cx="304812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19320" y="690480"/>
            <a:ext cx="4595760" cy="344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38160" y="4368600"/>
            <a:ext cx="5159520" cy="4136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736120"/>
            <a:ext cx="3048120" cy="458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987360" y="8736120"/>
            <a:ext cx="3048120" cy="458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1491A1-33EE-4BB2-9F41-C98A15BF9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938160" y="4368600"/>
            <a:ext cx="515952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day transmission systems working at data rates up to 10Gbit/s are mainly limited by linear impairments like attenuation and noi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ing data rates above 10Gbit/s or migrating towards multi channel dense WDM systems with more than 32 channels nonlinear effects li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0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WM (four wave mix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0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PM (Cross phase mix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0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M (Self phase modul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0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S and SRS (Brillouin and Raman Scatter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ome dominant leading to signal quality degrad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guarantee a certain QoS  measurements of  Power, Wavelength and OSNR is no longer suffici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side the time consuming method of BER testing Q factor shows an excellent solution for signal quality analysis within short measurement ti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sldImg"/>
          </p:nvPr>
        </p:nvSpPr>
        <p:spPr>
          <a:xfrm>
            <a:off x="12286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2094" name="PlaceHolder 2"/>
          <p:cNvSpPr>
            <a:spLocks noGrp="1"/>
          </p:cNvSpPr>
          <p:nvPr>
            <p:ph type="body"/>
          </p:nvPr>
        </p:nvSpPr>
        <p:spPr>
          <a:xfrm>
            <a:off x="937800" y="4598640"/>
            <a:ext cx="5313240" cy="404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der the assumption of stochastically distributed signal impairments there is a way of relating the measured Q-factor and the bit error r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ontrast to a traditional BER tester the Q-factor meter only can measure a Q value which can be related to a bit error r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do not talk about a BER measurement but a BER estim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elation between Q and BER shows a nonlinear behaviour for high Q values / low bit error rat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Q factor is a calculation of statistical distribution functions Q will always have a certain confidence interval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high Q values this leads to an ‘estimation’ of bit error rates which may cover a range of several decad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sldImg"/>
          </p:nvPr>
        </p:nvSpPr>
        <p:spPr>
          <a:xfrm>
            <a:off x="12286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2096" name="PlaceHolder 2"/>
          <p:cNvSpPr>
            <a:spLocks noGrp="1"/>
          </p:cNvSpPr>
          <p:nvPr>
            <p:ph type="body"/>
          </p:nvPr>
        </p:nvSpPr>
        <p:spPr>
          <a:xfrm>
            <a:off x="1015560" y="4873680"/>
            <a:ext cx="5240520" cy="404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llcore GR-2918 and ITU-T G. 692 spezify maximum bit error rates of 10^-12 meaning no bit error in 7 minutes at 2.5 Gbit/s data ra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re and more system manufacturers and service providers are looking for bit error rates in the range of 10^-1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ptance tests with traditional BER testers need very long measurement times up to 11hours for 10^-14 at OC-48/STM-1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s using  ultra high speed links are looking for even lower BER values down to 10^-16. This results in test times of  several day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e Q-measurement is a way to cut down measurement times to less than 1 minu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sldImg"/>
          </p:nvPr>
        </p:nvSpPr>
        <p:spPr>
          <a:xfrm>
            <a:off x="1233360" y="69696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098" name="PlaceHolder 2"/>
          <p:cNvSpPr>
            <a:spLocks noGrp="1"/>
          </p:cNvSpPr>
          <p:nvPr>
            <p:ph type="body"/>
          </p:nvPr>
        </p:nvSpPr>
        <p:spPr>
          <a:xfrm>
            <a:off x="401400" y="4873680"/>
            <a:ext cx="6242040" cy="40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measure 100 bit errors to get a confidence of 85 % for your BER resul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-Factor slashes test time to 1 minu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sldImg"/>
          </p:nvPr>
        </p:nvSpPr>
        <p:spPr>
          <a:xfrm>
            <a:off x="1222200" y="69048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2100" name="PlaceHolder 2"/>
          <p:cNvSpPr>
            <a:spLocks noGrp="1"/>
          </p:cNvSpPr>
          <p:nvPr>
            <p:ph type="body"/>
          </p:nvPr>
        </p:nvSpPr>
        <p:spPr>
          <a:xfrm>
            <a:off x="936720" y="4370040"/>
            <a:ext cx="516240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BER approximation &lt; 1 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o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...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sldImg"/>
          </p:nvPr>
        </p:nvSpPr>
        <p:spPr>
          <a:xfrm>
            <a:off x="1222200" y="69048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2102" name="PlaceHolder 2"/>
          <p:cNvSpPr>
            <a:spLocks noGrp="1"/>
          </p:cNvSpPr>
          <p:nvPr>
            <p:ph type="body"/>
          </p:nvPr>
        </p:nvSpPr>
        <p:spPr>
          <a:xfrm>
            <a:off x="936720" y="4370040"/>
            <a:ext cx="516240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BER approximation &lt; 1 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o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...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"/>
          <p:cNvSpPr txBox="1"/>
          <p:nvPr/>
        </p:nvSpPr>
        <p:spPr>
          <a:xfrm>
            <a:off x="3987360" y="8736120"/>
            <a:ext cx="3048120" cy="458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95B0A92-113D-4656-90CF-69AFB41A0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 txBox="1"/>
          <p:nvPr/>
        </p:nvSpPr>
        <p:spPr>
          <a:xfrm>
            <a:off x="-360" y="8736120"/>
            <a:ext cx="3048120" cy="458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-360" y="-360"/>
            <a:ext cx="304812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 txBox="1"/>
          <p:nvPr/>
        </p:nvSpPr>
        <p:spPr>
          <a:xfrm>
            <a:off x="3987360" y="-360"/>
            <a:ext cx="304812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PlaceHolder 1"/>
          <p:cNvSpPr>
            <a:spLocks noGrp="1"/>
          </p:cNvSpPr>
          <p:nvPr>
            <p:ph type="sldImg"/>
          </p:nvPr>
        </p:nvSpPr>
        <p:spPr>
          <a:xfrm>
            <a:off x="1379520" y="773280"/>
            <a:ext cx="4273560" cy="3205080"/>
          </a:xfrm>
          <a:prstGeom prst="rect">
            <a:avLst/>
          </a:prstGeom>
          <a:ln w="0">
            <a:noFill/>
          </a:ln>
        </p:spPr>
      </p:sp>
      <p:sp>
        <p:nvSpPr>
          <p:cNvPr id="2090" name="PlaceHolder 2"/>
          <p:cNvSpPr>
            <a:spLocks noGrp="1"/>
          </p:cNvSpPr>
          <p:nvPr>
            <p:ph type="body"/>
          </p:nvPr>
        </p:nvSpPr>
        <p:spPr>
          <a:xfrm>
            <a:off x="933120" y="4366800"/>
            <a:ext cx="5165640" cy="413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slide shows the OTN layer network trails and example use of the transport entities in the OTN.  In this example, the client signal is an STM-N transported between the terminating DXCs.  This STM-N is carried on the concatenation of an SDH section (Osn) and the end-to-end connection in the OTN, the ODUk.  The ODUk itself is carried on a concatenation of OTUks, each delimited by a 3R regeneration point.  Each ODUk is assocaited with an optical wavelength by means of the OCh.  A number of Ochs are multiplexed into an OSMn, which spans the distance between the line-terminating equipment – LTs, OCADMs, OCX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though G.709 and G.optperf defines ODUk and OTUk as bidirectional entities and their error performance objectives, BIS and Maintenance treats these as independent entities in each dir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45800" y="1339560"/>
            <a:ext cx="671508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945800" y="3228480"/>
            <a:ext cx="671508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45800" y="1339560"/>
            <a:ext cx="327672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86680" y="1339560"/>
            <a:ext cx="327672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945800" y="3228480"/>
            <a:ext cx="327672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86680" y="3228480"/>
            <a:ext cx="327672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945800" y="1339560"/>
            <a:ext cx="216216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16320" y="1339560"/>
            <a:ext cx="216216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87200" y="1339560"/>
            <a:ext cx="216216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945800" y="3228480"/>
            <a:ext cx="216216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16320" y="3228480"/>
            <a:ext cx="216216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87200" y="3228480"/>
            <a:ext cx="216216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945800" y="1339560"/>
            <a:ext cx="6715080" cy="36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45800" y="1339560"/>
            <a:ext cx="6715080" cy="36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5800" y="1339560"/>
            <a:ext cx="3276720" cy="36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86680" y="1339560"/>
            <a:ext cx="3276720" cy="36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945800" y="441360"/>
            <a:ext cx="671508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5800" y="1339560"/>
            <a:ext cx="327672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86680" y="1339560"/>
            <a:ext cx="3276720" cy="36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945800" y="3228480"/>
            <a:ext cx="327672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945800" y="1339560"/>
            <a:ext cx="6715080" cy="36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45800" y="1339560"/>
            <a:ext cx="3276720" cy="36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86680" y="1339560"/>
            <a:ext cx="327672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86680" y="3228480"/>
            <a:ext cx="327672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45800" y="1339560"/>
            <a:ext cx="327672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86680" y="1339560"/>
            <a:ext cx="327672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45800" y="3228480"/>
            <a:ext cx="671508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45800" y="1339560"/>
            <a:ext cx="671508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945800" y="3228480"/>
            <a:ext cx="671508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45800" y="1339560"/>
            <a:ext cx="327672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86680" y="1339560"/>
            <a:ext cx="327672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945800" y="3228480"/>
            <a:ext cx="327672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86680" y="3228480"/>
            <a:ext cx="327672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45800" y="1339560"/>
            <a:ext cx="216216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16320" y="1339560"/>
            <a:ext cx="216216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87200" y="1339560"/>
            <a:ext cx="216216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945800" y="3228480"/>
            <a:ext cx="216216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216320" y="3228480"/>
            <a:ext cx="216216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87200" y="3228480"/>
            <a:ext cx="216216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45800" y="1339560"/>
            <a:ext cx="6715080" cy="36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45800" y="1339560"/>
            <a:ext cx="3276720" cy="36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86680" y="1339560"/>
            <a:ext cx="3276720" cy="36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45800" y="441360"/>
            <a:ext cx="671508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45800" y="1339560"/>
            <a:ext cx="327672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86680" y="1339560"/>
            <a:ext cx="3276720" cy="36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945800" y="3228480"/>
            <a:ext cx="327672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45800" y="1339560"/>
            <a:ext cx="3276720" cy="36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86680" y="1339560"/>
            <a:ext cx="327672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86680" y="3228480"/>
            <a:ext cx="327672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45800" y="1339560"/>
            <a:ext cx="327672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6680" y="1339560"/>
            <a:ext cx="327672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945800" y="3228480"/>
            <a:ext cx="6715080" cy="17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65200" cy="6858000"/>
          </a:xfrm>
          <a:prstGeom prst="rect">
            <a:avLst/>
          </a:prstGeom>
          <a:solidFill>
            <a:srgbClr val="9a9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1465200" cy="4676760"/>
            <a:chOff x="0" y="0"/>
            <a:chExt cx="1465200" cy="4676760"/>
          </a:xfrm>
        </p:grpSpPr>
        <p:sp>
          <p:nvSpPr>
            <p:cNvPr id="2" name=""/>
            <p:cNvSpPr/>
            <p:nvPr/>
          </p:nvSpPr>
          <p:spPr>
            <a:xfrm>
              <a:off x="0" y="452520"/>
              <a:ext cx="1465200" cy="4224240"/>
            </a:xfrm>
            <a:custGeom>
              <a:avLst/>
              <a:gdLst/>
              <a:ahLst/>
              <a:rect l="l" t="t" r="r" b="b"/>
              <a:pathLst>
                <a:path w="6042" h="15967">
                  <a:moveTo>
                    <a:pt x="6042" y="0"/>
                  </a:moveTo>
                  <a:lnTo>
                    <a:pt x="0" y="13614"/>
                  </a:lnTo>
                  <a:lnTo>
                    <a:pt x="0" y="15967"/>
                  </a:lnTo>
                  <a:lnTo>
                    <a:pt x="6042" y="2355"/>
                  </a:lnTo>
                  <a:lnTo>
                    <a:pt x="6042" y="0"/>
                  </a:lnTo>
                  <a:close/>
                </a:path>
              </a:pathLst>
            </a:custGeom>
            <a:solidFill>
              <a:srgbClr val="bbbb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457920" cy="1168560"/>
            </a:xfrm>
            <a:custGeom>
              <a:avLst/>
              <a:gdLst/>
              <a:ahLst/>
              <a:rect l="l" t="t" r="r" b="b"/>
              <a:pathLst>
                <a:path w="1892" h="4417">
                  <a:moveTo>
                    <a:pt x="1792" y="0"/>
                  </a:moveTo>
                  <a:lnTo>
                    <a:pt x="0" y="4163"/>
                  </a:lnTo>
                  <a:lnTo>
                    <a:pt x="0" y="4417"/>
                  </a:lnTo>
                  <a:lnTo>
                    <a:pt x="1892" y="20"/>
                  </a:lnTo>
                  <a:lnTo>
                    <a:pt x="1848" y="0"/>
                  </a:lnTo>
                  <a:lnTo>
                    <a:pt x="1792" y="0"/>
                  </a:lnTo>
                  <a:close/>
                </a:path>
              </a:pathLst>
            </a:custGeom>
            <a:solidFill>
              <a:srgbClr val="bbbb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0"/>
              <a:ext cx="668880" cy="1695600"/>
            </a:xfrm>
            <a:custGeom>
              <a:avLst/>
              <a:gdLst/>
              <a:ahLst/>
              <a:rect l="l" t="t" r="r" b="b"/>
              <a:pathLst>
                <a:path w="2760" h="6410">
                  <a:moveTo>
                    <a:pt x="2347" y="0"/>
                  </a:moveTo>
                  <a:lnTo>
                    <a:pt x="0" y="5453"/>
                  </a:lnTo>
                  <a:lnTo>
                    <a:pt x="0" y="6410"/>
                  </a:lnTo>
                  <a:lnTo>
                    <a:pt x="2760" y="0"/>
                  </a:lnTo>
                  <a:lnTo>
                    <a:pt x="2347" y="0"/>
                  </a:lnTo>
                  <a:close/>
                </a:path>
              </a:pathLst>
            </a:custGeom>
            <a:solidFill>
              <a:srgbClr val="bbbb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1945800" y="1339560"/>
            <a:ext cx="6715080" cy="36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6960" indent="-22716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34776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0720" indent="-34776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0720" indent="-34776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0720" indent="-34776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735200" y="6548400"/>
            <a:ext cx="713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ession 11, ITU-T IP/Optical Workshop, Chitose, 9-11 July 2002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A91FB6-8F1E-4FCC-8D54-EC64E193E16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actYel" descr=""/>
          <p:cNvPicPr/>
          <p:nvPr/>
        </p:nvPicPr>
        <p:blipFill>
          <a:blip r:embed="rId2"/>
          <a:stretch/>
        </p:blipFill>
        <p:spPr>
          <a:xfrm>
            <a:off x="122400" y="5680080"/>
            <a:ext cx="1218960" cy="7920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45080" y="395280"/>
            <a:ext cx="117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ITU_Logo" descr=""/>
          <p:cNvPicPr/>
          <p:nvPr/>
        </p:nvPicPr>
        <p:blipFill>
          <a:blip r:embed="rId3"/>
          <a:stretch/>
        </p:blipFill>
        <p:spPr>
          <a:xfrm>
            <a:off x="142920" y="1066680"/>
            <a:ext cx="12031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47240" y="635004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e </a:t>
            </a:r>
            <a:fld id="{7CE65C3A-6253-4F6F-A399-403083F8F21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751880" y="662940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61D896A2-F7A6-4FB3-848F-62AA4D341F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5600" y="438120"/>
            <a:ext cx="979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actYel" descr=""/>
          <p:cNvPicPr/>
          <p:nvPr/>
        </p:nvPicPr>
        <p:blipFill>
          <a:blip r:embed="rId2"/>
          <a:stretch/>
        </p:blipFill>
        <p:spPr>
          <a:xfrm>
            <a:off x="174600" y="5740560"/>
            <a:ext cx="1219320" cy="79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19320" y="6629400"/>
            <a:ext cx="593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erna Strategic Plan, April 20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mpany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4200" y="969480"/>
            <a:ext cx="335772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lating Optical Layer and IP Client 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60720" y="2409840"/>
            <a:ext cx="448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3320" y="3657600"/>
            <a:ext cx="680256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ter Huckett, Chairman ITU-T WP 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terna Director International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l: +44 1245 401 3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ax: +44 1245 401 3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SM: +44 7768 1046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mail: peter.huckett@actern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05320" y="835200"/>
            <a:ext cx="3576600" cy="23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2371680" y="2565360"/>
            <a:ext cx="5867280" cy="3200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 certain amoun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3R Regeneration will be need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-E-O conver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rot="1443600">
            <a:off x="5388120" y="2091960"/>
            <a:ext cx="1698480" cy="895320"/>
          </a:xfrm>
          <a:prstGeom prst="rightArrow">
            <a:avLst>
              <a:gd name="adj1" fmla="val 50000"/>
              <a:gd name="adj2" fmla="val 4742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rot="6564600">
            <a:off x="7293960" y="3655800"/>
            <a:ext cx="1698480" cy="895320"/>
          </a:xfrm>
          <a:prstGeom prst="rightArrow">
            <a:avLst>
              <a:gd name="adj1" fmla="val 50000"/>
              <a:gd name="adj2" fmla="val 4742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rot="20446200">
            <a:off x="2873520" y="2457360"/>
            <a:ext cx="1698480" cy="895320"/>
          </a:xfrm>
          <a:prstGeom prst="rightArrow">
            <a:avLst>
              <a:gd name="adj1" fmla="val 50000"/>
              <a:gd name="adj2" fmla="val 4742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473120" y="2425680"/>
            <a:ext cx="2171880" cy="1231920"/>
          </a:xfrm>
          <a:prstGeom prst="rect">
            <a:avLst/>
          </a:prstGeom>
          <a:solidFill>
            <a:srgbClr val="e6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xt step in bit rate per chann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G -&gt; 40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549680" y="1758960"/>
            <a:ext cx="1511280" cy="1206360"/>
          </a:xfrm>
          <a:prstGeom prst="rect">
            <a:avLst/>
          </a:prstGeom>
          <a:solidFill>
            <a:srgbClr val="e6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horter pulsewidth (1/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985080" y="2387520"/>
            <a:ext cx="1676160" cy="1270080"/>
          </a:xfrm>
          <a:prstGeom prst="rect">
            <a:avLst/>
          </a:prstGeom>
          <a:solidFill>
            <a:srgbClr val="e6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quires higher power per channel (x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359400" y="4902120"/>
            <a:ext cx="1879560" cy="1193760"/>
          </a:xfrm>
          <a:prstGeom prst="rect">
            <a:avLst/>
          </a:prstGeom>
          <a:solidFill>
            <a:srgbClr val="e6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uses stronger nonlinear effects (x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85800" y="5184720"/>
            <a:ext cx="3075120" cy="1028880"/>
          </a:xfrm>
          <a:prstGeom prst="rect">
            <a:avLst/>
          </a:prstGeom>
          <a:solidFill>
            <a:srgbClr val="e6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rse BER, no alarm indication at optical lay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945800" y="441000"/>
            <a:ext cx="671508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tical Transmission Impairment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welcome to the real world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4660920" y="5257800"/>
            <a:ext cx="1698480" cy="895320"/>
          </a:xfrm>
          <a:prstGeom prst="rightArrow">
            <a:avLst>
              <a:gd name="adj1" fmla="val 50000"/>
              <a:gd name="adj2" fmla="val 4742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bre Transmission Eff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943280" y="235080"/>
            <a:ext cx="7041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2203200" y="1906560"/>
            <a:ext cx="5524920" cy="665280"/>
            <a:chOff x="2203200" y="1906560"/>
            <a:chExt cx="5524920" cy="665280"/>
          </a:xfrm>
        </p:grpSpPr>
        <p:sp>
          <p:nvSpPr>
            <p:cNvPr id="1400" name=""/>
            <p:cNvSpPr/>
            <p:nvPr/>
          </p:nvSpPr>
          <p:spPr>
            <a:xfrm flipH="1">
              <a:off x="2203200" y="1906560"/>
              <a:ext cx="1004760" cy="66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333600" y="1906560"/>
              <a:ext cx="503280" cy="66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848640" y="1973160"/>
              <a:ext cx="879480" cy="59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5717880" y="1973160"/>
              <a:ext cx="942840" cy="59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4" name=""/>
          <p:cNvSpPr/>
          <p:nvPr/>
        </p:nvSpPr>
        <p:spPr>
          <a:xfrm>
            <a:off x="2592360" y="1623960"/>
            <a:ext cx="1482840" cy="3988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032520" y="1641600"/>
            <a:ext cx="177948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n - 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6" name=""/>
          <p:cNvGrpSpPr/>
          <p:nvPr/>
        </p:nvGrpSpPr>
        <p:grpSpPr>
          <a:xfrm>
            <a:off x="3773520" y="4432320"/>
            <a:ext cx="1319040" cy="1130400"/>
            <a:chOff x="3773520" y="4432320"/>
            <a:chExt cx="1319040" cy="1130400"/>
          </a:xfrm>
        </p:grpSpPr>
        <p:sp>
          <p:nvSpPr>
            <p:cNvPr id="1407" name=""/>
            <p:cNvSpPr/>
            <p:nvPr/>
          </p:nvSpPr>
          <p:spPr>
            <a:xfrm>
              <a:off x="3898800" y="4432320"/>
              <a:ext cx="1193760" cy="266760"/>
            </a:xfrm>
            <a:custGeom>
              <a:avLst/>
              <a:gdLst>
                <a:gd name="textAreaLeft" fmla="*/ 236160 w 1193760"/>
                <a:gd name="textAreaRight" fmla="*/ 846720 w 1193760"/>
                <a:gd name="textAreaTop" fmla="*/ 35640 h 266760"/>
                <a:gd name="textAreaBottom" fmla="*/ 23112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546" hR="21600" stAng="10800000" swAng="5400000"/>
                  <a:lnTo>
                    <a:pt x="11049" y="0"/>
                  </a:lnTo>
                  <a:arcTo wR="8546" hR="21600" stAng="-5400000" swAng="2249777"/>
                  <a:lnTo>
                    <a:pt x="20650" y="11700"/>
                  </a:lnTo>
                  <a:lnTo>
                    <a:pt x="18344" y="21600"/>
                  </a:lnTo>
                  <a:lnTo>
                    <a:pt x="14137" y="11700"/>
                  </a:lnTo>
                  <a:lnTo>
                    <a:pt x="16142" y="11700"/>
                  </a:lnTo>
                  <a:arcTo wR="8546" hR="21600" stAng="-3150223" swAng="-2048654"/>
                  <a:lnTo>
                    <a:pt x="9798" y="233"/>
                  </a:lnTo>
                  <a:arcTo wR="8546" hR="21600" stAng="-5601123" swAng="-5198877"/>
                  <a:close/>
                </a:path>
                <a:path fill="darkenLess" w="21600" h="21600">
                  <a:moveTo>
                    <a:pt x="0" y="21600"/>
                  </a:moveTo>
                  <a:arcTo wR="8546" hR="21600" stAng="10800000" swAng="5400000"/>
                  <a:lnTo>
                    <a:pt x="8546" y="0"/>
                  </a:lnTo>
                  <a:arcTo wR="8546" hR="21600" stAng="-5400000" swAng="201123"/>
                  <a:lnTo>
                    <a:pt x="9798" y="233"/>
                  </a:lnTo>
                  <a:arcTo wR="8546" hR="21600" stAng="-5601123" swAng="-5198877"/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d5cd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>
              <a:off x="3773520" y="5230800"/>
              <a:ext cx="1255680" cy="331920"/>
            </a:xfrm>
            <a:custGeom>
              <a:avLst/>
              <a:gdLst>
                <a:gd name="textAreaLeft" fmla="*/ 245160 w 1255680"/>
                <a:gd name="textAreaRight" fmla="*/ 885600 w 1255680"/>
                <a:gd name="textAreaTop" fmla="*/ 44280 h 331920"/>
                <a:gd name="textAreaBottom" fmla="*/ 287640 h 33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423" hR="21600" stAng="10800000" swAng="-5400000"/>
                  <a:lnTo>
                    <a:pt x="11017" y="21600"/>
                  </a:lnTo>
                  <a:arcTo wR="8423" hR="21600" stAng="5400000" swAng="-2245071"/>
                  <a:lnTo>
                    <a:pt x="20681" y="9809"/>
                  </a:lnTo>
                  <a:lnTo>
                    <a:pt x="18143" y="0"/>
                  </a:lnTo>
                  <a:lnTo>
                    <a:pt x="13767" y="9809"/>
                  </a:lnTo>
                  <a:lnTo>
                    <a:pt x="15927" y="9809"/>
                  </a:lnTo>
                  <a:arcTo wR="8423" hR="21600" stAng="3154929" swAng="2036412"/>
                  <a:lnTo>
                    <a:pt x="9720" y="21342"/>
                  </a:lnTo>
                  <a:arcTo wR="8423" hR="21600" stAng="5608659" swAng="5191341"/>
                  <a:close/>
                </a:path>
                <a:path fill="darkenLess" w="21600" h="21600">
                  <a:moveTo>
                    <a:pt x="0" y="0"/>
                  </a:moveTo>
                  <a:arcTo wR="8423" hR="21600" stAng="10800000" swAng="-5400000"/>
                  <a:lnTo>
                    <a:pt x="11017" y="21600"/>
                  </a:lnTo>
                  <a:arcTo wR="8423" hR="21600" stAng="5400000" swAng="208659"/>
                  <a:lnTo>
                    <a:pt x="9720" y="21342"/>
                  </a:lnTo>
                  <a:arcTo wR="8423" hR="21600" stAng="5608659" swAng="5191341"/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d5cd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3208320" y="2903400"/>
            <a:ext cx="5084640" cy="1927440"/>
            <a:chOff x="3208320" y="2903400"/>
            <a:chExt cx="5084640" cy="1927440"/>
          </a:xfrm>
        </p:grpSpPr>
        <p:sp>
          <p:nvSpPr>
            <p:cNvPr id="1410" name=""/>
            <p:cNvSpPr/>
            <p:nvPr/>
          </p:nvSpPr>
          <p:spPr>
            <a:xfrm flipH="1">
              <a:off x="4967280" y="2903400"/>
              <a:ext cx="689040" cy="192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3208320" y="2903400"/>
              <a:ext cx="5084640" cy="798480"/>
              <a:chOff x="3208320" y="2903400"/>
              <a:chExt cx="5084640" cy="798480"/>
            </a:xfrm>
          </p:grpSpPr>
          <p:sp>
            <p:nvSpPr>
              <p:cNvPr id="1412" name=""/>
              <p:cNvSpPr/>
              <p:nvPr/>
            </p:nvSpPr>
            <p:spPr>
              <a:xfrm>
                <a:off x="5843520" y="2970360"/>
                <a:ext cx="314280" cy="73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3208320" y="2970360"/>
                <a:ext cx="628560" cy="73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H="1">
                <a:off x="5656320" y="2903400"/>
                <a:ext cx="61920" cy="79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7288200" y="2903400"/>
                <a:ext cx="439920" cy="79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790040" y="2970360"/>
                <a:ext cx="502920" cy="73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7" name=""/>
            <p:cNvSpPr/>
            <p:nvPr/>
          </p:nvSpPr>
          <p:spPr>
            <a:xfrm>
              <a:off x="3962520" y="2970360"/>
              <a:ext cx="0" cy="1860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8" name=""/>
          <p:cNvGrpSpPr/>
          <p:nvPr/>
        </p:nvGrpSpPr>
        <p:grpSpPr>
          <a:xfrm>
            <a:off x="1701720" y="2571840"/>
            <a:ext cx="6526440" cy="459000"/>
            <a:chOff x="1701720" y="2571840"/>
            <a:chExt cx="6526440" cy="459000"/>
          </a:xfrm>
        </p:grpSpPr>
        <p:sp>
          <p:nvSpPr>
            <p:cNvPr id="1419" name=""/>
            <p:cNvSpPr/>
            <p:nvPr/>
          </p:nvSpPr>
          <p:spPr>
            <a:xfrm>
              <a:off x="5216400" y="2571840"/>
              <a:ext cx="1003320" cy="459000"/>
            </a:xfrm>
            <a:prstGeom prst="rect">
              <a:avLst/>
            </a:prstGeom>
            <a:solidFill>
              <a:srgbClr val="fec6c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rametric Effec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397320" y="2571840"/>
              <a:ext cx="1001520" cy="459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persion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ffec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226280" y="2571840"/>
              <a:ext cx="1001880" cy="4590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cattering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ffec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701720" y="2571840"/>
              <a:ext cx="1231920" cy="459000"/>
            </a:xfrm>
            <a:prstGeom prst="rect">
              <a:avLst/>
            </a:prstGeom>
            <a:solidFill>
              <a:srgbClr val="d0fc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tenuation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i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3" name=""/>
          <p:cNvGrpSpPr/>
          <p:nvPr/>
        </p:nvGrpSpPr>
        <p:grpSpPr>
          <a:xfrm>
            <a:off x="2832120" y="3701880"/>
            <a:ext cx="5956200" cy="1436040"/>
            <a:chOff x="2832120" y="3701880"/>
            <a:chExt cx="5956200" cy="1436040"/>
          </a:xfrm>
        </p:grpSpPr>
        <p:sp>
          <p:nvSpPr>
            <p:cNvPr id="1424" name=""/>
            <p:cNvSpPr/>
            <p:nvPr/>
          </p:nvSpPr>
          <p:spPr>
            <a:xfrm>
              <a:off x="4714920" y="4830840"/>
              <a:ext cx="755640" cy="307080"/>
            </a:xfrm>
            <a:prstGeom prst="rect">
              <a:avLst/>
            </a:prstGeom>
            <a:solidFill>
              <a:srgbClr val="f9cf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907240" y="3701880"/>
              <a:ext cx="691920" cy="307080"/>
            </a:xfrm>
            <a:prstGeom prst="rect">
              <a:avLst/>
            </a:prstGeom>
            <a:solidFill>
              <a:srgbClr val="fec6c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W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853400" y="3701880"/>
              <a:ext cx="934920" cy="3070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m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686640" y="3701880"/>
              <a:ext cx="1009440" cy="3070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illou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832120" y="3701880"/>
              <a:ext cx="695160" cy="307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 M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025800" y="4830840"/>
              <a:ext cx="1401840" cy="307080"/>
            </a:xfrm>
            <a:prstGeom prst="rect">
              <a:avLst/>
            </a:prstGeom>
            <a:solidFill>
              <a:srgbClr val="d0e0f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roma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051520" y="3701880"/>
              <a:ext cx="744480" cy="307080"/>
            </a:xfrm>
            <a:prstGeom prst="rect">
              <a:avLst/>
            </a:prstGeom>
            <a:solidFill>
              <a:srgbClr val="fec6c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P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tical Domain Measu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1820880" y="1177920"/>
            <a:ext cx="6959520" cy="491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airmen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tenuation and optical multiplexer crosstal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larization Mode Dispersion (PM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romatic disp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DFA noise and transmit laser chir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n-linear effects e.g. four-wave mixing, XPM, Raman crosstal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atte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110000"/>
              </a:lnSpc>
              <a:spcBef>
                <a:spcPts val="550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All impact digital error performance of client signal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asurement tool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wer me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st optical spectrum analyz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-factor me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3" name="esti" descr=""/>
          <p:cNvPicPr/>
          <p:nvPr/>
        </p:nvPicPr>
        <p:blipFill>
          <a:blip r:embed="rId1"/>
          <a:stretch/>
        </p:blipFill>
        <p:spPr>
          <a:xfrm>
            <a:off x="6257880" y="4451400"/>
            <a:ext cx="2886120" cy="2070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WDM Provisioning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5" name=""/>
          <p:cNvGrpSpPr/>
          <p:nvPr/>
        </p:nvGrpSpPr>
        <p:grpSpPr>
          <a:xfrm>
            <a:off x="1984320" y="2195640"/>
            <a:ext cx="1101240" cy="885240"/>
            <a:chOff x="1984320" y="2195640"/>
            <a:chExt cx="1101240" cy="885240"/>
          </a:xfrm>
        </p:grpSpPr>
        <p:sp>
          <p:nvSpPr>
            <p:cNvPr id="1436" name=""/>
            <p:cNvSpPr/>
            <p:nvPr/>
          </p:nvSpPr>
          <p:spPr>
            <a:xfrm>
              <a:off x="2010960" y="2228760"/>
              <a:ext cx="1048320" cy="82368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efef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069640" y="2309040"/>
              <a:ext cx="936000" cy="527760"/>
            </a:xfrm>
            <a:prstGeom prst="rect">
              <a:avLst/>
            </a:prstGeom>
            <a:gradFill rotWithShape="0">
              <a:gsLst>
                <a:gs pos="0">
                  <a:srgbClr val="c0fef9"/>
                </a:gs>
                <a:gs pos="100000">
                  <a:srgbClr val="394b49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28"/>
                  </a:solidFill>
                  <a:latin typeface="Arial"/>
                </a:rPr>
                <a:t>ONT-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070080" y="2195640"/>
              <a:ext cx="15480" cy="88056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984320" y="2200320"/>
              <a:ext cx="15480" cy="88056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010960" y="3057840"/>
              <a:ext cx="1046520" cy="1656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010960" y="2994120"/>
              <a:ext cx="1048320" cy="58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082240" y="2939040"/>
              <a:ext cx="47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3" name=""/>
          <p:cNvSpPr/>
          <p:nvPr/>
        </p:nvSpPr>
        <p:spPr>
          <a:xfrm>
            <a:off x="4929120" y="1627200"/>
            <a:ext cx="36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419800" y="1627200"/>
            <a:ext cx="55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6087960" y="162720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H="1" rot="5400000">
            <a:off x="6064920" y="1535040"/>
            <a:ext cx="184320" cy="183960"/>
          </a:xfrm>
          <a:prstGeom prst="triangle">
            <a:avLst>
              <a:gd name="adj" fmla="val 50000"/>
            </a:avLst>
          </a:prstGeom>
          <a:solidFill>
            <a:srgbClr val="b5ed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H="1" rot="5400000">
            <a:off x="5420520" y="1534320"/>
            <a:ext cx="184320" cy="185760"/>
          </a:xfrm>
          <a:prstGeom prst="triangle">
            <a:avLst>
              <a:gd name="adj" fmla="val 50000"/>
            </a:avLst>
          </a:prstGeom>
          <a:solidFill>
            <a:srgbClr val="b5ed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13640" y="1616040"/>
            <a:ext cx="268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624800" y="2004840"/>
            <a:ext cx="27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915320" y="1619280"/>
            <a:ext cx="141120" cy="125280"/>
          </a:xfrm>
          <a:custGeom>
            <a:avLst/>
            <a:gdLst>
              <a:gd name="textAreaLeft" fmla="*/ 18720 w 141120"/>
              <a:gd name="textAreaRight" fmla="*/ 122400 w 141120"/>
              <a:gd name="textAreaTop" fmla="*/ 21960 h 125280"/>
              <a:gd name="textAreaBottom" fmla="*/ 91080 h 12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7913520" y="1744560"/>
            <a:ext cx="141480" cy="123840"/>
          </a:xfrm>
          <a:custGeom>
            <a:avLst/>
            <a:gdLst>
              <a:gd name="textAreaLeft" fmla="*/ 18720 w 141480"/>
              <a:gd name="textAreaRight" fmla="*/ 122760 w 141480"/>
              <a:gd name="textAreaTop" fmla="*/ 21600 h 123840"/>
              <a:gd name="textAreaBottom" fmla="*/ 900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913520" y="1886040"/>
            <a:ext cx="141480" cy="125280"/>
          </a:xfrm>
          <a:custGeom>
            <a:avLst/>
            <a:gdLst>
              <a:gd name="textAreaLeft" fmla="*/ 18720 w 141480"/>
              <a:gd name="textAreaRight" fmla="*/ 122760 w 141480"/>
              <a:gd name="textAreaTop" fmla="*/ 21960 h 125280"/>
              <a:gd name="textAreaBottom" fmla="*/ 91080 h 12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3720960" y="1617840"/>
            <a:ext cx="141120" cy="389880"/>
            <a:chOff x="3720960" y="1617840"/>
            <a:chExt cx="141120" cy="389880"/>
          </a:xfrm>
        </p:grpSpPr>
        <p:sp>
          <p:nvSpPr>
            <p:cNvPr id="1454" name=""/>
            <p:cNvSpPr/>
            <p:nvPr/>
          </p:nvSpPr>
          <p:spPr>
            <a:xfrm flipH="1">
              <a:off x="3721680" y="1617840"/>
              <a:ext cx="140400" cy="124200"/>
            </a:xfrm>
            <a:custGeom>
              <a:avLst/>
              <a:gdLst>
                <a:gd name="textAreaLeft" fmla="*/ 18720 w 140400"/>
                <a:gd name="textAreaRight" fmla="*/ 121680 w 140400"/>
                <a:gd name="textAreaTop" fmla="*/ 21600 h 124200"/>
                <a:gd name="textAreaBottom" fmla="*/ 90000 h 12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3720960" y="1742040"/>
              <a:ext cx="140400" cy="123840"/>
            </a:xfrm>
            <a:custGeom>
              <a:avLst/>
              <a:gdLst>
                <a:gd name="textAreaLeft" fmla="*/ 18720 w 140400"/>
                <a:gd name="textAreaRight" fmla="*/ 121680 w 140400"/>
                <a:gd name="textAreaTop" fmla="*/ 21600 h 123840"/>
                <a:gd name="textAreaBottom" fmla="*/ 900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3720960" y="1883880"/>
              <a:ext cx="140400" cy="123840"/>
            </a:xfrm>
            <a:custGeom>
              <a:avLst/>
              <a:gdLst>
                <a:gd name="textAreaLeft" fmla="*/ 18720 w 140400"/>
                <a:gd name="textAreaRight" fmla="*/ 121680 w 140400"/>
                <a:gd name="textAreaTop" fmla="*/ 21600 h 123840"/>
                <a:gd name="textAreaBottom" fmla="*/ 900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3359160" y="1636560"/>
            <a:ext cx="339840" cy="766800"/>
          </a:xfrm>
          <a:custGeom>
            <a:avLst/>
            <a:gdLst/>
            <a:ahLst/>
            <a:rect l="l" t="t" r="r" b="b"/>
            <a:pathLst>
              <a:path w="624" h="1872">
                <a:moveTo>
                  <a:pt x="624" y="0"/>
                </a:moveTo>
                <a:lnTo>
                  <a:pt x="0" y="0"/>
                </a:lnTo>
                <a:lnTo>
                  <a:pt x="0" y="18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470400" y="1968480"/>
            <a:ext cx="236520" cy="425520"/>
          </a:xfrm>
          <a:custGeom>
            <a:avLst/>
            <a:gdLst/>
            <a:ahLst/>
            <a:rect l="l" t="t" r="r" b="b"/>
            <a:pathLst>
              <a:path w="624" h="1872">
                <a:moveTo>
                  <a:pt x="624" y="0"/>
                </a:moveTo>
                <a:lnTo>
                  <a:pt x="0" y="0"/>
                </a:lnTo>
                <a:lnTo>
                  <a:pt x="0" y="18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33760" y="1614600"/>
            <a:ext cx="27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438800" y="1979640"/>
            <a:ext cx="26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186080" y="1552680"/>
            <a:ext cx="236520" cy="149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186080" y="1897200"/>
            <a:ext cx="236520" cy="14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4282920" y="1722600"/>
            <a:ext cx="17640" cy="107280"/>
            <a:chOff x="4282920" y="1722600"/>
            <a:chExt cx="17640" cy="107280"/>
          </a:xfrm>
        </p:grpSpPr>
        <p:sp>
          <p:nvSpPr>
            <p:cNvPr id="1464" name=""/>
            <p:cNvSpPr/>
            <p:nvPr/>
          </p:nvSpPr>
          <p:spPr>
            <a:xfrm>
              <a:off x="4282920" y="1722600"/>
              <a:ext cx="17640" cy="1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82920" y="1768680"/>
              <a:ext cx="17640" cy="1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282920" y="1813320"/>
              <a:ext cx="17640" cy="1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6831000" y="1089000"/>
            <a:ext cx="216720" cy="1046160"/>
            <a:chOff x="6831000" y="1089000"/>
            <a:chExt cx="216720" cy="1046160"/>
          </a:xfrm>
        </p:grpSpPr>
        <p:sp>
          <p:nvSpPr>
            <p:cNvPr id="1468" name=""/>
            <p:cNvSpPr/>
            <p:nvPr/>
          </p:nvSpPr>
          <p:spPr>
            <a:xfrm flipH="1" rot="5400000">
              <a:off x="6429240" y="1517040"/>
              <a:ext cx="1046160" cy="189720"/>
            </a:xfrm>
            <a:custGeom>
              <a:avLst/>
              <a:gdLst>
                <a:gd name="textAreaLeft" fmla="*/ 134280 w 1046160"/>
                <a:gd name="textAreaRight" fmla="*/ 911880 w 1046160"/>
                <a:gd name="textAreaTop" fmla="*/ 24120 h 189720"/>
                <a:gd name="textAreaBottom" fmla="*/ 165600 h 18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752" y="21600"/>
                  </a:lnTo>
                  <a:lnTo>
                    <a:pt x="1848" y="21600"/>
                  </a:lnTo>
                  <a:close/>
                </a:path>
              </a:pathLst>
            </a:custGeom>
            <a:solidFill>
              <a:srgbClr val="75dd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rot="16200000">
              <a:off x="6662520" y="1850760"/>
              <a:ext cx="428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0" name=""/>
          <p:cNvSpPr/>
          <p:nvPr/>
        </p:nvSpPr>
        <p:spPr>
          <a:xfrm>
            <a:off x="7054920" y="1596960"/>
            <a:ext cx="268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7059600" y="1962000"/>
            <a:ext cx="268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338960" y="1547640"/>
            <a:ext cx="238320" cy="147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7338960" y="1890720"/>
            <a:ext cx="238320" cy="149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7435800" y="1717560"/>
            <a:ext cx="17640" cy="107640"/>
            <a:chOff x="7435800" y="1717560"/>
            <a:chExt cx="17640" cy="107640"/>
          </a:xfrm>
        </p:grpSpPr>
        <p:sp>
          <p:nvSpPr>
            <p:cNvPr id="1475" name=""/>
            <p:cNvSpPr/>
            <p:nvPr/>
          </p:nvSpPr>
          <p:spPr>
            <a:xfrm>
              <a:off x="7435800" y="1717560"/>
              <a:ext cx="17640" cy="1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435800" y="1764000"/>
              <a:ext cx="17640" cy="1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435800" y="1808640"/>
              <a:ext cx="17640" cy="1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8" name=""/>
          <p:cNvSpPr/>
          <p:nvPr/>
        </p:nvSpPr>
        <p:spPr>
          <a:xfrm>
            <a:off x="3889440" y="1608120"/>
            <a:ext cx="268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894120" y="1973160"/>
            <a:ext cx="268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257880" y="1627200"/>
            <a:ext cx="46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726240" y="1581120"/>
            <a:ext cx="114120" cy="114480"/>
          </a:xfrm>
          <a:prstGeom prst="ellipse">
            <a:avLst/>
          </a:prstGeom>
          <a:solidFill>
            <a:srgbClr val="027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973840" y="1587600"/>
            <a:ext cx="114120" cy="114120"/>
          </a:xfrm>
          <a:prstGeom prst="ellipse">
            <a:avLst/>
          </a:prstGeom>
          <a:solidFill>
            <a:srgbClr val="027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5305320" y="1581120"/>
            <a:ext cx="114480" cy="114480"/>
          </a:xfrm>
          <a:prstGeom prst="ellipse">
            <a:avLst/>
          </a:prstGeom>
          <a:solidFill>
            <a:srgbClr val="027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392800" y="1711440"/>
            <a:ext cx="0" cy="618840"/>
          </a:xfrm>
          <a:prstGeom prst="line">
            <a:avLst/>
          </a:prstGeom>
          <a:ln w="28440">
            <a:solidFill>
              <a:srgbClr val="0272e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021360" y="1711440"/>
            <a:ext cx="0" cy="628560"/>
          </a:xfrm>
          <a:prstGeom prst="line">
            <a:avLst/>
          </a:prstGeom>
          <a:ln w="28440">
            <a:solidFill>
              <a:srgbClr val="0272e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773760" y="1701720"/>
            <a:ext cx="0" cy="638280"/>
          </a:xfrm>
          <a:prstGeom prst="line">
            <a:avLst/>
          </a:prstGeom>
          <a:ln w="28440">
            <a:solidFill>
              <a:srgbClr val="0272e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7" name=""/>
          <p:cNvGrpSpPr/>
          <p:nvPr/>
        </p:nvGrpSpPr>
        <p:grpSpPr>
          <a:xfrm>
            <a:off x="3327480" y="2270160"/>
            <a:ext cx="607680" cy="748440"/>
            <a:chOff x="3327480" y="2270160"/>
            <a:chExt cx="607680" cy="748440"/>
          </a:xfrm>
        </p:grpSpPr>
        <p:sp>
          <p:nvSpPr>
            <p:cNvPr id="1488" name=""/>
            <p:cNvSpPr/>
            <p:nvPr/>
          </p:nvSpPr>
          <p:spPr>
            <a:xfrm>
              <a:off x="3573360" y="2270160"/>
              <a:ext cx="361800" cy="352440"/>
            </a:xfrm>
            <a:prstGeom prst="ellipse">
              <a:avLst/>
            </a:prstGeom>
            <a:solidFill>
              <a:srgbClr val="ee0202"/>
            </a:solidFill>
            <a:ln w="9360">
              <a:solidFill>
                <a:srgbClr val="ee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327480" y="2742120"/>
              <a:ext cx="595080" cy="276480"/>
            </a:xfrm>
            <a:prstGeom prst="rect">
              <a:avLst/>
            </a:prstGeom>
            <a:solidFill>
              <a:srgbClr val="ee0202"/>
            </a:solidFill>
            <a:ln w="9360">
              <a:solidFill>
                <a:srgbClr val="ee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5128560" y="2290680"/>
            <a:ext cx="1826280" cy="747000"/>
            <a:chOff x="5128560" y="2290680"/>
            <a:chExt cx="1826280" cy="747000"/>
          </a:xfrm>
        </p:grpSpPr>
        <p:sp>
          <p:nvSpPr>
            <p:cNvPr id="1491" name=""/>
            <p:cNvSpPr/>
            <p:nvPr/>
          </p:nvSpPr>
          <p:spPr>
            <a:xfrm>
              <a:off x="5202000" y="2319480"/>
              <a:ext cx="362160" cy="352440"/>
            </a:xfrm>
            <a:prstGeom prst="ellipse">
              <a:avLst/>
            </a:prstGeom>
            <a:solidFill>
              <a:srgbClr val="0272ee"/>
            </a:solidFill>
            <a:ln w="9360">
              <a:solidFill>
                <a:srgbClr val="027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821200" y="2319480"/>
              <a:ext cx="361800" cy="352440"/>
            </a:xfrm>
            <a:prstGeom prst="ellipse">
              <a:avLst/>
            </a:prstGeom>
            <a:solidFill>
              <a:srgbClr val="0272ee"/>
            </a:solidFill>
            <a:ln w="9360">
              <a:solidFill>
                <a:srgbClr val="027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592680" y="2290680"/>
              <a:ext cx="362160" cy="352440"/>
            </a:xfrm>
            <a:prstGeom prst="ellipse">
              <a:avLst/>
            </a:prstGeom>
            <a:solidFill>
              <a:srgbClr val="0272ee"/>
            </a:solidFill>
            <a:ln w="9360">
              <a:solidFill>
                <a:srgbClr val="027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128560" y="2761200"/>
              <a:ext cx="639360" cy="276480"/>
            </a:xfrm>
            <a:prstGeom prst="rect">
              <a:avLst/>
            </a:prstGeom>
            <a:solidFill>
              <a:srgbClr val="0272ee"/>
            </a:solidFill>
            <a:ln w="9360">
              <a:solidFill>
                <a:srgbClr val="027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5" name=""/>
          <p:cNvGrpSpPr/>
          <p:nvPr/>
        </p:nvGrpSpPr>
        <p:grpSpPr>
          <a:xfrm>
            <a:off x="6889680" y="2424240"/>
            <a:ext cx="681120" cy="636840"/>
            <a:chOff x="6889680" y="2424240"/>
            <a:chExt cx="681120" cy="636840"/>
          </a:xfrm>
        </p:grpSpPr>
        <p:sp>
          <p:nvSpPr>
            <p:cNvPr id="1496" name=""/>
            <p:cNvSpPr/>
            <p:nvPr/>
          </p:nvSpPr>
          <p:spPr>
            <a:xfrm>
              <a:off x="6889680" y="2424240"/>
              <a:ext cx="361800" cy="352080"/>
            </a:xfrm>
            <a:prstGeom prst="ellipse">
              <a:avLst/>
            </a:prstGeom>
            <a:solidFill>
              <a:srgbClr val="02c619"/>
            </a:solidFill>
            <a:ln w="9360">
              <a:solidFill>
                <a:srgbClr val="02c6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949800" y="2784600"/>
              <a:ext cx="621000" cy="276480"/>
            </a:xfrm>
            <a:prstGeom prst="rect">
              <a:avLst/>
            </a:prstGeom>
            <a:solidFill>
              <a:srgbClr val="02c619"/>
            </a:solidFill>
            <a:ln w="9360">
              <a:solidFill>
                <a:srgbClr val="02c6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SN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8" name=""/>
          <p:cNvSpPr/>
          <p:nvPr/>
        </p:nvSpPr>
        <p:spPr>
          <a:xfrm>
            <a:off x="2000160" y="3238560"/>
            <a:ext cx="663408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72ee"/>
                </a:solidFill>
                <a:latin typeface="Arial"/>
              </a:rPr>
              <a:t>Step 1   Optical power level 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 the overall power level at the far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ne the power levels at test points according to the bu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9" name=""/>
          <p:cNvGrpSpPr/>
          <p:nvPr/>
        </p:nvGrpSpPr>
        <p:grpSpPr>
          <a:xfrm>
            <a:off x="4709160" y="1093680"/>
            <a:ext cx="216720" cy="1046160"/>
            <a:chOff x="4709160" y="1093680"/>
            <a:chExt cx="216720" cy="1046160"/>
          </a:xfrm>
        </p:grpSpPr>
        <p:sp>
          <p:nvSpPr>
            <p:cNvPr id="1500" name=""/>
            <p:cNvSpPr/>
            <p:nvPr/>
          </p:nvSpPr>
          <p:spPr>
            <a:xfrm rot="16200000">
              <a:off x="4280760" y="1521720"/>
              <a:ext cx="1046160" cy="189720"/>
            </a:xfrm>
            <a:custGeom>
              <a:avLst/>
              <a:gdLst>
                <a:gd name="textAreaLeft" fmla="*/ 134280 w 1046160"/>
                <a:gd name="textAreaRight" fmla="*/ 911880 w 1046160"/>
                <a:gd name="textAreaTop" fmla="*/ 24120 h 189720"/>
                <a:gd name="textAreaBottom" fmla="*/ 165600 h 18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752" y="21600"/>
                  </a:lnTo>
                  <a:lnTo>
                    <a:pt x="1848" y="21600"/>
                  </a:lnTo>
                  <a:close/>
                </a:path>
              </a:pathLst>
            </a:custGeom>
            <a:solidFill>
              <a:srgbClr val="75dd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 rot="5400000">
              <a:off x="4665240" y="1855440"/>
              <a:ext cx="428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eaVer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2" name=""/>
          <p:cNvSpPr/>
          <p:nvPr/>
        </p:nvSpPr>
        <p:spPr>
          <a:xfrm>
            <a:off x="2001960" y="4338720"/>
            <a:ext cx="654768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c619"/>
                </a:solidFill>
                <a:latin typeface="Arial"/>
              </a:rPr>
              <a:t>Step 2</a:t>
            </a:r>
            <a:r>
              <a:rPr b="1" lang="en-US" sz="1800" spc="-1" strike="noStrike">
                <a:solidFill>
                  <a:srgbClr val="02c61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c619"/>
                </a:solidFill>
                <a:latin typeface="Arial"/>
              </a:rPr>
              <a:t>Optical wavelength 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 the optical spectrum and tune the OSN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 max. OSNR difference at each lambda (e.g. &lt; 4 d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011320" y="5443560"/>
            <a:ext cx="64454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202"/>
                </a:solidFill>
                <a:latin typeface="Arial"/>
              </a:rPr>
              <a:t>Step 3</a:t>
            </a:r>
            <a:r>
              <a:rPr b="1" lang="en-US" sz="1800" spc="-1" strike="noStrike">
                <a:solidFill>
                  <a:srgbClr val="ee020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e0202"/>
                </a:solidFill>
                <a:latin typeface="Arial"/>
              </a:rPr>
              <a:t>BER 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-N/STM-N loop/daisy-chain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bit errors over 24 – 72 h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WDM Spectr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5" name="ont-30_rgb" descr=""/>
          <p:cNvPicPr/>
          <p:nvPr/>
        </p:nvPicPr>
        <p:blipFill>
          <a:blip r:embed="rId1"/>
          <a:stretch/>
        </p:blipFill>
        <p:spPr>
          <a:xfrm>
            <a:off x="1477800" y="1111320"/>
            <a:ext cx="7653600" cy="5091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/>
          <p:nvPr/>
        </p:nvSpPr>
        <p:spPr>
          <a:xfrm>
            <a:off x="2182680" y="4437000"/>
            <a:ext cx="623736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73200" indent="-48276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dominant impair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73200" indent="-48276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ion towards analogue network 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73200" indent="-48276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SNR is no longer en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73200" indent="-48276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facto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327480" y="1446120"/>
            <a:ext cx="5157720" cy="2871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3397320" y="1384200"/>
            <a:ext cx="5130720" cy="2841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9" name=""/>
          <p:cNvGrpSpPr/>
          <p:nvPr/>
        </p:nvGrpSpPr>
        <p:grpSpPr>
          <a:xfrm>
            <a:off x="5357880" y="1406520"/>
            <a:ext cx="2892240" cy="2179440"/>
            <a:chOff x="5357880" y="1406520"/>
            <a:chExt cx="2892240" cy="2179440"/>
          </a:xfrm>
        </p:grpSpPr>
        <p:sp>
          <p:nvSpPr>
            <p:cNvPr id="1510" name=""/>
            <p:cNvSpPr/>
            <p:nvPr/>
          </p:nvSpPr>
          <p:spPr>
            <a:xfrm>
              <a:off x="5357880" y="1406520"/>
              <a:ext cx="2892240" cy="2179440"/>
            </a:xfrm>
            <a:custGeom>
              <a:avLst/>
              <a:gdLst/>
              <a:ahLst/>
              <a:rect l="l" t="t" r="r" b="b"/>
              <a:pathLst>
                <a:path w="3645" h="2746">
                  <a:moveTo>
                    <a:pt x="3645" y="0"/>
                  </a:moveTo>
                  <a:lnTo>
                    <a:pt x="3552" y="1"/>
                  </a:lnTo>
                  <a:lnTo>
                    <a:pt x="3459" y="4"/>
                  </a:lnTo>
                  <a:lnTo>
                    <a:pt x="3365" y="8"/>
                  </a:lnTo>
                  <a:lnTo>
                    <a:pt x="3273" y="14"/>
                  </a:lnTo>
                  <a:lnTo>
                    <a:pt x="3183" y="22"/>
                  </a:lnTo>
                  <a:lnTo>
                    <a:pt x="3092" y="32"/>
                  </a:lnTo>
                  <a:lnTo>
                    <a:pt x="3002" y="42"/>
                  </a:lnTo>
                  <a:lnTo>
                    <a:pt x="2912" y="55"/>
                  </a:lnTo>
                  <a:lnTo>
                    <a:pt x="2825" y="70"/>
                  </a:lnTo>
                  <a:lnTo>
                    <a:pt x="2737" y="86"/>
                  </a:lnTo>
                  <a:lnTo>
                    <a:pt x="2650" y="104"/>
                  </a:lnTo>
                  <a:lnTo>
                    <a:pt x="2564" y="123"/>
                  </a:lnTo>
                  <a:lnTo>
                    <a:pt x="2479" y="144"/>
                  </a:lnTo>
                  <a:lnTo>
                    <a:pt x="2395" y="166"/>
                  </a:lnTo>
                  <a:lnTo>
                    <a:pt x="2311" y="190"/>
                  </a:lnTo>
                  <a:lnTo>
                    <a:pt x="2230" y="215"/>
                  </a:lnTo>
                  <a:lnTo>
                    <a:pt x="2148" y="241"/>
                  </a:lnTo>
                  <a:lnTo>
                    <a:pt x="2068" y="269"/>
                  </a:lnTo>
                  <a:lnTo>
                    <a:pt x="1990" y="299"/>
                  </a:lnTo>
                  <a:lnTo>
                    <a:pt x="1912" y="330"/>
                  </a:lnTo>
                  <a:lnTo>
                    <a:pt x="1835" y="362"/>
                  </a:lnTo>
                  <a:lnTo>
                    <a:pt x="1760" y="396"/>
                  </a:lnTo>
                  <a:lnTo>
                    <a:pt x="1684" y="430"/>
                  </a:lnTo>
                  <a:lnTo>
                    <a:pt x="1611" y="467"/>
                  </a:lnTo>
                  <a:lnTo>
                    <a:pt x="1469" y="544"/>
                  </a:lnTo>
                  <a:lnTo>
                    <a:pt x="1331" y="624"/>
                  </a:lnTo>
                  <a:lnTo>
                    <a:pt x="1264" y="666"/>
                  </a:lnTo>
                  <a:lnTo>
                    <a:pt x="1198" y="710"/>
                  </a:lnTo>
                  <a:lnTo>
                    <a:pt x="1135" y="755"/>
                  </a:lnTo>
                  <a:lnTo>
                    <a:pt x="1072" y="801"/>
                  </a:lnTo>
                  <a:lnTo>
                    <a:pt x="1012" y="847"/>
                  </a:lnTo>
                  <a:lnTo>
                    <a:pt x="951" y="896"/>
                  </a:lnTo>
                  <a:lnTo>
                    <a:pt x="894" y="945"/>
                  </a:lnTo>
                  <a:lnTo>
                    <a:pt x="837" y="995"/>
                  </a:lnTo>
                  <a:lnTo>
                    <a:pt x="782" y="1047"/>
                  </a:lnTo>
                  <a:lnTo>
                    <a:pt x="729" y="1098"/>
                  </a:lnTo>
                  <a:lnTo>
                    <a:pt x="677" y="1152"/>
                  </a:lnTo>
                  <a:lnTo>
                    <a:pt x="627" y="1206"/>
                  </a:lnTo>
                  <a:lnTo>
                    <a:pt x="579" y="1260"/>
                  </a:lnTo>
                  <a:lnTo>
                    <a:pt x="533" y="1317"/>
                  </a:lnTo>
                  <a:lnTo>
                    <a:pt x="487" y="1374"/>
                  </a:lnTo>
                  <a:lnTo>
                    <a:pt x="445" y="1431"/>
                  </a:lnTo>
                  <a:lnTo>
                    <a:pt x="404" y="1490"/>
                  </a:lnTo>
                  <a:lnTo>
                    <a:pt x="364" y="1550"/>
                  </a:lnTo>
                  <a:lnTo>
                    <a:pt x="325" y="1609"/>
                  </a:lnTo>
                  <a:lnTo>
                    <a:pt x="290" y="1671"/>
                  </a:lnTo>
                  <a:lnTo>
                    <a:pt x="257" y="1732"/>
                  </a:lnTo>
                  <a:lnTo>
                    <a:pt x="225" y="1795"/>
                  </a:lnTo>
                  <a:lnTo>
                    <a:pt x="195" y="1858"/>
                  </a:lnTo>
                  <a:lnTo>
                    <a:pt x="168" y="1922"/>
                  </a:lnTo>
                  <a:lnTo>
                    <a:pt x="142" y="1987"/>
                  </a:lnTo>
                  <a:lnTo>
                    <a:pt x="118" y="2053"/>
                  </a:lnTo>
                  <a:lnTo>
                    <a:pt x="96" y="2119"/>
                  </a:lnTo>
                  <a:lnTo>
                    <a:pt x="77" y="2185"/>
                  </a:lnTo>
                  <a:lnTo>
                    <a:pt x="59" y="2252"/>
                  </a:lnTo>
                  <a:lnTo>
                    <a:pt x="44" y="2319"/>
                  </a:lnTo>
                  <a:lnTo>
                    <a:pt x="30" y="2388"/>
                  </a:lnTo>
                  <a:lnTo>
                    <a:pt x="21" y="2456"/>
                  </a:lnTo>
                  <a:lnTo>
                    <a:pt x="11" y="2525"/>
                  </a:lnTo>
                  <a:lnTo>
                    <a:pt x="6" y="2595"/>
                  </a:lnTo>
                  <a:lnTo>
                    <a:pt x="2" y="2665"/>
                  </a:lnTo>
                  <a:lnTo>
                    <a:pt x="0" y="2736"/>
                  </a:lnTo>
                  <a:lnTo>
                    <a:pt x="3645" y="2746"/>
                  </a:lnTo>
                  <a:lnTo>
                    <a:pt x="3645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357880" y="1406520"/>
              <a:ext cx="2892240" cy="2171520"/>
            </a:xfrm>
            <a:custGeom>
              <a:avLst/>
              <a:gdLst/>
              <a:ahLst/>
              <a:rect l="l" t="t" r="r" b="b"/>
              <a:pathLst>
                <a:path w="3645" h="2736">
                  <a:moveTo>
                    <a:pt x="3645" y="0"/>
                  </a:moveTo>
                  <a:lnTo>
                    <a:pt x="3552" y="1"/>
                  </a:lnTo>
                  <a:lnTo>
                    <a:pt x="3459" y="4"/>
                  </a:lnTo>
                  <a:lnTo>
                    <a:pt x="3365" y="8"/>
                  </a:lnTo>
                  <a:lnTo>
                    <a:pt x="3273" y="14"/>
                  </a:lnTo>
                  <a:lnTo>
                    <a:pt x="3183" y="22"/>
                  </a:lnTo>
                  <a:lnTo>
                    <a:pt x="3092" y="32"/>
                  </a:lnTo>
                  <a:lnTo>
                    <a:pt x="3002" y="42"/>
                  </a:lnTo>
                  <a:lnTo>
                    <a:pt x="2912" y="55"/>
                  </a:lnTo>
                  <a:lnTo>
                    <a:pt x="2825" y="70"/>
                  </a:lnTo>
                  <a:lnTo>
                    <a:pt x="2737" y="86"/>
                  </a:lnTo>
                  <a:lnTo>
                    <a:pt x="2650" y="104"/>
                  </a:lnTo>
                  <a:lnTo>
                    <a:pt x="2564" y="123"/>
                  </a:lnTo>
                  <a:lnTo>
                    <a:pt x="2479" y="144"/>
                  </a:lnTo>
                  <a:lnTo>
                    <a:pt x="2395" y="166"/>
                  </a:lnTo>
                  <a:lnTo>
                    <a:pt x="2311" y="190"/>
                  </a:lnTo>
                  <a:lnTo>
                    <a:pt x="2230" y="215"/>
                  </a:lnTo>
                  <a:lnTo>
                    <a:pt x="2148" y="241"/>
                  </a:lnTo>
                  <a:lnTo>
                    <a:pt x="2068" y="269"/>
                  </a:lnTo>
                  <a:lnTo>
                    <a:pt x="1990" y="299"/>
                  </a:lnTo>
                  <a:lnTo>
                    <a:pt x="1912" y="330"/>
                  </a:lnTo>
                  <a:lnTo>
                    <a:pt x="1835" y="362"/>
                  </a:lnTo>
                  <a:lnTo>
                    <a:pt x="1760" y="396"/>
                  </a:lnTo>
                  <a:lnTo>
                    <a:pt x="1684" y="430"/>
                  </a:lnTo>
                  <a:lnTo>
                    <a:pt x="1611" y="467"/>
                  </a:lnTo>
                  <a:lnTo>
                    <a:pt x="1469" y="544"/>
                  </a:lnTo>
                  <a:lnTo>
                    <a:pt x="1331" y="624"/>
                  </a:lnTo>
                  <a:lnTo>
                    <a:pt x="1264" y="666"/>
                  </a:lnTo>
                  <a:lnTo>
                    <a:pt x="1198" y="710"/>
                  </a:lnTo>
                  <a:lnTo>
                    <a:pt x="1135" y="755"/>
                  </a:lnTo>
                  <a:lnTo>
                    <a:pt x="1072" y="801"/>
                  </a:lnTo>
                  <a:lnTo>
                    <a:pt x="1012" y="847"/>
                  </a:lnTo>
                  <a:lnTo>
                    <a:pt x="951" y="896"/>
                  </a:lnTo>
                  <a:lnTo>
                    <a:pt x="894" y="945"/>
                  </a:lnTo>
                  <a:lnTo>
                    <a:pt x="837" y="995"/>
                  </a:lnTo>
                  <a:lnTo>
                    <a:pt x="782" y="1047"/>
                  </a:lnTo>
                  <a:lnTo>
                    <a:pt x="729" y="1098"/>
                  </a:lnTo>
                  <a:lnTo>
                    <a:pt x="677" y="1152"/>
                  </a:lnTo>
                  <a:lnTo>
                    <a:pt x="627" y="1206"/>
                  </a:lnTo>
                  <a:lnTo>
                    <a:pt x="579" y="1260"/>
                  </a:lnTo>
                  <a:lnTo>
                    <a:pt x="533" y="1317"/>
                  </a:lnTo>
                  <a:lnTo>
                    <a:pt x="487" y="1374"/>
                  </a:lnTo>
                  <a:lnTo>
                    <a:pt x="445" y="1431"/>
                  </a:lnTo>
                  <a:lnTo>
                    <a:pt x="404" y="1490"/>
                  </a:lnTo>
                  <a:lnTo>
                    <a:pt x="364" y="1550"/>
                  </a:lnTo>
                  <a:lnTo>
                    <a:pt x="325" y="1609"/>
                  </a:lnTo>
                  <a:lnTo>
                    <a:pt x="290" y="1671"/>
                  </a:lnTo>
                  <a:lnTo>
                    <a:pt x="257" y="1732"/>
                  </a:lnTo>
                  <a:lnTo>
                    <a:pt x="225" y="1795"/>
                  </a:lnTo>
                  <a:lnTo>
                    <a:pt x="195" y="1858"/>
                  </a:lnTo>
                  <a:lnTo>
                    <a:pt x="168" y="1922"/>
                  </a:lnTo>
                  <a:lnTo>
                    <a:pt x="142" y="1987"/>
                  </a:lnTo>
                  <a:lnTo>
                    <a:pt x="118" y="2053"/>
                  </a:lnTo>
                  <a:lnTo>
                    <a:pt x="96" y="2119"/>
                  </a:lnTo>
                  <a:lnTo>
                    <a:pt x="77" y="2185"/>
                  </a:lnTo>
                  <a:lnTo>
                    <a:pt x="59" y="2252"/>
                  </a:lnTo>
                  <a:lnTo>
                    <a:pt x="44" y="2319"/>
                  </a:lnTo>
                  <a:lnTo>
                    <a:pt x="30" y="2388"/>
                  </a:lnTo>
                  <a:lnTo>
                    <a:pt x="21" y="2456"/>
                  </a:lnTo>
                  <a:lnTo>
                    <a:pt x="11" y="2525"/>
                  </a:lnTo>
                  <a:lnTo>
                    <a:pt x="6" y="2595"/>
                  </a:lnTo>
                  <a:lnTo>
                    <a:pt x="2" y="2665"/>
                  </a:lnTo>
                  <a:lnTo>
                    <a:pt x="0" y="273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3530520" y="1406520"/>
            <a:ext cx="2038320" cy="2192400"/>
            <a:chOff x="3530520" y="1406520"/>
            <a:chExt cx="2038320" cy="2192400"/>
          </a:xfrm>
        </p:grpSpPr>
        <p:sp>
          <p:nvSpPr>
            <p:cNvPr id="1513" name=""/>
            <p:cNvSpPr/>
            <p:nvPr/>
          </p:nvSpPr>
          <p:spPr>
            <a:xfrm>
              <a:off x="3530520" y="1406520"/>
              <a:ext cx="2038320" cy="2192400"/>
            </a:xfrm>
            <a:custGeom>
              <a:avLst/>
              <a:gdLst/>
              <a:ahLst/>
              <a:rect l="l" t="t" r="r" b="b"/>
              <a:pathLst>
                <a:path w="2570" h="2761">
                  <a:moveTo>
                    <a:pt x="0" y="0"/>
                  </a:moveTo>
                  <a:lnTo>
                    <a:pt x="66" y="1"/>
                  </a:lnTo>
                  <a:lnTo>
                    <a:pt x="132" y="4"/>
                  </a:lnTo>
                  <a:lnTo>
                    <a:pt x="198" y="8"/>
                  </a:lnTo>
                  <a:lnTo>
                    <a:pt x="263" y="14"/>
                  </a:lnTo>
                  <a:lnTo>
                    <a:pt x="327" y="22"/>
                  </a:lnTo>
                  <a:lnTo>
                    <a:pt x="392" y="31"/>
                  </a:lnTo>
                  <a:lnTo>
                    <a:pt x="455" y="43"/>
                  </a:lnTo>
                  <a:lnTo>
                    <a:pt x="518" y="55"/>
                  </a:lnTo>
                  <a:lnTo>
                    <a:pt x="581" y="70"/>
                  </a:lnTo>
                  <a:lnTo>
                    <a:pt x="643" y="86"/>
                  </a:lnTo>
                  <a:lnTo>
                    <a:pt x="704" y="104"/>
                  </a:lnTo>
                  <a:lnTo>
                    <a:pt x="765" y="124"/>
                  </a:lnTo>
                  <a:lnTo>
                    <a:pt x="824" y="144"/>
                  </a:lnTo>
                  <a:lnTo>
                    <a:pt x="884" y="166"/>
                  </a:lnTo>
                  <a:lnTo>
                    <a:pt x="942" y="190"/>
                  </a:lnTo>
                  <a:lnTo>
                    <a:pt x="1001" y="215"/>
                  </a:lnTo>
                  <a:lnTo>
                    <a:pt x="1057" y="243"/>
                  </a:lnTo>
                  <a:lnTo>
                    <a:pt x="1115" y="270"/>
                  </a:lnTo>
                  <a:lnTo>
                    <a:pt x="1170" y="301"/>
                  </a:lnTo>
                  <a:lnTo>
                    <a:pt x="1225" y="331"/>
                  </a:lnTo>
                  <a:lnTo>
                    <a:pt x="1280" y="364"/>
                  </a:lnTo>
                  <a:lnTo>
                    <a:pt x="1333" y="397"/>
                  </a:lnTo>
                  <a:lnTo>
                    <a:pt x="1385" y="433"/>
                  </a:lnTo>
                  <a:lnTo>
                    <a:pt x="1437" y="468"/>
                  </a:lnTo>
                  <a:lnTo>
                    <a:pt x="1538" y="545"/>
                  </a:lnTo>
                  <a:lnTo>
                    <a:pt x="1635" y="627"/>
                  </a:lnTo>
                  <a:lnTo>
                    <a:pt x="1728" y="713"/>
                  </a:lnTo>
                  <a:lnTo>
                    <a:pt x="1817" y="804"/>
                  </a:lnTo>
                  <a:lnTo>
                    <a:pt x="1903" y="899"/>
                  </a:lnTo>
                  <a:lnTo>
                    <a:pt x="1984" y="999"/>
                  </a:lnTo>
                  <a:lnTo>
                    <a:pt x="2059" y="1102"/>
                  </a:lnTo>
                  <a:lnTo>
                    <a:pt x="2130" y="1210"/>
                  </a:lnTo>
                  <a:lnTo>
                    <a:pt x="2198" y="1321"/>
                  </a:lnTo>
                  <a:lnTo>
                    <a:pt x="2259" y="1436"/>
                  </a:lnTo>
                  <a:lnTo>
                    <a:pt x="2316" y="1555"/>
                  </a:lnTo>
                  <a:lnTo>
                    <a:pt x="2368" y="1676"/>
                  </a:lnTo>
                  <a:lnTo>
                    <a:pt x="2391" y="1738"/>
                  </a:lnTo>
                  <a:lnTo>
                    <a:pt x="2413" y="1802"/>
                  </a:lnTo>
                  <a:lnTo>
                    <a:pt x="2435" y="1865"/>
                  </a:lnTo>
                  <a:lnTo>
                    <a:pt x="2454" y="1928"/>
                  </a:lnTo>
                  <a:lnTo>
                    <a:pt x="2472" y="1994"/>
                  </a:lnTo>
                  <a:lnTo>
                    <a:pt x="2489" y="2059"/>
                  </a:lnTo>
                  <a:lnTo>
                    <a:pt x="2504" y="2125"/>
                  </a:lnTo>
                  <a:lnTo>
                    <a:pt x="2517" y="2192"/>
                  </a:lnTo>
                  <a:lnTo>
                    <a:pt x="2530" y="2260"/>
                  </a:lnTo>
                  <a:lnTo>
                    <a:pt x="2539" y="2327"/>
                  </a:lnTo>
                  <a:lnTo>
                    <a:pt x="2549" y="2396"/>
                  </a:lnTo>
                  <a:lnTo>
                    <a:pt x="2556" y="2464"/>
                  </a:lnTo>
                  <a:lnTo>
                    <a:pt x="2563" y="2534"/>
                  </a:lnTo>
                  <a:lnTo>
                    <a:pt x="2567" y="2604"/>
                  </a:lnTo>
                  <a:lnTo>
                    <a:pt x="2568" y="2674"/>
                  </a:lnTo>
                  <a:lnTo>
                    <a:pt x="2570" y="2745"/>
                  </a:lnTo>
                  <a:lnTo>
                    <a:pt x="2570" y="2761"/>
                  </a:lnTo>
                  <a:lnTo>
                    <a:pt x="0" y="27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530520" y="1406520"/>
              <a:ext cx="2038320" cy="2192400"/>
            </a:xfrm>
            <a:custGeom>
              <a:avLst/>
              <a:gdLst/>
              <a:ahLst/>
              <a:rect l="l" t="t" r="r" b="b"/>
              <a:pathLst>
                <a:path w="2570" h="2761">
                  <a:moveTo>
                    <a:pt x="0" y="0"/>
                  </a:moveTo>
                  <a:lnTo>
                    <a:pt x="66" y="1"/>
                  </a:lnTo>
                  <a:lnTo>
                    <a:pt x="132" y="4"/>
                  </a:lnTo>
                  <a:lnTo>
                    <a:pt x="198" y="8"/>
                  </a:lnTo>
                  <a:lnTo>
                    <a:pt x="263" y="14"/>
                  </a:lnTo>
                  <a:lnTo>
                    <a:pt x="327" y="22"/>
                  </a:lnTo>
                  <a:lnTo>
                    <a:pt x="392" y="31"/>
                  </a:lnTo>
                  <a:lnTo>
                    <a:pt x="455" y="43"/>
                  </a:lnTo>
                  <a:lnTo>
                    <a:pt x="518" y="55"/>
                  </a:lnTo>
                  <a:lnTo>
                    <a:pt x="581" y="70"/>
                  </a:lnTo>
                  <a:lnTo>
                    <a:pt x="643" y="86"/>
                  </a:lnTo>
                  <a:lnTo>
                    <a:pt x="704" y="104"/>
                  </a:lnTo>
                  <a:lnTo>
                    <a:pt x="765" y="124"/>
                  </a:lnTo>
                  <a:lnTo>
                    <a:pt x="824" y="144"/>
                  </a:lnTo>
                  <a:lnTo>
                    <a:pt x="884" y="166"/>
                  </a:lnTo>
                  <a:lnTo>
                    <a:pt x="942" y="190"/>
                  </a:lnTo>
                  <a:lnTo>
                    <a:pt x="1001" y="215"/>
                  </a:lnTo>
                  <a:lnTo>
                    <a:pt x="1057" y="243"/>
                  </a:lnTo>
                  <a:lnTo>
                    <a:pt x="1115" y="270"/>
                  </a:lnTo>
                  <a:lnTo>
                    <a:pt x="1170" y="301"/>
                  </a:lnTo>
                  <a:lnTo>
                    <a:pt x="1225" y="331"/>
                  </a:lnTo>
                  <a:lnTo>
                    <a:pt x="1280" y="364"/>
                  </a:lnTo>
                  <a:lnTo>
                    <a:pt x="1333" y="397"/>
                  </a:lnTo>
                  <a:lnTo>
                    <a:pt x="1385" y="433"/>
                  </a:lnTo>
                  <a:lnTo>
                    <a:pt x="1437" y="468"/>
                  </a:lnTo>
                  <a:lnTo>
                    <a:pt x="1538" y="545"/>
                  </a:lnTo>
                  <a:lnTo>
                    <a:pt x="1635" y="627"/>
                  </a:lnTo>
                  <a:lnTo>
                    <a:pt x="1728" y="713"/>
                  </a:lnTo>
                  <a:lnTo>
                    <a:pt x="1817" y="804"/>
                  </a:lnTo>
                  <a:lnTo>
                    <a:pt x="1903" y="899"/>
                  </a:lnTo>
                  <a:lnTo>
                    <a:pt x="1984" y="999"/>
                  </a:lnTo>
                  <a:lnTo>
                    <a:pt x="2059" y="1102"/>
                  </a:lnTo>
                  <a:lnTo>
                    <a:pt x="2130" y="1210"/>
                  </a:lnTo>
                  <a:lnTo>
                    <a:pt x="2198" y="1321"/>
                  </a:lnTo>
                  <a:lnTo>
                    <a:pt x="2259" y="1436"/>
                  </a:lnTo>
                  <a:lnTo>
                    <a:pt x="2316" y="1555"/>
                  </a:lnTo>
                  <a:lnTo>
                    <a:pt x="2368" y="1676"/>
                  </a:lnTo>
                  <a:lnTo>
                    <a:pt x="2391" y="1738"/>
                  </a:lnTo>
                  <a:lnTo>
                    <a:pt x="2413" y="1802"/>
                  </a:lnTo>
                  <a:lnTo>
                    <a:pt x="2435" y="1865"/>
                  </a:lnTo>
                  <a:lnTo>
                    <a:pt x="2454" y="1928"/>
                  </a:lnTo>
                  <a:lnTo>
                    <a:pt x="2472" y="1994"/>
                  </a:lnTo>
                  <a:lnTo>
                    <a:pt x="2489" y="2059"/>
                  </a:lnTo>
                  <a:lnTo>
                    <a:pt x="2504" y="2125"/>
                  </a:lnTo>
                  <a:lnTo>
                    <a:pt x="2517" y="2192"/>
                  </a:lnTo>
                  <a:lnTo>
                    <a:pt x="2530" y="2260"/>
                  </a:lnTo>
                  <a:lnTo>
                    <a:pt x="2539" y="2327"/>
                  </a:lnTo>
                  <a:lnTo>
                    <a:pt x="2549" y="2396"/>
                  </a:lnTo>
                  <a:lnTo>
                    <a:pt x="2556" y="2464"/>
                  </a:lnTo>
                  <a:lnTo>
                    <a:pt x="2563" y="2534"/>
                  </a:lnTo>
                  <a:lnTo>
                    <a:pt x="2567" y="2604"/>
                  </a:lnTo>
                  <a:lnTo>
                    <a:pt x="2568" y="2674"/>
                  </a:lnTo>
                  <a:lnTo>
                    <a:pt x="2570" y="2745"/>
                  </a:lnTo>
                  <a:lnTo>
                    <a:pt x="2570" y="276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5" name=""/>
          <p:cNvSpPr/>
          <p:nvPr/>
        </p:nvSpPr>
        <p:spPr>
          <a:xfrm>
            <a:off x="3519360" y="1395360"/>
            <a:ext cx="17640" cy="218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6" name=""/>
          <p:cNvGrpSpPr/>
          <p:nvPr/>
        </p:nvGrpSpPr>
        <p:grpSpPr>
          <a:xfrm>
            <a:off x="3540240" y="3549600"/>
            <a:ext cx="4975200" cy="90360"/>
            <a:chOff x="3540240" y="3549600"/>
            <a:chExt cx="4975200" cy="90360"/>
          </a:xfrm>
        </p:grpSpPr>
        <p:sp>
          <p:nvSpPr>
            <p:cNvPr id="1517" name=""/>
            <p:cNvSpPr/>
            <p:nvPr/>
          </p:nvSpPr>
          <p:spPr>
            <a:xfrm>
              <a:off x="3540240" y="3586320"/>
              <a:ext cx="488160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420040" y="3549600"/>
              <a:ext cx="95400" cy="90360"/>
            </a:xfrm>
            <a:custGeom>
              <a:avLst/>
              <a:gdLst/>
              <a:ahLst/>
              <a:rect l="l" t="t" r="r" b="b"/>
              <a:pathLst>
                <a:path w="120" h="115">
                  <a:moveTo>
                    <a:pt x="0" y="115"/>
                  </a:moveTo>
                  <a:lnTo>
                    <a:pt x="120" y="57"/>
                  </a:lnTo>
                  <a:lnTo>
                    <a:pt x="0" y="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9" name=""/>
          <p:cNvSpPr/>
          <p:nvPr/>
        </p:nvSpPr>
        <p:spPr>
          <a:xfrm>
            <a:off x="4870440" y="3882960"/>
            <a:ext cx="1101600" cy="341280"/>
          </a:xfrm>
          <a:prstGeom prst="rect">
            <a:avLst/>
          </a:prstGeom>
          <a:solidFill>
            <a:srgbClr val="ff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994640" y="39304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270400" y="3930480"/>
            <a:ext cx="50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bi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780520" y="3930480"/>
            <a:ext cx="188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378400" y="3462480"/>
            <a:ext cx="17640" cy="24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3586320" y="2906640"/>
            <a:ext cx="1839600" cy="490680"/>
            <a:chOff x="3586320" y="2906640"/>
            <a:chExt cx="1839600" cy="490680"/>
          </a:xfrm>
        </p:grpSpPr>
        <p:sp>
          <p:nvSpPr>
            <p:cNvPr id="1525" name=""/>
            <p:cNvSpPr/>
            <p:nvPr/>
          </p:nvSpPr>
          <p:spPr>
            <a:xfrm>
              <a:off x="3621240" y="2940120"/>
              <a:ext cx="1804680" cy="4572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586320" y="2906640"/>
              <a:ext cx="1771560" cy="424080"/>
            </a:xfrm>
            <a:prstGeom prst="rect">
              <a:avLst/>
            </a:prstGeom>
            <a:solidFill>
              <a:srgbClr val="cccc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146480" y="2989440"/>
              <a:ext cx="513000" cy="2682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276440" y="3035160"/>
              <a:ext cx="357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D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9" name=""/>
          <p:cNvSpPr/>
          <p:nvPr/>
        </p:nvSpPr>
        <p:spPr>
          <a:xfrm>
            <a:off x="3398760" y="3570120"/>
            <a:ext cx="2043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037400" y="3608280"/>
            <a:ext cx="91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ttenu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570640" y="3611520"/>
            <a:ext cx="28098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912640" y="3649680"/>
            <a:ext cx="2373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spersion + nonlinear Effe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4302000" y="1608120"/>
            <a:ext cx="4225680" cy="695160"/>
            <a:chOff x="4302000" y="1608120"/>
            <a:chExt cx="4225680" cy="695160"/>
          </a:xfrm>
        </p:grpSpPr>
        <p:grpSp>
          <p:nvGrpSpPr>
            <p:cNvPr id="1534" name=""/>
            <p:cNvGrpSpPr/>
            <p:nvPr/>
          </p:nvGrpSpPr>
          <p:grpSpPr>
            <a:xfrm>
              <a:off x="4302000" y="1608120"/>
              <a:ext cx="4225680" cy="695160"/>
              <a:chOff x="4302000" y="1608120"/>
              <a:chExt cx="4225680" cy="695160"/>
            </a:xfrm>
          </p:grpSpPr>
          <p:sp>
            <p:nvSpPr>
              <p:cNvPr id="1535" name=""/>
              <p:cNvSpPr/>
              <p:nvPr/>
            </p:nvSpPr>
            <p:spPr>
              <a:xfrm>
                <a:off x="4363920" y="1670040"/>
                <a:ext cx="4130640" cy="620640"/>
              </a:xfrm>
              <a:custGeom>
                <a:avLst/>
                <a:gdLst/>
                <a:ahLst/>
                <a:rect l="l" t="t" r="r" b="b"/>
                <a:pathLst>
                  <a:path w="5204" h="781">
                    <a:moveTo>
                      <a:pt x="3903" y="0"/>
                    </a:moveTo>
                    <a:lnTo>
                      <a:pt x="3903" y="195"/>
                    </a:lnTo>
                    <a:lnTo>
                      <a:pt x="0" y="195"/>
                    </a:lnTo>
                    <a:lnTo>
                      <a:pt x="0" y="586"/>
                    </a:lnTo>
                    <a:lnTo>
                      <a:pt x="3903" y="586"/>
                    </a:lnTo>
                    <a:lnTo>
                      <a:pt x="3903" y="781"/>
                    </a:lnTo>
                    <a:lnTo>
                      <a:pt x="5204" y="391"/>
                    </a:lnTo>
                    <a:lnTo>
                      <a:pt x="390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354200" y="1657440"/>
                <a:ext cx="4173480" cy="645840"/>
              </a:xfrm>
              <a:custGeom>
                <a:avLst/>
                <a:gdLst/>
                <a:ahLst/>
                <a:rect l="l" t="t" r="r" b="b"/>
                <a:pathLst>
                  <a:path w="5258" h="813">
                    <a:moveTo>
                      <a:pt x="3903" y="211"/>
                    </a:moveTo>
                    <a:lnTo>
                      <a:pt x="3916" y="211"/>
                    </a:lnTo>
                    <a:lnTo>
                      <a:pt x="3916" y="199"/>
                    </a:lnTo>
                    <a:lnTo>
                      <a:pt x="13" y="199"/>
                    </a:lnTo>
                    <a:lnTo>
                      <a:pt x="0" y="199"/>
                    </a:lnTo>
                    <a:lnTo>
                      <a:pt x="0" y="211"/>
                    </a:lnTo>
                    <a:lnTo>
                      <a:pt x="0" y="602"/>
                    </a:lnTo>
                    <a:lnTo>
                      <a:pt x="0" y="614"/>
                    </a:lnTo>
                    <a:lnTo>
                      <a:pt x="13" y="614"/>
                    </a:lnTo>
                    <a:lnTo>
                      <a:pt x="3916" y="614"/>
                    </a:lnTo>
                    <a:lnTo>
                      <a:pt x="3916" y="602"/>
                    </a:lnTo>
                    <a:lnTo>
                      <a:pt x="3903" y="602"/>
                    </a:lnTo>
                    <a:lnTo>
                      <a:pt x="3903" y="797"/>
                    </a:lnTo>
                    <a:lnTo>
                      <a:pt x="3903" y="813"/>
                    </a:lnTo>
                    <a:lnTo>
                      <a:pt x="3920" y="809"/>
                    </a:lnTo>
                    <a:lnTo>
                      <a:pt x="5221" y="418"/>
                    </a:lnTo>
                    <a:lnTo>
                      <a:pt x="5258" y="407"/>
                    </a:lnTo>
                    <a:lnTo>
                      <a:pt x="5221" y="396"/>
                    </a:lnTo>
                    <a:lnTo>
                      <a:pt x="3920" y="5"/>
                    </a:lnTo>
                    <a:lnTo>
                      <a:pt x="3903" y="0"/>
                    </a:lnTo>
                    <a:lnTo>
                      <a:pt x="3903" y="16"/>
                    </a:lnTo>
                    <a:lnTo>
                      <a:pt x="3903" y="211"/>
                    </a:lnTo>
                    <a:close/>
                    <a:moveTo>
                      <a:pt x="3928" y="16"/>
                    </a:moveTo>
                    <a:lnTo>
                      <a:pt x="3916" y="16"/>
                    </a:lnTo>
                    <a:lnTo>
                      <a:pt x="3913" y="28"/>
                    </a:lnTo>
                    <a:lnTo>
                      <a:pt x="5214" y="418"/>
                    </a:lnTo>
                    <a:lnTo>
                      <a:pt x="5217" y="407"/>
                    </a:lnTo>
                    <a:lnTo>
                      <a:pt x="5214" y="396"/>
                    </a:lnTo>
                    <a:lnTo>
                      <a:pt x="3913" y="787"/>
                    </a:lnTo>
                    <a:lnTo>
                      <a:pt x="3916" y="797"/>
                    </a:lnTo>
                    <a:lnTo>
                      <a:pt x="3928" y="797"/>
                    </a:lnTo>
                    <a:lnTo>
                      <a:pt x="3928" y="602"/>
                    </a:lnTo>
                    <a:lnTo>
                      <a:pt x="3928" y="590"/>
                    </a:lnTo>
                    <a:lnTo>
                      <a:pt x="3916" y="590"/>
                    </a:lnTo>
                    <a:lnTo>
                      <a:pt x="13" y="590"/>
                    </a:lnTo>
                    <a:lnTo>
                      <a:pt x="13" y="602"/>
                    </a:lnTo>
                    <a:lnTo>
                      <a:pt x="25" y="602"/>
                    </a:lnTo>
                    <a:lnTo>
                      <a:pt x="25" y="211"/>
                    </a:lnTo>
                    <a:lnTo>
                      <a:pt x="13" y="211"/>
                    </a:lnTo>
                    <a:lnTo>
                      <a:pt x="13" y="223"/>
                    </a:lnTo>
                    <a:lnTo>
                      <a:pt x="3916" y="223"/>
                    </a:lnTo>
                    <a:lnTo>
                      <a:pt x="3928" y="223"/>
                    </a:lnTo>
                    <a:lnTo>
                      <a:pt x="3928" y="211"/>
                    </a:lnTo>
                    <a:lnTo>
                      <a:pt x="3928" y="1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311360" y="1620720"/>
                <a:ext cx="4130640" cy="619200"/>
              </a:xfrm>
              <a:custGeom>
                <a:avLst/>
                <a:gdLst/>
                <a:ahLst/>
                <a:rect l="l" t="t" r="r" b="b"/>
                <a:pathLst>
                  <a:path w="5204" h="782">
                    <a:moveTo>
                      <a:pt x="3903" y="0"/>
                    </a:moveTo>
                    <a:lnTo>
                      <a:pt x="3903" y="196"/>
                    </a:lnTo>
                    <a:lnTo>
                      <a:pt x="0" y="196"/>
                    </a:lnTo>
                    <a:lnTo>
                      <a:pt x="0" y="587"/>
                    </a:lnTo>
                    <a:lnTo>
                      <a:pt x="3903" y="587"/>
                    </a:lnTo>
                    <a:lnTo>
                      <a:pt x="3903" y="782"/>
                    </a:lnTo>
                    <a:lnTo>
                      <a:pt x="5204" y="391"/>
                    </a:lnTo>
                    <a:lnTo>
                      <a:pt x="3903" y="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302000" y="1608120"/>
                <a:ext cx="4173480" cy="644400"/>
              </a:xfrm>
              <a:custGeom>
                <a:avLst/>
                <a:gdLst/>
                <a:ahLst/>
                <a:rect l="l" t="t" r="r" b="b"/>
                <a:pathLst>
                  <a:path w="5258" h="813">
                    <a:moveTo>
                      <a:pt x="3903" y="211"/>
                    </a:moveTo>
                    <a:lnTo>
                      <a:pt x="3916" y="211"/>
                    </a:lnTo>
                    <a:lnTo>
                      <a:pt x="3916" y="199"/>
                    </a:lnTo>
                    <a:lnTo>
                      <a:pt x="13" y="199"/>
                    </a:lnTo>
                    <a:lnTo>
                      <a:pt x="0" y="199"/>
                    </a:lnTo>
                    <a:lnTo>
                      <a:pt x="0" y="211"/>
                    </a:lnTo>
                    <a:lnTo>
                      <a:pt x="0" y="602"/>
                    </a:lnTo>
                    <a:lnTo>
                      <a:pt x="0" y="613"/>
                    </a:lnTo>
                    <a:lnTo>
                      <a:pt x="13" y="613"/>
                    </a:lnTo>
                    <a:lnTo>
                      <a:pt x="3916" y="613"/>
                    </a:lnTo>
                    <a:lnTo>
                      <a:pt x="3916" y="602"/>
                    </a:lnTo>
                    <a:lnTo>
                      <a:pt x="3903" y="602"/>
                    </a:lnTo>
                    <a:lnTo>
                      <a:pt x="3903" y="797"/>
                    </a:lnTo>
                    <a:lnTo>
                      <a:pt x="3903" y="813"/>
                    </a:lnTo>
                    <a:lnTo>
                      <a:pt x="3920" y="809"/>
                    </a:lnTo>
                    <a:lnTo>
                      <a:pt x="5221" y="418"/>
                    </a:lnTo>
                    <a:lnTo>
                      <a:pt x="5258" y="406"/>
                    </a:lnTo>
                    <a:lnTo>
                      <a:pt x="5221" y="396"/>
                    </a:lnTo>
                    <a:lnTo>
                      <a:pt x="3920" y="5"/>
                    </a:lnTo>
                    <a:lnTo>
                      <a:pt x="3903" y="0"/>
                    </a:lnTo>
                    <a:lnTo>
                      <a:pt x="3903" y="15"/>
                    </a:lnTo>
                    <a:lnTo>
                      <a:pt x="3903" y="211"/>
                    </a:lnTo>
                    <a:close/>
                    <a:moveTo>
                      <a:pt x="3928" y="15"/>
                    </a:moveTo>
                    <a:lnTo>
                      <a:pt x="3916" y="15"/>
                    </a:lnTo>
                    <a:lnTo>
                      <a:pt x="3913" y="27"/>
                    </a:lnTo>
                    <a:lnTo>
                      <a:pt x="5214" y="418"/>
                    </a:lnTo>
                    <a:lnTo>
                      <a:pt x="5217" y="406"/>
                    </a:lnTo>
                    <a:lnTo>
                      <a:pt x="5214" y="396"/>
                    </a:lnTo>
                    <a:lnTo>
                      <a:pt x="3913" y="786"/>
                    </a:lnTo>
                    <a:lnTo>
                      <a:pt x="3916" y="797"/>
                    </a:lnTo>
                    <a:lnTo>
                      <a:pt x="3928" y="797"/>
                    </a:lnTo>
                    <a:lnTo>
                      <a:pt x="3928" y="602"/>
                    </a:lnTo>
                    <a:lnTo>
                      <a:pt x="3928" y="590"/>
                    </a:lnTo>
                    <a:lnTo>
                      <a:pt x="3916" y="590"/>
                    </a:lnTo>
                    <a:lnTo>
                      <a:pt x="13" y="590"/>
                    </a:lnTo>
                    <a:lnTo>
                      <a:pt x="13" y="602"/>
                    </a:lnTo>
                    <a:lnTo>
                      <a:pt x="25" y="602"/>
                    </a:lnTo>
                    <a:lnTo>
                      <a:pt x="25" y="211"/>
                    </a:lnTo>
                    <a:lnTo>
                      <a:pt x="13" y="211"/>
                    </a:lnTo>
                    <a:lnTo>
                      <a:pt x="13" y="223"/>
                    </a:lnTo>
                    <a:lnTo>
                      <a:pt x="3916" y="223"/>
                    </a:lnTo>
                    <a:lnTo>
                      <a:pt x="3928" y="223"/>
                    </a:lnTo>
                    <a:lnTo>
                      <a:pt x="3928" y="211"/>
                    </a:lnTo>
                    <a:lnTo>
                      <a:pt x="392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9" name=""/>
            <p:cNvSpPr/>
            <p:nvPr/>
          </p:nvSpPr>
          <p:spPr>
            <a:xfrm>
              <a:off x="5790960" y="1819080"/>
              <a:ext cx="65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WD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5116680" y="2217600"/>
            <a:ext cx="3214440" cy="595440"/>
            <a:chOff x="5116680" y="2217600"/>
            <a:chExt cx="3214440" cy="595440"/>
          </a:xfrm>
        </p:grpSpPr>
        <p:grpSp>
          <p:nvGrpSpPr>
            <p:cNvPr id="1541" name=""/>
            <p:cNvGrpSpPr/>
            <p:nvPr/>
          </p:nvGrpSpPr>
          <p:grpSpPr>
            <a:xfrm>
              <a:off x="5116680" y="2217600"/>
              <a:ext cx="3214440" cy="595440"/>
              <a:chOff x="5116680" y="2217600"/>
              <a:chExt cx="3214440" cy="595440"/>
            </a:xfrm>
          </p:grpSpPr>
          <p:sp>
            <p:nvSpPr>
              <p:cNvPr id="1542" name=""/>
              <p:cNvSpPr/>
              <p:nvPr/>
            </p:nvSpPr>
            <p:spPr>
              <a:xfrm>
                <a:off x="5618160" y="2217600"/>
                <a:ext cx="2712960" cy="595440"/>
              </a:xfrm>
              <a:custGeom>
                <a:avLst/>
                <a:gdLst/>
                <a:ahLst/>
                <a:rect l="l" t="t" r="r" b="b"/>
                <a:pathLst>
                  <a:path w="3419" h="750">
                    <a:moveTo>
                      <a:pt x="2406" y="0"/>
                    </a:moveTo>
                    <a:lnTo>
                      <a:pt x="2406" y="188"/>
                    </a:lnTo>
                    <a:lnTo>
                      <a:pt x="0" y="188"/>
                    </a:lnTo>
                    <a:lnTo>
                      <a:pt x="0" y="563"/>
                    </a:lnTo>
                    <a:lnTo>
                      <a:pt x="2406" y="563"/>
                    </a:lnTo>
                    <a:lnTo>
                      <a:pt x="2406" y="750"/>
                    </a:lnTo>
                    <a:lnTo>
                      <a:pt x="3419" y="375"/>
                    </a:lnTo>
                    <a:lnTo>
                      <a:pt x="2406" y="0"/>
                    </a:lnTo>
                    <a:close/>
                  </a:path>
                </a:pathLst>
              </a:custGeom>
              <a:solidFill>
                <a:srgbClr val="99cc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316480" y="2365200"/>
                <a:ext cx="201600" cy="298800"/>
              </a:xfrm>
              <a:prstGeom prst="rect">
                <a:avLst/>
              </a:prstGeom>
              <a:solidFill>
                <a:srgbClr val="99cc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116680" y="2365200"/>
                <a:ext cx="99720" cy="298800"/>
              </a:xfrm>
              <a:prstGeom prst="rect">
                <a:avLst/>
              </a:prstGeom>
              <a:solidFill>
                <a:srgbClr val="99cc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5" name=""/>
            <p:cNvSpPr/>
            <p:nvPr/>
          </p:nvSpPr>
          <p:spPr>
            <a:xfrm>
              <a:off x="6605640" y="2403360"/>
              <a:ext cx="43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D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945800" y="441000"/>
            <a:ext cx="671508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usiness Need in Ultra-high Bandwidth Netwo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7" name=""/>
          <p:cNvGrpSpPr/>
          <p:nvPr/>
        </p:nvGrpSpPr>
        <p:grpSpPr>
          <a:xfrm>
            <a:off x="2819520" y="5624640"/>
            <a:ext cx="299880" cy="271440"/>
            <a:chOff x="2819520" y="5624640"/>
            <a:chExt cx="299880" cy="271440"/>
          </a:xfrm>
        </p:grpSpPr>
        <p:sp>
          <p:nvSpPr>
            <p:cNvPr id="1548" name=""/>
            <p:cNvSpPr/>
            <p:nvPr/>
          </p:nvSpPr>
          <p:spPr>
            <a:xfrm>
              <a:off x="2827800" y="5626440"/>
              <a:ext cx="291600" cy="269640"/>
            </a:xfrm>
            <a:custGeom>
              <a:avLst/>
              <a:gdLst/>
              <a:ahLst/>
              <a:rect l="l" t="t" r="r" b="b"/>
              <a:pathLst>
                <a:path w="909" h="839">
                  <a:moveTo>
                    <a:pt x="408" y="167"/>
                  </a:moveTo>
                  <a:lnTo>
                    <a:pt x="324" y="194"/>
                  </a:lnTo>
                  <a:lnTo>
                    <a:pt x="231" y="242"/>
                  </a:lnTo>
                  <a:lnTo>
                    <a:pt x="147" y="309"/>
                  </a:lnTo>
                  <a:lnTo>
                    <a:pt x="93" y="366"/>
                  </a:lnTo>
                  <a:lnTo>
                    <a:pt x="54" y="430"/>
                  </a:lnTo>
                  <a:lnTo>
                    <a:pt x="32" y="468"/>
                  </a:lnTo>
                  <a:lnTo>
                    <a:pt x="18" y="509"/>
                  </a:lnTo>
                  <a:lnTo>
                    <a:pt x="3" y="566"/>
                  </a:lnTo>
                  <a:lnTo>
                    <a:pt x="0" y="624"/>
                  </a:lnTo>
                  <a:lnTo>
                    <a:pt x="3" y="678"/>
                  </a:lnTo>
                  <a:lnTo>
                    <a:pt x="27" y="727"/>
                  </a:lnTo>
                  <a:lnTo>
                    <a:pt x="69" y="778"/>
                  </a:lnTo>
                  <a:lnTo>
                    <a:pt x="135" y="818"/>
                  </a:lnTo>
                  <a:lnTo>
                    <a:pt x="198" y="833"/>
                  </a:lnTo>
                  <a:lnTo>
                    <a:pt x="249" y="839"/>
                  </a:lnTo>
                  <a:lnTo>
                    <a:pt x="303" y="833"/>
                  </a:lnTo>
                  <a:lnTo>
                    <a:pt x="399" y="815"/>
                  </a:lnTo>
                  <a:lnTo>
                    <a:pt x="477" y="784"/>
                  </a:lnTo>
                  <a:lnTo>
                    <a:pt x="555" y="751"/>
                  </a:lnTo>
                  <a:lnTo>
                    <a:pt x="600" y="724"/>
                  </a:lnTo>
                  <a:lnTo>
                    <a:pt x="666" y="745"/>
                  </a:lnTo>
                  <a:lnTo>
                    <a:pt x="694" y="768"/>
                  </a:lnTo>
                  <a:lnTo>
                    <a:pt x="714" y="791"/>
                  </a:lnTo>
                  <a:lnTo>
                    <a:pt x="747" y="821"/>
                  </a:lnTo>
                  <a:lnTo>
                    <a:pt x="786" y="797"/>
                  </a:lnTo>
                  <a:lnTo>
                    <a:pt x="819" y="733"/>
                  </a:lnTo>
                  <a:lnTo>
                    <a:pt x="828" y="706"/>
                  </a:lnTo>
                  <a:lnTo>
                    <a:pt x="813" y="672"/>
                  </a:lnTo>
                  <a:lnTo>
                    <a:pt x="777" y="639"/>
                  </a:lnTo>
                  <a:lnTo>
                    <a:pt x="738" y="612"/>
                  </a:lnTo>
                  <a:lnTo>
                    <a:pt x="783" y="551"/>
                  </a:lnTo>
                  <a:lnTo>
                    <a:pt x="816" y="506"/>
                  </a:lnTo>
                  <a:lnTo>
                    <a:pt x="837" y="466"/>
                  </a:lnTo>
                  <a:lnTo>
                    <a:pt x="867" y="415"/>
                  </a:lnTo>
                  <a:lnTo>
                    <a:pt x="888" y="354"/>
                  </a:lnTo>
                  <a:lnTo>
                    <a:pt x="903" y="303"/>
                  </a:lnTo>
                  <a:lnTo>
                    <a:pt x="909" y="233"/>
                  </a:lnTo>
                  <a:lnTo>
                    <a:pt x="909" y="179"/>
                  </a:lnTo>
                  <a:lnTo>
                    <a:pt x="888" y="112"/>
                  </a:lnTo>
                  <a:lnTo>
                    <a:pt x="837" y="55"/>
                  </a:lnTo>
                  <a:lnTo>
                    <a:pt x="777" y="18"/>
                  </a:lnTo>
                  <a:lnTo>
                    <a:pt x="711" y="6"/>
                  </a:lnTo>
                  <a:lnTo>
                    <a:pt x="615" y="0"/>
                  </a:lnTo>
                  <a:lnTo>
                    <a:pt x="561" y="9"/>
                  </a:lnTo>
                  <a:lnTo>
                    <a:pt x="474" y="27"/>
                  </a:lnTo>
                  <a:lnTo>
                    <a:pt x="390" y="55"/>
                  </a:lnTo>
                  <a:lnTo>
                    <a:pt x="318" y="85"/>
                  </a:lnTo>
                  <a:lnTo>
                    <a:pt x="240" y="118"/>
                  </a:lnTo>
                  <a:lnTo>
                    <a:pt x="192" y="142"/>
                  </a:lnTo>
                  <a:lnTo>
                    <a:pt x="144" y="170"/>
                  </a:lnTo>
                  <a:lnTo>
                    <a:pt x="138" y="206"/>
                  </a:lnTo>
                  <a:lnTo>
                    <a:pt x="150" y="224"/>
                  </a:lnTo>
                  <a:lnTo>
                    <a:pt x="180" y="233"/>
                  </a:lnTo>
                  <a:lnTo>
                    <a:pt x="228" y="194"/>
                  </a:lnTo>
                  <a:lnTo>
                    <a:pt x="282" y="167"/>
                  </a:lnTo>
                  <a:lnTo>
                    <a:pt x="357" y="139"/>
                  </a:lnTo>
                  <a:lnTo>
                    <a:pt x="417" y="121"/>
                  </a:lnTo>
                  <a:lnTo>
                    <a:pt x="459" y="115"/>
                  </a:lnTo>
                  <a:lnTo>
                    <a:pt x="540" y="112"/>
                  </a:lnTo>
                  <a:lnTo>
                    <a:pt x="591" y="127"/>
                  </a:lnTo>
                  <a:lnTo>
                    <a:pt x="645" y="158"/>
                  </a:lnTo>
                  <a:lnTo>
                    <a:pt x="684" y="206"/>
                  </a:lnTo>
                  <a:lnTo>
                    <a:pt x="705" y="260"/>
                  </a:lnTo>
                  <a:lnTo>
                    <a:pt x="717" y="363"/>
                  </a:lnTo>
                  <a:lnTo>
                    <a:pt x="711" y="454"/>
                  </a:lnTo>
                  <a:lnTo>
                    <a:pt x="705" y="515"/>
                  </a:lnTo>
                  <a:lnTo>
                    <a:pt x="690" y="551"/>
                  </a:lnTo>
                  <a:lnTo>
                    <a:pt x="642" y="521"/>
                  </a:lnTo>
                  <a:lnTo>
                    <a:pt x="594" y="497"/>
                  </a:lnTo>
                  <a:lnTo>
                    <a:pt x="561" y="485"/>
                  </a:lnTo>
                  <a:lnTo>
                    <a:pt x="513" y="469"/>
                  </a:lnTo>
                  <a:lnTo>
                    <a:pt x="468" y="466"/>
                  </a:lnTo>
                  <a:lnTo>
                    <a:pt x="450" y="488"/>
                  </a:lnTo>
                  <a:lnTo>
                    <a:pt x="411" y="524"/>
                  </a:lnTo>
                  <a:lnTo>
                    <a:pt x="384" y="548"/>
                  </a:lnTo>
                  <a:lnTo>
                    <a:pt x="363" y="569"/>
                  </a:lnTo>
                  <a:lnTo>
                    <a:pt x="336" y="600"/>
                  </a:lnTo>
                  <a:lnTo>
                    <a:pt x="332" y="614"/>
                  </a:lnTo>
                  <a:lnTo>
                    <a:pt x="348" y="621"/>
                  </a:lnTo>
                  <a:cubicBezTo>
                    <a:pt x="357" y="623"/>
                    <a:pt x="389" y="633"/>
                    <a:pt x="405" y="633"/>
                  </a:cubicBezTo>
                  <a:lnTo>
                    <a:pt x="438" y="639"/>
                  </a:lnTo>
                  <a:lnTo>
                    <a:pt x="474" y="645"/>
                  </a:lnTo>
                  <a:lnTo>
                    <a:pt x="498" y="657"/>
                  </a:lnTo>
                  <a:lnTo>
                    <a:pt x="522" y="663"/>
                  </a:lnTo>
                  <a:lnTo>
                    <a:pt x="528" y="681"/>
                  </a:lnTo>
                  <a:lnTo>
                    <a:pt x="495" y="691"/>
                  </a:lnTo>
                  <a:lnTo>
                    <a:pt x="438" y="694"/>
                  </a:lnTo>
                  <a:lnTo>
                    <a:pt x="345" y="694"/>
                  </a:lnTo>
                  <a:lnTo>
                    <a:pt x="303" y="681"/>
                  </a:lnTo>
                  <a:lnTo>
                    <a:pt x="262" y="670"/>
                  </a:lnTo>
                  <a:lnTo>
                    <a:pt x="216" y="646"/>
                  </a:lnTo>
                  <a:lnTo>
                    <a:pt x="184" y="618"/>
                  </a:lnTo>
                  <a:lnTo>
                    <a:pt x="152" y="578"/>
                  </a:lnTo>
                  <a:lnTo>
                    <a:pt x="128" y="532"/>
                  </a:lnTo>
                  <a:lnTo>
                    <a:pt x="120" y="500"/>
                  </a:lnTo>
                  <a:lnTo>
                    <a:pt x="120" y="473"/>
                  </a:lnTo>
                  <a:lnTo>
                    <a:pt x="126" y="448"/>
                  </a:lnTo>
                  <a:lnTo>
                    <a:pt x="146" y="410"/>
                  </a:lnTo>
                  <a:lnTo>
                    <a:pt x="210" y="345"/>
                  </a:lnTo>
                  <a:lnTo>
                    <a:pt x="267" y="306"/>
                  </a:lnTo>
                  <a:lnTo>
                    <a:pt x="357" y="248"/>
                  </a:lnTo>
                  <a:lnTo>
                    <a:pt x="399" y="230"/>
                  </a:lnTo>
                  <a:lnTo>
                    <a:pt x="423" y="218"/>
                  </a:lnTo>
                  <a:lnTo>
                    <a:pt x="423" y="185"/>
                  </a:lnTo>
                  <a:lnTo>
                    <a:pt x="418" y="168"/>
                  </a:lnTo>
                  <a:lnTo>
                    <a:pt x="408" y="167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819520" y="5624640"/>
              <a:ext cx="291600" cy="269640"/>
            </a:xfrm>
            <a:custGeom>
              <a:avLst/>
              <a:gdLst/>
              <a:ahLst/>
              <a:rect l="l" t="t" r="r" b="b"/>
              <a:pathLst>
                <a:path w="909" h="839">
                  <a:moveTo>
                    <a:pt x="408" y="167"/>
                  </a:moveTo>
                  <a:lnTo>
                    <a:pt x="324" y="194"/>
                  </a:lnTo>
                  <a:lnTo>
                    <a:pt x="231" y="242"/>
                  </a:lnTo>
                  <a:lnTo>
                    <a:pt x="147" y="309"/>
                  </a:lnTo>
                  <a:lnTo>
                    <a:pt x="93" y="366"/>
                  </a:lnTo>
                  <a:lnTo>
                    <a:pt x="54" y="430"/>
                  </a:lnTo>
                  <a:lnTo>
                    <a:pt x="32" y="468"/>
                  </a:lnTo>
                  <a:lnTo>
                    <a:pt x="18" y="509"/>
                  </a:lnTo>
                  <a:lnTo>
                    <a:pt x="3" y="566"/>
                  </a:lnTo>
                  <a:lnTo>
                    <a:pt x="0" y="624"/>
                  </a:lnTo>
                  <a:lnTo>
                    <a:pt x="3" y="678"/>
                  </a:lnTo>
                  <a:lnTo>
                    <a:pt x="27" y="727"/>
                  </a:lnTo>
                  <a:lnTo>
                    <a:pt x="69" y="778"/>
                  </a:lnTo>
                  <a:lnTo>
                    <a:pt x="135" y="818"/>
                  </a:lnTo>
                  <a:lnTo>
                    <a:pt x="198" y="833"/>
                  </a:lnTo>
                  <a:lnTo>
                    <a:pt x="249" y="839"/>
                  </a:lnTo>
                  <a:lnTo>
                    <a:pt x="303" y="833"/>
                  </a:lnTo>
                  <a:lnTo>
                    <a:pt x="399" y="815"/>
                  </a:lnTo>
                  <a:lnTo>
                    <a:pt x="477" y="784"/>
                  </a:lnTo>
                  <a:lnTo>
                    <a:pt x="555" y="751"/>
                  </a:lnTo>
                  <a:lnTo>
                    <a:pt x="600" y="724"/>
                  </a:lnTo>
                  <a:lnTo>
                    <a:pt x="666" y="745"/>
                  </a:lnTo>
                  <a:lnTo>
                    <a:pt x="694" y="768"/>
                  </a:lnTo>
                  <a:lnTo>
                    <a:pt x="714" y="791"/>
                  </a:lnTo>
                  <a:lnTo>
                    <a:pt x="747" y="821"/>
                  </a:lnTo>
                  <a:lnTo>
                    <a:pt x="786" y="797"/>
                  </a:lnTo>
                  <a:lnTo>
                    <a:pt x="819" y="733"/>
                  </a:lnTo>
                  <a:lnTo>
                    <a:pt x="828" y="706"/>
                  </a:lnTo>
                  <a:lnTo>
                    <a:pt x="813" y="672"/>
                  </a:lnTo>
                  <a:lnTo>
                    <a:pt x="777" y="639"/>
                  </a:lnTo>
                  <a:lnTo>
                    <a:pt x="738" y="612"/>
                  </a:lnTo>
                  <a:lnTo>
                    <a:pt x="783" y="551"/>
                  </a:lnTo>
                  <a:lnTo>
                    <a:pt x="816" y="506"/>
                  </a:lnTo>
                  <a:lnTo>
                    <a:pt x="837" y="466"/>
                  </a:lnTo>
                  <a:lnTo>
                    <a:pt x="867" y="415"/>
                  </a:lnTo>
                  <a:lnTo>
                    <a:pt x="888" y="354"/>
                  </a:lnTo>
                  <a:lnTo>
                    <a:pt x="903" y="303"/>
                  </a:lnTo>
                  <a:lnTo>
                    <a:pt x="909" y="233"/>
                  </a:lnTo>
                  <a:lnTo>
                    <a:pt x="909" y="179"/>
                  </a:lnTo>
                  <a:lnTo>
                    <a:pt x="888" y="112"/>
                  </a:lnTo>
                  <a:lnTo>
                    <a:pt x="837" y="55"/>
                  </a:lnTo>
                  <a:lnTo>
                    <a:pt x="777" y="18"/>
                  </a:lnTo>
                  <a:lnTo>
                    <a:pt x="711" y="6"/>
                  </a:lnTo>
                  <a:lnTo>
                    <a:pt x="615" y="0"/>
                  </a:lnTo>
                  <a:lnTo>
                    <a:pt x="561" y="9"/>
                  </a:lnTo>
                  <a:lnTo>
                    <a:pt x="474" y="27"/>
                  </a:lnTo>
                  <a:lnTo>
                    <a:pt x="390" y="55"/>
                  </a:lnTo>
                  <a:lnTo>
                    <a:pt x="318" y="85"/>
                  </a:lnTo>
                  <a:lnTo>
                    <a:pt x="240" y="118"/>
                  </a:lnTo>
                  <a:lnTo>
                    <a:pt x="192" y="142"/>
                  </a:lnTo>
                  <a:lnTo>
                    <a:pt x="144" y="170"/>
                  </a:lnTo>
                  <a:lnTo>
                    <a:pt x="138" y="206"/>
                  </a:lnTo>
                  <a:lnTo>
                    <a:pt x="150" y="224"/>
                  </a:lnTo>
                  <a:lnTo>
                    <a:pt x="180" y="233"/>
                  </a:lnTo>
                  <a:lnTo>
                    <a:pt x="228" y="194"/>
                  </a:lnTo>
                  <a:lnTo>
                    <a:pt x="282" y="167"/>
                  </a:lnTo>
                  <a:lnTo>
                    <a:pt x="357" y="139"/>
                  </a:lnTo>
                  <a:lnTo>
                    <a:pt x="417" y="121"/>
                  </a:lnTo>
                  <a:lnTo>
                    <a:pt x="459" y="115"/>
                  </a:lnTo>
                  <a:lnTo>
                    <a:pt x="540" y="112"/>
                  </a:lnTo>
                  <a:lnTo>
                    <a:pt x="591" y="127"/>
                  </a:lnTo>
                  <a:lnTo>
                    <a:pt x="645" y="158"/>
                  </a:lnTo>
                  <a:lnTo>
                    <a:pt x="684" y="206"/>
                  </a:lnTo>
                  <a:lnTo>
                    <a:pt x="705" y="260"/>
                  </a:lnTo>
                  <a:lnTo>
                    <a:pt x="717" y="363"/>
                  </a:lnTo>
                  <a:lnTo>
                    <a:pt x="711" y="454"/>
                  </a:lnTo>
                  <a:lnTo>
                    <a:pt x="705" y="515"/>
                  </a:lnTo>
                  <a:lnTo>
                    <a:pt x="690" y="551"/>
                  </a:lnTo>
                  <a:lnTo>
                    <a:pt x="642" y="521"/>
                  </a:lnTo>
                  <a:lnTo>
                    <a:pt x="594" y="497"/>
                  </a:lnTo>
                  <a:lnTo>
                    <a:pt x="561" y="485"/>
                  </a:lnTo>
                  <a:lnTo>
                    <a:pt x="513" y="469"/>
                  </a:lnTo>
                  <a:lnTo>
                    <a:pt x="468" y="466"/>
                  </a:lnTo>
                  <a:lnTo>
                    <a:pt x="450" y="488"/>
                  </a:lnTo>
                  <a:lnTo>
                    <a:pt x="411" y="524"/>
                  </a:lnTo>
                  <a:lnTo>
                    <a:pt x="384" y="548"/>
                  </a:lnTo>
                  <a:lnTo>
                    <a:pt x="363" y="569"/>
                  </a:lnTo>
                  <a:lnTo>
                    <a:pt x="336" y="600"/>
                  </a:lnTo>
                  <a:lnTo>
                    <a:pt x="332" y="614"/>
                  </a:lnTo>
                  <a:lnTo>
                    <a:pt x="348" y="621"/>
                  </a:lnTo>
                  <a:cubicBezTo>
                    <a:pt x="357" y="623"/>
                    <a:pt x="389" y="633"/>
                    <a:pt x="405" y="633"/>
                  </a:cubicBezTo>
                  <a:lnTo>
                    <a:pt x="438" y="639"/>
                  </a:lnTo>
                  <a:lnTo>
                    <a:pt x="474" y="645"/>
                  </a:lnTo>
                  <a:lnTo>
                    <a:pt x="498" y="657"/>
                  </a:lnTo>
                  <a:lnTo>
                    <a:pt x="522" y="663"/>
                  </a:lnTo>
                  <a:lnTo>
                    <a:pt x="528" y="681"/>
                  </a:lnTo>
                  <a:lnTo>
                    <a:pt x="495" y="691"/>
                  </a:lnTo>
                  <a:lnTo>
                    <a:pt x="438" y="694"/>
                  </a:lnTo>
                  <a:lnTo>
                    <a:pt x="345" y="694"/>
                  </a:lnTo>
                  <a:lnTo>
                    <a:pt x="303" y="681"/>
                  </a:lnTo>
                  <a:lnTo>
                    <a:pt x="262" y="670"/>
                  </a:lnTo>
                  <a:lnTo>
                    <a:pt x="216" y="646"/>
                  </a:lnTo>
                  <a:lnTo>
                    <a:pt x="184" y="618"/>
                  </a:lnTo>
                  <a:lnTo>
                    <a:pt x="152" y="578"/>
                  </a:lnTo>
                  <a:lnTo>
                    <a:pt x="128" y="532"/>
                  </a:lnTo>
                  <a:lnTo>
                    <a:pt x="120" y="500"/>
                  </a:lnTo>
                  <a:lnTo>
                    <a:pt x="120" y="473"/>
                  </a:lnTo>
                  <a:lnTo>
                    <a:pt x="126" y="448"/>
                  </a:lnTo>
                  <a:lnTo>
                    <a:pt x="146" y="410"/>
                  </a:lnTo>
                  <a:lnTo>
                    <a:pt x="210" y="345"/>
                  </a:lnTo>
                  <a:lnTo>
                    <a:pt x="267" y="306"/>
                  </a:lnTo>
                  <a:lnTo>
                    <a:pt x="357" y="248"/>
                  </a:lnTo>
                  <a:lnTo>
                    <a:pt x="399" y="230"/>
                  </a:lnTo>
                  <a:lnTo>
                    <a:pt x="423" y="218"/>
                  </a:lnTo>
                  <a:lnTo>
                    <a:pt x="423" y="185"/>
                  </a:lnTo>
                  <a:lnTo>
                    <a:pt x="418" y="168"/>
                  </a:lnTo>
                  <a:lnTo>
                    <a:pt x="408" y="167"/>
                  </a:lnTo>
                  <a:close/>
                </a:path>
              </a:pathLst>
            </a:custGeom>
            <a:solidFill>
              <a:srgbClr val="fc8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split dir="in" orient="vert"/>
      </p:transition>
    </mc:Choice>
    <mc:Fallback>
      <p:transition spd="slow">
        <p:split dir="in" orient="vert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"/>
          <p:cNvSpPr/>
          <p:nvPr/>
        </p:nvSpPr>
        <p:spPr>
          <a:xfrm>
            <a:off x="2592360" y="1373040"/>
            <a:ext cx="71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f5f5f"/>
                </a:solidFill>
                <a:latin typeface="Arial"/>
              </a:rPr>
              <a:t>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328920" y="2654280"/>
            <a:ext cx="5089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2" name=""/>
          <p:cNvGrpSpPr/>
          <p:nvPr/>
        </p:nvGrpSpPr>
        <p:grpSpPr>
          <a:xfrm>
            <a:off x="1965240" y="1327320"/>
            <a:ext cx="420840" cy="379080"/>
            <a:chOff x="1965240" y="1327320"/>
            <a:chExt cx="420840" cy="379080"/>
          </a:xfrm>
        </p:grpSpPr>
        <p:sp>
          <p:nvSpPr>
            <p:cNvPr id="1553" name=""/>
            <p:cNvSpPr/>
            <p:nvPr/>
          </p:nvSpPr>
          <p:spPr>
            <a:xfrm>
              <a:off x="1976760" y="1329840"/>
              <a:ext cx="409320" cy="376560"/>
            </a:xfrm>
            <a:custGeom>
              <a:avLst/>
              <a:gdLst/>
              <a:ahLst/>
              <a:rect l="l" t="t" r="r" b="b"/>
              <a:pathLst>
                <a:path w="909" h="839">
                  <a:moveTo>
                    <a:pt x="408" y="167"/>
                  </a:moveTo>
                  <a:lnTo>
                    <a:pt x="324" y="194"/>
                  </a:lnTo>
                  <a:lnTo>
                    <a:pt x="231" y="242"/>
                  </a:lnTo>
                  <a:lnTo>
                    <a:pt x="147" y="309"/>
                  </a:lnTo>
                  <a:lnTo>
                    <a:pt x="93" y="366"/>
                  </a:lnTo>
                  <a:lnTo>
                    <a:pt x="54" y="430"/>
                  </a:lnTo>
                  <a:lnTo>
                    <a:pt x="32" y="468"/>
                  </a:lnTo>
                  <a:lnTo>
                    <a:pt x="18" y="509"/>
                  </a:lnTo>
                  <a:lnTo>
                    <a:pt x="3" y="566"/>
                  </a:lnTo>
                  <a:lnTo>
                    <a:pt x="0" y="624"/>
                  </a:lnTo>
                  <a:lnTo>
                    <a:pt x="3" y="678"/>
                  </a:lnTo>
                  <a:lnTo>
                    <a:pt x="27" y="727"/>
                  </a:lnTo>
                  <a:lnTo>
                    <a:pt x="69" y="778"/>
                  </a:lnTo>
                  <a:lnTo>
                    <a:pt x="135" y="818"/>
                  </a:lnTo>
                  <a:lnTo>
                    <a:pt x="198" y="833"/>
                  </a:lnTo>
                  <a:lnTo>
                    <a:pt x="249" y="839"/>
                  </a:lnTo>
                  <a:lnTo>
                    <a:pt x="303" y="833"/>
                  </a:lnTo>
                  <a:lnTo>
                    <a:pt x="399" y="815"/>
                  </a:lnTo>
                  <a:lnTo>
                    <a:pt x="477" y="784"/>
                  </a:lnTo>
                  <a:lnTo>
                    <a:pt x="555" y="751"/>
                  </a:lnTo>
                  <a:lnTo>
                    <a:pt x="600" y="724"/>
                  </a:lnTo>
                  <a:lnTo>
                    <a:pt x="666" y="745"/>
                  </a:lnTo>
                  <a:lnTo>
                    <a:pt x="694" y="768"/>
                  </a:lnTo>
                  <a:lnTo>
                    <a:pt x="714" y="791"/>
                  </a:lnTo>
                  <a:lnTo>
                    <a:pt x="747" y="821"/>
                  </a:lnTo>
                  <a:lnTo>
                    <a:pt x="786" y="797"/>
                  </a:lnTo>
                  <a:lnTo>
                    <a:pt x="819" y="733"/>
                  </a:lnTo>
                  <a:lnTo>
                    <a:pt x="828" y="706"/>
                  </a:lnTo>
                  <a:lnTo>
                    <a:pt x="813" y="672"/>
                  </a:lnTo>
                  <a:lnTo>
                    <a:pt x="777" y="639"/>
                  </a:lnTo>
                  <a:lnTo>
                    <a:pt x="738" y="612"/>
                  </a:lnTo>
                  <a:lnTo>
                    <a:pt x="783" y="551"/>
                  </a:lnTo>
                  <a:lnTo>
                    <a:pt x="816" y="506"/>
                  </a:lnTo>
                  <a:lnTo>
                    <a:pt x="837" y="466"/>
                  </a:lnTo>
                  <a:lnTo>
                    <a:pt x="867" y="415"/>
                  </a:lnTo>
                  <a:lnTo>
                    <a:pt x="888" y="354"/>
                  </a:lnTo>
                  <a:lnTo>
                    <a:pt x="903" y="303"/>
                  </a:lnTo>
                  <a:lnTo>
                    <a:pt x="909" y="233"/>
                  </a:lnTo>
                  <a:lnTo>
                    <a:pt x="909" y="179"/>
                  </a:lnTo>
                  <a:lnTo>
                    <a:pt x="888" y="112"/>
                  </a:lnTo>
                  <a:lnTo>
                    <a:pt x="837" y="55"/>
                  </a:lnTo>
                  <a:lnTo>
                    <a:pt x="777" y="18"/>
                  </a:lnTo>
                  <a:lnTo>
                    <a:pt x="711" y="6"/>
                  </a:lnTo>
                  <a:lnTo>
                    <a:pt x="615" y="0"/>
                  </a:lnTo>
                  <a:lnTo>
                    <a:pt x="561" y="9"/>
                  </a:lnTo>
                  <a:lnTo>
                    <a:pt x="474" y="27"/>
                  </a:lnTo>
                  <a:lnTo>
                    <a:pt x="390" y="55"/>
                  </a:lnTo>
                  <a:lnTo>
                    <a:pt x="318" y="85"/>
                  </a:lnTo>
                  <a:lnTo>
                    <a:pt x="240" y="118"/>
                  </a:lnTo>
                  <a:lnTo>
                    <a:pt x="192" y="142"/>
                  </a:lnTo>
                  <a:lnTo>
                    <a:pt x="144" y="170"/>
                  </a:lnTo>
                  <a:lnTo>
                    <a:pt x="138" y="206"/>
                  </a:lnTo>
                  <a:lnTo>
                    <a:pt x="150" y="224"/>
                  </a:lnTo>
                  <a:lnTo>
                    <a:pt x="180" y="233"/>
                  </a:lnTo>
                  <a:lnTo>
                    <a:pt x="228" y="194"/>
                  </a:lnTo>
                  <a:lnTo>
                    <a:pt x="282" y="167"/>
                  </a:lnTo>
                  <a:lnTo>
                    <a:pt x="357" y="139"/>
                  </a:lnTo>
                  <a:lnTo>
                    <a:pt x="417" y="121"/>
                  </a:lnTo>
                  <a:lnTo>
                    <a:pt x="459" y="115"/>
                  </a:lnTo>
                  <a:lnTo>
                    <a:pt x="540" y="112"/>
                  </a:lnTo>
                  <a:lnTo>
                    <a:pt x="591" y="127"/>
                  </a:lnTo>
                  <a:lnTo>
                    <a:pt x="645" y="158"/>
                  </a:lnTo>
                  <a:lnTo>
                    <a:pt x="684" y="206"/>
                  </a:lnTo>
                  <a:lnTo>
                    <a:pt x="705" y="260"/>
                  </a:lnTo>
                  <a:lnTo>
                    <a:pt x="717" y="363"/>
                  </a:lnTo>
                  <a:lnTo>
                    <a:pt x="711" y="454"/>
                  </a:lnTo>
                  <a:lnTo>
                    <a:pt x="705" y="515"/>
                  </a:lnTo>
                  <a:lnTo>
                    <a:pt x="690" y="551"/>
                  </a:lnTo>
                  <a:lnTo>
                    <a:pt x="642" y="521"/>
                  </a:lnTo>
                  <a:lnTo>
                    <a:pt x="594" y="497"/>
                  </a:lnTo>
                  <a:lnTo>
                    <a:pt x="561" y="485"/>
                  </a:lnTo>
                  <a:lnTo>
                    <a:pt x="513" y="469"/>
                  </a:lnTo>
                  <a:lnTo>
                    <a:pt x="468" y="466"/>
                  </a:lnTo>
                  <a:lnTo>
                    <a:pt x="450" y="488"/>
                  </a:lnTo>
                  <a:lnTo>
                    <a:pt x="411" y="524"/>
                  </a:lnTo>
                  <a:lnTo>
                    <a:pt x="384" y="548"/>
                  </a:lnTo>
                  <a:lnTo>
                    <a:pt x="363" y="569"/>
                  </a:lnTo>
                  <a:lnTo>
                    <a:pt x="336" y="600"/>
                  </a:lnTo>
                  <a:lnTo>
                    <a:pt x="332" y="614"/>
                  </a:lnTo>
                  <a:lnTo>
                    <a:pt x="348" y="621"/>
                  </a:lnTo>
                  <a:cubicBezTo>
                    <a:pt x="357" y="623"/>
                    <a:pt x="389" y="633"/>
                    <a:pt x="405" y="633"/>
                  </a:cubicBezTo>
                  <a:lnTo>
                    <a:pt x="438" y="639"/>
                  </a:lnTo>
                  <a:lnTo>
                    <a:pt x="474" y="645"/>
                  </a:lnTo>
                  <a:lnTo>
                    <a:pt x="498" y="657"/>
                  </a:lnTo>
                  <a:lnTo>
                    <a:pt x="522" y="663"/>
                  </a:lnTo>
                  <a:lnTo>
                    <a:pt x="528" y="681"/>
                  </a:lnTo>
                  <a:lnTo>
                    <a:pt x="495" y="691"/>
                  </a:lnTo>
                  <a:lnTo>
                    <a:pt x="438" y="694"/>
                  </a:lnTo>
                  <a:lnTo>
                    <a:pt x="345" y="694"/>
                  </a:lnTo>
                  <a:lnTo>
                    <a:pt x="303" y="681"/>
                  </a:lnTo>
                  <a:lnTo>
                    <a:pt x="262" y="670"/>
                  </a:lnTo>
                  <a:lnTo>
                    <a:pt x="216" y="646"/>
                  </a:lnTo>
                  <a:lnTo>
                    <a:pt x="184" y="618"/>
                  </a:lnTo>
                  <a:lnTo>
                    <a:pt x="152" y="578"/>
                  </a:lnTo>
                  <a:lnTo>
                    <a:pt x="128" y="532"/>
                  </a:lnTo>
                  <a:lnTo>
                    <a:pt x="120" y="500"/>
                  </a:lnTo>
                  <a:lnTo>
                    <a:pt x="120" y="473"/>
                  </a:lnTo>
                  <a:lnTo>
                    <a:pt x="126" y="448"/>
                  </a:lnTo>
                  <a:lnTo>
                    <a:pt x="146" y="410"/>
                  </a:lnTo>
                  <a:lnTo>
                    <a:pt x="210" y="345"/>
                  </a:lnTo>
                  <a:lnTo>
                    <a:pt x="267" y="306"/>
                  </a:lnTo>
                  <a:lnTo>
                    <a:pt x="357" y="248"/>
                  </a:lnTo>
                  <a:lnTo>
                    <a:pt x="399" y="230"/>
                  </a:lnTo>
                  <a:lnTo>
                    <a:pt x="423" y="218"/>
                  </a:lnTo>
                  <a:lnTo>
                    <a:pt x="423" y="185"/>
                  </a:lnTo>
                  <a:lnTo>
                    <a:pt x="418" y="168"/>
                  </a:lnTo>
                  <a:lnTo>
                    <a:pt x="408" y="167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965240" y="1327320"/>
              <a:ext cx="409320" cy="376560"/>
            </a:xfrm>
            <a:custGeom>
              <a:avLst/>
              <a:gdLst/>
              <a:ahLst/>
              <a:rect l="l" t="t" r="r" b="b"/>
              <a:pathLst>
                <a:path w="909" h="839">
                  <a:moveTo>
                    <a:pt x="408" y="167"/>
                  </a:moveTo>
                  <a:lnTo>
                    <a:pt x="324" y="194"/>
                  </a:lnTo>
                  <a:lnTo>
                    <a:pt x="231" y="242"/>
                  </a:lnTo>
                  <a:lnTo>
                    <a:pt x="147" y="309"/>
                  </a:lnTo>
                  <a:lnTo>
                    <a:pt x="93" y="366"/>
                  </a:lnTo>
                  <a:lnTo>
                    <a:pt x="54" y="430"/>
                  </a:lnTo>
                  <a:lnTo>
                    <a:pt x="32" y="468"/>
                  </a:lnTo>
                  <a:lnTo>
                    <a:pt x="18" y="509"/>
                  </a:lnTo>
                  <a:lnTo>
                    <a:pt x="3" y="566"/>
                  </a:lnTo>
                  <a:lnTo>
                    <a:pt x="0" y="624"/>
                  </a:lnTo>
                  <a:lnTo>
                    <a:pt x="3" y="678"/>
                  </a:lnTo>
                  <a:lnTo>
                    <a:pt x="27" y="727"/>
                  </a:lnTo>
                  <a:lnTo>
                    <a:pt x="69" y="778"/>
                  </a:lnTo>
                  <a:lnTo>
                    <a:pt x="135" y="818"/>
                  </a:lnTo>
                  <a:lnTo>
                    <a:pt x="198" y="833"/>
                  </a:lnTo>
                  <a:lnTo>
                    <a:pt x="249" y="839"/>
                  </a:lnTo>
                  <a:lnTo>
                    <a:pt x="303" y="833"/>
                  </a:lnTo>
                  <a:lnTo>
                    <a:pt x="399" y="815"/>
                  </a:lnTo>
                  <a:lnTo>
                    <a:pt x="477" y="784"/>
                  </a:lnTo>
                  <a:lnTo>
                    <a:pt x="555" y="751"/>
                  </a:lnTo>
                  <a:lnTo>
                    <a:pt x="600" y="724"/>
                  </a:lnTo>
                  <a:lnTo>
                    <a:pt x="666" y="745"/>
                  </a:lnTo>
                  <a:lnTo>
                    <a:pt x="694" y="768"/>
                  </a:lnTo>
                  <a:lnTo>
                    <a:pt x="714" y="791"/>
                  </a:lnTo>
                  <a:lnTo>
                    <a:pt x="747" y="821"/>
                  </a:lnTo>
                  <a:lnTo>
                    <a:pt x="786" y="797"/>
                  </a:lnTo>
                  <a:lnTo>
                    <a:pt x="819" y="733"/>
                  </a:lnTo>
                  <a:lnTo>
                    <a:pt x="828" y="706"/>
                  </a:lnTo>
                  <a:lnTo>
                    <a:pt x="813" y="672"/>
                  </a:lnTo>
                  <a:lnTo>
                    <a:pt x="777" y="639"/>
                  </a:lnTo>
                  <a:lnTo>
                    <a:pt x="738" y="612"/>
                  </a:lnTo>
                  <a:lnTo>
                    <a:pt x="783" y="551"/>
                  </a:lnTo>
                  <a:lnTo>
                    <a:pt x="816" y="506"/>
                  </a:lnTo>
                  <a:lnTo>
                    <a:pt x="837" y="466"/>
                  </a:lnTo>
                  <a:lnTo>
                    <a:pt x="867" y="415"/>
                  </a:lnTo>
                  <a:lnTo>
                    <a:pt x="888" y="354"/>
                  </a:lnTo>
                  <a:lnTo>
                    <a:pt x="903" y="303"/>
                  </a:lnTo>
                  <a:lnTo>
                    <a:pt x="909" y="233"/>
                  </a:lnTo>
                  <a:lnTo>
                    <a:pt x="909" y="179"/>
                  </a:lnTo>
                  <a:lnTo>
                    <a:pt x="888" y="112"/>
                  </a:lnTo>
                  <a:lnTo>
                    <a:pt x="837" y="55"/>
                  </a:lnTo>
                  <a:lnTo>
                    <a:pt x="777" y="18"/>
                  </a:lnTo>
                  <a:lnTo>
                    <a:pt x="711" y="6"/>
                  </a:lnTo>
                  <a:lnTo>
                    <a:pt x="615" y="0"/>
                  </a:lnTo>
                  <a:lnTo>
                    <a:pt x="561" y="9"/>
                  </a:lnTo>
                  <a:lnTo>
                    <a:pt x="474" y="27"/>
                  </a:lnTo>
                  <a:lnTo>
                    <a:pt x="390" y="55"/>
                  </a:lnTo>
                  <a:lnTo>
                    <a:pt x="318" y="85"/>
                  </a:lnTo>
                  <a:lnTo>
                    <a:pt x="240" y="118"/>
                  </a:lnTo>
                  <a:lnTo>
                    <a:pt x="192" y="142"/>
                  </a:lnTo>
                  <a:lnTo>
                    <a:pt x="144" y="170"/>
                  </a:lnTo>
                  <a:lnTo>
                    <a:pt x="138" y="206"/>
                  </a:lnTo>
                  <a:lnTo>
                    <a:pt x="150" y="224"/>
                  </a:lnTo>
                  <a:lnTo>
                    <a:pt x="180" y="233"/>
                  </a:lnTo>
                  <a:lnTo>
                    <a:pt x="228" y="194"/>
                  </a:lnTo>
                  <a:lnTo>
                    <a:pt x="282" y="167"/>
                  </a:lnTo>
                  <a:lnTo>
                    <a:pt x="357" y="139"/>
                  </a:lnTo>
                  <a:lnTo>
                    <a:pt x="417" y="121"/>
                  </a:lnTo>
                  <a:lnTo>
                    <a:pt x="459" y="115"/>
                  </a:lnTo>
                  <a:lnTo>
                    <a:pt x="540" y="112"/>
                  </a:lnTo>
                  <a:lnTo>
                    <a:pt x="591" y="127"/>
                  </a:lnTo>
                  <a:lnTo>
                    <a:pt x="645" y="158"/>
                  </a:lnTo>
                  <a:lnTo>
                    <a:pt x="684" y="206"/>
                  </a:lnTo>
                  <a:lnTo>
                    <a:pt x="705" y="260"/>
                  </a:lnTo>
                  <a:lnTo>
                    <a:pt x="717" y="363"/>
                  </a:lnTo>
                  <a:lnTo>
                    <a:pt x="711" y="454"/>
                  </a:lnTo>
                  <a:lnTo>
                    <a:pt x="705" y="515"/>
                  </a:lnTo>
                  <a:lnTo>
                    <a:pt x="690" y="551"/>
                  </a:lnTo>
                  <a:lnTo>
                    <a:pt x="642" y="521"/>
                  </a:lnTo>
                  <a:lnTo>
                    <a:pt x="594" y="497"/>
                  </a:lnTo>
                  <a:lnTo>
                    <a:pt x="561" y="485"/>
                  </a:lnTo>
                  <a:lnTo>
                    <a:pt x="513" y="469"/>
                  </a:lnTo>
                  <a:lnTo>
                    <a:pt x="468" y="466"/>
                  </a:lnTo>
                  <a:lnTo>
                    <a:pt x="450" y="488"/>
                  </a:lnTo>
                  <a:lnTo>
                    <a:pt x="411" y="524"/>
                  </a:lnTo>
                  <a:lnTo>
                    <a:pt x="384" y="548"/>
                  </a:lnTo>
                  <a:lnTo>
                    <a:pt x="363" y="569"/>
                  </a:lnTo>
                  <a:lnTo>
                    <a:pt x="336" y="600"/>
                  </a:lnTo>
                  <a:lnTo>
                    <a:pt x="332" y="614"/>
                  </a:lnTo>
                  <a:lnTo>
                    <a:pt x="348" y="621"/>
                  </a:lnTo>
                  <a:cubicBezTo>
                    <a:pt x="357" y="623"/>
                    <a:pt x="389" y="633"/>
                    <a:pt x="405" y="633"/>
                  </a:cubicBezTo>
                  <a:lnTo>
                    <a:pt x="438" y="639"/>
                  </a:lnTo>
                  <a:lnTo>
                    <a:pt x="474" y="645"/>
                  </a:lnTo>
                  <a:lnTo>
                    <a:pt x="498" y="657"/>
                  </a:lnTo>
                  <a:lnTo>
                    <a:pt x="522" y="663"/>
                  </a:lnTo>
                  <a:lnTo>
                    <a:pt x="528" y="681"/>
                  </a:lnTo>
                  <a:lnTo>
                    <a:pt x="495" y="691"/>
                  </a:lnTo>
                  <a:lnTo>
                    <a:pt x="438" y="694"/>
                  </a:lnTo>
                  <a:lnTo>
                    <a:pt x="345" y="694"/>
                  </a:lnTo>
                  <a:lnTo>
                    <a:pt x="303" y="681"/>
                  </a:lnTo>
                  <a:lnTo>
                    <a:pt x="262" y="670"/>
                  </a:lnTo>
                  <a:lnTo>
                    <a:pt x="216" y="646"/>
                  </a:lnTo>
                  <a:lnTo>
                    <a:pt x="184" y="618"/>
                  </a:lnTo>
                  <a:lnTo>
                    <a:pt x="152" y="578"/>
                  </a:lnTo>
                  <a:lnTo>
                    <a:pt x="128" y="532"/>
                  </a:lnTo>
                  <a:lnTo>
                    <a:pt x="120" y="500"/>
                  </a:lnTo>
                  <a:lnTo>
                    <a:pt x="120" y="473"/>
                  </a:lnTo>
                  <a:lnTo>
                    <a:pt x="126" y="448"/>
                  </a:lnTo>
                  <a:lnTo>
                    <a:pt x="146" y="410"/>
                  </a:lnTo>
                  <a:lnTo>
                    <a:pt x="210" y="345"/>
                  </a:lnTo>
                  <a:lnTo>
                    <a:pt x="267" y="306"/>
                  </a:lnTo>
                  <a:lnTo>
                    <a:pt x="357" y="248"/>
                  </a:lnTo>
                  <a:lnTo>
                    <a:pt x="399" y="230"/>
                  </a:lnTo>
                  <a:lnTo>
                    <a:pt x="423" y="218"/>
                  </a:lnTo>
                  <a:lnTo>
                    <a:pt x="423" y="185"/>
                  </a:lnTo>
                  <a:lnTo>
                    <a:pt x="418" y="168"/>
                  </a:lnTo>
                  <a:lnTo>
                    <a:pt x="408" y="167"/>
                  </a:lnTo>
                  <a:close/>
                </a:path>
              </a:pathLst>
            </a:custGeom>
            <a:solidFill>
              <a:srgbClr val="fc8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5" name=""/>
          <p:cNvSpPr/>
          <p:nvPr/>
        </p:nvSpPr>
        <p:spPr>
          <a:xfrm flipV="1" rot="5400000">
            <a:off x="6314760" y="-4537440"/>
            <a:ext cx="7543440" cy="1270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12" y="12"/>
                </a:moveTo>
                <a:arcTo wR="10800" hR="10800" stAng="-5237038" swAng="4177472"/>
                <a:lnTo>
                  <a:pt x="10800" y="10800"/>
                </a:lnTo>
                <a:close/>
              </a:path>
              <a:path fill="none" w="21600" h="21600">
                <a:moveTo>
                  <a:pt x="11312" y="12"/>
                </a:moveTo>
                <a:arcTo wR="10800" hR="10800" stAng="-5237038" swAng="4177472"/>
              </a:path>
            </a:pathLst>
          </a:custGeom>
          <a:noFill/>
          <a:ln cap="rnd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3341520" y="1483920"/>
            <a:ext cx="0" cy="4581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7" name=""/>
          <p:cNvGrpSpPr/>
          <p:nvPr/>
        </p:nvGrpSpPr>
        <p:grpSpPr>
          <a:xfrm>
            <a:off x="2691000" y="1719000"/>
            <a:ext cx="774000" cy="4039560"/>
            <a:chOff x="2691000" y="1719000"/>
            <a:chExt cx="774000" cy="4039560"/>
          </a:xfrm>
        </p:grpSpPr>
        <p:sp>
          <p:nvSpPr>
            <p:cNvPr id="1558" name=""/>
            <p:cNvSpPr/>
            <p:nvPr/>
          </p:nvSpPr>
          <p:spPr>
            <a:xfrm flipH="1">
              <a:off x="3123360" y="2720880"/>
              <a:ext cx="32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3123360" y="2369880"/>
              <a:ext cx="32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>
              <a:off x="3123360" y="4473360"/>
              <a:ext cx="32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3123360" y="3070080"/>
              <a:ext cx="32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3123360" y="4822560"/>
              <a:ext cx="32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3123360" y="4122360"/>
              <a:ext cx="32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3125520" y="3769920"/>
              <a:ext cx="32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3123360" y="5524200"/>
              <a:ext cx="32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3138120" y="5167080"/>
              <a:ext cx="32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3123360" y="3428640"/>
              <a:ext cx="32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rot="16200000">
              <a:off x="2672280" y="5321520"/>
              <a:ext cx="45540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rot="16200000">
              <a:off x="2672280" y="5016600"/>
              <a:ext cx="45540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16200000">
              <a:off x="2672280" y="4635720"/>
              <a:ext cx="45540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rot="16200000">
              <a:off x="2672280" y="4293360"/>
              <a:ext cx="45540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rot="16200000">
              <a:off x="2672280" y="3949920"/>
              <a:ext cx="45540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rot="16200000">
              <a:off x="2672280" y="3594240"/>
              <a:ext cx="45540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rot="16200000">
              <a:off x="2672280" y="3264120"/>
              <a:ext cx="45540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rot="16200000">
              <a:off x="2672280" y="2883600"/>
              <a:ext cx="45540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rot="16200000">
              <a:off x="2672280" y="2502000"/>
              <a:ext cx="45540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rot="16200000">
              <a:off x="2672280" y="2106720"/>
              <a:ext cx="45540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rot="16200000">
              <a:off x="2683080" y="1737360"/>
              <a:ext cx="45540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3136680" y="1996920"/>
              <a:ext cx="32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" name=""/>
          <p:cNvSpPr/>
          <p:nvPr/>
        </p:nvSpPr>
        <p:spPr>
          <a:xfrm>
            <a:off x="4013280" y="1549440"/>
            <a:ext cx="761760" cy="368280"/>
          </a:xfrm>
          <a:prstGeom prst="wedgeRoundRectCallout">
            <a:avLst>
              <a:gd name="adj1" fmla="val -82916"/>
              <a:gd name="adj2" fmla="val 68532"/>
              <a:gd name="adj3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416400" y="3479760"/>
            <a:ext cx="787320" cy="343080"/>
          </a:xfrm>
          <a:prstGeom prst="wedgeRoundRectCallout">
            <a:avLst>
              <a:gd name="adj1" fmla="val 61694"/>
              <a:gd name="adj2" fmla="val -7453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441600" y="3975120"/>
            <a:ext cx="1231920" cy="342720"/>
          </a:xfrm>
          <a:prstGeom prst="wedgeRoundRectCallout">
            <a:avLst>
              <a:gd name="adj1" fmla="val 59537"/>
              <a:gd name="adj2" fmla="val -7453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enn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740560" y="5156280"/>
            <a:ext cx="749160" cy="317520"/>
          </a:xfrm>
          <a:prstGeom prst="wedgeRoundRectCallout">
            <a:avLst>
              <a:gd name="adj1" fmla="val 89407"/>
              <a:gd name="adj2" fmla="val -92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517920" y="4470480"/>
            <a:ext cx="1485720" cy="368280"/>
          </a:xfrm>
          <a:prstGeom prst="wedgeRoundRectCallout">
            <a:avLst>
              <a:gd name="adj1" fmla="val 72435"/>
              <a:gd name="adj2" fmla="val -797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man R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292640" y="2197080"/>
            <a:ext cx="749160" cy="291960"/>
          </a:xfrm>
          <a:prstGeom prst="wedgeRoundRectCallout">
            <a:avLst>
              <a:gd name="adj1" fmla="val -100425"/>
              <a:gd name="adj2" fmla="val 95106"/>
              <a:gd name="adj3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465280" y="1471680"/>
            <a:ext cx="0" cy="4581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7" name=""/>
          <p:cNvGrpSpPr/>
          <p:nvPr/>
        </p:nvGrpSpPr>
        <p:grpSpPr>
          <a:xfrm>
            <a:off x="1995120" y="1766880"/>
            <a:ext cx="489960" cy="3720960"/>
            <a:chOff x="1995120" y="1766880"/>
            <a:chExt cx="489960" cy="3720960"/>
          </a:xfrm>
        </p:grpSpPr>
        <p:sp>
          <p:nvSpPr>
            <p:cNvPr id="1588" name=""/>
            <p:cNvSpPr/>
            <p:nvPr/>
          </p:nvSpPr>
          <p:spPr>
            <a:xfrm>
              <a:off x="2058480" y="17668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66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071440" y="210960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66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084040" y="288432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66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084040" y="358272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66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995120" y="428112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66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020320" y="509400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6600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4" name=""/>
          <p:cNvSpPr/>
          <p:nvPr/>
        </p:nvSpPr>
        <p:spPr>
          <a:xfrm>
            <a:off x="7443720" y="1569960"/>
            <a:ext cx="716040" cy="733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3924360" y="2666880"/>
            <a:ext cx="4314600" cy="2718000"/>
            <a:chOff x="3924360" y="2666880"/>
            <a:chExt cx="4314600" cy="2718000"/>
          </a:xfrm>
        </p:grpSpPr>
        <p:grpSp>
          <p:nvGrpSpPr>
            <p:cNvPr id="1596" name=""/>
            <p:cNvGrpSpPr/>
            <p:nvPr/>
          </p:nvGrpSpPr>
          <p:grpSpPr>
            <a:xfrm>
              <a:off x="3924360" y="2666880"/>
              <a:ext cx="4314600" cy="2718000"/>
              <a:chOff x="3924360" y="2666880"/>
              <a:chExt cx="4314600" cy="2718000"/>
            </a:xfrm>
          </p:grpSpPr>
          <p:sp>
            <p:nvSpPr>
              <p:cNvPr id="1597" name=""/>
              <p:cNvSpPr/>
              <p:nvPr/>
            </p:nvSpPr>
            <p:spPr>
              <a:xfrm>
                <a:off x="3924360" y="2666880"/>
                <a:ext cx="4248000" cy="2718000"/>
              </a:xfrm>
              <a:custGeom>
                <a:avLst/>
                <a:gdLst/>
                <a:ahLst/>
                <a:rect l="l" t="t" r="r" b="b"/>
                <a:pathLst>
                  <a:path w="2676" h="1712">
                    <a:moveTo>
                      <a:pt x="0" y="0"/>
                    </a:moveTo>
                    <a:lnTo>
                      <a:pt x="80" y="168"/>
                    </a:lnTo>
                    <a:lnTo>
                      <a:pt x="172" y="316"/>
                    </a:lnTo>
                    <a:lnTo>
                      <a:pt x="308" y="500"/>
                    </a:lnTo>
                    <a:lnTo>
                      <a:pt x="436" y="644"/>
                    </a:lnTo>
                    <a:lnTo>
                      <a:pt x="600" y="800"/>
                    </a:lnTo>
                    <a:lnTo>
                      <a:pt x="812" y="968"/>
                    </a:lnTo>
                    <a:lnTo>
                      <a:pt x="1008" y="1096"/>
                    </a:lnTo>
                    <a:lnTo>
                      <a:pt x="1236" y="1232"/>
                    </a:lnTo>
                    <a:lnTo>
                      <a:pt x="1588" y="1396"/>
                    </a:lnTo>
                    <a:lnTo>
                      <a:pt x="1924" y="1520"/>
                    </a:lnTo>
                    <a:lnTo>
                      <a:pt x="2168" y="1592"/>
                    </a:lnTo>
                    <a:lnTo>
                      <a:pt x="2548" y="1688"/>
                    </a:lnTo>
                    <a:lnTo>
                      <a:pt x="2676" y="1712"/>
                    </a:lnTo>
                    <a:lnTo>
                      <a:pt x="267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624560" y="2833560"/>
                <a:ext cx="3614400" cy="161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ee0202"/>
                    </a:solidFill>
                    <a:latin typeface="Arial"/>
                  </a:rPr>
                  <a:t>Cannot measure bit errors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ee0202"/>
                    </a:solidFill>
                    <a:latin typeface="Arial"/>
                  </a:rPr>
                  <a:t>	</a:t>
                </a:r>
                <a:r>
                  <a:rPr b="1" lang="de-DE" sz="2000" spc="-1" strike="noStrike">
                    <a:solidFill>
                      <a:srgbClr val="ee0202"/>
                    </a:solidFill>
                    <a:latin typeface="Arial"/>
                  </a:rPr>
                  <a:t>	</a:t>
                </a:r>
                <a:r>
                  <a:rPr b="1" lang="de-DE" sz="2000" spc="-1" strike="noStrike">
                    <a:solidFill>
                      <a:srgbClr val="ee0202"/>
                    </a:solidFill>
                    <a:latin typeface="Arial"/>
                  </a:rPr>
                  <a:t>=&gt;</a:t>
                </a:r>
                <a:br>
                  <a:rPr sz="2000"/>
                </a:br>
                <a:br>
                  <a:rPr sz="2000"/>
                </a:br>
                <a:r>
                  <a:rPr b="1" lang="de-DE" sz="2000" spc="-1" strike="noStrike">
                    <a:solidFill>
                      <a:srgbClr val="ee0202"/>
                    </a:solidFill>
                    <a:latin typeface="Arial"/>
                  </a:rPr>
                  <a:t>             „Error-free Region“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9" name=""/>
            <p:cNvGrpSpPr/>
            <p:nvPr/>
          </p:nvGrpSpPr>
          <p:grpSpPr>
            <a:xfrm>
              <a:off x="6912000" y="3373560"/>
              <a:ext cx="664920" cy="672840"/>
              <a:chOff x="6912000" y="3373560"/>
              <a:chExt cx="664920" cy="672840"/>
            </a:xfrm>
          </p:grpSpPr>
          <p:sp>
            <p:nvSpPr>
              <p:cNvPr id="1600" name=""/>
              <p:cNvSpPr/>
              <p:nvPr/>
            </p:nvSpPr>
            <p:spPr>
              <a:xfrm>
                <a:off x="6937560" y="3456000"/>
                <a:ext cx="639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e0202"/>
                    </a:solidFill>
                    <a:latin typeface="Arial"/>
                  </a:rPr>
                  <a:t>Bi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e0202"/>
                    </a:solidFill>
                    <a:latin typeface="Arial"/>
                  </a:rPr>
                  <a:t>Erro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01" name="DFM00721" descr=""/>
              <p:cNvPicPr/>
              <p:nvPr/>
            </p:nvPicPr>
            <p:blipFill>
              <a:blip r:embed="rId1"/>
              <a:stretch/>
            </p:blipFill>
            <p:spPr>
              <a:xfrm>
                <a:off x="6912000" y="3373560"/>
                <a:ext cx="662040" cy="672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02" name=""/>
          <p:cNvSpPr/>
          <p:nvPr/>
        </p:nvSpPr>
        <p:spPr>
          <a:xfrm>
            <a:off x="6999120" y="198108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for 1 err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10 Gbit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94616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asurement of Very Low 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4" name="" descr=""/>
          <p:cNvPicPr/>
          <p:nvPr/>
        </p:nvPicPr>
        <p:blipFill>
          <a:blip r:embed="rId1"/>
          <a:stretch/>
        </p:blipFill>
        <p:spPr>
          <a:xfrm>
            <a:off x="2028960" y="2801880"/>
            <a:ext cx="6483240" cy="2367000"/>
          </a:xfrm>
          <a:prstGeom prst="rect">
            <a:avLst/>
          </a:prstGeom>
          <a:ln w="0">
            <a:noFill/>
          </a:ln>
        </p:spPr>
      </p:pic>
      <p:grpSp>
        <p:nvGrpSpPr>
          <p:cNvPr id="1605" name=""/>
          <p:cNvGrpSpPr/>
          <p:nvPr/>
        </p:nvGrpSpPr>
        <p:grpSpPr>
          <a:xfrm>
            <a:off x="2330280" y="2266920"/>
            <a:ext cx="1447920" cy="1434960"/>
            <a:chOff x="2330280" y="2266920"/>
            <a:chExt cx="1447920" cy="1434960"/>
          </a:xfrm>
        </p:grpSpPr>
        <p:sp>
          <p:nvSpPr>
            <p:cNvPr id="1606" name=""/>
            <p:cNvSpPr/>
            <p:nvPr/>
          </p:nvSpPr>
          <p:spPr>
            <a:xfrm>
              <a:off x="2374560" y="2311200"/>
              <a:ext cx="1316160" cy="1316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537640" y="2495520"/>
              <a:ext cx="109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08" name="DFM00721" descr=""/>
            <p:cNvPicPr/>
            <p:nvPr/>
          </p:nvPicPr>
          <p:blipFill>
            <a:blip r:embed="rId2"/>
            <a:stretch/>
          </p:blipFill>
          <p:spPr>
            <a:xfrm>
              <a:off x="2330280" y="2266920"/>
              <a:ext cx="1447920" cy="143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9" name=""/>
          <p:cNvGrpSpPr/>
          <p:nvPr/>
        </p:nvGrpSpPr>
        <p:grpSpPr>
          <a:xfrm>
            <a:off x="2035080" y="5143680"/>
            <a:ext cx="6458040" cy="368280"/>
            <a:chOff x="2035080" y="5143680"/>
            <a:chExt cx="6458040" cy="368280"/>
          </a:xfrm>
        </p:grpSpPr>
        <p:sp>
          <p:nvSpPr>
            <p:cNvPr id="1610" name=""/>
            <p:cNvSpPr/>
            <p:nvPr/>
          </p:nvSpPr>
          <p:spPr>
            <a:xfrm>
              <a:off x="2035080" y="5143680"/>
              <a:ext cx="6458040" cy="368280"/>
            </a:xfrm>
            <a:prstGeom prst="rect">
              <a:avLst/>
            </a:prstGeom>
            <a:solidFill>
              <a:srgbClr val="eb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ctr" pos="4000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factor measuremen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lt; 1 Min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2193840" y="5176800"/>
              <a:ext cx="289080" cy="260280"/>
              <a:chOff x="2193840" y="5176800"/>
              <a:chExt cx="289080" cy="260280"/>
            </a:xfrm>
          </p:grpSpPr>
          <p:sp>
            <p:nvSpPr>
              <p:cNvPr id="1612" name=""/>
              <p:cNvSpPr/>
              <p:nvPr/>
            </p:nvSpPr>
            <p:spPr>
              <a:xfrm>
                <a:off x="2201760" y="5178600"/>
                <a:ext cx="281160" cy="258480"/>
              </a:xfrm>
              <a:custGeom>
                <a:avLst/>
                <a:gdLst/>
                <a:ahLst/>
                <a:rect l="l" t="t" r="r" b="b"/>
                <a:pathLst>
                  <a:path w="909" h="839">
                    <a:moveTo>
                      <a:pt x="408" y="167"/>
                    </a:moveTo>
                    <a:lnTo>
                      <a:pt x="324" y="194"/>
                    </a:lnTo>
                    <a:lnTo>
                      <a:pt x="231" y="242"/>
                    </a:lnTo>
                    <a:lnTo>
                      <a:pt x="147" y="309"/>
                    </a:lnTo>
                    <a:lnTo>
                      <a:pt x="93" y="366"/>
                    </a:lnTo>
                    <a:lnTo>
                      <a:pt x="54" y="430"/>
                    </a:lnTo>
                    <a:lnTo>
                      <a:pt x="32" y="468"/>
                    </a:lnTo>
                    <a:lnTo>
                      <a:pt x="18" y="509"/>
                    </a:lnTo>
                    <a:lnTo>
                      <a:pt x="3" y="566"/>
                    </a:lnTo>
                    <a:lnTo>
                      <a:pt x="0" y="624"/>
                    </a:lnTo>
                    <a:lnTo>
                      <a:pt x="3" y="678"/>
                    </a:lnTo>
                    <a:lnTo>
                      <a:pt x="27" y="727"/>
                    </a:lnTo>
                    <a:lnTo>
                      <a:pt x="69" y="778"/>
                    </a:lnTo>
                    <a:lnTo>
                      <a:pt x="135" y="818"/>
                    </a:lnTo>
                    <a:lnTo>
                      <a:pt x="198" y="833"/>
                    </a:lnTo>
                    <a:lnTo>
                      <a:pt x="249" y="839"/>
                    </a:lnTo>
                    <a:lnTo>
                      <a:pt x="303" y="833"/>
                    </a:lnTo>
                    <a:lnTo>
                      <a:pt x="399" y="815"/>
                    </a:lnTo>
                    <a:lnTo>
                      <a:pt x="477" y="784"/>
                    </a:lnTo>
                    <a:lnTo>
                      <a:pt x="555" y="751"/>
                    </a:lnTo>
                    <a:lnTo>
                      <a:pt x="600" y="724"/>
                    </a:lnTo>
                    <a:lnTo>
                      <a:pt x="666" y="745"/>
                    </a:lnTo>
                    <a:lnTo>
                      <a:pt x="694" y="768"/>
                    </a:lnTo>
                    <a:lnTo>
                      <a:pt x="714" y="791"/>
                    </a:lnTo>
                    <a:lnTo>
                      <a:pt x="747" y="821"/>
                    </a:lnTo>
                    <a:lnTo>
                      <a:pt x="786" y="797"/>
                    </a:lnTo>
                    <a:lnTo>
                      <a:pt x="819" y="733"/>
                    </a:lnTo>
                    <a:lnTo>
                      <a:pt x="828" y="706"/>
                    </a:lnTo>
                    <a:lnTo>
                      <a:pt x="813" y="672"/>
                    </a:lnTo>
                    <a:lnTo>
                      <a:pt x="777" y="639"/>
                    </a:lnTo>
                    <a:lnTo>
                      <a:pt x="738" y="612"/>
                    </a:lnTo>
                    <a:lnTo>
                      <a:pt x="783" y="551"/>
                    </a:lnTo>
                    <a:lnTo>
                      <a:pt x="816" y="506"/>
                    </a:lnTo>
                    <a:lnTo>
                      <a:pt x="837" y="466"/>
                    </a:lnTo>
                    <a:lnTo>
                      <a:pt x="867" y="415"/>
                    </a:lnTo>
                    <a:lnTo>
                      <a:pt x="888" y="354"/>
                    </a:lnTo>
                    <a:lnTo>
                      <a:pt x="903" y="303"/>
                    </a:lnTo>
                    <a:lnTo>
                      <a:pt x="909" y="233"/>
                    </a:lnTo>
                    <a:lnTo>
                      <a:pt x="909" y="179"/>
                    </a:lnTo>
                    <a:lnTo>
                      <a:pt x="888" y="112"/>
                    </a:lnTo>
                    <a:lnTo>
                      <a:pt x="837" y="55"/>
                    </a:lnTo>
                    <a:lnTo>
                      <a:pt x="777" y="18"/>
                    </a:lnTo>
                    <a:lnTo>
                      <a:pt x="711" y="6"/>
                    </a:lnTo>
                    <a:lnTo>
                      <a:pt x="615" y="0"/>
                    </a:lnTo>
                    <a:lnTo>
                      <a:pt x="561" y="9"/>
                    </a:lnTo>
                    <a:lnTo>
                      <a:pt x="474" y="27"/>
                    </a:lnTo>
                    <a:lnTo>
                      <a:pt x="390" y="55"/>
                    </a:lnTo>
                    <a:lnTo>
                      <a:pt x="318" y="85"/>
                    </a:lnTo>
                    <a:lnTo>
                      <a:pt x="240" y="118"/>
                    </a:lnTo>
                    <a:lnTo>
                      <a:pt x="192" y="142"/>
                    </a:lnTo>
                    <a:lnTo>
                      <a:pt x="144" y="170"/>
                    </a:lnTo>
                    <a:lnTo>
                      <a:pt x="138" y="206"/>
                    </a:lnTo>
                    <a:lnTo>
                      <a:pt x="150" y="224"/>
                    </a:lnTo>
                    <a:lnTo>
                      <a:pt x="180" y="233"/>
                    </a:lnTo>
                    <a:lnTo>
                      <a:pt x="228" y="194"/>
                    </a:lnTo>
                    <a:lnTo>
                      <a:pt x="282" y="167"/>
                    </a:lnTo>
                    <a:lnTo>
                      <a:pt x="357" y="139"/>
                    </a:lnTo>
                    <a:lnTo>
                      <a:pt x="417" y="121"/>
                    </a:lnTo>
                    <a:lnTo>
                      <a:pt x="459" y="115"/>
                    </a:lnTo>
                    <a:lnTo>
                      <a:pt x="540" y="112"/>
                    </a:lnTo>
                    <a:lnTo>
                      <a:pt x="591" y="127"/>
                    </a:lnTo>
                    <a:lnTo>
                      <a:pt x="645" y="158"/>
                    </a:lnTo>
                    <a:lnTo>
                      <a:pt x="684" y="206"/>
                    </a:lnTo>
                    <a:lnTo>
                      <a:pt x="705" y="260"/>
                    </a:lnTo>
                    <a:lnTo>
                      <a:pt x="717" y="363"/>
                    </a:lnTo>
                    <a:lnTo>
                      <a:pt x="711" y="454"/>
                    </a:lnTo>
                    <a:lnTo>
                      <a:pt x="705" y="515"/>
                    </a:lnTo>
                    <a:lnTo>
                      <a:pt x="690" y="551"/>
                    </a:lnTo>
                    <a:lnTo>
                      <a:pt x="642" y="521"/>
                    </a:lnTo>
                    <a:lnTo>
                      <a:pt x="594" y="497"/>
                    </a:lnTo>
                    <a:lnTo>
                      <a:pt x="561" y="485"/>
                    </a:lnTo>
                    <a:lnTo>
                      <a:pt x="513" y="469"/>
                    </a:lnTo>
                    <a:lnTo>
                      <a:pt x="468" y="466"/>
                    </a:lnTo>
                    <a:lnTo>
                      <a:pt x="450" y="488"/>
                    </a:lnTo>
                    <a:lnTo>
                      <a:pt x="411" y="524"/>
                    </a:lnTo>
                    <a:lnTo>
                      <a:pt x="384" y="548"/>
                    </a:lnTo>
                    <a:lnTo>
                      <a:pt x="363" y="569"/>
                    </a:lnTo>
                    <a:lnTo>
                      <a:pt x="336" y="600"/>
                    </a:lnTo>
                    <a:lnTo>
                      <a:pt x="332" y="614"/>
                    </a:lnTo>
                    <a:lnTo>
                      <a:pt x="348" y="621"/>
                    </a:lnTo>
                    <a:cubicBezTo>
                      <a:pt x="357" y="623"/>
                      <a:pt x="389" y="633"/>
                      <a:pt x="405" y="633"/>
                    </a:cubicBezTo>
                    <a:lnTo>
                      <a:pt x="438" y="639"/>
                    </a:lnTo>
                    <a:lnTo>
                      <a:pt x="474" y="645"/>
                    </a:lnTo>
                    <a:lnTo>
                      <a:pt x="498" y="657"/>
                    </a:lnTo>
                    <a:lnTo>
                      <a:pt x="522" y="663"/>
                    </a:lnTo>
                    <a:lnTo>
                      <a:pt x="528" y="681"/>
                    </a:lnTo>
                    <a:lnTo>
                      <a:pt x="495" y="691"/>
                    </a:lnTo>
                    <a:lnTo>
                      <a:pt x="438" y="694"/>
                    </a:lnTo>
                    <a:lnTo>
                      <a:pt x="345" y="694"/>
                    </a:lnTo>
                    <a:lnTo>
                      <a:pt x="303" y="681"/>
                    </a:lnTo>
                    <a:lnTo>
                      <a:pt x="262" y="670"/>
                    </a:lnTo>
                    <a:lnTo>
                      <a:pt x="216" y="646"/>
                    </a:lnTo>
                    <a:lnTo>
                      <a:pt x="184" y="618"/>
                    </a:lnTo>
                    <a:lnTo>
                      <a:pt x="152" y="578"/>
                    </a:lnTo>
                    <a:lnTo>
                      <a:pt x="128" y="532"/>
                    </a:lnTo>
                    <a:lnTo>
                      <a:pt x="120" y="500"/>
                    </a:lnTo>
                    <a:lnTo>
                      <a:pt x="120" y="473"/>
                    </a:lnTo>
                    <a:lnTo>
                      <a:pt x="126" y="448"/>
                    </a:lnTo>
                    <a:lnTo>
                      <a:pt x="146" y="410"/>
                    </a:lnTo>
                    <a:lnTo>
                      <a:pt x="210" y="345"/>
                    </a:lnTo>
                    <a:lnTo>
                      <a:pt x="267" y="306"/>
                    </a:lnTo>
                    <a:lnTo>
                      <a:pt x="357" y="248"/>
                    </a:lnTo>
                    <a:lnTo>
                      <a:pt x="399" y="230"/>
                    </a:lnTo>
                    <a:lnTo>
                      <a:pt x="423" y="218"/>
                    </a:lnTo>
                    <a:lnTo>
                      <a:pt x="423" y="185"/>
                    </a:lnTo>
                    <a:lnTo>
                      <a:pt x="418" y="168"/>
                    </a:lnTo>
                    <a:lnTo>
                      <a:pt x="408" y="167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2193840" y="5176800"/>
                <a:ext cx="281160" cy="258480"/>
              </a:xfrm>
              <a:custGeom>
                <a:avLst/>
                <a:gdLst/>
                <a:ahLst/>
                <a:rect l="l" t="t" r="r" b="b"/>
                <a:pathLst>
                  <a:path w="909" h="839">
                    <a:moveTo>
                      <a:pt x="408" y="167"/>
                    </a:moveTo>
                    <a:lnTo>
                      <a:pt x="324" y="194"/>
                    </a:lnTo>
                    <a:lnTo>
                      <a:pt x="231" y="242"/>
                    </a:lnTo>
                    <a:lnTo>
                      <a:pt x="147" y="309"/>
                    </a:lnTo>
                    <a:lnTo>
                      <a:pt x="93" y="366"/>
                    </a:lnTo>
                    <a:lnTo>
                      <a:pt x="54" y="430"/>
                    </a:lnTo>
                    <a:lnTo>
                      <a:pt x="32" y="468"/>
                    </a:lnTo>
                    <a:lnTo>
                      <a:pt x="18" y="509"/>
                    </a:lnTo>
                    <a:lnTo>
                      <a:pt x="3" y="566"/>
                    </a:lnTo>
                    <a:lnTo>
                      <a:pt x="0" y="624"/>
                    </a:lnTo>
                    <a:lnTo>
                      <a:pt x="3" y="678"/>
                    </a:lnTo>
                    <a:lnTo>
                      <a:pt x="27" y="727"/>
                    </a:lnTo>
                    <a:lnTo>
                      <a:pt x="69" y="778"/>
                    </a:lnTo>
                    <a:lnTo>
                      <a:pt x="135" y="818"/>
                    </a:lnTo>
                    <a:lnTo>
                      <a:pt x="198" y="833"/>
                    </a:lnTo>
                    <a:lnTo>
                      <a:pt x="249" y="839"/>
                    </a:lnTo>
                    <a:lnTo>
                      <a:pt x="303" y="833"/>
                    </a:lnTo>
                    <a:lnTo>
                      <a:pt x="399" y="815"/>
                    </a:lnTo>
                    <a:lnTo>
                      <a:pt x="477" y="784"/>
                    </a:lnTo>
                    <a:lnTo>
                      <a:pt x="555" y="751"/>
                    </a:lnTo>
                    <a:lnTo>
                      <a:pt x="600" y="724"/>
                    </a:lnTo>
                    <a:lnTo>
                      <a:pt x="666" y="745"/>
                    </a:lnTo>
                    <a:lnTo>
                      <a:pt x="694" y="768"/>
                    </a:lnTo>
                    <a:lnTo>
                      <a:pt x="714" y="791"/>
                    </a:lnTo>
                    <a:lnTo>
                      <a:pt x="747" y="821"/>
                    </a:lnTo>
                    <a:lnTo>
                      <a:pt x="786" y="797"/>
                    </a:lnTo>
                    <a:lnTo>
                      <a:pt x="819" y="733"/>
                    </a:lnTo>
                    <a:lnTo>
                      <a:pt x="828" y="706"/>
                    </a:lnTo>
                    <a:lnTo>
                      <a:pt x="813" y="672"/>
                    </a:lnTo>
                    <a:lnTo>
                      <a:pt x="777" y="639"/>
                    </a:lnTo>
                    <a:lnTo>
                      <a:pt x="738" y="612"/>
                    </a:lnTo>
                    <a:lnTo>
                      <a:pt x="783" y="551"/>
                    </a:lnTo>
                    <a:lnTo>
                      <a:pt x="816" y="506"/>
                    </a:lnTo>
                    <a:lnTo>
                      <a:pt x="837" y="466"/>
                    </a:lnTo>
                    <a:lnTo>
                      <a:pt x="867" y="415"/>
                    </a:lnTo>
                    <a:lnTo>
                      <a:pt x="888" y="354"/>
                    </a:lnTo>
                    <a:lnTo>
                      <a:pt x="903" y="303"/>
                    </a:lnTo>
                    <a:lnTo>
                      <a:pt x="909" y="233"/>
                    </a:lnTo>
                    <a:lnTo>
                      <a:pt x="909" y="179"/>
                    </a:lnTo>
                    <a:lnTo>
                      <a:pt x="888" y="112"/>
                    </a:lnTo>
                    <a:lnTo>
                      <a:pt x="837" y="55"/>
                    </a:lnTo>
                    <a:lnTo>
                      <a:pt x="777" y="18"/>
                    </a:lnTo>
                    <a:lnTo>
                      <a:pt x="711" y="6"/>
                    </a:lnTo>
                    <a:lnTo>
                      <a:pt x="615" y="0"/>
                    </a:lnTo>
                    <a:lnTo>
                      <a:pt x="561" y="9"/>
                    </a:lnTo>
                    <a:lnTo>
                      <a:pt x="474" y="27"/>
                    </a:lnTo>
                    <a:lnTo>
                      <a:pt x="390" y="55"/>
                    </a:lnTo>
                    <a:lnTo>
                      <a:pt x="318" y="85"/>
                    </a:lnTo>
                    <a:lnTo>
                      <a:pt x="240" y="118"/>
                    </a:lnTo>
                    <a:lnTo>
                      <a:pt x="192" y="142"/>
                    </a:lnTo>
                    <a:lnTo>
                      <a:pt x="144" y="170"/>
                    </a:lnTo>
                    <a:lnTo>
                      <a:pt x="138" y="206"/>
                    </a:lnTo>
                    <a:lnTo>
                      <a:pt x="150" y="224"/>
                    </a:lnTo>
                    <a:lnTo>
                      <a:pt x="180" y="233"/>
                    </a:lnTo>
                    <a:lnTo>
                      <a:pt x="228" y="194"/>
                    </a:lnTo>
                    <a:lnTo>
                      <a:pt x="282" y="167"/>
                    </a:lnTo>
                    <a:lnTo>
                      <a:pt x="357" y="139"/>
                    </a:lnTo>
                    <a:lnTo>
                      <a:pt x="417" y="121"/>
                    </a:lnTo>
                    <a:lnTo>
                      <a:pt x="459" y="115"/>
                    </a:lnTo>
                    <a:lnTo>
                      <a:pt x="540" y="112"/>
                    </a:lnTo>
                    <a:lnTo>
                      <a:pt x="591" y="127"/>
                    </a:lnTo>
                    <a:lnTo>
                      <a:pt x="645" y="158"/>
                    </a:lnTo>
                    <a:lnTo>
                      <a:pt x="684" y="206"/>
                    </a:lnTo>
                    <a:lnTo>
                      <a:pt x="705" y="260"/>
                    </a:lnTo>
                    <a:lnTo>
                      <a:pt x="717" y="363"/>
                    </a:lnTo>
                    <a:lnTo>
                      <a:pt x="711" y="454"/>
                    </a:lnTo>
                    <a:lnTo>
                      <a:pt x="705" y="515"/>
                    </a:lnTo>
                    <a:lnTo>
                      <a:pt x="690" y="551"/>
                    </a:lnTo>
                    <a:lnTo>
                      <a:pt x="642" y="521"/>
                    </a:lnTo>
                    <a:lnTo>
                      <a:pt x="594" y="497"/>
                    </a:lnTo>
                    <a:lnTo>
                      <a:pt x="561" y="485"/>
                    </a:lnTo>
                    <a:lnTo>
                      <a:pt x="513" y="469"/>
                    </a:lnTo>
                    <a:lnTo>
                      <a:pt x="468" y="466"/>
                    </a:lnTo>
                    <a:lnTo>
                      <a:pt x="450" y="488"/>
                    </a:lnTo>
                    <a:lnTo>
                      <a:pt x="411" y="524"/>
                    </a:lnTo>
                    <a:lnTo>
                      <a:pt x="384" y="548"/>
                    </a:lnTo>
                    <a:lnTo>
                      <a:pt x="363" y="569"/>
                    </a:lnTo>
                    <a:lnTo>
                      <a:pt x="336" y="600"/>
                    </a:lnTo>
                    <a:lnTo>
                      <a:pt x="332" y="614"/>
                    </a:lnTo>
                    <a:lnTo>
                      <a:pt x="348" y="621"/>
                    </a:lnTo>
                    <a:cubicBezTo>
                      <a:pt x="357" y="623"/>
                      <a:pt x="389" y="633"/>
                      <a:pt x="405" y="633"/>
                    </a:cubicBezTo>
                    <a:lnTo>
                      <a:pt x="438" y="639"/>
                    </a:lnTo>
                    <a:lnTo>
                      <a:pt x="474" y="645"/>
                    </a:lnTo>
                    <a:lnTo>
                      <a:pt x="498" y="657"/>
                    </a:lnTo>
                    <a:lnTo>
                      <a:pt x="522" y="663"/>
                    </a:lnTo>
                    <a:lnTo>
                      <a:pt x="528" y="681"/>
                    </a:lnTo>
                    <a:lnTo>
                      <a:pt x="495" y="691"/>
                    </a:lnTo>
                    <a:lnTo>
                      <a:pt x="438" y="694"/>
                    </a:lnTo>
                    <a:lnTo>
                      <a:pt x="345" y="694"/>
                    </a:lnTo>
                    <a:lnTo>
                      <a:pt x="303" y="681"/>
                    </a:lnTo>
                    <a:lnTo>
                      <a:pt x="262" y="670"/>
                    </a:lnTo>
                    <a:lnTo>
                      <a:pt x="216" y="646"/>
                    </a:lnTo>
                    <a:lnTo>
                      <a:pt x="184" y="618"/>
                    </a:lnTo>
                    <a:lnTo>
                      <a:pt x="152" y="578"/>
                    </a:lnTo>
                    <a:lnTo>
                      <a:pt x="128" y="532"/>
                    </a:lnTo>
                    <a:lnTo>
                      <a:pt x="120" y="500"/>
                    </a:lnTo>
                    <a:lnTo>
                      <a:pt x="120" y="473"/>
                    </a:lnTo>
                    <a:lnTo>
                      <a:pt x="126" y="448"/>
                    </a:lnTo>
                    <a:lnTo>
                      <a:pt x="146" y="410"/>
                    </a:lnTo>
                    <a:lnTo>
                      <a:pt x="210" y="345"/>
                    </a:lnTo>
                    <a:lnTo>
                      <a:pt x="267" y="306"/>
                    </a:lnTo>
                    <a:lnTo>
                      <a:pt x="357" y="248"/>
                    </a:lnTo>
                    <a:lnTo>
                      <a:pt x="399" y="230"/>
                    </a:lnTo>
                    <a:lnTo>
                      <a:pt x="423" y="218"/>
                    </a:lnTo>
                    <a:lnTo>
                      <a:pt x="423" y="185"/>
                    </a:lnTo>
                    <a:lnTo>
                      <a:pt x="418" y="168"/>
                    </a:lnTo>
                    <a:lnTo>
                      <a:pt x="408" y="167"/>
                    </a:lnTo>
                    <a:close/>
                  </a:path>
                </a:pathLst>
              </a:custGeom>
              <a:solidFill>
                <a:srgbClr val="fc8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4" name=""/>
          <p:cNvSpPr/>
          <p:nvPr/>
        </p:nvSpPr>
        <p:spPr>
          <a:xfrm>
            <a:off x="194616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esting  Challe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905120" y="1181160"/>
            <a:ext cx="6800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1840" indent="-23184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ptimization of DWDM systems in a timely manner, which covers all impairments (e.g. disper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260440" y="1932120"/>
            <a:ext cx="6088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1840" indent="-23184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e0202"/>
                </a:solidFill>
                <a:latin typeface="Arial"/>
              </a:rPr>
              <a:t>Requires accelerated measurement princip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d"/>
      </p:transition>
    </mc:Choice>
    <mc:Fallback>
      <p:transition spd="slow">
        <p:pull dir="d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tical     -fa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1827000" y="1058760"/>
            <a:ext cx="6932520" cy="52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50"/>
              </a:spcBef>
              <a:spcAft>
                <a:spcPts val="4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eflects quality of optical communications sign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-factor” doesn’t stand for qu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ndard maths symbol for Gaussian error integ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perty of signal, not of the communications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550"/>
              </a:spcBef>
              <a:spcAft>
                <a:spcPts val="4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onitors amplitude &amp; noise of analog sign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550"/>
              </a:spcBef>
              <a:spcAft>
                <a:spcPts val="4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tatistical techniques determine Q-fac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550"/>
              </a:spcBef>
              <a:spcAft>
                <a:spcPts val="4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undamentally different to BER tes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550"/>
              </a:spcBef>
              <a:spcAft>
                <a:spcPts val="4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stimates BER given certain assump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ochastic distribution of white amplitude &amp; phase no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aussian tail extrapolation with applicability ch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550"/>
              </a:spcBef>
              <a:spcAft>
                <a:spcPts val="4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Quick check of very low operating BER in &lt; 1mi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ill need BER for end-to-end performa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9" name=""/>
          <p:cNvGrpSpPr/>
          <p:nvPr/>
        </p:nvGrpSpPr>
        <p:grpSpPr>
          <a:xfrm>
            <a:off x="5294160" y="536400"/>
            <a:ext cx="371520" cy="335160"/>
            <a:chOff x="5294160" y="536400"/>
            <a:chExt cx="371520" cy="335160"/>
          </a:xfrm>
        </p:grpSpPr>
        <p:sp>
          <p:nvSpPr>
            <p:cNvPr id="1620" name=""/>
            <p:cNvSpPr/>
            <p:nvPr/>
          </p:nvSpPr>
          <p:spPr>
            <a:xfrm>
              <a:off x="5304240" y="538560"/>
              <a:ext cx="361440" cy="333000"/>
            </a:xfrm>
            <a:custGeom>
              <a:avLst/>
              <a:gdLst/>
              <a:ahLst/>
              <a:rect l="l" t="t" r="r" b="b"/>
              <a:pathLst>
                <a:path w="909" h="839">
                  <a:moveTo>
                    <a:pt x="408" y="167"/>
                  </a:moveTo>
                  <a:lnTo>
                    <a:pt x="324" y="194"/>
                  </a:lnTo>
                  <a:lnTo>
                    <a:pt x="231" y="242"/>
                  </a:lnTo>
                  <a:lnTo>
                    <a:pt x="147" y="309"/>
                  </a:lnTo>
                  <a:lnTo>
                    <a:pt x="93" y="366"/>
                  </a:lnTo>
                  <a:lnTo>
                    <a:pt x="54" y="430"/>
                  </a:lnTo>
                  <a:lnTo>
                    <a:pt x="32" y="468"/>
                  </a:lnTo>
                  <a:lnTo>
                    <a:pt x="18" y="509"/>
                  </a:lnTo>
                  <a:lnTo>
                    <a:pt x="3" y="566"/>
                  </a:lnTo>
                  <a:lnTo>
                    <a:pt x="0" y="624"/>
                  </a:lnTo>
                  <a:lnTo>
                    <a:pt x="3" y="678"/>
                  </a:lnTo>
                  <a:lnTo>
                    <a:pt x="27" y="727"/>
                  </a:lnTo>
                  <a:lnTo>
                    <a:pt x="69" y="778"/>
                  </a:lnTo>
                  <a:lnTo>
                    <a:pt x="135" y="818"/>
                  </a:lnTo>
                  <a:lnTo>
                    <a:pt x="198" y="833"/>
                  </a:lnTo>
                  <a:lnTo>
                    <a:pt x="249" y="839"/>
                  </a:lnTo>
                  <a:lnTo>
                    <a:pt x="303" y="833"/>
                  </a:lnTo>
                  <a:lnTo>
                    <a:pt x="399" y="815"/>
                  </a:lnTo>
                  <a:lnTo>
                    <a:pt x="477" y="784"/>
                  </a:lnTo>
                  <a:lnTo>
                    <a:pt x="555" y="751"/>
                  </a:lnTo>
                  <a:lnTo>
                    <a:pt x="600" y="724"/>
                  </a:lnTo>
                  <a:lnTo>
                    <a:pt x="666" y="745"/>
                  </a:lnTo>
                  <a:lnTo>
                    <a:pt x="694" y="768"/>
                  </a:lnTo>
                  <a:lnTo>
                    <a:pt x="714" y="791"/>
                  </a:lnTo>
                  <a:lnTo>
                    <a:pt x="747" y="821"/>
                  </a:lnTo>
                  <a:lnTo>
                    <a:pt x="786" y="797"/>
                  </a:lnTo>
                  <a:lnTo>
                    <a:pt x="819" y="733"/>
                  </a:lnTo>
                  <a:lnTo>
                    <a:pt x="828" y="706"/>
                  </a:lnTo>
                  <a:lnTo>
                    <a:pt x="813" y="672"/>
                  </a:lnTo>
                  <a:lnTo>
                    <a:pt x="777" y="639"/>
                  </a:lnTo>
                  <a:lnTo>
                    <a:pt x="738" y="612"/>
                  </a:lnTo>
                  <a:lnTo>
                    <a:pt x="783" y="551"/>
                  </a:lnTo>
                  <a:lnTo>
                    <a:pt x="816" y="506"/>
                  </a:lnTo>
                  <a:lnTo>
                    <a:pt x="837" y="466"/>
                  </a:lnTo>
                  <a:lnTo>
                    <a:pt x="867" y="415"/>
                  </a:lnTo>
                  <a:lnTo>
                    <a:pt x="888" y="354"/>
                  </a:lnTo>
                  <a:lnTo>
                    <a:pt x="903" y="303"/>
                  </a:lnTo>
                  <a:lnTo>
                    <a:pt x="909" y="233"/>
                  </a:lnTo>
                  <a:lnTo>
                    <a:pt x="909" y="179"/>
                  </a:lnTo>
                  <a:lnTo>
                    <a:pt x="888" y="112"/>
                  </a:lnTo>
                  <a:lnTo>
                    <a:pt x="837" y="55"/>
                  </a:lnTo>
                  <a:lnTo>
                    <a:pt x="777" y="18"/>
                  </a:lnTo>
                  <a:lnTo>
                    <a:pt x="711" y="6"/>
                  </a:lnTo>
                  <a:lnTo>
                    <a:pt x="615" y="0"/>
                  </a:lnTo>
                  <a:lnTo>
                    <a:pt x="561" y="9"/>
                  </a:lnTo>
                  <a:lnTo>
                    <a:pt x="474" y="27"/>
                  </a:lnTo>
                  <a:lnTo>
                    <a:pt x="390" y="55"/>
                  </a:lnTo>
                  <a:lnTo>
                    <a:pt x="318" y="85"/>
                  </a:lnTo>
                  <a:lnTo>
                    <a:pt x="240" y="118"/>
                  </a:lnTo>
                  <a:lnTo>
                    <a:pt x="192" y="142"/>
                  </a:lnTo>
                  <a:lnTo>
                    <a:pt x="144" y="170"/>
                  </a:lnTo>
                  <a:lnTo>
                    <a:pt x="138" y="206"/>
                  </a:lnTo>
                  <a:lnTo>
                    <a:pt x="150" y="224"/>
                  </a:lnTo>
                  <a:lnTo>
                    <a:pt x="180" y="233"/>
                  </a:lnTo>
                  <a:lnTo>
                    <a:pt x="228" y="194"/>
                  </a:lnTo>
                  <a:lnTo>
                    <a:pt x="282" y="167"/>
                  </a:lnTo>
                  <a:lnTo>
                    <a:pt x="357" y="139"/>
                  </a:lnTo>
                  <a:lnTo>
                    <a:pt x="417" y="121"/>
                  </a:lnTo>
                  <a:lnTo>
                    <a:pt x="459" y="115"/>
                  </a:lnTo>
                  <a:lnTo>
                    <a:pt x="540" y="112"/>
                  </a:lnTo>
                  <a:lnTo>
                    <a:pt x="591" y="127"/>
                  </a:lnTo>
                  <a:lnTo>
                    <a:pt x="645" y="158"/>
                  </a:lnTo>
                  <a:lnTo>
                    <a:pt x="684" y="206"/>
                  </a:lnTo>
                  <a:lnTo>
                    <a:pt x="705" y="260"/>
                  </a:lnTo>
                  <a:lnTo>
                    <a:pt x="717" y="363"/>
                  </a:lnTo>
                  <a:lnTo>
                    <a:pt x="711" y="454"/>
                  </a:lnTo>
                  <a:lnTo>
                    <a:pt x="705" y="515"/>
                  </a:lnTo>
                  <a:lnTo>
                    <a:pt x="690" y="551"/>
                  </a:lnTo>
                  <a:lnTo>
                    <a:pt x="642" y="521"/>
                  </a:lnTo>
                  <a:lnTo>
                    <a:pt x="594" y="497"/>
                  </a:lnTo>
                  <a:lnTo>
                    <a:pt x="561" y="485"/>
                  </a:lnTo>
                  <a:lnTo>
                    <a:pt x="513" y="469"/>
                  </a:lnTo>
                  <a:lnTo>
                    <a:pt x="468" y="466"/>
                  </a:lnTo>
                  <a:lnTo>
                    <a:pt x="450" y="488"/>
                  </a:lnTo>
                  <a:lnTo>
                    <a:pt x="411" y="524"/>
                  </a:lnTo>
                  <a:lnTo>
                    <a:pt x="384" y="548"/>
                  </a:lnTo>
                  <a:lnTo>
                    <a:pt x="363" y="569"/>
                  </a:lnTo>
                  <a:lnTo>
                    <a:pt x="336" y="600"/>
                  </a:lnTo>
                  <a:lnTo>
                    <a:pt x="332" y="614"/>
                  </a:lnTo>
                  <a:lnTo>
                    <a:pt x="348" y="621"/>
                  </a:lnTo>
                  <a:cubicBezTo>
                    <a:pt x="357" y="623"/>
                    <a:pt x="389" y="633"/>
                    <a:pt x="405" y="633"/>
                  </a:cubicBezTo>
                  <a:lnTo>
                    <a:pt x="438" y="639"/>
                  </a:lnTo>
                  <a:lnTo>
                    <a:pt x="474" y="645"/>
                  </a:lnTo>
                  <a:lnTo>
                    <a:pt x="498" y="657"/>
                  </a:lnTo>
                  <a:lnTo>
                    <a:pt x="522" y="663"/>
                  </a:lnTo>
                  <a:lnTo>
                    <a:pt x="528" y="681"/>
                  </a:lnTo>
                  <a:lnTo>
                    <a:pt x="495" y="691"/>
                  </a:lnTo>
                  <a:lnTo>
                    <a:pt x="438" y="694"/>
                  </a:lnTo>
                  <a:lnTo>
                    <a:pt x="345" y="694"/>
                  </a:lnTo>
                  <a:lnTo>
                    <a:pt x="303" y="681"/>
                  </a:lnTo>
                  <a:lnTo>
                    <a:pt x="262" y="670"/>
                  </a:lnTo>
                  <a:lnTo>
                    <a:pt x="216" y="646"/>
                  </a:lnTo>
                  <a:lnTo>
                    <a:pt x="184" y="618"/>
                  </a:lnTo>
                  <a:lnTo>
                    <a:pt x="152" y="578"/>
                  </a:lnTo>
                  <a:lnTo>
                    <a:pt x="128" y="532"/>
                  </a:lnTo>
                  <a:lnTo>
                    <a:pt x="120" y="500"/>
                  </a:lnTo>
                  <a:lnTo>
                    <a:pt x="120" y="473"/>
                  </a:lnTo>
                  <a:lnTo>
                    <a:pt x="126" y="448"/>
                  </a:lnTo>
                  <a:lnTo>
                    <a:pt x="146" y="410"/>
                  </a:lnTo>
                  <a:lnTo>
                    <a:pt x="210" y="345"/>
                  </a:lnTo>
                  <a:lnTo>
                    <a:pt x="267" y="306"/>
                  </a:lnTo>
                  <a:lnTo>
                    <a:pt x="357" y="248"/>
                  </a:lnTo>
                  <a:lnTo>
                    <a:pt x="399" y="230"/>
                  </a:lnTo>
                  <a:lnTo>
                    <a:pt x="423" y="218"/>
                  </a:lnTo>
                  <a:lnTo>
                    <a:pt x="423" y="185"/>
                  </a:lnTo>
                  <a:lnTo>
                    <a:pt x="418" y="168"/>
                  </a:lnTo>
                  <a:lnTo>
                    <a:pt x="408" y="167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294160" y="536400"/>
              <a:ext cx="361080" cy="333000"/>
            </a:xfrm>
            <a:custGeom>
              <a:avLst/>
              <a:gdLst/>
              <a:ahLst/>
              <a:rect l="l" t="t" r="r" b="b"/>
              <a:pathLst>
                <a:path w="909" h="839">
                  <a:moveTo>
                    <a:pt x="408" y="167"/>
                  </a:moveTo>
                  <a:lnTo>
                    <a:pt x="324" y="194"/>
                  </a:lnTo>
                  <a:lnTo>
                    <a:pt x="231" y="242"/>
                  </a:lnTo>
                  <a:lnTo>
                    <a:pt x="147" y="309"/>
                  </a:lnTo>
                  <a:lnTo>
                    <a:pt x="93" y="366"/>
                  </a:lnTo>
                  <a:lnTo>
                    <a:pt x="54" y="430"/>
                  </a:lnTo>
                  <a:lnTo>
                    <a:pt x="32" y="468"/>
                  </a:lnTo>
                  <a:lnTo>
                    <a:pt x="18" y="509"/>
                  </a:lnTo>
                  <a:lnTo>
                    <a:pt x="3" y="566"/>
                  </a:lnTo>
                  <a:lnTo>
                    <a:pt x="0" y="624"/>
                  </a:lnTo>
                  <a:lnTo>
                    <a:pt x="3" y="678"/>
                  </a:lnTo>
                  <a:lnTo>
                    <a:pt x="27" y="727"/>
                  </a:lnTo>
                  <a:lnTo>
                    <a:pt x="69" y="778"/>
                  </a:lnTo>
                  <a:lnTo>
                    <a:pt x="135" y="818"/>
                  </a:lnTo>
                  <a:lnTo>
                    <a:pt x="198" y="833"/>
                  </a:lnTo>
                  <a:lnTo>
                    <a:pt x="249" y="839"/>
                  </a:lnTo>
                  <a:lnTo>
                    <a:pt x="303" y="833"/>
                  </a:lnTo>
                  <a:lnTo>
                    <a:pt x="399" y="815"/>
                  </a:lnTo>
                  <a:lnTo>
                    <a:pt x="477" y="784"/>
                  </a:lnTo>
                  <a:lnTo>
                    <a:pt x="555" y="751"/>
                  </a:lnTo>
                  <a:lnTo>
                    <a:pt x="600" y="724"/>
                  </a:lnTo>
                  <a:lnTo>
                    <a:pt x="666" y="745"/>
                  </a:lnTo>
                  <a:lnTo>
                    <a:pt x="694" y="768"/>
                  </a:lnTo>
                  <a:lnTo>
                    <a:pt x="714" y="791"/>
                  </a:lnTo>
                  <a:lnTo>
                    <a:pt x="747" y="821"/>
                  </a:lnTo>
                  <a:lnTo>
                    <a:pt x="786" y="797"/>
                  </a:lnTo>
                  <a:lnTo>
                    <a:pt x="819" y="733"/>
                  </a:lnTo>
                  <a:lnTo>
                    <a:pt x="828" y="706"/>
                  </a:lnTo>
                  <a:lnTo>
                    <a:pt x="813" y="672"/>
                  </a:lnTo>
                  <a:lnTo>
                    <a:pt x="777" y="639"/>
                  </a:lnTo>
                  <a:lnTo>
                    <a:pt x="738" y="612"/>
                  </a:lnTo>
                  <a:lnTo>
                    <a:pt x="783" y="551"/>
                  </a:lnTo>
                  <a:lnTo>
                    <a:pt x="816" y="506"/>
                  </a:lnTo>
                  <a:lnTo>
                    <a:pt x="837" y="466"/>
                  </a:lnTo>
                  <a:lnTo>
                    <a:pt x="867" y="415"/>
                  </a:lnTo>
                  <a:lnTo>
                    <a:pt x="888" y="354"/>
                  </a:lnTo>
                  <a:lnTo>
                    <a:pt x="903" y="303"/>
                  </a:lnTo>
                  <a:lnTo>
                    <a:pt x="909" y="233"/>
                  </a:lnTo>
                  <a:lnTo>
                    <a:pt x="909" y="179"/>
                  </a:lnTo>
                  <a:lnTo>
                    <a:pt x="888" y="112"/>
                  </a:lnTo>
                  <a:lnTo>
                    <a:pt x="837" y="55"/>
                  </a:lnTo>
                  <a:lnTo>
                    <a:pt x="777" y="18"/>
                  </a:lnTo>
                  <a:lnTo>
                    <a:pt x="711" y="6"/>
                  </a:lnTo>
                  <a:lnTo>
                    <a:pt x="615" y="0"/>
                  </a:lnTo>
                  <a:lnTo>
                    <a:pt x="561" y="9"/>
                  </a:lnTo>
                  <a:lnTo>
                    <a:pt x="474" y="27"/>
                  </a:lnTo>
                  <a:lnTo>
                    <a:pt x="390" y="55"/>
                  </a:lnTo>
                  <a:lnTo>
                    <a:pt x="318" y="85"/>
                  </a:lnTo>
                  <a:lnTo>
                    <a:pt x="240" y="118"/>
                  </a:lnTo>
                  <a:lnTo>
                    <a:pt x="192" y="142"/>
                  </a:lnTo>
                  <a:lnTo>
                    <a:pt x="144" y="170"/>
                  </a:lnTo>
                  <a:lnTo>
                    <a:pt x="138" y="206"/>
                  </a:lnTo>
                  <a:lnTo>
                    <a:pt x="150" y="224"/>
                  </a:lnTo>
                  <a:lnTo>
                    <a:pt x="180" y="233"/>
                  </a:lnTo>
                  <a:lnTo>
                    <a:pt x="228" y="194"/>
                  </a:lnTo>
                  <a:lnTo>
                    <a:pt x="282" y="167"/>
                  </a:lnTo>
                  <a:lnTo>
                    <a:pt x="357" y="139"/>
                  </a:lnTo>
                  <a:lnTo>
                    <a:pt x="417" y="121"/>
                  </a:lnTo>
                  <a:lnTo>
                    <a:pt x="459" y="115"/>
                  </a:lnTo>
                  <a:lnTo>
                    <a:pt x="540" y="112"/>
                  </a:lnTo>
                  <a:lnTo>
                    <a:pt x="591" y="127"/>
                  </a:lnTo>
                  <a:lnTo>
                    <a:pt x="645" y="158"/>
                  </a:lnTo>
                  <a:lnTo>
                    <a:pt x="684" y="206"/>
                  </a:lnTo>
                  <a:lnTo>
                    <a:pt x="705" y="260"/>
                  </a:lnTo>
                  <a:lnTo>
                    <a:pt x="717" y="363"/>
                  </a:lnTo>
                  <a:lnTo>
                    <a:pt x="711" y="454"/>
                  </a:lnTo>
                  <a:lnTo>
                    <a:pt x="705" y="515"/>
                  </a:lnTo>
                  <a:lnTo>
                    <a:pt x="690" y="551"/>
                  </a:lnTo>
                  <a:lnTo>
                    <a:pt x="642" y="521"/>
                  </a:lnTo>
                  <a:lnTo>
                    <a:pt x="594" y="497"/>
                  </a:lnTo>
                  <a:lnTo>
                    <a:pt x="561" y="485"/>
                  </a:lnTo>
                  <a:lnTo>
                    <a:pt x="513" y="469"/>
                  </a:lnTo>
                  <a:lnTo>
                    <a:pt x="468" y="466"/>
                  </a:lnTo>
                  <a:lnTo>
                    <a:pt x="450" y="488"/>
                  </a:lnTo>
                  <a:lnTo>
                    <a:pt x="411" y="524"/>
                  </a:lnTo>
                  <a:lnTo>
                    <a:pt x="384" y="548"/>
                  </a:lnTo>
                  <a:lnTo>
                    <a:pt x="363" y="569"/>
                  </a:lnTo>
                  <a:lnTo>
                    <a:pt x="336" y="600"/>
                  </a:lnTo>
                  <a:lnTo>
                    <a:pt x="332" y="614"/>
                  </a:lnTo>
                  <a:lnTo>
                    <a:pt x="348" y="621"/>
                  </a:lnTo>
                  <a:cubicBezTo>
                    <a:pt x="357" y="623"/>
                    <a:pt x="389" y="633"/>
                    <a:pt x="405" y="633"/>
                  </a:cubicBezTo>
                  <a:lnTo>
                    <a:pt x="438" y="639"/>
                  </a:lnTo>
                  <a:lnTo>
                    <a:pt x="474" y="645"/>
                  </a:lnTo>
                  <a:lnTo>
                    <a:pt x="498" y="657"/>
                  </a:lnTo>
                  <a:lnTo>
                    <a:pt x="522" y="663"/>
                  </a:lnTo>
                  <a:lnTo>
                    <a:pt x="528" y="681"/>
                  </a:lnTo>
                  <a:lnTo>
                    <a:pt x="495" y="691"/>
                  </a:lnTo>
                  <a:lnTo>
                    <a:pt x="438" y="694"/>
                  </a:lnTo>
                  <a:lnTo>
                    <a:pt x="345" y="694"/>
                  </a:lnTo>
                  <a:lnTo>
                    <a:pt x="303" y="681"/>
                  </a:lnTo>
                  <a:lnTo>
                    <a:pt x="262" y="670"/>
                  </a:lnTo>
                  <a:lnTo>
                    <a:pt x="216" y="646"/>
                  </a:lnTo>
                  <a:lnTo>
                    <a:pt x="184" y="618"/>
                  </a:lnTo>
                  <a:lnTo>
                    <a:pt x="152" y="578"/>
                  </a:lnTo>
                  <a:lnTo>
                    <a:pt x="128" y="532"/>
                  </a:lnTo>
                  <a:lnTo>
                    <a:pt x="120" y="500"/>
                  </a:lnTo>
                  <a:lnTo>
                    <a:pt x="120" y="473"/>
                  </a:lnTo>
                  <a:lnTo>
                    <a:pt x="126" y="448"/>
                  </a:lnTo>
                  <a:lnTo>
                    <a:pt x="146" y="410"/>
                  </a:lnTo>
                  <a:lnTo>
                    <a:pt x="210" y="345"/>
                  </a:lnTo>
                  <a:lnTo>
                    <a:pt x="267" y="306"/>
                  </a:lnTo>
                  <a:lnTo>
                    <a:pt x="357" y="248"/>
                  </a:lnTo>
                  <a:lnTo>
                    <a:pt x="399" y="230"/>
                  </a:lnTo>
                  <a:lnTo>
                    <a:pt x="423" y="218"/>
                  </a:lnTo>
                  <a:lnTo>
                    <a:pt x="423" y="185"/>
                  </a:lnTo>
                  <a:lnTo>
                    <a:pt x="418" y="168"/>
                  </a:lnTo>
                  <a:lnTo>
                    <a:pt x="408" y="167"/>
                  </a:lnTo>
                  <a:close/>
                </a:path>
              </a:pathLst>
            </a:custGeom>
            <a:solidFill>
              <a:srgbClr val="fc8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"/>
          <p:cNvSpPr/>
          <p:nvPr/>
        </p:nvSpPr>
        <p:spPr>
          <a:xfrm>
            <a:off x="1415880" y="422280"/>
            <a:ext cx="77788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surement Principle:    -fact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030480" y="1569960"/>
            <a:ext cx="325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030480" y="1335240"/>
            <a:ext cx="325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986120" y="1025640"/>
            <a:ext cx="71578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l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rect BER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5000"/>
              </a:lnSpc>
              <a:spcBef>
                <a:spcPts val="349"/>
              </a:spcBef>
              <a:buClr>
                <a:srgbClr val="000000"/>
              </a:buClr>
              <a:buFont typeface="Monotype Sorts" charset="2"/>
              <a:buChar char="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surement of electrical signal to noise ratio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ed at the input of a reference receiver (like BER measureme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70040" y="5065560"/>
            <a:ext cx="13273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7" name="" descr=""/>
          <p:cNvPicPr/>
          <p:nvPr/>
        </p:nvPicPr>
        <p:blipFill>
          <a:blip r:embed="rId1"/>
          <a:stretch/>
        </p:blipFill>
        <p:spPr>
          <a:xfrm>
            <a:off x="2889360" y="3032280"/>
            <a:ext cx="3363840" cy="2600280"/>
          </a:xfrm>
          <a:prstGeom prst="rect">
            <a:avLst/>
          </a:prstGeom>
          <a:ln w="0">
            <a:noFill/>
          </a:ln>
        </p:spPr>
      </p:pic>
      <p:grpSp>
        <p:nvGrpSpPr>
          <p:cNvPr id="1628" name=""/>
          <p:cNvGrpSpPr/>
          <p:nvPr/>
        </p:nvGrpSpPr>
        <p:grpSpPr>
          <a:xfrm>
            <a:off x="3758760" y="4002120"/>
            <a:ext cx="1350000" cy="665280"/>
            <a:chOff x="3758760" y="4002120"/>
            <a:chExt cx="1350000" cy="665280"/>
          </a:xfrm>
        </p:grpSpPr>
        <p:sp>
          <p:nvSpPr>
            <p:cNvPr id="1629" name=""/>
            <p:cNvSpPr/>
            <p:nvPr/>
          </p:nvSpPr>
          <p:spPr>
            <a:xfrm>
              <a:off x="4226040" y="4329000"/>
              <a:ext cx="7779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030280" y="4249800"/>
              <a:ext cx="7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030280" y="4146480"/>
              <a:ext cx="7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030280" y="4392720"/>
              <a:ext cx="7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030280" y="4002120"/>
              <a:ext cx="7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125600" y="4249800"/>
              <a:ext cx="7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125600" y="4146480"/>
              <a:ext cx="7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125600" y="4392720"/>
              <a:ext cx="7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125600" y="4002120"/>
              <a:ext cx="7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545000" y="433404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575600" y="40179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940560" y="4159440"/>
              <a:ext cx="18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831920" y="4494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443120" y="4494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827240" y="417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444560" y="417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947840" y="4040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227120" y="4040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758760" y="418140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683240" y="4334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299120" y="4334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700520" y="401796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322880" y="401796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3416400" y="5799240"/>
            <a:ext cx="1360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900840" y="2698920"/>
            <a:ext cx="134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t. distrib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4" name=""/>
          <p:cNvGrpSpPr/>
          <p:nvPr/>
        </p:nvGrpSpPr>
        <p:grpSpPr>
          <a:xfrm>
            <a:off x="6843600" y="534960"/>
            <a:ext cx="371520" cy="335160"/>
            <a:chOff x="6843600" y="534960"/>
            <a:chExt cx="371520" cy="335160"/>
          </a:xfrm>
        </p:grpSpPr>
        <p:sp>
          <p:nvSpPr>
            <p:cNvPr id="1655" name=""/>
            <p:cNvSpPr/>
            <p:nvPr/>
          </p:nvSpPr>
          <p:spPr>
            <a:xfrm>
              <a:off x="6853680" y="537120"/>
              <a:ext cx="361440" cy="333000"/>
            </a:xfrm>
            <a:custGeom>
              <a:avLst/>
              <a:gdLst/>
              <a:ahLst/>
              <a:rect l="l" t="t" r="r" b="b"/>
              <a:pathLst>
                <a:path w="909" h="839">
                  <a:moveTo>
                    <a:pt x="408" y="167"/>
                  </a:moveTo>
                  <a:lnTo>
                    <a:pt x="324" y="194"/>
                  </a:lnTo>
                  <a:lnTo>
                    <a:pt x="231" y="242"/>
                  </a:lnTo>
                  <a:lnTo>
                    <a:pt x="147" y="309"/>
                  </a:lnTo>
                  <a:lnTo>
                    <a:pt x="93" y="366"/>
                  </a:lnTo>
                  <a:lnTo>
                    <a:pt x="54" y="430"/>
                  </a:lnTo>
                  <a:lnTo>
                    <a:pt x="32" y="468"/>
                  </a:lnTo>
                  <a:lnTo>
                    <a:pt x="18" y="509"/>
                  </a:lnTo>
                  <a:lnTo>
                    <a:pt x="3" y="566"/>
                  </a:lnTo>
                  <a:lnTo>
                    <a:pt x="0" y="624"/>
                  </a:lnTo>
                  <a:lnTo>
                    <a:pt x="3" y="678"/>
                  </a:lnTo>
                  <a:lnTo>
                    <a:pt x="27" y="727"/>
                  </a:lnTo>
                  <a:lnTo>
                    <a:pt x="69" y="778"/>
                  </a:lnTo>
                  <a:lnTo>
                    <a:pt x="135" y="818"/>
                  </a:lnTo>
                  <a:lnTo>
                    <a:pt x="198" y="833"/>
                  </a:lnTo>
                  <a:lnTo>
                    <a:pt x="249" y="839"/>
                  </a:lnTo>
                  <a:lnTo>
                    <a:pt x="303" y="833"/>
                  </a:lnTo>
                  <a:lnTo>
                    <a:pt x="399" y="815"/>
                  </a:lnTo>
                  <a:lnTo>
                    <a:pt x="477" y="784"/>
                  </a:lnTo>
                  <a:lnTo>
                    <a:pt x="555" y="751"/>
                  </a:lnTo>
                  <a:lnTo>
                    <a:pt x="600" y="724"/>
                  </a:lnTo>
                  <a:lnTo>
                    <a:pt x="666" y="745"/>
                  </a:lnTo>
                  <a:lnTo>
                    <a:pt x="694" y="768"/>
                  </a:lnTo>
                  <a:lnTo>
                    <a:pt x="714" y="791"/>
                  </a:lnTo>
                  <a:lnTo>
                    <a:pt x="747" y="821"/>
                  </a:lnTo>
                  <a:lnTo>
                    <a:pt x="786" y="797"/>
                  </a:lnTo>
                  <a:lnTo>
                    <a:pt x="819" y="733"/>
                  </a:lnTo>
                  <a:lnTo>
                    <a:pt x="828" y="706"/>
                  </a:lnTo>
                  <a:lnTo>
                    <a:pt x="813" y="672"/>
                  </a:lnTo>
                  <a:lnTo>
                    <a:pt x="777" y="639"/>
                  </a:lnTo>
                  <a:lnTo>
                    <a:pt x="738" y="612"/>
                  </a:lnTo>
                  <a:lnTo>
                    <a:pt x="783" y="551"/>
                  </a:lnTo>
                  <a:lnTo>
                    <a:pt x="816" y="506"/>
                  </a:lnTo>
                  <a:lnTo>
                    <a:pt x="837" y="466"/>
                  </a:lnTo>
                  <a:lnTo>
                    <a:pt x="867" y="415"/>
                  </a:lnTo>
                  <a:lnTo>
                    <a:pt x="888" y="354"/>
                  </a:lnTo>
                  <a:lnTo>
                    <a:pt x="903" y="303"/>
                  </a:lnTo>
                  <a:lnTo>
                    <a:pt x="909" y="233"/>
                  </a:lnTo>
                  <a:lnTo>
                    <a:pt x="909" y="179"/>
                  </a:lnTo>
                  <a:lnTo>
                    <a:pt x="888" y="112"/>
                  </a:lnTo>
                  <a:lnTo>
                    <a:pt x="837" y="55"/>
                  </a:lnTo>
                  <a:lnTo>
                    <a:pt x="777" y="18"/>
                  </a:lnTo>
                  <a:lnTo>
                    <a:pt x="711" y="6"/>
                  </a:lnTo>
                  <a:lnTo>
                    <a:pt x="615" y="0"/>
                  </a:lnTo>
                  <a:lnTo>
                    <a:pt x="561" y="9"/>
                  </a:lnTo>
                  <a:lnTo>
                    <a:pt x="474" y="27"/>
                  </a:lnTo>
                  <a:lnTo>
                    <a:pt x="390" y="55"/>
                  </a:lnTo>
                  <a:lnTo>
                    <a:pt x="318" y="85"/>
                  </a:lnTo>
                  <a:lnTo>
                    <a:pt x="240" y="118"/>
                  </a:lnTo>
                  <a:lnTo>
                    <a:pt x="192" y="142"/>
                  </a:lnTo>
                  <a:lnTo>
                    <a:pt x="144" y="170"/>
                  </a:lnTo>
                  <a:lnTo>
                    <a:pt x="138" y="206"/>
                  </a:lnTo>
                  <a:lnTo>
                    <a:pt x="150" y="224"/>
                  </a:lnTo>
                  <a:lnTo>
                    <a:pt x="180" y="233"/>
                  </a:lnTo>
                  <a:lnTo>
                    <a:pt x="228" y="194"/>
                  </a:lnTo>
                  <a:lnTo>
                    <a:pt x="282" y="167"/>
                  </a:lnTo>
                  <a:lnTo>
                    <a:pt x="357" y="139"/>
                  </a:lnTo>
                  <a:lnTo>
                    <a:pt x="417" y="121"/>
                  </a:lnTo>
                  <a:lnTo>
                    <a:pt x="459" y="115"/>
                  </a:lnTo>
                  <a:lnTo>
                    <a:pt x="540" y="112"/>
                  </a:lnTo>
                  <a:lnTo>
                    <a:pt x="591" y="127"/>
                  </a:lnTo>
                  <a:lnTo>
                    <a:pt x="645" y="158"/>
                  </a:lnTo>
                  <a:lnTo>
                    <a:pt x="684" y="206"/>
                  </a:lnTo>
                  <a:lnTo>
                    <a:pt x="705" y="260"/>
                  </a:lnTo>
                  <a:lnTo>
                    <a:pt x="717" y="363"/>
                  </a:lnTo>
                  <a:lnTo>
                    <a:pt x="711" y="454"/>
                  </a:lnTo>
                  <a:lnTo>
                    <a:pt x="705" y="515"/>
                  </a:lnTo>
                  <a:lnTo>
                    <a:pt x="690" y="551"/>
                  </a:lnTo>
                  <a:lnTo>
                    <a:pt x="642" y="521"/>
                  </a:lnTo>
                  <a:lnTo>
                    <a:pt x="594" y="497"/>
                  </a:lnTo>
                  <a:lnTo>
                    <a:pt x="561" y="485"/>
                  </a:lnTo>
                  <a:lnTo>
                    <a:pt x="513" y="469"/>
                  </a:lnTo>
                  <a:lnTo>
                    <a:pt x="468" y="466"/>
                  </a:lnTo>
                  <a:lnTo>
                    <a:pt x="450" y="488"/>
                  </a:lnTo>
                  <a:lnTo>
                    <a:pt x="411" y="524"/>
                  </a:lnTo>
                  <a:lnTo>
                    <a:pt x="384" y="548"/>
                  </a:lnTo>
                  <a:lnTo>
                    <a:pt x="363" y="569"/>
                  </a:lnTo>
                  <a:lnTo>
                    <a:pt x="336" y="600"/>
                  </a:lnTo>
                  <a:lnTo>
                    <a:pt x="332" y="614"/>
                  </a:lnTo>
                  <a:lnTo>
                    <a:pt x="348" y="621"/>
                  </a:lnTo>
                  <a:cubicBezTo>
                    <a:pt x="357" y="623"/>
                    <a:pt x="389" y="633"/>
                    <a:pt x="405" y="633"/>
                  </a:cubicBezTo>
                  <a:lnTo>
                    <a:pt x="438" y="639"/>
                  </a:lnTo>
                  <a:lnTo>
                    <a:pt x="474" y="645"/>
                  </a:lnTo>
                  <a:lnTo>
                    <a:pt x="498" y="657"/>
                  </a:lnTo>
                  <a:lnTo>
                    <a:pt x="522" y="663"/>
                  </a:lnTo>
                  <a:lnTo>
                    <a:pt x="528" y="681"/>
                  </a:lnTo>
                  <a:lnTo>
                    <a:pt x="495" y="691"/>
                  </a:lnTo>
                  <a:lnTo>
                    <a:pt x="438" y="694"/>
                  </a:lnTo>
                  <a:lnTo>
                    <a:pt x="345" y="694"/>
                  </a:lnTo>
                  <a:lnTo>
                    <a:pt x="303" y="681"/>
                  </a:lnTo>
                  <a:lnTo>
                    <a:pt x="262" y="670"/>
                  </a:lnTo>
                  <a:lnTo>
                    <a:pt x="216" y="646"/>
                  </a:lnTo>
                  <a:lnTo>
                    <a:pt x="184" y="618"/>
                  </a:lnTo>
                  <a:lnTo>
                    <a:pt x="152" y="578"/>
                  </a:lnTo>
                  <a:lnTo>
                    <a:pt x="128" y="532"/>
                  </a:lnTo>
                  <a:lnTo>
                    <a:pt x="120" y="500"/>
                  </a:lnTo>
                  <a:lnTo>
                    <a:pt x="120" y="473"/>
                  </a:lnTo>
                  <a:lnTo>
                    <a:pt x="126" y="448"/>
                  </a:lnTo>
                  <a:lnTo>
                    <a:pt x="146" y="410"/>
                  </a:lnTo>
                  <a:lnTo>
                    <a:pt x="210" y="345"/>
                  </a:lnTo>
                  <a:lnTo>
                    <a:pt x="267" y="306"/>
                  </a:lnTo>
                  <a:lnTo>
                    <a:pt x="357" y="248"/>
                  </a:lnTo>
                  <a:lnTo>
                    <a:pt x="399" y="230"/>
                  </a:lnTo>
                  <a:lnTo>
                    <a:pt x="423" y="218"/>
                  </a:lnTo>
                  <a:lnTo>
                    <a:pt x="423" y="185"/>
                  </a:lnTo>
                  <a:lnTo>
                    <a:pt x="418" y="168"/>
                  </a:lnTo>
                  <a:lnTo>
                    <a:pt x="408" y="167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843600" y="534960"/>
              <a:ext cx="361080" cy="333000"/>
            </a:xfrm>
            <a:custGeom>
              <a:avLst/>
              <a:gdLst/>
              <a:ahLst/>
              <a:rect l="l" t="t" r="r" b="b"/>
              <a:pathLst>
                <a:path w="909" h="839">
                  <a:moveTo>
                    <a:pt x="408" y="167"/>
                  </a:moveTo>
                  <a:lnTo>
                    <a:pt x="324" y="194"/>
                  </a:lnTo>
                  <a:lnTo>
                    <a:pt x="231" y="242"/>
                  </a:lnTo>
                  <a:lnTo>
                    <a:pt x="147" y="309"/>
                  </a:lnTo>
                  <a:lnTo>
                    <a:pt x="93" y="366"/>
                  </a:lnTo>
                  <a:lnTo>
                    <a:pt x="54" y="430"/>
                  </a:lnTo>
                  <a:lnTo>
                    <a:pt x="32" y="468"/>
                  </a:lnTo>
                  <a:lnTo>
                    <a:pt x="18" y="509"/>
                  </a:lnTo>
                  <a:lnTo>
                    <a:pt x="3" y="566"/>
                  </a:lnTo>
                  <a:lnTo>
                    <a:pt x="0" y="624"/>
                  </a:lnTo>
                  <a:lnTo>
                    <a:pt x="3" y="678"/>
                  </a:lnTo>
                  <a:lnTo>
                    <a:pt x="27" y="727"/>
                  </a:lnTo>
                  <a:lnTo>
                    <a:pt x="69" y="778"/>
                  </a:lnTo>
                  <a:lnTo>
                    <a:pt x="135" y="818"/>
                  </a:lnTo>
                  <a:lnTo>
                    <a:pt x="198" y="833"/>
                  </a:lnTo>
                  <a:lnTo>
                    <a:pt x="249" y="839"/>
                  </a:lnTo>
                  <a:lnTo>
                    <a:pt x="303" y="833"/>
                  </a:lnTo>
                  <a:lnTo>
                    <a:pt x="399" y="815"/>
                  </a:lnTo>
                  <a:lnTo>
                    <a:pt x="477" y="784"/>
                  </a:lnTo>
                  <a:lnTo>
                    <a:pt x="555" y="751"/>
                  </a:lnTo>
                  <a:lnTo>
                    <a:pt x="600" y="724"/>
                  </a:lnTo>
                  <a:lnTo>
                    <a:pt x="666" y="745"/>
                  </a:lnTo>
                  <a:lnTo>
                    <a:pt x="694" y="768"/>
                  </a:lnTo>
                  <a:lnTo>
                    <a:pt x="714" y="791"/>
                  </a:lnTo>
                  <a:lnTo>
                    <a:pt x="747" y="821"/>
                  </a:lnTo>
                  <a:lnTo>
                    <a:pt x="786" y="797"/>
                  </a:lnTo>
                  <a:lnTo>
                    <a:pt x="819" y="733"/>
                  </a:lnTo>
                  <a:lnTo>
                    <a:pt x="828" y="706"/>
                  </a:lnTo>
                  <a:lnTo>
                    <a:pt x="813" y="672"/>
                  </a:lnTo>
                  <a:lnTo>
                    <a:pt x="777" y="639"/>
                  </a:lnTo>
                  <a:lnTo>
                    <a:pt x="738" y="612"/>
                  </a:lnTo>
                  <a:lnTo>
                    <a:pt x="783" y="551"/>
                  </a:lnTo>
                  <a:lnTo>
                    <a:pt x="816" y="506"/>
                  </a:lnTo>
                  <a:lnTo>
                    <a:pt x="837" y="466"/>
                  </a:lnTo>
                  <a:lnTo>
                    <a:pt x="867" y="415"/>
                  </a:lnTo>
                  <a:lnTo>
                    <a:pt x="888" y="354"/>
                  </a:lnTo>
                  <a:lnTo>
                    <a:pt x="903" y="303"/>
                  </a:lnTo>
                  <a:lnTo>
                    <a:pt x="909" y="233"/>
                  </a:lnTo>
                  <a:lnTo>
                    <a:pt x="909" y="179"/>
                  </a:lnTo>
                  <a:lnTo>
                    <a:pt x="888" y="112"/>
                  </a:lnTo>
                  <a:lnTo>
                    <a:pt x="837" y="55"/>
                  </a:lnTo>
                  <a:lnTo>
                    <a:pt x="777" y="18"/>
                  </a:lnTo>
                  <a:lnTo>
                    <a:pt x="711" y="6"/>
                  </a:lnTo>
                  <a:lnTo>
                    <a:pt x="615" y="0"/>
                  </a:lnTo>
                  <a:lnTo>
                    <a:pt x="561" y="9"/>
                  </a:lnTo>
                  <a:lnTo>
                    <a:pt x="474" y="27"/>
                  </a:lnTo>
                  <a:lnTo>
                    <a:pt x="390" y="55"/>
                  </a:lnTo>
                  <a:lnTo>
                    <a:pt x="318" y="85"/>
                  </a:lnTo>
                  <a:lnTo>
                    <a:pt x="240" y="118"/>
                  </a:lnTo>
                  <a:lnTo>
                    <a:pt x="192" y="142"/>
                  </a:lnTo>
                  <a:lnTo>
                    <a:pt x="144" y="170"/>
                  </a:lnTo>
                  <a:lnTo>
                    <a:pt x="138" y="206"/>
                  </a:lnTo>
                  <a:lnTo>
                    <a:pt x="150" y="224"/>
                  </a:lnTo>
                  <a:lnTo>
                    <a:pt x="180" y="233"/>
                  </a:lnTo>
                  <a:lnTo>
                    <a:pt x="228" y="194"/>
                  </a:lnTo>
                  <a:lnTo>
                    <a:pt x="282" y="167"/>
                  </a:lnTo>
                  <a:lnTo>
                    <a:pt x="357" y="139"/>
                  </a:lnTo>
                  <a:lnTo>
                    <a:pt x="417" y="121"/>
                  </a:lnTo>
                  <a:lnTo>
                    <a:pt x="459" y="115"/>
                  </a:lnTo>
                  <a:lnTo>
                    <a:pt x="540" y="112"/>
                  </a:lnTo>
                  <a:lnTo>
                    <a:pt x="591" y="127"/>
                  </a:lnTo>
                  <a:lnTo>
                    <a:pt x="645" y="158"/>
                  </a:lnTo>
                  <a:lnTo>
                    <a:pt x="684" y="206"/>
                  </a:lnTo>
                  <a:lnTo>
                    <a:pt x="705" y="260"/>
                  </a:lnTo>
                  <a:lnTo>
                    <a:pt x="717" y="363"/>
                  </a:lnTo>
                  <a:lnTo>
                    <a:pt x="711" y="454"/>
                  </a:lnTo>
                  <a:lnTo>
                    <a:pt x="705" y="515"/>
                  </a:lnTo>
                  <a:lnTo>
                    <a:pt x="690" y="551"/>
                  </a:lnTo>
                  <a:lnTo>
                    <a:pt x="642" y="521"/>
                  </a:lnTo>
                  <a:lnTo>
                    <a:pt x="594" y="497"/>
                  </a:lnTo>
                  <a:lnTo>
                    <a:pt x="561" y="485"/>
                  </a:lnTo>
                  <a:lnTo>
                    <a:pt x="513" y="469"/>
                  </a:lnTo>
                  <a:lnTo>
                    <a:pt x="468" y="466"/>
                  </a:lnTo>
                  <a:lnTo>
                    <a:pt x="450" y="488"/>
                  </a:lnTo>
                  <a:lnTo>
                    <a:pt x="411" y="524"/>
                  </a:lnTo>
                  <a:lnTo>
                    <a:pt x="384" y="548"/>
                  </a:lnTo>
                  <a:lnTo>
                    <a:pt x="363" y="569"/>
                  </a:lnTo>
                  <a:lnTo>
                    <a:pt x="336" y="600"/>
                  </a:lnTo>
                  <a:lnTo>
                    <a:pt x="332" y="614"/>
                  </a:lnTo>
                  <a:lnTo>
                    <a:pt x="348" y="621"/>
                  </a:lnTo>
                  <a:cubicBezTo>
                    <a:pt x="357" y="623"/>
                    <a:pt x="389" y="633"/>
                    <a:pt x="405" y="633"/>
                  </a:cubicBezTo>
                  <a:lnTo>
                    <a:pt x="438" y="639"/>
                  </a:lnTo>
                  <a:lnTo>
                    <a:pt x="474" y="645"/>
                  </a:lnTo>
                  <a:lnTo>
                    <a:pt x="498" y="657"/>
                  </a:lnTo>
                  <a:lnTo>
                    <a:pt x="522" y="663"/>
                  </a:lnTo>
                  <a:lnTo>
                    <a:pt x="528" y="681"/>
                  </a:lnTo>
                  <a:lnTo>
                    <a:pt x="495" y="691"/>
                  </a:lnTo>
                  <a:lnTo>
                    <a:pt x="438" y="694"/>
                  </a:lnTo>
                  <a:lnTo>
                    <a:pt x="345" y="694"/>
                  </a:lnTo>
                  <a:lnTo>
                    <a:pt x="303" y="681"/>
                  </a:lnTo>
                  <a:lnTo>
                    <a:pt x="262" y="670"/>
                  </a:lnTo>
                  <a:lnTo>
                    <a:pt x="216" y="646"/>
                  </a:lnTo>
                  <a:lnTo>
                    <a:pt x="184" y="618"/>
                  </a:lnTo>
                  <a:lnTo>
                    <a:pt x="152" y="578"/>
                  </a:lnTo>
                  <a:lnTo>
                    <a:pt x="128" y="532"/>
                  </a:lnTo>
                  <a:lnTo>
                    <a:pt x="120" y="500"/>
                  </a:lnTo>
                  <a:lnTo>
                    <a:pt x="120" y="473"/>
                  </a:lnTo>
                  <a:lnTo>
                    <a:pt x="126" y="448"/>
                  </a:lnTo>
                  <a:lnTo>
                    <a:pt x="146" y="410"/>
                  </a:lnTo>
                  <a:lnTo>
                    <a:pt x="210" y="345"/>
                  </a:lnTo>
                  <a:lnTo>
                    <a:pt x="267" y="306"/>
                  </a:lnTo>
                  <a:lnTo>
                    <a:pt x="357" y="248"/>
                  </a:lnTo>
                  <a:lnTo>
                    <a:pt x="399" y="230"/>
                  </a:lnTo>
                  <a:lnTo>
                    <a:pt x="423" y="218"/>
                  </a:lnTo>
                  <a:lnTo>
                    <a:pt x="423" y="185"/>
                  </a:lnTo>
                  <a:lnTo>
                    <a:pt x="418" y="168"/>
                  </a:lnTo>
                  <a:lnTo>
                    <a:pt x="408" y="167"/>
                  </a:lnTo>
                  <a:close/>
                </a:path>
              </a:pathLst>
            </a:custGeom>
            <a:solidFill>
              <a:srgbClr val="fc8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7" name=""/>
          <p:cNvSpPr/>
          <p:nvPr/>
        </p:nvSpPr>
        <p:spPr>
          <a:xfrm>
            <a:off x="1986120" y="2436840"/>
            <a:ext cx="71578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349"/>
              </a:spcBef>
              <a:buClr>
                <a:srgbClr val="000000"/>
              </a:buClr>
              <a:buFont typeface="Monotype Sorts" charset="2"/>
              <a:buChar char="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ferent methods – Histogram and Pseudo-BER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chronous / asynchronous samp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1986120" y="1870200"/>
            <a:ext cx="7157880" cy="672840"/>
            <a:chOff x="1986120" y="1870200"/>
            <a:chExt cx="7157880" cy="672840"/>
          </a:xfrm>
        </p:grpSpPr>
        <p:grpSp>
          <p:nvGrpSpPr>
            <p:cNvPr id="1659" name=""/>
            <p:cNvGrpSpPr/>
            <p:nvPr/>
          </p:nvGrpSpPr>
          <p:grpSpPr>
            <a:xfrm>
              <a:off x="3803760" y="1898640"/>
              <a:ext cx="258120" cy="233280"/>
              <a:chOff x="3803760" y="1898640"/>
              <a:chExt cx="258120" cy="233280"/>
            </a:xfrm>
          </p:grpSpPr>
          <p:sp>
            <p:nvSpPr>
              <p:cNvPr id="1660" name=""/>
              <p:cNvSpPr/>
              <p:nvPr/>
            </p:nvSpPr>
            <p:spPr>
              <a:xfrm>
                <a:off x="3810600" y="1900080"/>
                <a:ext cx="251280" cy="231840"/>
              </a:xfrm>
              <a:custGeom>
                <a:avLst/>
                <a:gdLst/>
                <a:ahLst/>
                <a:rect l="l" t="t" r="r" b="b"/>
                <a:pathLst>
                  <a:path w="909" h="839">
                    <a:moveTo>
                      <a:pt x="408" y="167"/>
                    </a:moveTo>
                    <a:lnTo>
                      <a:pt x="324" y="194"/>
                    </a:lnTo>
                    <a:lnTo>
                      <a:pt x="231" y="242"/>
                    </a:lnTo>
                    <a:lnTo>
                      <a:pt x="147" y="309"/>
                    </a:lnTo>
                    <a:lnTo>
                      <a:pt x="93" y="366"/>
                    </a:lnTo>
                    <a:lnTo>
                      <a:pt x="54" y="430"/>
                    </a:lnTo>
                    <a:lnTo>
                      <a:pt x="32" y="468"/>
                    </a:lnTo>
                    <a:lnTo>
                      <a:pt x="18" y="509"/>
                    </a:lnTo>
                    <a:lnTo>
                      <a:pt x="3" y="566"/>
                    </a:lnTo>
                    <a:lnTo>
                      <a:pt x="0" y="624"/>
                    </a:lnTo>
                    <a:lnTo>
                      <a:pt x="3" y="678"/>
                    </a:lnTo>
                    <a:lnTo>
                      <a:pt x="27" y="727"/>
                    </a:lnTo>
                    <a:lnTo>
                      <a:pt x="69" y="778"/>
                    </a:lnTo>
                    <a:lnTo>
                      <a:pt x="135" y="818"/>
                    </a:lnTo>
                    <a:lnTo>
                      <a:pt x="198" y="833"/>
                    </a:lnTo>
                    <a:lnTo>
                      <a:pt x="249" y="839"/>
                    </a:lnTo>
                    <a:lnTo>
                      <a:pt x="303" y="833"/>
                    </a:lnTo>
                    <a:lnTo>
                      <a:pt x="399" y="815"/>
                    </a:lnTo>
                    <a:lnTo>
                      <a:pt x="477" y="784"/>
                    </a:lnTo>
                    <a:lnTo>
                      <a:pt x="555" y="751"/>
                    </a:lnTo>
                    <a:lnTo>
                      <a:pt x="600" y="724"/>
                    </a:lnTo>
                    <a:lnTo>
                      <a:pt x="666" y="745"/>
                    </a:lnTo>
                    <a:lnTo>
                      <a:pt x="694" y="768"/>
                    </a:lnTo>
                    <a:lnTo>
                      <a:pt x="714" y="791"/>
                    </a:lnTo>
                    <a:lnTo>
                      <a:pt x="747" y="821"/>
                    </a:lnTo>
                    <a:lnTo>
                      <a:pt x="786" y="797"/>
                    </a:lnTo>
                    <a:lnTo>
                      <a:pt x="819" y="733"/>
                    </a:lnTo>
                    <a:lnTo>
                      <a:pt x="828" y="706"/>
                    </a:lnTo>
                    <a:lnTo>
                      <a:pt x="813" y="672"/>
                    </a:lnTo>
                    <a:lnTo>
                      <a:pt x="777" y="639"/>
                    </a:lnTo>
                    <a:lnTo>
                      <a:pt x="738" y="612"/>
                    </a:lnTo>
                    <a:lnTo>
                      <a:pt x="783" y="551"/>
                    </a:lnTo>
                    <a:lnTo>
                      <a:pt x="816" y="506"/>
                    </a:lnTo>
                    <a:lnTo>
                      <a:pt x="837" y="466"/>
                    </a:lnTo>
                    <a:lnTo>
                      <a:pt x="867" y="415"/>
                    </a:lnTo>
                    <a:lnTo>
                      <a:pt x="888" y="354"/>
                    </a:lnTo>
                    <a:lnTo>
                      <a:pt x="903" y="303"/>
                    </a:lnTo>
                    <a:lnTo>
                      <a:pt x="909" y="233"/>
                    </a:lnTo>
                    <a:lnTo>
                      <a:pt x="909" y="179"/>
                    </a:lnTo>
                    <a:lnTo>
                      <a:pt x="888" y="112"/>
                    </a:lnTo>
                    <a:lnTo>
                      <a:pt x="837" y="55"/>
                    </a:lnTo>
                    <a:lnTo>
                      <a:pt x="777" y="18"/>
                    </a:lnTo>
                    <a:lnTo>
                      <a:pt x="711" y="6"/>
                    </a:lnTo>
                    <a:lnTo>
                      <a:pt x="615" y="0"/>
                    </a:lnTo>
                    <a:lnTo>
                      <a:pt x="561" y="9"/>
                    </a:lnTo>
                    <a:lnTo>
                      <a:pt x="474" y="27"/>
                    </a:lnTo>
                    <a:lnTo>
                      <a:pt x="390" y="55"/>
                    </a:lnTo>
                    <a:lnTo>
                      <a:pt x="318" y="85"/>
                    </a:lnTo>
                    <a:lnTo>
                      <a:pt x="240" y="118"/>
                    </a:lnTo>
                    <a:lnTo>
                      <a:pt x="192" y="142"/>
                    </a:lnTo>
                    <a:lnTo>
                      <a:pt x="144" y="170"/>
                    </a:lnTo>
                    <a:lnTo>
                      <a:pt x="138" y="206"/>
                    </a:lnTo>
                    <a:lnTo>
                      <a:pt x="150" y="224"/>
                    </a:lnTo>
                    <a:lnTo>
                      <a:pt x="180" y="233"/>
                    </a:lnTo>
                    <a:lnTo>
                      <a:pt x="228" y="194"/>
                    </a:lnTo>
                    <a:lnTo>
                      <a:pt x="282" y="167"/>
                    </a:lnTo>
                    <a:lnTo>
                      <a:pt x="357" y="139"/>
                    </a:lnTo>
                    <a:lnTo>
                      <a:pt x="417" y="121"/>
                    </a:lnTo>
                    <a:lnTo>
                      <a:pt x="459" y="115"/>
                    </a:lnTo>
                    <a:lnTo>
                      <a:pt x="540" y="112"/>
                    </a:lnTo>
                    <a:lnTo>
                      <a:pt x="591" y="127"/>
                    </a:lnTo>
                    <a:lnTo>
                      <a:pt x="645" y="158"/>
                    </a:lnTo>
                    <a:lnTo>
                      <a:pt x="684" y="206"/>
                    </a:lnTo>
                    <a:lnTo>
                      <a:pt x="705" y="260"/>
                    </a:lnTo>
                    <a:lnTo>
                      <a:pt x="717" y="363"/>
                    </a:lnTo>
                    <a:lnTo>
                      <a:pt x="711" y="454"/>
                    </a:lnTo>
                    <a:lnTo>
                      <a:pt x="705" y="515"/>
                    </a:lnTo>
                    <a:lnTo>
                      <a:pt x="690" y="551"/>
                    </a:lnTo>
                    <a:lnTo>
                      <a:pt x="642" y="521"/>
                    </a:lnTo>
                    <a:lnTo>
                      <a:pt x="594" y="497"/>
                    </a:lnTo>
                    <a:lnTo>
                      <a:pt x="561" y="485"/>
                    </a:lnTo>
                    <a:lnTo>
                      <a:pt x="513" y="469"/>
                    </a:lnTo>
                    <a:lnTo>
                      <a:pt x="468" y="466"/>
                    </a:lnTo>
                    <a:lnTo>
                      <a:pt x="450" y="488"/>
                    </a:lnTo>
                    <a:lnTo>
                      <a:pt x="411" y="524"/>
                    </a:lnTo>
                    <a:lnTo>
                      <a:pt x="384" y="548"/>
                    </a:lnTo>
                    <a:lnTo>
                      <a:pt x="363" y="569"/>
                    </a:lnTo>
                    <a:lnTo>
                      <a:pt x="336" y="600"/>
                    </a:lnTo>
                    <a:lnTo>
                      <a:pt x="332" y="614"/>
                    </a:lnTo>
                    <a:lnTo>
                      <a:pt x="348" y="621"/>
                    </a:lnTo>
                    <a:cubicBezTo>
                      <a:pt x="357" y="623"/>
                      <a:pt x="389" y="633"/>
                      <a:pt x="405" y="633"/>
                    </a:cubicBezTo>
                    <a:lnTo>
                      <a:pt x="438" y="639"/>
                    </a:lnTo>
                    <a:lnTo>
                      <a:pt x="474" y="645"/>
                    </a:lnTo>
                    <a:lnTo>
                      <a:pt x="498" y="657"/>
                    </a:lnTo>
                    <a:lnTo>
                      <a:pt x="522" y="663"/>
                    </a:lnTo>
                    <a:lnTo>
                      <a:pt x="528" y="681"/>
                    </a:lnTo>
                    <a:lnTo>
                      <a:pt x="495" y="691"/>
                    </a:lnTo>
                    <a:lnTo>
                      <a:pt x="438" y="694"/>
                    </a:lnTo>
                    <a:lnTo>
                      <a:pt x="345" y="694"/>
                    </a:lnTo>
                    <a:lnTo>
                      <a:pt x="303" y="681"/>
                    </a:lnTo>
                    <a:lnTo>
                      <a:pt x="262" y="670"/>
                    </a:lnTo>
                    <a:lnTo>
                      <a:pt x="216" y="646"/>
                    </a:lnTo>
                    <a:lnTo>
                      <a:pt x="184" y="618"/>
                    </a:lnTo>
                    <a:lnTo>
                      <a:pt x="152" y="578"/>
                    </a:lnTo>
                    <a:lnTo>
                      <a:pt x="128" y="532"/>
                    </a:lnTo>
                    <a:lnTo>
                      <a:pt x="120" y="500"/>
                    </a:lnTo>
                    <a:lnTo>
                      <a:pt x="120" y="473"/>
                    </a:lnTo>
                    <a:lnTo>
                      <a:pt x="126" y="448"/>
                    </a:lnTo>
                    <a:lnTo>
                      <a:pt x="146" y="410"/>
                    </a:lnTo>
                    <a:lnTo>
                      <a:pt x="210" y="345"/>
                    </a:lnTo>
                    <a:lnTo>
                      <a:pt x="267" y="306"/>
                    </a:lnTo>
                    <a:lnTo>
                      <a:pt x="357" y="248"/>
                    </a:lnTo>
                    <a:lnTo>
                      <a:pt x="399" y="230"/>
                    </a:lnTo>
                    <a:lnTo>
                      <a:pt x="423" y="218"/>
                    </a:lnTo>
                    <a:lnTo>
                      <a:pt x="423" y="185"/>
                    </a:lnTo>
                    <a:lnTo>
                      <a:pt x="418" y="168"/>
                    </a:lnTo>
                    <a:lnTo>
                      <a:pt x="408" y="167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803760" y="1898640"/>
                <a:ext cx="251280" cy="231840"/>
              </a:xfrm>
              <a:custGeom>
                <a:avLst/>
                <a:gdLst/>
                <a:ahLst/>
                <a:rect l="l" t="t" r="r" b="b"/>
                <a:pathLst>
                  <a:path w="909" h="839">
                    <a:moveTo>
                      <a:pt x="408" y="167"/>
                    </a:moveTo>
                    <a:lnTo>
                      <a:pt x="324" y="194"/>
                    </a:lnTo>
                    <a:lnTo>
                      <a:pt x="231" y="242"/>
                    </a:lnTo>
                    <a:lnTo>
                      <a:pt x="147" y="309"/>
                    </a:lnTo>
                    <a:lnTo>
                      <a:pt x="93" y="366"/>
                    </a:lnTo>
                    <a:lnTo>
                      <a:pt x="54" y="430"/>
                    </a:lnTo>
                    <a:lnTo>
                      <a:pt x="32" y="468"/>
                    </a:lnTo>
                    <a:lnTo>
                      <a:pt x="18" y="509"/>
                    </a:lnTo>
                    <a:lnTo>
                      <a:pt x="3" y="566"/>
                    </a:lnTo>
                    <a:lnTo>
                      <a:pt x="0" y="624"/>
                    </a:lnTo>
                    <a:lnTo>
                      <a:pt x="3" y="678"/>
                    </a:lnTo>
                    <a:lnTo>
                      <a:pt x="27" y="727"/>
                    </a:lnTo>
                    <a:lnTo>
                      <a:pt x="69" y="778"/>
                    </a:lnTo>
                    <a:lnTo>
                      <a:pt x="135" y="818"/>
                    </a:lnTo>
                    <a:lnTo>
                      <a:pt x="198" y="833"/>
                    </a:lnTo>
                    <a:lnTo>
                      <a:pt x="249" y="839"/>
                    </a:lnTo>
                    <a:lnTo>
                      <a:pt x="303" y="833"/>
                    </a:lnTo>
                    <a:lnTo>
                      <a:pt x="399" y="815"/>
                    </a:lnTo>
                    <a:lnTo>
                      <a:pt x="477" y="784"/>
                    </a:lnTo>
                    <a:lnTo>
                      <a:pt x="555" y="751"/>
                    </a:lnTo>
                    <a:lnTo>
                      <a:pt x="600" y="724"/>
                    </a:lnTo>
                    <a:lnTo>
                      <a:pt x="666" y="745"/>
                    </a:lnTo>
                    <a:lnTo>
                      <a:pt x="694" y="768"/>
                    </a:lnTo>
                    <a:lnTo>
                      <a:pt x="714" y="791"/>
                    </a:lnTo>
                    <a:lnTo>
                      <a:pt x="747" y="821"/>
                    </a:lnTo>
                    <a:lnTo>
                      <a:pt x="786" y="797"/>
                    </a:lnTo>
                    <a:lnTo>
                      <a:pt x="819" y="733"/>
                    </a:lnTo>
                    <a:lnTo>
                      <a:pt x="828" y="706"/>
                    </a:lnTo>
                    <a:lnTo>
                      <a:pt x="813" y="672"/>
                    </a:lnTo>
                    <a:lnTo>
                      <a:pt x="777" y="639"/>
                    </a:lnTo>
                    <a:lnTo>
                      <a:pt x="738" y="612"/>
                    </a:lnTo>
                    <a:lnTo>
                      <a:pt x="783" y="551"/>
                    </a:lnTo>
                    <a:lnTo>
                      <a:pt x="816" y="506"/>
                    </a:lnTo>
                    <a:lnTo>
                      <a:pt x="837" y="466"/>
                    </a:lnTo>
                    <a:lnTo>
                      <a:pt x="867" y="415"/>
                    </a:lnTo>
                    <a:lnTo>
                      <a:pt x="888" y="354"/>
                    </a:lnTo>
                    <a:lnTo>
                      <a:pt x="903" y="303"/>
                    </a:lnTo>
                    <a:lnTo>
                      <a:pt x="909" y="233"/>
                    </a:lnTo>
                    <a:lnTo>
                      <a:pt x="909" y="179"/>
                    </a:lnTo>
                    <a:lnTo>
                      <a:pt x="888" y="112"/>
                    </a:lnTo>
                    <a:lnTo>
                      <a:pt x="837" y="55"/>
                    </a:lnTo>
                    <a:lnTo>
                      <a:pt x="777" y="18"/>
                    </a:lnTo>
                    <a:lnTo>
                      <a:pt x="711" y="6"/>
                    </a:lnTo>
                    <a:lnTo>
                      <a:pt x="615" y="0"/>
                    </a:lnTo>
                    <a:lnTo>
                      <a:pt x="561" y="9"/>
                    </a:lnTo>
                    <a:lnTo>
                      <a:pt x="474" y="27"/>
                    </a:lnTo>
                    <a:lnTo>
                      <a:pt x="390" y="55"/>
                    </a:lnTo>
                    <a:lnTo>
                      <a:pt x="318" y="85"/>
                    </a:lnTo>
                    <a:lnTo>
                      <a:pt x="240" y="118"/>
                    </a:lnTo>
                    <a:lnTo>
                      <a:pt x="192" y="142"/>
                    </a:lnTo>
                    <a:lnTo>
                      <a:pt x="144" y="170"/>
                    </a:lnTo>
                    <a:lnTo>
                      <a:pt x="138" y="206"/>
                    </a:lnTo>
                    <a:lnTo>
                      <a:pt x="150" y="224"/>
                    </a:lnTo>
                    <a:lnTo>
                      <a:pt x="180" y="233"/>
                    </a:lnTo>
                    <a:lnTo>
                      <a:pt x="228" y="194"/>
                    </a:lnTo>
                    <a:lnTo>
                      <a:pt x="282" y="167"/>
                    </a:lnTo>
                    <a:lnTo>
                      <a:pt x="357" y="139"/>
                    </a:lnTo>
                    <a:lnTo>
                      <a:pt x="417" y="121"/>
                    </a:lnTo>
                    <a:lnTo>
                      <a:pt x="459" y="115"/>
                    </a:lnTo>
                    <a:lnTo>
                      <a:pt x="540" y="112"/>
                    </a:lnTo>
                    <a:lnTo>
                      <a:pt x="591" y="127"/>
                    </a:lnTo>
                    <a:lnTo>
                      <a:pt x="645" y="158"/>
                    </a:lnTo>
                    <a:lnTo>
                      <a:pt x="684" y="206"/>
                    </a:lnTo>
                    <a:lnTo>
                      <a:pt x="705" y="260"/>
                    </a:lnTo>
                    <a:lnTo>
                      <a:pt x="717" y="363"/>
                    </a:lnTo>
                    <a:lnTo>
                      <a:pt x="711" y="454"/>
                    </a:lnTo>
                    <a:lnTo>
                      <a:pt x="705" y="515"/>
                    </a:lnTo>
                    <a:lnTo>
                      <a:pt x="690" y="551"/>
                    </a:lnTo>
                    <a:lnTo>
                      <a:pt x="642" y="521"/>
                    </a:lnTo>
                    <a:lnTo>
                      <a:pt x="594" y="497"/>
                    </a:lnTo>
                    <a:lnTo>
                      <a:pt x="561" y="485"/>
                    </a:lnTo>
                    <a:lnTo>
                      <a:pt x="513" y="469"/>
                    </a:lnTo>
                    <a:lnTo>
                      <a:pt x="468" y="466"/>
                    </a:lnTo>
                    <a:lnTo>
                      <a:pt x="450" y="488"/>
                    </a:lnTo>
                    <a:lnTo>
                      <a:pt x="411" y="524"/>
                    </a:lnTo>
                    <a:lnTo>
                      <a:pt x="384" y="548"/>
                    </a:lnTo>
                    <a:lnTo>
                      <a:pt x="363" y="569"/>
                    </a:lnTo>
                    <a:lnTo>
                      <a:pt x="336" y="600"/>
                    </a:lnTo>
                    <a:lnTo>
                      <a:pt x="332" y="614"/>
                    </a:lnTo>
                    <a:lnTo>
                      <a:pt x="348" y="621"/>
                    </a:lnTo>
                    <a:cubicBezTo>
                      <a:pt x="357" y="623"/>
                      <a:pt x="389" y="633"/>
                      <a:pt x="405" y="633"/>
                    </a:cubicBezTo>
                    <a:lnTo>
                      <a:pt x="438" y="639"/>
                    </a:lnTo>
                    <a:lnTo>
                      <a:pt x="474" y="645"/>
                    </a:lnTo>
                    <a:lnTo>
                      <a:pt x="498" y="657"/>
                    </a:lnTo>
                    <a:lnTo>
                      <a:pt x="522" y="663"/>
                    </a:lnTo>
                    <a:lnTo>
                      <a:pt x="528" y="681"/>
                    </a:lnTo>
                    <a:lnTo>
                      <a:pt x="495" y="691"/>
                    </a:lnTo>
                    <a:lnTo>
                      <a:pt x="438" y="694"/>
                    </a:lnTo>
                    <a:lnTo>
                      <a:pt x="345" y="694"/>
                    </a:lnTo>
                    <a:lnTo>
                      <a:pt x="303" y="681"/>
                    </a:lnTo>
                    <a:lnTo>
                      <a:pt x="262" y="670"/>
                    </a:lnTo>
                    <a:lnTo>
                      <a:pt x="216" y="646"/>
                    </a:lnTo>
                    <a:lnTo>
                      <a:pt x="184" y="618"/>
                    </a:lnTo>
                    <a:lnTo>
                      <a:pt x="152" y="578"/>
                    </a:lnTo>
                    <a:lnTo>
                      <a:pt x="128" y="532"/>
                    </a:lnTo>
                    <a:lnTo>
                      <a:pt x="120" y="500"/>
                    </a:lnTo>
                    <a:lnTo>
                      <a:pt x="120" y="473"/>
                    </a:lnTo>
                    <a:lnTo>
                      <a:pt x="126" y="448"/>
                    </a:lnTo>
                    <a:lnTo>
                      <a:pt x="146" y="410"/>
                    </a:lnTo>
                    <a:lnTo>
                      <a:pt x="210" y="345"/>
                    </a:lnTo>
                    <a:lnTo>
                      <a:pt x="267" y="306"/>
                    </a:lnTo>
                    <a:lnTo>
                      <a:pt x="357" y="248"/>
                    </a:lnTo>
                    <a:lnTo>
                      <a:pt x="399" y="230"/>
                    </a:lnTo>
                    <a:lnTo>
                      <a:pt x="423" y="218"/>
                    </a:lnTo>
                    <a:lnTo>
                      <a:pt x="423" y="185"/>
                    </a:lnTo>
                    <a:lnTo>
                      <a:pt x="418" y="168"/>
                    </a:lnTo>
                    <a:lnTo>
                      <a:pt x="408" y="167"/>
                    </a:lnTo>
                    <a:close/>
                  </a:path>
                </a:pathLst>
              </a:custGeom>
              <a:solidFill>
                <a:srgbClr val="fc8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2" name=""/>
            <p:cNvSpPr/>
            <p:nvPr/>
          </p:nvSpPr>
          <p:spPr>
            <a:xfrm>
              <a:off x="1986120" y="1870200"/>
              <a:ext cx="715788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105000"/>
                </a:lnSpc>
                <a:spcBef>
                  <a:spcPts val="349"/>
                </a:spcBef>
                <a:buClr>
                  <a:srgbClr val="000000"/>
                </a:buClr>
                <a:buFont typeface="Monotype Sorts" charset="2"/>
                <a:buChar char=""/>
                <a:tabLst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lculation of      -factor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d on statistical PDF distribution of logic „0“ and „1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63" name="eye0" descr=""/>
          <p:cNvPicPr/>
          <p:nvPr/>
        </p:nvPicPr>
        <p:blipFill>
          <a:blip r:embed="rId2"/>
          <a:stretch/>
        </p:blipFill>
        <p:spPr>
          <a:xfrm>
            <a:off x="6473880" y="2495520"/>
            <a:ext cx="1765080" cy="3770280"/>
          </a:xfrm>
          <a:prstGeom prst="rect">
            <a:avLst/>
          </a:prstGeom>
          <a:ln w="0">
            <a:noFill/>
          </a:ln>
        </p:spPr>
      </p:pic>
      <p:sp>
        <p:nvSpPr>
          <p:cNvPr id="1664" name=""/>
          <p:cNvSpPr/>
          <p:nvPr/>
        </p:nvSpPr>
        <p:spPr>
          <a:xfrm>
            <a:off x="7896240" y="3476160"/>
            <a:ext cx="4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µ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8215560" y="4987440"/>
            <a:ext cx="4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µ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6562800" y="3448080"/>
            <a:ext cx="1225440" cy="41436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6575400" y="4940280"/>
            <a:ext cx="1582920" cy="4176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741000" y="34635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741000" y="4997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73880" y="4265640"/>
            <a:ext cx="91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ptical ey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088880" y="5956200"/>
            <a:ext cx="15994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an val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605400" y="58640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622680" y="611136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61920" y="1600200"/>
            <a:ext cx="6885000" cy="41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 client mapping into the OT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nitoring OTN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llenges to evaluating OTN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ptical domain measu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nefits of new measurement techn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ating optical and IP client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avelength services and role of SL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ationship of SG4 work to SG13 &amp; SG1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Key Benefits of    - fa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1945800" y="1339920"/>
            <a:ext cx="671508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9320" indent="-22932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ee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e0202"/>
                </a:solidFill>
                <a:latin typeface="Arial"/>
              </a:rPr>
              <a:t>Comple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luding effects of dispersion and non-linear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ee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e0202"/>
                </a:solidFill>
                <a:latin typeface="Arial"/>
              </a:rPr>
              <a:t>Fa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asurement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ependent of bit rate and BER in </a:t>
            </a:r>
            <a:r>
              <a:rPr b="1" lang="en-GB" sz="2000" spc="-1" strike="noStrike">
                <a:solidFill>
                  <a:srgbClr val="ee0202"/>
                </a:solidFill>
                <a:latin typeface="Arial"/>
              </a:rPr>
              <a:t>&lt; 1 min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ee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e0202"/>
                </a:solidFill>
                <a:latin typeface="Arial"/>
              </a:rPr>
              <a:t>Rate-transparen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quality tes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it rates: 622M, 2.5G, 10G, Gi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luding bit rate with 7% F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ee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e0202"/>
                </a:solidFill>
                <a:latin typeface="Arial"/>
              </a:rPr>
              <a:t>In-servi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erformance monito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mall modular design used at key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asures lowest 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6" name=""/>
          <p:cNvGrpSpPr/>
          <p:nvPr/>
        </p:nvGrpSpPr>
        <p:grpSpPr>
          <a:xfrm>
            <a:off x="5942160" y="533520"/>
            <a:ext cx="371160" cy="334800"/>
            <a:chOff x="5942160" y="533520"/>
            <a:chExt cx="371160" cy="334800"/>
          </a:xfrm>
        </p:grpSpPr>
        <p:sp>
          <p:nvSpPr>
            <p:cNvPr id="1677" name=""/>
            <p:cNvSpPr/>
            <p:nvPr/>
          </p:nvSpPr>
          <p:spPr>
            <a:xfrm>
              <a:off x="5952240" y="535680"/>
              <a:ext cx="361080" cy="332640"/>
            </a:xfrm>
            <a:custGeom>
              <a:avLst/>
              <a:gdLst/>
              <a:ahLst/>
              <a:rect l="l" t="t" r="r" b="b"/>
              <a:pathLst>
                <a:path w="909" h="839">
                  <a:moveTo>
                    <a:pt x="408" y="167"/>
                  </a:moveTo>
                  <a:lnTo>
                    <a:pt x="324" y="194"/>
                  </a:lnTo>
                  <a:lnTo>
                    <a:pt x="231" y="242"/>
                  </a:lnTo>
                  <a:lnTo>
                    <a:pt x="147" y="309"/>
                  </a:lnTo>
                  <a:lnTo>
                    <a:pt x="93" y="366"/>
                  </a:lnTo>
                  <a:lnTo>
                    <a:pt x="54" y="430"/>
                  </a:lnTo>
                  <a:lnTo>
                    <a:pt x="32" y="468"/>
                  </a:lnTo>
                  <a:lnTo>
                    <a:pt x="18" y="509"/>
                  </a:lnTo>
                  <a:lnTo>
                    <a:pt x="3" y="566"/>
                  </a:lnTo>
                  <a:lnTo>
                    <a:pt x="0" y="624"/>
                  </a:lnTo>
                  <a:lnTo>
                    <a:pt x="3" y="678"/>
                  </a:lnTo>
                  <a:lnTo>
                    <a:pt x="27" y="727"/>
                  </a:lnTo>
                  <a:lnTo>
                    <a:pt x="69" y="778"/>
                  </a:lnTo>
                  <a:lnTo>
                    <a:pt x="135" y="818"/>
                  </a:lnTo>
                  <a:lnTo>
                    <a:pt x="198" y="833"/>
                  </a:lnTo>
                  <a:lnTo>
                    <a:pt x="249" y="839"/>
                  </a:lnTo>
                  <a:lnTo>
                    <a:pt x="303" y="833"/>
                  </a:lnTo>
                  <a:lnTo>
                    <a:pt x="399" y="815"/>
                  </a:lnTo>
                  <a:lnTo>
                    <a:pt x="477" y="784"/>
                  </a:lnTo>
                  <a:lnTo>
                    <a:pt x="555" y="751"/>
                  </a:lnTo>
                  <a:lnTo>
                    <a:pt x="600" y="724"/>
                  </a:lnTo>
                  <a:lnTo>
                    <a:pt x="666" y="745"/>
                  </a:lnTo>
                  <a:lnTo>
                    <a:pt x="694" y="768"/>
                  </a:lnTo>
                  <a:lnTo>
                    <a:pt x="714" y="791"/>
                  </a:lnTo>
                  <a:lnTo>
                    <a:pt x="747" y="821"/>
                  </a:lnTo>
                  <a:lnTo>
                    <a:pt x="786" y="797"/>
                  </a:lnTo>
                  <a:lnTo>
                    <a:pt x="819" y="733"/>
                  </a:lnTo>
                  <a:lnTo>
                    <a:pt x="828" y="706"/>
                  </a:lnTo>
                  <a:lnTo>
                    <a:pt x="813" y="672"/>
                  </a:lnTo>
                  <a:lnTo>
                    <a:pt x="777" y="639"/>
                  </a:lnTo>
                  <a:lnTo>
                    <a:pt x="738" y="612"/>
                  </a:lnTo>
                  <a:lnTo>
                    <a:pt x="783" y="551"/>
                  </a:lnTo>
                  <a:lnTo>
                    <a:pt x="816" y="506"/>
                  </a:lnTo>
                  <a:lnTo>
                    <a:pt x="837" y="466"/>
                  </a:lnTo>
                  <a:lnTo>
                    <a:pt x="867" y="415"/>
                  </a:lnTo>
                  <a:lnTo>
                    <a:pt x="888" y="354"/>
                  </a:lnTo>
                  <a:lnTo>
                    <a:pt x="903" y="303"/>
                  </a:lnTo>
                  <a:lnTo>
                    <a:pt x="909" y="233"/>
                  </a:lnTo>
                  <a:lnTo>
                    <a:pt x="909" y="179"/>
                  </a:lnTo>
                  <a:lnTo>
                    <a:pt x="888" y="112"/>
                  </a:lnTo>
                  <a:lnTo>
                    <a:pt x="837" y="55"/>
                  </a:lnTo>
                  <a:lnTo>
                    <a:pt x="777" y="18"/>
                  </a:lnTo>
                  <a:lnTo>
                    <a:pt x="711" y="6"/>
                  </a:lnTo>
                  <a:lnTo>
                    <a:pt x="615" y="0"/>
                  </a:lnTo>
                  <a:lnTo>
                    <a:pt x="561" y="9"/>
                  </a:lnTo>
                  <a:lnTo>
                    <a:pt x="474" y="27"/>
                  </a:lnTo>
                  <a:lnTo>
                    <a:pt x="390" y="55"/>
                  </a:lnTo>
                  <a:lnTo>
                    <a:pt x="318" y="85"/>
                  </a:lnTo>
                  <a:lnTo>
                    <a:pt x="240" y="118"/>
                  </a:lnTo>
                  <a:lnTo>
                    <a:pt x="192" y="142"/>
                  </a:lnTo>
                  <a:lnTo>
                    <a:pt x="144" y="170"/>
                  </a:lnTo>
                  <a:lnTo>
                    <a:pt x="138" y="206"/>
                  </a:lnTo>
                  <a:lnTo>
                    <a:pt x="150" y="224"/>
                  </a:lnTo>
                  <a:lnTo>
                    <a:pt x="180" y="233"/>
                  </a:lnTo>
                  <a:lnTo>
                    <a:pt x="228" y="194"/>
                  </a:lnTo>
                  <a:lnTo>
                    <a:pt x="282" y="167"/>
                  </a:lnTo>
                  <a:lnTo>
                    <a:pt x="357" y="139"/>
                  </a:lnTo>
                  <a:lnTo>
                    <a:pt x="417" y="121"/>
                  </a:lnTo>
                  <a:lnTo>
                    <a:pt x="459" y="115"/>
                  </a:lnTo>
                  <a:lnTo>
                    <a:pt x="540" y="112"/>
                  </a:lnTo>
                  <a:lnTo>
                    <a:pt x="591" y="127"/>
                  </a:lnTo>
                  <a:lnTo>
                    <a:pt x="645" y="158"/>
                  </a:lnTo>
                  <a:lnTo>
                    <a:pt x="684" y="206"/>
                  </a:lnTo>
                  <a:lnTo>
                    <a:pt x="705" y="260"/>
                  </a:lnTo>
                  <a:lnTo>
                    <a:pt x="717" y="363"/>
                  </a:lnTo>
                  <a:lnTo>
                    <a:pt x="711" y="454"/>
                  </a:lnTo>
                  <a:lnTo>
                    <a:pt x="705" y="515"/>
                  </a:lnTo>
                  <a:lnTo>
                    <a:pt x="690" y="551"/>
                  </a:lnTo>
                  <a:lnTo>
                    <a:pt x="642" y="521"/>
                  </a:lnTo>
                  <a:lnTo>
                    <a:pt x="594" y="497"/>
                  </a:lnTo>
                  <a:lnTo>
                    <a:pt x="561" y="485"/>
                  </a:lnTo>
                  <a:lnTo>
                    <a:pt x="513" y="469"/>
                  </a:lnTo>
                  <a:lnTo>
                    <a:pt x="468" y="466"/>
                  </a:lnTo>
                  <a:lnTo>
                    <a:pt x="450" y="488"/>
                  </a:lnTo>
                  <a:lnTo>
                    <a:pt x="411" y="524"/>
                  </a:lnTo>
                  <a:lnTo>
                    <a:pt x="384" y="548"/>
                  </a:lnTo>
                  <a:lnTo>
                    <a:pt x="363" y="569"/>
                  </a:lnTo>
                  <a:lnTo>
                    <a:pt x="336" y="600"/>
                  </a:lnTo>
                  <a:lnTo>
                    <a:pt x="332" y="614"/>
                  </a:lnTo>
                  <a:lnTo>
                    <a:pt x="348" y="621"/>
                  </a:lnTo>
                  <a:cubicBezTo>
                    <a:pt x="357" y="623"/>
                    <a:pt x="389" y="633"/>
                    <a:pt x="405" y="633"/>
                  </a:cubicBezTo>
                  <a:lnTo>
                    <a:pt x="438" y="639"/>
                  </a:lnTo>
                  <a:lnTo>
                    <a:pt x="474" y="645"/>
                  </a:lnTo>
                  <a:lnTo>
                    <a:pt x="498" y="657"/>
                  </a:lnTo>
                  <a:lnTo>
                    <a:pt x="522" y="663"/>
                  </a:lnTo>
                  <a:lnTo>
                    <a:pt x="528" y="681"/>
                  </a:lnTo>
                  <a:lnTo>
                    <a:pt x="495" y="691"/>
                  </a:lnTo>
                  <a:lnTo>
                    <a:pt x="438" y="694"/>
                  </a:lnTo>
                  <a:lnTo>
                    <a:pt x="345" y="694"/>
                  </a:lnTo>
                  <a:lnTo>
                    <a:pt x="303" y="681"/>
                  </a:lnTo>
                  <a:lnTo>
                    <a:pt x="262" y="670"/>
                  </a:lnTo>
                  <a:lnTo>
                    <a:pt x="216" y="646"/>
                  </a:lnTo>
                  <a:lnTo>
                    <a:pt x="184" y="618"/>
                  </a:lnTo>
                  <a:lnTo>
                    <a:pt x="152" y="578"/>
                  </a:lnTo>
                  <a:lnTo>
                    <a:pt x="128" y="532"/>
                  </a:lnTo>
                  <a:lnTo>
                    <a:pt x="120" y="500"/>
                  </a:lnTo>
                  <a:lnTo>
                    <a:pt x="120" y="473"/>
                  </a:lnTo>
                  <a:lnTo>
                    <a:pt x="126" y="448"/>
                  </a:lnTo>
                  <a:lnTo>
                    <a:pt x="146" y="410"/>
                  </a:lnTo>
                  <a:lnTo>
                    <a:pt x="210" y="345"/>
                  </a:lnTo>
                  <a:lnTo>
                    <a:pt x="267" y="306"/>
                  </a:lnTo>
                  <a:lnTo>
                    <a:pt x="357" y="248"/>
                  </a:lnTo>
                  <a:lnTo>
                    <a:pt x="399" y="230"/>
                  </a:lnTo>
                  <a:lnTo>
                    <a:pt x="423" y="218"/>
                  </a:lnTo>
                  <a:lnTo>
                    <a:pt x="423" y="185"/>
                  </a:lnTo>
                  <a:lnTo>
                    <a:pt x="418" y="168"/>
                  </a:lnTo>
                  <a:lnTo>
                    <a:pt x="408" y="167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942160" y="533520"/>
              <a:ext cx="360720" cy="332640"/>
            </a:xfrm>
            <a:custGeom>
              <a:avLst/>
              <a:gdLst/>
              <a:ahLst/>
              <a:rect l="l" t="t" r="r" b="b"/>
              <a:pathLst>
                <a:path w="909" h="839">
                  <a:moveTo>
                    <a:pt x="408" y="167"/>
                  </a:moveTo>
                  <a:lnTo>
                    <a:pt x="324" y="194"/>
                  </a:lnTo>
                  <a:lnTo>
                    <a:pt x="231" y="242"/>
                  </a:lnTo>
                  <a:lnTo>
                    <a:pt x="147" y="309"/>
                  </a:lnTo>
                  <a:lnTo>
                    <a:pt x="93" y="366"/>
                  </a:lnTo>
                  <a:lnTo>
                    <a:pt x="54" y="430"/>
                  </a:lnTo>
                  <a:lnTo>
                    <a:pt x="32" y="468"/>
                  </a:lnTo>
                  <a:lnTo>
                    <a:pt x="18" y="509"/>
                  </a:lnTo>
                  <a:lnTo>
                    <a:pt x="3" y="566"/>
                  </a:lnTo>
                  <a:lnTo>
                    <a:pt x="0" y="624"/>
                  </a:lnTo>
                  <a:lnTo>
                    <a:pt x="3" y="678"/>
                  </a:lnTo>
                  <a:lnTo>
                    <a:pt x="27" y="727"/>
                  </a:lnTo>
                  <a:lnTo>
                    <a:pt x="69" y="778"/>
                  </a:lnTo>
                  <a:lnTo>
                    <a:pt x="135" y="818"/>
                  </a:lnTo>
                  <a:lnTo>
                    <a:pt x="198" y="833"/>
                  </a:lnTo>
                  <a:lnTo>
                    <a:pt x="249" y="839"/>
                  </a:lnTo>
                  <a:lnTo>
                    <a:pt x="303" y="833"/>
                  </a:lnTo>
                  <a:lnTo>
                    <a:pt x="399" y="815"/>
                  </a:lnTo>
                  <a:lnTo>
                    <a:pt x="477" y="784"/>
                  </a:lnTo>
                  <a:lnTo>
                    <a:pt x="555" y="751"/>
                  </a:lnTo>
                  <a:lnTo>
                    <a:pt x="600" y="724"/>
                  </a:lnTo>
                  <a:lnTo>
                    <a:pt x="666" y="745"/>
                  </a:lnTo>
                  <a:lnTo>
                    <a:pt x="694" y="768"/>
                  </a:lnTo>
                  <a:lnTo>
                    <a:pt x="714" y="791"/>
                  </a:lnTo>
                  <a:lnTo>
                    <a:pt x="747" y="821"/>
                  </a:lnTo>
                  <a:lnTo>
                    <a:pt x="786" y="797"/>
                  </a:lnTo>
                  <a:lnTo>
                    <a:pt x="819" y="733"/>
                  </a:lnTo>
                  <a:lnTo>
                    <a:pt x="828" y="706"/>
                  </a:lnTo>
                  <a:lnTo>
                    <a:pt x="813" y="672"/>
                  </a:lnTo>
                  <a:lnTo>
                    <a:pt x="777" y="639"/>
                  </a:lnTo>
                  <a:lnTo>
                    <a:pt x="738" y="612"/>
                  </a:lnTo>
                  <a:lnTo>
                    <a:pt x="783" y="551"/>
                  </a:lnTo>
                  <a:lnTo>
                    <a:pt x="816" y="506"/>
                  </a:lnTo>
                  <a:lnTo>
                    <a:pt x="837" y="466"/>
                  </a:lnTo>
                  <a:lnTo>
                    <a:pt x="867" y="415"/>
                  </a:lnTo>
                  <a:lnTo>
                    <a:pt x="888" y="354"/>
                  </a:lnTo>
                  <a:lnTo>
                    <a:pt x="903" y="303"/>
                  </a:lnTo>
                  <a:lnTo>
                    <a:pt x="909" y="233"/>
                  </a:lnTo>
                  <a:lnTo>
                    <a:pt x="909" y="179"/>
                  </a:lnTo>
                  <a:lnTo>
                    <a:pt x="888" y="112"/>
                  </a:lnTo>
                  <a:lnTo>
                    <a:pt x="837" y="55"/>
                  </a:lnTo>
                  <a:lnTo>
                    <a:pt x="777" y="18"/>
                  </a:lnTo>
                  <a:lnTo>
                    <a:pt x="711" y="6"/>
                  </a:lnTo>
                  <a:lnTo>
                    <a:pt x="615" y="0"/>
                  </a:lnTo>
                  <a:lnTo>
                    <a:pt x="561" y="9"/>
                  </a:lnTo>
                  <a:lnTo>
                    <a:pt x="474" y="27"/>
                  </a:lnTo>
                  <a:lnTo>
                    <a:pt x="390" y="55"/>
                  </a:lnTo>
                  <a:lnTo>
                    <a:pt x="318" y="85"/>
                  </a:lnTo>
                  <a:lnTo>
                    <a:pt x="240" y="118"/>
                  </a:lnTo>
                  <a:lnTo>
                    <a:pt x="192" y="142"/>
                  </a:lnTo>
                  <a:lnTo>
                    <a:pt x="144" y="170"/>
                  </a:lnTo>
                  <a:lnTo>
                    <a:pt x="138" y="206"/>
                  </a:lnTo>
                  <a:lnTo>
                    <a:pt x="150" y="224"/>
                  </a:lnTo>
                  <a:lnTo>
                    <a:pt x="180" y="233"/>
                  </a:lnTo>
                  <a:lnTo>
                    <a:pt x="228" y="194"/>
                  </a:lnTo>
                  <a:lnTo>
                    <a:pt x="282" y="167"/>
                  </a:lnTo>
                  <a:lnTo>
                    <a:pt x="357" y="139"/>
                  </a:lnTo>
                  <a:lnTo>
                    <a:pt x="417" y="121"/>
                  </a:lnTo>
                  <a:lnTo>
                    <a:pt x="459" y="115"/>
                  </a:lnTo>
                  <a:lnTo>
                    <a:pt x="540" y="112"/>
                  </a:lnTo>
                  <a:lnTo>
                    <a:pt x="591" y="127"/>
                  </a:lnTo>
                  <a:lnTo>
                    <a:pt x="645" y="158"/>
                  </a:lnTo>
                  <a:lnTo>
                    <a:pt x="684" y="206"/>
                  </a:lnTo>
                  <a:lnTo>
                    <a:pt x="705" y="260"/>
                  </a:lnTo>
                  <a:lnTo>
                    <a:pt x="717" y="363"/>
                  </a:lnTo>
                  <a:lnTo>
                    <a:pt x="711" y="454"/>
                  </a:lnTo>
                  <a:lnTo>
                    <a:pt x="705" y="515"/>
                  </a:lnTo>
                  <a:lnTo>
                    <a:pt x="690" y="551"/>
                  </a:lnTo>
                  <a:lnTo>
                    <a:pt x="642" y="521"/>
                  </a:lnTo>
                  <a:lnTo>
                    <a:pt x="594" y="497"/>
                  </a:lnTo>
                  <a:lnTo>
                    <a:pt x="561" y="485"/>
                  </a:lnTo>
                  <a:lnTo>
                    <a:pt x="513" y="469"/>
                  </a:lnTo>
                  <a:lnTo>
                    <a:pt x="468" y="466"/>
                  </a:lnTo>
                  <a:lnTo>
                    <a:pt x="450" y="488"/>
                  </a:lnTo>
                  <a:lnTo>
                    <a:pt x="411" y="524"/>
                  </a:lnTo>
                  <a:lnTo>
                    <a:pt x="384" y="548"/>
                  </a:lnTo>
                  <a:lnTo>
                    <a:pt x="363" y="569"/>
                  </a:lnTo>
                  <a:lnTo>
                    <a:pt x="336" y="600"/>
                  </a:lnTo>
                  <a:lnTo>
                    <a:pt x="332" y="614"/>
                  </a:lnTo>
                  <a:lnTo>
                    <a:pt x="348" y="621"/>
                  </a:lnTo>
                  <a:cubicBezTo>
                    <a:pt x="357" y="623"/>
                    <a:pt x="389" y="633"/>
                    <a:pt x="405" y="633"/>
                  </a:cubicBezTo>
                  <a:lnTo>
                    <a:pt x="438" y="639"/>
                  </a:lnTo>
                  <a:lnTo>
                    <a:pt x="474" y="645"/>
                  </a:lnTo>
                  <a:lnTo>
                    <a:pt x="498" y="657"/>
                  </a:lnTo>
                  <a:lnTo>
                    <a:pt x="522" y="663"/>
                  </a:lnTo>
                  <a:lnTo>
                    <a:pt x="528" y="681"/>
                  </a:lnTo>
                  <a:lnTo>
                    <a:pt x="495" y="691"/>
                  </a:lnTo>
                  <a:lnTo>
                    <a:pt x="438" y="694"/>
                  </a:lnTo>
                  <a:lnTo>
                    <a:pt x="345" y="694"/>
                  </a:lnTo>
                  <a:lnTo>
                    <a:pt x="303" y="681"/>
                  </a:lnTo>
                  <a:lnTo>
                    <a:pt x="262" y="670"/>
                  </a:lnTo>
                  <a:lnTo>
                    <a:pt x="216" y="646"/>
                  </a:lnTo>
                  <a:lnTo>
                    <a:pt x="184" y="618"/>
                  </a:lnTo>
                  <a:lnTo>
                    <a:pt x="152" y="578"/>
                  </a:lnTo>
                  <a:lnTo>
                    <a:pt x="128" y="532"/>
                  </a:lnTo>
                  <a:lnTo>
                    <a:pt x="120" y="500"/>
                  </a:lnTo>
                  <a:lnTo>
                    <a:pt x="120" y="473"/>
                  </a:lnTo>
                  <a:lnTo>
                    <a:pt x="126" y="448"/>
                  </a:lnTo>
                  <a:lnTo>
                    <a:pt x="146" y="410"/>
                  </a:lnTo>
                  <a:lnTo>
                    <a:pt x="210" y="345"/>
                  </a:lnTo>
                  <a:lnTo>
                    <a:pt x="267" y="306"/>
                  </a:lnTo>
                  <a:lnTo>
                    <a:pt x="357" y="248"/>
                  </a:lnTo>
                  <a:lnTo>
                    <a:pt x="399" y="230"/>
                  </a:lnTo>
                  <a:lnTo>
                    <a:pt x="423" y="218"/>
                  </a:lnTo>
                  <a:lnTo>
                    <a:pt x="423" y="185"/>
                  </a:lnTo>
                  <a:lnTo>
                    <a:pt x="418" y="168"/>
                  </a:lnTo>
                  <a:lnTo>
                    <a:pt x="408" y="167"/>
                  </a:lnTo>
                  <a:close/>
                </a:path>
              </a:pathLst>
            </a:custGeom>
            <a:solidFill>
              <a:srgbClr val="fc8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"/>
          <p:cNvSpPr/>
          <p:nvPr/>
        </p:nvSpPr>
        <p:spPr>
          <a:xfrm>
            <a:off x="5305320" y="2438280"/>
            <a:ext cx="2895840" cy="1219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1770120" y="2438280"/>
            <a:ext cx="2895480" cy="1219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1861560" y="4267080"/>
            <a:ext cx="39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ime slash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227320" y="1295280"/>
            <a:ext cx="61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Evaluating the BER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OC-48/STM-16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862640" y="2438280"/>
            <a:ext cx="527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Error Ratio 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-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 hou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1 min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4" name=""/>
          <p:cNvGrpSpPr/>
          <p:nvPr/>
        </p:nvGrpSpPr>
        <p:grpSpPr>
          <a:xfrm>
            <a:off x="3319560" y="4722840"/>
            <a:ext cx="2666880" cy="1905120"/>
            <a:chOff x="3319560" y="4722840"/>
            <a:chExt cx="2666880" cy="1905120"/>
          </a:xfrm>
        </p:grpSpPr>
        <p:pic>
          <p:nvPicPr>
            <p:cNvPr id="1685" name="CWU00025" descr=""/>
            <p:cNvPicPr/>
            <p:nvPr/>
          </p:nvPicPr>
          <p:blipFill>
            <a:blip r:embed="rId1"/>
            <a:stretch/>
          </p:blipFill>
          <p:spPr>
            <a:xfrm>
              <a:off x="3319560" y="4722840"/>
              <a:ext cx="26668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6" name=""/>
            <p:cNvSpPr/>
            <p:nvPr/>
          </p:nvSpPr>
          <p:spPr>
            <a:xfrm>
              <a:off x="4317840" y="5426280"/>
              <a:ext cx="85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87" name="BXY00049" descr=""/>
          <p:cNvPicPr/>
          <p:nvPr/>
        </p:nvPicPr>
        <p:blipFill>
          <a:blip r:embed="rId2"/>
          <a:stretch/>
        </p:blipFill>
        <p:spPr>
          <a:xfrm>
            <a:off x="3730680" y="3048120"/>
            <a:ext cx="934920" cy="1218960"/>
          </a:xfrm>
          <a:prstGeom prst="rect">
            <a:avLst/>
          </a:prstGeom>
          <a:ln w="0">
            <a:noFill/>
          </a:ln>
        </p:spPr>
      </p:pic>
      <p:sp>
        <p:nvSpPr>
          <p:cNvPr id="1688" name=""/>
          <p:cNvSpPr/>
          <p:nvPr/>
        </p:nvSpPr>
        <p:spPr>
          <a:xfrm>
            <a:off x="851040" y="0"/>
            <a:ext cx="7591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9" name="OBJEC042" descr=""/>
          <p:cNvPicPr/>
          <p:nvPr/>
        </p:nvPicPr>
        <p:blipFill>
          <a:blip r:embed="rId3"/>
          <a:stretch/>
        </p:blipFill>
        <p:spPr>
          <a:xfrm>
            <a:off x="7134120" y="2959200"/>
            <a:ext cx="1778040" cy="1333440"/>
          </a:xfrm>
          <a:prstGeom prst="rect">
            <a:avLst/>
          </a:prstGeom>
          <a:ln w="0">
            <a:noFill/>
          </a:ln>
        </p:spPr>
      </p:pic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e BERT versus    -fa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1" name=""/>
          <p:cNvGrpSpPr/>
          <p:nvPr/>
        </p:nvGrpSpPr>
        <p:grpSpPr>
          <a:xfrm>
            <a:off x="6723000" y="534960"/>
            <a:ext cx="371520" cy="335160"/>
            <a:chOff x="6723000" y="534960"/>
            <a:chExt cx="371520" cy="335160"/>
          </a:xfrm>
        </p:grpSpPr>
        <p:sp>
          <p:nvSpPr>
            <p:cNvPr id="1692" name=""/>
            <p:cNvSpPr/>
            <p:nvPr/>
          </p:nvSpPr>
          <p:spPr>
            <a:xfrm>
              <a:off x="6733080" y="537120"/>
              <a:ext cx="361440" cy="333000"/>
            </a:xfrm>
            <a:custGeom>
              <a:avLst/>
              <a:gdLst/>
              <a:ahLst/>
              <a:rect l="l" t="t" r="r" b="b"/>
              <a:pathLst>
                <a:path w="909" h="839">
                  <a:moveTo>
                    <a:pt x="408" y="167"/>
                  </a:moveTo>
                  <a:lnTo>
                    <a:pt x="324" y="194"/>
                  </a:lnTo>
                  <a:lnTo>
                    <a:pt x="231" y="242"/>
                  </a:lnTo>
                  <a:lnTo>
                    <a:pt x="147" y="309"/>
                  </a:lnTo>
                  <a:lnTo>
                    <a:pt x="93" y="366"/>
                  </a:lnTo>
                  <a:lnTo>
                    <a:pt x="54" y="430"/>
                  </a:lnTo>
                  <a:lnTo>
                    <a:pt x="32" y="468"/>
                  </a:lnTo>
                  <a:lnTo>
                    <a:pt x="18" y="509"/>
                  </a:lnTo>
                  <a:lnTo>
                    <a:pt x="3" y="566"/>
                  </a:lnTo>
                  <a:lnTo>
                    <a:pt x="0" y="624"/>
                  </a:lnTo>
                  <a:lnTo>
                    <a:pt x="3" y="678"/>
                  </a:lnTo>
                  <a:lnTo>
                    <a:pt x="27" y="727"/>
                  </a:lnTo>
                  <a:lnTo>
                    <a:pt x="69" y="778"/>
                  </a:lnTo>
                  <a:lnTo>
                    <a:pt x="135" y="818"/>
                  </a:lnTo>
                  <a:lnTo>
                    <a:pt x="198" y="833"/>
                  </a:lnTo>
                  <a:lnTo>
                    <a:pt x="249" y="839"/>
                  </a:lnTo>
                  <a:lnTo>
                    <a:pt x="303" y="833"/>
                  </a:lnTo>
                  <a:lnTo>
                    <a:pt x="399" y="815"/>
                  </a:lnTo>
                  <a:lnTo>
                    <a:pt x="477" y="784"/>
                  </a:lnTo>
                  <a:lnTo>
                    <a:pt x="555" y="751"/>
                  </a:lnTo>
                  <a:lnTo>
                    <a:pt x="600" y="724"/>
                  </a:lnTo>
                  <a:lnTo>
                    <a:pt x="666" y="745"/>
                  </a:lnTo>
                  <a:lnTo>
                    <a:pt x="694" y="768"/>
                  </a:lnTo>
                  <a:lnTo>
                    <a:pt x="714" y="791"/>
                  </a:lnTo>
                  <a:lnTo>
                    <a:pt x="747" y="821"/>
                  </a:lnTo>
                  <a:lnTo>
                    <a:pt x="786" y="797"/>
                  </a:lnTo>
                  <a:lnTo>
                    <a:pt x="819" y="733"/>
                  </a:lnTo>
                  <a:lnTo>
                    <a:pt x="828" y="706"/>
                  </a:lnTo>
                  <a:lnTo>
                    <a:pt x="813" y="672"/>
                  </a:lnTo>
                  <a:lnTo>
                    <a:pt x="777" y="639"/>
                  </a:lnTo>
                  <a:lnTo>
                    <a:pt x="738" y="612"/>
                  </a:lnTo>
                  <a:lnTo>
                    <a:pt x="783" y="551"/>
                  </a:lnTo>
                  <a:lnTo>
                    <a:pt x="816" y="506"/>
                  </a:lnTo>
                  <a:lnTo>
                    <a:pt x="837" y="466"/>
                  </a:lnTo>
                  <a:lnTo>
                    <a:pt x="867" y="415"/>
                  </a:lnTo>
                  <a:lnTo>
                    <a:pt x="888" y="354"/>
                  </a:lnTo>
                  <a:lnTo>
                    <a:pt x="903" y="303"/>
                  </a:lnTo>
                  <a:lnTo>
                    <a:pt x="909" y="233"/>
                  </a:lnTo>
                  <a:lnTo>
                    <a:pt x="909" y="179"/>
                  </a:lnTo>
                  <a:lnTo>
                    <a:pt x="888" y="112"/>
                  </a:lnTo>
                  <a:lnTo>
                    <a:pt x="837" y="55"/>
                  </a:lnTo>
                  <a:lnTo>
                    <a:pt x="777" y="18"/>
                  </a:lnTo>
                  <a:lnTo>
                    <a:pt x="711" y="6"/>
                  </a:lnTo>
                  <a:lnTo>
                    <a:pt x="615" y="0"/>
                  </a:lnTo>
                  <a:lnTo>
                    <a:pt x="561" y="9"/>
                  </a:lnTo>
                  <a:lnTo>
                    <a:pt x="474" y="27"/>
                  </a:lnTo>
                  <a:lnTo>
                    <a:pt x="390" y="55"/>
                  </a:lnTo>
                  <a:lnTo>
                    <a:pt x="318" y="85"/>
                  </a:lnTo>
                  <a:lnTo>
                    <a:pt x="240" y="118"/>
                  </a:lnTo>
                  <a:lnTo>
                    <a:pt x="192" y="142"/>
                  </a:lnTo>
                  <a:lnTo>
                    <a:pt x="144" y="170"/>
                  </a:lnTo>
                  <a:lnTo>
                    <a:pt x="138" y="206"/>
                  </a:lnTo>
                  <a:lnTo>
                    <a:pt x="150" y="224"/>
                  </a:lnTo>
                  <a:lnTo>
                    <a:pt x="180" y="233"/>
                  </a:lnTo>
                  <a:lnTo>
                    <a:pt x="228" y="194"/>
                  </a:lnTo>
                  <a:lnTo>
                    <a:pt x="282" y="167"/>
                  </a:lnTo>
                  <a:lnTo>
                    <a:pt x="357" y="139"/>
                  </a:lnTo>
                  <a:lnTo>
                    <a:pt x="417" y="121"/>
                  </a:lnTo>
                  <a:lnTo>
                    <a:pt x="459" y="115"/>
                  </a:lnTo>
                  <a:lnTo>
                    <a:pt x="540" y="112"/>
                  </a:lnTo>
                  <a:lnTo>
                    <a:pt x="591" y="127"/>
                  </a:lnTo>
                  <a:lnTo>
                    <a:pt x="645" y="158"/>
                  </a:lnTo>
                  <a:lnTo>
                    <a:pt x="684" y="206"/>
                  </a:lnTo>
                  <a:lnTo>
                    <a:pt x="705" y="260"/>
                  </a:lnTo>
                  <a:lnTo>
                    <a:pt x="717" y="363"/>
                  </a:lnTo>
                  <a:lnTo>
                    <a:pt x="711" y="454"/>
                  </a:lnTo>
                  <a:lnTo>
                    <a:pt x="705" y="515"/>
                  </a:lnTo>
                  <a:lnTo>
                    <a:pt x="690" y="551"/>
                  </a:lnTo>
                  <a:lnTo>
                    <a:pt x="642" y="521"/>
                  </a:lnTo>
                  <a:lnTo>
                    <a:pt x="594" y="497"/>
                  </a:lnTo>
                  <a:lnTo>
                    <a:pt x="561" y="485"/>
                  </a:lnTo>
                  <a:lnTo>
                    <a:pt x="513" y="469"/>
                  </a:lnTo>
                  <a:lnTo>
                    <a:pt x="468" y="466"/>
                  </a:lnTo>
                  <a:lnTo>
                    <a:pt x="450" y="488"/>
                  </a:lnTo>
                  <a:lnTo>
                    <a:pt x="411" y="524"/>
                  </a:lnTo>
                  <a:lnTo>
                    <a:pt x="384" y="548"/>
                  </a:lnTo>
                  <a:lnTo>
                    <a:pt x="363" y="569"/>
                  </a:lnTo>
                  <a:lnTo>
                    <a:pt x="336" y="600"/>
                  </a:lnTo>
                  <a:lnTo>
                    <a:pt x="332" y="614"/>
                  </a:lnTo>
                  <a:lnTo>
                    <a:pt x="348" y="621"/>
                  </a:lnTo>
                  <a:cubicBezTo>
                    <a:pt x="357" y="623"/>
                    <a:pt x="389" y="633"/>
                    <a:pt x="405" y="633"/>
                  </a:cubicBezTo>
                  <a:lnTo>
                    <a:pt x="438" y="639"/>
                  </a:lnTo>
                  <a:lnTo>
                    <a:pt x="474" y="645"/>
                  </a:lnTo>
                  <a:lnTo>
                    <a:pt x="498" y="657"/>
                  </a:lnTo>
                  <a:lnTo>
                    <a:pt x="522" y="663"/>
                  </a:lnTo>
                  <a:lnTo>
                    <a:pt x="528" y="681"/>
                  </a:lnTo>
                  <a:lnTo>
                    <a:pt x="495" y="691"/>
                  </a:lnTo>
                  <a:lnTo>
                    <a:pt x="438" y="694"/>
                  </a:lnTo>
                  <a:lnTo>
                    <a:pt x="345" y="694"/>
                  </a:lnTo>
                  <a:lnTo>
                    <a:pt x="303" y="681"/>
                  </a:lnTo>
                  <a:lnTo>
                    <a:pt x="262" y="670"/>
                  </a:lnTo>
                  <a:lnTo>
                    <a:pt x="216" y="646"/>
                  </a:lnTo>
                  <a:lnTo>
                    <a:pt x="184" y="618"/>
                  </a:lnTo>
                  <a:lnTo>
                    <a:pt x="152" y="578"/>
                  </a:lnTo>
                  <a:lnTo>
                    <a:pt x="128" y="532"/>
                  </a:lnTo>
                  <a:lnTo>
                    <a:pt x="120" y="500"/>
                  </a:lnTo>
                  <a:lnTo>
                    <a:pt x="120" y="473"/>
                  </a:lnTo>
                  <a:lnTo>
                    <a:pt x="126" y="448"/>
                  </a:lnTo>
                  <a:lnTo>
                    <a:pt x="146" y="410"/>
                  </a:lnTo>
                  <a:lnTo>
                    <a:pt x="210" y="345"/>
                  </a:lnTo>
                  <a:lnTo>
                    <a:pt x="267" y="306"/>
                  </a:lnTo>
                  <a:lnTo>
                    <a:pt x="357" y="248"/>
                  </a:lnTo>
                  <a:lnTo>
                    <a:pt x="399" y="230"/>
                  </a:lnTo>
                  <a:lnTo>
                    <a:pt x="423" y="218"/>
                  </a:lnTo>
                  <a:lnTo>
                    <a:pt x="423" y="185"/>
                  </a:lnTo>
                  <a:lnTo>
                    <a:pt x="418" y="168"/>
                  </a:lnTo>
                  <a:lnTo>
                    <a:pt x="408" y="167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723000" y="534960"/>
              <a:ext cx="361080" cy="333000"/>
            </a:xfrm>
            <a:custGeom>
              <a:avLst/>
              <a:gdLst/>
              <a:ahLst/>
              <a:rect l="l" t="t" r="r" b="b"/>
              <a:pathLst>
                <a:path w="909" h="839">
                  <a:moveTo>
                    <a:pt x="408" y="167"/>
                  </a:moveTo>
                  <a:lnTo>
                    <a:pt x="324" y="194"/>
                  </a:lnTo>
                  <a:lnTo>
                    <a:pt x="231" y="242"/>
                  </a:lnTo>
                  <a:lnTo>
                    <a:pt x="147" y="309"/>
                  </a:lnTo>
                  <a:lnTo>
                    <a:pt x="93" y="366"/>
                  </a:lnTo>
                  <a:lnTo>
                    <a:pt x="54" y="430"/>
                  </a:lnTo>
                  <a:lnTo>
                    <a:pt x="32" y="468"/>
                  </a:lnTo>
                  <a:lnTo>
                    <a:pt x="18" y="509"/>
                  </a:lnTo>
                  <a:lnTo>
                    <a:pt x="3" y="566"/>
                  </a:lnTo>
                  <a:lnTo>
                    <a:pt x="0" y="624"/>
                  </a:lnTo>
                  <a:lnTo>
                    <a:pt x="3" y="678"/>
                  </a:lnTo>
                  <a:lnTo>
                    <a:pt x="27" y="727"/>
                  </a:lnTo>
                  <a:lnTo>
                    <a:pt x="69" y="778"/>
                  </a:lnTo>
                  <a:lnTo>
                    <a:pt x="135" y="818"/>
                  </a:lnTo>
                  <a:lnTo>
                    <a:pt x="198" y="833"/>
                  </a:lnTo>
                  <a:lnTo>
                    <a:pt x="249" y="839"/>
                  </a:lnTo>
                  <a:lnTo>
                    <a:pt x="303" y="833"/>
                  </a:lnTo>
                  <a:lnTo>
                    <a:pt x="399" y="815"/>
                  </a:lnTo>
                  <a:lnTo>
                    <a:pt x="477" y="784"/>
                  </a:lnTo>
                  <a:lnTo>
                    <a:pt x="555" y="751"/>
                  </a:lnTo>
                  <a:lnTo>
                    <a:pt x="600" y="724"/>
                  </a:lnTo>
                  <a:lnTo>
                    <a:pt x="666" y="745"/>
                  </a:lnTo>
                  <a:lnTo>
                    <a:pt x="694" y="768"/>
                  </a:lnTo>
                  <a:lnTo>
                    <a:pt x="714" y="791"/>
                  </a:lnTo>
                  <a:lnTo>
                    <a:pt x="747" y="821"/>
                  </a:lnTo>
                  <a:lnTo>
                    <a:pt x="786" y="797"/>
                  </a:lnTo>
                  <a:lnTo>
                    <a:pt x="819" y="733"/>
                  </a:lnTo>
                  <a:lnTo>
                    <a:pt x="828" y="706"/>
                  </a:lnTo>
                  <a:lnTo>
                    <a:pt x="813" y="672"/>
                  </a:lnTo>
                  <a:lnTo>
                    <a:pt x="777" y="639"/>
                  </a:lnTo>
                  <a:lnTo>
                    <a:pt x="738" y="612"/>
                  </a:lnTo>
                  <a:lnTo>
                    <a:pt x="783" y="551"/>
                  </a:lnTo>
                  <a:lnTo>
                    <a:pt x="816" y="506"/>
                  </a:lnTo>
                  <a:lnTo>
                    <a:pt x="837" y="466"/>
                  </a:lnTo>
                  <a:lnTo>
                    <a:pt x="867" y="415"/>
                  </a:lnTo>
                  <a:lnTo>
                    <a:pt x="888" y="354"/>
                  </a:lnTo>
                  <a:lnTo>
                    <a:pt x="903" y="303"/>
                  </a:lnTo>
                  <a:lnTo>
                    <a:pt x="909" y="233"/>
                  </a:lnTo>
                  <a:lnTo>
                    <a:pt x="909" y="179"/>
                  </a:lnTo>
                  <a:lnTo>
                    <a:pt x="888" y="112"/>
                  </a:lnTo>
                  <a:lnTo>
                    <a:pt x="837" y="55"/>
                  </a:lnTo>
                  <a:lnTo>
                    <a:pt x="777" y="18"/>
                  </a:lnTo>
                  <a:lnTo>
                    <a:pt x="711" y="6"/>
                  </a:lnTo>
                  <a:lnTo>
                    <a:pt x="615" y="0"/>
                  </a:lnTo>
                  <a:lnTo>
                    <a:pt x="561" y="9"/>
                  </a:lnTo>
                  <a:lnTo>
                    <a:pt x="474" y="27"/>
                  </a:lnTo>
                  <a:lnTo>
                    <a:pt x="390" y="55"/>
                  </a:lnTo>
                  <a:lnTo>
                    <a:pt x="318" y="85"/>
                  </a:lnTo>
                  <a:lnTo>
                    <a:pt x="240" y="118"/>
                  </a:lnTo>
                  <a:lnTo>
                    <a:pt x="192" y="142"/>
                  </a:lnTo>
                  <a:lnTo>
                    <a:pt x="144" y="170"/>
                  </a:lnTo>
                  <a:lnTo>
                    <a:pt x="138" y="206"/>
                  </a:lnTo>
                  <a:lnTo>
                    <a:pt x="150" y="224"/>
                  </a:lnTo>
                  <a:lnTo>
                    <a:pt x="180" y="233"/>
                  </a:lnTo>
                  <a:lnTo>
                    <a:pt x="228" y="194"/>
                  </a:lnTo>
                  <a:lnTo>
                    <a:pt x="282" y="167"/>
                  </a:lnTo>
                  <a:lnTo>
                    <a:pt x="357" y="139"/>
                  </a:lnTo>
                  <a:lnTo>
                    <a:pt x="417" y="121"/>
                  </a:lnTo>
                  <a:lnTo>
                    <a:pt x="459" y="115"/>
                  </a:lnTo>
                  <a:lnTo>
                    <a:pt x="540" y="112"/>
                  </a:lnTo>
                  <a:lnTo>
                    <a:pt x="591" y="127"/>
                  </a:lnTo>
                  <a:lnTo>
                    <a:pt x="645" y="158"/>
                  </a:lnTo>
                  <a:lnTo>
                    <a:pt x="684" y="206"/>
                  </a:lnTo>
                  <a:lnTo>
                    <a:pt x="705" y="260"/>
                  </a:lnTo>
                  <a:lnTo>
                    <a:pt x="717" y="363"/>
                  </a:lnTo>
                  <a:lnTo>
                    <a:pt x="711" y="454"/>
                  </a:lnTo>
                  <a:lnTo>
                    <a:pt x="705" y="515"/>
                  </a:lnTo>
                  <a:lnTo>
                    <a:pt x="690" y="551"/>
                  </a:lnTo>
                  <a:lnTo>
                    <a:pt x="642" y="521"/>
                  </a:lnTo>
                  <a:lnTo>
                    <a:pt x="594" y="497"/>
                  </a:lnTo>
                  <a:lnTo>
                    <a:pt x="561" y="485"/>
                  </a:lnTo>
                  <a:lnTo>
                    <a:pt x="513" y="469"/>
                  </a:lnTo>
                  <a:lnTo>
                    <a:pt x="468" y="466"/>
                  </a:lnTo>
                  <a:lnTo>
                    <a:pt x="450" y="488"/>
                  </a:lnTo>
                  <a:lnTo>
                    <a:pt x="411" y="524"/>
                  </a:lnTo>
                  <a:lnTo>
                    <a:pt x="384" y="548"/>
                  </a:lnTo>
                  <a:lnTo>
                    <a:pt x="363" y="569"/>
                  </a:lnTo>
                  <a:lnTo>
                    <a:pt x="336" y="600"/>
                  </a:lnTo>
                  <a:lnTo>
                    <a:pt x="332" y="614"/>
                  </a:lnTo>
                  <a:lnTo>
                    <a:pt x="348" y="621"/>
                  </a:lnTo>
                  <a:cubicBezTo>
                    <a:pt x="357" y="623"/>
                    <a:pt x="389" y="633"/>
                    <a:pt x="405" y="633"/>
                  </a:cubicBezTo>
                  <a:lnTo>
                    <a:pt x="438" y="639"/>
                  </a:lnTo>
                  <a:lnTo>
                    <a:pt x="474" y="645"/>
                  </a:lnTo>
                  <a:lnTo>
                    <a:pt x="498" y="657"/>
                  </a:lnTo>
                  <a:lnTo>
                    <a:pt x="522" y="663"/>
                  </a:lnTo>
                  <a:lnTo>
                    <a:pt x="528" y="681"/>
                  </a:lnTo>
                  <a:lnTo>
                    <a:pt x="495" y="691"/>
                  </a:lnTo>
                  <a:lnTo>
                    <a:pt x="438" y="694"/>
                  </a:lnTo>
                  <a:lnTo>
                    <a:pt x="345" y="694"/>
                  </a:lnTo>
                  <a:lnTo>
                    <a:pt x="303" y="681"/>
                  </a:lnTo>
                  <a:lnTo>
                    <a:pt x="262" y="670"/>
                  </a:lnTo>
                  <a:lnTo>
                    <a:pt x="216" y="646"/>
                  </a:lnTo>
                  <a:lnTo>
                    <a:pt x="184" y="618"/>
                  </a:lnTo>
                  <a:lnTo>
                    <a:pt x="152" y="578"/>
                  </a:lnTo>
                  <a:lnTo>
                    <a:pt x="128" y="532"/>
                  </a:lnTo>
                  <a:lnTo>
                    <a:pt x="120" y="500"/>
                  </a:lnTo>
                  <a:lnTo>
                    <a:pt x="120" y="473"/>
                  </a:lnTo>
                  <a:lnTo>
                    <a:pt x="126" y="448"/>
                  </a:lnTo>
                  <a:lnTo>
                    <a:pt x="146" y="410"/>
                  </a:lnTo>
                  <a:lnTo>
                    <a:pt x="210" y="345"/>
                  </a:lnTo>
                  <a:lnTo>
                    <a:pt x="267" y="306"/>
                  </a:lnTo>
                  <a:lnTo>
                    <a:pt x="357" y="248"/>
                  </a:lnTo>
                  <a:lnTo>
                    <a:pt x="399" y="230"/>
                  </a:lnTo>
                  <a:lnTo>
                    <a:pt x="423" y="218"/>
                  </a:lnTo>
                  <a:lnTo>
                    <a:pt x="423" y="185"/>
                  </a:lnTo>
                  <a:lnTo>
                    <a:pt x="418" y="168"/>
                  </a:lnTo>
                  <a:lnTo>
                    <a:pt x="408" y="167"/>
                  </a:lnTo>
                  <a:close/>
                </a:path>
              </a:pathLst>
            </a:custGeom>
            <a:solidFill>
              <a:srgbClr val="fc8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4" name=""/>
          <p:cNvGrpSpPr/>
          <p:nvPr/>
        </p:nvGrpSpPr>
        <p:grpSpPr>
          <a:xfrm>
            <a:off x="7478640" y="4722840"/>
            <a:ext cx="1269720" cy="1018800"/>
            <a:chOff x="7478640" y="4722840"/>
            <a:chExt cx="1269720" cy="1018800"/>
          </a:xfrm>
        </p:grpSpPr>
        <p:sp>
          <p:nvSpPr>
            <p:cNvPr id="1695" name=""/>
            <p:cNvSpPr/>
            <p:nvPr/>
          </p:nvSpPr>
          <p:spPr>
            <a:xfrm>
              <a:off x="7509240" y="4761000"/>
              <a:ext cx="1208160" cy="94788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efef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576920" y="4853520"/>
              <a:ext cx="1078920" cy="607320"/>
            </a:xfrm>
            <a:prstGeom prst="rect">
              <a:avLst/>
            </a:prstGeom>
            <a:gradFill rotWithShape="0">
              <a:gsLst>
                <a:gs pos="0">
                  <a:srgbClr val="c0fef9"/>
                </a:gs>
                <a:gs pos="100000">
                  <a:srgbClr val="394b49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28"/>
                  </a:solidFill>
                  <a:latin typeface="Arial"/>
                </a:rPr>
                <a:t>ONT-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8730360" y="4722840"/>
              <a:ext cx="18000" cy="101340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478640" y="4728240"/>
              <a:ext cx="18000" cy="101340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509240" y="5715000"/>
              <a:ext cx="1206360" cy="190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509240" y="5641920"/>
              <a:ext cx="1208160" cy="66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591320" y="5578200"/>
              <a:ext cx="54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2" name=""/>
          <p:cNvSpPr/>
          <p:nvPr/>
        </p:nvSpPr>
        <p:spPr>
          <a:xfrm>
            <a:off x="6433560" y="4111560"/>
            <a:ext cx="156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Optical </a:t>
            </a:r>
            <a:br>
              <a:rPr sz="1600"/>
            </a:b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Q-factor 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1452600" y="4692600"/>
            <a:ext cx="591516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cation of dispersion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ation of DWDM system setting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best signal qual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channel power, gain, dispersion compen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7977240" y="3403440"/>
            <a:ext cx="0" cy="135900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5" name=""/>
          <p:cNvGrpSpPr/>
          <p:nvPr/>
        </p:nvGrpSpPr>
        <p:grpSpPr>
          <a:xfrm>
            <a:off x="1625760" y="1825560"/>
            <a:ext cx="7116120" cy="2287440"/>
            <a:chOff x="1625760" y="1825560"/>
            <a:chExt cx="7116120" cy="2287440"/>
          </a:xfrm>
        </p:grpSpPr>
        <p:sp>
          <p:nvSpPr>
            <p:cNvPr id="1706" name=""/>
            <p:cNvSpPr/>
            <p:nvPr/>
          </p:nvSpPr>
          <p:spPr>
            <a:xfrm>
              <a:off x="2795760" y="2867040"/>
              <a:ext cx="475128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626360" y="2241360"/>
              <a:ext cx="685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</a:t>
              </a:r>
              <a:r>
                <a:rPr b="1" lang="en-US" sz="1600" spc="-1" strike="noStrike" baseline="-25000">
                  <a:solidFill>
                    <a:srgbClr val="0033cc"/>
                  </a:solidFill>
                  <a:latin typeface="Symbol"/>
                  <a:ea typeface="Symbol"/>
                </a:rPr>
                <a:t></a:t>
              </a:r>
              <a:r>
                <a:rPr b="1" lang="en-US" sz="16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</a:t>
              </a:r>
              <a:r>
                <a:rPr b="1" lang="en-US" sz="1600" spc="-1" strike="noStrike" baseline="-25000">
                  <a:solidFill>
                    <a:srgbClr val="0033cc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797200" y="2863800"/>
              <a:ext cx="26208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235480" y="2868480"/>
              <a:ext cx="17161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632040" y="2862000"/>
              <a:ext cx="7891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1" name=""/>
            <p:cNvGrpSpPr/>
            <p:nvPr/>
          </p:nvGrpSpPr>
          <p:grpSpPr>
            <a:xfrm>
              <a:off x="3622680" y="2714400"/>
              <a:ext cx="239040" cy="147600"/>
              <a:chOff x="3622680" y="2714400"/>
              <a:chExt cx="239040" cy="147600"/>
            </a:xfrm>
          </p:grpSpPr>
          <p:sp>
            <p:nvSpPr>
              <p:cNvPr id="1712" name=""/>
              <p:cNvSpPr/>
              <p:nvPr/>
            </p:nvSpPr>
            <p:spPr>
              <a:xfrm>
                <a:off x="3622680" y="2714400"/>
                <a:ext cx="193680" cy="147600"/>
              </a:xfrm>
              <a:prstGeom prst="ellipse">
                <a:avLst/>
              </a:prstGeom>
              <a:noFill/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668040" y="2714400"/>
                <a:ext cx="193680" cy="147600"/>
              </a:xfrm>
              <a:prstGeom prst="ellipse">
                <a:avLst/>
              </a:prstGeom>
              <a:noFill/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4" name=""/>
            <p:cNvGrpSpPr/>
            <p:nvPr/>
          </p:nvGrpSpPr>
          <p:grpSpPr>
            <a:xfrm>
              <a:off x="6369120" y="2727360"/>
              <a:ext cx="240840" cy="147600"/>
              <a:chOff x="6369120" y="2727360"/>
              <a:chExt cx="240840" cy="147600"/>
            </a:xfrm>
          </p:grpSpPr>
          <p:sp>
            <p:nvSpPr>
              <p:cNvPr id="1715" name=""/>
              <p:cNvSpPr/>
              <p:nvPr/>
            </p:nvSpPr>
            <p:spPr>
              <a:xfrm>
                <a:off x="6369120" y="2727360"/>
                <a:ext cx="195120" cy="147600"/>
              </a:xfrm>
              <a:prstGeom prst="ellipse">
                <a:avLst/>
              </a:prstGeom>
              <a:noFill/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414840" y="2727360"/>
                <a:ext cx="195120" cy="147600"/>
              </a:xfrm>
              <a:prstGeom prst="ellipse">
                <a:avLst/>
              </a:prstGeom>
              <a:noFill/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6832080" y="2671560"/>
              <a:ext cx="564480" cy="527040"/>
              <a:chOff x="6832080" y="2671560"/>
              <a:chExt cx="564480" cy="527040"/>
            </a:xfrm>
          </p:grpSpPr>
          <p:grpSp>
            <p:nvGrpSpPr>
              <p:cNvPr id="1718" name=""/>
              <p:cNvGrpSpPr/>
              <p:nvPr/>
            </p:nvGrpSpPr>
            <p:grpSpPr>
              <a:xfrm>
                <a:off x="6930000" y="2671560"/>
                <a:ext cx="466560" cy="527040"/>
                <a:chOff x="6930000" y="2671560"/>
                <a:chExt cx="466560" cy="527040"/>
              </a:xfrm>
            </p:grpSpPr>
            <p:grpSp>
              <p:nvGrpSpPr>
                <p:cNvPr id="1719" name=""/>
                <p:cNvGrpSpPr/>
                <p:nvPr/>
              </p:nvGrpSpPr>
              <p:grpSpPr>
                <a:xfrm>
                  <a:off x="7064640" y="2884320"/>
                  <a:ext cx="331920" cy="314280"/>
                  <a:chOff x="7064640" y="2884320"/>
                  <a:chExt cx="331920" cy="314280"/>
                </a:xfrm>
              </p:grpSpPr>
              <p:sp>
                <p:nvSpPr>
                  <p:cNvPr id="1720" name=""/>
                  <p:cNvSpPr/>
                  <p:nvPr/>
                </p:nvSpPr>
                <p:spPr>
                  <a:xfrm>
                    <a:off x="7329600" y="3160440"/>
                    <a:ext cx="66960" cy="381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21" name=""/>
                  <p:cNvGrpSpPr/>
                  <p:nvPr/>
                </p:nvGrpSpPr>
                <p:grpSpPr>
                  <a:xfrm>
                    <a:off x="7064640" y="2884320"/>
                    <a:ext cx="302760" cy="280080"/>
                    <a:chOff x="7064640" y="2884320"/>
                    <a:chExt cx="302760" cy="280080"/>
                  </a:xfrm>
                </p:grpSpPr>
                <p:sp>
                  <p:nvSpPr>
                    <p:cNvPr id="1722" name=""/>
                    <p:cNvSpPr/>
                    <p:nvPr/>
                  </p:nvSpPr>
                  <p:spPr>
                    <a:xfrm>
                      <a:off x="7064640" y="2884320"/>
                      <a:ext cx="302400" cy="13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60698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6069826"/>
                        </a:path>
                      </a:pathLst>
                    </a:custGeom>
                    <a:noFill/>
                    <a:ln w="2844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3" name=""/>
                    <p:cNvSpPr/>
                    <p:nvPr/>
                  </p:nvSpPr>
                  <p:spPr>
                    <a:xfrm>
                      <a:off x="7367400" y="2960640"/>
                      <a:ext cx="0" cy="203760"/>
                    </a:xfrm>
                    <a:prstGeom prst="line">
                      <a:avLst/>
                    </a:prstGeom>
                    <a:ln w="2844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724" name=""/>
                <p:cNvSpPr/>
                <p:nvPr/>
              </p:nvSpPr>
              <p:spPr>
                <a:xfrm>
                  <a:off x="6930000" y="2671560"/>
                  <a:ext cx="369720" cy="387360"/>
                </a:xfrm>
                <a:custGeom>
                  <a:avLst/>
                  <a:gdLst/>
                  <a:ahLst/>
                  <a:rect l="l" t="t" r="r" b="b"/>
                  <a:pathLst>
                    <a:path w="1248" h="1239">
                      <a:moveTo>
                        <a:pt x="0" y="0"/>
                      </a:moveTo>
                      <a:lnTo>
                        <a:pt x="1248" y="621"/>
                      </a:lnTo>
                      <a:lnTo>
                        <a:pt x="0" y="12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5" name=""/>
              <p:cNvSpPr/>
              <p:nvPr/>
            </p:nvSpPr>
            <p:spPr>
              <a:xfrm>
                <a:off x="6832080" y="2738160"/>
                <a:ext cx="441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F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6" name=""/>
            <p:cNvGrpSpPr/>
            <p:nvPr/>
          </p:nvGrpSpPr>
          <p:grpSpPr>
            <a:xfrm>
              <a:off x="4316400" y="2665440"/>
              <a:ext cx="562320" cy="527040"/>
              <a:chOff x="4316400" y="2665440"/>
              <a:chExt cx="562320" cy="527040"/>
            </a:xfrm>
          </p:grpSpPr>
          <p:grpSp>
            <p:nvGrpSpPr>
              <p:cNvPr id="1727" name=""/>
              <p:cNvGrpSpPr/>
              <p:nvPr/>
            </p:nvGrpSpPr>
            <p:grpSpPr>
              <a:xfrm>
                <a:off x="4413600" y="2665440"/>
                <a:ext cx="465120" cy="527040"/>
                <a:chOff x="4413600" y="2665440"/>
                <a:chExt cx="465120" cy="527040"/>
              </a:xfrm>
            </p:grpSpPr>
            <p:grpSp>
              <p:nvGrpSpPr>
                <p:cNvPr id="1728" name=""/>
                <p:cNvGrpSpPr/>
                <p:nvPr/>
              </p:nvGrpSpPr>
              <p:grpSpPr>
                <a:xfrm>
                  <a:off x="4547880" y="2878200"/>
                  <a:ext cx="330840" cy="314280"/>
                  <a:chOff x="4547880" y="2878200"/>
                  <a:chExt cx="330840" cy="31428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>
                    <a:off x="4812120" y="3154320"/>
                    <a:ext cx="66600" cy="381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0" name=""/>
                  <p:cNvGrpSpPr/>
                  <p:nvPr/>
                </p:nvGrpSpPr>
                <p:grpSpPr>
                  <a:xfrm>
                    <a:off x="4547880" y="2878200"/>
                    <a:ext cx="302040" cy="280080"/>
                    <a:chOff x="4547880" y="2878200"/>
                    <a:chExt cx="302040" cy="280080"/>
                  </a:xfrm>
                </p:grpSpPr>
                <p:sp>
                  <p:nvSpPr>
                    <p:cNvPr id="1731" name=""/>
                    <p:cNvSpPr/>
                    <p:nvPr/>
                  </p:nvSpPr>
                  <p:spPr>
                    <a:xfrm>
                      <a:off x="4547880" y="2878200"/>
                      <a:ext cx="301680" cy="13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60698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6069826"/>
                        </a:path>
                      </a:pathLst>
                    </a:custGeom>
                    <a:noFill/>
                    <a:ln w="2844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2" name=""/>
                    <p:cNvSpPr/>
                    <p:nvPr/>
                  </p:nvSpPr>
                  <p:spPr>
                    <a:xfrm>
                      <a:off x="4849920" y="2954520"/>
                      <a:ext cx="0" cy="203760"/>
                    </a:xfrm>
                    <a:prstGeom prst="line">
                      <a:avLst/>
                    </a:prstGeom>
                    <a:ln w="2844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733" name=""/>
                <p:cNvSpPr/>
                <p:nvPr/>
              </p:nvSpPr>
              <p:spPr>
                <a:xfrm>
                  <a:off x="4413600" y="2665440"/>
                  <a:ext cx="368640" cy="387360"/>
                </a:xfrm>
                <a:custGeom>
                  <a:avLst/>
                  <a:gdLst/>
                  <a:ahLst/>
                  <a:rect l="l" t="t" r="r" b="b"/>
                  <a:pathLst>
                    <a:path w="1248" h="1239">
                      <a:moveTo>
                        <a:pt x="0" y="0"/>
                      </a:moveTo>
                      <a:lnTo>
                        <a:pt x="1248" y="621"/>
                      </a:lnTo>
                      <a:lnTo>
                        <a:pt x="0" y="12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4" name=""/>
              <p:cNvSpPr/>
              <p:nvPr/>
            </p:nvSpPr>
            <p:spPr>
              <a:xfrm>
                <a:off x="4316400" y="2732040"/>
                <a:ext cx="441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F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5" name=""/>
            <p:cNvGrpSpPr/>
            <p:nvPr/>
          </p:nvGrpSpPr>
          <p:grpSpPr>
            <a:xfrm>
              <a:off x="2953080" y="2679480"/>
              <a:ext cx="561960" cy="527040"/>
              <a:chOff x="2953080" y="2679480"/>
              <a:chExt cx="561960" cy="527040"/>
            </a:xfrm>
          </p:grpSpPr>
          <p:grpSp>
            <p:nvGrpSpPr>
              <p:cNvPr id="1736" name=""/>
              <p:cNvGrpSpPr/>
              <p:nvPr/>
            </p:nvGrpSpPr>
            <p:grpSpPr>
              <a:xfrm>
                <a:off x="3049920" y="2679480"/>
                <a:ext cx="465120" cy="527040"/>
                <a:chOff x="3049920" y="2679480"/>
                <a:chExt cx="465120" cy="527040"/>
              </a:xfrm>
            </p:grpSpPr>
            <p:grpSp>
              <p:nvGrpSpPr>
                <p:cNvPr id="1737" name=""/>
                <p:cNvGrpSpPr/>
                <p:nvPr/>
              </p:nvGrpSpPr>
              <p:grpSpPr>
                <a:xfrm>
                  <a:off x="3184200" y="2892240"/>
                  <a:ext cx="330840" cy="314280"/>
                  <a:chOff x="3184200" y="2892240"/>
                  <a:chExt cx="330840" cy="314280"/>
                </a:xfrm>
              </p:grpSpPr>
              <p:sp>
                <p:nvSpPr>
                  <p:cNvPr id="1738" name=""/>
                  <p:cNvSpPr/>
                  <p:nvPr/>
                </p:nvSpPr>
                <p:spPr>
                  <a:xfrm>
                    <a:off x="3448440" y="3168360"/>
                    <a:ext cx="66600" cy="381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9" name=""/>
                  <p:cNvGrpSpPr/>
                  <p:nvPr/>
                </p:nvGrpSpPr>
                <p:grpSpPr>
                  <a:xfrm>
                    <a:off x="3184200" y="2892240"/>
                    <a:ext cx="302040" cy="280080"/>
                    <a:chOff x="3184200" y="2892240"/>
                    <a:chExt cx="302040" cy="280080"/>
                  </a:xfrm>
                </p:grpSpPr>
                <p:sp>
                  <p:nvSpPr>
                    <p:cNvPr id="1740" name=""/>
                    <p:cNvSpPr/>
                    <p:nvPr/>
                  </p:nvSpPr>
                  <p:spPr>
                    <a:xfrm>
                      <a:off x="3184200" y="2892240"/>
                      <a:ext cx="301680" cy="13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60698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6069826"/>
                        </a:path>
                      </a:pathLst>
                    </a:custGeom>
                    <a:noFill/>
                    <a:ln w="2844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1" name=""/>
                    <p:cNvSpPr/>
                    <p:nvPr/>
                  </p:nvSpPr>
                  <p:spPr>
                    <a:xfrm>
                      <a:off x="3486240" y="2968560"/>
                      <a:ext cx="0" cy="203760"/>
                    </a:xfrm>
                    <a:prstGeom prst="line">
                      <a:avLst/>
                    </a:prstGeom>
                    <a:ln w="2844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742" name=""/>
                <p:cNvSpPr/>
                <p:nvPr/>
              </p:nvSpPr>
              <p:spPr>
                <a:xfrm>
                  <a:off x="3049920" y="2679480"/>
                  <a:ext cx="369000" cy="387360"/>
                </a:xfrm>
                <a:custGeom>
                  <a:avLst/>
                  <a:gdLst/>
                  <a:ahLst/>
                  <a:rect l="l" t="t" r="r" b="b"/>
                  <a:pathLst>
                    <a:path w="1248" h="1239">
                      <a:moveTo>
                        <a:pt x="0" y="0"/>
                      </a:moveTo>
                      <a:lnTo>
                        <a:pt x="1248" y="621"/>
                      </a:lnTo>
                      <a:lnTo>
                        <a:pt x="0" y="12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3" name=""/>
              <p:cNvSpPr/>
              <p:nvPr/>
            </p:nvSpPr>
            <p:spPr>
              <a:xfrm>
                <a:off x="2953080" y="2746080"/>
                <a:ext cx="441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F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4" name=""/>
            <p:cNvGrpSpPr/>
            <p:nvPr/>
          </p:nvGrpSpPr>
          <p:grpSpPr>
            <a:xfrm>
              <a:off x="1625760" y="1827000"/>
              <a:ext cx="1170720" cy="2286000"/>
              <a:chOff x="1625760" y="1827000"/>
              <a:chExt cx="1170720" cy="2286000"/>
            </a:xfrm>
          </p:grpSpPr>
          <p:grpSp>
            <p:nvGrpSpPr>
              <p:cNvPr id="1745" name=""/>
              <p:cNvGrpSpPr/>
              <p:nvPr/>
            </p:nvGrpSpPr>
            <p:grpSpPr>
              <a:xfrm>
                <a:off x="2459160" y="1827000"/>
                <a:ext cx="337320" cy="2286000"/>
                <a:chOff x="2459160" y="1827000"/>
                <a:chExt cx="337320" cy="2286000"/>
              </a:xfrm>
            </p:grpSpPr>
            <p:sp>
              <p:nvSpPr>
                <p:cNvPr id="1746" name=""/>
                <p:cNvSpPr/>
                <p:nvPr/>
              </p:nvSpPr>
              <p:spPr>
                <a:xfrm rot="16200000">
                  <a:off x="1490760" y="2817360"/>
                  <a:ext cx="2286000" cy="304920"/>
                </a:xfrm>
                <a:custGeom>
                  <a:avLst/>
                  <a:gdLst>
                    <a:gd name="textAreaLeft" fmla="*/ 293760 w 2286000"/>
                    <a:gd name="textAreaRight" fmla="*/ 1992240 w 2286000"/>
                    <a:gd name="textAreaTop" fmla="*/ 39240 h 304920"/>
                    <a:gd name="textAreaBottom" fmla="*/ 2656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752" y="21600"/>
                      </a:lnTo>
                      <a:lnTo>
                        <a:pt x="1848" y="21600"/>
                      </a:lnTo>
                      <a:close/>
                    </a:path>
                  </a:pathLst>
                </a:custGeom>
                <a:solidFill>
                  <a:srgbClr val="75dd7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 rot="16200000">
                  <a:off x="1979640" y="2781000"/>
                  <a:ext cx="129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DWDM Mu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8" name=""/>
              <p:cNvGrpSpPr/>
              <p:nvPr/>
            </p:nvGrpSpPr>
            <p:grpSpPr>
              <a:xfrm>
                <a:off x="1625760" y="2076120"/>
                <a:ext cx="839520" cy="1810080"/>
                <a:chOff x="1625760" y="2076120"/>
                <a:chExt cx="839520" cy="1810080"/>
              </a:xfrm>
            </p:grpSpPr>
            <p:sp>
              <p:nvSpPr>
                <p:cNvPr id="1749" name=""/>
                <p:cNvSpPr/>
                <p:nvPr/>
              </p:nvSpPr>
              <p:spPr>
                <a:xfrm>
                  <a:off x="2033640" y="2743200"/>
                  <a:ext cx="43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2024280" y="3193920"/>
                  <a:ext cx="43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2032200" y="3779640"/>
                  <a:ext cx="43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2033640" y="2190600"/>
                  <a:ext cx="43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3" name=""/>
                <p:cNvGrpSpPr/>
                <p:nvPr/>
              </p:nvGrpSpPr>
              <p:grpSpPr>
                <a:xfrm>
                  <a:off x="1781280" y="2368440"/>
                  <a:ext cx="27000" cy="172440"/>
                  <a:chOff x="1781280" y="2368440"/>
                  <a:chExt cx="27000" cy="172440"/>
                </a:xfrm>
              </p:grpSpPr>
              <p:sp>
                <p:nvSpPr>
                  <p:cNvPr id="1754" name=""/>
                  <p:cNvSpPr/>
                  <p:nvPr/>
                </p:nvSpPr>
                <p:spPr>
                  <a:xfrm>
                    <a:off x="1781280" y="23684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1781280" y="24426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1781280" y="25142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57" name=""/>
                <p:cNvSpPr/>
                <p:nvPr/>
              </p:nvSpPr>
              <p:spPr>
                <a:xfrm>
                  <a:off x="1625760" y="2076120"/>
                  <a:ext cx="380880" cy="2383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1625760" y="2609640"/>
                  <a:ext cx="380880" cy="2383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1625760" y="3095280"/>
                  <a:ext cx="380880" cy="2383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1625760" y="3647880"/>
                  <a:ext cx="380880" cy="2383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1" name=""/>
                <p:cNvGrpSpPr/>
                <p:nvPr/>
              </p:nvGrpSpPr>
              <p:grpSpPr>
                <a:xfrm>
                  <a:off x="1781280" y="3368520"/>
                  <a:ext cx="27000" cy="173160"/>
                  <a:chOff x="1781280" y="3368520"/>
                  <a:chExt cx="27000" cy="173160"/>
                </a:xfrm>
              </p:grpSpPr>
              <p:sp>
                <p:nvSpPr>
                  <p:cNvPr id="1762" name=""/>
                  <p:cNvSpPr/>
                  <p:nvPr/>
                </p:nvSpPr>
                <p:spPr>
                  <a:xfrm>
                    <a:off x="1781280" y="33685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>
                    <a:off x="1781280" y="34430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>
                    <a:off x="1781280" y="35146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65" name=""/>
            <p:cNvGrpSpPr/>
            <p:nvPr/>
          </p:nvGrpSpPr>
          <p:grpSpPr>
            <a:xfrm>
              <a:off x="7540560" y="1825560"/>
              <a:ext cx="1201320" cy="2286000"/>
              <a:chOff x="7540560" y="1825560"/>
              <a:chExt cx="1201320" cy="2286000"/>
            </a:xfrm>
          </p:grpSpPr>
          <p:grpSp>
            <p:nvGrpSpPr>
              <p:cNvPr id="1766" name=""/>
              <p:cNvGrpSpPr/>
              <p:nvPr/>
            </p:nvGrpSpPr>
            <p:grpSpPr>
              <a:xfrm>
                <a:off x="7902360" y="2101680"/>
                <a:ext cx="839520" cy="1809720"/>
                <a:chOff x="7902360" y="2101680"/>
                <a:chExt cx="839520" cy="1809720"/>
              </a:xfrm>
            </p:grpSpPr>
            <p:sp>
              <p:nvSpPr>
                <p:cNvPr id="1767" name=""/>
                <p:cNvSpPr/>
                <p:nvPr/>
              </p:nvSpPr>
              <p:spPr>
                <a:xfrm>
                  <a:off x="7911720" y="2749320"/>
                  <a:ext cx="43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7902360" y="3200400"/>
                  <a:ext cx="43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7910280" y="3786120"/>
                  <a:ext cx="43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7911720" y="2197080"/>
                  <a:ext cx="43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1" name=""/>
                <p:cNvGrpSpPr/>
                <p:nvPr/>
              </p:nvGrpSpPr>
              <p:grpSpPr>
                <a:xfrm>
                  <a:off x="8516520" y="2393640"/>
                  <a:ext cx="27000" cy="173160"/>
                  <a:chOff x="8516520" y="2393640"/>
                  <a:chExt cx="27000" cy="173160"/>
                </a:xfrm>
              </p:grpSpPr>
              <p:sp>
                <p:nvSpPr>
                  <p:cNvPr id="1772" name=""/>
                  <p:cNvSpPr/>
                  <p:nvPr/>
                </p:nvSpPr>
                <p:spPr>
                  <a:xfrm>
                    <a:off x="8516520" y="23936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3" name=""/>
                  <p:cNvSpPr/>
                  <p:nvPr/>
                </p:nvSpPr>
                <p:spPr>
                  <a:xfrm>
                    <a:off x="8516520" y="24681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4" name=""/>
                  <p:cNvSpPr/>
                  <p:nvPr/>
                </p:nvSpPr>
                <p:spPr>
                  <a:xfrm>
                    <a:off x="8516520" y="25398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5" name=""/>
                <p:cNvSpPr/>
                <p:nvPr/>
              </p:nvSpPr>
              <p:spPr>
                <a:xfrm>
                  <a:off x="8361000" y="2101680"/>
                  <a:ext cx="380880" cy="2379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R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8361000" y="2635200"/>
                  <a:ext cx="380880" cy="2379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R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8361000" y="3120840"/>
                  <a:ext cx="380880" cy="2379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R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8361000" y="3673440"/>
                  <a:ext cx="380880" cy="2379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R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9" name=""/>
                <p:cNvGrpSpPr/>
                <p:nvPr/>
              </p:nvGrpSpPr>
              <p:grpSpPr>
                <a:xfrm>
                  <a:off x="8516520" y="3393720"/>
                  <a:ext cx="27000" cy="173160"/>
                  <a:chOff x="8516520" y="3393720"/>
                  <a:chExt cx="27000" cy="173160"/>
                </a:xfrm>
              </p:grpSpPr>
              <p:sp>
                <p:nvSpPr>
                  <p:cNvPr id="1780" name=""/>
                  <p:cNvSpPr/>
                  <p:nvPr/>
                </p:nvSpPr>
                <p:spPr>
                  <a:xfrm>
                    <a:off x="8516520" y="33937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1" name=""/>
                  <p:cNvSpPr/>
                  <p:nvPr/>
                </p:nvSpPr>
                <p:spPr>
                  <a:xfrm>
                    <a:off x="8516520" y="34682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>
                    <a:off x="8516520" y="35398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3" name=""/>
              <p:cNvGrpSpPr/>
              <p:nvPr/>
            </p:nvGrpSpPr>
            <p:grpSpPr>
              <a:xfrm>
                <a:off x="7540560" y="1825560"/>
                <a:ext cx="337320" cy="2286000"/>
                <a:chOff x="7540560" y="1825560"/>
                <a:chExt cx="337320" cy="2286000"/>
              </a:xfrm>
            </p:grpSpPr>
            <p:sp>
              <p:nvSpPr>
                <p:cNvPr id="1784" name=""/>
                <p:cNvSpPr/>
                <p:nvPr/>
              </p:nvSpPr>
              <p:spPr>
                <a:xfrm flipH="1" rot="5400000">
                  <a:off x="6559920" y="2815920"/>
                  <a:ext cx="2286000" cy="304920"/>
                </a:xfrm>
                <a:custGeom>
                  <a:avLst/>
                  <a:gdLst>
                    <a:gd name="textAreaLeft" fmla="*/ 293760 w 2286000"/>
                    <a:gd name="textAreaRight" fmla="*/ 1992240 w 2286000"/>
                    <a:gd name="textAreaTop" fmla="*/ 39240 h 304920"/>
                    <a:gd name="textAreaBottom" fmla="*/ 2656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752" y="21600"/>
                      </a:lnTo>
                      <a:lnTo>
                        <a:pt x="1848" y="21600"/>
                      </a:lnTo>
                      <a:close/>
                    </a:path>
                  </a:pathLst>
                </a:custGeom>
                <a:solidFill>
                  <a:srgbClr val="75dd7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rot="16200000">
                  <a:off x="7061040" y="2801880"/>
                  <a:ext cx="129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DWDM Mu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6" name=""/>
            <p:cNvGrpSpPr/>
            <p:nvPr/>
          </p:nvGrpSpPr>
          <p:grpSpPr>
            <a:xfrm>
              <a:off x="5669280" y="2678040"/>
              <a:ext cx="561960" cy="527040"/>
              <a:chOff x="5669280" y="2678040"/>
              <a:chExt cx="561960" cy="527040"/>
            </a:xfrm>
          </p:grpSpPr>
          <p:grpSp>
            <p:nvGrpSpPr>
              <p:cNvPr id="1787" name=""/>
              <p:cNvGrpSpPr/>
              <p:nvPr/>
            </p:nvGrpSpPr>
            <p:grpSpPr>
              <a:xfrm>
                <a:off x="5766120" y="2678040"/>
                <a:ext cx="465120" cy="527040"/>
                <a:chOff x="5766120" y="2678040"/>
                <a:chExt cx="465120" cy="527040"/>
              </a:xfrm>
            </p:grpSpPr>
            <p:grpSp>
              <p:nvGrpSpPr>
                <p:cNvPr id="1788" name=""/>
                <p:cNvGrpSpPr/>
                <p:nvPr/>
              </p:nvGrpSpPr>
              <p:grpSpPr>
                <a:xfrm>
                  <a:off x="5900400" y="2890800"/>
                  <a:ext cx="330840" cy="314280"/>
                  <a:chOff x="5900400" y="2890800"/>
                  <a:chExt cx="330840" cy="314280"/>
                </a:xfrm>
              </p:grpSpPr>
              <p:sp>
                <p:nvSpPr>
                  <p:cNvPr id="1789" name=""/>
                  <p:cNvSpPr/>
                  <p:nvPr/>
                </p:nvSpPr>
                <p:spPr>
                  <a:xfrm>
                    <a:off x="6164640" y="3166920"/>
                    <a:ext cx="66600" cy="381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90" name=""/>
                  <p:cNvGrpSpPr/>
                  <p:nvPr/>
                </p:nvGrpSpPr>
                <p:grpSpPr>
                  <a:xfrm>
                    <a:off x="5900400" y="2890800"/>
                    <a:ext cx="302040" cy="280080"/>
                    <a:chOff x="5900400" y="2890800"/>
                    <a:chExt cx="302040" cy="280080"/>
                  </a:xfrm>
                </p:grpSpPr>
                <p:sp>
                  <p:nvSpPr>
                    <p:cNvPr id="1791" name=""/>
                    <p:cNvSpPr/>
                    <p:nvPr/>
                  </p:nvSpPr>
                  <p:spPr>
                    <a:xfrm>
                      <a:off x="5900400" y="2890800"/>
                      <a:ext cx="301680" cy="13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60698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6069826"/>
                        </a:path>
                      </a:pathLst>
                    </a:custGeom>
                    <a:noFill/>
                    <a:ln w="2844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2" name=""/>
                    <p:cNvSpPr/>
                    <p:nvPr/>
                  </p:nvSpPr>
                  <p:spPr>
                    <a:xfrm>
                      <a:off x="6202440" y="2967120"/>
                      <a:ext cx="0" cy="203760"/>
                    </a:xfrm>
                    <a:prstGeom prst="line">
                      <a:avLst/>
                    </a:prstGeom>
                    <a:ln w="2844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793" name=""/>
                <p:cNvSpPr/>
                <p:nvPr/>
              </p:nvSpPr>
              <p:spPr>
                <a:xfrm>
                  <a:off x="5766120" y="2678040"/>
                  <a:ext cx="369000" cy="387360"/>
                </a:xfrm>
                <a:custGeom>
                  <a:avLst/>
                  <a:gdLst/>
                  <a:ahLst/>
                  <a:rect l="l" t="t" r="r" b="b"/>
                  <a:pathLst>
                    <a:path w="1248" h="1239">
                      <a:moveTo>
                        <a:pt x="0" y="0"/>
                      </a:moveTo>
                      <a:lnTo>
                        <a:pt x="1248" y="621"/>
                      </a:lnTo>
                      <a:lnTo>
                        <a:pt x="0" y="12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4" name=""/>
              <p:cNvSpPr/>
              <p:nvPr/>
            </p:nvSpPr>
            <p:spPr>
              <a:xfrm>
                <a:off x="5669280" y="2744640"/>
                <a:ext cx="441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F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5" name=""/>
            <p:cNvSpPr/>
            <p:nvPr/>
          </p:nvSpPr>
          <p:spPr>
            <a:xfrm>
              <a:off x="4927680" y="2698560"/>
              <a:ext cx="61128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5027760" y="2540160"/>
              <a:ext cx="396720" cy="668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V="1">
              <a:off x="5719680" y="2547000"/>
              <a:ext cx="397080" cy="66888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V="1">
              <a:off x="4373640" y="2521080"/>
              <a:ext cx="396720" cy="668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V="1">
              <a:off x="3033720" y="2540160"/>
              <a:ext cx="396720" cy="668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V="1">
              <a:off x="7975440" y="2215800"/>
              <a:ext cx="0" cy="1523880"/>
            </a:xfrm>
            <a:prstGeom prst="line">
              <a:avLst/>
            </a:prstGeom>
            <a:ln w="28440">
              <a:solidFill>
                <a:srgbClr val="99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1" name=""/>
          <p:cNvSpPr/>
          <p:nvPr/>
        </p:nvSpPr>
        <p:spPr>
          <a:xfrm>
            <a:off x="3109680" y="347328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M: dispersion compensation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2" name=""/>
          <p:cNvGrpSpPr/>
          <p:nvPr/>
        </p:nvGrpSpPr>
        <p:grpSpPr>
          <a:xfrm>
            <a:off x="2601720" y="1397160"/>
            <a:ext cx="5065560" cy="876240"/>
            <a:chOff x="2601720" y="1397160"/>
            <a:chExt cx="5065560" cy="876240"/>
          </a:xfrm>
        </p:grpSpPr>
        <p:sp>
          <p:nvSpPr>
            <p:cNvPr id="1803" name=""/>
            <p:cNvSpPr/>
            <p:nvPr/>
          </p:nvSpPr>
          <p:spPr>
            <a:xfrm rot="5400000">
              <a:off x="4696200" y="-697320"/>
              <a:ext cx="876240" cy="5065560"/>
            </a:xfrm>
            <a:prstGeom prst="rightArrow">
              <a:avLst>
                <a:gd name="adj1" fmla="val 70926"/>
                <a:gd name="adj2" fmla="val 65218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980520" y="1428840"/>
              <a:ext cx="230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MPAIRMENT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spersion,  non-linearities,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(FWM, XPM 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ystem Optim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cover dir="rd"/>
      </p:transition>
    </mc:Choice>
    <mc:Fallback>
      <p:transition spd="slow">
        <p:cover dir="rd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"/>
          <p:cNvSpPr/>
          <p:nvPr/>
        </p:nvSpPr>
        <p:spPr>
          <a:xfrm>
            <a:off x="1596960" y="4637160"/>
            <a:ext cx="5408640" cy="684000"/>
          </a:xfrm>
          <a:custGeom>
            <a:avLst/>
            <a:gdLst/>
            <a:ahLst/>
            <a:rect l="l" t="t" r="r" b="b"/>
            <a:pathLst>
              <a:path w="4753" h="549">
                <a:moveTo>
                  <a:pt x="565" y="0"/>
                </a:moveTo>
                <a:lnTo>
                  <a:pt x="0" y="548"/>
                </a:lnTo>
                <a:lnTo>
                  <a:pt x="4187" y="548"/>
                </a:lnTo>
                <a:lnTo>
                  <a:pt x="4752" y="3"/>
                </a:lnTo>
                <a:lnTo>
                  <a:pt x="565" y="0"/>
                </a:lnTo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1673280" y="4191120"/>
            <a:ext cx="5408640" cy="684000"/>
          </a:xfrm>
          <a:custGeom>
            <a:avLst/>
            <a:gdLst/>
            <a:ahLst/>
            <a:rect l="l" t="t" r="r" b="b"/>
            <a:pathLst>
              <a:path w="4753" h="549">
                <a:moveTo>
                  <a:pt x="565" y="0"/>
                </a:moveTo>
                <a:lnTo>
                  <a:pt x="0" y="548"/>
                </a:lnTo>
                <a:lnTo>
                  <a:pt x="4187" y="548"/>
                </a:lnTo>
                <a:lnTo>
                  <a:pt x="4752" y="3"/>
                </a:lnTo>
                <a:lnTo>
                  <a:pt x="565" y="0"/>
                </a:lnTo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1676520" y="3886200"/>
            <a:ext cx="5408640" cy="684360"/>
          </a:xfrm>
          <a:custGeom>
            <a:avLst/>
            <a:gdLst/>
            <a:ahLst/>
            <a:rect l="l" t="t" r="r" b="b"/>
            <a:pathLst>
              <a:path w="4753" h="549">
                <a:moveTo>
                  <a:pt x="565" y="0"/>
                </a:moveTo>
                <a:lnTo>
                  <a:pt x="0" y="548"/>
                </a:lnTo>
                <a:lnTo>
                  <a:pt x="4187" y="548"/>
                </a:lnTo>
                <a:lnTo>
                  <a:pt x="4752" y="3"/>
                </a:lnTo>
                <a:lnTo>
                  <a:pt x="565" y="0"/>
                </a:lnTo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9" name=""/>
          <p:cNvGrpSpPr/>
          <p:nvPr/>
        </p:nvGrpSpPr>
        <p:grpSpPr>
          <a:xfrm>
            <a:off x="1673280" y="3646440"/>
            <a:ext cx="5408640" cy="684360"/>
            <a:chOff x="1673280" y="3646440"/>
            <a:chExt cx="5408640" cy="684360"/>
          </a:xfrm>
        </p:grpSpPr>
        <p:sp>
          <p:nvSpPr>
            <p:cNvPr id="1810" name=""/>
            <p:cNvSpPr/>
            <p:nvPr/>
          </p:nvSpPr>
          <p:spPr>
            <a:xfrm>
              <a:off x="1673280" y="3646440"/>
              <a:ext cx="5408640" cy="684360"/>
            </a:xfrm>
            <a:custGeom>
              <a:avLst/>
              <a:gdLst/>
              <a:ahLst/>
              <a:rect l="l" t="t" r="r" b="b"/>
              <a:pathLst>
                <a:path w="4753" h="549">
                  <a:moveTo>
                    <a:pt x="565" y="0"/>
                  </a:moveTo>
                  <a:lnTo>
                    <a:pt x="0" y="548"/>
                  </a:lnTo>
                  <a:lnTo>
                    <a:pt x="4187" y="548"/>
                  </a:lnTo>
                  <a:lnTo>
                    <a:pt x="4752" y="3"/>
                  </a:lnTo>
                  <a:lnTo>
                    <a:pt x="565" y="0"/>
                  </a:lnTo>
                </a:path>
              </a:pathLst>
            </a:custGeom>
            <a:solidFill>
              <a:srgbClr val="60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182840" y="3975120"/>
              <a:ext cx="231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Optical Layer 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2" name=""/>
          <p:cNvSpPr/>
          <p:nvPr/>
        </p:nvSpPr>
        <p:spPr>
          <a:xfrm>
            <a:off x="1899000" y="4038480"/>
            <a:ext cx="2063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Optical Channe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895040" y="4292640"/>
            <a:ext cx="2828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400" spc="-1" strike="noStrike">
                <a:solidFill>
                  <a:srgbClr val="ffffff"/>
                </a:solidFill>
                <a:latin typeface="Arial"/>
              </a:rPr>
              <a:t>Optical Multiplex Section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902960" y="4591080"/>
            <a:ext cx="32140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400" spc="-1" strike="noStrike">
                <a:solidFill>
                  <a:srgbClr val="ffffff"/>
                </a:solidFill>
                <a:latin typeface="Arial"/>
              </a:rPr>
              <a:t>Optical Transmission Section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920960" y="5010120"/>
            <a:ext cx="16779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Physical Mediu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6" name=""/>
          <p:cNvGrpSpPr/>
          <p:nvPr/>
        </p:nvGrpSpPr>
        <p:grpSpPr>
          <a:xfrm>
            <a:off x="7210440" y="1409760"/>
            <a:ext cx="1932480" cy="2057400"/>
            <a:chOff x="7210440" y="1409760"/>
            <a:chExt cx="1932480" cy="2057400"/>
          </a:xfrm>
        </p:grpSpPr>
        <p:sp>
          <p:nvSpPr>
            <p:cNvPr id="1817" name=""/>
            <p:cNvSpPr/>
            <p:nvPr/>
          </p:nvSpPr>
          <p:spPr>
            <a:xfrm>
              <a:off x="7436520" y="2259000"/>
              <a:ext cx="170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Digital Cli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210440" y="1409760"/>
              <a:ext cx="101520" cy="2057400"/>
            </a:xfrm>
            <a:custGeom>
              <a:avLst/>
              <a:gdLst>
                <a:gd name="textAreaLeft" fmla="*/ 0 w 101520"/>
                <a:gd name="textAreaRight" fmla="*/ 36720 w 10152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9" name=""/>
          <p:cNvGrpSpPr/>
          <p:nvPr/>
        </p:nvGrpSpPr>
        <p:grpSpPr>
          <a:xfrm>
            <a:off x="7210440" y="3581280"/>
            <a:ext cx="1930320" cy="993240"/>
            <a:chOff x="7210440" y="3581280"/>
            <a:chExt cx="1930320" cy="993240"/>
          </a:xfrm>
        </p:grpSpPr>
        <p:sp>
          <p:nvSpPr>
            <p:cNvPr id="1820" name=""/>
            <p:cNvSpPr/>
            <p:nvPr/>
          </p:nvSpPr>
          <p:spPr>
            <a:xfrm>
              <a:off x="7451280" y="3657600"/>
              <a:ext cx="1689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3++“ </a:t>
              </a:r>
              <a:br>
                <a:rPr sz="1800"/>
              </a:b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Optical </a:t>
              </a:r>
              <a:br>
                <a:rPr sz="1800"/>
              </a:b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ayer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210440" y="358128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2" name=""/>
          <p:cNvGrpSpPr/>
          <p:nvPr/>
        </p:nvGrpSpPr>
        <p:grpSpPr>
          <a:xfrm>
            <a:off x="7032600" y="4824360"/>
            <a:ext cx="1157400" cy="368280"/>
            <a:chOff x="7032600" y="4824360"/>
            <a:chExt cx="1157400" cy="368280"/>
          </a:xfrm>
        </p:grpSpPr>
        <p:sp>
          <p:nvSpPr>
            <p:cNvPr id="1823" name=""/>
            <p:cNvSpPr/>
            <p:nvPr/>
          </p:nvSpPr>
          <p:spPr>
            <a:xfrm>
              <a:off x="7449840" y="4824360"/>
              <a:ext cx="7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Fi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032600" y="497844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5" name=""/>
          <p:cNvGrpSpPr/>
          <p:nvPr/>
        </p:nvGrpSpPr>
        <p:grpSpPr>
          <a:xfrm>
            <a:off x="4848120" y="1768320"/>
            <a:ext cx="2247840" cy="2267280"/>
            <a:chOff x="4848120" y="1768320"/>
            <a:chExt cx="2247840" cy="2267280"/>
          </a:xfrm>
        </p:grpSpPr>
        <p:sp>
          <p:nvSpPr>
            <p:cNvPr id="1826" name=""/>
            <p:cNvSpPr/>
            <p:nvPr/>
          </p:nvSpPr>
          <p:spPr>
            <a:xfrm>
              <a:off x="5638680" y="3144960"/>
              <a:ext cx="479520" cy="890640"/>
            </a:xfrm>
            <a:custGeom>
              <a:avLst/>
              <a:gdLst/>
              <a:ahLst/>
              <a:rect l="l" t="t" r="r" b="b"/>
              <a:pathLst>
                <a:path w="422" h="407">
                  <a:moveTo>
                    <a:pt x="211" y="406"/>
                  </a:moveTo>
                  <a:lnTo>
                    <a:pt x="421" y="204"/>
                  </a:lnTo>
                  <a:lnTo>
                    <a:pt x="316" y="204"/>
                  </a:lnTo>
                  <a:lnTo>
                    <a:pt x="316" y="0"/>
                  </a:lnTo>
                  <a:lnTo>
                    <a:pt x="105" y="0"/>
                  </a:lnTo>
                  <a:lnTo>
                    <a:pt x="105" y="204"/>
                  </a:lnTo>
                  <a:lnTo>
                    <a:pt x="0" y="204"/>
                  </a:lnTo>
                  <a:lnTo>
                    <a:pt x="211" y="406"/>
                  </a:lnTo>
                </a:path>
              </a:pathLst>
            </a:custGeom>
            <a:solidFill>
              <a:srgbClr val="ee020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7" name=""/>
            <p:cNvGrpSpPr/>
            <p:nvPr/>
          </p:nvGrpSpPr>
          <p:grpSpPr>
            <a:xfrm>
              <a:off x="4848120" y="1768320"/>
              <a:ext cx="2247840" cy="1234800"/>
              <a:chOff x="4848120" y="1768320"/>
              <a:chExt cx="2247840" cy="1234800"/>
            </a:xfrm>
          </p:grpSpPr>
          <p:grpSp>
            <p:nvGrpSpPr>
              <p:cNvPr id="1828" name=""/>
              <p:cNvGrpSpPr/>
              <p:nvPr/>
            </p:nvGrpSpPr>
            <p:grpSpPr>
              <a:xfrm>
                <a:off x="4848120" y="1768320"/>
                <a:ext cx="2247840" cy="1234800"/>
                <a:chOff x="4848120" y="1768320"/>
                <a:chExt cx="2247840" cy="123480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4848120" y="1842120"/>
                  <a:ext cx="1734480" cy="99396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5047920" y="1768320"/>
                  <a:ext cx="821160" cy="4777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5689800" y="1809360"/>
                  <a:ext cx="1153080" cy="6634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4866480" y="2433240"/>
                  <a:ext cx="595440" cy="45756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5381280" y="2471760"/>
                  <a:ext cx="1156320" cy="53136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6381360" y="2298600"/>
                  <a:ext cx="714600" cy="46260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5" name=""/>
              <p:cNvSpPr/>
              <p:nvPr/>
            </p:nvSpPr>
            <p:spPr>
              <a:xfrm>
                <a:off x="4886280" y="2019240"/>
                <a:ext cx="205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3200" spc="-1" strike="noStrike">
                    <a:solidFill>
                      <a:srgbClr val="ff3300"/>
                    </a:solidFill>
                    <a:latin typeface="Bookman Old Style"/>
                  </a:rPr>
                  <a:t>NB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971600" y="2438280"/>
                <a:ext cx="198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ff3300"/>
                    </a:solidFill>
                    <a:latin typeface="Arial"/>
                  </a:rPr>
                  <a:t>(The Next Big Thing!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ulti-layer Transport Netwo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2438280" y="1384200"/>
            <a:ext cx="1801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9" name=""/>
          <p:cNvGrpSpPr/>
          <p:nvPr/>
        </p:nvGrpSpPr>
        <p:grpSpPr>
          <a:xfrm>
            <a:off x="2438280" y="1914480"/>
            <a:ext cx="1903680" cy="2151000"/>
            <a:chOff x="2438280" y="1914480"/>
            <a:chExt cx="1903680" cy="2151000"/>
          </a:xfrm>
        </p:grpSpPr>
        <p:sp>
          <p:nvSpPr>
            <p:cNvPr id="1840" name=""/>
            <p:cNvSpPr/>
            <p:nvPr/>
          </p:nvSpPr>
          <p:spPr>
            <a:xfrm>
              <a:off x="2922480" y="2671920"/>
              <a:ext cx="351000" cy="293400"/>
            </a:xfrm>
            <a:custGeom>
              <a:avLst/>
              <a:gdLst/>
              <a:ahLst/>
              <a:rect l="l" t="t" r="r" b="b"/>
              <a:pathLst>
                <a:path w="189" h="216">
                  <a:moveTo>
                    <a:pt x="94" y="215"/>
                  </a:moveTo>
                  <a:lnTo>
                    <a:pt x="188" y="108"/>
                  </a:lnTo>
                  <a:lnTo>
                    <a:pt x="140" y="108"/>
                  </a:lnTo>
                  <a:lnTo>
                    <a:pt x="140" y="0"/>
                  </a:lnTo>
                  <a:lnTo>
                    <a:pt x="46" y="0"/>
                  </a:lnTo>
                  <a:lnTo>
                    <a:pt x="46" y="108"/>
                  </a:lnTo>
                  <a:lnTo>
                    <a:pt x="0" y="108"/>
                  </a:lnTo>
                  <a:lnTo>
                    <a:pt x="94" y="215"/>
                  </a:lnTo>
                </a:path>
              </a:pathLst>
            </a:custGeom>
            <a:solidFill>
              <a:srgbClr val="ee020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203640" y="3371760"/>
              <a:ext cx="350640" cy="673200"/>
            </a:xfrm>
            <a:custGeom>
              <a:avLst/>
              <a:gdLst/>
              <a:ahLst/>
              <a:rect l="l" t="t" r="r" b="b"/>
              <a:pathLst>
                <a:path w="189" h="497">
                  <a:moveTo>
                    <a:pt x="95" y="496"/>
                  </a:moveTo>
                  <a:lnTo>
                    <a:pt x="188" y="248"/>
                  </a:lnTo>
                  <a:lnTo>
                    <a:pt x="142" y="248"/>
                  </a:lnTo>
                  <a:lnTo>
                    <a:pt x="142" y="0"/>
                  </a:lnTo>
                  <a:lnTo>
                    <a:pt x="48" y="0"/>
                  </a:lnTo>
                  <a:lnTo>
                    <a:pt x="48" y="248"/>
                  </a:lnTo>
                  <a:lnTo>
                    <a:pt x="0" y="248"/>
                  </a:lnTo>
                  <a:lnTo>
                    <a:pt x="95" y="496"/>
                  </a:lnTo>
                </a:path>
              </a:pathLst>
            </a:custGeom>
            <a:solidFill>
              <a:srgbClr val="ee020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2901960" y="1914480"/>
              <a:ext cx="349200" cy="309600"/>
            </a:xfrm>
            <a:custGeom>
              <a:avLst/>
              <a:gdLst/>
              <a:ahLst/>
              <a:rect l="l" t="t" r="r" b="b"/>
              <a:pathLst>
                <a:path w="189" h="229">
                  <a:moveTo>
                    <a:pt x="95" y="228"/>
                  </a:moveTo>
                  <a:lnTo>
                    <a:pt x="188" y="115"/>
                  </a:lnTo>
                  <a:lnTo>
                    <a:pt x="142" y="115"/>
                  </a:lnTo>
                  <a:lnTo>
                    <a:pt x="142" y="0"/>
                  </a:lnTo>
                  <a:lnTo>
                    <a:pt x="48" y="0"/>
                  </a:lnTo>
                  <a:lnTo>
                    <a:pt x="48" y="115"/>
                  </a:lnTo>
                  <a:lnTo>
                    <a:pt x="0" y="115"/>
                  </a:lnTo>
                  <a:lnTo>
                    <a:pt x="95" y="228"/>
                  </a:lnTo>
                </a:path>
              </a:pathLst>
            </a:custGeom>
            <a:solidFill>
              <a:srgbClr val="ee020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992400" y="1933560"/>
              <a:ext cx="349560" cy="2093760"/>
            </a:xfrm>
            <a:custGeom>
              <a:avLst/>
              <a:gdLst/>
              <a:ahLst/>
              <a:rect l="l" t="t" r="r" b="b"/>
              <a:pathLst>
                <a:path w="189" h="1548">
                  <a:moveTo>
                    <a:pt x="94" y="1547"/>
                  </a:moveTo>
                  <a:lnTo>
                    <a:pt x="188" y="1284"/>
                  </a:lnTo>
                  <a:lnTo>
                    <a:pt x="140" y="1284"/>
                  </a:lnTo>
                  <a:lnTo>
                    <a:pt x="140" y="0"/>
                  </a:lnTo>
                  <a:lnTo>
                    <a:pt x="46" y="0"/>
                  </a:lnTo>
                  <a:lnTo>
                    <a:pt x="46" y="1284"/>
                  </a:lnTo>
                  <a:lnTo>
                    <a:pt x="0" y="1284"/>
                  </a:lnTo>
                  <a:lnTo>
                    <a:pt x="94" y="1547"/>
                  </a:lnTo>
                </a:path>
              </a:pathLst>
            </a:custGeom>
            <a:solidFill>
              <a:srgbClr val="ee020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438280" y="2670120"/>
              <a:ext cx="347760" cy="1395360"/>
            </a:xfrm>
            <a:custGeom>
              <a:avLst/>
              <a:gdLst/>
              <a:ahLst/>
              <a:rect l="l" t="t" r="r" b="b"/>
              <a:pathLst>
                <a:path w="189" h="1032">
                  <a:moveTo>
                    <a:pt x="94" y="1031"/>
                  </a:moveTo>
                  <a:lnTo>
                    <a:pt x="188" y="774"/>
                  </a:lnTo>
                  <a:lnTo>
                    <a:pt x="142" y="774"/>
                  </a:lnTo>
                  <a:lnTo>
                    <a:pt x="142" y="0"/>
                  </a:lnTo>
                  <a:lnTo>
                    <a:pt x="48" y="0"/>
                  </a:lnTo>
                  <a:lnTo>
                    <a:pt x="48" y="774"/>
                  </a:lnTo>
                  <a:lnTo>
                    <a:pt x="0" y="774"/>
                  </a:lnTo>
                  <a:lnTo>
                    <a:pt x="94" y="1031"/>
                  </a:lnTo>
                </a:path>
              </a:pathLst>
            </a:custGeom>
            <a:solidFill>
              <a:srgbClr val="ee020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524400" y="1928880"/>
              <a:ext cx="350640" cy="1033560"/>
            </a:xfrm>
            <a:custGeom>
              <a:avLst/>
              <a:gdLst/>
              <a:ahLst/>
              <a:rect l="l" t="t" r="r" b="b"/>
              <a:pathLst>
                <a:path w="188" h="763">
                  <a:moveTo>
                    <a:pt x="95" y="762"/>
                  </a:moveTo>
                  <a:lnTo>
                    <a:pt x="187" y="633"/>
                  </a:lnTo>
                  <a:lnTo>
                    <a:pt x="141" y="633"/>
                  </a:lnTo>
                  <a:lnTo>
                    <a:pt x="141" y="0"/>
                  </a:lnTo>
                  <a:lnTo>
                    <a:pt x="47" y="0"/>
                  </a:lnTo>
                  <a:lnTo>
                    <a:pt x="47" y="633"/>
                  </a:lnTo>
                  <a:lnTo>
                    <a:pt x="0" y="633"/>
                  </a:lnTo>
                  <a:lnTo>
                    <a:pt x="95" y="762"/>
                  </a:lnTo>
                </a:path>
              </a:pathLst>
            </a:custGeom>
            <a:solidFill>
              <a:srgbClr val="ee020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438280" y="2246400"/>
              <a:ext cx="974880" cy="398880"/>
            </a:xfrm>
            <a:prstGeom prst="rect">
              <a:avLst/>
            </a:prstGeom>
            <a:solidFill>
              <a:srgbClr val="02e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AT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900520" y="2962440"/>
              <a:ext cx="974520" cy="398880"/>
            </a:xfrm>
            <a:prstGeom prst="rect">
              <a:avLst/>
            </a:prstGeom>
            <a:solidFill>
              <a:srgbClr val="9a9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D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8" name=""/>
          <p:cNvGrpSpPr/>
          <p:nvPr/>
        </p:nvGrpSpPr>
        <p:grpSpPr>
          <a:xfrm>
            <a:off x="3276720" y="4343400"/>
            <a:ext cx="4203000" cy="1524960"/>
            <a:chOff x="3276720" y="4343400"/>
            <a:chExt cx="4203000" cy="1524960"/>
          </a:xfrm>
        </p:grpSpPr>
        <p:sp>
          <p:nvSpPr>
            <p:cNvPr id="1849" name=""/>
            <p:cNvSpPr/>
            <p:nvPr/>
          </p:nvSpPr>
          <p:spPr>
            <a:xfrm>
              <a:off x="3981600" y="4481640"/>
              <a:ext cx="3066840" cy="1096200"/>
            </a:xfrm>
            <a:prstGeom prst="ellipse">
              <a:avLst/>
            </a:prstGeom>
            <a:solidFill>
              <a:srgbClr val="9a9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276720" y="5168160"/>
              <a:ext cx="1523520" cy="447840"/>
            </a:xfrm>
            <a:prstGeom prst="ellipse">
              <a:avLst/>
            </a:prstGeom>
            <a:solidFill>
              <a:srgbClr val="9a9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321440" y="4343400"/>
              <a:ext cx="1904760" cy="734040"/>
            </a:xfrm>
            <a:prstGeom prst="ellipse">
              <a:avLst/>
            </a:prstGeom>
            <a:solidFill>
              <a:srgbClr val="9a9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753880" y="4469760"/>
              <a:ext cx="1432080" cy="607320"/>
            </a:xfrm>
            <a:prstGeom prst="ellipse">
              <a:avLst/>
            </a:prstGeom>
            <a:solidFill>
              <a:srgbClr val="9a9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047640" y="4936680"/>
              <a:ext cx="1432080" cy="588600"/>
            </a:xfrm>
            <a:prstGeom prst="ellipse">
              <a:avLst/>
            </a:prstGeom>
            <a:solidFill>
              <a:srgbClr val="9a9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263120" y="5282640"/>
              <a:ext cx="2383560" cy="585720"/>
            </a:xfrm>
            <a:prstGeom prst="ellipse">
              <a:avLst/>
            </a:prstGeom>
            <a:solidFill>
              <a:srgbClr val="9a9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517560" y="4713120"/>
              <a:ext cx="1458720" cy="588600"/>
            </a:xfrm>
            <a:prstGeom prst="ellipse">
              <a:avLst/>
            </a:prstGeom>
            <a:solidFill>
              <a:srgbClr val="9a9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6" name=""/>
          <p:cNvSpPr/>
          <p:nvPr/>
        </p:nvSpPr>
        <p:spPr>
          <a:xfrm>
            <a:off x="2819520" y="2362320"/>
            <a:ext cx="1218960" cy="198108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2971800" y="2590920"/>
            <a:ext cx="914400" cy="457200"/>
          </a:xfrm>
          <a:custGeom>
            <a:avLst/>
            <a:gdLst>
              <a:gd name="textAreaLeft" fmla="*/ 200880 w 914400"/>
              <a:gd name="textAreaRight" fmla="*/ 713520 w 91440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 flipV="1">
            <a:off x="3200400" y="31240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429000" y="1600200"/>
            <a:ext cx="0" cy="990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200400" y="1676520"/>
            <a:ext cx="457200" cy="533160"/>
          </a:xfrm>
          <a:prstGeom prst="downArrow">
            <a:avLst>
              <a:gd name="adj1" fmla="val 50000"/>
              <a:gd name="adj2" fmla="val 29154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3429000" y="3809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781680" y="2362320"/>
            <a:ext cx="1219320" cy="198108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934320" y="2590920"/>
            <a:ext cx="914400" cy="457200"/>
          </a:xfrm>
          <a:custGeom>
            <a:avLst/>
            <a:gdLst>
              <a:gd name="textAreaLeft" fmla="*/ 200880 w 914400"/>
              <a:gd name="textAreaRight" fmla="*/ 713520 w 91440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V="1">
            <a:off x="7162920" y="31240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7162920" y="1219320"/>
            <a:ext cx="45720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391520" y="1600200"/>
            <a:ext cx="0" cy="990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7162920" y="1675800"/>
            <a:ext cx="457200" cy="533160"/>
          </a:xfrm>
          <a:prstGeom prst="downArrow">
            <a:avLst>
              <a:gd name="adj1" fmla="val 50000"/>
              <a:gd name="adj2" fmla="val 29154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391520" y="3809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429000" y="434340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429000" y="5029200"/>
            <a:ext cx="3962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7391520" y="441936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952880" y="4800600"/>
            <a:ext cx="1295640" cy="457200"/>
          </a:xfrm>
          <a:prstGeom prst="rightArrow">
            <a:avLst>
              <a:gd name="adj1" fmla="val 50000"/>
              <a:gd name="adj2" fmla="val 7084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3809880" y="1050120"/>
            <a:ext cx="3200400" cy="398880"/>
            <a:chOff x="3809880" y="1050120"/>
            <a:chExt cx="3200400" cy="398880"/>
          </a:xfrm>
        </p:grpSpPr>
        <p:sp>
          <p:nvSpPr>
            <p:cNvPr id="1874" name=""/>
            <p:cNvSpPr/>
            <p:nvPr/>
          </p:nvSpPr>
          <p:spPr>
            <a:xfrm>
              <a:off x="3809880" y="144792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844160" y="105012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OTN Tr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6" name=""/>
          <p:cNvGrpSpPr/>
          <p:nvPr/>
        </p:nvGrpSpPr>
        <p:grpSpPr>
          <a:xfrm>
            <a:off x="4306680" y="3442680"/>
            <a:ext cx="2223000" cy="1586520"/>
            <a:chOff x="4306680" y="3442680"/>
            <a:chExt cx="2223000" cy="1586520"/>
          </a:xfrm>
        </p:grpSpPr>
        <p:sp>
          <p:nvSpPr>
            <p:cNvPr id="1877" name=""/>
            <p:cNvSpPr/>
            <p:nvPr/>
          </p:nvSpPr>
          <p:spPr>
            <a:xfrm>
              <a:off x="4800600" y="3962520"/>
              <a:ext cx="685800" cy="1066680"/>
            </a:xfrm>
            <a:prstGeom prst="lightningBolt">
              <a:avLst/>
            </a:prstGeom>
            <a:solidFill>
              <a:srgbClr val="ffcc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306680" y="3442680"/>
              <a:ext cx="22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ransmission Err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9" name=""/>
          <p:cNvGrpSpPr/>
          <p:nvPr/>
        </p:nvGrpSpPr>
        <p:grpSpPr>
          <a:xfrm>
            <a:off x="2209680" y="2819520"/>
            <a:ext cx="685080" cy="609480"/>
            <a:chOff x="2209680" y="2819520"/>
            <a:chExt cx="685080" cy="609480"/>
          </a:xfrm>
        </p:grpSpPr>
        <p:sp>
          <p:nvSpPr>
            <p:cNvPr id="1880" name=""/>
            <p:cNvSpPr/>
            <p:nvPr/>
          </p:nvSpPr>
          <p:spPr>
            <a:xfrm flipH="1" rot="16200000">
              <a:off x="2475360" y="2705040"/>
              <a:ext cx="304560" cy="533160"/>
            </a:xfrm>
            <a:custGeom>
              <a:avLst/>
              <a:gdLst>
                <a:gd name="textAreaLeft" fmla="*/ 360 w 304560"/>
                <a:gd name="textAreaRight" fmla="*/ 305280 w 30456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1" name=""/>
            <p:cNvGrpSpPr/>
            <p:nvPr/>
          </p:nvGrpSpPr>
          <p:grpSpPr>
            <a:xfrm>
              <a:off x="2209680" y="3276720"/>
              <a:ext cx="380880" cy="152280"/>
              <a:chOff x="2209680" y="3276720"/>
              <a:chExt cx="380880" cy="152280"/>
            </a:xfrm>
          </p:grpSpPr>
          <p:sp>
            <p:nvSpPr>
              <p:cNvPr id="1882" name=""/>
              <p:cNvSpPr/>
              <p:nvPr/>
            </p:nvSpPr>
            <p:spPr>
              <a:xfrm flipH="1">
                <a:off x="2209680" y="32767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H="1">
                <a:off x="2361600" y="3276720"/>
                <a:ext cx="228600" cy="152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4" name=""/>
          <p:cNvGrpSpPr/>
          <p:nvPr/>
        </p:nvGrpSpPr>
        <p:grpSpPr>
          <a:xfrm>
            <a:off x="7772400" y="2819520"/>
            <a:ext cx="837720" cy="685800"/>
            <a:chOff x="7772400" y="2819520"/>
            <a:chExt cx="837720" cy="685800"/>
          </a:xfrm>
        </p:grpSpPr>
        <p:sp>
          <p:nvSpPr>
            <p:cNvPr id="1885" name=""/>
            <p:cNvSpPr/>
            <p:nvPr/>
          </p:nvSpPr>
          <p:spPr>
            <a:xfrm rot="5400000">
              <a:off x="7886880" y="2705040"/>
              <a:ext cx="304560" cy="5335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6" name=""/>
            <p:cNvGrpSpPr/>
            <p:nvPr/>
          </p:nvGrpSpPr>
          <p:grpSpPr>
            <a:xfrm>
              <a:off x="8229240" y="3352680"/>
              <a:ext cx="380880" cy="152640"/>
              <a:chOff x="8229240" y="3352680"/>
              <a:chExt cx="380880" cy="152640"/>
            </a:xfrm>
          </p:grpSpPr>
          <p:sp>
            <p:nvSpPr>
              <p:cNvPr id="1887" name=""/>
              <p:cNvSpPr/>
              <p:nvPr/>
            </p:nvSpPr>
            <p:spPr>
              <a:xfrm flipH="1">
                <a:off x="8457480" y="3352680"/>
                <a:ext cx="152280" cy="1526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>
                <a:off x="8228880" y="3352680"/>
                <a:ext cx="228600" cy="1526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9" name=""/>
          <p:cNvGrpSpPr/>
          <p:nvPr/>
        </p:nvGrpSpPr>
        <p:grpSpPr>
          <a:xfrm>
            <a:off x="3198600" y="4493880"/>
            <a:ext cx="152280" cy="380880"/>
            <a:chOff x="3198600" y="4493880"/>
            <a:chExt cx="152280" cy="380880"/>
          </a:xfrm>
        </p:grpSpPr>
        <p:sp>
          <p:nvSpPr>
            <p:cNvPr id="1890" name=""/>
            <p:cNvSpPr/>
            <p:nvPr/>
          </p:nvSpPr>
          <p:spPr>
            <a:xfrm flipH="1" rot="5400000">
              <a:off x="3198240" y="4722480"/>
              <a:ext cx="152280" cy="1522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H="1" rot="5400000">
              <a:off x="3160080" y="4532040"/>
              <a:ext cx="228600" cy="152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7009920" y="5181480"/>
            <a:ext cx="381600" cy="152640"/>
            <a:chOff x="7009920" y="5181480"/>
            <a:chExt cx="381600" cy="152640"/>
          </a:xfrm>
        </p:grpSpPr>
        <p:sp>
          <p:nvSpPr>
            <p:cNvPr id="1893" name=""/>
            <p:cNvSpPr/>
            <p:nvPr/>
          </p:nvSpPr>
          <p:spPr>
            <a:xfrm flipH="1">
              <a:off x="7238880" y="5181480"/>
              <a:ext cx="152640" cy="152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7009560" y="5181480"/>
              <a:ext cx="228600" cy="152640"/>
            </a:xfrm>
            <a:prstGeom prst="rect">
              <a:avLst/>
            </a:prstGeom>
            <a:solidFill>
              <a:srgbClr val="cc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6400440" y="5181480"/>
            <a:ext cx="380880" cy="152640"/>
            <a:chOff x="6400440" y="5181480"/>
            <a:chExt cx="380880" cy="152640"/>
          </a:xfrm>
        </p:grpSpPr>
        <p:sp>
          <p:nvSpPr>
            <p:cNvPr id="1896" name=""/>
            <p:cNvSpPr/>
            <p:nvPr/>
          </p:nvSpPr>
          <p:spPr>
            <a:xfrm flipH="1">
              <a:off x="6628680" y="5181480"/>
              <a:ext cx="152280" cy="152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6400080" y="5181480"/>
              <a:ext cx="228600" cy="152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8" name=""/>
          <p:cNvGrpSpPr/>
          <p:nvPr/>
        </p:nvGrpSpPr>
        <p:grpSpPr>
          <a:xfrm>
            <a:off x="7693920" y="1674720"/>
            <a:ext cx="152280" cy="381240"/>
            <a:chOff x="7693920" y="1674720"/>
            <a:chExt cx="152280" cy="381240"/>
          </a:xfrm>
        </p:grpSpPr>
        <p:sp>
          <p:nvSpPr>
            <p:cNvPr id="1899" name=""/>
            <p:cNvSpPr/>
            <p:nvPr/>
          </p:nvSpPr>
          <p:spPr>
            <a:xfrm flipH="1" rot="16200000">
              <a:off x="7693200" y="1674720"/>
              <a:ext cx="152640" cy="1522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H="1" rot="16200000">
              <a:off x="7655400" y="1865520"/>
              <a:ext cx="228600" cy="152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1" name=""/>
          <p:cNvGrpSpPr/>
          <p:nvPr/>
        </p:nvGrpSpPr>
        <p:grpSpPr>
          <a:xfrm>
            <a:off x="2970000" y="1674360"/>
            <a:ext cx="152280" cy="381600"/>
            <a:chOff x="2970000" y="1674360"/>
            <a:chExt cx="152280" cy="381600"/>
          </a:xfrm>
        </p:grpSpPr>
        <p:sp>
          <p:nvSpPr>
            <p:cNvPr id="1902" name=""/>
            <p:cNvSpPr/>
            <p:nvPr/>
          </p:nvSpPr>
          <p:spPr>
            <a:xfrm flipH="1" rot="5400000">
              <a:off x="2969280" y="1903320"/>
              <a:ext cx="152640" cy="1522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H="1" rot="5400000">
              <a:off x="2931480" y="1712520"/>
              <a:ext cx="228600" cy="152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4" name=""/>
          <p:cNvSpPr/>
          <p:nvPr/>
        </p:nvSpPr>
        <p:spPr>
          <a:xfrm>
            <a:off x="4634640" y="2208600"/>
            <a:ext cx="157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lient / OT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3581280" y="27432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6400800" y="2743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4343400" y="4648320"/>
            <a:ext cx="380880" cy="3808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8" name=""/>
          <p:cNvGrpSpPr/>
          <p:nvPr/>
        </p:nvGrpSpPr>
        <p:grpSpPr>
          <a:xfrm>
            <a:off x="5333760" y="5257800"/>
            <a:ext cx="609480" cy="533520"/>
            <a:chOff x="5333760" y="5257800"/>
            <a:chExt cx="609480" cy="533520"/>
          </a:xfrm>
        </p:grpSpPr>
        <p:sp>
          <p:nvSpPr>
            <p:cNvPr id="1909" name=""/>
            <p:cNvSpPr/>
            <p:nvPr/>
          </p:nvSpPr>
          <p:spPr>
            <a:xfrm rot="5400000">
              <a:off x="5447880" y="5143680"/>
              <a:ext cx="304920" cy="5331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0" name=""/>
            <p:cNvGrpSpPr/>
            <p:nvPr/>
          </p:nvGrpSpPr>
          <p:grpSpPr>
            <a:xfrm>
              <a:off x="5562360" y="5638680"/>
              <a:ext cx="380880" cy="152640"/>
              <a:chOff x="5562360" y="5638680"/>
              <a:chExt cx="380880" cy="152640"/>
            </a:xfrm>
          </p:grpSpPr>
          <p:sp>
            <p:nvSpPr>
              <p:cNvPr id="1911" name=""/>
              <p:cNvSpPr/>
              <p:nvPr/>
            </p:nvSpPr>
            <p:spPr>
              <a:xfrm flipH="1">
                <a:off x="5790600" y="5638680"/>
                <a:ext cx="152280" cy="1526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flipH="1">
                <a:off x="5562000" y="5638680"/>
                <a:ext cx="228600" cy="1526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3" name=""/>
          <p:cNvSpPr/>
          <p:nvPr/>
        </p:nvSpPr>
        <p:spPr>
          <a:xfrm>
            <a:off x="7869960" y="129492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ccessful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8004240" y="358092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carde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5259600" y="594324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s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1679760" y="350460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carde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6784200" y="5410080"/>
            <a:ext cx="941040" cy="718560"/>
            <a:chOff x="6784200" y="5410080"/>
            <a:chExt cx="941040" cy="718560"/>
          </a:xfrm>
        </p:grpSpPr>
        <p:sp>
          <p:nvSpPr>
            <p:cNvPr id="1918" name=""/>
            <p:cNvSpPr/>
            <p:nvPr/>
          </p:nvSpPr>
          <p:spPr>
            <a:xfrm>
              <a:off x="6784200" y="548604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rrored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162920" y="54100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7693920" y="1217520"/>
            <a:ext cx="152280" cy="381240"/>
            <a:chOff x="7693920" y="1217520"/>
            <a:chExt cx="152280" cy="381240"/>
          </a:xfrm>
        </p:grpSpPr>
        <p:sp>
          <p:nvSpPr>
            <p:cNvPr id="1921" name=""/>
            <p:cNvSpPr/>
            <p:nvPr/>
          </p:nvSpPr>
          <p:spPr>
            <a:xfrm flipH="1" rot="16200000">
              <a:off x="7693200" y="1217520"/>
              <a:ext cx="152640" cy="1522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 rot="16200000">
              <a:off x="7655400" y="1408320"/>
              <a:ext cx="228600" cy="152280"/>
            </a:xfrm>
            <a:prstGeom prst="rect">
              <a:avLst/>
            </a:prstGeom>
            <a:solidFill>
              <a:srgbClr val="cc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1753200" y="989640"/>
            <a:ext cx="1904400" cy="610560"/>
            <a:chOff x="1753200" y="989640"/>
            <a:chExt cx="1904400" cy="610560"/>
          </a:xfrm>
        </p:grpSpPr>
        <p:sp>
          <p:nvSpPr>
            <p:cNvPr id="1924" name=""/>
            <p:cNvSpPr/>
            <p:nvPr/>
          </p:nvSpPr>
          <p:spPr>
            <a:xfrm>
              <a:off x="3200400" y="1219320"/>
              <a:ext cx="45720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753200" y="98964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OTN 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P Packet Transfer Err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lating IP &amp; OTN 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1833480" y="1994040"/>
            <a:ext cx="6943680" cy="33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 performance depends on supporting network technology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twork complexity is a major fa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stance does play a part, especially on del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re needed with protection and resto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oS classes at different network technology layers need to be match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QoS Cla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1808280" y="1181160"/>
            <a:ext cx="6984720" cy="13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gnise supporting technologies may dif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principle, entrance-to-exit node NP and capacity information may be avai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1" name=""/>
          <p:cNvGraphicFramePr/>
          <p:nvPr/>
        </p:nvGraphicFramePr>
        <p:xfrm>
          <a:off x="2257560" y="2940120"/>
          <a:ext cx="6095880" cy="27795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 QoS Class (Y.1541/M.230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 QoS Class (I.356/M.220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H/OTN “QoS Class” (no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6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Q=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4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Q=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6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Q=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4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Q=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4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Q=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Q=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2" name=""/>
          <p:cNvSpPr/>
          <p:nvPr/>
        </p:nvSpPr>
        <p:spPr>
          <a:xfrm>
            <a:off x="2257560" y="6058080"/>
            <a:ext cx="506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Note: item for discussion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avelength Services &amp; SL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1784520" y="1375920"/>
            <a:ext cx="7030800" cy="46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9320" indent="-22932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perators are offering wavelength 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hould these have QoS class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M Forum SLA Management Handbook GB9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cus on Customer-SP and SP-SP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ustomer-driven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LA parameter frame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fines service life 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LA drives operator business processes and Q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vers all network technolog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lates NP to end-to-end Q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"/>
          <p:cNvSpPr/>
          <p:nvPr/>
        </p:nvSpPr>
        <p:spPr>
          <a:xfrm>
            <a:off x="4502520" y="4467240"/>
            <a:ext cx="205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ptical sub-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6" name=""/>
          <p:cNvGrpSpPr/>
          <p:nvPr/>
        </p:nvGrpSpPr>
        <p:grpSpPr>
          <a:xfrm>
            <a:off x="2716200" y="1563840"/>
            <a:ext cx="5402160" cy="2698200"/>
            <a:chOff x="2716200" y="1563840"/>
            <a:chExt cx="5402160" cy="2698200"/>
          </a:xfrm>
        </p:grpSpPr>
        <p:sp>
          <p:nvSpPr>
            <p:cNvPr id="1937" name=""/>
            <p:cNvSpPr/>
            <p:nvPr/>
          </p:nvSpPr>
          <p:spPr>
            <a:xfrm>
              <a:off x="4703760" y="3552120"/>
              <a:ext cx="1211760" cy="589320"/>
            </a:xfrm>
            <a:prstGeom prst="ellipse">
              <a:avLst/>
            </a:prstGeom>
            <a:solidFill>
              <a:srgbClr val="66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926600" y="3454560"/>
              <a:ext cx="659880" cy="381960"/>
            </a:xfrm>
            <a:prstGeom prst="ellipse">
              <a:avLst/>
            </a:prstGeom>
            <a:solidFill>
              <a:srgbClr val="66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470560" y="3519720"/>
              <a:ext cx="493920" cy="316440"/>
            </a:xfrm>
            <a:prstGeom prst="ellipse">
              <a:avLst/>
            </a:prstGeom>
            <a:solidFill>
              <a:srgbClr val="66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586480" y="3771360"/>
              <a:ext cx="495000" cy="306360"/>
            </a:xfrm>
            <a:prstGeom prst="ellipse">
              <a:avLst/>
            </a:prstGeom>
            <a:solidFill>
              <a:srgbClr val="66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4926600" y="3957120"/>
              <a:ext cx="824400" cy="304920"/>
            </a:xfrm>
            <a:prstGeom prst="ellipse">
              <a:avLst/>
            </a:prstGeom>
            <a:solidFill>
              <a:srgbClr val="66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4587840" y="3650760"/>
              <a:ext cx="504360" cy="306360"/>
            </a:xfrm>
            <a:prstGeom prst="ellipse">
              <a:avLst/>
            </a:prstGeom>
            <a:solidFill>
              <a:srgbClr val="66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761720" y="3836520"/>
              <a:ext cx="601920" cy="241200"/>
            </a:xfrm>
            <a:prstGeom prst="ellipse">
              <a:avLst/>
            </a:prstGeom>
            <a:solidFill>
              <a:srgbClr val="66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53280" y="3552120"/>
              <a:ext cx="1211760" cy="589320"/>
            </a:xfrm>
            <a:prstGeom prst="ellipse">
              <a:avLst/>
            </a:prstGeom>
            <a:solidFill>
              <a:srgbClr val="66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575760" y="3454560"/>
              <a:ext cx="658800" cy="381960"/>
            </a:xfrm>
            <a:prstGeom prst="ellipse">
              <a:avLst/>
            </a:prstGeom>
            <a:solidFill>
              <a:srgbClr val="66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7118640" y="3519720"/>
              <a:ext cx="495000" cy="316440"/>
            </a:xfrm>
            <a:prstGeom prst="ellipse">
              <a:avLst/>
            </a:prstGeom>
            <a:solidFill>
              <a:srgbClr val="66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234560" y="3771360"/>
              <a:ext cx="495000" cy="306360"/>
            </a:xfrm>
            <a:prstGeom prst="ellipse">
              <a:avLst/>
            </a:prstGeom>
            <a:solidFill>
              <a:srgbClr val="66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575760" y="3957120"/>
              <a:ext cx="824760" cy="304920"/>
            </a:xfrm>
            <a:prstGeom prst="ellipse">
              <a:avLst/>
            </a:prstGeom>
            <a:solidFill>
              <a:srgbClr val="66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235920" y="3650760"/>
              <a:ext cx="504360" cy="306360"/>
            </a:xfrm>
            <a:prstGeom prst="ellipse">
              <a:avLst/>
            </a:prstGeom>
            <a:solidFill>
              <a:srgbClr val="66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411240" y="3836520"/>
              <a:ext cx="601920" cy="241200"/>
            </a:xfrm>
            <a:prstGeom prst="ellipse">
              <a:avLst/>
            </a:prstGeom>
            <a:solidFill>
              <a:srgbClr val="66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054600" y="3552120"/>
              <a:ext cx="1213200" cy="589320"/>
            </a:xfrm>
            <a:prstGeom prst="ellipse">
              <a:avLst/>
            </a:prstGeom>
            <a:solidFill>
              <a:srgbClr val="66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278160" y="3454560"/>
              <a:ext cx="658800" cy="381960"/>
            </a:xfrm>
            <a:prstGeom prst="ellipse">
              <a:avLst/>
            </a:prstGeom>
            <a:solidFill>
              <a:srgbClr val="66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821040" y="3519720"/>
              <a:ext cx="493920" cy="316440"/>
            </a:xfrm>
            <a:prstGeom prst="ellipse">
              <a:avLst/>
            </a:prstGeom>
            <a:solidFill>
              <a:srgbClr val="66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937320" y="3771360"/>
              <a:ext cx="495000" cy="306360"/>
            </a:xfrm>
            <a:prstGeom prst="ellipse">
              <a:avLst/>
            </a:prstGeom>
            <a:solidFill>
              <a:srgbClr val="66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278160" y="3957120"/>
              <a:ext cx="823320" cy="304920"/>
            </a:xfrm>
            <a:prstGeom prst="ellipse">
              <a:avLst/>
            </a:prstGeom>
            <a:solidFill>
              <a:srgbClr val="66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938680" y="3650760"/>
              <a:ext cx="504360" cy="306360"/>
            </a:xfrm>
            <a:prstGeom prst="ellipse">
              <a:avLst/>
            </a:prstGeom>
            <a:solidFill>
              <a:srgbClr val="66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112560" y="3836520"/>
              <a:ext cx="601560" cy="241200"/>
            </a:xfrm>
            <a:prstGeom prst="ellipse">
              <a:avLst/>
            </a:prstGeom>
            <a:solidFill>
              <a:srgbClr val="66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263400" y="3634200"/>
              <a:ext cx="931320" cy="371520"/>
            </a:xfrm>
            <a:prstGeom prst="ellipse">
              <a:avLst/>
            </a:prstGeom>
            <a:noFill/>
            <a:ln w="4428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677920" y="3568680"/>
              <a:ext cx="117000" cy="131760"/>
            </a:xfrm>
            <a:prstGeom prst="rect">
              <a:avLst/>
            </a:prstGeom>
            <a:solidFill>
              <a:srgbClr val="003333"/>
            </a:solidFill>
            <a:ln w="144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076000" y="3448080"/>
              <a:ext cx="109080" cy="121680"/>
            </a:xfrm>
            <a:prstGeom prst="rect">
              <a:avLst/>
            </a:prstGeom>
            <a:solidFill>
              <a:srgbClr val="003333"/>
            </a:solidFill>
            <a:ln w="144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746600" y="3753360"/>
              <a:ext cx="107640" cy="132840"/>
            </a:xfrm>
            <a:prstGeom prst="rect">
              <a:avLst/>
            </a:prstGeom>
            <a:solidFill>
              <a:srgbClr val="003333"/>
            </a:solidFill>
            <a:ln w="144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513400" y="4069800"/>
              <a:ext cx="118080" cy="122760"/>
            </a:xfrm>
            <a:prstGeom prst="rect">
              <a:avLst/>
            </a:prstGeom>
            <a:solidFill>
              <a:srgbClr val="003333"/>
            </a:solidFill>
            <a:ln w="144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076000" y="4069800"/>
              <a:ext cx="109080" cy="122760"/>
            </a:xfrm>
            <a:prstGeom prst="rect">
              <a:avLst/>
            </a:prstGeom>
            <a:solidFill>
              <a:srgbClr val="003333"/>
            </a:solidFill>
            <a:ln w="144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859280" y="3891600"/>
              <a:ext cx="223560" cy="185760"/>
            </a:xfrm>
            <a:prstGeom prst="line">
              <a:avLst/>
            </a:prstGeom>
            <a:ln w="30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140080" y="3573720"/>
              <a:ext cx="720" cy="503640"/>
            </a:xfrm>
            <a:prstGeom prst="line">
              <a:avLst/>
            </a:prstGeom>
            <a:ln w="30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4859280" y="3640320"/>
              <a:ext cx="824400" cy="184320"/>
            </a:xfrm>
            <a:prstGeom prst="line">
              <a:avLst/>
            </a:prstGeom>
            <a:ln w="30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188680" y="3519720"/>
              <a:ext cx="495000" cy="120600"/>
            </a:xfrm>
            <a:prstGeom prst="line">
              <a:avLst/>
            </a:prstGeom>
            <a:ln w="30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5577120" y="3704400"/>
              <a:ext cx="164880" cy="372960"/>
            </a:xfrm>
            <a:prstGeom prst="line">
              <a:avLst/>
            </a:prstGeom>
            <a:ln w="30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5188320" y="4131360"/>
              <a:ext cx="329400" cy="1080"/>
            </a:xfrm>
            <a:prstGeom prst="line">
              <a:avLst/>
            </a:prstGeom>
            <a:ln w="30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188680" y="3573720"/>
              <a:ext cx="329400" cy="557280"/>
            </a:xfrm>
            <a:prstGeom prst="line">
              <a:avLst/>
            </a:prstGeom>
            <a:ln w="30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H="1">
              <a:off x="4858920" y="3573720"/>
              <a:ext cx="223560" cy="186840"/>
            </a:xfrm>
            <a:prstGeom prst="line">
              <a:avLst/>
            </a:prstGeom>
            <a:ln w="30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842800" y="3819960"/>
              <a:ext cx="117000" cy="120600"/>
            </a:xfrm>
            <a:prstGeom prst="rect">
              <a:avLst/>
            </a:prstGeom>
            <a:solidFill>
              <a:srgbClr val="003333"/>
            </a:solidFill>
            <a:ln w="144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799960" y="3704400"/>
              <a:ext cx="48600" cy="120600"/>
            </a:xfrm>
            <a:prstGeom prst="line">
              <a:avLst/>
            </a:prstGeom>
            <a:ln w="30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flipH="1">
              <a:off x="5635080" y="3945240"/>
              <a:ext cx="213120" cy="132120"/>
            </a:xfrm>
            <a:prstGeom prst="line">
              <a:avLst/>
            </a:prstGeom>
            <a:ln w="30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7327440" y="4005720"/>
              <a:ext cx="117000" cy="131760"/>
            </a:xfrm>
            <a:prstGeom prst="rect">
              <a:avLst/>
            </a:prstGeom>
            <a:solidFill>
              <a:srgbClr val="003333"/>
            </a:solidFill>
            <a:ln w="144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725520" y="4136400"/>
              <a:ext cx="107640" cy="120600"/>
            </a:xfrm>
            <a:prstGeom prst="rect">
              <a:avLst/>
            </a:prstGeom>
            <a:solidFill>
              <a:srgbClr val="003333"/>
            </a:solidFill>
            <a:ln w="144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396120" y="3819960"/>
              <a:ext cx="107640" cy="131760"/>
            </a:xfrm>
            <a:prstGeom prst="rect">
              <a:avLst/>
            </a:prstGeom>
            <a:solidFill>
              <a:srgbClr val="003333"/>
            </a:solidFill>
            <a:ln w="144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7161480" y="3513600"/>
              <a:ext cx="118080" cy="121680"/>
            </a:xfrm>
            <a:prstGeom prst="rect">
              <a:avLst/>
            </a:prstGeom>
            <a:solidFill>
              <a:srgbClr val="003333"/>
            </a:solidFill>
            <a:ln w="144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725520" y="3513600"/>
              <a:ext cx="107640" cy="121680"/>
            </a:xfrm>
            <a:prstGeom prst="rect">
              <a:avLst/>
            </a:prstGeom>
            <a:solidFill>
              <a:srgbClr val="003333"/>
            </a:solidFill>
            <a:ln w="144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>
              <a:off x="6507000" y="3640320"/>
              <a:ext cx="223560" cy="184320"/>
            </a:xfrm>
            <a:prstGeom prst="line">
              <a:avLst/>
            </a:prstGeom>
            <a:ln w="30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789240" y="3640320"/>
              <a:ext cx="720" cy="501120"/>
            </a:xfrm>
            <a:prstGeom prst="line">
              <a:avLst/>
            </a:prstGeom>
            <a:ln w="30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507360" y="3891600"/>
              <a:ext cx="824400" cy="185760"/>
            </a:xfrm>
            <a:prstGeom prst="line">
              <a:avLst/>
            </a:prstGeom>
            <a:ln w="30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H="1">
              <a:off x="6837840" y="4077720"/>
              <a:ext cx="493920" cy="119160"/>
            </a:xfrm>
            <a:prstGeom prst="line">
              <a:avLst/>
            </a:prstGeom>
            <a:ln w="30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7225200" y="3640320"/>
              <a:ext cx="165600" cy="370080"/>
            </a:xfrm>
            <a:prstGeom prst="line">
              <a:avLst/>
            </a:prstGeom>
            <a:ln w="30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837840" y="3585240"/>
              <a:ext cx="329040" cy="1440"/>
            </a:xfrm>
            <a:prstGeom prst="line">
              <a:avLst/>
            </a:prstGeom>
            <a:ln w="30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H="1">
              <a:off x="6837840" y="3585240"/>
              <a:ext cx="329040" cy="556200"/>
            </a:xfrm>
            <a:prstGeom prst="line">
              <a:avLst/>
            </a:prstGeom>
            <a:ln w="30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507360" y="3957120"/>
              <a:ext cx="223560" cy="184320"/>
            </a:xfrm>
            <a:prstGeom prst="line">
              <a:avLst/>
            </a:prstGeom>
            <a:ln w="30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491960" y="3764880"/>
              <a:ext cx="117000" cy="121320"/>
            </a:xfrm>
            <a:prstGeom prst="rect">
              <a:avLst/>
            </a:prstGeom>
            <a:solidFill>
              <a:srgbClr val="003333"/>
            </a:solidFill>
            <a:ln w="144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>
              <a:off x="7448040" y="3891600"/>
              <a:ext cx="49680" cy="119160"/>
            </a:xfrm>
            <a:prstGeom prst="line">
              <a:avLst/>
            </a:prstGeom>
            <a:ln w="30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7284600" y="3640320"/>
              <a:ext cx="213120" cy="130680"/>
            </a:xfrm>
            <a:prstGeom prst="line">
              <a:avLst/>
            </a:prstGeom>
            <a:ln w="30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4421880" y="2776320"/>
              <a:ext cx="281880" cy="2509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4491720" y="2818800"/>
              <a:ext cx="195840" cy="182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3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719120" y="2776320"/>
              <a:ext cx="282960" cy="2509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7788960" y="2818800"/>
              <a:ext cx="195840" cy="182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3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822400" y="2776320"/>
              <a:ext cx="280800" cy="2509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891160" y="2818800"/>
              <a:ext cx="195840" cy="182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3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268080" y="3638880"/>
              <a:ext cx="930960" cy="3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800000"/>
                </a:path>
              </a:pathLst>
            </a:custGeom>
            <a:noFill/>
            <a:ln w="30240">
              <a:solidFill>
                <a:srgbClr val="a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859280" y="3891600"/>
              <a:ext cx="223560" cy="185760"/>
            </a:xfrm>
            <a:prstGeom prst="line">
              <a:avLst/>
            </a:prstGeom>
            <a:ln w="30240">
              <a:solidFill>
                <a:srgbClr val="a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5188320" y="4131360"/>
              <a:ext cx="329400" cy="1080"/>
            </a:xfrm>
            <a:prstGeom prst="line">
              <a:avLst/>
            </a:prstGeom>
            <a:ln w="30240">
              <a:solidFill>
                <a:srgbClr val="a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H="1">
              <a:off x="5635080" y="3945240"/>
              <a:ext cx="213120" cy="132120"/>
            </a:xfrm>
            <a:prstGeom prst="line">
              <a:avLst/>
            </a:prstGeom>
            <a:ln w="30240">
              <a:solidFill>
                <a:srgbClr val="a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H="1">
              <a:off x="5964480" y="3891600"/>
              <a:ext cx="164880" cy="1440"/>
            </a:xfrm>
            <a:prstGeom prst="line">
              <a:avLst/>
            </a:prstGeom>
            <a:ln w="30240">
              <a:solidFill>
                <a:srgbClr val="a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129360" y="2994120"/>
              <a:ext cx="720" cy="897120"/>
            </a:xfrm>
            <a:prstGeom prst="line">
              <a:avLst/>
            </a:prstGeom>
            <a:ln w="30240">
              <a:solidFill>
                <a:srgbClr val="a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294960" y="2994120"/>
              <a:ext cx="0" cy="897120"/>
            </a:xfrm>
            <a:prstGeom prst="line">
              <a:avLst/>
            </a:prstGeom>
            <a:ln w="30240">
              <a:solidFill>
                <a:srgbClr val="a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6294960" y="3891600"/>
              <a:ext cx="105120" cy="1440"/>
            </a:xfrm>
            <a:prstGeom prst="line">
              <a:avLst/>
            </a:prstGeom>
            <a:ln w="30240">
              <a:solidFill>
                <a:srgbClr val="a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284600" y="3640320"/>
              <a:ext cx="213120" cy="120240"/>
            </a:xfrm>
            <a:prstGeom prst="line">
              <a:avLst/>
            </a:prstGeom>
            <a:ln w="30240">
              <a:solidFill>
                <a:srgbClr val="a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H="1">
              <a:off x="7613640" y="3825000"/>
              <a:ext cx="271080" cy="1080"/>
            </a:xfrm>
            <a:prstGeom prst="line">
              <a:avLst/>
            </a:prstGeom>
            <a:ln w="30240">
              <a:solidFill>
                <a:srgbClr val="a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885080" y="3017520"/>
              <a:ext cx="720" cy="807480"/>
            </a:xfrm>
            <a:prstGeom prst="line">
              <a:avLst/>
            </a:prstGeom>
            <a:ln w="30240">
              <a:solidFill>
                <a:srgbClr val="a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884000" y="2016360"/>
              <a:ext cx="2160" cy="759960"/>
            </a:xfrm>
            <a:prstGeom prst="line">
              <a:avLst/>
            </a:prstGeom>
            <a:ln w="30240">
              <a:solidFill>
                <a:srgbClr val="9a9a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937600" y="1959840"/>
              <a:ext cx="2160" cy="816480"/>
            </a:xfrm>
            <a:prstGeom prst="line">
              <a:avLst/>
            </a:prstGeom>
            <a:ln w="30240">
              <a:solidFill>
                <a:srgbClr val="9a9a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938680" y="3017520"/>
              <a:ext cx="1080" cy="807480"/>
            </a:xfrm>
            <a:prstGeom prst="line">
              <a:avLst/>
            </a:prstGeom>
            <a:ln w="30240">
              <a:solidFill>
                <a:srgbClr val="a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H="1">
              <a:off x="2938680" y="3825000"/>
              <a:ext cx="330480" cy="1080"/>
            </a:xfrm>
            <a:prstGeom prst="line">
              <a:avLst/>
            </a:prstGeom>
            <a:ln w="30240">
              <a:solidFill>
                <a:srgbClr val="a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H="1">
              <a:off x="4199400" y="3825000"/>
              <a:ext cx="281520" cy="1080"/>
            </a:xfrm>
            <a:prstGeom prst="line">
              <a:avLst/>
            </a:prstGeom>
            <a:ln w="30240">
              <a:solidFill>
                <a:srgbClr val="a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4480920" y="3017520"/>
              <a:ext cx="1080" cy="807480"/>
            </a:xfrm>
            <a:prstGeom prst="line">
              <a:avLst/>
            </a:prstGeom>
            <a:ln w="30240">
              <a:solidFill>
                <a:srgbClr val="a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645800" y="3017520"/>
              <a:ext cx="1080" cy="807480"/>
            </a:xfrm>
            <a:prstGeom prst="line">
              <a:avLst/>
            </a:prstGeom>
            <a:ln w="30240">
              <a:solidFill>
                <a:srgbClr val="a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>
              <a:off x="4645800" y="3825000"/>
              <a:ext cx="106560" cy="1080"/>
            </a:xfrm>
            <a:prstGeom prst="line">
              <a:avLst/>
            </a:prstGeom>
            <a:ln w="30240">
              <a:solidFill>
                <a:srgbClr val="a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656520" y="3541680"/>
              <a:ext cx="173520" cy="162720"/>
            </a:xfrm>
            <a:custGeom>
              <a:avLst/>
              <a:gdLst/>
              <a:ahLst/>
              <a:rect l="l" t="t" r="r" b="b"/>
              <a:pathLst>
                <a:path w="167" h="139">
                  <a:moveTo>
                    <a:pt x="0" y="139"/>
                  </a:moveTo>
                  <a:lnTo>
                    <a:pt x="167" y="139"/>
                  </a:lnTo>
                  <a:lnTo>
                    <a:pt x="84" y="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374640" y="3913560"/>
              <a:ext cx="174960" cy="164160"/>
            </a:xfrm>
            <a:custGeom>
              <a:avLst/>
              <a:gdLst/>
              <a:ahLst/>
              <a:rect l="l" t="t" r="r" b="b"/>
              <a:pathLst>
                <a:path w="167" h="139">
                  <a:moveTo>
                    <a:pt x="0" y="139"/>
                  </a:moveTo>
                  <a:lnTo>
                    <a:pt x="167" y="139"/>
                  </a:lnTo>
                  <a:lnTo>
                    <a:pt x="83" y="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210120" y="3727800"/>
              <a:ext cx="174960" cy="163800"/>
            </a:xfrm>
            <a:custGeom>
              <a:avLst/>
              <a:gdLst/>
              <a:ahLst/>
              <a:rect l="l" t="t" r="r" b="b"/>
              <a:pathLst>
                <a:path w="167" h="139">
                  <a:moveTo>
                    <a:pt x="0" y="139"/>
                  </a:moveTo>
                  <a:lnTo>
                    <a:pt x="167" y="139"/>
                  </a:lnTo>
                  <a:lnTo>
                    <a:pt x="84" y="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763440" y="3913560"/>
              <a:ext cx="173520" cy="164160"/>
            </a:xfrm>
            <a:custGeom>
              <a:avLst/>
              <a:gdLst/>
              <a:ahLst/>
              <a:rect l="l" t="t" r="r" b="b"/>
              <a:pathLst>
                <a:path w="167" h="139">
                  <a:moveTo>
                    <a:pt x="0" y="139"/>
                  </a:moveTo>
                  <a:lnTo>
                    <a:pt x="167" y="139"/>
                  </a:lnTo>
                  <a:lnTo>
                    <a:pt x="84" y="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092480" y="3727800"/>
              <a:ext cx="174960" cy="163800"/>
            </a:xfrm>
            <a:custGeom>
              <a:avLst/>
              <a:gdLst/>
              <a:ahLst/>
              <a:rect l="l" t="t" r="r" b="b"/>
              <a:pathLst>
                <a:path w="167" h="139">
                  <a:moveTo>
                    <a:pt x="0" y="139"/>
                  </a:moveTo>
                  <a:lnTo>
                    <a:pt x="167" y="139"/>
                  </a:lnTo>
                  <a:lnTo>
                    <a:pt x="83" y="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716200" y="1563840"/>
              <a:ext cx="503280" cy="4370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773800" y="1639080"/>
              <a:ext cx="388440" cy="3178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812320" y="1621080"/>
              <a:ext cx="365040" cy="1828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T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784240" y="1772640"/>
              <a:ext cx="424440" cy="1828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614000" y="1563840"/>
              <a:ext cx="504360" cy="4370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671600" y="1639080"/>
              <a:ext cx="387360" cy="3178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7711920" y="1621080"/>
              <a:ext cx="365040" cy="1828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T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7679880" y="1772640"/>
              <a:ext cx="424440" cy="1828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507360" y="3945240"/>
              <a:ext cx="223560" cy="185760"/>
            </a:xfrm>
            <a:prstGeom prst="line">
              <a:avLst/>
            </a:prstGeom>
            <a:ln w="30240">
              <a:solidFill>
                <a:srgbClr val="a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>
              <a:off x="6837840" y="3573720"/>
              <a:ext cx="329040" cy="557280"/>
            </a:xfrm>
            <a:prstGeom prst="line">
              <a:avLst/>
            </a:prstGeom>
            <a:ln w="30240">
              <a:solidFill>
                <a:srgbClr val="a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093840" y="2841840"/>
              <a:ext cx="106560" cy="88200"/>
            </a:xfrm>
            <a:custGeom>
              <a:avLst/>
              <a:gdLst/>
              <a:ahLst/>
              <a:rect l="l" t="t" r="r" b="b"/>
              <a:pathLst>
                <a:path w="102" h="75">
                  <a:moveTo>
                    <a:pt x="0" y="37"/>
                  </a:moveTo>
                  <a:lnTo>
                    <a:pt x="102" y="0"/>
                  </a:lnTo>
                  <a:lnTo>
                    <a:pt x="102" y="7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flipH="1">
              <a:off x="3112200" y="2885040"/>
              <a:ext cx="310680" cy="1440"/>
            </a:xfrm>
            <a:prstGeom prst="line">
              <a:avLst/>
            </a:prstGeom>
            <a:ln w="14400">
              <a:solidFill>
                <a:srgbClr val="a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4315320" y="2841840"/>
              <a:ext cx="106200" cy="88200"/>
            </a:xfrm>
            <a:custGeom>
              <a:avLst/>
              <a:gdLst/>
              <a:ahLst/>
              <a:rect l="l" t="t" r="r" b="b"/>
              <a:pathLst>
                <a:path w="102" h="75">
                  <a:moveTo>
                    <a:pt x="102" y="37"/>
                  </a:moveTo>
                  <a:lnTo>
                    <a:pt x="0" y="75"/>
                  </a:lnTo>
                  <a:lnTo>
                    <a:pt x="0" y="0"/>
                  </a:lnTo>
                  <a:lnTo>
                    <a:pt x="102" y="37"/>
                  </a:lnTo>
                  <a:close/>
                </a:path>
              </a:pathLst>
            </a:cu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4081680" y="2885040"/>
              <a:ext cx="310680" cy="1440"/>
            </a:xfrm>
            <a:prstGeom prst="line">
              <a:avLst/>
            </a:prstGeom>
            <a:ln w="14400">
              <a:solidFill>
                <a:srgbClr val="a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123160" y="280836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OCh Tra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683960" y="2841840"/>
              <a:ext cx="106560" cy="88200"/>
            </a:xfrm>
            <a:custGeom>
              <a:avLst/>
              <a:gdLst/>
              <a:ahLst/>
              <a:rect l="l" t="t" r="r" b="b"/>
              <a:pathLst>
                <a:path w="102" h="75">
                  <a:moveTo>
                    <a:pt x="0" y="37"/>
                  </a:moveTo>
                  <a:lnTo>
                    <a:pt x="102" y="0"/>
                  </a:lnTo>
                  <a:lnTo>
                    <a:pt x="102" y="7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H="1">
              <a:off x="4703400" y="2885040"/>
              <a:ext cx="310680" cy="1440"/>
            </a:xfrm>
            <a:prstGeom prst="line">
              <a:avLst/>
            </a:prstGeom>
            <a:ln w="14400">
              <a:solidFill>
                <a:srgbClr val="a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964480" y="2841840"/>
              <a:ext cx="106560" cy="88200"/>
            </a:xfrm>
            <a:custGeom>
              <a:avLst/>
              <a:gdLst/>
              <a:ahLst/>
              <a:rect l="l" t="t" r="r" b="b"/>
              <a:pathLst>
                <a:path w="102" h="75">
                  <a:moveTo>
                    <a:pt x="102" y="37"/>
                  </a:moveTo>
                  <a:lnTo>
                    <a:pt x="0" y="75"/>
                  </a:lnTo>
                  <a:lnTo>
                    <a:pt x="0" y="0"/>
                  </a:lnTo>
                  <a:lnTo>
                    <a:pt x="102" y="37"/>
                  </a:lnTo>
                  <a:close/>
                </a:path>
              </a:pathLst>
            </a:cu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5731200" y="2885040"/>
              <a:ext cx="310680" cy="1440"/>
            </a:xfrm>
            <a:prstGeom prst="line">
              <a:avLst/>
            </a:prstGeom>
            <a:ln w="14400">
              <a:solidFill>
                <a:srgbClr val="a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467160" y="280836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OCh Tra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725160" y="280836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OCh Tra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333480" y="2841840"/>
              <a:ext cx="106200" cy="88200"/>
            </a:xfrm>
            <a:custGeom>
              <a:avLst/>
              <a:gdLst/>
              <a:ahLst/>
              <a:rect l="l" t="t" r="r" b="b"/>
              <a:pathLst>
                <a:path w="102" h="75">
                  <a:moveTo>
                    <a:pt x="0" y="37"/>
                  </a:moveTo>
                  <a:lnTo>
                    <a:pt x="102" y="0"/>
                  </a:lnTo>
                  <a:lnTo>
                    <a:pt x="102" y="7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H="1">
              <a:off x="6353280" y="2885040"/>
              <a:ext cx="310320" cy="1440"/>
            </a:xfrm>
            <a:prstGeom prst="line">
              <a:avLst/>
            </a:prstGeom>
            <a:ln w="14400">
              <a:solidFill>
                <a:srgbClr val="a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14000" y="2841840"/>
              <a:ext cx="105120" cy="88200"/>
            </a:xfrm>
            <a:custGeom>
              <a:avLst/>
              <a:gdLst/>
              <a:ahLst/>
              <a:rect l="l" t="t" r="r" b="b"/>
              <a:pathLst>
                <a:path w="102" h="75">
                  <a:moveTo>
                    <a:pt x="102" y="37"/>
                  </a:moveTo>
                  <a:lnTo>
                    <a:pt x="0" y="75"/>
                  </a:lnTo>
                  <a:lnTo>
                    <a:pt x="0" y="0"/>
                  </a:lnTo>
                  <a:lnTo>
                    <a:pt x="102" y="37"/>
                  </a:lnTo>
                  <a:close/>
                </a:path>
              </a:pathLst>
            </a:cu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H="1">
              <a:off x="7381440" y="2885040"/>
              <a:ext cx="309240" cy="1440"/>
            </a:xfrm>
            <a:prstGeom prst="line">
              <a:avLst/>
            </a:prstGeom>
            <a:ln w="14400">
              <a:solidFill>
                <a:srgbClr val="a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071400" y="2776320"/>
              <a:ext cx="281880" cy="2509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136200" y="2818800"/>
              <a:ext cx="195840" cy="182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3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831800" y="2241720"/>
              <a:ext cx="99360" cy="113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866680" y="2241720"/>
              <a:ext cx="99360" cy="113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016440" y="2298240"/>
              <a:ext cx="1654920" cy="0"/>
            </a:xfrm>
            <a:prstGeom prst="line">
              <a:avLst/>
            </a:prstGeom>
            <a:ln w="28440">
              <a:solidFill>
                <a:srgbClr val="9a9acc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275520" y="2298240"/>
              <a:ext cx="1505160" cy="0"/>
            </a:xfrm>
            <a:prstGeom prst="line">
              <a:avLst/>
            </a:prstGeom>
            <a:ln w="28440">
              <a:solidFill>
                <a:srgbClr val="9a9ac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727160" y="2172600"/>
              <a:ext cx="17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OTN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3" name=""/>
          <p:cNvGrpSpPr/>
          <p:nvPr/>
        </p:nvGrpSpPr>
        <p:grpSpPr>
          <a:xfrm>
            <a:off x="2892600" y="4376880"/>
            <a:ext cx="1451160" cy="492480"/>
            <a:chOff x="2892600" y="4376880"/>
            <a:chExt cx="1451160" cy="492480"/>
          </a:xfrm>
        </p:grpSpPr>
        <p:sp>
          <p:nvSpPr>
            <p:cNvPr id="2054" name=""/>
            <p:cNvSpPr/>
            <p:nvPr/>
          </p:nvSpPr>
          <p:spPr>
            <a:xfrm>
              <a:off x="2916720" y="4738320"/>
              <a:ext cx="116640" cy="120240"/>
            </a:xfrm>
            <a:prstGeom prst="rect">
              <a:avLst/>
            </a:prstGeom>
            <a:solidFill>
              <a:srgbClr val="003333"/>
            </a:solidFill>
            <a:ln w="30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693240" y="4705920"/>
              <a:ext cx="173880" cy="162720"/>
            </a:xfrm>
            <a:custGeom>
              <a:avLst/>
              <a:gdLst/>
              <a:ahLst/>
              <a:rect l="l" t="t" r="r" b="b"/>
              <a:pathLst>
                <a:path w="167" h="139">
                  <a:moveTo>
                    <a:pt x="0" y="139"/>
                  </a:moveTo>
                  <a:lnTo>
                    <a:pt x="167" y="139"/>
                  </a:lnTo>
                  <a:lnTo>
                    <a:pt x="83" y="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197160" y="471672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OC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905640" y="47167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OA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142080" y="4376880"/>
              <a:ext cx="120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OCh Link Conne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892600" y="4433040"/>
              <a:ext cx="200160" cy="0"/>
            </a:xfrm>
            <a:prstGeom prst="line">
              <a:avLst/>
            </a:prstGeom>
            <a:ln w="28440">
              <a:solidFill>
                <a:srgbClr val="cdcc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0" name=""/>
          <p:cNvGrpSpPr/>
          <p:nvPr/>
        </p:nvGrpSpPr>
        <p:grpSpPr>
          <a:xfrm>
            <a:off x="3719160" y="1333440"/>
            <a:ext cx="2017800" cy="1417320"/>
            <a:chOff x="3719160" y="1333440"/>
            <a:chExt cx="2017800" cy="1417320"/>
          </a:xfrm>
        </p:grpSpPr>
        <p:sp>
          <p:nvSpPr>
            <p:cNvPr id="2061" name=""/>
            <p:cNvSpPr/>
            <p:nvPr/>
          </p:nvSpPr>
          <p:spPr>
            <a:xfrm>
              <a:off x="4443480" y="1333440"/>
              <a:ext cx="1293480" cy="6166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0066"/>
                  </a:solidFill>
                  <a:latin typeface="Arial"/>
                </a:rPr>
                <a:t>Digital</a:t>
              </a:r>
              <a:br>
                <a:rPr sz="1400"/>
              </a:br>
              <a:r>
                <a:rPr b="1" lang="de-DE" sz="1400" spc="-1" strike="noStrike">
                  <a:solidFill>
                    <a:srgbClr val="ff0066"/>
                  </a:solidFill>
                  <a:latin typeface="Arial"/>
                </a:rPr>
                <a:t>Transmission</a:t>
              </a:r>
              <a:br>
                <a:rPr sz="1400"/>
              </a:br>
              <a:r>
                <a:rPr b="1" lang="de-DE" sz="1400" spc="-1" strike="noStrike">
                  <a:solidFill>
                    <a:srgbClr val="ff0066"/>
                  </a:solidFill>
                  <a:latin typeface="Arial"/>
                </a:rPr>
                <a:t>Analy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H="1">
              <a:off x="3719160" y="1950120"/>
              <a:ext cx="776520" cy="8006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>
              <a:off x="4392000" y="1950120"/>
              <a:ext cx="155520" cy="3074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4" name=""/>
          <p:cNvGrpSpPr/>
          <p:nvPr/>
        </p:nvGrpSpPr>
        <p:grpSpPr>
          <a:xfrm>
            <a:off x="6757920" y="4095720"/>
            <a:ext cx="1265400" cy="920520"/>
            <a:chOff x="6757920" y="4095720"/>
            <a:chExt cx="1265400" cy="920520"/>
          </a:xfrm>
        </p:grpSpPr>
        <p:sp>
          <p:nvSpPr>
            <p:cNvPr id="2065" name=""/>
            <p:cNvSpPr/>
            <p:nvPr/>
          </p:nvSpPr>
          <p:spPr>
            <a:xfrm flipH="1" flipV="1">
              <a:off x="7071480" y="4095720"/>
              <a:ext cx="252720" cy="3333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757920" y="4440960"/>
              <a:ext cx="1265400" cy="5752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0000"/>
                  </a:solidFill>
                  <a:latin typeface="Arial"/>
                </a:rPr>
                <a:t>OSA,Q-F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0000"/>
                  </a:solidFill>
                  <a:latin typeface="Arial"/>
                </a:rPr>
                <a:t>OSC, OT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7" name=""/>
          <p:cNvSpPr/>
          <p:nvPr/>
        </p:nvSpPr>
        <p:spPr>
          <a:xfrm>
            <a:off x="1905120" y="5002200"/>
            <a:ext cx="68212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30000"/>
              </a:lnSpc>
              <a:buClr>
                <a:srgbClr val="ee0202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 of signal quality in ‘sub-network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30000"/>
              </a:lnSpc>
              <a:buClr>
                <a:srgbClr val="ee0202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network sections (passed / fail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30000"/>
              </a:lnSpc>
              <a:buClr>
                <a:srgbClr val="ee0202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uble shooting and monitoring in sub-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1820520" y="441360"/>
            <a:ext cx="696924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alidation of Connection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cover dir="lu"/>
      </p:transition>
    </mc:Choice>
    <mc:Fallback>
      <p:transition spd="slow">
        <p:cover dir="lu"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elected Optical Standar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1714320" y="991800"/>
            <a:ext cx="7213320" cy="57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9320" indent="0">
              <a:lnSpc>
                <a:spcPct val="110000"/>
              </a:lnSpc>
              <a:spcBef>
                <a:spcPts val="45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ed ITU-T optical standards (short titles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349"/>
              </a:spcBef>
              <a:spcAft>
                <a:spcPts val="2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.671 Transmission characteristics of optical components and subsyste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349"/>
              </a:spcBef>
              <a:spcAft>
                <a:spcPts val="2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.681 Functional characteristics of inter-office and long-haul syste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349"/>
              </a:spcBef>
              <a:spcAft>
                <a:spcPts val="2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.691 Optical interfaces for single-channel systems with optical amplifi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349"/>
              </a:spcBef>
              <a:spcAft>
                <a:spcPts val="2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.692 Optical interfaces for multi-channel systems with optical amplifi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349"/>
              </a:spcBef>
              <a:spcAft>
                <a:spcPts val="2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.709 Network node interface for the Optical Transport Network (OT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349"/>
              </a:spcBef>
              <a:spcAft>
                <a:spcPts val="2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.807 Architecture for Automatic Switched Transport Network (AST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349"/>
              </a:spcBef>
              <a:spcAft>
                <a:spcPts val="2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.959.1 OTN physical layer interfac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349"/>
              </a:spcBef>
              <a:spcAft>
                <a:spcPts val="264"/>
              </a:spcAft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Arial"/>
              </a:rPr>
              <a:t>G.976 Test methods applicable to optical fibre submarine cable syste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349"/>
              </a:spcBef>
              <a:spcAft>
                <a:spcPts val="2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.8080 Architecture for Automatic Switched Optical Networks (AS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349"/>
              </a:spcBef>
              <a:spcAft>
                <a:spcPts val="264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G.optperf Error and availability performance parameters and objectives for OT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349"/>
              </a:spcBef>
              <a:spcAft>
                <a:spcPts val="264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M.24otn Error performance objectives and BIS/Maintenance procedures for OT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349"/>
              </a:spcBef>
              <a:spcAft>
                <a:spcPts val="264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O.qfm Q-factor test equipment for measuring optical transmission performa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ct val="110000"/>
              </a:lnSpc>
              <a:spcBef>
                <a:spcPts val="45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me other relevant optical standard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ct val="110000"/>
              </a:lnSpc>
              <a:spcBef>
                <a:spcPts val="349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EC Definition of principal test method and parameters (under study by SC86C WG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ct val="110000"/>
              </a:lnSpc>
              <a:spcBef>
                <a:spcPts val="349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IF Electrical Interface and Very Short Reach Interface Implementation Agreem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ct val="110000"/>
              </a:lnSpc>
              <a:spcBef>
                <a:spcPts val="349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IF UNI 1.0 Signalling Specific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ct val="110000"/>
              </a:lnSpc>
              <a:spcBef>
                <a:spcPts val="349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33cc"/>
                </a:solidFill>
                <a:latin typeface="Arial"/>
              </a:rPr>
              <a:t>TIA/EIA-526-12 Q-factor measurement procedure for optical transmission syste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tical Transport Netwo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762120"/>
            <a:ext cx="0" cy="5638680"/>
          </a:xfrm>
          <a:prstGeom prst="line">
            <a:avLst/>
          </a:prstGeom>
          <a:ln cap="rnd" w="936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920" y="40543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5720" y="40543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62200" y="323064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05240" y="323064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3230640"/>
            <a:ext cx="78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rot="5400000">
            <a:off x="4881600" y="3083400"/>
            <a:ext cx="296640" cy="29556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46240" y="2995560"/>
            <a:ext cx="27000" cy="173160"/>
            <a:chOff x="2946240" y="2995560"/>
            <a:chExt cx="27000" cy="173160"/>
          </a:xfrm>
        </p:grpSpPr>
        <p:sp>
          <p:nvSpPr>
            <p:cNvPr id="110" name=""/>
            <p:cNvSpPr/>
            <p:nvPr/>
          </p:nvSpPr>
          <p:spPr>
            <a:xfrm>
              <a:off x="2946240" y="29955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46240" y="30700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46240" y="31417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783400" y="2744640"/>
            <a:ext cx="616680" cy="623880"/>
            <a:chOff x="5783400" y="2744640"/>
            <a:chExt cx="616680" cy="623880"/>
          </a:xfrm>
        </p:grpSpPr>
        <p:sp>
          <p:nvSpPr>
            <p:cNvPr id="114" name=""/>
            <p:cNvSpPr/>
            <p:nvPr/>
          </p:nvSpPr>
          <p:spPr>
            <a:xfrm>
              <a:off x="5783400" y="274464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06080" y="336852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188040" y="3940200"/>
            <a:ext cx="565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97760" y="4422600"/>
            <a:ext cx="55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9280" y="2800440"/>
            <a:ext cx="306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9280" y="3381480"/>
            <a:ext cx="306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7840" y="3836880"/>
            <a:ext cx="306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7840" y="4446720"/>
            <a:ext cx="306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25720" y="40514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25720" y="412596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25720" y="41972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562200" y="3840120"/>
            <a:ext cx="74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304880" y="384012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648320" y="3840120"/>
            <a:ext cx="78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rot="16200000">
            <a:off x="4881240" y="3693240"/>
            <a:ext cx="297000" cy="29556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rot="16200000">
            <a:off x="4304160" y="3692520"/>
            <a:ext cx="297000" cy="29700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9760" y="3521160"/>
            <a:ext cx="63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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3063960"/>
            <a:ext cx="6098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A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191120" y="1844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429080" y="1835280"/>
            <a:ext cx="152280" cy="1218960"/>
            <a:chOff x="4429080" y="1835280"/>
            <a:chExt cx="152280" cy="1218960"/>
          </a:xfrm>
        </p:grpSpPr>
        <p:sp>
          <p:nvSpPr>
            <p:cNvPr id="134" name=""/>
            <p:cNvSpPr/>
            <p:nvPr/>
          </p:nvSpPr>
          <p:spPr>
            <a:xfrm flipV="1">
              <a:off x="4429080" y="183528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505040" y="183528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581360" y="183528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136600" y="192096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240" y="528"/>
                </a:moveTo>
                <a:lnTo>
                  <a:pt x="24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32040" y="1539720"/>
            <a:ext cx="304560" cy="6098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908000" y="1616040"/>
            <a:ext cx="152280" cy="533520"/>
            <a:chOff x="1908000" y="1616040"/>
            <a:chExt cx="152280" cy="533520"/>
          </a:xfrm>
        </p:grpSpPr>
        <p:sp>
          <p:nvSpPr>
            <p:cNvPr id="140" name=""/>
            <p:cNvSpPr/>
            <p:nvPr/>
          </p:nvSpPr>
          <p:spPr>
            <a:xfrm>
              <a:off x="1908000" y="161604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3960" y="161604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60280" y="161604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832040" y="2073240"/>
            <a:ext cx="304560" cy="76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8000" y="1616040"/>
            <a:ext cx="1526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8320" y="236232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141"/>
                </a:solidFill>
                <a:latin typeface="Arial"/>
              </a:rPr>
              <a:t>Gi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88880" y="3368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3400" y="3568680"/>
            <a:ext cx="121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NET/SD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145880" y="3124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30960" y="2508120"/>
            <a:ext cx="70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50880" y="2295360"/>
            <a:ext cx="685800" cy="914400"/>
            <a:chOff x="650880" y="2295360"/>
            <a:chExt cx="685800" cy="914400"/>
          </a:xfrm>
        </p:grpSpPr>
        <p:sp>
          <p:nvSpPr>
            <p:cNvPr id="151" name=""/>
            <p:cNvSpPr/>
            <p:nvPr/>
          </p:nvSpPr>
          <p:spPr>
            <a:xfrm>
              <a:off x="650880" y="2295360"/>
              <a:ext cx="685800" cy="914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0880" y="2295360"/>
              <a:ext cx="685800" cy="914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727200" y="2371680"/>
              <a:ext cx="533160" cy="837720"/>
              <a:chOff x="727200" y="2371680"/>
              <a:chExt cx="533160" cy="837720"/>
            </a:xfrm>
          </p:grpSpPr>
          <p:sp>
            <p:nvSpPr>
              <p:cNvPr id="154" name=""/>
              <p:cNvSpPr/>
              <p:nvPr/>
            </p:nvSpPr>
            <p:spPr>
              <a:xfrm>
                <a:off x="727200" y="2371680"/>
                <a:ext cx="0" cy="83772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03160" y="2371680"/>
                <a:ext cx="0" cy="83772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" y="2371680"/>
                <a:ext cx="0" cy="83772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55800" y="2371680"/>
                <a:ext cx="0" cy="83772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31760" y="2371680"/>
                <a:ext cx="0" cy="83772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108080" y="2371680"/>
                <a:ext cx="0" cy="83772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84400" y="2371680"/>
                <a:ext cx="0" cy="83772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260360" y="2371680"/>
                <a:ext cx="0" cy="83772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650880" y="320976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785880" y="5121360"/>
            <a:ext cx="98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M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Vo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38160" y="4587840"/>
            <a:ext cx="685800" cy="565200"/>
            <a:chOff x="938160" y="4587840"/>
            <a:chExt cx="685800" cy="565200"/>
          </a:xfrm>
        </p:grpSpPr>
        <p:sp>
          <p:nvSpPr>
            <p:cNvPr id="165" name=""/>
            <p:cNvSpPr/>
            <p:nvPr/>
          </p:nvSpPr>
          <p:spPr>
            <a:xfrm>
              <a:off x="938160" y="4587840"/>
              <a:ext cx="685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38160" y="4587840"/>
              <a:ext cx="685800" cy="533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1014480" y="4632480"/>
              <a:ext cx="533160" cy="488880"/>
              <a:chOff x="1014480" y="4632480"/>
              <a:chExt cx="533160" cy="488880"/>
            </a:xfrm>
          </p:grpSpPr>
          <p:sp>
            <p:nvSpPr>
              <p:cNvPr id="168" name=""/>
              <p:cNvSpPr/>
              <p:nvPr/>
            </p:nvSpPr>
            <p:spPr>
              <a:xfrm>
                <a:off x="1014480" y="4632480"/>
                <a:ext cx="0" cy="4888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90440" y="4632480"/>
                <a:ext cx="0" cy="4888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66760" y="4632480"/>
                <a:ext cx="0" cy="4888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43080" y="4632480"/>
                <a:ext cx="0" cy="4888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319040" y="4632480"/>
                <a:ext cx="0" cy="4888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395360" y="4632480"/>
                <a:ext cx="0" cy="4888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471680" y="4632480"/>
                <a:ext cx="0" cy="4888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547640" y="4632480"/>
                <a:ext cx="0" cy="4888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1014480" y="4664160"/>
              <a:ext cx="5335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14480" y="4740480"/>
              <a:ext cx="5335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014480" y="4664160"/>
              <a:ext cx="533160" cy="488880"/>
              <a:chOff x="1014480" y="4664160"/>
              <a:chExt cx="533160" cy="488880"/>
            </a:xfrm>
          </p:grpSpPr>
          <p:sp>
            <p:nvSpPr>
              <p:cNvPr id="179" name=""/>
              <p:cNvSpPr/>
              <p:nvPr/>
            </p:nvSpPr>
            <p:spPr>
              <a:xfrm>
                <a:off x="1014480" y="4664160"/>
                <a:ext cx="0" cy="4888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90440" y="4664160"/>
                <a:ext cx="0" cy="4888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66760" y="4664160"/>
                <a:ext cx="0" cy="4888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243080" y="4664160"/>
                <a:ext cx="0" cy="4888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319040" y="4664160"/>
                <a:ext cx="0" cy="4888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395360" y="4664160"/>
                <a:ext cx="0" cy="4888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471680" y="4664160"/>
                <a:ext cx="0" cy="4888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547640" y="4664160"/>
                <a:ext cx="0" cy="4888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1014480" y="4816440"/>
              <a:ext cx="5335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14480" y="4892760"/>
              <a:ext cx="5335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14480" y="4969080"/>
              <a:ext cx="5335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14480" y="5045040"/>
              <a:ext cx="5335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38160" y="5121360"/>
              <a:ext cx="6858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243080" y="4435560"/>
            <a:ext cx="1260360" cy="152280"/>
          </a:xfrm>
          <a:custGeom>
            <a:avLst/>
            <a:gdLst/>
            <a:ahLst/>
            <a:rect l="l" t="t" r="r" b="b"/>
            <a:pathLst>
              <a:path w="816" h="96">
                <a:moveTo>
                  <a:pt x="816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3440" y="213372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a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400800" y="1996920"/>
            <a:ext cx="905040" cy="1600200"/>
            <a:chOff x="6400800" y="1996920"/>
            <a:chExt cx="905040" cy="1600200"/>
          </a:xfrm>
        </p:grpSpPr>
        <p:sp>
          <p:nvSpPr>
            <p:cNvPr id="195" name=""/>
            <p:cNvSpPr/>
            <p:nvPr/>
          </p:nvSpPr>
          <p:spPr>
            <a:xfrm>
              <a:off x="6400800" y="1996920"/>
              <a:ext cx="905040" cy="160020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6469920" y="2066400"/>
              <a:ext cx="765720" cy="1321200"/>
              <a:chOff x="6469920" y="2066400"/>
              <a:chExt cx="765720" cy="132120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6469920" y="2066400"/>
                <a:ext cx="765720" cy="69480"/>
                <a:chOff x="6469920" y="2066400"/>
                <a:chExt cx="765720" cy="694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469920" y="206640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539400" y="206640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609240" y="206640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678720" y="206640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748200" y="206640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818040" y="206640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887520" y="206640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957360" y="206640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026840" y="206640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026840" y="206640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096320" y="206640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166160" y="206640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469920" y="2135880"/>
                <a:ext cx="765720" cy="69120"/>
                <a:chOff x="6469920" y="2135880"/>
                <a:chExt cx="765720" cy="691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469920" y="213588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539400" y="213588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609240" y="2135880"/>
                  <a:ext cx="6912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678720" y="213588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748200" y="213588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818040" y="2135880"/>
                  <a:ext cx="6912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887520" y="213588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957360" y="213588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026840" y="2135880"/>
                  <a:ext cx="6912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026840" y="2135880"/>
                  <a:ext cx="6912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096320" y="213588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166160" y="213588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6469920" y="2205360"/>
                <a:ext cx="765720" cy="69480"/>
                <a:chOff x="6469920" y="2205360"/>
                <a:chExt cx="765720" cy="69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6469920" y="220536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539400" y="220536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609240" y="220536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678720" y="220536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748200" y="220536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818040" y="220536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887520" y="220536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957360" y="220536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026840" y="220536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026840" y="220536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096320" y="220536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166160" y="220536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6469920" y="2274840"/>
                <a:ext cx="765720" cy="69480"/>
                <a:chOff x="6469920" y="2274840"/>
                <a:chExt cx="765720" cy="694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6469920" y="22748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539400" y="22748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609240" y="227484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678720" y="22748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748200" y="22748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818040" y="227484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887520" y="22748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957360" y="22748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026840" y="227484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026840" y="227484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096320" y="22748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166160" y="22748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6469920" y="2344680"/>
                <a:ext cx="765720" cy="69120"/>
                <a:chOff x="6469920" y="2344680"/>
                <a:chExt cx="765720" cy="6912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6469920" y="234468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539400" y="234468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609240" y="2344680"/>
                  <a:ext cx="6912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678720" y="234468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748200" y="234468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818040" y="2344680"/>
                  <a:ext cx="6912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887520" y="234468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957360" y="234468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026840" y="2344680"/>
                  <a:ext cx="6912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026840" y="2344680"/>
                  <a:ext cx="6912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096320" y="234468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166160" y="234468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6469920" y="2413800"/>
                <a:ext cx="765720" cy="69480"/>
                <a:chOff x="6469920" y="2413800"/>
                <a:chExt cx="765720" cy="694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469920" y="241380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539400" y="241380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609240" y="241380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678720" y="241380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748200" y="241380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818040" y="241380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887520" y="241380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957360" y="241380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026840" y="241380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026840" y="241380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096320" y="241380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166160" y="241380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469920" y="2483640"/>
                <a:ext cx="765720" cy="69480"/>
                <a:chOff x="6469920" y="2483640"/>
                <a:chExt cx="765720" cy="694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6469920" y="24836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539400" y="24836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609240" y="248364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678720" y="24836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748200" y="24836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818040" y="248364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887520" y="24836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957360" y="24836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026840" y="248364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026840" y="248364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096320" y="24836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166160" y="24836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6469920" y="2553120"/>
                <a:ext cx="765720" cy="69120"/>
                <a:chOff x="6469920" y="2553120"/>
                <a:chExt cx="765720" cy="69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6469920" y="255312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539400" y="255312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09240" y="2553120"/>
                  <a:ext cx="6912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678720" y="255312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748200" y="255312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818040" y="2553120"/>
                  <a:ext cx="6912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887520" y="255312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957360" y="255312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026840" y="2553120"/>
                  <a:ext cx="6912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026840" y="2553120"/>
                  <a:ext cx="6912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096320" y="255312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166160" y="255312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6469920" y="2622600"/>
                <a:ext cx="765720" cy="69480"/>
                <a:chOff x="6469920" y="2622600"/>
                <a:chExt cx="765720" cy="694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6469920" y="262260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539400" y="262260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609240" y="262260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678720" y="262260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748200" y="262260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818040" y="262260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887520" y="262260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957360" y="262260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026840" y="262260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026840" y="262260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096320" y="262260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166160" y="262260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6469920" y="2692080"/>
                <a:ext cx="765720" cy="69480"/>
                <a:chOff x="6469920" y="2692080"/>
                <a:chExt cx="765720" cy="694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6469920" y="269208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539400" y="269208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9240" y="269208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678720" y="269208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748200" y="269208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818040" y="269208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887520" y="269208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957360" y="269208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026840" y="269208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026840" y="269208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096320" y="269208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166160" y="269208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6469920" y="2761920"/>
                <a:ext cx="765720" cy="69120"/>
                <a:chOff x="6469920" y="2761920"/>
                <a:chExt cx="765720" cy="69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6469920" y="276192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539400" y="276192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609240" y="2761920"/>
                  <a:ext cx="6912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678720" y="276192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748200" y="276192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818040" y="2761920"/>
                  <a:ext cx="6912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887520" y="276192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957360" y="276192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026840" y="2761920"/>
                  <a:ext cx="6912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026840" y="2761920"/>
                  <a:ext cx="6912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096320" y="276192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166160" y="276192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6469920" y="2831040"/>
                <a:ext cx="765720" cy="69480"/>
                <a:chOff x="6469920" y="2831040"/>
                <a:chExt cx="765720" cy="694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6469920" y="28310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539400" y="28310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09240" y="283104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78720" y="28310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748200" y="28310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818040" y="283104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887520" y="28310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957360" y="28310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026840" y="283104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026840" y="283104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096320" y="28310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166160" y="28310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6469920" y="2900880"/>
                <a:ext cx="765720" cy="69480"/>
                <a:chOff x="6469920" y="2900880"/>
                <a:chExt cx="765720" cy="6948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6469920" y="290088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39400" y="290088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609240" y="290088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78720" y="290088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748200" y="290088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818040" y="290088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887520" y="290088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957360" y="290088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026840" y="290088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026840" y="290088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096320" y="290088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166160" y="290088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6469920" y="2970360"/>
                <a:ext cx="765720" cy="69120"/>
                <a:chOff x="6469920" y="2970360"/>
                <a:chExt cx="765720" cy="69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6469920" y="297036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539400" y="297036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609240" y="2970360"/>
                  <a:ext cx="6912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678720" y="297036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748200" y="297036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818040" y="2970360"/>
                  <a:ext cx="6912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887520" y="297036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957360" y="297036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026840" y="2970360"/>
                  <a:ext cx="6912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026840" y="2970360"/>
                  <a:ext cx="6912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096320" y="297036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166160" y="297036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469920" y="3039840"/>
                <a:ext cx="765720" cy="69480"/>
                <a:chOff x="6469920" y="3039840"/>
                <a:chExt cx="765720" cy="6948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469920" y="30398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539400" y="30398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609240" y="303984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678720" y="30398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748200" y="30398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818040" y="303984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887520" y="30398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957360" y="30398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026840" y="303984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026840" y="303984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096320" y="30398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166160" y="30398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469920" y="3109320"/>
                <a:ext cx="765720" cy="69480"/>
                <a:chOff x="6469920" y="3109320"/>
                <a:chExt cx="765720" cy="6948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469920" y="310932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539400" y="310932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609240" y="310932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678720" y="310932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748200" y="310932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818040" y="310932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887520" y="310932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957360" y="310932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026840" y="310932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026840" y="310932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096320" y="310932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166160" y="310932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469920" y="3179160"/>
                <a:ext cx="765720" cy="69120"/>
                <a:chOff x="6469920" y="3179160"/>
                <a:chExt cx="765720" cy="69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469920" y="317916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539400" y="317916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609240" y="3179160"/>
                  <a:ext cx="6912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678720" y="317916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748200" y="317916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818040" y="3179160"/>
                  <a:ext cx="6912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887520" y="317916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957360" y="317916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026840" y="3179160"/>
                  <a:ext cx="6912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026840" y="3179160"/>
                  <a:ext cx="6912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096320" y="317916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166160" y="3179160"/>
                  <a:ext cx="69480" cy="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6469920" y="3248640"/>
                <a:ext cx="765720" cy="69480"/>
                <a:chOff x="6469920" y="3248640"/>
                <a:chExt cx="765720" cy="6948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6469920" y="32486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539400" y="32486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609240" y="324864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678720" y="32486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748200" y="32486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818040" y="324864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887520" y="32486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957360" y="32486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026840" y="324864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026840" y="324864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096320" y="32486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166160" y="324864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6469920" y="3318120"/>
                <a:ext cx="765720" cy="69480"/>
                <a:chOff x="6469920" y="3318120"/>
                <a:chExt cx="765720" cy="6948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6469920" y="331812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539400" y="331812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609240" y="331812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678720" y="331812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748200" y="331812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818040" y="331812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887520" y="331812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957360" y="331812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026840" y="331812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026840" y="331812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096320" y="331812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166160" y="331812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6469920" y="3318120"/>
                <a:ext cx="765720" cy="69480"/>
                <a:chOff x="6469920" y="3318120"/>
                <a:chExt cx="765720" cy="694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469920" y="331812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539400" y="331812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609240" y="331812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678720" y="331812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748200" y="331812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818040" y="331812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887520" y="331812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957360" y="331812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026840" y="331812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026840" y="3318120"/>
                  <a:ext cx="691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096320" y="331812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7166160" y="3318120"/>
                  <a:ext cx="6948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7" name=""/>
            <p:cNvSpPr/>
            <p:nvPr/>
          </p:nvSpPr>
          <p:spPr>
            <a:xfrm>
              <a:off x="6469920" y="3388320"/>
              <a:ext cx="766080" cy="2084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5954760" y="166680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cal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3886200" y="1752480"/>
            <a:ext cx="304920" cy="609480"/>
            <a:chOff x="3886200" y="1752480"/>
            <a:chExt cx="304920" cy="609480"/>
          </a:xfrm>
        </p:grpSpPr>
        <p:sp>
          <p:nvSpPr>
            <p:cNvPr id="460" name=""/>
            <p:cNvSpPr/>
            <p:nvPr/>
          </p:nvSpPr>
          <p:spPr>
            <a:xfrm>
              <a:off x="3886200" y="1752480"/>
              <a:ext cx="304920" cy="609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3962520" y="1828800"/>
              <a:ext cx="152280" cy="533160"/>
              <a:chOff x="3962520" y="1828800"/>
              <a:chExt cx="152280" cy="533160"/>
            </a:xfrm>
          </p:grpSpPr>
          <p:sp>
            <p:nvSpPr>
              <p:cNvPr id="462" name=""/>
              <p:cNvSpPr/>
              <p:nvPr/>
            </p:nvSpPr>
            <p:spPr>
              <a:xfrm>
                <a:off x="3962520" y="182880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038480" y="182880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114800" y="182880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3886200" y="2286000"/>
              <a:ext cx="304920" cy="759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62520" y="1828800"/>
              <a:ext cx="15228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4390920" y="1225440"/>
            <a:ext cx="685800" cy="609480"/>
            <a:chOff x="4390920" y="1225440"/>
            <a:chExt cx="685800" cy="609480"/>
          </a:xfrm>
        </p:grpSpPr>
        <p:sp>
          <p:nvSpPr>
            <p:cNvPr id="468" name=""/>
            <p:cNvSpPr/>
            <p:nvPr/>
          </p:nvSpPr>
          <p:spPr>
            <a:xfrm>
              <a:off x="4390920" y="1225440"/>
              <a:ext cx="685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90920" y="1225440"/>
              <a:ext cx="685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390920" y="1225440"/>
              <a:ext cx="685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90920" y="1225440"/>
              <a:ext cx="685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90920" y="1225440"/>
              <a:ext cx="685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390920" y="1225440"/>
              <a:ext cx="7632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67240" y="1225440"/>
              <a:ext cx="7596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43200" y="1225440"/>
              <a:ext cx="7632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619520" y="1225440"/>
              <a:ext cx="7632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95840" y="1225440"/>
              <a:ext cx="7596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771800" y="1225440"/>
              <a:ext cx="7632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48120" y="1225440"/>
              <a:ext cx="7632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924440" y="1225440"/>
              <a:ext cx="7596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00400" y="1225440"/>
              <a:ext cx="7632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095880" y="3043080"/>
            <a:ext cx="27000" cy="173160"/>
            <a:chOff x="6095880" y="3043080"/>
            <a:chExt cx="27000" cy="173160"/>
          </a:xfrm>
        </p:grpSpPr>
        <p:sp>
          <p:nvSpPr>
            <p:cNvPr id="483" name=""/>
            <p:cNvSpPr/>
            <p:nvPr/>
          </p:nvSpPr>
          <p:spPr>
            <a:xfrm>
              <a:off x="6095880" y="30430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95880" y="31176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95880" y="31892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8339040" y="1704960"/>
            <a:ext cx="474840" cy="838080"/>
            <a:chOff x="8339040" y="1704960"/>
            <a:chExt cx="474840" cy="838080"/>
          </a:xfrm>
        </p:grpSpPr>
        <p:sp>
          <p:nvSpPr>
            <p:cNvPr id="487" name=""/>
            <p:cNvSpPr/>
            <p:nvPr/>
          </p:nvSpPr>
          <p:spPr>
            <a:xfrm>
              <a:off x="8339040" y="1704960"/>
              <a:ext cx="474840" cy="83808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8375400" y="1741320"/>
              <a:ext cx="401760" cy="692280"/>
              <a:chOff x="8375400" y="1741320"/>
              <a:chExt cx="401760" cy="692280"/>
            </a:xfrm>
          </p:grpSpPr>
          <p:grpSp>
            <p:nvGrpSpPr>
              <p:cNvPr id="489" name=""/>
              <p:cNvGrpSpPr/>
              <p:nvPr/>
            </p:nvGrpSpPr>
            <p:grpSpPr>
              <a:xfrm>
                <a:off x="8375400" y="1741320"/>
                <a:ext cx="401760" cy="36360"/>
                <a:chOff x="8375400" y="1741320"/>
                <a:chExt cx="401760" cy="3636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8375400" y="17413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8411760" y="17413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8448480" y="17413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484840" y="17413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521560" y="17413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558280" y="17413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8594640" y="17413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8631360" y="17413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8667720" y="17413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667720" y="17413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8704440" y="17413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8740800" y="17413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8375400" y="1777680"/>
                <a:ext cx="401760" cy="36000"/>
                <a:chOff x="8375400" y="1777680"/>
                <a:chExt cx="401760" cy="3600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8375400" y="177768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411760" y="177768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448480" y="177768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484840" y="177768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8521560" y="177768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558280" y="177768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594640" y="177768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8631360" y="177768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667720" y="177768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667720" y="177768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8704440" y="177768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740800" y="177768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375400" y="1814040"/>
                <a:ext cx="401760" cy="36360"/>
                <a:chOff x="8375400" y="1814040"/>
                <a:chExt cx="401760" cy="363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8375400" y="18140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411760" y="18140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8448480" y="18140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8484840" y="18140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8521560" y="18140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8558280" y="18140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8594640" y="18140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631360" y="18140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8667720" y="18140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8667720" y="18140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704440" y="18140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740800" y="18140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8375400" y="1850400"/>
                <a:ext cx="401760" cy="36360"/>
                <a:chOff x="8375400" y="1850400"/>
                <a:chExt cx="401760" cy="363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8375400" y="18504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8411760" y="18504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8448480" y="18504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8484840" y="18504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8521560" y="18504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8558280" y="18504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594640" y="18504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8631360" y="18504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8667720" y="18504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667720" y="18504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8704440" y="18504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8740800" y="18504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8375400" y="1887120"/>
                <a:ext cx="401760" cy="36000"/>
                <a:chOff x="8375400" y="1887120"/>
                <a:chExt cx="401760" cy="3600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8375400" y="188712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8411760" y="188712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448480" y="188712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8484840" y="188712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8521560" y="188712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8558280" y="188712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594640" y="188712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631360" y="188712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667720" y="188712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8667720" y="188712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8704440" y="188712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40800" y="188712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8375400" y="1923120"/>
                <a:ext cx="401760" cy="36360"/>
                <a:chOff x="8375400" y="1923120"/>
                <a:chExt cx="401760" cy="363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8375400" y="19231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8411760" y="19231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8448480" y="19231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484840" y="19231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521560" y="19231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8558280" y="19231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8594640" y="19231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8631360" y="19231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8667720" y="19231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8667720" y="19231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8704440" y="19231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8740800" y="19231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8375400" y="1959840"/>
                <a:ext cx="401760" cy="36360"/>
                <a:chOff x="8375400" y="1959840"/>
                <a:chExt cx="401760" cy="3636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8375400" y="19598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8411760" y="19598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8448480" y="19598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484840" y="19598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8521560" y="19598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8558280" y="19598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8594640" y="19598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8631360" y="19598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8667720" y="19598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8667720" y="19598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8704440" y="19598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8740800" y="19598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8375400" y="1996200"/>
                <a:ext cx="401760" cy="36000"/>
                <a:chOff x="8375400" y="1996200"/>
                <a:chExt cx="401760" cy="3600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8375400" y="199620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8411760" y="199620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8448480" y="199620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8484840" y="199620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8521560" y="199620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8558280" y="199620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8594640" y="199620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8631360" y="199620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667720" y="199620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8667720" y="199620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8704440" y="199620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8740800" y="199620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8375400" y="2032560"/>
                <a:ext cx="401760" cy="36360"/>
                <a:chOff x="8375400" y="2032560"/>
                <a:chExt cx="401760" cy="363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8375400" y="203256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8411760" y="203256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8448480" y="203256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8484840" y="203256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8521560" y="203256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8558280" y="203256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8594640" y="203256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8631360" y="203256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8667720" y="203256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8667720" y="203256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8704440" y="203256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8740800" y="203256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8375400" y="2069280"/>
                <a:ext cx="401760" cy="36360"/>
                <a:chOff x="8375400" y="2069280"/>
                <a:chExt cx="401760" cy="3636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8375400" y="206928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8411760" y="206928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8448480" y="206928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8484840" y="206928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8521560" y="206928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8558280" y="206928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8594640" y="206928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631360" y="206928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8667720" y="206928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8667720" y="206928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8704440" y="206928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8740800" y="206928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8375400" y="2105640"/>
                <a:ext cx="401760" cy="36000"/>
                <a:chOff x="8375400" y="2105640"/>
                <a:chExt cx="401760" cy="3600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8375400" y="210564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8411760" y="210564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8448480" y="210564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8484840" y="210564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8521560" y="210564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558280" y="210564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8594640" y="210564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631360" y="210564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667720" y="210564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8667720" y="210564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8704440" y="210564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740800" y="210564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8375400" y="2142000"/>
                <a:ext cx="401760" cy="36360"/>
                <a:chOff x="8375400" y="2142000"/>
                <a:chExt cx="401760" cy="363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8375400" y="21420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411760" y="21420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8448480" y="21420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8484840" y="21420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8521560" y="21420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8558280" y="21420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594640" y="21420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8631360" y="21420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8667720" y="21420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8667720" y="21420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04440" y="21420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8740800" y="21420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8375400" y="2178360"/>
                <a:ext cx="401760" cy="36360"/>
                <a:chOff x="8375400" y="2178360"/>
                <a:chExt cx="401760" cy="3636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8375400" y="217836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8411760" y="217836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8448480" y="217836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8484840" y="217836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8521560" y="217836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8558280" y="217836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8594640" y="217836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8631360" y="217836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8667720" y="217836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8667720" y="217836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8704440" y="217836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8740800" y="217836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8375400" y="2215080"/>
                <a:ext cx="401760" cy="36000"/>
                <a:chOff x="8375400" y="2215080"/>
                <a:chExt cx="401760" cy="3600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8375400" y="221508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8411760" y="221508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8448480" y="221508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8484840" y="221508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521560" y="221508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558280" y="221508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594640" y="221508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8631360" y="221508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8667720" y="221508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8667720" y="221508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8704440" y="221508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8740800" y="221508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8375400" y="2251440"/>
                <a:ext cx="401760" cy="36360"/>
                <a:chOff x="8375400" y="2251440"/>
                <a:chExt cx="401760" cy="3636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8375400" y="22514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8411760" y="22514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8448480" y="22514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8484840" y="22514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8521560" y="22514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8558280" y="22514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8594640" y="22514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8631360" y="22514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8667720" y="22514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8667720" y="22514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8704440" y="22514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8740800" y="22514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8375400" y="2287800"/>
                <a:ext cx="401760" cy="36360"/>
                <a:chOff x="8375400" y="2287800"/>
                <a:chExt cx="401760" cy="3636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8375400" y="22878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8411760" y="22878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8448480" y="22878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8484840" y="22878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8521560" y="22878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8558280" y="22878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8594640" y="22878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8631360" y="22878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8667720" y="22878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8667720" y="22878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8704440" y="22878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8740800" y="228780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8375400" y="2324160"/>
                <a:ext cx="401760" cy="36000"/>
                <a:chOff x="8375400" y="2324160"/>
                <a:chExt cx="401760" cy="360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8375400" y="232416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8411760" y="232416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8448480" y="232416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8484840" y="232416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8521560" y="232416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8558280" y="232416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8594640" y="232416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8631360" y="232416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8667720" y="232416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8667720" y="232416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8704440" y="232416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8740800" y="2324160"/>
                  <a:ext cx="3636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8375400" y="2360520"/>
                <a:ext cx="401760" cy="36360"/>
                <a:chOff x="8375400" y="2360520"/>
                <a:chExt cx="401760" cy="3636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8375400" y="23605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8411760" y="23605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8448480" y="23605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8484840" y="23605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8521560" y="23605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8558280" y="23605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8594640" y="23605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8631360" y="23605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8667720" y="23605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8667720" y="23605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8704440" y="23605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8740800" y="236052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8375400" y="2397240"/>
                <a:ext cx="401760" cy="36360"/>
                <a:chOff x="8375400" y="2397240"/>
                <a:chExt cx="401760" cy="363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8375400" y="23972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8411760" y="23972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8448480" y="23972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8484840" y="23972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8521560" y="23972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8558280" y="23972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8594640" y="23972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8631360" y="23972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8667720" y="23972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8667720" y="23972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8704440" y="23972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8740800" y="23972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8375400" y="2397240"/>
                <a:ext cx="401760" cy="36360"/>
                <a:chOff x="8375400" y="2397240"/>
                <a:chExt cx="401760" cy="3636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8375400" y="23972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8411760" y="23972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8448480" y="23972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8484840" y="23972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8521560" y="23972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8558280" y="23972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8594640" y="23972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8631360" y="23972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8667720" y="23972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8667720" y="23972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8704440" y="23972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8740800" y="2397240"/>
                  <a:ext cx="36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9" name=""/>
            <p:cNvSpPr/>
            <p:nvPr/>
          </p:nvSpPr>
          <p:spPr>
            <a:xfrm>
              <a:off x="8375400" y="2433600"/>
              <a:ext cx="402120" cy="1090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 rot="16200000">
            <a:off x="7010280" y="2454120"/>
            <a:ext cx="876240" cy="266760"/>
          </a:xfrm>
          <a:custGeom>
            <a:avLst/>
            <a:gdLst>
              <a:gd name="textAreaLeft" fmla="*/ 192600 w 876240"/>
              <a:gd name="textAreaRight" fmla="*/ 683640 w 876240"/>
              <a:gd name="textAreaTop" fmla="*/ 58680 h 266760"/>
              <a:gd name="textAreaBottom" fmla="*/ 208080 h 26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0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 rot="5400000">
            <a:off x="7739640" y="2447640"/>
            <a:ext cx="914400" cy="266760"/>
          </a:xfrm>
          <a:custGeom>
            <a:avLst/>
            <a:gdLst>
              <a:gd name="textAreaLeft" fmla="*/ 200880 w 914400"/>
              <a:gd name="textAreaRight" fmla="*/ 713520 w 914400"/>
              <a:gd name="textAreaTop" fmla="*/ 58680 h 266760"/>
              <a:gd name="textAreaBottom" fmla="*/ 208080 h 26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0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7588080" y="2530440"/>
            <a:ext cx="470160" cy="76320"/>
            <a:chOff x="7588080" y="2530440"/>
            <a:chExt cx="470160" cy="76320"/>
          </a:xfrm>
        </p:grpSpPr>
        <p:sp>
          <p:nvSpPr>
            <p:cNvPr id="753" name=""/>
            <p:cNvSpPr/>
            <p:nvPr/>
          </p:nvSpPr>
          <p:spPr>
            <a:xfrm>
              <a:off x="7588080" y="2530440"/>
              <a:ext cx="47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588080" y="2606760"/>
              <a:ext cx="47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7398720" y="3139920"/>
            <a:ext cx="140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ltra Long-ha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W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7442280" y="1019160"/>
            <a:ext cx="344520" cy="609480"/>
            <a:chOff x="7442280" y="1019160"/>
            <a:chExt cx="344520" cy="609480"/>
          </a:xfrm>
        </p:grpSpPr>
        <p:sp>
          <p:nvSpPr>
            <p:cNvPr id="757" name=""/>
            <p:cNvSpPr/>
            <p:nvPr/>
          </p:nvSpPr>
          <p:spPr>
            <a:xfrm>
              <a:off x="7442280" y="1019160"/>
              <a:ext cx="344520" cy="60948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7468560" y="1045440"/>
              <a:ext cx="291240" cy="503280"/>
              <a:chOff x="7468560" y="1045440"/>
              <a:chExt cx="291240" cy="503280"/>
            </a:xfrm>
          </p:grpSpPr>
          <p:grpSp>
            <p:nvGrpSpPr>
              <p:cNvPr id="759" name=""/>
              <p:cNvGrpSpPr/>
              <p:nvPr/>
            </p:nvGrpSpPr>
            <p:grpSpPr>
              <a:xfrm>
                <a:off x="7468560" y="1045440"/>
                <a:ext cx="291240" cy="26280"/>
                <a:chOff x="7468560" y="1045440"/>
                <a:chExt cx="291240" cy="2628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7468560" y="1045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7494840" y="1045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521480" y="1045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7548120" y="1045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7574400" y="1045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7601040" y="1045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7627680" y="1045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7653960" y="1045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7680600" y="1045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7680600" y="1045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7707240" y="1045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7733520" y="1045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68560" y="1071720"/>
                <a:ext cx="291240" cy="26280"/>
                <a:chOff x="7468560" y="1071720"/>
                <a:chExt cx="291240" cy="2628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68560" y="10717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94840" y="10717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7521480" y="10717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7548120" y="10717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7574400" y="10717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7601040" y="10717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7627680" y="10717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653960" y="10717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7680600" y="10717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7680600" y="10717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7707240" y="10717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7733520" y="10717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5" name=""/>
              <p:cNvGrpSpPr/>
              <p:nvPr/>
            </p:nvGrpSpPr>
            <p:grpSpPr>
              <a:xfrm>
                <a:off x="7468560" y="1098360"/>
                <a:ext cx="291240" cy="26280"/>
                <a:chOff x="7468560" y="1098360"/>
                <a:chExt cx="291240" cy="2628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7468560" y="10983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7494840" y="10983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7521480" y="10983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7548120" y="10983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7574400" y="10983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7601040" y="10983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627680" y="10983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7653960" y="10983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7680600" y="10983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7680600" y="10983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7707240" y="10983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7733520" y="10983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7468560" y="1124640"/>
                <a:ext cx="291240" cy="26280"/>
                <a:chOff x="7468560" y="1124640"/>
                <a:chExt cx="291240" cy="2628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7468560" y="11246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7494840" y="11246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7521480" y="11246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7548120" y="11246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7574400" y="11246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7601040" y="11246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7627680" y="11246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7653960" y="11246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7680600" y="11246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7680600" y="11246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7707240" y="11246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733520" y="11246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7468560" y="1151280"/>
                <a:ext cx="291240" cy="26280"/>
                <a:chOff x="7468560" y="1151280"/>
                <a:chExt cx="291240" cy="2628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7468560" y="11512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7494840" y="11512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7521480" y="11512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7548120" y="11512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574400" y="11512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7601040" y="11512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7627680" y="11512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7653960" y="11512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7680600" y="11512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7680600" y="11512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7707240" y="11512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7733520" y="11512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7468560" y="1177920"/>
                <a:ext cx="291240" cy="26280"/>
                <a:chOff x="7468560" y="1177920"/>
                <a:chExt cx="291240" cy="2628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7468560" y="11779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7494840" y="11779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7521480" y="11779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548120" y="11779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7574400" y="11779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7601040" y="11779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7627680" y="11779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7653960" y="11779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7680600" y="11779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680600" y="11779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707240" y="11779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733520" y="11779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7" name=""/>
              <p:cNvGrpSpPr/>
              <p:nvPr/>
            </p:nvGrpSpPr>
            <p:grpSpPr>
              <a:xfrm>
                <a:off x="7468560" y="1204200"/>
                <a:ext cx="291240" cy="26280"/>
                <a:chOff x="7468560" y="1204200"/>
                <a:chExt cx="291240" cy="2628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7468560" y="12042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494840" y="12042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521480" y="12042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548120" y="12042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574400" y="12042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601040" y="12042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627680" y="12042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7653960" y="12042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680600" y="12042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7680600" y="12042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7707240" y="12042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7733520" y="12042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468560" y="1230840"/>
                <a:ext cx="291240" cy="26280"/>
                <a:chOff x="7468560" y="1230840"/>
                <a:chExt cx="291240" cy="2628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7468560" y="12308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494840" y="12308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7521480" y="12308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7548120" y="12308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7574400" y="12308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7601040" y="12308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7627680" y="12308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7653960" y="12308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7680600" y="12308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7680600" y="12308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7707240" y="12308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7733520" y="12308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3" name=""/>
              <p:cNvGrpSpPr/>
              <p:nvPr/>
            </p:nvGrpSpPr>
            <p:grpSpPr>
              <a:xfrm>
                <a:off x="7468560" y="1257480"/>
                <a:ext cx="291240" cy="26280"/>
                <a:chOff x="7468560" y="1257480"/>
                <a:chExt cx="291240" cy="26280"/>
              </a:xfrm>
            </p:grpSpPr>
            <p:sp>
              <p:nvSpPr>
                <p:cNvPr id="864" name=""/>
                <p:cNvSpPr/>
                <p:nvPr/>
              </p:nvSpPr>
              <p:spPr>
                <a:xfrm>
                  <a:off x="7468560" y="12574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7494840" y="12574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7521480" y="12574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7548120" y="12574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7574400" y="12574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7601040" y="12574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627680" y="12574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7653960" y="12574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7680600" y="12574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7680600" y="12574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7707240" y="12574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7733520" y="12574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6" name=""/>
              <p:cNvGrpSpPr/>
              <p:nvPr/>
            </p:nvGrpSpPr>
            <p:grpSpPr>
              <a:xfrm>
                <a:off x="7468560" y="1283760"/>
                <a:ext cx="291240" cy="26280"/>
                <a:chOff x="7468560" y="1283760"/>
                <a:chExt cx="291240" cy="2628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7468560" y="12837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7494840" y="12837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7521480" y="12837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7548120" y="12837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7574400" y="12837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601040" y="12837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7627680" y="12837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7653960" y="12837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7680600" y="12837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7680600" y="12837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7707240" y="12837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733520" y="12837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7468560" y="1310400"/>
                <a:ext cx="291240" cy="26280"/>
                <a:chOff x="7468560" y="1310400"/>
                <a:chExt cx="291240" cy="2628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7468560" y="13104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7494840" y="13104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7521480" y="13104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7548120" y="13104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7574400" y="13104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7601040" y="13104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7627680" y="13104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7653960" y="13104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7680600" y="13104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7680600" y="13104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707240" y="13104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7733520" y="13104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2" name=""/>
              <p:cNvGrpSpPr/>
              <p:nvPr/>
            </p:nvGrpSpPr>
            <p:grpSpPr>
              <a:xfrm>
                <a:off x="7468560" y="1337040"/>
                <a:ext cx="291240" cy="26280"/>
                <a:chOff x="7468560" y="1337040"/>
                <a:chExt cx="291240" cy="2628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7468560" y="13370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7494840" y="13370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7521480" y="13370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548120" y="13370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7574400" y="13370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7601040" y="13370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7627680" y="13370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7653960" y="13370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7680600" y="13370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7680600" y="13370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7707240" y="13370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7733520" y="13370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7468560" y="1363320"/>
                <a:ext cx="291240" cy="26280"/>
                <a:chOff x="7468560" y="1363320"/>
                <a:chExt cx="291240" cy="2628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7468560" y="13633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7494840" y="13633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521480" y="13633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7548120" y="13633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574400" y="13633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601040" y="13633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627680" y="13633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7653960" y="13633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680600" y="13633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680600" y="13633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707240" y="13633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733520" y="13633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7468560" y="1389960"/>
                <a:ext cx="291240" cy="26280"/>
                <a:chOff x="7468560" y="1389960"/>
                <a:chExt cx="291240" cy="2628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7468560" y="13899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494840" y="13899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521480" y="13899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548120" y="13899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7574400" y="13899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7601040" y="13899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627680" y="13899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653960" y="13899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7680600" y="13899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680600" y="13899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7707240" y="13899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7733520" y="13899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1" name=""/>
              <p:cNvGrpSpPr/>
              <p:nvPr/>
            </p:nvGrpSpPr>
            <p:grpSpPr>
              <a:xfrm>
                <a:off x="7468560" y="1416600"/>
                <a:ext cx="291240" cy="26280"/>
                <a:chOff x="7468560" y="1416600"/>
                <a:chExt cx="291240" cy="2628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7468560" y="14166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7494840" y="14166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521480" y="14166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7548120" y="14166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7574400" y="14166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7601040" y="14166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7627680" y="14166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653960" y="14166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7680600" y="14166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7680600" y="14166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7707240" y="14166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7733520" y="141660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468560" y="1442880"/>
                <a:ext cx="291240" cy="26280"/>
                <a:chOff x="7468560" y="1442880"/>
                <a:chExt cx="291240" cy="2628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68560" y="14428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494840" y="14428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7521480" y="14428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7548120" y="14428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7574400" y="14428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7601040" y="14428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627680" y="14428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7653960" y="14428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680600" y="14428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7680600" y="14428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7707240" y="14428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7733520" y="144288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7" name=""/>
              <p:cNvGrpSpPr/>
              <p:nvPr/>
            </p:nvGrpSpPr>
            <p:grpSpPr>
              <a:xfrm>
                <a:off x="7468560" y="1469520"/>
                <a:ext cx="291240" cy="26280"/>
                <a:chOff x="7468560" y="1469520"/>
                <a:chExt cx="291240" cy="26280"/>
              </a:xfrm>
            </p:grpSpPr>
            <p:sp>
              <p:nvSpPr>
                <p:cNvPr id="968" name=""/>
                <p:cNvSpPr/>
                <p:nvPr/>
              </p:nvSpPr>
              <p:spPr>
                <a:xfrm>
                  <a:off x="7468560" y="14695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7494840" y="14695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7521480" y="14695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7548120" y="14695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7574400" y="14695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7601040" y="14695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7627680" y="14695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7653960" y="14695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7680600" y="14695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7680600" y="14695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707240" y="14695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7733520" y="146952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7468560" y="1496160"/>
                <a:ext cx="291240" cy="26280"/>
                <a:chOff x="7468560" y="1496160"/>
                <a:chExt cx="291240" cy="2628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7468560" y="14961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7494840" y="14961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521480" y="14961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7548120" y="14961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7574400" y="14961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7601040" y="14961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7627680" y="14961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7653960" y="14961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680600" y="14961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7680600" y="14961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707240" y="14961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7733520" y="149616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7468560" y="1522440"/>
                <a:ext cx="291240" cy="26280"/>
                <a:chOff x="7468560" y="1522440"/>
                <a:chExt cx="291240" cy="2628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7468560" y="1522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494840" y="1522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521480" y="1522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548120" y="1522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7574400" y="1522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7601040" y="1522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627680" y="1522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653960" y="1522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680600" y="1522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7680600" y="1522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707240" y="1522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733520" y="1522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6" name=""/>
              <p:cNvGrpSpPr/>
              <p:nvPr/>
            </p:nvGrpSpPr>
            <p:grpSpPr>
              <a:xfrm>
                <a:off x="7468560" y="1522440"/>
                <a:ext cx="291240" cy="26280"/>
                <a:chOff x="7468560" y="1522440"/>
                <a:chExt cx="291240" cy="2628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7468560" y="1522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494840" y="1522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521480" y="1522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7548120" y="1522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7574400" y="1522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7601040" y="1522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627680" y="1522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653960" y="1522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680600" y="1522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680600" y="1522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707240" y="1522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7733520" y="1522440"/>
                  <a:ext cx="26280" cy="2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9" name=""/>
            <p:cNvSpPr/>
            <p:nvPr/>
          </p:nvSpPr>
          <p:spPr>
            <a:xfrm>
              <a:off x="7468560" y="1549080"/>
              <a:ext cx="291600" cy="792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 flipV="1">
            <a:off x="7315200" y="161604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709040" y="155268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777960"/>
            <a:ext cx="73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564000" y="115092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ga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136960" y="13986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141"/>
                </a:solidFill>
                <a:latin typeface="Arial"/>
              </a:rPr>
              <a:t>OC-192c</a:t>
            </a:r>
            <a:br>
              <a:rPr sz="1400"/>
            </a:br>
            <a:r>
              <a:rPr b="1" lang="en-US" sz="1400" spc="-1" strike="noStrike">
                <a:solidFill>
                  <a:srgbClr val="ff4141"/>
                </a:solidFill>
                <a:latin typeface="Arial"/>
              </a:rPr>
              <a:t>STM-64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80960" y="4664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0960" y="4740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80960" y="481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80960" y="4892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80960" y="4968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76760" y="49528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141"/>
                </a:solidFill>
                <a:latin typeface="Arial"/>
              </a:rPr>
              <a:t>Gi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776960" y="4422600"/>
            <a:ext cx="81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141"/>
                </a:solidFill>
                <a:latin typeface="Arial"/>
              </a:rPr>
              <a:t>OC-48</a:t>
            </a:r>
            <a:br>
              <a:rPr sz="1400"/>
            </a:br>
            <a:r>
              <a:rPr b="1" lang="en-US" sz="1400" spc="-1" strike="noStrike">
                <a:solidFill>
                  <a:srgbClr val="ff4141"/>
                </a:solidFill>
                <a:latin typeface="Arial"/>
              </a:rPr>
              <a:t>STM-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096240" y="609588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ptica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286000" y="609588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ptical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181480" y="58388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020640" y="5686560"/>
            <a:ext cx="2416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333399"/>
                </a:solidFill>
                <a:latin typeface="Arial"/>
              </a:rPr>
              <a:t>Switched optical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600200" y="583884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09680" y="5686560"/>
            <a:ext cx="2393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333399"/>
                </a:solidFill>
                <a:latin typeface="Arial"/>
              </a:rPr>
              <a:t>Regional optical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438280" y="52452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973600" y="5092560"/>
            <a:ext cx="2899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Linear DWDM Backbone Sp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676440" y="3429000"/>
            <a:ext cx="939600" cy="152280"/>
            <a:chOff x="676440" y="3429000"/>
            <a:chExt cx="939600" cy="152280"/>
          </a:xfrm>
        </p:grpSpPr>
        <p:sp>
          <p:nvSpPr>
            <p:cNvPr id="1041" name=""/>
            <p:cNvSpPr/>
            <p:nvPr/>
          </p:nvSpPr>
          <p:spPr>
            <a:xfrm flipH="1">
              <a:off x="676440" y="342900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676440" y="350532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676440" y="358128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1603440" y="2987640"/>
            <a:ext cx="685800" cy="609480"/>
            <a:chOff x="1603440" y="2987640"/>
            <a:chExt cx="685800" cy="609480"/>
          </a:xfrm>
        </p:grpSpPr>
        <p:sp>
          <p:nvSpPr>
            <p:cNvPr id="1045" name=""/>
            <p:cNvSpPr/>
            <p:nvPr/>
          </p:nvSpPr>
          <p:spPr>
            <a:xfrm>
              <a:off x="1603440" y="2987640"/>
              <a:ext cx="685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603440" y="2987640"/>
              <a:ext cx="685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603440" y="2987640"/>
              <a:ext cx="685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603440" y="2987640"/>
              <a:ext cx="685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603440" y="2987640"/>
              <a:ext cx="685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603440" y="2987640"/>
              <a:ext cx="7632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679760" y="2987640"/>
              <a:ext cx="7596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755720" y="2987640"/>
              <a:ext cx="7632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832040" y="2987640"/>
              <a:ext cx="7632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908360" y="2987640"/>
              <a:ext cx="7596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984320" y="2987640"/>
              <a:ext cx="7632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060640" y="2987640"/>
              <a:ext cx="7632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36960" y="2987640"/>
              <a:ext cx="7596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212920" y="2987640"/>
              <a:ext cx="7632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488520" y="3556080"/>
            <a:ext cx="96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141"/>
                </a:solidFill>
                <a:latin typeface="Arial"/>
              </a:rPr>
              <a:t>OC-48/12</a:t>
            </a:r>
            <a:br>
              <a:rPr sz="1400"/>
            </a:br>
            <a:r>
              <a:rPr b="1" lang="en-US" sz="1400" spc="-1" strike="noStrike">
                <a:solidFill>
                  <a:srgbClr val="ff4141"/>
                </a:solidFill>
                <a:latin typeface="Arial"/>
              </a:rPr>
              <a:t>STM-16/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3211560" y="2615760"/>
            <a:ext cx="337320" cy="1973160"/>
            <a:chOff x="3211560" y="2615760"/>
            <a:chExt cx="337320" cy="1973160"/>
          </a:xfrm>
        </p:grpSpPr>
        <p:sp>
          <p:nvSpPr>
            <p:cNvPr id="1061" name=""/>
            <p:cNvSpPr/>
            <p:nvPr/>
          </p:nvSpPr>
          <p:spPr>
            <a:xfrm rot="16200000">
              <a:off x="2400840" y="3449880"/>
              <a:ext cx="1973160" cy="304560"/>
            </a:xfrm>
            <a:custGeom>
              <a:avLst/>
              <a:gdLst>
                <a:gd name="textAreaLeft" fmla="*/ 253440 w 1973160"/>
                <a:gd name="textAreaRight" fmla="*/ 1719720 w 1973160"/>
                <a:gd name="textAreaTop" fmla="*/ 38880 h 304560"/>
                <a:gd name="textAreaBottom" fmla="*/ 2656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752" y="21600"/>
                  </a:lnTo>
                  <a:lnTo>
                    <a:pt x="1848" y="21600"/>
                  </a:lnTo>
                  <a:close/>
                </a:path>
              </a:pathLst>
            </a:custGeom>
            <a:solidFill>
              <a:srgbClr val="75dd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rot="16200000">
              <a:off x="2742480" y="3373920"/>
              <a:ext cx="127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WDM 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5446800" y="2576520"/>
            <a:ext cx="337320" cy="1982880"/>
            <a:chOff x="5446800" y="2576520"/>
            <a:chExt cx="337320" cy="1982880"/>
          </a:xfrm>
        </p:grpSpPr>
        <p:sp>
          <p:nvSpPr>
            <p:cNvPr id="1064" name=""/>
            <p:cNvSpPr/>
            <p:nvPr/>
          </p:nvSpPr>
          <p:spPr>
            <a:xfrm flipH="1" rot="5400000">
              <a:off x="4624200" y="3415320"/>
              <a:ext cx="1982880" cy="304920"/>
            </a:xfrm>
            <a:custGeom>
              <a:avLst/>
              <a:gdLst>
                <a:gd name="textAreaLeft" fmla="*/ 254880 w 1982880"/>
                <a:gd name="textAreaRight" fmla="*/ 1728000 w 1982880"/>
                <a:gd name="textAreaTop" fmla="*/ 39240 h 304920"/>
                <a:gd name="textAreaBottom" fmla="*/ 2656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752" y="21600"/>
                  </a:lnTo>
                  <a:lnTo>
                    <a:pt x="1848" y="21600"/>
                  </a:lnTo>
                  <a:close/>
                </a:path>
              </a:pathLst>
            </a:custGeom>
            <a:solidFill>
              <a:srgbClr val="75dd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rot="16200000">
              <a:off x="4977720" y="3318120"/>
              <a:ext cx="127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WDM 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4572360" y="1990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141"/>
                </a:solidFill>
                <a:latin typeface="Arial"/>
              </a:rPr>
              <a:t>OC-192c</a:t>
            </a:r>
            <a:br>
              <a:rPr sz="1400"/>
            </a:br>
            <a:r>
              <a:rPr b="1" lang="en-US" sz="1400" spc="-1" strike="noStrike">
                <a:solidFill>
                  <a:srgbClr val="ff4141"/>
                </a:solidFill>
                <a:latin typeface="Arial"/>
              </a:rPr>
              <a:t>STM-64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852640" y="2695680"/>
            <a:ext cx="381240" cy="237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843280" y="3257640"/>
            <a:ext cx="380880" cy="237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843280" y="3724200"/>
            <a:ext cx="380880" cy="23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843280" y="4324320"/>
            <a:ext cx="380880" cy="23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854680" y="40892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854680" y="416412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854680" y="423540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772240" y="3814920"/>
            <a:ext cx="380880" cy="237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772240" y="4305240"/>
            <a:ext cx="380880" cy="23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410960" y="1781280"/>
            <a:ext cx="81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141"/>
                </a:solidFill>
                <a:latin typeface="Arial"/>
              </a:rPr>
              <a:t>OC-192</a:t>
            </a:r>
            <a:br>
              <a:rPr sz="1400"/>
            </a:br>
            <a:r>
              <a:rPr b="1" lang="en-US" sz="1400" spc="-1" strike="noStrike">
                <a:solidFill>
                  <a:srgbClr val="ff4141"/>
                </a:solidFill>
                <a:latin typeface="Arial"/>
              </a:rPr>
              <a:t>STM-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/>
          </p:nvPr>
        </p:nvSpPr>
        <p:spPr>
          <a:xfrm>
            <a:off x="1945800" y="974880"/>
            <a:ext cx="6715080" cy="58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9320" indent="-22932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twork QoS (bearer Network Performance) must support a range of application 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int-to-point telephon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ltimedia conferenc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active data transf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aming vide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lk data transf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twork QoS equals service QoS for pure 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port capacity and traffic statistics are fundamental to Q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fined in traffic contr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gnalled or agreed between user and/or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twork QoS &amp; Application Q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ole of M.2301 vs Y.154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1726920" y="1195560"/>
            <a:ext cx="715644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9320" indent="-22932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.2301 specifies practical operational performance values for IP Operator Domains (IPODs), based on Y.1540 metr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.2301 takes end-to-end performance of Y.1541 and allocates it between IP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.2301 also define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perational procedur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or provisioning and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rusive tests using test pack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n-intrusive performance monitoring using MIB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mmends which method to use wh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ke Y.1541, MPLS performance is FF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ole of M.24otn vs G.optper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1709640" y="1014480"/>
            <a:ext cx="7182000" cy="53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9320" indent="-22932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.24otn specifies practical operational performance values for optical paths, links and systems based on G.optperf metr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.24otn takes end-to-end performance of G.optperf and allocates it between doma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.24otn also defines operational procedures for provisioning and maintenanc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lti-operator international ODUk and OTU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n-intrusive performance monito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nidirectional vs bidirectional avail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l introduction to maintenance of the OT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 of the OTN for analog clients is outside the sco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ole of O.qfm vs G.optm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1807920" y="1339560"/>
            <a:ext cx="6994440" cy="42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9320" indent="-22932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.qfm specifies Q-factor measur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imates BER of digital cli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-factor measurement includes dispersion and non-linear eff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ports need for optical monito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uld be applied at key monitoring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ture inclusion in NEs 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chnically possible, but 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t intended at pres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9" name="kugel" descr=""/>
          <p:cNvPicPr/>
          <p:nvPr/>
        </p:nvPicPr>
        <p:blipFill>
          <a:blip r:embed="rId1"/>
          <a:stretch/>
        </p:blipFill>
        <p:spPr>
          <a:xfrm>
            <a:off x="6091200" y="4529160"/>
            <a:ext cx="2139840" cy="1606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/>
          </p:nvPr>
        </p:nvSpPr>
        <p:spPr>
          <a:xfrm>
            <a:off x="1846080" y="1959120"/>
            <a:ext cx="6918120" cy="343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formance model for ASON/IP client intera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faces, reference events, functions, parame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e classes, Service Level Agreements (SLA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the performance needs of IP and Ethernet differen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location of performance limits among Provid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formance monitoring (in- and out-of-servic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chanisms for providing assured-quality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calization of optical network fail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ssible 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2" name="wave" descr=""/>
          <p:cNvPicPr/>
          <p:nvPr/>
        </p:nvPicPr>
        <p:blipFill>
          <a:blip r:embed="rId1"/>
          <a:stretch/>
        </p:blipFill>
        <p:spPr>
          <a:xfrm>
            <a:off x="2052720" y="1217520"/>
            <a:ext cx="6503760" cy="4880160"/>
          </a:xfrm>
          <a:prstGeom prst="rect">
            <a:avLst/>
          </a:prstGeom>
          <a:ln w="0">
            <a:noFill/>
          </a:ln>
        </p:spPr>
      </p:pic>
      <p:sp>
        <p:nvSpPr>
          <p:cNvPr id="2083" name=""/>
          <p:cNvSpPr/>
          <p:nvPr/>
        </p:nvSpPr>
        <p:spPr>
          <a:xfrm>
            <a:off x="2085840" y="4876920"/>
            <a:ext cx="64706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Thank you.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Come surf the optical wave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1762200" y="3808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TN Standards in ITU-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3570120" y="4041720"/>
            <a:ext cx="3459240" cy="2438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8" name="" descr=""/>
          <p:cNvPicPr/>
          <p:nvPr/>
        </p:nvPicPr>
        <p:blipFill>
          <a:blip r:embed="rId2"/>
          <a:stretch/>
        </p:blipFill>
        <p:spPr>
          <a:xfrm>
            <a:off x="1871640" y="1081080"/>
            <a:ext cx="6867720" cy="5153040"/>
          </a:xfrm>
          <a:prstGeom prst="rect">
            <a:avLst/>
          </a:prstGeom>
          <a:ln w="0">
            <a:noFill/>
          </a:ln>
        </p:spPr>
      </p:pic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ation Foc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 rot="5400000">
            <a:off x="1319040" y="2035080"/>
            <a:ext cx="3616200" cy="3139920"/>
          </a:xfrm>
          <a:prstGeom prst="rect">
            <a:avLst/>
          </a:prstGeom>
          <a:solidFill>
            <a:srgbClr val="33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3164040" y="1866960"/>
            <a:ext cx="1015920" cy="330480"/>
            <a:chOff x="3164040" y="1866960"/>
            <a:chExt cx="1015920" cy="330480"/>
          </a:xfrm>
        </p:grpSpPr>
        <p:sp>
          <p:nvSpPr>
            <p:cNvPr id="1082" name=""/>
            <p:cNvSpPr/>
            <p:nvPr/>
          </p:nvSpPr>
          <p:spPr>
            <a:xfrm>
              <a:off x="3164040" y="1866960"/>
              <a:ext cx="1015920" cy="282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455280" y="1951200"/>
              <a:ext cx="51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2840040" y="2330280"/>
            <a:ext cx="383400" cy="321120"/>
            <a:chOff x="2840040" y="2330280"/>
            <a:chExt cx="383400" cy="321120"/>
          </a:xfrm>
        </p:grpSpPr>
        <p:sp>
          <p:nvSpPr>
            <p:cNvPr id="1085" name=""/>
            <p:cNvSpPr/>
            <p:nvPr/>
          </p:nvSpPr>
          <p:spPr>
            <a:xfrm>
              <a:off x="2840040" y="2330280"/>
              <a:ext cx="328320" cy="2829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852280" y="240516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2513160" y="2784600"/>
            <a:ext cx="373680" cy="320040"/>
            <a:chOff x="2513160" y="2784600"/>
            <a:chExt cx="373680" cy="320040"/>
          </a:xfrm>
        </p:grpSpPr>
        <p:sp>
          <p:nvSpPr>
            <p:cNvPr id="1088" name=""/>
            <p:cNvSpPr/>
            <p:nvPr/>
          </p:nvSpPr>
          <p:spPr>
            <a:xfrm>
              <a:off x="2513160" y="2784600"/>
              <a:ext cx="327960" cy="283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515680" y="285840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2173320" y="3249720"/>
            <a:ext cx="381960" cy="338400"/>
            <a:chOff x="2173320" y="3249720"/>
            <a:chExt cx="381960" cy="338400"/>
          </a:xfrm>
        </p:grpSpPr>
        <p:sp>
          <p:nvSpPr>
            <p:cNvPr id="1091" name=""/>
            <p:cNvSpPr/>
            <p:nvPr/>
          </p:nvSpPr>
          <p:spPr>
            <a:xfrm>
              <a:off x="2173320" y="3249720"/>
              <a:ext cx="327600" cy="2829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184120" y="334188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4179960" y="3249720"/>
            <a:ext cx="472320" cy="330480"/>
            <a:chOff x="4179960" y="3249720"/>
            <a:chExt cx="472320" cy="330480"/>
          </a:xfrm>
        </p:grpSpPr>
        <p:sp>
          <p:nvSpPr>
            <p:cNvPr id="1094" name=""/>
            <p:cNvSpPr/>
            <p:nvPr/>
          </p:nvSpPr>
          <p:spPr>
            <a:xfrm>
              <a:off x="4179960" y="3249720"/>
              <a:ext cx="458280" cy="282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18480" y="333396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E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3164040" y="2330280"/>
            <a:ext cx="1015920" cy="328680"/>
            <a:chOff x="3164040" y="2330280"/>
            <a:chExt cx="1015920" cy="328680"/>
          </a:xfrm>
        </p:grpSpPr>
        <p:sp>
          <p:nvSpPr>
            <p:cNvPr id="1097" name=""/>
            <p:cNvSpPr/>
            <p:nvPr/>
          </p:nvSpPr>
          <p:spPr>
            <a:xfrm>
              <a:off x="3164040" y="2330280"/>
              <a:ext cx="1015920" cy="282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455280" y="2412720"/>
              <a:ext cx="51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2840040" y="2784600"/>
            <a:ext cx="1339920" cy="320040"/>
            <a:chOff x="2840040" y="2784600"/>
            <a:chExt cx="1339920" cy="320040"/>
          </a:xfrm>
        </p:grpSpPr>
        <p:sp>
          <p:nvSpPr>
            <p:cNvPr id="1100" name=""/>
            <p:cNvSpPr/>
            <p:nvPr/>
          </p:nvSpPr>
          <p:spPr>
            <a:xfrm>
              <a:off x="2840040" y="2784600"/>
              <a:ext cx="1339920" cy="2833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284280" y="285840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2500200" y="3249720"/>
            <a:ext cx="1679760" cy="321120"/>
            <a:chOff x="2500200" y="3249720"/>
            <a:chExt cx="1679760" cy="321120"/>
          </a:xfrm>
        </p:grpSpPr>
        <p:sp>
          <p:nvSpPr>
            <p:cNvPr id="1103" name=""/>
            <p:cNvSpPr/>
            <p:nvPr/>
          </p:nvSpPr>
          <p:spPr>
            <a:xfrm>
              <a:off x="2500200" y="3249720"/>
              <a:ext cx="1679760" cy="282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175200" y="332460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D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2168640" y="3703680"/>
            <a:ext cx="2465280" cy="320040"/>
            <a:chOff x="2168640" y="3703680"/>
            <a:chExt cx="2465280" cy="320040"/>
          </a:xfrm>
        </p:grpSpPr>
        <p:sp>
          <p:nvSpPr>
            <p:cNvPr id="1106" name=""/>
            <p:cNvSpPr/>
            <p:nvPr/>
          </p:nvSpPr>
          <p:spPr>
            <a:xfrm>
              <a:off x="2168640" y="3703680"/>
              <a:ext cx="2465280" cy="2836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932200" y="3777480"/>
              <a:ext cx="1145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tical Chann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8" name=""/>
          <p:cNvSpPr/>
          <p:nvPr/>
        </p:nvSpPr>
        <p:spPr>
          <a:xfrm>
            <a:off x="2386080" y="4167360"/>
            <a:ext cx="93600" cy="384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302000" y="4167360"/>
            <a:ext cx="95400" cy="384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048200" y="4167360"/>
            <a:ext cx="95040" cy="384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803680" y="4167360"/>
            <a:ext cx="93600" cy="384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2165400" y="4726080"/>
            <a:ext cx="2465280" cy="320040"/>
            <a:chOff x="2165400" y="4726080"/>
            <a:chExt cx="2465280" cy="320040"/>
          </a:xfrm>
        </p:grpSpPr>
        <p:sp>
          <p:nvSpPr>
            <p:cNvPr id="1113" name=""/>
            <p:cNvSpPr/>
            <p:nvPr/>
          </p:nvSpPr>
          <p:spPr>
            <a:xfrm>
              <a:off x="2165400" y="4726080"/>
              <a:ext cx="2465280" cy="283680"/>
            </a:xfrm>
            <a:prstGeom prst="rect">
              <a:avLst/>
            </a:prstGeom>
            <a:solidFill>
              <a:srgbClr val="cdcc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644560" y="4799880"/>
              <a:ext cx="1686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tical Multiplex Se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2165400" y="5129280"/>
            <a:ext cx="2465280" cy="320040"/>
            <a:chOff x="2165400" y="5129280"/>
            <a:chExt cx="2465280" cy="320040"/>
          </a:xfrm>
        </p:grpSpPr>
        <p:sp>
          <p:nvSpPr>
            <p:cNvPr id="1116" name=""/>
            <p:cNvSpPr/>
            <p:nvPr/>
          </p:nvSpPr>
          <p:spPr>
            <a:xfrm>
              <a:off x="2165400" y="5129280"/>
              <a:ext cx="2465280" cy="283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443680" y="5203080"/>
              <a:ext cx="196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tical Transmission Se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168640" y="3987720"/>
            <a:ext cx="2461680" cy="563400"/>
            <a:chOff x="2168640" y="3987720"/>
            <a:chExt cx="2461680" cy="563400"/>
          </a:xfrm>
        </p:grpSpPr>
        <p:sp>
          <p:nvSpPr>
            <p:cNvPr id="1119" name=""/>
            <p:cNvSpPr/>
            <p:nvPr/>
          </p:nvSpPr>
          <p:spPr>
            <a:xfrm>
              <a:off x="2172600" y="4167720"/>
              <a:ext cx="93960" cy="3834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2168640" y="3987720"/>
              <a:ext cx="2461680" cy="192600"/>
              <a:chOff x="2168640" y="3987720"/>
              <a:chExt cx="2461680" cy="192600"/>
            </a:xfrm>
          </p:grpSpPr>
          <p:sp>
            <p:nvSpPr>
              <p:cNvPr id="1121" name=""/>
              <p:cNvSpPr/>
              <p:nvPr/>
            </p:nvSpPr>
            <p:spPr>
              <a:xfrm>
                <a:off x="2168640" y="3987720"/>
                <a:ext cx="3960" cy="180000"/>
              </a:xfrm>
              <a:prstGeom prst="line">
                <a:avLst/>
              </a:prstGeom>
              <a:ln w="25560">
                <a:solidFill>
                  <a:srgbClr val="6699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>
                <a:off x="2270880" y="3987720"/>
                <a:ext cx="2359440" cy="192600"/>
              </a:xfrm>
              <a:prstGeom prst="line">
                <a:avLst/>
              </a:prstGeom>
              <a:ln w="25560">
                <a:solidFill>
                  <a:srgbClr val="6699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3" name=""/>
          <p:cNvGrpSpPr/>
          <p:nvPr/>
        </p:nvGrpSpPr>
        <p:grpSpPr>
          <a:xfrm>
            <a:off x="2168640" y="3983040"/>
            <a:ext cx="2461680" cy="568080"/>
            <a:chOff x="2168640" y="3983040"/>
            <a:chExt cx="2461680" cy="568080"/>
          </a:xfrm>
        </p:grpSpPr>
        <p:sp>
          <p:nvSpPr>
            <p:cNvPr id="1124" name=""/>
            <p:cNvSpPr/>
            <p:nvPr/>
          </p:nvSpPr>
          <p:spPr>
            <a:xfrm>
              <a:off x="2590560" y="4167360"/>
              <a:ext cx="93960" cy="383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2168640" y="3983040"/>
              <a:ext cx="2461680" cy="192960"/>
              <a:chOff x="2168640" y="3983040"/>
              <a:chExt cx="2461680" cy="192960"/>
            </a:xfrm>
          </p:grpSpPr>
          <p:sp>
            <p:nvSpPr>
              <p:cNvPr id="1126" name=""/>
              <p:cNvSpPr/>
              <p:nvPr/>
            </p:nvSpPr>
            <p:spPr>
              <a:xfrm>
                <a:off x="2168640" y="3983040"/>
                <a:ext cx="429840" cy="192960"/>
              </a:xfrm>
              <a:prstGeom prst="line">
                <a:avLst/>
              </a:prstGeom>
              <a:ln w="25560">
                <a:solidFill>
                  <a:srgbClr val="ffcc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H="1">
                <a:off x="2680560" y="3987360"/>
                <a:ext cx="1949760" cy="188640"/>
              </a:xfrm>
              <a:prstGeom prst="line">
                <a:avLst/>
              </a:prstGeom>
              <a:ln w="25560">
                <a:solidFill>
                  <a:srgbClr val="ffcc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8" name=""/>
          <p:cNvGrpSpPr/>
          <p:nvPr/>
        </p:nvGrpSpPr>
        <p:grpSpPr>
          <a:xfrm>
            <a:off x="2165400" y="3987720"/>
            <a:ext cx="2464920" cy="563400"/>
            <a:chOff x="2165400" y="3987720"/>
            <a:chExt cx="2464920" cy="563400"/>
          </a:xfrm>
        </p:grpSpPr>
        <p:sp>
          <p:nvSpPr>
            <p:cNvPr id="1129" name=""/>
            <p:cNvSpPr/>
            <p:nvPr/>
          </p:nvSpPr>
          <p:spPr>
            <a:xfrm>
              <a:off x="3803400" y="4167720"/>
              <a:ext cx="93960" cy="383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" name=""/>
            <p:cNvGrpSpPr/>
            <p:nvPr/>
          </p:nvGrpSpPr>
          <p:grpSpPr>
            <a:xfrm>
              <a:off x="2165400" y="3987720"/>
              <a:ext cx="2464920" cy="180000"/>
              <a:chOff x="2165400" y="3987720"/>
              <a:chExt cx="2464920" cy="180000"/>
            </a:xfrm>
          </p:grpSpPr>
          <p:sp>
            <p:nvSpPr>
              <p:cNvPr id="1131" name=""/>
              <p:cNvSpPr/>
              <p:nvPr/>
            </p:nvSpPr>
            <p:spPr>
              <a:xfrm>
                <a:off x="2165400" y="3987720"/>
                <a:ext cx="1634040" cy="180000"/>
              </a:xfrm>
              <a:prstGeom prst="line">
                <a:avLst/>
              </a:prstGeom>
              <a:ln w="25560">
                <a:solidFill>
                  <a:srgbClr val="99cc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V="1">
                <a:off x="3893400" y="3987720"/>
                <a:ext cx="736920" cy="180000"/>
              </a:xfrm>
              <a:prstGeom prst="line">
                <a:avLst/>
              </a:prstGeom>
              <a:ln w="25560">
                <a:solidFill>
                  <a:srgbClr val="99cc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3" name=""/>
          <p:cNvSpPr/>
          <p:nvPr/>
        </p:nvSpPr>
        <p:spPr>
          <a:xfrm>
            <a:off x="3251160" y="4184640"/>
            <a:ext cx="2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1639800" y="3766320"/>
            <a:ext cx="428040" cy="1630800"/>
            <a:chOff x="1639800" y="3766320"/>
            <a:chExt cx="428040" cy="1630800"/>
          </a:xfrm>
        </p:grpSpPr>
        <p:sp>
          <p:nvSpPr>
            <p:cNvPr id="1135" name=""/>
            <p:cNvSpPr/>
            <p:nvPr/>
          </p:nvSpPr>
          <p:spPr>
            <a:xfrm>
              <a:off x="1639800" y="3789000"/>
              <a:ext cx="361800" cy="160812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cfcdc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rot="16207800">
              <a:off x="1108800" y="4386240"/>
              <a:ext cx="157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on-associated overhead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ptical Supervisory Chann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 rot="16200000">
            <a:off x="3342600" y="2377440"/>
            <a:ext cx="123840" cy="2465280"/>
          </a:xfrm>
          <a:custGeom>
            <a:avLst/>
            <a:gdLst>
              <a:gd name="textAreaLeft" fmla="*/ 79200 w 123840"/>
              <a:gd name="textAreaRight" fmla="*/ 124200 w 123840"/>
              <a:gd name="textAreaTop" fmla="*/ 64080 h 2465280"/>
              <a:gd name="textAreaBottom" fmla="*/ 2401200 h 246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540320" y="4167360"/>
            <a:ext cx="93600" cy="3841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698720" y="23572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690800" y="280512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712040" y="327168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704120" y="37400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694400" y="4767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712040" y="51865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826240" y="2066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149080" y="1501920"/>
            <a:ext cx="3918960" cy="179748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cal Multiplex Se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ded to support the connec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monitoring and assist service provider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in troubleshooting and fault 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bes optical DWDM connec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between two components wi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multiplex functions e.g. OXC, OA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148360" y="3651120"/>
            <a:ext cx="3838320" cy="20408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cal Transmission Se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bes transport on an optical lin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between two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used for maintenan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and operational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allows the network opera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to perform monitoring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maintenance tasks between 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081160" y="4599000"/>
            <a:ext cx="2578320" cy="92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94616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tical Transport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557360" y="1782720"/>
            <a:ext cx="118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tical Transport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316560" y="6107040"/>
            <a:ext cx="26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urtesy of Lucent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728720" y="5565600"/>
            <a:ext cx="2981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Ch = Optical Chan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DU = Optical Data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PU = Optical Payload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TU = Optical Transport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1525680" y="1184400"/>
            <a:ext cx="754056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ample of OTSn, OMSn, OCh, OTU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ODU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OPS0 tr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1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 of STM-N signal via OTM-0, OTM-n &amp; STM-N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55720" y="3890880"/>
            <a:ext cx="115920" cy="150840"/>
          </a:xfrm>
          <a:custGeom>
            <a:avLst/>
            <a:gdLst/>
            <a:ahLst/>
            <a:rect l="l" t="t" r="r" b="b"/>
            <a:pathLst>
              <a:path w="73" h="95">
                <a:moveTo>
                  <a:pt x="73" y="95"/>
                </a:moveTo>
                <a:lnTo>
                  <a:pt x="73" y="0"/>
                </a:lnTo>
                <a:lnTo>
                  <a:pt x="0" y="47"/>
                </a:lnTo>
                <a:lnTo>
                  <a:pt x="73" y="95"/>
                </a:lnTo>
                <a:close/>
              </a:path>
            </a:pathLst>
          </a:custGeom>
          <a:solidFill>
            <a:srgbClr val="ff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023920" y="3890880"/>
            <a:ext cx="112680" cy="381240"/>
          </a:xfrm>
          <a:custGeom>
            <a:avLst/>
            <a:gdLst/>
            <a:ahLst/>
            <a:rect l="l" t="t" r="r" b="b"/>
            <a:pathLst>
              <a:path w="71" h="240">
                <a:moveTo>
                  <a:pt x="0" y="240"/>
                </a:moveTo>
                <a:lnTo>
                  <a:pt x="0" y="0"/>
                </a:lnTo>
                <a:lnTo>
                  <a:pt x="71" y="47"/>
                </a:lnTo>
                <a:lnTo>
                  <a:pt x="71" y="191"/>
                </a:lnTo>
                <a:lnTo>
                  <a:pt x="0" y="24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1871280" y="4233960"/>
            <a:ext cx="152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1871280" y="4156200"/>
            <a:ext cx="152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1871280" y="4194000"/>
            <a:ext cx="152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1871280" y="4116240"/>
            <a:ext cx="152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1871280" y="4081320"/>
            <a:ext cx="152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H="1">
            <a:off x="1871280" y="4041720"/>
            <a:ext cx="152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1871280" y="4003560"/>
            <a:ext cx="152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1871280" y="3965400"/>
            <a:ext cx="152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H="1">
            <a:off x="1871280" y="3925800"/>
            <a:ext cx="152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136600" y="3965400"/>
            <a:ext cx="155880" cy="228600"/>
          </a:xfrm>
          <a:custGeom>
            <a:avLst/>
            <a:gdLst/>
            <a:ahLst/>
            <a:rect l="l" t="t" r="r" b="b"/>
            <a:pathLst>
              <a:path w="98" h="144">
                <a:moveTo>
                  <a:pt x="0" y="144"/>
                </a:moveTo>
                <a:lnTo>
                  <a:pt x="0" y="0"/>
                </a:lnTo>
                <a:lnTo>
                  <a:pt x="98" y="73"/>
                </a:lnTo>
                <a:lnTo>
                  <a:pt x="0" y="144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292480" y="4081320"/>
            <a:ext cx="152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747880" y="3965400"/>
            <a:ext cx="155520" cy="228600"/>
          </a:xfrm>
          <a:custGeom>
            <a:avLst/>
            <a:gdLst/>
            <a:ahLst/>
            <a:rect l="l" t="t" r="r" b="b"/>
            <a:pathLst>
              <a:path w="98" h="144">
                <a:moveTo>
                  <a:pt x="0" y="144"/>
                </a:moveTo>
                <a:lnTo>
                  <a:pt x="0" y="0"/>
                </a:lnTo>
                <a:lnTo>
                  <a:pt x="98" y="73"/>
                </a:lnTo>
                <a:lnTo>
                  <a:pt x="0" y="144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903400" y="4081320"/>
            <a:ext cx="152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95600" y="3965400"/>
            <a:ext cx="152280" cy="228600"/>
          </a:xfrm>
          <a:custGeom>
            <a:avLst/>
            <a:gdLst/>
            <a:ahLst/>
            <a:rect l="l" t="t" r="r" b="b"/>
            <a:pathLst>
              <a:path w="96" h="144">
                <a:moveTo>
                  <a:pt x="96" y="144"/>
                </a:moveTo>
                <a:lnTo>
                  <a:pt x="96" y="0"/>
                </a:lnTo>
                <a:lnTo>
                  <a:pt x="0" y="73"/>
                </a:lnTo>
                <a:lnTo>
                  <a:pt x="96" y="144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444760" y="4081320"/>
            <a:ext cx="150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8640" y="3773520"/>
            <a:ext cx="879480" cy="385560"/>
          </a:xfrm>
          <a:prstGeom prst="rect">
            <a:avLst/>
          </a:prstGeom>
          <a:solidFill>
            <a:srgbClr val="40404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335240" y="3890880"/>
            <a:ext cx="115560" cy="150840"/>
          </a:xfrm>
          <a:custGeom>
            <a:avLst/>
            <a:gdLst/>
            <a:ahLst/>
            <a:rect l="l" t="t" r="r" b="b"/>
            <a:pathLst>
              <a:path w="73" h="95">
                <a:moveTo>
                  <a:pt x="0" y="95"/>
                </a:moveTo>
                <a:lnTo>
                  <a:pt x="0" y="0"/>
                </a:lnTo>
                <a:lnTo>
                  <a:pt x="73" y="47"/>
                </a:lnTo>
                <a:lnTo>
                  <a:pt x="0" y="95"/>
                </a:lnTo>
                <a:close/>
              </a:path>
            </a:pathLst>
          </a:custGeom>
          <a:solidFill>
            <a:srgbClr val="ff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450800" y="3965400"/>
            <a:ext cx="152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13800" y="3813120"/>
            <a:ext cx="563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DX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270400" y="4767120"/>
            <a:ext cx="381240" cy="115920"/>
          </a:xfrm>
          <a:custGeom>
            <a:avLst/>
            <a:gdLst/>
            <a:ahLst/>
            <a:rect l="l" t="t" r="r" b="b"/>
            <a:pathLst>
              <a:path w="240" h="73">
                <a:moveTo>
                  <a:pt x="0" y="0"/>
                </a:moveTo>
                <a:lnTo>
                  <a:pt x="240" y="0"/>
                </a:lnTo>
                <a:lnTo>
                  <a:pt x="192" y="73"/>
                </a:lnTo>
                <a:lnTo>
                  <a:pt x="47" y="73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45280" y="4883040"/>
            <a:ext cx="230040" cy="152640"/>
          </a:xfrm>
          <a:custGeom>
            <a:avLst/>
            <a:gdLst/>
            <a:ahLst/>
            <a:rect l="l" t="t" r="r" b="b"/>
            <a:pathLst>
              <a:path w="145" h="96">
                <a:moveTo>
                  <a:pt x="0" y="0"/>
                </a:moveTo>
                <a:lnTo>
                  <a:pt x="145" y="0"/>
                </a:lnTo>
                <a:lnTo>
                  <a:pt x="73" y="9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460840" y="5035680"/>
            <a:ext cx="180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232240" y="3851280"/>
            <a:ext cx="917640" cy="91908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729400" y="4767120"/>
            <a:ext cx="382320" cy="115920"/>
          </a:xfrm>
          <a:custGeom>
            <a:avLst/>
            <a:gdLst/>
            <a:ahLst/>
            <a:rect l="l" t="t" r="r" b="b"/>
            <a:pathLst>
              <a:path w="241" h="73">
                <a:moveTo>
                  <a:pt x="0" y="0"/>
                </a:moveTo>
                <a:lnTo>
                  <a:pt x="241" y="0"/>
                </a:lnTo>
                <a:lnTo>
                  <a:pt x="192" y="73"/>
                </a:lnTo>
                <a:lnTo>
                  <a:pt x="47" y="73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803920" y="4883040"/>
            <a:ext cx="230040" cy="152640"/>
          </a:xfrm>
          <a:custGeom>
            <a:avLst/>
            <a:gdLst/>
            <a:ahLst/>
            <a:rect l="l" t="t" r="r" b="b"/>
            <a:pathLst>
              <a:path w="145" h="96">
                <a:moveTo>
                  <a:pt x="0" y="0"/>
                </a:moveTo>
                <a:lnTo>
                  <a:pt x="145" y="0"/>
                </a:lnTo>
                <a:lnTo>
                  <a:pt x="73" y="9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919840" y="5035680"/>
            <a:ext cx="14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270400" y="3735360"/>
            <a:ext cx="381240" cy="115920"/>
          </a:xfrm>
          <a:custGeom>
            <a:avLst/>
            <a:gdLst/>
            <a:ahLst/>
            <a:rect l="l" t="t" r="r" b="b"/>
            <a:pathLst>
              <a:path w="240" h="73">
                <a:moveTo>
                  <a:pt x="240" y="73"/>
                </a:moveTo>
                <a:lnTo>
                  <a:pt x="0" y="73"/>
                </a:lnTo>
                <a:lnTo>
                  <a:pt x="47" y="0"/>
                </a:lnTo>
                <a:lnTo>
                  <a:pt x="192" y="0"/>
                </a:lnTo>
                <a:lnTo>
                  <a:pt x="240" y="73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345280" y="3583080"/>
            <a:ext cx="230040" cy="152280"/>
          </a:xfrm>
          <a:custGeom>
            <a:avLst/>
            <a:gdLst/>
            <a:ahLst/>
            <a:rect l="l" t="t" r="r" b="b"/>
            <a:pathLst>
              <a:path w="145" h="96">
                <a:moveTo>
                  <a:pt x="145" y="96"/>
                </a:moveTo>
                <a:lnTo>
                  <a:pt x="0" y="96"/>
                </a:lnTo>
                <a:lnTo>
                  <a:pt x="73" y="0"/>
                </a:lnTo>
                <a:lnTo>
                  <a:pt x="145" y="96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5460840" y="3431880"/>
            <a:ext cx="180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729400" y="3735360"/>
            <a:ext cx="382320" cy="115920"/>
          </a:xfrm>
          <a:custGeom>
            <a:avLst/>
            <a:gdLst/>
            <a:ahLst/>
            <a:rect l="l" t="t" r="r" b="b"/>
            <a:pathLst>
              <a:path w="241" h="73">
                <a:moveTo>
                  <a:pt x="241" y="73"/>
                </a:moveTo>
                <a:lnTo>
                  <a:pt x="0" y="73"/>
                </a:lnTo>
                <a:lnTo>
                  <a:pt x="47" y="0"/>
                </a:lnTo>
                <a:lnTo>
                  <a:pt x="192" y="0"/>
                </a:lnTo>
                <a:lnTo>
                  <a:pt x="241" y="73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803920" y="3583080"/>
            <a:ext cx="230040" cy="152280"/>
          </a:xfrm>
          <a:custGeom>
            <a:avLst/>
            <a:gdLst/>
            <a:ahLst/>
            <a:rect l="l" t="t" r="r" b="b"/>
            <a:pathLst>
              <a:path w="145" h="96">
                <a:moveTo>
                  <a:pt x="145" y="96"/>
                </a:moveTo>
                <a:lnTo>
                  <a:pt x="0" y="96"/>
                </a:lnTo>
                <a:lnTo>
                  <a:pt x="73" y="0"/>
                </a:lnTo>
                <a:lnTo>
                  <a:pt x="145" y="96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5919840" y="3431880"/>
            <a:ext cx="14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118120" y="3890880"/>
            <a:ext cx="114120" cy="381240"/>
          </a:xfrm>
          <a:custGeom>
            <a:avLst/>
            <a:gdLst/>
            <a:ahLst/>
            <a:rect l="l" t="t" r="r" b="b"/>
            <a:pathLst>
              <a:path w="72" h="240">
                <a:moveTo>
                  <a:pt x="72" y="0"/>
                </a:moveTo>
                <a:lnTo>
                  <a:pt x="72" y="240"/>
                </a:lnTo>
                <a:lnTo>
                  <a:pt x="0" y="191"/>
                </a:lnTo>
                <a:lnTo>
                  <a:pt x="0" y="47"/>
                </a:lnTo>
                <a:lnTo>
                  <a:pt x="72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964040" y="3965400"/>
            <a:ext cx="154080" cy="228600"/>
          </a:xfrm>
          <a:custGeom>
            <a:avLst/>
            <a:gdLst/>
            <a:ahLst/>
            <a:rect l="l" t="t" r="r" b="b"/>
            <a:pathLst>
              <a:path w="97" h="144">
                <a:moveTo>
                  <a:pt x="97" y="0"/>
                </a:moveTo>
                <a:lnTo>
                  <a:pt x="97" y="144"/>
                </a:lnTo>
                <a:lnTo>
                  <a:pt x="0" y="73"/>
                </a:lnTo>
                <a:lnTo>
                  <a:pt x="97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4811400" y="4081320"/>
            <a:ext cx="152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146640" y="3890880"/>
            <a:ext cx="115920" cy="381240"/>
          </a:xfrm>
          <a:custGeom>
            <a:avLst/>
            <a:gdLst/>
            <a:ahLst/>
            <a:rect l="l" t="t" r="r" b="b"/>
            <a:pathLst>
              <a:path w="73" h="240">
                <a:moveTo>
                  <a:pt x="0" y="240"/>
                </a:moveTo>
                <a:lnTo>
                  <a:pt x="0" y="0"/>
                </a:lnTo>
                <a:lnTo>
                  <a:pt x="73" y="47"/>
                </a:lnTo>
                <a:lnTo>
                  <a:pt x="73" y="191"/>
                </a:lnTo>
                <a:lnTo>
                  <a:pt x="0" y="24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262560" y="3965400"/>
            <a:ext cx="152640" cy="228600"/>
          </a:xfrm>
          <a:custGeom>
            <a:avLst/>
            <a:gdLst/>
            <a:ahLst/>
            <a:rect l="l" t="t" r="r" b="b"/>
            <a:pathLst>
              <a:path w="96" h="144">
                <a:moveTo>
                  <a:pt x="0" y="144"/>
                </a:moveTo>
                <a:lnTo>
                  <a:pt x="0" y="0"/>
                </a:lnTo>
                <a:lnTo>
                  <a:pt x="96" y="73"/>
                </a:lnTo>
                <a:lnTo>
                  <a:pt x="0" y="144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415200" y="4081320"/>
            <a:ext cx="152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146640" y="4307040"/>
            <a:ext cx="155880" cy="230040"/>
          </a:xfrm>
          <a:custGeom>
            <a:avLst/>
            <a:gdLst/>
            <a:ahLst/>
            <a:rect l="l" t="t" r="r" b="b"/>
            <a:pathLst>
              <a:path w="98" h="145">
                <a:moveTo>
                  <a:pt x="0" y="145"/>
                </a:moveTo>
                <a:lnTo>
                  <a:pt x="0" y="0"/>
                </a:lnTo>
                <a:lnTo>
                  <a:pt x="98" y="74"/>
                </a:lnTo>
                <a:lnTo>
                  <a:pt x="0" y="145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302520" y="4424400"/>
            <a:ext cx="152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146640" y="4537080"/>
            <a:ext cx="155880" cy="230040"/>
          </a:xfrm>
          <a:custGeom>
            <a:avLst/>
            <a:gdLst/>
            <a:ahLst/>
            <a:rect l="l" t="t" r="r" b="b"/>
            <a:pathLst>
              <a:path w="98" h="145">
                <a:moveTo>
                  <a:pt x="0" y="145"/>
                </a:moveTo>
                <a:lnTo>
                  <a:pt x="0" y="0"/>
                </a:lnTo>
                <a:lnTo>
                  <a:pt x="98" y="73"/>
                </a:lnTo>
                <a:lnTo>
                  <a:pt x="0" y="145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302520" y="4653000"/>
            <a:ext cx="152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118120" y="4346640"/>
            <a:ext cx="114120" cy="380880"/>
          </a:xfrm>
          <a:custGeom>
            <a:avLst/>
            <a:gdLst/>
            <a:ahLst/>
            <a:rect l="l" t="t" r="r" b="b"/>
            <a:pathLst>
              <a:path w="72" h="240">
                <a:moveTo>
                  <a:pt x="72" y="0"/>
                </a:moveTo>
                <a:lnTo>
                  <a:pt x="72" y="240"/>
                </a:lnTo>
                <a:lnTo>
                  <a:pt x="0" y="193"/>
                </a:lnTo>
                <a:lnTo>
                  <a:pt x="0" y="49"/>
                </a:lnTo>
                <a:lnTo>
                  <a:pt x="72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964040" y="4424400"/>
            <a:ext cx="154080" cy="228600"/>
          </a:xfrm>
          <a:custGeom>
            <a:avLst/>
            <a:gdLst/>
            <a:ahLst/>
            <a:rect l="l" t="t" r="r" b="b"/>
            <a:pathLst>
              <a:path w="97" h="144">
                <a:moveTo>
                  <a:pt x="97" y="0"/>
                </a:moveTo>
                <a:lnTo>
                  <a:pt x="97" y="144"/>
                </a:lnTo>
                <a:lnTo>
                  <a:pt x="0" y="71"/>
                </a:lnTo>
                <a:lnTo>
                  <a:pt x="97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4811400" y="4537080"/>
            <a:ext cx="152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448240" y="4029120"/>
            <a:ext cx="636480" cy="520560"/>
          </a:xfrm>
          <a:custGeom>
            <a:avLst/>
            <a:gdLst/>
            <a:ahLst/>
            <a:rect l="l" t="t" r="r" b="b"/>
            <a:pathLst>
              <a:path w="401" h="328">
                <a:moveTo>
                  <a:pt x="14" y="2"/>
                </a:moveTo>
                <a:lnTo>
                  <a:pt x="12" y="2"/>
                </a:lnTo>
                <a:lnTo>
                  <a:pt x="10" y="0"/>
                </a:lnTo>
                <a:lnTo>
                  <a:pt x="4" y="0"/>
                </a:lnTo>
                <a:lnTo>
                  <a:pt x="2" y="2"/>
                </a:lnTo>
                <a:lnTo>
                  <a:pt x="2" y="4"/>
                </a:lnTo>
                <a:lnTo>
                  <a:pt x="0" y="6"/>
                </a:lnTo>
                <a:lnTo>
                  <a:pt x="0" y="13"/>
                </a:lnTo>
                <a:lnTo>
                  <a:pt x="2" y="15"/>
                </a:lnTo>
                <a:lnTo>
                  <a:pt x="267" y="326"/>
                </a:lnTo>
                <a:lnTo>
                  <a:pt x="269" y="326"/>
                </a:lnTo>
                <a:lnTo>
                  <a:pt x="271" y="328"/>
                </a:lnTo>
                <a:lnTo>
                  <a:pt x="395" y="328"/>
                </a:lnTo>
                <a:lnTo>
                  <a:pt x="397" y="326"/>
                </a:lnTo>
                <a:lnTo>
                  <a:pt x="399" y="326"/>
                </a:lnTo>
                <a:lnTo>
                  <a:pt x="399" y="324"/>
                </a:lnTo>
                <a:lnTo>
                  <a:pt x="401" y="322"/>
                </a:lnTo>
                <a:lnTo>
                  <a:pt x="401" y="318"/>
                </a:lnTo>
                <a:lnTo>
                  <a:pt x="399" y="316"/>
                </a:lnTo>
                <a:lnTo>
                  <a:pt x="399" y="314"/>
                </a:lnTo>
                <a:lnTo>
                  <a:pt x="397" y="314"/>
                </a:lnTo>
                <a:lnTo>
                  <a:pt x="395" y="312"/>
                </a:lnTo>
                <a:lnTo>
                  <a:pt x="393" y="312"/>
                </a:lnTo>
                <a:lnTo>
                  <a:pt x="277" y="312"/>
                </a:lnTo>
                <a:lnTo>
                  <a:pt x="14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295960" y="4029120"/>
            <a:ext cx="638280" cy="520560"/>
          </a:xfrm>
          <a:custGeom>
            <a:avLst/>
            <a:gdLst/>
            <a:ahLst/>
            <a:rect l="l" t="t" r="r" b="b"/>
            <a:pathLst>
              <a:path w="402" h="328">
                <a:moveTo>
                  <a:pt x="400" y="15"/>
                </a:moveTo>
                <a:lnTo>
                  <a:pt x="402" y="13"/>
                </a:lnTo>
                <a:lnTo>
                  <a:pt x="402" y="6"/>
                </a:lnTo>
                <a:lnTo>
                  <a:pt x="400" y="4"/>
                </a:lnTo>
                <a:lnTo>
                  <a:pt x="400" y="2"/>
                </a:lnTo>
                <a:lnTo>
                  <a:pt x="398" y="0"/>
                </a:lnTo>
                <a:lnTo>
                  <a:pt x="391" y="0"/>
                </a:lnTo>
                <a:lnTo>
                  <a:pt x="389" y="2"/>
                </a:lnTo>
                <a:lnTo>
                  <a:pt x="387" y="2"/>
                </a:lnTo>
                <a:lnTo>
                  <a:pt x="125" y="312"/>
                </a:lnTo>
                <a:lnTo>
                  <a:pt x="6" y="312"/>
                </a:lnTo>
                <a:lnTo>
                  <a:pt x="4" y="314"/>
                </a:lnTo>
                <a:lnTo>
                  <a:pt x="2" y="314"/>
                </a:lnTo>
                <a:lnTo>
                  <a:pt x="2" y="316"/>
                </a:lnTo>
                <a:lnTo>
                  <a:pt x="0" y="318"/>
                </a:lnTo>
                <a:lnTo>
                  <a:pt x="0" y="322"/>
                </a:lnTo>
                <a:lnTo>
                  <a:pt x="2" y="324"/>
                </a:lnTo>
                <a:lnTo>
                  <a:pt x="2" y="326"/>
                </a:lnTo>
                <a:lnTo>
                  <a:pt x="4" y="326"/>
                </a:lnTo>
                <a:lnTo>
                  <a:pt x="6" y="328"/>
                </a:lnTo>
                <a:lnTo>
                  <a:pt x="8" y="328"/>
                </a:lnTo>
                <a:lnTo>
                  <a:pt x="129" y="328"/>
                </a:lnTo>
                <a:lnTo>
                  <a:pt x="131" y="328"/>
                </a:lnTo>
                <a:lnTo>
                  <a:pt x="133" y="326"/>
                </a:lnTo>
                <a:lnTo>
                  <a:pt x="135" y="326"/>
                </a:lnTo>
                <a:lnTo>
                  <a:pt x="40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475080" y="3890880"/>
            <a:ext cx="919080" cy="38412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359160" y="3890880"/>
            <a:ext cx="115920" cy="381240"/>
          </a:xfrm>
          <a:custGeom>
            <a:avLst/>
            <a:gdLst/>
            <a:ahLst/>
            <a:rect l="l" t="t" r="r" b="b"/>
            <a:pathLst>
              <a:path w="73" h="240">
                <a:moveTo>
                  <a:pt x="73" y="0"/>
                </a:moveTo>
                <a:lnTo>
                  <a:pt x="73" y="240"/>
                </a:lnTo>
                <a:lnTo>
                  <a:pt x="0" y="191"/>
                </a:lnTo>
                <a:lnTo>
                  <a:pt x="0" y="47"/>
                </a:lnTo>
                <a:lnTo>
                  <a:pt x="73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206880" y="3965400"/>
            <a:ext cx="152280" cy="228600"/>
          </a:xfrm>
          <a:custGeom>
            <a:avLst/>
            <a:gdLst/>
            <a:ahLst/>
            <a:rect l="l" t="t" r="r" b="b"/>
            <a:pathLst>
              <a:path w="96" h="144">
                <a:moveTo>
                  <a:pt x="96" y="0"/>
                </a:moveTo>
                <a:lnTo>
                  <a:pt x="96" y="144"/>
                </a:lnTo>
                <a:lnTo>
                  <a:pt x="0" y="73"/>
                </a:lnTo>
                <a:lnTo>
                  <a:pt x="96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>
            <a:off x="3055680" y="4081320"/>
            <a:ext cx="150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390920" y="3890880"/>
            <a:ext cx="115920" cy="381240"/>
          </a:xfrm>
          <a:custGeom>
            <a:avLst/>
            <a:gdLst/>
            <a:ahLst/>
            <a:rect l="l" t="t" r="r" b="b"/>
            <a:pathLst>
              <a:path w="73" h="240">
                <a:moveTo>
                  <a:pt x="0" y="240"/>
                </a:moveTo>
                <a:lnTo>
                  <a:pt x="0" y="0"/>
                </a:lnTo>
                <a:lnTo>
                  <a:pt x="73" y="47"/>
                </a:lnTo>
                <a:lnTo>
                  <a:pt x="73" y="191"/>
                </a:lnTo>
                <a:lnTo>
                  <a:pt x="0" y="24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506840" y="3965400"/>
            <a:ext cx="152640" cy="228600"/>
          </a:xfrm>
          <a:custGeom>
            <a:avLst/>
            <a:gdLst/>
            <a:ahLst/>
            <a:rect l="l" t="t" r="r" b="b"/>
            <a:pathLst>
              <a:path w="96" h="144">
                <a:moveTo>
                  <a:pt x="0" y="144"/>
                </a:moveTo>
                <a:lnTo>
                  <a:pt x="0" y="0"/>
                </a:lnTo>
                <a:lnTo>
                  <a:pt x="96" y="73"/>
                </a:lnTo>
                <a:lnTo>
                  <a:pt x="0" y="144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659480" y="4081320"/>
            <a:ext cx="152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75080" y="4272120"/>
            <a:ext cx="230040" cy="152280"/>
          </a:xfrm>
          <a:custGeom>
            <a:avLst/>
            <a:gdLst/>
            <a:ahLst/>
            <a:rect l="l" t="t" r="r" b="b"/>
            <a:pathLst>
              <a:path w="145" h="96">
                <a:moveTo>
                  <a:pt x="0" y="0"/>
                </a:moveTo>
                <a:lnTo>
                  <a:pt x="145" y="0"/>
                </a:lnTo>
                <a:lnTo>
                  <a:pt x="72" y="9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589200" y="4424400"/>
            <a:ext cx="1800" cy="152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705120" y="4272120"/>
            <a:ext cx="227160" cy="152280"/>
          </a:xfrm>
          <a:custGeom>
            <a:avLst/>
            <a:gdLst/>
            <a:ahLst/>
            <a:rect l="l" t="t" r="r" b="b"/>
            <a:pathLst>
              <a:path w="143" h="96">
                <a:moveTo>
                  <a:pt x="0" y="0"/>
                </a:moveTo>
                <a:lnTo>
                  <a:pt x="143" y="0"/>
                </a:lnTo>
                <a:lnTo>
                  <a:pt x="71" y="9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817800" y="4424400"/>
            <a:ext cx="1800" cy="152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932280" y="4272120"/>
            <a:ext cx="228600" cy="152280"/>
          </a:xfrm>
          <a:custGeom>
            <a:avLst/>
            <a:gdLst/>
            <a:ahLst/>
            <a:rect l="l" t="t" r="r" b="b"/>
            <a:pathLst>
              <a:path w="144" h="96">
                <a:moveTo>
                  <a:pt x="0" y="0"/>
                </a:moveTo>
                <a:lnTo>
                  <a:pt x="144" y="0"/>
                </a:lnTo>
                <a:lnTo>
                  <a:pt x="73" y="9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048200" y="4424400"/>
            <a:ext cx="1440" cy="152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60880" y="4272120"/>
            <a:ext cx="230040" cy="152280"/>
          </a:xfrm>
          <a:custGeom>
            <a:avLst/>
            <a:gdLst/>
            <a:ahLst/>
            <a:rect l="l" t="t" r="r" b="b"/>
            <a:pathLst>
              <a:path w="145" h="96">
                <a:moveTo>
                  <a:pt x="0" y="0"/>
                </a:moveTo>
                <a:lnTo>
                  <a:pt x="145" y="0"/>
                </a:lnTo>
                <a:lnTo>
                  <a:pt x="74" y="9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278240" y="4424400"/>
            <a:ext cx="1800" cy="152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873840" y="3965400"/>
            <a:ext cx="152280" cy="228600"/>
          </a:xfrm>
          <a:custGeom>
            <a:avLst/>
            <a:gdLst/>
            <a:ahLst/>
            <a:rect l="l" t="t" r="r" b="b"/>
            <a:pathLst>
              <a:path w="96" h="144">
                <a:moveTo>
                  <a:pt x="0" y="144"/>
                </a:moveTo>
                <a:lnTo>
                  <a:pt x="0" y="0"/>
                </a:lnTo>
                <a:lnTo>
                  <a:pt x="96" y="73"/>
                </a:lnTo>
                <a:lnTo>
                  <a:pt x="0" y="144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026120" y="4081320"/>
            <a:ext cx="152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723000" y="3965400"/>
            <a:ext cx="150840" cy="228600"/>
          </a:xfrm>
          <a:custGeom>
            <a:avLst/>
            <a:gdLst/>
            <a:ahLst/>
            <a:rect l="l" t="t" r="r" b="b"/>
            <a:pathLst>
              <a:path w="95" h="144">
                <a:moveTo>
                  <a:pt x="95" y="144"/>
                </a:moveTo>
                <a:lnTo>
                  <a:pt x="95" y="0"/>
                </a:lnTo>
                <a:lnTo>
                  <a:pt x="0" y="73"/>
                </a:lnTo>
                <a:lnTo>
                  <a:pt x="95" y="144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567480" y="4081320"/>
            <a:ext cx="155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485120" y="3890880"/>
            <a:ext cx="114120" cy="381240"/>
          </a:xfrm>
          <a:custGeom>
            <a:avLst/>
            <a:gdLst/>
            <a:ahLst/>
            <a:rect l="l" t="t" r="r" b="b"/>
            <a:pathLst>
              <a:path w="72" h="240">
                <a:moveTo>
                  <a:pt x="72" y="0"/>
                </a:moveTo>
                <a:lnTo>
                  <a:pt x="72" y="240"/>
                </a:lnTo>
                <a:lnTo>
                  <a:pt x="0" y="191"/>
                </a:lnTo>
                <a:lnTo>
                  <a:pt x="0" y="47"/>
                </a:lnTo>
                <a:lnTo>
                  <a:pt x="72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99240" y="3925800"/>
            <a:ext cx="155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599240" y="4003560"/>
            <a:ext cx="155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599240" y="3965400"/>
            <a:ext cx="155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599240" y="4041720"/>
            <a:ext cx="155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599240" y="4081320"/>
            <a:ext cx="155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599240" y="4116240"/>
            <a:ext cx="155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599240" y="4156200"/>
            <a:ext cx="155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599240" y="4194000"/>
            <a:ext cx="155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599240" y="4233960"/>
            <a:ext cx="155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334280" y="3965400"/>
            <a:ext cx="150840" cy="228600"/>
          </a:xfrm>
          <a:custGeom>
            <a:avLst/>
            <a:gdLst/>
            <a:ahLst/>
            <a:rect l="l" t="t" r="r" b="b"/>
            <a:pathLst>
              <a:path w="95" h="144">
                <a:moveTo>
                  <a:pt x="95" y="0"/>
                </a:moveTo>
                <a:lnTo>
                  <a:pt x="95" y="144"/>
                </a:lnTo>
                <a:lnTo>
                  <a:pt x="0" y="73"/>
                </a:lnTo>
                <a:lnTo>
                  <a:pt x="95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7178760" y="4081320"/>
            <a:ext cx="155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09760" y="2590920"/>
            <a:ext cx="863424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232240" y="4003560"/>
            <a:ext cx="154080" cy="155520"/>
          </a:xfrm>
          <a:prstGeom prst="rect">
            <a:avLst/>
          </a:pr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254920" y="4003560"/>
            <a:ext cx="17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871640" y="3890880"/>
            <a:ext cx="155520" cy="155520"/>
          </a:xfrm>
          <a:prstGeom prst="rect">
            <a:avLst/>
          </a:pr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895760" y="3887640"/>
            <a:ext cx="17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1603080" y="3965400"/>
            <a:ext cx="152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599240" y="4116240"/>
            <a:ext cx="158760" cy="158760"/>
          </a:xfrm>
          <a:prstGeom prst="rect">
            <a:avLst/>
          </a:pr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623360" y="4116240"/>
            <a:ext cx="17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023920" y="3279600"/>
            <a:ext cx="1800" cy="57168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062080" y="3505320"/>
            <a:ext cx="1800" cy="3855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176560" y="3735360"/>
            <a:ext cx="1440" cy="2300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09720" y="3735360"/>
            <a:ext cx="1800" cy="2300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787480" y="3735360"/>
            <a:ext cx="1800" cy="2300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321000" y="3735360"/>
            <a:ext cx="1800" cy="2300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36920" y="3505320"/>
            <a:ext cx="1440" cy="3855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29080" y="3505320"/>
            <a:ext cx="1800" cy="3855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543560" y="3735360"/>
            <a:ext cx="1440" cy="2300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079960" y="3735360"/>
            <a:ext cx="1800" cy="2300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192640" y="3505320"/>
            <a:ext cx="1800" cy="3855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232240" y="3279600"/>
            <a:ext cx="1800" cy="5335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754760" y="4194000"/>
            <a:ext cx="455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2176560" y="3613320"/>
            <a:ext cx="5270400" cy="228600"/>
            <a:chOff x="2176560" y="3613320"/>
            <a:chExt cx="5270400" cy="228600"/>
          </a:xfrm>
        </p:grpSpPr>
        <p:sp>
          <p:nvSpPr>
            <p:cNvPr id="1256" name=""/>
            <p:cNvSpPr/>
            <p:nvPr/>
          </p:nvSpPr>
          <p:spPr>
            <a:xfrm>
              <a:off x="2176560" y="3813120"/>
              <a:ext cx="533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176560" y="378468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38" y="0"/>
                  </a:moveTo>
                  <a:lnTo>
                    <a:pt x="0" y="18"/>
                  </a:lnTo>
                  <a:lnTo>
                    <a:pt x="38" y="3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651040" y="378468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0"/>
                  </a:moveTo>
                  <a:lnTo>
                    <a:pt x="37" y="18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787480" y="3813120"/>
              <a:ext cx="53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787480" y="3784680"/>
              <a:ext cx="6048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38" y="0"/>
                  </a:moveTo>
                  <a:lnTo>
                    <a:pt x="0" y="18"/>
                  </a:lnTo>
                  <a:lnTo>
                    <a:pt x="38" y="3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262320" y="378468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0"/>
                  </a:moveTo>
                  <a:lnTo>
                    <a:pt x="37" y="18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543560" y="3813120"/>
              <a:ext cx="536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543560" y="378468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38" y="0"/>
                  </a:moveTo>
                  <a:lnTo>
                    <a:pt x="0" y="18"/>
                  </a:lnTo>
                  <a:lnTo>
                    <a:pt x="38" y="3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018040" y="3784680"/>
              <a:ext cx="61920" cy="5724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0" y="0"/>
                  </a:moveTo>
                  <a:lnTo>
                    <a:pt x="39" y="18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228040" y="361332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OTS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39320" y="361332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OTS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598280" y="361332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OTS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302520" y="3813120"/>
              <a:ext cx="533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302520" y="378468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0"/>
                  </a:moveTo>
                  <a:lnTo>
                    <a:pt x="0" y="18"/>
                  </a:lnTo>
                  <a:lnTo>
                    <a:pt x="37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773760" y="3784680"/>
              <a:ext cx="61920" cy="5724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0" y="0"/>
                  </a:moveTo>
                  <a:lnTo>
                    <a:pt x="39" y="18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913440" y="3813120"/>
              <a:ext cx="53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913440" y="3784680"/>
              <a:ext cx="5904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0"/>
                  </a:moveTo>
                  <a:lnTo>
                    <a:pt x="0" y="18"/>
                  </a:lnTo>
                  <a:lnTo>
                    <a:pt x="37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385040" y="3784680"/>
              <a:ext cx="61920" cy="5724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0" y="0"/>
                  </a:moveTo>
                  <a:lnTo>
                    <a:pt x="39" y="18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354000" y="361332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OTS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964920" y="361332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OTS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2062080" y="3386160"/>
            <a:ext cx="5497560" cy="227160"/>
            <a:chOff x="2062080" y="3386160"/>
            <a:chExt cx="5497560" cy="227160"/>
          </a:xfrm>
        </p:grpSpPr>
        <p:grpSp>
          <p:nvGrpSpPr>
            <p:cNvPr id="1277" name=""/>
            <p:cNvGrpSpPr/>
            <p:nvPr/>
          </p:nvGrpSpPr>
          <p:grpSpPr>
            <a:xfrm>
              <a:off x="2062080" y="3386160"/>
              <a:ext cx="1374840" cy="227160"/>
              <a:chOff x="2062080" y="3386160"/>
              <a:chExt cx="1374840" cy="227160"/>
            </a:xfrm>
          </p:grpSpPr>
          <p:sp>
            <p:nvSpPr>
              <p:cNvPr id="1278" name=""/>
              <p:cNvSpPr/>
              <p:nvPr/>
            </p:nvSpPr>
            <p:spPr>
              <a:xfrm>
                <a:off x="2062080" y="3583080"/>
                <a:ext cx="1374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2062080" y="3554280"/>
                <a:ext cx="58680" cy="5904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37" y="0"/>
                    </a:moveTo>
                    <a:lnTo>
                      <a:pt x="0" y="18"/>
                    </a:lnTo>
                    <a:lnTo>
                      <a:pt x="37" y="37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375000" y="3554280"/>
                <a:ext cx="61920" cy="59040"/>
              </a:xfrm>
              <a:custGeom>
                <a:avLst/>
                <a:gdLst/>
                <a:ahLst/>
                <a:rect l="l" t="t" r="r" b="b"/>
                <a:pathLst>
                  <a:path w="39" h="37">
                    <a:moveTo>
                      <a:pt x="0" y="0"/>
                    </a:moveTo>
                    <a:lnTo>
                      <a:pt x="39" y="18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2518560" y="3386160"/>
                <a:ext cx="476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OMS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4429080" y="3386160"/>
              <a:ext cx="763560" cy="227160"/>
              <a:chOff x="4429080" y="3386160"/>
              <a:chExt cx="763560" cy="227160"/>
            </a:xfrm>
          </p:grpSpPr>
          <p:sp>
            <p:nvSpPr>
              <p:cNvPr id="1283" name=""/>
              <p:cNvSpPr/>
              <p:nvPr/>
            </p:nvSpPr>
            <p:spPr>
              <a:xfrm>
                <a:off x="4429080" y="3583080"/>
                <a:ext cx="7635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4429080" y="3554280"/>
                <a:ext cx="61920" cy="59040"/>
              </a:xfrm>
              <a:custGeom>
                <a:avLst/>
                <a:gdLst/>
                <a:ahLst/>
                <a:rect l="l" t="t" r="r" b="b"/>
                <a:pathLst>
                  <a:path w="39" h="37">
                    <a:moveTo>
                      <a:pt x="39" y="0"/>
                    </a:moveTo>
                    <a:lnTo>
                      <a:pt x="0" y="18"/>
                    </a:lnTo>
                    <a:lnTo>
                      <a:pt x="39" y="37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130720" y="3554280"/>
                <a:ext cx="61920" cy="59040"/>
              </a:xfrm>
              <a:custGeom>
                <a:avLst/>
                <a:gdLst/>
                <a:ahLst/>
                <a:rect l="l" t="t" r="r" b="b"/>
                <a:pathLst>
                  <a:path w="39" h="37">
                    <a:moveTo>
                      <a:pt x="0" y="0"/>
                    </a:moveTo>
                    <a:lnTo>
                      <a:pt x="39" y="18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4579200" y="3386160"/>
                <a:ext cx="476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OMS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6186600" y="3386160"/>
              <a:ext cx="1373040" cy="227160"/>
              <a:chOff x="6186600" y="3386160"/>
              <a:chExt cx="1373040" cy="227160"/>
            </a:xfrm>
          </p:grpSpPr>
          <p:sp>
            <p:nvSpPr>
              <p:cNvPr id="1288" name=""/>
              <p:cNvSpPr/>
              <p:nvPr/>
            </p:nvSpPr>
            <p:spPr>
              <a:xfrm>
                <a:off x="6186600" y="3583080"/>
                <a:ext cx="1373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186600" y="3554280"/>
                <a:ext cx="60120" cy="5904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8" y="0"/>
                    </a:moveTo>
                    <a:lnTo>
                      <a:pt x="0" y="18"/>
                    </a:lnTo>
                    <a:lnTo>
                      <a:pt x="38" y="37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502400" y="3554280"/>
                <a:ext cx="57240" cy="5904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0" y="0"/>
                    </a:moveTo>
                    <a:lnTo>
                      <a:pt x="36" y="18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642720" y="3386160"/>
                <a:ext cx="476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OMS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2" name=""/>
          <p:cNvGrpSpPr/>
          <p:nvPr/>
        </p:nvGrpSpPr>
        <p:grpSpPr>
          <a:xfrm>
            <a:off x="1144440" y="2697120"/>
            <a:ext cx="7143840" cy="230400"/>
            <a:chOff x="1144440" y="2697120"/>
            <a:chExt cx="7143840" cy="230400"/>
          </a:xfrm>
        </p:grpSpPr>
        <p:sp>
          <p:nvSpPr>
            <p:cNvPr id="1293" name=""/>
            <p:cNvSpPr/>
            <p:nvPr/>
          </p:nvSpPr>
          <p:spPr>
            <a:xfrm>
              <a:off x="1144440" y="2894040"/>
              <a:ext cx="714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144440" y="2865600"/>
              <a:ext cx="60480" cy="619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8" y="0"/>
                  </a:moveTo>
                  <a:lnTo>
                    <a:pt x="0" y="18"/>
                  </a:lnTo>
                  <a:lnTo>
                    <a:pt x="38" y="39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226360" y="286560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0" y="0"/>
                  </a:moveTo>
                  <a:lnTo>
                    <a:pt x="39" y="18"/>
                  </a:lnTo>
                  <a:lnTo>
                    <a:pt x="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503960" y="2697120"/>
              <a:ext cx="522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STM-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1260360" y="2927520"/>
            <a:ext cx="6416640" cy="228600"/>
            <a:chOff x="1260360" y="2927520"/>
            <a:chExt cx="6416640" cy="228600"/>
          </a:xfrm>
        </p:grpSpPr>
        <p:sp>
          <p:nvSpPr>
            <p:cNvPr id="1298" name=""/>
            <p:cNvSpPr/>
            <p:nvPr/>
          </p:nvSpPr>
          <p:spPr>
            <a:xfrm>
              <a:off x="1260360" y="3124080"/>
              <a:ext cx="6416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260360" y="3095640"/>
              <a:ext cx="58680" cy="604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0"/>
                  </a:moveTo>
                  <a:lnTo>
                    <a:pt x="0" y="18"/>
                  </a:lnTo>
                  <a:lnTo>
                    <a:pt x="37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615080" y="309564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0"/>
                  </a:moveTo>
                  <a:lnTo>
                    <a:pt x="39" y="18"/>
                  </a:lnTo>
                  <a:lnTo>
                    <a:pt x="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275000" y="29275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OD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632120" y="29275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3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3" name=""/>
          <p:cNvSpPr/>
          <p:nvPr/>
        </p:nvSpPr>
        <p:spPr>
          <a:xfrm>
            <a:off x="5383080" y="3279600"/>
            <a:ext cx="1800" cy="685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186600" y="3505320"/>
            <a:ext cx="1440" cy="3855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302520" y="3735360"/>
            <a:ext cx="1440" cy="2300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35680" y="3735360"/>
            <a:ext cx="1800" cy="2300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913440" y="3735360"/>
            <a:ext cx="1800" cy="2300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446960" y="3735360"/>
            <a:ext cx="1440" cy="2300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559640" y="3505320"/>
            <a:ext cx="1800" cy="3855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144440" y="2820960"/>
            <a:ext cx="1800" cy="9144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60360" y="3049560"/>
            <a:ext cx="1800" cy="685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677000" y="3049560"/>
            <a:ext cx="1800" cy="10317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8288280" y="2820960"/>
            <a:ext cx="1800" cy="11048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599240" y="3279600"/>
            <a:ext cx="1800" cy="57168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8176680" y="44928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3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806040" y="418788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3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182600" y="3890880"/>
            <a:ext cx="155520" cy="155520"/>
          </a:xfrm>
          <a:prstGeom prst="rect">
            <a:avLst/>
          </a:pr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206720" y="3887640"/>
            <a:ext cx="17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8210520" y="4003560"/>
            <a:ext cx="730440" cy="384120"/>
          </a:xfrm>
          <a:prstGeom prst="rect">
            <a:avLst/>
          </a:prstGeom>
          <a:solidFill>
            <a:srgbClr val="40404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8368560" y="4041720"/>
            <a:ext cx="563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DX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1373040" y="3613320"/>
            <a:ext cx="492840" cy="228600"/>
            <a:chOff x="1373040" y="3613320"/>
            <a:chExt cx="492840" cy="228600"/>
          </a:xfrm>
        </p:grpSpPr>
        <p:sp>
          <p:nvSpPr>
            <p:cNvPr id="1322" name=""/>
            <p:cNvSpPr/>
            <p:nvPr/>
          </p:nvSpPr>
          <p:spPr>
            <a:xfrm>
              <a:off x="1373040" y="3813120"/>
              <a:ext cx="460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373040" y="3784680"/>
              <a:ext cx="61920" cy="5724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39" y="0"/>
                  </a:moveTo>
                  <a:lnTo>
                    <a:pt x="0" y="18"/>
                  </a:lnTo>
                  <a:lnTo>
                    <a:pt x="39" y="36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771560" y="3784680"/>
              <a:ext cx="61920" cy="5724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0" y="0"/>
                  </a:moveTo>
                  <a:lnTo>
                    <a:pt x="39" y="18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426320" y="361332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OPS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7754760" y="3613320"/>
            <a:ext cx="455760" cy="277560"/>
            <a:chOff x="7754760" y="3613320"/>
            <a:chExt cx="455760" cy="277560"/>
          </a:xfrm>
        </p:grpSpPr>
        <p:sp>
          <p:nvSpPr>
            <p:cNvPr id="1327" name=""/>
            <p:cNvSpPr/>
            <p:nvPr/>
          </p:nvSpPr>
          <p:spPr>
            <a:xfrm>
              <a:off x="7815600" y="3613320"/>
              <a:ext cx="339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OS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754760" y="3813120"/>
              <a:ext cx="455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754760" y="378468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0"/>
                  </a:moveTo>
                  <a:lnTo>
                    <a:pt x="0" y="18"/>
                  </a:lnTo>
                  <a:lnTo>
                    <a:pt x="36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8151840" y="378468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0"/>
                  </a:moveTo>
                  <a:lnTo>
                    <a:pt x="37" y="18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754760" y="3735360"/>
              <a:ext cx="1800" cy="1555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2" name=""/>
          <p:cNvSpPr/>
          <p:nvPr/>
        </p:nvSpPr>
        <p:spPr>
          <a:xfrm>
            <a:off x="8210520" y="3735360"/>
            <a:ext cx="1440" cy="2300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rot="16200000">
            <a:off x="1350720" y="414144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300" spc="-1" strike="noStrike">
                <a:solidFill>
                  <a:srgbClr val="000000"/>
                </a:solidFill>
                <a:latin typeface="Arial"/>
              </a:rPr>
              <a:t>OTM-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rot="16200000">
            <a:off x="2187360" y="4282920"/>
            <a:ext cx="52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300" spc="-1" strike="noStrike">
                <a:solidFill>
                  <a:srgbClr val="000000"/>
                </a:solidFill>
                <a:latin typeface="Arial"/>
              </a:rPr>
              <a:t>OTM-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rot="16200000">
            <a:off x="7726320" y="4360680"/>
            <a:ext cx="52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300" spc="-1" strike="noStrike">
                <a:solidFill>
                  <a:srgbClr val="000000"/>
                </a:solidFill>
                <a:latin typeface="Arial"/>
              </a:rPr>
              <a:t>STM-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497560" y="4568760"/>
            <a:ext cx="476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OCX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665160" y="3997440"/>
            <a:ext cx="62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OCAD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079360" y="3997440"/>
            <a:ext cx="20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727720" y="399744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55120" y="399744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424640" y="3997440"/>
            <a:ext cx="20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785960" y="4802040"/>
            <a:ext cx="2262240" cy="15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XC: Digital Cross-Conn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CADM: Optical Channel Add-Drop Multiplex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Ch: Optical Chann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CXC Optical Channel Cross-Conn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DUk: Optical Data Unit 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MSn: Optical Multiplex Section 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PSn: Optical Physical Section 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TM-n: Optical Transport Module 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TSn: Optical Transport Section 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TUk: Optical Transport Unit 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: Repe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3R: Reamplification, Reshaping &amp; Retim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M-N: Synchronous Transport Module 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3" name=""/>
          <p:cNvGrpSpPr/>
          <p:nvPr/>
        </p:nvGrpSpPr>
        <p:grpSpPr>
          <a:xfrm>
            <a:off x="1221120" y="3124080"/>
            <a:ext cx="6378120" cy="262080"/>
            <a:chOff x="1221120" y="3124080"/>
            <a:chExt cx="6378120" cy="262080"/>
          </a:xfrm>
        </p:grpSpPr>
        <p:grpSp>
          <p:nvGrpSpPr>
            <p:cNvPr id="1344" name=""/>
            <p:cNvGrpSpPr/>
            <p:nvPr/>
          </p:nvGrpSpPr>
          <p:grpSpPr>
            <a:xfrm>
              <a:off x="2023920" y="3156120"/>
              <a:ext cx="3208320" cy="230040"/>
              <a:chOff x="2023920" y="3156120"/>
              <a:chExt cx="3208320" cy="230040"/>
            </a:xfrm>
          </p:grpSpPr>
          <p:sp>
            <p:nvSpPr>
              <p:cNvPr id="1345" name=""/>
              <p:cNvSpPr/>
              <p:nvPr/>
            </p:nvSpPr>
            <p:spPr>
              <a:xfrm>
                <a:off x="2023920" y="3354480"/>
                <a:ext cx="32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2023920" y="33242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9" y="0"/>
                    </a:moveTo>
                    <a:lnTo>
                      <a:pt x="0" y="19"/>
                    </a:lnTo>
                    <a:lnTo>
                      <a:pt x="39" y="39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170320" y="33242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0" y="0"/>
                    </a:moveTo>
                    <a:lnTo>
                      <a:pt x="39" y="19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3198960" y="3156120"/>
                <a:ext cx="786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OCh, OT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3967200" y="31561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3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0" name=""/>
            <p:cNvGrpSpPr/>
            <p:nvPr/>
          </p:nvGrpSpPr>
          <p:grpSpPr>
            <a:xfrm>
              <a:off x="5383080" y="3156120"/>
              <a:ext cx="2216160" cy="230040"/>
              <a:chOff x="5383080" y="3156120"/>
              <a:chExt cx="2216160" cy="230040"/>
            </a:xfrm>
          </p:grpSpPr>
          <p:sp>
            <p:nvSpPr>
              <p:cNvPr id="1351" name=""/>
              <p:cNvSpPr/>
              <p:nvPr/>
            </p:nvSpPr>
            <p:spPr>
              <a:xfrm>
                <a:off x="5383080" y="3354480"/>
                <a:ext cx="221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383080" y="33242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9" y="0"/>
                    </a:moveTo>
                    <a:lnTo>
                      <a:pt x="0" y="19"/>
                    </a:lnTo>
                    <a:lnTo>
                      <a:pt x="39" y="39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540560" y="3324240"/>
                <a:ext cx="58680" cy="6192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0" y="0"/>
                    </a:moveTo>
                    <a:lnTo>
                      <a:pt x="37" y="19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026400" y="3156120"/>
                <a:ext cx="786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OCh, OT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792840" y="31561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3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6" name=""/>
            <p:cNvSpPr/>
            <p:nvPr/>
          </p:nvSpPr>
          <p:spPr>
            <a:xfrm>
              <a:off x="1295280" y="3352680"/>
              <a:ext cx="685800" cy="0"/>
            </a:xfrm>
            <a:prstGeom prst="line">
              <a:avLst/>
            </a:prstGeom>
            <a:ln w="0">
              <a:solidFill>
                <a:srgbClr val="000000"/>
              </a:solidFill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221120" y="3124080"/>
              <a:ext cx="87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OCh, OTU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TN Layer Trai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6278400" y="5970600"/>
            <a:ext cx="26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urtesy of Lucent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nitored Layer Sign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945800" y="1155240"/>
            <a:ext cx="6715080" cy="50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9320" indent="-22932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DUkP – ODUk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d-to-end connection in the OT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formance as perceived by the cli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s BIP-8 EDC, BDI and BE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DUkT – ODUk Tandem Conn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formance of part of a p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port service by a sub-contractor to S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TUk – Connection between 3R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-E-O co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pport of 3R regeneration sp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76480">
              <a:lnSpc>
                <a:spcPct val="11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s BIP-8 EDC and optional F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"/>
          <p:cNvSpPr/>
          <p:nvPr/>
        </p:nvSpPr>
        <p:spPr>
          <a:xfrm>
            <a:off x="8196120" y="1984320"/>
            <a:ext cx="0" cy="70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367000" y="2041560"/>
            <a:ext cx="0" cy="70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7588080" y="2743200"/>
            <a:ext cx="60804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367000" y="2743200"/>
            <a:ext cx="60948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945800" y="441360"/>
            <a:ext cx="67150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.24otn Network Reference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755800" y="3657600"/>
            <a:ext cx="483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Cloud"/>
          <p:cNvSpPr/>
          <p:nvPr/>
        </p:nvSpPr>
        <p:spPr>
          <a:xfrm>
            <a:off x="1758960" y="2335320"/>
            <a:ext cx="1217520" cy="815760"/>
          </a:xfrm>
          <a:prstGeom prst="pie">
            <a:avLst/>
          </a:prstGeom>
          <a:solidFill>
            <a:srgbClr val="ddee3e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modem"/>
          <p:cNvSpPr/>
          <p:nvPr/>
        </p:nvSpPr>
        <p:spPr>
          <a:xfrm>
            <a:off x="1916280" y="1596960"/>
            <a:ext cx="839520" cy="461880"/>
          </a:xfrm>
          <a:prstGeom prst="pie">
            <a:avLst/>
          </a:prstGeom>
          <a:solidFill>
            <a:srgbClr val="42db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Cloud"/>
          <p:cNvSpPr/>
          <p:nvPr/>
        </p:nvSpPr>
        <p:spPr>
          <a:xfrm>
            <a:off x="2367000" y="3249720"/>
            <a:ext cx="1217520" cy="815760"/>
          </a:xfrm>
          <a:prstGeom prst="pie">
            <a:avLst/>
          </a:prstGeom>
          <a:solidFill>
            <a:srgbClr val="79a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Cloud"/>
          <p:cNvSpPr/>
          <p:nvPr/>
        </p:nvSpPr>
        <p:spPr>
          <a:xfrm>
            <a:off x="3816360" y="3249720"/>
            <a:ext cx="1217520" cy="815760"/>
          </a:xfrm>
          <a:prstGeom prst="pie">
            <a:avLst/>
          </a:prstGeom>
          <a:solidFill>
            <a:srgbClr val="ff414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Cloud"/>
          <p:cNvSpPr/>
          <p:nvPr/>
        </p:nvSpPr>
        <p:spPr>
          <a:xfrm>
            <a:off x="5576760" y="3249720"/>
            <a:ext cx="1217880" cy="815760"/>
          </a:xfrm>
          <a:prstGeom prst="pie">
            <a:avLst/>
          </a:prstGeom>
          <a:solidFill>
            <a:srgbClr val="ff414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Cloud"/>
          <p:cNvSpPr/>
          <p:nvPr/>
        </p:nvSpPr>
        <p:spPr>
          <a:xfrm>
            <a:off x="6978600" y="3249720"/>
            <a:ext cx="1217520" cy="815760"/>
          </a:xfrm>
          <a:prstGeom prst="pie">
            <a:avLst/>
          </a:prstGeom>
          <a:solidFill>
            <a:srgbClr val="79a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Cloud"/>
          <p:cNvSpPr/>
          <p:nvPr/>
        </p:nvSpPr>
        <p:spPr>
          <a:xfrm>
            <a:off x="7588080" y="2335320"/>
            <a:ext cx="1217880" cy="815760"/>
          </a:xfrm>
          <a:prstGeom prst="pie">
            <a:avLst/>
          </a:prstGeom>
          <a:solidFill>
            <a:srgbClr val="ddee3e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modem"/>
          <p:cNvSpPr/>
          <p:nvPr/>
        </p:nvSpPr>
        <p:spPr>
          <a:xfrm>
            <a:off x="7775640" y="1579680"/>
            <a:ext cx="839880" cy="461880"/>
          </a:xfrm>
          <a:prstGeom prst="pie">
            <a:avLst/>
          </a:prstGeom>
          <a:solidFill>
            <a:srgbClr val="42db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062080" y="260496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891560" y="26049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772080" y="1596960"/>
            <a:ext cx="30574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D = Backbone Operator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D = Regional Operator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OD = Terminating Operator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892840" y="3519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671920" y="3519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283520" y="3519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116240" y="351936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846440" y="4484520"/>
            <a:ext cx="69166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DUk Hypothetical Reference Path (HRP)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 M km length path spanning six 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rror performance events – BBE and 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rror performance parameters – BBER and SE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te: ES and ESR not very useful since every second in high-speed systems may be errored before correction by F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814400" y="441360"/>
            <a:ext cx="69724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formance Evaluation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1814040" y="1600200"/>
            <a:ext cx="7023240" cy="41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ufacturing/qualification of OTN equi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fficient DWDM/SDH/SONET instal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ystem integration of OTN equi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missioning OTN systems and pa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ss to the optical domain in-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tecting optical signal degrad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ault location within the optical dom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re wavelength 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12:48:39Z</dcterms:created>
  <dc:creator>Peter Huckett</dc:creator>
  <dc:description/>
  <dc:language>en-US</dc:language>
  <cp:lastModifiedBy>UGALE, Arvin Carlos D.</cp:lastModifiedBy>
  <cp:lastPrinted>2001-02-15T20:28:07Z</cp:lastPrinted>
  <dcterms:modified xsi:type="dcterms:W3CDTF">2002-07-31T15:02:06Z</dcterms:modified>
  <cp:revision>158</cp:revision>
  <dc:subject>Presentation on Relating Optical Layer &amp; IP Client Performance, Chitose, Jul 02</dc:subject>
  <dc:title>Relating Optical Layer &amp; IP Client Performance</dc:title>
</cp:coreProperties>
</file>