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EC51-5D2E-4615-A7B8-CB4C7F2D0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0AA7-6D44-4E01-ADFB-9D3F01583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0B24-DE21-4D57-B625-CC762D1A0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9B9F-57C3-4FB0-BEBF-2248498FE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3899-9258-425C-9566-8392B99BC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D229-5BA1-41CA-851C-7C3BFFEE8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8462-D6FF-46C7-8EEF-C04955D1F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492C-733D-4927-BA81-9A002B5ED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5148-BC94-4EE4-B8C2-436754521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9991-ABFC-46AA-84D4-A0C744784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7C11-34CF-489E-9034-28C7EE7A8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AFC7-012E-4FF9-969A-49E6EB1AB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327320"/>
            <a:ext cx="845820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16080" y="6461280"/>
            <a:ext cx="133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ndards Engineer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rning Incorpora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7EDD-6582-447A-9FB3-22FC94A75E98}" type="slidenum">
              <a:rPr b="0" lang="en-US" sz="1000" spc="-1" strike="noStrike">
                <a:solidFill>
                  <a:srgbClr val="00004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WRGBrev" descr=""/>
          <p:cNvPicPr/>
          <p:nvPr/>
        </p:nvPicPr>
        <p:blipFill>
          <a:blip r:embed="rId3"/>
          <a:stretch/>
        </p:blipFill>
        <p:spPr>
          <a:xfrm>
            <a:off x="7904160" y="6461280"/>
            <a:ext cx="977760" cy="14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pic>
        <p:nvPicPr>
          <p:cNvPr id="43" name="RGBtagR" descr=""/>
          <p:cNvPicPr/>
          <p:nvPr/>
        </p:nvPicPr>
        <p:blipFill>
          <a:blip r:embed="rId3"/>
          <a:stretch/>
        </p:blipFill>
        <p:spPr>
          <a:xfrm>
            <a:off x="200160" y="5003640"/>
            <a:ext cx="2214360" cy="171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Highlights - ITU-T Question 17/15</a:t>
            </a:r>
            <a:br>
              <a:rPr sz="3600"/>
            </a:b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Optical Components and Subsystems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3700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m Matthews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ning Incor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Field of Work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cal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Recommendation G.67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mission Characteristics Of Optical Components And Sub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cal Sub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Recommendation G.661: Definition and test methods for the relevant generic parameters of optical amplifi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Recommendation G.662: Generic characteristics of optical amplifier devices and subsyste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Recommendation G.663: Application related aspects of optically amplified devices and sub-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Optical Component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 of Revised Draft Rec. G.671 Agreed May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iginally Passive 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sive / Active vs Point to Point / Network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w: ALL 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s and Terms (Tied to IEC SC86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 of Func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lues: Specific or SBA (Specified By Applica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Recommendation G.671 Device Types: 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79156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7000"/>
          </a:bodyPr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add/drop multiplexer (OADM) subsyste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ymmetric branching compon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attenua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branching component (wavelength non-selectiv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connecto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ynamic channel equaliser (D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fil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isola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sive (chromatic) dispersion compensato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spli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swit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termin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uneable fil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cal wavelength multiplexer (MUX) / demultiplexer (DMUX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arse WDM (CWDM) device, Dense WDM (DWDM) device, Wide WDM (WWDM) 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ITU-T Question 17/15 Highlights - Next Steps 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0160" y="1371240"/>
            <a:ext cx="89438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Work on Appendix II for Recommendation G.6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able 40 GB/s Appli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MD Requirements (Align to IEC Docum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 Rec. G.661 and G.66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as IEC 61291-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llaboration with IEC SC86C / WG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Supplement on Raman A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New Recommendation on PMD Compens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Next Meeting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ts Meeting - Santa Rosa, CA  USA  (7 October, 20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nex or Corrigenda to G.663 / Appendix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ress on Supplement on Raman Ampl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sible New Recommendation on PMD Compens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ture revisions of Recommendations G.661 and G.662 on Optical Amplifi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ITU-T Plenary - January 2003 (Genev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3T20:12:39Z</dcterms:created>
  <dc:creator>COF</dc:creator>
  <dc:description/>
  <dc:language>en-US</dc:language>
  <cp:lastModifiedBy>COF</cp:lastModifiedBy>
  <dcterms:modified xsi:type="dcterms:W3CDTF">2002-06-24T19:41:56Z</dcterms:modified>
  <cp:revision>7</cp:revision>
  <dc:subject/>
  <dc:title>ITU-T Question 17/15 Highlights - May 2002 </dc:title>
</cp:coreProperties>
</file>