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934200" cy="91836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97040" y="1981080"/>
            <a:ext cx="7765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97040" y="4130640"/>
            <a:ext cx="7765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97040" y="1981080"/>
            <a:ext cx="378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76480" y="1981080"/>
            <a:ext cx="378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97040" y="4130640"/>
            <a:ext cx="378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76480" y="4130640"/>
            <a:ext cx="378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97040" y="1981080"/>
            <a:ext cx="2500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22880" y="1981080"/>
            <a:ext cx="2500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49080" y="1981080"/>
            <a:ext cx="2500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97040" y="4130640"/>
            <a:ext cx="2500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22880" y="4130640"/>
            <a:ext cx="2500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49080" y="4130640"/>
            <a:ext cx="2500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97040" y="1981080"/>
            <a:ext cx="7765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97040" y="1981080"/>
            <a:ext cx="776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97040" y="1981080"/>
            <a:ext cx="378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76480" y="1981080"/>
            <a:ext cx="378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06040" y="609120"/>
            <a:ext cx="765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97040" y="1981080"/>
            <a:ext cx="378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76480" y="1981080"/>
            <a:ext cx="378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97040" y="4130640"/>
            <a:ext cx="378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97040" y="1981080"/>
            <a:ext cx="7765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97040" y="1981080"/>
            <a:ext cx="378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6480" y="1981080"/>
            <a:ext cx="378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76480" y="4130640"/>
            <a:ext cx="378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97040" y="1981080"/>
            <a:ext cx="378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76480" y="1981080"/>
            <a:ext cx="378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97040" y="4130640"/>
            <a:ext cx="7765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97040" y="1981080"/>
            <a:ext cx="7765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97040" y="4130640"/>
            <a:ext cx="7765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97040" y="1981080"/>
            <a:ext cx="378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76480" y="1981080"/>
            <a:ext cx="378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97040" y="4130640"/>
            <a:ext cx="378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76480" y="4130640"/>
            <a:ext cx="378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97040" y="1981080"/>
            <a:ext cx="2500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422880" y="1981080"/>
            <a:ext cx="2500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49080" y="1981080"/>
            <a:ext cx="2500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97040" y="4130640"/>
            <a:ext cx="2500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422880" y="4130640"/>
            <a:ext cx="2500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49080" y="4130640"/>
            <a:ext cx="2500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97040" y="1981080"/>
            <a:ext cx="776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97040" y="1981080"/>
            <a:ext cx="378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76480" y="1981080"/>
            <a:ext cx="378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06040" y="609120"/>
            <a:ext cx="765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97040" y="1981080"/>
            <a:ext cx="378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76480" y="1981080"/>
            <a:ext cx="378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97040" y="4130640"/>
            <a:ext cx="378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97040" y="1981080"/>
            <a:ext cx="378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6480" y="1981080"/>
            <a:ext cx="378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76480" y="4130640"/>
            <a:ext cx="378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97040" y="1981080"/>
            <a:ext cx="378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6480" y="1981080"/>
            <a:ext cx="378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97040" y="4130640"/>
            <a:ext cx="7765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rimary0516200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97040" y="1981080"/>
            <a:ext cx="776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786280" y="6453360"/>
            <a:ext cx="25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794556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99"/>
                </a:solidFill>
                <a:latin typeface="Arial"/>
              </a:rPr>
              <a:t>Session 5 – Protection and Restoration - </a:t>
            </a:r>
            <a:fld id="{0EE690D0-2901-42B3-8813-D6567C3775D0}" type="slidenum">
              <a:rPr b="0" lang="en-US" sz="9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rimary0516200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240" y="2285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15920" y="1666800"/>
            <a:ext cx="7639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0000"/>
                </a:solidFill>
                <a:latin typeface="Arial"/>
                <a:ea typeface="Times New Roman"/>
              </a:rPr>
              <a:t>Session 10</a:t>
            </a:r>
            <a:br>
              <a:rPr sz="3600"/>
            </a:br>
            <a:r>
              <a:rPr b="1" lang="en-GB" sz="3600" spc="-1" strike="noStrike">
                <a:solidFill>
                  <a:srgbClr val="990000"/>
                </a:solidFill>
                <a:latin typeface="Arial"/>
                <a:ea typeface="Times New Roman"/>
              </a:rPr>
              <a:t>Optical Switching and</a:t>
            </a:r>
            <a:r>
              <a:rPr b="1" lang="en-US" sz="3600" spc="-1" strike="noStrike">
                <a:solidFill>
                  <a:srgbClr val="990000"/>
                </a:solidFill>
                <a:latin typeface="Arial"/>
                <a:ea typeface="Times New Roman"/>
              </a:rPr>
              <a:t> </a:t>
            </a:r>
            <a:r>
              <a:rPr b="1" lang="en-GB" sz="3600" spc="-1" strike="noStrike">
                <a:solidFill>
                  <a:srgbClr val="990000"/>
                </a:solidFill>
                <a:latin typeface="Arial"/>
                <a:ea typeface="Times New Roman"/>
              </a:rPr>
              <a:t>Equipment</a:t>
            </a: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15920" y="3439800"/>
            <a:ext cx="708048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ssion Coordinator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. Bonaventura, Vice-Chairman, ITU-T SG 1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sociate Session Coordinator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. Betts, Rapporteur, ITU-T SG 1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e: 2002 07 1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Workshop Objective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96680" y="1981080"/>
            <a:ext cx="799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e a common vision among the participan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 additional issues for IP/Optical activities in the Groups involv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pose an action plan for the future activiti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Session agenda and format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30360" y="1947960"/>
            <a:ext cx="585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ation by each of the spea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9640" y="5707080"/>
            <a:ext cx="44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 driven discu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93520" y="3044880"/>
            <a:ext cx="498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G 15 Q.1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r. Michael Maye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89920" y="3452760"/>
            <a:ext cx="55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G 15 Q.1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r. Siva Sankaranarayan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89560" y="3860640"/>
            <a:ext cx="506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G 15 Q.11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r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ristophe Mathie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688480" y="4268880"/>
            <a:ext cx="471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G 15 Q.17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r. James Matthe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692080" y="4678200"/>
            <a:ext cx="431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EC SC 8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r. Rob John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6920" y="2430360"/>
            <a:ext cx="2636640" cy="3333960"/>
          </a:xfrm>
          <a:prstGeom prst="upDownArrow">
            <a:avLst>
              <a:gd name="adj1" fmla="val 86602"/>
              <a:gd name="adj2" fmla="val 3090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twork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6T19:07:05Z</dcterms:created>
  <dc:creator>Stephen Shew</dc:creator>
  <dc:description>SG15 IP/Optical Workshop
Chitose, Japan
2002/07/09</dc:description>
  <dc:language>en-US</dc:language>
  <cp:lastModifiedBy>Betts</cp:lastModifiedBy>
  <cp:lastPrinted>2000-04-17T20:06:35Z</cp:lastPrinted>
  <dcterms:modified xsi:type="dcterms:W3CDTF">2002-06-21T16:16:37Z</dcterms:modified>
  <cp:revision>120</cp:revision>
  <dc:subject>IP/Optical Workshop Session 2</dc:subject>
  <dc:title>ITU-T Solutions </dc:title>
</cp:coreProperties>
</file>