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9120" y="36468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08800" y="12189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120" y="36468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08800" y="36468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4520" y="12189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9920" y="12189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09120" y="36468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4520" y="36468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9920" y="36468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8800" y="12189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27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8800" y="12189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6468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8800" y="12189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08800" y="36468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8800" y="12189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120" y="36468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9120" y="36468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8800" y="12189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120" y="36468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08800" y="36468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4520" y="12189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19920" y="12189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9120" y="36468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4520" y="36468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19920" y="36468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2189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27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0" y="12189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6468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8800" y="12189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08800" y="36468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8800" y="12189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6468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fef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12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2" marL="1247760" indent="-228600">
              <a:spcBef>
                <a:spcPts val="451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10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10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37320" y="6400800"/>
            <a:ext cx="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37320" y="6400800"/>
            <a:ext cx="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90440" y="63784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A126-C9F8-47A1-9659-E592DB847913}" type="slidenum">
              <a:rPr b="1" i="1" lang="en-US" sz="1400" spc="-1" strike="noStrike">
                <a:solidFill>
                  <a:srgbClr val="fffbf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gradFill rotWithShape="0">
            <a:gsLst>
              <a:gs pos="0">
                <a:srgbClr val="e7e7fe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10121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1371600" y="6248520"/>
            <a:ext cx="1676520" cy="411120"/>
            <a:chOff x="1371600" y="6248520"/>
            <a:chExt cx="1676520" cy="411120"/>
          </a:xfrm>
        </p:grpSpPr>
        <p:pic>
          <p:nvPicPr>
            <p:cNvPr id="9" name="ALLBLACK" descr=""/>
            <p:cNvPicPr/>
            <p:nvPr/>
          </p:nvPicPr>
          <p:blipFill>
            <a:blip r:embed="rId2"/>
            <a:stretch/>
          </p:blipFill>
          <p:spPr>
            <a:xfrm>
              <a:off x="1386720" y="6248520"/>
              <a:ext cx="1661400" cy="40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ALLWHITE" descr=""/>
            <p:cNvPicPr/>
            <p:nvPr/>
          </p:nvPicPr>
          <p:blipFill>
            <a:blip r:embed="rId3"/>
            <a:srcRect l="39149" t="0" r="2851" b="0"/>
            <a:stretch/>
          </p:blipFill>
          <p:spPr>
            <a:xfrm>
              <a:off x="2021760" y="6252480"/>
              <a:ext cx="963720" cy="40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REDBLACK" descr=""/>
            <p:cNvPicPr/>
            <p:nvPr/>
          </p:nvPicPr>
          <p:blipFill>
            <a:blip r:embed="rId4"/>
            <a:srcRect l="0" t="0" r="62492" b="0"/>
            <a:stretch/>
          </p:blipFill>
          <p:spPr>
            <a:xfrm>
              <a:off x="1371600" y="6252480"/>
              <a:ext cx="623160" cy="40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"/>
          <p:cNvSpPr/>
          <p:nvPr/>
        </p:nvSpPr>
        <p:spPr>
          <a:xfrm>
            <a:off x="3470040" y="6477120"/>
            <a:ext cx="35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bfc"/>
                </a:solidFill>
                <a:latin typeface="Arial"/>
              </a:rPr>
              <a:t>Practical Issues In Managing Optical Networks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pic>
        <p:nvPicPr>
          <p:cNvPr id="13" name="logoTM" descr=""/>
          <p:cNvPicPr/>
          <p:nvPr/>
        </p:nvPicPr>
        <p:blipFill>
          <a:blip r:embed="rId5"/>
          <a:stretch/>
        </p:blipFill>
        <p:spPr>
          <a:xfrm>
            <a:off x="0" y="6324480"/>
            <a:ext cx="1295280" cy="5335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6"/>
          <a:stretch/>
        </p:blipFill>
        <p:spPr>
          <a:xfrm>
            <a:off x="8588520" y="5562720"/>
            <a:ext cx="5554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fef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37320" y="6400800"/>
            <a:ext cx="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37320" y="6400800"/>
            <a:ext cx="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0880" y="6445080"/>
            <a:ext cx="5335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gradFill rotWithShape="0">
            <a:gsLst>
              <a:gs pos="0">
                <a:srgbClr val="e7e7fe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10121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10121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590920" y="6095880"/>
            <a:ext cx="2514240" cy="714600"/>
            <a:chOff x="2590920" y="6095880"/>
            <a:chExt cx="2514240" cy="714600"/>
          </a:xfrm>
        </p:grpSpPr>
        <p:pic>
          <p:nvPicPr>
            <p:cNvPr id="59" name="ALLBLACK" descr=""/>
            <p:cNvPicPr/>
            <p:nvPr/>
          </p:nvPicPr>
          <p:blipFill>
            <a:blip r:embed="rId2"/>
            <a:stretch/>
          </p:blipFill>
          <p:spPr>
            <a:xfrm>
              <a:off x="2613600" y="6095880"/>
              <a:ext cx="249156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ALLWHITE" descr=""/>
            <p:cNvPicPr/>
            <p:nvPr/>
          </p:nvPicPr>
          <p:blipFill>
            <a:blip r:embed="rId3"/>
            <a:srcRect l="39149" t="0" r="2851" b="0"/>
            <a:stretch/>
          </p:blipFill>
          <p:spPr>
            <a:xfrm>
              <a:off x="3566160" y="6102720"/>
              <a:ext cx="144504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REDBLACK" descr=""/>
            <p:cNvPicPr/>
            <p:nvPr/>
          </p:nvPicPr>
          <p:blipFill>
            <a:blip r:embed="rId4"/>
            <a:srcRect l="0" t="0" r="62492" b="0"/>
            <a:stretch/>
          </p:blipFill>
          <p:spPr>
            <a:xfrm>
              <a:off x="2590920" y="6102720"/>
              <a:ext cx="934560" cy="70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logoTM" descr=""/>
          <p:cNvPicPr/>
          <p:nvPr/>
        </p:nvPicPr>
        <p:blipFill>
          <a:blip r:embed="rId5"/>
          <a:stretch/>
        </p:blipFill>
        <p:spPr>
          <a:xfrm>
            <a:off x="0" y="6095880"/>
            <a:ext cx="198108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8240760" y="4800600"/>
            <a:ext cx="903240" cy="99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539320" y="5791320"/>
            <a:ext cx="359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63de8"/>
                </a:solidFill>
                <a:latin typeface="Times New Roman"/>
              </a:rPr>
              <a:t>International Telecommunication Union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21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10121"/>
              </a:solidFill>
              <a:latin typeface="Arial"/>
            </a:endParaRPr>
          </a:p>
          <a:p>
            <a:pPr lvl="2" marL="914400" indent="104760" algn="ctr">
              <a:spcBef>
                <a:spcPts val="349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104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10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10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c0128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10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10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10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10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10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10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10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10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0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10121"/>
                </a:solidFill>
                <a:latin typeface="Times New Roman"/>
              </a:rPr>
              <a:t>Practical Issues In Managing Optical Networks</a:t>
            </a: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010121"/>
                </a:solidFill>
                <a:latin typeface="Times New Roman"/>
              </a:rPr>
              <a:t>by Wesam Alanqar and Tammy Ferris</a:t>
            </a:r>
            <a:br>
              <a:rPr sz="2400"/>
            </a:br>
            <a:br>
              <a:rPr sz="2800"/>
            </a:br>
            <a:endParaRPr b="1" i="1" lang="en-US" sz="24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4520" y="380988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TU-T Workshop IP/Optical (Chitose, Japan, 9-11 July 2002)</a:t>
            </a:r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46200" y="434340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8db1"/>
                </a:solidFill>
                <a:latin typeface="Times New Roman"/>
              </a:rPr>
              <a:t>Wesam.Alanqar@mail.sprint.com</a:t>
            </a:r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77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10121"/>
                </a:solidFill>
                <a:latin typeface="Times New Roman"/>
              </a:rPr>
              <a:t>Management System Integration</a:t>
            </a:r>
            <a:br>
              <a:rPr sz="4000"/>
            </a:br>
            <a:r>
              <a:rPr b="1" i="1" lang="en-US" sz="2800" spc="-1" strike="noStrike">
                <a:solidFill>
                  <a:srgbClr val="4d8db1"/>
                </a:solidFill>
                <a:latin typeface="Times New Roman"/>
              </a:rPr>
              <a:t>Additional Support Needed</a:t>
            </a:r>
            <a:endParaRPr b="1" i="1" lang="en-US" sz="28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Ethernet, OTN, &amp; Concatenated Services over Existing Network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90000"/>
              </a:lnSpc>
              <a:spcBef>
                <a:spcPts val="337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SONET/SDH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90000"/>
              </a:lnSpc>
              <a:spcBef>
                <a:spcPts val="337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Legacy DWDM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25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OTN Transport Networks &amp; Network Element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90000"/>
              </a:lnSpc>
              <a:spcBef>
                <a:spcPts val="337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Vendor Specific Network Elements 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90000"/>
              </a:lnSpc>
              <a:spcBef>
                <a:spcPts val="337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Vendor Specific Element Management System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90000"/>
              </a:lnSpc>
              <a:spcBef>
                <a:spcPts val="337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Vendor Specific and Vendor Independent Network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25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OTN Management DCN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90000"/>
              </a:lnSpc>
              <a:spcBef>
                <a:spcPts val="337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Connectivity Between OTN Element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90000"/>
              </a:lnSpc>
              <a:spcBef>
                <a:spcPts val="337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Connectivity For OTN Client Layer Element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25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ASON DCN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90000"/>
              </a:lnSpc>
              <a:spcBef>
                <a:spcPts val="337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Connectivity Between Control Element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25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Control Plane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90000"/>
              </a:lnSpc>
              <a:spcBef>
                <a:spcPts val="337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Vendor Specific Control Elements 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90000"/>
              </a:lnSpc>
              <a:spcBef>
                <a:spcPts val="337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Vendor Specific Control Element Management System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90000"/>
              </a:lnSpc>
              <a:spcBef>
                <a:spcPts val="337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Vendor Specific and Vendor Independent Network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121"/>
              </a:solidFill>
              <a:latin typeface="Arial"/>
            </a:endParaRPr>
          </a:p>
          <a:p>
            <a:pPr lvl="2" marL="1197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  <a:p>
            <a:pPr lvl="2" marL="1197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066680"/>
            <a:ext cx="9144000" cy="1143000"/>
          </a:xfrm>
          <a:prstGeom prst="parallelogram">
            <a:avLst>
              <a:gd name="adj" fmla="val -138186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343400"/>
            <a:ext cx="9144000" cy="1371600"/>
          </a:xfrm>
          <a:prstGeom prst="parallelogram">
            <a:avLst>
              <a:gd name="adj" fmla="val -115155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pic>
        <p:nvPicPr>
          <p:cNvPr id="193" name="Big_Cloud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335304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Big_Cloud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324840" cy="1067040"/>
          </a:xfrm>
          <a:prstGeom prst="rect">
            <a:avLst/>
          </a:prstGeom>
          <a:ln w="0">
            <a:noFill/>
          </a:ln>
        </p:spPr>
      </p:pic>
      <p:pic>
        <p:nvPicPr>
          <p:cNvPr id="195" name="Big_Cloud" descr=""/>
          <p:cNvPicPr/>
          <p:nvPr/>
        </p:nvPicPr>
        <p:blipFill>
          <a:blip r:embed="rId3"/>
          <a:stretch/>
        </p:blipFill>
        <p:spPr>
          <a:xfrm>
            <a:off x="4648320" y="4495680"/>
            <a:ext cx="3352680" cy="1143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77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10121"/>
                </a:solidFill>
                <a:latin typeface="Times New Roman"/>
              </a:rPr>
              <a:t>Management System Integration </a:t>
            </a:r>
            <a:br>
              <a:rPr sz="3600"/>
            </a:br>
            <a:r>
              <a:rPr b="1" i="1" lang="en-US" sz="3200" spc="-1" strike="noStrike">
                <a:solidFill>
                  <a:srgbClr val="4d8db1"/>
                </a:solidFill>
                <a:latin typeface="Times New Roman"/>
              </a:rPr>
              <a:t>With Control Plane</a:t>
            </a:r>
            <a:endParaRPr b="1" i="1" lang="en-US" sz="32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3276720"/>
            <a:ext cx="4952880" cy="914400"/>
          </a:xfrm>
          <a:prstGeom prst="parallelogram">
            <a:avLst>
              <a:gd name="adj" fmla="val 135413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990720"/>
            <a:ext cx="3276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104"/>
                </a:solidFill>
                <a:latin typeface="Times New Roman"/>
              </a:rPr>
              <a:t>OSS-Management Plane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99" name="Cloud"/>
          <p:cNvSpPr/>
          <p:nvPr/>
        </p:nvSpPr>
        <p:spPr>
          <a:xfrm>
            <a:off x="5029200" y="3352680"/>
            <a:ext cx="1523880" cy="47304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104"/>
                </a:solidFill>
                <a:latin typeface="Times New Roman"/>
              </a:rPr>
              <a:t>Control Domain2</a:t>
            </a:r>
            <a:endParaRPr b="0" lang="en-US" sz="13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00" name="Cloud"/>
          <p:cNvSpPr/>
          <p:nvPr/>
        </p:nvSpPr>
        <p:spPr>
          <a:xfrm>
            <a:off x="3276720" y="3368520"/>
            <a:ext cx="1523880" cy="473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104"/>
                </a:solidFill>
                <a:latin typeface="Times New Roman"/>
              </a:rPr>
              <a:t>Control </a:t>
            </a:r>
            <a:endParaRPr b="0" lang="en-US" sz="1300" spc="-1" strike="noStrike">
              <a:solidFill>
                <a:srgbClr val="000104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104"/>
                </a:solidFill>
                <a:latin typeface="Times New Roman"/>
              </a:rPr>
              <a:t>Domain1</a:t>
            </a:r>
            <a:endParaRPr b="0" lang="en-US" sz="13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20" y="571500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Times New Roman"/>
              </a:rPr>
              <a:t>EMF: Equipment Management Function        SNCr: SubNetwork Controller (Vendor Specific Control Elements,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Times New Roman"/>
              </a:rPr>
              <a:t>Managed through EMF)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273480" y="5105520"/>
            <a:ext cx="479520" cy="370080"/>
            <a:chOff x="3273480" y="5105520"/>
            <a:chExt cx="479520" cy="370080"/>
          </a:xfrm>
        </p:grpSpPr>
        <p:pic>
          <p:nvPicPr>
            <p:cNvPr id="203" name="icon_DCS_blu" descr=""/>
            <p:cNvPicPr/>
            <p:nvPr/>
          </p:nvPicPr>
          <p:blipFill>
            <a:blip r:embed="rId4"/>
            <a:srcRect l="16448" t="16224" r="0" b="0"/>
            <a:stretch/>
          </p:blipFill>
          <p:spPr>
            <a:xfrm>
              <a:off x="3273480" y="5105520"/>
              <a:ext cx="479520" cy="32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279600" y="5229360"/>
              <a:ext cx="4550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104"/>
                  </a:solidFill>
                  <a:latin typeface="Arial"/>
                </a:rPr>
                <a:t>OXC</a:t>
              </a:r>
              <a:endParaRPr b="0" lang="en-US" sz="1000" spc="-1" strike="noStrike">
                <a:solidFill>
                  <a:srgbClr val="000104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611440" y="5181480"/>
            <a:ext cx="687240" cy="15264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5194440"/>
            <a:ext cx="1067040" cy="15228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88160" y="4965840"/>
            <a:ext cx="152280" cy="15228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5516640"/>
            <a:ext cx="243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104"/>
                </a:solidFill>
                <a:latin typeface="Tahoma"/>
              </a:rPr>
              <a:t>OTN layer-Vendor domain 1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7640" y="48006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c0128"/>
                </a:solidFill>
                <a:latin typeface="Arial"/>
              </a:rPr>
              <a:t>EMF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209680" y="5105520"/>
            <a:ext cx="479520" cy="370080"/>
            <a:chOff x="2209680" y="5105520"/>
            <a:chExt cx="479520" cy="370080"/>
          </a:xfrm>
        </p:grpSpPr>
        <p:pic>
          <p:nvPicPr>
            <p:cNvPr id="211" name="icon_DCS_blu" descr=""/>
            <p:cNvPicPr/>
            <p:nvPr/>
          </p:nvPicPr>
          <p:blipFill>
            <a:blip r:embed="rId5"/>
            <a:srcRect l="16448" t="16224" r="0" b="0"/>
            <a:stretch/>
          </p:blipFill>
          <p:spPr>
            <a:xfrm>
              <a:off x="2209680" y="5105520"/>
              <a:ext cx="479520" cy="32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215800" y="5229360"/>
              <a:ext cx="4550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104"/>
                  </a:solidFill>
                  <a:latin typeface="Arial"/>
                </a:rPr>
                <a:t>OXC</a:t>
              </a:r>
              <a:endParaRPr b="0" lang="en-US" sz="1000" spc="-1" strike="noStrike">
                <a:solidFill>
                  <a:srgbClr val="000104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64080" y="5118120"/>
            <a:ext cx="479520" cy="370080"/>
            <a:chOff x="5464080" y="5118120"/>
            <a:chExt cx="479520" cy="370080"/>
          </a:xfrm>
        </p:grpSpPr>
        <p:pic>
          <p:nvPicPr>
            <p:cNvPr id="214" name="icon_DCS_blu" descr=""/>
            <p:cNvPicPr/>
            <p:nvPr/>
          </p:nvPicPr>
          <p:blipFill>
            <a:blip r:embed="rId6"/>
            <a:srcRect l="16448" t="16224" r="0" b="0"/>
            <a:stretch/>
          </p:blipFill>
          <p:spPr>
            <a:xfrm>
              <a:off x="5464080" y="5118120"/>
              <a:ext cx="479520" cy="32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470200" y="5241960"/>
              <a:ext cx="4550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104"/>
                  </a:solidFill>
                  <a:latin typeface="Arial"/>
                </a:rPr>
                <a:t>OXC</a:t>
              </a:r>
              <a:endParaRPr b="0" lang="en-US" sz="1000" spc="-1" strike="noStrike">
                <a:solidFill>
                  <a:srgbClr val="000104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912000" y="5118120"/>
            <a:ext cx="479520" cy="370080"/>
            <a:chOff x="6912000" y="5118120"/>
            <a:chExt cx="479520" cy="370080"/>
          </a:xfrm>
        </p:grpSpPr>
        <p:pic>
          <p:nvPicPr>
            <p:cNvPr id="217" name="icon_DCS_blu" descr=""/>
            <p:cNvPicPr/>
            <p:nvPr/>
          </p:nvPicPr>
          <p:blipFill>
            <a:blip r:embed="rId7"/>
            <a:srcRect l="16448" t="16224" r="0" b="0"/>
            <a:stretch/>
          </p:blipFill>
          <p:spPr>
            <a:xfrm>
              <a:off x="6912000" y="5118120"/>
              <a:ext cx="479520" cy="32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918120" y="5241960"/>
              <a:ext cx="4550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104"/>
                  </a:solidFill>
                  <a:latin typeface="Arial"/>
                </a:rPr>
                <a:t>OXC</a:t>
              </a:r>
              <a:endParaRPr b="0" lang="en-US" sz="1000" spc="-1" strike="noStrike">
                <a:solidFill>
                  <a:srgbClr val="000104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648320" y="5516640"/>
            <a:ext cx="243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104"/>
                </a:solidFill>
                <a:latin typeface="Tahoma"/>
              </a:rPr>
              <a:t>OTN layer-Vendor domain 2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4952880"/>
            <a:ext cx="152280" cy="15264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4952880"/>
            <a:ext cx="15264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4952880"/>
            <a:ext cx="152280" cy="15264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3200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05040" y="472428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c0128"/>
                </a:solidFill>
                <a:latin typeface="Arial"/>
              </a:rPr>
              <a:t>EMF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56840" y="47466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3de8"/>
                </a:solidFill>
                <a:latin typeface="Arial"/>
              </a:rPr>
              <a:t>SNCr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0400" y="4952880"/>
            <a:ext cx="152280" cy="15264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52800" y="48006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c0128"/>
                </a:solidFill>
                <a:latin typeface="Arial"/>
              </a:rPr>
              <a:t>EMF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67400" y="48006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c0128"/>
                </a:solidFill>
                <a:latin typeface="Arial"/>
              </a:rPr>
              <a:t>EMF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0240" y="475452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3de8"/>
                </a:solidFill>
                <a:latin typeface="Arial"/>
              </a:rPr>
              <a:t>SNCr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38120" y="47242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3de8"/>
                </a:solidFill>
                <a:latin typeface="Arial"/>
              </a:rPr>
              <a:t>SNCr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52520" y="464832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3de8"/>
                </a:solidFill>
                <a:latin typeface="Arial"/>
              </a:rPr>
              <a:t>SNCr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81360" y="6134040"/>
            <a:ext cx="40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Times New Roman"/>
              </a:rPr>
              <a:t>Not all interfaces are shown for simplicity</a:t>
            </a:r>
            <a:endParaRPr b="0" lang="en-US" sz="18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4600" y="2362320"/>
            <a:ext cx="4952880" cy="793800"/>
          </a:xfrm>
          <a:prstGeom prst="parallelogram">
            <a:avLst>
              <a:gd name="adj" fmla="val 155986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36" name="Cloud"/>
          <p:cNvSpPr/>
          <p:nvPr/>
        </p:nvSpPr>
        <p:spPr>
          <a:xfrm>
            <a:off x="3581280" y="2438280"/>
            <a:ext cx="2667240" cy="30492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104"/>
                </a:solidFill>
                <a:latin typeface="Times New Roman"/>
              </a:rPr>
              <a:t>Control  Domain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90920" y="1295280"/>
            <a:ext cx="1828800" cy="4572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104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104"/>
                </a:solidFill>
                <a:latin typeface="Arial"/>
              </a:rPr>
              <a:t>Vendor Specific Control Element  Management System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63640" y="1752480"/>
            <a:ext cx="3327480" cy="3200400"/>
          </a:xfrm>
          <a:custGeom>
            <a:avLst/>
            <a:gdLst/>
            <a:ahLst/>
            <a:rect l="l" t="t" r="r" b="b"/>
            <a:pathLst>
              <a:path w="2096" h="1920">
                <a:moveTo>
                  <a:pt x="1856" y="1920"/>
                </a:moveTo>
                <a:cubicBezTo>
                  <a:pt x="1924" y="1800"/>
                  <a:pt x="1992" y="1680"/>
                  <a:pt x="1808" y="1632"/>
                </a:cubicBezTo>
                <a:cubicBezTo>
                  <a:pt x="1624" y="1584"/>
                  <a:pt x="1016" y="1696"/>
                  <a:pt x="752" y="1632"/>
                </a:cubicBezTo>
                <a:cubicBezTo>
                  <a:pt x="488" y="1568"/>
                  <a:pt x="0" y="1520"/>
                  <a:pt x="224" y="1248"/>
                </a:cubicBezTo>
                <a:cubicBezTo>
                  <a:pt x="448" y="976"/>
                  <a:pt x="1272" y="488"/>
                  <a:pt x="2096" y="0"/>
                </a:cubicBezTo>
              </a:path>
            </a:pathLst>
          </a:custGeom>
          <a:noFill/>
          <a:ln w="28440">
            <a:solidFill>
              <a:srgbClr val="cc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743200" y="3733920"/>
            <a:ext cx="914400" cy="1295280"/>
          </a:xfrm>
          <a:prstGeom prst="line">
            <a:avLst/>
          </a:prstGeom>
          <a:ln w="28440">
            <a:solidFill>
              <a:srgbClr val="063de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352680" y="3809520"/>
            <a:ext cx="914400" cy="1143000"/>
          </a:xfrm>
          <a:prstGeom prst="line">
            <a:avLst/>
          </a:prstGeom>
          <a:ln w="28440">
            <a:solidFill>
              <a:srgbClr val="063de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1752480"/>
            <a:ext cx="2984400" cy="3200400"/>
          </a:xfrm>
          <a:custGeom>
            <a:avLst/>
            <a:gdLst/>
            <a:ahLst/>
            <a:rect l="l" t="t" r="r" b="b"/>
            <a:pathLst>
              <a:path w="1832" h="1920">
                <a:moveTo>
                  <a:pt x="0" y="1920"/>
                </a:moveTo>
                <a:cubicBezTo>
                  <a:pt x="860" y="1552"/>
                  <a:pt x="1720" y="1184"/>
                  <a:pt x="1776" y="864"/>
                </a:cubicBezTo>
                <a:cubicBezTo>
                  <a:pt x="1832" y="544"/>
                  <a:pt x="1084" y="272"/>
                  <a:pt x="336" y="0"/>
                </a:cubicBezTo>
              </a:path>
            </a:pathLst>
          </a:custGeom>
          <a:noFill/>
          <a:ln w="28440">
            <a:solidFill>
              <a:srgbClr val="cc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91320" y="1523880"/>
            <a:ext cx="3441600" cy="3505320"/>
          </a:xfrm>
          <a:custGeom>
            <a:avLst/>
            <a:gdLst/>
            <a:ahLst/>
            <a:rect l="l" t="t" r="r" b="b"/>
            <a:pathLst>
              <a:path w="2072" h="2208">
                <a:moveTo>
                  <a:pt x="912" y="2208"/>
                </a:moveTo>
                <a:cubicBezTo>
                  <a:pt x="1492" y="1720"/>
                  <a:pt x="2072" y="1232"/>
                  <a:pt x="1920" y="864"/>
                </a:cubicBezTo>
                <a:cubicBezTo>
                  <a:pt x="1768" y="496"/>
                  <a:pt x="884" y="248"/>
                  <a:pt x="0" y="0"/>
                </a:cubicBezTo>
              </a:path>
            </a:pathLst>
          </a:custGeom>
          <a:noFill/>
          <a:ln w="28440">
            <a:solidFill>
              <a:srgbClr val="cc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562720" y="3809520"/>
            <a:ext cx="380880" cy="1143000"/>
          </a:xfrm>
          <a:prstGeom prst="line">
            <a:avLst/>
          </a:prstGeom>
          <a:ln w="28440">
            <a:solidFill>
              <a:srgbClr val="063de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6095520" y="3809520"/>
            <a:ext cx="838440" cy="1143000"/>
          </a:xfrm>
          <a:prstGeom prst="line">
            <a:avLst/>
          </a:prstGeom>
          <a:ln w="28440">
            <a:solidFill>
              <a:srgbClr val="063de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0600" y="2133720"/>
            <a:ext cx="0" cy="30456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2057400"/>
            <a:ext cx="1905120" cy="1498680"/>
          </a:xfrm>
          <a:custGeom>
            <a:avLst/>
            <a:gdLst/>
            <a:ahLst/>
            <a:rect l="l" t="t" r="r" b="b"/>
            <a:pathLst>
              <a:path w="1176" h="1040">
                <a:moveTo>
                  <a:pt x="456" y="1008"/>
                </a:moveTo>
                <a:cubicBezTo>
                  <a:pt x="252" y="1024"/>
                  <a:pt x="48" y="1040"/>
                  <a:pt x="24" y="960"/>
                </a:cubicBezTo>
                <a:cubicBezTo>
                  <a:pt x="0" y="880"/>
                  <a:pt x="120" y="688"/>
                  <a:pt x="312" y="528"/>
                </a:cubicBezTo>
                <a:cubicBezTo>
                  <a:pt x="504" y="368"/>
                  <a:pt x="840" y="184"/>
                  <a:pt x="1176" y="0"/>
                </a:cubicBezTo>
              </a:path>
            </a:pathLst>
          </a:custGeom>
          <a:noFill/>
          <a:ln w="28440">
            <a:solidFill>
              <a:srgbClr val="000104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1981080"/>
            <a:ext cx="1676160" cy="1524240"/>
          </a:xfrm>
          <a:custGeom>
            <a:avLst/>
            <a:gdLst/>
            <a:ahLst/>
            <a:rect l="l" t="t" r="r" b="b"/>
            <a:pathLst>
              <a:path w="1160" h="1008">
                <a:moveTo>
                  <a:pt x="624" y="1008"/>
                </a:moveTo>
                <a:cubicBezTo>
                  <a:pt x="892" y="996"/>
                  <a:pt x="1160" y="984"/>
                  <a:pt x="1056" y="816"/>
                </a:cubicBezTo>
                <a:cubicBezTo>
                  <a:pt x="952" y="648"/>
                  <a:pt x="476" y="324"/>
                  <a:pt x="0" y="0"/>
                </a:cubicBezTo>
              </a:path>
            </a:pathLst>
          </a:custGeom>
          <a:noFill/>
          <a:ln w="28440">
            <a:solidFill>
              <a:srgbClr val="000104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5562360" y="2666520"/>
            <a:ext cx="228600" cy="685800"/>
          </a:xfrm>
          <a:prstGeom prst="line">
            <a:avLst/>
          </a:prstGeom>
          <a:ln w="28440">
            <a:solidFill>
              <a:srgbClr val="078f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962520" y="2742840"/>
            <a:ext cx="228600" cy="609480"/>
          </a:xfrm>
          <a:prstGeom prst="line">
            <a:avLst/>
          </a:prstGeom>
          <a:ln w="28440">
            <a:solidFill>
              <a:srgbClr val="078f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5800" y="3932280"/>
            <a:ext cx="206604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104"/>
                </a:solidFill>
                <a:latin typeface="Arial"/>
              </a:rPr>
              <a:t>Vendor Specific Networks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1295280"/>
            <a:ext cx="1828800" cy="4572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104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104"/>
                </a:solidFill>
                <a:latin typeface="Arial"/>
              </a:rPr>
              <a:t>Vendor Specific Control Element  Management System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480" y="1752480"/>
            <a:ext cx="2781000" cy="3276720"/>
          </a:xfrm>
          <a:custGeom>
            <a:avLst/>
            <a:gdLst/>
            <a:ahLst/>
            <a:rect l="l" t="t" r="r" b="b"/>
            <a:pathLst>
              <a:path w="1752" h="2064">
                <a:moveTo>
                  <a:pt x="1368" y="2064"/>
                </a:moveTo>
                <a:cubicBezTo>
                  <a:pt x="852" y="1964"/>
                  <a:pt x="336" y="1864"/>
                  <a:pt x="168" y="1680"/>
                </a:cubicBezTo>
                <a:cubicBezTo>
                  <a:pt x="0" y="1496"/>
                  <a:pt x="96" y="1240"/>
                  <a:pt x="360" y="960"/>
                </a:cubicBezTo>
                <a:cubicBezTo>
                  <a:pt x="624" y="680"/>
                  <a:pt x="1188" y="340"/>
                  <a:pt x="1752" y="0"/>
                </a:cubicBezTo>
              </a:path>
            </a:pathLst>
          </a:custGeom>
          <a:noFill/>
          <a:ln w="28440">
            <a:solidFill>
              <a:srgbClr val="cc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8040" y="1905120"/>
            <a:ext cx="201564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104"/>
                </a:solidFill>
                <a:latin typeface="Arial"/>
              </a:rPr>
              <a:t>Management Plane Layer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07880" y="2849400"/>
            <a:ext cx="23007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104"/>
                </a:solidFill>
                <a:latin typeface="Arial"/>
              </a:rPr>
              <a:t>Vendor Independent Network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77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10121"/>
                </a:solidFill>
                <a:latin typeface="Times New Roman"/>
              </a:rPr>
              <a:t>Management System Integration</a:t>
            </a:r>
            <a:br>
              <a:rPr sz="4000"/>
            </a:br>
            <a:r>
              <a:rPr b="1" i="1" lang="en-US" sz="2800" spc="-1" strike="noStrike">
                <a:solidFill>
                  <a:srgbClr val="4d8db1"/>
                </a:solidFill>
                <a:latin typeface="Times New Roman"/>
              </a:rPr>
              <a:t>New Services Maintenance Issues</a:t>
            </a:r>
            <a:endParaRPr b="1" i="1" lang="en-US" sz="28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Monitoring Concatenated Services &amp; ASON Service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2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Correlation between Connection(s) and the Service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2" marL="1247760" indent="-228600">
              <a:lnSpc>
                <a:spcPct val="12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Concatenated services have multiple connections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lvl="2" marL="1247760" indent="-228600">
              <a:lnSpc>
                <a:spcPct val="12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ASON services have dynamic relationship between connections and services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Fault Isolation for ASON Service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2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Isolating Faults with Connections based on Trouble Ticket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2" marL="1247760" indent="-228600">
              <a:lnSpc>
                <a:spcPct val="12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Associations between calls and connections are dynamic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77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10121"/>
                </a:solidFill>
                <a:latin typeface="Times New Roman"/>
              </a:rPr>
              <a:t>Management System Integration</a:t>
            </a:r>
            <a:br>
              <a:rPr sz="4000"/>
            </a:br>
            <a:r>
              <a:rPr b="1" i="1" lang="en-US" sz="2800" spc="-1" strike="noStrike">
                <a:solidFill>
                  <a:srgbClr val="4d8db1"/>
                </a:solidFill>
                <a:latin typeface="Times New Roman"/>
              </a:rPr>
              <a:t>New Services Policy Issues</a:t>
            </a:r>
            <a:endParaRPr b="1" i="1" lang="en-US" sz="28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65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Coordinating Service Requests from Multiple Source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65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Sourc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2" marL="1197720" indent="-219240">
              <a:lnSpc>
                <a:spcPct val="75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104"/>
                </a:solidFill>
                <a:latin typeface="Wingdings"/>
                <a:ea typeface="Wingdings"/>
              </a:rPr>
              <a:t></a:t>
            </a:r>
            <a:r>
              <a:rPr b="0" lang="en-US" sz="1600" spc="-1" strike="noStrike">
                <a:solidFill>
                  <a:srgbClr val="000104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104"/>
                </a:solidFill>
                <a:latin typeface="Times New Roman"/>
              </a:rPr>
              <a:t>- </a:t>
            </a: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Phone call from customer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lvl="2" marL="1197720" indent="-219240">
              <a:lnSpc>
                <a:spcPct val="75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104"/>
                </a:solidFill>
                <a:latin typeface="Wingdings"/>
                <a:ea typeface="Wingdings"/>
              </a:rPr>
              <a:t></a:t>
            </a:r>
            <a:r>
              <a:rPr b="0" lang="en-US" sz="1600" spc="-1" strike="noStrike">
                <a:solidFill>
                  <a:srgbClr val="00010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104"/>
                </a:solidFill>
                <a:latin typeface="Arial"/>
              </a:rPr>
              <a:t>- </a:t>
            </a: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CNM interface via web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lvl="2" marL="1197720" indent="-219240">
              <a:lnSpc>
                <a:spcPct val="75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104"/>
                </a:solidFill>
                <a:latin typeface="Webdings"/>
                <a:ea typeface="Webdings"/>
              </a:rPr>
              <a:t></a:t>
            </a:r>
            <a:r>
              <a:rPr b="0" lang="en-US" sz="1600" spc="-1" strike="noStrike">
                <a:solidFill>
                  <a:srgbClr val="000104"/>
                </a:solidFill>
                <a:latin typeface="Arial"/>
              </a:rPr>
              <a:t>- </a:t>
            </a: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Service contract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lvl="2" marL="1197720" indent="-219240">
              <a:lnSpc>
                <a:spcPct val="75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104"/>
                </a:solidFill>
                <a:latin typeface="Webdings"/>
                <a:ea typeface="Webdings"/>
              </a:rPr>
              <a:t></a:t>
            </a:r>
            <a:r>
              <a:rPr b="0" lang="en-US" sz="1600" spc="-1" strike="noStrike">
                <a:solidFill>
                  <a:srgbClr val="000104"/>
                </a:solidFill>
                <a:latin typeface="Arial"/>
              </a:rPr>
              <a:t>- </a:t>
            </a: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Internal work order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lvl="2" marL="1197720" indent="-219240">
              <a:lnSpc>
                <a:spcPct val="9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UNI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lvl="1" marL="868680" indent="-42984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Policy Issues Exampl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2" marL="1197720" indent="-219240">
              <a:lnSpc>
                <a:spcPct val="75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If UNI, does this imply customer cannot also request connections  or releases of connections via phone call or CNM interface?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lvl="2" marL="1197720" indent="-219240">
              <a:lnSpc>
                <a:spcPct val="75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If UNI is not used to set up a connection can UNI be used to request the release of the connection?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marL="329040" indent="-329040">
              <a:lnSpc>
                <a:spcPct val="95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Use of GCC1 &amp; 2 (General Communications Channel) for OTN Service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75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Clear Channel for Customer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85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Interface for Requesting Service (e.g. CNM interface or UNI)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85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Transport for Management Plane Messages between Management Systems and ODU Terminating or Monitoring Devic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Use of TCM (Tandem Connection Monitoring) Levels for OTN Service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85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TCM Level Agreement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75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Adequate Enforcement to Prevent Others Use of Agreed Level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77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10121"/>
                </a:solidFill>
                <a:latin typeface="Times New Roman"/>
              </a:rPr>
              <a:t>Management System Integration</a:t>
            </a:r>
            <a:br>
              <a:rPr sz="4000"/>
            </a:br>
            <a:r>
              <a:rPr b="1" i="1" lang="en-US" sz="2800" spc="-1" strike="noStrike">
                <a:solidFill>
                  <a:srgbClr val="4d8db1"/>
                </a:solidFill>
                <a:latin typeface="Times New Roman"/>
              </a:rPr>
              <a:t>ASON Issues</a:t>
            </a:r>
            <a:endParaRPr b="1" i="1" lang="en-US" sz="28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Management Plane and Control Plane DCN Independence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10000"/>
              </a:lnSpc>
              <a:spcBef>
                <a:spcPts val="1012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Management Plane DCN Topology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2" marL="1247760" indent="-228600">
              <a:lnSpc>
                <a:spcPct val="11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Typically single management system talking to many NE (and now also CE (Control plane Element), if separate from NE)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lvl="2" marL="1247760" indent="-228600">
              <a:lnSpc>
                <a:spcPct val="11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Cascaded/hierarchical paths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lvl="1" marL="905040" indent="-447840">
              <a:lnSpc>
                <a:spcPct val="110000"/>
              </a:lnSpc>
              <a:spcBef>
                <a:spcPts val="1012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Control Plane DCN Topology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2" marL="1247760" indent="-228600">
              <a:lnSpc>
                <a:spcPct val="11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May require many paths from CE (if communication with many CE)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Bridge-n-Roll for Unprotected &amp; Restored Connections in ASON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1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In-service Moves for Maintenance Activiti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(Re)Grooming in ASON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1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In Response to Architectural Changes in Optical Network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1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To Optimize Existing Connection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Interoperability Between Multi-vendor Control Plane Interface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10000"/>
              </a:lnSpc>
              <a:spcBef>
                <a:spcPts val="1012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Interfaces Between Control Plane Entiti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77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10121"/>
                </a:solidFill>
                <a:latin typeface="Times New Roman"/>
              </a:rPr>
              <a:t>Management System Integration</a:t>
            </a:r>
            <a:br>
              <a:rPr sz="4000"/>
            </a:br>
            <a:r>
              <a:rPr b="1" i="1" lang="en-US" sz="2800" spc="-1" strike="noStrike">
                <a:solidFill>
                  <a:srgbClr val="4d8db1"/>
                </a:solidFill>
                <a:latin typeface="Times New Roman"/>
              </a:rPr>
              <a:t>Management Application Issues</a:t>
            </a:r>
            <a:endParaRPr b="1" i="1" lang="en-US" sz="28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Integration with Control Plane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Data Replication between Management Plane and Control Plane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Resolution/Correlation of Multiple “Names” for a Resource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2" marL="1247760" indent="-228600">
              <a:lnSpc>
                <a:spcPct val="10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Name used by control plane (e.g. local addresses and global addresses)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lvl="2" marL="1247760" indent="-228600">
              <a:lnSpc>
                <a:spcPct val="10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Name used by management plane (e.g. Local Distinguished Name, Label)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lvl="1" marL="905040" indent="-447840"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Function Allocations between Control Plane and Management Plane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Partitioning Resource Control Among Control Plane &amp; Management Plane Instanc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Interfaces Between Management Plane and Control Plane Entiti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Harmonization of Demands &amp; Capacity at Each Transport Layer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Dynamic Identification of Services Available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2" marL="1247760" indent="-228600">
              <a:lnSpc>
                <a:spcPct val="8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Reachability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lvl="2" marL="1247760" indent="-228600">
              <a:lnSpc>
                <a:spcPct val="8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Service parameters (such as service type, resiliency, QOS)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lvl="1" marL="905040" indent="-447840"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Dynamic Identification of Demand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2" marL="1247760" indent="-228600">
              <a:lnSpc>
                <a:spcPct val="10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Usage, call requests, and call blocks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lvl="1" marL="905040" indent="-447840"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Dynamic Identification of Capacity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2" marL="1247760" indent="-228600">
              <a:lnSpc>
                <a:spcPct val="10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Capacity (available, used, or under maintenance)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121"/>
                </a:solidFill>
                <a:latin typeface="Times New Roman"/>
              </a:rPr>
              <a:t>Summary and Recommendations</a:t>
            </a:r>
            <a:endParaRPr b="1" i="1" lang="en-US" sz="40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104"/>
                </a:solidFill>
                <a:latin typeface="Arial"/>
              </a:rPr>
              <a:t>There are many optical service types and multiple optical network transport architectures that need management support.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104"/>
                </a:solidFill>
                <a:latin typeface="Arial"/>
              </a:rPr>
              <a:t>There are many issues to be resolved in migrating to the OTN and ASON.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104"/>
                </a:solidFill>
                <a:latin typeface="Arial"/>
              </a:rPr>
              <a:t>There is a need for migration strategies and integration strategies for inter-working with existing environments.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Some issues potentially resolved by further standards work: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895680" indent="-44316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Monitoring Concatenated Services &amp; ASON Servic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95680" indent="-44316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Fault Isolation for ASON Servic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95680" indent="-44316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Bridge-N-Roll for Unprotected &amp; Restored Connections in ASON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95680" indent="-44316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(Re)Grooming in ASON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95680" indent="-44316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Data Replication between Management Plane and Control Plane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95680" indent="-44316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Resolution/Correlation of Multiple “Names” for a Resource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95680" indent="-44316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Function Allocations between Control Plane and Management Plane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95680" indent="-44316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Partitioning Resource Control Among Control Plane &amp; Management Plane Instanc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95680" indent="-44316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Interfaces Between Management Plane and Control Plane Entiti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95680" indent="-44316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Harmonization of Demands &amp; Capacity at Each Transport Layer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757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10121"/>
                </a:solidFill>
                <a:latin typeface="Times New Roman"/>
              </a:rPr>
              <a:t>Abstract</a:t>
            </a:r>
            <a:endParaRPr b="1" i="1" lang="en-US" sz="60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104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104"/>
                </a:solidFill>
                <a:latin typeface="Antique Olive"/>
              </a:rPr>
              <a:t>This paper discusses practical issues with respect to optical network management from a network and service provider perspective.  It provides a background for the optical network by describing optical network services and optical network transport architecture then discusses management issues service and network providers face in deploying such networks.</a:t>
            </a:r>
            <a:r>
              <a:rPr b="0" lang="en-US" sz="1800" spc="-1" strike="noStrike">
                <a:solidFill>
                  <a:srgbClr val="000104"/>
                </a:solidFill>
                <a:latin typeface="Antique Olive"/>
              </a:rPr>
              <a:t> 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757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10121"/>
                </a:solidFill>
                <a:latin typeface="Times New Roman"/>
              </a:rPr>
              <a:t>Overview</a:t>
            </a:r>
            <a:endParaRPr b="1" i="1" lang="en-US" sz="60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Optical Network Service Type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874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Optical Network Transport Architecture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874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Optical Network Deployment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5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Transition to OTN Transport Network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5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Transition to Switched Connections 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5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Management System Integration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874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Summary and Recommendation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121"/>
                </a:solidFill>
                <a:latin typeface="Times New Roman"/>
              </a:rPr>
              <a:t>Optical Network Service Types</a:t>
            </a:r>
            <a:endParaRPr b="1" i="1" lang="en-US" sz="40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OTN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ODU1 (i.e. 2.5 Gbps), ODU2 (i.e. 10  Gbps)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When Fully Standardized, ODU3 (i.e. 40  Gbps)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SONET/SDH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VT1.5 SPE/VC-11, VT2 SPE/VC-12, VT3 SPE,VT6 SPE/VC-2,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STS-1  SPE/VC-3,STS-3c SPE/VC-4,STS-12c SPE/VC-4-4c , 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STS-48c SPE/VC-4-16c, STS-192c SPE/VC-4-64c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Subrate Servic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Transparent Servic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Gigabit Ethernet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1 Gig, 10 Gig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10Gig WAN Transparent Service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2" marL="1247760" indent="-228600">
              <a:lnSpc>
                <a:spcPct val="9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</a:rPr>
              <a:t>Transparency via adaptation into ODUk (&amp; SONET/SDH when fully standardized)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Additionally Impact Service Type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Agreements (e.g., QoS, Protection / Restoration, Connection Monitoring)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UNI Signaling and Constraints 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Virtual Concatenation (E.g., VC-n-Xv (n=11,12,3,4), ODUk-Xv)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10121"/>
                </a:solidFill>
                <a:latin typeface="Times New Roman"/>
              </a:rPr>
              <a:t>Optical Network Transport Architecture</a:t>
            </a:r>
            <a:endParaRPr b="1" i="1" lang="en-US" sz="38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Standardized Layered Transport Network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SONET/SDH Services over OTN Network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OTN Services over OTN and SONET/SDH Network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Ethernet Services over OTN and SONET/SDH Network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Legacy Pre-OTN DWDM Transport Network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121"/>
                </a:solidFill>
                <a:latin typeface="Arial"/>
              </a:rPr>
              <a:t>Client Signal (e.g. STM-N, GbE) Direct on Wavelength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No Fabric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Point to Point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DCN Networks for Transport of Management Plane Message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Transport Network Overhead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Additional External Network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DCN Networks for Transport of Control Plane Message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Transport Network Payload Channel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Transport Network Overhead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Additional External Network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962520"/>
            <a:ext cx="9144000" cy="1752480"/>
          </a:xfrm>
          <a:prstGeom prst="parallelogram">
            <a:avLst>
              <a:gd name="adj" fmla="val -90128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pic>
        <p:nvPicPr>
          <p:cNvPr id="114" name="Big_Cloud" descr=""/>
          <p:cNvPicPr/>
          <p:nvPr/>
        </p:nvPicPr>
        <p:blipFill>
          <a:blip r:embed="rId1"/>
          <a:stretch/>
        </p:blipFill>
        <p:spPr>
          <a:xfrm>
            <a:off x="4648320" y="3886200"/>
            <a:ext cx="3352680" cy="1752480"/>
          </a:xfrm>
          <a:prstGeom prst="rect">
            <a:avLst/>
          </a:prstGeom>
          <a:ln w="0">
            <a:noFill/>
          </a:ln>
        </p:spPr>
      </p:pic>
      <p:pic>
        <p:nvPicPr>
          <p:cNvPr id="115" name="Big_Cloud" descr=""/>
          <p:cNvPicPr/>
          <p:nvPr/>
        </p:nvPicPr>
        <p:blipFill>
          <a:blip r:embed="rId2"/>
          <a:stretch/>
        </p:blipFill>
        <p:spPr>
          <a:xfrm>
            <a:off x="1295280" y="3886200"/>
            <a:ext cx="3353040" cy="1752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77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10121"/>
                </a:solidFill>
                <a:latin typeface="Times New Roman"/>
              </a:rPr>
              <a:t>Optical Network Transport Architecture</a:t>
            </a:r>
            <a:br>
              <a:rPr sz="3600"/>
            </a:br>
            <a:r>
              <a:rPr b="1" i="1" lang="en-US" sz="3200" spc="-1" strike="noStrike">
                <a:solidFill>
                  <a:srgbClr val="4d8db1"/>
                </a:solidFill>
                <a:latin typeface="Times New Roman"/>
              </a:rPr>
              <a:t>DCN Networks</a:t>
            </a:r>
            <a:endParaRPr b="1" i="1" lang="en-US" sz="32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1219320"/>
            <a:ext cx="4952880" cy="1098360"/>
          </a:xfrm>
          <a:prstGeom prst="parallelogram">
            <a:avLst>
              <a:gd name="adj" fmla="val 112734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19320"/>
            <a:ext cx="4952880" cy="1098360"/>
          </a:xfrm>
          <a:prstGeom prst="parallelogram">
            <a:avLst>
              <a:gd name="adj" fmla="val 112734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pic>
        <p:nvPicPr>
          <p:cNvPr id="119" name="Big_Cloud" descr=""/>
          <p:cNvPicPr/>
          <p:nvPr/>
        </p:nvPicPr>
        <p:blipFill>
          <a:blip r:embed="rId3"/>
          <a:stretch/>
        </p:blipFill>
        <p:spPr>
          <a:xfrm>
            <a:off x="990720" y="1295280"/>
            <a:ext cx="3352680" cy="533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90720" y="1295280"/>
            <a:ext cx="3276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104"/>
                </a:solidFill>
                <a:latin typeface="Times New Roman"/>
              </a:rPr>
              <a:t>OSS-Management Plane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104"/>
                </a:solidFill>
                <a:latin typeface="Times New Roman"/>
              </a:rPr>
              <a:t>Administrative Area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21" name="Cloud"/>
          <p:cNvSpPr/>
          <p:nvPr/>
        </p:nvSpPr>
        <p:spPr>
          <a:xfrm>
            <a:off x="6934320" y="1355760"/>
            <a:ext cx="1295280" cy="47304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104"/>
                </a:solidFill>
                <a:latin typeface="Times New Roman"/>
              </a:rPr>
              <a:t>Control </a:t>
            </a:r>
            <a:endParaRPr b="0" lang="en-US" sz="1300" spc="-1" strike="noStrike">
              <a:solidFill>
                <a:srgbClr val="000104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104"/>
                </a:solidFill>
                <a:latin typeface="Times New Roman"/>
              </a:rPr>
              <a:t>Domain</a:t>
            </a:r>
            <a:endParaRPr b="0" lang="en-US" sz="13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22" name="Cloud"/>
          <p:cNvSpPr/>
          <p:nvPr/>
        </p:nvSpPr>
        <p:spPr>
          <a:xfrm>
            <a:off x="5257800" y="1295280"/>
            <a:ext cx="1295280" cy="47304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104"/>
                </a:solidFill>
                <a:latin typeface="Times New Roman"/>
              </a:rPr>
              <a:t>Control </a:t>
            </a:r>
            <a:endParaRPr b="0" lang="en-US" sz="1300" spc="-1" strike="noStrike">
              <a:solidFill>
                <a:srgbClr val="000104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104"/>
                </a:solidFill>
                <a:latin typeface="Times New Roman"/>
              </a:rPr>
              <a:t>Domain</a:t>
            </a:r>
            <a:endParaRPr b="0" lang="en-US" sz="13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590920"/>
            <a:ext cx="8610480" cy="1066680"/>
          </a:xfrm>
          <a:prstGeom prst="parallelogram">
            <a:avLst>
              <a:gd name="adj" fmla="val -160578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pic>
        <p:nvPicPr>
          <p:cNvPr id="124" name="Big_Cloud" descr=""/>
          <p:cNvPicPr/>
          <p:nvPr/>
        </p:nvPicPr>
        <p:blipFill>
          <a:blip r:embed="rId4"/>
          <a:stretch/>
        </p:blipFill>
        <p:spPr>
          <a:xfrm>
            <a:off x="1905120" y="2666880"/>
            <a:ext cx="3124080" cy="533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28800" y="2666880"/>
            <a:ext cx="3276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104"/>
                </a:solidFill>
                <a:latin typeface="Times New Roman"/>
              </a:rPr>
              <a:t>Management 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104"/>
                </a:solidFill>
                <a:latin typeface="Times New Roman"/>
              </a:rPr>
              <a:t>Communications 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</a:rPr>
              <a:t>(out of band)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</p:txBody>
      </p:sp>
      <p:pic>
        <p:nvPicPr>
          <p:cNvPr id="126" name="Big_Cloud" descr=""/>
          <p:cNvPicPr/>
          <p:nvPr/>
        </p:nvPicPr>
        <p:blipFill>
          <a:blip r:embed="rId5"/>
          <a:stretch/>
        </p:blipFill>
        <p:spPr>
          <a:xfrm>
            <a:off x="5181480" y="2666880"/>
            <a:ext cx="3200400" cy="533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571500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Times New Roman"/>
              </a:rPr>
              <a:t>ECC: Embedded Communications Channel     CCI: Connection Controller Interface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Times New Roman"/>
              </a:rPr>
              <a:t>EMF: Equipment Management Function        SNCr: SubNetwork Controller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1676520"/>
            <a:ext cx="1295280" cy="1523880"/>
          </a:xfrm>
          <a:custGeom>
            <a:avLst/>
            <a:gdLst/>
            <a:ahLst/>
            <a:rect l="l" t="t" r="r" b="b"/>
            <a:pathLst>
              <a:path w="912" h="824">
                <a:moveTo>
                  <a:pt x="0" y="0"/>
                </a:moveTo>
                <a:cubicBezTo>
                  <a:pt x="44" y="404"/>
                  <a:pt x="88" y="808"/>
                  <a:pt x="240" y="816"/>
                </a:cubicBezTo>
                <a:cubicBezTo>
                  <a:pt x="392" y="824"/>
                  <a:pt x="652" y="436"/>
                  <a:pt x="912" y="48"/>
                </a:cubicBezTo>
              </a:path>
            </a:pathLst>
          </a:custGeom>
          <a:noFill/>
          <a:ln w="28440">
            <a:solidFill>
              <a:srgbClr val="cb631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pic>
        <p:nvPicPr>
          <p:cNvPr id="129" name="Big_Cloud" descr=""/>
          <p:cNvPicPr/>
          <p:nvPr/>
        </p:nvPicPr>
        <p:blipFill>
          <a:blip r:embed="rId6"/>
          <a:stretch/>
        </p:blipFill>
        <p:spPr>
          <a:xfrm>
            <a:off x="2209680" y="4114800"/>
            <a:ext cx="175284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505320" y="1676520"/>
            <a:ext cx="2489040" cy="1600200"/>
          </a:xfrm>
          <a:custGeom>
            <a:avLst/>
            <a:gdLst/>
            <a:ahLst/>
            <a:rect l="l" t="t" r="r" b="b"/>
            <a:pathLst>
              <a:path w="1568" h="1008">
                <a:moveTo>
                  <a:pt x="0" y="0"/>
                </a:moveTo>
                <a:cubicBezTo>
                  <a:pt x="168" y="360"/>
                  <a:pt x="336" y="720"/>
                  <a:pt x="576" y="864"/>
                </a:cubicBezTo>
                <a:cubicBezTo>
                  <a:pt x="816" y="1008"/>
                  <a:pt x="1312" y="1000"/>
                  <a:pt x="1440" y="864"/>
                </a:cubicBezTo>
                <a:cubicBezTo>
                  <a:pt x="1568" y="728"/>
                  <a:pt x="1456" y="388"/>
                  <a:pt x="1344" y="48"/>
                </a:cubicBezTo>
              </a:path>
            </a:pathLst>
          </a:custGeom>
          <a:noFill/>
          <a:ln w="28440">
            <a:solidFill>
              <a:srgbClr val="a933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273480" y="5105520"/>
            <a:ext cx="479520" cy="370080"/>
            <a:chOff x="3273480" y="5105520"/>
            <a:chExt cx="479520" cy="370080"/>
          </a:xfrm>
        </p:grpSpPr>
        <p:pic>
          <p:nvPicPr>
            <p:cNvPr id="132" name="icon_DCS_blu" descr=""/>
            <p:cNvPicPr/>
            <p:nvPr/>
          </p:nvPicPr>
          <p:blipFill>
            <a:blip r:embed="rId7"/>
            <a:srcRect l="16448" t="16224" r="0" b="0"/>
            <a:stretch/>
          </p:blipFill>
          <p:spPr>
            <a:xfrm>
              <a:off x="3273480" y="5105520"/>
              <a:ext cx="479520" cy="32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279600" y="5229360"/>
              <a:ext cx="4550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104"/>
                  </a:solidFill>
                  <a:latin typeface="Arial"/>
                </a:rPr>
                <a:t>OXC</a:t>
              </a:r>
              <a:endParaRPr b="0" lang="en-US" sz="1000" spc="-1" strike="noStrike">
                <a:solidFill>
                  <a:srgbClr val="000104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611440" y="5181480"/>
            <a:ext cx="687240" cy="15264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5194440"/>
            <a:ext cx="1067040" cy="15228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1676520"/>
            <a:ext cx="1981080" cy="3200400"/>
          </a:xfrm>
          <a:custGeom>
            <a:avLst/>
            <a:gdLst/>
            <a:ahLst/>
            <a:rect l="l" t="t" r="r" b="b"/>
            <a:pathLst>
              <a:path w="1584" h="1728">
                <a:moveTo>
                  <a:pt x="1584" y="1728"/>
                </a:moveTo>
                <a:cubicBezTo>
                  <a:pt x="1484" y="1560"/>
                  <a:pt x="1384" y="1392"/>
                  <a:pt x="1248" y="1296"/>
                </a:cubicBezTo>
                <a:cubicBezTo>
                  <a:pt x="1112" y="1200"/>
                  <a:pt x="920" y="1256"/>
                  <a:pt x="768" y="1152"/>
                </a:cubicBezTo>
                <a:cubicBezTo>
                  <a:pt x="616" y="1048"/>
                  <a:pt x="464" y="864"/>
                  <a:pt x="336" y="672"/>
                </a:cubicBezTo>
                <a:cubicBezTo>
                  <a:pt x="208" y="480"/>
                  <a:pt x="104" y="240"/>
                  <a:pt x="0" y="0"/>
                </a:cubicBezTo>
              </a:path>
            </a:pathLst>
          </a:custGeom>
          <a:noFill/>
          <a:ln w="28440">
            <a:solidFill>
              <a:srgbClr val="fc012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88160" y="4965840"/>
            <a:ext cx="152280" cy="15228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5516640"/>
            <a:ext cx="243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104"/>
                </a:solidFill>
                <a:latin typeface="Tahoma"/>
              </a:rPr>
              <a:t>OTN layer-Vendor domain 1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7640" y="48006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c0128"/>
                </a:solidFill>
                <a:latin typeface="Arial"/>
              </a:rPr>
              <a:t>EMF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4170240"/>
            <a:ext cx="32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104"/>
                </a:solidFill>
                <a:latin typeface="Times New Roman"/>
              </a:rPr>
              <a:t>Signaling</a:t>
            </a:r>
            <a:endParaRPr b="0" lang="en-US" sz="1300" spc="-1" strike="noStrike">
              <a:solidFill>
                <a:srgbClr val="000104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104"/>
                </a:solidFill>
                <a:latin typeface="Times New Roman"/>
              </a:rPr>
              <a:t>Communications </a:t>
            </a:r>
            <a:r>
              <a:rPr b="1" i="1" lang="en-US" sz="1300" spc="-1" strike="noStrike">
                <a:solidFill>
                  <a:srgbClr val="063de8"/>
                </a:solidFill>
                <a:latin typeface="Times New Roman"/>
              </a:rPr>
              <a:t>(in band)</a:t>
            </a:r>
            <a:endParaRPr b="0" lang="en-US" sz="1300" spc="-1" strike="noStrike">
              <a:solidFill>
                <a:srgbClr val="000104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50160" y="35053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CCI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6800" y="32767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CCI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92800" y="2286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b6315"/>
                </a:solidFill>
                <a:latin typeface="Arial"/>
              </a:rPr>
              <a:t>NNI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533412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ECC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533412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ECC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09680" y="5105520"/>
            <a:ext cx="479520" cy="370080"/>
            <a:chOff x="2209680" y="5105520"/>
            <a:chExt cx="479520" cy="370080"/>
          </a:xfrm>
        </p:grpSpPr>
        <p:pic>
          <p:nvPicPr>
            <p:cNvPr id="147" name="icon_DCS_blu" descr=""/>
            <p:cNvPicPr/>
            <p:nvPr/>
          </p:nvPicPr>
          <p:blipFill>
            <a:blip r:embed="rId8"/>
            <a:srcRect l="16448" t="16224" r="0" b="0"/>
            <a:stretch/>
          </p:blipFill>
          <p:spPr>
            <a:xfrm>
              <a:off x="2209680" y="5105520"/>
              <a:ext cx="479520" cy="32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215800" y="5229360"/>
              <a:ext cx="4550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104"/>
                  </a:solidFill>
                  <a:latin typeface="Arial"/>
                </a:rPr>
                <a:t>OXC</a:t>
              </a:r>
              <a:endParaRPr b="0" lang="en-US" sz="1000" spc="-1" strike="noStrike">
                <a:solidFill>
                  <a:srgbClr val="000104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464080" y="5118120"/>
            <a:ext cx="479520" cy="370080"/>
            <a:chOff x="5464080" y="5118120"/>
            <a:chExt cx="479520" cy="370080"/>
          </a:xfrm>
        </p:grpSpPr>
        <p:pic>
          <p:nvPicPr>
            <p:cNvPr id="150" name="icon_DCS_blu" descr=""/>
            <p:cNvPicPr/>
            <p:nvPr/>
          </p:nvPicPr>
          <p:blipFill>
            <a:blip r:embed="rId9"/>
            <a:srcRect l="16448" t="16224" r="0" b="0"/>
            <a:stretch/>
          </p:blipFill>
          <p:spPr>
            <a:xfrm>
              <a:off x="5464080" y="5118120"/>
              <a:ext cx="479520" cy="32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470200" y="5241960"/>
              <a:ext cx="4550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104"/>
                  </a:solidFill>
                  <a:latin typeface="Arial"/>
                </a:rPr>
                <a:t>OXC</a:t>
              </a:r>
              <a:endParaRPr b="0" lang="en-US" sz="1000" spc="-1" strike="noStrike">
                <a:solidFill>
                  <a:srgbClr val="000104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912000" y="5118120"/>
            <a:ext cx="479520" cy="370080"/>
            <a:chOff x="6912000" y="5118120"/>
            <a:chExt cx="479520" cy="370080"/>
          </a:xfrm>
        </p:grpSpPr>
        <p:pic>
          <p:nvPicPr>
            <p:cNvPr id="153" name="icon_DCS_blu" descr=""/>
            <p:cNvPicPr/>
            <p:nvPr/>
          </p:nvPicPr>
          <p:blipFill>
            <a:blip r:embed="rId10"/>
            <a:srcRect l="16448" t="16224" r="0" b="0"/>
            <a:stretch/>
          </p:blipFill>
          <p:spPr>
            <a:xfrm>
              <a:off x="6912000" y="5118120"/>
              <a:ext cx="479520" cy="32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918120" y="5241960"/>
              <a:ext cx="4550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104"/>
                  </a:solidFill>
                  <a:latin typeface="Arial"/>
                </a:rPr>
                <a:t>OXC</a:t>
              </a:r>
              <a:endParaRPr b="0" lang="en-US" sz="1000" spc="-1" strike="noStrike">
                <a:solidFill>
                  <a:srgbClr val="000104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724280" y="5516640"/>
            <a:ext cx="243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104"/>
                </a:solidFill>
                <a:latin typeface="Tahoma"/>
              </a:rPr>
              <a:t>OTN layer-Vendor domain 2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4952880"/>
            <a:ext cx="152280" cy="15264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4952880"/>
            <a:ext cx="15264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4952880"/>
            <a:ext cx="152280" cy="15264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3200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4280" y="48006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c0128"/>
                </a:solidFill>
                <a:latin typeface="Arial"/>
              </a:rPr>
              <a:t>EMF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56840" y="47466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3de8"/>
                </a:solidFill>
                <a:latin typeface="Arial"/>
              </a:rPr>
              <a:t>SNCr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4952880"/>
            <a:ext cx="152280" cy="15264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pic>
        <p:nvPicPr>
          <p:cNvPr id="164" name="Big_Cloud" descr=""/>
          <p:cNvPicPr/>
          <p:nvPr/>
        </p:nvPicPr>
        <p:blipFill>
          <a:blip r:embed="rId11"/>
          <a:stretch/>
        </p:blipFill>
        <p:spPr>
          <a:xfrm>
            <a:off x="5486400" y="4114800"/>
            <a:ext cx="1752480" cy="457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724280" y="4213080"/>
            <a:ext cx="32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104"/>
                </a:solidFill>
                <a:latin typeface="Times New Roman"/>
              </a:rPr>
              <a:t>Signaling</a:t>
            </a:r>
            <a:endParaRPr b="0" lang="en-US" sz="1300" spc="-1" strike="noStrike">
              <a:solidFill>
                <a:srgbClr val="000104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104"/>
                </a:solidFill>
                <a:latin typeface="Times New Roman"/>
              </a:rPr>
              <a:t>Communications </a:t>
            </a:r>
            <a:r>
              <a:rPr b="1" i="1" lang="en-US" sz="1300" spc="-1" strike="noStrike">
                <a:solidFill>
                  <a:srgbClr val="063de8"/>
                </a:solidFill>
                <a:latin typeface="Times New Roman"/>
              </a:rPr>
              <a:t>(in band)</a:t>
            </a:r>
            <a:endParaRPr b="0" lang="en-US" sz="1300" spc="-1" strike="noStrike">
              <a:solidFill>
                <a:srgbClr val="000104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52800" y="48006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c0128"/>
                </a:solidFill>
                <a:latin typeface="Arial"/>
              </a:rPr>
              <a:t>EMF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67400" y="48006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c0128"/>
                </a:solidFill>
                <a:latin typeface="Arial"/>
              </a:rPr>
              <a:t>EMF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1676520"/>
            <a:ext cx="546120" cy="3276360"/>
          </a:xfrm>
          <a:custGeom>
            <a:avLst/>
            <a:gdLst/>
            <a:ahLst/>
            <a:rect l="l" t="t" r="r" b="b"/>
            <a:pathLst>
              <a:path w="344" h="2064">
                <a:moveTo>
                  <a:pt x="48" y="0"/>
                </a:moveTo>
                <a:cubicBezTo>
                  <a:pt x="196" y="260"/>
                  <a:pt x="344" y="520"/>
                  <a:pt x="336" y="768"/>
                </a:cubicBezTo>
                <a:cubicBezTo>
                  <a:pt x="328" y="1016"/>
                  <a:pt x="0" y="1272"/>
                  <a:pt x="0" y="1488"/>
                </a:cubicBezTo>
                <a:cubicBezTo>
                  <a:pt x="0" y="1704"/>
                  <a:pt x="168" y="1884"/>
                  <a:pt x="336" y="2064"/>
                </a:cubicBezTo>
              </a:path>
            </a:pathLst>
          </a:custGeom>
          <a:noFill/>
          <a:ln w="28440">
            <a:solidFill>
              <a:srgbClr val="fc012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4495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0" y="288"/>
                </a:moveTo>
                <a:cubicBezTo>
                  <a:pt x="44" y="144"/>
                  <a:pt x="88" y="0"/>
                  <a:pt x="144" y="0"/>
                </a:cubicBezTo>
                <a:cubicBezTo>
                  <a:pt x="200" y="0"/>
                  <a:pt x="268" y="144"/>
                  <a:pt x="336" y="288"/>
                </a:cubicBezTo>
              </a:path>
            </a:pathLst>
          </a:custGeom>
          <a:noFill/>
          <a:ln w="28440">
            <a:solidFill>
              <a:srgbClr val="114ff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4495680"/>
            <a:ext cx="91440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0" y="288"/>
                </a:moveTo>
                <a:cubicBezTo>
                  <a:pt x="44" y="144"/>
                  <a:pt x="88" y="0"/>
                  <a:pt x="144" y="0"/>
                </a:cubicBezTo>
                <a:cubicBezTo>
                  <a:pt x="200" y="0"/>
                  <a:pt x="268" y="144"/>
                  <a:pt x="336" y="288"/>
                </a:cubicBezTo>
              </a:path>
            </a:pathLst>
          </a:custGeom>
          <a:noFill/>
          <a:ln w="28440">
            <a:solidFill>
              <a:srgbClr val="114ff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16840" y="4572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CCI</a:t>
            </a: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1752480"/>
            <a:ext cx="1067040" cy="3200400"/>
          </a:xfrm>
          <a:custGeom>
            <a:avLst/>
            <a:gdLst/>
            <a:ahLst/>
            <a:rect l="l" t="t" r="r" b="b"/>
            <a:pathLst>
              <a:path w="672" h="2016">
                <a:moveTo>
                  <a:pt x="672" y="0"/>
                </a:moveTo>
                <a:cubicBezTo>
                  <a:pt x="608" y="600"/>
                  <a:pt x="544" y="1200"/>
                  <a:pt x="432" y="1536"/>
                </a:cubicBezTo>
                <a:cubicBezTo>
                  <a:pt x="320" y="1872"/>
                  <a:pt x="160" y="1944"/>
                  <a:pt x="0" y="2016"/>
                </a:cubicBezTo>
              </a:path>
            </a:pathLst>
          </a:custGeom>
          <a:noFill/>
          <a:ln w="28440">
            <a:solidFill>
              <a:srgbClr val="114ff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1752480"/>
            <a:ext cx="2971800" cy="3200400"/>
          </a:xfrm>
          <a:custGeom>
            <a:avLst/>
            <a:gdLst/>
            <a:ahLst/>
            <a:rect l="l" t="t" r="r" b="b"/>
            <a:pathLst>
              <a:path w="2016" h="2016">
                <a:moveTo>
                  <a:pt x="1728" y="0"/>
                </a:moveTo>
                <a:cubicBezTo>
                  <a:pt x="1872" y="240"/>
                  <a:pt x="2016" y="480"/>
                  <a:pt x="1728" y="816"/>
                </a:cubicBezTo>
                <a:cubicBezTo>
                  <a:pt x="1440" y="1152"/>
                  <a:pt x="720" y="1584"/>
                  <a:pt x="0" y="2016"/>
                </a:cubicBezTo>
              </a:path>
            </a:pathLst>
          </a:custGeom>
          <a:noFill/>
          <a:ln w="28440">
            <a:solidFill>
              <a:srgbClr val="114ff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94920" y="464832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3de8"/>
                </a:solidFill>
                <a:latin typeface="Arial"/>
              </a:rPr>
              <a:t>SNCr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3440" y="47242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3de8"/>
                </a:solidFill>
                <a:latin typeface="Arial"/>
              </a:rPr>
              <a:t>SNCr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52520" y="464832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3de8"/>
                </a:solidFill>
                <a:latin typeface="Arial"/>
              </a:rPr>
              <a:t>SNCr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81360" y="6134040"/>
            <a:ext cx="40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Times New Roman"/>
              </a:rPr>
              <a:t>Not all interfaces are shown for simplicity</a:t>
            </a:r>
            <a:endParaRPr b="0" lang="en-US" sz="18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981080"/>
            <a:ext cx="1573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104"/>
                </a:solidFill>
                <a:latin typeface="Arial"/>
              </a:rPr>
              <a:t>Control Plane layer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8840" y="2011320"/>
            <a:ext cx="201564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104"/>
                </a:solidFill>
                <a:latin typeface="Arial"/>
              </a:rPr>
              <a:t>Management Plane Layer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53440" y="3352680"/>
            <a:ext cx="37209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104"/>
                </a:solidFill>
                <a:latin typeface="Arial"/>
              </a:rPr>
              <a:t>Out of band Data Communication Network (DCN)</a:t>
            </a:r>
            <a:endParaRPr b="0" lang="en-US" sz="1200" spc="-1" strike="noStrike">
              <a:solidFill>
                <a:srgbClr val="00010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2598840"/>
            <a:ext cx="3276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104"/>
                </a:solidFill>
                <a:latin typeface="Times New Roman"/>
              </a:rPr>
              <a:t>Signaling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104"/>
                </a:solidFill>
                <a:latin typeface="Times New Roman"/>
              </a:rPr>
              <a:t>Communications 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</a:rPr>
              <a:t>(out of band)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121"/>
                </a:solidFill>
                <a:latin typeface="Times New Roman"/>
              </a:rPr>
              <a:t>Optical Network Deployment</a:t>
            </a:r>
            <a:endParaRPr b="1" i="1" lang="en-US" sz="40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5438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Transition to OTN Transport Network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121"/>
                </a:solidFill>
                <a:latin typeface="Arial"/>
                <a:ea typeface="Times New Roman"/>
              </a:rPr>
              <a:t>OTN Services Over Fully OTN Network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121"/>
                </a:solidFill>
                <a:latin typeface="Arial"/>
                <a:ea typeface="Times New Roman"/>
              </a:rPr>
              <a:t>OTN Services Over OTN Overlay Network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1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  <a:ea typeface="Times New Roman"/>
              </a:rPr>
              <a:t>OTN Services Carried over SONET/SDH Transport Network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121"/>
                </a:solidFill>
                <a:latin typeface="Arial"/>
                <a:ea typeface="Times New Roman"/>
              </a:rPr>
              <a:t>OTN Transport In Place of DWDM 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121"/>
                </a:solidFill>
                <a:latin typeface="Arial"/>
                <a:ea typeface="Times New Roman"/>
              </a:rPr>
              <a:t>OTN XC Equipment In Place of DWDM ADM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Transition to Switched Connection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2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  <a:ea typeface="Times New Roman"/>
              </a:rPr>
              <a:t>SONET/SDH and OTN Transport Networks (ASON)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Management System Integration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1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Additional Support Needed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1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New Services Maintenance Issu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1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New Services Policy Issu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1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Management Applications Issu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11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ASON Issue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121"/>
              </a:solidFill>
              <a:latin typeface="Arial"/>
            </a:endParaRPr>
          </a:p>
          <a:p>
            <a:pPr lvl="2" marL="12477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  <a:p>
            <a:pPr lvl="2" marL="12477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104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10121"/>
                </a:solidFill>
                <a:latin typeface="Times New Roman"/>
              </a:rPr>
              <a:t>Transition to OTN Transport Networks</a:t>
            </a:r>
            <a:br>
              <a:rPr sz="3600"/>
            </a:br>
            <a:r>
              <a:rPr b="1" i="1" lang="en-US" sz="3600" spc="-1" strike="noStrike">
                <a:solidFill>
                  <a:srgbClr val="010121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4d8db1"/>
                </a:solidFill>
                <a:latin typeface="Times New Roman"/>
              </a:rPr>
              <a:t>Some Scenarios</a:t>
            </a:r>
            <a:endParaRPr b="1" i="1" lang="en-US" sz="24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121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10121"/>
                </a:solidFill>
                <a:latin typeface="Arial"/>
                <a:ea typeface="Times New Roman"/>
              </a:rPr>
              <a:t>OTN Services Over Fully OTN Network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  <a:ea typeface="Times New Roman"/>
              </a:rPr>
              <a:t>Complete Changes In Carrier’s Back Office Infrastructure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2" marL="1247760" indent="-228600">
              <a:lnSpc>
                <a:spcPct val="8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  <a:ea typeface="Times New Roman"/>
              </a:rPr>
              <a:t>New operations training and all new test equipment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121"/>
                </a:solidFill>
                <a:latin typeface="Arial"/>
                <a:ea typeface="Times New Roman"/>
              </a:rPr>
              <a:t>OTN Services Over OTN Overlay Network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121"/>
                </a:solidFill>
                <a:latin typeface="Arial"/>
                <a:ea typeface="Times New Roman"/>
              </a:rPr>
              <a:t>OTN Network Sharing Fibres with SONET/SDH Network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121"/>
                </a:solidFill>
                <a:latin typeface="Arial"/>
                <a:ea typeface="Times New Roman"/>
              </a:rPr>
              <a:t>Deployment of OTN Line Systems and Cross Connect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  <a:ea typeface="Times New Roman"/>
              </a:rPr>
              <a:t>OTN Services Carried over SONET/SDH Transport Network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ODU1 (2.5 Gbps), ODU2 (10 Gbps)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2" marL="1247760" indent="-228600">
              <a:lnSpc>
                <a:spcPct val="8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104"/>
                </a:solidFill>
                <a:latin typeface="Arial"/>
                <a:ea typeface="Times New Roman"/>
              </a:rPr>
              <a:t>Some attractive features: transparency (e.g. transparent STM-16 over ODU1 over VC-4-17v, STM-64 over ODU2 over VC-4-68v), multiple TCM, etc.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121"/>
                </a:solidFill>
                <a:latin typeface="Arial"/>
                <a:ea typeface="Times New Roman"/>
              </a:rPr>
              <a:t>OTN Transport In Place of DWDM 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121"/>
                </a:solidFill>
                <a:latin typeface="Arial"/>
                <a:ea typeface="Times New Roman"/>
              </a:rPr>
              <a:t>Deployment of OTN Line Systems Only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2" marL="1247760" indent="-228600">
              <a:lnSpc>
                <a:spcPct val="9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104"/>
                </a:solidFill>
                <a:latin typeface="Arial"/>
                <a:ea typeface="Times New Roman"/>
              </a:rPr>
              <a:t>Limited to point-point connections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121"/>
                </a:solidFill>
                <a:latin typeface="Arial"/>
                <a:ea typeface="Times New Roman"/>
              </a:rPr>
              <a:t>OTN XC Equipment In Place of DWDM ADM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905040" indent="-44784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121"/>
                </a:solidFill>
                <a:latin typeface="Arial"/>
                <a:ea typeface="Times New Roman"/>
              </a:rPr>
              <a:t>Deployment of Cross-connects in Central Location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2" marL="1247760" indent="-228600">
              <a:lnSpc>
                <a:spcPct val="80000"/>
              </a:lnSpc>
              <a:spcBef>
                <a:spcPts val="400"/>
              </a:spcBef>
              <a:buClr>
                <a:srgbClr val="114ffb"/>
              </a:buClr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104"/>
                </a:solidFill>
                <a:latin typeface="Arial"/>
                <a:ea typeface="Times New Roman"/>
              </a:rPr>
              <a:t>Future proof some expenses when upgrading equipment but not ready for transition</a:t>
            </a:r>
            <a:endParaRPr b="0" lang="en-US" sz="1600" spc="-1" strike="noStrike">
              <a:solidFill>
                <a:srgbClr val="00010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10121"/>
                </a:solidFill>
                <a:latin typeface="Times New Roman"/>
              </a:rPr>
              <a:t>Transition to Switched Connections</a:t>
            </a:r>
            <a:br>
              <a:rPr sz="3600"/>
            </a:br>
            <a:r>
              <a:rPr b="1" i="1" lang="en-US" sz="2400" spc="-1" strike="noStrike">
                <a:solidFill>
                  <a:srgbClr val="4d8db1"/>
                </a:solidFill>
                <a:latin typeface="Times New Roman"/>
              </a:rPr>
              <a:t>See Session 2, “Switched Optical Networks” Paper for Details</a:t>
            </a:r>
            <a:endParaRPr b="1" i="1" lang="en-US" sz="2400" spc="-1" strike="noStrike">
              <a:solidFill>
                <a:srgbClr val="010121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Integration With Legacy System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Also applies to incomplete or not completely interoperable automatically switched system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Allocation of Functions Between Control Plane and Management Plane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Only Routing and Link Management Done via Management Plane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Routing and Link Management, Call Processing, and Connection Processing All via Control Plane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Mix of Automatically Switched and  Not Automatically Switched Within Different Transport Network Layer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Client Layer Switched and Server Layer Not Switched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Server Layer Switched and Client Layer Not Switched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Mix of Automatically Switched and  Not Automatically Switched Within Transport Network Partitions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UNI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E-NNI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I-NNI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lvl="1" marL="868680" indent="-429840">
              <a:lnSpc>
                <a:spcPct val="8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21"/>
                </a:solidFill>
                <a:latin typeface="Arial"/>
              </a:rPr>
              <a:t>Sub-networks</a:t>
            </a:r>
            <a:endParaRPr b="0" lang="en-US" sz="1800" spc="-1" strike="noStrike">
              <a:solidFill>
                <a:srgbClr val="01012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21"/>
                </a:solidFill>
                <a:latin typeface="Arial"/>
              </a:rPr>
              <a:t>Combinations and Permutations of Above</a:t>
            </a: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121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7T21:38:00Z</dcterms:created>
  <dc:creator>Tammy Ferris &amp; Wesam Alanqar</dc:creator>
  <dc:description/>
  <dc:language>en-US</dc:language>
  <cp:lastModifiedBy>UGALE, Arvin Carlos D.</cp:lastModifiedBy>
  <cp:lastPrinted>2002-06-15T16:37:07Z</cp:lastPrinted>
  <dcterms:modified xsi:type="dcterms:W3CDTF">2002-07-19T14:11:10Z</dcterms:modified>
  <cp:revision>706</cp:revision>
  <dc:subject>ITU-T IP + Optical Workshop</dc:subject>
  <dc:title>Practical Issues In Managing Optical Networks</dc:title>
</cp:coreProperties>
</file>