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934200" cy="91836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933600" cy="918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5280" cy="45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929040" y="0"/>
            <a:ext cx="3005280" cy="45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71080" y="688680"/>
            <a:ext cx="4591080" cy="34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25560" y="4362480"/>
            <a:ext cx="5083200" cy="413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0" y="8722800"/>
            <a:ext cx="3005280" cy="45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929040" y="8722800"/>
            <a:ext cx="3005280" cy="45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D9EA5E6-840C-47E4-8014-36CBFB897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71440" y="689040"/>
            <a:ext cx="4591080" cy="3443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25560" y="4362480"/>
            <a:ext cx="5083200" cy="413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-LDP does not use all of the modes of LDP and hence is not a superset of LD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MPLS CR-LDP is a superset of CR-LD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F UNI 1.0 uses either a derivative of GMPLS RSVP-TE or GMPLS CR-LDP.  It does not use all of GMPLS CR-LDP but does introduce exten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71440" y="689040"/>
            <a:ext cx="4591080" cy="3443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25560" y="4362480"/>
            <a:ext cx="5083200" cy="413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ailed requirements for ASON signalling are contained in recommendation G.7713 “Distributed Call and Connection Management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fic protocols are being developed from G.7713 and are G.7713.1, G.7713.2, and G.7713.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71440" y="689040"/>
            <a:ext cx="4591080" cy="3443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25560" y="4362480"/>
            <a:ext cx="5083200" cy="413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example, a call is setup with zero connections.  Then, a connection is established followed by two other connections.  All three connections are associated with the same c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71440" y="689040"/>
            <a:ext cx="4591080" cy="3443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5560" y="4362480"/>
            <a:ext cx="5083200" cy="413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LV = Type, Length,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 = Traffic Engine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CP = Transmission Control Protocol, an IETF protocol that runs over IP for correcting packet 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 PNNI = Asynchronous Transfer Mode Private Network-Network Interface, this is a signalling and routing specification of the ATM Fo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LVs are encodings of information within protocol specific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71440" y="689040"/>
            <a:ext cx="4591080" cy="3443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25560" y="4362480"/>
            <a:ext cx="5083200" cy="413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xample shows CR-LDP use in an IP network.  The connection request is required to use intermediate point 10.1.1.5 and has freedom to choose how to get to 10.1.1.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97040" y="1981080"/>
            <a:ext cx="7765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97040" y="4130640"/>
            <a:ext cx="7765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97040" y="1981080"/>
            <a:ext cx="378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76480" y="1981080"/>
            <a:ext cx="378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97040" y="4130640"/>
            <a:ext cx="378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76480" y="4130640"/>
            <a:ext cx="378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97040" y="1981080"/>
            <a:ext cx="2500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22880" y="1981080"/>
            <a:ext cx="2500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49080" y="1981080"/>
            <a:ext cx="2500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97040" y="4130640"/>
            <a:ext cx="2500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22880" y="4130640"/>
            <a:ext cx="2500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49080" y="4130640"/>
            <a:ext cx="2500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97040" y="1981080"/>
            <a:ext cx="7765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97040" y="1981080"/>
            <a:ext cx="776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97040" y="1981080"/>
            <a:ext cx="378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76480" y="1981080"/>
            <a:ext cx="378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06040" y="609120"/>
            <a:ext cx="765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97040" y="1981080"/>
            <a:ext cx="378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76480" y="1981080"/>
            <a:ext cx="378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97040" y="4130640"/>
            <a:ext cx="378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97040" y="1981080"/>
            <a:ext cx="7765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97040" y="1981080"/>
            <a:ext cx="378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6480" y="1981080"/>
            <a:ext cx="378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76480" y="4130640"/>
            <a:ext cx="378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97040" y="1981080"/>
            <a:ext cx="378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76480" y="1981080"/>
            <a:ext cx="378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97040" y="4130640"/>
            <a:ext cx="7765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97040" y="1981080"/>
            <a:ext cx="7765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97040" y="4130640"/>
            <a:ext cx="7765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97040" y="1981080"/>
            <a:ext cx="378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76480" y="1981080"/>
            <a:ext cx="378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97040" y="4130640"/>
            <a:ext cx="378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76480" y="4130640"/>
            <a:ext cx="378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97040" y="1981080"/>
            <a:ext cx="2500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422880" y="1981080"/>
            <a:ext cx="2500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49080" y="1981080"/>
            <a:ext cx="2500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97040" y="4130640"/>
            <a:ext cx="2500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422880" y="4130640"/>
            <a:ext cx="2500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49080" y="4130640"/>
            <a:ext cx="2500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97040" y="1981080"/>
            <a:ext cx="776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97040" y="1981080"/>
            <a:ext cx="378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76480" y="1981080"/>
            <a:ext cx="378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06040" y="609120"/>
            <a:ext cx="765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97040" y="1981080"/>
            <a:ext cx="378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76480" y="1981080"/>
            <a:ext cx="378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97040" y="4130640"/>
            <a:ext cx="378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97040" y="1981080"/>
            <a:ext cx="378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6480" y="1981080"/>
            <a:ext cx="378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76480" y="4130640"/>
            <a:ext cx="378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97040" y="1981080"/>
            <a:ext cx="378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6480" y="1981080"/>
            <a:ext cx="378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97040" y="4130640"/>
            <a:ext cx="7765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rimary0516200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97040" y="1981080"/>
            <a:ext cx="776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170760" y="6453360"/>
            <a:ext cx="14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794556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99"/>
                </a:solidFill>
                <a:latin typeface="Arial"/>
              </a:rPr>
              <a:t>Session 7 – CR-LDP - </a:t>
            </a:r>
            <a:fld id="{E76C40DA-40F0-4C5A-8FA9-386CCBDC0990}" type="slidenum">
              <a:rPr b="0" lang="en-US" sz="9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rimary0516200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240" y="2285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5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080" y="2212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CR-LDP for ASON Signalling</a:t>
            </a:r>
            <a:br>
              <a:rPr sz="3600"/>
            </a:b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Session 7 – Signalling and Routing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776240" y="3573360"/>
            <a:ext cx="7080480" cy="13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ed by: Stephen Sh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e: 2002 07 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CR-LDP Extensions for GMPLS: what is GMPLS?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797040" y="1981080"/>
            <a:ext cx="776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MPLS generalizes the concept of label to includ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et-switch capable (PSC)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-division multiplex capable (TDM)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mbda switch capable (LSC)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ber switch capable (FSC)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-LDP in its original form (RFC3212) handles only the PSC ca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s are being worked out to cover TDM, LSC, and FSC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aft-ietf-mpls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-generalized-cr-ldp-06.tx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CR-LDP Extensions for GMPLS: Detail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97040" y="1981080"/>
            <a:ext cx="776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s the same set of messages as in LD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oduces new TLVs for the generalized label ope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ized Label Request TL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ized Label TL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 Set TL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ggested Label TL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ptable Label TL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min Status TL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oduces technology specific TLV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Sonet/SD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CR-LDP Progression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97040" y="1981080"/>
            <a:ext cx="776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-LDP extends LDP but does not use some LDP fun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MPLS extends CR-LD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IF UNI 1.0 uses a derivative of GMPLS CR-LD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87280" y="4056120"/>
            <a:ext cx="2782800" cy="954000"/>
          </a:xfrm>
          <a:custGeom>
            <a:avLst/>
            <a:gdLst>
              <a:gd name="textAreaLeft" fmla="*/ 0 w 2782800"/>
              <a:gd name="textAreaRight" fmla="*/ 2783160 w 2782800"/>
              <a:gd name="textAreaTop" fmla="*/ 0 h 954000"/>
              <a:gd name="textAreaBottom" fmla="*/ 954360 h 95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RFC303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386080" y="4056120"/>
            <a:ext cx="2782800" cy="954000"/>
          </a:xfrm>
          <a:custGeom>
            <a:avLst/>
            <a:gdLst>
              <a:gd name="textAreaLeft" fmla="*/ 0 w 2782800"/>
              <a:gd name="textAreaRight" fmla="*/ 2783160 w 2782800"/>
              <a:gd name="textAreaTop" fmla="*/ 0 h 954000"/>
              <a:gd name="textAreaBottom" fmla="*/ 954360 h 95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00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-L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RFC 321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483080" y="4056120"/>
            <a:ext cx="2782800" cy="954000"/>
          </a:xfrm>
          <a:custGeom>
            <a:avLst/>
            <a:gdLst>
              <a:gd name="textAreaLeft" fmla="*/ 0 w 2782800"/>
              <a:gd name="textAreaRight" fmla="*/ 2783160 w 2782800"/>
              <a:gd name="textAreaTop" fmla="*/ 0 h 954000"/>
              <a:gd name="textAreaBottom" fmla="*/ 954360 h 95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MP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-L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506920" y="5216400"/>
            <a:ext cx="2783160" cy="954360"/>
          </a:xfrm>
          <a:custGeom>
            <a:avLst/>
            <a:gdLst>
              <a:gd name="textAreaLeft" fmla="*/ 0 w 2783160"/>
              <a:gd name="textAreaRight" fmla="*/ 2783520 w 2783160"/>
              <a:gd name="textAreaTop" fmla="*/ 0 h 954360"/>
              <a:gd name="textAreaBottom" fmla="*/ 954720 h 95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99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IF UNI 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-L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091120" y="5008680"/>
            <a:ext cx="846000" cy="560160"/>
          </a:xfrm>
          <a:custGeom>
            <a:avLst/>
            <a:gdLst/>
            <a:ahLst/>
            <a:rect l="l" t="t" r="r" b="b"/>
            <a:pathLst>
              <a:path w="541" h="353">
                <a:moveTo>
                  <a:pt x="77" y="0"/>
                </a:moveTo>
                <a:cubicBezTo>
                  <a:pt x="38" y="116"/>
                  <a:pt x="0" y="233"/>
                  <a:pt x="77" y="292"/>
                </a:cubicBezTo>
                <a:cubicBezTo>
                  <a:pt x="154" y="351"/>
                  <a:pt x="347" y="352"/>
                  <a:pt x="541" y="35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06040" y="609480"/>
            <a:ext cx="76518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CR-LDP Extensions for OIF UNI 1.0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97040" y="1981080"/>
            <a:ext cx="776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rrows from GMP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common to say that OIF UNI 1.0 is “GMPLS based” or “GMPLS Complian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new messages are introduced for use across the UN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us Enquiry and Status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oduces new TLVs necessary for UNI ope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dentification TLV (related to Transport Network Assigned (TNA) addre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-LDP (signaling) messages could be transported out of band over IP control channel (IPCC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06040" y="609480"/>
            <a:ext cx="76518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CR-LDP Operation at the UNI: AN Example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1068480" y="1616040"/>
            <a:ext cx="5511240" cy="3309480"/>
            <a:chOff x="1068480" y="1616040"/>
            <a:chExt cx="5511240" cy="3309480"/>
          </a:xfrm>
        </p:grpSpPr>
        <p:sp>
          <p:nvSpPr>
            <p:cNvPr id="320" name=""/>
            <p:cNvSpPr/>
            <p:nvPr/>
          </p:nvSpPr>
          <p:spPr>
            <a:xfrm>
              <a:off x="1068480" y="1630080"/>
              <a:ext cx="0" cy="328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610000" y="1616040"/>
              <a:ext cx="0" cy="328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037840" y="1616040"/>
              <a:ext cx="0" cy="328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579720" y="1637640"/>
              <a:ext cx="0" cy="328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2617920" y="2346480"/>
            <a:ext cx="24177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2617920" y="3446640"/>
            <a:ext cx="24019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068480" y="1600200"/>
            <a:ext cx="1590480" cy="482760"/>
            <a:chOff x="1068480" y="1600200"/>
            <a:chExt cx="1590480" cy="482760"/>
          </a:xfrm>
        </p:grpSpPr>
        <p:sp>
          <p:nvSpPr>
            <p:cNvPr id="327" name=""/>
            <p:cNvSpPr/>
            <p:nvPr/>
          </p:nvSpPr>
          <p:spPr>
            <a:xfrm>
              <a:off x="1068480" y="2082960"/>
              <a:ext cx="1533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37240" y="1600200"/>
              <a:ext cx="152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abel Requ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5035680" y="2077920"/>
            <a:ext cx="1565280" cy="547560"/>
            <a:chOff x="5035680" y="2077920"/>
            <a:chExt cx="1565280" cy="547560"/>
          </a:xfrm>
        </p:grpSpPr>
        <p:sp>
          <p:nvSpPr>
            <p:cNvPr id="330" name=""/>
            <p:cNvSpPr/>
            <p:nvPr/>
          </p:nvSpPr>
          <p:spPr>
            <a:xfrm>
              <a:off x="5035680" y="2625480"/>
              <a:ext cx="15652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055120" y="2077920"/>
              <a:ext cx="152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abel Requ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5009760" y="3152880"/>
            <a:ext cx="1596600" cy="459360"/>
            <a:chOff x="5009760" y="3152880"/>
            <a:chExt cx="1596600" cy="459360"/>
          </a:xfrm>
        </p:grpSpPr>
        <p:sp>
          <p:nvSpPr>
            <p:cNvPr id="333" name=""/>
            <p:cNvSpPr/>
            <p:nvPr/>
          </p:nvSpPr>
          <p:spPr>
            <a:xfrm flipH="1">
              <a:off x="5035680" y="3152880"/>
              <a:ext cx="1549440" cy="0"/>
            </a:xfrm>
            <a:prstGeom prst="line">
              <a:avLst/>
            </a:prstGeom>
            <a:ln w="28440">
              <a:solidFill>
                <a:srgbClr val="99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09760" y="3274920"/>
              <a:ext cx="159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abel Ma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1066320" y="3610080"/>
            <a:ext cx="1649160" cy="337320"/>
            <a:chOff x="1066320" y="3610080"/>
            <a:chExt cx="1649160" cy="337320"/>
          </a:xfrm>
        </p:grpSpPr>
        <p:sp>
          <p:nvSpPr>
            <p:cNvPr id="336" name=""/>
            <p:cNvSpPr/>
            <p:nvPr/>
          </p:nvSpPr>
          <p:spPr>
            <a:xfrm flipH="1">
              <a:off x="1066320" y="3641760"/>
              <a:ext cx="1535400" cy="0"/>
            </a:xfrm>
            <a:prstGeom prst="line">
              <a:avLst/>
            </a:prstGeom>
            <a:ln w="28440">
              <a:solidFill>
                <a:srgbClr val="99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118880" y="3610080"/>
              <a:ext cx="159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abel Ma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687600" y="495612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40680" y="486108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112120" y="4925880"/>
            <a:ext cx="12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510800" y="4892760"/>
            <a:ext cx="12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442320" y="2711520"/>
            <a:ext cx="12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6616800" y="4394160"/>
            <a:ext cx="2077920" cy="788760"/>
            <a:chOff x="6616800" y="4394160"/>
            <a:chExt cx="2077920" cy="788760"/>
          </a:xfrm>
        </p:grpSpPr>
        <p:sp>
          <p:nvSpPr>
            <p:cNvPr id="344" name=""/>
            <p:cNvSpPr/>
            <p:nvPr/>
          </p:nvSpPr>
          <p:spPr>
            <a:xfrm>
              <a:off x="6927840" y="4394160"/>
              <a:ext cx="1146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616800" y="4540320"/>
              <a:ext cx="207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onnection is avail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068480" y="4175280"/>
            <a:ext cx="1495440" cy="337320"/>
            <a:chOff x="1068480" y="4175280"/>
            <a:chExt cx="1495440" cy="337320"/>
          </a:xfrm>
        </p:grpSpPr>
        <p:sp>
          <p:nvSpPr>
            <p:cNvPr id="347" name=""/>
            <p:cNvSpPr/>
            <p:nvPr/>
          </p:nvSpPr>
          <p:spPr>
            <a:xfrm>
              <a:off x="1068480" y="4175280"/>
              <a:ext cx="149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130040" y="4175280"/>
              <a:ext cx="1287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t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 flipH="1">
            <a:off x="2627280" y="4327560"/>
            <a:ext cx="24019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5057640" y="4448160"/>
            <a:ext cx="1495440" cy="337320"/>
            <a:chOff x="5057640" y="4448160"/>
            <a:chExt cx="1495440" cy="337320"/>
          </a:xfrm>
        </p:grpSpPr>
        <p:sp>
          <p:nvSpPr>
            <p:cNvPr id="351" name=""/>
            <p:cNvSpPr/>
            <p:nvPr/>
          </p:nvSpPr>
          <p:spPr>
            <a:xfrm>
              <a:off x="5057640" y="4448160"/>
              <a:ext cx="149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119200" y="4448160"/>
              <a:ext cx="1287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t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1435320" y="5249880"/>
            <a:ext cx="64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693040" y="5221440"/>
            <a:ext cx="64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06040" y="609480"/>
            <a:ext cx="76518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ASON Signalling Requirement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97040" y="1981080"/>
            <a:ext cx="776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paration between control and bear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ike a traditional IP network, ASON cannot use the state of the bearer to infer any useful information about the health of the control chann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arer connections must not be disrupted as a result of control channel fail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and connection control sepa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of multiple connections associated with the same c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ful to differentiate between call parameters and connection parame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ful to define “call/bearer coordination points” that usually reside at the network boundaries (at UNI and E-NNI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CR-LDP Progression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97040" y="1981080"/>
            <a:ext cx="776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-LDP for ASON Signalling is being developed in G.7713.3.  It is derived from GMPLS CR-LDP and OIF UNI 1.0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87280" y="4056120"/>
            <a:ext cx="2782800" cy="954000"/>
          </a:xfrm>
          <a:custGeom>
            <a:avLst/>
            <a:gdLst>
              <a:gd name="textAreaLeft" fmla="*/ 0 w 2782800"/>
              <a:gd name="textAreaRight" fmla="*/ 2783160 w 2782800"/>
              <a:gd name="textAreaTop" fmla="*/ 0 h 954000"/>
              <a:gd name="textAreaBottom" fmla="*/ 954360 h 95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RFC303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386080" y="4056120"/>
            <a:ext cx="2782800" cy="954000"/>
          </a:xfrm>
          <a:custGeom>
            <a:avLst/>
            <a:gdLst>
              <a:gd name="textAreaLeft" fmla="*/ 0 w 2782800"/>
              <a:gd name="textAreaRight" fmla="*/ 2783160 w 2782800"/>
              <a:gd name="textAreaTop" fmla="*/ 0 h 954000"/>
              <a:gd name="textAreaBottom" fmla="*/ 954360 h 95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00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-L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RFC 321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483080" y="4056120"/>
            <a:ext cx="2782800" cy="954000"/>
          </a:xfrm>
          <a:custGeom>
            <a:avLst/>
            <a:gdLst>
              <a:gd name="textAreaLeft" fmla="*/ 0 w 2782800"/>
              <a:gd name="textAreaRight" fmla="*/ 2783160 w 2782800"/>
              <a:gd name="textAreaTop" fmla="*/ 0 h 954000"/>
              <a:gd name="textAreaBottom" fmla="*/ 954360 h 95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MP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-L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506920" y="5216400"/>
            <a:ext cx="2783160" cy="954360"/>
          </a:xfrm>
          <a:custGeom>
            <a:avLst/>
            <a:gdLst>
              <a:gd name="textAreaLeft" fmla="*/ 0 w 2783160"/>
              <a:gd name="textAreaRight" fmla="*/ 2783520 w 2783160"/>
              <a:gd name="textAreaTop" fmla="*/ 0 h 954360"/>
              <a:gd name="textAreaBottom" fmla="*/ 954720 h 95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99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IF UNI 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-L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091120" y="5008680"/>
            <a:ext cx="846000" cy="560160"/>
          </a:xfrm>
          <a:custGeom>
            <a:avLst/>
            <a:gdLst/>
            <a:ahLst/>
            <a:rect l="l" t="t" r="r" b="b"/>
            <a:pathLst>
              <a:path w="541" h="353">
                <a:moveTo>
                  <a:pt x="77" y="0"/>
                </a:moveTo>
                <a:cubicBezTo>
                  <a:pt x="38" y="116"/>
                  <a:pt x="0" y="233"/>
                  <a:pt x="77" y="292"/>
                </a:cubicBezTo>
                <a:cubicBezTo>
                  <a:pt x="154" y="351"/>
                  <a:pt x="347" y="352"/>
                  <a:pt x="541" y="35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189840" y="2909880"/>
            <a:ext cx="2782800" cy="954000"/>
          </a:xfrm>
          <a:custGeom>
            <a:avLst/>
            <a:gdLst>
              <a:gd name="textAreaLeft" fmla="*/ 0 w 2782800"/>
              <a:gd name="textAreaRight" fmla="*/ 2783160 w 2782800"/>
              <a:gd name="textAreaTop" fmla="*/ 0 h 954000"/>
              <a:gd name="textAreaBottom" fmla="*/ 954360 h 95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.7713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5734080" y="3467880"/>
            <a:ext cx="846000" cy="560520"/>
          </a:xfrm>
          <a:custGeom>
            <a:avLst/>
            <a:gdLst/>
            <a:ahLst/>
            <a:rect l="l" t="t" r="r" b="b"/>
            <a:pathLst>
              <a:path w="541" h="353">
                <a:moveTo>
                  <a:pt x="77" y="0"/>
                </a:moveTo>
                <a:cubicBezTo>
                  <a:pt x="38" y="116"/>
                  <a:pt x="0" y="233"/>
                  <a:pt x="77" y="292"/>
                </a:cubicBezTo>
                <a:cubicBezTo>
                  <a:pt x="154" y="351"/>
                  <a:pt x="347" y="352"/>
                  <a:pt x="541" y="35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273800" y="3876840"/>
            <a:ext cx="382680" cy="1336680"/>
          </a:xfrm>
          <a:custGeom>
            <a:avLst/>
            <a:gdLst/>
            <a:ahLst/>
            <a:rect l="l" t="t" r="r" b="b"/>
            <a:pathLst>
              <a:path w="241" h="842">
                <a:moveTo>
                  <a:pt x="0" y="842"/>
                </a:moveTo>
                <a:cubicBezTo>
                  <a:pt x="70" y="693"/>
                  <a:pt x="141" y="544"/>
                  <a:pt x="181" y="404"/>
                </a:cubicBezTo>
                <a:cubicBezTo>
                  <a:pt x="221" y="264"/>
                  <a:pt x="231" y="132"/>
                  <a:pt x="24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CR-LDP Extensions for ASON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797040" y="1981080"/>
            <a:ext cx="776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-LDP already doesn’t rely on bearer to check the health of the control chann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keepalive mechanism has always been a part of L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s new messages related to call contro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l Setup 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ly used for cases where the call setup is not accompanied by a connection set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l Release 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iggers the release of all connections associated to the call (using the normal CR-LDP procedure for connection releas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s new TLVs related to call ope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l ID TL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l Capability TL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U-T G.7713.3 draft capturing the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istributed call and connection management signalling using GMPLS CR-LD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06040" y="609480"/>
            <a:ext cx="76518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CR-LDP Extensions for ASON: An Example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133720" y="1362240"/>
            <a:ext cx="4724280" cy="2895480"/>
          </a:xfrm>
          <a:custGeom>
            <a:avLst/>
            <a:gdLst/>
            <a:ahLst/>
            <a:rect l="l" t="t" r="r" b="b"/>
            <a:pathLst>
              <a:path w="1617" h="862">
                <a:moveTo>
                  <a:pt x="237" y="640"/>
                </a:moveTo>
                <a:lnTo>
                  <a:pt x="260" y="681"/>
                </a:lnTo>
                <a:lnTo>
                  <a:pt x="289" y="721"/>
                </a:lnTo>
                <a:lnTo>
                  <a:pt x="320" y="755"/>
                </a:lnTo>
                <a:lnTo>
                  <a:pt x="356" y="787"/>
                </a:lnTo>
                <a:lnTo>
                  <a:pt x="393" y="813"/>
                </a:lnTo>
                <a:lnTo>
                  <a:pt x="433" y="833"/>
                </a:lnTo>
                <a:lnTo>
                  <a:pt x="476" y="849"/>
                </a:lnTo>
                <a:lnTo>
                  <a:pt x="519" y="859"/>
                </a:lnTo>
                <a:lnTo>
                  <a:pt x="562" y="862"/>
                </a:lnTo>
                <a:lnTo>
                  <a:pt x="607" y="861"/>
                </a:lnTo>
                <a:lnTo>
                  <a:pt x="650" y="852"/>
                </a:lnTo>
                <a:lnTo>
                  <a:pt x="693" y="839"/>
                </a:lnTo>
                <a:lnTo>
                  <a:pt x="733" y="821"/>
                </a:lnTo>
                <a:lnTo>
                  <a:pt x="773" y="796"/>
                </a:lnTo>
                <a:lnTo>
                  <a:pt x="808" y="767"/>
                </a:lnTo>
                <a:lnTo>
                  <a:pt x="844" y="796"/>
                </a:lnTo>
                <a:lnTo>
                  <a:pt x="884" y="821"/>
                </a:lnTo>
                <a:lnTo>
                  <a:pt x="924" y="839"/>
                </a:lnTo>
                <a:lnTo>
                  <a:pt x="967" y="852"/>
                </a:lnTo>
                <a:lnTo>
                  <a:pt x="1010" y="861"/>
                </a:lnTo>
                <a:lnTo>
                  <a:pt x="1055" y="862"/>
                </a:lnTo>
                <a:lnTo>
                  <a:pt x="1098" y="859"/>
                </a:lnTo>
                <a:lnTo>
                  <a:pt x="1141" y="849"/>
                </a:lnTo>
                <a:lnTo>
                  <a:pt x="1184" y="833"/>
                </a:lnTo>
                <a:lnTo>
                  <a:pt x="1224" y="813"/>
                </a:lnTo>
                <a:lnTo>
                  <a:pt x="1261" y="787"/>
                </a:lnTo>
                <a:lnTo>
                  <a:pt x="1297" y="755"/>
                </a:lnTo>
                <a:lnTo>
                  <a:pt x="1328" y="721"/>
                </a:lnTo>
                <a:lnTo>
                  <a:pt x="1357" y="681"/>
                </a:lnTo>
                <a:lnTo>
                  <a:pt x="1380" y="640"/>
                </a:lnTo>
                <a:lnTo>
                  <a:pt x="1411" y="645"/>
                </a:lnTo>
                <a:lnTo>
                  <a:pt x="1441" y="645"/>
                </a:lnTo>
                <a:lnTo>
                  <a:pt x="1473" y="640"/>
                </a:lnTo>
                <a:lnTo>
                  <a:pt x="1502" y="629"/>
                </a:lnTo>
                <a:lnTo>
                  <a:pt x="1531" y="612"/>
                </a:lnTo>
                <a:lnTo>
                  <a:pt x="1556" y="589"/>
                </a:lnTo>
                <a:lnTo>
                  <a:pt x="1578" y="563"/>
                </a:lnTo>
                <a:lnTo>
                  <a:pt x="1594" y="534"/>
                </a:lnTo>
                <a:lnTo>
                  <a:pt x="1606" y="501"/>
                </a:lnTo>
                <a:lnTo>
                  <a:pt x="1615" y="466"/>
                </a:lnTo>
                <a:lnTo>
                  <a:pt x="1617" y="432"/>
                </a:lnTo>
                <a:lnTo>
                  <a:pt x="1615" y="396"/>
                </a:lnTo>
                <a:lnTo>
                  <a:pt x="1606" y="361"/>
                </a:lnTo>
                <a:lnTo>
                  <a:pt x="1594" y="328"/>
                </a:lnTo>
                <a:lnTo>
                  <a:pt x="1578" y="299"/>
                </a:lnTo>
                <a:lnTo>
                  <a:pt x="1556" y="272"/>
                </a:lnTo>
                <a:lnTo>
                  <a:pt x="1531" y="249"/>
                </a:lnTo>
                <a:lnTo>
                  <a:pt x="1502" y="233"/>
                </a:lnTo>
                <a:lnTo>
                  <a:pt x="1473" y="222"/>
                </a:lnTo>
                <a:lnTo>
                  <a:pt x="1441" y="217"/>
                </a:lnTo>
                <a:lnTo>
                  <a:pt x="1411" y="217"/>
                </a:lnTo>
                <a:lnTo>
                  <a:pt x="1380" y="222"/>
                </a:lnTo>
                <a:lnTo>
                  <a:pt x="1357" y="180"/>
                </a:lnTo>
                <a:lnTo>
                  <a:pt x="1328" y="141"/>
                </a:lnTo>
                <a:lnTo>
                  <a:pt x="1297" y="107"/>
                </a:lnTo>
                <a:lnTo>
                  <a:pt x="1261" y="75"/>
                </a:lnTo>
                <a:lnTo>
                  <a:pt x="1224" y="49"/>
                </a:lnTo>
                <a:lnTo>
                  <a:pt x="1184" y="29"/>
                </a:lnTo>
                <a:lnTo>
                  <a:pt x="1141" y="13"/>
                </a:lnTo>
                <a:lnTo>
                  <a:pt x="1098" y="3"/>
                </a:lnTo>
                <a:lnTo>
                  <a:pt x="1055" y="0"/>
                </a:lnTo>
                <a:lnTo>
                  <a:pt x="1010" y="1"/>
                </a:lnTo>
                <a:lnTo>
                  <a:pt x="967" y="10"/>
                </a:lnTo>
                <a:lnTo>
                  <a:pt x="924" y="23"/>
                </a:lnTo>
                <a:lnTo>
                  <a:pt x="884" y="41"/>
                </a:lnTo>
                <a:lnTo>
                  <a:pt x="844" y="65"/>
                </a:lnTo>
                <a:lnTo>
                  <a:pt x="808" y="95"/>
                </a:lnTo>
                <a:lnTo>
                  <a:pt x="773" y="65"/>
                </a:lnTo>
                <a:lnTo>
                  <a:pt x="733" y="41"/>
                </a:lnTo>
                <a:lnTo>
                  <a:pt x="693" y="23"/>
                </a:lnTo>
                <a:lnTo>
                  <a:pt x="650" y="10"/>
                </a:lnTo>
                <a:lnTo>
                  <a:pt x="607" y="1"/>
                </a:lnTo>
                <a:lnTo>
                  <a:pt x="562" y="0"/>
                </a:lnTo>
                <a:lnTo>
                  <a:pt x="519" y="3"/>
                </a:lnTo>
                <a:lnTo>
                  <a:pt x="476" y="13"/>
                </a:lnTo>
                <a:lnTo>
                  <a:pt x="433" y="29"/>
                </a:lnTo>
                <a:lnTo>
                  <a:pt x="393" y="49"/>
                </a:lnTo>
                <a:lnTo>
                  <a:pt x="356" y="75"/>
                </a:lnTo>
                <a:lnTo>
                  <a:pt x="320" y="107"/>
                </a:lnTo>
                <a:lnTo>
                  <a:pt x="289" y="141"/>
                </a:lnTo>
                <a:lnTo>
                  <a:pt x="260" y="180"/>
                </a:lnTo>
                <a:lnTo>
                  <a:pt x="237" y="222"/>
                </a:lnTo>
                <a:lnTo>
                  <a:pt x="206" y="217"/>
                </a:lnTo>
                <a:lnTo>
                  <a:pt x="176" y="217"/>
                </a:lnTo>
                <a:lnTo>
                  <a:pt x="144" y="222"/>
                </a:lnTo>
                <a:lnTo>
                  <a:pt x="115" y="233"/>
                </a:lnTo>
                <a:lnTo>
                  <a:pt x="86" y="249"/>
                </a:lnTo>
                <a:lnTo>
                  <a:pt x="61" y="272"/>
                </a:lnTo>
                <a:lnTo>
                  <a:pt x="39" y="299"/>
                </a:lnTo>
                <a:lnTo>
                  <a:pt x="23" y="328"/>
                </a:lnTo>
                <a:lnTo>
                  <a:pt x="11" y="361"/>
                </a:lnTo>
                <a:lnTo>
                  <a:pt x="2" y="396"/>
                </a:lnTo>
                <a:lnTo>
                  <a:pt x="0" y="432"/>
                </a:lnTo>
                <a:lnTo>
                  <a:pt x="2" y="466"/>
                </a:lnTo>
                <a:lnTo>
                  <a:pt x="11" y="501"/>
                </a:lnTo>
                <a:lnTo>
                  <a:pt x="23" y="534"/>
                </a:lnTo>
                <a:lnTo>
                  <a:pt x="39" y="563"/>
                </a:lnTo>
                <a:lnTo>
                  <a:pt x="61" y="589"/>
                </a:lnTo>
                <a:lnTo>
                  <a:pt x="86" y="612"/>
                </a:lnTo>
                <a:lnTo>
                  <a:pt x="115" y="629"/>
                </a:lnTo>
                <a:lnTo>
                  <a:pt x="144" y="640"/>
                </a:lnTo>
                <a:lnTo>
                  <a:pt x="176" y="645"/>
                </a:lnTo>
                <a:lnTo>
                  <a:pt x="206" y="645"/>
                </a:lnTo>
                <a:lnTo>
                  <a:pt x="237" y="640"/>
                </a:lnTo>
                <a:close/>
              </a:path>
            </a:pathLst>
          </a:custGeom>
          <a:solidFill>
            <a:srgbClr val="ffffff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1854360" y="2660760"/>
            <a:ext cx="485640" cy="63504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6553080" y="2581200"/>
            <a:ext cx="486000" cy="63504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3"/>
          <a:stretch/>
        </p:blipFill>
        <p:spPr>
          <a:xfrm>
            <a:off x="4086360" y="3800520"/>
            <a:ext cx="485640" cy="63504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4"/>
          <a:stretch/>
        </p:blipFill>
        <p:spPr>
          <a:xfrm>
            <a:off x="4086360" y="2644920"/>
            <a:ext cx="485640" cy="63468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5"/>
          <a:stretch/>
        </p:blipFill>
        <p:spPr>
          <a:xfrm>
            <a:off x="4086360" y="1209600"/>
            <a:ext cx="485640" cy="63504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6"/>
          <a:stretch/>
        </p:blipFill>
        <p:spPr>
          <a:xfrm>
            <a:off x="838080" y="2787480"/>
            <a:ext cx="525600" cy="34956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7"/>
          <a:stretch/>
        </p:blipFill>
        <p:spPr>
          <a:xfrm>
            <a:off x="7696080" y="2787480"/>
            <a:ext cx="525600" cy="349560"/>
          </a:xfrm>
          <a:prstGeom prst="rect">
            <a:avLst/>
          </a:prstGeom>
          <a:ln w="0">
            <a:noFill/>
          </a:ln>
        </p:spPr>
      </p:pic>
      <p:grpSp>
        <p:nvGrpSpPr>
          <p:cNvPr id="378" name=""/>
          <p:cNvGrpSpPr/>
          <p:nvPr/>
        </p:nvGrpSpPr>
        <p:grpSpPr>
          <a:xfrm>
            <a:off x="1371600" y="2962440"/>
            <a:ext cx="6324480" cy="0"/>
            <a:chOff x="1371600" y="2962440"/>
            <a:chExt cx="6324480" cy="0"/>
          </a:xfrm>
        </p:grpSpPr>
        <p:sp>
          <p:nvSpPr>
            <p:cNvPr id="379" name=""/>
            <p:cNvSpPr/>
            <p:nvPr/>
          </p:nvSpPr>
          <p:spPr>
            <a:xfrm>
              <a:off x="1371600" y="29624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362320" y="2962440"/>
              <a:ext cx="175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572000" y="2962440"/>
              <a:ext cx="19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086600" y="29624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5715000" y="91440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440" rIns="82440" tIns="-41040" bIns="-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703200" y="762120"/>
            <a:ext cx="11865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 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1371600" y="3114720"/>
            <a:ext cx="6324480" cy="0"/>
            <a:chOff x="1371600" y="3114720"/>
            <a:chExt cx="6324480" cy="0"/>
          </a:xfrm>
        </p:grpSpPr>
        <p:sp>
          <p:nvSpPr>
            <p:cNvPr id="386" name=""/>
            <p:cNvSpPr/>
            <p:nvPr/>
          </p:nvSpPr>
          <p:spPr>
            <a:xfrm>
              <a:off x="1371600" y="3114720"/>
              <a:ext cx="457200" cy="0"/>
            </a:xfrm>
            <a:prstGeom prst="line">
              <a:avLst/>
            </a:prstGeom>
            <a:ln w="28440">
              <a:solidFill>
                <a:srgbClr val="ff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362320" y="3114720"/>
              <a:ext cx="1752480" cy="0"/>
            </a:xfrm>
            <a:prstGeom prst="line">
              <a:avLst/>
            </a:prstGeom>
            <a:ln w="28440">
              <a:solidFill>
                <a:srgbClr val="ff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572000" y="3114720"/>
              <a:ext cx="1981080" cy="0"/>
            </a:xfrm>
            <a:prstGeom prst="line">
              <a:avLst/>
            </a:prstGeom>
            <a:ln w="28440">
              <a:solidFill>
                <a:srgbClr val="ff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086600" y="3114720"/>
              <a:ext cx="609480" cy="0"/>
            </a:xfrm>
            <a:prstGeom prst="line">
              <a:avLst/>
            </a:prstGeom>
            <a:ln w="28440">
              <a:solidFill>
                <a:srgbClr val="ff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5753160" y="1143000"/>
            <a:ext cx="838080" cy="0"/>
          </a:xfrm>
          <a:prstGeom prst="line">
            <a:avLst/>
          </a:prstGeom>
          <a:ln w="2844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440" rIns="82440" tIns="-41040" bIns="-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700320" y="1000080"/>
            <a:ext cx="17827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nection 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853920" y="1682640"/>
            <a:ext cx="974880" cy="974520"/>
            <a:chOff x="853920" y="1682640"/>
            <a:chExt cx="974880" cy="974520"/>
          </a:xfrm>
        </p:grpSpPr>
        <p:sp>
          <p:nvSpPr>
            <p:cNvPr id="393" name=""/>
            <p:cNvSpPr/>
            <p:nvPr/>
          </p:nvSpPr>
          <p:spPr>
            <a:xfrm>
              <a:off x="853920" y="1682640"/>
              <a:ext cx="58320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990360" y="2276280"/>
              <a:ext cx="759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066680" y="2276280"/>
              <a:ext cx="7621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7009920" y="1743120"/>
            <a:ext cx="838800" cy="914400"/>
            <a:chOff x="7009920" y="1743120"/>
            <a:chExt cx="838800" cy="914400"/>
          </a:xfrm>
        </p:grpSpPr>
        <p:sp>
          <p:nvSpPr>
            <p:cNvPr id="397" name=""/>
            <p:cNvSpPr/>
            <p:nvPr/>
          </p:nvSpPr>
          <p:spPr>
            <a:xfrm>
              <a:off x="7115040" y="1743120"/>
              <a:ext cx="58320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7009920" y="2276640"/>
              <a:ext cx="2286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238880" y="2276640"/>
              <a:ext cx="6098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1371600" y="4572000"/>
            <a:ext cx="67816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itial Call Request may or may not be accompanied by a connection 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08160" y="1407960"/>
            <a:ext cx="4494240" cy="1116000"/>
          </a:xfrm>
          <a:custGeom>
            <a:avLst/>
            <a:gdLst/>
            <a:ahLst/>
            <a:rect l="l" t="t" r="r" b="b"/>
            <a:pathLst>
              <a:path w="2831" h="703">
                <a:moveTo>
                  <a:pt x="0" y="703"/>
                </a:moveTo>
                <a:cubicBezTo>
                  <a:pt x="137" y="566"/>
                  <a:pt x="327" y="283"/>
                  <a:pt x="459" y="235"/>
                </a:cubicBezTo>
                <a:cubicBezTo>
                  <a:pt x="590" y="188"/>
                  <a:pt x="684" y="132"/>
                  <a:pt x="820" y="108"/>
                </a:cubicBezTo>
                <a:cubicBezTo>
                  <a:pt x="975" y="28"/>
                  <a:pt x="1156" y="22"/>
                  <a:pt x="1327" y="0"/>
                </a:cubicBezTo>
                <a:cubicBezTo>
                  <a:pt x="1461" y="3"/>
                  <a:pt x="1594" y="4"/>
                  <a:pt x="1728" y="10"/>
                </a:cubicBezTo>
                <a:cubicBezTo>
                  <a:pt x="1801" y="13"/>
                  <a:pt x="1837" y="84"/>
                  <a:pt x="1903" y="98"/>
                </a:cubicBezTo>
                <a:cubicBezTo>
                  <a:pt x="1954" y="109"/>
                  <a:pt x="2008" y="109"/>
                  <a:pt x="2060" y="117"/>
                </a:cubicBezTo>
                <a:cubicBezTo>
                  <a:pt x="2112" y="144"/>
                  <a:pt x="2162" y="172"/>
                  <a:pt x="2216" y="196"/>
                </a:cubicBezTo>
                <a:cubicBezTo>
                  <a:pt x="2232" y="203"/>
                  <a:pt x="2249" y="209"/>
                  <a:pt x="2265" y="215"/>
                </a:cubicBezTo>
                <a:cubicBezTo>
                  <a:pt x="2284" y="222"/>
                  <a:pt x="2323" y="235"/>
                  <a:pt x="2323" y="235"/>
                </a:cubicBezTo>
                <a:cubicBezTo>
                  <a:pt x="2333" y="245"/>
                  <a:pt x="2341" y="258"/>
                  <a:pt x="2353" y="264"/>
                </a:cubicBezTo>
                <a:cubicBezTo>
                  <a:pt x="2368" y="271"/>
                  <a:pt x="2387" y="265"/>
                  <a:pt x="2401" y="274"/>
                </a:cubicBezTo>
                <a:cubicBezTo>
                  <a:pt x="2494" y="336"/>
                  <a:pt x="2443" y="347"/>
                  <a:pt x="2548" y="371"/>
                </a:cubicBezTo>
                <a:cubicBezTo>
                  <a:pt x="2625" y="424"/>
                  <a:pt x="2532" y="355"/>
                  <a:pt x="2597" y="420"/>
                </a:cubicBezTo>
                <a:cubicBezTo>
                  <a:pt x="2605" y="428"/>
                  <a:pt x="2618" y="431"/>
                  <a:pt x="2626" y="440"/>
                </a:cubicBezTo>
                <a:cubicBezTo>
                  <a:pt x="2645" y="461"/>
                  <a:pt x="2675" y="508"/>
                  <a:pt x="2675" y="508"/>
                </a:cubicBezTo>
                <a:cubicBezTo>
                  <a:pt x="2691" y="560"/>
                  <a:pt x="2723" y="609"/>
                  <a:pt x="2753" y="654"/>
                </a:cubicBezTo>
                <a:cubicBezTo>
                  <a:pt x="2759" y="662"/>
                  <a:pt x="2773" y="659"/>
                  <a:pt x="2782" y="664"/>
                </a:cubicBezTo>
                <a:cubicBezTo>
                  <a:pt x="2792" y="669"/>
                  <a:pt x="2801" y="678"/>
                  <a:pt x="2811" y="684"/>
                </a:cubicBezTo>
                <a:cubicBezTo>
                  <a:pt x="2817" y="688"/>
                  <a:pt x="2824" y="690"/>
                  <a:pt x="2831" y="693"/>
                </a:cubicBezTo>
              </a:path>
            </a:pathLst>
          </a:custGeom>
          <a:noFill/>
          <a:ln w="2844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185920" y="3298680"/>
            <a:ext cx="4572000" cy="973440"/>
          </a:xfrm>
          <a:custGeom>
            <a:avLst/>
            <a:gdLst/>
            <a:ahLst/>
            <a:rect l="l" t="t" r="r" b="b"/>
            <a:pathLst>
              <a:path w="2880" h="613">
                <a:moveTo>
                  <a:pt x="0" y="69"/>
                </a:moveTo>
                <a:cubicBezTo>
                  <a:pt x="28" y="103"/>
                  <a:pt x="77" y="136"/>
                  <a:pt x="97" y="176"/>
                </a:cubicBezTo>
                <a:cubicBezTo>
                  <a:pt x="119" y="220"/>
                  <a:pt x="121" y="278"/>
                  <a:pt x="156" y="313"/>
                </a:cubicBezTo>
                <a:cubicBezTo>
                  <a:pt x="191" y="348"/>
                  <a:pt x="247" y="352"/>
                  <a:pt x="292" y="371"/>
                </a:cubicBezTo>
                <a:cubicBezTo>
                  <a:pt x="318" y="397"/>
                  <a:pt x="389" y="498"/>
                  <a:pt x="449" y="508"/>
                </a:cubicBezTo>
                <a:cubicBezTo>
                  <a:pt x="514" y="519"/>
                  <a:pt x="644" y="537"/>
                  <a:pt x="644" y="537"/>
                </a:cubicBezTo>
                <a:cubicBezTo>
                  <a:pt x="764" y="599"/>
                  <a:pt x="644" y="547"/>
                  <a:pt x="859" y="576"/>
                </a:cubicBezTo>
                <a:cubicBezTo>
                  <a:pt x="879" y="579"/>
                  <a:pt x="897" y="592"/>
                  <a:pt x="917" y="596"/>
                </a:cubicBezTo>
                <a:cubicBezTo>
                  <a:pt x="943" y="602"/>
                  <a:pt x="969" y="603"/>
                  <a:pt x="995" y="606"/>
                </a:cubicBezTo>
                <a:cubicBezTo>
                  <a:pt x="1518" y="600"/>
                  <a:pt x="1798" y="613"/>
                  <a:pt x="2245" y="518"/>
                </a:cubicBezTo>
                <a:cubicBezTo>
                  <a:pt x="2325" y="469"/>
                  <a:pt x="2411" y="435"/>
                  <a:pt x="2499" y="401"/>
                </a:cubicBezTo>
                <a:cubicBezTo>
                  <a:pt x="2539" y="338"/>
                  <a:pt x="2491" y="399"/>
                  <a:pt x="2587" y="352"/>
                </a:cubicBezTo>
                <a:cubicBezTo>
                  <a:pt x="2599" y="346"/>
                  <a:pt x="2605" y="331"/>
                  <a:pt x="2616" y="323"/>
                </a:cubicBezTo>
                <a:cubicBezTo>
                  <a:pt x="2624" y="317"/>
                  <a:pt x="2635" y="316"/>
                  <a:pt x="2645" y="313"/>
                </a:cubicBezTo>
                <a:cubicBezTo>
                  <a:pt x="2669" y="277"/>
                  <a:pt x="2666" y="246"/>
                  <a:pt x="2684" y="215"/>
                </a:cubicBezTo>
                <a:cubicBezTo>
                  <a:pt x="2719" y="155"/>
                  <a:pt x="2763" y="117"/>
                  <a:pt x="2811" y="69"/>
                </a:cubicBezTo>
                <a:cubicBezTo>
                  <a:pt x="2822" y="58"/>
                  <a:pt x="2829" y="41"/>
                  <a:pt x="2840" y="30"/>
                </a:cubicBezTo>
                <a:cubicBezTo>
                  <a:pt x="2852" y="18"/>
                  <a:pt x="2868" y="12"/>
                  <a:pt x="2880" y="0"/>
                </a:cubicBezTo>
              </a:path>
            </a:pathLst>
          </a:custGeom>
          <a:noFill/>
          <a:ln w="2844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371600" y="5181480"/>
            <a:ext cx="601992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mechanism is needed to associate connections to Calls (use of Call 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447920" y="5867280"/>
            <a:ext cx="56386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ll Release MUST terminate all active connections associated with that c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06040" y="609480"/>
            <a:ext cx="76518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Next Step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80880" y="2819520"/>
            <a:ext cx="8382240" cy="1218960"/>
          </a:xfrm>
          <a:custGeom>
            <a:avLst/>
            <a:gdLst>
              <a:gd name="textAreaLeft" fmla="*/ 1309680 w 8382240"/>
              <a:gd name="textAreaRight" fmla="*/ 7334640 w 8382240"/>
              <a:gd name="textAreaTop" fmla="*/ 304560 h 1218960"/>
              <a:gd name="textAreaBottom" fmla="*/ 914400 h 12189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175e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219320" y="1314360"/>
            <a:ext cx="1904760" cy="8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March 2002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TU starts CR-LDP for G.7713 (7713.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057400" y="2151000"/>
            <a:ext cx="0" cy="9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3505320" y="3733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666880" y="4648320"/>
            <a:ext cx="1905120" cy="104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July 2002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ntroduces G.7713.3 extensions to IETF CCAMP W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114800" y="1676520"/>
            <a:ext cx="1981080" cy="62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Jan. 2003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G.7713.3 for cons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105520" y="2300400"/>
            <a:ext cx="0" cy="82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8763120" y="2300400"/>
            <a:ext cx="0" cy="11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707160" y="1314360"/>
            <a:ext cx="2286000" cy="8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ear Fu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veryone uses G.7713.3 for ASON Signaling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797040" y="1981080"/>
            <a:ext cx="776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What is CR-LDP?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97040" y="1981080"/>
            <a:ext cx="776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-LDP” stands for “Constraint-based Label Distribution Protocol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d in the IETF in the MPLS W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t from the Label Distribution Protocol (LDP) also developed in the IET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-LDP is a signalling protocol used to set up Label Switched Paths in an IP/MPLS networ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Conclusion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797040" y="1981080"/>
            <a:ext cx="776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-LDP originated with a connection oriented signalling mode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-LDP has evolved for IETF GMPLS and OIF UN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-LDP can be successfully extended to meeting ASON signalling requireme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Acknowledgement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797040" y="1981080"/>
            <a:ext cx="776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erial originally developed by various Nortel Networks authors, noteably Osama Aboul-Magd,  was used in this present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rimary_end0516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What is CR-LDP for ASON?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97040" y="1981080"/>
            <a:ext cx="776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.7713 describes detailed requirements for Distributed Call and Connection 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onforms to the G.8080 architecture (ASO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protocol-neut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.7713.3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“Distributed call and connection management signalling using GMPLS CR-LD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 protocol specification that will comply with G.77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CR-LD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essing in Q14/1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06040" y="609480"/>
            <a:ext cx="76518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CR-LDP Development History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360" y="3865680"/>
            <a:ext cx="8153280" cy="38088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175e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3065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8640" y="2335320"/>
            <a:ext cx="1567800" cy="72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ec. 1997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irst LDP draft 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E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514600" y="4284720"/>
            <a:ext cx="0" cy="74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5046840"/>
            <a:ext cx="1828800" cy="8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ec. 1998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irst “separate”CR-LDP draft at IE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81280" y="1066680"/>
            <a:ext cx="1981440" cy="104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June 2000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IF Starts working on CR-LDP extensions for optical U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0" y="2133720"/>
            <a:ext cx="0" cy="169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67080" y="5199120"/>
            <a:ext cx="1676520" cy="8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Jan. 2001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DP becomes an RFC (3036) at IE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105520" y="4284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248520" y="30654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2228760"/>
            <a:ext cx="1600200" cy="8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Oct. 2001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IF UNI 1.0 approv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7543800" y="4284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781680" y="5199120"/>
            <a:ext cx="1676520" cy="104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Jan. 2002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R-LDP becomes an RFC (3212) at IE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772400" y="298944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34320" y="2151000"/>
            <a:ext cx="1904760" cy="8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March 2002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TU starts CR-LDP for G.7713 (7713.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346840" y="2362320"/>
            <a:ext cx="1735200" cy="72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Jan 2000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GMPLS work sta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IE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00400" y="3092400"/>
            <a:ext cx="0" cy="62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CR-LDP Detail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01640" y="1420560"/>
            <a:ext cx="776592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-LDP is an extension to LD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s existing LDP messages, but defines additional TLVs for the mess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-LDP adds TE capability to L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licit route cap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oS cap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ke LDP, runs over TC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 state that requires explicit request for state remo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CP provides reliable transport and flow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ploys the same signalling model as ATM PNNI and Q.293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er-initiated setup of resource reserv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its connection oriented networks and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cognized as a method of transporting IP over ATM in Recommendation Y.1310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06040" y="609480"/>
            <a:ext cx="76518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CR-LDP Messages and Categorie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19320" y="1295280"/>
            <a:ext cx="6781680" cy="388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95480" y="12952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12952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19320" y="2209680"/>
            <a:ext cx="678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-41040" bIns="-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17760" y="1498680"/>
            <a:ext cx="10861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ateg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68840" y="1577880"/>
            <a:ext cx="105408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19120" y="1577880"/>
            <a:ext cx="15937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LDP Mess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19320" y="2209680"/>
            <a:ext cx="1676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over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95480" y="2209680"/>
            <a:ext cx="266724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ounce and maintain the presence of NEs in a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62720" y="2209680"/>
            <a:ext cx="24382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llo (using UD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19320" y="2743200"/>
            <a:ext cx="678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-41040" bIns="-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19320" y="2743200"/>
            <a:ext cx="1676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95480" y="2743200"/>
            <a:ext cx="26672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d to establish, maintain, and terminate sessions between LDP pe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2743200"/>
            <a:ext cx="24382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lization, and Keepal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19320" y="3463920"/>
            <a:ext cx="1676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ertis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95480" y="3463920"/>
            <a:ext cx="26672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d to create, change and delete Label mappings (connectio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3463920"/>
            <a:ext cx="2438280" cy="11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bel Request, Label Mapping, Label Abort, Label Withdraw, Label Release, Address, and Address withdra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19320" y="4572000"/>
            <a:ext cx="678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-41040" bIns="-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19320" y="4610160"/>
            <a:ext cx="1676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95480" y="4610160"/>
            <a:ext cx="266724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provide advisory information and to signal erro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62720" y="4610160"/>
            <a:ext cx="24382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19320" y="3429000"/>
            <a:ext cx="678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-41040" bIns="-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06040" y="609480"/>
            <a:ext cx="76518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LDP Message Format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76520" y="1447920"/>
            <a:ext cx="5562360" cy="25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1828800"/>
            <a:ext cx="556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-41040" bIns="-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76520" y="1533600"/>
            <a:ext cx="2937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05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1533600"/>
            <a:ext cx="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1533600"/>
            <a:ext cx="18288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00600" y="1533600"/>
            <a:ext cx="18288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Leng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76520" y="2209680"/>
            <a:ext cx="556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-41040" bIns="-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29000" y="1828800"/>
            <a:ext cx="22860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76520" y="3048120"/>
            <a:ext cx="556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-41040" bIns="-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29000" y="2514600"/>
            <a:ext cx="22860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datory 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429000" y="3281400"/>
            <a:ext cx="22860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onal 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440" y="4821120"/>
            <a:ext cx="5742000" cy="9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 bit: defines the action to be taken upon receipt of unknown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 = 0 a notification is returned to the originator of the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 = 1 the unknown message is silently igno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06040" y="609480"/>
            <a:ext cx="76518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CR-LDP details: Example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50" name="Big_Cloud" descr=""/>
          <p:cNvPicPr/>
          <p:nvPr/>
        </p:nvPicPr>
        <p:blipFill>
          <a:blip r:embed="rId1"/>
          <a:srcRect l="0" t="20000" r="26354" b="0"/>
          <a:stretch/>
        </p:blipFill>
        <p:spPr>
          <a:xfrm>
            <a:off x="7143840" y="1512720"/>
            <a:ext cx="1595520" cy="955800"/>
          </a:xfrm>
          <a:prstGeom prst="rect">
            <a:avLst/>
          </a:prstGeom>
          <a:ln w="0">
            <a:noFill/>
          </a:ln>
        </p:spPr>
      </p:pic>
      <p:pic>
        <p:nvPicPr>
          <p:cNvPr id="151" name="Big_Cloud" descr=""/>
          <p:cNvPicPr/>
          <p:nvPr/>
        </p:nvPicPr>
        <p:blipFill>
          <a:blip r:embed="rId2"/>
          <a:srcRect l="26354" t="20000" r="0" b="0"/>
          <a:stretch/>
        </p:blipFill>
        <p:spPr>
          <a:xfrm>
            <a:off x="298440" y="1512720"/>
            <a:ext cx="1595520" cy="955800"/>
          </a:xfrm>
          <a:prstGeom prst="rect">
            <a:avLst/>
          </a:prstGeom>
          <a:ln w="0">
            <a:noFill/>
          </a:ln>
        </p:spPr>
      </p:pic>
      <p:pic>
        <p:nvPicPr>
          <p:cNvPr id="152" name="Big_Cloud" descr=""/>
          <p:cNvPicPr/>
          <p:nvPr/>
        </p:nvPicPr>
        <p:blipFill>
          <a:blip r:embed="rId3"/>
          <a:stretch/>
        </p:blipFill>
        <p:spPr>
          <a:xfrm>
            <a:off x="1135080" y="1606680"/>
            <a:ext cx="7173720" cy="4341600"/>
          </a:xfrm>
          <a:prstGeom prst="rect">
            <a:avLst/>
          </a:prstGeom>
          <a:ln w="0">
            <a:noFill/>
          </a:ln>
        </p:spPr>
      </p:pic>
      <p:grpSp>
        <p:nvGrpSpPr>
          <p:cNvPr id="153" name=""/>
          <p:cNvGrpSpPr/>
          <p:nvPr/>
        </p:nvGrpSpPr>
        <p:grpSpPr>
          <a:xfrm>
            <a:off x="1409760" y="2080800"/>
            <a:ext cx="6678720" cy="3740400"/>
            <a:chOff x="1409760" y="2080800"/>
            <a:chExt cx="6678720" cy="3740400"/>
          </a:xfrm>
        </p:grpSpPr>
        <p:sp>
          <p:nvSpPr>
            <p:cNvPr id="154" name=""/>
            <p:cNvSpPr/>
            <p:nvPr/>
          </p:nvSpPr>
          <p:spPr>
            <a:xfrm>
              <a:off x="3632400" y="5151600"/>
              <a:ext cx="101520" cy="6696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731400" y="5145120"/>
              <a:ext cx="165240" cy="676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742560" y="5186520"/>
              <a:ext cx="438120" cy="634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3448080" y="5103720"/>
              <a:ext cx="208080" cy="7174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3179880" y="5145120"/>
              <a:ext cx="433440" cy="676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954520" y="5113440"/>
              <a:ext cx="706320" cy="7077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3657600" y="3917880"/>
              <a:ext cx="1114560" cy="1114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5843520" y="3944880"/>
              <a:ext cx="1114560" cy="1114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916680" y="2633760"/>
              <a:ext cx="0" cy="13539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732200" y="2610000"/>
              <a:ext cx="0" cy="13539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478240" y="2700360"/>
              <a:ext cx="1063440" cy="23796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97400" y="5167440"/>
              <a:ext cx="215244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741920" y="3941640"/>
              <a:ext cx="21528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 flipV="1">
              <a:off x="1409760" y="2080800"/>
              <a:ext cx="844560" cy="4986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552760" y="2658960"/>
              <a:ext cx="414828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243920" y="2080800"/>
              <a:ext cx="844560" cy="4986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755640" y="1595520"/>
            <a:ext cx="7778520" cy="3816360"/>
            <a:chOff x="755640" y="1595520"/>
            <a:chExt cx="7778520" cy="3816360"/>
          </a:xfrm>
        </p:grpSpPr>
        <p:grpSp>
          <p:nvGrpSpPr>
            <p:cNvPr id="171" name=""/>
            <p:cNvGrpSpPr/>
            <p:nvPr/>
          </p:nvGrpSpPr>
          <p:grpSpPr>
            <a:xfrm>
              <a:off x="4298760" y="2336760"/>
              <a:ext cx="825480" cy="542880"/>
              <a:chOff x="4298760" y="2336760"/>
              <a:chExt cx="825480" cy="542880"/>
            </a:xfrm>
          </p:grpSpPr>
          <p:grpSp>
            <p:nvGrpSpPr>
              <p:cNvPr id="172" name=""/>
              <p:cNvGrpSpPr/>
              <p:nvPr/>
            </p:nvGrpSpPr>
            <p:grpSpPr>
              <a:xfrm>
                <a:off x="4340160" y="2368440"/>
                <a:ext cx="761760" cy="511200"/>
                <a:chOff x="4340160" y="2368440"/>
                <a:chExt cx="761760" cy="511200"/>
              </a:xfrm>
            </p:grpSpPr>
            <p:pic>
              <p:nvPicPr>
                <p:cNvPr id="173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340160" y="2373120"/>
                  <a:ext cx="761760" cy="506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" name=""/>
                <p:cNvSpPr/>
                <p:nvPr/>
              </p:nvSpPr>
              <p:spPr>
                <a:xfrm>
                  <a:off x="4344480" y="2368440"/>
                  <a:ext cx="744480" cy="288720"/>
                </a:xfrm>
                <a:prstGeom prst="ellipse">
                  <a:avLst/>
                </a:prstGeom>
                <a:solidFill>
                  <a:srgbClr val="99cc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440" rIns="82440" tIns="41040" bIns="410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" name=""/>
              <p:cNvSpPr/>
              <p:nvPr/>
            </p:nvSpPr>
            <p:spPr>
              <a:xfrm>
                <a:off x="4298760" y="2336760"/>
                <a:ext cx="825480" cy="32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1.1.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6519600" y="3660840"/>
              <a:ext cx="825480" cy="538200"/>
              <a:chOff x="6519600" y="3660840"/>
              <a:chExt cx="825480" cy="538200"/>
            </a:xfrm>
          </p:grpSpPr>
          <p:grpSp>
            <p:nvGrpSpPr>
              <p:cNvPr id="177" name=""/>
              <p:cNvGrpSpPr/>
              <p:nvPr/>
            </p:nvGrpSpPr>
            <p:grpSpPr>
              <a:xfrm>
                <a:off x="6530760" y="3687840"/>
                <a:ext cx="762120" cy="511200"/>
                <a:chOff x="6530760" y="3687840"/>
                <a:chExt cx="762120" cy="511200"/>
              </a:xfrm>
            </p:grpSpPr>
            <p:pic>
              <p:nvPicPr>
                <p:cNvPr id="178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530760" y="3692520"/>
                  <a:ext cx="762120" cy="506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9" name=""/>
                <p:cNvSpPr/>
                <p:nvPr/>
              </p:nvSpPr>
              <p:spPr>
                <a:xfrm>
                  <a:off x="6535440" y="3687840"/>
                  <a:ext cx="744840" cy="288720"/>
                </a:xfrm>
                <a:prstGeom prst="ellipse">
                  <a:avLst/>
                </a:prstGeom>
                <a:solidFill>
                  <a:srgbClr val="99cc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440" rIns="82440" tIns="41040" bIns="410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0" name=""/>
              <p:cNvSpPr/>
              <p:nvPr/>
            </p:nvSpPr>
            <p:spPr>
              <a:xfrm>
                <a:off x="6519600" y="3660840"/>
                <a:ext cx="825480" cy="32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1.1.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6467400" y="2333520"/>
              <a:ext cx="825480" cy="546120"/>
              <a:chOff x="6467400" y="2333520"/>
              <a:chExt cx="825480" cy="54612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6530760" y="2368440"/>
                <a:ext cx="762120" cy="511200"/>
                <a:chOff x="6530760" y="2368440"/>
                <a:chExt cx="762120" cy="511200"/>
              </a:xfrm>
            </p:grpSpPr>
            <p:pic>
              <p:nvPicPr>
                <p:cNvPr id="183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530760" y="2373120"/>
                  <a:ext cx="762120" cy="506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" name=""/>
                <p:cNvSpPr/>
                <p:nvPr/>
              </p:nvSpPr>
              <p:spPr>
                <a:xfrm>
                  <a:off x="6535440" y="2368440"/>
                  <a:ext cx="744840" cy="288720"/>
                </a:xfrm>
                <a:prstGeom prst="ellipse">
                  <a:avLst/>
                </a:prstGeom>
                <a:solidFill>
                  <a:srgbClr val="99cc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440" rIns="82440" tIns="41040" bIns="410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5" name=""/>
              <p:cNvSpPr/>
              <p:nvPr/>
            </p:nvSpPr>
            <p:spPr>
              <a:xfrm>
                <a:off x="6467400" y="2333520"/>
                <a:ext cx="825480" cy="32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1.1.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5437080" y="4900680"/>
              <a:ext cx="761760" cy="511200"/>
              <a:chOff x="5437080" y="4900680"/>
              <a:chExt cx="761760" cy="511200"/>
            </a:xfrm>
          </p:grpSpPr>
          <p:pic>
            <p:nvPicPr>
              <p:cNvPr id="18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437080" y="4905360"/>
                <a:ext cx="761760" cy="506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"/>
              <p:cNvSpPr/>
              <p:nvPr/>
            </p:nvSpPr>
            <p:spPr>
              <a:xfrm>
                <a:off x="5441400" y="4900680"/>
                <a:ext cx="744480" cy="28872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040" bIns="410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5398920" y="4863960"/>
              <a:ext cx="82548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.1.1.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3241440" y="4900680"/>
              <a:ext cx="762120" cy="511200"/>
              <a:chOff x="3241440" y="4900680"/>
              <a:chExt cx="762120" cy="511200"/>
            </a:xfrm>
          </p:grpSpPr>
          <p:pic>
            <p:nvPicPr>
              <p:cNvPr id="191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3241440" y="4905360"/>
                <a:ext cx="762120" cy="506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2" name=""/>
              <p:cNvSpPr/>
              <p:nvPr/>
            </p:nvSpPr>
            <p:spPr>
              <a:xfrm>
                <a:off x="3246120" y="4900680"/>
                <a:ext cx="744840" cy="28872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040" bIns="410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3195360" y="4863960"/>
              <a:ext cx="82548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.1.1.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4340160" y="3687840"/>
              <a:ext cx="761760" cy="511200"/>
              <a:chOff x="4340160" y="3687840"/>
              <a:chExt cx="761760" cy="511200"/>
            </a:xfrm>
          </p:grpSpPr>
          <p:pic>
            <p:nvPicPr>
              <p:cNvPr id="195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340160" y="3692520"/>
                <a:ext cx="761760" cy="506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" name=""/>
              <p:cNvSpPr/>
              <p:nvPr/>
            </p:nvSpPr>
            <p:spPr>
              <a:xfrm>
                <a:off x="4344480" y="3687840"/>
                <a:ext cx="744480" cy="28872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040" bIns="410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>
              <a:off x="4309920" y="3660840"/>
              <a:ext cx="82548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.1.1.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2136600" y="2368440"/>
              <a:ext cx="762120" cy="511200"/>
              <a:chOff x="2136600" y="2368440"/>
              <a:chExt cx="762120" cy="511200"/>
            </a:xfrm>
          </p:grpSpPr>
          <p:pic>
            <p:nvPicPr>
              <p:cNvPr id="199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136600" y="2373120"/>
                <a:ext cx="762120" cy="506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>
                <a:off x="2141280" y="2368440"/>
                <a:ext cx="744840" cy="28872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040" bIns="410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2109600" y="2336760"/>
              <a:ext cx="82548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.1.1.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7708680" y="1595520"/>
              <a:ext cx="825480" cy="546120"/>
              <a:chOff x="7708680" y="1595520"/>
              <a:chExt cx="825480" cy="546120"/>
            </a:xfrm>
          </p:grpSpPr>
          <p:grpSp>
            <p:nvGrpSpPr>
              <p:cNvPr id="203" name=""/>
              <p:cNvGrpSpPr/>
              <p:nvPr/>
            </p:nvGrpSpPr>
            <p:grpSpPr>
              <a:xfrm>
                <a:off x="7772040" y="1630440"/>
                <a:ext cx="762120" cy="511200"/>
                <a:chOff x="7772040" y="1630440"/>
                <a:chExt cx="762120" cy="511200"/>
              </a:xfrm>
            </p:grpSpPr>
            <p:pic>
              <p:nvPicPr>
                <p:cNvPr id="204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7772040" y="1635120"/>
                  <a:ext cx="762120" cy="506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5" name=""/>
                <p:cNvSpPr/>
                <p:nvPr/>
              </p:nvSpPr>
              <p:spPr>
                <a:xfrm>
                  <a:off x="7776720" y="1630440"/>
                  <a:ext cx="744840" cy="288720"/>
                </a:xfrm>
                <a:prstGeom prst="ellipse">
                  <a:avLst/>
                </a:prstGeom>
                <a:solidFill>
                  <a:srgbClr val="99cc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440" rIns="82440" tIns="41040" bIns="410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6" name=""/>
              <p:cNvSpPr/>
              <p:nvPr/>
            </p:nvSpPr>
            <p:spPr>
              <a:xfrm>
                <a:off x="7708680" y="1595520"/>
                <a:ext cx="825480" cy="32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2.0.0.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755640" y="1595520"/>
              <a:ext cx="822240" cy="546120"/>
              <a:chOff x="755640" y="1595520"/>
              <a:chExt cx="822240" cy="546120"/>
            </a:xfrm>
          </p:grpSpPr>
          <p:grpSp>
            <p:nvGrpSpPr>
              <p:cNvPr id="208" name=""/>
              <p:cNvGrpSpPr/>
              <p:nvPr/>
            </p:nvGrpSpPr>
            <p:grpSpPr>
              <a:xfrm>
                <a:off x="815760" y="1630440"/>
                <a:ext cx="762120" cy="511200"/>
                <a:chOff x="815760" y="1630440"/>
                <a:chExt cx="762120" cy="511200"/>
              </a:xfrm>
            </p:grpSpPr>
            <p:pic>
              <p:nvPicPr>
                <p:cNvPr id="209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760" y="1635120"/>
                  <a:ext cx="762120" cy="506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0" name=""/>
                <p:cNvSpPr/>
                <p:nvPr/>
              </p:nvSpPr>
              <p:spPr>
                <a:xfrm>
                  <a:off x="820440" y="1630440"/>
                  <a:ext cx="744840" cy="288720"/>
                </a:xfrm>
                <a:prstGeom prst="ellipse">
                  <a:avLst/>
                </a:prstGeom>
                <a:solidFill>
                  <a:srgbClr val="99cc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440" rIns="82440" tIns="41040" bIns="410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1" name=""/>
              <p:cNvSpPr/>
              <p:nvPr/>
            </p:nvSpPr>
            <p:spPr>
              <a:xfrm>
                <a:off x="755640" y="1595520"/>
                <a:ext cx="164880" cy="32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"/>
          <p:cNvSpPr/>
          <p:nvPr/>
        </p:nvSpPr>
        <p:spPr>
          <a:xfrm>
            <a:off x="3350880" y="5797440"/>
            <a:ext cx="542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0200" y="2813040"/>
            <a:ext cx="2641680" cy="34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53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*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Message contains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Explicit route TLV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10.1.1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ic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10.1.1.3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o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53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emption TLV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setup priority: 4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holding priority: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53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ffic parameters TLV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CDR: 10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253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other stuff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SPID TLV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ingress router: 10.1.1.4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local id: 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253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•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•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311640" y="4086360"/>
            <a:ext cx="1041480" cy="568800"/>
            <a:chOff x="3311640" y="4086360"/>
            <a:chExt cx="1041480" cy="568800"/>
          </a:xfrm>
        </p:grpSpPr>
        <p:sp>
          <p:nvSpPr>
            <p:cNvPr id="215" name=""/>
            <p:cNvSpPr/>
            <p:nvPr/>
          </p:nvSpPr>
          <p:spPr>
            <a:xfrm>
              <a:off x="3311640" y="4086360"/>
              <a:ext cx="86976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0000"/>
                  </a:solidFill>
                  <a:latin typeface="Arial"/>
                </a:rPr>
                <a:t>Request *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18900000">
              <a:off x="3836520" y="4274640"/>
              <a:ext cx="507960" cy="235080"/>
            </a:xfrm>
            <a:prstGeom prst="rightArrow">
              <a:avLst>
                <a:gd name="adj1" fmla="val 50000"/>
                <a:gd name="adj2" fmla="val 5402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3740760" y="3093840"/>
            <a:ext cx="943920" cy="507960"/>
            <a:chOff x="3740760" y="3093840"/>
            <a:chExt cx="943920" cy="507960"/>
          </a:xfrm>
        </p:grpSpPr>
        <p:sp>
          <p:nvSpPr>
            <p:cNvPr id="218" name=""/>
            <p:cNvSpPr/>
            <p:nvPr/>
          </p:nvSpPr>
          <p:spPr>
            <a:xfrm>
              <a:off x="3740760" y="3222720"/>
              <a:ext cx="76752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16200000">
              <a:off x="4313160" y="3230280"/>
              <a:ext cx="507960" cy="234720"/>
            </a:xfrm>
            <a:prstGeom prst="rightArrow">
              <a:avLst>
                <a:gd name="adj1" fmla="val 50000"/>
                <a:gd name="adj2" fmla="val 54103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4764600" y="3111480"/>
            <a:ext cx="955800" cy="508320"/>
            <a:chOff x="4764600" y="3111480"/>
            <a:chExt cx="955800" cy="508320"/>
          </a:xfrm>
        </p:grpSpPr>
        <p:sp>
          <p:nvSpPr>
            <p:cNvPr id="221" name=""/>
            <p:cNvSpPr/>
            <p:nvPr/>
          </p:nvSpPr>
          <p:spPr>
            <a:xfrm>
              <a:off x="4928400" y="3208320"/>
              <a:ext cx="79200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Mapp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rot="16193400">
              <a:off x="4628520" y="3247920"/>
              <a:ext cx="507960" cy="235080"/>
            </a:xfrm>
            <a:prstGeom prst="rightArrow">
              <a:avLst>
                <a:gd name="adj1" fmla="val 50000"/>
                <a:gd name="adj2" fmla="val 54020"/>
              </a:avLst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4006080" y="4361400"/>
            <a:ext cx="1074240" cy="525960"/>
            <a:chOff x="4006080" y="4361400"/>
            <a:chExt cx="1074240" cy="525960"/>
          </a:xfrm>
        </p:grpSpPr>
        <p:sp>
          <p:nvSpPr>
            <p:cNvPr id="224" name=""/>
            <p:cNvSpPr/>
            <p:nvPr/>
          </p:nvSpPr>
          <p:spPr>
            <a:xfrm>
              <a:off x="4288320" y="4586400"/>
              <a:ext cx="79200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Mapp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 rot="18886200">
              <a:off x="4013640" y="4506840"/>
              <a:ext cx="507960" cy="234720"/>
            </a:xfrm>
            <a:prstGeom prst="rightArrow">
              <a:avLst>
                <a:gd name="adj1" fmla="val 50000"/>
                <a:gd name="adj2" fmla="val 54103"/>
              </a:avLst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5385240" y="2136600"/>
            <a:ext cx="767520" cy="489240"/>
            <a:chOff x="5385240" y="2136600"/>
            <a:chExt cx="767520" cy="489240"/>
          </a:xfrm>
        </p:grpSpPr>
        <p:sp>
          <p:nvSpPr>
            <p:cNvPr id="227" name=""/>
            <p:cNvSpPr/>
            <p:nvPr/>
          </p:nvSpPr>
          <p:spPr>
            <a:xfrm>
              <a:off x="5385240" y="2136600"/>
              <a:ext cx="76752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523120" y="2390760"/>
              <a:ext cx="507960" cy="235080"/>
            </a:xfrm>
            <a:prstGeom prst="rightArrow">
              <a:avLst>
                <a:gd name="adj1" fmla="val 50000"/>
                <a:gd name="adj2" fmla="val 5402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5377680" y="2692080"/>
            <a:ext cx="792000" cy="467640"/>
            <a:chOff x="5377680" y="2692080"/>
            <a:chExt cx="792000" cy="467640"/>
          </a:xfrm>
        </p:grpSpPr>
        <p:sp>
          <p:nvSpPr>
            <p:cNvPr id="230" name=""/>
            <p:cNvSpPr/>
            <p:nvPr/>
          </p:nvSpPr>
          <p:spPr>
            <a:xfrm>
              <a:off x="5377680" y="2894040"/>
              <a:ext cx="79200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Mapp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 rot="21593400">
              <a:off x="5486400" y="2692440"/>
              <a:ext cx="507960" cy="235080"/>
            </a:xfrm>
            <a:prstGeom prst="rightArrow">
              <a:avLst>
                <a:gd name="adj1" fmla="val 50000"/>
                <a:gd name="adj2" fmla="val 54020"/>
              </a:avLst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06040" y="609480"/>
            <a:ext cx="76518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CR-LDP details: Example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233" name="Big_Cloud" descr=""/>
          <p:cNvPicPr/>
          <p:nvPr/>
        </p:nvPicPr>
        <p:blipFill>
          <a:blip r:embed="rId1"/>
          <a:srcRect l="0" t="20000" r="26354" b="0"/>
          <a:stretch/>
        </p:blipFill>
        <p:spPr>
          <a:xfrm>
            <a:off x="7143840" y="1512720"/>
            <a:ext cx="1595520" cy="955800"/>
          </a:xfrm>
          <a:prstGeom prst="rect">
            <a:avLst/>
          </a:prstGeom>
          <a:ln w="0">
            <a:noFill/>
          </a:ln>
        </p:spPr>
      </p:pic>
      <p:pic>
        <p:nvPicPr>
          <p:cNvPr id="234" name="Big_Cloud" descr=""/>
          <p:cNvPicPr/>
          <p:nvPr/>
        </p:nvPicPr>
        <p:blipFill>
          <a:blip r:embed="rId2"/>
          <a:srcRect l="26354" t="20000" r="0" b="0"/>
          <a:stretch/>
        </p:blipFill>
        <p:spPr>
          <a:xfrm>
            <a:off x="298440" y="1512720"/>
            <a:ext cx="1595520" cy="955800"/>
          </a:xfrm>
          <a:prstGeom prst="rect">
            <a:avLst/>
          </a:prstGeom>
          <a:ln w="0">
            <a:noFill/>
          </a:ln>
        </p:spPr>
      </p:pic>
      <p:pic>
        <p:nvPicPr>
          <p:cNvPr id="235" name="Big_Cloud" descr=""/>
          <p:cNvPicPr/>
          <p:nvPr/>
        </p:nvPicPr>
        <p:blipFill>
          <a:blip r:embed="rId3"/>
          <a:stretch/>
        </p:blipFill>
        <p:spPr>
          <a:xfrm>
            <a:off x="1135080" y="1606680"/>
            <a:ext cx="7173720" cy="4341600"/>
          </a:xfrm>
          <a:prstGeom prst="rect">
            <a:avLst/>
          </a:prstGeom>
          <a:ln w="0">
            <a:noFill/>
          </a:ln>
        </p:spPr>
      </p:pic>
      <p:grpSp>
        <p:nvGrpSpPr>
          <p:cNvPr id="236" name=""/>
          <p:cNvGrpSpPr/>
          <p:nvPr/>
        </p:nvGrpSpPr>
        <p:grpSpPr>
          <a:xfrm>
            <a:off x="1409760" y="2080800"/>
            <a:ext cx="6678720" cy="3740400"/>
            <a:chOff x="1409760" y="2080800"/>
            <a:chExt cx="6678720" cy="3740400"/>
          </a:xfrm>
        </p:grpSpPr>
        <p:sp>
          <p:nvSpPr>
            <p:cNvPr id="237" name=""/>
            <p:cNvSpPr/>
            <p:nvPr/>
          </p:nvSpPr>
          <p:spPr>
            <a:xfrm>
              <a:off x="3632400" y="5151600"/>
              <a:ext cx="101520" cy="6696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731400" y="5145120"/>
              <a:ext cx="165240" cy="676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742560" y="5186520"/>
              <a:ext cx="438120" cy="634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3448080" y="5103720"/>
              <a:ext cx="208080" cy="7174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3179880" y="5145120"/>
              <a:ext cx="433440" cy="676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2954520" y="5113440"/>
              <a:ext cx="706320" cy="7077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3657600" y="3917880"/>
              <a:ext cx="1114560" cy="1114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5843520" y="3944880"/>
              <a:ext cx="1114560" cy="1114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916680" y="2633760"/>
              <a:ext cx="0" cy="13539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732200" y="2610000"/>
              <a:ext cx="0" cy="13539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78240" y="2700360"/>
              <a:ext cx="1063440" cy="23796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97400" y="5167440"/>
              <a:ext cx="215244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741920" y="3941640"/>
              <a:ext cx="21528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409760" y="2080800"/>
              <a:ext cx="844560" cy="4986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552760" y="2658960"/>
              <a:ext cx="414828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7243920" y="2080800"/>
              <a:ext cx="844560" cy="4986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755640" y="1595520"/>
            <a:ext cx="7778520" cy="3816360"/>
            <a:chOff x="755640" y="1595520"/>
            <a:chExt cx="7778520" cy="3816360"/>
          </a:xfrm>
        </p:grpSpPr>
        <p:grpSp>
          <p:nvGrpSpPr>
            <p:cNvPr id="254" name=""/>
            <p:cNvGrpSpPr/>
            <p:nvPr/>
          </p:nvGrpSpPr>
          <p:grpSpPr>
            <a:xfrm>
              <a:off x="4298760" y="2336760"/>
              <a:ext cx="825480" cy="542880"/>
              <a:chOff x="4298760" y="2336760"/>
              <a:chExt cx="825480" cy="542880"/>
            </a:xfrm>
          </p:grpSpPr>
          <p:grpSp>
            <p:nvGrpSpPr>
              <p:cNvPr id="255" name=""/>
              <p:cNvGrpSpPr/>
              <p:nvPr/>
            </p:nvGrpSpPr>
            <p:grpSpPr>
              <a:xfrm>
                <a:off x="4340160" y="2368440"/>
                <a:ext cx="761760" cy="511200"/>
                <a:chOff x="4340160" y="2368440"/>
                <a:chExt cx="761760" cy="511200"/>
              </a:xfrm>
            </p:grpSpPr>
            <p:pic>
              <p:nvPicPr>
                <p:cNvPr id="256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340160" y="2373120"/>
                  <a:ext cx="761760" cy="506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7" name=""/>
                <p:cNvSpPr/>
                <p:nvPr/>
              </p:nvSpPr>
              <p:spPr>
                <a:xfrm>
                  <a:off x="4344480" y="2368440"/>
                  <a:ext cx="744480" cy="288720"/>
                </a:xfrm>
                <a:prstGeom prst="ellipse">
                  <a:avLst/>
                </a:prstGeom>
                <a:solidFill>
                  <a:srgbClr val="99cc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440" rIns="82440" tIns="41040" bIns="410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8" name=""/>
              <p:cNvSpPr/>
              <p:nvPr/>
            </p:nvSpPr>
            <p:spPr>
              <a:xfrm>
                <a:off x="4298760" y="2336760"/>
                <a:ext cx="825480" cy="32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1.1.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6519600" y="3660840"/>
              <a:ext cx="825480" cy="538200"/>
              <a:chOff x="6519600" y="3660840"/>
              <a:chExt cx="825480" cy="53820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530760" y="3687840"/>
                <a:ext cx="762120" cy="511200"/>
                <a:chOff x="6530760" y="3687840"/>
                <a:chExt cx="762120" cy="511200"/>
              </a:xfrm>
            </p:grpSpPr>
            <p:pic>
              <p:nvPicPr>
                <p:cNvPr id="261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530760" y="3692520"/>
                  <a:ext cx="762120" cy="506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2" name=""/>
                <p:cNvSpPr/>
                <p:nvPr/>
              </p:nvSpPr>
              <p:spPr>
                <a:xfrm>
                  <a:off x="6535440" y="3687840"/>
                  <a:ext cx="744840" cy="288720"/>
                </a:xfrm>
                <a:prstGeom prst="ellipse">
                  <a:avLst/>
                </a:prstGeom>
                <a:solidFill>
                  <a:srgbClr val="99cc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440" rIns="82440" tIns="41040" bIns="410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3" name=""/>
              <p:cNvSpPr/>
              <p:nvPr/>
            </p:nvSpPr>
            <p:spPr>
              <a:xfrm>
                <a:off x="6519600" y="3660840"/>
                <a:ext cx="825480" cy="32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1.1.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6467400" y="2333520"/>
              <a:ext cx="825480" cy="546120"/>
              <a:chOff x="6467400" y="2333520"/>
              <a:chExt cx="825480" cy="546120"/>
            </a:xfrm>
          </p:grpSpPr>
          <p:grpSp>
            <p:nvGrpSpPr>
              <p:cNvPr id="265" name=""/>
              <p:cNvGrpSpPr/>
              <p:nvPr/>
            </p:nvGrpSpPr>
            <p:grpSpPr>
              <a:xfrm>
                <a:off x="6530760" y="2368440"/>
                <a:ext cx="762120" cy="511200"/>
                <a:chOff x="6530760" y="2368440"/>
                <a:chExt cx="762120" cy="511200"/>
              </a:xfrm>
            </p:grpSpPr>
            <p:pic>
              <p:nvPicPr>
                <p:cNvPr id="26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530760" y="2373120"/>
                  <a:ext cx="762120" cy="506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7" name=""/>
                <p:cNvSpPr/>
                <p:nvPr/>
              </p:nvSpPr>
              <p:spPr>
                <a:xfrm>
                  <a:off x="6535440" y="2368440"/>
                  <a:ext cx="744840" cy="288720"/>
                </a:xfrm>
                <a:prstGeom prst="ellipse">
                  <a:avLst/>
                </a:prstGeom>
                <a:solidFill>
                  <a:srgbClr val="99cc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440" rIns="82440" tIns="41040" bIns="410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8" name=""/>
              <p:cNvSpPr/>
              <p:nvPr/>
            </p:nvSpPr>
            <p:spPr>
              <a:xfrm>
                <a:off x="6467400" y="2333520"/>
                <a:ext cx="825480" cy="32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1.1.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5437080" y="4900680"/>
              <a:ext cx="761760" cy="511200"/>
              <a:chOff x="5437080" y="4900680"/>
              <a:chExt cx="761760" cy="511200"/>
            </a:xfrm>
          </p:grpSpPr>
          <p:pic>
            <p:nvPicPr>
              <p:cNvPr id="27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437080" y="4905360"/>
                <a:ext cx="761760" cy="506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"/>
              <p:cNvSpPr/>
              <p:nvPr/>
            </p:nvSpPr>
            <p:spPr>
              <a:xfrm>
                <a:off x="5441400" y="4900680"/>
                <a:ext cx="744480" cy="28872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040" bIns="410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5398920" y="4863960"/>
              <a:ext cx="82548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.1.1.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3241440" y="4900680"/>
              <a:ext cx="762120" cy="511200"/>
              <a:chOff x="3241440" y="4900680"/>
              <a:chExt cx="762120" cy="511200"/>
            </a:xfrm>
          </p:grpSpPr>
          <p:pic>
            <p:nvPicPr>
              <p:cNvPr id="274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3241440" y="4905360"/>
                <a:ext cx="762120" cy="506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5" name=""/>
              <p:cNvSpPr/>
              <p:nvPr/>
            </p:nvSpPr>
            <p:spPr>
              <a:xfrm>
                <a:off x="3246120" y="4900680"/>
                <a:ext cx="744840" cy="28872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040" bIns="410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6" name=""/>
            <p:cNvSpPr/>
            <p:nvPr/>
          </p:nvSpPr>
          <p:spPr>
            <a:xfrm>
              <a:off x="3195360" y="4863960"/>
              <a:ext cx="82548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.1.1.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4340160" y="3687840"/>
              <a:ext cx="761760" cy="511200"/>
              <a:chOff x="4340160" y="3687840"/>
              <a:chExt cx="761760" cy="511200"/>
            </a:xfrm>
          </p:grpSpPr>
          <p:pic>
            <p:nvPicPr>
              <p:cNvPr id="27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340160" y="3692520"/>
                <a:ext cx="761760" cy="506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9" name=""/>
              <p:cNvSpPr/>
              <p:nvPr/>
            </p:nvSpPr>
            <p:spPr>
              <a:xfrm>
                <a:off x="4344480" y="3687840"/>
                <a:ext cx="744480" cy="28872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040" bIns="410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4309920" y="3660840"/>
              <a:ext cx="82548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.1.1.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1" name=""/>
            <p:cNvGrpSpPr/>
            <p:nvPr/>
          </p:nvGrpSpPr>
          <p:grpSpPr>
            <a:xfrm>
              <a:off x="2136600" y="2368440"/>
              <a:ext cx="762120" cy="511200"/>
              <a:chOff x="2136600" y="2368440"/>
              <a:chExt cx="762120" cy="511200"/>
            </a:xfrm>
          </p:grpSpPr>
          <p:pic>
            <p:nvPicPr>
              <p:cNvPr id="28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136600" y="2373120"/>
                <a:ext cx="762120" cy="506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3" name=""/>
              <p:cNvSpPr/>
              <p:nvPr/>
            </p:nvSpPr>
            <p:spPr>
              <a:xfrm>
                <a:off x="2141280" y="2368440"/>
                <a:ext cx="744840" cy="28872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040" bIns="410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>
              <a:off x="2109600" y="2336760"/>
              <a:ext cx="82548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.1.1.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7708680" y="1595520"/>
              <a:ext cx="825480" cy="546120"/>
              <a:chOff x="7708680" y="1595520"/>
              <a:chExt cx="825480" cy="54612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7772040" y="1630440"/>
                <a:ext cx="762120" cy="511200"/>
                <a:chOff x="7772040" y="1630440"/>
                <a:chExt cx="762120" cy="511200"/>
              </a:xfrm>
            </p:grpSpPr>
            <p:pic>
              <p:nvPicPr>
                <p:cNvPr id="28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7772040" y="1635120"/>
                  <a:ext cx="762120" cy="506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8" name=""/>
                <p:cNvSpPr/>
                <p:nvPr/>
              </p:nvSpPr>
              <p:spPr>
                <a:xfrm>
                  <a:off x="7776720" y="1630440"/>
                  <a:ext cx="744840" cy="288720"/>
                </a:xfrm>
                <a:prstGeom prst="ellipse">
                  <a:avLst/>
                </a:prstGeom>
                <a:solidFill>
                  <a:srgbClr val="99cc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440" rIns="82440" tIns="41040" bIns="410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9" name=""/>
              <p:cNvSpPr/>
              <p:nvPr/>
            </p:nvSpPr>
            <p:spPr>
              <a:xfrm>
                <a:off x="7708680" y="1595520"/>
                <a:ext cx="825480" cy="32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2.0.0.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755640" y="1595520"/>
              <a:ext cx="822240" cy="546120"/>
              <a:chOff x="755640" y="1595520"/>
              <a:chExt cx="822240" cy="546120"/>
            </a:xfrm>
          </p:grpSpPr>
          <p:grpSp>
            <p:nvGrpSpPr>
              <p:cNvPr id="291" name=""/>
              <p:cNvGrpSpPr/>
              <p:nvPr/>
            </p:nvGrpSpPr>
            <p:grpSpPr>
              <a:xfrm>
                <a:off x="815760" y="1630440"/>
                <a:ext cx="762120" cy="511200"/>
                <a:chOff x="815760" y="1630440"/>
                <a:chExt cx="762120" cy="511200"/>
              </a:xfrm>
            </p:grpSpPr>
            <p:pic>
              <p:nvPicPr>
                <p:cNvPr id="292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760" y="1635120"/>
                  <a:ext cx="762120" cy="506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3" name=""/>
                <p:cNvSpPr/>
                <p:nvPr/>
              </p:nvSpPr>
              <p:spPr>
                <a:xfrm>
                  <a:off x="820440" y="1630440"/>
                  <a:ext cx="744840" cy="288720"/>
                </a:xfrm>
                <a:prstGeom prst="ellipse">
                  <a:avLst/>
                </a:prstGeom>
                <a:solidFill>
                  <a:srgbClr val="99cc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440" rIns="82440" tIns="41040" bIns="410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4" name=""/>
              <p:cNvSpPr/>
              <p:nvPr/>
            </p:nvSpPr>
            <p:spPr>
              <a:xfrm>
                <a:off x="755640" y="1595520"/>
                <a:ext cx="164880" cy="32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5" name=""/>
          <p:cNvSpPr/>
          <p:nvPr/>
        </p:nvSpPr>
        <p:spPr>
          <a:xfrm>
            <a:off x="3350880" y="5797440"/>
            <a:ext cx="542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60200" y="2813040"/>
            <a:ext cx="2641680" cy="34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53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*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Message contains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Explicit route TLV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10.1.1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ic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10.1.1.3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o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53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emption TLU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setup priority: 4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holding priority: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53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ffic parameters TLV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CDR: 10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253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other stuff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SP ID TLV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ingress router: 10.1.1.4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local id: 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253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•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•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3705480" y="2535120"/>
            <a:ext cx="2875680" cy="2516760"/>
            <a:chOff x="3705480" y="2535120"/>
            <a:chExt cx="2875680" cy="2516760"/>
          </a:xfrm>
        </p:grpSpPr>
        <p:grpSp>
          <p:nvGrpSpPr>
            <p:cNvPr id="298" name=""/>
            <p:cNvGrpSpPr/>
            <p:nvPr/>
          </p:nvGrpSpPr>
          <p:grpSpPr>
            <a:xfrm>
              <a:off x="3705480" y="2535120"/>
              <a:ext cx="2875680" cy="2516760"/>
              <a:chOff x="3705480" y="2535120"/>
              <a:chExt cx="2875680" cy="2516760"/>
            </a:xfrm>
          </p:grpSpPr>
          <p:sp>
            <p:nvSpPr>
              <p:cNvPr id="299" name=""/>
              <p:cNvSpPr/>
              <p:nvPr/>
            </p:nvSpPr>
            <p:spPr>
              <a:xfrm>
                <a:off x="3742200" y="2535120"/>
                <a:ext cx="2782800" cy="2450880"/>
              </a:xfrm>
              <a:custGeom>
                <a:avLst/>
                <a:gdLst/>
                <a:ahLst/>
                <a:rect l="l" t="t" r="r" b="b"/>
                <a:pathLst>
                  <a:path w="1723" h="1508">
                    <a:moveTo>
                      <a:pt x="1723" y="0"/>
                    </a:moveTo>
                    <a:lnTo>
                      <a:pt x="534" y="0"/>
                    </a:lnTo>
                    <a:lnTo>
                      <a:pt x="534" y="906"/>
                    </a:lnTo>
                    <a:lnTo>
                      <a:pt x="0" y="1399"/>
                    </a:lnTo>
                    <a:lnTo>
                      <a:pt x="142" y="1508"/>
                    </a:lnTo>
                    <a:lnTo>
                      <a:pt x="707" y="995"/>
                    </a:lnTo>
                    <a:lnTo>
                      <a:pt x="707" y="178"/>
                    </a:lnTo>
                    <a:lnTo>
                      <a:pt x="1723" y="178"/>
                    </a:lnTo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040" bIns="410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H="1" rot="18900000">
                <a:off x="3786120" y="4756680"/>
                <a:ext cx="141480" cy="287280"/>
              </a:xfrm>
              <a:prstGeom prst="ellipse">
                <a:avLst/>
              </a:prstGeom>
              <a:gradFill rotWithShape="0">
                <a:gsLst>
                  <a:gs pos="0">
                    <a:srgbClr val="754600"/>
                  </a:gs>
                  <a:gs pos="100000">
                    <a:srgbClr val="ff99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040" bIns="410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>
                <a:off x="6471000" y="2539800"/>
                <a:ext cx="109800" cy="28908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7546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040" bIns="410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2" name=""/>
            <p:cNvSpPr/>
            <p:nvPr/>
          </p:nvSpPr>
          <p:spPr>
            <a:xfrm>
              <a:off x="5583240" y="2576520"/>
              <a:ext cx="419040" cy="243000"/>
            </a:xfrm>
            <a:prstGeom prst="rightArrow">
              <a:avLst>
                <a:gd name="adj1" fmla="val 50000"/>
                <a:gd name="adj2" fmla="val 43111"/>
              </a:avLst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19132200">
              <a:off x="4183200" y="4276800"/>
              <a:ext cx="419040" cy="242640"/>
            </a:xfrm>
            <a:prstGeom prst="rightArrow">
              <a:avLst>
                <a:gd name="adj1" fmla="val 50000"/>
                <a:gd name="adj2" fmla="val 43175"/>
              </a:avLst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 rot="5400000">
              <a:off x="4538520" y="3177000"/>
              <a:ext cx="419040" cy="243000"/>
            </a:xfrm>
            <a:prstGeom prst="rightArrow">
              <a:avLst>
                <a:gd name="adj1" fmla="val 50000"/>
                <a:gd name="adj2" fmla="val 43111"/>
              </a:avLst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0T20:19:42Z</dcterms:created>
  <dc:creator>Stephen Shew</dc:creator>
  <dc:description/>
  <dc:language>en-US</dc:language>
  <cp:lastModifiedBy>UGALE, Arvin Carlos D.</cp:lastModifiedBy>
  <cp:lastPrinted>2000-04-17T20:06:35Z</cp:lastPrinted>
  <dcterms:modified xsi:type="dcterms:W3CDTF">2002-07-19T14:07:19Z</dcterms:modified>
  <cp:revision>8</cp:revision>
  <dc:subject>IP/Optical Workshop Session 7</dc:subject>
  <dc:title>CR-LDP for ASON Signalling</dc:title>
</cp:coreProperties>
</file>