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5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29.wmf" ContentType="image/x-wmf"/>
  <Override PartName="/ppt/media/image2.wmf" ContentType="image/x-wmf"/>
  <Override PartName="/ppt/media/image5.png" ContentType="image/png"/>
  <Override PartName="/ppt/media/image28.wmf" ContentType="image/x-wmf"/>
  <Override PartName="/ppt/media/image1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8200" y="732960"/>
            <a:ext cx="4871880" cy="36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2CD5B2C-D9E5-420C-998E-D55F5019D7ED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ETF = Internet Engineering Task Force;                              IN = Intelligent Network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PINT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= PSTN and Internet Internetworking (a former IETF WG, closed-2001);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PIRIT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= Service in the PSTN/IN Requesting InTernet Service (IETF W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ll &amp; Service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C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arer Contro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MS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dia Mapping and switching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T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l Tim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D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ssion Description Protoco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presentation material and slides are prepar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ain LE ROUX (France Telecom), ITU-T SG11 Vice-chairman and WP3/11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ail: alainxavier.leroux@rd.francetelec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shey ODEDRA (ITU), ITU-T SG11 Counsellor/Engin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ail: arshey.odedra@itu.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senter: Arshey ODEDRA (IT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ther Questions currently addressed by the ITU-T Study Group 11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estion 2/11 - 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Network signalling requirements for the support of Virtual Home Environment (VHE) in the fix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3/11 - Network signalling protocols to support mobility in the fix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4/11 - API/object interface and architecture for sign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5/11 - Protocols for further evolution of IN capability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7/11 - Signalling requirements for signalling to efficiently identify and direct traffic destined for Internet Service Provider (IS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10/11 - Signalling requirements for control of signal processing equipment and of remote transmission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12/11 – Access and network signalling for advanced narrow-band and broadb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14/11 - Protocol (conformance) testing spec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15/11 – (Control) Protocols for the support of ATM  AAL Type 2 bea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ther Questions currently addressed by the ITU-T Study Group 11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estion 2/11 - 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Network signalling requirements for the support of Virtual Home Environment (VHE) in the fix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3/11 - Network signalling protocols to support mobility in the fix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4/11 - API/object interface and architecture for sign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5/11 - Protocols for further evolution of IN capability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7/11 - Signalling requirements for signalling to efficiently identify and direct traffic destined for Internet Service Provider (IS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10/11 - Signalling requirements for control of signal processing equipment and of remote transmission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12/11 – Access and network signalling for advanced narrow-band and broadb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14/11 - Protocol (conformance) testing spec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Question 15/11 – (Control) Protocols for the support of ATM  AAL Type 2 bea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66360" y="4562280"/>
            <a:ext cx="5483160" cy="463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DM           Time Division Multiplexing                                   PSTN         Public Switched Telephony 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DN          Integrated Services Digital Network                      ISDN BA     ISDN Basic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DN PRI    ISDN Primary Rate Interface                               DTMF         Dial Tone Multifrequency (signall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SS1         Digital subscriber Signalling System number One  SS7           Signalling System number Se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TP           (SS7) Message Transfer Part                               SCCP        (SS7) Signalling Connection Control 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C              Transaction capability                                         ISUP          (SS7) ISDN Signalling User 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AP          (SS7) Intelligent Network Application Part             ATM            Asynchronous transfer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SS2         Digital subscriber Signalling System number Two UNI             User-Network Interface (ATM Forum specific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-ISUP       (SS7) Broadband ISUP                                       PNNI           Private Network Node Interface (ATM Forum specific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INI            ATM Inter-Network Interface (ATM Forum spec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S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ice Switching 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S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ice Switching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C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ll Control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C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ice Control 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C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ice Control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GW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gnalling 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8BC-083A-471F-B132-5EAEAB16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46F-6D3D-4177-89F3-BB2CCC03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FF6-1D3C-4C15-A14D-BEA38751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921-D08B-47CA-9D19-A54B7170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F78-88CE-41A8-B435-7CBA6C92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D18-E5E2-4CE6-A683-A48DB7DF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D11-F634-4E1E-A0F4-A36B9C6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566-EEAA-4DDD-BF82-86B0CB95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FB0-E49D-47D1-8222-18BE9523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FC8-205D-4381-B862-672E012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A32-74E0-41AD-AFBF-1030FAB4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EFF-E859-4329-B8BA-DF772C7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hitose, 9-11 Jul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Times New Roman"/>
              </a:rPr>
              <a:t>ITU-T Workshop on IP/O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858D-53EF-442C-9AAF-0CDEDCA5959C}" type="slidenum">
              <a:rPr b="1" lang="ja-JP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TU_Logo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20640" cy="681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 txBox="1"/>
          <p:nvPr/>
        </p:nvSpPr>
        <p:spPr>
          <a:xfrm>
            <a:off x="0" y="0"/>
            <a:ext cx="56386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ession 7 : Signalling and routing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5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wmf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8.png"/><Relationship Id="rId30" Type="http://schemas.openxmlformats.org/officeDocument/2006/relationships/image" Target="../media/image20.png"/><Relationship Id="rId31" Type="http://schemas.openxmlformats.org/officeDocument/2006/relationships/image" Target="../media/image21.png"/><Relationship Id="rId32" Type="http://schemas.openxmlformats.org/officeDocument/2006/relationships/image" Target="../media/image20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21.png"/><Relationship Id="rId36" Type="http://schemas.openxmlformats.org/officeDocument/2006/relationships/image" Target="../media/image23.png"/><Relationship Id="rId37" Type="http://schemas.openxmlformats.org/officeDocument/2006/relationships/image" Target="../media/image22.png"/><Relationship Id="rId38" Type="http://schemas.openxmlformats.org/officeDocument/2006/relationships/image" Target="../media/image21.png"/><Relationship Id="rId39" Type="http://schemas.openxmlformats.org/officeDocument/2006/relationships/image" Target="../media/image24.png"/><Relationship Id="rId40" Type="http://schemas.openxmlformats.org/officeDocument/2006/relationships/image" Target="../media/image25.png"/><Relationship Id="rId41" Type="http://schemas.openxmlformats.org/officeDocument/2006/relationships/image" Target="../media/image22.png"/><Relationship Id="rId42" Type="http://schemas.openxmlformats.org/officeDocument/2006/relationships/image" Target="../media/image22.png"/><Relationship Id="rId43" Type="http://schemas.openxmlformats.org/officeDocument/2006/relationships/image" Target="../media/image22.png"/><Relationship Id="rId44" Type="http://schemas.openxmlformats.org/officeDocument/2006/relationships/image" Target="../media/image22.png"/><Relationship Id="rId45" Type="http://schemas.openxmlformats.org/officeDocument/2006/relationships/image" Target="../media/image22.png"/><Relationship Id="rId46" Type="http://schemas.openxmlformats.org/officeDocument/2006/relationships/image" Target="../media/image22.png"/><Relationship Id="rId47" Type="http://schemas.openxmlformats.org/officeDocument/2006/relationships/image" Target="../media/image22.png"/><Relationship Id="rId48" Type="http://schemas.openxmlformats.org/officeDocument/2006/relationships/image" Target="../media/image22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8.png"/><Relationship Id="rId52" Type="http://schemas.openxmlformats.org/officeDocument/2006/relationships/image" Target="../media/image21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21.png"/><Relationship Id="rId56" Type="http://schemas.openxmlformats.org/officeDocument/2006/relationships/image" Target="../media/image21.png"/><Relationship Id="rId57" Type="http://schemas.openxmlformats.org/officeDocument/2006/relationships/image" Target="../media/image21.png"/><Relationship Id="rId58" Type="http://schemas.openxmlformats.org/officeDocument/2006/relationships/image" Target="../media/image21.png"/><Relationship Id="rId59" Type="http://schemas.openxmlformats.org/officeDocument/2006/relationships/image" Target="../media/image26.png"/><Relationship Id="rId60" Type="http://schemas.openxmlformats.org/officeDocument/2006/relationships/oleObject" Target="../embeddings/oleObject2.bin"/><Relationship Id="rId61" Type="http://schemas.openxmlformats.org/officeDocument/2006/relationships/image" Target="../media/image27.wmf"/><Relationship Id="rId62" Type="http://schemas.openxmlformats.org/officeDocument/2006/relationships/oleObject" Target="../embeddings/oleObject3.bin"/><Relationship Id="rId63" Type="http://schemas.openxmlformats.org/officeDocument/2006/relationships/image" Target="../media/image28.wmf"/><Relationship Id="rId6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84836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all &amp; Connection control Signalling : the ITU-T SG11 status and perspectives for “New Network control Architectures and Protocols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4191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lain LE RO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TU-T SG11 Vice-cha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mail: alainxavier.leroux@rd.francetelecom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4572000"/>
          <a:ext cx="2819520" cy="49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4572000"/>
                    <a:ext cx="28195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0AF-7214-4493-B3C1-DBB262052D6D}" type="slidenum">
              <a:t>1</a:t>
            </a:fld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SS7 Convergence towards Packet based Network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lligent Network architecture and protocols enhanced to support the IETF PINT &amp; SPIRITS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 Capability Set 4 (CS4) Recommendations approved in May 2001, using a fast track approval process (i.e. AA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1241 – Introduction to IN CS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1244 – Distributed Functional Plane for IN CS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1248.1-7 – Interface Protocols for IN CS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 CS4 Recommendations include support for the IE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INT (PSTN and InterNetworking for Telephony), e.g. Click-to-dial,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PIRIT (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ervices in the PSTN/IN Requesting InTernet) Servic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, e.g. Internet Call Wait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(i.e. the requirements and architectures are in alignment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EB2-47FF-44B8-A97B-F9419E7C2752}" type="slidenum">
              <a:t>10</a:t>
            </a:fld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SS7 Convergence towards Packet based Network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Call control signalling, Bearer Independent Call Control (BICC) protocols have been defined to apply over Packet (ATM or IP) based transport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CC Capability Set 1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pplicable to ATM (AAL1 or AAL2) transport: Recommendations have been approved in year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CC CS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pplicable to ATM and IP transport: a set of 15 Recommendations have been approved in June 200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CC CS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release with various enhancements (including interworking with SIP) is currently under development. Scope and requirements being finalized. Protocols documents approval planned in 200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DB7-37FC-4116-B141-5B7146C878E9}" type="slidenum">
              <a:t>11</a:t>
            </a:fld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BICC signalling protoc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high level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ICC is a Signalling protocol to ease PSTN/ISDN evolution towards (NGN) Next Generation Network (packet-based transport) archite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able to control calls over any packet (ATM, IP) -based transport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ifies the signalling interworking between legacy networks and NGN archite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olution developed in ITU-T SG1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Bearer Independent Call Control (BICC)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sed on SS7 ISUP: quicker to define and to implement, easier ISUP-BICC inter-wo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ltiple Capability Sets (or releases), enabling phased deployment and smooth evolution towards NGN archite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0BE-3C68-4643-95FC-E63866C3AA57}" type="slidenum">
              <a:t>12</a:t>
            </a:fld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BICC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BICC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 architectur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that provides a means of supporting narrowband (PSTN, ISDN) services across a Packet-based backbone network without impacting the existing network interfaces and end-to-en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 call control protocol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at is unaware of the actual bearer transport being employed. Binding information identifies the bearer used for each communication 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 call control protocol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at is based on SS7 ISUP signalling protocol commonly used in legacy networks for PSTN/ISDN intra- and inter-networ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bearer (connection) control signalling protocols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pend on the underlying bearer technology used (e.g., DSS2/UNI for ATM AAL type 1 and  ATM AAL type 2, IP and/or MPLS related signalling protocol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DB7-5EAA-4996-802B-E24536994020}" type="slidenum">
              <a:t>13</a:t>
            </a:fld>
          </a:p>
        </p:txBody>
      </p: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BICC appl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 a call control protocol between Call Ser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here it inter-acts with SS7 ISUP sign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d ensures NB-networks end-to-end services, unaff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Cloud"/>
          <p:cNvSpPr/>
          <p:nvPr/>
        </p:nvSpPr>
        <p:spPr>
          <a:xfrm>
            <a:off x="797040" y="4510080"/>
            <a:ext cx="1649160" cy="1347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PSTN/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9240" y="4900680"/>
            <a:ext cx="380880" cy="39348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HONET" descr=""/>
          <p:cNvPicPr/>
          <p:nvPr/>
        </p:nvPicPr>
        <p:blipFill>
          <a:blip r:embed="rId1"/>
          <a:stretch/>
        </p:blipFill>
        <p:spPr>
          <a:xfrm>
            <a:off x="326880" y="5562720"/>
            <a:ext cx="446400" cy="379440"/>
          </a:xfrm>
          <a:prstGeom prst="rect">
            <a:avLst/>
          </a:prstGeom>
          <a:ln w="0">
            <a:noFill/>
          </a:ln>
        </p:spPr>
      </p:pic>
      <p:sp>
        <p:nvSpPr>
          <p:cNvPr id="168" name="Cloud"/>
          <p:cNvSpPr/>
          <p:nvPr/>
        </p:nvSpPr>
        <p:spPr>
          <a:xfrm>
            <a:off x="6426360" y="4459320"/>
            <a:ext cx="1647720" cy="1347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PSTN/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1720" y="4892760"/>
            <a:ext cx="381240" cy="39348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HONET" descr=""/>
          <p:cNvPicPr/>
          <p:nvPr/>
        </p:nvPicPr>
        <p:blipFill>
          <a:blip r:embed="rId2"/>
          <a:stretch/>
        </p:blipFill>
        <p:spPr>
          <a:xfrm>
            <a:off x="8088480" y="5540400"/>
            <a:ext cx="446040" cy="3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3271680" y="4503600"/>
          <a:ext cx="2399040" cy="139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1680" y="4503600"/>
                    <a:ext cx="239904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467080" y="3540240"/>
            <a:ext cx="723960" cy="477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Call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73200" y="4944960"/>
            <a:ext cx="76068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27440" y="404640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61360" y="488304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TM, IP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kb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35400">
            <a:off x="3251160" y="3652560"/>
            <a:ext cx="2301840" cy="315720"/>
          </a:xfrm>
          <a:prstGeom prst="leftRightArrow">
            <a:avLst>
              <a:gd name="adj1" fmla="val 63676"/>
              <a:gd name="adj2" fmla="val 1212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BIC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3760" y="3505320"/>
            <a:ext cx="725760" cy="477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Call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10240" y="4910040"/>
            <a:ext cx="76032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964120" y="401148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44040" y="5164200"/>
            <a:ext cx="460440" cy="419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5048280"/>
            <a:ext cx="561960" cy="447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9720" y="5078520"/>
            <a:ext cx="932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26360" y="5100480"/>
            <a:ext cx="84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97080" y="3749400"/>
            <a:ext cx="1174680" cy="1096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80280" y="3678120"/>
            <a:ext cx="1162080" cy="1154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8720" y="3936960"/>
            <a:ext cx="5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S7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IS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45120" y="3930480"/>
            <a:ext cx="5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S7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IS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8CA-4260-4D16-9560-5F4BEF831FA4}" type="slidenum">
              <a:t>14</a:t>
            </a:fld>
          </a:p>
        </p:txBody>
      </p:sp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19320" y="5334120"/>
            <a:ext cx="6400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200400"/>
            <a:ext cx="6400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2895480"/>
            <a:ext cx="942840" cy="6620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l &amp; Service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2895480"/>
            <a:ext cx="942840" cy="6620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l &amp; Service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2895480"/>
            <a:ext cx="942840" cy="662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l Mediation Node (opt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3962520"/>
            <a:ext cx="942840" cy="660240"/>
          </a:xfrm>
          <a:prstGeom prst="rect">
            <a:avLst/>
          </a:prstGeom>
          <a:solidFill>
            <a:srgbClr val="ff99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arer Control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4952880"/>
            <a:ext cx="914400" cy="6606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arer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962520"/>
            <a:ext cx="942840" cy="660240"/>
          </a:xfrm>
          <a:prstGeom prst="rect">
            <a:avLst/>
          </a:prstGeom>
          <a:solidFill>
            <a:srgbClr val="ff99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arer Control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33280" y="4886640"/>
            <a:ext cx="1194840" cy="70164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 fontScale="79000"/>
          </a:bodyPr>
          <a:p>
            <a:pPr marL="270720" indent="-2707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Packet (ATM, IP) Trans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029200"/>
            <a:ext cx="914400" cy="66024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arer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2590920"/>
            <a:ext cx="1371600" cy="32763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2666880"/>
            <a:ext cx="1371600" cy="327672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2360" y="22860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erving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3480" y="236232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erving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0" y="28954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BI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3960" y="28954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BI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6200" y="2895480"/>
            <a:ext cx="64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SS7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IS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40680" y="2895480"/>
            <a:ext cx="64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SS7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IS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560" y="502920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DM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run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4360" y="502920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DM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run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267080"/>
            <a:ext cx="1066680" cy="685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57800" y="4266720"/>
            <a:ext cx="685800" cy="685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91600" y="4114800"/>
            <a:ext cx="105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Bearer</a:t>
            </a:r>
            <a:br>
              <a:rPr sz="1600"/>
            </a:b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Signal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72680" y="4267080"/>
            <a:ext cx="105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Bearer</a:t>
            </a:r>
            <a:br>
              <a:rPr sz="1600"/>
            </a:b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Signal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990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lvl="3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nctional separation of Call/service Functions, Bearer Control Functions and Bearer (Media) Fun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BICC underlying archite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742-FE3B-4A3F-AC7B-25CAF7D0AF7E}" type="slidenum">
              <a:t>15</a:t>
            </a:fld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How the ITU BICC approach fits with that in IETF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(1/4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CC is 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gmati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tion to enabl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olution from legacy networks towards NG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s (using ATM and/or IP-based transport technologie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-acts easil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legacy signalling protocols (as it is very much based on SS7 IS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it is not the only candidate protocol for call and service control in emerging network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P and SIP-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e also under consideration for adoption by the ITU-T, for use between Call Servers (often referred to as Call Agent or “Softswitches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such,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 approaches ar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plement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DA4-3300-4383-956C-CBFFE3E723D6}" type="slidenum">
              <a:t>16</a:t>
            </a:fld>
          </a:p>
        </p:txBody>
      </p:sp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How BICC approach fits with that in IETF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(2/4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working with SIP &amp; SIP-T is required. Cases being considered within ITU SG11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P-ISUP (over a TDM insfrastructure)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P-BICC (over ATM infrastructure) as shown below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P-BICC (over IP infrastructure)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P-T – ISUP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P-T BICC (over ATM infrastructure)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P-T – BICC (over IP infrastructu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876920" y="373392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221" name="GenericSoftswitch" descr=""/>
          <p:cNvPicPr/>
          <p:nvPr/>
        </p:nvPicPr>
        <p:blipFill>
          <a:blip r:embed="rId3"/>
          <a:stretch/>
        </p:blipFill>
        <p:spPr>
          <a:xfrm>
            <a:off x="3886200" y="4572000"/>
            <a:ext cx="577800" cy="914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1676520" y="3962520"/>
            <a:ext cx="1904760" cy="2361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257800" y="50292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4191120" y="57150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225" name="GenericSoftswitch" descr=""/>
          <p:cNvPicPr/>
          <p:nvPr/>
        </p:nvPicPr>
        <p:blipFill>
          <a:blip r:embed="rId7"/>
          <a:stretch/>
        </p:blipFill>
        <p:spPr>
          <a:xfrm>
            <a:off x="6781680" y="3886200"/>
            <a:ext cx="480960" cy="762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6019920" y="4876920"/>
            <a:ext cx="609480" cy="533160"/>
          </a:xfrm>
          <a:prstGeom prst="rect">
            <a:avLst/>
          </a:prstGeom>
          <a:ln w="0">
            <a:noFill/>
          </a:ln>
        </p:spPr>
      </p:pic>
      <p:pic>
        <p:nvPicPr>
          <p:cNvPr id="227" name="Router_Voice" descr=""/>
          <p:cNvPicPr/>
          <p:nvPr/>
        </p:nvPicPr>
        <p:blipFill>
          <a:blip r:embed="rId9"/>
          <a:stretch/>
        </p:blipFill>
        <p:spPr>
          <a:xfrm>
            <a:off x="2286000" y="5029200"/>
            <a:ext cx="762120" cy="447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0"/>
          <a:stretch/>
        </p:blipFill>
        <p:spPr>
          <a:xfrm>
            <a:off x="678168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1"/>
          <a:stretch/>
        </p:blipFill>
        <p:spPr>
          <a:xfrm>
            <a:off x="7696080" y="54864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667600" y="426708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541008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4956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5120" y="42670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800240" y="54864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629400" y="4648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477120" y="449532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495680" y="4266720"/>
            <a:ext cx="22860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6200" y="51055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2560" y="426708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IC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72000" y="5599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7315200" y="5334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6552720" y="5257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086600" y="46479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80988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P ‘ph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47960" y="3890880"/>
            <a:ext cx="97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ll Ag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54864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86960" y="5791320"/>
            <a:ext cx="18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dia Gateway  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grated Access De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926120" y="5791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h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53520" y="350532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Call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8AE-F087-419B-945B-47CAFB2327A7}" type="slidenum">
              <a:t>17</a:t>
            </a:fld>
          </a:p>
        </p:txBody>
      </p:sp>
    </p:spTree>
  </p:cSld>
  <p:transition spd="med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How BICC approach fits with that in IETF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(3/4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I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is being considered as a candidate signalling protocol for emerging public telecom network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s an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cces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protocol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(UNI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s a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etwork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tocol 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NI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ossibly as a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ervice and application control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protocol (towards services and application control platfor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means that various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IP profiles are needed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 be developed, e.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IP UNI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(access) pro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IP NNI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(Network interface) pro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IP with enhancements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lly support PSTN/ISDN legacy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terworking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requirements between the variou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SIP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files an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ICC (and SS7 ISUP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e being addressed in ITU-T SG1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064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19B-D87D-443F-BE31-E0D045EEB644}" type="slidenum">
              <a:t>18</a:t>
            </a:fld>
          </a:p>
        </p:txBody>
      </p:sp>
    </p:spTree>
  </p:cSld>
  <p:transition spd="med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How BICC approach fits with that in IETF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(4/4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IP-BICC-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S-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P-to-IP network transport) interworking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9064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8120" y="2092320"/>
            <a:ext cx="564660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0440" y="5059440"/>
            <a:ext cx="2214720" cy="66024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12040" y="5105520"/>
            <a:ext cx="134964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MMS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edia Mapping/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witching Function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30440" y="4352760"/>
            <a:ext cx="943200" cy="660600"/>
          </a:xfrm>
          <a:prstGeom prst="rect">
            <a:avLst/>
          </a:prstGeom>
          <a:solidFill>
            <a:srgbClr val="ff99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26640" y="4583160"/>
            <a:ext cx="55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BCF*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02320" y="4352760"/>
            <a:ext cx="942840" cy="660600"/>
          </a:xfrm>
          <a:prstGeom prst="rect">
            <a:avLst/>
          </a:prstGeom>
          <a:solidFill>
            <a:srgbClr val="ff99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91040" y="458316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BC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0440" y="2892600"/>
            <a:ext cx="943200" cy="66168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01520" y="312264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S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02320" y="2892600"/>
            <a:ext cx="942840" cy="66168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73400" y="312264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CS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73160" y="3240000"/>
            <a:ext cx="1459080" cy="60480"/>
            <a:chOff x="1973160" y="3240000"/>
            <a:chExt cx="1459080" cy="60480"/>
          </a:xfrm>
        </p:grpSpPr>
        <p:sp>
          <p:nvSpPr>
            <p:cNvPr id="269" name=""/>
            <p:cNvSpPr/>
            <p:nvPr/>
          </p:nvSpPr>
          <p:spPr>
            <a:xfrm>
              <a:off x="2028960" y="3268800"/>
              <a:ext cx="1344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73160" y="324000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9" y="0"/>
                  </a:moveTo>
                  <a:lnTo>
                    <a:pt x="0" y="20"/>
                  </a:lnTo>
                  <a:lnTo>
                    <a:pt x="39" y="3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68520" y="3240000"/>
              <a:ext cx="6372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8"/>
                  </a:moveTo>
                  <a:lnTo>
                    <a:pt x="40" y="20"/>
                  </a:lnTo>
                  <a:lnTo>
                    <a:pt x="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443320" y="2987640"/>
            <a:ext cx="388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98400" y="3029040"/>
            <a:ext cx="29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SIP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21040" y="5407200"/>
            <a:ext cx="1411200" cy="60120"/>
            <a:chOff x="2021040" y="5407200"/>
            <a:chExt cx="1411200" cy="60120"/>
          </a:xfrm>
        </p:grpSpPr>
        <p:sp>
          <p:nvSpPr>
            <p:cNvPr id="275" name=""/>
            <p:cNvSpPr/>
            <p:nvPr/>
          </p:nvSpPr>
          <p:spPr>
            <a:xfrm>
              <a:off x="2076480" y="5435640"/>
              <a:ext cx="1297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21040" y="540720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9" y="0"/>
                  </a:moveTo>
                  <a:lnTo>
                    <a:pt x="0" y="20"/>
                  </a:lnTo>
                  <a:lnTo>
                    <a:pt x="39" y="3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68520" y="540720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8"/>
                  </a:moveTo>
                  <a:lnTo>
                    <a:pt x="40" y="20"/>
                  </a:lnTo>
                  <a:lnTo>
                    <a:pt x="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443320" y="5200560"/>
            <a:ext cx="539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98400" y="5237280"/>
            <a:ext cx="45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RTP/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73160" y="4559400"/>
            <a:ext cx="1459080" cy="61920"/>
            <a:chOff x="1973160" y="4559400"/>
            <a:chExt cx="1459080" cy="61920"/>
          </a:xfrm>
        </p:grpSpPr>
        <p:sp>
          <p:nvSpPr>
            <p:cNvPr id="281" name=""/>
            <p:cNvSpPr/>
            <p:nvPr/>
          </p:nvSpPr>
          <p:spPr>
            <a:xfrm>
              <a:off x="2027160" y="4586400"/>
              <a:ext cx="27000" cy="612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66760" y="458640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0816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4956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060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33440" y="458640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484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1624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728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9868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41520" y="458640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8292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2396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6536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08200" y="458640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4960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9064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3204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74880" y="458640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16280" y="458640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57680" y="4586400"/>
              <a:ext cx="2988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9872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4012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82960" y="458640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24360" y="4586400"/>
              <a:ext cx="2988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6540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0680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49640" y="458640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91040" y="4586400"/>
              <a:ext cx="2988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3208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73480" y="458640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14880" y="4586400"/>
              <a:ext cx="2988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7720" y="45864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73160" y="455940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lnTo>
                    <a:pt x="0" y="19"/>
                  </a:lnTo>
                  <a:lnTo>
                    <a:pt x="39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68520" y="4559400"/>
              <a:ext cx="6372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0" y="39"/>
                  </a:moveTo>
                  <a:lnTo>
                    <a:pt x="40" y="19"/>
                  </a:lnTo>
                  <a:lnTo>
                    <a:pt x="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019240" y="4417920"/>
            <a:ext cx="1292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48800" y="44560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76480" y="4606920"/>
            <a:ext cx="119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(carried via H.248/SIP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36840" y="4259160"/>
            <a:ext cx="2449440" cy="155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89320" y="2751120"/>
            <a:ext cx="2496960" cy="1181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645160" y="3240000"/>
            <a:ext cx="1363680" cy="60480"/>
            <a:chOff x="5645160" y="3240000"/>
            <a:chExt cx="1363680" cy="60480"/>
          </a:xfrm>
        </p:grpSpPr>
        <p:sp>
          <p:nvSpPr>
            <p:cNvPr id="322" name=""/>
            <p:cNvSpPr/>
            <p:nvPr/>
          </p:nvSpPr>
          <p:spPr>
            <a:xfrm>
              <a:off x="5700600" y="3268800"/>
              <a:ext cx="12495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45160" y="324000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9" y="0"/>
                  </a:moveTo>
                  <a:lnTo>
                    <a:pt x="0" y="20"/>
                  </a:lnTo>
                  <a:lnTo>
                    <a:pt x="39" y="3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45480" y="3240000"/>
              <a:ext cx="6336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8"/>
                  </a:moveTo>
                  <a:lnTo>
                    <a:pt x="40" y="20"/>
                  </a:lnTo>
                  <a:lnTo>
                    <a:pt x="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066000" y="2987640"/>
            <a:ext cx="55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21800" y="3029040"/>
            <a:ext cx="7261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BICC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(over IP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45160" y="5454720"/>
            <a:ext cx="1411200" cy="60120"/>
            <a:chOff x="5645160" y="5454720"/>
            <a:chExt cx="1411200" cy="60120"/>
          </a:xfrm>
        </p:grpSpPr>
        <p:sp>
          <p:nvSpPr>
            <p:cNvPr id="328" name=""/>
            <p:cNvSpPr/>
            <p:nvPr/>
          </p:nvSpPr>
          <p:spPr>
            <a:xfrm>
              <a:off x="5700600" y="5483160"/>
              <a:ext cx="1297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45160" y="545472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9" y="0"/>
                  </a:moveTo>
                  <a:lnTo>
                    <a:pt x="0" y="20"/>
                  </a:lnTo>
                  <a:lnTo>
                    <a:pt x="39" y="3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93000" y="5454720"/>
              <a:ext cx="6336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8"/>
                  </a:moveTo>
                  <a:lnTo>
                    <a:pt x="40" y="20"/>
                  </a:lnTo>
                  <a:lnTo>
                    <a:pt x="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6066000" y="5248440"/>
            <a:ext cx="537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22880" y="5284800"/>
            <a:ext cx="45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RTP/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871800" y="3882960"/>
            <a:ext cx="61920" cy="471600"/>
            <a:chOff x="3871800" y="3882960"/>
            <a:chExt cx="61920" cy="471600"/>
          </a:xfrm>
        </p:grpSpPr>
        <p:sp>
          <p:nvSpPr>
            <p:cNvPr id="334" name=""/>
            <p:cNvSpPr/>
            <p:nvPr/>
          </p:nvSpPr>
          <p:spPr>
            <a:xfrm>
              <a:off x="3902040" y="3940200"/>
              <a:ext cx="1800" cy="35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71800" y="3882960"/>
              <a:ext cx="61920" cy="637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39" y="40"/>
                  </a:moveTo>
                  <a:lnTo>
                    <a:pt x="20" y="0"/>
                  </a:lnTo>
                  <a:lnTo>
                    <a:pt x="0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71800" y="4290840"/>
              <a:ext cx="61920" cy="637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0" y="0"/>
                  </a:moveTo>
                  <a:lnTo>
                    <a:pt x="20" y="40"/>
                  </a:lnTo>
                  <a:lnTo>
                    <a:pt x="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141880" y="3552840"/>
            <a:ext cx="60480" cy="801720"/>
            <a:chOff x="5141880" y="3552840"/>
            <a:chExt cx="60480" cy="801720"/>
          </a:xfrm>
        </p:grpSpPr>
        <p:sp>
          <p:nvSpPr>
            <p:cNvPr id="338" name=""/>
            <p:cNvSpPr/>
            <p:nvPr/>
          </p:nvSpPr>
          <p:spPr>
            <a:xfrm>
              <a:off x="5172120" y="3610080"/>
              <a:ext cx="1440" cy="685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41880" y="355284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20" y="0"/>
                  </a:lnTo>
                  <a:lnTo>
                    <a:pt x="0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41880" y="4290840"/>
              <a:ext cx="60480" cy="637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0"/>
                  </a:moveTo>
                  <a:lnTo>
                    <a:pt x="20" y="4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960640" y="3930480"/>
            <a:ext cx="893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5640" y="3962520"/>
            <a:ext cx="113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H.248/Megac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18200" y="3930480"/>
            <a:ext cx="676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75800" y="3971880"/>
            <a:ext cx="156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Q.1950 (BICC CS2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26240" y="4448160"/>
            <a:ext cx="1465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66960" y="448632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P BC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67640" y="4724280"/>
            <a:ext cx="136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(carried via Q.1950/BIC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429000" y="3597120"/>
            <a:ext cx="947880" cy="289080"/>
            <a:chOff x="3429000" y="3597120"/>
            <a:chExt cx="947880" cy="289080"/>
          </a:xfrm>
        </p:grpSpPr>
        <p:sp>
          <p:nvSpPr>
            <p:cNvPr id="349" name=""/>
            <p:cNvSpPr/>
            <p:nvPr/>
          </p:nvSpPr>
          <p:spPr>
            <a:xfrm>
              <a:off x="3430440" y="3598920"/>
              <a:ext cx="941400" cy="2840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29000" y="3598920"/>
              <a:ext cx="46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9000" y="3639960"/>
              <a:ext cx="468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681360"/>
              <a:ext cx="46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29000" y="3724200"/>
              <a:ext cx="46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9000" y="3765600"/>
              <a:ext cx="46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29000" y="3807000"/>
              <a:ext cx="46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9000" y="3848040"/>
              <a:ext cx="46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38360" y="3879720"/>
              <a:ext cx="24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7976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2116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6400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05040" y="3879720"/>
              <a:ext cx="24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644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8784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3068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7208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1312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5452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95560" y="3879720"/>
              <a:ext cx="24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3876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7980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2120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62240" y="3879720"/>
              <a:ext cx="24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0544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4648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8788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2928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7032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3160" y="3879720"/>
              <a:ext cx="2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54560" y="387684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2"/>
                  </a:moveTo>
                  <a:lnTo>
                    <a:pt x="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70400" y="3835440"/>
              <a:ext cx="64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70400" y="3792600"/>
              <a:ext cx="64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70400" y="3751200"/>
              <a:ext cx="64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70400" y="3710160"/>
              <a:ext cx="64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70400" y="3668760"/>
              <a:ext cx="64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70400" y="3625920"/>
              <a:ext cx="64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57800" y="35971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7"/>
                  </a:moveTo>
                  <a:lnTo>
                    <a:pt x="12" y="7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640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75000" y="3597120"/>
              <a:ext cx="2412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3396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9256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4972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08320" y="3597120"/>
              <a:ext cx="2412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6728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2588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304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4164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0060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5920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636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7496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392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9252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51120" y="3597120"/>
              <a:ext cx="2412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0828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6724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2584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8444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41600" y="3597120"/>
              <a:ext cx="237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676320" y="364320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BCF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638680" y="4648320"/>
            <a:ext cx="1459080" cy="61920"/>
            <a:chOff x="5638680" y="4648320"/>
            <a:chExt cx="1459080" cy="61920"/>
          </a:xfrm>
        </p:grpSpPr>
        <p:sp>
          <p:nvSpPr>
            <p:cNvPr id="411" name=""/>
            <p:cNvSpPr/>
            <p:nvPr/>
          </p:nvSpPr>
          <p:spPr>
            <a:xfrm>
              <a:off x="5692680" y="4675320"/>
              <a:ext cx="27000" cy="612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32280" y="467532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7368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1508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5612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98960" y="467532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036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8176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2280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6420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07040" y="467532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4844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8948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3088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73720" y="467532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1512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5616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756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40400" y="4675320"/>
              <a:ext cx="288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81800" y="467532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4675320"/>
              <a:ext cx="2988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6424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0564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48480" y="467532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89880" y="4675320"/>
              <a:ext cx="2988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3092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7232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15160" y="467532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6560" y="4675320"/>
              <a:ext cx="2988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9760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39000" y="4675320"/>
              <a:ext cx="3024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80400" y="4675320"/>
              <a:ext cx="29880" cy="61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23240" y="467532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38680" y="464832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lnTo>
                    <a:pt x="0" y="19"/>
                  </a:lnTo>
                  <a:lnTo>
                    <a:pt x="39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34040" y="4648320"/>
              <a:ext cx="6372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0" y="39"/>
                  </a:moveTo>
                  <a:lnTo>
                    <a:pt x="40" y="19"/>
                  </a:lnTo>
                  <a:lnTo>
                    <a:pt x="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2928240" y="2286000"/>
            <a:ext cx="1428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all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Server (or Agen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4440" y="5791320"/>
            <a:ext cx="72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Media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220968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rom ‘Data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095160" y="220968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rom ‘Legac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01C-053E-46F3-87D4-BE4B62EA6C48}" type="slidenum">
              <a:t>19</a:t>
            </a:fld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Presentation Layout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pe of ITU-T Study Group 11 current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verview and status of Signalling Systems/SS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verview of Legacy Signall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arer (ATM, IP) Independent Call Control: BIC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gnalling Enhancements for Convergence to pure IP  environment: SS7/BICC-SIP interwo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dressing Call, Connection &amp; Resource/Policy control protocols for new network architectures (NG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rom Legacy Signalling to new generation signalling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mmary/Concluding rema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D43-7B1F-42A2-832D-A43AEB5A4830}" type="slidenum">
              <a:t>2</a:t>
            </a:fld>
          </a:p>
        </p:txBody>
      </p:sp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BICC Enhancements for Convergence to pure IP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vironment (1/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ous enhancements to BICC are currently under consideration (in Capability Set 3) to enable smooth interaction with and evolution towards NGN architectures. These inclu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QoS asp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dressing and routing (ENUM impacts on BI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gnalling (and inter-working) requirements for the support of new generation (audio and multi-media)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2B3-249C-4994-931B-8CDF5EBAF644}" type="slidenum">
              <a:t>20</a:t>
            </a:fld>
          </a:p>
        </p:txBody>
      </p:sp>
    </p:spTree>
  </p:cSld>
  <p:transition spd="med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ICC Enhancements for Convergence to pure IP environment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2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enable simultaneous support of BICC and SIP by Call servers (=Softswitch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ICC used for legacy voice (between A-B legacy phones) services and between A to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ph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IP used for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phone to B, VoIP (IP-phone-IP-phone) and for multi-media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Cloud"/>
          <p:cNvSpPr/>
          <p:nvPr/>
        </p:nvSpPr>
        <p:spPr>
          <a:xfrm>
            <a:off x="851040" y="4662360"/>
            <a:ext cx="1649160" cy="1347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PSTN/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73240" y="5052960"/>
            <a:ext cx="380880" cy="39384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PHONET" descr=""/>
          <p:cNvPicPr/>
          <p:nvPr/>
        </p:nvPicPr>
        <p:blipFill>
          <a:blip r:embed="rId1"/>
          <a:stretch/>
        </p:blipFill>
        <p:spPr>
          <a:xfrm>
            <a:off x="380880" y="5715000"/>
            <a:ext cx="446040" cy="379440"/>
          </a:xfrm>
          <a:prstGeom prst="rect">
            <a:avLst/>
          </a:prstGeom>
          <a:ln w="0">
            <a:noFill/>
          </a:ln>
        </p:spPr>
      </p:pic>
      <p:sp>
        <p:nvSpPr>
          <p:cNvPr id="457" name="Cloud"/>
          <p:cNvSpPr/>
          <p:nvPr/>
        </p:nvSpPr>
        <p:spPr>
          <a:xfrm>
            <a:off x="6480000" y="4611600"/>
            <a:ext cx="1648080" cy="1347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PSTN/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35720" y="5045040"/>
            <a:ext cx="381240" cy="39384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9" name="PHONET" descr=""/>
          <p:cNvPicPr/>
          <p:nvPr/>
        </p:nvPicPr>
        <p:blipFill>
          <a:blip r:embed="rId2"/>
          <a:stretch/>
        </p:blipFill>
        <p:spPr>
          <a:xfrm>
            <a:off x="8142120" y="5692680"/>
            <a:ext cx="446400" cy="3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0" name=""/>
          <p:cNvGraphicFramePr/>
          <p:nvPr/>
        </p:nvGraphicFramePr>
        <p:xfrm>
          <a:off x="3200400" y="4545000"/>
          <a:ext cx="2590920" cy="15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545000"/>
                    <a:ext cx="259092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521080" y="3581280"/>
            <a:ext cx="907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Call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 Server =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SoftSwi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27200" y="5097600"/>
            <a:ext cx="76068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Media</a:t>
            </a:r>
            <a:br>
              <a:rPr sz="1100"/>
            </a:b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881440" y="4266720"/>
            <a:ext cx="14040" cy="760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73880" y="503856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P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Network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38680" y="3581280"/>
            <a:ext cx="914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Call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Server =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SoftSwi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64240" y="5062680"/>
            <a:ext cx="76032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Media</a:t>
            </a:r>
            <a:br>
              <a:rPr sz="1100"/>
            </a:b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8120" y="4267080"/>
            <a:ext cx="1800" cy="725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98040" y="5316480"/>
            <a:ext cx="460440" cy="419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750080" y="5200560"/>
            <a:ext cx="561960" cy="447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93720" y="5230800"/>
            <a:ext cx="932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80000" y="5253120"/>
            <a:ext cx="84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1351080" y="3901680"/>
            <a:ext cx="1174680" cy="1096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53080" y="3886200"/>
            <a:ext cx="1043280" cy="1098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12720" y="4089240"/>
            <a:ext cx="5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S7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IS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99120" y="4083120"/>
            <a:ext cx="5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S7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IS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05320" y="4114800"/>
            <a:ext cx="2133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3657600"/>
            <a:ext cx="213336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1320" y="5715000"/>
            <a:ext cx="68580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77440" y="336384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BIC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33320" y="38210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selsius" descr=""/>
          <p:cNvPicPr/>
          <p:nvPr/>
        </p:nvPicPr>
        <p:blipFill>
          <a:blip r:embed="rId5"/>
          <a:stretch/>
        </p:blipFill>
        <p:spPr>
          <a:xfrm>
            <a:off x="6400800" y="5867280"/>
            <a:ext cx="533520" cy="4669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6842160" y="6031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IP -ph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selsius" descr=""/>
          <p:cNvPicPr/>
          <p:nvPr/>
        </p:nvPicPr>
        <p:blipFill>
          <a:blip r:embed="rId6"/>
          <a:stretch/>
        </p:blipFill>
        <p:spPr>
          <a:xfrm>
            <a:off x="2209680" y="5867280"/>
            <a:ext cx="533520" cy="4669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 flipV="1">
            <a:off x="2666880" y="5715000"/>
            <a:ext cx="5335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74720" y="6031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IP-ph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75840" y="443088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Mega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5080" y="5881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460000" y="5867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D43-5A52-4721-A5D0-58B59F239702}" type="slidenum">
              <a:t>21</a:t>
            </a:fld>
          </a:p>
        </p:txBody>
      </p: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Role of BICC in emerging Telecom Networ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olution to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volve smoothl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legacy networks towards more effective and more flexible network archite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 support legacy servic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ering an opportunity to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hare the same core network services and transport resources between legacy &amp; IP-based networks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inimal investment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for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nabling TDM-&gt;ATM-&gt;IP/MPLS switch-routing network evolutio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es not preclude th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dditional support of a more open and extensible signalling protocol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uch as S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advanced multi-media and Internet oriented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ither BICC or SIP being used on a per call/session ba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145-8ECC-4ADD-A50C-43886064B4FB}" type="slidenum">
              <a:t>22</a:t>
            </a:fld>
          </a:p>
        </p:txBody>
      </p:sp>
    </p:spTree>
  </p:cSld>
  <p:transition spd="med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Current status of the BICC 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ome fixed network operators, for TDM trunking replacement with ATM or IP transpor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echnologies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 core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merging 3G mobile network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to support voice traffic in the UTRAN (voice over ATM AAL type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ICC is retained in 3GPP R99 and R4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ome Call Servers (or Softswitches) start supporting BICC (CS1 or CS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sually also support primarily SIP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for VoIP and multimedia communication servi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DCB-2D00-4BE9-A69F-698BAA8EC0B1}" type="slidenum">
              <a:t>23</a:t>
            </a:fld>
          </a:p>
        </p:txBody>
      </p:sp>
    </p:spTree>
  </p:cSld>
  <p:transition spd="med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all Control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ICC defined in ITU-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is seen as 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agmatic solution to ease transition from legacy to emerging packet-based (ATM, IP) network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BICC-CS1 and CS2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limited to the support of legacy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S3 (under study) is expected to enable additional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Other signalling protocols, such as SIP, are also expected to emerge in NGN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chite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 support more advanced (multi-media and IP based)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mooth Inter-action and interworking between both is seen as an ultimate requir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oth are likely to co-exist in public networks for an interim peri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GN should ideally implement both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 satisfy legacy network operators expec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 enable both legacy and new generation services off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002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1C1-DA0C-470B-B47A-C0A4B7C99A58}" type="slidenum">
              <a:t>24</a:t>
            </a:fld>
          </a:p>
        </p:txBody>
      </p:sp>
    </p:spTree>
  </p:cSld>
  <p:transition spd="med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809640" cy="522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064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604280" y="1752120"/>
            <a:ext cx="0" cy="1295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04280" y="304812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4800" y="5383080"/>
            <a:ext cx="116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Premi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54360" y="3733920"/>
            <a:ext cx="3657600" cy="1665000"/>
          </a:xfrm>
          <a:custGeom>
            <a:avLst/>
            <a:gdLst/>
            <a:ahLst/>
            <a:rect l="l" t="t" r="r" b="b"/>
            <a:pathLst>
              <a:path w="980" h="716">
                <a:moveTo>
                  <a:pt x="156" y="169"/>
                </a:moveTo>
                <a:lnTo>
                  <a:pt x="165" y="150"/>
                </a:lnTo>
                <a:lnTo>
                  <a:pt x="177" y="130"/>
                </a:lnTo>
                <a:lnTo>
                  <a:pt x="195" y="114"/>
                </a:lnTo>
                <a:lnTo>
                  <a:pt x="220" y="101"/>
                </a:lnTo>
                <a:lnTo>
                  <a:pt x="240" y="94"/>
                </a:lnTo>
                <a:lnTo>
                  <a:pt x="265" y="87"/>
                </a:lnTo>
                <a:lnTo>
                  <a:pt x="304" y="84"/>
                </a:lnTo>
                <a:lnTo>
                  <a:pt x="340" y="87"/>
                </a:lnTo>
                <a:lnTo>
                  <a:pt x="374" y="96"/>
                </a:lnTo>
                <a:lnTo>
                  <a:pt x="399" y="105"/>
                </a:lnTo>
                <a:lnTo>
                  <a:pt x="413" y="73"/>
                </a:lnTo>
                <a:lnTo>
                  <a:pt x="433" y="46"/>
                </a:lnTo>
                <a:lnTo>
                  <a:pt x="460" y="26"/>
                </a:lnTo>
                <a:lnTo>
                  <a:pt x="494" y="12"/>
                </a:lnTo>
                <a:lnTo>
                  <a:pt x="535" y="1"/>
                </a:lnTo>
                <a:lnTo>
                  <a:pt x="576" y="0"/>
                </a:lnTo>
                <a:lnTo>
                  <a:pt x="612" y="7"/>
                </a:lnTo>
                <a:lnTo>
                  <a:pt x="653" y="19"/>
                </a:lnTo>
                <a:lnTo>
                  <a:pt x="685" y="41"/>
                </a:lnTo>
                <a:lnTo>
                  <a:pt x="707" y="64"/>
                </a:lnTo>
                <a:lnTo>
                  <a:pt x="721" y="85"/>
                </a:lnTo>
                <a:lnTo>
                  <a:pt x="724" y="112"/>
                </a:lnTo>
                <a:lnTo>
                  <a:pt x="753" y="103"/>
                </a:lnTo>
                <a:lnTo>
                  <a:pt x="787" y="107"/>
                </a:lnTo>
                <a:lnTo>
                  <a:pt x="816" y="114"/>
                </a:lnTo>
                <a:lnTo>
                  <a:pt x="839" y="134"/>
                </a:lnTo>
                <a:lnTo>
                  <a:pt x="857" y="159"/>
                </a:lnTo>
                <a:lnTo>
                  <a:pt x="864" y="185"/>
                </a:lnTo>
                <a:lnTo>
                  <a:pt x="862" y="207"/>
                </a:lnTo>
                <a:lnTo>
                  <a:pt x="878" y="205"/>
                </a:lnTo>
                <a:lnTo>
                  <a:pt x="900" y="209"/>
                </a:lnTo>
                <a:lnTo>
                  <a:pt x="919" y="219"/>
                </a:lnTo>
                <a:lnTo>
                  <a:pt x="935" y="230"/>
                </a:lnTo>
                <a:lnTo>
                  <a:pt x="946" y="239"/>
                </a:lnTo>
                <a:lnTo>
                  <a:pt x="957" y="252"/>
                </a:lnTo>
                <a:lnTo>
                  <a:pt x="968" y="268"/>
                </a:lnTo>
                <a:lnTo>
                  <a:pt x="973" y="287"/>
                </a:lnTo>
                <a:lnTo>
                  <a:pt x="975" y="302"/>
                </a:lnTo>
                <a:lnTo>
                  <a:pt x="971" y="318"/>
                </a:lnTo>
                <a:lnTo>
                  <a:pt x="964" y="336"/>
                </a:lnTo>
                <a:lnTo>
                  <a:pt x="973" y="357"/>
                </a:lnTo>
                <a:lnTo>
                  <a:pt x="977" y="375"/>
                </a:lnTo>
                <a:lnTo>
                  <a:pt x="978" y="395"/>
                </a:lnTo>
                <a:lnTo>
                  <a:pt x="975" y="418"/>
                </a:lnTo>
                <a:lnTo>
                  <a:pt x="969" y="434"/>
                </a:lnTo>
                <a:lnTo>
                  <a:pt x="959" y="450"/>
                </a:lnTo>
                <a:lnTo>
                  <a:pt x="975" y="475"/>
                </a:lnTo>
                <a:lnTo>
                  <a:pt x="978" y="489"/>
                </a:lnTo>
                <a:lnTo>
                  <a:pt x="980" y="513"/>
                </a:lnTo>
                <a:lnTo>
                  <a:pt x="977" y="534"/>
                </a:lnTo>
                <a:lnTo>
                  <a:pt x="968" y="559"/>
                </a:lnTo>
                <a:lnTo>
                  <a:pt x="957" y="577"/>
                </a:lnTo>
                <a:lnTo>
                  <a:pt x="939" y="593"/>
                </a:lnTo>
                <a:lnTo>
                  <a:pt x="910" y="609"/>
                </a:lnTo>
                <a:lnTo>
                  <a:pt x="878" y="614"/>
                </a:lnTo>
                <a:lnTo>
                  <a:pt x="851" y="611"/>
                </a:lnTo>
                <a:lnTo>
                  <a:pt x="832" y="602"/>
                </a:lnTo>
                <a:lnTo>
                  <a:pt x="819" y="620"/>
                </a:lnTo>
                <a:lnTo>
                  <a:pt x="807" y="632"/>
                </a:lnTo>
                <a:lnTo>
                  <a:pt x="794" y="641"/>
                </a:lnTo>
                <a:lnTo>
                  <a:pt x="773" y="652"/>
                </a:lnTo>
                <a:lnTo>
                  <a:pt x="753" y="661"/>
                </a:lnTo>
                <a:lnTo>
                  <a:pt x="724" y="666"/>
                </a:lnTo>
                <a:lnTo>
                  <a:pt x="696" y="665"/>
                </a:lnTo>
                <a:lnTo>
                  <a:pt x="667" y="657"/>
                </a:lnTo>
                <a:lnTo>
                  <a:pt x="644" y="645"/>
                </a:lnTo>
                <a:lnTo>
                  <a:pt x="630" y="668"/>
                </a:lnTo>
                <a:lnTo>
                  <a:pt x="615" y="681"/>
                </a:lnTo>
                <a:lnTo>
                  <a:pt x="597" y="693"/>
                </a:lnTo>
                <a:lnTo>
                  <a:pt x="578" y="702"/>
                </a:lnTo>
                <a:lnTo>
                  <a:pt x="554" y="706"/>
                </a:lnTo>
                <a:lnTo>
                  <a:pt x="533" y="706"/>
                </a:lnTo>
                <a:lnTo>
                  <a:pt x="513" y="702"/>
                </a:lnTo>
                <a:lnTo>
                  <a:pt x="488" y="690"/>
                </a:lnTo>
                <a:lnTo>
                  <a:pt x="472" y="679"/>
                </a:lnTo>
                <a:lnTo>
                  <a:pt x="460" y="693"/>
                </a:lnTo>
                <a:lnTo>
                  <a:pt x="445" y="702"/>
                </a:lnTo>
                <a:lnTo>
                  <a:pt x="427" y="709"/>
                </a:lnTo>
                <a:lnTo>
                  <a:pt x="402" y="716"/>
                </a:lnTo>
                <a:lnTo>
                  <a:pt x="376" y="715"/>
                </a:lnTo>
                <a:lnTo>
                  <a:pt x="349" y="707"/>
                </a:lnTo>
                <a:lnTo>
                  <a:pt x="329" y="697"/>
                </a:lnTo>
                <a:lnTo>
                  <a:pt x="309" y="677"/>
                </a:lnTo>
                <a:lnTo>
                  <a:pt x="297" y="657"/>
                </a:lnTo>
                <a:lnTo>
                  <a:pt x="277" y="665"/>
                </a:lnTo>
                <a:lnTo>
                  <a:pt x="254" y="670"/>
                </a:lnTo>
                <a:lnTo>
                  <a:pt x="225" y="668"/>
                </a:lnTo>
                <a:lnTo>
                  <a:pt x="202" y="659"/>
                </a:lnTo>
                <a:lnTo>
                  <a:pt x="182" y="647"/>
                </a:lnTo>
                <a:lnTo>
                  <a:pt x="168" y="632"/>
                </a:lnTo>
                <a:lnTo>
                  <a:pt x="156" y="613"/>
                </a:lnTo>
                <a:lnTo>
                  <a:pt x="152" y="593"/>
                </a:lnTo>
                <a:lnTo>
                  <a:pt x="138" y="598"/>
                </a:lnTo>
                <a:lnTo>
                  <a:pt x="116" y="598"/>
                </a:lnTo>
                <a:lnTo>
                  <a:pt x="91" y="593"/>
                </a:lnTo>
                <a:lnTo>
                  <a:pt x="66" y="579"/>
                </a:lnTo>
                <a:lnTo>
                  <a:pt x="48" y="561"/>
                </a:lnTo>
                <a:lnTo>
                  <a:pt x="34" y="536"/>
                </a:lnTo>
                <a:lnTo>
                  <a:pt x="25" y="513"/>
                </a:lnTo>
                <a:lnTo>
                  <a:pt x="21" y="479"/>
                </a:lnTo>
                <a:lnTo>
                  <a:pt x="23" y="455"/>
                </a:lnTo>
                <a:lnTo>
                  <a:pt x="30" y="421"/>
                </a:lnTo>
                <a:lnTo>
                  <a:pt x="14" y="402"/>
                </a:lnTo>
                <a:lnTo>
                  <a:pt x="5" y="377"/>
                </a:lnTo>
                <a:lnTo>
                  <a:pt x="0" y="350"/>
                </a:lnTo>
                <a:lnTo>
                  <a:pt x="0" y="321"/>
                </a:lnTo>
                <a:lnTo>
                  <a:pt x="5" y="291"/>
                </a:lnTo>
                <a:lnTo>
                  <a:pt x="18" y="269"/>
                </a:lnTo>
                <a:lnTo>
                  <a:pt x="38" y="244"/>
                </a:lnTo>
                <a:lnTo>
                  <a:pt x="57" y="227"/>
                </a:lnTo>
                <a:lnTo>
                  <a:pt x="80" y="209"/>
                </a:lnTo>
                <a:lnTo>
                  <a:pt x="113" y="198"/>
                </a:lnTo>
                <a:lnTo>
                  <a:pt x="141" y="191"/>
                </a:lnTo>
                <a:lnTo>
                  <a:pt x="156" y="189"/>
                </a:lnTo>
                <a:lnTo>
                  <a:pt x="156" y="169"/>
                </a:lnTo>
                <a:close/>
              </a:path>
            </a:pathLst>
          </a:custGeom>
          <a:gradFill rotWithShape="0">
            <a:gsLst>
              <a:gs pos="0">
                <a:srgbClr val="07d5a9"/>
              </a:gs>
              <a:gs pos="50000">
                <a:srgbClr val="f8f8f8"/>
              </a:gs>
              <a:gs pos="100000">
                <a:srgbClr val="07d5a9"/>
              </a:gs>
            </a:gsLst>
            <a:lin ang="5400000"/>
          </a:gra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63920" y="46195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c063a"/>
                </a:solidFill>
                <a:latin typeface="Tahoma"/>
                <a:ea typeface="ＭＳ Ｐゴシック"/>
              </a:rPr>
              <a:t>Integra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c063a"/>
                </a:solidFill>
                <a:latin typeface="Tahoma"/>
                <a:ea typeface="ＭＳ Ｐゴシック"/>
              </a:rPr>
              <a:t>Ac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c063a"/>
                </a:solidFill>
                <a:latin typeface="Tahoma"/>
                <a:ea typeface="ＭＳ Ｐゴシック"/>
              </a:rPr>
              <a:t>De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797960" y="3465360"/>
            <a:ext cx="16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527280" y="3156120"/>
            <a:ext cx="255600" cy="92844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276720"/>
            <a:ext cx="1244520" cy="807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156360" y="3581280"/>
            <a:ext cx="2822400" cy="2266920"/>
            <a:chOff x="6156360" y="3581280"/>
            <a:chExt cx="2822400" cy="2266920"/>
          </a:xfrm>
        </p:grpSpPr>
        <p:sp>
          <p:nvSpPr>
            <p:cNvPr id="508" name=""/>
            <p:cNvSpPr/>
            <p:nvPr/>
          </p:nvSpPr>
          <p:spPr>
            <a:xfrm>
              <a:off x="6156360" y="3581280"/>
              <a:ext cx="2822400" cy="2266920"/>
            </a:xfrm>
            <a:custGeom>
              <a:avLst/>
              <a:gdLst/>
              <a:ahLst/>
              <a:rect l="l" t="t" r="r" b="b"/>
              <a:pathLst>
                <a:path w="980" h="716">
                  <a:moveTo>
                    <a:pt x="156" y="169"/>
                  </a:moveTo>
                  <a:lnTo>
                    <a:pt x="165" y="150"/>
                  </a:lnTo>
                  <a:lnTo>
                    <a:pt x="177" y="130"/>
                  </a:lnTo>
                  <a:lnTo>
                    <a:pt x="195" y="114"/>
                  </a:lnTo>
                  <a:lnTo>
                    <a:pt x="220" y="101"/>
                  </a:lnTo>
                  <a:lnTo>
                    <a:pt x="240" y="94"/>
                  </a:lnTo>
                  <a:lnTo>
                    <a:pt x="265" y="87"/>
                  </a:lnTo>
                  <a:lnTo>
                    <a:pt x="304" y="84"/>
                  </a:lnTo>
                  <a:lnTo>
                    <a:pt x="340" y="87"/>
                  </a:lnTo>
                  <a:lnTo>
                    <a:pt x="374" y="96"/>
                  </a:lnTo>
                  <a:lnTo>
                    <a:pt x="399" y="105"/>
                  </a:lnTo>
                  <a:lnTo>
                    <a:pt x="413" y="73"/>
                  </a:lnTo>
                  <a:lnTo>
                    <a:pt x="433" y="46"/>
                  </a:lnTo>
                  <a:lnTo>
                    <a:pt x="460" y="26"/>
                  </a:lnTo>
                  <a:lnTo>
                    <a:pt x="494" y="12"/>
                  </a:lnTo>
                  <a:lnTo>
                    <a:pt x="535" y="1"/>
                  </a:lnTo>
                  <a:lnTo>
                    <a:pt x="576" y="0"/>
                  </a:lnTo>
                  <a:lnTo>
                    <a:pt x="612" y="7"/>
                  </a:lnTo>
                  <a:lnTo>
                    <a:pt x="653" y="19"/>
                  </a:lnTo>
                  <a:lnTo>
                    <a:pt x="685" y="41"/>
                  </a:lnTo>
                  <a:lnTo>
                    <a:pt x="707" y="64"/>
                  </a:lnTo>
                  <a:lnTo>
                    <a:pt x="721" y="85"/>
                  </a:lnTo>
                  <a:lnTo>
                    <a:pt x="724" y="112"/>
                  </a:lnTo>
                  <a:lnTo>
                    <a:pt x="753" y="103"/>
                  </a:lnTo>
                  <a:lnTo>
                    <a:pt x="787" y="107"/>
                  </a:lnTo>
                  <a:lnTo>
                    <a:pt x="816" y="114"/>
                  </a:lnTo>
                  <a:lnTo>
                    <a:pt x="839" y="134"/>
                  </a:lnTo>
                  <a:lnTo>
                    <a:pt x="857" y="159"/>
                  </a:lnTo>
                  <a:lnTo>
                    <a:pt x="864" y="185"/>
                  </a:lnTo>
                  <a:lnTo>
                    <a:pt x="862" y="207"/>
                  </a:lnTo>
                  <a:lnTo>
                    <a:pt x="878" y="205"/>
                  </a:lnTo>
                  <a:lnTo>
                    <a:pt x="900" y="209"/>
                  </a:lnTo>
                  <a:lnTo>
                    <a:pt x="919" y="219"/>
                  </a:lnTo>
                  <a:lnTo>
                    <a:pt x="935" y="230"/>
                  </a:lnTo>
                  <a:lnTo>
                    <a:pt x="946" y="239"/>
                  </a:lnTo>
                  <a:lnTo>
                    <a:pt x="957" y="252"/>
                  </a:lnTo>
                  <a:lnTo>
                    <a:pt x="968" y="268"/>
                  </a:lnTo>
                  <a:lnTo>
                    <a:pt x="973" y="287"/>
                  </a:lnTo>
                  <a:lnTo>
                    <a:pt x="975" y="302"/>
                  </a:lnTo>
                  <a:lnTo>
                    <a:pt x="971" y="318"/>
                  </a:lnTo>
                  <a:lnTo>
                    <a:pt x="964" y="336"/>
                  </a:lnTo>
                  <a:lnTo>
                    <a:pt x="973" y="357"/>
                  </a:lnTo>
                  <a:lnTo>
                    <a:pt x="977" y="375"/>
                  </a:lnTo>
                  <a:lnTo>
                    <a:pt x="978" y="395"/>
                  </a:lnTo>
                  <a:lnTo>
                    <a:pt x="975" y="418"/>
                  </a:lnTo>
                  <a:lnTo>
                    <a:pt x="969" y="434"/>
                  </a:lnTo>
                  <a:lnTo>
                    <a:pt x="959" y="450"/>
                  </a:lnTo>
                  <a:lnTo>
                    <a:pt x="975" y="475"/>
                  </a:lnTo>
                  <a:lnTo>
                    <a:pt x="978" y="489"/>
                  </a:lnTo>
                  <a:lnTo>
                    <a:pt x="980" y="513"/>
                  </a:lnTo>
                  <a:lnTo>
                    <a:pt x="977" y="534"/>
                  </a:lnTo>
                  <a:lnTo>
                    <a:pt x="968" y="559"/>
                  </a:lnTo>
                  <a:lnTo>
                    <a:pt x="957" y="577"/>
                  </a:lnTo>
                  <a:lnTo>
                    <a:pt x="939" y="593"/>
                  </a:lnTo>
                  <a:lnTo>
                    <a:pt x="910" y="609"/>
                  </a:lnTo>
                  <a:lnTo>
                    <a:pt x="878" y="614"/>
                  </a:lnTo>
                  <a:lnTo>
                    <a:pt x="851" y="611"/>
                  </a:lnTo>
                  <a:lnTo>
                    <a:pt x="832" y="602"/>
                  </a:lnTo>
                  <a:lnTo>
                    <a:pt x="819" y="620"/>
                  </a:lnTo>
                  <a:lnTo>
                    <a:pt x="807" y="632"/>
                  </a:lnTo>
                  <a:lnTo>
                    <a:pt x="794" y="641"/>
                  </a:lnTo>
                  <a:lnTo>
                    <a:pt x="773" y="652"/>
                  </a:lnTo>
                  <a:lnTo>
                    <a:pt x="753" y="661"/>
                  </a:lnTo>
                  <a:lnTo>
                    <a:pt x="724" y="666"/>
                  </a:lnTo>
                  <a:lnTo>
                    <a:pt x="696" y="665"/>
                  </a:lnTo>
                  <a:lnTo>
                    <a:pt x="667" y="657"/>
                  </a:lnTo>
                  <a:lnTo>
                    <a:pt x="644" y="645"/>
                  </a:lnTo>
                  <a:lnTo>
                    <a:pt x="630" y="668"/>
                  </a:lnTo>
                  <a:lnTo>
                    <a:pt x="615" y="681"/>
                  </a:lnTo>
                  <a:lnTo>
                    <a:pt x="597" y="693"/>
                  </a:lnTo>
                  <a:lnTo>
                    <a:pt x="578" y="702"/>
                  </a:lnTo>
                  <a:lnTo>
                    <a:pt x="554" y="706"/>
                  </a:lnTo>
                  <a:lnTo>
                    <a:pt x="533" y="706"/>
                  </a:lnTo>
                  <a:lnTo>
                    <a:pt x="513" y="702"/>
                  </a:lnTo>
                  <a:lnTo>
                    <a:pt x="488" y="690"/>
                  </a:lnTo>
                  <a:lnTo>
                    <a:pt x="472" y="679"/>
                  </a:lnTo>
                  <a:lnTo>
                    <a:pt x="460" y="693"/>
                  </a:lnTo>
                  <a:lnTo>
                    <a:pt x="445" y="702"/>
                  </a:lnTo>
                  <a:lnTo>
                    <a:pt x="427" y="709"/>
                  </a:lnTo>
                  <a:lnTo>
                    <a:pt x="402" y="716"/>
                  </a:lnTo>
                  <a:lnTo>
                    <a:pt x="376" y="715"/>
                  </a:lnTo>
                  <a:lnTo>
                    <a:pt x="349" y="707"/>
                  </a:lnTo>
                  <a:lnTo>
                    <a:pt x="329" y="697"/>
                  </a:lnTo>
                  <a:lnTo>
                    <a:pt x="309" y="677"/>
                  </a:lnTo>
                  <a:lnTo>
                    <a:pt x="297" y="657"/>
                  </a:lnTo>
                  <a:lnTo>
                    <a:pt x="277" y="665"/>
                  </a:lnTo>
                  <a:lnTo>
                    <a:pt x="254" y="670"/>
                  </a:lnTo>
                  <a:lnTo>
                    <a:pt x="225" y="668"/>
                  </a:lnTo>
                  <a:lnTo>
                    <a:pt x="202" y="659"/>
                  </a:lnTo>
                  <a:lnTo>
                    <a:pt x="182" y="647"/>
                  </a:lnTo>
                  <a:lnTo>
                    <a:pt x="168" y="632"/>
                  </a:lnTo>
                  <a:lnTo>
                    <a:pt x="156" y="613"/>
                  </a:lnTo>
                  <a:lnTo>
                    <a:pt x="152" y="593"/>
                  </a:lnTo>
                  <a:lnTo>
                    <a:pt x="138" y="598"/>
                  </a:lnTo>
                  <a:lnTo>
                    <a:pt x="116" y="598"/>
                  </a:lnTo>
                  <a:lnTo>
                    <a:pt x="91" y="593"/>
                  </a:lnTo>
                  <a:lnTo>
                    <a:pt x="66" y="579"/>
                  </a:lnTo>
                  <a:lnTo>
                    <a:pt x="48" y="561"/>
                  </a:lnTo>
                  <a:lnTo>
                    <a:pt x="34" y="536"/>
                  </a:lnTo>
                  <a:lnTo>
                    <a:pt x="25" y="513"/>
                  </a:lnTo>
                  <a:lnTo>
                    <a:pt x="21" y="479"/>
                  </a:lnTo>
                  <a:lnTo>
                    <a:pt x="23" y="455"/>
                  </a:lnTo>
                  <a:lnTo>
                    <a:pt x="30" y="421"/>
                  </a:lnTo>
                  <a:lnTo>
                    <a:pt x="14" y="402"/>
                  </a:lnTo>
                  <a:lnTo>
                    <a:pt x="5" y="377"/>
                  </a:lnTo>
                  <a:lnTo>
                    <a:pt x="0" y="350"/>
                  </a:lnTo>
                  <a:lnTo>
                    <a:pt x="0" y="321"/>
                  </a:lnTo>
                  <a:lnTo>
                    <a:pt x="5" y="291"/>
                  </a:lnTo>
                  <a:lnTo>
                    <a:pt x="18" y="269"/>
                  </a:lnTo>
                  <a:lnTo>
                    <a:pt x="38" y="244"/>
                  </a:lnTo>
                  <a:lnTo>
                    <a:pt x="57" y="227"/>
                  </a:lnTo>
                  <a:lnTo>
                    <a:pt x="80" y="209"/>
                  </a:lnTo>
                  <a:lnTo>
                    <a:pt x="113" y="198"/>
                  </a:lnTo>
                  <a:lnTo>
                    <a:pt x="141" y="191"/>
                  </a:lnTo>
                  <a:lnTo>
                    <a:pt x="156" y="189"/>
                  </a:lnTo>
                  <a:lnTo>
                    <a:pt x="156" y="169"/>
                  </a:lnTo>
                  <a:close/>
                </a:path>
              </a:pathLst>
            </a:custGeom>
            <a:gradFill rotWithShape="0">
              <a:gsLst>
                <a:gs pos="0">
                  <a:srgbClr val="009894"/>
                </a:gs>
                <a:gs pos="50000">
                  <a:srgbClr val="0000ff"/>
                </a:gs>
                <a:gs pos="100000">
                  <a:srgbClr val="009894"/>
                </a:gs>
              </a:gsLst>
              <a:lin ang="5400000"/>
            </a:gradFill>
            <a:ln w="11160">
              <a:solidFill>
                <a:srgbClr val="00808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29920" y="3886200"/>
              <a:ext cx="1834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  <a:ea typeface="ＭＳ Ｐゴシック"/>
                </a:rPr>
                <a:t>IP/MPLS Backb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  <a:ea typeface="ＭＳ Ｐゴシック"/>
                </a:rPr>
                <a:t>Optical Co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99400" y="4633920"/>
              <a:ext cx="1595520" cy="701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7759800" y="4394160"/>
              <a:ext cx="60480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8248680" y="4984560"/>
              <a:ext cx="60804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346880" y="48513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c063a"/>
                  </a:solidFill>
                  <a:latin typeface="Tahoma"/>
                  <a:ea typeface="ＭＳ Ｐゴシック"/>
                </a:rPr>
                <a:t>DWD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37360" y="4267080"/>
              <a:ext cx="10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4"/>
            <a:stretch/>
          </p:blipFill>
          <p:spPr>
            <a:xfrm>
              <a:off x="7015320" y="5124240"/>
              <a:ext cx="608040" cy="45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" descr=""/>
          <p:cNvPicPr/>
          <p:nvPr/>
        </p:nvPicPr>
        <p:blipFill>
          <a:blip r:embed="rId5"/>
          <a:stretch/>
        </p:blipFill>
        <p:spPr>
          <a:xfrm>
            <a:off x="3657600" y="2819520"/>
            <a:ext cx="770040" cy="9284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808200" y="4602240"/>
            <a:ext cx="1888920" cy="761760"/>
          </a:xfrm>
          <a:prstGeom prst="cloudCallout">
            <a:avLst>
              <a:gd name="adj1" fmla="val 60504"/>
              <a:gd name="adj2" fmla="val -78541"/>
            </a:avLst>
          </a:prstGeom>
          <a:gradFill rotWithShape="0">
            <a:gsLst>
              <a:gs pos="0">
                <a:srgbClr val="969696"/>
              </a:gs>
              <a:gs pos="50000">
                <a:srgbClr val="0000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cy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3809880"/>
            <a:ext cx="1828800" cy="990720"/>
          </a:xfrm>
          <a:prstGeom prst="cloudCallout">
            <a:avLst>
              <a:gd name="adj1" fmla="val 70833"/>
              <a:gd name="adj2" fmla="val -962"/>
            </a:avLst>
          </a:prstGeom>
          <a:gradFill rotWithShape="0">
            <a:gsLst>
              <a:gs pos="0">
                <a:srgbClr val="ff9900"/>
              </a:gs>
              <a:gs pos="50000">
                <a:srgbClr val="0000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P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2743200"/>
            <a:ext cx="457200" cy="17524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803680" y="4343400"/>
            <a:ext cx="2895480" cy="0"/>
            <a:chOff x="2803680" y="4343400"/>
            <a:chExt cx="2895480" cy="0"/>
          </a:xfrm>
        </p:grpSpPr>
        <p:sp>
          <p:nvSpPr>
            <p:cNvPr id="521" name=""/>
            <p:cNvSpPr/>
            <p:nvPr/>
          </p:nvSpPr>
          <p:spPr>
            <a:xfrm>
              <a:off x="2803680" y="4343400"/>
              <a:ext cx="2743200" cy="0"/>
            </a:xfrm>
            <a:prstGeom prst="line">
              <a:avLst/>
            </a:prstGeom>
            <a:ln w="7632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32280" y="4343400"/>
              <a:ext cx="2666880" cy="0"/>
            </a:xfrm>
            <a:prstGeom prst="line">
              <a:avLst/>
            </a:prstGeom>
            <a:ln w="7632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657400" y="4356720"/>
            <a:ext cx="1375200" cy="454680"/>
            <a:chOff x="5657400" y="4356720"/>
            <a:chExt cx="1375200" cy="454680"/>
          </a:xfrm>
        </p:grpSpPr>
        <p:sp>
          <p:nvSpPr>
            <p:cNvPr id="524" name=""/>
            <p:cNvSpPr/>
            <p:nvPr/>
          </p:nvSpPr>
          <p:spPr>
            <a:xfrm>
              <a:off x="5766120" y="4393080"/>
              <a:ext cx="1266480" cy="4183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57400" y="4356720"/>
              <a:ext cx="1302480" cy="430560"/>
            </a:xfrm>
            <a:prstGeom prst="line">
              <a:avLst/>
            </a:prstGeom>
            <a:ln w="76320">
              <a:solidFill>
                <a:srgbClr val="ff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6"/>
          <a:stretch/>
        </p:blipFill>
        <p:spPr>
          <a:xfrm>
            <a:off x="6653160" y="4564080"/>
            <a:ext cx="608040" cy="449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8290080" y="1676520"/>
            <a:ext cx="533160" cy="6094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594640" y="2209680"/>
            <a:ext cx="358920" cy="312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070760" y="1143000"/>
            <a:ext cx="1839960" cy="990720"/>
            <a:chOff x="7070760" y="1143000"/>
            <a:chExt cx="1839960" cy="990720"/>
          </a:xfrm>
        </p:grpSpPr>
        <p:sp>
          <p:nvSpPr>
            <p:cNvPr id="530" name=""/>
            <p:cNvSpPr/>
            <p:nvPr/>
          </p:nvSpPr>
          <p:spPr>
            <a:xfrm>
              <a:off x="7070760" y="1143000"/>
              <a:ext cx="1839960" cy="990720"/>
            </a:xfrm>
            <a:custGeom>
              <a:avLst/>
              <a:gdLst/>
              <a:ahLst/>
              <a:rect l="l" t="t" r="r" b="b"/>
              <a:pathLst>
                <a:path w="980" h="716">
                  <a:moveTo>
                    <a:pt x="156" y="169"/>
                  </a:moveTo>
                  <a:lnTo>
                    <a:pt x="165" y="150"/>
                  </a:lnTo>
                  <a:lnTo>
                    <a:pt x="177" y="130"/>
                  </a:lnTo>
                  <a:lnTo>
                    <a:pt x="195" y="114"/>
                  </a:lnTo>
                  <a:lnTo>
                    <a:pt x="220" y="101"/>
                  </a:lnTo>
                  <a:lnTo>
                    <a:pt x="240" y="94"/>
                  </a:lnTo>
                  <a:lnTo>
                    <a:pt x="265" y="87"/>
                  </a:lnTo>
                  <a:lnTo>
                    <a:pt x="304" y="84"/>
                  </a:lnTo>
                  <a:lnTo>
                    <a:pt x="340" y="87"/>
                  </a:lnTo>
                  <a:lnTo>
                    <a:pt x="374" y="96"/>
                  </a:lnTo>
                  <a:lnTo>
                    <a:pt x="399" y="105"/>
                  </a:lnTo>
                  <a:lnTo>
                    <a:pt x="413" y="73"/>
                  </a:lnTo>
                  <a:lnTo>
                    <a:pt x="433" y="46"/>
                  </a:lnTo>
                  <a:lnTo>
                    <a:pt x="460" y="26"/>
                  </a:lnTo>
                  <a:lnTo>
                    <a:pt x="494" y="12"/>
                  </a:lnTo>
                  <a:lnTo>
                    <a:pt x="535" y="1"/>
                  </a:lnTo>
                  <a:lnTo>
                    <a:pt x="576" y="0"/>
                  </a:lnTo>
                  <a:lnTo>
                    <a:pt x="612" y="7"/>
                  </a:lnTo>
                  <a:lnTo>
                    <a:pt x="653" y="19"/>
                  </a:lnTo>
                  <a:lnTo>
                    <a:pt x="685" y="41"/>
                  </a:lnTo>
                  <a:lnTo>
                    <a:pt x="707" y="64"/>
                  </a:lnTo>
                  <a:lnTo>
                    <a:pt x="721" y="85"/>
                  </a:lnTo>
                  <a:lnTo>
                    <a:pt x="724" y="112"/>
                  </a:lnTo>
                  <a:lnTo>
                    <a:pt x="753" y="103"/>
                  </a:lnTo>
                  <a:lnTo>
                    <a:pt x="787" y="107"/>
                  </a:lnTo>
                  <a:lnTo>
                    <a:pt x="816" y="114"/>
                  </a:lnTo>
                  <a:lnTo>
                    <a:pt x="839" y="134"/>
                  </a:lnTo>
                  <a:lnTo>
                    <a:pt x="857" y="159"/>
                  </a:lnTo>
                  <a:lnTo>
                    <a:pt x="864" y="185"/>
                  </a:lnTo>
                  <a:lnTo>
                    <a:pt x="862" y="207"/>
                  </a:lnTo>
                  <a:lnTo>
                    <a:pt x="878" y="205"/>
                  </a:lnTo>
                  <a:lnTo>
                    <a:pt x="900" y="209"/>
                  </a:lnTo>
                  <a:lnTo>
                    <a:pt x="919" y="219"/>
                  </a:lnTo>
                  <a:lnTo>
                    <a:pt x="935" y="230"/>
                  </a:lnTo>
                  <a:lnTo>
                    <a:pt x="946" y="239"/>
                  </a:lnTo>
                  <a:lnTo>
                    <a:pt x="957" y="252"/>
                  </a:lnTo>
                  <a:lnTo>
                    <a:pt x="968" y="268"/>
                  </a:lnTo>
                  <a:lnTo>
                    <a:pt x="973" y="287"/>
                  </a:lnTo>
                  <a:lnTo>
                    <a:pt x="975" y="302"/>
                  </a:lnTo>
                  <a:lnTo>
                    <a:pt x="971" y="318"/>
                  </a:lnTo>
                  <a:lnTo>
                    <a:pt x="964" y="336"/>
                  </a:lnTo>
                  <a:lnTo>
                    <a:pt x="973" y="357"/>
                  </a:lnTo>
                  <a:lnTo>
                    <a:pt x="977" y="375"/>
                  </a:lnTo>
                  <a:lnTo>
                    <a:pt x="978" y="395"/>
                  </a:lnTo>
                  <a:lnTo>
                    <a:pt x="975" y="418"/>
                  </a:lnTo>
                  <a:lnTo>
                    <a:pt x="969" y="434"/>
                  </a:lnTo>
                  <a:lnTo>
                    <a:pt x="959" y="450"/>
                  </a:lnTo>
                  <a:lnTo>
                    <a:pt x="975" y="475"/>
                  </a:lnTo>
                  <a:lnTo>
                    <a:pt x="978" y="489"/>
                  </a:lnTo>
                  <a:lnTo>
                    <a:pt x="980" y="513"/>
                  </a:lnTo>
                  <a:lnTo>
                    <a:pt x="977" y="534"/>
                  </a:lnTo>
                  <a:lnTo>
                    <a:pt x="968" y="559"/>
                  </a:lnTo>
                  <a:lnTo>
                    <a:pt x="957" y="577"/>
                  </a:lnTo>
                  <a:lnTo>
                    <a:pt x="939" y="593"/>
                  </a:lnTo>
                  <a:lnTo>
                    <a:pt x="910" y="609"/>
                  </a:lnTo>
                  <a:lnTo>
                    <a:pt x="878" y="614"/>
                  </a:lnTo>
                  <a:lnTo>
                    <a:pt x="851" y="611"/>
                  </a:lnTo>
                  <a:lnTo>
                    <a:pt x="832" y="602"/>
                  </a:lnTo>
                  <a:lnTo>
                    <a:pt x="819" y="620"/>
                  </a:lnTo>
                  <a:lnTo>
                    <a:pt x="807" y="632"/>
                  </a:lnTo>
                  <a:lnTo>
                    <a:pt x="794" y="641"/>
                  </a:lnTo>
                  <a:lnTo>
                    <a:pt x="773" y="652"/>
                  </a:lnTo>
                  <a:lnTo>
                    <a:pt x="753" y="661"/>
                  </a:lnTo>
                  <a:lnTo>
                    <a:pt x="724" y="666"/>
                  </a:lnTo>
                  <a:lnTo>
                    <a:pt x="696" y="665"/>
                  </a:lnTo>
                  <a:lnTo>
                    <a:pt x="667" y="657"/>
                  </a:lnTo>
                  <a:lnTo>
                    <a:pt x="644" y="645"/>
                  </a:lnTo>
                  <a:lnTo>
                    <a:pt x="630" y="668"/>
                  </a:lnTo>
                  <a:lnTo>
                    <a:pt x="615" y="681"/>
                  </a:lnTo>
                  <a:lnTo>
                    <a:pt x="597" y="693"/>
                  </a:lnTo>
                  <a:lnTo>
                    <a:pt x="578" y="702"/>
                  </a:lnTo>
                  <a:lnTo>
                    <a:pt x="554" y="706"/>
                  </a:lnTo>
                  <a:lnTo>
                    <a:pt x="533" y="706"/>
                  </a:lnTo>
                  <a:lnTo>
                    <a:pt x="513" y="702"/>
                  </a:lnTo>
                  <a:lnTo>
                    <a:pt x="488" y="690"/>
                  </a:lnTo>
                  <a:lnTo>
                    <a:pt x="472" y="679"/>
                  </a:lnTo>
                  <a:lnTo>
                    <a:pt x="460" y="693"/>
                  </a:lnTo>
                  <a:lnTo>
                    <a:pt x="445" y="702"/>
                  </a:lnTo>
                  <a:lnTo>
                    <a:pt x="427" y="709"/>
                  </a:lnTo>
                  <a:lnTo>
                    <a:pt x="402" y="716"/>
                  </a:lnTo>
                  <a:lnTo>
                    <a:pt x="376" y="715"/>
                  </a:lnTo>
                  <a:lnTo>
                    <a:pt x="349" y="707"/>
                  </a:lnTo>
                  <a:lnTo>
                    <a:pt x="329" y="697"/>
                  </a:lnTo>
                  <a:lnTo>
                    <a:pt x="309" y="677"/>
                  </a:lnTo>
                  <a:lnTo>
                    <a:pt x="297" y="657"/>
                  </a:lnTo>
                  <a:lnTo>
                    <a:pt x="277" y="665"/>
                  </a:lnTo>
                  <a:lnTo>
                    <a:pt x="254" y="670"/>
                  </a:lnTo>
                  <a:lnTo>
                    <a:pt x="225" y="668"/>
                  </a:lnTo>
                  <a:lnTo>
                    <a:pt x="202" y="659"/>
                  </a:lnTo>
                  <a:lnTo>
                    <a:pt x="182" y="647"/>
                  </a:lnTo>
                  <a:lnTo>
                    <a:pt x="168" y="632"/>
                  </a:lnTo>
                  <a:lnTo>
                    <a:pt x="156" y="613"/>
                  </a:lnTo>
                  <a:lnTo>
                    <a:pt x="152" y="593"/>
                  </a:lnTo>
                  <a:lnTo>
                    <a:pt x="138" y="598"/>
                  </a:lnTo>
                  <a:lnTo>
                    <a:pt x="116" y="598"/>
                  </a:lnTo>
                  <a:lnTo>
                    <a:pt x="91" y="593"/>
                  </a:lnTo>
                  <a:lnTo>
                    <a:pt x="66" y="579"/>
                  </a:lnTo>
                  <a:lnTo>
                    <a:pt x="48" y="561"/>
                  </a:lnTo>
                  <a:lnTo>
                    <a:pt x="34" y="536"/>
                  </a:lnTo>
                  <a:lnTo>
                    <a:pt x="25" y="513"/>
                  </a:lnTo>
                  <a:lnTo>
                    <a:pt x="21" y="479"/>
                  </a:lnTo>
                  <a:lnTo>
                    <a:pt x="23" y="455"/>
                  </a:lnTo>
                  <a:lnTo>
                    <a:pt x="30" y="421"/>
                  </a:lnTo>
                  <a:lnTo>
                    <a:pt x="14" y="402"/>
                  </a:lnTo>
                  <a:lnTo>
                    <a:pt x="5" y="377"/>
                  </a:lnTo>
                  <a:lnTo>
                    <a:pt x="0" y="350"/>
                  </a:lnTo>
                  <a:lnTo>
                    <a:pt x="0" y="321"/>
                  </a:lnTo>
                  <a:lnTo>
                    <a:pt x="5" y="291"/>
                  </a:lnTo>
                  <a:lnTo>
                    <a:pt x="18" y="269"/>
                  </a:lnTo>
                  <a:lnTo>
                    <a:pt x="38" y="244"/>
                  </a:lnTo>
                  <a:lnTo>
                    <a:pt x="57" y="227"/>
                  </a:lnTo>
                  <a:lnTo>
                    <a:pt x="80" y="209"/>
                  </a:lnTo>
                  <a:lnTo>
                    <a:pt x="113" y="198"/>
                  </a:lnTo>
                  <a:lnTo>
                    <a:pt x="141" y="191"/>
                  </a:lnTo>
                  <a:lnTo>
                    <a:pt x="156" y="189"/>
                  </a:lnTo>
                  <a:lnTo>
                    <a:pt x="156" y="169"/>
                  </a:lnTo>
                  <a:close/>
                </a:path>
              </a:pathLst>
            </a:custGeom>
            <a:gradFill rotWithShape="0">
              <a:gsLst>
                <a:gs pos="0">
                  <a:srgbClr val="6883d8"/>
                </a:gs>
                <a:gs pos="50000">
                  <a:srgbClr val="0000ff"/>
                </a:gs>
                <a:gs pos="100000">
                  <a:srgbClr val="6883d8"/>
                </a:gs>
              </a:gsLst>
              <a:lin ang="5400000"/>
            </a:gradFill>
            <a:ln w="11160">
              <a:solidFill>
                <a:srgbClr val="0000ff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47120" y="1801800"/>
              <a:ext cx="115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  <a:ea typeface="ＭＳ Ｐゴシック"/>
                </a:rPr>
                <a:t>PSTN/ISD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7555680" y="1266480"/>
              <a:ext cx="1000080" cy="502920"/>
              <a:chOff x="7555680" y="1266480"/>
              <a:chExt cx="1000080" cy="502920"/>
            </a:xfrm>
          </p:grpSpPr>
          <p:sp>
            <p:nvSpPr>
              <p:cNvPr id="533" name=""/>
              <p:cNvSpPr/>
              <p:nvPr/>
            </p:nvSpPr>
            <p:spPr>
              <a:xfrm>
                <a:off x="7555680" y="1266480"/>
                <a:ext cx="1000080" cy="502920"/>
              </a:xfrm>
              <a:custGeom>
                <a:avLst/>
                <a:gdLst/>
                <a:ahLst/>
                <a:rect l="l" t="t" r="r" b="b"/>
                <a:pathLst>
                  <a:path w="980" h="716">
                    <a:moveTo>
                      <a:pt x="156" y="169"/>
                    </a:moveTo>
                    <a:lnTo>
                      <a:pt x="165" y="150"/>
                    </a:lnTo>
                    <a:lnTo>
                      <a:pt x="177" y="130"/>
                    </a:lnTo>
                    <a:lnTo>
                      <a:pt x="195" y="114"/>
                    </a:lnTo>
                    <a:lnTo>
                      <a:pt x="220" y="101"/>
                    </a:lnTo>
                    <a:lnTo>
                      <a:pt x="240" y="94"/>
                    </a:lnTo>
                    <a:lnTo>
                      <a:pt x="265" y="87"/>
                    </a:lnTo>
                    <a:lnTo>
                      <a:pt x="304" y="84"/>
                    </a:lnTo>
                    <a:lnTo>
                      <a:pt x="340" y="87"/>
                    </a:lnTo>
                    <a:lnTo>
                      <a:pt x="374" y="96"/>
                    </a:lnTo>
                    <a:lnTo>
                      <a:pt x="399" y="105"/>
                    </a:lnTo>
                    <a:lnTo>
                      <a:pt x="413" y="73"/>
                    </a:lnTo>
                    <a:lnTo>
                      <a:pt x="433" y="46"/>
                    </a:lnTo>
                    <a:lnTo>
                      <a:pt x="460" y="26"/>
                    </a:lnTo>
                    <a:lnTo>
                      <a:pt x="494" y="12"/>
                    </a:lnTo>
                    <a:lnTo>
                      <a:pt x="535" y="1"/>
                    </a:lnTo>
                    <a:lnTo>
                      <a:pt x="576" y="0"/>
                    </a:lnTo>
                    <a:lnTo>
                      <a:pt x="612" y="7"/>
                    </a:lnTo>
                    <a:lnTo>
                      <a:pt x="653" y="19"/>
                    </a:lnTo>
                    <a:lnTo>
                      <a:pt x="685" y="41"/>
                    </a:lnTo>
                    <a:lnTo>
                      <a:pt x="707" y="64"/>
                    </a:lnTo>
                    <a:lnTo>
                      <a:pt x="721" y="85"/>
                    </a:lnTo>
                    <a:lnTo>
                      <a:pt x="724" y="112"/>
                    </a:lnTo>
                    <a:lnTo>
                      <a:pt x="753" y="103"/>
                    </a:lnTo>
                    <a:lnTo>
                      <a:pt x="787" y="107"/>
                    </a:lnTo>
                    <a:lnTo>
                      <a:pt x="816" y="114"/>
                    </a:lnTo>
                    <a:lnTo>
                      <a:pt x="839" y="134"/>
                    </a:lnTo>
                    <a:lnTo>
                      <a:pt x="857" y="159"/>
                    </a:lnTo>
                    <a:lnTo>
                      <a:pt x="864" y="185"/>
                    </a:lnTo>
                    <a:lnTo>
                      <a:pt x="862" y="207"/>
                    </a:lnTo>
                    <a:lnTo>
                      <a:pt x="878" y="205"/>
                    </a:lnTo>
                    <a:lnTo>
                      <a:pt x="900" y="209"/>
                    </a:lnTo>
                    <a:lnTo>
                      <a:pt x="919" y="219"/>
                    </a:lnTo>
                    <a:lnTo>
                      <a:pt x="935" y="230"/>
                    </a:lnTo>
                    <a:lnTo>
                      <a:pt x="946" y="239"/>
                    </a:lnTo>
                    <a:lnTo>
                      <a:pt x="957" y="252"/>
                    </a:lnTo>
                    <a:lnTo>
                      <a:pt x="968" y="268"/>
                    </a:lnTo>
                    <a:lnTo>
                      <a:pt x="973" y="287"/>
                    </a:lnTo>
                    <a:lnTo>
                      <a:pt x="975" y="302"/>
                    </a:lnTo>
                    <a:lnTo>
                      <a:pt x="971" y="318"/>
                    </a:lnTo>
                    <a:lnTo>
                      <a:pt x="964" y="336"/>
                    </a:lnTo>
                    <a:lnTo>
                      <a:pt x="973" y="357"/>
                    </a:lnTo>
                    <a:lnTo>
                      <a:pt x="977" y="375"/>
                    </a:lnTo>
                    <a:lnTo>
                      <a:pt x="978" y="395"/>
                    </a:lnTo>
                    <a:lnTo>
                      <a:pt x="975" y="418"/>
                    </a:lnTo>
                    <a:lnTo>
                      <a:pt x="969" y="434"/>
                    </a:lnTo>
                    <a:lnTo>
                      <a:pt x="959" y="450"/>
                    </a:lnTo>
                    <a:lnTo>
                      <a:pt x="975" y="475"/>
                    </a:lnTo>
                    <a:lnTo>
                      <a:pt x="978" y="489"/>
                    </a:lnTo>
                    <a:lnTo>
                      <a:pt x="980" y="513"/>
                    </a:lnTo>
                    <a:lnTo>
                      <a:pt x="977" y="534"/>
                    </a:lnTo>
                    <a:lnTo>
                      <a:pt x="968" y="559"/>
                    </a:lnTo>
                    <a:lnTo>
                      <a:pt x="957" y="577"/>
                    </a:lnTo>
                    <a:lnTo>
                      <a:pt x="939" y="593"/>
                    </a:lnTo>
                    <a:lnTo>
                      <a:pt x="910" y="609"/>
                    </a:lnTo>
                    <a:lnTo>
                      <a:pt x="878" y="614"/>
                    </a:lnTo>
                    <a:lnTo>
                      <a:pt x="851" y="611"/>
                    </a:lnTo>
                    <a:lnTo>
                      <a:pt x="832" y="602"/>
                    </a:lnTo>
                    <a:lnTo>
                      <a:pt x="819" y="620"/>
                    </a:lnTo>
                    <a:lnTo>
                      <a:pt x="807" y="632"/>
                    </a:lnTo>
                    <a:lnTo>
                      <a:pt x="794" y="641"/>
                    </a:lnTo>
                    <a:lnTo>
                      <a:pt x="773" y="652"/>
                    </a:lnTo>
                    <a:lnTo>
                      <a:pt x="753" y="661"/>
                    </a:lnTo>
                    <a:lnTo>
                      <a:pt x="724" y="666"/>
                    </a:lnTo>
                    <a:lnTo>
                      <a:pt x="696" y="665"/>
                    </a:lnTo>
                    <a:lnTo>
                      <a:pt x="667" y="657"/>
                    </a:lnTo>
                    <a:lnTo>
                      <a:pt x="644" y="645"/>
                    </a:lnTo>
                    <a:lnTo>
                      <a:pt x="630" y="668"/>
                    </a:lnTo>
                    <a:lnTo>
                      <a:pt x="615" y="681"/>
                    </a:lnTo>
                    <a:lnTo>
                      <a:pt x="597" y="693"/>
                    </a:lnTo>
                    <a:lnTo>
                      <a:pt x="578" y="702"/>
                    </a:lnTo>
                    <a:lnTo>
                      <a:pt x="554" y="706"/>
                    </a:lnTo>
                    <a:lnTo>
                      <a:pt x="533" y="706"/>
                    </a:lnTo>
                    <a:lnTo>
                      <a:pt x="513" y="702"/>
                    </a:lnTo>
                    <a:lnTo>
                      <a:pt x="488" y="690"/>
                    </a:lnTo>
                    <a:lnTo>
                      <a:pt x="472" y="679"/>
                    </a:lnTo>
                    <a:lnTo>
                      <a:pt x="460" y="693"/>
                    </a:lnTo>
                    <a:lnTo>
                      <a:pt x="445" y="702"/>
                    </a:lnTo>
                    <a:lnTo>
                      <a:pt x="427" y="709"/>
                    </a:lnTo>
                    <a:lnTo>
                      <a:pt x="402" y="716"/>
                    </a:lnTo>
                    <a:lnTo>
                      <a:pt x="376" y="715"/>
                    </a:lnTo>
                    <a:lnTo>
                      <a:pt x="349" y="707"/>
                    </a:lnTo>
                    <a:lnTo>
                      <a:pt x="329" y="697"/>
                    </a:lnTo>
                    <a:lnTo>
                      <a:pt x="309" y="677"/>
                    </a:lnTo>
                    <a:lnTo>
                      <a:pt x="297" y="657"/>
                    </a:lnTo>
                    <a:lnTo>
                      <a:pt x="277" y="665"/>
                    </a:lnTo>
                    <a:lnTo>
                      <a:pt x="254" y="670"/>
                    </a:lnTo>
                    <a:lnTo>
                      <a:pt x="225" y="668"/>
                    </a:lnTo>
                    <a:lnTo>
                      <a:pt x="202" y="659"/>
                    </a:lnTo>
                    <a:lnTo>
                      <a:pt x="182" y="647"/>
                    </a:lnTo>
                    <a:lnTo>
                      <a:pt x="168" y="632"/>
                    </a:lnTo>
                    <a:lnTo>
                      <a:pt x="156" y="613"/>
                    </a:lnTo>
                    <a:lnTo>
                      <a:pt x="152" y="593"/>
                    </a:lnTo>
                    <a:lnTo>
                      <a:pt x="138" y="598"/>
                    </a:lnTo>
                    <a:lnTo>
                      <a:pt x="116" y="598"/>
                    </a:lnTo>
                    <a:lnTo>
                      <a:pt x="91" y="593"/>
                    </a:lnTo>
                    <a:lnTo>
                      <a:pt x="66" y="579"/>
                    </a:lnTo>
                    <a:lnTo>
                      <a:pt x="48" y="561"/>
                    </a:lnTo>
                    <a:lnTo>
                      <a:pt x="34" y="536"/>
                    </a:lnTo>
                    <a:lnTo>
                      <a:pt x="25" y="513"/>
                    </a:lnTo>
                    <a:lnTo>
                      <a:pt x="21" y="479"/>
                    </a:lnTo>
                    <a:lnTo>
                      <a:pt x="23" y="455"/>
                    </a:lnTo>
                    <a:lnTo>
                      <a:pt x="30" y="421"/>
                    </a:lnTo>
                    <a:lnTo>
                      <a:pt x="14" y="402"/>
                    </a:lnTo>
                    <a:lnTo>
                      <a:pt x="5" y="377"/>
                    </a:lnTo>
                    <a:lnTo>
                      <a:pt x="0" y="350"/>
                    </a:lnTo>
                    <a:lnTo>
                      <a:pt x="0" y="321"/>
                    </a:lnTo>
                    <a:lnTo>
                      <a:pt x="5" y="291"/>
                    </a:lnTo>
                    <a:lnTo>
                      <a:pt x="18" y="269"/>
                    </a:lnTo>
                    <a:lnTo>
                      <a:pt x="38" y="244"/>
                    </a:lnTo>
                    <a:lnTo>
                      <a:pt x="57" y="227"/>
                    </a:lnTo>
                    <a:lnTo>
                      <a:pt x="80" y="209"/>
                    </a:lnTo>
                    <a:lnTo>
                      <a:pt x="113" y="198"/>
                    </a:lnTo>
                    <a:lnTo>
                      <a:pt x="141" y="191"/>
                    </a:lnTo>
                    <a:lnTo>
                      <a:pt x="156" y="189"/>
                    </a:lnTo>
                    <a:lnTo>
                      <a:pt x="156" y="1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5400000"/>
              </a:gradFill>
              <a:ln w="11160">
                <a:solidFill>
                  <a:srgbClr val="0000ff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897320" y="14313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SS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 flipV="1">
            <a:off x="5562720" y="1523880"/>
            <a:ext cx="2209680" cy="13716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486400" y="2057040"/>
            <a:ext cx="2057400" cy="2514600"/>
          </a:xfrm>
          <a:prstGeom prst="line">
            <a:avLst/>
          </a:prstGeom>
          <a:ln w="572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6248520" y="1905120"/>
          <a:ext cx="685800" cy="69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1905120"/>
                    <a:ext cx="68580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9" name=""/>
          <p:cNvGrpSpPr/>
          <p:nvPr/>
        </p:nvGrpSpPr>
        <p:grpSpPr>
          <a:xfrm>
            <a:off x="5089680" y="4114800"/>
            <a:ext cx="671400" cy="1150920"/>
            <a:chOff x="5089680" y="4114800"/>
            <a:chExt cx="671400" cy="1150920"/>
          </a:xfrm>
        </p:grpSpPr>
        <p:sp>
          <p:nvSpPr>
            <p:cNvPr id="540" name=""/>
            <p:cNvSpPr/>
            <p:nvPr/>
          </p:nvSpPr>
          <p:spPr>
            <a:xfrm>
              <a:off x="5119920" y="4114800"/>
              <a:ext cx="610920" cy="1150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298840" y="4425120"/>
              <a:ext cx="31320" cy="631440"/>
              <a:chOff x="5298840" y="4425120"/>
              <a:chExt cx="31320" cy="631440"/>
            </a:xfrm>
          </p:grpSpPr>
          <p:pic>
            <p:nvPicPr>
              <p:cNvPr id="54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98840" y="4425120"/>
                <a:ext cx="3132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529884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5267160" y="4425120"/>
              <a:ext cx="31320" cy="631440"/>
              <a:chOff x="5267160" y="4425120"/>
              <a:chExt cx="31320" cy="631440"/>
            </a:xfrm>
          </p:grpSpPr>
          <p:pic>
            <p:nvPicPr>
              <p:cNvPr id="54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267160" y="4425120"/>
                <a:ext cx="3132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26716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235840" y="4425120"/>
              <a:ext cx="31320" cy="631440"/>
              <a:chOff x="5235840" y="4425120"/>
              <a:chExt cx="31320" cy="631440"/>
            </a:xfrm>
          </p:grpSpPr>
          <p:pic>
            <p:nvPicPr>
              <p:cNvPr id="54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35840" y="4425120"/>
                <a:ext cx="3132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523584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5455440" y="4422960"/>
              <a:ext cx="31680" cy="631440"/>
              <a:chOff x="5455440" y="4422960"/>
              <a:chExt cx="31680" cy="63144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55440" y="4422960"/>
                <a:ext cx="3168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5455440" y="442296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646600" y="4425120"/>
              <a:ext cx="30960" cy="631440"/>
              <a:chOff x="5646600" y="4425120"/>
              <a:chExt cx="30960" cy="631440"/>
            </a:xfrm>
          </p:grpSpPr>
          <p:pic>
            <p:nvPicPr>
              <p:cNvPr id="55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646600" y="4425120"/>
                <a:ext cx="3096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564660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5614920" y="4425120"/>
              <a:ext cx="31320" cy="631440"/>
              <a:chOff x="5614920" y="4425120"/>
              <a:chExt cx="31320" cy="631440"/>
            </a:xfrm>
          </p:grpSpPr>
          <p:pic>
            <p:nvPicPr>
              <p:cNvPr id="55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14920" y="4425120"/>
                <a:ext cx="3132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561492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582880" y="4425120"/>
              <a:ext cx="31680" cy="631440"/>
              <a:chOff x="5582880" y="4425120"/>
              <a:chExt cx="31680" cy="631440"/>
            </a:xfrm>
          </p:grpSpPr>
          <p:pic>
            <p:nvPicPr>
              <p:cNvPr id="5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82880" y="4425120"/>
                <a:ext cx="3168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"/>
              <p:cNvSpPr/>
              <p:nvPr/>
            </p:nvSpPr>
            <p:spPr>
              <a:xfrm>
                <a:off x="558288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5520240" y="4425120"/>
              <a:ext cx="30960" cy="631440"/>
              <a:chOff x="5520240" y="4425120"/>
              <a:chExt cx="30960" cy="631440"/>
            </a:xfrm>
          </p:grpSpPr>
          <p:pic>
            <p:nvPicPr>
              <p:cNvPr id="56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520240" y="4425120"/>
                <a:ext cx="3096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552024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488560" y="4425120"/>
              <a:ext cx="31320" cy="631440"/>
              <a:chOff x="5488560" y="4425120"/>
              <a:chExt cx="31320" cy="631440"/>
            </a:xfrm>
          </p:grpSpPr>
          <p:pic>
            <p:nvPicPr>
              <p:cNvPr id="56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488560" y="4425120"/>
                <a:ext cx="3132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548856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68" name="" descr=""/>
            <p:cNvPicPr/>
            <p:nvPr/>
          </p:nvPicPr>
          <p:blipFill>
            <a:blip r:embed="rId18"/>
            <a:stretch/>
          </p:blipFill>
          <p:spPr>
            <a:xfrm>
              <a:off x="5487120" y="4158360"/>
              <a:ext cx="3312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19"/>
            <a:stretch/>
          </p:blipFill>
          <p:spPr>
            <a:xfrm>
              <a:off x="5520240" y="4158360"/>
              <a:ext cx="3204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20"/>
            <a:stretch/>
          </p:blipFill>
          <p:spPr>
            <a:xfrm>
              <a:off x="5582880" y="4158360"/>
              <a:ext cx="3312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21"/>
            <a:stretch/>
          </p:blipFill>
          <p:spPr>
            <a:xfrm>
              <a:off x="5616360" y="4158360"/>
              <a:ext cx="324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22"/>
            <a:stretch/>
          </p:blipFill>
          <p:spPr>
            <a:xfrm>
              <a:off x="5645160" y="4156560"/>
              <a:ext cx="324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23"/>
            <a:stretch/>
          </p:blipFill>
          <p:spPr>
            <a:xfrm>
              <a:off x="5454000" y="4158360"/>
              <a:ext cx="3276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24"/>
            <a:stretch/>
          </p:blipFill>
          <p:spPr>
            <a:xfrm>
              <a:off x="5172480" y="4158360"/>
              <a:ext cx="3276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25"/>
            <a:stretch/>
          </p:blipFill>
          <p:spPr>
            <a:xfrm>
              <a:off x="5238360" y="4158360"/>
              <a:ext cx="3204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26"/>
            <a:stretch/>
          </p:blipFill>
          <p:spPr>
            <a:xfrm>
              <a:off x="5267160" y="4158360"/>
              <a:ext cx="3276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27"/>
            <a:stretch/>
          </p:blipFill>
          <p:spPr>
            <a:xfrm>
              <a:off x="5300280" y="4158360"/>
              <a:ext cx="32400" cy="2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5141880" y="4158360"/>
              <a:ext cx="569880" cy="1046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89680" y="4169160"/>
              <a:ext cx="30240" cy="1046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97600" y="4237920"/>
              <a:ext cx="12600" cy="24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97600" y="4529160"/>
              <a:ext cx="12600" cy="24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99040" y="4820400"/>
              <a:ext cx="12600" cy="25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99040" y="5112000"/>
              <a:ext cx="12600" cy="25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30840" y="4169160"/>
              <a:ext cx="30240" cy="1046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4237560"/>
              <a:ext cx="12600" cy="24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43440" y="4529160"/>
              <a:ext cx="12600" cy="24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44880" y="4820400"/>
              <a:ext cx="12600" cy="25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44880" y="5112000"/>
              <a:ext cx="12600" cy="25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9" name="" descr=""/>
            <p:cNvPicPr/>
            <p:nvPr/>
          </p:nvPicPr>
          <p:blipFill>
            <a:blip r:embed="rId28"/>
            <a:stretch/>
          </p:blipFill>
          <p:spPr>
            <a:xfrm>
              <a:off x="5330520" y="4160160"/>
              <a:ext cx="3240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"/>
            <p:cNvGrpSpPr/>
            <p:nvPr/>
          </p:nvGrpSpPr>
          <p:grpSpPr>
            <a:xfrm>
              <a:off x="5330160" y="4425120"/>
              <a:ext cx="31320" cy="631440"/>
              <a:chOff x="5330160" y="4425120"/>
              <a:chExt cx="31320" cy="631440"/>
            </a:xfrm>
          </p:grpSpPr>
          <p:pic>
            <p:nvPicPr>
              <p:cNvPr id="59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330160" y="4425120"/>
                <a:ext cx="3132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533016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93" name="" descr=""/>
            <p:cNvPicPr/>
            <p:nvPr/>
          </p:nvPicPr>
          <p:blipFill>
            <a:blip r:embed="rId30"/>
            <a:stretch/>
          </p:blipFill>
          <p:spPr>
            <a:xfrm>
              <a:off x="5391720" y="4422960"/>
              <a:ext cx="31320" cy="6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31"/>
            <a:stretch/>
          </p:blipFill>
          <p:spPr>
            <a:xfrm>
              <a:off x="5391720" y="4158360"/>
              <a:ext cx="3204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32"/>
            <a:stretch/>
          </p:blipFill>
          <p:spPr>
            <a:xfrm>
              <a:off x="5423760" y="4421160"/>
              <a:ext cx="313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33"/>
            <a:stretch/>
          </p:blipFill>
          <p:spPr>
            <a:xfrm>
              <a:off x="5423400" y="4156560"/>
              <a:ext cx="32040" cy="2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34"/>
            <a:stretch/>
          </p:blipFill>
          <p:spPr>
            <a:xfrm>
              <a:off x="5362920" y="4422960"/>
              <a:ext cx="2844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35"/>
            <a:stretch/>
          </p:blipFill>
          <p:spPr>
            <a:xfrm>
              <a:off x="5362920" y="4158360"/>
              <a:ext cx="3204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36"/>
            <a:stretch/>
          </p:blipFill>
          <p:spPr>
            <a:xfrm>
              <a:off x="5141880" y="4158360"/>
              <a:ext cx="34920" cy="2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37"/>
            <a:stretch/>
          </p:blipFill>
          <p:spPr>
            <a:xfrm>
              <a:off x="5677560" y="4422960"/>
              <a:ext cx="3348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38"/>
            <a:stretch/>
          </p:blipFill>
          <p:spPr>
            <a:xfrm>
              <a:off x="5677560" y="4156560"/>
              <a:ext cx="342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39"/>
            <a:stretch/>
          </p:blipFill>
          <p:spPr>
            <a:xfrm>
              <a:off x="5202000" y="4158360"/>
              <a:ext cx="36720" cy="2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40"/>
            <a:stretch/>
          </p:blipFill>
          <p:spPr>
            <a:xfrm>
              <a:off x="5552640" y="4161600"/>
              <a:ext cx="30240" cy="2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41"/>
            <a:stretch/>
          </p:blipFill>
          <p:spPr>
            <a:xfrm>
              <a:off x="5518080" y="4421160"/>
              <a:ext cx="3348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42"/>
            <a:stretch/>
          </p:blipFill>
          <p:spPr>
            <a:xfrm>
              <a:off x="5552640" y="4425120"/>
              <a:ext cx="3348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43"/>
            <a:stretch/>
          </p:blipFill>
          <p:spPr>
            <a:xfrm>
              <a:off x="5582880" y="4422960"/>
              <a:ext cx="3384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44"/>
            <a:stretch/>
          </p:blipFill>
          <p:spPr>
            <a:xfrm>
              <a:off x="5612760" y="4421160"/>
              <a:ext cx="3348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45"/>
            <a:stretch/>
          </p:blipFill>
          <p:spPr>
            <a:xfrm>
              <a:off x="5644080" y="4421160"/>
              <a:ext cx="3348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46"/>
            <a:stretch/>
          </p:blipFill>
          <p:spPr>
            <a:xfrm>
              <a:off x="5330520" y="4422960"/>
              <a:ext cx="3348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47"/>
            <a:stretch/>
          </p:blipFill>
          <p:spPr>
            <a:xfrm>
              <a:off x="5455440" y="4422960"/>
              <a:ext cx="3384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/>
            <p:cNvPicPr/>
            <p:nvPr/>
          </p:nvPicPr>
          <p:blipFill>
            <a:blip r:embed="rId48"/>
            <a:stretch/>
          </p:blipFill>
          <p:spPr>
            <a:xfrm>
              <a:off x="5488560" y="4421160"/>
              <a:ext cx="33480" cy="63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"/>
            <p:cNvGrpSpPr/>
            <p:nvPr/>
          </p:nvGrpSpPr>
          <p:grpSpPr>
            <a:xfrm>
              <a:off x="5145840" y="4426560"/>
              <a:ext cx="31320" cy="631440"/>
              <a:chOff x="5145840" y="4426560"/>
              <a:chExt cx="31320" cy="631440"/>
            </a:xfrm>
          </p:grpSpPr>
          <p:pic>
            <p:nvPicPr>
              <p:cNvPr id="613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145840" y="4426560"/>
                <a:ext cx="3132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>
                <a:off x="5145840" y="442656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5172480" y="4425120"/>
              <a:ext cx="31680" cy="631440"/>
              <a:chOff x="5172480" y="4425120"/>
              <a:chExt cx="31680" cy="631440"/>
            </a:xfrm>
          </p:grpSpPr>
          <p:pic>
            <p:nvPicPr>
              <p:cNvPr id="61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5172480" y="4425120"/>
                <a:ext cx="3168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"/>
              <p:cNvSpPr/>
              <p:nvPr/>
            </p:nvSpPr>
            <p:spPr>
              <a:xfrm>
                <a:off x="5172480" y="442512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202000" y="4422960"/>
              <a:ext cx="31680" cy="631440"/>
              <a:chOff x="5202000" y="4422960"/>
              <a:chExt cx="31680" cy="631440"/>
            </a:xfrm>
          </p:grpSpPr>
          <p:pic>
            <p:nvPicPr>
              <p:cNvPr id="619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02000" y="4422960"/>
                <a:ext cx="3168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5202000" y="4422960"/>
                <a:ext cx="0" cy="63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621" name="" descr=""/>
            <p:cNvPicPr/>
            <p:nvPr/>
          </p:nvPicPr>
          <p:blipFill>
            <a:blip r:embed="rId52"/>
            <a:stretch/>
          </p:blipFill>
          <p:spPr>
            <a:xfrm>
              <a:off x="5644080" y="4156560"/>
              <a:ext cx="3348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53"/>
            <a:stretch/>
          </p:blipFill>
          <p:spPr>
            <a:xfrm>
              <a:off x="5609520" y="4156560"/>
              <a:ext cx="342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54"/>
            <a:stretch/>
          </p:blipFill>
          <p:spPr>
            <a:xfrm>
              <a:off x="5578200" y="4156560"/>
              <a:ext cx="3384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55"/>
            <a:stretch/>
          </p:blipFill>
          <p:spPr>
            <a:xfrm>
              <a:off x="5549040" y="4156560"/>
              <a:ext cx="3384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56"/>
            <a:stretch/>
          </p:blipFill>
          <p:spPr>
            <a:xfrm>
              <a:off x="5518800" y="4156560"/>
              <a:ext cx="3348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57"/>
            <a:stretch/>
          </p:blipFill>
          <p:spPr>
            <a:xfrm>
              <a:off x="5486040" y="4156560"/>
              <a:ext cx="342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58"/>
            <a:stretch/>
          </p:blipFill>
          <p:spPr>
            <a:xfrm>
              <a:off x="5452920" y="4156560"/>
              <a:ext cx="342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59"/>
            <a:stretch/>
          </p:blipFill>
          <p:spPr>
            <a:xfrm>
              <a:off x="5145840" y="5058360"/>
              <a:ext cx="569520" cy="1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"/>
          <p:cNvSpPr/>
          <p:nvPr/>
        </p:nvSpPr>
        <p:spPr>
          <a:xfrm>
            <a:off x="5486400" y="3276720"/>
            <a:ext cx="220968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7315200" y="2666880"/>
          <a:ext cx="687240" cy="80352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7315200" y="2666880"/>
                    <a:ext cx="6872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3276720" y="990720"/>
            <a:ext cx="2971800" cy="2466720"/>
            <a:chOff x="3276720" y="990720"/>
            <a:chExt cx="2971800" cy="2466720"/>
          </a:xfrm>
        </p:grpSpPr>
        <p:grpSp>
          <p:nvGrpSpPr>
            <p:cNvPr id="633" name=""/>
            <p:cNvGrpSpPr/>
            <p:nvPr/>
          </p:nvGrpSpPr>
          <p:grpSpPr>
            <a:xfrm>
              <a:off x="3429000" y="1676160"/>
              <a:ext cx="2437200" cy="838080"/>
              <a:chOff x="3429000" y="1676160"/>
              <a:chExt cx="2437200" cy="838080"/>
            </a:xfrm>
          </p:grpSpPr>
          <p:sp>
            <p:nvSpPr>
              <p:cNvPr id="634" name=""/>
              <p:cNvSpPr/>
              <p:nvPr/>
            </p:nvSpPr>
            <p:spPr>
              <a:xfrm flipH="1" flipV="1">
                <a:off x="3429000" y="2011680"/>
                <a:ext cx="1422000" cy="502560"/>
              </a:xfrm>
              <a:prstGeom prst="line">
                <a:avLst/>
              </a:prstGeom>
              <a:ln cap="rnd" w="76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4444200" y="1676160"/>
                <a:ext cx="406800" cy="837720"/>
              </a:xfrm>
              <a:prstGeom prst="line">
                <a:avLst/>
              </a:prstGeom>
              <a:ln cap="rnd" w="76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4851000" y="1927440"/>
                <a:ext cx="1015200" cy="586440"/>
              </a:xfrm>
              <a:prstGeom prst="line">
                <a:avLst/>
              </a:prstGeom>
              <a:ln cap="rnd" w="76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3276720" y="1523880"/>
              <a:ext cx="761760" cy="541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8080"/>
                </a:gs>
                <a:gs pos="50000">
                  <a:srgbClr val="0000ff"/>
                </a:gs>
                <a:gs pos="100000">
                  <a:srgbClr val="008080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Directory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/ Polic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Ser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67080" y="1523880"/>
              <a:ext cx="762120" cy="541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8080"/>
                </a:gs>
                <a:gs pos="50000">
                  <a:srgbClr val="0000ff"/>
                </a:gs>
                <a:gs pos="100000">
                  <a:srgbClr val="008080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Appl / Featur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Ser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1523880"/>
              <a:ext cx="761760" cy="541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8080"/>
                </a:gs>
                <a:gs pos="50000">
                  <a:srgbClr val="0000ff"/>
                </a:gs>
                <a:gs pos="100000">
                  <a:srgbClr val="008080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Servic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Oper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76720" y="990720"/>
              <a:ext cx="761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  <a:ea typeface="ＭＳ Ｐゴシック"/>
                </a:rPr>
                <a:t>Service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Tahoma"/>
                  <a:ea typeface="ＭＳ Ｐゴシック"/>
                </a:rPr>
                <a:t>Access 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Tahoma"/>
                  <a:ea typeface="ＭＳ Ｐゴシック"/>
                </a:rPr>
                <a:t>Contro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91120" y="990720"/>
              <a:ext cx="990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  <a:ea typeface="ＭＳ Ｐゴシック"/>
                </a:rPr>
                <a:t>Network &amp; 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Tahoma"/>
                  <a:ea typeface="ＭＳ Ｐゴシック"/>
                </a:rPr>
                <a:t>Subscriber 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Tahoma"/>
                  <a:ea typeface="ＭＳ Ｐゴシック"/>
                </a:rPr>
                <a:t>Servic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57800" y="990720"/>
              <a:ext cx="99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  <a:ea typeface="ＭＳ Ｐゴシック"/>
                </a:rPr>
                <a:t>Service 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Tahoma"/>
                  <a:ea typeface="ＭＳ Ｐゴシック"/>
                </a:rPr>
                <a:t>Operations 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Tahoma"/>
                  <a:ea typeface="ＭＳ Ｐゴシック"/>
                </a:rPr>
                <a:t>Managem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43" name=""/>
            <p:cNvGraphicFramePr/>
            <p:nvPr/>
          </p:nvGraphicFramePr>
          <p:xfrm>
            <a:off x="4633920" y="2347920"/>
            <a:ext cx="936720" cy="1109520"/>
          </p:xfrm>
          <a:graphic>
            <a:graphicData uri="http://schemas.openxmlformats.org/presentationml/2006/ole">
              <p:oleObj r:id="rId62" spid="">
                <p:embed/>
                <p:pic>
                  <p:nvPicPr>
                    <p:cNvPr id="644" name="" descr=""/>
                    <p:cNvPicPr/>
                    <p:nvPr/>
                  </p:nvPicPr>
                  <p:blipFill>
                    <a:blip r:embed="rId63"/>
                    <a:stretch/>
                  </p:blipFill>
                  <p:spPr>
                    <a:xfrm>
                      <a:off x="4633920" y="2347920"/>
                      <a:ext cx="93672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5" name=""/>
          <p:cNvSpPr/>
          <p:nvPr/>
        </p:nvSpPr>
        <p:spPr>
          <a:xfrm rot="18600000">
            <a:off x="6159240" y="3554280"/>
            <a:ext cx="49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V5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35600" y="328464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c063a"/>
                </a:solidFill>
                <a:latin typeface="Tahoma"/>
                <a:ea typeface="ＭＳ Ｐゴシック"/>
              </a:rPr>
              <a:t>Network Mgm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838080"/>
            <a:ext cx="3352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acket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ptimized for the Internet Protoc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nabled b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4640" indent="-123480">
              <a:lnSpc>
                <a:spcPct val="80000"/>
              </a:lnSpc>
              <a:spcBef>
                <a:spcPts val="1001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ulti-Protocol Label Switching (MPLS &amp; GMPL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04640" indent="-123480">
              <a:lnSpc>
                <a:spcPct val="80000"/>
              </a:lnSpc>
              <a:spcBef>
                <a:spcPts val="1001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stributed Call-Agent (e.g. SoftSwitch)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029200" y="3886200"/>
            <a:ext cx="1828800" cy="457200"/>
            <a:chOff x="5029200" y="3886200"/>
            <a:chExt cx="1828800" cy="457200"/>
          </a:xfrm>
        </p:grpSpPr>
        <p:sp>
          <p:nvSpPr>
            <p:cNvPr id="649" name=""/>
            <p:cNvSpPr/>
            <p:nvPr/>
          </p:nvSpPr>
          <p:spPr>
            <a:xfrm flipH="1">
              <a:off x="5029200" y="4267080"/>
              <a:ext cx="1828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86400" y="38862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3390840" y="3844800"/>
            <a:ext cx="1600200" cy="824040"/>
          </a:xfrm>
          <a:prstGeom prst="rect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Drive IP/MPLS to the 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where b/w is constrain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705720" y="3657600"/>
            <a:ext cx="213336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5143680" y="5257440"/>
            <a:ext cx="571320" cy="800280"/>
            <a:chOff x="5143680" y="5257440"/>
            <a:chExt cx="571320" cy="800280"/>
          </a:xfrm>
        </p:grpSpPr>
        <p:sp>
          <p:nvSpPr>
            <p:cNvPr id="654" name=""/>
            <p:cNvSpPr/>
            <p:nvPr/>
          </p:nvSpPr>
          <p:spPr>
            <a:xfrm rot="16200000">
              <a:off x="5029200" y="5371920"/>
              <a:ext cx="800280" cy="57132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814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7467480" y="5219280"/>
            <a:ext cx="571320" cy="800280"/>
            <a:chOff x="7467480" y="5219280"/>
            <a:chExt cx="571320" cy="800280"/>
          </a:xfrm>
        </p:grpSpPr>
        <p:sp>
          <p:nvSpPr>
            <p:cNvPr id="657" name=""/>
            <p:cNvSpPr/>
            <p:nvPr/>
          </p:nvSpPr>
          <p:spPr>
            <a:xfrm rot="16200000">
              <a:off x="7353000" y="5333760"/>
              <a:ext cx="800280" cy="57132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05280" y="5448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714680" y="5257440"/>
            <a:ext cx="571320" cy="800280"/>
            <a:chOff x="1714680" y="5257440"/>
            <a:chExt cx="571320" cy="800280"/>
          </a:xfrm>
        </p:grpSpPr>
        <p:sp>
          <p:nvSpPr>
            <p:cNvPr id="660" name=""/>
            <p:cNvSpPr/>
            <p:nvPr/>
          </p:nvSpPr>
          <p:spPr>
            <a:xfrm rot="16200000">
              <a:off x="1600200" y="5371920"/>
              <a:ext cx="800280" cy="57132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524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xample of emerging archit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43400" y="510552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c063a"/>
                </a:solidFill>
                <a:latin typeface="Tahoma"/>
                <a:ea typeface="ＭＳ Ｐゴシック"/>
              </a:rPr>
              <a:t>Acces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58200" y="4572000"/>
            <a:ext cx="96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IP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Access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Tahoma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952880" y="289548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bc063a"/>
                </a:solidFill>
                <a:latin typeface="Tahoma"/>
                <a:ea typeface="ＭＳ Ｐゴシック"/>
              </a:rPr>
              <a:t>‘</a:t>
            </a:r>
            <a:r>
              <a:rPr b="1" lang="en-US" sz="1400" spc="-1" strike="noStrike">
                <a:solidFill>
                  <a:srgbClr val="bc063a"/>
                </a:solidFill>
                <a:latin typeface="Tahoma"/>
                <a:ea typeface="ＭＳ Ｐゴシック"/>
              </a:rPr>
              <a:t>SoftSwitch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0EB-BF2C-4637-B769-D759E02706E9}" type="slidenum">
              <a:t>25</a:t>
            </a:fld>
          </a:p>
        </p:txBody>
      </p:sp>
    </p:spTree>
  </p:cSld>
  <p:transition spd="med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981080" y="1676520"/>
            <a:ext cx="4800600" cy="3200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438280" y="2590920"/>
            <a:ext cx="3733920" cy="11430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38680" y="3429000"/>
            <a:ext cx="0" cy="1752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71800" y="3429000"/>
            <a:ext cx="0" cy="1828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00400" y="4572000"/>
            <a:ext cx="2209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5486400"/>
            <a:ext cx="2209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79064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4267080"/>
            <a:ext cx="60984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34120" y="4267080"/>
            <a:ext cx="60948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66880" y="2895480"/>
            <a:ext cx="60984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34120" y="2895480"/>
            <a:ext cx="60948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66880" y="1523880"/>
            <a:ext cx="60984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971800" y="20574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76720" y="312408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638680" y="20574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8760" y="434484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Bearer (connec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trol (Switch/Route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7680" y="2897280"/>
            <a:ext cx="199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ession (or cal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trol (Call Agent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7320" y="1601640"/>
            <a:ext cx="209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ervice &amp; 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trol (Serve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660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76600" y="2254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48400" y="228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78800" y="3657600"/>
            <a:ext cx="10555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Arial"/>
              </a:rPr>
              <a:t>e.g. Mega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48400" y="3657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92560" y="4267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54280" y="2666880"/>
            <a:ext cx="2823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Per Session Control Protocol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Session (call):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Service/Application: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Resources allocation &amp; </a:t>
            </a:r>
            <a:br>
              <a:rPr sz="1600"/>
            </a:b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   traffic policy control: 2,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53200" y="4495680"/>
            <a:ext cx="284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Transport resource contro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Bearer/Connection control: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9900"/>
                </a:solidFill>
                <a:latin typeface="Times New Roman"/>
              </a:rPr>
              <a:t>Backbone resource control: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merging Network Control Architectures and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5080" y="5259240"/>
            <a:ext cx="217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Backbone Trans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DH/DWDM/Optic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66880" y="5181480"/>
            <a:ext cx="60984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34120" y="5181480"/>
            <a:ext cx="60948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89440" y="5181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5 (NN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56640" y="198108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Scope ITU-T SG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54840" y="312408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Arial"/>
              </a:rPr>
              <a:t>E.g. BICC, SIP, SIP-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08560" y="457200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E.g. ATM sig, MPLS 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78160" y="5486400"/>
            <a:ext cx="21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E.g. GMPLS with RSVP-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r CR-LDP, or Optical-PNN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17840" y="480060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5 (UN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261040" y="480060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5 (UN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4F7-2CF2-4C79-99C4-BED4F2577107}" type="slidenum">
              <a:t>26</a:t>
            </a:fld>
          </a:p>
        </p:txBody>
      </p:sp>
    </p:spTree>
  </p:cSld>
  <p:transition spd="med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Signalling protocols summary (SG11view)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rend to increasingly separate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l/session control, Bearer/connection control and Services/application control protoco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N architecture was a first st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BICC is another step, enabling Legacy signalling and IP converg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eed to well specify the interactions between the functional are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merging NGN architectur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need to be defined function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 identify the interfaces that require standard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ew signalling/control protocols, IP oriented and optimiz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ource and Bearer/connecti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ontrol significant ev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P as the service convergence layer, (G)MPLS as the networking convergenc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G11 and SG15 coordination required in the area of Call &amp; Bearer Control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002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5867280" y="5638680"/>
            <a:ext cx="1979640" cy="914040"/>
            <a:chOff x="5867280" y="5638680"/>
            <a:chExt cx="1979640" cy="914040"/>
          </a:xfrm>
        </p:grpSpPr>
        <p:grpSp>
          <p:nvGrpSpPr>
            <p:cNvPr id="708" name=""/>
            <p:cNvGrpSpPr/>
            <p:nvPr/>
          </p:nvGrpSpPr>
          <p:grpSpPr>
            <a:xfrm>
              <a:off x="7162920" y="5638680"/>
              <a:ext cx="684000" cy="914040"/>
              <a:chOff x="7162920" y="5638680"/>
              <a:chExt cx="684000" cy="914040"/>
            </a:xfrm>
          </p:grpSpPr>
          <p:sp>
            <p:nvSpPr>
              <p:cNvPr id="709" name=""/>
              <p:cNvSpPr/>
              <p:nvPr/>
            </p:nvSpPr>
            <p:spPr>
              <a:xfrm>
                <a:off x="7162920" y="6095880"/>
                <a:ext cx="684000" cy="2286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2000" spc="-1" strike="noStrike">
                    <a:solidFill>
                      <a:srgbClr val="0000ff"/>
                    </a:solidFill>
                    <a:latin typeface="Arial"/>
                  </a:rPr>
                  <a:t>OT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162920" y="5866920"/>
                <a:ext cx="684000" cy="228600"/>
              </a:xfrm>
              <a:prstGeom prst="cube">
                <a:avLst>
                  <a:gd name="adj" fmla="val 25000"/>
                </a:avLst>
              </a:prstGeom>
              <a:solidFill>
                <a:srgbClr val="99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1600" spc="-1" strike="noStrike">
                    <a:solidFill>
                      <a:srgbClr val="0000ff"/>
                    </a:solidFill>
                    <a:latin typeface="Arial"/>
                  </a:rPr>
                  <a:t>(G)MP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162920" y="5638680"/>
                <a:ext cx="684000" cy="228240"/>
              </a:xfrm>
              <a:prstGeom prst="cube">
                <a:avLst>
                  <a:gd name="adj" fmla="val 25000"/>
                </a:avLst>
              </a:prstGeom>
              <a:solidFill>
                <a:srgbClr val="99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2000" spc="-1" strike="noStrike">
                    <a:solidFill>
                      <a:srgbClr val="0000ff"/>
                    </a:solidFill>
                    <a:latin typeface="Arial"/>
                  </a:rPr>
                  <a:t>IP ..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162920" y="6324480"/>
                <a:ext cx="684000" cy="2282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800" spc="-1" strike="noStrike">
                    <a:solidFill>
                      <a:srgbClr val="0000ff"/>
                    </a:solidFill>
                    <a:latin typeface="Arial"/>
                  </a:rPr>
                  <a:t>WD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5867280" y="5714640"/>
              <a:ext cx="836640" cy="430560"/>
            </a:xfrm>
            <a:prstGeom prst="wedgeRoundRectCallout">
              <a:avLst>
                <a:gd name="adj1" fmla="val 92666"/>
                <a:gd name="adj2" fmla="val 41"/>
                <a:gd name="adj3" fmla="val 16667"/>
              </a:avLst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To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3048120" y="6095880"/>
            <a:ext cx="1719000" cy="2286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OT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48120" y="5867280"/>
            <a:ext cx="725400" cy="228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MP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048120" y="5638680"/>
            <a:ext cx="1752480" cy="228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6324480"/>
            <a:ext cx="1719000" cy="228600"/>
          </a:xfrm>
          <a:prstGeom prst="cube">
            <a:avLst>
              <a:gd name="adj" fmla="val 15625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WD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00440" y="5867280"/>
            <a:ext cx="554040" cy="2286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08400" y="5867280"/>
            <a:ext cx="554040" cy="228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S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00200" y="5692680"/>
            <a:ext cx="946080" cy="430560"/>
          </a:xfrm>
          <a:prstGeom prst="wedgeRoundRectCallout">
            <a:avLst>
              <a:gd name="adj1" fmla="val 87731"/>
              <a:gd name="adj2" fmla="val 32953"/>
              <a:gd name="adj3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EDF-9541-4B94-830F-513DB17BB3FE}" type="slidenum">
              <a:t>27</a:t>
            </a:fld>
          </a:p>
        </p:txBody>
      </p:sp>
    </p:spTree>
  </p:cSld>
  <p:transition spd="med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79064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86760" y="480060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ank You for your att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143000" y="1523880"/>
            <a:ext cx="6934320" cy="2711160"/>
            <a:chOff x="1143000" y="1523880"/>
            <a:chExt cx="6934320" cy="271116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3809880" y="1523880"/>
              <a:ext cx="1498680" cy="27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1143000" y="236196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ffffff"/>
                  </a:solidFill>
                  <a:latin typeface="Times New Roman"/>
                </a:rPr>
                <a:t>N2CAP ?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86400" y="2285640"/>
              <a:ext cx="2590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  <a:ea typeface="ＭＳ Ｐゴシック"/>
                </a:rPr>
                <a:t>towards NGN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D13-3AA0-4C15-8026-7DB6C70949DC}" type="slidenum">
              <a:t>28</a:t>
            </a:fld>
          </a:p>
        </p:txBody>
      </p:sp>
    </p:spTree>
  </p:cSld>
  <p:transition spd="med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Session 7 presentation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Overview on Optical Service and Network Architectur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y Masahiro Goshima, NTT Network Service Systems La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Call &amp; Connection control Signalling : the ITU-T SG11 status and perspectives for “New Network control Architectures and Protocol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y Alain Le Roux, France Telecom R&amp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-LDP for ASON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y Stephen Shew, Nortel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MPLS RSVP-TE for ASON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y Dimitrios Pendarakis, Tell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782-1F49-4BF0-8D98-1089111B852D}" type="slidenum">
              <a:t>29</a:t>
            </a:fld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Scope of ITU-T Study Group 11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e Signalling requirements and protocols f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ments to existing Recommendations on access (UNI) and (inter)-network (NNI) signalling protocols for  PSTN, ISDN and Packet (ATM and IP)-based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ome Mobility &amp; Nomadic  related functions (in relation with SS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support of voice, data and Multi-media communications an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erging NGN architectures, including Internet Protocol (IP) related control fun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ead Study Group for Intelligent Networks (and emerging Services &amp; applications control platform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rchitectures, signalling requirements,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trol Protoc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716-8E7C-4C28-9BE5-920264EB1A2B}" type="slidenum">
              <a:t>3</a:t>
            </a:fld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How is ITU-T Study Group 11 structur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G 11 is organised in 4 Working Pa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P 1 - Intelligent Network (IN) and Services/Applications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P 2 – Requirements for IP and Advanced network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P 3 – Engineering of emerging (e.g. BICC) and ‘legacy’ signalling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P 4 – Engineering of ATM AAL2 signalling and common Signalling (transport)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G11 Home page 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ttp://www.itu.int/ITU-T/studygroups/com11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2F3-1E54-4E21-AC7F-A46C1479F594}" type="slidenum">
              <a:t>4</a:t>
            </a:fld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ITU-T SG11 produ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s Recommendations in the Q-series, e.g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700-series for Signalling System n° 7 (SS7), signalling transport and call/connection control protocols in TDM-based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900-series for ISDN DSS1, access sign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1200-series, IN architecture and protoc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2100-series, B-ISDN ATM-based networks signalling 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2700-series, B-ISDN ATM-based (inter-)network (NNI) sign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2900-series, B-ISDN DSS2 (UNI) access sign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duces informative documents, as Supplements to Q-series of Recommendations, e.g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Supplement n°1 – SS7, Testing and Planning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.Supplement n°3 -  Number Portability, Scope and Capability Set 1 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F37-D87D-4594-8382-92C4B80CF4D9}" type="slidenum">
              <a:t>5</a:t>
            </a:fld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ITU-T SG11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urrent work focu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actions between IN and IP-based network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estion 1/11: Signalling requirements for signalling support for new, value added, IP based and IN base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estion 4/11: API/object interface and architecture for sign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IP-related signalling protoco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estion 6/11: Signalling requirements for signalling support for service inter-working of both dialup Internet access and Voice, Data and Multimedia Communications over IP-based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estion 8/11: Signalling requirements for flexible management of dynamic bandwidth and QoS demands in connection control (e.g. MPLS-AT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Bearer (ATM, IP) Independent Call Control (i.e. BICC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estion 9/11: Signalling requirements for the support of BICC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estion 11/11:Protocols for the support of BICC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gnalling transport over I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estion 13/11: Common signalling transport protocols, including over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estion 15/11: ATM AAL2 signalling, interworking with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19D-37E5-4757-8066-E8ED92358857}" type="slidenum">
              <a:t>6</a:t>
            </a:fld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ignalling techniques evolution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itially “in-band” signalling (in analog networks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TMF on analog lines and Multi-Frequency over circu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lso used in X.25 Packet networks (Virtual Circuit control packets and user data packets carried over the same logical chann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mon Channel Signalling (CCS) in digital network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ignalling messages carried over dedicated signalling links (typically 64 kbs circuits): SS7 (Q.700 series) widely deploy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egrated Call and Bearer connection control: initially designed for 64 kbs circuit switched networks, also adopted for ATM (VP, VC) switched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as enabled the emergence of Intelligent Network (IN) services from Service Control Points (SCP) separated from Switching Fun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parated Call and Connection control in Packet-based Network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Bearer Independent Call Control protocol (BIC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pplicable to control narrowband calls and services (typically voice) in ATM and IP-based transport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FDE-EE69-4CF7-AF57-CE2B0C10CF19}" type="slidenum">
              <a:t>7</a:t>
            </a:fld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TDM narrow-band (PSTN, ISDN)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ccess (UNI)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TMF (PST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SS1 (ISDN BA and PR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 and Intra Network (NNI)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S7 MTP, SCCP (control protocol transport), T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S7 ISUP (call contro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S7 INAP (IN service contro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ATM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signalling: DSS2, 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etwork signalling: B-ISUP, PNNI, A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Overview of legacy Signalling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495680" y="1981080"/>
            <a:ext cx="4648320" cy="3963960"/>
            <a:chOff x="4495680" y="1981080"/>
            <a:chExt cx="4648320" cy="3963960"/>
          </a:xfrm>
        </p:grpSpPr>
        <p:sp>
          <p:nvSpPr>
            <p:cNvPr id="69" name=""/>
            <p:cNvSpPr/>
            <p:nvPr/>
          </p:nvSpPr>
          <p:spPr>
            <a:xfrm>
              <a:off x="4876560" y="4724280"/>
              <a:ext cx="388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410080" y="4130280"/>
              <a:ext cx="2669760" cy="1200240"/>
              <a:chOff x="5410080" y="4130280"/>
              <a:chExt cx="2669760" cy="1200240"/>
            </a:xfrm>
          </p:grpSpPr>
          <p:sp>
            <p:nvSpPr>
              <p:cNvPr id="71" name=""/>
              <p:cNvSpPr/>
              <p:nvPr/>
            </p:nvSpPr>
            <p:spPr>
              <a:xfrm>
                <a:off x="6084000" y="4130280"/>
                <a:ext cx="1461240" cy="120024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10080" y="4505040"/>
                <a:ext cx="925200" cy="45324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1400" y="4505040"/>
                <a:ext cx="928440" cy="45324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14000" y="4689360"/>
                <a:ext cx="923760" cy="46152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14000" y="4225320"/>
                <a:ext cx="923760" cy="45936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751800" y="4225320"/>
                <a:ext cx="924120" cy="45936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84640" y="4689360"/>
                <a:ext cx="930600" cy="46152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84000" y="4409640"/>
                <a:ext cx="1320120" cy="64476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666400" y="4366440"/>
                <a:ext cx="1349640" cy="69012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77520" y="4223160"/>
                <a:ext cx="1333800" cy="64800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473520" y="4407480"/>
                <a:ext cx="1348560" cy="64908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139800" y="4589280"/>
                <a:ext cx="1342800" cy="64800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492600" y="2512800"/>
              <a:ext cx="738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3800" y="1981080"/>
              <a:ext cx="59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IN</a:t>
              </a:r>
              <a:br>
                <a:rPr sz="1600"/>
              </a:b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64120" y="3143160"/>
              <a:ext cx="66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S7</a:t>
              </a:r>
              <a:br>
                <a:rPr sz="1600"/>
              </a:b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IN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36880" y="2501640"/>
              <a:ext cx="726480" cy="476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SC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89720" y="3827160"/>
              <a:ext cx="768240" cy="743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07000" y="3817800"/>
              <a:ext cx="711360" cy="476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SS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99800" y="4103640"/>
              <a:ext cx="741600" cy="476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CC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2240" y="4800240"/>
              <a:ext cx="8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PSTN/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30120" y="44193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" name="PHONET" descr=""/>
            <p:cNvPicPr/>
            <p:nvPr/>
          </p:nvPicPr>
          <p:blipFill>
            <a:blip r:embed="rId1"/>
            <a:stretch/>
          </p:blipFill>
          <p:spPr>
            <a:xfrm>
              <a:off x="8610480" y="4495680"/>
              <a:ext cx="4460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HONET" descr=""/>
            <p:cNvPicPr/>
            <p:nvPr/>
          </p:nvPicPr>
          <p:blipFill>
            <a:blip r:embed="rId2"/>
            <a:stretch/>
          </p:blipFill>
          <p:spPr>
            <a:xfrm>
              <a:off x="4495680" y="4571640"/>
              <a:ext cx="446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858000" y="2971440"/>
              <a:ext cx="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62360" y="5486040"/>
              <a:ext cx="236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24680" y="548604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5880" y="5486040"/>
              <a:ext cx="17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Network (NNI) signall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2400" y="548604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Access (UNI) signall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3FF-7FCA-4ED4-8BE7-514B9C70D9A3}" type="slidenum">
              <a:t>8</a:t>
            </a:fld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SS7 and IN Convergence towards Packet based Network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-working between Legacy and IP-based transport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pplication of IN to IP network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76520" y="3127320"/>
            <a:ext cx="2669760" cy="3229920"/>
            <a:chOff x="1676520" y="3127320"/>
            <a:chExt cx="2669760" cy="3229920"/>
          </a:xfrm>
        </p:grpSpPr>
        <p:grpSp>
          <p:nvGrpSpPr>
            <p:cNvPr id="102" name=""/>
            <p:cNvGrpSpPr/>
            <p:nvPr/>
          </p:nvGrpSpPr>
          <p:grpSpPr>
            <a:xfrm>
              <a:off x="1676520" y="4971600"/>
              <a:ext cx="2669760" cy="1200240"/>
              <a:chOff x="1676520" y="4971600"/>
              <a:chExt cx="2669760" cy="1200240"/>
            </a:xfrm>
          </p:grpSpPr>
          <p:sp>
            <p:nvSpPr>
              <p:cNvPr id="103" name=""/>
              <p:cNvSpPr/>
              <p:nvPr/>
            </p:nvSpPr>
            <p:spPr>
              <a:xfrm>
                <a:off x="2350440" y="4971600"/>
                <a:ext cx="1461240" cy="120024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76520" y="5346360"/>
                <a:ext cx="925200" cy="45324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17840" y="5346360"/>
                <a:ext cx="928440" cy="45324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80440" y="5530680"/>
                <a:ext cx="923760" cy="46152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80440" y="5066640"/>
                <a:ext cx="923760" cy="45936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8240" y="5066640"/>
                <a:ext cx="924120" cy="45936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51080" y="5530680"/>
                <a:ext cx="930600" cy="46152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50440" y="5250960"/>
                <a:ext cx="1320120" cy="64476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32840" y="5207760"/>
                <a:ext cx="1349640" cy="69012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343960" y="5064480"/>
                <a:ext cx="1333800" cy="64800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39960" y="5248800"/>
                <a:ext cx="1348560" cy="64908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06240" y="5430600"/>
                <a:ext cx="1342800" cy="648000"/>
              </a:xfrm>
              <a:prstGeom prst="ellipse">
                <a:avLst/>
              </a:prstGeom>
              <a:gradFill rotWithShape="0">
                <a:gsLst>
                  <a:gs pos="0">
                    <a:srgbClr val="ffd6b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758680" y="3354480"/>
              <a:ext cx="73908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82160" y="312732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C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9840" y="3984480"/>
              <a:ext cx="66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S7</a:t>
              </a:r>
              <a:br>
                <a:rPr sz="1600"/>
              </a:b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67680" y="3344400"/>
              <a:ext cx="726480" cy="476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SC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56160" y="4669200"/>
              <a:ext cx="768600" cy="742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73440" y="4659480"/>
              <a:ext cx="711360" cy="476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SS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6600" y="4944960"/>
              <a:ext cx="741600" cy="476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CC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8" idx="4"/>
              <a:endCxn id="120" idx="0"/>
            </p:cNvCxnSpPr>
            <p:nvPr/>
          </p:nvCxnSpPr>
          <p:spPr>
            <a:xfrm flipH="1">
              <a:off x="3128760" y="3749760"/>
              <a:ext cx="3240" cy="9770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2786760" y="5714640"/>
              <a:ext cx="8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STN/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08800" y="53715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449600" y="2743200"/>
            <a:ext cx="2332080" cy="457200"/>
          </a:xfrm>
          <a:prstGeom prst="wedgeRectCallout">
            <a:avLst>
              <a:gd name="adj1" fmla="val -56060"/>
              <a:gd name="adj2" fmla="val 12569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AP over IP</a:t>
            </a:r>
            <a:br>
              <a:rPr sz="14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or via SGW for SS7 over I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1320" y="3429000"/>
            <a:ext cx="2341800" cy="457200"/>
          </a:xfrm>
          <a:prstGeom prst="wedgeRectCallout">
            <a:avLst>
              <a:gd name="adj1" fmla="val -66226"/>
              <a:gd name="adj2" fmla="val 2091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st contain (or have access to) user profile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29480" y="4457880"/>
            <a:ext cx="1355760" cy="457200"/>
          </a:xfrm>
          <a:prstGeom prst="wedgeRectCallout">
            <a:avLst>
              <a:gd name="adj1" fmla="val -90907"/>
              <a:gd name="adj2" fmla="val 27083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full mode of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402000" y="3600360"/>
            <a:ext cx="3655440" cy="2571480"/>
            <a:chOff x="3402000" y="3600360"/>
            <a:chExt cx="3655440" cy="2571480"/>
          </a:xfrm>
        </p:grpSpPr>
        <p:grpSp>
          <p:nvGrpSpPr>
            <p:cNvPr id="129" name=""/>
            <p:cNvGrpSpPr/>
            <p:nvPr/>
          </p:nvGrpSpPr>
          <p:grpSpPr>
            <a:xfrm>
              <a:off x="4387680" y="4971960"/>
              <a:ext cx="2669760" cy="1199880"/>
              <a:chOff x="4387680" y="4971960"/>
              <a:chExt cx="2669760" cy="1199880"/>
            </a:xfrm>
          </p:grpSpPr>
          <p:sp>
            <p:nvSpPr>
              <p:cNvPr id="130" name=""/>
              <p:cNvSpPr/>
              <p:nvPr/>
            </p:nvSpPr>
            <p:spPr>
              <a:xfrm>
                <a:off x="5061600" y="4971960"/>
                <a:ext cx="1461240" cy="119988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87680" y="5346720"/>
                <a:ext cx="925200" cy="45324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29000" y="5346720"/>
                <a:ext cx="928440" cy="45324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91600" y="5530680"/>
                <a:ext cx="923760" cy="46152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91600" y="5067000"/>
                <a:ext cx="923760" cy="45900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29400" y="5067000"/>
                <a:ext cx="924120" cy="45900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2240" y="5530680"/>
                <a:ext cx="930600" cy="46152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1600" y="5251320"/>
                <a:ext cx="1320120" cy="64440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44000" y="5208120"/>
                <a:ext cx="1349640" cy="68976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55120" y="5064840"/>
                <a:ext cx="1333800" cy="64764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51120" y="5249160"/>
                <a:ext cx="1348560" cy="64872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17400" y="5430960"/>
                <a:ext cx="1342800" cy="647640"/>
              </a:xfrm>
              <a:prstGeom prst="ellipse">
                <a:avLst/>
              </a:prstGeom>
              <a:gradFill rotWithShape="0">
                <a:gsLst>
                  <a:gs pos="0">
                    <a:srgbClr val="b8d1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473800" y="4628880"/>
              <a:ext cx="700920" cy="742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95400" y="4617360"/>
              <a:ext cx="660240" cy="47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Arial"/>
                </a:rPr>
                <a:t>SS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82600" y="56577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02000" y="3600360"/>
              <a:ext cx="240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05000" y="3600360"/>
              <a:ext cx="0" cy="108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58400" y="5028840"/>
              <a:ext cx="532440" cy="33804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ff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365724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S7 IN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038480" y="5486400"/>
            <a:ext cx="7606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Media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4876920"/>
            <a:ext cx="723960" cy="42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Call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HONET" descr=""/>
          <p:cNvPicPr/>
          <p:nvPr/>
        </p:nvPicPr>
        <p:blipFill>
          <a:blip r:embed="rId1"/>
          <a:stretch/>
        </p:blipFill>
        <p:spPr>
          <a:xfrm>
            <a:off x="1066680" y="5715000"/>
            <a:ext cx="446040" cy="379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391520" y="57150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1447920" y="5715000"/>
            <a:ext cx="38088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571500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C4B-7C65-432E-A944-66BB9D77920A}" type="slidenum">
              <a:t>9</a:t>
            </a:fld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6:24:59Z</dcterms:created>
  <dc:creator>LE ROUX</dc:creator>
  <dc:description/>
  <dc:language>en-US</dc:language>
  <cp:lastModifiedBy>UGALE, Arvin Carlos D.</cp:lastModifiedBy>
  <dcterms:modified xsi:type="dcterms:W3CDTF">2002-07-19T14:07:07Z</dcterms:modified>
  <cp:revision>12</cp:revision>
  <dc:subject/>
  <dc:title>Call &amp; Connection control Signalling : the ITU-T SG11 status and perspectives for “New Network control Architectures and Protocols”</dc:title>
</cp:coreProperties>
</file>