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34200" cy="9183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97040" y="4130640"/>
            <a:ext cx="776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648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97040" y="413064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76480" y="413064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22880" y="198108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9080" y="198108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97040" y="413064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22880" y="413064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9080" y="413064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378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76480" y="1981080"/>
            <a:ext cx="378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06040" y="609120"/>
            <a:ext cx="765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6480" y="1981080"/>
            <a:ext cx="378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97040" y="413064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378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648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76480" y="413064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648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97040" y="4130640"/>
            <a:ext cx="776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97040" y="4130640"/>
            <a:ext cx="776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648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97040" y="413064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76480" y="413064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22880" y="198108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49080" y="198108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97040" y="413064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22880" y="413064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49080" y="413064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378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76480" y="1981080"/>
            <a:ext cx="378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06040" y="609120"/>
            <a:ext cx="765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6480" y="1981080"/>
            <a:ext cx="378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97040" y="413064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378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648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76480" y="413064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648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97040" y="4130640"/>
            <a:ext cx="776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rimary051620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786280" y="6453360"/>
            <a:ext cx="25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794556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99"/>
                </a:solidFill>
                <a:latin typeface="Arial"/>
              </a:rPr>
              <a:t>Session 5 – Protection and Restoration - </a:t>
            </a:r>
            <a:fld id="{5BEE3CB4-42C3-41E0-B7FF-E783C5DCD7DD}" type="slidenum">
              <a:rPr b="0" lang="en-US" sz="9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rimary051620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15560" y="2028600"/>
            <a:ext cx="798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Network Protection and Restoration</a:t>
            </a:r>
            <a:br>
              <a:rPr sz="36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ession 5 - </a:t>
            </a:r>
            <a:br>
              <a:rPr sz="2400"/>
            </a:br>
            <a:r>
              <a:rPr b="1" lang="en-GB" sz="2400" spc="-1" strike="noStrike">
                <a:solidFill>
                  <a:srgbClr val="990000"/>
                </a:solidFill>
                <a:latin typeface="Arial"/>
                <a:ea typeface="Times New Roman"/>
              </a:rPr>
              <a:t>Optical/IP Network OAM &amp; Protection and Restoration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15920" y="3573360"/>
            <a:ext cx="7080480" cy="13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ed by: Malcolm Bet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: 2002 07 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rotection configuration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+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dicated protection, the client signal is placed on two connections (one active one standby) i.e. bridged at the head end, the “better” signal is selected at the tail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943280" y="3884760"/>
            <a:ext cx="4654440" cy="1572120"/>
            <a:chOff x="1943280" y="3884760"/>
            <a:chExt cx="4654440" cy="1572120"/>
          </a:xfrm>
        </p:grpSpPr>
        <p:grpSp>
          <p:nvGrpSpPr>
            <p:cNvPr id="219" name=""/>
            <p:cNvGrpSpPr/>
            <p:nvPr/>
          </p:nvGrpSpPr>
          <p:grpSpPr>
            <a:xfrm>
              <a:off x="1943280" y="4465800"/>
              <a:ext cx="4654440" cy="502920"/>
              <a:chOff x="1943280" y="4465800"/>
              <a:chExt cx="4654440" cy="502920"/>
            </a:xfrm>
          </p:grpSpPr>
          <p:sp>
            <p:nvSpPr>
              <p:cNvPr id="220" name=""/>
              <p:cNvSpPr/>
              <p:nvPr/>
            </p:nvSpPr>
            <p:spPr>
              <a:xfrm>
                <a:off x="1943280" y="4716360"/>
                <a:ext cx="479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118560" y="4718160"/>
                <a:ext cx="47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2762280" y="4572000"/>
                <a:ext cx="2949840" cy="288360"/>
                <a:chOff x="2762280" y="4572000"/>
                <a:chExt cx="2949840" cy="2883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2762280" y="4572000"/>
                  <a:ext cx="2949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762280" y="4860360"/>
                  <a:ext cx="2949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" name=""/>
              <p:cNvSpPr/>
              <p:nvPr/>
            </p:nvSpPr>
            <p:spPr>
              <a:xfrm>
                <a:off x="2422800" y="4465800"/>
                <a:ext cx="503280" cy="502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707080" y="4465800"/>
                <a:ext cx="503280" cy="502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2432160" y="4570200"/>
                <a:ext cx="49536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419560" y="4710240"/>
                <a:ext cx="507960" cy="151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702400" y="4576680"/>
                <a:ext cx="507960" cy="139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2092320" y="3916440"/>
              <a:ext cx="106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ad 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rid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535360" y="3884760"/>
              <a:ext cx="925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il 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le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32000" y="5119560"/>
              <a:ext cx="408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nly one direction of transmission is show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rotection configuration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: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ngle protection channel is shared between n working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a protection switch signaling scheme to coordinate activities between the head end bridge and the tail end sel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: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protection channels are shared between n working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Has the potential to provide high availability with reasonable network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Not commonly used due to 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rotection configurations (cont’d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96680" y="1981080"/>
            <a:ext cx="804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point to point physical networks to provide protection against equipment failures (e.g. Optical Amplifi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ly working and protection channels share the same fiber 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llection of interconnected NE’s that form a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may be physical or log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protection against equipment failures and cable c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 and working channels are routed over an arbitrary top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ly working and protection are routed divers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protection against equipment failures and cable c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onnection recovery behaviour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directio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the direction of the connection affected by the failure is repl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ly used with subnetwork connection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-directio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directions of the connection are replaced even if the failure only affected on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a protection switch signaling scheme to coordinate activities between the 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ly used with trail protection and rest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06400" y="609120"/>
            <a:ext cx="799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onnection recovery behaviour (cont’d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revertive Op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ient connection continues to use the replacement resources (after the original resources have recov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ly used with subnetwork connection prot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ertive Op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resources initially allocated to the client connection become available the connection is placed back onto those origina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ly used with shared trail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ubnetwork connection protection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bnetwork Connection Protection (SNC-P) is a dedicated protection mechanism (1+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n be used across any server layer topology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Physical Ring (UPSR) or me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ive and backup connections are normally diversely routed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is is not a requirement of the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n be used to protect a portion of a 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end to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irectional operation; no APS sign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witch Initi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ient layer information (using non-intrusive monitoring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rver failures (using inherent monito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sed if client layer information is not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mposes a restriction that the server layer trail is coincident with the SNC protection do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NC-P exampl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795840" y="2917800"/>
            <a:ext cx="4983120" cy="1819440"/>
            <a:chOff x="3795840" y="2917800"/>
            <a:chExt cx="4983120" cy="1819440"/>
          </a:xfrm>
        </p:grpSpPr>
        <p:sp>
          <p:nvSpPr>
            <p:cNvPr id="245" name=""/>
            <p:cNvSpPr/>
            <p:nvPr/>
          </p:nvSpPr>
          <p:spPr>
            <a:xfrm>
              <a:off x="4290840" y="4121280"/>
              <a:ext cx="982800" cy="61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3795840" y="2917800"/>
              <a:ext cx="4983120" cy="1768680"/>
              <a:chOff x="3795840" y="2917800"/>
              <a:chExt cx="4983120" cy="1768680"/>
            </a:xfrm>
          </p:grpSpPr>
          <p:sp>
            <p:nvSpPr>
              <p:cNvPr id="247" name=""/>
              <p:cNvSpPr/>
              <p:nvPr/>
            </p:nvSpPr>
            <p:spPr>
              <a:xfrm>
                <a:off x="6079320" y="3335400"/>
                <a:ext cx="596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ctiv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8" name=""/>
              <p:cNvGrpSpPr/>
              <p:nvPr/>
            </p:nvGrpSpPr>
            <p:grpSpPr>
              <a:xfrm>
                <a:off x="3795840" y="2917800"/>
                <a:ext cx="4983120" cy="1768680"/>
                <a:chOff x="3795840" y="2917800"/>
                <a:chExt cx="4983120" cy="176868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7550280" y="4070520"/>
                  <a:ext cx="822240" cy="615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653160" y="2917800"/>
                  <a:ext cx="800280" cy="523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51" name=""/>
                <p:cNvCxnSpPr>
                  <a:stCxn id="250" idx="5"/>
                  <a:endCxn id="250" idx="2"/>
                </p:cNvCxnSpPr>
                <p:nvPr/>
              </p:nvCxnSpPr>
              <p:spPr>
                <a:xfrm flipH="1" flipV="1">
                  <a:off x="6653160" y="3179520"/>
                  <a:ext cx="682920" cy="18648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  <a:headEnd len="med" type="triangle" w="med"/>
                </a:ln>
              </p:spPr>
            </p:cxnSp>
            <p:sp>
              <p:nvSpPr>
                <p:cNvPr id="252" name=""/>
                <p:cNvSpPr/>
                <p:nvPr/>
              </p:nvSpPr>
              <p:spPr>
                <a:xfrm>
                  <a:off x="5295960" y="2932200"/>
                  <a:ext cx="776160" cy="5014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53" name=""/>
                <p:cNvCxnSpPr>
                  <a:stCxn id="252" idx="6"/>
                  <a:endCxn id="252" idx="3"/>
                </p:cNvCxnSpPr>
                <p:nvPr/>
              </p:nvCxnSpPr>
              <p:spPr>
                <a:xfrm flipH="1">
                  <a:off x="5409360" y="3182760"/>
                  <a:ext cx="662760" cy="17820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  <a:headEnd len="med" type="triangle" w="med"/>
                </a:ln>
              </p:spPr>
            </p:cxnSp>
            <p:sp>
              <p:nvSpPr>
                <p:cNvPr id="254" name=""/>
                <p:cNvSpPr/>
                <p:nvPr/>
              </p:nvSpPr>
              <p:spPr>
                <a:xfrm>
                  <a:off x="8294760" y="4311720"/>
                  <a:ext cx="135000" cy="228600"/>
                </a:xfrm>
                <a:custGeom>
                  <a:avLst/>
                  <a:gdLst>
                    <a:gd name="textAreaLeft" fmla="*/ 6480 w 135000"/>
                    <a:gd name="textAreaRight" fmla="*/ 128520 w 135000"/>
                    <a:gd name="textAreaTop" fmla="*/ 6480 h 228600"/>
                    <a:gd name="textAreaBottom" fmla="*/ 222120 h 228600"/>
                  </a:gdLst>
                  <a:ahLst/>
                  <a:rect l="textAreaLeft" t="textAreaTop" r="textAreaRight" b="textAreaBottom"/>
                  <a:pathLst>
                    <a:path w="21600" h="36536">
                      <a:moveTo>
                        <a:pt x="3600" y="0"/>
                      </a:moveTo>
                      <a:arcTo wR="3600" hR="3600" stAng="16200000" swAng="-5400000"/>
                      <a:lnTo>
                        <a:pt x="0" y="32936"/>
                      </a:lnTo>
                      <a:arcTo wR="3600" hR="3600" stAng="10800000" swAng="-5400000"/>
                      <a:lnTo>
                        <a:pt x="18000" y="36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55" name=""/>
                <p:cNvCxnSpPr>
                  <a:stCxn id="245" idx="7"/>
                  <a:endCxn id="252" idx="3"/>
                </p:cNvCxnSpPr>
                <p:nvPr/>
              </p:nvCxnSpPr>
              <p:spPr>
                <a:xfrm flipV="1">
                  <a:off x="5129280" y="3360240"/>
                  <a:ext cx="281520" cy="85176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prstDash val="lgDashDot"/>
                  <a:miter/>
                  <a:tailEnd len="med" type="triangle" w="med"/>
                </a:ln>
              </p:spPr>
            </p:cxnSp>
            <p:cxnSp>
              <p:nvCxnSpPr>
                <p:cNvPr id="256" name=""/>
                <p:cNvCxnSpPr>
                  <a:stCxn id="252" idx="6"/>
                  <a:endCxn id="250" idx="2"/>
                </p:cNvCxnSpPr>
                <p:nvPr/>
              </p:nvCxnSpPr>
              <p:spPr>
                <a:xfrm flipV="1">
                  <a:off x="6072120" y="3179520"/>
                  <a:ext cx="581400" cy="360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prstDash val="lgDashDot"/>
                  <a:miter/>
                  <a:tailEnd len="med" type="triangle" w="med"/>
                </a:ln>
              </p:spPr>
            </p:cxnSp>
            <p:cxnSp>
              <p:nvCxnSpPr>
                <p:cNvPr id="257" name=""/>
                <p:cNvCxnSpPr>
                  <a:stCxn id="250" idx="5"/>
                  <a:endCxn id="249" idx="1"/>
                </p:cNvCxnSpPr>
                <p:nvPr/>
              </p:nvCxnSpPr>
              <p:spPr>
                <a:xfrm>
                  <a:off x="7335360" y="3365280"/>
                  <a:ext cx="335880" cy="79596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prstDash val="lgDashDot"/>
                  <a:miter/>
                  <a:tailEnd len="med" type="triangle" w="med"/>
                </a:ln>
              </p:spPr>
            </p:cxnSp>
            <p:sp>
              <p:nvSpPr>
                <p:cNvPr id="258" name=""/>
                <p:cNvSpPr/>
                <p:nvPr/>
              </p:nvSpPr>
              <p:spPr>
                <a:xfrm>
                  <a:off x="4245120" y="4319640"/>
                  <a:ext cx="134640" cy="228600"/>
                </a:xfrm>
                <a:custGeom>
                  <a:avLst/>
                  <a:gdLst>
                    <a:gd name="textAreaLeft" fmla="*/ 6480 w 134640"/>
                    <a:gd name="textAreaRight" fmla="*/ 128160 w 134640"/>
                    <a:gd name="textAreaTop" fmla="*/ 6480 h 228600"/>
                    <a:gd name="textAreaBottom" fmla="*/ 222120 h 228600"/>
                  </a:gdLst>
                  <a:ahLst/>
                  <a:rect l="textAreaLeft" t="textAreaTop" r="textAreaRight" b="textAreaBottom"/>
                  <a:pathLst>
                    <a:path w="21600" h="36634">
                      <a:moveTo>
                        <a:pt x="3600" y="0"/>
                      </a:moveTo>
                      <a:arcTo wR="3600" hR="3600" stAng="16200000" swAng="-5400000"/>
                      <a:lnTo>
                        <a:pt x="0" y="33034"/>
                      </a:lnTo>
                      <a:arcTo wR="3600" hR="3600" stAng="10800000" swAng="-5400000"/>
                      <a:lnTo>
                        <a:pt x="18000" y="3663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795840" y="4435560"/>
                  <a:ext cx="43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424720" y="4427640"/>
                  <a:ext cx="354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840120" y="3897360"/>
                  <a:ext cx="6228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ridg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005680" y="3822840"/>
                  <a:ext cx="741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elec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63" name=""/>
                <p:cNvCxnSpPr>
                  <a:stCxn id="245" idx="7"/>
                  <a:endCxn id="258" idx="1"/>
                </p:cNvCxnSpPr>
                <p:nvPr/>
              </p:nvCxnSpPr>
              <p:spPr>
                <a:xfrm flipH="1">
                  <a:off x="4244760" y="4211280"/>
                  <a:ext cx="884880" cy="22284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  <a:headEnd len="med" type="triangle" w="med"/>
                </a:ln>
              </p:spPr>
            </p:cxnSp>
            <p:cxnSp>
              <p:nvCxnSpPr>
                <p:cNvPr id="264" name=""/>
                <p:cNvCxnSpPr>
                  <a:stCxn id="254" idx="0"/>
                  <a:endCxn id="249" idx="1"/>
                </p:cNvCxnSpPr>
                <p:nvPr/>
              </p:nvCxnSpPr>
              <p:spPr>
                <a:xfrm flipH="1" flipV="1">
                  <a:off x="7670520" y="4160160"/>
                  <a:ext cx="692640" cy="15156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  <a:headEnd len="med" type="triangle" w="med"/>
                </a:ln>
              </p:spPr>
            </p:cxnSp>
            <p:cxnSp>
              <p:nvCxnSpPr>
                <p:cNvPr id="265" name=""/>
                <p:cNvCxnSpPr>
                  <a:stCxn id="254" idx="0"/>
                  <a:endCxn id="260" idx="0"/>
                </p:cNvCxnSpPr>
                <p:nvPr/>
              </p:nvCxnSpPr>
              <p:spPr>
                <a:xfrm>
                  <a:off x="8362800" y="4311720"/>
                  <a:ext cx="62640" cy="116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</p:grpSp>
      </p:grpSp>
      <p:grpSp>
        <p:nvGrpSpPr>
          <p:cNvPr id="266" name=""/>
          <p:cNvGrpSpPr/>
          <p:nvPr/>
        </p:nvGrpSpPr>
        <p:grpSpPr>
          <a:xfrm>
            <a:off x="4244760" y="4433040"/>
            <a:ext cx="4118040" cy="1096200"/>
            <a:chOff x="4244760" y="4433040"/>
            <a:chExt cx="4118040" cy="1096200"/>
          </a:xfrm>
        </p:grpSpPr>
        <p:sp>
          <p:nvSpPr>
            <p:cNvPr id="267" name=""/>
            <p:cNvSpPr/>
            <p:nvPr/>
          </p:nvSpPr>
          <p:spPr>
            <a:xfrm>
              <a:off x="6041880" y="5027760"/>
              <a:ext cx="800280" cy="50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67" idx="6"/>
              <a:endCxn id="267" idx="2"/>
            </p:cNvCxnSpPr>
            <p:nvPr/>
          </p:nvCxnSpPr>
          <p:spPr>
            <a:xfrm flipH="1">
              <a:off x="6041160" y="5277960"/>
              <a:ext cx="8010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sysDot"/>
              <a:miter/>
              <a:headEnd len="med" type="triangle" w="med"/>
            </a:ln>
          </p:spPr>
        </p:cxnSp>
        <p:cxnSp>
          <p:nvCxnSpPr>
            <p:cNvPr id="269" name=""/>
            <p:cNvCxnSpPr>
              <a:stCxn id="245" idx="5"/>
              <a:endCxn id="267" idx="2"/>
            </p:cNvCxnSpPr>
            <p:nvPr/>
          </p:nvCxnSpPr>
          <p:spPr>
            <a:xfrm>
              <a:off x="5128920" y="4646160"/>
              <a:ext cx="913320" cy="63252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67" idx="6"/>
              <a:endCxn id="249" idx="3"/>
            </p:cNvCxnSpPr>
            <p:nvPr/>
          </p:nvCxnSpPr>
          <p:spPr>
            <a:xfrm flipV="1">
              <a:off x="6842160" y="4595760"/>
              <a:ext cx="829440" cy="68292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</p:cxnSp>
        <p:sp>
          <p:nvSpPr>
            <p:cNvPr id="271" name=""/>
            <p:cNvSpPr/>
            <p:nvPr/>
          </p:nvSpPr>
          <p:spPr>
            <a:xfrm>
              <a:off x="6085800" y="4734000"/>
              <a:ext cx="74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ndb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2" name=""/>
            <p:cNvCxnSpPr/>
            <p:nvPr/>
          </p:nvCxnSpPr>
          <p:spPr>
            <a:xfrm flipH="1" flipV="1">
              <a:off x="4244760" y="4433040"/>
              <a:ext cx="884880" cy="21348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sysDot"/>
              <a:miter/>
              <a:headEnd len="med" type="triangle" w="med"/>
            </a:ln>
          </p:spPr>
        </p:cxnSp>
        <p:cxnSp>
          <p:nvCxnSpPr>
            <p:cNvPr id="273" name=""/>
            <p:cNvCxnSpPr/>
            <p:nvPr/>
          </p:nvCxnSpPr>
          <p:spPr>
            <a:xfrm flipH="1">
              <a:off x="7670520" y="4540320"/>
              <a:ext cx="692640" cy="5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sysDot"/>
              <a:miter/>
              <a:headEnd len="med" type="triangle" w="med"/>
            </a:ln>
          </p:spPr>
        </p:cxnSp>
      </p:grpSp>
      <p:grpSp>
        <p:nvGrpSpPr>
          <p:cNvPr id="274" name=""/>
          <p:cNvGrpSpPr/>
          <p:nvPr/>
        </p:nvGrpSpPr>
        <p:grpSpPr>
          <a:xfrm>
            <a:off x="5014800" y="3376440"/>
            <a:ext cx="3409920" cy="1621440"/>
            <a:chOff x="5014800" y="3376440"/>
            <a:chExt cx="3409920" cy="1621440"/>
          </a:xfrm>
        </p:grpSpPr>
        <p:sp>
          <p:nvSpPr>
            <p:cNvPr id="275" name=""/>
            <p:cNvSpPr/>
            <p:nvPr/>
          </p:nvSpPr>
          <p:spPr>
            <a:xfrm>
              <a:off x="8290080" y="4307040"/>
              <a:ext cx="134640" cy="228600"/>
            </a:xfrm>
            <a:custGeom>
              <a:avLst/>
              <a:gdLst>
                <a:gd name="textAreaLeft" fmla="*/ 6480 w 134640"/>
                <a:gd name="textAreaRight" fmla="*/ 128160 w 134640"/>
                <a:gd name="textAreaTop" fmla="*/ 6480 h 228600"/>
                <a:gd name="textAreaBottom" fmla="*/ 222120 h 228600"/>
              </a:gdLst>
              <a:ahLst/>
              <a:rect l="textAreaLeft" t="textAreaTop" r="textAreaRight" b="textAreaBottom"/>
              <a:pathLst>
                <a:path w="21600" h="36634">
                  <a:moveTo>
                    <a:pt x="3600" y="0"/>
                  </a:moveTo>
                  <a:arcTo wR="3600" hR="3600" stAng="16200000" swAng="-5400000"/>
                  <a:lnTo>
                    <a:pt x="0" y="33034"/>
                  </a:lnTo>
                  <a:arcTo wR="3600" hR="3600" stAng="10800000" swAng="-5400000"/>
                  <a:lnTo>
                    <a:pt x="18000" y="366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85720" y="3376440"/>
              <a:ext cx="743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ndb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139440" y="4721400"/>
              <a:ext cx="59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ti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14800" y="3452760"/>
              <a:ext cx="503280" cy="319320"/>
            </a:xfrm>
            <a:prstGeom prst="lightningBolt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5" idx="2"/>
              <a:endCxn id="275" idx="3"/>
            </p:cNvCxnSpPr>
            <p:nvPr/>
          </p:nvCxnSpPr>
          <p:spPr>
            <a:xfrm flipV="1">
              <a:off x="8357760" y="4420800"/>
              <a:ext cx="67320" cy="115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280" name=""/>
          <p:cNvGrpSpPr/>
          <p:nvPr/>
        </p:nvGrpSpPr>
        <p:grpSpPr>
          <a:xfrm>
            <a:off x="720" y="1779480"/>
            <a:ext cx="3409200" cy="3492360"/>
            <a:chOff x="720" y="1779480"/>
            <a:chExt cx="3409200" cy="3492360"/>
          </a:xfrm>
        </p:grpSpPr>
        <p:grpSp>
          <p:nvGrpSpPr>
            <p:cNvPr id="281" name=""/>
            <p:cNvGrpSpPr/>
            <p:nvPr/>
          </p:nvGrpSpPr>
          <p:grpSpPr>
            <a:xfrm>
              <a:off x="720" y="1779480"/>
              <a:ext cx="2913840" cy="3492360"/>
              <a:chOff x="720" y="1779480"/>
              <a:chExt cx="2913840" cy="349236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720" y="2323800"/>
                <a:ext cx="630360" cy="2948040"/>
                <a:chOff x="720" y="2323800"/>
                <a:chExt cx="630360" cy="29480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315720" y="2323800"/>
                  <a:ext cx="0" cy="1874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15720" y="4335480"/>
                  <a:ext cx="0" cy="93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0240" y="3043080"/>
                  <a:ext cx="570960" cy="45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li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ay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20" y="4545000"/>
                  <a:ext cx="630360" cy="45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erv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ay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501480" y="1779480"/>
                <a:ext cx="2413080" cy="3457440"/>
                <a:chOff x="501480" y="1779480"/>
                <a:chExt cx="2413080" cy="34574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531720" y="2436480"/>
                  <a:ext cx="2217600" cy="1438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422360" y="3250800"/>
                  <a:ext cx="587160" cy="587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0" name=""/>
                <p:cNvGrpSpPr/>
                <p:nvPr/>
              </p:nvGrpSpPr>
              <p:grpSpPr>
                <a:xfrm>
                  <a:off x="1189080" y="3508200"/>
                  <a:ext cx="457200" cy="1727280"/>
                  <a:chOff x="1189080" y="3508200"/>
                  <a:chExt cx="457200" cy="17272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1417680" y="3635280"/>
                    <a:ext cx="0" cy="1295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1189080" y="3940200"/>
                    <a:ext cx="457200" cy="304560"/>
                  </a:xfrm>
                  <a:custGeom>
                    <a:avLst/>
                    <a:gdLst>
                      <a:gd name="textAreaLeft" fmla="*/ 100440 w 457200"/>
                      <a:gd name="textAreaRight" fmla="*/ 356760 w 457200"/>
                      <a:gd name="textAreaTop" fmla="*/ 66960 h 304560"/>
                      <a:gd name="textAreaBottom" fmla="*/ 237600 h 304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flipV="1" rot="16200000">
                    <a:off x="1303200" y="3547440"/>
                    <a:ext cx="22860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V="1">
                    <a:off x="1417680" y="3547800"/>
                    <a:ext cx="0" cy="152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flipV="1" rot="16200000">
                    <a:off x="1378080" y="3508200"/>
                    <a:ext cx="76320" cy="76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flipV="1" rot="16200000">
                    <a:off x="1378080" y="3659760"/>
                    <a:ext cx="75960" cy="76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flipV="1">
                    <a:off x="1227240" y="4701960"/>
                    <a:ext cx="380880" cy="5335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flipV="1" rot="16200000">
                    <a:off x="1303200" y="4436280"/>
                    <a:ext cx="22860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flipV="1">
                    <a:off x="1417680" y="4436640"/>
                    <a:ext cx="0" cy="152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 flipV="1" rot="16200000">
                    <a:off x="1378080" y="4396320"/>
                    <a:ext cx="75960" cy="76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flipV="1" rot="16200000">
                    <a:off x="1378080" y="4549680"/>
                    <a:ext cx="76320" cy="76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1788840" y="3509640"/>
                  <a:ext cx="457200" cy="1727280"/>
                  <a:chOff x="1788840" y="3509640"/>
                  <a:chExt cx="457200" cy="172728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>
                    <a:off x="2017440" y="3636720"/>
                    <a:ext cx="0" cy="1295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1788840" y="3941640"/>
                    <a:ext cx="457200" cy="304560"/>
                  </a:xfrm>
                  <a:custGeom>
                    <a:avLst/>
                    <a:gdLst>
                      <a:gd name="textAreaLeft" fmla="*/ 100440 w 457200"/>
                      <a:gd name="textAreaRight" fmla="*/ 356760 w 457200"/>
                      <a:gd name="textAreaTop" fmla="*/ 66960 h 304560"/>
                      <a:gd name="textAreaBottom" fmla="*/ 237600 h 304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V="1" rot="16200000">
                    <a:off x="1902960" y="3548880"/>
                    <a:ext cx="22860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flipV="1">
                    <a:off x="2017440" y="3549240"/>
                    <a:ext cx="0" cy="152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flipV="1" rot="16200000">
                    <a:off x="1977840" y="3509640"/>
                    <a:ext cx="76320" cy="76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V="1" rot="16200000">
                    <a:off x="1977840" y="3661200"/>
                    <a:ext cx="75960" cy="76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V="1">
                    <a:off x="1827000" y="4703400"/>
                    <a:ext cx="380880" cy="5335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flipV="1" rot="16200000">
                    <a:off x="1902960" y="4437720"/>
                    <a:ext cx="22860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flipV="1">
                    <a:off x="2017440" y="4438080"/>
                    <a:ext cx="0" cy="152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 flipV="1" rot="16200000">
                    <a:off x="1977840" y="4397760"/>
                    <a:ext cx="75960" cy="76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V="1" rot="16200000">
                    <a:off x="1977840" y="4551120"/>
                    <a:ext cx="76320" cy="76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1642680" y="3077640"/>
                  <a:ext cx="152280" cy="230040"/>
                  <a:chOff x="1642680" y="3077640"/>
                  <a:chExt cx="152280" cy="2300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 flipV="1" rot="16200000">
                    <a:off x="1604520" y="3116880"/>
                    <a:ext cx="22860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V="1">
                    <a:off x="1719360" y="3117240"/>
                    <a:ext cx="0" cy="152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flipV="1" rot="16200000">
                    <a:off x="1679400" y="3076920"/>
                    <a:ext cx="75960" cy="76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flipV="1" rot="16200000">
                    <a:off x="1679400" y="3230280"/>
                    <a:ext cx="76320" cy="76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9" name=""/>
                <p:cNvCxnSpPr>
                  <a:stCxn id="318" idx="2"/>
                  <a:endCxn id="295" idx="6"/>
                </p:cNvCxnSpPr>
                <p:nvPr/>
              </p:nvCxnSpPr>
              <p:spPr>
                <a:xfrm flipH="1">
                  <a:off x="1414080" y="3306600"/>
                  <a:ext cx="302400" cy="202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20" name=""/>
                <p:cNvCxnSpPr>
                  <a:stCxn id="318" idx="2"/>
                  <a:endCxn id="307" idx="6"/>
                </p:cNvCxnSpPr>
                <p:nvPr/>
              </p:nvCxnSpPr>
              <p:spPr>
                <a:xfrm>
                  <a:off x="1715760" y="3306600"/>
                  <a:ext cx="299160" cy="20376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321" name=""/>
                <p:cNvSpPr/>
                <p:nvPr/>
              </p:nvSpPr>
              <p:spPr>
                <a:xfrm>
                  <a:off x="501480" y="3360600"/>
                  <a:ext cx="9367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rotection Matrix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2" name=""/>
                <p:cNvGrpSpPr/>
                <p:nvPr/>
              </p:nvGrpSpPr>
              <p:grpSpPr>
                <a:xfrm>
                  <a:off x="768240" y="2652120"/>
                  <a:ext cx="1898640" cy="533160"/>
                  <a:chOff x="768240" y="2652120"/>
                  <a:chExt cx="1898640" cy="53316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 flipV="1">
                    <a:off x="2285640" y="2651760"/>
                    <a:ext cx="381240" cy="5331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 flipV="1">
                    <a:off x="768240" y="2651760"/>
                    <a:ext cx="380880" cy="5331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25" name=""/>
                <p:cNvCxnSpPr>
                  <a:stCxn id="323" idx="0"/>
                  <a:endCxn id="307" idx="5"/>
                </p:cNvCxnSpPr>
                <p:nvPr/>
              </p:nvCxnSpPr>
              <p:spPr>
                <a:xfrm flipH="1">
                  <a:off x="1988280" y="3186000"/>
                  <a:ext cx="486360" cy="33552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prstDash val="sysDot"/>
                  <a:miter/>
                </a:ln>
              </p:spPr>
            </p:cxnSp>
            <p:cxnSp>
              <p:nvCxnSpPr>
                <p:cNvPr id="326" name=""/>
                <p:cNvCxnSpPr>
                  <a:stCxn id="324" idx="0"/>
                  <a:endCxn id="295" idx="6"/>
                </p:cNvCxnSpPr>
                <p:nvPr/>
              </p:nvCxnSpPr>
              <p:spPr>
                <a:xfrm>
                  <a:off x="957240" y="3185640"/>
                  <a:ext cx="457920" cy="32292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prstDash val="sysDot"/>
                  <a:miter/>
                </a:ln>
              </p:spPr>
            </p:cxnSp>
            <p:sp>
              <p:nvSpPr>
                <p:cNvPr id="327" name=""/>
                <p:cNvSpPr/>
                <p:nvPr/>
              </p:nvSpPr>
              <p:spPr>
                <a:xfrm>
                  <a:off x="1077840" y="2439720"/>
                  <a:ext cx="13032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NC Protection Func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542880" y="1779480"/>
                  <a:ext cx="237168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SNC Protection with non-intrusive monitori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9" name=""/>
            <p:cNvSpPr/>
            <p:nvPr/>
          </p:nvSpPr>
          <p:spPr>
            <a:xfrm>
              <a:off x="2651040" y="2558880"/>
              <a:ext cx="7588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ent signal moni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Establishing client connection across a region using SNC-P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 and activate (independent) active and backup pa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degree of diversity required to support the connection availability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with a physical ring, more complex with a mesh top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e and activate the SNC-P function at the end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 points must support SNC-P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Trail protection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96680" y="1981080"/>
            <a:ext cx="799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protected link connections to a client layer net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ly application is in the MS layer of SDH, OTU or ODUk layers of O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configu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 1: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-directional operation with an APS signaling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Trail Protection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820800" y="3001680"/>
            <a:ext cx="2868480" cy="1726920"/>
            <a:chOff x="820800" y="3001680"/>
            <a:chExt cx="2868480" cy="1726920"/>
          </a:xfrm>
        </p:grpSpPr>
        <p:grpSp>
          <p:nvGrpSpPr>
            <p:cNvPr id="336" name=""/>
            <p:cNvGrpSpPr/>
            <p:nvPr/>
          </p:nvGrpSpPr>
          <p:grpSpPr>
            <a:xfrm>
              <a:off x="820800" y="3001680"/>
              <a:ext cx="457200" cy="1726920"/>
              <a:chOff x="820800" y="3001680"/>
              <a:chExt cx="457200" cy="1726920"/>
            </a:xfrm>
          </p:grpSpPr>
          <p:sp>
            <p:nvSpPr>
              <p:cNvPr id="337" name=""/>
              <p:cNvSpPr/>
              <p:nvPr/>
            </p:nvSpPr>
            <p:spPr>
              <a:xfrm>
                <a:off x="1049400" y="3128760"/>
                <a:ext cx="0" cy="129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820800" y="3433680"/>
                <a:ext cx="457200" cy="304920"/>
              </a:xfrm>
              <a:custGeom>
                <a:avLst/>
                <a:gdLst>
                  <a:gd name="textAreaLeft" fmla="*/ 100440 w 457200"/>
                  <a:gd name="textAreaRight" fmla="*/ 356760 w 457200"/>
                  <a:gd name="textAreaTop" fmla="*/ 66960 h 304920"/>
                  <a:gd name="textAreaBottom" fmla="*/ 237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V="1" rot="16200000">
                <a:off x="934560" y="3040920"/>
                <a:ext cx="22860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1049400" y="304128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 rot="16200000">
                <a:off x="1009440" y="300096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 rot="16200000">
                <a:off x="1009440" y="315432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858600" y="4195080"/>
                <a:ext cx="381240" cy="5331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 rot="16200000">
                <a:off x="934560" y="3929760"/>
                <a:ext cx="22860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1049400" y="3930480"/>
                <a:ext cx="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 rot="16200000">
                <a:off x="1009440" y="389088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 rot="16200000">
                <a:off x="1009440" y="404316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1584360" y="3075120"/>
              <a:ext cx="2104920" cy="1647720"/>
            </a:xfrm>
            <a:prstGeom prst="rightArrow">
              <a:avLst>
                <a:gd name="adj1" fmla="val 50000"/>
                <a:gd name="adj2" fmla="val 31937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daptation and Trail Termination Functions are expanded to include a Protection Matr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716360" y="1898640"/>
            <a:ext cx="4253760" cy="4175280"/>
            <a:chOff x="4716360" y="1898640"/>
            <a:chExt cx="4253760" cy="4175280"/>
          </a:xfrm>
        </p:grpSpPr>
        <p:sp>
          <p:nvSpPr>
            <p:cNvPr id="350" name=""/>
            <p:cNvSpPr/>
            <p:nvPr/>
          </p:nvSpPr>
          <p:spPr>
            <a:xfrm>
              <a:off x="7162560" y="4087800"/>
              <a:ext cx="587520" cy="587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422480" y="1911240"/>
              <a:ext cx="9507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716360" y="1898640"/>
              <a:ext cx="9144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3" name=""/>
            <p:cNvCxnSpPr>
              <a:endCxn id="354" idx="0"/>
            </p:cNvCxnSpPr>
            <p:nvPr/>
          </p:nvCxnSpPr>
          <p:spPr>
            <a:xfrm>
              <a:off x="5704920" y="2192040"/>
              <a:ext cx="1678680" cy="133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</p:cxnSp>
        <p:cxnSp>
          <p:nvCxnSpPr>
            <p:cNvPr id="355" name=""/>
            <p:cNvCxnSpPr>
              <a:endCxn id="356" idx="4"/>
            </p:cNvCxnSpPr>
            <p:nvPr/>
          </p:nvCxnSpPr>
          <p:spPr>
            <a:xfrm>
              <a:off x="5704920" y="3081240"/>
              <a:ext cx="1677240" cy="86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lgDashDotDot"/>
              <a:miter/>
            </a:ln>
          </p:spPr>
        </p:cxnSp>
        <p:sp>
          <p:nvSpPr>
            <p:cNvPr id="357" name=""/>
            <p:cNvSpPr/>
            <p:nvPr/>
          </p:nvSpPr>
          <p:spPr>
            <a:xfrm>
              <a:off x="5976360" y="2840040"/>
              <a:ext cx="117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tected Tra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76720" y="1965240"/>
              <a:ext cx="1278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tec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nk Conne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6929280" y="4344840"/>
              <a:ext cx="457200" cy="1727280"/>
              <a:chOff x="6929280" y="4344840"/>
              <a:chExt cx="457200" cy="1727280"/>
            </a:xfrm>
          </p:grpSpPr>
          <p:sp>
            <p:nvSpPr>
              <p:cNvPr id="360" name=""/>
              <p:cNvSpPr/>
              <p:nvPr/>
            </p:nvSpPr>
            <p:spPr>
              <a:xfrm>
                <a:off x="7157880" y="4471920"/>
                <a:ext cx="0" cy="129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929280" y="4776840"/>
                <a:ext cx="457200" cy="304560"/>
              </a:xfrm>
              <a:custGeom>
                <a:avLst/>
                <a:gdLst>
                  <a:gd name="textAreaLeft" fmla="*/ 100440 w 457200"/>
                  <a:gd name="textAreaRight" fmla="*/ 356760 w 457200"/>
                  <a:gd name="textAreaTop" fmla="*/ 66960 h 304560"/>
                  <a:gd name="textAreaBottom" fmla="*/ 23760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 rot="16200000">
                <a:off x="7043400" y="4384080"/>
                <a:ext cx="22860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7157880" y="4384440"/>
                <a:ext cx="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 rot="16200000">
                <a:off x="7118280" y="434484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 rot="16200000">
                <a:off x="7118280" y="449640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6967440" y="5538600"/>
                <a:ext cx="380880" cy="533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 rot="16200000">
                <a:off x="7043400" y="5272920"/>
                <a:ext cx="22860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7157880" y="527328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 rot="16200000">
                <a:off x="7118280" y="523296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 rot="16200000">
                <a:off x="7118280" y="538632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529400" y="4346640"/>
              <a:ext cx="457200" cy="1727280"/>
              <a:chOff x="7529400" y="4346640"/>
              <a:chExt cx="457200" cy="1727280"/>
            </a:xfrm>
          </p:grpSpPr>
          <p:sp>
            <p:nvSpPr>
              <p:cNvPr id="372" name=""/>
              <p:cNvSpPr/>
              <p:nvPr/>
            </p:nvSpPr>
            <p:spPr>
              <a:xfrm>
                <a:off x="7758000" y="4473720"/>
                <a:ext cx="0" cy="129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529400" y="4778640"/>
                <a:ext cx="457200" cy="304560"/>
              </a:xfrm>
              <a:custGeom>
                <a:avLst/>
                <a:gdLst>
                  <a:gd name="textAreaLeft" fmla="*/ 100440 w 457200"/>
                  <a:gd name="textAreaRight" fmla="*/ 356760 w 457200"/>
                  <a:gd name="textAreaTop" fmla="*/ 66960 h 304560"/>
                  <a:gd name="textAreaBottom" fmla="*/ 23760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 rot="16200000">
                <a:off x="7643520" y="4385880"/>
                <a:ext cx="22860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V="1">
                <a:off x="7758000" y="4386240"/>
                <a:ext cx="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 rot="16200000">
                <a:off x="7718400" y="434664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 rot="16200000">
                <a:off x="7718400" y="449820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7567560" y="5540400"/>
                <a:ext cx="380880" cy="533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 rot="16200000">
                <a:off x="7643520" y="5274720"/>
                <a:ext cx="22860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7758000" y="527508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 rot="16200000">
                <a:off x="7718400" y="523476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 rot="16200000">
                <a:off x="7718400" y="538812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7230960" y="2089080"/>
              <a:ext cx="457200" cy="2071800"/>
              <a:chOff x="7230960" y="2089080"/>
              <a:chExt cx="457200" cy="2071800"/>
            </a:xfrm>
          </p:grpSpPr>
          <p:sp>
            <p:nvSpPr>
              <p:cNvPr id="384" name=""/>
              <p:cNvSpPr/>
              <p:nvPr/>
            </p:nvSpPr>
            <p:spPr>
              <a:xfrm>
                <a:off x="7459560" y="2203560"/>
                <a:ext cx="0" cy="195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7230960" y="2508120"/>
                <a:ext cx="457200" cy="304920"/>
              </a:xfrm>
              <a:custGeom>
                <a:avLst/>
                <a:gdLst>
                  <a:gd name="textAreaLeft" fmla="*/ 100440 w 457200"/>
                  <a:gd name="textAreaRight" fmla="*/ 356760 w 457200"/>
                  <a:gd name="textAreaTop" fmla="*/ 66960 h 304920"/>
                  <a:gd name="textAreaBottom" fmla="*/ 237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 flipV="1" rot="5400000">
                <a:off x="7345080" y="2127960"/>
                <a:ext cx="228600" cy="152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7459560" y="2128680"/>
                <a:ext cx="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 flipV="1" rot="5400000">
                <a:off x="7421400" y="208908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 flipV="1" rot="5400000">
                <a:off x="7421400" y="224064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7269120" y="3283920"/>
                <a:ext cx="380880" cy="5331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 rot="16200000">
                <a:off x="7345080" y="3012120"/>
                <a:ext cx="228600" cy="152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7459560" y="301284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 rot="16200000">
                <a:off x="7421400" y="297324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 rot="16200000">
                <a:off x="7421400" y="312480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3" name=""/>
              <p:cNvGrpSpPr/>
              <p:nvPr/>
            </p:nvGrpSpPr>
            <p:grpSpPr>
              <a:xfrm>
                <a:off x="7382880" y="3914280"/>
                <a:ext cx="152280" cy="230040"/>
                <a:chOff x="7382880" y="3914280"/>
                <a:chExt cx="152280" cy="230040"/>
              </a:xfrm>
            </p:grpSpPr>
            <p:sp>
              <p:nvSpPr>
                <p:cNvPr id="394" name=""/>
                <p:cNvSpPr/>
                <p:nvPr/>
              </p:nvSpPr>
              <p:spPr>
                <a:xfrm flipV="1" rot="16200000">
                  <a:off x="7344720" y="3953520"/>
                  <a:ext cx="22860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V="1">
                  <a:off x="7459560" y="3953880"/>
                  <a:ext cx="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V="1" rot="16200000">
                  <a:off x="7419600" y="3913560"/>
                  <a:ext cx="75960" cy="76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V="1" rot="16200000">
                  <a:off x="7419600" y="406692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398" name=""/>
            <p:cNvCxnSpPr>
              <a:stCxn id="397" idx="2"/>
              <a:endCxn id="364" idx="6"/>
            </p:cNvCxnSpPr>
            <p:nvPr/>
          </p:nvCxnSpPr>
          <p:spPr>
            <a:xfrm flipH="1">
              <a:off x="7154280" y="4143240"/>
              <a:ext cx="302400" cy="202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99" name=""/>
            <p:cNvCxnSpPr>
              <a:stCxn id="397" idx="2"/>
              <a:endCxn id="376" idx="6"/>
            </p:cNvCxnSpPr>
            <p:nvPr/>
          </p:nvCxnSpPr>
          <p:spPr>
            <a:xfrm>
              <a:off x="7455960" y="4142880"/>
              <a:ext cx="299160" cy="2041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400" name=""/>
            <p:cNvSpPr/>
            <p:nvPr/>
          </p:nvSpPr>
          <p:spPr>
            <a:xfrm>
              <a:off x="7643520" y="3989520"/>
              <a:ext cx="132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tection Matr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3336840" y="2076480"/>
            <a:ext cx="2808360" cy="3983760"/>
            <a:chOff x="3336840" y="2076480"/>
            <a:chExt cx="2808360" cy="3983760"/>
          </a:xfrm>
        </p:grpSpPr>
        <p:grpSp>
          <p:nvGrpSpPr>
            <p:cNvPr id="402" name=""/>
            <p:cNvGrpSpPr/>
            <p:nvPr/>
          </p:nvGrpSpPr>
          <p:grpSpPr>
            <a:xfrm>
              <a:off x="3857400" y="2076480"/>
              <a:ext cx="2287800" cy="3983760"/>
              <a:chOff x="3857400" y="2076480"/>
              <a:chExt cx="2287800" cy="398376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5087880" y="2076480"/>
                <a:ext cx="1057320" cy="3983760"/>
                <a:chOff x="5087880" y="2076480"/>
                <a:chExt cx="1057320" cy="398376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5321160" y="4075200"/>
                  <a:ext cx="587520" cy="587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5" name=""/>
                <p:cNvGrpSpPr/>
                <p:nvPr/>
              </p:nvGrpSpPr>
              <p:grpSpPr>
                <a:xfrm>
                  <a:off x="5087880" y="4332240"/>
                  <a:ext cx="457200" cy="1727280"/>
                  <a:chOff x="5087880" y="4332240"/>
                  <a:chExt cx="457200" cy="172728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5316480" y="4459320"/>
                    <a:ext cx="0" cy="1295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5087880" y="4764240"/>
                    <a:ext cx="457200" cy="304560"/>
                  </a:xfrm>
                  <a:custGeom>
                    <a:avLst/>
                    <a:gdLst>
                      <a:gd name="textAreaLeft" fmla="*/ 100440 w 457200"/>
                      <a:gd name="textAreaRight" fmla="*/ 356760 w 457200"/>
                      <a:gd name="textAreaTop" fmla="*/ 66960 h 304560"/>
                      <a:gd name="textAreaBottom" fmla="*/ 237600 h 304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V="1" rot="16200000">
                    <a:off x="5202000" y="4371480"/>
                    <a:ext cx="22860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flipV="1">
                    <a:off x="5316480" y="4371840"/>
                    <a:ext cx="0" cy="152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flipV="1" rot="16200000">
                    <a:off x="5276880" y="4332240"/>
                    <a:ext cx="76320" cy="76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V="1" rot="16200000">
                    <a:off x="5276880" y="4483800"/>
                    <a:ext cx="75960" cy="76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V="1">
                    <a:off x="5126040" y="5526000"/>
                    <a:ext cx="380880" cy="5335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V="1" rot="16200000">
                    <a:off x="5202000" y="5260320"/>
                    <a:ext cx="22860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V="1">
                    <a:off x="5316480" y="5260680"/>
                    <a:ext cx="0" cy="152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V="1" rot="16200000">
                    <a:off x="5276880" y="5220360"/>
                    <a:ext cx="75960" cy="76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V="1" rot="16200000">
                    <a:off x="5276880" y="5373720"/>
                    <a:ext cx="76320" cy="76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7" name=""/>
                <p:cNvGrpSpPr/>
                <p:nvPr/>
              </p:nvGrpSpPr>
              <p:grpSpPr>
                <a:xfrm>
                  <a:off x="5688000" y="4333680"/>
                  <a:ext cx="457200" cy="1726560"/>
                  <a:chOff x="5688000" y="4333680"/>
                  <a:chExt cx="457200" cy="172656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>
                    <a:off x="5916600" y="4460760"/>
                    <a:ext cx="0" cy="129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5688000" y="4765680"/>
                    <a:ext cx="457200" cy="304200"/>
                  </a:xfrm>
                  <a:custGeom>
                    <a:avLst/>
                    <a:gdLst>
                      <a:gd name="textAreaLeft" fmla="*/ 100440 w 457200"/>
                      <a:gd name="textAreaRight" fmla="*/ 356760 w 457200"/>
                      <a:gd name="textAreaTop" fmla="*/ 66960 h 304200"/>
                      <a:gd name="textAreaBottom" fmla="*/ 237240 h 304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flipV="1" rot="16200000">
                    <a:off x="5802120" y="4373280"/>
                    <a:ext cx="22824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flipV="1">
                    <a:off x="5916600" y="4372920"/>
                    <a:ext cx="0" cy="152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V="1" rot="16200000">
                    <a:off x="5877000" y="4332960"/>
                    <a:ext cx="75960" cy="76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flipV="1" rot="16200000">
                    <a:off x="5877360" y="4485960"/>
                    <a:ext cx="75600" cy="76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V="1">
                    <a:off x="5726160" y="5526720"/>
                    <a:ext cx="380880" cy="5331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V="1" rot="16200000">
                    <a:off x="5802120" y="5262120"/>
                    <a:ext cx="22824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flipV="1">
                    <a:off x="5916600" y="5262480"/>
                    <a:ext cx="0" cy="151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V="1" rot="16200000">
                    <a:off x="5877360" y="5222520"/>
                    <a:ext cx="75600" cy="76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flipV="1" rot="16200000">
                    <a:off x="5877000" y="5374080"/>
                    <a:ext cx="75960" cy="76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9" name=""/>
                <p:cNvGrpSpPr/>
                <p:nvPr/>
              </p:nvGrpSpPr>
              <p:grpSpPr>
                <a:xfrm>
                  <a:off x="5389560" y="2076480"/>
                  <a:ext cx="457200" cy="2071800"/>
                  <a:chOff x="5389560" y="2076480"/>
                  <a:chExt cx="457200" cy="207180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>
                    <a:off x="5618160" y="2190960"/>
                    <a:ext cx="0" cy="1957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H="1">
                    <a:off x="5389560" y="2495520"/>
                    <a:ext cx="457200" cy="304920"/>
                  </a:xfrm>
                  <a:custGeom>
                    <a:avLst/>
                    <a:gdLst>
                      <a:gd name="textAreaLeft" fmla="*/ 100440 w 457200"/>
                      <a:gd name="textAreaRight" fmla="*/ 356760 w 457200"/>
                      <a:gd name="textAreaTop" fmla="*/ 66960 h 304920"/>
                      <a:gd name="textAreaBottom" fmla="*/ 237960 h 304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flipH="1" flipV="1" rot="5400000">
                    <a:off x="5503680" y="2115360"/>
                    <a:ext cx="22860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V="1">
                    <a:off x="5618160" y="2116080"/>
                    <a:ext cx="0" cy="152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flipH="1" flipV="1" rot="5400000">
                    <a:off x="5580000" y="2076480"/>
                    <a:ext cx="76320" cy="76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H="1" flipV="1" rot="5400000">
                    <a:off x="5580000" y="2228040"/>
                    <a:ext cx="75960" cy="76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V="1">
                    <a:off x="5427720" y="3271320"/>
                    <a:ext cx="380880" cy="5331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V="1" rot="16200000">
                    <a:off x="5503680" y="2999520"/>
                    <a:ext cx="22860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flipV="1">
                    <a:off x="5618160" y="3000240"/>
                    <a:ext cx="0" cy="152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V="1" rot="16200000">
                    <a:off x="5580000" y="2960640"/>
                    <a:ext cx="76320" cy="76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V="1" rot="16200000">
                    <a:off x="5580000" y="3112200"/>
                    <a:ext cx="75960" cy="76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41" name=""/>
                  <p:cNvGrpSpPr/>
                  <p:nvPr/>
                </p:nvGrpSpPr>
                <p:grpSpPr>
                  <a:xfrm>
                    <a:off x="5541480" y="3901680"/>
                    <a:ext cx="152280" cy="230040"/>
                    <a:chOff x="5541480" y="3901680"/>
                    <a:chExt cx="152280" cy="230040"/>
                  </a:xfrm>
                </p:grpSpPr>
                <p:sp>
                  <p:nvSpPr>
                    <p:cNvPr id="442" name=""/>
                    <p:cNvSpPr/>
                    <p:nvPr/>
                  </p:nvSpPr>
                  <p:spPr>
                    <a:xfrm flipV="1" rot="16200000">
                      <a:off x="5503320" y="3940920"/>
                      <a:ext cx="22860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 flipV="1">
                      <a:off x="5618160" y="3941280"/>
                      <a:ext cx="0" cy="152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flipV="1" rot="16200000">
                      <a:off x="5578200" y="3900960"/>
                      <a:ext cx="75960" cy="76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 flipV="1" rot="16200000">
                      <a:off x="5578200" y="4054320"/>
                      <a:ext cx="76320" cy="76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cxnSp>
              <p:nvCxnSpPr>
                <p:cNvPr id="446" name=""/>
                <p:cNvCxnSpPr>
                  <a:stCxn id="445" idx="2"/>
                  <a:endCxn id="410" idx="6"/>
                </p:cNvCxnSpPr>
                <p:nvPr/>
              </p:nvCxnSpPr>
              <p:spPr>
                <a:xfrm flipH="1">
                  <a:off x="5312880" y="4130640"/>
                  <a:ext cx="302400" cy="202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47" name=""/>
                <p:cNvCxnSpPr>
                  <a:stCxn id="445" idx="2"/>
                  <a:endCxn id="422" idx="6"/>
                </p:cNvCxnSpPr>
                <p:nvPr/>
              </p:nvCxnSpPr>
              <p:spPr>
                <a:xfrm>
                  <a:off x="5614560" y="4130280"/>
                  <a:ext cx="299160" cy="2041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448" name=""/>
              <p:cNvSpPr/>
              <p:nvPr/>
            </p:nvSpPr>
            <p:spPr>
              <a:xfrm>
                <a:off x="3857400" y="4118040"/>
                <a:ext cx="1326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tection Matri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3336840" y="5222880"/>
              <a:ext cx="1690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S signaling and server layer moni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Outline 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8084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 of Recovery, Protection and Resto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s of client connection unavail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Network Prot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work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ASON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U-T Recommend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4 fiber MS-SPR example - Span switch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196920" y="2212920"/>
            <a:ext cx="7574400" cy="3895920"/>
            <a:chOff x="196920" y="2212920"/>
            <a:chExt cx="7574400" cy="3895920"/>
          </a:xfrm>
        </p:grpSpPr>
        <p:grpSp>
          <p:nvGrpSpPr>
            <p:cNvPr id="452" name=""/>
            <p:cNvGrpSpPr/>
            <p:nvPr/>
          </p:nvGrpSpPr>
          <p:grpSpPr>
            <a:xfrm>
              <a:off x="1098000" y="2212920"/>
              <a:ext cx="6673320" cy="3068640"/>
              <a:chOff x="1098000" y="2212920"/>
              <a:chExt cx="6673320" cy="3068640"/>
            </a:xfrm>
          </p:grpSpPr>
          <p:sp>
            <p:nvSpPr>
              <p:cNvPr id="453" name=""/>
              <p:cNvSpPr/>
              <p:nvPr/>
            </p:nvSpPr>
            <p:spPr>
              <a:xfrm>
                <a:off x="1766880" y="2481120"/>
                <a:ext cx="5532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768320" y="2770200"/>
                <a:ext cx="5532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736640" y="4746600"/>
                <a:ext cx="5532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738440" y="5035680"/>
                <a:ext cx="5532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1370160" y="2709720"/>
                <a:ext cx="0" cy="228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1658880" y="2709720"/>
                <a:ext cx="0" cy="228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7186680" y="2725560"/>
                <a:ext cx="0" cy="228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7475400" y="2725560"/>
                <a:ext cx="0" cy="228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127160" y="2236680"/>
                <a:ext cx="777960" cy="777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065400" y="2236680"/>
                <a:ext cx="777960" cy="777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03640" y="2236680"/>
                <a:ext cx="777960" cy="777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035600" y="4503600"/>
                <a:ext cx="777600" cy="777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127160" y="4502160"/>
                <a:ext cx="777960" cy="777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943680" y="4503600"/>
                <a:ext cx="777960" cy="777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942240" y="2236680"/>
                <a:ext cx="777600" cy="777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098000" y="22399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227200" y="2460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505280" y="22129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179840" y="49831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290480" y="49975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150560" y="4989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315960" y="24685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196920" y="5530680"/>
              <a:ext cx="1334160" cy="578160"/>
              <a:chOff x="196920" y="5530680"/>
              <a:chExt cx="1334160" cy="578160"/>
            </a:xfrm>
          </p:grpSpPr>
          <p:sp>
            <p:nvSpPr>
              <p:cNvPr id="476" name=""/>
              <p:cNvSpPr/>
              <p:nvPr/>
            </p:nvSpPr>
            <p:spPr>
              <a:xfrm>
                <a:off x="196920" y="5668920"/>
                <a:ext cx="480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96920" y="5969160"/>
                <a:ext cx="480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61680" y="5530680"/>
                <a:ext cx="869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te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62400" y="5832360"/>
                <a:ext cx="740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ork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0" name=""/>
          <p:cNvGrpSpPr/>
          <p:nvPr/>
        </p:nvGrpSpPr>
        <p:grpSpPr>
          <a:xfrm>
            <a:off x="538200" y="1863720"/>
            <a:ext cx="5043600" cy="3943440"/>
            <a:chOff x="538200" y="1863720"/>
            <a:chExt cx="5043600" cy="3943440"/>
          </a:xfrm>
        </p:grpSpPr>
        <p:sp>
          <p:nvSpPr>
            <p:cNvPr id="481" name=""/>
            <p:cNvSpPr/>
            <p:nvPr/>
          </p:nvSpPr>
          <p:spPr>
            <a:xfrm>
              <a:off x="2052720" y="5530680"/>
              <a:ext cx="352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nection between nodes 2 &amp; 6 on timeslot 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606680" y="5667480"/>
              <a:ext cx="43488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38200" y="1863720"/>
              <a:ext cx="4618080" cy="2971800"/>
            </a:xfrm>
            <a:custGeom>
              <a:avLst/>
              <a:gdLst/>
              <a:ahLst/>
              <a:rect l="l" t="t" r="r" b="b"/>
              <a:pathLst>
                <a:path w="2909" h="1872">
                  <a:moveTo>
                    <a:pt x="0" y="1872"/>
                  </a:moveTo>
                  <a:lnTo>
                    <a:pt x="504" y="1872"/>
                  </a:lnTo>
                  <a:lnTo>
                    <a:pt x="504" y="374"/>
                  </a:lnTo>
                  <a:lnTo>
                    <a:pt x="2909" y="374"/>
                  </a:lnTo>
                  <a:lnTo>
                    <a:pt x="2909" y="0"/>
                  </a:lnTo>
                </a:path>
              </a:pathLst>
            </a:custGeom>
            <a:noFill/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1608120" y="1805040"/>
            <a:ext cx="6713640" cy="4302360"/>
            <a:chOff x="1608120" y="1805040"/>
            <a:chExt cx="6713640" cy="4302360"/>
          </a:xfrm>
        </p:grpSpPr>
        <p:sp>
          <p:nvSpPr>
            <p:cNvPr id="485" name=""/>
            <p:cNvSpPr/>
            <p:nvPr/>
          </p:nvSpPr>
          <p:spPr>
            <a:xfrm>
              <a:off x="2054160" y="5830920"/>
              <a:ext cx="352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nection between nodes 2 &amp; 4 on timeslot 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608120" y="5969160"/>
              <a:ext cx="434880" cy="0"/>
            </a:xfrm>
            <a:prstGeom prst="line">
              <a:avLst/>
            </a:prstGeom>
            <a:ln w="190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464080" y="1805040"/>
              <a:ext cx="2857680" cy="2994120"/>
            </a:xfrm>
            <a:custGeom>
              <a:avLst/>
              <a:gdLst/>
              <a:ahLst/>
              <a:rect l="l" t="t" r="r" b="b"/>
              <a:pathLst>
                <a:path w="1800" h="1886">
                  <a:moveTo>
                    <a:pt x="1800" y="1886"/>
                  </a:moveTo>
                  <a:cubicBezTo>
                    <a:pt x="1632" y="1886"/>
                    <a:pt x="1464" y="1886"/>
                    <a:pt x="1296" y="1886"/>
                  </a:cubicBezTo>
                  <a:lnTo>
                    <a:pt x="1296" y="403"/>
                  </a:lnTo>
                  <a:lnTo>
                    <a:pt x="0" y="40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2133720" y="2241720"/>
            <a:ext cx="503280" cy="318960"/>
          </a:xfrm>
          <a:prstGeom prst="lightningBol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736640" y="2422440"/>
            <a:ext cx="1417680" cy="389160"/>
          </a:xfrm>
          <a:custGeom>
            <a:avLst/>
            <a:gdLst/>
            <a:ahLst/>
            <a:rect l="l" t="t" r="r" b="b"/>
            <a:pathLst>
              <a:path w="893" h="245">
                <a:moveTo>
                  <a:pt x="0" y="15"/>
                </a:moveTo>
                <a:lnTo>
                  <a:pt x="101" y="245"/>
                </a:lnTo>
                <a:lnTo>
                  <a:pt x="836" y="245"/>
                </a:lnTo>
                <a:lnTo>
                  <a:pt x="893" y="0"/>
                </a:ln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4 fiber MS-SPR example - Ring switch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96920" y="1805040"/>
            <a:ext cx="8124840" cy="4303800"/>
            <a:chOff x="196920" y="1805040"/>
            <a:chExt cx="8124840" cy="4303800"/>
          </a:xfrm>
        </p:grpSpPr>
        <p:grpSp>
          <p:nvGrpSpPr>
            <p:cNvPr id="492" name=""/>
            <p:cNvGrpSpPr/>
            <p:nvPr/>
          </p:nvGrpSpPr>
          <p:grpSpPr>
            <a:xfrm>
              <a:off x="196920" y="2212920"/>
              <a:ext cx="7574400" cy="3895920"/>
              <a:chOff x="196920" y="2212920"/>
              <a:chExt cx="7574400" cy="389592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1098000" y="2212920"/>
                <a:ext cx="6673320" cy="3068640"/>
                <a:chOff x="1098000" y="2212920"/>
                <a:chExt cx="6673320" cy="306864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1766880" y="2481120"/>
                  <a:ext cx="5532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768320" y="2770200"/>
                  <a:ext cx="5532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1736640" y="4746600"/>
                  <a:ext cx="5532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1738440" y="5035680"/>
                  <a:ext cx="5532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V="1">
                  <a:off x="1370160" y="2709720"/>
                  <a:ext cx="0" cy="228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V="1">
                  <a:off x="1658880" y="2709720"/>
                  <a:ext cx="0" cy="228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V="1">
                  <a:off x="7186680" y="2725560"/>
                  <a:ext cx="0" cy="228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V="1">
                  <a:off x="7475400" y="2725560"/>
                  <a:ext cx="0" cy="228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1127160" y="2236680"/>
                  <a:ext cx="777960" cy="777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065400" y="2236680"/>
                  <a:ext cx="777960" cy="777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003640" y="2236680"/>
                  <a:ext cx="777960" cy="777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4035600" y="4503600"/>
                  <a:ext cx="777600" cy="777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1127160" y="4502160"/>
                  <a:ext cx="777960" cy="777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943680" y="4503600"/>
                  <a:ext cx="777960" cy="777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942240" y="2236680"/>
                  <a:ext cx="777600" cy="777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1098000" y="223992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5227200" y="246060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505280" y="221292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179840" y="498312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4290480" y="499752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150560" y="498960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315960" y="246852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196920" y="5530680"/>
                <a:ext cx="1334160" cy="578160"/>
                <a:chOff x="196920" y="5530680"/>
                <a:chExt cx="1334160" cy="5781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196920" y="5668920"/>
                  <a:ext cx="480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196920" y="5969160"/>
                  <a:ext cx="480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61680" y="5530680"/>
                  <a:ext cx="8694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rotec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62400" y="5832360"/>
                  <a:ext cx="740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Work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1" name=""/>
            <p:cNvGrpSpPr/>
            <p:nvPr/>
          </p:nvGrpSpPr>
          <p:grpSpPr>
            <a:xfrm>
              <a:off x="538200" y="1805040"/>
              <a:ext cx="7783560" cy="4302360"/>
              <a:chOff x="538200" y="1805040"/>
              <a:chExt cx="7783560" cy="4302360"/>
            </a:xfrm>
          </p:grpSpPr>
          <p:grpSp>
            <p:nvGrpSpPr>
              <p:cNvPr id="522" name=""/>
              <p:cNvGrpSpPr/>
              <p:nvPr/>
            </p:nvGrpSpPr>
            <p:grpSpPr>
              <a:xfrm>
                <a:off x="1606680" y="5530680"/>
                <a:ext cx="3976560" cy="576720"/>
                <a:chOff x="1606680" y="5530680"/>
                <a:chExt cx="3976560" cy="57672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2052720" y="5530680"/>
                  <a:ext cx="35290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nnection between nodes 2 &amp; 6 on timeslot 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054160" y="5830920"/>
                  <a:ext cx="35290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nnection between nodes 2 &amp; 4 on timeslot 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1606680" y="5667480"/>
                  <a:ext cx="434880" cy="0"/>
                </a:xfrm>
                <a:prstGeom prst="line">
                  <a:avLst/>
                </a:prstGeom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1608120" y="5969160"/>
                  <a:ext cx="434880" cy="0"/>
                </a:xfrm>
                <a:prstGeom prst="line">
                  <a:avLst/>
                </a:prstGeom>
                <a:ln w="1908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538200" y="1805040"/>
                <a:ext cx="7783560" cy="3030480"/>
                <a:chOff x="538200" y="1805040"/>
                <a:chExt cx="7783560" cy="303048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538200" y="1863720"/>
                  <a:ext cx="4618080" cy="2971800"/>
                </a:xfrm>
                <a:custGeom>
                  <a:avLst/>
                  <a:gdLst/>
                  <a:ahLst/>
                  <a:rect l="l" t="t" r="r" b="b"/>
                  <a:pathLst>
                    <a:path w="2909" h="1872">
                      <a:moveTo>
                        <a:pt x="0" y="1872"/>
                      </a:moveTo>
                      <a:lnTo>
                        <a:pt x="504" y="1872"/>
                      </a:lnTo>
                      <a:lnTo>
                        <a:pt x="504" y="374"/>
                      </a:lnTo>
                      <a:lnTo>
                        <a:pt x="2909" y="374"/>
                      </a:lnTo>
                      <a:lnTo>
                        <a:pt x="2909" y="0"/>
                      </a:lnTo>
                    </a:path>
                  </a:pathLst>
                </a:custGeom>
                <a:noFill/>
                <a:ln w="1908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5464080" y="1805040"/>
                  <a:ext cx="2857680" cy="2994120"/>
                </a:xfrm>
                <a:custGeom>
                  <a:avLst/>
                  <a:gdLst/>
                  <a:ahLst/>
                  <a:rect l="l" t="t" r="r" b="b"/>
                  <a:pathLst>
                    <a:path w="1800" h="1886">
                      <a:moveTo>
                        <a:pt x="1800" y="1886"/>
                      </a:moveTo>
                      <a:cubicBezTo>
                        <a:pt x="1632" y="1886"/>
                        <a:pt x="1464" y="1886"/>
                        <a:pt x="1296" y="1886"/>
                      </a:cubicBezTo>
                      <a:lnTo>
                        <a:pt x="1296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30" name=""/>
          <p:cNvSpPr/>
          <p:nvPr/>
        </p:nvSpPr>
        <p:spPr>
          <a:xfrm>
            <a:off x="2066760" y="2125800"/>
            <a:ext cx="800280" cy="730080"/>
          </a:xfrm>
          <a:prstGeom prst="lightningBol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714680" y="2468520"/>
            <a:ext cx="5418000" cy="2239920"/>
          </a:xfrm>
          <a:custGeom>
            <a:avLst/>
            <a:gdLst/>
            <a:ahLst/>
            <a:rect l="l" t="t" r="r" b="b"/>
            <a:pathLst>
              <a:path w="3413" h="1411">
                <a:moveTo>
                  <a:pt x="893" y="0"/>
                </a:moveTo>
                <a:lnTo>
                  <a:pt x="893" y="216"/>
                </a:lnTo>
                <a:lnTo>
                  <a:pt x="3413" y="216"/>
                </a:lnTo>
                <a:lnTo>
                  <a:pt x="3413" y="1411"/>
                </a:lnTo>
                <a:lnTo>
                  <a:pt x="0" y="1411"/>
                </a:lnTo>
                <a:lnTo>
                  <a:pt x="0" y="216"/>
                </a:lnTo>
                <a:lnTo>
                  <a:pt x="101" y="216"/>
                </a:lnTo>
                <a:lnTo>
                  <a:pt x="101" y="0"/>
                </a:ln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06400" y="609120"/>
            <a:ext cx="80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4 fiber MS-SPR example - Node failur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96920" y="2212920"/>
            <a:ext cx="7574400" cy="3895920"/>
            <a:chOff x="196920" y="2212920"/>
            <a:chExt cx="7574400" cy="3895920"/>
          </a:xfrm>
        </p:grpSpPr>
        <p:grpSp>
          <p:nvGrpSpPr>
            <p:cNvPr id="534" name=""/>
            <p:cNvGrpSpPr/>
            <p:nvPr/>
          </p:nvGrpSpPr>
          <p:grpSpPr>
            <a:xfrm>
              <a:off x="1098000" y="2212920"/>
              <a:ext cx="6673320" cy="3068640"/>
              <a:chOff x="1098000" y="2212920"/>
              <a:chExt cx="6673320" cy="3068640"/>
            </a:xfrm>
          </p:grpSpPr>
          <p:sp>
            <p:nvSpPr>
              <p:cNvPr id="535" name=""/>
              <p:cNvSpPr/>
              <p:nvPr/>
            </p:nvSpPr>
            <p:spPr>
              <a:xfrm>
                <a:off x="1766880" y="2481120"/>
                <a:ext cx="5532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768320" y="2770200"/>
                <a:ext cx="5532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736640" y="4746600"/>
                <a:ext cx="5532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738440" y="5035680"/>
                <a:ext cx="5532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1370160" y="2709720"/>
                <a:ext cx="0" cy="228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1658880" y="2709720"/>
                <a:ext cx="0" cy="228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7186680" y="2725560"/>
                <a:ext cx="0" cy="228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7475400" y="2725560"/>
                <a:ext cx="0" cy="228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127160" y="2236680"/>
                <a:ext cx="777960" cy="777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065400" y="2236680"/>
                <a:ext cx="777960" cy="777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003640" y="2236680"/>
                <a:ext cx="777960" cy="777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035600" y="4503600"/>
                <a:ext cx="777600" cy="777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127160" y="4502160"/>
                <a:ext cx="777960" cy="777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943680" y="4503600"/>
                <a:ext cx="777960" cy="777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942240" y="2236680"/>
                <a:ext cx="777600" cy="777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098000" y="22399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227200" y="2460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505280" y="22129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179840" y="49831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290480" y="49975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150560" y="4989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315960" y="24685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196920" y="5530680"/>
              <a:ext cx="1334160" cy="578160"/>
              <a:chOff x="196920" y="5530680"/>
              <a:chExt cx="1334160" cy="578160"/>
            </a:xfrm>
          </p:grpSpPr>
          <p:sp>
            <p:nvSpPr>
              <p:cNvPr id="558" name=""/>
              <p:cNvSpPr/>
              <p:nvPr/>
            </p:nvSpPr>
            <p:spPr>
              <a:xfrm>
                <a:off x="196920" y="5668920"/>
                <a:ext cx="480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96920" y="5969160"/>
                <a:ext cx="480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61680" y="5530680"/>
                <a:ext cx="869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te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62400" y="5832360"/>
                <a:ext cx="740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ork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2" name=""/>
          <p:cNvGrpSpPr/>
          <p:nvPr/>
        </p:nvGrpSpPr>
        <p:grpSpPr>
          <a:xfrm>
            <a:off x="538200" y="1805040"/>
            <a:ext cx="8243640" cy="4302360"/>
            <a:chOff x="538200" y="1805040"/>
            <a:chExt cx="8243640" cy="4302360"/>
          </a:xfrm>
        </p:grpSpPr>
        <p:grpSp>
          <p:nvGrpSpPr>
            <p:cNvPr id="563" name=""/>
            <p:cNvGrpSpPr/>
            <p:nvPr/>
          </p:nvGrpSpPr>
          <p:grpSpPr>
            <a:xfrm>
              <a:off x="4805280" y="5530680"/>
              <a:ext cx="3976560" cy="576720"/>
              <a:chOff x="4805280" y="5530680"/>
              <a:chExt cx="3976560" cy="576720"/>
            </a:xfrm>
          </p:grpSpPr>
          <p:sp>
            <p:nvSpPr>
              <p:cNvPr id="564" name=""/>
              <p:cNvSpPr/>
              <p:nvPr/>
            </p:nvSpPr>
            <p:spPr>
              <a:xfrm>
                <a:off x="5251320" y="5530680"/>
                <a:ext cx="3529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nnection between nodes 2 &amp; 6 on timeslot 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252760" y="5830920"/>
                <a:ext cx="3529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nnection between nodes 2 &amp; 4 on timeslot 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805280" y="5667480"/>
                <a:ext cx="434880" cy="0"/>
              </a:xfrm>
              <a:prstGeom prst="line">
                <a:avLst/>
              </a:prstGeom>
              <a:ln w="190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806720" y="5969160"/>
                <a:ext cx="434880" cy="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538200" y="1805040"/>
              <a:ext cx="7783560" cy="3030480"/>
              <a:chOff x="538200" y="1805040"/>
              <a:chExt cx="7783560" cy="3030480"/>
            </a:xfrm>
          </p:grpSpPr>
          <p:sp>
            <p:nvSpPr>
              <p:cNvPr id="569" name=""/>
              <p:cNvSpPr/>
              <p:nvPr/>
            </p:nvSpPr>
            <p:spPr>
              <a:xfrm>
                <a:off x="538200" y="1863720"/>
                <a:ext cx="4618080" cy="2971800"/>
              </a:xfrm>
              <a:custGeom>
                <a:avLst/>
                <a:gdLst/>
                <a:ahLst/>
                <a:rect l="l" t="t" r="r" b="b"/>
                <a:pathLst>
                  <a:path w="2909" h="1872">
                    <a:moveTo>
                      <a:pt x="0" y="1872"/>
                    </a:moveTo>
                    <a:lnTo>
                      <a:pt x="504" y="1872"/>
                    </a:lnTo>
                    <a:lnTo>
                      <a:pt x="504" y="374"/>
                    </a:lnTo>
                    <a:lnTo>
                      <a:pt x="2909" y="374"/>
                    </a:lnTo>
                    <a:lnTo>
                      <a:pt x="2909" y="0"/>
                    </a:lnTo>
                  </a:path>
                </a:pathLst>
              </a:custGeom>
              <a:noFill/>
              <a:ln w="1908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464080" y="1805040"/>
                <a:ext cx="2857680" cy="2994120"/>
              </a:xfrm>
              <a:custGeom>
                <a:avLst/>
                <a:gdLst/>
                <a:ahLst/>
                <a:rect l="l" t="t" r="r" b="b"/>
                <a:pathLst>
                  <a:path w="1800" h="1886">
                    <a:moveTo>
                      <a:pt x="1800" y="1886"/>
                    </a:moveTo>
                    <a:cubicBezTo>
                      <a:pt x="1632" y="1886"/>
                      <a:pt x="1464" y="1886"/>
                      <a:pt x="1296" y="1886"/>
                    </a:cubicBezTo>
                    <a:lnTo>
                      <a:pt x="1296" y="403"/>
                    </a:lnTo>
                    <a:lnTo>
                      <a:pt x="0" y="403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1" name=""/>
          <p:cNvSpPr/>
          <p:nvPr/>
        </p:nvSpPr>
        <p:spPr>
          <a:xfrm>
            <a:off x="1714680" y="2514600"/>
            <a:ext cx="5394240" cy="2149560"/>
          </a:xfrm>
          <a:custGeom>
            <a:avLst/>
            <a:gdLst/>
            <a:ahLst/>
            <a:rect l="l" t="t" r="r" b="b"/>
            <a:pathLst>
              <a:path w="3398" h="1354">
                <a:moveTo>
                  <a:pt x="3341" y="0"/>
                </a:moveTo>
                <a:lnTo>
                  <a:pt x="3341" y="187"/>
                </a:lnTo>
                <a:lnTo>
                  <a:pt x="3398" y="187"/>
                </a:lnTo>
                <a:lnTo>
                  <a:pt x="3398" y="1354"/>
                </a:lnTo>
                <a:lnTo>
                  <a:pt x="0" y="1354"/>
                </a:lnTo>
                <a:lnTo>
                  <a:pt x="0" y="187"/>
                </a:lnTo>
                <a:lnTo>
                  <a:pt x="1325" y="187"/>
                </a:lnTo>
                <a:lnTo>
                  <a:pt x="1325" y="0"/>
                </a:lnTo>
              </a:path>
            </a:pathLst>
          </a:custGeom>
          <a:noFill/>
          <a:ln w="1908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1577880" y="2422440"/>
            <a:ext cx="5668920" cy="2355840"/>
            <a:chOff x="1577880" y="2422440"/>
            <a:chExt cx="5668920" cy="2355840"/>
          </a:xfrm>
        </p:grpSpPr>
        <p:sp>
          <p:nvSpPr>
            <p:cNvPr id="573" name=""/>
            <p:cNvSpPr/>
            <p:nvPr/>
          </p:nvSpPr>
          <p:spPr>
            <a:xfrm>
              <a:off x="1577880" y="2422440"/>
              <a:ext cx="5668920" cy="2355840"/>
            </a:xfrm>
            <a:custGeom>
              <a:avLst/>
              <a:gdLst/>
              <a:ahLst/>
              <a:rect l="l" t="t" r="r" b="b"/>
              <a:pathLst>
                <a:path w="3571" h="1484">
                  <a:moveTo>
                    <a:pt x="1368" y="15"/>
                  </a:moveTo>
                  <a:lnTo>
                    <a:pt x="1368" y="188"/>
                  </a:lnTo>
                  <a:lnTo>
                    <a:pt x="0" y="188"/>
                  </a:lnTo>
                  <a:lnTo>
                    <a:pt x="0" y="1484"/>
                  </a:lnTo>
                  <a:lnTo>
                    <a:pt x="3571" y="1484"/>
                  </a:lnTo>
                  <a:lnTo>
                    <a:pt x="3571" y="188"/>
                  </a:lnTo>
                  <a:lnTo>
                    <a:pt x="3456" y="188"/>
                  </a:lnTo>
                  <a:lnTo>
                    <a:pt x="345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560320" y="3174840"/>
              <a:ext cx="32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00"/>
                  </a:solidFill>
                  <a:latin typeface="Arial"/>
                </a:rPr>
                <a:t>Traffic misconnected between nodes 4 &amp;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3016080" y="3519360"/>
            <a:ext cx="3494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ng node maps and Connection tables allow Nodes 3 &amp; 7 to squelch the traffic on timeslot 9 thus preventing the mis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525600" y="2525760"/>
            <a:ext cx="7635600" cy="3297600"/>
            <a:chOff x="525600" y="2525760"/>
            <a:chExt cx="7635600" cy="3297600"/>
          </a:xfrm>
        </p:grpSpPr>
        <p:sp>
          <p:nvSpPr>
            <p:cNvPr id="577" name=""/>
            <p:cNvSpPr/>
            <p:nvPr/>
          </p:nvSpPr>
          <p:spPr>
            <a:xfrm flipH="1">
              <a:off x="525600" y="2525760"/>
              <a:ext cx="7635600" cy="144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143080" y="5546880"/>
              <a:ext cx="352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nection between nodes 1 &amp;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697040" y="5683320"/>
              <a:ext cx="434880" cy="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4970520" y="2035080"/>
            <a:ext cx="799920" cy="1187640"/>
          </a:xfrm>
          <a:prstGeom prst="lightningBol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06400" y="60912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Establishing client connection across a region using protected trails (link connections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Arial"/>
              </a:rPr>
              <a:t>Note that the equipment must be configured to support the protection mechan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e.g. provision ring node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and activate the protected link conn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pdate all NEs involved in the protection mechan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update connection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Interlayer interworking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failure events may cause multiple protection switch ev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itigated by using hold off timers in the client layer to allow the server layer to complete any recovery action before client layer initiates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se of protection in multiple layers requires careful consid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use of protected link connections (in the server layer) for connections that use SNC-P in the client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weigh the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improvement in client connection availabil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st the 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cost of additional network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Intra layer interworking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s a large network to be segmented into a number of independent reg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s network availability by providing independent recovery resources in each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different recovery mechanisms within and between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example an end to end client connection could use, SNC-P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-SPR and Mesh restoration in different region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independent maintenance or engineering activities in different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326880" y="4662360"/>
            <a:ext cx="8551800" cy="1812960"/>
            <a:chOff x="326880" y="4662360"/>
            <a:chExt cx="8551800" cy="1812960"/>
          </a:xfrm>
        </p:grpSpPr>
        <p:pic>
          <p:nvPicPr>
            <p:cNvPr id="588" name="" descr=""/>
            <p:cNvPicPr/>
            <p:nvPr/>
          </p:nvPicPr>
          <p:blipFill>
            <a:blip r:embed="rId1"/>
            <a:stretch/>
          </p:blipFill>
          <p:spPr>
            <a:xfrm>
              <a:off x="8116920" y="5364000"/>
              <a:ext cx="76176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2"/>
            <a:stretch/>
          </p:blipFill>
          <p:spPr>
            <a:xfrm>
              <a:off x="326880" y="5364000"/>
              <a:ext cx="76212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Big_Cloud" descr=""/>
            <p:cNvPicPr/>
            <p:nvPr/>
          </p:nvPicPr>
          <p:blipFill>
            <a:blip r:embed="rId3"/>
            <a:stretch/>
          </p:blipFill>
          <p:spPr>
            <a:xfrm>
              <a:off x="1008000" y="4662360"/>
              <a:ext cx="7173720" cy="181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1074600" y="5388120"/>
              <a:ext cx="79992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315200" y="5388120"/>
              <a:ext cx="79992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3" name=""/>
            <p:cNvCxnSpPr>
              <a:stCxn id="591" idx="6"/>
              <a:endCxn id="591" idx="2"/>
            </p:cNvCxnSpPr>
            <p:nvPr/>
          </p:nvCxnSpPr>
          <p:spPr>
            <a:xfrm flipH="1">
              <a:off x="1074240" y="5616360"/>
              <a:ext cx="8006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594" name=""/>
            <p:cNvCxnSpPr>
              <a:stCxn id="592" idx="6"/>
              <a:endCxn id="592" idx="2"/>
            </p:cNvCxnSpPr>
            <p:nvPr/>
          </p:nvCxnSpPr>
          <p:spPr>
            <a:xfrm flipH="1">
              <a:off x="7314840" y="5616360"/>
              <a:ext cx="8006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</p:cxnSp>
        <p:sp>
          <p:nvSpPr>
            <p:cNvPr id="595" name=""/>
            <p:cNvSpPr/>
            <p:nvPr/>
          </p:nvSpPr>
          <p:spPr>
            <a:xfrm>
              <a:off x="1898640" y="5135400"/>
              <a:ext cx="2628720" cy="484200"/>
            </a:xfrm>
            <a:custGeom>
              <a:avLst/>
              <a:gdLst/>
              <a:ahLst/>
              <a:rect l="l" t="t" r="r" b="b"/>
              <a:pathLst>
                <a:path w="3456" h="420">
                  <a:moveTo>
                    <a:pt x="0" y="405"/>
                  </a:moveTo>
                  <a:cubicBezTo>
                    <a:pt x="561" y="202"/>
                    <a:pt x="1123" y="0"/>
                    <a:pt x="1699" y="2"/>
                  </a:cubicBezTo>
                  <a:cubicBezTo>
                    <a:pt x="2275" y="4"/>
                    <a:pt x="3166" y="353"/>
                    <a:pt x="3456" y="42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4537080" y="5601600"/>
              <a:ext cx="2788920" cy="484200"/>
            </a:xfrm>
            <a:custGeom>
              <a:avLst/>
              <a:gdLst/>
              <a:ahLst/>
              <a:rect l="l" t="t" r="r" b="b"/>
              <a:pathLst>
                <a:path w="3456" h="420">
                  <a:moveTo>
                    <a:pt x="0" y="405"/>
                  </a:moveTo>
                  <a:cubicBezTo>
                    <a:pt x="561" y="202"/>
                    <a:pt x="1123" y="0"/>
                    <a:pt x="1699" y="2"/>
                  </a:cubicBezTo>
                  <a:cubicBezTo>
                    <a:pt x="2275" y="4"/>
                    <a:pt x="3166" y="353"/>
                    <a:pt x="3456" y="42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876320" y="5492880"/>
              <a:ext cx="1126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211880" y="5492880"/>
              <a:ext cx="1126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4547880" y="5492160"/>
              <a:ext cx="1130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4425840" y="5492160"/>
              <a:ext cx="1126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565520" y="5127480"/>
              <a:ext cx="2765520" cy="484200"/>
            </a:xfrm>
            <a:custGeom>
              <a:avLst/>
              <a:gdLst/>
              <a:ahLst/>
              <a:rect l="l" t="t" r="r" b="b"/>
              <a:pathLst>
                <a:path w="3456" h="420">
                  <a:moveTo>
                    <a:pt x="0" y="405"/>
                  </a:moveTo>
                  <a:cubicBezTo>
                    <a:pt x="561" y="202"/>
                    <a:pt x="1123" y="0"/>
                    <a:pt x="1699" y="2"/>
                  </a:cubicBezTo>
                  <a:cubicBezTo>
                    <a:pt x="2275" y="4"/>
                    <a:pt x="3166" y="353"/>
                    <a:pt x="3456" y="42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1871640" y="5587200"/>
              <a:ext cx="2674800" cy="484200"/>
            </a:xfrm>
            <a:custGeom>
              <a:avLst/>
              <a:gdLst/>
              <a:ahLst/>
              <a:rect l="l" t="t" r="r" b="b"/>
              <a:pathLst>
                <a:path w="3456" h="420">
                  <a:moveTo>
                    <a:pt x="0" y="405"/>
                  </a:moveTo>
                  <a:cubicBezTo>
                    <a:pt x="561" y="202"/>
                    <a:pt x="1123" y="0"/>
                    <a:pt x="1699" y="2"/>
                  </a:cubicBezTo>
                  <a:cubicBezTo>
                    <a:pt x="2275" y="4"/>
                    <a:pt x="3166" y="353"/>
                    <a:pt x="3456" y="42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otential ASON application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h resto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id redial to reestablish failed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C-P active and standby connection selection and ac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ultra high availability replacement of a failed (active or standby) conn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otential ASON applications (cont’d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sted protection and resto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 provides rapid recovery for most failure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ial provides recovery against failure of the gateway between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324000" y="3484440"/>
            <a:ext cx="8551800" cy="2361960"/>
            <a:chOff x="324000" y="3484440"/>
            <a:chExt cx="8551800" cy="2361960"/>
          </a:xfrm>
        </p:grpSpPr>
        <p:pic>
          <p:nvPicPr>
            <p:cNvPr id="608" name="" descr=""/>
            <p:cNvPicPr/>
            <p:nvPr/>
          </p:nvPicPr>
          <p:blipFill>
            <a:blip r:embed="rId1"/>
            <a:stretch/>
          </p:blipFill>
          <p:spPr>
            <a:xfrm>
              <a:off x="8113680" y="4438440"/>
              <a:ext cx="76212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" descr=""/>
            <p:cNvPicPr/>
            <p:nvPr/>
          </p:nvPicPr>
          <p:blipFill>
            <a:blip r:embed="rId2"/>
            <a:stretch/>
          </p:blipFill>
          <p:spPr>
            <a:xfrm>
              <a:off x="324000" y="4438440"/>
              <a:ext cx="76176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Big_Cloud" descr=""/>
            <p:cNvPicPr/>
            <p:nvPr/>
          </p:nvPicPr>
          <p:blipFill>
            <a:blip r:embed="rId3"/>
            <a:stretch/>
          </p:blipFill>
          <p:spPr>
            <a:xfrm>
              <a:off x="1004760" y="3484440"/>
              <a:ext cx="7174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1071720" y="4484520"/>
              <a:ext cx="79992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311960" y="4484520"/>
              <a:ext cx="80028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3" name=""/>
            <p:cNvCxnSpPr>
              <a:stCxn id="611" idx="6"/>
              <a:endCxn id="611" idx="2"/>
            </p:cNvCxnSpPr>
            <p:nvPr/>
          </p:nvCxnSpPr>
          <p:spPr>
            <a:xfrm flipH="1">
              <a:off x="1071360" y="4712760"/>
              <a:ext cx="8006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614" name=""/>
            <p:cNvCxnSpPr>
              <a:stCxn id="612" idx="6"/>
              <a:endCxn id="612" idx="2"/>
            </p:cNvCxnSpPr>
            <p:nvPr/>
          </p:nvCxnSpPr>
          <p:spPr>
            <a:xfrm flipH="1">
              <a:off x="7311240" y="4712760"/>
              <a:ext cx="8010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</p:cxnSp>
        <p:sp>
          <p:nvSpPr>
            <p:cNvPr id="615" name=""/>
            <p:cNvSpPr/>
            <p:nvPr/>
          </p:nvSpPr>
          <p:spPr>
            <a:xfrm>
              <a:off x="1895400" y="4232160"/>
              <a:ext cx="2629080" cy="484200"/>
            </a:xfrm>
            <a:custGeom>
              <a:avLst/>
              <a:gdLst/>
              <a:ahLst/>
              <a:rect l="l" t="t" r="r" b="b"/>
              <a:pathLst>
                <a:path w="3456" h="420">
                  <a:moveTo>
                    <a:pt x="0" y="405"/>
                  </a:moveTo>
                  <a:cubicBezTo>
                    <a:pt x="561" y="202"/>
                    <a:pt x="1123" y="0"/>
                    <a:pt x="1699" y="2"/>
                  </a:cubicBezTo>
                  <a:cubicBezTo>
                    <a:pt x="2275" y="4"/>
                    <a:pt x="3166" y="353"/>
                    <a:pt x="3456" y="42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73080" y="4589280"/>
              <a:ext cx="1130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4422600" y="4588560"/>
              <a:ext cx="1130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562640" y="4224240"/>
              <a:ext cx="2765160" cy="484200"/>
            </a:xfrm>
            <a:custGeom>
              <a:avLst/>
              <a:gdLst/>
              <a:ahLst/>
              <a:rect l="l" t="t" r="r" b="b"/>
              <a:pathLst>
                <a:path w="3456" h="420">
                  <a:moveTo>
                    <a:pt x="0" y="405"/>
                  </a:moveTo>
                  <a:cubicBezTo>
                    <a:pt x="561" y="202"/>
                    <a:pt x="1123" y="0"/>
                    <a:pt x="1699" y="2"/>
                  </a:cubicBezTo>
                  <a:cubicBezTo>
                    <a:pt x="2275" y="4"/>
                    <a:pt x="3166" y="353"/>
                    <a:pt x="3456" y="42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1868400" y="4683600"/>
              <a:ext cx="2675160" cy="484200"/>
            </a:xfrm>
            <a:custGeom>
              <a:avLst/>
              <a:gdLst/>
              <a:ahLst/>
              <a:rect l="l" t="t" r="r" b="b"/>
              <a:pathLst>
                <a:path w="3456" h="420">
                  <a:moveTo>
                    <a:pt x="0" y="405"/>
                  </a:moveTo>
                  <a:cubicBezTo>
                    <a:pt x="561" y="202"/>
                    <a:pt x="1123" y="0"/>
                    <a:pt x="1699" y="2"/>
                  </a:cubicBezTo>
                  <a:cubicBezTo>
                    <a:pt x="2275" y="4"/>
                    <a:pt x="3166" y="353"/>
                    <a:pt x="3456" y="42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09000" y="4589280"/>
              <a:ext cx="1126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4545000" y="4588560"/>
              <a:ext cx="1126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4533840" y="4698000"/>
              <a:ext cx="2789280" cy="484200"/>
            </a:xfrm>
            <a:custGeom>
              <a:avLst/>
              <a:gdLst/>
              <a:ahLst/>
              <a:rect l="l" t="t" r="r" b="b"/>
              <a:pathLst>
                <a:path w="3456" h="420">
                  <a:moveTo>
                    <a:pt x="0" y="405"/>
                  </a:moveTo>
                  <a:cubicBezTo>
                    <a:pt x="561" y="202"/>
                    <a:pt x="1123" y="0"/>
                    <a:pt x="1699" y="2"/>
                  </a:cubicBezTo>
                  <a:cubicBezTo>
                    <a:pt x="2275" y="4"/>
                    <a:pt x="3166" y="353"/>
                    <a:pt x="3456" y="42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4100400" y="4389480"/>
            <a:ext cx="503280" cy="318960"/>
          </a:xfrm>
          <a:prstGeom prst="lightningBol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992160" y="3495600"/>
            <a:ext cx="7174080" cy="2362320"/>
            <a:chOff x="992160" y="3495600"/>
            <a:chExt cx="7174080" cy="2362320"/>
          </a:xfrm>
        </p:grpSpPr>
        <p:pic>
          <p:nvPicPr>
            <p:cNvPr id="625" name="Big_Cloud" descr=""/>
            <p:cNvPicPr/>
            <p:nvPr/>
          </p:nvPicPr>
          <p:blipFill>
            <a:blip r:embed="rId4"/>
            <a:stretch/>
          </p:blipFill>
          <p:spPr>
            <a:xfrm>
              <a:off x="992160" y="3495600"/>
              <a:ext cx="717408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1058760" y="4495680"/>
              <a:ext cx="80028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99360" y="4495680"/>
              <a:ext cx="80028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8" name=""/>
            <p:cNvCxnSpPr>
              <a:stCxn id="626" idx="6"/>
              <a:endCxn id="626" idx="2"/>
            </p:cNvCxnSpPr>
            <p:nvPr/>
          </p:nvCxnSpPr>
          <p:spPr>
            <a:xfrm flipH="1">
              <a:off x="1058040" y="4723920"/>
              <a:ext cx="8010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629" name=""/>
            <p:cNvCxnSpPr>
              <a:stCxn id="627" idx="6"/>
              <a:endCxn id="627" idx="2"/>
            </p:cNvCxnSpPr>
            <p:nvPr/>
          </p:nvCxnSpPr>
          <p:spPr>
            <a:xfrm flipH="1">
              <a:off x="7298640" y="4723920"/>
              <a:ext cx="8010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</p:cxnSp>
        <p:sp>
          <p:nvSpPr>
            <p:cNvPr id="630" name=""/>
            <p:cNvSpPr/>
            <p:nvPr/>
          </p:nvSpPr>
          <p:spPr>
            <a:xfrm>
              <a:off x="1847880" y="4616640"/>
              <a:ext cx="1126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183440" y="4611600"/>
              <a:ext cx="1126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372200" y="4152960"/>
              <a:ext cx="1126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527720" y="4146480"/>
              <a:ext cx="1126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372200" y="5105520"/>
              <a:ext cx="1126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27720" y="5099040"/>
              <a:ext cx="1126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6" name=""/>
            <p:cNvCxnSpPr>
              <a:stCxn id="632" idx="2"/>
              <a:endCxn id="634" idx="0"/>
            </p:cNvCxnSpPr>
            <p:nvPr/>
          </p:nvCxnSpPr>
          <p:spPr>
            <a:xfrm>
              <a:off x="4428720" y="4381200"/>
              <a:ext cx="1080" cy="7246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37" name=""/>
            <p:cNvCxnSpPr>
              <a:stCxn id="633" idx="2"/>
              <a:endCxn id="635" idx="0"/>
            </p:cNvCxnSpPr>
            <p:nvPr/>
          </p:nvCxnSpPr>
          <p:spPr>
            <a:xfrm>
              <a:off x="4584240" y="4374720"/>
              <a:ext cx="1080" cy="7246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638" name=""/>
            <p:cNvSpPr/>
            <p:nvPr/>
          </p:nvSpPr>
          <p:spPr>
            <a:xfrm>
              <a:off x="1847880" y="4246560"/>
              <a:ext cx="5440320" cy="484200"/>
            </a:xfrm>
            <a:custGeom>
              <a:avLst/>
              <a:gdLst/>
              <a:ahLst/>
              <a:rect l="l" t="t" r="r" b="b"/>
              <a:pathLst>
                <a:path w="3456" h="420">
                  <a:moveTo>
                    <a:pt x="0" y="405"/>
                  </a:moveTo>
                  <a:cubicBezTo>
                    <a:pt x="561" y="202"/>
                    <a:pt x="1123" y="0"/>
                    <a:pt x="1699" y="2"/>
                  </a:cubicBezTo>
                  <a:cubicBezTo>
                    <a:pt x="2275" y="4"/>
                    <a:pt x="3166" y="353"/>
                    <a:pt x="3456" y="42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1851120" y="4616640"/>
              <a:ext cx="5447880" cy="598320"/>
              <a:chOff x="1851120" y="4616640"/>
              <a:chExt cx="5447880" cy="598320"/>
            </a:xfrm>
          </p:grpSpPr>
          <p:sp>
            <p:nvSpPr>
              <p:cNvPr id="640" name=""/>
              <p:cNvSpPr/>
              <p:nvPr/>
            </p:nvSpPr>
            <p:spPr>
              <a:xfrm flipV="1">
                <a:off x="1851120" y="4616280"/>
                <a:ext cx="11304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7185600" y="4620960"/>
                <a:ext cx="1134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V="1">
                <a:off x="1851120" y="4730040"/>
                <a:ext cx="5440320" cy="484200"/>
              </a:xfrm>
              <a:custGeom>
                <a:avLst/>
                <a:gdLst/>
                <a:ahLst/>
                <a:rect l="l" t="t" r="r" b="b"/>
                <a:pathLst>
                  <a:path w="3456" h="420">
                    <a:moveTo>
                      <a:pt x="0" y="405"/>
                    </a:moveTo>
                    <a:cubicBezTo>
                      <a:pt x="561" y="202"/>
                      <a:pt x="1123" y="0"/>
                      <a:pt x="1699" y="2"/>
                    </a:cubicBezTo>
                    <a:cubicBezTo>
                      <a:pt x="2275" y="4"/>
                      <a:pt x="3166" y="353"/>
                      <a:pt x="3456" y="42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3" name=""/>
            <p:cNvSpPr/>
            <p:nvPr/>
          </p:nvSpPr>
          <p:spPr>
            <a:xfrm>
              <a:off x="4113360" y="4011480"/>
              <a:ext cx="503280" cy="319320"/>
            </a:xfrm>
            <a:prstGeom prst="lightningBolt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1000080" y="3489480"/>
            <a:ext cx="7173720" cy="2361960"/>
            <a:chOff x="1000080" y="3489480"/>
            <a:chExt cx="7173720" cy="2361960"/>
          </a:xfrm>
        </p:grpSpPr>
        <p:pic>
          <p:nvPicPr>
            <p:cNvPr id="645" name="Big_Cloud" descr=""/>
            <p:cNvPicPr/>
            <p:nvPr/>
          </p:nvPicPr>
          <p:blipFill>
            <a:blip r:embed="rId5"/>
            <a:stretch/>
          </p:blipFill>
          <p:spPr>
            <a:xfrm>
              <a:off x="1000080" y="3489480"/>
              <a:ext cx="717372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"/>
            <p:cNvSpPr/>
            <p:nvPr/>
          </p:nvSpPr>
          <p:spPr>
            <a:xfrm>
              <a:off x="1066680" y="4489560"/>
              <a:ext cx="799920" cy="456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307280" y="4489560"/>
              <a:ext cx="799920" cy="456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8" name=""/>
            <p:cNvCxnSpPr>
              <a:stCxn id="646" idx="6"/>
              <a:endCxn id="646" idx="2"/>
            </p:cNvCxnSpPr>
            <p:nvPr/>
          </p:nvCxnSpPr>
          <p:spPr>
            <a:xfrm flipH="1">
              <a:off x="1066320" y="4717800"/>
              <a:ext cx="8006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649" name=""/>
            <p:cNvCxnSpPr>
              <a:stCxn id="647" idx="6"/>
              <a:endCxn id="647" idx="2"/>
            </p:cNvCxnSpPr>
            <p:nvPr/>
          </p:nvCxnSpPr>
          <p:spPr>
            <a:xfrm flipH="1">
              <a:off x="7306920" y="4717800"/>
              <a:ext cx="8006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</p:cxnSp>
        <p:sp>
          <p:nvSpPr>
            <p:cNvPr id="650" name=""/>
            <p:cNvSpPr/>
            <p:nvPr/>
          </p:nvSpPr>
          <p:spPr>
            <a:xfrm>
              <a:off x="1890720" y="4236840"/>
              <a:ext cx="2628720" cy="483840"/>
            </a:xfrm>
            <a:custGeom>
              <a:avLst/>
              <a:gdLst/>
              <a:ahLst/>
              <a:rect l="l" t="t" r="r" b="b"/>
              <a:pathLst>
                <a:path w="3456" h="420">
                  <a:moveTo>
                    <a:pt x="0" y="405"/>
                  </a:moveTo>
                  <a:cubicBezTo>
                    <a:pt x="561" y="202"/>
                    <a:pt x="1123" y="0"/>
                    <a:pt x="1699" y="2"/>
                  </a:cubicBezTo>
                  <a:cubicBezTo>
                    <a:pt x="2275" y="4"/>
                    <a:pt x="3166" y="353"/>
                    <a:pt x="3456" y="42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868400" y="4594320"/>
              <a:ext cx="11268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4417920" y="4594320"/>
              <a:ext cx="11268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557600" y="4228920"/>
              <a:ext cx="2765520" cy="483840"/>
            </a:xfrm>
            <a:custGeom>
              <a:avLst/>
              <a:gdLst/>
              <a:ahLst/>
              <a:rect l="l" t="t" r="r" b="b"/>
              <a:pathLst>
                <a:path w="3456" h="420">
                  <a:moveTo>
                    <a:pt x="0" y="405"/>
                  </a:moveTo>
                  <a:cubicBezTo>
                    <a:pt x="561" y="202"/>
                    <a:pt x="1123" y="0"/>
                    <a:pt x="1699" y="2"/>
                  </a:cubicBezTo>
                  <a:cubicBezTo>
                    <a:pt x="2275" y="4"/>
                    <a:pt x="3166" y="353"/>
                    <a:pt x="3456" y="42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1863720" y="4689360"/>
              <a:ext cx="2674800" cy="483840"/>
            </a:xfrm>
            <a:custGeom>
              <a:avLst/>
              <a:gdLst/>
              <a:ahLst/>
              <a:rect l="l" t="t" r="r" b="b"/>
              <a:pathLst>
                <a:path w="3456" h="420">
                  <a:moveTo>
                    <a:pt x="0" y="405"/>
                  </a:moveTo>
                  <a:cubicBezTo>
                    <a:pt x="561" y="202"/>
                    <a:pt x="1123" y="0"/>
                    <a:pt x="1699" y="2"/>
                  </a:cubicBezTo>
                  <a:cubicBezTo>
                    <a:pt x="2275" y="4"/>
                    <a:pt x="3166" y="353"/>
                    <a:pt x="3456" y="42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203960" y="4594320"/>
              <a:ext cx="11268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4539960" y="4594320"/>
              <a:ext cx="11304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4529160" y="4703760"/>
              <a:ext cx="2788920" cy="483840"/>
            </a:xfrm>
            <a:custGeom>
              <a:avLst/>
              <a:gdLst/>
              <a:ahLst/>
              <a:rect l="l" t="t" r="r" b="b"/>
              <a:pathLst>
                <a:path w="3456" h="420">
                  <a:moveTo>
                    <a:pt x="0" y="405"/>
                  </a:moveTo>
                  <a:cubicBezTo>
                    <a:pt x="561" y="202"/>
                    <a:pt x="1123" y="0"/>
                    <a:pt x="1699" y="2"/>
                  </a:cubicBezTo>
                  <a:cubicBezTo>
                    <a:pt x="2275" y="4"/>
                    <a:pt x="3166" y="353"/>
                    <a:pt x="3456" y="42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1869840" y="3970440"/>
              <a:ext cx="5448240" cy="848520"/>
              <a:chOff x="1869840" y="3970440"/>
              <a:chExt cx="5448240" cy="848520"/>
            </a:xfrm>
          </p:grpSpPr>
          <p:sp>
            <p:nvSpPr>
              <p:cNvPr id="659" name=""/>
              <p:cNvSpPr/>
              <p:nvPr/>
            </p:nvSpPr>
            <p:spPr>
              <a:xfrm>
                <a:off x="1869840" y="4590720"/>
                <a:ext cx="112680" cy="22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205400" y="4585680"/>
                <a:ext cx="112680" cy="22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869840" y="3970440"/>
                <a:ext cx="5440320" cy="734400"/>
              </a:xfrm>
              <a:custGeom>
                <a:avLst/>
                <a:gdLst/>
                <a:ahLst/>
                <a:rect l="l" t="t" r="r" b="b"/>
                <a:pathLst>
                  <a:path w="3456" h="420">
                    <a:moveTo>
                      <a:pt x="0" y="405"/>
                    </a:moveTo>
                    <a:cubicBezTo>
                      <a:pt x="561" y="202"/>
                      <a:pt x="1123" y="0"/>
                      <a:pt x="1699" y="2"/>
                    </a:cubicBezTo>
                    <a:cubicBezTo>
                      <a:pt x="2275" y="4"/>
                      <a:pt x="3166" y="353"/>
                      <a:pt x="3456" y="42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>
              <a:off x="4095720" y="4394160"/>
              <a:ext cx="503280" cy="318600"/>
            </a:xfrm>
            <a:prstGeom prst="lightningBolt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ecommendations in ITU-T SG 15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v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.841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ypes and Characteristics of SDH Network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tection Architectu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develo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.gps-1 Generic Linear Protection Schemes (01-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.gps-2 Generic Ring Protection Schemes (07-20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.otnprot-1 ODUk SNC Linear Protection (01-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.otnprot-2 ODUk Ring Protection (10-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.8080 v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chitecture for the Automatically Switched Optical Network (ASON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dditional details on Protection and Restoration (01-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lient connection Protection or Restoration (Recovery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8130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lient connection is supported by a concatenation of link connections and sub network connections selected by a connection management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ction and Restoration are mechanisms that allow the network to recover a client connection when a network resource fails or becomes unavailab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perspective of the client the end points of the connection remain constant across network fail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ion recovery is invoke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nomously for fail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ally by a network operator to allow “engineering work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lacement of a failed resource by a connection management process that selects alternate resources from spare capacity within the net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estoration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03120" y="3886200"/>
            <a:ext cx="8551800" cy="2362320"/>
            <a:chOff x="303120" y="3886200"/>
            <a:chExt cx="8551800" cy="2362320"/>
          </a:xfrm>
        </p:grpSpPr>
        <p:pic>
          <p:nvPicPr>
            <p:cNvPr id="88" name="Big_Cloud" descr=""/>
            <p:cNvPicPr/>
            <p:nvPr/>
          </p:nvPicPr>
          <p:blipFill>
            <a:blip r:embed="rId1"/>
            <a:stretch/>
          </p:blipFill>
          <p:spPr>
            <a:xfrm>
              <a:off x="984240" y="3886200"/>
              <a:ext cx="717408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8093160" y="4854600"/>
              <a:ext cx="76176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303120" y="4854600"/>
              <a:ext cx="7621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050840" y="4879800"/>
              <a:ext cx="80028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67280" y="4179960"/>
              <a:ext cx="80028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291440" y="4878360"/>
              <a:ext cx="79992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4" name=""/>
            <p:cNvCxnSpPr>
              <a:stCxn id="91" idx="2"/>
              <a:endCxn id="91" idx="7"/>
            </p:cNvCxnSpPr>
            <p:nvPr/>
          </p:nvCxnSpPr>
          <p:spPr>
            <a:xfrm flipV="1">
              <a:off x="1050840" y="4946040"/>
              <a:ext cx="682920" cy="16236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95" name=""/>
            <p:cNvCxnSpPr>
              <a:stCxn id="91" idx="7"/>
              <a:endCxn id="92" idx="2"/>
            </p:cNvCxnSpPr>
            <p:nvPr/>
          </p:nvCxnSpPr>
          <p:spPr>
            <a:xfrm flipV="1">
              <a:off x="1733040" y="4407840"/>
              <a:ext cx="3234600" cy="5389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96" name=""/>
            <p:cNvCxnSpPr>
              <a:stCxn id="92" idx="6"/>
              <a:endCxn id="92" idx="2"/>
            </p:cNvCxnSpPr>
            <p:nvPr/>
          </p:nvCxnSpPr>
          <p:spPr>
            <a:xfrm flipH="1">
              <a:off x="4966560" y="4408200"/>
              <a:ext cx="8010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97" name=""/>
            <p:cNvCxnSpPr>
              <a:stCxn id="93" idx="1"/>
              <a:endCxn id="92" idx="6"/>
            </p:cNvCxnSpPr>
            <p:nvPr/>
          </p:nvCxnSpPr>
          <p:spPr>
            <a:xfrm flipH="1" flipV="1">
              <a:off x="5766840" y="4408560"/>
              <a:ext cx="1641960" cy="536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98" name=""/>
            <p:cNvCxnSpPr>
              <a:stCxn id="93" idx="1"/>
              <a:endCxn id="93" idx="6"/>
            </p:cNvCxnSpPr>
            <p:nvPr/>
          </p:nvCxnSpPr>
          <p:spPr>
            <a:xfrm>
              <a:off x="7408800" y="4944960"/>
              <a:ext cx="682920" cy="16272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</p:cxnSp>
      </p:grpSp>
      <p:grpSp>
        <p:nvGrpSpPr>
          <p:cNvPr id="99" name=""/>
          <p:cNvGrpSpPr/>
          <p:nvPr/>
        </p:nvGrpSpPr>
        <p:grpSpPr>
          <a:xfrm>
            <a:off x="872640" y="3218040"/>
            <a:ext cx="8084520" cy="2912760"/>
            <a:chOff x="872640" y="3218040"/>
            <a:chExt cx="8084520" cy="2912760"/>
          </a:xfrm>
        </p:grpSpPr>
        <p:sp>
          <p:nvSpPr>
            <p:cNvPr id="100" name=""/>
            <p:cNvSpPr/>
            <p:nvPr/>
          </p:nvSpPr>
          <p:spPr>
            <a:xfrm>
              <a:off x="3097080" y="4514760"/>
              <a:ext cx="503280" cy="319320"/>
            </a:xfrm>
            <a:prstGeom prst="lightningBolt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872640" y="3218040"/>
              <a:ext cx="8084520" cy="2912760"/>
              <a:chOff x="872640" y="3218040"/>
              <a:chExt cx="8084520" cy="2912760"/>
            </a:xfrm>
          </p:grpSpPr>
          <p:sp>
            <p:nvSpPr>
              <p:cNvPr id="102" name=""/>
              <p:cNvSpPr/>
              <p:nvPr/>
            </p:nvSpPr>
            <p:spPr>
              <a:xfrm>
                <a:off x="872640" y="3218040"/>
                <a:ext cx="808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lvl="1" marL="689040" indent="-231840">
                  <a:lnSpc>
                    <a:spcPct val="100000"/>
                  </a:lnSpc>
                  <a:spcBef>
                    <a:spcPts val="451"/>
                  </a:spcBef>
                  <a:buClr>
                    <a:srgbClr val="000000"/>
                  </a:buClr>
                  <a:buFont typeface="Arial"/>
                  <a:buChar char="–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he end points of the connections used inside the network are chang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1050840" y="4408200"/>
                <a:ext cx="7040520" cy="1722600"/>
                <a:chOff x="1050840" y="4408200"/>
                <a:chExt cx="7040520" cy="17226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4038480" y="5673600"/>
                  <a:ext cx="800280" cy="457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05" name=""/>
                <p:cNvCxnSpPr>
                  <a:stCxn id="91" idx="5"/>
                  <a:endCxn id="91" idx="2"/>
                </p:cNvCxnSpPr>
                <p:nvPr/>
              </p:nvCxnSpPr>
              <p:spPr>
                <a:xfrm flipH="1" flipV="1">
                  <a:off x="1050840" y="5108040"/>
                  <a:ext cx="682920" cy="162720"/>
                </a:xfrm>
                <a:prstGeom prst="straightConnector1">
                  <a:avLst/>
                </a:prstGeom>
                <a:ln w="38160">
                  <a:solidFill>
                    <a:srgbClr val="000000"/>
                  </a:solidFill>
                  <a:prstDash val="sysDot"/>
                  <a:miter/>
                </a:ln>
              </p:spPr>
            </p:cxnSp>
            <p:cxnSp>
              <p:nvCxnSpPr>
                <p:cNvPr id="106" name=""/>
                <p:cNvCxnSpPr>
                  <a:stCxn id="104" idx="2"/>
                  <a:endCxn id="91" idx="5"/>
                </p:cNvCxnSpPr>
                <p:nvPr/>
              </p:nvCxnSpPr>
              <p:spPr>
                <a:xfrm flipH="1" flipV="1">
                  <a:off x="1733040" y="5269680"/>
                  <a:ext cx="2305440" cy="632520"/>
                </a:xfrm>
                <a:prstGeom prst="straightConnector1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07" name=""/>
                <p:cNvCxnSpPr>
                  <a:stCxn id="104" idx="6"/>
                  <a:endCxn id="104" idx="2"/>
                </p:cNvCxnSpPr>
                <p:nvPr/>
              </p:nvCxnSpPr>
              <p:spPr>
                <a:xfrm flipH="1">
                  <a:off x="4037760" y="5901840"/>
                  <a:ext cx="801000" cy="1080"/>
                </a:xfrm>
                <a:prstGeom prst="straightConnector1">
                  <a:avLst/>
                </a:prstGeom>
                <a:ln w="38160">
                  <a:solidFill>
                    <a:srgbClr val="000000"/>
                  </a:solidFill>
                  <a:prstDash val="sysDot"/>
                  <a:miter/>
                </a:ln>
              </p:spPr>
            </p:cxnSp>
            <p:cxnSp>
              <p:nvCxnSpPr>
                <p:cNvPr id="108" name=""/>
                <p:cNvCxnSpPr>
                  <a:stCxn id="93" idx="3"/>
                  <a:endCxn id="104" idx="6"/>
                </p:cNvCxnSpPr>
                <p:nvPr/>
              </p:nvCxnSpPr>
              <p:spPr>
                <a:xfrm flipH="1">
                  <a:off x="4838040" y="5268600"/>
                  <a:ext cx="2570760" cy="633960"/>
                </a:xfrm>
                <a:prstGeom prst="straightConnector1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09" name=""/>
                <p:cNvCxnSpPr>
                  <a:stCxn id="93" idx="6"/>
                  <a:endCxn id="93" idx="3"/>
                </p:cNvCxnSpPr>
                <p:nvPr/>
              </p:nvCxnSpPr>
              <p:spPr>
                <a:xfrm flipH="1">
                  <a:off x="7408800" y="5106960"/>
                  <a:ext cx="682920" cy="162720"/>
                </a:xfrm>
                <a:prstGeom prst="straightConnector1">
                  <a:avLst/>
                </a:prstGeom>
                <a:ln w="38160">
                  <a:solidFill>
                    <a:srgbClr val="000000"/>
                  </a:solidFill>
                  <a:prstDash val="sysDot"/>
                  <a:miter/>
                </a:ln>
              </p:spPr>
            </p:cxnSp>
            <p:cxnSp>
              <p:nvCxnSpPr>
                <p:cNvPr id="110" name=""/>
                <p:cNvCxnSpPr>
                  <a:stCxn id="91" idx="2"/>
                  <a:endCxn id="91" idx="7"/>
                </p:cNvCxnSpPr>
                <p:nvPr/>
              </p:nvCxnSpPr>
              <p:spPr>
                <a:xfrm flipV="1">
                  <a:off x="1050840" y="4946040"/>
                  <a:ext cx="682920" cy="162360"/>
                </a:xfrm>
                <a:prstGeom prst="straightConnector1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11" name=""/>
                <p:cNvCxnSpPr>
                  <a:stCxn id="93" idx="1"/>
                  <a:endCxn id="93" idx="6"/>
                </p:cNvCxnSpPr>
                <p:nvPr/>
              </p:nvCxnSpPr>
              <p:spPr>
                <a:xfrm>
                  <a:off x="7408800" y="4944960"/>
                  <a:ext cx="682920" cy="162720"/>
                </a:xfrm>
                <a:prstGeom prst="straightConnector1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12" name=""/>
                <p:cNvCxnSpPr>
                  <a:stCxn id="92" idx="2"/>
                  <a:endCxn id="92" idx="6"/>
                </p:cNvCxnSpPr>
                <p:nvPr/>
              </p:nvCxnSpPr>
              <p:spPr>
                <a:xfrm>
                  <a:off x="4966920" y="4408200"/>
                  <a:ext cx="801000" cy="1080"/>
                </a:xfrm>
                <a:prstGeom prst="straightConnector1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</p:cxnSp>
          </p:grpSp>
        </p:grpSp>
      </p:grpSp>
      <p:sp>
        <p:nvSpPr>
          <p:cNvPr id="113" name=""/>
          <p:cNvSpPr/>
          <p:nvPr/>
        </p:nvSpPr>
        <p:spPr>
          <a:xfrm>
            <a:off x="1345680" y="3492360"/>
            <a:ext cx="69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 recovery times range from 100’s of ms to 10’s of min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operty of the resource being u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ailed resource is replaced without changing the connection end points selected by the connection management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rotection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03120" y="3886200"/>
            <a:ext cx="8551800" cy="2362320"/>
            <a:chOff x="303120" y="3886200"/>
            <a:chExt cx="8551800" cy="2362320"/>
          </a:xfrm>
        </p:grpSpPr>
        <p:pic>
          <p:nvPicPr>
            <p:cNvPr id="117" name="Big_Cloud" descr=""/>
            <p:cNvPicPr/>
            <p:nvPr/>
          </p:nvPicPr>
          <p:blipFill>
            <a:blip r:embed="rId1"/>
            <a:stretch/>
          </p:blipFill>
          <p:spPr>
            <a:xfrm>
              <a:off x="984240" y="3886200"/>
              <a:ext cx="717408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8093160" y="4862520"/>
              <a:ext cx="76176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3"/>
            <a:stretch/>
          </p:blipFill>
          <p:spPr>
            <a:xfrm>
              <a:off x="303120" y="4862520"/>
              <a:ext cx="7621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050840" y="4886280"/>
              <a:ext cx="80028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91440" y="4886280"/>
              <a:ext cx="79992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2" name=""/>
            <p:cNvCxnSpPr>
              <a:stCxn id="120" idx="6"/>
              <a:endCxn id="120" idx="2"/>
            </p:cNvCxnSpPr>
            <p:nvPr/>
          </p:nvCxnSpPr>
          <p:spPr>
            <a:xfrm flipH="1">
              <a:off x="1050120" y="5114520"/>
              <a:ext cx="8010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23" name=""/>
            <p:cNvCxnSpPr>
              <a:stCxn id="121" idx="6"/>
              <a:endCxn id="121" idx="2"/>
            </p:cNvCxnSpPr>
            <p:nvPr/>
          </p:nvCxnSpPr>
          <p:spPr>
            <a:xfrm flipH="1">
              <a:off x="7291080" y="5114520"/>
              <a:ext cx="8006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</p:cxnSp>
        <p:grpSp>
          <p:nvGrpSpPr>
            <p:cNvPr id="124" name=""/>
            <p:cNvGrpSpPr/>
            <p:nvPr/>
          </p:nvGrpSpPr>
          <p:grpSpPr>
            <a:xfrm>
              <a:off x="1839960" y="4637160"/>
              <a:ext cx="5447880" cy="598320"/>
              <a:chOff x="1839960" y="4637160"/>
              <a:chExt cx="5447880" cy="598320"/>
            </a:xfrm>
          </p:grpSpPr>
          <p:sp>
            <p:nvSpPr>
              <p:cNvPr id="125" name=""/>
              <p:cNvSpPr/>
              <p:nvPr/>
            </p:nvSpPr>
            <p:spPr>
              <a:xfrm>
                <a:off x="1839960" y="5006880"/>
                <a:ext cx="11304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174440" y="5002200"/>
                <a:ext cx="1134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839960" y="4637160"/>
                <a:ext cx="5440320" cy="484200"/>
              </a:xfrm>
              <a:custGeom>
                <a:avLst/>
                <a:gdLst/>
                <a:ahLst/>
                <a:rect l="l" t="t" r="r" b="b"/>
                <a:pathLst>
                  <a:path w="3456" h="420">
                    <a:moveTo>
                      <a:pt x="0" y="405"/>
                    </a:moveTo>
                    <a:cubicBezTo>
                      <a:pt x="561" y="202"/>
                      <a:pt x="1123" y="0"/>
                      <a:pt x="1699" y="2"/>
                    </a:cubicBezTo>
                    <a:cubicBezTo>
                      <a:pt x="2275" y="4"/>
                      <a:pt x="3166" y="353"/>
                      <a:pt x="3456" y="42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8" name=""/>
          <p:cNvGrpSpPr/>
          <p:nvPr/>
        </p:nvGrpSpPr>
        <p:grpSpPr>
          <a:xfrm>
            <a:off x="1162800" y="3538440"/>
            <a:ext cx="6128280" cy="2066760"/>
            <a:chOff x="1162800" y="3538440"/>
            <a:chExt cx="6128280" cy="2066760"/>
          </a:xfrm>
        </p:grpSpPr>
        <p:grpSp>
          <p:nvGrpSpPr>
            <p:cNvPr id="129" name=""/>
            <p:cNvGrpSpPr/>
            <p:nvPr/>
          </p:nvGrpSpPr>
          <p:grpSpPr>
            <a:xfrm>
              <a:off x="1843200" y="4560840"/>
              <a:ext cx="5447880" cy="1044360"/>
              <a:chOff x="1843200" y="4560840"/>
              <a:chExt cx="5447880" cy="104436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1843200" y="5006880"/>
                <a:ext cx="5447880" cy="598320"/>
                <a:chOff x="1843200" y="5006880"/>
                <a:chExt cx="5447880" cy="598320"/>
              </a:xfrm>
            </p:grpSpPr>
            <p:sp>
              <p:nvSpPr>
                <p:cNvPr id="131" name=""/>
                <p:cNvSpPr/>
                <p:nvPr/>
              </p:nvSpPr>
              <p:spPr>
                <a:xfrm flipV="1">
                  <a:off x="1843200" y="5006520"/>
                  <a:ext cx="113040" cy="228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V="1">
                  <a:off x="7177680" y="5011200"/>
                  <a:ext cx="113400" cy="228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V="1">
                  <a:off x="1843200" y="5120280"/>
                  <a:ext cx="5440320" cy="484200"/>
                </a:xfrm>
                <a:custGeom>
                  <a:avLst/>
                  <a:gdLst/>
                  <a:ahLst/>
                  <a:rect l="l" t="t" r="r" b="b"/>
                  <a:pathLst>
                    <a:path w="3456" h="420">
                      <a:moveTo>
                        <a:pt x="0" y="405"/>
                      </a:moveTo>
                      <a:cubicBezTo>
                        <a:pt x="561" y="202"/>
                        <a:pt x="1123" y="0"/>
                        <a:pt x="1699" y="2"/>
                      </a:cubicBezTo>
                      <a:cubicBezTo>
                        <a:pt x="2275" y="4"/>
                        <a:pt x="3166" y="353"/>
                        <a:pt x="3456" y="42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3235320" y="4560840"/>
                <a:ext cx="503280" cy="318960"/>
              </a:xfrm>
              <a:prstGeom prst="lightningBolt">
                <a:avLst/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1162800" y="3538440"/>
              <a:ext cx="570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>
                <a:lnSpc>
                  <a:spcPct val="100000"/>
                </a:lnSpc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ical recovery times are in the range of 10’s of 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179000" y="3919680"/>
            <a:ext cx="380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xample uses trail prot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auses of Recovery failur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 fail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up resources in use due to a previous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With protection mitigated by breaking a long connection into shorter connections with independent protectio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With restoration mitigated by allocating adequate spare resources and network connec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25440" y="4046400"/>
            <a:ext cx="8551800" cy="2362320"/>
            <a:chOff x="325440" y="4046400"/>
            <a:chExt cx="8551800" cy="2362320"/>
          </a:xfrm>
        </p:grpSpPr>
        <p:pic>
          <p:nvPicPr>
            <p:cNvPr id="140" name="Big_Cloud" descr=""/>
            <p:cNvPicPr/>
            <p:nvPr/>
          </p:nvPicPr>
          <p:blipFill>
            <a:blip r:embed="rId1"/>
            <a:stretch/>
          </p:blipFill>
          <p:spPr>
            <a:xfrm>
              <a:off x="1006560" y="4046400"/>
              <a:ext cx="717408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8115480" y="5022720"/>
              <a:ext cx="76176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3"/>
            <a:stretch/>
          </p:blipFill>
          <p:spPr>
            <a:xfrm>
              <a:off x="325440" y="5022720"/>
              <a:ext cx="7621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1073160" y="5046480"/>
              <a:ext cx="80028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13760" y="5046480"/>
              <a:ext cx="79992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5" name=""/>
            <p:cNvCxnSpPr>
              <a:stCxn id="143" idx="6"/>
              <a:endCxn id="143" idx="2"/>
            </p:cNvCxnSpPr>
            <p:nvPr/>
          </p:nvCxnSpPr>
          <p:spPr>
            <a:xfrm flipH="1">
              <a:off x="1072440" y="5274720"/>
              <a:ext cx="8010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46" name=""/>
            <p:cNvCxnSpPr>
              <a:stCxn id="144" idx="6"/>
              <a:endCxn id="144" idx="2"/>
            </p:cNvCxnSpPr>
            <p:nvPr/>
          </p:nvCxnSpPr>
          <p:spPr>
            <a:xfrm flipH="1">
              <a:off x="7313400" y="5274720"/>
              <a:ext cx="8006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</p:cxnSp>
        <p:grpSp>
          <p:nvGrpSpPr>
            <p:cNvPr id="147" name=""/>
            <p:cNvGrpSpPr/>
            <p:nvPr/>
          </p:nvGrpSpPr>
          <p:grpSpPr>
            <a:xfrm>
              <a:off x="1862280" y="4797360"/>
              <a:ext cx="5447880" cy="598320"/>
              <a:chOff x="1862280" y="4797360"/>
              <a:chExt cx="5447880" cy="598320"/>
            </a:xfrm>
          </p:grpSpPr>
          <p:sp>
            <p:nvSpPr>
              <p:cNvPr id="148" name=""/>
              <p:cNvSpPr/>
              <p:nvPr/>
            </p:nvSpPr>
            <p:spPr>
              <a:xfrm>
                <a:off x="1862280" y="5167080"/>
                <a:ext cx="11304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196760" y="5162400"/>
                <a:ext cx="1134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62280" y="4797360"/>
                <a:ext cx="5440320" cy="484200"/>
              </a:xfrm>
              <a:custGeom>
                <a:avLst/>
                <a:gdLst/>
                <a:ahLst/>
                <a:rect l="l" t="t" r="r" b="b"/>
                <a:pathLst>
                  <a:path w="3456" h="420">
                    <a:moveTo>
                      <a:pt x="0" y="405"/>
                    </a:moveTo>
                    <a:cubicBezTo>
                      <a:pt x="561" y="202"/>
                      <a:pt x="1123" y="0"/>
                      <a:pt x="1699" y="2"/>
                    </a:cubicBezTo>
                    <a:cubicBezTo>
                      <a:pt x="2275" y="4"/>
                      <a:pt x="3166" y="353"/>
                      <a:pt x="3456" y="42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1865520" y="5167080"/>
              <a:ext cx="5447880" cy="598320"/>
              <a:chOff x="1865520" y="5167080"/>
              <a:chExt cx="5447880" cy="598320"/>
            </a:xfrm>
          </p:grpSpPr>
          <p:sp>
            <p:nvSpPr>
              <p:cNvPr id="152" name=""/>
              <p:cNvSpPr/>
              <p:nvPr/>
            </p:nvSpPr>
            <p:spPr>
              <a:xfrm flipV="1">
                <a:off x="1865520" y="5166720"/>
                <a:ext cx="11304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7200000" y="5171400"/>
                <a:ext cx="1134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1865520" y="5280480"/>
                <a:ext cx="5440320" cy="484200"/>
              </a:xfrm>
              <a:custGeom>
                <a:avLst/>
                <a:gdLst/>
                <a:ahLst/>
                <a:rect l="l" t="t" r="r" b="b"/>
                <a:pathLst>
                  <a:path w="3456" h="420">
                    <a:moveTo>
                      <a:pt x="0" y="405"/>
                    </a:moveTo>
                    <a:cubicBezTo>
                      <a:pt x="561" y="202"/>
                      <a:pt x="1123" y="0"/>
                      <a:pt x="1699" y="2"/>
                    </a:cubicBezTo>
                    <a:cubicBezTo>
                      <a:pt x="2275" y="4"/>
                      <a:pt x="3166" y="353"/>
                      <a:pt x="3456" y="42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2411640" y="4905360"/>
              <a:ext cx="503280" cy="318960"/>
            </a:xfrm>
            <a:prstGeom prst="lightningBolt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972040" y="5354640"/>
            <a:ext cx="503280" cy="318960"/>
          </a:xfrm>
          <a:prstGeom prst="lightningBol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006560" y="4046400"/>
            <a:ext cx="7173720" cy="2362320"/>
            <a:chOff x="1006560" y="4046400"/>
            <a:chExt cx="7173720" cy="2362320"/>
          </a:xfrm>
        </p:grpSpPr>
        <p:pic>
          <p:nvPicPr>
            <p:cNvPr id="158" name="Big_Cloud" descr=""/>
            <p:cNvPicPr/>
            <p:nvPr/>
          </p:nvPicPr>
          <p:blipFill>
            <a:blip r:embed="rId4"/>
            <a:stretch/>
          </p:blipFill>
          <p:spPr>
            <a:xfrm>
              <a:off x="1006560" y="4046400"/>
              <a:ext cx="717372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072800" y="5046480"/>
              <a:ext cx="79992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3400" y="5046480"/>
              <a:ext cx="79956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1" name=""/>
            <p:cNvCxnSpPr>
              <a:stCxn id="159" idx="6"/>
              <a:endCxn id="159" idx="2"/>
            </p:cNvCxnSpPr>
            <p:nvPr/>
          </p:nvCxnSpPr>
          <p:spPr>
            <a:xfrm flipH="1">
              <a:off x="1072440" y="5274720"/>
              <a:ext cx="8006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62" name=""/>
            <p:cNvCxnSpPr>
              <a:stCxn id="160" idx="6"/>
              <a:endCxn id="160" idx="2"/>
            </p:cNvCxnSpPr>
            <p:nvPr/>
          </p:nvCxnSpPr>
          <p:spPr>
            <a:xfrm flipH="1">
              <a:off x="7312680" y="5274720"/>
              <a:ext cx="80028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</p:cxnSp>
        <p:sp>
          <p:nvSpPr>
            <p:cNvPr id="163" name=""/>
            <p:cNvSpPr/>
            <p:nvPr/>
          </p:nvSpPr>
          <p:spPr>
            <a:xfrm>
              <a:off x="1896840" y="4794120"/>
              <a:ext cx="2628360" cy="484200"/>
            </a:xfrm>
            <a:custGeom>
              <a:avLst/>
              <a:gdLst/>
              <a:ahLst/>
              <a:rect l="l" t="t" r="r" b="b"/>
              <a:pathLst>
                <a:path w="3456" h="420">
                  <a:moveTo>
                    <a:pt x="0" y="405"/>
                  </a:moveTo>
                  <a:cubicBezTo>
                    <a:pt x="561" y="202"/>
                    <a:pt x="1123" y="0"/>
                    <a:pt x="1699" y="2"/>
                  </a:cubicBezTo>
                  <a:cubicBezTo>
                    <a:pt x="2275" y="4"/>
                    <a:pt x="3166" y="353"/>
                    <a:pt x="3456" y="42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535280" y="5259960"/>
              <a:ext cx="2788920" cy="484200"/>
            </a:xfrm>
            <a:custGeom>
              <a:avLst/>
              <a:gdLst/>
              <a:ahLst/>
              <a:rect l="l" t="t" r="r" b="b"/>
              <a:pathLst>
                <a:path w="3456" h="420">
                  <a:moveTo>
                    <a:pt x="0" y="405"/>
                  </a:moveTo>
                  <a:cubicBezTo>
                    <a:pt x="561" y="202"/>
                    <a:pt x="1123" y="0"/>
                    <a:pt x="1699" y="2"/>
                  </a:cubicBezTo>
                  <a:cubicBezTo>
                    <a:pt x="2275" y="4"/>
                    <a:pt x="3166" y="353"/>
                    <a:pt x="3456" y="42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74520" y="5151240"/>
              <a:ext cx="112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10080" y="5151240"/>
              <a:ext cx="112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546440" y="5150520"/>
              <a:ext cx="112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424040" y="5150520"/>
              <a:ext cx="112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63720" y="4786200"/>
              <a:ext cx="2765160" cy="484200"/>
            </a:xfrm>
            <a:custGeom>
              <a:avLst/>
              <a:gdLst/>
              <a:ahLst/>
              <a:rect l="l" t="t" r="r" b="b"/>
              <a:pathLst>
                <a:path w="3456" h="420">
                  <a:moveTo>
                    <a:pt x="0" y="405"/>
                  </a:moveTo>
                  <a:cubicBezTo>
                    <a:pt x="561" y="202"/>
                    <a:pt x="1123" y="0"/>
                    <a:pt x="1699" y="2"/>
                  </a:cubicBezTo>
                  <a:cubicBezTo>
                    <a:pt x="2275" y="4"/>
                    <a:pt x="3166" y="353"/>
                    <a:pt x="3456" y="42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1869840" y="5245920"/>
              <a:ext cx="2674440" cy="484200"/>
            </a:xfrm>
            <a:custGeom>
              <a:avLst/>
              <a:gdLst/>
              <a:ahLst/>
              <a:rect l="l" t="t" r="r" b="b"/>
              <a:pathLst>
                <a:path w="3456" h="420">
                  <a:moveTo>
                    <a:pt x="0" y="405"/>
                  </a:moveTo>
                  <a:cubicBezTo>
                    <a:pt x="561" y="202"/>
                    <a:pt x="1123" y="0"/>
                    <a:pt x="1699" y="2"/>
                  </a:cubicBezTo>
                  <a:cubicBezTo>
                    <a:pt x="2275" y="4"/>
                    <a:pt x="3166" y="353"/>
                    <a:pt x="3456" y="42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42880" y="4744800"/>
              <a:ext cx="502920" cy="319320"/>
            </a:xfrm>
            <a:prstGeom prst="lightningBolt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21160" y="5445000"/>
              <a:ext cx="502920" cy="318960"/>
            </a:xfrm>
            <a:prstGeom prst="lightningBolt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auses of Recovery failure (cont’d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point of fail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one point in the network the active and all potential backup paths rely on a single resource at any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iber cable, single physical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itigated by network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At the expense of increased network cost and 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34800" y="4022640"/>
            <a:ext cx="8551800" cy="2361960"/>
            <a:chOff x="334800" y="4022640"/>
            <a:chExt cx="8551800" cy="236196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8124840" y="4998960"/>
              <a:ext cx="76176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334800" y="4998960"/>
              <a:ext cx="76212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Big_Cloud" descr=""/>
            <p:cNvPicPr/>
            <p:nvPr/>
          </p:nvPicPr>
          <p:blipFill>
            <a:blip r:embed="rId3"/>
            <a:stretch/>
          </p:blipFill>
          <p:spPr>
            <a:xfrm>
              <a:off x="1015920" y="4022640"/>
              <a:ext cx="717372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082520" y="5022720"/>
              <a:ext cx="79992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23120" y="5022720"/>
              <a:ext cx="79992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1" name=""/>
            <p:cNvCxnSpPr>
              <a:stCxn id="179" idx="6"/>
              <a:endCxn id="179" idx="2"/>
            </p:cNvCxnSpPr>
            <p:nvPr/>
          </p:nvCxnSpPr>
          <p:spPr>
            <a:xfrm flipH="1">
              <a:off x="1082160" y="5250960"/>
              <a:ext cx="8006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82" name=""/>
            <p:cNvCxnSpPr>
              <a:stCxn id="180" idx="6"/>
              <a:endCxn id="180" idx="2"/>
            </p:cNvCxnSpPr>
            <p:nvPr/>
          </p:nvCxnSpPr>
          <p:spPr>
            <a:xfrm flipH="1">
              <a:off x="7322760" y="5250960"/>
              <a:ext cx="8006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</p:cxnSp>
        <p:sp>
          <p:nvSpPr>
            <p:cNvPr id="183" name=""/>
            <p:cNvSpPr/>
            <p:nvPr/>
          </p:nvSpPr>
          <p:spPr>
            <a:xfrm>
              <a:off x="1906560" y="4770360"/>
              <a:ext cx="2628720" cy="484200"/>
            </a:xfrm>
            <a:custGeom>
              <a:avLst/>
              <a:gdLst/>
              <a:ahLst/>
              <a:rect l="l" t="t" r="r" b="b"/>
              <a:pathLst>
                <a:path w="3456" h="420">
                  <a:moveTo>
                    <a:pt x="0" y="405"/>
                  </a:moveTo>
                  <a:cubicBezTo>
                    <a:pt x="561" y="202"/>
                    <a:pt x="1123" y="0"/>
                    <a:pt x="1699" y="2"/>
                  </a:cubicBezTo>
                  <a:cubicBezTo>
                    <a:pt x="2275" y="4"/>
                    <a:pt x="3166" y="353"/>
                    <a:pt x="3456" y="42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84240" y="5127480"/>
              <a:ext cx="1126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433760" y="5126760"/>
              <a:ext cx="1126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3440" y="4762440"/>
              <a:ext cx="2765520" cy="484200"/>
            </a:xfrm>
            <a:custGeom>
              <a:avLst/>
              <a:gdLst/>
              <a:ahLst/>
              <a:rect l="l" t="t" r="r" b="b"/>
              <a:pathLst>
                <a:path w="3456" h="420">
                  <a:moveTo>
                    <a:pt x="0" y="405"/>
                  </a:moveTo>
                  <a:cubicBezTo>
                    <a:pt x="561" y="202"/>
                    <a:pt x="1123" y="0"/>
                    <a:pt x="1699" y="2"/>
                  </a:cubicBezTo>
                  <a:cubicBezTo>
                    <a:pt x="2275" y="4"/>
                    <a:pt x="3166" y="353"/>
                    <a:pt x="3456" y="42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1879560" y="5222880"/>
              <a:ext cx="2674800" cy="483840"/>
            </a:xfrm>
            <a:custGeom>
              <a:avLst/>
              <a:gdLst/>
              <a:ahLst/>
              <a:rect l="l" t="t" r="r" b="b"/>
              <a:pathLst>
                <a:path w="3456" h="420">
                  <a:moveTo>
                    <a:pt x="0" y="405"/>
                  </a:moveTo>
                  <a:cubicBezTo>
                    <a:pt x="561" y="202"/>
                    <a:pt x="1123" y="0"/>
                    <a:pt x="1699" y="2"/>
                  </a:cubicBezTo>
                  <a:cubicBezTo>
                    <a:pt x="2275" y="4"/>
                    <a:pt x="3166" y="353"/>
                    <a:pt x="3456" y="42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219800" y="5127480"/>
              <a:ext cx="1126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555800" y="5126760"/>
              <a:ext cx="1130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545000" y="5236200"/>
              <a:ext cx="2788920" cy="484200"/>
            </a:xfrm>
            <a:custGeom>
              <a:avLst/>
              <a:gdLst/>
              <a:ahLst/>
              <a:rect l="l" t="t" r="r" b="b"/>
              <a:pathLst>
                <a:path w="3456" h="420">
                  <a:moveTo>
                    <a:pt x="0" y="405"/>
                  </a:moveTo>
                  <a:cubicBezTo>
                    <a:pt x="561" y="202"/>
                    <a:pt x="1123" y="0"/>
                    <a:pt x="1699" y="2"/>
                  </a:cubicBezTo>
                  <a:cubicBezTo>
                    <a:pt x="2275" y="4"/>
                    <a:pt x="3166" y="353"/>
                    <a:pt x="3456" y="42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4137120" y="4927680"/>
            <a:ext cx="503280" cy="318960"/>
          </a:xfrm>
          <a:prstGeom prst="lightningBol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015920" y="4022640"/>
            <a:ext cx="7173720" cy="2362320"/>
            <a:chOff x="1015920" y="4022640"/>
            <a:chExt cx="7173720" cy="2362320"/>
          </a:xfrm>
        </p:grpSpPr>
        <p:pic>
          <p:nvPicPr>
            <p:cNvPr id="193" name="Big_Cloud" descr=""/>
            <p:cNvPicPr/>
            <p:nvPr/>
          </p:nvPicPr>
          <p:blipFill>
            <a:blip r:embed="rId4"/>
            <a:stretch/>
          </p:blipFill>
          <p:spPr>
            <a:xfrm>
              <a:off x="1015920" y="4022640"/>
              <a:ext cx="717372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1082520" y="5023080"/>
              <a:ext cx="79992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23120" y="5023080"/>
              <a:ext cx="79992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6" name=""/>
            <p:cNvCxnSpPr>
              <a:stCxn id="194" idx="6"/>
              <a:endCxn id="194" idx="2"/>
            </p:cNvCxnSpPr>
            <p:nvPr/>
          </p:nvCxnSpPr>
          <p:spPr>
            <a:xfrm flipH="1">
              <a:off x="1082160" y="5251320"/>
              <a:ext cx="8006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97" name=""/>
            <p:cNvCxnSpPr>
              <a:stCxn id="195" idx="6"/>
              <a:endCxn id="195" idx="2"/>
            </p:cNvCxnSpPr>
            <p:nvPr/>
          </p:nvCxnSpPr>
          <p:spPr>
            <a:xfrm flipH="1">
              <a:off x="7322760" y="5251320"/>
              <a:ext cx="8006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</p:cxnSp>
        <p:sp>
          <p:nvSpPr>
            <p:cNvPr id="198" name=""/>
            <p:cNvSpPr/>
            <p:nvPr/>
          </p:nvSpPr>
          <p:spPr>
            <a:xfrm>
              <a:off x="1871640" y="5143680"/>
              <a:ext cx="1126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07200" y="5138640"/>
              <a:ext cx="1126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395600" y="4680000"/>
              <a:ext cx="1126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51120" y="4673520"/>
              <a:ext cx="1126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395600" y="5632560"/>
              <a:ext cx="1126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51120" y="5626080"/>
              <a:ext cx="1126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4" name=""/>
            <p:cNvCxnSpPr>
              <a:stCxn id="200" idx="2"/>
              <a:endCxn id="202" idx="0"/>
            </p:cNvCxnSpPr>
            <p:nvPr/>
          </p:nvCxnSpPr>
          <p:spPr>
            <a:xfrm>
              <a:off x="4452480" y="4908240"/>
              <a:ext cx="1080" cy="7246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>
              <a:stCxn id="201" idx="2"/>
              <a:endCxn id="203" idx="0"/>
            </p:cNvCxnSpPr>
            <p:nvPr/>
          </p:nvCxnSpPr>
          <p:spPr>
            <a:xfrm>
              <a:off x="4608000" y="4901760"/>
              <a:ext cx="1080" cy="7246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206" name=""/>
            <p:cNvSpPr/>
            <p:nvPr/>
          </p:nvSpPr>
          <p:spPr>
            <a:xfrm>
              <a:off x="1871640" y="4773600"/>
              <a:ext cx="5440320" cy="484200"/>
            </a:xfrm>
            <a:custGeom>
              <a:avLst/>
              <a:gdLst/>
              <a:ahLst/>
              <a:rect l="l" t="t" r="r" b="b"/>
              <a:pathLst>
                <a:path w="3456" h="420">
                  <a:moveTo>
                    <a:pt x="0" y="405"/>
                  </a:moveTo>
                  <a:cubicBezTo>
                    <a:pt x="561" y="202"/>
                    <a:pt x="1123" y="0"/>
                    <a:pt x="1699" y="2"/>
                  </a:cubicBezTo>
                  <a:cubicBezTo>
                    <a:pt x="2275" y="4"/>
                    <a:pt x="3166" y="353"/>
                    <a:pt x="3456" y="42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1874520" y="5143680"/>
              <a:ext cx="5448240" cy="598320"/>
              <a:chOff x="1874520" y="5143680"/>
              <a:chExt cx="5448240" cy="598320"/>
            </a:xfrm>
          </p:grpSpPr>
          <p:sp>
            <p:nvSpPr>
              <p:cNvPr id="208" name=""/>
              <p:cNvSpPr/>
              <p:nvPr/>
            </p:nvSpPr>
            <p:spPr>
              <a:xfrm flipV="1">
                <a:off x="1874520" y="5143320"/>
                <a:ext cx="11304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09360" y="5148000"/>
                <a:ext cx="1134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1874520" y="5257080"/>
                <a:ext cx="5440680" cy="484200"/>
              </a:xfrm>
              <a:custGeom>
                <a:avLst/>
                <a:gdLst/>
                <a:ahLst/>
                <a:rect l="l" t="t" r="r" b="b"/>
                <a:pathLst>
                  <a:path w="3456" h="420">
                    <a:moveTo>
                      <a:pt x="0" y="405"/>
                    </a:moveTo>
                    <a:cubicBezTo>
                      <a:pt x="561" y="202"/>
                      <a:pt x="1123" y="0"/>
                      <a:pt x="1699" y="2"/>
                    </a:cubicBezTo>
                    <a:cubicBezTo>
                      <a:pt x="2275" y="4"/>
                      <a:pt x="3166" y="353"/>
                      <a:pt x="3456" y="42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4136760" y="4538880"/>
              <a:ext cx="503280" cy="318960"/>
            </a:xfrm>
            <a:prstGeom prst="lightningBolt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auses of Recovery failure (cont’d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lent fail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ure of backup resource that is only detected when an attempt is made to use it for an “active”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ure of an active connection that is only visible to th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itigated by equipmen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al err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rect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ong unit removed during maintenance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Avoid complexit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Types of Network Protection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network connection prot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il prot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pment prot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ly used to protect against the failure of common equipment e.g. Power supply, crossconnect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pe is limited to a single network elemen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99"/>
                </a:solidFill>
                <a:latin typeface="Arial"/>
              </a:rPr>
              <a:t>Not subject to standard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9:07:05Z</dcterms:created>
  <dc:creator>Stephen Shew</dc:creator>
  <dc:description>SG15 IP/Optical Workshop
Chitose, Japan
2002/07/09</dc:description>
  <dc:language>en-US</dc:language>
  <cp:lastModifiedBy>Betts</cp:lastModifiedBy>
  <cp:lastPrinted>2000-04-17T20:06:35Z</cp:lastPrinted>
  <dcterms:modified xsi:type="dcterms:W3CDTF">2002-07-09T02:56:00Z</dcterms:modified>
  <cp:revision>116</cp:revision>
  <dc:subject>IP/Optical Workshop Session 2</dc:subject>
  <dc:title>ITU-T Solutions </dc:title>
</cp:coreProperties>
</file>