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1B3-2EBE-4927-B0E9-C547E6C6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8E93-1261-4DA8-94E6-D6A04A5B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8BAE-A0FB-4441-AA39-BA975B3B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31A4-3687-43CA-9747-D872D693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AD5D-ADDD-404D-9632-E5BF4AD02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01D-F8FA-4E0B-8EF2-0408C3F5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07E0-46BE-4939-9ACC-D04A952C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2B3-CE04-4050-9747-E2B06E58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45E3-AAEE-46C3-B6B1-697017A8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3A3-A18C-4EC7-ACA7-A7461AFE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A176-0EE2-41FD-85D0-B3557964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0EA5-23F8-4BD2-88B4-9C42C286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37329-AD94-4A04-AD59-DC915F328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9360">
            <a:solidFill>
              <a:srgbClr val="3903f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TT's Broadband Access Services and Deployment Experiences in Ja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ichi Maeda, NTT, Vice-Chairman, ITU-T SG 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-Mile Broadband Access: Strategic Planning Meets Pragmatism in the Outside Pl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well D. Lamb, Tera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EEE Access Standards, 802.3ah GE-PON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tsu Koyama, N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H="1" flipV="1">
            <a:off x="304560" y="312840"/>
            <a:ext cx="8610480" cy="861480"/>
          </a:xfrm>
          <a:prstGeom prst="rect">
            <a:avLst/>
          </a:prstGeom>
          <a:gradFill rotWithShape="0">
            <a:gsLst>
              <a:gs pos="0">
                <a:srgbClr val="fecbfe"/>
              </a:gs>
              <a:gs pos="100000">
                <a:srgbClr val="ff99ff"/>
              </a:gs>
            </a:gsLst>
            <a:lin ang="135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ssion 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Optics in Access and Metropolitan Networks- Dave Faulkner, BT, Rapporteur Q.2/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8077320" y="5943600"/>
          <a:ext cx="83808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77320" y="5943600"/>
                    <a:ext cx="8380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9:21:05Z</dcterms:created>
  <dc:creator>judith quist</dc:creator>
  <dc:description/>
  <dc:language>en-US</dc:language>
  <cp:lastModifiedBy>UGALE, Arvin Carlos D.</cp:lastModifiedBy>
  <dcterms:modified xsi:type="dcterms:W3CDTF">2002-07-19T14:01:52Z</dcterms:modified>
  <cp:revision>29</cp:revision>
  <dc:subject/>
  <dc:title>WORKSHOP ON IP/OPTICAL  (CHITOSE, JAPAN, 9-11 JULY 2002)</dc:title>
</cp:coreProperties>
</file>