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3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4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7621F5-0673-4231-9EFE-DA786B189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1BA0B5-2DB6-4B7D-8132-BD3D23277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671BAF-5BFB-45FB-BCD6-57FBA1AC2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66EF34-3E06-4509-8602-576C1FEAA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CB3516-CDA3-45C8-8CEA-329DF516F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EB64EB-D64F-4ECC-94FA-F630088C2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B3BC47-23EB-4C7E-8836-A59DF415C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2D0EE2-A2D1-4D7A-AF9E-2451864B8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D4603B-B4F6-4850-86E9-0DE2EDFE0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35FDC8-1167-41B9-9D30-1715C626E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73B4E8-5EC9-469F-A4B9-E796142A3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751AF9-83BF-491E-8863-F2B740518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24F279-148B-471A-8E04-A615E7A7B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468035-F2F5-475C-9FF5-978BD5BEA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D15EF4-EEAF-4054-A594-F1B958E06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973C77-11C1-4A9E-BF6E-E88C76F11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F1F769-1462-47F8-8BCF-90EFEA862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77D84A-87A5-4804-89D5-23AFA1EE2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2105B2-E55F-4D1E-8071-B035B466C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312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770B-D852-45E3-9D73-49502B92827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orkshop IP/Optica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a50021"/>
                </a:solidFill>
                <a:latin typeface="Times New Roman"/>
              </a:rPr>
              <a:t>Good Morning</a:t>
            </a:r>
            <a:endParaRPr b="1" lang="en-US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7E541-05A6-428E-8DF5-45BE1FC804BE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Structure of Study Group 13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Working Party 1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: Project Management and Coordination  (Questions 12 and 15/13)</a:t>
            </a:r>
            <a:br>
              <a:rPr sz="2800"/>
            </a:b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irman:  Jean-Yves Cochennec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Working Party 2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: Architectures and Internetworking Principles  (Questions 1, 5, 10, 13,14 and 16/13)</a:t>
            </a:r>
            <a:br>
              <a:rPr sz="2800"/>
            </a:b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irman:  Chae-Sub Lee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Structure of Study Group 13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Working Party 3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: Multi-protocol Networks and Mechanisms   (Questions 2, 3 and 11/13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irman:  Yoichi Maeda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Working Party 4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: Network Performance and Resource Management  (Questions 4, 6, 7, 8 and 9/13)</a:t>
            </a:r>
            <a:br>
              <a:rPr sz="2800"/>
            </a:b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irman:  Neal Seitz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The ITU-T IP Projec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In its capacity as ‘Lead Study Group for IP related studies’ Study Group 13 is managing an ‘ITU-T IP Project’ which is intended to encompass all related ITU-T work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Issue 6 of the Project has been issued and is available from the Study Group 13 Websit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Scope of the Projec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549360"/>
          <a:ext cx="8064720" cy="597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06472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255E6-3238-4D9B-8BDF-0AA2E06828D0}" type="datetime1">
              <a:rPr lang="en-US"/>
              <a:t>07/31/26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Project Area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1 - Integrated architectur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2 - Impact to telecommunications access infrastructures of access to IP application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3 - Interworking between IP based network and switched-circuit networks, including wireless based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Project Areas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4 - Multimedia applications over IP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5 - Numbering and addressing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6 - Transport for IP-structured signal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7 - Signalling support, IN and routing for services on IP-based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8 - Performanc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Project Areas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69932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9 - Integrated management of telecom and IP-based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10 - Security aspect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11 - Network capabilities including requirements for resource management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12 - Operations and Maintenance (OAM) for IP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Project Areas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340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ea 13 - Utilisation of IPv6 in 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elecommunication networks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Future trends of IP / non-IP based applications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40872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E27C4-6471-4F0C-ABE0-AE3FEA3072FF}" type="datetime1">
              <a:rPr lang="en-US"/>
              <a:t>07/31/26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Variable role of IP based network (or protocol)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76944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08863-C742-4340-AD19-4B4F507D9DFA}" type="datetime1">
              <a:rPr lang="en-US"/>
              <a:t>07/31/26</a:t>
            </a:fld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Times New Roman"/>
              </a:rPr>
              <a:t>Study Group 13</a:t>
            </a:r>
            <a:br>
              <a:rPr sz="40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Lead Study Group on IP-related matters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Times New Roman"/>
              </a:rPr>
              <a:t>Brian Moor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Lucent Technolog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(Study Group 13 Chairman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48440" y="2965320"/>
            <a:ext cx="2608200" cy="851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98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urrent IP related work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850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Y.17oam - OAM and protection switching for IP-based networks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Y.1540 - IP packet transfer and availability performance parameters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Y.1720 -  Protection switching for MPL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Y.atmpls - ATM-MPLS interworking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Y.protocolx - Specification of protocolx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urrent IP related work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Y.351 - Relationships among ISDN, IP and GII performance Recommendations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Y.satip - Satellite IP networking architecture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Y.1530 - Call processing performance for voice service in hybrid IP-based networks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Y.vompls - VoMPLS generic requirements, framework architecture and service definition etc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Organisation of the IP related Recommendations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9214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General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Y.1000 Seri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ervices and Applications (including Multimedia) 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Y.1100 Seri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rchitecture, Access, Network Capabilities and Resource Management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Y.1200 Seri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nsport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Y.1300 Seri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43655-1D55-4CB1-91C9-8498DB31C764}" type="datetime1">
              <a:rPr lang="en-US"/>
              <a:t>07/31/26</a:t>
            </a:fld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Organisation of the IP related Recommendation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Interworking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Y.1400 Seri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Quality of Service and Network Performanc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Y.1500 Seri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ignalling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Y.1600 Seri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OAM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Y.1700 Seri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rging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990033"/>
                </a:solidFill>
                <a:latin typeface="Times New Roman"/>
              </a:rPr>
              <a:t>Y.1800 Seri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BF715-58A9-4548-A8F7-E6239822AEC5}" type="datetime1">
              <a:rPr lang="en-US"/>
              <a:t>07/31/26</a:t>
            </a:fld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Next Generation Network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33"/>
                </a:solidFill>
                <a:latin typeface="Times New Roman"/>
                <a:ea typeface="바탕"/>
              </a:rPr>
              <a:t>In February 2002, Study Group 13 decided to start the preparation of an ITU-T Project on Next Generation Networks (the NGN 2004 Project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33"/>
                </a:solidFill>
                <a:latin typeface="Times New Roman"/>
                <a:ea typeface="바탕"/>
              </a:rPr>
              <a:t>It is currently in its preparation phase and is planned to be launched at the November 2002 Study Group 13 meeting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33"/>
                </a:solidFill>
                <a:latin typeface="Times New Roman"/>
                <a:ea typeface="바탕"/>
              </a:rPr>
              <a:t>The goal of the NGN 2004 Project is to organise and coordinate studies on NGN in ITU-T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6A1F9-5A0D-4AC9-8FE8-EEC2EDBCDEE9}" type="datetime1">
              <a:rPr lang="en-US"/>
              <a:t>07/31/26</a:t>
            </a:fld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Next Generation Networks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he view of Study Group 13 is that NGN should be seen as a concrete realisation of  Global Information Infrastructure concept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33"/>
                </a:solidFill>
                <a:latin typeface="Times New Roman"/>
              </a:rPr>
              <a:t>The GII Project has met its goal in providing standards for: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Times New Roman"/>
              </a:rPr>
              <a:t>GII general principles and framework architecture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Times New Roman"/>
              </a:rPr>
              <a:t>Scenario methodology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00409-8C2E-4DDF-988D-71B7CA8CB17D}" type="datetime1">
              <a:rPr lang="en-US"/>
              <a:t>07/31/26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Next Generation Networks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Times New Roman"/>
              </a:rPr>
              <a:t>Information communication architecture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Times New Roman"/>
              </a:rPr>
              <a:t>Reference points for interconnection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33"/>
                </a:solidFill>
                <a:latin typeface="Times New Roman"/>
              </a:rPr>
              <a:t>However implementation issues were not in the scope of the GII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33"/>
                </a:solidFill>
                <a:latin typeface="Times New Roman"/>
              </a:rPr>
              <a:t>There is a need to complete the standardisation process in providing implementers with guidelin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B80AC-97D6-4EA0-9BB7-F2E2C480579C}" type="datetime1">
              <a:rPr lang="en-US"/>
              <a:t>07/31/26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Future Plan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295280"/>
            <a:ext cx="78483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tudy Groups will continue to build links with the IETF with the objective to: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avoid duplication of work and divergent standards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collaborate where appropriate 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tudy Group 13 will continue to develop  and manage the IP Project with the assistance of the other Study Groups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Times New Roman"/>
              </a:rPr>
              <a:t>Thank you for your attention</a:t>
            </a:r>
            <a:endParaRPr b="0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D6353-99A9-4B3F-8620-B659BBAF7523}" type="datetime1">
              <a:rPr lang="en-US"/>
              <a:t>07/31/26</a:t>
            </a:fld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Study Group 13 mandat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Multi-protocol and IP-based networks and their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nternetworkin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Responsible for studies relating to internetworking of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heterogeneous networks encompassing multiple domains, multiple protocols and innovative technologies with a goal to deliver high-quality, reliable networking. Specific aspects are architecture, interworking and adaptation, end-to-end considerations, routing and requirements for transport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Mission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7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o provide a focal point in ITU for technology-independent network architecture and long-term evolution studies, including IP-network studies, through development of the necessary frameworks and architectures, coordination with the various related studies in the other ITU Study Groups and collaboration with other standards bodies.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Mission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14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o help ITU-T continue to respond to the changes to studies and priorities necessary to integrate traditional telecommunication networks with IP-based networks in order to provide full integration of services and applications to end users. Also, to give network providers the tools and information to support the market-driven changes to the telecommunication industry.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Mission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00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o conduct IP-related studies focusing on network architecture, network capabilities, network evolution, service and performance aspects, and access arrangements to achieve interoperability in the multi-vendor and multi-network-operator environments.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Particular areas of study key to this evolution are IP-based network architectures, IP-based network performance, IP transfer  capabilities, IP-VPN (virtual private network) services, IP-based network resource management and access arrangements.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Mission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o conduct the remaining studies in the area of B-ISDN resource management, performance and the ATM Layer and its adaptation and interworking.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o encourage harmonisation of IP-related and GII studies across the ITU-T study groups through the evolution and further development of the ITU-T IP and GII projects.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Mission (cont)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o collaborate with other standardisation bodies in identifying gaps in the standardisation programmes concerning IP networking and to develop proposals and Recommendations to advance the necessary work.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Moore</dc:creator>
  <dc:description/>
  <dc:language>en-US</dc:language>
  <cp:lastModifiedBy>UGALE, Arvin Carlos D.</cp:lastModifiedBy>
  <dcterms:modified xsi:type="dcterms:W3CDTF">2002-07-19T13:53:43Z</dcterms:modified>
  <cp:revision>55</cp:revision>
  <dc:subject/>
  <dc:title>PowerPoint Presentation</dc:title>
</cp:coreProperties>
</file>