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65B-3BBC-474D-B280-6154454D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404856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6FE-D14E-4F82-A76B-FE966C78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04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F9F-7489-4496-9C84-A6A8B619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428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892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1428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892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BBA-5BA2-4738-8094-2F6AF186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DC48-7AB9-4020-80E5-9419FFDE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A62D-6D0F-4A7B-8BEE-96A614AF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8516-A417-4BE1-9362-5E47B0B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1D94-AC64-4CF7-8984-95ADF0DF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1C80-26FF-4260-B434-BCAB2B1C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3049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836F-0FA7-4AFA-BE16-CB0DDD41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3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956F-2C14-49A7-BD93-EDC54AB6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630-492B-41F8-A81B-7771933C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6804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BA9A-AB41-4D42-9C6F-14486F1F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360" y="404856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9C4B-7711-47DE-B6F7-3E24BD7D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360" y="404856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3F83-42A8-4088-95A8-941DF4DA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3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6804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FF14-1766-4497-85FE-DFF02AB7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428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8920" y="114300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36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1428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8920" y="4048560"/>
            <a:ext cx="287064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3C65-ADF9-4C44-BF40-26324954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2AC-71D9-4609-9AB8-48B0011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F83-7D5E-44BC-8DE9-2292B33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0E5-8EF7-4B9E-A821-3D60C01E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-360" y="3049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7C7-853E-461D-96CF-3612A080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A5E-0275-4EBA-960C-10FE83C5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040" y="404856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48E-4986-4A4C-B7AD-B944B874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040" y="1143000"/>
            <a:ext cx="43506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4048560"/>
            <a:ext cx="8915400" cy="265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CF5-E831-4696-A409-748A7C61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143000"/>
            <a:ext cx="8915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E95E-B6E3-442B-BEC8-C8044E2FB9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143000"/>
            <a:ext cx="8915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39A2-24F5-49A6-B22A-14E1B3AACC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etf.org/html.charters/wg-dir.html#Sub-IP Area" TargetMode="External"/><Relationship Id="rId2" Type="http://schemas.openxmlformats.org/officeDocument/2006/relationships/hyperlink" Target="http://www.ietf.org/html.charters/wg-dir.html#Sub-IP Area" TargetMode="External"/><Relationship Id="rId3" Type="http://schemas.openxmlformats.org/officeDocument/2006/relationships/hyperlink" Target="http://www.ietf.org/html.charters/wg-dir.html#Sub-IP Area" TargetMode="External"/><Relationship Id="rId4" Type="http://schemas.openxmlformats.org/officeDocument/2006/relationships/hyperlink" Target="http://www.ietf.org/html.charters/wg-dir.html#Sub-IP Area" TargetMode="External"/><Relationship Id="rId5" Type="http://schemas.openxmlformats.org/officeDocument/2006/relationships/hyperlink" Target="http://www.ietf.org/html.charters/wg-dir.html#Sub-IP Area" TargetMode="External"/><Relationship Id="rId6" Type="http://schemas.openxmlformats.org/officeDocument/2006/relationships/hyperlink" Target="http://www.ietf.org/html.charters/SUB-IP.html" TargetMode="External"/><Relationship Id="rId7" Type="http://schemas.openxmlformats.org/officeDocument/2006/relationships/hyperlink" Target="http://www.ietf.org/html.charters/SUB-IP.html" TargetMode="External"/><Relationship Id="rId8" Type="http://schemas.openxmlformats.org/officeDocument/2006/relationships/hyperlink" Target="http://www.ietf.org/html.charters/SUB-IP.html" TargetMode="External"/><Relationship Id="rId9" Type="http://schemas.openxmlformats.org/officeDocument/2006/relationships/hyperlink" Target="http://www.ietf.org/html.charters/SUB-IP.html" TargetMode="External"/><Relationship Id="rId10" Type="http://schemas.openxmlformats.org/officeDocument/2006/relationships/hyperlink" Target="http://www.ietf.org/html.charters/SUB-IP.html" TargetMode="External"/><Relationship Id="rId11" Type="http://schemas.openxmlformats.org/officeDocument/2006/relationships/hyperlink" Target="http://www.ietf.org/html.charters/SUB-IP.html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ET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verview of t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ub-IP ARE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urring the Lines Between Circuits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rt Wijnen, bwijnen@lucen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ott Bradner, sob@harvard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-ADs for IETF SUB-IP Are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8086-7894-43CF-93C3-BC44715789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 Area WGs, cont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rotocol Label Switching (mp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 switching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SVP &amp; CR-LDP signaling to establish LS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PLS-specific recovery mechanis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r Provisioned Virtual Private Networks (ppvp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ail requirements for ppvpn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 the common components and pieces that are needed to build and deploy a PPV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GP-VPNs, virtual router VPNs, port-based V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4F3-A1BB-45E4-9D69-92A9265F30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 Area WGs, cont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 over Optical (i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ing methods for IP over optical data plane and control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characteristics of the optical transpor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e use of ccamp protocols for optical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 over Resilient Packet Rings (iporp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put to the IEEE RPR SG to help it formulate its requirements – has moved to the I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Switch Management Protocol (gs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l switch configuration control and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B47-1388-4B85-8CB0-72FE196D41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 Area -What’s In and 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undaries of IETF work have been blu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ub-IP area will not help clarify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con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ETF works on IP-relate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something does not have a relationship to IP networks then the work should be done els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ce many networks (e.g. all-optical) carry IP, control of those networks may be IP-re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: MPLS support for power distribution is out of 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RFC 32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920-D30B-44AF-A55E-8EBD99A053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 Are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-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SG created temp area to coordinate IETF sub-IP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a to last a year or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ll re-evaluate experience/status s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work of the sub-IP WGs should be done by the time the area is cl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remaining working groups will be distributed to existing IETF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08F-7A36-400C-B6AE-2D014ECF3CF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-IP Area  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-IP Area web page, with ptrs to WG cha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hlinkClick r:id="rId2"/>
              </a:rPr>
              <a:t>ietf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hlinkClick r:id="rId3"/>
              </a:rPr>
              <a:t>.org/html.charters/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hlinkClick r:id="rId4"/>
              </a:rPr>
              <a:t>wg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imes New Roman"/>
                <a:hlinkClick r:id="rId5"/>
              </a:rPr>
              <a:t>-dir.html - Sub-IP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-IP mailing list arch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Times New Roman"/>
                <a:hlinkClick r:id="rId6"/>
              </a:rPr>
              <a:t>http://www.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Times New Roman"/>
                <a:hlinkClick r:id="rId7"/>
              </a:rPr>
              <a:t>ietf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Times New Roman"/>
                <a:hlinkClick r:id="rId8"/>
              </a:rPr>
              <a:t>.org/html.charters/SUB-IP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ic IET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333399"/>
                </a:solidFill>
                <a:uFillTx/>
                <a:latin typeface="Times New Roman"/>
                <a:hlinkClick r:id="rId9"/>
              </a:rPr>
              <a:t>http://www.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Times New Roman"/>
                <a:hlinkClick r:id="rId10"/>
              </a:rPr>
              <a:t>ietf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Times New Roman"/>
                <a:hlinkClick r:id="rId11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0FAF-FA25-4C3B-84E7-ADDEBFD92A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A89-0A3C-4910-A6DC-E5EA74EED3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ove and be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ditionally the IETF has bee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ve the wire and below the applic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(often) defining user interfa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defining physical wir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le doing “IP over fo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o” has been types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hernet, Token Ring, ATM, SONET/SDH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foo has been chan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723B-CF88-41F7-A04F-3E98071A06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over “trails”, “circuits”, “paths”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looks like wires to 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not be physical w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instead be something where paths can be 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a path looks like a wire to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ATM V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ght also be routed datagrams another layer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IPsec tu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there is M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progressively more important “fo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ED8-E095-4D0A-9DE9-E59DF032D1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yer Vio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an extra complexity when the sub-IP technology is configu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MPLS, ATM, Frame Relay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me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to control the sub-IP technolog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nformation should be taken into accou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question may be “could a new path exist with certain characteristic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 just “can (or does) a path exis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FB7-DDA5-4A48-9727-C14AA4D982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, a (new) area in the IET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7668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systematic/co-ordinated approach to sub-IP issues would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 exact scope is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SG created a temporary area for sub-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ke what was done for IP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d in March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short lived (1-2 ye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current ADs have been appointed to run the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3B0-3D8E-4882-9C15-334B819443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 Area  - Non-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IETF is not expanding into standards for physical or virtual circui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new circuit switch architecture from 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ve them to ot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/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need to communicate (more) with other standards organizations on what we are actually 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gnificant overlap with some other SDOs like OIF, ITU-T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922D-976C-4BFB-B677-B9A70D90CE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 Area Objectives/Work-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yer 2.5” protocol:  MP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s that monitor, manage or effect logical circuit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IP Over Optical, Traffic Engineering, Common Control and Management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s that create logical circuits over 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Provider Provisioned VP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s that interface to forwarding hard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General Switch Management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B7F3-686E-4636-9FF9-A9B75CCBC1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 Area Working Groups/W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on Control and Management Protocols (ccam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surement &amp; control planes for ISP core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 collection via link state or management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.g. OSPF, IS-IS, SN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tocol independent metrics to describe sub-IP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gnaling mechanisms for path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team preparing docs for Protection and Restoration (based on TEWG requirements docu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LS docs (inherited from MPLS WG) finished and in IESG que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08A-8AC4-4D9C-98BB-7F3B82B3CE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-IP Area WGs, cont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et Traffic Engineering (tewg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ciples, techniques, and mechanisms for traffic engineering in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 operational aspects and deploy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quirements fo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etwork Hierarchy and Multilayer Survivabil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-ietf-tewg-restore-hierarchy-00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o C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ETF SUB-I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741-C0DC-49C2-9AF1-3BAB8F10ED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7:07:37Z</dcterms:created>
  <dc:creator>Fred Baker</dc:creator>
  <dc:description/>
  <dc:language>en-US</dc:language>
  <cp:lastModifiedBy>UGALE, Arvin Carlos D.</cp:lastModifiedBy>
  <cp:lastPrinted>2001-05-04T16:22:39Z</cp:lastPrinted>
  <dcterms:modified xsi:type="dcterms:W3CDTF">2002-07-19T13:50:38Z</dcterms:modified>
  <cp:revision>126</cp:revision>
  <dc:subject/>
  <dc:title>A New IETF Work Area?</dc:title>
</cp:coreProperties>
</file>