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CEAA-7E6C-4E04-A3D0-8F9DF2A5D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0424-818B-489B-A11B-0E7C873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81FA-E3A7-4C8A-B1F2-485359B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CD85-4D76-4850-93DB-8CE106AAA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735FB-142E-4958-829B-109E6F730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38F37-3C01-4EA8-8A60-415C6AE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430E-E974-4663-92A0-5253546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A5141-1E53-4612-920F-888F9C8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E7597-3114-4A81-BFB5-0C3A192D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5065-6821-4AC3-81CC-9CD79717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510F-AE04-476E-A061-FF11DFB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B611-948D-4E28-A51D-73DC3B4C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DA696-F5B4-4CC0-8477-E18B230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5A03-3BC0-4E5E-A051-3BF89603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42313-D284-4294-B06F-157EBB89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780C-70EB-4603-8FF7-81923E2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7C6B5-759B-4B7A-A78B-9755A6B43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4CD9-3D44-458A-8F73-A8F43388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4876-3845-44FB-9422-02509FA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DEE2-7F87-4F83-91CE-79A04560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7550-ADD3-476C-A58E-CEF4A0F8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FED0-EC89-4328-BC0E-55CF804F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46AD-2724-4686-BB60-15FE5F3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67BE-D46C-40B8-9250-FA27DEC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C38-D5D0-4062-B782-0DE5BF07BD1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F1AC-7949-428B-A67A-F192DC325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895480" y="5638680"/>
            <a:ext cx="2543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3840" y="6019920"/>
            <a:ext cx="80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Lead SG on </a:t>
            </a:r>
            <a:r>
              <a:rPr b="1" lang="en-US" sz="2000" spc="-1" strike="noStrike">
                <a:solidFill>
                  <a:srgbClr val="009999"/>
                </a:solidFill>
                <a:latin typeface="Monotype Corsiva"/>
              </a:rPr>
              <a:t>Optical Technology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Access Network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2895480" y="5638680"/>
            <a:ext cx="2543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3840" y="6019920"/>
            <a:ext cx="80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Lead SG on </a:t>
            </a:r>
            <a:r>
              <a:rPr b="1" lang="en-US" sz="2000" spc="-1" strike="noStrike">
                <a:solidFill>
                  <a:srgbClr val="009999"/>
                </a:solidFill>
                <a:latin typeface="Monotype Corsiva"/>
              </a:rPr>
              <a:t>Optical Technology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Access Network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758-0D9A-48AE-BA78-8AD9C51F493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63D-FACB-4203-B0ED-D6B4B367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95480" y="5638680"/>
            <a:ext cx="2543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16606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40" y="6019920"/>
            <a:ext cx="80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Lead SG on </a:t>
            </a:r>
            <a:r>
              <a:rPr b="1" lang="en-US" sz="2000" spc="-1" strike="noStrike">
                <a:solidFill>
                  <a:srgbClr val="009999"/>
                </a:solidFill>
                <a:latin typeface="Monotype Corsiva"/>
              </a:rPr>
              <a:t>Optical Technology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Access Network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95480" y="5638680"/>
            <a:ext cx="2543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840" y="6019920"/>
            <a:ext cx="80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Lead SG on </a:t>
            </a:r>
            <a:r>
              <a:rPr b="1" lang="en-US" sz="2000" spc="-1" strike="noStrike">
                <a:solidFill>
                  <a:srgbClr val="009999"/>
                </a:solidFill>
                <a:latin typeface="Monotype Corsiva"/>
              </a:rPr>
              <a:t>Optical Technology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Access Network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ITU-T Study Group 15</a:t>
            </a:r>
            <a:endParaRPr b="1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0760" y="3581280"/>
            <a:ext cx="2459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eter W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hairman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G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20968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0DAE-100F-4997-A4BF-1F37658A92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A018B-8A45-469E-A2B4-CF97C5204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ome statistic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Work Program (Questions for study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Recommendations under development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pprox. 80 - 90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tudy Group meeting interval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pprox. 8 month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Rapporteur Group meetings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requently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Work by correspondence (EDH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pproval procedure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AP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Rapporteurs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Editors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pprox. 65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G Representatives etc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G meeting participants (Avrg. 97-00/01-02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347/302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Number of countries (Admin. and/or ROA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39/26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umber of Scient. &amp; Indust. Orgs.  (SIO)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74/75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7612-F8F0-444A-9C3C-6F7083DE97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6B254-3DF7-4B4B-90CC-AAC795207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jor work area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ccess network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Broadband optical acces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Refinements &amp; enhancements xDS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Home networking (data on in-premises wiring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T standardization and work pla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153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Network signal process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ME in IP based network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Enhancements Echo Canceller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Equipment for GSTN and IP interconnectio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Interaction of signal processing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1556-F6C4-47A6-AB54-67EFFAD59F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61DF9-0E71-4040-B23A-263E85F1E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jor work area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br>
              <a:rPr sz="2000"/>
            </a:b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Transport Network (OTN) structure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utomatic Switched Optical Network (ASON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rchitecture and interfaces for the OT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cal Cross-Connect and Switch function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etwork management and control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N technology (terrestrial and submarine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arse and dense WDM,  STM-256 signal channel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cal components &amp; amplifiers (e.g. tunable filters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iber characteristics, more channels/fiber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ansmission technology (Soliton/RZ), long reach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2741-C652-4A03-8BD9-ECB69E9DE7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6DC39-C0B3-4B2F-AC87-3B7D0902E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jor work area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ojects and promo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ead SG activities (Projects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ccess Network Transport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ptical Technology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stablish/maintain links inside and outside ITU-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omotion tool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G 15 Web Site, public access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Workshops, seminars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ress Releases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Brochures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utorial material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FAA8-5FB6-462D-A7D1-CF92FD0269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FC763-017F-4430-A8A7-9F155D8BF1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mmunication, Cooper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Key SG 15 communication and cooperation partners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Organization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Technical area/Topic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M Forum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raffic &amp; network managemen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SL Forum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ccess network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M Forum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twork managemen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IS T1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ccess network, SONET/SDH, OTN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TSI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ccess network, SDH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SO/IEC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ptical fibers, component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SOC/IETF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ptical transport network 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twork signal process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IA, OIF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ptical networks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&amp; technology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EEE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58BC-7AF2-4CB5-AA0E-8804C82F18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4534F-5FA8-4A73-9AC9-9B301B33B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his Present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SG 15 overvie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ead Study Group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Expected Workshop resul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399E-4192-4194-A588-D5B539FD4A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BD400-29F5-4E35-BCF8-A909E1E8AC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TSC/WTSA Appointment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orld Telecommunication Standardization Conference  1996 (WTSC 96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ppoints SG 15 as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ead Study Group 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ccess Network Transpor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In addi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World Telecommunication Standardization Assembly  2000 (WTSA 2000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ppoints SG 15 as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ead Study Group on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Optical Technolog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A31D-130A-4AB0-A4A2-7777106402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38147-7C3D-46DE-8D67-D4466C59D1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Lead Study Group activities (Projects)</a:t>
            </a:r>
            <a:br>
              <a:rPr sz="2800"/>
            </a:b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andat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fine, maintain overall framework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other SGs, SDOs, Forums/Consortia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wn Question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ordinate, assign and prioritize work in other SG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nsistent, complete, timely standard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andardization Plan (who, what, when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ork Plan (holes, lack of progress, priorities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ovide ‘value added’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9CB9-F70C-41FE-9BF4-5DA0641D5F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9D03A-8C0B-4D51-BFEC-EA024F0210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Lead Study Group activities (Projects)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br>
              <a:rPr sz="2000"/>
            </a:b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Access Network Transport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ndardization and Work Plan established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ANT Standardization &amp; Work Plan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ntinuous updat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oad mapping future growth &amp; requirements to year 2010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ptical Technolog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ndardization and Work Plan established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Transport Networks &amp; Technologies Standardization Work Plan</a:t>
            </a:r>
            <a:endParaRPr b="0" lang="en-US" sz="16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ntinuous updat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apping of ASTN, GMPLS and OIF terminology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escription of Metropolitan Optical Network (MON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eb based presentation planned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D44B-97BE-406F-962F-927556D039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D9BB-C776-46CF-896E-96227B2271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T Standardization Pla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Introduction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ja-JP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1.</a:t>
            </a:r>
            <a:r>
              <a:rPr b="0" lang="ja-JP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Scope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2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References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3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Definitions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4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bbreviations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5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T Reference Model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6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T functionality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7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T Interfaces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8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T Transmission characteristic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9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ccess Network Elements functionality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10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ANT Scenario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11.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Overview of existing standards and activity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nex 1: Reference Scenarios for Correlation of Standards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  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nex 2: ANT-Relevant Standard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  <a:ea typeface="MS PGothic"/>
              </a:rPr>
              <a:t>Annex 3: List of Abbrevia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8635-0CE0-464D-A1BE-4201BE7654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A9847-F02A-4FB8-8426-F6A341A998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1981080"/>
            <a:ext cx="64008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52280"/>
          <a:ext cx="7583760" cy="56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280"/>
                    <a:ext cx="758376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24280" y="3200400"/>
          <a:ext cx="3581640" cy="35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58164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25720" y="6019920"/>
            <a:ext cx="449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C. IEE Vol. 113, No. 7, JULY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48AB-09D6-4133-9CC8-21B60AD60D3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5FE4-5FDD-48A6-B13C-2417B27D2F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T Standardization Plan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 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cenario 4 – Fiber acces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hysical representation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Logical representation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638440" cy="19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038480" y="18288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2514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2924280" cy="40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54D1-123A-48E6-B084-9AD577A951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906BF-56A4-44EC-83FD-7EDE9641CA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Standardization Work Pla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ntent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(status May 2002)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cope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bbrevia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5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Defini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6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TNT Correspondence and Liaison tracking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7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verview of existing standards and activity 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8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verview of existing holes, overlaps, conflict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nnex A – Terminology Mapping (ASTN, GMPLS, OIF)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nnex B – Other OTNT related organiza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nnex C – Re-numbering of ITU-T Recommendations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90DF-8D14-40C1-A521-5098521888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7C46E-8D8A-4F98-A7D8-1828D88A9D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Standardization Work Plan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143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MS PGothic"/>
              </a:rPr>
              <a:t>Global Optical Transport Network</a:t>
            </a:r>
            <a:r>
              <a:rPr b="1" lang="en-US" sz="1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  <a:ea typeface="MS PGothic"/>
              </a:rPr>
              <a:t>Supporting Today's and Futur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0840" y="1066680"/>
            <a:ext cx="6424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96960" y="1784520"/>
            <a:ext cx="5781600" cy="2558880"/>
            <a:chOff x="1596960" y="1784520"/>
            <a:chExt cx="5781600" cy="2558880"/>
          </a:xfrm>
        </p:grpSpPr>
        <p:sp>
          <p:nvSpPr>
            <p:cNvPr id="189" name=""/>
            <p:cNvSpPr/>
            <p:nvPr/>
          </p:nvSpPr>
          <p:spPr>
            <a:xfrm>
              <a:off x="4775040" y="1784520"/>
              <a:ext cx="2603520" cy="2558880"/>
            </a:xfrm>
            <a:custGeom>
              <a:avLst/>
              <a:gdLst/>
              <a:ahLst/>
              <a:rect l="l" t="t" r="r" b="b"/>
              <a:pathLst>
                <a:path w="3959" h="3426">
                  <a:moveTo>
                    <a:pt x="676" y="646"/>
                  </a:moveTo>
                  <a:lnTo>
                    <a:pt x="639" y="640"/>
                  </a:lnTo>
                  <a:lnTo>
                    <a:pt x="603" y="640"/>
                  </a:lnTo>
                  <a:lnTo>
                    <a:pt x="566" y="642"/>
                  </a:lnTo>
                  <a:lnTo>
                    <a:pt x="532" y="650"/>
                  </a:lnTo>
                  <a:lnTo>
                    <a:pt x="495" y="661"/>
                  </a:lnTo>
                  <a:lnTo>
                    <a:pt x="461" y="676"/>
                  </a:lnTo>
                  <a:lnTo>
                    <a:pt x="426" y="694"/>
                  </a:lnTo>
                  <a:lnTo>
                    <a:pt x="394" y="717"/>
                  </a:lnTo>
                  <a:lnTo>
                    <a:pt x="361" y="742"/>
                  </a:lnTo>
                  <a:lnTo>
                    <a:pt x="332" y="769"/>
                  </a:lnTo>
                  <a:lnTo>
                    <a:pt x="303" y="799"/>
                  </a:lnTo>
                  <a:lnTo>
                    <a:pt x="276" y="834"/>
                  </a:lnTo>
                  <a:lnTo>
                    <a:pt x="251" y="870"/>
                  </a:lnTo>
                  <a:lnTo>
                    <a:pt x="230" y="909"/>
                  </a:lnTo>
                  <a:lnTo>
                    <a:pt x="211" y="949"/>
                  </a:lnTo>
                  <a:lnTo>
                    <a:pt x="194" y="993"/>
                  </a:lnTo>
                  <a:lnTo>
                    <a:pt x="177" y="1055"/>
                  </a:lnTo>
                  <a:lnTo>
                    <a:pt x="165" y="1118"/>
                  </a:lnTo>
                  <a:lnTo>
                    <a:pt x="161" y="1179"/>
                  </a:lnTo>
                  <a:lnTo>
                    <a:pt x="165" y="1241"/>
                  </a:lnTo>
                  <a:lnTo>
                    <a:pt x="173" y="1299"/>
                  </a:lnTo>
                  <a:lnTo>
                    <a:pt x="188" y="1354"/>
                  </a:lnTo>
                  <a:lnTo>
                    <a:pt x="211" y="1406"/>
                  </a:lnTo>
                  <a:lnTo>
                    <a:pt x="238" y="1454"/>
                  </a:lnTo>
                  <a:lnTo>
                    <a:pt x="238" y="1446"/>
                  </a:lnTo>
                  <a:lnTo>
                    <a:pt x="205" y="1473"/>
                  </a:lnTo>
                  <a:lnTo>
                    <a:pt x="173" y="1502"/>
                  </a:lnTo>
                  <a:lnTo>
                    <a:pt x="144" y="1533"/>
                  </a:lnTo>
                  <a:lnTo>
                    <a:pt x="115" y="1567"/>
                  </a:lnTo>
                  <a:lnTo>
                    <a:pt x="90" y="1606"/>
                  </a:lnTo>
                  <a:lnTo>
                    <a:pt x="69" y="1644"/>
                  </a:lnTo>
                  <a:lnTo>
                    <a:pt x="50" y="1686"/>
                  </a:lnTo>
                  <a:lnTo>
                    <a:pt x="33" y="1729"/>
                  </a:lnTo>
                  <a:lnTo>
                    <a:pt x="19" y="1777"/>
                  </a:lnTo>
                  <a:lnTo>
                    <a:pt x="8" y="1825"/>
                  </a:lnTo>
                  <a:lnTo>
                    <a:pt x="2" y="1871"/>
                  </a:lnTo>
                  <a:lnTo>
                    <a:pt x="0" y="1917"/>
                  </a:lnTo>
                  <a:lnTo>
                    <a:pt x="2" y="1963"/>
                  </a:lnTo>
                  <a:lnTo>
                    <a:pt x="8" y="2007"/>
                  </a:lnTo>
                  <a:lnTo>
                    <a:pt x="15" y="2049"/>
                  </a:lnTo>
                  <a:lnTo>
                    <a:pt x="29" y="2090"/>
                  </a:lnTo>
                  <a:lnTo>
                    <a:pt x="44" y="2128"/>
                  </a:lnTo>
                  <a:lnTo>
                    <a:pt x="63" y="2165"/>
                  </a:lnTo>
                  <a:lnTo>
                    <a:pt x="84" y="2197"/>
                  </a:lnTo>
                  <a:lnTo>
                    <a:pt x="109" y="2228"/>
                  </a:lnTo>
                  <a:lnTo>
                    <a:pt x="138" y="2255"/>
                  </a:lnTo>
                  <a:lnTo>
                    <a:pt x="169" y="2278"/>
                  </a:lnTo>
                  <a:lnTo>
                    <a:pt x="202" y="2297"/>
                  </a:lnTo>
                  <a:lnTo>
                    <a:pt x="238" y="2312"/>
                  </a:lnTo>
                  <a:lnTo>
                    <a:pt x="261" y="2318"/>
                  </a:lnTo>
                  <a:lnTo>
                    <a:pt x="282" y="2324"/>
                  </a:lnTo>
                  <a:lnTo>
                    <a:pt x="280" y="2326"/>
                  </a:lnTo>
                  <a:lnTo>
                    <a:pt x="286" y="2380"/>
                  </a:lnTo>
                  <a:lnTo>
                    <a:pt x="296" y="2433"/>
                  </a:lnTo>
                  <a:lnTo>
                    <a:pt x="309" y="2483"/>
                  </a:lnTo>
                  <a:lnTo>
                    <a:pt x="324" y="2533"/>
                  </a:lnTo>
                  <a:lnTo>
                    <a:pt x="342" y="2579"/>
                  </a:lnTo>
                  <a:lnTo>
                    <a:pt x="363" y="2624"/>
                  </a:lnTo>
                  <a:lnTo>
                    <a:pt x="386" y="2668"/>
                  </a:lnTo>
                  <a:lnTo>
                    <a:pt x="413" y="2708"/>
                  </a:lnTo>
                  <a:lnTo>
                    <a:pt x="440" y="2745"/>
                  </a:lnTo>
                  <a:lnTo>
                    <a:pt x="470" y="2779"/>
                  </a:lnTo>
                  <a:lnTo>
                    <a:pt x="503" y="2812"/>
                  </a:lnTo>
                  <a:lnTo>
                    <a:pt x="538" y="2841"/>
                  </a:lnTo>
                  <a:lnTo>
                    <a:pt x="576" y="2867"/>
                  </a:lnTo>
                  <a:lnTo>
                    <a:pt x="614" y="2890"/>
                  </a:lnTo>
                  <a:lnTo>
                    <a:pt x="655" y="2910"/>
                  </a:lnTo>
                  <a:lnTo>
                    <a:pt x="697" y="2927"/>
                  </a:lnTo>
                  <a:lnTo>
                    <a:pt x="741" y="2940"/>
                  </a:lnTo>
                  <a:lnTo>
                    <a:pt x="787" y="2950"/>
                  </a:lnTo>
                  <a:lnTo>
                    <a:pt x="833" y="2954"/>
                  </a:lnTo>
                  <a:lnTo>
                    <a:pt x="879" y="2956"/>
                  </a:lnTo>
                  <a:lnTo>
                    <a:pt x="927" y="2954"/>
                  </a:lnTo>
                  <a:lnTo>
                    <a:pt x="973" y="2948"/>
                  </a:lnTo>
                  <a:lnTo>
                    <a:pt x="1021" y="2937"/>
                  </a:lnTo>
                  <a:lnTo>
                    <a:pt x="1069" y="2923"/>
                  </a:lnTo>
                  <a:lnTo>
                    <a:pt x="1067" y="2923"/>
                  </a:lnTo>
                  <a:lnTo>
                    <a:pt x="1075" y="2967"/>
                  </a:lnTo>
                  <a:lnTo>
                    <a:pt x="1087" y="3010"/>
                  </a:lnTo>
                  <a:lnTo>
                    <a:pt x="1098" y="3050"/>
                  </a:lnTo>
                  <a:lnTo>
                    <a:pt x="1112" y="3088"/>
                  </a:lnTo>
                  <a:lnTo>
                    <a:pt x="1129" y="3127"/>
                  </a:lnTo>
                  <a:lnTo>
                    <a:pt x="1148" y="3161"/>
                  </a:lnTo>
                  <a:lnTo>
                    <a:pt x="1167" y="3196"/>
                  </a:lnTo>
                  <a:lnTo>
                    <a:pt x="1190" y="3227"/>
                  </a:lnTo>
                  <a:lnTo>
                    <a:pt x="1213" y="3257"/>
                  </a:lnTo>
                  <a:lnTo>
                    <a:pt x="1240" y="3284"/>
                  </a:lnTo>
                  <a:lnTo>
                    <a:pt x="1267" y="3309"/>
                  </a:lnTo>
                  <a:lnTo>
                    <a:pt x="1296" y="3334"/>
                  </a:lnTo>
                  <a:lnTo>
                    <a:pt x="1327" y="3353"/>
                  </a:lnTo>
                  <a:lnTo>
                    <a:pt x="1359" y="3372"/>
                  </a:lnTo>
                  <a:lnTo>
                    <a:pt x="1392" y="3388"/>
                  </a:lnTo>
                  <a:lnTo>
                    <a:pt x="1427" y="3401"/>
                  </a:lnTo>
                  <a:lnTo>
                    <a:pt x="1473" y="3415"/>
                  </a:lnTo>
                  <a:lnTo>
                    <a:pt x="1521" y="3422"/>
                  </a:lnTo>
                  <a:lnTo>
                    <a:pt x="1569" y="3426"/>
                  </a:lnTo>
                  <a:lnTo>
                    <a:pt x="1618" y="3426"/>
                  </a:lnTo>
                  <a:lnTo>
                    <a:pt x="1666" y="3420"/>
                  </a:lnTo>
                  <a:lnTo>
                    <a:pt x="1714" y="3409"/>
                  </a:lnTo>
                  <a:lnTo>
                    <a:pt x="1762" y="3394"/>
                  </a:lnTo>
                  <a:lnTo>
                    <a:pt x="1810" y="3374"/>
                  </a:lnTo>
                  <a:lnTo>
                    <a:pt x="1857" y="3351"/>
                  </a:lnTo>
                  <a:lnTo>
                    <a:pt x="1903" y="3324"/>
                  </a:lnTo>
                  <a:lnTo>
                    <a:pt x="1947" y="3292"/>
                  </a:lnTo>
                  <a:lnTo>
                    <a:pt x="1989" y="3257"/>
                  </a:lnTo>
                  <a:lnTo>
                    <a:pt x="2029" y="3217"/>
                  </a:lnTo>
                  <a:lnTo>
                    <a:pt x="2068" y="3175"/>
                  </a:lnTo>
                  <a:lnTo>
                    <a:pt x="2104" y="3127"/>
                  </a:lnTo>
                  <a:lnTo>
                    <a:pt x="2139" y="3077"/>
                  </a:lnTo>
                  <a:lnTo>
                    <a:pt x="2139" y="3081"/>
                  </a:lnTo>
                  <a:lnTo>
                    <a:pt x="2160" y="3111"/>
                  </a:lnTo>
                  <a:lnTo>
                    <a:pt x="2185" y="3140"/>
                  </a:lnTo>
                  <a:lnTo>
                    <a:pt x="2210" y="3167"/>
                  </a:lnTo>
                  <a:lnTo>
                    <a:pt x="2237" y="3192"/>
                  </a:lnTo>
                  <a:lnTo>
                    <a:pt x="2266" y="3213"/>
                  </a:lnTo>
                  <a:lnTo>
                    <a:pt x="2296" y="3232"/>
                  </a:lnTo>
                  <a:lnTo>
                    <a:pt x="2329" y="3248"/>
                  </a:lnTo>
                  <a:lnTo>
                    <a:pt x="2362" y="3261"/>
                  </a:lnTo>
                  <a:lnTo>
                    <a:pt x="2411" y="3275"/>
                  </a:lnTo>
                  <a:lnTo>
                    <a:pt x="2463" y="3282"/>
                  </a:lnTo>
                  <a:lnTo>
                    <a:pt x="2513" y="3282"/>
                  </a:lnTo>
                  <a:lnTo>
                    <a:pt x="2565" y="3276"/>
                  </a:lnTo>
                  <a:lnTo>
                    <a:pt x="2615" y="3267"/>
                  </a:lnTo>
                  <a:lnTo>
                    <a:pt x="2665" y="3250"/>
                  </a:lnTo>
                  <a:lnTo>
                    <a:pt x="2715" y="3227"/>
                  </a:lnTo>
                  <a:lnTo>
                    <a:pt x="2761" y="3200"/>
                  </a:lnTo>
                  <a:lnTo>
                    <a:pt x="2807" y="3167"/>
                  </a:lnTo>
                  <a:lnTo>
                    <a:pt x="2851" y="3130"/>
                  </a:lnTo>
                  <a:lnTo>
                    <a:pt x="2893" y="3088"/>
                  </a:lnTo>
                  <a:lnTo>
                    <a:pt x="2932" y="3042"/>
                  </a:lnTo>
                  <a:lnTo>
                    <a:pt x="2966" y="2992"/>
                  </a:lnTo>
                  <a:lnTo>
                    <a:pt x="2999" y="2938"/>
                  </a:lnTo>
                  <a:lnTo>
                    <a:pt x="3026" y="2881"/>
                  </a:lnTo>
                  <a:lnTo>
                    <a:pt x="3051" y="2819"/>
                  </a:lnTo>
                  <a:lnTo>
                    <a:pt x="3051" y="2817"/>
                  </a:lnTo>
                  <a:lnTo>
                    <a:pt x="3106" y="2823"/>
                  </a:lnTo>
                  <a:lnTo>
                    <a:pt x="3162" y="2821"/>
                  </a:lnTo>
                  <a:lnTo>
                    <a:pt x="3216" y="2814"/>
                  </a:lnTo>
                  <a:lnTo>
                    <a:pt x="3272" y="2802"/>
                  </a:lnTo>
                  <a:lnTo>
                    <a:pt x="3325" y="2783"/>
                  </a:lnTo>
                  <a:lnTo>
                    <a:pt x="3377" y="2758"/>
                  </a:lnTo>
                  <a:lnTo>
                    <a:pt x="3429" y="2729"/>
                  </a:lnTo>
                  <a:lnTo>
                    <a:pt x="3479" y="2697"/>
                  </a:lnTo>
                  <a:lnTo>
                    <a:pt x="3527" y="2656"/>
                  </a:lnTo>
                  <a:lnTo>
                    <a:pt x="3571" y="2614"/>
                  </a:lnTo>
                  <a:lnTo>
                    <a:pt x="3613" y="2566"/>
                  </a:lnTo>
                  <a:lnTo>
                    <a:pt x="3654" y="2516"/>
                  </a:lnTo>
                  <a:lnTo>
                    <a:pt x="3690" y="2460"/>
                  </a:lnTo>
                  <a:lnTo>
                    <a:pt x="3723" y="2401"/>
                  </a:lnTo>
                  <a:lnTo>
                    <a:pt x="3752" y="2339"/>
                  </a:lnTo>
                  <a:lnTo>
                    <a:pt x="3777" y="2274"/>
                  </a:lnTo>
                  <a:lnTo>
                    <a:pt x="3794" y="2215"/>
                  </a:lnTo>
                  <a:lnTo>
                    <a:pt x="3809" y="2153"/>
                  </a:lnTo>
                  <a:lnTo>
                    <a:pt x="3819" y="2094"/>
                  </a:lnTo>
                  <a:lnTo>
                    <a:pt x="3825" y="2032"/>
                  </a:lnTo>
                  <a:lnTo>
                    <a:pt x="3828" y="1973"/>
                  </a:lnTo>
                  <a:lnTo>
                    <a:pt x="3825" y="1913"/>
                  </a:lnTo>
                  <a:lnTo>
                    <a:pt x="3819" y="1855"/>
                  </a:lnTo>
                  <a:lnTo>
                    <a:pt x="3809" y="1798"/>
                  </a:lnTo>
                  <a:lnTo>
                    <a:pt x="3807" y="1796"/>
                  </a:lnTo>
                  <a:lnTo>
                    <a:pt x="3842" y="1748"/>
                  </a:lnTo>
                  <a:lnTo>
                    <a:pt x="3873" y="1698"/>
                  </a:lnTo>
                  <a:lnTo>
                    <a:pt x="3897" y="1642"/>
                  </a:lnTo>
                  <a:lnTo>
                    <a:pt x="3919" y="1587"/>
                  </a:lnTo>
                  <a:lnTo>
                    <a:pt x="3934" y="1539"/>
                  </a:lnTo>
                  <a:lnTo>
                    <a:pt x="3945" y="1491"/>
                  </a:lnTo>
                  <a:lnTo>
                    <a:pt x="3953" y="1443"/>
                  </a:lnTo>
                  <a:lnTo>
                    <a:pt x="3957" y="1395"/>
                  </a:lnTo>
                  <a:lnTo>
                    <a:pt x="3959" y="1348"/>
                  </a:lnTo>
                  <a:lnTo>
                    <a:pt x="3957" y="1302"/>
                  </a:lnTo>
                  <a:lnTo>
                    <a:pt x="3953" y="1256"/>
                  </a:lnTo>
                  <a:lnTo>
                    <a:pt x="3945" y="1212"/>
                  </a:lnTo>
                  <a:lnTo>
                    <a:pt x="3934" y="1170"/>
                  </a:lnTo>
                  <a:lnTo>
                    <a:pt x="3921" y="1128"/>
                  </a:lnTo>
                  <a:lnTo>
                    <a:pt x="3903" y="1089"/>
                  </a:lnTo>
                  <a:lnTo>
                    <a:pt x="3884" y="1053"/>
                  </a:lnTo>
                  <a:lnTo>
                    <a:pt x="3861" y="1018"/>
                  </a:lnTo>
                  <a:lnTo>
                    <a:pt x="3836" y="986"/>
                  </a:lnTo>
                  <a:lnTo>
                    <a:pt x="3809" y="957"/>
                  </a:lnTo>
                  <a:lnTo>
                    <a:pt x="3778" y="930"/>
                  </a:lnTo>
                  <a:lnTo>
                    <a:pt x="3780" y="928"/>
                  </a:lnTo>
                  <a:lnTo>
                    <a:pt x="3788" y="880"/>
                  </a:lnTo>
                  <a:lnTo>
                    <a:pt x="3792" y="834"/>
                  </a:lnTo>
                  <a:lnTo>
                    <a:pt x="3792" y="788"/>
                  </a:lnTo>
                  <a:lnTo>
                    <a:pt x="3788" y="744"/>
                  </a:lnTo>
                  <a:lnTo>
                    <a:pt x="3782" y="699"/>
                  </a:lnTo>
                  <a:lnTo>
                    <a:pt x="3773" y="657"/>
                  </a:lnTo>
                  <a:lnTo>
                    <a:pt x="3759" y="617"/>
                  </a:lnTo>
                  <a:lnTo>
                    <a:pt x="3744" y="578"/>
                  </a:lnTo>
                  <a:lnTo>
                    <a:pt x="3727" y="544"/>
                  </a:lnTo>
                  <a:lnTo>
                    <a:pt x="3705" y="509"/>
                  </a:lnTo>
                  <a:lnTo>
                    <a:pt x="3681" y="479"/>
                  </a:lnTo>
                  <a:lnTo>
                    <a:pt x="3654" y="450"/>
                  </a:lnTo>
                  <a:lnTo>
                    <a:pt x="3625" y="425"/>
                  </a:lnTo>
                  <a:lnTo>
                    <a:pt x="3594" y="404"/>
                  </a:lnTo>
                  <a:lnTo>
                    <a:pt x="3561" y="386"/>
                  </a:lnTo>
                  <a:lnTo>
                    <a:pt x="3525" y="371"/>
                  </a:lnTo>
                  <a:lnTo>
                    <a:pt x="3479" y="360"/>
                  </a:lnTo>
                  <a:lnTo>
                    <a:pt x="3433" y="354"/>
                  </a:lnTo>
                  <a:lnTo>
                    <a:pt x="3387" y="354"/>
                  </a:lnTo>
                  <a:lnTo>
                    <a:pt x="3339" y="360"/>
                  </a:lnTo>
                  <a:lnTo>
                    <a:pt x="3291" y="373"/>
                  </a:lnTo>
                  <a:lnTo>
                    <a:pt x="3245" y="392"/>
                  </a:lnTo>
                  <a:lnTo>
                    <a:pt x="3199" y="415"/>
                  </a:lnTo>
                  <a:lnTo>
                    <a:pt x="3154" y="446"/>
                  </a:lnTo>
                  <a:lnTo>
                    <a:pt x="3154" y="448"/>
                  </a:lnTo>
                  <a:lnTo>
                    <a:pt x="3141" y="398"/>
                  </a:lnTo>
                  <a:lnTo>
                    <a:pt x="3124" y="352"/>
                  </a:lnTo>
                  <a:lnTo>
                    <a:pt x="3101" y="308"/>
                  </a:lnTo>
                  <a:lnTo>
                    <a:pt x="3074" y="271"/>
                  </a:lnTo>
                  <a:lnTo>
                    <a:pt x="3041" y="237"/>
                  </a:lnTo>
                  <a:lnTo>
                    <a:pt x="3007" y="208"/>
                  </a:lnTo>
                  <a:lnTo>
                    <a:pt x="2968" y="185"/>
                  </a:lnTo>
                  <a:lnTo>
                    <a:pt x="2928" y="168"/>
                  </a:lnTo>
                  <a:lnTo>
                    <a:pt x="2901" y="160"/>
                  </a:lnTo>
                  <a:lnTo>
                    <a:pt x="2876" y="154"/>
                  </a:lnTo>
                  <a:lnTo>
                    <a:pt x="2849" y="152"/>
                  </a:lnTo>
                  <a:lnTo>
                    <a:pt x="2822" y="150"/>
                  </a:lnTo>
                  <a:lnTo>
                    <a:pt x="2794" y="152"/>
                  </a:lnTo>
                  <a:lnTo>
                    <a:pt x="2767" y="156"/>
                  </a:lnTo>
                  <a:lnTo>
                    <a:pt x="2740" y="164"/>
                  </a:lnTo>
                  <a:lnTo>
                    <a:pt x="2713" y="171"/>
                  </a:lnTo>
                  <a:lnTo>
                    <a:pt x="2686" y="181"/>
                  </a:lnTo>
                  <a:lnTo>
                    <a:pt x="2659" y="194"/>
                  </a:lnTo>
                  <a:lnTo>
                    <a:pt x="2634" y="210"/>
                  </a:lnTo>
                  <a:lnTo>
                    <a:pt x="2609" y="225"/>
                  </a:lnTo>
                  <a:lnTo>
                    <a:pt x="2584" y="244"/>
                  </a:lnTo>
                  <a:lnTo>
                    <a:pt x="2561" y="265"/>
                  </a:lnTo>
                  <a:lnTo>
                    <a:pt x="2515" y="312"/>
                  </a:lnTo>
                  <a:lnTo>
                    <a:pt x="2513" y="319"/>
                  </a:lnTo>
                  <a:lnTo>
                    <a:pt x="2494" y="271"/>
                  </a:lnTo>
                  <a:lnTo>
                    <a:pt x="2469" y="227"/>
                  </a:lnTo>
                  <a:lnTo>
                    <a:pt x="2442" y="187"/>
                  </a:lnTo>
                  <a:lnTo>
                    <a:pt x="2411" y="150"/>
                  </a:lnTo>
                  <a:lnTo>
                    <a:pt x="2377" y="120"/>
                  </a:lnTo>
                  <a:lnTo>
                    <a:pt x="2340" y="91"/>
                  </a:lnTo>
                  <a:lnTo>
                    <a:pt x="2300" y="70"/>
                  </a:lnTo>
                  <a:lnTo>
                    <a:pt x="2258" y="52"/>
                  </a:lnTo>
                  <a:lnTo>
                    <a:pt x="2227" y="43"/>
                  </a:lnTo>
                  <a:lnTo>
                    <a:pt x="2194" y="37"/>
                  </a:lnTo>
                  <a:lnTo>
                    <a:pt x="2164" y="33"/>
                  </a:lnTo>
                  <a:lnTo>
                    <a:pt x="2131" y="31"/>
                  </a:lnTo>
                  <a:lnTo>
                    <a:pt x="2098" y="33"/>
                  </a:lnTo>
                  <a:lnTo>
                    <a:pt x="2066" y="37"/>
                  </a:lnTo>
                  <a:lnTo>
                    <a:pt x="2033" y="45"/>
                  </a:lnTo>
                  <a:lnTo>
                    <a:pt x="2001" y="54"/>
                  </a:lnTo>
                  <a:lnTo>
                    <a:pt x="1970" y="66"/>
                  </a:lnTo>
                  <a:lnTo>
                    <a:pt x="1937" y="81"/>
                  </a:lnTo>
                  <a:lnTo>
                    <a:pt x="1906" y="98"/>
                  </a:lnTo>
                  <a:lnTo>
                    <a:pt x="1876" y="118"/>
                  </a:lnTo>
                  <a:lnTo>
                    <a:pt x="1847" y="139"/>
                  </a:lnTo>
                  <a:lnTo>
                    <a:pt x="1818" y="164"/>
                  </a:lnTo>
                  <a:lnTo>
                    <a:pt x="1789" y="189"/>
                  </a:lnTo>
                  <a:lnTo>
                    <a:pt x="1762" y="217"/>
                  </a:lnTo>
                  <a:lnTo>
                    <a:pt x="1761" y="221"/>
                  </a:lnTo>
                  <a:lnTo>
                    <a:pt x="1736" y="187"/>
                  </a:lnTo>
                  <a:lnTo>
                    <a:pt x="1709" y="156"/>
                  </a:lnTo>
                  <a:lnTo>
                    <a:pt x="1678" y="127"/>
                  </a:lnTo>
                  <a:lnTo>
                    <a:pt x="1647" y="100"/>
                  </a:lnTo>
                  <a:lnTo>
                    <a:pt x="1615" y="77"/>
                  </a:lnTo>
                  <a:lnTo>
                    <a:pt x="1582" y="58"/>
                  </a:lnTo>
                  <a:lnTo>
                    <a:pt x="1546" y="41"/>
                  </a:lnTo>
                  <a:lnTo>
                    <a:pt x="1509" y="25"/>
                  </a:lnTo>
                  <a:lnTo>
                    <a:pt x="1480" y="16"/>
                  </a:lnTo>
                  <a:lnTo>
                    <a:pt x="1450" y="10"/>
                  </a:lnTo>
                  <a:lnTo>
                    <a:pt x="1421" y="4"/>
                  </a:lnTo>
                  <a:lnTo>
                    <a:pt x="1390" y="2"/>
                  </a:lnTo>
                  <a:lnTo>
                    <a:pt x="1331" y="0"/>
                  </a:lnTo>
                  <a:lnTo>
                    <a:pt x="1271" y="8"/>
                  </a:lnTo>
                  <a:lnTo>
                    <a:pt x="1211" y="20"/>
                  </a:lnTo>
                  <a:lnTo>
                    <a:pt x="1152" y="41"/>
                  </a:lnTo>
                  <a:lnTo>
                    <a:pt x="1096" y="68"/>
                  </a:lnTo>
                  <a:lnTo>
                    <a:pt x="1041" y="100"/>
                  </a:lnTo>
                  <a:lnTo>
                    <a:pt x="987" y="139"/>
                  </a:lnTo>
                  <a:lnTo>
                    <a:pt x="935" y="181"/>
                  </a:lnTo>
                  <a:lnTo>
                    <a:pt x="887" y="231"/>
                  </a:lnTo>
                  <a:lnTo>
                    <a:pt x="841" y="285"/>
                  </a:lnTo>
                  <a:lnTo>
                    <a:pt x="801" y="344"/>
                  </a:lnTo>
                  <a:lnTo>
                    <a:pt x="764" y="408"/>
                  </a:lnTo>
                  <a:lnTo>
                    <a:pt x="731" y="477"/>
                  </a:lnTo>
                  <a:lnTo>
                    <a:pt x="703" y="548"/>
                  </a:lnTo>
                  <a:lnTo>
                    <a:pt x="687" y="598"/>
                  </a:lnTo>
                  <a:lnTo>
                    <a:pt x="674" y="646"/>
                  </a:lnTo>
                  <a:lnTo>
                    <a:pt x="676" y="6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3800" y="2870280"/>
              <a:ext cx="123840" cy="98280"/>
            </a:xfrm>
            <a:custGeom>
              <a:avLst/>
              <a:gdLst/>
              <a:ahLst/>
              <a:rect l="l" t="t" r="r" b="b"/>
              <a:pathLst>
                <a:path w="190" h="133">
                  <a:moveTo>
                    <a:pt x="0" y="0"/>
                  </a:moveTo>
                  <a:lnTo>
                    <a:pt x="33" y="42"/>
                  </a:lnTo>
                  <a:lnTo>
                    <a:pt x="71" y="77"/>
                  </a:lnTo>
                  <a:lnTo>
                    <a:pt x="92" y="92"/>
                  </a:lnTo>
                  <a:lnTo>
                    <a:pt x="115" y="106"/>
                  </a:lnTo>
                  <a:lnTo>
                    <a:pt x="138" y="115"/>
                  </a:lnTo>
                  <a:lnTo>
                    <a:pt x="161" y="125"/>
                  </a:lnTo>
                  <a:lnTo>
                    <a:pt x="177" y="129"/>
                  </a:lnTo>
                  <a:lnTo>
                    <a:pt x="190" y="1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2600" y="3519360"/>
              <a:ext cx="65160" cy="180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0"/>
                  </a:moveTo>
                  <a:lnTo>
                    <a:pt x="25" y="4"/>
                  </a:lnTo>
                  <a:lnTo>
                    <a:pt x="50" y="4"/>
                  </a:lnTo>
                  <a:lnTo>
                    <a:pt x="10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0560" y="3851280"/>
              <a:ext cx="7920" cy="115920"/>
            </a:xfrm>
            <a:custGeom>
              <a:avLst/>
              <a:gdLst/>
              <a:ahLst/>
              <a:rect l="l" t="t" r="r" b="b"/>
              <a:pathLst>
                <a:path w="9" h="154">
                  <a:moveTo>
                    <a:pt x="0" y="0"/>
                  </a:moveTo>
                  <a:lnTo>
                    <a:pt x="0" y="39"/>
                  </a:lnTo>
                  <a:lnTo>
                    <a:pt x="2" y="77"/>
                  </a:lnTo>
                  <a:lnTo>
                    <a:pt x="9" y="1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81560" y="3976560"/>
              <a:ext cx="47880" cy="104760"/>
            </a:xfrm>
            <a:custGeom>
              <a:avLst/>
              <a:gdLst/>
              <a:ahLst/>
              <a:rect l="l" t="t" r="r" b="b"/>
              <a:pathLst>
                <a:path w="73" h="140">
                  <a:moveTo>
                    <a:pt x="0" y="140"/>
                  </a:moveTo>
                  <a:lnTo>
                    <a:pt x="21" y="105"/>
                  </a:lnTo>
                  <a:lnTo>
                    <a:pt x="40" y="71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7680" y="3406680"/>
              <a:ext cx="82800" cy="482760"/>
            </a:xfrm>
            <a:custGeom>
              <a:avLst/>
              <a:gdLst/>
              <a:ahLst/>
              <a:rect l="l" t="t" r="r" b="b"/>
              <a:pathLst>
                <a:path w="127" h="647">
                  <a:moveTo>
                    <a:pt x="83" y="647"/>
                  </a:moveTo>
                  <a:lnTo>
                    <a:pt x="83" y="645"/>
                  </a:lnTo>
                  <a:lnTo>
                    <a:pt x="85" y="642"/>
                  </a:lnTo>
                  <a:lnTo>
                    <a:pt x="98" y="597"/>
                  </a:lnTo>
                  <a:lnTo>
                    <a:pt x="110" y="553"/>
                  </a:lnTo>
                  <a:lnTo>
                    <a:pt x="117" y="509"/>
                  </a:lnTo>
                  <a:lnTo>
                    <a:pt x="123" y="465"/>
                  </a:lnTo>
                  <a:lnTo>
                    <a:pt x="127" y="421"/>
                  </a:lnTo>
                  <a:lnTo>
                    <a:pt x="127" y="379"/>
                  </a:lnTo>
                  <a:lnTo>
                    <a:pt x="125" y="334"/>
                  </a:lnTo>
                  <a:lnTo>
                    <a:pt x="121" y="292"/>
                  </a:lnTo>
                  <a:lnTo>
                    <a:pt x="113" y="252"/>
                  </a:lnTo>
                  <a:lnTo>
                    <a:pt x="106" y="212"/>
                  </a:lnTo>
                  <a:lnTo>
                    <a:pt x="94" y="173"/>
                  </a:lnTo>
                  <a:lnTo>
                    <a:pt x="79" y="135"/>
                  </a:lnTo>
                  <a:lnTo>
                    <a:pt x="64" y="98"/>
                  </a:lnTo>
                  <a:lnTo>
                    <a:pt x="44" y="64"/>
                  </a:lnTo>
                  <a:lnTo>
                    <a:pt x="23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53200" y="3124080"/>
              <a:ext cx="125640" cy="125640"/>
            </a:xfrm>
            <a:custGeom>
              <a:avLst/>
              <a:gdLst/>
              <a:ahLst/>
              <a:rect l="l" t="t" r="r" b="b"/>
              <a:pathLst>
                <a:path w="192" h="167">
                  <a:moveTo>
                    <a:pt x="0" y="167"/>
                  </a:moveTo>
                  <a:lnTo>
                    <a:pt x="54" y="134"/>
                  </a:lnTo>
                  <a:lnTo>
                    <a:pt x="104" y="96"/>
                  </a:lnTo>
                  <a:lnTo>
                    <a:pt x="150" y="5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42120" y="2476440"/>
              <a:ext cx="19080" cy="76320"/>
            </a:xfrm>
            <a:custGeom>
              <a:avLst/>
              <a:gdLst/>
              <a:ahLst/>
              <a:rect l="l" t="t" r="r" b="b"/>
              <a:pathLst>
                <a:path w="28" h="102">
                  <a:moveTo>
                    <a:pt x="0" y="102"/>
                  </a:moveTo>
                  <a:lnTo>
                    <a:pt x="1" y="98"/>
                  </a:lnTo>
                  <a:lnTo>
                    <a:pt x="3" y="94"/>
                  </a:lnTo>
                  <a:lnTo>
                    <a:pt x="17" y="48"/>
                  </a:lnTo>
                  <a:lnTo>
                    <a:pt x="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2116080"/>
              <a:ext cx="68400" cy="7956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103" y="0"/>
                  </a:moveTo>
                  <a:lnTo>
                    <a:pt x="50" y="50"/>
                  </a:lnTo>
                  <a:lnTo>
                    <a:pt x="23" y="77"/>
                  </a:lnTo>
                  <a:lnTo>
                    <a:pt x="0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4960" y="2016000"/>
              <a:ext cx="44280" cy="73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67" y="0"/>
                  </a:moveTo>
                  <a:lnTo>
                    <a:pt x="31" y="48"/>
                  </a:lnTo>
                  <a:lnTo>
                    <a:pt x="0" y="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4240" y="1949400"/>
              <a:ext cx="45720" cy="103320"/>
            </a:xfrm>
            <a:custGeom>
              <a:avLst/>
              <a:gdLst/>
              <a:ahLst/>
              <a:rect l="l" t="t" r="r" b="b"/>
              <a:pathLst>
                <a:path w="71" h="140">
                  <a:moveTo>
                    <a:pt x="71" y="140"/>
                  </a:moveTo>
                  <a:lnTo>
                    <a:pt x="57" y="104"/>
                  </a:lnTo>
                  <a:lnTo>
                    <a:pt x="40" y="67"/>
                  </a:lnTo>
                  <a:lnTo>
                    <a:pt x="21" y="3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08480" y="2265480"/>
              <a:ext cx="9720" cy="88920"/>
            </a:xfrm>
            <a:custGeom>
              <a:avLst/>
              <a:gdLst/>
              <a:ahLst/>
              <a:rect l="l" t="t" r="r" b="b"/>
              <a:pathLst>
                <a:path w="17" h="117">
                  <a:moveTo>
                    <a:pt x="17" y="0"/>
                  </a:moveTo>
                  <a:lnTo>
                    <a:pt x="7" y="57"/>
                  </a:lnTo>
                  <a:lnTo>
                    <a:pt x="0" y="1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43160" y="2475000"/>
              <a:ext cx="414360" cy="441360"/>
            </a:xfrm>
            <a:custGeom>
              <a:avLst/>
              <a:gdLst/>
              <a:ahLst/>
              <a:rect l="l" t="t" r="r" b="b"/>
              <a:pathLst>
                <a:path w="629" h="593">
                  <a:moveTo>
                    <a:pt x="409" y="17"/>
                  </a:moveTo>
                  <a:lnTo>
                    <a:pt x="378" y="8"/>
                  </a:lnTo>
                  <a:lnTo>
                    <a:pt x="347" y="2"/>
                  </a:lnTo>
                  <a:lnTo>
                    <a:pt x="314" y="0"/>
                  </a:lnTo>
                  <a:lnTo>
                    <a:pt x="286" y="0"/>
                  </a:lnTo>
                  <a:lnTo>
                    <a:pt x="255" y="2"/>
                  </a:lnTo>
                  <a:lnTo>
                    <a:pt x="224" y="8"/>
                  </a:lnTo>
                  <a:lnTo>
                    <a:pt x="197" y="15"/>
                  </a:lnTo>
                  <a:lnTo>
                    <a:pt x="169" y="27"/>
                  </a:lnTo>
                  <a:lnTo>
                    <a:pt x="144" y="40"/>
                  </a:lnTo>
                  <a:lnTo>
                    <a:pt x="119" y="56"/>
                  </a:lnTo>
                  <a:lnTo>
                    <a:pt x="96" y="73"/>
                  </a:lnTo>
                  <a:lnTo>
                    <a:pt x="74" y="94"/>
                  </a:lnTo>
                  <a:lnTo>
                    <a:pt x="55" y="115"/>
                  </a:lnTo>
                  <a:lnTo>
                    <a:pt x="38" y="140"/>
                  </a:lnTo>
                  <a:lnTo>
                    <a:pt x="25" y="165"/>
                  </a:lnTo>
                  <a:lnTo>
                    <a:pt x="13" y="194"/>
                  </a:lnTo>
                  <a:lnTo>
                    <a:pt x="5" y="223"/>
                  </a:lnTo>
                  <a:lnTo>
                    <a:pt x="0" y="252"/>
                  </a:lnTo>
                  <a:lnTo>
                    <a:pt x="0" y="282"/>
                  </a:lnTo>
                  <a:lnTo>
                    <a:pt x="0" y="311"/>
                  </a:lnTo>
                  <a:lnTo>
                    <a:pt x="5" y="340"/>
                  </a:lnTo>
                  <a:lnTo>
                    <a:pt x="11" y="367"/>
                  </a:lnTo>
                  <a:lnTo>
                    <a:pt x="23" y="396"/>
                  </a:lnTo>
                  <a:lnTo>
                    <a:pt x="34" y="421"/>
                  </a:lnTo>
                  <a:lnTo>
                    <a:pt x="49" y="446"/>
                  </a:lnTo>
                  <a:lnTo>
                    <a:pt x="67" y="471"/>
                  </a:lnTo>
                  <a:lnTo>
                    <a:pt x="88" y="494"/>
                  </a:lnTo>
                  <a:lnTo>
                    <a:pt x="109" y="515"/>
                  </a:lnTo>
                  <a:lnTo>
                    <a:pt x="134" y="532"/>
                  </a:lnTo>
                  <a:lnTo>
                    <a:pt x="161" y="549"/>
                  </a:lnTo>
                  <a:lnTo>
                    <a:pt x="188" y="565"/>
                  </a:lnTo>
                  <a:lnTo>
                    <a:pt x="218" y="576"/>
                  </a:lnTo>
                  <a:lnTo>
                    <a:pt x="249" y="586"/>
                  </a:lnTo>
                  <a:lnTo>
                    <a:pt x="280" y="592"/>
                  </a:lnTo>
                  <a:lnTo>
                    <a:pt x="313" y="593"/>
                  </a:lnTo>
                  <a:lnTo>
                    <a:pt x="343" y="593"/>
                  </a:lnTo>
                  <a:lnTo>
                    <a:pt x="372" y="592"/>
                  </a:lnTo>
                  <a:lnTo>
                    <a:pt x="403" y="586"/>
                  </a:lnTo>
                  <a:lnTo>
                    <a:pt x="430" y="576"/>
                  </a:lnTo>
                  <a:lnTo>
                    <a:pt x="458" y="567"/>
                  </a:lnTo>
                  <a:lnTo>
                    <a:pt x="483" y="553"/>
                  </a:lnTo>
                  <a:lnTo>
                    <a:pt x="508" y="538"/>
                  </a:lnTo>
                  <a:lnTo>
                    <a:pt x="531" y="520"/>
                  </a:lnTo>
                  <a:lnTo>
                    <a:pt x="553" y="499"/>
                  </a:lnTo>
                  <a:lnTo>
                    <a:pt x="572" y="478"/>
                  </a:lnTo>
                  <a:lnTo>
                    <a:pt x="589" y="453"/>
                  </a:lnTo>
                  <a:lnTo>
                    <a:pt x="602" y="428"/>
                  </a:lnTo>
                  <a:lnTo>
                    <a:pt x="614" y="400"/>
                  </a:lnTo>
                  <a:lnTo>
                    <a:pt x="622" y="371"/>
                  </a:lnTo>
                  <a:lnTo>
                    <a:pt x="627" y="340"/>
                  </a:lnTo>
                  <a:lnTo>
                    <a:pt x="629" y="311"/>
                  </a:lnTo>
                  <a:lnTo>
                    <a:pt x="627" y="282"/>
                  </a:lnTo>
                  <a:lnTo>
                    <a:pt x="624" y="254"/>
                  </a:lnTo>
                  <a:lnTo>
                    <a:pt x="616" y="225"/>
                  </a:lnTo>
                  <a:lnTo>
                    <a:pt x="606" y="198"/>
                  </a:lnTo>
                  <a:lnTo>
                    <a:pt x="593" y="171"/>
                  </a:lnTo>
                  <a:lnTo>
                    <a:pt x="577" y="146"/>
                  </a:lnTo>
                  <a:lnTo>
                    <a:pt x="560" y="121"/>
                  </a:lnTo>
                  <a:lnTo>
                    <a:pt x="541" y="100"/>
                  </a:lnTo>
                  <a:lnTo>
                    <a:pt x="518" y="79"/>
                  </a:lnTo>
                  <a:lnTo>
                    <a:pt x="495" y="60"/>
                  </a:lnTo>
                  <a:lnTo>
                    <a:pt x="468" y="44"/>
                  </a:lnTo>
                  <a:lnTo>
                    <a:pt x="439" y="29"/>
                  </a:lnTo>
                  <a:lnTo>
                    <a:pt x="409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6960" y="2328840"/>
              <a:ext cx="277920" cy="297000"/>
            </a:xfrm>
            <a:custGeom>
              <a:avLst/>
              <a:gdLst/>
              <a:ahLst/>
              <a:rect l="l" t="t" r="r" b="b"/>
              <a:pathLst>
                <a:path w="420" h="398">
                  <a:moveTo>
                    <a:pt x="272" y="12"/>
                  </a:moveTo>
                  <a:lnTo>
                    <a:pt x="251" y="6"/>
                  </a:lnTo>
                  <a:lnTo>
                    <a:pt x="232" y="2"/>
                  </a:lnTo>
                  <a:lnTo>
                    <a:pt x="211" y="0"/>
                  </a:lnTo>
                  <a:lnTo>
                    <a:pt x="190" y="0"/>
                  </a:lnTo>
                  <a:lnTo>
                    <a:pt x="149" y="6"/>
                  </a:lnTo>
                  <a:lnTo>
                    <a:pt x="113" y="19"/>
                  </a:lnTo>
                  <a:lnTo>
                    <a:pt x="78" y="39"/>
                  </a:lnTo>
                  <a:lnTo>
                    <a:pt x="50" y="64"/>
                  </a:lnTo>
                  <a:lnTo>
                    <a:pt x="27" y="94"/>
                  </a:lnTo>
                  <a:lnTo>
                    <a:pt x="17" y="112"/>
                  </a:lnTo>
                  <a:lnTo>
                    <a:pt x="9" y="131"/>
                  </a:lnTo>
                  <a:lnTo>
                    <a:pt x="3" y="150"/>
                  </a:lnTo>
                  <a:lnTo>
                    <a:pt x="2" y="169"/>
                  </a:lnTo>
                  <a:lnTo>
                    <a:pt x="0" y="190"/>
                  </a:lnTo>
                  <a:lnTo>
                    <a:pt x="0" y="209"/>
                  </a:lnTo>
                  <a:lnTo>
                    <a:pt x="3" y="229"/>
                  </a:lnTo>
                  <a:lnTo>
                    <a:pt x="7" y="248"/>
                  </a:lnTo>
                  <a:lnTo>
                    <a:pt x="23" y="282"/>
                  </a:lnTo>
                  <a:lnTo>
                    <a:pt x="44" y="315"/>
                  </a:lnTo>
                  <a:lnTo>
                    <a:pt x="73" y="344"/>
                  </a:lnTo>
                  <a:lnTo>
                    <a:pt x="107" y="369"/>
                  </a:lnTo>
                  <a:lnTo>
                    <a:pt x="146" y="386"/>
                  </a:lnTo>
                  <a:lnTo>
                    <a:pt x="167" y="392"/>
                  </a:lnTo>
                  <a:lnTo>
                    <a:pt x="188" y="396"/>
                  </a:lnTo>
                  <a:lnTo>
                    <a:pt x="207" y="398"/>
                  </a:lnTo>
                  <a:lnTo>
                    <a:pt x="228" y="398"/>
                  </a:lnTo>
                  <a:lnTo>
                    <a:pt x="268" y="392"/>
                  </a:lnTo>
                  <a:lnTo>
                    <a:pt x="305" y="378"/>
                  </a:lnTo>
                  <a:lnTo>
                    <a:pt x="339" y="359"/>
                  </a:lnTo>
                  <a:lnTo>
                    <a:pt x="368" y="334"/>
                  </a:lnTo>
                  <a:lnTo>
                    <a:pt x="391" y="304"/>
                  </a:lnTo>
                  <a:lnTo>
                    <a:pt x="401" y="286"/>
                  </a:lnTo>
                  <a:lnTo>
                    <a:pt x="409" y="267"/>
                  </a:lnTo>
                  <a:lnTo>
                    <a:pt x="414" y="248"/>
                  </a:lnTo>
                  <a:lnTo>
                    <a:pt x="418" y="229"/>
                  </a:lnTo>
                  <a:lnTo>
                    <a:pt x="420" y="208"/>
                  </a:lnTo>
                  <a:lnTo>
                    <a:pt x="418" y="188"/>
                  </a:lnTo>
                  <a:lnTo>
                    <a:pt x="416" y="169"/>
                  </a:lnTo>
                  <a:lnTo>
                    <a:pt x="411" y="150"/>
                  </a:lnTo>
                  <a:lnTo>
                    <a:pt x="395" y="115"/>
                  </a:lnTo>
                  <a:lnTo>
                    <a:pt x="374" y="83"/>
                  </a:lnTo>
                  <a:lnTo>
                    <a:pt x="345" y="54"/>
                  </a:lnTo>
                  <a:lnTo>
                    <a:pt x="313" y="29"/>
                  </a:lnTo>
                  <a:lnTo>
                    <a:pt x="27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20720" y="2212920"/>
            <a:ext cx="1662120" cy="101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69920" y="1600200"/>
            <a:ext cx="2602080" cy="2562120"/>
          </a:xfrm>
          <a:custGeom>
            <a:avLst/>
            <a:gdLst/>
            <a:ahLst/>
            <a:rect l="l" t="t" r="r" b="b"/>
            <a:pathLst>
              <a:path w="3959" h="3427">
                <a:moveTo>
                  <a:pt x="676" y="645"/>
                </a:moveTo>
                <a:lnTo>
                  <a:pt x="639" y="639"/>
                </a:lnTo>
                <a:lnTo>
                  <a:pt x="603" y="639"/>
                </a:lnTo>
                <a:lnTo>
                  <a:pt x="566" y="643"/>
                </a:lnTo>
                <a:lnTo>
                  <a:pt x="530" y="651"/>
                </a:lnTo>
                <a:lnTo>
                  <a:pt x="495" y="660"/>
                </a:lnTo>
                <a:lnTo>
                  <a:pt x="459" y="676"/>
                </a:lnTo>
                <a:lnTo>
                  <a:pt x="426" y="695"/>
                </a:lnTo>
                <a:lnTo>
                  <a:pt x="391" y="716"/>
                </a:lnTo>
                <a:lnTo>
                  <a:pt x="361" y="741"/>
                </a:lnTo>
                <a:lnTo>
                  <a:pt x="330" y="770"/>
                </a:lnTo>
                <a:lnTo>
                  <a:pt x="303" y="801"/>
                </a:lnTo>
                <a:lnTo>
                  <a:pt x="276" y="833"/>
                </a:lnTo>
                <a:lnTo>
                  <a:pt x="251" y="870"/>
                </a:lnTo>
                <a:lnTo>
                  <a:pt x="230" y="910"/>
                </a:lnTo>
                <a:lnTo>
                  <a:pt x="211" y="950"/>
                </a:lnTo>
                <a:lnTo>
                  <a:pt x="194" y="994"/>
                </a:lnTo>
                <a:lnTo>
                  <a:pt x="176" y="1056"/>
                </a:lnTo>
                <a:lnTo>
                  <a:pt x="165" y="1117"/>
                </a:lnTo>
                <a:lnTo>
                  <a:pt x="161" y="1179"/>
                </a:lnTo>
                <a:lnTo>
                  <a:pt x="163" y="1240"/>
                </a:lnTo>
                <a:lnTo>
                  <a:pt x="173" y="1298"/>
                </a:lnTo>
                <a:lnTo>
                  <a:pt x="186" y="1354"/>
                </a:lnTo>
                <a:lnTo>
                  <a:pt x="209" y="1405"/>
                </a:lnTo>
                <a:lnTo>
                  <a:pt x="236" y="1453"/>
                </a:lnTo>
                <a:lnTo>
                  <a:pt x="236" y="1448"/>
                </a:lnTo>
                <a:lnTo>
                  <a:pt x="203" y="1473"/>
                </a:lnTo>
                <a:lnTo>
                  <a:pt x="171" y="1501"/>
                </a:lnTo>
                <a:lnTo>
                  <a:pt x="142" y="1534"/>
                </a:lnTo>
                <a:lnTo>
                  <a:pt x="115" y="1569"/>
                </a:lnTo>
                <a:lnTo>
                  <a:pt x="90" y="1605"/>
                </a:lnTo>
                <a:lnTo>
                  <a:pt x="67" y="1644"/>
                </a:lnTo>
                <a:lnTo>
                  <a:pt x="48" y="1686"/>
                </a:lnTo>
                <a:lnTo>
                  <a:pt x="32" y="1728"/>
                </a:lnTo>
                <a:lnTo>
                  <a:pt x="19" y="1776"/>
                </a:lnTo>
                <a:lnTo>
                  <a:pt x="7" y="1824"/>
                </a:lnTo>
                <a:lnTo>
                  <a:pt x="2" y="1870"/>
                </a:lnTo>
                <a:lnTo>
                  <a:pt x="0" y="1916"/>
                </a:lnTo>
                <a:lnTo>
                  <a:pt x="2" y="1962"/>
                </a:lnTo>
                <a:lnTo>
                  <a:pt x="6" y="2006"/>
                </a:lnTo>
                <a:lnTo>
                  <a:pt x="15" y="2049"/>
                </a:lnTo>
                <a:lnTo>
                  <a:pt x="27" y="2089"/>
                </a:lnTo>
                <a:lnTo>
                  <a:pt x="42" y="2127"/>
                </a:lnTo>
                <a:lnTo>
                  <a:pt x="61" y="2164"/>
                </a:lnTo>
                <a:lnTo>
                  <a:pt x="84" y="2197"/>
                </a:lnTo>
                <a:lnTo>
                  <a:pt x="109" y="2227"/>
                </a:lnTo>
                <a:lnTo>
                  <a:pt x="138" y="2254"/>
                </a:lnTo>
                <a:lnTo>
                  <a:pt x="169" y="2277"/>
                </a:lnTo>
                <a:lnTo>
                  <a:pt x="201" y="2296"/>
                </a:lnTo>
                <a:lnTo>
                  <a:pt x="238" y="2312"/>
                </a:lnTo>
                <a:lnTo>
                  <a:pt x="259" y="2318"/>
                </a:lnTo>
                <a:lnTo>
                  <a:pt x="282" y="2323"/>
                </a:lnTo>
                <a:lnTo>
                  <a:pt x="278" y="2325"/>
                </a:lnTo>
                <a:lnTo>
                  <a:pt x="286" y="2379"/>
                </a:lnTo>
                <a:lnTo>
                  <a:pt x="295" y="2433"/>
                </a:lnTo>
                <a:lnTo>
                  <a:pt x="307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5"/>
                </a:lnTo>
                <a:lnTo>
                  <a:pt x="386" y="2667"/>
                </a:lnTo>
                <a:lnTo>
                  <a:pt x="413" y="2707"/>
                </a:lnTo>
                <a:lnTo>
                  <a:pt x="439" y="2746"/>
                </a:lnTo>
                <a:lnTo>
                  <a:pt x="470" y="2780"/>
                </a:lnTo>
                <a:lnTo>
                  <a:pt x="503" y="2813"/>
                </a:lnTo>
                <a:lnTo>
                  <a:pt x="537" y="2842"/>
                </a:lnTo>
                <a:lnTo>
                  <a:pt x="576" y="2869"/>
                </a:lnTo>
                <a:lnTo>
                  <a:pt x="614" y="2892"/>
                </a:lnTo>
                <a:lnTo>
                  <a:pt x="654" y="2911"/>
                </a:lnTo>
                <a:lnTo>
                  <a:pt x="697" y="2928"/>
                </a:lnTo>
                <a:lnTo>
                  <a:pt x="741" y="2942"/>
                </a:lnTo>
                <a:lnTo>
                  <a:pt x="787" y="2949"/>
                </a:lnTo>
                <a:lnTo>
                  <a:pt x="833" y="2955"/>
                </a:lnTo>
                <a:lnTo>
                  <a:pt x="879" y="2957"/>
                </a:lnTo>
                <a:lnTo>
                  <a:pt x="925" y="2955"/>
                </a:lnTo>
                <a:lnTo>
                  <a:pt x="973" y="2947"/>
                </a:lnTo>
                <a:lnTo>
                  <a:pt x="1021" y="2938"/>
                </a:lnTo>
                <a:lnTo>
                  <a:pt x="1067" y="2924"/>
                </a:lnTo>
                <a:lnTo>
                  <a:pt x="1067" y="2924"/>
                </a:lnTo>
                <a:lnTo>
                  <a:pt x="1075" y="2969"/>
                </a:lnTo>
                <a:lnTo>
                  <a:pt x="1086" y="3009"/>
                </a:lnTo>
                <a:lnTo>
                  <a:pt x="1098" y="3049"/>
                </a:lnTo>
                <a:lnTo>
                  <a:pt x="1111" y="3089"/>
                </a:lnTo>
                <a:lnTo>
                  <a:pt x="1129" y="3126"/>
                </a:lnTo>
                <a:lnTo>
                  <a:pt x="1148" y="3161"/>
                </a:lnTo>
                <a:lnTo>
                  <a:pt x="1167" y="3195"/>
                </a:lnTo>
                <a:lnTo>
                  <a:pt x="1190" y="3226"/>
                </a:lnTo>
                <a:lnTo>
                  <a:pt x="1213" y="3257"/>
                </a:lnTo>
                <a:lnTo>
                  <a:pt x="1240" y="3283"/>
                </a:lnTo>
                <a:lnTo>
                  <a:pt x="1267" y="3308"/>
                </a:lnTo>
                <a:lnTo>
                  <a:pt x="1296" y="3333"/>
                </a:lnTo>
                <a:lnTo>
                  <a:pt x="1326" y="3353"/>
                </a:lnTo>
                <a:lnTo>
                  <a:pt x="1359" y="3372"/>
                </a:lnTo>
                <a:lnTo>
                  <a:pt x="1392" y="3387"/>
                </a:lnTo>
                <a:lnTo>
                  <a:pt x="1426" y="3401"/>
                </a:lnTo>
                <a:lnTo>
                  <a:pt x="1472" y="3414"/>
                </a:lnTo>
                <a:lnTo>
                  <a:pt x="1520" y="3424"/>
                </a:lnTo>
                <a:lnTo>
                  <a:pt x="1568" y="3427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10"/>
                </a:lnTo>
                <a:lnTo>
                  <a:pt x="1762" y="3395"/>
                </a:lnTo>
                <a:lnTo>
                  <a:pt x="1810" y="3376"/>
                </a:lnTo>
                <a:lnTo>
                  <a:pt x="1856" y="3353"/>
                </a:lnTo>
                <a:lnTo>
                  <a:pt x="1902" y="3324"/>
                </a:lnTo>
                <a:lnTo>
                  <a:pt x="1947" y="3293"/>
                </a:lnTo>
                <a:lnTo>
                  <a:pt x="1989" y="3257"/>
                </a:lnTo>
                <a:lnTo>
                  <a:pt x="2029" y="3216"/>
                </a:lnTo>
                <a:lnTo>
                  <a:pt x="2068" y="3174"/>
                </a:lnTo>
                <a:lnTo>
                  <a:pt x="2104" y="3126"/>
                </a:lnTo>
                <a:lnTo>
                  <a:pt x="2139" y="3076"/>
                </a:lnTo>
                <a:lnTo>
                  <a:pt x="2137" y="3082"/>
                </a:lnTo>
                <a:lnTo>
                  <a:pt x="2158" y="3113"/>
                </a:lnTo>
                <a:lnTo>
                  <a:pt x="2183" y="3141"/>
                </a:lnTo>
                <a:lnTo>
                  <a:pt x="2208" y="3168"/>
                </a:lnTo>
                <a:lnTo>
                  <a:pt x="2236" y="3191"/>
                </a:lnTo>
                <a:lnTo>
                  <a:pt x="2265" y="3212"/>
                </a:lnTo>
                <a:lnTo>
                  <a:pt x="2296" y="3232"/>
                </a:lnTo>
                <a:lnTo>
                  <a:pt x="2329" y="3247"/>
                </a:lnTo>
                <a:lnTo>
                  <a:pt x="2361" y="3260"/>
                </a:lnTo>
                <a:lnTo>
                  <a:pt x="2411" y="3274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8"/>
                </a:lnTo>
                <a:lnTo>
                  <a:pt x="2615" y="3266"/>
                </a:lnTo>
                <a:lnTo>
                  <a:pt x="2665" y="3249"/>
                </a:lnTo>
                <a:lnTo>
                  <a:pt x="2715" y="3228"/>
                </a:lnTo>
                <a:lnTo>
                  <a:pt x="2761" y="3199"/>
                </a:lnTo>
                <a:lnTo>
                  <a:pt x="2807" y="3166"/>
                </a:lnTo>
                <a:lnTo>
                  <a:pt x="2851" y="3130"/>
                </a:lnTo>
                <a:lnTo>
                  <a:pt x="2891" y="3088"/>
                </a:lnTo>
                <a:lnTo>
                  <a:pt x="2930" y="3041"/>
                </a:lnTo>
                <a:lnTo>
                  <a:pt x="2966" y="2992"/>
                </a:lnTo>
                <a:lnTo>
                  <a:pt x="2997" y="2938"/>
                </a:lnTo>
                <a:lnTo>
                  <a:pt x="3026" y="2880"/>
                </a:lnTo>
                <a:lnTo>
                  <a:pt x="3049" y="2819"/>
                </a:lnTo>
                <a:lnTo>
                  <a:pt x="3049" y="2817"/>
                </a:lnTo>
                <a:lnTo>
                  <a:pt x="3104" y="2823"/>
                </a:lnTo>
                <a:lnTo>
                  <a:pt x="3160" y="2821"/>
                </a:lnTo>
                <a:lnTo>
                  <a:pt x="3216" y="2813"/>
                </a:lnTo>
                <a:lnTo>
                  <a:pt x="3269" y="2801"/>
                </a:lnTo>
                <a:lnTo>
                  <a:pt x="3323" y="2782"/>
                </a:lnTo>
                <a:lnTo>
                  <a:pt x="3377" y="2759"/>
                </a:lnTo>
                <a:lnTo>
                  <a:pt x="3427" y="2730"/>
                </a:lnTo>
                <a:lnTo>
                  <a:pt x="3477" y="2696"/>
                </a:lnTo>
                <a:lnTo>
                  <a:pt x="3525" y="2657"/>
                </a:lnTo>
                <a:lnTo>
                  <a:pt x="3571" y="2613"/>
                </a:lnTo>
                <a:lnTo>
                  <a:pt x="3613" y="2567"/>
                </a:lnTo>
                <a:lnTo>
                  <a:pt x="3651" y="2515"/>
                </a:lnTo>
                <a:lnTo>
                  <a:pt x="3688" y="2460"/>
                </a:lnTo>
                <a:lnTo>
                  <a:pt x="3723" y="2402"/>
                </a:lnTo>
                <a:lnTo>
                  <a:pt x="3751" y="2339"/>
                </a:lnTo>
                <a:lnTo>
                  <a:pt x="3776" y="2273"/>
                </a:lnTo>
                <a:lnTo>
                  <a:pt x="3794" y="2214"/>
                </a:lnTo>
                <a:lnTo>
                  <a:pt x="3809" y="2154"/>
                </a:lnTo>
                <a:lnTo>
                  <a:pt x="3819" y="2093"/>
                </a:lnTo>
                <a:lnTo>
                  <a:pt x="3824" y="2033"/>
                </a:lnTo>
                <a:lnTo>
                  <a:pt x="3826" y="1974"/>
                </a:lnTo>
                <a:lnTo>
                  <a:pt x="3824" y="1914"/>
                </a:lnTo>
                <a:lnTo>
                  <a:pt x="3819" y="1855"/>
                </a:lnTo>
                <a:lnTo>
                  <a:pt x="3807" y="1797"/>
                </a:lnTo>
                <a:lnTo>
                  <a:pt x="3807" y="1797"/>
                </a:lnTo>
                <a:lnTo>
                  <a:pt x="3842" y="1749"/>
                </a:lnTo>
                <a:lnTo>
                  <a:pt x="3870" y="1697"/>
                </a:lnTo>
                <a:lnTo>
                  <a:pt x="3897" y="1642"/>
                </a:lnTo>
                <a:lnTo>
                  <a:pt x="3918" y="1586"/>
                </a:lnTo>
                <a:lnTo>
                  <a:pt x="3934" y="1538"/>
                </a:lnTo>
                <a:lnTo>
                  <a:pt x="3943" y="1490"/>
                </a:lnTo>
                <a:lnTo>
                  <a:pt x="3953" y="1442"/>
                </a:lnTo>
                <a:lnTo>
                  <a:pt x="3957" y="1394"/>
                </a:lnTo>
                <a:lnTo>
                  <a:pt x="3959" y="1348"/>
                </a:lnTo>
                <a:lnTo>
                  <a:pt x="3957" y="1302"/>
                </a:lnTo>
                <a:lnTo>
                  <a:pt x="3951" y="1256"/>
                </a:lnTo>
                <a:lnTo>
                  <a:pt x="3943" y="1211"/>
                </a:lnTo>
                <a:lnTo>
                  <a:pt x="3934" y="1169"/>
                </a:lnTo>
                <a:lnTo>
                  <a:pt x="3918" y="1127"/>
                </a:lnTo>
                <a:lnTo>
                  <a:pt x="3903" y="1089"/>
                </a:lnTo>
                <a:lnTo>
                  <a:pt x="3882" y="1052"/>
                </a:lnTo>
                <a:lnTo>
                  <a:pt x="3861" y="1018"/>
                </a:lnTo>
                <a:lnTo>
                  <a:pt x="3836" y="985"/>
                </a:lnTo>
                <a:lnTo>
                  <a:pt x="3807" y="956"/>
                </a:lnTo>
                <a:lnTo>
                  <a:pt x="3776" y="929"/>
                </a:lnTo>
                <a:lnTo>
                  <a:pt x="3778" y="929"/>
                </a:lnTo>
                <a:lnTo>
                  <a:pt x="3786" y="881"/>
                </a:lnTo>
                <a:lnTo>
                  <a:pt x="3790" y="833"/>
                </a:lnTo>
                <a:lnTo>
                  <a:pt x="3790" y="787"/>
                </a:lnTo>
                <a:lnTo>
                  <a:pt x="3786" y="743"/>
                </a:lnTo>
                <a:lnTo>
                  <a:pt x="3780" y="699"/>
                </a:lnTo>
                <a:lnTo>
                  <a:pt x="3771" y="657"/>
                </a:lnTo>
                <a:lnTo>
                  <a:pt x="3759" y="616"/>
                </a:lnTo>
                <a:lnTo>
                  <a:pt x="3744" y="578"/>
                </a:lnTo>
                <a:lnTo>
                  <a:pt x="3724" y="543"/>
                </a:lnTo>
                <a:lnTo>
                  <a:pt x="3703" y="509"/>
                </a:lnTo>
                <a:lnTo>
                  <a:pt x="3680" y="478"/>
                </a:lnTo>
                <a:lnTo>
                  <a:pt x="3653" y="449"/>
                </a:lnTo>
                <a:lnTo>
                  <a:pt x="3625" y="424"/>
                </a:lnTo>
                <a:lnTo>
                  <a:pt x="3594" y="403"/>
                </a:lnTo>
                <a:lnTo>
                  <a:pt x="3561" y="386"/>
                </a:lnTo>
                <a:lnTo>
                  <a:pt x="3525" y="370"/>
                </a:lnTo>
                <a:lnTo>
                  <a:pt x="3479" y="359"/>
                </a:lnTo>
                <a:lnTo>
                  <a:pt x="3433" y="353"/>
                </a:lnTo>
                <a:lnTo>
                  <a:pt x="3387" y="353"/>
                </a:lnTo>
                <a:lnTo>
                  <a:pt x="3339" y="361"/>
                </a:lnTo>
                <a:lnTo>
                  <a:pt x="3291" y="374"/>
                </a:lnTo>
                <a:lnTo>
                  <a:pt x="3244" y="392"/>
                </a:lnTo>
                <a:lnTo>
                  <a:pt x="3198" y="416"/>
                </a:lnTo>
                <a:lnTo>
                  <a:pt x="3154" y="447"/>
                </a:lnTo>
                <a:lnTo>
                  <a:pt x="3154" y="447"/>
                </a:lnTo>
                <a:lnTo>
                  <a:pt x="3141" y="397"/>
                </a:lnTo>
                <a:lnTo>
                  <a:pt x="3122" y="351"/>
                </a:lnTo>
                <a:lnTo>
                  <a:pt x="3099" y="307"/>
                </a:lnTo>
                <a:lnTo>
                  <a:pt x="3072" y="271"/>
                </a:lnTo>
                <a:lnTo>
                  <a:pt x="3041" y="236"/>
                </a:lnTo>
                <a:lnTo>
                  <a:pt x="3006" y="207"/>
                </a:lnTo>
                <a:lnTo>
                  <a:pt x="2968" y="184"/>
                </a:lnTo>
                <a:lnTo>
                  <a:pt x="2926" y="167"/>
                </a:lnTo>
                <a:lnTo>
                  <a:pt x="2901" y="159"/>
                </a:lnTo>
                <a:lnTo>
                  <a:pt x="2874" y="153"/>
                </a:lnTo>
                <a:lnTo>
                  <a:pt x="2847" y="151"/>
                </a:lnTo>
                <a:lnTo>
                  <a:pt x="2820" y="151"/>
                </a:lnTo>
                <a:lnTo>
                  <a:pt x="2793" y="153"/>
                </a:lnTo>
                <a:lnTo>
                  <a:pt x="2766" y="157"/>
                </a:lnTo>
                <a:lnTo>
                  <a:pt x="2738" y="163"/>
                </a:lnTo>
                <a:lnTo>
                  <a:pt x="2711" y="171"/>
                </a:lnTo>
                <a:lnTo>
                  <a:pt x="2684" y="182"/>
                </a:lnTo>
                <a:lnTo>
                  <a:pt x="2659" y="194"/>
                </a:lnTo>
                <a:lnTo>
                  <a:pt x="2632" y="209"/>
                </a:lnTo>
                <a:lnTo>
                  <a:pt x="2607" y="226"/>
                </a:lnTo>
                <a:lnTo>
                  <a:pt x="2582" y="246"/>
                </a:lnTo>
                <a:lnTo>
                  <a:pt x="2559" y="265"/>
                </a:lnTo>
                <a:lnTo>
                  <a:pt x="2536" y="288"/>
                </a:lnTo>
                <a:lnTo>
                  <a:pt x="2513" y="313"/>
                </a:lnTo>
                <a:lnTo>
                  <a:pt x="2513" y="320"/>
                </a:lnTo>
                <a:lnTo>
                  <a:pt x="2494" y="272"/>
                </a:lnTo>
                <a:lnTo>
                  <a:pt x="2469" y="228"/>
                </a:lnTo>
                <a:lnTo>
                  <a:pt x="2442" y="188"/>
                </a:lnTo>
                <a:lnTo>
                  <a:pt x="2411" y="151"/>
                </a:lnTo>
                <a:lnTo>
                  <a:pt x="2377" y="119"/>
                </a:lnTo>
                <a:lnTo>
                  <a:pt x="2338" y="92"/>
                </a:lnTo>
                <a:lnTo>
                  <a:pt x="2298" y="69"/>
                </a:lnTo>
                <a:lnTo>
                  <a:pt x="2256" y="52"/>
                </a:lnTo>
                <a:lnTo>
                  <a:pt x="2225" y="42"/>
                </a:lnTo>
                <a:lnTo>
                  <a:pt x="2194" y="36"/>
                </a:lnTo>
                <a:lnTo>
                  <a:pt x="2162" y="32"/>
                </a:lnTo>
                <a:lnTo>
                  <a:pt x="2129" y="32"/>
                </a:lnTo>
                <a:lnTo>
                  <a:pt x="2096" y="34"/>
                </a:lnTo>
                <a:lnTo>
                  <a:pt x="2064" y="38"/>
                </a:lnTo>
                <a:lnTo>
                  <a:pt x="2031" y="44"/>
                </a:lnTo>
                <a:lnTo>
                  <a:pt x="2000" y="54"/>
                </a:lnTo>
                <a:lnTo>
                  <a:pt x="1968" y="67"/>
                </a:lnTo>
                <a:lnTo>
                  <a:pt x="1937" y="80"/>
                </a:lnTo>
                <a:lnTo>
                  <a:pt x="1904" y="98"/>
                </a:lnTo>
                <a:lnTo>
                  <a:pt x="1876" y="117"/>
                </a:lnTo>
                <a:lnTo>
                  <a:pt x="1845" y="138"/>
                </a:lnTo>
                <a:lnTo>
                  <a:pt x="1816" y="163"/>
                </a:lnTo>
                <a:lnTo>
                  <a:pt x="1789" y="188"/>
                </a:lnTo>
                <a:lnTo>
                  <a:pt x="1762" y="217"/>
                </a:lnTo>
                <a:lnTo>
                  <a:pt x="1758" y="221"/>
                </a:lnTo>
                <a:lnTo>
                  <a:pt x="1733" y="186"/>
                </a:lnTo>
                <a:lnTo>
                  <a:pt x="1707" y="155"/>
                </a:lnTo>
                <a:lnTo>
                  <a:pt x="1678" y="127"/>
                </a:lnTo>
                <a:lnTo>
                  <a:pt x="1647" y="100"/>
                </a:lnTo>
                <a:lnTo>
                  <a:pt x="1614" y="77"/>
                </a:lnTo>
                <a:lnTo>
                  <a:pt x="1580" y="57"/>
                </a:lnTo>
                <a:lnTo>
                  <a:pt x="1543" y="40"/>
                </a:lnTo>
                <a:lnTo>
                  <a:pt x="1507" y="25"/>
                </a:lnTo>
                <a:lnTo>
                  <a:pt x="1478" y="15"/>
                </a:lnTo>
                <a:lnTo>
                  <a:pt x="1447" y="9"/>
                </a:lnTo>
                <a:lnTo>
                  <a:pt x="1419" y="4"/>
                </a:lnTo>
                <a:lnTo>
                  <a:pt x="1388" y="2"/>
                </a:lnTo>
                <a:lnTo>
                  <a:pt x="1328" y="0"/>
                </a:lnTo>
                <a:lnTo>
                  <a:pt x="1269" y="7"/>
                </a:lnTo>
                <a:lnTo>
                  <a:pt x="1209" y="19"/>
                </a:lnTo>
                <a:lnTo>
                  <a:pt x="1152" y="40"/>
                </a:lnTo>
                <a:lnTo>
                  <a:pt x="1094" y="67"/>
                </a:lnTo>
                <a:lnTo>
                  <a:pt x="1038" y="100"/>
                </a:lnTo>
                <a:lnTo>
                  <a:pt x="985" y="138"/>
                </a:lnTo>
                <a:lnTo>
                  <a:pt x="933" y="180"/>
                </a:lnTo>
                <a:lnTo>
                  <a:pt x="885" y="230"/>
                </a:lnTo>
                <a:lnTo>
                  <a:pt x="841" y="284"/>
                </a:lnTo>
                <a:lnTo>
                  <a:pt x="798" y="344"/>
                </a:lnTo>
                <a:lnTo>
                  <a:pt x="762" y="407"/>
                </a:lnTo>
                <a:lnTo>
                  <a:pt x="729" y="476"/>
                </a:lnTo>
                <a:lnTo>
                  <a:pt x="701" y="547"/>
                </a:lnTo>
                <a:lnTo>
                  <a:pt x="687" y="597"/>
                </a:lnTo>
                <a:lnTo>
                  <a:pt x="674" y="645"/>
                </a:lnTo>
                <a:lnTo>
                  <a:pt x="676" y="6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63720" y="1614600"/>
            <a:ext cx="2602080" cy="2562120"/>
          </a:xfrm>
          <a:custGeom>
            <a:avLst/>
            <a:gdLst/>
            <a:ahLst/>
            <a:rect l="l" t="t" r="r" b="b"/>
            <a:pathLst>
              <a:path w="3959" h="3427">
                <a:moveTo>
                  <a:pt x="676" y="645"/>
                </a:moveTo>
                <a:lnTo>
                  <a:pt x="639" y="639"/>
                </a:lnTo>
                <a:lnTo>
                  <a:pt x="603" y="639"/>
                </a:lnTo>
                <a:lnTo>
                  <a:pt x="566" y="643"/>
                </a:lnTo>
                <a:lnTo>
                  <a:pt x="530" y="651"/>
                </a:lnTo>
                <a:lnTo>
                  <a:pt x="495" y="660"/>
                </a:lnTo>
                <a:lnTo>
                  <a:pt x="459" y="676"/>
                </a:lnTo>
                <a:lnTo>
                  <a:pt x="426" y="695"/>
                </a:lnTo>
                <a:lnTo>
                  <a:pt x="391" y="716"/>
                </a:lnTo>
                <a:lnTo>
                  <a:pt x="361" y="741"/>
                </a:lnTo>
                <a:lnTo>
                  <a:pt x="330" y="770"/>
                </a:lnTo>
                <a:lnTo>
                  <a:pt x="303" y="801"/>
                </a:lnTo>
                <a:lnTo>
                  <a:pt x="276" y="833"/>
                </a:lnTo>
                <a:lnTo>
                  <a:pt x="251" y="870"/>
                </a:lnTo>
                <a:lnTo>
                  <a:pt x="230" y="910"/>
                </a:lnTo>
                <a:lnTo>
                  <a:pt x="211" y="950"/>
                </a:lnTo>
                <a:lnTo>
                  <a:pt x="194" y="994"/>
                </a:lnTo>
                <a:lnTo>
                  <a:pt x="176" y="1056"/>
                </a:lnTo>
                <a:lnTo>
                  <a:pt x="165" y="1117"/>
                </a:lnTo>
                <a:lnTo>
                  <a:pt x="161" y="1179"/>
                </a:lnTo>
                <a:lnTo>
                  <a:pt x="163" y="1240"/>
                </a:lnTo>
                <a:lnTo>
                  <a:pt x="173" y="1298"/>
                </a:lnTo>
                <a:lnTo>
                  <a:pt x="186" y="1354"/>
                </a:lnTo>
                <a:lnTo>
                  <a:pt x="209" y="1405"/>
                </a:lnTo>
                <a:lnTo>
                  <a:pt x="236" y="1453"/>
                </a:lnTo>
                <a:lnTo>
                  <a:pt x="236" y="1448"/>
                </a:lnTo>
                <a:lnTo>
                  <a:pt x="203" y="1473"/>
                </a:lnTo>
                <a:lnTo>
                  <a:pt x="171" y="1501"/>
                </a:lnTo>
                <a:lnTo>
                  <a:pt x="142" y="1534"/>
                </a:lnTo>
                <a:lnTo>
                  <a:pt x="115" y="1569"/>
                </a:lnTo>
                <a:lnTo>
                  <a:pt x="90" y="1605"/>
                </a:lnTo>
                <a:lnTo>
                  <a:pt x="67" y="1644"/>
                </a:lnTo>
                <a:lnTo>
                  <a:pt x="48" y="1686"/>
                </a:lnTo>
                <a:lnTo>
                  <a:pt x="32" y="1728"/>
                </a:lnTo>
                <a:lnTo>
                  <a:pt x="19" y="1776"/>
                </a:lnTo>
                <a:lnTo>
                  <a:pt x="7" y="1824"/>
                </a:lnTo>
                <a:lnTo>
                  <a:pt x="2" y="1870"/>
                </a:lnTo>
                <a:lnTo>
                  <a:pt x="0" y="1916"/>
                </a:lnTo>
                <a:lnTo>
                  <a:pt x="2" y="1962"/>
                </a:lnTo>
                <a:lnTo>
                  <a:pt x="6" y="2006"/>
                </a:lnTo>
                <a:lnTo>
                  <a:pt x="15" y="2049"/>
                </a:lnTo>
                <a:lnTo>
                  <a:pt x="27" y="2089"/>
                </a:lnTo>
                <a:lnTo>
                  <a:pt x="42" y="2127"/>
                </a:lnTo>
                <a:lnTo>
                  <a:pt x="61" y="2164"/>
                </a:lnTo>
                <a:lnTo>
                  <a:pt x="84" y="2197"/>
                </a:lnTo>
                <a:lnTo>
                  <a:pt x="109" y="2227"/>
                </a:lnTo>
                <a:lnTo>
                  <a:pt x="138" y="2254"/>
                </a:lnTo>
                <a:lnTo>
                  <a:pt x="169" y="2277"/>
                </a:lnTo>
                <a:lnTo>
                  <a:pt x="201" y="2296"/>
                </a:lnTo>
                <a:lnTo>
                  <a:pt x="238" y="2312"/>
                </a:lnTo>
                <a:lnTo>
                  <a:pt x="259" y="2318"/>
                </a:lnTo>
                <a:lnTo>
                  <a:pt x="282" y="2323"/>
                </a:lnTo>
                <a:lnTo>
                  <a:pt x="278" y="2325"/>
                </a:lnTo>
                <a:lnTo>
                  <a:pt x="286" y="2379"/>
                </a:lnTo>
                <a:lnTo>
                  <a:pt x="295" y="2433"/>
                </a:lnTo>
                <a:lnTo>
                  <a:pt x="307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5"/>
                </a:lnTo>
                <a:lnTo>
                  <a:pt x="386" y="2667"/>
                </a:lnTo>
                <a:lnTo>
                  <a:pt x="413" y="2707"/>
                </a:lnTo>
                <a:lnTo>
                  <a:pt x="439" y="2746"/>
                </a:lnTo>
                <a:lnTo>
                  <a:pt x="470" y="2780"/>
                </a:lnTo>
                <a:lnTo>
                  <a:pt x="503" y="2813"/>
                </a:lnTo>
                <a:lnTo>
                  <a:pt x="537" y="2842"/>
                </a:lnTo>
                <a:lnTo>
                  <a:pt x="576" y="2869"/>
                </a:lnTo>
                <a:lnTo>
                  <a:pt x="614" y="2892"/>
                </a:lnTo>
                <a:lnTo>
                  <a:pt x="654" y="2911"/>
                </a:lnTo>
                <a:lnTo>
                  <a:pt x="697" y="2928"/>
                </a:lnTo>
                <a:lnTo>
                  <a:pt x="741" y="2942"/>
                </a:lnTo>
                <a:lnTo>
                  <a:pt x="787" y="2949"/>
                </a:lnTo>
                <a:lnTo>
                  <a:pt x="833" y="2955"/>
                </a:lnTo>
                <a:lnTo>
                  <a:pt x="879" y="2957"/>
                </a:lnTo>
                <a:lnTo>
                  <a:pt x="925" y="2955"/>
                </a:lnTo>
                <a:lnTo>
                  <a:pt x="973" y="2947"/>
                </a:lnTo>
                <a:lnTo>
                  <a:pt x="1021" y="2938"/>
                </a:lnTo>
                <a:lnTo>
                  <a:pt x="1067" y="2924"/>
                </a:lnTo>
                <a:lnTo>
                  <a:pt x="1067" y="2924"/>
                </a:lnTo>
                <a:lnTo>
                  <a:pt x="1075" y="2969"/>
                </a:lnTo>
                <a:lnTo>
                  <a:pt x="1086" y="3009"/>
                </a:lnTo>
                <a:lnTo>
                  <a:pt x="1098" y="3049"/>
                </a:lnTo>
                <a:lnTo>
                  <a:pt x="1111" y="3089"/>
                </a:lnTo>
                <a:lnTo>
                  <a:pt x="1129" y="3126"/>
                </a:lnTo>
                <a:lnTo>
                  <a:pt x="1148" y="3161"/>
                </a:lnTo>
                <a:lnTo>
                  <a:pt x="1167" y="3195"/>
                </a:lnTo>
                <a:lnTo>
                  <a:pt x="1190" y="3226"/>
                </a:lnTo>
                <a:lnTo>
                  <a:pt x="1213" y="3257"/>
                </a:lnTo>
                <a:lnTo>
                  <a:pt x="1240" y="3283"/>
                </a:lnTo>
                <a:lnTo>
                  <a:pt x="1267" y="3308"/>
                </a:lnTo>
                <a:lnTo>
                  <a:pt x="1296" y="3333"/>
                </a:lnTo>
                <a:lnTo>
                  <a:pt x="1326" y="3353"/>
                </a:lnTo>
                <a:lnTo>
                  <a:pt x="1359" y="3372"/>
                </a:lnTo>
                <a:lnTo>
                  <a:pt x="1392" y="3387"/>
                </a:lnTo>
                <a:lnTo>
                  <a:pt x="1426" y="3401"/>
                </a:lnTo>
                <a:lnTo>
                  <a:pt x="1472" y="3414"/>
                </a:lnTo>
                <a:lnTo>
                  <a:pt x="1520" y="3424"/>
                </a:lnTo>
                <a:lnTo>
                  <a:pt x="1568" y="3427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10"/>
                </a:lnTo>
                <a:lnTo>
                  <a:pt x="1762" y="3395"/>
                </a:lnTo>
                <a:lnTo>
                  <a:pt x="1810" y="3376"/>
                </a:lnTo>
                <a:lnTo>
                  <a:pt x="1856" y="3353"/>
                </a:lnTo>
                <a:lnTo>
                  <a:pt x="1902" y="3324"/>
                </a:lnTo>
                <a:lnTo>
                  <a:pt x="1947" y="3293"/>
                </a:lnTo>
                <a:lnTo>
                  <a:pt x="1989" y="3257"/>
                </a:lnTo>
                <a:lnTo>
                  <a:pt x="2029" y="3216"/>
                </a:lnTo>
                <a:lnTo>
                  <a:pt x="2068" y="3174"/>
                </a:lnTo>
                <a:lnTo>
                  <a:pt x="2104" y="3126"/>
                </a:lnTo>
                <a:lnTo>
                  <a:pt x="2139" y="3076"/>
                </a:lnTo>
                <a:lnTo>
                  <a:pt x="2137" y="3082"/>
                </a:lnTo>
                <a:lnTo>
                  <a:pt x="2158" y="3113"/>
                </a:lnTo>
                <a:lnTo>
                  <a:pt x="2183" y="3141"/>
                </a:lnTo>
                <a:lnTo>
                  <a:pt x="2208" y="3168"/>
                </a:lnTo>
                <a:lnTo>
                  <a:pt x="2236" y="3191"/>
                </a:lnTo>
                <a:lnTo>
                  <a:pt x="2265" y="3212"/>
                </a:lnTo>
                <a:lnTo>
                  <a:pt x="2296" y="3232"/>
                </a:lnTo>
                <a:lnTo>
                  <a:pt x="2329" y="3247"/>
                </a:lnTo>
                <a:lnTo>
                  <a:pt x="2361" y="3260"/>
                </a:lnTo>
                <a:lnTo>
                  <a:pt x="2411" y="3274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8"/>
                </a:lnTo>
                <a:lnTo>
                  <a:pt x="2615" y="3266"/>
                </a:lnTo>
                <a:lnTo>
                  <a:pt x="2665" y="3249"/>
                </a:lnTo>
                <a:lnTo>
                  <a:pt x="2715" y="3228"/>
                </a:lnTo>
                <a:lnTo>
                  <a:pt x="2761" y="3199"/>
                </a:lnTo>
                <a:lnTo>
                  <a:pt x="2807" y="3166"/>
                </a:lnTo>
                <a:lnTo>
                  <a:pt x="2851" y="3130"/>
                </a:lnTo>
                <a:lnTo>
                  <a:pt x="2891" y="3088"/>
                </a:lnTo>
                <a:lnTo>
                  <a:pt x="2930" y="3041"/>
                </a:lnTo>
                <a:lnTo>
                  <a:pt x="2966" y="2992"/>
                </a:lnTo>
                <a:lnTo>
                  <a:pt x="2997" y="2938"/>
                </a:lnTo>
                <a:lnTo>
                  <a:pt x="3026" y="2880"/>
                </a:lnTo>
                <a:lnTo>
                  <a:pt x="3049" y="2819"/>
                </a:lnTo>
                <a:lnTo>
                  <a:pt x="3049" y="2817"/>
                </a:lnTo>
                <a:lnTo>
                  <a:pt x="3104" y="2823"/>
                </a:lnTo>
                <a:lnTo>
                  <a:pt x="3160" y="2821"/>
                </a:lnTo>
                <a:lnTo>
                  <a:pt x="3216" y="2813"/>
                </a:lnTo>
                <a:lnTo>
                  <a:pt x="3269" y="2801"/>
                </a:lnTo>
                <a:lnTo>
                  <a:pt x="3323" y="2782"/>
                </a:lnTo>
                <a:lnTo>
                  <a:pt x="3377" y="2759"/>
                </a:lnTo>
                <a:lnTo>
                  <a:pt x="3427" y="2730"/>
                </a:lnTo>
                <a:lnTo>
                  <a:pt x="3477" y="2696"/>
                </a:lnTo>
                <a:lnTo>
                  <a:pt x="3525" y="2657"/>
                </a:lnTo>
                <a:lnTo>
                  <a:pt x="3571" y="2613"/>
                </a:lnTo>
                <a:lnTo>
                  <a:pt x="3613" y="2567"/>
                </a:lnTo>
                <a:lnTo>
                  <a:pt x="3651" y="2515"/>
                </a:lnTo>
                <a:lnTo>
                  <a:pt x="3688" y="2460"/>
                </a:lnTo>
                <a:lnTo>
                  <a:pt x="3723" y="2402"/>
                </a:lnTo>
                <a:lnTo>
                  <a:pt x="3751" y="2339"/>
                </a:lnTo>
                <a:lnTo>
                  <a:pt x="3776" y="2273"/>
                </a:lnTo>
                <a:lnTo>
                  <a:pt x="3794" y="2214"/>
                </a:lnTo>
                <a:lnTo>
                  <a:pt x="3809" y="2154"/>
                </a:lnTo>
                <a:lnTo>
                  <a:pt x="3819" y="2093"/>
                </a:lnTo>
                <a:lnTo>
                  <a:pt x="3824" y="2033"/>
                </a:lnTo>
                <a:lnTo>
                  <a:pt x="3826" y="1974"/>
                </a:lnTo>
                <a:lnTo>
                  <a:pt x="3824" y="1914"/>
                </a:lnTo>
                <a:lnTo>
                  <a:pt x="3819" y="1855"/>
                </a:lnTo>
                <a:lnTo>
                  <a:pt x="3807" y="1797"/>
                </a:lnTo>
                <a:lnTo>
                  <a:pt x="3807" y="1797"/>
                </a:lnTo>
                <a:lnTo>
                  <a:pt x="3842" y="1749"/>
                </a:lnTo>
                <a:lnTo>
                  <a:pt x="3870" y="1697"/>
                </a:lnTo>
                <a:lnTo>
                  <a:pt x="3897" y="1642"/>
                </a:lnTo>
                <a:lnTo>
                  <a:pt x="3918" y="1586"/>
                </a:lnTo>
                <a:lnTo>
                  <a:pt x="3934" y="1538"/>
                </a:lnTo>
                <a:lnTo>
                  <a:pt x="3943" y="1490"/>
                </a:lnTo>
                <a:lnTo>
                  <a:pt x="3953" y="1442"/>
                </a:lnTo>
                <a:lnTo>
                  <a:pt x="3957" y="1394"/>
                </a:lnTo>
                <a:lnTo>
                  <a:pt x="3959" y="1348"/>
                </a:lnTo>
                <a:lnTo>
                  <a:pt x="3957" y="1302"/>
                </a:lnTo>
                <a:lnTo>
                  <a:pt x="3951" y="1256"/>
                </a:lnTo>
                <a:lnTo>
                  <a:pt x="3943" y="1211"/>
                </a:lnTo>
                <a:lnTo>
                  <a:pt x="3934" y="1169"/>
                </a:lnTo>
                <a:lnTo>
                  <a:pt x="3918" y="1127"/>
                </a:lnTo>
                <a:lnTo>
                  <a:pt x="3903" y="1089"/>
                </a:lnTo>
                <a:lnTo>
                  <a:pt x="3882" y="1052"/>
                </a:lnTo>
                <a:lnTo>
                  <a:pt x="3861" y="1018"/>
                </a:lnTo>
                <a:lnTo>
                  <a:pt x="3836" y="985"/>
                </a:lnTo>
                <a:lnTo>
                  <a:pt x="3807" y="956"/>
                </a:lnTo>
                <a:lnTo>
                  <a:pt x="3776" y="929"/>
                </a:lnTo>
                <a:lnTo>
                  <a:pt x="3778" y="929"/>
                </a:lnTo>
                <a:lnTo>
                  <a:pt x="3786" y="881"/>
                </a:lnTo>
                <a:lnTo>
                  <a:pt x="3790" y="833"/>
                </a:lnTo>
                <a:lnTo>
                  <a:pt x="3790" y="787"/>
                </a:lnTo>
                <a:lnTo>
                  <a:pt x="3786" y="743"/>
                </a:lnTo>
                <a:lnTo>
                  <a:pt x="3780" y="699"/>
                </a:lnTo>
                <a:lnTo>
                  <a:pt x="3771" y="657"/>
                </a:lnTo>
                <a:lnTo>
                  <a:pt x="3759" y="616"/>
                </a:lnTo>
                <a:lnTo>
                  <a:pt x="3744" y="578"/>
                </a:lnTo>
                <a:lnTo>
                  <a:pt x="3724" y="543"/>
                </a:lnTo>
                <a:lnTo>
                  <a:pt x="3703" y="509"/>
                </a:lnTo>
                <a:lnTo>
                  <a:pt x="3680" y="478"/>
                </a:lnTo>
                <a:lnTo>
                  <a:pt x="3653" y="449"/>
                </a:lnTo>
                <a:lnTo>
                  <a:pt x="3625" y="424"/>
                </a:lnTo>
                <a:lnTo>
                  <a:pt x="3594" y="403"/>
                </a:lnTo>
                <a:lnTo>
                  <a:pt x="3561" y="386"/>
                </a:lnTo>
                <a:lnTo>
                  <a:pt x="3525" y="370"/>
                </a:lnTo>
                <a:lnTo>
                  <a:pt x="3479" y="359"/>
                </a:lnTo>
                <a:lnTo>
                  <a:pt x="3433" y="353"/>
                </a:lnTo>
                <a:lnTo>
                  <a:pt x="3387" y="353"/>
                </a:lnTo>
                <a:lnTo>
                  <a:pt x="3339" y="361"/>
                </a:lnTo>
                <a:lnTo>
                  <a:pt x="3291" y="374"/>
                </a:lnTo>
                <a:lnTo>
                  <a:pt x="3244" y="392"/>
                </a:lnTo>
                <a:lnTo>
                  <a:pt x="3198" y="416"/>
                </a:lnTo>
                <a:lnTo>
                  <a:pt x="3154" y="447"/>
                </a:lnTo>
                <a:lnTo>
                  <a:pt x="3154" y="447"/>
                </a:lnTo>
                <a:lnTo>
                  <a:pt x="3141" y="397"/>
                </a:lnTo>
                <a:lnTo>
                  <a:pt x="3122" y="351"/>
                </a:lnTo>
                <a:lnTo>
                  <a:pt x="3099" y="307"/>
                </a:lnTo>
                <a:lnTo>
                  <a:pt x="3072" y="271"/>
                </a:lnTo>
                <a:lnTo>
                  <a:pt x="3041" y="236"/>
                </a:lnTo>
                <a:lnTo>
                  <a:pt x="3006" y="207"/>
                </a:lnTo>
                <a:lnTo>
                  <a:pt x="2968" y="184"/>
                </a:lnTo>
                <a:lnTo>
                  <a:pt x="2926" y="167"/>
                </a:lnTo>
                <a:lnTo>
                  <a:pt x="2901" y="159"/>
                </a:lnTo>
                <a:lnTo>
                  <a:pt x="2874" y="153"/>
                </a:lnTo>
                <a:lnTo>
                  <a:pt x="2847" y="151"/>
                </a:lnTo>
                <a:lnTo>
                  <a:pt x="2820" y="151"/>
                </a:lnTo>
                <a:lnTo>
                  <a:pt x="2793" y="153"/>
                </a:lnTo>
                <a:lnTo>
                  <a:pt x="2766" y="157"/>
                </a:lnTo>
                <a:lnTo>
                  <a:pt x="2738" y="163"/>
                </a:lnTo>
                <a:lnTo>
                  <a:pt x="2711" y="171"/>
                </a:lnTo>
                <a:lnTo>
                  <a:pt x="2684" y="182"/>
                </a:lnTo>
                <a:lnTo>
                  <a:pt x="2659" y="194"/>
                </a:lnTo>
                <a:lnTo>
                  <a:pt x="2632" y="209"/>
                </a:lnTo>
                <a:lnTo>
                  <a:pt x="2607" y="226"/>
                </a:lnTo>
                <a:lnTo>
                  <a:pt x="2582" y="246"/>
                </a:lnTo>
                <a:lnTo>
                  <a:pt x="2559" y="265"/>
                </a:lnTo>
                <a:lnTo>
                  <a:pt x="2536" y="288"/>
                </a:lnTo>
                <a:lnTo>
                  <a:pt x="2513" y="313"/>
                </a:lnTo>
                <a:lnTo>
                  <a:pt x="2513" y="320"/>
                </a:lnTo>
                <a:lnTo>
                  <a:pt x="2494" y="272"/>
                </a:lnTo>
                <a:lnTo>
                  <a:pt x="2469" y="228"/>
                </a:lnTo>
                <a:lnTo>
                  <a:pt x="2442" y="188"/>
                </a:lnTo>
                <a:lnTo>
                  <a:pt x="2411" y="151"/>
                </a:lnTo>
                <a:lnTo>
                  <a:pt x="2377" y="119"/>
                </a:lnTo>
                <a:lnTo>
                  <a:pt x="2338" y="92"/>
                </a:lnTo>
                <a:lnTo>
                  <a:pt x="2298" y="69"/>
                </a:lnTo>
                <a:lnTo>
                  <a:pt x="2256" y="52"/>
                </a:lnTo>
                <a:lnTo>
                  <a:pt x="2225" y="42"/>
                </a:lnTo>
                <a:lnTo>
                  <a:pt x="2194" y="36"/>
                </a:lnTo>
                <a:lnTo>
                  <a:pt x="2162" y="32"/>
                </a:lnTo>
                <a:lnTo>
                  <a:pt x="2129" y="32"/>
                </a:lnTo>
                <a:lnTo>
                  <a:pt x="2096" y="34"/>
                </a:lnTo>
                <a:lnTo>
                  <a:pt x="2064" y="38"/>
                </a:lnTo>
                <a:lnTo>
                  <a:pt x="2031" y="44"/>
                </a:lnTo>
                <a:lnTo>
                  <a:pt x="2000" y="54"/>
                </a:lnTo>
                <a:lnTo>
                  <a:pt x="1968" y="67"/>
                </a:lnTo>
                <a:lnTo>
                  <a:pt x="1937" y="80"/>
                </a:lnTo>
                <a:lnTo>
                  <a:pt x="1904" y="98"/>
                </a:lnTo>
                <a:lnTo>
                  <a:pt x="1876" y="117"/>
                </a:lnTo>
                <a:lnTo>
                  <a:pt x="1845" y="138"/>
                </a:lnTo>
                <a:lnTo>
                  <a:pt x="1816" y="163"/>
                </a:lnTo>
                <a:lnTo>
                  <a:pt x="1789" y="188"/>
                </a:lnTo>
                <a:lnTo>
                  <a:pt x="1762" y="217"/>
                </a:lnTo>
                <a:lnTo>
                  <a:pt x="1758" y="221"/>
                </a:lnTo>
                <a:lnTo>
                  <a:pt x="1733" y="186"/>
                </a:lnTo>
                <a:lnTo>
                  <a:pt x="1707" y="155"/>
                </a:lnTo>
                <a:lnTo>
                  <a:pt x="1678" y="127"/>
                </a:lnTo>
                <a:lnTo>
                  <a:pt x="1647" y="100"/>
                </a:lnTo>
                <a:lnTo>
                  <a:pt x="1614" y="77"/>
                </a:lnTo>
                <a:lnTo>
                  <a:pt x="1580" y="57"/>
                </a:lnTo>
                <a:lnTo>
                  <a:pt x="1543" y="40"/>
                </a:lnTo>
                <a:lnTo>
                  <a:pt x="1507" y="25"/>
                </a:lnTo>
                <a:lnTo>
                  <a:pt x="1478" y="15"/>
                </a:lnTo>
                <a:lnTo>
                  <a:pt x="1447" y="9"/>
                </a:lnTo>
                <a:lnTo>
                  <a:pt x="1419" y="4"/>
                </a:lnTo>
                <a:lnTo>
                  <a:pt x="1388" y="2"/>
                </a:lnTo>
                <a:lnTo>
                  <a:pt x="1328" y="0"/>
                </a:lnTo>
                <a:lnTo>
                  <a:pt x="1269" y="7"/>
                </a:lnTo>
                <a:lnTo>
                  <a:pt x="1209" y="19"/>
                </a:lnTo>
                <a:lnTo>
                  <a:pt x="1152" y="40"/>
                </a:lnTo>
                <a:lnTo>
                  <a:pt x="1094" y="67"/>
                </a:lnTo>
                <a:lnTo>
                  <a:pt x="1038" y="100"/>
                </a:lnTo>
                <a:lnTo>
                  <a:pt x="985" y="138"/>
                </a:lnTo>
                <a:lnTo>
                  <a:pt x="933" y="180"/>
                </a:lnTo>
                <a:lnTo>
                  <a:pt x="885" y="230"/>
                </a:lnTo>
                <a:lnTo>
                  <a:pt x="841" y="284"/>
                </a:lnTo>
                <a:lnTo>
                  <a:pt x="798" y="344"/>
                </a:lnTo>
                <a:lnTo>
                  <a:pt x="762" y="407"/>
                </a:lnTo>
                <a:lnTo>
                  <a:pt x="729" y="476"/>
                </a:lnTo>
                <a:lnTo>
                  <a:pt x="701" y="547"/>
                </a:lnTo>
                <a:lnTo>
                  <a:pt x="687" y="597"/>
                </a:lnTo>
                <a:lnTo>
                  <a:pt x="674" y="645"/>
                </a:lnTo>
                <a:lnTo>
                  <a:pt x="676" y="64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9240" y="2701800"/>
            <a:ext cx="125640" cy="100080"/>
          </a:xfrm>
          <a:custGeom>
            <a:avLst/>
            <a:gdLst/>
            <a:ahLst/>
            <a:rect l="l" t="t" r="r" b="b"/>
            <a:pathLst>
              <a:path w="190" h="135">
                <a:moveTo>
                  <a:pt x="0" y="0"/>
                </a:moveTo>
                <a:lnTo>
                  <a:pt x="34" y="43"/>
                </a:lnTo>
                <a:lnTo>
                  <a:pt x="73" y="77"/>
                </a:lnTo>
                <a:lnTo>
                  <a:pt x="94" y="93"/>
                </a:lnTo>
                <a:lnTo>
                  <a:pt x="117" y="106"/>
                </a:lnTo>
                <a:lnTo>
                  <a:pt x="140" y="116"/>
                </a:lnTo>
                <a:lnTo>
                  <a:pt x="163" y="125"/>
                </a:lnTo>
                <a:lnTo>
                  <a:pt x="177" y="131"/>
                </a:lnTo>
                <a:lnTo>
                  <a:pt x="19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9480" y="3351240"/>
            <a:ext cx="66600" cy="3240"/>
          </a:xfrm>
          <a:custGeom>
            <a:avLst/>
            <a:gdLst/>
            <a:ahLst/>
            <a:rect l="l" t="t" r="r" b="b"/>
            <a:pathLst>
              <a:path w="102" h="4">
                <a:moveTo>
                  <a:pt x="0" y="0"/>
                </a:moveTo>
                <a:lnTo>
                  <a:pt x="25" y="4"/>
                </a:lnTo>
                <a:lnTo>
                  <a:pt x="50" y="4"/>
                </a:lnTo>
                <a:lnTo>
                  <a:pt x="102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58880" y="3686040"/>
            <a:ext cx="8280" cy="115920"/>
          </a:xfrm>
          <a:custGeom>
            <a:avLst/>
            <a:gdLst/>
            <a:ahLst/>
            <a:rect l="l" t="t" r="r" b="b"/>
            <a:pathLst>
              <a:path w="9" h="153">
                <a:moveTo>
                  <a:pt x="0" y="0"/>
                </a:moveTo>
                <a:lnTo>
                  <a:pt x="0" y="38"/>
                </a:lnTo>
                <a:lnTo>
                  <a:pt x="2" y="77"/>
                </a:lnTo>
                <a:lnTo>
                  <a:pt x="9" y="1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0240" y="3808440"/>
            <a:ext cx="47520" cy="106200"/>
          </a:xfrm>
          <a:custGeom>
            <a:avLst/>
            <a:gdLst/>
            <a:ahLst/>
            <a:rect l="l" t="t" r="r" b="b"/>
            <a:pathLst>
              <a:path w="73" h="140">
                <a:moveTo>
                  <a:pt x="0" y="140"/>
                </a:moveTo>
                <a:lnTo>
                  <a:pt x="38" y="73"/>
                </a:lnTo>
                <a:lnTo>
                  <a:pt x="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14920" y="3238560"/>
            <a:ext cx="82440" cy="484200"/>
          </a:xfrm>
          <a:custGeom>
            <a:avLst/>
            <a:gdLst/>
            <a:ahLst/>
            <a:rect l="l" t="t" r="r" b="b"/>
            <a:pathLst>
              <a:path w="127" h="647">
                <a:moveTo>
                  <a:pt x="81" y="647"/>
                </a:moveTo>
                <a:lnTo>
                  <a:pt x="83" y="645"/>
                </a:lnTo>
                <a:lnTo>
                  <a:pt x="83" y="643"/>
                </a:lnTo>
                <a:lnTo>
                  <a:pt x="96" y="599"/>
                </a:lnTo>
                <a:lnTo>
                  <a:pt x="108" y="555"/>
                </a:lnTo>
                <a:lnTo>
                  <a:pt x="115" y="510"/>
                </a:lnTo>
                <a:lnTo>
                  <a:pt x="123" y="466"/>
                </a:lnTo>
                <a:lnTo>
                  <a:pt x="125" y="422"/>
                </a:lnTo>
                <a:lnTo>
                  <a:pt x="127" y="378"/>
                </a:lnTo>
                <a:lnTo>
                  <a:pt x="125" y="336"/>
                </a:lnTo>
                <a:lnTo>
                  <a:pt x="121" y="293"/>
                </a:lnTo>
                <a:lnTo>
                  <a:pt x="113" y="251"/>
                </a:lnTo>
                <a:lnTo>
                  <a:pt x="106" y="211"/>
                </a:lnTo>
                <a:lnTo>
                  <a:pt x="94" y="172"/>
                </a:lnTo>
                <a:lnTo>
                  <a:pt x="79" y="134"/>
                </a:lnTo>
                <a:lnTo>
                  <a:pt x="63" y="98"/>
                </a:lnTo>
                <a:lnTo>
                  <a:pt x="44" y="63"/>
                </a:lnTo>
                <a:lnTo>
                  <a:pt x="23" y="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40080" y="2959200"/>
            <a:ext cx="127080" cy="123840"/>
          </a:xfrm>
          <a:custGeom>
            <a:avLst/>
            <a:gdLst/>
            <a:ahLst/>
            <a:rect l="l" t="t" r="r" b="b"/>
            <a:pathLst>
              <a:path w="192" h="165">
                <a:moveTo>
                  <a:pt x="0" y="165"/>
                </a:moveTo>
                <a:lnTo>
                  <a:pt x="52" y="133"/>
                </a:lnTo>
                <a:lnTo>
                  <a:pt x="102" y="94"/>
                </a:lnTo>
                <a:lnTo>
                  <a:pt x="148" y="5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30800" y="2309760"/>
            <a:ext cx="15840" cy="74520"/>
          </a:xfrm>
          <a:custGeom>
            <a:avLst/>
            <a:gdLst/>
            <a:ahLst/>
            <a:rect l="l" t="t" r="r" b="b"/>
            <a:pathLst>
              <a:path w="27" h="100">
                <a:moveTo>
                  <a:pt x="0" y="100"/>
                </a:moveTo>
                <a:lnTo>
                  <a:pt x="2" y="96"/>
                </a:lnTo>
                <a:lnTo>
                  <a:pt x="2" y="92"/>
                </a:lnTo>
                <a:lnTo>
                  <a:pt x="18" y="46"/>
                </a:lnTo>
                <a:lnTo>
                  <a:pt x="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67120" y="1949400"/>
            <a:ext cx="69840" cy="77760"/>
          </a:xfrm>
          <a:custGeom>
            <a:avLst/>
            <a:gdLst/>
            <a:ahLst/>
            <a:rect l="l" t="t" r="r" b="b"/>
            <a:pathLst>
              <a:path w="105" h="104">
                <a:moveTo>
                  <a:pt x="105" y="0"/>
                </a:moveTo>
                <a:lnTo>
                  <a:pt x="76" y="23"/>
                </a:lnTo>
                <a:lnTo>
                  <a:pt x="50" y="48"/>
                </a:lnTo>
                <a:lnTo>
                  <a:pt x="25" y="75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73280" y="1849320"/>
            <a:ext cx="41400" cy="71640"/>
          </a:xfrm>
          <a:custGeom>
            <a:avLst/>
            <a:gdLst/>
            <a:ahLst/>
            <a:rect l="l" t="t" r="r" b="b"/>
            <a:pathLst>
              <a:path w="65" h="96">
                <a:moveTo>
                  <a:pt x="65" y="0"/>
                </a:moveTo>
                <a:lnTo>
                  <a:pt x="30" y="46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9320" y="1781280"/>
            <a:ext cx="49320" cy="104760"/>
          </a:xfrm>
          <a:custGeom>
            <a:avLst/>
            <a:gdLst/>
            <a:ahLst/>
            <a:rect l="l" t="t" r="r" b="b"/>
            <a:pathLst>
              <a:path w="73" h="142">
                <a:moveTo>
                  <a:pt x="73" y="142"/>
                </a:moveTo>
                <a:lnTo>
                  <a:pt x="58" y="103"/>
                </a:lnTo>
                <a:lnTo>
                  <a:pt x="41" y="67"/>
                </a:lnTo>
                <a:lnTo>
                  <a:pt x="22" y="3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93920" y="2097000"/>
            <a:ext cx="12600" cy="88920"/>
          </a:xfrm>
          <a:custGeom>
            <a:avLst/>
            <a:gdLst/>
            <a:ahLst/>
            <a:rect l="l" t="t" r="r" b="b"/>
            <a:pathLst>
              <a:path w="20" h="117">
                <a:moveTo>
                  <a:pt x="20" y="0"/>
                </a:moveTo>
                <a:lnTo>
                  <a:pt x="8" y="60"/>
                </a:lnTo>
                <a:lnTo>
                  <a:pt x="0" y="1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592280" y="2533680"/>
            <a:ext cx="20520" cy="290520"/>
            <a:chOff x="1592280" y="2533680"/>
            <a:chExt cx="20520" cy="290520"/>
          </a:xfrm>
        </p:grpSpPr>
        <p:sp>
          <p:nvSpPr>
            <p:cNvPr id="218" name=""/>
            <p:cNvSpPr/>
            <p:nvPr/>
          </p:nvSpPr>
          <p:spPr>
            <a:xfrm>
              <a:off x="1611360" y="2533680"/>
              <a:ext cx="144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92280" y="2533680"/>
              <a:ext cx="144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66920" y="2847960"/>
            <a:ext cx="49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800440" y="2320560"/>
            <a:ext cx="48096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70040" y="2822400"/>
            <a:ext cx="4590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316320" y="2547720"/>
            <a:ext cx="22860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09960" y="2330280"/>
            <a:ext cx="21960" cy="289080"/>
            <a:chOff x="3009960" y="2330280"/>
            <a:chExt cx="21960" cy="289080"/>
          </a:xfrm>
        </p:grpSpPr>
        <p:sp>
          <p:nvSpPr>
            <p:cNvPr id="225" name=""/>
            <p:cNvSpPr/>
            <p:nvPr/>
          </p:nvSpPr>
          <p:spPr>
            <a:xfrm>
              <a:off x="3030840" y="2330280"/>
              <a:ext cx="10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9960" y="2330280"/>
              <a:ext cx="144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303720" y="2882880"/>
            <a:ext cx="255600" cy="25200"/>
            <a:chOff x="3303720" y="2882880"/>
            <a:chExt cx="255600" cy="25200"/>
          </a:xfrm>
        </p:grpSpPr>
        <p:sp>
          <p:nvSpPr>
            <p:cNvPr id="228" name=""/>
            <p:cNvSpPr/>
            <p:nvPr/>
          </p:nvSpPr>
          <p:spPr>
            <a:xfrm>
              <a:off x="3303720" y="2907000"/>
              <a:ext cx="255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03720" y="2882880"/>
              <a:ext cx="255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522520" y="3241800"/>
            <a:ext cx="4935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68600" y="2754360"/>
            <a:ext cx="493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5520" y="2011320"/>
            <a:ext cx="493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11720" y="2558880"/>
            <a:ext cx="484200" cy="455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37160" y="2255760"/>
            <a:ext cx="484200" cy="455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692680" y="2487600"/>
            <a:ext cx="7542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92880" y="2989440"/>
            <a:ext cx="701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481800" y="2714400"/>
            <a:ext cx="22860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176880" y="2498760"/>
            <a:ext cx="20880" cy="288720"/>
            <a:chOff x="6176880" y="2498760"/>
            <a:chExt cx="20880" cy="288720"/>
          </a:xfrm>
        </p:grpSpPr>
        <p:sp>
          <p:nvSpPr>
            <p:cNvPr id="239" name=""/>
            <p:cNvSpPr/>
            <p:nvPr/>
          </p:nvSpPr>
          <p:spPr>
            <a:xfrm>
              <a:off x="6176880" y="249876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96320" y="2498760"/>
              <a:ext cx="1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97440" y="3084480"/>
            <a:ext cx="20880" cy="289080"/>
            <a:chOff x="5797440" y="3084480"/>
            <a:chExt cx="20880" cy="289080"/>
          </a:xfrm>
        </p:grpSpPr>
        <p:sp>
          <p:nvSpPr>
            <p:cNvPr id="242" name=""/>
            <p:cNvSpPr/>
            <p:nvPr/>
          </p:nvSpPr>
          <p:spPr>
            <a:xfrm>
              <a:off x="5797440" y="3084480"/>
              <a:ext cx="10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6880" y="3084480"/>
              <a:ext cx="144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469200" y="3051000"/>
            <a:ext cx="257040" cy="23760"/>
            <a:chOff x="6469200" y="3051000"/>
            <a:chExt cx="257040" cy="23760"/>
          </a:xfrm>
        </p:grpSpPr>
        <p:sp>
          <p:nvSpPr>
            <p:cNvPr id="245" name=""/>
            <p:cNvSpPr/>
            <p:nvPr/>
          </p:nvSpPr>
          <p:spPr>
            <a:xfrm>
              <a:off x="6469200" y="3073680"/>
              <a:ext cx="257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69200" y="3051000"/>
              <a:ext cx="257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551560" y="3421080"/>
            <a:ext cx="4935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35880" y="2919240"/>
            <a:ext cx="4935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31000" y="2179800"/>
            <a:ext cx="49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681960" y="3049560"/>
            <a:ext cx="12063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523280" y="3048120"/>
            <a:ext cx="21960" cy="290520"/>
            <a:chOff x="7523280" y="3048120"/>
            <a:chExt cx="21960" cy="290520"/>
          </a:xfrm>
        </p:grpSpPr>
        <p:sp>
          <p:nvSpPr>
            <p:cNvPr id="252" name=""/>
            <p:cNvSpPr/>
            <p:nvPr/>
          </p:nvSpPr>
          <p:spPr>
            <a:xfrm>
              <a:off x="7543800" y="3048120"/>
              <a:ext cx="144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3280" y="3048120"/>
              <a:ext cx="10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286760" y="3411360"/>
            <a:ext cx="493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67040" y="2259000"/>
            <a:ext cx="14288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673520" y="2449440"/>
            <a:ext cx="20520" cy="290520"/>
            <a:chOff x="4673520" y="2449440"/>
            <a:chExt cx="20520" cy="290520"/>
          </a:xfrm>
        </p:grpSpPr>
        <p:sp>
          <p:nvSpPr>
            <p:cNvPr id="257" name=""/>
            <p:cNvSpPr/>
            <p:nvPr/>
          </p:nvSpPr>
          <p:spPr>
            <a:xfrm>
              <a:off x="4692960" y="2449440"/>
              <a:ext cx="10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3520" y="2449440"/>
              <a:ext cx="108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468680" y="2071800"/>
            <a:ext cx="49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7560" y="3009960"/>
            <a:ext cx="642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95720" y="3187800"/>
            <a:ext cx="642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666880"/>
            <a:ext cx="990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24080" y="193032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Ir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67080" y="322596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I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9240" y="3733920"/>
            <a:ext cx="178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MS PGothic"/>
              </a:rPr>
              <a:t>Carrier Doma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7000" y="3762360"/>
            <a:ext cx="177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MS PGothic"/>
              </a:rPr>
              <a:t>Carrier Domai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0680" y="3352680"/>
            <a:ext cx="75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S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STM-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39360" y="2328840"/>
            <a:ext cx="772200" cy="727200"/>
            <a:chOff x="639360" y="2328840"/>
            <a:chExt cx="772200" cy="727200"/>
          </a:xfrm>
        </p:grpSpPr>
        <p:sp>
          <p:nvSpPr>
            <p:cNvPr id="269" name=""/>
            <p:cNvSpPr/>
            <p:nvPr/>
          </p:nvSpPr>
          <p:spPr>
            <a:xfrm>
              <a:off x="685800" y="2328840"/>
              <a:ext cx="639720" cy="727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9360" y="2438280"/>
              <a:ext cx="77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773480" y="2666880"/>
            <a:ext cx="772200" cy="727200"/>
            <a:chOff x="7773480" y="2666880"/>
            <a:chExt cx="772200" cy="727200"/>
          </a:xfrm>
        </p:grpSpPr>
        <p:sp>
          <p:nvSpPr>
            <p:cNvPr id="272" name=""/>
            <p:cNvSpPr/>
            <p:nvPr/>
          </p:nvSpPr>
          <p:spPr>
            <a:xfrm>
              <a:off x="7819920" y="2666880"/>
              <a:ext cx="639720" cy="727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73480" y="2776320"/>
              <a:ext cx="77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07120" y="266688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I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16400" y="190512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Ia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21520" y="182880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O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Ir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2438280"/>
            <a:ext cx="637920" cy="539280"/>
            <a:chOff x="2209680" y="2438280"/>
            <a:chExt cx="637920" cy="539280"/>
          </a:xfrm>
        </p:grpSpPr>
        <p:sp>
          <p:nvSpPr>
            <p:cNvPr id="278" name=""/>
            <p:cNvSpPr/>
            <p:nvPr/>
          </p:nvSpPr>
          <p:spPr>
            <a:xfrm>
              <a:off x="2238120" y="2438280"/>
              <a:ext cx="609480" cy="5335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9680" y="2457360"/>
              <a:ext cx="630000" cy="52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O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200400" y="2057400"/>
            <a:ext cx="637920" cy="538920"/>
            <a:chOff x="3200400" y="2057400"/>
            <a:chExt cx="637920" cy="538920"/>
          </a:xfrm>
        </p:grpSpPr>
        <p:sp>
          <p:nvSpPr>
            <p:cNvPr id="281" name=""/>
            <p:cNvSpPr/>
            <p:nvPr/>
          </p:nvSpPr>
          <p:spPr>
            <a:xfrm>
              <a:off x="3228840" y="2057400"/>
              <a:ext cx="609480" cy="5331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00400" y="2076120"/>
              <a:ext cx="630000" cy="52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O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809800" y="2990880"/>
            <a:ext cx="20880" cy="288720"/>
            <a:chOff x="2809800" y="2990880"/>
            <a:chExt cx="20880" cy="288720"/>
          </a:xfrm>
        </p:grpSpPr>
        <p:sp>
          <p:nvSpPr>
            <p:cNvPr id="284" name=""/>
            <p:cNvSpPr/>
            <p:nvPr/>
          </p:nvSpPr>
          <p:spPr>
            <a:xfrm>
              <a:off x="2809800" y="2990880"/>
              <a:ext cx="108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29240" y="2990880"/>
              <a:ext cx="144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019320" y="3121200"/>
            <a:ext cx="637920" cy="538920"/>
            <a:chOff x="3019320" y="3121200"/>
            <a:chExt cx="637920" cy="538920"/>
          </a:xfrm>
        </p:grpSpPr>
        <p:sp>
          <p:nvSpPr>
            <p:cNvPr id="287" name=""/>
            <p:cNvSpPr/>
            <p:nvPr/>
          </p:nvSpPr>
          <p:spPr>
            <a:xfrm>
              <a:off x="3047760" y="3121200"/>
              <a:ext cx="609480" cy="5331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9320" y="3139920"/>
              <a:ext cx="630000" cy="52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O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85800" y="403848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MS PGothic"/>
              </a:rPr>
              <a:t>User/carrier may originate/terminate the </a:t>
            </a:r>
            <a:r>
              <a:rPr b="0" lang="de-DE" sz="16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OTN framing for any digita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(IP, ATM, SDH,,,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990360" y="3124080"/>
            <a:ext cx="75960" cy="9144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4267080"/>
            <a:ext cx="5638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Balloon"/>
                <a:ea typeface="ＭＳ 明朝"/>
              </a:rPr>
              <a:t>IaDI = Intra-Domai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Balloon"/>
                <a:ea typeface="ＭＳ 明朝"/>
              </a:rPr>
              <a:t>IrDI = Inter-Domai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Balloon"/>
                <a:ea typeface="ＭＳ 明朝"/>
              </a:rPr>
              <a:t>NE = Network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Balloon"/>
                <a:ea typeface="ＭＳ 明朝"/>
              </a:rPr>
              <a:t>Interfaces: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For single/multichannels with performance monit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5880" y="3200400"/>
            <a:ext cx="484200" cy="455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8821-DA0E-4316-B85B-037E7C8C2CF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08A9B-79E1-47EA-920C-00CA33E1C9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Standardization Work Plan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ization areas covered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TNT (variety of aspects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DH &amp; SONE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TN Transport Plan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TN/ASON Control Plan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3A1F-44DC-4E48-8E8B-102194454C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80F3C-EF89-46DA-BC37-C39536B48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Standardization Work Plan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dards organizations referenced &amp; referred to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TU-T (SG 4, 13 15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SI T1X1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IA FO-2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SO/IEC Subcomm. 86A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ETF Sub-IP Area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EEE 802.3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IF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TMF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69C3-76B9-4415-BAB3-D9499CCCDC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339FD-26EE-414F-A4D2-CBE928C69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his Present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SG 15 overvie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ead Study Group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Expected Workshop resul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8D47-3C4C-475E-A139-D90970272C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FCF61-4718-4E52-B916-50F2D8758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related work in progres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igabit-capable Passive Optical Networks (PON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etwork protection and restoratio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etropolitan Optical Networks 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TN management Information Model (Protocol neutral and specific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ASTN/AS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ON enhancement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stributed call and connection management (Protocol neutral and specific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9537-7914-4893-9521-1FFFE0496E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7AC92-A237-40C8-8F0D-B7D77D857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TNT related work in progress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N Technolog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Non-zero dispersion fibers for wideband transpor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0Gbit/s, 80 km, single channel system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WDM application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ansverse compatibilit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cal system design, terrestrial and submarine (Supplements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 total approx. 60-70 draft new/revised Recommendation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7690-3B35-4114-83C2-F70384186C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62326-79D5-483E-BBF4-F9B61E7767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ome open issu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ottleneck network access </a:t>
            </a:r>
            <a:r>
              <a:rPr b="0" lang="en-US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Fiber to the hom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consistent OTN terminology in industry and SDO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Supervisory Channel (diff. interpretations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performance monitoring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thernet and OTN interworking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thernet in the first mile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PO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thernet in Metropolitan Optical Network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thernet over Transport Network Architectur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P directly over fiber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al Virtual Private Networks (OVPN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4969-09A6-4C26-B23F-9F879C6E47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7DC2C-9FE4-476A-90FA-8C6051C25C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his Present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SG 15 overvie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ead Study Group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xpected Workshop resul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FDDD-5B50-4B54-A3D1-9C124F8823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6DD2-41B1-47DD-8566-13CD5A9117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914400"/>
            <a:ext cx="87631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99ffcc"/>
                </a:solidFill>
                <a:latin typeface="Souvenir Lt BT"/>
              </a:rPr>
              <a:t>36 years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99ffcc"/>
                </a:solidFill>
                <a:latin typeface="Souvenir Lt BT"/>
              </a:rPr>
              <a:t>later...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905120"/>
            <a:ext cx="678168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limiting factor at present with the fibre guide is that the best readily available low-loss material has a loss of about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1000 dB/k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However, it is foreseen that the present material can be improved, and our team have indications that materials having losses of only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ens of dB/k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hould be forthco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offrey Charlish, 26.1.1966</a:t>
            </a:r>
            <a:r>
              <a:rPr b="1" lang="en-GB" sz="20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DF17-753D-4333-B0DD-4AC50E12DED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FFDB5-69FF-46BD-8249-9CD499BB2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xpected workshop result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creased awareness, cooperation &amp; delineation of standards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cope of standar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nfirmation; Reassessmen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ew topics, areas for standardiza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vised/new Questions; Work Plan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ioritiza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arket needs; Time line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her action item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FEE9-8122-4599-B7B8-61B7A6568EF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2C5E9-FA73-43F5-9448-8ED5DB7E61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752480"/>
            <a:ext cx="1523880" cy="21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G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http://www.itu.in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ITUT/studygroup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com15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A417-D115-459E-835A-50541BBC9C21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B8622-A616-4077-89F0-4D67445785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85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752480"/>
            <a:ext cx="14479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G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6248520" cy="467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9B0D-DDF3-4F96-BABF-1C248328CFA6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D6EE-FCC7-4B3B-A581-0DC3E72034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his Presenta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G 15 overvie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Lead Study Group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xpected Workshop resul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93A1-2DDD-46DB-9AD4-D0FFA8F75C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7109B-6950-4E68-B8ED-9D658EA1D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his Present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G 15 overview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Lead Study Group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Expected Workshop resul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00A2-63E6-4E25-8A8E-9A1036C0F3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3E6A6-83A0-4D0A-967F-F25B2D0E9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esponsibility and Mandat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Focal point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in ITU-T for studies on optical and other transport networks, systems and equipment. This encompasses the development of transmission layer related standards for access, metropolitan and long haul sections of communication network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ead Study Group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on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ccess Network Transport (ANT)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cal Technology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E27F-BC93-4780-9CE4-FA6F286627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1A2B6-B700-40F7-8BF1-C14962BAC6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G15 Objectiv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cal point for global standards on Transport Network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arket driven and timely standards in major work area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Value-added’ coordination and cooperation effor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upport ITU-T as preeminent Internat. Stds. Organizat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omote SG 15 standardization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C2EE-1234-45B5-8C2E-C5E7CEFCF5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06994-8B17-4D0E-9431-4ACB6C3403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tandards driven by market need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Multi-Megabit/s and Gigabit/s network acces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V distribution and interactiv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erabyte/s in metropolitan and long haul transpor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cal Internet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WDM, CWDM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st reduction, Scalability, Service Velocit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witched Optical Network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nd-to-end wavelength services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6063-7C5F-47FB-8FCE-09D4C0B24B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122D0-936D-4F01-9A45-5C29E7A275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990720" y="1219320"/>
            <a:ext cx="7238880" cy="609480"/>
            <a:chOff x="990720" y="1219320"/>
            <a:chExt cx="7238880" cy="609480"/>
          </a:xfrm>
        </p:grpSpPr>
        <p:sp>
          <p:nvSpPr>
            <p:cNvPr id="131" name=""/>
            <p:cNvSpPr/>
            <p:nvPr/>
          </p:nvSpPr>
          <p:spPr>
            <a:xfrm>
              <a:off x="990720" y="1219320"/>
              <a:ext cx="7238880" cy="6094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1295280"/>
              <a:ext cx="627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G 15 - Optical and other Transport Net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90920" y="1828800"/>
            <a:ext cx="685800" cy="3276720"/>
            <a:chOff x="2590920" y="1828800"/>
            <a:chExt cx="685800" cy="3276720"/>
          </a:xfrm>
        </p:grpSpPr>
        <p:sp>
          <p:nvSpPr>
            <p:cNvPr id="134" name=""/>
            <p:cNvSpPr/>
            <p:nvPr/>
          </p:nvSpPr>
          <p:spPr>
            <a:xfrm>
              <a:off x="2590920" y="21337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27432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34290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411480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1828800"/>
              <a:ext cx="0" cy="3200400"/>
            </a:xfrm>
            <a:prstGeom prst="line">
              <a:avLst/>
            </a:prstGeom>
            <a:ln w="7632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47242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52680" y="1981080"/>
            <a:ext cx="4724640" cy="536040"/>
            <a:chOff x="3352680" y="1981080"/>
            <a:chExt cx="4724640" cy="536040"/>
          </a:xfrm>
        </p:grpSpPr>
        <p:sp>
          <p:nvSpPr>
            <p:cNvPr id="141" name=""/>
            <p:cNvSpPr/>
            <p:nvPr/>
          </p:nvSpPr>
          <p:spPr>
            <a:xfrm>
              <a:off x="3352680" y="1981080"/>
              <a:ext cx="4724640" cy="53352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2057400"/>
              <a:ext cx="3130560" cy="45972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WP 1 - Network A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52680" y="4724280"/>
            <a:ext cx="4724640" cy="536040"/>
            <a:chOff x="3352680" y="4724280"/>
            <a:chExt cx="4724640" cy="536040"/>
          </a:xfrm>
        </p:grpSpPr>
        <p:sp>
          <p:nvSpPr>
            <p:cNvPr id="145" name=""/>
            <p:cNvSpPr/>
            <p:nvPr/>
          </p:nvSpPr>
          <p:spPr>
            <a:xfrm>
              <a:off x="3352680" y="4724280"/>
              <a:ext cx="4724640" cy="50796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48006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WP 5 - Projects and Pro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52680" y="2666880"/>
            <a:ext cx="4724640" cy="901800"/>
            <a:chOff x="3352680" y="2666880"/>
            <a:chExt cx="4724640" cy="901800"/>
          </a:xfrm>
        </p:grpSpPr>
        <p:sp>
          <p:nvSpPr>
            <p:cNvPr id="148" name=""/>
            <p:cNvSpPr/>
            <p:nvPr/>
          </p:nvSpPr>
          <p:spPr>
            <a:xfrm>
              <a:off x="3352680" y="2666880"/>
              <a:ext cx="4724640" cy="533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2743200"/>
              <a:ext cx="4441680" cy="8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 2 - Network Signal Proc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52680" y="3352680"/>
            <a:ext cx="4724640" cy="536040"/>
            <a:chOff x="3352680" y="3352680"/>
            <a:chExt cx="4724640" cy="536040"/>
          </a:xfrm>
        </p:grpSpPr>
        <p:sp>
          <p:nvSpPr>
            <p:cNvPr id="151" name=""/>
            <p:cNvSpPr/>
            <p:nvPr/>
          </p:nvSpPr>
          <p:spPr>
            <a:xfrm>
              <a:off x="3352680" y="3352680"/>
              <a:ext cx="4724640" cy="53352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360" y="3429000"/>
              <a:ext cx="2942280" cy="45972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WP 3 - OTN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2680" y="4038480"/>
            <a:ext cx="4724640" cy="536040"/>
            <a:chOff x="3352680" y="4038480"/>
            <a:chExt cx="4724640" cy="536040"/>
          </a:xfrm>
        </p:grpSpPr>
        <p:sp>
          <p:nvSpPr>
            <p:cNvPr id="154" name=""/>
            <p:cNvSpPr/>
            <p:nvPr/>
          </p:nvSpPr>
          <p:spPr>
            <a:xfrm>
              <a:off x="3352680" y="4038480"/>
              <a:ext cx="4724640" cy="53352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1908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4114800"/>
              <a:ext cx="3281400" cy="45972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WP 4 - OTN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rganization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4DFA-A3CB-49A7-BF07-37CFEBF5E40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55C8-0E8A-48DD-90B8-5B3509767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WERY</dc:creator>
  <dc:description/>
  <dc:language>en-US</dc:language>
  <cp:lastModifiedBy>WERY</cp:lastModifiedBy>
  <dcterms:modified xsi:type="dcterms:W3CDTF">2002-06-03T19:33:12Z</dcterms:modified>
  <cp:revision>38</cp:revision>
  <dc:subject/>
  <dc:title>PowerPoint Presentation</dc:title>
</cp:coreProperties>
</file>