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6E2-C0BA-42AA-B940-1D1EC92D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F94-3090-4A7A-A8FA-20AE8A4D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281-BB65-42C5-9E23-D2C42D48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3CB-3771-4B13-BCAB-13D216AA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117-7811-4D00-A8AB-DCA075D0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FA6-7BDD-4713-A8F2-CE1CD59D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422-3B19-45D5-848B-EC87F059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137-4944-48FA-84F5-65C0BB87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F9C-C538-4629-BD6E-5C247028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F8D-AEB9-4AF2-88E7-00EAC550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DF89-1829-433F-95BB-B6039313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F73-75BC-42AD-8D1E-237CF33A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058C-791C-4FF2-A91F-BF509D0D1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14320"/>
            <a:ext cx="7772400" cy="581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gradFill rotWithShape="0">
            <a:gsLst>
              <a:gs pos="0">
                <a:srgbClr val="cdf4fe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3903fd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bio Big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shop Coordin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58000" y="55227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523880"/>
            <a:ext cx="7162920" cy="1447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523880"/>
            <a:ext cx="7162920" cy="15242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df85d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SHOP ON IP/OPTICA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CHITOSE, JAPAN, 9-11 JULY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2120" y="5257800"/>
          <a:ext cx="8380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257800"/>
                    <a:ext cx="838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609480"/>
            <a:ext cx="8077320" cy="556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3903f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P over optical, business an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ket aspect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witched optical network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tics in access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metropolitan network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  Optical interface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  Optical/IP network OAM and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tection and restoration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02800" y="5786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62120" y="304920"/>
            <a:ext cx="8153280" cy="548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3903f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   WDM and DWDM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   Signalling and rout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   Optical fibres, cables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component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   Optical network manag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58360" y="52941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14400" y="5029200"/>
          <a:ext cx="6858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029200"/>
                    <a:ext cx="685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8305920" cy="480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3903fd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    Optical switching equipmen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.     Network performanc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(IP/Optical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.      Optical network clients an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service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.       Services and network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e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495288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04920" y="4800600"/>
          <a:ext cx="7617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80060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3903f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ake this opportunity to thank all contributors, the organizers and the participants for their commitment to make this a successful ev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8360" y="55990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5257800"/>
          <a:ext cx="7621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257800"/>
                    <a:ext cx="762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gradFill rotWithShape="0">
            <a:gsLst>
              <a:gs pos="0">
                <a:srgbClr val="7ae5ff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3903f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orkshop on IP/Op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ganized within the framework of ITU-T’s new initiatives, will profit from the participation of experts from the standardization sector and other SDOs, as well as eminent local expert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81680" y="5675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5410080"/>
          <a:ext cx="7621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410080"/>
                    <a:ext cx="762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380520"/>
            <a:ext cx="8076960" cy="5715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the awareness of ITU-T studies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s, products and servi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e the activities of ITU-T stud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ups in a particular fiel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nefit from progress achieved in oth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DOs, and considering the result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D and ITU-R study groups whe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ropriate, in order to coordinate stud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o avoid duplication of effor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5715000"/>
          </a:xfrm>
          <a:prstGeom prst="rect">
            <a:avLst/>
          </a:prstGeom>
          <a:noFill/>
          <a:ln w="9360">
            <a:solidFill>
              <a:srgbClr val="3903f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153280" y="563868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143000" y="541440"/>
            <a:ext cx="7315200" cy="861480"/>
          </a:xfrm>
          <a:prstGeom prst="rect">
            <a:avLst/>
          </a:prstGeom>
          <a:gradFill rotWithShape="0">
            <a:gsLst>
              <a:gs pos="0">
                <a:srgbClr val="fecbfe"/>
              </a:gs>
              <a:gs pos="100000">
                <a:srgbClr val="ff99ff"/>
              </a:gs>
            </a:gsLst>
            <a:lin ang="135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orkshops/Seminars organized by ITU-T aim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3903f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new areas for standardiz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relevant study groups in order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hance existing and related projects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 response to new marke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need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imulate opinions, priorities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ibutions from different reg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order to focus corresponding IT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ies, to respond to concerns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isting membership and attract new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bers to contribute to the work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34320" y="5675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3903f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e31dd0"/>
                </a:solidFill>
                <a:latin typeface="Times New Roman"/>
              </a:rPr>
              <a:t>IP (led by Study Group 1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This project studies the interaction of IP-based networks and telecommunications networks for multimedia and other IP applications, and considers the interoperability of IP-based services and telecommunication services to ensure the continued speed, capacity, ease of use, reliability and integrity of the public telephone networks in use around the worl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10280" y="5827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335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609480"/>
            <a:ext cx="6933960" cy="1067040"/>
          </a:xfrm>
          <a:prstGeom prst="rect">
            <a:avLst/>
          </a:prstGeom>
          <a:gradFill rotWithShape="0">
            <a:gsLst>
              <a:gs pos="0">
                <a:srgbClr val="fea4fe"/>
              </a:gs>
              <a:gs pos="100000">
                <a:srgbClr val="ff99ff"/>
              </a:gs>
            </a:gsLst>
            <a:lin ang="108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Workshop is aimed at enhanc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ollowing special pro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3903f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Wingdings"/>
                <a:ea typeface="Wingdings"/>
              </a:rPr>
              <a:t>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TN (led by Study Group 15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ptical Transport Network i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posed of a set of Optical Network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ments connected by optical fibr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inks, able to provide functionality of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ansport, multiplexing, routing,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nagement, supervision and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rvivability of optical channel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arrying client signals. A set of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commendations (ITU-T G-series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as already paved the way for futur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ll-optical network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05720" y="59040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3903f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e31dd0"/>
                </a:solidFill>
                <a:latin typeface="Times New Roman"/>
              </a:rPr>
              <a:t>Access (led by Study Group 15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New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ies, optimised for transpor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packet data including packetis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ice, will require the capability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different QoS services fr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 to end through the network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luding the access networks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scenarios are examined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im to give to the end user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amless global multimedi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s of their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34320" y="5827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3903f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1dd0"/>
                </a:solidFill>
                <a:latin typeface="Times New Roman"/>
              </a:rPr>
              <a:t>NGN (led by Study Group 1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The term Next Generation Network represents key technologies, realizing the concepts of the global information infrastructure. The general principles for NGN can be found in various Y-series Recommendations. NGNs are considered to be part of the “federation of networks” of the global information infrastructure. This concept enables people to securely use a set of communication services supporting an open multitude of applications and embracing all modes of information, any time, anywhere and at an acceptable cost and 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34320" y="5675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3903f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ring the official opening there will be key-note addresses given by the Director of TSB, by representatives of IETF, ISO/IEC, local universities and by the chairmen of Study Groups 13 and 15. The workshop will be organized in the following session t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05720" y="55990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8080" y="55627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5627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9:21:05Z</dcterms:created>
  <dc:creator>judith quist</dc:creator>
  <dc:description/>
  <dc:language>en-US</dc:language>
  <cp:lastModifiedBy>judith quist</cp:lastModifiedBy>
  <dcterms:modified xsi:type="dcterms:W3CDTF">2002-06-13T10:30:39Z</dcterms:modified>
  <cp:revision>17</cp:revision>
  <dc:subject/>
  <dc:title>WORKSHOP ON IP/OPTICAL  (CHITOSE, JAPAN, 9-11 JULY 2002)</dc:title>
</cp:coreProperties>
</file>