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68EE-E4D6-4365-907D-44504386B27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095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666880" y="64771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shop IP/Optical; Chitose, Japan; 9-11 July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 txBox="1"/>
          <p:nvPr/>
        </p:nvSpPr>
        <p:spPr>
          <a:xfrm>
            <a:off x="1676520" y="5715000"/>
            <a:ext cx="5105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orkshop IP/Optica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666880" y="64771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shop IP/Optical; Chitose, Japan; 9-11 July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Times New Roman"/>
              </a:rPr>
              <a:t>Closing remarks</a:t>
            </a:r>
            <a:endParaRPr b="1" lang="en-US" sz="4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AA1E5-ADB7-48C6-B98F-12510FBF3E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losing remark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hallenging 3 day workshop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olid participation in difficult tim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nimated and intense discussions (Session dependent)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Everyone benefited in some way from workshop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ptics is and remains THE transport network technology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ried to measure outcome against workshop objective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343FA-148C-4C7F-9F5D-2579AD8A2C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losing remarks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(cont’d)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Detailed results in individual Session Summaries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General observations and remarks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uccessfully increased awareness of  current standardization activities in ITU-T, IEC, IEEE, IETF, OIF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Better understanding and appreciation of important issues and possible solutions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Need to continue and strengthen communication, coordination and cooperation effort between ITU-T, IEC, IEEE, IETF, OIF, and possibly others, by e.g.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Expanding use of common FTP area on ITU-T SG Web Sites for speedy exchange of information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ross ‘fertilization’ and participation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941E2-C0C3-4A4C-8520-4D41D493AE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losing remarks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(cont’d)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Learning experience</a:t>
            </a: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Workshops need to be less tutorial and more interactive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Presentations could be shorter, more focused on issues and problem areas and standardization needs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Include some challenging statements/positions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serve more time for discussion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61401-D09A-4D8E-88AA-B63A64EB8F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Monotype Corsiva"/>
              </a:rPr>
              <a:t>Thank You</a:t>
            </a:r>
            <a:endParaRPr b="1" lang="en-US" sz="6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o City of Chitose for hosting this event in the most generous fashion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o Session Coordinators for organizing and leading the   discussions in their session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o Presenters for preparing and delivering their materia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o Participants for their contributions to stimulating discussion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5328A-332E-4B32-A7B6-2B9F3B73AB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7:05:20Z</dcterms:created>
  <dc:creator>Moore</dc:creator>
  <dc:description/>
  <dc:language>en-US</dc:language>
  <cp:lastModifiedBy>UGALE, Arvin Carlos D.</cp:lastModifiedBy>
  <dcterms:modified xsi:type="dcterms:W3CDTF">2002-07-19T16:54:32Z</dcterms:modified>
  <cp:revision>54</cp:revision>
  <dc:subject/>
  <dc:title>PowerPoint Presentation</dc:title>
</cp:coreProperties>
</file>