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E87A-E682-4992-8C0B-28B49E88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87BD-E514-4E0D-AC15-CCD2D1E0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9CB9-B254-4A2C-BC41-3476595B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6900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556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208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6900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556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C07B-4A12-49B3-8A13-FEDC6679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E8FBD-AEA0-424F-8EEE-5977D77416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29B3E-0220-4B79-BB4B-76F8AA7808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91823-3AF9-4E70-8BC1-F32D8A7A90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A2137-8604-4151-A54D-3719688595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2EFC0-58ED-437A-9744-2F862A2315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06160" y="380520"/>
            <a:ext cx="755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58492-65BF-4C36-A44B-FE3EFD2DE8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DD50D-3C76-48A4-A2D5-0D75208964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C668-7D9E-4F61-B553-8660986B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EBB3E-C930-490C-99AF-F036770353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514B4-D288-4AA7-A52B-B3E52403D1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A73A4-7EF9-415C-86F3-219BB2721D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7E4DC-3278-4B56-BE06-6878C3B6D9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6900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556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208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6900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556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E2C97-38B2-4C6D-9683-60DBED1A4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98E1-2C31-4CC8-8153-738CA384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D4FC-A159-4B61-BE2E-B5E43B10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46F2-5984-453E-8B2D-492F4B79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06160" y="380520"/>
            <a:ext cx="755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AD21-0F6D-4C80-A2C4-D5FF62AF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B670-90D9-498E-98DF-F33A5FDF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A82C-51CB-4DAA-B6ED-6854175B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96C6-E93E-4A40-B900-590419F7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1ADB-E3B8-4B3D-AB75-02269A5A3E6A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1222200" cy="6882840"/>
            <a:chOff x="0" y="0"/>
            <a:chExt cx="1222200" cy="6882840"/>
          </a:xfrm>
        </p:grpSpPr>
        <p:sp>
          <p:nvSpPr>
            <p:cNvPr id="4" name=""/>
            <p:cNvSpPr/>
            <p:nvPr/>
          </p:nvSpPr>
          <p:spPr>
            <a:xfrm>
              <a:off x="0" y="1257480"/>
              <a:ext cx="122220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itulogo-en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2220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Trebuchet MS"/>
              </a:rPr>
              <a:t>9-10 Jul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829880" y="6565680"/>
            <a:ext cx="6705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Workshop on Next Generation Networks: What, When &amp;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itulogo-en" descr=""/>
          <p:cNvPicPr/>
          <p:nvPr/>
        </p:nvPicPr>
        <p:blipFill>
          <a:blip r:embed="rId3"/>
          <a:srcRect l="12710" t="0" r="17799" b="0"/>
          <a:stretch/>
        </p:blipFill>
        <p:spPr>
          <a:xfrm>
            <a:off x="0" y="0"/>
            <a:ext cx="1219320" cy="1293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-141120" y="1074600"/>
            <a:ext cx="15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U-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4"/>
          </p:nvPr>
        </p:nvSpPr>
        <p:spPr>
          <a:xfrm>
            <a:off x="6989760" y="6203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8DA07B06-FAE7-4559-81E8-3FD05AAC8F3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35080" y="6219720"/>
            <a:ext cx="582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Workshop on Next Generation Networks: What, When &amp;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Geneva, 9-10 Jul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0280" y="1969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5f1ff"/>
                </a:solidFill>
                <a:latin typeface="Trebuchet MS"/>
              </a:rPr>
              <a:t>NGN standardization in ITU-T: how and when ?</a:t>
            </a:r>
            <a:endParaRPr b="1" lang="en-US" sz="48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90080" y="4833720"/>
            <a:ext cx="7696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Jean-Yves Cochennec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TU-T Study Group 13 Vice Chair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160" y="52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Role of ITU-T in NGN standardiz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2080" y="1909800"/>
            <a:ext cx="753264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TU has a leading role to play in NGN standardization because it is an expectation from the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world mark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NGN is a vast area, its coverage requires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collaboration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with other SD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urrent situation in ITU : NGN 2004 Project has been launched in Nov.02, ITU SGs have already shown their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strong motivation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for the Proje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but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 increased activity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is deemed necessary to meet target date for the first set of Recs on NGN (mid-2004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6808-18CD-47F9-9241-D71012A147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76CFFFC-3144-48B0-9354-27931A923B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66"/>
                </a:solidFill>
                <a:latin typeface="Verdana"/>
              </a:rPr>
              <a:t>Next step on NGN standard activities in ITU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17680" y="1545840"/>
            <a:ext cx="752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e role of SG13 in ITU is to get a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detailed cartography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of standard activities related to NGN and to organize/manage them among SG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Next step for SGs is to list NGN standard activities of their field and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to map them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on their existing Questions and/or create new Ques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reation of new Questions is encouraged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to cover well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(no gaps/ no overlaps) study areas identified in the Proje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NGN standardization should become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a major activity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of ITU-T in the next study period (2004–2008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5ACC-2BE7-4AEB-84E3-53AFB6776F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497C64E-8940-46BB-B6C6-DD2078A8A2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9560" y="1928880"/>
            <a:ext cx="1467000" cy="28591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66"/>
                </a:solidFill>
                <a:latin typeface="Verdana"/>
              </a:rPr>
              <a:t>Work on NGN in ITU-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52760" y="731880"/>
          <a:ext cx="6151680" cy="5587920"/>
        </p:xfrm>
        <a:graphic>
          <a:graphicData uri="http://schemas.openxmlformats.org/drawingml/2006/table">
            <a:tbl>
              <a:tblPr/>
              <a:tblGrid>
                <a:gridCol w="1636920"/>
                <a:gridCol w="4514760"/>
              </a:tblGrid>
              <a:tr h="72468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udy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663120">
                <a:tc>
                  <a:txBody>
                    <a:bodyPr lIns="57240" rIns="1908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13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Lead S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chitecture, interworking iss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43452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gnalling, control protoc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43452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1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ultimedia services and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43452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ata networks, security asp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72468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rvice provision, numbering, routing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43488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nd to end QoS/perform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43452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nagement asp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43452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bility, fixed/mobile converg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43452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ble networks, tele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  <a:tr h="433440"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G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  <a:tc>
                  <a:txBody>
                    <a:bodyPr lIns="57240" rIns="57240" tIns="57240" bIns="572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ransport, optical networ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f1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0420-AC78-4507-B701-1894AF01D41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A1B5A75-D4FA-4582-B00A-2C099BB9E5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B Moore</dc:creator>
  <dc:description/>
  <dc:language>en-US</dc:language>
  <cp:lastModifiedBy>androucv</cp:lastModifiedBy>
  <cp:lastPrinted>2001-03-15T13:10:50Z</cp:lastPrinted>
  <dcterms:modified xsi:type="dcterms:W3CDTF">2003-07-07T17:48:30Z</dcterms:modified>
  <cp:revision>138</cp:revision>
  <dc:subject/>
  <dc:title>Presentation - B Moore</dc:title>
</cp:coreProperties>
</file>