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574-F78F-4BE0-A64A-38370EAB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CB8-573C-4651-84ED-15E38834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A33-8176-4677-B8BB-34244644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876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25640" y="146844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3152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876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25640" y="3920760"/>
            <a:ext cx="271116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ADC-1E6E-4A15-9ADA-6532F61B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A3D-4E3B-4463-83CE-26F51B94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7B6-83E9-405D-9A72-38E04F18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BAB-4FCF-46A1-B681-75D86C5D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AB4-C2B8-4E46-BFA7-E14D264E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09560" y="560520"/>
            <a:ext cx="8445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9DC-C947-4BD6-B546-92D36713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937-97CC-41A0-B7DE-3813479F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6120" y="392076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27F-A613-4B6B-8B0B-E170F284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6120" y="1468440"/>
            <a:ext cx="410868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1520" y="3920760"/>
            <a:ext cx="8420040" cy="22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874-8A3B-4292-A929-A50C3BEB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83600" y="62355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AA7545-EAE5-47EA-AAC1-8E5062FE87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2560" y="628812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4200" y="1405080"/>
            <a:ext cx="8420040" cy="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04920" y="6116760"/>
            <a:ext cx="968400" cy="6714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063120" y="630072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ff"/>
                </a:solidFill>
                <a:latin typeface="Times New Roman"/>
                <a:ea typeface="돋움"/>
              </a:rPr>
              <a:t>heechang@nca.or.kr,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  <a:ea typeface="돋움"/>
              </a:rPr>
              <a:t>jkchoi@icu.ac.k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eechang@nca.or.kr" TargetMode="External"/><Relationship Id="rId2" Type="http://schemas.openxmlformats.org/officeDocument/2006/relationships/hyperlink" Target="mailto:jkchoi@icu.ac.k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Which Standards are needed toward Future Wireline and Wireless IP Network ?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Hee Chang Chung, Jun Kyun Choi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eechang@nca.or.kr</a:t>
            </a: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8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jkchoi@icu.ac.kr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953-81DA-41B2-96F6-018A9F66EB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ical Problems for NGN Architecture -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Domai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Boundary Concept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or Single/Multiple Specific Capabilities of NG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geographical area or logical VP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flow class and servic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resource allocation and resource usag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management domain of specific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ownership and administration dom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security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naming, addressing, an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392-970F-4CBE-A0E3-BCBC28D184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cal Requirements for NGN Architecture -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General Requirements of NGN Architectu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Existing networks must be inter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For loss of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Heterogene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Consider a variety of networks including broadcast, satellite, and wireless/radio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istribute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ermit distributed management of its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ase of Atta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ermit host attachment with a low level of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Resources must be accou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9E9-D3C4-4191-A3DB-AE91B70F55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cal Requirements for NGN Architecture -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eneral Requirements of NGN Architecture (continued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/Terminal/Service mobility, network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cy-driven Network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lligent Network/User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 Alloca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ility to allocate capacity among users and applications based on the acceptable cha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s are highly variable over short time s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operational and governmental activities (i.e, emergency), it allocate the resource capacity based on </a:t>
            </a:r>
            <a:r>
              <a:rPr b="1" i="1" lang="en-US" sz="2000" spc="-1" strike="noStrike">
                <a:solidFill>
                  <a:srgbClr val="fc0128"/>
                </a:solidFill>
                <a:latin typeface="Times New Roman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ized reservation at on-demand time or reservat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E6B-7D5A-43E2-BE6B-27349D6D2E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Pv6-based Control and Management Architecture of N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BB2-242A-4824-B33E-31CD234562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Pv6 Performance Issues - 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4640" y="1468440"/>
            <a:ext cx="897912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a Transfer Performanc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v6 Basic Header Process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ow classification by traffic class and flow label, Hop Limit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 acceptable at the existing IP rout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Header Processing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p-by-Hop Options header (mainly urgently changing, alerting or diverting user flo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tination Options header (trans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ing header (for tunneling or changing the intermediate forwarding pa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gment hea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capsulating Security Payload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tination Options header (fi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per-layer header (TCP/UDP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868-91B6-40AE-ADB2-C3E7A14D89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Pv6 Performance Issues - 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Switching or Routing Performanc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one only by IPv6 addresses (or by flow lab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one both by IPv6 addresses and flow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ncluding IPv6 address (only routing pref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ncluding whole IPv6 address including EUI-64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Forwarding Performance for Mobile User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andle Both Logical Address (e.g., Care-of-Address) and Physical Address (e,g, Home Address) at an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Look-up logic of forward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How to handle FA and HA functions including registration, advertisement as well as tunn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BBD-C35E-43C4-AD48-0A91F1A59D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Pv6 Performance Issues - 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trol and Management Performance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on data transfe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e to the hand-over performance for mobility on the forwarding look-up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specific applications to tightly align control performance to user data transfer performanc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processing at the same data pla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D98-D02D-4E19-B02D-DB65244803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rmony between E.164 and IPv6 Addres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605-7612-4286-B8B3-EBF87A0606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efits to align Address Stru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National administrative boundary on IPv6 address structu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Easy conversion between Telco address and IPv6 addres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Utilize the existing Transport Infrastructure for IPv6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Easy Binding of Telco address at the IPv6 DN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Integration of Telco-based services and IP-based applications (i.e, VoIP, mobile phone, etc.)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C3B-CEF3-47DC-85D2-5417F963D5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to Harmonize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296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ow to get a Harmony between E.164 and IPv6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-wise migration of E.164 address and IPv6 address based on naming and directory service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of Existing Telephony, ISDN, Cellular Address, IMT-2000 address, and ATM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address binding for User/Terminal/Service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4A1-7880-4407-AB9D-A42C1DEDDE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960" y="1891800"/>
            <a:ext cx="8420040" cy="330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Technical Aspects for NG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QoS for NG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Architectural Requirements for NG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IPv6-based Control and Management Architecture of NGN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Harmony between E.164 and IPv6 Addres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ff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059-7169-4D84-B4BA-9FDBF5C061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13000" y="1971720"/>
            <a:ext cx="1211040" cy="1863720"/>
          </a:xfrm>
          <a:custGeom>
            <a:avLst/>
            <a:gdLst/>
            <a:ahLst/>
            <a:rect l="l" t="t" r="r" b="b"/>
            <a:pathLst>
              <a:path w="763" h="1137">
                <a:moveTo>
                  <a:pt x="277" y="0"/>
                </a:moveTo>
                <a:cubicBezTo>
                  <a:pt x="307" y="2"/>
                  <a:pt x="367" y="7"/>
                  <a:pt x="367" y="7"/>
                </a:cubicBezTo>
                <a:lnTo>
                  <a:pt x="763" y="7"/>
                </a:lnTo>
                <a:lnTo>
                  <a:pt x="516" y="1137"/>
                </a:lnTo>
                <a:lnTo>
                  <a:pt x="0" y="1137"/>
                </a:lnTo>
                <a:lnTo>
                  <a:pt x="277" y="0"/>
                </a:lnTo>
                <a:close/>
              </a:path>
            </a:pathLst>
          </a:custGeom>
          <a:solidFill>
            <a:srgbClr val="81a4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way to harmonize between E.164 and IPv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66440" y="2222640"/>
            <a:ext cx="949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6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2222640"/>
            <a:ext cx="960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4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13680" y="2222640"/>
            <a:ext cx="949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5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43800" y="1652760"/>
            <a:ext cx="134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20000" y="165276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81960" y="1652760"/>
            <a:ext cx="71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A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65240" y="16527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43200" y="2244600"/>
            <a:ext cx="2469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5760" y="2244600"/>
            <a:ext cx="97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6480" y="224460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47840" y="1681200"/>
            <a:ext cx="49536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43200" y="1681200"/>
            <a:ext cx="759456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8680" y="1681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19640" y="1681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10360" y="1681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67200" y="383076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ub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1960" y="383076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8240" y="3828960"/>
            <a:ext cx="67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6560" y="3830760"/>
            <a:ext cx="51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3859200"/>
            <a:ext cx="662040" cy="3049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44600" y="3859200"/>
            <a:ext cx="8115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9920" y="385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30760" y="385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2320" y="385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52520" y="457524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9000" y="4640400"/>
            <a:ext cx="745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o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4575240"/>
            <a:ext cx="301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2880" y="4640400"/>
            <a:ext cx="1693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 (15-n) 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53760" y="5413320"/>
            <a:ext cx="184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digits (8 oct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0880" y="457344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5040" y="4640400"/>
            <a:ext cx="723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30200" y="4143240"/>
            <a:ext cx="0" cy="152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18280" y="1932120"/>
            <a:ext cx="0" cy="378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39920" y="413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3680" y="5380200"/>
            <a:ext cx="3940200" cy="10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390680" y="2017440"/>
            <a:ext cx="461880" cy="18414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230560" y="1991880"/>
            <a:ext cx="404640" cy="185436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60440" y="3205080"/>
            <a:ext cx="395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41360" y="1969920"/>
            <a:ext cx="0" cy="222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78200" y="3271680"/>
            <a:ext cx="1682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s (8 oct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960" y="420840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37D-A721-423E-B765-D735755B00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93760" y="2954160"/>
            <a:ext cx="2774880" cy="1965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86240" y="352908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Next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돋움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5840" y="1568520"/>
            <a:ext cx="3222720" cy="1575720"/>
            <a:chOff x="915840" y="1568520"/>
            <a:chExt cx="3222720" cy="157572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2716200" y="1752480"/>
              <a:ext cx="142236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915840" y="1568520"/>
              <a:ext cx="12398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131920" y="2612880"/>
              <a:ext cx="708120" cy="309600"/>
            </a:xfrm>
            <a:prstGeom prst="upArrow">
              <a:avLst>
                <a:gd name="adj1" fmla="val 49778"/>
                <a:gd name="adj2" fmla="val 53333"/>
              </a:avLst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17080" y="2624040"/>
              <a:ext cx="1282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od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Pessimisti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62040" y="4876920"/>
            <a:ext cx="3620880" cy="1230120"/>
            <a:chOff x="662040" y="4876920"/>
            <a:chExt cx="3620880" cy="123012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62040" y="4923000"/>
              <a:ext cx="13683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3044880" y="5008680"/>
              <a:ext cx="123804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 flipV="1">
              <a:off x="2111400" y="4876920"/>
              <a:ext cx="708120" cy="309600"/>
            </a:xfrm>
            <a:prstGeom prst="upArrow">
              <a:avLst>
                <a:gd name="adj1" fmla="val 49778"/>
                <a:gd name="adj2" fmla="val 53333"/>
              </a:avLst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6240" y="521496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od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(Optimisti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608880" y="2624040"/>
            <a:ext cx="2938320" cy="2725920"/>
            <a:chOff x="6608880" y="2624040"/>
            <a:chExt cx="2938320" cy="2725920"/>
          </a:xfrm>
        </p:grpSpPr>
        <p:pic>
          <p:nvPicPr>
            <p:cNvPr id="141" name="" descr=""/>
            <p:cNvPicPr/>
            <p:nvPr/>
          </p:nvPicPr>
          <p:blipFill>
            <a:blip r:embed="rId6"/>
            <a:stretch/>
          </p:blipFill>
          <p:spPr>
            <a:xfrm>
              <a:off x="7021440" y="2992320"/>
              <a:ext cx="25257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608880" y="2624040"/>
              <a:ext cx="361800" cy="2725920"/>
            </a:xfrm>
            <a:custGeom>
              <a:avLst/>
              <a:gdLst>
                <a:gd name="textAreaLeft" fmla="*/ 0 w 361800"/>
                <a:gd name="textAreaRight" fmla="*/ 130680 w 361800"/>
                <a:gd name="textAreaTop" fmla="*/ 70920 h 2725920"/>
                <a:gd name="textAreaBottom" fmla="*/ 2655000 h 272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879440" y="1884240"/>
            <a:ext cx="1567440" cy="1206720"/>
            <a:chOff x="4879440" y="1884240"/>
            <a:chExt cx="1567440" cy="1206720"/>
          </a:xfrm>
        </p:grpSpPr>
        <p:pic>
          <p:nvPicPr>
            <p:cNvPr id="144" name="" descr=""/>
            <p:cNvPicPr/>
            <p:nvPr/>
          </p:nvPicPr>
          <p:blipFill>
            <a:blip r:embed="rId7"/>
            <a:stretch/>
          </p:blipFill>
          <p:spPr>
            <a:xfrm>
              <a:off x="5133960" y="2133720"/>
              <a:ext cx="13129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879440" y="204804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TU-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90000" y="188424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TU-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265720" y="3289320"/>
            <a:ext cx="1036800" cy="1538280"/>
            <a:chOff x="5265720" y="3289320"/>
            <a:chExt cx="1036800" cy="1538280"/>
          </a:xfrm>
        </p:grpSpPr>
        <p:pic>
          <p:nvPicPr>
            <p:cNvPr id="148" name="" descr=""/>
            <p:cNvPicPr/>
            <p:nvPr/>
          </p:nvPicPr>
          <p:blipFill>
            <a:blip r:embed="rId8"/>
            <a:stretch/>
          </p:blipFill>
          <p:spPr>
            <a:xfrm>
              <a:off x="5386320" y="3470400"/>
              <a:ext cx="91620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362920" y="328932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Glob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65720" y="419400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075280" y="4946760"/>
            <a:ext cx="1431720" cy="1008360"/>
            <a:chOff x="5075280" y="4946760"/>
            <a:chExt cx="1431720" cy="1008360"/>
          </a:xfrm>
        </p:grpSpPr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5075280" y="4946760"/>
              <a:ext cx="143172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474520" y="567864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S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22000" y="2201400"/>
            <a:ext cx="1169640" cy="3157560"/>
            <a:chOff x="4122000" y="2201400"/>
            <a:chExt cx="1169640" cy="3157560"/>
          </a:xfrm>
        </p:grpSpPr>
        <p:sp>
          <p:nvSpPr>
            <p:cNvPr id="155" name=""/>
            <p:cNvSpPr/>
            <p:nvPr/>
          </p:nvSpPr>
          <p:spPr>
            <a:xfrm flipV="1" rot="16200000">
              <a:off x="3139920" y="3228120"/>
              <a:ext cx="3157560" cy="1103040"/>
            </a:xfrm>
            <a:prstGeom prst="upArrow">
              <a:avLst>
                <a:gd name="adj1" fmla="val 53750"/>
                <a:gd name="adj2" fmla="val 74088"/>
              </a:avLst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22000" y="362124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omorr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706-33BD-42A6-A42E-2EEAAEE415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chnical Aspects for NGN – 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1520" y="1468080"/>
            <a:ext cx="8420040" cy="21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rvice and Application Aspects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ptable migration of Data, Voice, Audio, Video and TV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inal/User/Service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ing according to SLA and Traffic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9280" y="3544920"/>
            <a:ext cx="842004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굴림체"/>
              </a:rPr>
              <a:t>Network Architecture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  <a:ea typeface="굴림체"/>
              </a:rPr>
              <a:t>Manage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and 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  <a:ea typeface="굴림체"/>
              </a:rPr>
              <a:t>Reli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Separation of User-Plane and Control-/Management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22C-9380-45D0-B7E7-2187C5EF1E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chnical Aspects for NGN – 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1520" y="1596960"/>
            <a:ext cx="8420040" cy="17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outing and Packet Forwarding Aspec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Intelligence using Stat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warding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880" y="3394080"/>
            <a:ext cx="8420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ff"/>
                </a:solidFill>
                <a:latin typeface="Times New Roman"/>
                <a:ea typeface="굴림체"/>
              </a:rPr>
              <a:t>Differentiated QoS Cla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Differentiated Resource Allocation at Switch and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QoS Negotiation at Global Network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7BE-BC05-4582-8294-B75C4A2A07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lity of Service for N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9AB-9F1F-4640-B6C4-68C78C177C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</a:rPr>
              <a:t>TE Mechanisms for Providing Q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servation based (e.g., Connection-Oriented, ATM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resource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, LDP/CR-L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servation-less (e.g., Connectionless, IP)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based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1C7-77EE-4E8B-B96C-2505737B66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360" y="430200"/>
            <a:ext cx="8712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000000"/>
                </a:solidFill>
                <a:latin typeface="Times New Roman"/>
              </a:rPr>
              <a:t>How to provide QoS/NP</a:t>
            </a:r>
            <a:endParaRPr b="1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420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Times New Roman"/>
              </a:rPr>
              <a:t>Admission Control for Call, Connection, Flow, or Packet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User aspects : Select dynamically for their preferences and application typ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rovider aspects: Guarantee the minimum, offer the average Q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Times New Roman"/>
              </a:rPr>
              <a:t>Bandwidth Allocation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User aspects : Select dynamically based on acceptable bil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rovider aspects: network performance according to Service and traffic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ff"/>
                </a:solidFill>
                <a:latin typeface="Times New Roman"/>
              </a:rPr>
              <a:t>Buffer Management and Scheduling Algorithm</a:t>
            </a:r>
            <a:endParaRPr b="1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Provider aspects: Buffer separation per virtual channel or per flow and scheduling algorithm according to service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65080" y="4873680"/>
            <a:ext cx="7707600" cy="953640"/>
            <a:chOff x="865080" y="4873680"/>
            <a:chExt cx="7707600" cy="953640"/>
          </a:xfrm>
        </p:grpSpPr>
        <p:sp>
          <p:nvSpPr>
            <p:cNvPr id="61" name=""/>
            <p:cNvSpPr/>
            <p:nvPr/>
          </p:nvSpPr>
          <p:spPr>
            <a:xfrm>
              <a:off x="872640" y="5184720"/>
              <a:ext cx="7700040" cy="642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0128"/>
                  </a:solidFill>
                  <a:latin typeface="Times New Roman"/>
                  <a:ea typeface="돋움"/>
                </a:rPr>
                <a:t>Converge between CO-TE and CL-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65080" y="4873680"/>
              <a:ext cx="863640" cy="337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돋움"/>
                </a:rPr>
                <a:t>Ans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F53-550A-470F-B484-51ED061FCB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chitectural Requirements for N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799-CB7D-4242-B910-DA77CE20E5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9560" y="560520"/>
            <a:ext cx="8445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ical Problems for NGN Architecture -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1520" y="1468440"/>
            <a:ext cx="8420040" cy="46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How to implement and manage network state information 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Uniform architecture for naming, addressing and routing is possible 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How to apply layer concepts of U-/C-/M-plane 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Times New Roman"/>
              </a:rPr>
              <a:t>Can we divide user flows and application types depending on network resource boundary or domain 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ow to join each specific division and domai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ould the user control (including join and leave) their boundari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Where is the security boundary or differentiated QoS boundary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How to give fairness and how to solve congestion at each domai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Where is the boundary of network managemen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34C-0D85-42BB-B911-23A7D0AA98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30T05:28:18Z</dcterms:created>
  <dc:creator>최준균</dc:creator>
  <dc:description/>
  <dc:language>en-US</dc:language>
  <cp:lastModifiedBy>kt01</cp:lastModifiedBy>
  <cp:lastPrinted>1999-05-07T04:43:39Z</cp:lastPrinted>
  <dcterms:modified xsi:type="dcterms:W3CDTF">2003-07-10T13:03:51Z</dcterms:modified>
  <cp:revision>1158</cp:revision>
  <dc:subject/>
  <dc:title>데이타통신</dc:title>
</cp:coreProperties>
</file>