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40F-A2FA-4F27-82A2-8EA0BEFD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3AB-FEA1-4ADA-A06D-7D3B5529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E05-052C-42F3-A3DD-83ADEAC9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44A-8671-4668-9DD0-15C5417A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06E-903C-4182-8288-2D3426E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115-7166-4731-98E8-A27267BF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215-323D-4227-8C3B-9C80CEFF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349-11F6-41BD-ABEC-DA5C9B19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09560" y="56052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309-E5D9-419D-ACE8-D3F7BB8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682-05BB-489A-ACBA-37E164C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135-8C8B-4CF0-9B02-008DCC3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77C-85D9-4E11-82B6-A821BA9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E29E67-F7E4-4635-BC55-055C6B7632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2560" y="628812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200" y="14050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04920" y="6116760"/>
            <a:ext cx="968400" cy="671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63120" y="630072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ff"/>
                </a:solidFill>
                <a:latin typeface="Times New Roman"/>
                <a:ea typeface="돋움"/>
              </a:rPr>
              <a:t>heechang@nca.or.kr,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  <a:ea typeface="돋움"/>
              </a:rPr>
              <a:t>jkchoi@icu.ac.k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echang@nca.or.kr" TargetMode="External"/><Relationship Id="rId2" Type="http://schemas.openxmlformats.org/officeDocument/2006/relationships/hyperlink" Target="mailto:jkchoi@icu.ac.k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Which Standards are needed toward Future Wireline and Wireless IP Network 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Hee Chang Chung, Jun Kyun Choi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eechang@nca.or.kr</a:t>
            </a: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jkchoi@icu.ac.kr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41F-E1F0-4F66-B623-B85D3A7AB2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cal Problems for NGN Architecture -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Boundary Concept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Single/Multiple Specific Capabilities of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geographical area or logical VP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flow class and servic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resource allocation and resource usag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management domain of specific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ownership and administration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ecurity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naming, addressing,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1B3-5B12-43B6-957A-7AAC359BC5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Requirements for NGN Architecture -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General Requirements of NGN Architect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xisting networks must be inter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or loss of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nsider a variety of networks including broadcast, satellite, and wireless/radio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istribute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ermit distributed management of its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ase of Att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ermit host attachment with a low level of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Resources must be accou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7DA-773C-4FC8-9EA4-877F5B0A2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Requirements for NGN Architecture -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neral Requirements of NGN Architecture (continued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/Terminal/Service mobility, network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-driven Networ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ligent Network/Us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Alloca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allocate capacity among users and applications based on the acceptable cha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 are highly variable over short time 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operational and governmental activities (i.e, emergency), it allocate the resource capacity based on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ized reservation at on-demand time or reserva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C4A-97AA-4E78-BC20-3A219868B8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Pv6-based Control and Management Architecture of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BD0-56AA-4813-9C5E-185951C908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468440"/>
            <a:ext cx="897912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Transfer Performanc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Basic Header Process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ow classification by traffic class and flow label, Hop Limi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 acceptable at the existing IP rout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Header Processing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p-by-Hop Options header (mainly urgently changing, alerting or diverting user flo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nation Options header (trans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ing header (for tunneling or changing the intermediate forwarding 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gment hea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capsulating Security Payload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nation Options header (fi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per-layer header (TCP/UDP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5E7-BC42-4F9F-B3EE-8440EACFB7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Switching or Routing Performanc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one only by IPv6 addresses (or by flow lab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one both by IPv6 addresses and flo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cluding IPv6 address (only routing pref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cluding whole IPv6 address including EUI-64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Forwarding Performance for Mobile User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andle Both Logical Address (e.g., Care-of-Address) and Physical Address (e,g, Home Address)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ok-up logic of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ow to handle FA and HA functions including registration, advertisement as well as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D00-291D-4093-95C8-04B53BAAF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trol and Management Performanc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on data transfe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e to the hand-over performance for mobility on the forwarding look-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specific applications to tightly align control performance to user data transfer performanc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processing at the same data pla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D5E-82BF-4C7F-8E71-F5F2AB7FCD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mony between E.164 and IPv6 Addre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986-9BFD-4232-B4A9-EEABF5AD6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to align Address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National administrative boundary on IPv6 address struct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Easy conversion between Telco address and IPv6 addr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Utilize the existing Transport Infrastructure for IPv6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Easy Binding of Telco address at the IPv6 DN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Integration of Telco-based services and IP-based applications (i.e, VoIP, mobile phone, etc.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C92-3E2E-41EA-83B4-F43E07A3BF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o Harmonize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296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w to get a Harmony between E.164 and IPv6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wise migration of E.164 address and IPv6 address based on naming and directory servic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Existing Telephony, ISDN, Cellular Address, IMT-2000 address, and ATM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ddress binding for User/Terminal/Service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C1F-D55B-4401-B580-ED8E43CAFE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960" y="1891800"/>
            <a:ext cx="8420040" cy="330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Technical Aspect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Qo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Architectural Requirement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IPv6-based Control and Management Architecture of NGN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Harmony between E.164 and IPv6 Addres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2B8-D91C-44F0-9266-EA85A861A4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13000" y="1971720"/>
            <a:ext cx="1211040" cy="1863720"/>
          </a:xfrm>
          <a:custGeom>
            <a:avLst/>
            <a:gdLst/>
            <a:ahLst/>
            <a:rect l="l" t="t" r="r" b="b"/>
            <a:pathLst>
              <a:path w="763" h="1137">
                <a:moveTo>
                  <a:pt x="277" y="0"/>
                </a:moveTo>
                <a:cubicBezTo>
                  <a:pt x="307" y="2"/>
                  <a:pt x="367" y="7"/>
                  <a:pt x="367" y="7"/>
                </a:cubicBezTo>
                <a:lnTo>
                  <a:pt x="763" y="7"/>
                </a:lnTo>
                <a:lnTo>
                  <a:pt x="516" y="1137"/>
                </a:lnTo>
                <a:lnTo>
                  <a:pt x="0" y="1137"/>
                </a:lnTo>
                <a:lnTo>
                  <a:pt x="277" y="0"/>
                </a:lnTo>
                <a:close/>
              </a:path>
            </a:pathLst>
          </a:custGeom>
          <a:solidFill>
            <a:srgbClr val="81a4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ay to harmonize between E.164 and IPv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66440" y="2222640"/>
            <a:ext cx="94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6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2222640"/>
            <a:ext cx="960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4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13680" y="2222640"/>
            <a:ext cx="94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5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43800" y="1652760"/>
            <a:ext cx="134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20000" y="165276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1960" y="165276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5240" y="16527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43200" y="2244600"/>
            <a:ext cx="2469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5760" y="224460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6480" y="2244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47840" y="1681200"/>
            <a:ext cx="49536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43200" y="1681200"/>
            <a:ext cx="759456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868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1964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1036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7200" y="383076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ub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1960" y="383076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8240" y="382896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6560" y="3830760"/>
            <a:ext cx="51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859200"/>
            <a:ext cx="662040" cy="3049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4600" y="3859200"/>
            <a:ext cx="8115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992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3076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232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2520" y="457524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9000" y="4640400"/>
            <a:ext cx="745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4575240"/>
            <a:ext cx="301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2880" y="4640400"/>
            <a:ext cx="1693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(15-n)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53760" y="5413320"/>
            <a:ext cx="184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igits (8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880" y="457344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5040" y="4640400"/>
            <a:ext cx="723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0200" y="414324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8280" y="1932120"/>
            <a:ext cx="0" cy="378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9920" y="413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3680" y="5380200"/>
            <a:ext cx="3940200" cy="10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90680" y="2017440"/>
            <a:ext cx="461880" cy="18414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30560" y="1991880"/>
            <a:ext cx="404640" cy="18543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60440" y="3205080"/>
            <a:ext cx="395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1969920"/>
            <a:ext cx="0" cy="222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78200" y="3271680"/>
            <a:ext cx="1682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s (8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960" y="420840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B83-1147-460D-B4FB-90FF4FE585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93760" y="2954160"/>
            <a:ext cx="2774880" cy="1965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86240" y="35290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Next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5840" y="1568520"/>
            <a:ext cx="3222720" cy="1575720"/>
            <a:chOff x="915840" y="1568520"/>
            <a:chExt cx="3222720" cy="157572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716200" y="1752480"/>
              <a:ext cx="142236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915840" y="1568520"/>
              <a:ext cx="12398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31920" y="2612880"/>
              <a:ext cx="708120" cy="309600"/>
            </a:xfrm>
            <a:prstGeom prst="upArrow">
              <a:avLst>
                <a:gd name="adj1" fmla="val 49778"/>
                <a:gd name="adj2" fmla="val 53333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7080" y="2624040"/>
              <a:ext cx="1282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Pessimist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2040" y="4876920"/>
            <a:ext cx="3620880" cy="1230120"/>
            <a:chOff x="662040" y="4876920"/>
            <a:chExt cx="3620880" cy="12301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62040" y="4923000"/>
              <a:ext cx="13683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3044880" y="5008680"/>
              <a:ext cx="123804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 flipV="1">
              <a:off x="2111400" y="4876920"/>
              <a:ext cx="708120" cy="309600"/>
            </a:xfrm>
            <a:prstGeom prst="upArrow">
              <a:avLst>
                <a:gd name="adj1" fmla="val 49778"/>
                <a:gd name="adj2" fmla="val 53333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240" y="521496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Optimist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608880" y="2624040"/>
            <a:ext cx="2938320" cy="2725920"/>
            <a:chOff x="6608880" y="2624040"/>
            <a:chExt cx="2938320" cy="2725920"/>
          </a:xfrm>
        </p:grpSpPr>
        <p:pic>
          <p:nvPicPr>
            <p:cNvPr id="141" name="" descr=""/>
            <p:cNvPicPr/>
            <p:nvPr/>
          </p:nvPicPr>
          <p:blipFill>
            <a:blip r:embed="rId6"/>
            <a:stretch/>
          </p:blipFill>
          <p:spPr>
            <a:xfrm>
              <a:off x="7021440" y="2992320"/>
              <a:ext cx="2525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08880" y="2624040"/>
              <a:ext cx="361800" cy="2725920"/>
            </a:xfrm>
            <a:custGeom>
              <a:avLst/>
              <a:gdLst>
                <a:gd name="textAreaLeft" fmla="*/ 0 w 361800"/>
                <a:gd name="textAreaRight" fmla="*/ 130680 w 361800"/>
                <a:gd name="textAreaTop" fmla="*/ 70920 h 2725920"/>
                <a:gd name="textAreaBottom" fmla="*/ 2655000 h 272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79440" y="1884240"/>
            <a:ext cx="1567440" cy="1206720"/>
            <a:chOff x="4879440" y="1884240"/>
            <a:chExt cx="1567440" cy="1206720"/>
          </a:xfrm>
        </p:grpSpPr>
        <p:pic>
          <p:nvPicPr>
            <p:cNvPr id="144" name="" descr=""/>
            <p:cNvPicPr/>
            <p:nvPr/>
          </p:nvPicPr>
          <p:blipFill>
            <a:blip r:embed="rId7"/>
            <a:stretch/>
          </p:blipFill>
          <p:spPr>
            <a:xfrm>
              <a:off x="5133960" y="2133720"/>
              <a:ext cx="1312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79440" y="20480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TU-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90000" y="188424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TU-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265720" y="3289320"/>
            <a:ext cx="1036800" cy="1538280"/>
            <a:chOff x="5265720" y="3289320"/>
            <a:chExt cx="1036800" cy="1538280"/>
          </a:xfrm>
        </p:grpSpPr>
        <p:pic>
          <p:nvPicPr>
            <p:cNvPr id="148" name="" descr=""/>
            <p:cNvPicPr/>
            <p:nvPr/>
          </p:nvPicPr>
          <p:blipFill>
            <a:blip r:embed="rId8"/>
            <a:stretch/>
          </p:blipFill>
          <p:spPr>
            <a:xfrm>
              <a:off x="5386320" y="3470400"/>
              <a:ext cx="9162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362920" y="32893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65720" y="41940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075280" y="4946760"/>
            <a:ext cx="1431720" cy="1008360"/>
            <a:chOff x="5075280" y="4946760"/>
            <a:chExt cx="1431720" cy="1008360"/>
          </a:xfrm>
        </p:grpSpPr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5075280" y="4946760"/>
              <a:ext cx="143172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474520" y="567864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22000" y="2201400"/>
            <a:ext cx="1169640" cy="3157560"/>
            <a:chOff x="4122000" y="2201400"/>
            <a:chExt cx="1169640" cy="3157560"/>
          </a:xfrm>
        </p:grpSpPr>
        <p:sp>
          <p:nvSpPr>
            <p:cNvPr id="155" name=""/>
            <p:cNvSpPr/>
            <p:nvPr/>
          </p:nvSpPr>
          <p:spPr>
            <a:xfrm flipV="1" rot="16200000">
              <a:off x="3139920" y="3228120"/>
              <a:ext cx="3157560" cy="1103040"/>
            </a:xfrm>
            <a:prstGeom prst="upArrow">
              <a:avLst>
                <a:gd name="adj1" fmla="val 53750"/>
                <a:gd name="adj2" fmla="val 74088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22000" y="362124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mor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F60-5CD1-4F3D-96E8-EB68EA4E4D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Aspects for NGN – 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1520" y="1468080"/>
            <a:ext cx="8420040" cy="21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rvice and Application Aspec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able migration of Data, Voice, Audio, Video and TV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l/User/Service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ing according to SLA and Traffic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280" y="3544920"/>
            <a:ext cx="842004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굴림체"/>
              </a:rPr>
              <a:t>Network Architecture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  <a:ea typeface="굴림체"/>
              </a:rPr>
              <a:t>Manage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and 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  <a:ea typeface="굴림체"/>
              </a:rPr>
              <a:t>Rel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Separation of User-Plane and Control-/Management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92B-EC6E-4FC9-9AA2-DC4BDD503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Aspects for NGN – 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1520" y="1596960"/>
            <a:ext cx="8420040" cy="17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outing and Packet Forwarding Aspec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Intelligence using Sta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ing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880" y="3394080"/>
            <a:ext cx="8420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ff"/>
                </a:solidFill>
                <a:latin typeface="Times New Roman"/>
                <a:ea typeface="굴림체"/>
              </a:rPr>
              <a:t>Differentiated QoS Cl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Differentiated Resource Allocation at Switch and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QoS Negotiation at Global Network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96B-2487-4802-BAC4-524CDCBA04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of Service for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09D-F35D-4BA8-80D7-8F15ADE17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TE Mechanisms for Providing Q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ervation based (e.g., Connection-Oriented, ATM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esourc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, LDP/CR-L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ervation-less (e.g., Connectionless, IP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based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C51-3326-461B-9E48-E4C7DA567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360" y="430200"/>
            <a:ext cx="8712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000000"/>
                </a:solidFill>
                <a:latin typeface="Times New Roman"/>
              </a:rPr>
              <a:t>How to provide QoS/NP</a:t>
            </a:r>
            <a:endParaRPr b="1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Admission Control for Call, Connection, Flow, or Packet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ser aspects : Select dynamically for their preferences and application typ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Guarantee the minimum, offer the average 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Bandwidth Allocation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ser aspects : Select dynamically based on acceptable bil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network performance according to Service and traffic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Buffer Management and Scheduling Algorithm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Buffer separation per virtual channel or per flow and scheduling algorithm according to service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65080" y="4873680"/>
            <a:ext cx="7707600" cy="953640"/>
            <a:chOff x="865080" y="4873680"/>
            <a:chExt cx="7707600" cy="953640"/>
          </a:xfrm>
        </p:grpSpPr>
        <p:sp>
          <p:nvSpPr>
            <p:cNvPr id="61" name=""/>
            <p:cNvSpPr/>
            <p:nvPr/>
          </p:nvSpPr>
          <p:spPr>
            <a:xfrm>
              <a:off x="872640" y="5184720"/>
              <a:ext cx="7700040" cy="642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0128"/>
                  </a:solidFill>
                  <a:latin typeface="Times New Roman"/>
                  <a:ea typeface="돋움"/>
                </a:rPr>
                <a:t>Converge between CO-TE and CL-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5080" y="4873680"/>
              <a:ext cx="863640" cy="337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돋움"/>
                </a:rPr>
                <a:t>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D1C-9053-4F32-9E85-0FA90B7A2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chitectural Requirements for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6A7-A8B5-46A8-B614-C7F9A5C81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cal Problems for NGN Architecture -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How to implement and manage network state information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Uniform architecture for naming, addressing and routing is possible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How to apply layer concepts of U-/C-/M-plane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Can we divide user flows and application types depending on network resource boundary or domain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ow to join each specific division and domai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uld the user control (including join and leave) their boundari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re is the security boundary or differentiated QoS boundary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ow to give fairness and how to solve congestion at each domai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re is the boundary of network manage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0DD-A8CB-48B9-994C-B633A9AEC7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30T05:28:18Z</dcterms:created>
  <dc:creator>최준균</dc:creator>
  <dc:description/>
  <dc:language>en-US</dc:language>
  <cp:lastModifiedBy>kt01</cp:lastModifiedBy>
  <cp:lastPrinted>1999-05-07T04:43:39Z</cp:lastPrinted>
  <dcterms:modified xsi:type="dcterms:W3CDTF">2003-07-10T13:03:51Z</dcterms:modified>
  <cp:revision>1158</cp:revision>
  <dc:subject/>
  <dc:title>데이타통신</dc:title>
</cp:coreProperties>
</file>