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3.png" ContentType="image/png"/>
  <Override PartName="/ppt/media/image27.png" ContentType="image/png"/>
  <Override PartName="/ppt/media/image26.wmf" ContentType="image/x-wmf"/>
  <Override PartName="/ppt/media/image23.png" ContentType="image/png"/>
  <Override PartName="/ppt/media/image22.png" ContentType="image/png"/>
  <Override PartName="/ppt/media/image15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Click to move the slide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4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5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76BB2D6-914A-4F65-BF87-FEF858DE225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DEAF6E-9CEF-4BA5-9917-626DB2720D5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911160" y="12859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533520" y="371160"/>
            <a:ext cx="57960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7C0BE0-F3AD-42E1-9313-F95C271273E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sldImg"/>
          </p:nvPr>
        </p:nvSpPr>
        <p:spPr>
          <a:xfrm>
            <a:off x="911160" y="12859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40" name="PlaceHolder 2"/>
          <p:cNvSpPr>
            <a:spLocks noGrp="1"/>
          </p:cNvSpPr>
          <p:nvPr>
            <p:ph type="body"/>
          </p:nvPr>
        </p:nvSpPr>
        <p:spPr>
          <a:xfrm>
            <a:off x="533520" y="371160"/>
            <a:ext cx="57960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1C591F-CE65-48B8-B0A1-7E98B275343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sldImg"/>
          </p:nvPr>
        </p:nvSpPr>
        <p:spPr>
          <a:xfrm>
            <a:off x="911160" y="12859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533520" y="371160"/>
            <a:ext cx="57960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B670C1-902E-4A01-9603-0FBB006F4D3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4796A9-865F-4CD3-A436-E2484BCEC24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C2ECEB-5112-4E8D-BA6A-8222DEC713A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04680" y="4716000"/>
            <a:ext cx="4987800" cy="4475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DB564B7-1C39-4469-8F9E-39966BC9F51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928800" y="741240"/>
            <a:ext cx="4941720" cy="370692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0" y="4694400"/>
            <a:ext cx="6797520" cy="445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CB0C67E-3C81-45E6-A19E-8DB39BF56E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42080" cy="370692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1065240" y="4695840"/>
            <a:ext cx="4602240" cy="44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9B1564A-3719-43A1-A73F-E43D15CFE1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927000" y="7398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895320" y="4697280"/>
            <a:ext cx="5006880" cy="445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DCCF5E-5041-4165-ADB5-8CFE76B5532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930240" y="741240"/>
            <a:ext cx="4942080" cy="370692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896760" y="4695840"/>
            <a:ext cx="5004000" cy="445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 txBox="1"/>
          <p:nvPr/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F575AC-E72D-4781-A931-DEBCE53F54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911160" y="1285920"/>
            <a:ext cx="4970520" cy="372744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33520" y="371160"/>
            <a:ext cx="579600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960" y="317124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00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9040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284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796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9040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284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11200" y="428400"/>
            <a:ext cx="822960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2500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7960" y="317124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2500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9040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72840" y="147312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796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9040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72840" y="3171240"/>
            <a:ext cx="264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11200" y="428400"/>
            <a:ext cx="8229600" cy="351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000" y="317124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000" y="1473120"/>
            <a:ext cx="40158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7960" y="3171240"/>
            <a:ext cx="8229600" cy="155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419040"/>
            <a:ext cx="9144000" cy="79236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108000"/>
            <a:ext cx="9144000" cy="8712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41400" bIns="41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247680"/>
            <a:ext cx="9144000" cy="0"/>
          </a:xfrm>
          <a:prstGeom prst="line">
            <a:avLst/>
          </a:prstGeom>
          <a:ln w="3816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0" y="61484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731000" y="6340320"/>
            <a:ext cx="1070280" cy="2826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507960" y="1473120"/>
            <a:ext cx="8229600" cy="32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FuturaA Bk BT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1" marL="692280" indent="-23508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Futura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2" marL="103176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SzPct val="80000"/>
              <a:buFont typeface="FuturaA Bk BT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3" marL="1371600" indent="-22536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FuturaA Bk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4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Futura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5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Futura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  <a:p>
            <a:pPr lvl="6" marL="2057400" indent="-228600">
              <a:lnSpc>
                <a:spcPct val="90000"/>
              </a:lnSpc>
              <a:spcBef>
                <a:spcPts val="1375"/>
              </a:spcBef>
              <a:buClr>
                <a:srgbClr val="000000"/>
              </a:buClr>
              <a:buFont typeface="FuturaA Bk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FuturaA Bk B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254160" y="6392520"/>
            <a:ext cx="300672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1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100" spc="-1" strike="noStrike">
                <a:solidFill>
                  <a:srgbClr val="000000"/>
                </a:solidFill>
                <a:latin typeface="FuturaA Bk BT"/>
              </a:rPr>
              <a:t>ITU workshop, 07/09/03 </a:t>
            </a:r>
            <a:r>
              <a:rPr b="0" lang="en-GB" sz="1100" spc="-1" strike="noStrike">
                <a:solidFill>
                  <a:srgbClr val="000000"/>
                </a:solidFill>
                <a:latin typeface="FuturaA Bk BT"/>
              </a:rPr>
              <a:t>— </a:t>
            </a:r>
            <a:fld id="{B37039E6-CD6D-49AF-8098-DA9BEEA17F72}" type="slidenum">
              <a:rPr b="0" lang="en-GB" sz="1100" spc="-1" strike="noStrike">
                <a:solidFill>
                  <a:srgbClr val="000000"/>
                </a:solidFill>
                <a:latin typeface="FuturaA Bk BT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34880" y="6433920"/>
            <a:ext cx="2879640" cy="28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FuturaA Bk B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A Bk BT"/>
              </a:rPr>
              <a:t>All rights reserved © 2003, Alcat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c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rcRect l="1074" t="6011" r="1462" b="0"/>
          <a:stretch/>
        </p:blipFill>
        <p:spPr>
          <a:xfrm>
            <a:off x="-3240" y="-3240"/>
            <a:ext cx="9145800" cy="5291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2114640"/>
            <a:ext cx="9144000" cy="104292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4278240"/>
            <a:ext cx="9144000" cy="185904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3240" y="1938240"/>
            <a:ext cx="9147240" cy="47880"/>
          </a:xfrm>
          <a:custGeom>
            <a:avLst/>
            <a:gdLst/>
            <a:ahLst/>
            <a:rect l="l" t="t" r="r" b="b"/>
            <a:pathLst>
              <a:path w="5762" h="30">
                <a:moveTo>
                  <a:pt x="0" y="0"/>
                </a:moveTo>
                <a:lnTo>
                  <a:pt x="5762" y="2"/>
                </a:lnTo>
                <a:lnTo>
                  <a:pt x="5762" y="30"/>
                </a:lnTo>
                <a:lnTo>
                  <a:pt x="0" y="29"/>
                </a:lnTo>
                <a:lnTo>
                  <a:pt x="0" y="0"/>
                </a:lnTo>
                <a:close/>
              </a:path>
            </a:pathLst>
          </a:cu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-3240" y="3832200"/>
            <a:ext cx="9147240" cy="58680"/>
          </a:xfrm>
          <a:custGeom>
            <a:avLst/>
            <a:gdLst/>
            <a:ahLst/>
            <a:rect l="l" t="t" r="r" b="b"/>
            <a:pathLst>
              <a:path w="5762" h="37">
                <a:moveTo>
                  <a:pt x="0" y="0"/>
                </a:moveTo>
                <a:lnTo>
                  <a:pt x="5762" y="0"/>
                </a:lnTo>
                <a:lnTo>
                  <a:pt x="5762" y="36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47680"/>
            <a:ext cx="9144000" cy="0"/>
          </a:xfrm>
          <a:prstGeom prst="line">
            <a:avLst/>
          </a:prstGeom>
          <a:ln w="5724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797120"/>
            <a:ext cx="9144000" cy="110880"/>
          </a:xfrm>
          <a:prstGeom prst="rect">
            <a:avLst/>
          </a:prstGeom>
          <a:solidFill>
            <a:srgbClr val="fb6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0200" y="2211120"/>
            <a:ext cx="825516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FuturaA Bk BT"/>
              </a:rPr>
              <a:t>Click to edit the title text format</a:t>
            </a:r>
            <a:endParaRPr b="1" lang="en-US" sz="27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181560"/>
            <a:ext cx="9144000" cy="671760"/>
          </a:xfrm>
          <a:prstGeom prst="rect">
            <a:avLst/>
          </a:prstGeom>
          <a:solidFill>
            <a:srgbClr val="c1c0c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159520" y="6473880"/>
            <a:ext cx="2365200" cy="1508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7718400" y="6340320"/>
            <a:ext cx="1069920" cy="282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5"/>
          <a:stretch/>
        </p:blipFill>
        <p:spPr>
          <a:xfrm>
            <a:off x="5159520" y="6478560"/>
            <a:ext cx="2365200" cy="150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6149880"/>
            <a:ext cx="9144000" cy="0"/>
          </a:xfrm>
          <a:prstGeom prst="line">
            <a:avLst/>
          </a:prstGeom>
          <a:ln w="5076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3.png"/><Relationship Id="rId10" Type="http://schemas.openxmlformats.org/officeDocument/2006/relationships/image" Target="../media/image14.jpeg"/><Relationship Id="rId11" Type="http://schemas.openxmlformats.org/officeDocument/2006/relationships/image" Target="../media/image15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slideLayout" Target="../slideLayouts/slideLayout3.xml"/><Relationship Id="rId1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oleObject" Target="../embeddings/oleObject2.bin"/><Relationship Id="rId7" Type="http://schemas.openxmlformats.org/officeDocument/2006/relationships/image" Target="../media/image23.png"/><Relationship Id="rId8" Type="http://schemas.openxmlformats.org/officeDocument/2006/relationships/oleObject" Target="../embeddings/oleObject3.bin"/><Relationship Id="rId9" Type="http://schemas.openxmlformats.org/officeDocument/2006/relationships/image" Target="../media/image23.png"/><Relationship Id="rId10" Type="http://schemas.openxmlformats.org/officeDocument/2006/relationships/image" Target="../media/image24.jpeg"/><Relationship Id="rId11" Type="http://schemas.openxmlformats.org/officeDocument/2006/relationships/image" Target="../media/image25.jpeg"/><Relationship Id="rId12" Type="http://schemas.openxmlformats.org/officeDocument/2006/relationships/slideLayout" Target="../slideLayouts/slideLayout3.xml"/><Relationship Id="rId1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rcRect l="1101" t="6063" r="1439" b="0"/>
          <a:stretch/>
        </p:blipFill>
        <p:spPr>
          <a:xfrm>
            <a:off x="0" y="0"/>
            <a:ext cx="9144000" cy="5288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2114640"/>
            <a:ext cx="9144000" cy="104292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278240"/>
            <a:ext cx="9144000" cy="185904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-3240" y="1938240"/>
            <a:ext cx="9147240" cy="47880"/>
          </a:xfrm>
          <a:custGeom>
            <a:avLst/>
            <a:gdLst/>
            <a:ahLst/>
            <a:rect l="l" t="t" r="r" b="b"/>
            <a:pathLst>
              <a:path w="5762" h="30">
                <a:moveTo>
                  <a:pt x="0" y="0"/>
                </a:moveTo>
                <a:lnTo>
                  <a:pt x="5762" y="2"/>
                </a:lnTo>
                <a:lnTo>
                  <a:pt x="5762" y="30"/>
                </a:lnTo>
                <a:lnTo>
                  <a:pt x="0" y="29"/>
                </a:lnTo>
                <a:lnTo>
                  <a:pt x="0" y="0"/>
                </a:lnTo>
                <a:close/>
              </a:path>
            </a:pathLst>
          </a:cu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2160" bIns="2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-3240" y="3832200"/>
            <a:ext cx="9147240" cy="58680"/>
          </a:xfrm>
          <a:custGeom>
            <a:avLst/>
            <a:gdLst/>
            <a:ahLst/>
            <a:rect l="l" t="t" r="r" b="b"/>
            <a:pathLst>
              <a:path w="5762" h="37">
                <a:moveTo>
                  <a:pt x="0" y="0"/>
                </a:moveTo>
                <a:lnTo>
                  <a:pt x="5762" y="0"/>
                </a:lnTo>
                <a:lnTo>
                  <a:pt x="5762" y="36"/>
                </a:lnTo>
                <a:lnTo>
                  <a:pt x="0" y="37"/>
                </a:lnTo>
                <a:lnTo>
                  <a:pt x="0" y="0"/>
                </a:lnTo>
                <a:close/>
              </a:path>
            </a:pathLst>
          </a:cu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tIns="12960" bIns="12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47680"/>
            <a:ext cx="9144000" cy="0"/>
          </a:xfrm>
          <a:prstGeom prst="line">
            <a:avLst/>
          </a:prstGeom>
          <a:ln w="5724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1797120"/>
            <a:ext cx="9144000" cy="110880"/>
          </a:xfrm>
          <a:prstGeom prst="rect">
            <a:avLst/>
          </a:prstGeom>
          <a:solidFill>
            <a:srgbClr val="fb66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215640" y="2211120"/>
            <a:ext cx="855972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FuturaA Bk BT"/>
              </a:rPr>
              <a:t>An Industry View of NGN Wireline </a:t>
            </a:r>
            <a:endParaRPr b="0" lang="en-US" sz="27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ubTitle"/>
          </p:nvPr>
        </p:nvSpPr>
        <p:spPr>
          <a:xfrm>
            <a:off x="3601800" y="4505040"/>
            <a:ext cx="5365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uturaA Bk BT"/>
              </a:rPr>
              <a:t>Geneva July 9, 2003</a:t>
            </a: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uturaA Bk BT"/>
              </a:rPr>
              <a:t>Jean-Pierre Lartigue</a:t>
            </a: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FuturaA Bk BT"/>
              </a:rPr>
              <a:t>VP Business Strategy, Fixed Networks</a:t>
            </a:r>
            <a:endParaRPr b="0" lang="en-US" sz="22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6181560"/>
            <a:ext cx="9144000" cy="671760"/>
          </a:xfrm>
          <a:prstGeom prst="rect">
            <a:avLst/>
          </a:prstGeom>
          <a:solidFill>
            <a:srgbClr val="c1c0c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159520" y="6473880"/>
            <a:ext cx="2365200" cy="15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718400" y="6340320"/>
            <a:ext cx="1069920" cy="2826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5159520" y="6478560"/>
            <a:ext cx="2365200" cy="150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0" y="6149880"/>
            <a:ext cx="9144000" cy="0"/>
          </a:xfrm>
          <a:prstGeom prst="line">
            <a:avLst/>
          </a:prstGeom>
          <a:ln w="50760">
            <a:solidFill>
              <a:srgbClr val="fb6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11200" y="409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Telephony, embedded in BB residential service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728880" y="2354400"/>
            <a:ext cx="5178600" cy="1565280"/>
            <a:chOff x="3728880" y="2354400"/>
            <a:chExt cx="5178600" cy="1565280"/>
          </a:xfrm>
        </p:grpSpPr>
        <p:sp>
          <p:nvSpPr>
            <p:cNvPr id="371" name=""/>
            <p:cNvSpPr/>
            <p:nvPr/>
          </p:nvSpPr>
          <p:spPr>
            <a:xfrm>
              <a:off x="3728880" y="2354400"/>
              <a:ext cx="5178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728880" y="2354400"/>
              <a:ext cx="5178600" cy="15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64646"/>
                  </a:solidFill>
                  <a:latin typeface="Verdana"/>
                </a:rPr>
                <a:t>  </a:t>
              </a:r>
              <a:r>
                <a:rPr b="0" lang="en-US" sz="10800" spc="-1" strike="noStrike">
                  <a:solidFill>
                    <a:srgbClr val="464646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464646"/>
                  </a:solidFill>
                  <a:latin typeface="Verdana"/>
                </a:rPr>
                <a:t>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703520" y="1316160"/>
            <a:ext cx="7164000" cy="1369800"/>
            <a:chOff x="1703520" y="1316160"/>
            <a:chExt cx="7164000" cy="1369800"/>
          </a:xfrm>
        </p:grpSpPr>
        <p:sp>
          <p:nvSpPr>
            <p:cNvPr id="374" name=""/>
            <p:cNvSpPr/>
            <p:nvPr/>
          </p:nvSpPr>
          <p:spPr>
            <a:xfrm>
              <a:off x="3411360" y="1400040"/>
              <a:ext cx="13003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Music down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5" name=""/>
            <p:cNvGrpSpPr/>
            <p:nvPr/>
          </p:nvGrpSpPr>
          <p:grpSpPr>
            <a:xfrm>
              <a:off x="7561440" y="1316160"/>
              <a:ext cx="1306080" cy="1298160"/>
              <a:chOff x="7561440" y="1316160"/>
              <a:chExt cx="1306080" cy="1298160"/>
            </a:xfrm>
          </p:grpSpPr>
          <p:graphicFrame>
            <p:nvGraphicFramePr>
              <p:cNvPr id="376" name=""/>
              <p:cNvGraphicFramePr/>
              <p:nvPr/>
            </p:nvGraphicFramePr>
            <p:xfrm>
              <a:off x="7561440" y="1735560"/>
              <a:ext cx="1306080" cy="878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377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61440" y="1735560"/>
                        <a:ext cx="1306080" cy="87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378" name=""/>
              <p:cNvSpPr/>
              <p:nvPr/>
            </p:nvSpPr>
            <p:spPr>
              <a:xfrm>
                <a:off x="7561440" y="1316160"/>
                <a:ext cx="13028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O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9" name=""/>
            <p:cNvGrpSpPr/>
            <p:nvPr/>
          </p:nvGrpSpPr>
          <p:grpSpPr>
            <a:xfrm>
              <a:off x="4819680" y="1324080"/>
              <a:ext cx="1304640" cy="1299600"/>
              <a:chOff x="4819680" y="1324080"/>
              <a:chExt cx="1304640" cy="1299600"/>
            </a:xfrm>
          </p:grpSpPr>
          <p:sp>
            <p:nvSpPr>
              <p:cNvPr id="380" name=""/>
              <p:cNvSpPr/>
              <p:nvPr/>
            </p:nvSpPr>
            <p:spPr>
              <a:xfrm>
                <a:off x="4819680" y="1324080"/>
                <a:ext cx="130464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ideo/audio strea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9680" y="1743840"/>
                <a:ext cx="1304640" cy="87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82" name=""/>
            <p:cNvGrpSpPr/>
            <p:nvPr/>
          </p:nvGrpSpPr>
          <p:grpSpPr>
            <a:xfrm>
              <a:off x="6167520" y="1363680"/>
              <a:ext cx="1307520" cy="1260000"/>
              <a:chOff x="6167520" y="1363680"/>
              <a:chExt cx="1307520" cy="1260000"/>
            </a:xfrm>
          </p:grpSpPr>
          <p:sp>
            <p:nvSpPr>
              <p:cNvPr id="383" name=""/>
              <p:cNvSpPr/>
              <p:nvPr/>
            </p:nvSpPr>
            <p:spPr>
              <a:xfrm>
                <a:off x="6167520" y="1363680"/>
                <a:ext cx="13075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On-line ga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84" name="ultima_online" descr=""/>
              <p:cNvPicPr/>
              <p:nvPr/>
            </p:nvPicPr>
            <p:blipFill>
              <a:blip r:embed="rId4"/>
              <a:stretch/>
            </p:blipFill>
            <p:spPr>
              <a:xfrm>
                <a:off x="6167520" y="1746360"/>
                <a:ext cx="1305720" cy="87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385" name=""/>
            <p:cNvSpPr/>
            <p:nvPr/>
          </p:nvSpPr>
          <p:spPr>
            <a:xfrm flipV="1">
              <a:off x="3006720" y="1525320"/>
              <a:ext cx="264960" cy="51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03520" y="2023920"/>
              <a:ext cx="1441440" cy="6620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tertain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7" name="" descr=""/>
            <p:cNvPicPr/>
            <p:nvPr/>
          </p:nvPicPr>
          <p:blipFill>
            <a:blip r:embed="rId5"/>
            <a:stretch/>
          </p:blipFill>
          <p:spPr>
            <a:xfrm>
              <a:off x="3381480" y="1774800"/>
              <a:ext cx="13032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6168960" y="1751040"/>
              <a:ext cx="1319400" cy="8762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1703520" y="2754360"/>
            <a:ext cx="7206840" cy="1307880"/>
            <a:chOff x="1703520" y="2754360"/>
            <a:chExt cx="7206840" cy="1307880"/>
          </a:xfrm>
        </p:grpSpPr>
        <p:grpSp>
          <p:nvGrpSpPr>
            <p:cNvPr id="390" name=""/>
            <p:cNvGrpSpPr/>
            <p:nvPr/>
          </p:nvGrpSpPr>
          <p:grpSpPr>
            <a:xfrm>
              <a:off x="3362400" y="2754360"/>
              <a:ext cx="1312560" cy="1301400"/>
              <a:chOff x="3362400" y="2754360"/>
              <a:chExt cx="1312560" cy="1301400"/>
            </a:xfrm>
          </p:grpSpPr>
          <p:pic>
            <p:nvPicPr>
              <p:cNvPr id="391" name="aol_chat" descr=""/>
              <p:cNvPicPr/>
              <p:nvPr/>
            </p:nvPicPr>
            <p:blipFill>
              <a:blip r:embed="rId6"/>
              <a:stretch/>
            </p:blipFill>
            <p:spPr>
              <a:xfrm>
                <a:off x="3362400" y="3173760"/>
                <a:ext cx="1312560" cy="88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" name=""/>
              <p:cNvSpPr/>
              <p:nvPr/>
            </p:nvSpPr>
            <p:spPr>
              <a:xfrm>
                <a:off x="3362400" y="2754360"/>
                <a:ext cx="13125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E-mail, chat, and instant mess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3" name=""/>
            <p:cNvGrpSpPr/>
            <p:nvPr/>
          </p:nvGrpSpPr>
          <p:grpSpPr>
            <a:xfrm>
              <a:off x="7589880" y="2757600"/>
              <a:ext cx="1320480" cy="1298160"/>
              <a:chOff x="7589880" y="2757600"/>
              <a:chExt cx="1320480" cy="1298160"/>
            </a:xfrm>
          </p:grpSpPr>
          <p:sp>
            <p:nvSpPr>
              <p:cNvPr id="394" name=""/>
              <p:cNvSpPr/>
              <p:nvPr/>
            </p:nvSpPr>
            <p:spPr>
              <a:xfrm>
                <a:off x="7589880" y="2757600"/>
                <a:ext cx="13035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Unified messa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95" name="onebox_UM" descr=""/>
              <p:cNvPicPr/>
              <p:nvPr/>
            </p:nvPicPr>
            <p:blipFill>
              <a:blip r:embed="rId7"/>
              <a:stretch/>
            </p:blipFill>
            <p:spPr>
              <a:xfrm>
                <a:off x="7608600" y="3177000"/>
                <a:ext cx="1301760" cy="87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96" name=""/>
            <p:cNvGrpSpPr/>
            <p:nvPr/>
          </p:nvGrpSpPr>
          <p:grpSpPr>
            <a:xfrm>
              <a:off x="6167520" y="2797200"/>
              <a:ext cx="1310760" cy="1258560"/>
              <a:chOff x="6167520" y="2797200"/>
              <a:chExt cx="1310760" cy="1258560"/>
            </a:xfrm>
          </p:grpSpPr>
          <p:sp>
            <p:nvSpPr>
              <p:cNvPr id="397" name=""/>
              <p:cNvSpPr/>
              <p:nvPr/>
            </p:nvSpPr>
            <p:spPr>
              <a:xfrm>
                <a:off x="6167520" y="2797200"/>
                <a:ext cx="130932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PC- and cable-based telephon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398" name=""/>
              <p:cNvGraphicFramePr/>
              <p:nvPr/>
            </p:nvGraphicFramePr>
            <p:xfrm>
              <a:off x="6167520" y="3180600"/>
              <a:ext cx="1310760" cy="8751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399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167520" y="3180600"/>
                        <a:ext cx="1310760" cy="8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00" name=""/>
            <p:cNvGrpSpPr/>
            <p:nvPr/>
          </p:nvGrpSpPr>
          <p:grpSpPr>
            <a:xfrm>
              <a:off x="4819680" y="2797200"/>
              <a:ext cx="1307880" cy="1258560"/>
              <a:chOff x="4819680" y="2797200"/>
              <a:chExt cx="1307880" cy="1258560"/>
            </a:xfrm>
          </p:grpSpPr>
          <p:sp>
            <p:nvSpPr>
              <p:cNvPr id="401" name=""/>
              <p:cNvSpPr/>
              <p:nvPr/>
            </p:nvSpPr>
            <p:spPr>
              <a:xfrm>
                <a:off x="4819680" y="2797200"/>
                <a:ext cx="13078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ideo conferenc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02" name="PC_video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19680" y="3180600"/>
                <a:ext cx="1306440" cy="87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03" name=""/>
            <p:cNvSpPr/>
            <p:nvPr/>
          </p:nvSpPr>
          <p:spPr>
            <a:xfrm>
              <a:off x="1703520" y="3182760"/>
              <a:ext cx="1441440" cy="6638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un-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792680" y="3170160"/>
              <a:ext cx="1320840" cy="8780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183360" y="3184560"/>
              <a:ext cx="1319040" cy="8776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580160" y="3173400"/>
              <a:ext cx="1320840" cy="8780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1280" y="4221000"/>
            <a:ext cx="8885520" cy="1912320"/>
            <a:chOff x="71280" y="4221000"/>
            <a:chExt cx="8885520" cy="1912320"/>
          </a:xfrm>
        </p:grpSpPr>
        <p:grpSp>
          <p:nvGrpSpPr>
            <p:cNvPr id="408" name=""/>
            <p:cNvGrpSpPr/>
            <p:nvPr/>
          </p:nvGrpSpPr>
          <p:grpSpPr>
            <a:xfrm>
              <a:off x="1703520" y="4221000"/>
              <a:ext cx="7253280" cy="1301760"/>
              <a:chOff x="1703520" y="4221000"/>
              <a:chExt cx="7253280" cy="1301760"/>
            </a:xfrm>
          </p:grpSpPr>
          <p:grpSp>
            <p:nvGrpSpPr>
              <p:cNvPr id="409" name=""/>
              <p:cNvGrpSpPr/>
              <p:nvPr/>
            </p:nvGrpSpPr>
            <p:grpSpPr>
              <a:xfrm>
                <a:off x="3362400" y="4221000"/>
                <a:ext cx="1314000" cy="1301400"/>
                <a:chOff x="3362400" y="4221000"/>
                <a:chExt cx="1314000" cy="1301400"/>
              </a:xfrm>
            </p:grpSpPr>
            <p:pic>
              <p:nvPicPr>
                <p:cNvPr id="410" name="Image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62400" y="4640400"/>
                  <a:ext cx="131400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11" name=""/>
                <p:cNvSpPr/>
                <p:nvPr/>
              </p:nvSpPr>
              <p:spPr>
                <a:xfrm>
                  <a:off x="3362400" y="4221000"/>
                  <a:ext cx="1305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rm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Walled Gardens, secur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4819680" y="4251240"/>
                <a:ext cx="1312560" cy="1271160"/>
                <a:chOff x="4819680" y="4251240"/>
                <a:chExt cx="1312560" cy="127116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4819680" y="4251240"/>
                  <a:ext cx="13006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Virtual models and to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4" name="" descr=""/>
                <p:cNvPicPr/>
                <p:nvPr/>
              </p:nvPicPr>
              <p:blipFill>
                <a:blip r:embed="rId12"/>
                <a:srcRect l="676" t="1286" r="0" b="0"/>
                <a:stretch/>
              </p:blipFill>
              <p:spPr>
                <a:xfrm>
                  <a:off x="4819680" y="4645080"/>
                  <a:ext cx="1312560" cy="87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15" name=""/>
              <p:cNvSpPr/>
              <p:nvPr/>
            </p:nvSpPr>
            <p:spPr>
              <a:xfrm>
                <a:off x="3035160" y="5067360"/>
                <a:ext cx="18432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703520" y="4368960"/>
                <a:ext cx="1441440" cy="663480"/>
              </a:xfrm>
              <a:custGeom>
                <a:avLst/>
                <a:gdLst>
                  <a:gd name="textAreaLeft" fmla="*/ 0 w 1441440"/>
                  <a:gd name="textAreaRight" fmla="*/ 1441800 w 1441440"/>
                  <a:gd name="textAreaTop" fmla="*/ 0 h 663480"/>
                  <a:gd name="textAreaBottom" fmla="*/ 663840 h 66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74" y="0"/>
                    </a:lnTo>
                    <a:lnTo>
                      <a:pt x="21600" y="10800"/>
                    </a:lnTo>
                    <a:lnTo>
                      <a:pt x="195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0017"/>
                  </a:gs>
                  <a:gs pos="50000">
                    <a:srgbClr val="cc0033"/>
                  </a:gs>
                  <a:gs pos="100000">
                    <a:srgbClr val="5e00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nabling /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roductivity too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7" name=""/>
              <p:cNvGrpSpPr/>
              <p:nvPr/>
            </p:nvGrpSpPr>
            <p:grpSpPr>
              <a:xfrm>
                <a:off x="6167520" y="4260960"/>
                <a:ext cx="1312560" cy="1261440"/>
                <a:chOff x="6167520" y="4260960"/>
                <a:chExt cx="1312560" cy="1261440"/>
              </a:xfrm>
            </p:grpSpPr>
            <p:sp>
              <p:nvSpPr>
                <p:cNvPr id="418" name=""/>
                <p:cNvSpPr/>
                <p:nvPr/>
              </p:nvSpPr>
              <p:spPr>
                <a:xfrm>
                  <a:off x="6167520" y="4260960"/>
                  <a:ext cx="1305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rmAutofit fontScale="84000"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Click and talk“ audio/video supp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19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174360" y="4646880"/>
                  <a:ext cx="1305720" cy="875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20" name="" descr=""/>
              <p:cNvPicPr/>
              <p:nvPr/>
            </p:nvPicPr>
            <p:blipFill>
              <a:blip r:embed="rId14"/>
              <a:srcRect l="23312" t="20754" r="20144" b="20654"/>
              <a:stretch/>
            </p:blipFill>
            <p:spPr>
              <a:xfrm>
                <a:off x="7626240" y="4657680"/>
                <a:ext cx="128448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7637400" y="4392720"/>
                <a:ext cx="13194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On-line c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154560" y="4645080"/>
                <a:ext cx="1320840" cy="8776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"/>
            <p:cNvSpPr/>
            <p:nvPr/>
          </p:nvSpPr>
          <p:spPr>
            <a:xfrm>
              <a:off x="71280" y="5853240"/>
              <a:ext cx="268560" cy="2077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43440" y="5826240"/>
              <a:ext cx="357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FuturaA Bk BT"/>
                </a:rPr>
                <a:t>Embedded BB NGN telephony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23760" y="1571760"/>
            <a:ext cx="1579680" cy="3814560"/>
            <a:chOff x="23760" y="1571760"/>
            <a:chExt cx="1579680" cy="3814560"/>
          </a:xfrm>
        </p:grpSpPr>
        <p:sp>
          <p:nvSpPr>
            <p:cNvPr id="426" name=""/>
            <p:cNvSpPr/>
            <p:nvPr/>
          </p:nvSpPr>
          <p:spPr>
            <a:xfrm>
              <a:off x="1303200" y="1571760"/>
              <a:ext cx="300240" cy="3814560"/>
            </a:xfrm>
            <a:custGeom>
              <a:avLst/>
              <a:gdLst>
                <a:gd name="textAreaLeft" fmla="*/ 191880 w 300240"/>
                <a:gd name="textAreaRight" fmla="*/ 300240 w 300240"/>
                <a:gd name="textAreaTop" fmla="*/ 99360 h 3814560"/>
                <a:gd name="textAreaBottom" fmla="*/ 3715200 h 38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3760" y="2971800"/>
              <a:ext cx="121752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FuturaA Bk BT"/>
                </a:rPr>
                <a:t>Wired &amp; unwired conn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11200" y="409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Telephony, embedded in BB residential service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3728880" y="2354400"/>
            <a:ext cx="5178600" cy="1565280"/>
            <a:chOff x="3728880" y="2354400"/>
            <a:chExt cx="5178600" cy="1565280"/>
          </a:xfrm>
        </p:grpSpPr>
        <p:sp>
          <p:nvSpPr>
            <p:cNvPr id="430" name=""/>
            <p:cNvSpPr/>
            <p:nvPr/>
          </p:nvSpPr>
          <p:spPr>
            <a:xfrm>
              <a:off x="3728880" y="2354400"/>
              <a:ext cx="5178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728880" y="2354400"/>
              <a:ext cx="5178600" cy="156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464646"/>
                  </a:solidFill>
                  <a:latin typeface="Verdana"/>
                </a:rPr>
                <a:t>  </a:t>
              </a:r>
              <a:r>
                <a:rPr b="0" lang="en-US" sz="10800" spc="-1" strike="noStrike">
                  <a:solidFill>
                    <a:srgbClr val="464646"/>
                  </a:solidFill>
                  <a:latin typeface="Verdana"/>
                </a:rPr>
                <a:t> </a:t>
              </a:r>
              <a:r>
                <a:rPr b="0" lang="en-US" sz="900" spc="-1" strike="noStrike">
                  <a:solidFill>
                    <a:srgbClr val="464646"/>
                  </a:solidFill>
                  <a:latin typeface="Verdana"/>
                </a:rPr>
                <a:t>                   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703520" y="1316160"/>
            <a:ext cx="7164000" cy="1369800"/>
            <a:chOff x="1703520" y="1316160"/>
            <a:chExt cx="7164000" cy="1369800"/>
          </a:xfrm>
        </p:grpSpPr>
        <p:sp>
          <p:nvSpPr>
            <p:cNvPr id="433" name=""/>
            <p:cNvSpPr/>
            <p:nvPr/>
          </p:nvSpPr>
          <p:spPr>
            <a:xfrm>
              <a:off x="3411360" y="1400040"/>
              <a:ext cx="1300320" cy="35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b">
              <a:normAutofit/>
            </a:bodyPr>
            <a:p>
              <a:pPr>
                <a:lnSpc>
                  <a:spcPct val="90000"/>
                </a:lnSpc>
                <a:spcBef>
                  <a:spcPts val="751"/>
                </a:spcBef>
                <a:tabLst>
                  <a:tab algn="l" pos="0"/>
                  <a:tab algn="l" pos="770040"/>
                  <a:tab algn="l" pos="1539720"/>
                  <a:tab algn="l" pos="2309760"/>
                  <a:tab algn="l" pos="3079800"/>
                  <a:tab algn="l" pos="3849840"/>
                  <a:tab algn="l" pos="4619520"/>
                  <a:tab algn="l" pos="5389560"/>
                  <a:tab algn="l" pos="6159600"/>
                  <a:tab algn="l" pos="6929280"/>
                  <a:tab algn="l" pos="7699320"/>
                  <a:tab algn="l" pos="8469360"/>
                  <a:tab algn="l" pos="9239400"/>
                  <a:tab algn="l" pos="10009080"/>
                  <a:tab algn="l" pos="1077912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Music downloa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7561440" y="1316160"/>
              <a:ext cx="1306080" cy="1298160"/>
              <a:chOff x="7561440" y="1316160"/>
              <a:chExt cx="1306080" cy="1298160"/>
            </a:xfrm>
          </p:grpSpPr>
          <p:graphicFrame>
            <p:nvGraphicFramePr>
              <p:cNvPr id="435" name=""/>
              <p:cNvGraphicFramePr/>
              <p:nvPr/>
            </p:nvGraphicFramePr>
            <p:xfrm>
              <a:off x="7561440" y="1735560"/>
              <a:ext cx="1306080" cy="87876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436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561440" y="1735560"/>
                        <a:ext cx="1306080" cy="8787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437" name=""/>
              <p:cNvSpPr/>
              <p:nvPr/>
            </p:nvSpPr>
            <p:spPr>
              <a:xfrm>
                <a:off x="7561440" y="1316160"/>
                <a:ext cx="130284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O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4819680" y="1324080"/>
              <a:ext cx="1304640" cy="1299600"/>
              <a:chOff x="4819680" y="1324080"/>
              <a:chExt cx="1304640" cy="1299600"/>
            </a:xfrm>
          </p:grpSpPr>
          <p:sp>
            <p:nvSpPr>
              <p:cNvPr id="439" name=""/>
              <p:cNvSpPr/>
              <p:nvPr/>
            </p:nvSpPr>
            <p:spPr>
              <a:xfrm>
                <a:off x="4819680" y="1324080"/>
                <a:ext cx="1304640" cy="35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ideo/audio strea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4819680" y="1743840"/>
                <a:ext cx="1304640" cy="87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41" name=""/>
            <p:cNvGrpSpPr/>
            <p:nvPr/>
          </p:nvGrpSpPr>
          <p:grpSpPr>
            <a:xfrm>
              <a:off x="6167520" y="1363680"/>
              <a:ext cx="1307520" cy="1260000"/>
              <a:chOff x="6167520" y="1363680"/>
              <a:chExt cx="1307520" cy="1260000"/>
            </a:xfrm>
          </p:grpSpPr>
          <p:sp>
            <p:nvSpPr>
              <p:cNvPr id="442" name=""/>
              <p:cNvSpPr/>
              <p:nvPr/>
            </p:nvSpPr>
            <p:spPr>
              <a:xfrm>
                <a:off x="6167520" y="1363680"/>
                <a:ext cx="1307520" cy="353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On-line gam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43" name="ultima_online" descr=""/>
              <p:cNvPicPr/>
              <p:nvPr/>
            </p:nvPicPr>
            <p:blipFill>
              <a:blip r:embed="rId4"/>
              <a:stretch/>
            </p:blipFill>
            <p:spPr>
              <a:xfrm>
                <a:off x="6167520" y="1746360"/>
                <a:ext cx="1305720" cy="8773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44" name=""/>
            <p:cNvSpPr/>
            <p:nvPr/>
          </p:nvSpPr>
          <p:spPr>
            <a:xfrm flipV="1">
              <a:off x="3006720" y="1525320"/>
              <a:ext cx="264960" cy="515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703520" y="2023920"/>
              <a:ext cx="1441440" cy="6620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ntertain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nt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6" name="" descr=""/>
            <p:cNvPicPr/>
            <p:nvPr/>
          </p:nvPicPr>
          <p:blipFill>
            <a:blip r:embed="rId5"/>
            <a:stretch/>
          </p:blipFill>
          <p:spPr>
            <a:xfrm>
              <a:off x="3381480" y="1774800"/>
              <a:ext cx="130320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6168960" y="1751040"/>
              <a:ext cx="1319400" cy="8762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8" name=""/>
          <p:cNvGrpSpPr/>
          <p:nvPr/>
        </p:nvGrpSpPr>
        <p:grpSpPr>
          <a:xfrm>
            <a:off x="1703520" y="2754360"/>
            <a:ext cx="7206840" cy="1307880"/>
            <a:chOff x="1703520" y="2754360"/>
            <a:chExt cx="7206840" cy="1307880"/>
          </a:xfrm>
        </p:grpSpPr>
        <p:grpSp>
          <p:nvGrpSpPr>
            <p:cNvPr id="449" name=""/>
            <p:cNvGrpSpPr/>
            <p:nvPr/>
          </p:nvGrpSpPr>
          <p:grpSpPr>
            <a:xfrm>
              <a:off x="3362400" y="2754360"/>
              <a:ext cx="1312560" cy="1301400"/>
              <a:chOff x="3362400" y="2754360"/>
              <a:chExt cx="1312560" cy="1301400"/>
            </a:xfrm>
          </p:grpSpPr>
          <p:pic>
            <p:nvPicPr>
              <p:cNvPr id="450" name="aol_chat" descr=""/>
              <p:cNvPicPr/>
              <p:nvPr/>
            </p:nvPicPr>
            <p:blipFill>
              <a:blip r:embed="rId6"/>
              <a:stretch/>
            </p:blipFill>
            <p:spPr>
              <a:xfrm>
                <a:off x="3362400" y="3173760"/>
                <a:ext cx="1312560" cy="88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"/>
              <p:cNvSpPr/>
              <p:nvPr/>
            </p:nvSpPr>
            <p:spPr>
              <a:xfrm>
                <a:off x="3362400" y="2754360"/>
                <a:ext cx="13125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E-mail, chat, and instant messag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7589880" y="2757600"/>
              <a:ext cx="1320480" cy="1298160"/>
              <a:chOff x="7589880" y="2757600"/>
              <a:chExt cx="1320480" cy="1298160"/>
            </a:xfrm>
          </p:grpSpPr>
          <p:sp>
            <p:nvSpPr>
              <p:cNvPr id="453" name=""/>
              <p:cNvSpPr/>
              <p:nvPr/>
            </p:nvSpPr>
            <p:spPr>
              <a:xfrm>
                <a:off x="7589880" y="2757600"/>
                <a:ext cx="1303560" cy="354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Unified messa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4" name="onebox_UM" descr=""/>
              <p:cNvPicPr/>
              <p:nvPr/>
            </p:nvPicPr>
            <p:blipFill>
              <a:blip r:embed="rId7"/>
              <a:stretch/>
            </p:blipFill>
            <p:spPr>
              <a:xfrm>
                <a:off x="7608600" y="3177000"/>
                <a:ext cx="1301760" cy="8787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55" name=""/>
            <p:cNvGrpSpPr/>
            <p:nvPr/>
          </p:nvGrpSpPr>
          <p:grpSpPr>
            <a:xfrm>
              <a:off x="6167520" y="2797200"/>
              <a:ext cx="1310760" cy="1258560"/>
              <a:chOff x="6167520" y="2797200"/>
              <a:chExt cx="1310760" cy="1258560"/>
            </a:xfrm>
          </p:grpSpPr>
          <p:sp>
            <p:nvSpPr>
              <p:cNvPr id="456" name=""/>
              <p:cNvSpPr/>
              <p:nvPr/>
            </p:nvSpPr>
            <p:spPr>
              <a:xfrm>
                <a:off x="6167520" y="2797200"/>
                <a:ext cx="130932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PC- and cable-based telephony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aphicFrame>
            <p:nvGraphicFramePr>
              <p:cNvPr id="457" name=""/>
              <p:cNvGraphicFramePr/>
              <p:nvPr/>
            </p:nvGraphicFramePr>
            <p:xfrm>
              <a:off x="6167520" y="3180600"/>
              <a:ext cx="1310760" cy="875160"/>
            </p:xfrm>
            <a:graphic>
              <a:graphicData uri="http://schemas.openxmlformats.org/presentationml/2006/ole">
                <p:oleObj r:id="rId8" spid="">
                  <p:embed/>
                  <p:pic>
                    <p:nvPicPr>
                      <p:cNvPr id="458" name="" descr=""/>
                      <p:cNvPicPr/>
                      <p:nvPr/>
                    </p:nvPicPr>
                    <p:blipFill>
                      <a:blip r:embed="rId9"/>
                      <a:stretch/>
                    </p:blipFill>
                    <p:spPr>
                      <a:xfrm>
                        <a:off x="6167520" y="3180600"/>
                        <a:ext cx="1310760" cy="8751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grpSp>
          <p:nvGrpSpPr>
            <p:cNvPr id="459" name=""/>
            <p:cNvGrpSpPr/>
            <p:nvPr/>
          </p:nvGrpSpPr>
          <p:grpSpPr>
            <a:xfrm>
              <a:off x="4819680" y="2797200"/>
              <a:ext cx="1307880" cy="1258560"/>
              <a:chOff x="4819680" y="2797200"/>
              <a:chExt cx="1307880" cy="1258560"/>
            </a:xfrm>
          </p:grpSpPr>
          <p:sp>
            <p:nvSpPr>
              <p:cNvPr id="460" name=""/>
              <p:cNvSpPr/>
              <p:nvPr/>
            </p:nvSpPr>
            <p:spPr>
              <a:xfrm>
                <a:off x="4819680" y="2797200"/>
                <a:ext cx="1307880" cy="35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b">
                <a:normAutofit/>
              </a:bodyPr>
              <a:p>
                <a:pPr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770040"/>
                    <a:tab algn="l" pos="1539720"/>
                    <a:tab algn="l" pos="2309760"/>
                    <a:tab algn="l" pos="3079800"/>
                    <a:tab algn="l" pos="3849840"/>
                    <a:tab algn="l" pos="4619520"/>
                    <a:tab algn="l" pos="5389560"/>
                    <a:tab algn="l" pos="6159600"/>
                    <a:tab algn="l" pos="6929280"/>
                    <a:tab algn="l" pos="7699320"/>
                    <a:tab algn="l" pos="8469360"/>
                    <a:tab algn="l" pos="9239400"/>
                    <a:tab algn="l" pos="10009080"/>
                    <a:tab algn="l" pos="1077912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Video conferenc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1" name="PC_video" descr=""/>
              <p:cNvPicPr/>
              <p:nvPr/>
            </p:nvPicPr>
            <p:blipFill>
              <a:blip r:embed="rId10"/>
              <a:stretch/>
            </p:blipFill>
            <p:spPr>
              <a:xfrm>
                <a:off x="4819680" y="3180600"/>
                <a:ext cx="1306440" cy="8751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62" name=""/>
            <p:cNvSpPr/>
            <p:nvPr/>
          </p:nvSpPr>
          <p:spPr>
            <a:xfrm>
              <a:off x="1703520" y="3182760"/>
              <a:ext cx="1441440" cy="663840"/>
            </a:xfrm>
            <a:custGeom>
              <a:avLst/>
              <a:gdLst>
                <a:gd name="textAreaLeft" fmla="*/ 0 w 1441440"/>
                <a:gd name="textAreaRight" fmla="*/ 1441800 w 1441440"/>
                <a:gd name="textAreaTop" fmla="*/ 0 h 663840"/>
                <a:gd name="textAreaBottom" fmla="*/ 664200 h 663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9574" y="0"/>
                  </a:lnTo>
                  <a:lnTo>
                    <a:pt x="21600" y="10800"/>
                  </a:lnTo>
                  <a:lnTo>
                    <a:pt x="19574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Commun-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2680" y="3170160"/>
              <a:ext cx="1320840" cy="8780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183360" y="3184560"/>
              <a:ext cx="1319040" cy="87768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580160" y="3173400"/>
              <a:ext cx="1320840" cy="87804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71280" y="4221000"/>
            <a:ext cx="8885520" cy="1912320"/>
            <a:chOff x="71280" y="4221000"/>
            <a:chExt cx="8885520" cy="1912320"/>
          </a:xfrm>
        </p:grpSpPr>
        <p:grpSp>
          <p:nvGrpSpPr>
            <p:cNvPr id="467" name=""/>
            <p:cNvGrpSpPr/>
            <p:nvPr/>
          </p:nvGrpSpPr>
          <p:grpSpPr>
            <a:xfrm>
              <a:off x="1703520" y="4221000"/>
              <a:ext cx="7253280" cy="1301760"/>
              <a:chOff x="1703520" y="4221000"/>
              <a:chExt cx="7253280" cy="1301760"/>
            </a:xfrm>
          </p:grpSpPr>
          <p:grpSp>
            <p:nvGrpSpPr>
              <p:cNvPr id="468" name=""/>
              <p:cNvGrpSpPr/>
              <p:nvPr/>
            </p:nvGrpSpPr>
            <p:grpSpPr>
              <a:xfrm>
                <a:off x="3362400" y="4221000"/>
                <a:ext cx="1314000" cy="1301400"/>
                <a:chOff x="3362400" y="4221000"/>
                <a:chExt cx="1314000" cy="1301400"/>
              </a:xfrm>
            </p:grpSpPr>
            <p:pic>
              <p:nvPicPr>
                <p:cNvPr id="469" name="Image7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62400" y="4640400"/>
                  <a:ext cx="1314000" cy="88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470" name=""/>
                <p:cNvSpPr/>
                <p:nvPr/>
              </p:nvSpPr>
              <p:spPr>
                <a:xfrm>
                  <a:off x="3362400" y="4221000"/>
                  <a:ext cx="1305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rm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Walled Gardens, security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1" name=""/>
              <p:cNvGrpSpPr/>
              <p:nvPr/>
            </p:nvGrpSpPr>
            <p:grpSpPr>
              <a:xfrm>
                <a:off x="4819680" y="4251240"/>
                <a:ext cx="1312560" cy="1271160"/>
                <a:chOff x="4819680" y="4251240"/>
                <a:chExt cx="1312560" cy="1271160"/>
              </a:xfrm>
            </p:grpSpPr>
            <p:sp>
              <p:nvSpPr>
                <p:cNvPr id="472" name=""/>
                <p:cNvSpPr/>
                <p:nvPr/>
              </p:nvSpPr>
              <p:spPr>
                <a:xfrm>
                  <a:off x="4819680" y="4251240"/>
                  <a:ext cx="1300680" cy="328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spAutoFit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Virtual models and tour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3" name="" descr=""/>
                <p:cNvPicPr/>
                <p:nvPr/>
              </p:nvPicPr>
              <p:blipFill>
                <a:blip r:embed="rId12"/>
                <a:srcRect l="676" t="1286" r="0" b="0"/>
                <a:stretch/>
              </p:blipFill>
              <p:spPr>
                <a:xfrm>
                  <a:off x="4819680" y="4645080"/>
                  <a:ext cx="1312560" cy="877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74" name=""/>
              <p:cNvSpPr/>
              <p:nvPr/>
            </p:nvSpPr>
            <p:spPr>
              <a:xfrm>
                <a:off x="3035160" y="5067360"/>
                <a:ext cx="184320" cy="32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703520" y="4368960"/>
                <a:ext cx="1441440" cy="663480"/>
              </a:xfrm>
              <a:custGeom>
                <a:avLst/>
                <a:gdLst>
                  <a:gd name="textAreaLeft" fmla="*/ 0 w 1441440"/>
                  <a:gd name="textAreaRight" fmla="*/ 1441800 w 1441440"/>
                  <a:gd name="textAreaTop" fmla="*/ 0 h 663480"/>
                  <a:gd name="textAreaBottom" fmla="*/ 663840 h 663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19574" y="0"/>
                    </a:lnTo>
                    <a:lnTo>
                      <a:pt x="21600" y="10800"/>
                    </a:lnTo>
                    <a:lnTo>
                      <a:pt x="19574" y="21600"/>
                    </a:lnTo>
                    <a:lnTo>
                      <a:pt x="0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e0017"/>
                  </a:gs>
                  <a:gs pos="50000">
                    <a:srgbClr val="cc0033"/>
                  </a:gs>
                  <a:gs pos="100000">
                    <a:srgbClr val="5e001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ctr">
                <a:noAutofit/>
              </a:bodyPr>
              <a:p>
                <a:pPr algn="ctr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nabling /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95000"/>
                  </a:lnSpc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roductivity tool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6167520" y="4260960"/>
                <a:ext cx="1312560" cy="1261440"/>
                <a:chOff x="6167520" y="4260960"/>
                <a:chExt cx="1312560" cy="126144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6167520" y="4260960"/>
                  <a:ext cx="1305720" cy="354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b">
                  <a:normAutofit fontScale="84000"/>
                </a:bodyPr>
                <a:p>
                  <a:pPr>
                    <a:lnSpc>
                      <a:spcPct val="90000"/>
                    </a:lnSpc>
                    <a:spcBef>
                      <a:spcPts val="751"/>
                    </a:spcBef>
                    <a:tabLst>
                      <a:tab algn="l" pos="0"/>
                      <a:tab algn="l" pos="770040"/>
                      <a:tab algn="l" pos="1539720"/>
                      <a:tab algn="l" pos="2309760"/>
                      <a:tab algn="l" pos="3079800"/>
                      <a:tab algn="l" pos="3849840"/>
                      <a:tab algn="l" pos="4619520"/>
                      <a:tab algn="l" pos="5389560"/>
                      <a:tab algn="l" pos="6159600"/>
                      <a:tab algn="l" pos="6929280"/>
                      <a:tab algn="l" pos="7699320"/>
                      <a:tab algn="l" pos="8469360"/>
                      <a:tab algn="l" pos="9239400"/>
                      <a:tab algn="l" pos="10009080"/>
                      <a:tab algn="l" pos="1077912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“</a:t>
                  </a:r>
                  <a:r>
                    <a:rPr b="1" lang="en-US" sz="1200" spc="-1" strike="noStrike">
                      <a:solidFill>
                        <a:srgbClr val="000000"/>
                      </a:solidFill>
                      <a:latin typeface="FuturaA Bk BT"/>
                    </a:rPr>
                    <a:t>Click and talk“ audio/video supp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47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174360" y="4646880"/>
                  <a:ext cx="1305720" cy="875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pic>
            <p:nvPicPr>
              <p:cNvPr id="479" name="" descr=""/>
              <p:cNvPicPr/>
              <p:nvPr/>
            </p:nvPicPr>
            <p:blipFill>
              <a:blip r:embed="rId14"/>
              <a:srcRect l="23312" t="20754" r="20144" b="20654"/>
              <a:stretch/>
            </p:blipFill>
            <p:spPr>
              <a:xfrm>
                <a:off x="7626240" y="4657680"/>
                <a:ext cx="1284480" cy="78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0" name=""/>
              <p:cNvSpPr/>
              <p:nvPr/>
            </p:nvSpPr>
            <p:spPr>
              <a:xfrm>
                <a:off x="7637400" y="4392720"/>
                <a:ext cx="1319400" cy="2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lnSpc>
                    <a:spcPct val="9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FuturaA Bk BT"/>
                  </a:rPr>
                  <a:t>On-line car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154560" y="4645080"/>
                <a:ext cx="1320840" cy="8776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  <a:effectLst>
                <a:outerShdw dist="17819" dir="2700000" blurRad="0" rotWithShape="0">
                  <a:srgbClr val="b2b2b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2" name=""/>
            <p:cNvSpPr/>
            <p:nvPr/>
          </p:nvSpPr>
          <p:spPr>
            <a:xfrm>
              <a:off x="71280" y="5853240"/>
              <a:ext cx="268560" cy="20772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  <a:effectLst>
              <a:outerShdw dist="17819" dir="2700000" blurRad="0" rotWithShape="0">
                <a:srgbClr val="b2b2b2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43440" y="5826240"/>
              <a:ext cx="357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FuturaA Bk BT"/>
                </a:rPr>
                <a:t>Embedded BB NGN telephony servic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4" name=""/>
          <p:cNvGrpSpPr/>
          <p:nvPr/>
        </p:nvGrpSpPr>
        <p:grpSpPr>
          <a:xfrm>
            <a:off x="23760" y="1571760"/>
            <a:ext cx="1579680" cy="3814560"/>
            <a:chOff x="23760" y="1571760"/>
            <a:chExt cx="1579680" cy="3814560"/>
          </a:xfrm>
        </p:grpSpPr>
        <p:sp>
          <p:nvSpPr>
            <p:cNvPr id="485" name=""/>
            <p:cNvSpPr/>
            <p:nvPr/>
          </p:nvSpPr>
          <p:spPr>
            <a:xfrm>
              <a:off x="1303200" y="1571760"/>
              <a:ext cx="300240" cy="3814560"/>
            </a:xfrm>
            <a:custGeom>
              <a:avLst/>
              <a:gdLst>
                <a:gd name="textAreaLeft" fmla="*/ 191880 w 300240"/>
                <a:gd name="textAreaRight" fmla="*/ 300240 w 300240"/>
                <a:gd name="textAreaTop" fmla="*/ 99360 h 3814560"/>
                <a:gd name="textAreaBottom" fmla="*/ 3715200 h 38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760" y="2971800"/>
              <a:ext cx="1217520" cy="10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FuturaA Bk BT"/>
                </a:rPr>
                <a:t>Wired &amp; unwired conne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7960" y="1473120"/>
            <a:ext cx="8229600" cy="13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11200" y="409680"/>
            <a:ext cx="82296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Home networking: a key dimension for future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aphicFrame>
        <p:nvGraphicFramePr>
          <p:cNvPr id="490" name=""/>
          <p:cNvGraphicFramePr/>
          <p:nvPr/>
        </p:nvGraphicFramePr>
        <p:xfrm>
          <a:off x="368280" y="1673280"/>
          <a:ext cx="2751120" cy="205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1673280"/>
                    <a:ext cx="2751120" cy="20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92" name=""/>
          <p:cNvGrpSpPr/>
          <p:nvPr/>
        </p:nvGrpSpPr>
        <p:grpSpPr>
          <a:xfrm>
            <a:off x="387360" y="4395960"/>
            <a:ext cx="2714760" cy="1555560"/>
            <a:chOff x="387360" y="4395960"/>
            <a:chExt cx="2714760" cy="1555560"/>
          </a:xfrm>
        </p:grpSpPr>
        <p:pic>
          <p:nvPicPr>
            <p:cNvPr id="493" name="" descr=""/>
            <p:cNvPicPr/>
            <p:nvPr/>
          </p:nvPicPr>
          <p:blipFill>
            <a:blip r:embed="rId3"/>
            <a:stretch/>
          </p:blipFill>
          <p:spPr>
            <a:xfrm>
              <a:off x="387360" y="4395960"/>
              <a:ext cx="2714760" cy="155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4" name=""/>
            <p:cNvSpPr/>
            <p:nvPr/>
          </p:nvSpPr>
          <p:spPr>
            <a:xfrm>
              <a:off x="1297440" y="5259960"/>
              <a:ext cx="640080" cy="62676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082240" y="5353200"/>
              <a:ext cx="991080" cy="449640"/>
            </a:xfrm>
            <a:prstGeom prst="rect">
              <a:avLst/>
            </a:prstGeom>
            <a:noFill/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buClr>
                  <a:srgbClr val="ff0000"/>
                </a:buClr>
                <a:buFont typeface="Webdings" charset="2"/>
                <a:buChar char="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4"/>
            <a:stretch/>
          </p:blipFill>
          <p:spPr>
            <a:xfrm>
              <a:off x="524880" y="5027400"/>
              <a:ext cx="244800" cy="183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5"/>
            <a:stretch/>
          </p:blipFill>
          <p:spPr>
            <a:xfrm>
              <a:off x="527040" y="5409000"/>
              <a:ext cx="251640" cy="20268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498" name=""/>
            <p:cNvGraphicFramePr/>
            <p:nvPr/>
          </p:nvGraphicFramePr>
          <p:xfrm>
            <a:off x="801720" y="5108400"/>
            <a:ext cx="340560" cy="2167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499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01720" y="5108400"/>
                      <a:ext cx="340560" cy="21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00" name=""/>
            <p:cNvGraphicFramePr/>
            <p:nvPr/>
          </p:nvGraphicFramePr>
          <p:xfrm>
            <a:off x="805320" y="5531040"/>
            <a:ext cx="340560" cy="2167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501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805320" y="5531040"/>
                      <a:ext cx="340560" cy="216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2" name=""/>
          <p:cNvSpPr/>
          <p:nvPr/>
        </p:nvSpPr>
        <p:spPr>
          <a:xfrm>
            <a:off x="325440" y="1271520"/>
            <a:ext cx="2868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Alice’s Video por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47000" y="3868560"/>
            <a:ext cx="184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0000"/>
                </a:solidFill>
                <a:latin typeface="Arial"/>
              </a:rPr>
              <a:t>Alice’s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3544560" y="1376280"/>
            <a:ext cx="5540760" cy="4543560"/>
            <a:chOff x="3544560" y="1376280"/>
            <a:chExt cx="5540760" cy="4543560"/>
          </a:xfrm>
        </p:grpSpPr>
        <p:pic>
          <p:nvPicPr>
            <p:cNvPr id="505" name="" descr=""/>
            <p:cNvPicPr/>
            <p:nvPr/>
          </p:nvPicPr>
          <p:blipFill>
            <a:blip r:embed="rId10"/>
            <a:stretch/>
          </p:blipFill>
          <p:spPr>
            <a:xfrm>
              <a:off x="4173480" y="2117880"/>
              <a:ext cx="4911840" cy="349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6" name=""/>
            <p:cNvSpPr/>
            <p:nvPr/>
          </p:nvSpPr>
          <p:spPr>
            <a:xfrm>
              <a:off x="5837400" y="1492200"/>
              <a:ext cx="177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ff0000"/>
                  </a:solidFill>
                  <a:latin typeface="Arial"/>
                </a:rPr>
                <a:t>Alice’s H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5400000">
              <a:off x="1455840" y="3464640"/>
              <a:ext cx="4543560" cy="366840"/>
            </a:xfrm>
            <a:prstGeom prst="triangle">
              <a:avLst>
                <a:gd name="adj" fmla="val 50000"/>
              </a:avLst>
            </a:prstGeom>
            <a:solidFill>
              <a:srgbClr val="ff9d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08" name="" descr=""/>
          <p:cNvPicPr/>
          <p:nvPr/>
        </p:nvPicPr>
        <p:blipFill>
          <a:blip r:embed="rId11"/>
          <a:stretch/>
        </p:blipFill>
        <p:spPr>
          <a:xfrm>
            <a:off x="7827840" y="79200"/>
            <a:ext cx="1266840" cy="30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92240" y="398520"/>
            <a:ext cx="895176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br>
              <a:rPr sz="2200"/>
            </a:b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BB NGN net contribution to an Operator’s wireline busines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10" name=""/>
          <p:cNvSpPr/>
          <p:nvPr/>
        </p:nvSpPr>
        <p:spPr>
          <a:xfrm>
            <a:off x="-191880" y="6162480"/>
            <a:ext cx="8808840" cy="2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b">
            <a:spAutoFit/>
          </a:bodyPr>
          <a:p>
            <a:pPr marL="235080" indent="-235080" algn="r">
              <a:lnSpc>
                <a:spcPct val="90000"/>
              </a:lnSpc>
              <a:tabLst>
                <a:tab algn="l" pos="0"/>
                <a:tab algn="l" pos="37800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A Bk BT"/>
              </a:rPr>
              <a:t>Source: Alcatel  analysis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1) includes full cost impacts (billing, network management, network impact); HIS: High Speed Internet, BBE: Entertai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8520" y="1333440"/>
            <a:ext cx="17892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hare of operators’ Wireline value    (% NPV DCF )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"/>
          <p:cNvGraphicFramePr/>
          <p:nvPr/>
        </p:nvGraphicFramePr>
        <p:xfrm>
          <a:off x="1747800" y="1509840"/>
          <a:ext cx="6834240" cy="370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7800" y="1509840"/>
                    <a:ext cx="6834240" cy="37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4" name=""/>
          <p:cNvSpPr/>
          <p:nvPr/>
        </p:nvSpPr>
        <p:spPr>
          <a:xfrm>
            <a:off x="2125800" y="2219400"/>
            <a:ext cx="2568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70440" y="2219400"/>
            <a:ext cx="1674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459160" y="1522440"/>
            <a:ext cx="1676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ff3300"/>
                </a:solidFill>
                <a:latin typeface="Arial"/>
              </a:rPr>
              <a:t>BB NGN Busines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780080" y="1535040"/>
            <a:ext cx="1646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500" spc="-1" strike="noStrike">
                <a:solidFill>
                  <a:srgbClr val="ff3300"/>
                </a:solidFill>
                <a:latin typeface="Arial"/>
              </a:rPr>
              <a:t>BB NGN Resident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876320" y="4935600"/>
            <a:ext cx="951120" cy="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Host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P PBX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824200" y="4935600"/>
            <a:ext cx="950760" cy="4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Messa-ging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813120" y="4935600"/>
            <a:ext cx="951120" cy="4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Video-con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4729320" y="4935600"/>
            <a:ext cx="950760" cy="28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IP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575320" y="4935600"/>
            <a:ext cx="950760" cy="4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Messa-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6456240" y="4935600"/>
            <a:ext cx="1087560" cy="47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HSI, BBE, VP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558200" y="4935600"/>
            <a:ext cx="950760" cy="5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Tota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B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1865160" y="2570040"/>
            <a:ext cx="9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139760" y="23572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FuturaA Bk BT"/>
              </a:rPr>
              <a:t>3.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286000" y="5748480"/>
            <a:ext cx="190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Arial"/>
              </a:rPr>
              <a:t>Payback: ~12 month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613400" y="5748480"/>
            <a:ext cx="1901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Arial"/>
              </a:rPr>
              <a:t>Payback: ~30 month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rot="5400000">
            <a:off x="3216960" y="4271040"/>
            <a:ext cx="106200" cy="2603520"/>
          </a:xfrm>
          <a:custGeom>
            <a:avLst/>
            <a:gdLst>
              <a:gd name="textAreaLeft" fmla="*/ 0 w 106200"/>
              <a:gd name="textAreaRight" fmla="*/ 38160 w 106200"/>
              <a:gd name="textAreaTop" fmla="*/ 67680 h 2603520"/>
              <a:gd name="textAreaBottom" fmla="*/ 2535840 h 260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rot="5400000">
            <a:off x="5535360" y="4556160"/>
            <a:ext cx="88920" cy="2016000"/>
          </a:xfrm>
          <a:custGeom>
            <a:avLst/>
            <a:gdLst>
              <a:gd name="textAreaLeft" fmla="*/ 0 w 88920"/>
              <a:gd name="textAreaRight" fmla="*/ 32040 w 88920"/>
              <a:gd name="textAreaTop" fmla="*/ 52560 h 2016000"/>
              <a:gd name="textAreaBottom" fmla="*/ 1963440 h 20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PSTN evolution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Not yet a</a:t>
            </a: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 shift from PSTN to full NGN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558720" y="1372680"/>
            <a:ext cx="8010720" cy="468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Traditional switching telephony is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till </a:t>
            </a: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preferred choice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conomically competitive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ptimised (voice services regulation &amp; feature)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&amp;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obus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xisting investment protection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Operators anticipating evolution towards NGN 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etwork consolidation opportunitie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placement of end-of-life TDM technology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marL="380880" indent="-380880">
              <a:lnSpc>
                <a:spcPct val="100000"/>
              </a:lnSpc>
              <a:spcBef>
                <a:spcPts val="675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Evolution scenario and timing specific to local situation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straint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f legacy architecture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Feature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arity requirement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roadband penetration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80880" y="433440"/>
            <a:ext cx="852984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PSTN evolution</a:t>
            </a:r>
            <a:br>
              <a:rPr sz="2200"/>
            </a:b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~25% estimated OPEX savings for large deployment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pSp>
        <p:nvGrpSpPr>
          <p:cNvPr id="534" name=""/>
          <p:cNvGrpSpPr/>
          <p:nvPr/>
        </p:nvGrpSpPr>
        <p:grpSpPr>
          <a:xfrm>
            <a:off x="76320" y="1328760"/>
            <a:ext cx="4136760" cy="4386240"/>
            <a:chOff x="76320" y="1328760"/>
            <a:chExt cx="4136760" cy="4386240"/>
          </a:xfrm>
        </p:grpSpPr>
        <p:sp>
          <p:nvSpPr>
            <p:cNvPr id="535" name=""/>
            <p:cNvSpPr/>
            <p:nvPr/>
          </p:nvSpPr>
          <p:spPr>
            <a:xfrm>
              <a:off x="146160" y="1328760"/>
              <a:ext cx="396864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TDM drawbac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6160" y="1836720"/>
              <a:ext cx="3968640" cy="38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Layered &amp;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eshed net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62040" indent="-18108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662040" indent="-18108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Many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network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nod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arge footprint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per no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Dedicated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etworks for individual servi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0520" indent="-29052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6320" y="1785960"/>
              <a:ext cx="41367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4508640" y="1328760"/>
            <a:ext cx="4559040" cy="4572000"/>
            <a:chOff x="4508640" y="1328760"/>
            <a:chExt cx="4559040" cy="4572000"/>
          </a:xfrm>
        </p:grpSpPr>
        <p:sp>
          <p:nvSpPr>
            <p:cNvPr id="539" name=""/>
            <p:cNvSpPr/>
            <p:nvPr/>
          </p:nvSpPr>
          <p:spPr>
            <a:xfrm>
              <a:off x="5019840" y="1328760"/>
              <a:ext cx="3962160" cy="40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NGN voice improveme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019840" y="1836720"/>
              <a:ext cx="3962160" cy="38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elf manag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More flat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Less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# service-related nod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Reduced # switching ports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Lower site costs per nod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Shared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voice &amp; data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resource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Centralised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manage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Reduced transmission capaci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291960" indent="-291960">
                <a:lnSpc>
                  <a:spcPct val="115000"/>
                </a:lnSpc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heaper new </a:t>
              </a:r>
              <a:r>
                <a:rPr b="1" lang="nl-BE" sz="1800" spc="-1" strike="noStrike">
                  <a:solidFill>
                    <a:srgbClr val="000000"/>
                  </a:solidFill>
                  <a:latin typeface="Arial"/>
                </a:rPr>
                <a:t>SW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022720" y="1785960"/>
              <a:ext cx="4044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5400000">
              <a:off x="2634840" y="3722760"/>
              <a:ext cx="4051440" cy="304560"/>
            </a:xfrm>
            <a:prstGeom prst="triangle">
              <a:avLst>
                <a:gd name="adj" fmla="val 50000"/>
              </a:avLst>
            </a:prstGeom>
            <a:solidFill>
              <a:srgbClr val="ff9d9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17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PSTN evolution</a:t>
            </a: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Upfront CAPEX remains the key barrier: C4 network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44" name=""/>
          <p:cNvSpPr/>
          <p:nvPr/>
        </p:nvSpPr>
        <p:spPr>
          <a:xfrm>
            <a:off x="7426440" y="3392640"/>
            <a:ext cx="9360" cy="856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6170760"/>
            <a:ext cx="590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FuturaA Bk BT"/>
              </a:rPr>
              <a:t>Note: </a:t>
            </a:r>
            <a:r>
              <a:rPr b="0" lang="en-GB" sz="1000" spc="-1" strike="noStrike">
                <a:solidFill>
                  <a:srgbClr val="000000"/>
                </a:solidFill>
                <a:latin typeface="FuturaA Bk BT"/>
              </a:rPr>
              <a:t>CDE included.  Important impact on 200K project.</a:t>
            </a:r>
            <a:r>
              <a:rPr b="0" lang="nl-BE" sz="1000" spc="-1" strike="noStrike">
                <a:solidFill>
                  <a:srgbClr val="000000"/>
                </a:solidFill>
                <a:latin typeface="FuturaA Bk BT"/>
              </a:rPr>
              <a:t> Network description in note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371600" y="2851200"/>
            <a:ext cx="7107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405080" y="2179800"/>
            <a:ext cx="7092720" cy="23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754280" y="3416400"/>
            <a:ext cx="898560" cy="112212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3532320" y="2847960"/>
            <a:ext cx="900000" cy="169056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308560" y="2308320"/>
            <a:ext cx="882720" cy="223020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070760" y="3184560"/>
            <a:ext cx="901800" cy="1353960"/>
          </a:xfrm>
          <a:prstGeom prst="rect">
            <a:avLst/>
          </a:prstGeom>
          <a:solidFill>
            <a:srgbClr val="ff9d9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405080" y="2179800"/>
            <a:ext cx="0" cy="2358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1339920" y="453852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339920" y="420372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339920" y="3860640"/>
            <a:ext cx="651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1339920" y="352584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1339920" y="31924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1339920" y="2857680"/>
            <a:ext cx="65160" cy="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339920" y="25146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39920" y="2179800"/>
            <a:ext cx="651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405080" y="4538520"/>
            <a:ext cx="7092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V="1">
            <a:off x="1405080" y="4538520"/>
            <a:ext cx="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3181320" y="453852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4956120" y="453852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V="1">
            <a:off x="6723000" y="453852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V="1">
            <a:off x="8497800" y="4538520"/>
            <a:ext cx="3240" cy="38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276120" y="1380960"/>
            <a:ext cx="10432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Relative C4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equipement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Cost</a:t>
            </a: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 (%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840960" y="447048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25400" y="413532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725400" y="379260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25400" y="34574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25400" y="3122640"/>
            <a:ext cx="189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610560" y="27874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1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610560" y="244620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1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10560" y="211140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FuturaA Bk BT"/>
              </a:rPr>
              <a:t>1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972080" y="4653000"/>
            <a:ext cx="494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T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1  </a:t>
            </a: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533400" y="4653000"/>
            <a:ext cx="95616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T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50% </a:t>
            </a: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 1 ho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50%  2 h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5506560" y="4653000"/>
            <a:ext cx="5342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TDM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2 hop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7010280" y="4653000"/>
            <a:ext cx="11404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NGN</a:t>
            </a: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FuturaA Bk BT"/>
              </a:rPr>
              <a:t>with </a:t>
            </a: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trunk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300" spc="-1" strike="noStrike">
                <a:solidFill>
                  <a:srgbClr val="000000"/>
                </a:solidFill>
                <a:latin typeface="FuturaA Bk BT"/>
              </a:rPr>
              <a:t>gatew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1471680" y="2847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571760" y="5529240"/>
            <a:ext cx="5973480" cy="48888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Complex C4 networks replaced with NG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170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PSTN evolution</a:t>
            </a: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Upfront CAPEX remains the key barrier : C5 network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83" name=""/>
          <p:cNvSpPr/>
          <p:nvPr/>
        </p:nvSpPr>
        <p:spPr>
          <a:xfrm>
            <a:off x="3776760" y="2362320"/>
            <a:ext cx="9360" cy="118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504720" y="1563840"/>
            <a:ext cx="8301240" cy="1671480"/>
            <a:chOff x="504720" y="1563840"/>
            <a:chExt cx="8301240" cy="1671480"/>
          </a:xfrm>
        </p:grpSpPr>
        <p:sp>
          <p:nvSpPr>
            <p:cNvPr id="585" name=""/>
            <p:cNvSpPr/>
            <p:nvPr/>
          </p:nvSpPr>
          <p:spPr>
            <a:xfrm>
              <a:off x="504720" y="1563840"/>
              <a:ext cx="3083040" cy="1671480"/>
            </a:xfrm>
            <a:prstGeom prst="rect">
              <a:avLst/>
            </a:pr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Large obsolescence 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extension in  BB mark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776760" y="1563840"/>
              <a:ext cx="5029200" cy="1671480"/>
            </a:xfrm>
            <a:prstGeom prst="rect">
              <a:avLst/>
            </a:pr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GN Voice comparable with TDM cos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5/NGN replacement under consider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Risk hedging (maintenance, failure, BB Voic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Fast PSTN/BB access synerg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"/>
          <p:cNvGrpSpPr/>
          <p:nvPr/>
        </p:nvGrpSpPr>
        <p:grpSpPr>
          <a:xfrm>
            <a:off x="504720" y="4762440"/>
            <a:ext cx="8301240" cy="1073160"/>
            <a:chOff x="504720" y="4762440"/>
            <a:chExt cx="8301240" cy="1073160"/>
          </a:xfrm>
        </p:grpSpPr>
        <p:sp>
          <p:nvSpPr>
            <p:cNvPr id="588" name=""/>
            <p:cNvSpPr/>
            <p:nvPr/>
          </p:nvSpPr>
          <p:spPr>
            <a:xfrm>
              <a:off x="504720" y="4762440"/>
              <a:ext cx="3083040" cy="1073160"/>
            </a:xfrm>
            <a:prstGeom prst="rect">
              <a:avLst/>
            </a:pr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Other situ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776760" y="4762440"/>
              <a:ext cx="5029200" cy="1073160"/>
            </a:xfrm>
            <a:prstGeom prst="rect">
              <a:avLst/>
            </a:pr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Primary TDM invest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GN-readiness of the infrastructu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BB, the main next investment wa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504720" y="3495600"/>
            <a:ext cx="8301240" cy="1005120"/>
            <a:chOff x="504720" y="3495600"/>
            <a:chExt cx="8301240" cy="1005120"/>
          </a:xfrm>
        </p:grpSpPr>
        <p:sp>
          <p:nvSpPr>
            <p:cNvPr id="591" name=""/>
            <p:cNvSpPr/>
            <p:nvPr/>
          </p:nvSpPr>
          <p:spPr>
            <a:xfrm>
              <a:off x="504720" y="3495600"/>
              <a:ext cx="3076560" cy="1005120"/>
            </a:xfrm>
            <a:prstGeom prst="rect">
              <a:avLst/>
            </a:prstGeom>
            <a:gradFill rotWithShape="0">
              <a:gsLst>
                <a:gs pos="0">
                  <a:srgbClr val="5e0017"/>
                </a:gs>
                <a:gs pos="50000">
                  <a:srgbClr val="cc0033"/>
                </a:gs>
                <a:gs pos="100000">
                  <a:srgbClr val="5e001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Limited obsolesce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5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AU" sz="1600" spc="-1" strike="noStrike">
                  <a:solidFill>
                    <a:srgbClr val="ffffff"/>
                  </a:solidFill>
                  <a:latin typeface="Arial"/>
                </a:rPr>
                <a:t>or extens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776760" y="3495600"/>
              <a:ext cx="5029200" cy="1005120"/>
            </a:xfrm>
            <a:prstGeom prst="rect">
              <a:avLst/>
            </a:prstGeom>
            <a:solidFill>
              <a:srgbClr val="ff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TDM still advantageo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No major C5/NGN replacement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293760" indent="-29376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Gradual access (&amp; mobile) synerg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In summary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15520" y="1466640"/>
            <a:ext cx="8404200" cy="430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76920" indent="-376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GN build out will occur from three different market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etitive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voice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Broadband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NGN &amp;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STN Evolution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376920" indent="-376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roadband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key catalyst to opening the opportunities for 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ew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GN service</a:t>
            </a: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ic voice over BB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naged Communications for SME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mbedded telephony in new residential BB service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37692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marL="376920" indent="-37692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STN will progressively be improved with NGN components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  <a:p>
            <a:pPr lvl="1" marL="741600" indent="-1756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ging PSTN &amp; BB infrastructure over time</a:t>
            </a:r>
            <a:endParaRPr b="0" lang="en-US" sz="20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725560" y="5114880"/>
            <a:ext cx="4469040" cy="838080"/>
          </a:xfrm>
          <a:prstGeom prst="ellipse">
            <a:avLst/>
          </a:prstGeom>
          <a:solidFill>
            <a:srgbClr val="e02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A Bk BT"/>
              </a:rPr>
              <a:t>Optical 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753080" y="4089240"/>
            <a:ext cx="3117600" cy="1260720"/>
          </a:xfrm>
          <a:prstGeom prst="ellipse">
            <a:avLst/>
          </a:prstGeom>
          <a:solidFill>
            <a:srgbClr val="ffc6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63880" y="4083120"/>
            <a:ext cx="3197160" cy="1227240"/>
          </a:xfrm>
          <a:prstGeom prst="ellipse">
            <a:avLst/>
          </a:prstGeom>
          <a:solidFill>
            <a:srgbClr val="ff8467"/>
          </a:solidFill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94680" y="4370400"/>
            <a:ext cx="1503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Multi-protocol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IP/MPLS/A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52720" y="3497400"/>
            <a:ext cx="5837040" cy="865080"/>
          </a:xfrm>
          <a:prstGeom prst="ellipse">
            <a:avLst/>
          </a:prstGeom>
          <a:solidFill>
            <a:srgbClr val="fff7f7"/>
          </a:solidFill>
          <a:ln w="28440">
            <a:solidFill>
              <a:srgbClr val="ffff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7000" y="1617840"/>
            <a:ext cx="1797120" cy="4281480"/>
          </a:xfrm>
          <a:custGeom>
            <a:avLst/>
            <a:gdLst>
              <a:gd name="textAreaLeft" fmla="*/ 440640 w 1797120"/>
              <a:gd name="textAreaRight" fmla="*/ 1356480 w 1797120"/>
              <a:gd name="textAreaTop" fmla="*/ 1049400 h 4281480"/>
              <a:gd name="textAreaBottom" fmla="*/ 3232080 h 428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5680" y="441360"/>
            <a:ext cx="83167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Towards a Smarter Consolidated Network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25" name=""/>
          <p:cNvSpPr/>
          <p:nvPr/>
        </p:nvSpPr>
        <p:spPr>
          <a:xfrm>
            <a:off x="176040" y="3595680"/>
            <a:ext cx="1495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Consolida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Services P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7280" y="2795760"/>
            <a:ext cx="768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A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Ac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2080" y="1827360"/>
            <a:ext cx="81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A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990000"/>
                </a:solidFill>
                <a:latin typeface="FuturaA Bk BT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94560" y="4491000"/>
            <a:ext cx="105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FuturaA Bk BT"/>
              </a:rPr>
              <a:t>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FuturaA Bk BT"/>
              </a:rPr>
              <a:t>Backb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28960" y="1832040"/>
            <a:ext cx="5959440" cy="1054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99cc"/>
              </a:gs>
              <a:gs pos="100000">
                <a:srgbClr val="cfdf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761000" y="2806560"/>
            <a:ext cx="1701720" cy="943200"/>
          </a:xfrm>
          <a:custGeom>
            <a:avLst/>
            <a:gdLst>
              <a:gd name="textAreaLeft" fmla="*/ 417240 w 1701720"/>
              <a:gd name="textAreaRight" fmla="*/ 1284480 w 1701720"/>
              <a:gd name="textAreaTop" fmla="*/ 231120 h 943200"/>
              <a:gd name="textAreaBottom" fmla="*/ 71208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cfdfef"/>
              </a:gs>
              <a:gs pos="100000">
                <a:srgbClr val="ffff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Metro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Ethernet Agg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9160" y="2806560"/>
            <a:ext cx="1633680" cy="943200"/>
          </a:xfrm>
          <a:custGeom>
            <a:avLst/>
            <a:gdLst>
              <a:gd name="textAreaLeft" fmla="*/ 400320 w 1633680"/>
              <a:gd name="textAreaRight" fmla="*/ 1233360 w 1633680"/>
              <a:gd name="textAreaTop" fmla="*/ 231120 h 943200"/>
              <a:gd name="textAreaBottom" fmla="*/ 71208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cfdfef"/>
              </a:gs>
              <a:gs pos="100000">
                <a:srgbClr val="ffff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Multi-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ATM Agg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52720" y="2806560"/>
            <a:ext cx="1533600" cy="943200"/>
          </a:xfrm>
          <a:custGeom>
            <a:avLst/>
            <a:gdLst>
              <a:gd name="textAreaLeft" fmla="*/ 375840 w 1533600"/>
              <a:gd name="textAreaRight" fmla="*/ 1157760 w 1533600"/>
              <a:gd name="textAreaTop" fmla="*/ 231120 h 943200"/>
              <a:gd name="textAreaBottom" fmla="*/ 71208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cfdfef"/>
              </a:gs>
              <a:gs pos="100000">
                <a:srgbClr val="ffff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Multi-serv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Optical Aggr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257880" y="2806560"/>
            <a:ext cx="1701720" cy="943200"/>
          </a:xfrm>
          <a:custGeom>
            <a:avLst/>
            <a:gdLst>
              <a:gd name="textAreaLeft" fmla="*/ 417240 w 1701720"/>
              <a:gd name="textAreaRight" fmla="*/ 1284480 w 1701720"/>
              <a:gd name="textAreaTop" fmla="*/ 231120 h 943200"/>
              <a:gd name="textAreaBottom" fmla="*/ 712080 h 9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218" y="21600"/>
                </a:lnTo>
                <a:lnTo>
                  <a:pt x="6382" y="21600"/>
                </a:lnTo>
                <a:close/>
              </a:path>
            </a:pathLst>
          </a:custGeom>
          <a:gradFill rotWithShape="0">
            <a:gsLst>
              <a:gs pos="0">
                <a:srgbClr val="cfdfef"/>
              </a:gs>
              <a:gs pos="100000">
                <a:srgbClr val="ffff2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Broadb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72e45"/>
                </a:solidFill>
                <a:latin typeface="FuturaA Bk BT"/>
              </a:rPr>
              <a:t>Acces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55840" y="449136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IP/MP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o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085840" y="3530520"/>
            <a:ext cx="5761080" cy="798480"/>
          </a:xfrm>
          <a:prstGeom prst="ellipse">
            <a:avLst/>
          </a:prstGeom>
          <a:solidFill>
            <a:srgbClr val="ffff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7929000" y="3516120"/>
            <a:ext cx="1209240" cy="1100160"/>
            <a:chOff x="7929000" y="3516120"/>
            <a:chExt cx="1209240" cy="1100160"/>
          </a:xfrm>
        </p:grpSpPr>
        <p:sp>
          <p:nvSpPr>
            <p:cNvPr id="137" name=""/>
            <p:cNvSpPr/>
            <p:nvPr/>
          </p:nvSpPr>
          <p:spPr>
            <a:xfrm>
              <a:off x="7929000" y="4158720"/>
              <a:ext cx="1209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Networ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FuturaA Bk BT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8093160" y="3843360"/>
              <a:ext cx="398520" cy="31644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 flipV="1">
              <a:off x="8091000" y="3516120"/>
              <a:ext cx="310320" cy="23652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 flipV="1">
              <a:off x="7986600" y="3725640"/>
              <a:ext cx="462240" cy="9720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8010000" y="3864240"/>
              <a:ext cx="345960" cy="109080"/>
            </a:xfrm>
            <a:prstGeom prst="line">
              <a:avLst/>
            </a:prstGeom>
            <a:ln w="284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192880" y="3525480"/>
              <a:ext cx="654480" cy="627120"/>
            </a:xfrm>
            <a:prstGeom prst="ellipse">
              <a:avLst/>
            </a:prstGeom>
            <a:gradFill rotWithShape="0">
              <a:gsLst>
                <a:gs pos="0">
                  <a:srgbClr val="c6cbdc"/>
                </a:gs>
                <a:gs pos="50000">
                  <a:srgbClr val="fcfcfc"/>
                </a:gs>
                <a:gs pos="100000">
                  <a:srgbClr val="c6cbdc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" descr=""/>
            <p:cNvPicPr/>
            <p:nvPr/>
          </p:nvPicPr>
          <p:blipFill>
            <a:blip r:embed="rId1"/>
            <a:stretch/>
          </p:blipFill>
          <p:spPr>
            <a:xfrm>
              <a:off x="8285400" y="3613680"/>
              <a:ext cx="483120" cy="45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4" name=""/>
          <p:cNvSpPr/>
          <p:nvPr/>
        </p:nvSpPr>
        <p:spPr>
          <a:xfrm>
            <a:off x="3294000" y="2055960"/>
            <a:ext cx="1019160" cy="645840"/>
          </a:xfrm>
          <a:prstGeom prst="rightArrow">
            <a:avLst>
              <a:gd name="adj1" fmla="val 55083"/>
              <a:gd name="adj2" fmla="val 67811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34320" y="2206800"/>
            <a:ext cx="803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uturaA Bk BT"/>
              </a:rPr>
              <a:t>Switch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uturaA Bk BT"/>
              </a:rPr>
              <a:t>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17800" y="2200320"/>
            <a:ext cx="1235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Traditional VP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Leased 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50000" y="2220840"/>
            <a:ext cx="1165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Internet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IP-VP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7960" y="2184480"/>
            <a:ext cx="1326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IP-VP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Ethernet VP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000" spc="-1" strike="noStrike">
                <a:solidFill>
                  <a:srgbClr val="000000"/>
                </a:solidFill>
                <a:latin typeface="FuturaA Bk BT"/>
              </a:rPr>
              <a:t>Hosted Servi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043000" y="1805040"/>
            <a:ext cx="59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ffffff"/>
                </a:solidFill>
                <a:latin typeface="FuturaA Bk BT"/>
              </a:rPr>
              <a:t>Services for Mission Critical Business A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5682600" y="2055960"/>
            <a:ext cx="1019160" cy="645840"/>
          </a:xfrm>
          <a:prstGeom prst="rightArrow">
            <a:avLst>
              <a:gd name="adj1" fmla="val 55083"/>
              <a:gd name="adj2" fmla="val 67811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910840" y="2192400"/>
            <a:ext cx="7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uturaA Bk BT"/>
              </a:rPr>
              <a:t>Rou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FuturaA Bk BT"/>
              </a:rPr>
              <a:t>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82800" y="1368000"/>
            <a:ext cx="6186600" cy="285480"/>
          </a:xfrm>
          <a:prstGeom prst="rect">
            <a:avLst/>
          </a:prstGeom>
          <a:solidFill>
            <a:srgbClr val="990000"/>
          </a:solidFill>
          <a:ln w="0">
            <a:noFill/>
          </a:ln>
          <a:effectLst>
            <a:outerShdw dist="17819" dir="2700000" blurRad="0" rotWithShape="0">
              <a:srgbClr val="5b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A Bk BT"/>
              </a:rPr>
              <a:t>Application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7960" y="3697200"/>
            <a:ext cx="132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FuturaA Bk BT"/>
              </a:rPr>
              <a:t>Edge 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21462600">
            <a:off x="5011200" y="5051520"/>
            <a:ext cx="1825920" cy="372960"/>
          </a:xfrm>
          <a:custGeom>
            <a:avLst/>
            <a:gdLst/>
            <a:ahLst/>
            <a:rect l="l" t="t" r="r" b="b"/>
            <a:pathLst>
              <a:path w="1680" h="291">
                <a:moveTo>
                  <a:pt x="106" y="0"/>
                </a:moveTo>
                <a:cubicBezTo>
                  <a:pt x="189" y="4"/>
                  <a:pt x="465" y="14"/>
                  <a:pt x="607" y="23"/>
                </a:cubicBezTo>
                <a:cubicBezTo>
                  <a:pt x="749" y="32"/>
                  <a:pt x="838" y="40"/>
                  <a:pt x="958" y="56"/>
                </a:cubicBezTo>
                <a:cubicBezTo>
                  <a:pt x="1078" y="72"/>
                  <a:pt x="1218" y="97"/>
                  <a:pt x="1329" y="120"/>
                </a:cubicBezTo>
                <a:cubicBezTo>
                  <a:pt x="1440" y="143"/>
                  <a:pt x="1574" y="180"/>
                  <a:pt x="1627" y="194"/>
                </a:cubicBezTo>
                <a:cubicBezTo>
                  <a:pt x="1680" y="208"/>
                  <a:pt x="1656" y="199"/>
                  <a:pt x="1650" y="204"/>
                </a:cubicBezTo>
                <a:cubicBezTo>
                  <a:pt x="1644" y="209"/>
                  <a:pt x="1609" y="216"/>
                  <a:pt x="1588" y="222"/>
                </a:cubicBezTo>
                <a:cubicBezTo>
                  <a:pt x="1567" y="228"/>
                  <a:pt x="1567" y="231"/>
                  <a:pt x="1521" y="240"/>
                </a:cubicBezTo>
                <a:cubicBezTo>
                  <a:pt x="1475" y="249"/>
                  <a:pt x="1384" y="267"/>
                  <a:pt x="1311" y="275"/>
                </a:cubicBezTo>
                <a:cubicBezTo>
                  <a:pt x="1238" y="283"/>
                  <a:pt x="1173" y="291"/>
                  <a:pt x="1083" y="291"/>
                </a:cubicBezTo>
                <a:cubicBezTo>
                  <a:pt x="993" y="291"/>
                  <a:pt x="867" y="288"/>
                  <a:pt x="771" y="278"/>
                </a:cubicBezTo>
                <a:cubicBezTo>
                  <a:pt x="675" y="268"/>
                  <a:pt x="584" y="249"/>
                  <a:pt x="505" y="231"/>
                </a:cubicBezTo>
                <a:cubicBezTo>
                  <a:pt x="426" y="213"/>
                  <a:pt x="359" y="192"/>
                  <a:pt x="298" y="170"/>
                </a:cubicBezTo>
                <a:cubicBezTo>
                  <a:pt x="237" y="148"/>
                  <a:pt x="191" y="123"/>
                  <a:pt x="141" y="96"/>
                </a:cubicBezTo>
                <a:cubicBezTo>
                  <a:pt x="91" y="69"/>
                  <a:pt x="30" y="24"/>
                  <a:pt x="0" y="5"/>
                </a:cubicBezTo>
              </a:path>
            </a:pathLst>
          </a:custGeom>
          <a:solidFill>
            <a:srgbClr val="ffe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784760" y="4359240"/>
            <a:ext cx="499680" cy="749160"/>
            <a:chOff x="4784760" y="4359240"/>
            <a:chExt cx="499680" cy="749160"/>
          </a:xfrm>
        </p:grpSpPr>
        <p:sp>
          <p:nvSpPr>
            <p:cNvPr id="156" name=""/>
            <p:cNvSpPr/>
            <p:nvPr/>
          </p:nvSpPr>
          <p:spPr>
            <a:xfrm>
              <a:off x="5032440" y="4360320"/>
              <a:ext cx="252000" cy="747720"/>
            </a:xfrm>
            <a:custGeom>
              <a:avLst/>
              <a:gdLst/>
              <a:ahLst/>
              <a:rect l="l" t="t" r="r" b="b"/>
              <a:pathLst>
                <a:path w="232" h="654">
                  <a:moveTo>
                    <a:pt x="3" y="0"/>
                  </a:moveTo>
                  <a:cubicBezTo>
                    <a:pt x="21" y="14"/>
                    <a:pt x="80" y="50"/>
                    <a:pt x="113" y="83"/>
                  </a:cubicBezTo>
                  <a:cubicBezTo>
                    <a:pt x="146" y="116"/>
                    <a:pt x="181" y="160"/>
                    <a:pt x="201" y="201"/>
                  </a:cubicBezTo>
                  <a:cubicBezTo>
                    <a:pt x="221" y="242"/>
                    <a:pt x="232" y="284"/>
                    <a:pt x="231" y="328"/>
                  </a:cubicBezTo>
                  <a:cubicBezTo>
                    <a:pt x="230" y="372"/>
                    <a:pt x="213" y="427"/>
                    <a:pt x="193" y="468"/>
                  </a:cubicBezTo>
                  <a:cubicBezTo>
                    <a:pt x="173" y="509"/>
                    <a:pt x="140" y="542"/>
                    <a:pt x="108" y="573"/>
                  </a:cubicBezTo>
                  <a:cubicBezTo>
                    <a:pt x="76" y="604"/>
                    <a:pt x="23" y="637"/>
                    <a:pt x="0" y="654"/>
                  </a:cubicBezTo>
                </a:path>
              </a:pathLst>
            </a:custGeom>
            <a:solidFill>
              <a:srgbClr val="ffe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784760" y="4359240"/>
              <a:ext cx="253080" cy="749160"/>
            </a:xfrm>
            <a:custGeom>
              <a:avLst/>
              <a:gdLst/>
              <a:ahLst/>
              <a:rect l="l" t="t" r="r" b="b"/>
              <a:pathLst>
                <a:path w="233" h="655">
                  <a:moveTo>
                    <a:pt x="233" y="0"/>
                  </a:moveTo>
                  <a:cubicBezTo>
                    <a:pt x="214" y="14"/>
                    <a:pt x="153" y="51"/>
                    <a:pt x="119" y="85"/>
                  </a:cubicBezTo>
                  <a:cubicBezTo>
                    <a:pt x="85" y="119"/>
                    <a:pt x="51" y="162"/>
                    <a:pt x="31" y="204"/>
                  </a:cubicBezTo>
                  <a:cubicBezTo>
                    <a:pt x="11" y="245"/>
                    <a:pt x="0" y="288"/>
                    <a:pt x="1" y="332"/>
                  </a:cubicBezTo>
                  <a:cubicBezTo>
                    <a:pt x="2" y="376"/>
                    <a:pt x="19" y="432"/>
                    <a:pt x="39" y="473"/>
                  </a:cubicBezTo>
                  <a:cubicBezTo>
                    <a:pt x="59" y="515"/>
                    <a:pt x="92" y="549"/>
                    <a:pt x="124" y="579"/>
                  </a:cubicBezTo>
                  <a:cubicBezTo>
                    <a:pt x="156" y="609"/>
                    <a:pt x="209" y="639"/>
                    <a:pt x="231" y="655"/>
                  </a:cubicBezTo>
                </a:path>
              </a:pathLst>
            </a:custGeom>
            <a:solidFill>
              <a:srgbClr val="ffe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4747320" y="465624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02160" y="507204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G-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rot="137400">
            <a:off x="3166200" y="5037120"/>
            <a:ext cx="1898640" cy="384120"/>
          </a:xfrm>
          <a:custGeom>
            <a:avLst/>
            <a:gdLst/>
            <a:ahLst/>
            <a:rect l="l" t="t" r="r" b="b"/>
            <a:pathLst>
              <a:path w="1680" h="291">
                <a:moveTo>
                  <a:pt x="106" y="0"/>
                </a:moveTo>
                <a:cubicBezTo>
                  <a:pt x="189" y="4"/>
                  <a:pt x="465" y="14"/>
                  <a:pt x="607" y="23"/>
                </a:cubicBezTo>
                <a:cubicBezTo>
                  <a:pt x="749" y="32"/>
                  <a:pt x="838" y="40"/>
                  <a:pt x="958" y="56"/>
                </a:cubicBezTo>
                <a:cubicBezTo>
                  <a:pt x="1078" y="72"/>
                  <a:pt x="1218" y="97"/>
                  <a:pt x="1329" y="120"/>
                </a:cubicBezTo>
                <a:cubicBezTo>
                  <a:pt x="1440" y="143"/>
                  <a:pt x="1574" y="180"/>
                  <a:pt x="1627" y="194"/>
                </a:cubicBezTo>
                <a:cubicBezTo>
                  <a:pt x="1680" y="208"/>
                  <a:pt x="1656" y="199"/>
                  <a:pt x="1650" y="204"/>
                </a:cubicBezTo>
                <a:cubicBezTo>
                  <a:pt x="1644" y="209"/>
                  <a:pt x="1609" y="216"/>
                  <a:pt x="1588" y="222"/>
                </a:cubicBezTo>
                <a:cubicBezTo>
                  <a:pt x="1567" y="228"/>
                  <a:pt x="1567" y="231"/>
                  <a:pt x="1521" y="240"/>
                </a:cubicBezTo>
                <a:cubicBezTo>
                  <a:pt x="1475" y="249"/>
                  <a:pt x="1384" y="267"/>
                  <a:pt x="1311" y="275"/>
                </a:cubicBezTo>
                <a:cubicBezTo>
                  <a:pt x="1238" y="283"/>
                  <a:pt x="1173" y="291"/>
                  <a:pt x="1083" y="291"/>
                </a:cubicBezTo>
                <a:cubicBezTo>
                  <a:pt x="993" y="291"/>
                  <a:pt x="867" y="288"/>
                  <a:pt x="771" y="278"/>
                </a:cubicBezTo>
                <a:cubicBezTo>
                  <a:pt x="675" y="268"/>
                  <a:pt x="584" y="249"/>
                  <a:pt x="505" y="231"/>
                </a:cubicBezTo>
                <a:cubicBezTo>
                  <a:pt x="426" y="213"/>
                  <a:pt x="359" y="192"/>
                  <a:pt x="298" y="170"/>
                </a:cubicBezTo>
                <a:cubicBezTo>
                  <a:pt x="237" y="148"/>
                  <a:pt x="191" y="123"/>
                  <a:pt x="141" y="96"/>
                </a:cubicBezTo>
                <a:cubicBezTo>
                  <a:pt x="91" y="69"/>
                  <a:pt x="30" y="24"/>
                  <a:pt x="0" y="5"/>
                </a:cubicBezTo>
              </a:path>
            </a:pathLst>
          </a:custGeom>
          <a:solidFill>
            <a:srgbClr val="ffe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79720" y="5087880"/>
            <a:ext cx="74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uturaA Bk BT"/>
              </a:rPr>
              <a:t>G-MP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ArchOfAnInter" descr=""/>
          <p:cNvPicPr/>
          <p:nvPr/>
        </p:nvPicPr>
        <p:blipFill>
          <a:blip r:embed="rId1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0" y="2193840"/>
            <a:ext cx="9144000" cy="110664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0" y="1905120"/>
            <a:ext cx="9144000" cy="106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V="1">
            <a:off x="0" y="186840"/>
            <a:ext cx="9144000" cy="1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0" y="5603400"/>
            <a:ext cx="9144000" cy="180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0" y="4307040"/>
            <a:ext cx="9144000" cy="1440"/>
          </a:xfrm>
          <a:prstGeom prst="line">
            <a:avLst/>
          </a:prstGeom>
          <a:ln w="38160">
            <a:solidFill>
              <a:srgbClr val="90a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0" y="2066400"/>
            <a:ext cx="9144000" cy="1800"/>
          </a:xfrm>
          <a:prstGeom prst="line">
            <a:avLst/>
          </a:prstGeom>
          <a:ln w="38160">
            <a:solidFill>
              <a:srgbClr val="90abe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17640" y="4871880"/>
            <a:ext cx="9144000" cy="719280"/>
          </a:xfrm>
          <a:prstGeom prst="rect">
            <a:avLst/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0" y="5056200"/>
            <a:ext cx="9105840" cy="366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440" rIns="82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Black"/>
              </a:rPr>
              <a:t>ARCHITECTS OF AN INTERNET WOR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5600" y="2209680"/>
            <a:ext cx="825480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Questions and com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NGN</a:t>
            </a: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 Wireline/Voice, an evasive market?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163" name=""/>
          <p:cNvSpPr/>
          <p:nvPr/>
        </p:nvSpPr>
        <p:spPr>
          <a:xfrm>
            <a:off x="2593800" y="1397160"/>
            <a:ext cx="4070520" cy="37908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oftswitching </a:t>
            </a: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investment </a:t>
            </a: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Market by I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63880" y="2163600"/>
            <a:ext cx="6081480" cy="29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63880" y="2163600"/>
            <a:ext cx="6081480" cy="294804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09880" y="4616280"/>
            <a:ext cx="54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009880" y="41324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009880" y="3637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09880" y="31449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09880" y="265896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09880" y="2163600"/>
            <a:ext cx="54000" cy="32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V="1">
            <a:off x="2063880" y="5111640"/>
            <a:ext cx="28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081240" y="5111640"/>
            <a:ext cx="32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089240" y="5111640"/>
            <a:ext cx="32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106960" y="5111640"/>
            <a:ext cx="14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6122880" y="5111640"/>
            <a:ext cx="32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7128000" y="5111640"/>
            <a:ext cx="288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8145360" y="5111640"/>
            <a:ext cx="3240" cy="52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70040" y="4448160"/>
            <a:ext cx="1016280" cy="24120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586320" y="3931920"/>
            <a:ext cx="1014120" cy="5158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4600440" y="3247560"/>
            <a:ext cx="1008360" cy="68436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608800" y="2290320"/>
            <a:ext cx="1017360" cy="95724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3586320" y="4711320"/>
            <a:ext cx="1014120" cy="1047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4600440" y="4436640"/>
            <a:ext cx="1008360" cy="27468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5608800" y="3848040"/>
            <a:ext cx="1017360" cy="58896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6626160" y="2933640"/>
            <a:ext cx="1017720" cy="91440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600440" y="4863960"/>
            <a:ext cx="1008360" cy="525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5608800" y="4678200"/>
            <a:ext cx="1017360" cy="2016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6626160" y="4280040"/>
            <a:ext cx="1017720" cy="398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1360" y="4637160"/>
            <a:ext cx="112680" cy="1047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529080" y="4394160"/>
            <a:ext cx="112680" cy="1047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546440" y="3878280"/>
            <a:ext cx="113040" cy="1080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8" y="0"/>
                </a:moveTo>
                <a:lnTo>
                  <a:pt x="37" y="55"/>
                </a:lnTo>
                <a:lnTo>
                  <a:pt x="0" y="55"/>
                </a:lnTo>
                <a:lnTo>
                  <a:pt x="18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1560" y="3195720"/>
            <a:ext cx="112680" cy="1062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567480" y="2236680"/>
            <a:ext cx="112680" cy="1080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46440" y="4657680"/>
            <a:ext cx="113040" cy="1047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8" y="0"/>
                </a:moveTo>
                <a:lnTo>
                  <a:pt x="37" y="28"/>
                </a:lnTo>
                <a:lnTo>
                  <a:pt x="18" y="55"/>
                </a:lnTo>
                <a:lnTo>
                  <a:pt x="0" y="28"/>
                </a:lnTo>
                <a:lnTo>
                  <a:pt x="18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551560" y="4384800"/>
            <a:ext cx="112680" cy="1062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7"/>
                </a:lnTo>
                <a:lnTo>
                  <a:pt x="19" y="55"/>
                </a:lnTo>
                <a:lnTo>
                  <a:pt x="0" y="27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567480" y="3794040"/>
            <a:ext cx="112680" cy="1065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8"/>
                </a:lnTo>
                <a:lnTo>
                  <a:pt x="19" y="55"/>
                </a:lnTo>
                <a:lnTo>
                  <a:pt x="0" y="28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85200" y="2879640"/>
            <a:ext cx="112680" cy="1047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8"/>
                </a:lnTo>
                <a:lnTo>
                  <a:pt x="19" y="55"/>
                </a:lnTo>
                <a:lnTo>
                  <a:pt x="0" y="28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551560" y="4815000"/>
            <a:ext cx="112680" cy="10620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67480" y="4627440"/>
            <a:ext cx="112680" cy="10476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585200" y="4226040"/>
            <a:ext cx="112680" cy="10476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516320" y="501660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146960" y="452124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1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46960" y="403848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6960" y="354168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3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46960" y="304812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4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146960" y="256536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5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146960" y="2070000"/>
            <a:ext cx="459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6,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35440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37140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8876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9352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1052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428240" y="5268960"/>
            <a:ext cx="409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6720" y="1752480"/>
            <a:ext cx="762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Million $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155680" y="5850000"/>
            <a:ext cx="331920" cy="3240"/>
          </a:xfrm>
          <a:prstGeom prst="line">
            <a:avLst/>
          </a:prstGeom>
          <a:ln w="1260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259000" y="5796000"/>
            <a:ext cx="115920" cy="106200"/>
          </a:xfrm>
          <a:custGeom>
            <a:avLst/>
            <a:gdLst/>
            <a:ahLst/>
            <a:rect l="l" t="t" r="r" b="b"/>
            <a:pathLst>
              <a:path w="38" h="55">
                <a:moveTo>
                  <a:pt x="19" y="0"/>
                </a:moveTo>
                <a:lnTo>
                  <a:pt x="38" y="55"/>
                </a:lnTo>
                <a:lnTo>
                  <a:pt x="0" y="55"/>
                </a:lnTo>
                <a:lnTo>
                  <a:pt x="19" y="0"/>
                </a:lnTo>
                <a:close/>
              </a:path>
            </a:pathLst>
          </a:custGeom>
          <a:solidFill>
            <a:srgbClr val="00ff00"/>
          </a:solidFill>
          <a:ln w="64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34400" y="5754600"/>
            <a:ext cx="85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June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076640" y="5850000"/>
            <a:ext cx="331920" cy="324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179960" y="5796000"/>
            <a:ext cx="112680" cy="106200"/>
          </a:xfrm>
          <a:custGeom>
            <a:avLst/>
            <a:gdLst/>
            <a:ahLst/>
            <a:rect l="l" t="t" r="r" b="b"/>
            <a:pathLst>
              <a:path w="37" h="55">
                <a:moveTo>
                  <a:pt x="18" y="0"/>
                </a:moveTo>
                <a:lnTo>
                  <a:pt x="37" y="28"/>
                </a:lnTo>
                <a:lnTo>
                  <a:pt x="18" y="55"/>
                </a:lnTo>
                <a:lnTo>
                  <a:pt x="0" y="28"/>
                </a:lnTo>
                <a:lnTo>
                  <a:pt x="18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35920" y="5754600"/>
            <a:ext cx="1091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August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297480" y="5850000"/>
            <a:ext cx="331920" cy="32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400800" y="5796000"/>
            <a:ext cx="112680" cy="10620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679440" y="5754600"/>
            <a:ext cx="788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July 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618000" y="4935600"/>
            <a:ext cx="10224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009880" y="511164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2570040" y="4816080"/>
            <a:ext cx="1016280" cy="71640"/>
          </a:xfrm>
          <a:prstGeom prst="line">
            <a:avLst/>
          </a:prstGeom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1360" y="4836960"/>
            <a:ext cx="112680" cy="1065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7"/>
                </a:lnTo>
                <a:lnTo>
                  <a:pt x="19" y="55"/>
                </a:lnTo>
                <a:lnTo>
                  <a:pt x="0" y="27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529080" y="4762440"/>
            <a:ext cx="112680" cy="106560"/>
          </a:xfrm>
          <a:custGeom>
            <a:avLst/>
            <a:gdLst/>
            <a:ahLst/>
            <a:rect l="l" t="t" r="r" b="b"/>
            <a:pathLst>
              <a:path w="37" h="55">
                <a:moveTo>
                  <a:pt x="19" y="0"/>
                </a:moveTo>
                <a:lnTo>
                  <a:pt x="37" y="28"/>
                </a:lnTo>
                <a:lnTo>
                  <a:pt x="19" y="55"/>
                </a:lnTo>
                <a:lnTo>
                  <a:pt x="0" y="28"/>
                </a:lnTo>
                <a:lnTo>
                  <a:pt x="19" y="0"/>
                </a:lnTo>
                <a:close/>
              </a:path>
            </a:pathLst>
          </a:custGeom>
          <a:solidFill>
            <a:srgbClr val="69ffff"/>
          </a:solidFill>
          <a:ln w="648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529080" y="4898880"/>
            <a:ext cx="112680" cy="10656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46440" y="4870440"/>
            <a:ext cx="113040" cy="103320"/>
          </a:xfrm>
          <a:prstGeom prst="rect">
            <a:avLst/>
          </a:prstGeom>
          <a:solidFill>
            <a:srgbClr val="ffff00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687840" y="3946680"/>
            <a:ext cx="1827000" cy="552240"/>
          </a:xfrm>
          <a:custGeom>
            <a:avLst/>
            <a:gdLst>
              <a:gd name="textAreaLeft" fmla="*/ 228240 w 1827000"/>
              <a:gd name="textAreaRight" fmla="*/ 1598760 w 1827000"/>
              <a:gd name="textAreaTop" fmla="*/ 137880 h 552240"/>
              <a:gd name="textAreaBottom" fmla="*/ 414360 h 552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A Bk BT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 rot="16200000">
            <a:off x="7018200" y="3132000"/>
            <a:ext cx="1090440" cy="877680"/>
          </a:xfrm>
          <a:custGeom>
            <a:avLst/>
            <a:gdLst>
              <a:gd name="textAreaLeft" fmla="*/ 136080 w 1090440"/>
              <a:gd name="textAreaRight" fmla="*/ 954360 w 1090440"/>
              <a:gd name="textAreaTop" fmla="*/ 219240 h 877680"/>
              <a:gd name="textAreaBottom" fmla="*/ 658440 h 877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FuturaA Bk BT"/>
              </a:rPr>
              <a:t>Dec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NGN </a:t>
            </a:r>
            <a:r>
              <a:rPr b="0" lang="nl-BE" sz="2600" spc="-1" strike="noStrike">
                <a:solidFill>
                  <a:srgbClr val="ffffff"/>
                </a:solidFill>
                <a:latin typeface="Arial"/>
                <a:ea typeface="Arial"/>
              </a:rPr>
              <a:t>Wireline 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  <a:ea typeface="Arial"/>
              </a:rPr>
              <a:t>covers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Arial"/>
              </a:rPr>
              <a:t>three market segments</a:t>
            </a: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35" name=""/>
          <p:cNvSpPr/>
          <p:nvPr/>
        </p:nvSpPr>
        <p:spPr>
          <a:xfrm>
            <a:off x="843120" y="1654200"/>
            <a:ext cx="76928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Competitive Voice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Long Distance Bypass &amp; local competitive basic IP Teleph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Broadband NG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New business and high end residential Broadband services, including Voice +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Wingdings 3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spcBef>
                <a:spcPts val="1125"/>
              </a:spcBef>
              <a:buClr>
                <a:srgbClr val="ff0000"/>
              </a:buClr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PSTN evolution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Incumbents’ traditional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oice Local &amp; Long Distance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Arial"/>
              </a:rPr>
              <a:t>/trans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servic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66680" y="5105520"/>
            <a:ext cx="6934320" cy="761760"/>
          </a:xfrm>
          <a:prstGeom prst="roundRect">
            <a:avLst>
              <a:gd name="adj" fmla="val 50000"/>
            </a:avLst>
          </a:prstGeom>
          <a:solidFill>
            <a:srgbClr val="cc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FuturaA Bk BT"/>
              </a:rPr>
              <a:t>Different dynamics - different solutions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FuturaA Bk BT"/>
              </a:rPr>
              <a:t>Common NGN building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47200" y="438120"/>
            <a:ext cx="827748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600" spc="-1" strike="noStrike">
                <a:solidFill>
                  <a:srgbClr val="ffffff"/>
                </a:solidFill>
                <a:latin typeface="FuturaA Bk BT"/>
              </a:rPr>
              <a:t>Broadband seen as a key catalyst across segment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1133640" y="1789200"/>
          <a:ext cx="7358040" cy="428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3640" y="1789200"/>
                    <a:ext cx="7358040" cy="42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185760" y="1874880"/>
            <a:ext cx="10494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FuturaA Bk BT"/>
              </a:rPr>
              <a:t>WW N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FuturaA Bk BT"/>
              </a:rPr>
              <a:t>CAPE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FuturaA Bk BT"/>
              </a:rPr>
              <a:t>(Mio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63360" y="6157800"/>
            <a:ext cx="4603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900" spc="-1" strike="noStrike">
                <a:solidFill>
                  <a:srgbClr val="000000"/>
                </a:solidFill>
                <a:latin typeface="FuturaA Bk BT"/>
              </a:rPr>
              <a:t>Source: Conservative analysts perspectives for Softswitch, C-AGW and TGW mark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106720" y="1341360"/>
            <a:ext cx="4929120" cy="48888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WW NGN Voice Equipment market  </a:t>
            </a:r>
            <a:r>
              <a:rPr b="1" lang="nl-BE" sz="1600" spc="-1" strike="noStrike" baseline="30000">
                <a:solidFill>
                  <a:srgbClr val="ffffff"/>
                </a:solidFill>
                <a:latin typeface="Arial"/>
              </a:rPr>
              <a:t>(1)</a:t>
            </a: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rot="16200000">
            <a:off x="7560360" y="4168080"/>
            <a:ext cx="704880" cy="1976400"/>
          </a:xfrm>
          <a:custGeom>
            <a:avLst/>
            <a:gdLst>
              <a:gd name="textAreaLeft" fmla="*/ 0 w 704880"/>
              <a:gd name="textAreaRight" fmla="*/ 704880 w 70488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913440" y="4948200"/>
            <a:ext cx="2032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FuturaA Bk BT"/>
              </a:rPr>
              <a:t>Voice over BB compet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6200000">
            <a:off x="7397640" y="3195720"/>
            <a:ext cx="1030320" cy="1976400"/>
          </a:xfrm>
          <a:custGeom>
            <a:avLst/>
            <a:gdLst>
              <a:gd name="textAreaLeft" fmla="*/ 0 w 1030320"/>
              <a:gd name="textAreaRight" fmla="*/ 1030680 w 1030320"/>
              <a:gd name="textAreaTop" fmla="*/ 0 h 1976400"/>
              <a:gd name="textAreaBottom" fmla="*/ 1976760 h 197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913440" y="3881520"/>
            <a:ext cx="203220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3320" indent="-1033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FuturaA Bk BT"/>
              </a:rPr>
              <a:t>New BB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03320" indent="-103320" algn="ctr">
              <a:lnSpc>
                <a:spcPct val="90000"/>
              </a:lnSpc>
              <a:buClr>
                <a:srgbClr val="ffffff"/>
              </a:buClr>
              <a:buFont typeface="Futura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FuturaA Bk BT"/>
              </a:rPr>
              <a:t>Managed communica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03320" indent="-103320" algn="ctr">
              <a:lnSpc>
                <a:spcPct val="90000"/>
              </a:lnSpc>
              <a:buClr>
                <a:srgbClr val="ffffff"/>
              </a:buClr>
              <a:buFont typeface="FuturaA Bk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200" spc="-1" strike="noStrike">
                <a:solidFill>
                  <a:srgbClr val="ffffff"/>
                </a:solidFill>
                <a:latin typeface="FuturaA Bk BT"/>
              </a:rPr>
              <a:t>Multim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931080" y="2830680"/>
            <a:ext cx="1976400" cy="66492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13440" y="2913120"/>
            <a:ext cx="2032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FuturaA Bk BT"/>
              </a:rPr>
              <a:t>PSTN &amp; BB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453240" y="6183360"/>
            <a:ext cx="345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800" spc="-1" strike="noStrike">
                <a:solidFill>
                  <a:srgbClr val="000000"/>
                </a:solidFill>
                <a:latin typeface="Arial"/>
                <a:ea typeface="Times New Roman"/>
              </a:rPr>
              <a:t>(1) Regulation, competition offering and perceived end-users ne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</a:t>
            </a:r>
            <a:r>
              <a:rPr b="0" i="1" lang="nl-BE" sz="2200" spc="-1" strike="noStrike">
                <a:solidFill>
                  <a:srgbClr val="ffffff"/>
                </a:solidFill>
                <a:latin typeface="FuturaA Bk BT"/>
              </a:rPr>
              <a:t>Competitive Voice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An</a:t>
            </a:r>
            <a:r>
              <a:rPr b="0" lang="en-GB" sz="2600" spc="-1" strike="noStrike">
                <a:solidFill>
                  <a:srgbClr val="ffffff"/>
                </a:solidFill>
                <a:latin typeface="FuturaA Bk BT"/>
              </a:rPr>
              <a:t> early growing niche market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93560" y="1467000"/>
            <a:ext cx="8156880" cy="42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Long Distance Bypass: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a proven NGN voice service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ernative Long Distance for Competitive operator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ypass to out-of-region for incumbents 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ff33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Internet (PC) Telephony</a:t>
            </a: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deployed in some countrie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iche service to High End residential or businesses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marL="380880" indent="-3808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merging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Residential Voice over Broadban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competition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ahoo BB Japan (1.6 Mio Subs), Voice over Cable (2.9 Mio Subs)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heap basic telephony bundled with High Speed Internet 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  <a:p>
            <a:pPr lvl="1" marL="749160" indent="-177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Yahoo example: $3.3/subs/month &amp; $0.06/3minutes (local, LD,US)</a:t>
            </a:r>
            <a:endParaRPr b="0" lang="en-US" sz="1800" spc="-1" strike="noStrike">
              <a:solidFill>
                <a:srgbClr val="000000"/>
              </a:solidFill>
              <a:latin typeface="FuturaA Bk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541520" y="1803240"/>
            <a:ext cx="6673680" cy="2897280"/>
          </a:xfrm>
          <a:prstGeom prst="rect">
            <a:avLst/>
          </a:prstGeom>
          <a:solidFill>
            <a:srgbClr val="dee0e0"/>
          </a:solidFill>
          <a:ln w="0">
            <a:noFill/>
          </a:ln>
          <a:effectLst>
            <a:outerShdw dist="17819" dir="2700000" blurRad="0" rotWithShape="0">
              <a:srgbClr val="84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11200" y="428400"/>
            <a:ext cx="822960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 </a:t>
            </a:r>
            <a:br>
              <a:rPr sz="22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Premises of a new Broadband Economy market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254" name=""/>
          <p:cNvSpPr/>
          <p:nvPr/>
        </p:nvSpPr>
        <p:spPr>
          <a:xfrm>
            <a:off x="-12960" y="6171120"/>
            <a:ext cx="2832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A Bk BT"/>
              </a:rPr>
              <a:t>Source:  Jefferies &amp; Company, RHK, Yankee Grou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-64440" y="3052440"/>
            <a:ext cx="140904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Subscribers (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00640" y="1318680"/>
            <a:ext cx="2161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FuturaA Bk BT"/>
              </a:rPr>
              <a:t>Total CAGR = 47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247600" y="3584520"/>
            <a:ext cx="6652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DS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4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A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264520" y="2403360"/>
            <a:ext cx="6760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4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CAG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1465200" y="2125800"/>
            <a:ext cx="6750000" cy="2252520"/>
            <a:chOff x="1465200" y="2125800"/>
            <a:chExt cx="6750000" cy="2252520"/>
          </a:xfrm>
        </p:grpSpPr>
        <p:sp>
          <p:nvSpPr>
            <p:cNvPr id="260" name=""/>
            <p:cNvSpPr/>
            <p:nvPr/>
          </p:nvSpPr>
          <p:spPr>
            <a:xfrm>
              <a:off x="1465200" y="437688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465200" y="4054320"/>
              <a:ext cx="6750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465200" y="373068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65200" y="340848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465200" y="309564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465200" y="2771640"/>
              <a:ext cx="6750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465200" y="2449440"/>
              <a:ext cx="6750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465200" y="2125800"/>
              <a:ext cx="6750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1866960" y="4395960"/>
            <a:ext cx="542880" cy="30456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219480" y="4159080"/>
            <a:ext cx="534960" cy="5414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564080" y="3863880"/>
            <a:ext cx="544320" cy="8366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5918040" y="3541680"/>
            <a:ext cx="535320" cy="11588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262640" y="3227400"/>
            <a:ext cx="543240" cy="147312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866960" y="4159080"/>
            <a:ext cx="542880" cy="23688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19480" y="3768840"/>
            <a:ext cx="534960" cy="390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564080" y="3255840"/>
            <a:ext cx="544320" cy="608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918040" y="2724120"/>
            <a:ext cx="535320" cy="8175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262640" y="2268360"/>
            <a:ext cx="543240" cy="9590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866960" y="4149720"/>
            <a:ext cx="542880" cy="9360"/>
          </a:xfrm>
          <a:prstGeom prst="rect">
            <a:avLst/>
          </a:prstGeom>
          <a:gradFill rotWithShape="0">
            <a:gsLst>
              <a:gs pos="0">
                <a:srgbClr val="008080"/>
              </a:gs>
              <a:gs pos="50000">
                <a:srgbClr val="8ac4c4"/>
              </a:gs>
              <a:gs pos="100000">
                <a:srgbClr val="00808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219480" y="3740040"/>
            <a:ext cx="534960" cy="288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64080" y="3198960"/>
            <a:ext cx="544320" cy="56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18040" y="2638440"/>
            <a:ext cx="535320" cy="856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262640" y="2135160"/>
            <a:ext cx="543240" cy="13320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219480" y="3730680"/>
            <a:ext cx="534960" cy="93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564080" y="3179880"/>
            <a:ext cx="544320" cy="19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918040" y="2610000"/>
            <a:ext cx="53532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62640" y="2106720"/>
            <a:ext cx="543240" cy="28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866960" y="4130640"/>
            <a:ext cx="542880" cy="19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19480" y="3711600"/>
            <a:ext cx="534960" cy="1908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564080" y="3151080"/>
            <a:ext cx="544320" cy="2880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918040" y="2571840"/>
            <a:ext cx="535320" cy="3816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262640" y="2049480"/>
            <a:ext cx="543240" cy="57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355760" y="4621320"/>
            <a:ext cx="87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1640" y="42973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71640" y="39751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4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71640" y="36529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6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71640" y="3328920"/>
            <a:ext cx="4762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8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86320" y="301608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0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86320" y="269244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2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886320" y="237024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4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6320" y="204624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6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86320" y="1724040"/>
            <a:ext cx="563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180,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95804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30264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65660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1092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355520" y="4788000"/>
            <a:ext cx="3481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89120" y="1938240"/>
            <a:ext cx="124452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793880" y="2058840"/>
            <a:ext cx="117360" cy="11124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50000">
                <a:srgbClr val="feb88a"/>
              </a:gs>
              <a:gs pos="100000">
                <a:srgbClr val="ff66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045160" y="2033640"/>
            <a:ext cx="27504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DS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032200" y="2230560"/>
            <a:ext cx="40140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06280" y="2427120"/>
            <a:ext cx="56916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Satell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032560" y="2624040"/>
            <a:ext cx="31932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F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15640" y="2820960"/>
            <a:ext cx="834480" cy="1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A Bk BT"/>
              </a:rPr>
              <a:t>FTTU/O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3880" y="2252520"/>
            <a:ext cx="117360" cy="11124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cfe68a"/>
              </a:gs>
              <a:gs pos="100000">
                <a:srgbClr val="99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93880" y="2446200"/>
            <a:ext cx="117360" cy="1112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50000">
                <a:srgbClr val="fee68a"/>
              </a:gs>
              <a:gs pos="100000">
                <a:srgbClr val="ffcc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93880" y="2639880"/>
            <a:ext cx="117360" cy="11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efefe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3880" y="2833560"/>
            <a:ext cx="117360" cy="111240"/>
          </a:xfrm>
          <a:prstGeom prst="rect">
            <a:avLst/>
          </a:prstGeom>
          <a:gradFill rotWithShape="0">
            <a:gsLst>
              <a:gs pos="0">
                <a:srgbClr val="990000"/>
              </a:gs>
              <a:gs pos="50000">
                <a:srgbClr val="cf8a8a"/>
              </a:gs>
              <a:gs pos="100000">
                <a:srgbClr val="99000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11320" y="5095800"/>
            <a:ext cx="7208640" cy="94932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L annualized service provider revenue end 2002 &gt; 14 Bn 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arts to compensate for voice revenues ero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rowth rate continues at &gt; 2M lines per mon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5200" y="1633680"/>
            <a:ext cx="7392960" cy="3074760"/>
          </a:xfrm>
          <a:custGeom>
            <a:avLst/>
            <a:gdLst/>
            <a:ahLst/>
            <a:rect l="l" t="t" r="r" b="b"/>
            <a:pathLst>
              <a:path w="3706" h="2097">
                <a:moveTo>
                  <a:pt x="0" y="2097"/>
                </a:moveTo>
                <a:lnTo>
                  <a:pt x="621" y="1651"/>
                </a:lnTo>
                <a:lnTo>
                  <a:pt x="1009" y="1204"/>
                </a:lnTo>
                <a:lnTo>
                  <a:pt x="1604" y="758"/>
                </a:lnTo>
                <a:lnTo>
                  <a:pt x="2354" y="376"/>
                </a:lnTo>
                <a:lnTo>
                  <a:pt x="3182" y="121"/>
                </a:lnTo>
                <a:lnTo>
                  <a:pt x="3703" y="0"/>
                </a:lnTo>
                <a:lnTo>
                  <a:pt x="3706" y="1713"/>
                </a:lnTo>
                <a:lnTo>
                  <a:pt x="0" y="2097"/>
                </a:lnTo>
                <a:close/>
              </a:path>
            </a:pathLst>
          </a:custGeom>
          <a:solidFill>
            <a:srgbClr val="fddb5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30160" y="1922400"/>
            <a:ext cx="7331040" cy="2766960"/>
          </a:xfrm>
          <a:custGeom>
            <a:avLst/>
            <a:gdLst/>
            <a:ahLst/>
            <a:rect l="l" t="t" r="r" b="b"/>
            <a:pathLst>
              <a:path w="3706" h="2097">
                <a:moveTo>
                  <a:pt x="0" y="2097"/>
                </a:moveTo>
                <a:lnTo>
                  <a:pt x="621" y="1651"/>
                </a:lnTo>
                <a:lnTo>
                  <a:pt x="1009" y="1204"/>
                </a:lnTo>
                <a:lnTo>
                  <a:pt x="1604" y="758"/>
                </a:lnTo>
                <a:lnTo>
                  <a:pt x="2354" y="376"/>
                </a:lnTo>
                <a:lnTo>
                  <a:pt x="3182" y="121"/>
                </a:lnTo>
                <a:lnTo>
                  <a:pt x="3703" y="0"/>
                </a:lnTo>
                <a:lnTo>
                  <a:pt x="3706" y="1713"/>
                </a:lnTo>
                <a:lnTo>
                  <a:pt x="0" y="2097"/>
                </a:lnTo>
                <a:close/>
              </a:path>
            </a:pathLst>
          </a:custGeom>
          <a:solidFill>
            <a:srgbClr val="fee3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811080" y="2346480"/>
            <a:ext cx="7413840" cy="2361960"/>
          </a:xfrm>
          <a:custGeom>
            <a:avLst/>
            <a:gdLst/>
            <a:ahLst/>
            <a:rect l="l" t="t" r="r" b="b"/>
            <a:pathLst>
              <a:path w="3706" h="2097">
                <a:moveTo>
                  <a:pt x="0" y="2097"/>
                </a:moveTo>
                <a:lnTo>
                  <a:pt x="621" y="1651"/>
                </a:lnTo>
                <a:lnTo>
                  <a:pt x="1009" y="1204"/>
                </a:lnTo>
                <a:lnTo>
                  <a:pt x="1604" y="758"/>
                </a:lnTo>
                <a:lnTo>
                  <a:pt x="2354" y="376"/>
                </a:lnTo>
                <a:lnTo>
                  <a:pt x="3182" y="121"/>
                </a:lnTo>
                <a:lnTo>
                  <a:pt x="3703" y="0"/>
                </a:lnTo>
                <a:lnTo>
                  <a:pt x="3706" y="1713"/>
                </a:lnTo>
                <a:lnTo>
                  <a:pt x="0" y="2097"/>
                </a:lnTo>
                <a:close/>
              </a:path>
            </a:pathLst>
          </a:custGeom>
          <a:solidFill>
            <a:srgbClr val="feee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7960" y="420480"/>
            <a:ext cx="7459920" cy="75852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</a:t>
            </a:r>
            <a:br>
              <a:rPr sz="2200"/>
            </a:br>
            <a:r>
              <a:rPr b="0" lang="fr-FR" sz="2600" spc="-1" strike="noStrike">
                <a:solidFill>
                  <a:srgbClr val="ffffff"/>
                </a:solidFill>
                <a:latin typeface="FuturaA Bk BT"/>
              </a:rPr>
              <a:t>Grow Broadband services value </a:t>
            </a:r>
            <a:r>
              <a:rPr b="0" lang="fr-FR" sz="2600" spc="-1" strike="noStrike" u="sng">
                <a:solidFill>
                  <a:srgbClr val="ffffff"/>
                </a:solidFill>
                <a:uFillTx/>
                <a:latin typeface="FuturaA Bk BT"/>
              </a:rPr>
              <a:t>in three wave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23" name=""/>
          <p:cNvSpPr/>
          <p:nvPr/>
        </p:nvSpPr>
        <p:spPr>
          <a:xfrm>
            <a:off x="8170200" y="4768560"/>
            <a:ext cx="68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3520" y="2567160"/>
            <a:ext cx="6837480" cy="2120760"/>
          </a:xfrm>
          <a:custGeom>
            <a:avLst/>
            <a:gdLst/>
            <a:ahLst/>
            <a:rect l="l" t="t" r="r" b="b"/>
            <a:pathLst>
              <a:path w="870" h="198">
                <a:moveTo>
                  <a:pt x="0" y="198"/>
                </a:moveTo>
                <a:lnTo>
                  <a:pt x="144" y="156"/>
                </a:lnTo>
                <a:lnTo>
                  <a:pt x="234" y="114"/>
                </a:lnTo>
                <a:lnTo>
                  <a:pt x="372" y="72"/>
                </a:lnTo>
                <a:lnTo>
                  <a:pt x="546" y="36"/>
                </a:lnTo>
                <a:lnTo>
                  <a:pt x="738" y="12"/>
                </a:lnTo>
                <a:lnTo>
                  <a:pt x="870" y="0"/>
                </a:lnTo>
                <a:lnTo>
                  <a:pt x="870" y="162"/>
                </a:lnTo>
                <a:lnTo>
                  <a:pt x="0" y="198"/>
                </a:lnTo>
                <a:close/>
              </a:path>
            </a:pathLst>
          </a:custGeom>
          <a:solidFill>
            <a:srgbClr val="f39f6b"/>
          </a:solidFill>
          <a:ln w="0">
            <a:noFill/>
          </a:ln>
          <a:effectLst>
            <a:outerShdw dist="17819" dir="2700000" blurRad="0" rotWithShape="0">
              <a:srgbClr val="915f3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621400" y="2914560"/>
            <a:ext cx="2496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Business 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896760" y="3263760"/>
            <a:ext cx="7378920" cy="1428840"/>
          </a:xfrm>
          <a:custGeom>
            <a:avLst/>
            <a:gdLst/>
            <a:ahLst/>
            <a:rect l="l" t="t" r="r" b="b"/>
            <a:pathLst>
              <a:path w="4757" h="900">
                <a:moveTo>
                  <a:pt x="0" y="895"/>
                </a:moveTo>
                <a:lnTo>
                  <a:pt x="791" y="698"/>
                </a:lnTo>
                <a:lnTo>
                  <a:pt x="1288" y="490"/>
                </a:lnTo>
                <a:lnTo>
                  <a:pt x="2046" y="290"/>
                </a:lnTo>
                <a:lnTo>
                  <a:pt x="2999" y="129"/>
                </a:lnTo>
                <a:lnTo>
                  <a:pt x="4046" y="34"/>
                </a:lnTo>
                <a:lnTo>
                  <a:pt x="4757" y="0"/>
                </a:lnTo>
                <a:lnTo>
                  <a:pt x="4755" y="900"/>
                </a:lnTo>
                <a:lnTo>
                  <a:pt x="0" y="895"/>
                </a:lnTo>
                <a:close/>
              </a:path>
            </a:pathLst>
          </a:custGeom>
          <a:solidFill>
            <a:srgbClr val="95c0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5166000" y="3875040"/>
            <a:ext cx="2935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High Speed Internet ac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52880" y="1317600"/>
            <a:ext cx="3009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$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027080" y="4641840"/>
            <a:ext cx="816120" cy="50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435640" y="2224080"/>
            <a:ext cx="27082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A Bk BT"/>
              </a:rPr>
              <a:t>Residential Multimed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890640" y="4700520"/>
            <a:ext cx="7975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644640" y="3440160"/>
            <a:ext cx="21960" cy="130176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83560" y="4724280"/>
            <a:ext cx="721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FuturaA Bk BT"/>
              </a:rPr>
              <a:t>Tod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873000" y="1473120"/>
            <a:ext cx="0" cy="3260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46720" y="2230560"/>
            <a:ext cx="482760" cy="49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68480" y="1599480"/>
            <a:ext cx="57736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57200" indent="-45720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Address new audiences (PC, TV, console) with new services (gaming, personal communication, content sha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54000" y="3485160"/>
            <a:ext cx="19735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Move aggressively into H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1852200" y="4111560"/>
            <a:ext cx="1800" cy="495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970440" y="3033720"/>
            <a:ext cx="530280" cy="546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939960" y="2404080"/>
            <a:ext cx="387504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Build on existing infrastructure &amp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A Bk BT"/>
              </a:rPr>
              <a:t>start with underserved SOHO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09640" y="5140440"/>
            <a:ext cx="6197760" cy="89676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Observed timeframe to generate positive con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For an incremental Consumer: 12 to 14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0240" indent="-203040">
              <a:lnSpc>
                <a:spcPct val="95000"/>
              </a:lnSpc>
              <a:spcBef>
                <a:spcPts val="400"/>
              </a:spcBef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For an incremental Business subscriber: 4 to 6 month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11200" y="409680"/>
            <a:ext cx="86328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118800" tIns="8244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ffffff"/>
                </a:solidFill>
                <a:latin typeface="FuturaA Bk BT"/>
              </a:rPr>
              <a:t>Market perspective for Broadband NGN</a:t>
            </a: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 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FuturaA Bk BT"/>
              </a:rPr>
              <a:t>Raising Managed Communications for Small businesses</a:t>
            </a:r>
            <a:endParaRPr b="0" lang="en-US" sz="2600" spc="-1" strike="noStrike">
              <a:solidFill>
                <a:srgbClr val="ffffff"/>
              </a:solidFill>
              <a:latin typeface="FuturaA Bk BT"/>
            </a:endParaRPr>
          </a:p>
        </p:txBody>
      </p:sp>
      <p:sp>
        <p:nvSpPr>
          <p:cNvPr id="343" name=""/>
          <p:cNvSpPr/>
          <p:nvPr/>
        </p:nvSpPr>
        <p:spPr>
          <a:xfrm>
            <a:off x="398520" y="1400040"/>
            <a:ext cx="1935000" cy="48924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End-user seg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668920" y="1400040"/>
            <a:ext cx="3264120" cy="48924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832120" y="1400040"/>
            <a:ext cx="2378160" cy="489240"/>
          </a:xfrm>
          <a:prstGeom prst="rect">
            <a:avLst/>
          </a:prstGeom>
          <a:gradFill rotWithShape="0">
            <a:gsLst>
              <a:gs pos="0">
                <a:srgbClr val="5e0017"/>
              </a:gs>
              <a:gs pos="50000">
                <a:srgbClr val="cc0033"/>
              </a:gs>
              <a:gs pos="100000">
                <a:srgbClr val="5e00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9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65120" y="3745080"/>
            <a:ext cx="7527960" cy="0"/>
          </a:xfrm>
          <a:prstGeom prst="line">
            <a:avLst/>
          </a:prstGeom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31920" y="2492280"/>
            <a:ext cx="206856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63360" bIns="6336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Full hosting seek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(45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97360" y="2004840"/>
            <a:ext cx="2373480" cy="15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sted IP PB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eb call cen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Web ho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Hosted messag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IP Videoconfer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E-comme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 rot="16200000">
            <a:off x="1915560" y="2708280"/>
            <a:ext cx="1395360" cy="2142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V="1" rot="16200000">
            <a:off x="4770000" y="2708280"/>
            <a:ext cx="1395360" cy="21420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0">
            <a:noFill/>
          </a:ln>
          <a:effectLst>
            <a:outerShdw dist="17819" dir="2700000" blurRad="0" rotWithShape="0">
              <a:srgbClr val="5b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6000" rIns="36000" tIns="35280" bIns="35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608040" y="5051520"/>
            <a:ext cx="7441920" cy="962640"/>
            <a:chOff x="608040" y="5051520"/>
            <a:chExt cx="7441920" cy="962640"/>
          </a:xfrm>
        </p:grpSpPr>
        <p:sp>
          <p:nvSpPr>
            <p:cNvPr id="352" name=""/>
            <p:cNvSpPr/>
            <p:nvPr/>
          </p:nvSpPr>
          <p:spPr>
            <a:xfrm>
              <a:off x="608040" y="5181480"/>
              <a:ext cx="151740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Conservativ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(25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697000" y="5211720"/>
              <a:ext cx="23529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Traditional vo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High Speed 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 rot="16200000">
              <a:off x="2116800" y="5441040"/>
              <a:ext cx="952560" cy="1731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 rot="16200000">
              <a:off x="4969800" y="5441040"/>
              <a:ext cx="952560" cy="1731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18880" y="5211720"/>
              <a:ext cx="220716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Average access needs - no real leading serv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65120" y="3914640"/>
            <a:ext cx="7578360" cy="1063800"/>
            <a:chOff x="465120" y="3914640"/>
            <a:chExt cx="7578360" cy="1063800"/>
          </a:xfrm>
        </p:grpSpPr>
        <p:sp>
          <p:nvSpPr>
            <p:cNvPr id="358" name=""/>
            <p:cNvSpPr/>
            <p:nvPr/>
          </p:nvSpPr>
          <p:spPr>
            <a:xfrm>
              <a:off x="696240" y="4081320"/>
              <a:ext cx="1339920" cy="61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3360" rIns="63360" tIns="63360" bIns="633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Network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(30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697720" y="3986280"/>
              <a:ext cx="2345760" cy="80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IP &amp; Voice VP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Web call cen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184320" indent="-184320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IP Videoconferenc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 rot="16200000">
              <a:off x="2117160" y="4304160"/>
              <a:ext cx="952560" cy="1731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65120" y="4978440"/>
              <a:ext cx="7555320" cy="0"/>
            </a:xfrm>
            <a:prstGeom prst="line">
              <a:avLst/>
            </a:prstGeom>
            <a:ln w="28440">
              <a:solidFill>
                <a:srgbClr val="9933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 rot="16200000">
              <a:off x="4970520" y="4304160"/>
              <a:ext cx="952560" cy="173160"/>
            </a:xfrm>
            <a:prstGeom prst="triangle">
              <a:avLst>
                <a:gd name="adj" fmla="val 50000"/>
              </a:avLst>
            </a:prstGeom>
            <a:solidFill>
              <a:srgbClr val="993300"/>
            </a:solidFill>
            <a:ln w="0">
              <a:noFill/>
            </a:ln>
            <a:effectLst>
              <a:outerShdw dist="17819" dir="2700000" blurRad="0" rotWithShape="0">
                <a:srgbClr val="5b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6000" rIns="36000" tIns="21600" bIns="21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49760" y="4108320"/>
              <a:ext cx="234576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Remote worker or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Multi site &amp; remot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862360" y="2519280"/>
            <a:ext cx="2292120" cy="5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600" spc="-1" strike="noStrike">
                <a:solidFill>
                  <a:srgbClr val="000000"/>
                </a:solidFill>
                <a:latin typeface="Arial"/>
              </a:rPr>
              <a:t>Stronger interest in turn-key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-196200" y="6176160"/>
            <a:ext cx="2427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63360" bIns="63360" anchor="b">
            <a:spAutoFit/>
          </a:bodyPr>
          <a:p>
            <a:pPr marL="235080" indent="-235080">
              <a:lnSpc>
                <a:spcPct val="90000"/>
              </a:lnSpc>
              <a:tabLst>
                <a:tab algn="l" pos="0"/>
                <a:tab algn="l" pos="378000"/>
                <a:tab algn="l" pos="53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FuturaA Bk BT"/>
              </a:rPr>
              <a:t>Source: Alcatel  end-users analys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8102520" y="2039760"/>
            <a:ext cx="685800" cy="3910320"/>
            <a:chOff x="8102520" y="2039760"/>
            <a:chExt cx="685800" cy="3910320"/>
          </a:xfrm>
        </p:grpSpPr>
        <p:sp>
          <p:nvSpPr>
            <p:cNvPr id="367" name=""/>
            <p:cNvSpPr/>
            <p:nvPr/>
          </p:nvSpPr>
          <p:spPr>
            <a:xfrm>
              <a:off x="8102520" y="2039760"/>
              <a:ext cx="139680" cy="391032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101880 h 3910320"/>
                <a:gd name="textAreaBottom" fmla="*/ 3808440 h 391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5400000">
              <a:off x="7021440" y="3855960"/>
              <a:ext cx="3217680" cy="31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marL="184320" indent="-18432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AU" sz="1600" spc="-1" strike="noStrike">
                  <a:solidFill>
                    <a:srgbClr val="000000"/>
                  </a:solidFill>
                  <a:latin typeface="Arial"/>
                </a:rPr>
                <a:t>Security &amp; mobile offi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09:06:28Z</dcterms:created>
  <dc:creator>Jean-Pierre Lartigue</dc:creator>
  <dc:description/>
  <dc:language>en-US</dc:language>
  <cp:lastModifiedBy>androucv</cp:lastModifiedBy>
  <dcterms:modified xsi:type="dcterms:W3CDTF">2003-07-08T12:34:21Z</dcterms:modified>
  <cp:revision>67</cp:revision>
  <dc:subject/>
  <dc:title>Introduction to NGN BB services Summary presentation</dc:title>
</cp:coreProperties>
</file>