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12680" y="725400"/>
            <a:ext cx="483264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592160"/>
            <a:ext cx="50292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918324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5840" y="918324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A2E5-2828-4F9C-85EF-F457E5AE5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063800" y="746280"/>
            <a:ext cx="4779720" cy="35845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0240" y="4628880"/>
            <a:ext cx="50436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（変更点）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全面的に変更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063800" y="746280"/>
            <a:ext cx="4779720" cy="358452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30240" y="4628880"/>
            <a:ext cx="50436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rebuchet MS"/>
              </a:rPr>
              <a:t>（変更点）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rebuchet MS"/>
              </a:rPr>
              <a:t>①</a:t>
            </a:r>
            <a:r>
              <a:rPr b="0" lang="ja-JP" sz="1000" spc="-1" strike="noStrike">
                <a:solidFill>
                  <a:srgbClr val="000000"/>
                </a:solidFill>
                <a:latin typeface="Trebuchet MS"/>
              </a:rPr>
              <a:t>スライドの下の部分に以下の記述があったが、削除。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rebuchet MS"/>
              </a:rPr>
              <a:t>今後の見通し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rebuchet MS"/>
              </a:rPr>
              <a:t>・固定電話の収益減は今後も続く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rebuchet MS"/>
              </a:rPr>
              <a:t>・携帯の収益が全体を支えてきたが、ここにきて飽和状態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rebuchet MS"/>
              </a:rPr>
              <a:t>②</a:t>
            </a:r>
            <a:r>
              <a:rPr b="0" lang="ja-JP" sz="1000" spc="-1" strike="noStrike">
                <a:solidFill>
                  <a:srgbClr val="000000"/>
                </a:solidFill>
                <a:latin typeface="Trebuchet MS"/>
              </a:rPr>
              <a:t>グラフの単位を変更（十億円→兆円）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063800" y="746280"/>
            <a:ext cx="4779720" cy="358452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30240" y="4628880"/>
            <a:ext cx="50436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（変更点）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３つあった噴出しのうち１つ（遠隔コントロールサービスの</a:t>
            </a: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PI</a:t>
            </a: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の標準化）を削除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　それに伴なって、図の中で関連する部分を削除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右上の噴出し内の文章を変更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　遠隔設定、アプリケーションバージョンアップ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　↓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rebuchet MS"/>
              </a:rPr>
              <a:t>　遠隔設定、ファームのダウンロードとアプリケーションバージョンアップ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7FEF-68C4-4B31-AF14-DAEAD5E3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9E1D-AAB7-47BB-B5F0-632007B8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D840-EBD0-455C-B330-4799EB44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527D-40AC-4E54-A039-96FF042D0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1BFD0D-E48C-45CF-859A-B7489CF247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5DB9E-20E7-49F4-A437-1D8F2E2DBF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7B129-DE0B-4E77-8051-49F8943BE7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A1FDE0-9B61-47A0-BF02-8F35C24040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B3EBC-0540-4EF0-8D2A-30FDC6B249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6160" y="25668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FE5361-34B6-4DE5-9291-12A72FE98C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B89C82-65AE-434F-8966-6465B1CE39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D80F-12EB-4D92-AF34-D6DCC1A7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22F5E-9540-4091-B5F4-B00FF357187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9E71A0-C147-4DCD-8BA8-64B983A860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A209D-2A40-48D9-B6A4-4F1CCDB8E6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091A2-8958-4927-B645-B271859D80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6900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05560" y="198288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3208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6900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05560" y="4132440"/>
            <a:ext cx="2415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4AF15-B27C-464E-8823-8B9E5E322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1601D-D17C-461D-A3F1-F64A2D8C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D78C-AFB3-492E-9A52-99980EF7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D6B5-949C-4C66-A7F7-BA005A88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406160" y="256680"/>
            <a:ext cx="7553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C086-3CDA-452B-AE1B-A52A0672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24B5-99F5-471D-8CE7-80D5B4A0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76520" y="413244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238A-2F35-457F-80EE-A09565D8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208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6520" y="1982880"/>
            <a:ext cx="3660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2080" y="4132440"/>
            <a:ext cx="750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3D557-68E0-4207-92DE-84480D19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2080" y="1982880"/>
            <a:ext cx="750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64E9-C181-44D0-B7E1-40EA4DA6B39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222200" cy="6882840"/>
            <a:chOff x="0" y="0"/>
            <a:chExt cx="1222200" cy="6882840"/>
          </a:xfrm>
        </p:grpSpPr>
        <p:sp>
          <p:nvSpPr>
            <p:cNvPr id="4" name=""/>
            <p:cNvSpPr/>
            <p:nvPr/>
          </p:nvSpPr>
          <p:spPr>
            <a:xfrm>
              <a:off x="0" y="1257480"/>
              <a:ext cx="122220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" name="itulogo-en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22220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Trebuchet MS"/>
              </a:rPr>
              <a:t>9-10 July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829880" y="6565680"/>
            <a:ext cx="6705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Workshop on Next Generation Networks: What, When &amp;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logo-en" descr=""/>
          <p:cNvPicPr/>
          <p:nvPr/>
        </p:nvPicPr>
        <p:blipFill>
          <a:blip r:embed="rId3"/>
          <a:srcRect l="12710" t="0" r="17799" b="0"/>
          <a:stretch/>
        </p:blipFill>
        <p:spPr>
          <a:xfrm>
            <a:off x="0" y="0"/>
            <a:ext cx="1219320" cy="129384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-141120" y="1074600"/>
            <a:ext cx="15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U-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4"/>
          </p:nvPr>
        </p:nvSpPr>
        <p:spPr>
          <a:xfrm>
            <a:off x="6989760" y="6203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CFB32A31-E2BB-46B1-B52D-F9E61409FD2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35080" y="6219720"/>
            <a:ext cx="582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Workshop on Next Generation Networks: What, When &amp; H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Geneva, 9-10 July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8.wmf"/><Relationship Id="rId5" Type="http://schemas.openxmlformats.org/officeDocument/2006/relationships/image" Target="../media/image6.png"/><Relationship Id="rId6" Type="http://schemas.openxmlformats.org/officeDocument/2006/relationships/image" Target="../media/image8.wmf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wmf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7.wmf"/><Relationship Id="rId1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8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342800"/>
            <a:ext cx="913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f1ff"/>
                </a:solidFill>
                <a:latin typeface="Trebuchet MS"/>
              </a:rPr>
              <a:t>Resonant Communication Network Architecture</a:t>
            </a:r>
            <a:br>
              <a:rPr sz="4400"/>
            </a:br>
            <a:br>
              <a:rPr sz="4000"/>
            </a:br>
            <a:r>
              <a:rPr b="1" lang="en-US" sz="2800" spc="-1" strike="noStrike">
                <a:solidFill>
                  <a:srgbClr val="c5f1ff"/>
                </a:solidFill>
                <a:latin typeface="Trebuchet MS"/>
              </a:rPr>
              <a:t>NTT’s Plans for NGN and Proposals for the Areas</a:t>
            </a:r>
            <a:br>
              <a:rPr sz="2800"/>
            </a:br>
            <a:r>
              <a:rPr b="1" lang="en-US" sz="2800" spc="-1" strike="noStrike">
                <a:solidFill>
                  <a:srgbClr val="c5f1ff"/>
                </a:solidFill>
                <a:latin typeface="Trebuchet MS"/>
              </a:rPr>
              <a:t> of Standardization</a:t>
            </a:r>
            <a:br>
              <a:rPr sz="2800"/>
            </a:br>
            <a:endParaRPr b="1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20720" y="451332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5f1ff"/>
                </a:solidFill>
                <a:latin typeface="Trebuchet MS"/>
              </a:rPr>
              <a:t>Takashi Hanazawa</a:t>
            </a:r>
            <a:endParaRPr b="0" lang="en-US" sz="32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f1ff"/>
                </a:solidFill>
                <a:latin typeface="Trebuchet MS"/>
              </a:rPr>
              <a:t>Nippon Telegraph and Telephone Corporation</a:t>
            </a:r>
            <a:endParaRPr b="0" lang="en-US" sz="24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1833480" y="3429000"/>
            <a:ext cx="6807240" cy="3019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fefe9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921040" y="5197320"/>
            <a:ext cx="462420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743200" y="5398920"/>
            <a:ext cx="4734000" cy="965520"/>
          </a:xfrm>
          <a:prstGeom prst="cube">
            <a:avLst>
              <a:gd name="adj" fmla="val 14606"/>
            </a:avLst>
          </a:prstGeom>
          <a:gradFill rotWithShape="0">
            <a:gsLst>
              <a:gs pos="0">
                <a:srgbClr val="66ff6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59160" y="4973760"/>
            <a:ext cx="2252880" cy="38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330960" y="4052880"/>
            <a:ext cx="1828800" cy="8683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25840" y="4052880"/>
            <a:ext cx="1832040" cy="8683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T’s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519280" y="4052880"/>
            <a:ext cx="1835280" cy="868320"/>
          </a:xfrm>
          <a:prstGeom prst="rect">
            <a:avLst/>
          </a:prstGeom>
          <a:solidFill>
            <a:srgbClr val="66ff66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-part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98880" y="575928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softwar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75080" y="342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712880" y="1292400"/>
            <a:ext cx="6939000" cy="1882440"/>
          </a:xfrm>
          <a:prstGeom prst="rect">
            <a:avLst/>
          </a:prstGeom>
          <a:solidFill>
            <a:srgbClr val="ff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en API for network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ive development of new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third-party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le operation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twork softwar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exible platform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dor-independ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90480" y="4312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etwork Softwar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3" name=""/>
          <p:cNvSpPr/>
          <p:nvPr/>
        </p:nvSpPr>
        <p:spPr>
          <a:xfrm>
            <a:off x="855720" y="0"/>
            <a:ext cx="54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Desired standardization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90A2-1A5A-414B-9849-7AB263FE96FC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7D209F5-BF37-4FE7-A7AC-DAD89F220C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clus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5" name=""/>
          <p:cNvSpPr/>
          <p:nvPr/>
        </p:nvSpPr>
        <p:spPr>
          <a:xfrm>
            <a:off x="1163520" y="1341360"/>
            <a:ext cx="80089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900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d the radically evolving telecommunication industry environment, NTT places its business priority on “building broadband and ubiquitous network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T R&amp;D continues to develop network services with the most advanced technology available, incorporating bo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 j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e fac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9000" indent="-189000">
              <a:lnSpc>
                <a:spcPct val="11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T has a vast amount of accumulated know-how and experience, and firmly intends to make the most of these assets in pursuing its R&amp;D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512E4-FACE-420C-AAE9-BCA6CA76D54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4C2E545-C56A-4002-9501-F9BA208E3C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TT's Operating Revenu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71520" y="1492200"/>
          <a:ext cx="5046480" cy="482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1492200"/>
                    <a:ext cx="504648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230480" y="1263600"/>
            <a:ext cx="15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llion y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3400" y="3795840"/>
            <a:ext cx="25812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13400" y="5321160"/>
            <a:ext cx="26146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76000" y="1092240"/>
            <a:ext cx="405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ecrease in revenue from 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32360" y="509580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ISPs have started IP phone services in the last few ye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32360" y="3552840"/>
            <a:ext cx="300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8%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estic) and 37% (int’l) drop in prices from 1998 to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32360" y="2152800"/>
            <a:ext cx="27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80%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users from 1998 to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11880" y="1670040"/>
            <a:ext cx="36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read of cellular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09000" y="467676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of IP 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07920" y="3102120"/>
            <a:ext cx="31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mpe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E046B-8E15-401B-9450-F64408D219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B2EE3AE-AE94-485F-9C90-A7F0EB093D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Broadband Services in Japa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20480" y="1273320"/>
            <a:ext cx="220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ousand subscrib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6920" y="587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75000" y="587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52960" y="5873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322280" y="1079640"/>
          <a:ext cx="7683480" cy="53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2280" y="1079640"/>
                    <a:ext cx="7683480" cy="53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 rot="16200000">
            <a:off x="76320" y="3552120"/>
            <a:ext cx="29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subscri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87D9-DDA0-42D8-9D11-ABAEFA518BF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437D080E-8126-4834-BB20-4B7BD13605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TT’s “Vision for a New Optical Generation”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085760" y="4633920"/>
            <a:ext cx="8058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ai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58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a carrier to provide added value to the broadban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ubiquitous network environment, by network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585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create a rich variety of new services and business opportunities that capitalize on such feat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5440" y="1376280"/>
            <a:ext cx="7956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&lt;Broadband leading to the worl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sonant communicati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 the new-generation communications</a:t>
            </a:r>
            <a:r>
              <a:rPr b="1" lang="ja-JP" sz="2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vironment, people, as well as companies and other groups in society, wi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become “interactive,” using broadba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be connected by a ubiquitous network, “anytime, anywhere and with anyone or anyth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enjoy superior usability that is “secure, reliable and simpl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B629-488A-4D1E-A8DE-952FD6C5A47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CE6E3BE-B333-4979-8B7F-EAD5178969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00160" y="1138320"/>
            <a:ext cx="8120160" cy="54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nteractive end-to-end communica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12760">
              <a:lnSpc>
                <a:spcPct val="80000"/>
              </a:lnSpc>
              <a:buClr>
                <a:srgbClr val="3399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versification in service features, such as security, service level guarantees, and presence inform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12760">
              <a:lnSpc>
                <a:spcPct val="80000"/>
              </a:lnSpc>
              <a:buClr>
                <a:srgbClr val="3399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netration of easy-to-use terminals is a key 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12760">
              <a:lnSpc>
                <a:spcPct val="80000"/>
              </a:lnSpc>
              <a:buClr>
                <a:srgbClr val="3399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means of communication that will replace telephony in the fut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Video deliver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12760">
              <a:lnSpc>
                <a:spcPct val="80000"/>
              </a:lnSpc>
              <a:buClr>
                <a:srgbClr val="3399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ropriate business models are being explored which take account of copyright issu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12760">
              <a:lnSpc>
                <a:spcPct val="80000"/>
              </a:lnSpc>
              <a:buClr>
                <a:srgbClr val="3399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mid the convergence between telecommunications and broadcasting, and in light of the soon-to-start digital terrestrial b/c, the b/c industry is highly interested. Potential demand is cert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Virtual Private Network (VPN)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12760">
              <a:lnSpc>
                <a:spcPct val="80000"/>
              </a:lnSpc>
              <a:buClr>
                <a:srgbClr val="3399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diversification of means of network access, and the need for flexible network configuration have made highly value-added VPN a key to differenti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3399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nformation home appliance control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12760">
              <a:lnSpc>
                <a:spcPct val="80000"/>
              </a:lnSpc>
              <a:buClr>
                <a:srgbClr val="3399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spread use of cellular phones and PDAs allows users to be always connec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12760">
              <a:lnSpc>
                <a:spcPct val="80000"/>
              </a:lnSpc>
              <a:buClr>
                <a:srgbClr val="3399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l targets are remote control of home appliances and home securit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12760">
              <a:lnSpc>
                <a:spcPct val="80000"/>
              </a:lnSpc>
              <a:buClr>
                <a:srgbClr val="3399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ture targets include diverse services using RFID tags and various senso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6160" y="12816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Network services envisaged for the NG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2251-026E-41C1-AC7D-42FFAB0DB52A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EB58AA27-4BB6-40A9-A552-196C9A9EC7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689280" y="5959440"/>
            <a:ext cx="82224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X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72160" y="5918040"/>
            <a:ext cx="82368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13320" y="6194520"/>
            <a:ext cx="82368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ffser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30520" y="2662200"/>
            <a:ext cx="5505480" cy="24242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27320" y="3193920"/>
            <a:ext cx="2468520" cy="1758960"/>
          </a:xfrm>
          <a:custGeom>
            <a:avLst/>
            <a:gdLst/>
            <a:ahLst/>
            <a:rect l="l" t="t" r="r" b="b"/>
            <a:pathLst>
              <a:path w="1776" h="1152">
                <a:moveTo>
                  <a:pt x="192" y="0"/>
                </a:moveTo>
                <a:lnTo>
                  <a:pt x="0" y="480"/>
                </a:lnTo>
                <a:lnTo>
                  <a:pt x="144" y="480"/>
                </a:lnTo>
                <a:lnTo>
                  <a:pt x="144" y="1152"/>
                </a:lnTo>
                <a:lnTo>
                  <a:pt x="1632" y="1152"/>
                </a:lnTo>
                <a:lnTo>
                  <a:pt x="1632" y="480"/>
                </a:lnTo>
                <a:lnTo>
                  <a:pt x="1776" y="480"/>
                </a:lnTo>
                <a:lnTo>
                  <a:pt x="1632" y="0"/>
                </a:lnTo>
                <a:lnTo>
                  <a:pt x="192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78080" y="4289400"/>
            <a:ext cx="195120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16280" y="272556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Resonant Communicat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688920" y="4305240"/>
            <a:ext cx="466920" cy="1227240"/>
          </a:xfrm>
          <a:prstGeom prst="line">
            <a:avLst/>
          </a:prstGeom>
          <a:ln w="28440">
            <a:solidFill>
              <a:srgbClr val="ff669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2065320" y="3820680"/>
            <a:ext cx="907920" cy="3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2184480" y="4215960"/>
            <a:ext cx="80640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114280" y="4253040"/>
            <a:ext cx="83484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781280" y="4462560"/>
            <a:ext cx="371520" cy="398160"/>
            <a:chOff x="1781280" y="4462560"/>
            <a:chExt cx="371520" cy="398160"/>
          </a:xfrm>
        </p:grpSpPr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901160" y="4554720"/>
              <a:ext cx="251640" cy="306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1781280" y="4462560"/>
              <a:ext cx="298080" cy="230760"/>
              <a:chOff x="1781280" y="4462560"/>
              <a:chExt cx="298080" cy="230760"/>
            </a:xfrm>
          </p:grpSpPr>
          <p:sp>
            <p:nvSpPr>
              <p:cNvPr id="138" name=""/>
              <p:cNvSpPr/>
              <p:nvPr/>
            </p:nvSpPr>
            <p:spPr>
              <a:xfrm>
                <a:off x="1902600" y="4556520"/>
                <a:ext cx="55080" cy="4284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874520" y="4534560"/>
                <a:ext cx="111600" cy="86400"/>
              </a:xfrm>
              <a:prstGeom prst="ellipse">
                <a:avLst/>
              </a:prstGeom>
              <a:noFill/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1960" y="4493880"/>
                <a:ext cx="216720" cy="167760"/>
              </a:xfrm>
              <a:prstGeom prst="ellipse">
                <a:avLst/>
              </a:prstGeom>
              <a:noFill/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848960" y="4514760"/>
                <a:ext cx="162720" cy="126000"/>
              </a:xfrm>
              <a:prstGeom prst="ellipse">
                <a:avLst/>
              </a:prstGeom>
              <a:noFill/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81280" y="4462560"/>
                <a:ext cx="298080" cy="230760"/>
              </a:xfrm>
              <a:prstGeom prst="ellipse">
                <a:avLst/>
              </a:prstGeom>
              <a:noFill/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" name=""/>
          <p:cNvSpPr/>
          <p:nvPr/>
        </p:nvSpPr>
        <p:spPr>
          <a:xfrm flipH="1" flipV="1">
            <a:off x="2068200" y="3435120"/>
            <a:ext cx="95076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01800" y="3297240"/>
            <a:ext cx="157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premi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822400" y="3774960"/>
            <a:ext cx="506520" cy="722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893960" y="3317760"/>
            <a:ext cx="458640" cy="319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726280" y="44845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G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55880" y="6194520"/>
            <a:ext cx="82404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02040" y="1600200"/>
            <a:ext cx="124128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16520" y="6262560"/>
            <a:ext cx="82224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02320" y="6126120"/>
            <a:ext cx="82224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Cloud"/>
          <p:cNvSpPr/>
          <p:nvPr/>
        </p:nvSpPr>
        <p:spPr>
          <a:xfrm>
            <a:off x="4471920" y="3960720"/>
            <a:ext cx="3449880" cy="727200"/>
          </a:xfrm>
          <a:prstGeom prst="pie">
            <a:avLst/>
          </a:prstGeom>
          <a:gradFill rotWithShape="0">
            <a:gsLst>
              <a:gs pos="0">
                <a:srgbClr val="cbf3fe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13520" y="40593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893960" y="4046400"/>
          <a:ext cx="484200" cy="33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93960" y="4046400"/>
                    <a:ext cx="484200" cy="3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1893960" y="3728880"/>
            <a:ext cx="314280" cy="198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H="1" flipV="1">
            <a:off x="6029280" y="4456080"/>
            <a:ext cx="852480" cy="1052640"/>
          </a:xfrm>
          <a:prstGeom prst="line">
            <a:avLst/>
          </a:prstGeom>
          <a:ln w="28440">
            <a:solidFill>
              <a:srgbClr val="ff669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529080" y="4435560"/>
            <a:ext cx="1700280" cy="1006560"/>
          </a:xfrm>
          <a:prstGeom prst="line">
            <a:avLst/>
          </a:prstGeom>
          <a:ln w="28440">
            <a:solidFill>
              <a:srgbClr val="ff669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395440" y="5275440"/>
            <a:ext cx="2718000" cy="572760"/>
          </a:xfrm>
          <a:prstGeom prst="rect">
            <a:avLst/>
          </a:prstGeom>
          <a:solidFill>
            <a:srgbClr val="ff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00080" indent="-100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High-speed, high-capacity, 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88120" y="5987880"/>
            <a:ext cx="82224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s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736040" y="5783400"/>
            <a:ext cx="82368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bile 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10360" y="5508720"/>
            <a:ext cx="82260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84680" y="5275440"/>
            <a:ext cx="2256120" cy="556920"/>
          </a:xfrm>
          <a:prstGeom prst="rect">
            <a:avLst/>
          </a:prstGeom>
          <a:solidFill>
            <a:srgbClr val="ff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6840" indent="-968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End-to-end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00240" y="6126120"/>
            <a:ext cx="82260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P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5783400"/>
            <a:ext cx="82224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WD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90760" y="5508720"/>
            <a:ext cx="82368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W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53960" y="5234040"/>
            <a:ext cx="82260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-P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54240" y="4959360"/>
            <a:ext cx="82224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-P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17000" y="5234040"/>
            <a:ext cx="822240" cy="342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3280" y="3786120"/>
            <a:ext cx="95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892760" y="3346560"/>
            <a:ext cx="2332080" cy="631800"/>
          </a:xfrm>
          <a:prstGeom prst="can">
            <a:avLst>
              <a:gd name="adj" fmla="val 28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95800" y="3505320"/>
            <a:ext cx="1978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/network control plat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124240" y="2292120"/>
            <a:ext cx="865080" cy="1158840"/>
          </a:xfrm>
          <a:prstGeom prst="line">
            <a:avLst/>
          </a:prstGeom>
          <a:ln w="28440">
            <a:solidFill>
              <a:srgbClr val="ff6699">
                <a:alpha val="50000"/>
              </a:srgbClr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14720" y="2044800"/>
            <a:ext cx="2125800" cy="390600"/>
          </a:xfrm>
          <a:prstGeom prst="rect">
            <a:avLst/>
          </a:prstGeom>
          <a:solidFill>
            <a:srgbClr val="ff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6840" indent="-96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6160" y="2566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Verdana"/>
              </a:rPr>
              <a:t>RENA</a:t>
            </a:r>
            <a:br>
              <a:rPr sz="3600"/>
            </a:b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Re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sonant Communication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N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etwork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A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Verdana"/>
              </a:rPr>
              <a:t>rchitecture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4282920" y="1601640"/>
            <a:ext cx="145116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53080" y="1795320"/>
            <a:ext cx="124164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75480" y="1600200"/>
            <a:ext cx="1241280" cy="343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3C0A9-9C44-4F67-B930-EEA188C6A2D9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8773EEB-DCEF-473C-95A1-6D90BF49A6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21840" y="25668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mportant standardization area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1635120" y="3000240"/>
            <a:ext cx="4411800" cy="2737080"/>
          </a:xfrm>
          <a:prstGeom prst="roundRect">
            <a:avLst>
              <a:gd name="adj" fmla="val 489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Cloud"/>
          <p:cNvSpPr/>
          <p:nvPr/>
        </p:nvSpPr>
        <p:spPr>
          <a:xfrm>
            <a:off x="2332080" y="3994200"/>
            <a:ext cx="3105000" cy="1120680"/>
          </a:xfrm>
          <a:prstGeom prst="pie">
            <a:avLst/>
          </a:prstGeom>
          <a:gradFill rotWithShape="0">
            <a:gsLst>
              <a:gs pos="0">
                <a:srgbClr val="cbf3fe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8320" y="4164120"/>
            <a:ext cx="14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r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55800" y="1249200"/>
            <a:ext cx="2637000" cy="9604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95840" y="1539720"/>
            <a:ext cx="422280" cy="238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56040" y="1544760"/>
            <a:ext cx="423720" cy="236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98920" y="1530360"/>
            <a:ext cx="422280" cy="237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73680" y="1874880"/>
            <a:ext cx="423720" cy="237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60880" y="1203480"/>
            <a:ext cx="1293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formation home applianc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38440" y="1203480"/>
            <a:ext cx="1065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llab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6760" y="1203480"/>
            <a:ext cx="820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ircu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95800" y="1874880"/>
            <a:ext cx="425160" cy="237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754675"/>
              </a:gs>
              <a:gs pos="50000">
                <a:srgbClr val="ff99ff"/>
              </a:gs>
              <a:gs pos="100000">
                <a:srgbClr val="75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89280" y="1828800"/>
            <a:ext cx="641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earch eng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80840" y="19432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00360" y="4543560"/>
            <a:ext cx="4116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719440" y="4405320"/>
            <a:ext cx="452160" cy="232920"/>
            <a:chOff x="2719440" y="4405320"/>
            <a:chExt cx="452160" cy="232920"/>
          </a:xfrm>
        </p:grpSpPr>
        <p:sp>
          <p:nvSpPr>
            <p:cNvPr id="196" name=""/>
            <p:cNvSpPr/>
            <p:nvPr/>
          </p:nvSpPr>
          <p:spPr>
            <a:xfrm>
              <a:off x="2719440" y="4502880"/>
              <a:ext cx="452160" cy="135360"/>
            </a:xfrm>
            <a:prstGeom prst="ellipse">
              <a:avLst/>
            </a:prstGeom>
            <a:solidFill>
              <a:srgbClr val="6633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719440" y="4474440"/>
              <a:ext cx="448920" cy="97560"/>
            </a:xfrm>
            <a:custGeom>
              <a:avLst/>
              <a:gdLst/>
              <a:ahLst/>
              <a:rect l="l" t="t" r="r" b="b"/>
              <a:pathLst>
                <a:path w="336" h="114">
                  <a:moveTo>
                    <a:pt x="0" y="0"/>
                  </a:moveTo>
                  <a:lnTo>
                    <a:pt x="0" y="114"/>
                  </a:lnTo>
                  <a:lnTo>
                    <a:pt x="336" y="114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19440" y="4474440"/>
              <a:ext cx="448920" cy="97560"/>
            </a:xfrm>
            <a:custGeom>
              <a:avLst/>
              <a:gdLst/>
              <a:ahLst/>
              <a:rect l="l" t="t" r="r" b="b"/>
              <a:pathLst>
                <a:path w="336" h="114">
                  <a:moveTo>
                    <a:pt x="0" y="0"/>
                  </a:moveTo>
                  <a:lnTo>
                    <a:pt x="0" y="114"/>
                  </a:lnTo>
                  <a:lnTo>
                    <a:pt x="336" y="114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19440" y="4405320"/>
              <a:ext cx="452160" cy="138240"/>
            </a:xfrm>
            <a:prstGeom prst="ellipse">
              <a:avLst/>
            </a:prstGeom>
            <a:solidFill>
              <a:srgbClr val="cc99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49480" y="4425480"/>
              <a:ext cx="146520" cy="4104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39"/>
                  </a:moveTo>
                  <a:lnTo>
                    <a:pt x="24" y="50"/>
                  </a:lnTo>
                  <a:lnTo>
                    <a:pt x="84" y="16"/>
                  </a:lnTo>
                  <a:lnTo>
                    <a:pt x="110" y="27"/>
                  </a:lnTo>
                  <a:lnTo>
                    <a:pt x="96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49480" y="4425480"/>
              <a:ext cx="146520" cy="4104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39"/>
                  </a:moveTo>
                  <a:lnTo>
                    <a:pt x="24" y="50"/>
                  </a:lnTo>
                  <a:lnTo>
                    <a:pt x="84" y="16"/>
                  </a:lnTo>
                  <a:lnTo>
                    <a:pt x="110" y="27"/>
                  </a:lnTo>
                  <a:lnTo>
                    <a:pt x="96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88920" y="4474440"/>
              <a:ext cx="147240" cy="4572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110" y="13"/>
                  </a:moveTo>
                  <a:lnTo>
                    <a:pt x="86" y="0"/>
                  </a:lnTo>
                  <a:lnTo>
                    <a:pt x="28" y="34"/>
                  </a:lnTo>
                  <a:lnTo>
                    <a:pt x="0" y="24"/>
                  </a:lnTo>
                  <a:lnTo>
                    <a:pt x="14" y="55"/>
                  </a:lnTo>
                  <a:lnTo>
                    <a:pt x="86" y="55"/>
                  </a:lnTo>
                  <a:lnTo>
                    <a:pt x="54" y="44"/>
                  </a:lnTo>
                  <a:lnTo>
                    <a:pt x="110" y="13"/>
                  </a:lnTo>
                  <a:lnTo>
                    <a:pt x="1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88920" y="4474440"/>
              <a:ext cx="147240" cy="4572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110" y="13"/>
                  </a:moveTo>
                  <a:lnTo>
                    <a:pt x="86" y="0"/>
                  </a:lnTo>
                  <a:lnTo>
                    <a:pt x="28" y="34"/>
                  </a:lnTo>
                  <a:lnTo>
                    <a:pt x="0" y="24"/>
                  </a:lnTo>
                  <a:lnTo>
                    <a:pt x="14" y="55"/>
                  </a:lnTo>
                  <a:lnTo>
                    <a:pt x="86" y="55"/>
                  </a:lnTo>
                  <a:lnTo>
                    <a:pt x="54" y="44"/>
                  </a:lnTo>
                  <a:lnTo>
                    <a:pt x="110" y="13"/>
                  </a:lnTo>
                  <a:lnTo>
                    <a:pt x="1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96840" y="4423320"/>
              <a:ext cx="147240" cy="4356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0" y="11"/>
                  </a:moveTo>
                  <a:lnTo>
                    <a:pt x="24" y="0"/>
                  </a:lnTo>
                  <a:lnTo>
                    <a:pt x="84" y="30"/>
                  </a:lnTo>
                  <a:lnTo>
                    <a:pt x="110" y="22"/>
                  </a:lnTo>
                  <a:lnTo>
                    <a:pt x="96" y="51"/>
                  </a:lnTo>
                  <a:lnTo>
                    <a:pt x="26" y="51"/>
                  </a:lnTo>
                  <a:lnTo>
                    <a:pt x="54" y="42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96840" y="4423320"/>
              <a:ext cx="147240" cy="4356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0" y="11"/>
                  </a:moveTo>
                  <a:lnTo>
                    <a:pt x="24" y="0"/>
                  </a:lnTo>
                  <a:lnTo>
                    <a:pt x="84" y="30"/>
                  </a:lnTo>
                  <a:lnTo>
                    <a:pt x="110" y="22"/>
                  </a:lnTo>
                  <a:lnTo>
                    <a:pt x="96" y="51"/>
                  </a:lnTo>
                  <a:lnTo>
                    <a:pt x="26" y="51"/>
                  </a:lnTo>
                  <a:lnTo>
                    <a:pt x="54" y="42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944080" y="4479480"/>
              <a:ext cx="146520" cy="4356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110" y="41"/>
                  </a:moveTo>
                  <a:lnTo>
                    <a:pt x="86" y="51"/>
                  </a:lnTo>
                  <a:lnTo>
                    <a:pt x="28" y="18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86" y="0"/>
                  </a:lnTo>
                  <a:lnTo>
                    <a:pt x="56" y="9"/>
                  </a:lnTo>
                  <a:lnTo>
                    <a:pt x="110" y="41"/>
                  </a:lnTo>
                  <a:lnTo>
                    <a:pt x="11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44080" y="4479480"/>
              <a:ext cx="146520" cy="4356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110" y="41"/>
                  </a:moveTo>
                  <a:lnTo>
                    <a:pt x="86" y="51"/>
                  </a:lnTo>
                  <a:lnTo>
                    <a:pt x="28" y="18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86" y="0"/>
                  </a:lnTo>
                  <a:lnTo>
                    <a:pt x="56" y="9"/>
                  </a:lnTo>
                  <a:lnTo>
                    <a:pt x="110" y="41"/>
                  </a:lnTo>
                  <a:lnTo>
                    <a:pt x="11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52000" y="4428360"/>
              <a:ext cx="147240" cy="406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39"/>
                  </a:moveTo>
                  <a:lnTo>
                    <a:pt x="24" y="50"/>
                  </a:lnTo>
                  <a:lnTo>
                    <a:pt x="84" y="16"/>
                  </a:lnTo>
                  <a:lnTo>
                    <a:pt x="110" y="27"/>
                  </a:lnTo>
                  <a:lnTo>
                    <a:pt x="96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52000" y="4428360"/>
              <a:ext cx="147240" cy="406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39"/>
                  </a:moveTo>
                  <a:lnTo>
                    <a:pt x="24" y="50"/>
                  </a:lnTo>
                  <a:lnTo>
                    <a:pt x="84" y="16"/>
                  </a:lnTo>
                  <a:lnTo>
                    <a:pt x="110" y="27"/>
                  </a:lnTo>
                  <a:lnTo>
                    <a:pt x="96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92160" y="4477320"/>
              <a:ext cx="146520" cy="45720"/>
            </a:xfrm>
            <a:custGeom>
              <a:avLst/>
              <a:gdLst/>
              <a:ahLst/>
              <a:rect l="l" t="t" r="r" b="b"/>
              <a:pathLst>
                <a:path w="110" h="54">
                  <a:moveTo>
                    <a:pt x="110" y="12"/>
                  </a:moveTo>
                  <a:lnTo>
                    <a:pt x="86" y="0"/>
                  </a:lnTo>
                  <a:lnTo>
                    <a:pt x="28" y="34"/>
                  </a:lnTo>
                  <a:lnTo>
                    <a:pt x="0" y="23"/>
                  </a:lnTo>
                  <a:lnTo>
                    <a:pt x="14" y="54"/>
                  </a:lnTo>
                  <a:lnTo>
                    <a:pt x="86" y="54"/>
                  </a:lnTo>
                  <a:lnTo>
                    <a:pt x="54" y="44"/>
                  </a:lnTo>
                  <a:lnTo>
                    <a:pt x="110" y="12"/>
                  </a:lnTo>
                  <a:lnTo>
                    <a:pt x="1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92160" y="4477320"/>
              <a:ext cx="146520" cy="45720"/>
            </a:xfrm>
            <a:custGeom>
              <a:avLst/>
              <a:gdLst/>
              <a:ahLst/>
              <a:rect l="l" t="t" r="r" b="b"/>
              <a:pathLst>
                <a:path w="110" h="54">
                  <a:moveTo>
                    <a:pt x="110" y="12"/>
                  </a:moveTo>
                  <a:lnTo>
                    <a:pt x="86" y="0"/>
                  </a:lnTo>
                  <a:lnTo>
                    <a:pt x="28" y="34"/>
                  </a:lnTo>
                  <a:lnTo>
                    <a:pt x="0" y="23"/>
                  </a:lnTo>
                  <a:lnTo>
                    <a:pt x="14" y="54"/>
                  </a:lnTo>
                  <a:lnTo>
                    <a:pt x="86" y="54"/>
                  </a:lnTo>
                  <a:lnTo>
                    <a:pt x="54" y="44"/>
                  </a:lnTo>
                  <a:lnTo>
                    <a:pt x="110" y="12"/>
                  </a:lnTo>
                  <a:lnTo>
                    <a:pt x="1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99720" y="4425480"/>
              <a:ext cx="146520" cy="4104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11"/>
                  </a:moveTo>
                  <a:lnTo>
                    <a:pt x="24" y="0"/>
                  </a:lnTo>
                  <a:lnTo>
                    <a:pt x="84" y="30"/>
                  </a:lnTo>
                  <a:lnTo>
                    <a:pt x="110" y="22"/>
                  </a:lnTo>
                  <a:lnTo>
                    <a:pt x="96" y="50"/>
                  </a:lnTo>
                  <a:lnTo>
                    <a:pt x="26" y="50"/>
                  </a:lnTo>
                  <a:lnTo>
                    <a:pt x="54" y="42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99720" y="4425480"/>
              <a:ext cx="146520" cy="4104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11"/>
                  </a:moveTo>
                  <a:lnTo>
                    <a:pt x="24" y="0"/>
                  </a:lnTo>
                  <a:lnTo>
                    <a:pt x="84" y="30"/>
                  </a:lnTo>
                  <a:lnTo>
                    <a:pt x="110" y="22"/>
                  </a:lnTo>
                  <a:lnTo>
                    <a:pt x="96" y="50"/>
                  </a:lnTo>
                  <a:lnTo>
                    <a:pt x="26" y="50"/>
                  </a:lnTo>
                  <a:lnTo>
                    <a:pt x="54" y="42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46600" y="4482000"/>
              <a:ext cx="147240" cy="4356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110" y="40"/>
                  </a:moveTo>
                  <a:lnTo>
                    <a:pt x="86" y="51"/>
                  </a:lnTo>
                  <a:lnTo>
                    <a:pt x="28" y="17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86" y="0"/>
                  </a:lnTo>
                  <a:lnTo>
                    <a:pt x="56" y="9"/>
                  </a:lnTo>
                  <a:lnTo>
                    <a:pt x="110" y="40"/>
                  </a:lnTo>
                  <a:lnTo>
                    <a:pt x="11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46600" y="4482000"/>
              <a:ext cx="147240" cy="4356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110" y="40"/>
                  </a:moveTo>
                  <a:lnTo>
                    <a:pt x="86" y="51"/>
                  </a:lnTo>
                  <a:lnTo>
                    <a:pt x="28" y="17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86" y="0"/>
                  </a:lnTo>
                  <a:lnTo>
                    <a:pt x="56" y="9"/>
                  </a:lnTo>
                  <a:lnTo>
                    <a:pt x="110" y="40"/>
                  </a:lnTo>
                  <a:lnTo>
                    <a:pt x="11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19440" y="4471920"/>
              <a:ext cx="2880" cy="9684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68360" y="4471920"/>
              <a:ext cx="2880" cy="9684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749840" y="4405320"/>
            <a:ext cx="452160" cy="234720"/>
            <a:chOff x="4749840" y="4405320"/>
            <a:chExt cx="452160" cy="234720"/>
          </a:xfrm>
        </p:grpSpPr>
        <p:sp>
          <p:nvSpPr>
            <p:cNvPr id="219" name=""/>
            <p:cNvSpPr/>
            <p:nvPr/>
          </p:nvSpPr>
          <p:spPr>
            <a:xfrm>
              <a:off x="4749840" y="4503600"/>
              <a:ext cx="452160" cy="136440"/>
            </a:xfrm>
            <a:prstGeom prst="ellipse">
              <a:avLst/>
            </a:prstGeom>
            <a:solidFill>
              <a:srgbClr val="6633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49840" y="4474800"/>
              <a:ext cx="448920" cy="98280"/>
            </a:xfrm>
            <a:custGeom>
              <a:avLst/>
              <a:gdLst/>
              <a:ahLst/>
              <a:rect l="l" t="t" r="r" b="b"/>
              <a:pathLst>
                <a:path w="336" h="114">
                  <a:moveTo>
                    <a:pt x="0" y="0"/>
                  </a:moveTo>
                  <a:lnTo>
                    <a:pt x="0" y="114"/>
                  </a:lnTo>
                  <a:lnTo>
                    <a:pt x="336" y="114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8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49840" y="4474800"/>
              <a:ext cx="448920" cy="98280"/>
            </a:xfrm>
            <a:custGeom>
              <a:avLst/>
              <a:gdLst/>
              <a:ahLst/>
              <a:rect l="l" t="t" r="r" b="b"/>
              <a:pathLst>
                <a:path w="336" h="114">
                  <a:moveTo>
                    <a:pt x="0" y="0"/>
                  </a:moveTo>
                  <a:lnTo>
                    <a:pt x="0" y="114"/>
                  </a:lnTo>
                  <a:lnTo>
                    <a:pt x="336" y="114"/>
                  </a:lnTo>
                  <a:lnTo>
                    <a:pt x="33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49840" y="4405320"/>
              <a:ext cx="452160" cy="139320"/>
            </a:xfrm>
            <a:prstGeom prst="ellipse">
              <a:avLst/>
            </a:prstGeom>
            <a:solidFill>
              <a:srgbClr val="cc9900"/>
            </a:solidFill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79880" y="4425480"/>
              <a:ext cx="146520" cy="4140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39"/>
                  </a:moveTo>
                  <a:lnTo>
                    <a:pt x="24" y="50"/>
                  </a:lnTo>
                  <a:lnTo>
                    <a:pt x="84" y="16"/>
                  </a:lnTo>
                  <a:lnTo>
                    <a:pt x="110" y="27"/>
                  </a:lnTo>
                  <a:lnTo>
                    <a:pt x="96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79880" y="4425480"/>
              <a:ext cx="146520" cy="4140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39"/>
                  </a:moveTo>
                  <a:lnTo>
                    <a:pt x="24" y="50"/>
                  </a:lnTo>
                  <a:lnTo>
                    <a:pt x="84" y="16"/>
                  </a:lnTo>
                  <a:lnTo>
                    <a:pt x="110" y="27"/>
                  </a:lnTo>
                  <a:lnTo>
                    <a:pt x="96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19320" y="4474800"/>
              <a:ext cx="147240" cy="4608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110" y="13"/>
                  </a:moveTo>
                  <a:lnTo>
                    <a:pt x="86" y="0"/>
                  </a:lnTo>
                  <a:lnTo>
                    <a:pt x="28" y="34"/>
                  </a:lnTo>
                  <a:lnTo>
                    <a:pt x="0" y="24"/>
                  </a:lnTo>
                  <a:lnTo>
                    <a:pt x="14" y="55"/>
                  </a:lnTo>
                  <a:lnTo>
                    <a:pt x="86" y="55"/>
                  </a:lnTo>
                  <a:lnTo>
                    <a:pt x="54" y="44"/>
                  </a:lnTo>
                  <a:lnTo>
                    <a:pt x="110" y="13"/>
                  </a:lnTo>
                  <a:lnTo>
                    <a:pt x="1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19320" y="4474800"/>
              <a:ext cx="147240" cy="46080"/>
            </a:xfrm>
            <a:custGeom>
              <a:avLst/>
              <a:gdLst/>
              <a:ahLst/>
              <a:rect l="l" t="t" r="r" b="b"/>
              <a:pathLst>
                <a:path w="110" h="55">
                  <a:moveTo>
                    <a:pt x="110" y="13"/>
                  </a:moveTo>
                  <a:lnTo>
                    <a:pt x="86" y="0"/>
                  </a:lnTo>
                  <a:lnTo>
                    <a:pt x="28" y="34"/>
                  </a:lnTo>
                  <a:lnTo>
                    <a:pt x="0" y="24"/>
                  </a:lnTo>
                  <a:lnTo>
                    <a:pt x="14" y="55"/>
                  </a:lnTo>
                  <a:lnTo>
                    <a:pt x="86" y="55"/>
                  </a:lnTo>
                  <a:lnTo>
                    <a:pt x="54" y="44"/>
                  </a:lnTo>
                  <a:lnTo>
                    <a:pt x="110" y="13"/>
                  </a:lnTo>
                  <a:lnTo>
                    <a:pt x="11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827240" y="4423320"/>
              <a:ext cx="147240" cy="4392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0" y="11"/>
                  </a:moveTo>
                  <a:lnTo>
                    <a:pt x="24" y="0"/>
                  </a:lnTo>
                  <a:lnTo>
                    <a:pt x="84" y="30"/>
                  </a:lnTo>
                  <a:lnTo>
                    <a:pt x="110" y="22"/>
                  </a:lnTo>
                  <a:lnTo>
                    <a:pt x="96" y="51"/>
                  </a:lnTo>
                  <a:lnTo>
                    <a:pt x="26" y="51"/>
                  </a:lnTo>
                  <a:lnTo>
                    <a:pt x="54" y="42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27240" y="4423320"/>
              <a:ext cx="147240" cy="4392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0" y="11"/>
                  </a:moveTo>
                  <a:lnTo>
                    <a:pt x="24" y="0"/>
                  </a:lnTo>
                  <a:lnTo>
                    <a:pt x="84" y="30"/>
                  </a:lnTo>
                  <a:lnTo>
                    <a:pt x="110" y="22"/>
                  </a:lnTo>
                  <a:lnTo>
                    <a:pt x="96" y="51"/>
                  </a:lnTo>
                  <a:lnTo>
                    <a:pt x="26" y="51"/>
                  </a:lnTo>
                  <a:lnTo>
                    <a:pt x="54" y="42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74480" y="4480200"/>
              <a:ext cx="146520" cy="4392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110" y="41"/>
                  </a:moveTo>
                  <a:lnTo>
                    <a:pt x="86" y="51"/>
                  </a:lnTo>
                  <a:lnTo>
                    <a:pt x="28" y="18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86" y="0"/>
                  </a:lnTo>
                  <a:lnTo>
                    <a:pt x="56" y="9"/>
                  </a:lnTo>
                  <a:lnTo>
                    <a:pt x="110" y="41"/>
                  </a:lnTo>
                  <a:lnTo>
                    <a:pt x="11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74480" y="4480200"/>
              <a:ext cx="146520" cy="4392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110" y="41"/>
                  </a:moveTo>
                  <a:lnTo>
                    <a:pt x="86" y="51"/>
                  </a:lnTo>
                  <a:lnTo>
                    <a:pt x="28" y="18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86" y="0"/>
                  </a:lnTo>
                  <a:lnTo>
                    <a:pt x="56" y="9"/>
                  </a:lnTo>
                  <a:lnTo>
                    <a:pt x="110" y="41"/>
                  </a:lnTo>
                  <a:lnTo>
                    <a:pt x="110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82400" y="4428720"/>
              <a:ext cx="147240" cy="406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39"/>
                  </a:moveTo>
                  <a:lnTo>
                    <a:pt x="24" y="50"/>
                  </a:lnTo>
                  <a:lnTo>
                    <a:pt x="84" y="16"/>
                  </a:lnTo>
                  <a:lnTo>
                    <a:pt x="110" y="27"/>
                  </a:lnTo>
                  <a:lnTo>
                    <a:pt x="96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82400" y="4428720"/>
              <a:ext cx="147240" cy="4068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39"/>
                  </a:moveTo>
                  <a:lnTo>
                    <a:pt x="24" y="50"/>
                  </a:lnTo>
                  <a:lnTo>
                    <a:pt x="84" y="16"/>
                  </a:lnTo>
                  <a:lnTo>
                    <a:pt x="110" y="27"/>
                  </a:lnTo>
                  <a:lnTo>
                    <a:pt x="96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22560" y="4477680"/>
              <a:ext cx="146520" cy="46080"/>
            </a:xfrm>
            <a:custGeom>
              <a:avLst/>
              <a:gdLst/>
              <a:ahLst/>
              <a:rect l="l" t="t" r="r" b="b"/>
              <a:pathLst>
                <a:path w="110" h="54">
                  <a:moveTo>
                    <a:pt x="110" y="12"/>
                  </a:moveTo>
                  <a:lnTo>
                    <a:pt x="86" y="0"/>
                  </a:lnTo>
                  <a:lnTo>
                    <a:pt x="28" y="34"/>
                  </a:lnTo>
                  <a:lnTo>
                    <a:pt x="0" y="23"/>
                  </a:lnTo>
                  <a:lnTo>
                    <a:pt x="14" y="54"/>
                  </a:lnTo>
                  <a:lnTo>
                    <a:pt x="86" y="54"/>
                  </a:lnTo>
                  <a:lnTo>
                    <a:pt x="54" y="44"/>
                  </a:lnTo>
                  <a:lnTo>
                    <a:pt x="110" y="12"/>
                  </a:lnTo>
                  <a:lnTo>
                    <a:pt x="1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22560" y="4477680"/>
              <a:ext cx="146520" cy="46080"/>
            </a:xfrm>
            <a:custGeom>
              <a:avLst/>
              <a:gdLst/>
              <a:ahLst/>
              <a:rect l="l" t="t" r="r" b="b"/>
              <a:pathLst>
                <a:path w="110" h="54">
                  <a:moveTo>
                    <a:pt x="110" y="12"/>
                  </a:moveTo>
                  <a:lnTo>
                    <a:pt x="86" y="0"/>
                  </a:lnTo>
                  <a:lnTo>
                    <a:pt x="28" y="34"/>
                  </a:lnTo>
                  <a:lnTo>
                    <a:pt x="0" y="23"/>
                  </a:lnTo>
                  <a:lnTo>
                    <a:pt x="14" y="54"/>
                  </a:lnTo>
                  <a:lnTo>
                    <a:pt x="86" y="54"/>
                  </a:lnTo>
                  <a:lnTo>
                    <a:pt x="54" y="44"/>
                  </a:lnTo>
                  <a:lnTo>
                    <a:pt x="110" y="12"/>
                  </a:lnTo>
                  <a:lnTo>
                    <a:pt x="11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30120" y="4425480"/>
              <a:ext cx="146520" cy="4140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11"/>
                  </a:moveTo>
                  <a:lnTo>
                    <a:pt x="24" y="0"/>
                  </a:lnTo>
                  <a:lnTo>
                    <a:pt x="84" y="30"/>
                  </a:lnTo>
                  <a:lnTo>
                    <a:pt x="110" y="22"/>
                  </a:lnTo>
                  <a:lnTo>
                    <a:pt x="96" y="50"/>
                  </a:lnTo>
                  <a:lnTo>
                    <a:pt x="26" y="50"/>
                  </a:lnTo>
                  <a:lnTo>
                    <a:pt x="54" y="42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30120" y="4425480"/>
              <a:ext cx="146520" cy="41400"/>
            </a:xfrm>
            <a:custGeom>
              <a:avLst/>
              <a:gdLst/>
              <a:ahLst/>
              <a:rect l="l" t="t" r="r" b="b"/>
              <a:pathLst>
                <a:path w="110" h="50">
                  <a:moveTo>
                    <a:pt x="0" y="11"/>
                  </a:moveTo>
                  <a:lnTo>
                    <a:pt x="24" y="0"/>
                  </a:lnTo>
                  <a:lnTo>
                    <a:pt x="84" y="30"/>
                  </a:lnTo>
                  <a:lnTo>
                    <a:pt x="110" y="22"/>
                  </a:lnTo>
                  <a:lnTo>
                    <a:pt x="96" y="50"/>
                  </a:lnTo>
                  <a:lnTo>
                    <a:pt x="26" y="50"/>
                  </a:lnTo>
                  <a:lnTo>
                    <a:pt x="54" y="42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77000" y="4482360"/>
              <a:ext cx="147240" cy="4392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110" y="40"/>
                  </a:moveTo>
                  <a:lnTo>
                    <a:pt x="86" y="51"/>
                  </a:lnTo>
                  <a:lnTo>
                    <a:pt x="28" y="17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86" y="0"/>
                  </a:lnTo>
                  <a:lnTo>
                    <a:pt x="56" y="9"/>
                  </a:lnTo>
                  <a:lnTo>
                    <a:pt x="110" y="40"/>
                  </a:lnTo>
                  <a:lnTo>
                    <a:pt x="11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77000" y="4482360"/>
              <a:ext cx="147240" cy="43920"/>
            </a:xfrm>
            <a:custGeom>
              <a:avLst/>
              <a:gdLst/>
              <a:ahLst/>
              <a:rect l="l" t="t" r="r" b="b"/>
              <a:pathLst>
                <a:path w="110" h="51">
                  <a:moveTo>
                    <a:pt x="110" y="40"/>
                  </a:moveTo>
                  <a:lnTo>
                    <a:pt x="86" y="51"/>
                  </a:lnTo>
                  <a:lnTo>
                    <a:pt x="28" y="17"/>
                  </a:lnTo>
                  <a:lnTo>
                    <a:pt x="0" y="28"/>
                  </a:lnTo>
                  <a:lnTo>
                    <a:pt x="14" y="0"/>
                  </a:lnTo>
                  <a:lnTo>
                    <a:pt x="86" y="0"/>
                  </a:lnTo>
                  <a:lnTo>
                    <a:pt x="56" y="9"/>
                  </a:lnTo>
                  <a:lnTo>
                    <a:pt x="110" y="40"/>
                  </a:lnTo>
                  <a:lnTo>
                    <a:pt x="11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49840" y="4472640"/>
              <a:ext cx="2880" cy="9756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98760" y="4472640"/>
              <a:ext cx="2880" cy="97560"/>
            </a:xfrm>
            <a:prstGeom prst="line">
              <a:avLst/>
            </a:prstGeom>
            <a:ln w="1440">
              <a:solidFill>
                <a:srgbClr val="aae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H="1" flipV="1">
            <a:off x="1734840" y="3049920"/>
            <a:ext cx="1140480" cy="1327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loud"/>
          <p:cNvSpPr/>
          <p:nvPr/>
        </p:nvSpPr>
        <p:spPr>
          <a:xfrm>
            <a:off x="1305000" y="2527200"/>
            <a:ext cx="1106280" cy="511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275000" y="4405320"/>
            <a:ext cx="63720" cy="298080"/>
            <a:chOff x="4275000" y="4405320"/>
            <a:chExt cx="63720" cy="298080"/>
          </a:xfrm>
        </p:grpSpPr>
        <p:sp>
          <p:nvSpPr>
            <p:cNvPr id="244" name=""/>
            <p:cNvSpPr/>
            <p:nvPr/>
          </p:nvSpPr>
          <p:spPr>
            <a:xfrm>
              <a:off x="4275000" y="4405320"/>
              <a:ext cx="0" cy="29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38720" y="4405320"/>
              <a:ext cx="0" cy="29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927600" y="3513240"/>
            <a:ext cx="0" cy="549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35520" y="2263680"/>
            <a:ext cx="9360" cy="9781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98720" y="3719520"/>
            <a:ext cx="333000" cy="61920"/>
            <a:chOff x="3798720" y="3719520"/>
            <a:chExt cx="333000" cy="61920"/>
          </a:xfrm>
        </p:grpSpPr>
        <p:sp>
          <p:nvSpPr>
            <p:cNvPr id="249" name=""/>
            <p:cNvSpPr/>
            <p:nvPr/>
          </p:nvSpPr>
          <p:spPr>
            <a:xfrm>
              <a:off x="3798720" y="3781440"/>
              <a:ext cx="33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98720" y="3719520"/>
              <a:ext cx="33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129760" y="3558600"/>
            <a:ext cx="302400" cy="250920"/>
            <a:chOff x="2129760" y="3558600"/>
            <a:chExt cx="302400" cy="250920"/>
          </a:xfrm>
        </p:grpSpPr>
        <p:sp>
          <p:nvSpPr>
            <p:cNvPr id="252" name=""/>
            <p:cNvSpPr/>
            <p:nvPr/>
          </p:nvSpPr>
          <p:spPr>
            <a:xfrm flipV="1">
              <a:off x="2167560" y="3607920"/>
              <a:ext cx="26460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129760" y="3558600"/>
              <a:ext cx="26496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355760" y="262908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45000" y="3513240"/>
            <a:ext cx="1371600" cy="96048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5225400" y="3860640"/>
            <a:ext cx="209520" cy="325080"/>
            <a:chOff x="5225400" y="3860640"/>
            <a:chExt cx="209520" cy="325080"/>
          </a:xfrm>
        </p:grpSpPr>
        <p:sp>
          <p:nvSpPr>
            <p:cNvPr id="257" name=""/>
            <p:cNvSpPr/>
            <p:nvPr/>
          </p:nvSpPr>
          <p:spPr>
            <a:xfrm flipH="1">
              <a:off x="5280480" y="3889080"/>
              <a:ext cx="154440" cy="29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5225400" y="3860640"/>
              <a:ext cx="154800" cy="296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800360" y="4611600"/>
            <a:ext cx="4116240" cy="534960"/>
          </a:xfrm>
          <a:custGeom>
            <a:avLst/>
            <a:gdLst/>
            <a:ahLst/>
            <a:rect l="l" t="t" r="r" b="b"/>
            <a:pathLst>
              <a:path w="4087" h="307">
                <a:moveTo>
                  <a:pt x="0" y="15"/>
                </a:moveTo>
                <a:lnTo>
                  <a:pt x="497" y="291"/>
                </a:lnTo>
                <a:lnTo>
                  <a:pt x="3732" y="307"/>
                </a:lnTo>
                <a:lnTo>
                  <a:pt x="4087" y="0"/>
                </a:lnTo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32200" y="4989600"/>
            <a:ext cx="63360" cy="298080"/>
            <a:chOff x="3832200" y="4989600"/>
            <a:chExt cx="63360" cy="298080"/>
          </a:xfrm>
        </p:grpSpPr>
        <p:sp>
          <p:nvSpPr>
            <p:cNvPr id="261" name=""/>
            <p:cNvSpPr/>
            <p:nvPr/>
          </p:nvSpPr>
          <p:spPr>
            <a:xfrm>
              <a:off x="3832200" y="4989600"/>
              <a:ext cx="0" cy="29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95560" y="4989600"/>
              <a:ext cx="0" cy="29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013200" y="2995560"/>
            <a:ext cx="1736640" cy="631800"/>
          </a:xfrm>
          <a:prstGeom prst="can">
            <a:avLst>
              <a:gd name="adj" fmla="val 28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67120" y="3111480"/>
            <a:ext cx="1744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e/network contro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7480" y="5786280"/>
            <a:ext cx="1912680" cy="3016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ee6f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node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03640" y="6107040"/>
            <a:ext cx="32734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ontrol protocol for multilayer transfer (GMPLS ba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080" y="1938240"/>
            <a:ext cx="2306520" cy="341280"/>
          </a:xfrm>
          <a:prstGeom prst="wedgeRectCallout">
            <a:avLst>
              <a:gd name="adj1" fmla="val 13731"/>
              <a:gd name="adj2" fmla="val 24884"/>
            </a:avLst>
          </a:prstGeom>
          <a:gradFill rotWithShape="0">
            <a:gsLst>
              <a:gs pos="0">
                <a:srgbClr val="ff66cc"/>
              </a:gs>
              <a:gs pos="100000">
                <a:srgbClr val="fee6f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network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83040" y="2220840"/>
            <a:ext cx="32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Control protocol for multilayer trans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80160" y="2805120"/>
            <a:ext cx="1811160" cy="258840"/>
          </a:xfrm>
          <a:prstGeom prst="wedgeRectCallout">
            <a:avLst>
              <a:gd name="adj1" fmla="val -13805"/>
              <a:gd name="adj2" fmla="val 26685"/>
            </a:avLst>
          </a:prstGeom>
          <a:gradFill rotWithShape="0">
            <a:gsLst>
              <a:gs pos="0">
                <a:srgbClr val="ff66cc"/>
              </a:gs>
              <a:gs pos="100000">
                <a:srgbClr val="fee6f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-PF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51640" y="3075120"/>
            <a:ext cx="36702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TW-PF interworking for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SIP, MIDC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NTW-PF Interworking for achieving QoS (S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68920" y="3835440"/>
            <a:ext cx="1927440" cy="28728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ee6f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inal-PF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43720" y="4106880"/>
            <a:ext cx="27334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Security when multiple SIPs are involved (S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End-to-end security/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5680" indent="-85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Remote maintenance of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46040" y="5808600"/>
            <a:ext cx="2194200" cy="379440"/>
          </a:xfrm>
          <a:prstGeom prst="wedgeRectCallout">
            <a:avLst>
              <a:gd name="adj1" fmla="val -20986"/>
              <a:gd name="adj2" fmla="val 21546"/>
            </a:avLst>
          </a:prstGeom>
          <a:gradFill rotWithShape="0">
            <a:gsLst>
              <a:gs pos="0">
                <a:srgbClr val="ff66cc"/>
              </a:gs>
              <a:gs pos="100000">
                <a:srgbClr val="fee6f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-terminal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70360" y="6137280"/>
            <a:ext cx="358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QoS through inter-terminal control (RTC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Remote-controlle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50200" y="5029200"/>
            <a:ext cx="2593800" cy="320760"/>
          </a:xfrm>
          <a:prstGeom prst="wedgeRectCallout">
            <a:avLst>
              <a:gd name="adj1" fmla="val -18726"/>
              <a:gd name="adj2" fmla="val 34157"/>
            </a:avLst>
          </a:prstGeom>
          <a:gradFill rotWithShape="0">
            <a:gsLst>
              <a:gs pos="0">
                <a:srgbClr val="ff66cc"/>
              </a:gs>
              <a:gs pos="100000">
                <a:srgbClr val="fee6f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network 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34000" y="5362560"/>
            <a:ext cx="24908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Optical access IF (B-PON, GE-PON) (ITU-T G983, IEEE802.3ahEF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52920" y="1417680"/>
            <a:ext cx="3691080" cy="33984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fee6f6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software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11840" y="1814400"/>
            <a:ext cx="3430440" cy="9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unctional architecture allowing flexible implementation of network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Wingdings"/>
                <a:ea typeface="Wingdings"/>
              </a:rPr>
              <a:t>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Inter-OSS IF allowing interworking between OSSs both inside and outside a corp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53" idx="0"/>
            <a:endCxn id="267" idx="2"/>
          </p:cNvCxnSpPr>
          <p:nvPr/>
        </p:nvCxnSpPr>
        <p:spPr>
          <a:xfrm rot="10800000">
            <a:off x="1442160" y="2297880"/>
            <a:ext cx="670680" cy="147240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0" name=""/>
          <p:cNvCxnSpPr>
            <a:stCxn id="250" idx="0"/>
            <a:endCxn id="269" idx="1"/>
          </p:cNvCxnSpPr>
          <p:nvPr/>
        </p:nvCxnSpPr>
        <p:spPr>
          <a:xfrm flipV="1">
            <a:off x="4148280" y="2935080"/>
            <a:ext cx="1613520" cy="783360"/>
          </a:xfrm>
          <a:prstGeom prst="bentConnector3">
            <a:avLst>
              <a:gd name="adj1" fmla="val 80004"/>
            </a:avLst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1" name=""/>
          <p:cNvCxnSpPr>
            <a:stCxn id="262" idx="0"/>
            <a:endCxn id="273" idx="3"/>
          </p:cNvCxnSpPr>
          <p:nvPr/>
        </p:nvCxnSpPr>
        <p:spPr>
          <a:xfrm rot="5400000">
            <a:off x="3381120" y="5484960"/>
            <a:ext cx="692640" cy="33660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2" name=""/>
          <p:cNvCxnSpPr>
            <a:stCxn id="245" idx="0"/>
            <a:endCxn id="265" idx="1"/>
          </p:cNvCxnSpPr>
          <p:nvPr/>
        </p:nvCxnSpPr>
        <p:spPr>
          <a:xfrm flipH="1" rot="16200000">
            <a:off x="3801240" y="5259600"/>
            <a:ext cx="1215000" cy="14040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3" name=""/>
          <p:cNvCxnSpPr>
            <a:stCxn id="284" idx="0"/>
            <a:endCxn id="275" idx="1"/>
          </p:cNvCxnSpPr>
          <p:nvPr/>
        </p:nvCxnSpPr>
        <p:spPr>
          <a:xfrm flipH="1" rot="16200000">
            <a:off x="5784120" y="4443120"/>
            <a:ext cx="467280" cy="1026360"/>
          </a:xfrm>
          <a:prstGeom prst="bentConnector2">
            <a:avLst/>
          </a:prstGeom>
          <a:ln w="9360">
            <a:solidFill>
              <a:srgbClr val="ff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5505480" y="4405320"/>
            <a:ext cx="61920" cy="298080"/>
            <a:chOff x="5505480" y="4405320"/>
            <a:chExt cx="61920" cy="298080"/>
          </a:xfrm>
        </p:grpSpPr>
        <p:sp>
          <p:nvSpPr>
            <p:cNvPr id="286" name=""/>
            <p:cNvSpPr/>
            <p:nvPr/>
          </p:nvSpPr>
          <p:spPr>
            <a:xfrm>
              <a:off x="5505480" y="4405320"/>
              <a:ext cx="0" cy="29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7400" y="4405320"/>
              <a:ext cx="0" cy="298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H="1" flipV="1">
            <a:off x="1022040" y="4196520"/>
            <a:ext cx="799200" cy="27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020600" y="4475160"/>
            <a:ext cx="827280" cy="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960480" y="4591440"/>
            <a:ext cx="844560" cy="51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49240" y="4881600"/>
            <a:ext cx="222120" cy="271080"/>
            <a:chOff x="849240" y="4881600"/>
            <a:chExt cx="222120" cy="271080"/>
          </a:xfrm>
        </p:grpSpPr>
        <p:pic>
          <p:nvPicPr>
            <p:cNvPr id="292" name="" descr=""/>
            <p:cNvPicPr/>
            <p:nvPr/>
          </p:nvPicPr>
          <p:blipFill>
            <a:blip r:embed="rId1"/>
            <a:stretch/>
          </p:blipFill>
          <p:spPr>
            <a:xfrm>
              <a:off x="920880" y="4944240"/>
              <a:ext cx="150480" cy="208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"/>
            <p:cNvGrpSpPr/>
            <p:nvPr/>
          </p:nvGrpSpPr>
          <p:grpSpPr>
            <a:xfrm>
              <a:off x="849240" y="4881600"/>
              <a:ext cx="178560" cy="156960"/>
              <a:chOff x="849240" y="4881600"/>
              <a:chExt cx="178560" cy="156960"/>
            </a:xfrm>
          </p:grpSpPr>
          <p:sp>
            <p:nvSpPr>
              <p:cNvPr id="294" name=""/>
              <p:cNvSpPr/>
              <p:nvPr/>
            </p:nvSpPr>
            <p:spPr>
              <a:xfrm>
                <a:off x="921960" y="4945320"/>
                <a:ext cx="33120" cy="2916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05040" y="4930560"/>
                <a:ext cx="66960" cy="58680"/>
              </a:xfrm>
              <a:prstGeom prst="ellipse">
                <a:avLst/>
              </a:prstGeom>
              <a:noFill/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73360" y="4902840"/>
                <a:ext cx="129960" cy="114120"/>
              </a:xfrm>
              <a:prstGeom prst="ellipse">
                <a:avLst/>
              </a:prstGeom>
              <a:noFill/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89560" y="4917240"/>
                <a:ext cx="97560" cy="85680"/>
              </a:xfrm>
              <a:prstGeom prst="ellipse">
                <a:avLst/>
              </a:prstGeom>
              <a:noFill/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849240" y="4881600"/>
                <a:ext cx="178560" cy="156960"/>
              </a:xfrm>
              <a:prstGeom prst="ellipse">
                <a:avLst/>
              </a:prstGeom>
              <a:noFill/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9" name=""/>
          <p:cNvSpPr/>
          <p:nvPr/>
        </p:nvSpPr>
        <p:spPr>
          <a:xfrm flipH="1" flipV="1">
            <a:off x="1057320" y="3806640"/>
            <a:ext cx="778680" cy="62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1698480" y="4237200"/>
            <a:ext cx="301680" cy="4903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907920" y="3693960"/>
            <a:ext cx="274680" cy="21600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4"/>
          <a:stretch/>
        </p:blipFill>
        <p:spPr>
          <a:xfrm>
            <a:off x="820800" y="4098960"/>
            <a:ext cx="189000" cy="1364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1640160" y="47131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G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753160" y="3925800"/>
            <a:ext cx="718560" cy="1096200"/>
            <a:chOff x="5753160" y="3925800"/>
            <a:chExt cx="718560" cy="1096200"/>
          </a:xfrm>
        </p:grpSpPr>
        <p:grpSp>
          <p:nvGrpSpPr>
            <p:cNvPr id="305" name=""/>
            <p:cNvGrpSpPr/>
            <p:nvPr/>
          </p:nvGrpSpPr>
          <p:grpSpPr>
            <a:xfrm>
              <a:off x="5940720" y="3980880"/>
              <a:ext cx="448200" cy="1013760"/>
              <a:chOff x="5940720" y="3980880"/>
              <a:chExt cx="448200" cy="101376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5940720" y="4255920"/>
                <a:ext cx="352440" cy="16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987880" y="4502160"/>
                <a:ext cx="344520" cy="6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969160" y="4561200"/>
                <a:ext cx="41976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5964480" y="3980880"/>
                <a:ext cx="211680" cy="36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10" name="" descr=""/>
            <p:cNvPicPr/>
            <p:nvPr/>
          </p:nvPicPr>
          <p:blipFill>
            <a:blip r:embed="rId5"/>
            <a:stretch/>
          </p:blipFill>
          <p:spPr>
            <a:xfrm>
              <a:off x="6040080" y="3925800"/>
              <a:ext cx="275760" cy="21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" descr=""/>
            <p:cNvPicPr/>
            <p:nvPr/>
          </p:nvPicPr>
          <p:blipFill>
            <a:blip r:embed="rId6"/>
            <a:stretch/>
          </p:blipFill>
          <p:spPr>
            <a:xfrm>
              <a:off x="6254640" y="4147200"/>
              <a:ext cx="186840" cy="1339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312" name=""/>
            <p:cNvGraphicFramePr/>
            <p:nvPr/>
          </p:nvGraphicFramePr>
          <p:xfrm>
            <a:off x="6183000" y="4421520"/>
            <a:ext cx="288720" cy="2282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83000" y="4421520"/>
                      <a:ext cx="288720" cy="228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14" name=""/>
            <p:cNvGrpSpPr/>
            <p:nvPr/>
          </p:nvGrpSpPr>
          <p:grpSpPr>
            <a:xfrm>
              <a:off x="6217560" y="4751280"/>
              <a:ext cx="221040" cy="270720"/>
              <a:chOff x="6217560" y="4751280"/>
              <a:chExt cx="221040" cy="270720"/>
            </a:xfrm>
          </p:grpSpPr>
          <p:pic>
            <p:nvPicPr>
              <p:cNvPr id="3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288840" y="4813920"/>
                <a:ext cx="149760" cy="208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6" name=""/>
              <p:cNvGrpSpPr/>
              <p:nvPr/>
            </p:nvGrpSpPr>
            <p:grpSpPr>
              <a:xfrm>
                <a:off x="6217560" y="4751280"/>
                <a:ext cx="177840" cy="156960"/>
                <a:chOff x="6217560" y="4751280"/>
                <a:chExt cx="177840" cy="1569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6289920" y="4815000"/>
                  <a:ext cx="32760" cy="2916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6273000" y="4800240"/>
                  <a:ext cx="66600" cy="58680"/>
                </a:xfrm>
                <a:prstGeom prst="ellipse">
                  <a:avLst/>
                </a:prstGeom>
                <a:noFill/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241680" y="4772520"/>
                  <a:ext cx="129240" cy="114120"/>
                </a:xfrm>
                <a:prstGeom prst="ellipse">
                  <a:avLst/>
                </a:prstGeom>
                <a:noFill/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257880" y="4786920"/>
                  <a:ext cx="96840" cy="85680"/>
                </a:xfrm>
                <a:prstGeom prst="ellipse">
                  <a:avLst/>
                </a:prstGeom>
                <a:noFill/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0" bIns="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217560" y="4751280"/>
                  <a:ext cx="177840" cy="156960"/>
                </a:xfrm>
                <a:prstGeom prst="ellipse">
                  <a:avLst/>
                </a:prstGeom>
                <a:noFill/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22" name="" descr=""/>
            <p:cNvPicPr/>
            <p:nvPr/>
          </p:nvPicPr>
          <p:blipFill>
            <a:blip r:embed="rId10"/>
            <a:stretch/>
          </p:blipFill>
          <p:spPr>
            <a:xfrm>
              <a:off x="5753160" y="4237200"/>
              <a:ext cx="301320" cy="4910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323" name=""/>
          <p:cNvCxnSpPr>
            <a:stCxn id="258" idx="0"/>
            <a:endCxn id="271" idx="1"/>
          </p:cNvCxnSpPr>
          <p:nvPr/>
        </p:nvCxnSpPr>
        <p:spPr>
          <a:xfrm flipH="1" rot="16200000">
            <a:off x="5899320" y="3328920"/>
            <a:ext cx="140400" cy="1162440"/>
          </a:xfrm>
          <a:prstGeom prst="bentConnector4">
            <a:avLst>
              <a:gd name="adj1" fmla="val 101028"/>
              <a:gd name="adj2" fmla="val 50402"/>
            </a:avLst>
          </a:prstGeom>
          <a:ln w="9360">
            <a:solidFill>
              <a:srgbClr val="ff0000"/>
            </a:solidFill>
            <a:miter/>
          </a:ln>
        </p:spPr>
      </p:cxnSp>
      <p:graphicFrame>
        <p:nvGraphicFramePr>
          <p:cNvPr id="324" name=""/>
          <p:cNvGraphicFramePr/>
          <p:nvPr/>
        </p:nvGraphicFramePr>
        <p:xfrm>
          <a:off x="806400" y="4390920"/>
          <a:ext cx="289080" cy="2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06400" y="4390920"/>
                    <a:ext cx="289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1663560" y="4203720"/>
            <a:ext cx="0" cy="58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28720" y="4203720"/>
            <a:ext cx="0" cy="584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6" idx="0"/>
            <a:endCxn id="273" idx="0"/>
          </p:cNvCxnSpPr>
          <p:nvPr/>
        </p:nvCxnSpPr>
        <p:spPr>
          <a:xfrm flipH="1" rot="16200000">
            <a:off x="1562040" y="4907880"/>
            <a:ext cx="983160" cy="780480"/>
          </a:xfrm>
          <a:prstGeom prst="bentConnector3">
            <a:avLst>
              <a:gd name="adj1" fmla="val 49890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1249200" y="1108080"/>
            <a:ext cx="1392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W: gate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: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F: 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05760" y="47149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G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065560" y="1668600"/>
            <a:ext cx="88920" cy="1785960"/>
          </a:xfrm>
          <a:custGeom>
            <a:avLst/>
            <a:gdLst>
              <a:gd name="textAreaLeft" fmla="*/ 0 w 88920"/>
              <a:gd name="textAreaRight" fmla="*/ 32040 w 88920"/>
              <a:gd name="textAreaTop" fmla="*/ 46440 h 1785960"/>
              <a:gd name="textAreaBottom" fmla="*/ 1739520 h 178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1" idx="1"/>
            <a:endCxn id="277" idx="1"/>
          </p:cNvCxnSpPr>
          <p:nvPr/>
        </p:nvCxnSpPr>
        <p:spPr>
          <a:xfrm flipV="1">
            <a:off x="5163840" y="1586880"/>
            <a:ext cx="270360" cy="975240"/>
          </a:xfrm>
          <a:prstGeom prst="bentConnector3">
            <a:avLst>
              <a:gd name="adj1" fmla="val 51733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DECD8-230D-4F0D-B909-F48AF788C9C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8C1F421-08CA-48CF-B4B1-1D08BE9309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108080" y="4186080"/>
            <a:ext cx="2387520" cy="2329200"/>
          </a:xfrm>
          <a:custGeom>
            <a:avLst/>
            <a:gdLst/>
            <a:ahLst/>
            <a:rect l="l" t="t" r="r" b="b"/>
            <a:pathLst>
              <a:path w="1776" h="1152">
                <a:moveTo>
                  <a:pt x="192" y="0"/>
                </a:moveTo>
                <a:lnTo>
                  <a:pt x="0" y="480"/>
                </a:lnTo>
                <a:lnTo>
                  <a:pt x="144" y="480"/>
                </a:lnTo>
                <a:lnTo>
                  <a:pt x="144" y="1152"/>
                </a:lnTo>
                <a:lnTo>
                  <a:pt x="1632" y="1152"/>
                </a:lnTo>
                <a:lnTo>
                  <a:pt x="1632" y="480"/>
                </a:lnTo>
                <a:lnTo>
                  <a:pt x="1776" y="480"/>
                </a:lnTo>
                <a:lnTo>
                  <a:pt x="1632" y="0"/>
                </a:lnTo>
                <a:lnTo>
                  <a:pt x="192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Cloud"/>
          <p:cNvSpPr/>
          <p:nvPr/>
        </p:nvSpPr>
        <p:spPr>
          <a:xfrm>
            <a:off x="2171880" y="4456080"/>
            <a:ext cx="5592600" cy="2046240"/>
          </a:xfrm>
          <a:prstGeom prst="pie">
            <a:avLst/>
          </a:prstGeom>
          <a:gradFill rotWithShape="0">
            <a:gsLst>
              <a:gs pos="0">
                <a:srgbClr val="cbf3fe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06160" y="41724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        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ome Gatewa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6" name=""/>
          <p:cNvSpPr/>
          <p:nvPr/>
        </p:nvSpPr>
        <p:spPr>
          <a:xfrm>
            <a:off x="3886200" y="4653000"/>
            <a:ext cx="3664080" cy="930240"/>
          </a:xfrm>
          <a:prstGeom prst="flowChartMagneticDisk">
            <a:avLst/>
          </a:prstGeom>
          <a:solidFill>
            <a:srgbClr val="ccff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76800" y="4552920"/>
            <a:ext cx="712800" cy="438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67556"/>
              </a:gs>
              <a:gs pos="50000">
                <a:srgbClr val="bbffbb"/>
              </a:gs>
              <a:gs pos="100000">
                <a:srgbClr val="5675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00760" y="4145040"/>
            <a:ext cx="8967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t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943600" y="4551480"/>
            <a:ext cx="709560" cy="4381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67556"/>
              </a:gs>
              <a:gs pos="50000">
                <a:srgbClr val="bbffbb"/>
              </a:gs>
              <a:gs pos="100000">
                <a:srgbClr val="5675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42360" y="4603680"/>
            <a:ext cx="34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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6796080" y="4155840"/>
            <a:ext cx="399960" cy="85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341960" y="5484960"/>
            <a:ext cx="458640" cy="390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170320" y="4146480"/>
            <a:ext cx="819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ssion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77640" y="4255920"/>
            <a:ext cx="13129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460520" y="5249880"/>
          <a:ext cx="53172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0520" y="5249880"/>
                    <a:ext cx="5317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 flipV="1">
            <a:off x="1841040" y="5043600"/>
            <a:ext cx="60660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930320" y="5221440"/>
            <a:ext cx="479520" cy="27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1926720" y="4743000"/>
            <a:ext cx="53676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2239920" y="4950000"/>
            <a:ext cx="493920" cy="85392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tretch/>
        </p:blipFill>
        <p:spPr>
          <a:xfrm>
            <a:off x="1530360" y="4410000"/>
            <a:ext cx="504720" cy="4302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tretch/>
        </p:blipFill>
        <p:spPr>
          <a:xfrm>
            <a:off x="1523880" y="4884840"/>
            <a:ext cx="346320" cy="268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886040" y="575928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G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114640" y="5606640"/>
            <a:ext cx="2225520" cy="1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89280" y="44323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66880" y="4879800"/>
            <a:ext cx="2229120" cy="684360"/>
          </a:xfrm>
          <a:custGeom>
            <a:avLst/>
            <a:gdLst/>
            <a:ahLst/>
            <a:rect l="l" t="t" r="r" b="b"/>
            <a:pathLst>
              <a:path w="1518" h="431">
                <a:moveTo>
                  <a:pt x="1518" y="0"/>
                </a:moveTo>
                <a:cubicBezTo>
                  <a:pt x="1490" y="62"/>
                  <a:pt x="1485" y="302"/>
                  <a:pt x="1352" y="367"/>
                </a:cubicBezTo>
                <a:cubicBezTo>
                  <a:pt x="1218" y="431"/>
                  <a:pt x="940" y="382"/>
                  <a:pt x="715" y="389"/>
                </a:cubicBezTo>
                <a:cubicBezTo>
                  <a:pt x="490" y="396"/>
                  <a:pt x="149" y="402"/>
                  <a:pt x="0" y="40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62480" y="4890960"/>
            <a:ext cx="965160" cy="657360"/>
          </a:xfrm>
          <a:custGeom>
            <a:avLst/>
            <a:gdLst/>
            <a:ahLst/>
            <a:rect l="l" t="t" r="r" b="b"/>
            <a:pathLst>
              <a:path w="2544" h="301">
                <a:moveTo>
                  <a:pt x="2544" y="0"/>
                </a:moveTo>
                <a:cubicBezTo>
                  <a:pt x="2504" y="43"/>
                  <a:pt x="2497" y="211"/>
                  <a:pt x="2304" y="256"/>
                </a:cubicBezTo>
                <a:cubicBezTo>
                  <a:pt x="2111" y="301"/>
                  <a:pt x="1768" y="267"/>
                  <a:pt x="1384" y="272"/>
                </a:cubicBezTo>
                <a:cubicBezTo>
                  <a:pt x="1000" y="277"/>
                  <a:pt x="288" y="285"/>
                  <a:pt x="0" y="28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57520" y="4191120"/>
            <a:ext cx="4670280" cy="1104840"/>
          </a:xfrm>
          <a:custGeom>
            <a:avLst/>
            <a:gdLst/>
            <a:ahLst/>
            <a:rect l="l" t="t" r="r" b="b"/>
            <a:pathLst>
              <a:path w="3068" h="618">
                <a:moveTo>
                  <a:pt x="3068" y="0"/>
                </a:moveTo>
                <a:cubicBezTo>
                  <a:pt x="3025" y="87"/>
                  <a:pt x="3017" y="431"/>
                  <a:pt x="2810" y="525"/>
                </a:cubicBezTo>
                <a:cubicBezTo>
                  <a:pt x="2603" y="618"/>
                  <a:pt x="2192" y="555"/>
                  <a:pt x="1827" y="561"/>
                </a:cubicBezTo>
                <a:cubicBezTo>
                  <a:pt x="1462" y="566"/>
                  <a:pt x="925" y="554"/>
                  <a:pt x="621" y="555"/>
                </a:cubicBezTo>
                <a:cubicBezTo>
                  <a:pt x="317" y="556"/>
                  <a:pt x="129" y="565"/>
                  <a:pt x="0" y="567"/>
                </a:cubicBezTo>
              </a:path>
            </a:pathLst>
          </a:custGeom>
          <a:noFill/>
          <a:ln w="28440">
            <a:solidFill>
              <a:srgbClr val="66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686640" y="3603600"/>
            <a:ext cx="1133280" cy="6667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3dfa3"/>
              </a:gs>
              <a:gs pos="50000">
                <a:srgbClr val="bbffbb"/>
              </a:gs>
              <a:gs pos="100000">
                <a:srgbClr val="a3df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75400" y="3657600"/>
            <a:ext cx="1290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GW firm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7"/>
          <a:stretch/>
        </p:blipFill>
        <p:spPr>
          <a:xfrm>
            <a:off x="7740720" y="3449520"/>
            <a:ext cx="757080" cy="5349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8"/>
          <a:stretch/>
        </p:blipFill>
        <p:spPr>
          <a:xfrm>
            <a:off x="8412120" y="3879720"/>
            <a:ext cx="565200" cy="451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609600" y="4255920"/>
            <a:ext cx="2541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 maintena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62160" y="1219320"/>
            <a:ext cx="7707240" cy="2209680"/>
          </a:xfrm>
          <a:prstGeom prst="rect">
            <a:avLst/>
          </a:prstGeom>
          <a:solidFill>
            <a:srgbClr val="ff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 GW functions are parts of NGN and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be implemented in stand-alone unit or in a broadband router, PC, or home appli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 GW firmware can be down-loaded from the service provi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support fair competition and marketing, basic interfaces around the home GW should be well standard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225320" y="515772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rvice/network contro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64080" y="576900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NA-based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98560" y="0"/>
            <a:ext cx="54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Desired standardization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49720" y="4565520"/>
            <a:ext cx="750960" cy="476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67556"/>
              </a:gs>
              <a:gs pos="50000">
                <a:srgbClr val="bbffbb"/>
              </a:gs>
              <a:gs pos="100000">
                <a:srgbClr val="56755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E079-5B0B-456D-A5A9-E556542BC3E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C531ABC-7851-457B-A2E8-EEEAB88C09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608120" y="3176640"/>
            <a:ext cx="6585120" cy="3033720"/>
          </a:xfrm>
          <a:prstGeom prst="roundRect">
            <a:avLst>
              <a:gd name="adj" fmla="val 6500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14560" y="6005520"/>
            <a:ext cx="113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79720" y="5996160"/>
            <a:ext cx="8953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40160" y="6005520"/>
            <a:ext cx="97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611360" y="4929120"/>
            <a:ext cx="100656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77880" y="4524480"/>
            <a:ext cx="99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Cloud"/>
          <p:cNvSpPr/>
          <p:nvPr/>
        </p:nvSpPr>
        <p:spPr>
          <a:xfrm>
            <a:off x="284040" y="4348080"/>
            <a:ext cx="1392480" cy="395280"/>
          </a:xfrm>
          <a:prstGeom prst="pie">
            <a:avLst/>
          </a:prstGeom>
          <a:solidFill>
            <a:srgbClr val="ed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48200" y="438768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Cloud"/>
          <p:cNvSpPr/>
          <p:nvPr/>
        </p:nvSpPr>
        <p:spPr>
          <a:xfrm>
            <a:off x="7816680" y="4367160"/>
            <a:ext cx="974880" cy="303120"/>
          </a:xfrm>
          <a:prstGeom prst="pie">
            <a:avLst/>
          </a:prstGeom>
          <a:solidFill>
            <a:srgbClr val="ed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Cloud"/>
          <p:cNvSpPr/>
          <p:nvPr/>
        </p:nvSpPr>
        <p:spPr>
          <a:xfrm>
            <a:off x="7810560" y="4781520"/>
            <a:ext cx="895320" cy="285840"/>
          </a:xfrm>
          <a:prstGeom prst="pie">
            <a:avLst/>
          </a:prstGeom>
          <a:solidFill>
            <a:srgbClr val="ffd8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9560" y="5843520"/>
            <a:ext cx="1006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75720" y="578484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Wave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Cloud"/>
          <p:cNvSpPr/>
          <p:nvPr/>
        </p:nvSpPr>
        <p:spPr>
          <a:xfrm>
            <a:off x="318960" y="5703840"/>
            <a:ext cx="1392480" cy="265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9920" y="568152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Optical/TDM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Cloud"/>
          <p:cNvSpPr/>
          <p:nvPr/>
        </p:nvSpPr>
        <p:spPr>
          <a:xfrm>
            <a:off x="7929720" y="4425840"/>
            <a:ext cx="974520" cy="281160"/>
          </a:xfrm>
          <a:prstGeom prst="pie">
            <a:avLst/>
          </a:prstGeom>
          <a:solidFill>
            <a:srgbClr val="edfd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19800" y="440388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Cloud"/>
          <p:cNvSpPr/>
          <p:nvPr/>
        </p:nvSpPr>
        <p:spPr>
          <a:xfrm>
            <a:off x="7923240" y="4821120"/>
            <a:ext cx="895320" cy="282600"/>
          </a:xfrm>
          <a:prstGeom prst="pie">
            <a:avLst/>
          </a:prstGeom>
          <a:solidFill>
            <a:srgbClr val="ffd8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13000" y="48085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77960" y="5216400"/>
            <a:ext cx="89388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Cloud"/>
          <p:cNvSpPr/>
          <p:nvPr/>
        </p:nvSpPr>
        <p:spPr>
          <a:xfrm>
            <a:off x="615960" y="5160960"/>
            <a:ext cx="1060560" cy="227160"/>
          </a:xfrm>
          <a:prstGeom prst="pie">
            <a:avLst/>
          </a:prstGeom>
          <a:solidFill>
            <a:srgbClr val="e7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59440" y="511956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7960" y="4556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40080" y="4556160"/>
            <a:ext cx="0" cy="90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40080" y="5460840"/>
            <a:ext cx="10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11360" y="4948200"/>
            <a:ext cx="763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374920" y="4948200"/>
            <a:ext cx="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74920" y="5479920"/>
            <a:ext cx="1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Cloud"/>
          <p:cNvSpPr/>
          <p:nvPr/>
        </p:nvSpPr>
        <p:spPr>
          <a:xfrm>
            <a:off x="284040" y="4748040"/>
            <a:ext cx="1392480" cy="373320"/>
          </a:xfrm>
          <a:prstGeom prst="pie">
            <a:avLst/>
          </a:prstGeom>
          <a:solidFill>
            <a:srgbClr val="ffd8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37680" y="48085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her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677960" y="5254560"/>
            <a:ext cx="6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08320" y="52545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08320" y="55180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Cloud"/>
          <p:cNvSpPr/>
          <p:nvPr/>
        </p:nvSpPr>
        <p:spPr>
          <a:xfrm>
            <a:off x="7810560" y="5143680"/>
            <a:ext cx="795240" cy="223560"/>
          </a:xfrm>
          <a:prstGeom prst="pie">
            <a:avLst/>
          </a:prstGeom>
          <a:solidFill>
            <a:srgbClr val="e7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47480" y="512748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10320" y="453564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510320" y="4935600"/>
            <a:ext cx="33192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10320" y="5235480"/>
            <a:ext cx="33192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711440" y="5816520"/>
            <a:ext cx="596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2308320" y="5648040"/>
            <a:ext cx="0" cy="168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308320" y="5648400"/>
            <a:ext cx="2318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554200" y="5749920"/>
            <a:ext cx="313560" cy="227160"/>
            <a:chOff x="2554200" y="5749920"/>
            <a:chExt cx="313560" cy="227160"/>
          </a:xfrm>
        </p:grpSpPr>
        <p:sp>
          <p:nvSpPr>
            <p:cNvPr id="410" name=""/>
            <p:cNvSpPr/>
            <p:nvPr/>
          </p:nvSpPr>
          <p:spPr>
            <a:xfrm>
              <a:off x="2700720" y="5937840"/>
              <a:ext cx="67680" cy="39240"/>
            </a:xfrm>
            <a:prstGeom prst="rect">
              <a:avLst/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5400000">
              <a:off x="2563200" y="5837760"/>
              <a:ext cx="132120" cy="145800"/>
            </a:xfrm>
            <a:prstGeom prst="parallelogram">
              <a:avLst>
                <a:gd name="adj" fmla="val 70440"/>
              </a:avLst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54200" y="5749920"/>
              <a:ext cx="311400" cy="18900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 rot="16200000">
              <a:off x="2704680" y="5813280"/>
              <a:ext cx="226080" cy="99000"/>
            </a:xfrm>
            <a:prstGeom prst="parallelogram">
              <a:avLst>
                <a:gd name="adj" fmla="val 191413"/>
              </a:avLst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770200" y="5637240"/>
            <a:ext cx="314280" cy="339840"/>
            <a:chOff x="2770200" y="5637240"/>
            <a:chExt cx="314280" cy="339840"/>
          </a:xfrm>
        </p:grpSpPr>
        <p:sp>
          <p:nvSpPr>
            <p:cNvPr id="415" name=""/>
            <p:cNvSpPr/>
            <p:nvPr/>
          </p:nvSpPr>
          <p:spPr>
            <a:xfrm flipH="1">
              <a:off x="2770200" y="5826600"/>
              <a:ext cx="167760" cy="150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rot="16200000">
              <a:off x="2887920" y="5781240"/>
              <a:ext cx="245160" cy="145800"/>
            </a:xfrm>
            <a:prstGeom prst="parallelogram">
              <a:avLst>
                <a:gd name="adj" fmla="val 6554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770200" y="5637240"/>
              <a:ext cx="314280" cy="18936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549520" y="5570640"/>
            <a:ext cx="312840" cy="226800"/>
            <a:chOff x="2549520" y="5570640"/>
            <a:chExt cx="312840" cy="226800"/>
          </a:xfrm>
        </p:grpSpPr>
        <p:sp>
          <p:nvSpPr>
            <p:cNvPr id="419" name=""/>
            <p:cNvSpPr/>
            <p:nvPr/>
          </p:nvSpPr>
          <p:spPr>
            <a:xfrm>
              <a:off x="2695320" y="5758200"/>
              <a:ext cx="67320" cy="38880"/>
            </a:xfrm>
            <a:prstGeom prst="rect">
              <a:avLst/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5400000">
              <a:off x="2558160" y="5658840"/>
              <a:ext cx="132120" cy="145080"/>
            </a:xfrm>
            <a:prstGeom prst="parallelogram">
              <a:avLst>
                <a:gd name="adj" fmla="val 70440"/>
              </a:avLst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49520" y="5570640"/>
              <a:ext cx="309960" cy="18864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2700000" y="5634000"/>
              <a:ext cx="225720" cy="98640"/>
            </a:xfrm>
            <a:prstGeom prst="parallelogram">
              <a:avLst>
                <a:gd name="adj" fmla="val 191806"/>
              </a:avLst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4028760" y="5635800"/>
            <a:ext cx="313200" cy="341280"/>
            <a:chOff x="4028760" y="5635800"/>
            <a:chExt cx="313200" cy="341280"/>
          </a:xfrm>
        </p:grpSpPr>
        <p:sp>
          <p:nvSpPr>
            <p:cNvPr id="424" name=""/>
            <p:cNvSpPr/>
            <p:nvPr/>
          </p:nvSpPr>
          <p:spPr>
            <a:xfrm>
              <a:off x="4176360" y="5825880"/>
              <a:ext cx="68760" cy="1508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5400000">
              <a:off x="3978720" y="5780520"/>
              <a:ext cx="246240" cy="146520"/>
            </a:xfrm>
            <a:prstGeom prst="parallelogram">
              <a:avLst>
                <a:gd name="adj" fmla="val 6551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29120" y="5635800"/>
              <a:ext cx="312840" cy="18936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rot="16200000">
              <a:off x="4120560" y="5756040"/>
              <a:ext cx="340560" cy="99720"/>
            </a:xfrm>
            <a:prstGeom prst="parallelogram">
              <a:avLst>
                <a:gd name="adj" fmla="val 19251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471640" y="5559480"/>
            <a:ext cx="313560" cy="434880"/>
            <a:chOff x="5471640" y="5559480"/>
            <a:chExt cx="313560" cy="434880"/>
          </a:xfrm>
        </p:grpSpPr>
        <p:sp>
          <p:nvSpPr>
            <p:cNvPr id="429" name=""/>
            <p:cNvSpPr/>
            <p:nvPr/>
          </p:nvSpPr>
          <p:spPr>
            <a:xfrm>
              <a:off x="5473440" y="5559480"/>
              <a:ext cx="311400" cy="18936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 rot="16200000">
              <a:off x="5517720" y="5727240"/>
              <a:ext cx="434880" cy="99000"/>
            </a:xfrm>
            <a:prstGeom prst="parallelogram">
              <a:avLst>
                <a:gd name="adj" fmla="val 19053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5374080" y="5751000"/>
              <a:ext cx="340560" cy="145800"/>
            </a:xfrm>
            <a:prstGeom prst="parallelogram">
              <a:avLst>
                <a:gd name="adj" fmla="val 6411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19960" y="5749560"/>
              <a:ext cx="68400" cy="244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686560" y="5654520"/>
            <a:ext cx="314280" cy="339840"/>
            <a:chOff x="5686560" y="5654520"/>
            <a:chExt cx="314280" cy="339840"/>
          </a:xfrm>
        </p:grpSpPr>
        <p:sp>
          <p:nvSpPr>
            <p:cNvPr id="434" name=""/>
            <p:cNvSpPr/>
            <p:nvPr/>
          </p:nvSpPr>
          <p:spPr>
            <a:xfrm flipH="1">
              <a:off x="5686560" y="5843880"/>
              <a:ext cx="167760" cy="150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rot="16200000">
              <a:off x="5804280" y="5798520"/>
              <a:ext cx="245160" cy="145800"/>
            </a:xfrm>
            <a:prstGeom prst="parallelogram">
              <a:avLst>
                <a:gd name="adj" fmla="val 6554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86560" y="5654520"/>
              <a:ext cx="314280" cy="18936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6962760" y="5637240"/>
            <a:ext cx="311040" cy="339840"/>
            <a:chOff x="6962760" y="5637240"/>
            <a:chExt cx="311040" cy="339840"/>
          </a:xfrm>
        </p:grpSpPr>
        <p:sp>
          <p:nvSpPr>
            <p:cNvPr id="438" name=""/>
            <p:cNvSpPr/>
            <p:nvPr/>
          </p:nvSpPr>
          <p:spPr>
            <a:xfrm>
              <a:off x="7108920" y="5826600"/>
              <a:ext cx="68400" cy="150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5400000">
              <a:off x="6912720" y="5781240"/>
              <a:ext cx="245160" cy="145440"/>
            </a:xfrm>
            <a:prstGeom prst="parallelogram">
              <a:avLst>
                <a:gd name="adj" fmla="val 6570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5637240"/>
              <a:ext cx="311040" cy="18864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rot="16200000">
              <a:off x="7053480" y="5757120"/>
              <a:ext cx="339120" cy="99000"/>
            </a:xfrm>
            <a:prstGeom prst="parallelogram">
              <a:avLst>
                <a:gd name="adj" fmla="val 19309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7178760" y="5748480"/>
            <a:ext cx="314280" cy="228240"/>
            <a:chOff x="7178760" y="5748480"/>
            <a:chExt cx="314280" cy="228240"/>
          </a:xfrm>
        </p:grpSpPr>
        <p:sp>
          <p:nvSpPr>
            <p:cNvPr id="443" name=""/>
            <p:cNvSpPr/>
            <p:nvPr/>
          </p:nvSpPr>
          <p:spPr>
            <a:xfrm flipH="1">
              <a:off x="7178760" y="5937840"/>
              <a:ext cx="167040" cy="38880"/>
            </a:xfrm>
            <a:prstGeom prst="rect">
              <a:avLst/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rot="16200000">
              <a:off x="7353000" y="5837760"/>
              <a:ext cx="132120" cy="145800"/>
            </a:xfrm>
            <a:prstGeom prst="parallelogram">
              <a:avLst>
                <a:gd name="adj" fmla="val 70440"/>
              </a:avLst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78760" y="5748480"/>
              <a:ext cx="314280" cy="18936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7178760" y="5564160"/>
            <a:ext cx="315720" cy="228240"/>
            <a:chOff x="7178760" y="5564160"/>
            <a:chExt cx="315720" cy="228240"/>
          </a:xfrm>
        </p:grpSpPr>
        <p:sp>
          <p:nvSpPr>
            <p:cNvPr id="447" name=""/>
            <p:cNvSpPr/>
            <p:nvPr/>
          </p:nvSpPr>
          <p:spPr>
            <a:xfrm flipH="1">
              <a:off x="7178760" y="5753520"/>
              <a:ext cx="167760" cy="38880"/>
            </a:xfrm>
            <a:prstGeom prst="rect">
              <a:avLst/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rot="16200000">
              <a:off x="7354080" y="5653080"/>
              <a:ext cx="132120" cy="146520"/>
            </a:xfrm>
            <a:prstGeom prst="parallelogram">
              <a:avLst>
                <a:gd name="adj" fmla="val 70440"/>
              </a:avLst>
            </a:pr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178760" y="5564160"/>
              <a:ext cx="315720" cy="18936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cc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102120" y="5864400"/>
            <a:ext cx="895320" cy="36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33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59400" y="5786280"/>
            <a:ext cx="896760" cy="135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33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53040" y="5864400"/>
            <a:ext cx="895320" cy="363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33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rot="16200000">
            <a:off x="2929680" y="5642640"/>
            <a:ext cx="160200" cy="146160"/>
          </a:xfrm>
          <a:prstGeom prst="parallelogram">
            <a:avLst>
              <a:gd name="adj" fmla="val 677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70200" y="5541840"/>
            <a:ext cx="314280" cy="190800"/>
          </a:xfrm>
          <a:custGeom>
            <a:avLst/>
            <a:gdLst/>
            <a:ahLst/>
            <a:rect l="l" t="t" r="r" b="b"/>
            <a:pathLst>
              <a:path w="431" h="228">
                <a:moveTo>
                  <a:pt x="0" y="227"/>
                </a:moveTo>
                <a:lnTo>
                  <a:pt x="225" y="228"/>
                </a:lnTo>
                <a:lnTo>
                  <a:pt x="431" y="113"/>
                </a:lnTo>
                <a:lnTo>
                  <a:pt x="226" y="0"/>
                </a:lnTo>
                <a:lnTo>
                  <a:pt x="131" y="0"/>
                </a:lnTo>
                <a:lnTo>
                  <a:pt x="0" y="22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769480" y="5732640"/>
            <a:ext cx="166680" cy="63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553840" y="5376960"/>
            <a:ext cx="313920" cy="264600"/>
            <a:chOff x="2553840" y="5376960"/>
            <a:chExt cx="313920" cy="264600"/>
          </a:xfrm>
        </p:grpSpPr>
        <p:sp>
          <p:nvSpPr>
            <p:cNvPr id="457" name=""/>
            <p:cNvSpPr/>
            <p:nvPr/>
          </p:nvSpPr>
          <p:spPr>
            <a:xfrm>
              <a:off x="2702880" y="5584320"/>
              <a:ext cx="67680" cy="1800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02880" y="5565240"/>
              <a:ext cx="67680" cy="1800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54200" y="5376960"/>
              <a:ext cx="311400" cy="18900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02880" y="5622840"/>
              <a:ext cx="67680" cy="1800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02880" y="5603400"/>
              <a:ext cx="67680" cy="1800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5400000">
              <a:off x="2570040" y="5511600"/>
              <a:ext cx="113400" cy="145800"/>
            </a:xfrm>
            <a:prstGeom prst="parallelogram">
              <a:avLst>
                <a:gd name="adj" fmla="val 83088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rot="16200000">
              <a:off x="2714040" y="5488200"/>
              <a:ext cx="207360" cy="99000"/>
            </a:xfrm>
            <a:prstGeom prst="parallelogram">
              <a:avLst>
                <a:gd name="adj" fmla="val 190972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rot="16200000">
              <a:off x="2714040" y="5469120"/>
              <a:ext cx="207360" cy="99000"/>
            </a:xfrm>
            <a:prstGeom prst="parallelogram">
              <a:avLst>
                <a:gd name="adj" fmla="val 190972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rot="16200000">
              <a:off x="2714040" y="5450040"/>
              <a:ext cx="207360" cy="99000"/>
            </a:xfrm>
            <a:prstGeom prst="parallelogram">
              <a:avLst>
                <a:gd name="adj" fmla="val 190972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rot="16200000">
              <a:off x="2714040" y="5430960"/>
              <a:ext cx="207360" cy="99000"/>
            </a:xfrm>
            <a:prstGeom prst="parallelogram">
              <a:avLst>
                <a:gd name="adj" fmla="val 190972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5400000">
              <a:off x="2570040" y="5492160"/>
              <a:ext cx="113040" cy="145800"/>
            </a:xfrm>
            <a:prstGeom prst="parallelogram">
              <a:avLst>
                <a:gd name="adj" fmla="val 83088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5400000">
              <a:off x="2570040" y="5473080"/>
              <a:ext cx="113400" cy="145800"/>
            </a:xfrm>
            <a:prstGeom prst="parallelogram">
              <a:avLst>
                <a:gd name="adj" fmla="val 83088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5400000">
              <a:off x="2570040" y="5454000"/>
              <a:ext cx="113400" cy="145800"/>
            </a:xfrm>
            <a:prstGeom prst="parallelogram">
              <a:avLst>
                <a:gd name="adj" fmla="val 83088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769840" y="5487840"/>
            <a:ext cx="166680" cy="153720"/>
            <a:chOff x="2769840" y="5487840"/>
            <a:chExt cx="166680" cy="153720"/>
          </a:xfrm>
        </p:grpSpPr>
        <p:sp>
          <p:nvSpPr>
            <p:cNvPr id="471" name=""/>
            <p:cNvSpPr/>
            <p:nvPr/>
          </p:nvSpPr>
          <p:spPr>
            <a:xfrm flipH="1">
              <a:off x="2769480" y="5601960"/>
              <a:ext cx="166680" cy="39600"/>
            </a:xfrm>
            <a:prstGeom prst="rect">
              <a:avLst/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769480" y="5564160"/>
              <a:ext cx="166680" cy="39600"/>
            </a:xfrm>
            <a:prstGeom prst="rect">
              <a:avLst/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769480" y="5525640"/>
              <a:ext cx="166680" cy="39600"/>
            </a:xfrm>
            <a:prstGeom prst="rect">
              <a:avLst/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2769480" y="5487840"/>
              <a:ext cx="166680" cy="39600"/>
            </a:xfrm>
            <a:prstGeom prst="rect">
              <a:avLst/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2938320" y="5396040"/>
            <a:ext cx="146160" cy="245520"/>
            <a:chOff x="2938320" y="5396040"/>
            <a:chExt cx="146160" cy="245520"/>
          </a:xfrm>
        </p:grpSpPr>
        <p:sp>
          <p:nvSpPr>
            <p:cNvPr id="476" name=""/>
            <p:cNvSpPr/>
            <p:nvPr/>
          </p:nvSpPr>
          <p:spPr>
            <a:xfrm flipH="1" rot="16200000">
              <a:off x="2944800" y="5501880"/>
              <a:ext cx="132840" cy="146160"/>
            </a:xfrm>
            <a:prstGeom prst="parallelogram">
              <a:avLst>
                <a:gd name="adj" fmla="val 70440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 rot="16200000">
              <a:off x="2944800" y="5464440"/>
              <a:ext cx="133200" cy="146160"/>
            </a:xfrm>
            <a:prstGeom prst="parallelogram">
              <a:avLst>
                <a:gd name="adj" fmla="val 70440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rot="16200000">
              <a:off x="2944800" y="5426640"/>
              <a:ext cx="132840" cy="146160"/>
            </a:xfrm>
            <a:prstGeom prst="parallelogram">
              <a:avLst>
                <a:gd name="adj" fmla="val 70440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rot="16200000">
              <a:off x="2944800" y="5389200"/>
              <a:ext cx="132840" cy="146160"/>
            </a:xfrm>
            <a:prstGeom prst="parallelogram">
              <a:avLst>
                <a:gd name="adj" fmla="val 70440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2770200" y="5299200"/>
            <a:ext cx="314280" cy="188640"/>
          </a:xfrm>
          <a:custGeom>
            <a:avLst/>
            <a:gdLst/>
            <a:ahLst/>
            <a:rect l="l" t="t" r="r" b="b"/>
            <a:pathLst>
              <a:path w="431" h="228">
                <a:moveTo>
                  <a:pt x="0" y="227"/>
                </a:moveTo>
                <a:lnTo>
                  <a:pt x="225" y="228"/>
                </a:lnTo>
                <a:lnTo>
                  <a:pt x="431" y="113"/>
                </a:lnTo>
                <a:lnTo>
                  <a:pt x="226" y="0"/>
                </a:lnTo>
                <a:lnTo>
                  <a:pt x="131" y="0"/>
                </a:lnTo>
                <a:lnTo>
                  <a:pt x="0" y="227"/>
                </a:lnTo>
                <a:close/>
              </a:path>
            </a:pathLst>
          </a:custGeom>
          <a:solidFill>
            <a:srgbClr val="ffe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553840" y="5111640"/>
            <a:ext cx="313920" cy="264960"/>
            <a:chOff x="2553840" y="5111640"/>
            <a:chExt cx="313920" cy="264960"/>
          </a:xfrm>
        </p:grpSpPr>
        <p:sp>
          <p:nvSpPr>
            <p:cNvPr id="482" name=""/>
            <p:cNvSpPr/>
            <p:nvPr/>
          </p:nvSpPr>
          <p:spPr>
            <a:xfrm>
              <a:off x="2702880" y="5319360"/>
              <a:ext cx="67680" cy="18360"/>
            </a:xfrm>
            <a:prstGeom prst="rect">
              <a:avLst/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02880" y="5300280"/>
              <a:ext cx="67680" cy="18360"/>
            </a:xfrm>
            <a:prstGeom prst="rect">
              <a:avLst/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554200" y="5111640"/>
              <a:ext cx="311400" cy="18936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02880" y="5357880"/>
              <a:ext cx="67680" cy="18360"/>
            </a:xfrm>
            <a:prstGeom prst="rect">
              <a:avLst/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02880" y="5338440"/>
              <a:ext cx="67680" cy="18360"/>
            </a:xfrm>
            <a:prstGeom prst="rect">
              <a:avLst/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5400000">
              <a:off x="2570040" y="5246280"/>
              <a:ext cx="113400" cy="145800"/>
            </a:xfrm>
            <a:prstGeom prst="parallelogram">
              <a:avLst>
                <a:gd name="adj" fmla="val 83088"/>
              </a:avLst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 rot="16200000">
              <a:off x="2714040" y="5223240"/>
              <a:ext cx="207720" cy="99000"/>
            </a:xfrm>
            <a:prstGeom prst="parallelogram">
              <a:avLst>
                <a:gd name="adj" fmla="val 191304"/>
              </a:avLst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rot="16200000">
              <a:off x="2714040" y="5204160"/>
              <a:ext cx="207720" cy="99000"/>
            </a:xfrm>
            <a:prstGeom prst="parallelogram">
              <a:avLst>
                <a:gd name="adj" fmla="val 191304"/>
              </a:avLst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rot="16200000">
              <a:off x="2714040" y="5185080"/>
              <a:ext cx="207720" cy="99000"/>
            </a:xfrm>
            <a:prstGeom prst="parallelogram">
              <a:avLst>
                <a:gd name="adj" fmla="val 191304"/>
              </a:avLst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rot="16200000">
              <a:off x="2714040" y="5166000"/>
              <a:ext cx="207720" cy="99000"/>
            </a:xfrm>
            <a:prstGeom prst="parallelogram">
              <a:avLst>
                <a:gd name="adj" fmla="val 191304"/>
              </a:avLst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5400000">
              <a:off x="2570040" y="5227200"/>
              <a:ext cx="113400" cy="145800"/>
            </a:xfrm>
            <a:prstGeom prst="parallelogram">
              <a:avLst>
                <a:gd name="adj" fmla="val 83088"/>
              </a:avLst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2570040" y="5207760"/>
              <a:ext cx="113400" cy="145800"/>
            </a:xfrm>
            <a:prstGeom prst="parallelogram">
              <a:avLst>
                <a:gd name="adj" fmla="val 83088"/>
              </a:avLst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2570040" y="5188680"/>
              <a:ext cx="113400" cy="145800"/>
            </a:xfrm>
            <a:prstGeom prst="parallelogram">
              <a:avLst>
                <a:gd name="adj" fmla="val 83088"/>
              </a:avLst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556000" y="4734000"/>
            <a:ext cx="312480" cy="341280"/>
            <a:chOff x="2556000" y="4734000"/>
            <a:chExt cx="312480" cy="341280"/>
          </a:xfrm>
        </p:grpSpPr>
        <p:sp>
          <p:nvSpPr>
            <p:cNvPr id="496" name=""/>
            <p:cNvSpPr/>
            <p:nvPr/>
          </p:nvSpPr>
          <p:spPr>
            <a:xfrm>
              <a:off x="2702880" y="4924080"/>
              <a:ext cx="68760" cy="150840"/>
            </a:xfrm>
            <a:prstGeom prst="rect">
              <a:avLst/>
            </a:prstGeom>
            <a:solidFill>
              <a:srgbClr val="ffd8b1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5400000">
              <a:off x="2505960" y="4879080"/>
              <a:ext cx="246240" cy="146160"/>
            </a:xfrm>
            <a:prstGeom prst="parallelogram">
              <a:avLst>
                <a:gd name="adj" fmla="val 65673"/>
              </a:avLst>
            </a:prstGeom>
            <a:solidFill>
              <a:srgbClr val="ffd8b1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56000" y="4734000"/>
              <a:ext cx="312480" cy="18936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d8b1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rot="16200000">
              <a:off x="2648160" y="4854600"/>
              <a:ext cx="340560" cy="99360"/>
            </a:xfrm>
            <a:prstGeom prst="parallelogram">
              <a:avLst>
                <a:gd name="adj" fmla="val 193211"/>
              </a:avLst>
            </a:prstGeom>
            <a:solidFill>
              <a:srgbClr val="ffd8b1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2554200" y="4375080"/>
            <a:ext cx="314280" cy="342720"/>
            <a:chOff x="2554200" y="4375080"/>
            <a:chExt cx="314280" cy="342720"/>
          </a:xfrm>
        </p:grpSpPr>
        <p:grpSp>
          <p:nvGrpSpPr>
            <p:cNvPr id="501" name=""/>
            <p:cNvGrpSpPr/>
            <p:nvPr/>
          </p:nvGrpSpPr>
          <p:grpSpPr>
            <a:xfrm>
              <a:off x="2554200" y="4375800"/>
              <a:ext cx="314280" cy="342000"/>
              <a:chOff x="2554200" y="4375800"/>
              <a:chExt cx="314280" cy="342000"/>
            </a:xfrm>
          </p:grpSpPr>
          <p:grpSp>
            <p:nvGrpSpPr>
              <p:cNvPr id="502" name=""/>
              <p:cNvGrpSpPr/>
              <p:nvPr/>
            </p:nvGrpSpPr>
            <p:grpSpPr>
              <a:xfrm>
                <a:off x="2697840" y="4563720"/>
                <a:ext cx="67680" cy="151920"/>
                <a:chOff x="2697840" y="4563720"/>
                <a:chExt cx="67680" cy="1519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2697840" y="4676400"/>
                  <a:ext cx="67680" cy="39240"/>
                </a:xfrm>
                <a:prstGeom prst="rect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697840" y="4638960"/>
                  <a:ext cx="67680" cy="39240"/>
                </a:xfrm>
                <a:prstGeom prst="rect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697840" y="4601160"/>
                  <a:ext cx="67680" cy="39240"/>
                </a:xfrm>
                <a:prstGeom prst="rect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697840" y="4563720"/>
                  <a:ext cx="67680" cy="39240"/>
                </a:xfrm>
                <a:prstGeom prst="rect">
                  <a:avLst/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2769120" y="4375800"/>
                <a:ext cx="99360" cy="342000"/>
                <a:chOff x="2769120" y="4375800"/>
                <a:chExt cx="99360" cy="342000"/>
              </a:xfrm>
            </p:grpSpPr>
            <p:sp>
              <p:nvSpPr>
                <p:cNvPr id="508" name=""/>
                <p:cNvSpPr/>
                <p:nvPr/>
              </p:nvSpPr>
              <p:spPr>
                <a:xfrm flipH="1" rot="16200000">
                  <a:off x="2705400" y="4554720"/>
                  <a:ext cx="226800" cy="99360"/>
                </a:xfrm>
                <a:prstGeom prst="parallelogram">
                  <a:avLst>
                    <a:gd name="adj" fmla="val 191326"/>
                  </a:avLst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rot="16200000">
                  <a:off x="2705040" y="4516200"/>
                  <a:ext cx="227160" cy="99360"/>
                </a:xfrm>
                <a:prstGeom prst="parallelogram">
                  <a:avLst>
                    <a:gd name="adj" fmla="val 191631"/>
                  </a:avLst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 rot="16200000">
                  <a:off x="2705040" y="4477680"/>
                  <a:ext cx="227160" cy="99360"/>
                </a:xfrm>
                <a:prstGeom prst="parallelogram">
                  <a:avLst>
                    <a:gd name="adj" fmla="val 191631"/>
                  </a:avLst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 rot="16200000">
                  <a:off x="2705040" y="4439520"/>
                  <a:ext cx="227160" cy="99360"/>
                </a:xfrm>
                <a:prstGeom prst="parallelogram">
                  <a:avLst>
                    <a:gd name="adj" fmla="val 191631"/>
                  </a:avLst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554200" y="4470120"/>
                <a:ext cx="146160" cy="245520"/>
                <a:chOff x="2554200" y="4470120"/>
                <a:chExt cx="146160" cy="245520"/>
              </a:xfrm>
            </p:grpSpPr>
            <p:sp>
              <p:nvSpPr>
                <p:cNvPr id="513" name=""/>
                <p:cNvSpPr/>
                <p:nvPr/>
              </p:nvSpPr>
              <p:spPr>
                <a:xfrm rot="5400000">
                  <a:off x="2560680" y="4575960"/>
                  <a:ext cx="132840" cy="146160"/>
                </a:xfrm>
                <a:prstGeom prst="parallelogram">
                  <a:avLst>
                    <a:gd name="adj" fmla="val 70440"/>
                  </a:avLst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5400000">
                  <a:off x="2560680" y="4538160"/>
                  <a:ext cx="132840" cy="146160"/>
                </a:xfrm>
                <a:prstGeom prst="parallelogram">
                  <a:avLst>
                    <a:gd name="adj" fmla="val 70440"/>
                  </a:avLst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5400000">
                  <a:off x="2560680" y="4500720"/>
                  <a:ext cx="132840" cy="146160"/>
                </a:xfrm>
                <a:prstGeom prst="parallelogram">
                  <a:avLst>
                    <a:gd name="adj" fmla="val 70440"/>
                  </a:avLst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5400000">
                  <a:off x="2560680" y="4463280"/>
                  <a:ext cx="132840" cy="146160"/>
                </a:xfrm>
                <a:prstGeom prst="parallelogram">
                  <a:avLst>
                    <a:gd name="adj" fmla="val 70440"/>
                  </a:avLst>
                </a:prstGeom>
                <a:solidFill>
                  <a:srgbClr val="ccff99"/>
                </a:solidFill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7" name=""/>
            <p:cNvSpPr/>
            <p:nvPr/>
          </p:nvSpPr>
          <p:spPr>
            <a:xfrm>
              <a:off x="2554200" y="4375080"/>
              <a:ext cx="312120" cy="18936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 rot="5400000">
            <a:off x="2504160" y="4520160"/>
            <a:ext cx="245880" cy="146160"/>
          </a:xfrm>
          <a:prstGeom prst="parallelogram">
            <a:avLst>
              <a:gd name="adj" fmla="val 655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00360" y="4565520"/>
            <a:ext cx="69840" cy="15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rot="16200000">
            <a:off x="2648160" y="4495680"/>
            <a:ext cx="339840" cy="98280"/>
          </a:xfrm>
          <a:prstGeom prst="parallelogram">
            <a:avLst>
              <a:gd name="adj" fmla="val 19492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819520" y="5243400"/>
            <a:ext cx="117360" cy="18900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819520" y="4886280"/>
            <a:ext cx="117360" cy="54612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4545000"/>
            <a:ext cx="117360" cy="887400"/>
          </a:xfrm>
          <a:prstGeom prst="line">
            <a:avLst/>
          </a:prstGeom>
          <a:ln w="93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769480" y="5489640"/>
            <a:ext cx="166680" cy="15228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rot="16200000">
            <a:off x="2887560" y="5445000"/>
            <a:ext cx="247680" cy="146160"/>
          </a:xfrm>
          <a:prstGeom prst="parallelogram">
            <a:avLst>
              <a:gd name="adj" fmla="val 66057"/>
            </a:avLst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36800" y="4576680"/>
            <a:ext cx="65160" cy="1233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803680" y="4913280"/>
            <a:ext cx="98280" cy="897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05120" y="5305320"/>
            <a:ext cx="96840" cy="505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539800" y="4246560"/>
            <a:ext cx="562320" cy="1793520"/>
            <a:chOff x="2539800" y="4246560"/>
            <a:chExt cx="562320" cy="1793520"/>
          </a:xfrm>
        </p:grpSpPr>
        <p:sp>
          <p:nvSpPr>
            <p:cNvPr id="530" name=""/>
            <p:cNvSpPr/>
            <p:nvPr/>
          </p:nvSpPr>
          <p:spPr>
            <a:xfrm>
              <a:off x="2540160" y="4246560"/>
              <a:ext cx="561960" cy="187920"/>
            </a:xfrm>
            <a:prstGeom prst="hexagon">
              <a:avLst>
                <a:gd name="adj" fmla="val 89214"/>
                <a:gd name="vf" fmla="val 115470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02520" y="4435200"/>
              <a:ext cx="231120" cy="1604880"/>
            </a:xfrm>
            <a:prstGeom prst="rect">
              <a:avLst/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1771200" y="5109840"/>
              <a:ext cx="1698840" cy="161640"/>
            </a:xfrm>
            <a:prstGeom prst="parallelogram">
              <a:avLst>
                <a:gd name="adj" fmla="val 58146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6200000">
              <a:off x="2168640" y="5108040"/>
              <a:ext cx="1698840" cy="165240"/>
            </a:xfrm>
            <a:prstGeom prst="parallelogram">
              <a:avLst>
                <a:gd name="adj" fmla="val 57926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028760" y="5543640"/>
            <a:ext cx="311400" cy="250200"/>
            <a:chOff x="4028760" y="5543640"/>
            <a:chExt cx="311400" cy="250200"/>
          </a:xfrm>
        </p:grpSpPr>
        <p:sp>
          <p:nvSpPr>
            <p:cNvPr id="535" name=""/>
            <p:cNvSpPr/>
            <p:nvPr/>
          </p:nvSpPr>
          <p:spPr>
            <a:xfrm>
              <a:off x="4029120" y="5543640"/>
              <a:ext cx="311040" cy="18936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178160" y="5731920"/>
              <a:ext cx="66960" cy="61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5400000">
              <a:off x="4024080" y="5641920"/>
              <a:ext cx="154800" cy="145800"/>
            </a:xfrm>
            <a:prstGeom prst="parallelogram">
              <a:avLst>
                <a:gd name="adj" fmla="val 64549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 flipH="1" rot="16200000">
            <a:off x="4188960" y="5642640"/>
            <a:ext cx="208080" cy="98280"/>
          </a:xfrm>
          <a:prstGeom prst="parallelogram">
            <a:avLst>
              <a:gd name="adj" fmla="val 193039"/>
            </a:avLst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rot="16200000">
            <a:off x="4188960" y="5622120"/>
            <a:ext cx="208080" cy="98280"/>
          </a:xfrm>
          <a:prstGeom prst="parallelogram">
            <a:avLst>
              <a:gd name="adj" fmla="val 193039"/>
            </a:avLst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 rot="16200000">
            <a:off x="4189680" y="5603760"/>
            <a:ext cx="206640" cy="98280"/>
          </a:xfrm>
          <a:prstGeom prst="parallelogram">
            <a:avLst>
              <a:gd name="adj" fmla="val 191703"/>
            </a:avLst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rot="16200000">
            <a:off x="4189680" y="5584680"/>
            <a:ext cx="206640" cy="98280"/>
          </a:xfrm>
          <a:prstGeom prst="parallelogram">
            <a:avLst>
              <a:gd name="adj" fmla="val 191703"/>
            </a:avLst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030560" y="5310360"/>
            <a:ext cx="313200" cy="341280"/>
            <a:chOff x="4030560" y="5310360"/>
            <a:chExt cx="313200" cy="341280"/>
          </a:xfrm>
        </p:grpSpPr>
        <p:grpSp>
          <p:nvGrpSpPr>
            <p:cNvPr id="543" name=""/>
            <p:cNvGrpSpPr/>
            <p:nvPr/>
          </p:nvGrpSpPr>
          <p:grpSpPr>
            <a:xfrm>
              <a:off x="4244760" y="5311440"/>
              <a:ext cx="99000" cy="340200"/>
              <a:chOff x="4244760" y="5311440"/>
              <a:chExt cx="99000" cy="340200"/>
            </a:xfrm>
          </p:grpSpPr>
          <p:sp>
            <p:nvSpPr>
              <p:cNvPr id="544" name=""/>
              <p:cNvSpPr/>
              <p:nvPr/>
            </p:nvSpPr>
            <p:spPr>
              <a:xfrm flipH="1" rot="16200000">
                <a:off x="4181040" y="5489280"/>
                <a:ext cx="225720" cy="99000"/>
              </a:xfrm>
              <a:prstGeom prst="parallelogram">
                <a:avLst>
                  <a:gd name="adj" fmla="val 191108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 rot="16200000">
                <a:off x="4181040" y="5451120"/>
                <a:ext cx="225720" cy="99000"/>
              </a:xfrm>
              <a:prstGeom prst="parallelogram">
                <a:avLst>
                  <a:gd name="adj" fmla="val 191108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 rot="16200000">
                <a:off x="4181040" y="5412960"/>
                <a:ext cx="225720" cy="99000"/>
              </a:xfrm>
              <a:prstGeom prst="parallelogram">
                <a:avLst>
                  <a:gd name="adj" fmla="val 191108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 rot="16200000">
                <a:off x="4181040" y="5374800"/>
                <a:ext cx="225720" cy="99000"/>
              </a:xfrm>
              <a:prstGeom prst="parallelogram">
                <a:avLst>
                  <a:gd name="adj" fmla="val 191108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4178160" y="5499360"/>
              <a:ext cx="66960" cy="150840"/>
              <a:chOff x="4178160" y="5499360"/>
              <a:chExt cx="66960" cy="150840"/>
            </a:xfrm>
          </p:grpSpPr>
          <p:sp>
            <p:nvSpPr>
              <p:cNvPr id="549" name=""/>
              <p:cNvSpPr/>
              <p:nvPr/>
            </p:nvSpPr>
            <p:spPr>
              <a:xfrm>
                <a:off x="4178160" y="5611320"/>
                <a:ext cx="66960" cy="38880"/>
              </a:xfrm>
              <a:prstGeom prst="rect">
                <a:avLst/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178160" y="5573880"/>
                <a:ext cx="66960" cy="38880"/>
              </a:xfrm>
              <a:prstGeom prst="rect">
                <a:avLst/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178160" y="5536440"/>
                <a:ext cx="66960" cy="38880"/>
              </a:xfrm>
              <a:prstGeom prst="rect">
                <a:avLst/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78160" y="5499360"/>
                <a:ext cx="66960" cy="38880"/>
              </a:xfrm>
              <a:prstGeom prst="rect">
                <a:avLst/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4030560" y="5406840"/>
              <a:ext cx="146160" cy="243000"/>
              <a:chOff x="4030560" y="5406840"/>
              <a:chExt cx="146160" cy="243000"/>
            </a:xfrm>
          </p:grpSpPr>
          <p:sp>
            <p:nvSpPr>
              <p:cNvPr id="554" name=""/>
              <p:cNvSpPr/>
              <p:nvPr/>
            </p:nvSpPr>
            <p:spPr>
              <a:xfrm rot="5400000">
                <a:off x="4037760" y="5510880"/>
                <a:ext cx="131400" cy="146160"/>
              </a:xfrm>
              <a:prstGeom prst="parallelogram">
                <a:avLst>
                  <a:gd name="adj" fmla="val 70440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rot="5400000">
                <a:off x="4037760" y="5473800"/>
                <a:ext cx="131760" cy="146160"/>
              </a:xfrm>
              <a:prstGeom prst="parallelogram">
                <a:avLst>
                  <a:gd name="adj" fmla="val 70440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rot="5400000">
                <a:off x="4037760" y="5436360"/>
                <a:ext cx="131400" cy="146160"/>
              </a:xfrm>
              <a:prstGeom prst="parallelogram">
                <a:avLst>
                  <a:gd name="adj" fmla="val 70440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rot="5400000">
                <a:off x="4037760" y="5399280"/>
                <a:ext cx="131400" cy="146160"/>
              </a:xfrm>
              <a:prstGeom prst="parallelogram">
                <a:avLst>
                  <a:gd name="adj" fmla="val 70440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8" name=""/>
            <p:cNvSpPr/>
            <p:nvPr/>
          </p:nvSpPr>
          <p:spPr>
            <a:xfrm>
              <a:off x="4030560" y="5310360"/>
              <a:ext cx="312840" cy="187920"/>
            </a:xfrm>
            <a:custGeom>
              <a:avLst/>
              <a:gdLst/>
              <a:ahLst/>
              <a:rect l="l" t="t" r="r" b="b"/>
              <a:pathLst>
                <a:path w="427" h="227">
                  <a:moveTo>
                    <a:pt x="0" y="113"/>
                  </a:moveTo>
                  <a:lnTo>
                    <a:pt x="204" y="227"/>
                  </a:lnTo>
                  <a:lnTo>
                    <a:pt x="295" y="227"/>
                  </a:lnTo>
                  <a:lnTo>
                    <a:pt x="427" y="1"/>
                  </a:lnTo>
                  <a:lnTo>
                    <a:pt x="20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f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72400" y="5498280"/>
              <a:ext cx="68400" cy="15084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5400000">
              <a:off x="3981240" y="5453640"/>
              <a:ext cx="244800" cy="146160"/>
            </a:xfrm>
            <a:prstGeom prst="parallelogram">
              <a:avLst>
                <a:gd name="adj" fmla="val 65289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rot="16200000">
              <a:off x="4124520" y="5430240"/>
              <a:ext cx="338760" cy="99000"/>
            </a:xfrm>
            <a:prstGeom prst="parallelogram">
              <a:avLst>
                <a:gd name="adj" fmla="val 192889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244760" y="5543640"/>
            <a:ext cx="314640" cy="433080"/>
            <a:chOff x="4244760" y="5543640"/>
            <a:chExt cx="314640" cy="433080"/>
          </a:xfrm>
        </p:grpSpPr>
        <p:sp>
          <p:nvSpPr>
            <p:cNvPr id="563" name=""/>
            <p:cNvSpPr/>
            <p:nvPr/>
          </p:nvSpPr>
          <p:spPr>
            <a:xfrm flipH="1">
              <a:off x="4244400" y="5732280"/>
              <a:ext cx="167400" cy="244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rot="16200000">
              <a:off x="4316400" y="5734800"/>
              <a:ext cx="338040" cy="145800"/>
            </a:xfrm>
            <a:prstGeom prst="parallelogram">
              <a:avLst>
                <a:gd name="adj" fmla="val 6364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45120" y="5543640"/>
              <a:ext cx="314280" cy="18864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013280" y="5143680"/>
            <a:ext cx="565200" cy="866520"/>
            <a:chOff x="4013280" y="5143680"/>
            <a:chExt cx="565200" cy="866520"/>
          </a:xfrm>
        </p:grpSpPr>
        <p:sp>
          <p:nvSpPr>
            <p:cNvPr id="567" name=""/>
            <p:cNvSpPr/>
            <p:nvPr/>
          </p:nvSpPr>
          <p:spPr>
            <a:xfrm>
              <a:off x="4013280" y="5143680"/>
              <a:ext cx="565200" cy="187560"/>
            </a:xfrm>
            <a:prstGeom prst="hexagon">
              <a:avLst>
                <a:gd name="adj" fmla="val 89900"/>
                <a:gd name="vf" fmla="val 115470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76720" y="5331240"/>
              <a:ext cx="232200" cy="678960"/>
            </a:xfrm>
            <a:prstGeom prst="rect">
              <a:avLst/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708360" y="5542200"/>
              <a:ext cx="772560" cy="162720"/>
            </a:xfrm>
            <a:prstGeom prst="parallelogram">
              <a:avLst>
                <a:gd name="adj" fmla="val 56666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 rot="16200000">
              <a:off x="4109040" y="5540400"/>
              <a:ext cx="772560" cy="166320"/>
            </a:xfrm>
            <a:prstGeom prst="parallelogram">
              <a:avLst>
                <a:gd name="adj" fmla="val 54923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 flipH="1" rot="16200000">
            <a:off x="5850360" y="5659920"/>
            <a:ext cx="157320" cy="146160"/>
          </a:xfrm>
          <a:prstGeom prst="parallelogram">
            <a:avLst>
              <a:gd name="adj" fmla="val 63903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86560" y="5559480"/>
            <a:ext cx="315720" cy="191880"/>
          </a:xfrm>
          <a:custGeom>
            <a:avLst/>
            <a:gdLst/>
            <a:ahLst/>
            <a:rect l="l" t="t" r="r" b="b"/>
            <a:pathLst>
              <a:path w="431" h="228">
                <a:moveTo>
                  <a:pt x="0" y="227"/>
                </a:moveTo>
                <a:lnTo>
                  <a:pt x="225" y="228"/>
                </a:lnTo>
                <a:lnTo>
                  <a:pt x="431" y="113"/>
                </a:lnTo>
                <a:lnTo>
                  <a:pt x="226" y="0"/>
                </a:lnTo>
                <a:lnTo>
                  <a:pt x="131" y="0"/>
                </a:lnTo>
                <a:lnTo>
                  <a:pt x="0" y="227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5685840" y="5751360"/>
            <a:ext cx="168120" cy="5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5687640" y="5310360"/>
            <a:ext cx="314640" cy="341280"/>
            <a:chOff x="5687640" y="5310360"/>
            <a:chExt cx="314640" cy="341280"/>
          </a:xfrm>
        </p:grpSpPr>
        <p:grpSp>
          <p:nvGrpSpPr>
            <p:cNvPr id="575" name=""/>
            <p:cNvGrpSpPr/>
            <p:nvPr/>
          </p:nvGrpSpPr>
          <p:grpSpPr>
            <a:xfrm>
              <a:off x="5688000" y="5499360"/>
              <a:ext cx="166320" cy="151920"/>
              <a:chOff x="5688000" y="5499360"/>
              <a:chExt cx="166320" cy="151920"/>
            </a:xfrm>
          </p:grpSpPr>
          <p:sp>
            <p:nvSpPr>
              <p:cNvPr id="576" name=""/>
              <p:cNvSpPr/>
              <p:nvPr/>
            </p:nvSpPr>
            <p:spPr>
              <a:xfrm flipH="1">
                <a:off x="5688000" y="5612040"/>
                <a:ext cx="166320" cy="39240"/>
              </a:xfrm>
              <a:prstGeom prst="rect">
                <a:avLst/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5688000" y="5574600"/>
                <a:ext cx="166320" cy="39240"/>
              </a:xfrm>
              <a:prstGeom prst="rect">
                <a:avLst/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5688000" y="5536800"/>
                <a:ext cx="166320" cy="39240"/>
              </a:xfrm>
              <a:prstGeom prst="rect">
                <a:avLst/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5688000" y="5499360"/>
                <a:ext cx="166320" cy="39240"/>
              </a:xfrm>
              <a:prstGeom prst="rect">
                <a:avLst/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5856120" y="5406840"/>
              <a:ext cx="145800" cy="244800"/>
              <a:chOff x="5856120" y="5406840"/>
              <a:chExt cx="145800" cy="244800"/>
            </a:xfrm>
          </p:grpSpPr>
          <p:sp>
            <p:nvSpPr>
              <p:cNvPr id="581" name=""/>
              <p:cNvSpPr/>
              <p:nvPr/>
            </p:nvSpPr>
            <p:spPr>
              <a:xfrm flipH="1" rot="16200000">
                <a:off x="5862240" y="5512320"/>
                <a:ext cx="132480" cy="145800"/>
              </a:xfrm>
              <a:prstGeom prst="parallelogram">
                <a:avLst>
                  <a:gd name="adj" fmla="val 70440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 rot="16200000">
                <a:off x="5862240" y="5474520"/>
                <a:ext cx="132480" cy="145800"/>
              </a:xfrm>
              <a:prstGeom prst="parallelogram">
                <a:avLst>
                  <a:gd name="adj" fmla="val 70440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 rot="16200000">
                <a:off x="5862240" y="5437080"/>
                <a:ext cx="132480" cy="145800"/>
              </a:xfrm>
              <a:prstGeom prst="parallelogram">
                <a:avLst>
                  <a:gd name="adj" fmla="val 70440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rot="16200000">
                <a:off x="5862240" y="5400000"/>
                <a:ext cx="132480" cy="145800"/>
              </a:xfrm>
              <a:prstGeom prst="parallelogram">
                <a:avLst>
                  <a:gd name="adj" fmla="val 70440"/>
                </a:avLst>
              </a:prstGeom>
              <a:solidFill>
                <a:srgbClr val="ffe1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5688000" y="5310360"/>
              <a:ext cx="314280" cy="18900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>
              <a:off x="5687280" y="5500800"/>
              <a:ext cx="168120" cy="15084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rot="16200000">
              <a:off x="5805000" y="5455440"/>
              <a:ext cx="245880" cy="145800"/>
            </a:xfrm>
            <a:prstGeom prst="parallelogram">
              <a:avLst>
                <a:gd name="adj" fmla="val 65739"/>
              </a:avLst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6964200" y="5549760"/>
            <a:ext cx="311400" cy="189000"/>
          </a:xfrm>
          <a:custGeom>
            <a:avLst/>
            <a:gdLst/>
            <a:ahLst/>
            <a:rect l="l" t="t" r="r" b="b"/>
            <a:pathLst>
              <a:path w="427" h="227">
                <a:moveTo>
                  <a:pt x="0" y="113"/>
                </a:moveTo>
                <a:lnTo>
                  <a:pt x="204" y="227"/>
                </a:lnTo>
                <a:lnTo>
                  <a:pt x="295" y="227"/>
                </a:lnTo>
                <a:lnTo>
                  <a:pt x="427" y="1"/>
                </a:lnTo>
                <a:lnTo>
                  <a:pt x="204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113600" y="5742000"/>
            <a:ext cx="66600" cy="52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rot="5400000">
            <a:off x="6960960" y="5648040"/>
            <a:ext cx="152280" cy="146160"/>
          </a:xfrm>
          <a:prstGeom prst="parallelogram">
            <a:avLst>
              <a:gd name="adj" fmla="val 6183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rot="16200000">
            <a:off x="7124760" y="5641920"/>
            <a:ext cx="208080" cy="100080"/>
          </a:xfrm>
          <a:prstGeom prst="parallelogram">
            <a:avLst>
              <a:gd name="adj" fmla="val 189567"/>
            </a:avLst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 rot="16200000">
            <a:off x="7124760" y="5621400"/>
            <a:ext cx="208080" cy="100080"/>
          </a:xfrm>
          <a:prstGeom prst="parallelogram">
            <a:avLst>
              <a:gd name="adj" fmla="val 189567"/>
            </a:avLst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rot="16200000">
            <a:off x="7125480" y="5603040"/>
            <a:ext cx="206640" cy="100080"/>
          </a:xfrm>
          <a:prstGeom prst="parallelogram">
            <a:avLst>
              <a:gd name="adj" fmla="val 188255"/>
            </a:avLst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 rot="16200000">
            <a:off x="7125480" y="5583960"/>
            <a:ext cx="206640" cy="100080"/>
          </a:xfrm>
          <a:prstGeom prst="parallelogram">
            <a:avLst>
              <a:gd name="adj" fmla="val 188255"/>
            </a:avLst>
          </a:prstGeom>
          <a:solidFill>
            <a:srgbClr val="ffffcc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7178040" y="5300640"/>
            <a:ext cx="98280" cy="340920"/>
            <a:chOff x="7178040" y="5300640"/>
            <a:chExt cx="98280" cy="340920"/>
          </a:xfrm>
        </p:grpSpPr>
        <p:sp>
          <p:nvSpPr>
            <p:cNvPr id="596" name=""/>
            <p:cNvSpPr/>
            <p:nvPr/>
          </p:nvSpPr>
          <p:spPr>
            <a:xfrm flipH="1" rot="16200000">
              <a:off x="7113600" y="5479200"/>
              <a:ext cx="226080" cy="98280"/>
            </a:xfrm>
            <a:prstGeom prst="parallelogram">
              <a:avLst>
                <a:gd name="adj" fmla="val 192815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rot="16200000">
              <a:off x="7113600" y="5441040"/>
              <a:ext cx="226440" cy="98280"/>
            </a:xfrm>
            <a:prstGeom prst="parallelogram">
              <a:avLst>
                <a:gd name="adj" fmla="val 193122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rot="16200000">
              <a:off x="7113600" y="5402880"/>
              <a:ext cx="226440" cy="98280"/>
            </a:xfrm>
            <a:prstGeom prst="parallelogram">
              <a:avLst>
                <a:gd name="adj" fmla="val 193122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rot="16200000">
              <a:off x="7113600" y="5364720"/>
              <a:ext cx="226440" cy="98280"/>
            </a:xfrm>
            <a:prstGeom prst="parallelogram">
              <a:avLst>
                <a:gd name="adj" fmla="val 193122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7110360" y="5489640"/>
            <a:ext cx="68400" cy="152280"/>
            <a:chOff x="7110360" y="5489640"/>
            <a:chExt cx="68400" cy="152280"/>
          </a:xfrm>
        </p:grpSpPr>
        <p:sp>
          <p:nvSpPr>
            <p:cNvPr id="601" name=""/>
            <p:cNvSpPr/>
            <p:nvPr/>
          </p:nvSpPr>
          <p:spPr>
            <a:xfrm>
              <a:off x="7110360" y="5602680"/>
              <a:ext cx="68400" cy="39240"/>
            </a:xfrm>
            <a:prstGeom prst="rect">
              <a:avLst/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110360" y="5564880"/>
              <a:ext cx="68400" cy="39240"/>
            </a:xfrm>
            <a:prstGeom prst="rect">
              <a:avLst/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110360" y="5527080"/>
              <a:ext cx="68400" cy="39240"/>
            </a:xfrm>
            <a:prstGeom prst="rect">
              <a:avLst/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110360" y="5489640"/>
              <a:ext cx="68400" cy="39240"/>
            </a:xfrm>
            <a:prstGeom prst="rect">
              <a:avLst/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962760" y="5396040"/>
            <a:ext cx="146160" cy="245520"/>
            <a:chOff x="6962760" y="5396040"/>
            <a:chExt cx="146160" cy="245520"/>
          </a:xfrm>
        </p:grpSpPr>
        <p:sp>
          <p:nvSpPr>
            <p:cNvPr id="606" name=""/>
            <p:cNvSpPr/>
            <p:nvPr/>
          </p:nvSpPr>
          <p:spPr>
            <a:xfrm rot="5400000">
              <a:off x="6969240" y="5501880"/>
              <a:ext cx="132840" cy="146160"/>
            </a:xfrm>
            <a:prstGeom prst="parallelogram">
              <a:avLst>
                <a:gd name="adj" fmla="val 70440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5400000">
              <a:off x="6969240" y="5464440"/>
              <a:ext cx="133200" cy="146160"/>
            </a:xfrm>
            <a:prstGeom prst="parallelogram">
              <a:avLst>
                <a:gd name="adj" fmla="val 70440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5400000">
              <a:off x="6969240" y="5426640"/>
              <a:ext cx="132840" cy="146160"/>
            </a:xfrm>
            <a:prstGeom prst="parallelogram">
              <a:avLst>
                <a:gd name="adj" fmla="val 70440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5400000">
              <a:off x="6969240" y="5389200"/>
              <a:ext cx="132840" cy="146160"/>
            </a:xfrm>
            <a:prstGeom prst="parallelogram">
              <a:avLst>
                <a:gd name="adj" fmla="val 70440"/>
              </a:avLst>
            </a:prstGeom>
            <a:solidFill>
              <a:srgbClr val="ffe1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6962760" y="5299200"/>
            <a:ext cx="312840" cy="188640"/>
          </a:xfrm>
          <a:custGeom>
            <a:avLst/>
            <a:gdLst/>
            <a:ahLst/>
            <a:rect l="l" t="t" r="r" b="b"/>
            <a:pathLst>
              <a:path w="427" h="227">
                <a:moveTo>
                  <a:pt x="0" y="113"/>
                </a:moveTo>
                <a:lnTo>
                  <a:pt x="204" y="227"/>
                </a:lnTo>
                <a:lnTo>
                  <a:pt x="295" y="227"/>
                </a:lnTo>
                <a:lnTo>
                  <a:pt x="427" y="1"/>
                </a:lnTo>
                <a:lnTo>
                  <a:pt x="204" y="0"/>
                </a:lnTo>
                <a:lnTo>
                  <a:pt x="0" y="113"/>
                </a:lnTo>
                <a:close/>
              </a:path>
            </a:pathLst>
          </a:custGeom>
          <a:solidFill>
            <a:srgbClr val="ffe1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5400000">
            <a:off x="6912000" y="5443560"/>
            <a:ext cx="247680" cy="146160"/>
          </a:xfrm>
          <a:prstGeom prst="parallelogram">
            <a:avLst>
              <a:gd name="adj" fmla="val 66057"/>
            </a:avLst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 rot="16200000">
            <a:off x="7056000" y="5420520"/>
            <a:ext cx="341280" cy="98280"/>
          </a:xfrm>
          <a:prstGeom prst="parallelogram">
            <a:avLst>
              <a:gd name="adj" fmla="val 1957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7178400" y="5375160"/>
            <a:ext cx="314640" cy="266760"/>
            <a:chOff x="7178400" y="5375160"/>
            <a:chExt cx="314640" cy="266760"/>
          </a:xfrm>
        </p:grpSpPr>
        <p:grpSp>
          <p:nvGrpSpPr>
            <p:cNvPr id="614" name=""/>
            <p:cNvGrpSpPr/>
            <p:nvPr/>
          </p:nvGrpSpPr>
          <p:grpSpPr>
            <a:xfrm>
              <a:off x="7347240" y="5470920"/>
              <a:ext cx="145800" cy="170640"/>
              <a:chOff x="7347240" y="5470920"/>
              <a:chExt cx="145800" cy="170640"/>
            </a:xfrm>
          </p:grpSpPr>
          <p:sp>
            <p:nvSpPr>
              <p:cNvPr id="615" name=""/>
              <p:cNvSpPr/>
              <p:nvPr/>
            </p:nvSpPr>
            <p:spPr>
              <a:xfrm flipH="1" rot="16200000">
                <a:off x="7363080" y="5511960"/>
                <a:ext cx="113400" cy="145800"/>
              </a:xfrm>
              <a:prstGeom prst="parallelogram">
                <a:avLst>
                  <a:gd name="adj" fmla="val 83088"/>
                </a:avLst>
              </a:prstGeom>
              <a:solidFill>
                <a:srgbClr val="ffe1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 rot="16200000">
                <a:off x="7363080" y="5492880"/>
                <a:ext cx="113400" cy="145800"/>
              </a:xfrm>
              <a:prstGeom prst="parallelogram">
                <a:avLst>
                  <a:gd name="adj" fmla="val 83088"/>
                </a:avLst>
              </a:prstGeom>
              <a:solidFill>
                <a:srgbClr val="ffe1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rot="16200000">
                <a:off x="7363080" y="5473800"/>
                <a:ext cx="113400" cy="145800"/>
              </a:xfrm>
              <a:prstGeom prst="parallelogram">
                <a:avLst>
                  <a:gd name="adj" fmla="val 83088"/>
                </a:avLst>
              </a:prstGeom>
              <a:solidFill>
                <a:srgbClr val="ffe1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 rot="16200000">
                <a:off x="7363080" y="5454720"/>
                <a:ext cx="113400" cy="145800"/>
              </a:xfrm>
              <a:prstGeom prst="parallelogram">
                <a:avLst>
                  <a:gd name="adj" fmla="val 83088"/>
                </a:avLst>
              </a:prstGeom>
              <a:solidFill>
                <a:srgbClr val="ffe1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 flipH="1">
              <a:off x="7178040" y="5565240"/>
              <a:ext cx="166680" cy="1908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78760" y="5375160"/>
              <a:ext cx="314280" cy="19008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e1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7178040" y="5584320"/>
              <a:ext cx="166680" cy="1908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7178040" y="5603400"/>
              <a:ext cx="166680" cy="1908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178040" y="5622840"/>
              <a:ext cx="166680" cy="19080"/>
            </a:xfrm>
            <a:prstGeom prst="rect">
              <a:avLst/>
            </a:prstGeom>
            <a:solidFill>
              <a:srgbClr val="ffe1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7178400" y="5111640"/>
            <a:ext cx="314640" cy="264960"/>
            <a:chOff x="7178400" y="5111640"/>
            <a:chExt cx="314640" cy="264960"/>
          </a:xfrm>
        </p:grpSpPr>
        <p:grpSp>
          <p:nvGrpSpPr>
            <p:cNvPr id="625" name=""/>
            <p:cNvGrpSpPr/>
            <p:nvPr/>
          </p:nvGrpSpPr>
          <p:grpSpPr>
            <a:xfrm>
              <a:off x="7347240" y="5206680"/>
              <a:ext cx="145800" cy="169560"/>
              <a:chOff x="7347240" y="5206680"/>
              <a:chExt cx="145800" cy="169560"/>
            </a:xfrm>
          </p:grpSpPr>
          <p:sp>
            <p:nvSpPr>
              <p:cNvPr id="626" name=""/>
              <p:cNvSpPr/>
              <p:nvPr/>
            </p:nvSpPr>
            <p:spPr>
              <a:xfrm flipH="1" rot="16200000">
                <a:off x="7363440" y="5247000"/>
                <a:ext cx="112680" cy="145800"/>
              </a:xfrm>
              <a:prstGeom prst="parallelogram">
                <a:avLst>
                  <a:gd name="adj" fmla="val 83088"/>
                </a:avLst>
              </a:prstGeom>
              <a:solidFill>
                <a:srgbClr val="e7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 rot="16200000">
                <a:off x="7363440" y="5228280"/>
                <a:ext cx="112680" cy="145800"/>
              </a:xfrm>
              <a:prstGeom prst="parallelogram">
                <a:avLst>
                  <a:gd name="adj" fmla="val 83088"/>
                </a:avLst>
              </a:prstGeom>
              <a:solidFill>
                <a:srgbClr val="e7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rot="16200000">
                <a:off x="7363440" y="5208840"/>
                <a:ext cx="112680" cy="145800"/>
              </a:xfrm>
              <a:prstGeom prst="parallelogram">
                <a:avLst>
                  <a:gd name="adj" fmla="val 83088"/>
                </a:avLst>
              </a:prstGeom>
              <a:solidFill>
                <a:srgbClr val="e7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rot="16200000">
                <a:off x="7363440" y="5190120"/>
                <a:ext cx="112680" cy="145800"/>
              </a:xfrm>
              <a:prstGeom prst="parallelogram">
                <a:avLst>
                  <a:gd name="adj" fmla="val 83088"/>
                </a:avLst>
              </a:prstGeom>
              <a:solidFill>
                <a:srgbClr val="e7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7178040" y="5300640"/>
              <a:ext cx="166680" cy="18720"/>
            </a:xfrm>
            <a:prstGeom prst="rect">
              <a:avLst/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78760" y="5111640"/>
              <a:ext cx="314280" cy="18900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7178040" y="5319720"/>
              <a:ext cx="166680" cy="18720"/>
            </a:xfrm>
            <a:prstGeom prst="rect">
              <a:avLst/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7178040" y="5338800"/>
              <a:ext cx="166680" cy="19080"/>
            </a:xfrm>
            <a:prstGeom prst="rect">
              <a:avLst/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7178040" y="5357880"/>
              <a:ext cx="166680" cy="18720"/>
            </a:xfrm>
            <a:prstGeom prst="rect">
              <a:avLst/>
            </a:prstGeom>
            <a:solidFill>
              <a:srgbClr val="e7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7178760" y="4735440"/>
            <a:ext cx="314280" cy="339840"/>
            <a:chOff x="7178760" y="4735440"/>
            <a:chExt cx="314280" cy="339840"/>
          </a:xfrm>
        </p:grpSpPr>
        <p:sp>
          <p:nvSpPr>
            <p:cNvPr id="636" name=""/>
            <p:cNvSpPr/>
            <p:nvPr/>
          </p:nvSpPr>
          <p:spPr>
            <a:xfrm flipH="1">
              <a:off x="7178760" y="4924800"/>
              <a:ext cx="167760" cy="150480"/>
            </a:xfrm>
            <a:prstGeom prst="rect">
              <a:avLst/>
            </a:prstGeom>
            <a:solidFill>
              <a:srgbClr val="ffd8b1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rot="16200000">
              <a:off x="7296480" y="4879440"/>
              <a:ext cx="245160" cy="145800"/>
            </a:xfrm>
            <a:prstGeom prst="parallelogram">
              <a:avLst>
                <a:gd name="adj" fmla="val 65547"/>
              </a:avLst>
            </a:prstGeom>
            <a:solidFill>
              <a:srgbClr val="ffd8b1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78760" y="4735440"/>
              <a:ext cx="314280" cy="18936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ffd8b1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7178760" y="4375080"/>
            <a:ext cx="314280" cy="341280"/>
            <a:chOff x="7178760" y="4375080"/>
            <a:chExt cx="314280" cy="341280"/>
          </a:xfrm>
        </p:grpSpPr>
        <p:grpSp>
          <p:nvGrpSpPr>
            <p:cNvPr id="640" name=""/>
            <p:cNvGrpSpPr/>
            <p:nvPr/>
          </p:nvGrpSpPr>
          <p:grpSpPr>
            <a:xfrm>
              <a:off x="7178760" y="4564800"/>
              <a:ext cx="167040" cy="151200"/>
              <a:chOff x="7178760" y="4564800"/>
              <a:chExt cx="167040" cy="151200"/>
            </a:xfrm>
          </p:grpSpPr>
          <p:sp>
            <p:nvSpPr>
              <p:cNvPr id="641" name=""/>
              <p:cNvSpPr/>
              <p:nvPr/>
            </p:nvSpPr>
            <p:spPr>
              <a:xfrm flipH="1">
                <a:off x="7178760" y="4677120"/>
                <a:ext cx="167040" cy="38880"/>
              </a:xfrm>
              <a:prstGeom prst="rect">
                <a:avLst/>
              </a:prstGeom>
              <a:solidFill>
                <a:srgbClr val="ccff99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7178760" y="4639680"/>
                <a:ext cx="167040" cy="38880"/>
              </a:xfrm>
              <a:prstGeom prst="rect">
                <a:avLst/>
              </a:prstGeom>
              <a:solidFill>
                <a:srgbClr val="ccff99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7178760" y="4602240"/>
                <a:ext cx="167040" cy="38880"/>
              </a:xfrm>
              <a:prstGeom prst="rect">
                <a:avLst/>
              </a:prstGeom>
              <a:solidFill>
                <a:srgbClr val="ccff99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7178760" y="4564800"/>
                <a:ext cx="167040" cy="38880"/>
              </a:xfrm>
              <a:prstGeom prst="rect">
                <a:avLst/>
              </a:prstGeom>
              <a:solidFill>
                <a:srgbClr val="ccff99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920" bIns="-7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7347240" y="4471560"/>
              <a:ext cx="145800" cy="244800"/>
              <a:chOff x="7347240" y="4471560"/>
              <a:chExt cx="145800" cy="244800"/>
            </a:xfrm>
          </p:grpSpPr>
          <p:sp>
            <p:nvSpPr>
              <p:cNvPr id="646" name=""/>
              <p:cNvSpPr/>
              <p:nvPr/>
            </p:nvSpPr>
            <p:spPr>
              <a:xfrm flipH="1" rot="16200000">
                <a:off x="7353360" y="4577040"/>
                <a:ext cx="132480" cy="145800"/>
              </a:xfrm>
              <a:prstGeom prst="parallelogram">
                <a:avLst>
                  <a:gd name="adj" fmla="val 70440"/>
                </a:avLst>
              </a:prstGeom>
              <a:solidFill>
                <a:srgbClr val="ccff99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rot="16200000">
                <a:off x="7353360" y="4539240"/>
                <a:ext cx="132480" cy="145800"/>
              </a:xfrm>
              <a:prstGeom prst="parallelogram">
                <a:avLst>
                  <a:gd name="adj" fmla="val 70440"/>
                </a:avLst>
              </a:prstGeom>
              <a:solidFill>
                <a:srgbClr val="ccff99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 rot="16200000">
                <a:off x="7353360" y="4501800"/>
                <a:ext cx="132480" cy="145800"/>
              </a:xfrm>
              <a:prstGeom prst="parallelogram">
                <a:avLst>
                  <a:gd name="adj" fmla="val 70440"/>
                </a:avLst>
              </a:prstGeom>
              <a:solidFill>
                <a:srgbClr val="ccff99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 rot="16200000">
                <a:off x="7353360" y="4464720"/>
                <a:ext cx="132480" cy="145800"/>
              </a:xfrm>
              <a:prstGeom prst="parallelogram">
                <a:avLst>
                  <a:gd name="adj" fmla="val 70440"/>
                </a:avLst>
              </a:prstGeom>
              <a:solidFill>
                <a:srgbClr val="ccff99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7178760" y="4375080"/>
              <a:ext cx="314280" cy="18972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ccff99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7178760" y="4373640"/>
            <a:ext cx="314280" cy="341280"/>
            <a:chOff x="7178760" y="4373640"/>
            <a:chExt cx="314280" cy="341280"/>
          </a:xfrm>
        </p:grpSpPr>
        <p:sp>
          <p:nvSpPr>
            <p:cNvPr id="652" name=""/>
            <p:cNvSpPr/>
            <p:nvPr/>
          </p:nvSpPr>
          <p:spPr>
            <a:xfrm flipH="1">
              <a:off x="7178760" y="4563720"/>
              <a:ext cx="167760" cy="15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6200000">
              <a:off x="7295760" y="4518720"/>
              <a:ext cx="246240" cy="145800"/>
            </a:xfrm>
            <a:prstGeom prst="parallelogram">
              <a:avLst>
                <a:gd name="adj" fmla="val 6583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78760" y="4373640"/>
              <a:ext cx="314280" cy="190080"/>
            </a:xfrm>
            <a:custGeom>
              <a:avLst/>
              <a:gdLst/>
              <a:ahLst/>
              <a:rect l="l" t="t" r="r" b="b"/>
              <a:pathLst>
                <a:path w="431" h="228">
                  <a:moveTo>
                    <a:pt x="0" y="227"/>
                  </a:moveTo>
                  <a:lnTo>
                    <a:pt x="225" y="228"/>
                  </a:lnTo>
                  <a:lnTo>
                    <a:pt x="431" y="113"/>
                  </a:lnTo>
                  <a:lnTo>
                    <a:pt x="226" y="0"/>
                  </a:lnTo>
                  <a:lnTo>
                    <a:pt x="131" y="0"/>
                  </a:lnTo>
                  <a:lnTo>
                    <a:pt x="0" y="227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108920" y="5487840"/>
            <a:ext cx="69840" cy="152640"/>
          </a:xfrm>
          <a:prstGeom prst="rect">
            <a:avLst/>
          </a:prstGeom>
          <a:solidFill>
            <a:srgbClr val="ff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128000" y="4576680"/>
            <a:ext cx="117360" cy="1263600"/>
            <a:chOff x="7128000" y="4576680"/>
            <a:chExt cx="117360" cy="1263600"/>
          </a:xfrm>
        </p:grpSpPr>
        <p:sp>
          <p:nvSpPr>
            <p:cNvPr id="657" name=""/>
            <p:cNvSpPr/>
            <p:nvPr/>
          </p:nvSpPr>
          <p:spPr>
            <a:xfrm flipH="1">
              <a:off x="7128000" y="5274720"/>
              <a:ext cx="117360" cy="188640"/>
            </a:xfrm>
            <a:prstGeom prst="line">
              <a:avLst/>
            </a:prstGeom>
            <a:ln w="9360">
              <a:solidFill>
                <a:srgbClr val="66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128000" y="4915800"/>
              <a:ext cx="117360" cy="547200"/>
            </a:xfrm>
            <a:prstGeom prst="line">
              <a:avLst/>
            </a:prstGeom>
            <a:ln w="9360">
              <a:solidFill>
                <a:srgbClr val="66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128000" y="4576680"/>
              <a:ext cx="117360" cy="886680"/>
            </a:xfrm>
            <a:prstGeom prst="line">
              <a:avLst/>
            </a:prstGeom>
            <a:ln w="9360">
              <a:solidFill>
                <a:srgbClr val="66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128000" y="4576680"/>
              <a:ext cx="117360" cy="12636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7128000" y="4935240"/>
              <a:ext cx="117360" cy="9050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128000" y="5274720"/>
              <a:ext cx="117360" cy="565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6948360" y="4246560"/>
            <a:ext cx="561960" cy="1793520"/>
            <a:chOff x="6948360" y="4246560"/>
            <a:chExt cx="561960" cy="1793520"/>
          </a:xfrm>
        </p:grpSpPr>
        <p:sp>
          <p:nvSpPr>
            <p:cNvPr id="664" name=""/>
            <p:cNvSpPr/>
            <p:nvPr/>
          </p:nvSpPr>
          <p:spPr>
            <a:xfrm>
              <a:off x="6948360" y="4246560"/>
              <a:ext cx="561960" cy="187560"/>
            </a:xfrm>
            <a:prstGeom prst="hexagon">
              <a:avLst>
                <a:gd name="adj" fmla="val 89385"/>
                <a:gd name="vf" fmla="val 115470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10360" y="4435200"/>
              <a:ext cx="231840" cy="1604880"/>
            </a:xfrm>
            <a:prstGeom prst="rect">
              <a:avLst/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6179760" y="5109480"/>
              <a:ext cx="1698840" cy="162000"/>
            </a:xfrm>
            <a:prstGeom prst="parallelogram">
              <a:avLst>
                <a:gd name="adj" fmla="val 58016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rot="16200000">
              <a:off x="6577200" y="5108400"/>
              <a:ext cx="1698840" cy="164520"/>
            </a:xfrm>
            <a:prstGeom prst="parallelogram">
              <a:avLst>
                <a:gd name="adj" fmla="val 58180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455800" y="5157720"/>
            <a:ext cx="564120" cy="868320"/>
            <a:chOff x="5455800" y="5157720"/>
            <a:chExt cx="564120" cy="868320"/>
          </a:xfrm>
        </p:grpSpPr>
        <p:sp>
          <p:nvSpPr>
            <p:cNvPr id="669" name=""/>
            <p:cNvSpPr/>
            <p:nvPr/>
          </p:nvSpPr>
          <p:spPr>
            <a:xfrm>
              <a:off x="5456160" y="5157720"/>
              <a:ext cx="563760" cy="187920"/>
            </a:xfrm>
            <a:prstGeom prst="hexagon">
              <a:avLst>
                <a:gd name="adj" fmla="val 89500"/>
                <a:gd name="vf" fmla="val 115470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19240" y="5345640"/>
              <a:ext cx="231840" cy="680400"/>
            </a:xfrm>
            <a:prstGeom prst="rect">
              <a:avLst/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400000">
              <a:off x="5149800" y="5557680"/>
              <a:ext cx="774360" cy="162360"/>
            </a:xfrm>
            <a:prstGeom prst="parallelogram">
              <a:avLst>
                <a:gd name="adj" fmla="val 56924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rot="16200000">
              <a:off x="5548680" y="5555880"/>
              <a:ext cx="774360" cy="165960"/>
            </a:xfrm>
            <a:prstGeom prst="parallelogram">
              <a:avLst>
                <a:gd name="adj" fmla="val 55170"/>
              </a:avLst>
            </a:prstGeom>
            <a:solidFill>
              <a:srgbClr val="eaeaea">
                <a:alpha val="40000"/>
              </a:srgbClr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 flipH="1" flipV="1">
            <a:off x="3102120" y="5116680"/>
            <a:ext cx="598320" cy="2966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4643280" y="5603760"/>
            <a:ext cx="687600" cy="3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6184440" y="5116680"/>
            <a:ext cx="676440" cy="3697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510320" y="5816520"/>
            <a:ext cx="331920" cy="0"/>
          </a:xfrm>
          <a:prstGeom prst="line">
            <a:avLst/>
          </a:prstGeom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Cloud"/>
          <p:cNvSpPr/>
          <p:nvPr/>
        </p:nvSpPr>
        <p:spPr>
          <a:xfrm>
            <a:off x="7810560" y="5703840"/>
            <a:ext cx="974520" cy="24624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538760" y="5722920"/>
            <a:ext cx="1605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Optical/TDM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O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68640" y="6004080"/>
            <a:ext cx="928800" cy="0"/>
          </a:xfrm>
          <a:prstGeom prst="line">
            <a:avLst/>
          </a:prstGeom>
          <a:ln w="936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560840" y="6004080"/>
            <a:ext cx="928800" cy="0"/>
          </a:xfrm>
          <a:prstGeom prst="line">
            <a:avLst/>
          </a:prstGeom>
          <a:ln w="936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053040" y="6004080"/>
            <a:ext cx="928800" cy="0"/>
          </a:xfrm>
          <a:prstGeom prst="line">
            <a:avLst/>
          </a:prstGeom>
          <a:ln w="9360">
            <a:solidFill>
              <a:srgbClr val="00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46040" y="595152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P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14560" y="595152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P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106680" y="59706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MP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504080" y="345456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Multilayer pass-through networ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243320" y="5321160"/>
            <a:ext cx="16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 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590480" y="285480"/>
            <a:ext cx="755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hotonic network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8" name=""/>
          <p:cNvSpPr/>
          <p:nvPr/>
        </p:nvSpPr>
        <p:spPr>
          <a:xfrm>
            <a:off x="6905520" y="6006960"/>
            <a:ext cx="11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ge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98560" y="0"/>
            <a:ext cx="54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Verdana"/>
              </a:rPr>
              <a:t>Desired standardization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95800" y="3889440"/>
            <a:ext cx="35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MPLS based 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pping onto L1 to pass as much 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41600" y="987480"/>
            <a:ext cx="7502400" cy="1998720"/>
          </a:xfrm>
          <a:prstGeom prst="rect">
            <a:avLst/>
          </a:prstGeom>
          <a:solidFill>
            <a:srgbClr val="ff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7960" indent="-237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s of Tbit/s throughput will be needed in N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ore network architecture should be discussed and standardiz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TT is studying “multilayer pass-through network architecture” as one proposal for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7960" indent="-2379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758D-FFB3-4D3A-82B2-36B08A5F5FB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7FDDD20-3E5B-4C2E-8232-B3A84144EC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TSB</dc:creator>
  <dc:description/>
  <dc:language>en-US</dc:language>
  <cp:lastModifiedBy>hanazawa </cp:lastModifiedBy>
  <cp:lastPrinted>2003-06-18T05:40:22Z</cp:lastPrinted>
  <dcterms:modified xsi:type="dcterms:W3CDTF">2003-06-19T05:10:28Z</dcterms:modified>
  <cp:revision>167</cp:revision>
  <dc:subject/>
  <dc:title>afaefafe</dc:title>
</cp:coreProperties>
</file>