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8EC6-0235-4BFA-978E-BB9018E7DC78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Click to move the slide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E1FC-E88F-486C-A8ED-B44331831E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ore’s law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cessing powers of computers doubles every eighteen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ILDER'S Law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ndwidth grows at least three times faster than computer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TCALFE's la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that network value rises by the square of the number of term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lecosm’s la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The value of a network grows by the square of the processing power of all the terminals attached t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law defined by computer designe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e Amdah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dains that system speed is determined by the slowest component in the data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w of conduits and cont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content a network owns the more content flows through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llusion of e-commerce in term of total amount of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nsaction is irrelevant of the value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sing a catalogue is free and time consuming, while the transaction requires only a few 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ost important was when David Gann took a group from the department of trade and Industry to visit it and a member misunderstood the instructions for the lavatory bowl's integrated bidet feature and ended up with his trousers soa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D0EB-EACC-45FA-9EDA-ABE15BDB5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5FEC-0A46-4DC9-916A-611916E42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44C40-57B3-40FC-A819-6EA0490A4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0537-9050-468C-A899-0D8BC6E09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440" y="685440"/>
            <a:ext cx="786132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78FD-C030-4543-9543-D3E497674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8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8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85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396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85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396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E7B3-A36A-412B-9415-A262D9AA8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921D-EDCF-4560-98CE-D4C21104F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5AD1-4792-4374-B00E-1E87F5B2B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85440"/>
            <a:ext cx="786132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710F-4576-448D-A812-A6AB006BE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B7DE-12D3-4F1F-9B18-2F9AF4E6D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4AD9-590F-447C-966F-F6C01086D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DE93-94BC-4B5A-91E7-E0021A40F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8400" indent="-4284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857160" indent="-257040">
              <a:spcBef>
                <a:spcPts val="799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234440" indent="-205560">
              <a:spcBef>
                <a:spcPts val="799"/>
              </a:spcBef>
              <a:buClr>
                <a:srgbClr val="3333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11360" indent="-205560">
              <a:spcBef>
                <a:spcPts val="799"/>
              </a:spcBef>
              <a:buClr>
                <a:srgbClr val="333333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988640" indent="-205560">
              <a:spcBef>
                <a:spcPts val="799"/>
              </a:spcBef>
              <a:buClr>
                <a:srgbClr val="333333"/>
              </a:buClr>
              <a:buFont typeface="NewsGotT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988640" indent="-205560">
              <a:spcBef>
                <a:spcPts val="799"/>
              </a:spcBef>
              <a:buClr>
                <a:srgbClr val="333333"/>
              </a:buClr>
              <a:buFont typeface="NewsGotT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988640" indent="-205560">
              <a:spcBef>
                <a:spcPts val="799"/>
              </a:spcBef>
              <a:buClr>
                <a:srgbClr val="333333"/>
              </a:buClr>
              <a:buFont typeface="NewsGotTM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09480" y="6324120"/>
            <a:ext cx="693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0c5c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0c5c6"/>
                </a:solidFill>
                <a:latin typeface="Arial"/>
              </a:rPr>
              <a:t>NGN Workshop, Geneva, 9-10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2012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0c5c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79F8-DCCD-4A07-81FE-C03217A189A6}" type="slidenum">
              <a:rPr b="1" lang="en-US" sz="1200" spc="-1" strike="noStrike">
                <a:solidFill>
                  <a:srgbClr val="a0c5c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4" name="EUR-logo-presentation1" descr=""/>
          <p:cNvPicPr/>
          <p:nvPr/>
        </p:nvPicPr>
        <p:blipFill>
          <a:blip r:embed="rId2"/>
          <a:stretch/>
        </p:blipFill>
        <p:spPr>
          <a:xfrm>
            <a:off x="0" y="0"/>
            <a:ext cx="242244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d9a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9a9b"/>
                </a:solidFill>
                <a:latin typeface="Arial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UR-logo-presentation1" descr=""/>
          <p:cNvPicPr/>
          <p:nvPr/>
        </p:nvPicPr>
        <p:blipFill>
          <a:blip r:embed="rId2"/>
          <a:stretch/>
        </p:blipFill>
        <p:spPr>
          <a:xfrm>
            <a:off x="0" y="0"/>
            <a:ext cx="242244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ITU Workshop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5050"/>
                </a:solidFill>
                <a:latin typeface="Arial"/>
              </a:rPr>
              <a:t>“</a:t>
            </a:r>
            <a:r>
              <a:rPr b="1" i="1" lang="en-GB" sz="4000" spc="-1" strike="noStrike">
                <a:solidFill>
                  <a:srgbClr val="ff5050"/>
                </a:solidFill>
                <a:latin typeface="Arial"/>
              </a:rPr>
              <a:t>New generation Networks;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5050"/>
                </a:solidFill>
                <a:latin typeface="Arial"/>
              </a:rPr>
              <a:t>what, when and how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Geneva 9-10 July 200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429000"/>
            <a:ext cx="8458200" cy="24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9a9b"/>
                </a:solidFill>
                <a:latin typeface="Arial"/>
              </a:rPr>
              <a:t>“</a:t>
            </a:r>
            <a:r>
              <a:rPr b="1" lang="en-GB" sz="3600" spc="-1" strike="noStrike">
                <a:solidFill>
                  <a:srgbClr val="5d9a9b"/>
                </a:solidFill>
                <a:latin typeface="Arial"/>
              </a:rPr>
              <a:t>ICT and NGN: innovation for a better quality of life”</a:t>
            </a: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Claudio Carrell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Director Euresco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1298-84AC-4278-A788-A31646F01EF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relevance of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“quality of life!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7848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first TV remote control in 19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alled “Lazy bones” and wireli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..Flashmatic, ..Spacecommand..195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ts percentage on price exceeded 30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How much would you save today to live without it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3E14-899D-4E4D-8353-763BFCE972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wo main comments on future developments and 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key to succes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C2C1B-7AB7-4123-9D61-F74A91332E1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3300"/>
                </a:solidFill>
                <a:latin typeface="Arial Rounded MT Bold"/>
              </a:rPr>
              <a:t>1.Local first, networked follow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Stereo records and stereo broadcas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Movies and T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Photo and telephoto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DVD ... HDT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Multimedia terminal equipment, and then broadband communic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Intelligent housewares ….networked home</a:t>
            </a:r>
            <a:r>
              <a:rPr b="0" lang="fr-FR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B34D0-9E63-43C5-957C-4022680B078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2.Simplicity will win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success of a simpler technology against a more complex one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Telephone over telegrap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IP and internet vs ISD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SMS vs ISDN D-chann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i-mode vs WA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Blue-tooth vs DEC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.and what about Wi-Fi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18AE9-537D-4257-A233-B0652072A9A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70468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Network evolution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51CD1-75DD-4488-83CC-209855FB470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3300"/>
                </a:solidFill>
                <a:latin typeface="Arial Rounded MT Bold"/>
              </a:rPr>
              <a:t>The basic pillars of telecom network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25520" y="2641320"/>
            <a:ext cx="668664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Switching systems (nodes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ransmission systems (links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Access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Terminal equip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F34CD-C974-4C32-93E9-FA19F0487A2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The temple of telecommunications networks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6484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FEAB-DD25-48C3-BD33-40AC28F2861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The “Easy Side” of the Problem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Trunk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High capac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Flexible multiplex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Variable bandwid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Customer premises equip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Advanced multimedia technolog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52560" indent="-285840">
              <a:spcBef>
                <a:spcPts val="700"/>
              </a:spcBef>
              <a:buClr>
                <a:srgbClr val="3333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33"/>
                </a:solidFill>
                <a:latin typeface="Arial"/>
              </a:rPr>
              <a:t>High bandwidth, bursty traffic requiremen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CB37-6175-4321-8491-678B300B678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… </a:t>
            </a: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And the More Challenging Issues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"/>
              </a:rPr>
              <a:t>Access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Copper wire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optical fibre/coax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wireless technology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"/>
              </a:rPr>
              <a:t>Switching technolog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synchronous/asynchronous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  <a:p>
            <a:pPr lvl="2" marL="137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33"/>
                </a:solidFill>
                <a:latin typeface="Arial"/>
              </a:rPr>
              <a:t>integrated/overlaid</a:t>
            </a:r>
            <a:endParaRPr b="1" lang="en-US" sz="3200" spc="-1" strike="noStrike">
              <a:solidFill>
                <a:srgbClr val="333333"/>
              </a:solidFill>
              <a:latin typeface="NewsGotTM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B81F7-3FE9-4A6C-A2EB-92388E3C3E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The temple of telecommunications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 networks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6484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22E1-7792-4588-9461-F7AEE291FAD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Content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echnology and Network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social impac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“digital” world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Standards and cooper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Final conclus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91E4-BF9D-469A-82A9-B0D859DBCA7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 Rounded MT Bold"/>
              </a:rPr>
              <a:t>The mandatory school (I)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251460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PCM technolog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Digital transmis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Digital hierarc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Baby" descr=""/>
          <p:cNvPicPr/>
          <p:nvPr/>
        </p:nvPicPr>
        <p:blipFill>
          <a:blip r:embed="rId1"/>
          <a:stretch/>
        </p:blipFill>
        <p:spPr>
          <a:xfrm>
            <a:off x="609480" y="2558880"/>
            <a:ext cx="3810240" cy="27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A013-301C-4986-9D1B-2DF93492884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 Rounded MT Bold"/>
              </a:rPr>
              <a:t>The mandatory school (II)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27" name="Schoolgirl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3922560" cy="3629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23920" y="220932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SPC exchang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igital switch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mmon channel signall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6258-310D-457E-8AE5-AE638866918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 Rounded MT Bold"/>
              </a:rPr>
              <a:t>The mandatory school (III)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24280" y="2209320"/>
            <a:ext cx="4267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ntelligent network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SD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Mobile serv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" name="Typing" descr=""/>
          <p:cNvPicPr/>
          <p:nvPr/>
        </p:nvPicPr>
        <p:blipFill>
          <a:blip r:embed="rId1"/>
          <a:stretch/>
        </p:blipFill>
        <p:spPr>
          <a:xfrm>
            <a:off x="533520" y="2443320"/>
            <a:ext cx="3922560" cy="35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E3D2-80E6-40E5-BBFE-8E229A998DB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 Rounded MT Bold"/>
              </a:rPr>
              <a:t>And then,... what new life?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pic>
        <p:nvPicPr>
          <p:cNvPr id="133" name="Graduate" descr=""/>
          <p:cNvPicPr/>
          <p:nvPr/>
        </p:nvPicPr>
        <p:blipFill>
          <a:blip r:embed="rId1"/>
          <a:stretch/>
        </p:blipFill>
        <p:spPr>
          <a:xfrm flipH="1">
            <a:off x="685440" y="1828800"/>
            <a:ext cx="137628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HAIRSTYL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28600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ZZAMAN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3047760" cy="2928960"/>
          </a:xfrm>
          <a:prstGeom prst="rect">
            <a:avLst/>
          </a:prstGeom>
          <a:ln w="0">
            <a:noFill/>
          </a:ln>
        </p:spPr>
      </p:pic>
      <p:pic>
        <p:nvPicPr>
          <p:cNvPr id="136" name="WORKER2" descr=""/>
          <p:cNvPicPr/>
          <p:nvPr/>
        </p:nvPicPr>
        <p:blipFill>
          <a:blip r:embed="rId4"/>
          <a:stretch/>
        </p:blipFill>
        <p:spPr>
          <a:xfrm>
            <a:off x="990720" y="4495680"/>
            <a:ext cx="1334880" cy="1710000"/>
          </a:xfrm>
          <a:prstGeom prst="rect">
            <a:avLst/>
          </a:prstGeom>
          <a:ln w="0">
            <a:noFill/>
          </a:ln>
        </p:spPr>
      </p:pic>
      <p:pic>
        <p:nvPicPr>
          <p:cNvPr id="137" name="UPHOLSTR" descr=""/>
          <p:cNvPicPr/>
          <p:nvPr/>
        </p:nvPicPr>
        <p:blipFill>
          <a:blip r:embed="rId5"/>
          <a:stretch/>
        </p:blipFill>
        <p:spPr>
          <a:xfrm>
            <a:off x="3581280" y="4648320"/>
            <a:ext cx="1476360" cy="1600200"/>
          </a:xfrm>
          <a:prstGeom prst="rect">
            <a:avLst/>
          </a:prstGeom>
          <a:ln w="0">
            <a:noFill/>
          </a:ln>
        </p:spPr>
      </p:pic>
      <p:pic>
        <p:nvPicPr>
          <p:cNvPr id="138" name="Soccer" descr=""/>
          <p:cNvPicPr/>
          <p:nvPr/>
        </p:nvPicPr>
        <p:blipFill>
          <a:blip r:embed="rId6"/>
          <a:stretch/>
        </p:blipFill>
        <p:spPr>
          <a:xfrm>
            <a:off x="6705720" y="2133720"/>
            <a:ext cx="174780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8181-56CA-4BB3-9438-DA3946511D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answer is not so easy!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..”total “digitalization”, telecom liberalization, internet, XDSL, DWDM on optical fibre, Wi-Fi, ultra-wide band, SW radio,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impact of disruptive elements has radically altered the old approach mainly oriented to follow a predetermined pat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0943-6795-4B6F-9A02-629118E6552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 Rounded MT Bold"/>
              </a:rPr>
              <a:t>The evolving role of ...Telcos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Voltage carriers (telegraph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Frequency carriers (telephony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it carriers  (digital era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nformation networking (middleware platforms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omotics, infomobility and infotainement  (new services at home and on the road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6254-7FBF-49ED-BD29-56845119B1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We live in a digital world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ll type of information, no matter if voice, data, text, music, video, image, or other, may be reduced to a “handful of bit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nd these bits can be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process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transmitted o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sto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AE3E-FDF3-4D74-A9FD-0D6E30AE356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 Rounded MT Bold"/>
              </a:rPr>
              <a:t>The big competition in the ICT game</a:t>
            </a:r>
            <a:endParaRPr b="1" lang="en-US" sz="36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0010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Storage capac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rocessing pow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ransmission capacity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Is it cheaper a stored bit, a processed bit or a travelling bit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How will its cost vary with time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4787-2164-4C59-9C85-507714BDC1D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A weaving of law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Moore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Gilder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Metcalf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elecosm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mdahl’s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nduits and content la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nd what new role for IP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5BE0-79B1-4F84-847D-84121D30309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6520" y="87588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What impact on network architecture?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 well known rule of thumb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ransmission is cheap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circuit switch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Processing is cheap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packet switch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407D-4F91-41DD-B73D-2AAD178ABA6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ree points to remember what went “good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boom of “personal communication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triumph of “networking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new concept of “always on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A538-67DF-4942-8EBC-AC07091B467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10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Paradox of the “best network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Intelligent networks have been continuously upgraded and optimized for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voice serv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But…today's 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optimization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might be .. tomorrow's 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bottlenec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Should a network be 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“intelligent”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or 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“stupid”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he best network just moves bit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But ….. the best network is the hardest one 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o make money running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3106-4877-4667-A1D0-E0D147A52E2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What future: fix or mobile?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3355920"/>
            <a:ext cx="776592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future will be more and more in the fixed network,…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ut the growing wireless access will give us the impression to be mobi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362320"/>
            <a:ext cx="75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 provocative view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0EDD-D2E6-48BC-A022-96FE40F6B39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962520" y="1295280"/>
            <a:ext cx="4038120" cy="2895480"/>
            <a:chOff x="3962520" y="1295280"/>
            <a:chExt cx="4038120" cy="2895480"/>
          </a:xfrm>
        </p:grpSpPr>
        <p:sp>
          <p:nvSpPr>
            <p:cNvPr id="157" name=""/>
            <p:cNvSpPr/>
            <p:nvPr/>
          </p:nvSpPr>
          <p:spPr>
            <a:xfrm>
              <a:off x="3962520" y="1295280"/>
              <a:ext cx="4038120" cy="289548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ee5d8"/>
                </a:gs>
              </a:gsLst>
              <a:lin ang="54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86840" y="3466800"/>
              <a:ext cx="30657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4208040" y="2111760"/>
                  <a:ext cx="2828520" cy="11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W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W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0" name="Shannon" descr=""/>
          <p:cNvPicPr/>
          <p:nvPr/>
        </p:nvPicPr>
        <p:blipFill>
          <a:blip r:embed="rId1"/>
          <a:srcRect l="57795" t="11113" r="0" b="60001"/>
          <a:stretch/>
        </p:blipFill>
        <p:spPr>
          <a:xfrm>
            <a:off x="304920" y="990720"/>
            <a:ext cx="3524040" cy="4876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47240" y="4495680"/>
            <a:ext cx="28202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C = Capacity [kbit/s]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 = Signal Pow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 = Bandwidt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i="1" lang="en-GB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</a:rPr>
              <a:t> = Noi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4267080"/>
            <a:ext cx="800100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Fix-mobile integration will be essential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D8005-C107-4420-8DAA-9CA24EA171B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myth of Broadband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181A-DA9C-4224-A661-944025EF423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A provocative view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roadband already ex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t is spread everywhe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nsumers like i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t is very chea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.it is Television!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…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. but it is mainly broadcast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A3B2-FF79-4D38-91D0-DF00BCFD9CF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illusion of the value of the Mbyte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8B38-D78D-4B3F-9E42-A872483F67F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What pricing strategy?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Eyes and networks use different measuring stick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t is important to grasp this difference if we want to make money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The cost of a service is related to the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network complexity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 needed to deliver it,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...but its price must be related to the value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human eyes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 put on i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186F-E4F9-4BBA-82CA-12519AFF9A0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Rounded MT Bold"/>
              </a:rPr>
              <a:t>Rethinking R&amp;D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R&amp;D is a major driver for valu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relevance to develop “option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We must crack a lot of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rock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 to find a </a:t>
            </a:r>
            <a:r>
              <a:rPr b="0" i="1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diamon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llaborative R&amp;D through networking will become critical, particularly due to lack of human and financial resour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302D-39EB-4D15-9709-EB6B881315D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518240" cy="3936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6880" y="533520"/>
            <a:ext cx="3959280" cy="7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9999"/>
                </a:solidFill>
                <a:latin typeface="Arial"/>
              </a:rPr>
              <a:t>EURESCOM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09480" y="4890960"/>
            <a:ext cx="7975800" cy="1335240"/>
            <a:chOff x="609480" y="4890960"/>
            <a:chExt cx="7975800" cy="1335240"/>
          </a:xfrm>
        </p:grpSpPr>
        <p:sp>
          <p:nvSpPr>
            <p:cNvPr id="174" name=""/>
            <p:cNvSpPr/>
            <p:nvPr/>
          </p:nvSpPr>
          <p:spPr>
            <a:xfrm>
              <a:off x="1238400" y="4890960"/>
              <a:ext cx="68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9999"/>
                  </a:solidFill>
                  <a:latin typeface="Arial"/>
                </a:rPr>
                <a:t>A Virtual Company for Collaborative R&amp;D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75" name=""/>
            <p:cNvGraphicFramePr/>
            <p:nvPr/>
          </p:nvGraphicFramePr>
          <p:xfrm>
            <a:off x="609480" y="5181480"/>
            <a:ext cx="7975800" cy="1044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5181480"/>
                      <a:ext cx="7975800" cy="10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7" name=""/>
          <p:cNvSpPr/>
          <p:nvPr/>
        </p:nvSpPr>
        <p:spPr>
          <a:xfrm>
            <a:off x="3124080" y="5791320"/>
            <a:ext cx="28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80"/>
                </a:solidFill>
                <a:latin typeface="Times New Roman"/>
              </a:rPr>
              <a:t>www.eurescom.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DF2B-D140-4FF3-9D95-8C674A55E1A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 Rounded MT Bold"/>
              </a:rPr>
              <a:t>EURESCOM </a:t>
            </a: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Arial Rounded MT Bold"/>
              </a:rPr>
              <a:t>Providing Network Solutions</a:t>
            </a: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ccess Network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- Increasing the bandwidt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In House Network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- Supporting the Custom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Core Network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- Optimising the infrastruc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New Aspec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 - new concepts (e.g. always o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65C2A-4977-4783-8CB7-699629A01DD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And three to remember what went “wrong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bubble “burst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irrational fever of “merges and acquisition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excessive predominance of “finance” rather than focus on service innov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32946-A846-416E-9B00-6318959F19A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758880"/>
            <a:ext cx="786132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relevance of acces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frontier of inequality will be no more betwee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rich and poo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pital and human resour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ities and rural are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,….…between who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s” and who “has not”  access to the ne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32080" y="58514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Arial"/>
              </a:rPr>
              <a:t>UNO Dev. report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E7FE-FE3A-4E4A-A2EF-78FE4B3C271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Four message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o not be dogmatic: deploy present technology and monitor its evolution!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1240" indent="-4712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void the “network-centric” approach and concentrate on “human centrednes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1240" indent="-4712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CT technologies will enable a variety of applications for a better quality of lif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1240" indent="-47124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Be proactive on future develop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1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Broadband and mobile 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revolutions are ready to take off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B648-4D92-404B-899C-67E27C02F2E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ank you for your attentio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505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114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Enjoy your Workshop!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6BED-E183-42E5-BBA4-F7F1955B043C}" type="slidenum">
              <a:t>4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Some initial suggestion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Do not try to “re-create the past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Concentrate on the opportunities of “mobile” “broadband” and “multimedia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arget on innovation and flexibil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Identify and exploit new services for “home environment” and “infomobility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Grasp the opportunity of cooperation even in a competitive environ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9E725-8147-402C-BCD6-0E765ABC4A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Balancing technology and users needs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4114800"/>
            <a:ext cx="78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5050"/>
                </a:solidFill>
                <a:latin typeface="Arial Rounded MT Bold"/>
              </a:rPr>
              <a:t>ICT for a better quality of lif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E267-E43B-48B8-8861-5408BDFD63C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 Rounded MT Bold"/>
              </a:rPr>
              <a:t>Laser technology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nvented in the seven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Immediately named as a “</a:t>
            </a:r>
            <a:r>
              <a:rPr b="0" i="1" lang="en-GB" sz="3200" spc="-1" strike="noStrike">
                <a:solidFill>
                  <a:srgbClr val="333333"/>
                </a:solidFill>
                <a:latin typeface="Arial"/>
              </a:rPr>
              <a:t>solution looking for a problem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 algn="just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Nowadays no HI-FI music, no letter printing and no more long distance telephone calls without laser technolog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AF13-F2E6-4C30-88F3-DCE1ACFE7C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“Tron House”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e first “intelligent house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Completed in in 1989 (Nishi Azabu, Japa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spcAft>
                <a:spcPts val="499"/>
              </a:spcAft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Key concep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fusion of “humans”, “nature” and “computers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A total of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Arial"/>
              </a:rPr>
              <a:t>380 computer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, all of them interconnected via the “TRON Architecture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Dismantled in  '94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87C6D-5EF9-41EE-A4D6-B07C914D696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7861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Rounded MT Bold"/>
              </a:rPr>
              <a:t>The “home” environment</a:t>
            </a:r>
            <a:endParaRPr b="1" lang="en-US" sz="4000" spc="-1" strike="noStrike">
              <a:solidFill>
                <a:srgbClr val="ff0000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ill ICT improve our quality of life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76280" indent="-476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Yes, it will, if we do not just concentrate on technolog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nter presentation title in the footer ('View'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4D47-7DC1-4145-87E8-E259E279D3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8:24:18Z</dcterms:created>
  <dc:creator>EPS</dc:creator>
  <dc:description/>
  <dc:language>en-US</dc:language>
  <cp:lastModifiedBy>androucv</cp:lastModifiedBy>
  <cp:lastPrinted>2000-07-21T09:51:34Z</cp:lastPrinted>
  <dcterms:modified xsi:type="dcterms:W3CDTF">2003-07-07T15:47:59Z</dcterms:modified>
  <cp:revision>32</cp:revision>
  <dc:subject/>
  <dc:title>No Slide Title</dc:title>
</cp:coreProperties>
</file>