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8CCE-1334-4C33-B615-0FBF812BB6EF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Click to move the slide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5A61-455C-4508-B3EC-32236215B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ore’s law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cessing powers of computers doubles every eighteen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ILDER'S Law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ndwidth grows at least three times faster than computer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CALFE's la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hat network value rises by the square of the number of term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lecosm’s la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The value of a network grows by the square of the processing power of all the terminals attached 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law defined by computer design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 Amdah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dains that system speed is determined by the slowest component in the data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w of conduits and cont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content a network owns the more content flows through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llusion of e-commerce in term of total amount of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nsaction is irrelevant of the value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ing a catalogue is free and time consuming, while the transaction requires only a few 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st important was when David Gann took a group from the department of trade and Industry to visit it and a member misunderstood the instructions for the lavatory bowl's integrated bidet feature and ended up with his trousers soa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FFB5-A1B4-445B-9BCA-0953FF095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61D7-DCF2-4835-B675-31614CD23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A9A3-7918-4126-B60F-FA346330E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233B-B56A-413A-A66F-8A5CB2AEB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78613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C699-E48F-46A1-9BCC-8739187C9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5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39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5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39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A02E-920B-41B5-8569-57C7DB579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6BB9-27BB-46F5-B955-E7AB28BFA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75B5-DD7E-4C92-AAE5-6893CF9AD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78613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0230-393B-462C-BA32-19D442F5E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2B97-2805-4F1B-90E5-0F98DAE5B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36CD-A4FE-4007-B1C4-A8926A578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34BE-76AE-4F1C-90D3-3E90B4095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8400" indent="-428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57160" indent="-257040">
              <a:spcBef>
                <a:spcPts val="799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234440" indent="-205560"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11360" indent="-205560">
              <a:spcBef>
                <a:spcPts val="799"/>
              </a:spcBef>
              <a:buClr>
                <a:srgbClr val="333333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988640" indent="-205560">
              <a:spcBef>
                <a:spcPts val="799"/>
              </a:spcBef>
              <a:buClr>
                <a:srgbClr val="333333"/>
              </a:buClr>
              <a:buFont typeface="NewsGotT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988640" indent="-205560">
              <a:spcBef>
                <a:spcPts val="799"/>
              </a:spcBef>
              <a:buClr>
                <a:srgbClr val="333333"/>
              </a:buClr>
              <a:buFont typeface="NewsGotT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988640" indent="-205560">
              <a:spcBef>
                <a:spcPts val="799"/>
              </a:spcBef>
              <a:buClr>
                <a:srgbClr val="333333"/>
              </a:buClr>
              <a:buFont typeface="NewsGotT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324120"/>
            <a:ext cx="693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0c5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0c5c6"/>
                </a:solidFill>
                <a:latin typeface="Arial"/>
              </a:rPr>
              <a:t>NGN Workshop, Geneva, 9-10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2012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0c5c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8FE-9189-4E8A-9BAB-BAB56364C91C}" type="slidenum">
              <a:rPr b="1" lang="en-US" sz="1200" spc="-1" strike="noStrike">
                <a:solidFill>
                  <a:srgbClr val="a0c5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4" name="EUR-logo-presentation1" descr=""/>
          <p:cNvPicPr/>
          <p:nvPr/>
        </p:nvPicPr>
        <p:blipFill>
          <a:blip r:embed="rId2"/>
          <a:stretch/>
        </p:blipFill>
        <p:spPr>
          <a:xfrm>
            <a:off x="0" y="0"/>
            <a:ext cx="24224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d9a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9a9b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UR-logo-presentation1" descr=""/>
          <p:cNvPicPr/>
          <p:nvPr/>
        </p:nvPicPr>
        <p:blipFill>
          <a:blip r:embed="rId2"/>
          <a:stretch/>
        </p:blipFill>
        <p:spPr>
          <a:xfrm>
            <a:off x="0" y="0"/>
            <a:ext cx="24224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ITU Worksho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5050"/>
                </a:solidFill>
                <a:latin typeface="Arial"/>
              </a:rPr>
              <a:t>“</a:t>
            </a:r>
            <a:r>
              <a:rPr b="1" i="1" lang="en-GB" sz="4000" spc="-1" strike="noStrike">
                <a:solidFill>
                  <a:srgbClr val="ff5050"/>
                </a:solidFill>
                <a:latin typeface="Arial"/>
              </a:rPr>
              <a:t>New generation Networks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5050"/>
                </a:solidFill>
                <a:latin typeface="Arial"/>
              </a:rPr>
              <a:t>what, when and how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Geneva 9-10 July 200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429000"/>
            <a:ext cx="8458200" cy="24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9a9b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5d9a9b"/>
                </a:solidFill>
                <a:latin typeface="Arial"/>
              </a:rPr>
              <a:t>ICT and NGN: innovation for a better quality of life”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Claudio Carrell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Director Euresc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C46F-A7AB-4C3F-80DD-4B47499040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relevance of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“quality of life!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7848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irst TV remote control in 19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alled “Lazy bones” and wirel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..Flashmatic, ..Spacecommand..195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s percentage on price exceeded 3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How much would you save today to live without i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D6D8-6F70-4B43-A36F-9CFB0F964C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wo main comments on future developments and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key to succes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1189-8F70-4074-BBE9-C872AB02057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1.Local first, networked follow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Stereo records and stereo broadcas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Movies and T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Photo and telephoto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DVD ... HDT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Multimedia terminal equipment, and then broadband communi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Intelligent housewares ….networked home</a:t>
            </a:r>
            <a:r>
              <a:rPr b="0" lang="fr-FR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48C7-B753-4F88-9D37-03088DD3BB6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2.Simplicity will win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success of a simpler technology against a more complex on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elephone over telegrap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P and internet vs ISD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SMS vs ISDN D-chann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-mode vs WA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Blue-tooth vs DEC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and what about Wi-Fi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8A61-A3A0-4B8B-A915-64B5965EACF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70468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Network evolution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B490-4861-4CB3-BEEC-1DE74623A01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The basic pillars of telecom network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25520" y="2641320"/>
            <a:ext cx="668664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Switching systems (node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ransmission systems (link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Access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erminal equip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C5A4-2058-4BA6-B8EB-D039998FDF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temple of telecommunications network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6484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AE8A-4B26-4598-A163-86867112491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“Easy Side” of the Problem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Trunk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High capa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Flexible multiplex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Variable bandwid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Customer premises equip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Advanced multimedia technolog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High bandwidth, bursty traffic require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B938-94B5-4689-8FE3-3CEC1FCB2DE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… </a:t>
            </a: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And the More Challenging Issue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"/>
              </a:rPr>
              <a:t>Access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Copper wire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optical fibre/coax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wireless technology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"/>
              </a:rPr>
              <a:t>Switching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synchronous/asynchronous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integrated/overlaid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26E7-1FF8-4B84-A876-251F5519FE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temple of telecommunications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 network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6484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5DB7-A4AC-4F69-A558-F8B7F0C07C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Content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echnology and Network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social impac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“digital” world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tandards and cooper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Final conclus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951C-DA57-4823-A976-C5600BE24DF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The mandatory school (I)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251460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PCM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Digital transmis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Digital hierarc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Baby" descr=""/>
          <p:cNvPicPr/>
          <p:nvPr/>
        </p:nvPicPr>
        <p:blipFill>
          <a:blip r:embed="rId1"/>
          <a:stretch/>
        </p:blipFill>
        <p:spPr>
          <a:xfrm>
            <a:off x="609480" y="2558880"/>
            <a:ext cx="3810240" cy="27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F53C-B54D-49D4-A055-726361E1966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The mandatory school (II)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27" name="Schoolgirl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922560" cy="3629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23920" y="220932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PC exchang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igital switch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mmon channel signall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FD78-9291-4A0B-9AF7-09C7B920FFF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The mandatory school (III)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24280" y="2209320"/>
            <a:ext cx="4267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ntelligent network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SD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obile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Typing" descr=""/>
          <p:cNvPicPr/>
          <p:nvPr/>
        </p:nvPicPr>
        <p:blipFill>
          <a:blip r:embed="rId1"/>
          <a:stretch/>
        </p:blipFill>
        <p:spPr>
          <a:xfrm>
            <a:off x="533520" y="2443320"/>
            <a:ext cx="3922560" cy="35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C023-434E-47C3-AD0A-9433A829861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And then,... what new life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33" name="Graduate" descr=""/>
          <p:cNvPicPr/>
          <p:nvPr/>
        </p:nvPicPr>
        <p:blipFill>
          <a:blip r:embed="rId1"/>
          <a:stretch/>
        </p:blipFill>
        <p:spPr>
          <a:xfrm flipH="1">
            <a:off x="685440" y="1828800"/>
            <a:ext cx="137628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HAIRSTYL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28600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ZZAMAN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047760" cy="2928960"/>
          </a:xfrm>
          <a:prstGeom prst="rect">
            <a:avLst/>
          </a:prstGeom>
          <a:ln w="0">
            <a:noFill/>
          </a:ln>
        </p:spPr>
      </p:pic>
      <p:pic>
        <p:nvPicPr>
          <p:cNvPr id="136" name="WORKER2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1334880" cy="1710000"/>
          </a:xfrm>
          <a:prstGeom prst="rect">
            <a:avLst/>
          </a:prstGeom>
          <a:ln w="0">
            <a:noFill/>
          </a:ln>
        </p:spPr>
      </p:pic>
      <p:pic>
        <p:nvPicPr>
          <p:cNvPr id="137" name="UPHOLSTR" descr=""/>
          <p:cNvPicPr/>
          <p:nvPr/>
        </p:nvPicPr>
        <p:blipFill>
          <a:blip r:embed="rId5"/>
          <a:stretch/>
        </p:blipFill>
        <p:spPr>
          <a:xfrm>
            <a:off x="3581280" y="4648320"/>
            <a:ext cx="147636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Soccer" descr=""/>
          <p:cNvPicPr/>
          <p:nvPr/>
        </p:nvPicPr>
        <p:blipFill>
          <a:blip r:embed="rId6"/>
          <a:stretch/>
        </p:blipFill>
        <p:spPr>
          <a:xfrm>
            <a:off x="6705720" y="2133720"/>
            <a:ext cx="17478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4CCC-9A09-493C-AD8B-13528D9D96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answer is not so easy!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.”total “digitalization”, telecom liberalization, internet, XDSL, DWDM on optical fibre, Wi-Fi, ultra-wide band, SW radio,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impact of disruptive elements has radically altered the old approach mainly oriented to follow a predetermined pat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EF7E-E95B-4972-B0C8-A9C8F54FCE3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evolving role of ...Telco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Voltage carriers (telegraph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Frequency carriers (telephony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it carriers  (digital era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nformation networking (middleware platform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omotics, infomobility and infotainement  (new services at home and on the roa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D2CD-D85C-49AB-8839-86B58E718B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e live in a digital world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ll type of information, no matter if voice, data, text, music, video, image, or other, may be reduced to a “handful of bit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nd these bits can b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process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ransmitted 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sto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7F5E-F30B-46A3-9FFC-269D4A56FAD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Rounded MT Bold"/>
              </a:rPr>
              <a:t>The big competition in the ICT game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001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torage capac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ocessing pow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ransmission capacit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s it cheaper a stored bit, a processed bit or a travelling bi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How will its cost vary with tim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C3CC-FD91-411F-B7B4-61AA64D7BBE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A weaving of law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oore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Gilder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etcalf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elecosm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mdahl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nduits and content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nd what new role for IP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320F-E530-42C8-96C9-B9FCAF3BBCF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6520" y="87588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hat impact on network architecture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 well known rule of thumb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ransmission is cheap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circuit switch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ocessing is cheap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packet switch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E629-549D-4A13-B219-94185035E5D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ree points to remember what went “good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boom of “personal communication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triumph of “networking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new concept of “always on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58FA-586E-44CB-8297-C41BFA3CECF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Paradox of the “best network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Intelligent networks have been continuously upgraded and optimized fo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voice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But…today's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optimization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might be .. tomorrow's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bottlenec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Should a network be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“intelligent”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or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“stupid”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he best network just moves bit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But ….. the best network is the hardest one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o make money running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6C94-1BC1-4028-9373-DC23DF1E628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hat future: fix or mobile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3355920"/>
            <a:ext cx="776592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uture will be more and more in the fixed network,…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ut the growing wireless access will give us the impression to be mobi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362320"/>
            <a:ext cx="75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 provocative view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0126-143F-4068-9542-6CCD60F222E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962520" y="1295280"/>
            <a:ext cx="4038120" cy="2895480"/>
            <a:chOff x="3962520" y="1295280"/>
            <a:chExt cx="4038120" cy="2895480"/>
          </a:xfrm>
        </p:grpSpPr>
        <p:sp>
          <p:nvSpPr>
            <p:cNvPr id="157" name=""/>
            <p:cNvSpPr/>
            <p:nvPr/>
          </p:nvSpPr>
          <p:spPr>
            <a:xfrm>
              <a:off x="3962520" y="1295280"/>
              <a:ext cx="4038120" cy="289548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ee5d8"/>
                </a:gs>
              </a:gsLst>
              <a:lin ang="54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6840" y="3466800"/>
              <a:ext cx="30657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4208040" y="2111760"/>
                  <a:ext cx="2828520" cy="11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W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W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0" name="Shannon" descr=""/>
          <p:cNvPicPr/>
          <p:nvPr/>
        </p:nvPicPr>
        <p:blipFill>
          <a:blip r:embed="rId1"/>
          <a:srcRect l="57795" t="11113" r="0" b="60001"/>
          <a:stretch/>
        </p:blipFill>
        <p:spPr>
          <a:xfrm>
            <a:off x="304920" y="990720"/>
            <a:ext cx="3524040" cy="4876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7240" y="4495680"/>
            <a:ext cx="2820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C = Capacity [kbit/s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= Signal Pow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= Bandwidt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= No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4267080"/>
            <a:ext cx="800100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ix-mobile integration will be essential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34A1-6B9E-4D48-88A5-B353CD48FD0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myth of Broadband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5C63-A693-4905-BDA2-37FBE7F18B1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A provocative view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roadband already ex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 is spread everywhe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nsumers like 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 is very chea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.it is Television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 but it is mainly broadcast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F17E-0AD1-4E5F-B902-A023AA15F64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illusion of the value of the Mbyte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C8E7-55BF-48D0-9D36-F0F858D136C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hat pricing strategy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Eyes and networks use different measuring stick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 is important to grasp this difference if we want to make money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he cost of a service is related to the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network complexity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 needed to deliver it,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..but its price must be related to the value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human eyes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 put on i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E6AF-4345-4046-A3D6-D066D1147BE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Rethinking R&amp;D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R&amp;D is a major driver for valu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relevance to develop “option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We must crack a lot of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rock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 to find a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diamo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llaborative R&amp;D through networking will become critical, particularly due to lack of human and financial resour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0135-1172-42E0-8CB8-A5DE490C13A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18240" cy="3936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6880" y="533520"/>
            <a:ext cx="3959280" cy="7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9999"/>
                </a:solidFill>
                <a:latin typeface="Arial"/>
              </a:rPr>
              <a:t>EURESCOM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9480" y="4890960"/>
            <a:ext cx="7975800" cy="1335240"/>
            <a:chOff x="609480" y="4890960"/>
            <a:chExt cx="7975800" cy="1335240"/>
          </a:xfrm>
        </p:grpSpPr>
        <p:sp>
          <p:nvSpPr>
            <p:cNvPr id="174" name=""/>
            <p:cNvSpPr/>
            <p:nvPr/>
          </p:nvSpPr>
          <p:spPr>
            <a:xfrm>
              <a:off x="1238400" y="4890960"/>
              <a:ext cx="68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9999"/>
                  </a:solidFill>
                  <a:latin typeface="Arial"/>
                </a:rPr>
                <a:t>A Virtual Company for Collaborative R&amp;D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609480" y="5181480"/>
            <a:ext cx="7975800" cy="1044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5181480"/>
                      <a:ext cx="7975800" cy="10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7" name=""/>
          <p:cNvSpPr/>
          <p:nvPr/>
        </p:nvSpPr>
        <p:spPr>
          <a:xfrm>
            <a:off x="3124080" y="579132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80"/>
                </a:solidFill>
                <a:latin typeface="Times New Roman"/>
              </a:rPr>
              <a:t>www.eurescom.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1588-C250-4D35-8430-1477C724231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Rounded MT Bold"/>
              </a:rPr>
              <a:t>EURESCOM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Arial Rounded MT Bold"/>
              </a:rPr>
              <a:t>Providing Network Solutions</a:t>
            </a: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ccess Network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Increasing the bandwidt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In House Network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Supporting the Custom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Core Network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Optimising the infrastruc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New Aspec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new concepts (e.g. always o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8AFF-CD45-461A-89B0-45038C4C811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And three to remember what went “wrong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bubble “burst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irrational fever of “merges and acquisition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excessive predominance of “finance” rather than focus on service innov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7EA6-FDC3-4AF2-B7BD-3989B33E7EE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758880"/>
            <a:ext cx="786132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relevance of acces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rontier of inequality will be no more betwee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rich and po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pital and human resour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ities and rural are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,….…between wh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s” and who “has not”  access to the n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32080" y="585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UNO Dev. report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9043-1505-4F6C-9818-13DFE9F5CB0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Four message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o not be dogmatic: deploy present technology and monitor its evolution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void the “network-centric” approach and concentrate on “human centrednes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CT technologies will enable a variety of applications for a better quality of lif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e proactive on future develop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Broadband and mobile 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revolutions are ready to take off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D12E-D8B5-4D05-B5E8-CE24BD9C7BD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ank you for your attent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114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Enjoy your Workshop!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6970-723F-4ACA-A649-DB9EE48ADFBE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Some initial suggestion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Do not try to “re-create the past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Concentrate on the opportunities of “mobile” “broadband” and “multimedia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arget on innovation and flex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Identify and exploit new services for “home environment” and “infomobility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Grasp the opportunity of cooperation even in a competitive environ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E485-5C18-4914-BA56-8557CB01FF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Balancing technology and users need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114800"/>
            <a:ext cx="78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5050"/>
                </a:solidFill>
                <a:latin typeface="Arial Rounded MT Bold"/>
              </a:rPr>
              <a:t>ICT for a better quality of lif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C66C-A02F-4852-8E98-631CFB74B8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 Rounded MT Bold"/>
              </a:rPr>
              <a:t>Laser technology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nvented in the seven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mmediately named as a “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solution looking for a problem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Nowadays no HI-FI music, no letter printing and no more long distance telephone calls without laser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E597-8A0C-4180-8ECD-75E3615B0C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“Tron House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irst “intelligent house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mpleted in in 1989 (Nishi Azabu, Japa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ey concep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fusion of “humans”, “nature” and “computer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 total of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380 computer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, all of them interconnected via the “TRON Architecture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ismantled in  '94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7EB6-5B09-4160-8CC5-7A3FADBDED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“home” environment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ill ICT improve our quality of lif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Yes, it will, if we do not just concentrate on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9F76-1B7C-4E48-8A31-97562DA682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8:24:18Z</dcterms:created>
  <dc:creator>EPS</dc:creator>
  <dc:description/>
  <dc:language>en-US</dc:language>
  <cp:lastModifiedBy>androucv</cp:lastModifiedBy>
  <cp:lastPrinted>2000-07-21T09:51:34Z</cp:lastPrinted>
  <dcterms:modified xsi:type="dcterms:W3CDTF">2003-07-07T15:47:59Z</dcterms:modified>
  <cp:revision>32</cp:revision>
  <dc:subject/>
  <dc:title>No Slide Title</dc:title>
</cp:coreProperties>
</file>