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ED410-A0EC-42D2-8395-F097C07B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3E91-258D-4328-BCB1-9C3876E32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76979-4F82-47D5-B6F0-C7F0D2909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FC62-9FA9-471F-B692-AF90FD07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82CF4-EFD7-4D38-952B-9B70C536D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236715-98C6-4B50-9387-0A959080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3ACB9A-543A-48BE-917F-893545609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090E2-8ACF-43BE-AB9F-CB9A477F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E1DA84-2213-4C6D-9411-3A8CCB7CF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798AF-B883-484F-85A4-3DB176ED5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311FA0-D6B2-47FA-977A-FC115E29E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1E75A-14A2-4D4F-8759-BBD1B3F5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C51E5C-A28E-4568-AC9E-945BC53C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8EA8E6-B652-4CC6-9B0B-65CCFE1D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AC6814-0A20-45F9-89FF-2E162ECB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1A36DB-FB55-4231-B74A-4DB75C204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2C459B-E09F-478D-B07C-F81927B04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3C97-3EBA-4234-95D1-87CF99DC6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B8C963-A5D2-4FC6-890C-F885CEF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933B-9211-47DF-AF8E-C3FC13CD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01E3-2F13-416B-BBCB-CE1071F76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7BB97-DD20-4E28-BBF6-479AE6E2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94347-E94D-4230-BFEF-9FC085A2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01F2B-052B-442E-977C-D7AEE881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EAFD-B21B-4411-B0D6-A0B283512896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B2FF6-051B-4F57-A83B-B0ED45452A3A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85C079B0-22CB-4C8B-B905-35AB6663BB81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AB67E-7ECB-4F3F-842D-A06E1BCD24E0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and ITU-D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Bangalore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4880" y="2099880"/>
            <a:ext cx="7997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rebuchet MS"/>
              </a:rPr>
              <a:t>E-Commerce for Developing Countries (EC-DC)</a:t>
            </a:r>
            <a:endParaRPr b="1" lang="en-US" sz="4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4360" y="4003200"/>
            <a:ext cx="7696080" cy="19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Krastu Mirski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Deputy Director BDT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Chief Field Operations Department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79200" y="0"/>
            <a:ext cx="69390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lutions and Services</a:t>
            </a:r>
            <a:r>
              <a:rPr b="0" i="1" lang="en-US" sz="1400" spc="-1" strike="noStrike">
                <a:solidFill>
                  <a:srgbClr val="3366ff"/>
                </a:solidFill>
                <a:latin typeface="Verdana"/>
              </a:rPr>
              <a:t> </a:t>
            </a:r>
            <a:endParaRPr b="1" lang="en-US" sz="14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9" name=""/>
          <p:cNvSpPr/>
          <p:nvPr/>
        </p:nvSpPr>
        <p:spPr>
          <a:xfrm>
            <a:off x="2193840" y="1227240"/>
            <a:ext cx="676116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ulti-Platform (Fixed, Mobile and DVB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78000" y="4665600"/>
            <a:ext cx="677700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-Payments and Financial Servi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55680" y="2809800"/>
            <a:ext cx="6778800" cy="56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Verifiable Chain of Trust (e-trus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155680" y="3781440"/>
            <a:ext cx="6793200" cy="63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tegrity, Confidentiality, Non-repudi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157480" y="5543640"/>
            <a:ext cx="6802200" cy="7300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-Business, E-Government + E-service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179800" y="2017800"/>
            <a:ext cx="6746760" cy="6127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mponent-Based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23D61-5E5A-4C89-9D12-74EBA424FE6A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A82736E-9412-401B-BA41-6D0421676067}" type="datetime1">
              <a:rPr lang="en-US"/>
              <a:t>07/28/26</a:t>
            </a:fld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04640" y="-360"/>
            <a:ext cx="6939000" cy="663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olutions and Servic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033640" y="1168560"/>
            <a:ext cx="6878520" cy="6476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ertification Authority for DCs and LD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74960" y="4694400"/>
            <a:ext cx="687852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ology Neutral Registration Author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84320" y="2897280"/>
            <a:ext cx="6878520" cy="5698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ighly Secure authenticated commun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84320" y="3767040"/>
            <a:ext cx="6878520" cy="63036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Generic Infrastructure for E-transact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68480" y="5556240"/>
            <a:ext cx="6889680" cy="7304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hesive Technology for E-Transaction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004840" y="2031840"/>
            <a:ext cx="6878880" cy="6130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ecure B2B Electronic Market Pl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405F-DD4E-48C0-8FB1-660C0F46262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E9A0025-25CA-42D3-A454-14945233510F}" type="datetime1">
              <a:rPr lang="en-US"/>
              <a:t>07/28/26</a:t>
            </a:fld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010960" y="-360"/>
            <a:ext cx="713268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Verdana"/>
              </a:rPr>
              <a:t>Secure B2B e-marketplace – Strong End-User Authentication using Tokens and Smart Cards</a:t>
            </a:r>
            <a:endParaRPr b="1" lang="en-US" sz="20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09880" y="1231920"/>
            <a:ext cx="6845040" cy="5133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63F06-0260-408D-88D1-6B1ED5CBCE49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50524285-553F-40AC-841A-B834069A7D2C}" type="datetime1">
              <a:rPr lang="en-US"/>
              <a:t>07/28/26</a:t>
            </a:fld>
          </a:p>
        </p:txBody>
      </p:sp>
    </p:spTree>
  </p:cSld>
  <p:transition spd="slow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18D6-21B5-400F-8EC6-B498533FC228}" type="slidenum">
              <a:rPr b="0" lang="en-US" sz="1000" spc="-1" strike="noStrike">
                <a:solidFill>
                  <a:srgbClr val="ffffcc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0066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c0066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cc0066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c0066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c0066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c0066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5245D-CA2F-40B6-A44D-E7A18FFFBED4}" type="datetime">
              <a:rPr b="0" lang="fr-CH" sz="1000" spc="-1" strike="noStrike">
                <a:solidFill>
                  <a:srgbClr val="ffffcc"/>
                </a:solidFill>
                <a:latin typeface="Trebuchet MS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63680" y="-360"/>
            <a:ext cx="643896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Partners – 113 Countr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990720"/>
            <a:ext cx="737712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Agreements with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FUNDANDINA, WISeKey and W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Participation of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Ministries of ITU Members St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elecom Operators and Regula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National Banks and Financial Instit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Trade Points and Business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Internet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Regional Telecommunication Organis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Private Businesses and NG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99"/>
                </a:solidFill>
                <a:latin typeface="Arial"/>
              </a:rPr>
              <a:t>Chamber of Commerce &amp; Trade Cent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More than 225 organisations and Leading I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ahoma"/>
              </a:rPr>
              <a:t>companies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52640" y="0"/>
            <a:ext cx="71913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27360" y="1255680"/>
            <a:ext cx="7316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buClr>
                <a:srgbClr val="000066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Developing Countries need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Speedup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Transformation into Digital Economy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t is urgent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igra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rom Traffic to Content Delivery Network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Important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o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Strategies to Address Market Convergenc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There is a need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Forg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lliances and Strategic Partnership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Operators need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apitaliz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on Existing Customer-base and Brand Name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4F50-E163-4D0B-BCF3-51988972F93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B23DF67-3B13-417C-B45E-950CF98483F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52640" y="0"/>
            <a:ext cx="719136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827360" y="1343160"/>
            <a:ext cx="7316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Policy-makers need to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opt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Appropriate Policies for Internet and ICT Access.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reat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Favorable Regulatory Environment for Mobile Services, Broadband IP and Convergent Service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vide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Payment Services to Businesses and Consumer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Adopt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Appropriate Legislative Framework for E-Transactions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26E2E-5EBB-499F-8BCE-62B02E7B0A8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0D8D5E2-3069-4206-B33D-E9B87949F43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5220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onclus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98560" y="1371600"/>
            <a:ext cx="734544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490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Thank you 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for your attention.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490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Trebuchet MS"/>
              </a:rPr>
              <a:t>For more information, please visit: </a:t>
            </a:r>
            <a:r>
              <a:rPr b="0" lang="en-US" sz="3000" spc="-1" strike="noStrike">
                <a:solidFill>
                  <a:srgbClr val="ff0000"/>
                </a:solidFill>
                <a:latin typeface="Trebuchet MS"/>
              </a:rPr>
              <a:t>http://www.itu.int/ecdc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64045-B002-4A83-BFF8-518DA8F27D4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B50747B-872E-479E-9F0D-E4C73F1BD4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81000" y="203040"/>
            <a:ext cx="7010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Verdana"/>
              </a:rPr>
              <a:t>Agenda – EC-DC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82720" y="1068120"/>
            <a:ext cx="7361280" cy="54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Technology Use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tatus of Activ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Solutions and Servic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Partners and Participan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Recommendation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502920" indent="-502920">
              <a:lnSpc>
                <a:spcPct val="80000"/>
              </a:lnSpc>
              <a:buClr>
                <a:srgbClr val="000066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Conclusion </a:t>
            </a:r>
            <a:br>
              <a:rPr sz="3200"/>
            </a:b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6BFF9-76F1-45D0-BA72-CA16A5085F7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75B1C4E-A368-45D3-A855-446C122B11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81000" y="203040"/>
            <a:ext cx="7010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Objectives of EC-DC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827360" y="1343160"/>
            <a:ext cx="731664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1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ssistance in E-business Infrastructure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by working with industry partners to build secure and trusted infrastructure for e-servic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2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Build Local Capacity in E-business Technologies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by organizing training workshops and seminar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3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ddress E-business Policy and Strategy Issues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by providing guidance on appropriate strategies and policies for E-commerce development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4.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orge Neutral and Non-Exclusive Alliances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99"/>
                </a:solidFill>
                <a:latin typeface="Tahoma"/>
              </a:rPr>
              <a:t>by establishing a broad range of partnership agreements with public and private sector to assist the ITU and its miss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D02C2-BCA8-4A37-8BD2-0FCC06BC7FA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1215969-1EA8-4D4C-8BFD-8B88101F11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52280" y="0"/>
            <a:ext cx="7010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echnology Used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810800" y="807840"/>
            <a:ext cx="7332840" cy="56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31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llenges – In a world where parties to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action do not meet physically, how do you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-531360">
              <a:lnSpc>
                <a:spcPct val="80000"/>
              </a:lnSpc>
              <a:buClr>
                <a:srgbClr val="0000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nsure that you are transacting with the right person?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–&gt;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Authentic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-531360">
              <a:lnSpc>
                <a:spcPct val="80000"/>
              </a:lnSpc>
              <a:buClr>
                <a:srgbClr val="0000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ke sure that confidential information can only be viewed by the intended recipient?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–&gt;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-531360">
              <a:lnSpc>
                <a:spcPct val="80000"/>
              </a:lnSpc>
              <a:buClr>
                <a:srgbClr val="0000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nsure that data is not modified by unauthorized third party or while on transit?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–&gt;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-531360">
              <a:lnSpc>
                <a:spcPct val="80000"/>
              </a:lnSpc>
              <a:buClr>
                <a:srgbClr val="0000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Make sure that transactions can not be denied after concluded ?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–&gt;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igital signatur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3136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   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hoice of technology is to respond to these challenges by providing secure and cost-effective solutions to developing countrie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1450F-CC49-4856-A072-CC878F2A7A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2EBCF1C-DE04-4312-9F6E-164C7B26D9E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93520" y="0"/>
            <a:ext cx="8102520" cy="82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66ff"/>
                </a:solidFill>
                <a:latin typeface="Verdana"/>
              </a:rPr>
              <a:t>Who are You Transacting With</a:t>
            </a:r>
            <a:r>
              <a:rPr b="0" i="1" lang="en-US" sz="4000" spc="-1" strike="noStrike">
                <a:solidFill>
                  <a:srgbClr val="3366ff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89040"/>
            <a:ext cx="914400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862280" y="928800"/>
          <a:ext cx="6792840" cy="45259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2280" y="928800"/>
                    <a:ext cx="679284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1184400" y="5473800"/>
            <a:ext cx="6845040" cy="9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…</a:t>
            </a: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but in e-business, it is important 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ahoma"/>
              </a:rPr>
              <a:t>Know if you are dealing with a do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17E0-DA68-4EC3-A3E5-9C805EDF0F40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AE677317-42B9-42F5-A32D-800867F339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60720" y="-360"/>
            <a:ext cx="518328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echnology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2489040"/>
            <a:ext cx="9144000" cy="404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06480" y="955800"/>
            <a:ext cx="7337520" cy="63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Tahoma"/>
              </a:rPr>
              <a:t>Public Key Infrastructure (PKIX)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80808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t of hardware, software, people and procedures needed to build trust and security for electronic transa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-Key Virtual Private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X.509 Digital (Identity)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ong Software and Hardware Authent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ification and Registration Auth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ribute Certificates and Identity Certific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ine Certificate Validation (OCSP,SCVP, CL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C5CA6-4EC6-4349-BBD2-FDC6F60D68DE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50EE716-2C6C-4104-9651-662DCBCE900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52280" y="0"/>
            <a:ext cx="7010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us of Activ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768320" y="1241280"/>
            <a:ext cx="737568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unched in March 1998, at the ITU WTDC in Valletta, Malta and has expanded from e-commerce to global deployment of e-transactions infrastructure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Cited in </a:t>
            </a: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Time Magazine (July 2000)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 and many national and international media as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an activity to watch out for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Largest e-transaction infrastructure project (110 countries) - </a:t>
            </a:r>
            <a:r>
              <a:rPr b="0" i="1" lang="en-GB" sz="2400" spc="-1" strike="noStrike">
                <a:solidFill>
                  <a:srgbClr val="000000"/>
                </a:solidFill>
                <a:latin typeface="Trebuchet MS"/>
              </a:rPr>
              <a:t>International Security Review (April 2001).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Partnership Agreements signed with the World Trade Centre (WTC), </a:t>
            </a:r>
            <a:r>
              <a:rPr b="0" lang="en-GB" sz="2400" spc="-1" strike="noStrike">
                <a:solidFill>
                  <a:srgbClr val="ff0000"/>
                </a:solidFill>
                <a:latin typeface="Trebuchet MS"/>
              </a:rPr>
              <a:t>WISeKey </a:t>
            </a: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d  FUNDANDINA.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An Activity of the BDT since September 1998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0C0C9-7007-4A92-A630-739B0F8C90B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86BBDD6-C019-4DB7-9809-A792210104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52280" y="0"/>
            <a:ext cx="7010280" cy="6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us of Activiti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27360" y="936720"/>
            <a:ext cx="7316640" cy="534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lnSpc>
                <a:spcPct val="80000"/>
              </a:lnSpc>
              <a:spcBef>
                <a:spcPts val="1500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rebuchet MS"/>
              </a:rPr>
              <a:t>Support of several leading ICT companies with </a:t>
            </a:r>
            <a:r>
              <a:rPr b="0" lang="fr-CH" sz="2400" spc="-1" strike="noStrike">
                <a:solidFill>
                  <a:srgbClr val="ff0000"/>
                </a:solidFill>
                <a:latin typeface="Trebuchet MS"/>
              </a:rPr>
              <a:t>more than $7 million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 already contributed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-56016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Other Projects and activities operational in Africa, Asia, Europe, Latin America and the Arab Region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-56016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Conference for 120 countries (</a:t>
            </a:r>
            <a:r>
              <a:rPr b="0" lang="fr-CH" sz="2400" spc="-1" strike="noStrike">
                <a:solidFill>
                  <a:srgbClr val="ff0000"/>
                </a:solidFill>
                <a:latin typeface="Trebuchet MS"/>
              </a:rPr>
              <a:t>27-29 Nov 2000</a:t>
            </a: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) at the ITU HQ in Geneva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-56016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Center for training and development created as a result of Partnership Agreement with FUNDANINA – More than 30 courses in ICT already provided by center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-560160">
              <a:lnSpc>
                <a:spcPct val="80000"/>
              </a:lnSpc>
              <a:spcBef>
                <a:spcPts val="1500"/>
              </a:spcBef>
              <a:buClr>
                <a:srgbClr val="80808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rebuchet MS"/>
              </a:rPr>
              <a:t>New framework for extended cooperation being  created for neutral and non-exclusive participation of governments, private sector and international organizations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606B-C90A-40FC-A5F6-ADE52D1A7CB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1F5680A-1A96-4DE0-96A4-C17AFAB16F1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66680" y="-360"/>
            <a:ext cx="6939000" cy="93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tu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pic>
        <p:nvPicPr>
          <p:cNvPr id="116" name="PKI%20Demo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3659040" cy="5562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4057560" y="1095480"/>
            <a:ext cx="4724640" cy="53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More than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500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 participants fro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Arial"/>
              </a:rPr>
              <a:t>128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 countries and internet securit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experts met at ITU HQ in Genev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for 3 days to launch the World Interne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Secure Infrastructure for develop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Arial"/>
              </a:rPr>
              <a:t>countri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unching of one of the large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ployment of secure electron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action infrastructure for 100+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ing countries from all reg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An African delegate watching live PK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demo at the ITU-WISeKey Secu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Electronic Commerce Partnershi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Tahoma"/>
              </a:rPr>
              <a:t>Conference at  the ITU HQ in Nov 2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8D807-34B1-4A58-9AB7-D9675497C8BC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B98596B-5FAA-4FA4-9AC8-DBF99F48BD9D}" type="datetime1">
              <a:rPr lang="en-US"/>
              <a:t>07/28/26</a:t>
            </a:fld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ITU</cp:lastModifiedBy>
  <cp:lastPrinted>2001-03-15T13:10:50Z</cp:lastPrinted>
  <dcterms:modified xsi:type="dcterms:W3CDTF">2001-08-07T09:56:28Z</dcterms:modified>
  <cp:revision>123</cp:revision>
  <dc:subject/>
  <dc:title>afaefafe</dc:title>
</cp:coreProperties>
</file>