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move the slide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FC0C-17B7-4B9A-BF79-D345CC7767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+ University and freeware tools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Microsoft uses ASN.1 tools in Microsoft Exchange!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Tool competition -&gt; better quality, lower price, risk minimization, ...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GRL - Goal-Oriented Requirement Language. Goals (in GRL) are mapped onto scenarios (in UCM)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ODL - Enterprise view -&gt; implementation view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MSC - component behavior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ASN.1 and encoding!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rebuchet MS"/>
              </a:rPr>
              <a:t>Ericsson - MXD2000 / AXT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rebuchet MS"/>
                <a:ea typeface="Arial"/>
              </a:rPr>
              <a:t>EIA 709.1CNP (Control Network Protocol) - Motorola India Electronics Ltd.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E: there are a number of freeware/ shareware tools e.g.: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At the Institute for Telematics/Lübeck, Germany, a parser for SDL-2000 is developed whose source code is freely available. Except for macros, the parser supports the complete SDL-2000 language definition.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SITE, Humboldt Univ., SDL/PR -&gt; Syntax, Semantic chk. + Code Gen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>
              <a:spcBef>
                <a:spcPts val="675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UoEssen, QUEST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436A9-21FE-4733-993D-6C9347E75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923F6-F2BB-47A9-A686-49A92B57F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65E23-8366-4BF3-9906-9D5D5DEA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B4DD-A1B4-4AC0-9A51-D9971A225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9993B3-F9FD-484A-9960-DE68DA37E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7C3EE3-0F06-402F-AEF6-9049584F0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933DAD-E663-4AE2-86F2-225AB1FB9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45839D-D180-4AE7-8AFE-025D8AAFB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6574E5-51E2-48FC-89D6-D5C611E7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146207-94DB-44F8-AEA8-B67505F59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C6D5D3-51E8-404D-9895-287C69772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6BD35-DD62-4AA0-965F-AF9005FD9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9FEE06-407D-4F23-81A2-9687FF5EC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1FA67-D608-4BE1-956E-3AD4AAF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680CF4-C072-44EE-A858-D101EDDE1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0FE501-3B28-4217-AD28-2A84341F6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9984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656760" y="198288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94292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29984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656760" y="4132440"/>
            <a:ext cx="22442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F51A03-8556-48CA-8B1A-240516924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F70A9-02B6-4FC2-BE12-7EDC36496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C826-3264-44F5-B49F-97D83021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DA82E-5492-4663-955B-05071C49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82520" y="380520"/>
            <a:ext cx="7010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BDEF9C-B766-4781-AE83-7152996A1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02B4-BA09-49E2-B10D-5BCE8E5B6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515200" y="413244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E7474-8EAD-49A6-B466-714658AEC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4292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515200" y="1982880"/>
            <a:ext cx="3401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42920" y="4132440"/>
            <a:ext cx="6970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74CB8-B6F5-479E-B343-3176A349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42920" y="1982880"/>
            <a:ext cx="6970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1" marL="743040" indent="-28584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2" marL="1143000" indent="-228600">
              <a:spcBef>
                <a:spcPts val="751"/>
              </a:spcBef>
              <a:buClr>
                <a:srgbClr val="ff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3" marL="16002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4" marL="2057400" indent="-228600">
              <a:spcBef>
                <a:spcPts val="751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D7844-A707-4510-BE87-B256A9B2478F}" type="slidenum">
              <a:rPr b="0" lang="en-US" sz="10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52480" cy="1293840"/>
          </a:xfrm>
          <a:prstGeom prst="rect">
            <a:avLst/>
          </a:prstGeom>
          <a:ln w="0">
            <a:noFill/>
          </a:ln>
        </p:spPr>
      </p:pic>
      <p:grpSp>
        <p:nvGrpSpPr>
          <p:cNvPr id="4" name=""/>
          <p:cNvGrpSpPr/>
          <p:nvPr/>
        </p:nvGrpSpPr>
        <p:grpSpPr>
          <a:xfrm>
            <a:off x="0" y="0"/>
            <a:ext cx="1766880" cy="6882840"/>
            <a:chOff x="0" y="0"/>
            <a:chExt cx="1766880" cy="6882840"/>
          </a:xfrm>
        </p:grpSpPr>
        <p:sp>
          <p:nvSpPr>
            <p:cNvPr id="5" name=""/>
            <p:cNvSpPr/>
            <p:nvPr/>
          </p:nvSpPr>
          <p:spPr>
            <a:xfrm>
              <a:off x="0" y="1257480"/>
              <a:ext cx="1766880" cy="5625360"/>
            </a:xfrm>
            <a:prstGeom prst="rect">
              <a:avLst/>
            </a:pr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" name="itulogo-en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766880" cy="1306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5824-C4C6-4B8C-8BEB-B6B864D274BE}" type="datetime">
              <a:rPr b="0" lang="fr-CH" sz="1000" spc="-1" strike="noStrike">
                <a:solidFill>
                  <a:srgbClr val="000000"/>
                </a:solidFill>
                <a:latin typeface="Trebuchet MS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1765440" y="6565680"/>
            <a:ext cx="6705360" cy="29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3333cc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TU-T and ITU-D Workshop - Bangalore 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3333cc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3333cc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517680"/>
            <a:ext cx="9144000" cy="633744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100000">
                <a:srgbClr val="0046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Click to edit the title text format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Page - </a:t>
            </a:r>
            <a:fld id="{501B7B75-FC17-4498-A2C7-D39EF6BA7DCF}" type="slidenum">
              <a:rPr b="1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itulogo-en" descr=""/>
          <p:cNvPicPr/>
          <p:nvPr/>
        </p:nvPicPr>
        <p:blipFill>
          <a:blip r:embed="rId2"/>
          <a:stretch/>
        </p:blipFill>
        <p:spPr>
          <a:xfrm>
            <a:off x="0" y="0"/>
            <a:ext cx="1766880" cy="13064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dt" idx="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H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AD081-3523-44A2-9E75-5F657F622C7C}" type="datetime">
              <a:rPr b="0" lang="fr-CH" sz="10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47800" y="0"/>
            <a:ext cx="7396200" cy="10605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"/>
            </a:br>
            <a:br>
              <a:rPr sz="400"/>
            </a:b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1" lang="en-US" sz="2200" spc="-1" strike="noStrike">
                <a:solidFill>
                  <a:srgbClr val="ffffff"/>
                </a:solidFill>
                <a:latin typeface="Verdana"/>
              </a:rPr>
              <a:t>International Telecommunication Unio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498760" y="6248520"/>
            <a:ext cx="42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&lt;footer&gt;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TU-T and ITU-D Worksh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Bangalore 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(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India</a:t>
            </a:r>
            <a:r>
              <a:rPr b="1" lang="fr-CH" sz="1200" spc="-1" strike="noStrike">
                <a:solidFill>
                  <a:srgbClr val="c5f1ff"/>
                </a:solidFill>
                <a:latin typeface="Verdana"/>
              </a:rPr>
              <a:t>)</a:t>
            </a:r>
            <a:r>
              <a:rPr b="1" lang="en-US" sz="1200" spc="-1" strike="noStrike">
                <a:solidFill>
                  <a:srgbClr val="c5f1ff"/>
                </a:solidFill>
                <a:latin typeface="Verdana"/>
              </a:rPr>
              <a:t>, 30-31 August 200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5f1ff"/>
                </a:solidFill>
                <a:latin typeface="Trebuchet MS"/>
              </a:rPr>
              <a:t>Click to edit the outline text format</a:t>
            </a:r>
            <a:endParaRPr b="0" lang="en-US" sz="3000" spc="-1" strike="noStrike">
              <a:solidFill>
                <a:srgbClr val="c5f1ff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ff0000"/>
              </a:buClr>
              <a:buSzPct val="75000"/>
              <a:buFont typeface="Trebuchet MS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5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47800" y="990360"/>
            <a:ext cx="7772400" cy="332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5f1ff"/>
                </a:solidFill>
                <a:latin typeface="Trebuchet MS"/>
              </a:rPr>
              <a:t>Industrial rationales for using ITU-T languages and methods.</a:t>
            </a:r>
            <a:endParaRPr b="1" lang="en-US" sz="5400" spc="-1" strike="noStrike">
              <a:solidFill>
                <a:srgbClr val="c5f1ff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12480" y="4817880"/>
            <a:ext cx="883116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rebuchet MS"/>
              </a:rPr>
              <a:t>Olle Hydbom, Senior Adviser, Telelogic</a:t>
            </a:r>
            <a:endParaRPr b="0" lang="en-US" sz="3600" spc="-1" strike="noStrike">
              <a:solidFill>
                <a:srgbClr val="c5f1ff"/>
              </a:solidFill>
              <a:latin typeface="Trebuchet MS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apporteur, ITU-T, SG10, Q1</a:t>
            </a:r>
            <a:endParaRPr b="0" lang="en-US" sz="2800" spc="-1" strike="noStrike">
              <a:solidFill>
                <a:srgbClr val="c5f1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TTCN tool vendor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912680" y="1179000"/>
            <a:ext cx="6970680" cy="51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For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Trebuchet MS"/>
              </a:rPr>
              <a:t>Editing, Analysis &amp; Code Gener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elelogic, Telelogic Tau TTCN Su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+Simu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Expert Telecom, Contess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Danet, TTCN Toolbox, Compiler &amp; Execut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Ibys Informática y Telecommunicationes, EGE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ma Group, Concerto TTC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</a:rPr>
              <a:t>-Code gen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067076-FBC2-4C9E-839F-7FC11B1D519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13F23D1-4DB4-470D-8BFC-3F3E6B6AA61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ASN.1 tool vendor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26720" y="1179000"/>
            <a:ext cx="69706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OSS Nokalva, ASN.1 Compile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SN.1 to C compiler and encoder/decoder genera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elelogic, ASN1UTI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SN.1 to SDL/TTCN/C compiler and encoder/decoder generator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Objective Systems, ASN1C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48127-A68F-4DEE-9A07-4315B76DC413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A470AD-3678-4966-A722-7E2C182096A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926720" y="1179000"/>
            <a:ext cx="69706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rebuchet MS"/>
              </a:rPr>
              <a:t>ODL and URN are not yet (to my knowledge) supported by commercially available tools</a:t>
            </a:r>
            <a:endParaRPr b="0" lang="en-US" sz="3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982DBE-E9DB-4BEF-8124-18D59789C017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0DCC230-B875-4101-81B5-A86DE3E36A0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51120" y="380520"/>
            <a:ext cx="7076880" cy="22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tandardized languages and methods are prerequisites for an multiple supplier, interchangeable tools, situation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85760" y="4701960"/>
            <a:ext cx="697068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Contact me: Olle.Hydbom@telelogic.com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9BFDA-E128-4E8F-B821-DCBE8C898BA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27D7FEFC-9D57-4C10-BDAC-2AD990C4CF6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Language purpose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9440" y="1179000"/>
            <a:ext cx="6970680" cy="471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URN (GRL + UCM) for requirements capture and early vis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UML for high level system data modeling (esp. Class Diagrams) and visualizatio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ODL for expressing both technical and non-technical viewpoint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HMSC and MSC for overall behavi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SN.1 for detailed data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SDL for detailed behavior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54400" indent="-55440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TCN for test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108D3-F820-4ED8-A46B-4444F19EC9E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B85F702-CB8B-4487-B520-FF34F4DF05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82520" y="38052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ITU-T language based methodology benefit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42920" y="1703520"/>
            <a:ext cx="697068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Covers most of the product life cycle from a technical perspective -&gt; harmonized set of languages to learn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ll graphical -&gt; ease of learn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ll (semi) formal -&gt; property checking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Internationally adopted standards results in multi vendor tool support -&gt; securing your investment in knowledg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3A71E5-D005-4DD3-9F93-F48953FAAA0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A7BE0AA-BE17-4C77-90C3-4A8F5FB0EB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amples of areas of use, 1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942920" y="1179360"/>
            <a:ext cx="6970680" cy="53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60160" indent="-56016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Wireless Radio Access Networks, both terminal and network si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System - Company, Language, Benef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-5227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DECT - NSC, SDL, H/W independenc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-5227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TETRA - Nokia, SDL/TTCN, Early prototyping and testing models reused in production units -&gt; Quality Increa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-5227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GSM transcoder - Ericsson, UML, MSC/ SDL, Quality increase, understanding (multi site project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-5227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UMTS - InterDigital, SDL, H/W indep.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70560" indent="-5227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Hiperlan/2 - ETSI, SDL/MSC/TTCN/ASN.1, quality improvement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60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32D03-8B25-4592-A0B9-5F5B49B1AAF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587A233-FD25-4AEC-B5C5-D21E5770E4E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amples of areas of use, 2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60120" y="1179000"/>
            <a:ext cx="69706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537120" indent="-53712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Intelligent Network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3096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System - Company, Language, Benef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30960" indent="-50148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INAP - ETSI, SDL, Validateable standard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30960" indent="-50148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INAP - Nortel, TTCN, 4x productivity AND quality increase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30960" indent="-50148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IN - Hewlett-Packard, SDL, Target independent service development platform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30960" indent="-50148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Fetex 150 SCE - Fujitsu, SDL, Ease of learning /Quality increase/No loss of productivity when changing to SDL environmen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CD8BA-3939-4A97-8225-69B59E7CA93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13F3360F-124D-40F3-ABBE-F25E95A040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amples of areas of use, 3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844280" y="1179000"/>
            <a:ext cx="69706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ransmission/Switching/TMN system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System - Company, Language, Benef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SDH multiplexer - Lucent, TTCN, Modularity/Ease of learning (1 month)/Quality increase/Autom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TMN - ABB Nera, SDL, Productivity x1.5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XE switch - Ericsson, SDL, Quality/no errors found 3 years after deployment (Air Traffic Control)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5402D6-355C-41BE-876B-FE8DB52AD915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9EC161B8-50EC-4C2D-AE93-308AA573DC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Examples of areas of use, 4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26720" y="1179360"/>
            <a:ext cx="697068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Miscellaneous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rebuchet MS"/>
                <a:ea typeface="Arial"/>
              </a:rPr>
              <a:t>System - Company, Language, Benefit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GSM phone PC modem - Ericsson, SDL, Productivity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TM PBX - LG, UML/SDL, Productivity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ADSL modem - Siemens, SDL, Quality improvement through simulation and production code gen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Bluetooth - Bluetooth SIG, TTCN, standardized conformance testing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EIA 709.1[CNP] - Motorola, MSC/SDL, Productivity x1.4/Quality x3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AE27A-EB17-486E-A7A7-B6E0E78C28C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78A9DA5-E306-4D4C-9E15-605196DC97D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UML tool vendor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926720" y="1179000"/>
            <a:ext cx="6970680" cy="441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Rational 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oftware</a:t>
            </a: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, Rational Ros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elelogic, Telelogic Tau UML Suit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Partial Z.109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iLogix, Rhapsody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Artisan, Real Time Studio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ogetherSoft, Together Control Centr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..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EED68-BE35-4565-898A-8D69EC53BDE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4273526-394B-45B6-9AC6-10D2CDD06C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982520" y="380880"/>
            <a:ext cx="7010280" cy="79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Verdana"/>
              </a:rPr>
              <a:t>SDL/MSC tool vendors</a:t>
            </a:r>
            <a:endParaRPr b="1" lang="en-US" sz="3200" spc="-1" strike="noStrike">
              <a:solidFill>
                <a:srgbClr val="000066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926720" y="1179000"/>
            <a:ext cx="6946920" cy="537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Telelogic, Telelogic Tau SDL Suite a.k.a SDT &amp; ObjectGEODE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SDL-96 (some SDL2000), MSC, extended Z.105 [X680,1,3], Z.106, (Z.109), Editing, Analysis, Simulation, Code Generation, Test case gener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Cinderella, Cinderella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01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rebuchet MS"/>
                <a:ea typeface="Arial"/>
              </a:rPr>
              <a:t>SDL-96, MSC, Z.105, Z.106, Editing, Analysis, Simulation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571680" indent="-571680">
              <a:spcBef>
                <a:spcPts val="649"/>
              </a:spcBef>
              <a:buClr>
                <a:srgbClr val="ff0000"/>
              </a:buClr>
              <a:buSzPct val="90000"/>
              <a:buFont typeface="Trebuchet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LG Soft Lab, OSD (Object-Oriented Software Development)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990720" indent="-533520">
              <a:spcBef>
                <a:spcPts val="649"/>
              </a:spcBef>
              <a:buClr>
                <a:srgbClr val="ff0000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  <a:ea typeface="Arial"/>
              </a:rPr>
              <a:t>SDL, MSC, Z.106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ED800-345A-4DF0-8B4E-6A5AE6F4829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6CB69E4C-1F99-4EEE-BC35-B717ACA192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4T11:23:27Z</dcterms:created>
  <dc:creator>Francine Lambert</dc:creator>
  <dc:description/>
  <dc:language>en-US</dc:language>
  <cp:lastModifiedBy>C.O.Hydbom</cp:lastModifiedBy>
  <cp:lastPrinted>2001-03-15T13:10:50Z</cp:lastPrinted>
  <dcterms:modified xsi:type="dcterms:W3CDTF">2001-08-16T09:40:47Z</dcterms:modified>
  <cp:revision>172</cp:revision>
  <dc:subject/>
  <dc:title>afaefafe</dc:title>
</cp:coreProperties>
</file>