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16750" cy="9248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5640" y="2361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33920" y="3886200"/>
            <a:ext cx="4419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733920" y="4802040"/>
            <a:ext cx="4419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5640" y="2361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33920" y="3886200"/>
            <a:ext cx="215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8680" y="3886200"/>
            <a:ext cx="215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33920" y="4802040"/>
            <a:ext cx="215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998680" y="4802040"/>
            <a:ext cx="215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5640" y="2361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33920" y="3886200"/>
            <a:ext cx="142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28280" y="3886200"/>
            <a:ext cx="142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22280" y="3886200"/>
            <a:ext cx="142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733920" y="4802040"/>
            <a:ext cx="142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228280" y="4802040"/>
            <a:ext cx="142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722280" y="4802040"/>
            <a:ext cx="142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5640" y="2361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733920" y="3886200"/>
            <a:ext cx="4419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5640" y="2361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733920" y="3886200"/>
            <a:ext cx="4419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5640" y="2361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33920" y="3886200"/>
            <a:ext cx="2156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998680" y="3886200"/>
            <a:ext cx="2156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5640" y="2361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285640" y="236196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5640" y="2361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33920" y="3886200"/>
            <a:ext cx="215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98680" y="3886200"/>
            <a:ext cx="2156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733920" y="4802040"/>
            <a:ext cx="215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5640" y="2361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733920" y="3886200"/>
            <a:ext cx="4419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5640" y="2361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33920" y="3886200"/>
            <a:ext cx="2156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98680" y="3886200"/>
            <a:ext cx="215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98680" y="4802040"/>
            <a:ext cx="215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5640" y="2361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33920" y="3886200"/>
            <a:ext cx="215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98680" y="3886200"/>
            <a:ext cx="215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733920" y="4802040"/>
            <a:ext cx="4419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2361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33920" y="3886200"/>
            <a:ext cx="4419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733920" y="4802040"/>
            <a:ext cx="4419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5640" y="2361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33920" y="3886200"/>
            <a:ext cx="215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98680" y="3886200"/>
            <a:ext cx="215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733920" y="4802040"/>
            <a:ext cx="215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998680" y="4802040"/>
            <a:ext cx="215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5640" y="2361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33920" y="3886200"/>
            <a:ext cx="142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28280" y="3886200"/>
            <a:ext cx="142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22280" y="3886200"/>
            <a:ext cx="142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33920" y="4802040"/>
            <a:ext cx="142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5228280" y="4802040"/>
            <a:ext cx="142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722280" y="4802040"/>
            <a:ext cx="142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5640" y="2361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733920" y="3886200"/>
            <a:ext cx="4419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5640" y="2361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733920" y="3886200"/>
            <a:ext cx="2156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998680" y="3886200"/>
            <a:ext cx="2156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5640" y="2361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5640" y="236196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5640" y="2361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33920" y="3886200"/>
            <a:ext cx="215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98680" y="3886200"/>
            <a:ext cx="2156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733920" y="4802040"/>
            <a:ext cx="215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5640" y="2361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33920" y="3886200"/>
            <a:ext cx="2156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98680" y="3886200"/>
            <a:ext cx="215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98680" y="4802040"/>
            <a:ext cx="215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5640" y="2361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33920" y="3886200"/>
            <a:ext cx="215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98680" y="3886200"/>
            <a:ext cx="215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733920" y="4802040"/>
            <a:ext cx="4419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15192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523880"/>
            <a:ext cx="810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spcBef>
                <a:spcPts val="649"/>
              </a:spcBef>
              <a:buClr>
                <a:srgbClr val="006600"/>
              </a:buClr>
              <a:buSzPct val="4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5640" y="2361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5640" y="2361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TCN-3 &amp; Conformance Testing</a:t>
            </a:r>
            <a:br>
              <a:rPr sz="2800"/>
            </a:b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733920" y="3886200"/>
            <a:ext cx="441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tha Krishnamoor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06040" y="15192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ypes of Testing  TTCN-3 can perfor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1219320"/>
            <a:ext cx="2514600" cy="4419360"/>
          </a:xfrm>
          <a:prstGeom prst="rect">
            <a:avLst/>
          </a:prstGeom>
          <a:gradFill rotWithShape="0">
            <a:gsLst>
              <a:gs pos="0">
                <a:srgbClr val="bdbdd2"/>
              </a:gs>
              <a:gs pos="100000">
                <a:srgbClr val="66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1752480"/>
            <a:ext cx="2514600" cy="4419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Funct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Prod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1447920"/>
            <a:ext cx="2514600" cy="4419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Interoper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Integ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6040" y="15192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onformance Testing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06040" y="1523880"/>
            <a:ext cx="810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tion of Conformance test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spcBef>
                <a:spcPts val="550"/>
              </a:spcBef>
              <a:buClr>
                <a:srgbClr val="006600"/>
              </a:buClr>
              <a:buSzPct val="4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ment of the extent to which an implementation conforms to a  spec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formance Requir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spcBef>
                <a:spcPts val="550"/>
              </a:spcBef>
              <a:buClr>
                <a:srgbClr val="006600"/>
              </a:buClr>
              <a:buSzPct val="4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c and Dynamic conformance requir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ive of conformance te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spcBef>
                <a:spcPts val="550"/>
              </a:spcBef>
              <a:buClr>
                <a:srgbClr val="006600"/>
              </a:buClr>
              <a:buSzPct val="4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implementations can interope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s of Conformance te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spcBef>
                <a:spcPts val="550"/>
              </a:spcBef>
              <a:buClr>
                <a:srgbClr val="006600"/>
              </a:buClr>
              <a:buSzPct val="4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 specification or to a pro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5640" y="2362320"/>
            <a:ext cx="6705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ank You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Visit us at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http:\\www.cognizant.com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06040" y="15192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History of TTC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040" y="2057040"/>
            <a:ext cx="8109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TCN: Tree and Tabular Combined No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sions 1 and 2 developed by ISO SC21 WG3 (1984 - 1997) as part of the widely-used ISO/IEC 9646 conformance testing stand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spcBef>
                <a:spcPts val="550"/>
              </a:spcBef>
              <a:buClr>
                <a:srgbClr val="006600"/>
              </a:buClr>
              <a:buSzPct val="4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/IEC 9646-3 and ITU-T X.2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spcBef>
                <a:spcPts val="550"/>
              </a:spcBef>
              <a:buClr>
                <a:srgbClr val="006600"/>
              </a:buClr>
              <a:buSzPct val="4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dates/maintenance by ETSI in TR 101 666 (TTCN-2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sion 3 developed by ETSI TC MTS (1998 - 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06040" y="15192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TCN-3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1752480"/>
            <a:ext cx="1890720" cy="42674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TCN-3 Core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990720" y="1828800"/>
            <a:ext cx="2743200" cy="838080"/>
            <a:chOff x="990720" y="1828800"/>
            <a:chExt cx="2743200" cy="838080"/>
          </a:xfrm>
        </p:grpSpPr>
        <p:sp>
          <p:nvSpPr>
            <p:cNvPr id="83" name=""/>
            <p:cNvSpPr/>
            <p:nvPr/>
          </p:nvSpPr>
          <p:spPr>
            <a:xfrm>
              <a:off x="990720" y="1828800"/>
              <a:ext cx="2286000" cy="838080"/>
            </a:xfrm>
            <a:prstGeom prst="cube">
              <a:avLst>
                <a:gd name="adj" fmla="val 13592"/>
              </a:avLst>
            </a:prstGeom>
            <a:gradFill rotWithShape="0">
              <a:gsLst>
                <a:gs pos="0">
                  <a:srgbClr val="a9dced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SN.1 Types&amp;Valu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00400" y="2286000"/>
              <a:ext cx="533520" cy="0"/>
            </a:xfrm>
            <a:prstGeom prst="line">
              <a:avLst/>
            </a:prstGeom>
            <a:ln w="19080">
              <a:solidFill>
                <a:srgbClr val="00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990720" y="2819520"/>
            <a:ext cx="2743200" cy="838080"/>
            <a:chOff x="990720" y="2819520"/>
            <a:chExt cx="2743200" cy="838080"/>
          </a:xfrm>
        </p:grpSpPr>
        <p:sp>
          <p:nvSpPr>
            <p:cNvPr id="86" name=""/>
            <p:cNvSpPr/>
            <p:nvPr/>
          </p:nvSpPr>
          <p:spPr>
            <a:xfrm>
              <a:off x="990720" y="2819520"/>
              <a:ext cx="2286000" cy="838080"/>
            </a:xfrm>
            <a:prstGeom prst="cube">
              <a:avLst>
                <a:gd name="adj" fmla="val 13592"/>
              </a:avLst>
            </a:prstGeom>
            <a:gradFill rotWithShape="0">
              <a:gsLst>
                <a:gs pos="0">
                  <a:srgbClr val="a9dced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ther Types&amp;Values </a:t>
              </a:r>
              <a:r>
                <a:rPr b="1" lang="en-US" sz="2000" spc="-1" strike="noStrike" baseline="-14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00400" y="3276720"/>
              <a:ext cx="533520" cy="0"/>
            </a:xfrm>
            <a:prstGeom prst="line">
              <a:avLst/>
            </a:prstGeom>
            <a:ln w="19080">
              <a:solidFill>
                <a:srgbClr val="00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990720" y="3657600"/>
            <a:ext cx="2743200" cy="1828800"/>
            <a:chOff x="990720" y="3657600"/>
            <a:chExt cx="2743200" cy="1828800"/>
          </a:xfrm>
        </p:grpSpPr>
        <p:sp>
          <p:nvSpPr>
            <p:cNvPr id="89" name=""/>
            <p:cNvSpPr/>
            <p:nvPr/>
          </p:nvSpPr>
          <p:spPr>
            <a:xfrm>
              <a:off x="990720" y="4648320"/>
              <a:ext cx="2286000" cy="838080"/>
            </a:xfrm>
            <a:prstGeom prst="cube">
              <a:avLst>
                <a:gd name="adj" fmla="val 13592"/>
              </a:avLst>
            </a:prstGeom>
            <a:gradFill rotWithShape="0">
              <a:gsLst>
                <a:gs pos="0">
                  <a:srgbClr val="a9dced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ther Types&amp;Values </a:t>
              </a:r>
              <a:r>
                <a:rPr b="1" lang="en-US" sz="2000" spc="-1" strike="noStrike" baseline="-14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3657600"/>
              <a:ext cx="0" cy="1143000"/>
            </a:xfrm>
            <a:prstGeom prst="line">
              <a:avLst/>
            </a:prstGeom>
            <a:ln w="28440">
              <a:solidFill>
                <a:srgbClr val="0099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00400" y="5105520"/>
              <a:ext cx="533520" cy="0"/>
            </a:xfrm>
            <a:prstGeom prst="line">
              <a:avLst/>
            </a:prstGeom>
            <a:ln w="19080">
              <a:solidFill>
                <a:srgbClr val="00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791320" y="1828800"/>
            <a:ext cx="2286000" cy="838080"/>
            <a:chOff x="5791320" y="1828800"/>
            <a:chExt cx="2286000" cy="838080"/>
          </a:xfrm>
        </p:grpSpPr>
        <p:sp>
          <p:nvSpPr>
            <p:cNvPr id="93" name=""/>
            <p:cNvSpPr/>
            <p:nvPr/>
          </p:nvSpPr>
          <p:spPr>
            <a:xfrm>
              <a:off x="6324480" y="1828800"/>
              <a:ext cx="1752840" cy="838080"/>
            </a:xfrm>
            <a:prstGeom prst="cube">
              <a:avLst>
                <a:gd name="adj" fmla="val 13592"/>
              </a:avLst>
            </a:prstGeom>
            <a:gradFill rotWithShape="0">
              <a:gsLst>
                <a:gs pos="0">
                  <a:srgbClr val="a9bbba"/>
                </a:gs>
                <a:gs pos="100000">
                  <a:srgbClr val="0036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bular Form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1320" y="2286000"/>
              <a:ext cx="53316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791320" y="2514600"/>
            <a:ext cx="2286000" cy="838080"/>
            <a:chOff x="5791320" y="2514600"/>
            <a:chExt cx="2286000" cy="838080"/>
          </a:xfrm>
        </p:grpSpPr>
        <p:sp>
          <p:nvSpPr>
            <p:cNvPr id="96" name=""/>
            <p:cNvSpPr/>
            <p:nvPr/>
          </p:nvSpPr>
          <p:spPr>
            <a:xfrm>
              <a:off x="6324480" y="2514600"/>
              <a:ext cx="1752840" cy="838080"/>
            </a:xfrm>
            <a:prstGeom prst="cube">
              <a:avLst>
                <a:gd name="adj" fmla="val 13592"/>
              </a:avLst>
            </a:prstGeom>
            <a:gradFill rotWithShape="0">
              <a:gsLst>
                <a:gs pos="0">
                  <a:srgbClr val="a9c9c8"/>
                </a:gs>
                <a:gs pos="100000">
                  <a:srgbClr val="006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SC Form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91320" y="3048120"/>
              <a:ext cx="53316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791320" y="4038480"/>
            <a:ext cx="2286000" cy="1295640"/>
            <a:chOff x="5791320" y="4038480"/>
            <a:chExt cx="2286000" cy="1295640"/>
          </a:xfrm>
        </p:grpSpPr>
        <p:sp>
          <p:nvSpPr>
            <p:cNvPr id="99" name=""/>
            <p:cNvSpPr/>
            <p:nvPr/>
          </p:nvSpPr>
          <p:spPr>
            <a:xfrm>
              <a:off x="6324480" y="4495680"/>
              <a:ext cx="1752840" cy="838440"/>
            </a:xfrm>
            <a:prstGeom prst="cube">
              <a:avLst>
                <a:gd name="adj" fmla="val 13592"/>
              </a:avLst>
            </a:prstGeom>
            <a:gradFill rotWithShape="0">
              <a:gsLst>
                <a:gs pos="0">
                  <a:srgbClr val="a9dcdc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esentation Format </a:t>
              </a:r>
              <a:r>
                <a:rPr b="1" lang="en-US" sz="2000" spc="-1" strike="noStrike" baseline="-14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38880" y="4038480"/>
              <a:ext cx="0" cy="533520"/>
            </a:xfrm>
            <a:prstGeom prst="line">
              <a:avLst/>
            </a:prstGeom>
            <a:ln w="2844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91320" y="5105520"/>
              <a:ext cx="53316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791320" y="3200400"/>
            <a:ext cx="2286000" cy="838080"/>
            <a:chOff x="5791320" y="3200400"/>
            <a:chExt cx="2286000" cy="838080"/>
          </a:xfrm>
        </p:grpSpPr>
        <p:sp>
          <p:nvSpPr>
            <p:cNvPr id="103" name=""/>
            <p:cNvSpPr/>
            <p:nvPr/>
          </p:nvSpPr>
          <p:spPr>
            <a:xfrm>
              <a:off x="6324480" y="3200400"/>
              <a:ext cx="1752840" cy="838080"/>
            </a:xfrm>
            <a:prstGeom prst="cube">
              <a:avLst>
                <a:gd name="adj" fmla="val 13592"/>
              </a:avLst>
            </a:prstGeom>
            <a:gradFill rotWithShape="0">
              <a:gsLst>
                <a:gs pos="0">
                  <a:srgbClr val="a9d6d5"/>
                </a:gs>
                <a:gs pos="100000">
                  <a:srgbClr val="0089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esentation Format </a:t>
              </a:r>
              <a:r>
                <a:rPr b="1" lang="en-US" sz="2000" spc="-1" strike="noStrike" baseline="-14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91320" y="3733920"/>
              <a:ext cx="53316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00200" y="1752480"/>
            <a:ext cx="2514600" cy="3810240"/>
          </a:xfrm>
          <a:prstGeom prst="cube">
            <a:avLst>
              <a:gd name="adj" fmla="val 3662"/>
            </a:avLst>
          </a:prstGeom>
          <a:gradFill rotWithShape="0">
            <a:gsLst>
              <a:gs pos="0">
                <a:srgbClr val="666699"/>
              </a:gs>
              <a:gs pos="50000">
                <a:srgbClr val="cbcbdc"/>
              </a:gs>
              <a:gs pos="100000">
                <a:srgbClr val="66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TCN-3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06040" y="15192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ajor Elements of TTCN-3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00240" y="1752120"/>
            <a:ext cx="397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t-in and user-defined generic data typ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ual test data transmitted/received during tes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the components and communication ports that are used to build   various testing configu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ation of the dynamic test system behavi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4343400"/>
            <a:ext cx="1752840" cy="838080"/>
          </a:xfrm>
          <a:prstGeom prst="cube">
            <a:avLst>
              <a:gd name="adj" fmla="val 13592"/>
            </a:avLst>
          </a:prstGeom>
          <a:gradFill rotWithShape="0">
            <a:gsLst>
              <a:gs pos="0">
                <a:srgbClr val="e8e8ef"/>
              </a:gs>
              <a:gs pos="100000">
                <a:srgbClr val="bdbd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st Behavi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81080" y="2286000"/>
            <a:ext cx="1752840" cy="2209680"/>
            <a:chOff x="1981080" y="2286000"/>
            <a:chExt cx="1752840" cy="2209680"/>
          </a:xfrm>
        </p:grpSpPr>
        <p:sp>
          <p:nvSpPr>
            <p:cNvPr id="110" name=""/>
            <p:cNvSpPr/>
            <p:nvPr/>
          </p:nvSpPr>
          <p:spPr>
            <a:xfrm>
              <a:off x="1981080" y="3657600"/>
              <a:ext cx="1752840" cy="838080"/>
            </a:xfrm>
            <a:prstGeom prst="cube">
              <a:avLst>
                <a:gd name="adj" fmla="val 13592"/>
              </a:avLst>
            </a:prstGeom>
            <a:gradFill rotWithShape="0">
              <a:gsLst>
                <a:gs pos="0">
                  <a:srgbClr val="dbdbe7"/>
                </a:gs>
                <a:gs pos="100000">
                  <a:srgbClr val="9898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est System Archite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2971800"/>
              <a:ext cx="1752840" cy="838080"/>
            </a:xfrm>
            <a:prstGeom prst="cube">
              <a:avLst>
                <a:gd name="adj" fmla="val 13592"/>
              </a:avLst>
            </a:prstGeom>
            <a:gradFill rotWithShape="0">
              <a:gsLst>
                <a:gs pos="0">
                  <a:srgbClr val="d4d4e2"/>
                </a:gs>
                <a:gs pos="100000">
                  <a:srgbClr val="8181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est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81080" y="2286000"/>
              <a:ext cx="1752840" cy="838080"/>
            </a:xfrm>
            <a:prstGeom prst="cube">
              <a:avLst>
                <a:gd name="adj" fmla="val 13592"/>
              </a:avLst>
            </a:prstGeom>
            <a:gradFill rotWithShape="0">
              <a:gsLst>
                <a:gs pos="0">
                  <a:srgbClr val="cbcbd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ata Typ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06040" y="15192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TCN –3 Modul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06040" y="1523880"/>
            <a:ext cx="3978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s are the building blocks of all TTCN-3 specif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est suite is a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odule has a  definition part and a control 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s can be parameter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s can import definitions from other mod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s may have attrib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1600200"/>
            <a:ext cx="30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4343400"/>
            <a:ext cx="2805120" cy="838080"/>
          </a:xfrm>
          <a:prstGeom prst="cube">
            <a:avLst>
              <a:gd name="adj" fmla="val 13592"/>
            </a:avLst>
          </a:prstGeom>
          <a:gradFill rotWithShape="0">
            <a:gsLst>
              <a:gs pos="0">
                <a:srgbClr val="d3d3d3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2971800"/>
            <a:ext cx="2805120" cy="838080"/>
          </a:xfrm>
          <a:prstGeom prst="cube">
            <a:avLst>
              <a:gd name="adj" fmla="val 13592"/>
            </a:avLst>
          </a:prstGeom>
          <a:gradFill rotWithShape="0">
            <a:gsLst>
              <a:gs pos="0">
                <a:srgbClr val="a9cbcb"/>
              </a:gs>
              <a:gs pos="100000">
                <a:srgbClr val="0068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dul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2286000"/>
            <a:ext cx="2805120" cy="838080"/>
          </a:xfrm>
          <a:prstGeom prst="cube">
            <a:avLst>
              <a:gd name="adj" fmla="val 13592"/>
            </a:avLst>
          </a:prstGeom>
          <a:gradFill rotWithShape="0">
            <a:gsLst>
              <a:gs pos="0">
                <a:srgbClr val="a9d3d3"/>
              </a:gs>
              <a:gs pos="100000">
                <a:srgbClr val="0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dule Defin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6040" y="15192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ajor Capabilities of TTCN-3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6040" y="1523880"/>
            <a:ext cx="810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concurrent testing configu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ous communication mechanisms (synch and asyn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and signature templates with powerful matching mechanis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ation of encoding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play and user-defined attrib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ignment and handling of test verdi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monized with ASN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presentation form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6040" y="15192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hat is new in TTCN-3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6040" y="1523880"/>
            <a:ext cx="810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ons for synchronous and asynchronous commun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ility to specify encoding information and other attrib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ignment and handling of test verdi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 suite parameterization and test case selection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d use of TTCN-3 with ASN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presentation form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recise execution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6040" y="15192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ypes of Testing  TTCN-3 can perfor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1295280"/>
            <a:ext cx="2514600" cy="4419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Fault Toler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St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Regre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Concur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828800"/>
            <a:ext cx="2514600" cy="4419720"/>
          </a:xfrm>
          <a:prstGeom prst="rect">
            <a:avLst/>
          </a:prstGeom>
          <a:gradFill rotWithShape="0">
            <a:gsLst>
              <a:gs pos="0">
                <a:srgbClr val="bdbdd2"/>
              </a:gs>
              <a:gs pos="100000">
                <a:srgbClr val="66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600200"/>
            <a:ext cx="2514600" cy="4419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Interoper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Integ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6040" y="15192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ypes of Testing  TTCN-3 can perfor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1219320"/>
            <a:ext cx="2514600" cy="4419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Fault Toler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St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Regre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Concur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828800"/>
            <a:ext cx="2514600" cy="4419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9f9f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Funct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c8c8"/>
                </a:solidFill>
                <a:latin typeface="Arial"/>
              </a:rPr>
              <a:t>Prod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1523880"/>
            <a:ext cx="2514600" cy="4419720"/>
          </a:xfrm>
          <a:prstGeom prst="rect">
            <a:avLst/>
          </a:prstGeom>
          <a:gradFill rotWithShape="0">
            <a:gsLst>
              <a:gs pos="0">
                <a:srgbClr val="bdbdd2"/>
              </a:gs>
              <a:gs pos="100000">
                <a:srgbClr val="66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3T11:14:16Z</dcterms:created>
  <dc:creator> </dc:creator>
  <dc:description/>
  <dc:language>en-US</dc:language>
  <cp:lastModifiedBy>COGNIZANT TECHNOLOGY SOLUTIONS</cp:lastModifiedBy>
  <cp:lastPrinted>2001-02-06T21:27:44Z</cp:lastPrinted>
  <dcterms:modified xsi:type="dcterms:W3CDTF">2001-08-31T04:48:16Z</dcterms:modified>
  <cp:revision>1036</cp:revision>
  <dc:subject/>
  <dc:title>Corporate Prsentation</dc:title>
</cp:coreProperties>
</file>